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6.xml.rels" ContentType="application/vnd.openxmlformats-package.relationships+xml"/>
  <Override PartName="/ppt/slideMasters/_rels/slideMaster20.xml.rels" ContentType="application/vnd.openxmlformats-package.relationships+xml"/>
  <Override PartName="/ppt/slideMasters/_rels/slideMaster69.xml.rels" ContentType="application/vnd.openxmlformats-package.relationships+xml"/>
  <Override PartName="/ppt/slideMasters/_rels/slideMaster4.xml.rels" ContentType="application/vnd.openxmlformats-package.relationships+xml"/>
  <Override PartName="/ppt/slideMasters/_rels/slideMaster15.xml.rels" ContentType="application/vnd.openxmlformats-package.relationships+xml"/>
  <Override PartName="/ppt/slideMasters/_rels/slideMaster68.xml.rels" ContentType="application/vnd.openxmlformats-package.relationships+xml"/>
  <Override PartName="/ppt/slideMasters/_rels/slideMaster3.xml.rels" ContentType="application/vnd.openxmlformats-package.relationships+xml"/>
  <Override PartName="/ppt/slideMasters/_rels/slideMaster37.xml.rels" ContentType="application/vnd.openxmlformats-package.relationships+xml"/>
  <Override PartName="/ppt/slideMasters/_rels/slideMaster47.xml.rels" ContentType="application/vnd.openxmlformats-package.relationships+xml"/>
  <Override PartName="/ppt/slideMasters/_rels/slideMaster38.xml.rels" ContentType="application/vnd.openxmlformats-package.relationships+xml"/>
  <Override PartName="/ppt/slideMasters/_rels/slideMaster42.xml.rels" ContentType="application/vnd.openxmlformats-package.relationships+xml"/>
  <Override PartName="/ppt/slideMasters/_rels/slideMaster23.xml.rels" ContentType="application/vnd.openxmlformats-package.relationships+xml"/>
  <Override PartName="/ppt/slideMasters/_rels/slideMaster39.xml.rels" ContentType="application/vnd.openxmlformats-package.relationships+xml"/>
  <Override PartName="/ppt/slideMasters/_rels/slideMaster43.xml.rels" ContentType="application/vnd.openxmlformats-package.relationships+xml"/>
  <Override PartName="/ppt/slideMasters/_rels/slideMaster24.xml.rels" ContentType="application/vnd.openxmlformats-package.relationships+xml"/>
  <Override PartName="/ppt/slideMasters/_rels/slideMaster10.xml.rels" ContentType="application/vnd.openxmlformats-package.relationships+xml"/>
  <Override PartName="/ppt/slideMasters/_rels/slideMaster85.xml.rels" ContentType="application/vnd.openxmlformats-package.relationships+xml"/>
  <Override PartName="/ppt/slideMasters/_rels/slideMaster25.xml.rels" ContentType="application/vnd.openxmlformats-package.relationships+xml"/>
  <Override PartName="/ppt/slideMasters/_rels/slideMaster11.xml.rels" ContentType="application/vnd.openxmlformats-package.relationships+xml"/>
  <Override PartName="/ppt/slideMasters/_rels/slideMaster26.xml.rels" ContentType="application/vnd.openxmlformats-package.relationships+xml"/>
  <Override PartName="/ppt/slideMasters/_rels/slideMaster30.xml.rels" ContentType="application/vnd.openxmlformats-package.relationships+xml"/>
  <Override PartName="/ppt/slideMasters/_rels/slideMaster21.xml.rels" ContentType="application/vnd.openxmlformats-package.relationships+xml"/>
  <Override PartName="/ppt/slideMasters/_rels/slideMaster27.xml.rels" ContentType="application/vnd.openxmlformats-package.relationships+xml"/>
  <Override PartName="/ppt/slideMasters/_rels/slideMaster31.xml.rels" ContentType="application/vnd.openxmlformats-package.relationships+xml"/>
  <Override PartName="/ppt/slideMasters/_rels/slideMaster92.xml.rels" ContentType="application/vnd.openxmlformats-package.relationships+xml"/>
  <Override PartName="/ppt/slideMasters/_rels/slideMaster88.xml.rels" ContentType="application/vnd.openxmlformats-package.relationships+xml"/>
  <Override PartName="/ppt/slideMasters/_rels/slideMaster22.xml.rels" ContentType="application/vnd.openxmlformats-package.relationships+xml"/>
  <Override PartName="/ppt/slideMasters/_rels/slideMaster28.xml.rels" ContentType="application/vnd.openxmlformats-package.relationships+xml"/>
  <Override PartName="/ppt/slideMasters/_rels/slideMaster32.xml.rels" ContentType="application/vnd.openxmlformats-package.relationships+xml"/>
  <Override PartName="/ppt/slideMasters/_rels/slideMaster93.xml.rels" ContentType="application/vnd.openxmlformats-package.relationships+xml"/>
  <Override PartName="/ppt/slideMasters/_rels/slideMaster89.xml.rels" ContentType="application/vnd.openxmlformats-package.relationships+xml"/>
  <Override PartName="/ppt/slideMasters/_rels/slideMaster40.xml.rels" ContentType="application/vnd.openxmlformats-package.relationships+xml"/>
  <Override PartName="/ppt/slideMasters/_rels/slideMaster48.xml.rels" ContentType="application/vnd.openxmlformats-package.relationships+xml"/>
  <Override PartName="/ppt/slideMasters/_rels/slideMaster57.xml.rels" ContentType="application/vnd.openxmlformats-package.relationships+xml"/>
  <Override PartName="/ppt/slideMasters/_rels/slideMaster79.xml.rels" ContentType="application/vnd.openxmlformats-package.relationships+xml"/>
  <Override PartName="/ppt/slideMasters/_rels/slideMaster83.xml.rels" ContentType="application/vnd.openxmlformats-package.relationships+xml"/>
  <Override PartName="/ppt/slideMasters/_rels/slideMaster64.xml.rels" ContentType="application/vnd.openxmlformats-package.relationships+xml"/>
  <Override PartName="/ppt/slideMasters/_rels/slideMaster94.xml.rels" ContentType="application/vnd.openxmlformats-package.relationships+xml"/>
  <Override PartName="/ppt/slideMasters/_rels/slideMaster41.xml.rels" ContentType="application/vnd.openxmlformats-package.relationships+xml"/>
  <Override PartName="/ppt/slideMasters/_rels/slideMaster18.xml.rels" ContentType="application/vnd.openxmlformats-package.relationships+xml"/>
  <Override PartName="/ppt/slideMasters/_rels/slideMaster34.xml.rels" ContentType="application/vnd.openxmlformats-package.relationships+xml"/>
  <Override PartName="/ppt/slideMasters/_rels/slideMaster12.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84.xml.rels" ContentType="application/vnd.openxmlformats-package.relationships+xml"/>
  <Override PartName="/ppt/slideMasters/_rels/slideMaster75.xml.rels" ContentType="application/vnd.openxmlformats-package.relationships+xml"/>
  <Override PartName="/ppt/slideMasters/_rels/slideMaster91.xml.rels" ContentType="application/vnd.openxmlformats-package.relationships+xml"/>
  <Override PartName="/ppt/slideMasters/_rels/slideMaster56.xml.rels" ContentType="application/vnd.openxmlformats-package.relationships+xml"/>
  <Override PartName="/ppt/slideMasters/_rels/slideMaster72.xml.rels" ContentType="application/vnd.openxmlformats-package.relationships+xml"/>
  <Override PartName="/ppt/slideMasters/_rels/slideMaster63.xml.rels" ContentType="application/vnd.openxmlformats-package.relationships+xml"/>
  <Override PartName="/ppt/slideMasters/_rels/slideMaster49.xml.rels" ContentType="application/vnd.openxmlformats-package.relationships+xml"/>
  <Override PartName="/ppt/slideMasters/_rels/slideMaster50.xml.rels" ContentType="application/vnd.openxmlformats-package.relationships+xml"/>
  <Override PartName="/ppt/slideMasters/_rels/slideMaster65.xml.rels" ContentType="application/vnd.openxmlformats-package.relationships+xml"/>
  <Override PartName="/ppt/slideMasters/_rels/slideMaster58.xml.rels" ContentType="application/vnd.openxmlformats-package.relationships+xml"/>
  <Override PartName="/ppt/slideMasters/_rels/slideMaster55.xml.rels" ContentType="application/vnd.openxmlformats-package.relationships+xml"/>
  <Override PartName="/ppt/slideMasters/_rels/slideMaster71.xml.rels" ContentType="application/vnd.openxmlformats-package.relationships+xml"/>
  <Override PartName="/ppt/slideMasters/_rels/slideMaster62.xml.rels" ContentType="application/vnd.openxmlformats-package.relationships+xml"/>
  <Override PartName="/ppt/slideMasters/_rels/slideMaster54.xml.rels" ContentType="application/vnd.openxmlformats-package.relationships+xml"/>
  <Override PartName="/ppt/slideMasters/_rels/slideMaster61.xml.rels" ContentType="application/vnd.openxmlformats-package.relationships+xml"/>
  <Override PartName="/ppt/slideMasters/_rels/slideMaster80.xml.rels" ContentType="application/vnd.openxmlformats-package.relationships+xml"/>
  <Override PartName="/ppt/slideMasters/_rels/slideMaster76.xml.rels" ContentType="application/vnd.openxmlformats-package.relationships+xml"/>
  <Override PartName="/ppt/slideMasters/_rels/slideMaster53.xml.rels" ContentType="application/vnd.openxmlformats-package.relationships+xml"/>
  <Override PartName="/ppt/slideMasters/_rels/slideMaster46.xml.rels" ContentType="application/vnd.openxmlformats-package.relationships+xml"/>
  <Override PartName="/ppt/slideMasters/_rels/slideMaster5.xml.rels" ContentType="application/vnd.openxmlformats-package.relationships+xml"/>
  <Override PartName="/ppt/slideMasters/_rels/slideMaster36.xml.rels" ContentType="application/vnd.openxmlformats-package.relationships+xml"/>
  <Override PartName="/ppt/slideMasters/_rels/slideMaster52.xml.rels" ContentType="application/vnd.openxmlformats-package.relationships+xml"/>
  <Override PartName="/ppt/slideMasters/_rels/slideMaster45.xml.rels" ContentType="application/vnd.openxmlformats-package.relationships+xml"/>
  <Override PartName="/ppt/slideMasters/_rels/slideMaster51.xml.rels" ContentType="application/vnd.openxmlformats-package.relationships+xml"/>
  <Override PartName="/ppt/slideMasters/_rels/slideMaster59.xml.rels" ContentType="application/vnd.openxmlformats-package.relationships+xml"/>
  <Override PartName="/ppt/slideMasters/_rels/slideMaster60.xml.rels" ContentType="application/vnd.openxmlformats-package.relationships+xml"/>
  <Override PartName="/ppt/slideMasters/_rels/slideMaster44.xml.rels" ContentType="application/vnd.openxmlformats-package.relationships+xml"/>
  <Override PartName="/ppt/slideMasters/_rels/slideMaster70.xml.rels" ContentType="application/vnd.openxmlformats-package.relationships+xml"/>
  <Override PartName="/ppt/slideMasters/_rels/slideMaster66.xml.rels" ContentType="application/vnd.openxmlformats-package.relationships+xml"/>
  <Override PartName="/ppt/slideMasters/_rels/slideMaster19.xml.rels" ContentType="application/vnd.openxmlformats-package.relationships+xml"/>
  <Override PartName="/ppt/slideMasters/_rels/slideMaster35.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4.xml.rels" ContentType="application/vnd.openxmlformats-package.relationships+xml"/>
  <Override PartName="/ppt/slideMasters/_rels/slideMaster90.xml.rels" ContentType="application/vnd.openxmlformats-package.relationships+xml"/>
  <Override PartName="/ppt/slideMasters/_rels/slideMaster33.xml.rels" ContentType="application/vnd.openxmlformats-package.relationships+xml"/>
  <Override PartName="/ppt/slideMasters/_rels/slideMaster29.xml.rels" ContentType="application/vnd.openxmlformats-package.relationships+xml"/>
  <Override PartName="/ppt/slideMasters/_rels/slideMaster67.xml.rels" ContentType="application/vnd.openxmlformats-package.relationships+xml"/>
  <Override PartName="/ppt/slideMasters/_rels/slideMaster14.xml.rels" ContentType="application/vnd.openxmlformats-package.relationships+xml"/>
  <Override PartName="/ppt/slideMasters/_rels/slideMaster78.xml.rels" ContentType="application/vnd.openxmlformats-package.relationships+xml"/>
  <Override PartName="/ppt/slideMasters/_rels/slideMaster82.xml.rels" ContentType="application/vnd.openxmlformats-package.relationships+xml"/>
  <Override PartName="/ppt/slideMasters/_rels/slideMaster97.xml.rels" ContentType="application/vnd.openxmlformats-package.relationships+xml"/>
  <Override PartName="/ppt/slideMasters/_rels/slideMaster73.xml.rels" ContentType="application/vnd.openxmlformats-package.relationships+xml"/>
  <Override PartName="/ppt/slideMasters/_rels/slideMaster2.xml.rels" ContentType="application/vnd.openxmlformats-package.relationships+xml"/>
  <Override PartName="/ppt/slideMasters/_rels/slideMaster87.xml.rels" ContentType="application/vnd.openxmlformats-package.relationships+xml"/>
  <Override PartName="/ppt/slideMasters/_rels/slideMaster96.xml.rels" ContentType="application/vnd.openxmlformats-package.relationships+xml"/>
  <Override PartName="/ppt/slideMasters/_rels/slideMaster77.xml.rels" ContentType="application/vnd.openxmlformats-package.relationships+xml"/>
  <Override PartName="/ppt/slideMasters/_rels/slideMaster81.xml.rels" ContentType="application/vnd.openxmlformats-package.relationships+xml"/>
  <Override PartName="/ppt/slideMasters/_rels/slideMaster1.xml.rels" ContentType="application/vnd.openxmlformats-package.relationships+xml"/>
  <Override PartName="/ppt/slideMasters/_rels/slideMaster86.xml.rels" ContentType="application/vnd.openxmlformats-package.relationships+xml"/>
  <Override PartName="/ppt/slideMasters/_rels/slideMaster95.xml.rels" ContentType="application/vnd.openxmlformats-package.relationships+xml"/>
  <Override PartName="/ppt/slideMasters/slideMaster56.xml" ContentType="application/vnd.openxmlformats-officedocument.presentationml.slideMaster+xml"/>
  <Override PartName="/ppt/slideMasters/slideMaster55.xml" ContentType="application/vnd.openxmlformats-officedocument.presentationml.slideMaster+xml"/>
  <Override PartName="/ppt/slideMasters/slideMaster54.xml" ContentType="application/vnd.openxmlformats-officedocument.presentationml.slideMaster+xml"/>
  <Override PartName="/ppt/slideMasters/slideMaster53.xml" ContentType="application/vnd.openxmlformats-officedocument.presentationml.slideMaster+xml"/>
  <Override PartName="/ppt/slideMasters/slideMaster52.xml" ContentType="application/vnd.openxmlformats-officedocument.presentationml.slideMaster+xml"/>
  <Override PartName="/ppt/slideMasters/slideMaster51.xml" ContentType="application/vnd.openxmlformats-officedocument.presentationml.slideMaster+xml"/>
  <Override PartName="/ppt/slideMasters/slideMaster46.xml" ContentType="application/vnd.openxmlformats-officedocument.presentationml.slideMaster+xml"/>
  <Override PartName="/ppt/slideMasters/slideMaster45.xml" ContentType="application/vnd.openxmlformats-officedocument.presentationml.slideMaster+xml"/>
  <Override PartName="/ppt/slideMasters/slideMaster44.xml" ContentType="application/vnd.openxmlformats-officedocument.presentationml.slideMaster+xml"/>
  <Override PartName="/ppt/slideMasters/slideMaster43.xml" ContentType="application/vnd.openxmlformats-officedocument.presentationml.slideMaster+xml"/>
  <Override PartName="/ppt/slideMasters/slideMaster42.xml" ContentType="application/vnd.openxmlformats-officedocument.presentationml.slideMaster+xml"/>
  <Override PartName="/ppt/slideMasters/slideMaster41.xml" ContentType="application/vnd.openxmlformats-officedocument.presentationml.slideMaster+xml"/>
  <Override PartName="/ppt/slideMasters/slideMaster40.xml" ContentType="application/vnd.openxmlformats-officedocument.presentationml.slideMaster+xml"/>
  <Override PartName="/ppt/slideMasters/slideMaster36.xml" ContentType="application/vnd.openxmlformats-officedocument.presentationml.slideMaster+xml"/>
  <Override PartName="/ppt/slideMasters/slideMaster35.xml" ContentType="application/vnd.openxmlformats-officedocument.presentationml.slideMaster+xml"/>
  <Override PartName="/ppt/slideMasters/slideMaster34.xml" ContentType="application/vnd.openxmlformats-officedocument.presentationml.slideMaster+xml"/>
  <Override PartName="/ppt/slideMasters/slideMaster33.xml" ContentType="application/vnd.openxmlformats-officedocument.presentationml.slideMaster+xml"/>
  <Override PartName="/ppt/slideMasters/slideMaster32.xml" ContentType="application/vnd.openxmlformats-officedocument.presentationml.slideMaster+xml"/>
  <Override PartName="/ppt/slideMasters/slideMaster31.xml" ContentType="application/vnd.openxmlformats-officedocument.presentationml.slideMaster+xml"/>
  <Override PartName="/ppt/slideMasters/slideMaster30.xml" ContentType="application/vnd.openxmlformats-officedocument.presentationml.slideMaster+xml"/>
  <Override PartName="/ppt/slideMasters/slideMaster50.xml" ContentType="application/vnd.openxmlformats-officedocument.presentationml.slideMaster+xml"/>
  <Override PartName="/ppt/slideMasters/slideMaster9.xml" ContentType="application/vnd.openxmlformats-officedocument.presentationml.slideMaster+xml"/>
  <Override PartName="/ppt/slideMasters/slideMaster85.xml" ContentType="application/vnd.openxmlformats-officedocument.presentationml.slideMaster+xml"/>
  <Override PartName="/ppt/slideMasters/slideMaster8.xml" ContentType="application/vnd.openxmlformats-officedocument.presentationml.slideMaster+xml"/>
  <Override PartName="/ppt/slideMasters/slideMaster19.xml" ContentType="application/vnd.openxmlformats-officedocument.presentationml.slideMaster+xml"/>
  <Override PartName="/ppt/slideMasters/slideMaster84.xml" ContentType="application/vnd.openxmlformats-officedocument.presentationml.slideMaster+xml"/>
  <Override PartName="/ppt/slideMasters/slideMaster7.xml" ContentType="application/vnd.openxmlformats-officedocument.presentationml.slideMaster+xml"/>
  <Override PartName="/ppt/slideMasters/slideMaster18.xml" ContentType="application/vnd.openxmlformats-officedocument.presentationml.slideMaster+xml"/>
  <Override PartName="/ppt/slideMasters/slideMaster83.xml" ContentType="application/vnd.openxmlformats-officedocument.presentationml.slideMaster+xml"/>
  <Override PartName="/ppt/slideMasters/slideMaster13.xml" ContentType="application/vnd.openxmlformats-officedocument.presentationml.slideMaster+xml"/>
  <Override PartName="/ppt/slideMasters/slideMaster2.xml" ContentType="application/vnd.openxmlformats-officedocument.presentationml.slideMaster+xml"/>
  <Override PartName="/ppt/slideMasters/slideMaster6.xml" ContentType="application/vnd.openxmlformats-officedocument.presentationml.slideMaster+xml"/>
  <Override PartName="/ppt/slideMasters/slideMaster17.xml" ContentType="application/vnd.openxmlformats-officedocument.presentationml.slideMaster+xml"/>
  <Override PartName="/ppt/slideMasters/slideMaster82.xml" ContentType="application/vnd.openxmlformats-officedocument.presentationml.slideMaster+xml"/>
  <Override PartName="/ppt/slideMasters/slideMaster49.xml" ContentType="application/vnd.openxmlformats-officedocument.presentationml.slideMaster+xml"/>
  <Override PartName="/ppt/slideMasters/slideMaster12.xml" ContentType="application/vnd.openxmlformats-officedocument.presentationml.slideMaster+xml"/>
  <Override PartName="/ppt/slideMasters/slideMaster1.xml" ContentType="application/vnd.openxmlformats-officedocument.presentationml.slideMaster+xml"/>
  <Override PartName="/ppt/slideMasters/slideMaster63.xml" ContentType="application/vnd.openxmlformats-officedocument.presentationml.slideMaster+xml"/>
  <Override PartName="/ppt/slideMasters/slideMaster64.xml" ContentType="application/vnd.openxmlformats-officedocument.presentationml.slideMaster+xml"/>
  <Override PartName="/ppt/slideMasters/slideMaster65.xml" ContentType="application/vnd.openxmlformats-officedocument.presentationml.slideMaster+xml"/>
  <Override PartName="/ppt/slideMasters/slideMaster94.xml" ContentType="application/vnd.openxmlformats-officedocument.presentationml.slideMaster+xml"/>
  <Override PartName="/ppt/slideMasters/slideMaster29.xml" ContentType="application/vnd.openxmlformats-officedocument.presentationml.slideMaster+xml"/>
  <Override PartName="/ppt/slideMasters/slideMaster71.xml" ContentType="application/vnd.openxmlformats-officedocument.presentationml.slideMaster+xml"/>
  <Override PartName="/ppt/slideMasters/slideMaster66.xml" ContentType="application/vnd.openxmlformats-officedocument.presentationml.slideMaster+xml"/>
  <Override PartName="/ppt/slideMasters/slideMaster67.xml" ContentType="application/vnd.openxmlformats-officedocument.presentationml.slideMaster+xml"/>
  <Override PartName="/ppt/slideMasters/slideMaster68.xml" ContentType="application/vnd.openxmlformats-officedocument.presentationml.slideMaster+xml"/>
  <Override PartName="/ppt/slideMasters/slideMaster70.xml" ContentType="application/vnd.openxmlformats-officedocument.presentationml.slideMaster+xml"/>
  <Override PartName="/ppt/slideMasters/slideMaster69.xml" ContentType="application/vnd.openxmlformats-officedocument.presentationml.slideMaster+xml"/>
  <Override PartName="/ppt/slideMasters/slideMaster72.xml" ContentType="application/vnd.openxmlformats-officedocument.presentationml.slideMaster+xml"/>
  <Override PartName="/ppt/slideMasters/slideMaster73.xml" ContentType="application/vnd.openxmlformats-officedocument.presentationml.slideMaster+xml"/>
  <Override PartName="/ppt/slideMasters/slideMaster62.xml" ContentType="application/vnd.openxmlformats-officedocument.presentationml.slideMaster+xml"/>
  <Override PartName="/ppt/slideMasters/slideMaster97.xml" ContentType="application/vnd.openxmlformats-officedocument.presentationml.slideMaster+xml"/>
  <Override PartName="/ppt/slideMasters/slideMaster60.xml" ContentType="application/vnd.openxmlformats-officedocument.presentationml.slideMaster+xml"/>
  <Override PartName="/ppt/slideMasters/slideMaster61.xml" ContentType="application/vnd.openxmlformats-officedocument.presentationml.slideMaster+xml"/>
  <Override PartName="/ppt/slideMasters/slideMaster96.xml" ContentType="application/vnd.openxmlformats-officedocument.presentationml.slideMaster+xml"/>
  <Override PartName="/ppt/slideMasters/slideMaster95.xml" ContentType="application/vnd.openxmlformats-officedocument.presentationml.slideMaster+xml"/>
  <Override PartName="/ppt/slideMasters/slideMaster89.xml" ContentType="application/vnd.openxmlformats-officedocument.presentationml.slideMaster+xml"/>
  <Override PartName="/ppt/slideMasters/slideMaster77.xml" ContentType="application/vnd.openxmlformats-officedocument.presentationml.slideMaster+xml"/>
  <Override PartName="/ppt/slideMasters/slideMaster88.xml" ContentType="application/vnd.openxmlformats-officedocument.presentationml.slideMaster+xml"/>
  <Override PartName="/ppt/slideMasters/slideMaster76.xml" ContentType="application/vnd.openxmlformats-officedocument.presentationml.slideMaster+xml"/>
  <Override PartName="/ppt/slideMasters/slideMaster87.xml" ContentType="application/vnd.openxmlformats-officedocument.presentationml.slideMaster+xml"/>
  <Override PartName="/ppt/slideMasters/slideMaster75.xml" ContentType="application/vnd.openxmlformats-officedocument.presentationml.slideMaster+xml"/>
  <Override PartName="/ppt/slideMasters/slideMaster86.xml" ContentType="application/vnd.openxmlformats-officedocument.presentationml.slideMaster+xml"/>
  <Override PartName="/ppt/slideMasters/slideMaster74.xml" ContentType="application/vnd.openxmlformats-officedocument.presentationml.slideMaster+xml"/>
  <Override PartName="/ppt/slideMasters/slideMaster79.xml" ContentType="application/vnd.openxmlformats-officedocument.presentationml.slideMaster+xml"/>
  <Override PartName="/ppt/slideMasters/slideMaster78.xml" ContentType="application/vnd.openxmlformats-officedocument.presentationml.slideMaster+xml"/>
  <Override PartName="/ppt/slideMasters/slideMaster28.xml" ContentType="application/vnd.openxmlformats-officedocument.presentationml.slideMaster+xml"/>
  <Override PartName="/ppt/slideMasters/slideMaster93.xml" ContentType="application/vnd.openxmlformats-officedocument.presentationml.slideMaster+xml"/>
  <Override PartName="/ppt/slideMasters/slideMaster92.xml" ContentType="application/vnd.openxmlformats-officedocument.presentationml.slideMaster+xml"/>
  <Override PartName="/ppt/slideMasters/slideMaster27.xml" ContentType="application/vnd.openxmlformats-officedocument.presentationml.slideMaster+xml"/>
  <Override PartName="/ppt/slideMasters/slideMaster91.xml" ContentType="application/vnd.openxmlformats-officedocument.presentationml.slideMaster+xml"/>
  <Override PartName="/ppt/slideMasters/slideMaster26.xml" ContentType="application/vnd.openxmlformats-officedocument.presentationml.slideMaster+xml"/>
  <Override PartName="/ppt/slideMasters/slideMaster11.xml" ContentType="application/vnd.openxmlformats-officedocument.presentationml.slideMaster+xml"/>
  <Override PartName="/ppt/slideMasters/slideMaster48.xml" ContentType="application/vnd.openxmlformats-officedocument.presentationml.slideMaster+xml"/>
  <Override PartName="/ppt/slideMasters/slideMaster90.xml" ContentType="application/vnd.openxmlformats-officedocument.presentationml.slideMaster+xml"/>
  <Override PartName="/ppt/slideMasters/slideMaster25.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59.xml" ContentType="application/vnd.openxmlformats-officedocument.presentationml.slideMaster+xml"/>
  <Override PartName="/ppt/slideMasters/slideMaster21.xml" ContentType="application/vnd.openxmlformats-officedocument.presentationml.slideMaster+xml"/>
  <Override PartName="/ppt/slideMasters/slideMaster58.xml" ContentType="application/vnd.openxmlformats-officedocument.presentationml.slideMaster+xml"/>
  <Override PartName="/ppt/slideMasters/slideMaster20.xml" ContentType="application/vnd.openxmlformats-officedocument.presentationml.slideMaster+xml"/>
  <Override PartName="/ppt/slideMasters/slideMaster57.xml" ContentType="application/vnd.openxmlformats-officedocument.presentationml.slideMaster+xml"/>
  <Override PartName="/ppt/slideMasters/slideMaster37.xml" ContentType="application/vnd.openxmlformats-officedocument.presentationml.slideMaster+xml"/>
  <Override PartName="/ppt/slideMasters/slideMaster38.xml" ContentType="application/vnd.openxmlformats-officedocument.presentationml.slideMaster+xml"/>
  <Override PartName="/ppt/slideMasters/slideMaster14.xml" ContentType="application/vnd.openxmlformats-officedocument.presentationml.slideMaster+xml"/>
  <Override PartName="/ppt/slideMasters/slideMaster3.xml" ContentType="application/vnd.openxmlformats-officedocument.presentationml.slideMaster+xml"/>
  <Override PartName="/ppt/slideMasters/slideMaster39.xml" ContentType="application/vnd.openxmlformats-officedocument.presentationml.slideMaster+xml"/>
  <Override PartName="/ppt/slideMasters/slideMaster5.xml" ContentType="application/vnd.openxmlformats-officedocument.presentationml.slideMaster+xml"/>
  <Override PartName="/ppt/slideMasters/slideMaster16.xml" ContentType="application/vnd.openxmlformats-officedocument.presentationml.slideMaster+xml"/>
  <Override PartName="/ppt/slideMasters/slideMaster81.xml" ContentType="application/vnd.openxmlformats-officedocument.presentationml.slideMaster+xml"/>
  <Override PartName="/ppt/slideMasters/slideMaster10.xml" ContentType="application/vnd.openxmlformats-officedocument.presentationml.slideMaster+xml"/>
  <Override PartName="/ppt/slideMasters/slideMaster47.xml" ContentType="application/vnd.openxmlformats-officedocument.presentationml.slideMaster+xml"/>
  <Override PartName="/ppt/slideMasters/slideMaster15.xml" ContentType="application/vnd.openxmlformats-officedocument.presentationml.slideMaster+xml"/>
  <Override PartName="/ppt/slideMasters/slideMaster80.xml" ContentType="application/vnd.openxmlformats-officedocument.presentationml.slideMaster+xml"/>
  <Override PartName="/ppt/slideMasters/slideMaster4.xml" ContentType="application/vnd.openxmlformats-officedocument.presentationml.slideMaster+xml"/>
  <Override PartName="/ppt/theme/theme56.xml" ContentType="application/vnd.openxmlformats-officedocument.theme+xml"/>
  <Override PartName="/ppt/theme/theme55.xml" ContentType="application/vnd.openxmlformats-officedocument.theme+xml"/>
  <Override PartName="/ppt/theme/theme54.xml" ContentType="application/vnd.openxmlformats-officedocument.theme+xml"/>
  <Override PartName="/ppt/theme/theme53.xml" ContentType="application/vnd.openxmlformats-officedocument.theme+xml"/>
  <Override PartName="/ppt/theme/theme52.xml" ContentType="application/vnd.openxmlformats-officedocument.theme+xml"/>
  <Override PartName="/ppt/theme/theme51.xml" ContentType="application/vnd.openxmlformats-officedocument.theme+xml"/>
  <Override PartName="/ppt/theme/theme50.xml" ContentType="application/vnd.openxmlformats-officedocument.theme+xml"/>
  <Override PartName="/ppt/theme/theme46.xml" ContentType="application/vnd.openxmlformats-officedocument.theme+xml"/>
  <Override PartName="/ppt/theme/theme45.xml" ContentType="application/vnd.openxmlformats-officedocument.theme+xml"/>
  <Override PartName="/ppt/theme/theme44.xml" ContentType="application/vnd.openxmlformats-officedocument.theme+xml"/>
  <Override PartName="/ppt/theme/theme43.xml" ContentType="application/vnd.openxmlformats-officedocument.theme+xml"/>
  <Override PartName="/ppt/theme/theme42.xml" ContentType="application/vnd.openxmlformats-officedocument.theme+xml"/>
  <Override PartName="/ppt/theme/theme41.xml" ContentType="application/vnd.openxmlformats-officedocument.theme+xml"/>
  <Override PartName="/ppt/theme/theme40.xml" ContentType="application/vnd.openxmlformats-officedocument.theme+xml"/>
  <Override PartName="/ppt/theme/theme39.xml" ContentType="application/vnd.openxmlformats-officedocument.theme+xml"/>
  <Override PartName="/ppt/theme/theme38.xml" ContentType="application/vnd.openxmlformats-officedocument.theme+xml"/>
  <Override PartName="/ppt/theme/theme37.xml" ContentType="application/vnd.openxmlformats-officedocument.theme+xml"/>
  <Override PartName="/ppt/theme/theme36.xml" ContentType="application/vnd.openxmlformats-officedocument.theme+xml"/>
  <Override PartName="/ppt/theme/theme35.xml" ContentType="application/vnd.openxmlformats-officedocument.theme+xml"/>
  <Override PartName="/ppt/theme/theme34.xml" ContentType="application/vnd.openxmlformats-officedocument.theme+xml"/>
  <Override PartName="/ppt/theme/theme33.xml" ContentType="application/vnd.openxmlformats-officedocument.theme+xml"/>
  <Override PartName="/ppt/theme/theme32.xml" ContentType="application/vnd.openxmlformats-officedocument.theme+xml"/>
  <Override PartName="/ppt/theme/theme31.xml" ContentType="application/vnd.openxmlformats-officedocument.theme+xml"/>
  <Override PartName="/ppt/theme/theme30.xml" ContentType="application/vnd.openxmlformats-officedocument.theme+xml"/>
  <Override PartName="/ppt/theme/theme27.xml" ContentType="application/vnd.openxmlformats-officedocument.theme+xml"/>
  <Override PartName="/ppt/theme/theme92.xml" ContentType="application/vnd.openxmlformats-officedocument.theme+xml"/>
  <Override PartName="/ppt/theme/theme8.xml" ContentType="application/vnd.openxmlformats-officedocument.theme+xml"/>
  <Override PartName="/ppt/theme/theme23.xml" ContentType="application/vnd.openxmlformats-officedocument.theme+xml"/>
  <Override PartName="/ppt/theme/theme13.xml" ContentType="application/vnd.openxmlformats-officedocument.theme+xml"/>
  <Override PartName="/ppt/theme/theme26.xml" ContentType="application/vnd.openxmlformats-officedocument.theme+xml"/>
  <Override PartName="/ppt/theme/theme91.xml" ContentType="application/vnd.openxmlformats-officedocument.theme+xml"/>
  <Override PartName="/ppt/theme/theme7.xml" ContentType="application/vnd.openxmlformats-officedocument.theme+xml"/>
  <Override PartName="/ppt/theme/theme22.xml" ContentType="application/vnd.openxmlformats-officedocument.theme+xml"/>
  <Override PartName="/ppt/theme/theme49.xml" ContentType="application/vnd.openxmlformats-officedocument.theme+xml"/>
  <Override PartName="/ppt/theme/theme12.xml" ContentType="application/vnd.openxmlformats-officedocument.theme+xml"/>
  <Override PartName="/ppt/theme/theme25.xml" ContentType="application/vnd.openxmlformats-officedocument.theme+xml"/>
  <Override PartName="/ppt/theme/theme90.xml" ContentType="application/vnd.openxmlformats-officedocument.theme+xml"/>
  <Override PartName="/ppt/theme/theme63.xml" ContentType="application/vnd.openxmlformats-officedocument.theme+xml"/>
  <Override PartName="/ppt/theme/theme64.xml" ContentType="application/vnd.openxmlformats-officedocument.theme+xml"/>
  <Override PartName="/ppt/theme/theme65.xml" ContentType="application/vnd.openxmlformats-officedocument.theme+xml"/>
  <Override PartName="/ppt/theme/theme66.xml" ContentType="application/vnd.openxmlformats-officedocument.theme+xml"/>
  <Override PartName="/ppt/theme/theme67.xml" ContentType="application/vnd.openxmlformats-officedocument.theme+xml"/>
  <Override PartName="/ppt/theme/theme68.xml" ContentType="application/vnd.openxmlformats-officedocument.theme+xml"/>
  <Override PartName="/ppt/theme/theme70.xml" ContentType="application/vnd.openxmlformats-officedocument.theme+xml"/>
  <Override PartName="/ppt/theme/theme69.xml" ContentType="application/vnd.openxmlformats-officedocument.theme+xml"/>
  <Override PartName="/ppt/theme/theme71.xml" ContentType="application/vnd.openxmlformats-officedocument.theme+xml"/>
  <Override PartName="/ppt/theme/theme94.xml" ContentType="application/vnd.openxmlformats-officedocument.theme+xml"/>
  <Override PartName="/ppt/theme/theme29.xml" ContentType="application/vnd.openxmlformats-officedocument.theme+xml"/>
  <Override PartName="/ppt/theme/theme72.xml" ContentType="application/vnd.openxmlformats-officedocument.theme+xml"/>
  <Override PartName="/ppt/theme/theme73.xml" ContentType="application/vnd.openxmlformats-officedocument.theme+xml"/>
  <Override PartName="/ppt/theme/theme74.xml" ContentType="application/vnd.openxmlformats-officedocument.theme+xml"/>
  <Override PartName="/ppt/theme/theme62.xml" ContentType="application/vnd.openxmlformats-officedocument.theme+xml"/>
  <Override PartName="/ppt/theme/theme97.xml" ContentType="application/vnd.openxmlformats-officedocument.theme+xml"/>
  <Override PartName="/ppt/theme/theme60.xml" ContentType="application/vnd.openxmlformats-officedocument.theme+xml"/>
  <Override PartName="/ppt/theme/theme85.xml" ContentType="application/vnd.openxmlformats-officedocument.theme+xml"/>
  <Override PartName="/ppt/theme/theme61.xml" ContentType="application/vnd.openxmlformats-officedocument.theme+xml"/>
  <Override PartName="/ppt/theme/theme96.xml" ContentType="application/vnd.openxmlformats-officedocument.theme+xml"/>
  <Override PartName="/ppt/theme/theme95.xml" ContentType="application/vnd.openxmlformats-officedocument.theme+xml"/>
  <Override PartName="/ppt/theme/theme89.xml" ContentType="application/vnd.openxmlformats-officedocument.theme+xml"/>
  <Override PartName="/ppt/theme/theme77.xml" ContentType="application/vnd.openxmlformats-officedocument.theme+xml"/>
  <Override PartName="/ppt/theme/theme88.xml" ContentType="application/vnd.openxmlformats-officedocument.theme+xml"/>
  <Override PartName="/ppt/theme/theme76.xml" ContentType="application/vnd.openxmlformats-officedocument.theme+xml"/>
  <Override PartName="/ppt/theme/theme87.xml" ContentType="application/vnd.openxmlformats-officedocument.theme+xml"/>
  <Override PartName="/ppt/theme/theme75.xml" ContentType="application/vnd.openxmlformats-officedocument.theme+xml"/>
  <Override PartName="/ppt/theme/theme86.xml" ContentType="application/vnd.openxmlformats-officedocument.theme+xml"/>
  <Override PartName="/ppt/theme/theme79.xml" ContentType="application/vnd.openxmlformats-officedocument.theme+xml"/>
  <Override PartName="/ppt/theme/theme78.xml" ContentType="application/vnd.openxmlformats-officedocument.theme+xml"/>
  <Override PartName="/ppt/theme/theme28.xml" ContentType="application/vnd.openxmlformats-officedocument.theme+xml"/>
  <Override PartName="/ppt/theme/theme93.xml" ContentType="application/vnd.openxmlformats-officedocument.theme+xml"/>
  <Override PartName="/ppt/theme/theme14.xml" ContentType="application/vnd.openxmlformats-officedocument.theme+xml"/>
  <Override PartName="/ppt/theme/theme16.xml" ContentType="application/vnd.openxmlformats-officedocument.theme+xml"/>
  <Override PartName="/ppt/theme/theme81.xml" ContentType="application/vnd.openxmlformats-officedocument.theme+xml"/>
  <Override PartName="/ppt/theme/theme15.xml" ContentType="application/vnd.openxmlformats-officedocument.theme+xml"/>
  <Override PartName="/ppt/theme/theme80.xml" ContentType="application/vnd.openxmlformats-officedocument.theme+xml"/>
  <Override PartName="/ppt/theme/theme17.xml" ContentType="application/vnd.openxmlformats-officedocument.theme+xml"/>
  <Override PartName="/ppt/theme/theme82.xml" ContentType="application/vnd.openxmlformats-officedocument.theme+xml"/>
  <Override PartName="/ppt/theme/theme1.xml" ContentType="application/vnd.openxmlformats-officedocument.theme+xml"/>
  <Override PartName="/ppt/theme/theme57.xml" ContentType="application/vnd.openxmlformats-officedocument.theme+xml"/>
  <Override PartName="/ppt/theme/theme18.xml" ContentType="application/vnd.openxmlformats-officedocument.theme+xml"/>
  <Override PartName="/ppt/theme/theme83.xml" ContentType="application/vnd.openxmlformats-officedocument.theme+xml"/>
  <Override PartName="/ppt/theme/theme2.xml" ContentType="application/vnd.openxmlformats-officedocument.theme+xml"/>
  <Override PartName="/ppt/theme/theme58.xml" ContentType="application/vnd.openxmlformats-officedocument.theme+xml"/>
  <Override PartName="/ppt/theme/theme6.xml" ContentType="application/vnd.openxmlformats-officedocument.theme+xml"/>
  <Override PartName="/ppt/theme/theme21.xml" ContentType="application/vnd.openxmlformats-officedocument.theme+xml"/>
  <Override PartName="/ppt/theme/theme19.xml" ContentType="application/vnd.openxmlformats-officedocument.theme+xml"/>
  <Override PartName="/ppt/theme/theme84.xml" ContentType="application/vnd.openxmlformats-officedocument.theme+xml"/>
  <Override PartName="/ppt/theme/theme3.xml" ContentType="application/vnd.openxmlformats-officedocument.theme+xml"/>
  <Override PartName="/ppt/theme/theme5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47.xml" ContentType="application/vnd.openxmlformats-officedocument.theme+xml"/>
  <Override PartName="/ppt/theme/theme20.xml" ContentType="application/vnd.openxmlformats-officedocument.theme+xml"/>
  <Override PartName="/ppt/theme/theme5.xml" ContentType="application/vnd.openxmlformats-officedocument.theme+xml"/>
  <Override PartName="/ppt/theme/theme9.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48.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_rels/slideLayout1051.xml.rels" ContentType="application/vnd.openxmlformats-package.relationships+xml"/>
  <Override PartName="/ppt/slideLayouts/_rels/slideLayout1050.xml.rels" ContentType="application/vnd.openxmlformats-package.relationships+xml"/>
  <Override PartName="/ppt/slideLayouts/_rels/slideLayout1048.xml.rels" ContentType="application/vnd.openxmlformats-package.relationships+xml"/>
  <Override PartName="/ppt/slideLayouts/_rels/slideLayout216.xml.rels" ContentType="application/vnd.openxmlformats-package.relationships+xml"/>
  <Override PartName="/ppt/slideLayouts/_rels/slideLayout1047.xml.rels" ContentType="application/vnd.openxmlformats-package.relationships+xml"/>
  <Override PartName="/ppt/slideLayouts/_rels/slideLayout523.xml.rels" ContentType="application/vnd.openxmlformats-package.relationships+xml"/>
  <Override PartName="/ppt/slideLayouts/_rels/slideLayout151.xml.rels" ContentType="application/vnd.openxmlformats-package.relationships+xml"/>
  <Override PartName="/ppt/slideLayouts/_rels/slideLayout1046.xml.rels" ContentType="application/vnd.openxmlformats-package.relationships+xml"/>
  <Override PartName="/ppt/slideLayouts/_rels/slideLayout522.xml.rels" ContentType="application/vnd.openxmlformats-package.relationships+xml"/>
  <Override PartName="/ppt/slideLayouts/_rels/slideLayout150.xml.rels" ContentType="application/vnd.openxmlformats-package.relationships+xml"/>
  <Override PartName="/ppt/slideLayouts/_rels/slideLayout1045.xml.rels" ContentType="application/vnd.openxmlformats-package.relationships+xml"/>
  <Override PartName="/ppt/slideLayouts/_rels/slideLayout213.xml.rels" ContentType="application/vnd.openxmlformats-package.relationships+xml"/>
  <Override PartName="/ppt/slideLayouts/_rels/slideLayout1044.xml.rels" ContentType="application/vnd.openxmlformats-package.relationships+xml"/>
  <Override PartName="/ppt/slideLayouts/_rels/slideLayout212.xml.rels" ContentType="application/vnd.openxmlformats-package.relationships+xml"/>
  <Override PartName="/ppt/slideLayouts/_rels/slideLayout1043.xml.rels" ContentType="application/vnd.openxmlformats-package.relationships+xml"/>
  <Override PartName="/ppt/slideLayouts/_rels/slideLayout211.xml.rels" ContentType="application/vnd.openxmlformats-package.relationships+xml"/>
  <Override PartName="/ppt/slideLayouts/_rels/slideLayout1042.xml.rels" ContentType="application/vnd.openxmlformats-package.relationships+xml"/>
  <Override PartName="/ppt/slideLayouts/_rels/slideLayout210.xml.rels" ContentType="application/vnd.openxmlformats-package.relationships+xml"/>
  <Override PartName="/ppt/slideLayouts/_rels/slideLayout1041.xml.rels" ContentType="application/vnd.openxmlformats-package.relationships+xml"/>
  <Override PartName="/ppt/slideLayouts/_rels/slideLayout1040.xml.rels" ContentType="application/vnd.openxmlformats-package.relationships+xml"/>
  <Override PartName="/ppt/slideLayouts/_rels/slideLayout1038.xml.rels" ContentType="application/vnd.openxmlformats-package.relationships+xml"/>
  <Override PartName="/ppt/slideLayouts/_rels/slideLayout206.xml.rels" ContentType="application/vnd.openxmlformats-package.relationships+xml"/>
  <Override PartName="/ppt/slideLayouts/_rels/slideLayout1037.xml.rels" ContentType="application/vnd.openxmlformats-package.relationships+xml"/>
  <Override PartName="/ppt/slideLayouts/_rels/slideLayout205.xml.rels" ContentType="application/vnd.openxmlformats-package.relationships+xml"/>
  <Override PartName="/ppt/slideLayouts/_rels/slideLayout1036.xml.rels" ContentType="application/vnd.openxmlformats-package.relationships+xml"/>
  <Override PartName="/ppt/slideLayouts/_rels/slideLayout204.xml.rels" ContentType="application/vnd.openxmlformats-package.relationships+xml"/>
  <Override PartName="/ppt/slideLayouts/_rels/slideLayout1035.xml.rels" ContentType="application/vnd.openxmlformats-package.relationships+xml"/>
  <Override PartName="/ppt/slideLayouts/_rels/slideLayout1034.xml.rels" ContentType="application/vnd.openxmlformats-package.relationships+xml"/>
  <Override PartName="/ppt/slideLayouts/_rels/slideLayout1031.xml.rels" ContentType="application/vnd.openxmlformats-package.relationships+xml"/>
  <Override PartName="/ppt/slideLayouts/_rels/slideLayout79.xml.rels" ContentType="application/vnd.openxmlformats-package.relationships+xml"/>
  <Override PartName="/ppt/slideLayouts/_rels/slideLayout1030.xml.rels" ContentType="application/vnd.openxmlformats-package.relationships+xml"/>
  <Override PartName="/ppt/slideLayouts/_rels/slideLayout78.xml.rels" ContentType="application/vnd.openxmlformats-package.relationships+xml"/>
  <Override PartName="/ppt/slideLayouts/_rels/slideLayout941.xml.rels" ContentType="application/vnd.openxmlformats-package.relationships+xml"/>
  <Override PartName="/ppt/slideLayouts/_rels/slideLayout922.xml.rels" ContentType="application/vnd.openxmlformats-package.relationships+xml"/>
  <Override PartName="/ppt/slideLayouts/_rels/slideLayout550.xml.rels" ContentType="application/vnd.openxmlformats-package.relationships+xml"/>
  <Override PartName="/ppt/slideLayouts/_rels/slideLayout707.xml.rels" ContentType="application/vnd.openxmlformats-package.relationships+xml"/>
  <Override PartName="/ppt/slideLayouts/_rels/slideLayout335.xml.rels" ContentType="application/vnd.openxmlformats-package.relationships+xml"/>
  <Override PartName="/ppt/slideLayouts/_rels/slideLayout1109.xml.rels" ContentType="application/vnd.openxmlformats-package.relationships+xml"/>
  <Override PartName="/ppt/slideLayouts/_rels/slideLayout732.xml.rels" ContentType="application/vnd.openxmlformats-package.relationships+xml"/>
  <Override PartName="/ppt/slideLayouts/_rels/slideLayout360.xml.rels" ContentType="application/vnd.openxmlformats-package.relationships+xml"/>
  <Override PartName="/ppt/slideLayouts/_rels/slideLayout515.xml.rels" ContentType="application/vnd.openxmlformats-package.relationships+xml"/>
  <Override PartName="/ppt/slideLayouts/_rels/slideLayout49.xml.rels" ContentType="application/vnd.openxmlformats-package.relationships+xml"/>
  <Override PartName="/ppt/slideLayouts/_rels/slideLayout48.xml.rels" ContentType="application/vnd.openxmlformats-package.relationships+xml"/>
  <Override PartName="/ppt/slideLayouts/_rels/slideLayout38.xml.rels" ContentType="application/vnd.openxmlformats-package.relationships+xml"/>
  <Override PartName="/ppt/slideLayouts/_rels/slideLayout1010.xml.rels" ContentType="application/vnd.openxmlformats-package.relationships+xml"/>
  <Override PartName="/ppt/slideLayouts/_rels/slideLayout143.xml.rels" ContentType="application/vnd.openxmlformats-package.relationships+xml"/>
  <Override PartName="/ppt/slideLayouts/_rels/slideLayout643.xml.rels" ContentType="application/vnd.openxmlformats-package.relationships+xml"/>
  <Override PartName="/ppt/slideLayouts/_rels/slideLayout271.xml.rels" ContentType="application/vnd.openxmlformats-package.relationships+xml"/>
  <Override PartName="/ppt/slideLayouts/_rels/slideLayout142.xml.rels" ContentType="application/vnd.openxmlformats-package.relationships+xml"/>
  <Override PartName="/ppt/slideLayouts/_rels/slideLayout642.xml.rels" ContentType="application/vnd.openxmlformats-package.relationships+xml"/>
  <Override PartName="/ppt/slideLayouts/_rels/slideLayout270.xml.rels" ContentType="application/vnd.openxmlformats-package.relationships+xml"/>
  <Override PartName="/ppt/slideLayouts/_rels/slideLayout141.xml.rels" ContentType="application/vnd.openxmlformats-package.relationships+xml"/>
  <Override PartName="/ppt/slideLayouts/_rels/slideLayout641.xml.rels" ContentType="application/vnd.openxmlformats-package.relationships+xml"/>
  <Override PartName="/ppt/slideLayouts/_rels/slideLayout29.xml.rels" ContentType="application/vnd.openxmlformats-package.relationships+xml"/>
  <Override PartName="/ppt/slideLayouts/_rels/slideLayout140.xml.rels" ContentType="application/vnd.openxmlformats-package.relationships+xml"/>
  <Override PartName="/ppt/slideLayouts/_rels/slideLayout84.xml.rels" ContentType="application/vnd.openxmlformats-package.relationships+xml"/>
  <Override PartName="/ppt/slideLayouts/_rels/slideLayout842.xml.rels" ContentType="application/vnd.openxmlformats-package.relationships+xml"/>
  <Override PartName="/ppt/slideLayouts/_rels/slideLayout342.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702.xml.rels" ContentType="application/vnd.openxmlformats-package.relationships+xml"/>
  <Override PartName="/ppt/slideLayouts/_rels/slideLayout554.xml.rels" ContentType="application/vnd.openxmlformats-package.relationships+xml"/>
  <Override PartName="/ppt/slideLayouts/_rels/slideLayout182.xml.rels" ContentType="application/vnd.openxmlformats-package.relationships+xml"/>
  <Override PartName="/ppt/slideLayouts/_rels/slideLayout682.xml.rels" ContentType="application/vnd.openxmlformats-package.relationships+xml"/>
  <Override PartName="/ppt/slideLayouts/_rels/slideLayout976.xml.rels" ContentType="application/vnd.openxmlformats-package.relationships+xml"/>
  <Override PartName="/ppt/slideLayouts/_rels/slideLayout476.xml.rels" ContentType="application/vnd.openxmlformats-package.relationships+xml"/>
  <Override PartName="/ppt/slideLayouts/_rels/slideLayout1079.xml.rels" ContentType="application/vnd.openxmlformats-package.relationships+xml"/>
  <Override PartName="/ppt/slideLayouts/_rels/slideLayout72.xml.rels" ContentType="application/vnd.openxmlformats-package.relationships+xml"/>
  <Override PartName="/ppt/slideLayouts/_rels/slideLayout912.xml.rels" ContentType="application/vnd.openxmlformats-package.relationships+xml"/>
  <Override PartName="/ppt/slideLayouts/_rels/slideLayout412.xml.rels" ContentType="application/vnd.openxmlformats-package.relationships+xml"/>
  <Override PartName="/ppt/slideLayouts/_rels/slideLayout470.xml.rels" ContentType="application/vnd.openxmlformats-package.relationships+xml"/>
  <Override PartName="/ppt/slideLayouts/_rels/slideLayout970.xml.rels" ContentType="application/vnd.openxmlformats-package.relationships+xml"/>
  <Override PartName="/ppt/slideLayouts/_rels/slideLayout878.xml.rels" ContentType="application/vnd.openxmlformats-package.relationships+xml"/>
  <Override PartName="/ppt/slideLayouts/_rels/slideLayout378.xml.rels" ContentType="application/vnd.openxmlformats-package.relationships+xml"/>
  <Override PartName="/ppt/slideLayouts/_rels/slideLayout904.xml.rels" ContentType="application/vnd.openxmlformats-package.relationships+xml"/>
  <Override PartName="/ppt/slideLayouts/_rels/slideLayout404.xml.rels" ContentType="application/vnd.openxmlformats-package.relationships+xml"/>
  <Override PartName="/ppt/slideLayouts/_rels/slideLayout884.xml.rels" ContentType="application/vnd.openxmlformats-package.relationships+xml"/>
  <Override PartName="/ppt/slideLayouts/_rels/slideLayout178.xml.rels" ContentType="application/vnd.openxmlformats-package.relationships+xml"/>
  <Override PartName="/ppt/slideLayouts/_rels/slideLayout678.xml.rels" ContentType="application/vnd.openxmlformats-package.relationships+xml"/>
  <Override PartName="/ppt/slideLayouts/_rels/slideLayout895.xml.rels" ContentType="application/vnd.openxmlformats-package.relationships+xml"/>
  <Override PartName="/ppt/slideLayouts/_rels/slideLayout395.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450.xml.rels" ContentType="application/vnd.openxmlformats-package.relationships+xml"/>
  <Override PartName="/ppt/slideLayouts/_rels/slideLayout942.xml.rels" ContentType="application/vnd.openxmlformats-package.relationships+xml"/>
  <Override PartName="/ppt/slideLayouts/_rels/slideLayout794.xml.rels" ContentType="application/vnd.openxmlformats-package.relationships+xml"/>
  <Override PartName="/ppt/slideLayouts/_rels/slideLayout294.xml.rels" ContentType="application/vnd.openxmlformats-package.relationships+xml"/>
  <Override PartName="/ppt/slideLayouts/_rels/slideLayout736.xml.rels" ContentType="application/vnd.openxmlformats-package.relationships+xml"/>
  <Override PartName="/ppt/slideLayouts/_rels/slideLayout767.xml.rels" ContentType="application/vnd.openxmlformats-package.relationships+xml"/>
  <Override PartName="/ppt/slideLayouts/_rels/slideLayout209.xml.rels" ContentType="application/vnd.openxmlformats-package.relationships+xml"/>
  <Override PartName="/ppt/slideLayouts/_rels/slideLayout709.xml.rels" ContentType="application/vnd.openxmlformats-package.relationships+xml"/>
  <Override PartName="/ppt/slideLayouts/_rels/slideLayout901.xml.rels" ContentType="application/vnd.openxmlformats-package.relationships+xml"/>
  <Override PartName="/ppt/slideLayouts/_rels/slideLayout401.xml.rels" ContentType="application/vnd.openxmlformats-package.relationships+xml"/>
  <Override PartName="/ppt/slideLayouts/_rels/slideLayout900.xml.rels" ContentType="application/vnd.openxmlformats-package.relationships+xml"/>
  <Override PartName="/ppt/slideLayouts/_rels/slideLayout400.xml.rels" ContentType="application/vnd.openxmlformats-package.relationships+xml"/>
  <Override PartName="/ppt/slideLayouts/_rels/slideLayout898.xml.rels" ContentType="application/vnd.openxmlformats-package.relationships+xml"/>
  <Override PartName="/ppt/slideLayouts/_rels/slideLayout418.xml.rels" ContentType="application/vnd.openxmlformats-package.relationships+xml"/>
  <Override PartName="/ppt/slideLayouts/_rels/slideLayout918.xml.rels" ContentType="application/vnd.openxmlformats-package.relationships+xml"/>
  <Override PartName="/ppt/slideLayouts/_rels/slideLayout701.xml.rels" ContentType="application/vnd.openxmlformats-package.relationships+xml"/>
  <Override PartName="/ppt/slideLayouts/_rels/slideLayout201.xml.rels" ContentType="application/vnd.openxmlformats-package.relationships+xml"/>
  <Override PartName="/ppt/slideLayouts/_rels/slideLayout116.xml.rels" ContentType="application/vnd.openxmlformats-package.relationships+xml"/>
  <Override PartName="/ppt/slideLayouts/_rels/slideLayout174.xml.rels" ContentType="application/vnd.openxmlformats-package.relationships+xml"/>
  <Override PartName="/ppt/slideLayouts/_rels/slideLayout822.xml.rels" ContentType="application/vnd.openxmlformats-package.relationships+xml"/>
  <Override PartName="/ppt/slideLayouts/_rels/slideLayout322.xml.rels" ContentType="application/vnd.openxmlformats-package.relationships+xml"/>
  <Override PartName="/ppt/slideLayouts/_rels/slideLayout674.xml.rels" ContentType="application/vnd.openxmlformats-package.relationships+xml"/>
  <Override PartName="/ppt/slideLayouts/_rels/slideLayout616.xml.rels" ContentType="application/vnd.openxmlformats-package.relationships+xml"/>
  <Override PartName="/ppt/slideLayouts/_rels/slideLayout339.xml.rels" ContentType="application/vnd.openxmlformats-package.relationships+xml"/>
  <Override PartName="/ppt/slideLayouts/_rels/slideLayout115.xml.rels" ContentType="application/vnd.openxmlformats-package.relationships+xml"/>
  <Override PartName="/ppt/slideLayouts/_rels/slideLayout673.xml.rels" ContentType="application/vnd.openxmlformats-package.relationships+xml"/>
  <Override PartName="/ppt/slideLayouts/_rels/slideLayout615.xml.rels" ContentType="application/vnd.openxmlformats-package.relationships+xml"/>
  <Override PartName="/ppt/slideLayouts/_rels/slideLayout821.xml.rels" ContentType="application/vnd.openxmlformats-package.relationships+xml"/>
  <Override PartName="/ppt/slideLayouts/_rels/slideLayout321.xml.rels" ContentType="application/vnd.openxmlformats-package.relationships+xml"/>
  <Override PartName="/ppt/slideLayouts/_rels/slideLayout173.xml.rels" ContentType="application/vnd.openxmlformats-package.relationships+xml"/>
  <Override PartName="/ppt/slideLayouts/_rels/slideLayout838.xml.rels" ContentType="application/vnd.openxmlformats-package.relationships+xml"/>
  <Override PartName="/ppt/slideLayouts/_rels/slideLayout338.xml.rels" ContentType="application/vnd.openxmlformats-package.relationships+xml"/>
  <Override PartName="/ppt/slideLayouts/_rels/slideLayout653.xml.rels" ContentType="application/vnd.openxmlformats-package.relationships+xml"/>
  <Override PartName="/ppt/slideLayouts/_rels/slideLayout153.xml.rels" ContentType="application/vnd.openxmlformats-package.relationships+xml"/>
  <Override PartName="/ppt/slideLayouts/_rels/slideLayout114.xml.rels" ContentType="application/vnd.openxmlformats-package.relationships+xml"/>
  <Override PartName="/ppt/slideLayouts/_rels/slideLayout672.xml.rels" ContentType="application/vnd.openxmlformats-package.relationships+xml"/>
  <Override PartName="/ppt/slideLayouts/_rels/slideLayout614.xml.rels" ContentType="application/vnd.openxmlformats-package.relationships+xml"/>
  <Override PartName="/ppt/slideLayouts/_rels/slideLayout466.xml.rels" ContentType="application/vnd.openxmlformats-package.relationships+xml"/>
  <Override PartName="/ppt/slideLayouts/_rels/slideLayout172.xml.rels" ContentType="application/vnd.openxmlformats-package.relationships+xml"/>
  <Override PartName="/ppt/slideLayouts/_rels/slideLayout837.xml.rels" ContentType="application/vnd.openxmlformats-package.relationships+xml"/>
  <Override PartName="/ppt/slideLayouts/_rels/slideLayout337.xml.rels" ContentType="application/vnd.openxmlformats-package.relationships+xml"/>
  <Override PartName="/ppt/slideLayouts/_rels/slideLayout652.xml.rels" ContentType="application/vnd.openxmlformats-package.relationships+xml"/>
  <Override PartName="/ppt/slideLayouts/_rels/slideLayout152.xml.rels" ContentType="application/vnd.openxmlformats-package.relationships+xml"/>
  <Override PartName="/ppt/slideLayouts/_rels/slideLayout113.xml.rels" ContentType="application/vnd.openxmlformats-package.relationships+xml"/>
  <Override PartName="/ppt/slideLayouts/_rels/slideLayout465.xml.rels" ContentType="application/vnd.openxmlformats-package.relationships+xml"/>
  <Override PartName="/ppt/slideLayouts/_rels/slideLayout613.xml.rels" ContentType="application/vnd.openxmlformats-package.relationships+xml"/>
  <Override PartName="/ppt/slideLayouts/_rels/slideLayout671.xml.rels" ContentType="application/vnd.openxmlformats-package.relationships+xml"/>
  <Override PartName="/ppt/slideLayouts/_rels/slideLayout171.xml.rels" ContentType="application/vnd.openxmlformats-package.relationships+xml"/>
  <Override PartName="/ppt/slideLayouts/_rels/slideLayout651.xml.rels" ContentType="application/vnd.openxmlformats-package.relationships+xml"/>
  <Override PartName="/ppt/slideLayouts/_rels/slideLayout883.xml.rels" ContentType="application/vnd.openxmlformats-package.relationships+xml"/>
  <Override PartName="/ppt/slideLayouts/_rels/slideLayout398.xml.rels" ContentType="application/vnd.openxmlformats-package.relationships+xml"/>
  <Override PartName="/ppt/slideLayouts/_rels/slideLayout35.xml.rels" ContentType="application/vnd.openxmlformats-package.relationships+xml"/>
  <Override PartName="/ppt/slideLayouts/_rels/slideLayout93.xml.rels" ContentType="application/vnd.openxmlformats-package.relationships+xml"/>
  <Override PartName="/ppt/slideLayouts/_rels/slideLayout383.xml.rels" ContentType="application/vnd.openxmlformats-package.relationships+xml"/>
  <Override PartName="/ppt/slideLayouts/_rels/slideLayout40.xml.rels" ContentType="application/vnd.openxmlformats-package.relationships+xml"/>
  <Override PartName="/ppt/slideLayouts/_rels/slideLayout382.xml.rels" ContentType="application/vnd.openxmlformats-package.relationships+xml"/>
  <Override PartName="/ppt/slideLayouts/_rels/slideLayout882.xml.rels" ContentType="application/vnd.openxmlformats-package.relationships+xml"/>
  <Override PartName="/ppt/slideLayouts/_rels/slideLayout97.xml.rels" ContentType="application/vnd.openxmlformats-package.relationships+xml"/>
  <Override PartName="/ppt/slideLayouts/_rels/slideLayout818.xml.rels" ContentType="application/vnd.openxmlformats-package.relationships+xml"/>
  <Override PartName="/ppt/slideLayouts/_rels/slideLayout318.xml.rels" ContentType="application/vnd.openxmlformats-package.relationships+xml"/>
  <Override PartName="/ppt/slideLayouts/_rels/slideLayout876.xml.rels" ContentType="application/vnd.openxmlformats-package.relationships+xml"/>
  <Override PartName="/ppt/slideLayouts/_rels/slideLayout524.xml.rels" ContentType="application/vnd.openxmlformats-package.relationships+xml"/>
  <Override PartName="/ppt/slideLayouts/_rels/slideLayout965.xml.rels" ContentType="application/vnd.openxmlformats-package.relationships+xml"/>
  <Override PartName="/ppt/slideLayouts/_rels/slideLayout593.xml.rels" ContentType="application/vnd.openxmlformats-package.relationships+xml"/>
  <Override PartName="/ppt/slideLayouts/_rels/slideLayout376.xml.rels" ContentType="application/vnd.openxmlformats-package.relationships+xml"/>
  <Override PartName="/ppt/slideLayouts/_rels/slideLayout13.xml.rels" ContentType="application/vnd.openxmlformats-package.relationships+xml"/>
  <Override PartName="/ppt/slideLayouts/_rels/slideLayout6.xml.rels" ContentType="application/vnd.openxmlformats-package.relationships+xml"/>
  <Override PartName="/ppt/slideLayouts/_rels/slideLayout149.xml.rels" ContentType="application/vnd.openxmlformats-package.relationships+xml"/>
  <Override PartName="/ppt/slideLayouts/_rels/slideLayout394.xml.rels" ContentType="application/vnd.openxmlformats-package.relationships+xml"/>
  <Override PartName="/ppt/slideLayouts/_rels/slideLayout894.xml.rels" ContentType="application/vnd.openxmlformats-package.relationships+xml"/>
  <Override PartName="/ppt/slideLayouts/_rels/slideLayout500.xml.rels" ContentType="application/vnd.openxmlformats-package.relationships+xml"/>
  <Override PartName="/ppt/slideLayouts/_rels/slideLayout352.xml.rels" ContentType="application/vnd.openxmlformats-package.relationships+xml"/>
  <Override PartName="/ppt/slideLayouts/_rels/slideLayout3.xml.rels" ContentType="application/vnd.openxmlformats-package.relationships+xml"/>
  <Override PartName="/ppt/slideLayouts/_rels/slideLayout584.xml.rels" ContentType="application/vnd.openxmlformats-package.relationships+xml"/>
  <Override PartName="/ppt/slideLayouts/_rels/slideLayout790.xml.rels" ContentType="application/vnd.openxmlformats-package.relationships+xml"/>
  <Override PartName="/ppt/slideLayouts/_rels/slideLayout742.xml.rels" ContentType="application/vnd.openxmlformats-package.relationships+xml"/>
  <Override PartName="/ppt/slideLayouts/_rels/slideLayout96.xml.rels" ContentType="application/vnd.openxmlformats-package.relationships+xml"/>
  <Override PartName="/ppt/slideLayouts/_rels/slideLayout964.xml.rels" ContentType="application/vnd.openxmlformats-package.relationships+xml"/>
  <Override PartName="/ppt/slideLayouts/_rels/slideLayout112.xml.rels" ContentType="application/vnd.openxmlformats-package.relationships+xml"/>
  <Override PartName="/ppt/slideLayouts/_rels/slideLayout670.xml.rels" ContentType="application/vnd.openxmlformats-package.relationships+xml"/>
  <Override PartName="/ppt/slideLayouts/_rels/slideLayout464.xml.rels" ContentType="application/vnd.openxmlformats-package.relationships+xml"/>
  <Override PartName="/ppt/slideLayouts/_rels/slideLayout612.xml.rels" ContentType="application/vnd.openxmlformats-package.relationships+xml"/>
  <Override PartName="/ppt/slideLayouts/_rels/slideLayout170.xml.rels" ContentType="application/vnd.openxmlformats-package.relationships+xml"/>
  <Override PartName="/ppt/slideLayouts/_rels/slideLayout542.xml.rels" ContentType="application/vnd.openxmlformats-package.relationships+xml"/>
  <Override PartName="/ppt/slideLayouts/_rels/slideLayout817.xml.rels" ContentType="application/vnd.openxmlformats-package.relationships+xml"/>
  <Override PartName="/ppt/slideLayouts/_rels/slideLayout317.xml.rels" ContentType="application/vnd.openxmlformats-package.relationships+xml"/>
  <Override PartName="/ppt/slideLayouts/_rels/slideLayout875.xml.rels" ContentType="application/vnd.openxmlformats-package.relationships+xml"/>
  <Override PartName="/ppt/slideLayouts/_rels/slideLayout375.xml.rels" ContentType="application/vnd.openxmlformats-package.relationships+xml"/>
  <Override PartName="/ppt/slideLayouts/_rels/slideLayout12.xml.rels" ContentType="application/vnd.openxmlformats-package.relationships+xml"/>
  <Override PartName="/ppt/slideLayouts/_rels/slideLayout236.xml.rels" ContentType="application/vnd.openxmlformats-package.relationships+xml"/>
  <Override PartName="/ppt/slideLayouts/_rels/slideLayout1068.xml.rels" ContentType="application/vnd.openxmlformats-package.relationships+xml"/>
  <Override PartName="/ppt/slideLayouts/_rels/slideLayout46.xml.rels" ContentType="application/vnd.openxmlformats-package.relationships+xml"/>
  <Override PartName="/ppt/slideLayouts/_rels/slideLayout393.xml.rels" ContentType="application/vnd.openxmlformats-package.relationships+xml"/>
  <Override PartName="/ppt/slideLayouts/_rels/slideLayout893.xml.rels" ContentType="application/vnd.openxmlformats-package.relationships+xml"/>
  <Override PartName="/ppt/slideLayouts/_rels/slideLayout851.xml.rels" ContentType="application/vnd.openxmlformats-package.relationships+xml"/>
  <Override PartName="/ppt/slideLayouts/_rels/slideLayout351.xml.rels" ContentType="application/vnd.openxmlformats-package.relationships+xml"/>
  <Override PartName="/ppt/slideLayouts/_rels/slideLayout2.xml.rels" ContentType="application/vnd.openxmlformats-package.relationships+xml"/>
  <Override PartName="/ppt/slideLayouts/_rels/slideLayout741.xml.rels" ContentType="application/vnd.openxmlformats-package.relationships+xml"/>
  <Override PartName="/ppt/slideLayouts/_rels/slideLayout963.xml.rels" ContentType="application/vnd.openxmlformats-package.relationships+xml"/>
  <Override PartName="/ppt/slideLayouts/_rels/slideLayout463.xml.rels" ContentType="application/vnd.openxmlformats-package.relationships+xml"/>
  <Override PartName="/ppt/slideLayouts/_rels/slideLayout859.xml.rels" ContentType="application/vnd.openxmlformats-package.relationships+xml"/>
  <Override PartName="/ppt/slideLayouts/_rels/slideLayout359.xml.rels" ContentType="application/vnd.openxmlformats-package.relationships+xml"/>
  <Override PartName="/ppt/slideLayouts/_rels/slideLayout392.xml.rels" ContentType="application/vnd.openxmlformats-package.relationships+xml"/>
  <Override PartName="/ppt/slideLayouts/_rels/slideLayout892.xml.rels" ContentType="application/vnd.openxmlformats-package.relationships+xml"/>
  <Override PartName="/ppt/slideLayouts/_rels/slideLayout27.xml.rels" ContentType="application/vnd.openxmlformats-package.relationships+xml"/>
  <Override PartName="/ppt/slideLayouts/_rels/slideLayout816.xml.rels" ContentType="application/vnd.openxmlformats-package.relationships+xml"/>
  <Override PartName="/ppt/slideLayouts/_rels/slideLayout316.xml.rels" ContentType="application/vnd.openxmlformats-package.relationships+xml"/>
  <Override PartName="/ppt/slideLayouts/_rels/slideLayout874.xml.rels" ContentType="application/vnd.openxmlformats-package.relationships+xml"/>
  <Override PartName="/ppt/slideLayouts/_rels/slideLayout168.xml.rels" ContentType="application/vnd.openxmlformats-package.relationships+xml"/>
  <Override PartName="/ppt/slideLayouts/_rels/slideLayout374.xml.rels" ContentType="application/vnd.openxmlformats-package.relationships+xml"/>
  <Override PartName="/ppt/slideLayouts/_rels/slideLayout11.xml.rels" ContentType="application/vnd.openxmlformats-package.relationships+xml"/>
  <Override PartName="/ppt/slideLayouts/_rels/slideLayout1160.xml.rels" ContentType="application/vnd.openxmlformats-package.relationships+xml"/>
  <Override PartName="/ppt/slideLayouts/_rels/slideLayout1102.xml.rels" ContentType="application/vnd.openxmlformats-package.relationships+xml"/>
  <Override PartName="/ppt/slideLayouts/_rels/slideLayout885.xml.rels" ContentType="application/vnd.openxmlformats-package.relationships+xml"/>
  <Override PartName="/ppt/slideLayouts/_rels/slideLayout679.xml.rels" ContentType="application/vnd.openxmlformats-package.relationships+xml"/>
  <Override PartName="/ppt/slideLayouts/_rels/slideLayout179.xml.rels" ContentType="application/vnd.openxmlformats-package.relationships+xml"/>
  <Override PartName="/ppt/slideLayouts/_rels/slideLayout582.xml.rels" ContentType="application/vnd.openxmlformats-package.relationships+xml"/>
  <Override PartName="/ppt/slideLayouts/_rels/slideLayout88.xml.rels" ContentType="application/vnd.openxmlformats-package.relationships+xml"/>
  <Override PartName="/ppt/slideLayouts/_rels/slideLayout955.xml.rels" ContentType="application/vnd.openxmlformats-package.relationships+xml"/>
  <Override PartName="/ppt/slideLayouts/_rels/slideLayout749.xml.rels" ContentType="application/vnd.openxmlformats-package.relationships+xml"/>
  <Override PartName="/ppt/slideLayouts/_rels/slideLayout249.xml.rels" ContentType="application/vnd.openxmlformats-package.relationships+xml"/>
  <Override PartName="/ppt/slideLayouts/_rels/slideLayout980.xml.rels" ContentType="application/vnd.openxmlformats-package.relationships+xml"/>
  <Override PartName="/ppt/slideLayouts/_rels/slideLayout774.xml.rels" ContentType="application/vnd.openxmlformats-package.relationships+xml"/>
  <Override PartName="/ppt/slideLayouts/_rels/slideLayout274.xml.rels" ContentType="application/vnd.openxmlformats-package.relationships+xml"/>
  <Override PartName="/ppt/slideLayouts/_rels/slideLayout852.xml.rels" ContentType="application/vnd.openxmlformats-package.relationships+xml"/>
  <Override PartName="/ppt/slideLayouts/_rels/slideLayout480.xml.rels" ContentType="application/vnd.openxmlformats-package.relationships+xml"/>
  <Override PartName="/ppt/slideLayouts/_rels/slideLayout422.xml.rels" ContentType="application/vnd.openxmlformats-package.relationships+xml"/>
  <Override PartName="/ppt/slideLayouts/_rels/slideLayout866.xml.rels" ContentType="application/vnd.openxmlformats-package.relationships+xml"/>
  <Override PartName="/ppt/slideLayouts/_rels/slideLayout366.xml.rels" ContentType="application/vnd.openxmlformats-package.relationships+xml"/>
  <Override PartName="/ppt/slideLayouts/_rels/slideLayout738.xml.rels" ContentType="application/vnd.openxmlformats-package.relationships+xml"/>
  <Override PartName="/ppt/slideLayouts/_rels/slideLayout444.xml.rels" ContentType="application/vnd.openxmlformats-package.relationships+xml"/>
  <Override PartName="/ppt/slideLayouts/_rels/slideLayout238.xml.rels" ContentType="application/vnd.openxmlformats-package.relationships+xml"/>
  <Override PartName="/ppt/slideLayouts/_rels/slideLayout944.xml.rels" ContentType="application/vnd.openxmlformats-package.relationships+xml"/>
  <Override PartName="/ppt/slideLayouts/_rels/slideLayout259.xml.rels" ContentType="application/vnd.openxmlformats-package.relationships+xml"/>
  <Override PartName="/ppt/slideLayouts/_rels/slideLayout759.xml.rels" ContentType="application/vnd.openxmlformats-package.relationships+xml"/>
  <Override PartName="/ppt/slideLayouts/_rels/slideLayout764.xml.rels" ContentType="application/vnd.openxmlformats-package.relationships+xml"/>
  <Override PartName="/ppt/slideLayouts/_rels/slideLayout558.xml.rels" ContentType="application/vnd.openxmlformats-package.relationships+xml"/>
  <Override PartName="/ppt/slideLayouts/_rels/slideLayout449.xml.rels" ContentType="application/vnd.openxmlformats-package.relationships+xml"/>
  <Override PartName="/ppt/slideLayouts/_rels/slideLayout949.xml.rels" ContentType="application/vnd.openxmlformats-package.relationships+xml"/>
  <Override PartName="/ppt/slideLayouts/_rels/slideLayout731.xml.rels" ContentType="application/vnd.openxmlformats-package.relationships+xml"/>
  <Override PartName="/ppt/slideLayouts/_rels/slideLayout85.xml.rels" ContentType="application/vnd.openxmlformats-package.relationships+xml"/>
  <Override PartName="/ppt/slideLayouts/_rels/slideLayout101.xml.rels" ContentType="application/vnd.openxmlformats-package.relationships+xml"/>
  <Override PartName="/ppt/slideLayouts/_rels/slideLayout601.xml.rels" ContentType="application/vnd.openxmlformats-package.relationships+xml"/>
  <Override PartName="/ppt/slideLayouts/_rels/slideLayout581.xml.rels" ContentType="application/vnd.openxmlformats-package.relationships+xml"/>
  <Override PartName="/ppt/slideLayouts/_rels/slideLayout953.xml.rels" ContentType="application/vnd.openxmlformats-package.relationships+xml"/>
  <Override PartName="/ppt/slideLayouts/_rels/slideLayout453.xml.rels" ContentType="application/vnd.openxmlformats-package.relationships+xml"/>
  <Override PartName="/ppt/slideLayouts/_rels/slideLayout849.xml.rels" ContentType="application/vnd.openxmlformats-package.relationships+xml"/>
  <Override PartName="/ppt/slideLayouts/_rels/slideLayout349.xml.rels" ContentType="application/vnd.openxmlformats-package.relationships+xml"/>
  <Override PartName="/ppt/slideLayouts/_rels/slideLayout512.xml.rels" ContentType="application/vnd.openxmlformats-package.relationships+xml"/>
  <Override PartName="/ppt/slideLayouts/_rels/slideLayout806.xml.rels" ContentType="application/vnd.openxmlformats-package.relationships+xml"/>
  <Override PartName="/ppt/slideLayouts/_rels/slideLayout364.xml.rels" ContentType="application/vnd.openxmlformats-package.relationships+xml"/>
  <Override PartName="/ppt/slideLayouts/_rels/slideLayout730.xml.rels" ContentType="application/vnd.openxmlformats-package.relationships+xml"/>
  <Override PartName="/ppt/slideLayouts/_rels/slideLayout447.xml.rels" ContentType="application/vnd.openxmlformats-package.relationships+xml"/>
  <Override PartName="/ppt/slideLayouts/_rels/slideLayout446.xml.rels" ContentType="application/vnd.openxmlformats-package.relationships+xml"/>
  <Override PartName="/ppt/slideLayouts/_rels/slideLayout945.xml.rels" ContentType="application/vnd.openxmlformats-package.relationships+xml"/>
  <Override PartName="/ppt/slideLayouts/_rels/slideLayout445.xml.rels" ContentType="application/vnd.openxmlformats-package.relationships+xml"/>
  <Override PartName="/ppt/slideLayouts/_rels/slideLayout720.xml.rels" ContentType="application/vnd.openxmlformats-package.relationships+xml"/>
  <Override PartName="/ppt/slideLayouts/_rels/slideLayout220.xml.rels" ContentType="application/vnd.openxmlformats-package.relationships+xml"/>
  <Override PartName="/ppt/slideLayouts/_rels/slideLayout572.xml.rels" ContentType="application/vnd.openxmlformats-package.relationships+xml"/>
  <Override PartName="/ppt/slideLayouts/_rels/slideLayout267.xml.rels" ContentType="application/vnd.openxmlformats-package.relationships+xml"/>
  <Override PartName="/ppt/slideLayouts/_rels/slideLayout1099.xml.rels" ContentType="application/vnd.openxmlformats-package.relationships+xml"/>
  <Override PartName="/ppt/slideLayouts/_rels/slideLayout43.xml.rels" ContentType="application/vnd.openxmlformats-package.relationships+xml"/>
  <Override PartName="/ppt/slideLayouts/_rels/slideLayout744.xml.rels" ContentType="application/vnd.openxmlformats-package.relationships+xml"/>
  <Override PartName="/ppt/slideLayouts/_rels/slideLayout372.xml.rels" ContentType="application/vnd.openxmlformats-package.relationships+xml"/>
  <Override PartName="/ppt/slideLayouts/_rels/slideLayout666.xml.rels" ContentType="application/vnd.openxmlformats-package.relationships+xml"/>
  <Override PartName="/ppt/slideLayouts/_rels/slideLayout166.xml.rels" ContentType="application/vnd.openxmlformats-package.relationships+xml"/>
  <Override PartName="/ppt/slideLayouts/_rels/slideLayout872.xml.rels" ContentType="application/vnd.openxmlformats-package.relationships+xml"/>
  <Override PartName="/ppt/slideLayouts/_rels/slideLayout1078.xml.rels" ContentType="application/vnd.openxmlformats-package.relationships+xml"/>
  <Override PartName="/ppt/slideLayouts/_rels/slideLayout71.xml.rels" ContentType="application/vnd.openxmlformats-package.relationships+xml"/>
  <Override PartName="/ppt/slideLayouts/_rels/slideLayout835.xml.rels" ContentType="application/vnd.openxmlformats-package.relationships+xml"/>
  <Override PartName="/ppt/slideLayouts/_rels/slideLayout187.xml.rels" ContentType="application/vnd.openxmlformats-package.relationships+xml"/>
  <Override PartName="/ppt/slideLayouts/_rels/slideLayout629.xml.rels" ContentType="application/vnd.openxmlformats-package.relationships+xml"/>
  <Override PartName="/ppt/slideLayouts/_rels/slideLayout687.xml.rels" ContentType="application/vnd.openxmlformats-package.relationships+xml"/>
  <Override PartName="/ppt/slideLayouts/_rels/slideLayout129.xml.rels" ContentType="application/vnd.openxmlformats-package.relationships+xml"/>
  <Override PartName="/ppt/slideLayouts/_rels/slideLayout860.xml.rels" ContentType="application/vnd.openxmlformats-package.relationships+xml"/>
  <Override PartName="/ppt/slideLayouts/_rels/slideLayout802.xml.rels" ContentType="application/vnd.openxmlformats-package.relationships+xml"/>
  <Override PartName="/ppt/slideLayouts/_rels/slideLayout654.xml.rels" ContentType="application/vnd.openxmlformats-package.relationships+xml"/>
  <Override PartName="/ppt/slideLayouts/_rels/slideLayout302.xml.rels" ContentType="application/vnd.openxmlformats-package.relationships+xml"/>
  <Override PartName="/ppt/slideLayouts/_rels/slideLayout154.xml.rels" ContentType="application/vnd.openxmlformats-package.relationships+xml"/>
  <Override PartName="/ppt/slideLayouts/_rels/slideLayout888.xml.rels" ContentType="application/vnd.openxmlformats-package.relationships+xml"/>
  <Override PartName="/ppt/slideLayouts/_rels/slideLayout1019.xml.rels" ContentType="application/vnd.openxmlformats-package.relationships+xml"/>
  <Override PartName="/ppt/slideLayouts/_rels/slideLayout70.xml.rels" ContentType="application/vnd.openxmlformats-package.relationships+xml"/>
  <Override PartName="/ppt/slideLayouts/_rels/slideLayout1077.xml.rels" ContentType="application/vnd.openxmlformats-package.relationships+xml"/>
  <Override PartName="/ppt/slideLayouts/_rels/slideLayout510.xml.rels" ContentType="application/vnd.openxmlformats-package.relationships+xml"/>
  <Override PartName="/ppt/slideLayouts/_rels/slideLayout772.xml.rels" ContentType="application/vnd.openxmlformats-package.relationships+xml"/>
  <Override PartName="/ppt/slideLayouts/_rels/slideLayout272.xml.rels" ContentType="application/vnd.openxmlformats-package.relationships+xml"/>
  <Override PartName="/ppt/slideLayouts/_rels/slideLayout67.xml.rels" ContentType="application/vnd.openxmlformats-package.relationships+xml"/>
  <Override PartName="/ppt/slideLayouts/_rels/slideLayout993.xml.rels" ContentType="application/vnd.openxmlformats-package.relationships+xml"/>
  <Override PartName="/ppt/slideLayouts/_rels/slideLayout935.xml.rels" ContentType="application/vnd.openxmlformats-package.relationships+xml"/>
  <Override PartName="/ppt/slideLayouts/_rels/slideLayout787.xml.rels" ContentType="application/vnd.openxmlformats-package.relationships+xml"/>
  <Override PartName="/ppt/slideLayouts/_rels/slideLayout287.xml.rels" ContentType="application/vnd.openxmlformats-package.relationships+xml"/>
  <Override PartName="/ppt/slideLayouts/_rels/slideLayout1017.xml.rels" ContentType="application/vnd.openxmlformats-package.relationships+xml"/>
  <Override PartName="/ppt/slideLayouts/_rels/slideLayout840.xml.rels" ContentType="application/vnd.openxmlformats-package.relationships+xml"/>
  <Override PartName="/ppt/slideLayouts/_rels/slideLayout692.xml.rels" ContentType="application/vnd.openxmlformats-package.relationships+xml"/>
  <Override PartName="/ppt/slideLayouts/_rels/slideLayout192.xml.rels" ContentType="application/vnd.openxmlformats-package.relationships+xml"/>
  <Override PartName="/ppt/slideLayouts/_rels/slideLayout108.xml.rels" ContentType="application/vnd.openxmlformats-package.relationships+xml"/>
  <Override PartName="/ppt/slideLayouts/_rels/slideLayout608.xml.rels" ContentType="application/vnd.openxmlformats-package.relationships+xml"/>
  <Override PartName="/ppt/slideLayouts/_rels/slideLayout191.xml.rels" ContentType="application/vnd.openxmlformats-package.relationships+xml"/>
  <Override PartName="/ppt/slideLayouts/_rels/slideLayout691.xml.rels" ContentType="application/vnd.openxmlformats-package.relationships+xml"/>
  <Override PartName="/ppt/slideLayouts/_rels/slideLayout340.xml.rels" ContentType="application/vnd.openxmlformats-package.relationships+xml"/>
  <Override PartName="/ppt/slideLayouts/_rels/slideLayout712.xml.rels" ContentType="application/vnd.openxmlformats-package.relationships+xml"/>
  <Override PartName="/ppt/slideLayouts/_rels/slideLayout587.xml.rels" ContentType="application/vnd.openxmlformats-package.relationships+xml"/>
  <Override PartName="/ppt/slideLayouts/_rels/slideLayout959.xml.rels" ContentType="application/vnd.openxmlformats-package.relationships+xml"/>
  <Override PartName="/ppt/slideLayouts/_rels/slideLayout607.xml.rels" ContentType="application/vnd.openxmlformats-package.relationships+xml"/>
  <Override PartName="/ppt/slideLayouts/_rels/slideLayout459.xml.rels" ContentType="application/vnd.openxmlformats-package.relationships+xml"/>
  <Override PartName="/ppt/slideLayouts/_rels/slideLayout107.xml.rels" ContentType="application/vnd.openxmlformats-package.relationships+xml"/>
  <Override PartName="/ppt/slideLayouts/_rels/slideLayout231.xml.rels" ContentType="application/vnd.openxmlformats-package.relationships+xml"/>
  <Override PartName="/ppt/slideLayouts/_rels/slideLayout1063.xml.rels" ContentType="application/vnd.openxmlformats-package.relationships+xml"/>
  <Override PartName="/ppt/slideLayouts/_rels/slideLayout1005.xml.rels" ContentType="application/vnd.openxmlformats-package.relationships+xml"/>
  <Override PartName="/ppt/slideLayouts/_rels/slideLayout1058.xml.rels" ContentType="application/vnd.openxmlformats-package.relationships+xml"/>
  <Override PartName="/ppt/slideLayouts/_rels/slideLayout792.xml.rels" ContentType="application/vnd.openxmlformats-package.relationships+xml"/>
  <Override PartName="/ppt/slideLayouts/_rels/slideLayout734.xml.rels" ContentType="application/vnd.openxmlformats-package.relationships+xml"/>
  <Override PartName="/ppt/slideLayouts/_rels/slideLayout292.xml.rels" ContentType="application/vnd.openxmlformats-package.relationships+xml"/>
  <Override PartName="/ppt/slideLayouts/_rels/slideLayout234.xml.rels" ContentType="application/vnd.openxmlformats-package.relationships+xml"/>
  <Override PartName="/ppt/slideLayouts/_rels/slideLayout586.xml.rels" ContentType="application/vnd.openxmlformats-package.relationships+xml"/>
  <Override PartName="/ppt/slideLayouts/_rels/slideLayout61.xml.rels" ContentType="application/vnd.openxmlformats-package.relationships+xml"/>
  <Override PartName="/ppt/slideLayouts/_rels/slideLayout791.xml.rels" ContentType="application/vnd.openxmlformats-package.relationships+xml"/>
  <Override PartName="/ppt/slideLayouts/_rels/slideLayout733.xml.rels" ContentType="application/vnd.openxmlformats-package.relationships+xml"/>
  <Override PartName="/ppt/slideLayouts/_rels/slideLayout291.xml.rels" ContentType="application/vnd.openxmlformats-package.relationships+xml"/>
  <Override PartName="/ppt/slideLayouts/_rels/slideLayout585.xml.rels" ContentType="application/vnd.openxmlformats-package.relationships+xml"/>
  <Override PartName="/ppt/slideLayouts/_rels/slideLayout740.xml.rels" ContentType="application/vnd.openxmlformats-package.relationships+xml"/>
  <Override PartName="/ppt/slideLayouts/_rels/slideLayout240.xml.rels" ContentType="application/vnd.openxmlformats-package.relationships+xml"/>
  <Override PartName="/ppt/slideLayouts/_rels/slideLayout534.xml.rels" ContentType="application/vnd.openxmlformats-package.relationships+xml"/>
  <Override PartName="/ppt/slideLayouts/_rels/slideLayout592.xml.rels" ContentType="application/vnd.openxmlformats-package.relationships+xml"/>
  <Override PartName="/ppt/slideLayouts/_rels/slideLayout1009.xml.rels" ContentType="application/vnd.openxmlformats-package.relationships+xml"/>
  <Override PartName="/ppt/slideLayouts/_rels/slideLayout60.xml.rels" ContentType="application/vnd.openxmlformats-package.relationships+xml"/>
  <Override PartName="/ppt/slideLayouts/_rels/slideLayout795.xml.rels" ContentType="application/vnd.openxmlformats-package.relationships+xml"/>
  <Override PartName="/ppt/slideLayouts/_rels/slideLayout1069.xml.rels" ContentType="application/vnd.openxmlformats-package.relationships+xml"/>
  <Override PartName="/ppt/slideLayouts/_rels/slideLayout237.xml.rels" ContentType="application/vnd.openxmlformats-package.relationships+xml"/>
  <Override PartName="/ppt/slideLayouts/_rels/slideLayout443.xml.rels" ContentType="application/vnd.openxmlformats-package.relationships+xml"/>
  <Override PartName="/ppt/slideLayouts/_rels/slideLayout943.xml.rels" ContentType="application/vnd.openxmlformats-package.relationships+xml"/>
  <Override PartName="/ppt/slideLayouts/_rels/slideLayout871.xml.rels" ContentType="application/vnd.openxmlformats-package.relationships+xml"/>
  <Override PartName="/ppt/slideLayouts/_rels/slideLayout77.xml.rels" ContentType="application/vnd.openxmlformats-package.relationships+xml"/>
  <Override PartName="/ppt/slideLayouts/_rels/slideLayout815.xml.rels" ContentType="application/vnd.openxmlformats-package.relationships+xml"/>
  <Override PartName="/ppt/slideLayouts/_rels/slideLayout167.xml.rels" ContentType="application/vnd.openxmlformats-package.relationships+xml"/>
  <Override PartName="/ppt/slideLayouts/_rels/slideLayout315.xml.rels" ContentType="application/vnd.openxmlformats-package.relationships+xml"/>
  <Override PartName="/ppt/slideLayouts/_rels/slideLayout873.xml.rels" ContentType="application/vnd.openxmlformats-package.relationships+xml"/>
  <Override PartName="/ppt/slideLayouts/_rels/slideLayout373.xml.rels" ContentType="application/vnd.openxmlformats-package.relationships+xml"/>
  <Override PartName="/ppt/slideLayouts/_rels/slideLayout10.xml.rels" ContentType="application/vnd.openxmlformats-package.relationships+xml"/>
  <Override PartName="/ppt/slideLayouts/_rels/slideLayout499.xml.rels" ContentType="application/vnd.openxmlformats-package.relationships+xml"/>
  <Override PartName="/ppt/slideLayouts/_rels/slideLayout999.xml.rels" ContentType="application/vnd.openxmlformats-package.relationships+xml"/>
  <Override PartName="/ppt/slideLayouts/_rels/slideLayout551.xml.rels" ContentType="application/vnd.openxmlformats-package.relationships+xml"/>
  <Override PartName="/ppt/slideLayouts/_rels/slideLayout345.xml.rels" ContentType="application/vnd.openxmlformats-package.relationships+xml"/>
  <Override PartName="/ppt/slideLayouts/_rels/slideLayout546.xml.rels" ContentType="application/vnd.openxmlformats-package.relationships+xml"/>
  <Override PartName="/ppt/slideLayouts/_rels/slideLayout752.xml.rels" ContentType="application/vnd.openxmlformats-package.relationships+xml"/>
  <Override PartName="/ppt/slideLayouts/_rels/slideLayout242.xml.rels" ContentType="application/vnd.openxmlformats-package.relationships+xml"/>
  <Override PartName="/ppt/slideLayouts/_rels/slideLayout1074.xml.rels" ContentType="application/vnd.openxmlformats-package.relationships+xml"/>
  <Override PartName="/ppt/slideLayouts/_rels/slideLayout693.xml.rels" ContentType="application/vnd.openxmlformats-package.relationships+xml"/>
  <Override PartName="/ppt/slideLayouts/_rels/slideLayout841.xml.rels" ContentType="application/vnd.openxmlformats-package.relationships+xml"/>
  <Override PartName="/ppt/slideLayouts/_rels/slideLayout193.xml.rels" ContentType="application/vnd.openxmlformats-package.relationships+xml"/>
  <Override PartName="/ppt/slideLayouts/_rels/slideLayout958.xml.rels" ContentType="application/vnd.openxmlformats-package.relationships+xml"/>
  <Override PartName="/ppt/slideLayouts/_rels/slideLayout606.xml.rels" ContentType="application/vnd.openxmlformats-package.relationships+xml"/>
  <Override PartName="/ppt/slideLayouts/_rels/slideLayout458.xml.rels" ContentType="application/vnd.openxmlformats-package.relationships+xml"/>
  <Override PartName="/ppt/slideLayouts/_rels/slideLayout106.xml.rels" ContentType="application/vnd.openxmlformats-package.relationships+xml"/>
  <Override PartName="/ppt/slideLayouts/_rels/slideLayout1097.xml.rels" ContentType="application/vnd.openxmlformats-package.relationships+xml"/>
  <Override PartName="/ppt/slideLayouts/_rels/slideLayout559.xml.rels" ContentType="application/vnd.openxmlformats-package.relationships+xml"/>
  <Override PartName="/ppt/slideLayouts/_rels/slideLayout207.xml.rels" ContentType="application/vnd.openxmlformats-package.relationships+xml"/>
  <Override PartName="/ppt/slideLayouts/_rels/slideLayout765.xml.rels" ContentType="application/vnd.openxmlformats-package.relationships+xml"/>
  <Override PartName="/ppt/slideLayouts/_rels/slideLayout95.xml.rels" ContentType="application/vnd.openxmlformats-package.relationships+xml"/>
  <Override PartName="/ppt/slideLayouts/_rels/slideLayout37.xml.rels" ContentType="application/vnd.openxmlformats-package.relationships+xml"/>
  <Override PartName="/ppt/slideLayouts/_rels/slideLayout696.xml.rels" ContentType="application/vnd.openxmlformats-package.relationships+xml"/>
  <Override PartName="/ppt/slideLayouts/_rels/slideLayout638.xml.rels" ContentType="application/vnd.openxmlformats-package.relationships+xml"/>
  <Override PartName="/ppt/slideLayouts/_rels/slideLayout196.xml.rels" ContentType="application/vnd.openxmlformats-package.relationships+xml"/>
  <Override PartName="/ppt/slideLayouts/_rels/slideLayout138.xml.rels" ContentType="application/vnd.openxmlformats-package.relationships+xml"/>
  <Override PartName="/ppt/slideLayouts/_rels/slideLayout917.xml.rels" ContentType="application/vnd.openxmlformats-package.relationships+xml"/>
  <Override PartName="/ppt/slideLayouts/_rels/slideLayout269.xml.rels" ContentType="application/vnd.openxmlformats-package.relationships+xml"/>
  <Override PartName="/ppt/slideLayouts/_rels/slideLayout417.xml.rels" ContentType="application/vnd.openxmlformats-package.relationships+xml"/>
  <Override PartName="/ppt/slideLayouts/_rels/slideLayout247.xml.rels" ContentType="application/vnd.openxmlformats-package.relationships+xml"/>
  <Override PartName="/ppt/slideLayouts/_rels/slideLayout747.xml.rels" ContentType="application/vnd.openxmlformats-package.relationships+xml"/>
  <Override PartName="/ppt/slideLayouts/_rels/slideLayout599.xml.rels" ContentType="application/vnd.openxmlformats-package.relationships+xml"/>
  <Override PartName="/ppt/slideLayouts/_rels/slideLayout862.xml.rels" ContentType="application/vnd.openxmlformats-package.relationships+xml"/>
  <Override PartName="/ppt/slideLayouts/_rels/slideLayout804.xml.rels" ContentType="application/vnd.openxmlformats-package.relationships+xml"/>
  <Override PartName="/ppt/slideLayouts/_rels/slideLayout362.xml.rels" ContentType="application/vnd.openxmlformats-package.relationships+xml"/>
  <Override PartName="/ppt/slideLayouts/_rels/slideLayout304.xml.rels" ContentType="application/vnd.openxmlformats-package.relationships+xml"/>
  <Override PartName="/ppt/slideLayouts/_rels/slideLayout783.xml.rels" ContentType="application/vnd.openxmlformats-package.relationships+xml"/>
  <Override PartName="/ppt/slideLayouts/_rels/slideLayout86.xml.rels" ContentType="application/vnd.openxmlformats-package.relationships+xml"/>
  <Override PartName="/ppt/slideLayouts/_rels/slideLayout708.xml.rels" ContentType="application/vnd.openxmlformats-package.relationships+xml"/>
  <Override PartName="/ppt/slideLayouts/_rels/slideLayout766.xml.rels" ContentType="application/vnd.openxmlformats-package.relationships+xml"/>
  <Override PartName="/ppt/slideLayouts/_rels/slideLayout208.xml.rels" ContentType="application/vnd.openxmlformats-package.relationships+xml"/>
  <Override PartName="/ppt/slideLayouts/_rels/slideLayout266.xml.rels" ContentType="application/vnd.openxmlformats-package.relationships+xml"/>
  <Override PartName="/ppt/slideLayouts/_rels/slideLayout644.xml.rels" ContentType="application/vnd.openxmlformats-package.relationships+xml"/>
  <Override PartName="/ppt/slideLayouts/_rels/slideLayout496.xml.rels" ContentType="application/vnd.openxmlformats-package.relationships+xml"/>
  <Override PartName="/ppt/slideLayouts/_rels/slideLayout438.xml.rels" ContentType="application/vnd.openxmlformats-package.relationships+xml"/>
  <Override PartName="/ppt/slideLayouts/_rels/slideLayout938.xml.rels" ContentType="application/vnd.openxmlformats-package.relationships+xml"/>
  <Override PartName="/ppt/slideLayouts/_rels/slideLayout996.xml.rels" ContentType="application/vnd.openxmlformats-package.relationships+xml"/>
  <Override PartName="/ppt/slideLayouts/_rels/slideLayout639.xml.rels" ContentType="application/vnd.openxmlformats-package.relationships+xml"/>
  <Override PartName="/ppt/slideLayouts/_rels/slideLayout139.xml.rels" ContentType="application/vnd.openxmlformats-package.relationships+xml"/>
  <Override PartName="/ppt/slideLayouts/_rels/slideLayout197.xml.rels" ContentType="application/vnd.openxmlformats-package.relationships+xml"/>
  <Override PartName="/ppt/slideLayouts/_rels/slideLayout697.xml.rels" ContentType="application/vnd.openxmlformats-package.relationships+xml"/>
  <Override PartName="/ppt/slideLayouts/_rels/slideLayout183.xml.rels" ContentType="application/vnd.openxmlformats-package.relationships+xml"/>
  <Override PartName="/ppt/slideLayouts/_rels/slideLayout683.xml.rels" ContentType="application/vnd.openxmlformats-package.relationships+xml"/>
  <Override PartName="/ppt/slideLayouts/_rels/slideLayout125.xml.rels" ContentType="application/vnd.openxmlformats-package.relationships+xml"/>
  <Override PartName="/ppt/slideLayouts/_rels/slideLayout977.xml.rels" ContentType="application/vnd.openxmlformats-package.relationships+xml"/>
  <Override PartName="/ppt/slideLayouts/_rels/slideLayout477.xml.rels" ContentType="application/vnd.openxmlformats-package.relationships+xml"/>
  <Override PartName="/ppt/slideLayouts/_rels/slideLayout625.xml.rels" ContentType="application/vnd.openxmlformats-package.relationships+xml"/>
  <Override PartName="/ppt/slideLayouts/_rels/slideLayout434.xml.rels" ContentType="application/vnd.openxmlformats-package.relationships+xml"/>
  <Override PartName="/ppt/slideLayouts/_rels/slideLayout645.xml.rels" ContentType="application/vnd.openxmlformats-package.relationships+xml"/>
  <Override PartName="/ppt/slideLayouts/_rels/slideLayout997.xml.rels" ContentType="application/vnd.openxmlformats-package.relationships+xml"/>
  <Override PartName="/ppt/slideLayouts/_rels/slideLayout439.xml.rels" ContentType="application/vnd.openxmlformats-package.relationships+xml"/>
  <Override PartName="/ppt/slideLayouts/_rels/slideLayout939.xml.rels" ContentType="application/vnd.openxmlformats-package.relationships+xml"/>
  <Override PartName="/ppt/slideLayouts/_rels/slideLayout497.xml.rels" ContentType="application/vnd.openxmlformats-package.relationships+xml"/>
  <Override PartName="/ppt/slideLayouts/_rels/slideLayout748.xml.rels" ContentType="application/vnd.openxmlformats-package.relationships+xml"/>
  <Override PartName="/ppt/slideLayouts/_rels/slideLayout248.xml.rels" ContentType="application/vnd.openxmlformats-package.relationships+xml"/>
  <Override PartName="/ppt/slideLayouts/_rels/slideLayout954.xml.rels" ContentType="application/vnd.openxmlformats-package.relationships+xml"/>
  <Override PartName="/ppt/slideLayouts/_rels/slideLayout897.xml.rels" ContentType="application/vnd.openxmlformats-package.relationships+xml"/>
  <Override PartName="/ppt/slideLayouts/_rels/slideLayout126.xml.rels" ContentType="application/vnd.openxmlformats-package.relationships+xml"/>
  <Override PartName="/ppt/slideLayouts/_rels/slideLayout626.xml.rels" ContentType="application/vnd.openxmlformats-package.relationships+xml"/>
  <Override PartName="/ppt/slideLayouts/_rels/slideLayout978.xml.rels" ContentType="application/vnd.openxmlformats-package.relationships+xml"/>
  <Override PartName="/ppt/slideLayouts/_rels/slideLayout478.xml.rels" ContentType="application/vnd.openxmlformats-package.relationships+xml"/>
  <Override PartName="/ppt/slideLayouts/_rels/slideLayout684.xml.rels" ContentType="application/vnd.openxmlformats-package.relationships+xml"/>
  <Override PartName="/ppt/slideLayouts/_rels/slideLayout184.xml.rels" ContentType="application/vnd.openxmlformats-package.relationships+xml"/>
  <Override PartName="/ppt/slideLayouts/_rels/slideLayout824.xml.rels" ContentType="application/vnd.openxmlformats-package.relationships+xml"/>
  <Override PartName="/ppt/slideLayouts/_rels/slideLayout118.xml.rels" ContentType="application/vnd.openxmlformats-package.relationships+xml"/>
  <Override PartName="/ppt/slideLayouts/_rels/slideLayout771.xml.rels" ContentType="application/vnd.openxmlformats-package.relationships+xml"/>
  <Override PartName="/ppt/slideLayouts/_rels/slideLayout66.xml.rels" ContentType="application/vnd.openxmlformats-package.relationships+xml"/>
  <Override PartName="/ppt/slideLayouts/_rels/slideLayout1080.xml.rels" ContentType="application/vnd.openxmlformats-package.relationships+xml"/>
  <Override PartName="/ppt/slideLayouts/_rels/slideLayout680.xml.rels" ContentType="application/vnd.openxmlformats-package.relationships+xml"/>
  <Override PartName="/ppt/slideLayouts/_rels/slideLayout180.xml.rels" ContentType="application/vnd.openxmlformats-package.relationships+xml"/>
  <Override PartName="/ppt/slideLayouts/_rels/slideLayout430.xml.rels" ContentType="application/vnd.openxmlformats-package.relationships+xml"/>
  <Override PartName="/ppt/slideLayouts/_rels/slideLayout282.xml.rels" ContentType="application/vnd.openxmlformats-package.relationships+xml"/>
  <Override PartName="/ppt/slideLayouts/_rels/slideLayout782.xml.rels" ContentType="application/vnd.openxmlformats-package.relationships+xml"/>
  <Override PartName="/ppt/slideLayouts/_rels/slideLayout1056.xml.rels" ContentType="application/vnd.openxmlformats-package.relationships+xml"/>
  <Override PartName="/ppt/slideLayouts/_rels/slideLayout224.xml.rels" ContentType="application/vnd.openxmlformats-package.relationships+xml"/>
  <Override PartName="/ppt/slideLayouts/_rels/slideLayout724.xml.rels" ContentType="application/vnd.openxmlformats-package.relationships+xml"/>
  <Override PartName="/ppt/slideLayouts/_rels/slideLayout930.xml.rels" ContentType="application/vnd.openxmlformats-package.relationships+xml"/>
  <Override PartName="/ppt/slideLayouts/_rels/slideLayout221.xml.rels" ContentType="application/vnd.openxmlformats-package.relationships+xml"/>
  <Override PartName="/ppt/slideLayouts/_rels/slideLayout573.xml.rels" ContentType="application/vnd.openxmlformats-package.relationships+xml"/>
  <Override PartName="/ppt/slideLayouts/_rels/slideLayout721.xml.rels" ContentType="application/vnd.openxmlformats-package.relationships+xml"/>
  <Override PartName="/ppt/slideLayouts/_rels/slideLayout1060.xml.rels" ContentType="application/vnd.openxmlformats-package.relationships+xml"/>
  <Override PartName="/ppt/slideLayouts/_rels/slideLayout65.xml.rels" ContentType="application/vnd.openxmlformats-package.relationships+xml"/>
  <Override PartName="/ppt/slideLayouts/_rels/slideLayout770.xml.rels" ContentType="application/vnd.openxmlformats-package.relationships+xml"/>
  <Override PartName="/ppt/slideLayouts/_rels/slideLayout968.xml.rels" ContentType="application/vnd.openxmlformats-package.relationships+xml"/>
  <Override PartName="/ppt/slideLayouts/_rels/slideLayout468.xml.rels" ContentType="application/vnd.openxmlformats-package.relationships+xml"/>
  <Override PartName="/ppt/slideLayouts/_rels/slideLayout710.xml.rels" ContentType="application/vnd.openxmlformats-package.relationships+xml"/>
  <Override PartName="/ppt/slideLayouts/_rels/slideLayout924.xml.rels" ContentType="application/vnd.openxmlformats-package.relationships+xml"/>
  <Override PartName="/ppt/slideLayouts/_rels/slideLayout424.xml.rels" ContentType="application/vnd.openxmlformats-package.relationships+xml"/>
  <Override PartName="/ppt/slideLayouts/_rels/slideLayout276.xml.rels" ContentType="application/vnd.openxmlformats-package.relationships+xml"/>
  <Override PartName="/ppt/slideLayouts/_rels/slideLayout982.xml.rels" ContentType="application/vnd.openxmlformats-package.relationships+xml"/>
  <Override PartName="/ppt/slideLayouts/_rels/slideLayout482.xml.rels" ContentType="application/vnd.openxmlformats-package.relationships+xml"/>
  <Override PartName="/ppt/slideLayouts/_rels/slideLayout776.xml.rels" ContentType="application/vnd.openxmlformats-package.relationships+xml"/>
  <Override PartName="/ppt/slideLayouts/_rels/slideLayout634.xml.rels" ContentType="application/vnd.openxmlformats-package.relationships+xml"/>
  <Override PartName="/ppt/slideLayouts/_rels/slideLayout134.xml.rels" ContentType="application/vnd.openxmlformats-package.relationships+xml"/>
  <Override PartName="/ppt/slideLayouts/_rels/slideLayout428.xml.rels" ContentType="application/vnd.openxmlformats-package.relationships+xml"/>
  <Override PartName="/ppt/slideLayouts/_rels/slideLayout711.xml.rels" ContentType="application/vnd.openxmlformats-package.relationships+xml"/>
  <Override PartName="/ppt/slideLayouts/_rels/slideLayout690.xml.rels" ContentType="application/vnd.openxmlformats-package.relationships+xml"/>
  <Override PartName="/ppt/slideLayouts/_rels/slideLayout190.xml.rels" ContentType="application/vnd.openxmlformats-package.relationships+xml"/>
  <Override PartName="/ppt/slideLayouts/_rels/slideLayout619.xml.rels" ContentType="application/vnd.openxmlformats-package.relationships+xml"/>
  <Override PartName="/ppt/slideLayouts/_rels/slideLayout723.xml.rels" ContentType="application/vnd.openxmlformats-package.relationships+xml"/>
  <Override PartName="/ppt/slideLayouts/_rels/slideLayout281.xml.rels" ContentType="application/vnd.openxmlformats-package.relationships+xml"/>
  <Override PartName="/ppt/slideLayouts/_rels/slideLayout781.xml.rels" ContentType="application/vnd.openxmlformats-package.relationships+xml"/>
  <Override PartName="/ppt/slideLayouts/_rels/slideLayout370.xml.rels" ContentType="application/vnd.openxmlformats-package.relationships+xml"/>
  <Override PartName="/ppt/slideLayouts/_rels/slideLayout532.xml.rels" ContentType="application/vnd.openxmlformats-package.relationships+xml"/>
  <Override PartName="/ppt/slideLayouts/_rels/slideLayout590.xml.rels" ContentType="application/vnd.openxmlformats-package.relationships+xml"/>
  <Override PartName="/ppt/slideLayouts/_rels/slideLayout571.xml.rels" ContentType="application/vnd.openxmlformats-package.relationships+xml"/>
  <Override PartName="/ppt/slideLayouts/_rels/slideLayout828.xml.rels" ContentType="application/vnd.openxmlformats-package.relationships+xml"/>
  <Override PartName="/ppt/slideLayouts/_rels/slideLayout328.xml.rels" ContentType="application/vnd.openxmlformats-package.relationships+xml"/>
  <Override PartName="/ppt/slideLayouts/_rels/slideLayout886.xml.rels" ContentType="application/vnd.openxmlformats-package.relationships+xml"/>
  <Override PartName="/ppt/slideLayouts/_rels/slideLayout934.xml.rels" ContentType="application/vnd.openxmlformats-package.relationships+xml"/>
  <Override PartName="/ppt/slideLayouts/_rels/slideLayout562.xml.rels" ContentType="application/vnd.openxmlformats-package.relationships+xml"/>
  <Override PartName="/ppt/slideLayouts/_rels/slideLayout356.xml.rels" ContentType="application/vnd.openxmlformats-package.relationships+xml"/>
  <Override PartName="/ppt/slideLayouts/_rels/slideLayout856.xml.rels" ContentType="application/vnd.openxmlformats-package.relationships+xml"/>
  <Override PartName="/ppt/slideLayouts/_rels/slideLayout42.xml.rels" ContentType="application/vnd.openxmlformats-package.relationships+xml"/>
  <Override PartName="/ppt/slideLayouts/_rels/slideLayout1065.xml.rels" ContentType="application/vnd.openxmlformats-package.relationships+xml"/>
  <Override PartName="/ppt/slideLayouts/_rels/slideLayout1007.xml.rels" ContentType="application/vnd.openxmlformats-package.relationships+xml"/>
  <Override PartName="/ppt/slideLayouts/_rels/slideLayout147.xml.rels" ContentType="application/vnd.openxmlformats-package.relationships+xml"/>
  <Override PartName="/ppt/slideLayouts/_rels/slideLayout647.xml.rels" ContentType="application/vnd.openxmlformats-package.relationships+xml"/>
  <Override PartName="/ppt/slideLayouts/_rels/slideLayout1052.xml.rels" ContentType="application/vnd.openxmlformats-package.relationships+xml"/>
  <Override PartName="/ppt/slideLayouts/_rels/slideLayout456.xml.rels" ContentType="application/vnd.openxmlformats-package.relationships+xml"/>
  <Override PartName="/ppt/slideLayouts/_rels/slideLayout956.xml.rels" ContentType="application/vnd.openxmlformats-package.relationships+xml"/>
  <Override PartName="/ppt/slideLayouts/_rels/slideLayout560.xml.rels" ContentType="application/vnd.openxmlformats-package.relationships+xml"/>
  <Override PartName="/ppt/slideLayouts/_rels/slideLayout273.xml.rels" ContentType="application/vnd.openxmlformats-package.relationships+xml"/>
  <Override PartName="/ppt/slideLayouts/_rels/slideLayout773.xml.rels" ContentType="application/vnd.openxmlformats-package.relationships+xml"/>
  <Override PartName="/ppt/slideLayouts/_rels/slideLayout1029.xml.rels" ContentType="application/vnd.openxmlformats-package.relationships+xml"/>
  <Override PartName="/ppt/slideLayouts/_rels/slideLayout80.xml.rels" ContentType="application/vnd.openxmlformats-package.relationships+xml"/>
  <Override PartName="/ppt/slideLayouts/_rels/slideLayout1075.xml.rels" ContentType="application/vnd.openxmlformats-package.relationships+xml"/>
  <Override PartName="/ppt/slideLayouts/_rels/slideLayout243.xml.rels" ContentType="application/vnd.openxmlformats-package.relationships+xml"/>
  <Override PartName="/ppt/slideLayouts/_rels/slideLayout448.xml.rels" ContentType="application/vnd.openxmlformats-package.relationships+xml"/>
  <Override PartName="/ppt/slideLayouts/_rels/slideLayout948.xml.rels" ContentType="application/vnd.openxmlformats-package.relationships+xml"/>
  <Override PartName="/ppt/slideLayouts/_rels/slideLayout552.xml.rels" ContentType="application/vnd.openxmlformats-package.relationships+xml"/>
  <Override PartName="/ppt/slideLayouts/_rels/slideLayout346.xml.rels" ContentType="application/vnd.openxmlformats-package.relationships+xml"/>
  <Override PartName="/ppt/slideLayouts/_rels/slideLayout508.xml.rels" ContentType="application/vnd.openxmlformats-package.relationships+xml"/>
  <Override PartName="/ppt/slideLayouts/_rels/slideLayout214.xml.rels" ContentType="application/vnd.openxmlformats-package.relationships+xml"/>
  <Override PartName="/ppt/slideLayouts/_rels/slideLayout714.xml.rels" ContentType="application/vnd.openxmlformats-package.relationships+xml"/>
  <Override PartName="/ppt/slideLayouts/_rels/slideLayout283.xml.rels" ContentType="application/vnd.openxmlformats-package.relationships+xml"/>
  <Override PartName="/ppt/slideLayouts/_rels/slideLayout655.xml.rels" ContentType="application/vnd.openxmlformats-package.relationships+xml"/>
  <Override PartName="/ppt/slideLayouts/_rels/slideLayout155.xml.rels" ContentType="application/vnd.openxmlformats-package.relationships+xml"/>
  <Override PartName="/ppt/slideLayouts/_rels/slideLayout303.xml.rels" ContentType="application/vnd.openxmlformats-package.relationships+xml"/>
  <Override PartName="/ppt/slideLayouts/_rels/slideLayout361.xml.rels" ContentType="application/vnd.openxmlformats-package.relationships+xml"/>
  <Override PartName="/ppt/slideLayouts/_rels/slideLayout861.xml.rels" ContentType="application/vnd.openxmlformats-package.relationships+xml"/>
  <Override PartName="/ppt/slideLayouts/_rels/slideLayout803.xml.rels" ContentType="application/vnd.openxmlformats-package.relationships+xml"/>
  <Override PartName="/ppt/slideLayouts/_rels/slideLayout700.xml.rels" ContentType="application/vnd.openxmlformats-package.relationships+xml"/>
  <Override PartName="/ppt/slideLayouts/_rels/slideLayout223.xml.rels" ContentType="application/vnd.openxmlformats-package.relationships+xml"/>
  <Override PartName="/ppt/slideLayouts/_rels/slideLayout1055.xml.rels" ContentType="application/vnd.openxmlformats-package.relationships+xml"/>
  <Override PartName="/ppt/slideLayouts/_rels/slideLayout1084.xml.rels" ContentType="application/vnd.openxmlformats-package.relationships+xml"/>
  <Override PartName="/ppt/slideLayouts/_rels/slideLayout469.xml.rels" ContentType="application/vnd.openxmlformats-package.relationships+xml"/>
  <Override PartName="/ppt/slideLayouts/_rels/slideLayout969.xml.rels" ContentType="application/vnd.openxmlformats-package.relationships+xml"/>
  <Override PartName="/ppt/slideLayouts/_rels/slideLayout1059.xml.rels" ContentType="application/vnd.openxmlformats-package.relationships+xml"/>
  <Override PartName="/ppt/slideLayouts/_rels/slideLayout1064.xml.rels" ContentType="application/vnd.openxmlformats-package.relationships+xml"/>
  <Override PartName="/ppt/slideLayouts/_rels/slideLayout1006.xml.rels" ContentType="application/vnd.openxmlformats-package.relationships+xml"/>
  <Override PartName="/ppt/slideLayouts/_rels/slideLayout1083.xml.rels" ContentType="application/vnd.openxmlformats-package.relationships+xml"/>
  <Override PartName="/ppt/slideLayouts/_rels/slideLayout540.xml.rels" ContentType="application/vnd.openxmlformats-package.relationships+xml"/>
  <Override PartName="/ppt/slideLayouts/_rels/slideLayout185.xml.rels" ContentType="application/vnd.openxmlformats-package.relationships+xml"/>
  <Override PartName="/ppt/slideLayouts/_rels/slideLayout627.xml.rels" ContentType="application/vnd.openxmlformats-package.relationships+xml"/>
  <Override PartName="/ppt/slideLayouts/_rels/slideLayout127.xml.rels" ContentType="application/vnd.openxmlformats-package.relationships+xml"/>
  <Override PartName="/ppt/slideLayouts/_rels/slideLayout685.xml.rels" ContentType="application/vnd.openxmlformats-package.relationships+xml"/>
  <Override PartName="/ppt/slideLayouts/_rels/slideLayout979.xml.rels" ContentType="application/vnd.openxmlformats-package.relationships+xml"/>
  <Override PartName="/ppt/slideLayouts/_rels/slideLayout81.xml.rels" ContentType="application/vnd.openxmlformats-package.relationships+xml"/>
  <Override PartName="/ppt/slideLayouts/_rels/slideLayout386.xml.rels" ContentType="application/vnd.openxmlformats-package.relationships+xml"/>
  <Override PartName="/ppt/slideLayouts/_rels/slideLayout23.xml.rels" ContentType="application/vnd.openxmlformats-package.relationships+xml"/>
  <Override PartName="/ppt/slideLayouts/_rels/slideLayout563.xml.rels" ContentType="application/vnd.openxmlformats-package.relationships+xml"/>
  <Override PartName="/ppt/slideLayouts/_rels/slideLayout857.xml.rels" ContentType="application/vnd.openxmlformats-package.relationships+xml"/>
  <Override PartName="/ppt/slideLayouts/_rels/slideLayout505.xml.rels" ContentType="application/vnd.openxmlformats-package.relationships+xml"/>
  <Override PartName="/ppt/slideLayouts/_rels/slideLayout520.xml.rels" ContentType="application/vnd.openxmlformats-package.relationships+xml"/>
  <Override PartName="/ppt/slideLayouts/_rels/slideLayout4.xml.rels" ContentType="application/vnd.openxmlformats-package.relationships+xml"/>
  <Override PartName="/ppt/slideLayouts/_rels/slideLayout501.xml.rels" ContentType="application/vnd.openxmlformats-package.relationships+xml"/>
  <Override PartName="/ppt/slideLayouts/_rels/slideLayout416.xml.rels" ContentType="application/vnd.openxmlformats-package.relationships+xml"/>
  <Override PartName="/ppt/slideLayouts/_rels/slideLayout268.xml.rels" ContentType="application/vnd.openxmlformats-package.relationships+xml"/>
  <Override PartName="/ppt/slideLayouts/_rels/slideLayout186.xml.rels" ContentType="application/vnd.openxmlformats-package.relationships+xml"/>
  <Override PartName="/ppt/slideLayouts/_rels/slideLayout128.xml.rels" ContentType="application/vnd.openxmlformats-package.relationships+xml"/>
  <Override PartName="/ppt/slideLayouts/_rels/slideLayout686.xml.rels" ContentType="application/vnd.openxmlformats-package.relationships+xml"/>
  <Override PartName="/ppt/slideLayouts/_rels/slideLayout628.xml.rels" ContentType="application/vnd.openxmlformats-package.relationships+xml"/>
  <Override PartName="/ppt/slideLayouts/_rels/slideLayout834.xml.rels" ContentType="application/vnd.openxmlformats-package.relationships+xml"/>
  <Override PartName="/ppt/slideLayouts/_rels/slideLayout244.xml.rels" ContentType="application/vnd.openxmlformats-package.relationships+xml"/>
  <Override PartName="/ppt/slideLayouts/_rels/slideLayout1076.xml.rels" ContentType="application/vnd.openxmlformats-package.relationships+xml"/>
  <Override PartName="/ppt/slideLayouts/_rels/slideLayout1018.xml.rels" ContentType="application/vnd.openxmlformats-package.relationships+xml"/>
  <Override PartName="/ppt/slideLayouts/_rels/slideLayout704.xml.rels" ContentType="application/vnd.openxmlformats-package.relationships+xml"/>
  <Override PartName="/ppt/slideLayouts/_rels/slideLayout82.xml.rels" ContentType="application/vnd.openxmlformats-package.relationships+xml"/>
  <Override PartName="/ppt/slideLayouts/_rels/slideLayout541.xml.rels" ContentType="application/vnd.openxmlformats-package.relationships+xml"/>
  <Override PartName="/ppt/slideLayouts/_rels/slideLayout489.xml.rels" ContentType="application/vnd.openxmlformats-package.relationships+xml"/>
  <Override PartName="/ppt/slideLayouts/_rels/slideLayout989.xml.rels" ContentType="application/vnd.openxmlformats-package.relationships+xml"/>
  <Override PartName="/ppt/slideLayouts/_rels/slideLayout695.xml.rels" ContentType="application/vnd.openxmlformats-package.relationships+xml"/>
  <Override PartName="/ppt/slideLayouts/_rels/slideLayout1081.xml.rels" ContentType="application/vnd.openxmlformats-package.relationships+xml"/>
  <Override PartName="/ppt/slideLayouts/_rels/slideLayout1096.xml.rels" ContentType="application/vnd.openxmlformats-package.relationships+xml"/>
  <Override PartName="/ppt/slideLayouts/_rels/slideLayout957.xml.rels" ContentType="application/vnd.openxmlformats-package.relationships+xml"/>
  <Override PartName="/ppt/slideLayouts/_rels/slideLayout457.xml.rels" ContentType="application/vnd.openxmlformats-package.relationships+xml"/>
  <Override PartName="/ppt/slideLayouts/_rels/slideLayout388.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570.xml.rels" ContentType="application/vnd.openxmlformats-package.relationships+xml"/>
  <Override PartName="/ppt/slideLayouts/_rels/slideLayout423.xml.rels" ContentType="application/vnd.openxmlformats-package.relationships+xml"/>
  <Override PartName="/ppt/slideLayouts/_rels/slideLayout981.xml.rels" ContentType="application/vnd.openxmlformats-package.relationships+xml"/>
  <Override PartName="/ppt/slideLayouts/_rels/slideLayout275.xml.rels" ContentType="application/vnd.openxmlformats-package.relationships+xml"/>
  <Override PartName="/ppt/slideLayouts/_rels/slideLayout775.xml.rels" ContentType="application/vnd.openxmlformats-package.relationships+xml"/>
  <Override PartName="/ppt/slideLayouts/_rels/slideLayout481.xml.rels" ContentType="application/vnd.openxmlformats-package.relationships+xml"/>
  <Override PartName="/ppt/slideLayouts/_rels/slideLayout923.xml.rels" ContentType="application/vnd.openxmlformats-package.relationships+xml"/>
  <Override PartName="/ppt/slideLayouts/_rels/slideLayout1085.xml.rels" ContentType="application/vnd.openxmlformats-package.relationships+xml"/>
  <Override PartName="/ppt/slideLayouts/_rels/slideLayout1072.xml.rels" ContentType="application/vnd.openxmlformats-package.relationships+xml"/>
  <Override PartName="/ppt/slideLayouts/_rels/slideLayout433.xml.rels" ContentType="application/vnd.openxmlformats-package.relationships+xml"/>
  <Override PartName="/ppt/slideLayouts/_rels/slideLayout511.xml.rels" ContentType="application/vnd.openxmlformats-package.relationships+xml"/>
  <Override PartName="/ppt/slideLayouts/_rels/slideLayout863.xml.rels" ContentType="application/vnd.openxmlformats-package.relationships+xml"/>
  <Override PartName="/ppt/slideLayouts/_rels/slideLayout363.xml.rels" ContentType="application/vnd.openxmlformats-package.relationships+xml"/>
  <Override PartName="/ppt/slideLayouts/_rels/slideLayout805.xml.rels" ContentType="application/vnd.openxmlformats-package.relationships+xml"/>
  <Override PartName="/ppt/slideLayouts/_rels/slideLayout1112.xml.rels" ContentType="application/vnd.openxmlformats-package.relationships+xml"/>
  <Override PartName="/ppt/slideLayouts/_rels/slideLayout31.xml.rels" ContentType="application/vnd.openxmlformats-package.relationships+xml"/>
  <Override PartName="/ppt/slideLayouts/_rels/slideLayout800.xml.rels" ContentType="application/vnd.openxmlformats-package.relationships+xml"/>
  <Override PartName="/ppt/slideLayouts/_rels/slideLayout829.xml.rels" ContentType="application/vnd.openxmlformats-package.relationships+xml"/>
  <Override PartName="/ppt/slideLayouts/_rels/slideLayout329.xml.rels" ContentType="application/vnd.openxmlformats-package.relationships+xml"/>
  <Override PartName="/ppt/slideLayouts/_rels/slideLayout887.xml.rels" ContentType="application/vnd.openxmlformats-package.relationships+xml"/>
  <Override PartName="/ppt/slideLayouts/_rels/slideLayout24.xml.rels" ContentType="application/vnd.openxmlformats-package.relationships+xml"/>
  <Override PartName="/ppt/slideLayouts/_rels/slideLayout387.xml.rels" ContentType="application/vnd.openxmlformats-package.relationships+xml"/>
  <Override PartName="/ppt/slideLayouts/_rels/slideLayout756.xml.rels" ContentType="application/vnd.openxmlformats-package.relationships+xml"/>
  <Override PartName="/ppt/slideLayouts/_rels/slideLayout384.xml.rels" ContentType="application/vnd.openxmlformats-package.relationships+xml"/>
  <Override PartName="/ppt/slideLayouts/_rels/slideLayout21.xml.rels" ContentType="application/vnd.openxmlformats-package.relationships+xml"/>
  <Override PartName="/ppt/slideLayouts/_rels/slideLayout1028.xml.rels" ContentType="application/vnd.openxmlformats-package.relationships+xml"/>
  <Override PartName="/ppt/slideLayouts/_rels/slideLayout591.xml.rels" ContentType="application/vnd.openxmlformats-package.relationships+xml"/>
  <Override PartName="/ppt/slideLayouts/_rels/slideLayout533.xml.rels" ContentType="application/vnd.openxmlformats-package.relationships+xml"/>
  <Override PartName="/ppt/slideLayouts/_rels/slideLayout1071.xml.rels" ContentType="application/vnd.openxmlformats-package.relationships+xml"/>
  <Override PartName="/ppt/slideLayouts/_rels/slideLayout1066.xml.rels" ContentType="application/vnd.openxmlformats-package.relationships+xml"/>
  <Override PartName="/ppt/slideLayouts/_rels/slideLayout1008.xml.rels" ContentType="application/vnd.openxmlformats-package.relationships+xml"/>
  <Override PartName="/ppt/slideLayouts/_rels/slideLayout148.xml.rels" ContentType="application/vnd.openxmlformats-package.relationships+xml"/>
  <Override PartName="/ppt/slideLayouts/_rels/slideLayout648.xml.rels" ContentType="application/vnd.openxmlformats-package.relationships+xml"/>
  <Override PartName="/ppt/slideLayouts/_rels/slideLayout1070.xml.rels" ContentType="application/vnd.openxmlformats-package.relationships+xml"/>
  <Override PartName="/ppt/slideLayouts/_rels/slideLayout1053.xml.rels" ContentType="application/vnd.openxmlformats-package.relationships+xml"/>
  <Override PartName="/ppt/slideLayouts/_rels/slideLayout911.xml.rels" ContentType="application/vnd.openxmlformats-package.relationships+xml"/>
  <Override PartName="/ppt/slideLayouts/_rels/slideLayout411.xml.rels" ContentType="application/vnd.openxmlformats-package.relationships+xml"/>
  <Override PartName="/ppt/slideLayouts/_rels/slideLayout241.xml.rels" ContentType="application/vnd.openxmlformats-package.relationships+xml"/>
  <Override PartName="/ppt/slideLayouts/_rels/slideLayout1073.xml.rels" ContentType="application/vnd.openxmlformats-package.relationships+xml"/>
  <Override PartName="/ppt/slideLayouts/_rels/slideLayout588.xml.rels" ContentType="application/vnd.openxmlformats-package.relationships+xml"/>
  <Override PartName="/ppt/slideLayouts/_rels/slideLayout609.xml.rels" ContentType="application/vnd.openxmlformats-package.relationships+xml"/>
  <Override PartName="/ppt/slideLayouts/_rels/slideLayout341.xml.rels" ContentType="application/vnd.openxmlformats-package.relationships+xml"/>
  <Override PartName="/ppt/slideLayouts/_rels/slideLayout713.xml.rels" ContentType="application/vnd.openxmlformats-package.relationships+xml"/>
  <Override PartName="/ppt/slideLayouts/_rels/slideLayout750.xml.rels" ContentType="application/vnd.openxmlformats-package.relationships+xml"/>
  <Override PartName="/ppt/slideLayouts/_rels/slideLayout646.xml.rels" ContentType="application/vnd.openxmlformats-package.relationships+xml"/>
  <Override PartName="/ppt/slideLayouts/_rels/slideLayout146.xml.rels" ContentType="application/vnd.openxmlformats-package.relationships+xml"/>
  <Override PartName="/ppt/slideLayouts/_rels/slideLayout896.xml.rels" ContentType="application/vnd.openxmlformats-package.relationships+xml"/>
  <Override PartName="/ppt/slideLayouts/_rels/slideLayout250.xml.rels" ContentType="application/vnd.openxmlformats-package.relationships+xml"/>
  <Override PartName="/ppt/slideLayouts/_rels/slideLayout1082.xml.rels" ContentType="application/vnd.openxmlformats-package.relationships+xml"/>
  <Override PartName="/ppt/slideLayouts/_rels/slideLayout521.xml.rels" ContentType="application/vnd.openxmlformats-package.relationships+xml"/>
  <Override PartName="/ppt/slideLayouts/_rels/slideLayout5.xml.rels" ContentType="application/vnd.openxmlformats-package.relationships+xml"/>
  <Override PartName="/ppt/slideLayouts/_rels/slideLayout502.xml.rels" ContentType="application/vnd.openxmlformats-package.relationships+xml"/>
  <Override PartName="/ppt/slideLayouts/_rels/slideLayout41.xml.rels" ContentType="application/vnd.openxmlformats-package.relationships+xml"/>
  <Override PartName="/ppt/slideLayouts/_rels/slideLayout676.xml.rels" ContentType="application/vnd.openxmlformats-package.relationships+xml"/>
  <Override PartName="/ppt/slideLayouts/_rels/slideLayout75.xml.rels" ContentType="application/vnd.openxmlformats-package.relationships+xml"/>
  <Override PartName="/ppt/slideLayouts/_rels/slideLayout659.xml.rels" ContentType="application/vnd.openxmlformats-package.relationships+xml"/>
  <Override PartName="/ppt/slideLayouts/_rels/slideLayout870.xml.rels" ContentType="application/vnd.openxmlformats-package.relationships+xml"/>
  <Override PartName="/ppt/slideLayouts/_rels/slideLayout159.xml.rels" ContentType="application/vnd.openxmlformats-package.relationships+xml"/>
  <Override PartName="/ppt/slideLayouts/_rels/slideLayout998.xml.rels" ContentType="application/vnd.openxmlformats-package.relationships+xml"/>
  <Override PartName="/ppt/slideLayouts/_rels/slideLayout498.xml.rels" ContentType="application/vnd.openxmlformats-package.relationships+xml"/>
  <Override PartName="/ppt/slideLayouts/_rels/slideLayout263.xml.rels" ContentType="application/vnd.openxmlformats-package.relationships+xml"/>
  <Override PartName="/ppt/slideLayouts/_rels/slideLayout1095.xml.rels" ContentType="application/vnd.openxmlformats-package.relationships+xml"/>
  <Override PartName="/ppt/slideLayouts/_rels/slideLayout1027.xml.rels" ContentType="application/vnd.openxmlformats-package.relationships+xml"/>
  <Override PartName="/ppt/slideLayouts/_rels/slideLayout280.xml.rels" ContentType="application/vnd.openxmlformats-package.relationships+xml"/>
  <Override PartName="/ppt/slideLayouts/_rels/slideLayout722.xml.rels" ContentType="application/vnd.openxmlformats-package.relationships+xml"/>
  <Override PartName="/ppt/slideLayouts/_rels/slideLayout780.xml.rels" ContentType="application/vnd.openxmlformats-package.relationships+xml"/>
  <Override PartName="/ppt/slideLayouts/_rels/slideLayout222.xml.rels" ContentType="application/vnd.openxmlformats-package.relationships+xml"/>
  <Override PartName="/ppt/slideLayouts/_rels/slideLayout1054.xml.rels" ContentType="application/vnd.openxmlformats-package.relationships+xml"/>
  <Override PartName="/ppt/slideLayouts/_rels/slideLayout17.xml.rels" ContentType="application/vnd.openxmlformats-package.relationships+xml"/>
  <Override PartName="/ppt/slideLayouts/_rels/slideLayout801.xml.rels" ContentType="application/vnd.openxmlformats-package.relationships+xml"/>
  <Override PartName="/ppt/slideLayouts/_rels/slideLayout429.xml.rels" ContentType="application/vnd.openxmlformats-package.relationships+xml"/>
  <Override PartName="/ppt/slideLayouts/_rels/slideLayout929.xml.rels" ContentType="application/vnd.openxmlformats-package.relationships+xml"/>
  <Override PartName="/ppt/slideLayouts/_rels/slideLayout94.xml.rels" ContentType="application/vnd.openxmlformats-package.relationships+xml"/>
  <Override PartName="/ppt/slideLayouts/_rels/slideLayout109.xml.rels" ContentType="application/vnd.openxmlformats-package.relationships+xml"/>
  <Override PartName="/ppt/slideLayouts/_rels/slideLayout820.xml.rels" ContentType="application/vnd.openxmlformats-package.relationships+xml"/>
  <Override PartName="/ppt/slideLayouts/_rels/slideLayout230.xml.rels" ContentType="application/vnd.openxmlformats-package.relationships+xml"/>
  <Override PartName="/ppt/slideLayouts/_rels/slideLayout1062.xml.rels" ContentType="application/vnd.openxmlformats-package.relationships+xml"/>
  <Override PartName="/ppt/slideLayouts/_rels/slideLayout1004.xml.rels" ContentType="application/vnd.openxmlformats-package.relationships+xml"/>
  <Override PartName="/ppt/slideLayouts/_rels/slideLayout681.xml.rels" ContentType="application/vnd.openxmlformats-package.relationships+xml"/>
  <Override PartName="/ppt/slideLayouts/_rels/slideLayout410.xml.rels" ContentType="application/vnd.openxmlformats-package.relationships+xml"/>
  <Override PartName="/ppt/slideLayouts/_rels/slideLayout910.xml.rels" ContentType="application/vnd.openxmlformats-package.relationships+xml"/>
  <Override PartName="/ppt/slideLayouts/_rels/slideLayout158.xml.rels" ContentType="application/vnd.openxmlformats-package.relationships+xml"/>
  <Override PartName="/ppt/slideLayouts/_rels/slideLayout658.xml.rels" ContentType="application/vnd.openxmlformats-package.relationships+xml"/>
  <Override PartName="/ppt/slideLayouts/_rels/slideLayout262.xml.rels" ContentType="application/vnd.openxmlformats-package.relationships+xml"/>
  <Override PartName="/ppt/slideLayouts/_rels/slideLayout1094.xml.rels" ContentType="application/vnd.openxmlformats-package.relationships+xml"/>
  <Override PartName="/ppt/slideLayouts/_rels/slideLayout16.xml.rels" ContentType="application/vnd.openxmlformats-package.relationships+xml"/>
  <Override PartName="/ppt/slideLayouts/_rels/slideLayout933.xml.rels" ContentType="application/vnd.openxmlformats-package.relationships+xml"/>
  <Override PartName="/ppt/slideLayouts/_rels/slideLayout561.xml.rels" ContentType="application/vnd.openxmlformats-package.relationships+xml"/>
  <Override PartName="/ppt/slideLayouts/_rels/slideLayout355.xml.rels" ContentType="application/vnd.openxmlformats-package.relationships+xml"/>
  <Override PartName="/ppt/slideLayouts/_rels/slideLayout855.xml.rels" ContentType="application/vnd.openxmlformats-package.relationships+xml"/>
  <Override PartName="/ppt/slideLayouts/_rels/slideLayout1114.xml.rels" ContentType="application/vnd.openxmlformats-package.relationships+xml"/>
  <Override PartName="/ppt/slideLayouts/_rels/slideLayout343.xml.rels" ContentType="application/vnd.openxmlformats-package.relationships+xml"/>
  <Override PartName="/ppt/slideLayouts/_rels/slideLayout843.xml.rels" ContentType="application/vnd.openxmlformats-package.relationships+xml"/>
  <Override PartName="/ppt/slideLayouts/_rels/slideLayout656.xml.rels" ContentType="application/vnd.openxmlformats-package.relationships+xml"/>
  <Override PartName="/ppt/slideLayouts/_rels/slideLayout284.xml.rels" ContentType="application/vnd.openxmlformats-package.relationships+xml"/>
  <Override PartName="/ppt/slideLayouts/_rels/slideLayout784.xml.rels" ContentType="application/vnd.openxmlformats-package.relationships+xml"/>
  <Override PartName="/ppt/slideLayouts/_rels/slideLayout310.xml.rels" ContentType="application/vnd.openxmlformats-package.relationships+xml"/>
  <Override PartName="/ppt/slideLayouts/_rels/slideLayout162.xml.rels" ContentType="application/vnd.openxmlformats-package.relationships+xml"/>
  <Override PartName="/ppt/slideLayouts/_rels/slideLayout232.xml.rels" ContentType="application/vnd.openxmlformats-package.relationships+xml"/>
  <Override PartName="/ppt/slideLayouts/_rels/slideLayout604.xml.rels" ContentType="application/vnd.openxmlformats-package.relationships+xml"/>
  <Override PartName="/ppt/slideLayouts/_rels/slideLayout290.xml.rels" ContentType="application/vnd.openxmlformats-package.relationships+xml"/>
  <Override PartName="/ppt/slideLayouts/_rels/slideLayout662.xml.rels" ContentType="application/vnd.openxmlformats-package.relationships+xml"/>
  <Override PartName="/ppt/slideLayouts/_rels/slideLayout810.xml.rels" ContentType="application/vnd.openxmlformats-package.relationships+xml"/>
  <Override PartName="/ppt/slideLayouts/_rels/slideLayout104.xml.rels" ContentType="application/vnd.openxmlformats-package.relationships+xml"/>
  <Override PartName="/ppt/slideLayouts/_rels/slideLayout960.xml.rels" ContentType="application/vnd.openxmlformats-package.relationships+xml"/>
  <Override PartName="/ppt/slideLayouts/_rels/slideLayout54.xml.rels" ContentType="application/vnd.openxmlformats-package.relationships+xml"/>
  <Override PartName="/ppt/slideLayouts/_rels/slideLayout961.xml.rels" ContentType="application/vnd.openxmlformats-package.relationships+xml"/>
  <Override PartName="/ppt/slideLayouts/_rels/slideLayout55.xml.rels" ContentType="application/vnd.openxmlformats-package.relationships+xml"/>
  <Override PartName="/ppt/slideLayouts/_rels/slideLayout1061.xml.rels" ContentType="application/vnd.openxmlformats-package.relationships+xml"/>
  <Override PartName="/ppt/slideLayouts/_rels/slideLayout89.xml.rels" ContentType="application/vnd.openxmlformats-package.relationships+xml"/>
  <Override PartName="/ppt/slideLayouts/_rels/slideLayout853.xml.rels" ContentType="application/vnd.openxmlformats-package.relationships+xml"/>
  <Override PartName="/ppt/slideLayouts/_rels/slideLayout462.xml.rels" ContentType="application/vnd.openxmlformats-package.relationships+xml"/>
  <Override PartName="/ppt/slideLayouts/_rels/slideLayout962.xml.rels" ContentType="application/vnd.openxmlformats-package.relationships+xml"/>
  <Override PartName="/ppt/slideLayouts/_rels/slideLayout44.xml.rels" ContentType="application/vnd.openxmlformats-package.relationships+xml"/>
  <Override PartName="/ppt/slideLayouts/_rels/slideLayout1130.xml.rels" ContentType="application/vnd.openxmlformats-package.relationships+xml"/>
  <Override PartName="/ppt/slideLayouts/_rels/slideLayout56.xml.rels" ContentType="application/vnd.openxmlformats-package.relationships+xml"/>
  <Override PartName="/ppt/slideLayouts/_rels/slideLayout15.xml.rels" ContentType="application/vnd.openxmlformats-package.relationships+xml"/>
  <Override PartName="/ppt/slideLayouts/_rels/slideLayout358.xml.rels" ContentType="application/vnd.openxmlformats-package.relationships+xml"/>
  <Override PartName="/ppt/slideLayouts/_rels/slideLayout506.xml.rels" ContentType="application/vnd.openxmlformats-package.relationships+xml"/>
  <Override PartName="/ppt/slideLayouts/_rels/slideLayout564.xml.rels" ContentType="application/vnd.openxmlformats-package.relationships+xml"/>
  <Override PartName="/ppt/slideLayouts/_rels/slideLayout298.xml.rels" ContentType="application/vnd.openxmlformats-package.relationships+xml"/>
  <Override PartName="/ppt/slideLayouts/_rels/slideLayout798.xml.rels" ContentType="application/vnd.openxmlformats-package.relationships+xml"/>
  <Override PartName="/ppt/slideLayouts/_rels/slideLayout319.xml.rels" ContentType="application/vnd.openxmlformats-package.relationships+xml"/>
  <Override PartName="/ppt/slideLayouts/_rels/slideLayout377.xml.rels" ContentType="application/vnd.openxmlformats-package.relationships+xml"/>
  <Override PartName="/ppt/slideLayouts/_rels/slideLayout525.xml.rels" ContentType="application/vnd.openxmlformats-package.relationships+xml"/>
  <Override PartName="/ppt/slideLayouts/_rels/slideLayout819.xml.rels" ContentType="application/vnd.openxmlformats-package.relationships+xml"/>
  <Override PartName="/ppt/slideLayouts/_rels/slideLayout877.xml.rels" ContentType="application/vnd.openxmlformats-package.relationships+xml"/>
  <Override PartName="/ppt/slideLayouts/_rels/slideLayout1113.xml.rels" ContentType="application/vnd.openxmlformats-package.relationships+xml"/>
  <Override PartName="/ppt/slideLayouts/_rels/slideLayout32.xml.rels" ContentType="application/vnd.openxmlformats-package.relationships+xml"/>
  <Override PartName="/ppt/slideLayouts/_rels/slideLayout256.xml.rels" ContentType="application/vnd.openxmlformats-package.relationships+xml"/>
  <Override PartName="/ppt/slideLayouts/_rels/slideLayout1088.xml.rels" ContentType="application/vnd.openxmlformats-package.relationships+xml"/>
  <Override PartName="/ppt/slideLayouts/_rels/slideLayout839.xml.rels" ContentType="application/vnd.openxmlformats-package.relationships+xml"/>
  <Override PartName="/ppt/slideLayouts/_rels/slideLayout467.xml.rels" ContentType="application/vnd.openxmlformats-package.relationships+xml"/>
  <Override PartName="/ppt/slideLayouts/_rels/slideLayout967.xml.rels" ContentType="application/vnd.openxmlformats-package.relationships+xml"/>
  <Override PartName="/ppt/slideLayouts/_rels/slideLayout415.xml.rels" ContentType="application/vnd.openxmlformats-package.relationships+xml"/>
  <Override PartName="/ppt/slideLayouts/_rels/slideLayout621.xml.rels" ContentType="application/vnd.openxmlformats-package.relationships+xml"/>
  <Override PartName="/ppt/slideLayouts/_rels/slideLayout543.xml.rels" ContentType="application/vnd.openxmlformats-package.relationships+xml"/>
  <Override PartName="/ppt/slideLayouts/_rels/slideLayout915.xml.rels" ContentType="application/vnd.openxmlformats-package.relationships+xml"/>
  <Override PartName="/ppt/slideLayouts/_rels/slideLayout121.xml.rels" ContentType="application/vnd.openxmlformats-package.relationships+xml"/>
  <Override PartName="/ppt/slideLayouts/_rels/slideLayout420.xml.rels" ContentType="application/vnd.openxmlformats-package.relationships+xml"/>
  <Override PartName="/ppt/slideLayouts/_rels/slideLayout920.xml.rels" ContentType="application/vnd.openxmlformats-package.relationships+xml"/>
  <Override PartName="/ppt/slideLayouts/_rels/slideLayout368.xml.rels" ContentType="application/vnd.openxmlformats-package.relationships+xml"/>
  <Override PartName="/ppt/slideLayouts/_rels/slideLayout946.xml.rels" ContentType="application/vnd.openxmlformats-package.relationships+xml"/>
  <Override PartName="/ppt/slideLayouts/_rels/slideLayout574.xml.rels" ContentType="application/vnd.openxmlformats-package.relationships+xml"/>
  <Override PartName="/ppt/slideLayouts/_rels/slideLayout868.xml.rels" ContentType="application/vnd.openxmlformats-package.relationships+xml"/>
  <Override PartName="/ppt/slideLayouts/_rels/slideLayout973.xml.rels" ContentType="application/vnd.openxmlformats-package.relationships+xml"/>
  <Override PartName="/ppt/slideLayouts/_rels/slideLayout845.xml.rels" ContentType="application/vnd.openxmlformats-package.relationships+xml"/>
  <Override PartName="/ppt/slideLayouts/_rels/slideLayout473.xml.rels" ContentType="application/vnd.openxmlformats-package.relationships+xml"/>
  <Override PartName="/ppt/slideLayouts/_rels/slideLayout454.xml.rels" ContentType="application/vnd.openxmlformats-package.relationships+xml"/>
  <Override PartName="/ppt/slideLayouts/_rels/slideLayout826.xml.rels" ContentType="application/vnd.openxmlformats-package.relationships+xml"/>
  <Override PartName="/ppt/slideLayouts/_rels/slideLayout597.xml.rels" ContentType="application/vnd.openxmlformats-package.relationships+xml"/>
  <Override PartName="/ppt/slideLayouts/_rels/slideLayout745.xml.rels" ContentType="application/vnd.openxmlformats-package.relationships+xml"/>
  <Override PartName="/ppt/slideLayouts/_rels/slideLayout1103.xml.rels" ContentType="application/vnd.openxmlformats-package.relationships+xml"/>
  <Override PartName="/ppt/slideLayouts/_rels/slideLayout1161.xml.rels" ContentType="application/vnd.openxmlformats-package.relationships+xml"/>
  <Override PartName="/ppt/slideLayouts/_rels/slideLayout73.xml.rels" ContentType="application/vnd.openxmlformats-package.relationships+xml"/>
  <Override PartName="/ppt/slideLayouts/_rels/slideLayout203.xml.rels" ContentType="application/vnd.openxmlformats-package.relationships+xml"/>
  <Override PartName="/ppt/slideLayouts/_rels/slideLayout703.xml.rels" ContentType="application/vnd.openxmlformats-package.relationships+xml"/>
  <Override PartName="/ppt/slideLayouts/_rels/slideLayout177.xml.rels" ContentType="application/vnd.openxmlformats-package.relationships+xml"/>
  <Override PartName="/ppt/slideLayouts/_rels/slideLayout677.xml.rels" ContentType="application/vnd.openxmlformats-package.relationships+xml"/>
  <Override PartName="/ppt/slideLayouts/_rels/slideLayout369.xml.rels" ContentType="application/vnd.openxmlformats-package.relationships+xml"/>
  <Override PartName="/ppt/slideLayouts/_rels/slideLayout947.xml.rels" ContentType="application/vnd.openxmlformats-package.relationships+xml"/>
  <Override PartName="/ppt/slideLayouts/_rels/slideLayout575.xml.rels" ContentType="application/vnd.openxmlformats-package.relationships+xml"/>
  <Override PartName="/ppt/slideLayouts/_rels/slideLayout869.xml.rels" ContentType="application/vnd.openxmlformats-package.relationships+xml"/>
  <Override PartName="/ppt/slideLayouts/_rels/slideLayout455.xml.rels" ContentType="application/vnd.openxmlformats-package.relationships+xml"/>
  <Override PartName="/ppt/slideLayouts/_rels/slideLayout827.xml.rels" ContentType="application/vnd.openxmlformats-package.relationships+xml"/>
  <Override PartName="/ppt/slideLayouts/_rels/slideLayout598.xml.rels" ContentType="application/vnd.openxmlformats-package.relationships+xml"/>
  <Override PartName="/ppt/slideLayouts/_rels/slideLayout618.xml.rels" ContentType="application/vnd.openxmlformats-package.relationships+xml"/>
  <Override PartName="/ppt/slideLayouts/_rels/slideLayout246.xml.rels" ContentType="application/vnd.openxmlformats-package.relationships+xml"/>
  <Override PartName="/ppt/slideLayouts/_rels/slideLayout746.xml.rels" ContentType="application/vnd.openxmlformats-package.relationships+xml"/>
  <Override PartName="/ppt/slideLayouts/_rels/slideLayout1104.xml.rels" ContentType="application/vnd.openxmlformats-package.relationships+xml"/>
  <Override PartName="/ppt/slideLayouts/_rels/slideLayout74.xml.rels" ContentType="application/vnd.openxmlformats-package.relationships+xml"/>
  <Override PartName="/ppt/slideLayouts/_rels/slideLayout966.xml.rels" ContentType="application/vnd.openxmlformats-package.relationships+xml"/>
  <Override PartName="/ppt/slideLayouts/_rels/slideLayout594.xml.rels" ContentType="application/vnd.openxmlformats-package.relationships+xml"/>
  <Override PartName="/ppt/slideLayouts/_rels/slideLayout1100.xml.rels" ContentType="application/vnd.openxmlformats-package.relationships+xml"/>
  <Override PartName="/ppt/slideLayouts/_rels/slideLayout769.xml.rels" ContentType="application/vnd.openxmlformats-package.relationships+xml"/>
  <Override PartName="/ppt/slideLayouts/_rels/slideLayout397.xml.rels" ContentType="application/vnd.openxmlformats-package.relationships+xml"/>
  <Override PartName="/ppt/slideLayouts/_rels/slideLayout34.xml.rels" ContentType="application/vnd.openxmlformats-package.relationships+xml"/>
  <Override PartName="/ppt/slideLayouts/_rels/slideLayout92.xml.rels" ContentType="application/vnd.openxmlformats-package.relationships+xml"/>
  <Override PartName="/ppt/slideLayouts/_rels/slideLayout336.xml.rels" ContentType="application/vnd.openxmlformats-package.relationships+xml"/>
  <Override PartName="/ppt/slideLayouts/_rels/slideLayout836.xml.rels" ContentType="application/vnd.openxmlformats-package.relationships+xml"/>
  <Override PartName="/ppt/slideLayouts/_rels/slideLayout440.xml.rels" ContentType="application/vnd.openxmlformats-package.relationships+xml"/>
  <Override PartName="/ppt/slideLayouts/_rels/slideLayout288.xml.rels" ContentType="application/vnd.openxmlformats-package.relationships+xml"/>
  <Override PartName="/ppt/slideLayouts/_rels/slideLayout494.xml.rels" ContentType="application/vnd.openxmlformats-package.relationships+xml"/>
  <Override PartName="/ppt/slideLayouts/_rels/slideLayout788.xml.rels" ContentType="application/vnd.openxmlformats-package.relationships+xml"/>
  <Override PartName="/ppt/slideLayouts/_rels/slideLayout936.xml.rels" ContentType="application/vnd.openxmlformats-package.relationships+xml"/>
  <Override PartName="/ppt/slideLayouts/_rels/slideLayout994.xml.rels" ContentType="application/vnd.openxmlformats-package.relationships+xml"/>
  <Override PartName="/ppt/slideLayouts/_rels/slideLayout293.xml.rels" ContentType="application/vnd.openxmlformats-package.relationships+xml"/>
  <Override PartName="/ppt/slideLayouts/_rels/slideLayout1067.xml.rels" ContentType="application/vnd.openxmlformats-package.relationships+xml"/>
  <Override PartName="/ppt/slideLayouts/_rels/slideLayout235.xml.rels" ContentType="application/vnd.openxmlformats-package.relationships+xml"/>
  <Override PartName="/ppt/slideLayouts/_rels/slideLayout735.xml.rels" ContentType="application/vnd.openxmlformats-package.relationships+xml"/>
  <Override PartName="/ppt/slideLayouts/_rels/slideLayout793.xml.rels" ContentType="application/vnd.openxmlformats-package.relationships+xml"/>
  <Override PartName="/ppt/slideLayouts/_rels/slideLayout26.xml.rels" ContentType="application/vnd.openxmlformats-package.relationships+xml"/>
  <Override PartName="/ppt/slideLayouts/_rels/slideLayout389.xml.rels" ContentType="application/vnd.openxmlformats-package.relationships+xml"/>
  <Override PartName="/ppt/slideLayouts/_rels/slideLayout889.xml.rels" ContentType="application/vnd.openxmlformats-package.relationships+xml"/>
  <Override PartName="/ppt/slideLayouts/_rels/slideLayout1141.xml.rels" ContentType="application/vnd.openxmlformats-package.relationships+xml"/>
  <Override PartName="/ppt/slideLayouts/_rels/slideLayout300.xml.rels" ContentType="application/vnd.openxmlformats-package.relationships+xml"/>
  <Override PartName="/ppt/slideLayouts/_rels/slideLayout1132.xml.rels" ContentType="application/vnd.openxmlformats-package.relationships+xml"/>
  <Override PartName="/ppt/slideLayouts/_rels/slideLayout58.xml.rels" ContentType="application/vnd.openxmlformats-package.relationships+xml"/>
  <Override PartName="/ppt/slideLayouts/_rels/slideLayout437.xml.rels" ContentType="application/vnd.openxmlformats-package.relationships+xml"/>
  <Override PartName="/ppt/slideLayouts/_rels/slideLayout495.xml.rels" ContentType="application/vnd.openxmlformats-package.relationships+xml"/>
  <Override PartName="/ppt/slideLayouts/_rels/slideLayout789.xml.rels" ContentType="application/vnd.openxmlformats-package.relationships+xml"/>
  <Override PartName="/ppt/slideLayouts/_rels/slideLayout937.xml.rels" ContentType="application/vnd.openxmlformats-package.relationships+xml"/>
  <Override PartName="/ppt/slideLayouts/_rels/slideLayout995.xml.rels" ContentType="application/vnd.openxmlformats-package.relationships+xml"/>
  <Override PartName="/ppt/slideLayouts/_rels/slideLayout1142.xml.rels" ContentType="application/vnd.openxmlformats-package.relationships+xml"/>
  <Override PartName="/ppt/slideLayouts/_rels/slideLayout301.xml.rels" ContentType="application/vnd.openxmlformats-package.relationships+xml"/>
  <Override PartName="/ppt/slideLayouts/_rels/slideLayout1133.xml.rels" ContentType="application/vnd.openxmlformats-package.relationships+xml"/>
  <Override PartName="/ppt/slideLayouts/_rels/slideLayout323.xml.rels" ContentType="application/vnd.openxmlformats-package.relationships+xml"/>
  <Override PartName="/ppt/slideLayouts/_rels/slideLayout675.xml.rels" ContentType="application/vnd.openxmlformats-package.relationships+xml"/>
  <Override PartName="/ppt/slideLayouts/_rels/slideLayout117.xml.rels" ContentType="application/vnd.openxmlformats-package.relationships+xml"/>
  <Override PartName="/ppt/slideLayouts/_rels/slideLayout245.xml.rels" ContentType="application/vnd.openxmlformats-package.relationships+xml"/>
  <Override PartName="/ppt/slideLayouts/_rels/slideLayout617.xml.rels" ContentType="application/vnd.openxmlformats-package.relationships+xml"/>
  <Override PartName="/ppt/slideLayouts/_rels/slideLayout823.xml.rels" ContentType="application/vnd.openxmlformats-package.relationships+xml"/>
  <Override PartName="/ppt/slideLayouts/_rels/slideLayout297.xml.rels" ContentType="application/vnd.openxmlformats-package.relationships+xml"/>
  <Override PartName="/ppt/slideLayouts/_rels/slideLayout797.xml.rels" ContentType="application/vnd.openxmlformats-package.relationships+xml"/>
  <Override PartName="/ppt/slideLayouts/_rels/slideLayout64.xml.rels" ContentType="application/vnd.openxmlformats-package.relationships+xml"/>
  <Override PartName="/ppt/slideLayouts/_rels/slideLayout59.xml.rels" ContentType="application/vnd.openxmlformats-package.relationships+xml"/>
  <Override PartName="/ppt/slideLayouts/_rels/slideLayout45.xml.rels" ContentType="application/vnd.openxmlformats-package.relationships+xml"/>
  <Override PartName="/ppt/slideLayouts/_rels/slideLayout1131.xml.rels" ContentType="application/vnd.openxmlformats-package.relationships+xml"/>
  <Override PartName="/ppt/slideLayouts/_rels/slideLayout57.xml.rels" ContentType="application/vnd.openxmlformats-package.relationships+xml"/>
  <Override PartName="/ppt/slideLayouts/_rels/slideLayout36.xml.rels" ContentType="application/vnd.openxmlformats-package.relationships+xml"/>
  <Override PartName="/ppt/slideLayouts/_rels/slideLayout399.xml.rels" ContentType="application/vnd.openxmlformats-package.relationships+xml"/>
  <Override PartName="/ppt/slideLayouts/_rels/slideLayout899.xml.rels" ContentType="application/vnd.openxmlformats-package.relationships+xml"/>
  <Override PartName="/ppt/slideLayouts/_rels/slideLayout768.xml.rels" ContentType="application/vnd.openxmlformats-package.relationships+xml"/>
  <Override PartName="/ppt/slideLayouts/_rels/slideLayout33.xml.rels" ContentType="application/vnd.openxmlformats-package.relationships+xml"/>
  <Override PartName="/ppt/slideLayouts/_rels/slideLayout91.xml.rels" ContentType="application/vnd.openxmlformats-package.relationships+xml"/>
  <Override PartName="/ppt/slideLayouts/_rels/slideLayout1140.xml.rels" ContentType="application/vnd.openxmlformats-package.relationships+xml"/>
  <Override PartName="/ppt/slideLayouts/_rels/slideLayout1118.xml.rels" ContentType="application/vnd.openxmlformats-package.relationships+xml"/>
  <Override PartName="/ppt/slideLayouts/_rels/slideLayout451.xml.rels" ContentType="application/vnd.openxmlformats-package.relationships+xml"/>
  <Override PartName="/ppt/slideLayouts/_rels/slideLayout951.xml.rels" ContentType="application/vnd.openxmlformats-package.relationships+xml"/>
  <Override PartName="/ppt/slideLayouts/_rels/slideLayout199.xml.rels" ContentType="application/vnd.openxmlformats-package.relationships+xml"/>
  <Override PartName="/ppt/slideLayouts/_rels/slideLayout847.xml.rels" ContentType="application/vnd.openxmlformats-package.relationships+xml"/>
  <Override PartName="/ppt/slideLayouts/_rels/slideLayout699.xml.rels" ContentType="application/vnd.openxmlformats-package.relationships+xml"/>
  <Override PartName="/ppt/slideLayouts/_rels/slideLayout380.xml.rels" ContentType="application/vnd.openxmlformats-package.relationships+xml"/>
  <Override PartName="/ppt/slideLayouts/_rels/slideLayout472.xml.rels" ContentType="application/vnd.openxmlformats-package.relationships+xml"/>
  <Override PartName="/ppt/slideLayouts/_rels/slideLayout414.xml.rels" ContentType="application/vnd.openxmlformats-package.relationships+xml"/>
  <Override PartName="/ppt/slideLayouts/_rels/slideLayout620.xml.rels" ContentType="application/vnd.openxmlformats-package.relationships+xml"/>
  <Override PartName="/ppt/slideLayouts/_rels/slideLayout914.xml.rels" ContentType="application/vnd.openxmlformats-package.relationships+xml"/>
  <Override PartName="/ppt/slideLayouts/_rels/slideLayout120.xml.rels" ContentType="application/vnd.openxmlformats-package.relationships+xml"/>
  <Override PartName="/ppt/slideLayouts/_rels/slideLayout972.xml.rels" ContentType="application/vnd.openxmlformats-package.relationships+xml"/>
  <Override PartName="/ppt/slideLayouts/_rels/slideLayout299.xml.rels" ContentType="application/vnd.openxmlformats-package.relationships+xml"/>
  <Override PartName="/ppt/slideLayouts/_rels/slideLayout799.xml.rels" ContentType="application/vnd.openxmlformats-package.relationships+xml"/>
  <Override PartName="/ppt/slideLayouts/_rels/slideLayout825.xml.rels" ContentType="application/vnd.openxmlformats-package.relationships+xml"/>
  <Override PartName="/ppt/slideLayouts/_rels/slideLayout1150.xml.rels" ContentType="application/vnd.openxmlformats-package.relationships+xml"/>
  <Override PartName="/ppt/slideLayouts/_rels/slideLayout881.xml.rels" ContentType="application/vnd.openxmlformats-package.relationships+xml"/>
  <Override PartName="/ppt/slideLayouts/_rels/slideLayout381.xml.rels" ContentType="application/vnd.openxmlformats-package.relationships+xml"/>
  <Override PartName="/ppt/slideLayouts/_rels/slideLayout1147.xml.rels" ContentType="application/vnd.openxmlformats-package.relationships+xml"/>
  <Override PartName="/ppt/slideLayouts/_rels/slideLayout1151.xml.rels" ContentType="application/vnd.openxmlformats-package.relationships+xml"/>
  <Override PartName="/ppt/slideLayouts/_rels/slideLayout357.xml.rels" ContentType="application/vnd.openxmlformats-package.relationships+xml"/>
  <Override PartName="/ppt/slideLayouts/_rels/slideLayout14.xml.rels" ContentType="application/vnd.openxmlformats-package.relationships+xml"/>
  <Override PartName="/ppt/slideLayouts/_rels/slideLayout471.xml.rels" ContentType="application/vnd.openxmlformats-package.relationships+xml"/>
  <Override PartName="/ppt/slideLayouts/_rels/slideLayout413.xml.rels" ContentType="application/vnd.openxmlformats-package.relationships+xml"/>
  <Override PartName="/ppt/slideLayouts/_rels/slideLayout913.xml.rels" ContentType="application/vnd.openxmlformats-package.relationships+xml"/>
  <Override PartName="/ppt/slideLayouts/_rels/slideLayout971.xml.rels" ContentType="application/vnd.openxmlformats-package.relationships+xml"/>
  <Override PartName="/ppt/slideLayouts/_rels/slideLayout1154.xml.rels" ContentType="application/vnd.openxmlformats-package.relationships+xml"/>
  <Override PartName="/ppt/slideLayouts/_rels/slideLayout1153.xml.rels" ContentType="application/vnd.openxmlformats-package.relationships+xml"/>
  <Override PartName="/ppt/slideLayouts/_rels/slideLayout63.xml.rels" ContentType="application/vnd.openxmlformats-package.relationships+xml"/>
  <Override PartName="/ppt/slideLayouts/_rels/slideLayout396.xml.rels" ContentType="application/vnd.openxmlformats-package.relationships+xml"/>
  <Override PartName="/ppt/slideLayouts/_rels/slideLayout53.xml.rels" ContentType="application/vnd.openxmlformats-package.relationships+xml"/>
  <Override PartName="/ppt/slideLayouts/_rels/slideLayout667.xml.rels" ContentType="application/vnd.openxmlformats-package.relationships+xml"/>
  <Override PartName="/ppt/slideLayouts/_rels/slideLayout295.xml.rels" ContentType="application/vnd.openxmlformats-package.relationships+xml"/>
  <Override PartName="/ppt/slideLayouts/_rels/slideLayout1155.xml.rels" ContentType="application/vnd.openxmlformats-package.relationships+xml"/>
  <Override PartName="/ppt/slideLayouts/_rels/slideLayout62.xml.rels" ContentType="application/vnd.openxmlformats-package.relationships+xml"/>
  <Override PartName="/ppt/slideLayouts/_rels/slideLayout320.xml.rels" ContentType="application/vnd.openxmlformats-package.relationships+xml"/>
  <Override PartName="/ppt/slideLayouts/_rels/slideLayout1152.xml.rels" ContentType="application/vnd.openxmlformats-package.relationships+xml"/>
  <Override PartName="/ppt/slideLayouts/_rels/slideLayout258.xml.rels" ContentType="application/vnd.openxmlformats-package.relationships+xml"/>
  <Override PartName="/ppt/slideLayouts/_rels/slideLayout758.xml.rels" ContentType="application/vnd.openxmlformats-package.relationships+xml"/>
  <Override PartName="/ppt/slideLayouts/_rels/slideLayout1123.xml.rels" ContentType="application/vnd.openxmlformats-package.relationships+xml"/>
  <Override PartName="/ppt/slideLayouts/_rels/slideLayout1120.xml.rels" ContentType="application/vnd.openxmlformats-package.relationships+xml"/>
  <Override PartName="/ppt/slideLayouts/_rels/slideLayout1115.xml.rels" ContentType="application/vnd.openxmlformats-package.relationships+xml"/>
  <Override PartName="/ppt/slideLayouts/_rels/slideLayout344.xml.rels" ContentType="application/vnd.openxmlformats-package.relationships+xml"/>
  <Override PartName="/ppt/slideLayouts/_rels/slideLayout844.xml.rels" ContentType="application/vnd.openxmlformats-package.relationships+xml"/>
  <Override PartName="/ppt/slideLayouts/_rels/slideLayout421.xml.rels" ContentType="application/vnd.openxmlformats-package.relationships+xml"/>
  <Override PartName="/ppt/slideLayouts/_rels/slideLayout921.xml.rels" ContentType="application/vnd.openxmlformats-package.relationships+xml"/>
  <Override PartName="/ppt/slideLayouts/_rels/slideLayout427.xml.rels" ContentType="application/vnd.openxmlformats-package.relationships+xml"/>
  <Override PartName="/ppt/slideLayouts/_rels/slideLayout485.xml.rels" ContentType="application/vnd.openxmlformats-package.relationships+xml"/>
  <Override PartName="/ppt/slideLayouts/_rels/slideLayout633.xml.rels" ContentType="application/vnd.openxmlformats-package.relationships+xml"/>
  <Override PartName="/ppt/slideLayouts/_rels/slideLayout133.xml.rels" ContentType="application/vnd.openxmlformats-package.relationships+xml"/>
  <Override PartName="/ppt/slideLayouts/_rels/slideLayout985.xml.rels" ContentType="application/vnd.openxmlformats-package.relationships+xml"/>
  <Override PartName="/ppt/slideLayouts/_rels/slideLayout432.xml.rels" ContentType="application/vnd.openxmlformats-package.relationships+xml"/>
  <Override PartName="/ppt/slideLayouts/_rels/slideLayout932.xml.rels" ContentType="application/vnd.openxmlformats-package.relationships+xml"/>
  <Override PartName="/ppt/slideLayouts/_rels/slideLayout402.xml.rels" ContentType="application/vnd.openxmlformats-package.relationships+xml"/>
  <Override PartName="/ppt/slideLayouts/_rels/slideLayout530.xml.rels" ContentType="application/vnd.openxmlformats-package.relationships+xml"/>
  <Override PartName="/ppt/slideLayouts/_rels/slideLayout902.xml.rels" ContentType="application/vnd.openxmlformats-package.relationships+xml"/>
  <Override PartName="/ppt/slideLayouts/_rels/slideLayout649.xml.rels" ContentType="application/vnd.openxmlformats-package.relationships+xml"/>
  <Override PartName="/ppt/slideLayouts/_rels/slideLayout277.xml.rels" ContentType="application/vnd.openxmlformats-package.relationships+xml"/>
  <Override PartName="/ppt/slideLayouts/_rels/slideLayout777.xml.rels" ContentType="application/vnd.openxmlformats-package.relationships+xml"/>
  <Override PartName="/ppt/slideLayouts/_rels/slideLayout1106.xml.rels" ContentType="application/vnd.openxmlformats-package.relationships+xml"/>
  <Override PartName="/ppt/slideLayouts/_rels/slideLayout426.xml.rels" ContentType="application/vnd.openxmlformats-package.relationships+xml"/>
  <Override PartName="/ppt/slideLayouts/_rels/slideLayout484.xml.rels" ContentType="application/vnd.openxmlformats-package.relationships+xml"/>
  <Override PartName="/ppt/slideLayouts/_rels/slideLayout632.xml.rels" ContentType="application/vnd.openxmlformats-package.relationships+xml"/>
  <Override PartName="/ppt/slideLayouts/_rels/slideLayout926.xml.rels" ContentType="application/vnd.openxmlformats-package.relationships+xml"/>
  <Override PartName="/ppt/slideLayouts/_rels/slideLayout984.xml.rels" ContentType="application/vnd.openxmlformats-package.relationships+xml"/>
  <Override PartName="/ppt/slideLayouts/_rels/slideLayout431.xml.rels" ContentType="application/vnd.openxmlformats-package.relationships+xml"/>
  <Override PartName="/ppt/slideLayouts/_rels/slideLayout353.xml.rels" ContentType="application/vnd.openxmlformats-package.relationships+xml"/>
  <Override PartName="/ppt/slideLayouts/_rels/slideLayout725.xml.rels" ContentType="application/vnd.openxmlformats-package.relationships+xml"/>
  <Override PartName="/ppt/slideLayouts/_rels/slideLayout931.xml.rels" ContentType="application/vnd.openxmlformats-package.relationships+xml"/>
  <Override PartName="/ppt/slideLayouts/_rels/slideLayout225.xml.rels" ContentType="application/vnd.openxmlformats-package.relationships+xml"/>
  <Override PartName="/ppt/slideLayouts/_rels/slideLayout1057.xml.rels" ContentType="application/vnd.openxmlformats-package.relationships+xml"/>
  <Override PartName="/ppt/slideLayouts/_rels/slideLayout405.xml.rels" ContentType="application/vnd.openxmlformats-package.relationships+xml"/>
  <Override PartName="/ppt/slideLayouts/_rels/slideLayout385.xml.rels" ContentType="application/vnd.openxmlformats-package.relationships+xml"/>
  <Override PartName="/ppt/slideLayouts/_rels/slideLayout22.xml.rels" ContentType="application/vnd.openxmlformats-package.relationships+xml"/>
  <Override PartName="/ppt/slideLayouts/_rels/slideLayout757.xml.rels" ContentType="application/vnd.openxmlformats-package.relationships+xml"/>
  <Override PartName="/ppt/slideLayouts/_rels/slideLayout905.xml.rels" ContentType="application/vnd.openxmlformats-package.relationships+xml"/>
  <Override PartName="/ppt/slideLayouts/_rels/slideLayout379.xml.rels" ContentType="application/vnd.openxmlformats-package.relationships+xml"/>
  <Override PartName="/ppt/slideLayouts/_rels/slideLayout879.xml.rels" ContentType="application/vnd.openxmlformats-package.relationships+xml"/>
  <Override PartName="/ppt/slideLayouts/_rels/slideLayout1105.xml.rels" ContentType="application/vnd.openxmlformats-package.relationships+xml"/>
  <Override PartName="/ppt/slideLayouts/_rels/slideLayout1119.xml.rels" ContentType="application/vnd.openxmlformats-package.relationships+xml"/>
  <Override PartName="/ppt/slideLayouts/_rels/slideLayout452.xml.rels" ContentType="application/vnd.openxmlformats-package.relationships+xml"/>
  <Override PartName="/ppt/slideLayouts/_rels/slideLayout600.xml.rels" ContentType="application/vnd.openxmlformats-package.relationships+xml"/>
  <Override PartName="/ppt/slideLayouts/_rels/slideLayout100.xml.rels" ContentType="application/vnd.openxmlformats-package.relationships+xml"/>
  <Override PartName="/ppt/slideLayouts/_rels/slideLayout952.xml.rels" ContentType="application/vnd.openxmlformats-package.relationships+xml"/>
  <Override PartName="/ppt/slideLayouts/_rels/slideLayout580.xml.rels" ContentType="application/vnd.openxmlformats-package.relationships+xml"/>
  <Override PartName="/ppt/slideLayouts/_rels/slideLayout348.xml.rels" ContentType="application/vnd.openxmlformats-package.relationships+xml"/>
  <Override PartName="/ppt/slideLayouts/_rels/slideLayout848.xml.rels" ContentType="application/vnd.openxmlformats-package.relationships+xml"/>
  <Override PartName="/ppt/slideLayouts/_rels/slideLayout545.xml.rels" ContentType="application/vnd.openxmlformats-package.relationships+xml"/>
  <Override PartName="/ppt/slideLayouts/_rels/slideLayout751.xml.rels" ContentType="application/vnd.openxmlformats-package.relationships+xml"/>
  <Override PartName="/ppt/slideLayouts/_rels/slideLayout1111.xml.rels" ContentType="application/vnd.openxmlformats-package.relationships+xml"/>
  <Override PartName="/ppt/slideLayouts/_rels/slideLayout1146.xml.rels" ContentType="application/vnd.openxmlformats-package.relationships+xml"/>
  <Override PartName="/ppt/slideLayouts/_rels/slideLayout314.xml.rels" ContentType="application/vnd.openxmlformats-package.relationships+xml"/>
  <Override PartName="/ppt/slideLayouts/_rels/slideLayout442.xml.rels" ContentType="application/vnd.openxmlformats-package.relationships+xml"/>
  <Override PartName="/ppt/slideLayouts/_rels/slideLayout814.xml.rels" ContentType="application/vnd.openxmlformats-package.relationships+xml"/>
  <Override PartName="/ppt/slideLayouts/_rels/slideLayout1117.xml.rels" ContentType="application/vnd.openxmlformats-package.relationships+xml"/>
  <Override PartName="/ppt/slideLayouts/_rels/slideLayout1122.xml.rels" ContentType="application/vnd.openxmlformats-package.relationships+xml"/>
  <Override PartName="/ppt/slideLayouts/_rels/slideLayout1144.xml.rels" ContentType="application/vnd.openxmlformats-package.relationships+xml"/>
  <Override PartName="/ppt/slideLayouts/_rels/slideLayout312.xml.rels" ContentType="application/vnd.openxmlformats-package.relationships+xml"/>
  <Override PartName="/ppt/slideLayouts/_rels/slideLayout812.xml.rels" ContentType="application/vnd.openxmlformats-package.relationships+xml"/>
  <Override PartName="/ppt/slideLayouts/_rels/slideLayout493.xml.rels" ContentType="application/vnd.openxmlformats-package.relationships+xml"/>
  <Override PartName="/ppt/slideLayouts/_rels/slideLayout865.xml.rels" ContentType="application/vnd.openxmlformats-package.relationships+xml"/>
  <Override PartName="/ppt/slideLayouts/_rels/slideLayout435.xml.rels" ContentType="application/vnd.openxmlformats-package.relationships+xml"/>
  <Override PartName="/ppt/slideLayouts/_rels/slideLayout807.xml.rels" ContentType="application/vnd.openxmlformats-package.relationships+xml"/>
  <Override PartName="/ppt/slideLayouts/_rels/slideLayout513.xml.rels" ContentType="application/vnd.openxmlformats-package.relationships+xml"/>
  <Override PartName="/ppt/slideLayouts/_rels/slideLayout1003.xml.rels" ContentType="application/vnd.openxmlformats-package.relationships+xml"/>
  <Override PartName="/ppt/slideLayouts/_rels/slideLayout890.xml.rels" ContentType="application/vnd.openxmlformats-package.relationships+xml"/>
  <Override PartName="/ppt/slideLayouts/_rels/slideLayout762.xml.rels" ContentType="application/vnd.openxmlformats-package.relationships+xml"/>
  <Override PartName="/ppt/slideLayouts/_rels/slideLayout390.xml.rels" ContentType="application/vnd.openxmlformats-package.relationships+xml"/>
  <Override PartName="/ppt/slideLayouts/_rels/slideLayout324.xml.rels" ContentType="application/vnd.openxmlformats-package.relationships+xml"/>
  <Override PartName="/ppt/slideLayouts/_rels/slideLayout1156.xml.rels" ContentType="application/vnd.openxmlformats-package.relationships+xml"/>
  <Override PartName="/ppt/slideLayouts/_rels/slideLayout406.xml.rels" ContentType="application/vnd.openxmlformats-package.relationships+xml"/>
  <Override PartName="/ppt/slideLayouts/_rels/slideLayout906.xml.rels" ContentType="application/vnd.openxmlformats-package.relationships+xml"/>
  <Override PartName="/ppt/slideLayouts/_rels/slideLayout509.xml.rels" ContentType="application/vnd.openxmlformats-package.relationships+xml"/>
  <Override PartName="/ppt/slideLayouts/_rels/slideLayout215.xml.rels" ContentType="application/vnd.openxmlformats-package.relationships+xml"/>
  <Override PartName="/ppt/slideLayouts/_rels/slideLayout195.xml.rels" ContentType="application/vnd.openxmlformats-package.relationships+xml"/>
  <Override PartName="/ppt/slideLayouts/_rels/slideLayout567.xml.rels" ContentType="application/vnd.openxmlformats-package.relationships+xml"/>
  <Override PartName="/ppt/slideLayouts/_rels/slideLayout715.xml.rels" ContentType="application/vnd.openxmlformats-package.relationships+xml"/>
  <Override PartName="/ppt/slideLayouts/_rels/slideLayout488.xml.rels" ContentType="application/vnd.openxmlformats-package.relationships+xml"/>
  <Override PartName="/ppt/slideLayouts/_rels/slideLayout988.xml.rels" ContentType="application/vnd.openxmlformats-package.relationships+xml"/>
  <Override PartName="/ppt/slideLayouts/_rels/slideLayout694.xml.rels" ContentType="application/vnd.openxmlformats-package.relationships+xml"/>
  <Override PartName="/ppt/slideLayouts/_rels/slideLayout566.xml.rels" ContentType="application/vnd.openxmlformats-package.relationships+xml"/>
  <Override PartName="/ppt/slideLayouts/_rels/slideLayout194.xml.rels" ContentType="application/vnd.openxmlformats-package.relationships+xml"/>
  <Override PartName="/ppt/slideLayouts/_rels/slideLayout1116.xml.rels" ContentType="application/vnd.openxmlformats-package.relationships+xml"/>
  <Override PartName="/ppt/slideLayouts/_rels/slideLayout1121.xml.rels" ContentType="application/vnd.openxmlformats-package.relationships+xml"/>
  <Override PartName="/ppt/slideLayouts/_rels/slideLayout350.xml.rels" ContentType="application/vnd.openxmlformats-package.relationships+xml"/>
  <Override PartName="/ppt/slideLayouts/_rels/slideLayout1.xml.rels" ContentType="application/vnd.openxmlformats-package.relationships+xml"/>
  <Override PartName="/ppt/slideLayouts/_rels/slideLayout850.xml.rels" ContentType="application/vnd.openxmlformats-package.relationships+xml"/>
  <Override PartName="/ppt/slideLayouts/_rels/slideLayout1143.xml.rels" ContentType="application/vnd.openxmlformats-package.relationships+xml"/>
  <Override PartName="/ppt/slideLayouts/_rels/slideLayout311.xml.rels" ContentType="application/vnd.openxmlformats-package.relationships+xml"/>
  <Override PartName="/ppt/slideLayouts/_rels/slideLayout233.xml.rels" ContentType="application/vnd.openxmlformats-package.relationships+xml"/>
  <Override PartName="/ppt/slideLayouts/_rels/slideLayout605.xml.rels" ContentType="application/vnd.openxmlformats-package.relationships+xml"/>
  <Override PartName="/ppt/slideLayouts/_rels/slideLayout811.xml.rels" ContentType="application/vnd.openxmlformats-package.relationships+xml"/>
  <Override PartName="/ppt/slideLayouts/_rels/slideLayout105.xml.rels" ContentType="application/vnd.openxmlformats-package.relationships+xml"/>
  <Override PartName="/ppt/slideLayouts/_rels/slideLayout475.xml.rels" ContentType="application/vnd.openxmlformats-package.relationships+xml"/>
  <Override PartName="/ppt/slideLayouts/_rels/slideLayout553.xml.rels" ContentType="application/vnd.openxmlformats-package.relationships+xml"/>
  <Override PartName="/ppt/slideLayouts/_rels/slideLayout181.xml.rels" ContentType="application/vnd.openxmlformats-package.relationships+xml"/>
  <Override PartName="/ppt/slideLayouts/_rels/slideLayout975.xml.rels" ContentType="application/vnd.openxmlformats-package.relationships+xml"/>
  <Override PartName="/ppt/slideLayouts/_rels/slideLayout87.xml.rels" ContentType="application/vnd.openxmlformats-package.relationships+xml"/>
  <Override PartName="/ppt/slideLayouts/_rels/slideLayout864.xml.rels" ContentType="application/vnd.openxmlformats-package.relationships+xml"/>
  <Override PartName="/ppt/slideLayouts/_rels/slideLayout492.xml.rels" ContentType="application/vnd.openxmlformats-package.relationships+xml"/>
  <Override PartName="/ppt/slideLayouts/_rels/slideLayout286.xml.rels" ContentType="application/vnd.openxmlformats-package.relationships+xml"/>
  <Override PartName="/ppt/slideLayouts/_rels/slideLayout786.xml.rels" ContentType="application/vnd.openxmlformats-package.relationships+xml"/>
  <Override PartName="/ppt/slideLayouts/_rels/slideLayout992.xml.rels" ContentType="application/vnd.openxmlformats-package.relationships+xml"/>
  <Override PartName="/ppt/slideLayouts/_rels/slideLayout487.xml.rels" ContentType="application/vnd.openxmlformats-package.relationships+xml"/>
  <Override PartName="/ppt/slideLayouts/_rels/slideLayout987.xml.rels" ContentType="application/vnd.openxmlformats-package.relationships+xml"/>
  <Override PartName="/ppt/slideLayouts/_rels/slideLayout409.xml.rels" ContentType="application/vnd.openxmlformats-package.relationships+xml"/>
  <Override PartName="/ppt/slideLayouts/_rels/slideLayout537.xml.rels" ContentType="application/vnd.openxmlformats-package.relationships+xml"/>
  <Override PartName="/ppt/slideLayouts/_rels/slideLayout909.xml.rels" ContentType="application/vnd.openxmlformats-package.relationships+xml"/>
  <Override PartName="/ppt/slideLayouts/_rels/slideLayout1110.xml.rels" ContentType="application/vnd.openxmlformats-package.relationships+xml"/>
  <Override PartName="/ppt/slideLayouts/_rels/slideLayout1145.xml.rels" ContentType="application/vnd.openxmlformats-package.relationships+xml"/>
  <Override PartName="/ppt/slideLayouts/_rels/slideLayout313.xml.rels" ContentType="application/vnd.openxmlformats-package.relationships+xml"/>
  <Override PartName="/ppt/slideLayouts/_rels/slideLayout441.xml.rels" ContentType="application/vnd.openxmlformats-package.relationships+xml"/>
  <Override PartName="/ppt/slideLayouts/_rels/slideLayout813.xml.rels" ContentType="application/vnd.openxmlformats-package.relationships+xml"/>
  <Override PartName="/ppt/slideLayouts/_rels/slideLayout308.xml.rels" ContentType="application/vnd.openxmlformats-package.relationships+xml"/>
  <Override PartName="/ppt/slideLayouts/_rels/slideLayout436.xml.rels" ContentType="application/vnd.openxmlformats-package.relationships+xml"/>
  <Override PartName="/ppt/slideLayouts/_rels/slideLayout808.xml.rels" ContentType="application/vnd.openxmlformats-package.relationships+xml"/>
  <Override PartName="/ppt/slideLayouts/_rels/slideLayout514.xml.rels" ContentType="application/vnd.openxmlformats-package.relationships+xml"/>
  <Override PartName="/ppt/slideLayouts/_rels/slideLayout76.xml.rels" ContentType="application/vnd.openxmlformats-package.relationships+xml"/>
  <Override PartName="/ppt/slideLayouts/_rels/slideLayout1015.xml.rels" ContentType="application/vnd.openxmlformats-package.relationships+xml"/>
  <Override PartName="/ppt/slideLayouts/_rels/slideLayout491.xml.rels" ContentType="application/vnd.openxmlformats-package.relationships+xml"/>
  <Override PartName="/ppt/slideLayouts/_rels/slideLayout991.xml.rels" ContentType="application/vnd.openxmlformats-package.relationships+xml"/>
  <Override PartName="/ppt/slideLayouts/_rels/slideLayout408.xml.rels" ContentType="application/vnd.openxmlformats-package.relationships+xml"/>
  <Override PartName="/ppt/slideLayouts/_rels/slideLayout908.xml.rels" ContentType="application/vnd.openxmlformats-package.relationships+xml"/>
  <Override PartName="/ppt/slideLayouts/_rels/slideLayout1108.xml.rels" ContentType="application/vnd.openxmlformats-package.relationships+xml"/>
  <Override PartName="/ppt/slideLayouts/_rels/slideLayout891.xml.rels" ContentType="application/vnd.openxmlformats-package.relationships+xml"/>
  <Override PartName="/ppt/slideLayouts/_rels/slideLayout763.xml.rels" ContentType="application/vnd.openxmlformats-package.relationships+xml"/>
  <Override PartName="/ppt/slideLayouts/_rels/slideLayout391.xml.rels" ContentType="application/vnd.openxmlformats-package.relationships+xml"/>
  <Override PartName="/ppt/slideLayouts/_rels/slideLayout325.xml.rels" ContentType="application/vnd.openxmlformats-package.relationships+xml"/>
  <Override PartName="/ppt/slideLayouts/_rels/slideLayout1157.xml.rels" ContentType="application/vnd.openxmlformats-package.relationships+xml"/>
  <Override PartName="/ppt/slideLayouts/_rels/slideLayout490.xml.rels" ContentType="application/vnd.openxmlformats-package.relationships+xml"/>
  <Override PartName="/ppt/slideLayouts/_rels/slideLayout407.xml.rels" ContentType="application/vnd.openxmlformats-package.relationships+xml"/>
  <Override PartName="/ppt/slideLayouts/_rels/slideLayout907.xml.rels" ContentType="application/vnd.openxmlformats-package.relationships+xml"/>
  <Override PartName="/ppt/slideLayouts/_rels/slideLayout1000.xml.rels" ContentType="application/vnd.openxmlformats-package.relationships+xml"/>
  <Override PartName="/ppt/slideLayouts/_rels/slideLayout132.xml.rels" ContentType="application/vnd.openxmlformats-package.relationships+xml"/>
  <Override PartName="/ppt/slideLayouts/_rels/slideLayout504.xml.rels" ContentType="application/vnd.openxmlformats-package.relationships+xml"/>
  <Override PartName="/ppt/slideLayouts/_rels/slideLayout483.xml.rels" ContentType="application/vnd.openxmlformats-package.relationships+xml"/>
  <Override PartName="/ppt/slideLayouts/_rels/slideLayout425.xml.rels" ContentType="application/vnd.openxmlformats-package.relationships+xml"/>
  <Override PartName="/ppt/slideLayouts/_rels/slideLayout631.xml.rels" ContentType="application/vnd.openxmlformats-package.relationships+xml"/>
  <Override PartName="/ppt/slideLayouts/_rels/slideLayout925.xml.rels" ContentType="application/vnd.openxmlformats-package.relationships+xml"/>
  <Override PartName="/ppt/slideLayouts/_rels/slideLayout983.xml.rels" ContentType="application/vnd.openxmlformats-package.relationships+xml"/>
  <Override PartName="/ppt/slideLayouts/_rels/slideLayout1107.xml.rels" ContentType="application/vnd.openxmlformats-package.relationships+xml"/>
  <Override PartName="/ppt/slideLayouts/_rels/slideLayout1101.xml.rels" ContentType="application/vnd.openxmlformats-package.relationships+xml"/>
  <Override PartName="/ppt/slideLayouts/_rels/slideLayout846.xml.rels" ContentType="application/vnd.openxmlformats-package.relationships+xml"/>
  <Override PartName="/ppt/slideLayouts/_rels/slideLayout474.xml.rels" ContentType="application/vnd.openxmlformats-package.relationships+xml"/>
  <Override PartName="/ppt/slideLayouts/_rels/slideLayout974.xml.rels" ContentType="application/vnd.openxmlformats-package.relationships+xml"/>
  <Override PartName="/ppt/slideLayouts/_rels/slideLayout1022.xml.rels" ContentType="application/vnd.openxmlformats-package.relationships+xml"/>
  <Override PartName="/ppt/slideLayouts/_rels/slideLayout68.xml.rels" ContentType="application/vnd.openxmlformats-package.relationships+xml"/>
  <Override PartName="/ppt/slideLayouts/_rels/slideLayout1020.xml.rels" ContentType="application/vnd.openxmlformats-package.relationships+xml"/>
  <Override PartName="/ppt/slideLayouts/_rels/slideLayout1024.xml.rels" ContentType="application/vnd.openxmlformats-package.relationships+xml"/>
  <Override PartName="/ppt/slideLayouts/_rels/slideLayout539.xml.rels" ContentType="application/vnd.openxmlformats-package.relationships+xml"/>
  <Override PartName="/ppt/slideLayouts/_rels/slideLayout1023.xml.rels" ContentType="application/vnd.openxmlformats-package.relationships+xml"/>
  <Override PartName="/ppt/slideLayouts/_rels/slideLayout538.xml.rels" ContentType="application/vnd.openxmlformats-package.relationships+xml"/>
  <Override PartName="/ppt/slideLayouts/_rels/slideLayout858.xml.rels" ContentType="application/vnd.openxmlformats-package.relationships+xml"/>
  <Override PartName="/ppt/slideLayouts/_rels/slideLayout486.xml.rels" ContentType="application/vnd.openxmlformats-package.relationships+xml"/>
  <Override PartName="/ppt/slideLayouts/_rels/slideLayout986.xml.rels" ContentType="application/vnd.openxmlformats-package.relationships+xml"/>
  <Override PartName="/ppt/slideLayouts/_rels/slideLayout507.xml.rels" ContentType="application/vnd.openxmlformats-package.relationships+xml"/>
  <Override PartName="/ppt/slideLayouts/_rels/slideLayout565.xml.rels" ContentType="application/vnd.openxmlformats-package.relationships+xml"/>
  <Override PartName="/ppt/slideLayouts/_rels/slideLayout69.xml.rels" ContentType="application/vnd.openxmlformats-package.relationships+xml"/>
  <Override PartName="/ppt/slideLayouts/_rels/slideLayout1021.xml.rels" ContentType="application/vnd.openxmlformats-package.relationships+xml"/>
  <Override PartName="/ppt/slideLayouts/_rels/slideLayout403.xml.rels" ContentType="application/vnd.openxmlformats-package.relationships+xml"/>
  <Override PartName="/ppt/slideLayouts/_rels/slideLayout531.xml.rels" ContentType="application/vnd.openxmlformats-package.relationships+xml"/>
  <Override PartName="/ppt/slideLayouts/_rels/slideLayout903.xml.rels" ContentType="application/vnd.openxmlformats-package.relationships+xml"/>
  <Override PartName="/ppt/slideLayouts/_rels/slideLayout278.xml.rels" ContentType="application/vnd.openxmlformats-package.relationships+xml"/>
  <Override PartName="/ppt/slideLayouts/_rels/slideLayout778.xml.rels" ContentType="application/vnd.openxmlformats-package.relationships+xml"/>
  <Override PartName="/ppt/slideLayouts/_rels/slideLayout367.xml.rels" ContentType="application/vnd.openxmlformats-package.relationships+xml"/>
  <Override PartName="/ppt/slideLayouts/_rels/slideLayout867.xml.rels" ContentType="application/vnd.openxmlformats-package.relationships+xml"/>
  <Override PartName="/ppt/slideLayouts/_rels/slideLayout737.xml.rels" ContentType="application/vnd.openxmlformats-package.relationships+xml"/>
  <Override PartName="/ppt/slideLayouts/_rels/slideLayout365.xml.rels" ContentType="application/vnd.openxmlformats-package.relationships+xml"/>
  <Override PartName="/ppt/slideLayouts/_rels/slideLayout1014.xml.rels" ContentType="application/vnd.openxmlformats-package.relationships+xml"/>
  <Override PartName="/ppt/slideLayouts/_rels/slideLayout1013.xml.rels" ContentType="application/vnd.openxmlformats-package.relationships+xml"/>
  <Override PartName="/ppt/slideLayouts/_rels/slideLayout1012.xml.rels" ContentType="application/vnd.openxmlformats-package.relationships+xml"/>
  <Override PartName="/ppt/slideLayouts/_rels/slideLayout527.xml.rels" ContentType="application/vnd.openxmlformats-package.relationships+xml"/>
  <Override PartName="/ppt/slideLayouts/_rels/slideLayout1011.xml.rels" ContentType="application/vnd.openxmlformats-package.relationships+xml"/>
  <Override PartName="/ppt/slideLayouts/_rels/slideLayout526.xml.rels" ContentType="application/vnd.openxmlformats-package.relationships+xml"/>
  <Override PartName="/ppt/slideLayouts/_rels/slideLayout726.xml.rels" ContentType="application/vnd.openxmlformats-package.relationships+xml"/>
  <Override PartName="/ppt/slideLayouts/_rels/slideLayout354.xml.rels" ContentType="application/vnd.openxmlformats-package.relationships+xml"/>
  <Override PartName="/ppt/slideLayouts/_rels/slideLayout854.xml.rels" ContentType="application/vnd.openxmlformats-package.relationships+xml"/>
  <Override PartName="/ppt/slideLayouts/_rels/slideLayout519.xml.rels" ContentType="application/vnd.openxmlformats-package.relationships+xml"/>
  <Override PartName="/ppt/slideLayouts/_rels/slideLayout577.xml.rels" ContentType="application/vnd.openxmlformats-package.relationships+xml"/>
  <Override PartName="/ppt/slideLayouts/_rels/slideLayout518.xml.rels" ContentType="application/vnd.openxmlformats-package.relationships+xml"/>
  <Override PartName="/ppt/slideLayouts/_rels/slideLayout576.xml.rels" ContentType="application/vnd.openxmlformats-package.relationships+xml"/>
  <Override PartName="/ppt/slideLayouts/_rels/slideLayout1002.xml.rels" ContentType="application/vnd.openxmlformats-package.relationships+xml"/>
  <Override PartName="/ppt/slideLayouts/_rels/slideLayout145.xml.rels" ContentType="application/vnd.openxmlformats-package.relationships+xml"/>
  <Override PartName="/ppt/slideLayouts/_rels/slideLayout517.xml.rels" ContentType="application/vnd.openxmlformats-package.relationships+xml"/>
  <Override PartName="/ppt/slideLayouts/_rels/slideLayout583.xml.rels" ContentType="application/vnd.openxmlformats-package.relationships+xml"/>
  <Override PartName="/ppt/slideLayouts/_rels/slideLayout479.xml.rels" ContentType="application/vnd.openxmlformats-package.relationships+xml"/>
  <Override PartName="/ppt/slideLayouts/_rels/slideLayout1001.xml.rels" ContentType="application/vnd.openxmlformats-package.relationships+xml"/>
  <Override PartName="/ppt/slideLayouts/_rels/slideLayout144.xml.rels" ContentType="application/vnd.openxmlformats-package.relationships+xml"/>
  <Override PartName="/ppt/slideLayouts/_rels/slideLayout516.xml.rels" ContentType="application/vnd.openxmlformats-package.relationships+xml"/>
  <Override PartName="/ppt/slideLayouts/_rels/slideLayout160.xml.rels" ContentType="application/vnd.openxmlformats-package.relationships+xml"/>
  <Override PartName="/ppt/slideLayouts/_rels/slideLayout602.xml.rels" ContentType="application/vnd.openxmlformats-package.relationships+xml"/>
  <Override PartName="/ppt/slideLayouts/_rels/slideLayout660.xml.rels" ContentType="application/vnd.openxmlformats-package.relationships+xml"/>
  <Override PartName="/ppt/slideLayouts/_rels/slideLayout102.xml.rels" ContentType="application/vnd.openxmlformats-package.relationships+xml"/>
  <Override PartName="/ppt/slideLayouts/_rels/slideLayout650.xml.rels" ContentType="application/vnd.openxmlformats-package.relationships+xml"/>
  <Override PartName="/ppt/slideLayouts/_rels/slideLayout1149.xml.rels" ContentType="application/vnd.openxmlformats-package.relationships+xml"/>
  <Override PartName="/ppt/slideLayouts/_rels/slideLayout289.xml.rels" ContentType="application/vnd.openxmlformats-package.relationships+xml"/>
  <Override PartName="/ppt/slideLayouts/_rels/slideLayout990.xml.rels" ContentType="application/vnd.openxmlformats-package.relationships+xml"/>
  <Override PartName="/ppt/slideLayouts/_rels/slideLayout279.xml.rels" ContentType="application/vnd.openxmlformats-package.relationships+xml"/>
  <Override PartName="/ppt/slideLayouts/_rels/slideLayout779.xml.rels" ContentType="application/vnd.openxmlformats-package.relationships+xml"/>
  <Override PartName="/ppt/slideLayouts/_rels/slideLayout1093.xml.rels" ContentType="application/vnd.openxmlformats-package.relationships+xml"/>
  <Override PartName="/ppt/slideLayouts/_rels/slideLayout261.xml.rels" ContentType="application/vnd.openxmlformats-package.relationships+xml"/>
  <Override PartName="/ppt/slideLayouts/_rels/slideLayout761.xml.rels" ContentType="application/vnd.openxmlformats-package.relationships+xml"/>
  <Override PartName="/ppt/slideLayouts/_rels/slideLayout1148.xml.rels" ContentType="application/vnd.openxmlformats-package.relationships+xml"/>
  <Override PartName="/ppt/slideLayouts/_rels/slideLayout309.xml.rels" ContentType="application/vnd.openxmlformats-package.relationships+xml"/>
  <Override PartName="/ppt/slideLayouts/_rels/slideLayout809.xml.rels" ContentType="application/vnd.openxmlformats-package.relationships+xml"/>
  <Override PartName="/ppt/slideLayouts/_rels/slideLayout1016.xml.rels" ContentType="application/vnd.openxmlformats-package.relationships+xml"/>
  <Override PartName="/ppt/slideLayouts/_rels/slideLayout760.xml.rels" ContentType="application/vnd.openxmlformats-package.relationships+xml"/>
  <Override PartName="/ppt/slideLayouts/_rels/slideLayout327.xml.rels" ContentType="application/vnd.openxmlformats-package.relationships+xml"/>
  <Override PartName="/ppt/slideLayouts/_rels/slideLayout1159.xml.rels" ContentType="application/vnd.openxmlformats-package.relationships+xml"/>
  <Override PartName="/ppt/slideLayouts/_rels/slideLayout326.xml.rels" ContentType="application/vnd.openxmlformats-package.relationships+xml"/>
  <Override PartName="/ppt/slideLayouts/_rels/slideLayout1158.xml.rels" ContentType="application/vnd.openxmlformats-package.relationships+xml"/>
  <Override PartName="/ppt/slideLayouts/_rels/slideLayout161.xml.rels" ContentType="application/vnd.openxmlformats-package.relationships+xml"/>
  <Override PartName="/ppt/slideLayouts/_rels/slideLayout603.xml.rels" ContentType="application/vnd.openxmlformats-package.relationships+xml"/>
  <Override PartName="/ppt/slideLayouts/_rels/slideLayout661.xml.rels" ContentType="application/vnd.openxmlformats-package.relationships+xml"/>
  <Override PartName="/ppt/slideLayouts/_rels/slideLayout103.xml.rels" ContentType="application/vnd.openxmlformats-package.relationships+xml"/>
  <Override PartName="/ppt/slideLayouts/_rels/slideLayout285.xml.rels" ContentType="application/vnd.openxmlformats-package.relationships+xml"/>
  <Override PartName="/ppt/slideLayouts/_rels/slideLayout785.xml.rels" ContentType="application/vnd.openxmlformats-package.relationships+xml"/>
  <Override PartName="/ppt/slideLayouts/_rels/slideLayout1162.xml.rels" ContentType="application/vnd.openxmlformats-package.relationships+xml"/>
  <Override PartName="/ppt/slideLayouts/_rels/slideLayout330.xml.rels" ContentType="application/vnd.openxmlformats-package.relationships+xml"/>
  <Override PartName="/ppt/slideLayouts/_rels/slideLayout119.xml.rels" ContentType="application/vnd.openxmlformats-package.relationships+xml"/>
  <Override PartName="/ppt/slideLayouts/_rels/slideLayout830.xml.rels" ContentType="application/vnd.openxmlformats-package.relationships+xml"/>
  <Override PartName="/ppt/slideLayouts/_rels/slideLayout136.xml.rels" ContentType="application/vnd.openxmlformats-package.relationships+xml"/>
  <Override PartName="/ppt/slideLayouts/_rels/slideLayout264.xml.rels" ContentType="application/vnd.openxmlformats-package.relationships+xml"/>
  <Override PartName="/ppt/slideLayouts/_rels/slideLayout636.xml.rels" ContentType="application/vnd.openxmlformats-package.relationships+xml"/>
  <Override PartName="/ppt/slideLayouts/_rels/slideLayout1163.xml.rels" ContentType="application/vnd.openxmlformats-package.relationships+xml"/>
  <Override PartName="/ppt/slideLayouts/_rels/slideLayout331.xml.rels" ContentType="application/vnd.openxmlformats-package.relationships+xml"/>
  <Override PartName="/ppt/slideLayouts/_rels/slideLayout831.xml.rels" ContentType="application/vnd.openxmlformats-package.relationships+xml"/>
  <Override PartName="/ppt/slideLayouts/_rels/slideLayout137.xml.rels" ContentType="application/vnd.openxmlformats-package.relationships+xml"/>
  <Override PartName="/ppt/slideLayouts/_rels/slideLayout265.xml.rels" ContentType="application/vnd.openxmlformats-package.relationships+xml"/>
  <Override PartName="/ppt/slideLayouts/_rels/slideLayout637.xml.rels" ContentType="application/vnd.openxmlformats-package.relationships+xml"/>
  <Override PartName="/ppt/slideLayouts/_rels/slideLayout528.xml.rels" ContentType="application/vnd.openxmlformats-package.relationships+xml"/>
  <Override PartName="/ppt/slideLayouts/_rels/slideLayout156.xml.rels" ContentType="application/vnd.openxmlformats-package.relationships+xml"/>
  <Override PartName="/ppt/slideLayouts/_rels/slideLayout1164.xml.rels" ContentType="application/vnd.openxmlformats-package.relationships+xml"/>
  <Override PartName="/ppt/slideLayouts/_rels/slideLayout332.xml.rels" ContentType="application/vnd.openxmlformats-package.relationships+xml"/>
  <Override PartName="/ppt/slideLayouts/_rels/slideLayout460.xml.rels" ContentType="application/vnd.openxmlformats-package.relationships+xml"/>
  <Override PartName="/ppt/slideLayouts/_rels/slideLayout832.xml.rels" ContentType="application/vnd.openxmlformats-package.relationships+xml"/>
  <Override PartName="/ppt/slideLayouts/_rels/slideLayout529.xml.rels" ContentType="application/vnd.openxmlformats-package.relationships+xml"/>
  <Override PartName="/ppt/slideLayouts/_rels/slideLayout157.xml.rels" ContentType="application/vnd.openxmlformats-package.relationships+xml"/>
  <Override PartName="/ppt/slideLayouts/_rels/slideLayout657.xml.rels" ContentType="application/vnd.openxmlformats-package.relationships+xml"/>
  <Override PartName="/ppt/slideLayouts/_rels/slideLayout333.xml.rels" ContentType="application/vnd.openxmlformats-package.relationships+xml"/>
  <Override PartName="/ppt/slideLayouts/_rels/slideLayout39.xml.rels" ContentType="application/vnd.openxmlformats-package.relationships+xml"/>
  <Override PartName="/ppt/slideLayouts/_rels/slideLayout461.xml.rels" ContentType="application/vnd.openxmlformats-package.relationships+xml"/>
  <Override PartName="/ppt/slideLayouts/_rels/slideLayout833.xml.rels" ContentType="application/vnd.openxmlformats-package.relationships+xml"/>
  <Override PartName="/ppt/slideLayouts/_rels/slideLayout668.xml.rels" ContentType="application/vnd.openxmlformats-package.relationships+xml"/>
  <Override PartName="/ppt/slideLayouts/_rels/slideLayout296.xml.rels" ContentType="application/vnd.openxmlformats-package.relationships+xml"/>
  <Override PartName="/ppt/slideLayouts/_rels/slideLayout796.xml.rels" ContentType="application/vnd.openxmlformats-package.relationships+xml"/>
  <Override PartName="/ppt/slideLayouts/_rels/slideLayout1025.xml.rels" ContentType="application/vnd.openxmlformats-package.relationships+xml"/>
  <Override PartName="/ppt/slideLayouts/_rels/slideLayout1026.xml.rels" ContentType="application/vnd.openxmlformats-package.relationships+xml"/>
  <Override PartName="/ppt/slideLayouts/_rels/slideLayout535.xml.rels" ContentType="application/vnd.openxmlformats-package.relationships+xml"/>
  <Override PartName="/ppt/slideLayouts/_rels/slideLayout163.xml.rels" ContentType="application/vnd.openxmlformats-package.relationships+xml"/>
  <Override PartName="/ppt/slideLayouts/_rels/slideLayout663.xml.rels" ContentType="application/vnd.openxmlformats-package.relationships+xml"/>
  <Override PartName="/ppt/slideLayouts/_rels/slideLayout536.xml.rels" ContentType="application/vnd.openxmlformats-package.relationships+xml"/>
  <Override PartName="/ppt/slideLayouts/_rels/slideLayout164.xml.rels" ContentType="application/vnd.openxmlformats-package.relationships+xml"/>
  <Override PartName="/ppt/slideLayouts/_rels/slideLayout664.xml.rels" ContentType="application/vnd.openxmlformats-package.relationships+xml"/>
  <Override PartName="/ppt/slideLayouts/_rels/slideLayout165.xml.rels" ContentType="application/vnd.openxmlformats-package.relationships+xml"/>
  <Override PartName="/ppt/slideLayouts/_rels/slideLayout665.xml.rels" ContentType="application/vnd.openxmlformats-package.relationships+xml"/>
  <Override PartName="/ppt/slideLayouts/_rels/slideLayout743.xml.rels" ContentType="application/vnd.openxmlformats-package.relationships+xml"/>
  <Override PartName="/ppt/slideLayouts/_rels/slideLayout371.xml.rels" ContentType="application/vnd.openxmlformats-package.relationships+xml"/>
  <Override PartName="/ppt/slideLayouts/_rels/slideLayout1090.xml.rels" ContentType="application/vnd.openxmlformats-package.relationships+xml"/>
  <Override PartName="/ppt/slideLayouts/_rels/slideLayout200.xml.rels" ContentType="application/vnd.openxmlformats-package.relationships+xml"/>
  <Override PartName="/ppt/slideLayouts/_rels/slideLayout1032.xml.rels" ContentType="application/vnd.openxmlformats-package.relationships+xml"/>
  <Override PartName="/ppt/slideLayouts/_rels/slideLayout1091.xml.rels" ContentType="application/vnd.openxmlformats-package.relationships+xml"/>
  <Override PartName="/ppt/slideLayouts/_rels/slideLayout1033.xml.rels" ContentType="application/vnd.openxmlformats-package.relationships+xml"/>
  <Override PartName="/ppt/slideLayouts/_rels/slideLayout880.xml.rels" ContentType="application/vnd.openxmlformats-package.relationships+xml"/>
  <Override PartName="/ppt/slideLayouts/_rels/slideLayout169.xml.rels" ContentType="application/vnd.openxmlformats-package.relationships+xml"/>
  <Override PartName="/ppt/slideLayouts/_rels/slideLayout669.xml.rels" ContentType="application/vnd.openxmlformats-package.relationships+xml"/>
  <Override PartName="/ppt/slideLayouts/_rels/slideLayout260.xml.rels" ContentType="application/vnd.openxmlformats-package.relationships+xml"/>
  <Override PartName="/ppt/slideLayouts/_rels/slideLayout1092.xml.rels" ContentType="application/vnd.openxmlformats-package.relationships+xml"/>
  <Override PartName="/ppt/slideLayouts/_rels/slideLayout188.xml.rels" ContentType="application/vnd.openxmlformats-package.relationships+xml"/>
  <Override PartName="/ppt/slideLayouts/_rels/slideLayout688.xml.rels" ContentType="application/vnd.openxmlformats-package.relationships+xml"/>
  <Override PartName="/ppt/slideLayouts/_rels/slideLayout189.xml.rels" ContentType="application/vnd.openxmlformats-package.relationships+xml"/>
  <Override PartName="/ppt/slideLayouts/_rels/slideLayout689.xml.rels" ContentType="application/vnd.openxmlformats-package.relationships+xml"/>
  <Override PartName="/ppt/slideLayouts/_rels/slideLayout198.xml.rels" ContentType="application/vnd.openxmlformats-package.relationships+xml"/>
  <Override PartName="/ppt/slideLayouts/_rels/slideLayout698.xml.rels" ContentType="application/vnd.openxmlformats-package.relationships+xml"/>
  <Override PartName="/ppt/slideLayouts/_rels/slideLayout131.xml.rels" ContentType="application/vnd.openxmlformats-package.relationships+xml"/>
  <Override PartName="/ppt/slideLayouts/_rels/slideLayout503.xml.rels" ContentType="application/vnd.openxmlformats-package.relationships+xml"/>
  <Override PartName="/ppt/slideLayouts/_rels/slideLayout705.xml.rels" ContentType="application/vnd.openxmlformats-package.relationships+xml"/>
  <Override PartName="/ppt/slideLayouts/_rels/slideLayout90.xml.rels" ContentType="application/vnd.openxmlformats-package.relationships+xml"/>
  <Override PartName="/ppt/slideLayouts/_rels/slideLayout1039.xml.rels" ContentType="application/vnd.openxmlformats-package.relationships+xml"/>
  <Override PartName="/ppt/slideLayouts/_rels/slideLayout334.xml.rels" ContentType="application/vnd.openxmlformats-package.relationships+xml"/>
  <Override PartName="/ppt/slideLayouts/_rels/slideLayout706.xml.rels" ContentType="application/vnd.openxmlformats-package.relationships+xml"/>
  <Override PartName="/ppt/slideLayouts/_rels/slideLayout716.xml.rels" ContentType="application/vnd.openxmlformats-package.relationships+xml"/>
  <Override PartName="/ppt/slideLayouts/_rels/slideLayout1049.xml.rels" ContentType="application/vnd.openxmlformats-package.relationships+xml"/>
  <Override PartName="/ppt/slideLayouts/_rels/slideLayout217.xml.rels" ContentType="application/vnd.openxmlformats-package.relationships+xml"/>
  <Override PartName="/ppt/slideLayouts/_rels/slideLayout717.xml.rels" ContentType="application/vnd.openxmlformats-package.relationships+xml"/>
  <Override PartName="/ppt/slideLayouts/_rels/slideLayout218.xml.rels" ContentType="application/vnd.openxmlformats-package.relationships+xml"/>
  <Override PartName="/ppt/slideLayouts/_rels/slideLayout718.xml.rels" ContentType="application/vnd.openxmlformats-package.relationships+xml"/>
  <Override PartName="/ppt/slideLayouts/_rels/slideLayout219.xml.rels" ContentType="application/vnd.openxmlformats-package.relationships+xml"/>
  <Override PartName="/ppt/slideLayouts/_rels/slideLayout347.xml.rels" ContentType="application/vnd.openxmlformats-package.relationships+xml"/>
  <Override PartName="/ppt/slideLayouts/_rels/slideLayout719.xml.rels" ContentType="application/vnd.openxmlformats-package.relationships+xml"/>
  <Override PartName="/ppt/slideLayouts/_rels/slideLayout226.xml.rels" ContentType="application/vnd.openxmlformats-package.relationships+xml"/>
  <Override PartName="/ppt/slideLayouts/_rels/slideLayout578.xml.rels" ContentType="application/vnd.openxmlformats-package.relationships+xml"/>
  <Override PartName="/ppt/slideLayouts/_rels/slideLayout227.xml.rels" ContentType="application/vnd.openxmlformats-package.relationships+xml"/>
  <Override PartName="/ppt/slideLayouts/_rels/slideLayout579.xml.rels" ContentType="application/vnd.openxmlformats-package.relationships+xml"/>
  <Override PartName="/ppt/slideLayouts/_rels/slideLayout727.xml.rels" ContentType="application/vnd.openxmlformats-package.relationships+xml"/>
  <Override PartName="/ppt/slideLayouts/_rels/slideLayout228.xml.rels" ContentType="application/vnd.openxmlformats-package.relationships+xml"/>
  <Override PartName="/ppt/slideLayouts/_rels/slideLayout728.xml.rels" ContentType="application/vnd.openxmlformats-package.relationships+xml"/>
  <Override PartName="/ppt/slideLayouts/_rels/slideLayout940.xml.rels" ContentType="application/vnd.openxmlformats-package.relationships+xml"/>
  <Override PartName="/ppt/slideLayouts/_rels/slideLayout229.xml.rels" ContentType="application/vnd.openxmlformats-package.relationships+xml"/>
  <Override PartName="/ppt/slideLayouts/_rels/slideLayout729.xml.rels" ContentType="application/vnd.openxmlformats-package.relationships+xml"/>
  <Override PartName="/ppt/slideLayouts/_rels/slideLayout950.xml.rels" ContentType="application/vnd.openxmlformats-package.relationships+xml"/>
  <Override PartName="/ppt/slideLayouts/_rels/slideLayout239.xml.rels" ContentType="application/vnd.openxmlformats-package.relationships+xml"/>
  <Override PartName="/ppt/slideLayouts/_rels/slideLayout739.xml.rels" ContentType="application/vnd.openxmlformats-package.relationships+xml"/>
  <Override PartName="/ppt/slideLayouts/_rels/slideLayout419.xml.rels" ContentType="application/vnd.openxmlformats-package.relationships+xml"/>
  <Override PartName="/ppt/slideLayouts/_rels/slideLayout919.xml.rels" ContentType="application/vnd.openxmlformats-package.relationships+xml"/>
  <Override PartName="/ppt/slideLayouts/_rels/slideLayout595.xml.rels" ContentType="application/vnd.openxmlformats-package.relationships+xml"/>
  <Override PartName="/ppt/slideLayouts/_rels/slideLayout50.xml.rels" ContentType="application/vnd.openxmlformats-package.relationships+xml"/>
  <Override PartName="/ppt/slideLayouts/_rels/slideLayout7.xml.rels" ContentType="application/vnd.openxmlformats-package.relationships+xml"/>
  <Override PartName="/ppt/slideLayouts/_rels/slideLayout253.xml.rels" ContentType="application/vnd.openxmlformats-package.relationships+xml"/>
  <Override PartName="/ppt/slideLayouts/_rels/slideLayout753.xml.rels" ContentType="application/vnd.openxmlformats-package.relationships+xml"/>
  <Override PartName="/ppt/slideLayouts/_rels/slideLayout547.xml.rels" ContentType="application/vnd.openxmlformats-package.relationships+xml"/>
  <Override PartName="/ppt/slideLayouts/_rels/slideLayout175.xml.rels" ContentType="application/vnd.openxmlformats-package.relationships+xml"/>
  <Override PartName="/ppt/slideLayouts/_rels/slideLayout596.xml.rels" ContentType="application/vnd.openxmlformats-package.relationships+xml"/>
  <Override PartName="/ppt/slideLayouts/_rels/slideLayout51.xml.rels" ContentType="application/vnd.openxmlformats-package.relationships+xml"/>
  <Override PartName="/ppt/slideLayouts/_rels/slideLayout8.xml.rels" ContentType="application/vnd.openxmlformats-package.relationships+xml"/>
  <Override PartName="/ppt/slideLayouts/_rels/slideLayout1086.xml.rels" ContentType="application/vnd.openxmlformats-package.relationships+xml"/>
  <Override PartName="/ppt/slideLayouts/_rels/slideLayout254.xml.rels" ContentType="application/vnd.openxmlformats-package.relationships+xml"/>
  <Override PartName="/ppt/slideLayouts/_rels/slideLayout176.xml.rels" ContentType="application/vnd.openxmlformats-package.relationships+xml"/>
  <Override PartName="/ppt/slideLayouts/_rels/slideLayout548.xml.rels" ContentType="application/vnd.openxmlformats-package.relationships+xml"/>
  <Override PartName="/ppt/slideLayouts/_rels/slideLayout754.xml.rels" ContentType="application/vnd.openxmlformats-package.relationships+xml"/>
  <Override PartName="/ppt/slideLayouts/_rels/slideLayout9.xml.rels" ContentType="application/vnd.openxmlformats-package.relationships+xml"/>
  <Override PartName="/ppt/slideLayouts/_rels/slideLayout1087.xml.rels" ContentType="application/vnd.openxmlformats-package.relationships+xml"/>
  <Override PartName="/ppt/slideLayouts/_rels/slideLayout255.xml.rels" ContentType="application/vnd.openxmlformats-package.relationships+xml"/>
  <Override PartName="/ppt/slideLayouts/_rels/slideLayout20.xml.rels" ContentType="application/vnd.openxmlformats-package.relationships+xml"/>
  <Override PartName="/ppt/slideLayouts/_rels/slideLayout755.xml.rels" ContentType="application/vnd.openxmlformats-package.relationships+xml"/>
  <Override PartName="/ppt/slideLayouts/_rels/slideLayout549.xml.rels" ContentType="application/vnd.openxmlformats-package.relationships+xml"/>
  <Override PartName="/ppt/slideLayouts/_rels/slideLayout927.xml.rels" ContentType="application/vnd.openxmlformats-package.relationships+xml"/>
  <Override PartName="/ppt/slideLayouts/_rels/slideLayout555.xml.rels" ContentType="application/vnd.openxmlformats-package.relationships+xml"/>
  <Override PartName="/ppt/slideLayouts/_rels/slideLayout928.xml.rels" ContentType="application/vnd.openxmlformats-package.relationships+xml"/>
  <Override PartName="/ppt/slideLayouts/_rels/slideLayout556.xml.rels" ContentType="application/vnd.openxmlformats-package.relationships+xml"/>
  <Override PartName="/ppt/slideLayouts/_rels/slideLayout557.xml.rels" ContentType="application/vnd.openxmlformats-package.relationships+xml"/>
  <Override PartName="/ppt/slideLayouts/_rels/slideLayout257.xml.rels" ContentType="application/vnd.openxmlformats-package.relationships+xml"/>
  <Override PartName="/ppt/slideLayouts/_rels/slideLayout1089.xml.rels" ContentType="application/vnd.openxmlformats-package.relationships+xml"/>
  <Override PartName="/ppt/slideLayouts/_rels/slideLayout568.xml.rels" ContentType="application/vnd.openxmlformats-package.relationships+xml"/>
  <Override PartName="/ppt/slideLayouts/_rels/slideLayout569.xml.rels" ContentType="application/vnd.openxmlformats-package.relationships+xml"/>
  <Override PartName="/ppt/slideLayouts/_rels/slideLayout1098.xml.rels" ContentType="application/vnd.openxmlformats-package.relationships+xml"/>
  <Override PartName="/ppt/slideLayouts/_rels/slideLayout589.xml.rels" ContentType="application/vnd.openxmlformats-package.relationships+xml"/>
  <Override PartName="/ppt/slideLayouts/_rels/slideLayout1124.xml.rels" ContentType="application/vnd.openxmlformats-package.relationships+xml"/>
  <Override PartName="/ppt/slideLayouts/_rels/slideLayout1125.xml.rels" ContentType="application/vnd.openxmlformats-package.relationships+xml"/>
  <Override PartName="/ppt/slideLayouts/_rels/slideLayout1126.xml.rels" ContentType="application/vnd.openxmlformats-package.relationships+xml"/>
  <Override PartName="/ppt/slideLayouts/_rels/slideLayout1127.xml.rels" ContentType="application/vnd.openxmlformats-package.relationships+xml"/>
  <Override PartName="/ppt/slideLayouts/_rels/slideLayout1128.xml.rels" ContentType="application/vnd.openxmlformats-package.relationships+xml"/>
  <Override PartName="/ppt/slideLayouts/_rels/slideLayout1129.xml.rels" ContentType="application/vnd.openxmlformats-package.relationships+xml"/>
  <Override PartName="/ppt/slideLayouts/_rels/slideLayout1134.xml.rels" ContentType="application/vnd.openxmlformats-package.relationships+xml"/>
  <Override PartName="/ppt/slideLayouts/_rels/slideLayout98.xml.rels" ContentType="application/vnd.openxmlformats-package.relationships+xml"/>
  <Override PartName="/ppt/slideLayouts/_rels/slideLayout610.xml.rels" ContentType="application/vnd.openxmlformats-package.relationships+xml"/>
  <Override PartName="/ppt/slideLayouts/_rels/slideLayout110.xml.rels" ContentType="application/vnd.openxmlformats-package.relationships+xml"/>
  <Override PartName="/ppt/slideLayouts/_rels/slideLayout1135.xml.rels" ContentType="application/vnd.openxmlformats-package.relationships+xml"/>
  <Override PartName="/ppt/slideLayouts/_rels/slideLayout99.xml.rels" ContentType="application/vnd.openxmlformats-package.relationships+xml"/>
  <Override PartName="/ppt/slideLayouts/_rels/slideLayout611.xml.rels" ContentType="application/vnd.openxmlformats-package.relationships+xml"/>
  <Override PartName="/ppt/slideLayouts/_rels/slideLayout111.xml.rels" ContentType="application/vnd.openxmlformats-package.relationships+xml"/>
  <Override PartName="/ppt/slideLayouts/_rels/slideLayout1136.xml.rels" ContentType="application/vnd.openxmlformats-package.relationships+xml"/>
  <Override PartName="/ppt/slideLayouts/_rels/slideLayout305.xml.rels" ContentType="application/vnd.openxmlformats-package.relationships+xml"/>
  <Override PartName="/ppt/slideLayouts/_rels/slideLayout1137.xml.rels" ContentType="application/vnd.openxmlformats-package.relationships+xml"/>
  <Override PartName="/ppt/slideLayouts/_rels/slideLayout306.xml.rels" ContentType="application/vnd.openxmlformats-package.relationships+xml"/>
  <Override PartName="/ppt/slideLayouts/_rels/slideLayout1138.xml.rels" ContentType="application/vnd.openxmlformats-package.relationships+xml"/>
  <Override PartName="/ppt/slideLayouts/_rels/slideLayout307.xml.rels" ContentType="application/vnd.openxmlformats-package.relationships+xml"/>
  <Override PartName="/ppt/slideLayouts/_rels/slideLayout1139.xml.rels" ContentType="application/vnd.openxmlformats-package.relationships+xml"/>
  <Override PartName="/ppt/slideLayouts/_rels/slideLayout622.xml.rels" ContentType="application/vnd.openxmlformats-package.relationships+xml"/>
  <Override PartName="/ppt/slideLayouts/_rels/slideLayout544.xml.rels" ContentType="application/vnd.openxmlformats-package.relationships+xml"/>
  <Override PartName="/ppt/slideLayouts/_rels/slideLayout916.xml.rels" ContentType="application/vnd.openxmlformats-package.relationships+xml"/>
  <Override PartName="/ppt/slideLayouts/_rels/slideLayout122.xml.rels" ContentType="application/vnd.openxmlformats-package.relationships+xml"/>
  <Override PartName="/ppt/slideLayouts/_rels/slideLayout251.xml.rels" ContentType="application/vnd.openxmlformats-package.relationships+xml"/>
  <Override PartName="/ppt/slideLayouts/_rels/slideLayout623.xml.rels" ContentType="application/vnd.openxmlformats-package.relationships+xml"/>
  <Override PartName="/ppt/slideLayouts/_rels/slideLayout123.xml.rels" ContentType="application/vnd.openxmlformats-package.relationships+xml"/>
  <Override PartName="/ppt/slideLayouts/_rels/slideLayout252.xml.rels" ContentType="application/vnd.openxmlformats-package.relationships+xml"/>
  <Override PartName="/ppt/slideLayouts/_rels/slideLayout624.xml.rels" ContentType="application/vnd.openxmlformats-package.relationships+xml"/>
  <Override PartName="/ppt/slideLayouts/_rels/slideLayout124.xml.rels" ContentType="application/vnd.openxmlformats-package.relationships+xml"/>
  <Override PartName="/ppt/slideLayouts/_rels/slideLayout18.xml.rels" ContentType="application/vnd.openxmlformats-package.relationships+xml"/>
  <Override PartName="/ppt/slideLayouts/_rels/slideLayout630.xml.rels" ContentType="application/vnd.openxmlformats-package.relationships+xml"/>
  <Override PartName="/ppt/slideLayouts/_rels/slideLayout130.xml.rels" ContentType="application/vnd.openxmlformats-package.relationships+xml"/>
  <Override PartName="/ppt/slideLayouts/_rels/slideLayout19.xml.rels" ContentType="application/vnd.openxmlformats-package.relationships+xml"/>
  <Override PartName="/ppt/slideLayouts/_rels/slideLayout635.xml.rels" ContentType="application/vnd.openxmlformats-package.relationships+xml"/>
  <Override PartName="/ppt/slideLayouts/_rels/slideLayout135.xml.rels" ContentType="application/vnd.openxmlformats-package.relationships+xml"/>
  <Override PartName="/ppt/slideLayouts/_rels/slideLayout28.xml.rels" ContentType="application/vnd.openxmlformats-package.relationships+xml"/>
  <Override PartName="/ppt/slideLayouts/_rels/slideLayout640.xml.rels" ContentType="application/vnd.openxmlformats-package.relationships+xml"/>
  <Override PartName="/ppt/slideLayouts/slideLayout1097.xml" ContentType="application/vnd.openxmlformats-officedocument.presentationml.slideLayout+xml"/>
  <Override PartName="/ppt/slideLayouts/slideLayout573.xml" ContentType="application/vnd.openxmlformats-officedocument.presentationml.slideLayout+xml"/>
  <Override PartName="/ppt/slideLayouts/slideLayout1096.xml" ContentType="application/vnd.openxmlformats-officedocument.presentationml.slideLayout+xml"/>
  <Override PartName="/ppt/slideLayouts/slideLayout572.xml" ContentType="application/vnd.openxmlformats-officedocument.presentationml.slideLayout+xml"/>
  <Override PartName="/ppt/slideLayouts/slideLayout1095.xml" ContentType="application/vnd.openxmlformats-officedocument.presentationml.slideLayout+xml"/>
  <Override PartName="/ppt/slideLayouts/slideLayout571.xml" ContentType="application/vnd.openxmlformats-officedocument.presentationml.slideLayout+xml"/>
  <Override PartName="/ppt/slideLayouts/slideLayout1094.xml" ContentType="application/vnd.openxmlformats-officedocument.presentationml.slideLayout+xml"/>
  <Override PartName="/ppt/slideLayouts/slideLayout570.xml" ContentType="application/vnd.openxmlformats-officedocument.presentationml.slideLayout+xml"/>
  <Override PartName="/ppt/slideLayouts/slideLayout1093.xml" ContentType="application/vnd.openxmlformats-officedocument.presentationml.slideLayout+xml"/>
  <Override PartName="/ppt/slideLayouts/slideLayout1087.xml" ContentType="application/vnd.openxmlformats-officedocument.presentationml.slideLayout+xml"/>
  <Override PartName="/ppt/slideLayouts/slideLayout563.xml" ContentType="application/vnd.openxmlformats-officedocument.presentationml.slideLayout+xml"/>
  <Override PartName="/ppt/slideLayouts/slideLayout1086.xml" ContentType="application/vnd.openxmlformats-officedocument.presentationml.slideLayout+xml"/>
  <Override PartName="/ppt/slideLayouts/slideLayout562.xml" ContentType="application/vnd.openxmlformats-officedocument.presentationml.slideLayout+xml"/>
  <Override PartName="/ppt/slideLayouts/slideLayout1085.xml" ContentType="application/vnd.openxmlformats-officedocument.presentationml.slideLayout+xml"/>
  <Override PartName="/ppt/slideLayouts/slideLayout561.xml" ContentType="application/vnd.openxmlformats-officedocument.presentationml.slideLayout+xml"/>
  <Override PartName="/ppt/slideLayouts/slideLayout1084.xml" ContentType="application/vnd.openxmlformats-officedocument.presentationml.slideLayout+xml"/>
  <Override PartName="/ppt/slideLayouts/slideLayout560.xml" ContentType="application/vnd.openxmlformats-officedocument.presentationml.slideLayout+xml"/>
  <Override PartName="/ppt/slideLayouts/slideLayout1083.xml" ContentType="application/vnd.openxmlformats-officedocument.presentationml.slideLayout+xml"/>
  <Override PartName="/ppt/slideLayouts/slideLayout1082.xml" ContentType="application/vnd.openxmlformats-officedocument.presentationml.slideLayout+xml"/>
  <Override PartName="/ppt/slideLayouts/slideLayout1081.xml" ContentType="application/vnd.openxmlformats-officedocument.presentationml.slideLayout+xml"/>
  <Override PartName="/ppt/slideLayouts/slideLayout1080.xml" ContentType="application/vnd.openxmlformats-officedocument.presentationml.slideLayout+xml"/>
  <Override PartName="/ppt/slideLayouts/slideLayout1077.xml" ContentType="application/vnd.openxmlformats-officedocument.presentationml.slideLayout+xml"/>
  <Override PartName="/ppt/slideLayouts/slideLayout553.xml" ContentType="application/vnd.openxmlformats-officedocument.presentationml.slideLayout+xml"/>
  <Override PartName="/ppt/slideLayouts/slideLayout1076.xml" ContentType="application/vnd.openxmlformats-officedocument.presentationml.slideLayout+xml"/>
  <Override PartName="/ppt/slideLayouts/slideLayout552.xml" ContentType="application/vnd.openxmlformats-officedocument.presentationml.slideLayout+xml"/>
  <Override PartName="/ppt/slideLayouts/slideLayout1075.xml" ContentType="application/vnd.openxmlformats-officedocument.presentationml.slideLayout+xml"/>
  <Override PartName="/ppt/slideLayouts/slideLayout551.xml" ContentType="application/vnd.openxmlformats-officedocument.presentationml.slideLayout+xml"/>
  <Override PartName="/ppt/slideLayouts/slideLayout1074.xml" ContentType="application/vnd.openxmlformats-officedocument.presentationml.slideLayout+xml"/>
  <Override PartName="/ppt/slideLayouts/slideLayout550.xml" ContentType="application/vnd.openxmlformats-officedocument.presentationml.slideLayout+xml"/>
  <Override PartName="/ppt/slideLayouts/slideLayout1073.xml" ContentType="application/vnd.openxmlformats-officedocument.presentationml.slideLayout+xml"/>
  <Override PartName="/ppt/slideLayouts/slideLayout1072.xml" ContentType="application/vnd.openxmlformats-officedocument.presentationml.slideLayout+xml"/>
  <Override PartName="/ppt/slideLayouts/slideLayout1071.xml" ContentType="application/vnd.openxmlformats-officedocument.presentationml.slideLayout+xml"/>
  <Override PartName="/ppt/slideLayouts/slideLayout1070.xml" ContentType="application/vnd.openxmlformats-officedocument.presentationml.slideLayout+xml"/>
  <Override PartName="/ppt/slideLayouts/slideLayout1067.xml" ContentType="application/vnd.openxmlformats-officedocument.presentationml.slideLayout+xml"/>
  <Override PartName="/ppt/slideLayouts/slideLayout543.xml" ContentType="application/vnd.openxmlformats-officedocument.presentationml.slideLayout+xml"/>
  <Override PartName="/ppt/slideLayouts/slideLayout1066.xml" ContentType="application/vnd.openxmlformats-officedocument.presentationml.slideLayout+xml"/>
  <Override PartName="/ppt/slideLayouts/slideLayout542.xml" ContentType="application/vnd.openxmlformats-officedocument.presentationml.slideLayout+xml"/>
  <Override PartName="/ppt/slideLayouts/slideLayout1065.xml" ContentType="application/vnd.openxmlformats-officedocument.presentationml.slideLayout+xml"/>
  <Override PartName="/ppt/slideLayouts/slideLayout541.xml" ContentType="application/vnd.openxmlformats-officedocument.presentationml.slideLayout+xml"/>
  <Override PartName="/ppt/slideLayouts/slideLayout1064.xml" ContentType="application/vnd.openxmlformats-officedocument.presentationml.slideLayout+xml"/>
  <Override PartName="/ppt/slideLayouts/slideLayout540.xml" ContentType="application/vnd.openxmlformats-officedocument.presentationml.slideLayout+xml"/>
  <Override PartName="/ppt/slideLayouts/slideLayout1063.xml" ContentType="application/vnd.openxmlformats-officedocument.presentationml.slideLayout+xml"/>
  <Override PartName="/ppt/slideLayouts/slideLayout1062.xml" ContentType="application/vnd.openxmlformats-officedocument.presentationml.slideLayout+xml"/>
  <Override PartName="/ppt/slideLayouts/slideLayout1061.xml" ContentType="application/vnd.openxmlformats-officedocument.presentationml.slideLayout+xml"/>
  <Override PartName="/ppt/slideLayouts/slideLayout1060.xml" ContentType="application/vnd.openxmlformats-officedocument.presentationml.slideLayout+xml"/>
  <Override PartName="/ppt/slideLayouts/slideLayout1057.xml" ContentType="application/vnd.openxmlformats-officedocument.presentationml.slideLayout+xml"/>
  <Override PartName="/ppt/slideLayouts/slideLayout533.xml" ContentType="application/vnd.openxmlformats-officedocument.presentationml.slideLayout+xml"/>
  <Override PartName="/ppt/slideLayouts/slideLayout1056.xml" ContentType="application/vnd.openxmlformats-officedocument.presentationml.slideLayout+xml"/>
  <Override PartName="/ppt/slideLayouts/slideLayout532.xml" ContentType="application/vnd.openxmlformats-officedocument.presentationml.slideLayout+xml"/>
  <Override PartName="/ppt/slideLayouts/slideLayout1055.xml" ContentType="application/vnd.openxmlformats-officedocument.presentationml.slideLayout+xml"/>
  <Override PartName="/ppt/slideLayouts/slideLayout531.xml" ContentType="application/vnd.openxmlformats-officedocument.presentationml.slideLayout+xml"/>
  <Override PartName="/ppt/slideLayouts/slideLayout1054.xml" ContentType="application/vnd.openxmlformats-officedocument.presentationml.slideLayout+xml"/>
  <Override PartName="/ppt/slideLayouts/slideLayout530.xml" ContentType="application/vnd.openxmlformats-officedocument.presentationml.slideLayout+xml"/>
  <Override PartName="/ppt/slideLayouts/slideLayout1053.xml" ContentType="application/vnd.openxmlformats-officedocument.presentationml.slideLayout+xml"/>
  <Override PartName="/ppt/slideLayouts/slideLayout1052.xml" ContentType="application/vnd.openxmlformats-officedocument.presentationml.slideLayout+xml"/>
  <Override PartName="/ppt/slideLayouts/slideLayout284.xml" ContentType="application/vnd.openxmlformats-officedocument.presentationml.slideLayout+xml"/>
  <Override PartName="/ppt/slideLayouts/slideLayout322.xml" ContentType="application/vnd.openxmlformats-officedocument.presentationml.slideLayout+xml"/>
  <Override PartName="/ppt/slideLayouts/slideLayout283.xml" ContentType="application/vnd.openxmlformats-officedocument.presentationml.slideLayout+xml"/>
  <Override PartName="/ppt/slideLayouts/slideLayout321.xml" ContentType="application/vnd.openxmlformats-officedocument.presentationml.slideLayout+xml"/>
  <Override PartName="/ppt/slideLayouts/slideLayout449.xml" ContentType="application/vnd.openxmlformats-officedocument.presentationml.slideLayout+xml"/>
  <Override PartName="/ppt/slideLayouts/slideLayout282.xml" ContentType="application/vnd.openxmlformats-officedocument.presentationml.slideLayout+xml"/>
  <Override PartName="/ppt/slideLayouts/slideLayout320.xml" ContentType="application/vnd.openxmlformats-officedocument.presentationml.slideLayout+xml"/>
  <Override PartName="/ppt/slideLayouts/slideLayout448.xml" ContentType="application/vnd.openxmlformats-officedocument.presentationml.slideLayout+xml"/>
  <Override PartName="/ppt/slideLayouts/slideLayout329.xml" ContentType="application/vnd.openxmlformats-officedocument.presentationml.slideLayout+xml"/>
  <Override PartName="/ppt/slideLayouts/slideLayout328.xml" ContentType="application/vnd.openxmlformats-officedocument.presentationml.slideLayout+xml"/>
  <Override PartName="/ppt/slideLayouts/slideLayout444.xml" ContentType="application/vnd.openxmlformats-officedocument.presentationml.slideLayout+xml"/>
  <Override PartName="/ppt/slideLayouts/slideLayout76.xml" ContentType="application/vnd.openxmlformats-officedocument.presentationml.slideLayout+xml"/>
  <Override PartName="/ppt/slideLayouts/slideLayout276.xml" ContentType="application/vnd.openxmlformats-officedocument.presentationml.slideLayout+xml"/>
  <Override PartName="/ppt/slideLayouts/slideLayout314.xml" ContentType="application/vnd.openxmlformats-officedocument.presentationml.slideLayout+xml"/>
  <Override PartName="/ppt/slideLayouts/slideLayout275.xml" ContentType="application/vnd.openxmlformats-officedocument.presentationml.slideLayout+xml"/>
  <Override PartName="/ppt/slideLayouts/slideLayout313.xml" ContentType="application/vnd.openxmlformats-officedocument.presentationml.slideLayout+xml"/>
  <Override PartName="/ppt/slideLayouts/slideLayout274.xml" ContentType="application/vnd.openxmlformats-officedocument.presentationml.slideLayout+xml"/>
  <Override PartName="/ppt/slideLayouts/slideLayout312.xml" ContentType="application/vnd.openxmlformats-officedocument.presentationml.slideLayout+xml"/>
  <Override PartName="/ppt/slideLayouts/slideLayout273.xml" ContentType="application/vnd.openxmlformats-officedocument.presentationml.slideLayout+xml"/>
  <Override PartName="/ppt/slideLayouts/slideLayout311.xml" ContentType="application/vnd.openxmlformats-officedocument.presentationml.slideLayout+xml"/>
  <Override PartName="/ppt/slideLayouts/slideLayout439.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438.xml" ContentType="application/vnd.openxmlformats-officedocument.presentationml.slideLayout+xml"/>
  <Override PartName="/ppt/slideLayouts/slideLayout197.xml" ContentType="application/vnd.openxmlformats-officedocument.presentationml.slideLayout+xml"/>
  <Override PartName="/ppt/slideLayouts/slideLayout266.xml" ContentType="application/vnd.openxmlformats-officedocument.presentationml.slideLayout+xml"/>
  <Override PartName="/ppt/slideLayouts/slideLayout304.xml" ContentType="application/vnd.openxmlformats-officedocument.presentationml.slideLayout+xml"/>
  <Override PartName="/ppt/slideLayouts/slideLayout196.xml" ContentType="application/vnd.openxmlformats-officedocument.presentationml.slideLayout+xml"/>
  <Override PartName="/ppt/slideLayouts/slideLayout978.xml" ContentType="application/vnd.openxmlformats-officedocument.presentationml.slideLayout+xml"/>
  <Override PartName="/ppt/slideLayouts/slideLayout128.xml" ContentType="application/vnd.openxmlformats-officedocument.presentationml.slideLayout+xml"/>
  <Override PartName="/ppt/slideLayouts/slideLayout20.xml" ContentType="application/vnd.openxmlformats-officedocument.presentationml.slideLayout+xml"/>
  <Override PartName="/ppt/slideLayouts/slideLayout265.xml" ContentType="application/vnd.openxmlformats-officedocument.presentationml.slideLayout+xml"/>
  <Override PartName="/ppt/slideLayouts/slideLayout303.xml" ContentType="application/vnd.openxmlformats-officedocument.presentationml.slideLayout+xml"/>
  <Override PartName="/ppt/slideLayouts/slideLayout201.xml" ContentType="application/vnd.openxmlformats-officedocument.presentationml.slideLayout+xml"/>
  <Override PartName="/ppt/slideLayouts/slideLayout680.xml" ContentType="application/vnd.openxmlformats-officedocument.presentationml.slideLayout+xml"/>
  <Override PartName="/ppt/slideLayouts/slideLayout159.xml" ContentType="application/vnd.openxmlformats-officedocument.presentationml.slideLayout+xml"/>
  <Override PartName="/ppt/slideLayouts/slideLayout51.xml" ContentType="application/vnd.openxmlformats-officedocument.presentationml.slideLayout+xml"/>
  <Override PartName="/ppt/slideLayouts/slideLayout224.xml" ContentType="application/vnd.openxmlformats-officedocument.presentationml.slideLayout+xml"/>
  <Override PartName="/ppt/slideLayouts/slideLayout50.xml" ContentType="application/vnd.openxmlformats-officedocument.presentationml.slideLayout+xml"/>
  <Override PartName="/ppt/slideLayouts/slideLayout158.xml" ContentType="application/vnd.openxmlformats-officedocument.presentationml.slideLayout+xml"/>
  <Override PartName="/ppt/slideLayouts/slideLayout223.xml" ContentType="application/vnd.openxmlformats-officedocument.presentationml.slideLayout+xml"/>
  <Override PartName="/ppt/slideLayouts/slideLayout594.xml" ContentType="application/vnd.openxmlformats-officedocument.presentationml.slideLayout+xml"/>
  <Override PartName="/ppt/slideLayouts/slideLayout897.xml" ContentType="application/vnd.openxmlformats-officedocument.presentationml.slideLayout+xml"/>
  <Override PartName="/ppt/slideLayouts/slideLayout418.xml" ContentType="application/vnd.openxmlformats-officedocument.presentationml.slideLayout+xml"/>
  <Override PartName="/ppt/slideLayouts/slideLayout6.xml" ContentType="application/vnd.openxmlformats-officedocument.presentationml.slideLayout+xml"/>
  <Override PartName="/ppt/slideLayouts/slideLayout252.xml" ContentType="application/vnd.openxmlformats-officedocument.presentationml.slideLayout+xml"/>
  <Override PartName="/ppt/slideLayouts/slideLayout41.xml" ContentType="application/vnd.openxmlformats-officedocument.presentationml.slideLayout+xml"/>
  <Override PartName="/ppt/slideLayouts/slideLayout693.xml" ContentType="application/vnd.openxmlformats-officedocument.presentationml.slideLayout+xml"/>
  <Override PartName="/ppt/slideLayouts/slideLayout214.xml" ContentType="application/vnd.openxmlformats-officedocument.presentationml.slideLayout+xml"/>
  <Override PartName="/ppt/slideLayouts/slideLayout323.xml" ContentType="application/vnd.openxmlformats-officedocument.presentationml.slideLayout+xml"/>
  <Override PartName="/ppt/slideLayouts/slideLayout40.xml" ContentType="application/vnd.openxmlformats-officedocument.presentationml.slideLayout+xml"/>
  <Override PartName="/ppt/slideLayouts/slideLayout692.xml" ContentType="application/vnd.openxmlformats-officedocument.presentationml.slideLayout+xml"/>
  <Override PartName="/ppt/slideLayouts/slideLayout213.xml" ContentType="application/vnd.openxmlformats-officedocument.presentationml.slideLayout+xml"/>
  <Override PartName="/ppt/slideLayouts/slideLayout683.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682.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186.xml" ContentType="application/vnd.openxmlformats-officedocument.presentationml.slideLayout+xml"/>
  <Override PartName="/ppt/slideLayouts/slideLayout593.xml" ContentType="application/vnd.openxmlformats-officedocument.presentationml.slideLayout+xml"/>
  <Override PartName="/ppt/slideLayouts/slideLayout896.xml" ContentType="application/vnd.openxmlformats-officedocument.presentationml.slideLayout+xml"/>
  <Override PartName="/ppt/slideLayouts/slideLayout417.xml" ContentType="application/vnd.openxmlformats-officedocument.presentationml.slideLayout+xml"/>
  <Override PartName="/ppt/slideLayouts/slideLayout251.xml" ContentType="application/vnd.openxmlformats-officedocument.presentationml.slideLayout+xml"/>
  <Override PartName="/ppt/slideLayouts/slideLayout5.xml" ContentType="application/vnd.openxmlformats-officedocument.presentationml.slideLayout+xml"/>
  <Override PartName="/ppt/slideLayouts/slideLayout185.xml" ContentType="application/vnd.openxmlformats-officedocument.presentationml.slideLayout+xml"/>
  <Override PartName="/ppt/slideLayouts/slideLayout250.xml" ContentType="application/vnd.openxmlformats-officedocument.presentationml.slideLayout+xml"/>
  <Override PartName="/ppt/slideLayouts/slideLayout4.xml" ContentType="application/vnd.openxmlformats-officedocument.presentationml.slideLayout+xml"/>
  <Override PartName="/ppt/slideLayouts/slideLayout416.xml" ContentType="application/vnd.openxmlformats-officedocument.presentationml.slideLayout+xml"/>
  <Override PartName="/ppt/slideLayouts/slideLayout895.xml" ContentType="application/vnd.openxmlformats-officedocument.presentationml.slideLayout+xml"/>
  <Override PartName="/ppt/slideLayouts/slideLayout11.xml" ContentType="application/vnd.openxmlformats-officedocument.presentationml.slideLayout+xml"/>
  <Override PartName="/ppt/slideLayouts/slideLayout969.xml" ContentType="application/vnd.openxmlformats-officedocument.presentationml.slideLayout+xml"/>
  <Override PartName="/ppt/slideLayouts/slideLayout119.xml" ContentType="application/vnd.openxmlformats-officedocument.presentationml.slideLayout+xml"/>
  <Override PartName="/ppt/slideLayouts/slideLayout598.xml" ContentType="application/vnd.openxmlformats-officedocument.presentationml.slideLayout+xml"/>
  <Override PartName="/ppt/slideLayouts/slideLayout443.xml" ContentType="application/vnd.openxmlformats-officedocument.presentationml.slideLayout+xml"/>
  <Override PartName="/ppt/slideLayouts/slideLayout75.xml" ContentType="application/vnd.openxmlformats-officedocument.presentationml.slideLayout+xml"/>
  <Override PartName="/ppt/slideLayouts/slideLayout10.xml" ContentType="application/vnd.openxmlformats-officedocument.presentationml.slideLayout+xml"/>
  <Override PartName="/ppt/slideLayouts/slideLayout968.xml" ContentType="application/vnd.openxmlformats-officedocument.presentationml.slideLayout+xml"/>
  <Override PartName="/ppt/slideLayouts/slideLayout118.xml" ContentType="application/vnd.openxmlformats-officedocument.presentationml.slideLayout+xml"/>
  <Override PartName="/ppt/slideLayouts/slideLayout597.xml" ContentType="application/vnd.openxmlformats-officedocument.presentationml.slideLayout+xml"/>
  <Override PartName="/ppt/slideLayouts/slideLayout349.xml" ContentType="application/vnd.openxmlformats-officedocument.presentationml.slideLayout+xml"/>
  <Override PartName="/ppt/slideLayouts/slideLayout24.xml" ContentType="application/vnd.openxmlformats-officedocument.presentationml.slideLayout+xml"/>
  <Override PartName="/ppt/slideLayouts/slideLayout871.xml" ContentType="application/vnd.openxmlformats-officedocument.presentationml.slideLayout+xml"/>
  <Override PartName="/ppt/slideLayouts/slideLayout977.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302.xml" ContentType="application/vnd.openxmlformats-officedocument.presentationml.slideLayout+xml"/>
  <Override PartName="/ppt/slideLayouts/slideLayout23.xml" ContentType="application/vnd.openxmlformats-officedocument.presentationml.slideLayout+xml"/>
  <Override PartName="/ppt/slideLayouts/slideLayout870.xml" ContentType="application/vnd.openxmlformats-officedocument.presentationml.slideLayout+xml"/>
  <Override PartName="/ppt/slideLayouts/slideLayout976.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301.xml" ContentType="application/vnd.openxmlformats-officedocument.presentationml.slideLayout+xml"/>
  <Override PartName="/ppt/slideLayouts/slideLayout429.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681.xml" ContentType="application/vnd.openxmlformats-officedocument.presentationml.slideLayout+xml"/>
  <Override PartName="/ppt/slideLayouts/slideLayout202.xml" ContentType="application/vnd.openxmlformats-officedocument.presentationml.slideLayout+xml"/>
  <Override PartName="/ppt/slideLayouts/slideLayout359.xml" ContentType="application/vnd.openxmlformats-officedocument.presentationml.slideLayout+xml"/>
  <Override PartName="/ppt/slideLayouts/slideLayout262.xml" ContentType="application/vnd.openxmlformats-officedocument.presentationml.slideLayout+xml"/>
  <Override PartName="/ppt/slideLayouts/slideLayout300.xml" ContentType="application/vnd.openxmlformats-officedocument.presentationml.slideLayout+xml"/>
  <Override PartName="/ppt/slideLayouts/slideLayout428.xml" ContentType="application/vnd.openxmlformats-officedocument.presentationml.slideLayout+xml"/>
  <Override PartName="/ppt/slideLayouts/slideLayout21.xml" ContentType="application/vnd.openxmlformats-officedocument.presentationml.slideLayout+xml"/>
  <Override PartName="/ppt/slideLayouts/slideLayout979.xml" ContentType="application/vnd.openxmlformats-officedocument.presentationml.slideLayout+xml"/>
  <Override PartName="/ppt/slideLayouts/slideLayout129.xml" ContentType="application/vnd.openxmlformats-officedocument.presentationml.slideLayout+xml"/>
  <Override PartName="/ppt/slideLayouts/slideLayout14.xml" ContentType="application/vnd.openxmlformats-officedocument.presentationml.slideLayout+xml"/>
  <Override PartName="/ppt/slideLayouts/slideLayout86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862.xml" ContentType="application/vnd.openxmlformats-officedocument.presentationml.slideLayout+xml"/>
  <Override PartName="/ppt/slideLayouts/slideLayout490.xml" ContentType="application/vnd.openxmlformats-officedocument.presentationml.slideLayout+xml"/>
  <Override PartName="/ppt/slideLayouts/slideLayout675.xml" ContentType="application/vnd.openxmlformats-officedocument.presentationml.slideLayout+xml"/>
  <Override PartName="/ppt/slideLayouts/slideLayout12.xml" ContentType="application/vnd.openxmlformats-officedocument.presentationml.slideLayout+xml"/>
  <Override PartName="/ppt/slideLayouts/slideLayout599.xml" ContentType="application/vnd.openxmlformats-officedocument.presentationml.slideLayout+xml"/>
  <Override PartName="/ppt/slideLayouts/slideLayout16.xml" ContentType="application/vnd.openxmlformats-officedocument.presentationml.slideLayout+xml"/>
  <Override PartName="/ppt/slideLayouts/slideLayout863.xml" ContentType="application/vnd.openxmlformats-officedocument.presentationml.slideLayout+xml"/>
  <Override PartName="/ppt/slideLayouts/slideLayout491.xml" ContentType="application/vnd.openxmlformats-officedocument.presentationml.slideLayout+xml"/>
  <Override PartName="/ppt/slideLayouts/slideLayout1120.xml" ContentType="application/vnd.openxmlformats-officedocument.presentationml.slideLayout+xml"/>
  <Override PartName="/ppt/slideLayouts/slideLayout676.xml" ContentType="application/vnd.openxmlformats-officedocument.presentationml.slideLayout+xml"/>
  <Override PartName="/ppt/slideLayouts/slideLayout13.xml" ContentType="application/vnd.openxmlformats-officedocument.presentationml.slideLayout+xml"/>
  <Override PartName="/ppt/slideLayouts/slideLayout860.xml" ContentType="application/vnd.openxmlformats-officedocument.presentationml.slideLayout+xml"/>
  <Override PartName="/ppt/slideLayouts/slideLayout25.xml" ContentType="application/vnd.openxmlformats-officedocument.presentationml.slideLayout+xml"/>
  <Override PartName="/ppt/slideLayouts/slideLayout872.xml" ContentType="application/vnd.openxmlformats-officedocument.presentationml.slideLayout+xml"/>
  <Override PartName="/ppt/slideLayouts/slideLayout26.xml" ContentType="application/vnd.openxmlformats-officedocument.presentationml.slideLayout+xml"/>
  <Override PartName="/ppt/slideLayouts/slideLayout873.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210.xml" ContentType="application/vnd.openxmlformats-officedocument.presentationml.slideLayout+xml"/>
  <Override PartName="/ppt/slideLayouts/slideLayout690.xml" ContentType="application/vnd.openxmlformats-officedocument.presentationml.slideLayout+xml"/>
  <Override PartName="/ppt/slideLayouts/slideLayout211.xml" ContentType="application/vnd.openxmlformats-officedocument.presentationml.slideLayout+xml"/>
  <Override PartName="/ppt/slideLayouts/slideLayout691.xml" ContentType="application/vnd.openxmlformats-officedocument.presentationml.slideLayout+xml"/>
  <Override PartName="/ppt/slideLayouts/slideLayout212.xml" ContentType="application/vnd.openxmlformats-officedocument.presentationml.slideLayout+xml"/>
  <Override PartName="/ppt/slideLayouts/slideLayout271.xml" ContentType="application/vnd.openxmlformats-officedocument.presentationml.slideLayout+xml"/>
  <Override PartName="/ppt/slideLayouts/slideLayout437.xml" ContentType="application/vnd.openxmlformats-officedocument.presentationml.slideLayout+xml"/>
  <Override PartName="/ppt/slideLayouts/slideLayout69.xml" ContentType="application/vnd.openxmlformats-officedocument.presentationml.slideLayout+xml"/>
  <Override PartName="/ppt/slideLayouts/slideLayout585.xml" ContentType="application/vnd.openxmlformats-officedocument.presentationml.slideLayout+xml"/>
  <Override PartName="/ppt/slideLayouts/slideLayout956.xml" ContentType="application/vnd.openxmlformats-officedocument.presentationml.slideLayout+xml"/>
  <Override PartName="/ppt/slideLayouts/slideLayout106.xml" ContentType="application/vnd.openxmlformats-officedocument.presentationml.slideLayout+xml"/>
  <Override PartName="/ppt/slideLayouts/slideLayout888.xml" ContentType="application/vnd.openxmlformats-officedocument.presentationml.slideLayout+xml"/>
  <Override PartName="/ppt/slideLayouts/slideLayout409.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957.xml" ContentType="application/vnd.openxmlformats-officedocument.presentationml.slideLayout+xml"/>
  <Override PartName="/ppt/slideLayouts/slideLayout107.xml" ContentType="application/vnd.openxmlformats-officedocument.presentationml.slideLayout+xml"/>
  <Override PartName="/ppt/slideLayouts/slideLayout586.xml" ContentType="application/vnd.openxmlformats-officedocument.presentationml.slideLayout+xml"/>
  <Override PartName="/ppt/slideLayouts/slideLayout71.xml" ContentType="application/vnd.openxmlformats-officedocument.presentationml.slideLayout+xml"/>
  <Override PartName="/ppt/slideLayouts/slideLayout244.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445.xml" ContentType="application/vnd.openxmlformats-officedocument.presentationml.slideLayout+xml"/>
  <Override PartName="/ppt/slideLayouts/slideLayout77.xml" ContentType="application/vnd.openxmlformats-officedocument.presentationml.slideLayout+xml"/>
  <Override PartName="/ppt/slideLayouts/slideLayout280.xml" ContentType="application/vnd.openxmlformats-officedocument.presentationml.slideLayout+xml"/>
  <Override PartName="/ppt/slideLayouts/slideLayout446.xml" ContentType="application/vnd.openxmlformats-officedocument.presentationml.slideLayout+xml"/>
  <Override PartName="/ppt/slideLayouts/slideLayout78.xml" ContentType="application/vnd.openxmlformats-officedocument.presentationml.slideLayout+xml"/>
  <Override PartName="/ppt/slideLayouts/slideLayout281.xml" ContentType="application/vnd.openxmlformats-officedocument.presentationml.slideLayout+xml"/>
  <Override PartName="/ppt/slideLayouts/slideLayout447.xml" ContentType="application/vnd.openxmlformats-officedocument.presentationml.slideLayout+xml"/>
  <Override PartName="/ppt/slideLayouts/slideLayout79.xml" ContentType="application/vnd.openxmlformats-officedocument.presentationml.slideLayout+xml"/>
  <Override PartName="/ppt/slideLayouts/slideLayout592.xml" ContentType="application/vnd.openxmlformats-officedocument.presentationml.slideLayout+xml"/>
  <Override PartName="/ppt/slideLayouts/slideLayout230.xml" ContentType="application/vnd.openxmlformats-officedocument.presentationml.slideLayout+xml"/>
  <Override PartName="/ppt/slideLayouts/slideLayout864.xml" ContentType="application/vnd.openxmlformats-officedocument.presentationml.slideLayout+xml"/>
  <Override PartName="/ppt/slideLayouts/slideLayout17.xml" ContentType="application/vnd.openxmlformats-officedocument.presentationml.slideLayout+xml"/>
  <Override PartName="/ppt/slideLayouts/slideLayout677.xml" ContentType="application/vnd.openxmlformats-officedocument.presentationml.slideLayout+xml"/>
  <Override PartName="/ppt/slideLayouts/slideLayout492.xml" ContentType="application/vnd.openxmlformats-officedocument.presentationml.slideLayout+xml"/>
  <Override PartName="/ppt/slideLayouts/slideLayout1121.xml" ContentType="application/vnd.openxmlformats-officedocument.presentationml.slideLayout+xml"/>
  <Override PartName="/ppt/slideLayouts/slideLayout85.xml" ContentType="application/vnd.openxmlformats-officedocument.presentationml.slideLayout+xml"/>
  <Override PartName="/ppt/slideLayouts/slideLayout453.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865.xml" ContentType="application/vnd.openxmlformats-officedocument.presentationml.slideLayout+xml"/>
  <Override PartName="/ppt/slideLayouts/slideLayout493.xml" ContentType="application/vnd.openxmlformats-officedocument.presentationml.slideLayout+xml"/>
  <Override PartName="/ppt/slideLayouts/slideLayout1122.xml" ContentType="application/vnd.openxmlformats-officedocument.presentationml.slideLayout+xml"/>
  <Override PartName="/ppt/slideLayouts/slideLayout678.xml" ContentType="application/vnd.openxmlformats-officedocument.presentationml.slideLayout+xml"/>
  <Override PartName="/ppt/slideLayouts/slideLayout86.xml" ContentType="application/vnd.openxmlformats-officedocument.presentationml.slideLayout+xml"/>
  <Override PartName="/ppt/slideLayouts/slideLayout454.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66.xml" ContentType="application/vnd.openxmlformats-officedocument.presentationml.slideLayout+xml"/>
  <Override PartName="/ppt/slideLayouts/slideLayout708.xml" ContentType="application/vnd.openxmlformats-officedocument.presentationml.slideLayout+xml"/>
  <Override PartName="/ppt/slideLayouts/slideLayout494.xml" ContentType="application/vnd.openxmlformats-officedocument.presentationml.slideLayout+xml"/>
  <Override PartName="/ppt/slideLayouts/slideLayout1123.xml" ContentType="application/vnd.openxmlformats-officedocument.presentationml.slideLayout+xml"/>
  <Override PartName="/ppt/slideLayouts/slideLayout679.xml" ContentType="application/vnd.openxmlformats-officedocument.presentationml.slideLayout+xml"/>
  <Override PartName="/ppt/slideLayouts/slideLayout87.xml" ContentType="application/vnd.openxmlformats-officedocument.presentationml.slideLayout+xml"/>
  <Override PartName="/ppt/slideLayouts/slideLayout455.xml" ContentType="application/vnd.openxmlformats-officedocument.presentationml.slideLayout+xml"/>
  <Override PartName="/ppt/slideLayouts/slideLayout88.xml" ContentType="application/vnd.openxmlformats-officedocument.presentationml.slideLayout+xml"/>
  <Override PartName="/ppt/slideLayouts/slideLayout456.xml" ContentType="application/vnd.openxmlformats-officedocument.presentationml.slideLayout+xml"/>
  <Override PartName="/ppt/slideLayouts/slideLayout89.xml" ContentType="application/vnd.openxmlformats-officedocument.presentationml.slideLayout+xml"/>
  <Override PartName="/ppt/slideLayouts/slideLayout457.xml" ContentType="application/vnd.openxmlformats-officedocument.presentationml.slideLayout+xml"/>
  <Override PartName="/ppt/slideLayouts/slideLayout582.xml" ContentType="application/vnd.openxmlformats-officedocument.presentationml.slideLayout+xml"/>
  <Override PartName="/ppt/slideLayouts/slideLayout885.xml" ContentType="application/vnd.openxmlformats-officedocument.presentationml.slideLayout+xml"/>
  <Override PartName="/ppt/slideLayouts/slideLayout406.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874.xml" ContentType="application/vnd.openxmlformats-officedocument.presentationml.slideLayout+xml"/>
  <Override PartName="/ppt/slideLayouts/slideLayout892.xml" ContentType="application/vnd.openxmlformats-officedocument.presentationml.slideLayout+xml"/>
  <Override PartName="/ppt/slideLayouts/slideLayout45.xml" ContentType="application/vnd.openxmlformats-officedocument.presentationml.slideLayout+xml"/>
  <Override PartName="/ppt/slideLayouts/slideLayout413.xml" ContentType="application/vnd.openxmlformats-officedocument.presentationml.slideLayout+xml"/>
  <Override PartName="/ppt/slideLayouts/slideLayout583.xml" ContentType="application/vnd.openxmlformats-officedocument.presentationml.slideLayout+xml"/>
  <Override PartName="/ppt/slideLayouts/slideLayout886.xml" ContentType="application/vnd.openxmlformats-officedocument.presentationml.slideLayout+xml"/>
  <Override PartName="/ppt/slideLayouts/slideLayout407.xml" ContentType="application/vnd.openxmlformats-officedocument.presentationml.slideLayout+xml"/>
  <Override PartName="/ppt/slideLayouts/slideLayout241.xml" ContentType="application/vnd.openxmlformats-officedocument.presentationml.slideLayout+xml"/>
  <Override PartName="/ppt/slideLayouts/slideLayout590.xml" ContentType="application/vnd.openxmlformats-officedocument.presentationml.slideLayout+xml"/>
  <Override PartName="/ppt/slideLayouts/slideLayout893.xml" ContentType="application/vnd.openxmlformats-officedocument.presentationml.slideLayout+xml"/>
  <Override PartName="/ppt/slideLayouts/slideLayout46.xml" ContentType="application/vnd.openxmlformats-officedocument.presentationml.slideLayout+xml"/>
  <Override PartName="/ppt/slideLayouts/slideLayout414.xml" ContentType="application/vnd.openxmlformats-officedocument.presentationml.slideLayout+xml"/>
  <Override PartName="/ppt/slideLayouts/slideLayout2.xml" ContentType="application/vnd.openxmlformats-officedocument.presentationml.slideLayout+xml"/>
  <Override PartName="/ppt/slideLayouts/slideLayout584.xml" ContentType="application/vnd.openxmlformats-officedocument.presentationml.slideLayout+xml"/>
  <Override PartName="/ppt/slideLayouts/slideLayout887.xml" ContentType="application/vnd.openxmlformats-officedocument.presentationml.slideLayout+xml"/>
  <Override PartName="/ppt/slideLayouts/slideLayout408.xml" ContentType="application/vnd.openxmlformats-officedocument.presentationml.slideLayout+xml"/>
  <Override PartName="/ppt/slideLayouts/slideLayout242.xml" ContentType="application/vnd.openxmlformats-officedocument.presentationml.slideLayout+xml"/>
  <Override PartName="/ppt/slideLayouts/slideLayout591.xml" ContentType="application/vnd.openxmlformats-officedocument.presentationml.slideLayout+xml"/>
  <Override PartName="/ppt/slideLayouts/slideLayout894.xml" ContentType="application/vnd.openxmlformats-officedocument.presentationml.slideLayout+xml"/>
  <Override PartName="/ppt/slideLayouts/slideLayout47.xml" ContentType="application/vnd.openxmlformats-officedocument.presentationml.slideLayout+xml"/>
  <Override PartName="/ppt/slideLayouts/slideLayout415.xml" ContentType="application/vnd.openxmlformats-officedocument.presentationml.slideLayout+xml"/>
  <Override PartName="/ppt/slideLayouts/slideLayout3.xml" ContentType="application/vnd.openxmlformats-officedocument.presentationml.slideLayout+xml"/>
  <Override PartName="/ppt/slideLayouts/slideLayout876.xml" ContentType="application/vnd.openxmlformats-officedocument.presentationml.slideLayout+xml"/>
  <Override PartName="/ppt/slideLayouts/slideLayout66.xml" ContentType="application/vnd.openxmlformats-officedocument.presentationml.slideLayout+xml"/>
  <Override PartName="/ppt/slideLayouts/slideLayout434.xml" ContentType="application/vnd.openxmlformats-officedocument.presentationml.slideLayout+xml"/>
  <Override PartName="/ppt/slideLayouts/slideLayout882.xml" ContentType="application/vnd.openxmlformats-officedocument.presentationml.slideLayout+xml"/>
  <Override PartName="/ppt/slideLayouts/slideLayout35.xml" ContentType="application/vnd.openxmlformats-officedocument.presentationml.slideLayout+xml"/>
  <Override PartName="/ppt/slideLayouts/slideLayout403.xml" ContentType="application/vnd.openxmlformats-officedocument.presentationml.slideLayout+xml"/>
  <Override PartName="/ppt/slideLayouts/slideLayout67.xml" ContentType="application/vnd.openxmlformats-officedocument.presentationml.slideLayout+xml"/>
  <Override PartName="/ppt/slideLayouts/slideLayout435.xml" ContentType="application/vnd.openxmlformats-officedocument.presentationml.slideLayout+xml"/>
  <Override PartName="/ppt/slideLayouts/slideLayout580.xml" ContentType="application/vnd.openxmlformats-officedocument.presentationml.slideLayout+xml"/>
  <Override PartName="/ppt/slideLayouts/slideLayout883.xml" ContentType="application/vnd.openxmlformats-officedocument.presentationml.slideLayout+xml"/>
  <Override PartName="/ppt/slideLayouts/slideLayout36.xml" ContentType="application/vnd.openxmlformats-officedocument.presentationml.slideLayout+xml"/>
  <Override PartName="/ppt/slideLayouts/slideLayout404.xml" ContentType="application/vnd.openxmlformats-officedocument.presentationml.slideLayout+xml"/>
  <Override PartName="/ppt/slideLayouts/slideLayout151.xml" ContentType="application/vnd.openxmlformats-officedocument.presentationml.slideLayout+xml"/>
  <Override PartName="/ppt/slideLayouts/slideLayout336.xml" ContentType="application/vnd.openxmlformats-officedocument.presentationml.slideLayout+xml"/>
  <Override PartName="/ppt/slideLayouts/slideLayout170.xml" ContentType="application/vnd.openxmlformats-officedocument.presentationml.slideLayout+xml"/>
  <Override PartName="/ppt/slideLayouts/slideLayout298.xml" ContentType="application/vnd.openxmlformats-officedocument.presentationml.slideLayout+xml"/>
  <Override PartName="/ppt/slideLayouts/slideLayout68.xml" ContentType="application/vnd.openxmlformats-officedocument.presentationml.slideLayout+xml"/>
  <Override PartName="/ppt/slideLayouts/slideLayout436.xml" ContentType="application/vnd.openxmlformats-officedocument.presentationml.slideLayout+xml"/>
  <Override PartName="/ppt/slideLayouts/slideLayout581.xml" ContentType="application/vnd.openxmlformats-officedocument.presentationml.slideLayout+xml"/>
  <Override PartName="/ppt/slideLayouts/slideLayout884.xml" ContentType="application/vnd.openxmlformats-officedocument.presentationml.slideLayout+xml"/>
  <Override PartName="/ppt/slideLayouts/slideLayout37.xml" ContentType="application/vnd.openxmlformats-officedocument.presentationml.slideLayout+xml"/>
  <Override PartName="/ppt/slideLayouts/slideLayout405.xml" ContentType="application/vnd.openxmlformats-officedocument.presentationml.slideLayout+xml"/>
  <Override PartName="/ppt/slideLayouts/slideLayout465.xml" ContentType="application/vnd.openxmlformats-officedocument.presentationml.slideLayout+xml"/>
  <Override PartName="/ppt/slideLayouts/slideLayout97.xml" ContentType="application/vnd.openxmlformats-officedocument.presentationml.slideLayout+xml"/>
  <Override PartName="/ppt/slideLayouts/slideLayout171.xml" ContentType="application/vnd.openxmlformats-officedocument.presentationml.slideLayout+xml"/>
  <Override PartName="/ppt/slideLayouts/slideLayout200.xml" ContentType="application/vnd.openxmlformats-officedocument.presentationml.slideLayout+xml"/>
  <Override PartName="/ppt/slideLayouts/slideLayout292.xml" ContentType="application/vnd.openxmlformats-officedocument.presentationml.slideLayout+xml"/>
  <Override PartName="/ppt/slideLayouts/slideLayout506.xml" ContentType="application/vnd.openxmlformats-officedocument.presentationml.slideLayout+xml"/>
  <Override PartName="/ppt/slideLayouts/slideLayout152.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153.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54.xml" ContentType="application/vnd.openxmlformats-officedocument.presentationml.slideLayout+xml"/>
  <Override PartName="/ppt/slideLayouts/slideLayout174.xml" ContentType="application/vnd.openxmlformats-officedocument.presentationml.slideLayout+xml"/>
  <Override PartName="/ppt/slideLayouts/slideLayout175.xml" ContentType="application/vnd.openxmlformats-officedocument.presentationml.slideLayout+xml"/>
  <Override PartName="/ppt/slideLayouts/slideLayout401.xml" ContentType="application/vnd.openxmlformats-officedocument.presentationml.slideLayout+xml"/>
  <Override PartName="/ppt/slideLayouts/slideLayout880.xml" ContentType="application/vnd.openxmlformats-officedocument.presentationml.slideLayout+xml"/>
  <Override PartName="/ppt/slideLayouts/slideLayout33.xml" ContentType="application/vnd.openxmlformats-officedocument.presentationml.slideLayout+xml"/>
  <Override PartName="/ppt/slideLayouts/slideLayout63.xml" ContentType="application/vnd.openxmlformats-officedocument.presentationml.slideLayout+xml"/>
  <Override PartName="/ppt/slideLayouts/slideLayout431.xml" ContentType="application/vnd.openxmlformats-officedocument.presentationml.slideLayout+xml"/>
  <Override PartName="/ppt/slideLayouts/slideLayout402.xml" ContentType="application/vnd.openxmlformats-officedocument.presentationml.slideLayout+xml"/>
  <Override PartName="/ppt/slideLayouts/slideLayout34.xml" ContentType="application/vnd.openxmlformats-officedocument.presentationml.slideLayout+xml"/>
  <Override PartName="/ppt/slideLayouts/slideLayout881.xml" ContentType="application/vnd.openxmlformats-officedocument.presentationml.slideLayout+xml"/>
  <Override PartName="/ppt/slideLayouts/slideLayout470.xml" ContentType="application/vnd.openxmlformats-officedocument.presentationml.slideLayout+xml"/>
  <Override PartName="/ppt/slideLayouts/slideLayout248.xml" ContentType="application/vnd.openxmlformats-officedocument.presentationml.slideLayout+xml"/>
  <Override PartName="/ppt/slideLayouts/slideLayout891.xml" ContentType="application/vnd.openxmlformats-officedocument.presentationml.slideLayout+xml"/>
  <Override PartName="/ppt/slideLayouts/slideLayout412.xml" ContentType="application/vnd.openxmlformats-officedocument.presentationml.slideLayout+xml"/>
  <Override PartName="/ppt/slideLayouts/slideLayout44.xml" ContentType="application/vnd.openxmlformats-officedocument.presentationml.slideLayout+xml"/>
  <Override PartName="/ppt/slideLayouts/slideLayout83.xml" ContentType="application/vnd.openxmlformats-officedocument.presentationml.slideLayout+xml"/>
  <Override PartName="/ppt/slideLayouts/slideLayout451.xml" ContentType="application/vnd.openxmlformats-officedocument.presentationml.slideLayout+xml"/>
  <Override PartName="/ppt/slideLayouts/slideLayout84.xml" ContentType="application/vnd.openxmlformats-officedocument.presentationml.slideLayout+xml"/>
  <Override PartName="/ppt/slideLayouts/slideLayout452.xml" ContentType="application/vnd.openxmlformats-officedocument.presentationml.slideLayout+xml"/>
  <Override PartName="/ppt/slideLayouts/slideLayout62.xml" ContentType="application/vnd.openxmlformats-officedocument.presentationml.slideLayout+xml"/>
  <Override PartName="/ppt/slideLayouts/slideLayout430.xml" ContentType="application/vnd.openxmlformats-officedocument.presentationml.slideLayout+xml"/>
  <Override PartName="/ppt/slideLayouts/slideLayout400.xml" ContentType="application/vnd.openxmlformats-officedocument.presentationml.slideLayout+xml"/>
  <Override PartName="/ppt/slideLayouts/slideLayout32.xml" ContentType="application/vnd.openxmlformats-officedocument.presentationml.slideLayout+xml"/>
  <Override PartName="/ppt/slideLayouts/slideLayout82.xml" ContentType="application/vnd.openxmlformats-officedocument.presentationml.slideLayout+xml"/>
  <Override PartName="/ppt/slideLayouts/slideLayout450.xml" ContentType="application/vnd.openxmlformats-officedocument.presentationml.slideLayout+xml"/>
  <Override PartName="/ppt/slideLayouts/slideLayout245.xml" ContentType="application/vnd.openxmlformats-officedocument.presentationml.slideLayout+xml"/>
  <Override PartName="/ppt/slideLayouts/slideLayout958.xml" ContentType="application/vnd.openxmlformats-officedocument.presentationml.slideLayout+xml"/>
  <Override PartName="/ppt/slideLayouts/slideLayout108.xml" ContentType="application/vnd.openxmlformats-officedocument.presentationml.slideLayout+xml"/>
  <Override PartName="/ppt/slideLayouts/slideLayout587.xml" ContentType="application/vnd.openxmlformats-officedocument.presentationml.slideLayout+xml"/>
  <Override PartName="/ppt/slideLayouts/slideLayout72.xml" ContentType="application/vnd.openxmlformats-officedocument.presentationml.slideLayout+xml"/>
  <Override PartName="/ppt/slideLayouts/slideLayout440.xml" ContentType="application/vnd.openxmlformats-officedocument.presentationml.slideLayout+xml"/>
  <Override PartName="/ppt/slideLayouts/slideLayout410.xml" ContentType="application/vnd.openxmlformats-officedocument.presentationml.slideLayout+xml"/>
  <Override PartName="/ppt/slideLayouts/slideLayout42.xml" ContentType="application/vnd.openxmlformats-officedocument.presentationml.slideLayout+xml"/>
  <Override PartName="/ppt/slideLayouts/slideLayout959.xml" ContentType="application/vnd.openxmlformats-officedocument.presentationml.slideLayout+xml"/>
  <Override PartName="/ppt/slideLayouts/slideLayout109.xml" ContentType="application/vnd.openxmlformats-officedocument.presentationml.slideLayout+xml"/>
  <Override PartName="/ppt/slideLayouts/slideLayout588.xml" ContentType="application/vnd.openxmlformats-officedocument.presentationml.slideLayout+xml"/>
  <Override PartName="/ppt/slideLayouts/slideLayout246.xml" ContentType="application/vnd.openxmlformats-officedocument.presentationml.slideLayout+xml"/>
  <Override PartName="/ppt/slideLayouts/slideLayout73.xml" ContentType="application/vnd.openxmlformats-officedocument.presentationml.slideLayout+xml"/>
  <Override PartName="/ppt/slideLayouts/slideLayout441.xml" ContentType="application/vnd.openxmlformats-officedocument.presentationml.slideLayout+xml"/>
  <Override PartName="/ppt/slideLayouts/slideLayout411.xml" ContentType="application/vnd.openxmlformats-officedocument.presentationml.slideLayout+xml"/>
  <Override PartName="/ppt/slideLayouts/slideLayout890.xml" ContentType="application/vnd.openxmlformats-officedocument.presentationml.slideLayout+xml"/>
  <Override PartName="/ppt/slideLayouts/slideLayout43.xml" ContentType="application/vnd.openxmlformats-officedocument.presentationml.slideLayout+xml"/>
  <Override PartName="/ppt/slideLayouts/slideLayout247.xml" ContentType="application/vnd.openxmlformats-officedocument.presentationml.slideLayout+xml"/>
  <Override PartName="/ppt/slideLayouts/slideLayout74.xml" ContentType="application/vnd.openxmlformats-officedocument.presentationml.slideLayout+xml"/>
  <Override PartName="/ppt/slideLayouts/slideLayout442.xml" ContentType="application/vnd.openxmlformats-officedocument.presentationml.slideLayout+xml"/>
  <Override PartName="/ppt/slideLayouts/slideLayout480.xml" ContentType="application/vnd.openxmlformats-officedocument.presentationml.slideLayout+xml"/>
  <Override PartName="/ppt/slideLayouts/slideLayout399.xml" ContentType="application/vnd.openxmlformats-officedocument.presentationml.slideLayout+xml"/>
  <Override PartName="/ppt/slideLayouts/slideLayout461.xml" ContentType="application/vnd.openxmlformats-officedocument.presentationml.slideLayout+xml"/>
  <Override PartName="/ppt/slideLayouts/slideLayout149.xml" ContentType="application/vnd.openxmlformats-officedocument.presentationml.slideLayout+xml"/>
  <Override PartName="/ppt/slideLayouts/slideLayout999.xml" ContentType="application/vnd.openxmlformats-officedocument.presentationml.slideLayout+xml"/>
  <Override PartName="/ppt/slideLayouts/slideLayout343.xml" ContentType="application/vnd.openxmlformats-officedocument.presentationml.slideLayout+xml"/>
  <Override PartName="/ppt/slideLayouts/slideLayout55.xml" ContentType="application/vnd.openxmlformats-officedocument.presentationml.slideLayout+xml"/>
  <Override PartName="/ppt/slideLayouts/slideLayout423.xml" ContentType="application/vnd.openxmlformats-officedocument.presentationml.slideLayout+xml"/>
  <Override PartName="/ppt/slideLayouts/slideLayout56.xml" ContentType="application/vnd.openxmlformats-officedocument.presentationml.slideLayout+xml"/>
  <Override PartName="/ppt/slideLayouts/slideLayout424.xml" ContentType="application/vnd.openxmlformats-officedocument.presentationml.slideLayout+xml"/>
  <Override PartName="/ppt/slideLayouts/slideLayout64.xml" ContentType="application/vnd.openxmlformats-officedocument.presentationml.slideLayout+xml"/>
  <Override PartName="/ppt/slideLayouts/slideLayout432.xml" ContentType="application/vnd.openxmlformats-officedocument.presentationml.slideLayout+xml"/>
  <Override PartName="/ppt/slideLayouts/slideLayout290.xml" ContentType="application/vnd.openxmlformats-officedocument.presentationml.slideLayout+xml"/>
  <Override PartName="/ppt/slideLayouts/slideLayout1028.xml" ContentType="application/vnd.openxmlformats-officedocument.presentationml.slideLayout+xml"/>
  <Override PartName="/ppt/slideLayouts/slideLayout504.xml" ContentType="application/vnd.openxmlformats-officedocument.presentationml.slideLayout+xml"/>
  <Override PartName="/ppt/slideLayouts/slideLayout1100.xml" ContentType="application/vnd.openxmlformats-officedocument.presentationml.slideLayout+xml"/>
  <Override PartName="/ppt/slideLayouts/slideLayout471.xml" ContentType="application/vnd.openxmlformats-officedocument.presentationml.slideLayout+xml"/>
  <Override PartName="/ppt/slideLayouts/slideLayout483.xml" ContentType="application/vnd.openxmlformats-officedocument.presentationml.slideLayout+xml"/>
  <Override PartName="/ppt/slideLayouts/slideLayout1112.xml" ContentType="application/vnd.openxmlformats-officedocument.presentationml.slideLayout+xml"/>
  <Override PartName="/ppt/slideLayouts/slideLayout99.xml" ContentType="application/vnd.openxmlformats-officedocument.presentationml.slideLayout+xml"/>
  <Override PartName="/ppt/slideLayouts/slideLayout467.xml" ContentType="application/vnd.openxmlformats-officedocument.presentationml.slideLayout+xml"/>
  <Override PartName="/ppt/slideLayouts/slideLayout65.xml" ContentType="application/vnd.openxmlformats-officedocument.presentationml.slideLayout+xml"/>
  <Override PartName="/ppt/slideLayouts/slideLayout433.xml" ContentType="application/vnd.openxmlformats-officedocument.presentationml.slideLayout+xml"/>
  <Override PartName="/ppt/slideLayouts/slideLayout291.xml" ContentType="application/vnd.openxmlformats-officedocument.presentationml.slideLayout+xml"/>
  <Override PartName="/ppt/slideLayouts/slideLayout1101.xml" ContentType="application/vnd.openxmlformats-officedocument.presentationml.slideLayout+xml"/>
  <Override PartName="/ppt/slideLayouts/slideLayout472.xml" ContentType="application/vnd.openxmlformats-officedocument.presentationml.slideLayout+xml"/>
  <Override PartName="/ppt/slideLayouts/slideLayout484.xml" ContentType="application/vnd.openxmlformats-officedocument.presentationml.slideLayout+xml"/>
  <Override PartName="/ppt/slideLayouts/slideLayout1113.xml" ContentType="application/vnd.openxmlformats-officedocument.presentationml.slideLayout+xml"/>
  <Override PartName="/ppt/slideLayouts/slideLayout473.xml" ContentType="application/vnd.openxmlformats-officedocument.presentationml.slideLayout+xml"/>
  <Override PartName="/ppt/slideLayouts/slideLayout1102.xml" ContentType="application/vnd.openxmlformats-officedocument.presentationml.slideLayout+xml"/>
  <Override PartName="/ppt/slideLayouts/slideLayout474.xml" ContentType="application/vnd.openxmlformats-officedocument.presentationml.slideLayout+xml"/>
  <Override PartName="/ppt/slideLayouts/slideLayout1103.xml" ContentType="application/vnd.openxmlformats-officedocument.presentationml.slideLayout+xml"/>
  <Override PartName="/ppt/slideLayouts/slideLayout466.xml" ContentType="application/vnd.openxmlformats-officedocument.presentationml.slideLayout+xml"/>
  <Override PartName="/ppt/slideLayouts/slideLayout98.xml" ContentType="application/vnd.openxmlformats-officedocument.presentationml.slideLayout+xml"/>
  <Override PartName="/ppt/slideLayouts/slideLayout1119.xml" ContentType="application/vnd.openxmlformats-officedocument.presentationml.slideLayout+xml"/>
  <Override PartName="/ppt/slideLayouts/slideLayout750.xml" ContentType="application/vnd.openxmlformats-officedocument.presentationml.slideLayout+xml"/>
  <Override PartName="/ppt/slideLayouts/slideLayout475.xml" ContentType="application/vnd.openxmlformats-officedocument.presentationml.slideLayout+xml"/>
  <Override PartName="/ppt/slideLayouts/slideLayout1104.xml" ContentType="application/vnd.openxmlformats-officedocument.presentationml.slideLayout+xml"/>
  <Override PartName="/ppt/slideLayouts/slideLayout1130.xml" ContentType="application/vnd.openxmlformats-officedocument.presentationml.slideLayout+xml"/>
  <Override PartName="/ppt/slideLayouts/slideLayout686.xml" ContentType="application/vnd.openxmlformats-officedocument.presentationml.slideLayout+xml"/>
  <Override PartName="/ppt/slideLayouts/slideLayout1131.xml" ContentType="application/vnd.openxmlformats-officedocument.presentationml.slideLayout+xml"/>
  <Override PartName="/ppt/slideLayouts/slideLayout687.xml" ContentType="application/vnd.openxmlformats-officedocument.presentationml.slideLayout+xml"/>
  <Override PartName="/ppt/slideLayouts/slideLayout1132.xml" ContentType="application/vnd.openxmlformats-officedocument.presentationml.slideLayout+xml"/>
  <Override PartName="/ppt/slideLayouts/slideLayout93.xml" ContentType="application/vnd.openxmlformats-officedocument.presentationml.slideLayout+xml"/>
  <Override PartName="/ppt/slideLayouts/slideLayout209.xml" ContentType="application/vnd.openxmlformats-officedocument.presentationml.slideLayout+xml"/>
  <Override PartName="/ppt/slideLayouts/slideLayout688.xml" ContentType="application/vnd.openxmlformats-officedocument.presentationml.slideLayout+xml"/>
  <Override PartName="/ppt/slideLayouts/slideLayout1133.xml" ContentType="application/vnd.openxmlformats-officedocument.presentationml.slideLayout+xml"/>
  <Override PartName="/ppt/slideLayouts/slideLayout689.xml" ContentType="application/vnd.openxmlformats-officedocument.presentationml.slideLayout+xml"/>
  <Override PartName="/ppt/slideLayouts/slideLayout709.xml" ContentType="application/vnd.openxmlformats-officedocument.presentationml.slideLayout+xml"/>
  <Override PartName="/ppt/slideLayouts/slideLayout495.xml" ContentType="application/vnd.openxmlformats-officedocument.presentationml.slideLayout+xml"/>
  <Override PartName="/ppt/slideLayouts/slideLayout1111.xml" ContentType="application/vnd.openxmlformats-officedocument.presentationml.slideLayout+xml"/>
  <Override PartName="/ppt/slideLayouts/slideLayout482.xml" ContentType="application/vnd.openxmlformats-officedocument.presentationml.slideLayout+xml"/>
  <Override PartName="/ppt/slideLayouts/slideLayout1106.xml" ContentType="application/vnd.openxmlformats-officedocument.presentationml.slideLayout+xml"/>
  <Override PartName="/ppt/slideLayouts/slideLayout477.xml" ContentType="application/vnd.openxmlformats-officedocument.presentationml.slideLayout+xml"/>
  <Override PartName="/ppt/slideLayouts/slideLayout1164.xml" ContentType="application/vnd.openxmlformats-officedocument.presentationml.slideLayout+xml"/>
  <Override PartName="/ppt/slideLayouts/slideLayout1088.xml" ContentType="application/vnd.openxmlformats-officedocument.presentationml.slideLayout+xml"/>
  <Override PartName="/ppt/slideLayouts/slideLayout564.xml" ContentType="application/vnd.openxmlformats-officedocument.presentationml.slideLayout+xml"/>
  <Override PartName="/ppt/slideLayouts/slideLayout1058.xml" ContentType="application/vnd.openxmlformats-officedocument.presentationml.slideLayout+xml"/>
  <Override PartName="/ppt/slideLayouts/slideLayout534.xml" ContentType="application/vnd.openxmlformats-officedocument.presentationml.slideLayout+xml"/>
  <Override PartName="/ppt/slideLayouts/slideLayout496.xml" ContentType="application/vnd.openxmlformats-officedocument.presentationml.slideLayout+xml"/>
  <Override PartName="/ppt/slideLayouts/slideLayout1105.xml" ContentType="application/vnd.openxmlformats-officedocument.presentationml.slideLayout+xml"/>
  <Override PartName="/ppt/slideLayouts/slideLayout476.xml" ContentType="application/vnd.openxmlformats-officedocument.presentationml.slideLayout+xml"/>
  <Override PartName="/ppt/slideLayouts/slideLayout295.xml" ContentType="application/vnd.openxmlformats-officedocument.presentationml.slideLayout+xml"/>
  <Override PartName="/ppt/slideLayouts/slideLayout509.xml" ContentType="application/vnd.openxmlformats-officedocument.presentationml.slideLayout+xml"/>
  <Override PartName="/ppt/slideLayouts/slideLayout1163.xml" ContentType="application/vnd.openxmlformats-officedocument.presentationml.slideLayout+xml"/>
  <Override PartName="/ppt/slideLayouts/slideLayout1049.xml" ContentType="application/vnd.openxmlformats-officedocument.presentationml.slideLayout+xml"/>
  <Override PartName="/ppt/slideLayouts/slideLayout525.xml" ContentType="application/vnd.openxmlformats-officedocument.presentationml.slideLayout+xml"/>
  <Override PartName="/ppt/slideLayouts/slideLayout487.xml" ContentType="application/vnd.openxmlformats-officedocument.presentationml.slideLayout+xml"/>
  <Override PartName="/ppt/slideLayouts/slideLayout1116.xml" ContentType="application/vnd.openxmlformats-officedocument.presentationml.slideLayout+xml"/>
  <Override PartName="/ppt/slideLayouts/slideLayout294.xml" ContentType="application/vnd.openxmlformats-officedocument.presentationml.slideLayout+xml"/>
  <Override PartName="/ppt/slideLayouts/slideLayout508.xml" ContentType="application/vnd.openxmlformats-officedocument.presentationml.slideLayout+xml"/>
  <Override PartName="/ppt/slideLayouts/slideLayout1162.xml" ContentType="application/vnd.openxmlformats-officedocument.presentationml.slideLayout+xml"/>
  <Override PartName="/ppt/slideLayouts/slideLayout486.xml" ContentType="application/vnd.openxmlformats-officedocument.presentationml.slideLayout+xml"/>
  <Override PartName="/ppt/slideLayouts/slideLayout1115.xml" ContentType="application/vnd.openxmlformats-officedocument.presentationml.slideLayout+xml"/>
  <Override PartName="/ppt/slideLayouts/slideLayout293.xml" ContentType="application/vnd.openxmlformats-officedocument.presentationml.slideLayout+xml"/>
  <Override PartName="/ppt/slideLayouts/slideLayout507.xml" ContentType="application/vnd.openxmlformats-officedocument.presentationml.slideLayout+xml"/>
  <Override PartName="/ppt/slideLayouts/slideLayout460.xml" ContentType="application/vnd.openxmlformats-officedocument.presentationml.slideLayout+xml"/>
  <Override PartName="/ppt/slideLayouts/slideLayout208.xml" ContentType="application/vnd.openxmlformats-officedocument.presentationml.slideLayout+xml"/>
  <Override PartName="/ppt/slideLayouts/slideLayout92.xml" ContentType="application/vnd.openxmlformats-officedocument.presentationml.slideLayout+xml"/>
  <Override PartName="/ppt/slideLayouts/slideLayout148.xml" ContentType="application/vnd.openxmlformats-officedocument.presentationml.slideLayout+xml"/>
  <Override PartName="/ppt/slideLayouts/slideLayout998.xml" ContentType="application/vnd.openxmlformats-officedocument.presentationml.slideLayout+xml"/>
  <Override PartName="/ppt/slideLayouts/slideLayout342.xml" ContentType="application/vnd.openxmlformats-officedocument.presentationml.slideLayout+xml"/>
  <Override PartName="/ppt/slideLayouts/slideLayout54.xml" ContentType="application/vnd.openxmlformats-officedocument.presentationml.slideLayout+xml"/>
  <Override PartName="/ppt/slideLayouts/slideLayout422.xml" ContentType="application/vnd.openxmlformats-officedocument.presentationml.slideLayout+xml"/>
  <Override PartName="/ppt/slideLayouts/slideLayout270.xml" ContentType="application/vnd.openxmlformats-officedocument.presentationml.slideLayout+xml"/>
  <Override PartName="/ppt/slideLayouts/slideLayout1159.xml" ContentType="application/vnd.openxmlformats-officedocument.presentationml.slideLayout+xml"/>
  <Override PartName="/ppt/slideLayouts/slideLayout559.xml" ContentType="application/vnd.openxmlformats-officedocument.presentationml.slideLayout+xml"/>
  <Override PartName="/ppt/slideLayouts/slideLayout485.xml" ContentType="application/vnd.openxmlformats-officedocument.presentationml.slideLayout+xml"/>
  <Override PartName="/ppt/slideLayouts/slideLayout1114.xml" ContentType="application/vnd.openxmlformats-officedocument.presentationml.slideLayout+xml"/>
  <Override PartName="/ppt/slideLayouts/slideLayout1158.xml" ContentType="application/vnd.openxmlformats-officedocument.presentationml.slideLayout+xml"/>
  <Override PartName="/ppt/slideLayouts/slideLayout558.xml" ContentType="application/vnd.openxmlformats-officedocument.presentationml.slideLayout+xml"/>
  <Override PartName="/ppt/slideLayouts/slideLayout516.xml" ContentType="application/vnd.openxmlformats-officedocument.presentationml.slideLayout+xml"/>
  <Override PartName="/ppt/slideLayouts/slideLayout478.xml" ContentType="application/vnd.openxmlformats-officedocument.presentationml.slideLayout+xml"/>
  <Override PartName="/ppt/slideLayouts/slideLayout1107.xml" ContentType="application/vnd.openxmlformats-officedocument.presentationml.slideLayout+xml"/>
  <Override PartName="/ppt/slideLayouts/slideLayout350.xml" ContentType="application/vnd.openxmlformats-officedocument.presentationml.slideLayout+xml"/>
  <Override PartName="/ppt/slideLayouts/slideLayout1157.xml" ContentType="application/vnd.openxmlformats-officedocument.presentationml.slideLayout+xml"/>
  <Override PartName="/ppt/slideLayouts/slideLayout557.xml" ContentType="application/vnd.openxmlformats-officedocument.presentationml.slideLayout+xml"/>
  <Override PartName="/ppt/slideLayouts/slideLayout1118.xml" ContentType="application/vnd.openxmlformats-officedocument.presentationml.slideLayout+xml"/>
  <Override PartName="/ppt/slideLayouts/slideLayout489.xml" ContentType="application/vnd.openxmlformats-officedocument.presentationml.slideLayout+xml"/>
  <Override PartName="/ppt/slideLayouts/slideLayout398.xml" ContentType="application/vnd.openxmlformats-officedocument.presentationml.slideLayout+xml"/>
  <Override PartName="/ppt/slideLayouts/slideLayout1152.xml" ContentType="application/vnd.openxmlformats-officedocument.presentationml.slideLayout+xml"/>
  <Override PartName="/ppt/slideLayouts/slideLayout1015.xml" ContentType="application/vnd.openxmlformats-officedocument.presentationml.slideLayout+xml"/>
  <Override PartName="/ppt/slideLayouts/slideLayout386.xml" ContentType="application/vnd.openxmlformats-officedocument.presentationml.slideLayout+xml"/>
  <Override PartName="/ppt/slideLayouts/slideLayout1156.xml" ContentType="application/vnd.openxmlformats-officedocument.presentationml.slideLayout+xml"/>
  <Override PartName="/ppt/slideLayouts/slideLayout556.xml" ContentType="application/vnd.openxmlformats-officedocument.presentationml.slideLayout+xml"/>
  <Override PartName="/ppt/slideLayouts/slideLayout1117.xml" ContentType="application/vnd.openxmlformats-officedocument.presentationml.slideLayout+xml"/>
  <Override PartName="/ppt/slideLayouts/slideLayout488.xml" ContentType="application/vnd.openxmlformats-officedocument.presentationml.slideLayout+xml"/>
  <Override PartName="/ppt/slideLayouts/slideLayout397.xml" ContentType="application/vnd.openxmlformats-officedocument.presentationml.slideLayout+xml"/>
  <Override PartName="/ppt/slideLayouts/slideLayout1151.xml" ContentType="application/vnd.openxmlformats-officedocument.presentationml.slideLayout+xml"/>
  <Override PartName="/ppt/slideLayouts/slideLayout1014.xml" ContentType="application/vnd.openxmlformats-officedocument.presentationml.slideLayout+xml"/>
  <Override PartName="/ppt/slideLayouts/slideLayout385.xml" ContentType="application/vnd.openxmlformats-officedocument.presentationml.slideLayout+xml"/>
  <Override PartName="/ppt/slideLayouts/slideLayout396.xml" ContentType="application/vnd.openxmlformats-officedocument.presentationml.slideLayout+xml"/>
  <Override PartName="/ppt/slideLayouts/slideLayout147.xml" ContentType="application/vnd.openxmlformats-officedocument.presentationml.slideLayout+xml"/>
  <Override PartName="/ppt/slideLayouts/slideLayout997.xml" ContentType="application/vnd.openxmlformats-officedocument.presentationml.slideLayout+xml"/>
  <Override PartName="/ppt/slideLayouts/slideLayout341.xml" ContentType="application/vnd.openxmlformats-officedocument.presentationml.slideLayout+xml"/>
  <Override PartName="/ppt/slideLayouts/slideLayout53.xml" ContentType="application/vnd.openxmlformats-officedocument.presentationml.slideLayout+xml"/>
  <Override PartName="/ppt/slideLayouts/slideLayout421.xml" ContentType="application/vnd.openxmlformats-officedocument.presentationml.slideLayout+xml"/>
  <Override PartName="/ppt/slideLayouts/slideLayout462.xml" ContentType="application/vnd.openxmlformats-officedocument.presentationml.slideLayout+xml"/>
  <Override PartName="/ppt/slideLayouts/slideLayout94.xml" ContentType="application/vnd.openxmlformats-officedocument.presentationml.slideLayout+xml"/>
  <Override PartName="/ppt/slideLayouts/slideLayout395.xml" ContentType="application/vnd.openxmlformats-officedocument.presentationml.slideLayout+xml"/>
  <Override PartName="/ppt/slideLayouts/slideLayout500.xml" ContentType="application/vnd.openxmlformats-officedocument.presentationml.slideLayout+xml"/>
  <Override PartName="/ppt/slideLayouts/slideLayout1024.xml" ContentType="application/vnd.openxmlformats-officedocument.presentationml.slideLayout+xml"/>
  <Override PartName="/ppt/slideLayouts/slideLayout1012.xml" ContentType="application/vnd.openxmlformats-officedocument.presentationml.slideLayout+xml"/>
  <Override PartName="/ppt/slideLayouts/slideLayout1016.xml" ContentType="application/vnd.openxmlformats-officedocument.presentationml.slideLayout+xml"/>
  <Override PartName="/ppt/slideLayouts/slideLayout387.xml" ContentType="application/vnd.openxmlformats-officedocument.presentationml.slideLayout+xml"/>
  <Override PartName="/ppt/slideLayouts/slideLayout1153.xml" ContentType="application/vnd.openxmlformats-officedocument.presentationml.slideLayout+xml"/>
  <Override PartName="/ppt/slideLayouts/slideLayout146.xml" ContentType="application/vnd.openxmlformats-officedocument.presentationml.slideLayout+xml"/>
  <Override PartName="/ppt/slideLayouts/slideLayout996.xml" ContentType="application/vnd.openxmlformats-officedocument.presentationml.slideLayout+xml"/>
  <Override PartName="/ppt/slideLayouts/slideLayout340.xml" ContentType="application/vnd.openxmlformats-officedocument.presentationml.slideLayout+xml"/>
  <Override PartName="/ppt/slideLayouts/slideLayout52.xml" ContentType="application/vnd.openxmlformats-officedocument.presentationml.slideLayout+xml"/>
  <Override PartName="/ppt/slideLayouts/slideLayout420.xml" ContentType="application/vnd.openxmlformats-officedocument.presentationml.slideLayout+xml"/>
  <Override PartName="/ppt/slideLayouts/slideLayout1059.xml" ContentType="application/vnd.openxmlformats-officedocument.presentationml.slideLayout+xml"/>
  <Override PartName="/ppt/slideLayouts/slideLayout535.xml" ContentType="application/vnd.openxmlformats-officedocument.presentationml.slideLayout+xml"/>
  <Override PartName="/ppt/slideLayouts/slideLayout497.xml" ContentType="application/vnd.openxmlformats-officedocument.presentationml.slideLayout+xml"/>
  <Override PartName="/ppt/slideLayouts/slideLayout1110.xml" ContentType="application/vnd.openxmlformats-officedocument.presentationml.slideLayout+xml"/>
  <Override PartName="/ppt/slideLayouts/slideLayout481.xml" ContentType="application/vnd.openxmlformats-officedocument.presentationml.slideLayout+xml"/>
  <Override PartName="/ppt/slideLayouts/slideLayout1148.xml" ContentType="application/vnd.openxmlformats-officedocument.presentationml.slideLayout+xml"/>
  <Override PartName="/ppt/slideLayouts/slideLayout548.xml" ContentType="application/vnd.openxmlformats-officedocument.presentationml.slideLayout+xml"/>
  <Override PartName="/ppt/slideLayouts/slideLayout425.xml" ContentType="application/vnd.openxmlformats-officedocument.presentationml.slideLayout+xml"/>
  <Override PartName="/ppt/slideLayouts/slideLayout57.xml" ContentType="application/vnd.openxmlformats-officedocument.presentationml.slideLayout+xml"/>
  <Override PartName="/ppt/slideLayouts/slideLayout1013.xml" ContentType="application/vnd.openxmlformats-officedocument.presentationml.slideLayout+xml"/>
  <Override PartName="/ppt/slideLayouts/slideLayout1150.xml" ContentType="application/vnd.openxmlformats-officedocument.presentationml.slideLayout+xml"/>
  <Override PartName="/ppt/slideLayouts/slideLayout875.xml" ContentType="application/vnd.openxmlformats-officedocument.presentationml.slideLayout+xml"/>
  <Override PartName="/ppt/slideLayouts/slideLayout59.xml" ContentType="application/vnd.openxmlformats-officedocument.presentationml.slideLayout+xml"/>
  <Override PartName="/ppt/slideLayouts/slideLayout427.xml" ContentType="application/vnd.openxmlformats-officedocument.presentationml.slideLayout+xml"/>
  <Override PartName="/ppt/slideLayouts/slideLayout1161.xml" ContentType="application/vnd.openxmlformats-officedocument.presentationml.slideLayout+xml"/>
  <Override PartName="/ppt/slideLayouts/slideLayout1160.xml" ContentType="application/vnd.openxmlformats-officedocument.presentationml.slideLayout+xml"/>
  <Override PartName="/ppt/slideLayouts/slideLayout1023.xml" ContentType="application/vnd.openxmlformats-officedocument.presentationml.slideLayout+xml"/>
  <Override PartName="/ppt/slideLayouts/slideLayout1022.xml" ContentType="application/vnd.openxmlformats-officedocument.presentationml.slideLayout+xml"/>
  <Override PartName="/ppt/slideLayouts/slideLayout1021.xml" ContentType="application/vnd.openxmlformats-officedocument.presentationml.slideLayout+xml"/>
  <Override PartName="/ppt/slideLayouts/slideLayout1020.xml" ContentType="application/vnd.openxmlformats-officedocument.presentationml.slideLayout+xml"/>
  <Override PartName="/ppt/slideLayouts/slideLayout389.xml" ContentType="application/vnd.openxmlformats-officedocument.presentationml.slideLayout+xml"/>
  <Override PartName="/ppt/slideLayouts/slideLayout1018.xml" ContentType="application/vnd.openxmlformats-officedocument.presentationml.slideLayout+xml"/>
  <Override PartName="/ppt/slideLayouts/slideLayout1143.xml" ContentType="application/vnd.openxmlformats-officedocument.presentationml.slideLayout+xml"/>
  <Override PartName="/ppt/slideLayouts/slideLayout1006.xml" ContentType="application/vnd.openxmlformats-officedocument.presentationml.slideLayout+xml"/>
  <Override PartName="/ppt/slideLayouts/slideLayout377.xml" ContentType="application/vnd.openxmlformats-officedocument.presentationml.slideLayout+xml"/>
  <Override PartName="/ppt/slideLayouts/slideLayout1155.xml" ContentType="application/vnd.openxmlformats-officedocument.presentationml.slideLayout+xml"/>
  <Override PartName="/ppt/slideLayouts/slideLayout1079.xml" ContentType="application/vnd.openxmlformats-officedocument.presentationml.slideLayout+xml"/>
  <Override PartName="/ppt/slideLayouts/slideLayout555.xml" ContentType="application/vnd.openxmlformats-officedocument.presentationml.slideLayout+xml"/>
  <Override PartName="/ppt/slideLayouts/slideLayout388.xml" ContentType="application/vnd.openxmlformats-officedocument.presentationml.slideLayout+xml"/>
  <Override PartName="/ppt/slideLayouts/slideLayout1017.xml" ContentType="application/vnd.openxmlformats-officedocument.presentationml.slideLayout+xml"/>
  <Override PartName="/ppt/slideLayouts/slideLayout1142.xml" ContentType="application/vnd.openxmlformats-officedocument.presentationml.slideLayout+xml"/>
  <Override PartName="/ppt/slideLayouts/slideLayout1005.xml" ContentType="application/vnd.openxmlformats-officedocument.presentationml.slideLayout+xml"/>
  <Override PartName="/ppt/slideLayouts/slideLayout376.xml" ContentType="application/vnd.openxmlformats-officedocument.presentationml.slideLayout+xml"/>
  <Override PartName="/ppt/slideLayouts/slideLayout1154.xml" ContentType="application/vnd.openxmlformats-officedocument.presentationml.slideLayout+xml"/>
  <Override PartName="/ppt/slideLayouts/slideLayout1078.xml" ContentType="application/vnd.openxmlformats-officedocument.presentationml.slideLayout+xml"/>
  <Override PartName="/ppt/slideLayouts/slideLayout554.xml" ContentType="application/vnd.openxmlformats-officedocument.presentationml.slideLayout+xml"/>
  <Override PartName="/ppt/slideLayouts/slideLayout1141.xml" ContentType="application/vnd.openxmlformats-officedocument.presentationml.slideLayout+xml"/>
  <Override PartName="/ppt/slideLayouts/slideLayout1004.xml" ContentType="application/vnd.openxmlformats-officedocument.presentationml.slideLayout+xml"/>
  <Override PartName="/ppt/slideLayouts/slideLayout375.xml" ContentType="application/vnd.openxmlformats-officedocument.presentationml.slideLayout+xml"/>
  <Override PartName="/ppt/slideLayouts/slideLayout319.xml" ContentType="application/vnd.openxmlformats-officedocument.presentationml.slideLayout+xml"/>
  <Override PartName="/ppt/slideLayouts/slideLayout1140.xml" ContentType="application/vnd.openxmlformats-officedocument.presentationml.slideLayout+xml"/>
  <Override PartName="/ppt/slideLayouts/slideLayout1003.xml" ContentType="application/vnd.openxmlformats-officedocument.presentationml.slideLayout+xml"/>
  <Override PartName="/ppt/slideLayouts/slideLayout318.xml" ContentType="application/vnd.openxmlformats-officedocument.presentationml.slideLayout+xml"/>
  <Override PartName="/ppt/slideLayouts/slideLayout1002.xml" ContentType="application/vnd.openxmlformats-officedocument.presentationml.slideLayout+xml"/>
  <Override PartName="/ppt/slideLayouts/slideLayout279.xml" ContentType="application/vnd.openxmlformats-officedocument.presentationml.slideLayout+xml"/>
  <Override PartName="/ppt/slideLayouts/slideLayout1.xml" ContentType="application/vnd.openxmlformats-officedocument.presentationml.slideLayout+xml"/>
  <Override PartName="/ppt/slideLayouts/slideLayout317.xml" ContentType="application/vnd.openxmlformats-officedocument.presentationml.slideLayout+xml"/>
  <Override PartName="/ppt/slideLayouts/slideLayout1011.xml" ContentType="application/vnd.openxmlformats-officedocument.presentationml.slideLayout+xml"/>
  <Override PartName="/ppt/slideLayouts/slideLayout1010.xml" ContentType="application/vnd.openxmlformats-officedocument.presentationml.slideLayout+xml"/>
  <Override PartName="/ppt/slideLayouts/slideLayout379.xml" ContentType="application/vnd.openxmlformats-officedocument.presentationml.slideLayout+xml"/>
  <Override PartName="/ppt/slideLayouts/slideLayout1008.xml" ContentType="application/vnd.openxmlformats-officedocument.presentationml.slideLayout+xml"/>
  <Override PartName="/ppt/slideLayouts/slideLayout1145.xml" ContentType="application/vnd.openxmlformats-officedocument.presentationml.slideLayout+xml"/>
  <Override PartName="/ppt/slideLayouts/slideLayout1069.xml" ContentType="application/vnd.openxmlformats-officedocument.presentationml.slideLayout+xml"/>
  <Override PartName="/ppt/slideLayouts/slideLayout545.xml" ContentType="application/vnd.openxmlformats-officedocument.presentationml.slideLayout+xml"/>
  <Override PartName="/ppt/slideLayouts/slideLayout378.xml" ContentType="application/vnd.openxmlformats-officedocument.presentationml.slideLayout+xml"/>
  <Override PartName="/ppt/slideLayouts/slideLayout1007.xml" ContentType="application/vnd.openxmlformats-officedocument.presentationml.slideLayout+xml"/>
  <Override PartName="/ppt/slideLayouts/slideLayout1144.xml" ContentType="application/vnd.openxmlformats-officedocument.presentationml.slideLayout+xml"/>
  <Override PartName="/ppt/slideLayouts/slideLayout1068.xml" ContentType="application/vnd.openxmlformats-officedocument.presentationml.slideLayout+xml"/>
  <Override PartName="/ppt/slideLayouts/slideLayout544.xml" ContentType="application/vnd.openxmlformats-officedocument.presentationml.slideLayout+xml"/>
  <Override PartName="/ppt/slideLayouts/slideLayout309.xml" ContentType="application/vnd.openxmlformats-officedocument.presentationml.slideLayout+xml"/>
  <Override PartName="/ppt/slideLayouts/slideLayout308.xml" ContentType="application/vnd.openxmlformats-officedocument.presentationml.slideLayout+xml"/>
  <Override PartName="/ppt/slideLayouts/slideLayout96.xml" ContentType="application/vnd.openxmlformats-officedocument.presentationml.slideLayout+xml"/>
  <Override PartName="/ppt/slideLayouts/slideLayout464.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539.xml" ContentType="application/vnd.openxmlformats-officedocument.presentationml.slideLayout+xml"/>
  <Override PartName="/ppt/slideLayouts/slideLayout346.xml" ContentType="application/vnd.openxmlformats-officedocument.presentationml.slideLayout+xml"/>
  <Override PartName="/ppt/slideLayouts/slideLayout161.xml" ContentType="application/vnd.openxmlformats-officedocument.presentationml.slideLayout+xml"/>
  <Override PartName="/ppt/slideLayouts/slideLayout538.xml" ContentType="application/vnd.openxmlformats-officedocument.presentationml.slideLayout+xml"/>
  <Override PartName="/ppt/slideLayouts/slideLayout345.xml" ContentType="application/vnd.openxmlformats-officedocument.presentationml.slideLayout+xml"/>
  <Override PartName="/ppt/slideLayouts/slideLayout160.xml" ContentType="application/vnd.openxmlformats-officedocument.presentationml.slideLayout+xml"/>
  <Override PartName="/ppt/slideLayouts/slideLayout1001.xml" ContentType="application/vnd.openxmlformats-officedocument.presentationml.slideLayout+xml"/>
  <Override PartName="/ppt/slideLayouts/slideLayout278.xml" ContentType="application/vnd.openxmlformats-officedocument.presentationml.slideLayout+xml"/>
  <Override PartName="/ppt/slideLayouts/slideLayout316.xml" ContentType="application/vnd.openxmlformats-officedocument.presentationml.slideLayout+xml"/>
  <Override PartName="/ppt/slideLayouts/slideLayout499.xml" ContentType="application/vnd.openxmlformats-officedocument.presentationml.slideLayout+xml"/>
  <Override PartName="/ppt/slideLayouts/slideLayout537.xml" ContentType="application/vnd.openxmlformats-officedocument.presentationml.slideLayout+xml"/>
  <Override PartName="/ppt/slideLayouts/slideLayout344.xml" ContentType="application/vnd.openxmlformats-officedocument.presentationml.slideLayout+xml"/>
  <Override PartName="/ppt/slideLayouts/slideLayout1000.xml" ContentType="application/vnd.openxmlformats-officedocument.presentationml.slideLayout+xml"/>
  <Override PartName="/ppt/slideLayouts/slideLayout277.xml" ContentType="application/vnd.openxmlformats-officedocument.presentationml.slideLayout+xml"/>
  <Override PartName="/ppt/slideLayouts/slideLayout315.xml" ContentType="application/vnd.openxmlformats-officedocument.presentationml.slideLayout+xml"/>
  <Override PartName="/ppt/slideLayouts/slideLayout498.xml" ContentType="application/vnd.openxmlformats-officedocument.presentationml.slideLayout+xml"/>
  <Override PartName="/ppt/slideLayouts/slideLayout536.xml" ContentType="application/vnd.openxmlformats-officedocument.presentationml.slideLayout+xml"/>
  <Override PartName="/ppt/slideLayouts/slideLayout150.xml" ContentType="application/vnd.openxmlformats-officedocument.presentationml.slideLayout+xml"/>
  <Override PartName="/ppt/slideLayouts/slideLayout335.xml" ContentType="application/vnd.openxmlformats-officedocument.presentationml.slideLayout+xml"/>
  <Override PartName="/ppt/slideLayouts/slideLayout369.xml" ContentType="application/vnd.openxmlformats-officedocument.presentationml.slideLayout+xml"/>
  <Override PartName="/ppt/slideLayouts/slideLayout176.xml" ContentType="application/vnd.openxmlformats-officedocument.presentationml.slideLayout+xml"/>
  <Override PartName="/ppt/slideLayouts/slideLayout368.xml" ContentType="application/vnd.openxmlformats-officedocument.presentationml.slideLayout+xml"/>
  <Override PartName="/ppt/slideLayouts/slideLayout367.xml" ContentType="application/vnd.openxmlformats-officedocument.presentationml.slideLayout+xml"/>
  <Override PartName="/ppt/slideLayouts/slideLayout366.xml" ContentType="application/vnd.openxmlformats-officedocument.presentationml.slideLayout+xml"/>
  <Override PartName="/ppt/slideLayouts/slideLayout365.xml" ContentType="application/vnd.openxmlformats-officedocument.presentationml.slideLayout+xml"/>
  <Override PartName="/ppt/slideLayouts/slideLayout364.xml" ContentType="application/vnd.openxmlformats-officedocument.presentationml.slideLayout+xml"/>
  <Override PartName="/ppt/slideLayouts/slideLayout529.xml" ContentType="application/vnd.openxmlformats-officedocument.presentationml.slideLayout+xml"/>
  <Override PartName="/ppt/slideLayouts/slideLayout363.xml" ContentType="application/vnd.openxmlformats-officedocument.presentationml.slideLayout+xml"/>
  <Override PartName="/ppt/slideLayouts/slideLayout528.xml" ContentType="application/vnd.openxmlformats-officedocument.presentationml.slideLayout+xml"/>
  <Override PartName="/ppt/slideLayouts/slideLayout362.xml" ContentType="application/vnd.openxmlformats-officedocument.presentationml.slideLayout+xml"/>
  <Override PartName="/ppt/slideLayouts/slideLayout527.xml" ContentType="application/vnd.openxmlformats-officedocument.presentationml.slideLayout+xml"/>
  <Override PartName="/ppt/slideLayouts/slideLayout361.xml" ContentType="application/vnd.openxmlformats-officedocument.presentationml.slideLayout+xml"/>
  <Override PartName="/ppt/slideLayouts/slideLayout526.xml" ContentType="application/vnd.openxmlformats-officedocument.presentationml.slideLayout+xml"/>
  <Override PartName="/ppt/slideLayouts/slideLayout360.xml" ContentType="application/vnd.openxmlformats-officedocument.presentationml.slideLayout+xml"/>
  <Override PartName="/ppt/slideLayouts/slideLayout355.xml" ContentType="application/vnd.openxmlformats-officedocument.presentationml.slideLayout+xml"/>
  <Override PartName="/ppt/slideLayouts/slideLayout354.xml" ContentType="application/vnd.openxmlformats-officedocument.presentationml.slideLayout+xml"/>
  <Override PartName="/ppt/slideLayouts/slideLayout519.xml" ContentType="application/vnd.openxmlformats-officedocument.presentationml.slideLayout+xml"/>
  <Override PartName="/ppt/slideLayouts/slideLayout353.xml" ContentType="application/vnd.openxmlformats-officedocument.presentationml.slideLayout+xml"/>
  <Override PartName="/ppt/slideLayouts/slideLayout463.xml" ContentType="application/vnd.openxmlformats-officedocument.presentationml.slideLayout+xml"/>
  <Override PartName="/ppt/slideLayouts/slideLayout95.xml" ContentType="application/vnd.openxmlformats-officedocument.presentationml.slideLayout+xml"/>
  <Override PartName="/ppt/slideLayouts/slideLayout518.xml" ContentType="application/vnd.openxmlformats-officedocument.presentationml.slideLayout+xml"/>
  <Override PartName="/ppt/slideLayouts/slideLayout352.xml" ContentType="application/vnd.openxmlformats-officedocument.presentationml.slideLayout+xml"/>
  <Override PartName="/ppt/slideLayouts/slideLayout479.xml" ContentType="application/vnd.openxmlformats-officedocument.presentationml.slideLayout+xml"/>
  <Override PartName="/ppt/slideLayouts/slideLayout1108.xml" ContentType="application/vnd.openxmlformats-officedocument.presentationml.slideLayout+xml"/>
  <Override PartName="/ppt/slideLayouts/slideLayout351.xml" ContentType="application/vnd.openxmlformats-officedocument.presentationml.slideLayout+xml"/>
  <Override PartName="/ppt/slideLayouts/slideLayout517.xml" ContentType="application/vnd.openxmlformats-officedocument.presentationml.slideLayout+xml"/>
  <Override PartName="/ppt/slideLayouts/slideLayout297.xml" ContentType="application/vnd.openxmlformats-officedocument.presentationml.slideLayout+xml"/>
  <Override PartName="/ppt/slideLayouts/slideLayout469.xml" ContentType="application/vnd.openxmlformats-officedocument.presentationml.slideLayout+xml"/>
  <Override PartName="/ppt/slideLayouts/slideLayout468.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26.xml" ContentType="application/vnd.openxmlformats-officedocument.presentationml.slideLayout+xml"/>
  <Override PartName="/ppt/slideLayouts/slideLayout28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61.xml" ContentType="application/vnd.openxmlformats-officedocument.presentationml.slideLayout+xml"/>
  <Override PartName="/ppt/slideLayouts/slideLayout358.xml" ContentType="application/vnd.openxmlformats-officedocument.presentationml.slideLayout+xml"/>
  <Override PartName="/ppt/slideLayouts/slideLayout58.xml" ContentType="application/vnd.openxmlformats-officedocument.presentationml.slideLayout+xml"/>
  <Override PartName="/ppt/slideLayouts/slideLayout426.xml" ContentType="application/vnd.openxmlformats-officedocument.presentationml.slideLayout+xml"/>
  <Override PartName="/ppt/slideLayouts/slideLayout1149.xml" ContentType="application/vnd.openxmlformats-officedocument.presentationml.slideLayout+xml"/>
  <Override PartName="/ppt/slideLayouts/slideLayout549.xml" ContentType="application/vnd.openxmlformats-officedocument.presentationml.slideLayout+xml"/>
  <Override PartName="/ppt/slideLayouts/slideLayout260.xml" ContentType="application/vnd.openxmlformats-officedocument.presentationml.slideLayout+xml"/>
  <Override PartName="/ppt/slideLayouts/slideLayout357.xml" ContentType="application/vnd.openxmlformats-officedocument.presentationml.slideLayout+xml"/>
  <Override PartName="/ppt/slideLayouts/slideLayout356.xml" ContentType="application/vnd.openxmlformats-officedocument.presentationml.slideLayout+xml"/>
  <Override PartName="/ppt/slideLayouts/slideLayout1147.xml" ContentType="application/vnd.openxmlformats-officedocument.presentationml.slideLayout+xml"/>
  <Override PartName="/ppt/slideLayouts/slideLayout547.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1146.xml" ContentType="application/vnd.openxmlformats-officedocument.presentationml.slideLayout+xml"/>
  <Override PartName="/ppt/slideLayouts/slideLayout546.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8.xml" ContentType="application/vnd.openxmlformats-officedocument.presentationml.slideLayout+xml"/>
  <Override PartName="/ppt/slideLayouts/slideLayout347.xml" ContentType="application/vnd.openxmlformats-officedocument.presentationml.slideLayout+xml"/>
  <Override PartName="/ppt/slideLayouts/slideLayout177.xml" ContentType="application/vnd.openxmlformats-officedocument.presentationml.slideLayout+xml"/>
  <Override PartName="/ppt/slideLayouts/slideLayout285.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458.xml" ContentType="application/vnd.openxmlformats-officedocument.presentationml.slideLayout+xml"/>
  <Override PartName="/ppt/slideLayouts/slideLayout330.xml" ContentType="application/vnd.openxmlformats-officedocument.presentationml.slideLayout+xml"/>
  <Override PartName="/ppt/slideLayouts/slideLayout986.xml" ContentType="application/vnd.openxmlformats-officedocument.presentationml.slideLayout+xml"/>
  <Override PartName="/ppt/slideLayouts/slideLayout136.xml" ContentType="application/vnd.openxmlformats-officedocument.presentationml.slideLayout+xml"/>
  <Override PartName="/ppt/slideLayouts/slideLayout155.xml" ContentType="application/vnd.openxmlformats-officedocument.presentationml.slideLayout+xml"/>
  <Override PartName="/ppt/slideLayouts/slideLayout459.xml" ContentType="application/vnd.openxmlformats-officedocument.presentationml.slideLayout+xml"/>
  <Override PartName="/ppt/slideLayouts/slideLayout331.xml" ContentType="application/vnd.openxmlformats-officedocument.presentationml.slideLayout+xml"/>
  <Override PartName="/ppt/slideLayouts/slideLayout987.xml" ContentType="application/vnd.openxmlformats-officedocument.presentationml.slideLayout+xml"/>
  <Override PartName="/ppt/slideLayouts/slideLayout137.xml" ContentType="application/vnd.openxmlformats-officedocument.presentationml.slideLayout+xml"/>
  <Override PartName="/ppt/slideLayouts/slideLayout156.xml" ContentType="application/vnd.openxmlformats-officedocument.presentationml.slideLayout+xml"/>
  <Override PartName="/ppt/slideLayouts/slideLayout332.xml" ContentType="application/vnd.openxmlformats-officedocument.presentationml.slideLayout+xml"/>
  <Override PartName="/ppt/slideLayouts/slideLayout138.xml" ContentType="application/vnd.openxmlformats-officedocument.presentationml.slideLayout+xml"/>
  <Override PartName="/ppt/slideLayouts/slideLayout988.xml" ContentType="application/vnd.openxmlformats-officedocument.presentationml.slideLayout+xml"/>
  <Override PartName="/ppt/slideLayouts/slideLayout157.xml" ContentType="application/vnd.openxmlformats-officedocument.presentationml.slideLayout+xml"/>
  <Override PartName="/ppt/slideLayouts/slideLayout333.xml" ContentType="application/vnd.openxmlformats-officedocument.presentationml.slideLayout+xml"/>
  <Override PartName="/ppt/slideLayouts/slideLayout139.xml" ContentType="application/vnd.openxmlformats-officedocument.presentationml.slideLayout+xml"/>
  <Override PartName="/ppt/slideLayouts/slideLayout989.xml" ContentType="application/vnd.openxmlformats-officedocument.presentationml.slideLayout+xml"/>
  <Override PartName="/ppt/slideLayouts/slideLayout334.xml" ContentType="application/vnd.openxmlformats-officedocument.presentationml.slideLayout+xml"/>
  <Override PartName="/ppt/slideLayouts/slideLayout296.xml" ContentType="application/vnd.openxmlformats-officedocument.presentationml.slideLayout+xml"/>
  <Override PartName="/ppt/slideLayouts/slideLayout1025.xml" ContentType="application/vnd.openxmlformats-officedocument.presentationml.slideLayout+xml"/>
  <Override PartName="/ppt/slideLayouts/slideLayout501.xml" ContentType="application/vnd.openxmlformats-officedocument.presentationml.slideLayout+xml"/>
  <Override PartName="/ppt/slideLayouts/slideLayout1026.xml" ContentType="application/vnd.openxmlformats-officedocument.presentationml.slideLayout+xml"/>
  <Override PartName="/ppt/slideLayouts/slideLayout502.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090.xml" ContentType="application/vnd.openxmlformats-officedocument.presentationml.slideLayout+xml"/>
  <Override PartName="/ppt/slideLayouts/slideLayout168.xml" ContentType="application/vnd.openxmlformats-officedocument.presentationml.slideLayout+xml"/>
  <Override PartName="/ppt/slideLayouts/slideLayout1091.xml" ContentType="application/vnd.openxmlformats-officedocument.presentationml.slideLayout+xml"/>
  <Override PartName="/ppt/slideLayouts/slideLayout169.xml" ContentType="application/vnd.openxmlformats-officedocument.presentationml.slideLayout+xml"/>
  <Override PartName="/ppt/slideLayouts/slideLayout1092.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1027.xml" ContentType="application/vnd.openxmlformats-officedocument.presentationml.slideLayout+xml"/>
  <Override PartName="/ppt/slideLayouts/slideLayout503.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684.xml" ContentType="application/vnd.openxmlformats-officedocument.presentationml.slideLayout+xml"/>
  <Override PartName="/ppt/slideLayouts/slideLayout90.xml" ContentType="application/vnd.openxmlformats-officedocument.presentationml.slideLayout+xml"/>
  <Override PartName="/ppt/slideLayouts/slideLayout206.xml" ContentType="application/vnd.openxmlformats-officedocument.presentationml.slideLayout+xml"/>
  <Override PartName="/ppt/slideLayouts/slideLayout685.xml" ContentType="application/vnd.openxmlformats-officedocument.presentationml.slideLayout+xml"/>
  <Override PartName="/ppt/slideLayouts/slideLayout207.xml" ContentType="application/vnd.openxmlformats-officedocument.presentationml.slideLayout+xml"/>
  <Override PartName="/ppt/slideLayouts/slideLayout91.xml" ContentType="application/vnd.openxmlformats-officedocument.presentationml.slideLayout+xml"/>
  <Override PartName="/ppt/slideLayouts/slideLayout215.xml" ContentType="application/vnd.openxmlformats-officedocument.presentationml.slideLayout+xml"/>
  <Override PartName="/ppt/slideLayouts/slideLayout694.xml" ContentType="application/vnd.openxmlformats-officedocument.presentationml.slideLayout+xml"/>
  <Override PartName="/ppt/slideLayouts/slideLayout216.xml" ContentType="application/vnd.openxmlformats-officedocument.presentationml.slideLayout+xml"/>
  <Override PartName="/ppt/slideLayouts/slideLayout695.xml" ContentType="application/vnd.openxmlformats-officedocument.presentationml.slideLayout+xml"/>
  <Override PartName="/ppt/slideLayouts/slideLayout217.xml" ContentType="application/vnd.openxmlformats-officedocument.presentationml.slideLayout+xml"/>
  <Override PartName="/ppt/slideLayouts/slideLayout696.xml" ContentType="application/vnd.openxmlformats-officedocument.presentationml.slideLayout+xml"/>
  <Override PartName="/ppt/slideLayouts/slideLayout218.xml" ContentType="application/vnd.openxmlformats-officedocument.presentationml.slideLayout+xml"/>
  <Override PartName="/ppt/slideLayouts/slideLayout697.xml" ContentType="application/vnd.openxmlformats-officedocument.presentationml.slideLayout+xml"/>
  <Override PartName="/ppt/slideLayouts/slideLayout219.xml" ContentType="application/vnd.openxmlformats-officedocument.presentationml.slideLayout+xml"/>
  <Override PartName="/ppt/slideLayouts/slideLayout698.xml" ContentType="application/vnd.openxmlformats-officedocument.presentationml.slideLayout+xml"/>
  <Override PartName="/ppt/slideLayouts/slideLayout225.xml" ContentType="application/vnd.openxmlformats-officedocument.presentationml.slideLayout+xml"/>
  <Override PartName="/ppt/slideLayouts/slideLayout226.xml" ContentType="application/vnd.openxmlformats-officedocument.presentationml.slideLayout+xml"/>
  <Override PartName="/ppt/slideLayouts/slideLayout227.xml" ContentType="application/vnd.openxmlformats-officedocument.presentationml.slideLayout+xml"/>
  <Override PartName="/ppt/slideLayouts/slideLayout228.xml" ContentType="application/vnd.openxmlformats-officedocument.presentationml.slideLayout+xml"/>
  <Override PartName="/ppt/slideLayouts/slideLayout229.xml" ContentType="application/vnd.openxmlformats-officedocument.presentationml.slideLayout+xml"/>
  <Override PartName="/ppt/slideLayouts/slideLayout235.xml" ContentType="application/vnd.openxmlformats-officedocument.presentationml.slideLayout+xml"/>
  <Override PartName="/ppt/slideLayouts/slideLayout236.xml" ContentType="application/vnd.openxmlformats-officedocument.presentationml.slideLayout+xml"/>
  <Override PartName="/ppt/slideLayouts/slideLayout237.xml" ContentType="application/vnd.openxmlformats-officedocument.presentationml.slideLayout+xml"/>
  <Override PartName="/ppt/slideLayouts/slideLayout238.xml" ContentType="application/vnd.openxmlformats-officedocument.presentationml.slideLayout+xml"/>
  <Override PartName="/ppt/slideLayouts/slideLayout239.xml" ContentType="application/vnd.openxmlformats-officedocument.presentationml.slideLayout+xml"/>
  <Override PartName="/ppt/slideLayouts/slideLayout249.xml" ContentType="application/vnd.openxmlformats-officedocument.presentationml.slideLayout+xml"/>
  <Override PartName="/ppt/slideLayouts/slideLayout419.xml" ContentType="application/vnd.openxmlformats-officedocument.presentationml.slideLayout+xml"/>
  <Override PartName="/ppt/slideLayouts/slideLayout898.xml" ContentType="application/vnd.openxmlformats-officedocument.presentationml.slideLayout+xml"/>
  <Override PartName="/ppt/slideLayouts/slideLayout80.xml" ContentType="application/vnd.openxmlformats-officedocument.presentationml.slideLayout+xml"/>
  <Override PartName="/ppt/slideLayouts/slideLayout966.xml" ContentType="application/vnd.openxmlformats-officedocument.presentationml.slideLayout+xml"/>
  <Override PartName="/ppt/slideLayouts/slideLayout116.xml" ContentType="application/vnd.openxmlformats-officedocument.presentationml.slideLayout+xml"/>
  <Override PartName="/ppt/slideLayouts/slideLayout595.xml" ContentType="application/vnd.openxmlformats-officedocument.presentationml.slideLayout+xml"/>
  <Override PartName="/ppt/slideLayouts/slideLayout7.xml" ContentType="application/vnd.openxmlformats-officedocument.presentationml.slideLayout+xml"/>
  <Override PartName="/ppt/slideLayouts/slideLayout253.xml" ContentType="application/vnd.openxmlformats-officedocument.presentationml.slideLayout+xml"/>
  <Override PartName="/ppt/slideLayouts/slideLayout81.xml" ContentType="application/vnd.openxmlformats-officedocument.presentationml.slideLayout+xml"/>
  <Override PartName="/ppt/slideLayouts/slideLayout967.xml" ContentType="application/vnd.openxmlformats-officedocument.presentationml.slideLayout+xml"/>
  <Override PartName="/ppt/slideLayouts/slideLayout117.xml" ContentType="application/vnd.openxmlformats-officedocument.presentationml.slideLayout+xml"/>
  <Override PartName="/ppt/slideLayouts/slideLayout596.xml" ContentType="application/vnd.openxmlformats-officedocument.presentationml.slideLayout+xml"/>
  <Override PartName="/ppt/slideLayouts/slideLayout8.xml" ContentType="application/vnd.openxmlformats-officedocument.presentationml.slideLayout+xml"/>
  <Override PartName="/ppt/slideLayouts/slideLayout254.xml" ContentType="application/vnd.openxmlformats-officedocument.presentationml.slideLayout+xml"/>
  <Override PartName="/ppt/slideLayouts/slideLayout9.xml" ContentType="application/vnd.openxmlformats-officedocument.presentationml.slideLayout+xml"/>
  <Override PartName="/ppt/slideLayouts/slideLayout255.xml" ContentType="application/vnd.openxmlformats-officedocument.presentationml.slideLayout+xml"/>
  <Override PartName="/ppt/slideLayouts/slideLayout256.xml" ContentType="application/vnd.openxmlformats-officedocument.presentationml.slideLayout+xml"/>
  <Override PartName="/ppt/slideLayouts/slideLayout257.xml" ContentType="application/vnd.openxmlformats-officedocument.presentationml.slideLayout+xml"/>
  <Override PartName="/ppt/slideLayouts/slideLayout1089.xml" ContentType="application/vnd.openxmlformats-officedocument.presentationml.slideLayout+xml"/>
  <Override PartName="/ppt/slideLayouts/slideLayout565.xml" ContentType="application/vnd.openxmlformats-officedocument.presentationml.slideLayout+xml"/>
  <Override PartName="/ppt/slideLayouts/slideLayout566.xml" ContentType="application/vnd.openxmlformats-officedocument.presentationml.slideLayout+xml"/>
  <Override PartName="/ppt/slideLayouts/slideLayout567.xml" ContentType="application/vnd.openxmlformats-officedocument.presentationml.slideLayout+xml"/>
  <Override PartName="/ppt/slideLayouts/slideLayout568.xml" ContentType="application/vnd.openxmlformats-officedocument.presentationml.slideLayout+xml"/>
  <Override PartName="/ppt/slideLayouts/slideLayout569.xml" ContentType="application/vnd.openxmlformats-officedocument.presentationml.slideLayout+xml"/>
  <Override PartName="/ppt/slideLayouts/slideLayout1098.xml" ContentType="application/vnd.openxmlformats-officedocument.presentationml.slideLayout+xml"/>
  <Override PartName="/ppt/slideLayouts/slideLayout574.xml" ContentType="application/vnd.openxmlformats-officedocument.presentationml.slideLayout+xml"/>
  <Override PartName="/ppt/slideLayouts/slideLayout1099.xml" ContentType="application/vnd.openxmlformats-officedocument.presentationml.slideLayout+xml"/>
  <Override PartName="/ppt/slideLayouts/slideLayout575.xml" ContentType="application/vnd.openxmlformats-officedocument.presentationml.slideLayout+xml"/>
  <Override PartName="/ppt/slideLayouts/slideLayout576.xml" ContentType="application/vnd.openxmlformats-officedocument.presentationml.slideLayout+xml"/>
  <Override PartName="/ppt/slideLayouts/slideLayout577.xml" ContentType="application/vnd.openxmlformats-officedocument.presentationml.slideLayout+xml"/>
  <Override PartName="/ppt/slideLayouts/slideLayout578.xml" ContentType="application/vnd.openxmlformats-officedocument.presentationml.slideLayout+xml"/>
  <Override PartName="/ppt/slideLayouts/slideLayout579.xml" ContentType="application/vnd.openxmlformats-officedocument.presentationml.slideLayout+xml"/>
  <Override PartName="/ppt/slideLayouts/slideLayout589.xml" ContentType="application/vnd.openxmlformats-officedocument.presentationml.slideLayout+xml"/>
  <Override PartName="/ppt/slideLayouts/slideLayout1124.xml" ContentType="application/vnd.openxmlformats-officedocument.presentationml.slideLayout+xml"/>
  <Override PartName="/ppt/slideLayouts/slideLayout600.xml" ContentType="application/vnd.openxmlformats-officedocument.presentationml.slideLayout+xml"/>
  <Override PartName="/ppt/slideLayouts/slideLayout1125.xml" ContentType="application/vnd.openxmlformats-officedocument.presentationml.slideLayout+xml"/>
  <Override PartName="/ppt/slideLayouts/slideLayout601.xml" ContentType="application/vnd.openxmlformats-officedocument.presentationml.slideLayout+xml"/>
  <Override PartName="/ppt/slideLayouts/slideLayout1126.xml" ContentType="application/vnd.openxmlformats-officedocument.presentationml.slideLayout+xml"/>
  <Override PartName="/ppt/slideLayouts/slideLayout602.xml" ContentType="application/vnd.openxmlformats-officedocument.presentationml.slideLayout+xml"/>
  <Override PartName="/ppt/slideLayouts/slideLayout1127.xml" ContentType="application/vnd.openxmlformats-officedocument.presentationml.slideLayout+xml"/>
  <Override PartName="/ppt/slideLayouts/slideLayout603.xml" ContentType="application/vnd.openxmlformats-officedocument.presentationml.slideLayout+xml"/>
  <Override PartName="/ppt/slideLayouts/slideLayout1128.xml" ContentType="application/vnd.openxmlformats-officedocument.presentationml.slideLayout+xml"/>
  <Override PartName="/ppt/slideLayouts/slideLayout604.xml" ContentType="application/vnd.openxmlformats-officedocument.presentationml.slideLayout+xml"/>
  <Override PartName="/ppt/slideLayouts/slideLayout760.xml" ContentType="application/vnd.openxmlformats-officedocument.presentationml.slideLayout+xml"/>
  <Override PartName="/ppt/slideLayouts/slideLayout1129.xml" ContentType="application/vnd.openxmlformats-officedocument.presentationml.slideLayout+xml"/>
  <Override PartName="/ppt/slideLayouts/slideLayout605.xml" ContentType="application/vnd.openxmlformats-officedocument.presentationml.slideLayout+xml"/>
  <Override PartName="/ppt/slideLayouts/slideLayout606.xml" ContentType="application/vnd.openxmlformats-officedocument.presentationml.slideLayout+xml"/>
  <Override PartName="/ppt/slideLayouts/slideLayout607.xml" ContentType="application/vnd.openxmlformats-officedocument.presentationml.slideLayout+xml"/>
  <Override PartName="/ppt/slideLayouts/slideLayout608.xml" ContentType="application/vnd.openxmlformats-officedocument.presentationml.slideLayout+xml"/>
  <Override PartName="/ppt/slideLayouts/slideLayout609.xml" ContentType="application/vnd.openxmlformats-officedocument.presentationml.slideLayout+xml"/>
  <Override PartName="/ppt/slideLayouts/slideLayout1134.xml" ContentType="application/vnd.openxmlformats-officedocument.presentationml.slideLayout+xml"/>
  <Override PartName="/ppt/slideLayouts/slideLayout610.xml" ContentType="application/vnd.openxmlformats-officedocument.presentationml.slideLayout+xml"/>
  <Override PartName="/ppt/slideLayouts/slideLayout1135.xml" ContentType="application/vnd.openxmlformats-officedocument.presentationml.slideLayout+xml"/>
  <Override PartName="/ppt/slideLayouts/slideLayout611.xml" ContentType="application/vnd.openxmlformats-officedocument.presentationml.slideLayout+xml"/>
  <Override PartName="/ppt/slideLayouts/slideLayout1136.xml" ContentType="application/vnd.openxmlformats-officedocument.presentationml.slideLayout+xml"/>
  <Override PartName="/ppt/slideLayouts/slideLayout612.xml" ContentType="application/vnd.openxmlformats-officedocument.presentationml.slideLayout+xml"/>
  <Override PartName="/ppt/slideLayouts/slideLayout1137.xml" ContentType="application/vnd.openxmlformats-officedocument.presentationml.slideLayout+xml"/>
  <Override PartName="/ppt/slideLayouts/slideLayout613.xml" ContentType="application/vnd.openxmlformats-officedocument.presentationml.slideLayout+xml"/>
  <Override PartName="/ppt/slideLayouts/slideLayout1138.xml" ContentType="application/vnd.openxmlformats-officedocument.presentationml.slideLayout+xml"/>
  <Override PartName="/ppt/slideLayouts/slideLayout614.xml" ContentType="application/vnd.openxmlformats-officedocument.presentationml.slideLayout+xml"/>
  <Override PartName="/ppt/slideLayouts/slideLayout770.xml" ContentType="application/vnd.openxmlformats-officedocument.presentationml.slideLayout+xml"/>
  <Override PartName="/ppt/slideLayouts/slideLayout1139.xml" ContentType="application/vnd.openxmlformats-officedocument.presentationml.slideLayout+xml"/>
  <Override PartName="/ppt/slideLayouts/slideLayout615.xml" ContentType="application/vnd.openxmlformats-officedocument.presentationml.slideLayout+xml"/>
  <Override PartName="/ppt/slideLayouts/slideLayout616.xml" ContentType="application/vnd.openxmlformats-officedocument.presentationml.slideLayout+xml"/>
  <Override PartName="/ppt/slideLayouts/slideLayout617.xml" ContentType="application/vnd.openxmlformats-officedocument.presentationml.slideLayout+xml"/>
  <Override PartName="/ppt/slideLayouts/slideLayout618.xml" ContentType="application/vnd.openxmlformats-officedocument.presentationml.slideLayout+xml"/>
  <Override PartName="/ppt/slideLayouts/slideLayout619.xml" ContentType="application/vnd.openxmlformats-officedocument.presentationml.slideLayout+xml"/>
  <Override PartName="/ppt/slideLayouts/slideLayout620.xml" ContentType="application/vnd.openxmlformats-officedocument.presentationml.slideLayout+xml"/>
  <Override PartName="/ppt/slideLayouts/slideLayout805.xml" ContentType="application/vnd.openxmlformats-officedocument.presentationml.slideLayout+xml"/>
  <Override PartName="/ppt/slideLayouts/slideLayout621.xml" ContentType="application/vnd.openxmlformats-officedocument.presentationml.slideLayout+xml"/>
  <Override PartName="/ppt/slideLayouts/slideLayout806.xml" ContentType="application/vnd.openxmlformats-officedocument.presentationml.slideLayout+xml"/>
  <Override PartName="/ppt/slideLayouts/slideLayout622.xml" ContentType="application/vnd.openxmlformats-officedocument.presentationml.slideLayout+xml"/>
  <Override PartName="/ppt/slideLayouts/slideLayout807.xml" ContentType="application/vnd.openxmlformats-officedocument.presentationml.slideLayout+xml"/>
  <Override PartName="/ppt/slideLayouts/slideLayout623.xml" ContentType="application/vnd.openxmlformats-officedocument.presentationml.slideLayout+xml"/>
  <Override PartName="/ppt/slideLayouts/slideLayout808.xml" ContentType="application/vnd.openxmlformats-officedocument.presentationml.slideLayout+xml"/>
  <Override PartName="/ppt/slideLayouts/slideLayout624.xml" ContentType="application/vnd.openxmlformats-officedocument.presentationml.slideLayout+xml"/>
  <Override PartName="/ppt/slideLayouts/slideLayout809.xml" ContentType="application/vnd.openxmlformats-officedocument.presentationml.slideLayout+xml"/>
  <Override PartName="/ppt/slideLayouts/slideLayout625.xml" ContentType="application/vnd.openxmlformats-officedocument.presentationml.slideLayout+xml"/>
  <Override PartName="/ppt/slideLayouts/slideLayout626.xml" ContentType="application/vnd.openxmlformats-officedocument.presentationml.slideLayout+xml"/>
  <Override PartName="/ppt/slideLayouts/slideLayout627.xml" ContentType="application/vnd.openxmlformats-officedocument.presentationml.slideLayout+xml"/>
  <Override PartName="/ppt/slideLayouts/slideLayout628.xml" ContentType="application/vnd.openxmlformats-officedocument.presentationml.slideLayout+xml"/>
  <Override PartName="/ppt/slideLayouts/slideLayout629.xml" ContentType="application/vnd.openxmlformats-officedocument.presentationml.slideLayout+xml"/>
  <Override PartName="/ppt/slideLayouts/slideLayout18.xml" ContentType="application/vnd.openxmlformats-officedocument.presentationml.slideLayout+xml"/>
  <Override PartName="/ppt/slideLayouts/slideLayout630.xml" ContentType="application/vnd.openxmlformats-officedocument.presentationml.slideLayout+xml"/>
  <Override PartName="/ppt/slideLayouts/slideLayout815.xml" ContentType="application/vnd.openxmlformats-officedocument.presentationml.slideLayout+xml"/>
  <Override PartName="/ppt/slideLayouts/slideLayout19.xml" ContentType="application/vnd.openxmlformats-officedocument.presentationml.slideLayout+xml"/>
  <Override PartName="/ppt/slideLayouts/slideLayout631.xml" ContentType="application/vnd.openxmlformats-officedocument.presentationml.slideLayout+xml"/>
  <Override PartName="/ppt/slideLayouts/slideLayout816.xml" ContentType="application/vnd.openxmlformats-officedocument.presentationml.slideLayout+xml"/>
  <Override PartName="/ppt/slideLayouts/slideLayout632.xml" ContentType="application/vnd.openxmlformats-officedocument.presentationml.slideLayout+xml"/>
  <Override PartName="/ppt/slideLayouts/slideLayout817.xml" ContentType="application/vnd.openxmlformats-officedocument.presentationml.slideLayout+xml"/>
  <Override PartName="/ppt/slideLayouts/slideLayout633.xml" ContentType="application/vnd.openxmlformats-officedocument.presentationml.slideLayout+xml"/>
  <Override PartName="/ppt/slideLayouts/slideLayout818.xml" ContentType="application/vnd.openxmlformats-officedocument.presentationml.slideLayout+xml"/>
  <Override PartName="/ppt/slideLayouts/slideLayout634.xml" ContentType="application/vnd.openxmlformats-officedocument.presentationml.slideLayout+xml"/>
  <Override PartName="/ppt/slideLayouts/slideLayout819.xml" ContentType="application/vnd.openxmlformats-officedocument.presentationml.slideLayout+xml"/>
  <Override PartName="/ppt/slideLayouts/slideLayout635.xml" ContentType="application/vnd.openxmlformats-officedocument.presentationml.slideLayout+xml"/>
  <Override PartName="/ppt/slideLayouts/slideLayout636.xml" ContentType="application/vnd.openxmlformats-officedocument.presentationml.slideLayout+xml"/>
  <Override PartName="/ppt/slideLayouts/slideLayout637.xml" ContentType="application/vnd.openxmlformats-officedocument.presentationml.slideLayout+xml"/>
  <Override PartName="/ppt/slideLayouts/slideLayout638.xml" ContentType="application/vnd.openxmlformats-officedocument.presentationml.slideLayout+xml"/>
  <Override PartName="/ppt/slideLayouts/slideLayout639.xml" ContentType="application/vnd.openxmlformats-officedocument.presentationml.slideLayout+xml"/>
  <Override PartName="/ppt/slideLayouts/slideLayout28.xml" ContentType="application/vnd.openxmlformats-officedocument.presentationml.slideLayout+xml"/>
  <Override PartName="/ppt/slideLayouts/slideLayout640.xml" ContentType="application/vnd.openxmlformats-officedocument.presentationml.slideLayout+xml"/>
  <Override PartName="/ppt/slideLayouts/slideLayout825.xml" ContentType="application/vnd.openxmlformats-officedocument.presentationml.slideLayout+xml"/>
  <Override PartName="/ppt/slideLayouts/slideLayout29.xml" ContentType="application/vnd.openxmlformats-officedocument.presentationml.slideLayout+xml"/>
  <Override PartName="/ppt/slideLayouts/slideLayout641.xml" ContentType="application/vnd.openxmlformats-officedocument.presentationml.slideLayout+xml"/>
  <Override PartName="/ppt/slideLayouts/slideLayout826.xml" ContentType="application/vnd.openxmlformats-officedocument.presentationml.slideLayout+xml"/>
  <Override PartName="/ppt/slideLayouts/slideLayout642.xml" ContentType="application/vnd.openxmlformats-officedocument.presentationml.slideLayout+xml"/>
  <Override PartName="/ppt/slideLayouts/slideLayout827.xml" ContentType="application/vnd.openxmlformats-officedocument.presentationml.slideLayout+xml"/>
  <Override PartName="/ppt/slideLayouts/slideLayout643.xml" ContentType="application/vnd.openxmlformats-officedocument.presentationml.slideLayout+xml"/>
  <Override PartName="/ppt/slideLayouts/slideLayout828.xml" ContentType="application/vnd.openxmlformats-officedocument.presentationml.slideLayout+xml"/>
  <Override PartName="/ppt/slideLayouts/slideLayout644.xml" ContentType="application/vnd.openxmlformats-officedocument.presentationml.slideLayout+xml"/>
  <Override PartName="/ppt/slideLayouts/slideLayout829.xml" ContentType="application/vnd.openxmlformats-officedocument.presentationml.slideLayout+xml"/>
  <Override PartName="/ppt/slideLayouts/slideLayout645.xml" ContentType="application/vnd.openxmlformats-officedocument.presentationml.slideLayout+xml"/>
  <Override PartName="/ppt/slideLayouts/slideLayout646.xml" ContentType="application/vnd.openxmlformats-officedocument.presentationml.slideLayout+xml"/>
  <Override PartName="/ppt/slideLayouts/slideLayout647.xml" ContentType="application/vnd.openxmlformats-officedocument.presentationml.slideLayout+xml"/>
  <Override PartName="/ppt/slideLayouts/slideLayout648.xml" ContentType="application/vnd.openxmlformats-officedocument.presentationml.slideLayout+xml"/>
  <Override PartName="/ppt/slideLayouts/slideLayout649.xml" ContentType="application/vnd.openxmlformats-officedocument.presentationml.slideLayout+xml"/>
  <Override PartName="/ppt/slideLayouts/slideLayout38.xml" ContentType="application/vnd.openxmlformats-officedocument.presentationml.slideLayout+xml"/>
  <Override PartName="/ppt/slideLayouts/slideLayout650.xml" ContentType="application/vnd.openxmlformats-officedocument.presentationml.slideLayout+xml"/>
  <Override PartName="/ppt/slideLayouts/slideLayout835.xml" ContentType="application/vnd.openxmlformats-officedocument.presentationml.slideLayout+xml"/>
  <Override PartName="/ppt/slideLayouts/slideLayout39.xml" ContentType="application/vnd.openxmlformats-officedocument.presentationml.slideLayout+xml"/>
  <Override PartName="/ppt/slideLayouts/slideLayout651.xml" ContentType="application/vnd.openxmlformats-officedocument.presentationml.slideLayout+xml"/>
  <Override PartName="/ppt/slideLayouts/slideLayout836.xml" ContentType="application/vnd.openxmlformats-officedocument.presentationml.slideLayout+xml"/>
  <Override PartName="/ppt/slideLayouts/slideLayout652.xml" ContentType="application/vnd.openxmlformats-officedocument.presentationml.slideLayout+xml"/>
  <Override PartName="/ppt/slideLayouts/slideLayout837.xml" ContentType="application/vnd.openxmlformats-officedocument.presentationml.slideLayout+xml"/>
  <Override PartName="/ppt/slideLayouts/slideLayout653.xml" ContentType="application/vnd.openxmlformats-officedocument.presentationml.slideLayout+xml"/>
  <Override PartName="/ppt/slideLayouts/slideLayout838.xml" ContentType="application/vnd.openxmlformats-officedocument.presentationml.slideLayout+xml"/>
  <Override PartName="/ppt/slideLayouts/slideLayout654.xml" ContentType="application/vnd.openxmlformats-officedocument.presentationml.slideLayout+xml"/>
  <Override PartName="/ppt/slideLayouts/slideLayout839.xml" ContentType="application/vnd.openxmlformats-officedocument.presentationml.slideLayout+xml"/>
  <Override PartName="/ppt/slideLayouts/slideLayout655.xml" ContentType="application/vnd.openxmlformats-officedocument.presentationml.slideLayout+xml"/>
  <Override PartName="/ppt/slideLayouts/slideLayout656.xml" ContentType="application/vnd.openxmlformats-officedocument.presentationml.slideLayout+xml"/>
  <Override PartName="/ppt/slideLayouts/slideLayout657.xml" ContentType="application/vnd.openxmlformats-officedocument.presentationml.slideLayout+xml"/>
  <Override PartName="/ppt/slideLayouts/slideLayout658.xml" ContentType="application/vnd.openxmlformats-officedocument.presentationml.slideLayout+xml"/>
  <Override PartName="/ppt/slideLayouts/slideLayout659.xml" ContentType="application/vnd.openxmlformats-officedocument.presentationml.slideLayout+xml"/>
  <Override PartName="/ppt/slideLayouts/slideLayout48.xml" ContentType="application/vnd.openxmlformats-officedocument.presentationml.slideLayout+xml"/>
  <Override PartName="/ppt/slideLayouts/slideLayout660.xml" ContentType="application/vnd.openxmlformats-officedocument.presentationml.slideLayout+xml"/>
  <Override PartName="/ppt/slideLayouts/slideLayout845.xml" ContentType="application/vnd.openxmlformats-officedocument.presentationml.slideLayout+xml"/>
  <Override PartName="/ppt/slideLayouts/slideLayout49.xml" ContentType="application/vnd.openxmlformats-officedocument.presentationml.slideLayout+xml"/>
  <Override PartName="/ppt/slideLayouts/slideLayout661.xml" ContentType="application/vnd.openxmlformats-officedocument.presentationml.slideLayout+xml"/>
  <Override PartName="/ppt/slideLayouts/slideLayout846.xml" ContentType="application/vnd.openxmlformats-officedocument.presentationml.slideLayout+xml"/>
  <Override PartName="/ppt/slideLayouts/slideLayout662.xml" ContentType="application/vnd.openxmlformats-officedocument.presentationml.slideLayout+xml"/>
  <Override PartName="/ppt/slideLayouts/slideLayout847.xml" ContentType="application/vnd.openxmlformats-officedocument.presentationml.slideLayout+xml"/>
  <Override PartName="/ppt/slideLayouts/slideLayout663.xml" ContentType="application/vnd.openxmlformats-officedocument.presentationml.slideLayout+xml"/>
  <Override PartName="/ppt/slideLayouts/slideLayout848.xml" ContentType="application/vnd.openxmlformats-officedocument.presentationml.slideLayout+xml"/>
  <Override PartName="/ppt/slideLayouts/slideLayout664.xml" ContentType="application/vnd.openxmlformats-officedocument.presentationml.slideLayout+xml"/>
  <Override PartName="/ppt/slideLayouts/slideLayout849.xml" ContentType="application/vnd.openxmlformats-officedocument.presentationml.slideLayout+xml"/>
  <Override PartName="/ppt/slideLayouts/slideLayout665.xml" ContentType="application/vnd.openxmlformats-officedocument.presentationml.slideLayout+xml"/>
  <Override PartName="/ppt/slideLayouts/slideLayout666.xml" ContentType="application/vnd.openxmlformats-officedocument.presentationml.slideLayout+xml"/>
  <Override PartName="/ppt/slideLayouts/slideLayout667.xml" ContentType="application/vnd.openxmlformats-officedocument.presentationml.slideLayout+xml"/>
  <Override PartName="/ppt/slideLayouts/slideLayout668.xml" ContentType="application/vnd.openxmlformats-officedocument.presentationml.slideLayout+xml"/>
  <Override PartName="/ppt/slideLayouts/slideLayout669.xml" ContentType="application/vnd.openxmlformats-officedocument.presentationml.slideLayout+xml"/>
  <Override PartName="/ppt/slideLayouts/slideLayout670.xml" ContentType="application/vnd.openxmlformats-officedocument.presentationml.slideLayout+xml"/>
  <Override PartName="/ppt/slideLayouts/slideLayout1039.xml" ContentType="application/vnd.openxmlformats-officedocument.presentationml.slideLayout+xml"/>
  <Override PartName="/ppt/slideLayouts/slideLayout515.xml" ContentType="application/vnd.openxmlformats-officedocument.presentationml.slideLayout+xml"/>
  <Override PartName="/ppt/slideLayouts/slideLayout671.xml" ContentType="application/vnd.openxmlformats-officedocument.presentationml.slideLayout+xml"/>
  <Override PartName="/ppt/slideLayouts/slideLayout672.xml" ContentType="application/vnd.openxmlformats-officedocument.presentationml.slideLayout+xml"/>
  <Override PartName="/ppt/slideLayouts/slideLayout673.xml" ContentType="application/vnd.openxmlformats-officedocument.presentationml.slideLayout+xml"/>
  <Override PartName="/ppt/slideLayouts/slideLayout674.xml" ContentType="application/vnd.openxmlformats-officedocument.presentationml.slideLayout+xml"/>
  <Override PartName="/ppt/slideLayouts/slideLayout699.xml" ContentType="application/vnd.openxmlformats-officedocument.presentationml.slideLayout+xml"/>
  <Override PartName="/ppt/slideLayouts/slideLayout710.xml" ContentType="application/vnd.openxmlformats-officedocument.presentationml.slideLayout+xml"/>
  <Override PartName="/ppt/slideLayouts/slideLayout711.xml" ContentType="application/vnd.openxmlformats-officedocument.presentationml.slideLayout+xml"/>
  <Override PartName="/ppt/slideLayouts/slideLayout712.xml" ContentType="application/vnd.openxmlformats-officedocument.presentationml.slideLayout+xml"/>
  <Override PartName="/ppt/slideLayouts/slideLayout713.xml" ContentType="application/vnd.openxmlformats-officedocument.presentationml.slideLayout+xml"/>
  <Override PartName="/ppt/slideLayouts/slideLayout714.xml" ContentType="application/vnd.openxmlformats-officedocument.presentationml.slideLayout+xml"/>
  <Override PartName="/ppt/slideLayouts/slideLayout180.xml" ContentType="application/vnd.openxmlformats-officedocument.presentationml.slideLayout+xml"/>
  <Override PartName="/ppt/slideLayouts/slideLayout715.xml" ContentType="application/vnd.openxmlformats-officedocument.presentationml.slideLayout+xml"/>
  <Override PartName="/ppt/slideLayouts/slideLayout181.xml" ContentType="application/vnd.openxmlformats-officedocument.presentationml.slideLayout+xml"/>
  <Override PartName="/ppt/slideLayouts/slideLayout716.xml" ContentType="application/vnd.openxmlformats-officedocument.presentationml.slideLayout+xml"/>
  <Override PartName="/ppt/slideLayouts/slideLayout182.xml" ContentType="application/vnd.openxmlformats-officedocument.presentationml.slideLayout+xml"/>
  <Override PartName="/ppt/slideLayouts/slideLayout717.xml" ContentType="application/vnd.openxmlformats-officedocument.presentationml.slideLayout+xml"/>
  <Override PartName="/ppt/slideLayouts/slideLayout183.xml" ContentType="application/vnd.openxmlformats-officedocument.presentationml.slideLayout+xml"/>
  <Override PartName="/ppt/slideLayouts/slideLayout718.xml" ContentType="application/vnd.openxmlformats-officedocument.presentationml.slideLayout+xml"/>
  <Override PartName="/ppt/slideLayouts/slideLayout184.xml" ContentType="application/vnd.openxmlformats-officedocument.presentationml.slideLayout+xml"/>
  <Override PartName="/ppt/slideLayouts/slideLayout719.xml" ContentType="application/vnd.openxmlformats-officedocument.presentationml.slideLayout+xml"/>
  <Override PartName="/ppt/slideLayouts/slideLayout720.xml" ContentType="application/vnd.openxmlformats-officedocument.presentationml.slideLayout+xml"/>
  <Override PartName="/ppt/slideLayouts/slideLayout721.xml" ContentType="application/vnd.openxmlformats-officedocument.presentationml.slideLayout+xml"/>
  <Override PartName="/ppt/slideLayouts/slideLayout722.xml" ContentType="application/vnd.openxmlformats-officedocument.presentationml.slideLayout+xml"/>
  <Override PartName="/ppt/slideLayouts/slideLayout723.xml" ContentType="application/vnd.openxmlformats-officedocument.presentationml.slideLayout+xml"/>
  <Override PartName="/ppt/slideLayouts/slideLayout724.xml" ContentType="application/vnd.openxmlformats-officedocument.presentationml.slideLayout+xml"/>
  <Override PartName="/ppt/slideLayouts/slideLayout190.xml" ContentType="application/vnd.openxmlformats-officedocument.presentationml.slideLayout+xml"/>
  <Override PartName="/ppt/slideLayouts/slideLayout725.xml" ContentType="application/vnd.openxmlformats-officedocument.presentationml.slideLayout+xml"/>
  <Override PartName="/ppt/slideLayouts/slideLayout191.xml" ContentType="application/vnd.openxmlformats-officedocument.presentationml.slideLayout+xml"/>
  <Override PartName="/ppt/slideLayouts/slideLayout726.xml" ContentType="application/vnd.openxmlformats-officedocument.presentationml.slideLayout+xml"/>
  <Override PartName="/ppt/slideLayouts/slideLayout192.xml" ContentType="application/vnd.openxmlformats-officedocument.presentationml.slideLayout+xml"/>
  <Override PartName="/ppt/slideLayouts/slideLayout727.xml" ContentType="application/vnd.openxmlformats-officedocument.presentationml.slideLayout+xml"/>
  <Override PartName="/ppt/slideLayouts/slideLayout193.xml" ContentType="application/vnd.openxmlformats-officedocument.presentationml.slideLayout+xml"/>
  <Override PartName="/ppt/slideLayouts/slideLayout728.xml" ContentType="application/vnd.openxmlformats-officedocument.presentationml.slideLayout+xml"/>
  <Override PartName="/ppt/slideLayouts/slideLayout194.xml" ContentType="application/vnd.openxmlformats-officedocument.presentationml.slideLayout+xml"/>
  <Override PartName="/ppt/slideLayouts/slideLayout729.xml" ContentType="application/vnd.openxmlformats-officedocument.presentationml.slideLayout+xml"/>
  <Override PartName="/ppt/slideLayouts/slideLayout730.xml" ContentType="application/vnd.openxmlformats-officedocument.presentationml.slideLayout+xml"/>
  <Override PartName="/ppt/slideLayouts/slideLayout731.xml" ContentType="application/vnd.openxmlformats-officedocument.presentationml.slideLayout+xml"/>
  <Override PartName="/ppt/slideLayouts/slideLayout732.xml" ContentType="application/vnd.openxmlformats-officedocument.presentationml.slideLayout+xml"/>
  <Override PartName="/ppt/slideLayouts/slideLayout733.xml" ContentType="application/vnd.openxmlformats-officedocument.presentationml.slideLayout+xml"/>
  <Override PartName="/ppt/slideLayouts/slideLayout734.xml" ContentType="application/vnd.openxmlformats-officedocument.presentationml.slideLayout+xml"/>
  <Override PartName="/ppt/slideLayouts/slideLayout735.xml" ContentType="application/vnd.openxmlformats-officedocument.presentationml.slideLayout+xml"/>
  <Override PartName="/ppt/slideLayouts/slideLayout736.xml" ContentType="application/vnd.openxmlformats-officedocument.presentationml.slideLayout+xml"/>
  <Override PartName="/ppt/slideLayouts/slideLayout737.xml" ContentType="application/vnd.openxmlformats-officedocument.presentationml.slideLayout+xml"/>
  <Override PartName="/ppt/slideLayouts/slideLayout738.xml" ContentType="application/vnd.openxmlformats-officedocument.presentationml.slideLayout+xml"/>
  <Override PartName="/ppt/slideLayouts/slideLayout739.xml" ContentType="application/vnd.openxmlformats-officedocument.presentationml.slideLayout+xml"/>
  <Override PartName="/ppt/slideLayouts/slideLayout740.xml" ContentType="application/vnd.openxmlformats-officedocument.presentationml.slideLayout+xml"/>
  <Override PartName="/ppt/slideLayouts/slideLayout1109.xml" ContentType="application/vnd.openxmlformats-officedocument.presentationml.slideLayout+xml"/>
  <Override PartName="/ppt/slideLayouts/slideLayout741.xml" ContentType="application/vnd.openxmlformats-officedocument.presentationml.slideLayout+xml"/>
  <Override PartName="/ppt/slideLayouts/slideLayout742.xml" ContentType="application/vnd.openxmlformats-officedocument.presentationml.slideLayout+xml"/>
  <Override PartName="/ppt/slideLayouts/slideLayout743.xml" ContentType="application/vnd.openxmlformats-officedocument.presentationml.slideLayout+xml"/>
  <Override PartName="/ppt/slideLayouts/slideLayout744.xml" ContentType="application/vnd.openxmlformats-officedocument.presentationml.slideLayout+xml"/>
  <Override PartName="/ppt/slideLayouts/slideLayout745.xml" ContentType="application/vnd.openxmlformats-officedocument.presentationml.slideLayout+xml"/>
  <Override PartName="/ppt/slideLayouts/slideLayout746.xml" ContentType="application/vnd.openxmlformats-officedocument.presentationml.slideLayout+xml"/>
  <Override PartName="/ppt/slideLayouts/slideLayout747.xml" ContentType="application/vnd.openxmlformats-officedocument.presentationml.slideLayout+xml"/>
  <Override PartName="/ppt/slideLayouts/slideLayout748.xml" ContentType="application/vnd.openxmlformats-officedocument.presentationml.slideLayout+xml"/>
  <Override PartName="/ppt/slideLayouts/slideLayout749.xml" ContentType="application/vnd.openxmlformats-officedocument.presentationml.slideLayout+xml"/>
  <Override PartName="/ppt/slideLayouts/slideLayout751.xml" ContentType="application/vnd.openxmlformats-officedocument.presentationml.slideLayout+xml"/>
  <Override PartName="/ppt/slideLayouts/slideLayout752.xml" ContentType="application/vnd.openxmlformats-officedocument.presentationml.slideLayout+xml"/>
  <Override PartName="/ppt/slideLayouts/slideLayout753.xml" ContentType="application/vnd.openxmlformats-officedocument.presentationml.slideLayout+xml"/>
  <Override PartName="/ppt/slideLayouts/slideLayout754.xml" ContentType="application/vnd.openxmlformats-officedocument.presentationml.slideLayout+xml"/>
  <Override PartName="/ppt/slideLayouts/slideLayout755.xml" ContentType="application/vnd.openxmlformats-officedocument.presentationml.slideLayout+xml"/>
  <Override PartName="/ppt/slideLayouts/slideLayout756.xml" ContentType="application/vnd.openxmlformats-officedocument.presentationml.slideLayout+xml"/>
  <Override PartName="/ppt/slideLayouts/slideLayout757.xml" ContentType="application/vnd.openxmlformats-officedocument.presentationml.slideLayout+xml"/>
  <Override PartName="/ppt/slideLayouts/slideLayout758.xml" ContentType="application/vnd.openxmlformats-officedocument.presentationml.slideLayout+xml"/>
  <Override PartName="/ppt/slideLayouts/slideLayout759.xml" ContentType="application/vnd.openxmlformats-officedocument.presentationml.slideLayout+xml"/>
  <Override PartName="/ppt/slideLayouts/slideLayout761.xml" ContentType="application/vnd.openxmlformats-officedocument.presentationml.slideLayout+xml"/>
  <Override PartName="/ppt/slideLayouts/slideLayout762.xml" ContentType="application/vnd.openxmlformats-officedocument.presentationml.slideLayout+xml"/>
  <Override PartName="/ppt/slideLayouts/slideLayout763.xml" ContentType="application/vnd.openxmlformats-officedocument.presentationml.slideLayout+xml"/>
  <Override PartName="/ppt/slideLayouts/slideLayout764.xml" ContentType="application/vnd.openxmlformats-officedocument.presentationml.slideLayout+xml"/>
  <Override PartName="/ppt/slideLayouts/slideLayout765.xml" ContentType="application/vnd.openxmlformats-officedocument.presentationml.slideLayout+xml"/>
  <Override PartName="/ppt/slideLayouts/slideLayout766.xml" ContentType="application/vnd.openxmlformats-officedocument.presentationml.slideLayout+xml"/>
  <Override PartName="/ppt/slideLayouts/slideLayout767.xml" ContentType="application/vnd.openxmlformats-officedocument.presentationml.slideLayout+xml"/>
  <Override PartName="/ppt/slideLayouts/slideLayout768.xml" ContentType="application/vnd.openxmlformats-officedocument.presentationml.slideLayout+xml"/>
  <Override PartName="/ppt/slideLayouts/slideLayout769.xml" ContentType="application/vnd.openxmlformats-officedocument.presentationml.slideLayout+xml"/>
  <Override PartName="/ppt/slideLayouts/slideLayout771.xml" ContentType="application/vnd.openxmlformats-officedocument.presentationml.slideLayout+xml"/>
  <Override PartName="/ppt/slideLayouts/slideLayout772.xml" ContentType="application/vnd.openxmlformats-officedocument.presentationml.slideLayout+xml"/>
  <Override PartName="/ppt/slideLayouts/slideLayout773.xml" ContentType="application/vnd.openxmlformats-officedocument.presentationml.slideLayout+xml"/>
  <Override PartName="/ppt/slideLayouts/slideLayout774.xml" ContentType="application/vnd.openxmlformats-officedocument.presentationml.slideLayout+xml"/>
  <Override PartName="/ppt/slideLayouts/slideLayout775.xml" ContentType="application/vnd.openxmlformats-officedocument.presentationml.slideLayout+xml"/>
  <Override PartName="/ppt/slideLayouts/slideLayout776.xml" ContentType="application/vnd.openxmlformats-officedocument.presentationml.slideLayout+xml"/>
  <Override PartName="/ppt/slideLayouts/slideLayout777.xml" ContentType="application/vnd.openxmlformats-officedocument.presentationml.slideLayout+xml"/>
  <Override PartName="/ppt/slideLayouts/slideLayout778.xml" ContentType="application/vnd.openxmlformats-officedocument.presentationml.slideLayout+xml"/>
  <Override PartName="/ppt/slideLayouts/slideLayout779.xml" ContentType="application/vnd.openxmlformats-officedocument.presentationml.slideLayout+xml"/>
  <Override PartName="/ppt/slideLayouts/slideLayout780.xml" ContentType="application/vnd.openxmlformats-officedocument.presentationml.slideLayout+xml"/>
  <Override PartName="/ppt/slideLayouts/slideLayout781.xml" ContentType="application/vnd.openxmlformats-officedocument.presentationml.slideLayout+xml"/>
  <Override PartName="/ppt/slideLayouts/slideLayout782.xml" ContentType="application/vnd.openxmlformats-officedocument.presentationml.slideLayout+xml"/>
  <Override PartName="/ppt/slideLayouts/slideLayout783.xml" ContentType="application/vnd.openxmlformats-officedocument.presentationml.slideLayout+xml"/>
  <Override PartName="/ppt/slideLayouts/slideLayout784.xml" ContentType="application/vnd.openxmlformats-officedocument.presentationml.slideLayout+xml"/>
  <Override PartName="/ppt/slideLayouts/slideLayout785.xml" ContentType="application/vnd.openxmlformats-officedocument.presentationml.slideLayout+xml"/>
  <Override PartName="/ppt/slideLayouts/slideLayout786.xml" ContentType="application/vnd.openxmlformats-officedocument.presentationml.slideLayout+xml"/>
  <Override PartName="/ppt/slideLayouts/slideLayout787.xml" ContentType="application/vnd.openxmlformats-officedocument.presentationml.slideLayout+xml"/>
  <Override PartName="/ppt/slideLayouts/slideLayout788.xml" ContentType="application/vnd.openxmlformats-officedocument.presentationml.slideLayout+xml"/>
  <Override PartName="/ppt/slideLayouts/slideLayout789.xml" ContentType="application/vnd.openxmlformats-officedocument.presentationml.slideLayout+xml"/>
  <Override PartName="/ppt/slideLayouts/slideLayout790.xml" ContentType="application/vnd.openxmlformats-officedocument.presentationml.slideLayout+xml"/>
  <Override PartName="/ppt/slideLayouts/slideLayout791.xml" ContentType="application/vnd.openxmlformats-officedocument.presentationml.slideLayout+xml"/>
  <Override PartName="/ppt/slideLayouts/slideLayout700.xml" ContentType="application/vnd.openxmlformats-officedocument.presentationml.slideLayout+xml"/>
  <Override PartName="/ppt/slideLayouts/slideLayout792.xml" ContentType="application/vnd.openxmlformats-officedocument.presentationml.slideLayout+xml"/>
  <Override PartName="/ppt/slideLayouts/slideLayout701.xml" ContentType="application/vnd.openxmlformats-officedocument.presentationml.slideLayout+xml"/>
  <Override PartName="/ppt/slideLayouts/slideLayout793.xml" ContentType="application/vnd.openxmlformats-officedocument.presentationml.slideLayout+xml"/>
  <Override PartName="/ppt/slideLayouts/slideLayout702.xml" ContentType="application/vnd.openxmlformats-officedocument.presentationml.slideLayout+xml"/>
  <Override PartName="/ppt/slideLayouts/slideLayout794.xml" ContentType="application/vnd.openxmlformats-officedocument.presentationml.slideLayout+xml"/>
  <Override PartName="/ppt/slideLayouts/slideLayout703.xml" ContentType="application/vnd.openxmlformats-officedocument.presentationml.slideLayout+xml"/>
  <Override PartName="/ppt/slideLayouts/slideLayout795.xml" ContentType="application/vnd.openxmlformats-officedocument.presentationml.slideLayout+xml"/>
  <Override PartName="/ppt/slideLayouts/slideLayout704.xml" ContentType="application/vnd.openxmlformats-officedocument.presentationml.slideLayout+xml"/>
  <Override PartName="/ppt/slideLayouts/slideLayout796.xml" ContentType="application/vnd.openxmlformats-officedocument.presentationml.slideLayout+xml"/>
  <Override PartName="/ppt/slideLayouts/slideLayout705.xml" ContentType="application/vnd.openxmlformats-officedocument.presentationml.slideLayout+xml"/>
  <Override PartName="/ppt/slideLayouts/slideLayout797.xml" ContentType="application/vnd.openxmlformats-officedocument.presentationml.slideLayout+xml"/>
  <Override PartName="/ppt/slideLayouts/slideLayout706.xml" ContentType="application/vnd.openxmlformats-officedocument.presentationml.slideLayout+xml"/>
  <Override PartName="/ppt/slideLayouts/slideLayout798.xml" ContentType="application/vnd.openxmlformats-officedocument.presentationml.slideLayout+xml"/>
  <Override PartName="/ppt/slideLayouts/slideLayout707.xml" ContentType="application/vnd.openxmlformats-officedocument.presentationml.slideLayout+xml"/>
  <Override PartName="/ppt/slideLayouts/slideLayout799.xml" ContentType="application/vnd.openxmlformats-officedocument.presentationml.slideLayout+xml"/>
  <Override PartName="/ppt/slideLayouts/slideLayout800.xml" ContentType="application/vnd.openxmlformats-officedocument.presentationml.slideLayout+xml"/>
  <Override PartName="/ppt/slideLayouts/slideLayout801.xml" ContentType="application/vnd.openxmlformats-officedocument.presentationml.slideLayout+xml"/>
  <Override PartName="/ppt/slideLayouts/slideLayout802.xml" ContentType="application/vnd.openxmlformats-officedocument.presentationml.slideLayout+xml"/>
  <Override PartName="/ppt/slideLayouts/slideLayout803.xml" ContentType="application/vnd.openxmlformats-officedocument.presentationml.slideLayout+xml"/>
  <Override PartName="/ppt/slideLayouts/slideLayout804.xml" ContentType="application/vnd.openxmlformats-officedocument.presentationml.slideLayout+xml"/>
  <Override PartName="/ppt/slideLayouts/slideLayout810.xml" ContentType="application/vnd.openxmlformats-officedocument.presentationml.slideLayout+xml"/>
  <Override PartName="/ppt/slideLayouts/slideLayout811.xml" ContentType="application/vnd.openxmlformats-officedocument.presentationml.slideLayout+xml"/>
  <Override PartName="/ppt/slideLayouts/slideLayout812.xml" ContentType="application/vnd.openxmlformats-officedocument.presentationml.slideLayout+xml"/>
  <Override PartName="/ppt/slideLayouts/slideLayout813.xml" ContentType="application/vnd.openxmlformats-officedocument.presentationml.slideLayout+xml"/>
  <Override PartName="/ppt/slideLayouts/slideLayout814.xml" ContentType="application/vnd.openxmlformats-officedocument.presentationml.slideLayout+xml"/>
  <Override PartName="/ppt/slideLayouts/slideLayout820.xml" ContentType="application/vnd.openxmlformats-officedocument.presentationml.slideLayout+xml"/>
  <Override PartName="/ppt/slideLayouts/slideLayout821.xml" ContentType="application/vnd.openxmlformats-officedocument.presentationml.slideLayout+xml"/>
  <Override PartName="/ppt/slideLayouts/slideLayout822.xml" ContentType="application/vnd.openxmlformats-officedocument.presentationml.slideLayout+xml"/>
  <Override PartName="/ppt/slideLayouts/slideLayout823.xml" ContentType="application/vnd.openxmlformats-officedocument.presentationml.slideLayout+xml"/>
  <Override PartName="/ppt/slideLayouts/slideLayout824.xml" ContentType="application/vnd.openxmlformats-officedocument.presentationml.slideLayout+xml"/>
  <Override PartName="/ppt/slideLayouts/slideLayout830.xml" ContentType="application/vnd.openxmlformats-officedocument.presentationml.slideLayout+xml"/>
  <Override PartName="/ppt/slideLayouts/slideLayout831.xml" ContentType="application/vnd.openxmlformats-officedocument.presentationml.slideLayout+xml"/>
  <Override PartName="/ppt/slideLayouts/slideLayout832.xml" ContentType="application/vnd.openxmlformats-officedocument.presentationml.slideLayout+xml"/>
  <Override PartName="/ppt/slideLayouts/slideLayout833.xml" ContentType="application/vnd.openxmlformats-officedocument.presentationml.slideLayout+xml"/>
  <Override PartName="/ppt/slideLayouts/slideLayout834.xml" ContentType="application/vnd.openxmlformats-officedocument.presentationml.slideLayout+xml"/>
  <Override PartName="/ppt/slideLayouts/slideLayout840.xml" ContentType="application/vnd.openxmlformats-officedocument.presentationml.slideLayout+xml"/>
  <Override PartName="/ppt/slideLayouts/slideLayout841.xml" ContentType="application/vnd.openxmlformats-officedocument.presentationml.slideLayout+xml"/>
  <Override PartName="/ppt/slideLayouts/slideLayout842.xml" ContentType="application/vnd.openxmlformats-officedocument.presentationml.slideLayout+xml"/>
  <Override PartName="/ppt/slideLayouts/slideLayout843.xml" ContentType="application/vnd.openxmlformats-officedocument.presentationml.slideLayout+xml"/>
  <Override PartName="/ppt/slideLayouts/slideLayout844.xml" ContentType="application/vnd.openxmlformats-officedocument.presentationml.slideLayout+xml"/>
  <Override PartName="/ppt/slideLayouts/slideLayout850.xml" ContentType="application/vnd.openxmlformats-officedocument.presentationml.slideLayout+xml"/>
  <Override PartName="/ppt/slideLayouts/slideLayout851.xml" ContentType="application/vnd.openxmlformats-officedocument.presentationml.slideLayout+xml"/>
  <Override PartName="/ppt/slideLayouts/slideLayout852.xml" ContentType="application/vnd.openxmlformats-officedocument.presentationml.slideLayout+xml"/>
  <Override PartName="/ppt/slideLayouts/slideLayout853.xml" ContentType="application/vnd.openxmlformats-officedocument.presentationml.slideLayout+xml"/>
  <Override PartName="/ppt/slideLayouts/slideLayout854.xml" ContentType="application/vnd.openxmlformats-officedocument.presentationml.slideLayout+xml"/>
  <Override PartName="/ppt/slideLayouts/slideLayout855.xml" ContentType="application/vnd.openxmlformats-officedocument.presentationml.slideLayout+xml"/>
  <Override PartName="/ppt/slideLayouts/slideLayout856.xml" ContentType="application/vnd.openxmlformats-officedocument.presentationml.slideLayout+xml"/>
  <Override PartName="/ppt/slideLayouts/slideLayout857.xml" ContentType="application/vnd.openxmlformats-officedocument.presentationml.slideLayout+xml"/>
  <Override PartName="/ppt/slideLayouts/slideLayout858.xml" ContentType="application/vnd.openxmlformats-officedocument.presentationml.slideLayout+xml"/>
  <Override PartName="/ppt/slideLayouts/slideLayout859.xml" ContentType="application/vnd.openxmlformats-officedocument.presentationml.slideLayout+xml"/>
  <Override PartName="/ppt/slideLayouts/slideLayout867.xml" ContentType="application/vnd.openxmlformats-officedocument.presentationml.slideLayout+xml"/>
  <Override PartName="/ppt/slideLayouts/slideLayout868.xml" ContentType="application/vnd.openxmlformats-officedocument.presentationml.slideLayout+xml"/>
  <Override PartName="/ppt/slideLayouts/slideLayout869.xml" ContentType="application/vnd.openxmlformats-officedocument.presentationml.slideLayout+xml"/>
  <Override PartName="/ppt/slideLayouts/slideLayout877.xml" ContentType="application/vnd.openxmlformats-officedocument.presentationml.slideLayout+xml"/>
  <Override PartName="/ppt/slideLayouts/slideLayout878.xml" ContentType="application/vnd.openxmlformats-officedocument.presentationml.slideLayout+xml"/>
  <Override PartName="/ppt/slideLayouts/slideLayout879.xml" ContentType="application/vnd.openxmlformats-officedocument.presentationml.slideLayout+xml"/>
  <Override PartName="/ppt/slideLayouts/slideLayout889.xml" ContentType="application/vnd.openxmlformats-officedocument.presentationml.slideLayout+xml"/>
  <Override PartName="/ppt/slideLayouts/slideLayout899.xml" ContentType="application/vnd.openxmlformats-officedocument.presentationml.slideLayout+xml"/>
  <Override PartName="/ppt/slideLayouts/slideLayout900.xml" ContentType="application/vnd.openxmlformats-officedocument.presentationml.slideLayout+xml"/>
  <Override PartName="/ppt/slideLayouts/slideLayout901.xml" ContentType="application/vnd.openxmlformats-officedocument.presentationml.slideLayout+xml"/>
  <Override PartName="/ppt/slideLayouts/slideLayout902.xml" ContentType="application/vnd.openxmlformats-officedocument.presentationml.slideLayout+xml"/>
  <Override PartName="/ppt/slideLayouts/slideLayout903.xml" ContentType="application/vnd.openxmlformats-officedocument.presentationml.slideLayout+xml"/>
  <Override PartName="/ppt/slideLayouts/slideLayout904.xml" ContentType="application/vnd.openxmlformats-officedocument.presentationml.slideLayout+xml"/>
  <Override PartName="/ppt/slideLayouts/slideLayout370.xml" ContentType="application/vnd.openxmlformats-officedocument.presentationml.slideLayout+xml"/>
  <Override PartName="/ppt/slideLayouts/slideLayout905.xml" ContentType="application/vnd.openxmlformats-officedocument.presentationml.slideLayout+xml"/>
  <Override PartName="/ppt/slideLayouts/slideLayout371.xml" ContentType="application/vnd.openxmlformats-officedocument.presentationml.slideLayout+xml"/>
  <Override PartName="/ppt/slideLayouts/slideLayout906.xml" ContentType="application/vnd.openxmlformats-officedocument.presentationml.slideLayout+xml"/>
  <Override PartName="/ppt/slideLayouts/slideLayout372.xml" ContentType="application/vnd.openxmlformats-officedocument.presentationml.slideLayout+xml"/>
  <Override PartName="/ppt/slideLayouts/slideLayout907.xml" ContentType="application/vnd.openxmlformats-officedocument.presentationml.slideLayout+xml"/>
  <Override PartName="/ppt/slideLayouts/slideLayout373.xml" ContentType="application/vnd.openxmlformats-officedocument.presentationml.slideLayout+xml"/>
  <Override PartName="/ppt/slideLayouts/slideLayout908.xml" ContentType="application/vnd.openxmlformats-officedocument.presentationml.slideLayout+xml"/>
  <Override PartName="/ppt/slideLayouts/slideLayout374.xml" ContentType="application/vnd.openxmlformats-officedocument.presentationml.slideLayout+xml"/>
  <Override PartName="/ppt/slideLayouts/slideLayout909.xml" ContentType="application/vnd.openxmlformats-officedocument.presentationml.slideLayout+xml"/>
  <Override PartName="/ppt/slideLayouts/slideLayout910.xml" ContentType="application/vnd.openxmlformats-officedocument.presentationml.slideLayout+xml"/>
  <Override PartName="/ppt/slideLayouts/slideLayout911.xml" ContentType="application/vnd.openxmlformats-officedocument.presentationml.slideLayout+xml"/>
  <Override PartName="/ppt/slideLayouts/slideLayout912.xml" ContentType="application/vnd.openxmlformats-officedocument.presentationml.slideLayout+xml"/>
  <Override PartName="/ppt/slideLayouts/slideLayout913.xml" ContentType="application/vnd.openxmlformats-officedocument.presentationml.slideLayout+xml"/>
  <Override PartName="/ppt/slideLayouts/slideLayout914.xml" ContentType="application/vnd.openxmlformats-officedocument.presentationml.slideLayout+xml"/>
  <Override PartName="/ppt/slideLayouts/slideLayout380.xml" ContentType="application/vnd.openxmlformats-officedocument.presentationml.slideLayout+xml"/>
  <Override PartName="/ppt/slideLayouts/slideLayout915.xml" ContentType="application/vnd.openxmlformats-officedocument.presentationml.slideLayout+xml"/>
  <Override PartName="/ppt/slideLayouts/slideLayout381.xml" ContentType="application/vnd.openxmlformats-officedocument.presentationml.slideLayout+xml"/>
  <Override PartName="/ppt/slideLayouts/slideLayout916.xml" ContentType="application/vnd.openxmlformats-officedocument.presentationml.slideLayout+xml"/>
  <Override PartName="/ppt/slideLayouts/slideLayout382.xml" ContentType="application/vnd.openxmlformats-officedocument.presentationml.slideLayout+xml"/>
  <Override PartName="/ppt/slideLayouts/slideLayout917.xml" ContentType="application/vnd.openxmlformats-officedocument.presentationml.slideLayout+xml"/>
  <Override PartName="/ppt/slideLayouts/slideLayout383.xml" ContentType="application/vnd.openxmlformats-officedocument.presentationml.slideLayout+xml"/>
  <Override PartName="/ppt/slideLayouts/slideLayout918.xml" ContentType="application/vnd.openxmlformats-officedocument.presentationml.slideLayout+xml"/>
  <Override PartName="/ppt/slideLayouts/slideLayout384.xml" ContentType="application/vnd.openxmlformats-officedocument.presentationml.slideLayout+xml"/>
  <Override PartName="/ppt/slideLayouts/slideLayout919.xml" ContentType="application/vnd.openxmlformats-officedocument.presentationml.slideLayout+xml"/>
  <Override PartName="/ppt/slideLayouts/slideLayout920.xml" ContentType="application/vnd.openxmlformats-officedocument.presentationml.slideLayout+xml"/>
  <Override PartName="/ppt/slideLayouts/slideLayout921.xml" ContentType="application/vnd.openxmlformats-officedocument.presentationml.slideLayout+xml"/>
  <Override PartName="/ppt/slideLayouts/slideLayout922.xml" ContentType="application/vnd.openxmlformats-officedocument.presentationml.slideLayout+xml"/>
  <Override PartName="/ppt/slideLayouts/slideLayout923.xml" ContentType="application/vnd.openxmlformats-officedocument.presentationml.slideLayout+xml"/>
  <Override PartName="/ppt/slideLayouts/slideLayout924.xml" ContentType="application/vnd.openxmlformats-officedocument.presentationml.slideLayout+xml"/>
  <Override PartName="/ppt/slideLayouts/slideLayout390.xml" ContentType="application/vnd.openxmlformats-officedocument.presentationml.slideLayout+xml"/>
  <Override PartName="/ppt/slideLayouts/slideLayout925.xml" ContentType="application/vnd.openxmlformats-officedocument.presentationml.slideLayout+xml"/>
  <Override PartName="/ppt/slideLayouts/slideLayout391.xml" ContentType="application/vnd.openxmlformats-officedocument.presentationml.slideLayout+xml"/>
  <Override PartName="/ppt/slideLayouts/slideLayout926.xml" ContentType="application/vnd.openxmlformats-officedocument.presentationml.slideLayout+xml"/>
  <Override PartName="/ppt/slideLayouts/slideLayout392.xml" ContentType="application/vnd.openxmlformats-officedocument.presentationml.slideLayout+xml"/>
  <Override PartName="/ppt/slideLayouts/slideLayout927.xml" ContentType="application/vnd.openxmlformats-officedocument.presentationml.slideLayout+xml"/>
  <Override PartName="/ppt/slideLayouts/slideLayout393.xml" ContentType="application/vnd.openxmlformats-officedocument.presentationml.slideLayout+xml"/>
  <Override PartName="/ppt/slideLayouts/slideLayout928.xml" ContentType="application/vnd.openxmlformats-officedocument.presentationml.slideLayout+xml"/>
  <Override PartName="/ppt/slideLayouts/slideLayout394.xml" ContentType="application/vnd.openxmlformats-officedocument.presentationml.slideLayout+xml"/>
  <Override PartName="/ppt/slideLayouts/slideLayout929.xml" ContentType="application/vnd.openxmlformats-officedocument.presentationml.slideLayout+xml"/>
  <Override PartName="/ppt/slideLayouts/slideLayout930.xml" ContentType="application/vnd.openxmlformats-officedocument.presentationml.slideLayout+xml"/>
  <Override PartName="/ppt/slideLayouts/slideLayout931.xml" ContentType="application/vnd.openxmlformats-officedocument.presentationml.slideLayout+xml"/>
  <Override PartName="/ppt/slideLayouts/slideLayout932.xml" ContentType="application/vnd.openxmlformats-officedocument.presentationml.slideLayout+xml"/>
  <Override PartName="/ppt/slideLayouts/slideLayout933.xml" ContentType="application/vnd.openxmlformats-officedocument.presentationml.slideLayout+xml"/>
  <Override PartName="/ppt/slideLayouts/slideLayout934.xml" ContentType="application/vnd.openxmlformats-officedocument.presentationml.slideLayout+xml"/>
  <Override PartName="/ppt/slideLayouts/slideLayout935.xml" ContentType="application/vnd.openxmlformats-officedocument.presentationml.slideLayout+xml"/>
  <Override PartName="/ppt/slideLayouts/slideLayout936.xml" ContentType="application/vnd.openxmlformats-officedocument.presentationml.slideLayout+xml"/>
  <Override PartName="/ppt/slideLayouts/slideLayout937.xml" ContentType="application/vnd.openxmlformats-officedocument.presentationml.slideLayout+xml"/>
  <Override PartName="/ppt/slideLayouts/slideLayout938.xml" ContentType="application/vnd.openxmlformats-officedocument.presentationml.slideLayout+xml"/>
  <Override PartName="/ppt/slideLayouts/slideLayout939.xml" ContentType="application/vnd.openxmlformats-officedocument.presentationml.slideLayout+xml"/>
  <Override PartName="/ppt/slideLayouts/slideLayout940.xml" ContentType="application/vnd.openxmlformats-officedocument.presentationml.slideLayout+xml"/>
  <Override PartName="/ppt/slideLayouts/slideLayout941.xml" ContentType="application/vnd.openxmlformats-officedocument.presentationml.slideLayout+xml"/>
  <Override PartName="/ppt/slideLayouts/slideLayout942.xml" ContentType="application/vnd.openxmlformats-officedocument.presentationml.slideLayout+xml"/>
  <Override PartName="/ppt/slideLayouts/slideLayout943.xml" ContentType="application/vnd.openxmlformats-officedocument.presentationml.slideLayout+xml"/>
  <Override PartName="/ppt/slideLayouts/slideLayout944.xml" ContentType="application/vnd.openxmlformats-officedocument.presentationml.slideLayout+xml"/>
  <Override PartName="/ppt/slideLayouts/slideLayout945.xml" ContentType="application/vnd.openxmlformats-officedocument.presentationml.slideLayout+xml"/>
  <Override PartName="/ppt/slideLayouts/slideLayout946.xml" ContentType="application/vnd.openxmlformats-officedocument.presentationml.slideLayout+xml"/>
  <Override PartName="/ppt/slideLayouts/slideLayout947.xml" ContentType="application/vnd.openxmlformats-officedocument.presentationml.slideLayout+xml"/>
  <Override PartName="/ppt/slideLayouts/slideLayout948.xml" ContentType="application/vnd.openxmlformats-officedocument.presentationml.slideLayout+xml"/>
  <Override PartName="/ppt/slideLayouts/slideLayout949.xml" ContentType="application/vnd.openxmlformats-officedocument.presentationml.slideLayout+xml"/>
  <Override PartName="/ppt/slideLayouts/slideLayout100.xml" ContentType="application/vnd.openxmlformats-officedocument.presentationml.slideLayout+xml"/>
  <Override PartName="/ppt/slideLayouts/slideLayout950.xml" ContentType="application/vnd.openxmlformats-officedocument.presentationml.slideLayout+xml"/>
  <Override PartName="/ppt/slideLayouts/slideLayout101.xml" ContentType="application/vnd.openxmlformats-officedocument.presentationml.slideLayout+xml"/>
  <Override PartName="/ppt/slideLayouts/slideLayout951.xml" ContentType="application/vnd.openxmlformats-officedocument.presentationml.slideLayout+xml"/>
  <Override PartName="/ppt/slideLayouts/slideLayout102.xml" ContentType="application/vnd.openxmlformats-officedocument.presentationml.slideLayout+xml"/>
  <Override PartName="/ppt/slideLayouts/slideLayout952.xml" ContentType="application/vnd.openxmlformats-officedocument.presentationml.slideLayout+xml"/>
  <Override PartName="/ppt/slideLayouts/slideLayout103.xml" ContentType="application/vnd.openxmlformats-officedocument.presentationml.slideLayout+xml"/>
  <Override PartName="/ppt/slideLayouts/slideLayout953.xml" ContentType="application/vnd.openxmlformats-officedocument.presentationml.slideLayout+xml"/>
  <Override PartName="/ppt/slideLayouts/slideLayout104.xml" ContentType="application/vnd.openxmlformats-officedocument.presentationml.slideLayout+xml"/>
  <Override PartName="/ppt/slideLayouts/slideLayout954.xml" ContentType="application/vnd.openxmlformats-officedocument.presentationml.slideLayout+xml"/>
  <Override PartName="/ppt/slideLayouts/slideLayout105.xml" ContentType="application/vnd.openxmlformats-officedocument.presentationml.slideLayout+xml"/>
  <Override PartName="/ppt/slideLayouts/slideLayout955.xml" ContentType="application/vnd.openxmlformats-officedocument.presentationml.slideLayout+xml"/>
  <Override PartName="/ppt/slideLayouts/slideLayout110.xml" ContentType="application/vnd.openxmlformats-officedocument.presentationml.slideLayout+xml"/>
  <Override PartName="/ppt/slideLayouts/slideLayout960.xml" ContentType="application/vnd.openxmlformats-officedocument.presentationml.slideLayout+xml"/>
  <Override PartName="/ppt/slideLayouts/slideLayout111.xml" ContentType="application/vnd.openxmlformats-officedocument.presentationml.slideLayout+xml"/>
  <Override PartName="/ppt/slideLayouts/slideLayout961.xml" ContentType="application/vnd.openxmlformats-officedocument.presentationml.slideLayout+xml"/>
  <Override PartName="/ppt/slideLayouts/slideLayout112.xml" ContentType="application/vnd.openxmlformats-officedocument.presentationml.slideLayout+xml"/>
  <Override PartName="/ppt/slideLayouts/slideLayout962.xml" ContentType="application/vnd.openxmlformats-officedocument.presentationml.slideLayout+xml"/>
  <Override PartName="/ppt/slideLayouts/slideLayout113.xml" ContentType="application/vnd.openxmlformats-officedocument.presentationml.slideLayout+xml"/>
  <Override PartName="/ppt/slideLayouts/slideLayout963.xml" ContentType="application/vnd.openxmlformats-officedocument.presentationml.slideLayout+xml"/>
  <Override PartName="/ppt/slideLayouts/slideLayout114.xml" ContentType="application/vnd.openxmlformats-officedocument.presentationml.slideLayout+xml"/>
  <Override PartName="/ppt/slideLayouts/slideLayout964.xml" ContentType="application/vnd.openxmlformats-officedocument.presentationml.slideLayout+xml"/>
  <Override PartName="/ppt/slideLayouts/slideLayout115.xml" ContentType="application/vnd.openxmlformats-officedocument.presentationml.slideLayout+xml"/>
  <Override PartName="/ppt/slideLayouts/slideLayout965.xml" ContentType="application/vnd.openxmlformats-officedocument.presentationml.slideLayout+xml"/>
  <Override PartName="/ppt/slideLayouts/slideLayout120.xml" ContentType="application/vnd.openxmlformats-officedocument.presentationml.slideLayout+xml"/>
  <Override PartName="/ppt/slideLayouts/slideLayout970.xml" ContentType="application/vnd.openxmlformats-officedocument.presentationml.slideLayout+xml"/>
  <Override PartName="/ppt/slideLayouts/slideLayout121.xml" ContentType="application/vnd.openxmlformats-officedocument.presentationml.slideLayout+xml"/>
  <Override PartName="/ppt/slideLayouts/slideLayout971.xml" ContentType="application/vnd.openxmlformats-officedocument.presentationml.slideLayout+xml"/>
  <Override PartName="/ppt/slideLayouts/slideLayout122.xml" ContentType="application/vnd.openxmlformats-officedocument.presentationml.slideLayout+xml"/>
  <Override PartName="/ppt/slideLayouts/slideLayout972.xml" ContentType="application/vnd.openxmlformats-officedocument.presentationml.slideLayout+xml"/>
  <Override PartName="/ppt/slideLayouts/slideLayout123.xml" ContentType="application/vnd.openxmlformats-officedocument.presentationml.slideLayout+xml"/>
  <Override PartName="/ppt/slideLayouts/slideLayout973.xml" ContentType="application/vnd.openxmlformats-officedocument.presentationml.slideLayout+xml"/>
  <Override PartName="/ppt/slideLayouts/slideLayout124.xml" ContentType="application/vnd.openxmlformats-officedocument.presentationml.slideLayout+xml"/>
  <Override PartName="/ppt/slideLayouts/slideLayout974.xml" ContentType="application/vnd.openxmlformats-officedocument.presentationml.slideLayout+xml"/>
  <Override PartName="/ppt/slideLayouts/slideLayout125.xml" ContentType="application/vnd.openxmlformats-officedocument.presentationml.slideLayout+xml"/>
  <Override PartName="/ppt/slideLayouts/slideLayout975.xml" ContentType="application/vnd.openxmlformats-officedocument.presentationml.slideLayout+xml"/>
  <Override PartName="/ppt/slideLayouts/slideLayout130.xml" ContentType="application/vnd.openxmlformats-officedocument.presentationml.slideLayout+xml"/>
  <Override PartName="/ppt/slideLayouts/slideLayout980.xml" ContentType="application/vnd.openxmlformats-officedocument.presentationml.slideLayout+xml"/>
  <Override PartName="/ppt/slideLayouts/slideLayout131.xml" ContentType="application/vnd.openxmlformats-officedocument.presentationml.slideLayout+xml"/>
  <Override PartName="/ppt/slideLayouts/slideLayout981.xml" ContentType="application/vnd.openxmlformats-officedocument.presentationml.slideLayout+xml"/>
  <Override PartName="/ppt/slideLayouts/slideLayout132.xml" ContentType="application/vnd.openxmlformats-officedocument.presentationml.slideLayout+xml"/>
  <Override PartName="/ppt/slideLayouts/slideLayout982.xml" ContentType="application/vnd.openxmlformats-officedocument.presentationml.slideLayout+xml"/>
  <Override PartName="/ppt/slideLayouts/slideLayout133.xml" ContentType="application/vnd.openxmlformats-officedocument.presentationml.slideLayout+xml"/>
  <Override PartName="/ppt/slideLayouts/slideLayout983.xml" ContentType="application/vnd.openxmlformats-officedocument.presentationml.slideLayout+xml"/>
  <Override PartName="/ppt/slideLayouts/slideLayout134.xml" ContentType="application/vnd.openxmlformats-officedocument.presentationml.slideLayout+xml"/>
  <Override PartName="/ppt/slideLayouts/slideLayout984.xml" ContentType="application/vnd.openxmlformats-officedocument.presentationml.slideLayout+xml"/>
  <Override PartName="/ppt/slideLayouts/slideLayout135.xml" ContentType="application/vnd.openxmlformats-officedocument.presentationml.slideLayout+xml"/>
  <Override PartName="/ppt/slideLayouts/slideLayout985.xml" ContentType="application/vnd.openxmlformats-officedocument.presentationml.slideLayout+xml"/>
  <Override PartName="/ppt/slideLayouts/slideLayout140.xml" ContentType="application/vnd.openxmlformats-officedocument.presentationml.slideLayout+xml"/>
  <Override PartName="/ppt/slideLayouts/slideLayout990.xml" ContentType="application/vnd.openxmlformats-officedocument.presentationml.slideLayout+xml"/>
  <Override PartName="/ppt/slideLayouts/slideLayout141.xml" ContentType="application/vnd.openxmlformats-officedocument.presentationml.slideLayout+xml"/>
  <Override PartName="/ppt/slideLayouts/slideLayout991.xml" ContentType="application/vnd.openxmlformats-officedocument.presentationml.slideLayout+xml"/>
  <Override PartName="/ppt/slideLayouts/slideLayout142.xml" ContentType="application/vnd.openxmlformats-officedocument.presentationml.slideLayout+xml"/>
  <Override PartName="/ppt/slideLayouts/slideLayout992.xml" ContentType="application/vnd.openxmlformats-officedocument.presentationml.slideLayout+xml"/>
  <Override PartName="/ppt/slideLayouts/slideLayout143.xml" ContentType="application/vnd.openxmlformats-officedocument.presentationml.slideLayout+xml"/>
  <Override PartName="/ppt/slideLayouts/slideLayout993.xml" ContentType="application/vnd.openxmlformats-officedocument.presentationml.slideLayout+xml"/>
  <Override PartName="/ppt/slideLayouts/slideLayout144.xml" ContentType="application/vnd.openxmlformats-officedocument.presentationml.slideLayout+xml"/>
  <Override PartName="/ppt/slideLayouts/slideLayout994.xml" ContentType="application/vnd.openxmlformats-officedocument.presentationml.slideLayout+xml"/>
  <Override PartName="/ppt/slideLayouts/slideLayout145.xml" ContentType="application/vnd.openxmlformats-officedocument.presentationml.slideLayout+xml"/>
  <Override PartName="/ppt/slideLayouts/slideLayout995.xml" ContentType="application/vnd.openxmlformats-officedocument.presentationml.slideLayout+xml"/>
  <Override PartName="/ppt/slideLayouts/slideLayout1009.xml" ContentType="application/vnd.openxmlformats-officedocument.presentationml.slideLayout+xml"/>
  <Override PartName="/ppt/slideLayouts/slideLayout1019.xml" ContentType="application/vnd.openxmlformats-officedocument.presentationml.slideLayout+xml"/>
  <Override PartName="/ppt/slideLayouts/slideLayout505.xml" ContentType="application/vnd.openxmlformats-officedocument.presentationml.slideLayout+xml"/>
  <Override PartName="/ppt/slideLayouts/slideLayout1029.xml" ContentType="application/vnd.openxmlformats-officedocument.presentationml.slideLayout+xml"/>
  <Override PartName="/ppt/slideLayouts/slideLayout1030.xml" ContentType="application/vnd.openxmlformats-officedocument.presentationml.slideLayout+xml"/>
  <Override PartName="/ppt/slideLayouts/slideLayout1031.xml" ContentType="application/vnd.openxmlformats-officedocument.presentationml.slideLayout+xml"/>
  <Override PartName="/ppt/slideLayouts/slideLayout1032.xml" ContentType="application/vnd.openxmlformats-officedocument.presentationml.slideLayout+xml"/>
  <Override PartName="/ppt/slideLayouts/slideLayout1033.xml" ContentType="application/vnd.openxmlformats-officedocument.presentationml.slideLayout+xml"/>
  <Override PartName="/ppt/slideLayouts/slideLayout510.xml" ContentType="application/vnd.openxmlformats-officedocument.presentationml.slideLayout+xml"/>
  <Override PartName="/ppt/slideLayouts/slideLayout1034.xml" ContentType="application/vnd.openxmlformats-officedocument.presentationml.slideLayout+xml"/>
  <Override PartName="/ppt/slideLayouts/slideLayout511.xml" ContentType="application/vnd.openxmlformats-officedocument.presentationml.slideLayout+xml"/>
  <Override PartName="/ppt/slideLayouts/slideLayout1035.xml" ContentType="application/vnd.openxmlformats-officedocument.presentationml.slideLayout+xml"/>
  <Override PartName="/ppt/slideLayouts/slideLayout512.xml" ContentType="application/vnd.openxmlformats-officedocument.presentationml.slideLayout+xml"/>
  <Override PartName="/ppt/slideLayouts/slideLayout1036.xml" ContentType="application/vnd.openxmlformats-officedocument.presentationml.slideLayout+xml"/>
  <Override PartName="/ppt/slideLayouts/slideLayout513.xml" ContentType="application/vnd.openxmlformats-officedocument.presentationml.slideLayout+xml"/>
  <Override PartName="/ppt/slideLayouts/slideLayout1037.xml" ContentType="application/vnd.openxmlformats-officedocument.presentationml.slideLayout+xml"/>
  <Override PartName="/ppt/slideLayouts/slideLayout514.xml" ContentType="application/vnd.openxmlformats-officedocument.presentationml.slideLayout+xml"/>
  <Override PartName="/ppt/slideLayouts/slideLayout1038.xml" ContentType="application/vnd.openxmlformats-officedocument.presentationml.slideLayout+xml"/>
  <Override PartName="/ppt/slideLayouts/slideLayout1040.xml" ContentType="application/vnd.openxmlformats-officedocument.presentationml.slideLayout+xml"/>
  <Override PartName="/ppt/slideLayouts/slideLayout1041.xml" ContentType="application/vnd.openxmlformats-officedocument.presentationml.slideLayout+xml"/>
  <Override PartName="/ppt/slideLayouts/slideLayout1042.xml" ContentType="application/vnd.openxmlformats-officedocument.presentationml.slideLayout+xml"/>
  <Override PartName="/ppt/slideLayouts/slideLayout1043.xml" ContentType="application/vnd.openxmlformats-officedocument.presentationml.slideLayout+xml"/>
  <Override PartName="/ppt/slideLayouts/slideLayout520.xml" ContentType="application/vnd.openxmlformats-officedocument.presentationml.slideLayout+xml"/>
  <Override PartName="/ppt/slideLayouts/slideLayout1044.xml" ContentType="application/vnd.openxmlformats-officedocument.presentationml.slideLayout+xml"/>
  <Override PartName="/ppt/slideLayouts/slideLayout521.xml" ContentType="application/vnd.openxmlformats-officedocument.presentationml.slideLayout+xml"/>
  <Override PartName="/ppt/slideLayouts/slideLayout1045.xml" ContentType="application/vnd.openxmlformats-officedocument.presentationml.slideLayout+xml"/>
  <Override PartName="/ppt/slideLayouts/slideLayout522.xml" ContentType="application/vnd.openxmlformats-officedocument.presentationml.slideLayout+xml"/>
  <Override PartName="/ppt/slideLayouts/slideLayout1046.xml" ContentType="application/vnd.openxmlformats-officedocument.presentationml.slideLayout+xml"/>
  <Override PartName="/ppt/slideLayouts/slideLayout523.xml" ContentType="application/vnd.openxmlformats-officedocument.presentationml.slideLayout+xml"/>
  <Override PartName="/ppt/slideLayouts/slideLayout1047.xml" ContentType="application/vnd.openxmlformats-officedocument.presentationml.slideLayout+xml"/>
  <Override PartName="/ppt/slideLayouts/slideLayout524.xml" ContentType="application/vnd.openxmlformats-officedocument.presentationml.slideLayout+xml"/>
  <Override PartName="/ppt/slideLayouts/slideLayout1048.xml" ContentType="application/vnd.openxmlformats-officedocument.presentationml.slideLayout+xml"/>
  <Override PartName="/ppt/slideLayouts/slideLayout1050.xml" ContentType="application/vnd.openxmlformats-officedocument.presentationml.slideLayout+xml"/>
  <Override PartName="/ppt/slideLayouts/slideLayout1051.xml" ContentType="application/vnd.openxmlformats-officedocument.presentationml.slideLayout+xml"/>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charts/chart4.xml" ContentType="application/vnd.openxmlformats-officedocument.drawingml.chart+xml"/>
  <Override PartName="/ppt/charts/chart5.xml" ContentType="application/vnd.openxmlformats-officedocument.drawingml.chart+xml"/>
  <Override PartName="/ppt/charts/chart6.xml" ContentType="application/vnd.openxmlformats-officedocument.drawingml.chart+xml"/>
  <Override PartName="/ppt/charts/chart7.xml" ContentType="application/vnd.openxmlformats-officedocument.drawingml.chart+xml"/>
  <Override PartName="/ppt/charts/chart8.xml" ContentType="application/vnd.openxmlformats-officedocument.drawingml.chart+xml"/>
  <Override PartName="/ppt/charts/chart9.xml" ContentType="application/vnd.openxmlformats-officedocument.drawingml.chart+xml"/>
  <Override PartName="/ppt/presProps.xml" ContentType="application/vnd.openxmlformats-officedocument.presentationml.presProps+xml"/>
  <Override PartName="/ppt/slides/_rels/slide28.xml.rels" ContentType="application/vnd.openxmlformats-package.relationships+xml"/>
  <Override PartName="/ppt/slides/_rels/slide125.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44.xml.rels" ContentType="application/vnd.openxmlformats-package.relationships+xml"/>
  <Override PartName="/ppt/slides/_rels/slide97.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13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31.xml.rels" ContentType="application/vnd.openxmlformats-package.relationships+xml"/>
  <Override PartName="/ppt/slides/_rels/slide5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xml.rels" ContentType="application/vnd.openxmlformats-package.relationships+xml"/>
  <Override PartName="/ppt/slides/_rels/slide59.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53.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1.xml.rels" ContentType="application/vnd.openxmlformats-package.relationships+xml"/>
  <Override PartName="/ppt/slides/_rels/slide52.xml.rels" ContentType="application/vnd.openxmlformats-package.relationships+xml"/>
  <Override PartName="/ppt/slides/_rels/slide1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78.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8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27.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58.xml" ContentType="application/vnd.openxmlformats-officedocument.presentationml.slide+xml"/>
  <Override PartName="/ppt/slides/slide8.xml" ContentType="application/vnd.openxmlformats-officedocument.presentationml.slide+xml"/>
  <Override PartName="/ppt/slides/slide21.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9.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6.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9.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44.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Override PartName="/ppt/slides/slide124.xml" ContentType="application/vnd.openxmlformats-officedocument.presentationml.slide+xml"/>
  <Override PartName="/ppt/slides/slide29.xml" ContentType="application/vnd.openxmlformats-officedocument.presentationml.slide+xml"/>
  <Override PartName="/ppt/slides/slide97.xml" ContentType="application/vnd.openxmlformats-officedocument.presentationml.slide+xml"/>
  <Override PartName="/ppt/slides/slide1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 id="2147484025" r:id="rId31"/>
    <p:sldMasterId id="2147484038" r:id="rId32"/>
    <p:sldMasterId id="2147484051" r:id="rId33"/>
    <p:sldMasterId id="2147484064" r:id="rId34"/>
    <p:sldMasterId id="2147484077" r:id="rId35"/>
    <p:sldMasterId id="2147484090" r:id="rId36"/>
    <p:sldMasterId id="2147484103" r:id="rId37"/>
    <p:sldMasterId id="2147484116" r:id="rId38"/>
    <p:sldMasterId id="2147484129" r:id="rId39"/>
    <p:sldMasterId id="2147484142" r:id="rId40"/>
    <p:sldMasterId id="2147484155" r:id="rId41"/>
    <p:sldMasterId id="2147484168" r:id="rId42"/>
    <p:sldMasterId id="2147484181" r:id="rId43"/>
    <p:sldMasterId id="2147484194" r:id="rId44"/>
    <p:sldMasterId id="2147484207" r:id="rId45"/>
    <p:sldMasterId id="2147484220" r:id="rId46"/>
    <p:sldMasterId id="2147484233" r:id="rId47"/>
    <p:sldMasterId id="2147484246" r:id="rId48"/>
    <p:sldMasterId id="2147484259" r:id="rId49"/>
    <p:sldMasterId id="2147484272" r:id="rId50"/>
    <p:sldMasterId id="2147484285" r:id="rId51"/>
    <p:sldMasterId id="2147484298" r:id="rId52"/>
    <p:sldMasterId id="2147484311" r:id="rId53"/>
    <p:sldMasterId id="2147484324" r:id="rId54"/>
    <p:sldMasterId id="2147484337" r:id="rId55"/>
    <p:sldMasterId id="2147484350" r:id="rId56"/>
    <p:sldMasterId id="2147484363" r:id="rId57"/>
    <p:sldMasterId id="2147484376" r:id="rId58"/>
    <p:sldMasterId id="2147484389" r:id="rId59"/>
    <p:sldMasterId id="2147484402" r:id="rId60"/>
    <p:sldMasterId id="2147484415" r:id="rId61"/>
    <p:sldMasterId id="2147484428" r:id="rId62"/>
    <p:sldMasterId id="2147484441" r:id="rId63"/>
    <p:sldMasterId id="2147484454" r:id="rId64"/>
    <p:sldMasterId id="2147484467" r:id="rId65"/>
    <p:sldMasterId id="2147484480" r:id="rId66"/>
    <p:sldMasterId id="2147484493" r:id="rId67"/>
    <p:sldMasterId id="2147484506" r:id="rId68"/>
    <p:sldMasterId id="2147484519" r:id="rId69"/>
    <p:sldMasterId id="2147484532" r:id="rId70"/>
    <p:sldMasterId id="2147484545" r:id="rId71"/>
    <p:sldMasterId id="2147484558" r:id="rId72"/>
    <p:sldMasterId id="2147484571" r:id="rId73"/>
    <p:sldMasterId id="2147484584" r:id="rId74"/>
    <p:sldMasterId id="2147484597" r:id="rId75"/>
    <p:sldMasterId id="2147484610" r:id="rId76"/>
    <p:sldMasterId id="2147484623" r:id="rId77"/>
    <p:sldMasterId id="2147484636" r:id="rId78"/>
    <p:sldMasterId id="2147484649" r:id="rId79"/>
    <p:sldMasterId id="2147484662" r:id="rId80"/>
    <p:sldMasterId id="2147484675" r:id="rId81"/>
    <p:sldMasterId id="2147484688" r:id="rId82"/>
    <p:sldMasterId id="2147484701" r:id="rId83"/>
    <p:sldMasterId id="2147484714" r:id="rId84"/>
    <p:sldMasterId id="2147484727" r:id="rId85"/>
    <p:sldMasterId id="2147484740" r:id="rId86"/>
    <p:sldMasterId id="2147484753" r:id="rId87"/>
    <p:sldMasterId id="2147484766" r:id="rId88"/>
    <p:sldMasterId id="2147484779" r:id="rId89"/>
    <p:sldMasterId id="2147484792" r:id="rId90"/>
    <p:sldMasterId id="2147484805" r:id="rId91"/>
    <p:sldMasterId id="2147484818" r:id="rId92"/>
    <p:sldMasterId id="2147484831" r:id="rId93"/>
    <p:sldMasterId id="2147484844" r:id="rId94"/>
    <p:sldMasterId id="2147484857" r:id="rId95"/>
    <p:sldMasterId id="2147484870" r:id="rId96"/>
    <p:sldMasterId id="2147484883" r:id="rId97"/>
    <p:sldMasterId id="2147484896" r:id="rId98"/>
  </p:sldMasterIdLst>
  <p:sldIdLst>
    <p:sldId id="256" r:id="rId99"/>
    <p:sldId id="257" r:id="rId100"/>
    <p:sldId id="258" r:id="rId101"/>
    <p:sldId id="259" r:id="rId102"/>
    <p:sldId id="260" r:id="rId103"/>
    <p:sldId id="261" r:id="rId104"/>
    <p:sldId id="262" r:id="rId105"/>
    <p:sldId id="263" r:id="rId106"/>
    <p:sldId id="264" r:id="rId107"/>
    <p:sldId id="265" r:id="rId108"/>
    <p:sldId id="266" r:id="rId109"/>
    <p:sldId id="267" r:id="rId110"/>
    <p:sldId id="268" r:id="rId111"/>
    <p:sldId id="269" r:id="rId112"/>
    <p:sldId id="270" r:id="rId113"/>
    <p:sldId id="271" r:id="rId114"/>
    <p:sldId id="272" r:id="rId115"/>
    <p:sldId id="273" r:id="rId116"/>
    <p:sldId id="274" r:id="rId117"/>
    <p:sldId id="275" r:id="rId118"/>
    <p:sldId id="276" r:id="rId119"/>
    <p:sldId id="277" r:id="rId120"/>
    <p:sldId id="278" r:id="rId121"/>
    <p:sldId id="279" r:id="rId122"/>
    <p:sldId id="280" r:id="rId123"/>
    <p:sldId id="281" r:id="rId124"/>
    <p:sldId id="282" r:id="rId125"/>
    <p:sldId id="283" r:id="rId126"/>
    <p:sldId id="284" r:id="rId127"/>
    <p:sldId id="285" r:id="rId128"/>
    <p:sldId id="286" r:id="rId129"/>
    <p:sldId id="287" r:id="rId130"/>
    <p:sldId id="288" r:id="rId131"/>
    <p:sldId id="289" r:id="rId132"/>
    <p:sldId id="290" r:id="rId133"/>
    <p:sldId id="291" r:id="rId134"/>
    <p:sldId id="292" r:id="rId135"/>
    <p:sldId id="293" r:id="rId136"/>
    <p:sldId id="294" r:id="rId137"/>
    <p:sldId id="295" r:id="rId138"/>
    <p:sldId id="296" r:id="rId139"/>
    <p:sldId id="297" r:id="rId140"/>
    <p:sldId id="298" r:id="rId141"/>
    <p:sldId id="299" r:id="rId142"/>
    <p:sldId id="300" r:id="rId143"/>
    <p:sldId id="301" r:id="rId144"/>
    <p:sldId id="302" r:id="rId145"/>
    <p:sldId id="303" r:id="rId146"/>
    <p:sldId id="304" r:id="rId147"/>
    <p:sldId id="305" r:id="rId148"/>
    <p:sldId id="306" r:id="rId149"/>
    <p:sldId id="307" r:id="rId150"/>
    <p:sldId id="308" r:id="rId151"/>
    <p:sldId id="309" r:id="rId152"/>
    <p:sldId id="310" r:id="rId153"/>
    <p:sldId id="311" r:id="rId154"/>
    <p:sldId id="312" r:id="rId155"/>
    <p:sldId id="313" r:id="rId156"/>
    <p:sldId id="314" r:id="rId157"/>
    <p:sldId id="315" r:id="rId158"/>
    <p:sldId id="316" r:id="rId159"/>
    <p:sldId id="317" r:id="rId160"/>
    <p:sldId id="318" r:id="rId161"/>
    <p:sldId id="319" r:id="rId162"/>
    <p:sldId id="320" r:id="rId163"/>
    <p:sldId id="321" r:id="rId164"/>
    <p:sldId id="322" r:id="rId165"/>
    <p:sldId id="323" r:id="rId166"/>
    <p:sldId id="324" r:id="rId167"/>
    <p:sldId id="325" r:id="rId168"/>
    <p:sldId id="326" r:id="rId169"/>
    <p:sldId id="327" r:id="rId170"/>
    <p:sldId id="328" r:id="rId171"/>
    <p:sldId id="329" r:id="rId172"/>
    <p:sldId id="330" r:id="rId173"/>
    <p:sldId id="331" r:id="rId174"/>
    <p:sldId id="332" r:id="rId175"/>
    <p:sldId id="333" r:id="rId176"/>
    <p:sldId id="334" r:id="rId177"/>
    <p:sldId id="335" r:id="rId178"/>
    <p:sldId id="336" r:id="rId179"/>
    <p:sldId id="337" r:id="rId180"/>
    <p:sldId id="338" r:id="rId181"/>
    <p:sldId id="339" r:id="rId182"/>
    <p:sldId id="340" r:id="rId183"/>
    <p:sldId id="341" r:id="rId184"/>
    <p:sldId id="342" r:id="rId185"/>
    <p:sldId id="343" r:id="rId186"/>
    <p:sldId id="344" r:id="rId187"/>
    <p:sldId id="345" r:id="rId188"/>
    <p:sldId id="346" r:id="rId189"/>
    <p:sldId id="347" r:id="rId190"/>
    <p:sldId id="348" r:id="rId191"/>
    <p:sldId id="349" r:id="rId192"/>
    <p:sldId id="350" r:id="rId193"/>
    <p:sldId id="351" r:id="rId194"/>
    <p:sldId id="352" r:id="rId195"/>
    <p:sldId id="353" r:id="rId196"/>
    <p:sldId id="354" r:id="rId197"/>
    <p:sldId id="355" r:id="rId198"/>
    <p:sldId id="356" r:id="rId199"/>
    <p:sldId id="357" r:id="rId200"/>
    <p:sldId id="358" r:id="rId201"/>
    <p:sldId id="359" r:id="rId202"/>
    <p:sldId id="360" r:id="rId203"/>
    <p:sldId id="361" r:id="rId204"/>
    <p:sldId id="362" r:id="rId205"/>
    <p:sldId id="363" r:id="rId206"/>
    <p:sldId id="364" r:id="rId207"/>
    <p:sldId id="365" r:id="rId208"/>
    <p:sldId id="366" r:id="rId209"/>
    <p:sldId id="367" r:id="rId210"/>
    <p:sldId id="368" r:id="rId211"/>
    <p:sldId id="369" r:id="rId212"/>
    <p:sldId id="370" r:id="rId213"/>
    <p:sldId id="371" r:id="rId214"/>
    <p:sldId id="372" r:id="rId215"/>
    <p:sldId id="373" r:id="rId216"/>
    <p:sldId id="374" r:id="rId217"/>
    <p:sldId id="375" r:id="rId218"/>
    <p:sldId id="376" r:id="rId219"/>
    <p:sldId id="377" r:id="rId220"/>
    <p:sldId id="378" r:id="rId221"/>
    <p:sldId id="379" r:id="rId222"/>
    <p:sldId id="380" r:id="rId223"/>
    <p:sldId id="381" r:id="rId224"/>
    <p:sldId id="382" r:id="rId225"/>
    <p:sldId id="383" r:id="rId226"/>
    <p:sldId id="384" r:id="rId227"/>
    <p:sldId id="385" r:id="rId228"/>
    <p:sldId id="386" r:id="rId229"/>
  </p:sldIdLst>
  <p:sldSz cx="24384000" cy="13716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slideMaster" Target="slideMasters/slideMaster30.xml"/><Relationship Id="rId32" Type="http://schemas.openxmlformats.org/officeDocument/2006/relationships/slideMaster" Target="slideMasters/slideMaster31.xml"/><Relationship Id="rId33" Type="http://schemas.openxmlformats.org/officeDocument/2006/relationships/slideMaster" Target="slideMasters/slideMaster32.xml"/><Relationship Id="rId34" Type="http://schemas.openxmlformats.org/officeDocument/2006/relationships/slideMaster" Target="slideMasters/slideMaster33.xml"/><Relationship Id="rId35" Type="http://schemas.openxmlformats.org/officeDocument/2006/relationships/slideMaster" Target="slideMasters/slideMaster34.xml"/><Relationship Id="rId36" Type="http://schemas.openxmlformats.org/officeDocument/2006/relationships/slideMaster" Target="slideMasters/slideMaster35.xml"/><Relationship Id="rId37" Type="http://schemas.openxmlformats.org/officeDocument/2006/relationships/slideMaster" Target="slideMasters/slideMaster36.xml"/><Relationship Id="rId38" Type="http://schemas.openxmlformats.org/officeDocument/2006/relationships/slideMaster" Target="slideMasters/slideMaster37.xml"/><Relationship Id="rId39" Type="http://schemas.openxmlformats.org/officeDocument/2006/relationships/slideMaster" Target="slideMasters/slideMaster38.xml"/><Relationship Id="rId40" Type="http://schemas.openxmlformats.org/officeDocument/2006/relationships/slideMaster" Target="slideMasters/slideMaster39.xml"/><Relationship Id="rId41" Type="http://schemas.openxmlformats.org/officeDocument/2006/relationships/slideMaster" Target="slideMasters/slideMaster40.xml"/><Relationship Id="rId42" Type="http://schemas.openxmlformats.org/officeDocument/2006/relationships/slideMaster" Target="slideMasters/slideMaster41.xml"/><Relationship Id="rId43" Type="http://schemas.openxmlformats.org/officeDocument/2006/relationships/slideMaster" Target="slideMasters/slideMaster42.xml"/><Relationship Id="rId44" Type="http://schemas.openxmlformats.org/officeDocument/2006/relationships/slideMaster" Target="slideMasters/slideMaster43.xml"/><Relationship Id="rId45" Type="http://schemas.openxmlformats.org/officeDocument/2006/relationships/slideMaster" Target="slideMasters/slideMaster44.xml"/><Relationship Id="rId46" Type="http://schemas.openxmlformats.org/officeDocument/2006/relationships/slideMaster" Target="slideMasters/slideMaster45.xml"/><Relationship Id="rId47" Type="http://schemas.openxmlformats.org/officeDocument/2006/relationships/slideMaster" Target="slideMasters/slideMaster46.xml"/><Relationship Id="rId48" Type="http://schemas.openxmlformats.org/officeDocument/2006/relationships/slideMaster" Target="slideMasters/slideMaster47.xml"/><Relationship Id="rId49" Type="http://schemas.openxmlformats.org/officeDocument/2006/relationships/slideMaster" Target="slideMasters/slideMaster48.xml"/><Relationship Id="rId50" Type="http://schemas.openxmlformats.org/officeDocument/2006/relationships/slideMaster" Target="slideMasters/slideMaster49.xml"/><Relationship Id="rId51" Type="http://schemas.openxmlformats.org/officeDocument/2006/relationships/slideMaster" Target="slideMasters/slideMaster50.xml"/><Relationship Id="rId52" Type="http://schemas.openxmlformats.org/officeDocument/2006/relationships/slideMaster" Target="slideMasters/slideMaster51.xml"/><Relationship Id="rId53" Type="http://schemas.openxmlformats.org/officeDocument/2006/relationships/slideMaster" Target="slideMasters/slideMaster52.xml"/><Relationship Id="rId54" Type="http://schemas.openxmlformats.org/officeDocument/2006/relationships/slideMaster" Target="slideMasters/slideMaster53.xml"/><Relationship Id="rId55" Type="http://schemas.openxmlformats.org/officeDocument/2006/relationships/slideMaster" Target="slideMasters/slideMaster54.xml"/><Relationship Id="rId56" Type="http://schemas.openxmlformats.org/officeDocument/2006/relationships/slideMaster" Target="slideMasters/slideMaster55.xml"/><Relationship Id="rId57" Type="http://schemas.openxmlformats.org/officeDocument/2006/relationships/slideMaster" Target="slideMasters/slideMaster56.xml"/><Relationship Id="rId58" Type="http://schemas.openxmlformats.org/officeDocument/2006/relationships/slideMaster" Target="slideMasters/slideMaster57.xml"/><Relationship Id="rId59" Type="http://schemas.openxmlformats.org/officeDocument/2006/relationships/slideMaster" Target="slideMasters/slideMaster58.xml"/><Relationship Id="rId60" Type="http://schemas.openxmlformats.org/officeDocument/2006/relationships/slideMaster" Target="slideMasters/slideMaster59.xml"/><Relationship Id="rId61" Type="http://schemas.openxmlformats.org/officeDocument/2006/relationships/slideMaster" Target="slideMasters/slideMaster60.xml"/><Relationship Id="rId62" Type="http://schemas.openxmlformats.org/officeDocument/2006/relationships/slideMaster" Target="slideMasters/slideMaster61.xml"/><Relationship Id="rId63" Type="http://schemas.openxmlformats.org/officeDocument/2006/relationships/slideMaster" Target="slideMasters/slideMaster62.xml"/><Relationship Id="rId64" Type="http://schemas.openxmlformats.org/officeDocument/2006/relationships/slideMaster" Target="slideMasters/slideMaster63.xml"/><Relationship Id="rId65" Type="http://schemas.openxmlformats.org/officeDocument/2006/relationships/slideMaster" Target="slideMasters/slideMaster64.xml"/><Relationship Id="rId66" Type="http://schemas.openxmlformats.org/officeDocument/2006/relationships/slideMaster" Target="slideMasters/slideMaster65.xml"/><Relationship Id="rId67" Type="http://schemas.openxmlformats.org/officeDocument/2006/relationships/slideMaster" Target="slideMasters/slideMaster66.xml"/><Relationship Id="rId68" Type="http://schemas.openxmlformats.org/officeDocument/2006/relationships/slideMaster" Target="slideMasters/slideMaster67.xml"/><Relationship Id="rId69" Type="http://schemas.openxmlformats.org/officeDocument/2006/relationships/slideMaster" Target="slideMasters/slideMaster68.xml"/><Relationship Id="rId70" Type="http://schemas.openxmlformats.org/officeDocument/2006/relationships/slideMaster" Target="slideMasters/slideMaster69.xml"/><Relationship Id="rId71" Type="http://schemas.openxmlformats.org/officeDocument/2006/relationships/slideMaster" Target="slideMasters/slideMaster70.xml"/><Relationship Id="rId72" Type="http://schemas.openxmlformats.org/officeDocument/2006/relationships/slideMaster" Target="slideMasters/slideMaster71.xml"/><Relationship Id="rId73" Type="http://schemas.openxmlformats.org/officeDocument/2006/relationships/slideMaster" Target="slideMasters/slideMaster72.xml"/><Relationship Id="rId74" Type="http://schemas.openxmlformats.org/officeDocument/2006/relationships/slideMaster" Target="slideMasters/slideMaster73.xml"/><Relationship Id="rId75" Type="http://schemas.openxmlformats.org/officeDocument/2006/relationships/slideMaster" Target="slideMasters/slideMaster74.xml"/><Relationship Id="rId76" Type="http://schemas.openxmlformats.org/officeDocument/2006/relationships/slideMaster" Target="slideMasters/slideMaster75.xml"/><Relationship Id="rId77" Type="http://schemas.openxmlformats.org/officeDocument/2006/relationships/slideMaster" Target="slideMasters/slideMaster76.xml"/><Relationship Id="rId78" Type="http://schemas.openxmlformats.org/officeDocument/2006/relationships/slideMaster" Target="slideMasters/slideMaster77.xml"/><Relationship Id="rId79" Type="http://schemas.openxmlformats.org/officeDocument/2006/relationships/slideMaster" Target="slideMasters/slideMaster78.xml"/><Relationship Id="rId80" Type="http://schemas.openxmlformats.org/officeDocument/2006/relationships/slideMaster" Target="slideMasters/slideMaster79.xml"/><Relationship Id="rId81" Type="http://schemas.openxmlformats.org/officeDocument/2006/relationships/slideMaster" Target="slideMasters/slideMaster80.xml"/><Relationship Id="rId82" Type="http://schemas.openxmlformats.org/officeDocument/2006/relationships/slideMaster" Target="slideMasters/slideMaster81.xml"/><Relationship Id="rId83" Type="http://schemas.openxmlformats.org/officeDocument/2006/relationships/slideMaster" Target="slideMasters/slideMaster82.xml"/><Relationship Id="rId84" Type="http://schemas.openxmlformats.org/officeDocument/2006/relationships/slideMaster" Target="slideMasters/slideMaster83.xml"/><Relationship Id="rId85" Type="http://schemas.openxmlformats.org/officeDocument/2006/relationships/slideMaster" Target="slideMasters/slideMaster84.xml"/><Relationship Id="rId86" Type="http://schemas.openxmlformats.org/officeDocument/2006/relationships/slideMaster" Target="slideMasters/slideMaster85.xml"/><Relationship Id="rId87" Type="http://schemas.openxmlformats.org/officeDocument/2006/relationships/slideMaster" Target="slideMasters/slideMaster86.xml"/><Relationship Id="rId88" Type="http://schemas.openxmlformats.org/officeDocument/2006/relationships/slideMaster" Target="slideMasters/slideMaster87.xml"/><Relationship Id="rId89" Type="http://schemas.openxmlformats.org/officeDocument/2006/relationships/slideMaster" Target="slideMasters/slideMaster88.xml"/><Relationship Id="rId90" Type="http://schemas.openxmlformats.org/officeDocument/2006/relationships/slideMaster" Target="slideMasters/slideMaster89.xml"/><Relationship Id="rId91" Type="http://schemas.openxmlformats.org/officeDocument/2006/relationships/slideMaster" Target="slideMasters/slideMaster90.xml"/><Relationship Id="rId92" Type="http://schemas.openxmlformats.org/officeDocument/2006/relationships/slideMaster" Target="slideMasters/slideMaster91.xml"/><Relationship Id="rId93" Type="http://schemas.openxmlformats.org/officeDocument/2006/relationships/slideMaster" Target="slideMasters/slideMaster92.xml"/><Relationship Id="rId94" Type="http://schemas.openxmlformats.org/officeDocument/2006/relationships/slideMaster" Target="slideMasters/slideMaster93.xml"/><Relationship Id="rId95" Type="http://schemas.openxmlformats.org/officeDocument/2006/relationships/slideMaster" Target="slideMasters/slideMaster94.xml"/><Relationship Id="rId96" Type="http://schemas.openxmlformats.org/officeDocument/2006/relationships/slideMaster" Target="slideMasters/slideMaster95.xml"/><Relationship Id="rId97" Type="http://schemas.openxmlformats.org/officeDocument/2006/relationships/slideMaster" Target="slideMasters/slideMaster96.xml"/><Relationship Id="rId98" Type="http://schemas.openxmlformats.org/officeDocument/2006/relationships/slideMaster" Target="slideMasters/slideMaster97.xml"/><Relationship Id="rId99" Type="http://schemas.openxmlformats.org/officeDocument/2006/relationships/slide" Target="slides/slide1.xml"/><Relationship Id="rId100" Type="http://schemas.openxmlformats.org/officeDocument/2006/relationships/slide" Target="slides/slide2.xml"/><Relationship Id="rId101" Type="http://schemas.openxmlformats.org/officeDocument/2006/relationships/slide" Target="slides/slide3.xml"/><Relationship Id="rId102" Type="http://schemas.openxmlformats.org/officeDocument/2006/relationships/slide" Target="slides/slide4.xml"/><Relationship Id="rId103" Type="http://schemas.openxmlformats.org/officeDocument/2006/relationships/slide" Target="slides/slide5.xml"/><Relationship Id="rId104" Type="http://schemas.openxmlformats.org/officeDocument/2006/relationships/slide" Target="slides/slide6.xml"/><Relationship Id="rId105" Type="http://schemas.openxmlformats.org/officeDocument/2006/relationships/slide" Target="slides/slide7.xml"/><Relationship Id="rId106" Type="http://schemas.openxmlformats.org/officeDocument/2006/relationships/slide" Target="slides/slide8.xml"/><Relationship Id="rId107" Type="http://schemas.openxmlformats.org/officeDocument/2006/relationships/slide" Target="slides/slide9.xml"/><Relationship Id="rId108" Type="http://schemas.openxmlformats.org/officeDocument/2006/relationships/slide" Target="slides/slide10.xml"/><Relationship Id="rId109" Type="http://schemas.openxmlformats.org/officeDocument/2006/relationships/slide" Target="slides/slide11.xml"/><Relationship Id="rId110" Type="http://schemas.openxmlformats.org/officeDocument/2006/relationships/slide" Target="slides/slide12.xml"/><Relationship Id="rId111" Type="http://schemas.openxmlformats.org/officeDocument/2006/relationships/slide" Target="slides/slide13.xml"/><Relationship Id="rId112" Type="http://schemas.openxmlformats.org/officeDocument/2006/relationships/slide" Target="slides/slide14.xml"/><Relationship Id="rId113" Type="http://schemas.openxmlformats.org/officeDocument/2006/relationships/slide" Target="slides/slide15.xml"/><Relationship Id="rId114" Type="http://schemas.openxmlformats.org/officeDocument/2006/relationships/slide" Target="slides/slide16.xml"/><Relationship Id="rId115" Type="http://schemas.openxmlformats.org/officeDocument/2006/relationships/slide" Target="slides/slide17.xml"/><Relationship Id="rId116" Type="http://schemas.openxmlformats.org/officeDocument/2006/relationships/slide" Target="slides/slide18.xml"/><Relationship Id="rId117" Type="http://schemas.openxmlformats.org/officeDocument/2006/relationships/slide" Target="slides/slide19.xml"/><Relationship Id="rId118" Type="http://schemas.openxmlformats.org/officeDocument/2006/relationships/slide" Target="slides/slide20.xml"/><Relationship Id="rId119" Type="http://schemas.openxmlformats.org/officeDocument/2006/relationships/slide" Target="slides/slide21.xml"/><Relationship Id="rId120" Type="http://schemas.openxmlformats.org/officeDocument/2006/relationships/slide" Target="slides/slide22.xml"/><Relationship Id="rId121" Type="http://schemas.openxmlformats.org/officeDocument/2006/relationships/slide" Target="slides/slide23.xml"/><Relationship Id="rId122" Type="http://schemas.openxmlformats.org/officeDocument/2006/relationships/slide" Target="slides/slide24.xml"/><Relationship Id="rId123" Type="http://schemas.openxmlformats.org/officeDocument/2006/relationships/slide" Target="slides/slide25.xml"/><Relationship Id="rId124" Type="http://schemas.openxmlformats.org/officeDocument/2006/relationships/slide" Target="slides/slide26.xml"/><Relationship Id="rId125" Type="http://schemas.openxmlformats.org/officeDocument/2006/relationships/slide" Target="slides/slide27.xml"/><Relationship Id="rId126" Type="http://schemas.openxmlformats.org/officeDocument/2006/relationships/slide" Target="slides/slide28.xml"/><Relationship Id="rId127" Type="http://schemas.openxmlformats.org/officeDocument/2006/relationships/slide" Target="slides/slide29.xml"/><Relationship Id="rId128" Type="http://schemas.openxmlformats.org/officeDocument/2006/relationships/slide" Target="slides/slide30.xml"/><Relationship Id="rId129" Type="http://schemas.openxmlformats.org/officeDocument/2006/relationships/slide" Target="slides/slide31.xml"/><Relationship Id="rId130" Type="http://schemas.openxmlformats.org/officeDocument/2006/relationships/slide" Target="slides/slide32.xml"/><Relationship Id="rId131" Type="http://schemas.openxmlformats.org/officeDocument/2006/relationships/slide" Target="slides/slide33.xml"/><Relationship Id="rId132" Type="http://schemas.openxmlformats.org/officeDocument/2006/relationships/slide" Target="slides/slide34.xml"/><Relationship Id="rId133" Type="http://schemas.openxmlformats.org/officeDocument/2006/relationships/slide" Target="slides/slide35.xml"/><Relationship Id="rId134" Type="http://schemas.openxmlformats.org/officeDocument/2006/relationships/slide" Target="slides/slide36.xml"/><Relationship Id="rId135" Type="http://schemas.openxmlformats.org/officeDocument/2006/relationships/slide" Target="slides/slide37.xml"/><Relationship Id="rId136" Type="http://schemas.openxmlformats.org/officeDocument/2006/relationships/slide" Target="slides/slide38.xml"/><Relationship Id="rId137" Type="http://schemas.openxmlformats.org/officeDocument/2006/relationships/slide" Target="slides/slide39.xml"/><Relationship Id="rId138" Type="http://schemas.openxmlformats.org/officeDocument/2006/relationships/slide" Target="slides/slide40.xml"/><Relationship Id="rId139" Type="http://schemas.openxmlformats.org/officeDocument/2006/relationships/slide" Target="slides/slide41.xml"/><Relationship Id="rId140" Type="http://schemas.openxmlformats.org/officeDocument/2006/relationships/slide" Target="slides/slide42.xml"/><Relationship Id="rId141" Type="http://schemas.openxmlformats.org/officeDocument/2006/relationships/slide" Target="slides/slide43.xml"/><Relationship Id="rId142" Type="http://schemas.openxmlformats.org/officeDocument/2006/relationships/slide" Target="slides/slide44.xml"/><Relationship Id="rId143" Type="http://schemas.openxmlformats.org/officeDocument/2006/relationships/slide" Target="slides/slide45.xml"/><Relationship Id="rId144" Type="http://schemas.openxmlformats.org/officeDocument/2006/relationships/slide" Target="slides/slide46.xml"/><Relationship Id="rId145" Type="http://schemas.openxmlformats.org/officeDocument/2006/relationships/slide" Target="slides/slide47.xml"/><Relationship Id="rId146" Type="http://schemas.openxmlformats.org/officeDocument/2006/relationships/slide" Target="slides/slide48.xml"/><Relationship Id="rId147" Type="http://schemas.openxmlformats.org/officeDocument/2006/relationships/slide" Target="slides/slide49.xml"/><Relationship Id="rId148" Type="http://schemas.openxmlformats.org/officeDocument/2006/relationships/slide" Target="slides/slide50.xml"/><Relationship Id="rId149" Type="http://schemas.openxmlformats.org/officeDocument/2006/relationships/slide" Target="slides/slide51.xml"/><Relationship Id="rId150" Type="http://schemas.openxmlformats.org/officeDocument/2006/relationships/slide" Target="slides/slide52.xml"/><Relationship Id="rId151" Type="http://schemas.openxmlformats.org/officeDocument/2006/relationships/slide" Target="slides/slide53.xml"/><Relationship Id="rId152" Type="http://schemas.openxmlformats.org/officeDocument/2006/relationships/slide" Target="slides/slide54.xml"/><Relationship Id="rId153" Type="http://schemas.openxmlformats.org/officeDocument/2006/relationships/slide" Target="slides/slide55.xml"/><Relationship Id="rId154" Type="http://schemas.openxmlformats.org/officeDocument/2006/relationships/slide" Target="slides/slide56.xml"/><Relationship Id="rId155" Type="http://schemas.openxmlformats.org/officeDocument/2006/relationships/slide" Target="slides/slide57.xml"/><Relationship Id="rId156" Type="http://schemas.openxmlformats.org/officeDocument/2006/relationships/slide" Target="slides/slide58.xml"/><Relationship Id="rId157" Type="http://schemas.openxmlformats.org/officeDocument/2006/relationships/slide" Target="slides/slide59.xml"/><Relationship Id="rId158" Type="http://schemas.openxmlformats.org/officeDocument/2006/relationships/slide" Target="slides/slide60.xml"/><Relationship Id="rId159" Type="http://schemas.openxmlformats.org/officeDocument/2006/relationships/slide" Target="slides/slide61.xml"/><Relationship Id="rId160" Type="http://schemas.openxmlformats.org/officeDocument/2006/relationships/slide" Target="slides/slide62.xml"/><Relationship Id="rId161" Type="http://schemas.openxmlformats.org/officeDocument/2006/relationships/slide" Target="slides/slide63.xml"/><Relationship Id="rId162" Type="http://schemas.openxmlformats.org/officeDocument/2006/relationships/slide" Target="slides/slide64.xml"/><Relationship Id="rId163" Type="http://schemas.openxmlformats.org/officeDocument/2006/relationships/slide" Target="slides/slide65.xml"/><Relationship Id="rId164" Type="http://schemas.openxmlformats.org/officeDocument/2006/relationships/slide" Target="slides/slide66.xml"/><Relationship Id="rId165" Type="http://schemas.openxmlformats.org/officeDocument/2006/relationships/slide" Target="slides/slide67.xml"/><Relationship Id="rId166" Type="http://schemas.openxmlformats.org/officeDocument/2006/relationships/slide" Target="slides/slide68.xml"/><Relationship Id="rId167" Type="http://schemas.openxmlformats.org/officeDocument/2006/relationships/slide" Target="slides/slide69.xml"/><Relationship Id="rId168" Type="http://schemas.openxmlformats.org/officeDocument/2006/relationships/slide" Target="slides/slide70.xml"/><Relationship Id="rId169" Type="http://schemas.openxmlformats.org/officeDocument/2006/relationships/slide" Target="slides/slide71.xml"/><Relationship Id="rId170" Type="http://schemas.openxmlformats.org/officeDocument/2006/relationships/slide" Target="slides/slide72.xml"/><Relationship Id="rId171" Type="http://schemas.openxmlformats.org/officeDocument/2006/relationships/slide" Target="slides/slide73.xml"/><Relationship Id="rId172" Type="http://schemas.openxmlformats.org/officeDocument/2006/relationships/slide" Target="slides/slide74.xml"/><Relationship Id="rId173" Type="http://schemas.openxmlformats.org/officeDocument/2006/relationships/slide" Target="slides/slide75.xml"/><Relationship Id="rId174" Type="http://schemas.openxmlformats.org/officeDocument/2006/relationships/slide" Target="slides/slide76.xml"/><Relationship Id="rId175" Type="http://schemas.openxmlformats.org/officeDocument/2006/relationships/slide" Target="slides/slide77.xml"/><Relationship Id="rId176" Type="http://schemas.openxmlformats.org/officeDocument/2006/relationships/slide" Target="slides/slide78.xml"/><Relationship Id="rId177" Type="http://schemas.openxmlformats.org/officeDocument/2006/relationships/slide" Target="slides/slide79.xml"/><Relationship Id="rId178" Type="http://schemas.openxmlformats.org/officeDocument/2006/relationships/slide" Target="slides/slide80.xml"/><Relationship Id="rId179" Type="http://schemas.openxmlformats.org/officeDocument/2006/relationships/slide" Target="slides/slide81.xml"/><Relationship Id="rId180" Type="http://schemas.openxmlformats.org/officeDocument/2006/relationships/slide" Target="slides/slide82.xml"/><Relationship Id="rId181" Type="http://schemas.openxmlformats.org/officeDocument/2006/relationships/slide" Target="slides/slide83.xml"/><Relationship Id="rId182" Type="http://schemas.openxmlformats.org/officeDocument/2006/relationships/slide" Target="slides/slide84.xml"/><Relationship Id="rId183" Type="http://schemas.openxmlformats.org/officeDocument/2006/relationships/slide" Target="slides/slide85.xml"/><Relationship Id="rId184" Type="http://schemas.openxmlformats.org/officeDocument/2006/relationships/slide" Target="slides/slide86.xml"/><Relationship Id="rId185" Type="http://schemas.openxmlformats.org/officeDocument/2006/relationships/slide" Target="slides/slide87.xml"/><Relationship Id="rId186" Type="http://schemas.openxmlformats.org/officeDocument/2006/relationships/slide" Target="slides/slide88.xml"/><Relationship Id="rId187" Type="http://schemas.openxmlformats.org/officeDocument/2006/relationships/slide" Target="slides/slide89.xml"/><Relationship Id="rId188" Type="http://schemas.openxmlformats.org/officeDocument/2006/relationships/slide" Target="slides/slide90.xml"/><Relationship Id="rId189" Type="http://schemas.openxmlformats.org/officeDocument/2006/relationships/slide" Target="slides/slide91.xml"/><Relationship Id="rId190" Type="http://schemas.openxmlformats.org/officeDocument/2006/relationships/slide" Target="slides/slide92.xml"/><Relationship Id="rId191" Type="http://schemas.openxmlformats.org/officeDocument/2006/relationships/slide" Target="slides/slide93.xml"/><Relationship Id="rId192" Type="http://schemas.openxmlformats.org/officeDocument/2006/relationships/slide" Target="slides/slide94.xml"/><Relationship Id="rId193" Type="http://schemas.openxmlformats.org/officeDocument/2006/relationships/slide" Target="slides/slide95.xml"/><Relationship Id="rId194" Type="http://schemas.openxmlformats.org/officeDocument/2006/relationships/slide" Target="slides/slide96.xml"/><Relationship Id="rId195" Type="http://schemas.openxmlformats.org/officeDocument/2006/relationships/slide" Target="slides/slide97.xml"/><Relationship Id="rId196" Type="http://schemas.openxmlformats.org/officeDocument/2006/relationships/slide" Target="slides/slide98.xml"/><Relationship Id="rId197" Type="http://schemas.openxmlformats.org/officeDocument/2006/relationships/slide" Target="slides/slide99.xml"/><Relationship Id="rId198" Type="http://schemas.openxmlformats.org/officeDocument/2006/relationships/slide" Target="slides/slide100.xml"/><Relationship Id="rId199" Type="http://schemas.openxmlformats.org/officeDocument/2006/relationships/slide" Target="slides/slide101.xml"/><Relationship Id="rId200" Type="http://schemas.openxmlformats.org/officeDocument/2006/relationships/slide" Target="slides/slide102.xml"/><Relationship Id="rId201" Type="http://schemas.openxmlformats.org/officeDocument/2006/relationships/slide" Target="slides/slide103.xml"/><Relationship Id="rId202" Type="http://schemas.openxmlformats.org/officeDocument/2006/relationships/slide" Target="slides/slide104.xml"/><Relationship Id="rId203" Type="http://schemas.openxmlformats.org/officeDocument/2006/relationships/slide" Target="slides/slide105.xml"/><Relationship Id="rId204" Type="http://schemas.openxmlformats.org/officeDocument/2006/relationships/slide" Target="slides/slide106.xml"/><Relationship Id="rId205" Type="http://schemas.openxmlformats.org/officeDocument/2006/relationships/slide" Target="slides/slide107.xml"/><Relationship Id="rId206" Type="http://schemas.openxmlformats.org/officeDocument/2006/relationships/slide" Target="slides/slide108.xml"/><Relationship Id="rId207" Type="http://schemas.openxmlformats.org/officeDocument/2006/relationships/slide" Target="slides/slide109.xml"/><Relationship Id="rId208" Type="http://schemas.openxmlformats.org/officeDocument/2006/relationships/slide" Target="slides/slide110.xml"/><Relationship Id="rId209" Type="http://schemas.openxmlformats.org/officeDocument/2006/relationships/slide" Target="slides/slide111.xml"/><Relationship Id="rId210" Type="http://schemas.openxmlformats.org/officeDocument/2006/relationships/slide" Target="slides/slide112.xml"/><Relationship Id="rId211" Type="http://schemas.openxmlformats.org/officeDocument/2006/relationships/slide" Target="slides/slide113.xml"/><Relationship Id="rId212" Type="http://schemas.openxmlformats.org/officeDocument/2006/relationships/slide" Target="slides/slide114.xml"/><Relationship Id="rId213" Type="http://schemas.openxmlformats.org/officeDocument/2006/relationships/slide" Target="slides/slide115.xml"/><Relationship Id="rId214" Type="http://schemas.openxmlformats.org/officeDocument/2006/relationships/slide" Target="slides/slide116.xml"/><Relationship Id="rId215" Type="http://schemas.openxmlformats.org/officeDocument/2006/relationships/slide" Target="slides/slide117.xml"/><Relationship Id="rId216" Type="http://schemas.openxmlformats.org/officeDocument/2006/relationships/slide" Target="slides/slide118.xml"/><Relationship Id="rId217" Type="http://schemas.openxmlformats.org/officeDocument/2006/relationships/slide" Target="slides/slide119.xml"/><Relationship Id="rId218" Type="http://schemas.openxmlformats.org/officeDocument/2006/relationships/slide" Target="slides/slide120.xml"/><Relationship Id="rId219" Type="http://schemas.openxmlformats.org/officeDocument/2006/relationships/slide" Target="slides/slide121.xml"/><Relationship Id="rId220" Type="http://schemas.openxmlformats.org/officeDocument/2006/relationships/slide" Target="slides/slide122.xml"/><Relationship Id="rId221" Type="http://schemas.openxmlformats.org/officeDocument/2006/relationships/slide" Target="slides/slide123.xml"/><Relationship Id="rId222" Type="http://schemas.openxmlformats.org/officeDocument/2006/relationships/slide" Target="slides/slide124.xml"/><Relationship Id="rId223" Type="http://schemas.openxmlformats.org/officeDocument/2006/relationships/slide" Target="slides/slide125.xml"/><Relationship Id="rId224" Type="http://schemas.openxmlformats.org/officeDocument/2006/relationships/slide" Target="slides/slide126.xml"/><Relationship Id="rId225" Type="http://schemas.openxmlformats.org/officeDocument/2006/relationships/slide" Target="slides/slide127.xml"/><Relationship Id="rId226" Type="http://schemas.openxmlformats.org/officeDocument/2006/relationships/slide" Target="slides/slide128.xml"/><Relationship Id="rId227" Type="http://schemas.openxmlformats.org/officeDocument/2006/relationships/slide" Target="slides/slide129.xml"/><Relationship Id="rId228" Type="http://schemas.openxmlformats.org/officeDocument/2006/relationships/slide" Target="slides/slide130.xml"/><Relationship Id="rId229" Type="http://schemas.openxmlformats.org/officeDocument/2006/relationships/slide" Target="slides/slide131.xml"/><Relationship Id="rId230"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10499806276637"/>
          <c:y val="0.0395516992046276"/>
          <c:w val="0.903913211933359"/>
          <c:h val="0.890455531453362"/>
        </c:manualLayout>
      </c:layout>
      <c:barChart>
        <c:barDir val="col"/>
        <c:grouping val="clustered"/>
        <c:varyColors val="0"/>
        <c:ser>
          <c:idx val="0"/>
          <c:order val="0"/>
          <c:tx>
            <c:strRef>
              <c:f>label 0</c:f>
              <c:strCache>
                <c:ptCount val="1"/>
                <c:pt idx="0">
                  <c:v>Onre</c:v>
                </c:pt>
              </c:strCache>
            </c:strRef>
          </c:tx>
          <c:spPr>
            <a:solidFill>
              <a:srgbClr val="929292"/>
            </a:solidFill>
            <a:ln w="12600">
              <a:noFill/>
            </a:ln>
          </c:spPr>
          <c:invertIfNegative val="0"/>
          <c:dLbls>
            <c:txPr>
              <a:bodyPr wrap="square"/>
              <a:lstStyle/>
              <a:p>
                <a:pPr>
                  <a:defRPr b="0" sz="1000" spc="-1" strike="noStrike">
                    <a:solidFill>
                      <a:srgbClr val="009193"/>
                    </a:solidFill>
                    <a:latin typeface="Helvetica Light"/>
                    <a:ea typeface="Helvetica Light"/>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2</c:v>
                </c:pt>
                <c:pt idx="1">
                  <c:v>2013</c:v>
                </c:pt>
                <c:pt idx="2">
                  <c:v>2014</c:v>
                </c:pt>
                <c:pt idx="3">
                  <c:v>2015</c:v>
                </c:pt>
              </c:strCache>
            </c:strRef>
          </c:cat>
          <c:val>
            <c:numRef>
              <c:f>0</c:f>
              <c:numCache>
                <c:formatCode>General</c:formatCode>
                <c:ptCount val="4"/>
                <c:pt idx="0">
                  <c:v>17</c:v>
                </c:pt>
                <c:pt idx="1">
                  <c:v>26</c:v>
                </c:pt>
                <c:pt idx="2">
                  <c:v>53</c:v>
                </c:pt>
                <c:pt idx="3">
                  <c:v>96</c:v>
                </c:pt>
              </c:numCache>
            </c:numRef>
          </c:val>
        </c:ser>
        <c:ser>
          <c:idx val="1"/>
          <c:order val="1"/>
          <c:tx>
            <c:strRef>
              <c:f>label 1</c:f>
              <c:strCache>
                <c:ptCount val="1"/>
                <c:pt idx="0">
                  <c:v>Two</c:v>
                </c:pt>
              </c:strCache>
            </c:strRef>
          </c:tx>
          <c:spPr>
            <a:solidFill>
              <a:srgbClr val="d6d6d6"/>
            </a:solidFill>
            <a:ln w="12600">
              <a:noFill/>
            </a:ln>
          </c:spPr>
          <c:invertIfNegative val="0"/>
          <c:dLbls>
            <c:txPr>
              <a:bodyPr wrap="square"/>
              <a:lstStyle/>
              <a:p>
                <a:pPr>
                  <a:defRPr b="0" sz="1000" spc="-1" strike="noStrike">
                    <a:solidFill>
                      <a:srgbClr val="009193"/>
                    </a:solidFill>
                    <a:latin typeface="Helvetica Light"/>
                    <a:ea typeface="Helvetica Light"/>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2</c:v>
                </c:pt>
                <c:pt idx="1">
                  <c:v>2013</c:v>
                </c:pt>
                <c:pt idx="2">
                  <c:v>2014</c:v>
                </c:pt>
                <c:pt idx="3">
                  <c:v>2015</c:v>
                </c:pt>
              </c:strCache>
            </c:strRef>
          </c:cat>
          <c:val>
            <c:numRef>
              <c:f>1</c:f>
              <c:numCache>
                <c:formatCode>General</c:formatCode>
                <c:ptCount val="4"/>
                <c:pt idx="0">
                  <c:v>55</c:v>
                </c:pt>
                <c:pt idx="1">
                  <c:v>43</c:v>
                </c:pt>
                <c:pt idx="2">
                  <c:v>70</c:v>
                </c:pt>
                <c:pt idx="3">
                  <c:v>58</c:v>
                </c:pt>
              </c:numCache>
            </c:numRef>
          </c:val>
        </c:ser>
        <c:ser>
          <c:idx val="2"/>
          <c:order val="2"/>
          <c:tx>
            <c:strRef>
              <c:f>label 2</c:f>
              <c:strCache>
                <c:ptCount val="1"/>
                <c:pt idx="0">
                  <c:v>Three</c:v>
                </c:pt>
              </c:strCache>
            </c:strRef>
          </c:tx>
          <c:spPr>
            <a:solidFill>
              <a:srgbClr val="212121"/>
            </a:solidFill>
            <a:ln w="12600">
              <a:noFill/>
            </a:ln>
          </c:spPr>
          <c:invertIfNegative val="0"/>
          <c:dLbls>
            <c:txPr>
              <a:bodyPr wrap="square"/>
              <a:lstStyle/>
              <a:p>
                <a:pPr>
                  <a:defRPr b="0" sz="1000" spc="-1" strike="noStrike">
                    <a:solidFill>
                      <a:srgbClr val="009193"/>
                    </a:solidFill>
                    <a:latin typeface="Helvetica Light"/>
                    <a:ea typeface="Helvetica Light"/>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2012</c:v>
                </c:pt>
                <c:pt idx="1">
                  <c:v>2013</c:v>
                </c:pt>
                <c:pt idx="2">
                  <c:v>2014</c:v>
                </c:pt>
                <c:pt idx="3">
                  <c:v>2015</c:v>
                </c:pt>
              </c:strCache>
            </c:strRef>
          </c:cat>
          <c:val>
            <c:numRef>
              <c:f>2</c:f>
              <c:numCache>
                <c:formatCode>General</c:formatCode>
                <c:ptCount val="4"/>
                <c:pt idx="0">
                  <c:v>12</c:v>
                </c:pt>
                <c:pt idx="1">
                  <c:v>76</c:v>
                </c:pt>
                <c:pt idx="2">
                  <c:v>32</c:v>
                </c:pt>
                <c:pt idx="3">
                  <c:v>14</c:v>
                </c:pt>
              </c:numCache>
            </c:numRef>
          </c:val>
        </c:ser>
        <c:gapWidth val="300"/>
        <c:overlap val="-20"/>
        <c:axId val="70953595"/>
        <c:axId val="6007948"/>
      </c:barChart>
      <c:catAx>
        <c:axId val="70953595"/>
        <c:scaling>
          <c:orientation val="minMax"/>
        </c:scaling>
        <c:delete val="0"/>
        <c:axPos val="b"/>
        <c:numFmt formatCode="General" sourceLinked="0"/>
        <c:majorTickMark val="none"/>
        <c:minorTickMark val="none"/>
        <c:tickLblPos val="low"/>
        <c:spPr>
          <a:ln w="12600">
            <a:solidFill>
              <a:srgbClr val="212121"/>
            </a:solidFill>
            <a:round/>
          </a:ln>
        </c:spPr>
        <c:txPr>
          <a:bodyPr/>
          <a:lstStyle/>
          <a:p>
            <a:pPr>
              <a:defRPr b="0" sz="2591" spc="-1" strike="noStrike">
                <a:solidFill>
                  <a:srgbClr val="929292"/>
                </a:solidFill>
                <a:latin typeface="Montserrat Light"/>
                <a:ea typeface="Helvetica Light"/>
              </a:defRPr>
            </a:pPr>
          </a:p>
        </c:txPr>
        <c:crossAx val="6007948"/>
        <c:crosses val="autoZero"/>
        <c:auto val="1"/>
        <c:lblAlgn val="ctr"/>
        <c:lblOffset val="100"/>
        <c:noMultiLvlLbl val="0"/>
      </c:catAx>
      <c:valAx>
        <c:axId val="6007948"/>
        <c:scaling>
          <c:orientation val="minMax"/>
        </c:scaling>
        <c:delete val="0"/>
        <c:axPos val="l"/>
        <c:majorGridlines>
          <c:spPr>
            <a:ln w="12600">
              <a:solidFill>
                <a:srgbClr val="929292"/>
              </a:solidFill>
              <a:custDash>
                <a:ds d="200000" sp="200000"/>
              </a:custDash>
              <a:round/>
            </a:ln>
          </c:spPr>
        </c:majorGridlines>
        <c:numFmt formatCode="General" sourceLinked="0"/>
        <c:majorTickMark val="none"/>
        <c:minorTickMark val="none"/>
        <c:tickLblPos val="nextTo"/>
        <c:spPr>
          <a:ln w="12600">
            <a:noFill/>
          </a:ln>
        </c:spPr>
        <c:txPr>
          <a:bodyPr/>
          <a:lstStyle/>
          <a:p>
            <a:pPr>
              <a:defRPr b="0" sz="2591" spc="-1" strike="noStrike">
                <a:solidFill>
                  <a:srgbClr val="929292"/>
                </a:solidFill>
                <a:latin typeface="Montserrat Light"/>
                <a:ea typeface="Helvetica Light"/>
              </a:defRPr>
            </a:pPr>
          </a:p>
        </c:txPr>
        <c:crossAx val="70953595"/>
        <c:crosses val="autoZero"/>
        <c:crossBetween val="between"/>
        <c:majorUnit val="25"/>
        <c:minorUnit val="12.5"/>
      </c:valAx>
      <c:spPr>
        <a:noFill/>
        <a:ln w="1260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496058109664275"/>
          <c:y val="0.00496058109664275"/>
          <c:w val="0.98990167419612"/>
          <c:h val="0.987421383647799"/>
        </c:manualLayout>
      </c:layout>
      <c:pieChart>
        <c:varyColors val="0"/>
        <c:ser>
          <c:idx val="0"/>
          <c:order val="0"/>
          <c:tx>
            <c:strRef>
              <c:f>label 0</c:f>
              <c:strCache>
                <c:ptCount val="1"/>
                <c:pt idx="0">
                  <c:v>Region 1</c:v>
                </c:pt>
              </c:strCache>
            </c:strRef>
          </c:tx>
          <c:spPr>
            <a:solidFill>
              <a:srgbClr val="858685"/>
            </a:solidFill>
            <a:ln w="12600">
              <a:noFill/>
            </a:ln>
          </c:spPr>
          <c:explosion val="0"/>
          <c:dPt>
            <c:idx val="0"/>
            <c:spPr>
              <a:solidFill>
                <a:srgbClr val="858685"/>
              </a:solidFill>
              <a:ln w="12600">
                <a:noFill/>
              </a:ln>
            </c:spPr>
          </c:dPt>
          <c:dPt>
            <c:idx val="1"/>
            <c:spPr>
              <a:solidFill>
                <a:srgbClr val="cccdcb"/>
              </a:solidFill>
              <a:ln w="12600">
                <a:noFill/>
              </a:ln>
            </c:spPr>
          </c:dPt>
          <c:dPt>
            <c:idx val="2"/>
            <c:spPr>
              <a:solidFill>
                <a:srgbClr val="3c3d3c"/>
              </a:solidFill>
              <a:ln w="12600">
                <a:noFill/>
              </a:ln>
            </c:spPr>
          </c:dPt>
          <c:dPt>
            <c:idx val="3"/>
            <c:spPr>
              <a:solidFill>
                <a:srgbClr val="9e9f9e"/>
              </a:solidFill>
              <a:ln w="12600">
                <a:noFill/>
              </a:ln>
            </c:spPr>
          </c:dPt>
          <c:dLbls>
            <c:dLbl>
              <c:idx val="0"/>
              <c:txPr>
                <a:bodyPr wrap="square"/>
                <a:lstStyle/>
                <a:p>
                  <a:pPr>
                    <a:defRPr b="0" sz="1000" spc="-1" strike="noStrike">
                      <a:solidFill>
                        <a:srgbClr val="009193"/>
                      </a:solidFill>
                      <a:latin typeface="Helvetica Light"/>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9193"/>
                      </a:solidFill>
                      <a:latin typeface="Helvetica Light"/>
                    </a:defRPr>
                  </a:pPr>
                </a:p>
              </c:txPr>
              <c:dLblPos val="bestFit"/>
              <c:showLegendKey val="0"/>
              <c:showVal val="0"/>
              <c:showCatName val="0"/>
              <c:showSerName val="0"/>
              <c:showPercent val="0"/>
              <c:separator>; </c:separator>
            </c:dLbl>
            <c:dLbl>
              <c:idx val="2"/>
              <c:txPr>
                <a:bodyPr wrap="square"/>
                <a:lstStyle/>
                <a:p>
                  <a:pPr>
                    <a:defRPr b="0" sz="1000" spc="-1" strike="noStrike">
                      <a:solidFill>
                        <a:srgbClr val="009193"/>
                      </a:solidFill>
                      <a:latin typeface="Helvetica Light"/>
                    </a:defRPr>
                  </a:pPr>
                </a:p>
              </c:txPr>
              <c:dLblPos val="bestFit"/>
              <c:showLegendKey val="0"/>
              <c:showVal val="0"/>
              <c:showCatName val="0"/>
              <c:showSerName val="0"/>
              <c:showPercent val="0"/>
              <c:separator>; </c:separator>
            </c:dLbl>
            <c:dLbl>
              <c:idx val="3"/>
              <c:txPr>
                <a:bodyPr wrap="square"/>
                <a:lstStyle/>
                <a:p>
                  <a:pPr>
                    <a:defRPr b="0" sz="1000" spc="-1" strike="noStrike">
                      <a:solidFill>
                        <a:srgbClr val="009193"/>
                      </a:solidFill>
                      <a:latin typeface="Helvetica Light"/>
                    </a:defRPr>
                  </a:pPr>
                </a:p>
              </c:txPr>
              <c:dLblPos val="bestFit"/>
              <c:showLegendKey val="0"/>
              <c:showVal val="0"/>
              <c:showCatName val="0"/>
              <c:showSerName val="0"/>
              <c:showPercent val="0"/>
              <c:separator>; </c:separator>
            </c:dLbl>
            <c:txPr>
              <a:bodyPr wrap="square"/>
              <a:lstStyle/>
              <a:p>
                <a:pPr>
                  <a:defRPr b="0" sz="1000" spc="-1" strike="noStrike">
                    <a:solidFill>
                      <a:srgbClr val="009193"/>
                    </a:solidFill>
                    <a:latin typeface="Helvetica Light"/>
                    <a:ea typeface="Helvetica Light"/>
                  </a:defRPr>
                </a:pPr>
              </a:p>
            </c:txPr>
            <c:dLblPos val="bestFit"/>
            <c:showLegendKey val="0"/>
            <c:showVal val="0"/>
            <c:showCatName val="0"/>
            <c:showSerName val="0"/>
            <c:showPercent val="0"/>
            <c:separator>; </c:separator>
            <c:showLeaderLines val="0"/>
          </c:dLbls>
          <c:cat>
            <c:strRef>
              <c:f>categories</c:f>
              <c:strCache>
                <c:ptCount val="4"/>
                <c:pt idx="0">
                  <c:v>One</c:v>
                </c:pt>
                <c:pt idx="1">
                  <c:v>Two</c:v>
                </c:pt>
                <c:pt idx="2">
                  <c:v>Three</c:v>
                </c:pt>
                <c:pt idx="3">
                  <c:v>Four</c:v>
                </c:pt>
              </c:strCache>
            </c:strRef>
          </c:cat>
          <c:val>
            <c:numRef>
              <c:f>0</c:f>
              <c:numCache>
                <c:formatCode>General</c:formatCode>
                <c:ptCount val="4"/>
                <c:pt idx="0">
                  <c:v>91</c:v>
                </c:pt>
                <c:pt idx="1">
                  <c:v>76</c:v>
                </c:pt>
                <c:pt idx="2">
                  <c:v>28</c:v>
                </c:pt>
                <c:pt idx="3">
                  <c:v>26</c:v>
                </c:pt>
              </c:numCache>
            </c:numRef>
          </c:val>
        </c:ser>
        <c:firstSliceAng val="0"/>
      </c:pieChart>
      <c:spPr>
        <a:noFill/>
        <a:ln w="12600">
          <a:noFill/>
        </a:ln>
      </c:spPr>
    </c:plotArea>
    <c:plotVisOnly val="1"/>
    <c:dispBlanksAs val="gap"/>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0496058109664275"/>
          <c:y val="0.00496058109664275"/>
          <c:w val="0.98990167419612"/>
          <c:h val="0.987421383647799"/>
        </c:manualLayout>
      </c:layout>
      <c:pieChart>
        <c:varyColors val="0"/>
        <c:ser>
          <c:idx val="0"/>
          <c:order val="0"/>
          <c:tx>
            <c:strRef>
              <c:f>label 0</c:f>
              <c:strCache>
                <c:ptCount val="1"/>
                <c:pt idx="0">
                  <c:v>Region 1</c:v>
                </c:pt>
              </c:strCache>
            </c:strRef>
          </c:tx>
          <c:spPr>
            <a:solidFill>
              <a:srgbClr val="858685"/>
            </a:solidFill>
            <a:ln w="12600">
              <a:noFill/>
            </a:ln>
          </c:spPr>
          <c:explosion val="0"/>
          <c:dPt>
            <c:idx val="0"/>
            <c:spPr>
              <a:solidFill>
                <a:srgbClr val="858685"/>
              </a:solidFill>
              <a:ln w="12600">
                <a:noFill/>
              </a:ln>
            </c:spPr>
          </c:dPt>
          <c:dPt>
            <c:idx val="1"/>
            <c:spPr>
              <a:solidFill>
                <a:srgbClr val="cccdcb"/>
              </a:solidFill>
              <a:ln w="12600">
                <a:noFill/>
              </a:ln>
            </c:spPr>
          </c:dPt>
          <c:dPt>
            <c:idx val="2"/>
            <c:spPr>
              <a:solidFill>
                <a:srgbClr val="3c3d3c"/>
              </a:solidFill>
              <a:ln w="12600">
                <a:noFill/>
              </a:ln>
            </c:spPr>
          </c:dPt>
          <c:dPt>
            <c:idx val="3"/>
            <c:spPr>
              <a:solidFill>
                <a:srgbClr val="9e9f9e"/>
              </a:solidFill>
              <a:ln w="12600">
                <a:noFill/>
              </a:ln>
            </c:spPr>
          </c:dPt>
          <c:dLbls>
            <c:dLbl>
              <c:idx val="0"/>
              <c:txPr>
                <a:bodyPr wrap="square"/>
                <a:lstStyle/>
                <a:p>
                  <a:pPr>
                    <a:defRPr b="0" sz="1000" spc="-1" strike="noStrike">
                      <a:solidFill>
                        <a:srgbClr val="009193"/>
                      </a:solidFill>
                      <a:latin typeface="Helvetica Light"/>
                    </a:defRPr>
                  </a:pPr>
                </a:p>
              </c:txPr>
              <c:dLblPos val="bestFit"/>
              <c:showLegendKey val="0"/>
              <c:showVal val="0"/>
              <c:showCatName val="0"/>
              <c:showSerName val="0"/>
              <c:showPercent val="0"/>
              <c:separator>; </c:separator>
            </c:dLbl>
            <c:dLbl>
              <c:idx val="1"/>
              <c:txPr>
                <a:bodyPr wrap="square"/>
                <a:lstStyle/>
                <a:p>
                  <a:pPr>
                    <a:defRPr b="0" sz="1000" spc="-1" strike="noStrike">
                      <a:solidFill>
                        <a:srgbClr val="009193"/>
                      </a:solidFill>
                      <a:latin typeface="Helvetica Light"/>
                    </a:defRPr>
                  </a:pPr>
                </a:p>
              </c:txPr>
              <c:dLblPos val="bestFit"/>
              <c:showLegendKey val="0"/>
              <c:showVal val="0"/>
              <c:showCatName val="0"/>
              <c:showSerName val="0"/>
              <c:showPercent val="0"/>
              <c:separator>; </c:separator>
            </c:dLbl>
            <c:dLbl>
              <c:idx val="2"/>
              <c:txPr>
                <a:bodyPr wrap="square"/>
                <a:lstStyle/>
                <a:p>
                  <a:pPr>
                    <a:defRPr b="0" sz="1000" spc="-1" strike="noStrike">
                      <a:solidFill>
                        <a:srgbClr val="009193"/>
                      </a:solidFill>
                      <a:latin typeface="Helvetica Light"/>
                    </a:defRPr>
                  </a:pPr>
                </a:p>
              </c:txPr>
              <c:dLblPos val="bestFit"/>
              <c:showLegendKey val="0"/>
              <c:showVal val="0"/>
              <c:showCatName val="0"/>
              <c:showSerName val="0"/>
              <c:showPercent val="0"/>
              <c:separator>; </c:separator>
            </c:dLbl>
            <c:dLbl>
              <c:idx val="3"/>
              <c:txPr>
                <a:bodyPr wrap="square"/>
                <a:lstStyle/>
                <a:p>
                  <a:pPr>
                    <a:defRPr b="0" sz="1000" spc="-1" strike="noStrike">
                      <a:solidFill>
                        <a:srgbClr val="009193"/>
                      </a:solidFill>
                      <a:latin typeface="Helvetica Light"/>
                    </a:defRPr>
                  </a:pPr>
                </a:p>
              </c:txPr>
              <c:dLblPos val="bestFit"/>
              <c:showLegendKey val="0"/>
              <c:showVal val="0"/>
              <c:showCatName val="0"/>
              <c:showSerName val="0"/>
              <c:showPercent val="0"/>
              <c:separator>; </c:separator>
            </c:dLbl>
            <c:txPr>
              <a:bodyPr wrap="square"/>
              <a:lstStyle/>
              <a:p>
                <a:pPr>
                  <a:defRPr b="0" sz="1000" spc="-1" strike="noStrike">
                    <a:solidFill>
                      <a:srgbClr val="009193"/>
                    </a:solidFill>
                    <a:latin typeface="Helvetica Light"/>
                    <a:ea typeface="Helvetica Light"/>
                  </a:defRPr>
                </a:pPr>
              </a:p>
            </c:txPr>
            <c:dLblPos val="bestFit"/>
            <c:showLegendKey val="0"/>
            <c:showVal val="0"/>
            <c:showCatName val="0"/>
            <c:showSerName val="0"/>
            <c:showPercent val="0"/>
            <c:separator>; </c:separator>
            <c:showLeaderLines val="0"/>
          </c:dLbls>
          <c:cat>
            <c:strRef>
              <c:f>categories</c:f>
              <c:strCache>
                <c:ptCount val="4"/>
                <c:pt idx="0">
                  <c:v>One</c:v>
                </c:pt>
                <c:pt idx="1">
                  <c:v>Two</c:v>
                </c:pt>
                <c:pt idx="2">
                  <c:v>Three</c:v>
                </c:pt>
                <c:pt idx="3">
                  <c:v>Four</c:v>
                </c:pt>
              </c:strCache>
            </c:strRef>
          </c:cat>
          <c:val>
            <c:numRef>
              <c:f>0</c:f>
              <c:numCache>
                <c:formatCode>General</c:formatCode>
                <c:ptCount val="4"/>
                <c:pt idx="0">
                  <c:v>43</c:v>
                </c:pt>
                <c:pt idx="1">
                  <c:v>21</c:v>
                </c:pt>
                <c:pt idx="2">
                  <c:v>44</c:v>
                </c:pt>
                <c:pt idx="3">
                  <c:v>56</c:v>
                </c:pt>
              </c:numCache>
            </c:numRef>
          </c:val>
        </c:ser>
        <c:firstSliceAng val="0"/>
      </c:pieChart>
      <c:spPr>
        <a:noFill/>
        <a:ln w="12600">
          <a:noFill/>
        </a:ln>
      </c:spPr>
    </c:plotArea>
    <c:plotVisOnly val="1"/>
    <c:dispBlanksAs val="gap"/>
  </c:chart>
  <c:spPr>
    <a:noFill/>
    <a:ln w="0">
      <a:noFill/>
    </a:ln>
  </c:spPr>
</c:chartSpace>
</file>

<file path=ppt/charts/chart4.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43826113765994"/>
          <c:y val="0.0448319683705168"/>
          <c:w val="0.815708339756436"/>
          <c:h val="0.877894662524711"/>
        </c:manualLayout>
      </c:layout>
      <c:barChart>
        <c:barDir val="bar"/>
        <c:grouping val="stacked"/>
        <c:varyColors val="0"/>
        <c:ser>
          <c:idx val="0"/>
          <c:order val="0"/>
          <c:tx>
            <c:strRef>
              <c:f>label 0</c:f>
              <c:strCache>
                <c:ptCount val="1"/>
                <c:pt idx="0">
                  <c:v>Region 1</c:v>
                </c:pt>
              </c:strCache>
            </c:strRef>
          </c:tx>
          <c:spPr>
            <a:solidFill>
              <a:srgbClr val="d6d6d6"/>
            </a:solidFill>
            <a:ln w="12600">
              <a:noFill/>
            </a:ln>
          </c:spPr>
          <c:invertIfNegative val="0"/>
          <c:dLbls>
            <c:txPr>
              <a:bodyPr wrap="square"/>
              <a:lstStyle/>
              <a:p>
                <a:pPr>
                  <a:defRPr b="0" sz="1000" spc="-1" strike="noStrike">
                    <a:solidFill>
                      <a:srgbClr val="009193"/>
                    </a:solidFill>
                    <a:latin typeface="Helvetica Light"/>
                    <a:ea typeface="Helvetica Light"/>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One</c:v>
                </c:pt>
                <c:pt idx="1">
                  <c:v>Two</c:v>
                </c:pt>
                <c:pt idx="2">
                  <c:v>Three</c:v>
                </c:pt>
                <c:pt idx="3">
                  <c:v>Four</c:v>
                </c:pt>
              </c:strCache>
            </c:strRef>
          </c:cat>
          <c:val>
            <c:numRef>
              <c:f>0</c:f>
              <c:numCache>
                <c:formatCode>General</c:formatCode>
                <c:ptCount val="4"/>
                <c:pt idx="0">
                  <c:v>27</c:v>
                </c:pt>
                <c:pt idx="1">
                  <c:v>36</c:v>
                </c:pt>
                <c:pt idx="2">
                  <c:v>63</c:v>
                </c:pt>
                <c:pt idx="3">
                  <c:v>143</c:v>
                </c:pt>
              </c:numCache>
            </c:numRef>
          </c:val>
        </c:ser>
        <c:ser>
          <c:idx val="1"/>
          <c:order val="1"/>
          <c:tx>
            <c:strRef>
              <c:f>label 1</c:f>
              <c:strCache>
                <c:ptCount val="1"/>
                <c:pt idx="0">
                  <c:v>Region 2</c:v>
                </c:pt>
              </c:strCache>
            </c:strRef>
          </c:tx>
          <c:spPr>
            <a:solidFill>
              <a:srgbClr val="212121"/>
            </a:solidFill>
            <a:ln w="12600">
              <a:noFill/>
            </a:ln>
          </c:spPr>
          <c:invertIfNegative val="0"/>
          <c:dLbls>
            <c:txPr>
              <a:bodyPr wrap="square"/>
              <a:lstStyle/>
              <a:p>
                <a:pPr>
                  <a:defRPr b="0" sz="1000" spc="-1" strike="noStrike">
                    <a:solidFill>
                      <a:srgbClr val="009193"/>
                    </a:solidFill>
                    <a:latin typeface="Helvetica Light"/>
                    <a:ea typeface="Helvetica Light"/>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One</c:v>
                </c:pt>
                <c:pt idx="1">
                  <c:v>Two</c:v>
                </c:pt>
                <c:pt idx="2">
                  <c:v>Three</c:v>
                </c:pt>
                <c:pt idx="3">
                  <c:v>Four</c:v>
                </c:pt>
              </c:strCache>
            </c:strRef>
          </c:cat>
          <c:val>
            <c:numRef>
              <c:f>1</c:f>
              <c:numCache>
                <c:formatCode>General</c:formatCode>
                <c:ptCount val="4"/>
                <c:pt idx="0">
                  <c:v>55</c:v>
                </c:pt>
                <c:pt idx="1">
                  <c:v>43</c:v>
                </c:pt>
                <c:pt idx="2">
                  <c:v>80</c:v>
                </c:pt>
                <c:pt idx="3">
                  <c:v>48</c:v>
                </c:pt>
              </c:numCache>
            </c:numRef>
          </c:val>
        </c:ser>
        <c:gapWidth val="40"/>
        <c:overlap val="100"/>
        <c:axId val="33216905"/>
        <c:axId val="23608222"/>
      </c:barChart>
      <c:catAx>
        <c:axId val="33216905"/>
        <c:scaling>
          <c:orientation val="maxMin"/>
        </c:scaling>
        <c:delete val="0"/>
        <c:axPos val="b"/>
        <c:numFmt formatCode="General" sourceLinked="0"/>
        <c:majorTickMark val="none"/>
        <c:minorTickMark val="none"/>
        <c:tickLblPos val="nextTo"/>
        <c:spPr>
          <a:ln w="12600">
            <a:solidFill>
              <a:srgbClr val="5e5e5e"/>
            </a:solidFill>
            <a:round/>
          </a:ln>
        </c:spPr>
        <c:txPr>
          <a:bodyPr/>
          <a:lstStyle/>
          <a:p>
            <a:pPr>
              <a:defRPr b="0" sz="3000" spc="-1" strike="noStrike">
                <a:solidFill>
                  <a:srgbClr val="5e5e5e"/>
                </a:solidFill>
                <a:latin typeface="Montserrat Light"/>
                <a:ea typeface="Helvetica Light"/>
              </a:defRPr>
            </a:pPr>
          </a:p>
        </c:txPr>
        <c:crossAx val="23608222"/>
        <c:crosses val="autoZero"/>
        <c:auto val="1"/>
        <c:lblAlgn val="ctr"/>
        <c:lblOffset val="100"/>
        <c:noMultiLvlLbl val="0"/>
      </c:catAx>
      <c:valAx>
        <c:axId val="23608222"/>
        <c:scaling>
          <c:orientation val="minMax"/>
        </c:scaling>
        <c:delete val="0"/>
        <c:axPos val="l"/>
        <c:majorGridlines>
          <c:spPr>
            <a:ln w="12600">
              <a:solidFill>
                <a:srgbClr val="929292"/>
              </a:solidFill>
              <a:custDash>
                <a:ds d="200000" sp="200000"/>
              </a:custDash>
              <a:round/>
            </a:ln>
          </c:spPr>
        </c:majorGridlines>
        <c:numFmt formatCode="General" sourceLinked="0"/>
        <c:majorTickMark val="none"/>
        <c:minorTickMark val="none"/>
        <c:tickLblPos val="high"/>
        <c:spPr>
          <a:ln w="12600">
            <a:noFill/>
          </a:ln>
        </c:spPr>
        <c:txPr>
          <a:bodyPr/>
          <a:lstStyle/>
          <a:p>
            <a:pPr>
              <a:defRPr b="0" sz="3000" spc="-1" strike="noStrike">
                <a:solidFill>
                  <a:srgbClr val="5e5e5e"/>
                </a:solidFill>
                <a:latin typeface="Montserrat Light"/>
                <a:ea typeface="Helvetica Light"/>
              </a:defRPr>
            </a:pPr>
          </a:p>
        </c:txPr>
        <c:crossAx val="33216905"/>
        <c:crosses val="autoZero"/>
        <c:crossBetween val="between"/>
        <c:majorUnit val="50"/>
        <c:minorUnit val="25"/>
      </c:valAx>
      <c:spPr>
        <a:noFill/>
        <a:ln w="12600">
          <a:noFill/>
        </a:ln>
      </c:spPr>
    </c:plotArea>
    <c:plotVisOnly val="1"/>
    <c:dispBlanksAs val="gap"/>
  </c:chart>
  <c:spPr>
    <a:noFill/>
    <a:ln w="0">
      <a:noFill/>
    </a:ln>
  </c:spPr>
</c:chartSpace>
</file>

<file path=ppt/charts/chart5.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290049988098072"/>
          <c:y val="0.245468641394429"/>
          <c:w val="0.419870268983575"/>
          <c:h val="0.741966529433781"/>
        </c:manualLayout>
      </c:layout>
      <c:pieChart>
        <c:varyColors val="0"/>
        <c:ser>
          <c:idx val="0"/>
          <c:order val="0"/>
          <c:tx>
            <c:strRef>
              <c:f>label 0</c:f>
              <c:strCache>
                <c:ptCount val="1"/>
                <c:pt idx="0">
                  <c:v>Region 1</c:v>
                </c:pt>
              </c:strCache>
            </c:strRef>
          </c:tx>
          <c:spPr>
            <a:solidFill>
              <a:srgbClr val="858685"/>
            </a:solidFill>
            <a:ln w="12600">
              <a:noFill/>
            </a:ln>
          </c:spPr>
          <c:explosion val="0"/>
          <c:dPt>
            <c:idx val="0"/>
            <c:spPr>
              <a:solidFill>
                <a:srgbClr val="858685"/>
              </a:solidFill>
              <a:ln w="12600">
                <a:noFill/>
              </a:ln>
            </c:spPr>
          </c:dPt>
          <c:dPt>
            <c:idx val="1"/>
            <c:spPr>
              <a:solidFill>
                <a:srgbClr val="cccdcb"/>
              </a:solidFill>
              <a:ln w="12600">
                <a:noFill/>
              </a:ln>
            </c:spPr>
          </c:dPt>
          <c:dPt>
            <c:idx val="2"/>
            <c:spPr>
              <a:solidFill>
                <a:srgbClr val="3c3d3c"/>
              </a:solidFill>
              <a:ln w="12600">
                <a:noFill/>
              </a:ln>
            </c:spPr>
          </c:dPt>
          <c:dPt>
            <c:idx val="3"/>
            <c:spPr>
              <a:solidFill>
                <a:srgbClr val="9e9f9e"/>
              </a:solidFill>
              <a:ln w="12600">
                <a:noFill/>
              </a:ln>
            </c:spPr>
          </c:dPt>
          <c:dPt>
            <c:idx val="4"/>
            <c:spPr>
              <a:solidFill>
                <a:srgbClr val="000000"/>
              </a:solidFill>
              <a:ln w="12600">
                <a:noFill/>
              </a:ln>
            </c:spPr>
          </c:dPt>
          <c:dPt>
            <c:idx val="5"/>
            <c:spPr>
              <a:solidFill>
                <a:srgbClr val="5b5c5b"/>
              </a:solidFill>
              <a:ln w="12600">
                <a:noFill/>
              </a:ln>
            </c:spPr>
          </c:dPt>
          <c:dLbls>
            <c:numFmt formatCode="#,##0%" sourceLinked="0"/>
            <c:dLbl>
              <c:idx val="0"/>
              <c:numFmt formatCode="#,##0%" sourceLinked="0"/>
              <c:txPr>
                <a:bodyPr wrap="square"/>
                <a:lstStyle/>
                <a:p>
                  <a:pPr>
                    <a:defRPr b="0" sz="2391" spc="-1" strike="noStrike">
                      <a:solidFill>
                        <a:srgbClr val="ffffff"/>
                      </a:solidFill>
                      <a:latin typeface="Montserrat"/>
                      <a:ea typeface="Helvetica Light"/>
                    </a:defRPr>
                  </a:pPr>
                </a:p>
              </c:txPr>
              <c:dLblPos val="ctr"/>
              <c:showLegendKey val="0"/>
              <c:showVal val="0"/>
              <c:showCatName val="0"/>
              <c:showSerName val="0"/>
              <c:showPercent val="1"/>
              <c:separator>
</c:separator>
            </c:dLbl>
            <c:dLbl>
              <c:idx val="1"/>
              <c:numFmt formatCode="#,##0%" sourceLinked="0"/>
              <c:txPr>
                <a:bodyPr wrap="square"/>
                <a:lstStyle/>
                <a:p>
                  <a:pPr>
                    <a:defRPr b="0" sz="2391" spc="-1" strike="noStrike">
                      <a:solidFill>
                        <a:srgbClr val="ffffff"/>
                      </a:solidFill>
                      <a:latin typeface="Montserrat"/>
                      <a:ea typeface="Helvetica Light"/>
                    </a:defRPr>
                  </a:pPr>
                </a:p>
              </c:txPr>
              <c:dLblPos val="ctr"/>
              <c:showLegendKey val="0"/>
              <c:showVal val="0"/>
              <c:showCatName val="0"/>
              <c:showSerName val="0"/>
              <c:showPercent val="1"/>
              <c:separator>
</c:separator>
            </c:dLbl>
            <c:dLbl>
              <c:idx val="2"/>
              <c:numFmt formatCode="#,##0%" sourceLinked="0"/>
              <c:txPr>
                <a:bodyPr wrap="square"/>
                <a:lstStyle/>
                <a:p>
                  <a:pPr>
                    <a:defRPr b="0" sz="2391" spc="-1" strike="noStrike">
                      <a:solidFill>
                        <a:srgbClr val="ffffff"/>
                      </a:solidFill>
                      <a:latin typeface="Montserrat"/>
                      <a:ea typeface="Helvetica Light"/>
                    </a:defRPr>
                  </a:pPr>
                </a:p>
              </c:txPr>
              <c:dLblPos val="ctr"/>
              <c:showLegendKey val="0"/>
              <c:showVal val="0"/>
              <c:showCatName val="0"/>
              <c:showSerName val="0"/>
              <c:showPercent val="1"/>
              <c:separator>
</c:separator>
            </c:dLbl>
            <c:dLbl>
              <c:idx val="3"/>
              <c:numFmt formatCode="#,##0%" sourceLinked="0"/>
              <c:txPr>
                <a:bodyPr wrap="square"/>
                <a:lstStyle/>
                <a:p>
                  <a:pPr>
                    <a:defRPr b="0" sz="2391" spc="-1" strike="noStrike">
                      <a:solidFill>
                        <a:srgbClr val="ffffff"/>
                      </a:solidFill>
                      <a:latin typeface="Montserrat"/>
                      <a:ea typeface="Helvetica Light"/>
                    </a:defRPr>
                  </a:pPr>
                </a:p>
              </c:txPr>
              <c:dLblPos val="ctr"/>
              <c:showLegendKey val="0"/>
              <c:showVal val="0"/>
              <c:showCatName val="0"/>
              <c:showSerName val="0"/>
              <c:showPercent val="1"/>
              <c:separator>
</c:separator>
            </c:dLbl>
            <c:dLbl>
              <c:idx val="4"/>
              <c:numFmt formatCode="#,##0%" sourceLinked="0"/>
              <c:txPr>
                <a:bodyPr wrap="square"/>
                <a:lstStyle/>
                <a:p>
                  <a:pPr>
                    <a:defRPr b="0" sz="2391" spc="-1" strike="noStrike">
                      <a:solidFill>
                        <a:srgbClr val="ffffff"/>
                      </a:solidFill>
                      <a:latin typeface="Montserrat"/>
                      <a:ea typeface="Helvetica Light"/>
                    </a:defRPr>
                  </a:pPr>
                </a:p>
              </c:txPr>
              <c:dLblPos val="ctr"/>
              <c:showLegendKey val="0"/>
              <c:showVal val="0"/>
              <c:showCatName val="0"/>
              <c:showSerName val="0"/>
              <c:showPercent val="1"/>
              <c:separator>
</c:separator>
            </c:dLbl>
            <c:dLbl>
              <c:idx val="5"/>
              <c:numFmt formatCode="#,##0%" sourceLinked="0"/>
              <c:txPr>
                <a:bodyPr wrap="square"/>
                <a:lstStyle/>
                <a:p>
                  <a:pPr>
                    <a:defRPr b="0" sz="2391" spc="-1" strike="noStrike">
                      <a:solidFill>
                        <a:srgbClr val="ffffff"/>
                      </a:solidFill>
                      <a:latin typeface="Montserrat"/>
                      <a:ea typeface="Helvetica Light"/>
                    </a:defRPr>
                  </a:pPr>
                </a:p>
              </c:txPr>
              <c:dLblPos val="ctr"/>
              <c:showLegendKey val="0"/>
              <c:showVal val="0"/>
              <c:showCatName val="0"/>
              <c:showSerName val="0"/>
              <c:showPercent val="1"/>
              <c:separator>
</c:separator>
            </c:dLbl>
            <c:txPr>
              <a:bodyPr wrap="square"/>
              <a:lstStyle/>
              <a:p>
                <a:pPr>
                  <a:defRPr b="0" sz="2391" spc="-1" strike="noStrike">
                    <a:solidFill>
                      <a:srgbClr val="ffffff"/>
                    </a:solidFill>
                    <a:latin typeface="Montserrat"/>
                    <a:ea typeface="Helvetica Light"/>
                  </a:defRPr>
                </a:pPr>
              </a:p>
            </c:txPr>
            <c:dLblPos val="ctr"/>
            <c:showLegendKey val="0"/>
            <c:showVal val="0"/>
            <c:showCatName val="0"/>
            <c:showSerName val="0"/>
            <c:showPercent val="1"/>
            <c:separator>
</c:separator>
            <c:showLeaderLines val="0"/>
          </c:dLbls>
          <c:cat>
            <c:strRef>
              <c:f>categories</c:f>
              <c:strCache>
                <c:ptCount val="6"/>
                <c:pt idx="0">
                  <c:v>April</c:v>
                </c:pt>
                <c:pt idx="1">
                  <c:v>Mai</c:v>
                </c:pt>
                <c:pt idx="2">
                  <c:v>Juni</c:v>
                </c:pt>
                <c:pt idx="3">
                  <c:v>Juli</c:v>
                </c:pt>
                <c:pt idx="4">
                  <c:v>August</c:v>
                </c:pt>
                <c:pt idx="5">
                  <c:v>September</c:v>
                </c:pt>
              </c:strCache>
            </c:strRef>
          </c:cat>
          <c:val>
            <c:numRef>
              <c:f>0</c:f>
              <c:numCache>
                <c:formatCode>General</c:formatCode>
                <c:ptCount val="6"/>
                <c:pt idx="0">
                  <c:v>91</c:v>
                </c:pt>
                <c:pt idx="1">
                  <c:v>76</c:v>
                </c:pt>
                <c:pt idx="2">
                  <c:v>28</c:v>
                </c:pt>
                <c:pt idx="3">
                  <c:v>26</c:v>
                </c:pt>
                <c:pt idx="4">
                  <c:v>21</c:v>
                </c:pt>
                <c:pt idx="5">
                  <c:v>18</c:v>
                </c:pt>
              </c:numCache>
            </c:numRef>
          </c:val>
        </c:ser>
        <c:firstSliceAng val="0"/>
      </c:pieChart>
      <c:spPr>
        <a:noFill/>
        <a:ln w="12600">
          <a:noFill/>
        </a:ln>
      </c:spPr>
    </c:plotArea>
    <c:legend>
      <c:legendPos val="t"/>
      <c:layout>
        <c:manualLayout>
          <c:xMode val="edge"/>
          <c:yMode val="edge"/>
          <c:x val="0"/>
          <c:y val="0"/>
          <c:w val="1"/>
          <c:h val="0.0664972"/>
        </c:manualLayout>
      </c:layout>
      <c:overlay val="1"/>
      <c:spPr>
        <a:noFill/>
        <a:ln w="12600">
          <a:noFill/>
        </a:ln>
      </c:spPr>
      <c:txPr>
        <a:bodyPr/>
        <a:lstStyle/>
        <a:p>
          <a:pPr>
            <a:defRPr b="0" sz="1817" spc="-1" strike="noStrike">
              <a:solidFill>
                <a:srgbClr val="000000"/>
              </a:solidFill>
              <a:latin typeface="Montserrat"/>
              <a:ea typeface="Helvetica Light"/>
            </a:defRPr>
          </a:pPr>
        </a:p>
      </c:txPr>
    </c:legend>
    <c:plotVisOnly val="1"/>
    <c:dispBlanksAs val="gap"/>
  </c:chart>
  <c:spPr>
    <a:noFill/>
    <a:ln w="0">
      <a:noFill/>
    </a:ln>
  </c:spPr>
</c:chartSpace>
</file>

<file path=ppt/charts/chart6.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38713166663759"/>
          <c:y val="0.0655937419851244"/>
          <c:w val="0.948428967707043"/>
          <c:h val="0.826622210823288"/>
        </c:manualLayout>
      </c:layout>
      <c:lineChart>
        <c:grouping val="standard"/>
        <c:varyColors val="0"/>
        <c:ser>
          <c:idx val="0"/>
          <c:order val="0"/>
          <c:tx>
            <c:strRef>
              <c:f>label 0</c:f>
              <c:strCache>
                <c:ptCount val="1"/>
                <c:pt idx="0">
                  <c:v>Region 1</c:v>
                </c:pt>
              </c:strCache>
            </c:strRef>
          </c:tx>
          <c:spPr>
            <a:solidFill>
              <a:srgbClr val="929292"/>
            </a:solidFill>
            <a:ln w="50760">
              <a:solidFill>
                <a:srgbClr val="929292"/>
              </a:solidFill>
              <a:round/>
            </a:ln>
          </c:spPr>
          <c:marker>
            <c:symbol val="none"/>
          </c:marker>
          <c:dLbls>
            <c:txPr>
              <a:bodyPr wrap="square"/>
              <a:lstStyle/>
              <a:p>
                <a:pPr>
                  <a:defRPr b="0" sz="1000" spc="-1" strike="noStrike">
                    <a:solidFill>
                      <a:srgbClr val="009193"/>
                    </a:solidFill>
                    <a:latin typeface="Helvetica Light"/>
                    <a:ea typeface="Helvetica Light"/>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pril</c:v>
                </c:pt>
                <c:pt idx="1">
                  <c:v>Mai</c:v>
                </c:pt>
                <c:pt idx="2">
                  <c:v>Juni</c:v>
                </c:pt>
                <c:pt idx="3">
                  <c:v>Juli</c:v>
                </c:pt>
              </c:strCache>
            </c:strRef>
          </c:cat>
          <c:val>
            <c:numRef>
              <c:f>0</c:f>
              <c:numCache>
                <c:formatCode>General</c:formatCode>
                <c:ptCount val="4"/>
                <c:pt idx="0">
                  <c:v>17</c:v>
                </c:pt>
                <c:pt idx="1">
                  <c:v>26</c:v>
                </c:pt>
                <c:pt idx="2">
                  <c:v>53</c:v>
                </c:pt>
                <c:pt idx="3">
                  <c:v>96</c:v>
                </c:pt>
              </c:numCache>
            </c:numRef>
          </c:val>
          <c:smooth val="0"/>
        </c:ser>
        <c:ser>
          <c:idx val="1"/>
          <c:order val="1"/>
          <c:tx>
            <c:strRef>
              <c:f>label 1</c:f>
              <c:strCache>
                <c:ptCount val="1"/>
                <c:pt idx="0">
                  <c:v>Region 2</c:v>
                </c:pt>
              </c:strCache>
            </c:strRef>
          </c:tx>
          <c:spPr>
            <a:solidFill>
              <a:srgbClr val="212121"/>
            </a:solidFill>
            <a:ln w="50760">
              <a:solidFill>
                <a:srgbClr val="212121"/>
              </a:solidFill>
              <a:round/>
            </a:ln>
          </c:spPr>
          <c:marker>
            <c:symbol val="none"/>
          </c:marker>
          <c:dLbls>
            <c:txPr>
              <a:bodyPr wrap="square"/>
              <a:lstStyle/>
              <a:p>
                <a:pPr>
                  <a:defRPr b="0" sz="1000" spc="-1" strike="noStrike">
                    <a:solidFill>
                      <a:srgbClr val="009193"/>
                    </a:solidFill>
                    <a:latin typeface="Helvetica Light"/>
                    <a:ea typeface="Helvetica Light"/>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pril</c:v>
                </c:pt>
                <c:pt idx="1">
                  <c:v>Mai</c:v>
                </c:pt>
                <c:pt idx="2">
                  <c:v>Juni</c:v>
                </c:pt>
                <c:pt idx="3">
                  <c:v>Juli</c:v>
                </c:pt>
              </c:strCache>
            </c:strRef>
          </c:cat>
          <c:val>
            <c:numRef>
              <c:f>1</c:f>
              <c:numCache>
                <c:formatCode>General</c:formatCode>
                <c:ptCount val="4"/>
                <c:pt idx="0">
                  <c:v>55</c:v>
                </c:pt>
                <c:pt idx="1">
                  <c:v>43</c:v>
                </c:pt>
                <c:pt idx="2">
                  <c:v>70</c:v>
                </c:pt>
                <c:pt idx="3">
                  <c:v>58</c:v>
                </c:pt>
              </c:numCache>
            </c:numRef>
          </c:val>
          <c:smooth val="0"/>
        </c:ser>
        <c:ser>
          <c:idx val="2"/>
          <c:order val="2"/>
          <c:tx>
            <c:strRef>
              <c:f>label 2</c:f>
              <c:strCache>
                <c:ptCount val="1"/>
                <c:pt idx="0">
                  <c:v>Region 3</c:v>
                </c:pt>
              </c:strCache>
            </c:strRef>
          </c:tx>
          <c:spPr>
            <a:solidFill>
              <a:srgbClr val="5e5e5e"/>
            </a:solidFill>
            <a:ln w="50760">
              <a:solidFill>
                <a:srgbClr val="5e5e5e"/>
              </a:solidFill>
              <a:round/>
            </a:ln>
          </c:spPr>
          <c:marker>
            <c:symbol val="none"/>
          </c:marker>
          <c:dLbls>
            <c:txPr>
              <a:bodyPr wrap="square"/>
              <a:lstStyle/>
              <a:p>
                <a:pPr>
                  <a:defRPr b="0" sz="1000" spc="-1" strike="noStrike">
                    <a:solidFill>
                      <a:srgbClr val="009193"/>
                    </a:solidFill>
                    <a:latin typeface="Helvetica Light"/>
                    <a:ea typeface="Helvetica Light"/>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pril</c:v>
                </c:pt>
                <c:pt idx="1">
                  <c:v>Mai</c:v>
                </c:pt>
                <c:pt idx="2">
                  <c:v>Juni</c:v>
                </c:pt>
                <c:pt idx="3">
                  <c:v>Juli</c:v>
                </c:pt>
              </c:strCache>
            </c:strRef>
          </c:cat>
          <c:val>
            <c:numRef>
              <c:f>2</c:f>
              <c:numCache>
                <c:formatCode>General</c:formatCode>
                <c:ptCount val="4"/>
                <c:pt idx="0">
                  <c:v>34</c:v>
                </c:pt>
                <c:pt idx="1">
                  <c:v>21</c:v>
                </c:pt>
                <c:pt idx="2">
                  <c:v>18</c:v>
                </c:pt>
                <c:pt idx="3">
                  <c:v>66</c:v>
                </c:pt>
              </c:numCache>
            </c:numRef>
          </c:val>
          <c:smooth val="0"/>
        </c:ser>
        <c:hiLowLines>
          <c:spPr>
            <a:ln w="0">
              <a:noFill/>
            </a:ln>
          </c:spPr>
        </c:hiLowLines>
        <c:marker val="0"/>
        <c:axId val="47250424"/>
        <c:axId val="23174228"/>
      </c:lineChart>
      <c:catAx>
        <c:axId val="47250424"/>
        <c:scaling>
          <c:orientation val="minMax"/>
        </c:scaling>
        <c:delete val="0"/>
        <c:axPos val="b"/>
        <c:numFmt formatCode="General" sourceLinked="0"/>
        <c:majorTickMark val="none"/>
        <c:minorTickMark val="none"/>
        <c:tickLblPos val="low"/>
        <c:spPr>
          <a:ln w="12600">
            <a:solidFill>
              <a:srgbClr val="d6d6d6"/>
            </a:solidFill>
            <a:round/>
          </a:ln>
        </c:spPr>
        <c:txPr>
          <a:bodyPr/>
          <a:lstStyle/>
          <a:p>
            <a:pPr>
              <a:defRPr b="0" sz="2432" spc="-1" strike="noStrike">
                <a:solidFill>
                  <a:srgbClr val="929292"/>
                </a:solidFill>
                <a:latin typeface="Montserrat Light"/>
                <a:ea typeface="Helvetica Light"/>
              </a:defRPr>
            </a:pPr>
          </a:p>
        </c:txPr>
        <c:crossAx val="23174228"/>
        <c:crosses val="autoZero"/>
        <c:auto val="1"/>
        <c:lblAlgn val="ctr"/>
        <c:lblOffset val="100"/>
        <c:noMultiLvlLbl val="0"/>
      </c:catAx>
      <c:valAx>
        <c:axId val="23174228"/>
        <c:scaling>
          <c:orientation val="minMax"/>
        </c:scaling>
        <c:delete val="0"/>
        <c:axPos val="l"/>
        <c:majorGridlines>
          <c:spPr>
            <a:ln w="12600">
              <a:solidFill>
                <a:srgbClr val="929292"/>
              </a:solidFill>
              <a:custDash>
                <a:ds d="200000" sp="200000"/>
              </a:custDash>
              <a:round/>
            </a:ln>
          </c:spPr>
        </c:majorGridlines>
        <c:numFmt formatCode="General" sourceLinked="0"/>
        <c:majorTickMark val="none"/>
        <c:minorTickMark val="none"/>
        <c:tickLblPos val="nextTo"/>
        <c:spPr>
          <a:ln w="12600">
            <a:noFill/>
          </a:ln>
        </c:spPr>
        <c:txPr>
          <a:bodyPr/>
          <a:lstStyle/>
          <a:p>
            <a:pPr>
              <a:defRPr b="0" sz="2432" spc="-1" strike="noStrike">
                <a:solidFill>
                  <a:srgbClr val="929292"/>
                </a:solidFill>
                <a:latin typeface="Montserrat Light"/>
                <a:ea typeface="Helvetica Light"/>
              </a:defRPr>
            </a:pPr>
          </a:p>
        </c:txPr>
        <c:crossAx val="47250424"/>
        <c:crosses val="autoZero"/>
        <c:crossBetween val="midCat"/>
        <c:majorUnit val="25"/>
        <c:minorUnit val="12.5"/>
      </c:valAx>
      <c:spPr>
        <a:noFill/>
        <a:ln w="12600">
          <a:noFill/>
        </a:ln>
      </c:spPr>
    </c:plotArea>
    <c:plotVisOnly val="1"/>
    <c:dispBlanksAs val="gap"/>
  </c:chart>
  <c:spPr>
    <a:noFill/>
    <a:ln w="0">
      <a:noFill/>
    </a:ln>
  </c:spPr>
</c:chartSpace>
</file>

<file path=ppt/charts/chart7.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150873221216041"/>
          <c:y val="0.0640572984969232"/>
          <c:w val="0.812863842173351"/>
          <c:h val="0.83087864420458"/>
        </c:manualLayout>
      </c:layout>
      <c:barChart>
        <c:barDir val="bar"/>
        <c:grouping val="stacked"/>
        <c:varyColors val="0"/>
        <c:ser>
          <c:idx val="0"/>
          <c:order val="0"/>
          <c:tx>
            <c:strRef>
              <c:f>label 0</c:f>
              <c:strCache>
                <c:ptCount val="1"/>
                <c:pt idx="0">
                  <c:v>Region 1</c:v>
                </c:pt>
              </c:strCache>
            </c:strRef>
          </c:tx>
          <c:spPr>
            <a:solidFill>
              <a:srgbClr val="d6d6d6"/>
            </a:solidFill>
            <a:ln w="12600">
              <a:noFill/>
            </a:ln>
          </c:spPr>
          <c:invertIfNegative val="0"/>
          <c:dLbls>
            <c:txPr>
              <a:bodyPr wrap="square"/>
              <a:lstStyle/>
              <a:p>
                <a:pPr>
                  <a:defRPr b="0" sz="1000" spc="-1" strike="noStrike">
                    <a:solidFill>
                      <a:srgbClr val="009193"/>
                    </a:solidFill>
                    <a:latin typeface="Helvetica Light"/>
                    <a:ea typeface="Helvetica Light"/>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One</c:v>
                </c:pt>
                <c:pt idx="1">
                  <c:v>Two</c:v>
                </c:pt>
                <c:pt idx="2">
                  <c:v>Three</c:v>
                </c:pt>
                <c:pt idx="3">
                  <c:v>Four</c:v>
                </c:pt>
                <c:pt idx="4">
                  <c:v>Five</c:v>
                </c:pt>
              </c:strCache>
            </c:strRef>
          </c:cat>
          <c:val>
            <c:numRef>
              <c:f>0</c:f>
              <c:numCache>
                <c:formatCode>General</c:formatCode>
                <c:ptCount val="5"/>
                <c:pt idx="0">
                  <c:v>27</c:v>
                </c:pt>
                <c:pt idx="1">
                  <c:v>36</c:v>
                </c:pt>
                <c:pt idx="2">
                  <c:v>63</c:v>
                </c:pt>
                <c:pt idx="3">
                  <c:v>43</c:v>
                </c:pt>
                <c:pt idx="4">
                  <c:v>34</c:v>
                </c:pt>
              </c:numCache>
            </c:numRef>
          </c:val>
        </c:ser>
        <c:ser>
          <c:idx val="1"/>
          <c:order val="1"/>
          <c:tx>
            <c:strRef>
              <c:f>label 1</c:f>
              <c:strCache>
                <c:ptCount val="1"/>
                <c:pt idx="0">
                  <c:v>Region 2</c:v>
                </c:pt>
              </c:strCache>
            </c:strRef>
          </c:tx>
          <c:spPr>
            <a:solidFill>
              <a:srgbClr val="929292"/>
            </a:solidFill>
            <a:ln w="12600">
              <a:noFill/>
            </a:ln>
          </c:spPr>
          <c:invertIfNegative val="0"/>
          <c:dLbls>
            <c:txPr>
              <a:bodyPr wrap="square"/>
              <a:lstStyle/>
              <a:p>
                <a:pPr>
                  <a:defRPr b="0" sz="1000" spc="-1" strike="noStrike">
                    <a:solidFill>
                      <a:srgbClr val="009193"/>
                    </a:solidFill>
                    <a:latin typeface="Helvetica Light"/>
                    <a:ea typeface="Helvetica Light"/>
                  </a:defRPr>
                </a:pPr>
              </a:p>
            </c:txPr>
            <c:dLblPos val="ct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5"/>
                <c:pt idx="0">
                  <c:v>One</c:v>
                </c:pt>
                <c:pt idx="1">
                  <c:v>Two</c:v>
                </c:pt>
                <c:pt idx="2">
                  <c:v>Three</c:v>
                </c:pt>
                <c:pt idx="3">
                  <c:v>Four</c:v>
                </c:pt>
                <c:pt idx="4">
                  <c:v>Five</c:v>
                </c:pt>
              </c:strCache>
            </c:strRef>
          </c:cat>
          <c:val>
            <c:numRef>
              <c:f>1</c:f>
              <c:numCache>
                <c:formatCode>General</c:formatCode>
                <c:ptCount val="5"/>
                <c:pt idx="0">
                  <c:v>55</c:v>
                </c:pt>
                <c:pt idx="1">
                  <c:v>43</c:v>
                </c:pt>
                <c:pt idx="2">
                  <c:v>80</c:v>
                </c:pt>
                <c:pt idx="3">
                  <c:v>67</c:v>
                </c:pt>
                <c:pt idx="4">
                  <c:v>89</c:v>
                </c:pt>
              </c:numCache>
            </c:numRef>
          </c:val>
        </c:ser>
        <c:gapWidth val="90"/>
        <c:overlap val="100"/>
        <c:axId val="27221296"/>
        <c:axId val="24811586"/>
      </c:barChart>
      <c:catAx>
        <c:axId val="27221296"/>
        <c:scaling>
          <c:orientation val="maxMin"/>
        </c:scaling>
        <c:delete val="0"/>
        <c:axPos val="b"/>
        <c:numFmt formatCode="General" sourceLinked="0"/>
        <c:majorTickMark val="none"/>
        <c:minorTickMark val="none"/>
        <c:tickLblPos val="nextTo"/>
        <c:spPr>
          <a:ln w="12600">
            <a:solidFill>
              <a:srgbClr val="5e5e5e"/>
            </a:solidFill>
            <a:round/>
          </a:ln>
        </c:spPr>
        <c:txPr>
          <a:bodyPr/>
          <a:lstStyle/>
          <a:p>
            <a:pPr>
              <a:defRPr b="0" sz="3000" spc="-1" strike="noStrike">
                <a:solidFill>
                  <a:srgbClr val="5e5e5e"/>
                </a:solidFill>
                <a:latin typeface="Montserrat Light"/>
                <a:ea typeface="Helvetica Light"/>
              </a:defRPr>
            </a:pPr>
          </a:p>
        </c:txPr>
        <c:crossAx val="24811586"/>
        <c:crosses val="autoZero"/>
        <c:auto val="1"/>
        <c:lblAlgn val="ctr"/>
        <c:lblOffset val="100"/>
        <c:noMultiLvlLbl val="0"/>
      </c:catAx>
      <c:valAx>
        <c:axId val="24811586"/>
        <c:scaling>
          <c:orientation val="minMax"/>
        </c:scaling>
        <c:delete val="0"/>
        <c:axPos val="l"/>
        <c:majorGridlines>
          <c:spPr>
            <a:ln w="12600">
              <a:solidFill>
                <a:srgbClr val="929292"/>
              </a:solidFill>
              <a:custDash>
                <a:ds d="200000" sp="200000"/>
              </a:custDash>
              <a:round/>
            </a:ln>
          </c:spPr>
        </c:majorGridlines>
        <c:numFmt formatCode="General" sourceLinked="0"/>
        <c:majorTickMark val="none"/>
        <c:minorTickMark val="none"/>
        <c:tickLblPos val="high"/>
        <c:spPr>
          <a:ln w="12600">
            <a:noFill/>
          </a:ln>
        </c:spPr>
        <c:txPr>
          <a:bodyPr/>
          <a:lstStyle/>
          <a:p>
            <a:pPr>
              <a:defRPr b="0" sz="3000" spc="-1" strike="noStrike">
                <a:solidFill>
                  <a:srgbClr val="5e5e5e"/>
                </a:solidFill>
                <a:latin typeface="Montserrat Light"/>
                <a:ea typeface="Helvetica Light"/>
              </a:defRPr>
            </a:pPr>
          </a:p>
        </c:txPr>
        <c:crossAx val="27221296"/>
        <c:crosses val="autoZero"/>
        <c:crossBetween val="between"/>
        <c:majorUnit val="40"/>
        <c:minorUnit val="20"/>
      </c:valAx>
      <c:spPr>
        <a:noFill/>
        <a:ln w="12600">
          <a:noFill/>
        </a:ln>
      </c:spPr>
    </c:plotArea>
    <c:plotVisOnly val="1"/>
    <c:dispBlanksAs val="gap"/>
  </c:chart>
  <c:spPr>
    <a:noFill/>
    <a:ln w="0">
      <a:noFill/>
    </a:ln>
  </c:spPr>
</c:chartSpace>
</file>

<file path=ppt/charts/chart8.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957823674888042"/>
          <c:y val="0.212894814316356"/>
          <c:w val="0.839415814450906"/>
          <c:h val="0.696681667157337"/>
        </c:manualLayout>
      </c:layout>
      <c:scatterChart>
        <c:scatterStyle val="lineMarker"/>
        <c:varyColors val="0"/>
        <c:ser>
          <c:idx val="0"/>
          <c:order val="0"/>
          <c:tx>
            <c:strRef>
              <c:f>label 0</c:f>
              <c:strCache>
                <c:ptCount val="1"/>
                <c:pt idx="0">
                  <c:v>Region 1</c:v>
                </c:pt>
              </c:strCache>
            </c:strRef>
          </c:tx>
          <c:spPr>
            <a:solidFill>
              <a:srgbClr val="ffffff"/>
            </a:solidFill>
            <a:ln w="12600">
              <a:noFill/>
            </a:ln>
          </c:spPr>
          <c:marker>
            <c:symbol val="circle"/>
            <c:size val="12"/>
            <c:spPr>
              <a:solidFill>
                <a:srgbClr val="ffffff"/>
              </a:solidFill>
            </c:spPr>
          </c:marker>
          <c:dLbls>
            <c:txPr>
              <a:bodyPr wrap="square"/>
              <a:lstStyle/>
              <a:p>
                <a:pPr>
                  <a:defRPr b="0" sz="1000" spc="-1" strike="noStrike">
                    <a:solidFill>
                      <a:srgbClr val="009193"/>
                    </a:solidFill>
                    <a:latin typeface="Helvetica Light"/>
                    <a:ea typeface="Helvetica Light"/>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1</c:f>
              <c:numCache>
                <c:formatCode>General</c:formatCode>
                <c:ptCount val="9"/>
                <c:pt idx="0">
                  <c:v>1</c:v>
                </c:pt>
                <c:pt idx="1">
                  <c:v>3</c:v>
                </c:pt>
                <c:pt idx="2">
                  <c:v>5</c:v>
                </c:pt>
                <c:pt idx="3">
                  <c:v>6</c:v>
                </c:pt>
                <c:pt idx="4">
                  <c:v>8</c:v>
                </c:pt>
                <c:pt idx="5">
                  <c:v>9</c:v>
                </c:pt>
                <c:pt idx="6">
                  <c:v>11</c:v>
                </c:pt>
                <c:pt idx="7">
                  <c:v>12</c:v>
                </c:pt>
                <c:pt idx="8">
                  <c:v>15</c:v>
                </c:pt>
              </c:numCache>
            </c:numRef>
          </c:xVal>
          <c:yVal>
            <c:numRef>
              <c:f>0</c:f>
              <c:numCache>
                <c:formatCode>General</c:formatCode>
                <c:ptCount val="9"/>
                <c:pt idx="0">
                  <c:v>2</c:v>
                </c:pt>
                <c:pt idx="1">
                  <c:v>4</c:v>
                </c:pt>
                <c:pt idx="2">
                  <c:v>5</c:v>
                </c:pt>
                <c:pt idx="3">
                  <c:v>8</c:v>
                </c:pt>
                <c:pt idx="4">
                  <c:v>13</c:v>
                </c:pt>
                <c:pt idx="5">
                  <c:v>16</c:v>
                </c:pt>
                <c:pt idx="6">
                  <c:v>18</c:v>
                </c:pt>
                <c:pt idx="7">
                  <c:v>20</c:v>
                </c:pt>
                <c:pt idx="8">
                  <c:v>24</c:v>
                </c:pt>
              </c:numCache>
            </c:numRef>
          </c:yVal>
          <c:smooth val="0"/>
        </c:ser>
        <c:ser>
          <c:idx val="1"/>
          <c:order val="1"/>
          <c:tx>
            <c:strRef>
              <c:f>label 2</c:f>
              <c:strCache>
                <c:ptCount val="1"/>
                <c:pt idx="0">
                  <c:v>Region 1</c:v>
                </c:pt>
              </c:strCache>
            </c:strRef>
          </c:tx>
          <c:spPr>
            <a:solidFill>
              <a:srgbClr val="ffffff"/>
            </a:solidFill>
            <a:ln w="12600">
              <a:noFill/>
            </a:ln>
          </c:spPr>
          <c:marker>
            <c:symbol val="circle"/>
            <c:size val="12"/>
            <c:spPr>
              <a:solidFill>
                <a:srgbClr val="ffffff"/>
              </a:solidFill>
            </c:spPr>
          </c:marker>
          <c:dLbls>
            <c:txPr>
              <a:bodyPr wrap="square"/>
              <a:lstStyle/>
              <a:p>
                <a:pPr>
                  <a:defRPr b="0" sz="1000" spc="-1" strike="noStrike">
                    <a:solidFill>
                      <a:srgbClr val="009193"/>
                    </a:solidFill>
                    <a:latin typeface="Helvetica Light"/>
                    <a:ea typeface="Helvetica Light"/>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3</c:f>
              <c:numCache>
                <c:formatCode>General</c:formatCode>
                <c:ptCount val="9"/>
                <c:pt idx="0">
                  <c:v>20</c:v>
                </c:pt>
                <c:pt idx="1">
                  <c:v>34</c:v>
                </c:pt>
                <c:pt idx="2">
                  <c:v>12</c:v>
                </c:pt>
                <c:pt idx="3">
                  <c:v>50</c:v>
                </c:pt>
                <c:pt idx="4">
                  <c:v>70</c:v>
                </c:pt>
                <c:pt idx="5">
                  <c:v>35</c:v>
                </c:pt>
                <c:pt idx="6">
                  <c:v>68</c:v>
                </c:pt>
                <c:pt idx="7">
                  <c:v>22</c:v>
                </c:pt>
                <c:pt idx="8">
                  <c:v>35</c:v>
                </c:pt>
              </c:numCache>
            </c:numRef>
          </c:xVal>
          <c:yVal>
            <c:numRef>
              <c:f>2</c:f>
              <c:numCache>
                <c:formatCode>General</c:formatCode>
                <c:ptCount val="9"/>
                <c:pt idx="0">
                  <c:v>0</c:v>
                </c:pt>
                <c:pt idx="1">
                  <c:v>11</c:v>
                </c:pt>
                <c:pt idx="2">
                  <c:v>19</c:v>
                </c:pt>
                <c:pt idx="3">
                  <c:v>26</c:v>
                </c:pt>
                <c:pt idx="4">
                  <c:v>33</c:v>
                </c:pt>
                <c:pt idx="5">
                  <c:v>40</c:v>
                </c:pt>
                <c:pt idx="6">
                  <c:v>70</c:v>
                </c:pt>
                <c:pt idx="7">
                  <c:v>51</c:v>
                </c:pt>
                <c:pt idx="8">
                  <c:v>40</c:v>
                </c:pt>
              </c:numCache>
            </c:numRef>
          </c:yVal>
          <c:smooth val="0"/>
        </c:ser>
        <c:ser>
          <c:idx val="2"/>
          <c:order val="2"/>
          <c:tx>
            <c:strRef>
              <c:f>label 4</c:f>
              <c:strCache>
                <c:ptCount val="1"/>
                <c:pt idx="0">
                  <c:v>Region 1</c:v>
                </c:pt>
              </c:strCache>
            </c:strRef>
          </c:tx>
          <c:spPr>
            <a:solidFill>
              <a:srgbClr val="ffffff"/>
            </a:solidFill>
            <a:ln w="12600">
              <a:noFill/>
            </a:ln>
          </c:spPr>
          <c:marker>
            <c:symbol val="circle"/>
            <c:size val="12"/>
            <c:spPr>
              <a:solidFill>
                <a:srgbClr val="ffffff"/>
              </a:solidFill>
            </c:spPr>
          </c:marker>
          <c:dLbls>
            <c:txPr>
              <a:bodyPr wrap="square"/>
              <a:lstStyle/>
              <a:p>
                <a:pPr>
                  <a:defRPr b="0" sz="1000" spc="-1" strike="noStrike">
                    <a:solidFill>
                      <a:srgbClr val="009193"/>
                    </a:solidFill>
                    <a:latin typeface="Helvetica Light"/>
                    <a:ea typeface="Helvetica Light"/>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xVal>
            <c:numRef>
              <c:f>5</c:f>
              <c:numCache>
                <c:formatCode>General</c:formatCode>
                <c:ptCount val="9"/>
                <c:pt idx="0">
                  <c:v>12</c:v>
                </c:pt>
                <c:pt idx="1">
                  <c:v>21</c:v>
                </c:pt>
                <c:pt idx="2">
                  <c:v>30</c:v>
                </c:pt>
                <c:pt idx="3">
                  <c:v>28</c:v>
                </c:pt>
                <c:pt idx="4">
                  <c:v>38</c:v>
                </c:pt>
                <c:pt idx="5">
                  <c:v>57</c:v>
                </c:pt>
                <c:pt idx="6">
                  <c:v>66</c:v>
                </c:pt>
                <c:pt idx="7">
                  <c:v>75</c:v>
                </c:pt>
                <c:pt idx="8">
                  <c:v>99</c:v>
                </c:pt>
              </c:numCache>
            </c:numRef>
          </c:xVal>
          <c:yVal>
            <c:numRef>
              <c:f>4</c:f>
              <c:numCache>
                <c:formatCode>General</c:formatCode>
                <c:ptCount val="9"/>
                <c:pt idx="0">
                  <c:v>30</c:v>
                </c:pt>
                <c:pt idx="1">
                  <c:v>38</c:v>
                </c:pt>
                <c:pt idx="2">
                  <c:v>20</c:v>
                </c:pt>
                <c:pt idx="3">
                  <c:v>17</c:v>
                </c:pt>
                <c:pt idx="4">
                  <c:v>24</c:v>
                </c:pt>
                <c:pt idx="5">
                  <c:v>31</c:v>
                </c:pt>
                <c:pt idx="6">
                  <c:v>23</c:v>
                </c:pt>
                <c:pt idx="7">
                  <c:v>15</c:v>
                </c:pt>
                <c:pt idx="8">
                  <c:v>6</c:v>
                </c:pt>
              </c:numCache>
            </c:numRef>
          </c:yVal>
          <c:smooth val="0"/>
        </c:ser>
        <c:axId val="34927959"/>
        <c:axId val="1710178"/>
      </c:scatterChart>
      <c:valAx>
        <c:axId val="34927959"/>
        <c:scaling>
          <c:orientation val="minMax"/>
        </c:scaling>
        <c:delete val="0"/>
        <c:axPos val="b"/>
        <c:numFmt formatCode="General" sourceLinked="0"/>
        <c:majorTickMark val="none"/>
        <c:minorTickMark val="none"/>
        <c:tickLblPos val="nextTo"/>
        <c:spPr>
          <a:ln w="12600">
            <a:solidFill>
              <a:srgbClr val="5e5e5e"/>
            </a:solidFill>
            <a:round/>
          </a:ln>
        </c:spPr>
        <c:txPr>
          <a:bodyPr/>
          <a:lstStyle/>
          <a:p>
            <a:pPr>
              <a:defRPr b="0" sz="3200" spc="-1" strike="noStrike">
                <a:solidFill>
                  <a:srgbClr val="000000"/>
                </a:solidFill>
                <a:latin typeface="Helvetica Light"/>
                <a:ea typeface="Helvetica Light"/>
              </a:defRPr>
            </a:pPr>
          </a:p>
        </c:txPr>
        <c:crossAx val="1710178"/>
        <c:crosses val="autoZero"/>
        <c:crossBetween val="midCat"/>
        <c:majorUnit val="25"/>
        <c:minorUnit val="12.5"/>
      </c:valAx>
      <c:valAx>
        <c:axId val="1710178"/>
        <c:scaling>
          <c:orientation val="minMax"/>
        </c:scaling>
        <c:delete val="0"/>
        <c:axPos val="l"/>
        <c:majorGridlines>
          <c:spPr>
            <a:ln w="12600">
              <a:solidFill>
                <a:srgbClr val="929292"/>
              </a:solidFill>
              <a:custDash>
                <a:ds d="200000" sp="200000"/>
              </a:custDash>
              <a:round/>
            </a:ln>
          </c:spPr>
        </c:majorGridlines>
        <c:numFmt formatCode="General" sourceLinked="0"/>
        <c:majorTickMark val="none"/>
        <c:minorTickMark val="none"/>
        <c:tickLblPos val="nextTo"/>
        <c:spPr>
          <a:ln w="12600">
            <a:noFill/>
          </a:ln>
        </c:spPr>
        <c:txPr>
          <a:bodyPr/>
          <a:lstStyle/>
          <a:p>
            <a:pPr>
              <a:defRPr b="0" sz="3000" spc="-1" strike="noStrike">
                <a:solidFill>
                  <a:srgbClr val="5e5e5e"/>
                </a:solidFill>
                <a:latin typeface="Montserrat Light"/>
                <a:ea typeface="Helvetica Light"/>
              </a:defRPr>
            </a:pPr>
          </a:p>
        </c:txPr>
        <c:crossAx val="34927959"/>
        <c:crosses val="autoZero"/>
        <c:crossBetween val="midCat"/>
        <c:majorUnit val="17.5"/>
        <c:minorUnit val="8.75"/>
      </c:valAx>
      <c:spPr>
        <a:noFill/>
        <a:ln w="12600">
          <a:noFill/>
        </a:ln>
      </c:spPr>
    </c:plotArea>
    <c:legend>
      <c:legendPos val="t"/>
      <c:layout>
        <c:manualLayout>
          <c:xMode val="edge"/>
          <c:yMode val="edge"/>
          <c:x val="0.0211191"/>
          <c:y val="0"/>
          <c:w val="0.9788809"/>
          <c:h val="0.0784127"/>
        </c:manualLayout>
      </c:layout>
      <c:overlay val="1"/>
      <c:spPr>
        <a:noFill/>
        <a:ln w="12600">
          <a:noFill/>
        </a:ln>
      </c:spPr>
      <c:txPr>
        <a:bodyPr/>
        <a:lstStyle/>
        <a:p>
          <a:pPr>
            <a:defRPr b="0" sz="3000" spc="-1" strike="noStrike">
              <a:solidFill>
                <a:srgbClr val="5e5e5e"/>
              </a:solidFill>
              <a:latin typeface="Montserrat Light"/>
              <a:ea typeface="Helvetica Light"/>
            </a:defRPr>
          </a:pPr>
        </a:p>
      </c:txPr>
    </c:legend>
    <c:plotVisOnly val="1"/>
    <c:dispBlanksAs val="gap"/>
  </c:chart>
  <c:spPr>
    <a:noFill/>
    <a:ln w="0">
      <a:noFill/>
    </a:ln>
  </c:spPr>
</c:chartSpace>
</file>

<file path=ppt/charts/chart9.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ayout>
        <c:manualLayout>
          <c:layoutTarget val="inner"/>
          <c:xMode val="edge"/>
          <c:yMode val="edge"/>
          <c:x val="0.0869071397798927"/>
          <c:y val="0.0655937419851244"/>
          <c:w val="0.884228253632554"/>
          <c:h val="0.826622210823288"/>
        </c:manualLayout>
      </c:layout>
      <c:lineChart>
        <c:grouping val="standard"/>
        <c:varyColors val="0"/>
        <c:ser>
          <c:idx val="0"/>
          <c:order val="0"/>
          <c:tx>
            <c:strRef>
              <c:f>label 0</c:f>
              <c:strCache>
                <c:ptCount val="1"/>
                <c:pt idx="0">
                  <c:v>Region 1</c:v>
                </c:pt>
              </c:strCache>
            </c:strRef>
          </c:tx>
          <c:spPr>
            <a:solidFill>
              <a:srgbClr val="929292"/>
            </a:solidFill>
            <a:ln w="50760">
              <a:solidFill>
                <a:srgbClr val="929292"/>
              </a:solidFill>
              <a:round/>
            </a:ln>
          </c:spPr>
          <c:marker>
            <c:symbol val="none"/>
          </c:marker>
          <c:dLbls>
            <c:txPr>
              <a:bodyPr wrap="square"/>
              <a:lstStyle/>
              <a:p>
                <a:pPr>
                  <a:defRPr b="0" sz="1000" spc="-1" strike="noStrike">
                    <a:solidFill>
                      <a:srgbClr val="009193"/>
                    </a:solidFill>
                    <a:latin typeface="Helvetica Light"/>
                    <a:ea typeface="Helvetica Light"/>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pril</c:v>
                </c:pt>
                <c:pt idx="1">
                  <c:v>Mai</c:v>
                </c:pt>
                <c:pt idx="2">
                  <c:v>Juni</c:v>
                </c:pt>
                <c:pt idx="3">
                  <c:v>Juli</c:v>
                </c:pt>
              </c:strCache>
            </c:strRef>
          </c:cat>
          <c:val>
            <c:numRef>
              <c:f>0</c:f>
              <c:numCache>
                <c:formatCode>General</c:formatCode>
                <c:ptCount val="4"/>
                <c:pt idx="0">
                  <c:v>17</c:v>
                </c:pt>
                <c:pt idx="1">
                  <c:v>26</c:v>
                </c:pt>
                <c:pt idx="2">
                  <c:v>53</c:v>
                </c:pt>
                <c:pt idx="3">
                  <c:v>96</c:v>
                </c:pt>
              </c:numCache>
            </c:numRef>
          </c:val>
          <c:smooth val="0"/>
        </c:ser>
        <c:ser>
          <c:idx val="1"/>
          <c:order val="1"/>
          <c:tx>
            <c:strRef>
              <c:f>label 1</c:f>
              <c:strCache>
                <c:ptCount val="1"/>
                <c:pt idx="0">
                  <c:v>Region 2</c:v>
                </c:pt>
              </c:strCache>
            </c:strRef>
          </c:tx>
          <c:spPr>
            <a:solidFill>
              <a:srgbClr val="212121"/>
            </a:solidFill>
            <a:ln w="50760">
              <a:solidFill>
                <a:srgbClr val="212121"/>
              </a:solidFill>
              <a:round/>
            </a:ln>
          </c:spPr>
          <c:marker>
            <c:symbol val="none"/>
          </c:marker>
          <c:dLbls>
            <c:txPr>
              <a:bodyPr wrap="square"/>
              <a:lstStyle/>
              <a:p>
                <a:pPr>
                  <a:defRPr b="0" sz="1000" spc="-1" strike="noStrike">
                    <a:solidFill>
                      <a:srgbClr val="009193"/>
                    </a:solidFill>
                    <a:latin typeface="Helvetica Light"/>
                    <a:ea typeface="Helvetica Light"/>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April</c:v>
                </c:pt>
                <c:pt idx="1">
                  <c:v>Mai</c:v>
                </c:pt>
                <c:pt idx="2">
                  <c:v>Juni</c:v>
                </c:pt>
                <c:pt idx="3">
                  <c:v>Juli</c:v>
                </c:pt>
              </c:strCache>
            </c:strRef>
          </c:cat>
          <c:val>
            <c:numRef>
              <c:f>1</c:f>
              <c:numCache>
                <c:formatCode>General</c:formatCode>
                <c:ptCount val="4"/>
                <c:pt idx="0">
                  <c:v>55</c:v>
                </c:pt>
                <c:pt idx="1">
                  <c:v>43</c:v>
                </c:pt>
                <c:pt idx="2">
                  <c:v>70</c:v>
                </c:pt>
                <c:pt idx="3">
                  <c:v>58</c:v>
                </c:pt>
              </c:numCache>
            </c:numRef>
          </c:val>
          <c:smooth val="0"/>
        </c:ser>
        <c:hiLowLines>
          <c:spPr>
            <a:ln w="0">
              <a:noFill/>
            </a:ln>
          </c:spPr>
        </c:hiLowLines>
        <c:marker val="0"/>
        <c:axId val="28172216"/>
        <c:axId val="51466456"/>
      </c:lineChart>
      <c:catAx>
        <c:axId val="28172216"/>
        <c:scaling>
          <c:orientation val="minMax"/>
        </c:scaling>
        <c:delete val="0"/>
        <c:axPos val="b"/>
        <c:numFmt formatCode="General" sourceLinked="0"/>
        <c:majorTickMark val="none"/>
        <c:minorTickMark val="none"/>
        <c:tickLblPos val="low"/>
        <c:spPr>
          <a:ln w="12600">
            <a:solidFill>
              <a:srgbClr val="d6d6d6"/>
            </a:solidFill>
            <a:round/>
          </a:ln>
        </c:spPr>
        <c:txPr>
          <a:bodyPr/>
          <a:lstStyle/>
          <a:p>
            <a:pPr>
              <a:defRPr b="0" sz="2432" spc="-1" strike="noStrike">
                <a:solidFill>
                  <a:srgbClr val="929292"/>
                </a:solidFill>
                <a:latin typeface="Montserrat Light"/>
                <a:ea typeface="Helvetica Light"/>
              </a:defRPr>
            </a:pPr>
          </a:p>
        </c:txPr>
        <c:crossAx val="51466456"/>
        <c:crosses val="autoZero"/>
        <c:auto val="1"/>
        <c:lblAlgn val="ctr"/>
        <c:lblOffset val="100"/>
        <c:noMultiLvlLbl val="0"/>
      </c:catAx>
      <c:valAx>
        <c:axId val="51466456"/>
        <c:scaling>
          <c:orientation val="minMax"/>
        </c:scaling>
        <c:delete val="0"/>
        <c:axPos val="l"/>
        <c:majorGridlines>
          <c:spPr>
            <a:ln w="12600">
              <a:solidFill>
                <a:srgbClr val="929292"/>
              </a:solidFill>
              <a:custDash>
                <a:ds d="200000" sp="200000"/>
              </a:custDash>
              <a:round/>
            </a:ln>
          </c:spPr>
        </c:majorGridlines>
        <c:numFmt formatCode="General" sourceLinked="0"/>
        <c:majorTickMark val="none"/>
        <c:minorTickMark val="none"/>
        <c:tickLblPos val="nextTo"/>
        <c:spPr>
          <a:ln w="12600">
            <a:noFill/>
          </a:ln>
        </c:spPr>
        <c:txPr>
          <a:bodyPr/>
          <a:lstStyle/>
          <a:p>
            <a:pPr>
              <a:defRPr b="0" sz="2432" spc="-1" strike="noStrike">
                <a:solidFill>
                  <a:srgbClr val="929292"/>
                </a:solidFill>
                <a:latin typeface="Montserrat Light"/>
                <a:ea typeface="Helvetica Light"/>
              </a:defRPr>
            </a:pPr>
          </a:p>
        </c:txPr>
        <c:crossAx val="28172216"/>
        <c:crosses val="autoZero"/>
        <c:crossBetween val="midCat"/>
        <c:majorUnit val="25"/>
        <c:minorUnit val="12.5"/>
      </c:valAx>
      <c:spPr>
        <a:noFill/>
        <a:ln w="12600">
          <a:noFill/>
        </a:ln>
      </c:spPr>
    </c:plotArea>
    <c:plotVisOnly val="1"/>
    <c:dispBlanksAs val="gap"/>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00.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1.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2.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3.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4.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5.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6.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100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1.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2.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3.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4.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5.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6.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7.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8.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19.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0.xml.rels><?xml version="1.0" encoding="UTF-8"?>
<Relationships xmlns="http://schemas.openxmlformats.org/package/2006/relationships"><Relationship Id="rId1" Type="http://schemas.openxmlformats.org/officeDocument/2006/relationships/slideMaster" Target="../slideMasters/slideMaster85.xml"/>
</Relationships>
</file>

<file path=ppt/slideLayouts/_rels/slideLayout102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3.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4.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5.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6.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7.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8.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29.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0.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1.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2.xml.rels><?xml version="1.0" encoding="UTF-8"?>
<Relationships xmlns="http://schemas.openxmlformats.org/package/2006/relationships"><Relationship Id="rId1" Type="http://schemas.openxmlformats.org/officeDocument/2006/relationships/slideMaster" Target="../slideMasters/slideMaster86.xml"/>
</Relationships>
</file>

<file path=ppt/slideLayouts/_rels/slideLayout103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5.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6.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7.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8.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39.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0.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1.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2.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3.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4.xml.rels><?xml version="1.0" encoding="UTF-8"?>
<Relationships xmlns="http://schemas.openxmlformats.org/package/2006/relationships"><Relationship Id="rId1" Type="http://schemas.openxmlformats.org/officeDocument/2006/relationships/slideMaster" Target="../slideMasters/slideMaster87.xml"/>
</Relationships>
</file>

<file path=ppt/slideLayouts/_rels/slideLayout104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7.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8.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49.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0.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1.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2.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3.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4.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5.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6.xml.rels><?xml version="1.0" encoding="UTF-8"?>
<Relationships xmlns="http://schemas.openxmlformats.org/package/2006/relationships"><Relationship Id="rId1" Type="http://schemas.openxmlformats.org/officeDocument/2006/relationships/slideMaster" Target="../slideMasters/slideMaster88.xml"/>
</Relationships>
</file>

<file path=ppt/slideLayouts/_rels/slideLayout105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59.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0.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1.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2.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3.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4.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5.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6.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7.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8.xml.rels><?xml version="1.0" encoding="UTF-8"?>
<Relationships xmlns="http://schemas.openxmlformats.org/package/2006/relationships"><Relationship Id="rId1" Type="http://schemas.openxmlformats.org/officeDocument/2006/relationships/slideMaster" Target="../slideMasters/slideMaster89.xml"/>
</Relationships>
</file>

<file path=ppt/slideLayouts/_rels/slideLayout106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1.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2.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3.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4.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5.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6.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7.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8.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79.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0.xml.rels><?xml version="1.0" encoding="UTF-8"?>
<Relationships xmlns="http://schemas.openxmlformats.org/package/2006/relationships"><Relationship Id="rId1" Type="http://schemas.openxmlformats.org/officeDocument/2006/relationships/slideMaster" Target="../slideMasters/slideMaster90.xml"/>
</Relationships>
</file>

<file path=ppt/slideLayouts/_rels/slideLayout108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3.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4.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5.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6.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7.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8.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89.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090.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1.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2.xml.rels><?xml version="1.0" encoding="UTF-8"?>
<Relationships xmlns="http://schemas.openxmlformats.org/package/2006/relationships"><Relationship Id="rId1" Type="http://schemas.openxmlformats.org/officeDocument/2006/relationships/slideMaster" Target="../slideMasters/slideMaster91.xml"/>
</Relationships>
</file>

<file path=ppt/slideLayouts/_rels/slideLayout109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5.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6.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7.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8.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099.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00.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1.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2.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3.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4.xml.rels><?xml version="1.0" encoding="UTF-8"?>
<Relationships xmlns="http://schemas.openxmlformats.org/package/2006/relationships"><Relationship Id="rId1" Type="http://schemas.openxmlformats.org/officeDocument/2006/relationships/slideMaster" Target="../slideMasters/slideMaster92.xml"/>
</Relationships>
</file>

<file path=ppt/slideLayouts/_rels/slideLayout110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7.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8.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09.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0.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1.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2.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3.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4.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5.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6.xml.rels><?xml version="1.0" encoding="UTF-8"?>
<Relationships xmlns="http://schemas.openxmlformats.org/package/2006/relationships"><Relationship Id="rId1" Type="http://schemas.openxmlformats.org/officeDocument/2006/relationships/slideMaster" Target="../slideMasters/slideMaster93.xml"/>
</Relationships>
</file>

<file path=ppt/slideLayouts/_rels/slideLayout111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19.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0.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1.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2.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3.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4.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5.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6.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7.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8.xml.rels><?xml version="1.0" encoding="UTF-8"?>
<Relationships xmlns="http://schemas.openxmlformats.org/package/2006/relationships"><Relationship Id="rId1" Type="http://schemas.openxmlformats.org/officeDocument/2006/relationships/slideMaster" Target="../slideMasters/slideMaster94.xml"/>
</Relationships>
</file>

<file path=ppt/slideLayouts/_rels/slideLayout112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1.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2.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3.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4.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5.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6.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7.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8.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39.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0.xml.rels><?xml version="1.0" encoding="UTF-8"?>
<Relationships xmlns="http://schemas.openxmlformats.org/package/2006/relationships"><Relationship Id="rId1" Type="http://schemas.openxmlformats.org/officeDocument/2006/relationships/slideMaster" Target="../slideMasters/slideMaster95.xml"/>
</Relationships>
</file>

<file path=ppt/slideLayouts/_rels/slideLayout114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3.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4.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5.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6.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7.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8.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49.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0.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1.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2.xml.rels><?xml version="1.0" encoding="UTF-8"?>
<Relationships xmlns="http://schemas.openxmlformats.org/package/2006/relationships"><Relationship Id="rId1" Type="http://schemas.openxmlformats.org/officeDocument/2006/relationships/slideMaster" Target="../slideMasters/slideMaster96.xml"/>
</Relationships>
</file>

<file path=ppt/slideLayouts/_rels/slideLayout115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5.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6.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7.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8.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59.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0.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1.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2.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3.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64.xml.rels><?xml version="1.0" encoding="UTF-8"?>
<Relationships xmlns="http://schemas.openxmlformats.org/package/2006/relationships"><Relationship Id="rId1" Type="http://schemas.openxmlformats.org/officeDocument/2006/relationships/slideMaster" Target="../slideMasters/slideMaster97.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1.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2.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3.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4.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5.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6.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7.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8.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59.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0.xml.rels><?xml version="1.0" encoding="UTF-8"?>
<Relationships xmlns="http://schemas.openxmlformats.org/package/2006/relationships"><Relationship Id="rId1" Type="http://schemas.openxmlformats.org/officeDocument/2006/relationships/slideMaster" Target="../slideMasters/slideMaster30.xml"/>
</Relationships>
</file>

<file path=ppt/slideLayouts/_rels/slideLayout36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3.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4.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5.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6.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7.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8.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69.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70.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1.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2.xml.rels><?xml version="1.0" encoding="UTF-8"?>
<Relationships xmlns="http://schemas.openxmlformats.org/package/2006/relationships"><Relationship Id="rId1" Type="http://schemas.openxmlformats.org/officeDocument/2006/relationships/slideMaster" Target="../slideMasters/slideMaster31.xml"/>
</Relationships>
</file>

<file path=ppt/slideLayouts/_rels/slideLayout37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5.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6.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7.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8.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79.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0.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1.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2.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3.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4.xml.rels><?xml version="1.0" encoding="UTF-8"?>
<Relationships xmlns="http://schemas.openxmlformats.org/package/2006/relationships"><Relationship Id="rId1" Type="http://schemas.openxmlformats.org/officeDocument/2006/relationships/slideMaster" Target="../slideMasters/slideMaster32.xml"/>
</Relationships>
</file>

<file path=ppt/slideLayouts/_rels/slideLayout38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7.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8.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89.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0.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1.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2.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3.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4.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5.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6.xml.rels><?xml version="1.0" encoding="UTF-8"?>
<Relationships xmlns="http://schemas.openxmlformats.org/package/2006/relationships"><Relationship Id="rId1" Type="http://schemas.openxmlformats.org/officeDocument/2006/relationships/slideMaster" Target="../slideMasters/slideMaster33.xml"/>
</Relationships>
</file>

<file path=ppt/slideLayouts/_rels/slideLayout39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399.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00.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1.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2.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3.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4.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5.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6.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7.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8.xml.rels><?xml version="1.0" encoding="UTF-8"?>
<Relationships xmlns="http://schemas.openxmlformats.org/package/2006/relationships"><Relationship Id="rId1" Type="http://schemas.openxmlformats.org/officeDocument/2006/relationships/slideMaster" Target="../slideMasters/slideMaster34.xml"/>
</Relationships>
</file>

<file path=ppt/slideLayouts/_rels/slideLayout40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1.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2.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3.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4.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5.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6.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7.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8.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19.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0.xml.rels><?xml version="1.0" encoding="UTF-8"?>
<Relationships xmlns="http://schemas.openxmlformats.org/package/2006/relationships"><Relationship Id="rId1" Type="http://schemas.openxmlformats.org/officeDocument/2006/relationships/slideMaster" Target="../slideMasters/slideMaster35.xml"/>
</Relationships>
</file>

<file path=ppt/slideLayouts/_rels/slideLayout42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3.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4.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5.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6.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7.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8.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29.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0.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1.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2.xml.rels><?xml version="1.0" encoding="UTF-8"?>
<Relationships xmlns="http://schemas.openxmlformats.org/package/2006/relationships"><Relationship Id="rId1" Type="http://schemas.openxmlformats.org/officeDocument/2006/relationships/slideMaster" Target="../slideMasters/slideMaster36.xml"/>
</Relationships>
</file>

<file path=ppt/slideLayouts/_rels/slideLayout43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5.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6.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7.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8.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39.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0.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1.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2.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3.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4.xml.rels><?xml version="1.0" encoding="UTF-8"?>
<Relationships xmlns="http://schemas.openxmlformats.org/package/2006/relationships"><Relationship Id="rId1" Type="http://schemas.openxmlformats.org/officeDocument/2006/relationships/slideMaster" Target="../slideMasters/slideMaster37.xml"/>
</Relationships>
</file>

<file path=ppt/slideLayouts/_rels/slideLayout44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7.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8.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49.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0.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1.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2.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3.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4.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5.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6.xml.rels><?xml version="1.0" encoding="UTF-8"?>
<Relationships xmlns="http://schemas.openxmlformats.org/package/2006/relationships"><Relationship Id="rId1" Type="http://schemas.openxmlformats.org/officeDocument/2006/relationships/slideMaster" Target="../slideMasters/slideMaster38.xml"/>
</Relationships>
</file>

<file path=ppt/slideLayouts/_rels/slideLayout45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59.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0.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1.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2.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3.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4.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5.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6.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7.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8.xml.rels><?xml version="1.0" encoding="UTF-8"?>
<Relationships xmlns="http://schemas.openxmlformats.org/package/2006/relationships"><Relationship Id="rId1" Type="http://schemas.openxmlformats.org/officeDocument/2006/relationships/slideMaster" Target="../slideMasters/slideMaster39.xml"/>
</Relationships>
</file>

<file path=ppt/slideLayouts/_rels/slideLayout46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1.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2.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3.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4.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5.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6.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7.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8.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79.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0.xml.rels><?xml version="1.0" encoding="UTF-8"?>
<Relationships xmlns="http://schemas.openxmlformats.org/package/2006/relationships"><Relationship Id="rId1" Type="http://schemas.openxmlformats.org/officeDocument/2006/relationships/slideMaster" Target="../slideMasters/slideMaster40.xml"/>
</Relationships>
</file>

<file path=ppt/slideLayouts/_rels/slideLayout48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3.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4.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5.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6.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7.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8.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89.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490.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1.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2.xml.rels><?xml version="1.0" encoding="UTF-8"?>
<Relationships xmlns="http://schemas.openxmlformats.org/package/2006/relationships"><Relationship Id="rId1" Type="http://schemas.openxmlformats.org/officeDocument/2006/relationships/slideMaster" Target="../slideMasters/slideMaster41.xml"/>
</Relationships>
</file>

<file path=ppt/slideLayouts/_rels/slideLayout49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5.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6.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7.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8.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499.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00.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1.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2.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3.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4.xml.rels><?xml version="1.0" encoding="UTF-8"?>
<Relationships xmlns="http://schemas.openxmlformats.org/package/2006/relationships"><Relationship Id="rId1" Type="http://schemas.openxmlformats.org/officeDocument/2006/relationships/slideMaster" Target="../slideMasters/slideMaster42.xml"/>
</Relationships>
</file>

<file path=ppt/slideLayouts/_rels/slideLayout50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7.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8.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09.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0.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1.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2.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3.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4.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5.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6.xml.rels><?xml version="1.0" encoding="UTF-8"?>
<Relationships xmlns="http://schemas.openxmlformats.org/package/2006/relationships"><Relationship Id="rId1" Type="http://schemas.openxmlformats.org/officeDocument/2006/relationships/slideMaster" Target="../slideMasters/slideMaster43.xml"/>
</Relationships>
</file>

<file path=ppt/slideLayouts/_rels/slideLayout51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19.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0.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1.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2.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3.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4.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5.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6.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7.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8.xml.rels><?xml version="1.0" encoding="UTF-8"?>
<Relationships xmlns="http://schemas.openxmlformats.org/package/2006/relationships"><Relationship Id="rId1" Type="http://schemas.openxmlformats.org/officeDocument/2006/relationships/slideMaster" Target="../slideMasters/slideMaster44.xml"/>
</Relationships>
</file>

<file path=ppt/slideLayouts/_rels/slideLayout52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1.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2.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3.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4.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5.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6.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7.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8.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39.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0.xml.rels><?xml version="1.0" encoding="UTF-8"?>
<Relationships xmlns="http://schemas.openxmlformats.org/package/2006/relationships"><Relationship Id="rId1" Type="http://schemas.openxmlformats.org/officeDocument/2006/relationships/slideMaster" Target="../slideMasters/slideMaster45.xml"/>
</Relationships>
</file>

<file path=ppt/slideLayouts/_rels/slideLayout54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3.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4.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5.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6.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7.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8.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49.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0.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1.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2.xml.rels><?xml version="1.0" encoding="UTF-8"?>
<Relationships xmlns="http://schemas.openxmlformats.org/package/2006/relationships"><Relationship Id="rId1" Type="http://schemas.openxmlformats.org/officeDocument/2006/relationships/slideMaster" Target="../slideMasters/slideMaster46.xml"/>
</Relationships>
</file>

<file path=ppt/slideLayouts/_rels/slideLayout55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5.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6.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7.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8.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59.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0.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1.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2.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3.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4.xml.rels><?xml version="1.0" encoding="UTF-8"?>
<Relationships xmlns="http://schemas.openxmlformats.org/package/2006/relationships"><Relationship Id="rId1" Type="http://schemas.openxmlformats.org/officeDocument/2006/relationships/slideMaster" Target="../slideMasters/slideMaster47.xml"/>
</Relationships>
</file>

<file path=ppt/slideLayouts/_rels/slideLayout56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7.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8.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69.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0.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1.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2.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3.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4.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5.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6.xml.rels><?xml version="1.0" encoding="UTF-8"?>
<Relationships xmlns="http://schemas.openxmlformats.org/package/2006/relationships"><Relationship Id="rId1" Type="http://schemas.openxmlformats.org/officeDocument/2006/relationships/slideMaster" Target="../slideMasters/slideMaster48.xml"/>
</Relationships>
</file>

<file path=ppt/slideLayouts/_rels/slideLayout57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79.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0.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1.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2.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3.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4.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5.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6.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7.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8.xml.rels><?xml version="1.0" encoding="UTF-8"?>
<Relationships xmlns="http://schemas.openxmlformats.org/package/2006/relationships"><Relationship Id="rId1" Type="http://schemas.openxmlformats.org/officeDocument/2006/relationships/slideMaster" Target="../slideMasters/slideMaster49.xml"/>
</Relationships>
</file>

<file path=ppt/slideLayouts/_rels/slideLayout58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1.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2.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3.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4.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5.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6.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7.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8.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599.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00.xml.rels><?xml version="1.0" encoding="UTF-8"?>
<Relationships xmlns="http://schemas.openxmlformats.org/package/2006/relationships"><Relationship Id="rId1" Type="http://schemas.openxmlformats.org/officeDocument/2006/relationships/slideMaster" Target="../slideMasters/slideMaster50.xml"/>
</Relationships>
</file>

<file path=ppt/slideLayouts/_rels/slideLayout60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3.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4.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5.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6.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7.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8.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09.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10.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1.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2.xml.rels><?xml version="1.0" encoding="UTF-8"?>
<Relationships xmlns="http://schemas.openxmlformats.org/package/2006/relationships"><Relationship Id="rId1" Type="http://schemas.openxmlformats.org/officeDocument/2006/relationships/slideMaster" Target="../slideMasters/slideMaster51.xml"/>
</Relationships>
</file>

<file path=ppt/slideLayouts/_rels/slideLayout61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5.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6.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7.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8.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19.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0.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1.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2.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3.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4.xml.rels><?xml version="1.0" encoding="UTF-8"?>
<Relationships xmlns="http://schemas.openxmlformats.org/package/2006/relationships"><Relationship Id="rId1" Type="http://schemas.openxmlformats.org/officeDocument/2006/relationships/slideMaster" Target="../slideMasters/slideMaster52.xml"/>
</Relationships>
</file>

<file path=ppt/slideLayouts/_rels/slideLayout62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7.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8.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29.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0.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1.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2.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3.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4.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5.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6.xml.rels><?xml version="1.0" encoding="UTF-8"?>
<Relationships xmlns="http://schemas.openxmlformats.org/package/2006/relationships"><Relationship Id="rId1" Type="http://schemas.openxmlformats.org/officeDocument/2006/relationships/slideMaster" Target="../slideMasters/slideMaster53.xml"/>
</Relationships>
</file>

<file path=ppt/slideLayouts/_rels/slideLayout63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39.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0.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1.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2.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3.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4.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5.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6.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7.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8.xml.rels><?xml version="1.0" encoding="UTF-8"?>
<Relationships xmlns="http://schemas.openxmlformats.org/package/2006/relationships"><Relationship Id="rId1" Type="http://schemas.openxmlformats.org/officeDocument/2006/relationships/slideMaster" Target="../slideMasters/slideMaster54.xml"/>
</Relationships>
</file>

<file path=ppt/slideLayouts/_rels/slideLayout64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1.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2.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3.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4.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5.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6.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7.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8.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59.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0.xml.rels><?xml version="1.0" encoding="UTF-8"?>
<Relationships xmlns="http://schemas.openxmlformats.org/package/2006/relationships"><Relationship Id="rId1" Type="http://schemas.openxmlformats.org/officeDocument/2006/relationships/slideMaster" Target="../slideMasters/slideMaster55.xml"/>
</Relationships>
</file>

<file path=ppt/slideLayouts/_rels/slideLayout66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3.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4.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5.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6.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7.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8.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69.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0.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1.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2.xml.rels><?xml version="1.0" encoding="UTF-8"?>
<Relationships xmlns="http://schemas.openxmlformats.org/package/2006/relationships"><Relationship Id="rId1" Type="http://schemas.openxmlformats.org/officeDocument/2006/relationships/slideMaster" Target="../slideMasters/slideMaster56.xml"/>
</Relationships>
</file>

<file path=ppt/slideLayouts/_rels/slideLayout67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5.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6.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7.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8.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79.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0.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1.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2.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3.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4.xml.rels><?xml version="1.0" encoding="UTF-8"?>
<Relationships xmlns="http://schemas.openxmlformats.org/package/2006/relationships"><Relationship Id="rId1" Type="http://schemas.openxmlformats.org/officeDocument/2006/relationships/slideMaster" Target="../slideMasters/slideMaster57.xml"/>
</Relationships>
</file>

<file path=ppt/slideLayouts/_rels/slideLayout68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7.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8.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89.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0.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1.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2.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3.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4.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5.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6.xml.rels><?xml version="1.0" encoding="UTF-8"?>
<Relationships xmlns="http://schemas.openxmlformats.org/package/2006/relationships"><Relationship Id="rId1" Type="http://schemas.openxmlformats.org/officeDocument/2006/relationships/slideMaster" Target="../slideMasters/slideMaster58.xml"/>
</Relationships>
</file>

<file path=ppt/slideLayouts/_rels/slideLayout69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699.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00.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1.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2.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3.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4.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5.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6.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7.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8.xml.rels><?xml version="1.0" encoding="UTF-8"?>
<Relationships xmlns="http://schemas.openxmlformats.org/package/2006/relationships"><Relationship Id="rId1" Type="http://schemas.openxmlformats.org/officeDocument/2006/relationships/slideMaster" Target="../slideMasters/slideMaster59.xml"/>
</Relationships>
</file>

<file path=ppt/slideLayouts/_rels/slideLayout70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1.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2.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3.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4.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5.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6.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7.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8.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19.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0.xml.rels><?xml version="1.0" encoding="UTF-8"?>
<Relationships xmlns="http://schemas.openxmlformats.org/package/2006/relationships"><Relationship Id="rId1" Type="http://schemas.openxmlformats.org/officeDocument/2006/relationships/slideMaster" Target="../slideMasters/slideMaster60.xml"/>
</Relationships>
</file>

<file path=ppt/slideLayouts/_rels/slideLayout72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3.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4.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5.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6.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7.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8.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29.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30.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1.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2.xml.rels><?xml version="1.0" encoding="UTF-8"?>
<Relationships xmlns="http://schemas.openxmlformats.org/package/2006/relationships"><Relationship Id="rId1" Type="http://schemas.openxmlformats.org/officeDocument/2006/relationships/slideMaster" Target="../slideMasters/slideMaster61.xml"/>
</Relationships>
</file>

<file path=ppt/slideLayouts/_rels/slideLayout73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5.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6.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7.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8.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39.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0.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1.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2.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3.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4.xml.rels><?xml version="1.0" encoding="UTF-8"?>
<Relationships xmlns="http://schemas.openxmlformats.org/package/2006/relationships"><Relationship Id="rId1" Type="http://schemas.openxmlformats.org/officeDocument/2006/relationships/slideMaster" Target="../slideMasters/slideMaster62.xml"/>
</Relationships>
</file>

<file path=ppt/slideLayouts/_rels/slideLayout74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7.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8.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49.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0.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1.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2.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3.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4.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5.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6.xml.rels><?xml version="1.0" encoding="UTF-8"?>
<Relationships xmlns="http://schemas.openxmlformats.org/package/2006/relationships"><Relationship Id="rId1" Type="http://schemas.openxmlformats.org/officeDocument/2006/relationships/slideMaster" Target="../slideMasters/slideMaster63.xml"/>
</Relationships>
</file>

<file path=ppt/slideLayouts/_rels/slideLayout75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59.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0.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1.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2.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3.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4.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5.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6.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7.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8.xml.rels><?xml version="1.0" encoding="UTF-8"?>
<Relationships xmlns="http://schemas.openxmlformats.org/package/2006/relationships"><Relationship Id="rId1" Type="http://schemas.openxmlformats.org/officeDocument/2006/relationships/slideMaster" Target="../slideMasters/slideMaster64.xml"/>
</Relationships>
</file>

<file path=ppt/slideLayouts/_rels/slideLayout76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1.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2.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3.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4.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5.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6.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7.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8.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79.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0.xml.rels><?xml version="1.0" encoding="UTF-8"?>
<Relationships xmlns="http://schemas.openxmlformats.org/package/2006/relationships"><Relationship Id="rId1" Type="http://schemas.openxmlformats.org/officeDocument/2006/relationships/slideMaster" Target="../slideMasters/slideMaster65.xml"/>
</Relationships>
</file>

<file path=ppt/slideLayouts/_rels/slideLayout78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3.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4.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5.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6.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7.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8.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89.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0.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1.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2.xml.rels><?xml version="1.0" encoding="UTF-8"?>
<Relationships xmlns="http://schemas.openxmlformats.org/package/2006/relationships"><Relationship Id="rId1" Type="http://schemas.openxmlformats.org/officeDocument/2006/relationships/slideMaster" Target="../slideMasters/slideMaster66.xml"/>
</Relationships>
</file>

<file path=ppt/slideLayouts/_rels/slideLayout79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5.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6.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7.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8.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799.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00.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1.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2.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3.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4.xml.rels><?xml version="1.0" encoding="UTF-8"?>
<Relationships xmlns="http://schemas.openxmlformats.org/package/2006/relationships"><Relationship Id="rId1" Type="http://schemas.openxmlformats.org/officeDocument/2006/relationships/slideMaster" Target="../slideMasters/slideMaster67.xml"/>
</Relationships>
</file>

<file path=ppt/slideLayouts/_rels/slideLayout80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7.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8.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09.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0.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1.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2.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3.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4.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5.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6.xml.rels><?xml version="1.0" encoding="UTF-8"?>
<Relationships xmlns="http://schemas.openxmlformats.org/package/2006/relationships"><Relationship Id="rId1" Type="http://schemas.openxmlformats.org/officeDocument/2006/relationships/slideMaster" Target="../slideMasters/slideMaster68.xml"/>
</Relationships>
</file>

<file path=ppt/slideLayouts/_rels/slideLayout81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19.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0.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1.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2.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3.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4.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5.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6.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7.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8.xml.rels><?xml version="1.0" encoding="UTF-8"?>
<Relationships xmlns="http://schemas.openxmlformats.org/package/2006/relationships"><Relationship Id="rId1" Type="http://schemas.openxmlformats.org/officeDocument/2006/relationships/slideMaster" Target="../slideMasters/slideMaster69.xml"/>
</Relationships>
</file>

<file path=ppt/slideLayouts/_rels/slideLayout82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1.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2.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3.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4.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5.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6.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7.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8.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39.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0.xml.rels><?xml version="1.0" encoding="UTF-8"?>
<Relationships xmlns="http://schemas.openxmlformats.org/package/2006/relationships"><Relationship Id="rId1" Type="http://schemas.openxmlformats.org/officeDocument/2006/relationships/slideMaster" Target="../slideMasters/slideMaster70.xml"/>
</Relationships>
</file>

<file path=ppt/slideLayouts/_rels/slideLayout84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3.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4.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5.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6.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7.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8.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49.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50.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1.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2.xml.rels><?xml version="1.0" encoding="UTF-8"?>
<Relationships xmlns="http://schemas.openxmlformats.org/package/2006/relationships"><Relationship Id="rId1" Type="http://schemas.openxmlformats.org/officeDocument/2006/relationships/slideMaster" Target="../slideMasters/slideMaster71.xml"/>
</Relationships>
</file>

<file path=ppt/slideLayouts/_rels/slideLayout85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5.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6.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7.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8.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59.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0.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1.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2.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3.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4.xml.rels><?xml version="1.0" encoding="UTF-8"?>
<Relationships xmlns="http://schemas.openxmlformats.org/package/2006/relationships"><Relationship Id="rId1" Type="http://schemas.openxmlformats.org/officeDocument/2006/relationships/slideMaster" Target="../slideMasters/slideMaster72.xml"/>
</Relationships>
</file>

<file path=ppt/slideLayouts/_rels/slideLayout86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7.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8.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69.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0.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1.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2.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3.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4.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5.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6.xml.rels><?xml version="1.0" encoding="UTF-8"?>
<Relationships xmlns="http://schemas.openxmlformats.org/package/2006/relationships"><Relationship Id="rId1" Type="http://schemas.openxmlformats.org/officeDocument/2006/relationships/slideMaster" Target="../slideMasters/slideMaster73.xml"/>
</Relationships>
</file>

<file path=ppt/slideLayouts/_rels/slideLayout87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79.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0.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1.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2.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3.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4.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5.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6.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7.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8.xml.rels><?xml version="1.0" encoding="UTF-8"?>
<Relationships xmlns="http://schemas.openxmlformats.org/package/2006/relationships"><Relationship Id="rId1" Type="http://schemas.openxmlformats.org/officeDocument/2006/relationships/slideMaster" Target="../slideMasters/slideMaster74.xml"/>
</Relationships>
</file>

<file path=ppt/slideLayouts/_rels/slideLayout88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1.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2.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3.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4.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5.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6.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7.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8.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899.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00.xml.rels><?xml version="1.0" encoding="UTF-8"?>
<Relationships xmlns="http://schemas.openxmlformats.org/package/2006/relationships"><Relationship Id="rId1" Type="http://schemas.openxmlformats.org/officeDocument/2006/relationships/slideMaster" Target="../slideMasters/slideMaster75.xml"/>
</Relationships>
</file>

<file path=ppt/slideLayouts/_rels/slideLayout90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3.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4.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5.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6.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7.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8.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09.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0.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1.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2.xml.rels><?xml version="1.0" encoding="UTF-8"?>
<Relationships xmlns="http://schemas.openxmlformats.org/package/2006/relationships"><Relationship Id="rId1" Type="http://schemas.openxmlformats.org/officeDocument/2006/relationships/slideMaster" Target="../slideMasters/slideMaster76.xml"/>
</Relationships>
</file>

<file path=ppt/slideLayouts/_rels/slideLayout91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5.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6.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7.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8.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19.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0.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1.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2.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3.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4.xml.rels><?xml version="1.0" encoding="UTF-8"?>
<Relationships xmlns="http://schemas.openxmlformats.org/package/2006/relationships"><Relationship Id="rId1" Type="http://schemas.openxmlformats.org/officeDocument/2006/relationships/slideMaster" Target="../slideMasters/slideMaster77.xml"/>
</Relationships>
</file>

<file path=ppt/slideLayouts/_rels/slideLayout92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7.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8.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29.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0.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1.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2.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3.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4.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5.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6.xml.rels><?xml version="1.0" encoding="UTF-8"?>
<Relationships xmlns="http://schemas.openxmlformats.org/package/2006/relationships"><Relationship Id="rId1" Type="http://schemas.openxmlformats.org/officeDocument/2006/relationships/slideMaster" Target="../slideMasters/slideMaster78.xml"/>
</Relationships>
</file>

<file path=ppt/slideLayouts/_rels/slideLayout93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39.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0.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1.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2.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3.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4.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5.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6.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7.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8.xml.rels><?xml version="1.0" encoding="UTF-8"?>
<Relationships xmlns="http://schemas.openxmlformats.org/package/2006/relationships"><Relationship Id="rId1" Type="http://schemas.openxmlformats.org/officeDocument/2006/relationships/slideMaster" Target="../slideMasters/slideMaster79.xml"/>
</Relationships>
</file>

<file path=ppt/slideLayouts/_rels/slideLayout94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1.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2.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3.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4.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5.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6.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7.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8.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59.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0.xml.rels><?xml version="1.0" encoding="UTF-8"?>
<Relationships xmlns="http://schemas.openxmlformats.org/package/2006/relationships"><Relationship Id="rId1" Type="http://schemas.openxmlformats.org/officeDocument/2006/relationships/slideMaster" Target="../slideMasters/slideMaster80.xml"/>
</Relationships>
</file>

<file path=ppt/slideLayouts/_rels/slideLayout96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3.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4.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5.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6.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7.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8.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69.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70.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1.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2.xml.rels><?xml version="1.0" encoding="UTF-8"?>
<Relationships xmlns="http://schemas.openxmlformats.org/package/2006/relationships"><Relationship Id="rId1" Type="http://schemas.openxmlformats.org/officeDocument/2006/relationships/slideMaster" Target="../slideMasters/slideMaster81.xml"/>
</Relationships>
</file>

<file path=ppt/slideLayouts/_rels/slideLayout97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5.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6.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7.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8.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79.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0.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1.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2.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3.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4.xml.rels><?xml version="1.0" encoding="UTF-8"?>
<Relationships xmlns="http://schemas.openxmlformats.org/package/2006/relationships"><Relationship Id="rId1" Type="http://schemas.openxmlformats.org/officeDocument/2006/relationships/slideMaster" Target="../slideMasters/slideMaster82.xml"/>
</Relationships>
</file>

<file path=ppt/slideLayouts/_rels/slideLayout98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7.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8.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89.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0.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1.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2.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3.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4.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5.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6.xml.rels><?xml version="1.0" encoding="UTF-8"?>
<Relationships xmlns="http://schemas.openxmlformats.org/package/2006/relationships"><Relationship Id="rId1" Type="http://schemas.openxmlformats.org/officeDocument/2006/relationships/slideMaster" Target="../slideMasters/slideMaster83.xml"/>
</Relationships>
</file>

<file path=ppt/slideLayouts/_rels/slideLayout997.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8.xml.rels><?xml version="1.0" encoding="UTF-8"?>
<Relationships xmlns="http://schemas.openxmlformats.org/package/2006/relationships"><Relationship Id="rId1" Type="http://schemas.openxmlformats.org/officeDocument/2006/relationships/slideMaster" Target="../slideMasters/slideMaster84.xml"/>
</Relationships>
</file>

<file path=ppt/slideLayouts/_rels/slideLayout999.xml.rels><?xml version="1.0" encoding="UTF-8"?>
<Relationships xmlns="http://schemas.openxmlformats.org/package/2006/relationships"><Relationship Id="rId1" Type="http://schemas.openxmlformats.org/officeDocument/2006/relationships/slideMaster" Target="../slideMasters/slideMaster84.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CA9770A-3A8A-421B-985F-24507347283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
          </p:nvPr>
        </p:nvSpPr>
        <p:spPr/>
        <p:txBody>
          <a:bodyPr/>
          <a:p>
            <a:fld id="{60809DFC-1CA2-442C-A325-152D32D81B2A}"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
          </p:nvPr>
        </p:nvSpPr>
        <p:spPr/>
        <p:txBody>
          <a:bodyPr/>
          <a:p>
            <a:fld id="{DB28C812-04A1-45E9-95E6-F8681109A432}" type="slidenum">
              <a:t>&lt;#&gt;</a:t>
            </a:fld>
          </a:p>
        </p:txBody>
      </p:sp>
    </p:spTree>
  </p:cSld>
</p:sldLayout>
</file>

<file path=ppt/slideLayouts/slideLayout10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9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9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4"/>
          </p:nvPr>
        </p:nvSpPr>
        <p:spPr/>
        <p:txBody>
          <a:bodyPr/>
          <a:p>
            <a:fld id="{40B8D180-B18F-42E4-B555-0C3327CFF9FC}" type="slidenum">
              <a:t>&lt;#&gt;</a:t>
            </a:fld>
          </a:p>
        </p:txBody>
      </p:sp>
    </p:spTree>
  </p:cSld>
</p:sldLayout>
</file>

<file path=ppt/slideLayouts/slideLayout10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4"/>
          </p:nvPr>
        </p:nvSpPr>
        <p:spPr/>
        <p:txBody>
          <a:bodyPr/>
          <a:p>
            <a:fld id="{DF182637-946A-428F-9F02-B83BA92CCB6D}" type="slidenum">
              <a:t>&lt;#&gt;</a:t>
            </a:fld>
          </a:p>
        </p:txBody>
      </p:sp>
    </p:spTree>
  </p:cSld>
</p:sldLayout>
</file>

<file path=ppt/slideLayouts/slideLayout10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4"/>
          </p:nvPr>
        </p:nvSpPr>
        <p:spPr/>
        <p:txBody>
          <a:bodyPr/>
          <a:p>
            <a:fld id="{E77723BA-756A-4807-8693-B6191C484B75}" type="slidenum">
              <a:t>&lt;#&gt;</a:t>
            </a:fld>
          </a:p>
        </p:txBody>
      </p:sp>
    </p:spTree>
  </p:cSld>
</p:sldLayout>
</file>

<file path=ppt/slideLayouts/slideLayout10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0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0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0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4"/>
          </p:nvPr>
        </p:nvSpPr>
        <p:spPr/>
        <p:txBody>
          <a:bodyPr/>
          <a:p>
            <a:fld id="{E32591F7-56F3-4A1C-8160-0F0C34ADE9D4}" type="slidenum">
              <a:t>&lt;#&gt;</a:t>
            </a:fld>
          </a:p>
        </p:txBody>
      </p:sp>
    </p:spTree>
  </p:cSld>
</p:sldLayout>
</file>

<file path=ppt/slideLayouts/slideLayout10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0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0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0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4"/>
          </p:nvPr>
        </p:nvSpPr>
        <p:spPr/>
        <p:txBody>
          <a:bodyPr/>
          <a:p>
            <a:fld id="{37F3547D-FED8-4320-AA4B-F66DFCF0AF5C}" type="slidenum">
              <a:t>&lt;#&gt;</a:t>
            </a:fld>
          </a:p>
        </p:txBody>
      </p:sp>
    </p:spTree>
  </p:cSld>
</p:sldLayout>
</file>

<file path=ppt/slideLayouts/slideLayout10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1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1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1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1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4"/>
          </p:nvPr>
        </p:nvSpPr>
        <p:spPr/>
        <p:txBody>
          <a:bodyPr/>
          <a:p>
            <a:fld id="{2EAEEAF8-438E-443B-B3A7-567E43CDEFC9}" type="slidenum">
              <a:t>&lt;#&gt;</a:t>
            </a:fld>
          </a:p>
        </p:txBody>
      </p:sp>
    </p:spTree>
  </p:cSld>
</p:sldLayout>
</file>

<file path=ppt/slideLayouts/slideLayout10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1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1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1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4"/>
          </p:nvPr>
        </p:nvSpPr>
        <p:spPr/>
        <p:txBody>
          <a:bodyPr/>
          <a:p>
            <a:fld id="{83D282C4-4B91-4F30-B548-9FBC0EB81520}" type="slidenum">
              <a:t>&lt;#&gt;</a:t>
            </a:fld>
          </a:p>
        </p:txBody>
      </p:sp>
    </p:spTree>
  </p:cSld>
</p:sldLayout>
</file>

<file path=ppt/slideLayouts/slideLayout10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1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1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2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2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4"/>
          </p:nvPr>
        </p:nvSpPr>
        <p:spPr/>
        <p:txBody>
          <a:bodyPr/>
          <a:p>
            <a:fld id="{F382899A-E701-432D-AB0D-A31437C6EC35}" type="slidenum">
              <a:t>&lt;#&gt;</a:t>
            </a:fld>
          </a:p>
        </p:txBody>
      </p:sp>
    </p:spTree>
  </p:cSld>
</p:sldLayout>
</file>

<file path=ppt/slideLayouts/slideLayout10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2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2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2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2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2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2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4"/>
          </p:nvPr>
        </p:nvSpPr>
        <p:spPr/>
        <p:txBody>
          <a:bodyPr/>
          <a:p>
            <a:fld id="{7F8AD562-F42F-4261-B26E-74E373D0E67D}" type="slidenum">
              <a:t>&lt;#&gt;</a:t>
            </a:fld>
          </a:p>
        </p:txBody>
      </p:sp>
    </p:spTree>
  </p:cSld>
</p:sldLayout>
</file>

<file path=ppt/slideLayouts/slideLayout10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5"/>
          </p:nvPr>
        </p:nvSpPr>
        <p:spPr/>
        <p:txBody>
          <a:bodyPr/>
          <a:p>
            <a:fld id="{168441CD-9488-449F-AED9-1098AD81C9D3}"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
          </p:nvPr>
        </p:nvSpPr>
        <p:spPr/>
        <p:txBody>
          <a:bodyPr/>
          <a:p>
            <a:fld id="{7D0425BD-02ED-4119-AC5E-082EB7093D0A}" type="slidenum">
              <a:t>&lt;#&gt;</a:t>
            </a:fld>
          </a:p>
        </p:txBody>
      </p:sp>
    </p:spTree>
  </p:cSld>
</p:sldLayout>
</file>

<file path=ppt/slideLayouts/slideLayout10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3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5"/>
          </p:nvPr>
        </p:nvSpPr>
        <p:spPr/>
        <p:txBody>
          <a:bodyPr/>
          <a:p>
            <a:fld id="{EACBE967-27DE-473F-AA02-3FC8DF8D89F4}" type="slidenum">
              <a:t>&lt;#&gt;</a:t>
            </a:fld>
          </a:p>
        </p:txBody>
      </p:sp>
    </p:spTree>
  </p:cSld>
</p:sldLayout>
</file>

<file path=ppt/slideLayouts/slideLayout10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3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5"/>
          </p:nvPr>
        </p:nvSpPr>
        <p:spPr/>
        <p:txBody>
          <a:bodyPr/>
          <a:p>
            <a:fld id="{5B643EE8-87DC-4122-8C29-116A1B24E77F}" type="slidenum">
              <a:t>&lt;#&gt;</a:t>
            </a:fld>
          </a:p>
        </p:txBody>
      </p:sp>
    </p:spTree>
  </p:cSld>
</p:sldLayout>
</file>

<file path=ppt/slideLayouts/slideLayout10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4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4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5"/>
          </p:nvPr>
        </p:nvSpPr>
        <p:spPr/>
        <p:txBody>
          <a:bodyPr/>
          <a:p>
            <a:fld id="{088DD233-D124-459B-8FC0-11EA6AE459E6}" type="slidenum">
              <a:t>&lt;#&gt;</a:t>
            </a:fld>
          </a:p>
        </p:txBody>
      </p:sp>
    </p:spTree>
  </p:cSld>
</p:sldLayout>
</file>

<file path=ppt/slideLayouts/slideLayout10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5"/>
          </p:nvPr>
        </p:nvSpPr>
        <p:spPr/>
        <p:txBody>
          <a:bodyPr/>
          <a:p>
            <a:fld id="{126C40AA-C4B2-4E4A-8046-B740624009DD}" type="slidenum">
              <a:t>&lt;#&gt;</a:t>
            </a:fld>
          </a:p>
        </p:txBody>
      </p:sp>
    </p:spTree>
  </p:cSld>
</p:sldLayout>
</file>

<file path=ppt/slideLayouts/slideLayout10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4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5"/>
          </p:nvPr>
        </p:nvSpPr>
        <p:spPr/>
        <p:txBody>
          <a:bodyPr/>
          <a:p>
            <a:fld id="{EFE2B20F-F730-4FDE-98BA-E133BDB52E70}" type="slidenum">
              <a:t>&lt;#&gt;</a:t>
            </a:fld>
          </a:p>
        </p:txBody>
      </p:sp>
    </p:spTree>
  </p:cSld>
</p:sldLayout>
</file>

<file path=ppt/slideLayouts/slideLayout10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4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4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4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5"/>
          </p:nvPr>
        </p:nvSpPr>
        <p:spPr/>
        <p:txBody>
          <a:bodyPr/>
          <a:p>
            <a:fld id="{F671EAB7-13B6-4C34-8501-AFBF208D462C}" type="slidenum">
              <a:t>&lt;#&gt;</a:t>
            </a:fld>
          </a:p>
        </p:txBody>
      </p:sp>
    </p:spTree>
  </p:cSld>
</p:sldLayout>
</file>

<file path=ppt/slideLayouts/slideLayout10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4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5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5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5"/>
          </p:nvPr>
        </p:nvSpPr>
        <p:spPr/>
        <p:txBody>
          <a:bodyPr/>
          <a:p>
            <a:fld id="{F0D02084-F453-4CC7-A4C3-541B36347E63}" type="slidenum">
              <a:t>&lt;#&gt;</a:t>
            </a:fld>
          </a:p>
        </p:txBody>
      </p:sp>
    </p:spTree>
  </p:cSld>
</p:sldLayout>
</file>

<file path=ppt/slideLayouts/slideLayout10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5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5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5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5"/>
          </p:nvPr>
        </p:nvSpPr>
        <p:spPr/>
        <p:txBody>
          <a:bodyPr/>
          <a:p>
            <a:fld id="{2664970E-3424-4B1F-B665-79C6166489DC}" type="slidenum">
              <a:t>&lt;#&gt;</a:t>
            </a:fld>
          </a:p>
        </p:txBody>
      </p:sp>
    </p:spTree>
  </p:cSld>
</p:sldLayout>
</file>

<file path=ppt/slideLayouts/slideLayout10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5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5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5"/>
          </p:nvPr>
        </p:nvSpPr>
        <p:spPr/>
        <p:txBody>
          <a:bodyPr/>
          <a:p>
            <a:fld id="{BE13014A-B413-46F1-AC3C-515D1B5515C3}" type="slidenum">
              <a:t>&lt;#&gt;</a:t>
            </a:fld>
          </a:p>
        </p:txBody>
      </p:sp>
    </p:spTree>
  </p:cSld>
</p:sldLayout>
</file>

<file path=ppt/slideLayouts/slideLayout10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6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6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6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6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5"/>
          </p:nvPr>
        </p:nvSpPr>
        <p:spPr/>
        <p:txBody>
          <a:bodyPr/>
          <a:p>
            <a:fld id="{A9A124DB-7508-49B7-B7D2-BDAAEDAAF349}"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
          </p:nvPr>
        </p:nvSpPr>
        <p:spPr/>
        <p:txBody>
          <a:bodyPr/>
          <a:p>
            <a:fld id="{83BE5057-CA6D-4585-AA32-A000601BDEA3}" type="slidenum">
              <a:t>&lt;#&gt;</a:t>
            </a:fld>
          </a:p>
        </p:txBody>
      </p:sp>
    </p:spTree>
  </p:cSld>
</p:sldLayout>
</file>

<file path=ppt/slideLayouts/slideLayout10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6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6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6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6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6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7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5"/>
          </p:nvPr>
        </p:nvSpPr>
        <p:spPr/>
        <p:txBody>
          <a:bodyPr/>
          <a:p>
            <a:fld id="{B0B8943A-715D-410C-9ABF-530E5D8CB8FB}" type="slidenum">
              <a:t>&lt;#&gt;</a:t>
            </a:fld>
          </a:p>
        </p:txBody>
      </p:sp>
    </p:spTree>
  </p:cSld>
</p:sldLayout>
</file>

<file path=ppt/slideLayouts/slideLayout10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6"/>
          </p:nvPr>
        </p:nvSpPr>
        <p:spPr/>
        <p:txBody>
          <a:bodyPr/>
          <a:p>
            <a:fld id="{6E4B0277-5A30-4172-89EF-C52ECDBDA031}" type="slidenum">
              <a:t>&lt;#&gt;</a:t>
            </a:fld>
          </a:p>
        </p:txBody>
      </p:sp>
    </p:spTree>
  </p:cSld>
</p:sldLayout>
</file>

<file path=ppt/slideLayouts/slideLayout10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7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7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6"/>
          </p:nvPr>
        </p:nvSpPr>
        <p:spPr/>
        <p:txBody>
          <a:bodyPr/>
          <a:p>
            <a:fld id="{5909E899-83BF-4B66-A066-5EDB8C66660D}" type="slidenum">
              <a:t>&lt;#&gt;</a:t>
            </a:fld>
          </a:p>
        </p:txBody>
      </p:sp>
    </p:spTree>
  </p:cSld>
</p:sldLayout>
</file>

<file path=ppt/slideLayouts/slideLayout10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8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8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6"/>
          </p:nvPr>
        </p:nvSpPr>
        <p:spPr/>
        <p:txBody>
          <a:bodyPr/>
          <a:p>
            <a:fld id="{FC7CE838-CD75-40BE-83F1-0626D8AAEA30}" type="slidenum">
              <a:t>&lt;#&gt;</a:t>
            </a:fld>
          </a:p>
        </p:txBody>
      </p:sp>
    </p:spTree>
  </p:cSld>
</p:sldLayout>
</file>

<file path=ppt/slideLayouts/slideLayout10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8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8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6"/>
          </p:nvPr>
        </p:nvSpPr>
        <p:spPr/>
        <p:txBody>
          <a:bodyPr/>
          <a:p>
            <a:fld id="{F637DC45-E133-47C3-AAF2-B6A82AB22527}" type="slidenum">
              <a:t>&lt;#&gt;</a:t>
            </a:fld>
          </a:p>
        </p:txBody>
      </p:sp>
    </p:spTree>
  </p:cSld>
</p:sldLayout>
</file>

<file path=ppt/slideLayouts/slideLayout10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6"/>
          </p:nvPr>
        </p:nvSpPr>
        <p:spPr/>
        <p:txBody>
          <a:bodyPr/>
          <a:p>
            <a:fld id="{6104D31C-B596-4DC1-9216-DD9669053187}" type="slidenum">
              <a:t>&lt;#&gt;</a:t>
            </a:fld>
          </a:p>
        </p:txBody>
      </p:sp>
    </p:spTree>
  </p:cSld>
</p:sldLayout>
</file>

<file path=ppt/slideLayouts/slideLayout10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8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6"/>
          </p:nvPr>
        </p:nvSpPr>
        <p:spPr/>
        <p:txBody>
          <a:bodyPr/>
          <a:p>
            <a:fld id="{324C28DC-E039-46D4-88C7-2B2C4C71176D}" type="slidenum">
              <a:t>&lt;#&gt;</a:t>
            </a:fld>
          </a:p>
        </p:txBody>
      </p:sp>
    </p:spTree>
  </p:cSld>
</p:sldLayout>
</file>

<file path=ppt/slideLayouts/slideLayout10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8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8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9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6"/>
          </p:nvPr>
        </p:nvSpPr>
        <p:spPr/>
        <p:txBody>
          <a:bodyPr/>
          <a:p>
            <a:fld id="{2B64B19A-F17F-474A-9D08-83BA2BB02373}" type="slidenum">
              <a:t>&lt;#&gt;</a:t>
            </a:fld>
          </a:p>
        </p:txBody>
      </p:sp>
    </p:spTree>
  </p:cSld>
</p:sldLayout>
</file>

<file path=ppt/slideLayouts/slideLayout10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9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9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9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9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6"/>
          </p:nvPr>
        </p:nvSpPr>
        <p:spPr/>
        <p:txBody>
          <a:bodyPr/>
          <a:p>
            <a:fld id="{9CD06EB9-18F3-4696-9658-BF9D5E6CB329}" type="slidenum">
              <a:t>&lt;#&gt;</a:t>
            </a:fld>
          </a:p>
        </p:txBody>
      </p:sp>
    </p:spTree>
  </p:cSld>
</p:sldLayout>
</file>

<file path=ppt/slideLayouts/slideLayout10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9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9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9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6"/>
          </p:nvPr>
        </p:nvSpPr>
        <p:spPr/>
        <p:txBody>
          <a:bodyPr/>
          <a:p>
            <a:fld id="{47FD8130-B604-4833-8A5D-141C17E348A3}"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
          </p:nvPr>
        </p:nvSpPr>
        <p:spPr/>
        <p:txBody>
          <a:bodyPr/>
          <a:p>
            <a:fld id="{76CD345E-096F-4537-8608-DD6D992DF4CC}" type="slidenum">
              <a:t>&lt;#&gt;</a:t>
            </a:fld>
          </a:p>
        </p:txBody>
      </p:sp>
    </p:spTree>
  </p:cSld>
</p:sldLayout>
</file>

<file path=ppt/slideLayouts/slideLayout10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0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0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6"/>
          </p:nvPr>
        </p:nvSpPr>
        <p:spPr/>
        <p:txBody>
          <a:bodyPr/>
          <a:p>
            <a:fld id="{05E2BED3-9796-46EA-9823-37C12A6001F5}" type="slidenum">
              <a:t>&lt;#&gt;</a:t>
            </a:fld>
          </a:p>
        </p:txBody>
      </p:sp>
    </p:spTree>
  </p:cSld>
</p:sldLayout>
</file>

<file path=ppt/slideLayouts/slideLayout10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0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0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0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0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6"/>
          </p:nvPr>
        </p:nvSpPr>
        <p:spPr/>
        <p:txBody>
          <a:bodyPr/>
          <a:p>
            <a:fld id="{D069E0CA-0826-403B-8C2D-0CF75E049C35}" type="slidenum">
              <a:t>&lt;#&gt;</a:t>
            </a:fld>
          </a:p>
        </p:txBody>
      </p:sp>
    </p:spTree>
  </p:cSld>
</p:sldLayout>
</file>

<file path=ppt/slideLayouts/slideLayout10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0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0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0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1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1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1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1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6"/>
          </p:nvPr>
        </p:nvSpPr>
        <p:spPr/>
        <p:txBody>
          <a:bodyPr/>
          <a:p>
            <a:fld id="{AB093FFA-364E-4C14-990B-811617BAA1D3}" type="slidenum">
              <a:t>&lt;#&gt;</a:t>
            </a:fld>
          </a:p>
        </p:txBody>
      </p:sp>
    </p:spTree>
  </p:cSld>
</p:sldLayout>
</file>

<file path=ppt/slideLayouts/slideLayout10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7"/>
          </p:nvPr>
        </p:nvSpPr>
        <p:spPr/>
        <p:txBody>
          <a:bodyPr/>
          <a:p>
            <a:fld id="{F4270A7C-B57E-4CA7-B01E-E86D6D049B46}" type="slidenum">
              <a:t>&lt;#&gt;</a:t>
            </a:fld>
          </a:p>
        </p:txBody>
      </p:sp>
    </p:spTree>
  </p:cSld>
</p:sldLayout>
</file>

<file path=ppt/slideLayouts/slideLayout10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2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2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7"/>
          </p:nvPr>
        </p:nvSpPr>
        <p:spPr/>
        <p:txBody>
          <a:bodyPr/>
          <a:p>
            <a:fld id="{79885468-C87B-427C-8A29-41370EAF97C9}" type="slidenum">
              <a:t>&lt;#&gt;</a:t>
            </a:fld>
          </a:p>
        </p:txBody>
      </p:sp>
    </p:spTree>
  </p:cSld>
</p:sldLayout>
</file>

<file path=ppt/slideLayouts/slideLayout10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2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7"/>
          </p:nvPr>
        </p:nvSpPr>
        <p:spPr/>
        <p:txBody>
          <a:bodyPr/>
          <a:p>
            <a:fld id="{2034460C-4512-45D4-A65D-F3CA6114665B}" type="slidenum">
              <a:t>&lt;#&gt;</a:t>
            </a:fld>
          </a:p>
        </p:txBody>
      </p:sp>
    </p:spTree>
  </p:cSld>
</p:sldLayout>
</file>

<file path=ppt/slideLayouts/slideLayout10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2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2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7"/>
          </p:nvPr>
        </p:nvSpPr>
        <p:spPr/>
        <p:txBody>
          <a:bodyPr/>
          <a:p>
            <a:fld id="{52DE39EC-CF04-43B8-BA31-3A3D970510A2}" type="slidenum">
              <a:t>&lt;#&gt;</a:t>
            </a:fld>
          </a:p>
        </p:txBody>
      </p:sp>
    </p:spTree>
  </p:cSld>
</p:sldLayout>
</file>

<file path=ppt/slideLayouts/slideLayout10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3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7"/>
          </p:nvPr>
        </p:nvSpPr>
        <p:spPr/>
        <p:txBody>
          <a:bodyPr/>
          <a:p>
            <a:fld id="{B3353922-B619-4187-BFC5-A8DABB384AB2}" type="slidenum">
              <a:t>&lt;#&gt;</a:t>
            </a:fld>
          </a:p>
        </p:txBody>
      </p:sp>
    </p:spTree>
  </p:cSld>
</p:sldLayout>
</file>

<file path=ppt/slideLayouts/slideLayout10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3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7"/>
          </p:nvPr>
        </p:nvSpPr>
        <p:spPr/>
        <p:txBody>
          <a:bodyPr/>
          <a:p>
            <a:fld id="{747BF4E9-3129-4118-B52D-359CFA93B47B}" type="slidenum">
              <a:t>&lt;#&gt;</a:t>
            </a:fld>
          </a:p>
        </p:txBody>
      </p:sp>
    </p:spTree>
  </p:cSld>
</p:sldLayout>
</file>

<file path=ppt/slideLayouts/slideLayout10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3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3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3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7"/>
          </p:nvPr>
        </p:nvSpPr>
        <p:spPr/>
        <p:txBody>
          <a:bodyPr/>
          <a:p>
            <a:fld id="{E4A37237-40FD-4BE1-A7A2-1B4C575477A0}"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
          </p:nvPr>
        </p:nvSpPr>
        <p:spPr/>
        <p:txBody>
          <a:bodyPr/>
          <a:p>
            <a:fld id="{CD316EF7-4964-4D55-9AB9-91AB05BD487F}" type="slidenum">
              <a:t>&lt;#&gt;</a:t>
            </a:fld>
          </a:p>
        </p:txBody>
      </p:sp>
    </p:spTree>
  </p:cSld>
</p:sldLayout>
</file>

<file path=ppt/slideLayouts/slideLayout10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3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3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3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3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7"/>
          </p:nvPr>
        </p:nvSpPr>
        <p:spPr/>
        <p:txBody>
          <a:bodyPr/>
          <a:p>
            <a:fld id="{7CDDC6A8-7366-4819-909D-605FF84973E9}" type="slidenum">
              <a:t>&lt;#&gt;</a:t>
            </a:fld>
          </a:p>
        </p:txBody>
      </p:sp>
    </p:spTree>
  </p:cSld>
</p:sldLayout>
</file>

<file path=ppt/slideLayouts/slideLayout10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4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4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4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7"/>
          </p:nvPr>
        </p:nvSpPr>
        <p:spPr/>
        <p:txBody>
          <a:bodyPr/>
          <a:p>
            <a:fld id="{8A476E5A-6A6B-4759-9C6D-582C8666BFD1}" type="slidenum">
              <a:t>&lt;#&gt;</a:t>
            </a:fld>
          </a:p>
        </p:txBody>
      </p:sp>
    </p:spTree>
  </p:cSld>
</p:sldLayout>
</file>

<file path=ppt/slideLayouts/slideLayout10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4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4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7"/>
          </p:nvPr>
        </p:nvSpPr>
        <p:spPr/>
        <p:txBody>
          <a:bodyPr/>
          <a:p>
            <a:fld id="{67CEFFA3-9AFB-461C-8FAB-E3699040C988}" type="slidenum">
              <a:t>&lt;#&gt;</a:t>
            </a:fld>
          </a:p>
        </p:txBody>
      </p:sp>
    </p:spTree>
  </p:cSld>
</p:sldLayout>
</file>

<file path=ppt/slideLayouts/slideLayout10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4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4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5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5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7"/>
          </p:nvPr>
        </p:nvSpPr>
        <p:spPr/>
        <p:txBody>
          <a:bodyPr/>
          <a:p>
            <a:fld id="{C36EE133-4CE3-48D6-B649-4B2586865A40}" type="slidenum">
              <a:t>&lt;#&gt;</a:t>
            </a:fld>
          </a:p>
        </p:txBody>
      </p:sp>
    </p:spTree>
  </p:cSld>
</p:sldLayout>
</file>

<file path=ppt/slideLayouts/slideLayout10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5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5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5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5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5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5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7"/>
          </p:nvPr>
        </p:nvSpPr>
        <p:spPr/>
        <p:txBody>
          <a:bodyPr/>
          <a:p>
            <a:fld id="{A78167E0-AC24-4606-A635-94F40D42632E}" type="slidenum">
              <a:t>&lt;#&gt;</a:t>
            </a:fld>
          </a:p>
        </p:txBody>
      </p:sp>
    </p:spTree>
  </p:cSld>
</p:sldLayout>
</file>

<file path=ppt/slideLayouts/slideLayout10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8"/>
          </p:nvPr>
        </p:nvSpPr>
        <p:spPr/>
        <p:txBody>
          <a:bodyPr/>
          <a:p>
            <a:fld id="{41169DD3-7EDB-41A6-9141-C8DA30055B4B}" type="slidenum">
              <a:t>&lt;#&gt;</a:t>
            </a:fld>
          </a:p>
        </p:txBody>
      </p:sp>
    </p:spTree>
  </p:cSld>
</p:sldLayout>
</file>

<file path=ppt/slideLayouts/slideLayout10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67"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8"/>
          </p:nvPr>
        </p:nvSpPr>
        <p:spPr/>
        <p:txBody>
          <a:bodyPr/>
          <a:p>
            <a:fld id="{F91F533F-DCA2-4451-A8D6-54D6BA7F78CA}" type="slidenum">
              <a:t>&lt;#&gt;</a:t>
            </a:fld>
          </a:p>
        </p:txBody>
      </p:sp>
    </p:spTree>
  </p:cSld>
</p:sldLayout>
</file>

<file path=ppt/slideLayouts/slideLayout10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69"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8"/>
          </p:nvPr>
        </p:nvSpPr>
        <p:spPr/>
        <p:txBody>
          <a:bodyPr/>
          <a:p>
            <a:fld id="{E507AD69-A309-429A-AA21-469D86C02A0E}" type="slidenum">
              <a:t>&lt;#&gt;</a:t>
            </a:fld>
          </a:p>
        </p:txBody>
      </p:sp>
    </p:spTree>
  </p:cSld>
</p:sldLayout>
</file>

<file path=ppt/slideLayouts/slideLayout10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7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7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8"/>
          </p:nvPr>
        </p:nvSpPr>
        <p:spPr/>
        <p:txBody>
          <a:bodyPr/>
          <a:p>
            <a:fld id="{F3AABEC3-1718-4DA6-AF6F-F4FD0EAA64B0}" type="slidenum">
              <a:t>&lt;#&gt;</a:t>
            </a:fld>
          </a:p>
        </p:txBody>
      </p:sp>
    </p:spTree>
  </p:cSld>
</p:sldLayout>
</file>

<file path=ppt/slideLayouts/slideLayout10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8"/>
          </p:nvPr>
        </p:nvSpPr>
        <p:spPr/>
        <p:txBody>
          <a:bodyPr/>
          <a:p>
            <a:fld id="{2FAF9B99-0A0C-40B6-9C8B-355D9458D33B}"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
          </p:nvPr>
        </p:nvSpPr>
        <p:spPr/>
        <p:txBody>
          <a:bodyPr/>
          <a:p>
            <a:fld id="{D56173CF-034D-4DE0-AE78-7F5E803B4FAB}" type="slidenum">
              <a:t>&lt;#&gt;</a:t>
            </a:fld>
          </a:p>
        </p:txBody>
      </p:sp>
    </p:spTree>
  </p:cSld>
</p:sldLayout>
</file>

<file path=ppt/slideLayouts/slideLayout10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74"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8"/>
          </p:nvPr>
        </p:nvSpPr>
        <p:spPr/>
        <p:txBody>
          <a:bodyPr/>
          <a:p>
            <a:fld id="{1B63F7CF-40B2-4128-B689-167C04DE4B80}" type="slidenum">
              <a:t>&lt;#&gt;</a:t>
            </a:fld>
          </a:p>
        </p:txBody>
      </p:sp>
    </p:spTree>
  </p:cSld>
</p:sldLayout>
</file>

<file path=ppt/slideLayouts/slideLayout10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7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7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7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8"/>
          </p:nvPr>
        </p:nvSpPr>
        <p:spPr/>
        <p:txBody>
          <a:bodyPr/>
          <a:p>
            <a:fld id="{F383248F-59B9-4073-A706-DE0A1941AC4B}" type="slidenum">
              <a:t>&lt;#&gt;</a:t>
            </a:fld>
          </a:p>
        </p:txBody>
      </p:sp>
    </p:spTree>
  </p:cSld>
</p:sldLayout>
</file>

<file path=ppt/slideLayouts/slideLayout10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8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8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82"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8"/>
          </p:nvPr>
        </p:nvSpPr>
        <p:spPr/>
        <p:txBody>
          <a:bodyPr/>
          <a:p>
            <a:fld id="{51A71FB2-7436-4162-9CBB-F6861E2C76D8}" type="slidenum">
              <a:t>&lt;#&gt;</a:t>
            </a:fld>
          </a:p>
        </p:txBody>
      </p:sp>
    </p:spTree>
  </p:cSld>
</p:sldLayout>
</file>

<file path=ppt/slideLayouts/slideLayout10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8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8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86"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8"/>
          </p:nvPr>
        </p:nvSpPr>
        <p:spPr/>
        <p:txBody>
          <a:bodyPr/>
          <a:p>
            <a:fld id="{629C22CD-3013-4145-9DF7-89A0F33A4437}" type="slidenum">
              <a:t>&lt;#&gt;</a:t>
            </a:fld>
          </a:p>
        </p:txBody>
      </p:sp>
    </p:spTree>
  </p:cSld>
</p:sldLayout>
</file>

<file path=ppt/slideLayouts/slideLayout10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88"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89"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8"/>
          </p:nvPr>
        </p:nvSpPr>
        <p:spPr/>
        <p:txBody>
          <a:bodyPr/>
          <a:p>
            <a:fld id="{77F0D5B0-BC5A-44F3-898B-1157EB83A06A}" type="slidenum">
              <a:t>&lt;#&gt;</a:t>
            </a:fld>
          </a:p>
        </p:txBody>
      </p:sp>
    </p:spTree>
  </p:cSld>
</p:sldLayout>
</file>

<file path=ppt/slideLayouts/slideLayout10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9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9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9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94"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8"/>
          </p:nvPr>
        </p:nvSpPr>
        <p:spPr/>
        <p:txBody>
          <a:bodyPr/>
          <a:p>
            <a:fld id="{F4E43D43-DFD4-48C2-BFBC-59417144F85F}" type="slidenum">
              <a:t>&lt;#&gt;</a:t>
            </a:fld>
          </a:p>
        </p:txBody>
      </p:sp>
    </p:spTree>
  </p:cSld>
</p:sldLayout>
</file>

<file path=ppt/slideLayouts/slideLayout10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96"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97"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98"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99"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00"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01"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8"/>
          </p:nvPr>
        </p:nvSpPr>
        <p:spPr/>
        <p:txBody>
          <a:bodyPr/>
          <a:p>
            <a:fld id="{F72CF855-2EA4-4449-9A62-65A2ECE43E1F}" type="slidenum">
              <a:t>&lt;#&gt;</a:t>
            </a:fld>
          </a:p>
        </p:txBody>
      </p:sp>
    </p:spTree>
  </p:cSld>
</p:sldLayout>
</file>

<file path=ppt/slideLayouts/slideLayout10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9"/>
          </p:nvPr>
        </p:nvSpPr>
        <p:spPr/>
        <p:txBody>
          <a:bodyPr/>
          <a:p>
            <a:fld id="{17E2ED88-036B-4287-84B1-E49B9DC2D5E3}" type="slidenum">
              <a:t>&lt;#&gt;</a:t>
            </a:fld>
          </a:p>
        </p:txBody>
      </p:sp>
    </p:spTree>
  </p:cSld>
</p:sldLayout>
</file>

<file path=ppt/slideLayouts/slideLayout10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12"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9"/>
          </p:nvPr>
        </p:nvSpPr>
        <p:spPr/>
        <p:txBody>
          <a:bodyPr/>
          <a:p>
            <a:fld id="{9327AADC-78F8-4C3A-8D76-BCB37D67B78D}" type="slidenum">
              <a:t>&lt;#&gt;</a:t>
            </a:fld>
          </a:p>
        </p:txBody>
      </p:sp>
    </p:spTree>
  </p:cSld>
</p:sldLayout>
</file>

<file path=ppt/slideLayouts/slideLayout10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14"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9"/>
          </p:nvPr>
        </p:nvSpPr>
        <p:spPr/>
        <p:txBody>
          <a:bodyPr/>
          <a:p>
            <a:fld id="{D64CD921-B292-4115-950B-4A134ABAC3C7}"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6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
          </p:nvPr>
        </p:nvSpPr>
        <p:spPr/>
        <p:txBody>
          <a:bodyPr/>
          <a:p>
            <a:fld id="{056D1207-48BF-4760-8C10-A118E5135599}" type="slidenum">
              <a:t>&lt;#&gt;</a:t>
            </a:fld>
          </a:p>
        </p:txBody>
      </p:sp>
    </p:spTree>
  </p:cSld>
</p:sldLayout>
</file>

<file path=ppt/slideLayouts/slideLayout10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1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1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1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9"/>
          </p:nvPr>
        </p:nvSpPr>
        <p:spPr/>
        <p:txBody>
          <a:bodyPr/>
          <a:p>
            <a:fld id="{BAB00987-7F37-4ED0-8CAD-28F9B6B97D6B}" type="slidenum">
              <a:t>&lt;#&gt;</a:t>
            </a:fld>
          </a:p>
        </p:txBody>
      </p:sp>
    </p:spTree>
  </p:cSld>
</p:sldLayout>
</file>

<file path=ppt/slideLayouts/slideLayout10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9"/>
          </p:nvPr>
        </p:nvSpPr>
        <p:spPr/>
        <p:txBody>
          <a:bodyPr/>
          <a:p>
            <a:fld id="{83E8D7AF-296B-40A5-9D00-10B1323A5153}" type="slidenum">
              <a:t>&lt;#&gt;</a:t>
            </a:fld>
          </a:p>
        </p:txBody>
      </p:sp>
    </p:spTree>
  </p:cSld>
</p:sldLayout>
</file>

<file path=ppt/slideLayouts/slideLayout10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9"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9"/>
          </p:nvPr>
        </p:nvSpPr>
        <p:spPr/>
        <p:txBody>
          <a:bodyPr/>
          <a:p>
            <a:fld id="{ED6E0969-8672-4FF3-9AA8-D9A0A89D9376}" type="slidenum">
              <a:t>&lt;#&gt;</a:t>
            </a:fld>
          </a:p>
        </p:txBody>
      </p:sp>
    </p:spTree>
  </p:cSld>
</p:sldLayout>
</file>

<file path=ppt/slideLayouts/slideLayout10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2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2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2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9"/>
          </p:nvPr>
        </p:nvSpPr>
        <p:spPr/>
        <p:txBody>
          <a:bodyPr/>
          <a:p>
            <a:fld id="{6610FBC5-91E5-41A9-8821-D3F42EDDCCC2}" type="slidenum">
              <a:t>&lt;#&gt;</a:t>
            </a:fld>
          </a:p>
        </p:txBody>
      </p:sp>
    </p:spTree>
  </p:cSld>
</p:sldLayout>
</file>

<file path=ppt/slideLayouts/slideLayout10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2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2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27"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9"/>
          </p:nvPr>
        </p:nvSpPr>
        <p:spPr/>
        <p:txBody>
          <a:bodyPr/>
          <a:p>
            <a:fld id="{960FAD2F-6D7C-47DF-A2C4-1D2E92F372DE}" type="slidenum">
              <a:t>&lt;#&gt;</a:t>
            </a:fld>
          </a:p>
        </p:txBody>
      </p:sp>
    </p:spTree>
  </p:cSld>
</p:sldLayout>
</file>

<file path=ppt/slideLayouts/slideLayout10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2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3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31"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9"/>
          </p:nvPr>
        </p:nvSpPr>
        <p:spPr/>
        <p:txBody>
          <a:bodyPr/>
          <a:p>
            <a:fld id="{984C270D-E392-44C8-BEEF-24A0739EF000}" type="slidenum">
              <a:t>&lt;#&gt;</a:t>
            </a:fld>
          </a:p>
        </p:txBody>
      </p:sp>
    </p:spTree>
  </p:cSld>
</p:sldLayout>
</file>

<file path=ppt/slideLayouts/slideLayout10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33"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34"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9"/>
          </p:nvPr>
        </p:nvSpPr>
        <p:spPr/>
        <p:txBody>
          <a:bodyPr/>
          <a:p>
            <a:fld id="{E7983A6C-7EEA-4087-B441-C95CEE72E1CF}" type="slidenum">
              <a:t>&lt;#&gt;</a:t>
            </a:fld>
          </a:p>
        </p:txBody>
      </p:sp>
    </p:spTree>
  </p:cSld>
</p:sldLayout>
</file>

<file path=ppt/slideLayouts/slideLayout10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3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3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3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39"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9"/>
          </p:nvPr>
        </p:nvSpPr>
        <p:spPr/>
        <p:txBody>
          <a:bodyPr/>
          <a:p>
            <a:fld id="{4B9EFE64-337B-4F0B-8DE3-CEF320116DE5}" type="slidenum">
              <a:t>&lt;#&gt;</a:t>
            </a:fld>
          </a:p>
        </p:txBody>
      </p:sp>
    </p:spTree>
  </p:cSld>
</p:sldLayout>
</file>

<file path=ppt/slideLayouts/slideLayout10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41"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42"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43"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44"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45"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46"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9"/>
          </p:nvPr>
        </p:nvSpPr>
        <p:spPr/>
        <p:txBody>
          <a:bodyPr/>
          <a:p>
            <a:fld id="{D06610AA-D44D-4FB3-BEEA-12BB9B8FC31B}" type="slidenum">
              <a:t>&lt;#&gt;</a:t>
            </a:fld>
          </a:p>
        </p:txBody>
      </p:sp>
    </p:spTree>
  </p:cSld>
</p:sldLayout>
</file>

<file path=ppt/slideLayouts/slideLayout10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0"/>
          </p:nvPr>
        </p:nvSpPr>
        <p:spPr/>
        <p:txBody>
          <a:bodyPr/>
          <a:p>
            <a:fld id="{AD831C23-2A70-44F0-8F3D-ECA17B54B345}"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
          </p:nvPr>
        </p:nvSpPr>
        <p:spPr/>
        <p:txBody>
          <a:bodyPr/>
          <a:p>
            <a:fld id="{AF017F7B-17D4-4587-BC13-38DA955C1A6E}" type="slidenum">
              <a:t>&lt;#&gt;</a:t>
            </a:fld>
          </a:p>
        </p:txBody>
      </p:sp>
    </p:spTree>
  </p:cSld>
</p:sldLayout>
</file>

<file path=ppt/slideLayouts/slideLayout10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5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0"/>
          </p:nvPr>
        </p:nvSpPr>
        <p:spPr/>
        <p:txBody>
          <a:bodyPr/>
          <a:p>
            <a:fld id="{E1CB4848-2F71-4017-AE13-882869DC8B96}" type="slidenum">
              <a:t>&lt;#&gt;</a:t>
            </a:fld>
          </a:p>
        </p:txBody>
      </p:sp>
    </p:spTree>
  </p:cSld>
</p:sldLayout>
</file>

<file path=ppt/slideLayouts/slideLayout10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5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0"/>
          </p:nvPr>
        </p:nvSpPr>
        <p:spPr/>
        <p:txBody>
          <a:bodyPr/>
          <a:p>
            <a:fld id="{57543E75-052D-49AD-9828-6887BF4D5D28}" type="slidenum">
              <a:t>&lt;#&gt;</a:t>
            </a:fld>
          </a:p>
        </p:txBody>
      </p:sp>
    </p:spTree>
  </p:cSld>
</p:sldLayout>
</file>

<file path=ppt/slideLayouts/slideLayout10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5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5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0"/>
          </p:nvPr>
        </p:nvSpPr>
        <p:spPr/>
        <p:txBody>
          <a:bodyPr/>
          <a:p>
            <a:fld id="{6B742A2D-CC71-4973-BC87-B89B9406E944}" type="slidenum">
              <a:t>&lt;#&gt;</a:t>
            </a:fld>
          </a:p>
        </p:txBody>
      </p:sp>
    </p:spTree>
  </p:cSld>
</p:sldLayout>
</file>

<file path=ppt/slideLayouts/slideLayout10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0"/>
          </p:nvPr>
        </p:nvSpPr>
        <p:spPr/>
        <p:txBody>
          <a:bodyPr/>
          <a:p>
            <a:fld id="{E30364FD-26BA-45FE-9910-E779DE873CF0}" type="slidenum">
              <a:t>&lt;#&gt;</a:t>
            </a:fld>
          </a:p>
        </p:txBody>
      </p:sp>
    </p:spTree>
  </p:cSld>
</p:sldLayout>
</file>

<file path=ppt/slideLayouts/slideLayout10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6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0"/>
          </p:nvPr>
        </p:nvSpPr>
        <p:spPr/>
        <p:txBody>
          <a:bodyPr/>
          <a:p>
            <a:fld id="{74883F79-7FF2-4C0B-BB38-856947045DAE}" type="slidenum">
              <a:t>&lt;#&gt;</a:t>
            </a:fld>
          </a:p>
        </p:txBody>
      </p:sp>
    </p:spTree>
  </p:cSld>
</p:sldLayout>
</file>

<file path=ppt/slideLayouts/slideLayout10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6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6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6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0"/>
          </p:nvPr>
        </p:nvSpPr>
        <p:spPr/>
        <p:txBody>
          <a:bodyPr/>
          <a:p>
            <a:fld id="{1E7634F9-CA33-446F-83F8-A6D5B45F8C3A}" type="slidenum">
              <a:t>&lt;#&gt;</a:t>
            </a:fld>
          </a:p>
        </p:txBody>
      </p:sp>
    </p:spTree>
  </p:cSld>
</p:sldLayout>
</file>

<file path=ppt/slideLayouts/slideLayout10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6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6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6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0"/>
          </p:nvPr>
        </p:nvSpPr>
        <p:spPr/>
        <p:txBody>
          <a:bodyPr/>
          <a:p>
            <a:fld id="{B74464F1-66B7-4F8E-9FFC-5E280D88B129}" type="slidenum">
              <a:t>&lt;#&gt;</a:t>
            </a:fld>
          </a:p>
        </p:txBody>
      </p:sp>
    </p:spTree>
  </p:cSld>
</p:sldLayout>
</file>

<file path=ppt/slideLayouts/slideLayout10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7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7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7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0"/>
          </p:nvPr>
        </p:nvSpPr>
        <p:spPr/>
        <p:txBody>
          <a:bodyPr/>
          <a:p>
            <a:fld id="{6A3D4DBA-33A3-4B57-8564-8332B81C44ED}" type="slidenum">
              <a:t>&lt;#&gt;</a:t>
            </a:fld>
          </a:p>
        </p:txBody>
      </p:sp>
    </p:spTree>
  </p:cSld>
</p:sldLayout>
</file>

<file path=ppt/slideLayouts/slideLayout10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7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7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0"/>
          </p:nvPr>
        </p:nvSpPr>
        <p:spPr/>
        <p:txBody>
          <a:bodyPr/>
          <a:p>
            <a:fld id="{09625259-55AD-4806-9CB1-AA3F3532BFD7}" type="slidenum">
              <a:t>&lt;#&gt;</a:t>
            </a:fld>
          </a:p>
        </p:txBody>
      </p:sp>
    </p:spTree>
  </p:cSld>
</p:sldLayout>
</file>

<file path=ppt/slideLayouts/slideLayout10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7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7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8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8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0"/>
          </p:nvPr>
        </p:nvSpPr>
        <p:spPr/>
        <p:txBody>
          <a:bodyPr/>
          <a:p>
            <a:fld id="{A438ACC6-440D-4A2F-9E05-B79FC5B84E36}"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7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
          </p:nvPr>
        </p:nvSpPr>
        <p:spPr/>
        <p:txBody>
          <a:bodyPr/>
          <a:p>
            <a:fld id="{E0A0D833-B90C-472F-9626-B7A68C7E3A37}" type="slidenum">
              <a:t>&lt;#&gt;</a:t>
            </a:fld>
          </a:p>
        </p:txBody>
      </p:sp>
    </p:spTree>
  </p:cSld>
</p:sldLayout>
</file>

<file path=ppt/slideLayouts/slideLayout10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8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8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8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8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8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8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0"/>
          </p:nvPr>
        </p:nvSpPr>
        <p:spPr/>
        <p:txBody>
          <a:bodyPr/>
          <a:p>
            <a:fld id="{24AC94AD-E8C7-4695-901E-BA02A9FC1736}" type="slidenum">
              <a:t>&lt;#&gt;</a:t>
            </a:fld>
          </a:p>
        </p:txBody>
      </p:sp>
    </p:spTree>
  </p:cSld>
</p:sldLayout>
</file>

<file path=ppt/slideLayouts/slideLayout10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1"/>
          </p:nvPr>
        </p:nvSpPr>
        <p:spPr/>
        <p:txBody>
          <a:bodyPr/>
          <a:p>
            <a:fld id="{47E706F5-6946-4D8D-84C1-7B4F221CA6EE}" type="slidenum">
              <a:t>&lt;#&gt;</a:t>
            </a:fld>
          </a:p>
        </p:txBody>
      </p:sp>
    </p:spTree>
  </p:cSld>
</p:sldLayout>
</file>

<file path=ppt/slideLayouts/slideLayout10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9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1"/>
          </p:nvPr>
        </p:nvSpPr>
        <p:spPr/>
        <p:txBody>
          <a:bodyPr/>
          <a:p>
            <a:fld id="{4FD02E84-0034-4B2E-A8FE-1DE13E2413EE}" type="slidenum">
              <a:t>&lt;#&gt;</a:t>
            </a:fld>
          </a:p>
        </p:txBody>
      </p:sp>
    </p:spTree>
  </p:cSld>
</p:sldLayout>
</file>

<file path=ppt/slideLayouts/slideLayout10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9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1"/>
          </p:nvPr>
        </p:nvSpPr>
        <p:spPr/>
        <p:txBody>
          <a:bodyPr/>
          <a:p>
            <a:fld id="{D2432A0C-7AC8-4D74-8501-C0F0A3B7BC7C}" type="slidenum">
              <a:t>&lt;#&gt;</a:t>
            </a:fld>
          </a:p>
        </p:txBody>
      </p:sp>
    </p:spTree>
  </p:cSld>
</p:sldLayout>
</file>

<file path=ppt/slideLayouts/slideLayout10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0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0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1"/>
          </p:nvPr>
        </p:nvSpPr>
        <p:spPr/>
        <p:txBody>
          <a:bodyPr/>
          <a:p>
            <a:fld id="{E9FE1D89-E361-4394-B403-F07025EEFF8C}" type="slidenum">
              <a:t>&lt;#&gt;</a:t>
            </a:fld>
          </a:p>
        </p:txBody>
      </p:sp>
    </p:spTree>
  </p:cSld>
</p:sldLayout>
</file>

<file path=ppt/slideLayouts/slideLayout10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1"/>
          </p:nvPr>
        </p:nvSpPr>
        <p:spPr/>
        <p:txBody>
          <a:bodyPr/>
          <a:p>
            <a:fld id="{D64BD768-5FE3-44B5-AA3B-C1BDD66FA7C9}" type="slidenum">
              <a:t>&lt;#&gt;</a:t>
            </a:fld>
          </a:p>
        </p:txBody>
      </p:sp>
    </p:spTree>
  </p:cSld>
</p:sldLayout>
</file>

<file path=ppt/slideLayouts/slideLayout10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0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1"/>
          </p:nvPr>
        </p:nvSpPr>
        <p:spPr/>
        <p:txBody>
          <a:bodyPr/>
          <a:p>
            <a:fld id="{059F0C0A-614E-43B5-B0F7-0F12B9BC6A37}" type="slidenum">
              <a:t>&lt;#&gt;</a:t>
            </a:fld>
          </a:p>
        </p:txBody>
      </p:sp>
    </p:spTree>
  </p:cSld>
</p:sldLayout>
</file>

<file path=ppt/slideLayouts/slideLayout10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0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0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0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1"/>
          </p:nvPr>
        </p:nvSpPr>
        <p:spPr/>
        <p:txBody>
          <a:bodyPr/>
          <a:p>
            <a:fld id="{C752DF54-7F4A-47F1-ADFB-CF62A6451FA4}" type="slidenum">
              <a:t>&lt;#&gt;</a:t>
            </a:fld>
          </a:p>
        </p:txBody>
      </p:sp>
    </p:spTree>
  </p:cSld>
</p:sldLayout>
</file>

<file path=ppt/slideLayouts/slideLayout10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0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1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1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1"/>
          </p:nvPr>
        </p:nvSpPr>
        <p:spPr/>
        <p:txBody>
          <a:bodyPr/>
          <a:p>
            <a:fld id="{611E895C-7520-44C5-9BD3-4BE2BF02D871}" type="slidenum">
              <a:t>&lt;#&gt;</a:t>
            </a:fld>
          </a:p>
        </p:txBody>
      </p:sp>
    </p:spTree>
  </p:cSld>
</p:sldLayout>
</file>

<file path=ppt/slideLayouts/slideLayout10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1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1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1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1"/>
          </p:nvPr>
        </p:nvSpPr>
        <p:spPr/>
        <p:txBody>
          <a:bodyPr/>
          <a:p>
            <a:fld id="{C2FAA046-A8B4-4DBF-9627-995695614E4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92A94F47-C180-4C8F-A28F-681C00262104}" type="slidenum">
              <a:t>&lt;#&gt;</a:t>
            </a:fld>
          </a:p>
        </p:txBody>
      </p:sp>
    </p:spTree>
  </p:cSld>
</p:sldLayout>
</file>

<file path=ppt/slideLayouts/slideLayout10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1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1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1"/>
          </p:nvPr>
        </p:nvSpPr>
        <p:spPr/>
        <p:txBody>
          <a:bodyPr/>
          <a:p>
            <a:fld id="{3B381533-2433-4B9C-AB21-1E1692D4CCE9}" type="slidenum">
              <a:t>&lt;#&gt;</a:t>
            </a:fld>
          </a:p>
        </p:txBody>
      </p:sp>
    </p:spTree>
  </p:cSld>
</p:sldLayout>
</file>

<file path=ppt/slideLayouts/slideLayout10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1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2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2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2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2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1"/>
          </p:nvPr>
        </p:nvSpPr>
        <p:spPr/>
        <p:txBody>
          <a:bodyPr/>
          <a:p>
            <a:fld id="{3269AB42-D8E7-43FD-8888-C3405C117BFA}" type="slidenum">
              <a:t>&lt;#&gt;</a:t>
            </a:fld>
          </a:p>
        </p:txBody>
      </p:sp>
    </p:spTree>
  </p:cSld>
</p:sldLayout>
</file>

<file path=ppt/slideLayouts/slideLayout10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2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2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2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2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2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3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1"/>
          </p:nvPr>
        </p:nvSpPr>
        <p:spPr/>
        <p:txBody>
          <a:bodyPr/>
          <a:p>
            <a:fld id="{3C841899-296B-4532-B75E-FD07A64AC21F}" type="slidenum">
              <a:t>&lt;#&gt;</a:t>
            </a:fld>
          </a:p>
        </p:txBody>
      </p:sp>
    </p:spTree>
  </p:cSld>
</p:sldLayout>
</file>

<file path=ppt/slideLayouts/slideLayout10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2"/>
          </p:nvPr>
        </p:nvSpPr>
        <p:spPr/>
        <p:txBody>
          <a:bodyPr/>
          <a:p>
            <a:fld id="{F771435A-D94A-4DAD-A58A-4A68FA666169}" type="slidenum">
              <a:t>&lt;#&gt;</a:t>
            </a:fld>
          </a:p>
        </p:txBody>
      </p:sp>
    </p:spTree>
  </p:cSld>
</p:sldLayout>
</file>

<file path=ppt/slideLayouts/slideLayout10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3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2"/>
          </p:nvPr>
        </p:nvSpPr>
        <p:spPr/>
        <p:txBody>
          <a:bodyPr/>
          <a:p>
            <a:fld id="{511AEB05-484E-471D-A2E0-81867F5E9F91}" type="slidenum">
              <a:t>&lt;#&gt;</a:t>
            </a:fld>
          </a:p>
        </p:txBody>
      </p:sp>
    </p:spTree>
  </p:cSld>
</p:sldLayout>
</file>

<file path=ppt/slideLayouts/slideLayout10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4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2"/>
          </p:nvPr>
        </p:nvSpPr>
        <p:spPr/>
        <p:txBody>
          <a:bodyPr/>
          <a:p>
            <a:fld id="{7356B4B8-3A90-4A1C-8A9B-B016A46A5E6E}" type="slidenum">
              <a:t>&lt;#&gt;</a:t>
            </a:fld>
          </a:p>
        </p:txBody>
      </p:sp>
    </p:spTree>
  </p:cSld>
</p:sldLayout>
</file>

<file path=ppt/slideLayouts/slideLayout10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4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4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4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2"/>
          </p:nvPr>
        </p:nvSpPr>
        <p:spPr/>
        <p:txBody>
          <a:bodyPr/>
          <a:p>
            <a:fld id="{A3CB9C89-6793-4962-B5A9-FA177FA03183}" type="slidenum">
              <a:t>&lt;#&gt;</a:t>
            </a:fld>
          </a:p>
        </p:txBody>
      </p:sp>
    </p:spTree>
  </p:cSld>
</p:sldLayout>
</file>

<file path=ppt/slideLayouts/slideLayout10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2"/>
          </p:nvPr>
        </p:nvSpPr>
        <p:spPr/>
        <p:txBody>
          <a:bodyPr/>
          <a:p>
            <a:fld id="{C4995D8D-7560-4EC0-B815-75E1EAEFEC38}" type="slidenum">
              <a:t>&lt;#&gt;</a:t>
            </a:fld>
          </a:p>
        </p:txBody>
      </p:sp>
    </p:spTree>
  </p:cSld>
</p:sldLayout>
</file>

<file path=ppt/slideLayouts/slideLayout10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4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2"/>
          </p:nvPr>
        </p:nvSpPr>
        <p:spPr/>
        <p:txBody>
          <a:bodyPr/>
          <a:p>
            <a:fld id="{8D41E1ED-0185-44A9-AAD8-1E0BA7E99017}" type="slidenum">
              <a:t>&lt;#&gt;</a:t>
            </a:fld>
          </a:p>
        </p:txBody>
      </p:sp>
    </p:spTree>
  </p:cSld>
</p:sldLayout>
</file>

<file path=ppt/slideLayouts/slideLayout10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4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4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4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4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2"/>
          </p:nvPr>
        </p:nvSpPr>
        <p:spPr/>
        <p:txBody>
          <a:bodyPr/>
          <a:p>
            <a:fld id="{76D8B7A2-D284-40A4-BD80-CA2DD4AB8B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
          </p:nvPr>
        </p:nvSpPr>
        <p:spPr/>
        <p:txBody>
          <a:bodyPr/>
          <a:p>
            <a:fld id="{87DCA457-4C97-42B1-93D7-949F0CCC13A5}"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8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EAAC390B-B491-4D3D-A49E-5D3563E1E407}" type="slidenum">
              <a:t>&lt;#&gt;</a:t>
            </a:fld>
          </a:p>
        </p:txBody>
      </p:sp>
    </p:spTree>
  </p:cSld>
</p:sldLayout>
</file>

<file path=ppt/slideLayouts/slideLayout1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5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5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5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5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2"/>
          </p:nvPr>
        </p:nvSpPr>
        <p:spPr/>
        <p:txBody>
          <a:bodyPr/>
          <a:p>
            <a:fld id="{DD974F61-1E8D-4532-9CE8-DBA7E5231315}" type="slidenum">
              <a:t>&lt;#&gt;</a:t>
            </a:fld>
          </a:p>
        </p:txBody>
      </p:sp>
    </p:spTree>
  </p:cSld>
</p:sldLayout>
</file>

<file path=ppt/slideLayouts/slideLayout1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5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5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5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2"/>
          </p:nvPr>
        </p:nvSpPr>
        <p:spPr/>
        <p:txBody>
          <a:bodyPr/>
          <a:p>
            <a:fld id="{3F7C2054-0AEE-4ED9-95AF-CC060809842C}" type="slidenum">
              <a:t>&lt;#&gt;</a:t>
            </a:fld>
          </a:p>
        </p:txBody>
      </p:sp>
    </p:spTree>
  </p:cSld>
</p:sldLayout>
</file>

<file path=ppt/slideLayouts/slideLayout1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5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6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2"/>
          </p:nvPr>
        </p:nvSpPr>
        <p:spPr/>
        <p:txBody>
          <a:bodyPr/>
          <a:p>
            <a:fld id="{EBF0FE83-5F13-44D4-A491-BDBC3B0C9538}" type="slidenum">
              <a:t>&lt;#&gt;</a:t>
            </a:fld>
          </a:p>
        </p:txBody>
      </p:sp>
    </p:spTree>
  </p:cSld>
</p:sldLayout>
</file>

<file path=ppt/slideLayouts/slideLayout1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6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6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6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6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6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2"/>
          </p:nvPr>
        </p:nvSpPr>
        <p:spPr/>
        <p:txBody>
          <a:bodyPr/>
          <a:p>
            <a:fld id="{4E50527C-2F05-4A5C-A873-DA435CBC4C1A}" type="slidenum">
              <a:t>&lt;#&gt;</a:t>
            </a:fld>
          </a:p>
        </p:txBody>
      </p:sp>
    </p:spTree>
  </p:cSld>
</p:sldLayout>
</file>

<file path=ppt/slideLayouts/slideLayout1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6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6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6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7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7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7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2"/>
          </p:nvPr>
        </p:nvSpPr>
        <p:spPr/>
        <p:txBody>
          <a:bodyPr/>
          <a:p>
            <a:fld id="{764C0EE2-5153-4BB7-8329-A76E9BC486D6}" type="slidenum">
              <a:t>&lt;#&gt;</a:t>
            </a:fld>
          </a:p>
        </p:txBody>
      </p:sp>
    </p:spTree>
  </p:cSld>
</p:sldLayout>
</file>

<file path=ppt/slideLayouts/slideLayout1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3"/>
          </p:nvPr>
        </p:nvSpPr>
        <p:spPr/>
        <p:txBody>
          <a:bodyPr/>
          <a:p>
            <a:fld id="{0D134267-EBD1-40C3-B1B1-2A83FF0AD9D6}" type="slidenum">
              <a:t>&lt;#&gt;</a:t>
            </a:fld>
          </a:p>
        </p:txBody>
      </p:sp>
    </p:spTree>
  </p:cSld>
</p:sldLayout>
</file>

<file path=ppt/slideLayouts/slideLayout1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8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3"/>
          </p:nvPr>
        </p:nvSpPr>
        <p:spPr/>
        <p:txBody>
          <a:bodyPr/>
          <a:p>
            <a:fld id="{BCACDFC4-E858-4464-A302-675CFDE4DD9B}" type="slidenum">
              <a:t>&lt;#&gt;</a:t>
            </a:fld>
          </a:p>
        </p:txBody>
      </p:sp>
    </p:spTree>
  </p:cSld>
</p:sldLayout>
</file>

<file path=ppt/slideLayouts/slideLayout1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8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3"/>
          </p:nvPr>
        </p:nvSpPr>
        <p:spPr/>
        <p:txBody>
          <a:bodyPr/>
          <a:p>
            <a:fld id="{2E8980B7-2024-4A2D-A97F-560DF7B045D8}" type="slidenum">
              <a:t>&lt;#&gt;</a:t>
            </a:fld>
          </a:p>
        </p:txBody>
      </p:sp>
    </p:spTree>
  </p:cSld>
</p:sldLayout>
</file>

<file path=ppt/slideLayouts/slideLayout1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8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8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8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3"/>
          </p:nvPr>
        </p:nvSpPr>
        <p:spPr/>
        <p:txBody>
          <a:bodyPr/>
          <a:p>
            <a:fld id="{ED1EA205-DAF6-4CC0-B520-B699BF6A009D}" type="slidenum">
              <a:t>&lt;#&gt;</a:t>
            </a:fld>
          </a:p>
        </p:txBody>
      </p:sp>
    </p:spTree>
  </p:cSld>
</p:sldLayout>
</file>

<file path=ppt/slideLayouts/slideLayout1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3"/>
          </p:nvPr>
        </p:nvSpPr>
        <p:spPr/>
        <p:txBody>
          <a:bodyPr/>
          <a:p>
            <a:fld id="{6390AF95-2054-488C-99E7-C0117550B263}"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0"/>
          </p:nvPr>
        </p:nvSpPr>
        <p:spPr/>
        <p:txBody>
          <a:bodyPr/>
          <a:p>
            <a:fld id="{E354B45D-EE63-4B1E-ACBA-5E15751220AF}" type="slidenum">
              <a:t>&lt;#&gt;</a:t>
            </a:fld>
          </a:p>
        </p:txBody>
      </p:sp>
    </p:spTree>
  </p:cSld>
</p:sldLayout>
</file>

<file path=ppt/slideLayouts/slideLayout1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8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3"/>
          </p:nvPr>
        </p:nvSpPr>
        <p:spPr/>
        <p:txBody>
          <a:bodyPr/>
          <a:p>
            <a:fld id="{2473A763-CA0D-4CA5-BF26-41A361A18936}" type="slidenum">
              <a:t>&lt;#&gt;</a:t>
            </a:fld>
          </a:p>
        </p:txBody>
      </p:sp>
    </p:spTree>
  </p:cSld>
</p:sldLayout>
</file>

<file path=ppt/slideLayouts/slideLayout1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8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9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9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3"/>
          </p:nvPr>
        </p:nvSpPr>
        <p:spPr/>
        <p:txBody>
          <a:bodyPr/>
          <a:p>
            <a:fld id="{F48F00C9-656B-4487-B707-056E28738340}" type="slidenum">
              <a:t>&lt;#&gt;</a:t>
            </a:fld>
          </a:p>
        </p:txBody>
      </p:sp>
    </p:spTree>
  </p:cSld>
</p:sldLayout>
</file>

<file path=ppt/slideLayouts/slideLayout1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9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9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9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3"/>
          </p:nvPr>
        </p:nvSpPr>
        <p:spPr/>
        <p:txBody>
          <a:bodyPr/>
          <a:p>
            <a:fld id="{F9984CA5-BC89-42F2-9159-C50BF1908DF9}" type="slidenum">
              <a:t>&lt;#&gt;</a:t>
            </a:fld>
          </a:p>
        </p:txBody>
      </p:sp>
    </p:spTree>
  </p:cSld>
</p:sldLayout>
</file>

<file path=ppt/slideLayouts/slideLayout1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9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9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9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3"/>
          </p:nvPr>
        </p:nvSpPr>
        <p:spPr/>
        <p:txBody>
          <a:bodyPr/>
          <a:p>
            <a:fld id="{36380B3F-104C-4504-88CD-F2E0BCB94CF7}" type="slidenum">
              <a:t>&lt;#&gt;</a:t>
            </a:fld>
          </a:p>
        </p:txBody>
      </p:sp>
    </p:spTree>
  </p:cSld>
</p:sldLayout>
</file>

<file path=ppt/slideLayouts/slideLayout1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0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0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3"/>
          </p:nvPr>
        </p:nvSpPr>
        <p:spPr/>
        <p:txBody>
          <a:bodyPr/>
          <a:p>
            <a:fld id="{AE01C3FE-2CF4-4D57-AFCD-D644D3CB1B1B}" type="slidenum">
              <a:t>&lt;#&gt;</a:t>
            </a:fld>
          </a:p>
        </p:txBody>
      </p:sp>
    </p:spTree>
  </p:cSld>
</p:sldLayout>
</file>

<file path=ppt/slideLayouts/slideLayout1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0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0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0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0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0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3"/>
          </p:nvPr>
        </p:nvSpPr>
        <p:spPr/>
        <p:txBody>
          <a:bodyPr/>
          <a:p>
            <a:fld id="{124DCA19-5411-4A27-A9BA-ED93FE799F84}" type="slidenum">
              <a:t>&lt;#&gt;</a:t>
            </a:fld>
          </a:p>
        </p:txBody>
      </p:sp>
    </p:spTree>
  </p:cSld>
</p:sldLayout>
</file>

<file path=ppt/slideLayouts/slideLayout1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0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1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1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1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1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1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3"/>
          </p:nvPr>
        </p:nvSpPr>
        <p:spPr/>
        <p:txBody>
          <a:bodyPr/>
          <a:p>
            <a:fld id="{06D03833-D112-4290-BD55-ACAB5A9B3463}" type="slidenum">
              <a:t>&lt;#&gt;</a:t>
            </a:fld>
          </a:p>
        </p:txBody>
      </p:sp>
    </p:spTree>
  </p:cSld>
</p:sldLayout>
</file>

<file path=ppt/slideLayouts/slideLayout1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4"/>
          </p:nvPr>
        </p:nvSpPr>
        <p:spPr/>
        <p:txBody>
          <a:bodyPr/>
          <a:p>
            <a:fld id="{AEFCBB4B-4F17-46DE-8734-D7C0034ADC04}" type="slidenum">
              <a:t>&lt;#&gt;</a:t>
            </a:fld>
          </a:p>
        </p:txBody>
      </p:sp>
    </p:spTree>
  </p:cSld>
</p:sldLayout>
</file>

<file path=ppt/slideLayouts/slideLayout1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2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4"/>
          </p:nvPr>
        </p:nvSpPr>
        <p:spPr/>
        <p:txBody>
          <a:bodyPr/>
          <a:p>
            <a:fld id="{BF534365-EE81-4520-8A08-C471E767E804}" type="slidenum">
              <a:t>&lt;#&gt;</a:t>
            </a:fld>
          </a:p>
        </p:txBody>
      </p:sp>
    </p:spTree>
  </p:cSld>
</p:sldLayout>
</file>

<file path=ppt/slideLayouts/slideLayout1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2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4"/>
          </p:nvPr>
        </p:nvSpPr>
        <p:spPr/>
        <p:txBody>
          <a:bodyPr/>
          <a:p>
            <a:fld id="{316C7482-5CB4-4549-9B7B-98930A3F99D7}"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0"/>
          </p:nvPr>
        </p:nvSpPr>
        <p:spPr/>
        <p:txBody>
          <a:bodyPr/>
          <a:p>
            <a:fld id="{D48C3E3E-1C33-482C-9B0D-BBF674EDD887}" type="slidenum">
              <a:t>&lt;#&gt;</a:t>
            </a:fld>
          </a:p>
        </p:txBody>
      </p:sp>
    </p:spTree>
  </p:cSld>
</p:sldLayout>
</file>

<file path=ppt/slideLayouts/slideLayout1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2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3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3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4"/>
          </p:nvPr>
        </p:nvSpPr>
        <p:spPr/>
        <p:txBody>
          <a:bodyPr/>
          <a:p>
            <a:fld id="{AC0FA8D2-5530-4435-9244-6B9F693BAD17}" type="slidenum">
              <a:t>&lt;#&gt;</a:t>
            </a:fld>
          </a:p>
        </p:txBody>
      </p:sp>
    </p:spTree>
  </p:cSld>
</p:sldLayout>
</file>

<file path=ppt/slideLayouts/slideLayout1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4"/>
          </p:nvPr>
        </p:nvSpPr>
        <p:spPr/>
        <p:txBody>
          <a:bodyPr/>
          <a:p>
            <a:fld id="{9BD7E290-7761-4A4F-9AAD-CDF7E787A603}" type="slidenum">
              <a:t>&lt;#&gt;</a:t>
            </a:fld>
          </a:p>
        </p:txBody>
      </p:sp>
    </p:spTree>
  </p:cSld>
</p:sldLayout>
</file>

<file path=ppt/slideLayouts/slideLayout1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3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4"/>
          </p:nvPr>
        </p:nvSpPr>
        <p:spPr/>
        <p:txBody>
          <a:bodyPr/>
          <a:p>
            <a:fld id="{54C7BDBC-FFBE-480D-8157-B72890E5F823}" type="slidenum">
              <a:t>&lt;#&gt;</a:t>
            </a:fld>
          </a:p>
        </p:txBody>
      </p:sp>
    </p:spTree>
  </p:cSld>
</p:sldLayout>
</file>

<file path=ppt/slideLayouts/slideLayout1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3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3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3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3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4"/>
          </p:nvPr>
        </p:nvSpPr>
        <p:spPr/>
        <p:txBody>
          <a:bodyPr/>
          <a:p>
            <a:fld id="{FC8BFE53-CEC6-43F4-B2FD-170D6C035793}" type="slidenum">
              <a:t>&lt;#&gt;</a:t>
            </a:fld>
          </a:p>
        </p:txBody>
      </p:sp>
    </p:spTree>
  </p:cSld>
</p:sldLayout>
</file>

<file path=ppt/slideLayouts/slideLayout1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3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3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4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4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4"/>
          </p:nvPr>
        </p:nvSpPr>
        <p:spPr/>
        <p:txBody>
          <a:bodyPr/>
          <a:p>
            <a:fld id="{FEB0A5AF-079C-46F7-9DE6-319C15BBCEFE}" type="slidenum">
              <a:t>&lt;#&gt;</a:t>
            </a:fld>
          </a:p>
        </p:txBody>
      </p:sp>
    </p:spTree>
  </p:cSld>
</p:sldLayout>
</file>

<file path=ppt/slideLayouts/slideLayout1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4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4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4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4"/>
          </p:nvPr>
        </p:nvSpPr>
        <p:spPr/>
        <p:txBody>
          <a:bodyPr/>
          <a:p>
            <a:fld id="{23DE91F3-E92C-433F-A697-A5049E6C9160}" type="slidenum">
              <a:t>&lt;#&gt;</a:t>
            </a:fld>
          </a:p>
        </p:txBody>
      </p:sp>
    </p:spTree>
  </p:cSld>
</p:sldLayout>
</file>

<file path=ppt/slideLayouts/slideLayout1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4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4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4"/>
          </p:nvPr>
        </p:nvSpPr>
        <p:spPr/>
        <p:txBody>
          <a:bodyPr/>
          <a:p>
            <a:fld id="{570F180F-417C-4B59-B376-22BC41B73F78}" type="slidenum">
              <a:t>&lt;#&gt;</a:t>
            </a:fld>
          </a:p>
        </p:txBody>
      </p:sp>
    </p:spTree>
  </p:cSld>
</p:sldLayout>
</file>

<file path=ppt/slideLayouts/slideLayout1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5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5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5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5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4"/>
          </p:nvPr>
        </p:nvSpPr>
        <p:spPr/>
        <p:txBody>
          <a:bodyPr/>
          <a:p>
            <a:fld id="{134BC079-B800-40B8-9700-00D164492770}" type="slidenum">
              <a:t>&lt;#&gt;</a:t>
            </a:fld>
          </a:p>
        </p:txBody>
      </p:sp>
    </p:spTree>
  </p:cSld>
</p:sldLayout>
</file>

<file path=ppt/slideLayouts/slideLayout1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5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5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5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5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5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6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4"/>
          </p:nvPr>
        </p:nvSpPr>
        <p:spPr/>
        <p:txBody>
          <a:bodyPr/>
          <a:p>
            <a:fld id="{DC180B8B-3B9C-47DB-8EE2-670E7076CCA5}" type="slidenum">
              <a:t>&lt;#&gt;</a:t>
            </a:fld>
          </a:p>
        </p:txBody>
      </p:sp>
    </p:spTree>
  </p:cSld>
</p:sldLayout>
</file>

<file path=ppt/slideLayouts/slideLayout1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5"/>
          </p:nvPr>
        </p:nvSpPr>
        <p:spPr/>
        <p:txBody>
          <a:bodyPr/>
          <a:p>
            <a:fld id="{84EE45A1-F68D-4917-BD08-80E2307436CB}"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0"/>
          </p:nvPr>
        </p:nvSpPr>
        <p:spPr/>
        <p:txBody>
          <a:bodyPr/>
          <a:p>
            <a:fld id="{5BB60DE5-46EE-45D2-B978-48A4CDEC2383}" type="slidenum">
              <a:t>&lt;#&gt;</a:t>
            </a:fld>
          </a:p>
        </p:txBody>
      </p:sp>
    </p:spTree>
  </p:cSld>
</p:sldLayout>
</file>

<file path=ppt/slideLayouts/slideLayout1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6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5"/>
          </p:nvPr>
        </p:nvSpPr>
        <p:spPr/>
        <p:txBody>
          <a:bodyPr/>
          <a:p>
            <a:fld id="{1866A024-8844-4D20-A405-8CDE66D0ECDC}" type="slidenum">
              <a:t>&lt;#&gt;</a:t>
            </a:fld>
          </a:p>
        </p:txBody>
      </p:sp>
    </p:spTree>
  </p:cSld>
</p:sldLayout>
</file>

<file path=ppt/slideLayouts/slideLayout1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7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5"/>
          </p:nvPr>
        </p:nvSpPr>
        <p:spPr/>
        <p:txBody>
          <a:bodyPr/>
          <a:p>
            <a:fld id="{394E29E7-9AD1-4BDB-BCC9-E562472EF2CA}" type="slidenum">
              <a:t>&lt;#&gt;</a:t>
            </a:fld>
          </a:p>
        </p:txBody>
      </p:sp>
    </p:spTree>
  </p:cSld>
</p:sldLayout>
</file>

<file path=ppt/slideLayouts/slideLayout1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7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7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5"/>
          </p:nvPr>
        </p:nvSpPr>
        <p:spPr/>
        <p:txBody>
          <a:bodyPr/>
          <a:p>
            <a:fld id="{26908CB8-9F46-4CC5-BD5A-CD9D93E7003A}" type="slidenum">
              <a:t>&lt;#&gt;</a:t>
            </a:fld>
          </a:p>
        </p:txBody>
      </p:sp>
    </p:spTree>
  </p:cSld>
</p:sldLayout>
</file>

<file path=ppt/slideLayouts/slideLayout1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5"/>
          </p:nvPr>
        </p:nvSpPr>
        <p:spPr/>
        <p:txBody>
          <a:bodyPr/>
          <a:p>
            <a:fld id="{F173159F-AEF1-4756-86A5-AFC73A986CD7}" type="slidenum">
              <a:t>&lt;#&gt;</a:t>
            </a:fld>
          </a:p>
        </p:txBody>
      </p:sp>
    </p:spTree>
  </p:cSld>
</p:sldLayout>
</file>

<file path=ppt/slideLayouts/slideLayout1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7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5"/>
          </p:nvPr>
        </p:nvSpPr>
        <p:spPr/>
        <p:txBody>
          <a:bodyPr/>
          <a:p>
            <a:fld id="{4ABCA4D9-B1F4-41FF-8D58-73C157F8FA21}" type="slidenum">
              <a:t>&lt;#&gt;</a:t>
            </a:fld>
          </a:p>
        </p:txBody>
      </p:sp>
    </p:spTree>
  </p:cSld>
</p:sldLayout>
</file>

<file path=ppt/slideLayouts/slideLayout1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7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7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7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7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5"/>
          </p:nvPr>
        </p:nvSpPr>
        <p:spPr/>
        <p:txBody>
          <a:bodyPr/>
          <a:p>
            <a:fld id="{BE4BA911-DBFD-4633-A948-711614DAE151}" type="slidenum">
              <a:t>&lt;#&gt;</a:t>
            </a:fld>
          </a:p>
        </p:txBody>
      </p:sp>
    </p:spTree>
  </p:cSld>
</p:sldLayout>
</file>

<file path=ppt/slideLayouts/slideLayout1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8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8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8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8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5"/>
          </p:nvPr>
        </p:nvSpPr>
        <p:spPr/>
        <p:txBody>
          <a:bodyPr/>
          <a:p>
            <a:fld id="{65760020-5948-4D06-9AE0-2A23EF0B2517}" type="slidenum">
              <a:t>&lt;#&gt;</a:t>
            </a:fld>
          </a:p>
        </p:txBody>
      </p:sp>
    </p:spTree>
  </p:cSld>
</p:sldLayout>
</file>

<file path=ppt/slideLayouts/slideLayout1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8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8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8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5"/>
          </p:nvPr>
        </p:nvSpPr>
        <p:spPr/>
        <p:txBody>
          <a:bodyPr/>
          <a:p>
            <a:fld id="{25A11B96-F973-4826-8A72-9302D53CB5F2}" type="slidenum">
              <a:t>&lt;#&gt;</a:t>
            </a:fld>
          </a:p>
        </p:txBody>
      </p:sp>
    </p:spTree>
  </p:cSld>
</p:sldLayout>
</file>

<file path=ppt/slideLayouts/slideLayout1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8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9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5"/>
          </p:nvPr>
        </p:nvSpPr>
        <p:spPr/>
        <p:txBody>
          <a:bodyPr/>
          <a:p>
            <a:fld id="{A7ACFB13-819A-4950-B41B-D201CDE50324}" type="slidenum">
              <a:t>&lt;#&gt;</a:t>
            </a:fld>
          </a:p>
        </p:txBody>
      </p:sp>
    </p:spTree>
  </p:cSld>
</p:sldLayout>
</file>

<file path=ppt/slideLayouts/slideLayout1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9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9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9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9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9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5"/>
          </p:nvPr>
        </p:nvSpPr>
        <p:spPr/>
        <p:txBody>
          <a:bodyPr/>
          <a:p>
            <a:fld id="{84637E0C-7645-49EB-AD04-C2401EA0AB2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9484390D-7D9C-4337-B611-569851F2A54A}" type="slidenum">
              <a:t>&lt;#&gt;</a:t>
            </a:fld>
          </a:p>
        </p:txBody>
      </p:sp>
    </p:spTree>
  </p:cSld>
</p:sldLayout>
</file>

<file path=ppt/slideLayouts/slideLayout1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9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9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9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0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0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0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5"/>
          </p:nvPr>
        </p:nvSpPr>
        <p:spPr/>
        <p:txBody>
          <a:bodyPr/>
          <a:p>
            <a:fld id="{521E46E9-0DB4-46AF-82BC-ACF7FF223316}" type="slidenum">
              <a:t>&lt;#&gt;</a:t>
            </a:fld>
          </a:p>
        </p:txBody>
      </p:sp>
    </p:spTree>
  </p:cSld>
</p:sldLayout>
</file>

<file path=ppt/slideLayouts/slideLayout1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6"/>
          </p:nvPr>
        </p:nvSpPr>
        <p:spPr/>
        <p:txBody>
          <a:bodyPr/>
          <a:p>
            <a:fld id="{32B2991E-F40F-4C03-812A-82598ED56BFE}" type="slidenum">
              <a:t>&lt;#&gt;</a:t>
            </a:fld>
          </a:p>
        </p:txBody>
      </p:sp>
    </p:spTree>
  </p:cSld>
</p:sldLayout>
</file>

<file path=ppt/slideLayouts/slideLayout1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1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6"/>
          </p:nvPr>
        </p:nvSpPr>
        <p:spPr/>
        <p:txBody>
          <a:bodyPr/>
          <a:p>
            <a:fld id="{26E0DFCC-09D0-4C76-963B-86288F7AB22F}" type="slidenum">
              <a:t>&lt;#&gt;</a:t>
            </a:fld>
          </a:p>
        </p:txBody>
      </p:sp>
    </p:spTree>
  </p:cSld>
</p:sldLayout>
</file>

<file path=ppt/slideLayouts/slideLayout1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1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6"/>
          </p:nvPr>
        </p:nvSpPr>
        <p:spPr/>
        <p:txBody>
          <a:bodyPr/>
          <a:p>
            <a:fld id="{BE542B6E-B43A-4A7C-B07C-61C259833B0A}" type="slidenum">
              <a:t>&lt;#&gt;</a:t>
            </a:fld>
          </a:p>
        </p:txBody>
      </p:sp>
    </p:spTree>
  </p:cSld>
</p:sldLayout>
</file>

<file path=ppt/slideLayouts/slideLayout1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1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1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6"/>
          </p:nvPr>
        </p:nvSpPr>
        <p:spPr/>
        <p:txBody>
          <a:bodyPr/>
          <a:p>
            <a:fld id="{7AFAB4CC-E7CF-4957-9973-9AB356903D17}" type="slidenum">
              <a:t>&lt;#&gt;</a:t>
            </a:fld>
          </a:p>
        </p:txBody>
      </p:sp>
    </p:spTree>
  </p:cSld>
</p:sldLayout>
</file>

<file path=ppt/slideLayouts/slideLayout1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6"/>
          </p:nvPr>
        </p:nvSpPr>
        <p:spPr/>
        <p:txBody>
          <a:bodyPr/>
          <a:p>
            <a:fld id="{B756830F-B0A0-431B-BDEF-8B2229FA9166}" type="slidenum">
              <a:t>&lt;#&gt;</a:t>
            </a:fld>
          </a:p>
        </p:txBody>
      </p:sp>
    </p:spTree>
  </p:cSld>
</p:sldLayout>
</file>

<file path=ppt/slideLayouts/slideLayout1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6"/>
          </p:nvPr>
        </p:nvSpPr>
        <p:spPr/>
        <p:txBody>
          <a:bodyPr/>
          <a:p>
            <a:fld id="{1F6E5885-67E6-4D4C-8A88-A1ABC6D41BBF}" type="slidenum">
              <a:t>&lt;#&gt;</a:t>
            </a:fld>
          </a:p>
        </p:txBody>
      </p:sp>
    </p:spTree>
  </p:cSld>
</p:sldLayout>
</file>

<file path=ppt/slideLayouts/slideLayout1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1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2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2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6"/>
          </p:nvPr>
        </p:nvSpPr>
        <p:spPr/>
        <p:txBody>
          <a:bodyPr/>
          <a:p>
            <a:fld id="{8B1F3722-3B78-4095-897C-A14D36445F0E}" type="slidenum">
              <a:t>&lt;#&gt;</a:t>
            </a:fld>
          </a:p>
        </p:txBody>
      </p:sp>
    </p:spTree>
  </p:cSld>
</p:sldLayout>
</file>

<file path=ppt/slideLayouts/slideLayout1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2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2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2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6"/>
          </p:nvPr>
        </p:nvSpPr>
        <p:spPr/>
        <p:txBody>
          <a:bodyPr/>
          <a:p>
            <a:fld id="{816E6B99-D144-4180-950B-671E45F89AE5}" type="slidenum">
              <a:t>&lt;#&gt;</a:t>
            </a:fld>
          </a:p>
        </p:txBody>
      </p:sp>
    </p:spTree>
  </p:cSld>
</p:sldLayout>
</file>

<file path=ppt/slideLayouts/slideLayout1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2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2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2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6"/>
          </p:nvPr>
        </p:nvSpPr>
        <p:spPr/>
        <p:txBody>
          <a:bodyPr/>
          <a:p>
            <a:fld id="{C49CFC46-AAF8-4065-89B9-EFA6A32714B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9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0"/>
          </p:nvPr>
        </p:nvSpPr>
        <p:spPr/>
        <p:txBody>
          <a:bodyPr/>
          <a:p>
            <a:fld id="{3ED7B4AD-7FB9-449A-9491-F9DEDBC2DF7B}" type="slidenum">
              <a:t>&lt;#&gt;</a:t>
            </a:fld>
          </a:p>
        </p:txBody>
      </p:sp>
    </p:spTree>
  </p:cSld>
</p:sldLayout>
</file>

<file path=ppt/slideLayouts/slideLayout1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3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3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3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6"/>
          </p:nvPr>
        </p:nvSpPr>
        <p:spPr/>
        <p:txBody>
          <a:bodyPr/>
          <a:p>
            <a:fld id="{0017B712-FB0C-4C22-AC64-021700112DAC}" type="slidenum">
              <a:t>&lt;#&gt;</a:t>
            </a:fld>
          </a:p>
        </p:txBody>
      </p:sp>
    </p:spTree>
  </p:cSld>
</p:sldLayout>
</file>

<file path=ppt/slideLayouts/slideLayout1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3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3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3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3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6"/>
          </p:nvPr>
        </p:nvSpPr>
        <p:spPr/>
        <p:txBody>
          <a:bodyPr/>
          <a:p>
            <a:fld id="{D9F2E35D-9038-4A24-9DC8-5AB6D081496B}" type="slidenum">
              <a:t>&lt;#&gt;</a:t>
            </a:fld>
          </a:p>
        </p:txBody>
      </p:sp>
    </p:spTree>
  </p:cSld>
</p:sldLayout>
</file>

<file path=ppt/slideLayouts/slideLayout1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3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3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4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4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4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4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4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6"/>
          </p:nvPr>
        </p:nvSpPr>
        <p:spPr/>
        <p:txBody>
          <a:bodyPr/>
          <a:p>
            <a:fld id="{66DD23AD-08B1-4727-B85B-52610DE145C0}" type="slidenum">
              <a:t>&lt;#&gt;</a:t>
            </a:fld>
          </a:p>
        </p:txBody>
      </p:sp>
    </p:spTree>
  </p:cSld>
</p:sldLayout>
</file>

<file path=ppt/slideLayouts/slideLayout1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7"/>
          </p:nvPr>
        </p:nvSpPr>
        <p:spPr/>
        <p:txBody>
          <a:bodyPr/>
          <a:p>
            <a:fld id="{D078CD07-C0FB-4F8D-B69D-2DCB91137935}" type="slidenum">
              <a:t>&lt;#&gt;</a:t>
            </a:fld>
          </a:p>
        </p:txBody>
      </p:sp>
    </p:spTree>
  </p:cSld>
</p:sldLayout>
</file>

<file path=ppt/slideLayouts/slideLayout1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5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7"/>
          </p:nvPr>
        </p:nvSpPr>
        <p:spPr/>
        <p:txBody>
          <a:bodyPr/>
          <a:p>
            <a:fld id="{D3354BC8-2332-4809-A06A-DDF01E046D75}" type="slidenum">
              <a:t>&lt;#&gt;</a:t>
            </a:fld>
          </a:p>
        </p:txBody>
      </p:sp>
    </p:spTree>
  </p:cSld>
</p:sldLayout>
</file>

<file path=ppt/slideLayouts/slideLayout1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6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7"/>
          </p:nvPr>
        </p:nvSpPr>
        <p:spPr/>
        <p:txBody>
          <a:bodyPr/>
          <a:p>
            <a:fld id="{C0ADE0F7-9737-4273-80CC-C0FF5D36535A}" type="slidenum">
              <a:t>&lt;#&gt;</a:t>
            </a:fld>
          </a:p>
        </p:txBody>
      </p:sp>
    </p:spTree>
  </p:cSld>
</p:sldLayout>
</file>

<file path=ppt/slideLayouts/slideLayout1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6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6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6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7"/>
          </p:nvPr>
        </p:nvSpPr>
        <p:spPr/>
        <p:txBody>
          <a:bodyPr/>
          <a:p>
            <a:fld id="{F28646FF-A5A0-4223-8384-25644A1AD467}" type="slidenum">
              <a:t>&lt;#&gt;</a:t>
            </a:fld>
          </a:p>
        </p:txBody>
      </p:sp>
    </p:spTree>
  </p:cSld>
</p:sldLayout>
</file>

<file path=ppt/slideLayouts/slideLayout1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97"/>
          </p:nvPr>
        </p:nvSpPr>
        <p:spPr/>
        <p:txBody>
          <a:bodyPr/>
          <a:p>
            <a:fld id="{9AAA654A-FA0A-46F2-8188-0DDE3C350A51}" type="slidenum">
              <a:t>&lt;#&gt;</a:t>
            </a:fld>
          </a:p>
        </p:txBody>
      </p:sp>
    </p:spTree>
  </p:cSld>
</p:sldLayout>
</file>

<file path=ppt/slideLayouts/slideLayout1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6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97"/>
          </p:nvPr>
        </p:nvSpPr>
        <p:spPr/>
        <p:txBody>
          <a:bodyPr/>
          <a:p>
            <a:fld id="{F4D1AD5A-B859-45E4-A6CB-E0CBBA5C0C51}" type="slidenum">
              <a:t>&lt;#&gt;</a:t>
            </a:fld>
          </a:p>
        </p:txBody>
      </p:sp>
    </p:spTree>
  </p:cSld>
</p:sldLayout>
</file>

<file path=ppt/slideLayouts/slideLayout1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6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6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6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7"/>
          </p:nvPr>
        </p:nvSpPr>
        <p:spPr/>
        <p:txBody>
          <a:bodyPr/>
          <a:p>
            <a:fld id="{ADEB037D-1F01-4382-9B0A-CA4AD2CEA12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0"/>
          </p:nvPr>
        </p:nvSpPr>
        <p:spPr/>
        <p:txBody>
          <a:bodyPr/>
          <a:p>
            <a:fld id="{9A69353B-49BB-46E4-AD14-3CF3B9C77838}" type="slidenum">
              <a:t>&lt;#&gt;</a:t>
            </a:fld>
          </a:p>
        </p:txBody>
      </p:sp>
    </p:spTree>
  </p:cSld>
</p:sldLayout>
</file>

<file path=ppt/slideLayouts/slideLayout1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7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7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7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7"/>
          </p:nvPr>
        </p:nvSpPr>
        <p:spPr/>
        <p:txBody>
          <a:bodyPr/>
          <a:p>
            <a:fld id="{F61F2564-F6E6-47BB-A188-CE9D17C8B037}" type="slidenum">
              <a:t>&lt;#&gt;</a:t>
            </a:fld>
          </a:p>
        </p:txBody>
      </p:sp>
    </p:spTree>
  </p:cSld>
</p:sldLayout>
</file>

<file path=ppt/slideLayouts/slideLayout1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7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7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7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97"/>
          </p:nvPr>
        </p:nvSpPr>
        <p:spPr/>
        <p:txBody>
          <a:bodyPr/>
          <a:p>
            <a:fld id="{E33B7201-0970-4C46-9C20-BC71AE25AA3E}" type="slidenum">
              <a:t>&lt;#&gt;</a:t>
            </a:fld>
          </a:p>
        </p:txBody>
      </p:sp>
    </p:spTree>
  </p:cSld>
</p:sldLayout>
</file>

<file path=ppt/slideLayouts/slideLayout1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7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7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8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97"/>
          </p:nvPr>
        </p:nvSpPr>
        <p:spPr/>
        <p:txBody>
          <a:bodyPr/>
          <a:p>
            <a:fld id="{F5807B42-65F4-44C0-BDD6-E14255DAFE30}" type="slidenum">
              <a:t>&lt;#&gt;</a:t>
            </a:fld>
          </a:p>
        </p:txBody>
      </p:sp>
    </p:spTree>
  </p:cSld>
</p:sldLayout>
</file>

<file path=ppt/slideLayouts/slideLayout1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8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8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8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8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97"/>
          </p:nvPr>
        </p:nvSpPr>
        <p:spPr/>
        <p:txBody>
          <a:bodyPr/>
          <a:p>
            <a:fld id="{49BACA45-314C-45BB-B37A-70CED1B8C365}" type="slidenum">
              <a:t>&lt;#&gt;</a:t>
            </a:fld>
          </a:p>
        </p:txBody>
      </p:sp>
    </p:spTree>
  </p:cSld>
</p:sldLayout>
</file>

<file path=ppt/slideLayouts/slideLayout1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8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8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8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9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9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9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97"/>
          </p:nvPr>
        </p:nvSpPr>
        <p:spPr/>
        <p:txBody>
          <a:bodyPr/>
          <a:p>
            <a:fld id="{79E5E8B1-967D-41C7-9707-9F8CDBD04AF1}"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0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0"/>
          </p:nvPr>
        </p:nvSpPr>
        <p:spPr/>
        <p:txBody>
          <a:bodyPr/>
          <a:p>
            <a:fld id="{CC211AE8-B1BC-43A4-AC68-E19382C30907}"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0"/>
          </p:nvPr>
        </p:nvSpPr>
        <p:spPr/>
        <p:txBody>
          <a:bodyPr/>
          <a:p>
            <a:fld id="{C6688882-519F-4CA1-A4CD-8D4FB3C6FDB5}"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0"/>
          </p:nvPr>
        </p:nvSpPr>
        <p:spPr/>
        <p:txBody>
          <a:bodyPr/>
          <a:p>
            <a:fld id="{42FDA9D6-907D-4ADC-95D9-EFA3AB291BF0}"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
          </p:nvPr>
        </p:nvSpPr>
        <p:spPr/>
        <p:txBody>
          <a:bodyPr/>
          <a:p>
            <a:fld id="{BACD65CA-D1C0-404D-B8F8-25857DC9A09B}"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1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1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2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2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2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2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0"/>
          </p:nvPr>
        </p:nvSpPr>
        <p:spPr/>
        <p:txBody>
          <a:bodyPr/>
          <a:p>
            <a:fld id="{813CB7E1-A1FD-4814-BC69-942CD6B0EF77}"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1"/>
          </p:nvPr>
        </p:nvSpPr>
        <p:spPr/>
        <p:txBody>
          <a:bodyPr/>
          <a:p>
            <a:fld id="{B1EBD312-18E2-48AD-BFAC-65423BD0B3FD}"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3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1"/>
          </p:nvPr>
        </p:nvSpPr>
        <p:spPr/>
        <p:txBody>
          <a:bodyPr/>
          <a:p>
            <a:fld id="{2BB17067-B106-4D1D-B909-F71FCAB4918C}"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3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1"/>
          </p:nvPr>
        </p:nvSpPr>
        <p:spPr/>
        <p:txBody>
          <a:bodyPr/>
          <a:p>
            <a:fld id="{12AD6313-1155-484F-892C-C493786AA623}"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3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3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1"/>
          </p:nvPr>
        </p:nvSpPr>
        <p:spPr/>
        <p:txBody>
          <a:bodyPr/>
          <a:p>
            <a:fld id="{550CEEB7-945A-439F-82D7-15A47C40C166}"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1"/>
          </p:nvPr>
        </p:nvSpPr>
        <p:spPr/>
        <p:txBody>
          <a:bodyPr/>
          <a:p>
            <a:fld id="{9687276C-A605-4249-849E-E094DCD3A570}"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1"/>
          </p:nvPr>
        </p:nvSpPr>
        <p:spPr/>
        <p:txBody>
          <a:bodyPr/>
          <a:p>
            <a:fld id="{2F9DDCB0-27A7-4E7D-A823-89AA6DBADD10}"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4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4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4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1"/>
          </p:nvPr>
        </p:nvSpPr>
        <p:spPr/>
        <p:txBody>
          <a:bodyPr/>
          <a:p>
            <a:fld id="{236A0000-94FA-45A6-99A7-AD739B50E0CB}"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4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4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4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1"/>
          </p:nvPr>
        </p:nvSpPr>
        <p:spPr/>
        <p:txBody>
          <a:bodyPr/>
          <a:p>
            <a:fld id="{3F3D9D34-163A-46F5-A386-CF514D00FFDB}"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5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5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5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1"/>
          </p:nvPr>
        </p:nvSpPr>
        <p:spPr/>
        <p:txBody>
          <a:bodyPr/>
          <a:p>
            <a:fld id="{E788FA66-DDF9-4BD9-92C1-7315C83264D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0A4DEC4-7D64-492A-BDA9-4828B598592C}"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5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5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1"/>
          </p:nvPr>
        </p:nvSpPr>
        <p:spPr/>
        <p:txBody>
          <a:bodyPr/>
          <a:p>
            <a:fld id="{FA3FCAC5-376D-46BC-9516-EE490F807D87}"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5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5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5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6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1"/>
          </p:nvPr>
        </p:nvSpPr>
        <p:spPr/>
        <p:txBody>
          <a:bodyPr/>
          <a:p>
            <a:fld id="{F5AE3E00-C105-42F3-B0BD-FA660EA6EE26}"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6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6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6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6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6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6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1"/>
          </p:nvPr>
        </p:nvSpPr>
        <p:spPr/>
        <p:txBody>
          <a:bodyPr/>
          <a:p>
            <a:fld id="{98CEF98D-02EB-4F95-B50D-F6D53F3600AF}"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56934054-005F-44C8-A642-946257C68DD8}"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7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0808838D-0BAC-4CFF-895E-5DA876E92E9A}"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7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2"/>
          </p:nvPr>
        </p:nvSpPr>
        <p:spPr/>
        <p:txBody>
          <a:bodyPr/>
          <a:p>
            <a:fld id="{2BDC022B-1C61-49F4-B82E-40DFDC09D02E}"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8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8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2"/>
          </p:nvPr>
        </p:nvSpPr>
        <p:spPr/>
        <p:txBody>
          <a:bodyPr/>
          <a:p>
            <a:fld id="{D4318030-FAB3-48B1-B369-DC889BE3B35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2"/>
          </p:nvPr>
        </p:nvSpPr>
        <p:spPr/>
        <p:txBody>
          <a:bodyPr/>
          <a:p>
            <a:fld id="{5AE3E32D-ECB1-4D24-B52A-2CD03C1DE5D2}"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7B600058-0F16-41FD-B167-796A82DD909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8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8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8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2"/>
          </p:nvPr>
        </p:nvSpPr>
        <p:spPr/>
        <p:txBody>
          <a:bodyPr/>
          <a:p>
            <a:fld id="{E582D9AD-2A85-46B2-BC9D-F0C4E1662EC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4A261346-FB88-4F3B-9A19-BA4750605BE5}"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8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9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9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2"/>
          </p:nvPr>
        </p:nvSpPr>
        <p:spPr/>
        <p:txBody>
          <a:bodyPr/>
          <a:p>
            <a:fld id="{EDB12245-69D8-434A-9636-4380FEB1FD12}"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9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9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9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2"/>
          </p:nvPr>
        </p:nvSpPr>
        <p:spPr/>
        <p:txBody>
          <a:bodyPr/>
          <a:p>
            <a:fld id="{3A6C6C7E-0A3F-4D93-AA2F-98CE33027ADC}"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49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9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2"/>
          </p:nvPr>
        </p:nvSpPr>
        <p:spPr/>
        <p:txBody>
          <a:bodyPr/>
          <a:p>
            <a:fld id="{455AE506-FC70-4DF5-9ABC-D8D456C69613}"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0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0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0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0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2"/>
          </p:nvPr>
        </p:nvSpPr>
        <p:spPr/>
        <p:txBody>
          <a:bodyPr/>
          <a:p>
            <a:fld id="{30D46767-7110-4B4C-B482-EE6D33D8637E}"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0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0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0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0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0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1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2"/>
          </p:nvPr>
        </p:nvSpPr>
        <p:spPr/>
        <p:txBody>
          <a:bodyPr/>
          <a:p>
            <a:fld id="{E53B323C-27B7-45FD-9B6B-2BD32A17403B}"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3"/>
          </p:nvPr>
        </p:nvSpPr>
        <p:spPr/>
        <p:txBody>
          <a:bodyPr/>
          <a:p>
            <a:fld id="{B6A5EA39-40D9-4D16-8D80-78D843B5515C}"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1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3"/>
          </p:nvPr>
        </p:nvSpPr>
        <p:spPr/>
        <p:txBody>
          <a:bodyPr/>
          <a:p>
            <a:fld id="{42F9BFB1-6321-4F5E-9B93-9CE020A3D587}"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2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3"/>
          </p:nvPr>
        </p:nvSpPr>
        <p:spPr/>
        <p:txBody>
          <a:bodyPr/>
          <a:p>
            <a:fld id="{DA55C48F-3ADC-4398-AEF1-F5029829F518}"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2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2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3"/>
          </p:nvPr>
        </p:nvSpPr>
        <p:spPr/>
        <p:txBody>
          <a:bodyPr/>
          <a:p>
            <a:fld id="{C39C48EF-4DA5-4573-BBAF-BA672A1E69F4}"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3"/>
          </p:nvPr>
        </p:nvSpPr>
        <p:spPr/>
        <p:txBody>
          <a:bodyPr/>
          <a:p>
            <a:fld id="{B8259FED-651C-4615-A18F-2F818818C87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
          </p:nvPr>
        </p:nvSpPr>
        <p:spPr/>
        <p:txBody>
          <a:bodyPr/>
          <a:p>
            <a:fld id="{61B1C44C-2F3F-44A0-9E16-9E2A22685CD7}"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3"/>
          </p:nvPr>
        </p:nvSpPr>
        <p:spPr/>
        <p:txBody>
          <a:bodyPr/>
          <a:p>
            <a:fld id="{D44292E1-1503-4B22-A8C3-F6E142CC9739}"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2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2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3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3"/>
          </p:nvPr>
        </p:nvSpPr>
        <p:spPr/>
        <p:txBody>
          <a:bodyPr/>
          <a:p>
            <a:fld id="{E60E96CB-5E7F-4BF8-AEDE-2535192F2451}"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3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3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3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3"/>
          </p:nvPr>
        </p:nvSpPr>
        <p:spPr/>
        <p:txBody>
          <a:bodyPr/>
          <a:p>
            <a:fld id="{4E8DCD6A-E17B-4841-B396-C1115E1E9D79}"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3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3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3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3"/>
          </p:nvPr>
        </p:nvSpPr>
        <p:spPr/>
        <p:txBody>
          <a:bodyPr/>
          <a:p>
            <a:fld id="{822728C4-8776-4C9A-8A45-D818F514068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4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4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3"/>
          </p:nvPr>
        </p:nvSpPr>
        <p:spPr/>
        <p:txBody>
          <a:bodyPr/>
          <a:p>
            <a:fld id="{800B0B39-A171-4824-9934-85EE150FC0C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4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4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4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4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3"/>
          </p:nvPr>
        </p:nvSpPr>
        <p:spPr/>
        <p:txBody>
          <a:bodyPr/>
          <a:p>
            <a:fld id="{F3C7EC17-7747-4BC3-AE72-DF00F883C57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4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4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5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5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5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5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3"/>
          </p:nvPr>
        </p:nvSpPr>
        <p:spPr/>
        <p:txBody>
          <a:bodyPr/>
          <a:p>
            <a:fld id="{58205572-FFB5-43AB-9875-0DBBEADFAAE2}"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B3A8344D-B615-4DF6-92A5-169014FF07F0}"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61"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7E042244-8019-4925-A34B-4E355C616CF4}"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63"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4"/>
          </p:nvPr>
        </p:nvSpPr>
        <p:spPr/>
        <p:txBody>
          <a:bodyPr/>
          <a:p>
            <a:fld id="{317768E4-E6F9-4A2E-9AB1-BA4C26B2BDE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
          </p:nvPr>
        </p:nvSpPr>
        <p:spPr/>
        <p:txBody>
          <a:bodyPr/>
          <a:p>
            <a:fld id="{743F2190-2065-4D32-9558-9A91B8EC27B5}"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6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6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4"/>
          </p:nvPr>
        </p:nvSpPr>
        <p:spPr/>
        <p:txBody>
          <a:bodyPr/>
          <a:p>
            <a:fld id="{6577DDB1-E4FD-4E06-831E-B140E57D7149}"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4"/>
          </p:nvPr>
        </p:nvSpPr>
        <p:spPr/>
        <p:txBody>
          <a:bodyPr/>
          <a:p>
            <a:fld id="{4D023CDC-7D6E-464E-AC4F-9A51B1C6FB6A}"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8"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14F50FC1-42C0-4357-AEEB-DED48DDD40A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7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7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7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4"/>
          </p:nvPr>
        </p:nvSpPr>
        <p:spPr/>
        <p:txBody>
          <a:bodyPr/>
          <a:p>
            <a:fld id="{EBB55D67-6174-432C-B628-59988C85EC20}"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7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7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76"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4"/>
          </p:nvPr>
        </p:nvSpPr>
        <p:spPr/>
        <p:txBody>
          <a:bodyPr/>
          <a:p>
            <a:fld id="{AEF12451-6C9D-4FF9-9F12-0D55C1242AD1}"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7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7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80"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4"/>
          </p:nvPr>
        </p:nvSpPr>
        <p:spPr/>
        <p:txBody>
          <a:bodyPr/>
          <a:p>
            <a:fld id="{0947B73B-44BC-40A1-A791-0104D0CF33B0}"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82"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83"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4"/>
          </p:nvPr>
        </p:nvSpPr>
        <p:spPr/>
        <p:txBody>
          <a:bodyPr/>
          <a:p>
            <a:fld id="{4447E22E-09FE-4904-9D51-047B878E3F4F}"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8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8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8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88"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4"/>
          </p:nvPr>
        </p:nvSpPr>
        <p:spPr/>
        <p:txBody>
          <a:bodyPr/>
          <a:p>
            <a:fld id="{DE041233-5D1D-40BF-88B7-6DB63FCB45CD}"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90"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91"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92"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93"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94"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95"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4"/>
          </p:nvPr>
        </p:nvSpPr>
        <p:spPr/>
        <p:txBody>
          <a:bodyPr/>
          <a:p>
            <a:fld id="{F43F439A-3297-49FA-A68B-4511BA44DAA5}"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5"/>
          </p:nvPr>
        </p:nvSpPr>
        <p:spPr/>
        <p:txBody>
          <a:bodyPr/>
          <a:p>
            <a:fld id="{DA450645-E3F4-4FCE-9BE6-661FE36A869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
          </p:nvPr>
        </p:nvSpPr>
        <p:spPr/>
        <p:txBody>
          <a:bodyPr/>
          <a:p>
            <a:fld id="{5BBA0D3B-E12B-416A-A3E9-ECC79F55A73B}"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05"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5"/>
          </p:nvPr>
        </p:nvSpPr>
        <p:spPr/>
        <p:txBody>
          <a:bodyPr/>
          <a:p>
            <a:fld id="{D23C2D67-4C2F-4FD6-A009-5F1A6A2F6D5A}"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07"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5"/>
          </p:nvPr>
        </p:nvSpPr>
        <p:spPr/>
        <p:txBody>
          <a:bodyPr/>
          <a:p>
            <a:fld id="{9D37A8E3-8B31-477D-8025-3B943A28C668}"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0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1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5"/>
          </p:nvPr>
        </p:nvSpPr>
        <p:spPr/>
        <p:txBody>
          <a:bodyPr/>
          <a:p>
            <a:fld id="{82F1FEEB-D7C6-4D82-9195-FE0A2DC26429}"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5"/>
          </p:nvPr>
        </p:nvSpPr>
        <p:spPr/>
        <p:txBody>
          <a:bodyPr/>
          <a:p>
            <a:fld id="{D9021C86-1818-4BCF-B23C-8C22D6DB6E8C}"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5"/>
          </p:nvPr>
        </p:nvSpPr>
        <p:spPr/>
        <p:txBody>
          <a:bodyPr/>
          <a:p>
            <a:fld id="{1449645F-58D7-4773-93D6-725ED4F9C828}"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1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1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1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5"/>
          </p:nvPr>
        </p:nvSpPr>
        <p:spPr/>
        <p:txBody>
          <a:bodyPr/>
          <a:p>
            <a:fld id="{3C1A324B-C5B9-409E-AED5-228934B8EE5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1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1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20"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5"/>
          </p:nvPr>
        </p:nvSpPr>
        <p:spPr/>
        <p:txBody>
          <a:bodyPr/>
          <a:p>
            <a:fld id="{A523CECC-0785-42EF-98B0-F2D5E6DF3B58}"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2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2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24"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5"/>
          </p:nvPr>
        </p:nvSpPr>
        <p:spPr/>
        <p:txBody>
          <a:bodyPr/>
          <a:p>
            <a:fld id="{2243272A-872E-46D9-939A-A171B466858E}"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26"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27"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5"/>
          </p:nvPr>
        </p:nvSpPr>
        <p:spPr/>
        <p:txBody>
          <a:bodyPr/>
          <a:p>
            <a:fld id="{4CD30CB2-5413-42C5-BE36-E51044F1293A}"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2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2"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5"/>
          </p:nvPr>
        </p:nvSpPr>
        <p:spPr/>
        <p:txBody>
          <a:bodyPr/>
          <a:p>
            <a:fld id="{8EB4EA42-E122-4A3E-861B-A3EA7648E31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D1EC15A-1300-46D2-8DF0-ACFC1C3FBB33}"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34"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5"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6"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7"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8"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9"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5"/>
          </p:nvPr>
        </p:nvSpPr>
        <p:spPr/>
        <p:txBody>
          <a:bodyPr/>
          <a:p>
            <a:fld id="{1E9AE475-68C8-41E7-8D92-C24FD58D6E89}"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6493A063-1A7A-4DF5-9979-489F173AEB2C}"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4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89EB7FCF-D1AE-42D4-A0E5-7217BC2A6946}"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5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6"/>
          </p:nvPr>
        </p:nvSpPr>
        <p:spPr/>
        <p:txBody>
          <a:bodyPr/>
          <a:p>
            <a:fld id="{3DB62CB3-0B12-4A1F-950C-DCD85A6B4136}"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5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5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6"/>
          </p:nvPr>
        </p:nvSpPr>
        <p:spPr/>
        <p:txBody>
          <a:bodyPr/>
          <a:p>
            <a:fld id="{B716032F-D213-4535-90B5-E681C0A01F7C}"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6"/>
          </p:nvPr>
        </p:nvSpPr>
        <p:spPr/>
        <p:txBody>
          <a:bodyPr/>
          <a:p>
            <a:fld id="{DEDBC954-505D-434A-A14A-663D34273336}"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59C45A84-8F6F-462E-915B-105B136674E1}"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5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5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5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6"/>
          </p:nvPr>
        </p:nvSpPr>
        <p:spPr/>
        <p:txBody>
          <a:bodyPr/>
          <a:p>
            <a:fld id="{17718D1B-84DF-4F14-9C6D-77F15030278D}"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6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6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6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6"/>
          </p:nvPr>
        </p:nvSpPr>
        <p:spPr/>
        <p:txBody>
          <a:bodyPr/>
          <a:p>
            <a:fld id="{8BA83530-F930-4FFD-A45C-F6C7F567CB2F}"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6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6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6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6"/>
          </p:nvPr>
        </p:nvSpPr>
        <p:spPr/>
        <p:txBody>
          <a:bodyPr/>
          <a:p>
            <a:fld id="{C75FFE4A-565E-466F-8D58-B74EC7DE0D6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5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
          </p:nvPr>
        </p:nvSpPr>
        <p:spPr/>
        <p:txBody>
          <a:bodyPr/>
          <a:p>
            <a:fld id="{48F0B045-3256-4551-AD0E-3F8309241816}" type="slidenum">
              <a:t>&lt;#&gt;</a:t>
            </a:fld>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6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7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6"/>
          </p:nvPr>
        </p:nvSpPr>
        <p:spPr/>
        <p:txBody>
          <a:bodyPr/>
          <a:p>
            <a:fld id="{3990512B-4C51-4CE2-AF4C-3F312AB48FE5}"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7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7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7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7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6"/>
          </p:nvPr>
        </p:nvSpPr>
        <p:spPr/>
        <p:txBody>
          <a:bodyPr/>
          <a:p>
            <a:fld id="{9790775B-02EA-4981-B016-73F9FAFC5B31}"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7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7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7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8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8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8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6"/>
          </p:nvPr>
        </p:nvSpPr>
        <p:spPr/>
        <p:txBody>
          <a:bodyPr/>
          <a:p>
            <a:fld id="{B1405B65-B618-4D60-BFFA-650778AD88D1}"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7"/>
          </p:nvPr>
        </p:nvSpPr>
        <p:spPr/>
        <p:txBody>
          <a:bodyPr/>
          <a:p>
            <a:fld id="{CF577980-1BDD-49C7-8A1E-1DB4B9F25A64}"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92"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7"/>
          </p:nvPr>
        </p:nvSpPr>
        <p:spPr/>
        <p:txBody>
          <a:bodyPr/>
          <a:p>
            <a:fld id="{A6A37288-5A61-439F-8B9B-A51DB2D2B467}"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94"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7"/>
          </p:nvPr>
        </p:nvSpPr>
        <p:spPr/>
        <p:txBody>
          <a:bodyPr/>
          <a:p>
            <a:fld id="{37BB30C3-771C-4648-BBE9-2437AFA00450}"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9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9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7"/>
          </p:nvPr>
        </p:nvSpPr>
        <p:spPr/>
        <p:txBody>
          <a:bodyPr/>
          <a:p>
            <a:fld id="{A250E2F7-40FC-4E29-AAC2-205F17295284}"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7"/>
          </p:nvPr>
        </p:nvSpPr>
        <p:spPr/>
        <p:txBody>
          <a:bodyPr/>
          <a:p>
            <a:fld id="{ECF1C6AC-02FA-4200-AB8C-62466DF478A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9"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7"/>
          </p:nvPr>
        </p:nvSpPr>
        <p:spPr/>
        <p:txBody>
          <a:bodyPr/>
          <a:p>
            <a:fld id="{B6F22D27-5864-4519-8FCB-521E453E866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0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0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0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7"/>
          </p:nvPr>
        </p:nvSpPr>
        <p:spPr/>
        <p:txBody>
          <a:bodyPr/>
          <a:p>
            <a:fld id="{0B54495E-9629-4E19-8F46-1B51470D238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E54F61-E152-403C-B43B-4A0F327B790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
          </p:nvPr>
        </p:nvSpPr>
        <p:spPr/>
        <p:txBody>
          <a:bodyPr/>
          <a:p>
            <a:fld id="{9D40B898-FAED-4E49-BCA7-255BDFEFD26B}" type="slidenum">
              <a:t>&lt;#&gt;</a:t>
            </a:fld>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0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0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07"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7"/>
          </p:nvPr>
        </p:nvSpPr>
        <p:spPr/>
        <p:txBody>
          <a:bodyPr/>
          <a:p>
            <a:fld id="{33ABB984-5EE3-4C9C-9B7D-BD325CFB8901}"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0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1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11"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7"/>
          </p:nvPr>
        </p:nvSpPr>
        <p:spPr/>
        <p:txBody>
          <a:bodyPr/>
          <a:p>
            <a:fld id="{D3BB9FFF-D1A8-4643-B857-44B5096ABFB0}"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13"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14"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7"/>
          </p:nvPr>
        </p:nvSpPr>
        <p:spPr/>
        <p:txBody>
          <a:bodyPr/>
          <a:p>
            <a:fld id="{CE7FFE54-2F39-46BC-8159-E0F0AC4AB70C}"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1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1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1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19"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7"/>
          </p:nvPr>
        </p:nvSpPr>
        <p:spPr/>
        <p:txBody>
          <a:bodyPr/>
          <a:p>
            <a:fld id="{4C5FA8C5-7AAC-48BF-959D-C8A9FBA9203C}"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21"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22"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23"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24"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25"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26"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7"/>
          </p:nvPr>
        </p:nvSpPr>
        <p:spPr/>
        <p:txBody>
          <a:bodyPr/>
          <a:p>
            <a:fld id="{48599343-1D8D-4273-882D-3CA6038B8513}"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82226110-08E7-4D21-9208-7CFFC256000D}"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3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DCE50694-7D0E-4AED-AADE-7A78845E8FB6}"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3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8"/>
          </p:nvPr>
        </p:nvSpPr>
        <p:spPr/>
        <p:txBody>
          <a:bodyPr/>
          <a:p>
            <a:fld id="{EE7A26CE-8E2E-4317-9C91-65ED6FB7EE2B}"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4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4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8"/>
          </p:nvPr>
        </p:nvSpPr>
        <p:spPr/>
        <p:txBody>
          <a:bodyPr/>
          <a:p>
            <a:fld id="{331D0D13-5C7D-4CC9-8F93-1328859E164C}"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8"/>
          </p:nvPr>
        </p:nvSpPr>
        <p:spPr/>
        <p:txBody>
          <a:bodyPr/>
          <a:p>
            <a:fld id="{F065052D-2FDA-4BAA-B4D6-687A06562D1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
          </p:nvPr>
        </p:nvSpPr>
        <p:spPr/>
        <p:txBody>
          <a:bodyPr/>
          <a:p>
            <a:fld id="{F680A8E1-C709-4BD1-94C4-D487CB281DBA}" type="slidenum">
              <a:t>&lt;#&gt;</a:t>
            </a:fld>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401D767A-D369-4D01-BB12-EA556A1FCBEB}"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4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4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4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8"/>
          </p:nvPr>
        </p:nvSpPr>
        <p:spPr/>
        <p:txBody>
          <a:bodyPr/>
          <a:p>
            <a:fld id="{72FCC735-6E02-449C-8013-D5A7213C4310}"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4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5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5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8"/>
          </p:nvPr>
        </p:nvSpPr>
        <p:spPr/>
        <p:txBody>
          <a:bodyPr/>
          <a:p>
            <a:fld id="{4FDDD86D-8BC8-4523-80D2-A24E03962F60}"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5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5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5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8"/>
          </p:nvPr>
        </p:nvSpPr>
        <p:spPr/>
        <p:txBody>
          <a:bodyPr/>
          <a:p>
            <a:fld id="{D890198A-DDF3-4DD3-8180-BE8C6BDB7EE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5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5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8"/>
          </p:nvPr>
        </p:nvSpPr>
        <p:spPr/>
        <p:txBody>
          <a:bodyPr/>
          <a:p>
            <a:fld id="{67B2F1EC-76B4-4A3E-A2E1-AEC62C11E3B6}"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6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6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6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6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8"/>
          </p:nvPr>
        </p:nvSpPr>
        <p:spPr/>
        <p:txBody>
          <a:bodyPr/>
          <a:p>
            <a:fld id="{5107BF19-B08E-4179-80BC-C1C620E74C8F}"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6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6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6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6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6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7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8"/>
          </p:nvPr>
        </p:nvSpPr>
        <p:spPr/>
        <p:txBody>
          <a:bodyPr/>
          <a:p>
            <a:fld id="{8BEB4402-8D99-43E2-921C-4E77B2E622A8}" type="slidenum">
              <a:t>&lt;#&gt;</a:t>
            </a:fld>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9"/>
          </p:nvPr>
        </p:nvSpPr>
        <p:spPr/>
        <p:txBody>
          <a:bodyPr/>
          <a:p>
            <a:fld id="{7A96BD01-700E-4170-88F3-E356243BB3DE}" type="slidenum">
              <a:t>&lt;#&gt;</a:t>
            </a:fld>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7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19"/>
          </p:nvPr>
        </p:nvSpPr>
        <p:spPr/>
        <p:txBody>
          <a:bodyPr/>
          <a:p>
            <a:fld id="{F8FD4A38-416A-4370-B547-D1198BE7394D}" type="slidenum">
              <a:t>&lt;#&gt;</a:t>
            </a:fld>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8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9"/>
          </p:nvPr>
        </p:nvSpPr>
        <p:spPr/>
        <p:txBody>
          <a:bodyPr/>
          <a:p>
            <a:fld id="{E0132E07-2D06-48A0-B3A2-BDDC2AA9EA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6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
          </p:nvPr>
        </p:nvSpPr>
        <p:spPr/>
        <p:txBody>
          <a:bodyPr/>
          <a:p>
            <a:fld id="{298FE8B9-3721-402E-8D55-F42105429452}" type="slidenum">
              <a:t>&lt;#&gt;</a:t>
            </a:fld>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8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8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9"/>
          </p:nvPr>
        </p:nvSpPr>
        <p:spPr/>
        <p:txBody>
          <a:bodyPr/>
          <a:p>
            <a:fld id="{B726E632-20EA-4795-8CAD-8ED0ADFD0270}" type="slidenum">
              <a:t>&lt;#&gt;</a:t>
            </a:fld>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9"/>
          </p:nvPr>
        </p:nvSpPr>
        <p:spPr/>
        <p:txBody>
          <a:bodyPr/>
          <a:p>
            <a:fld id="{0FA4ACC6-0807-4DC7-81A8-3F620F65DFA2}" type="slidenum">
              <a:t>&lt;#&gt;</a:t>
            </a:fld>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9"/>
          </p:nvPr>
        </p:nvSpPr>
        <p:spPr/>
        <p:txBody>
          <a:bodyPr/>
          <a:p>
            <a:fld id="{70E5B874-0E82-4213-8CBB-A8F6EFC06303}" type="slidenum">
              <a:t>&lt;#&gt;</a:t>
            </a:fld>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8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8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8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9"/>
          </p:nvPr>
        </p:nvSpPr>
        <p:spPr/>
        <p:txBody>
          <a:bodyPr/>
          <a:p>
            <a:fld id="{20705427-263D-48BD-A7E4-4E6142798B3D}" type="slidenum">
              <a:t>&lt;#&gt;</a:t>
            </a:fld>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9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9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9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9"/>
          </p:nvPr>
        </p:nvSpPr>
        <p:spPr/>
        <p:txBody>
          <a:bodyPr/>
          <a:p>
            <a:fld id="{50734DFD-9F05-4276-BBCE-80AA86E29283}" type="slidenum">
              <a:t>&lt;#&gt;</a:t>
            </a:fld>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9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9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9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9"/>
          </p:nvPr>
        </p:nvSpPr>
        <p:spPr/>
        <p:txBody>
          <a:bodyPr/>
          <a:p>
            <a:fld id="{B16BAF48-0211-4433-B356-BFA9BA9C892B}" type="slidenum">
              <a:t>&lt;#&gt;</a:t>
            </a:fld>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9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0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9"/>
          </p:nvPr>
        </p:nvSpPr>
        <p:spPr/>
        <p:txBody>
          <a:bodyPr/>
          <a:p>
            <a:fld id="{702E9855-A319-452E-B9F2-51FFCFBE772D}" type="slidenum">
              <a:t>&lt;#&gt;</a:t>
            </a:fld>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0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0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0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0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19"/>
          </p:nvPr>
        </p:nvSpPr>
        <p:spPr/>
        <p:txBody>
          <a:bodyPr/>
          <a:p>
            <a:fld id="{2E74644B-17B0-477D-B57B-DDA87AA06E03}" type="slidenum">
              <a:t>&lt;#&gt;</a:t>
            </a:fld>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0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0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0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1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1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1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19"/>
          </p:nvPr>
        </p:nvSpPr>
        <p:spPr/>
        <p:txBody>
          <a:bodyPr/>
          <a:p>
            <a:fld id="{277AEE3F-93FC-40B2-A402-A7BF42DA2275}" type="slidenum">
              <a:t>&lt;#&gt;</a:t>
            </a:fld>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968D9E93-81BF-4B2D-AA6F-B053D73B844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
          </p:nvPr>
        </p:nvSpPr>
        <p:spPr/>
        <p:txBody>
          <a:bodyPr/>
          <a:p>
            <a:fld id="{C83D6689-C46B-483B-BE0E-823B84C2BA6A}" type="slidenum">
              <a:t>&lt;#&gt;</a:t>
            </a:fld>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1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5C4A3DE-37E0-4D23-A14A-1712F8935462}" type="slidenum">
              <a:t>&lt;#&gt;</a:t>
            </a:fld>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2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0"/>
          </p:nvPr>
        </p:nvSpPr>
        <p:spPr/>
        <p:txBody>
          <a:bodyPr/>
          <a:p>
            <a:fld id="{24E396B0-8B91-4ACA-A358-5FD1FFEEE29A}" type="slidenum">
              <a:t>&lt;#&gt;</a:t>
            </a:fld>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2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2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0"/>
          </p:nvPr>
        </p:nvSpPr>
        <p:spPr/>
        <p:txBody>
          <a:bodyPr/>
          <a:p>
            <a:fld id="{A79BE42F-CED3-4E72-B5F6-4A4D81A9264C}" type="slidenum">
              <a:t>&lt;#&gt;</a:t>
            </a:fld>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0"/>
          </p:nvPr>
        </p:nvSpPr>
        <p:spPr/>
        <p:txBody>
          <a:bodyPr/>
          <a:p>
            <a:fld id="{142C16C4-CA4E-4225-82E0-A827C1920125}" type="slidenum">
              <a:t>&lt;#&gt;</a:t>
            </a:fld>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839FEC36-0C44-43EB-83E7-41203C212ABF}" type="slidenum">
              <a:t>&lt;#&gt;</a:t>
            </a:fld>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2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2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3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0"/>
          </p:nvPr>
        </p:nvSpPr>
        <p:spPr/>
        <p:txBody>
          <a:bodyPr/>
          <a:p>
            <a:fld id="{41F4ACA4-2B2B-438C-9294-DE6D5781A03D}" type="slidenum">
              <a:t>&lt;#&gt;</a:t>
            </a:fld>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3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3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3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0"/>
          </p:nvPr>
        </p:nvSpPr>
        <p:spPr/>
        <p:txBody>
          <a:bodyPr/>
          <a:p>
            <a:fld id="{51CB1109-C225-480F-9E3D-CD59AF6C3BEE}" type="slidenum">
              <a:t>&lt;#&gt;</a:t>
            </a:fld>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3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3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3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0"/>
          </p:nvPr>
        </p:nvSpPr>
        <p:spPr/>
        <p:txBody>
          <a:bodyPr/>
          <a:p>
            <a:fld id="{EE122374-7A68-45DB-A2D2-0D40BF7E3796}" type="slidenum">
              <a:t>&lt;#&gt;</a:t>
            </a:fld>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4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4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0"/>
          </p:nvPr>
        </p:nvSpPr>
        <p:spPr/>
        <p:txBody>
          <a:bodyPr/>
          <a:p>
            <a:fld id="{33D6B913-A333-4B49-BC87-B530ED47D569}" type="slidenum">
              <a:t>&lt;#&gt;</a:t>
            </a:fld>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4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4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4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4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0"/>
          </p:nvPr>
        </p:nvSpPr>
        <p:spPr/>
        <p:txBody>
          <a:bodyPr/>
          <a:p>
            <a:fld id="{2F177CE0-AB44-4899-B00B-7D290E6F096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7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
          </p:nvPr>
        </p:nvSpPr>
        <p:spPr/>
        <p:txBody>
          <a:bodyPr/>
          <a:p>
            <a:fld id="{BBA69584-C875-4544-A016-72439A3C93CC}" type="slidenum">
              <a:t>&lt;#&gt;</a:t>
            </a:fld>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4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4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5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5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5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5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0"/>
          </p:nvPr>
        </p:nvSpPr>
        <p:spPr/>
        <p:txBody>
          <a:bodyPr/>
          <a:p>
            <a:fld id="{718D880C-23CD-4D10-92BB-FF91E5DD384C}" type="slidenum">
              <a:t>&lt;#&gt;</a:t>
            </a:fld>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1"/>
          </p:nvPr>
        </p:nvSpPr>
        <p:spPr/>
        <p:txBody>
          <a:bodyPr/>
          <a:p>
            <a:fld id="{31DEBC3C-FD46-48F4-B7E6-D312DE0C1B4D}" type="slidenum">
              <a:t>&lt;#&gt;</a:t>
            </a:fld>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61"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1"/>
          </p:nvPr>
        </p:nvSpPr>
        <p:spPr/>
        <p:txBody>
          <a:bodyPr/>
          <a:p>
            <a:fld id="{1E80A623-11EF-40E7-B08A-3C0D11135953}" type="slidenum">
              <a:t>&lt;#&gt;</a:t>
            </a:fld>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63"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1"/>
          </p:nvPr>
        </p:nvSpPr>
        <p:spPr/>
        <p:txBody>
          <a:bodyPr/>
          <a:p>
            <a:fld id="{512801EF-E466-4246-A26F-890589FB5E93}" type="slidenum">
              <a:t>&lt;#&gt;</a:t>
            </a:fld>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6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6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1"/>
          </p:nvPr>
        </p:nvSpPr>
        <p:spPr/>
        <p:txBody>
          <a:bodyPr/>
          <a:p>
            <a:fld id="{D7689A49-776D-49FC-BBC2-19960787C21D}" type="slidenum">
              <a:t>&lt;#&gt;</a:t>
            </a:fld>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1"/>
          </p:nvPr>
        </p:nvSpPr>
        <p:spPr/>
        <p:txBody>
          <a:bodyPr/>
          <a:p>
            <a:fld id="{2DD1A466-4D8D-4AD0-AC29-6E0248FA92DD}" type="slidenum">
              <a:t>&lt;#&gt;</a:t>
            </a:fld>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8"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1"/>
          </p:nvPr>
        </p:nvSpPr>
        <p:spPr/>
        <p:txBody>
          <a:bodyPr/>
          <a:p>
            <a:fld id="{FBB392B2-F96C-4B15-9E2F-E42348B89865}" type="slidenum">
              <a:t>&lt;#&gt;</a:t>
            </a:fld>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7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7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7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1"/>
          </p:nvPr>
        </p:nvSpPr>
        <p:spPr/>
        <p:txBody>
          <a:bodyPr/>
          <a:p>
            <a:fld id="{ADA973EE-3F36-4659-BF92-1C3D7A396F22}" type="slidenum">
              <a:t>&lt;#&gt;</a:t>
            </a:fld>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7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7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76"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1"/>
          </p:nvPr>
        </p:nvSpPr>
        <p:spPr/>
        <p:txBody>
          <a:bodyPr/>
          <a:p>
            <a:fld id="{3C3A48D5-EFDE-4D96-9983-A6BBF9DCF109}" type="slidenum">
              <a:t>&lt;#&gt;</a:t>
            </a:fld>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7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7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80"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1"/>
          </p:nvPr>
        </p:nvSpPr>
        <p:spPr/>
        <p:txBody>
          <a:bodyPr/>
          <a:p>
            <a:fld id="{F14C2A99-A4B2-4DEA-89EE-483950E33A1A}"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BC10E35C-293A-44CF-B6F3-F1096DB03383}" type="slidenum">
              <a:t>&lt;#&gt;</a:t>
            </a:fld>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82"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83"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1"/>
          </p:nvPr>
        </p:nvSpPr>
        <p:spPr/>
        <p:txBody>
          <a:bodyPr/>
          <a:p>
            <a:fld id="{D6E86641-164B-45F0-9FA1-07A0B7006D0D}" type="slidenum">
              <a:t>&lt;#&gt;</a:t>
            </a:fld>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8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8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8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88"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1"/>
          </p:nvPr>
        </p:nvSpPr>
        <p:spPr/>
        <p:txBody>
          <a:bodyPr/>
          <a:p>
            <a:fld id="{004AF7D4-35DC-448E-93D5-7BBF5AC469B6}" type="slidenum">
              <a:t>&lt;#&gt;</a:t>
            </a:fld>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90"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91"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92"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93"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94"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895"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1"/>
          </p:nvPr>
        </p:nvSpPr>
        <p:spPr/>
        <p:txBody>
          <a:bodyPr/>
          <a:p>
            <a:fld id="{A981C67E-80DA-4494-BD0B-3CAF4E44B288}" type="slidenum">
              <a:t>&lt;#&gt;</a:t>
            </a:fld>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0C567A8D-D8FB-4BD5-B37F-DD722E65C390}" type="slidenum">
              <a:t>&lt;#&gt;</a:t>
            </a:fld>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05"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2D5E7223-838C-435E-BF34-04B7851FD0D3}" type="slidenum">
              <a:t>&lt;#&gt;</a:t>
            </a:fld>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07"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2"/>
          </p:nvPr>
        </p:nvSpPr>
        <p:spPr/>
        <p:txBody>
          <a:bodyPr/>
          <a:p>
            <a:fld id="{47FABAB6-F3A2-4B6D-96F3-0459F9B43C6C}" type="slidenum">
              <a:t>&lt;#&gt;</a:t>
            </a:fld>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0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1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2"/>
          </p:nvPr>
        </p:nvSpPr>
        <p:spPr/>
        <p:txBody>
          <a:bodyPr/>
          <a:p>
            <a:fld id="{E9A6F5D6-894B-42D1-9C5B-3586B42038E8}" type="slidenum">
              <a:t>&lt;#&gt;</a:t>
            </a:fld>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2"/>
          </p:nvPr>
        </p:nvSpPr>
        <p:spPr/>
        <p:txBody>
          <a:bodyPr/>
          <a:p>
            <a:fld id="{B9C02327-9136-4DD4-9722-B983143661EE}" type="slidenum">
              <a:t>&lt;#&gt;</a:t>
            </a:fld>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2"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38DCAAF0-95AD-45C4-9826-CE37CEE3D2BC}" type="slidenum">
              <a:t>&lt;#&gt;</a:t>
            </a:fld>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1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1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1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2"/>
          </p:nvPr>
        </p:nvSpPr>
        <p:spPr/>
        <p:txBody>
          <a:bodyPr/>
          <a:p>
            <a:fld id="{AC31F0BA-8BF8-4482-873C-D55436113FDA}"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1"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
          </p:nvPr>
        </p:nvSpPr>
        <p:spPr/>
        <p:txBody>
          <a:bodyPr/>
          <a:p>
            <a:fld id="{8A93FFE4-D5F4-4816-93FA-606CA8B86DB3}" type="slidenum">
              <a:t>&lt;#&gt;</a:t>
            </a:fld>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1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1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20"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2"/>
          </p:nvPr>
        </p:nvSpPr>
        <p:spPr/>
        <p:txBody>
          <a:bodyPr/>
          <a:p>
            <a:fld id="{2913AA59-3F7E-449B-88E3-905FC9891D5B}" type="slidenum">
              <a:t>&lt;#&gt;</a:t>
            </a:fld>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2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2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24"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2"/>
          </p:nvPr>
        </p:nvSpPr>
        <p:spPr/>
        <p:txBody>
          <a:bodyPr/>
          <a:p>
            <a:fld id="{191AE417-9782-47B2-9E36-E40EEAFF9EC9}" type="slidenum">
              <a:t>&lt;#&gt;</a:t>
            </a:fld>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26"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27"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2"/>
          </p:nvPr>
        </p:nvSpPr>
        <p:spPr/>
        <p:txBody>
          <a:bodyPr/>
          <a:p>
            <a:fld id="{3051D692-D692-4D3D-B6BC-24463B912DBC}" type="slidenum">
              <a:t>&lt;#&gt;</a:t>
            </a:fld>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2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3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3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32"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2"/>
          </p:nvPr>
        </p:nvSpPr>
        <p:spPr/>
        <p:txBody>
          <a:bodyPr/>
          <a:p>
            <a:fld id="{18DCDE53-C42C-4239-A53D-0988D245C3FF}" type="slidenum">
              <a:t>&lt;#&gt;</a:t>
            </a:fld>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34"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35"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36"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37"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38"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39"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2"/>
          </p:nvPr>
        </p:nvSpPr>
        <p:spPr/>
        <p:txBody>
          <a:bodyPr/>
          <a:p>
            <a:fld id="{3C109F59-7644-40EC-89B9-DB160CD9D6DF}" type="slidenum">
              <a:t>&lt;#&gt;</a:t>
            </a:fld>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3"/>
          </p:nvPr>
        </p:nvSpPr>
        <p:spPr/>
        <p:txBody>
          <a:bodyPr/>
          <a:p>
            <a:fld id="{8944D575-2B48-46A7-AEC0-2F8C28886A37}" type="slidenum">
              <a:t>&lt;#&gt;</a:t>
            </a:fld>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4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3"/>
          </p:nvPr>
        </p:nvSpPr>
        <p:spPr/>
        <p:txBody>
          <a:bodyPr/>
          <a:p>
            <a:fld id="{246A2D12-6701-4B8F-B82A-5F9D49FF69ED}" type="slidenum">
              <a:t>&lt;#&gt;</a:t>
            </a:fld>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5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3"/>
          </p:nvPr>
        </p:nvSpPr>
        <p:spPr/>
        <p:txBody>
          <a:bodyPr/>
          <a:p>
            <a:fld id="{E89C7A21-3942-4FB7-A705-C04E856DE080}" type="slidenum">
              <a:t>&lt;#&gt;</a:t>
            </a:fld>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5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5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3"/>
          </p:nvPr>
        </p:nvSpPr>
        <p:spPr/>
        <p:txBody>
          <a:bodyPr/>
          <a:p>
            <a:fld id="{871D7B3D-3716-4FC7-92DE-DBD179AFAF4D}" type="slidenum">
              <a:t>&lt;#&gt;</a:t>
            </a:fld>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3"/>
          </p:nvPr>
        </p:nvSpPr>
        <p:spPr/>
        <p:txBody>
          <a:bodyPr/>
          <a:p>
            <a:fld id="{D27A140D-361F-4069-85C0-42F97850F96A}"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3"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
          </p:nvPr>
        </p:nvSpPr>
        <p:spPr/>
        <p:txBody>
          <a:bodyPr/>
          <a:p>
            <a:fld id="{3B8FCD2B-C8E8-47E3-870F-FDD0A9AB2287}" type="slidenum">
              <a:t>&lt;#&gt;</a:t>
            </a:fld>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3"/>
          </p:nvPr>
        </p:nvSpPr>
        <p:spPr/>
        <p:txBody>
          <a:bodyPr/>
          <a:p>
            <a:fld id="{DC8E6094-5FB3-4E94-B167-F9DC2C0C262F}" type="slidenum">
              <a:t>&lt;#&gt;</a:t>
            </a:fld>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5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5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6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3"/>
          </p:nvPr>
        </p:nvSpPr>
        <p:spPr/>
        <p:txBody>
          <a:bodyPr/>
          <a:p>
            <a:fld id="{0389AEE1-F4C7-419D-ABEF-4B1C64994362}" type="slidenum">
              <a:t>&lt;#&gt;</a:t>
            </a:fld>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6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6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6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3"/>
          </p:nvPr>
        </p:nvSpPr>
        <p:spPr/>
        <p:txBody>
          <a:bodyPr/>
          <a:p>
            <a:fld id="{49AA860C-F32C-4824-AA37-87522D2E5029}" type="slidenum">
              <a:t>&lt;#&gt;</a:t>
            </a:fld>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6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6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6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3"/>
          </p:nvPr>
        </p:nvSpPr>
        <p:spPr/>
        <p:txBody>
          <a:bodyPr/>
          <a:p>
            <a:fld id="{D165DFAE-4D28-452E-B5D8-40EB354B5D56}" type="slidenum">
              <a:t>&lt;#&gt;</a:t>
            </a:fld>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7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7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3"/>
          </p:nvPr>
        </p:nvSpPr>
        <p:spPr/>
        <p:txBody>
          <a:bodyPr/>
          <a:p>
            <a:fld id="{254FD300-B340-4898-AD21-731C4EC80332}" type="slidenum">
              <a:t>&lt;#&gt;</a:t>
            </a:fld>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7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7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7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7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3"/>
          </p:nvPr>
        </p:nvSpPr>
        <p:spPr/>
        <p:txBody>
          <a:bodyPr/>
          <a:p>
            <a:fld id="{88370955-2EFD-42F1-8144-75327EFE1739}" type="slidenum">
              <a:t>&lt;#&gt;</a:t>
            </a:fld>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7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7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8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8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8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8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3"/>
          </p:nvPr>
        </p:nvSpPr>
        <p:spPr/>
        <p:txBody>
          <a:bodyPr/>
          <a:p>
            <a:fld id="{18AAADC4-E1C2-4C71-952D-9E41BB9602B3}" type="slidenum">
              <a:t>&lt;#&gt;</a:t>
            </a:fld>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B840496A-576E-458C-AFCC-2B59F358CDA7}" type="slidenum">
              <a:t>&lt;#&gt;</a:t>
            </a:fld>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9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98975B07-59C4-4D7B-AA7F-0A33A176A69D}" type="slidenum">
              <a:t>&lt;#&gt;</a:t>
            </a:fld>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9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4"/>
          </p:nvPr>
        </p:nvSpPr>
        <p:spPr/>
        <p:txBody>
          <a:bodyPr/>
          <a:p>
            <a:fld id="{B6419817-59EF-4569-8FF5-8670AD6FFFBB}"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
          </p:nvPr>
        </p:nvSpPr>
        <p:spPr/>
        <p:txBody>
          <a:bodyPr/>
          <a:p>
            <a:fld id="{3F38341D-88A5-4DA8-8EB8-221EF4F4FAF6}" type="slidenum">
              <a:t>&lt;#&gt;</a:t>
            </a:fld>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99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9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4"/>
          </p:nvPr>
        </p:nvSpPr>
        <p:spPr/>
        <p:txBody>
          <a:bodyPr/>
          <a:p>
            <a:fld id="{0FFE7AA6-B1E2-48A9-8366-CEFFB1ACB0D6}" type="slidenum">
              <a:t>&lt;#&gt;</a:t>
            </a:fld>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0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4"/>
          </p:nvPr>
        </p:nvSpPr>
        <p:spPr/>
        <p:txBody>
          <a:bodyPr/>
          <a:p>
            <a:fld id="{953D9744-2E4E-4F67-ADC0-559333C53BA0}" type="slidenum">
              <a:t>&lt;#&gt;</a:t>
            </a:fld>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9293872F-2816-4E37-B8C0-80551FCF2C72}" type="slidenum">
              <a:t>&lt;#&gt;</a:t>
            </a:fld>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0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0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0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4"/>
          </p:nvPr>
        </p:nvSpPr>
        <p:spPr/>
        <p:txBody>
          <a:bodyPr/>
          <a:p>
            <a:fld id="{9C5ECFF6-459E-4164-B915-41B9E1D9739B}" type="slidenum">
              <a:t>&lt;#&gt;</a:t>
            </a:fld>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0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0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0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4"/>
          </p:nvPr>
        </p:nvSpPr>
        <p:spPr/>
        <p:txBody>
          <a:bodyPr/>
          <a:p>
            <a:fld id="{901F8001-1FF6-4407-B69B-95791EFBFF2F}" type="slidenum">
              <a:t>&lt;#&gt;</a:t>
            </a:fld>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1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1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1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4"/>
          </p:nvPr>
        </p:nvSpPr>
        <p:spPr/>
        <p:txBody>
          <a:bodyPr/>
          <a:p>
            <a:fld id="{BFD0B3BB-AC2C-4B38-8E88-3460E1B939EE}" type="slidenum">
              <a:t>&lt;#&gt;</a:t>
            </a:fld>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1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1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4"/>
          </p:nvPr>
        </p:nvSpPr>
        <p:spPr/>
        <p:txBody>
          <a:bodyPr/>
          <a:p>
            <a:fld id="{19693684-D3F0-42C0-94D3-3794C8728F7C}" type="slidenum">
              <a:t>&lt;#&gt;</a:t>
            </a:fld>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1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1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2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2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4"/>
          </p:nvPr>
        </p:nvSpPr>
        <p:spPr/>
        <p:txBody>
          <a:bodyPr/>
          <a:p>
            <a:fld id="{F9EC2E60-0622-4A40-8DA5-93F9BE6F3594}" type="slidenum">
              <a:t>&lt;#&gt;</a:t>
            </a:fld>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2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2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2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2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2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2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4"/>
          </p:nvPr>
        </p:nvSpPr>
        <p:spPr/>
        <p:txBody>
          <a:bodyPr/>
          <a:p>
            <a:fld id="{A225B48E-EB25-4622-83B6-EE65CC26A996}" type="slidenum">
              <a:t>&lt;#&gt;</a:t>
            </a:fld>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5"/>
          </p:nvPr>
        </p:nvSpPr>
        <p:spPr/>
        <p:txBody>
          <a:bodyPr/>
          <a:p>
            <a:fld id="{69460846-42BF-402A-A52E-E7DDBF1FB09F}"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
          </p:nvPr>
        </p:nvSpPr>
        <p:spPr/>
        <p:txBody>
          <a:bodyPr/>
          <a:p>
            <a:fld id="{7B4FDBC2-B04D-455A-8993-6B742E1E46C3}" type="slidenum">
              <a:t>&lt;#&gt;</a:t>
            </a:fld>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3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5"/>
          </p:nvPr>
        </p:nvSpPr>
        <p:spPr/>
        <p:txBody>
          <a:bodyPr/>
          <a:p>
            <a:fld id="{C5A16133-243E-42F1-8F5F-E2268B4D6379}" type="slidenum">
              <a:t>&lt;#&gt;</a:t>
            </a:fld>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3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5"/>
          </p:nvPr>
        </p:nvSpPr>
        <p:spPr/>
        <p:txBody>
          <a:bodyPr/>
          <a:p>
            <a:fld id="{903FE757-604D-4C8B-8E6D-989AAA4AE179}" type="slidenum">
              <a:t>&lt;#&gt;</a:t>
            </a:fld>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4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4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5"/>
          </p:nvPr>
        </p:nvSpPr>
        <p:spPr/>
        <p:txBody>
          <a:bodyPr/>
          <a:p>
            <a:fld id="{C226B46A-4ED3-401F-9E29-84A214FC7D5D}" type="slidenum">
              <a:t>&lt;#&gt;</a:t>
            </a:fld>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5"/>
          </p:nvPr>
        </p:nvSpPr>
        <p:spPr/>
        <p:txBody>
          <a:bodyPr/>
          <a:p>
            <a:fld id="{8099D910-0B2F-45CB-B33D-B02560067616}" type="slidenum">
              <a:t>&lt;#&gt;</a:t>
            </a:fld>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5"/>
          </p:nvPr>
        </p:nvSpPr>
        <p:spPr/>
        <p:txBody>
          <a:bodyPr/>
          <a:p>
            <a:fld id="{D802BF6A-AE2F-44AE-B663-C0CC90D414CF}" type="slidenum">
              <a:t>&lt;#&gt;</a:t>
            </a:fld>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4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4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4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5"/>
          </p:nvPr>
        </p:nvSpPr>
        <p:spPr/>
        <p:txBody>
          <a:bodyPr/>
          <a:p>
            <a:fld id="{ACA54ADC-4D02-4090-8B02-2156DA4D663F}" type="slidenum">
              <a:t>&lt;#&gt;</a:t>
            </a:fld>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4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5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5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5"/>
          </p:nvPr>
        </p:nvSpPr>
        <p:spPr/>
        <p:txBody>
          <a:bodyPr/>
          <a:p>
            <a:fld id="{E7A75337-FF6D-4B81-BC6E-E8A540615B8B}" type="slidenum">
              <a:t>&lt;#&gt;</a:t>
            </a:fld>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5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5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5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5"/>
          </p:nvPr>
        </p:nvSpPr>
        <p:spPr/>
        <p:txBody>
          <a:bodyPr/>
          <a:p>
            <a:fld id="{7FD438CA-2FF6-4A57-8C6E-4CB4B2B3058A}" type="slidenum">
              <a:t>&lt;#&gt;</a:t>
            </a:fld>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5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5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5"/>
          </p:nvPr>
        </p:nvSpPr>
        <p:spPr/>
        <p:txBody>
          <a:bodyPr/>
          <a:p>
            <a:fld id="{268F2515-4056-4AE1-BFB7-5B01834A4296}" type="slidenum">
              <a:t>&lt;#&gt;</a:t>
            </a:fld>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6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6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6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6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5"/>
          </p:nvPr>
        </p:nvSpPr>
        <p:spPr/>
        <p:txBody>
          <a:bodyPr/>
          <a:p>
            <a:fld id="{7CF128DC-DF18-4CE7-A720-20E77DF5A2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1"/>
          </p:nvPr>
        </p:nvSpPr>
        <p:spPr/>
        <p:txBody>
          <a:bodyPr/>
          <a:p>
            <a:fld id="{7EAE02DB-B47C-4D3F-8492-680DD3B0D659}"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
          </p:nvPr>
        </p:nvSpPr>
        <p:spPr/>
        <p:txBody>
          <a:bodyPr/>
          <a:p>
            <a:fld id="{591E14C4-C042-41EF-B466-DEBFC700FF57}" type="slidenum">
              <a:t>&lt;#&gt;</a:t>
            </a:fld>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6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6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6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6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6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7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5"/>
          </p:nvPr>
        </p:nvSpPr>
        <p:spPr/>
        <p:txBody>
          <a:bodyPr/>
          <a:p>
            <a:fld id="{4C25F5EF-B60E-4F54-8E5B-D3A45CB16255}" type="slidenum">
              <a:t>&lt;#&gt;</a:t>
            </a:fld>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607B7A70-8118-40CA-80B4-58DBF1AB0D54}" type="slidenum">
              <a:t>&lt;#&gt;</a:t>
            </a:fld>
          </a:p>
        </p:txBody>
      </p:sp>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8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388963AB-0DAD-4952-94A9-99936F49ABE1}" type="slidenum">
              <a:t>&lt;#&gt;</a:t>
            </a:fld>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8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6"/>
          </p:nvPr>
        </p:nvSpPr>
        <p:spPr/>
        <p:txBody>
          <a:bodyPr/>
          <a:p>
            <a:fld id="{1570548A-210F-4447-B034-743E04ED7526}" type="slidenum">
              <a:t>&lt;#&gt;</a:t>
            </a:fld>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8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8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6"/>
          </p:nvPr>
        </p:nvSpPr>
        <p:spPr/>
        <p:txBody>
          <a:bodyPr/>
          <a:p>
            <a:fld id="{0856E907-C336-4AC1-A320-EE2C79A110C7}" type="slidenum">
              <a:t>&lt;#&gt;</a:t>
            </a:fld>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6"/>
          </p:nvPr>
        </p:nvSpPr>
        <p:spPr/>
        <p:txBody>
          <a:bodyPr/>
          <a:p>
            <a:fld id="{C6300178-75B0-452D-BB64-F4C017EBEEF3}" type="slidenum">
              <a:t>&lt;#&gt;</a:t>
            </a:fld>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8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23B7DBBC-D193-4474-AE73-5C6FB0D62B31}" type="slidenum">
              <a:t>&lt;#&gt;</a:t>
            </a:fld>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8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9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9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6"/>
          </p:nvPr>
        </p:nvSpPr>
        <p:spPr/>
        <p:txBody>
          <a:bodyPr/>
          <a:p>
            <a:fld id="{1DED2061-BBE7-48DF-9F50-48CAAFB38087}" type="slidenum">
              <a:t>&lt;#&gt;</a:t>
            </a:fld>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9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9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9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6"/>
          </p:nvPr>
        </p:nvSpPr>
        <p:spPr/>
        <p:txBody>
          <a:bodyPr/>
          <a:p>
            <a:fld id="{9A53E1DF-78BB-4D97-A0C6-FE69A47738B7}" type="slidenum">
              <a:t>&lt;#&gt;</a:t>
            </a:fld>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9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9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9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6"/>
          </p:nvPr>
        </p:nvSpPr>
        <p:spPr/>
        <p:txBody>
          <a:bodyPr/>
          <a:p>
            <a:fld id="{505F62FB-282B-4362-AC09-1213A59480F5}"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
          </p:nvPr>
        </p:nvSpPr>
        <p:spPr/>
        <p:txBody>
          <a:bodyPr/>
          <a:p>
            <a:fld id="{CB06F91C-C51C-4873-B9E7-6BCFC21FE374}" type="slidenum">
              <a:t>&lt;#&gt;</a:t>
            </a:fld>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0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0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6"/>
          </p:nvPr>
        </p:nvSpPr>
        <p:spPr/>
        <p:txBody>
          <a:bodyPr/>
          <a:p>
            <a:fld id="{556755F2-B88B-4814-AED8-6DA08E7C1BEA}" type="slidenum">
              <a:t>&lt;#&gt;</a:t>
            </a:fld>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0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0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0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0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6"/>
          </p:nvPr>
        </p:nvSpPr>
        <p:spPr/>
        <p:txBody>
          <a:bodyPr/>
          <a:p>
            <a:fld id="{0A537989-4E42-45BC-95C5-874FD1BADEB8}" type="slidenum">
              <a:t>&lt;#&gt;</a:t>
            </a:fld>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0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1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1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1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1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1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6"/>
          </p:nvPr>
        </p:nvSpPr>
        <p:spPr/>
        <p:txBody>
          <a:bodyPr/>
          <a:p>
            <a:fld id="{47A14052-1848-4048-94B3-0C2E6557FDAD}" type="slidenum">
              <a:t>&lt;#&gt;</a:t>
            </a:fld>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7"/>
          </p:nvPr>
        </p:nvSpPr>
        <p:spPr/>
        <p:txBody>
          <a:bodyPr/>
          <a:p>
            <a:fld id="{EDE50254-A094-4791-9454-C801F57F4DC6}" type="slidenum">
              <a:t>&lt;#&gt;</a:t>
            </a:fld>
          </a:p>
        </p:txBody>
      </p:sp>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22"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7"/>
          </p:nvPr>
        </p:nvSpPr>
        <p:spPr/>
        <p:txBody>
          <a:bodyPr/>
          <a:p>
            <a:fld id="{8FDE70C3-0684-461C-8B4B-AD473CB04943}" type="slidenum">
              <a:t>&lt;#&gt;</a:t>
            </a:fld>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24"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7"/>
          </p:nvPr>
        </p:nvSpPr>
        <p:spPr/>
        <p:txBody>
          <a:bodyPr/>
          <a:p>
            <a:fld id="{4DA17E35-1150-4156-8D5B-03D13C64547B}" type="slidenum">
              <a:t>&lt;#&gt;</a:t>
            </a:fld>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2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2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7"/>
          </p:nvPr>
        </p:nvSpPr>
        <p:spPr/>
        <p:txBody>
          <a:bodyPr/>
          <a:p>
            <a:fld id="{C1CD220B-A363-4E5D-A98F-947B2213C391}" type="slidenum">
              <a:t>&lt;#&gt;</a:t>
            </a:fld>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7"/>
          </p:nvPr>
        </p:nvSpPr>
        <p:spPr/>
        <p:txBody>
          <a:bodyPr/>
          <a:p>
            <a:fld id="{80AC61C1-D961-426C-A68D-76F17714A3DB}" type="slidenum">
              <a:t>&lt;#&gt;</a:t>
            </a:fld>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29"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7"/>
          </p:nvPr>
        </p:nvSpPr>
        <p:spPr/>
        <p:txBody>
          <a:bodyPr/>
          <a:p>
            <a:fld id="{BB71DA3F-BB14-4CB0-B4EC-DF7487746F8D}" type="slidenum">
              <a:t>&lt;#&gt;</a:t>
            </a:fld>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3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3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3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3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7"/>
          </p:nvPr>
        </p:nvSpPr>
        <p:spPr/>
        <p:txBody>
          <a:bodyPr/>
          <a:p>
            <a:fld id="{B87A1E3D-59B2-4D01-BE69-FBFD28AA7A6B}"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6"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
          </p:nvPr>
        </p:nvSpPr>
        <p:spPr/>
        <p:txBody>
          <a:bodyPr/>
          <a:p>
            <a:fld id="{B574CF3D-8727-4699-93FF-EAFE410ED2FC}" type="slidenum">
              <a:t>&lt;#&gt;</a:t>
            </a:fld>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3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3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3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37"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7"/>
          </p:nvPr>
        </p:nvSpPr>
        <p:spPr/>
        <p:txBody>
          <a:bodyPr/>
          <a:p>
            <a:fld id="{0F37EFD0-74CE-4F07-B0AB-27D3110D351F}" type="slidenum">
              <a:t>&lt;#&gt;</a:t>
            </a:fld>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3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4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41"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7"/>
          </p:nvPr>
        </p:nvSpPr>
        <p:spPr/>
        <p:txBody>
          <a:bodyPr/>
          <a:p>
            <a:fld id="{37E51804-222B-43B5-A80F-06800FABAFCD}" type="slidenum">
              <a:t>&lt;#&gt;</a:t>
            </a:fld>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43"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44"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7"/>
          </p:nvPr>
        </p:nvSpPr>
        <p:spPr/>
        <p:txBody>
          <a:bodyPr/>
          <a:p>
            <a:fld id="{D12876CE-7024-4DCA-B44A-471635646A79}" type="slidenum">
              <a:t>&lt;#&gt;</a:t>
            </a:fld>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4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4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4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49"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7"/>
          </p:nvPr>
        </p:nvSpPr>
        <p:spPr/>
        <p:txBody>
          <a:bodyPr/>
          <a:p>
            <a:fld id="{1518450F-8731-485B-B8F3-BAEA2070FB2D}" type="slidenum">
              <a:t>&lt;#&gt;</a:t>
            </a:fld>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51"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52"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53"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54"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55"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56"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7"/>
          </p:nvPr>
        </p:nvSpPr>
        <p:spPr/>
        <p:txBody>
          <a:bodyPr/>
          <a:p>
            <a:fld id="{7D00B662-FAA1-4BAB-AE89-BF229F58FAE0}" type="slidenum">
              <a:t>&lt;#&gt;</a:t>
            </a:fld>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DFEBD40-0389-4FFB-B4E3-94A0BDBF6EF7}" type="slidenum">
              <a:t>&lt;#&gt;</a:t>
            </a:fld>
          </a:p>
        </p:txBody>
      </p:sp>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65"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4904DA76-05B6-435B-A168-FE9A3F239096}" type="slidenum">
              <a:t>&lt;#&gt;</a:t>
            </a:fld>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67"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8"/>
          </p:nvPr>
        </p:nvSpPr>
        <p:spPr/>
        <p:txBody>
          <a:bodyPr/>
          <a:p>
            <a:fld id="{82B4432E-EFFE-42AB-BFB3-5F3019032EC0}" type="slidenum">
              <a:t>&lt;#&gt;</a:t>
            </a:fld>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6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6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7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8"/>
          </p:nvPr>
        </p:nvSpPr>
        <p:spPr/>
        <p:txBody>
          <a:bodyPr/>
          <a:p>
            <a:fld id="{51C42C68-B4B2-44F2-9E92-9EE63C72731E}" type="slidenum">
              <a:t>&lt;#&gt;</a:t>
            </a:fld>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8"/>
          </p:nvPr>
        </p:nvSpPr>
        <p:spPr/>
        <p:txBody>
          <a:bodyPr/>
          <a:p>
            <a:fld id="{E006C4EB-4F06-4F7F-8CC4-E4D9885EC5AC}"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0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0"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
          </p:nvPr>
        </p:nvSpPr>
        <p:spPr/>
        <p:txBody>
          <a:bodyPr/>
          <a:p>
            <a:fld id="{2E9274D2-8BC7-455C-A972-CAD052FE09E0}" type="slidenum">
              <a:t>&lt;#&gt;</a:t>
            </a:fld>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2"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ACEF6F9B-F279-44C9-B356-09B8E8BA943E}" type="slidenum">
              <a:t>&lt;#&gt;</a:t>
            </a:fld>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7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7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7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8"/>
          </p:nvPr>
        </p:nvSpPr>
        <p:spPr/>
        <p:txBody>
          <a:bodyPr/>
          <a:p>
            <a:fld id="{D896B6AA-A3D5-4CD3-A930-F513D6BAF90D}" type="slidenum">
              <a:t>&lt;#&gt;</a:t>
            </a:fld>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7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7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80"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8"/>
          </p:nvPr>
        </p:nvSpPr>
        <p:spPr/>
        <p:txBody>
          <a:bodyPr/>
          <a:p>
            <a:fld id="{AE6DD407-382A-43C0-B88F-A5858102D3E5}" type="slidenum">
              <a:t>&lt;#&gt;</a:t>
            </a:fld>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8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8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84"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8"/>
          </p:nvPr>
        </p:nvSpPr>
        <p:spPr/>
        <p:txBody>
          <a:bodyPr/>
          <a:p>
            <a:fld id="{F4B8ED61-3541-44C6-AC7B-C3FBCF271C98}" type="slidenum">
              <a:t>&lt;#&gt;</a:t>
            </a:fld>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86"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87"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8"/>
          </p:nvPr>
        </p:nvSpPr>
        <p:spPr/>
        <p:txBody>
          <a:bodyPr/>
          <a:p>
            <a:fld id="{B722FE74-20F5-4234-B205-F4C83AEB4600}" type="slidenum">
              <a:t>&lt;#&gt;</a:t>
            </a:fld>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8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9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9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92"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8"/>
          </p:nvPr>
        </p:nvSpPr>
        <p:spPr/>
        <p:txBody>
          <a:bodyPr/>
          <a:p>
            <a:fld id="{79E785EF-470C-4904-8DDA-0FD0E45A45C6}" type="slidenum">
              <a:t>&lt;#&gt;</a:t>
            </a:fld>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94"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95"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96"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97"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98"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99"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8"/>
          </p:nvPr>
        </p:nvSpPr>
        <p:spPr/>
        <p:txBody>
          <a:bodyPr/>
          <a:p>
            <a:fld id="{EA1DBFD9-D392-4537-A4C1-6F22308A0A6B}" type="slidenum">
              <a:t>&lt;#&gt;</a:t>
            </a:fld>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9"/>
          </p:nvPr>
        </p:nvSpPr>
        <p:spPr/>
        <p:txBody>
          <a:bodyPr/>
          <a:p>
            <a:fld id="{9CA87B9C-A72E-4A00-A8D9-826E0EB8B121}" type="slidenum">
              <a:t>&lt;#&gt;</a:t>
            </a:fld>
          </a:p>
        </p:txBody>
      </p:sp>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0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29"/>
          </p:nvPr>
        </p:nvSpPr>
        <p:spPr/>
        <p:txBody>
          <a:bodyPr/>
          <a:p>
            <a:fld id="{DF3301DB-5FCB-4570-A817-60BEEFBCAC20}" type="slidenum">
              <a:t>&lt;#&gt;</a:t>
            </a:fld>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1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29"/>
          </p:nvPr>
        </p:nvSpPr>
        <p:spPr/>
        <p:txBody>
          <a:bodyPr/>
          <a:p>
            <a:fld id="{2668DF05-9300-4639-BB99-B704EAAC840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2"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3"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
          </p:nvPr>
        </p:nvSpPr>
        <p:spPr/>
        <p:txBody>
          <a:bodyPr/>
          <a:p>
            <a:fld id="{D308AE15-D30D-476A-B8F1-6EE74FFC8FDE}" type="slidenum">
              <a:t>&lt;#&gt;</a:t>
            </a:fld>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1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1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9"/>
          </p:nvPr>
        </p:nvSpPr>
        <p:spPr/>
        <p:txBody>
          <a:bodyPr/>
          <a:p>
            <a:fld id="{7C3A6E41-FE2F-4749-A348-D8B0C8E06347}" type="slidenum">
              <a:t>&lt;#&gt;</a:t>
            </a:fld>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29"/>
          </p:nvPr>
        </p:nvSpPr>
        <p:spPr/>
        <p:txBody>
          <a:bodyPr/>
          <a:p>
            <a:fld id="{72EF9FB4-39C7-4F9E-AEBF-CC1F6D0D6605}" type="slidenum">
              <a:t>&lt;#&gt;</a:t>
            </a:fld>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29"/>
          </p:nvPr>
        </p:nvSpPr>
        <p:spPr/>
        <p:txBody>
          <a:bodyPr/>
          <a:p>
            <a:fld id="{83637B89-7E71-4258-98A1-D9CCA6D42150}" type="slidenum">
              <a:t>&lt;#&gt;</a:t>
            </a:fld>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1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1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1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9"/>
          </p:nvPr>
        </p:nvSpPr>
        <p:spPr/>
        <p:txBody>
          <a:bodyPr/>
          <a:p>
            <a:fld id="{343FAC5B-D2BA-451B-A827-7323A1577758}" type="slidenum">
              <a:t>&lt;#&gt;</a:t>
            </a:fld>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2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2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2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9"/>
          </p:nvPr>
        </p:nvSpPr>
        <p:spPr/>
        <p:txBody>
          <a:bodyPr/>
          <a:p>
            <a:fld id="{27FC6140-5508-4CB8-A364-60F3C30B881C}" type="slidenum">
              <a:t>&lt;#&gt;</a:t>
            </a:fld>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2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2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2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29"/>
          </p:nvPr>
        </p:nvSpPr>
        <p:spPr/>
        <p:txBody>
          <a:bodyPr/>
          <a:p>
            <a:fld id="{1EF88A1D-6FBF-4F5A-AA3A-7D3512F41EA4}" type="slidenum">
              <a:t>&lt;#&gt;</a:t>
            </a:fld>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2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3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29"/>
          </p:nvPr>
        </p:nvSpPr>
        <p:spPr/>
        <p:txBody>
          <a:bodyPr/>
          <a:p>
            <a:fld id="{22CCD0D2-52AC-46A7-BC58-3BF95B5BD557}" type="slidenum">
              <a:t>&lt;#&gt;</a:t>
            </a:fld>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3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3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3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3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29"/>
          </p:nvPr>
        </p:nvSpPr>
        <p:spPr/>
        <p:txBody>
          <a:bodyPr/>
          <a:p>
            <a:fld id="{F2D8E4E4-946E-47E3-8426-1CE8BCB68AB1}" type="slidenum">
              <a:t>&lt;#&gt;</a:t>
            </a:fld>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3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3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3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4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4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4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29"/>
          </p:nvPr>
        </p:nvSpPr>
        <p:spPr/>
        <p:txBody>
          <a:bodyPr/>
          <a:p>
            <a:fld id="{A275D37C-C99A-4B4A-8049-8859A8DF3FF9}" type="slidenum">
              <a:t>&lt;#&gt;</a:t>
            </a:fld>
          </a:p>
        </p:txBody>
      </p:sp>
    </p:spTree>
  </p:cSld>
</p:sldLayout>
</file>

<file path=ppt/slideLayouts/slideLayout3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0"/>
          </p:nvPr>
        </p:nvSpPr>
        <p:spPr/>
        <p:txBody>
          <a:bodyPr/>
          <a:p>
            <a:fld id="{CE11ED95-C4BD-46F9-BC89-B7E084EDC37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1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8"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
          </p:nvPr>
        </p:nvSpPr>
        <p:spPr/>
        <p:txBody>
          <a:bodyPr/>
          <a:p>
            <a:fld id="{3F921F2A-0954-4FCB-87B3-22553FFD99AF}" type="slidenum">
              <a:t>&lt;#&gt;</a:t>
            </a:fld>
          </a:p>
        </p:txBody>
      </p:sp>
    </p:spTree>
  </p:cSld>
</p:sldLayout>
</file>

<file path=ppt/slideLayouts/slideLayout3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5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0"/>
          </p:nvPr>
        </p:nvSpPr>
        <p:spPr/>
        <p:txBody>
          <a:bodyPr/>
          <a:p>
            <a:fld id="{A79DD5DB-6A31-47FC-A853-18683321124C}" type="slidenum">
              <a:t>&lt;#&gt;</a:t>
            </a:fld>
          </a:p>
        </p:txBody>
      </p:sp>
    </p:spTree>
  </p:cSld>
</p:sldLayout>
</file>

<file path=ppt/slideLayouts/slideLayout3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5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5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0"/>
          </p:nvPr>
        </p:nvSpPr>
        <p:spPr/>
        <p:txBody>
          <a:bodyPr/>
          <a:p>
            <a:fld id="{6F95E496-5ED9-467B-ADBE-4E0AF039408D}" type="slidenum">
              <a:t>&lt;#&gt;</a:t>
            </a:fld>
          </a:p>
        </p:txBody>
      </p:sp>
    </p:spTree>
  </p:cSld>
</p:sldLayout>
</file>

<file path=ppt/slideLayouts/slideLayout3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5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5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0"/>
          </p:nvPr>
        </p:nvSpPr>
        <p:spPr/>
        <p:txBody>
          <a:bodyPr/>
          <a:p>
            <a:fld id="{15848ED9-624B-4483-B6E1-28D756E344DE}" type="slidenum">
              <a:t>&lt;#&gt;</a:t>
            </a:fld>
          </a:p>
        </p:txBody>
      </p:sp>
    </p:spTree>
  </p:cSld>
</p:sldLayout>
</file>

<file path=ppt/slideLayouts/slideLayout3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0"/>
          </p:nvPr>
        </p:nvSpPr>
        <p:spPr/>
        <p:txBody>
          <a:bodyPr/>
          <a:p>
            <a:fld id="{22F0DD81-F25E-4E40-9D85-7CBBBAA3504D}" type="slidenum">
              <a:t>&lt;#&gt;</a:t>
            </a:fld>
          </a:p>
        </p:txBody>
      </p:sp>
    </p:spTree>
  </p:cSld>
</p:sldLayout>
</file>

<file path=ppt/slideLayouts/slideLayout3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0"/>
          </p:nvPr>
        </p:nvSpPr>
        <p:spPr/>
        <p:txBody>
          <a:bodyPr/>
          <a:p>
            <a:fld id="{6C79093C-307B-467B-9F12-0ABFBBD2F139}" type="slidenum">
              <a:t>&lt;#&gt;</a:t>
            </a:fld>
          </a:p>
        </p:txBody>
      </p:sp>
    </p:spTree>
  </p:cSld>
</p:sldLayout>
</file>

<file path=ppt/slideLayouts/slideLayout3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5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6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6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0"/>
          </p:nvPr>
        </p:nvSpPr>
        <p:spPr/>
        <p:txBody>
          <a:bodyPr/>
          <a:p>
            <a:fld id="{68B78E16-AF4E-4B90-9759-80E1C5107EDB}" type="slidenum">
              <a:t>&lt;#&gt;</a:t>
            </a:fld>
          </a:p>
        </p:txBody>
      </p:sp>
    </p:spTree>
  </p:cSld>
</p:sldLayout>
</file>

<file path=ppt/slideLayouts/slideLayout3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6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6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6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0"/>
          </p:nvPr>
        </p:nvSpPr>
        <p:spPr/>
        <p:txBody>
          <a:bodyPr/>
          <a:p>
            <a:fld id="{94F9688C-867C-4A37-9327-339C21D7BD55}" type="slidenum">
              <a:t>&lt;#&gt;</a:t>
            </a:fld>
          </a:p>
        </p:txBody>
      </p:sp>
    </p:spTree>
  </p:cSld>
</p:sldLayout>
</file>

<file path=ppt/slideLayouts/slideLayout3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6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6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6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0"/>
          </p:nvPr>
        </p:nvSpPr>
        <p:spPr/>
        <p:txBody>
          <a:bodyPr/>
          <a:p>
            <a:fld id="{F829716E-115F-4BFD-AFC0-1AFE5D223C92}" type="slidenum">
              <a:t>&lt;#&gt;</a:t>
            </a:fld>
          </a:p>
        </p:txBody>
      </p:sp>
    </p:spTree>
  </p:cSld>
</p:sldLayout>
</file>

<file path=ppt/slideLayouts/slideLayout3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7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7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0"/>
          </p:nvPr>
        </p:nvSpPr>
        <p:spPr/>
        <p:txBody>
          <a:bodyPr/>
          <a:p>
            <a:fld id="{3CC66811-DC82-4582-B85F-53AB90F9F0C0}" type="slidenum">
              <a:t>&lt;#&gt;</a:t>
            </a:fld>
          </a:p>
        </p:txBody>
      </p:sp>
    </p:spTree>
  </p:cSld>
</p:sldLayout>
</file>

<file path=ppt/slideLayouts/slideLayout3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7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7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7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7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0"/>
          </p:nvPr>
        </p:nvSpPr>
        <p:spPr/>
        <p:txBody>
          <a:bodyPr/>
          <a:p>
            <a:fld id="{C36A4FA4-110B-4AE2-B699-FD0D9A0DC8C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0"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1"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2"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3"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4"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5"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
          </p:nvPr>
        </p:nvSpPr>
        <p:spPr/>
        <p:txBody>
          <a:bodyPr/>
          <a:p>
            <a:fld id="{65FFC9F0-5060-4AFA-A75C-042B38B8E04D}" type="slidenum">
              <a:t>&lt;#&gt;</a:t>
            </a:fld>
          </a:p>
        </p:txBody>
      </p:sp>
    </p:spTree>
  </p:cSld>
</p:sldLayout>
</file>

<file path=ppt/slideLayouts/slideLayout3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7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8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8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8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8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8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0"/>
          </p:nvPr>
        </p:nvSpPr>
        <p:spPr/>
        <p:txBody>
          <a:bodyPr/>
          <a:p>
            <a:fld id="{900BF359-FEF4-48E0-8E42-0F4BF61A910B}" type="slidenum">
              <a:t>&lt;#&gt;</a:t>
            </a:fld>
          </a:p>
        </p:txBody>
      </p:sp>
    </p:spTree>
  </p:cSld>
</p:sldLayout>
</file>

<file path=ppt/slideLayouts/slideLayout3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1"/>
          </p:nvPr>
        </p:nvSpPr>
        <p:spPr/>
        <p:txBody>
          <a:bodyPr/>
          <a:p>
            <a:fld id="{51119A01-DDA4-4761-AB60-784078DDAFDD}" type="slidenum">
              <a:t>&lt;#&gt;</a:t>
            </a:fld>
          </a:p>
        </p:txBody>
      </p:sp>
    </p:spTree>
  </p:cSld>
</p:sldLayout>
</file>

<file path=ppt/slideLayouts/slideLayout3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9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1"/>
          </p:nvPr>
        </p:nvSpPr>
        <p:spPr/>
        <p:txBody>
          <a:bodyPr/>
          <a:p>
            <a:fld id="{93616D5D-0927-4D02-BD56-578E32E4E0DE}" type="slidenum">
              <a:t>&lt;#&gt;</a:t>
            </a:fld>
          </a:p>
        </p:txBody>
      </p:sp>
    </p:spTree>
  </p:cSld>
</p:sldLayout>
</file>

<file path=ppt/slideLayouts/slideLayout3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9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1"/>
          </p:nvPr>
        </p:nvSpPr>
        <p:spPr/>
        <p:txBody>
          <a:bodyPr/>
          <a:p>
            <a:fld id="{7A6DA7F2-825E-4465-B39C-88674FCB8B77}" type="slidenum">
              <a:t>&lt;#&gt;</a:t>
            </a:fld>
          </a:p>
        </p:txBody>
      </p:sp>
    </p:spTree>
  </p:cSld>
</p:sldLayout>
</file>

<file path=ppt/slideLayouts/slideLayout3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29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29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1"/>
          </p:nvPr>
        </p:nvSpPr>
        <p:spPr/>
        <p:txBody>
          <a:bodyPr/>
          <a:p>
            <a:fld id="{6272F0D5-506E-4C28-A415-6E4AD6839BD2}" type="slidenum">
              <a:t>&lt;#&gt;</a:t>
            </a:fld>
          </a:p>
        </p:txBody>
      </p:sp>
    </p:spTree>
  </p:cSld>
</p:sldLayout>
</file>

<file path=ppt/slideLayouts/slideLayout3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1"/>
          </p:nvPr>
        </p:nvSpPr>
        <p:spPr/>
        <p:txBody>
          <a:bodyPr/>
          <a:p>
            <a:fld id="{D60A2570-F50A-4FCF-A1B1-255AB9516DAB}" type="slidenum">
              <a:t>&lt;#&gt;</a:t>
            </a:fld>
          </a:p>
        </p:txBody>
      </p:sp>
    </p:spTree>
  </p:cSld>
</p:sldLayout>
</file>

<file path=ppt/slideLayouts/slideLayout3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0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1"/>
          </p:nvPr>
        </p:nvSpPr>
        <p:spPr/>
        <p:txBody>
          <a:bodyPr/>
          <a:p>
            <a:fld id="{BAF944C9-D368-4ABF-8A50-DA75BDF9D38F}" type="slidenum">
              <a:t>&lt;#&gt;</a:t>
            </a:fld>
          </a:p>
        </p:txBody>
      </p:sp>
    </p:spTree>
  </p:cSld>
</p:sldLayout>
</file>

<file path=ppt/slideLayouts/slideLayout3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0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0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0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1"/>
          </p:nvPr>
        </p:nvSpPr>
        <p:spPr/>
        <p:txBody>
          <a:bodyPr/>
          <a:p>
            <a:fld id="{620BA5B2-8F9A-4803-8EF6-4B8229E58576}" type="slidenum">
              <a:t>&lt;#&gt;</a:t>
            </a:fld>
          </a:p>
        </p:txBody>
      </p:sp>
    </p:spTree>
  </p:cSld>
</p:sldLayout>
</file>

<file path=ppt/slideLayouts/slideLayout3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0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0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0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1"/>
          </p:nvPr>
        </p:nvSpPr>
        <p:spPr/>
        <p:txBody>
          <a:bodyPr/>
          <a:p>
            <a:fld id="{7F41A1A0-D075-4DBF-9488-E8ADF49F72A9}" type="slidenum">
              <a:t>&lt;#&gt;</a:t>
            </a:fld>
          </a:p>
        </p:txBody>
      </p:sp>
    </p:spTree>
  </p:cSld>
</p:sldLayout>
</file>

<file path=ppt/slideLayouts/slideLayout3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1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1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1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1"/>
          </p:nvPr>
        </p:nvSpPr>
        <p:spPr/>
        <p:txBody>
          <a:bodyPr/>
          <a:p>
            <a:fld id="{4B3588C1-CDAB-40E0-B031-15A25E55F6B2}"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B38A889-3016-432C-BB16-5A356511A046}" type="slidenum">
              <a:t>&lt;#&gt;</a:t>
            </a:fld>
          </a:p>
        </p:txBody>
      </p:sp>
    </p:spTree>
  </p:cSld>
</p:sldLayout>
</file>

<file path=ppt/slideLayouts/slideLayout3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1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1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1"/>
          </p:nvPr>
        </p:nvSpPr>
        <p:spPr/>
        <p:txBody>
          <a:bodyPr/>
          <a:p>
            <a:fld id="{C36E7D1E-1DE8-410E-B996-832048618997}" type="slidenum">
              <a:t>&lt;#&gt;</a:t>
            </a:fld>
          </a:p>
        </p:txBody>
      </p:sp>
    </p:spTree>
  </p:cSld>
</p:sldLayout>
</file>

<file path=ppt/slideLayouts/slideLayout3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1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1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1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2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1"/>
          </p:nvPr>
        </p:nvSpPr>
        <p:spPr/>
        <p:txBody>
          <a:bodyPr/>
          <a:p>
            <a:fld id="{CC5A1393-BA4E-4939-90A1-439C0612A993}" type="slidenum">
              <a:t>&lt;#&gt;</a:t>
            </a:fld>
          </a:p>
        </p:txBody>
      </p:sp>
    </p:spTree>
  </p:cSld>
</p:sldLayout>
</file>

<file path=ppt/slideLayouts/slideLayout3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2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2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2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2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2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2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1"/>
          </p:nvPr>
        </p:nvSpPr>
        <p:spPr/>
        <p:txBody>
          <a:bodyPr/>
          <a:p>
            <a:fld id="{2113B976-5EA1-461F-B2B4-5ED631ACE7FA}" type="slidenum">
              <a:t>&lt;#&gt;</a:t>
            </a:fld>
          </a:p>
        </p:txBody>
      </p:sp>
    </p:spTree>
  </p:cSld>
</p:sldLayout>
</file>

<file path=ppt/slideLayouts/slideLayout3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2"/>
          </p:nvPr>
        </p:nvSpPr>
        <p:spPr/>
        <p:txBody>
          <a:bodyPr/>
          <a:p>
            <a:fld id="{0B7E9C11-E37C-4207-BC70-CF753670F669}" type="slidenum">
              <a:t>&lt;#&gt;</a:t>
            </a:fld>
          </a:p>
        </p:txBody>
      </p:sp>
    </p:spTree>
  </p:cSld>
</p:sldLayout>
</file>

<file path=ppt/slideLayouts/slideLayout3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3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2"/>
          </p:nvPr>
        </p:nvSpPr>
        <p:spPr/>
        <p:txBody>
          <a:bodyPr/>
          <a:p>
            <a:fld id="{ABA57C81-B1C4-4CB7-B41C-E83BB0CB93F3}" type="slidenum">
              <a:t>&lt;#&gt;</a:t>
            </a:fld>
          </a:p>
        </p:txBody>
      </p:sp>
    </p:spTree>
  </p:cSld>
</p:sldLayout>
</file>

<file path=ppt/slideLayouts/slideLayout3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3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2"/>
          </p:nvPr>
        </p:nvSpPr>
        <p:spPr/>
        <p:txBody>
          <a:bodyPr/>
          <a:p>
            <a:fld id="{E9117BBC-637E-4841-BF92-17C9D8D0AA66}" type="slidenum">
              <a:t>&lt;#&gt;</a:t>
            </a:fld>
          </a:p>
        </p:txBody>
      </p:sp>
    </p:spTree>
  </p:cSld>
</p:sldLayout>
</file>

<file path=ppt/slideLayouts/slideLayout3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4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4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2"/>
          </p:nvPr>
        </p:nvSpPr>
        <p:spPr/>
        <p:txBody>
          <a:bodyPr/>
          <a:p>
            <a:fld id="{19840CD3-5706-4D00-84B0-B66B99F11FE1}" type="slidenum">
              <a:t>&lt;#&gt;</a:t>
            </a:fld>
          </a:p>
        </p:txBody>
      </p:sp>
    </p:spTree>
  </p:cSld>
</p:sldLayout>
</file>

<file path=ppt/slideLayouts/slideLayout3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2"/>
          </p:nvPr>
        </p:nvSpPr>
        <p:spPr/>
        <p:txBody>
          <a:bodyPr/>
          <a:p>
            <a:fld id="{C7C0964A-C200-416D-99C9-1E6A99BA8D23}" type="slidenum">
              <a:t>&lt;#&gt;</a:t>
            </a:fld>
          </a:p>
        </p:txBody>
      </p:sp>
    </p:spTree>
  </p:cSld>
</p:sldLayout>
</file>

<file path=ppt/slideLayouts/slideLayout3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4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2"/>
          </p:nvPr>
        </p:nvSpPr>
        <p:spPr/>
        <p:txBody>
          <a:bodyPr/>
          <a:p>
            <a:fld id="{4181920B-201F-4455-891F-0FE86D1C817C}" type="slidenum">
              <a:t>&lt;#&gt;</a:t>
            </a:fld>
          </a:p>
        </p:txBody>
      </p:sp>
    </p:spTree>
  </p:cSld>
</p:sldLayout>
</file>

<file path=ppt/slideLayouts/slideLayout3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4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4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4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2"/>
          </p:nvPr>
        </p:nvSpPr>
        <p:spPr/>
        <p:txBody>
          <a:bodyPr/>
          <a:p>
            <a:fld id="{70BCD620-0112-402F-9638-127B0F35EB6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4581986-3967-4F79-8B31-2216AF1107F6}" type="slidenum">
              <a:t>&lt;#&gt;</a:t>
            </a:fld>
          </a:p>
        </p:txBody>
      </p:sp>
    </p:spTree>
  </p:cSld>
</p:sldLayout>
</file>

<file path=ppt/slideLayouts/slideLayout3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4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5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5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2"/>
          </p:nvPr>
        </p:nvSpPr>
        <p:spPr/>
        <p:txBody>
          <a:bodyPr/>
          <a:p>
            <a:fld id="{DA3D9289-ECE6-4874-9243-B9E0BAA19075}" type="slidenum">
              <a:t>&lt;#&gt;</a:t>
            </a:fld>
          </a:p>
        </p:txBody>
      </p:sp>
    </p:spTree>
  </p:cSld>
</p:sldLayout>
</file>

<file path=ppt/slideLayouts/slideLayout3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5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5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5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2"/>
          </p:nvPr>
        </p:nvSpPr>
        <p:spPr/>
        <p:txBody>
          <a:bodyPr/>
          <a:p>
            <a:fld id="{4BFCC933-07C1-4716-9458-A644448970FC}" type="slidenum">
              <a:t>&lt;#&gt;</a:t>
            </a:fld>
          </a:p>
        </p:txBody>
      </p:sp>
    </p:spTree>
  </p:cSld>
</p:sldLayout>
</file>

<file path=ppt/slideLayouts/slideLayout3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5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5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2"/>
          </p:nvPr>
        </p:nvSpPr>
        <p:spPr/>
        <p:txBody>
          <a:bodyPr/>
          <a:p>
            <a:fld id="{9C7BEF87-2D6E-4084-9C03-32F41E36F3E1}" type="slidenum">
              <a:t>&lt;#&gt;</a:t>
            </a:fld>
          </a:p>
        </p:txBody>
      </p:sp>
    </p:spTree>
  </p:cSld>
</p:sldLayout>
</file>

<file path=ppt/slideLayouts/slideLayout3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6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6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6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6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2"/>
          </p:nvPr>
        </p:nvSpPr>
        <p:spPr/>
        <p:txBody>
          <a:bodyPr/>
          <a:p>
            <a:fld id="{B8068D31-1D16-4FEC-8E9F-3FCAE09F8A9C}" type="slidenum">
              <a:t>&lt;#&gt;</a:t>
            </a:fld>
          </a:p>
        </p:txBody>
      </p:sp>
    </p:spTree>
  </p:cSld>
</p:sldLayout>
</file>

<file path=ppt/slideLayouts/slideLayout3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6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6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6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6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6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7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2"/>
          </p:nvPr>
        </p:nvSpPr>
        <p:spPr/>
        <p:txBody>
          <a:bodyPr/>
          <a:p>
            <a:fld id="{D5A86DA5-0B05-4AAB-97E8-16E2E75A7C2A}" type="slidenum">
              <a:t>&lt;#&gt;</a:t>
            </a:fld>
          </a:p>
        </p:txBody>
      </p:sp>
    </p:spTree>
  </p:cSld>
</p:sldLayout>
</file>

<file path=ppt/slideLayouts/slideLayout3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92CDF4D7-DEB9-4736-B6E4-CD01728D928E}" type="slidenum">
              <a:t>&lt;#&gt;</a:t>
            </a:fld>
          </a:p>
        </p:txBody>
      </p:sp>
    </p:spTree>
  </p:cSld>
</p:sldLayout>
</file>

<file path=ppt/slideLayouts/slideLayout3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7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3"/>
          </p:nvPr>
        </p:nvSpPr>
        <p:spPr/>
        <p:txBody>
          <a:bodyPr/>
          <a:p>
            <a:fld id="{A9B7F70C-4B2F-45D0-9D7E-79D8B5E7569A}" type="slidenum">
              <a:t>&lt;#&gt;</a:t>
            </a:fld>
          </a:p>
        </p:txBody>
      </p:sp>
    </p:spTree>
  </p:cSld>
</p:sldLayout>
</file>

<file path=ppt/slideLayouts/slideLayout3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8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3"/>
          </p:nvPr>
        </p:nvSpPr>
        <p:spPr/>
        <p:txBody>
          <a:bodyPr/>
          <a:p>
            <a:fld id="{AB3DCB05-2811-4182-B39A-DC0A86A3388D}" type="slidenum">
              <a:t>&lt;#&gt;</a:t>
            </a:fld>
          </a:p>
        </p:txBody>
      </p:sp>
    </p:spTree>
  </p:cSld>
</p:sldLayout>
</file>

<file path=ppt/slideLayouts/slideLayout3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8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8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3"/>
          </p:nvPr>
        </p:nvSpPr>
        <p:spPr/>
        <p:txBody>
          <a:bodyPr/>
          <a:p>
            <a:fld id="{287381DA-7F4C-4E49-85F2-2DA9B7D44BF6}" type="slidenum">
              <a:t>&lt;#&gt;</a:t>
            </a:fld>
          </a:p>
        </p:txBody>
      </p:sp>
    </p:spTree>
  </p:cSld>
</p:sldLayout>
</file>

<file path=ppt/slideLayouts/slideLayout3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3"/>
          </p:nvPr>
        </p:nvSpPr>
        <p:spPr/>
        <p:txBody>
          <a:bodyPr/>
          <a:p>
            <a:fld id="{4CB1BD16-AC4B-4443-A41A-2402D05242B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
          </p:nvPr>
        </p:nvSpPr>
        <p:spPr/>
        <p:txBody>
          <a:bodyPr/>
          <a:p>
            <a:fld id="{78B6C08F-C413-4B68-8B43-87EF425B2A12}" type="slidenum">
              <a:t>&lt;#&gt;</a:t>
            </a:fld>
          </a:p>
        </p:txBody>
      </p:sp>
    </p:spTree>
  </p:cSld>
</p:sldLayout>
</file>

<file path=ppt/slideLayouts/slideLayout3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8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3"/>
          </p:nvPr>
        </p:nvSpPr>
        <p:spPr/>
        <p:txBody>
          <a:bodyPr/>
          <a:p>
            <a:fld id="{B3470C2E-DBBF-4B27-8134-96DA17AEE605}" type="slidenum">
              <a:t>&lt;#&gt;</a:t>
            </a:fld>
          </a:p>
        </p:txBody>
      </p:sp>
    </p:spTree>
  </p:cSld>
</p:sldLayout>
</file>

<file path=ppt/slideLayouts/slideLayout3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8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8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8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3"/>
          </p:nvPr>
        </p:nvSpPr>
        <p:spPr/>
        <p:txBody>
          <a:bodyPr/>
          <a:p>
            <a:fld id="{8E38CF1E-768C-4838-9A6D-DAB5EDB13B1A}" type="slidenum">
              <a:t>&lt;#&gt;</a:t>
            </a:fld>
          </a:p>
        </p:txBody>
      </p:sp>
    </p:spTree>
  </p:cSld>
</p:sldLayout>
</file>

<file path=ppt/slideLayouts/slideLayout3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9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9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9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3"/>
          </p:nvPr>
        </p:nvSpPr>
        <p:spPr/>
        <p:txBody>
          <a:bodyPr/>
          <a:p>
            <a:fld id="{15C47B01-D07A-4322-9A67-318C9E120C37}" type="slidenum">
              <a:t>&lt;#&gt;</a:t>
            </a:fld>
          </a:p>
        </p:txBody>
      </p:sp>
    </p:spTree>
  </p:cSld>
</p:sldLayout>
</file>

<file path=ppt/slideLayouts/slideLayout3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9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9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9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3"/>
          </p:nvPr>
        </p:nvSpPr>
        <p:spPr/>
        <p:txBody>
          <a:bodyPr/>
          <a:p>
            <a:fld id="{3F7475A6-92C9-4468-B36A-A10002936340}" type="slidenum">
              <a:t>&lt;#&gt;</a:t>
            </a:fld>
          </a:p>
        </p:txBody>
      </p:sp>
    </p:spTree>
  </p:cSld>
</p:sldLayout>
</file>

<file path=ppt/slideLayouts/slideLayout3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9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9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0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3"/>
          </p:nvPr>
        </p:nvSpPr>
        <p:spPr/>
        <p:txBody>
          <a:bodyPr/>
          <a:p>
            <a:fld id="{BE4E1912-0780-42C1-80BF-902F58D86E75}" type="slidenum">
              <a:t>&lt;#&gt;</a:t>
            </a:fld>
          </a:p>
        </p:txBody>
      </p:sp>
    </p:spTree>
  </p:cSld>
</p:sldLayout>
</file>

<file path=ppt/slideLayouts/slideLayout3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0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0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0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0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3"/>
          </p:nvPr>
        </p:nvSpPr>
        <p:spPr/>
        <p:txBody>
          <a:bodyPr/>
          <a:p>
            <a:fld id="{FAB06A2E-51E6-4739-A451-8C1E4308B257}" type="slidenum">
              <a:t>&lt;#&gt;</a:t>
            </a:fld>
          </a:p>
        </p:txBody>
      </p:sp>
    </p:spTree>
  </p:cSld>
</p:sldLayout>
</file>

<file path=ppt/slideLayouts/slideLayout3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0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0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0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1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1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1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3"/>
          </p:nvPr>
        </p:nvSpPr>
        <p:spPr/>
        <p:txBody>
          <a:bodyPr/>
          <a:p>
            <a:fld id="{C030B120-7055-4572-81E2-B9B152C0A40C}" type="slidenum">
              <a:t>&lt;#&gt;</a:t>
            </a:fld>
          </a:p>
        </p:txBody>
      </p:sp>
    </p:spTree>
  </p:cSld>
</p:sldLayout>
</file>

<file path=ppt/slideLayouts/slideLayout3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4"/>
          </p:nvPr>
        </p:nvSpPr>
        <p:spPr/>
        <p:txBody>
          <a:bodyPr/>
          <a:p>
            <a:fld id="{A9C00596-C563-449B-8338-A43D38C1E0CE}" type="slidenum">
              <a:t>&lt;#&gt;</a:t>
            </a:fld>
          </a:p>
        </p:txBody>
      </p:sp>
    </p:spTree>
  </p:cSld>
</p:sldLayout>
</file>

<file path=ppt/slideLayouts/slideLayout3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2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4"/>
          </p:nvPr>
        </p:nvSpPr>
        <p:spPr/>
        <p:txBody>
          <a:bodyPr/>
          <a:p>
            <a:fld id="{A659BBE7-E3F2-44A8-B34B-DA52AC0E225A}" type="slidenum">
              <a:t>&lt;#&gt;</a:t>
            </a:fld>
          </a:p>
        </p:txBody>
      </p:sp>
    </p:spTree>
  </p:cSld>
</p:sldLayout>
</file>

<file path=ppt/slideLayouts/slideLayout3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2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4"/>
          </p:nvPr>
        </p:nvSpPr>
        <p:spPr/>
        <p:txBody>
          <a:bodyPr/>
          <a:p>
            <a:fld id="{3DBFEDDE-4C28-4C44-BEB9-802D5C99BB5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1"/>
          </p:nvPr>
        </p:nvSpPr>
        <p:spPr/>
        <p:txBody>
          <a:bodyPr/>
          <a:p>
            <a:fld id="{1DC8B30B-BB11-4483-BAAE-D558730C0C08}"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3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3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
          </p:nvPr>
        </p:nvSpPr>
        <p:spPr/>
        <p:txBody>
          <a:bodyPr/>
          <a:p>
            <a:fld id="{40004EA0-C383-4FA6-9F08-C82B65A8DDB2}" type="slidenum">
              <a:t>&lt;#&gt;</a:t>
            </a:fld>
          </a:p>
        </p:txBody>
      </p:sp>
    </p:spTree>
  </p:cSld>
</p:sldLayout>
</file>

<file path=ppt/slideLayouts/slideLayout4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2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2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2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4"/>
          </p:nvPr>
        </p:nvSpPr>
        <p:spPr/>
        <p:txBody>
          <a:bodyPr/>
          <a:p>
            <a:fld id="{95E2D7DD-7BC4-4F80-9BD9-2CE3F68D0288}" type="slidenum">
              <a:t>&lt;#&gt;</a:t>
            </a:fld>
          </a:p>
        </p:txBody>
      </p:sp>
    </p:spTree>
  </p:cSld>
</p:sldLayout>
</file>

<file path=ppt/slideLayouts/slideLayout4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4"/>
          </p:nvPr>
        </p:nvSpPr>
        <p:spPr/>
        <p:txBody>
          <a:bodyPr/>
          <a:p>
            <a:fld id="{86EADB0D-C151-4752-94CC-27120AD34D11}" type="slidenum">
              <a:t>&lt;#&gt;</a:t>
            </a:fld>
          </a:p>
        </p:txBody>
      </p:sp>
    </p:spTree>
  </p:cSld>
</p:sldLayout>
</file>

<file path=ppt/slideLayouts/slideLayout4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2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4"/>
          </p:nvPr>
        </p:nvSpPr>
        <p:spPr/>
        <p:txBody>
          <a:bodyPr/>
          <a:p>
            <a:fld id="{4F4300E0-4A7A-4C65-9B3B-68FD4752E030}" type="slidenum">
              <a:t>&lt;#&gt;</a:t>
            </a:fld>
          </a:p>
        </p:txBody>
      </p:sp>
    </p:spTree>
  </p:cSld>
</p:sldLayout>
</file>

<file path=ppt/slideLayouts/slideLayout4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2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3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3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4"/>
          </p:nvPr>
        </p:nvSpPr>
        <p:spPr/>
        <p:txBody>
          <a:bodyPr/>
          <a:p>
            <a:fld id="{0979BBE4-B7DB-4B74-AFF7-4AD2ADC7FE0A}" type="slidenum">
              <a:t>&lt;#&gt;</a:t>
            </a:fld>
          </a:p>
        </p:txBody>
      </p:sp>
    </p:spTree>
  </p:cSld>
</p:sldLayout>
</file>

<file path=ppt/slideLayouts/slideLayout4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3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3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3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4"/>
          </p:nvPr>
        </p:nvSpPr>
        <p:spPr/>
        <p:txBody>
          <a:bodyPr/>
          <a:p>
            <a:fld id="{054380EB-5B81-4B92-BDBC-E30E16BCE4D0}" type="slidenum">
              <a:t>&lt;#&gt;</a:t>
            </a:fld>
          </a:p>
        </p:txBody>
      </p:sp>
    </p:spTree>
  </p:cSld>
</p:sldLayout>
</file>

<file path=ppt/slideLayouts/slideLayout4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3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3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3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3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4"/>
          </p:nvPr>
        </p:nvSpPr>
        <p:spPr/>
        <p:txBody>
          <a:bodyPr/>
          <a:p>
            <a:fld id="{973A828D-9F51-4C3C-8469-EA35F701829E}" type="slidenum">
              <a:t>&lt;#&gt;</a:t>
            </a:fld>
          </a:p>
        </p:txBody>
      </p:sp>
    </p:spTree>
  </p:cSld>
</p:sldLayout>
</file>

<file path=ppt/slideLayouts/slideLayout4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4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4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4"/>
          </p:nvPr>
        </p:nvSpPr>
        <p:spPr/>
        <p:txBody>
          <a:bodyPr/>
          <a:p>
            <a:fld id="{6C40CB2A-052A-4BB5-8EE6-D418145C25FB}" type="slidenum">
              <a:t>&lt;#&gt;</a:t>
            </a:fld>
          </a:p>
        </p:txBody>
      </p:sp>
    </p:spTree>
  </p:cSld>
</p:sldLayout>
</file>

<file path=ppt/slideLayouts/slideLayout4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4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4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4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4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4"/>
          </p:nvPr>
        </p:nvSpPr>
        <p:spPr/>
        <p:txBody>
          <a:bodyPr/>
          <a:p>
            <a:fld id="{3BD6FEA2-6EE8-41E8-A830-4D649F851CC2}" type="slidenum">
              <a:t>&lt;#&gt;</a:t>
            </a:fld>
          </a:p>
        </p:txBody>
      </p:sp>
    </p:spTree>
  </p:cSld>
</p:sldLayout>
</file>

<file path=ppt/slideLayouts/slideLayout4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4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5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5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5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5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5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4"/>
          </p:nvPr>
        </p:nvSpPr>
        <p:spPr/>
        <p:txBody>
          <a:bodyPr/>
          <a:p>
            <a:fld id="{C8048726-01F6-49B6-A987-5298963B5486}" type="slidenum">
              <a:t>&lt;#&gt;</a:t>
            </a:fld>
          </a:p>
        </p:txBody>
      </p:sp>
    </p:spTree>
  </p:cSld>
</p:sldLayout>
</file>

<file path=ppt/slideLayouts/slideLayout4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5"/>
          </p:nvPr>
        </p:nvSpPr>
        <p:spPr/>
        <p:txBody>
          <a:bodyPr/>
          <a:p>
            <a:fld id="{F5C555EE-BE82-4E0F-87A3-8E78242E43A5}"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
          </p:nvPr>
        </p:nvSpPr>
        <p:spPr/>
        <p:txBody>
          <a:bodyPr/>
          <a:p>
            <a:fld id="{8F959A36-0E78-4BFC-8B2B-4AF337502C4F}" type="slidenum">
              <a:t>&lt;#&gt;</a:t>
            </a:fld>
          </a:p>
        </p:txBody>
      </p:sp>
    </p:spTree>
  </p:cSld>
</p:sldLayout>
</file>

<file path=ppt/slideLayouts/slideLayout4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6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5"/>
          </p:nvPr>
        </p:nvSpPr>
        <p:spPr/>
        <p:txBody>
          <a:bodyPr/>
          <a:p>
            <a:fld id="{B3161876-BB86-40B7-8398-AABC1264F70F}" type="slidenum">
              <a:t>&lt;#&gt;</a:t>
            </a:fld>
          </a:p>
        </p:txBody>
      </p:sp>
    </p:spTree>
  </p:cSld>
</p:sldLayout>
</file>

<file path=ppt/slideLayouts/slideLayout4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6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5"/>
          </p:nvPr>
        </p:nvSpPr>
        <p:spPr/>
        <p:txBody>
          <a:bodyPr/>
          <a:p>
            <a:fld id="{B8B88B3B-FBA7-4CC9-8B11-CFEE4E1A97E0}" type="slidenum">
              <a:t>&lt;#&gt;</a:t>
            </a:fld>
          </a:p>
        </p:txBody>
      </p:sp>
    </p:spTree>
  </p:cSld>
</p:sldLayout>
</file>

<file path=ppt/slideLayouts/slideLayout4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6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6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5"/>
          </p:nvPr>
        </p:nvSpPr>
        <p:spPr/>
        <p:txBody>
          <a:bodyPr/>
          <a:p>
            <a:fld id="{CCA5C34A-231C-4B2A-ACAC-8AB3A3C2343B}" type="slidenum">
              <a:t>&lt;#&gt;</a:t>
            </a:fld>
          </a:p>
        </p:txBody>
      </p:sp>
    </p:spTree>
  </p:cSld>
</p:sldLayout>
</file>

<file path=ppt/slideLayouts/slideLayout4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5"/>
          </p:nvPr>
        </p:nvSpPr>
        <p:spPr/>
        <p:txBody>
          <a:bodyPr/>
          <a:p>
            <a:fld id="{27DD258C-51A0-4DA2-A5E0-5EAE4F206BC9}" type="slidenum">
              <a:t>&lt;#&gt;</a:t>
            </a:fld>
          </a:p>
        </p:txBody>
      </p:sp>
    </p:spTree>
  </p:cSld>
</p:sldLayout>
</file>

<file path=ppt/slideLayouts/slideLayout4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5"/>
          </p:nvPr>
        </p:nvSpPr>
        <p:spPr/>
        <p:txBody>
          <a:bodyPr/>
          <a:p>
            <a:fld id="{10096609-5F12-4E56-ACEF-8FC7C3FB6854}" type="slidenum">
              <a:t>&lt;#&gt;</a:t>
            </a:fld>
          </a:p>
        </p:txBody>
      </p:sp>
    </p:spTree>
  </p:cSld>
</p:sldLayout>
</file>

<file path=ppt/slideLayouts/slideLayout4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7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7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7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5"/>
          </p:nvPr>
        </p:nvSpPr>
        <p:spPr/>
        <p:txBody>
          <a:bodyPr/>
          <a:p>
            <a:fld id="{FE6C8ED0-BA78-4D6C-BB9F-22AB504C924B}" type="slidenum">
              <a:t>&lt;#&gt;</a:t>
            </a:fld>
          </a:p>
        </p:txBody>
      </p:sp>
    </p:spTree>
  </p:cSld>
</p:sldLayout>
</file>

<file path=ppt/slideLayouts/slideLayout4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7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7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7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5"/>
          </p:nvPr>
        </p:nvSpPr>
        <p:spPr/>
        <p:txBody>
          <a:bodyPr/>
          <a:p>
            <a:fld id="{A6096CE4-51DF-4463-BE79-A3AF8E5DEF5F}" type="slidenum">
              <a:t>&lt;#&gt;</a:t>
            </a:fld>
          </a:p>
        </p:txBody>
      </p:sp>
    </p:spTree>
  </p:cSld>
</p:sldLayout>
</file>

<file path=ppt/slideLayouts/slideLayout4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8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8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8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5"/>
          </p:nvPr>
        </p:nvSpPr>
        <p:spPr/>
        <p:txBody>
          <a:bodyPr/>
          <a:p>
            <a:fld id="{3E2DC09E-0D4D-472D-A19C-8DBDC3CE3880}" type="slidenum">
              <a:t>&lt;#&gt;</a:t>
            </a:fld>
          </a:p>
        </p:txBody>
      </p:sp>
    </p:spTree>
  </p:cSld>
</p:sldLayout>
</file>

<file path=ppt/slideLayouts/slideLayout4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8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8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5"/>
          </p:nvPr>
        </p:nvSpPr>
        <p:spPr/>
        <p:txBody>
          <a:bodyPr/>
          <a:p>
            <a:fld id="{19989092-CBC9-4DC8-85D9-81FA4E15601B}" type="slidenum">
              <a:t>&lt;#&gt;</a:t>
            </a:fld>
          </a:p>
        </p:txBody>
      </p:sp>
    </p:spTree>
  </p:cSld>
</p:sldLayout>
</file>

<file path=ppt/slideLayouts/slideLayout4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8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8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8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9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5"/>
          </p:nvPr>
        </p:nvSpPr>
        <p:spPr/>
        <p:txBody>
          <a:bodyPr/>
          <a:p>
            <a:fld id="{1CA629E2-F796-4D44-9BD4-4246DC0C2601}"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FF760667-3042-4569-9613-24EC48A3E30D}" type="slidenum">
              <a:t>&lt;#&gt;</a:t>
            </a:fld>
          </a:p>
        </p:txBody>
      </p:sp>
    </p:spTree>
  </p:cSld>
</p:sldLayout>
</file>

<file path=ppt/slideLayouts/slideLayout4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9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9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9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9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9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9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5"/>
          </p:nvPr>
        </p:nvSpPr>
        <p:spPr/>
        <p:txBody>
          <a:bodyPr/>
          <a:p>
            <a:fld id="{632E7BD3-C10B-447B-B52A-299835C6152C}" type="slidenum">
              <a:t>&lt;#&gt;</a:t>
            </a:fld>
          </a:p>
        </p:txBody>
      </p:sp>
    </p:spTree>
  </p:cSld>
</p:sldLayout>
</file>

<file path=ppt/slideLayouts/slideLayout4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6"/>
          </p:nvPr>
        </p:nvSpPr>
        <p:spPr/>
        <p:txBody>
          <a:bodyPr/>
          <a:p>
            <a:fld id="{8D96553F-A32F-4068-A175-699B0501907D}" type="slidenum">
              <a:t>&lt;#&gt;</a:t>
            </a:fld>
          </a:p>
        </p:txBody>
      </p:sp>
    </p:spTree>
  </p:cSld>
</p:sldLayout>
</file>

<file path=ppt/slideLayouts/slideLayout4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05"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6"/>
          </p:nvPr>
        </p:nvSpPr>
        <p:spPr/>
        <p:txBody>
          <a:bodyPr/>
          <a:p>
            <a:fld id="{6EED4426-7250-410B-B9C7-B4D65F4FF648}" type="slidenum">
              <a:t>&lt;#&gt;</a:t>
            </a:fld>
          </a:p>
        </p:txBody>
      </p:sp>
    </p:spTree>
  </p:cSld>
</p:sldLayout>
</file>

<file path=ppt/slideLayouts/slideLayout4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07"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6"/>
          </p:nvPr>
        </p:nvSpPr>
        <p:spPr/>
        <p:txBody>
          <a:bodyPr/>
          <a:p>
            <a:fld id="{5BA32AEC-FB9B-4917-A8E1-E53ACDD5B055}" type="slidenum">
              <a:t>&lt;#&gt;</a:t>
            </a:fld>
          </a:p>
        </p:txBody>
      </p:sp>
    </p:spTree>
  </p:cSld>
</p:sldLayout>
</file>

<file path=ppt/slideLayouts/slideLayout4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0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1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6"/>
          </p:nvPr>
        </p:nvSpPr>
        <p:spPr/>
        <p:txBody>
          <a:bodyPr/>
          <a:p>
            <a:fld id="{492F462F-106D-45B3-B7CB-C586818F1BF7}" type="slidenum">
              <a:t>&lt;#&gt;</a:t>
            </a:fld>
          </a:p>
        </p:txBody>
      </p:sp>
    </p:spTree>
  </p:cSld>
</p:sldLayout>
</file>

<file path=ppt/slideLayouts/slideLayout4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6"/>
          </p:nvPr>
        </p:nvSpPr>
        <p:spPr/>
        <p:txBody>
          <a:bodyPr/>
          <a:p>
            <a:fld id="{F7875C84-79DD-4642-B317-EABD73915F3C}" type="slidenum">
              <a:t>&lt;#&gt;</a:t>
            </a:fld>
          </a:p>
        </p:txBody>
      </p:sp>
    </p:spTree>
  </p:cSld>
</p:sldLayout>
</file>

<file path=ppt/slideLayouts/slideLayout4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2"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6"/>
          </p:nvPr>
        </p:nvSpPr>
        <p:spPr/>
        <p:txBody>
          <a:bodyPr/>
          <a:p>
            <a:fld id="{1B89F468-3DFA-4C15-A28E-D3ED79B21700}" type="slidenum">
              <a:t>&lt;#&gt;</a:t>
            </a:fld>
          </a:p>
        </p:txBody>
      </p:sp>
    </p:spTree>
  </p:cSld>
</p:sldLayout>
</file>

<file path=ppt/slideLayouts/slideLayout4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1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1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1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6"/>
          </p:nvPr>
        </p:nvSpPr>
        <p:spPr/>
        <p:txBody>
          <a:bodyPr/>
          <a:p>
            <a:fld id="{E947B357-CADA-4EB3-A604-B1EA1591E7B1}" type="slidenum">
              <a:t>&lt;#&gt;</a:t>
            </a:fld>
          </a:p>
        </p:txBody>
      </p:sp>
    </p:spTree>
  </p:cSld>
</p:sldLayout>
</file>

<file path=ppt/slideLayouts/slideLayout4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1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1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20"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6"/>
          </p:nvPr>
        </p:nvSpPr>
        <p:spPr/>
        <p:txBody>
          <a:bodyPr/>
          <a:p>
            <a:fld id="{05B8B58E-D399-4967-8366-B6356AE932E0}" type="slidenum">
              <a:t>&lt;#&gt;</a:t>
            </a:fld>
          </a:p>
        </p:txBody>
      </p:sp>
    </p:spTree>
  </p:cSld>
</p:sldLayout>
</file>

<file path=ppt/slideLayouts/slideLayout4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2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2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24"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6"/>
          </p:nvPr>
        </p:nvSpPr>
        <p:spPr/>
        <p:txBody>
          <a:bodyPr/>
          <a:p>
            <a:fld id="{13362C0C-1AED-4176-8CFA-3DB70889374E}"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
          </p:nvPr>
        </p:nvSpPr>
        <p:spPr/>
        <p:txBody>
          <a:bodyPr/>
          <a:p>
            <a:fld id="{70CC504D-D699-4572-9497-C21C50017937}" type="slidenum">
              <a:t>&lt;#&gt;</a:t>
            </a:fld>
          </a:p>
        </p:txBody>
      </p:sp>
    </p:spTree>
  </p:cSld>
</p:sldLayout>
</file>

<file path=ppt/slideLayouts/slideLayout4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26"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27"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6"/>
          </p:nvPr>
        </p:nvSpPr>
        <p:spPr/>
        <p:txBody>
          <a:bodyPr/>
          <a:p>
            <a:fld id="{2AEA3157-DA78-4F66-B640-AE1D53EEF9F2}" type="slidenum">
              <a:t>&lt;#&gt;</a:t>
            </a:fld>
          </a:p>
        </p:txBody>
      </p:sp>
    </p:spTree>
  </p:cSld>
</p:sldLayout>
</file>

<file path=ppt/slideLayouts/slideLayout4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2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2"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6"/>
          </p:nvPr>
        </p:nvSpPr>
        <p:spPr/>
        <p:txBody>
          <a:bodyPr/>
          <a:p>
            <a:fld id="{C7CA538E-A873-47D7-9110-75AABCC61BDE}" type="slidenum">
              <a:t>&lt;#&gt;</a:t>
            </a:fld>
          </a:p>
        </p:txBody>
      </p:sp>
    </p:spTree>
  </p:cSld>
</p:sldLayout>
</file>

<file path=ppt/slideLayouts/slideLayout4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34"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5"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6"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7"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8"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9"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6"/>
          </p:nvPr>
        </p:nvSpPr>
        <p:spPr/>
        <p:txBody>
          <a:bodyPr/>
          <a:p>
            <a:fld id="{8D73831A-D1CE-4D77-B063-E55B6DCF0130}" type="slidenum">
              <a:t>&lt;#&gt;</a:t>
            </a:fld>
          </a:p>
        </p:txBody>
      </p:sp>
    </p:spTree>
  </p:cSld>
</p:sldLayout>
</file>

<file path=ppt/slideLayouts/slideLayout4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7"/>
          </p:nvPr>
        </p:nvSpPr>
        <p:spPr/>
        <p:txBody>
          <a:bodyPr/>
          <a:p>
            <a:fld id="{2D3FAEDA-9A91-43E3-B79B-A31C36F990DD}" type="slidenum">
              <a:t>&lt;#&gt;</a:t>
            </a:fld>
          </a:p>
        </p:txBody>
      </p:sp>
    </p:spTree>
  </p:cSld>
</p:sldLayout>
</file>

<file path=ppt/slideLayouts/slideLayout4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4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47"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7"/>
          </p:nvPr>
        </p:nvSpPr>
        <p:spPr/>
        <p:txBody>
          <a:bodyPr/>
          <a:p>
            <a:fld id="{76E0E73D-E26B-4E6F-A9E1-2537A2E65C5F}" type="slidenum">
              <a:t>&lt;#&gt;</a:t>
            </a:fld>
          </a:p>
        </p:txBody>
      </p:sp>
    </p:spTree>
  </p:cSld>
</p:sldLayout>
</file>

<file path=ppt/slideLayouts/slideLayout4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49"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7"/>
          </p:nvPr>
        </p:nvSpPr>
        <p:spPr/>
        <p:txBody>
          <a:bodyPr/>
          <a:p>
            <a:fld id="{736F2BE9-A1FF-4993-9699-55808F99F7BD}" type="slidenum">
              <a:t>&lt;#&gt;</a:t>
            </a:fld>
          </a:p>
        </p:txBody>
      </p:sp>
    </p:spTree>
  </p:cSld>
</p:sldLayout>
</file>

<file path=ppt/slideLayouts/slideLayout4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5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5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5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7"/>
          </p:nvPr>
        </p:nvSpPr>
        <p:spPr/>
        <p:txBody>
          <a:bodyPr/>
          <a:p>
            <a:fld id="{FE03EA75-6270-4934-839C-27D3EAC7B391}" type="slidenum">
              <a:t>&lt;#&gt;</a:t>
            </a:fld>
          </a:p>
        </p:txBody>
      </p:sp>
    </p:spTree>
  </p:cSld>
</p:sldLayout>
</file>

<file path=ppt/slideLayouts/slideLayout4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7"/>
          </p:nvPr>
        </p:nvSpPr>
        <p:spPr/>
        <p:txBody>
          <a:bodyPr/>
          <a:p>
            <a:fld id="{8B134318-D519-486E-B99B-FA3656AB40DC}" type="slidenum">
              <a:t>&lt;#&gt;</a:t>
            </a:fld>
          </a:p>
        </p:txBody>
      </p:sp>
    </p:spTree>
  </p:cSld>
</p:sldLayout>
</file>

<file path=ppt/slideLayouts/slideLayout4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54"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7"/>
          </p:nvPr>
        </p:nvSpPr>
        <p:spPr/>
        <p:txBody>
          <a:bodyPr/>
          <a:p>
            <a:fld id="{292488DD-C7BE-49E5-BB56-430CDC822888}" type="slidenum">
              <a:t>&lt;#&gt;</a:t>
            </a:fld>
          </a:p>
        </p:txBody>
      </p:sp>
    </p:spTree>
  </p:cSld>
</p:sldLayout>
</file>

<file path=ppt/slideLayouts/slideLayout4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5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5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5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7"/>
          </p:nvPr>
        </p:nvSpPr>
        <p:spPr/>
        <p:txBody>
          <a:bodyPr/>
          <a:p>
            <a:fld id="{307FFDC4-C34C-4267-A6F8-3F3D7396C66C}"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4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4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
          </p:nvPr>
        </p:nvSpPr>
        <p:spPr/>
        <p:txBody>
          <a:bodyPr/>
          <a:p>
            <a:fld id="{602B770E-9E4A-40E4-9968-EF3161A84BE2}" type="slidenum">
              <a:t>&lt;#&gt;</a:t>
            </a:fld>
          </a:p>
        </p:txBody>
      </p:sp>
    </p:spTree>
  </p:cSld>
</p:sldLayout>
</file>

<file path=ppt/slideLayouts/slideLayout4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6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6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62"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7"/>
          </p:nvPr>
        </p:nvSpPr>
        <p:spPr/>
        <p:txBody>
          <a:bodyPr/>
          <a:p>
            <a:fld id="{A7A77658-3BD1-4B35-A6C2-435CA6CEBBDA}" type="slidenum">
              <a:t>&lt;#&gt;</a:t>
            </a:fld>
          </a:p>
        </p:txBody>
      </p:sp>
    </p:spTree>
  </p:cSld>
</p:sldLayout>
</file>

<file path=ppt/slideLayouts/slideLayout4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6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6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66"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7"/>
          </p:nvPr>
        </p:nvSpPr>
        <p:spPr/>
        <p:txBody>
          <a:bodyPr/>
          <a:p>
            <a:fld id="{6C1A93C1-97D6-4161-AD91-EFF8830F53F4}" type="slidenum">
              <a:t>&lt;#&gt;</a:t>
            </a:fld>
          </a:p>
        </p:txBody>
      </p:sp>
    </p:spTree>
  </p:cSld>
</p:sldLayout>
</file>

<file path=ppt/slideLayouts/slideLayout4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68"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69"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7"/>
          </p:nvPr>
        </p:nvSpPr>
        <p:spPr/>
        <p:txBody>
          <a:bodyPr/>
          <a:p>
            <a:fld id="{2ACF3464-8B2F-47C1-9050-9C1380F11A05}" type="slidenum">
              <a:t>&lt;#&gt;</a:t>
            </a:fld>
          </a:p>
        </p:txBody>
      </p:sp>
    </p:spTree>
  </p:cSld>
</p:sldLayout>
</file>

<file path=ppt/slideLayouts/slideLayout4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7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7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7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74"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7"/>
          </p:nvPr>
        </p:nvSpPr>
        <p:spPr/>
        <p:txBody>
          <a:bodyPr/>
          <a:p>
            <a:fld id="{57F2F435-5650-4133-B93E-892A79EF25CA}" type="slidenum">
              <a:t>&lt;#&gt;</a:t>
            </a:fld>
          </a:p>
        </p:txBody>
      </p:sp>
    </p:spTree>
  </p:cSld>
</p:sldLayout>
</file>

<file path=ppt/slideLayouts/slideLayout4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76"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77"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78"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79"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80"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81"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7"/>
          </p:nvPr>
        </p:nvSpPr>
        <p:spPr/>
        <p:txBody>
          <a:bodyPr/>
          <a:p>
            <a:fld id="{09949D02-3BDA-43D4-B72B-2DEFF900EA9E}" type="slidenum">
              <a:t>&lt;#&gt;</a:t>
            </a:fld>
          </a:p>
        </p:txBody>
      </p:sp>
    </p:spTree>
  </p:cSld>
</p:sldLayout>
</file>

<file path=ppt/slideLayouts/slideLayout4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8"/>
          </p:nvPr>
        </p:nvSpPr>
        <p:spPr/>
        <p:txBody>
          <a:bodyPr/>
          <a:p>
            <a:fld id="{8B5B1293-3B9C-4838-A40B-A06B46F04F57}" type="slidenum">
              <a:t>&lt;#&gt;</a:t>
            </a:fld>
          </a:p>
        </p:txBody>
      </p:sp>
    </p:spTree>
  </p:cSld>
</p:sldLayout>
</file>

<file path=ppt/slideLayouts/slideLayout4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8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8"/>
          </p:nvPr>
        </p:nvSpPr>
        <p:spPr/>
        <p:txBody>
          <a:bodyPr/>
          <a:p>
            <a:fld id="{3BFEC599-F2C6-4262-ADC7-705EDAF8AEB3}" type="slidenum">
              <a:t>&lt;#&gt;</a:t>
            </a:fld>
          </a:p>
        </p:txBody>
      </p:sp>
    </p:spTree>
  </p:cSld>
</p:sldLayout>
</file>

<file path=ppt/slideLayouts/slideLayout4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9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8"/>
          </p:nvPr>
        </p:nvSpPr>
        <p:spPr/>
        <p:txBody>
          <a:bodyPr/>
          <a:p>
            <a:fld id="{5A7FC100-A131-4D91-A36A-365E9AB2A43F}" type="slidenum">
              <a:t>&lt;#&gt;</a:t>
            </a:fld>
          </a:p>
        </p:txBody>
      </p:sp>
    </p:spTree>
  </p:cSld>
</p:sldLayout>
</file>

<file path=ppt/slideLayouts/slideLayout4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9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9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8"/>
          </p:nvPr>
        </p:nvSpPr>
        <p:spPr/>
        <p:txBody>
          <a:bodyPr/>
          <a:p>
            <a:fld id="{24A50DC9-A8CF-4EE2-B767-566446476374}" type="slidenum">
              <a:t>&lt;#&gt;</a:t>
            </a:fld>
          </a:p>
        </p:txBody>
      </p:sp>
    </p:spTree>
  </p:cSld>
</p:sldLayout>
</file>

<file path=ppt/slideLayouts/slideLayout4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8"/>
          </p:nvPr>
        </p:nvSpPr>
        <p:spPr/>
        <p:txBody>
          <a:bodyPr/>
          <a:p>
            <a:fld id="{A2D3667F-A6C4-4D3F-91AB-FE74490DC15C}"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
          </p:nvPr>
        </p:nvSpPr>
        <p:spPr/>
        <p:txBody>
          <a:bodyPr/>
          <a:p>
            <a:fld id="{E287F031-86CA-4BE3-B128-598D13B65E22}" type="slidenum">
              <a:t>&lt;#&gt;</a:t>
            </a:fld>
          </a:p>
        </p:txBody>
      </p:sp>
    </p:spTree>
  </p:cSld>
</p:sldLayout>
</file>

<file path=ppt/slideLayouts/slideLayout4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9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8"/>
          </p:nvPr>
        </p:nvSpPr>
        <p:spPr/>
        <p:txBody>
          <a:bodyPr/>
          <a:p>
            <a:fld id="{D0D4DCBC-1E6F-4D61-A2E6-7E0D1EB68CC0}" type="slidenum">
              <a:t>&lt;#&gt;</a:t>
            </a:fld>
          </a:p>
        </p:txBody>
      </p:sp>
    </p:spTree>
  </p:cSld>
</p:sldLayout>
</file>

<file path=ppt/slideLayouts/slideLayout4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9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9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0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8"/>
          </p:nvPr>
        </p:nvSpPr>
        <p:spPr/>
        <p:txBody>
          <a:bodyPr/>
          <a:p>
            <a:fld id="{40EC180C-5B10-43D0-B4B9-D1346FC66BD2}" type="slidenum">
              <a:t>&lt;#&gt;</a:t>
            </a:fld>
          </a:p>
        </p:txBody>
      </p:sp>
    </p:spTree>
  </p:cSld>
</p:sldLayout>
</file>

<file path=ppt/slideLayouts/slideLayout4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0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0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0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8"/>
          </p:nvPr>
        </p:nvSpPr>
        <p:spPr/>
        <p:txBody>
          <a:bodyPr/>
          <a:p>
            <a:fld id="{3F207B1A-F516-4995-A7C4-0104F37DCBD9}" type="slidenum">
              <a:t>&lt;#&gt;</a:t>
            </a:fld>
          </a:p>
        </p:txBody>
      </p:sp>
    </p:spTree>
  </p:cSld>
</p:sldLayout>
</file>

<file path=ppt/slideLayouts/slideLayout4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0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0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0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8"/>
          </p:nvPr>
        </p:nvSpPr>
        <p:spPr/>
        <p:txBody>
          <a:bodyPr/>
          <a:p>
            <a:fld id="{C78FCED2-5305-4E6B-A849-12CF2E9912DB}" type="slidenum">
              <a:t>&lt;#&gt;</a:t>
            </a:fld>
          </a:p>
        </p:txBody>
      </p:sp>
    </p:spTree>
  </p:cSld>
</p:sldLayout>
</file>

<file path=ppt/slideLayouts/slideLayout4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1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1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8"/>
          </p:nvPr>
        </p:nvSpPr>
        <p:spPr/>
        <p:txBody>
          <a:bodyPr/>
          <a:p>
            <a:fld id="{2EA28698-CBE4-4F32-B1BA-8505277513E4}" type="slidenum">
              <a:t>&lt;#&gt;</a:t>
            </a:fld>
          </a:p>
        </p:txBody>
      </p:sp>
    </p:spTree>
  </p:cSld>
</p:sldLayout>
</file>

<file path=ppt/slideLayouts/slideLayout4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1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1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1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1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8"/>
          </p:nvPr>
        </p:nvSpPr>
        <p:spPr/>
        <p:txBody>
          <a:bodyPr/>
          <a:p>
            <a:fld id="{600E00CF-52F2-49CC-924D-AC6CC94DE09E}" type="slidenum">
              <a:t>&lt;#&gt;</a:t>
            </a:fld>
          </a:p>
        </p:txBody>
      </p:sp>
    </p:spTree>
  </p:cSld>
</p:sldLayout>
</file>

<file path=ppt/slideLayouts/slideLayout4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1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1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2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2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2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2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8"/>
          </p:nvPr>
        </p:nvSpPr>
        <p:spPr/>
        <p:txBody>
          <a:bodyPr/>
          <a:p>
            <a:fld id="{A0426746-622F-4479-9541-845E6411C0C6}" type="slidenum">
              <a:t>&lt;#&gt;</a:t>
            </a:fld>
          </a:p>
        </p:txBody>
      </p:sp>
    </p:spTree>
  </p:cSld>
</p:sldLayout>
</file>

<file path=ppt/slideLayouts/slideLayout4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9"/>
          </p:nvPr>
        </p:nvSpPr>
        <p:spPr/>
        <p:txBody>
          <a:bodyPr/>
          <a:p>
            <a:fld id="{5EA4E0ED-C22E-4A07-98AF-A7ADDD849FF8}" type="slidenum">
              <a:t>&lt;#&gt;</a:t>
            </a:fld>
          </a:p>
        </p:txBody>
      </p:sp>
    </p:spTree>
  </p:cSld>
</p:sldLayout>
</file>

<file path=ppt/slideLayouts/slideLayout4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32"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39"/>
          </p:nvPr>
        </p:nvSpPr>
        <p:spPr/>
        <p:txBody>
          <a:bodyPr/>
          <a:p>
            <a:fld id="{F3326194-2B5F-41E1-82DA-D0206D218790}" type="slidenum">
              <a:t>&lt;#&gt;</a:t>
            </a:fld>
          </a:p>
        </p:txBody>
      </p:sp>
    </p:spTree>
  </p:cSld>
</p:sldLayout>
</file>

<file path=ppt/slideLayouts/slideLayout4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34"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39"/>
          </p:nvPr>
        </p:nvSpPr>
        <p:spPr/>
        <p:txBody>
          <a:bodyPr/>
          <a:p>
            <a:fld id="{B593275C-62B2-4BB2-854D-6F92061D0EF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
          </p:nvPr>
        </p:nvSpPr>
        <p:spPr/>
        <p:txBody>
          <a:bodyPr/>
          <a:p>
            <a:fld id="{34E30E66-45DF-4085-929B-5A0B89B761D2}" type="slidenum">
              <a:t>&lt;#&gt;</a:t>
            </a:fld>
          </a:p>
        </p:txBody>
      </p:sp>
    </p:spTree>
  </p:cSld>
</p:sldLayout>
</file>

<file path=ppt/slideLayouts/slideLayout4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3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3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9"/>
          </p:nvPr>
        </p:nvSpPr>
        <p:spPr/>
        <p:txBody>
          <a:bodyPr/>
          <a:p>
            <a:fld id="{2EF1F17E-DBDD-449E-ACA7-924F75BB2530}" type="slidenum">
              <a:t>&lt;#&gt;</a:t>
            </a:fld>
          </a:p>
        </p:txBody>
      </p:sp>
    </p:spTree>
  </p:cSld>
</p:sldLayout>
</file>

<file path=ppt/slideLayouts/slideLayout4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39"/>
          </p:nvPr>
        </p:nvSpPr>
        <p:spPr/>
        <p:txBody>
          <a:bodyPr/>
          <a:p>
            <a:fld id="{9BD4E690-8A4A-468E-8496-2F7C7472C8BB}" type="slidenum">
              <a:t>&lt;#&gt;</a:t>
            </a:fld>
          </a:p>
        </p:txBody>
      </p:sp>
    </p:spTree>
  </p:cSld>
</p:sldLayout>
</file>

<file path=ppt/slideLayouts/slideLayout4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39"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39"/>
          </p:nvPr>
        </p:nvSpPr>
        <p:spPr/>
        <p:txBody>
          <a:bodyPr/>
          <a:p>
            <a:fld id="{6619C140-B965-4FC9-A37F-6C03977D0BE0}" type="slidenum">
              <a:t>&lt;#&gt;</a:t>
            </a:fld>
          </a:p>
        </p:txBody>
      </p:sp>
    </p:spTree>
  </p:cSld>
</p:sldLayout>
</file>

<file path=ppt/slideLayouts/slideLayout4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4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4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4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9"/>
          </p:nvPr>
        </p:nvSpPr>
        <p:spPr/>
        <p:txBody>
          <a:bodyPr/>
          <a:p>
            <a:fld id="{CC909582-C5D8-4E26-930E-4F47F51C2329}" type="slidenum">
              <a:t>&lt;#&gt;</a:t>
            </a:fld>
          </a:p>
        </p:txBody>
      </p:sp>
    </p:spTree>
  </p:cSld>
</p:sldLayout>
</file>

<file path=ppt/slideLayouts/slideLayout4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4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4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47"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9"/>
          </p:nvPr>
        </p:nvSpPr>
        <p:spPr/>
        <p:txBody>
          <a:bodyPr/>
          <a:p>
            <a:fld id="{5ABABC1B-0180-403B-ACB2-553098B36E8F}" type="slidenum">
              <a:t>&lt;#&gt;</a:t>
            </a:fld>
          </a:p>
        </p:txBody>
      </p:sp>
    </p:spTree>
  </p:cSld>
</p:sldLayout>
</file>

<file path=ppt/slideLayouts/slideLayout4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4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5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51"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39"/>
          </p:nvPr>
        </p:nvSpPr>
        <p:spPr/>
        <p:txBody>
          <a:bodyPr/>
          <a:p>
            <a:fld id="{8EFD73BD-01D2-445A-B1D9-F965D1695B96}" type="slidenum">
              <a:t>&lt;#&gt;</a:t>
            </a:fld>
          </a:p>
        </p:txBody>
      </p:sp>
    </p:spTree>
  </p:cSld>
</p:sldLayout>
</file>

<file path=ppt/slideLayouts/slideLayout4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53"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54"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39"/>
          </p:nvPr>
        </p:nvSpPr>
        <p:spPr/>
        <p:txBody>
          <a:bodyPr/>
          <a:p>
            <a:fld id="{9318FCBA-C7C1-4131-972E-8AD4EF9013C6}" type="slidenum">
              <a:t>&lt;#&gt;</a:t>
            </a:fld>
          </a:p>
        </p:txBody>
      </p:sp>
    </p:spTree>
  </p:cSld>
</p:sldLayout>
</file>

<file path=ppt/slideLayouts/slideLayout4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5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5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5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59"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39"/>
          </p:nvPr>
        </p:nvSpPr>
        <p:spPr/>
        <p:txBody>
          <a:bodyPr/>
          <a:p>
            <a:fld id="{DE705CDA-E296-4953-B135-AC72BD1846FE}" type="slidenum">
              <a:t>&lt;#&gt;</a:t>
            </a:fld>
          </a:p>
        </p:txBody>
      </p:sp>
    </p:spTree>
  </p:cSld>
</p:sldLayout>
</file>

<file path=ppt/slideLayouts/slideLayout4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61"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62"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63"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64"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65"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66"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39"/>
          </p:nvPr>
        </p:nvSpPr>
        <p:spPr/>
        <p:txBody>
          <a:bodyPr/>
          <a:p>
            <a:fld id="{88C510F7-F3C6-4706-AF78-EBBEBE27CB79}" type="slidenum">
              <a:t>&lt;#&gt;</a:t>
            </a:fld>
          </a:p>
        </p:txBody>
      </p:sp>
    </p:spTree>
  </p:cSld>
</p:sldLayout>
</file>

<file path=ppt/slideLayouts/slideLayout4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0"/>
          </p:nvPr>
        </p:nvSpPr>
        <p:spPr/>
        <p:txBody>
          <a:bodyPr/>
          <a:p>
            <a:fld id="{C726C273-31A8-408B-875A-4E04D6B6AE58}"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5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
          </p:nvPr>
        </p:nvSpPr>
        <p:spPr/>
        <p:txBody>
          <a:bodyPr/>
          <a:p>
            <a:fld id="{466924B5-8629-4E31-B219-5D6BE4493DB9}" type="slidenum">
              <a:t>&lt;#&gt;</a:t>
            </a:fld>
          </a:p>
        </p:txBody>
      </p:sp>
    </p:spTree>
  </p:cSld>
</p:sldLayout>
</file>

<file path=ppt/slideLayouts/slideLayout4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7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77"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0"/>
          </p:nvPr>
        </p:nvSpPr>
        <p:spPr/>
        <p:txBody>
          <a:bodyPr/>
          <a:p>
            <a:fld id="{470A65B2-D3AB-4416-A062-5C1FA46E11B6}" type="slidenum">
              <a:t>&lt;#&gt;</a:t>
            </a:fld>
          </a:p>
        </p:txBody>
      </p:sp>
    </p:spTree>
  </p:cSld>
</p:sldLayout>
</file>

<file path=ppt/slideLayouts/slideLayout4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7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79"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0"/>
          </p:nvPr>
        </p:nvSpPr>
        <p:spPr/>
        <p:txBody>
          <a:bodyPr/>
          <a:p>
            <a:fld id="{D60DA11A-992D-4C5E-8B6F-35836FD91B82}" type="slidenum">
              <a:t>&lt;#&gt;</a:t>
            </a:fld>
          </a:p>
        </p:txBody>
      </p:sp>
    </p:spTree>
  </p:cSld>
</p:sldLayout>
</file>

<file path=ppt/slideLayouts/slideLayout4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8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8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8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0"/>
          </p:nvPr>
        </p:nvSpPr>
        <p:spPr/>
        <p:txBody>
          <a:bodyPr/>
          <a:p>
            <a:fld id="{78F87892-354A-4732-888E-AAF0F11750AB}" type="slidenum">
              <a:t>&lt;#&gt;</a:t>
            </a:fld>
          </a:p>
        </p:txBody>
      </p:sp>
    </p:spTree>
  </p:cSld>
</p:sldLayout>
</file>

<file path=ppt/slideLayouts/slideLayout4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8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0"/>
          </p:nvPr>
        </p:nvSpPr>
        <p:spPr/>
        <p:txBody>
          <a:bodyPr/>
          <a:p>
            <a:fld id="{DD3D5235-71D3-4A8A-8BB9-794525F02EC4}" type="slidenum">
              <a:t>&lt;#&gt;</a:t>
            </a:fld>
          </a:p>
        </p:txBody>
      </p:sp>
    </p:spTree>
  </p:cSld>
</p:sldLayout>
</file>

<file path=ppt/slideLayouts/slideLayout4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84"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0"/>
          </p:nvPr>
        </p:nvSpPr>
        <p:spPr/>
        <p:txBody>
          <a:bodyPr/>
          <a:p>
            <a:fld id="{5C86DF01-6CD6-4B06-99C2-D5E62F74C194}" type="slidenum">
              <a:t>&lt;#&gt;</a:t>
            </a:fld>
          </a:p>
        </p:txBody>
      </p:sp>
    </p:spTree>
  </p:cSld>
</p:sldLayout>
</file>

<file path=ppt/slideLayouts/slideLayout4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8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8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8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0"/>
          </p:nvPr>
        </p:nvSpPr>
        <p:spPr/>
        <p:txBody>
          <a:bodyPr/>
          <a:p>
            <a:fld id="{93554D8E-08CD-42A2-915B-9EB2A7471733}" type="slidenum">
              <a:t>&lt;#&gt;</a:t>
            </a:fld>
          </a:p>
        </p:txBody>
      </p:sp>
    </p:spTree>
  </p:cSld>
</p:sldLayout>
</file>

<file path=ppt/slideLayouts/slideLayout4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9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9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92"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0"/>
          </p:nvPr>
        </p:nvSpPr>
        <p:spPr/>
        <p:txBody>
          <a:bodyPr/>
          <a:p>
            <a:fld id="{1E68EEF0-54A1-4ADE-9775-B8CA8B2C47F2}" type="slidenum">
              <a:t>&lt;#&gt;</a:t>
            </a:fld>
          </a:p>
        </p:txBody>
      </p:sp>
    </p:spTree>
  </p:cSld>
</p:sldLayout>
</file>

<file path=ppt/slideLayouts/slideLayout4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9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9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9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96"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0"/>
          </p:nvPr>
        </p:nvSpPr>
        <p:spPr/>
        <p:txBody>
          <a:bodyPr/>
          <a:p>
            <a:fld id="{EE300AFC-43A7-43DC-B491-9D676438E710}" type="slidenum">
              <a:t>&lt;#&gt;</a:t>
            </a:fld>
          </a:p>
        </p:txBody>
      </p:sp>
    </p:spTree>
  </p:cSld>
</p:sldLayout>
</file>

<file path=ppt/slideLayouts/slideLayout4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98"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99"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0"/>
          </p:nvPr>
        </p:nvSpPr>
        <p:spPr/>
        <p:txBody>
          <a:bodyPr/>
          <a:p>
            <a:fld id="{347AEB5F-D109-4742-8E0D-9625D3D271CA}" type="slidenum">
              <a:t>&lt;#&gt;</a:t>
            </a:fld>
          </a:p>
        </p:txBody>
      </p:sp>
    </p:spTree>
  </p:cSld>
</p:sldLayout>
</file>

<file path=ppt/slideLayouts/slideLayout4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0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0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0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04"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0"/>
          </p:nvPr>
        </p:nvSpPr>
        <p:spPr/>
        <p:txBody>
          <a:bodyPr/>
          <a:p>
            <a:fld id="{33091967-3E53-45AA-837B-B8E8EDC27603}"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6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
          </p:nvPr>
        </p:nvSpPr>
        <p:spPr/>
        <p:txBody>
          <a:bodyPr/>
          <a:p>
            <a:fld id="{BCB3EC7A-C460-4226-8B5E-43C53733267D}" type="slidenum">
              <a:t>&lt;#&gt;</a:t>
            </a:fld>
          </a:p>
        </p:txBody>
      </p:sp>
    </p:spTree>
  </p:cSld>
</p:sldLayout>
</file>

<file path=ppt/slideLayouts/slideLayout4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06"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07"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08"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09"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10"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11"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0"/>
          </p:nvPr>
        </p:nvSpPr>
        <p:spPr/>
        <p:txBody>
          <a:bodyPr/>
          <a:p>
            <a:fld id="{A3C4BFEE-AE2C-4F58-9C4F-E2AD18667BA6}" type="slidenum">
              <a:t>&lt;#&gt;</a:t>
            </a:fld>
          </a:p>
        </p:txBody>
      </p:sp>
    </p:spTree>
  </p:cSld>
</p:sldLayout>
</file>

<file path=ppt/slideLayouts/slideLayout4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1"/>
          </p:nvPr>
        </p:nvSpPr>
        <p:spPr/>
        <p:txBody>
          <a:bodyPr/>
          <a:p>
            <a:fld id="{24B22E8A-87FE-445C-B3B7-B6BCCAB8B09D}" type="slidenum">
              <a:t>&lt;#&gt;</a:t>
            </a:fld>
          </a:p>
        </p:txBody>
      </p:sp>
    </p:spTree>
  </p:cSld>
</p:sldLayout>
</file>

<file path=ppt/slideLayouts/slideLayout4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1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1"/>
          </p:nvPr>
        </p:nvSpPr>
        <p:spPr/>
        <p:txBody>
          <a:bodyPr/>
          <a:p>
            <a:fld id="{4CB4AEF2-90B5-4266-9FC8-06C9628C933E}" type="slidenum">
              <a:t>&lt;#&gt;</a:t>
            </a:fld>
          </a:p>
        </p:txBody>
      </p:sp>
    </p:spTree>
  </p:cSld>
</p:sldLayout>
</file>

<file path=ppt/slideLayouts/slideLayout4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2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1"/>
          </p:nvPr>
        </p:nvSpPr>
        <p:spPr/>
        <p:txBody>
          <a:bodyPr/>
          <a:p>
            <a:fld id="{5968F7EB-51C1-491B-A69D-40335F083B26}" type="slidenum">
              <a:t>&lt;#&gt;</a:t>
            </a:fld>
          </a:p>
        </p:txBody>
      </p:sp>
    </p:spTree>
  </p:cSld>
</p:sldLayout>
</file>

<file path=ppt/slideLayouts/slideLayout4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2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2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1"/>
          </p:nvPr>
        </p:nvSpPr>
        <p:spPr/>
        <p:txBody>
          <a:bodyPr/>
          <a:p>
            <a:fld id="{F8F260F8-63AC-47D0-A585-1F67188C6997}" type="slidenum">
              <a:t>&lt;#&gt;</a:t>
            </a:fld>
          </a:p>
        </p:txBody>
      </p:sp>
    </p:spTree>
  </p:cSld>
</p:sldLayout>
</file>

<file path=ppt/slideLayouts/slideLayout4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1"/>
          </p:nvPr>
        </p:nvSpPr>
        <p:spPr/>
        <p:txBody>
          <a:bodyPr/>
          <a:p>
            <a:fld id="{ED849CBB-39A1-4640-86E8-AA555F6DFE93}" type="slidenum">
              <a:t>&lt;#&gt;</a:t>
            </a:fld>
          </a:p>
        </p:txBody>
      </p:sp>
    </p:spTree>
  </p:cSld>
</p:sldLayout>
</file>

<file path=ppt/slideLayouts/slideLayout4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2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1"/>
          </p:nvPr>
        </p:nvSpPr>
        <p:spPr/>
        <p:txBody>
          <a:bodyPr/>
          <a:p>
            <a:fld id="{ABB998B1-A4AF-49A5-A41D-9D32D00DBFD5}" type="slidenum">
              <a:t>&lt;#&gt;</a:t>
            </a:fld>
          </a:p>
        </p:txBody>
      </p:sp>
    </p:spTree>
  </p:cSld>
</p:sldLayout>
</file>

<file path=ppt/slideLayouts/slideLayout4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2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2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3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1"/>
          </p:nvPr>
        </p:nvSpPr>
        <p:spPr/>
        <p:txBody>
          <a:bodyPr/>
          <a:p>
            <a:fld id="{CD666941-8613-4777-B89E-AD90D87DCB3C}" type="slidenum">
              <a:t>&lt;#&gt;</a:t>
            </a:fld>
          </a:p>
        </p:txBody>
      </p:sp>
    </p:spTree>
  </p:cSld>
</p:sldLayout>
</file>

<file path=ppt/slideLayouts/slideLayout4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3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3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3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1"/>
          </p:nvPr>
        </p:nvSpPr>
        <p:spPr/>
        <p:txBody>
          <a:bodyPr/>
          <a:p>
            <a:fld id="{1FD08F81-D086-43FD-8351-0AB221957F0E}" type="slidenum">
              <a:t>&lt;#&gt;</a:t>
            </a:fld>
          </a:p>
        </p:txBody>
      </p:sp>
    </p:spTree>
  </p:cSld>
</p:sldLayout>
</file>

<file path=ppt/slideLayouts/slideLayout4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3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3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3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1"/>
          </p:nvPr>
        </p:nvSpPr>
        <p:spPr/>
        <p:txBody>
          <a:bodyPr/>
          <a:p>
            <a:fld id="{0E24329A-14FF-4831-9FA2-50FA8CB20B8D}"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2DC6E0AD-9DB3-454F-A7EC-FADE38DC9DE9}" type="slidenum">
              <a:t>&lt;#&gt;</a:t>
            </a:fld>
          </a:p>
        </p:txBody>
      </p:sp>
    </p:spTree>
  </p:cSld>
</p:sldLayout>
</file>

<file path=ppt/slideLayouts/slideLayout4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4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4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1"/>
          </p:nvPr>
        </p:nvSpPr>
        <p:spPr/>
        <p:txBody>
          <a:bodyPr/>
          <a:p>
            <a:fld id="{0BDEA526-53AA-423D-931C-8CF20AF9585B}" type="slidenum">
              <a:t>&lt;#&gt;</a:t>
            </a:fld>
          </a:p>
        </p:txBody>
      </p:sp>
    </p:spTree>
  </p:cSld>
</p:sldLayout>
</file>

<file path=ppt/slideLayouts/slideLayout4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4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4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4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4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1"/>
          </p:nvPr>
        </p:nvSpPr>
        <p:spPr/>
        <p:txBody>
          <a:bodyPr/>
          <a:p>
            <a:fld id="{36AD4DFD-C3AB-466B-88FA-283069647B12}" type="slidenum">
              <a:t>&lt;#&gt;</a:t>
            </a:fld>
          </a:p>
        </p:txBody>
      </p:sp>
    </p:spTree>
  </p:cSld>
</p:sldLayout>
</file>

<file path=ppt/slideLayouts/slideLayout4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4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4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5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5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5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5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1"/>
          </p:nvPr>
        </p:nvSpPr>
        <p:spPr/>
        <p:txBody>
          <a:bodyPr/>
          <a:p>
            <a:fld id="{248B5862-0C40-480E-A3AF-FBFDB23B1C5D}" type="slidenum">
              <a:t>&lt;#&gt;</a:t>
            </a:fld>
          </a:p>
        </p:txBody>
      </p:sp>
    </p:spTree>
  </p:cSld>
</p:sldLayout>
</file>

<file path=ppt/slideLayouts/slideLayout4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2"/>
          </p:nvPr>
        </p:nvSpPr>
        <p:spPr/>
        <p:txBody>
          <a:bodyPr/>
          <a:p>
            <a:fld id="{55171960-CCC2-44D8-BF24-6072F2216FAC}" type="slidenum">
              <a:t>&lt;#&gt;</a:t>
            </a:fld>
          </a:p>
        </p:txBody>
      </p:sp>
    </p:spTree>
  </p:cSld>
</p:sldLayout>
</file>

<file path=ppt/slideLayouts/slideLayout4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61"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2"/>
          </p:nvPr>
        </p:nvSpPr>
        <p:spPr/>
        <p:txBody>
          <a:bodyPr/>
          <a:p>
            <a:fld id="{087FD764-8A64-4AE7-BEE3-14EB70396979}" type="slidenum">
              <a:t>&lt;#&gt;</a:t>
            </a:fld>
          </a:p>
        </p:txBody>
      </p:sp>
    </p:spTree>
  </p:cSld>
</p:sldLayout>
</file>

<file path=ppt/slideLayouts/slideLayout4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63"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2"/>
          </p:nvPr>
        </p:nvSpPr>
        <p:spPr/>
        <p:txBody>
          <a:bodyPr/>
          <a:p>
            <a:fld id="{D7647904-1CD3-4142-9D2D-262181D4DAFF}" type="slidenum">
              <a:t>&lt;#&gt;</a:t>
            </a:fld>
          </a:p>
        </p:txBody>
      </p:sp>
    </p:spTree>
  </p:cSld>
</p:sldLayout>
</file>

<file path=ppt/slideLayouts/slideLayout4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6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6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2"/>
          </p:nvPr>
        </p:nvSpPr>
        <p:spPr/>
        <p:txBody>
          <a:bodyPr/>
          <a:p>
            <a:fld id="{7ED7C1DB-789C-4EB0-AD1E-62881ACB62B7}" type="slidenum">
              <a:t>&lt;#&gt;</a:t>
            </a:fld>
          </a:p>
        </p:txBody>
      </p:sp>
    </p:spTree>
  </p:cSld>
</p:sldLayout>
</file>

<file path=ppt/slideLayouts/slideLayout4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2"/>
          </p:nvPr>
        </p:nvSpPr>
        <p:spPr/>
        <p:txBody>
          <a:bodyPr/>
          <a:p>
            <a:fld id="{E682B5A1-E9B2-4DD2-9AAD-35731508E041}" type="slidenum">
              <a:t>&lt;#&gt;</a:t>
            </a:fld>
          </a:p>
        </p:txBody>
      </p:sp>
    </p:spTree>
  </p:cSld>
</p:sldLayout>
</file>

<file path=ppt/slideLayouts/slideLayout4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8"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2"/>
          </p:nvPr>
        </p:nvSpPr>
        <p:spPr/>
        <p:txBody>
          <a:bodyPr/>
          <a:p>
            <a:fld id="{696B037D-0215-455F-A72A-94B5203E4B36}" type="slidenum">
              <a:t>&lt;#&gt;</a:t>
            </a:fld>
          </a:p>
        </p:txBody>
      </p:sp>
    </p:spTree>
  </p:cSld>
</p:sldLayout>
</file>

<file path=ppt/slideLayouts/slideLayout4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7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7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7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2"/>
          </p:nvPr>
        </p:nvSpPr>
        <p:spPr/>
        <p:txBody>
          <a:bodyPr/>
          <a:p>
            <a:fld id="{E3144EAB-8F5F-4C42-9CB8-8CF6EE33E00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1"/>
          </p:nvPr>
        </p:nvSpPr>
        <p:spPr/>
        <p:txBody>
          <a:bodyPr/>
          <a:p>
            <a:fld id="{A7122EE1-8D10-4240-BDF0-954AAE9CA23E}"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
          </p:nvPr>
        </p:nvSpPr>
        <p:spPr/>
        <p:txBody>
          <a:bodyPr/>
          <a:p>
            <a:fld id="{A64CC5E7-DAB2-4084-A4BB-329A78736E34}" type="slidenum">
              <a:t>&lt;#&gt;</a:t>
            </a:fld>
          </a:p>
        </p:txBody>
      </p:sp>
    </p:spTree>
  </p:cSld>
</p:sldLayout>
</file>

<file path=ppt/slideLayouts/slideLayout5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7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7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76"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2"/>
          </p:nvPr>
        </p:nvSpPr>
        <p:spPr/>
        <p:txBody>
          <a:bodyPr/>
          <a:p>
            <a:fld id="{A9301EB1-DFAD-447C-B49D-13FC81622EC3}" type="slidenum">
              <a:t>&lt;#&gt;</a:t>
            </a:fld>
          </a:p>
        </p:txBody>
      </p:sp>
    </p:spTree>
  </p:cSld>
</p:sldLayout>
</file>

<file path=ppt/slideLayouts/slideLayout5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7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7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80"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2"/>
          </p:nvPr>
        </p:nvSpPr>
        <p:spPr/>
        <p:txBody>
          <a:bodyPr/>
          <a:p>
            <a:fld id="{019BEFC0-80DB-4DD5-A362-DCCC067ABEAE}" type="slidenum">
              <a:t>&lt;#&gt;</a:t>
            </a:fld>
          </a:p>
        </p:txBody>
      </p:sp>
    </p:spTree>
  </p:cSld>
</p:sldLayout>
</file>

<file path=ppt/slideLayouts/slideLayout5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82"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83"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2"/>
          </p:nvPr>
        </p:nvSpPr>
        <p:spPr/>
        <p:txBody>
          <a:bodyPr/>
          <a:p>
            <a:fld id="{F4ACCBB2-6F8C-4FAD-8402-09CA9A947262}" type="slidenum">
              <a:t>&lt;#&gt;</a:t>
            </a:fld>
          </a:p>
        </p:txBody>
      </p:sp>
    </p:spTree>
  </p:cSld>
</p:sldLayout>
</file>

<file path=ppt/slideLayouts/slideLayout5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8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8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8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88"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2"/>
          </p:nvPr>
        </p:nvSpPr>
        <p:spPr/>
        <p:txBody>
          <a:bodyPr/>
          <a:p>
            <a:fld id="{90B082E3-BDCD-48DB-BD2B-93ACF31FC971}" type="slidenum">
              <a:t>&lt;#&gt;</a:t>
            </a:fld>
          </a:p>
        </p:txBody>
      </p:sp>
    </p:spTree>
  </p:cSld>
</p:sldLayout>
</file>

<file path=ppt/slideLayouts/slideLayout5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90"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91"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92"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93"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94"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95"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2"/>
          </p:nvPr>
        </p:nvSpPr>
        <p:spPr/>
        <p:txBody>
          <a:bodyPr/>
          <a:p>
            <a:fld id="{98BD3D44-F657-49A7-92AB-66054A9DB728}" type="slidenum">
              <a:t>&lt;#&gt;</a:t>
            </a:fld>
          </a:p>
        </p:txBody>
      </p:sp>
    </p:spTree>
  </p:cSld>
</p:sldLayout>
</file>

<file path=ppt/slideLayouts/slideLayout5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3"/>
          </p:nvPr>
        </p:nvSpPr>
        <p:spPr/>
        <p:txBody>
          <a:bodyPr/>
          <a:p>
            <a:fld id="{F1B1CF3C-A4AE-4284-95E7-E9C6D16BEA7A}" type="slidenum">
              <a:t>&lt;#&gt;</a:t>
            </a:fld>
          </a:p>
        </p:txBody>
      </p:sp>
    </p:spTree>
  </p:cSld>
</p:sldLayout>
</file>

<file path=ppt/slideLayouts/slideLayout5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0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0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3"/>
          </p:nvPr>
        </p:nvSpPr>
        <p:spPr/>
        <p:txBody>
          <a:bodyPr/>
          <a:p>
            <a:fld id="{AFD58CBE-959D-4F77-94A2-2AB0123E3008}" type="slidenum">
              <a:t>&lt;#&gt;</a:t>
            </a:fld>
          </a:p>
        </p:txBody>
      </p:sp>
    </p:spTree>
  </p:cSld>
</p:sldLayout>
</file>

<file path=ppt/slideLayouts/slideLayout5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0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3"/>
          </p:nvPr>
        </p:nvSpPr>
        <p:spPr/>
        <p:txBody>
          <a:bodyPr/>
          <a:p>
            <a:fld id="{C42FFE77-F6A4-4DF7-9C95-1680C75FFDAC}" type="slidenum">
              <a:t>&lt;#&gt;</a:t>
            </a:fld>
          </a:p>
        </p:txBody>
      </p:sp>
    </p:spTree>
  </p:cSld>
</p:sldLayout>
</file>

<file path=ppt/slideLayouts/slideLayout5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0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0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0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3"/>
          </p:nvPr>
        </p:nvSpPr>
        <p:spPr/>
        <p:txBody>
          <a:bodyPr/>
          <a:p>
            <a:fld id="{AD722187-C719-4C53-BB72-31F863615B5E}" type="slidenum">
              <a:t>&lt;#&gt;</a:t>
            </a:fld>
          </a:p>
        </p:txBody>
      </p:sp>
    </p:spTree>
  </p:cSld>
</p:sldLayout>
</file>

<file path=ppt/slideLayouts/slideLayout5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3"/>
          </p:nvPr>
        </p:nvSpPr>
        <p:spPr/>
        <p:txBody>
          <a:bodyPr/>
          <a:p>
            <a:fld id="{4E4C8297-0A61-4150-A356-CFD60C0D0192}"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7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
          </p:nvPr>
        </p:nvSpPr>
        <p:spPr/>
        <p:txBody>
          <a:bodyPr/>
          <a:p>
            <a:fld id="{7A4CE954-3B47-4277-9F44-4F7150A809A5}" type="slidenum">
              <a:t>&lt;#&gt;</a:t>
            </a:fld>
          </a:p>
        </p:txBody>
      </p:sp>
    </p:spTree>
  </p:cSld>
</p:sldLayout>
</file>

<file path=ppt/slideLayouts/slideLayout5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1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3"/>
          </p:nvPr>
        </p:nvSpPr>
        <p:spPr/>
        <p:txBody>
          <a:bodyPr/>
          <a:p>
            <a:fld id="{977342E3-194B-40BA-8605-FD7FA2F209DE}" type="slidenum">
              <a:t>&lt;#&gt;</a:t>
            </a:fld>
          </a:p>
        </p:txBody>
      </p:sp>
    </p:spTree>
  </p:cSld>
</p:sldLayout>
</file>

<file path=ppt/slideLayouts/slideLayout5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1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1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1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3"/>
          </p:nvPr>
        </p:nvSpPr>
        <p:spPr/>
        <p:txBody>
          <a:bodyPr/>
          <a:p>
            <a:fld id="{795C5BCB-E09D-4301-9BFE-989FC1D88512}" type="slidenum">
              <a:t>&lt;#&gt;</a:t>
            </a:fld>
          </a:p>
        </p:txBody>
      </p:sp>
    </p:spTree>
  </p:cSld>
</p:sldLayout>
</file>

<file path=ppt/slideLayouts/slideLayout5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1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1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1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3"/>
          </p:nvPr>
        </p:nvSpPr>
        <p:spPr/>
        <p:txBody>
          <a:bodyPr/>
          <a:p>
            <a:fld id="{FE322462-1ABC-4D4F-ABB6-9E1D99E9991B}" type="slidenum">
              <a:t>&lt;#&gt;</a:t>
            </a:fld>
          </a:p>
        </p:txBody>
      </p:sp>
    </p:spTree>
  </p:cSld>
</p:sldLayout>
</file>

<file path=ppt/slideLayouts/slideLayout5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2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2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2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3"/>
          </p:nvPr>
        </p:nvSpPr>
        <p:spPr/>
        <p:txBody>
          <a:bodyPr/>
          <a:p>
            <a:fld id="{4B22679A-E87E-4C76-9278-7E8D559FCE04}" type="slidenum">
              <a:t>&lt;#&gt;</a:t>
            </a:fld>
          </a:p>
        </p:txBody>
      </p:sp>
    </p:spTree>
  </p:cSld>
</p:sldLayout>
</file>

<file path=ppt/slideLayouts/slideLayout5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2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2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3"/>
          </p:nvPr>
        </p:nvSpPr>
        <p:spPr/>
        <p:txBody>
          <a:bodyPr/>
          <a:p>
            <a:fld id="{7EE46A75-C1BA-4B90-BF1C-69A8FBBB1881}" type="slidenum">
              <a:t>&lt;#&gt;</a:t>
            </a:fld>
          </a:p>
        </p:txBody>
      </p:sp>
    </p:spTree>
  </p:cSld>
</p:sldLayout>
</file>

<file path=ppt/slideLayouts/slideLayout5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2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2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3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3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3"/>
          </p:nvPr>
        </p:nvSpPr>
        <p:spPr/>
        <p:txBody>
          <a:bodyPr/>
          <a:p>
            <a:fld id="{B1521F75-ECFE-4B6A-8F68-824A1AA4FE78}" type="slidenum">
              <a:t>&lt;#&gt;</a:t>
            </a:fld>
          </a:p>
        </p:txBody>
      </p:sp>
    </p:spTree>
  </p:cSld>
</p:sldLayout>
</file>

<file path=ppt/slideLayouts/slideLayout5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3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3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3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3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3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3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3"/>
          </p:nvPr>
        </p:nvSpPr>
        <p:spPr/>
        <p:txBody>
          <a:bodyPr/>
          <a:p>
            <a:fld id="{0990AA02-B86B-4AD9-9EB5-26251264258B}" type="slidenum">
              <a:t>&lt;#&gt;</a:t>
            </a:fld>
          </a:p>
        </p:txBody>
      </p:sp>
    </p:spTree>
  </p:cSld>
</p:sldLayout>
</file>

<file path=ppt/slideLayouts/slideLayout5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4"/>
          </p:nvPr>
        </p:nvSpPr>
        <p:spPr/>
        <p:txBody>
          <a:bodyPr/>
          <a:p>
            <a:fld id="{32651E68-0DE1-4D0A-A3BF-A98343679BC6}" type="slidenum">
              <a:t>&lt;#&gt;</a:t>
            </a:fld>
          </a:p>
        </p:txBody>
      </p:sp>
    </p:spTree>
  </p:cSld>
</p:sldLayout>
</file>

<file path=ppt/slideLayouts/slideLayout5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51"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4"/>
          </p:nvPr>
        </p:nvSpPr>
        <p:spPr/>
        <p:txBody>
          <a:bodyPr/>
          <a:p>
            <a:fld id="{FE70E8F8-2241-4CFE-B6EC-5EBEB081CD65}" type="slidenum">
              <a:t>&lt;#&gt;</a:t>
            </a:fld>
          </a:p>
        </p:txBody>
      </p:sp>
    </p:spTree>
  </p:cSld>
</p:sldLayout>
</file>

<file path=ppt/slideLayouts/slideLayout5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53"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4"/>
          </p:nvPr>
        </p:nvSpPr>
        <p:spPr/>
        <p:txBody>
          <a:bodyPr/>
          <a:p>
            <a:fld id="{A3108EEF-F471-41C2-B943-ABF49DA3F27F}"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
          </p:nvPr>
        </p:nvSpPr>
        <p:spPr/>
        <p:txBody>
          <a:bodyPr/>
          <a:p>
            <a:fld id="{DAA79DA8-02FC-4803-B503-687872585275}" type="slidenum">
              <a:t>&lt;#&gt;</a:t>
            </a:fld>
          </a:p>
        </p:txBody>
      </p:sp>
    </p:spTree>
  </p:cSld>
</p:sldLayout>
</file>

<file path=ppt/slideLayouts/slideLayout5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5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5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4"/>
          </p:nvPr>
        </p:nvSpPr>
        <p:spPr/>
        <p:txBody>
          <a:bodyPr/>
          <a:p>
            <a:fld id="{E3B0B262-E541-4F2F-9236-DA45F8560C25}" type="slidenum">
              <a:t>&lt;#&gt;</a:t>
            </a:fld>
          </a:p>
        </p:txBody>
      </p:sp>
    </p:spTree>
  </p:cSld>
</p:sldLayout>
</file>

<file path=ppt/slideLayouts/slideLayout5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4"/>
          </p:nvPr>
        </p:nvSpPr>
        <p:spPr/>
        <p:txBody>
          <a:bodyPr/>
          <a:p>
            <a:fld id="{F2BA24BD-F061-4097-AC04-BD0AD583D7DE}" type="slidenum">
              <a:t>&lt;#&gt;</a:t>
            </a:fld>
          </a:p>
        </p:txBody>
      </p:sp>
    </p:spTree>
  </p:cSld>
</p:sldLayout>
</file>

<file path=ppt/slideLayouts/slideLayout5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8"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4"/>
          </p:nvPr>
        </p:nvSpPr>
        <p:spPr/>
        <p:txBody>
          <a:bodyPr/>
          <a:p>
            <a:fld id="{0DCB0ADF-495B-4E47-A5AB-0923217F230B}" type="slidenum">
              <a:t>&lt;#&gt;</a:t>
            </a:fld>
          </a:p>
        </p:txBody>
      </p:sp>
    </p:spTree>
  </p:cSld>
</p:sldLayout>
</file>

<file path=ppt/slideLayouts/slideLayout5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6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6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6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4"/>
          </p:nvPr>
        </p:nvSpPr>
        <p:spPr/>
        <p:txBody>
          <a:bodyPr/>
          <a:p>
            <a:fld id="{8A89EEFF-A9D0-43CF-BBD3-370AA4983F1E}" type="slidenum">
              <a:t>&lt;#&gt;</a:t>
            </a:fld>
          </a:p>
        </p:txBody>
      </p:sp>
    </p:spTree>
  </p:cSld>
</p:sldLayout>
</file>

<file path=ppt/slideLayouts/slideLayout5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6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6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6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66"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4"/>
          </p:nvPr>
        </p:nvSpPr>
        <p:spPr/>
        <p:txBody>
          <a:bodyPr/>
          <a:p>
            <a:fld id="{96078D4D-6011-4E4F-BC7B-F0DE627ECBC3}" type="slidenum">
              <a:t>&lt;#&gt;</a:t>
            </a:fld>
          </a:p>
        </p:txBody>
      </p:sp>
    </p:spTree>
  </p:cSld>
</p:sldLayout>
</file>

<file path=ppt/slideLayouts/slideLayout5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6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6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70"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4"/>
          </p:nvPr>
        </p:nvSpPr>
        <p:spPr/>
        <p:txBody>
          <a:bodyPr/>
          <a:p>
            <a:fld id="{377D6150-4B2F-4357-9C67-0B39BA2E655B}" type="slidenum">
              <a:t>&lt;#&gt;</a:t>
            </a:fld>
          </a:p>
        </p:txBody>
      </p:sp>
    </p:spTree>
  </p:cSld>
</p:sldLayout>
</file>

<file path=ppt/slideLayouts/slideLayout5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72"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73"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4"/>
          </p:nvPr>
        </p:nvSpPr>
        <p:spPr/>
        <p:txBody>
          <a:bodyPr/>
          <a:p>
            <a:fld id="{7E4A8FC8-A58E-4C21-B48C-049F3C846C36}" type="slidenum">
              <a:t>&lt;#&gt;</a:t>
            </a:fld>
          </a:p>
        </p:txBody>
      </p:sp>
    </p:spTree>
  </p:cSld>
</p:sldLayout>
</file>

<file path=ppt/slideLayouts/slideLayout5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7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7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7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78"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4"/>
          </p:nvPr>
        </p:nvSpPr>
        <p:spPr/>
        <p:txBody>
          <a:bodyPr/>
          <a:p>
            <a:fld id="{510F989C-ABB8-4748-B034-11C7D6DEB515}" type="slidenum">
              <a:t>&lt;#&gt;</a:t>
            </a:fld>
          </a:p>
        </p:txBody>
      </p:sp>
    </p:spTree>
  </p:cSld>
</p:sldLayout>
</file>

<file path=ppt/slideLayouts/slideLayout5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80"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81"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82"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83"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84"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85"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4"/>
          </p:nvPr>
        </p:nvSpPr>
        <p:spPr/>
        <p:txBody>
          <a:bodyPr/>
          <a:p>
            <a:fld id="{0285125D-6E51-47EF-BABD-14DC48DCE451}" type="slidenum">
              <a:t>&lt;#&gt;</a:t>
            </a:fld>
          </a:p>
        </p:txBody>
      </p:sp>
    </p:spTree>
  </p:cSld>
</p:sldLayout>
</file>

<file path=ppt/slideLayouts/slideLayout5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5"/>
          </p:nvPr>
        </p:nvSpPr>
        <p:spPr/>
        <p:txBody>
          <a:bodyPr/>
          <a:p>
            <a:fld id="{752451F8-C7B0-4AA2-A888-FC7D8AA46D49}"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
          </p:nvPr>
        </p:nvSpPr>
        <p:spPr/>
        <p:txBody>
          <a:bodyPr/>
          <a:p>
            <a:fld id="{0116E816-2C3F-4FC8-ABD0-359E561D6BF4}" type="slidenum">
              <a:t>&lt;#&gt;</a:t>
            </a:fld>
          </a:p>
        </p:txBody>
      </p:sp>
    </p:spTree>
  </p:cSld>
</p:sldLayout>
</file>

<file path=ppt/slideLayouts/slideLayout5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9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5"/>
          </p:nvPr>
        </p:nvSpPr>
        <p:spPr/>
        <p:txBody>
          <a:bodyPr/>
          <a:p>
            <a:fld id="{BD19E67D-5334-441C-A366-FF4DFE967D17}" type="slidenum">
              <a:t>&lt;#&gt;</a:t>
            </a:fld>
          </a:p>
        </p:txBody>
      </p:sp>
    </p:spTree>
  </p:cSld>
</p:sldLayout>
</file>

<file path=ppt/slideLayouts/slideLayout5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9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5"/>
          </p:nvPr>
        </p:nvSpPr>
        <p:spPr/>
        <p:txBody>
          <a:bodyPr/>
          <a:p>
            <a:fld id="{F75588E0-5945-464A-8AE9-1429030151DE}" type="slidenum">
              <a:t>&lt;#&gt;</a:t>
            </a:fld>
          </a:p>
        </p:txBody>
      </p:sp>
    </p:spTree>
  </p:cSld>
</p:sldLayout>
</file>

<file path=ppt/slideLayouts/slideLayout5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9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9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5"/>
          </p:nvPr>
        </p:nvSpPr>
        <p:spPr/>
        <p:txBody>
          <a:bodyPr/>
          <a:p>
            <a:fld id="{99BC02AC-F6F7-4A4D-BC52-CE4894226B04}" type="slidenum">
              <a:t>&lt;#&gt;</a:t>
            </a:fld>
          </a:p>
        </p:txBody>
      </p:sp>
    </p:spTree>
  </p:cSld>
</p:sldLayout>
</file>

<file path=ppt/slideLayouts/slideLayout5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5"/>
          </p:nvPr>
        </p:nvSpPr>
        <p:spPr/>
        <p:txBody>
          <a:bodyPr/>
          <a:p>
            <a:fld id="{EAA4FB8A-1EAA-41BB-ABDD-FD25E91F4A43}" type="slidenum">
              <a:t>&lt;#&gt;</a:t>
            </a:fld>
          </a:p>
        </p:txBody>
      </p:sp>
    </p:spTree>
  </p:cSld>
</p:sldLayout>
</file>

<file path=ppt/slideLayouts/slideLayout5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5"/>
          </p:nvPr>
        </p:nvSpPr>
        <p:spPr/>
        <p:txBody>
          <a:bodyPr/>
          <a:p>
            <a:fld id="{D3340B3A-A169-48BA-A664-1D649C88112B}" type="slidenum">
              <a:t>&lt;#&gt;</a:t>
            </a:fld>
          </a:p>
        </p:txBody>
      </p:sp>
    </p:spTree>
  </p:cSld>
</p:sldLayout>
</file>

<file path=ppt/slideLayouts/slideLayout5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0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0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0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5"/>
          </p:nvPr>
        </p:nvSpPr>
        <p:spPr/>
        <p:txBody>
          <a:bodyPr/>
          <a:p>
            <a:fld id="{8A7FB463-B5AC-42AB-B444-488CE2121FF6}" type="slidenum">
              <a:t>&lt;#&gt;</a:t>
            </a:fld>
          </a:p>
        </p:txBody>
      </p:sp>
    </p:spTree>
  </p:cSld>
</p:sldLayout>
</file>

<file path=ppt/slideLayouts/slideLayout5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0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0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0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5"/>
          </p:nvPr>
        </p:nvSpPr>
        <p:spPr/>
        <p:txBody>
          <a:bodyPr/>
          <a:p>
            <a:fld id="{DC22700C-BA92-40EC-AB77-CC971A7EB264}" type="slidenum">
              <a:t>&lt;#&gt;</a:t>
            </a:fld>
          </a:p>
        </p:txBody>
      </p:sp>
    </p:spTree>
  </p:cSld>
</p:sldLayout>
</file>

<file path=ppt/slideLayouts/slideLayout5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1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1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1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5"/>
          </p:nvPr>
        </p:nvSpPr>
        <p:spPr/>
        <p:txBody>
          <a:bodyPr/>
          <a:p>
            <a:fld id="{63D6FA90-2D5C-40E6-9760-C01D562B6E30}" type="slidenum">
              <a:t>&lt;#&gt;</a:t>
            </a:fld>
          </a:p>
        </p:txBody>
      </p:sp>
    </p:spTree>
  </p:cSld>
</p:sldLayout>
</file>

<file path=ppt/slideLayouts/slideLayout5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1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1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5"/>
          </p:nvPr>
        </p:nvSpPr>
        <p:spPr/>
        <p:txBody>
          <a:bodyPr/>
          <a:p>
            <a:fld id="{A97F0889-F490-461C-AC7C-FB409CB61F5D}" type="slidenum">
              <a:t>&lt;#&gt;</a:t>
            </a:fld>
          </a:p>
        </p:txBody>
      </p:sp>
    </p:spTree>
  </p:cSld>
</p:sldLayout>
</file>

<file path=ppt/slideLayouts/slideLayout5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1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1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1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2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5"/>
          </p:nvPr>
        </p:nvSpPr>
        <p:spPr/>
        <p:txBody>
          <a:bodyPr/>
          <a:p>
            <a:fld id="{49FDA68A-AB6D-4F6C-B3EF-9F11D4728302}"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
          </p:nvPr>
        </p:nvSpPr>
        <p:spPr/>
        <p:txBody>
          <a:bodyPr/>
          <a:p>
            <a:fld id="{16990D78-C07C-4B29-8123-55A7A160C833}" type="slidenum">
              <a:t>&lt;#&gt;</a:t>
            </a:fld>
          </a:p>
        </p:txBody>
      </p:sp>
    </p:spTree>
  </p:cSld>
</p:sldLayout>
</file>

<file path=ppt/slideLayouts/slideLayout5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2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2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2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2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2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2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5"/>
          </p:nvPr>
        </p:nvSpPr>
        <p:spPr/>
        <p:txBody>
          <a:bodyPr/>
          <a:p>
            <a:fld id="{370E8653-B2E4-47EC-A7F3-9E7A6FE5B694}" type="slidenum">
              <a:t>&lt;#&gt;</a:t>
            </a:fld>
          </a:p>
        </p:txBody>
      </p:sp>
    </p:spTree>
  </p:cSld>
</p:sldLayout>
</file>

<file path=ppt/slideLayouts/slideLayout5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6"/>
          </p:nvPr>
        </p:nvSpPr>
        <p:spPr/>
        <p:txBody>
          <a:bodyPr/>
          <a:p>
            <a:fld id="{2CE84AC6-3565-4A81-88F9-DE9FD491B819}" type="slidenum">
              <a:t>&lt;#&gt;</a:t>
            </a:fld>
          </a:p>
        </p:txBody>
      </p:sp>
    </p:spTree>
  </p:cSld>
</p:sldLayout>
</file>

<file path=ppt/slideLayouts/slideLayout5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3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6"/>
          </p:nvPr>
        </p:nvSpPr>
        <p:spPr/>
        <p:txBody>
          <a:bodyPr/>
          <a:p>
            <a:fld id="{3A3D98D8-5167-4AF5-8B87-CF0E923DE3A6}" type="slidenum">
              <a:t>&lt;#&gt;</a:t>
            </a:fld>
          </a:p>
        </p:txBody>
      </p:sp>
    </p:spTree>
  </p:cSld>
</p:sldLayout>
</file>

<file path=ppt/slideLayouts/slideLayout5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3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6"/>
          </p:nvPr>
        </p:nvSpPr>
        <p:spPr/>
        <p:txBody>
          <a:bodyPr/>
          <a:p>
            <a:fld id="{8BACCF36-2D3B-4A2F-AE80-BC237BAB0568}" type="slidenum">
              <a:t>&lt;#&gt;</a:t>
            </a:fld>
          </a:p>
        </p:txBody>
      </p:sp>
    </p:spTree>
  </p:cSld>
</p:sldLayout>
</file>

<file path=ppt/slideLayouts/slideLayout5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4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4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6"/>
          </p:nvPr>
        </p:nvSpPr>
        <p:spPr/>
        <p:txBody>
          <a:bodyPr/>
          <a:p>
            <a:fld id="{006A3144-60B4-4A9D-B0FD-56BBC60749E4}" type="slidenum">
              <a:t>&lt;#&gt;</a:t>
            </a:fld>
          </a:p>
        </p:txBody>
      </p:sp>
    </p:spTree>
  </p:cSld>
</p:sldLayout>
</file>

<file path=ppt/slideLayouts/slideLayout5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6"/>
          </p:nvPr>
        </p:nvSpPr>
        <p:spPr/>
        <p:txBody>
          <a:bodyPr/>
          <a:p>
            <a:fld id="{4891F0CD-C6D6-4D44-9E3A-2F095F9ED1A4}" type="slidenum">
              <a:t>&lt;#&gt;</a:t>
            </a:fld>
          </a:p>
        </p:txBody>
      </p:sp>
    </p:spTree>
  </p:cSld>
</p:sldLayout>
</file>

<file path=ppt/slideLayouts/slideLayout5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4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6"/>
          </p:nvPr>
        </p:nvSpPr>
        <p:spPr/>
        <p:txBody>
          <a:bodyPr/>
          <a:p>
            <a:fld id="{A4EFBD7F-C1D9-4BF9-B132-ED726B4DC841}" type="slidenum">
              <a:t>&lt;#&gt;</a:t>
            </a:fld>
          </a:p>
        </p:txBody>
      </p:sp>
    </p:spTree>
  </p:cSld>
</p:sldLayout>
</file>

<file path=ppt/slideLayouts/slideLayout5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4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4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4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6"/>
          </p:nvPr>
        </p:nvSpPr>
        <p:spPr/>
        <p:txBody>
          <a:bodyPr/>
          <a:p>
            <a:fld id="{7DA41E40-C494-4EC4-B6AA-01AE433EDBAD}" type="slidenum">
              <a:t>&lt;#&gt;</a:t>
            </a:fld>
          </a:p>
        </p:txBody>
      </p:sp>
    </p:spTree>
  </p:cSld>
</p:sldLayout>
</file>

<file path=ppt/slideLayouts/slideLayout5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4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5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5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6"/>
          </p:nvPr>
        </p:nvSpPr>
        <p:spPr/>
        <p:txBody>
          <a:bodyPr/>
          <a:p>
            <a:fld id="{31308FE4-8085-47E9-9DEC-E5E1B3BFFD6A}" type="slidenum">
              <a:t>&lt;#&gt;</a:t>
            </a:fld>
          </a:p>
        </p:txBody>
      </p:sp>
    </p:spTree>
  </p:cSld>
</p:sldLayout>
</file>

<file path=ppt/slideLayouts/slideLayout5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5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5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5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6"/>
          </p:nvPr>
        </p:nvSpPr>
        <p:spPr/>
        <p:txBody>
          <a:bodyPr/>
          <a:p>
            <a:fld id="{6362353E-9B55-4E5D-A43D-9DE9A12DA2A3}"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8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
          </p:nvPr>
        </p:nvSpPr>
        <p:spPr/>
        <p:txBody>
          <a:bodyPr/>
          <a:p>
            <a:fld id="{5ADBEEFD-C95B-42C9-8A1C-AA1FF3084EE2}" type="slidenum">
              <a:t>&lt;#&gt;</a:t>
            </a:fld>
          </a:p>
        </p:txBody>
      </p:sp>
    </p:spTree>
  </p:cSld>
</p:sldLayout>
</file>

<file path=ppt/slideLayouts/slideLayout5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5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5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6"/>
          </p:nvPr>
        </p:nvSpPr>
        <p:spPr/>
        <p:txBody>
          <a:bodyPr/>
          <a:p>
            <a:fld id="{66968EF8-0267-49C1-9626-74827CB5963A}" type="slidenum">
              <a:t>&lt;#&gt;</a:t>
            </a:fld>
          </a:p>
        </p:txBody>
      </p:sp>
    </p:spTree>
  </p:cSld>
</p:sldLayout>
</file>

<file path=ppt/slideLayouts/slideLayout5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6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6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6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6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6"/>
          </p:nvPr>
        </p:nvSpPr>
        <p:spPr/>
        <p:txBody>
          <a:bodyPr/>
          <a:p>
            <a:fld id="{53E06CE1-817B-4730-BAE2-A8DA31029082}" type="slidenum">
              <a:t>&lt;#&gt;</a:t>
            </a:fld>
          </a:p>
        </p:txBody>
      </p:sp>
    </p:spTree>
  </p:cSld>
</p:sldLayout>
</file>

<file path=ppt/slideLayouts/slideLayout5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6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6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6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6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6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7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6"/>
          </p:nvPr>
        </p:nvSpPr>
        <p:spPr/>
        <p:txBody>
          <a:bodyPr/>
          <a:p>
            <a:fld id="{0CE8D91C-F854-4B37-B79B-7F6BBAC676F3}" type="slidenum">
              <a:t>&lt;#&gt;</a:t>
            </a:fld>
          </a:p>
        </p:txBody>
      </p:sp>
    </p:spTree>
  </p:cSld>
</p:sldLayout>
</file>

<file path=ppt/slideLayouts/slideLayout5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7"/>
          </p:nvPr>
        </p:nvSpPr>
        <p:spPr/>
        <p:txBody>
          <a:bodyPr/>
          <a:p>
            <a:fld id="{81BE7F26-D5D4-45CD-8B1F-FB4DF88F30FB}" type="slidenum">
              <a:t>&lt;#&gt;</a:t>
            </a:fld>
          </a:p>
        </p:txBody>
      </p:sp>
    </p:spTree>
  </p:cSld>
</p:sldLayout>
</file>

<file path=ppt/slideLayouts/slideLayout5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7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7"/>
          </p:nvPr>
        </p:nvSpPr>
        <p:spPr/>
        <p:txBody>
          <a:bodyPr/>
          <a:p>
            <a:fld id="{BA72F5CE-9A5C-464A-9F6B-8ADA8E3F6932}" type="slidenum">
              <a:t>&lt;#&gt;</a:t>
            </a:fld>
          </a:p>
        </p:txBody>
      </p:sp>
    </p:spTree>
  </p:cSld>
</p:sldLayout>
</file>

<file path=ppt/slideLayouts/slideLayout5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8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7"/>
          </p:nvPr>
        </p:nvSpPr>
        <p:spPr/>
        <p:txBody>
          <a:bodyPr/>
          <a:p>
            <a:fld id="{D8248C50-D003-414B-B4E2-0506197AD281}" type="slidenum">
              <a:t>&lt;#&gt;</a:t>
            </a:fld>
          </a:p>
        </p:txBody>
      </p:sp>
    </p:spTree>
  </p:cSld>
</p:sldLayout>
</file>

<file path=ppt/slideLayouts/slideLayout5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8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8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7"/>
          </p:nvPr>
        </p:nvSpPr>
        <p:spPr/>
        <p:txBody>
          <a:bodyPr/>
          <a:p>
            <a:fld id="{619D6897-DAC4-444E-94BE-B2CC24CF1367}" type="slidenum">
              <a:t>&lt;#&gt;</a:t>
            </a:fld>
          </a:p>
        </p:txBody>
      </p:sp>
    </p:spTree>
  </p:cSld>
</p:sldLayout>
</file>

<file path=ppt/slideLayouts/slideLayout5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7"/>
          </p:nvPr>
        </p:nvSpPr>
        <p:spPr/>
        <p:txBody>
          <a:bodyPr/>
          <a:p>
            <a:fld id="{1418D59C-3C89-49F4-981B-83FCF070FCD3}" type="slidenum">
              <a:t>&lt;#&gt;</a:t>
            </a:fld>
          </a:p>
        </p:txBody>
      </p:sp>
    </p:spTree>
  </p:cSld>
</p:sldLayout>
</file>

<file path=ppt/slideLayouts/slideLayout5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8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7"/>
          </p:nvPr>
        </p:nvSpPr>
        <p:spPr/>
        <p:txBody>
          <a:bodyPr/>
          <a:p>
            <a:fld id="{5D3B982E-A90E-4F62-8D94-0F10549557A9}" type="slidenum">
              <a:t>&lt;#&gt;</a:t>
            </a:fld>
          </a:p>
        </p:txBody>
      </p:sp>
    </p:spTree>
  </p:cSld>
</p:sldLayout>
</file>

<file path=ppt/slideLayouts/slideLayout5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8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8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8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7"/>
          </p:nvPr>
        </p:nvSpPr>
        <p:spPr/>
        <p:txBody>
          <a:bodyPr/>
          <a:p>
            <a:fld id="{96F74CB4-91D9-4D2C-ACC2-C4908BC589D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8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
          </p:nvPr>
        </p:nvSpPr>
        <p:spPr/>
        <p:txBody>
          <a:bodyPr/>
          <a:p>
            <a:fld id="{F324CD66-1891-4C52-9747-846BE679F1F1}" type="slidenum">
              <a:t>&lt;#&gt;</a:t>
            </a:fld>
          </a:p>
        </p:txBody>
      </p:sp>
    </p:spTree>
  </p:cSld>
</p:sldLayout>
</file>

<file path=ppt/slideLayouts/slideLayout5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9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9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9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7"/>
          </p:nvPr>
        </p:nvSpPr>
        <p:spPr/>
        <p:txBody>
          <a:bodyPr/>
          <a:p>
            <a:fld id="{3EB7FFF3-9CFF-44B0-B874-F3E3F5B5A7C4}" type="slidenum">
              <a:t>&lt;#&gt;</a:t>
            </a:fld>
          </a:p>
        </p:txBody>
      </p:sp>
    </p:spTree>
  </p:cSld>
</p:sldLayout>
</file>

<file path=ppt/slideLayouts/slideLayout5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9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9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9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7"/>
          </p:nvPr>
        </p:nvSpPr>
        <p:spPr/>
        <p:txBody>
          <a:bodyPr/>
          <a:p>
            <a:fld id="{FD17DFA6-CF1A-41AA-BB3A-CD5E991F1F6E}" type="slidenum">
              <a:t>&lt;#&gt;</a:t>
            </a:fld>
          </a:p>
        </p:txBody>
      </p:sp>
    </p:spTree>
  </p:cSld>
</p:sldLayout>
</file>

<file path=ppt/slideLayouts/slideLayout5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9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0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7"/>
          </p:nvPr>
        </p:nvSpPr>
        <p:spPr/>
        <p:txBody>
          <a:bodyPr/>
          <a:p>
            <a:fld id="{B97B9756-B739-4F48-AC4E-2E6D73251E84}" type="slidenum">
              <a:t>&lt;#&gt;</a:t>
            </a:fld>
          </a:p>
        </p:txBody>
      </p:sp>
    </p:spTree>
  </p:cSld>
</p:sldLayout>
</file>

<file path=ppt/slideLayouts/slideLayout5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0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0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0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0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7"/>
          </p:nvPr>
        </p:nvSpPr>
        <p:spPr/>
        <p:txBody>
          <a:bodyPr/>
          <a:p>
            <a:fld id="{00F70EB4-0888-48CB-924E-3816257BB5D6}" type="slidenum">
              <a:t>&lt;#&gt;</a:t>
            </a:fld>
          </a:p>
        </p:txBody>
      </p:sp>
    </p:spTree>
  </p:cSld>
</p:sldLayout>
</file>

<file path=ppt/slideLayouts/slideLayout5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0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0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0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1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1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1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7"/>
          </p:nvPr>
        </p:nvSpPr>
        <p:spPr/>
        <p:txBody>
          <a:bodyPr/>
          <a:p>
            <a:fld id="{295B0E40-8CBA-48E4-BCB3-D28E3FB85CC7}" type="slidenum">
              <a:t>&lt;#&gt;</a:t>
            </a:fld>
          </a:p>
        </p:txBody>
      </p:sp>
    </p:spTree>
  </p:cSld>
</p:sldLayout>
</file>

<file path=ppt/slideLayouts/slideLayout5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8"/>
          </p:nvPr>
        </p:nvSpPr>
        <p:spPr/>
        <p:txBody>
          <a:bodyPr/>
          <a:p>
            <a:fld id="{CB84C059-8FB6-4B82-8448-9EE3E760FFB5}" type="slidenum">
              <a:t>&lt;#&gt;</a:t>
            </a:fld>
          </a:p>
        </p:txBody>
      </p:sp>
    </p:spTree>
  </p:cSld>
</p:sldLayout>
</file>

<file path=ppt/slideLayouts/slideLayout5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2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2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8"/>
          </p:nvPr>
        </p:nvSpPr>
        <p:spPr/>
        <p:txBody>
          <a:bodyPr/>
          <a:p>
            <a:fld id="{07B75542-0054-43E7-8418-1F278B2B3727}" type="slidenum">
              <a:t>&lt;#&gt;</a:t>
            </a:fld>
          </a:p>
        </p:txBody>
      </p:sp>
    </p:spTree>
  </p:cSld>
</p:sldLayout>
</file>

<file path=ppt/slideLayouts/slideLayout5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2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8"/>
          </p:nvPr>
        </p:nvSpPr>
        <p:spPr/>
        <p:txBody>
          <a:bodyPr/>
          <a:p>
            <a:fld id="{61B6790C-93C4-4AFF-A216-4BF10124B5B6}" type="slidenum">
              <a:t>&lt;#&gt;</a:t>
            </a:fld>
          </a:p>
        </p:txBody>
      </p:sp>
    </p:spTree>
  </p:cSld>
</p:sldLayout>
</file>

<file path=ppt/slideLayouts/slideLayout5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2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2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8"/>
          </p:nvPr>
        </p:nvSpPr>
        <p:spPr/>
        <p:txBody>
          <a:bodyPr/>
          <a:p>
            <a:fld id="{5F529BB5-97F3-452C-852F-DF464EF25AE9}" type="slidenum">
              <a:t>&lt;#&gt;</a:t>
            </a:fld>
          </a:p>
        </p:txBody>
      </p:sp>
    </p:spTree>
  </p:cSld>
</p:sldLayout>
</file>

<file path=ppt/slideLayouts/slideLayout5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8"/>
          </p:nvPr>
        </p:nvSpPr>
        <p:spPr/>
        <p:txBody>
          <a:bodyPr/>
          <a:p>
            <a:fld id="{467BC7A1-C1D5-4525-8283-F9D6429E439D}"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
          </p:nvPr>
        </p:nvSpPr>
        <p:spPr/>
        <p:txBody>
          <a:bodyPr/>
          <a:p>
            <a:fld id="{C9812D07-963B-450D-B0E2-7977F1EA4D34}" type="slidenum">
              <a:t>&lt;#&gt;</a:t>
            </a:fld>
          </a:p>
        </p:txBody>
      </p:sp>
    </p:spTree>
  </p:cSld>
</p:sldLayout>
</file>

<file path=ppt/slideLayouts/slideLayout5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8"/>
          </p:nvPr>
        </p:nvSpPr>
        <p:spPr/>
        <p:txBody>
          <a:bodyPr/>
          <a:p>
            <a:fld id="{56A6D080-C6D2-44D1-B6BC-9B78915F82BD}" type="slidenum">
              <a:t>&lt;#&gt;</a:t>
            </a:fld>
          </a:p>
        </p:txBody>
      </p:sp>
    </p:spTree>
  </p:cSld>
</p:sldLayout>
</file>

<file path=ppt/slideLayouts/slideLayout5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3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3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3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8"/>
          </p:nvPr>
        </p:nvSpPr>
        <p:spPr/>
        <p:txBody>
          <a:bodyPr/>
          <a:p>
            <a:fld id="{CF84266A-67A0-49D2-8A80-66526B711A36}" type="slidenum">
              <a:t>&lt;#&gt;</a:t>
            </a:fld>
          </a:p>
        </p:txBody>
      </p:sp>
    </p:spTree>
  </p:cSld>
</p:sldLayout>
</file>

<file path=ppt/slideLayouts/slideLayout5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3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3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3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3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8"/>
          </p:nvPr>
        </p:nvSpPr>
        <p:spPr/>
        <p:txBody>
          <a:bodyPr/>
          <a:p>
            <a:fld id="{AA6A219F-821E-4FB9-AEF4-81E3FC3CF488}" type="slidenum">
              <a:t>&lt;#&gt;</a:t>
            </a:fld>
          </a:p>
        </p:txBody>
      </p:sp>
    </p:spTree>
  </p:cSld>
</p:sldLayout>
</file>

<file path=ppt/slideLayouts/slideLayout5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4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4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4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8"/>
          </p:nvPr>
        </p:nvSpPr>
        <p:spPr/>
        <p:txBody>
          <a:bodyPr/>
          <a:p>
            <a:fld id="{42EA54D5-C4CA-48F2-B93B-89BD0D432A94}" type="slidenum">
              <a:t>&lt;#&gt;</a:t>
            </a:fld>
          </a:p>
        </p:txBody>
      </p:sp>
    </p:spTree>
  </p:cSld>
</p:sldLayout>
</file>

<file path=ppt/slideLayouts/slideLayout5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4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4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8"/>
          </p:nvPr>
        </p:nvSpPr>
        <p:spPr/>
        <p:txBody>
          <a:bodyPr/>
          <a:p>
            <a:fld id="{9B357B88-7653-455B-8EA1-504FE19E9B57}" type="slidenum">
              <a:t>&lt;#&gt;</a:t>
            </a:fld>
          </a:p>
        </p:txBody>
      </p:sp>
    </p:spTree>
  </p:cSld>
</p:sldLayout>
</file>

<file path=ppt/slideLayouts/slideLayout5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4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4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5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5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8"/>
          </p:nvPr>
        </p:nvSpPr>
        <p:spPr/>
        <p:txBody>
          <a:bodyPr/>
          <a:p>
            <a:fld id="{72A03314-A609-4E6C-9A33-C7F42496271E}" type="slidenum">
              <a:t>&lt;#&gt;</a:t>
            </a:fld>
          </a:p>
        </p:txBody>
      </p:sp>
    </p:spTree>
  </p:cSld>
</p:sldLayout>
</file>

<file path=ppt/slideLayouts/slideLayout5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5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5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5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5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5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5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8"/>
          </p:nvPr>
        </p:nvSpPr>
        <p:spPr/>
        <p:txBody>
          <a:bodyPr/>
          <a:p>
            <a:fld id="{BC0467D8-ABAA-441E-B39A-88ADB175B815}" type="slidenum">
              <a:t>&lt;#&gt;</a:t>
            </a:fld>
          </a:p>
        </p:txBody>
      </p:sp>
    </p:spTree>
  </p:cSld>
</p:sldLayout>
</file>

<file path=ppt/slideLayouts/slideLayout5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9"/>
          </p:nvPr>
        </p:nvSpPr>
        <p:spPr/>
        <p:txBody>
          <a:bodyPr/>
          <a:p>
            <a:fld id="{D5BA63F4-B340-433D-9EB0-7E74ED03EA4E}" type="slidenum">
              <a:t>&lt;#&gt;</a:t>
            </a:fld>
          </a:p>
        </p:txBody>
      </p:sp>
    </p:spTree>
  </p:cSld>
</p:sldLayout>
</file>

<file path=ppt/slideLayouts/slideLayout5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6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49"/>
          </p:nvPr>
        </p:nvSpPr>
        <p:spPr/>
        <p:txBody>
          <a:bodyPr/>
          <a:p>
            <a:fld id="{959B753D-422E-4623-98F8-8D4C50E353EC}" type="slidenum">
              <a:t>&lt;#&gt;</a:t>
            </a:fld>
          </a:p>
        </p:txBody>
      </p:sp>
    </p:spTree>
  </p:cSld>
</p:sldLayout>
</file>

<file path=ppt/slideLayouts/slideLayout5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7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49"/>
          </p:nvPr>
        </p:nvSpPr>
        <p:spPr/>
        <p:txBody>
          <a:bodyPr/>
          <a:p>
            <a:fld id="{6A51F894-FAAE-4DA6-934B-46969E92B7C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9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
          </p:nvPr>
        </p:nvSpPr>
        <p:spPr/>
        <p:txBody>
          <a:bodyPr/>
          <a:p>
            <a:fld id="{1A5379E7-934D-4EEC-86D8-CA71F9575877}" type="slidenum">
              <a:t>&lt;#&gt;</a:t>
            </a:fld>
          </a:p>
        </p:txBody>
      </p:sp>
    </p:spTree>
  </p:cSld>
</p:sldLayout>
</file>

<file path=ppt/slideLayouts/slideLayout5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7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7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9"/>
          </p:nvPr>
        </p:nvSpPr>
        <p:spPr/>
        <p:txBody>
          <a:bodyPr/>
          <a:p>
            <a:fld id="{6FFA378A-55D0-40D2-8E75-C15048AB781C}" type="slidenum">
              <a:t>&lt;#&gt;</a:t>
            </a:fld>
          </a:p>
        </p:txBody>
      </p:sp>
    </p:spTree>
  </p:cSld>
</p:sldLayout>
</file>

<file path=ppt/slideLayouts/slideLayout5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49"/>
          </p:nvPr>
        </p:nvSpPr>
        <p:spPr/>
        <p:txBody>
          <a:bodyPr/>
          <a:p>
            <a:fld id="{5EDDDD65-F79E-44E4-871C-4AB9D75482C1}" type="slidenum">
              <a:t>&lt;#&gt;</a:t>
            </a:fld>
          </a:p>
        </p:txBody>
      </p:sp>
    </p:spTree>
  </p:cSld>
</p:sldLayout>
</file>

<file path=ppt/slideLayouts/slideLayout5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7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49"/>
          </p:nvPr>
        </p:nvSpPr>
        <p:spPr/>
        <p:txBody>
          <a:bodyPr/>
          <a:p>
            <a:fld id="{5978D332-E91F-4F9D-B5E8-F1AD5866A89C}" type="slidenum">
              <a:t>&lt;#&gt;</a:t>
            </a:fld>
          </a:p>
        </p:txBody>
      </p:sp>
    </p:spTree>
  </p:cSld>
</p:sldLayout>
</file>

<file path=ppt/slideLayouts/slideLayout5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7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7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7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7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9"/>
          </p:nvPr>
        </p:nvSpPr>
        <p:spPr/>
        <p:txBody>
          <a:bodyPr/>
          <a:p>
            <a:fld id="{E3453ECC-36ED-4EB3-B0C6-02BA259E5334}" type="slidenum">
              <a:t>&lt;#&gt;</a:t>
            </a:fld>
          </a:p>
        </p:txBody>
      </p:sp>
    </p:spTree>
  </p:cSld>
</p:sldLayout>
</file>

<file path=ppt/slideLayouts/slideLayout5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8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8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8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9"/>
          </p:nvPr>
        </p:nvSpPr>
        <p:spPr/>
        <p:txBody>
          <a:bodyPr/>
          <a:p>
            <a:fld id="{8855D035-6B15-4423-B7F5-108F9A32820F}" type="slidenum">
              <a:t>&lt;#&gt;</a:t>
            </a:fld>
          </a:p>
        </p:txBody>
      </p:sp>
    </p:spTree>
  </p:cSld>
</p:sldLayout>
</file>

<file path=ppt/slideLayouts/slideLayout5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8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8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8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49"/>
          </p:nvPr>
        </p:nvSpPr>
        <p:spPr/>
        <p:txBody>
          <a:bodyPr/>
          <a:p>
            <a:fld id="{53AB1B21-E0F3-4AA3-9FD0-44DF699C15E0}" type="slidenum">
              <a:t>&lt;#&gt;</a:t>
            </a:fld>
          </a:p>
        </p:txBody>
      </p:sp>
    </p:spTree>
  </p:cSld>
</p:sldLayout>
</file>

<file path=ppt/slideLayouts/slideLayout5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8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9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49"/>
          </p:nvPr>
        </p:nvSpPr>
        <p:spPr/>
        <p:txBody>
          <a:bodyPr/>
          <a:p>
            <a:fld id="{073D7AE8-8725-4A01-9B3E-4813BC3B2F58}" type="slidenum">
              <a:t>&lt;#&gt;</a:t>
            </a:fld>
          </a:p>
        </p:txBody>
      </p:sp>
    </p:spTree>
  </p:cSld>
</p:sldLayout>
</file>

<file path=ppt/slideLayouts/slideLayout5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9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9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9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9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49"/>
          </p:nvPr>
        </p:nvSpPr>
        <p:spPr/>
        <p:txBody>
          <a:bodyPr/>
          <a:p>
            <a:fld id="{67042AF4-7FF7-46B1-B3C8-5FA166F3FF64}" type="slidenum">
              <a:t>&lt;#&gt;</a:t>
            </a:fld>
          </a:p>
        </p:txBody>
      </p:sp>
    </p:spTree>
  </p:cSld>
</p:sldLayout>
</file>

<file path=ppt/slideLayouts/slideLayout5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9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9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9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0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0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0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49"/>
          </p:nvPr>
        </p:nvSpPr>
        <p:spPr/>
        <p:txBody>
          <a:bodyPr/>
          <a:p>
            <a:fld id="{5D72E84C-357A-4146-BD4E-8CFDF1C01F72}" type="slidenum">
              <a:t>&lt;#&gt;</a:t>
            </a:fld>
          </a:p>
        </p:txBody>
      </p:sp>
    </p:spTree>
  </p:cSld>
</p:sldLayout>
</file>

<file path=ppt/slideLayouts/slideLayout5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0"/>
          </p:nvPr>
        </p:nvSpPr>
        <p:spPr/>
        <p:txBody>
          <a:bodyPr/>
          <a:p>
            <a:fld id="{E41D8F90-3D13-4691-BA54-4181D9A5DEFB}"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
          </p:nvPr>
        </p:nvSpPr>
        <p:spPr/>
        <p:txBody>
          <a:bodyPr/>
          <a:p>
            <a:fld id="{CE462235-C207-4A96-883C-A8CDE0CB6265}" type="slidenum">
              <a:t>&lt;#&gt;</a:t>
            </a:fld>
          </a:p>
        </p:txBody>
      </p:sp>
    </p:spTree>
  </p:cSld>
</p:sldLayout>
</file>

<file path=ppt/slideLayouts/slideLayout5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1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0"/>
          </p:nvPr>
        </p:nvSpPr>
        <p:spPr/>
        <p:txBody>
          <a:bodyPr/>
          <a:p>
            <a:fld id="{FE75AB3A-A915-4FFD-BB92-6D82FC8A42C0}" type="slidenum">
              <a:t>&lt;#&gt;</a:t>
            </a:fld>
          </a:p>
        </p:txBody>
      </p:sp>
    </p:spTree>
  </p:cSld>
</p:sldLayout>
</file>

<file path=ppt/slideLayouts/slideLayout5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1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0"/>
          </p:nvPr>
        </p:nvSpPr>
        <p:spPr/>
        <p:txBody>
          <a:bodyPr/>
          <a:p>
            <a:fld id="{FD983DC6-8416-4225-A04B-AAAC2D20DA40}" type="slidenum">
              <a:t>&lt;#&gt;</a:t>
            </a:fld>
          </a:p>
        </p:txBody>
      </p:sp>
    </p:spTree>
  </p:cSld>
</p:sldLayout>
</file>

<file path=ppt/slideLayouts/slideLayout5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1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1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0"/>
          </p:nvPr>
        </p:nvSpPr>
        <p:spPr/>
        <p:txBody>
          <a:bodyPr/>
          <a:p>
            <a:fld id="{FC5A2457-52FA-4948-9ACE-2C115658AE83}" type="slidenum">
              <a:t>&lt;#&gt;</a:t>
            </a:fld>
          </a:p>
        </p:txBody>
      </p:sp>
    </p:spTree>
  </p:cSld>
</p:sldLayout>
</file>

<file path=ppt/slideLayouts/slideLayout5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0"/>
          </p:nvPr>
        </p:nvSpPr>
        <p:spPr/>
        <p:txBody>
          <a:bodyPr/>
          <a:p>
            <a:fld id="{31A909B4-B3F4-43F5-AA17-E0E8E718804D}" type="slidenum">
              <a:t>&lt;#&gt;</a:t>
            </a:fld>
          </a:p>
        </p:txBody>
      </p:sp>
    </p:spTree>
  </p:cSld>
</p:sldLayout>
</file>

<file path=ppt/slideLayouts/slideLayout5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0"/>
          </p:nvPr>
        </p:nvSpPr>
        <p:spPr/>
        <p:txBody>
          <a:bodyPr/>
          <a:p>
            <a:fld id="{4513F448-0BB1-42B1-A1A9-35A606E4B3A7}" type="slidenum">
              <a:t>&lt;#&gt;</a:t>
            </a:fld>
          </a:p>
        </p:txBody>
      </p:sp>
    </p:spTree>
  </p:cSld>
</p:sldLayout>
</file>

<file path=ppt/slideLayouts/slideLayout5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1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2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2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0"/>
          </p:nvPr>
        </p:nvSpPr>
        <p:spPr/>
        <p:txBody>
          <a:bodyPr/>
          <a:p>
            <a:fld id="{D8763ABD-ED56-44BC-8A9A-EFCD1D5EF431}" type="slidenum">
              <a:t>&lt;#&gt;</a:t>
            </a:fld>
          </a:p>
        </p:txBody>
      </p:sp>
    </p:spTree>
  </p:cSld>
</p:sldLayout>
</file>

<file path=ppt/slideLayouts/slideLayout5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2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2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2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0"/>
          </p:nvPr>
        </p:nvSpPr>
        <p:spPr/>
        <p:txBody>
          <a:bodyPr/>
          <a:p>
            <a:fld id="{E303C459-4A1E-49BF-B954-6B65D4B171F4}" type="slidenum">
              <a:t>&lt;#&gt;</a:t>
            </a:fld>
          </a:p>
        </p:txBody>
      </p:sp>
    </p:spTree>
  </p:cSld>
</p:sldLayout>
</file>

<file path=ppt/slideLayouts/slideLayout5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2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2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2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0"/>
          </p:nvPr>
        </p:nvSpPr>
        <p:spPr/>
        <p:txBody>
          <a:bodyPr/>
          <a:p>
            <a:fld id="{C7F13038-B1CB-4B3A-8F99-2CBD1D974A8F}" type="slidenum">
              <a:t>&lt;#&gt;</a:t>
            </a:fld>
          </a:p>
        </p:txBody>
      </p:sp>
    </p:spTree>
  </p:cSld>
</p:sldLayout>
</file>

<file path=ppt/slideLayouts/slideLayout5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3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3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0"/>
          </p:nvPr>
        </p:nvSpPr>
        <p:spPr/>
        <p:txBody>
          <a:bodyPr/>
          <a:p>
            <a:fld id="{F665EC7B-0D05-477D-B9ED-38BBA79219EE}" type="slidenum">
              <a:t>&lt;#&gt;</a:t>
            </a:fld>
          </a:p>
        </p:txBody>
      </p:sp>
    </p:spTree>
  </p:cSld>
</p:sldLayout>
</file>

<file path=ppt/slideLayouts/slideLayout5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3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3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3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3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0"/>
          </p:nvPr>
        </p:nvSpPr>
        <p:spPr/>
        <p:txBody>
          <a:bodyPr/>
          <a:p>
            <a:fld id="{93FECE1A-D4E6-420E-8EEC-C1EBF3CD0F2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6E591122-6A0A-41EE-A6E6-73123E004C62}"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0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
          </p:nvPr>
        </p:nvSpPr>
        <p:spPr/>
        <p:txBody>
          <a:bodyPr/>
          <a:p>
            <a:fld id="{B2C61088-56A0-4033-AFE5-071D7332F9B6}" type="slidenum">
              <a:t>&lt;#&gt;</a:t>
            </a:fld>
          </a:p>
        </p:txBody>
      </p:sp>
    </p:spTree>
  </p:cSld>
</p:sldLayout>
</file>

<file path=ppt/slideLayouts/slideLayout6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3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4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4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4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4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4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0"/>
          </p:nvPr>
        </p:nvSpPr>
        <p:spPr/>
        <p:txBody>
          <a:bodyPr/>
          <a:p>
            <a:fld id="{4D287079-D3E2-4D9B-B4DC-221751DD2327}" type="slidenum">
              <a:t>&lt;#&gt;</a:t>
            </a:fld>
          </a:p>
        </p:txBody>
      </p:sp>
    </p:spTree>
  </p:cSld>
</p:sldLayout>
</file>

<file path=ppt/slideLayouts/slideLayout6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1"/>
          </p:nvPr>
        </p:nvSpPr>
        <p:spPr/>
        <p:txBody>
          <a:bodyPr/>
          <a:p>
            <a:fld id="{8F245839-2E0B-4F83-A019-015FFFEBAA9D}" type="slidenum">
              <a:t>&lt;#&gt;</a:t>
            </a:fld>
          </a:p>
        </p:txBody>
      </p:sp>
    </p:spTree>
  </p:cSld>
</p:sldLayout>
</file>

<file path=ppt/slideLayouts/slideLayout6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55"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1"/>
          </p:nvPr>
        </p:nvSpPr>
        <p:spPr/>
        <p:txBody>
          <a:bodyPr/>
          <a:p>
            <a:fld id="{2B13DD5F-87EC-473B-AB08-92C6685A61BB}" type="slidenum">
              <a:t>&lt;#&gt;</a:t>
            </a:fld>
          </a:p>
        </p:txBody>
      </p:sp>
    </p:spTree>
  </p:cSld>
</p:sldLayout>
</file>

<file path=ppt/slideLayouts/slideLayout6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57"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1"/>
          </p:nvPr>
        </p:nvSpPr>
        <p:spPr/>
        <p:txBody>
          <a:bodyPr/>
          <a:p>
            <a:fld id="{AD4CF6A4-F033-4DF0-A0D5-52C8DF595C19}" type="slidenum">
              <a:t>&lt;#&gt;</a:t>
            </a:fld>
          </a:p>
        </p:txBody>
      </p:sp>
    </p:spTree>
  </p:cSld>
</p:sldLayout>
</file>

<file path=ppt/slideLayouts/slideLayout6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5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6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1"/>
          </p:nvPr>
        </p:nvSpPr>
        <p:spPr/>
        <p:txBody>
          <a:bodyPr/>
          <a:p>
            <a:fld id="{31587819-32A6-4F0F-925B-75A26A60A408}" type="slidenum">
              <a:t>&lt;#&gt;</a:t>
            </a:fld>
          </a:p>
        </p:txBody>
      </p:sp>
    </p:spTree>
  </p:cSld>
</p:sldLayout>
</file>

<file path=ppt/slideLayouts/slideLayout6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6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1"/>
          </p:nvPr>
        </p:nvSpPr>
        <p:spPr/>
        <p:txBody>
          <a:bodyPr/>
          <a:p>
            <a:fld id="{FEA278D4-26B9-4CE5-98D7-87ADB52163BD}" type="slidenum">
              <a:t>&lt;#&gt;</a:t>
            </a:fld>
          </a:p>
        </p:txBody>
      </p:sp>
    </p:spTree>
  </p:cSld>
</p:sldLayout>
</file>

<file path=ppt/slideLayouts/slideLayout6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62"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1"/>
          </p:nvPr>
        </p:nvSpPr>
        <p:spPr/>
        <p:txBody>
          <a:bodyPr/>
          <a:p>
            <a:fld id="{E71FE386-3D24-476E-8B87-40AC826DAC38}" type="slidenum">
              <a:t>&lt;#&gt;</a:t>
            </a:fld>
          </a:p>
        </p:txBody>
      </p:sp>
    </p:spTree>
  </p:cSld>
</p:sldLayout>
</file>

<file path=ppt/slideLayouts/slideLayout6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6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6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6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1"/>
          </p:nvPr>
        </p:nvSpPr>
        <p:spPr/>
        <p:txBody>
          <a:bodyPr/>
          <a:p>
            <a:fld id="{0FC0E712-09AE-4E0D-8590-63E926389063}" type="slidenum">
              <a:t>&lt;#&gt;</a:t>
            </a:fld>
          </a:p>
        </p:txBody>
      </p:sp>
    </p:spTree>
  </p:cSld>
</p:sldLayout>
</file>

<file path=ppt/slideLayouts/slideLayout6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6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6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70"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1"/>
          </p:nvPr>
        </p:nvSpPr>
        <p:spPr/>
        <p:txBody>
          <a:bodyPr/>
          <a:p>
            <a:fld id="{F8DA58F8-A7A2-4965-A6F1-3A319E1B9083}" type="slidenum">
              <a:t>&lt;#&gt;</a:t>
            </a:fld>
          </a:p>
        </p:txBody>
      </p:sp>
    </p:spTree>
  </p:cSld>
</p:sldLayout>
</file>

<file path=ppt/slideLayouts/slideLayout6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7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7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74"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1"/>
          </p:nvPr>
        </p:nvSpPr>
        <p:spPr/>
        <p:txBody>
          <a:bodyPr/>
          <a:p>
            <a:fld id="{7A53A1EF-3AB8-474C-B1AF-3422123BD59B}"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43B6AF8D-7E69-496D-968C-A970F5E80A22}" type="slidenum">
              <a:t>&lt;#&gt;</a:t>
            </a:fld>
          </a:p>
        </p:txBody>
      </p:sp>
    </p:spTree>
  </p:cSld>
</p:sldLayout>
</file>

<file path=ppt/slideLayouts/slideLayout6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76"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77"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1"/>
          </p:nvPr>
        </p:nvSpPr>
        <p:spPr/>
        <p:txBody>
          <a:bodyPr/>
          <a:p>
            <a:fld id="{500E0745-1D3F-46A7-8FCE-10212127E10D}" type="slidenum">
              <a:t>&lt;#&gt;</a:t>
            </a:fld>
          </a:p>
        </p:txBody>
      </p:sp>
    </p:spTree>
  </p:cSld>
</p:sldLayout>
</file>

<file path=ppt/slideLayouts/slideLayout6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7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7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8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8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82"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1"/>
          </p:nvPr>
        </p:nvSpPr>
        <p:spPr/>
        <p:txBody>
          <a:bodyPr/>
          <a:p>
            <a:fld id="{3E428B41-18D4-4D65-BE43-0D42655E3CF9}" type="slidenum">
              <a:t>&lt;#&gt;</a:t>
            </a:fld>
          </a:p>
        </p:txBody>
      </p:sp>
    </p:spTree>
  </p:cSld>
</p:sldLayout>
</file>

<file path=ppt/slideLayouts/slideLayout6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84"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85"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86"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87"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88"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89"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1"/>
          </p:nvPr>
        </p:nvSpPr>
        <p:spPr/>
        <p:txBody>
          <a:bodyPr/>
          <a:p>
            <a:fld id="{E7046516-5B34-4BE2-A84C-6068E1F91B33}" type="slidenum">
              <a:t>&lt;#&gt;</a:t>
            </a:fld>
          </a:p>
        </p:txBody>
      </p:sp>
    </p:spTree>
  </p:cSld>
</p:sldLayout>
</file>

<file path=ppt/slideLayouts/slideLayout6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2"/>
          </p:nvPr>
        </p:nvSpPr>
        <p:spPr/>
        <p:txBody>
          <a:bodyPr/>
          <a:p>
            <a:fld id="{F01F4354-2343-4B46-A303-4E9FD9BB2E9F}" type="slidenum">
              <a:t>&lt;#&gt;</a:t>
            </a:fld>
          </a:p>
        </p:txBody>
      </p:sp>
    </p:spTree>
  </p:cSld>
</p:sldLayout>
</file>

<file path=ppt/slideLayouts/slideLayout6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0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2"/>
          </p:nvPr>
        </p:nvSpPr>
        <p:spPr/>
        <p:txBody>
          <a:bodyPr/>
          <a:p>
            <a:fld id="{1BDC2A06-D01D-49BD-B550-51210F2388DA}" type="slidenum">
              <a:t>&lt;#&gt;</a:t>
            </a:fld>
          </a:p>
        </p:txBody>
      </p:sp>
    </p:spTree>
  </p:cSld>
</p:sldLayout>
</file>

<file path=ppt/slideLayouts/slideLayout6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0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2"/>
          </p:nvPr>
        </p:nvSpPr>
        <p:spPr/>
        <p:txBody>
          <a:bodyPr/>
          <a:p>
            <a:fld id="{0FFA8920-77A8-4D56-8D2B-A6AA3DE8F8D8}" type="slidenum">
              <a:t>&lt;#&gt;</a:t>
            </a:fld>
          </a:p>
        </p:txBody>
      </p:sp>
    </p:spTree>
  </p:cSld>
</p:sldLayout>
</file>

<file path=ppt/slideLayouts/slideLayout6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0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0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2"/>
          </p:nvPr>
        </p:nvSpPr>
        <p:spPr/>
        <p:txBody>
          <a:bodyPr/>
          <a:p>
            <a:fld id="{E807C5E8-206F-4E6C-B902-08E0B0124D89}" type="slidenum">
              <a:t>&lt;#&gt;</a:t>
            </a:fld>
          </a:p>
        </p:txBody>
      </p:sp>
    </p:spTree>
  </p:cSld>
</p:sldLayout>
</file>

<file path=ppt/slideLayouts/slideLayout6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2"/>
          </p:nvPr>
        </p:nvSpPr>
        <p:spPr/>
        <p:txBody>
          <a:bodyPr/>
          <a:p>
            <a:fld id="{CE3AC780-630F-4693-922E-16A28188D08B}" type="slidenum">
              <a:t>&lt;#&gt;</a:t>
            </a:fld>
          </a:p>
        </p:txBody>
      </p:sp>
    </p:spTree>
  </p:cSld>
</p:sldLayout>
</file>

<file path=ppt/slideLayouts/slideLayout6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2"/>
          </p:nvPr>
        </p:nvSpPr>
        <p:spPr/>
        <p:txBody>
          <a:bodyPr/>
          <a:p>
            <a:fld id="{45AA52EE-146D-4E8A-9D8B-8727A5537D6C}" type="slidenum">
              <a:t>&lt;#&gt;</a:t>
            </a:fld>
          </a:p>
        </p:txBody>
      </p:sp>
    </p:spTree>
  </p:cSld>
</p:sldLayout>
</file>

<file path=ppt/slideLayouts/slideLayout6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1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1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1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2"/>
          </p:nvPr>
        </p:nvSpPr>
        <p:spPr/>
        <p:txBody>
          <a:bodyPr/>
          <a:p>
            <a:fld id="{0BB62A03-2DED-419D-AB78-A5527293F0CE}"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1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5571D7C-4B4E-4D1B-B483-688184690DC9}" type="slidenum">
              <a:t>&lt;#&gt;</a:t>
            </a:fld>
          </a:p>
        </p:txBody>
      </p:sp>
    </p:spTree>
  </p:cSld>
</p:sldLayout>
</file>

<file path=ppt/slideLayouts/slideLayout6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1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1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1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1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2"/>
          </p:nvPr>
        </p:nvSpPr>
        <p:spPr/>
        <p:txBody>
          <a:bodyPr/>
          <a:p>
            <a:fld id="{2C3375B7-130C-438E-A1AA-D453AE4FFF74}" type="slidenum">
              <a:t>&lt;#&gt;</a:t>
            </a:fld>
          </a:p>
        </p:txBody>
      </p:sp>
    </p:spTree>
  </p:cSld>
</p:sldLayout>
</file>

<file path=ppt/slideLayouts/slideLayout6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2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2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2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2"/>
          </p:nvPr>
        </p:nvSpPr>
        <p:spPr/>
        <p:txBody>
          <a:bodyPr/>
          <a:p>
            <a:fld id="{A090EAD2-2A5E-480E-9A58-CECEAA2D46B4}" type="slidenum">
              <a:t>&lt;#&gt;</a:t>
            </a:fld>
          </a:p>
        </p:txBody>
      </p:sp>
    </p:spTree>
  </p:cSld>
</p:sldLayout>
</file>

<file path=ppt/slideLayouts/slideLayout6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2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2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2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2"/>
          </p:nvPr>
        </p:nvSpPr>
        <p:spPr/>
        <p:txBody>
          <a:bodyPr/>
          <a:p>
            <a:fld id="{0E39793E-D3C2-4C79-BE48-A65B0A3F9B24}" type="slidenum">
              <a:t>&lt;#&gt;</a:t>
            </a:fld>
          </a:p>
        </p:txBody>
      </p:sp>
    </p:spTree>
  </p:cSld>
</p:sldLayout>
</file>

<file path=ppt/slideLayouts/slideLayout6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2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2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2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3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2"/>
          </p:nvPr>
        </p:nvSpPr>
        <p:spPr/>
        <p:txBody>
          <a:bodyPr/>
          <a:p>
            <a:fld id="{12CF1B40-758A-48D9-A3AA-895EC67A1E3C}" type="slidenum">
              <a:t>&lt;#&gt;</a:t>
            </a:fld>
          </a:p>
        </p:txBody>
      </p:sp>
    </p:spTree>
  </p:cSld>
</p:sldLayout>
</file>

<file path=ppt/slideLayouts/slideLayout6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3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3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3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3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3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3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2"/>
          </p:nvPr>
        </p:nvSpPr>
        <p:spPr/>
        <p:txBody>
          <a:bodyPr/>
          <a:p>
            <a:fld id="{ACDC20B8-2CC5-4D29-98EF-786115869916}" type="slidenum">
              <a:t>&lt;#&gt;</a:t>
            </a:fld>
          </a:p>
        </p:txBody>
      </p:sp>
    </p:spTree>
  </p:cSld>
</p:sldLayout>
</file>

<file path=ppt/slideLayouts/slideLayout6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3"/>
          </p:nvPr>
        </p:nvSpPr>
        <p:spPr/>
        <p:txBody>
          <a:bodyPr/>
          <a:p>
            <a:fld id="{6ABC82CE-CA73-403E-ACC5-81BAAF1A2230}" type="slidenum">
              <a:t>&lt;#&gt;</a:t>
            </a:fld>
          </a:p>
        </p:txBody>
      </p:sp>
    </p:spTree>
  </p:cSld>
</p:sldLayout>
</file>

<file path=ppt/slideLayouts/slideLayout6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4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3"/>
          </p:nvPr>
        </p:nvSpPr>
        <p:spPr/>
        <p:txBody>
          <a:bodyPr/>
          <a:p>
            <a:fld id="{9EB9421E-596D-4669-AA7F-FA62B7ACAD62}" type="slidenum">
              <a:t>&lt;#&gt;</a:t>
            </a:fld>
          </a:p>
        </p:txBody>
      </p:sp>
    </p:spTree>
  </p:cSld>
</p:sldLayout>
</file>

<file path=ppt/slideLayouts/slideLayout6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4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3"/>
          </p:nvPr>
        </p:nvSpPr>
        <p:spPr/>
        <p:txBody>
          <a:bodyPr/>
          <a:p>
            <a:fld id="{556FA957-BA46-4968-B07C-8110F27D71AB}" type="slidenum">
              <a:t>&lt;#&gt;</a:t>
            </a:fld>
          </a:p>
        </p:txBody>
      </p:sp>
    </p:spTree>
  </p:cSld>
</p:sldLayout>
</file>

<file path=ppt/slideLayouts/slideLayout6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5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5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3"/>
          </p:nvPr>
        </p:nvSpPr>
        <p:spPr/>
        <p:txBody>
          <a:bodyPr/>
          <a:p>
            <a:fld id="{11F336FF-1B08-4F81-A9A3-54F15B884874}" type="slidenum">
              <a:t>&lt;#&gt;</a:t>
            </a:fld>
          </a:p>
        </p:txBody>
      </p:sp>
    </p:spTree>
  </p:cSld>
</p:sldLayout>
</file>

<file path=ppt/slideLayouts/slideLayout6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3"/>
          </p:nvPr>
        </p:nvSpPr>
        <p:spPr/>
        <p:txBody>
          <a:bodyPr/>
          <a:p>
            <a:fld id="{E29F5EA0-6C0E-4D6A-BA6A-220E713B433C}"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
          </p:nvPr>
        </p:nvSpPr>
        <p:spPr/>
        <p:txBody>
          <a:bodyPr/>
          <a:p>
            <a:fld id="{558F9F66-B684-4DAE-A6D4-BC9A422B9A9F}" type="slidenum">
              <a:t>&lt;#&gt;</a:t>
            </a:fld>
          </a:p>
        </p:txBody>
      </p:sp>
    </p:spTree>
  </p:cSld>
</p:sldLayout>
</file>

<file path=ppt/slideLayouts/slideLayout6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3"/>
          </p:nvPr>
        </p:nvSpPr>
        <p:spPr/>
        <p:txBody>
          <a:bodyPr/>
          <a:p>
            <a:fld id="{FF52EEB7-CABF-4A92-BD8D-C9EF25D8382A}" type="slidenum">
              <a:t>&lt;#&gt;</a:t>
            </a:fld>
          </a:p>
        </p:txBody>
      </p:sp>
    </p:spTree>
  </p:cSld>
</p:sldLayout>
</file>

<file path=ppt/slideLayouts/slideLayout6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5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5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5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5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3"/>
          </p:nvPr>
        </p:nvSpPr>
        <p:spPr/>
        <p:txBody>
          <a:bodyPr/>
          <a:p>
            <a:fld id="{D9800495-5EE1-4688-9C61-49B942AB380B}" type="slidenum">
              <a:t>&lt;#&gt;</a:t>
            </a:fld>
          </a:p>
        </p:txBody>
      </p:sp>
    </p:spTree>
  </p:cSld>
</p:sldLayout>
</file>

<file path=ppt/slideLayouts/slideLayout6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5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6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6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3"/>
          </p:nvPr>
        </p:nvSpPr>
        <p:spPr/>
        <p:txBody>
          <a:bodyPr/>
          <a:p>
            <a:fld id="{D5138391-A9B0-4816-A0EF-6F6BEC3ED758}" type="slidenum">
              <a:t>&lt;#&gt;</a:t>
            </a:fld>
          </a:p>
        </p:txBody>
      </p:sp>
    </p:spTree>
  </p:cSld>
</p:sldLayout>
</file>

<file path=ppt/slideLayouts/slideLayout6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6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6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6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3"/>
          </p:nvPr>
        </p:nvSpPr>
        <p:spPr/>
        <p:txBody>
          <a:bodyPr/>
          <a:p>
            <a:fld id="{10F1C791-9EE8-4A32-A2E3-25D274B2725A}" type="slidenum">
              <a:t>&lt;#&gt;</a:t>
            </a:fld>
          </a:p>
        </p:txBody>
      </p:sp>
    </p:spTree>
  </p:cSld>
</p:sldLayout>
</file>

<file path=ppt/slideLayouts/slideLayout6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6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6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3"/>
          </p:nvPr>
        </p:nvSpPr>
        <p:spPr/>
        <p:txBody>
          <a:bodyPr/>
          <a:p>
            <a:fld id="{E51B7A0C-37ED-424D-9422-63E11AFB2CAA}" type="slidenum">
              <a:t>&lt;#&gt;</a:t>
            </a:fld>
          </a:p>
        </p:txBody>
      </p:sp>
    </p:spTree>
  </p:cSld>
</p:sldLayout>
</file>

<file path=ppt/slideLayouts/slideLayout6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7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7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7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7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3"/>
          </p:nvPr>
        </p:nvSpPr>
        <p:spPr/>
        <p:txBody>
          <a:bodyPr/>
          <a:p>
            <a:fld id="{48EE4C6E-5931-44BA-8FC6-586C39CE78D7}" type="slidenum">
              <a:t>&lt;#&gt;</a:t>
            </a:fld>
          </a:p>
        </p:txBody>
      </p:sp>
    </p:spTree>
  </p:cSld>
</p:sldLayout>
</file>

<file path=ppt/slideLayouts/slideLayout6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7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7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7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7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7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8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3"/>
          </p:nvPr>
        </p:nvSpPr>
        <p:spPr/>
        <p:txBody>
          <a:bodyPr/>
          <a:p>
            <a:fld id="{53F30C14-2193-40B4-9E86-B36C172A33DC}" type="slidenum">
              <a:t>&lt;#&gt;</a:t>
            </a:fld>
          </a:p>
        </p:txBody>
      </p:sp>
    </p:spTree>
  </p:cSld>
</p:sldLayout>
</file>

<file path=ppt/slideLayouts/slideLayout6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4"/>
          </p:nvPr>
        </p:nvSpPr>
        <p:spPr/>
        <p:txBody>
          <a:bodyPr/>
          <a:p>
            <a:fld id="{454E93CE-302E-401E-B025-8A1B1A8A14EB}" type="slidenum">
              <a:t>&lt;#&gt;</a:t>
            </a:fld>
          </a:p>
        </p:txBody>
      </p:sp>
    </p:spTree>
  </p:cSld>
</p:sldLayout>
</file>

<file path=ppt/slideLayouts/slideLayout6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9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4"/>
          </p:nvPr>
        </p:nvSpPr>
        <p:spPr/>
        <p:txBody>
          <a:bodyPr/>
          <a:p>
            <a:fld id="{EC7019A9-1FC3-4266-9656-84AE36828F89}" type="slidenum">
              <a:t>&lt;#&gt;</a:t>
            </a:fld>
          </a:p>
        </p:txBody>
      </p:sp>
    </p:spTree>
  </p:cSld>
</p:sldLayout>
</file>

<file path=ppt/slideLayouts/slideLayout6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9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4"/>
          </p:nvPr>
        </p:nvSpPr>
        <p:spPr/>
        <p:txBody>
          <a:bodyPr/>
          <a:p>
            <a:fld id="{BE3965BA-3962-42AE-864E-90F5E64C8BE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
          </p:nvPr>
        </p:nvSpPr>
        <p:spPr/>
        <p:txBody>
          <a:bodyPr/>
          <a:p>
            <a:fld id="{2154B1F2-4120-4507-B539-DDE9140EEB4C}" type="slidenum">
              <a:t>&lt;#&gt;</a:t>
            </a:fld>
          </a:p>
        </p:txBody>
      </p:sp>
    </p:spTree>
  </p:cSld>
</p:sldLayout>
</file>

<file path=ppt/slideLayouts/slideLayout6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9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9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4"/>
          </p:nvPr>
        </p:nvSpPr>
        <p:spPr/>
        <p:txBody>
          <a:bodyPr/>
          <a:p>
            <a:fld id="{A9785467-B007-475F-BE5B-440B5EC8D187}" type="slidenum">
              <a:t>&lt;#&gt;</a:t>
            </a:fld>
          </a:p>
        </p:txBody>
      </p:sp>
    </p:spTree>
  </p:cSld>
</p:sldLayout>
</file>

<file path=ppt/slideLayouts/slideLayout6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4"/>
          </p:nvPr>
        </p:nvSpPr>
        <p:spPr/>
        <p:txBody>
          <a:bodyPr/>
          <a:p>
            <a:fld id="{04C361DB-CCCA-498D-968C-D73A1D129B2C}" type="slidenum">
              <a:t>&lt;#&gt;</a:t>
            </a:fld>
          </a:p>
        </p:txBody>
      </p:sp>
    </p:spTree>
  </p:cSld>
</p:sldLayout>
</file>

<file path=ppt/slideLayouts/slideLayout6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4"/>
          </p:nvPr>
        </p:nvSpPr>
        <p:spPr/>
        <p:txBody>
          <a:bodyPr/>
          <a:p>
            <a:fld id="{E201C0FD-CD48-446B-88A7-FF5D11CCD282}" type="slidenum">
              <a:t>&lt;#&gt;</a:t>
            </a:fld>
          </a:p>
        </p:txBody>
      </p:sp>
    </p:spTree>
  </p:cSld>
</p:sldLayout>
</file>

<file path=ppt/slideLayouts/slideLayout6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0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0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0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4"/>
          </p:nvPr>
        </p:nvSpPr>
        <p:spPr/>
        <p:txBody>
          <a:bodyPr/>
          <a:p>
            <a:fld id="{51103C6A-278B-4428-9246-FF32BD4A713B}" type="slidenum">
              <a:t>&lt;#&gt;</a:t>
            </a:fld>
          </a:p>
        </p:txBody>
      </p:sp>
    </p:spTree>
  </p:cSld>
</p:sldLayout>
</file>

<file path=ppt/slideLayouts/slideLayout6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0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0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0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4"/>
          </p:nvPr>
        </p:nvSpPr>
        <p:spPr/>
        <p:txBody>
          <a:bodyPr/>
          <a:p>
            <a:fld id="{7AA92A7F-05DF-4B04-AFF1-BC6BAB836E85}" type="slidenum">
              <a:t>&lt;#&gt;</a:t>
            </a:fld>
          </a:p>
        </p:txBody>
      </p:sp>
    </p:spTree>
  </p:cSld>
</p:sldLayout>
</file>

<file path=ppt/slideLayouts/slideLayout6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1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1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1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4"/>
          </p:nvPr>
        </p:nvSpPr>
        <p:spPr/>
        <p:txBody>
          <a:bodyPr/>
          <a:p>
            <a:fld id="{7ED14602-E824-4243-B6B7-2335BCBAF16B}" type="slidenum">
              <a:t>&lt;#&gt;</a:t>
            </a:fld>
          </a:p>
        </p:txBody>
      </p:sp>
    </p:spTree>
  </p:cSld>
</p:sldLayout>
</file>

<file path=ppt/slideLayouts/slideLayout6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1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1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4"/>
          </p:nvPr>
        </p:nvSpPr>
        <p:spPr/>
        <p:txBody>
          <a:bodyPr/>
          <a:p>
            <a:fld id="{6D9BC9B6-B970-4542-A60B-E634E90FD2D6}" type="slidenum">
              <a:t>&lt;#&gt;</a:t>
            </a:fld>
          </a:p>
        </p:txBody>
      </p:sp>
    </p:spTree>
  </p:cSld>
</p:sldLayout>
</file>

<file path=ppt/slideLayouts/slideLayout6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1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1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1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2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4"/>
          </p:nvPr>
        </p:nvSpPr>
        <p:spPr/>
        <p:txBody>
          <a:bodyPr/>
          <a:p>
            <a:fld id="{17FD0D4E-A413-4466-A16E-ADB215C331AA}" type="slidenum">
              <a:t>&lt;#&gt;</a:t>
            </a:fld>
          </a:p>
        </p:txBody>
      </p:sp>
    </p:spTree>
  </p:cSld>
</p:sldLayout>
</file>

<file path=ppt/slideLayouts/slideLayout6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2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2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2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2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2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2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4"/>
          </p:nvPr>
        </p:nvSpPr>
        <p:spPr/>
        <p:txBody>
          <a:bodyPr/>
          <a:p>
            <a:fld id="{7440EB5B-D812-4191-B80A-5E6C85AEC90F}" type="slidenum">
              <a:t>&lt;#&gt;</a:t>
            </a:fld>
          </a:p>
        </p:txBody>
      </p:sp>
    </p:spTree>
  </p:cSld>
</p:sldLayout>
</file>

<file path=ppt/slideLayouts/slideLayout6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5"/>
          </p:nvPr>
        </p:nvSpPr>
        <p:spPr/>
        <p:txBody>
          <a:bodyPr/>
          <a:p>
            <a:fld id="{B921ED37-4BFA-463F-BBB2-C77DED4A3219}"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
          </p:nvPr>
        </p:nvSpPr>
        <p:spPr/>
        <p:txBody>
          <a:bodyPr/>
          <a:p>
            <a:fld id="{41042E82-A622-485E-974A-18BE834D3FBE}" type="slidenum">
              <a:t>&lt;#&gt;</a:t>
            </a:fld>
          </a:p>
        </p:txBody>
      </p:sp>
    </p:spTree>
  </p:cSld>
</p:sldLayout>
</file>

<file path=ppt/slideLayouts/slideLayout6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4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5"/>
          </p:nvPr>
        </p:nvSpPr>
        <p:spPr/>
        <p:txBody>
          <a:bodyPr/>
          <a:p>
            <a:fld id="{E559E6CB-EBEA-43D8-9E0D-DDA010D8F6A2}" type="slidenum">
              <a:t>&lt;#&gt;</a:t>
            </a:fld>
          </a:p>
        </p:txBody>
      </p:sp>
    </p:spTree>
  </p:cSld>
</p:sldLayout>
</file>

<file path=ppt/slideLayouts/slideLayout6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4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5"/>
          </p:nvPr>
        </p:nvSpPr>
        <p:spPr/>
        <p:txBody>
          <a:bodyPr/>
          <a:p>
            <a:fld id="{B39564F9-B3A1-4A4B-B739-FE59E976E8DB}" type="slidenum">
              <a:t>&lt;#&gt;</a:t>
            </a:fld>
          </a:p>
        </p:txBody>
      </p:sp>
    </p:spTree>
  </p:cSld>
</p:sldLayout>
</file>

<file path=ppt/slideLayouts/slideLayout6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4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4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4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5"/>
          </p:nvPr>
        </p:nvSpPr>
        <p:spPr/>
        <p:txBody>
          <a:bodyPr/>
          <a:p>
            <a:fld id="{6D6B237E-CC16-4CBD-A8F7-CF25EAEB1082}" type="slidenum">
              <a:t>&lt;#&gt;</a:t>
            </a:fld>
          </a:p>
        </p:txBody>
      </p:sp>
    </p:spTree>
  </p:cSld>
</p:sldLayout>
</file>

<file path=ppt/slideLayouts/slideLayout6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4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5"/>
          </p:nvPr>
        </p:nvSpPr>
        <p:spPr/>
        <p:txBody>
          <a:bodyPr/>
          <a:p>
            <a:fld id="{B039AE02-7893-475E-A60F-E6EF3D26537F}" type="slidenum">
              <a:t>&lt;#&gt;</a:t>
            </a:fld>
          </a:p>
        </p:txBody>
      </p:sp>
    </p:spTree>
  </p:cSld>
</p:sldLayout>
</file>

<file path=ppt/slideLayouts/slideLayout6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4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5"/>
          </p:nvPr>
        </p:nvSpPr>
        <p:spPr/>
        <p:txBody>
          <a:bodyPr/>
          <a:p>
            <a:fld id="{FA23AA4F-06E0-48D4-8F92-5ADD881BB370}" type="slidenum">
              <a:t>&lt;#&gt;</a:t>
            </a:fld>
          </a:p>
        </p:txBody>
      </p:sp>
    </p:spTree>
  </p:cSld>
</p:sldLayout>
</file>

<file path=ppt/slideLayouts/slideLayout6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4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5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5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5"/>
          </p:nvPr>
        </p:nvSpPr>
        <p:spPr/>
        <p:txBody>
          <a:bodyPr/>
          <a:p>
            <a:fld id="{46773CF9-56AD-4C1D-908C-563D1565F2DA}" type="slidenum">
              <a:t>&lt;#&gt;</a:t>
            </a:fld>
          </a:p>
        </p:txBody>
      </p:sp>
    </p:spTree>
  </p:cSld>
</p:sldLayout>
</file>

<file path=ppt/slideLayouts/slideLayout6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5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5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5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5"/>
          </p:nvPr>
        </p:nvSpPr>
        <p:spPr/>
        <p:txBody>
          <a:bodyPr/>
          <a:p>
            <a:fld id="{726F0A7C-0FB8-42DE-B946-C34C8A9B179A}" type="slidenum">
              <a:t>&lt;#&gt;</a:t>
            </a:fld>
          </a:p>
        </p:txBody>
      </p:sp>
    </p:spTree>
  </p:cSld>
</p:sldLayout>
</file>

<file path=ppt/slideLayouts/slideLayout6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5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5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5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5"/>
          </p:nvPr>
        </p:nvSpPr>
        <p:spPr/>
        <p:txBody>
          <a:bodyPr/>
          <a:p>
            <a:fld id="{F156676F-8266-49EB-B7C4-82EC0ABE4FB2}" type="slidenum">
              <a:t>&lt;#&gt;</a:t>
            </a:fld>
          </a:p>
        </p:txBody>
      </p:sp>
    </p:spTree>
  </p:cSld>
</p:sldLayout>
</file>

<file path=ppt/slideLayouts/slideLayout6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6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6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5"/>
          </p:nvPr>
        </p:nvSpPr>
        <p:spPr/>
        <p:txBody>
          <a:bodyPr/>
          <a:p>
            <a:fld id="{270D6A94-A802-4BDB-833F-7A4005354594}" type="slidenum">
              <a:t>&lt;#&gt;</a:t>
            </a:fld>
          </a:p>
        </p:txBody>
      </p:sp>
    </p:spTree>
  </p:cSld>
</p:sldLayout>
</file>

<file path=ppt/slideLayouts/slideLayout6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6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6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6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6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6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5"/>
          </p:nvPr>
        </p:nvSpPr>
        <p:spPr/>
        <p:txBody>
          <a:bodyPr/>
          <a:p>
            <a:fld id="{626FC278-C9F6-4B00-BD0E-CFDFEDBB0DD4}"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1440F623-23F4-473A-9796-4B967DA5E6AC}" type="slidenum">
              <a:t>&lt;#&gt;</a:t>
            </a:fld>
          </a:p>
        </p:txBody>
      </p:sp>
    </p:spTree>
  </p:cSld>
</p:sldLayout>
</file>

<file path=ppt/slideLayouts/slideLayout6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6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7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7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7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7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7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5"/>
          </p:nvPr>
        </p:nvSpPr>
        <p:spPr/>
        <p:txBody>
          <a:bodyPr/>
          <a:p>
            <a:fld id="{DC1FAAFE-CE41-4C9E-80A2-A5313F0B3081}" type="slidenum">
              <a:t>&lt;#&gt;</a:t>
            </a:fld>
          </a:p>
        </p:txBody>
      </p:sp>
    </p:spTree>
  </p:cSld>
</p:sldLayout>
</file>

<file path=ppt/slideLayouts/slideLayout6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6"/>
          </p:nvPr>
        </p:nvSpPr>
        <p:spPr/>
        <p:txBody>
          <a:bodyPr/>
          <a:p>
            <a:fld id="{FCAB0948-9163-40B2-A9F0-7839CE7BDDAC}" type="slidenum">
              <a:t>&lt;#&gt;</a:t>
            </a:fld>
          </a:p>
        </p:txBody>
      </p:sp>
    </p:spTree>
  </p:cSld>
</p:sldLayout>
</file>

<file path=ppt/slideLayouts/slideLayout6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82"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6"/>
          </p:nvPr>
        </p:nvSpPr>
        <p:spPr/>
        <p:txBody>
          <a:bodyPr/>
          <a:p>
            <a:fld id="{214AB274-1B8A-4661-AF92-804A747F5C3F}" type="slidenum">
              <a:t>&lt;#&gt;</a:t>
            </a:fld>
          </a:p>
        </p:txBody>
      </p:sp>
    </p:spTree>
  </p:cSld>
</p:sldLayout>
</file>

<file path=ppt/slideLayouts/slideLayout6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8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84"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6"/>
          </p:nvPr>
        </p:nvSpPr>
        <p:spPr/>
        <p:txBody>
          <a:bodyPr/>
          <a:p>
            <a:fld id="{513847BB-FCAE-406A-8436-C672D35458CF}" type="slidenum">
              <a:t>&lt;#&gt;</a:t>
            </a:fld>
          </a:p>
        </p:txBody>
      </p:sp>
    </p:spTree>
  </p:cSld>
</p:sldLayout>
</file>

<file path=ppt/slideLayouts/slideLayout6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8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8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6"/>
          </p:nvPr>
        </p:nvSpPr>
        <p:spPr/>
        <p:txBody>
          <a:bodyPr/>
          <a:p>
            <a:fld id="{58E3173D-DD4C-44A4-B8A1-3C991D767EDB}" type="slidenum">
              <a:t>&lt;#&gt;</a:t>
            </a:fld>
          </a:p>
        </p:txBody>
      </p:sp>
    </p:spTree>
  </p:cSld>
</p:sldLayout>
</file>

<file path=ppt/slideLayouts/slideLayout6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8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6"/>
          </p:nvPr>
        </p:nvSpPr>
        <p:spPr/>
        <p:txBody>
          <a:bodyPr/>
          <a:p>
            <a:fld id="{863AFCAC-8568-41B9-A45F-EFE7C3C52881}" type="slidenum">
              <a:t>&lt;#&gt;</a:t>
            </a:fld>
          </a:p>
        </p:txBody>
      </p:sp>
    </p:spTree>
  </p:cSld>
</p:sldLayout>
</file>

<file path=ppt/slideLayouts/slideLayout6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89"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6"/>
          </p:nvPr>
        </p:nvSpPr>
        <p:spPr/>
        <p:txBody>
          <a:bodyPr/>
          <a:p>
            <a:fld id="{8A2B1663-435E-4A7E-87C6-1FF060EC71B0}" type="slidenum">
              <a:t>&lt;#&gt;</a:t>
            </a:fld>
          </a:p>
        </p:txBody>
      </p:sp>
    </p:spTree>
  </p:cSld>
</p:sldLayout>
</file>

<file path=ppt/slideLayouts/slideLayout6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9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9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9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6"/>
          </p:nvPr>
        </p:nvSpPr>
        <p:spPr/>
        <p:txBody>
          <a:bodyPr/>
          <a:p>
            <a:fld id="{3138678E-2E7B-4CC6-A554-069C5AEF598A}" type="slidenum">
              <a:t>&lt;#&gt;</a:t>
            </a:fld>
          </a:p>
        </p:txBody>
      </p:sp>
    </p:spTree>
  </p:cSld>
</p:sldLayout>
</file>

<file path=ppt/slideLayouts/slideLayout6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9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9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97"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6"/>
          </p:nvPr>
        </p:nvSpPr>
        <p:spPr/>
        <p:txBody>
          <a:bodyPr/>
          <a:p>
            <a:fld id="{80E0E13F-7CC4-4913-9605-D3E10C7124E4}" type="slidenum">
              <a:t>&lt;#&gt;</a:t>
            </a:fld>
          </a:p>
        </p:txBody>
      </p:sp>
    </p:spTree>
  </p:cSld>
</p:sldLayout>
</file>

<file path=ppt/slideLayouts/slideLayout6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9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0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01"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6"/>
          </p:nvPr>
        </p:nvSpPr>
        <p:spPr/>
        <p:txBody>
          <a:bodyPr/>
          <a:p>
            <a:fld id="{FA10C979-9BA9-488B-BFA4-E44DE0404CB1}"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2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2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
          </p:nvPr>
        </p:nvSpPr>
        <p:spPr/>
        <p:txBody>
          <a:bodyPr/>
          <a:p>
            <a:fld id="{D80C6FAE-B75A-4A7F-AAB6-A08D36354BA0}" type="slidenum">
              <a:t>&lt;#&gt;</a:t>
            </a:fld>
          </a:p>
        </p:txBody>
      </p:sp>
    </p:spTree>
  </p:cSld>
</p:sldLayout>
</file>

<file path=ppt/slideLayouts/slideLayout6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03"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04"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6"/>
          </p:nvPr>
        </p:nvSpPr>
        <p:spPr/>
        <p:txBody>
          <a:bodyPr/>
          <a:p>
            <a:fld id="{BC0C3A46-3217-4877-848B-F53C6A258E83}" type="slidenum">
              <a:t>&lt;#&gt;</a:t>
            </a:fld>
          </a:p>
        </p:txBody>
      </p:sp>
    </p:spTree>
  </p:cSld>
</p:sldLayout>
</file>

<file path=ppt/slideLayouts/slideLayout6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0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0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0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09"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6"/>
          </p:nvPr>
        </p:nvSpPr>
        <p:spPr/>
        <p:txBody>
          <a:bodyPr/>
          <a:p>
            <a:fld id="{D3C7E670-CD1A-472B-9D83-885C4A6C2B59}" type="slidenum">
              <a:t>&lt;#&gt;</a:t>
            </a:fld>
          </a:p>
        </p:txBody>
      </p:sp>
    </p:spTree>
  </p:cSld>
</p:sldLayout>
</file>

<file path=ppt/slideLayouts/slideLayout6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1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11"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12"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13"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14"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15"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16"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6"/>
          </p:nvPr>
        </p:nvSpPr>
        <p:spPr/>
        <p:txBody>
          <a:bodyPr/>
          <a:p>
            <a:fld id="{D43AAF4B-A869-4E4F-BB0D-74587078F1A6}" type="slidenum">
              <a:t>&lt;#&gt;</a:t>
            </a:fld>
          </a:p>
        </p:txBody>
      </p:sp>
    </p:spTree>
  </p:cSld>
</p:sldLayout>
</file>

<file path=ppt/slideLayouts/slideLayout6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7"/>
          </p:nvPr>
        </p:nvSpPr>
        <p:spPr/>
        <p:txBody>
          <a:bodyPr/>
          <a:p>
            <a:fld id="{7B2DFABB-F555-4202-8D1D-F2A4014DB7EA}" type="slidenum">
              <a:t>&lt;#&gt;</a:t>
            </a:fld>
          </a:p>
        </p:txBody>
      </p:sp>
    </p:spTree>
  </p:cSld>
</p:sldLayout>
</file>

<file path=ppt/slideLayouts/slideLayout6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25"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7"/>
          </p:nvPr>
        </p:nvSpPr>
        <p:spPr/>
        <p:txBody>
          <a:bodyPr/>
          <a:p>
            <a:fld id="{2A225FFE-645B-4F89-9E1D-DD648269F7BB}" type="slidenum">
              <a:t>&lt;#&gt;</a:t>
            </a:fld>
          </a:p>
        </p:txBody>
      </p:sp>
    </p:spTree>
  </p:cSld>
</p:sldLayout>
</file>

<file path=ppt/slideLayouts/slideLayout6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27"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7"/>
          </p:nvPr>
        </p:nvSpPr>
        <p:spPr/>
        <p:txBody>
          <a:bodyPr/>
          <a:p>
            <a:fld id="{4C0FF044-0264-4F86-9D41-2988F009D6A6}" type="slidenum">
              <a:t>&lt;#&gt;</a:t>
            </a:fld>
          </a:p>
        </p:txBody>
      </p:sp>
    </p:spTree>
  </p:cSld>
</p:sldLayout>
</file>

<file path=ppt/slideLayouts/slideLayout6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2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3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7"/>
          </p:nvPr>
        </p:nvSpPr>
        <p:spPr/>
        <p:txBody>
          <a:bodyPr/>
          <a:p>
            <a:fld id="{9ECC1EB4-50E6-491E-A473-FAE49E09AC50}" type="slidenum">
              <a:t>&lt;#&gt;</a:t>
            </a:fld>
          </a:p>
        </p:txBody>
      </p:sp>
    </p:spTree>
  </p:cSld>
</p:sldLayout>
</file>

<file path=ppt/slideLayouts/slideLayout6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7"/>
          </p:nvPr>
        </p:nvSpPr>
        <p:spPr/>
        <p:txBody>
          <a:bodyPr/>
          <a:p>
            <a:fld id="{F7D462A5-C674-42B5-920B-F8E11F3F7504}" type="slidenum">
              <a:t>&lt;#&gt;</a:t>
            </a:fld>
          </a:p>
        </p:txBody>
      </p:sp>
    </p:spTree>
  </p:cSld>
</p:sldLayout>
</file>

<file path=ppt/slideLayouts/slideLayout6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2"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7"/>
          </p:nvPr>
        </p:nvSpPr>
        <p:spPr/>
        <p:txBody>
          <a:bodyPr/>
          <a:p>
            <a:fld id="{7F49D1DF-3C70-4239-B181-CA3A615584E4}" type="slidenum">
              <a:t>&lt;#&gt;</a:t>
            </a:fld>
          </a:p>
        </p:txBody>
      </p:sp>
    </p:spTree>
  </p:cSld>
</p:sldLayout>
</file>

<file path=ppt/slideLayouts/slideLayout6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3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3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3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7"/>
          </p:nvPr>
        </p:nvSpPr>
        <p:spPr/>
        <p:txBody>
          <a:bodyPr/>
          <a:p>
            <a:fld id="{4143EE67-DCF2-48F2-ADBF-0680AB6E3381}"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
          </p:nvPr>
        </p:nvSpPr>
        <p:spPr/>
        <p:txBody>
          <a:bodyPr/>
          <a:p>
            <a:fld id="{9627EC21-D811-4BB0-970A-151C5D6D7011}" type="slidenum">
              <a:t>&lt;#&gt;</a:t>
            </a:fld>
          </a:p>
        </p:txBody>
      </p:sp>
    </p:spTree>
  </p:cSld>
</p:sldLayout>
</file>

<file path=ppt/slideLayouts/slideLayout6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3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3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40"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7"/>
          </p:nvPr>
        </p:nvSpPr>
        <p:spPr/>
        <p:txBody>
          <a:bodyPr/>
          <a:p>
            <a:fld id="{B99DC2A9-FF68-449E-8802-8BFB95614212}" type="slidenum">
              <a:t>&lt;#&gt;</a:t>
            </a:fld>
          </a:p>
        </p:txBody>
      </p:sp>
    </p:spTree>
  </p:cSld>
</p:sldLayout>
</file>

<file path=ppt/slideLayouts/slideLayout6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4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4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4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44"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7"/>
          </p:nvPr>
        </p:nvSpPr>
        <p:spPr/>
        <p:txBody>
          <a:bodyPr/>
          <a:p>
            <a:fld id="{1938F376-AA86-4882-9998-89559FE13D2E}" type="slidenum">
              <a:t>&lt;#&gt;</a:t>
            </a:fld>
          </a:p>
        </p:txBody>
      </p:sp>
    </p:spTree>
  </p:cSld>
</p:sldLayout>
</file>

<file path=ppt/slideLayouts/slideLayout6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46"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47"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7"/>
          </p:nvPr>
        </p:nvSpPr>
        <p:spPr/>
        <p:txBody>
          <a:bodyPr/>
          <a:p>
            <a:fld id="{AED3DA68-16D9-42D0-ADB6-8C4FCEE1F018}" type="slidenum">
              <a:t>&lt;#&gt;</a:t>
            </a:fld>
          </a:p>
        </p:txBody>
      </p:sp>
    </p:spTree>
  </p:cSld>
</p:sldLayout>
</file>

<file path=ppt/slideLayouts/slideLayout6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4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2"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7"/>
          </p:nvPr>
        </p:nvSpPr>
        <p:spPr/>
        <p:txBody>
          <a:bodyPr/>
          <a:p>
            <a:fld id="{A0E9C91F-C162-460A-A519-2B7ED1EE6FD0}" type="slidenum">
              <a:t>&lt;#&gt;</a:t>
            </a:fld>
          </a:p>
        </p:txBody>
      </p:sp>
    </p:spTree>
  </p:cSld>
</p:sldLayout>
</file>

<file path=ppt/slideLayouts/slideLayout6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54"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5"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6"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7"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8"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9"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7"/>
          </p:nvPr>
        </p:nvSpPr>
        <p:spPr/>
        <p:txBody>
          <a:bodyPr/>
          <a:p>
            <a:fld id="{A805296A-B97F-4D99-A253-2A4F74C731A9}" type="slidenum">
              <a:t>&lt;#&gt;</a:t>
            </a:fld>
          </a:p>
        </p:txBody>
      </p:sp>
    </p:spTree>
  </p:cSld>
</p:sldLayout>
</file>

<file path=ppt/slideLayouts/slideLayout6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8"/>
          </p:nvPr>
        </p:nvSpPr>
        <p:spPr/>
        <p:txBody>
          <a:bodyPr/>
          <a:p>
            <a:fld id="{1EAE1071-BBA0-489D-A3FA-C4212A3D3343}" type="slidenum">
              <a:t>&lt;#&gt;</a:t>
            </a:fld>
          </a:p>
        </p:txBody>
      </p:sp>
    </p:spTree>
  </p:cSld>
</p:sldLayout>
</file>

<file path=ppt/slideLayouts/slideLayout6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6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6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8"/>
          </p:nvPr>
        </p:nvSpPr>
        <p:spPr/>
        <p:txBody>
          <a:bodyPr/>
          <a:p>
            <a:fld id="{F3494CE9-3EB6-4E47-BB57-8865477916D9}" type="slidenum">
              <a:t>&lt;#&gt;</a:t>
            </a:fld>
          </a:p>
        </p:txBody>
      </p:sp>
    </p:spTree>
  </p:cSld>
</p:sldLayout>
</file>

<file path=ppt/slideLayouts/slideLayout6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7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8"/>
          </p:nvPr>
        </p:nvSpPr>
        <p:spPr/>
        <p:txBody>
          <a:bodyPr/>
          <a:p>
            <a:fld id="{7FACFA30-9BC4-42C6-8E99-F476AAD38754}" type="slidenum">
              <a:t>&lt;#&gt;</a:t>
            </a:fld>
          </a:p>
        </p:txBody>
      </p:sp>
    </p:spTree>
  </p:cSld>
</p:sldLayout>
</file>

<file path=ppt/slideLayouts/slideLayout6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7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7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8"/>
          </p:nvPr>
        </p:nvSpPr>
        <p:spPr/>
        <p:txBody>
          <a:bodyPr/>
          <a:p>
            <a:fld id="{D274C846-91ED-44CC-BBA1-410FEAEC9B53}" type="slidenum">
              <a:t>&lt;#&gt;</a:t>
            </a:fld>
          </a:p>
        </p:txBody>
      </p:sp>
    </p:spTree>
  </p:cSld>
</p:sldLayout>
</file>

<file path=ppt/slideLayouts/slideLayout6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8"/>
          </p:nvPr>
        </p:nvSpPr>
        <p:spPr/>
        <p:txBody>
          <a:bodyPr/>
          <a:p>
            <a:fld id="{3037E58A-AB71-412D-ADA5-25B80068A62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3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
          </p:nvPr>
        </p:nvSpPr>
        <p:spPr/>
        <p:txBody>
          <a:bodyPr/>
          <a:p>
            <a:fld id="{6EACCB8E-A898-4C79-9498-8A26F90E4070}" type="slidenum">
              <a:t>&lt;#&gt;</a:t>
            </a:fld>
          </a:p>
        </p:txBody>
      </p:sp>
    </p:spTree>
  </p:cSld>
</p:sldLayout>
</file>

<file path=ppt/slideLayouts/slideLayout6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7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8"/>
          </p:nvPr>
        </p:nvSpPr>
        <p:spPr/>
        <p:txBody>
          <a:bodyPr/>
          <a:p>
            <a:fld id="{0BB91459-7E6A-4FCA-ADB5-C6C58350C6B4}" type="slidenum">
              <a:t>&lt;#&gt;</a:t>
            </a:fld>
          </a:p>
        </p:txBody>
      </p:sp>
    </p:spTree>
  </p:cSld>
</p:sldLayout>
</file>

<file path=ppt/slideLayouts/slideLayout6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7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7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8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8"/>
          </p:nvPr>
        </p:nvSpPr>
        <p:spPr/>
        <p:txBody>
          <a:bodyPr/>
          <a:p>
            <a:fld id="{F3DB8EB0-08DC-4DA4-88F8-0A440269DA67}" type="slidenum">
              <a:t>&lt;#&gt;</a:t>
            </a:fld>
          </a:p>
        </p:txBody>
      </p:sp>
    </p:spTree>
  </p:cSld>
</p:sldLayout>
</file>

<file path=ppt/slideLayouts/slideLayout6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8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8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8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8"/>
          </p:nvPr>
        </p:nvSpPr>
        <p:spPr/>
        <p:txBody>
          <a:bodyPr/>
          <a:p>
            <a:fld id="{5EAC3753-BAEF-4E38-8DE4-4704459EF27D}" type="slidenum">
              <a:t>&lt;#&gt;</a:t>
            </a:fld>
          </a:p>
        </p:txBody>
      </p:sp>
    </p:spTree>
  </p:cSld>
</p:sldLayout>
</file>

<file path=ppt/slideLayouts/slideLayout6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8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8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8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8"/>
          </p:nvPr>
        </p:nvSpPr>
        <p:spPr/>
        <p:txBody>
          <a:bodyPr/>
          <a:p>
            <a:fld id="{13122448-4D8C-4D04-877D-C245FF17898E}" type="slidenum">
              <a:t>&lt;#&gt;</a:t>
            </a:fld>
          </a:p>
        </p:txBody>
      </p:sp>
    </p:spTree>
  </p:cSld>
</p:sldLayout>
</file>

<file path=ppt/slideLayouts/slideLayout6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9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9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8"/>
          </p:nvPr>
        </p:nvSpPr>
        <p:spPr/>
        <p:txBody>
          <a:bodyPr/>
          <a:p>
            <a:fld id="{CAE0F275-B190-4D08-871E-5E4E46D18698}" type="slidenum">
              <a:t>&lt;#&gt;</a:t>
            </a:fld>
          </a:p>
        </p:txBody>
      </p:sp>
    </p:spTree>
  </p:cSld>
</p:sldLayout>
</file>

<file path=ppt/slideLayouts/slideLayout6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9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9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9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9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8"/>
          </p:nvPr>
        </p:nvSpPr>
        <p:spPr/>
        <p:txBody>
          <a:bodyPr/>
          <a:p>
            <a:fld id="{576FA289-3893-43BD-8FD8-4513CD9A7278}" type="slidenum">
              <a:t>&lt;#&gt;</a:t>
            </a:fld>
          </a:p>
        </p:txBody>
      </p:sp>
    </p:spTree>
  </p:cSld>
</p:sldLayout>
</file>

<file path=ppt/slideLayouts/slideLayout6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9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9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0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0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0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0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8"/>
          </p:nvPr>
        </p:nvSpPr>
        <p:spPr/>
        <p:txBody>
          <a:bodyPr/>
          <a:p>
            <a:fld id="{A28DA52F-133D-4C5F-8DAD-341EA8AFDFC0}" type="slidenum">
              <a:t>&lt;#&gt;</a:t>
            </a:fld>
          </a:p>
        </p:txBody>
      </p:sp>
    </p:spTree>
  </p:cSld>
</p:sldLayout>
</file>

<file path=ppt/slideLayouts/slideLayout6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9"/>
          </p:nvPr>
        </p:nvSpPr>
        <p:spPr/>
        <p:txBody>
          <a:bodyPr/>
          <a:p>
            <a:fld id="{1309229B-8C75-4DF2-8798-875FE1AC23DD}" type="slidenum">
              <a:t>&lt;#&gt;</a:t>
            </a:fld>
          </a:p>
        </p:txBody>
      </p:sp>
    </p:spTree>
  </p:cSld>
</p:sldLayout>
</file>

<file path=ppt/slideLayouts/slideLayout6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1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59"/>
          </p:nvPr>
        </p:nvSpPr>
        <p:spPr/>
        <p:txBody>
          <a:bodyPr/>
          <a:p>
            <a:fld id="{9FB934EB-C5C4-4EFB-9D24-A42633ABF47D}" type="slidenum">
              <a:t>&lt;#&gt;</a:t>
            </a:fld>
          </a:p>
        </p:txBody>
      </p:sp>
    </p:spTree>
  </p:cSld>
</p:sldLayout>
</file>

<file path=ppt/slideLayouts/slideLayout6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1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1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59"/>
          </p:nvPr>
        </p:nvSpPr>
        <p:spPr/>
        <p:txBody>
          <a:bodyPr/>
          <a:p>
            <a:fld id="{EF78DCC1-8B98-469C-940D-5BE095D6F6C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1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
          </p:nvPr>
        </p:nvSpPr>
        <p:spPr/>
        <p:txBody>
          <a:bodyPr/>
          <a:p>
            <a:fld id="{C5C53C98-2791-4106-A8C1-108420CDB2F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
          </p:nvPr>
        </p:nvSpPr>
        <p:spPr/>
        <p:txBody>
          <a:bodyPr/>
          <a:p>
            <a:fld id="{3DB8E7E3-D0FA-42FA-9CE7-AA7F66D37E8A}" type="slidenum">
              <a:t>&lt;#&gt;</a:t>
            </a:fld>
          </a:p>
        </p:txBody>
      </p:sp>
    </p:spTree>
  </p:cSld>
</p:sldLayout>
</file>

<file path=ppt/slideLayouts/slideLayout7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1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1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9"/>
          </p:nvPr>
        </p:nvSpPr>
        <p:spPr/>
        <p:txBody>
          <a:bodyPr/>
          <a:p>
            <a:fld id="{117D17B6-B1AB-4C0B-AAD0-3D7F7DF8A860}" type="slidenum">
              <a:t>&lt;#&gt;</a:t>
            </a:fld>
          </a:p>
        </p:txBody>
      </p:sp>
    </p:spTree>
  </p:cSld>
</p:sldLayout>
</file>

<file path=ppt/slideLayouts/slideLayout7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59"/>
          </p:nvPr>
        </p:nvSpPr>
        <p:spPr/>
        <p:txBody>
          <a:bodyPr/>
          <a:p>
            <a:fld id="{3E3C80E4-C002-4D50-B0D7-EB8E28FB622E}" type="slidenum">
              <a:t>&lt;#&gt;</a:t>
            </a:fld>
          </a:p>
        </p:txBody>
      </p:sp>
    </p:spTree>
  </p:cSld>
</p:sldLayout>
</file>

<file path=ppt/slideLayouts/slideLayout7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59"/>
          </p:nvPr>
        </p:nvSpPr>
        <p:spPr/>
        <p:txBody>
          <a:bodyPr/>
          <a:p>
            <a:fld id="{95EEDF18-8A32-40F8-A23E-7A061211EA10}" type="slidenum">
              <a:t>&lt;#&gt;</a:t>
            </a:fld>
          </a:p>
        </p:txBody>
      </p:sp>
    </p:spTree>
  </p:cSld>
</p:sldLayout>
</file>

<file path=ppt/slideLayouts/slideLayout7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2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2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2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9"/>
          </p:nvPr>
        </p:nvSpPr>
        <p:spPr/>
        <p:txBody>
          <a:bodyPr/>
          <a:p>
            <a:fld id="{6B7E8B1D-EFAF-4292-A992-930D249F7180}" type="slidenum">
              <a:t>&lt;#&gt;</a:t>
            </a:fld>
          </a:p>
        </p:txBody>
      </p:sp>
    </p:spTree>
  </p:cSld>
</p:sldLayout>
</file>

<file path=ppt/slideLayouts/slideLayout7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2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2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2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9"/>
          </p:nvPr>
        </p:nvSpPr>
        <p:spPr/>
        <p:txBody>
          <a:bodyPr/>
          <a:p>
            <a:fld id="{563C5A18-C83E-4E14-8E64-AE91EC634515}" type="slidenum">
              <a:t>&lt;#&gt;</a:t>
            </a:fld>
          </a:p>
        </p:txBody>
      </p:sp>
    </p:spTree>
  </p:cSld>
</p:sldLayout>
</file>

<file path=ppt/slideLayouts/slideLayout7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3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3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3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3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59"/>
          </p:nvPr>
        </p:nvSpPr>
        <p:spPr/>
        <p:txBody>
          <a:bodyPr/>
          <a:p>
            <a:fld id="{5CCE8ED7-D868-4A71-BD3C-096C2F767BD8}" type="slidenum">
              <a:t>&lt;#&gt;</a:t>
            </a:fld>
          </a:p>
        </p:txBody>
      </p:sp>
    </p:spTree>
  </p:cSld>
</p:sldLayout>
</file>

<file path=ppt/slideLayouts/slideLayout7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3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3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59"/>
          </p:nvPr>
        </p:nvSpPr>
        <p:spPr/>
        <p:txBody>
          <a:bodyPr/>
          <a:p>
            <a:fld id="{C4300165-B362-4A04-A8C1-C20BDEB6760C}" type="slidenum">
              <a:t>&lt;#&gt;</a:t>
            </a:fld>
          </a:p>
        </p:txBody>
      </p:sp>
    </p:spTree>
  </p:cSld>
</p:sldLayout>
</file>

<file path=ppt/slideLayouts/slideLayout7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3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3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4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4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59"/>
          </p:nvPr>
        </p:nvSpPr>
        <p:spPr/>
        <p:txBody>
          <a:bodyPr/>
          <a:p>
            <a:fld id="{B93DF6BD-F8B7-4F12-AC30-B748DDDF8F86}" type="slidenum">
              <a:t>&lt;#&gt;</a:t>
            </a:fld>
          </a:p>
        </p:txBody>
      </p:sp>
    </p:spTree>
  </p:cSld>
</p:sldLayout>
</file>

<file path=ppt/slideLayouts/slideLayout7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4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4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4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4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4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4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59"/>
          </p:nvPr>
        </p:nvSpPr>
        <p:spPr/>
        <p:txBody>
          <a:bodyPr/>
          <a:p>
            <a:fld id="{0C0F3488-2D77-44D3-B567-05891308DE63}" type="slidenum">
              <a:t>&lt;#&gt;</a:t>
            </a:fld>
          </a:p>
        </p:txBody>
      </p:sp>
    </p:spTree>
  </p:cSld>
</p:sldLayout>
</file>

<file path=ppt/slideLayouts/slideLayout7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0"/>
          </p:nvPr>
        </p:nvSpPr>
        <p:spPr/>
        <p:txBody>
          <a:bodyPr/>
          <a:p>
            <a:fld id="{FB6D416E-B1C5-4B8B-9803-DC19162A15D9}"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
          </p:nvPr>
        </p:nvSpPr>
        <p:spPr/>
        <p:txBody>
          <a:bodyPr/>
          <a:p>
            <a:fld id="{A2BA9AB9-06F5-4AAC-BF27-26D6C6DFA7A8}" type="slidenum">
              <a:t>&lt;#&gt;</a:t>
            </a:fld>
          </a:p>
        </p:txBody>
      </p:sp>
    </p:spTree>
  </p:cSld>
</p:sldLayout>
</file>

<file path=ppt/slideLayouts/slideLayout7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57"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0"/>
          </p:nvPr>
        </p:nvSpPr>
        <p:spPr/>
        <p:txBody>
          <a:bodyPr/>
          <a:p>
            <a:fld id="{ECE2D0C9-993E-4C85-8C42-C67DC4FFD9BE}" type="slidenum">
              <a:t>&lt;#&gt;</a:t>
            </a:fld>
          </a:p>
        </p:txBody>
      </p:sp>
    </p:spTree>
  </p:cSld>
</p:sldLayout>
</file>

<file path=ppt/slideLayouts/slideLayout7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59"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0"/>
          </p:nvPr>
        </p:nvSpPr>
        <p:spPr/>
        <p:txBody>
          <a:bodyPr/>
          <a:p>
            <a:fld id="{82B993CB-F4BE-474F-83AF-B156B955C9D1}" type="slidenum">
              <a:t>&lt;#&gt;</a:t>
            </a:fld>
          </a:p>
        </p:txBody>
      </p:sp>
    </p:spTree>
  </p:cSld>
</p:sldLayout>
</file>

<file path=ppt/slideLayouts/slideLayout7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6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6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0"/>
          </p:nvPr>
        </p:nvSpPr>
        <p:spPr/>
        <p:txBody>
          <a:bodyPr/>
          <a:p>
            <a:fld id="{DD770B3E-320C-49C2-BF13-0EC52358F86A}" type="slidenum">
              <a:t>&lt;#&gt;</a:t>
            </a:fld>
          </a:p>
        </p:txBody>
      </p:sp>
    </p:spTree>
  </p:cSld>
</p:sldLayout>
</file>

<file path=ppt/slideLayouts/slideLayout7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6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0"/>
          </p:nvPr>
        </p:nvSpPr>
        <p:spPr/>
        <p:txBody>
          <a:bodyPr/>
          <a:p>
            <a:fld id="{15FA4B85-BBF3-49B4-BA3D-65076BB91534}" type="slidenum">
              <a:t>&lt;#&gt;</a:t>
            </a:fld>
          </a:p>
        </p:txBody>
      </p:sp>
    </p:spTree>
  </p:cSld>
</p:sldLayout>
</file>

<file path=ppt/slideLayouts/slideLayout7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64"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0"/>
          </p:nvPr>
        </p:nvSpPr>
        <p:spPr/>
        <p:txBody>
          <a:bodyPr/>
          <a:p>
            <a:fld id="{2500FCC1-D2BC-47D1-A7C7-7C1BA7FA740C}" type="slidenum">
              <a:t>&lt;#&gt;</a:t>
            </a:fld>
          </a:p>
        </p:txBody>
      </p:sp>
    </p:spTree>
  </p:cSld>
</p:sldLayout>
</file>

<file path=ppt/slideLayouts/slideLayout7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6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6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6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6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0"/>
          </p:nvPr>
        </p:nvSpPr>
        <p:spPr/>
        <p:txBody>
          <a:bodyPr/>
          <a:p>
            <a:fld id="{11EF1835-478C-4C60-88E6-342918FFD193}" type="slidenum">
              <a:t>&lt;#&gt;</a:t>
            </a:fld>
          </a:p>
        </p:txBody>
      </p:sp>
    </p:spTree>
  </p:cSld>
</p:sldLayout>
</file>

<file path=ppt/slideLayouts/slideLayout7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7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7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72"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0"/>
          </p:nvPr>
        </p:nvSpPr>
        <p:spPr/>
        <p:txBody>
          <a:bodyPr/>
          <a:p>
            <a:fld id="{4144EC39-5097-4EB8-9CB9-CA1475E91F56}" type="slidenum">
              <a:t>&lt;#&gt;</a:t>
            </a:fld>
          </a:p>
        </p:txBody>
      </p:sp>
    </p:spTree>
  </p:cSld>
</p:sldLayout>
</file>

<file path=ppt/slideLayouts/slideLayout7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7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7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76"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0"/>
          </p:nvPr>
        </p:nvSpPr>
        <p:spPr/>
        <p:txBody>
          <a:bodyPr/>
          <a:p>
            <a:fld id="{DA4DBC73-1835-4950-AEC8-ED68D7A84F98}" type="slidenum">
              <a:t>&lt;#&gt;</a:t>
            </a:fld>
          </a:p>
        </p:txBody>
      </p:sp>
    </p:spTree>
  </p:cSld>
</p:sldLayout>
</file>

<file path=ppt/slideLayouts/slideLayout7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78"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79"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0"/>
          </p:nvPr>
        </p:nvSpPr>
        <p:spPr/>
        <p:txBody>
          <a:bodyPr/>
          <a:p>
            <a:fld id="{0B0678C2-13E9-4E6D-9EC5-E91F6079D48D}" type="slidenum">
              <a:t>&lt;#&gt;</a:t>
            </a:fld>
          </a:p>
        </p:txBody>
      </p:sp>
    </p:spTree>
  </p:cSld>
</p:sldLayout>
</file>

<file path=ppt/slideLayouts/slideLayout7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8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8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8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84"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0"/>
          </p:nvPr>
        </p:nvSpPr>
        <p:spPr/>
        <p:txBody>
          <a:bodyPr/>
          <a:p>
            <a:fld id="{093EA06C-D4ED-4F32-BB85-158C78CD248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4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
          </p:nvPr>
        </p:nvSpPr>
        <p:spPr/>
        <p:txBody>
          <a:bodyPr/>
          <a:p>
            <a:fld id="{53A8F1C5-1B09-47D2-B2CF-29F44BC72179}" type="slidenum">
              <a:t>&lt;#&gt;</a:t>
            </a:fld>
          </a:p>
        </p:txBody>
      </p:sp>
    </p:spTree>
  </p:cSld>
</p:sldLayout>
</file>

<file path=ppt/slideLayouts/slideLayout7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86"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87"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88"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89"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90"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91"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0"/>
          </p:nvPr>
        </p:nvSpPr>
        <p:spPr/>
        <p:txBody>
          <a:bodyPr/>
          <a:p>
            <a:fld id="{7704DF8F-CC81-4049-9A9B-D2B8CA73931C}" type="slidenum">
              <a:t>&lt;#&gt;</a:t>
            </a:fld>
          </a:p>
        </p:txBody>
      </p:sp>
    </p:spTree>
  </p:cSld>
</p:sldLayout>
</file>

<file path=ppt/slideLayouts/slideLayout7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1"/>
          </p:nvPr>
        </p:nvSpPr>
        <p:spPr/>
        <p:txBody>
          <a:bodyPr/>
          <a:p>
            <a:fld id="{01D19F46-639D-48B0-93F9-183E6B47921C}" type="slidenum">
              <a:t>&lt;#&gt;</a:t>
            </a:fld>
          </a:p>
        </p:txBody>
      </p:sp>
    </p:spTree>
  </p:cSld>
</p:sldLayout>
</file>

<file path=ppt/slideLayouts/slideLayout7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0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1"/>
          </p:nvPr>
        </p:nvSpPr>
        <p:spPr/>
        <p:txBody>
          <a:bodyPr/>
          <a:p>
            <a:fld id="{F53E1649-C2B3-439A-AC86-C1F28BF4E582}" type="slidenum">
              <a:t>&lt;#&gt;</a:t>
            </a:fld>
          </a:p>
        </p:txBody>
      </p:sp>
    </p:spTree>
  </p:cSld>
</p:sldLayout>
</file>

<file path=ppt/slideLayouts/slideLayout7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0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1"/>
          </p:nvPr>
        </p:nvSpPr>
        <p:spPr/>
        <p:txBody>
          <a:bodyPr/>
          <a:p>
            <a:fld id="{4716983C-51B7-4C82-98AA-EFB446A81889}" type="slidenum">
              <a:t>&lt;#&gt;</a:t>
            </a:fld>
          </a:p>
        </p:txBody>
      </p:sp>
    </p:spTree>
  </p:cSld>
</p:sldLayout>
</file>

<file path=ppt/slideLayouts/slideLayout7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0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0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1"/>
          </p:nvPr>
        </p:nvSpPr>
        <p:spPr/>
        <p:txBody>
          <a:bodyPr/>
          <a:p>
            <a:fld id="{FCAE2D26-88E2-41DD-B95C-500ED0CAD445}" type="slidenum">
              <a:t>&lt;#&gt;</a:t>
            </a:fld>
          </a:p>
        </p:txBody>
      </p:sp>
    </p:spTree>
  </p:cSld>
</p:sldLayout>
</file>

<file path=ppt/slideLayouts/slideLayout7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1"/>
          </p:nvPr>
        </p:nvSpPr>
        <p:spPr/>
        <p:txBody>
          <a:bodyPr/>
          <a:p>
            <a:fld id="{B87B3FC4-61CE-455D-8074-49926A62370E}" type="slidenum">
              <a:t>&lt;#&gt;</a:t>
            </a:fld>
          </a:p>
        </p:txBody>
      </p:sp>
    </p:spTree>
  </p:cSld>
</p:sldLayout>
</file>

<file path=ppt/slideLayouts/slideLayout7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0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1"/>
          </p:nvPr>
        </p:nvSpPr>
        <p:spPr/>
        <p:txBody>
          <a:bodyPr/>
          <a:p>
            <a:fld id="{E743ADB4-646F-4222-ABF1-65FBB4D03F1B}" type="slidenum">
              <a:t>&lt;#&gt;</a:t>
            </a:fld>
          </a:p>
        </p:txBody>
      </p:sp>
    </p:spTree>
  </p:cSld>
</p:sldLayout>
</file>

<file path=ppt/slideLayouts/slideLayout7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0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1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1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1"/>
          </p:nvPr>
        </p:nvSpPr>
        <p:spPr/>
        <p:txBody>
          <a:bodyPr/>
          <a:p>
            <a:fld id="{669A4E59-77B4-47FF-B2DE-4B454CA9A216}" type="slidenum">
              <a:t>&lt;#&gt;</a:t>
            </a:fld>
          </a:p>
        </p:txBody>
      </p:sp>
    </p:spTree>
  </p:cSld>
</p:sldLayout>
</file>

<file path=ppt/slideLayouts/slideLayout7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1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1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1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1"/>
          </p:nvPr>
        </p:nvSpPr>
        <p:spPr/>
        <p:txBody>
          <a:bodyPr/>
          <a:p>
            <a:fld id="{30AA67DE-4A3D-4B3C-93A8-E6757965C306}" type="slidenum">
              <a:t>&lt;#&gt;</a:t>
            </a:fld>
          </a:p>
        </p:txBody>
      </p:sp>
    </p:spTree>
  </p:cSld>
</p:sldLayout>
</file>

<file path=ppt/slideLayouts/slideLayout7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1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1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1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1"/>
          </p:nvPr>
        </p:nvSpPr>
        <p:spPr/>
        <p:txBody>
          <a:bodyPr/>
          <a:p>
            <a:fld id="{A31517ED-1057-4859-940F-7E219D3C55B6}"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
          </p:nvPr>
        </p:nvSpPr>
        <p:spPr/>
        <p:txBody>
          <a:bodyPr/>
          <a:p>
            <a:fld id="{BF726139-D4E9-4097-A6BE-653AC114010A}" type="slidenum">
              <a:t>&lt;#&gt;</a:t>
            </a:fld>
          </a:p>
        </p:txBody>
      </p:sp>
    </p:spTree>
  </p:cSld>
</p:sldLayout>
</file>

<file path=ppt/slideLayouts/slideLayout7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2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2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1"/>
          </p:nvPr>
        </p:nvSpPr>
        <p:spPr/>
        <p:txBody>
          <a:bodyPr/>
          <a:p>
            <a:fld id="{786C14E6-43CF-4C69-AFC1-9C616C772E65}" type="slidenum">
              <a:t>&lt;#&gt;</a:t>
            </a:fld>
          </a:p>
        </p:txBody>
      </p:sp>
    </p:spTree>
  </p:cSld>
</p:sldLayout>
</file>

<file path=ppt/slideLayouts/slideLayout7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2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2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2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2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1"/>
          </p:nvPr>
        </p:nvSpPr>
        <p:spPr/>
        <p:txBody>
          <a:bodyPr/>
          <a:p>
            <a:fld id="{8483BD38-C202-40E5-BFDA-2F2E9AF04E3F}" type="slidenum">
              <a:t>&lt;#&gt;</a:t>
            </a:fld>
          </a:p>
        </p:txBody>
      </p:sp>
    </p:spTree>
  </p:cSld>
</p:sldLayout>
</file>

<file path=ppt/slideLayouts/slideLayout7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2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3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3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3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3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3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1"/>
          </p:nvPr>
        </p:nvSpPr>
        <p:spPr/>
        <p:txBody>
          <a:bodyPr/>
          <a:p>
            <a:fld id="{5C0E8302-A18A-4317-AB94-BF1AF414683F}" type="slidenum">
              <a:t>&lt;#&gt;</a:t>
            </a:fld>
          </a:p>
        </p:txBody>
      </p:sp>
    </p:spTree>
  </p:cSld>
</p:sldLayout>
</file>

<file path=ppt/slideLayouts/slideLayout7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2"/>
          </p:nvPr>
        </p:nvSpPr>
        <p:spPr/>
        <p:txBody>
          <a:bodyPr/>
          <a:p>
            <a:fld id="{6D9E9073-770B-4D40-9C2C-89D04DB84CAD}" type="slidenum">
              <a:t>&lt;#&gt;</a:t>
            </a:fld>
          </a:p>
        </p:txBody>
      </p:sp>
    </p:spTree>
  </p:cSld>
</p:sldLayout>
</file>

<file path=ppt/slideLayouts/slideLayout7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47"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2"/>
          </p:nvPr>
        </p:nvSpPr>
        <p:spPr/>
        <p:txBody>
          <a:bodyPr/>
          <a:p>
            <a:fld id="{2FC5F005-C0B1-4CB4-A7FD-57149914E677}" type="slidenum">
              <a:t>&lt;#&gt;</a:t>
            </a:fld>
          </a:p>
        </p:txBody>
      </p:sp>
    </p:spTree>
  </p:cSld>
</p:sldLayout>
</file>

<file path=ppt/slideLayouts/slideLayout7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49"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2"/>
          </p:nvPr>
        </p:nvSpPr>
        <p:spPr/>
        <p:txBody>
          <a:bodyPr/>
          <a:p>
            <a:fld id="{EB698D6A-7581-4AC0-BB99-8BFC5F0A2667}" type="slidenum">
              <a:t>&lt;#&gt;</a:t>
            </a:fld>
          </a:p>
        </p:txBody>
      </p:sp>
    </p:spTree>
  </p:cSld>
</p:sldLayout>
</file>

<file path=ppt/slideLayouts/slideLayout7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5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5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2"/>
          </p:nvPr>
        </p:nvSpPr>
        <p:spPr/>
        <p:txBody>
          <a:bodyPr/>
          <a:p>
            <a:fld id="{582FDDB6-603C-4FB4-B9ED-7DF4462D0764}" type="slidenum">
              <a:t>&lt;#&gt;</a:t>
            </a:fld>
          </a:p>
        </p:txBody>
      </p:sp>
    </p:spTree>
  </p:cSld>
</p:sldLayout>
</file>

<file path=ppt/slideLayouts/slideLayout7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2"/>
          </p:nvPr>
        </p:nvSpPr>
        <p:spPr/>
        <p:txBody>
          <a:bodyPr/>
          <a:p>
            <a:fld id="{76B72C75-72D5-4CF7-94E5-F01F2B4A6404}" type="slidenum">
              <a:t>&lt;#&gt;</a:t>
            </a:fld>
          </a:p>
        </p:txBody>
      </p:sp>
    </p:spTree>
  </p:cSld>
</p:sldLayout>
</file>

<file path=ppt/slideLayouts/slideLayout7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54"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2"/>
          </p:nvPr>
        </p:nvSpPr>
        <p:spPr/>
        <p:txBody>
          <a:bodyPr/>
          <a:p>
            <a:fld id="{F108BC3D-531E-48F1-8079-3B522C55316F}" type="slidenum">
              <a:t>&lt;#&gt;</a:t>
            </a:fld>
          </a:p>
        </p:txBody>
      </p:sp>
    </p:spTree>
  </p:cSld>
</p:sldLayout>
</file>

<file path=ppt/slideLayouts/slideLayout7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5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5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5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2"/>
          </p:nvPr>
        </p:nvSpPr>
        <p:spPr/>
        <p:txBody>
          <a:bodyPr/>
          <a:p>
            <a:fld id="{01B26773-BC11-456B-8A11-7EABA12074DB}"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5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
          </p:nvPr>
        </p:nvSpPr>
        <p:spPr/>
        <p:txBody>
          <a:bodyPr/>
          <a:p>
            <a:fld id="{2B1338DB-70DE-4A9F-BE32-0AE661B64CC9}" type="slidenum">
              <a:t>&lt;#&gt;</a:t>
            </a:fld>
          </a:p>
        </p:txBody>
      </p:sp>
    </p:spTree>
  </p:cSld>
</p:sldLayout>
</file>

<file path=ppt/slideLayouts/slideLayout7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6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6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62"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2"/>
          </p:nvPr>
        </p:nvSpPr>
        <p:spPr/>
        <p:txBody>
          <a:bodyPr/>
          <a:p>
            <a:fld id="{058F1285-BB8A-46FD-8073-F2A07DB83113}" type="slidenum">
              <a:t>&lt;#&gt;</a:t>
            </a:fld>
          </a:p>
        </p:txBody>
      </p:sp>
    </p:spTree>
  </p:cSld>
</p:sldLayout>
</file>

<file path=ppt/slideLayouts/slideLayout7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6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6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6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66"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2"/>
          </p:nvPr>
        </p:nvSpPr>
        <p:spPr/>
        <p:txBody>
          <a:bodyPr/>
          <a:p>
            <a:fld id="{5F5550E2-3484-4E83-90DD-95529CF23812}" type="slidenum">
              <a:t>&lt;#&gt;</a:t>
            </a:fld>
          </a:p>
        </p:txBody>
      </p:sp>
    </p:spTree>
  </p:cSld>
</p:sldLayout>
</file>

<file path=ppt/slideLayouts/slideLayout7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68"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69"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2"/>
          </p:nvPr>
        </p:nvSpPr>
        <p:spPr/>
        <p:txBody>
          <a:bodyPr/>
          <a:p>
            <a:fld id="{2C0C15D9-37A3-41E2-9F6D-7AD39EB490C7}" type="slidenum">
              <a:t>&lt;#&gt;</a:t>
            </a:fld>
          </a:p>
        </p:txBody>
      </p:sp>
    </p:spTree>
  </p:cSld>
</p:sldLayout>
</file>

<file path=ppt/slideLayouts/slideLayout7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7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7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7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74"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2"/>
          </p:nvPr>
        </p:nvSpPr>
        <p:spPr/>
        <p:txBody>
          <a:bodyPr/>
          <a:p>
            <a:fld id="{1DC839A9-FB70-4B56-AE2F-6D1169324638}" type="slidenum">
              <a:t>&lt;#&gt;</a:t>
            </a:fld>
          </a:p>
        </p:txBody>
      </p:sp>
    </p:spTree>
  </p:cSld>
</p:sldLayout>
</file>

<file path=ppt/slideLayouts/slideLayout7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76"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77"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78"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79"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80"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81"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2"/>
          </p:nvPr>
        </p:nvSpPr>
        <p:spPr/>
        <p:txBody>
          <a:bodyPr/>
          <a:p>
            <a:fld id="{BB193F4C-FF16-430F-869D-454EFA590F89}" type="slidenum">
              <a:t>&lt;#&gt;</a:t>
            </a:fld>
          </a:p>
        </p:txBody>
      </p:sp>
    </p:spTree>
  </p:cSld>
</p:sldLayout>
</file>

<file path=ppt/slideLayouts/slideLayout7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3"/>
          </p:nvPr>
        </p:nvSpPr>
        <p:spPr/>
        <p:txBody>
          <a:bodyPr/>
          <a:p>
            <a:fld id="{4078C362-E1E4-42E3-9B68-1B27CD1C9A8D}" type="slidenum">
              <a:t>&lt;#&gt;</a:t>
            </a:fld>
          </a:p>
        </p:txBody>
      </p:sp>
    </p:spTree>
  </p:cSld>
</p:sldLayout>
</file>

<file path=ppt/slideLayouts/slideLayout7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9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3"/>
          </p:nvPr>
        </p:nvSpPr>
        <p:spPr/>
        <p:txBody>
          <a:bodyPr/>
          <a:p>
            <a:fld id="{458EACF5-E0F3-41EE-92D3-7EA072608AA9}" type="slidenum">
              <a:t>&lt;#&gt;</a:t>
            </a:fld>
          </a:p>
        </p:txBody>
      </p:sp>
    </p:spTree>
  </p:cSld>
</p:sldLayout>
</file>

<file path=ppt/slideLayouts/slideLayout7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9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3"/>
          </p:nvPr>
        </p:nvSpPr>
        <p:spPr/>
        <p:txBody>
          <a:bodyPr/>
          <a:p>
            <a:fld id="{F70EF90F-013B-47F9-8D0D-90458D6B5A00}" type="slidenum">
              <a:t>&lt;#&gt;</a:t>
            </a:fld>
          </a:p>
        </p:txBody>
      </p:sp>
    </p:spTree>
  </p:cSld>
</p:sldLayout>
</file>

<file path=ppt/slideLayouts/slideLayout7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9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9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3"/>
          </p:nvPr>
        </p:nvSpPr>
        <p:spPr/>
        <p:txBody>
          <a:bodyPr/>
          <a:p>
            <a:fld id="{8F0A2C09-99CD-4665-B120-D68165186CE9}" type="slidenum">
              <a:t>&lt;#&gt;</a:t>
            </a:fld>
          </a:p>
        </p:txBody>
      </p:sp>
    </p:spTree>
  </p:cSld>
</p:sldLayout>
</file>

<file path=ppt/slideLayouts/slideLayout7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3"/>
          </p:nvPr>
        </p:nvSpPr>
        <p:spPr/>
        <p:txBody>
          <a:bodyPr/>
          <a:p>
            <a:fld id="{4DCC626D-5564-42B4-8F84-6AE7F04261DC}"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
          </p:nvPr>
        </p:nvSpPr>
        <p:spPr/>
        <p:txBody>
          <a:bodyPr/>
          <a:p>
            <a:fld id="{CB048595-43F0-4A05-A801-4CFEF09EEFC3}" type="slidenum">
              <a:t>&lt;#&gt;</a:t>
            </a:fld>
          </a:p>
        </p:txBody>
      </p:sp>
    </p:spTree>
  </p:cSld>
</p:sldLayout>
</file>

<file path=ppt/slideLayouts/slideLayout7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0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3"/>
          </p:nvPr>
        </p:nvSpPr>
        <p:spPr/>
        <p:txBody>
          <a:bodyPr/>
          <a:p>
            <a:fld id="{EA402402-BC5E-4792-89D6-BB627C111256}" type="slidenum">
              <a:t>&lt;#&gt;</a:t>
            </a:fld>
          </a:p>
        </p:txBody>
      </p:sp>
    </p:spTree>
  </p:cSld>
</p:sldLayout>
</file>

<file path=ppt/slideLayouts/slideLayout7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0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0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0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3"/>
          </p:nvPr>
        </p:nvSpPr>
        <p:spPr/>
        <p:txBody>
          <a:bodyPr/>
          <a:p>
            <a:fld id="{6E1091F8-BE28-443C-B552-ADEB0F0CD617}" type="slidenum">
              <a:t>&lt;#&gt;</a:t>
            </a:fld>
          </a:p>
        </p:txBody>
      </p:sp>
    </p:spTree>
  </p:cSld>
</p:sldLayout>
</file>

<file path=ppt/slideLayouts/slideLayout7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0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0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0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0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3"/>
          </p:nvPr>
        </p:nvSpPr>
        <p:spPr/>
        <p:txBody>
          <a:bodyPr/>
          <a:p>
            <a:fld id="{2165798E-6948-4980-BD7C-08831D9F1C29}" type="slidenum">
              <a:t>&lt;#&gt;</a:t>
            </a:fld>
          </a:p>
        </p:txBody>
      </p:sp>
    </p:spTree>
  </p:cSld>
</p:sldLayout>
</file>

<file path=ppt/slideLayouts/slideLayout7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1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1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1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3"/>
          </p:nvPr>
        </p:nvSpPr>
        <p:spPr/>
        <p:txBody>
          <a:bodyPr/>
          <a:p>
            <a:fld id="{B0D977A7-C5D9-4A92-8C56-35DFF01B1237}" type="slidenum">
              <a:t>&lt;#&gt;</a:t>
            </a:fld>
          </a:p>
        </p:txBody>
      </p:sp>
    </p:spTree>
  </p:cSld>
</p:sldLayout>
</file>

<file path=ppt/slideLayouts/slideLayout7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1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1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3"/>
          </p:nvPr>
        </p:nvSpPr>
        <p:spPr/>
        <p:txBody>
          <a:bodyPr/>
          <a:p>
            <a:fld id="{94910EEE-2546-4D21-9268-D9816C7CA231}" type="slidenum">
              <a:t>&lt;#&gt;</a:t>
            </a:fld>
          </a:p>
        </p:txBody>
      </p:sp>
    </p:spTree>
  </p:cSld>
</p:sldLayout>
</file>

<file path=ppt/slideLayouts/slideLayout7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1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1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1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2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3"/>
          </p:nvPr>
        </p:nvSpPr>
        <p:spPr/>
        <p:txBody>
          <a:bodyPr/>
          <a:p>
            <a:fld id="{F8B46A25-0601-4F9A-A977-850EDCE57F2C}" type="slidenum">
              <a:t>&lt;#&gt;</a:t>
            </a:fld>
          </a:p>
        </p:txBody>
      </p:sp>
    </p:spTree>
  </p:cSld>
</p:sldLayout>
</file>

<file path=ppt/slideLayouts/slideLayout7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2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2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2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2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2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2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3"/>
          </p:nvPr>
        </p:nvSpPr>
        <p:spPr/>
        <p:txBody>
          <a:bodyPr/>
          <a:p>
            <a:fld id="{8BEFFFF3-EA61-4B02-B831-10C6CC7AE20C}" type="slidenum">
              <a:t>&lt;#&gt;</a:t>
            </a:fld>
          </a:p>
        </p:txBody>
      </p:sp>
    </p:spTree>
  </p:cSld>
</p:sldLayout>
</file>

<file path=ppt/slideLayouts/slideLayout7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4"/>
          </p:nvPr>
        </p:nvSpPr>
        <p:spPr/>
        <p:txBody>
          <a:bodyPr/>
          <a:p>
            <a:fld id="{9CB229B5-4E1F-40F6-BB47-42E2217B275E}" type="slidenum">
              <a:t>&lt;#&gt;</a:t>
            </a:fld>
          </a:p>
        </p:txBody>
      </p:sp>
    </p:spTree>
  </p:cSld>
</p:sldLayout>
</file>

<file path=ppt/slideLayouts/slideLayout7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3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4"/>
          </p:nvPr>
        </p:nvSpPr>
        <p:spPr/>
        <p:txBody>
          <a:bodyPr/>
          <a:p>
            <a:fld id="{71416369-E301-44FF-802F-F0BB76D21278}" type="slidenum">
              <a:t>&lt;#&gt;</a:t>
            </a:fld>
          </a:p>
        </p:txBody>
      </p:sp>
    </p:spTree>
  </p:cSld>
</p:sldLayout>
</file>

<file path=ppt/slideLayouts/slideLayout7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4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4"/>
          </p:nvPr>
        </p:nvSpPr>
        <p:spPr/>
        <p:txBody>
          <a:bodyPr/>
          <a:p>
            <a:fld id="{56720DB8-8668-4AEC-8A45-ACEEF7894E59}"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
          </p:nvPr>
        </p:nvSpPr>
        <p:spPr/>
        <p:txBody>
          <a:bodyPr/>
          <a:p>
            <a:fld id="{DB24FCC4-A8DB-414A-ACDE-1C9DC9124573}" type="slidenum">
              <a:t>&lt;#&gt;</a:t>
            </a:fld>
          </a:p>
        </p:txBody>
      </p:sp>
    </p:spTree>
  </p:cSld>
</p:sldLayout>
</file>

<file path=ppt/slideLayouts/slideLayout7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4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4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4"/>
          </p:nvPr>
        </p:nvSpPr>
        <p:spPr/>
        <p:txBody>
          <a:bodyPr/>
          <a:p>
            <a:fld id="{96047B84-533D-4CA4-9168-9554B1D105EE}" type="slidenum">
              <a:t>&lt;#&gt;</a:t>
            </a:fld>
          </a:p>
        </p:txBody>
      </p:sp>
    </p:spTree>
  </p:cSld>
</p:sldLayout>
</file>

<file path=ppt/slideLayouts/slideLayout7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4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4"/>
          </p:nvPr>
        </p:nvSpPr>
        <p:spPr/>
        <p:txBody>
          <a:bodyPr/>
          <a:p>
            <a:fld id="{14360DC9-2846-4223-9780-27BAC0F0AC20}" type="slidenum">
              <a:t>&lt;#&gt;</a:t>
            </a:fld>
          </a:p>
        </p:txBody>
      </p:sp>
    </p:spTree>
  </p:cSld>
</p:sldLayout>
</file>

<file path=ppt/slideLayouts/slideLayout7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4"/>
          </p:nvPr>
        </p:nvSpPr>
        <p:spPr/>
        <p:txBody>
          <a:bodyPr/>
          <a:p>
            <a:fld id="{CD7FC509-6A0C-4D4F-961A-D2D33B165B81}" type="slidenum">
              <a:t>&lt;#&gt;</a:t>
            </a:fld>
          </a:p>
        </p:txBody>
      </p:sp>
    </p:spTree>
  </p:cSld>
</p:sldLayout>
</file>

<file path=ppt/slideLayouts/slideLayout7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4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4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5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4"/>
          </p:nvPr>
        </p:nvSpPr>
        <p:spPr/>
        <p:txBody>
          <a:bodyPr/>
          <a:p>
            <a:fld id="{EEF1FBA6-830B-4EA3-802D-E16757B23C2A}" type="slidenum">
              <a:t>&lt;#&gt;</a:t>
            </a:fld>
          </a:p>
        </p:txBody>
      </p:sp>
    </p:spTree>
  </p:cSld>
</p:sldLayout>
</file>

<file path=ppt/slideLayouts/slideLayout7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5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5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5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5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4"/>
          </p:nvPr>
        </p:nvSpPr>
        <p:spPr/>
        <p:txBody>
          <a:bodyPr/>
          <a:p>
            <a:fld id="{717D1343-D510-43C2-8FA0-1A8DF3F7CC52}" type="slidenum">
              <a:t>&lt;#&gt;</a:t>
            </a:fld>
          </a:p>
        </p:txBody>
      </p:sp>
    </p:spTree>
  </p:cSld>
</p:sldLayout>
</file>

<file path=ppt/slideLayouts/slideLayout7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5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5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5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4"/>
          </p:nvPr>
        </p:nvSpPr>
        <p:spPr/>
        <p:txBody>
          <a:bodyPr/>
          <a:p>
            <a:fld id="{6FEB2C76-9F6B-4945-8C99-C45DA4B234A7}" type="slidenum">
              <a:t>&lt;#&gt;</a:t>
            </a:fld>
          </a:p>
        </p:txBody>
      </p:sp>
    </p:spTree>
  </p:cSld>
</p:sldLayout>
</file>

<file path=ppt/slideLayouts/slideLayout7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6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6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4"/>
          </p:nvPr>
        </p:nvSpPr>
        <p:spPr/>
        <p:txBody>
          <a:bodyPr/>
          <a:p>
            <a:fld id="{708717FA-7B97-4551-8E3B-E675EA5BE213}" type="slidenum">
              <a:t>&lt;#&gt;</a:t>
            </a:fld>
          </a:p>
        </p:txBody>
      </p:sp>
    </p:spTree>
  </p:cSld>
</p:sldLayout>
</file>

<file path=ppt/slideLayouts/slideLayout7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6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6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6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6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4"/>
          </p:nvPr>
        </p:nvSpPr>
        <p:spPr/>
        <p:txBody>
          <a:bodyPr/>
          <a:p>
            <a:fld id="{89A35AF8-AD2F-4488-B1B8-A5071BABE5A6}" type="slidenum">
              <a:t>&lt;#&gt;</a:t>
            </a:fld>
          </a:p>
        </p:txBody>
      </p:sp>
    </p:spTree>
  </p:cSld>
</p:sldLayout>
</file>

<file path=ppt/slideLayouts/slideLayout7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6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6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7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7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7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7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4"/>
          </p:nvPr>
        </p:nvSpPr>
        <p:spPr/>
        <p:txBody>
          <a:bodyPr/>
          <a:p>
            <a:fld id="{FDCCFB3C-C86D-4982-9FEE-CC031308E3E7}" type="slidenum">
              <a:t>&lt;#&gt;</a:t>
            </a:fld>
          </a:p>
        </p:txBody>
      </p:sp>
    </p:spTree>
  </p:cSld>
</p:sldLayout>
</file>

<file path=ppt/slideLayouts/slideLayout7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5"/>
          </p:nvPr>
        </p:nvSpPr>
        <p:spPr/>
        <p:txBody>
          <a:bodyPr/>
          <a:p>
            <a:fld id="{11E8746C-7EE3-4312-8C05-539003F1690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
          </p:nvPr>
        </p:nvSpPr>
        <p:spPr/>
        <p:txBody>
          <a:bodyPr/>
          <a:p>
            <a:fld id="{3DCFB7B9-4E8C-4B07-9CB4-84B20D8D07DB}" type="slidenum">
              <a:t>&lt;#&gt;</a:t>
            </a:fld>
          </a:p>
        </p:txBody>
      </p:sp>
    </p:spTree>
  </p:cSld>
</p:sldLayout>
</file>

<file path=ppt/slideLayouts/slideLayout7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8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5"/>
          </p:nvPr>
        </p:nvSpPr>
        <p:spPr/>
        <p:txBody>
          <a:bodyPr/>
          <a:p>
            <a:fld id="{DBDDFBE2-78DE-4533-AA93-961727A5EE2A}" type="slidenum">
              <a:t>&lt;#&gt;</a:t>
            </a:fld>
          </a:p>
        </p:txBody>
      </p:sp>
    </p:spTree>
  </p:cSld>
</p:sldLayout>
</file>

<file path=ppt/slideLayouts/slideLayout7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8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5"/>
          </p:nvPr>
        </p:nvSpPr>
        <p:spPr/>
        <p:txBody>
          <a:bodyPr/>
          <a:p>
            <a:fld id="{1F21B75C-257F-4845-820C-A3203CF4516E}" type="slidenum">
              <a:t>&lt;#&gt;</a:t>
            </a:fld>
          </a:p>
        </p:txBody>
      </p:sp>
    </p:spTree>
  </p:cSld>
</p:sldLayout>
</file>

<file path=ppt/slideLayouts/slideLayout7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8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8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5"/>
          </p:nvPr>
        </p:nvSpPr>
        <p:spPr/>
        <p:txBody>
          <a:bodyPr/>
          <a:p>
            <a:fld id="{672BD28E-E4BF-4898-8C7C-297BBD51C679}" type="slidenum">
              <a:t>&lt;#&gt;</a:t>
            </a:fld>
          </a:p>
        </p:txBody>
      </p:sp>
    </p:spTree>
  </p:cSld>
</p:sldLayout>
</file>

<file path=ppt/slideLayouts/slideLayout7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5"/>
          </p:nvPr>
        </p:nvSpPr>
        <p:spPr/>
        <p:txBody>
          <a:bodyPr/>
          <a:p>
            <a:fld id="{DC06ECB4-BF48-4F82-801A-330D59C40B4B}" type="slidenum">
              <a:t>&lt;#&gt;</a:t>
            </a:fld>
          </a:p>
        </p:txBody>
      </p:sp>
    </p:spTree>
  </p:cSld>
</p:sldLayout>
</file>

<file path=ppt/slideLayouts/slideLayout7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9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5"/>
          </p:nvPr>
        </p:nvSpPr>
        <p:spPr/>
        <p:txBody>
          <a:bodyPr/>
          <a:p>
            <a:fld id="{C955BD44-A4B9-4216-8BFD-F5634854821A}" type="slidenum">
              <a:t>&lt;#&gt;</a:t>
            </a:fld>
          </a:p>
        </p:txBody>
      </p:sp>
    </p:spTree>
  </p:cSld>
</p:sldLayout>
</file>

<file path=ppt/slideLayouts/slideLayout7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9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9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9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5"/>
          </p:nvPr>
        </p:nvSpPr>
        <p:spPr/>
        <p:txBody>
          <a:bodyPr/>
          <a:p>
            <a:fld id="{46371029-90B3-4263-8BCD-752F250B55C7}" type="slidenum">
              <a:t>&lt;#&gt;</a:t>
            </a:fld>
          </a:p>
        </p:txBody>
      </p:sp>
    </p:spTree>
  </p:cSld>
</p:sldLayout>
</file>

<file path=ppt/slideLayouts/slideLayout7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9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9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9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5"/>
          </p:nvPr>
        </p:nvSpPr>
        <p:spPr/>
        <p:txBody>
          <a:bodyPr/>
          <a:p>
            <a:fld id="{B65D410B-267C-403A-8DE3-316F1123B9C8}" type="slidenum">
              <a:t>&lt;#&gt;</a:t>
            </a:fld>
          </a:p>
        </p:txBody>
      </p:sp>
    </p:spTree>
  </p:cSld>
</p:sldLayout>
</file>

<file path=ppt/slideLayouts/slideLayout7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0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0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0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5"/>
          </p:nvPr>
        </p:nvSpPr>
        <p:spPr/>
        <p:txBody>
          <a:bodyPr/>
          <a:p>
            <a:fld id="{A8B3A903-5177-4910-BE11-B56A6C8E2D26}" type="slidenum">
              <a:t>&lt;#&gt;</a:t>
            </a:fld>
          </a:p>
        </p:txBody>
      </p:sp>
    </p:spTree>
  </p:cSld>
</p:sldLayout>
</file>

<file path=ppt/slideLayouts/slideLayout7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0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0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0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5"/>
          </p:nvPr>
        </p:nvSpPr>
        <p:spPr/>
        <p:txBody>
          <a:bodyPr/>
          <a:p>
            <a:fld id="{87DAA652-322C-485F-9C5F-F8FEE58009D6}" type="slidenum">
              <a:t>&lt;#&gt;</a:t>
            </a:fld>
          </a:p>
        </p:txBody>
      </p:sp>
    </p:spTree>
  </p:cSld>
</p:sldLayout>
</file>

<file path=ppt/slideLayouts/slideLayout7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0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0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0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1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5"/>
          </p:nvPr>
        </p:nvSpPr>
        <p:spPr/>
        <p:txBody>
          <a:bodyPr/>
          <a:p>
            <a:fld id="{42514E43-EDBD-42F1-9618-60F7163F3EC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
          </p:nvPr>
        </p:nvSpPr>
        <p:spPr/>
        <p:txBody>
          <a:bodyPr/>
          <a:p>
            <a:fld id="{C2B464C1-066B-4987-A73B-A769E297AA30}" type="slidenum">
              <a:t>&lt;#&gt;</a:t>
            </a:fld>
          </a:p>
        </p:txBody>
      </p:sp>
    </p:spTree>
  </p:cSld>
</p:sldLayout>
</file>

<file path=ppt/slideLayouts/slideLayout7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1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1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1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1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1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1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5"/>
          </p:nvPr>
        </p:nvSpPr>
        <p:spPr/>
        <p:txBody>
          <a:bodyPr/>
          <a:p>
            <a:fld id="{0BDC3C7A-B67D-4348-B7BA-AEE6216A6407}" type="slidenum">
              <a:t>&lt;#&gt;</a:t>
            </a:fld>
          </a:p>
        </p:txBody>
      </p:sp>
    </p:spTree>
  </p:cSld>
</p:sldLayout>
</file>

<file path=ppt/slideLayouts/slideLayout7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6"/>
          </p:nvPr>
        </p:nvSpPr>
        <p:spPr/>
        <p:txBody>
          <a:bodyPr/>
          <a:p>
            <a:fld id="{3AA01A4B-4A08-47E7-9845-11FC0CA57FD2}" type="slidenum">
              <a:t>&lt;#&gt;</a:t>
            </a:fld>
          </a:p>
        </p:txBody>
      </p:sp>
    </p:spTree>
  </p:cSld>
</p:sldLayout>
</file>

<file path=ppt/slideLayouts/slideLayout7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27"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6"/>
          </p:nvPr>
        </p:nvSpPr>
        <p:spPr/>
        <p:txBody>
          <a:bodyPr/>
          <a:p>
            <a:fld id="{C95AC16E-F7E3-4001-8396-D800E0B66135}" type="slidenum">
              <a:t>&lt;#&gt;</a:t>
            </a:fld>
          </a:p>
        </p:txBody>
      </p:sp>
    </p:spTree>
  </p:cSld>
</p:sldLayout>
</file>

<file path=ppt/slideLayouts/slideLayout7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29"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6"/>
          </p:nvPr>
        </p:nvSpPr>
        <p:spPr/>
        <p:txBody>
          <a:bodyPr/>
          <a:p>
            <a:fld id="{8AA0C4C8-11CC-42AF-9DC1-B6765919172B}" type="slidenum">
              <a:t>&lt;#&gt;</a:t>
            </a:fld>
          </a:p>
        </p:txBody>
      </p:sp>
    </p:spTree>
  </p:cSld>
</p:sldLayout>
</file>

<file path=ppt/slideLayouts/slideLayout7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3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3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6"/>
          </p:nvPr>
        </p:nvSpPr>
        <p:spPr/>
        <p:txBody>
          <a:bodyPr/>
          <a:p>
            <a:fld id="{5F083D97-4F93-405C-801C-4CD57D1DB322}" type="slidenum">
              <a:t>&lt;#&gt;</a:t>
            </a:fld>
          </a:p>
        </p:txBody>
      </p:sp>
    </p:spTree>
  </p:cSld>
</p:sldLayout>
</file>

<file path=ppt/slideLayouts/slideLayout7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6"/>
          </p:nvPr>
        </p:nvSpPr>
        <p:spPr/>
        <p:txBody>
          <a:bodyPr/>
          <a:p>
            <a:fld id="{FF0C3DCA-3B01-4D98-A0ED-DDF6D50EFA0C}" type="slidenum">
              <a:t>&lt;#&gt;</a:t>
            </a:fld>
          </a:p>
        </p:txBody>
      </p:sp>
    </p:spTree>
  </p:cSld>
</p:sldLayout>
</file>

<file path=ppt/slideLayouts/slideLayout7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34"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6"/>
          </p:nvPr>
        </p:nvSpPr>
        <p:spPr/>
        <p:txBody>
          <a:bodyPr/>
          <a:p>
            <a:fld id="{D1AE0368-FA84-4415-AE64-E68CBBA6287B}" type="slidenum">
              <a:t>&lt;#&gt;</a:t>
            </a:fld>
          </a:p>
        </p:txBody>
      </p:sp>
    </p:spTree>
  </p:cSld>
</p:sldLayout>
</file>

<file path=ppt/slideLayouts/slideLayout7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3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3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3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6"/>
          </p:nvPr>
        </p:nvSpPr>
        <p:spPr/>
        <p:txBody>
          <a:bodyPr/>
          <a:p>
            <a:fld id="{08248FAB-E609-481F-BDF1-CB42B877BCC8}" type="slidenum">
              <a:t>&lt;#&gt;</a:t>
            </a:fld>
          </a:p>
        </p:txBody>
      </p:sp>
    </p:spTree>
  </p:cSld>
</p:sldLayout>
</file>

<file path=ppt/slideLayouts/slideLayout7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4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4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42"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6"/>
          </p:nvPr>
        </p:nvSpPr>
        <p:spPr/>
        <p:txBody>
          <a:bodyPr/>
          <a:p>
            <a:fld id="{242FC87C-8FDA-47A8-9E1A-F897DA0CF2EA}" type="slidenum">
              <a:t>&lt;#&gt;</a:t>
            </a:fld>
          </a:p>
        </p:txBody>
      </p:sp>
    </p:spTree>
  </p:cSld>
</p:sldLayout>
</file>

<file path=ppt/slideLayouts/slideLayout7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4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4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4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46"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6"/>
          </p:nvPr>
        </p:nvSpPr>
        <p:spPr/>
        <p:txBody>
          <a:bodyPr/>
          <a:p>
            <a:fld id="{631C5ED0-D236-4073-9E56-928E75F6E23D}"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6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6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
          </p:nvPr>
        </p:nvSpPr>
        <p:spPr/>
        <p:txBody>
          <a:bodyPr/>
          <a:p>
            <a:fld id="{0CCDAEF7-BB73-44B5-BAC1-D2FEDC9B5A1F}" type="slidenum">
              <a:t>&lt;#&gt;</a:t>
            </a:fld>
          </a:p>
        </p:txBody>
      </p:sp>
    </p:spTree>
  </p:cSld>
</p:sldLayout>
</file>

<file path=ppt/slideLayouts/slideLayout7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48"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49"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6"/>
          </p:nvPr>
        </p:nvSpPr>
        <p:spPr/>
        <p:txBody>
          <a:bodyPr/>
          <a:p>
            <a:fld id="{BE6A83E2-FA41-4D18-8FE2-305DDA05CF51}" type="slidenum">
              <a:t>&lt;#&gt;</a:t>
            </a:fld>
          </a:p>
        </p:txBody>
      </p:sp>
    </p:spTree>
  </p:cSld>
</p:sldLayout>
</file>

<file path=ppt/slideLayouts/slideLayout7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5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5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5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54"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6"/>
          </p:nvPr>
        </p:nvSpPr>
        <p:spPr/>
        <p:txBody>
          <a:bodyPr/>
          <a:p>
            <a:fld id="{B94BD573-4475-4F4F-98FE-C93E501118DF}" type="slidenum">
              <a:t>&lt;#&gt;</a:t>
            </a:fld>
          </a:p>
        </p:txBody>
      </p:sp>
    </p:spTree>
  </p:cSld>
</p:sldLayout>
</file>

<file path=ppt/slideLayouts/slideLayout7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56"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57"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58"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59"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60"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61"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6"/>
          </p:nvPr>
        </p:nvSpPr>
        <p:spPr/>
        <p:txBody>
          <a:bodyPr/>
          <a:p>
            <a:fld id="{E6EB9780-3D14-45A2-97EF-0CEDA643400F}" type="slidenum">
              <a:t>&lt;#&gt;</a:t>
            </a:fld>
          </a:p>
        </p:txBody>
      </p:sp>
    </p:spTree>
  </p:cSld>
</p:sldLayout>
</file>

<file path=ppt/slideLayouts/slideLayout7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7"/>
          </p:nvPr>
        </p:nvSpPr>
        <p:spPr/>
        <p:txBody>
          <a:bodyPr/>
          <a:p>
            <a:fld id="{FB1DD559-DEE6-4E27-BE8A-17AC6740D1E1}" type="slidenum">
              <a:t>&lt;#&gt;</a:t>
            </a:fld>
          </a:p>
        </p:txBody>
      </p:sp>
    </p:spTree>
  </p:cSld>
</p:sldLayout>
</file>

<file path=ppt/slideLayouts/slideLayout7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7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7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7"/>
          </p:nvPr>
        </p:nvSpPr>
        <p:spPr/>
        <p:txBody>
          <a:bodyPr/>
          <a:p>
            <a:fld id="{9ECA4A27-F254-4445-9FCD-9C63A913D7A6}" type="slidenum">
              <a:t>&lt;#&gt;</a:t>
            </a:fld>
          </a:p>
        </p:txBody>
      </p:sp>
    </p:spTree>
  </p:cSld>
</p:sldLayout>
</file>

<file path=ppt/slideLayouts/slideLayout7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7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7"/>
          </p:nvPr>
        </p:nvSpPr>
        <p:spPr/>
        <p:txBody>
          <a:bodyPr/>
          <a:p>
            <a:fld id="{F86DD594-DFDF-447A-8764-293C59154C1C}" type="slidenum">
              <a:t>&lt;#&gt;</a:t>
            </a:fld>
          </a:p>
        </p:txBody>
      </p:sp>
    </p:spTree>
  </p:cSld>
</p:sldLayout>
</file>

<file path=ppt/slideLayouts/slideLayout7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7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7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7"/>
          </p:nvPr>
        </p:nvSpPr>
        <p:spPr/>
        <p:txBody>
          <a:bodyPr/>
          <a:p>
            <a:fld id="{23CA6BDC-294B-4EF8-9735-FB9728F1162E}" type="slidenum">
              <a:t>&lt;#&gt;</a:t>
            </a:fld>
          </a:p>
        </p:txBody>
      </p:sp>
    </p:spTree>
  </p:cSld>
</p:sldLayout>
</file>

<file path=ppt/slideLayouts/slideLayout7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7"/>
          </p:nvPr>
        </p:nvSpPr>
        <p:spPr/>
        <p:txBody>
          <a:bodyPr/>
          <a:p>
            <a:fld id="{AB5FD958-FCDD-4446-8BA0-57E708E7F42A}" type="slidenum">
              <a:t>&lt;#&gt;</a:t>
            </a:fld>
          </a:p>
        </p:txBody>
      </p:sp>
    </p:spTree>
  </p:cSld>
</p:sldLayout>
</file>

<file path=ppt/slideLayouts/slideLayout7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8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7"/>
          </p:nvPr>
        </p:nvSpPr>
        <p:spPr/>
        <p:txBody>
          <a:bodyPr/>
          <a:p>
            <a:fld id="{A2BA9889-DBCB-4916-A2FD-DCFD49916549}" type="slidenum">
              <a:t>&lt;#&gt;</a:t>
            </a:fld>
          </a:p>
        </p:txBody>
      </p:sp>
    </p:spTree>
  </p:cSld>
</p:sldLayout>
</file>

<file path=ppt/slideLayouts/slideLayout7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8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8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8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7"/>
          </p:nvPr>
        </p:nvSpPr>
        <p:spPr/>
        <p:txBody>
          <a:bodyPr/>
          <a:p>
            <a:fld id="{D24EF314-9706-4DE2-9B49-4369F9F3FD5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1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
          </p:nvPr>
        </p:nvSpPr>
        <p:spPr/>
        <p:txBody>
          <a:bodyPr/>
          <a:p>
            <a:fld id="{7781771A-B8CC-4570-923B-1180714B2E1D}"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
          </p:nvPr>
        </p:nvSpPr>
        <p:spPr/>
        <p:txBody>
          <a:bodyPr/>
          <a:p>
            <a:fld id="{82E03236-845B-4F90-AEF4-07AF5C70957D}" type="slidenum">
              <a:t>&lt;#&gt;</a:t>
            </a:fld>
          </a:p>
        </p:txBody>
      </p:sp>
    </p:spTree>
  </p:cSld>
</p:sldLayout>
</file>

<file path=ppt/slideLayouts/slideLayout8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8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8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8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7"/>
          </p:nvPr>
        </p:nvSpPr>
        <p:spPr/>
        <p:txBody>
          <a:bodyPr/>
          <a:p>
            <a:fld id="{44960CB0-912D-47BD-9ED3-5E6059E805A7}" type="slidenum">
              <a:t>&lt;#&gt;</a:t>
            </a:fld>
          </a:p>
        </p:txBody>
      </p:sp>
    </p:spTree>
  </p:cSld>
</p:sldLayout>
</file>

<file path=ppt/slideLayouts/slideLayout8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9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9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9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7"/>
          </p:nvPr>
        </p:nvSpPr>
        <p:spPr/>
        <p:txBody>
          <a:bodyPr/>
          <a:p>
            <a:fld id="{C80A4122-3510-4DB7-A9B2-2A18A04D1FCB}" type="slidenum">
              <a:t>&lt;#&gt;</a:t>
            </a:fld>
          </a:p>
        </p:txBody>
      </p:sp>
    </p:spTree>
  </p:cSld>
</p:sldLayout>
</file>

<file path=ppt/slideLayouts/slideLayout8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9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9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7"/>
          </p:nvPr>
        </p:nvSpPr>
        <p:spPr/>
        <p:txBody>
          <a:bodyPr/>
          <a:p>
            <a:fld id="{C2D0576D-2770-4B2F-AB15-99CB4A5F0248}" type="slidenum">
              <a:t>&lt;#&gt;</a:t>
            </a:fld>
          </a:p>
        </p:txBody>
      </p:sp>
    </p:spTree>
  </p:cSld>
</p:sldLayout>
</file>

<file path=ppt/slideLayouts/slideLayout8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9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9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9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0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7"/>
          </p:nvPr>
        </p:nvSpPr>
        <p:spPr/>
        <p:txBody>
          <a:bodyPr/>
          <a:p>
            <a:fld id="{E47BB16F-1B2C-4DEE-A4F3-869D7EB6B65F}" type="slidenum">
              <a:t>&lt;#&gt;</a:t>
            </a:fld>
          </a:p>
        </p:txBody>
      </p:sp>
    </p:spTree>
  </p:cSld>
</p:sldLayout>
</file>

<file path=ppt/slideLayouts/slideLayout8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0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0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0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0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0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0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7"/>
          </p:nvPr>
        </p:nvSpPr>
        <p:spPr/>
        <p:txBody>
          <a:bodyPr/>
          <a:p>
            <a:fld id="{BFCBC00C-C040-45A7-86F7-1D35CA0550F2}" type="slidenum">
              <a:t>&lt;#&gt;</a:t>
            </a:fld>
          </a:p>
        </p:txBody>
      </p:sp>
    </p:spTree>
  </p:cSld>
</p:sldLayout>
</file>

<file path=ppt/slideLayouts/slideLayout8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8"/>
          </p:nvPr>
        </p:nvSpPr>
        <p:spPr/>
        <p:txBody>
          <a:bodyPr/>
          <a:p>
            <a:fld id="{D3857E4B-E37C-4AB2-9B25-987C1F9ED756}" type="slidenum">
              <a:t>&lt;#&gt;</a:t>
            </a:fld>
          </a:p>
        </p:txBody>
      </p:sp>
    </p:spTree>
  </p:cSld>
</p:sldLayout>
</file>

<file path=ppt/slideLayouts/slideLayout8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1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15"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8"/>
          </p:nvPr>
        </p:nvSpPr>
        <p:spPr/>
        <p:txBody>
          <a:bodyPr/>
          <a:p>
            <a:fld id="{78B55E7C-7DBE-4CFD-B2F0-E63AE902DB20}" type="slidenum">
              <a:t>&lt;#&gt;</a:t>
            </a:fld>
          </a:p>
        </p:txBody>
      </p:sp>
    </p:spTree>
  </p:cSld>
</p:sldLayout>
</file>

<file path=ppt/slideLayouts/slideLayout8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17"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8"/>
          </p:nvPr>
        </p:nvSpPr>
        <p:spPr/>
        <p:txBody>
          <a:bodyPr/>
          <a:p>
            <a:fld id="{8238AFEC-F3FC-4DEE-89E7-D3A3A94525FB}" type="slidenum">
              <a:t>&lt;#&gt;</a:t>
            </a:fld>
          </a:p>
        </p:txBody>
      </p:sp>
    </p:spTree>
  </p:cSld>
</p:sldLayout>
</file>

<file path=ppt/slideLayouts/slideLayout8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1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2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8"/>
          </p:nvPr>
        </p:nvSpPr>
        <p:spPr/>
        <p:txBody>
          <a:bodyPr/>
          <a:p>
            <a:fld id="{C3ABC1EA-1B6C-44DD-8E7C-3DE39D88523E}" type="slidenum">
              <a:t>&lt;#&gt;</a:t>
            </a:fld>
          </a:p>
        </p:txBody>
      </p:sp>
    </p:spTree>
  </p:cSld>
</p:sldLayout>
</file>

<file path=ppt/slideLayouts/slideLayout8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8"/>
          </p:nvPr>
        </p:nvSpPr>
        <p:spPr/>
        <p:txBody>
          <a:bodyPr/>
          <a:p>
            <a:fld id="{6F33DE17-B9A8-49D6-AEDA-EEDE26BDD805}"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7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7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
          </p:nvPr>
        </p:nvSpPr>
        <p:spPr/>
        <p:txBody>
          <a:bodyPr/>
          <a:p>
            <a:fld id="{49E715CC-818B-4E70-B756-C1E507739452}" type="slidenum">
              <a:t>&lt;#&gt;</a:t>
            </a:fld>
          </a:p>
        </p:txBody>
      </p:sp>
    </p:spTree>
  </p:cSld>
</p:sldLayout>
</file>

<file path=ppt/slideLayouts/slideLayout8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22"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8"/>
          </p:nvPr>
        </p:nvSpPr>
        <p:spPr/>
        <p:txBody>
          <a:bodyPr/>
          <a:p>
            <a:fld id="{3B0845B0-8058-4820-8E29-3B90919A0B8F}" type="slidenum">
              <a:t>&lt;#&gt;</a:t>
            </a:fld>
          </a:p>
        </p:txBody>
      </p:sp>
    </p:spTree>
  </p:cSld>
</p:sldLayout>
</file>

<file path=ppt/slideLayouts/slideLayout8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2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2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2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8"/>
          </p:nvPr>
        </p:nvSpPr>
        <p:spPr/>
        <p:txBody>
          <a:bodyPr/>
          <a:p>
            <a:fld id="{DCA44F4C-7688-4A1D-B1F0-9CCFA4EF35B9}" type="slidenum">
              <a:t>&lt;#&gt;</a:t>
            </a:fld>
          </a:p>
        </p:txBody>
      </p:sp>
    </p:spTree>
  </p:cSld>
</p:sldLayout>
</file>

<file path=ppt/slideLayouts/slideLayout8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2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2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30"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8"/>
          </p:nvPr>
        </p:nvSpPr>
        <p:spPr/>
        <p:txBody>
          <a:bodyPr/>
          <a:p>
            <a:fld id="{1257B410-3455-4518-9BA0-39AE6CEA8874}" type="slidenum">
              <a:t>&lt;#&gt;</a:t>
            </a:fld>
          </a:p>
        </p:txBody>
      </p:sp>
    </p:spTree>
  </p:cSld>
</p:sldLayout>
</file>

<file path=ppt/slideLayouts/slideLayout8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3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3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34"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8"/>
          </p:nvPr>
        </p:nvSpPr>
        <p:spPr/>
        <p:txBody>
          <a:bodyPr/>
          <a:p>
            <a:fld id="{93B26FF0-1254-45CB-BF7C-EFB9B117A416}" type="slidenum">
              <a:t>&lt;#&gt;</a:t>
            </a:fld>
          </a:p>
        </p:txBody>
      </p:sp>
    </p:spTree>
  </p:cSld>
</p:sldLayout>
</file>

<file path=ppt/slideLayouts/slideLayout8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36"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37"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8"/>
          </p:nvPr>
        </p:nvSpPr>
        <p:spPr/>
        <p:txBody>
          <a:bodyPr/>
          <a:p>
            <a:fld id="{BB088443-EA24-4F44-A2A6-11D55A7FA6D9}" type="slidenum">
              <a:t>&lt;#&gt;</a:t>
            </a:fld>
          </a:p>
        </p:txBody>
      </p:sp>
    </p:spTree>
  </p:cSld>
</p:sldLayout>
</file>

<file path=ppt/slideLayouts/slideLayout8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3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4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4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42"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8"/>
          </p:nvPr>
        </p:nvSpPr>
        <p:spPr/>
        <p:txBody>
          <a:bodyPr/>
          <a:p>
            <a:fld id="{341E1B20-663E-4522-A738-421E7B727C68}" type="slidenum">
              <a:t>&lt;#&gt;</a:t>
            </a:fld>
          </a:p>
        </p:txBody>
      </p:sp>
    </p:spTree>
  </p:cSld>
</p:sldLayout>
</file>

<file path=ppt/slideLayouts/slideLayout8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44"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45"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46"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47"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48"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49"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8"/>
          </p:nvPr>
        </p:nvSpPr>
        <p:spPr/>
        <p:txBody>
          <a:bodyPr/>
          <a:p>
            <a:fld id="{4ABDCB57-E235-4F23-94B0-A9C1066746C4}" type="slidenum">
              <a:t>&lt;#&gt;</a:t>
            </a:fld>
          </a:p>
        </p:txBody>
      </p:sp>
    </p:spTree>
  </p:cSld>
</p:sldLayout>
</file>

<file path=ppt/slideLayouts/slideLayout8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9"/>
          </p:nvPr>
        </p:nvSpPr>
        <p:spPr/>
        <p:txBody>
          <a:bodyPr/>
          <a:p>
            <a:fld id="{617231A5-0D2C-4B9A-B6B5-050D3ED3E9EF}" type="slidenum">
              <a:t>&lt;#&gt;</a:t>
            </a:fld>
          </a:p>
        </p:txBody>
      </p:sp>
    </p:spTree>
  </p:cSld>
</p:sldLayout>
</file>

<file path=ppt/slideLayouts/slideLayout8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57"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69"/>
          </p:nvPr>
        </p:nvSpPr>
        <p:spPr/>
        <p:txBody>
          <a:bodyPr/>
          <a:p>
            <a:fld id="{16B7D542-7156-4FBE-B2CD-CC69617B6890}" type="slidenum">
              <a:t>&lt;#&gt;</a:t>
            </a:fld>
          </a:p>
        </p:txBody>
      </p:sp>
    </p:spTree>
  </p:cSld>
</p:sldLayout>
</file>

<file path=ppt/slideLayouts/slideLayout8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59"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69"/>
          </p:nvPr>
        </p:nvSpPr>
        <p:spPr/>
        <p:txBody>
          <a:bodyPr/>
          <a:p>
            <a:fld id="{76AA7C48-A5FD-4EDF-A977-BF2EABF54DCC}"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
          </p:nvPr>
        </p:nvSpPr>
        <p:spPr/>
        <p:txBody>
          <a:bodyPr/>
          <a:p>
            <a:fld id="{E87B58B0-CD36-4536-9CE2-73BF4914B847}" type="slidenum">
              <a:t>&lt;#&gt;</a:t>
            </a:fld>
          </a:p>
        </p:txBody>
      </p:sp>
    </p:spTree>
  </p:cSld>
</p:sldLayout>
</file>

<file path=ppt/slideLayouts/slideLayout8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6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6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9"/>
          </p:nvPr>
        </p:nvSpPr>
        <p:spPr/>
        <p:txBody>
          <a:bodyPr/>
          <a:p>
            <a:fld id="{31969294-123C-4DBC-A0AD-34E579CD8126}" type="slidenum">
              <a:t>&lt;#&gt;</a:t>
            </a:fld>
          </a:p>
        </p:txBody>
      </p:sp>
    </p:spTree>
  </p:cSld>
</p:sldLayout>
</file>

<file path=ppt/slideLayouts/slideLayout8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6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69"/>
          </p:nvPr>
        </p:nvSpPr>
        <p:spPr/>
        <p:txBody>
          <a:bodyPr/>
          <a:p>
            <a:fld id="{3B69CEB9-F020-4EF7-AD40-5432C548241C}" type="slidenum">
              <a:t>&lt;#&gt;</a:t>
            </a:fld>
          </a:p>
        </p:txBody>
      </p:sp>
    </p:spTree>
  </p:cSld>
</p:sldLayout>
</file>

<file path=ppt/slideLayouts/slideLayout8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64"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69"/>
          </p:nvPr>
        </p:nvSpPr>
        <p:spPr/>
        <p:txBody>
          <a:bodyPr/>
          <a:p>
            <a:fld id="{2CB9AB31-0A70-4297-B6E4-06679D89D7AE}" type="slidenum">
              <a:t>&lt;#&gt;</a:t>
            </a:fld>
          </a:p>
        </p:txBody>
      </p:sp>
    </p:spTree>
  </p:cSld>
</p:sldLayout>
</file>

<file path=ppt/slideLayouts/slideLayout8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6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6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6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6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9"/>
          </p:nvPr>
        </p:nvSpPr>
        <p:spPr/>
        <p:txBody>
          <a:bodyPr/>
          <a:p>
            <a:fld id="{E6FF162B-DA7E-475B-A646-FA166ED4FCB4}" type="slidenum">
              <a:t>&lt;#&gt;</a:t>
            </a:fld>
          </a:p>
        </p:txBody>
      </p:sp>
    </p:spTree>
  </p:cSld>
</p:sldLayout>
</file>

<file path=ppt/slideLayouts/slideLayout8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7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7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72"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9"/>
          </p:nvPr>
        </p:nvSpPr>
        <p:spPr/>
        <p:txBody>
          <a:bodyPr/>
          <a:p>
            <a:fld id="{ADB68BA7-879F-46E8-8F9A-B3AD31A10A89}" type="slidenum">
              <a:t>&lt;#&gt;</a:t>
            </a:fld>
          </a:p>
        </p:txBody>
      </p:sp>
    </p:spTree>
  </p:cSld>
</p:sldLayout>
</file>

<file path=ppt/slideLayouts/slideLayout8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7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7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76"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69"/>
          </p:nvPr>
        </p:nvSpPr>
        <p:spPr/>
        <p:txBody>
          <a:bodyPr/>
          <a:p>
            <a:fld id="{CFCF99D2-1DE1-48B5-B1CF-F04B5A25C55D}" type="slidenum">
              <a:t>&lt;#&gt;</a:t>
            </a:fld>
          </a:p>
        </p:txBody>
      </p:sp>
    </p:spTree>
  </p:cSld>
</p:sldLayout>
</file>

<file path=ppt/slideLayouts/slideLayout8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78"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79"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69"/>
          </p:nvPr>
        </p:nvSpPr>
        <p:spPr/>
        <p:txBody>
          <a:bodyPr/>
          <a:p>
            <a:fld id="{2F18232D-1D37-4D12-AD29-DC622F2E918C}" type="slidenum">
              <a:t>&lt;#&gt;</a:t>
            </a:fld>
          </a:p>
        </p:txBody>
      </p:sp>
    </p:spTree>
  </p:cSld>
</p:sldLayout>
</file>

<file path=ppt/slideLayouts/slideLayout8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8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8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8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84"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69"/>
          </p:nvPr>
        </p:nvSpPr>
        <p:spPr/>
        <p:txBody>
          <a:bodyPr/>
          <a:p>
            <a:fld id="{F4B57A29-F277-453E-BC41-8FFD54FD85AF}" type="slidenum">
              <a:t>&lt;#&gt;</a:t>
            </a:fld>
          </a:p>
        </p:txBody>
      </p:sp>
    </p:spTree>
  </p:cSld>
</p:sldLayout>
</file>

<file path=ppt/slideLayouts/slideLayout8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986"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87"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88"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89"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90"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91"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69"/>
          </p:nvPr>
        </p:nvSpPr>
        <p:spPr/>
        <p:txBody>
          <a:bodyPr/>
          <a:p>
            <a:fld id="{8B9D01CB-459D-41EF-8312-09E5F9D6B14F}" type="slidenum">
              <a:t>&lt;#&gt;</a:t>
            </a:fld>
          </a:p>
        </p:txBody>
      </p:sp>
    </p:spTree>
  </p:cSld>
</p:sldLayout>
</file>

<file path=ppt/slideLayouts/slideLayout8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0"/>
          </p:nvPr>
        </p:nvSpPr>
        <p:spPr/>
        <p:txBody>
          <a:bodyPr/>
          <a:p>
            <a:fld id="{6CC3929B-F632-4668-AF93-046765F98477}"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
          </p:nvPr>
        </p:nvSpPr>
        <p:spPr/>
        <p:txBody>
          <a:bodyPr/>
          <a:p>
            <a:fld id="{736B819B-1504-42A0-8533-24054EFA1E66}" type="slidenum">
              <a:t>&lt;#&gt;</a:t>
            </a:fld>
          </a:p>
        </p:txBody>
      </p:sp>
    </p:spTree>
  </p:cSld>
</p:sldLayout>
</file>

<file path=ppt/slideLayouts/slideLayout8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0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0"/>
          </p:nvPr>
        </p:nvSpPr>
        <p:spPr/>
        <p:txBody>
          <a:bodyPr/>
          <a:p>
            <a:fld id="{5ADC36D4-B2A9-43F2-B84D-3D5FD6215BBB}" type="slidenum">
              <a:t>&lt;#&gt;</a:t>
            </a:fld>
          </a:p>
        </p:txBody>
      </p:sp>
    </p:spTree>
  </p:cSld>
</p:sldLayout>
</file>

<file path=ppt/slideLayouts/slideLayout8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0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0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0"/>
          </p:nvPr>
        </p:nvSpPr>
        <p:spPr/>
        <p:txBody>
          <a:bodyPr/>
          <a:p>
            <a:fld id="{12F3365A-0C97-451A-9306-95B7A31F79DB}" type="slidenum">
              <a:t>&lt;#&gt;</a:t>
            </a:fld>
          </a:p>
        </p:txBody>
      </p:sp>
    </p:spTree>
  </p:cSld>
</p:sldLayout>
</file>

<file path=ppt/slideLayouts/slideLayout8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0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0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0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0"/>
          </p:nvPr>
        </p:nvSpPr>
        <p:spPr/>
        <p:txBody>
          <a:bodyPr/>
          <a:p>
            <a:fld id="{C05AD800-DDBD-4709-B05E-D70538ADE6F0}" type="slidenum">
              <a:t>&lt;#&gt;</a:t>
            </a:fld>
          </a:p>
        </p:txBody>
      </p:sp>
    </p:spTree>
  </p:cSld>
</p:sldLayout>
</file>

<file path=ppt/slideLayouts/slideLayout8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0"/>
          </p:nvPr>
        </p:nvSpPr>
        <p:spPr/>
        <p:txBody>
          <a:bodyPr/>
          <a:p>
            <a:fld id="{F69612C2-5F92-48A7-B929-9B63F523B91B}" type="slidenum">
              <a:t>&lt;#&gt;</a:t>
            </a:fld>
          </a:p>
        </p:txBody>
      </p:sp>
    </p:spTree>
  </p:cSld>
</p:sldLayout>
</file>

<file path=ppt/slideLayouts/slideLayout8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0"/>
          </p:nvPr>
        </p:nvSpPr>
        <p:spPr/>
        <p:txBody>
          <a:bodyPr/>
          <a:p>
            <a:fld id="{D4FDA30C-CEF6-43FF-AAAA-AABBB5757E4E}" type="slidenum">
              <a:t>&lt;#&gt;</a:t>
            </a:fld>
          </a:p>
        </p:txBody>
      </p:sp>
    </p:spTree>
  </p:cSld>
</p:sldLayout>
</file>

<file path=ppt/slideLayouts/slideLayout8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0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1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1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0"/>
          </p:nvPr>
        </p:nvSpPr>
        <p:spPr/>
        <p:txBody>
          <a:bodyPr/>
          <a:p>
            <a:fld id="{7356272C-A44E-414A-B1B6-39F9B1968A39}" type="slidenum">
              <a:t>&lt;#&gt;</a:t>
            </a:fld>
          </a:p>
        </p:txBody>
      </p:sp>
    </p:spTree>
  </p:cSld>
</p:sldLayout>
</file>

<file path=ppt/slideLayouts/slideLayout8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1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1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1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0"/>
          </p:nvPr>
        </p:nvSpPr>
        <p:spPr/>
        <p:txBody>
          <a:bodyPr/>
          <a:p>
            <a:fld id="{3F91F59B-C72F-4C8B-8AFE-4C9BFE46B262}" type="slidenum">
              <a:t>&lt;#&gt;</a:t>
            </a:fld>
          </a:p>
        </p:txBody>
      </p:sp>
    </p:spTree>
  </p:cSld>
</p:sldLayout>
</file>

<file path=ppt/slideLayouts/slideLayout8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1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1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1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0"/>
          </p:nvPr>
        </p:nvSpPr>
        <p:spPr/>
        <p:txBody>
          <a:bodyPr/>
          <a:p>
            <a:fld id="{9037FF53-289D-422D-B56B-9C2BE9A8C676}" type="slidenum">
              <a:t>&lt;#&gt;</a:t>
            </a:fld>
          </a:p>
        </p:txBody>
      </p:sp>
    </p:spTree>
  </p:cSld>
</p:sldLayout>
</file>

<file path=ppt/slideLayouts/slideLayout8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2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2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0"/>
          </p:nvPr>
        </p:nvSpPr>
        <p:spPr/>
        <p:txBody>
          <a:bodyPr/>
          <a:p>
            <a:fld id="{818B74B8-25B0-4486-8189-10DBE424BD05}" type="slidenum">
              <a:t>&lt;#&gt;</a:t>
            </a:fld>
          </a:p>
        </p:txBody>
      </p:sp>
    </p:spTree>
  </p:cSld>
</p:sldLayout>
</file>

<file path=ppt/slideLayouts/slideLayout8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2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2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2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2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0"/>
          </p:nvPr>
        </p:nvSpPr>
        <p:spPr/>
        <p:txBody>
          <a:bodyPr/>
          <a:p>
            <a:fld id="{CF714B51-CCCE-4DE2-80D3-3A0B9A4BD070}"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8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8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9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
          </p:nvPr>
        </p:nvSpPr>
        <p:spPr/>
        <p:txBody>
          <a:bodyPr/>
          <a:p>
            <a:fld id="{32F63322-0079-4B98-835C-371D50B32ED5}" type="slidenum">
              <a:t>&lt;#&gt;</a:t>
            </a:fld>
          </a:p>
        </p:txBody>
      </p:sp>
    </p:spTree>
  </p:cSld>
</p:sldLayout>
</file>

<file path=ppt/slideLayouts/slideLayout8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2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3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3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3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3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3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0"/>
          </p:nvPr>
        </p:nvSpPr>
        <p:spPr/>
        <p:txBody>
          <a:bodyPr/>
          <a:p>
            <a:fld id="{A911CA97-2F46-46D4-B7E9-2E15FB0B2B9B}" type="slidenum">
              <a:t>&lt;#&gt;</a:t>
            </a:fld>
          </a:p>
        </p:txBody>
      </p:sp>
    </p:spTree>
  </p:cSld>
</p:sldLayout>
</file>

<file path=ppt/slideLayouts/slideLayout8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1"/>
          </p:nvPr>
        </p:nvSpPr>
        <p:spPr/>
        <p:txBody>
          <a:bodyPr/>
          <a:p>
            <a:fld id="{8734C307-84EB-4826-B8D5-3D2AD512A757}" type="slidenum">
              <a:t>&lt;#&gt;</a:t>
            </a:fld>
          </a:p>
        </p:txBody>
      </p:sp>
    </p:spTree>
  </p:cSld>
</p:sldLayout>
</file>

<file path=ppt/slideLayouts/slideLayout8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4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1"/>
          </p:nvPr>
        </p:nvSpPr>
        <p:spPr/>
        <p:txBody>
          <a:bodyPr/>
          <a:p>
            <a:fld id="{6455B90D-CD01-4172-9F90-2D62A5143B1D}" type="slidenum">
              <a:t>&lt;#&gt;</a:t>
            </a:fld>
          </a:p>
        </p:txBody>
      </p:sp>
    </p:spTree>
  </p:cSld>
</p:sldLayout>
</file>

<file path=ppt/slideLayouts/slideLayout8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4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1"/>
          </p:nvPr>
        </p:nvSpPr>
        <p:spPr/>
        <p:txBody>
          <a:bodyPr/>
          <a:p>
            <a:fld id="{E26B2CD8-E6FE-436F-AFC0-D5F0477F7908}" type="slidenum">
              <a:t>&lt;#&gt;</a:t>
            </a:fld>
          </a:p>
        </p:txBody>
      </p:sp>
    </p:spTree>
  </p:cSld>
</p:sldLayout>
</file>

<file path=ppt/slideLayouts/slideLayout8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4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4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1"/>
          </p:nvPr>
        </p:nvSpPr>
        <p:spPr/>
        <p:txBody>
          <a:bodyPr/>
          <a:p>
            <a:fld id="{4FC2CA1F-F4AC-4B39-8A37-75F5341A68C9}" type="slidenum">
              <a:t>&lt;#&gt;</a:t>
            </a:fld>
          </a:p>
        </p:txBody>
      </p:sp>
    </p:spTree>
  </p:cSld>
</p:sldLayout>
</file>

<file path=ppt/slideLayouts/slideLayout8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1"/>
          </p:nvPr>
        </p:nvSpPr>
        <p:spPr/>
        <p:txBody>
          <a:bodyPr/>
          <a:p>
            <a:fld id="{348951DA-AA05-4D49-A062-F8FB75B06DFD}" type="slidenum">
              <a:t>&lt;#&gt;</a:t>
            </a:fld>
          </a:p>
        </p:txBody>
      </p:sp>
    </p:spTree>
  </p:cSld>
</p:sldLayout>
</file>

<file path=ppt/slideLayouts/slideLayout8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1"/>
          </p:nvPr>
        </p:nvSpPr>
        <p:spPr/>
        <p:txBody>
          <a:bodyPr/>
          <a:p>
            <a:fld id="{6DF68DEF-BC33-4694-9CFC-67481A8D7B83}" type="slidenum">
              <a:t>&lt;#&gt;</a:t>
            </a:fld>
          </a:p>
        </p:txBody>
      </p:sp>
    </p:spTree>
  </p:cSld>
</p:sldLayout>
</file>

<file path=ppt/slideLayouts/slideLayout8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5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5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5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5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1"/>
          </p:nvPr>
        </p:nvSpPr>
        <p:spPr/>
        <p:txBody>
          <a:bodyPr/>
          <a:p>
            <a:fld id="{413F70CD-59FA-4B79-BD25-8CF6151212A2}" type="slidenum">
              <a:t>&lt;#&gt;</a:t>
            </a:fld>
          </a:p>
        </p:txBody>
      </p:sp>
    </p:spTree>
  </p:cSld>
</p:sldLayout>
</file>

<file path=ppt/slideLayouts/slideLayout8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5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5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5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1"/>
          </p:nvPr>
        </p:nvSpPr>
        <p:spPr/>
        <p:txBody>
          <a:bodyPr/>
          <a:p>
            <a:fld id="{ABDDACDD-9F1C-4BAA-A131-5B9DA45CBD3C}" type="slidenum">
              <a:t>&lt;#&gt;</a:t>
            </a:fld>
          </a:p>
        </p:txBody>
      </p:sp>
    </p:spTree>
  </p:cSld>
</p:sldLayout>
</file>

<file path=ppt/slideLayouts/slideLayout8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5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6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6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6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1"/>
          </p:nvPr>
        </p:nvSpPr>
        <p:spPr/>
        <p:txBody>
          <a:bodyPr/>
          <a:p>
            <a:fld id="{6CF7BD33-8320-4A9D-8B34-8EEB8C1507CA}"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F4B2DCB-4DD4-477E-AF6C-0CBC6077424B}" type="slidenum">
              <a:t>&lt;#&gt;</a:t>
            </a:fld>
          </a:p>
        </p:txBody>
      </p:sp>
    </p:spTree>
  </p:cSld>
</p:sldLayout>
</file>

<file path=ppt/slideLayouts/slideLayout8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6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6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1"/>
          </p:nvPr>
        </p:nvSpPr>
        <p:spPr/>
        <p:txBody>
          <a:bodyPr/>
          <a:p>
            <a:fld id="{FDD90A25-0B4E-4A22-8CAD-A81C1C0AA620}" type="slidenum">
              <a:t>&lt;#&gt;</a:t>
            </a:fld>
          </a:p>
        </p:txBody>
      </p:sp>
    </p:spTree>
  </p:cSld>
</p:sldLayout>
</file>

<file path=ppt/slideLayouts/slideLayout8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6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6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6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7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1"/>
          </p:nvPr>
        </p:nvSpPr>
        <p:spPr/>
        <p:txBody>
          <a:bodyPr/>
          <a:p>
            <a:fld id="{8150ED2B-9FB2-47E4-BB39-7543BA792BD4}" type="slidenum">
              <a:t>&lt;#&gt;</a:t>
            </a:fld>
          </a:p>
        </p:txBody>
      </p:sp>
    </p:spTree>
  </p:cSld>
</p:sldLayout>
</file>

<file path=ppt/slideLayouts/slideLayout8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7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7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7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7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7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7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1"/>
          </p:nvPr>
        </p:nvSpPr>
        <p:spPr/>
        <p:txBody>
          <a:bodyPr/>
          <a:p>
            <a:fld id="{07B31F03-A2A1-45F5-8F52-40E6456DCA8B}" type="slidenum">
              <a:t>&lt;#&gt;</a:t>
            </a:fld>
          </a:p>
        </p:txBody>
      </p:sp>
    </p:spTree>
  </p:cSld>
</p:sldLayout>
</file>

<file path=ppt/slideLayouts/slideLayout8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2"/>
          </p:nvPr>
        </p:nvSpPr>
        <p:spPr/>
        <p:txBody>
          <a:bodyPr/>
          <a:p>
            <a:fld id="{0E49D728-D7E8-4720-8FC9-E845E1988A27}" type="slidenum">
              <a:t>&lt;#&gt;</a:t>
            </a:fld>
          </a:p>
        </p:txBody>
      </p:sp>
    </p:spTree>
  </p:cSld>
</p:sldLayout>
</file>

<file path=ppt/slideLayouts/slideLayout8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8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8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2"/>
          </p:nvPr>
        </p:nvSpPr>
        <p:spPr/>
        <p:txBody>
          <a:bodyPr/>
          <a:p>
            <a:fld id="{7DE3A6E7-7CE1-4186-A868-80A90C18F5C8}" type="slidenum">
              <a:t>&lt;#&gt;</a:t>
            </a:fld>
          </a:p>
        </p:txBody>
      </p:sp>
    </p:spTree>
  </p:cSld>
</p:sldLayout>
</file>

<file path=ppt/slideLayouts/slideLayout8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8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8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2"/>
          </p:nvPr>
        </p:nvSpPr>
        <p:spPr/>
        <p:txBody>
          <a:bodyPr/>
          <a:p>
            <a:fld id="{8A4FEBD8-A647-4A2D-8B05-9F217DEB1878}" type="slidenum">
              <a:t>&lt;#&gt;</a:t>
            </a:fld>
          </a:p>
        </p:txBody>
      </p:sp>
    </p:spTree>
  </p:cSld>
</p:sldLayout>
</file>

<file path=ppt/slideLayouts/slideLayout8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9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9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2"/>
          </p:nvPr>
        </p:nvSpPr>
        <p:spPr/>
        <p:txBody>
          <a:bodyPr/>
          <a:p>
            <a:fld id="{07D7CC26-C9C0-4AA0-AA5A-11B7D7AF097E}" type="slidenum">
              <a:t>&lt;#&gt;</a:t>
            </a:fld>
          </a:p>
        </p:txBody>
      </p:sp>
    </p:spTree>
  </p:cSld>
</p:sldLayout>
</file>

<file path=ppt/slideLayouts/slideLayout8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9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2"/>
          </p:nvPr>
        </p:nvSpPr>
        <p:spPr/>
        <p:txBody>
          <a:bodyPr/>
          <a:p>
            <a:fld id="{4C1344CC-5363-45AD-87C6-F2155F23303A}" type="slidenum">
              <a:t>&lt;#&gt;</a:t>
            </a:fld>
          </a:p>
        </p:txBody>
      </p:sp>
    </p:spTree>
  </p:cSld>
</p:sldLayout>
</file>

<file path=ppt/slideLayouts/slideLayout8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2"/>
          </p:nvPr>
        </p:nvSpPr>
        <p:spPr/>
        <p:txBody>
          <a:bodyPr/>
          <a:p>
            <a:fld id="{C8D19EFA-7703-4F12-8159-315358C16046}" type="slidenum">
              <a:t>&lt;#&gt;</a:t>
            </a:fld>
          </a:p>
        </p:txBody>
      </p:sp>
    </p:spTree>
  </p:cSld>
</p:sldLayout>
</file>

<file path=ppt/slideLayouts/slideLayout8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9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9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9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2"/>
          </p:nvPr>
        </p:nvSpPr>
        <p:spPr/>
        <p:txBody>
          <a:bodyPr/>
          <a:p>
            <a:fld id="{496687CC-F99D-41E1-B4E2-E4BD325DB5CF}"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1"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465C330C-6D82-49A0-A1B3-4B038E15BCB7}" type="slidenum">
              <a:t>&lt;#&gt;</a:t>
            </a:fld>
          </a:p>
        </p:txBody>
      </p:sp>
    </p:spTree>
  </p:cSld>
</p:sldLayout>
</file>

<file path=ppt/slideLayouts/slideLayout8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9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9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0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0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2"/>
          </p:nvPr>
        </p:nvSpPr>
        <p:spPr/>
        <p:txBody>
          <a:bodyPr/>
          <a:p>
            <a:fld id="{ECAE2FC5-5F62-4FA5-AA1E-C94DD6AE454D}" type="slidenum">
              <a:t>&lt;#&gt;</a:t>
            </a:fld>
          </a:p>
        </p:txBody>
      </p:sp>
    </p:spTree>
  </p:cSld>
</p:sldLayout>
</file>

<file path=ppt/slideLayouts/slideLayout8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0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0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0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2"/>
          </p:nvPr>
        </p:nvSpPr>
        <p:spPr/>
        <p:txBody>
          <a:bodyPr/>
          <a:p>
            <a:fld id="{5982F1FE-3C9F-41B4-961D-C799FC73129A}" type="slidenum">
              <a:t>&lt;#&gt;</a:t>
            </a:fld>
          </a:p>
        </p:txBody>
      </p:sp>
    </p:spTree>
  </p:cSld>
</p:sldLayout>
</file>

<file path=ppt/slideLayouts/slideLayout8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0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0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2"/>
          </p:nvPr>
        </p:nvSpPr>
        <p:spPr/>
        <p:txBody>
          <a:bodyPr/>
          <a:p>
            <a:fld id="{A8DF9420-C469-44E6-917F-07A6D0F4C2A9}" type="slidenum">
              <a:t>&lt;#&gt;</a:t>
            </a:fld>
          </a:p>
        </p:txBody>
      </p:sp>
    </p:spTree>
  </p:cSld>
</p:sldLayout>
</file>

<file path=ppt/slideLayouts/slideLayout8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1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1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1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1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2"/>
          </p:nvPr>
        </p:nvSpPr>
        <p:spPr/>
        <p:txBody>
          <a:bodyPr/>
          <a:p>
            <a:fld id="{139AFDDE-AA38-4620-B131-D4AB180A5DB4}" type="slidenum">
              <a:t>&lt;#&gt;</a:t>
            </a:fld>
          </a:p>
        </p:txBody>
      </p:sp>
    </p:spTree>
  </p:cSld>
</p:sldLayout>
</file>

<file path=ppt/slideLayouts/slideLayout8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1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1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1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1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1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1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2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2"/>
          </p:nvPr>
        </p:nvSpPr>
        <p:spPr/>
        <p:txBody>
          <a:bodyPr/>
          <a:p>
            <a:fld id="{31D08D41-0022-43DA-ABBA-E670220FE2D3}" type="slidenum">
              <a:t>&lt;#&gt;</a:t>
            </a:fld>
          </a:p>
        </p:txBody>
      </p:sp>
    </p:spTree>
  </p:cSld>
</p:sldLayout>
</file>

<file path=ppt/slideLayouts/slideLayout8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3"/>
          </p:nvPr>
        </p:nvSpPr>
        <p:spPr/>
        <p:txBody>
          <a:bodyPr/>
          <a:p>
            <a:fld id="{7A30DA48-76BB-44FE-B522-7EF7EE6AB6C5}" type="slidenum">
              <a:t>&lt;#&gt;</a:t>
            </a:fld>
          </a:p>
        </p:txBody>
      </p:sp>
    </p:spTree>
  </p:cSld>
</p:sldLayout>
</file>

<file path=ppt/slideLayouts/slideLayout8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28"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3"/>
          </p:nvPr>
        </p:nvSpPr>
        <p:spPr/>
        <p:txBody>
          <a:bodyPr/>
          <a:p>
            <a:fld id="{669398CD-832B-494E-A9D8-080DEF6B13D5}" type="slidenum">
              <a:t>&lt;#&gt;</a:t>
            </a:fld>
          </a:p>
        </p:txBody>
      </p:sp>
    </p:spTree>
  </p:cSld>
</p:sldLayout>
</file>

<file path=ppt/slideLayouts/slideLayout8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2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30"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3"/>
          </p:nvPr>
        </p:nvSpPr>
        <p:spPr/>
        <p:txBody>
          <a:bodyPr/>
          <a:p>
            <a:fld id="{7AF94A41-39BF-4519-B0AB-FCB66F4D2A96}" type="slidenum">
              <a:t>&lt;#&gt;</a:t>
            </a:fld>
          </a:p>
        </p:txBody>
      </p:sp>
    </p:spTree>
  </p:cSld>
</p:sldLayout>
</file>

<file path=ppt/slideLayouts/slideLayout8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3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3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3"/>
          </p:nvPr>
        </p:nvSpPr>
        <p:spPr/>
        <p:txBody>
          <a:bodyPr/>
          <a:p>
            <a:fld id="{402A669B-B951-4EBB-9A68-C3CE787E5553}" type="slidenum">
              <a:t>&lt;#&gt;</a:t>
            </a:fld>
          </a:p>
        </p:txBody>
      </p:sp>
    </p:spTree>
  </p:cSld>
</p:sldLayout>
</file>

<file path=ppt/slideLayouts/slideLayout8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3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3"/>
          </p:nvPr>
        </p:nvSpPr>
        <p:spPr/>
        <p:txBody>
          <a:bodyPr/>
          <a:p>
            <a:fld id="{F2EA9C1D-9307-471C-8AA5-C7C1DD0E8250}"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3"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
          </p:nvPr>
        </p:nvSpPr>
        <p:spPr/>
        <p:txBody>
          <a:bodyPr/>
          <a:p>
            <a:fld id="{D55CEECE-3DED-4848-B8F7-DE04F66B24D8}" type="slidenum">
              <a:t>&lt;#&gt;</a:t>
            </a:fld>
          </a:p>
        </p:txBody>
      </p:sp>
    </p:spTree>
  </p:cSld>
</p:sldLayout>
</file>

<file path=ppt/slideLayouts/slideLayout8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35"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3"/>
          </p:nvPr>
        </p:nvSpPr>
        <p:spPr/>
        <p:txBody>
          <a:bodyPr/>
          <a:p>
            <a:fld id="{423D30C3-ACEC-4DE7-9F6A-43A23DAA5608}" type="slidenum">
              <a:t>&lt;#&gt;</a:t>
            </a:fld>
          </a:p>
        </p:txBody>
      </p:sp>
    </p:spTree>
  </p:cSld>
</p:sldLayout>
</file>

<file path=ppt/slideLayouts/slideLayout8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3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3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3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3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3"/>
          </p:nvPr>
        </p:nvSpPr>
        <p:spPr/>
        <p:txBody>
          <a:bodyPr/>
          <a:p>
            <a:fld id="{8EBC658D-1951-456A-B2C3-4E08A2BAE481}" type="slidenum">
              <a:t>&lt;#&gt;</a:t>
            </a:fld>
          </a:p>
        </p:txBody>
      </p:sp>
    </p:spTree>
  </p:cSld>
</p:sldLayout>
</file>

<file path=ppt/slideLayouts/slideLayout8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4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4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43"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3"/>
          </p:nvPr>
        </p:nvSpPr>
        <p:spPr/>
        <p:txBody>
          <a:bodyPr/>
          <a:p>
            <a:fld id="{513CC1A1-B6CE-4310-A0BE-E1561F27CEBD}" type="slidenum">
              <a:t>&lt;#&gt;</a:t>
            </a:fld>
          </a:p>
        </p:txBody>
      </p:sp>
    </p:spTree>
  </p:cSld>
</p:sldLayout>
</file>

<file path=ppt/slideLayouts/slideLayout8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4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4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47"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3"/>
          </p:nvPr>
        </p:nvSpPr>
        <p:spPr/>
        <p:txBody>
          <a:bodyPr/>
          <a:p>
            <a:fld id="{57CA3F7D-50D0-4490-B06A-FC97646C45A3}" type="slidenum">
              <a:t>&lt;#&gt;</a:t>
            </a:fld>
          </a:p>
        </p:txBody>
      </p:sp>
    </p:spTree>
  </p:cSld>
</p:sldLayout>
</file>

<file path=ppt/slideLayouts/slideLayout8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49"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50"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3"/>
          </p:nvPr>
        </p:nvSpPr>
        <p:spPr/>
        <p:txBody>
          <a:bodyPr/>
          <a:p>
            <a:fld id="{A6CEF745-B1DC-412A-807A-373F57BEAC86}" type="slidenum">
              <a:t>&lt;#&gt;</a:t>
            </a:fld>
          </a:p>
        </p:txBody>
      </p:sp>
    </p:spTree>
  </p:cSld>
</p:sldLayout>
</file>

<file path=ppt/slideLayouts/slideLayout8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5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5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5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5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55"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3"/>
          </p:nvPr>
        </p:nvSpPr>
        <p:spPr/>
        <p:txBody>
          <a:bodyPr/>
          <a:p>
            <a:fld id="{19FAFBFB-276D-4FE5-BB1F-6F00C7AAAEB8}" type="slidenum">
              <a:t>&lt;#&gt;</a:t>
            </a:fld>
          </a:p>
        </p:txBody>
      </p:sp>
    </p:spTree>
  </p:cSld>
</p:sldLayout>
</file>

<file path=ppt/slideLayouts/slideLayout8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5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57"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58"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59"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60"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61"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62"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3"/>
          </p:nvPr>
        </p:nvSpPr>
        <p:spPr/>
        <p:txBody>
          <a:bodyPr/>
          <a:p>
            <a:fld id="{C6A8A6EC-EA0B-430A-A08A-CCC8B9A702CE}" type="slidenum">
              <a:t>&lt;#&gt;</a:t>
            </a:fld>
          </a:p>
        </p:txBody>
      </p:sp>
    </p:spTree>
  </p:cSld>
</p:sldLayout>
</file>

<file path=ppt/slideLayouts/slideLayout8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4"/>
          </p:nvPr>
        </p:nvSpPr>
        <p:spPr/>
        <p:txBody>
          <a:bodyPr/>
          <a:p>
            <a:fld id="{948D9E6F-97EE-4C8B-B2BF-2270DD8AE50F}" type="slidenum">
              <a:t>&lt;#&gt;</a:t>
            </a:fld>
          </a:p>
        </p:txBody>
      </p:sp>
    </p:spTree>
  </p:cSld>
</p:sldLayout>
</file>

<file path=ppt/slideLayouts/slideLayout8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70"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4"/>
          </p:nvPr>
        </p:nvSpPr>
        <p:spPr/>
        <p:txBody>
          <a:bodyPr/>
          <a:p>
            <a:fld id="{A030C051-88EE-48CE-B7A5-1F54B099438C}" type="slidenum">
              <a:t>&lt;#&gt;</a:t>
            </a:fld>
          </a:p>
        </p:txBody>
      </p:sp>
    </p:spTree>
  </p:cSld>
</p:sldLayout>
</file>

<file path=ppt/slideLayouts/slideLayout8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72"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4"/>
          </p:nvPr>
        </p:nvSpPr>
        <p:spPr/>
        <p:txBody>
          <a:bodyPr/>
          <a:p>
            <a:fld id="{FD30E72A-EDA6-43D5-806A-ACF54555D7CC}"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0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0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
          </p:nvPr>
        </p:nvSpPr>
        <p:spPr/>
        <p:txBody>
          <a:bodyPr/>
          <a:p>
            <a:fld id="{D827D740-8D7F-4970-8735-C62A6B6876A9}" type="slidenum">
              <a:t>&lt;#&gt;</a:t>
            </a:fld>
          </a:p>
        </p:txBody>
      </p:sp>
    </p:spTree>
  </p:cSld>
</p:sldLayout>
</file>

<file path=ppt/slideLayouts/slideLayout8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7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7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4"/>
          </p:nvPr>
        </p:nvSpPr>
        <p:spPr/>
        <p:txBody>
          <a:bodyPr/>
          <a:p>
            <a:fld id="{22B690DD-C9D3-4006-91E2-830B93F73D45}" type="slidenum">
              <a:t>&lt;#&gt;</a:t>
            </a:fld>
          </a:p>
        </p:txBody>
      </p:sp>
    </p:spTree>
  </p:cSld>
</p:sldLayout>
</file>

<file path=ppt/slideLayouts/slideLayout8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7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4"/>
          </p:nvPr>
        </p:nvSpPr>
        <p:spPr/>
        <p:txBody>
          <a:bodyPr/>
          <a:p>
            <a:fld id="{049C479E-E73F-4BCD-9696-6C87F9A01107}" type="slidenum">
              <a:t>&lt;#&gt;</a:t>
            </a:fld>
          </a:p>
        </p:txBody>
      </p:sp>
    </p:spTree>
  </p:cSld>
</p:sldLayout>
</file>

<file path=ppt/slideLayouts/slideLayout8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7"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4"/>
          </p:nvPr>
        </p:nvSpPr>
        <p:spPr/>
        <p:txBody>
          <a:bodyPr/>
          <a:p>
            <a:fld id="{BE7F7CF8-E760-4FDD-BFE0-94BCE39C7BDB}" type="slidenum">
              <a:t>&lt;#&gt;</a:t>
            </a:fld>
          </a:p>
        </p:txBody>
      </p:sp>
    </p:spTree>
  </p:cSld>
</p:sldLayout>
</file>

<file path=ppt/slideLayouts/slideLayout8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7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7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8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8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4"/>
          </p:nvPr>
        </p:nvSpPr>
        <p:spPr/>
        <p:txBody>
          <a:bodyPr/>
          <a:p>
            <a:fld id="{80536412-BCE9-495B-A5EA-07DE9B5C9D0F}" type="slidenum">
              <a:t>&lt;#&gt;</a:t>
            </a:fld>
          </a:p>
        </p:txBody>
      </p:sp>
    </p:spTree>
  </p:cSld>
</p:sldLayout>
</file>

<file path=ppt/slideLayouts/slideLayout8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8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8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85"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4"/>
          </p:nvPr>
        </p:nvSpPr>
        <p:spPr/>
        <p:txBody>
          <a:bodyPr/>
          <a:p>
            <a:fld id="{A0520984-7924-490B-A1F6-E84963941B3A}" type="slidenum">
              <a:t>&lt;#&gt;</a:t>
            </a:fld>
          </a:p>
        </p:txBody>
      </p:sp>
    </p:spTree>
  </p:cSld>
</p:sldLayout>
</file>

<file path=ppt/slideLayouts/slideLayout8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8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8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89"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4"/>
          </p:nvPr>
        </p:nvSpPr>
        <p:spPr/>
        <p:txBody>
          <a:bodyPr/>
          <a:p>
            <a:fld id="{C7B57E11-2593-45DF-A617-F51171DD7178}" type="slidenum">
              <a:t>&lt;#&gt;</a:t>
            </a:fld>
          </a:p>
        </p:txBody>
      </p:sp>
    </p:spTree>
  </p:cSld>
</p:sldLayout>
</file>

<file path=ppt/slideLayouts/slideLayout8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91"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92"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4"/>
          </p:nvPr>
        </p:nvSpPr>
        <p:spPr/>
        <p:txBody>
          <a:bodyPr/>
          <a:p>
            <a:fld id="{9FC487C3-5965-4120-93D0-7E3C1F3B7CEB}" type="slidenum">
              <a:t>&lt;#&gt;</a:t>
            </a:fld>
          </a:p>
        </p:txBody>
      </p:sp>
    </p:spTree>
  </p:cSld>
</p:sldLayout>
</file>

<file path=ppt/slideLayouts/slideLayout8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9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9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9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9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97"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4"/>
          </p:nvPr>
        </p:nvSpPr>
        <p:spPr/>
        <p:txBody>
          <a:bodyPr/>
          <a:p>
            <a:fld id="{F4397459-B5AC-4825-A160-D199FCCAEA03}" type="slidenum">
              <a:t>&lt;#&gt;</a:t>
            </a:fld>
          </a:p>
        </p:txBody>
      </p:sp>
    </p:spTree>
  </p:cSld>
</p:sldLayout>
</file>

<file path=ppt/slideLayouts/slideLayout8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99"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00"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01"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02"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03"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04"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4"/>
          </p:nvPr>
        </p:nvSpPr>
        <p:spPr/>
        <p:txBody>
          <a:bodyPr/>
          <a:p>
            <a:fld id="{E1D84193-11D2-4C52-903B-697821987E06}" type="slidenum">
              <a:t>&lt;#&gt;</a:t>
            </a:fld>
          </a:p>
        </p:txBody>
      </p:sp>
    </p:spTree>
  </p:cSld>
</p:sldLayout>
</file>

<file path=ppt/slideLayouts/slideLayout8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5"/>
          </p:nvPr>
        </p:nvSpPr>
        <p:spPr/>
        <p:txBody>
          <a:bodyPr/>
          <a:p>
            <a:fld id="{A797BA2D-DE40-4392-9325-E1C6631AD545}"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
          </p:nvPr>
        </p:nvSpPr>
        <p:spPr/>
        <p:txBody>
          <a:bodyPr/>
          <a:p>
            <a:fld id="{6C0FAEE5-997B-49F2-8FCA-877B3A27FE59}" type="slidenum">
              <a:t>&lt;#&gt;</a:t>
            </a:fld>
          </a:p>
        </p:txBody>
      </p:sp>
    </p:spTree>
  </p:cSld>
</p:sldLayout>
</file>

<file path=ppt/slideLayouts/slideLayout8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12"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5"/>
          </p:nvPr>
        </p:nvSpPr>
        <p:spPr/>
        <p:txBody>
          <a:bodyPr/>
          <a:p>
            <a:fld id="{022BE1C0-C38C-4A49-BF6F-C4C3AADDAB3C}" type="slidenum">
              <a:t>&lt;#&gt;</a:t>
            </a:fld>
          </a:p>
        </p:txBody>
      </p:sp>
    </p:spTree>
  </p:cSld>
</p:sldLayout>
</file>

<file path=ppt/slideLayouts/slideLayout8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14"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5"/>
          </p:nvPr>
        </p:nvSpPr>
        <p:spPr/>
        <p:txBody>
          <a:bodyPr/>
          <a:p>
            <a:fld id="{7DD97451-2E24-4813-A0B0-B08A9839E0ED}" type="slidenum">
              <a:t>&lt;#&gt;</a:t>
            </a:fld>
          </a:p>
        </p:txBody>
      </p:sp>
    </p:spTree>
  </p:cSld>
</p:sldLayout>
</file>

<file path=ppt/slideLayouts/slideLayout8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1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1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1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5"/>
          </p:nvPr>
        </p:nvSpPr>
        <p:spPr/>
        <p:txBody>
          <a:bodyPr/>
          <a:p>
            <a:fld id="{CEF6D9B0-00ED-49C4-A6B4-E5726B0B0CF2}" type="slidenum">
              <a:t>&lt;#&gt;</a:t>
            </a:fld>
          </a:p>
        </p:txBody>
      </p:sp>
    </p:spTree>
  </p:cSld>
</p:sldLayout>
</file>

<file path=ppt/slideLayouts/slideLayout8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5"/>
          </p:nvPr>
        </p:nvSpPr>
        <p:spPr/>
        <p:txBody>
          <a:bodyPr/>
          <a:p>
            <a:fld id="{BA3823A6-7375-41D4-93D5-9F9FCE1274FA}" type="slidenum">
              <a:t>&lt;#&gt;</a:t>
            </a:fld>
          </a:p>
        </p:txBody>
      </p:sp>
    </p:spTree>
  </p:cSld>
</p:sldLayout>
</file>

<file path=ppt/slideLayouts/slideLayout8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9"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5"/>
          </p:nvPr>
        </p:nvSpPr>
        <p:spPr/>
        <p:txBody>
          <a:bodyPr/>
          <a:p>
            <a:fld id="{FEA8565A-FF45-4C7A-B81D-D954408E9123}" type="slidenum">
              <a:t>&lt;#&gt;</a:t>
            </a:fld>
          </a:p>
        </p:txBody>
      </p:sp>
    </p:spTree>
  </p:cSld>
</p:sldLayout>
</file>

<file path=ppt/slideLayouts/slideLayout8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2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2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2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5"/>
          </p:nvPr>
        </p:nvSpPr>
        <p:spPr/>
        <p:txBody>
          <a:bodyPr/>
          <a:p>
            <a:fld id="{C8F922F2-A83C-4107-A0D1-978ED552E865}" type="slidenum">
              <a:t>&lt;#&gt;</a:t>
            </a:fld>
          </a:p>
        </p:txBody>
      </p:sp>
    </p:spTree>
  </p:cSld>
</p:sldLayout>
</file>

<file path=ppt/slideLayouts/slideLayout8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2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2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27"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5"/>
          </p:nvPr>
        </p:nvSpPr>
        <p:spPr/>
        <p:txBody>
          <a:bodyPr/>
          <a:p>
            <a:fld id="{1ECB1595-CE1D-483E-8536-FD87B45B4E9B}" type="slidenum">
              <a:t>&lt;#&gt;</a:t>
            </a:fld>
          </a:p>
        </p:txBody>
      </p:sp>
    </p:spTree>
  </p:cSld>
</p:sldLayout>
</file>

<file path=ppt/slideLayouts/slideLayout8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2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3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31"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5"/>
          </p:nvPr>
        </p:nvSpPr>
        <p:spPr/>
        <p:txBody>
          <a:bodyPr/>
          <a:p>
            <a:fld id="{F5F7C170-8D9B-463B-9DFA-D6C23A1E019B}" type="slidenum">
              <a:t>&lt;#&gt;</a:t>
            </a:fld>
          </a:p>
        </p:txBody>
      </p:sp>
    </p:spTree>
  </p:cSld>
</p:sldLayout>
</file>

<file path=ppt/slideLayouts/slideLayout8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33"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34"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5"/>
          </p:nvPr>
        </p:nvSpPr>
        <p:spPr/>
        <p:txBody>
          <a:bodyPr/>
          <a:p>
            <a:fld id="{5C8F44AD-2409-41EA-A290-6E7D123AE516}" type="slidenum">
              <a:t>&lt;#&gt;</a:t>
            </a:fld>
          </a:p>
        </p:txBody>
      </p:sp>
    </p:spTree>
  </p:cSld>
</p:sldLayout>
</file>

<file path=ppt/slideLayouts/slideLayout8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3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3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3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3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39"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5"/>
          </p:nvPr>
        </p:nvSpPr>
        <p:spPr/>
        <p:txBody>
          <a:bodyPr/>
          <a:p>
            <a:fld id="{762D205B-FAA2-45BE-80E0-D67AF03BC39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2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2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1"/>
          </p:nvPr>
        </p:nvSpPr>
        <p:spPr/>
        <p:txBody>
          <a:bodyPr/>
          <a:p>
            <a:fld id="{1D2588AA-40CD-4992-B98D-7BD3F31C6B0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8"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08692468-9C22-4516-9DED-81DFD5FC4344}" type="slidenum">
              <a:t>&lt;#&gt;</a:t>
            </a:fld>
          </a:p>
        </p:txBody>
      </p:sp>
    </p:spTree>
  </p:cSld>
</p:sldLayout>
</file>

<file path=ppt/slideLayouts/slideLayout9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41"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42"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43"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44"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45"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46"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5"/>
          </p:nvPr>
        </p:nvSpPr>
        <p:spPr/>
        <p:txBody>
          <a:bodyPr/>
          <a:p>
            <a:fld id="{DD17FF63-A955-4A6A-BC9B-25FABB27D77A}" type="slidenum">
              <a:t>&lt;#&gt;</a:t>
            </a:fld>
          </a:p>
        </p:txBody>
      </p:sp>
    </p:spTree>
  </p:cSld>
</p:sldLayout>
</file>

<file path=ppt/slideLayouts/slideLayout9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6"/>
          </p:nvPr>
        </p:nvSpPr>
        <p:spPr/>
        <p:txBody>
          <a:bodyPr/>
          <a:p>
            <a:fld id="{0A478D75-894A-47F2-ACE8-511B35C585C3}" type="slidenum">
              <a:t>&lt;#&gt;</a:t>
            </a:fld>
          </a:p>
        </p:txBody>
      </p:sp>
    </p:spTree>
  </p:cSld>
</p:sldLayout>
</file>

<file path=ppt/slideLayouts/slideLayout9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5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6"/>
          </p:nvPr>
        </p:nvSpPr>
        <p:spPr/>
        <p:txBody>
          <a:bodyPr/>
          <a:p>
            <a:fld id="{26DB9386-CF8D-4CA3-A441-7ECFEF979673}" type="slidenum">
              <a:t>&lt;#&gt;</a:t>
            </a:fld>
          </a:p>
        </p:txBody>
      </p:sp>
    </p:spTree>
  </p:cSld>
</p:sldLayout>
</file>

<file path=ppt/slideLayouts/slideLayout9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5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6"/>
          </p:nvPr>
        </p:nvSpPr>
        <p:spPr/>
        <p:txBody>
          <a:bodyPr/>
          <a:p>
            <a:fld id="{41593ABB-13B9-40A6-94A4-011739C685F8}" type="slidenum">
              <a:t>&lt;#&gt;</a:t>
            </a:fld>
          </a:p>
        </p:txBody>
      </p:sp>
    </p:spTree>
  </p:cSld>
</p:sldLayout>
</file>

<file path=ppt/slideLayouts/slideLayout9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5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5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5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6"/>
          </p:nvPr>
        </p:nvSpPr>
        <p:spPr/>
        <p:txBody>
          <a:bodyPr/>
          <a:p>
            <a:fld id="{94ED751E-A5FE-4C61-A2C9-A88F7164B88F}" type="slidenum">
              <a:t>&lt;#&gt;</a:t>
            </a:fld>
          </a:p>
        </p:txBody>
      </p:sp>
    </p:spTree>
  </p:cSld>
</p:sldLayout>
</file>

<file path=ppt/slideLayouts/slideLayout9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6"/>
          </p:nvPr>
        </p:nvSpPr>
        <p:spPr/>
        <p:txBody>
          <a:bodyPr/>
          <a:p>
            <a:fld id="{969AD192-4DE5-430A-A4EF-C748CBE4C7EB}" type="slidenum">
              <a:t>&lt;#&gt;</a:t>
            </a:fld>
          </a:p>
        </p:txBody>
      </p:sp>
    </p:spTree>
  </p:cSld>
</p:sldLayout>
</file>

<file path=ppt/slideLayouts/slideLayout9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61"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6"/>
          </p:nvPr>
        </p:nvSpPr>
        <p:spPr/>
        <p:txBody>
          <a:bodyPr/>
          <a:p>
            <a:fld id="{5B8DE04B-5C6C-4371-9008-29C77F40F5D9}" type="slidenum">
              <a:t>&lt;#&gt;</a:t>
            </a:fld>
          </a:p>
        </p:txBody>
      </p:sp>
    </p:spTree>
  </p:cSld>
</p:sldLayout>
</file>

<file path=ppt/slideLayouts/slideLayout9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6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6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6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6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6"/>
          </p:nvPr>
        </p:nvSpPr>
        <p:spPr/>
        <p:txBody>
          <a:bodyPr/>
          <a:p>
            <a:fld id="{2E7378AA-8309-4869-8015-EF991D708E6C}" type="slidenum">
              <a:t>&lt;#&gt;</a:t>
            </a:fld>
          </a:p>
        </p:txBody>
      </p:sp>
    </p:spTree>
  </p:cSld>
</p:sldLayout>
</file>

<file path=ppt/slideLayouts/slideLayout9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6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6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69"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6"/>
          </p:nvPr>
        </p:nvSpPr>
        <p:spPr/>
        <p:txBody>
          <a:bodyPr/>
          <a:p>
            <a:fld id="{968E7CFD-D316-44FA-82AC-D006E4931A51}" type="slidenum">
              <a:t>&lt;#&gt;</a:t>
            </a:fld>
          </a:p>
        </p:txBody>
      </p:sp>
    </p:spTree>
  </p:cSld>
</p:sldLayout>
</file>

<file path=ppt/slideLayouts/slideLayout9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7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7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73"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6"/>
          </p:nvPr>
        </p:nvSpPr>
        <p:spPr/>
        <p:txBody>
          <a:bodyPr/>
          <a:p>
            <a:fld id="{D7E15EDD-7612-48C1-8AAB-C92D3EB7D7D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
          </p:nvPr>
        </p:nvSpPr>
        <p:spPr/>
        <p:txBody>
          <a:bodyPr/>
          <a:p>
            <a:fld id="{1CC238D3-2410-4500-916B-2DF1D2935678}" type="slidenum">
              <a:t>&lt;#&gt;</a:t>
            </a:fld>
          </a:p>
        </p:txBody>
      </p:sp>
    </p:spTree>
  </p:cSld>
</p:sldLayout>
</file>

<file path=ppt/slideLayouts/slideLayout9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7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75"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76"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6"/>
          </p:nvPr>
        </p:nvSpPr>
        <p:spPr/>
        <p:txBody>
          <a:bodyPr/>
          <a:p>
            <a:fld id="{EE5D7856-AA46-4720-9A1B-4AB1591D1602}" type="slidenum">
              <a:t>&lt;#&gt;</a:t>
            </a:fld>
          </a:p>
        </p:txBody>
      </p:sp>
    </p:spTree>
  </p:cSld>
</p:sldLayout>
</file>

<file path=ppt/slideLayouts/slideLayout9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7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7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7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8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81"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6"/>
          </p:nvPr>
        </p:nvSpPr>
        <p:spPr/>
        <p:txBody>
          <a:bodyPr/>
          <a:p>
            <a:fld id="{6384B890-0AE5-4350-8B79-AED21AB42440}" type="slidenum">
              <a:t>&lt;#&gt;</a:t>
            </a:fld>
          </a:p>
        </p:txBody>
      </p:sp>
    </p:spTree>
  </p:cSld>
</p:sldLayout>
</file>

<file path=ppt/slideLayouts/slideLayout9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83"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84"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85"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86"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87"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88"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6"/>
          </p:nvPr>
        </p:nvSpPr>
        <p:spPr/>
        <p:txBody>
          <a:bodyPr/>
          <a:p>
            <a:fld id="{DA2938D3-5AE2-43FE-AC34-4929D5B15278}" type="slidenum">
              <a:t>&lt;#&gt;</a:t>
            </a:fld>
          </a:p>
        </p:txBody>
      </p:sp>
    </p:spTree>
  </p:cSld>
</p:sldLayout>
</file>

<file path=ppt/slideLayouts/slideLayout9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7"/>
          </p:nvPr>
        </p:nvSpPr>
        <p:spPr/>
        <p:txBody>
          <a:bodyPr/>
          <a:p>
            <a:fld id="{839DC661-9F68-42C0-90BB-D6FB919805B1}" type="slidenum">
              <a:t>&lt;#&gt;</a:t>
            </a:fld>
          </a:p>
        </p:txBody>
      </p:sp>
    </p:spTree>
  </p:cSld>
</p:sldLayout>
</file>

<file path=ppt/slideLayouts/slideLayout9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9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7"/>
          </p:nvPr>
        </p:nvSpPr>
        <p:spPr/>
        <p:txBody>
          <a:bodyPr/>
          <a:p>
            <a:fld id="{956359E3-BC0E-47EC-B816-A4237E8E35AC}" type="slidenum">
              <a:t>&lt;#&gt;</a:t>
            </a:fld>
          </a:p>
        </p:txBody>
      </p:sp>
    </p:spTree>
  </p:cSld>
</p:sldLayout>
</file>

<file path=ppt/slideLayouts/slideLayout9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9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7"/>
          </p:nvPr>
        </p:nvSpPr>
        <p:spPr/>
        <p:txBody>
          <a:bodyPr/>
          <a:p>
            <a:fld id="{8019EC47-3A81-4F6D-8371-B26F0E304866}" type="slidenum">
              <a:t>&lt;#&gt;</a:t>
            </a:fld>
          </a:p>
        </p:txBody>
      </p:sp>
    </p:spTree>
  </p:cSld>
</p:sldLayout>
</file>

<file path=ppt/slideLayouts/slideLayout9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0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0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7"/>
          </p:nvPr>
        </p:nvSpPr>
        <p:spPr/>
        <p:txBody>
          <a:bodyPr/>
          <a:p>
            <a:fld id="{6D072108-D40F-41E8-9124-1710E7BFF9D3}" type="slidenum">
              <a:t>&lt;#&gt;</a:t>
            </a:fld>
          </a:p>
        </p:txBody>
      </p:sp>
    </p:spTree>
  </p:cSld>
</p:sldLayout>
</file>

<file path=ppt/slideLayouts/slideLayout9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7"/>
          </p:nvPr>
        </p:nvSpPr>
        <p:spPr/>
        <p:txBody>
          <a:bodyPr/>
          <a:p>
            <a:fld id="{BF95E668-0A40-4475-BFAC-1765F261B9E2}" type="slidenum">
              <a:t>&lt;#&gt;</a:t>
            </a:fld>
          </a:p>
        </p:txBody>
      </p:sp>
    </p:spTree>
  </p:cSld>
</p:sldLayout>
</file>

<file path=ppt/slideLayouts/slideLayout9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03"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7"/>
          </p:nvPr>
        </p:nvSpPr>
        <p:spPr/>
        <p:txBody>
          <a:bodyPr/>
          <a:p>
            <a:fld id="{D1416C1A-6DFE-4ACE-A2B5-24DEB4A533EF}" type="slidenum">
              <a:t>&lt;#&gt;</a:t>
            </a:fld>
          </a:p>
        </p:txBody>
      </p:sp>
    </p:spTree>
  </p:cSld>
</p:sldLayout>
</file>

<file path=ppt/slideLayouts/slideLayout9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0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0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0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0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7"/>
          </p:nvPr>
        </p:nvSpPr>
        <p:spPr/>
        <p:txBody>
          <a:bodyPr/>
          <a:p>
            <a:fld id="{FEA0AF4A-D39E-4E20-875E-8AD273B2F3F2}"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6"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
          </p:nvPr>
        </p:nvSpPr>
        <p:spPr/>
        <p:txBody>
          <a:bodyPr/>
          <a:p>
            <a:fld id="{B51457A4-2865-4857-92F5-2C8A3A4C6846}" type="slidenum">
              <a:t>&lt;#&gt;</a:t>
            </a:fld>
          </a:p>
        </p:txBody>
      </p:sp>
    </p:spTree>
  </p:cSld>
</p:sldLayout>
</file>

<file path=ppt/slideLayouts/slideLayout9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0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1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11"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7"/>
          </p:nvPr>
        </p:nvSpPr>
        <p:spPr/>
        <p:txBody>
          <a:bodyPr/>
          <a:p>
            <a:fld id="{25AB8D9D-022C-4D0B-BDE6-413A99E07F0F}" type="slidenum">
              <a:t>&lt;#&gt;</a:t>
            </a:fld>
          </a:p>
        </p:txBody>
      </p:sp>
    </p:spTree>
  </p:cSld>
</p:sldLayout>
</file>

<file path=ppt/slideLayouts/slideLayout9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1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1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15"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7"/>
          </p:nvPr>
        </p:nvSpPr>
        <p:spPr/>
        <p:txBody>
          <a:bodyPr/>
          <a:p>
            <a:fld id="{9FA57E8E-ABCC-42B9-91A0-3E9CB4D148C6}" type="slidenum">
              <a:t>&lt;#&gt;</a:t>
            </a:fld>
          </a:p>
        </p:txBody>
      </p:sp>
    </p:spTree>
  </p:cSld>
</p:sldLayout>
</file>

<file path=ppt/slideLayouts/slideLayout9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1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17"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18"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7"/>
          </p:nvPr>
        </p:nvSpPr>
        <p:spPr/>
        <p:txBody>
          <a:bodyPr/>
          <a:p>
            <a:fld id="{118AC5D2-961A-43A6-9EA9-BB2020ECFE5B}" type="slidenum">
              <a:t>&lt;#&gt;</a:t>
            </a:fld>
          </a:p>
        </p:txBody>
      </p:sp>
    </p:spTree>
  </p:cSld>
</p:sldLayout>
</file>

<file path=ppt/slideLayouts/slideLayout9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1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2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2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2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23"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7"/>
          </p:nvPr>
        </p:nvSpPr>
        <p:spPr/>
        <p:txBody>
          <a:bodyPr/>
          <a:p>
            <a:fld id="{4BC5EE08-F938-4120-AF3B-6F666CC69975}" type="slidenum">
              <a:t>&lt;#&gt;</a:t>
            </a:fld>
          </a:p>
        </p:txBody>
      </p:sp>
    </p:spTree>
  </p:cSld>
</p:sldLayout>
</file>

<file path=ppt/slideLayouts/slideLayout9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25"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26"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27"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28"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29"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30"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7"/>
          </p:nvPr>
        </p:nvSpPr>
        <p:spPr/>
        <p:txBody>
          <a:bodyPr/>
          <a:p>
            <a:fld id="{43EE3F7D-50D7-48F9-9B78-9026FC674698}" type="slidenum">
              <a:t>&lt;#&gt;</a:t>
            </a:fld>
          </a:p>
        </p:txBody>
      </p:sp>
    </p:spTree>
  </p:cSld>
</p:sldLayout>
</file>

<file path=ppt/slideLayouts/slideLayout9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8"/>
          </p:nvPr>
        </p:nvSpPr>
        <p:spPr/>
        <p:txBody>
          <a:bodyPr/>
          <a:p>
            <a:fld id="{A7ACF3BD-1331-4E40-A65E-1FD3CC627882}" type="slidenum">
              <a:t>&lt;#&gt;</a:t>
            </a:fld>
          </a:p>
        </p:txBody>
      </p:sp>
    </p:spTree>
  </p:cSld>
</p:sldLayout>
</file>

<file path=ppt/slideLayouts/slideLayout9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41"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8"/>
          </p:nvPr>
        </p:nvSpPr>
        <p:spPr/>
        <p:txBody>
          <a:bodyPr/>
          <a:p>
            <a:fld id="{BE42C08B-55AA-4542-9D45-6A559E59AD44}" type="slidenum">
              <a:t>&lt;#&gt;</a:t>
            </a:fld>
          </a:p>
        </p:txBody>
      </p:sp>
    </p:spTree>
  </p:cSld>
</p:sldLayout>
</file>

<file path=ppt/slideLayouts/slideLayout9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4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43"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8"/>
          </p:nvPr>
        </p:nvSpPr>
        <p:spPr/>
        <p:txBody>
          <a:bodyPr/>
          <a:p>
            <a:fld id="{C68C4173-8B18-42C8-9D60-3A0929764C53}" type="slidenum">
              <a:t>&lt;#&gt;</a:t>
            </a:fld>
          </a:p>
        </p:txBody>
      </p:sp>
    </p:spTree>
  </p:cSld>
</p:sldLayout>
</file>

<file path=ppt/slideLayouts/slideLayout9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4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4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46"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8"/>
          </p:nvPr>
        </p:nvSpPr>
        <p:spPr/>
        <p:txBody>
          <a:bodyPr/>
          <a:p>
            <a:fld id="{ACC98D15-F556-485F-9E34-2DC5906A9C0F}" type="slidenum">
              <a:t>&lt;#&gt;</a:t>
            </a:fld>
          </a:p>
        </p:txBody>
      </p:sp>
    </p:spTree>
  </p:cSld>
</p:sldLayout>
</file>

<file path=ppt/slideLayouts/slideLayout9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8"/>
          </p:nvPr>
        </p:nvSpPr>
        <p:spPr/>
        <p:txBody>
          <a:bodyPr/>
          <a:p>
            <a:fld id="{5E73BCD8-C28A-4516-83E8-6EA8B869EB1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1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1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0"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
          </p:nvPr>
        </p:nvSpPr>
        <p:spPr/>
        <p:txBody>
          <a:bodyPr/>
          <a:p>
            <a:fld id="{755252E9-7CCA-4470-A48E-FEB88B15B696}" type="slidenum">
              <a:t>&lt;#&gt;</a:t>
            </a:fld>
          </a:p>
        </p:txBody>
      </p:sp>
    </p:spTree>
  </p:cSld>
</p:sldLayout>
</file>

<file path=ppt/slideLayouts/slideLayout9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48"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8"/>
          </p:nvPr>
        </p:nvSpPr>
        <p:spPr/>
        <p:txBody>
          <a:bodyPr/>
          <a:p>
            <a:fld id="{20A39878-D533-4596-AFD0-17AE14A32993}" type="slidenum">
              <a:t>&lt;#&gt;</a:t>
            </a:fld>
          </a:p>
        </p:txBody>
      </p:sp>
    </p:spTree>
  </p:cSld>
</p:sldLayout>
</file>

<file path=ppt/slideLayouts/slideLayout9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4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5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51"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52"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8"/>
          </p:nvPr>
        </p:nvSpPr>
        <p:spPr/>
        <p:txBody>
          <a:bodyPr/>
          <a:p>
            <a:fld id="{27C668DE-FB60-4F32-AF57-7DA1314087B7}" type="slidenum">
              <a:t>&lt;#&gt;</a:t>
            </a:fld>
          </a:p>
        </p:txBody>
      </p:sp>
    </p:spTree>
  </p:cSld>
</p:sldLayout>
</file>

<file path=ppt/slideLayouts/slideLayout9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54"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5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56"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8"/>
          </p:nvPr>
        </p:nvSpPr>
        <p:spPr/>
        <p:txBody>
          <a:bodyPr/>
          <a:p>
            <a:fld id="{3E4F0FB8-FFF7-496C-A8E7-A950731D827E}" type="slidenum">
              <a:t>&lt;#&gt;</a:t>
            </a:fld>
          </a:p>
        </p:txBody>
      </p:sp>
    </p:spTree>
  </p:cSld>
</p:sldLayout>
</file>

<file path=ppt/slideLayouts/slideLayout9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5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5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5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60"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8"/>
          </p:nvPr>
        </p:nvSpPr>
        <p:spPr/>
        <p:txBody>
          <a:bodyPr/>
          <a:p>
            <a:fld id="{95420205-F543-471F-A012-BD0254CDF72B}" type="slidenum">
              <a:t>&lt;#&gt;</a:t>
            </a:fld>
          </a:p>
        </p:txBody>
      </p:sp>
    </p:spTree>
  </p:cSld>
</p:sldLayout>
</file>

<file path=ppt/slideLayouts/slideLayout9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62"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63"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8"/>
          </p:nvPr>
        </p:nvSpPr>
        <p:spPr/>
        <p:txBody>
          <a:bodyPr/>
          <a:p>
            <a:fld id="{5623E519-0068-411F-9E32-6919EA5C112A}" type="slidenum">
              <a:t>&lt;#&gt;</a:t>
            </a:fld>
          </a:p>
        </p:txBody>
      </p:sp>
    </p:spTree>
  </p:cSld>
</p:sldLayout>
</file>

<file path=ppt/slideLayouts/slideLayout9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6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6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6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68"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8"/>
          </p:nvPr>
        </p:nvSpPr>
        <p:spPr/>
        <p:txBody>
          <a:bodyPr/>
          <a:p>
            <a:fld id="{C02AF0A5-16F5-4866-B043-B61F295A51E0}" type="slidenum">
              <a:t>&lt;#&gt;</a:t>
            </a:fld>
          </a:p>
        </p:txBody>
      </p:sp>
    </p:spTree>
  </p:cSld>
</p:sldLayout>
</file>

<file path=ppt/slideLayouts/slideLayout9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6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70"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71"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72"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73"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74"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75"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8"/>
          </p:nvPr>
        </p:nvSpPr>
        <p:spPr/>
        <p:txBody>
          <a:bodyPr/>
          <a:p>
            <a:fld id="{1CFCF80E-3432-4D2B-AE7E-CB8C47623C5B}" type="slidenum">
              <a:t>&lt;#&gt;</a:t>
            </a:fld>
          </a:p>
        </p:txBody>
      </p:sp>
    </p:spTree>
  </p:cSld>
</p:sldLayout>
</file>

<file path=ppt/slideLayouts/slideLayout9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79"/>
          </p:nvPr>
        </p:nvSpPr>
        <p:spPr/>
        <p:txBody>
          <a:bodyPr/>
          <a:p>
            <a:fld id="{11AD5262-7EDE-4B63-BF8E-B4BF5B0D13F7}" type="slidenum">
              <a:t>&lt;#&gt;</a:t>
            </a:fld>
          </a:p>
        </p:txBody>
      </p:sp>
    </p:spTree>
  </p:cSld>
</p:sldLayout>
</file>

<file path=ppt/slideLayouts/slideLayout9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83"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79"/>
          </p:nvPr>
        </p:nvSpPr>
        <p:spPr/>
        <p:txBody>
          <a:bodyPr/>
          <a:p>
            <a:fld id="{5B1186FB-55E6-4FB1-8DAD-89118DE4894E}" type="slidenum">
              <a:t>&lt;#&gt;</a:t>
            </a:fld>
          </a:p>
        </p:txBody>
      </p:sp>
    </p:spTree>
  </p:cSld>
</p:sldLayout>
</file>

<file path=ppt/slideLayouts/slideLayout9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8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85"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79"/>
          </p:nvPr>
        </p:nvSpPr>
        <p:spPr/>
        <p:txBody>
          <a:bodyPr/>
          <a:p>
            <a:fld id="{06B15734-94B5-4E27-9562-C0D5FD93B53E}"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2"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3"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
          </p:nvPr>
        </p:nvSpPr>
        <p:spPr/>
        <p:txBody>
          <a:bodyPr/>
          <a:p>
            <a:fld id="{EECCC8DB-C807-4E19-9309-DB8835C8EA4F}" type="slidenum">
              <a:t>&lt;#&gt;</a:t>
            </a:fld>
          </a:p>
        </p:txBody>
      </p:sp>
    </p:spTree>
  </p:cSld>
</p:sldLayout>
</file>

<file path=ppt/slideLayouts/slideLayout9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87"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88"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9"/>
          </p:nvPr>
        </p:nvSpPr>
        <p:spPr/>
        <p:txBody>
          <a:bodyPr/>
          <a:p>
            <a:fld id="{9208DE1E-A7AA-476E-9181-FF11A9EA69F9}" type="slidenum">
              <a:t>&lt;#&gt;</a:t>
            </a:fld>
          </a:p>
        </p:txBody>
      </p:sp>
    </p:spTree>
  </p:cSld>
</p:sldLayout>
</file>

<file path=ppt/slideLayouts/slideLayout9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8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79"/>
          </p:nvPr>
        </p:nvSpPr>
        <p:spPr/>
        <p:txBody>
          <a:bodyPr/>
          <a:p>
            <a:fld id="{52F6ADCD-B174-4007-B101-F011F71C047D}" type="slidenum">
              <a:t>&lt;#&gt;</a:t>
            </a:fld>
          </a:p>
        </p:txBody>
      </p:sp>
    </p:spTree>
  </p:cSld>
</p:sldLayout>
</file>

<file path=ppt/slideLayouts/slideLayout9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90"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79"/>
          </p:nvPr>
        </p:nvSpPr>
        <p:spPr/>
        <p:txBody>
          <a:bodyPr/>
          <a:p>
            <a:fld id="{4CD4A9B2-FA33-4262-9E22-3E3F63E0C5C7}" type="slidenum">
              <a:t>&lt;#&gt;</a:t>
            </a:fld>
          </a:p>
        </p:txBody>
      </p:sp>
    </p:spTree>
  </p:cSld>
</p:sldLayout>
</file>

<file path=ppt/slideLayouts/slideLayout9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9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9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93"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94"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9"/>
          </p:nvPr>
        </p:nvSpPr>
        <p:spPr/>
        <p:txBody>
          <a:bodyPr/>
          <a:p>
            <a:fld id="{78032DB1-4250-4CD6-B4FA-3C699CB114A9}" type="slidenum">
              <a:t>&lt;#&gt;</a:t>
            </a:fld>
          </a:p>
        </p:txBody>
      </p:sp>
    </p:spTree>
  </p:cSld>
</p:sldLayout>
</file>

<file path=ppt/slideLayouts/slideLayout9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9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9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98"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9"/>
          </p:nvPr>
        </p:nvSpPr>
        <p:spPr/>
        <p:txBody>
          <a:bodyPr/>
          <a:p>
            <a:fld id="{8987E4E7-9B06-47BA-89D4-57B7CCFE7D0F}" type="slidenum">
              <a:t>&lt;#&gt;</a:t>
            </a:fld>
          </a:p>
        </p:txBody>
      </p:sp>
    </p:spTree>
  </p:cSld>
</p:sldLayout>
</file>

<file path=ppt/slideLayouts/slideLayout9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9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00"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0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02"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79"/>
          </p:nvPr>
        </p:nvSpPr>
        <p:spPr/>
        <p:txBody>
          <a:bodyPr/>
          <a:p>
            <a:fld id="{1907748D-BBBE-4DCE-8561-31A270F2B53E}" type="slidenum">
              <a:t>&lt;#&gt;</a:t>
            </a:fld>
          </a:p>
        </p:txBody>
      </p:sp>
    </p:spTree>
  </p:cSld>
</p:sldLayout>
</file>

<file path=ppt/slideLayouts/slideLayout9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0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04"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05"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79"/>
          </p:nvPr>
        </p:nvSpPr>
        <p:spPr/>
        <p:txBody>
          <a:bodyPr/>
          <a:p>
            <a:fld id="{6D3193BD-230F-436A-919F-EE82105D8263}" type="slidenum">
              <a:t>&lt;#&gt;</a:t>
            </a:fld>
          </a:p>
        </p:txBody>
      </p:sp>
    </p:spTree>
  </p:cSld>
</p:sldLayout>
</file>

<file path=ppt/slideLayouts/slideLayout9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0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07"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08"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09"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10"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79"/>
          </p:nvPr>
        </p:nvSpPr>
        <p:spPr/>
        <p:txBody>
          <a:bodyPr/>
          <a:p>
            <a:fld id="{08356CF2-70E5-4A1A-8323-3B3C0E2F8494}" type="slidenum">
              <a:t>&lt;#&gt;</a:t>
            </a:fld>
          </a:p>
        </p:txBody>
      </p:sp>
    </p:spTree>
  </p:cSld>
</p:sldLayout>
</file>

<file path=ppt/slideLayouts/slideLayout9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12"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13"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14"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15"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16"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17"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79"/>
          </p:nvPr>
        </p:nvSpPr>
        <p:spPr/>
        <p:txBody>
          <a:bodyPr/>
          <a:p>
            <a:fld id="{5511547F-FF9A-463E-AAA2-83E4421EC156}" type="slidenum">
              <a:t>&lt;#&gt;</a:t>
            </a:fld>
          </a:p>
        </p:txBody>
      </p:sp>
    </p:spTree>
  </p:cSld>
</p:sldLayout>
</file>

<file path=ppt/slideLayouts/slideLayout9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0"/>
          </p:nvPr>
        </p:nvSpPr>
        <p:spPr/>
        <p:txBody>
          <a:bodyPr/>
          <a:p>
            <a:fld id="{A76C54D5-0522-4072-A326-86CA2A43753C}"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25"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7"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28"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
          </p:nvPr>
        </p:nvSpPr>
        <p:spPr/>
        <p:txBody>
          <a:bodyPr/>
          <a:p>
            <a:fld id="{EF9C073E-6ABF-4D38-B0E2-7E4A40AFF044}" type="slidenum">
              <a:t>&lt;#&gt;</a:t>
            </a:fld>
          </a:p>
        </p:txBody>
      </p:sp>
    </p:spTree>
  </p:cSld>
</p:sldLayout>
</file>

<file path=ppt/slideLayouts/slideLayout9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25"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0"/>
          </p:nvPr>
        </p:nvSpPr>
        <p:spPr/>
        <p:txBody>
          <a:bodyPr/>
          <a:p>
            <a:fld id="{8993BD7B-B550-4246-BD53-3AC01C4C7259}" type="slidenum">
              <a:t>&lt;#&gt;</a:t>
            </a:fld>
          </a:p>
        </p:txBody>
      </p:sp>
    </p:spTree>
  </p:cSld>
</p:sldLayout>
</file>

<file path=ppt/slideLayouts/slideLayout9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2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27"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0"/>
          </p:nvPr>
        </p:nvSpPr>
        <p:spPr/>
        <p:txBody>
          <a:bodyPr/>
          <a:p>
            <a:fld id="{CCD58A29-C9CA-4CCE-8044-67F07CE1F190}" type="slidenum">
              <a:t>&lt;#&gt;</a:t>
            </a:fld>
          </a:p>
        </p:txBody>
      </p:sp>
    </p:spTree>
  </p:cSld>
</p:sldLayout>
</file>

<file path=ppt/slideLayouts/slideLayout9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29"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30"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0"/>
          </p:nvPr>
        </p:nvSpPr>
        <p:spPr/>
        <p:txBody>
          <a:bodyPr/>
          <a:p>
            <a:fld id="{F76A6411-0C50-4FD9-A200-4B896FF37A2E}" type="slidenum">
              <a:t>&lt;#&gt;</a:t>
            </a:fld>
          </a:p>
        </p:txBody>
      </p:sp>
    </p:spTree>
  </p:cSld>
</p:sldLayout>
</file>

<file path=ppt/slideLayouts/slideLayout9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3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0"/>
          </p:nvPr>
        </p:nvSpPr>
        <p:spPr/>
        <p:txBody>
          <a:bodyPr/>
          <a:p>
            <a:fld id="{E1091169-6B4B-41A2-A094-17FFF3A13894}" type="slidenum">
              <a:t>&lt;#&gt;</a:t>
            </a:fld>
          </a:p>
        </p:txBody>
      </p:sp>
    </p:spTree>
  </p:cSld>
</p:sldLayout>
</file>

<file path=ppt/slideLayouts/slideLayout9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32"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0"/>
          </p:nvPr>
        </p:nvSpPr>
        <p:spPr/>
        <p:txBody>
          <a:bodyPr/>
          <a:p>
            <a:fld id="{8653BBC9-402D-4CA1-8C2D-D23CEC06404A}" type="slidenum">
              <a:t>&lt;#&gt;</a:t>
            </a:fld>
          </a:p>
        </p:txBody>
      </p:sp>
    </p:spTree>
  </p:cSld>
</p:sldLayout>
</file>

<file path=ppt/slideLayouts/slideLayout9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3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35"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36"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0"/>
          </p:nvPr>
        </p:nvSpPr>
        <p:spPr/>
        <p:txBody>
          <a:bodyPr/>
          <a:p>
            <a:fld id="{40C0443D-D403-4541-90EA-63FF1C30F0A6}" type="slidenum">
              <a:t>&lt;#&gt;</a:t>
            </a:fld>
          </a:p>
        </p:txBody>
      </p:sp>
    </p:spTree>
  </p:cSld>
</p:sldLayout>
</file>

<file path=ppt/slideLayouts/slideLayout9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38"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39"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40"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0"/>
          </p:nvPr>
        </p:nvSpPr>
        <p:spPr/>
        <p:txBody>
          <a:bodyPr/>
          <a:p>
            <a:fld id="{864FFC8D-4C74-46A2-8334-804DCEC8BC60}" type="slidenum">
              <a:t>&lt;#&gt;</a:t>
            </a:fld>
          </a:p>
        </p:txBody>
      </p:sp>
    </p:spTree>
  </p:cSld>
</p:sldLayout>
</file>

<file path=ppt/slideLayouts/slideLayout9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42"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4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44"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0"/>
          </p:nvPr>
        </p:nvSpPr>
        <p:spPr/>
        <p:txBody>
          <a:bodyPr/>
          <a:p>
            <a:fld id="{47C9B158-202F-4ECB-8280-B9100CC4364C}" type="slidenum">
              <a:t>&lt;#&gt;</a:t>
            </a:fld>
          </a:p>
        </p:txBody>
      </p:sp>
    </p:spTree>
  </p:cSld>
</p:sldLayout>
</file>

<file path=ppt/slideLayouts/slideLayout9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46"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47"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0"/>
          </p:nvPr>
        </p:nvSpPr>
        <p:spPr/>
        <p:txBody>
          <a:bodyPr/>
          <a:p>
            <a:fld id="{B553BD27-4ECB-4430-83D6-8B5F532C78AC}" type="slidenum">
              <a:t>&lt;#&gt;</a:t>
            </a:fld>
          </a:p>
        </p:txBody>
      </p:sp>
    </p:spTree>
  </p:cSld>
</p:sldLayout>
</file>

<file path=ppt/slideLayouts/slideLayout9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4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5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51"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52"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0"/>
          </p:nvPr>
        </p:nvSpPr>
        <p:spPr/>
        <p:txBody>
          <a:bodyPr/>
          <a:p>
            <a:fld id="{ACD88BAB-76A0-42AB-AB82-7EF7DC77BB6B}"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30"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1"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2"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3"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4"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35"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
          </p:nvPr>
        </p:nvSpPr>
        <p:spPr/>
        <p:txBody>
          <a:bodyPr/>
          <a:p>
            <a:fld id="{9745DF8E-7B67-45BD-A301-F4E288C5489E}" type="slidenum">
              <a:t>&lt;#&gt;</a:t>
            </a:fld>
          </a:p>
        </p:txBody>
      </p:sp>
    </p:spTree>
  </p:cSld>
</p:sldLayout>
</file>

<file path=ppt/slideLayouts/slideLayout9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54"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55"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56"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57"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58"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59"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0"/>
          </p:nvPr>
        </p:nvSpPr>
        <p:spPr/>
        <p:txBody>
          <a:bodyPr/>
          <a:p>
            <a:fld id="{A8340A70-7287-44CD-ABA1-428A5A58CC62}" type="slidenum">
              <a:t>&lt;#&gt;</a:t>
            </a:fld>
          </a:p>
        </p:txBody>
      </p:sp>
    </p:spTree>
  </p:cSld>
</p:sldLayout>
</file>

<file path=ppt/slideLayouts/slideLayout9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1"/>
          </p:nvPr>
        </p:nvSpPr>
        <p:spPr/>
        <p:txBody>
          <a:bodyPr/>
          <a:p>
            <a:fld id="{6F159F13-4D21-4125-88A9-236BC7EA56D8}" type="slidenum">
              <a:t>&lt;#&gt;</a:t>
            </a:fld>
          </a:p>
        </p:txBody>
      </p:sp>
    </p:spTree>
  </p:cSld>
</p:sldLayout>
</file>

<file path=ppt/slideLayouts/slideLayout9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66"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67"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1"/>
          </p:nvPr>
        </p:nvSpPr>
        <p:spPr/>
        <p:txBody>
          <a:bodyPr/>
          <a:p>
            <a:fld id="{4B7D785A-8762-4AA2-BAFB-3EDA3981B8C2}" type="slidenum">
              <a:t>&lt;#&gt;</a:t>
            </a:fld>
          </a:p>
        </p:txBody>
      </p:sp>
    </p:spTree>
  </p:cSld>
</p:sldLayout>
</file>

<file path=ppt/slideLayouts/slideLayout9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6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69"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1"/>
          </p:nvPr>
        </p:nvSpPr>
        <p:spPr/>
        <p:txBody>
          <a:bodyPr/>
          <a:p>
            <a:fld id="{41983199-5AFA-4CEF-9867-AC63D55BA088}" type="slidenum">
              <a:t>&lt;#&gt;</a:t>
            </a:fld>
          </a:p>
        </p:txBody>
      </p:sp>
    </p:spTree>
  </p:cSld>
</p:sldLayout>
</file>

<file path=ppt/slideLayouts/slideLayout9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7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71"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7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1"/>
          </p:nvPr>
        </p:nvSpPr>
        <p:spPr/>
        <p:txBody>
          <a:bodyPr/>
          <a:p>
            <a:fld id="{A63F7C0E-00F4-4778-920A-A5E21F29CAED}" type="slidenum">
              <a:t>&lt;#&gt;</a:t>
            </a:fld>
          </a:p>
        </p:txBody>
      </p:sp>
    </p:spTree>
  </p:cSld>
</p:sldLayout>
</file>

<file path=ppt/slideLayouts/slideLayout9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7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1"/>
          </p:nvPr>
        </p:nvSpPr>
        <p:spPr/>
        <p:txBody>
          <a:bodyPr/>
          <a:p>
            <a:fld id="{900F06EE-D478-4EAA-A707-E8F2D35158F6}" type="slidenum">
              <a:t>&lt;#&gt;</a:t>
            </a:fld>
          </a:p>
        </p:txBody>
      </p:sp>
    </p:spTree>
  </p:cSld>
</p:sldLayout>
</file>

<file path=ppt/slideLayouts/slideLayout9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4"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1"/>
          </p:nvPr>
        </p:nvSpPr>
        <p:spPr/>
        <p:txBody>
          <a:bodyPr/>
          <a:p>
            <a:fld id="{B05AC906-2352-47B9-A0D1-5ED32CA96219}" type="slidenum">
              <a:t>&lt;#&gt;</a:t>
            </a:fld>
          </a:p>
        </p:txBody>
      </p:sp>
    </p:spTree>
  </p:cSld>
</p:sldLayout>
</file>

<file path=ppt/slideLayouts/slideLayout9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7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7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7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1"/>
          </p:nvPr>
        </p:nvSpPr>
        <p:spPr/>
        <p:txBody>
          <a:bodyPr/>
          <a:p>
            <a:fld id="{D2A9609F-A015-4210-AD64-B885DBAD3F61}" type="slidenum">
              <a:t>&lt;#&gt;</a:t>
            </a:fld>
          </a:p>
        </p:txBody>
      </p:sp>
    </p:spTree>
  </p:cSld>
</p:sldLayout>
</file>

<file path=ppt/slideLayouts/slideLayout9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80"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81"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82"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1"/>
          </p:nvPr>
        </p:nvSpPr>
        <p:spPr/>
        <p:txBody>
          <a:bodyPr/>
          <a:p>
            <a:fld id="{526847CE-7418-4C06-84B5-90E503A50E99}" type="slidenum">
              <a:t>&lt;#&gt;</a:t>
            </a:fld>
          </a:p>
        </p:txBody>
      </p:sp>
    </p:spTree>
  </p:cSld>
</p:sldLayout>
</file>

<file path=ppt/slideLayouts/slideLayout9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8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84"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85"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86"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1"/>
          </p:nvPr>
        </p:nvSpPr>
        <p:spPr/>
        <p:txBody>
          <a:bodyPr/>
          <a:p>
            <a:fld id="{26A2E8E6-3F4B-4B31-BFA6-C803D2673F51}"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9"/>
          </p:nvPr>
        </p:nvSpPr>
        <p:spPr/>
        <p:txBody>
          <a:bodyPr/>
          <a:p>
            <a:fld id="{7CA11CD4-F2E3-40D0-8864-6765803EBC6E}" type="slidenum">
              <a:t>&lt;#&gt;</a:t>
            </a:fld>
          </a:p>
        </p:txBody>
      </p:sp>
    </p:spTree>
  </p:cSld>
</p:sldLayout>
</file>

<file path=ppt/slideLayouts/slideLayout9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88"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89"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1"/>
          </p:nvPr>
        </p:nvSpPr>
        <p:spPr/>
        <p:txBody>
          <a:bodyPr/>
          <a:p>
            <a:fld id="{16F0BA0A-B3CB-4085-9A8B-AAB329BBBA78}" type="slidenum">
              <a:t>&lt;#&gt;</a:t>
            </a:fld>
          </a:p>
        </p:txBody>
      </p:sp>
    </p:spTree>
  </p:cSld>
</p:sldLayout>
</file>

<file path=ppt/slideLayouts/slideLayout9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9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9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92"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9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94"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1"/>
          </p:nvPr>
        </p:nvSpPr>
        <p:spPr/>
        <p:txBody>
          <a:bodyPr/>
          <a:p>
            <a:fld id="{2AACD8B1-B151-4479-8D7D-FD155E75D3B4}" type="slidenum">
              <a:t>&lt;#&gt;</a:t>
            </a:fld>
          </a:p>
        </p:txBody>
      </p:sp>
    </p:spTree>
  </p:cSld>
</p:sldLayout>
</file>

<file path=ppt/slideLayouts/slideLayout9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96"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97"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98"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499"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00"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01"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1"/>
          </p:nvPr>
        </p:nvSpPr>
        <p:spPr/>
        <p:txBody>
          <a:bodyPr/>
          <a:p>
            <a:fld id="{8BA069E3-D88B-4916-BD95-14ABD93BA25A}" type="slidenum">
              <a:t>&lt;#&gt;</a:t>
            </a:fld>
          </a:p>
        </p:txBody>
      </p:sp>
    </p:spTree>
  </p:cSld>
</p:sldLayout>
</file>

<file path=ppt/slideLayouts/slideLayout9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2"/>
          </p:nvPr>
        </p:nvSpPr>
        <p:spPr/>
        <p:txBody>
          <a:bodyPr/>
          <a:p>
            <a:fld id="{9A1B2980-D3E8-44CD-870C-85CFACDBE983}" type="slidenum">
              <a:t>&lt;#&gt;</a:t>
            </a:fld>
          </a:p>
        </p:txBody>
      </p:sp>
    </p:spTree>
  </p:cSld>
</p:sldLayout>
</file>

<file path=ppt/slideLayouts/slideLayout9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0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09"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2"/>
          </p:nvPr>
        </p:nvSpPr>
        <p:spPr/>
        <p:txBody>
          <a:bodyPr/>
          <a:p>
            <a:fld id="{4282E618-6EE5-49FC-98E4-3DF5D952E77A}" type="slidenum">
              <a:t>&lt;#&gt;</a:t>
            </a:fld>
          </a:p>
        </p:txBody>
      </p:sp>
    </p:spTree>
  </p:cSld>
</p:sldLayout>
</file>

<file path=ppt/slideLayouts/slideLayout9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1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11"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2"/>
          </p:nvPr>
        </p:nvSpPr>
        <p:spPr/>
        <p:txBody>
          <a:bodyPr/>
          <a:p>
            <a:fld id="{600436A9-11BC-4C34-80D9-474F9262838B}" type="slidenum">
              <a:t>&lt;#&gt;</a:t>
            </a:fld>
          </a:p>
        </p:txBody>
      </p:sp>
    </p:spTree>
  </p:cSld>
</p:sldLayout>
</file>

<file path=ppt/slideLayouts/slideLayout9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1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13"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14"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2"/>
          </p:nvPr>
        </p:nvSpPr>
        <p:spPr/>
        <p:txBody>
          <a:bodyPr/>
          <a:p>
            <a:fld id="{6E47988A-C5D0-445E-A1A0-0F74F8438FF2}" type="slidenum">
              <a:t>&lt;#&gt;</a:t>
            </a:fld>
          </a:p>
        </p:txBody>
      </p:sp>
    </p:spTree>
  </p:cSld>
</p:sldLayout>
</file>

<file path=ppt/slideLayouts/slideLayout9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1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2"/>
          </p:nvPr>
        </p:nvSpPr>
        <p:spPr/>
        <p:txBody>
          <a:bodyPr/>
          <a:p>
            <a:fld id="{F33C2F0D-73E9-4BDF-8130-5E16AFC80F56}" type="slidenum">
              <a:t>&lt;#&gt;</a:t>
            </a:fld>
          </a:p>
        </p:txBody>
      </p:sp>
    </p:spTree>
  </p:cSld>
</p:sldLayout>
</file>

<file path=ppt/slideLayouts/slideLayout9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16"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2"/>
          </p:nvPr>
        </p:nvSpPr>
        <p:spPr/>
        <p:txBody>
          <a:bodyPr/>
          <a:p>
            <a:fld id="{8005CB34-5970-4842-BF93-42F11A28AA98}" type="slidenum">
              <a:t>&lt;#&gt;</a:t>
            </a:fld>
          </a:p>
        </p:txBody>
      </p:sp>
    </p:spTree>
  </p:cSld>
</p:sldLayout>
</file>

<file path=ppt/slideLayouts/slideLayout9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18"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19"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20"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2"/>
          </p:nvPr>
        </p:nvSpPr>
        <p:spPr/>
        <p:txBody>
          <a:bodyPr/>
          <a:p>
            <a:fld id="{5229F370-53DA-40B4-9DC4-3D7DDDBDECD8}"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6"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9"/>
          </p:nvPr>
        </p:nvSpPr>
        <p:spPr/>
        <p:txBody>
          <a:bodyPr/>
          <a:p>
            <a:fld id="{2ED2C21B-7F3D-493D-8788-02781B0C712C}" type="slidenum">
              <a:t>&lt;#&gt;</a:t>
            </a:fld>
          </a:p>
        </p:txBody>
      </p:sp>
    </p:spTree>
  </p:cSld>
</p:sldLayout>
</file>

<file path=ppt/slideLayouts/slideLayout9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22"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23"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24"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2"/>
          </p:nvPr>
        </p:nvSpPr>
        <p:spPr/>
        <p:txBody>
          <a:bodyPr/>
          <a:p>
            <a:fld id="{1670C3B0-6F0E-4E95-A816-FBD19B965CFB}" type="slidenum">
              <a:t>&lt;#&gt;</a:t>
            </a:fld>
          </a:p>
        </p:txBody>
      </p:sp>
    </p:spTree>
  </p:cSld>
</p:sldLayout>
</file>

<file path=ppt/slideLayouts/slideLayout9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2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2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2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28"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2"/>
          </p:nvPr>
        </p:nvSpPr>
        <p:spPr/>
        <p:txBody>
          <a:bodyPr/>
          <a:p>
            <a:fld id="{E3A539AB-5EE7-4539-BEA0-4BFEF675A83A}" type="slidenum">
              <a:t>&lt;#&gt;</a:t>
            </a:fld>
          </a:p>
        </p:txBody>
      </p:sp>
    </p:spTree>
  </p:cSld>
</p:sldLayout>
</file>

<file path=ppt/slideLayouts/slideLayout9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29"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30"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31"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2"/>
          </p:nvPr>
        </p:nvSpPr>
        <p:spPr/>
        <p:txBody>
          <a:bodyPr/>
          <a:p>
            <a:fld id="{ED54681E-E57C-4A8E-B5BE-687E70CD811F}" type="slidenum">
              <a:t>&lt;#&gt;</a:t>
            </a:fld>
          </a:p>
        </p:txBody>
      </p:sp>
    </p:spTree>
  </p:cSld>
</p:sldLayout>
</file>

<file path=ppt/slideLayouts/slideLayout9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3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33"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34"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35"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36"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2"/>
          </p:nvPr>
        </p:nvSpPr>
        <p:spPr/>
        <p:txBody>
          <a:bodyPr/>
          <a:p>
            <a:fld id="{AEC1F977-E081-404D-84AE-803CF7E40A2C}" type="slidenum">
              <a:t>&lt;#&gt;</a:t>
            </a:fld>
          </a:p>
        </p:txBody>
      </p:sp>
    </p:spTree>
  </p:cSld>
</p:sldLayout>
</file>

<file path=ppt/slideLayouts/slideLayout9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3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38"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39"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40"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41"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42"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43"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2"/>
          </p:nvPr>
        </p:nvSpPr>
        <p:spPr/>
        <p:txBody>
          <a:bodyPr/>
          <a:p>
            <a:fld id="{4A7E5E47-EB9D-4A15-815D-F51077ACBABA}" type="slidenum">
              <a:t>&lt;#&gt;</a:t>
            </a:fld>
          </a:p>
        </p:txBody>
      </p:sp>
    </p:spTree>
  </p:cSld>
</p:sldLayout>
</file>

<file path=ppt/slideLayouts/slideLayout9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3"/>
          </p:nvPr>
        </p:nvSpPr>
        <p:spPr/>
        <p:txBody>
          <a:bodyPr/>
          <a:p>
            <a:fld id="{FB6B0372-29D3-48CB-B8A8-2B0EFF3770B2}" type="slidenum">
              <a:t>&lt;#&gt;</a:t>
            </a:fld>
          </a:p>
        </p:txBody>
      </p:sp>
    </p:spTree>
  </p:cSld>
</p:sldLayout>
</file>

<file path=ppt/slideLayouts/slideLayout9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51"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52"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3"/>
          </p:nvPr>
        </p:nvSpPr>
        <p:spPr/>
        <p:txBody>
          <a:bodyPr/>
          <a:p>
            <a:fld id="{3BF3846C-BD1C-408B-ACCD-53ABA5B53B35}" type="slidenum">
              <a:t>&lt;#&gt;</a:t>
            </a:fld>
          </a:p>
        </p:txBody>
      </p:sp>
    </p:spTree>
  </p:cSld>
</p:sldLayout>
</file>

<file path=ppt/slideLayouts/slideLayout9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54"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3"/>
          </p:nvPr>
        </p:nvSpPr>
        <p:spPr/>
        <p:txBody>
          <a:bodyPr/>
          <a:p>
            <a:fld id="{8F883EA5-9DDD-455F-A857-A214CB33B1E4}" type="slidenum">
              <a:t>&lt;#&gt;</a:t>
            </a:fld>
          </a:p>
        </p:txBody>
      </p:sp>
    </p:spTree>
  </p:cSld>
</p:sldLayout>
</file>

<file path=ppt/slideLayouts/slideLayout9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5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56"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57"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3"/>
          </p:nvPr>
        </p:nvSpPr>
        <p:spPr/>
        <p:txBody>
          <a:bodyPr/>
          <a:p>
            <a:fld id="{3B6BE3F6-7BF2-43B9-BA31-261EA59C357C}" type="slidenum">
              <a:t>&lt;#&gt;</a:t>
            </a:fld>
          </a:p>
        </p:txBody>
      </p:sp>
    </p:spTree>
  </p:cSld>
</p:sldLayout>
</file>

<file path=ppt/slideLayouts/slideLayout9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5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 name="PlaceHolder 2"/>
          <p:cNvSpPr>
            <a:spLocks noGrp="1"/>
          </p:cNvSpPr>
          <p:nvPr>
            <p:ph type="sldNum" idx="83"/>
          </p:nvPr>
        </p:nvSpPr>
        <p:spPr/>
        <p:txBody>
          <a:bodyPr/>
          <a:p>
            <a:fld id="{7E860C7F-E39A-4BD4-9059-6CD2AD4182BA}"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48"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9"/>
          </p:nvPr>
        </p:nvSpPr>
        <p:spPr/>
        <p:txBody>
          <a:bodyPr/>
          <a:p>
            <a:fld id="{D054D544-0489-4110-9204-6D0187DE3C08}" type="slidenum">
              <a:t>&lt;#&gt;</a:t>
            </a:fld>
          </a:p>
        </p:txBody>
      </p:sp>
    </p:spTree>
  </p:cSld>
</p:sldLayout>
</file>

<file path=ppt/slideLayouts/slideLayout9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59" name="PlaceHolder 1"/>
          <p:cNvSpPr>
            <a:spLocks noGrp="1"/>
          </p:cNvSpPr>
          <p:nvPr>
            <p:ph type="subTitle"/>
          </p:nvPr>
        </p:nvSpPr>
        <p:spPr>
          <a:xfrm>
            <a:off x="2027160" y="2025720"/>
            <a:ext cx="20316960" cy="82634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sldNum" idx="83"/>
          </p:nvPr>
        </p:nvSpPr>
        <p:spPr/>
        <p:txBody>
          <a:bodyPr/>
          <a:p>
            <a:fld id="{7B81F251-B70C-4C58-8FAB-6E8D529AC9CC}" type="slidenum">
              <a:t>&lt;#&gt;</a:t>
            </a:fld>
          </a:p>
        </p:txBody>
      </p:sp>
    </p:spTree>
  </p:cSld>
</p:sldLayout>
</file>

<file path=ppt/slideLayouts/slideLayout9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6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61"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62" name="PlaceHolder 3"/>
          <p:cNvSpPr>
            <a:spLocks noGrp="1"/>
          </p:cNvSpPr>
          <p:nvPr>
            <p:ph/>
          </p:nvPr>
        </p:nvSpPr>
        <p:spPr>
          <a:xfrm>
            <a:off x="1243764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63"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3"/>
          </p:nvPr>
        </p:nvSpPr>
        <p:spPr/>
        <p:txBody>
          <a:bodyPr/>
          <a:p>
            <a:fld id="{1D8D1733-21BC-4EB9-AC09-C2349A0EEC58}" type="slidenum">
              <a:t>&lt;#&gt;</a:t>
            </a:fld>
          </a:p>
        </p:txBody>
      </p:sp>
    </p:spTree>
  </p:cSld>
</p:sldLayout>
</file>

<file path=ppt/slideLayouts/slideLayout9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64"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65" name="PlaceHolder 2"/>
          <p:cNvSpPr>
            <a:spLocks noGrp="1"/>
          </p:cNvSpPr>
          <p:nvPr>
            <p:ph/>
          </p:nvPr>
        </p:nvSpPr>
        <p:spPr>
          <a:xfrm>
            <a:off x="2027160" y="4577040"/>
            <a:ext cx="991440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66"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67" name="PlaceHolder 4"/>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3"/>
          </p:nvPr>
        </p:nvSpPr>
        <p:spPr/>
        <p:txBody>
          <a:bodyPr/>
          <a:p>
            <a:fld id="{B50EAF46-BD38-4A0C-B735-335B40C591FD}" type="slidenum">
              <a:t>&lt;#&gt;</a:t>
            </a:fld>
          </a:p>
        </p:txBody>
      </p:sp>
    </p:spTree>
  </p:cSld>
</p:sldLayout>
</file>

<file path=ppt/slideLayouts/slideLayout9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8"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69"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70"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71" name="PlaceHolder 4"/>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6" name="PlaceHolder 5"/>
          <p:cNvSpPr>
            <a:spLocks noGrp="1"/>
          </p:cNvSpPr>
          <p:nvPr>
            <p:ph type="sldNum" idx="83"/>
          </p:nvPr>
        </p:nvSpPr>
        <p:spPr/>
        <p:txBody>
          <a:bodyPr/>
          <a:p>
            <a:fld id="{0A061FC4-A108-46C1-8B20-C3C8044B4078}" type="slidenum">
              <a:t>&lt;#&gt;</a:t>
            </a:fld>
          </a:p>
        </p:txBody>
      </p:sp>
    </p:spTree>
  </p:cSld>
</p:sldLayout>
</file>

<file path=ppt/slideLayouts/slideLayout9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72"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73" name="PlaceHolder 2"/>
          <p:cNvSpPr>
            <a:spLocks noGrp="1"/>
          </p:cNvSpPr>
          <p:nvPr>
            <p:ph/>
          </p:nvPr>
        </p:nvSpPr>
        <p:spPr>
          <a:xfrm>
            <a:off x="2027160" y="45770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74" name="PlaceHolder 3"/>
          <p:cNvSpPr>
            <a:spLocks noGrp="1"/>
          </p:cNvSpPr>
          <p:nvPr>
            <p:ph/>
          </p:nvPr>
        </p:nvSpPr>
        <p:spPr>
          <a:xfrm>
            <a:off x="2027160" y="7631640"/>
            <a:ext cx="2031696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5" name="PlaceHolder 4"/>
          <p:cNvSpPr>
            <a:spLocks noGrp="1"/>
          </p:cNvSpPr>
          <p:nvPr>
            <p:ph type="sldNum" idx="83"/>
          </p:nvPr>
        </p:nvSpPr>
        <p:spPr/>
        <p:txBody>
          <a:bodyPr/>
          <a:p>
            <a:fld id="{CB73715D-30D0-42DA-998B-AECA843721F6}" type="slidenum">
              <a:t>&lt;#&gt;</a:t>
            </a:fld>
          </a:p>
        </p:txBody>
      </p:sp>
    </p:spTree>
  </p:cSld>
</p:sldLayout>
</file>

<file path=ppt/slideLayouts/slideLayout9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76" name="PlaceHolder 2"/>
          <p:cNvSpPr>
            <a:spLocks noGrp="1"/>
          </p:cNvSpPr>
          <p:nvPr>
            <p:ph/>
          </p:nvPr>
        </p:nvSpPr>
        <p:spPr>
          <a:xfrm>
            <a:off x="202716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77" name="PlaceHolder 3"/>
          <p:cNvSpPr>
            <a:spLocks noGrp="1"/>
          </p:cNvSpPr>
          <p:nvPr>
            <p:ph/>
          </p:nvPr>
        </p:nvSpPr>
        <p:spPr>
          <a:xfrm>
            <a:off x="12437640" y="45770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78" name="PlaceHolder 4"/>
          <p:cNvSpPr>
            <a:spLocks noGrp="1"/>
          </p:cNvSpPr>
          <p:nvPr>
            <p:ph/>
          </p:nvPr>
        </p:nvSpPr>
        <p:spPr>
          <a:xfrm>
            <a:off x="202716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79" name="PlaceHolder 5"/>
          <p:cNvSpPr>
            <a:spLocks noGrp="1"/>
          </p:cNvSpPr>
          <p:nvPr>
            <p:ph/>
          </p:nvPr>
        </p:nvSpPr>
        <p:spPr>
          <a:xfrm>
            <a:off x="12437640" y="7631640"/>
            <a:ext cx="991440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7" name="PlaceHolder 6"/>
          <p:cNvSpPr>
            <a:spLocks noGrp="1"/>
          </p:cNvSpPr>
          <p:nvPr>
            <p:ph type="sldNum" idx="83"/>
          </p:nvPr>
        </p:nvSpPr>
        <p:spPr/>
        <p:txBody>
          <a:bodyPr/>
          <a:p>
            <a:fld id="{F1B75626-BADD-4DF0-A82F-40B6EA2DFD35}" type="slidenum">
              <a:t>&lt;#&gt;</a:t>
            </a:fld>
          </a:p>
        </p:txBody>
      </p:sp>
    </p:spTree>
  </p:cSld>
</p:sldLayout>
</file>

<file path=ppt/slideLayouts/slideLayout9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80"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81" name="PlaceHolder 2"/>
          <p:cNvSpPr>
            <a:spLocks noGrp="1"/>
          </p:cNvSpPr>
          <p:nvPr>
            <p:ph/>
          </p:nvPr>
        </p:nvSpPr>
        <p:spPr>
          <a:xfrm>
            <a:off x="202716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82" name="PlaceHolder 3"/>
          <p:cNvSpPr>
            <a:spLocks noGrp="1"/>
          </p:cNvSpPr>
          <p:nvPr>
            <p:ph/>
          </p:nvPr>
        </p:nvSpPr>
        <p:spPr>
          <a:xfrm>
            <a:off x="889668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83" name="PlaceHolder 4"/>
          <p:cNvSpPr>
            <a:spLocks noGrp="1"/>
          </p:cNvSpPr>
          <p:nvPr>
            <p:ph/>
          </p:nvPr>
        </p:nvSpPr>
        <p:spPr>
          <a:xfrm>
            <a:off x="15765840" y="45770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84" name="PlaceHolder 5"/>
          <p:cNvSpPr>
            <a:spLocks noGrp="1"/>
          </p:cNvSpPr>
          <p:nvPr>
            <p:ph/>
          </p:nvPr>
        </p:nvSpPr>
        <p:spPr>
          <a:xfrm>
            <a:off x="202716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85" name="PlaceHolder 6"/>
          <p:cNvSpPr>
            <a:spLocks noGrp="1"/>
          </p:cNvSpPr>
          <p:nvPr>
            <p:ph/>
          </p:nvPr>
        </p:nvSpPr>
        <p:spPr>
          <a:xfrm>
            <a:off x="889668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3586" name="PlaceHolder 7"/>
          <p:cNvSpPr>
            <a:spLocks noGrp="1"/>
          </p:cNvSpPr>
          <p:nvPr>
            <p:ph/>
          </p:nvPr>
        </p:nvSpPr>
        <p:spPr>
          <a:xfrm>
            <a:off x="15765840" y="7631640"/>
            <a:ext cx="6541920" cy="278928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9" name="PlaceHolder 8"/>
          <p:cNvSpPr>
            <a:spLocks noGrp="1"/>
          </p:cNvSpPr>
          <p:nvPr>
            <p:ph type="sldNum" idx="83"/>
          </p:nvPr>
        </p:nvSpPr>
        <p:spPr/>
        <p:txBody>
          <a:bodyPr/>
          <a:p>
            <a:fld id="{27A92CE7-2FA0-4140-B3D4-CF4D45BAE292}" type="slidenum">
              <a:t>&lt;#&gt;</a:t>
            </a:fld>
          </a:p>
        </p:txBody>
      </p:sp>
    </p:spTree>
  </p:cSld>
</p:sldLayout>
</file>

<file path=ppt/slideLayouts/slideLayout9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4"/>
          </p:nvPr>
        </p:nvSpPr>
        <p:spPr/>
        <p:txBody>
          <a:bodyPr/>
          <a:p>
            <a:fld id="{C1D7A354-D577-4521-81EB-7D9645551874}" type="slidenum">
              <a:t>&lt;#&gt;</a:t>
            </a:fld>
          </a:p>
        </p:txBody>
      </p:sp>
    </p:spTree>
  </p:cSld>
</p:sldLayout>
</file>

<file path=ppt/slideLayouts/slideLayout9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3"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94" name="PlaceHolder 2"/>
          <p:cNvSpPr>
            <a:spLocks noGrp="1"/>
          </p:cNvSpPr>
          <p:nvPr>
            <p:ph type="subTitle"/>
          </p:nvPr>
        </p:nvSpPr>
        <p:spPr>
          <a:xfrm>
            <a:off x="2027160" y="4577040"/>
            <a:ext cx="20316960" cy="584784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sldNum" idx="84"/>
          </p:nvPr>
        </p:nvSpPr>
        <p:spPr/>
        <p:txBody>
          <a:bodyPr/>
          <a:p>
            <a:fld id="{11D3B66E-8D7A-497E-B734-C1B8A0B51B3A}" type="slidenum">
              <a:t>&lt;#&gt;</a:t>
            </a:fld>
          </a:p>
        </p:txBody>
      </p:sp>
    </p:spTree>
  </p:cSld>
</p:sldLayout>
</file>

<file path=ppt/slideLayouts/slideLayout9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5" name="PlaceHolder 1"/>
          <p:cNvSpPr>
            <a:spLocks noGrp="1"/>
          </p:cNvSpPr>
          <p:nvPr>
            <p:ph type="title"/>
          </p:nvPr>
        </p:nvSpPr>
        <p:spPr>
          <a:xfrm>
            <a:off x="2027160" y="2025720"/>
            <a:ext cx="20316960" cy="1782360"/>
          </a:xfrm>
          <a:prstGeom prst="rect">
            <a:avLst/>
          </a:prstGeom>
          <a:noFill/>
          <a:ln w="0">
            <a:noFill/>
          </a:ln>
        </p:spPr>
        <p:txBody>
          <a:bodyPr lIns="0" rIns="0" tIns="0" bIns="0" anchor="ctr">
            <a:noAutofit/>
          </a:bodyPr>
          <a:p>
            <a:pPr indent="0">
              <a:lnSpc>
                <a:spcPct val="120000"/>
              </a:lnSpc>
              <a:buNone/>
            </a:pPr>
            <a:endParaRPr b="0" lang="en-US" sz="3000" spc="-1" strike="noStrike">
              <a:solidFill>
                <a:srgbClr val="009193"/>
              </a:solidFill>
              <a:latin typeface="Helvetica Light"/>
            </a:endParaRPr>
          </a:p>
        </p:txBody>
      </p:sp>
      <p:sp>
        <p:nvSpPr>
          <p:cNvPr id="3596" name="PlaceHolder 2"/>
          <p:cNvSpPr>
            <a:spLocks noGrp="1"/>
          </p:cNvSpPr>
          <p:nvPr>
            <p:ph/>
          </p:nvPr>
        </p:nvSpPr>
        <p:spPr>
          <a:xfrm>
            <a:off x="2027160" y="4577040"/>
            <a:ext cx="20316960" cy="5847840"/>
          </a:xfrm>
          <a:prstGeom prst="rect">
            <a:avLst/>
          </a:prstGeom>
          <a:noFill/>
          <a:ln w="0">
            <a:noFill/>
          </a:ln>
        </p:spPr>
        <p:txBody>
          <a:bodyPr lIns="0" rIns="0" tIns="0" bIns="0" anchor="t">
            <a:normAutofit/>
          </a:bodyPr>
          <a:p>
            <a:pPr indent="0">
              <a:lnSpc>
                <a:spcPct val="120000"/>
              </a:lnSpc>
              <a:spcBef>
                <a:spcPts val="1417"/>
              </a:spcBef>
              <a:buNone/>
            </a:pPr>
            <a:endParaRPr b="0" lang="en-US" sz="3000" spc="-1" strike="noStrike">
              <a:solidFill>
                <a:srgbClr val="5e5e5e"/>
              </a:solidFill>
              <a:latin typeface="Montserrat Light"/>
            </a:endParaRPr>
          </a:p>
        </p:txBody>
      </p:sp>
      <p:sp>
        <p:nvSpPr>
          <p:cNvPr id="4" name="PlaceHolder 3"/>
          <p:cNvSpPr>
            <a:spLocks noGrp="1"/>
          </p:cNvSpPr>
          <p:nvPr>
            <p:ph type="sldNum" idx="84"/>
          </p:nvPr>
        </p:nvSpPr>
        <p:spPr/>
        <p:txBody>
          <a:bodyPr/>
          <a:p>
            <a:fld id="{EAA872AE-CFE9-4B2C-AE8F-5B4C73C8C77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1.png"/><Relationship Id="rId3" Type="http://schemas.openxmlformats.org/officeDocument/2006/relationships/slideLayout" Target="../slideLayouts/slideLayout277.xml"/><Relationship Id="rId4" Type="http://schemas.openxmlformats.org/officeDocument/2006/relationships/slideLayout" Target="../slideLayouts/slideLayout278.xml"/><Relationship Id="rId5" Type="http://schemas.openxmlformats.org/officeDocument/2006/relationships/slideLayout" Target="../slideLayouts/slideLayout279.xml"/><Relationship Id="rId6" Type="http://schemas.openxmlformats.org/officeDocument/2006/relationships/slideLayout" Target="../slideLayouts/slideLayout280.xml"/><Relationship Id="rId7" Type="http://schemas.openxmlformats.org/officeDocument/2006/relationships/slideLayout" Target="../slideLayouts/slideLayout281.xml"/><Relationship Id="rId8" Type="http://schemas.openxmlformats.org/officeDocument/2006/relationships/slideLayout" Target="../slideLayouts/slideLayout282.xml"/><Relationship Id="rId9" Type="http://schemas.openxmlformats.org/officeDocument/2006/relationships/slideLayout" Target="../slideLayouts/slideLayout283.xml"/><Relationship Id="rId10" Type="http://schemas.openxmlformats.org/officeDocument/2006/relationships/slideLayout" Target="../slideLayouts/slideLayout284.xml"/><Relationship Id="rId11" Type="http://schemas.openxmlformats.org/officeDocument/2006/relationships/slideLayout" Target="../slideLayouts/slideLayout285.xml"/><Relationship Id="rId12" Type="http://schemas.openxmlformats.org/officeDocument/2006/relationships/slideLayout" Target="../slideLayouts/slideLayout286.xml"/><Relationship Id="rId13" Type="http://schemas.openxmlformats.org/officeDocument/2006/relationships/slideLayout" Target="../slideLayouts/slideLayout287.xml"/><Relationship Id="rId14"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1.png"/><Relationship Id="rId3" Type="http://schemas.openxmlformats.org/officeDocument/2006/relationships/slideLayout" Target="../slideLayouts/slideLayout289.xml"/><Relationship Id="rId4" Type="http://schemas.openxmlformats.org/officeDocument/2006/relationships/slideLayout" Target="../slideLayouts/slideLayout290.xml"/><Relationship Id="rId5" Type="http://schemas.openxmlformats.org/officeDocument/2006/relationships/slideLayout" Target="../slideLayouts/slideLayout291.xml"/><Relationship Id="rId6" Type="http://schemas.openxmlformats.org/officeDocument/2006/relationships/slideLayout" Target="../slideLayouts/slideLayout292.xml"/><Relationship Id="rId7" Type="http://schemas.openxmlformats.org/officeDocument/2006/relationships/slideLayout" Target="../slideLayouts/slideLayout293.xml"/><Relationship Id="rId8" Type="http://schemas.openxmlformats.org/officeDocument/2006/relationships/slideLayout" Target="../slideLayouts/slideLayout294.xml"/><Relationship Id="rId9" Type="http://schemas.openxmlformats.org/officeDocument/2006/relationships/slideLayout" Target="../slideLayouts/slideLayout295.xml"/><Relationship Id="rId10" Type="http://schemas.openxmlformats.org/officeDocument/2006/relationships/slideLayout" Target="../slideLayouts/slideLayout296.xml"/><Relationship Id="rId11" Type="http://schemas.openxmlformats.org/officeDocument/2006/relationships/slideLayout" Target="../slideLayouts/slideLayout297.xml"/><Relationship Id="rId12" Type="http://schemas.openxmlformats.org/officeDocument/2006/relationships/slideLayout" Target="../slideLayouts/slideLayout298.xml"/><Relationship Id="rId13" Type="http://schemas.openxmlformats.org/officeDocument/2006/relationships/slideLayout" Target="../slideLayouts/slideLayout299.xml"/><Relationship Id="rId14"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1.png"/><Relationship Id="rId3" Type="http://schemas.openxmlformats.org/officeDocument/2006/relationships/slideLayout" Target="../slideLayouts/slideLayout301.xml"/><Relationship Id="rId4" Type="http://schemas.openxmlformats.org/officeDocument/2006/relationships/slideLayout" Target="../slideLayouts/slideLayout302.xml"/><Relationship Id="rId5" Type="http://schemas.openxmlformats.org/officeDocument/2006/relationships/slideLayout" Target="../slideLayouts/slideLayout303.xml"/><Relationship Id="rId6" Type="http://schemas.openxmlformats.org/officeDocument/2006/relationships/slideLayout" Target="../slideLayouts/slideLayout304.xml"/><Relationship Id="rId7" Type="http://schemas.openxmlformats.org/officeDocument/2006/relationships/slideLayout" Target="../slideLayouts/slideLayout305.xml"/><Relationship Id="rId8" Type="http://schemas.openxmlformats.org/officeDocument/2006/relationships/slideLayout" Target="../slideLayouts/slideLayout306.xml"/><Relationship Id="rId9" Type="http://schemas.openxmlformats.org/officeDocument/2006/relationships/slideLayout" Target="../slideLayouts/slideLayout307.xml"/><Relationship Id="rId10" Type="http://schemas.openxmlformats.org/officeDocument/2006/relationships/slideLayout" Target="../slideLayouts/slideLayout308.xml"/><Relationship Id="rId11" Type="http://schemas.openxmlformats.org/officeDocument/2006/relationships/slideLayout" Target="../slideLayouts/slideLayout309.xml"/><Relationship Id="rId12" Type="http://schemas.openxmlformats.org/officeDocument/2006/relationships/slideLayout" Target="../slideLayouts/slideLayout310.xml"/><Relationship Id="rId13" Type="http://schemas.openxmlformats.org/officeDocument/2006/relationships/slideLayout" Target="../slideLayouts/slideLayout311.xml"/><Relationship Id="rId14"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1.png"/><Relationship Id="rId3" Type="http://schemas.openxmlformats.org/officeDocument/2006/relationships/slideLayout" Target="../slideLayouts/slideLayout313.xml"/><Relationship Id="rId4" Type="http://schemas.openxmlformats.org/officeDocument/2006/relationships/slideLayout" Target="../slideLayouts/slideLayout314.xml"/><Relationship Id="rId5" Type="http://schemas.openxmlformats.org/officeDocument/2006/relationships/slideLayout" Target="../slideLayouts/slideLayout315.xml"/><Relationship Id="rId6" Type="http://schemas.openxmlformats.org/officeDocument/2006/relationships/slideLayout" Target="../slideLayouts/slideLayout316.xml"/><Relationship Id="rId7" Type="http://schemas.openxmlformats.org/officeDocument/2006/relationships/slideLayout" Target="../slideLayouts/slideLayout317.xml"/><Relationship Id="rId8" Type="http://schemas.openxmlformats.org/officeDocument/2006/relationships/slideLayout" Target="../slideLayouts/slideLayout318.xml"/><Relationship Id="rId9" Type="http://schemas.openxmlformats.org/officeDocument/2006/relationships/slideLayout" Target="../slideLayouts/slideLayout319.xml"/><Relationship Id="rId10" Type="http://schemas.openxmlformats.org/officeDocument/2006/relationships/slideLayout" Target="../slideLayouts/slideLayout320.xml"/><Relationship Id="rId11" Type="http://schemas.openxmlformats.org/officeDocument/2006/relationships/slideLayout" Target="../slideLayouts/slideLayout321.xml"/><Relationship Id="rId12" Type="http://schemas.openxmlformats.org/officeDocument/2006/relationships/slideLayout" Target="../slideLayouts/slideLayout322.xml"/><Relationship Id="rId13" Type="http://schemas.openxmlformats.org/officeDocument/2006/relationships/slideLayout" Target="../slideLayouts/slideLayout323.xml"/><Relationship Id="rId14"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png"/><Relationship Id="rId3" Type="http://schemas.openxmlformats.org/officeDocument/2006/relationships/slideLayout" Target="../slideLayouts/slideLayout325.xml"/><Relationship Id="rId4" Type="http://schemas.openxmlformats.org/officeDocument/2006/relationships/slideLayout" Target="../slideLayouts/slideLayout326.xml"/><Relationship Id="rId5" Type="http://schemas.openxmlformats.org/officeDocument/2006/relationships/slideLayout" Target="../slideLayouts/slideLayout327.xml"/><Relationship Id="rId6" Type="http://schemas.openxmlformats.org/officeDocument/2006/relationships/slideLayout" Target="../slideLayouts/slideLayout328.xml"/><Relationship Id="rId7" Type="http://schemas.openxmlformats.org/officeDocument/2006/relationships/slideLayout" Target="../slideLayouts/slideLayout329.xml"/><Relationship Id="rId8" Type="http://schemas.openxmlformats.org/officeDocument/2006/relationships/slideLayout" Target="../slideLayouts/slideLayout330.xml"/><Relationship Id="rId9" Type="http://schemas.openxmlformats.org/officeDocument/2006/relationships/slideLayout" Target="../slideLayouts/slideLayout331.xml"/><Relationship Id="rId10" Type="http://schemas.openxmlformats.org/officeDocument/2006/relationships/slideLayout" Target="../slideLayouts/slideLayout332.xml"/><Relationship Id="rId11" Type="http://schemas.openxmlformats.org/officeDocument/2006/relationships/slideLayout" Target="../slideLayouts/slideLayout333.xml"/><Relationship Id="rId12" Type="http://schemas.openxmlformats.org/officeDocument/2006/relationships/slideLayout" Target="../slideLayouts/slideLayout334.xml"/><Relationship Id="rId13" Type="http://schemas.openxmlformats.org/officeDocument/2006/relationships/slideLayout" Target="../slideLayouts/slideLayout335.xml"/><Relationship Id="rId14"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png"/><Relationship Id="rId3" Type="http://schemas.openxmlformats.org/officeDocument/2006/relationships/slideLayout" Target="../slideLayouts/slideLayout337.xml"/><Relationship Id="rId4" Type="http://schemas.openxmlformats.org/officeDocument/2006/relationships/slideLayout" Target="../slideLayouts/slideLayout338.xml"/><Relationship Id="rId5" Type="http://schemas.openxmlformats.org/officeDocument/2006/relationships/slideLayout" Target="../slideLayouts/slideLayout339.xml"/><Relationship Id="rId6" Type="http://schemas.openxmlformats.org/officeDocument/2006/relationships/slideLayout" Target="../slideLayouts/slideLayout340.xml"/><Relationship Id="rId7" Type="http://schemas.openxmlformats.org/officeDocument/2006/relationships/slideLayout" Target="../slideLayouts/slideLayout341.xml"/><Relationship Id="rId8" Type="http://schemas.openxmlformats.org/officeDocument/2006/relationships/slideLayout" Target="../slideLayouts/slideLayout342.xml"/><Relationship Id="rId9" Type="http://schemas.openxmlformats.org/officeDocument/2006/relationships/slideLayout" Target="../slideLayouts/slideLayout343.xml"/><Relationship Id="rId10" Type="http://schemas.openxmlformats.org/officeDocument/2006/relationships/slideLayout" Target="../slideLayouts/slideLayout344.xml"/><Relationship Id="rId11" Type="http://schemas.openxmlformats.org/officeDocument/2006/relationships/slideLayout" Target="../slideLayouts/slideLayout345.xml"/><Relationship Id="rId12" Type="http://schemas.openxmlformats.org/officeDocument/2006/relationships/slideLayout" Target="../slideLayouts/slideLayout346.xml"/><Relationship Id="rId13" Type="http://schemas.openxmlformats.org/officeDocument/2006/relationships/slideLayout" Target="../slideLayouts/slideLayout347.xml"/><Relationship Id="rId14"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30.xml.rels><?xml version="1.0" encoding="UTF-8"?>
<Relationships xmlns="http://schemas.openxmlformats.org/package/2006/relationships"><Relationship Id="rId1" Type="http://schemas.openxmlformats.org/officeDocument/2006/relationships/theme" Target="../theme/theme30.xml"/><Relationship Id="rId2" Type="http://schemas.openxmlformats.org/officeDocument/2006/relationships/image" Target="../media/image1.png"/><Relationship Id="rId3" Type="http://schemas.openxmlformats.org/officeDocument/2006/relationships/slideLayout" Target="../slideLayouts/slideLayout349.xml"/><Relationship Id="rId4" Type="http://schemas.openxmlformats.org/officeDocument/2006/relationships/slideLayout" Target="../slideLayouts/slideLayout350.xml"/><Relationship Id="rId5" Type="http://schemas.openxmlformats.org/officeDocument/2006/relationships/slideLayout" Target="../slideLayouts/slideLayout351.xml"/><Relationship Id="rId6" Type="http://schemas.openxmlformats.org/officeDocument/2006/relationships/slideLayout" Target="../slideLayouts/slideLayout352.xml"/><Relationship Id="rId7" Type="http://schemas.openxmlformats.org/officeDocument/2006/relationships/slideLayout" Target="../slideLayouts/slideLayout353.xml"/><Relationship Id="rId8" Type="http://schemas.openxmlformats.org/officeDocument/2006/relationships/slideLayout" Target="../slideLayouts/slideLayout354.xml"/><Relationship Id="rId9" Type="http://schemas.openxmlformats.org/officeDocument/2006/relationships/slideLayout" Target="../slideLayouts/slideLayout355.xml"/><Relationship Id="rId10" Type="http://schemas.openxmlformats.org/officeDocument/2006/relationships/slideLayout" Target="../slideLayouts/slideLayout356.xml"/><Relationship Id="rId11" Type="http://schemas.openxmlformats.org/officeDocument/2006/relationships/slideLayout" Target="../slideLayouts/slideLayout357.xml"/><Relationship Id="rId12" Type="http://schemas.openxmlformats.org/officeDocument/2006/relationships/slideLayout" Target="../slideLayouts/slideLayout358.xml"/><Relationship Id="rId13" Type="http://schemas.openxmlformats.org/officeDocument/2006/relationships/slideLayout" Target="../slideLayouts/slideLayout359.xml"/><Relationship Id="rId14" Type="http://schemas.openxmlformats.org/officeDocument/2006/relationships/slideLayout" Target="../slideLayouts/slideLayout360.xml"/>
</Relationships>
</file>

<file path=ppt/slideMasters/_rels/slideMaster31.xml.rels><?xml version="1.0" encoding="UTF-8"?>
<Relationships xmlns="http://schemas.openxmlformats.org/package/2006/relationships"><Relationship Id="rId1" Type="http://schemas.openxmlformats.org/officeDocument/2006/relationships/theme" Target="../theme/theme31.xml"/><Relationship Id="rId2" Type="http://schemas.openxmlformats.org/officeDocument/2006/relationships/image" Target="../media/image1.png"/><Relationship Id="rId3" Type="http://schemas.openxmlformats.org/officeDocument/2006/relationships/slideLayout" Target="../slideLayouts/slideLayout361.xml"/><Relationship Id="rId4" Type="http://schemas.openxmlformats.org/officeDocument/2006/relationships/slideLayout" Target="../slideLayouts/slideLayout362.xml"/><Relationship Id="rId5" Type="http://schemas.openxmlformats.org/officeDocument/2006/relationships/slideLayout" Target="../slideLayouts/slideLayout363.xml"/><Relationship Id="rId6" Type="http://schemas.openxmlformats.org/officeDocument/2006/relationships/slideLayout" Target="../slideLayouts/slideLayout364.xml"/><Relationship Id="rId7" Type="http://schemas.openxmlformats.org/officeDocument/2006/relationships/slideLayout" Target="../slideLayouts/slideLayout365.xml"/><Relationship Id="rId8" Type="http://schemas.openxmlformats.org/officeDocument/2006/relationships/slideLayout" Target="../slideLayouts/slideLayout366.xml"/><Relationship Id="rId9" Type="http://schemas.openxmlformats.org/officeDocument/2006/relationships/slideLayout" Target="../slideLayouts/slideLayout367.xml"/><Relationship Id="rId10" Type="http://schemas.openxmlformats.org/officeDocument/2006/relationships/slideLayout" Target="../slideLayouts/slideLayout368.xml"/><Relationship Id="rId11" Type="http://schemas.openxmlformats.org/officeDocument/2006/relationships/slideLayout" Target="../slideLayouts/slideLayout369.xml"/><Relationship Id="rId12" Type="http://schemas.openxmlformats.org/officeDocument/2006/relationships/slideLayout" Target="../slideLayouts/slideLayout370.xml"/><Relationship Id="rId13" Type="http://schemas.openxmlformats.org/officeDocument/2006/relationships/slideLayout" Target="../slideLayouts/slideLayout371.xml"/><Relationship Id="rId14" Type="http://schemas.openxmlformats.org/officeDocument/2006/relationships/slideLayout" Target="../slideLayouts/slideLayout372.xml"/>
</Relationships>
</file>

<file path=ppt/slideMasters/_rels/slideMaster32.xml.rels><?xml version="1.0" encoding="UTF-8"?>
<Relationships xmlns="http://schemas.openxmlformats.org/package/2006/relationships"><Relationship Id="rId1" Type="http://schemas.openxmlformats.org/officeDocument/2006/relationships/theme" Target="../theme/theme32.xml"/><Relationship Id="rId2" Type="http://schemas.openxmlformats.org/officeDocument/2006/relationships/image" Target="../media/image1.png"/><Relationship Id="rId3" Type="http://schemas.openxmlformats.org/officeDocument/2006/relationships/slideLayout" Target="../slideLayouts/slideLayout373.xml"/><Relationship Id="rId4" Type="http://schemas.openxmlformats.org/officeDocument/2006/relationships/slideLayout" Target="../slideLayouts/slideLayout374.xml"/><Relationship Id="rId5" Type="http://schemas.openxmlformats.org/officeDocument/2006/relationships/slideLayout" Target="../slideLayouts/slideLayout375.xml"/><Relationship Id="rId6" Type="http://schemas.openxmlformats.org/officeDocument/2006/relationships/slideLayout" Target="../slideLayouts/slideLayout376.xml"/><Relationship Id="rId7" Type="http://schemas.openxmlformats.org/officeDocument/2006/relationships/slideLayout" Target="../slideLayouts/slideLayout377.xml"/><Relationship Id="rId8" Type="http://schemas.openxmlformats.org/officeDocument/2006/relationships/slideLayout" Target="../slideLayouts/slideLayout378.xml"/><Relationship Id="rId9" Type="http://schemas.openxmlformats.org/officeDocument/2006/relationships/slideLayout" Target="../slideLayouts/slideLayout379.xml"/><Relationship Id="rId10" Type="http://schemas.openxmlformats.org/officeDocument/2006/relationships/slideLayout" Target="../slideLayouts/slideLayout380.xml"/><Relationship Id="rId11" Type="http://schemas.openxmlformats.org/officeDocument/2006/relationships/slideLayout" Target="../slideLayouts/slideLayout381.xml"/><Relationship Id="rId12" Type="http://schemas.openxmlformats.org/officeDocument/2006/relationships/slideLayout" Target="../slideLayouts/slideLayout382.xml"/><Relationship Id="rId13" Type="http://schemas.openxmlformats.org/officeDocument/2006/relationships/slideLayout" Target="../slideLayouts/slideLayout383.xml"/><Relationship Id="rId14" Type="http://schemas.openxmlformats.org/officeDocument/2006/relationships/slideLayout" Target="../slideLayouts/slideLayout384.xml"/>
</Relationships>
</file>

<file path=ppt/slideMasters/_rels/slideMaster33.xml.rels><?xml version="1.0" encoding="UTF-8"?>
<Relationships xmlns="http://schemas.openxmlformats.org/package/2006/relationships"><Relationship Id="rId1" Type="http://schemas.openxmlformats.org/officeDocument/2006/relationships/theme" Target="../theme/theme33.xml"/><Relationship Id="rId2" Type="http://schemas.openxmlformats.org/officeDocument/2006/relationships/image" Target="../media/image1.png"/><Relationship Id="rId3" Type="http://schemas.openxmlformats.org/officeDocument/2006/relationships/slideLayout" Target="../slideLayouts/slideLayout385.xml"/><Relationship Id="rId4" Type="http://schemas.openxmlformats.org/officeDocument/2006/relationships/slideLayout" Target="../slideLayouts/slideLayout386.xml"/><Relationship Id="rId5" Type="http://schemas.openxmlformats.org/officeDocument/2006/relationships/slideLayout" Target="../slideLayouts/slideLayout387.xml"/><Relationship Id="rId6" Type="http://schemas.openxmlformats.org/officeDocument/2006/relationships/slideLayout" Target="../slideLayouts/slideLayout388.xml"/><Relationship Id="rId7" Type="http://schemas.openxmlformats.org/officeDocument/2006/relationships/slideLayout" Target="../slideLayouts/slideLayout389.xml"/><Relationship Id="rId8" Type="http://schemas.openxmlformats.org/officeDocument/2006/relationships/slideLayout" Target="../slideLayouts/slideLayout390.xml"/><Relationship Id="rId9" Type="http://schemas.openxmlformats.org/officeDocument/2006/relationships/slideLayout" Target="../slideLayouts/slideLayout391.xml"/><Relationship Id="rId10" Type="http://schemas.openxmlformats.org/officeDocument/2006/relationships/slideLayout" Target="../slideLayouts/slideLayout392.xml"/><Relationship Id="rId11" Type="http://schemas.openxmlformats.org/officeDocument/2006/relationships/slideLayout" Target="../slideLayouts/slideLayout393.xml"/><Relationship Id="rId12" Type="http://schemas.openxmlformats.org/officeDocument/2006/relationships/slideLayout" Target="../slideLayouts/slideLayout394.xml"/><Relationship Id="rId13" Type="http://schemas.openxmlformats.org/officeDocument/2006/relationships/slideLayout" Target="../slideLayouts/slideLayout395.xml"/><Relationship Id="rId14" Type="http://schemas.openxmlformats.org/officeDocument/2006/relationships/slideLayout" Target="../slideLayouts/slideLayout396.xml"/>
</Relationships>
</file>

<file path=ppt/slideMasters/_rels/slideMaster34.xml.rels><?xml version="1.0" encoding="UTF-8"?>
<Relationships xmlns="http://schemas.openxmlformats.org/package/2006/relationships"><Relationship Id="rId1" Type="http://schemas.openxmlformats.org/officeDocument/2006/relationships/theme" Target="../theme/theme34.xml"/><Relationship Id="rId2" Type="http://schemas.openxmlformats.org/officeDocument/2006/relationships/image" Target="../media/image1.png"/><Relationship Id="rId3" Type="http://schemas.openxmlformats.org/officeDocument/2006/relationships/slideLayout" Target="../slideLayouts/slideLayout397.xml"/><Relationship Id="rId4" Type="http://schemas.openxmlformats.org/officeDocument/2006/relationships/slideLayout" Target="../slideLayouts/slideLayout398.xml"/><Relationship Id="rId5" Type="http://schemas.openxmlformats.org/officeDocument/2006/relationships/slideLayout" Target="../slideLayouts/slideLayout399.xml"/><Relationship Id="rId6" Type="http://schemas.openxmlformats.org/officeDocument/2006/relationships/slideLayout" Target="../slideLayouts/slideLayout400.xml"/><Relationship Id="rId7" Type="http://schemas.openxmlformats.org/officeDocument/2006/relationships/slideLayout" Target="../slideLayouts/slideLayout401.xml"/><Relationship Id="rId8" Type="http://schemas.openxmlformats.org/officeDocument/2006/relationships/slideLayout" Target="../slideLayouts/slideLayout402.xml"/><Relationship Id="rId9" Type="http://schemas.openxmlformats.org/officeDocument/2006/relationships/slideLayout" Target="../slideLayouts/slideLayout403.xml"/><Relationship Id="rId10" Type="http://schemas.openxmlformats.org/officeDocument/2006/relationships/slideLayout" Target="../slideLayouts/slideLayout404.xml"/><Relationship Id="rId11" Type="http://schemas.openxmlformats.org/officeDocument/2006/relationships/slideLayout" Target="../slideLayouts/slideLayout405.xml"/><Relationship Id="rId12" Type="http://schemas.openxmlformats.org/officeDocument/2006/relationships/slideLayout" Target="../slideLayouts/slideLayout406.xml"/><Relationship Id="rId13" Type="http://schemas.openxmlformats.org/officeDocument/2006/relationships/slideLayout" Target="../slideLayouts/slideLayout407.xml"/><Relationship Id="rId14" Type="http://schemas.openxmlformats.org/officeDocument/2006/relationships/slideLayout" Target="../slideLayouts/slideLayout408.xml"/>
</Relationships>
</file>

<file path=ppt/slideMasters/_rels/slideMaster35.xml.rels><?xml version="1.0" encoding="UTF-8"?>
<Relationships xmlns="http://schemas.openxmlformats.org/package/2006/relationships"><Relationship Id="rId1" Type="http://schemas.openxmlformats.org/officeDocument/2006/relationships/theme" Target="../theme/theme35.xml"/><Relationship Id="rId2" Type="http://schemas.openxmlformats.org/officeDocument/2006/relationships/image" Target="../media/image1.png"/><Relationship Id="rId3" Type="http://schemas.openxmlformats.org/officeDocument/2006/relationships/slideLayout" Target="../slideLayouts/slideLayout409.xml"/><Relationship Id="rId4" Type="http://schemas.openxmlformats.org/officeDocument/2006/relationships/slideLayout" Target="../slideLayouts/slideLayout410.xml"/><Relationship Id="rId5" Type="http://schemas.openxmlformats.org/officeDocument/2006/relationships/slideLayout" Target="../slideLayouts/slideLayout411.xml"/><Relationship Id="rId6" Type="http://schemas.openxmlformats.org/officeDocument/2006/relationships/slideLayout" Target="../slideLayouts/slideLayout412.xml"/><Relationship Id="rId7" Type="http://schemas.openxmlformats.org/officeDocument/2006/relationships/slideLayout" Target="../slideLayouts/slideLayout413.xml"/><Relationship Id="rId8" Type="http://schemas.openxmlformats.org/officeDocument/2006/relationships/slideLayout" Target="../slideLayouts/slideLayout414.xml"/><Relationship Id="rId9" Type="http://schemas.openxmlformats.org/officeDocument/2006/relationships/slideLayout" Target="../slideLayouts/slideLayout415.xml"/><Relationship Id="rId10" Type="http://schemas.openxmlformats.org/officeDocument/2006/relationships/slideLayout" Target="../slideLayouts/slideLayout416.xml"/><Relationship Id="rId11" Type="http://schemas.openxmlformats.org/officeDocument/2006/relationships/slideLayout" Target="../slideLayouts/slideLayout417.xml"/><Relationship Id="rId12" Type="http://schemas.openxmlformats.org/officeDocument/2006/relationships/slideLayout" Target="../slideLayouts/slideLayout418.xml"/><Relationship Id="rId13" Type="http://schemas.openxmlformats.org/officeDocument/2006/relationships/slideLayout" Target="../slideLayouts/slideLayout419.xml"/><Relationship Id="rId14" Type="http://schemas.openxmlformats.org/officeDocument/2006/relationships/slideLayout" Target="../slideLayouts/slideLayout420.xml"/>
</Relationships>
</file>

<file path=ppt/slideMasters/_rels/slideMaster36.xml.rels><?xml version="1.0" encoding="UTF-8"?>
<Relationships xmlns="http://schemas.openxmlformats.org/package/2006/relationships"><Relationship Id="rId1" Type="http://schemas.openxmlformats.org/officeDocument/2006/relationships/theme" Target="../theme/theme36.xml"/><Relationship Id="rId2" Type="http://schemas.openxmlformats.org/officeDocument/2006/relationships/image" Target="../media/image1.png"/><Relationship Id="rId3" Type="http://schemas.openxmlformats.org/officeDocument/2006/relationships/slideLayout" Target="../slideLayouts/slideLayout421.xml"/><Relationship Id="rId4" Type="http://schemas.openxmlformats.org/officeDocument/2006/relationships/slideLayout" Target="../slideLayouts/slideLayout422.xml"/><Relationship Id="rId5" Type="http://schemas.openxmlformats.org/officeDocument/2006/relationships/slideLayout" Target="../slideLayouts/slideLayout423.xml"/><Relationship Id="rId6" Type="http://schemas.openxmlformats.org/officeDocument/2006/relationships/slideLayout" Target="../slideLayouts/slideLayout424.xml"/><Relationship Id="rId7" Type="http://schemas.openxmlformats.org/officeDocument/2006/relationships/slideLayout" Target="../slideLayouts/slideLayout425.xml"/><Relationship Id="rId8" Type="http://schemas.openxmlformats.org/officeDocument/2006/relationships/slideLayout" Target="../slideLayouts/slideLayout426.xml"/><Relationship Id="rId9" Type="http://schemas.openxmlformats.org/officeDocument/2006/relationships/slideLayout" Target="../slideLayouts/slideLayout427.xml"/><Relationship Id="rId10" Type="http://schemas.openxmlformats.org/officeDocument/2006/relationships/slideLayout" Target="../slideLayouts/slideLayout428.xml"/><Relationship Id="rId11" Type="http://schemas.openxmlformats.org/officeDocument/2006/relationships/slideLayout" Target="../slideLayouts/slideLayout429.xml"/><Relationship Id="rId12" Type="http://schemas.openxmlformats.org/officeDocument/2006/relationships/slideLayout" Target="../slideLayouts/slideLayout430.xml"/><Relationship Id="rId13" Type="http://schemas.openxmlformats.org/officeDocument/2006/relationships/slideLayout" Target="../slideLayouts/slideLayout431.xml"/><Relationship Id="rId14" Type="http://schemas.openxmlformats.org/officeDocument/2006/relationships/slideLayout" Target="../slideLayouts/slideLayout432.xml"/>
</Relationships>
</file>

<file path=ppt/slideMasters/_rels/slideMaster37.xml.rels><?xml version="1.0" encoding="UTF-8"?>
<Relationships xmlns="http://schemas.openxmlformats.org/package/2006/relationships"><Relationship Id="rId1" Type="http://schemas.openxmlformats.org/officeDocument/2006/relationships/theme" Target="../theme/theme37.xml"/><Relationship Id="rId2" Type="http://schemas.openxmlformats.org/officeDocument/2006/relationships/image" Target="../media/image1.png"/><Relationship Id="rId3" Type="http://schemas.openxmlformats.org/officeDocument/2006/relationships/slideLayout" Target="../slideLayouts/slideLayout433.xml"/><Relationship Id="rId4" Type="http://schemas.openxmlformats.org/officeDocument/2006/relationships/slideLayout" Target="../slideLayouts/slideLayout434.xml"/><Relationship Id="rId5" Type="http://schemas.openxmlformats.org/officeDocument/2006/relationships/slideLayout" Target="../slideLayouts/slideLayout435.xml"/><Relationship Id="rId6" Type="http://schemas.openxmlformats.org/officeDocument/2006/relationships/slideLayout" Target="../slideLayouts/slideLayout436.xml"/><Relationship Id="rId7" Type="http://schemas.openxmlformats.org/officeDocument/2006/relationships/slideLayout" Target="../slideLayouts/slideLayout437.xml"/><Relationship Id="rId8" Type="http://schemas.openxmlformats.org/officeDocument/2006/relationships/slideLayout" Target="../slideLayouts/slideLayout438.xml"/><Relationship Id="rId9" Type="http://schemas.openxmlformats.org/officeDocument/2006/relationships/slideLayout" Target="../slideLayouts/slideLayout439.xml"/><Relationship Id="rId10" Type="http://schemas.openxmlformats.org/officeDocument/2006/relationships/slideLayout" Target="../slideLayouts/slideLayout440.xml"/><Relationship Id="rId11" Type="http://schemas.openxmlformats.org/officeDocument/2006/relationships/slideLayout" Target="../slideLayouts/slideLayout441.xml"/><Relationship Id="rId12" Type="http://schemas.openxmlformats.org/officeDocument/2006/relationships/slideLayout" Target="../slideLayouts/slideLayout442.xml"/><Relationship Id="rId13" Type="http://schemas.openxmlformats.org/officeDocument/2006/relationships/slideLayout" Target="../slideLayouts/slideLayout443.xml"/><Relationship Id="rId14" Type="http://schemas.openxmlformats.org/officeDocument/2006/relationships/slideLayout" Target="../slideLayouts/slideLayout444.xml"/>
</Relationships>
</file>

<file path=ppt/slideMasters/_rels/slideMaster38.xml.rels><?xml version="1.0" encoding="UTF-8"?>
<Relationships xmlns="http://schemas.openxmlformats.org/package/2006/relationships"><Relationship Id="rId1" Type="http://schemas.openxmlformats.org/officeDocument/2006/relationships/theme" Target="../theme/theme38.xml"/><Relationship Id="rId2" Type="http://schemas.openxmlformats.org/officeDocument/2006/relationships/image" Target="../media/image1.png"/><Relationship Id="rId3" Type="http://schemas.openxmlformats.org/officeDocument/2006/relationships/slideLayout" Target="../slideLayouts/slideLayout445.xml"/><Relationship Id="rId4" Type="http://schemas.openxmlformats.org/officeDocument/2006/relationships/slideLayout" Target="../slideLayouts/slideLayout446.xml"/><Relationship Id="rId5" Type="http://schemas.openxmlformats.org/officeDocument/2006/relationships/slideLayout" Target="../slideLayouts/slideLayout447.xml"/><Relationship Id="rId6" Type="http://schemas.openxmlformats.org/officeDocument/2006/relationships/slideLayout" Target="../slideLayouts/slideLayout448.xml"/><Relationship Id="rId7" Type="http://schemas.openxmlformats.org/officeDocument/2006/relationships/slideLayout" Target="../slideLayouts/slideLayout449.xml"/><Relationship Id="rId8" Type="http://schemas.openxmlformats.org/officeDocument/2006/relationships/slideLayout" Target="../slideLayouts/slideLayout450.xml"/><Relationship Id="rId9" Type="http://schemas.openxmlformats.org/officeDocument/2006/relationships/slideLayout" Target="../slideLayouts/slideLayout451.xml"/><Relationship Id="rId10" Type="http://schemas.openxmlformats.org/officeDocument/2006/relationships/slideLayout" Target="../slideLayouts/slideLayout452.xml"/><Relationship Id="rId11" Type="http://schemas.openxmlformats.org/officeDocument/2006/relationships/slideLayout" Target="../slideLayouts/slideLayout453.xml"/><Relationship Id="rId12" Type="http://schemas.openxmlformats.org/officeDocument/2006/relationships/slideLayout" Target="../slideLayouts/slideLayout454.xml"/><Relationship Id="rId13" Type="http://schemas.openxmlformats.org/officeDocument/2006/relationships/slideLayout" Target="../slideLayouts/slideLayout455.xml"/><Relationship Id="rId14" Type="http://schemas.openxmlformats.org/officeDocument/2006/relationships/slideLayout" Target="../slideLayouts/slideLayout456.xml"/>
</Relationships>
</file>

<file path=ppt/slideMasters/_rels/slideMaster39.xml.rels><?xml version="1.0" encoding="UTF-8"?>
<Relationships xmlns="http://schemas.openxmlformats.org/package/2006/relationships"><Relationship Id="rId1" Type="http://schemas.openxmlformats.org/officeDocument/2006/relationships/theme" Target="../theme/theme39.xml"/><Relationship Id="rId2" Type="http://schemas.openxmlformats.org/officeDocument/2006/relationships/image" Target="../media/image1.png"/><Relationship Id="rId3" Type="http://schemas.openxmlformats.org/officeDocument/2006/relationships/slideLayout" Target="../slideLayouts/slideLayout457.xml"/><Relationship Id="rId4" Type="http://schemas.openxmlformats.org/officeDocument/2006/relationships/slideLayout" Target="../slideLayouts/slideLayout458.xml"/><Relationship Id="rId5" Type="http://schemas.openxmlformats.org/officeDocument/2006/relationships/slideLayout" Target="../slideLayouts/slideLayout459.xml"/><Relationship Id="rId6" Type="http://schemas.openxmlformats.org/officeDocument/2006/relationships/slideLayout" Target="../slideLayouts/slideLayout460.xml"/><Relationship Id="rId7" Type="http://schemas.openxmlformats.org/officeDocument/2006/relationships/slideLayout" Target="../slideLayouts/slideLayout461.xml"/><Relationship Id="rId8" Type="http://schemas.openxmlformats.org/officeDocument/2006/relationships/slideLayout" Target="../slideLayouts/slideLayout462.xml"/><Relationship Id="rId9" Type="http://schemas.openxmlformats.org/officeDocument/2006/relationships/slideLayout" Target="../slideLayouts/slideLayout463.xml"/><Relationship Id="rId10" Type="http://schemas.openxmlformats.org/officeDocument/2006/relationships/slideLayout" Target="../slideLayouts/slideLayout464.xml"/><Relationship Id="rId11" Type="http://schemas.openxmlformats.org/officeDocument/2006/relationships/slideLayout" Target="../slideLayouts/slideLayout465.xml"/><Relationship Id="rId12" Type="http://schemas.openxmlformats.org/officeDocument/2006/relationships/slideLayout" Target="../slideLayouts/slideLayout466.xml"/><Relationship Id="rId13" Type="http://schemas.openxmlformats.org/officeDocument/2006/relationships/slideLayout" Target="../slideLayouts/slideLayout467.xml"/><Relationship Id="rId14" Type="http://schemas.openxmlformats.org/officeDocument/2006/relationships/slideLayout" Target="../slideLayouts/slideLayout468.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40.xml.rels><?xml version="1.0" encoding="UTF-8"?>
<Relationships xmlns="http://schemas.openxmlformats.org/package/2006/relationships"><Relationship Id="rId1" Type="http://schemas.openxmlformats.org/officeDocument/2006/relationships/theme" Target="../theme/theme40.xml"/><Relationship Id="rId2" Type="http://schemas.openxmlformats.org/officeDocument/2006/relationships/image" Target="../media/image1.png"/><Relationship Id="rId3" Type="http://schemas.openxmlformats.org/officeDocument/2006/relationships/slideLayout" Target="../slideLayouts/slideLayout469.xml"/><Relationship Id="rId4" Type="http://schemas.openxmlformats.org/officeDocument/2006/relationships/slideLayout" Target="../slideLayouts/slideLayout470.xml"/><Relationship Id="rId5" Type="http://schemas.openxmlformats.org/officeDocument/2006/relationships/slideLayout" Target="../slideLayouts/slideLayout471.xml"/><Relationship Id="rId6" Type="http://schemas.openxmlformats.org/officeDocument/2006/relationships/slideLayout" Target="../slideLayouts/slideLayout472.xml"/><Relationship Id="rId7" Type="http://schemas.openxmlformats.org/officeDocument/2006/relationships/slideLayout" Target="../slideLayouts/slideLayout473.xml"/><Relationship Id="rId8" Type="http://schemas.openxmlformats.org/officeDocument/2006/relationships/slideLayout" Target="../slideLayouts/slideLayout474.xml"/><Relationship Id="rId9" Type="http://schemas.openxmlformats.org/officeDocument/2006/relationships/slideLayout" Target="../slideLayouts/slideLayout475.xml"/><Relationship Id="rId10" Type="http://schemas.openxmlformats.org/officeDocument/2006/relationships/slideLayout" Target="../slideLayouts/slideLayout476.xml"/><Relationship Id="rId11" Type="http://schemas.openxmlformats.org/officeDocument/2006/relationships/slideLayout" Target="../slideLayouts/slideLayout477.xml"/><Relationship Id="rId12" Type="http://schemas.openxmlformats.org/officeDocument/2006/relationships/slideLayout" Target="../slideLayouts/slideLayout478.xml"/><Relationship Id="rId13" Type="http://schemas.openxmlformats.org/officeDocument/2006/relationships/slideLayout" Target="../slideLayouts/slideLayout479.xml"/><Relationship Id="rId14" Type="http://schemas.openxmlformats.org/officeDocument/2006/relationships/slideLayout" Target="../slideLayouts/slideLayout480.xml"/>
</Relationships>
</file>

<file path=ppt/slideMasters/_rels/slideMaster41.xml.rels><?xml version="1.0" encoding="UTF-8"?>
<Relationships xmlns="http://schemas.openxmlformats.org/package/2006/relationships"><Relationship Id="rId1" Type="http://schemas.openxmlformats.org/officeDocument/2006/relationships/theme" Target="../theme/theme41.xml"/><Relationship Id="rId2" Type="http://schemas.openxmlformats.org/officeDocument/2006/relationships/image" Target="../media/image1.png"/><Relationship Id="rId3" Type="http://schemas.openxmlformats.org/officeDocument/2006/relationships/slideLayout" Target="../slideLayouts/slideLayout481.xml"/><Relationship Id="rId4" Type="http://schemas.openxmlformats.org/officeDocument/2006/relationships/slideLayout" Target="../slideLayouts/slideLayout482.xml"/><Relationship Id="rId5" Type="http://schemas.openxmlformats.org/officeDocument/2006/relationships/slideLayout" Target="../slideLayouts/slideLayout483.xml"/><Relationship Id="rId6" Type="http://schemas.openxmlformats.org/officeDocument/2006/relationships/slideLayout" Target="../slideLayouts/slideLayout484.xml"/><Relationship Id="rId7" Type="http://schemas.openxmlformats.org/officeDocument/2006/relationships/slideLayout" Target="../slideLayouts/slideLayout485.xml"/><Relationship Id="rId8" Type="http://schemas.openxmlformats.org/officeDocument/2006/relationships/slideLayout" Target="../slideLayouts/slideLayout486.xml"/><Relationship Id="rId9" Type="http://schemas.openxmlformats.org/officeDocument/2006/relationships/slideLayout" Target="../slideLayouts/slideLayout487.xml"/><Relationship Id="rId10" Type="http://schemas.openxmlformats.org/officeDocument/2006/relationships/slideLayout" Target="../slideLayouts/slideLayout488.xml"/><Relationship Id="rId11" Type="http://schemas.openxmlformats.org/officeDocument/2006/relationships/slideLayout" Target="../slideLayouts/slideLayout489.xml"/><Relationship Id="rId12" Type="http://schemas.openxmlformats.org/officeDocument/2006/relationships/slideLayout" Target="../slideLayouts/slideLayout490.xml"/><Relationship Id="rId13" Type="http://schemas.openxmlformats.org/officeDocument/2006/relationships/slideLayout" Target="../slideLayouts/slideLayout491.xml"/><Relationship Id="rId14" Type="http://schemas.openxmlformats.org/officeDocument/2006/relationships/slideLayout" Target="../slideLayouts/slideLayout492.xml"/>
</Relationships>
</file>

<file path=ppt/slideMasters/_rels/slideMaster42.xml.rels><?xml version="1.0" encoding="UTF-8"?>
<Relationships xmlns="http://schemas.openxmlformats.org/package/2006/relationships"><Relationship Id="rId1" Type="http://schemas.openxmlformats.org/officeDocument/2006/relationships/theme" Target="../theme/theme42.xml"/><Relationship Id="rId2" Type="http://schemas.openxmlformats.org/officeDocument/2006/relationships/image" Target="../media/image1.png"/><Relationship Id="rId3" Type="http://schemas.openxmlformats.org/officeDocument/2006/relationships/slideLayout" Target="../slideLayouts/slideLayout493.xml"/><Relationship Id="rId4" Type="http://schemas.openxmlformats.org/officeDocument/2006/relationships/slideLayout" Target="../slideLayouts/slideLayout494.xml"/><Relationship Id="rId5" Type="http://schemas.openxmlformats.org/officeDocument/2006/relationships/slideLayout" Target="../slideLayouts/slideLayout495.xml"/><Relationship Id="rId6" Type="http://schemas.openxmlformats.org/officeDocument/2006/relationships/slideLayout" Target="../slideLayouts/slideLayout496.xml"/><Relationship Id="rId7" Type="http://schemas.openxmlformats.org/officeDocument/2006/relationships/slideLayout" Target="../slideLayouts/slideLayout497.xml"/><Relationship Id="rId8" Type="http://schemas.openxmlformats.org/officeDocument/2006/relationships/slideLayout" Target="../slideLayouts/slideLayout498.xml"/><Relationship Id="rId9" Type="http://schemas.openxmlformats.org/officeDocument/2006/relationships/slideLayout" Target="../slideLayouts/slideLayout499.xml"/><Relationship Id="rId10" Type="http://schemas.openxmlformats.org/officeDocument/2006/relationships/slideLayout" Target="../slideLayouts/slideLayout500.xml"/><Relationship Id="rId11" Type="http://schemas.openxmlformats.org/officeDocument/2006/relationships/slideLayout" Target="../slideLayouts/slideLayout501.xml"/><Relationship Id="rId12" Type="http://schemas.openxmlformats.org/officeDocument/2006/relationships/slideLayout" Target="../slideLayouts/slideLayout502.xml"/><Relationship Id="rId13" Type="http://schemas.openxmlformats.org/officeDocument/2006/relationships/slideLayout" Target="../slideLayouts/slideLayout503.xml"/><Relationship Id="rId14" Type="http://schemas.openxmlformats.org/officeDocument/2006/relationships/slideLayout" Target="../slideLayouts/slideLayout504.xml"/>
</Relationships>
</file>

<file path=ppt/slideMasters/_rels/slideMaster43.xml.rels><?xml version="1.0" encoding="UTF-8"?>
<Relationships xmlns="http://schemas.openxmlformats.org/package/2006/relationships"><Relationship Id="rId1" Type="http://schemas.openxmlformats.org/officeDocument/2006/relationships/theme" Target="../theme/theme43.xml"/><Relationship Id="rId2" Type="http://schemas.openxmlformats.org/officeDocument/2006/relationships/image" Target="../media/image1.png"/><Relationship Id="rId3" Type="http://schemas.openxmlformats.org/officeDocument/2006/relationships/slideLayout" Target="../slideLayouts/slideLayout505.xml"/><Relationship Id="rId4" Type="http://schemas.openxmlformats.org/officeDocument/2006/relationships/slideLayout" Target="../slideLayouts/slideLayout506.xml"/><Relationship Id="rId5" Type="http://schemas.openxmlformats.org/officeDocument/2006/relationships/slideLayout" Target="../slideLayouts/slideLayout507.xml"/><Relationship Id="rId6" Type="http://schemas.openxmlformats.org/officeDocument/2006/relationships/slideLayout" Target="../slideLayouts/slideLayout508.xml"/><Relationship Id="rId7" Type="http://schemas.openxmlformats.org/officeDocument/2006/relationships/slideLayout" Target="../slideLayouts/slideLayout509.xml"/><Relationship Id="rId8" Type="http://schemas.openxmlformats.org/officeDocument/2006/relationships/slideLayout" Target="../slideLayouts/slideLayout510.xml"/><Relationship Id="rId9" Type="http://schemas.openxmlformats.org/officeDocument/2006/relationships/slideLayout" Target="../slideLayouts/slideLayout511.xml"/><Relationship Id="rId10" Type="http://schemas.openxmlformats.org/officeDocument/2006/relationships/slideLayout" Target="../slideLayouts/slideLayout512.xml"/><Relationship Id="rId11" Type="http://schemas.openxmlformats.org/officeDocument/2006/relationships/slideLayout" Target="../slideLayouts/slideLayout513.xml"/><Relationship Id="rId12" Type="http://schemas.openxmlformats.org/officeDocument/2006/relationships/slideLayout" Target="../slideLayouts/slideLayout514.xml"/><Relationship Id="rId13" Type="http://schemas.openxmlformats.org/officeDocument/2006/relationships/slideLayout" Target="../slideLayouts/slideLayout515.xml"/><Relationship Id="rId14" Type="http://schemas.openxmlformats.org/officeDocument/2006/relationships/slideLayout" Target="../slideLayouts/slideLayout516.xml"/>
</Relationships>
</file>

<file path=ppt/slideMasters/_rels/slideMaster44.xml.rels><?xml version="1.0" encoding="UTF-8"?>
<Relationships xmlns="http://schemas.openxmlformats.org/package/2006/relationships"><Relationship Id="rId1" Type="http://schemas.openxmlformats.org/officeDocument/2006/relationships/theme" Target="../theme/theme44.xml"/><Relationship Id="rId2" Type="http://schemas.openxmlformats.org/officeDocument/2006/relationships/image" Target="../media/image1.png"/><Relationship Id="rId3" Type="http://schemas.openxmlformats.org/officeDocument/2006/relationships/slideLayout" Target="../slideLayouts/slideLayout517.xml"/><Relationship Id="rId4" Type="http://schemas.openxmlformats.org/officeDocument/2006/relationships/slideLayout" Target="../slideLayouts/slideLayout518.xml"/><Relationship Id="rId5" Type="http://schemas.openxmlformats.org/officeDocument/2006/relationships/slideLayout" Target="../slideLayouts/slideLayout519.xml"/><Relationship Id="rId6" Type="http://schemas.openxmlformats.org/officeDocument/2006/relationships/slideLayout" Target="../slideLayouts/slideLayout520.xml"/><Relationship Id="rId7" Type="http://schemas.openxmlformats.org/officeDocument/2006/relationships/slideLayout" Target="../slideLayouts/slideLayout521.xml"/><Relationship Id="rId8" Type="http://schemas.openxmlformats.org/officeDocument/2006/relationships/slideLayout" Target="../slideLayouts/slideLayout522.xml"/><Relationship Id="rId9" Type="http://schemas.openxmlformats.org/officeDocument/2006/relationships/slideLayout" Target="../slideLayouts/slideLayout523.xml"/><Relationship Id="rId10" Type="http://schemas.openxmlformats.org/officeDocument/2006/relationships/slideLayout" Target="../slideLayouts/slideLayout524.xml"/><Relationship Id="rId11" Type="http://schemas.openxmlformats.org/officeDocument/2006/relationships/slideLayout" Target="../slideLayouts/slideLayout525.xml"/><Relationship Id="rId12" Type="http://schemas.openxmlformats.org/officeDocument/2006/relationships/slideLayout" Target="../slideLayouts/slideLayout526.xml"/><Relationship Id="rId13" Type="http://schemas.openxmlformats.org/officeDocument/2006/relationships/slideLayout" Target="../slideLayouts/slideLayout527.xml"/><Relationship Id="rId14" Type="http://schemas.openxmlformats.org/officeDocument/2006/relationships/slideLayout" Target="../slideLayouts/slideLayout528.xml"/>
</Relationships>
</file>

<file path=ppt/slideMasters/_rels/slideMaster45.xml.rels><?xml version="1.0" encoding="UTF-8"?>
<Relationships xmlns="http://schemas.openxmlformats.org/package/2006/relationships"><Relationship Id="rId1" Type="http://schemas.openxmlformats.org/officeDocument/2006/relationships/theme" Target="../theme/theme45.xml"/><Relationship Id="rId2" Type="http://schemas.openxmlformats.org/officeDocument/2006/relationships/image" Target="../media/image1.png"/><Relationship Id="rId3" Type="http://schemas.openxmlformats.org/officeDocument/2006/relationships/slideLayout" Target="../slideLayouts/slideLayout529.xml"/><Relationship Id="rId4" Type="http://schemas.openxmlformats.org/officeDocument/2006/relationships/slideLayout" Target="../slideLayouts/slideLayout530.xml"/><Relationship Id="rId5" Type="http://schemas.openxmlformats.org/officeDocument/2006/relationships/slideLayout" Target="../slideLayouts/slideLayout531.xml"/><Relationship Id="rId6" Type="http://schemas.openxmlformats.org/officeDocument/2006/relationships/slideLayout" Target="../slideLayouts/slideLayout532.xml"/><Relationship Id="rId7" Type="http://schemas.openxmlformats.org/officeDocument/2006/relationships/slideLayout" Target="../slideLayouts/slideLayout533.xml"/><Relationship Id="rId8" Type="http://schemas.openxmlformats.org/officeDocument/2006/relationships/slideLayout" Target="../slideLayouts/slideLayout534.xml"/><Relationship Id="rId9" Type="http://schemas.openxmlformats.org/officeDocument/2006/relationships/slideLayout" Target="../slideLayouts/slideLayout535.xml"/><Relationship Id="rId10" Type="http://schemas.openxmlformats.org/officeDocument/2006/relationships/slideLayout" Target="../slideLayouts/slideLayout536.xml"/><Relationship Id="rId11" Type="http://schemas.openxmlformats.org/officeDocument/2006/relationships/slideLayout" Target="../slideLayouts/slideLayout537.xml"/><Relationship Id="rId12" Type="http://schemas.openxmlformats.org/officeDocument/2006/relationships/slideLayout" Target="../slideLayouts/slideLayout538.xml"/><Relationship Id="rId13" Type="http://schemas.openxmlformats.org/officeDocument/2006/relationships/slideLayout" Target="../slideLayouts/slideLayout539.xml"/><Relationship Id="rId14" Type="http://schemas.openxmlformats.org/officeDocument/2006/relationships/slideLayout" Target="../slideLayouts/slideLayout540.xml"/>
</Relationships>
</file>

<file path=ppt/slideMasters/_rels/slideMaster46.xml.rels><?xml version="1.0" encoding="UTF-8"?>
<Relationships xmlns="http://schemas.openxmlformats.org/package/2006/relationships"><Relationship Id="rId1" Type="http://schemas.openxmlformats.org/officeDocument/2006/relationships/theme" Target="../theme/theme46.xml"/><Relationship Id="rId2" Type="http://schemas.openxmlformats.org/officeDocument/2006/relationships/image" Target="../media/image1.png"/><Relationship Id="rId3" Type="http://schemas.openxmlformats.org/officeDocument/2006/relationships/slideLayout" Target="../slideLayouts/slideLayout541.xml"/><Relationship Id="rId4" Type="http://schemas.openxmlformats.org/officeDocument/2006/relationships/slideLayout" Target="../slideLayouts/slideLayout542.xml"/><Relationship Id="rId5" Type="http://schemas.openxmlformats.org/officeDocument/2006/relationships/slideLayout" Target="../slideLayouts/slideLayout543.xml"/><Relationship Id="rId6" Type="http://schemas.openxmlformats.org/officeDocument/2006/relationships/slideLayout" Target="../slideLayouts/slideLayout544.xml"/><Relationship Id="rId7" Type="http://schemas.openxmlformats.org/officeDocument/2006/relationships/slideLayout" Target="../slideLayouts/slideLayout545.xml"/><Relationship Id="rId8" Type="http://schemas.openxmlformats.org/officeDocument/2006/relationships/slideLayout" Target="../slideLayouts/slideLayout546.xml"/><Relationship Id="rId9" Type="http://schemas.openxmlformats.org/officeDocument/2006/relationships/slideLayout" Target="../slideLayouts/slideLayout547.xml"/><Relationship Id="rId10" Type="http://schemas.openxmlformats.org/officeDocument/2006/relationships/slideLayout" Target="../slideLayouts/slideLayout548.xml"/><Relationship Id="rId11" Type="http://schemas.openxmlformats.org/officeDocument/2006/relationships/slideLayout" Target="../slideLayouts/slideLayout549.xml"/><Relationship Id="rId12" Type="http://schemas.openxmlformats.org/officeDocument/2006/relationships/slideLayout" Target="../slideLayouts/slideLayout550.xml"/><Relationship Id="rId13" Type="http://schemas.openxmlformats.org/officeDocument/2006/relationships/slideLayout" Target="../slideLayouts/slideLayout551.xml"/><Relationship Id="rId14" Type="http://schemas.openxmlformats.org/officeDocument/2006/relationships/slideLayout" Target="../slideLayouts/slideLayout552.xml"/>
</Relationships>
</file>

<file path=ppt/slideMasters/_rels/slideMaster47.xml.rels><?xml version="1.0" encoding="UTF-8"?>
<Relationships xmlns="http://schemas.openxmlformats.org/package/2006/relationships"><Relationship Id="rId1" Type="http://schemas.openxmlformats.org/officeDocument/2006/relationships/theme" Target="../theme/theme47.xml"/><Relationship Id="rId2" Type="http://schemas.openxmlformats.org/officeDocument/2006/relationships/image" Target="../media/image1.png"/><Relationship Id="rId3" Type="http://schemas.openxmlformats.org/officeDocument/2006/relationships/slideLayout" Target="../slideLayouts/slideLayout553.xml"/><Relationship Id="rId4" Type="http://schemas.openxmlformats.org/officeDocument/2006/relationships/slideLayout" Target="../slideLayouts/slideLayout554.xml"/><Relationship Id="rId5" Type="http://schemas.openxmlformats.org/officeDocument/2006/relationships/slideLayout" Target="../slideLayouts/slideLayout555.xml"/><Relationship Id="rId6" Type="http://schemas.openxmlformats.org/officeDocument/2006/relationships/slideLayout" Target="../slideLayouts/slideLayout556.xml"/><Relationship Id="rId7" Type="http://schemas.openxmlformats.org/officeDocument/2006/relationships/slideLayout" Target="../slideLayouts/slideLayout557.xml"/><Relationship Id="rId8" Type="http://schemas.openxmlformats.org/officeDocument/2006/relationships/slideLayout" Target="../slideLayouts/slideLayout558.xml"/><Relationship Id="rId9" Type="http://schemas.openxmlformats.org/officeDocument/2006/relationships/slideLayout" Target="../slideLayouts/slideLayout559.xml"/><Relationship Id="rId10" Type="http://schemas.openxmlformats.org/officeDocument/2006/relationships/slideLayout" Target="../slideLayouts/slideLayout560.xml"/><Relationship Id="rId11" Type="http://schemas.openxmlformats.org/officeDocument/2006/relationships/slideLayout" Target="../slideLayouts/slideLayout561.xml"/><Relationship Id="rId12" Type="http://schemas.openxmlformats.org/officeDocument/2006/relationships/slideLayout" Target="../slideLayouts/slideLayout562.xml"/><Relationship Id="rId13" Type="http://schemas.openxmlformats.org/officeDocument/2006/relationships/slideLayout" Target="../slideLayouts/slideLayout563.xml"/><Relationship Id="rId14" Type="http://schemas.openxmlformats.org/officeDocument/2006/relationships/slideLayout" Target="../slideLayouts/slideLayout564.xml"/>
</Relationships>
</file>

<file path=ppt/slideMasters/_rels/slideMaster48.xml.rels><?xml version="1.0" encoding="UTF-8"?>
<Relationships xmlns="http://schemas.openxmlformats.org/package/2006/relationships"><Relationship Id="rId1" Type="http://schemas.openxmlformats.org/officeDocument/2006/relationships/theme" Target="../theme/theme48.xml"/><Relationship Id="rId2" Type="http://schemas.openxmlformats.org/officeDocument/2006/relationships/image" Target="../media/image1.png"/><Relationship Id="rId3" Type="http://schemas.openxmlformats.org/officeDocument/2006/relationships/slideLayout" Target="../slideLayouts/slideLayout565.xml"/><Relationship Id="rId4" Type="http://schemas.openxmlformats.org/officeDocument/2006/relationships/slideLayout" Target="../slideLayouts/slideLayout566.xml"/><Relationship Id="rId5" Type="http://schemas.openxmlformats.org/officeDocument/2006/relationships/slideLayout" Target="../slideLayouts/slideLayout567.xml"/><Relationship Id="rId6" Type="http://schemas.openxmlformats.org/officeDocument/2006/relationships/slideLayout" Target="../slideLayouts/slideLayout568.xml"/><Relationship Id="rId7" Type="http://schemas.openxmlformats.org/officeDocument/2006/relationships/slideLayout" Target="../slideLayouts/slideLayout569.xml"/><Relationship Id="rId8" Type="http://schemas.openxmlformats.org/officeDocument/2006/relationships/slideLayout" Target="../slideLayouts/slideLayout570.xml"/><Relationship Id="rId9" Type="http://schemas.openxmlformats.org/officeDocument/2006/relationships/slideLayout" Target="../slideLayouts/slideLayout571.xml"/><Relationship Id="rId10" Type="http://schemas.openxmlformats.org/officeDocument/2006/relationships/slideLayout" Target="../slideLayouts/slideLayout572.xml"/><Relationship Id="rId11" Type="http://schemas.openxmlformats.org/officeDocument/2006/relationships/slideLayout" Target="../slideLayouts/slideLayout573.xml"/><Relationship Id="rId12" Type="http://schemas.openxmlformats.org/officeDocument/2006/relationships/slideLayout" Target="../slideLayouts/slideLayout574.xml"/><Relationship Id="rId13" Type="http://schemas.openxmlformats.org/officeDocument/2006/relationships/slideLayout" Target="../slideLayouts/slideLayout575.xml"/><Relationship Id="rId14" Type="http://schemas.openxmlformats.org/officeDocument/2006/relationships/slideLayout" Target="../slideLayouts/slideLayout576.xml"/>
</Relationships>
</file>

<file path=ppt/slideMasters/_rels/slideMaster49.xml.rels><?xml version="1.0" encoding="UTF-8"?>
<Relationships xmlns="http://schemas.openxmlformats.org/package/2006/relationships"><Relationship Id="rId1" Type="http://schemas.openxmlformats.org/officeDocument/2006/relationships/theme" Target="../theme/theme49.xml"/><Relationship Id="rId2" Type="http://schemas.openxmlformats.org/officeDocument/2006/relationships/image" Target="../media/image1.png"/><Relationship Id="rId3" Type="http://schemas.openxmlformats.org/officeDocument/2006/relationships/slideLayout" Target="../slideLayouts/slideLayout577.xml"/><Relationship Id="rId4" Type="http://schemas.openxmlformats.org/officeDocument/2006/relationships/slideLayout" Target="../slideLayouts/slideLayout578.xml"/><Relationship Id="rId5" Type="http://schemas.openxmlformats.org/officeDocument/2006/relationships/slideLayout" Target="../slideLayouts/slideLayout579.xml"/><Relationship Id="rId6" Type="http://schemas.openxmlformats.org/officeDocument/2006/relationships/slideLayout" Target="../slideLayouts/slideLayout580.xml"/><Relationship Id="rId7" Type="http://schemas.openxmlformats.org/officeDocument/2006/relationships/slideLayout" Target="../slideLayouts/slideLayout581.xml"/><Relationship Id="rId8" Type="http://schemas.openxmlformats.org/officeDocument/2006/relationships/slideLayout" Target="../slideLayouts/slideLayout582.xml"/><Relationship Id="rId9" Type="http://schemas.openxmlformats.org/officeDocument/2006/relationships/slideLayout" Target="../slideLayouts/slideLayout583.xml"/><Relationship Id="rId10" Type="http://schemas.openxmlformats.org/officeDocument/2006/relationships/slideLayout" Target="../slideLayouts/slideLayout584.xml"/><Relationship Id="rId11" Type="http://schemas.openxmlformats.org/officeDocument/2006/relationships/slideLayout" Target="../slideLayouts/slideLayout585.xml"/><Relationship Id="rId12" Type="http://schemas.openxmlformats.org/officeDocument/2006/relationships/slideLayout" Target="../slideLayouts/slideLayout586.xml"/><Relationship Id="rId13" Type="http://schemas.openxmlformats.org/officeDocument/2006/relationships/slideLayout" Target="../slideLayouts/slideLayout587.xml"/><Relationship Id="rId14" Type="http://schemas.openxmlformats.org/officeDocument/2006/relationships/slideLayout" Target="../slideLayouts/slideLayout58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50.xml.rels><?xml version="1.0" encoding="UTF-8"?>
<Relationships xmlns="http://schemas.openxmlformats.org/package/2006/relationships"><Relationship Id="rId1" Type="http://schemas.openxmlformats.org/officeDocument/2006/relationships/theme" Target="../theme/theme50.xml"/><Relationship Id="rId2" Type="http://schemas.openxmlformats.org/officeDocument/2006/relationships/image" Target="../media/image1.png"/><Relationship Id="rId3" Type="http://schemas.openxmlformats.org/officeDocument/2006/relationships/slideLayout" Target="../slideLayouts/slideLayout589.xml"/><Relationship Id="rId4" Type="http://schemas.openxmlformats.org/officeDocument/2006/relationships/slideLayout" Target="../slideLayouts/slideLayout590.xml"/><Relationship Id="rId5" Type="http://schemas.openxmlformats.org/officeDocument/2006/relationships/slideLayout" Target="../slideLayouts/slideLayout591.xml"/><Relationship Id="rId6" Type="http://schemas.openxmlformats.org/officeDocument/2006/relationships/slideLayout" Target="../slideLayouts/slideLayout592.xml"/><Relationship Id="rId7" Type="http://schemas.openxmlformats.org/officeDocument/2006/relationships/slideLayout" Target="../slideLayouts/slideLayout593.xml"/><Relationship Id="rId8" Type="http://schemas.openxmlformats.org/officeDocument/2006/relationships/slideLayout" Target="../slideLayouts/slideLayout594.xml"/><Relationship Id="rId9" Type="http://schemas.openxmlformats.org/officeDocument/2006/relationships/slideLayout" Target="../slideLayouts/slideLayout595.xml"/><Relationship Id="rId10" Type="http://schemas.openxmlformats.org/officeDocument/2006/relationships/slideLayout" Target="../slideLayouts/slideLayout596.xml"/><Relationship Id="rId11" Type="http://schemas.openxmlformats.org/officeDocument/2006/relationships/slideLayout" Target="../slideLayouts/slideLayout597.xml"/><Relationship Id="rId12" Type="http://schemas.openxmlformats.org/officeDocument/2006/relationships/slideLayout" Target="../slideLayouts/slideLayout598.xml"/><Relationship Id="rId13" Type="http://schemas.openxmlformats.org/officeDocument/2006/relationships/slideLayout" Target="../slideLayouts/slideLayout599.xml"/><Relationship Id="rId14" Type="http://schemas.openxmlformats.org/officeDocument/2006/relationships/slideLayout" Target="../slideLayouts/slideLayout600.xml"/>
</Relationships>
</file>

<file path=ppt/slideMasters/_rels/slideMaster51.xml.rels><?xml version="1.0" encoding="UTF-8"?>
<Relationships xmlns="http://schemas.openxmlformats.org/package/2006/relationships"><Relationship Id="rId1" Type="http://schemas.openxmlformats.org/officeDocument/2006/relationships/theme" Target="../theme/theme51.xml"/><Relationship Id="rId2" Type="http://schemas.openxmlformats.org/officeDocument/2006/relationships/image" Target="../media/image1.png"/><Relationship Id="rId3" Type="http://schemas.openxmlformats.org/officeDocument/2006/relationships/slideLayout" Target="../slideLayouts/slideLayout601.xml"/><Relationship Id="rId4" Type="http://schemas.openxmlformats.org/officeDocument/2006/relationships/slideLayout" Target="../slideLayouts/slideLayout602.xml"/><Relationship Id="rId5" Type="http://schemas.openxmlformats.org/officeDocument/2006/relationships/slideLayout" Target="../slideLayouts/slideLayout603.xml"/><Relationship Id="rId6" Type="http://schemas.openxmlformats.org/officeDocument/2006/relationships/slideLayout" Target="../slideLayouts/slideLayout604.xml"/><Relationship Id="rId7" Type="http://schemas.openxmlformats.org/officeDocument/2006/relationships/slideLayout" Target="../slideLayouts/slideLayout605.xml"/><Relationship Id="rId8" Type="http://schemas.openxmlformats.org/officeDocument/2006/relationships/slideLayout" Target="../slideLayouts/slideLayout606.xml"/><Relationship Id="rId9" Type="http://schemas.openxmlformats.org/officeDocument/2006/relationships/slideLayout" Target="../slideLayouts/slideLayout607.xml"/><Relationship Id="rId10" Type="http://schemas.openxmlformats.org/officeDocument/2006/relationships/slideLayout" Target="../slideLayouts/slideLayout608.xml"/><Relationship Id="rId11" Type="http://schemas.openxmlformats.org/officeDocument/2006/relationships/slideLayout" Target="../slideLayouts/slideLayout609.xml"/><Relationship Id="rId12" Type="http://schemas.openxmlformats.org/officeDocument/2006/relationships/slideLayout" Target="../slideLayouts/slideLayout610.xml"/><Relationship Id="rId13" Type="http://schemas.openxmlformats.org/officeDocument/2006/relationships/slideLayout" Target="../slideLayouts/slideLayout611.xml"/><Relationship Id="rId14" Type="http://schemas.openxmlformats.org/officeDocument/2006/relationships/slideLayout" Target="../slideLayouts/slideLayout612.xml"/>
</Relationships>
</file>

<file path=ppt/slideMasters/_rels/slideMaster52.xml.rels><?xml version="1.0" encoding="UTF-8"?>
<Relationships xmlns="http://schemas.openxmlformats.org/package/2006/relationships"><Relationship Id="rId1" Type="http://schemas.openxmlformats.org/officeDocument/2006/relationships/theme" Target="../theme/theme52.xml"/><Relationship Id="rId2" Type="http://schemas.openxmlformats.org/officeDocument/2006/relationships/image" Target="../media/image1.png"/><Relationship Id="rId3" Type="http://schemas.openxmlformats.org/officeDocument/2006/relationships/slideLayout" Target="../slideLayouts/slideLayout613.xml"/><Relationship Id="rId4" Type="http://schemas.openxmlformats.org/officeDocument/2006/relationships/slideLayout" Target="../slideLayouts/slideLayout614.xml"/><Relationship Id="rId5" Type="http://schemas.openxmlformats.org/officeDocument/2006/relationships/slideLayout" Target="../slideLayouts/slideLayout615.xml"/><Relationship Id="rId6" Type="http://schemas.openxmlformats.org/officeDocument/2006/relationships/slideLayout" Target="../slideLayouts/slideLayout616.xml"/><Relationship Id="rId7" Type="http://schemas.openxmlformats.org/officeDocument/2006/relationships/slideLayout" Target="../slideLayouts/slideLayout617.xml"/><Relationship Id="rId8" Type="http://schemas.openxmlformats.org/officeDocument/2006/relationships/slideLayout" Target="../slideLayouts/slideLayout618.xml"/><Relationship Id="rId9" Type="http://schemas.openxmlformats.org/officeDocument/2006/relationships/slideLayout" Target="../slideLayouts/slideLayout619.xml"/><Relationship Id="rId10" Type="http://schemas.openxmlformats.org/officeDocument/2006/relationships/slideLayout" Target="../slideLayouts/slideLayout620.xml"/><Relationship Id="rId11" Type="http://schemas.openxmlformats.org/officeDocument/2006/relationships/slideLayout" Target="../slideLayouts/slideLayout621.xml"/><Relationship Id="rId12" Type="http://schemas.openxmlformats.org/officeDocument/2006/relationships/slideLayout" Target="../slideLayouts/slideLayout622.xml"/><Relationship Id="rId13" Type="http://schemas.openxmlformats.org/officeDocument/2006/relationships/slideLayout" Target="../slideLayouts/slideLayout623.xml"/><Relationship Id="rId14" Type="http://schemas.openxmlformats.org/officeDocument/2006/relationships/slideLayout" Target="../slideLayouts/slideLayout624.xml"/>
</Relationships>
</file>

<file path=ppt/slideMasters/_rels/slideMaster53.xml.rels><?xml version="1.0" encoding="UTF-8"?>
<Relationships xmlns="http://schemas.openxmlformats.org/package/2006/relationships"><Relationship Id="rId1" Type="http://schemas.openxmlformats.org/officeDocument/2006/relationships/theme" Target="../theme/theme53.xml"/><Relationship Id="rId2" Type="http://schemas.openxmlformats.org/officeDocument/2006/relationships/image" Target="../media/image1.png"/><Relationship Id="rId3" Type="http://schemas.openxmlformats.org/officeDocument/2006/relationships/slideLayout" Target="../slideLayouts/slideLayout625.xml"/><Relationship Id="rId4" Type="http://schemas.openxmlformats.org/officeDocument/2006/relationships/slideLayout" Target="../slideLayouts/slideLayout626.xml"/><Relationship Id="rId5" Type="http://schemas.openxmlformats.org/officeDocument/2006/relationships/slideLayout" Target="../slideLayouts/slideLayout627.xml"/><Relationship Id="rId6" Type="http://schemas.openxmlformats.org/officeDocument/2006/relationships/slideLayout" Target="../slideLayouts/slideLayout628.xml"/><Relationship Id="rId7" Type="http://schemas.openxmlformats.org/officeDocument/2006/relationships/slideLayout" Target="../slideLayouts/slideLayout629.xml"/><Relationship Id="rId8" Type="http://schemas.openxmlformats.org/officeDocument/2006/relationships/slideLayout" Target="../slideLayouts/slideLayout630.xml"/><Relationship Id="rId9" Type="http://schemas.openxmlformats.org/officeDocument/2006/relationships/slideLayout" Target="../slideLayouts/slideLayout631.xml"/><Relationship Id="rId10" Type="http://schemas.openxmlformats.org/officeDocument/2006/relationships/slideLayout" Target="../slideLayouts/slideLayout632.xml"/><Relationship Id="rId11" Type="http://schemas.openxmlformats.org/officeDocument/2006/relationships/slideLayout" Target="../slideLayouts/slideLayout633.xml"/><Relationship Id="rId12" Type="http://schemas.openxmlformats.org/officeDocument/2006/relationships/slideLayout" Target="../slideLayouts/slideLayout634.xml"/><Relationship Id="rId13" Type="http://schemas.openxmlformats.org/officeDocument/2006/relationships/slideLayout" Target="../slideLayouts/slideLayout635.xml"/><Relationship Id="rId14" Type="http://schemas.openxmlformats.org/officeDocument/2006/relationships/slideLayout" Target="../slideLayouts/slideLayout636.xml"/>
</Relationships>
</file>

<file path=ppt/slideMasters/_rels/slideMaster54.xml.rels><?xml version="1.0" encoding="UTF-8"?>
<Relationships xmlns="http://schemas.openxmlformats.org/package/2006/relationships"><Relationship Id="rId1" Type="http://schemas.openxmlformats.org/officeDocument/2006/relationships/theme" Target="../theme/theme54.xml"/><Relationship Id="rId2" Type="http://schemas.openxmlformats.org/officeDocument/2006/relationships/image" Target="../media/image1.png"/><Relationship Id="rId3" Type="http://schemas.openxmlformats.org/officeDocument/2006/relationships/slideLayout" Target="../slideLayouts/slideLayout637.xml"/><Relationship Id="rId4" Type="http://schemas.openxmlformats.org/officeDocument/2006/relationships/slideLayout" Target="../slideLayouts/slideLayout638.xml"/><Relationship Id="rId5" Type="http://schemas.openxmlformats.org/officeDocument/2006/relationships/slideLayout" Target="../slideLayouts/slideLayout639.xml"/><Relationship Id="rId6" Type="http://schemas.openxmlformats.org/officeDocument/2006/relationships/slideLayout" Target="../slideLayouts/slideLayout640.xml"/><Relationship Id="rId7" Type="http://schemas.openxmlformats.org/officeDocument/2006/relationships/slideLayout" Target="../slideLayouts/slideLayout641.xml"/><Relationship Id="rId8" Type="http://schemas.openxmlformats.org/officeDocument/2006/relationships/slideLayout" Target="../slideLayouts/slideLayout642.xml"/><Relationship Id="rId9" Type="http://schemas.openxmlformats.org/officeDocument/2006/relationships/slideLayout" Target="../slideLayouts/slideLayout643.xml"/><Relationship Id="rId10" Type="http://schemas.openxmlformats.org/officeDocument/2006/relationships/slideLayout" Target="../slideLayouts/slideLayout644.xml"/><Relationship Id="rId11" Type="http://schemas.openxmlformats.org/officeDocument/2006/relationships/slideLayout" Target="../slideLayouts/slideLayout645.xml"/><Relationship Id="rId12" Type="http://schemas.openxmlformats.org/officeDocument/2006/relationships/slideLayout" Target="../slideLayouts/slideLayout646.xml"/><Relationship Id="rId13" Type="http://schemas.openxmlformats.org/officeDocument/2006/relationships/slideLayout" Target="../slideLayouts/slideLayout647.xml"/><Relationship Id="rId14" Type="http://schemas.openxmlformats.org/officeDocument/2006/relationships/slideLayout" Target="../slideLayouts/slideLayout648.xml"/>
</Relationships>
</file>

<file path=ppt/slideMasters/_rels/slideMaster55.xml.rels><?xml version="1.0" encoding="UTF-8"?>
<Relationships xmlns="http://schemas.openxmlformats.org/package/2006/relationships"><Relationship Id="rId1" Type="http://schemas.openxmlformats.org/officeDocument/2006/relationships/theme" Target="../theme/theme55.xml"/><Relationship Id="rId2" Type="http://schemas.openxmlformats.org/officeDocument/2006/relationships/image" Target="../media/image1.png"/><Relationship Id="rId3" Type="http://schemas.openxmlformats.org/officeDocument/2006/relationships/slideLayout" Target="../slideLayouts/slideLayout649.xml"/><Relationship Id="rId4" Type="http://schemas.openxmlformats.org/officeDocument/2006/relationships/slideLayout" Target="../slideLayouts/slideLayout650.xml"/><Relationship Id="rId5" Type="http://schemas.openxmlformats.org/officeDocument/2006/relationships/slideLayout" Target="../slideLayouts/slideLayout651.xml"/><Relationship Id="rId6" Type="http://schemas.openxmlformats.org/officeDocument/2006/relationships/slideLayout" Target="../slideLayouts/slideLayout652.xml"/><Relationship Id="rId7" Type="http://schemas.openxmlformats.org/officeDocument/2006/relationships/slideLayout" Target="../slideLayouts/slideLayout653.xml"/><Relationship Id="rId8" Type="http://schemas.openxmlformats.org/officeDocument/2006/relationships/slideLayout" Target="../slideLayouts/slideLayout654.xml"/><Relationship Id="rId9" Type="http://schemas.openxmlformats.org/officeDocument/2006/relationships/slideLayout" Target="../slideLayouts/slideLayout655.xml"/><Relationship Id="rId10" Type="http://schemas.openxmlformats.org/officeDocument/2006/relationships/slideLayout" Target="../slideLayouts/slideLayout656.xml"/><Relationship Id="rId11" Type="http://schemas.openxmlformats.org/officeDocument/2006/relationships/slideLayout" Target="../slideLayouts/slideLayout657.xml"/><Relationship Id="rId12" Type="http://schemas.openxmlformats.org/officeDocument/2006/relationships/slideLayout" Target="../slideLayouts/slideLayout658.xml"/><Relationship Id="rId13" Type="http://schemas.openxmlformats.org/officeDocument/2006/relationships/slideLayout" Target="../slideLayouts/slideLayout659.xml"/><Relationship Id="rId14" Type="http://schemas.openxmlformats.org/officeDocument/2006/relationships/slideLayout" Target="../slideLayouts/slideLayout660.xml"/>
</Relationships>
</file>

<file path=ppt/slideMasters/_rels/slideMaster56.xml.rels><?xml version="1.0" encoding="UTF-8"?>
<Relationships xmlns="http://schemas.openxmlformats.org/package/2006/relationships"><Relationship Id="rId1" Type="http://schemas.openxmlformats.org/officeDocument/2006/relationships/theme" Target="../theme/theme56.xml"/><Relationship Id="rId2" Type="http://schemas.openxmlformats.org/officeDocument/2006/relationships/image" Target="../media/image1.png"/><Relationship Id="rId3" Type="http://schemas.openxmlformats.org/officeDocument/2006/relationships/slideLayout" Target="../slideLayouts/slideLayout661.xml"/><Relationship Id="rId4" Type="http://schemas.openxmlformats.org/officeDocument/2006/relationships/slideLayout" Target="../slideLayouts/slideLayout662.xml"/><Relationship Id="rId5" Type="http://schemas.openxmlformats.org/officeDocument/2006/relationships/slideLayout" Target="../slideLayouts/slideLayout663.xml"/><Relationship Id="rId6" Type="http://schemas.openxmlformats.org/officeDocument/2006/relationships/slideLayout" Target="../slideLayouts/slideLayout664.xml"/><Relationship Id="rId7" Type="http://schemas.openxmlformats.org/officeDocument/2006/relationships/slideLayout" Target="../slideLayouts/slideLayout665.xml"/><Relationship Id="rId8" Type="http://schemas.openxmlformats.org/officeDocument/2006/relationships/slideLayout" Target="../slideLayouts/slideLayout666.xml"/><Relationship Id="rId9" Type="http://schemas.openxmlformats.org/officeDocument/2006/relationships/slideLayout" Target="../slideLayouts/slideLayout667.xml"/><Relationship Id="rId10" Type="http://schemas.openxmlformats.org/officeDocument/2006/relationships/slideLayout" Target="../slideLayouts/slideLayout668.xml"/><Relationship Id="rId11" Type="http://schemas.openxmlformats.org/officeDocument/2006/relationships/slideLayout" Target="../slideLayouts/slideLayout669.xml"/><Relationship Id="rId12" Type="http://schemas.openxmlformats.org/officeDocument/2006/relationships/slideLayout" Target="../slideLayouts/slideLayout670.xml"/><Relationship Id="rId13" Type="http://schemas.openxmlformats.org/officeDocument/2006/relationships/slideLayout" Target="../slideLayouts/slideLayout671.xml"/><Relationship Id="rId14" Type="http://schemas.openxmlformats.org/officeDocument/2006/relationships/slideLayout" Target="../slideLayouts/slideLayout672.xml"/>
</Relationships>
</file>

<file path=ppt/slideMasters/_rels/slideMaster57.xml.rels><?xml version="1.0" encoding="UTF-8"?>
<Relationships xmlns="http://schemas.openxmlformats.org/package/2006/relationships"><Relationship Id="rId1" Type="http://schemas.openxmlformats.org/officeDocument/2006/relationships/theme" Target="../theme/theme57.xml"/><Relationship Id="rId2" Type="http://schemas.openxmlformats.org/officeDocument/2006/relationships/image" Target="../media/image1.png"/><Relationship Id="rId3" Type="http://schemas.openxmlformats.org/officeDocument/2006/relationships/slideLayout" Target="../slideLayouts/slideLayout673.xml"/><Relationship Id="rId4" Type="http://schemas.openxmlformats.org/officeDocument/2006/relationships/slideLayout" Target="../slideLayouts/slideLayout674.xml"/><Relationship Id="rId5" Type="http://schemas.openxmlformats.org/officeDocument/2006/relationships/slideLayout" Target="../slideLayouts/slideLayout675.xml"/><Relationship Id="rId6" Type="http://schemas.openxmlformats.org/officeDocument/2006/relationships/slideLayout" Target="../slideLayouts/slideLayout676.xml"/><Relationship Id="rId7" Type="http://schemas.openxmlformats.org/officeDocument/2006/relationships/slideLayout" Target="../slideLayouts/slideLayout677.xml"/><Relationship Id="rId8" Type="http://schemas.openxmlformats.org/officeDocument/2006/relationships/slideLayout" Target="../slideLayouts/slideLayout678.xml"/><Relationship Id="rId9" Type="http://schemas.openxmlformats.org/officeDocument/2006/relationships/slideLayout" Target="../slideLayouts/slideLayout679.xml"/><Relationship Id="rId10" Type="http://schemas.openxmlformats.org/officeDocument/2006/relationships/slideLayout" Target="../slideLayouts/slideLayout680.xml"/><Relationship Id="rId11" Type="http://schemas.openxmlformats.org/officeDocument/2006/relationships/slideLayout" Target="../slideLayouts/slideLayout681.xml"/><Relationship Id="rId12" Type="http://schemas.openxmlformats.org/officeDocument/2006/relationships/slideLayout" Target="../slideLayouts/slideLayout682.xml"/><Relationship Id="rId13" Type="http://schemas.openxmlformats.org/officeDocument/2006/relationships/slideLayout" Target="../slideLayouts/slideLayout683.xml"/><Relationship Id="rId14" Type="http://schemas.openxmlformats.org/officeDocument/2006/relationships/slideLayout" Target="../slideLayouts/slideLayout684.xml"/>
</Relationships>
</file>

<file path=ppt/slideMasters/_rels/slideMaster58.xml.rels><?xml version="1.0" encoding="UTF-8"?>
<Relationships xmlns="http://schemas.openxmlformats.org/package/2006/relationships"><Relationship Id="rId1" Type="http://schemas.openxmlformats.org/officeDocument/2006/relationships/theme" Target="../theme/theme58.xml"/><Relationship Id="rId2" Type="http://schemas.openxmlformats.org/officeDocument/2006/relationships/image" Target="../media/image1.png"/><Relationship Id="rId3" Type="http://schemas.openxmlformats.org/officeDocument/2006/relationships/slideLayout" Target="../slideLayouts/slideLayout685.xml"/><Relationship Id="rId4" Type="http://schemas.openxmlformats.org/officeDocument/2006/relationships/slideLayout" Target="../slideLayouts/slideLayout686.xml"/><Relationship Id="rId5" Type="http://schemas.openxmlformats.org/officeDocument/2006/relationships/slideLayout" Target="../slideLayouts/slideLayout687.xml"/><Relationship Id="rId6" Type="http://schemas.openxmlformats.org/officeDocument/2006/relationships/slideLayout" Target="../slideLayouts/slideLayout688.xml"/><Relationship Id="rId7" Type="http://schemas.openxmlformats.org/officeDocument/2006/relationships/slideLayout" Target="../slideLayouts/slideLayout689.xml"/><Relationship Id="rId8" Type="http://schemas.openxmlformats.org/officeDocument/2006/relationships/slideLayout" Target="../slideLayouts/slideLayout690.xml"/><Relationship Id="rId9" Type="http://schemas.openxmlformats.org/officeDocument/2006/relationships/slideLayout" Target="../slideLayouts/slideLayout691.xml"/><Relationship Id="rId10" Type="http://schemas.openxmlformats.org/officeDocument/2006/relationships/slideLayout" Target="../slideLayouts/slideLayout692.xml"/><Relationship Id="rId11" Type="http://schemas.openxmlformats.org/officeDocument/2006/relationships/slideLayout" Target="../slideLayouts/slideLayout693.xml"/><Relationship Id="rId12" Type="http://schemas.openxmlformats.org/officeDocument/2006/relationships/slideLayout" Target="../slideLayouts/slideLayout694.xml"/><Relationship Id="rId13" Type="http://schemas.openxmlformats.org/officeDocument/2006/relationships/slideLayout" Target="../slideLayouts/slideLayout695.xml"/><Relationship Id="rId14" Type="http://schemas.openxmlformats.org/officeDocument/2006/relationships/slideLayout" Target="../slideLayouts/slideLayout696.xml"/>
</Relationships>
</file>

<file path=ppt/slideMasters/_rels/slideMaster59.xml.rels><?xml version="1.0" encoding="UTF-8"?>
<Relationships xmlns="http://schemas.openxmlformats.org/package/2006/relationships"><Relationship Id="rId1" Type="http://schemas.openxmlformats.org/officeDocument/2006/relationships/theme" Target="../theme/theme59.xml"/><Relationship Id="rId2" Type="http://schemas.openxmlformats.org/officeDocument/2006/relationships/image" Target="../media/image1.png"/><Relationship Id="rId3" Type="http://schemas.openxmlformats.org/officeDocument/2006/relationships/slideLayout" Target="../slideLayouts/slideLayout697.xml"/><Relationship Id="rId4" Type="http://schemas.openxmlformats.org/officeDocument/2006/relationships/slideLayout" Target="../slideLayouts/slideLayout698.xml"/><Relationship Id="rId5" Type="http://schemas.openxmlformats.org/officeDocument/2006/relationships/slideLayout" Target="../slideLayouts/slideLayout699.xml"/><Relationship Id="rId6" Type="http://schemas.openxmlformats.org/officeDocument/2006/relationships/slideLayout" Target="../slideLayouts/slideLayout700.xml"/><Relationship Id="rId7" Type="http://schemas.openxmlformats.org/officeDocument/2006/relationships/slideLayout" Target="../slideLayouts/slideLayout701.xml"/><Relationship Id="rId8" Type="http://schemas.openxmlformats.org/officeDocument/2006/relationships/slideLayout" Target="../slideLayouts/slideLayout702.xml"/><Relationship Id="rId9" Type="http://schemas.openxmlformats.org/officeDocument/2006/relationships/slideLayout" Target="../slideLayouts/slideLayout703.xml"/><Relationship Id="rId10" Type="http://schemas.openxmlformats.org/officeDocument/2006/relationships/slideLayout" Target="../slideLayouts/slideLayout704.xml"/><Relationship Id="rId11" Type="http://schemas.openxmlformats.org/officeDocument/2006/relationships/slideLayout" Target="../slideLayouts/slideLayout705.xml"/><Relationship Id="rId12" Type="http://schemas.openxmlformats.org/officeDocument/2006/relationships/slideLayout" Target="../slideLayouts/slideLayout706.xml"/><Relationship Id="rId13" Type="http://schemas.openxmlformats.org/officeDocument/2006/relationships/slideLayout" Target="../slideLayouts/slideLayout707.xml"/><Relationship Id="rId14" Type="http://schemas.openxmlformats.org/officeDocument/2006/relationships/slideLayout" Target="../slideLayouts/slideLayout708.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60.xml.rels><?xml version="1.0" encoding="UTF-8"?>
<Relationships xmlns="http://schemas.openxmlformats.org/package/2006/relationships"><Relationship Id="rId1" Type="http://schemas.openxmlformats.org/officeDocument/2006/relationships/theme" Target="../theme/theme60.xml"/><Relationship Id="rId2" Type="http://schemas.openxmlformats.org/officeDocument/2006/relationships/image" Target="../media/image1.png"/><Relationship Id="rId3" Type="http://schemas.openxmlformats.org/officeDocument/2006/relationships/slideLayout" Target="../slideLayouts/slideLayout709.xml"/><Relationship Id="rId4" Type="http://schemas.openxmlformats.org/officeDocument/2006/relationships/slideLayout" Target="../slideLayouts/slideLayout710.xml"/><Relationship Id="rId5" Type="http://schemas.openxmlformats.org/officeDocument/2006/relationships/slideLayout" Target="../slideLayouts/slideLayout711.xml"/><Relationship Id="rId6" Type="http://schemas.openxmlformats.org/officeDocument/2006/relationships/slideLayout" Target="../slideLayouts/slideLayout712.xml"/><Relationship Id="rId7" Type="http://schemas.openxmlformats.org/officeDocument/2006/relationships/slideLayout" Target="../slideLayouts/slideLayout713.xml"/><Relationship Id="rId8" Type="http://schemas.openxmlformats.org/officeDocument/2006/relationships/slideLayout" Target="../slideLayouts/slideLayout714.xml"/><Relationship Id="rId9" Type="http://schemas.openxmlformats.org/officeDocument/2006/relationships/slideLayout" Target="../slideLayouts/slideLayout715.xml"/><Relationship Id="rId10" Type="http://schemas.openxmlformats.org/officeDocument/2006/relationships/slideLayout" Target="../slideLayouts/slideLayout716.xml"/><Relationship Id="rId11" Type="http://schemas.openxmlformats.org/officeDocument/2006/relationships/slideLayout" Target="../slideLayouts/slideLayout717.xml"/><Relationship Id="rId12" Type="http://schemas.openxmlformats.org/officeDocument/2006/relationships/slideLayout" Target="../slideLayouts/slideLayout718.xml"/><Relationship Id="rId13" Type="http://schemas.openxmlformats.org/officeDocument/2006/relationships/slideLayout" Target="../slideLayouts/slideLayout719.xml"/><Relationship Id="rId14" Type="http://schemas.openxmlformats.org/officeDocument/2006/relationships/slideLayout" Target="../slideLayouts/slideLayout720.xml"/>
</Relationships>
</file>

<file path=ppt/slideMasters/_rels/slideMaster61.xml.rels><?xml version="1.0" encoding="UTF-8"?>
<Relationships xmlns="http://schemas.openxmlformats.org/package/2006/relationships"><Relationship Id="rId1" Type="http://schemas.openxmlformats.org/officeDocument/2006/relationships/theme" Target="../theme/theme61.xml"/><Relationship Id="rId2" Type="http://schemas.openxmlformats.org/officeDocument/2006/relationships/image" Target="../media/image1.png"/><Relationship Id="rId3" Type="http://schemas.openxmlformats.org/officeDocument/2006/relationships/slideLayout" Target="../slideLayouts/slideLayout721.xml"/><Relationship Id="rId4" Type="http://schemas.openxmlformats.org/officeDocument/2006/relationships/slideLayout" Target="../slideLayouts/slideLayout722.xml"/><Relationship Id="rId5" Type="http://schemas.openxmlformats.org/officeDocument/2006/relationships/slideLayout" Target="../slideLayouts/slideLayout723.xml"/><Relationship Id="rId6" Type="http://schemas.openxmlformats.org/officeDocument/2006/relationships/slideLayout" Target="../slideLayouts/slideLayout724.xml"/><Relationship Id="rId7" Type="http://schemas.openxmlformats.org/officeDocument/2006/relationships/slideLayout" Target="../slideLayouts/slideLayout725.xml"/><Relationship Id="rId8" Type="http://schemas.openxmlformats.org/officeDocument/2006/relationships/slideLayout" Target="../slideLayouts/slideLayout726.xml"/><Relationship Id="rId9" Type="http://schemas.openxmlformats.org/officeDocument/2006/relationships/slideLayout" Target="../slideLayouts/slideLayout727.xml"/><Relationship Id="rId10" Type="http://schemas.openxmlformats.org/officeDocument/2006/relationships/slideLayout" Target="../slideLayouts/slideLayout728.xml"/><Relationship Id="rId11" Type="http://schemas.openxmlformats.org/officeDocument/2006/relationships/slideLayout" Target="../slideLayouts/slideLayout729.xml"/><Relationship Id="rId12" Type="http://schemas.openxmlformats.org/officeDocument/2006/relationships/slideLayout" Target="../slideLayouts/slideLayout730.xml"/><Relationship Id="rId13" Type="http://schemas.openxmlformats.org/officeDocument/2006/relationships/slideLayout" Target="../slideLayouts/slideLayout731.xml"/><Relationship Id="rId14" Type="http://schemas.openxmlformats.org/officeDocument/2006/relationships/slideLayout" Target="../slideLayouts/slideLayout732.xml"/>
</Relationships>
</file>

<file path=ppt/slideMasters/_rels/slideMaster62.xml.rels><?xml version="1.0" encoding="UTF-8"?>
<Relationships xmlns="http://schemas.openxmlformats.org/package/2006/relationships"><Relationship Id="rId1" Type="http://schemas.openxmlformats.org/officeDocument/2006/relationships/theme" Target="../theme/theme62.xml"/><Relationship Id="rId2" Type="http://schemas.openxmlformats.org/officeDocument/2006/relationships/image" Target="../media/image1.png"/><Relationship Id="rId3" Type="http://schemas.openxmlformats.org/officeDocument/2006/relationships/slideLayout" Target="../slideLayouts/slideLayout733.xml"/><Relationship Id="rId4" Type="http://schemas.openxmlformats.org/officeDocument/2006/relationships/slideLayout" Target="../slideLayouts/slideLayout734.xml"/><Relationship Id="rId5" Type="http://schemas.openxmlformats.org/officeDocument/2006/relationships/slideLayout" Target="../slideLayouts/slideLayout735.xml"/><Relationship Id="rId6" Type="http://schemas.openxmlformats.org/officeDocument/2006/relationships/slideLayout" Target="../slideLayouts/slideLayout736.xml"/><Relationship Id="rId7" Type="http://schemas.openxmlformats.org/officeDocument/2006/relationships/slideLayout" Target="../slideLayouts/slideLayout737.xml"/><Relationship Id="rId8" Type="http://schemas.openxmlformats.org/officeDocument/2006/relationships/slideLayout" Target="../slideLayouts/slideLayout738.xml"/><Relationship Id="rId9" Type="http://schemas.openxmlformats.org/officeDocument/2006/relationships/slideLayout" Target="../slideLayouts/slideLayout739.xml"/><Relationship Id="rId10" Type="http://schemas.openxmlformats.org/officeDocument/2006/relationships/slideLayout" Target="../slideLayouts/slideLayout740.xml"/><Relationship Id="rId11" Type="http://schemas.openxmlformats.org/officeDocument/2006/relationships/slideLayout" Target="../slideLayouts/slideLayout741.xml"/><Relationship Id="rId12" Type="http://schemas.openxmlformats.org/officeDocument/2006/relationships/slideLayout" Target="../slideLayouts/slideLayout742.xml"/><Relationship Id="rId13" Type="http://schemas.openxmlformats.org/officeDocument/2006/relationships/slideLayout" Target="../slideLayouts/slideLayout743.xml"/><Relationship Id="rId14" Type="http://schemas.openxmlformats.org/officeDocument/2006/relationships/slideLayout" Target="../slideLayouts/slideLayout744.xml"/>
</Relationships>
</file>

<file path=ppt/slideMasters/_rels/slideMaster63.xml.rels><?xml version="1.0" encoding="UTF-8"?>
<Relationships xmlns="http://schemas.openxmlformats.org/package/2006/relationships"><Relationship Id="rId1" Type="http://schemas.openxmlformats.org/officeDocument/2006/relationships/theme" Target="../theme/theme63.xml"/><Relationship Id="rId2" Type="http://schemas.openxmlformats.org/officeDocument/2006/relationships/image" Target="../media/image1.png"/><Relationship Id="rId3" Type="http://schemas.openxmlformats.org/officeDocument/2006/relationships/slideLayout" Target="../slideLayouts/slideLayout745.xml"/><Relationship Id="rId4" Type="http://schemas.openxmlformats.org/officeDocument/2006/relationships/slideLayout" Target="../slideLayouts/slideLayout746.xml"/><Relationship Id="rId5" Type="http://schemas.openxmlformats.org/officeDocument/2006/relationships/slideLayout" Target="../slideLayouts/slideLayout747.xml"/><Relationship Id="rId6" Type="http://schemas.openxmlformats.org/officeDocument/2006/relationships/slideLayout" Target="../slideLayouts/slideLayout748.xml"/><Relationship Id="rId7" Type="http://schemas.openxmlformats.org/officeDocument/2006/relationships/slideLayout" Target="../slideLayouts/slideLayout749.xml"/><Relationship Id="rId8" Type="http://schemas.openxmlformats.org/officeDocument/2006/relationships/slideLayout" Target="../slideLayouts/slideLayout750.xml"/><Relationship Id="rId9" Type="http://schemas.openxmlformats.org/officeDocument/2006/relationships/slideLayout" Target="../slideLayouts/slideLayout751.xml"/><Relationship Id="rId10" Type="http://schemas.openxmlformats.org/officeDocument/2006/relationships/slideLayout" Target="../slideLayouts/slideLayout752.xml"/><Relationship Id="rId11" Type="http://schemas.openxmlformats.org/officeDocument/2006/relationships/slideLayout" Target="../slideLayouts/slideLayout753.xml"/><Relationship Id="rId12" Type="http://schemas.openxmlformats.org/officeDocument/2006/relationships/slideLayout" Target="../slideLayouts/slideLayout754.xml"/><Relationship Id="rId13" Type="http://schemas.openxmlformats.org/officeDocument/2006/relationships/slideLayout" Target="../slideLayouts/slideLayout755.xml"/><Relationship Id="rId14" Type="http://schemas.openxmlformats.org/officeDocument/2006/relationships/slideLayout" Target="../slideLayouts/slideLayout756.xml"/>
</Relationships>
</file>

<file path=ppt/slideMasters/_rels/slideMaster64.xml.rels><?xml version="1.0" encoding="UTF-8"?>
<Relationships xmlns="http://schemas.openxmlformats.org/package/2006/relationships"><Relationship Id="rId1" Type="http://schemas.openxmlformats.org/officeDocument/2006/relationships/theme" Target="../theme/theme64.xml"/><Relationship Id="rId2" Type="http://schemas.openxmlformats.org/officeDocument/2006/relationships/image" Target="../media/image1.png"/><Relationship Id="rId3" Type="http://schemas.openxmlformats.org/officeDocument/2006/relationships/slideLayout" Target="../slideLayouts/slideLayout757.xml"/><Relationship Id="rId4" Type="http://schemas.openxmlformats.org/officeDocument/2006/relationships/slideLayout" Target="../slideLayouts/slideLayout758.xml"/><Relationship Id="rId5" Type="http://schemas.openxmlformats.org/officeDocument/2006/relationships/slideLayout" Target="../slideLayouts/slideLayout759.xml"/><Relationship Id="rId6" Type="http://schemas.openxmlformats.org/officeDocument/2006/relationships/slideLayout" Target="../slideLayouts/slideLayout760.xml"/><Relationship Id="rId7" Type="http://schemas.openxmlformats.org/officeDocument/2006/relationships/slideLayout" Target="../slideLayouts/slideLayout761.xml"/><Relationship Id="rId8" Type="http://schemas.openxmlformats.org/officeDocument/2006/relationships/slideLayout" Target="../slideLayouts/slideLayout762.xml"/><Relationship Id="rId9" Type="http://schemas.openxmlformats.org/officeDocument/2006/relationships/slideLayout" Target="../slideLayouts/slideLayout763.xml"/><Relationship Id="rId10" Type="http://schemas.openxmlformats.org/officeDocument/2006/relationships/slideLayout" Target="../slideLayouts/slideLayout764.xml"/><Relationship Id="rId11" Type="http://schemas.openxmlformats.org/officeDocument/2006/relationships/slideLayout" Target="../slideLayouts/slideLayout765.xml"/><Relationship Id="rId12" Type="http://schemas.openxmlformats.org/officeDocument/2006/relationships/slideLayout" Target="../slideLayouts/slideLayout766.xml"/><Relationship Id="rId13" Type="http://schemas.openxmlformats.org/officeDocument/2006/relationships/slideLayout" Target="../slideLayouts/slideLayout767.xml"/><Relationship Id="rId14" Type="http://schemas.openxmlformats.org/officeDocument/2006/relationships/slideLayout" Target="../slideLayouts/slideLayout768.xml"/>
</Relationships>
</file>

<file path=ppt/slideMasters/_rels/slideMaster65.xml.rels><?xml version="1.0" encoding="UTF-8"?>
<Relationships xmlns="http://schemas.openxmlformats.org/package/2006/relationships"><Relationship Id="rId1" Type="http://schemas.openxmlformats.org/officeDocument/2006/relationships/theme" Target="../theme/theme65.xml"/><Relationship Id="rId2" Type="http://schemas.openxmlformats.org/officeDocument/2006/relationships/image" Target="../media/image1.png"/><Relationship Id="rId3" Type="http://schemas.openxmlformats.org/officeDocument/2006/relationships/slideLayout" Target="../slideLayouts/slideLayout769.xml"/><Relationship Id="rId4" Type="http://schemas.openxmlformats.org/officeDocument/2006/relationships/slideLayout" Target="../slideLayouts/slideLayout770.xml"/><Relationship Id="rId5" Type="http://schemas.openxmlformats.org/officeDocument/2006/relationships/slideLayout" Target="../slideLayouts/slideLayout771.xml"/><Relationship Id="rId6" Type="http://schemas.openxmlformats.org/officeDocument/2006/relationships/slideLayout" Target="../slideLayouts/slideLayout772.xml"/><Relationship Id="rId7" Type="http://schemas.openxmlformats.org/officeDocument/2006/relationships/slideLayout" Target="../slideLayouts/slideLayout773.xml"/><Relationship Id="rId8" Type="http://schemas.openxmlformats.org/officeDocument/2006/relationships/slideLayout" Target="../slideLayouts/slideLayout774.xml"/><Relationship Id="rId9" Type="http://schemas.openxmlformats.org/officeDocument/2006/relationships/slideLayout" Target="../slideLayouts/slideLayout775.xml"/><Relationship Id="rId10" Type="http://schemas.openxmlformats.org/officeDocument/2006/relationships/slideLayout" Target="../slideLayouts/slideLayout776.xml"/><Relationship Id="rId11" Type="http://schemas.openxmlformats.org/officeDocument/2006/relationships/slideLayout" Target="../slideLayouts/slideLayout777.xml"/><Relationship Id="rId12" Type="http://schemas.openxmlformats.org/officeDocument/2006/relationships/slideLayout" Target="../slideLayouts/slideLayout778.xml"/><Relationship Id="rId13" Type="http://schemas.openxmlformats.org/officeDocument/2006/relationships/slideLayout" Target="../slideLayouts/slideLayout779.xml"/><Relationship Id="rId14" Type="http://schemas.openxmlformats.org/officeDocument/2006/relationships/slideLayout" Target="../slideLayouts/slideLayout780.xml"/>
</Relationships>
</file>

<file path=ppt/slideMasters/_rels/slideMaster66.xml.rels><?xml version="1.0" encoding="UTF-8"?>
<Relationships xmlns="http://schemas.openxmlformats.org/package/2006/relationships"><Relationship Id="rId1" Type="http://schemas.openxmlformats.org/officeDocument/2006/relationships/theme" Target="../theme/theme66.xml"/><Relationship Id="rId2" Type="http://schemas.openxmlformats.org/officeDocument/2006/relationships/image" Target="../media/image1.png"/><Relationship Id="rId3" Type="http://schemas.openxmlformats.org/officeDocument/2006/relationships/slideLayout" Target="../slideLayouts/slideLayout781.xml"/><Relationship Id="rId4" Type="http://schemas.openxmlformats.org/officeDocument/2006/relationships/slideLayout" Target="../slideLayouts/slideLayout782.xml"/><Relationship Id="rId5" Type="http://schemas.openxmlformats.org/officeDocument/2006/relationships/slideLayout" Target="../slideLayouts/slideLayout783.xml"/><Relationship Id="rId6" Type="http://schemas.openxmlformats.org/officeDocument/2006/relationships/slideLayout" Target="../slideLayouts/slideLayout784.xml"/><Relationship Id="rId7" Type="http://schemas.openxmlformats.org/officeDocument/2006/relationships/slideLayout" Target="../slideLayouts/slideLayout785.xml"/><Relationship Id="rId8" Type="http://schemas.openxmlformats.org/officeDocument/2006/relationships/slideLayout" Target="../slideLayouts/slideLayout786.xml"/><Relationship Id="rId9" Type="http://schemas.openxmlformats.org/officeDocument/2006/relationships/slideLayout" Target="../slideLayouts/slideLayout787.xml"/><Relationship Id="rId10" Type="http://schemas.openxmlformats.org/officeDocument/2006/relationships/slideLayout" Target="../slideLayouts/slideLayout788.xml"/><Relationship Id="rId11" Type="http://schemas.openxmlformats.org/officeDocument/2006/relationships/slideLayout" Target="../slideLayouts/slideLayout789.xml"/><Relationship Id="rId12" Type="http://schemas.openxmlformats.org/officeDocument/2006/relationships/slideLayout" Target="../slideLayouts/slideLayout790.xml"/><Relationship Id="rId13" Type="http://schemas.openxmlformats.org/officeDocument/2006/relationships/slideLayout" Target="../slideLayouts/slideLayout791.xml"/><Relationship Id="rId14" Type="http://schemas.openxmlformats.org/officeDocument/2006/relationships/slideLayout" Target="../slideLayouts/slideLayout792.xml"/>
</Relationships>
</file>

<file path=ppt/slideMasters/_rels/slideMaster67.xml.rels><?xml version="1.0" encoding="UTF-8"?>
<Relationships xmlns="http://schemas.openxmlformats.org/package/2006/relationships"><Relationship Id="rId1" Type="http://schemas.openxmlformats.org/officeDocument/2006/relationships/theme" Target="../theme/theme67.xml"/><Relationship Id="rId2" Type="http://schemas.openxmlformats.org/officeDocument/2006/relationships/image" Target="../media/image1.png"/><Relationship Id="rId3" Type="http://schemas.openxmlformats.org/officeDocument/2006/relationships/slideLayout" Target="../slideLayouts/slideLayout793.xml"/><Relationship Id="rId4" Type="http://schemas.openxmlformats.org/officeDocument/2006/relationships/slideLayout" Target="../slideLayouts/slideLayout794.xml"/><Relationship Id="rId5" Type="http://schemas.openxmlformats.org/officeDocument/2006/relationships/slideLayout" Target="../slideLayouts/slideLayout795.xml"/><Relationship Id="rId6" Type="http://schemas.openxmlformats.org/officeDocument/2006/relationships/slideLayout" Target="../slideLayouts/slideLayout796.xml"/><Relationship Id="rId7" Type="http://schemas.openxmlformats.org/officeDocument/2006/relationships/slideLayout" Target="../slideLayouts/slideLayout797.xml"/><Relationship Id="rId8" Type="http://schemas.openxmlformats.org/officeDocument/2006/relationships/slideLayout" Target="../slideLayouts/slideLayout798.xml"/><Relationship Id="rId9" Type="http://schemas.openxmlformats.org/officeDocument/2006/relationships/slideLayout" Target="../slideLayouts/slideLayout799.xml"/><Relationship Id="rId10" Type="http://schemas.openxmlformats.org/officeDocument/2006/relationships/slideLayout" Target="../slideLayouts/slideLayout800.xml"/><Relationship Id="rId11" Type="http://schemas.openxmlformats.org/officeDocument/2006/relationships/slideLayout" Target="../slideLayouts/slideLayout801.xml"/><Relationship Id="rId12" Type="http://schemas.openxmlformats.org/officeDocument/2006/relationships/slideLayout" Target="../slideLayouts/slideLayout802.xml"/><Relationship Id="rId13" Type="http://schemas.openxmlformats.org/officeDocument/2006/relationships/slideLayout" Target="../slideLayouts/slideLayout803.xml"/><Relationship Id="rId14" Type="http://schemas.openxmlformats.org/officeDocument/2006/relationships/slideLayout" Target="../slideLayouts/slideLayout804.xml"/>
</Relationships>
</file>

<file path=ppt/slideMasters/_rels/slideMaster68.xml.rels><?xml version="1.0" encoding="UTF-8"?>
<Relationships xmlns="http://schemas.openxmlformats.org/package/2006/relationships"><Relationship Id="rId1" Type="http://schemas.openxmlformats.org/officeDocument/2006/relationships/theme" Target="../theme/theme68.xml"/><Relationship Id="rId2" Type="http://schemas.openxmlformats.org/officeDocument/2006/relationships/image" Target="../media/image1.png"/><Relationship Id="rId3" Type="http://schemas.openxmlformats.org/officeDocument/2006/relationships/slideLayout" Target="../slideLayouts/slideLayout805.xml"/><Relationship Id="rId4" Type="http://schemas.openxmlformats.org/officeDocument/2006/relationships/slideLayout" Target="../slideLayouts/slideLayout806.xml"/><Relationship Id="rId5" Type="http://schemas.openxmlformats.org/officeDocument/2006/relationships/slideLayout" Target="../slideLayouts/slideLayout807.xml"/><Relationship Id="rId6" Type="http://schemas.openxmlformats.org/officeDocument/2006/relationships/slideLayout" Target="../slideLayouts/slideLayout808.xml"/><Relationship Id="rId7" Type="http://schemas.openxmlformats.org/officeDocument/2006/relationships/slideLayout" Target="../slideLayouts/slideLayout809.xml"/><Relationship Id="rId8" Type="http://schemas.openxmlformats.org/officeDocument/2006/relationships/slideLayout" Target="../slideLayouts/slideLayout810.xml"/><Relationship Id="rId9" Type="http://schemas.openxmlformats.org/officeDocument/2006/relationships/slideLayout" Target="../slideLayouts/slideLayout811.xml"/><Relationship Id="rId10" Type="http://schemas.openxmlformats.org/officeDocument/2006/relationships/slideLayout" Target="../slideLayouts/slideLayout812.xml"/><Relationship Id="rId11" Type="http://schemas.openxmlformats.org/officeDocument/2006/relationships/slideLayout" Target="../slideLayouts/slideLayout813.xml"/><Relationship Id="rId12" Type="http://schemas.openxmlformats.org/officeDocument/2006/relationships/slideLayout" Target="../slideLayouts/slideLayout814.xml"/><Relationship Id="rId13" Type="http://schemas.openxmlformats.org/officeDocument/2006/relationships/slideLayout" Target="../slideLayouts/slideLayout815.xml"/><Relationship Id="rId14" Type="http://schemas.openxmlformats.org/officeDocument/2006/relationships/slideLayout" Target="../slideLayouts/slideLayout816.xml"/>
</Relationships>
</file>

<file path=ppt/slideMasters/_rels/slideMaster69.xml.rels><?xml version="1.0" encoding="UTF-8"?>
<Relationships xmlns="http://schemas.openxmlformats.org/package/2006/relationships"><Relationship Id="rId1" Type="http://schemas.openxmlformats.org/officeDocument/2006/relationships/theme" Target="../theme/theme69.xml"/><Relationship Id="rId2" Type="http://schemas.openxmlformats.org/officeDocument/2006/relationships/image" Target="../media/image1.png"/><Relationship Id="rId3" Type="http://schemas.openxmlformats.org/officeDocument/2006/relationships/slideLayout" Target="../slideLayouts/slideLayout817.xml"/><Relationship Id="rId4" Type="http://schemas.openxmlformats.org/officeDocument/2006/relationships/slideLayout" Target="../slideLayouts/slideLayout818.xml"/><Relationship Id="rId5" Type="http://schemas.openxmlformats.org/officeDocument/2006/relationships/slideLayout" Target="../slideLayouts/slideLayout819.xml"/><Relationship Id="rId6" Type="http://schemas.openxmlformats.org/officeDocument/2006/relationships/slideLayout" Target="../slideLayouts/slideLayout820.xml"/><Relationship Id="rId7" Type="http://schemas.openxmlformats.org/officeDocument/2006/relationships/slideLayout" Target="../slideLayouts/slideLayout821.xml"/><Relationship Id="rId8" Type="http://schemas.openxmlformats.org/officeDocument/2006/relationships/slideLayout" Target="../slideLayouts/slideLayout822.xml"/><Relationship Id="rId9" Type="http://schemas.openxmlformats.org/officeDocument/2006/relationships/slideLayout" Target="../slideLayouts/slideLayout823.xml"/><Relationship Id="rId10" Type="http://schemas.openxmlformats.org/officeDocument/2006/relationships/slideLayout" Target="../slideLayouts/slideLayout824.xml"/><Relationship Id="rId11" Type="http://schemas.openxmlformats.org/officeDocument/2006/relationships/slideLayout" Target="../slideLayouts/slideLayout825.xml"/><Relationship Id="rId12" Type="http://schemas.openxmlformats.org/officeDocument/2006/relationships/slideLayout" Target="../slideLayouts/slideLayout826.xml"/><Relationship Id="rId13" Type="http://schemas.openxmlformats.org/officeDocument/2006/relationships/slideLayout" Target="../slideLayouts/slideLayout827.xml"/><Relationship Id="rId14" Type="http://schemas.openxmlformats.org/officeDocument/2006/relationships/slideLayout" Target="../slideLayouts/slideLayout828.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70.xml.rels><?xml version="1.0" encoding="UTF-8"?>
<Relationships xmlns="http://schemas.openxmlformats.org/package/2006/relationships"><Relationship Id="rId1" Type="http://schemas.openxmlformats.org/officeDocument/2006/relationships/theme" Target="../theme/theme70.xml"/><Relationship Id="rId2" Type="http://schemas.openxmlformats.org/officeDocument/2006/relationships/image" Target="../media/image1.png"/><Relationship Id="rId3" Type="http://schemas.openxmlformats.org/officeDocument/2006/relationships/slideLayout" Target="../slideLayouts/slideLayout829.xml"/><Relationship Id="rId4" Type="http://schemas.openxmlformats.org/officeDocument/2006/relationships/slideLayout" Target="../slideLayouts/slideLayout830.xml"/><Relationship Id="rId5" Type="http://schemas.openxmlformats.org/officeDocument/2006/relationships/slideLayout" Target="../slideLayouts/slideLayout831.xml"/><Relationship Id="rId6" Type="http://schemas.openxmlformats.org/officeDocument/2006/relationships/slideLayout" Target="../slideLayouts/slideLayout832.xml"/><Relationship Id="rId7" Type="http://schemas.openxmlformats.org/officeDocument/2006/relationships/slideLayout" Target="../slideLayouts/slideLayout833.xml"/><Relationship Id="rId8" Type="http://schemas.openxmlformats.org/officeDocument/2006/relationships/slideLayout" Target="../slideLayouts/slideLayout834.xml"/><Relationship Id="rId9" Type="http://schemas.openxmlformats.org/officeDocument/2006/relationships/slideLayout" Target="../slideLayouts/slideLayout835.xml"/><Relationship Id="rId10" Type="http://schemas.openxmlformats.org/officeDocument/2006/relationships/slideLayout" Target="../slideLayouts/slideLayout836.xml"/><Relationship Id="rId11" Type="http://schemas.openxmlformats.org/officeDocument/2006/relationships/slideLayout" Target="../slideLayouts/slideLayout837.xml"/><Relationship Id="rId12" Type="http://schemas.openxmlformats.org/officeDocument/2006/relationships/slideLayout" Target="../slideLayouts/slideLayout838.xml"/><Relationship Id="rId13" Type="http://schemas.openxmlformats.org/officeDocument/2006/relationships/slideLayout" Target="../slideLayouts/slideLayout839.xml"/><Relationship Id="rId14" Type="http://schemas.openxmlformats.org/officeDocument/2006/relationships/slideLayout" Target="../slideLayouts/slideLayout840.xml"/>
</Relationships>
</file>

<file path=ppt/slideMasters/_rels/slideMaster71.xml.rels><?xml version="1.0" encoding="UTF-8"?>
<Relationships xmlns="http://schemas.openxmlformats.org/package/2006/relationships"><Relationship Id="rId1" Type="http://schemas.openxmlformats.org/officeDocument/2006/relationships/theme" Target="../theme/theme71.xml"/><Relationship Id="rId2" Type="http://schemas.openxmlformats.org/officeDocument/2006/relationships/image" Target="../media/image1.png"/><Relationship Id="rId3" Type="http://schemas.openxmlformats.org/officeDocument/2006/relationships/slideLayout" Target="../slideLayouts/slideLayout841.xml"/><Relationship Id="rId4" Type="http://schemas.openxmlformats.org/officeDocument/2006/relationships/slideLayout" Target="../slideLayouts/slideLayout842.xml"/><Relationship Id="rId5" Type="http://schemas.openxmlformats.org/officeDocument/2006/relationships/slideLayout" Target="../slideLayouts/slideLayout843.xml"/><Relationship Id="rId6" Type="http://schemas.openxmlformats.org/officeDocument/2006/relationships/slideLayout" Target="../slideLayouts/slideLayout844.xml"/><Relationship Id="rId7" Type="http://schemas.openxmlformats.org/officeDocument/2006/relationships/slideLayout" Target="../slideLayouts/slideLayout845.xml"/><Relationship Id="rId8" Type="http://schemas.openxmlformats.org/officeDocument/2006/relationships/slideLayout" Target="../slideLayouts/slideLayout846.xml"/><Relationship Id="rId9" Type="http://schemas.openxmlformats.org/officeDocument/2006/relationships/slideLayout" Target="../slideLayouts/slideLayout847.xml"/><Relationship Id="rId10" Type="http://schemas.openxmlformats.org/officeDocument/2006/relationships/slideLayout" Target="../slideLayouts/slideLayout848.xml"/><Relationship Id="rId11" Type="http://schemas.openxmlformats.org/officeDocument/2006/relationships/slideLayout" Target="../slideLayouts/slideLayout849.xml"/><Relationship Id="rId12" Type="http://schemas.openxmlformats.org/officeDocument/2006/relationships/slideLayout" Target="../slideLayouts/slideLayout850.xml"/><Relationship Id="rId13" Type="http://schemas.openxmlformats.org/officeDocument/2006/relationships/slideLayout" Target="../slideLayouts/slideLayout851.xml"/><Relationship Id="rId14" Type="http://schemas.openxmlformats.org/officeDocument/2006/relationships/slideLayout" Target="../slideLayouts/slideLayout852.xml"/>
</Relationships>
</file>

<file path=ppt/slideMasters/_rels/slideMaster72.xml.rels><?xml version="1.0" encoding="UTF-8"?>
<Relationships xmlns="http://schemas.openxmlformats.org/package/2006/relationships"><Relationship Id="rId1" Type="http://schemas.openxmlformats.org/officeDocument/2006/relationships/theme" Target="../theme/theme72.xml"/><Relationship Id="rId2" Type="http://schemas.openxmlformats.org/officeDocument/2006/relationships/image" Target="../media/image1.png"/><Relationship Id="rId3" Type="http://schemas.openxmlformats.org/officeDocument/2006/relationships/slideLayout" Target="../slideLayouts/slideLayout853.xml"/><Relationship Id="rId4" Type="http://schemas.openxmlformats.org/officeDocument/2006/relationships/slideLayout" Target="../slideLayouts/slideLayout854.xml"/><Relationship Id="rId5" Type="http://schemas.openxmlformats.org/officeDocument/2006/relationships/slideLayout" Target="../slideLayouts/slideLayout855.xml"/><Relationship Id="rId6" Type="http://schemas.openxmlformats.org/officeDocument/2006/relationships/slideLayout" Target="../slideLayouts/slideLayout856.xml"/><Relationship Id="rId7" Type="http://schemas.openxmlformats.org/officeDocument/2006/relationships/slideLayout" Target="../slideLayouts/slideLayout857.xml"/><Relationship Id="rId8" Type="http://schemas.openxmlformats.org/officeDocument/2006/relationships/slideLayout" Target="../slideLayouts/slideLayout858.xml"/><Relationship Id="rId9" Type="http://schemas.openxmlformats.org/officeDocument/2006/relationships/slideLayout" Target="../slideLayouts/slideLayout859.xml"/><Relationship Id="rId10" Type="http://schemas.openxmlformats.org/officeDocument/2006/relationships/slideLayout" Target="../slideLayouts/slideLayout860.xml"/><Relationship Id="rId11" Type="http://schemas.openxmlformats.org/officeDocument/2006/relationships/slideLayout" Target="../slideLayouts/slideLayout861.xml"/><Relationship Id="rId12" Type="http://schemas.openxmlformats.org/officeDocument/2006/relationships/slideLayout" Target="../slideLayouts/slideLayout862.xml"/><Relationship Id="rId13" Type="http://schemas.openxmlformats.org/officeDocument/2006/relationships/slideLayout" Target="../slideLayouts/slideLayout863.xml"/><Relationship Id="rId14" Type="http://schemas.openxmlformats.org/officeDocument/2006/relationships/slideLayout" Target="../slideLayouts/slideLayout864.xml"/>
</Relationships>
</file>

<file path=ppt/slideMasters/_rels/slideMaster73.xml.rels><?xml version="1.0" encoding="UTF-8"?>
<Relationships xmlns="http://schemas.openxmlformats.org/package/2006/relationships"><Relationship Id="rId1" Type="http://schemas.openxmlformats.org/officeDocument/2006/relationships/theme" Target="../theme/theme73.xml"/><Relationship Id="rId2" Type="http://schemas.openxmlformats.org/officeDocument/2006/relationships/image" Target="../media/image1.png"/><Relationship Id="rId3" Type="http://schemas.openxmlformats.org/officeDocument/2006/relationships/slideLayout" Target="../slideLayouts/slideLayout865.xml"/><Relationship Id="rId4" Type="http://schemas.openxmlformats.org/officeDocument/2006/relationships/slideLayout" Target="../slideLayouts/slideLayout866.xml"/><Relationship Id="rId5" Type="http://schemas.openxmlformats.org/officeDocument/2006/relationships/slideLayout" Target="../slideLayouts/slideLayout867.xml"/><Relationship Id="rId6" Type="http://schemas.openxmlformats.org/officeDocument/2006/relationships/slideLayout" Target="../slideLayouts/slideLayout868.xml"/><Relationship Id="rId7" Type="http://schemas.openxmlformats.org/officeDocument/2006/relationships/slideLayout" Target="../slideLayouts/slideLayout869.xml"/><Relationship Id="rId8" Type="http://schemas.openxmlformats.org/officeDocument/2006/relationships/slideLayout" Target="../slideLayouts/slideLayout870.xml"/><Relationship Id="rId9" Type="http://schemas.openxmlformats.org/officeDocument/2006/relationships/slideLayout" Target="../slideLayouts/slideLayout871.xml"/><Relationship Id="rId10" Type="http://schemas.openxmlformats.org/officeDocument/2006/relationships/slideLayout" Target="../slideLayouts/slideLayout872.xml"/><Relationship Id="rId11" Type="http://schemas.openxmlformats.org/officeDocument/2006/relationships/slideLayout" Target="../slideLayouts/slideLayout873.xml"/><Relationship Id="rId12" Type="http://schemas.openxmlformats.org/officeDocument/2006/relationships/slideLayout" Target="../slideLayouts/slideLayout874.xml"/><Relationship Id="rId13" Type="http://schemas.openxmlformats.org/officeDocument/2006/relationships/slideLayout" Target="../slideLayouts/slideLayout875.xml"/><Relationship Id="rId14" Type="http://schemas.openxmlformats.org/officeDocument/2006/relationships/slideLayout" Target="../slideLayouts/slideLayout876.xml"/>
</Relationships>
</file>

<file path=ppt/slideMasters/_rels/slideMaster74.xml.rels><?xml version="1.0" encoding="UTF-8"?>
<Relationships xmlns="http://schemas.openxmlformats.org/package/2006/relationships"><Relationship Id="rId1" Type="http://schemas.openxmlformats.org/officeDocument/2006/relationships/theme" Target="../theme/theme74.xml"/><Relationship Id="rId2" Type="http://schemas.openxmlformats.org/officeDocument/2006/relationships/image" Target="../media/image1.png"/><Relationship Id="rId3" Type="http://schemas.openxmlformats.org/officeDocument/2006/relationships/slideLayout" Target="../slideLayouts/slideLayout877.xml"/><Relationship Id="rId4" Type="http://schemas.openxmlformats.org/officeDocument/2006/relationships/slideLayout" Target="../slideLayouts/slideLayout878.xml"/><Relationship Id="rId5" Type="http://schemas.openxmlformats.org/officeDocument/2006/relationships/slideLayout" Target="../slideLayouts/slideLayout879.xml"/><Relationship Id="rId6" Type="http://schemas.openxmlformats.org/officeDocument/2006/relationships/slideLayout" Target="../slideLayouts/slideLayout880.xml"/><Relationship Id="rId7" Type="http://schemas.openxmlformats.org/officeDocument/2006/relationships/slideLayout" Target="../slideLayouts/slideLayout881.xml"/><Relationship Id="rId8" Type="http://schemas.openxmlformats.org/officeDocument/2006/relationships/slideLayout" Target="../slideLayouts/slideLayout882.xml"/><Relationship Id="rId9" Type="http://schemas.openxmlformats.org/officeDocument/2006/relationships/slideLayout" Target="../slideLayouts/slideLayout883.xml"/><Relationship Id="rId10" Type="http://schemas.openxmlformats.org/officeDocument/2006/relationships/slideLayout" Target="../slideLayouts/slideLayout884.xml"/><Relationship Id="rId11" Type="http://schemas.openxmlformats.org/officeDocument/2006/relationships/slideLayout" Target="../slideLayouts/slideLayout885.xml"/><Relationship Id="rId12" Type="http://schemas.openxmlformats.org/officeDocument/2006/relationships/slideLayout" Target="../slideLayouts/slideLayout886.xml"/><Relationship Id="rId13" Type="http://schemas.openxmlformats.org/officeDocument/2006/relationships/slideLayout" Target="../slideLayouts/slideLayout887.xml"/><Relationship Id="rId14" Type="http://schemas.openxmlformats.org/officeDocument/2006/relationships/slideLayout" Target="../slideLayouts/slideLayout888.xml"/>
</Relationships>
</file>

<file path=ppt/slideMasters/_rels/slideMaster75.xml.rels><?xml version="1.0" encoding="UTF-8"?>
<Relationships xmlns="http://schemas.openxmlformats.org/package/2006/relationships"><Relationship Id="rId1" Type="http://schemas.openxmlformats.org/officeDocument/2006/relationships/theme" Target="../theme/theme75.xml"/><Relationship Id="rId2" Type="http://schemas.openxmlformats.org/officeDocument/2006/relationships/image" Target="../media/image1.png"/><Relationship Id="rId3" Type="http://schemas.openxmlformats.org/officeDocument/2006/relationships/slideLayout" Target="../slideLayouts/slideLayout889.xml"/><Relationship Id="rId4" Type="http://schemas.openxmlformats.org/officeDocument/2006/relationships/slideLayout" Target="../slideLayouts/slideLayout890.xml"/><Relationship Id="rId5" Type="http://schemas.openxmlformats.org/officeDocument/2006/relationships/slideLayout" Target="../slideLayouts/slideLayout891.xml"/><Relationship Id="rId6" Type="http://schemas.openxmlformats.org/officeDocument/2006/relationships/slideLayout" Target="../slideLayouts/slideLayout892.xml"/><Relationship Id="rId7" Type="http://schemas.openxmlformats.org/officeDocument/2006/relationships/slideLayout" Target="../slideLayouts/slideLayout893.xml"/><Relationship Id="rId8" Type="http://schemas.openxmlformats.org/officeDocument/2006/relationships/slideLayout" Target="../slideLayouts/slideLayout894.xml"/><Relationship Id="rId9" Type="http://schemas.openxmlformats.org/officeDocument/2006/relationships/slideLayout" Target="../slideLayouts/slideLayout895.xml"/><Relationship Id="rId10" Type="http://schemas.openxmlformats.org/officeDocument/2006/relationships/slideLayout" Target="../slideLayouts/slideLayout896.xml"/><Relationship Id="rId11" Type="http://schemas.openxmlformats.org/officeDocument/2006/relationships/slideLayout" Target="../slideLayouts/slideLayout897.xml"/><Relationship Id="rId12" Type="http://schemas.openxmlformats.org/officeDocument/2006/relationships/slideLayout" Target="../slideLayouts/slideLayout898.xml"/><Relationship Id="rId13" Type="http://schemas.openxmlformats.org/officeDocument/2006/relationships/slideLayout" Target="../slideLayouts/slideLayout899.xml"/><Relationship Id="rId14" Type="http://schemas.openxmlformats.org/officeDocument/2006/relationships/slideLayout" Target="../slideLayouts/slideLayout900.xml"/>
</Relationships>
</file>

<file path=ppt/slideMasters/_rels/slideMaster76.xml.rels><?xml version="1.0" encoding="UTF-8"?>
<Relationships xmlns="http://schemas.openxmlformats.org/package/2006/relationships"><Relationship Id="rId1" Type="http://schemas.openxmlformats.org/officeDocument/2006/relationships/theme" Target="../theme/theme76.xml"/><Relationship Id="rId2" Type="http://schemas.openxmlformats.org/officeDocument/2006/relationships/image" Target="../media/image1.png"/><Relationship Id="rId3" Type="http://schemas.openxmlformats.org/officeDocument/2006/relationships/slideLayout" Target="../slideLayouts/slideLayout901.xml"/><Relationship Id="rId4" Type="http://schemas.openxmlformats.org/officeDocument/2006/relationships/slideLayout" Target="../slideLayouts/slideLayout902.xml"/><Relationship Id="rId5" Type="http://schemas.openxmlformats.org/officeDocument/2006/relationships/slideLayout" Target="../slideLayouts/slideLayout903.xml"/><Relationship Id="rId6" Type="http://schemas.openxmlformats.org/officeDocument/2006/relationships/slideLayout" Target="../slideLayouts/slideLayout904.xml"/><Relationship Id="rId7" Type="http://schemas.openxmlformats.org/officeDocument/2006/relationships/slideLayout" Target="../slideLayouts/slideLayout905.xml"/><Relationship Id="rId8" Type="http://schemas.openxmlformats.org/officeDocument/2006/relationships/slideLayout" Target="../slideLayouts/slideLayout906.xml"/><Relationship Id="rId9" Type="http://schemas.openxmlformats.org/officeDocument/2006/relationships/slideLayout" Target="../slideLayouts/slideLayout907.xml"/><Relationship Id="rId10" Type="http://schemas.openxmlformats.org/officeDocument/2006/relationships/slideLayout" Target="../slideLayouts/slideLayout908.xml"/><Relationship Id="rId11" Type="http://schemas.openxmlformats.org/officeDocument/2006/relationships/slideLayout" Target="../slideLayouts/slideLayout909.xml"/><Relationship Id="rId12" Type="http://schemas.openxmlformats.org/officeDocument/2006/relationships/slideLayout" Target="../slideLayouts/slideLayout910.xml"/><Relationship Id="rId13" Type="http://schemas.openxmlformats.org/officeDocument/2006/relationships/slideLayout" Target="../slideLayouts/slideLayout911.xml"/><Relationship Id="rId14" Type="http://schemas.openxmlformats.org/officeDocument/2006/relationships/slideLayout" Target="../slideLayouts/slideLayout912.xml"/>
</Relationships>
</file>

<file path=ppt/slideMasters/_rels/slideMaster77.xml.rels><?xml version="1.0" encoding="UTF-8"?>
<Relationships xmlns="http://schemas.openxmlformats.org/package/2006/relationships"><Relationship Id="rId1" Type="http://schemas.openxmlformats.org/officeDocument/2006/relationships/theme" Target="../theme/theme77.xml"/><Relationship Id="rId2" Type="http://schemas.openxmlformats.org/officeDocument/2006/relationships/image" Target="../media/image1.png"/><Relationship Id="rId3" Type="http://schemas.openxmlformats.org/officeDocument/2006/relationships/slideLayout" Target="../slideLayouts/slideLayout913.xml"/><Relationship Id="rId4" Type="http://schemas.openxmlformats.org/officeDocument/2006/relationships/slideLayout" Target="../slideLayouts/slideLayout914.xml"/><Relationship Id="rId5" Type="http://schemas.openxmlformats.org/officeDocument/2006/relationships/slideLayout" Target="../slideLayouts/slideLayout915.xml"/><Relationship Id="rId6" Type="http://schemas.openxmlformats.org/officeDocument/2006/relationships/slideLayout" Target="../slideLayouts/slideLayout916.xml"/><Relationship Id="rId7" Type="http://schemas.openxmlformats.org/officeDocument/2006/relationships/slideLayout" Target="../slideLayouts/slideLayout917.xml"/><Relationship Id="rId8" Type="http://schemas.openxmlformats.org/officeDocument/2006/relationships/slideLayout" Target="../slideLayouts/slideLayout918.xml"/><Relationship Id="rId9" Type="http://schemas.openxmlformats.org/officeDocument/2006/relationships/slideLayout" Target="../slideLayouts/slideLayout919.xml"/><Relationship Id="rId10" Type="http://schemas.openxmlformats.org/officeDocument/2006/relationships/slideLayout" Target="../slideLayouts/slideLayout920.xml"/><Relationship Id="rId11" Type="http://schemas.openxmlformats.org/officeDocument/2006/relationships/slideLayout" Target="../slideLayouts/slideLayout921.xml"/><Relationship Id="rId12" Type="http://schemas.openxmlformats.org/officeDocument/2006/relationships/slideLayout" Target="../slideLayouts/slideLayout922.xml"/><Relationship Id="rId13" Type="http://schemas.openxmlformats.org/officeDocument/2006/relationships/slideLayout" Target="../slideLayouts/slideLayout923.xml"/><Relationship Id="rId14" Type="http://schemas.openxmlformats.org/officeDocument/2006/relationships/slideLayout" Target="../slideLayouts/slideLayout924.xml"/>
</Relationships>
</file>

<file path=ppt/slideMasters/_rels/slideMaster78.xml.rels><?xml version="1.0" encoding="UTF-8"?>
<Relationships xmlns="http://schemas.openxmlformats.org/package/2006/relationships"><Relationship Id="rId1" Type="http://schemas.openxmlformats.org/officeDocument/2006/relationships/theme" Target="../theme/theme78.xml"/><Relationship Id="rId2" Type="http://schemas.openxmlformats.org/officeDocument/2006/relationships/image" Target="../media/image1.png"/><Relationship Id="rId3" Type="http://schemas.openxmlformats.org/officeDocument/2006/relationships/slideLayout" Target="../slideLayouts/slideLayout925.xml"/><Relationship Id="rId4" Type="http://schemas.openxmlformats.org/officeDocument/2006/relationships/slideLayout" Target="../slideLayouts/slideLayout926.xml"/><Relationship Id="rId5" Type="http://schemas.openxmlformats.org/officeDocument/2006/relationships/slideLayout" Target="../slideLayouts/slideLayout927.xml"/><Relationship Id="rId6" Type="http://schemas.openxmlformats.org/officeDocument/2006/relationships/slideLayout" Target="../slideLayouts/slideLayout928.xml"/><Relationship Id="rId7" Type="http://schemas.openxmlformats.org/officeDocument/2006/relationships/slideLayout" Target="../slideLayouts/slideLayout929.xml"/><Relationship Id="rId8" Type="http://schemas.openxmlformats.org/officeDocument/2006/relationships/slideLayout" Target="../slideLayouts/slideLayout930.xml"/><Relationship Id="rId9" Type="http://schemas.openxmlformats.org/officeDocument/2006/relationships/slideLayout" Target="../slideLayouts/slideLayout931.xml"/><Relationship Id="rId10" Type="http://schemas.openxmlformats.org/officeDocument/2006/relationships/slideLayout" Target="../slideLayouts/slideLayout932.xml"/><Relationship Id="rId11" Type="http://schemas.openxmlformats.org/officeDocument/2006/relationships/slideLayout" Target="../slideLayouts/slideLayout933.xml"/><Relationship Id="rId12" Type="http://schemas.openxmlformats.org/officeDocument/2006/relationships/slideLayout" Target="../slideLayouts/slideLayout934.xml"/><Relationship Id="rId13" Type="http://schemas.openxmlformats.org/officeDocument/2006/relationships/slideLayout" Target="../slideLayouts/slideLayout935.xml"/><Relationship Id="rId14" Type="http://schemas.openxmlformats.org/officeDocument/2006/relationships/slideLayout" Target="../slideLayouts/slideLayout936.xml"/>
</Relationships>
</file>

<file path=ppt/slideMasters/_rels/slideMaster79.xml.rels><?xml version="1.0" encoding="UTF-8"?>
<Relationships xmlns="http://schemas.openxmlformats.org/package/2006/relationships"><Relationship Id="rId1" Type="http://schemas.openxmlformats.org/officeDocument/2006/relationships/theme" Target="../theme/theme79.xml"/><Relationship Id="rId2" Type="http://schemas.openxmlformats.org/officeDocument/2006/relationships/image" Target="../media/image1.png"/><Relationship Id="rId3" Type="http://schemas.openxmlformats.org/officeDocument/2006/relationships/slideLayout" Target="../slideLayouts/slideLayout937.xml"/><Relationship Id="rId4" Type="http://schemas.openxmlformats.org/officeDocument/2006/relationships/slideLayout" Target="../slideLayouts/slideLayout938.xml"/><Relationship Id="rId5" Type="http://schemas.openxmlformats.org/officeDocument/2006/relationships/slideLayout" Target="../slideLayouts/slideLayout939.xml"/><Relationship Id="rId6" Type="http://schemas.openxmlformats.org/officeDocument/2006/relationships/slideLayout" Target="../slideLayouts/slideLayout940.xml"/><Relationship Id="rId7" Type="http://schemas.openxmlformats.org/officeDocument/2006/relationships/slideLayout" Target="../slideLayouts/slideLayout941.xml"/><Relationship Id="rId8" Type="http://schemas.openxmlformats.org/officeDocument/2006/relationships/slideLayout" Target="../slideLayouts/slideLayout942.xml"/><Relationship Id="rId9" Type="http://schemas.openxmlformats.org/officeDocument/2006/relationships/slideLayout" Target="../slideLayouts/slideLayout943.xml"/><Relationship Id="rId10" Type="http://schemas.openxmlformats.org/officeDocument/2006/relationships/slideLayout" Target="../slideLayouts/slideLayout944.xml"/><Relationship Id="rId11" Type="http://schemas.openxmlformats.org/officeDocument/2006/relationships/slideLayout" Target="../slideLayouts/slideLayout945.xml"/><Relationship Id="rId12" Type="http://schemas.openxmlformats.org/officeDocument/2006/relationships/slideLayout" Target="../slideLayouts/slideLayout946.xml"/><Relationship Id="rId13" Type="http://schemas.openxmlformats.org/officeDocument/2006/relationships/slideLayout" Target="../slideLayouts/slideLayout947.xml"/><Relationship Id="rId14" Type="http://schemas.openxmlformats.org/officeDocument/2006/relationships/slideLayout" Target="../slideLayouts/slideLayout948.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80.xml.rels><?xml version="1.0" encoding="UTF-8"?>
<Relationships xmlns="http://schemas.openxmlformats.org/package/2006/relationships"><Relationship Id="rId1" Type="http://schemas.openxmlformats.org/officeDocument/2006/relationships/theme" Target="../theme/theme80.xml"/><Relationship Id="rId2" Type="http://schemas.openxmlformats.org/officeDocument/2006/relationships/image" Target="../media/image1.png"/><Relationship Id="rId3" Type="http://schemas.openxmlformats.org/officeDocument/2006/relationships/slideLayout" Target="../slideLayouts/slideLayout949.xml"/><Relationship Id="rId4" Type="http://schemas.openxmlformats.org/officeDocument/2006/relationships/slideLayout" Target="../slideLayouts/slideLayout950.xml"/><Relationship Id="rId5" Type="http://schemas.openxmlformats.org/officeDocument/2006/relationships/slideLayout" Target="../slideLayouts/slideLayout951.xml"/><Relationship Id="rId6" Type="http://schemas.openxmlformats.org/officeDocument/2006/relationships/slideLayout" Target="../slideLayouts/slideLayout952.xml"/><Relationship Id="rId7" Type="http://schemas.openxmlformats.org/officeDocument/2006/relationships/slideLayout" Target="../slideLayouts/slideLayout953.xml"/><Relationship Id="rId8" Type="http://schemas.openxmlformats.org/officeDocument/2006/relationships/slideLayout" Target="../slideLayouts/slideLayout954.xml"/><Relationship Id="rId9" Type="http://schemas.openxmlformats.org/officeDocument/2006/relationships/slideLayout" Target="../slideLayouts/slideLayout955.xml"/><Relationship Id="rId10" Type="http://schemas.openxmlformats.org/officeDocument/2006/relationships/slideLayout" Target="../slideLayouts/slideLayout956.xml"/><Relationship Id="rId11" Type="http://schemas.openxmlformats.org/officeDocument/2006/relationships/slideLayout" Target="../slideLayouts/slideLayout957.xml"/><Relationship Id="rId12" Type="http://schemas.openxmlformats.org/officeDocument/2006/relationships/slideLayout" Target="../slideLayouts/slideLayout958.xml"/><Relationship Id="rId13" Type="http://schemas.openxmlformats.org/officeDocument/2006/relationships/slideLayout" Target="../slideLayouts/slideLayout959.xml"/><Relationship Id="rId14" Type="http://schemas.openxmlformats.org/officeDocument/2006/relationships/slideLayout" Target="../slideLayouts/slideLayout960.xml"/>
</Relationships>
</file>

<file path=ppt/slideMasters/_rels/slideMaster81.xml.rels><?xml version="1.0" encoding="UTF-8"?>
<Relationships xmlns="http://schemas.openxmlformats.org/package/2006/relationships"><Relationship Id="rId1" Type="http://schemas.openxmlformats.org/officeDocument/2006/relationships/theme" Target="../theme/theme81.xml"/><Relationship Id="rId2" Type="http://schemas.openxmlformats.org/officeDocument/2006/relationships/image" Target="../media/image1.png"/><Relationship Id="rId3" Type="http://schemas.openxmlformats.org/officeDocument/2006/relationships/slideLayout" Target="../slideLayouts/slideLayout961.xml"/><Relationship Id="rId4" Type="http://schemas.openxmlformats.org/officeDocument/2006/relationships/slideLayout" Target="../slideLayouts/slideLayout962.xml"/><Relationship Id="rId5" Type="http://schemas.openxmlformats.org/officeDocument/2006/relationships/slideLayout" Target="../slideLayouts/slideLayout963.xml"/><Relationship Id="rId6" Type="http://schemas.openxmlformats.org/officeDocument/2006/relationships/slideLayout" Target="../slideLayouts/slideLayout964.xml"/><Relationship Id="rId7" Type="http://schemas.openxmlformats.org/officeDocument/2006/relationships/slideLayout" Target="../slideLayouts/slideLayout965.xml"/><Relationship Id="rId8" Type="http://schemas.openxmlformats.org/officeDocument/2006/relationships/slideLayout" Target="../slideLayouts/slideLayout966.xml"/><Relationship Id="rId9" Type="http://schemas.openxmlformats.org/officeDocument/2006/relationships/slideLayout" Target="../slideLayouts/slideLayout967.xml"/><Relationship Id="rId10" Type="http://schemas.openxmlformats.org/officeDocument/2006/relationships/slideLayout" Target="../slideLayouts/slideLayout968.xml"/><Relationship Id="rId11" Type="http://schemas.openxmlformats.org/officeDocument/2006/relationships/slideLayout" Target="../slideLayouts/slideLayout969.xml"/><Relationship Id="rId12" Type="http://schemas.openxmlformats.org/officeDocument/2006/relationships/slideLayout" Target="../slideLayouts/slideLayout970.xml"/><Relationship Id="rId13" Type="http://schemas.openxmlformats.org/officeDocument/2006/relationships/slideLayout" Target="../slideLayouts/slideLayout971.xml"/><Relationship Id="rId14" Type="http://schemas.openxmlformats.org/officeDocument/2006/relationships/slideLayout" Target="../slideLayouts/slideLayout972.xml"/>
</Relationships>
</file>

<file path=ppt/slideMasters/_rels/slideMaster82.xml.rels><?xml version="1.0" encoding="UTF-8"?>
<Relationships xmlns="http://schemas.openxmlformats.org/package/2006/relationships"><Relationship Id="rId1" Type="http://schemas.openxmlformats.org/officeDocument/2006/relationships/theme" Target="../theme/theme82.xml"/><Relationship Id="rId2" Type="http://schemas.openxmlformats.org/officeDocument/2006/relationships/image" Target="../media/image1.png"/><Relationship Id="rId3" Type="http://schemas.openxmlformats.org/officeDocument/2006/relationships/slideLayout" Target="../slideLayouts/slideLayout973.xml"/><Relationship Id="rId4" Type="http://schemas.openxmlformats.org/officeDocument/2006/relationships/slideLayout" Target="../slideLayouts/slideLayout974.xml"/><Relationship Id="rId5" Type="http://schemas.openxmlformats.org/officeDocument/2006/relationships/slideLayout" Target="../slideLayouts/slideLayout975.xml"/><Relationship Id="rId6" Type="http://schemas.openxmlformats.org/officeDocument/2006/relationships/slideLayout" Target="../slideLayouts/slideLayout976.xml"/><Relationship Id="rId7" Type="http://schemas.openxmlformats.org/officeDocument/2006/relationships/slideLayout" Target="../slideLayouts/slideLayout977.xml"/><Relationship Id="rId8" Type="http://schemas.openxmlformats.org/officeDocument/2006/relationships/slideLayout" Target="../slideLayouts/slideLayout978.xml"/><Relationship Id="rId9" Type="http://schemas.openxmlformats.org/officeDocument/2006/relationships/slideLayout" Target="../slideLayouts/slideLayout979.xml"/><Relationship Id="rId10" Type="http://schemas.openxmlformats.org/officeDocument/2006/relationships/slideLayout" Target="../slideLayouts/slideLayout980.xml"/><Relationship Id="rId11" Type="http://schemas.openxmlformats.org/officeDocument/2006/relationships/slideLayout" Target="../slideLayouts/slideLayout981.xml"/><Relationship Id="rId12" Type="http://schemas.openxmlformats.org/officeDocument/2006/relationships/slideLayout" Target="../slideLayouts/slideLayout982.xml"/><Relationship Id="rId13" Type="http://schemas.openxmlformats.org/officeDocument/2006/relationships/slideLayout" Target="../slideLayouts/slideLayout983.xml"/><Relationship Id="rId14" Type="http://schemas.openxmlformats.org/officeDocument/2006/relationships/slideLayout" Target="../slideLayouts/slideLayout984.xml"/>
</Relationships>
</file>

<file path=ppt/slideMasters/_rels/slideMaster83.xml.rels><?xml version="1.0" encoding="UTF-8"?>
<Relationships xmlns="http://schemas.openxmlformats.org/package/2006/relationships"><Relationship Id="rId1" Type="http://schemas.openxmlformats.org/officeDocument/2006/relationships/theme" Target="../theme/theme83.xml"/><Relationship Id="rId2" Type="http://schemas.openxmlformats.org/officeDocument/2006/relationships/image" Target="../media/image1.png"/><Relationship Id="rId3" Type="http://schemas.openxmlformats.org/officeDocument/2006/relationships/slideLayout" Target="../slideLayouts/slideLayout985.xml"/><Relationship Id="rId4" Type="http://schemas.openxmlformats.org/officeDocument/2006/relationships/slideLayout" Target="../slideLayouts/slideLayout986.xml"/><Relationship Id="rId5" Type="http://schemas.openxmlformats.org/officeDocument/2006/relationships/slideLayout" Target="../slideLayouts/slideLayout987.xml"/><Relationship Id="rId6" Type="http://schemas.openxmlformats.org/officeDocument/2006/relationships/slideLayout" Target="../slideLayouts/slideLayout988.xml"/><Relationship Id="rId7" Type="http://schemas.openxmlformats.org/officeDocument/2006/relationships/slideLayout" Target="../slideLayouts/slideLayout989.xml"/><Relationship Id="rId8" Type="http://schemas.openxmlformats.org/officeDocument/2006/relationships/slideLayout" Target="../slideLayouts/slideLayout990.xml"/><Relationship Id="rId9" Type="http://schemas.openxmlformats.org/officeDocument/2006/relationships/slideLayout" Target="../slideLayouts/slideLayout991.xml"/><Relationship Id="rId10" Type="http://schemas.openxmlformats.org/officeDocument/2006/relationships/slideLayout" Target="../slideLayouts/slideLayout992.xml"/><Relationship Id="rId11" Type="http://schemas.openxmlformats.org/officeDocument/2006/relationships/slideLayout" Target="../slideLayouts/slideLayout993.xml"/><Relationship Id="rId12" Type="http://schemas.openxmlformats.org/officeDocument/2006/relationships/slideLayout" Target="../slideLayouts/slideLayout994.xml"/><Relationship Id="rId13" Type="http://schemas.openxmlformats.org/officeDocument/2006/relationships/slideLayout" Target="../slideLayouts/slideLayout995.xml"/><Relationship Id="rId14" Type="http://schemas.openxmlformats.org/officeDocument/2006/relationships/slideLayout" Target="../slideLayouts/slideLayout996.xml"/>
</Relationships>
</file>

<file path=ppt/slideMasters/_rels/slideMaster84.xml.rels><?xml version="1.0" encoding="UTF-8"?>
<Relationships xmlns="http://schemas.openxmlformats.org/package/2006/relationships"><Relationship Id="rId1" Type="http://schemas.openxmlformats.org/officeDocument/2006/relationships/theme" Target="../theme/theme84.xml"/><Relationship Id="rId2" Type="http://schemas.openxmlformats.org/officeDocument/2006/relationships/image" Target="../media/image1.png"/><Relationship Id="rId3" Type="http://schemas.openxmlformats.org/officeDocument/2006/relationships/slideLayout" Target="../slideLayouts/slideLayout997.xml"/><Relationship Id="rId4" Type="http://schemas.openxmlformats.org/officeDocument/2006/relationships/slideLayout" Target="../slideLayouts/slideLayout998.xml"/><Relationship Id="rId5" Type="http://schemas.openxmlformats.org/officeDocument/2006/relationships/slideLayout" Target="../slideLayouts/slideLayout999.xml"/><Relationship Id="rId6" Type="http://schemas.openxmlformats.org/officeDocument/2006/relationships/slideLayout" Target="../slideLayouts/slideLayout1000.xml"/><Relationship Id="rId7" Type="http://schemas.openxmlformats.org/officeDocument/2006/relationships/slideLayout" Target="../slideLayouts/slideLayout1001.xml"/><Relationship Id="rId8" Type="http://schemas.openxmlformats.org/officeDocument/2006/relationships/slideLayout" Target="../slideLayouts/slideLayout1002.xml"/><Relationship Id="rId9" Type="http://schemas.openxmlformats.org/officeDocument/2006/relationships/slideLayout" Target="../slideLayouts/slideLayout1003.xml"/><Relationship Id="rId10" Type="http://schemas.openxmlformats.org/officeDocument/2006/relationships/slideLayout" Target="../slideLayouts/slideLayout1004.xml"/><Relationship Id="rId11" Type="http://schemas.openxmlformats.org/officeDocument/2006/relationships/slideLayout" Target="../slideLayouts/slideLayout1005.xml"/><Relationship Id="rId12" Type="http://schemas.openxmlformats.org/officeDocument/2006/relationships/slideLayout" Target="../slideLayouts/slideLayout1006.xml"/><Relationship Id="rId13" Type="http://schemas.openxmlformats.org/officeDocument/2006/relationships/slideLayout" Target="../slideLayouts/slideLayout1007.xml"/><Relationship Id="rId14" Type="http://schemas.openxmlformats.org/officeDocument/2006/relationships/slideLayout" Target="../slideLayouts/slideLayout1008.xml"/>
</Relationships>
</file>

<file path=ppt/slideMasters/_rels/slideMaster85.xml.rels><?xml version="1.0" encoding="UTF-8"?>
<Relationships xmlns="http://schemas.openxmlformats.org/package/2006/relationships"><Relationship Id="rId1" Type="http://schemas.openxmlformats.org/officeDocument/2006/relationships/theme" Target="../theme/theme85.xml"/><Relationship Id="rId2" Type="http://schemas.openxmlformats.org/officeDocument/2006/relationships/image" Target="../media/image1.png"/><Relationship Id="rId3" Type="http://schemas.openxmlformats.org/officeDocument/2006/relationships/slideLayout" Target="../slideLayouts/slideLayout1009.xml"/><Relationship Id="rId4" Type="http://schemas.openxmlformats.org/officeDocument/2006/relationships/slideLayout" Target="../slideLayouts/slideLayout1010.xml"/><Relationship Id="rId5" Type="http://schemas.openxmlformats.org/officeDocument/2006/relationships/slideLayout" Target="../slideLayouts/slideLayout1011.xml"/><Relationship Id="rId6" Type="http://schemas.openxmlformats.org/officeDocument/2006/relationships/slideLayout" Target="../slideLayouts/slideLayout1012.xml"/><Relationship Id="rId7" Type="http://schemas.openxmlformats.org/officeDocument/2006/relationships/slideLayout" Target="../slideLayouts/slideLayout1013.xml"/><Relationship Id="rId8" Type="http://schemas.openxmlformats.org/officeDocument/2006/relationships/slideLayout" Target="../slideLayouts/slideLayout1014.xml"/><Relationship Id="rId9" Type="http://schemas.openxmlformats.org/officeDocument/2006/relationships/slideLayout" Target="../slideLayouts/slideLayout1015.xml"/><Relationship Id="rId10" Type="http://schemas.openxmlformats.org/officeDocument/2006/relationships/slideLayout" Target="../slideLayouts/slideLayout1016.xml"/><Relationship Id="rId11" Type="http://schemas.openxmlformats.org/officeDocument/2006/relationships/slideLayout" Target="../slideLayouts/slideLayout1017.xml"/><Relationship Id="rId12" Type="http://schemas.openxmlformats.org/officeDocument/2006/relationships/slideLayout" Target="../slideLayouts/slideLayout1018.xml"/><Relationship Id="rId13" Type="http://schemas.openxmlformats.org/officeDocument/2006/relationships/slideLayout" Target="../slideLayouts/slideLayout1019.xml"/><Relationship Id="rId14" Type="http://schemas.openxmlformats.org/officeDocument/2006/relationships/slideLayout" Target="../slideLayouts/slideLayout1020.xml"/>
</Relationships>
</file>

<file path=ppt/slideMasters/_rels/slideMaster86.xml.rels><?xml version="1.0" encoding="UTF-8"?>
<Relationships xmlns="http://schemas.openxmlformats.org/package/2006/relationships"><Relationship Id="rId1" Type="http://schemas.openxmlformats.org/officeDocument/2006/relationships/theme" Target="../theme/theme86.xml"/><Relationship Id="rId2" Type="http://schemas.openxmlformats.org/officeDocument/2006/relationships/image" Target="../media/image1.png"/><Relationship Id="rId3" Type="http://schemas.openxmlformats.org/officeDocument/2006/relationships/slideLayout" Target="../slideLayouts/slideLayout1021.xml"/><Relationship Id="rId4" Type="http://schemas.openxmlformats.org/officeDocument/2006/relationships/slideLayout" Target="../slideLayouts/slideLayout1022.xml"/><Relationship Id="rId5" Type="http://schemas.openxmlformats.org/officeDocument/2006/relationships/slideLayout" Target="../slideLayouts/slideLayout1023.xml"/><Relationship Id="rId6" Type="http://schemas.openxmlformats.org/officeDocument/2006/relationships/slideLayout" Target="../slideLayouts/slideLayout1024.xml"/><Relationship Id="rId7" Type="http://schemas.openxmlformats.org/officeDocument/2006/relationships/slideLayout" Target="../slideLayouts/slideLayout1025.xml"/><Relationship Id="rId8" Type="http://schemas.openxmlformats.org/officeDocument/2006/relationships/slideLayout" Target="../slideLayouts/slideLayout1026.xml"/><Relationship Id="rId9" Type="http://schemas.openxmlformats.org/officeDocument/2006/relationships/slideLayout" Target="../slideLayouts/slideLayout1027.xml"/><Relationship Id="rId10" Type="http://schemas.openxmlformats.org/officeDocument/2006/relationships/slideLayout" Target="../slideLayouts/slideLayout1028.xml"/><Relationship Id="rId11" Type="http://schemas.openxmlformats.org/officeDocument/2006/relationships/slideLayout" Target="../slideLayouts/slideLayout1029.xml"/><Relationship Id="rId12" Type="http://schemas.openxmlformats.org/officeDocument/2006/relationships/slideLayout" Target="../slideLayouts/slideLayout1030.xml"/><Relationship Id="rId13" Type="http://schemas.openxmlformats.org/officeDocument/2006/relationships/slideLayout" Target="../slideLayouts/slideLayout1031.xml"/><Relationship Id="rId14" Type="http://schemas.openxmlformats.org/officeDocument/2006/relationships/slideLayout" Target="../slideLayouts/slideLayout1032.xml"/>
</Relationships>
</file>

<file path=ppt/slideMasters/_rels/slideMaster87.xml.rels><?xml version="1.0" encoding="UTF-8"?>
<Relationships xmlns="http://schemas.openxmlformats.org/package/2006/relationships"><Relationship Id="rId1" Type="http://schemas.openxmlformats.org/officeDocument/2006/relationships/theme" Target="../theme/theme87.xml"/><Relationship Id="rId2" Type="http://schemas.openxmlformats.org/officeDocument/2006/relationships/image" Target="../media/image1.png"/><Relationship Id="rId3" Type="http://schemas.openxmlformats.org/officeDocument/2006/relationships/slideLayout" Target="../slideLayouts/slideLayout1033.xml"/><Relationship Id="rId4" Type="http://schemas.openxmlformats.org/officeDocument/2006/relationships/slideLayout" Target="../slideLayouts/slideLayout1034.xml"/><Relationship Id="rId5" Type="http://schemas.openxmlformats.org/officeDocument/2006/relationships/slideLayout" Target="../slideLayouts/slideLayout1035.xml"/><Relationship Id="rId6" Type="http://schemas.openxmlformats.org/officeDocument/2006/relationships/slideLayout" Target="../slideLayouts/slideLayout1036.xml"/><Relationship Id="rId7" Type="http://schemas.openxmlformats.org/officeDocument/2006/relationships/slideLayout" Target="../slideLayouts/slideLayout1037.xml"/><Relationship Id="rId8" Type="http://schemas.openxmlformats.org/officeDocument/2006/relationships/slideLayout" Target="../slideLayouts/slideLayout1038.xml"/><Relationship Id="rId9" Type="http://schemas.openxmlformats.org/officeDocument/2006/relationships/slideLayout" Target="../slideLayouts/slideLayout1039.xml"/><Relationship Id="rId10" Type="http://schemas.openxmlformats.org/officeDocument/2006/relationships/slideLayout" Target="../slideLayouts/slideLayout1040.xml"/><Relationship Id="rId11" Type="http://schemas.openxmlformats.org/officeDocument/2006/relationships/slideLayout" Target="../slideLayouts/slideLayout1041.xml"/><Relationship Id="rId12" Type="http://schemas.openxmlformats.org/officeDocument/2006/relationships/slideLayout" Target="../slideLayouts/slideLayout1042.xml"/><Relationship Id="rId13" Type="http://schemas.openxmlformats.org/officeDocument/2006/relationships/slideLayout" Target="../slideLayouts/slideLayout1043.xml"/><Relationship Id="rId14" Type="http://schemas.openxmlformats.org/officeDocument/2006/relationships/slideLayout" Target="../slideLayouts/slideLayout1044.xml"/>
</Relationships>
</file>

<file path=ppt/slideMasters/_rels/slideMaster88.xml.rels><?xml version="1.0" encoding="UTF-8"?>
<Relationships xmlns="http://schemas.openxmlformats.org/package/2006/relationships"><Relationship Id="rId1" Type="http://schemas.openxmlformats.org/officeDocument/2006/relationships/theme" Target="../theme/theme88.xml"/><Relationship Id="rId2" Type="http://schemas.openxmlformats.org/officeDocument/2006/relationships/image" Target="../media/image1.png"/><Relationship Id="rId3" Type="http://schemas.openxmlformats.org/officeDocument/2006/relationships/slideLayout" Target="../slideLayouts/slideLayout1045.xml"/><Relationship Id="rId4" Type="http://schemas.openxmlformats.org/officeDocument/2006/relationships/slideLayout" Target="../slideLayouts/slideLayout1046.xml"/><Relationship Id="rId5" Type="http://schemas.openxmlformats.org/officeDocument/2006/relationships/slideLayout" Target="../slideLayouts/slideLayout1047.xml"/><Relationship Id="rId6" Type="http://schemas.openxmlformats.org/officeDocument/2006/relationships/slideLayout" Target="../slideLayouts/slideLayout1048.xml"/><Relationship Id="rId7" Type="http://schemas.openxmlformats.org/officeDocument/2006/relationships/slideLayout" Target="../slideLayouts/slideLayout1049.xml"/><Relationship Id="rId8" Type="http://schemas.openxmlformats.org/officeDocument/2006/relationships/slideLayout" Target="../slideLayouts/slideLayout1050.xml"/><Relationship Id="rId9" Type="http://schemas.openxmlformats.org/officeDocument/2006/relationships/slideLayout" Target="../slideLayouts/slideLayout1051.xml"/><Relationship Id="rId10" Type="http://schemas.openxmlformats.org/officeDocument/2006/relationships/slideLayout" Target="../slideLayouts/slideLayout1052.xml"/><Relationship Id="rId11" Type="http://schemas.openxmlformats.org/officeDocument/2006/relationships/slideLayout" Target="../slideLayouts/slideLayout1053.xml"/><Relationship Id="rId12" Type="http://schemas.openxmlformats.org/officeDocument/2006/relationships/slideLayout" Target="../slideLayouts/slideLayout1054.xml"/><Relationship Id="rId13" Type="http://schemas.openxmlformats.org/officeDocument/2006/relationships/slideLayout" Target="../slideLayouts/slideLayout1055.xml"/><Relationship Id="rId14" Type="http://schemas.openxmlformats.org/officeDocument/2006/relationships/slideLayout" Target="../slideLayouts/slideLayout1056.xml"/>
</Relationships>
</file>

<file path=ppt/slideMasters/_rels/slideMaster89.xml.rels><?xml version="1.0" encoding="UTF-8"?>
<Relationships xmlns="http://schemas.openxmlformats.org/package/2006/relationships"><Relationship Id="rId1" Type="http://schemas.openxmlformats.org/officeDocument/2006/relationships/theme" Target="../theme/theme89.xml"/><Relationship Id="rId2" Type="http://schemas.openxmlformats.org/officeDocument/2006/relationships/image" Target="../media/image1.png"/><Relationship Id="rId3" Type="http://schemas.openxmlformats.org/officeDocument/2006/relationships/slideLayout" Target="../slideLayouts/slideLayout1057.xml"/><Relationship Id="rId4" Type="http://schemas.openxmlformats.org/officeDocument/2006/relationships/slideLayout" Target="../slideLayouts/slideLayout1058.xml"/><Relationship Id="rId5" Type="http://schemas.openxmlformats.org/officeDocument/2006/relationships/slideLayout" Target="../slideLayouts/slideLayout1059.xml"/><Relationship Id="rId6" Type="http://schemas.openxmlformats.org/officeDocument/2006/relationships/slideLayout" Target="../slideLayouts/slideLayout1060.xml"/><Relationship Id="rId7" Type="http://schemas.openxmlformats.org/officeDocument/2006/relationships/slideLayout" Target="../slideLayouts/slideLayout1061.xml"/><Relationship Id="rId8" Type="http://schemas.openxmlformats.org/officeDocument/2006/relationships/slideLayout" Target="../slideLayouts/slideLayout1062.xml"/><Relationship Id="rId9" Type="http://schemas.openxmlformats.org/officeDocument/2006/relationships/slideLayout" Target="../slideLayouts/slideLayout1063.xml"/><Relationship Id="rId10" Type="http://schemas.openxmlformats.org/officeDocument/2006/relationships/slideLayout" Target="../slideLayouts/slideLayout1064.xml"/><Relationship Id="rId11" Type="http://schemas.openxmlformats.org/officeDocument/2006/relationships/slideLayout" Target="../slideLayouts/slideLayout1065.xml"/><Relationship Id="rId12" Type="http://schemas.openxmlformats.org/officeDocument/2006/relationships/slideLayout" Target="../slideLayouts/slideLayout1066.xml"/><Relationship Id="rId13" Type="http://schemas.openxmlformats.org/officeDocument/2006/relationships/slideLayout" Target="../slideLayouts/slideLayout1067.xml"/><Relationship Id="rId14" Type="http://schemas.openxmlformats.org/officeDocument/2006/relationships/slideLayout" Target="../slideLayouts/slideLayout1068.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_rels/slideMaster90.xml.rels><?xml version="1.0" encoding="UTF-8"?>
<Relationships xmlns="http://schemas.openxmlformats.org/package/2006/relationships"><Relationship Id="rId1" Type="http://schemas.openxmlformats.org/officeDocument/2006/relationships/theme" Target="../theme/theme90.xml"/><Relationship Id="rId2" Type="http://schemas.openxmlformats.org/officeDocument/2006/relationships/image" Target="../media/image1.png"/><Relationship Id="rId3" Type="http://schemas.openxmlformats.org/officeDocument/2006/relationships/slideLayout" Target="../slideLayouts/slideLayout1069.xml"/><Relationship Id="rId4" Type="http://schemas.openxmlformats.org/officeDocument/2006/relationships/slideLayout" Target="../slideLayouts/slideLayout1070.xml"/><Relationship Id="rId5" Type="http://schemas.openxmlformats.org/officeDocument/2006/relationships/slideLayout" Target="../slideLayouts/slideLayout1071.xml"/><Relationship Id="rId6" Type="http://schemas.openxmlformats.org/officeDocument/2006/relationships/slideLayout" Target="../slideLayouts/slideLayout1072.xml"/><Relationship Id="rId7" Type="http://schemas.openxmlformats.org/officeDocument/2006/relationships/slideLayout" Target="../slideLayouts/slideLayout1073.xml"/><Relationship Id="rId8" Type="http://schemas.openxmlformats.org/officeDocument/2006/relationships/slideLayout" Target="../slideLayouts/slideLayout1074.xml"/><Relationship Id="rId9" Type="http://schemas.openxmlformats.org/officeDocument/2006/relationships/slideLayout" Target="../slideLayouts/slideLayout1075.xml"/><Relationship Id="rId10" Type="http://schemas.openxmlformats.org/officeDocument/2006/relationships/slideLayout" Target="../slideLayouts/slideLayout1076.xml"/><Relationship Id="rId11" Type="http://schemas.openxmlformats.org/officeDocument/2006/relationships/slideLayout" Target="../slideLayouts/slideLayout1077.xml"/><Relationship Id="rId12" Type="http://schemas.openxmlformats.org/officeDocument/2006/relationships/slideLayout" Target="../slideLayouts/slideLayout1078.xml"/><Relationship Id="rId13" Type="http://schemas.openxmlformats.org/officeDocument/2006/relationships/slideLayout" Target="../slideLayouts/slideLayout1079.xml"/><Relationship Id="rId14" Type="http://schemas.openxmlformats.org/officeDocument/2006/relationships/slideLayout" Target="../slideLayouts/slideLayout1080.xml"/>
</Relationships>
</file>

<file path=ppt/slideMasters/_rels/slideMaster91.xml.rels><?xml version="1.0" encoding="UTF-8"?>
<Relationships xmlns="http://schemas.openxmlformats.org/package/2006/relationships"><Relationship Id="rId1" Type="http://schemas.openxmlformats.org/officeDocument/2006/relationships/theme" Target="../theme/theme91.xml"/><Relationship Id="rId2" Type="http://schemas.openxmlformats.org/officeDocument/2006/relationships/image" Target="../media/image1.png"/><Relationship Id="rId3" Type="http://schemas.openxmlformats.org/officeDocument/2006/relationships/slideLayout" Target="../slideLayouts/slideLayout1081.xml"/><Relationship Id="rId4" Type="http://schemas.openxmlformats.org/officeDocument/2006/relationships/slideLayout" Target="../slideLayouts/slideLayout1082.xml"/><Relationship Id="rId5" Type="http://schemas.openxmlformats.org/officeDocument/2006/relationships/slideLayout" Target="../slideLayouts/slideLayout1083.xml"/><Relationship Id="rId6" Type="http://schemas.openxmlformats.org/officeDocument/2006/relationships/slideLayout" Target="../slideLayouts/slideLayout1084.xml"/><Relationship Id="rId7" Type="http://schemas.openxmlformats.org/officeDocument/2006/relationships/slideLayout" Target="../slideLayouts/slideLayout1085.xml"/><Relationship Id="rId8" Type="http://schemas.openxmlformats.org/officeDocument/2006/relationships/slideLayout" Target="../slideLayouts/slideLayout1086.xml"/><Relationship Id="rId9" Type="http://schemas.openxmlformats.org/officeDocument/2006/relationships/slideLayout" Target="../slideLayouts/slideLayout1087.xml"/><Relationship Id="rId10" Type="http://schemas.openxmlformats.org/officeDocument/2006/relationships/slideLayout" Target="../slideLayouts/slideLayout1088.xml"/><Relationship Id="rId11" Type="http://schemas.openxmlformats.org/officeDocument/2006/relationships/slideLayout" Target="../slideLayouts/slideLayout1089.xml"/><Relationship Id="rId12" Type="http://schemas.openxmlformats.org/officeDocument/2006/relationships/slideLayout" Target="../slideLayouts/slideLayout1090.xml"/><Relationship Id="rId13" Type="http://schemas.openxmlformats.org/officeDocument/2006/relationships/slideLayout" Target="../slideLayouts/slideLayout1091.xml"/><Relationship Id="rId14" Type="http://schemas.openxmlformats.org/officeDocument/2006/relationships/slideLayout" Target="../slideLayouts/slideLayout1092.xml"/>
</Relationships>
</file>

<file path=ppt/slideMasters/_rels/slideMaster92.xml.rels><?xml version="1.0" encoding="UTF-8"?>
<Relationships xmlns="http://schemas.openxmlformats.org/package/2006/relationships"><Relationship Id="rId1" Type="http://schemas.openxmlformats.org/officeDocument/2006/relationships/theme" Target="../theme/theme92.xml"/><Relationship Id="rId2" Type="http://schemas.openxmlformats.org/officeDocument/2006/relationships/image" Target="../media/image1.png"/><Relationship Id="rId3" Type="http://schemas.openxmlformats.org/officeDocument/2006/relationships/slideLayout" Target="../slideLayouts/slideLayout1093.xml"/><Relationship Id="rId4" Type="http://schemas.openxmlformats.org/officeDocument/2006/relationships/slideLayout" Target="../slideLayouts/slideLayout1094.xml"/><Relationship Id="rId5" Type="http://schemas.openxmlformats.org/officeDocument/2006/relationships/slideLayout" Target="../slideLayouts/slideLayout1095.xml"/><Relationship Id="rId6" Type="http://schemas.openxmlformats.org/officeDocument/2006/relationships/slideLayout" Target="../slideLayouts/slideLayout1096.xml"/><Relationship Id="rId7" Type="http://schemas.openxmlformats.org/officeDocument/2006/relationships/slideLayout" Target="../slideLayouts/slideLayout1097.xml"/><Relationship Id="rId8" Type="http://schemas.openxmlformats.org/officeDocument/2006/relationships/slideLayout" Target="../slideLayouts/slideLayout1098.xml"/><Relationship Id="rId9" Type="http://schemas.openxmlformats.org/officeDocument/2006/relationships/slideLayout" Target="../slideLayouts/slideLayout1099.xml"/><Relationship Id="rId10" Type="http://schemas.openxmlformats.org/officeDocument/2006/relationships/slideLayout" Target="../slideLayouts/slideLayout1100.xml"/><Relationship Id="rId11" Type="http://schemas.openxmlformats.org/officeDocument/2006/relationships/slideLayout" Target="../slideLayouts/slideLayout1101.xml"/><Relationship Id="rId12" Type="http://schemas.openxmlformats.org/officeDocument/2006/relationships/slideLayout" Target="../slideLayouts/slideLayout1102.xml"/><Relationship Id="rId13" Type="http://schemas.openxmlformats.org/officeDocument/2006/relationships/slideLayout" Target="../slideLayouts/slideLayout1103.xml"/><Relationship Id="rId14" Type="http://schemas.openxmlformats.org/officeDocument/2006/relationships/slideLayout" Target="../slideLayouts/slideLayout1104.xml"/>
</Relationships>
</file>

<file path=ppt/slideMasters/_rels/slideMaster93.xml.rels><?xml version="1.0" encoding="UTF-8"?>
<Relationships xmlns="http://schemas.openxmlformats.org/package/2006/relationships"><Relationship Id="rId1" Type="http://schemas.openxmlformats.org/officeDocument/2006/relationships/theme" Target="../theme/theme93.xml"/><Relationship Id="rId2" Type="http://schemas.openxmlformats.org/officeDocument/2006/relationships/image" Target="../media/image1.png"/><Relationship Id="rId3" Type="http://schemas.openxmlformats.org/officeDocument/2006/relationships/slideLayout" Target="../slideLayouts/slideLayout1105.xml"/><Relationship Id="rId4" Type="http://schemas.openxmlformats.org/officeDocument/2006/relationships/slideLayout" Target="../slideLayouts/slideLayout1106.xml"/><Relationship Id="rId5" Type="http://schemas.openxmlformats.org/officeDocument/2006/relationships/slideLayout" Target="../slideLayouts/slideLayout1107.xml"/><Relationship Id="rId6" Type="http://schemas.openxmlformats.org/officeDocument/2006/relationships/slideLayout" Target="../slideLayouts/slideLayout1108.xml"/><Relationship Id="rId7" Type="http://schemas.openxmlformats.org/officeDocument/2006/relationships/slideLayout" Target="../slideLayouts/slideLayout1109.xml"/><Relationship Id="rId8" Type="http://schemas.openxmlformats.org/officeDocument/2006/relationships/slideLayout" Target="../slideLayouts/slideLayout1110.xml"/><Relationship Id="rId9" Type="http://schemas.openxmlformats.org/officeDocument/2006/relationships/slideLayout" Target="../slideLayouts/slideLayout1111.xml"/><Relationship Id="rId10" Type="http://schemas.openxmlformats.org/officeDocument/2006/relationships/slideLayout" Target="../slideLayouts/slideLayout1112.xml"/><Relationship Id="rId11" Type="http://schemas.openxmlformats.org/officeDocument/2006/relationships/slideLayout" Target="../slideLayouts/slideLayout1113.xml"/><Relationship Id="rId12" Type="http://schemas.openxmlformats.org/officeDocument/2006/relationships/slideLayout" Target="../slideLayouts/slideLayout1114.xml"/><Relationship Id="rId13" Type="http://schemas.openxmlformats.org/officeDocument/2006/relationships/slideLayout" Target="../slideLayouts/slideLayout1115.xml"/><Relationship Id="rId14" Type="http://schemas.openxmlformats.org/officeDocument/2006/relationships/slideLayout" Target="../slideLayouts/slideLayout1116.xml"/>
</Relationships>
</file>

<file path=ppt/slideMasters/_rels/slideMaster94.xml.rels><?xml version="1.0" encoding="UTF-8"?>
<Relationships xmlns="http://schemas.openxmlformats.org/package/2006/relationships"><Relationship Id="rId1" Type="http://schemas.openxmlformats.org/officeDocument/2006/relationships/theme" Target="../theme/theme94.xml"/><Relationship Id="rId2" Type="http://schemas.openxmlformats.org/officeDocument/2006/relationships/image" Target="../media/image1.png"/><Relationship Id="rId3" Type="http://schemas.openxmlformats.org/officeDocument/2006/relationships/slideLayout" Target="../slideLayouts/slideLayout1117.xml"/><Relationship Id="rId4" Type="http://schemas.openxmlformats.org/officeDocument/2006/relationships/slideLayout" Target="../slideLayouts/slideLayout1118.xml"/><Relationship Id="rId5" Type="http://schemas.openxmlformats.org/officeDocument/2006/relationships/slideLayout" Target="../slideLayouts/slideLayout1119.xml"/><Relationship Id="rId6" Type="http://schemas.openxmlformats.org/officeDocument/2006/relationships/slideLayout" Target="../slideLayouts/slideLayout1120.xml"/><Relationship Id="rId7" Type="http://schemas.openxmlformats.org/officeDocument/2006/relationships/slideLayout" Target="../slideLayouts/slideLayout1121.xml"/><Relationship Id="rId8" Type="http://schemas.openxmlformats.org/officeDocument/2006/relationships/slideLayout" Target="../slideLayouts/slideLayout1122.xml"/><Relationship Id="rId9" Type="http://schemas.openxmlformats.org/officeDocument/2006/relationships/slideLayout" Target="../slideLayouts/slideLayout1123.xml"/><Relationship Id="rId10" Type="http://schemas.openxmlformats.org/officeDocument/2006/relationships/slideLayout" Target="../slideLayouts/slideLayout1124.xml"/><Relationship Id="rId11" Type="http://schemas.openxmlformats.org/officeDocument/2006/relationships/slideLayout" Target="../slideLayouts/slideLayout1125.xml"/><Relationship Id="rId12" Type="http://schemas.openxmlformats.org/officeDocument/2006/relationships/slideLayout" Target="../slideLayouts/slideLayout1126.xml"/><Relationship Id="rId13" Type="http://schemas.openxmlformats.org/officeDocument/2006/relationships/slideLayout" Target="../slideLayouts/slideLayout1127.xml"/><Relationship Id="rId14" Type="http://schemas.openxmlformats.org/officeDocument/2006/relationships/slideLayout" Target="../slideLayouts/slideLayout1128.xml"/>
</Relationships>
</file>

<file path=ppt/slideMasters/_rels/slideMaster95.xml.rels><?xml version="1.0" encoding="UTF-8"?>
<Relationships xmlns="http://schemas.openxmlformats.org/package/2006/relationships"><Relationship Id="rId1" Type="http://schemas.openxmlformats.org/officeDocument/2006/relationships/theme" Target="../theme/theme95.xml"/><Relationship Id="rId2" Type="http://schemas.openxmlformats.org/officeDocument/2006/relationships/image" Target="../media/image1.png"/><Relationship Id="rId3" Type="http://schemas.openxmlformats.org/officeDocument/2006/relationships/slideLayout" Target="../slideLayouts/slideLayout1129.xml"/><Relationship Id="rId4" Type="http://schemas.openxmlformats.org/officeDocument/2006/relationships/slideLayout" Target="../slideLayouts/slideLayout1130.xml"/><Relationship Id="rId5" Type="http://schemas.openxmlformats.org/officeDocument/2006/relationships/slideLayout" Target="../slideLayouts/slideLayout1131.xml"/><Relationship Id="rId6" Type="http://schemas.openxmlformats.org/officeDocument/2006/relationships/slideLayout" Target="../slideLayouts/slideLayout1132.xml"/><Relationship Id="rId7" Type="http://schemas.openxmlformats.org/officeDocument/2006/relationships/slideLayout" Target="../slideLayouts/slideLayout1133.xml"/><Relationship Id="rId8" Type="http://schemas.openxmlformats.org/officeDocument/2006/relationships/slideLayout" Target="../slideLayouts/slideLayout1134.xml"/><Relationship Id="rId9" Type="http://schemas.openxmlformats.org/officeDocument/2006/relationships/slideLayout" Target="../slideLayouts/slideLayout1135.xml"/><Relationship Id="rId10" Type="http://schemas.openxmlformats.org/officeDocument/2006/relationships/slideLayout" Target="../slideLayouts/slideLayout1136.xml"/><Relationship Id="rId11" Type="http://schemas.openxmlformats.org/officeDocument/2006/relationships/slideLayout" Target="../slideLayouts/slideLayout1137.xml"/><Relationship Id="rId12" Type="http://schemas.openxmlformats.org/officeDocument/2006/relationships/slideLayout" Target="../slideLayouts/slideLayout1138.xml"/><Relationship Id="rId13" Type="http://schemas.openxmlformats.org/officeDocument/2006/relationships/slideLayout" Target="../slideLayouts/slideLayout1139.xml"/><Relationship Id="rId14" Type="http://schemas.openxmlformats.org/officeDocument/2006/relationships/slideLayout" Target="../slideLayouts/slideLayout1140.xml"/>
</Relationships>
</file>

<file path=ppt/slideMasters/_rels/slideMaster96.xml.rels><?xml version="1.0" encoding="UTF-8"?>
<Relationships xmlns="http://schemas.openxmlformats.org/package/2006/relationships"><Relationship Id="rId1" Type="http://schemas.openxmlformats.org/officeDocument/2006/relationships/theme" Target="../theme/theme96.xml"/><Relationship Id="rId2" Type="http://schemas.openxmlformats.org/officeDocument/2006/relationships/image" Target="../media/image1.png"/><Relationship Id="rId3" Type="http://schemas.openxmlformats.org/officeDocument/2006/relationships/slideLayout" Target="../slideLayouts/slideLayout1141.xml"/><Relationship Id="rId4" Type="http://schemas.openxmlformats.org/officeDocument/2006/relationships/slideLayout" Target="../slideLayouts/slideLayout1142.xml"/><Relationship Id="rId5" Type="http://schemas.openxmlformats.org/officeDocument/2006/relationships/slideLayout" Target="../slideLayouts/slideLayout1143.xml"/><Relationship Id="rId6" Type="http://schemas.openxmlformats.org/officeDocument/2006/relationships/slideLayout" Target="../slideLayouts/slideLayout1144.xml"/><Relationship Id="rId7" Type="http://schemas.openxmlformats.org/officeDocument/2006/relationships/slideLayout" Target="../slideLayouts/slideLayout1145.xml"/><Relationship Id="rId8" Type="http://schemas.openxmlformats.org/officeDocument/2006/relationships/slideLayout" Target="../slideLayouts/slideLayout1146.xml"/><Relationship Id="rId9" Type="http://schemas.openxmlformats.org/officeDocument/2006/relationships/slideLayout" Target="../slideLayouts/slideLayout1147.xml"/><Relationship Id="rId10" Type="http://schemas.openxmlformats.org/officeDocument/2006/relationships/slideLayout" Target="../slideLayouts/slideLayout1148.xml"/><Relationship Id="rId11" Type="http://schemas.openxmlformats.org/officeDocument/2006/relationships/slideLayout" Target="../slideLayouts/slideLayout1149.xml"/><Relationship Id="rId12" Type="http://schemas.openxmlformats.org/officeDocument/2006/relationships/slideLayout" Target="../slideLayouts/slideLayout1150.xml"/><Relationship Id="rId13" Type="http://schemas.openxmlformats.org/officeDocument/2006/relationships/slideLayout" Target="../slideLayouts/slideLayout1151.xml"/><Relationship Id="rId14" Type="http://schemas.openxmlformats.org/officeDocument/2006/relationships/slideLayout" Target="../slideLayouts/slideLayout1152.xml"/>
</Relationships>
</file>

<file path=ppt/slideMasters/_rels/slideMaster97.xml.rels><?xml version="1.0" encoding="UTF-8"?>
<Relationships xmlns="http://schemas.openxmlformats.org/package/2006/relationships"><Relationship Id="rId1" Type="http://schemas.openxmlformats.org/officeDocument/2006/relationships/theme" Target="../theme/theme97.xml"/><Relationship Id="rId2" Type="http://schemas.openxmlformats.org/officeDocument/2006/relationships/image" Target="../media/image1.png"/><Relationship Id="rId3" Type="http://schemas.openxmlformats.org/officeDocument/2006/relationships/slideLayout" Target="../slideLayouts/slideLayout1153.xml"/><Relationship Id="rId4" Type="http://schemas.openxmlformats.org/officeDocument/2006/relationships/slideLayout" Target="../slideLayouts/slideLayout1154.xml"/><Relationship Id="rId5" Type="http://schemas.openxmlformats.org/officeDocument/2006/relationships/slideLayout" Target="../slideLayouts/slideLayout1155.xml"/><Relationship Id="rId6" Type="http://schemas.openxmlformats.org/officeDocument/2006/relationships/slideLayout" Target="../slideLayouts/slideLayout1156.xml"/><Relationship Id="rId7" Type="http://schemas.openxmlformats.org/officeDocument/2006/relationships/slideLayout" Target="../slideLayouts/slideLayout1157.xml"/><Relationship Id="rId8" Type="http://schemas.openxmlformats.org/officeDocument/2006/relationships/slideLayout" Target="../slideLayouts/slideLayout1158.xml"/><Relationship Id="rId9" Type="http://schemas.openxmlformats.org/officeDocument/2006/relationships/slideLayout" Target="../slideLayouts/slideLayout1159.xml"/><Relationship Id="rId10" Type="http://schemas.openxmlformats.org/officeDocument/2006/relationships/slideLayout" Target="../slideLayouts/slideLayout1160.xml"/><Relationship Id="rId11" Type="http://schemas.openxmlformats.org/officeDocument/2006/relationships/slideLayout" Target="../slideLayouts/slideLayout1161.xml"/><Relationship Id="rId12" Type="http://schemas.openxmlformats.org/officeDocument/2006/relationships/slideLayout" Target="../slideLayouts/slideLayout1162.xml"/><Relationship Id="rId13" Type="http://schemas.openxmlformats.org/officeDocument/2006/relationships/slideLayout" Target="../slideLayouts/slideLayout1163.xml"/><Relationship Id="rId14" Type="http://schemas.openxmlformats.org/officeDocument/2006/relationships/slideLayout" Target="../slideLayouts/slideLayout116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Shape 2"/>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02E8ED7-1DD9-4759-B576-A478631F21A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 name="pasted-image.pdf" descr=""/>
          <p:cNvPicPr/>
          <p:nvPr/>
        </p:nvPicPr>
        <p:blipFill>
          <a:blip r:embed="rId2"/>
          <a:stretch/>
        </p:blipFill>
        <p:spPr>
          <a:xfrm>
            <a:off x="11176560" y="0"/>
            <a:ext cx="13207320" cy="13715640"/>
          </a:xfrm>
          <a:prstGeom prst="rect">
            <a:avLst/>
          </a:prstGeom>
          <a:ln w="12700">
            <a:noFill/>
          </a:ln>
        </p:spPr>
      </p:pic>
      <p:sp>
        <p:nvSpPr>
          <p:cNvPr id="2" name="PlaceHolder 1"/>
          <p:cNvSpPr>
            <a:spLocks noGrp="1"/>
          </p:cNvSpPr>
          <p:nvPr>
            <p:ph type="sldNum" idx="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95D72433-58B9-46A9-9737-DA95AFCB8875}"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 name="PlaceHolder 2"/>
          <p:cNvSpPr>
            <a:spLocks noGrp="1"/>
          </p:cNvSpPr>
          <p:nvPr>
            <p:ph type="body"/>
          </p:nvPr>
        </p:nvSpPr>
        <p:spPr>
          <a:xfrm>
            <a:off x="11172240" y="0"/>
            <a:ext cx="13211280" cy="13715640"/>
          </a:xfrm>
          <a:prstGeom prst="rect">
            <a:avLst/>
          </a:prstGeom>
          <a:pattFill prst="wdUpDiag">
            <a:fgClr>
              <a:srgbClr val="45a4fc"/>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0BF1772-AD59-4FF9-BFC1-7736128D6F9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82" name="pasted-image.pdf" descr=""/>
          <p:cNvPicPr/>
          <p:nvPr/>
        </p:nvPicPr>
        <p:blipFill>
          <a:blip r:embed="rId2"/>
          <a:stretch/>
        </p:blipFill>
        <p:spPr>
          <a:xfrm>
            <a:off x="11176560" y="0"/>
            <a:ext cx="13207320" cy="13715640"/>
          </a:xfrm>
          <a:prstGeom prst="rect">
            <a:avLst/>
          </a:prstGeom>
          <a:ln w="12700">
            <a:noFill/>
          </a:ln>
        </p:spPr>
      </p:pic>
      <p:sp>
        <p:nvSpPr>
          <p:cNvPr id="383" name="Shape 8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0529EF7-D48B-495C-9342-9166A0D9AB1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84" name="PlaceHolder 1"/>
          <p:cNvSpPr>
            <a:spLocks noGrp="1"/>
          </p:cNvSpPr>
          <p:nvPr>
            <p:ph type="body"/>
          </p:nvPr>
        </p:nvSpPr>
        <p:spPr>
          <a:xfrm>
            <a:off x="2323440" y="2870280"/>
            <a:ext cx="6006960" cy="797508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85" name="PlaceHolder 2"/>
          <p:cNvSpPr>
            <a:spLocks noGrp="1"/>
          </p:cNvSpPr>
          <p:nvPr>
            <p:ph type="body"/>
          </p:nvPr>
        </p:nvSpPr>
        <p:spPr>
          <a:xfrm>
            <a:off x="8695080" y="8564760"/>
            <a:ext cx="1750680" cy="202752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86" name="PlaceHolder 3"/>
          <p:cNvSpPr>
            <a:spLocks noGrp="1"/>
          </p:cNvSpPr>
          <p:nvPr>
            <p:ph type="sldNum" idx="10"/>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048FEB15-37FF-4C39-94ED-3422C2DFC3C0}"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87"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79AE5B6-470B-4B3D-9FB8-E677237F57A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425" name="pasted-image.pdf" descr=""/>
          <p:cNvPicPr/>
          <p:nvPr/>
        </p:nvPicPr>
        <p:blipFill>
          <a:blip r:embed="rId2"/>
          <a:stretch/>
        </p:blipFill>
        <p:spPr>
          <a:xfrm>
            <a:off x="11176560" y="0"/>
            <a:ext cx="13207320" cy="13715640"/>
          </a:xfrm>
          <a:prstGeom prst="rect">
            <a:avLst/>
          </a:prstGeom>
          <a:ln w="12700">
            <a:noFill/>
          </a:ln>
        </p:spPr>
      </p:pic>
      <p:sp>
        <p:nvSpPr>
          <p:cNvPr id="426" name="Shape 9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9B6F53CB-F7CB-4F94-86B0-4A6115B61C5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427" name="PlaceHolder 1"/>
          <p:cNvSpPr>
            <a:spLocks noGrp="1"/>
          </p:cNvSpPr>
          <p:nvPr>
            <p:ph type="sldNum" idx="1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3A97DE94-A2C9-4827-9F28-7A614A7C2D33}"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428" name="PlaceHolder 2"/>
          <p:cNvSpPr>
            <a:spLocks noGrp="1"/>
          </p:cNvSpPr>
          <p:nvPr>
            <p:ph type="body"/>
          </p:nvPr>
        </p:nvSpPr>
        <p:spPr>
          <a:xfrm>
            <a:off x="3105360" y="5376240"/>
            <a:ext cx="2958120" cy="2965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29" name="PlaceHolder 3"/>
          <p:cNvSpPr>
            <a:spLocks noGrp="1"/>
          </p:cNvSpPr>
          <p:nvPr>
            <p:ph type="body"/>
          </p:nvPr>
        </p:nvSpPr>
        <p:spPr>
          <a:xfrm>
            <a:off x="10728000" y="5383800"/>
            <a:ext cx="2958120" cy="2965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30" name="PlaceHolder 4"/>
          <p:cNvSpPr>
            <a:spLocks noGrp="1"/>
          </p:cNvSpPr>
          <p:nvPr>
            <p:ph type="body"/>
          </p:nvPr>
        </p:nvSpPr>
        <p:spPr>
          <a:xfrm>
            <a:off x="18375840" y="5351040"/>
            <a:ext cx="2958120" cy="2965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31"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929C213-E26E-48D0-BB1B-E85636007E7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469" name="pasted-image.pdf" descr=""/>
          <p:cNvPicPr/>
          <p:nvPr/>
        </p:nvPicPr>
        <p:blipFill>
          <a:blip r:embed="rId2"/>
          <a:stretch/>
        </p:blipFill>
        <p:spPr>
          <a:xfrm>
            <a:off x="11176560" y="0"/>
            <a:ext cx="13207320" cy="13715640"/>
          </a:xfrm>
          <a:prstGeom prst="rect">
            <a:avLst/>
          </a:prstGeom>
          <a:ln w="12700">
            <a:noFill/>
          </a:ln>
        </p:spPr>
      </p:pic>
      <p:sp>
        <p:nvSpPr>
          <p:cNvPr id="470" name="Shape 10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3836AF5-A467-418D-8E9F-939CCB413DE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471" name="PlaceHolder 1"/>
          <p:cNvSpPr>
            <a:spLocks noGrp="1"/>
          </p:cNvSpPr>
          <p:nvPr>
            <p:ph type="sldNum" idx="1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7E8DA21-3F25-4EA1-8718-B862AF2DB11F}"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472" name="PlaceHolder 2"/>
          <p:cNvSpPr>
            <a:spLocks noGrp="1"/>
          </p:cNvSpPr>
          <p:nvPr>
            <p:ph type="body"/>
          </p:nvPr>
        </p:nvSpPr>
        <p:spPr>
          <a:xfrm>
            <a:off x="3105360" y="5376240"/>
            <a:ext cx="2958120" cy="2965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73" name="PlaceHolder 3"/>
          <p:cNvSpPr>
            <a:spLocks noGrp="1"/>
          </p:cNvSpPr>
          <p:nvPr>
            <p:ph type="body"/>
          </p:nvPr>
        </p:nvSpPr>
        <p:spPr>
          <a:xfrm>
            <a:off x="9292320" y="3944520"/>
            <a:ext cx="5829480" cy="58446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74"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F60D9C1-0274-4A92-8CBD-3F9DC936C68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512" name="pasted-image.pdf" descr=""/>
          <p:cNvPicPr/>
          <p:nvPr/>
        </p:nvPicPr>
        <p:blipFill>
          <a:blip r:embed="rId2"/>
          <a:stretch/>
        </p:blipFill>
        <p:spPr>
          <a:xfrm>
            <a:off x="11176560" y="0"/>
            <a:ext cx="13207320" cy="13715640"/>
          </a:xfrm>
          <a:prstGeom prst="rect">
            <a:avLst/>
          </a:prstGeom>
          <a:ln w="12700">
            <a:noFill/>
          </a:ln>
        </p:spPr>
      </p:pic>
      <p:sp>
        <p:nvSpPr>
          <p:cNvPr id="513" name="Shape 118"/>
          <p:cNvSpPr/>
          <p:nvPr/>
        </p:nvSpPr>
        <p:spPr>
          <a:xfrm>
            <a:off x="5040" y="0"/>
            <a:ext cx="978732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14" name="Shape 11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B6821BD-7E9A-45FC-8FAF-EE6985F163C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515" name="PlaceHolder 1"/>
          <p:cNvSpPr>
            <a:spLocks noGrp="1"/>
          </p:cNvSpPr>
          <p:nvPr>
            <p:ph type="body"/>
          </p:nvPr>
        </p:nvSpPr>
        <p:spPr>
          <a:xfrm>
            <a:off x="7765920" y="4661640"/>
            <a:ext cx="3900960" cy="4518000"/>
          </a:xfrm>
          <a:prstGeom prst="rect">
            <a:avLst/>
          </a:prstGeom>
          <a:pattFill prst="wdUpDiag">
            <a:fgClr>
              <a:srgbClr val="0365c0"/>
            </a:fgClr>
            <a:bgClr>
              <a:srgbClr val="dcdee0"/>
            </a:bgClr>
          </a:patt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3000" spc="-1" strike="noStrike">
                <a:solidFill>
                  <a:srgbClr val="5e5e5e"/>
                </a:solidFill>
                <a:latin typeface="Montserrat Light"/>
              </a:rPr>
              <a:t>Click to edit the outline text format</a:t>
            </a:r>
            <a:endParaRPr b="0" lang="en-US" sz="3000" spc="-1" strike="noStrike">
              <a:solidFill>
                <a:srgbClr val="5e5e5e"/>
              </a:solidFill>
              <a:latin typeface="Montserrat Light"/>
            </a:endParaRPr>
          </a:p>
          <a:p>
            <a:pPr lvl="1" marL="864000" indent="-324000">
              <a:lnSpc>
                <a:spcPct val="120000"/>
              </a:lnSpc>
              <a:spcBef>
                <a:spcPts val="1134"/>
              </a:spcBef>
              <a:buClr>
                <a:srgbClr val="000000"/>
              </a:buClr>
              <a:buSzPct val="75000"/>
              <a:buFont typeface="Symbol" charset="2"/>
              <a:buChar char=""/>
            </a:pPr>
            <a:r>
              <a:rPr b="0" lang="en-US" sz="3000" spc="-1" strike="noStrike">
                <a:solidFill>
                  <a:srgbClr val="5e5e5e"/>
                </a:solidFill>
                <a:latin typeface="Montserrat Light"/>
              </a:rPr>
              <a:t>Second Outline Level</a:t>
            </a:r>
            <a:endParaRPr b="0" lang="en-US" sz="3000" spc="-1" strike="noStrike">
              <a:solidFill>
                <a:srgbClr val="5e5e5e"/>
              </a:solidFill>
              <a:latin typeface="Montserrat Light"/>
            </a:endParaRPr>
          </a:p>
          <a:p>
            <a:pPr lvl="2" marL="1296000" indent="-288000">
              <a:lnSpc>
                <a:spcPct val="120000"/>
              </a:lnSpc>
              <a:spcBef>
                <a:spcPts val="850"/>
              </a:spcBef>
              <a:buClr>
                <a:srgbClr val="000000"/>
              </a:buClr>
              <a:buSzPct val="45000"/>
              <a:buFont typeface="Wingdings" charset="2"/>
              <a:buChar char=""/>
            </a:pPr>
            <a:r>
              <a:rPr b="0" lang="en-US" sz="3000" spc="-1" strike="noStrike">
                <a:solidFill>
                  <a:srgbClr val="5e5e5e"/>
                </a:solidFill>
                <a:latin typeface="Montserrat Light"/>
              </a:rPr>
              <a:t>Third Outline Level</a:t>
            </a:r>
            <a:endParaRPr b="0" lang="en-US" sz="3000" spc="-1" strike="noStrike">
              <a:solidFill>
                <a:srgbClr val="5e5e5e"/>
              </a:solidFill>
              <a:latin typeface="Montserrat Light"/>
            </a:endParaRPr>
          </a:p>
          <a:p>
            <a:pPr lvl="3" marL="1728000" indent="-216000">
              <a:lnSpc>
                <a:spcPct val="120000"/>
              </a:lnSpc>
              <a:spcBef>
                <a:spcPts val="567"/>
              </a:spcBef>
              <a:buClr>
                <a:srgbClr val="000000"/>
              </a:buClr>
              <a:buSzPct val="75000"/>
              <a:buFont typeface="Symbol" charset="2"/>
              <a:buChar char=""/>
            </a:pPr>
            <a:r>
              <a:rPr b="0" lang="en-US" sz="3000" spc="-1" strike="noStrike">
                <a:solidFill>
                  <a:srgbClr val="5e5e5e"/>
                </a:solidFill>
                <a:latin typeface="Montserrat Light"/>
              </a:rPr>
              <a:t>Fourth Outline Level</a:t>
            </a:r>
            <a:endParaRPr b="0" lang="en-US" sz="3000" spc="-1" strike="noStrike">
              <a:solidFill>
                <a:srgbClr val="5e5e5e"/>
              </a:solidFill>
              <a:latin typeface="Montserrat Light"/>
            </a:endParaRPr>
          </a:p>
          <a:p>
            <a:pPr lvl="4" marL="2160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Fifth Outline Level</a:t>
            </a:r>
            <a:endParaRPr b="0" lang="en-US" sz="3000" spc="-1" strike="noStrike">
              <a:solidFill>
                <a:srgbClr val="5e5e5e"/>
              </a:solidFill>
              <a:latin typeface="Montserrat Light"/>
            </a:endParaRPr>
          </a:p>
          <a:p>
            <a:pPr lvl="5" marL="2592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Sixth Outline Level</a:t>
            </a:r>
            <a:endParaRPr b="0" lang="en-US" sz="3000" spc="-1" strike="noStrike">
              <a:solidFill>
                <a:srgbClr val="5e5e5e"/>
              </a:solidFill>
              <a:latin typeface="Montserrat Light"/>
            </a:endParaRPr>
          </a:p>
          <a:p>
            <a:pPr lvl="6" marL="3024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Seventh Outline Level</a:t>
            </a:r>
            <a:endParaRPr b="0" lang="en-US" sz="3000" spc="-1" strike="noStrike">
              <a:solidFill>
                <a:srgbClr val="5e5e5e"/>
              </a:solidFill>
              <a:latin typeface="Montserrat Light"/>
            </a:endParaRPr>
          </a:p>
        </p:txBody>
      </p:sp>
      <p:sp>
        <p:nvSpPr>
          <p:cNvPr id="516" name="PlaceHolder 2"/>
          <p:cNvSpPr>
            <a:spLocks noGrp="1"/>
          </p:cNvSpPr>
          <p:nvPr>
            <p:ph type="sldNum" idx="1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D3A0F4E8-4692-450D-B291-66F8B9C83B93}"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517"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95084168-5413-47C0-AD9D-EA672A0850C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555" name="pasted-image.pdf" descr=""/>
          <p:cNvPicPr/>
          <p:nvPr/>
        </p:nvPicPr>
        <p:blipFill>
          <a:blip r:embed="rId2"/>
          <a:stretch/>
        </p:blipFill>
        <p:spPr>
          <a:xfrm>
            <a:off x="11176560" y="0"/>
            <a:ext cx="13207320" cy="13715640"/>
          </a:xfrm>
          <a:prstGeom prst="rect">
            <a:avLst/>
          </a:prstGeom>
          <a:ln w="12700">
            <a:noFill/>
          </a:ln>
        </p:spPr>
      </p:pic>
      <p:sp>
        <p:nvSpPr>
          <p:cNvPr id="556" name="PlaceHolder 1"/>
          <p:cNvSpPr>
            <a:spLocks noGrp="1"/>
          </p:cNvSpPr>
          <p:nvPr>
            <p:ph type="body"/>
          </p:nvPr>
        </p:nvSpPr>
        <p:spPr>
          <a:xfrm>
            <a:off x="11179800" y="0"/>
            <a:ext cx="13271400" cy="13715640"/>
          </a:xfrm>
          <a:prstGeom prst="rect">
            <a:avLst/>
          </a:prstGeom>
          <a:pattFill prst="wdUpDiag">
            <a:fgClr>
              <a:srgbClr val="0365c0"/>
            </a:fgClr>
            <a:bgClr>
              <a:srgbClr val="dcdee0"/>
            </a:bgClr>
          </a:patt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3000" spc="-1" strike="noStrike">
                <a:solidFill>
                  <a:srgbClr val="5e5e5e"/>
                </a:solidFill>
                <a:latin typeface="Montserrat Light"/>
              </a:rPr>
              <a:t>Click to edit the outline text format</a:t>
            </a:r>
            <a:endParaRPr b="0" lang="en-US" sz="3000" spc="-1" strike="noStrike">
              <a:solidFill>
                <a:srgbClr val="5e5e5e"/>
              </a:solidFill>
              <a:latin typeface="Montserrat Light"/>
            </a:endParaRPr>
          </a:p>
          <a:p>
            <a:pPr lvl="1" marL="864000" indent="-324000">
              <a:lnSpc>
                <a:spcPct val="120000"/>
              </a:lnSpc>
              <a:spcBef>
                <a:spcPts val="1134"/>
              </a:spcBef>
              <a:buClr>
                <a:srgbClr val="000000"/>
              </a:buClr>
              <a:buSzPct val="75000"/>
              <a:buFont typeface="Symbol" charset="2"/>
              <a:buChar char=""/>
            </a:pPr>
            <a:r>
              <a:rPr b="0" lang="en-US" sz="3000" spc="-1" strike="noStrike">
                <a:solidFill>
                  <a:srgbClr val="5e5e5e"/>
                </a:solidFill>
                <a:latin typeface="Montserrat Light"/>
              </a:rPr>
              <a:t>Second Outline Level</a:t>
            </a:r>
            <a:endParaRPr b="0" lang="en-US" sz="3000" spc="-1" strike="noStrike">
              <a:solidFill>
                <a:srgbClr val="5e5e5e"/>
              </a:solidFill>
              <a:latin typeface="Montserrat Light"/>
            </a:endParaRPr>
          </a:p>
          <a:p>
            <a:pPr lvl="2" marL="1296000" indent="-288000">
              <a:lnSpc>
                <a:spcPct val="120000"/>
              </a:lnSpc>
              <a:spcBef>
                <a:spcPts val="850"/>
              </a:spcBef>
              <a:buClr>
                <a:srgbClr val="000000"/>
              </a:buClr>
              <a:buSzPct val="45000"/>
              <a:buFont typeface="Wingdings" charset="2"/>
              <a:buChar char=""/>
            </a:pPr>
            <a:r>
              <a:rPr b="0" lang="en-US" sz="3000" spc="-1" strike="noStrike">
                <a:solidFill>
                  <a:srgbClr val="5e5e5e"/>
                </a:solidFill>
                <a:latin typeface="Montserrat Light"/>
              </a:rPr>
              <a:t>Third Outline Level</a:t>
            </a:r>
            <a:endParaRPr b="0" lang="en-US" sz="3000" spc="-1" strike="noStrike">
              <a:solidFill>
                <a:srgbClr val="5e5e5e"/>
              </a:solidFill>
              <a:latin typeface="Montserrat Light"/>
            </a:endParaRPr>
          </a:p>
          <a:p>
            <a:pPr lvl="3" marL="1728000" indent="-216000">
              <a:lnSpc>
                <a:spcPct val="120000"/>
              </a:lnSpc>
              <a:spcBef>
                <a:spcPts val="567"/>
              </a:spcBef>
              <a:buClr>
                <a:srgbClr val="000000"/>
              </a:buClr>
              <a:buSzPct val="75000"/>
              <a:buFont typeface="Symbol" charset="2"/>
              <a:buChar char=""/>
            </a:pPr>
            <a:r>
              <a:rPr b="0" lang="en-US" sz="3000" spc="-1" strike="noStrike">
                <a:solidFill>
                  <a:srgbClr val="5e5e5e"/>
                </a:solidFill>
                <a:latin typeface="Montserrat Light"/>
              </a:rPr>
              <a:t>Fourth Outline Level</a:t>
            </a:r>
            <a:endParaRPr b="0" lang="en-US" sz="3000" spc="-1" strike="noStrike">
              <a:solidFill>
                <a:srgbClr val="5e5e5e"/>
              </a:solidFill>
              <a:latin typeface="Montserrat Light"/>
            </a:endParaRPr>
          </a:p>
          <a:p>
            <a:pPr lvl="4" marL="2160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Fifth Outline Level</a:t>
            </a:r>
            <a:endParaRPr b="0" lang="en-US" sz="3000" spc="-1" strike="noStrike">
              <a:solidFill>
                <a:srgbClr val="5e5e5e"/>
              </a:solidFill>
              <a:latin typeface="Montserrat Light"/>
            </a:endParaRPr>
          </a:p>
          <a:p>
            <a:pPr lvl="5" marL="2592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Sixth Outline Level</a:t>
            </a:r>
            <a:endParaRPr b="0" lang="en-US" sz="3000" spc="-1" strike="noStrike">
              <a:solidFill>
                <a:srgbClr val="5e5e5e"/>
              </a:solidFill>
              <a:latin typeface="Montserrat Light"/>
            </a:endParaRPr>
          </a:p>
          <a:p>
            <a:pPr lvl="6" marL="3024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Seventh Outline Level</a:t>
            </a:r>
            <a:endParaRPr b="0" lang="en-US" sz="3000" spc="-1" strike="noStrike">
              <a:solidFill>
                <a:srgbClr val="5e5e5e"/>
              </a:solidFill>
              <a:latin typeface="Montserrat Light"/>
            </a:endParaRPr>
          </a:p>
        </p:txBody>
      </p:sp>
      <p:sp>
        <p:nvSpPr>
          <p:cNvPr id="557" name="Shape 12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9A94FB5-0581-4189-9DD0-2A19FC2AF59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558" name="PlaceHolder 2"/>
          <p:cNvSpPr>
            <a:spLocks noGrp="1"/>
          </p:cNvSpPr>
          <p:nvPr>
            <p:ph type="sldNum" idx="1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E01B4262-FBD0-4F2D-B120-844892A375A9}"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559"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F02912C-8717-474F-9301-3082C05EBD5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597" name="pasted-image.pdf" descr=""/>
          <p:cNvPicPr/>
          <p:nvPr/>
        </p:nvPicPr>
        <p:blipFill>
          <a:blip r:embed="rId2"/>
          <a:stretch/>
        </p:blipFill>
        <p:spPr>
          <a:xfrm>
            <a:off x="11176560" y="0"/>
            <a:ext cx="13207320" cy="13715640"/>
          </a:xfrm>
          <a:prstGeom prst="rect">
            <a:avLst/>
          </a:prstGeom>
          <a:ln w="12700">
            <a:noFill/>
          </a:ln>
        </p:spPr>
      </p:pic>
      <p:sp>
        <p:nvSpPr>
          <p:cNvPr id="598" name="Shape 13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FC56700-2479-4660-BE2D-54EF89A14E2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599" name="PlaceHolder 1"/>
          <p:cNvSpPr>
            <a:spLocks noGrp="1"/>
          </p:cNvSpPr>
          <p:nvPr>
            <p:ph type="body"/>
          </p:nvPr>
        </p:nvSpPr>
        <p:spPr>
          <a:xfrm>
            <a:off x="3481200" y="5946840"/>
            <a:ext cx="2285640" cy="2285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here</a:t>
            </a:r>
            <a:endParaRPr b="0" lang="en-US" sz="3000" spc="-1" strike="noStrike">
              <a:solidFill>
                <a:srgbClr val="5e5e5e"/>
              </a:solidFill>
              <a:latin typeface="Montserrat Light"/>
            </a:endParaRPr>
          </a:p>
        </p:txBody>
      </p:sp>
      <p:sp>
        <p:nvSpPr>
          <p:cNvPr id="600" name="PlaceHolder 2"/>
          <p:cNvSpPr>
            <a:spLocks noGrp="1"/>
          </p:cNvSpPr>
          <p:nvPr>
            <p:ph type="body"/>
          </p:nvPr>
        </p:nvSpPr>
        <p:spPr>
          <a:xfrm>
            <a:off x="11057040" y="5946840"/>
            <a:ext cx="2285640" cy="2285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here</a:t>
            </a:r>
            <a:endParaRPr b="0" lang="en-US" sz="3000" spc="-1" strike="noStrike">
              <a:solidFill>
                <a:srgbClr val="5e5e5e"/>
              </a:solidFill>
              <a:latin typeface="Montserrat Light"/>
            </a:endParaRPr>
          </a:p>
        </p:txBody>
      </p:sp>
      <p:sp>
        <p:nvSpPr>
          <p:cNvPr id="601" name="PlaceHolder 3"/>
          <p:cNvSpPr>
            <a:spLocks noGrp="1"/>
          </p:cNvSpPr>
          <p:nvPr>
            <p:ph type="body"/>
          </p:nvPr>
        </p:nvSpPr>
        <p:spPr>
          <a:xfrm>
            <a:off x="18674280" y="5946840"/>
            <a:ext cx="2285640" cy="2285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here</a:t>
            </a:r>
            <a:endParaRPr b="0" lang="en-US" sz="3000" spc="-1" strike="noStrike">
              <a:solidFill>
                <a:srgbClr val="5e5e5e"/>
              </a:solidFill>
              <a:latin typeface="Montserrat Light"/>
            </a:endParaRPr>
          </a:p>
        </p:txBody>
      </p:sp>
      <p:sp>
        <p:nvSpPr>
          <p:cNvPr id="602" name="PlaceHolder 4"/>
          <p:cNvSpPr>
            <a:spLocks noGrp="1"/>
          </p:cNvSpPr>
          <p:nvPr>
            <p:ph type="sldNum" idx="1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4381BF96-26BE-4F8B-B014-46419B187F47}"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603"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013A0B6-2E02-4ACD-995F-36A2358762C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641" name="pasted-image.pdf" descr=""/>
          <p:cNvPicPr/>
          <p:nvPr/>
        </p:nvPicPr>
        <p:blipFill>
          <a:blip r:embed="rId2"/>
          <a:stretch/>
        </p:blipFill>
        <p:spPr>
          <a:xfrm>
            <a:off x="11176560" y="0"/>
            <a:ext cx="13207320" cy="13715640"/>
          </a:xfrm>
          <a:prstGeom prst="rect">
            <a:avLst/>
          </a:prstGeom>
          <a:ln w="12700">
            <a:noFill/>
          </a:ln>
        </p:spPr>
      </p:pic>
      <p:sp>
        <p:nvSpPr>
          <p:cNvPr id="642" name="Shape 14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115D111-C5FA-4B1F-903B-7DDBD639B30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643" name="PlaceHolder 1"/>
          <p:cNvSpPr>
            <a:spLocks noGrp="1"/>
          </p:cNvSpPr>
          <p:nvPr>
            <p:ph type="body"/>
          </p:nvPr>
        </p:nvSpPr>
        <p:spPr>
          <a:xfrm>
            <a:off x="9400680" y="5214960"/>
            <a:ext cx="3809520" cy="380952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644" name="PlaceHolder 2"/>
          <p:cNvSpPr>
            <a:spLocks noGrp="1"/>
          </p:cNvSpPr>
          <p:nvPr>
            <p:ph type="body"/>
          </p:nvPr>
        </p:nvSpPr>
        <p:spPr>
          <a:xfrm>
            <a:off x="3426120" y="5946840"/>
            <a:ext cx="2285640" cy="2285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here</a:t>
            </a:r>
            <a:endParaRPr b="0" lang="en-US" sz="3000" spc="-1" strike="noStrike">
              <a:solidFill>
                <a:srgbClr val="5e5e5e"/>
              </a:solidFill>
              <a:latin typeface="Montserrat Light"/>
            </a:endParaRPr>
          </a:p>
        </p:txBody>
      </p:sp>
      <p:sp>
        <p:nvSpPr>
          <p:cNvPr id="645" name="PlaceHolder 3"/>
          <p:cNvSpPr>
            <a:spLocks noGrp="1"/>
          </p:cNvSpPr>
          <p:nvPr>
            <p:ph type="sldNum" idx="1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998F115E-FD44-422C-B384-293350E1A407}"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646"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9F9C2365-0EF2-49FA-A35A-162A3F1C0A2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684" name="pasted-image.pdf" descr=""/>
          <p:cNvPicPr/>
          <p:nvPr/>
        </p:nvPicPr>
        <p:blipFill>
          <a:blip r:embed="rId2"/>
          <a:stretch/>
        </p:blipFill>
        <p:spPr>
          <a:xfrm>
            <a:off x="11176560" y="0"/>
            <a:ext cx="13207320" cy="13715640"/>
          </a:xfrm>
          <a:prstGeom prst="rect">
            <a:avLst/>
          </a:prstGeom>
          <a:ln w="12700">
            <a:noFill/>
          </a:ln>
        </p:spPr>
      </p:pic>
      <p:sp>
        <p:nvSpPr>
          <p:cNvPr id="685" name="Shape 15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0D15318-12C1-4B4C-B0BD-C96DB1714B0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686" name="PlaceHolder 1"/>
          <p:cNvSpPr>
            <a:spLocks noGrp="1"/>
          </p:cNvSpPr>
          <p:nvPr>
            <p:ph type="body"/>
          </p:nvPr>
        </p:nvSpPr>
        <p:spPr>
          <a:xfrm>
            <a:off x="11296800" y="2025720"/>
            <a:ext cx="1777680" cy="177768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image</a:t>
            </a:r>
            <a:endParaRPr b="0" lang="en-US" sz="3000" spc="-1" strike="noStrike">
              <a:solidFill>
                <a:srgbClr val="5e5e5e"/>
              </a:solidFill>
              <a:latin typeface="Montserrat Light"/>
            </a:endParaRPr>
          </a:p>
        </p:txBody>
      </p:sp>
      <p:sp>
        <p:nvSpPr>
          <p:cNvPr id="687" name="PlaceHolder 2"/>
          <p:cNvSpPr>
            <a:spLocks noGrp="1"/>
          </p:cNvSpPr>
          <p:nvPr>
            <p:ph type="body"/>
          </p:nvPr>
        </p:nvSpPr>
        <p:spPr>
          <a:xfrm>
            <a:off x="11290680" y="5776200"/>
            <a:ext cx="1777680" cy="177768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image</a:t>
            </a:r>
            <a:endParaRPr b="0" lang="en-US" sz="3000" spc="-1" strike="noStrike">
              <a:solidFill>
                <a:srgbClr val="5e5e5e"/>
              </a:solidFill>
              <a:latin typeface="Montserrat Light"/>
            </a:endParaRPr>
          </a:p>
        </p:txBody>
      </p:sp>
      <p:sp>
        <p:nvSpPr>
          <p:cNvPr id="688" name="PlaceHolder 3"/>
          <p:cNvSpPr>
            <a:spLocks noGrp="1"/>
          </p:cNvSpPr>
          <p:nvPr>
            <p:ph type="body"/>
          </p:nvPr>
        </p:nvSpPr>
        <p:spPr>
          <a:xfrm>
            <a:off x="11290680" y="9526320"/>
            <a:ext cx="1777680" cy="1777680"/>
          </a:xfrm>
          <a:prstGeom prst="rect">
            <a:avLst/>
          </a:prstGeom>
          <a:pattFill prst="wdUpDiag">
            <a:fgClr>
              <a:srgbClr val="45a4fc"/>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image</a:t>
            </a:r>
            <a:endParaRPr b="0" lang="en-US" sz="3000" spc="-1" strike="noStrike">
              <a:solidFill>
                <a:srgbClr val="5e5e5e"/>
              </a:solidFill>
              <a:latin typeface="Montserrat Light"/>
            </a:endParaRPr>
          </a:p>
        </p:txBody>
      </p:sp>
      <p:sp>
        <p:nvSpPr>
          <p:cNvPr id="689" name="PlaceHolder 4"/>
          <p:cNvSpPr>
            <a:spLocks noGrp="1"/>
          </p:cNvSpPr>
          <p:nvPr>
            <p:ph type="sldNum" idx="1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DB1C406-7848-421B-A24F-95D2D4C0139B}"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690"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514E497-A2CE-4234-A801-0E7C662B2EF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728" name="pasted-image.pdf" descr=""/>
          <p:cNvPicPr/>
          <p:nvPr/>
        </p:nvPicPr>
        <p:blipFill>
          <a:blip r:embed="rId2"/>
          <a:stretch/>
        </p:blipFill>
        <p:spPr>
          <a:xfrm>
            <a:off x="11176560" y="0"/>
            <a:ext cx="13207320" cy="13715640"/>
          </a:xfrm>
          <a:prstGeom prst="rect">
            <a:avLst/>
          </a:prstGeom>
          <a:ln w="12700">
            <a:noFill/>
          </a:ln>
        </p:spPr>
      </p:pic>
      <p:sp>
        <p:nvSpPr>
          <p:cNvPr id="729" name="Shape 16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36AC2BF-13EC-457B-8ECE-95335691A4F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730" name="PlaceHolder 1"/>
          <p:cNvSpPr>
            <a:spLocks noGrp="1"/>
          </p:cNvSpPr>
          <p:nvPr>
            <p:ph type="body"/>
          </p:nvPr>
        </p:nvSpPr>
        <p:spPr>
          <a:xfrm>
            <a:off x="11296800" y="2025720"/>
            <a:ext cx="1777680" cy="177768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image</a:t>
            </a:r>
            <a:endParaRPr b="0" lang="en-US" sz="3000" spc="-1" strike="noStrike">
              <a:solidFill>
                <a:srgbClr val="5e5e5e"/>
              </a:solidFill>
              <a:latin typeface="Montserrat Light"/>
            </a:endParaRPr>
          </a:p>
        </p:txBody>
      </p:sp>
      <p:sp>
        <p:nvSpPr>
          <p:cNvPr id="731" name="PlaceHolder 2"/>
          <p:cNvSpPr>
            <a:spLocks noGrp="1"/>
          </p:cNvSpPr>
          <p:nvPr>
            <p:ph type="body"/>
          </p:nvPr>
        </p:nvSpPr>
        <p:spPr>
          <a:xfrm>
            <a:off x="11290680" y="5776200"/>
            <a:ext cx="1777680" cy="177768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image</a:t>
            </a:r>
            <a:endParaRPr b="0" lang="en-US" sz="3000" spc="-1" strike="noStrike">
              <a:solidFill>
                <a:srgbClr val="5e5e5e"/>
              </a:solidFill>
              <a:latin typeface="Montserrat Light"/>
            </a:endParaRPr>
          </a:p>
        </p:txBody>
      </p:sp>
      <p:sp>
        <p:nvSpPr>
          <p:cNvPr id="732" name="PlaceHolder 3"/>
          <p:cNvSpPr>
            <a:spLocks noGrp="1"/>
          </p:cNvSpPr>
          <p:nvPr>
            <p:ph type="body"/>
          </p:nvPr>
        </p:nvSpPr>
        <p:spPr>
          <a:xfrm>
            <a:off x="11290680" y="9526320"/>
            <a:ext cx="1777680" cy="177768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image</a:t>
            </a:r>
            <a:endParaRPr b="0" lang="en-US" sz="3000" spc="-1" strike="noStrike">
              <a:solidFill>
                <a:srgbClr val="5e5e5e"/>
              </a:solidFill>
              <a:latin typeface="Montserrat Light"/>
            </a:endParaRPr>
          </a:p>
        </p:txBody>
      </p:sp>
      <p:sp>
        <p:nvSpPr>
          <p:cNvPr id="733" name="PlaceHolder 4"/>
          <p:cNvSpPr>
            <a:spLocks noGrp="1"/>
          </p:cNvSpPr>
          <p:nvPr>
            <p:ph type="sldNum" idx="1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79A2C50C-1EA9-40CB-9993-A7CFB981C958}"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734"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FF01563-D8F3-4FF0-AEBC-4E3BA8DA712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772" name="pasted-image.pdf" descr=""/>
          <p:cNvPicPr/>
          <p:nvPr/>
        </p:nvPicPr>
        <p:blipFill>
          <a:blip r:embed="rId2"/>
          <a:stretch/>
        </p:blipFill>
        <p:spPr>
          <a:xfrm>
            <a:off x="11176560" y="0"/>
            <a:ext cx="13207320" cy="13715640"/>
          </a:xfrm>
          <a:prstGeom prst="rect">
            <a:avLst/>
          </a:prstGeom>
          <a:ln w="12700">
            <a:noFill/>
          </a:ln>
        </p:spPr>
      </p:pic>
      <p:sp>
        <p:nvSpPr>
          <p:cNvPr id="773" name="Shape 18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E0F9727-E9C5-45A6-896F-008C046EE9B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774" name="PlaceHolder 1"/>
          <p:cNvSpPr>
            <a:spLocks noGrp="1"/>
          </p:cNvSpPr>
          <p:nvPr>
            <p:ph type="body"/>
          </p:nvPr>
        </p:nvSpPr>
        <p:spPr>
          <a:xfrm>
            <a:off x="0" y="0"/>
            <a:ext cx="24383880" cy="13715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775" name="PlaceHolder 2"/>
          <p:cNvSpPr>
            <a:spLocks noGrp="1"/>
          </p:cNvSpPr>
          <p:nvPr>
            <p:ph type="sldNum" idx="1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57729202-EA2A-464A-9893-52EE15B9FD51}"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77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978D3106-0577-45D8-A643-2976488606C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42" name="pasted-image.pdf" descr=""/>
          <p:cNvPicPr/>
          <p:nvPr/>
        </p:nvPicPr>
        <p:blipFill>
          <a:blip r:embed="rId2"/>
          <a:stretch/>
        </p:blipFill>
        <p:spPr>
          <a:xfrm>
            <a:off x="11176560" y="0"/>
            <a:ext cx="13207320" cy="13715640"/>
          </a:xfrm>
          <a:prstGeom prst="rect">
            <a:avLst/>
          </a:prstGeom>
          <a:ln w="12700">
            <a:noFill/>
          </a:ln>
        </p:spPr>
      </p:pic>
      <p:sp>
        <p:nvSpPr>
          <p:cNvPr id="43" name="PlaceHolder 1"/>
          <p:cNvSpPr>
            <a:spLocks noGrp="1"/>
          </p:cNvSpPr>
          <p:nvPr>
            <p:ph type="body"/>
          </p:nvPr>
        </p:nvSpPr>
        <p:spPr>
          <a:xfrm>
            <a:off x="2031840" y="6940440"/>
            <a:ext cx="9145080" cy="47484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4" name="Shape 2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814E26E-7830-48B9-99EA-28D1101DE49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45" name="PlaceHolder 2"/>
          <p:cNvSpPr>
            <a:spLocks noGrp="1"/>
          </p:cNvSpPr>
          <p:nvPr>
            <p:ph type="sldNum" idx="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DBA195A8-9CDB-4A87-AA8C-3E4BDC65B42D}"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4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C2B98D0-42F6-45C3-AAD2-CF6EF22B04D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814" name="pasted-image.pdf" descr=""/>
          <p:cNvPicPr/>
          <p:nvPr/>
        </p:nvPicPr>
        <p:blipFill>
          <a:blip r:embed="rId2"/>
          <a:stretch/>
        </p:blipFill>
        <p:spPr>
          <a:xfrm>
            <a:off x="11176560" y="0"/>
            <a:ext cx="13207320" cy="13715640"/>
          </a:xfrm>
          <a:prstGeom prst="rect">
            <a:avLst/>
          </a:prstGeom>
          <a:ln w="12700">
            <a:noFill/>
          </a:ln>
        </p:spPr>
      </p:pic>
      <p:sp>
        <p:nvSpPr>
          <p:cNvPr id="815" name="PlaceHolder 1"/>
          <p:cNvSpPr>
            <a:spLocks noGrp="1"/>
          </p:cNvSpPr>
          <p:nvPr>
            <p:ph type="title"/>
          </p:nvPr>
        </p:nvSpPr>
        <p:spPr>
          <a:xfrm>
            <a:off x="2027160" y="2025720"/>
            <a:ext cx="20316960" cy="178236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Titeltext</a:t>
            </a:r>
            <a:endParaRPr b="0" lang="en-US" sz="11200" spc="-1" strike="noStrike">
              <a:solidFill>
                <a:srgbClr val="009193"/>
              </a:solidFill>
              <a:latin typeface="Helvetica Light"/>
            </a:endParaRPr>
          </a:p>
        </p:txBody>
      </p:sp>
      <p:sp>
        <p:nvSpPr>
          <p:cNvPr id="816" name="PlaceHolder 2"/>
          <p:cNvSpPr>
            <a:spLocks noGrp="1"/>
          </p:cNvSpPr>
          <p:nvPr>
            <p:ph type="body"/>
          </p:nvPr>
        </p:nvSpPr>
        <p:spPr>
          <a:xfrm>
            <a:off x="2027160" y="4577040"/>
            <a:ext cx="20316960" cy="5847840"/>
          </a:xfrm>
          <a:prstGeom prst="rect">
            <a:avLst/>
          </a:prstGeom>
          <a:noFill/>
          <a:ln w="12600">
            <a:noFill/>
          </a:ln>
        </p:spPr>
        <p:txBody>
          <a:bodyPr lIns="50760" rIns="50760" tIns="50760" bIns="50760" anchor="t">
            <a:noAutofit/>
          </a:bodyPr>
          <a:p>
            <a:pPr indent="0">
              <a:lnSpc>
                <a:spcPct val="100000"/>
              </a:lnSpc>
              <a:buNone/>
              <a:tabLst>
                <a:tab algn="l" pos="0"/>
              </a:tabLst>
            </a:pPr>
            <a:r>
              <a:rPr b="1" lang="en-US" sz="8400" spc="-1" strike="noStrike">
                <a:solidFill>
                  <a:srgbClr val="212121"/>
                </a:solidFill>
                <a:latin typeface="Arial"/>
                <a:ea typeface="Arial"/>
              </a:rPr>
              <a:t>Textebene 1</a:t>
            </a:r>
            <a:endParaRPr b="0" lang="en-US" sz="8400" spc="-1" strike="noStrike">
              <a:solidFill>
                <a:srgbClr val="5e5e5e"/>
              </a:solidFill>
              <a:latin typeface="Montserrat Light"/>
            </a:endParaRPr>
          </a:p>
          <a:p>
            <a:pPr indent="0">
              <a:lnSpc>
                <a:spcPct val="100000"/>
              </a:lnSpc>
              <a:buNone/>
              <a:tabLst>
                <a:tab algn="l" pos="0"/>
              </a:tabLst>
            </a:pPr>
            <a:r>
              <a:rPr b="0" lang="en-US" sz="4800" spc="239" strike="noStrike">
                <a:solidFill>
                  <a:srgbClr val="212121"/>
                </a:solidFill>
                <a:latin typeface="Montserrat"/>
                <a:ea typeface="Montserrat"/>
              </a:rPr>
              <a:t>Textebene 2</a:t>
            </a:r>
            <a:endParaRPr b="0" lang="en-US" sz="4800" spc="-1" strike="noStrike">
              <a:solidFill>
                <a:srgbClr val="5e5e5e"/>
              </a:solidFill>
              <a:latin typeface="Montserrat Light"/>
            </a:endParaRPr>
          </a:p>
          <a:p>
            <a:pPr indent="0">
              <a:lnSpc>
                <a:spcPct val="120000"/>
              </a:lnSpc>
              <a:spcBef>
                <a:spcPts val="5899"/>
              </a:spcBef>
              <a:buNone/>
              <a:tabLst>
                <a:tab algn="l" pos="0"/>
              </a:tabLst>
            </a:pPr>
            <a:r>
              <a:rPr b="0" lang="en-US" sz="3000" spc="-1" strike="noStrike">
                <a:solidFill>
                  <a:srgbClr val="5e5e5e"/>
                </a:solidFill>
                <a:latin typeface="Montserrat Light"/>
                <a:ea typeface="Montserrat Light"/>
              </a:rPr>
              <a:t>Textebene 3</a:t>
            </a:r>
            <a:endParaRPr b="0" lang="en-US" sz="3000" spc="-1" strike="noStrike">
              <a:solidFill>
                <a:srgbClr val="5e5e5e"/>
              </a:solidFill>
              <a:latin typeface="Montserrat Light"/>
            </a:endParaRPr>
          </a:p>
          <a:p>
            <a:pPr indent="0">
              <a:lnSpc>
                <a:spcPct val="120000"/>
              </a:lnSpc>
              <a:spcBef>
                <a:spcPts val="4501"/>
              </a:spcBef>
              <a:buNone/>
              <a:tabLst>
                <a:tab algn="l" pos="0"/>
              </a:tabLst>
            </a:pPr>
            <a:r>
              <a:rPr b="0" lang="en-US" sz="3000" spc="-1" strike="noStrike">
                <a:solidFill>
                  <a:srgbClr val="929292"/>
                </a:solidFill>
                <a:latin typeface="Helvetica Light"/>
                <a:ea typeface="Helvetica Light"/>
              </a:rPr>
              <a:t>Textebene 4</a:t>
            </a:r>
            <a:endParaRPr b="0" lang="en-US" sz="3000" spc="-1" strike="noStrike">
              <a:solidFill>
                <a:srgbClr val="5e5e5e"/>
              </a:solidFill>
              <a:latin typeface="Montserrat Light"/>
            </a:endParaRPr>
          </a:p>
          <a:p>
            <a:pPr indent="0">
              <a:lnSpc>
                <a:spcPct val="120000"/>
              </a:lnSpc>
              <a:buNone/>
              <a:tabLst>
                <a:tab algn="l" pos="0"/>
              </a:tabLst>
            </a:pPr>
            <a:r>
              <a:rPr b="0" lang="en-US" sz="3000" spc="-1" strike="noStrike">
                <a:solidFill>
                  <a:srgbClr val="009193"/>
                </a:solidFill>
                <a:latin typeface="Helvetica Light"/>
                <a:ea typeface="Helvetica Light"/>
              </a:rPr>
              <a:t>Textebene 5</a:t>
            </a:r>
            <a:endParaRPr b="0" lang="en-US" sz="3000" spc="-1" strike="noStrike">
              <a:solidFill>
                <a:srgbClr val="5e5e5e"/>
              </a:solidFill>
              <a:latin typeface="Montserrat Light"/>
            </a:endParaRPr>
          </a:p>
        </p:txBody>
      </p:sp>
      <p:sp>
        <p:nvSpPr>
          <p:cNvPr id="817" name="PlaceHolder 3"/>
          <p:cNvSpPr>
            <a:spLocks noGrp="1"/>
          </p:cNvSpPr>
          <p:nvPr>
            <p:ph type="sldNum" idx="20"/>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4BB63FBF-85B4-46FE-8EC9-FCD3D0C83A2C}"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CE0AF42-5C0F-4F4A-850F-B0190BED123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855" name="pasted-image.pdf" descr=""/>
          <p:cNvPicPr/>
          <p:nvPr/>
        </p:nvPicPr>
        <p:blipFill>
          <a:blip r:embed="rId2"/>
          <a:stretch/>
        </p:blipFill>
        <p:spPr>
          <a:xfrm>
            <a:off x="11176560" y="0"/>
            <a:ext cx="13207320" cy="13715640"/>
          </a:xfrm>
          <a:prstGeom prst="rect">
            <a:avLst/>
          </a:prstGeom>
          <a:ln w="12700">
            <a:noFill/>
          </a:ln>
        </p:spPr>
      </p:pic>
      <p:sp>
        <p:nvSpPr>
          <p:cNvPr id="856" name="Shape 18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A673F29-FE4E-4196-B6A6-10D7F3B5362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857" name="PlaceHolder 1"/>
          <p:cNvSpPr>
            <a:spLocks noGrp="1"/>
          </p:cNvSpPr>
          <p:nvPr>
            <p:ph type="body"/>
          </p:nvPr>
        </p:nvSpPr>
        <p:spPr>
          <a:xfrm>
            <a:off x="-4303080" y="2715840"/>
            <a:ext cx="12576240" cy="7924680"/>
          </a:xfrm>
          <a:prstGeom prst="rect">
            <a:avLst/>
          </a:prstGeom>
          <a:pattFill prst="wdUpDiag">
            <a:fgClr>
              <a:srgbClr val="0365c0"/>
            </a:fgClr>
            <a:bgClr>
              <a:srgbClr val="dcdee0"/>
            </a:bgClr>
          </a:pattFill>
          <a:ln w="0">
            <a:noFill/>
          </a:ln>
        </p:spPr>
        <p:txBody>
          <a:bodyPr anchor="t">
            <a:noAutofit/>
          </a:bodyPr>
          <a:p>
            <a:pPr marL="432000" indent="-324000">
              <a:lnSpc>
                <a:spcPct val="120000"/>
              </a:lnSpc>
              <a:spcBef>
                <a:spcPts val="1417"/>
              </a:spcBef>
              <a:buClr>
                <a:srgbClr val="000000"/>
              </a:buClr>
              <a:buSzPct val="45000"/>
              <a:buFont typeface="Wingdings" charset="2"/>
              <a:buChar char=""/>
            </a:pPr>
            <a:r>
              <a:rPr b="0" lang="en-US" sz="3000" spc="-1" strike="noStrike">
                <a:solidFill>
                  <a:srgbClr val="5e5e5e"/>
                </a:solidFill>
                <a:latin typeface="Montserrat Light"/>
              </a:rPr>
              <a:t>Click to edit the outline text format</a:t>
            </a:r>
            <a:endParaRPr b="0" lang="en-US" sz="3000" spc="-1" strike="noStrike">
              <a:solidFill>
                <a:srgbClr val="5e5e5e"/>
              </a:solidFill>
              <a:latin typeface="Montserrat Light"/>
            </a:endParaRPr>
          </a:p>
          <a:p>
            <a:pPr lvl="1" marL="864000" indent="-324000">
              <a:lnSpc>
                <a:spcPct val="120000"/>
              </a:lnSpc>
              <a:spcBef>
                <a:spcPts val="1134"/>
              </a:spcBef>
              <a:buClr>
                <a:srgbClr val="000000"/>
              </a:buClr>
              <a:buSzPct val="75000"/>
              <a:buFont typeface="Symbol" charset="2"/>
              <a:buChar char=""/>
            </a:pPr>
            <a:r>
              <a:rPr b="0" lang="en-US" sz="3000" spc="-1" strike="noStrike">
                <a:solidFill>
                  <a:srgbClr val="5e5e5e"/>
                </a:solidFill>
                <a:latin typeface="Montserrat Light"/>
              </a:rPr>
              <a:t>Second Outline Level</a:t>
            </a:r>
            <a:endParaRPr b="0" lang="en-US" sz="3000" spc="-1" strike="noStrike">
              <a:solidFill>
                <a:srgbClr val="5e5e5e"/>
              </a:solidFill>
              <a:latin typeface="Montserrat Light"/>
            </a:endParaRPr>
          </a:p>
          <a:p>
            <a:pPr lvl="2" marL="1296000" indent="-288000">
              <a:lnSpc>
                <a:spcPct val="120000"/>
              </a:lnSpc>
              <a:spcBef>
                <a:spcPts val="850"/>
              </a:spcBef>
              <a:buClr>
                <a:srgbClr val="000000"/>
              </a:buClr>
              <a:buSzPct val="45000"/>
              <a:buFont typeface="Wingdings" charset="2"/>
              <a:buChar char=""/>
            </a:pPr>
            <a:r>
              <a:rPr b="0" lang="en-US" sz="3000" spc="-1" strike="noStrike">
                <a:solidFill>
                  <a:srgbClr val="5e5e5e"/>
                </a:solidFill>
                <a:latin typeface="Montserrat Light"/>
              </a:rPr>
              <a:t>Third Outline Level</a:t>
            </a:r>
            <a:endParaRPr b="0" lang="en-US" sz="3000" spc="-1" strike="noStrike">
              <a:solidFill>
                <a:srgbClr val="5e5e5e"/>
              </a:solidFill>
              <a:latin typeface="Montserrat Light"/>
            </a:endParaRPr>
          </a:p>
          <a:p>
            <a:pPr lvl="3" marL="1728000" indent="-216000">
              <a:lnSpc>
                <a:spcPct val="120000"/>
              </a:lnSpc>
              <a:spcBef>
                <a:spcPts val="567"/>
              </a:spcBef>
              <a:buClr>
                <a:srgbClr val="000000"/>
              </a:buClr>
              <a:buSzPct val="75000"/>
              <a:buFont typeface="Symbol" charset="2"/>
              <a:buChar char=""/>
            </a:pPr>
            <a:r>
              <a:rPr b="0" lang="en-US" sz="3000" spc="-1" strike="noStrike">
                <a:solidFill>
                  <a:srgbClr val="5e5e5e"/>
                </a:solidFill>
                <a:latin typeface="Montserrat Light"/>
              </a:rPr>
              <a:t>Fourth Outline Level</a:t>
            </a:r>
            <a:endParaRPr b="0" lang="en-US" sz="3000" spc="-1" strike="noStrike">
              <a:solidFill>
                <a:srgbClr val="5e5e5e"/>
              </a:solidFill>
              <a:latin typeface="Montserrat Light"/>
            </a:endParaRPr>
          </a:p>
          <a:p>
            <a:pPr lvl="4" marL="2160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Fifth Outline Level</a:t>
            </a:r>
            <a:endParaRPr b="0" lang="en-US" sz="3000" spc="-1" strike="noStrike">
              <a:solidFill>
                <a:srgbClr val="5e5e5e"/>
              </a:solidFill>
              <a:latin typeface="Montserrat Light"/>
            </a:endParaRPr>
          </a:p>
          <a:p>
            <a:pPr lvl="5" marL="2592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Sixth Outline Level</a:t>
            </a:r>
            <a:endParaRPr b="0" lang="en-US" sz="3000" spc="-1" strike="noStrike">
              <a:solidFill>
                <a:srgbClr val="5e5e5e"/>
              </a:solidFill>
              <a:latin typeface="Montserrat Light"/>
            </a:endParaRPr>
          </a:p>
          <a:p>
            <a:pPr lvl="6" marL="3024000" indent="-216000">
              <a:lnSpc>
                <a:spcPct val="120000"/>
              </a:lnSpc>
              <a:spcBef>
                <a:spcPts val="283"/>
              </a:spcBef>
              <a:buClr>
                <a:srgbClr val="000000"/>
              </a:buClr>
              <a:buSzPct val="45000"/>
              <a:buFont typeface="Wingdings" charset="2"/>
              <a:buChar char=""/>
            </a:pPr>
            <a:r>
              <a:rPr b="0" lang="en-US" sz="3000" spc="-1" strike="noStrike">
                <a:solidFill>
                  <a:srgbClr val="5e5e5e"/>
                </a:solidFill>
                <a:latin typeface="Montserrat Light"/>
              </a:rPr>
              <a:t>Seventh Outline Level</a:t>
            </a:r>
            <a:endParaRPr b="0" lang="en-US" sz="3000" spc="-1" strike="noStrike">
              <a:solidFill>
                <a:srgbClr val="5e5e5e"/>
              </a:solidFill>
              <a:latin typeface="Montserrat Light"/>
            </a:endParaRPr>
          </a:p>
        </p:txBody>
      </p:sp>
      <p:sp>
        <p:nvSpPr>
          <p:cNvPr id="858" name="PlaceHolder 2"/>
          <p:cNvSpPr>
            <a:spLocks noGrp="1"/>
          </p:cNvSpPr>
          <p:nvPr>
            <p:ph type="sldNum" idx="2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31711556-3B89-4CC9-9E36-5154C405CD52}"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859"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6"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830BE1E-446C-41A6-8025-BE4F4D1A60F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897" name="pasted-image.pdf" descr=""/>
          <p:cNvPicPr/>
          <p:nvPr/>
        </p:nvPicPr>
        <p:blipFill>
          <a:blip r:embed="rId2"/>
          <a:stretch/>
        </p:blipFill>
        <p:spPr>
          <a:xfrm>
            <a:off x="11176560" y="0"/>
            <a:ext cx="13207320" cy="13715640"/>
          </a:xfrm>
          <a:prstGeom prst="rect">
            <a:avLst/>
          </a:prstGeom>
          <a:ln w="12700">
            <a:noFill/>
          </a:ln>
        </p:spPr>
      </p:pic>
      <p:sp>
        <p:nvSpPr>
          <p:cNvPr id="898" name="Shape 19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EF6C16B-0AB1-4EBA-A558-59D085B4722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899" name="PlaceHolder 1"/>
          <p:cNvSpPr>
            <a:spLocks noGrp="1"/>
          </p:cNvSpPr>
          <p:nvPr>
            <p:ph type="body"/>
          </p:nvPr>
        </p:nvSpPr>
        <p:spPr>
          <a:xfrm>
            <a:off x="7365960" y="2025720"/>
            <a:ext cx="4825800" cy="711180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00" name="PlaceHolder 2"/>
          <p:cNvSpPr>
            <a:spLocks noGrp="1"/>
          </p:cNvSpPr>
          <p:nvPr>
            <p:ph type="body"/>
          </p:nvPr>
        </p:nvSpPr>
        <p:spPr>
          <a:xfrm>
            <a:off x="12450960" y="2025720"/>
            <a:ext cx="4825800" cy="7111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01" name="PlaceHolder 3"/>
          <p:cNvSpPr>
            <a:spLocks noGrp="1"/>
          </p:cNvSpPr>
          <p:nvPr>
            <p:ph type="body"/>
          </p:nvPr>
        </p:nvSpPr>
        <p:spPr>
          <a:xfrm>
            <a:off x="17535960" y="2025720"/>
            <a:ext cx="4825800" cy="7111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02" name="PlaceHolder 4"/>
          <p:cNvSpPr>
            <a:spLocks noGrp="1"/>
          </p:cNvSpPr>
          <p:nvPr>
            <p:ph type="sldNum" idx="2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B7961022-AA04-49CA-96AF-FF224133C7DA}"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903"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0"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986A0094-F2D1-49AE-8950-6603B1B34B2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941" name="pasted-image.pdf" descr=""/>
          <p:cNvPicPr/>
          <p:nvPr/>
        </p:nvPicPr>
        <p:blipFill>
          <a:blip r:embed="rId2"/>
          <a:stretch/>
        </p:blipFill>
        <p:spPr>
          <a:xfrm>
            <a:off x="11176560" y="0"/>
            <a:ext cx="13207320" cy="13715640"/>
          </a:xfrm>
          <a:prstGeom prst="rect">
            <a:avLst/>
          </a:prstGeom>
          <a:ln w="12700">
            <a:noFill/>
          </a:ln>
        </p:spPr>
      </p:pic>
      <p:sp>
        <p:nvSpPr>
          <p:cNvPr id="942" name="Shape 20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F3B8ACD-62D0-4752-BAB8-6B970A7E080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943" name="PlaceHolder 1"/>
          <p:cNvSpPr>
            <a:spLocks noGrp="1"/>
          </p:cNvSpPr>
          <p:nvPr>
            <p:ph type="body"/>
          </p:nvPr>
        </p:nvSpPr>
        <p:spPr>
          <a:xfrm>
            <a:off x="2935080" y="4012920"/>
            <a:ext cx="4063680" cy="4063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44" name="PlaceHolder 2"/>
          <p:cNvSpPr>
            <a:spLocks noGrp="1"/>
          </p:cNvSpPr>
          <p:nvPr>
            <p:ph type="body"/>
          </p:nvPr>
        </p:nvSpPr>
        <p:spPr>
          <a:xfrm>
            <a:off x="10172880" y="4012920"/>
            <a:ext cx="4063680" cy="4063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45" name="PlaceHolder 3"/>
          <p:cNvSpPr>
            <a:spLocks noGrp="1"/>
          </p:cNvSpPr>
          <p:nvPr>
            <p:ph type="body"/>
          </p:nvPr>
        </p:nvSpPr>
        <p:spPr>
          <a:xfrm>
            <a:off x="17405640" y="4012920"/>
            <a:ext cx="4063680" cy="4063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46" name="PlaceHolder 4"/>
          <p:cNvSpPr>
            <a:spLocks noGrp="1"/>
          </p:cNvSpPr>
          <p:nvPr>
            <p:ph type="sldNum" idx="2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F553BD0-40A5-4B7E-A1CD-C89FB0843C2A}"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947"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9ADFC39-7387-446A-884D-79495199B64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985" name="pasted-image.pdf" descr=""/>
          <p:cNvPicPr/>
          <p:nvPr/>
        </p:nvPicPr>
        <p:blipFill>
          <a:blip r:embed="rId2"/>
          <a:stretch/>
        </p:blipFill>
        <p:spPr>
          <a:xfrm>
            <a:off x="11176560" y="0"/>
            <a:ext cx="13207320" cy="13715640"/>
          </a:xfrm>
          <a:prstGeom prst="rect">
            <a:avLst/>
          </a:prstGeom>
          <a:ln w="12700">
            <a:noFill/>
          </a:ln>
        </p:spPr>
      </p:pic>
      <p:sp>
        <p:nvSpPr>
          <p:cNvPr id="986" name="Shape 22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C2837DF-EF43-411F-A84F-F9631862162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987" name="PlaceHolder 1"/>
          <p:cNvSpPr>
            <a:spLocks noGrp="1"/>
          </p:cNvSpPr>
          <p:nvPr>
            <p:ph type="body"/>
          </p:nvPr>
        </p:nvSpPr>
        <p:spPr>
          <a:xfrm>
            <a:off x="13195440" y="2025720"/>
            <a:ext cx="2539800" cy="2539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88" name="PlaceHolder 2"/>
          <p:cNvSpPr>
            <a:spLocks noGrp="1"/>
          </p:cNvSpPr>
          <p:nvPr>
            <p:ph type="body"/>
          </p:nvPr>
        </p:nvSpPr>
        <p:spPr>
          <a:xfrm>
            <a:off x="18801000" y="2025720"/>
            <a:ext cx="2539800" cy="2539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89" name="PlaceHolder 3"/>
          <p:cNvSpPr>
            <a:spLocks noGrp="1"/>
          </p:cNvSpPr>
          <p:nvPr>
            <p:ph type="body"/>
          </p:nvPr>
        </p:nvSpPr>
        <p:spPr>
          <a:xfrm>
            <a:off x="13195440" y="7574400"/>
            <a:ext cx="2539800" cy="2539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90" name="PlaceHolder 4"/>
          <p:cNvSpPr>
            <a:spLocks noGrp="1"/>
          </p:cNvSpPr>
          <p:nvPr>
            <p:ph type="body"/>
          </p:nvPr>
        </p:nvSpPr>
        <p:spPr>
          <a:xfrm>
            <a:off x="18801000" y="7574400"/>
            <a:ext cx="2539800" cy="2539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991" name="PlaceHolder 5"/>
          <p:cNvSpPr>
            <a:spLocks noGrp="1"/>
          </p:cNvSpPr>
          <p:nvPr>
            <p:ph type="sldNum" idx="2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18A15F03-254D-445C-8C9F-DD02DDEB3CDC}"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992"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948" r:id="rId3"/>
    <p:sldLayoutId id="2147483949" r:id="rId4"/>
    <p:sldLayoutId id="2147483950" r:id="rId5"/>
    <p:sldLayoutId id="2147483951" r:id="rId6"/>
    <p:sldLayoutId id="2147483952" r:id="rId7"/>
    <p:sldLayoutId id="2147483953" r:id="rId8"/>
    <p:sldLayoutId id="2147483954" r:id="rId9"/>
    <p:sldLayoutId id="2147483955" r:id="rId10"/>
    <p:sldLayoutId id="2147483956" r:id="rId11"/>
    <p:sldLayoutId id="2147483957" r:id="rId12"/>
    <p:sldLayoutId id="2147483958" r:id="rId13"/>
    <p:sldLayoutId id="2147483959" r:id="rId14"/>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F995AF4-8E1A-47BD-9263-B0F8F0E279C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030" name="pasted-image.pdf" descr=""/>
          <p:cNvPicPr/>
          <p:nvPr/>
        </p:nvPicPr>
        <p:blipFill>
          <a:blip r:embed="rId2"/>
          <a:stretch/>
        </p:blipFill>
        <p:spPr>
          <a:xfrm>
            <a:off x="11176560" y="0"/>
            <a:ext cx="13207320" cy="13715640"/>
          </a:xfrm>
          <a:prstGeom prst="rect">
            <a:avLst/>
          </a:prstGeom>
          <a:ln w="12700">
            <a:noFill/>
          </a:ln>
        </p:spPr>
      </p:pic>
      <p:sp>
        <p:nvSpPr>
          <p:cNvPr id="1031" name="Shape 232"/>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678F186-7A66-40B7-A3B6-C98768D8D8B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032" name="PlaceHolder 1"/>
          <p:cNvSpPr>
            <a:spLocks noGrp="1"/>
          </p:cNvSpPr>
          <p:nvPr>
            <p:ph type="body"/>
          </p:nvPr>
        </p:nvSpPr>
        <p:spPr>
          <a:xfrm>
            <a:off x="9016920" y="3346200"/>
            <a:ext cx="6349680" cy="6349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033" name="PlaceHolder 2"/>
          <p:cNvSpPr>
            <a:spLocks noGrp="1"/>
          </p:cNvSpPr>
          <p:nvPr>
            <p:ph type="sldNum" idx="2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C7C66A2D-B8FA-46A4-9801-B5316CA8AA3D}"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03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961" r:id="rId3"/>
    <p:sldLayoutId id="2147483962" r:id="rId4"/>
    <p:sldLayoutId id="2147483963" r:id="rId5"/>
    <p:sldLayoutId id="2147483964" r:id="rId6"/>
    <p:sldLayoutId id="2147483965" r:id="rId7"/>
    <p:sldLayoutId id="2147483966" r:id="rId8"/>
    <p:sldLayoutId id="2147483967" r:id="rId9"/>
    <p:sldLayoutId id="2147483968" r:id="rId10"/>
    <p:sldLayoutId id="2147483969" r:id="rId11"/>
    <p:sldLayoutId id="2147483970" r:id="rId12"/>
    <p:sldLayoutId id="2147483971" r:id="rId13"/>
    <p:sldLayoutId id="2147483972" r:id="rId14"/>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62F58D0-3620-4682-9B42-53ED7673F94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072" name="pasted-image.pdf" descr=""/>
          <p:cNvPicPr/>
          <p:nvPr/>
        </p:nvPicPr>
        <p:blipFill>
          <a:blip r:embed="rId2"/>
          <a:stretch/>
        </p:blipFill>
        <p:spPr>
          <a:xfrm>
            <a:off x="11176560" y="0"/>
            <a:ext cx="13207320" cy="13715640"/>
          </a:xfrm>
          <a:prstGeom prst="rect">
            <a:avLst/>
          </a:prstGeom>
          <a:ln w="12700">
            <a:noFill/>
          </a:ln>
        </p:spPr>
      </p:pic>
      <p:sp>
        <p:nvSpPr>
          <p:cNvPr id="1073" name="Shape 24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5473BC4-E1BC-460D-8BE2-D610080BC0B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074" name="PlaceHolder 1"/>
          <p:cNvSpPr>
            <a:spLocks noGrp="1"/>
          </p:cNvSpPr>
          <p:nvPr>
            <p:ph type="sldNum" idx="2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F03823BB-6F11-40FD-BB8F-8258AEE9B801}"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075" name="PlaceHolder 2"/>
          <p:cNvSpPr>
            <a:spLocks noGrp="1"/>
          </p:cNvSpPr>
          <p:nvPr>
            <p:ph type="body"/>
          </p:nvPr>
        </p:nvSpPr>
        <p:spPr>
          <a:xfrm>
            <a:off x="3092400" y="4099680"/>
            <a:ext cx="3698280" cy="3698280"/>
          </a:xfrm>
          <a:prstGeom prst="rect">
            <a:avLst/>
          </a:prstGeom>
          <a:pattFill prst="wdUpDiag">
            <a:fgClr>
              <a:srgbClr val="45a4fc"/>
            </a:fgClr>
            <a:bgClr>
              <a:srgbClr val="dcdee0"/>
            </a:bgClr>
          </a:pattFill>
          <a:ln w="0">
            <a:noFill/>
          </a:ln>
        </p:spPr>
        <p:txBody>
          <a:bodyPr lIns="90000" rIns="90000" tIns="45000" bIns="45000" anchor="ctr">
            <a:noAutofit/>
          </a:bodyPr>
          <a:p>
            <a:pPr indent="0" algn="ctr">
              <a:lnSpc>
                <a:spcPct val="120000"/>
              </a:lnSpc>
              <a:buNone/>
              <a:tabLst>
                <a:tab algn="l" pos="0"/>
              </a:tabLst>
            </a:pPr>
            <a:r>
              <a:rPr b="0" lang="de-DE" sz="1600" spc="-1" strike="noStrike">
                <a:solidFill>
                  <a:srgbClr val="009193"/>
                </a:solidFill>
                <a:latin typeface="Titillium"/>
                <a:ea typeface="Titillium"/>
              </a:rPr>
              <a:t>Drop Image here</a:t>
            </a:r>
            <a:endParaRPr b="0" lang="en-US" sz="1600" spc="-1" strike="noStrike">
              <a:solidFill>
                <a:srgbClr val="5e5e5e"/>
              </a:solidFill>
              <a:latin typeface="Montserrat Light"/>
            </a:endParaRPr>
          </a:p>
        </p:txBody>
      </p:sp>
      <p:sp>
        <p:nvSpPr>
          <p:cNvPr id="1076" name="PlaceHolder 3"/>
          <p:cNvSpPr>
            <a:spLocks noGrp="1"/>
          </p:cNvSpPr>
          <p:nvPr>
            <p:ph type="body"/>
          </p:nvPr>
        </p:nvSpPr>
        <p:spPr>
          <a:xfrm>
            <a:off x="10354320" y="4099680"/>
            <a:ext cx="3698280" cy="3698280"/>
          </a:xfrm>
          <a:prstGeom prst="rect">
            <a:avLst/>
          </a:prstGeom>
          <a:pattFill prst="wdUpDiag">
            <a:fgClr>
              <a:srgbClr val="45a4fc"/>
            </a:fgClr>
            <a:bgClr>
              <a:srgbClr val="dcdee0"/>
            </a:bgClr>
          </a:pattFill>
          <a:ln w="0">
            <a:noFill/>
          </a:ln>
        </p:spPr>
        <p:txBody>
          <a:bodyPr lIns="90000" rIns="90000" tIns="45000" bIns="45000" anchor="ctr">
            <a:noAutofit/>
          </a:bodyPr>
          <a:p>
            <a:pPr indent="0" algn="ctr">
              <a:lnSpc>
                <a:spcPct val="120000"/>
              </a:lnSpc>
              <a:buNone/>
              <a:tabLst>
                <a:tab algn="l" pos="0"/>
              </a:tabLst>
            </a:pPr>
            <a:r>
              <a:rPr b="0" lang="de-DE" sz="1600" spc="-1" strike="noStrike">
                <a:solidFill>
                  <a:srgbClr val="009193"/>
                </a:solidFill>
                <a:latin typeface="Titillium"/>
                <a:ea typeface="Titillium"/>
              </a:rPr>
              <a:t>Drop Image here</a:t>
            </a:r>
            <a:endParaRPr b="0" lang="en-US" sz="1600" spc="-1" strike="noStrike">
              <a:solidFill>
                <a:srgbClr val="5e5e5e"/>
              </a:solidFill>
              <a:latin typeface="Montserrat Light"/>
            </a:endParaRPr>
          </a:p>
        </p:txBody>
      </p:sp>
      <p:sp>
        <p:nvSpPr>
          <p:cNvPr id="1077" name="PlaceHolder 4"/>
          <p:cNvSpPr>
            <a:spLocks noGrp="1"/>
          </p:cNvSpPr>
          <p:nvPr>
            <p:ph type="body"/>
          </p:nvPr>
        </p:nvSpPr>
        <p:spPr>
          <a:xfrm>
            <a:off x="17616240" y="4099680"/>
            <a:ext cx="3698280" cy="3698280"/>
          </a:xfrm>
          <a:prstGeom prst="rect">
            <a:avLst/>
          </a:prstGeom>
          <a:pattFill prst="wdUpDiag">
            <a:fgClr>
              <a:srgbClr val="45a4fc"/>
            </a:fgClr>
            <a:bgClr>
              <a:srgbClr val="dcdee0"/>
            </a:bgClr>
          </a:pattFill>
          <a:ln w="0">
            <a:noFill/>
          </a:ln>
        </p:spPr>
        <p:txBody>
          <a:bodyPr lIns="90000" rIns="90000" tIns="45000" bIns="45000" anchor="ctr">
            <a:noAutofit/>
          </a:bodyPr>
          <a:p>
            <a:pPr indent="0" algn="ctr">
              <a:lnSpc>
                <a:spcPct val="120000"/>
              </a:lnSpc>
              <a:buNone/>
              <a:tabLst>
                <a:tab algn="l" pos="0"/>
              </a:tabLst>
            </a:pPr>
            <a:r>
              <a:rPr b="0" lang="de-DE" sz="1600" spc="-1" strike="noStrike">
                <a:solidFill>
                  <a:srgbClr val="009193"/>
                </a:solidFill>
                <a:latin typeface="Titillium"/>
                <a:ea typeface="Titillium"/>
              </a:rPr>
              <a:t>Drop Image here</a:t>
            </a:r>
            <a:endParaRPr b="0" lang="en-US" sz="1600" spc="-1" strike="noStrike">
              <a:solidFill>
                <a:srgbClr val="5e5e5e"/>
              </a:solidFill>
              <a:latin typeface="Montserrat Light"/>
            </a:endParaRPr>
          </a:p>
        </p:txBody>
      </p:sp>
      <p:sp>
        <p:nvSpPr>
          <p:cNvPr id="1078"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974" r:id="rId3"/>
    <p:sldLayoutId id="2147483975" r:id="rId4"/>
    <p:sldLayoutId id="2147483976" r:id="rId5"/>
    <p:sldLayoutId id="2147483977" r:id="rId6"/>
    <p:sldLayoutId id="2147483978" r:id="rId7"/>
    <p:sldLayoutId id="2147483979" r:id="rId8"/>
    <p:sldLayoutId id="2147483980" r:id="rId9"/>
    <p:sldLayoutId id="2147483981" r:id="rId10"/>
    <p:sldLayoutId id="2147483982" r:id="rId11"/>
    <p:sldLayoutId id="2147483983" r:id="rId12"/>
    <p:sldLayoutId id="2147483984" r:id="rId13"/>
    <p:sldLayoutId id="2147483985" r:id="rId14"/>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C10A5A7-5673-4841-AB7A-042C4CDBB95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116" name="pasted-image.pdf" descr=""/>
          <p:cNvPicPr/>
          <p:nvPr/>
        </p:nvPicPr>
        <p:blipFill>
          <a:blip r:embed="rId2"/>
          <a:stretch/>
        </p:blipFill>
        <p:spPr>
          <a:xfrm>
            <a:off x="11176560" y="0"/>
            <a:ext cx="13207320" cy="13715640"/>
          </a:xfrm>
          <a:prstGeom prst="rect">
            <a:avLst/>
          </a:prstGeom>
          <a:ln w="12700">
            <a:noFill/>
          </a:ln>
        </p:spPr>
      </p:pic>
      <p:sp>
        <p:nvSpPr>
          <p:cNvPr id="1117" name="Shape 252"/>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11BE2BF-7C2B-482D-9D9F-D6A8C9A75EF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118" name="PlaceHolder 1"/>
          <p:cNvSpPr>
            <a:spLocks noGrp="1"/>
          </p:cNvSpPr>
          <p:nvPr>
            <p:ph type="body"/>
          </p:nvPr>
        </p:nvSpPr>
        <p:spPr>
          <a:xfrm>
            <a:off x="13213080" y="0"/>
            <a:ext cx="11170440" cy="13715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119" name="PlaceHolder 2"/>
          <p:cNvSpPr>
            <a:spLocks noGrp="1"/>
          </p:cNvSpPr>
          <p:nvPr>
            <p:ph type="sldNum" idx="2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4E9541FC-2346-4BD7-A7D0-8BA43E4D1E45}"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120"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987" r:id="rId3"/>
    <p:sldLayoutId id="2147483988" r:id="rId4"/>
    <p:sldLayoutId id="2147483989" r:id="rId5"/>
    <p:sldLayoutId id="2147483990" r:id="rId6"/>
    <p:sldLayoutId id="2147483991" r:id="rId7"/>
    <p:sldLayoutId id="2147483992" r:id="rId8"/>
    <p:sldLayoutId id="2147483993" r:id="rId9"/>
    <p:sldLayoutId id="2147483994" r:id="rId10"/>
    <p:sldLayoutId id="2147483995" r:id="rId11"/>
    <p:sldLayoutId id="2147483996" r:id="rId12"/>
    <p:sldLayoutId id="2147483997" r:id="rId13"/>
    <p:sldLayoutId id="2147483998" r:id="rId14"/>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7"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DF92403-97B5-447C-8ABC-37305F2479B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158" name="pasted-image.pdf" descr=""/>
          <p:cNvPicPr/>
          <p:nvPr/>
        </p:nvPicPr>
        <p:blipFill>
          <a:blip r:embed="rId2"/>
          <a:stretch/>
        </p:blipFill>
        <p:spPr>
          <a:xfrm>
            <a:off x="11176560" y="0"/>
            <a:ext cx="13207320" cy="13715640"/>
          </a:xfrm>
          <a:prstGeom prst="rect">
            <a:avLst/>
          </a:prstGeom>
          <a:ln w="12700">
            <a:noFill/>
          </a:ln>
        </p:spPr>
      </p:pic>
      <p:sp>
        <p:nvSpPr>
          <p:cNvPr id="1159" name="Shape 26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A092B8B-FF17-48B0-9AFE-800D12BE933C}"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160" name="Shape 262"/>
          <p:cNvSpPr/>
          <p:nvPr/>
        </p:nvSpPr>
        <p:spPr>
          <a:xfrm>
            <a:off x="0" y="0"/>
            <a:ext cx="685764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1161" name="PlaceHolder 1"/>
          <p:cNvSpPr>
            <a:spLocks noGrp="1"/>
          </p:cNvSpPr>
          <p:nvPr>
            <p:ph type="body"/>
          </p:nvPr>
        </p:nvSpPr>
        <p:spPr>
          <a:xfrm>
            <a:off x="6858000" y="0"/>
            <a:ext cx="6347520" cy="13715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162" name="PlaceHolder 2"/>
          <p:cNvSpPr>
            <a:spLocks noGrp="1"/>
          </p:cNvSpPr>
          <p:nvPr>
            <p:ph type="sldNum" idx="2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74610DFD-CA27-4763-A87F-5B9D924AC1C1}"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163"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000" r:id="rId3"/>
    <p:sldLayoutId id="2147484001" r:id="rId4"/>
    <p:sldLayoutId id="2147484002" r:id="rId5"/>
    <p:sldLayoutId id="2147484003" r:id="rId6"/>
    <p:sldLayoutId id="2147484004" r:id="rId7"/>
    <p:sldLayoutId id="2147484005" r:id="rId8"/>
    <p:sldLayoutId id="2147484006" r:id="rId9"/>
    <p:sldLayoutId id="2147484007" r:id="rId10"/>
    <p:sldLayoutId id="2147484008" r:id="rId11"/>
    <p:sldLayoutId id="2147484009" r:id="rId12"/>
    <p:sldLayoutId id="2147484010" r:id="rId13"/>
    <p:sldLayoutId id="2147484011" r:id="rId14"/>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6B7BF66-0A25-4044-BE0B-DDA1749B8C9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201" name="pasted-image.pdf" descr=""/>
          <p:cNvPicPr/>
          <p:nvPr/>
        </p:nvPicPr>
        <p:blipFill>
          <a:blip r:embed="rId2"/>
          <a:stretch/>
        </p:blipFill>
        <p:spPr>
          <a:xfrm>
            <a:off x="11176560" y="0"/>
            <a:ext cx="13207320" cy="13715640"/>
          </a:xfrm>
          <a:prstGeom prst="rect">
            <a:avLst/>
          </a:prstGeom>
          <a:ln w="12700">
            <a:noFill/>
          </a:ln>
        </p:spPr>
      </p:pic>
      <p:sp>
        <p:nvSpPr>
          <p:cNvPr id="1202" name="Shape 271"/>
          <p:cNvSpPr/>
          <p:nvPr/>
        </p:nvSpPr>
        <p:spPr>
          <a:xfrm>
            <a:off x="0" y="0"/>
            <a:ext cx="1117944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1203" name="PlaceHolder 1"/>
          <p:cNvSpPr>
            <a:spLocks noGrp="1"/>
          </p:cNvSpPr>
          <p:nvPr>
            <p:ph type="body"/>
          </p:nvPr>
        </p:nvSpPr>
        <p:spPr>
          <a:xfrm>
            <a:off x="11179800" y="0"/>
            <a:ext cx="13204080" cy="13715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204" name="Shape 27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4471B5D-7912-4EC7-8CEF-347E791071D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205" name="PlaceHolder 2"/>
          <p:cNvSpPr>
            <a:spLocks noGrp="1"/>
          </p:cNvSpPr>
          <p:nvPr>
            <p:ph type="sldNum" idx="2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1AA8493-F2A1-42EC-8E89-ABDB27A0315E}"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20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013" r:id="rId3"/>
    <p:sldLayoutId id="2147484014" r:id="rId4"/>
    <p:sldLayoutId id="2147484015" r:id="rId5"/>
    <p:sldLayoutId id="2147484016" r:id="rId6"/>
    <p:sldLayoutId id="2147484017" r:id="rId7"/>
    <p:sldLayoutId id="2147484018" r:id="rId8"/>
    <p:sldLayoutId id="2147484019" r:id="rId9"/>
    <p:sldLayoutId id="2147484020" r:id="rId10"/>
    <p:sldLayoutId id="2147484021" r:id="rId11"/>
    <p:sldLayoutId id="2147484022" r:id="rId12"/>
    <p:sldLayoutId id="2147484023" r:id="rId13"/>
    <p:sldLayoutId id="2147484024"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AABEDD6-02B7-427C-836C-6B59B426F35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84" name="pasted-image.pdf" descr=""/>
          <p:cNvPicPr/>
          <p:nvPr/>
        </p:nvPicPr>
        <p:blipFill>
          <a:blip r:embed="rId2"/>
          <a:stretch/>
        </p:blipFill>
        <p:spPr>
          <a:xfrm>
            <a:off x="11176560" y="0"/>
            <a:ext cx="13207320" cy="13715640"/>
          </a:xfrm>
          <a:prstGeom prst="rect">
            <a:avLst/>
          </a:prstGeom>
          <a:ln w="12700">
            <a:noFill/>
          </a:ln>
        </p:spPr>
      </p:pic>
      <p:sp>
        <p:nvSpPr>
          <p:cNvPr id="85" name="Shape 2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BD79465-72A6-440C-9531-EDB078CC52B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86" name="pasted-image.pdf" descr=""/>
          <p:cNvPicPr/>
          <p:nvPr/>
        </p:nvPicPr>
        <p:blipFill>
          <a:blip r:embed="rId3"/>
          <a:srcRect l="15190" t="6005" r="15190" b="3059"/>
          <a:stretch/>
        </p:blipFill>
        <p:spPr>
          <a:xfrm>
            <a:off x="0" y="0"/>
            <a:ext cx="10159560" cy="13715640"/>
          </a:xfrm>
          <a:prstGeom prst="rect">
            <a:avLst/>
          </a:prstGeom>
          <a:ln w="12700">
            <a:noFill/>
          </a:ln>
        </p:spPr>
      </p:pic>
      <p:sp>
        <p:nvSpPr>
          <p:cNvPr id="87" name="PlaceHolder 1"/>
          <p:cNvSpPr>
            <a:spLocks noGrp="1"/>
          </p:cNvSpPr>
          <p:nvPr>
            <p:ph type="sldNum" idx="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215A6393-9A1C-40F5-BBFD-A39396529467}"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88" name="PlaceHolder 2"/>
          <p:cNvSpPr>
            <a:spLocks noGrp="1"/>
          </p:cNvSpPr>
          <p:nvPr>
            <p:ph type="body"/>
          </p:nvPr>
        </p:nvSpPr>
        <p:spPr>
          <a:xfrm>
            <a:off x="0" y="0"/>
            <a:ext cx="10159560" cy="1371564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89"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3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6A42C60-CB93-4FDC-AA4B-3E70ACCF159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244" name="pasted-image.pdf" descr=""/>
          <p:cNvPicPr/>
          <p:nvPr/>
        </p:nvPicPr>
        <p:blipFill>
          <a:blip r:embed="rId2"/>
          <a:stretch/>
        </p:blipFill>
        <p:spPr>
          <a:xfrm>
            <a:off x="11176560" y="0"/>
            <a:ext cx="13207320" cy="13715640"/>
          </a:xfrm>
          <a:prstGeom prst="rect">
            <a:avLst/>
          </a:prstGeom>
          <a:ln w="12700">
            <a:noFill/>
          </a:ln>
        </p:spPr>
      </p:pic>
      <p:sp>
        <p:nvSpPr>
          <p:cNvPr id="1245" name="Shape 28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EA9B6A2-557C-4F64-8542-A41DB3F95D0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246" name="PlaceHolder 1"/>
          <p:cNvSpPr>
            <a:spLocks noGrp="1"/>
          </p:cNvSpPr>
          <p:nvPr>
            <p:ph type="body"/>
          </p:nvPr>
        </p:nvSpPr>
        <p:spPr>
          <a:xfrm>
            <a:off x="0" y="9148320"/>
            <a:ext cx="24383880" cy="456732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247" name="PlaceHolder 2"/>
          <p:cNvSpPr>
            <a:spLocks noGrp="1"/>
          </p:cNvSpPr>
          <p:nvPr>
            <p:ph type="sldNum" idx="30"/>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99C045A4-E24E-4634-B553-E9CCC02D9E60}"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24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026" r:id="rId3"/>
    <p:sldLayoutId id="2147484027" r:id="rId4"/>
    <p:sldLayoutId id="2147484028" r:id="rId5"/>
    <p:sldLayoutId id="2147484029" r:id="rId6"/>
    <p:sldLayoutId id="2147484030" r:id="rId7"/>
    <p:sldLayoutId id="2147484031" r:id="rId8"/>
    <p:sldLayoutId id="2147484032" r:id="rId9"/>
    <p:sldLayoutId id="2147484033" r:id="rId10"/>
    <p:sldLayoutId id="2147484034" r:id="rId11"/>
    <p:sldLayoutId id="2147484035" r:id="rId12"/>
    <p:sldLayoutId id="2147484036" r:id="rId13"/>
    <p:sldLayoutId id="2147484037" r:id="rId14"/>
  </p:sldLayoutIdLst>
</p:sldMaster>
</file>

<file path=ppt/slideMasters/slideMaster3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9338A8C-1037-4A0A-9ABD-EF612E47E08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286" name="pasted-image.pdf" descr=""/>
          <p:cNvPicPr/>
          <p:nvPr/>
        </p:nvPicPr>
        <p:blipFill>
          <a:blip r:embed="rId2"/>
          <a:stretch/>
        </p:blipFill>
        <p:spPr>
          <a:xfrm>
            <a:off x="11176560" y="0"/>
            <a:ext cx="13207320" cy="13715640"/>
          </a:xfrm>
          <a:prstGeom prst="rect">
            <a:avLst/>
          </a:prstGeom>
          <a:ln w="12700">
            <a:noFill/>
          </a:ln>
        </p:spPr>
      </p:pic>
      <p:sp>
        <p:nvSpPr>
          <p:cNvPr id="1287" name="Shape 29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C479E5E-53FA-4BAE-8E9D-E6F8B6548C1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288" name="PlaceHolder 1"/>
          <p:cNvSpPr>
            <a:spLocks noGrp="1"/>
          </p:cNvSpPr>
          <p:nvPr>
            <p:ph type="body"/>
          </p:nvPr>
        </p:nvSpPr>
        <p:spPr>
          <a:xfrm>
            <a:off x="14972760" y="5358240"/>
            <a:ext cx="2798280" cy="32983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289" name="PlaceHolder 2"/>
          <p:cNvSpPr>
            <a:spLocks noGrp="1"/>
          </p:cNvSpPr>
          <p:nvPr>
            <p:ph type="body"/>
          </p:nvPr>
        </p:nvSpPr>
        <p:spPr>
          <a:xfrm>
            <a:off x="18973080" y="5358240"/>
            <a:ext cx="2798280" cy="32983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290" name="PlaceHolder 3"/>
          <p:cNvSpPr>
            <a:spLocks noGrp="1"/>
          </p:cNvSpPr>
          <p:nvPr>
            <p:ph type="sldNum" idx="3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BAFBAD13-2770-4C4B-A0C5-53FBC2DABA8A}"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291"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039" r:id="rId3"/>
    <p:sldLayoutId id="2147484040" r:id="rId4"/>
    <p:sldLayoutId id="2147484041" r:id="rId5"/>
    <p:sldLayoutId id="2147484042" r:id="rId6"/>
    <p:sldLayoutId id="2147484043" r:id="rId7"/>
    <p:sldLayoutId id="2147484044" r:id="rId8"/>
    <p:sldLayoutId id="2147484045" r:id="rId9"/>
    <p:sldLayoutId id="2147484046" r:id="rId10"/>
    <p:sldLayoutId id="2147484047" r:id="rId11"/>
    <p:sldLayoutId id="2147484048" r:id="rId12"/>
    <p:sldLayoutId id="2147484049" r:id="rId13"/>
    <p:sldLayoutId id="2147484050" r:id="rId14"/>
  </p:sldLayoutIdLst>
</p:sldMaster>
</file>

<file path=ppt/slideMasters/slideMaster3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85B6256-6F0E-4A4E-B59A-D7B9618FFD2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329" name="pasted-image.pdf" descr=""/>
          <p:cNvPicPr/>
          <p:nvPr/>
        </p:nvPicPr>
        <p:blipFill>
          <a:blip r:embed="rId2"/>
          <a:stretch/>
        </p:blipFill>
        <p:spPr>
          <a:xfrm>
            <a:off x="11176560" y="0"/>
            <a:ext cx="13207320" cy="13715640"/>
          </a:xfrm>
          <a:prstGeom prst="rect">
            <a:avLst/>
          </a:prstGeom>
          <a:ln w="12700">
            <a:noFill/>
          </a:ln>
        </p:spPr>
      </p:pic>
      <p:sp>
        <p:nvSpPr>
          <p:cNvPr id="1330" name="Shape 30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95388E85-1EA2-4D9E-BEC7-28A4DE36A8AC}"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331" name="PlaceHolder 1"/>
          <p:cNvSpPr>
            <a:spLocks noGrp="1"/>
          </p:cNvSpPr>
          <p:nvPr>
            <p:ph type="body"/>
          </p:nvPr>
        </p:nvSpPr>
        <p:spPr>
          <a:xfrm>
            <a:off x="2520" y="0"/>
            <a:ext cx="12186720" cy="9143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332" name="PlaceHolder 2"/>
          <p:cNvSpPr>
            <a:spLocks noGrp="1"/>
          </p:cNvSpPr>
          <p:nvPr>
            <p:ph type="body"/>
          </p:nvPr>
        </p:nvSpPr>
        <p:spPr>
          <a:xfrm>
            <a:off x="12192120" y="0"/>
            <a:ext cx="12186720" cy="9143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333" name="PlaceHolder 3"/>
          <p:cNvSpPr>
            <a:spLocks noGrp="1"/>
          </p:cNvSpPr>
          <p:nvPr>
            <p:ph type="sldNum" idx="3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AE09003A-CCDC-4A09-AEA6-4E95815B9BD2}"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334"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052" r:id="rId3"/>
    <p:sldLayoutId id="2147484053" r:id="rId4"/>
    <p:sldLayoutId id="2147484054" r:id="rId5"/>
    <p:sldLayoutId id="2147484055" r:id="rId6"/>
    <p:sldLayoutId id="2147484056" r:id="rId7"/>
    <p:sldLayoutId id="2147484057" r:id="rId8"/>
    <p:sldLayoutId id="2147484058" r:id="rId9"/>
    <p:sldLayoutId id="2147484059" r:id="rId10"/>
    <p:sldLayoutId id="2147484060" r:id="rId11"/>
    <p:sldLayoutId id="2147484061" r:id="rId12"/>
    <p:sldLayoutId id="2147484062" r:id="rId13"/>
    <p:sldLayoutId id="2147484063" r:id="rId14"/>
  </p:sldLayoutIdLst>
</p:sldMaster>
</file>

<file path=ppt/slideMasters/slideMaster3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63CD5AB4-8308-4DE1-BC89-57B8197F4E8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372" name="pasted-image.pdf" descr=""/>
          <p:cNvPicPr/>
          <p:nvPr/>
        </p:nvPicPr>
        <p:blipFill>
          <a:blip r:embed="rId2"/>
          <a:stretch/>
        </p:blipFill>
        <p:spPr>
          <a:xfrm>
            <a:off x="11176560" y="0"/>
            <a:ext cx="13207320" cy="13715640"/>
          </a:xfrm>
          <a:prstGeom prst="rect">
            <a:avLst/>
          </a:prstGeom>
          <a:ln w="12700">
            <a:noFill/>
          </a:ln>
        </p:spPr>
      </p:pic>
      <p:sp>
        <p:nvSpPr>
          <p:cNvPr id="1373" name="Shape 31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2B9A9AF-1930-4C1C-94F8-3E76BB009D5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374" name="PlaceHolder 1"/>
          <p:cNvSpPr>
            <a:spLocks noGrp="1"/>
          </p:cNvSpPr>
          <p:nvPr>
            <p:ph type="body"/>
          </p:nvPr>
        </p:nvSpPr>
        <p:spPr>
          <a:xfrm>
            <a:off x="2520" y="0"/>
            <a:ext cx="1218672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375" name="PlaceHolder 2"/>
          <p:cNvSpPr>
            <a:spLocks noGrp="1"/>
          </p:cNvSpPr>
          <p:nvPr>
            <p:ph type="sldNum" idx="3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C36918EE-A664-4B71-99D2-AFC49EEE2270}"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37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065" r:id="rId3"/>
    <p:sldLayoutId id="2147484066" r:id="rId4"/>
    <p:sldLayoutId id="2147484067" r:id="rId5"/>
    <p:sldLayoutId id="2147484068" r:id="rId6"/>
    <p:sldLayoutId id="2147484069" r:id="rId7"/>
    <p:sldLayoutId id="2147484070" r:id="rId8"/>
    <p:sldLayoutId id="2147484071" r:id="rId9"/>
    <p:sldLayoutId id="2147484072" r:id="rId10"/>
    <p:sldLayoutId id="2147484073" r:id="rId11"/>
    <p:sldLayoutId id="2147484074" r:id="rId12"/>
    <p:sldLayoutId id="2147484075" r:id="rId13"/>
    <p:sldLayoutId id="2147484076" r:id="rId14"/>
  </p:sldLayoutIdLst>
</p:sldMaster>
</file>

<file path=ppt/slideMasters/slideMaster3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2F61DAD-4A54-4D76-9E68-9098F95773C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414" name="pasted-image.pdf" descr=""/>
          <p:cNvPicPr/>
          <p:nvPr/>
        </p:nvPicPr>
        <p:blipFill>
          <a:blip r:embed="rId2"/>
          <a:stretch/>
        </p:blipFill>
        <p:spPr>
          <a:xfrm>
            <a:off x="11176560" y="0"/>
            <a:ext cx="13207320" cy="13715640"/>
          </a:xfrm>
          <a:prstGeom prst="rect">
            <a:avLst/>
          </a:prstGeom>
          <a:ln w="12700">
            <a:noFill/>
          </a:ln>
        </p:spPr>
      </p:pic>
      <p:sp>
        <p:nvSpPr>
          <p:cNvPr id="1415" name="Shape 31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70C3A10-E73F-482A-8E18-13EE2FD39C6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416" name="PlaceHolder 1"/>
          <p:cNvSpPr>
            <a:spLocks noGrp="1"/>
          </p:cNvSpPr>
          <p:nvPr>
            <p:ph type="body"/>
          </p:nvPr>
        </p:nvSpPr>
        <p:spPr>
          <a:xfrm>
            <a:off x="15903720" y="2870280"/>
            <a:ext cx="6006600" cy="79754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417" name="PlaceHolder 2"/>
          <p:cNvSpPr>
            <a:spLocks noGrp="1"/>
          </p:cNvSpPr>
          <p:nvPr>
            <p:ph type="sldNum" idx="3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93650DAD-BFC2-4D90-8B9D-369396DA4B99}"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41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078" r:id="rId3"/>
    <p:sldLayoutId id="2147484079" r:id="rId4"/>
    <p:sldLayoutId id="2147484080" r:id="rId5"/>
    <p:sldLayoutId id="2147484081" r:id="rId6"/>
    <p:sldLayoutId id="2147484082" r:id="rId7"/>
    <p:sldLayoutId id="2147484083" r:id="rId8"/>
    <p:sldLayoutId id="2147484084" r:id="rId9"/>
    <p:sldLayoutId id="2147484085" r:id="rId10"/>
    <p:sldLayoutId id="2147484086" r:id="rId11"/>
    <p:sldLayoutId id="2147484087" r:id="rId12"/>
    <p:sldLayoutId id="2147484088" r:id="rId13"/>
    <p:sldLayoutId id="2147484089" r:id="rId14"/>
  </p:sldLayoutIdLst>
</p:sldMaster>
</file>

<file path=ppt/slideMasters/slideMaster3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9D3564C1-D50D-4F91-A96F-D9A75F5FC62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456" name="pasted-image.pdf" descr=""/>
          <p:cNvPicPr/>
          <p:nvPr/>
        </p:nvPicPr>
        <p:blipFill>
          <a:blip r:embed="rId2"/>
          <a:stretch/>
        </p:blipFill>
        <p:spPr>
          <a:xfrm>
            <a:off x="11176560" y="0"/>
            <a:ext cx="13207320" cy="13715640"/>
          </a:xfrm>
          <a:prstGeom prst="rect">
            <a:avLst/>
          </a:prstGeom>
          <a:ln w="12700">
            <a:noFill/>
          </a:ln>
        </p:spPr>
      </p:pic>
      <p:sp>
        <p:nvSpPr>
          <p:cNvPr id="1457" name="Shape 328"/>
          <p:cNvSpPr/>
          <p:nvPr/>
        </p:nvSpPr>
        <p:spPr>
          <a:xfrm>
            <a:off x="14736240" y="0"/>
            <a:ext cx="964728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900" spc="-1" strike="noStrike">
              <a:solidFill>
                <a:srgbClr val="ffffff"/>
              </a:solidFill>
              <a:latin typeface="Helvetica Light"/>
              <a:ea typeface="Helvetica Light"/>
            </a:endParaRPr>
          </a:p>
        </p:txBody>
      </p:sp>
      <p:sp>
        <p:nvSpPr>
          <p:cNvPr id="1458" name="PlaceHolder 1"/>
          <p:cNvSpPr>
            <a:spLocks noGrp="1"/>
          </p:cNvSpPr>
          <p:nvPr>
            <p:ph type="body"/>
          </p:nvPr>
        </p:nvSpPr>
        <p:spPr>
          <a:xfrm>
            <a:off x="18222120" y="4700160"/>
            <a:ext cx="2653920" cy="47368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459" name="Shape 33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6B3697D-E220-47D7-BB83-E4FD939F242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460" name="PlaceHolder 2"/>
          <p:cNvSpPr>
            <a:spLocks noGrp="1"/>
          </p:cNvSpPr>
          <p:nvPr>
            <p:ph type="sldNum" idx="3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0AC017B8-3144-4EDB-892B-DD71D4BC2AE9}"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461"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091" r:id="rId3"/>
    <p:sldLayoutId id="2147484092" r:id="rId4"/>
    <p:sldLayoutId id="2147484093" r:id="rId5"/>
    <p:sldLayoutId id="2147484094" r:id="rId6"/>
    <p:sldLayoutId id="2147484095" r:id="rId7"/>
    <p:sldLayoutId id="2147484096" r:id="rId8"/>
    <p:sldLayoutId id="2147484097" r:id="rId9"/>
    <p:sldLayoutId id="2147484098" r:id="rId10"/>
    <p:sldLayoutId id="2147484099" r:id="rId11"/>
    <p:sldLayoutId id="2147484100" r:id="rId12"/>
    <p:sldLayoutId id="2147484101" r:id="rId13"/>
    <p:sldLayoutId id="2147484102" r:id="rId14"/>
  </p:sldLayoutIdLst>
</p:sldMaster>
</file>

<file path=ppt/slideMasters/slideMaster3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9AA56575-0999-4960-94F4-672A8A58317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499" name="pasted-image.pdf" descr=""/>
          <p:cNvPicPr/>
          <p:nvPr/>
        </p:nvPicPr>
        <p:blipFill>
          <a:blip r:embed="rId2"/>
          <a:stretch/>
        </p:blipFill>
        <p:spPr>
          <a:xfrm>
            <a:off x="11176560" y="0"/>
            <a:ext cx="13207320" cy="13715640"/>
          </a:xfrm>
          <a:prstGeom prst="rect">
            <a:avLst/>
          </a:prstGeom>
          <a:ln w="12700">
            <a:noFill/>
          </a:ln>
        </p:spPr>
      </p:pic>
      <p:sp>
        <p:nvSpPr>
          <p:cNvPr id="1500" name="Shape 354"/>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A4CD0A1-5889-4640-8D7E-755AFCD0341C}"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501" name="PlaceHolder 1"/>
          <p:cNvSpPr>
            <a:spLocks noGrp="1"/>
          </p:cNvSpPr>
          <p:nvPr>
            <p:ph type="body"/>
          </p:nvPr>
        </p:nvSpPr>
        <p:spPr>
          <a:xfrm>
            <a:off x="2440800" y="2863440"/>
            <a:ext cx="6019200" cy="79750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502" name="PlaceHolder 2"/>
          <p:cNvSpPr>
            <a:spLocks noGrp="1"/>
          </p:cNvSpPr>
          <p:nvPr>
            <p:ph type="sldNum" idx="3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A38FEEC9-6C3C-40CD-B5C5-1E62279B538A}"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503"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104" r:id="rId3"/>
    <p:sldLayoutId id="2147484105" r:id="rId4"/>
    <p:sldLayoutId id="2147484106" r:id="rId5"/>
    <p:sldLayoutId id="2147484107" r:id="rId6"/>
    <p:sldLayoutId id="2147484108" r:id="rId7"/>
    <p:sldLayoutId id="2147484109" r:id="rId8"/>
    <p:sldLayoutId id="2147484110" r:id="rId9"/>
    <p:sldLayoutId id="2147484111" r:id="rId10"/>
    <p:sldLayoutId id="2147484112" r:id="rId11"/>
    <p:sldLayoutId id="2147484113" r:id="rId12"/>
    <p:sldLayoutId id="2147484114" r:id="rId13"/>
    <p:sldLayoutId id="2147484115" r:id="rId14"/>
  </p:sldLayoutIdLst>
</p:sldMaster>
</file>

<file path=ppt/slideMasters/slideMaster3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0"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C80828B-142C-4753-BC6D-106A866B7D6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541" name="pasted-image.pdf" descr=""/>
          <p:cNvPicPr/>
          <p:nvPr/>
        </p:nvPicPr>
        <p:blipFill>
          <a:blip r:embed="rId2"/>
          <a:stretch/>
        </p:blipFill>
        <p:spPr>
          <a:xfrm>
            <a:off x="11176560" y="0"/>
            <a:ext cx="13207320" cy="13715640"/>
          </a:xfrm>
          <a:prstGeom prst="rect">
            <a:avLst/>
          </a:prstGeom>
          <a:ln w="12700">
            <a:noFill/>
          </a:ln>
        </p:spPr>
      </p:pic>
      <p:sp>
        <p:nvSpPr>
          <p:cNvPr id="1542" name="PlaceHolder 1"/>
          <p:cNvSpPr>
            <a:spLocks noGrp="1"/>
          </p:cNvSpPr>
          <p:nvPr>
            <p:ph type="body"/>
          </p:nvPr>
        </p:nvSpPr>
        <p:spPr>
          <a:xfrm>
            <a:off x="0" y="9148320"/>
            <a:ext cx="24383880" cy="45673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543" name="Shape 364"/>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900385E5-36C8-498E-A783-9529DC70C0C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544" name="PlaceHolder 2"/>
          <p:cNvSpPr>
            <a:spLocks noGrp="1"/>
          </p:cNvSpPr>
          <p:nvPr>
            <p:ph type="sldNum" idx="3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3F45350D-47FF-4E56-8564-49BF8637DC50}"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545"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117" r:id="rId3"/>
    <p:sldLayoutId id="2147484118" r:id="rId4"/>
    <p:sldLayoutId id="2147484119" r:id="rId5"/>
    <p:sldLayoutId id="2147484120" r:id="rId6"/>
    <p:sldLayoutId id="2147484121" r:id="rId7"/>
    <p:sldLayoutId id="2147484122" r:id="rId8"/>
    <p:sldLayoutId id="2147484123" r:id="rId9"/>
    <p:sldLayoutId id="2147484124" r:id="rId10"/>
    <p:sldLayoutId id="2147484125" r:id="rId11"/>
    <p:sldLayoutId id="2147484126" r:id="rId12"/>
    <p:sldLayoutId id="2147484127" r:id="rId13"/>
    <p:sldLayoutId id="2147484128" r:id="rId14"/>
  </p:sldLayoutIdLst>
</p:sldMaster>
</file>

<file path=ppt/slideMasters/slideMaster3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2"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5D21543-2E90-41D3-B225-C76AF9EA636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583" name="pasted-image.pdf" descr=""/>
          <p:cNvPicPr/>
          <p:nvPr/>
        </p:nvPicPr>
        <p:blipFill>
          <a:blip r:embed="rId2"/>
          <a:stretch/>
        </p:blipFill>
        <p:spPr>
          <a:xfrm>
            <a:off x="11176560" y="0"/>
            <a:ext cx="13207320" cy="13715640"/>
          </a:xfrm>
          <a:prstGeom prst="rect">
            <a:avLst/>
          </a:prstGeom>
          <a:ln w="12700">
            <a:noFill/>
          </a:ln>
        </p:spPr>
      </p:pic>
      <p:sp>
        <p:nvSpPr>
          <p:cNvPr id="1584" name="PlaceHolder 1"/>
          <p:cNvSpPr>
            <a:spLocks noGrp="1"/>
          </p:cNvSpPr>
          <p:nvPr>
            <p:ph type="body"/>
          </p:nvPr>
        </p:nvSpPr>
        <p:spPr>
          <a:xfrm>
            <a:off x="4680" y="0"/>
            <a:ext cx="2437416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585" name="Shape 37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42F6666-0341-4C72-8085-71B0DAAD11B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586" name="PlaceHolder 2"/>
          <p:cNvSpPr>
            <a:spLocks noGrp="1"/>
          </p:cNvSpPr>
          <p:nvPr>
            <p:ph type="sldNum" idx="3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B3F25D40-2A53-4891-9E4D-09AA745BAE02}"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587"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130" r:id="rId3"/>
    <p:sldLayoutId id="2147484131" r:id="rId4"/>
    <p:sldLayoutId id="2147484132" r:id="rId5"/>
    <p:sldLayoutId id="2147484133" r:id="rId6"/>
    <p:sldLayoutId id="2147484134" r:id="rId7"/>
    <p:sldLayoutId id="2147484135" r:id="rId8"/>
    <p:sldLayoutId id="2147484136" r:id="rId9"/>
    <p:sldLayoutId id="2147484137" r:id="rId10"/>
    <p:sldLayoutId id="2147484138" r:id="rId11"/>
    <p:sldLayoutId id="2147484139" r:id="rId12"/>
    <p:sldLayoutId id="2147484140" r:id="rId13"/>
    <p:sldLayoutId id="2147484141" r:id="rId14"/>
  </p:sldLayoutIdLst>
</p:sldMaster>
</file>

<file path=ppt/slideMasters/slideMaster3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3D2C378-35E3-40BF-B509-8F7D325C25B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625" name="pasted-image.pdf" descr=""/>
          <p:cNvPicPr/>
          <p:nvPr/>
        </p:nvPicPr>
        <p:blipFill>
          <a:blip r:embed="rId2"/>
          <a:stretch/>
        </p:blipFill>
        <p:spPr>
          <a:xfrm>
            <a:off x="11176560" y="0"/>
            <a:ext cx="13207320" cy="13715640"/>
          </a:xfrm>
          <a:prstGeom prst="rect">
            <a:avLst/>
          </a:prstGeom>
          <a:ln w="12700">
            <a:noFill/>
          </a:ln>
        </p:spPr>
      </p:pic>
      <p:sp>
        <p:nvSpPr>
          <p:cNvPr id="1626" name="Shape 38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278697E-6853-4A43-AAF2-B5BEE93EC32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627" name="PlaceHolder 1"/>
          <p:cNvSpPr>
            <a:spLocks noGrp="1"/>
          </p:cNvSpPr>
          <p:nvPr>
            <p:ph type="body"/>
          </p:nvPr>
        </p:nvSpPr>
        <p:spPr>
          <a:xfrm>
            <a:off x="2323440" y="2870280"/>
            <a:ext cx="6019200" cy="79750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628" name="PlaceHolder 2"/>
          <p:cNvSpPr>
            <a:spLocks noGrp="1"/>
          </p:cNvSpPr>
          <p:nvPr>
            <p:ph type="body"/>
          </p:nvPr>
        </p:nvSpPr>
        <p:spPr>
          <a:xfrm>
            <a:off x="9119160" y="6153840"/>
            <a:ext cx="2653920" cy="47368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629" name="PlaceHolder 3"/>
          <p:cNvSpPr>
            <a:spLocks noGrp="1"/>
          </p:cNvSpPr>
          <p:nvPr>
            <p:ph type="sldNum" idx="3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5603C4A-33E5-49F2-B203-1C4055878988}"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630"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143" r:id="rId3"/>
    <p:sldLayoutId id="2147484144" r:id="rId4"/>
    <p:sldLayoutId id="2147484145" r:id="rId5"/>
    <p:sldLayoutId id="2147484146" r:id="rId6"/>
    <p:sldLayoutId id="2147484147" r:id="rId7"/>
    <p:sldLayoutId id="2147484148" r:id="rId8"/>
    <p:sldLayoutId id="2147484149" r:id="rId9"/>
    <p:sldLayoutId id="2147484150" r:id="rId10"/>
    <p:sldLayoutId id="2147484151" r:id="rId11"/>
    <p:sldLayoutId id="2147484152" r:id="rId12"/>
    <p:sldLayoutId id="2147484153" r:id="rId13"/>
    <p:sldLayoutId id="2147484154"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3A5A79D-FAAF-490C-BCC1-5DDEE55E5ED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27" name="pasted-image.pdf" descr=""/>
          <p:cNvPicPr/>
          <p:nvPr/>
        </p:nvPicPr>
        <p:blipFill>
          <a:blip r:embed="rId2"/>
          <a:stretch/>
        </p:blipFill>
        <p:spPr>
          <a:xfrm>
            <a:off x="11176560" y="0"/>
            <a:ext cx="13207320" cy="13715640"/>
          </a:xfrm>
          <a:prstGeom prst="rect">
            <a:avLst/>
          </a:prstGeom>
          <a:ln w="12700">
            <a:noFill/>
          </a:ln>
        </p:spPr>
      </p:pic>
      <p:sp>
        <p:nvSpPr>
          <p:cNvPr id="128" name="Shape 3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92C422E7-2408-446A-90F3-93B05A5C023C}"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29" name="PlaceHolder 1"/>
          <p:cNvSpPr>
            <a:spLocks noGrp="1"/>
          </p:cNvSpPr>
          <p:nvPr>
            <p:ph type="sldNum" idx="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00C33C8D-5785-4D49-B6F4-98BBE810B393}"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30" name="Picture Placeholder 3"/>
          <p:cNvSpPr/>
          <p:nvPr/>
        </p:nvSpPr>
        <p:spPr>
          <a:xfrm>
            <a:off x="16020360" y="2182320"/>
            <a:ext cx="3521160" cy="3492720"/>
          </a:xfrm>
          <a:custGeom>
            <a:avLst/>
            <a:gdLst>
              <a:gd name="textAreaLeft" fmla="*/ 0 w 3521160"/>
              <a:gd name="textAreaRight" fmla="*/ 3521520 w 3521160"/>
              <a:gd name="textAreaTop" fmla="*/ 0 h 3492720"/>
              <a:gd name="textAreaBottom" fmla="*/ 3493080 h 3492720"/>
            </a:gdLst>
            <a:ahLst/>
            <a:rect l="textAreaLeft" t="textAreaTop" r="textAreaRight" b="textAreaBottom"/>
            <a:pathLst>
              <a:path w="2181277" h="2181277">
                <a:moveTo>
                  <a:pt x="1090639" y="0"/>
                </a:moveTo>
                <a:cubicBezTo>
                  <a:pt x="1250061" y="0"/>
                  <a:pt x="1409483" y="60459"/>
                  <a:pt x="1530401" y="181378"/>
                </a:cubicBezTo>
                <a:lnTo>
                  <a:pt x="1999900" y="650877"/>
                </a:lnTo>
                <a:cubicBezTo>
                  <a:pt x="2241737" y="892714"/>
                  <a:pt x="2241737" y="1288564"/>
                  <a:pt x="1999900" y="1530401"/>
                </a:cubicBezTo>
                <a:lnTo>
                  <a:pt x="1530401" y="1999900"/>
                </a:lnTo>
                <a:cubicBezTo>
                  <a:pt x="1288564" y="2241737"/>
                  <a:pt x="892714" y="2241737"/>
                  <a:pt x="650877" y="1999900"/>
                </a:cubicBezTo>
                <a:lnTo>
                  <a:pt x="181378" y="1530401"/>
                </a:lnTo>
                <a:cubicBezTo>
                  <a:pt x="-60459" y="1288564"/>
                  <a:pt x="-60459" y="892714"/>
                  <a:pt x="181378" y="650877"/>
                </a:cubicBezTo>
                <a:lnTo>
                  <a:pt x="650877" y="181378"/>
                </a:lnTo>
                <a:cubicBezTo>
                  <a:pt x="771796" y="60459"/>
                  <a:pt x="931217" y="0"/>
                  <a:pt x="1090639" y="0"/>
                </a:cubicBezTo>
                <a:close/>
              </a:path>
            </a:pathLst>
          </a:custGeom>
          <a:pattFill prst="wdUpDiag">
            <a:fgClr>
              <a:srgbClr val="83c2fd"/>
            </a:fgClr>
            <a:bgClr>
              <a:srgbClr val="dcdee0"/>
            </a:bgClr>
          </a:pattFill>
          <a:ln w="0">
            <a:noFill/>
          </a:ln>
        </p:spPr>
        <p:style>
          <a:lnRef idx="0"/>
          <a:fillRef idx="0"/>
          <a:effectRef idx="0"/>
          <a:fontRef idx="minor"/>
        </p:style>
        <p:txBody>
          <a:bodyPr lIns="90000" rIns="90000" tIns="45000" bIns="45000" anchor="ctr">
            <a:noAutofit/>
          </a:bodyPr>
          <a:p>
            <a:pPr marL="366480" indent="-366480" algn="ctr">
              <a:lnSpc>
                <a:spcPct val="120000"/>
              </a:lnSpc>
              <a:spcBef>
                <a:spcPts val="5199"/>
              </a:spcBef>
              <a:buClr>
                <a:srgbClr val="5e5e5e"/>
              </a:buClr>
              <a:buSzPct val="75000"/>
              <a:buFont typeface="Symbol" charset="2"/>
              <a:buChar char=""/>
            </a:pPr>
            <a:r>
              <a:rPr b="0" lang="en-US" sz="1600" spc="-1" strike="noStrike">
                <a:solidFill>
                  <a:srgbClr val="5e5e5e"/>
                </a:solidFill>
                <a:latin typeface="Titillium"/>
                <a:ea typeface="Titillium"/>
              </a:rPr>
              <a:t>Insert Image</a:t>
            </a:r>
            <a:endParaRPr b="0" lang="en-US" sz="1600" spc="-1" strike="noStrike">
              <a:solidFill>
                <a:srgbClr val="000000"/>
              </a:solidFill>
              <a:latin typeface="Arial"/>
            </a:endParaRPr>
          </a:p>
        </p:txBody>
      </p:sp>
      <p:sp>
        <p:nvSpPr>
          <p:cNvPr id="131" name="PlaceHolder 2"/>
          <p:cNvSpPr>
            <a:spLocks noGrp="1"/>
          </p:cNvSpPr>
          <p:nvPr>
            <p:ph type="body"/>
          </p:nvPr>
        </p:nvSpPr>
        <p:spPr>
          <a:xfrm>
            <a:off x="15931800" y="2079720"/>
            <a:ext cx="3698280" cy="3698280"/>
          </a:xfrm>
          <a:prstGeom prst="rect">
            <a:avLst/>
          </a:prstGeom>
          <a:pattFill prst="wdUpDiag">
            <a:fgClr>
              <a:srgbClr val="45a4fc"/>
            </a:fgClr>
            <a:bgClr>
              <a:srgbClr val="dcdee0"/>
            </a:bgClr>
          </a:pattFill>
          <a:ln w="0">
            <a:noFill/>
          </a:ln>
        </p:spPr>
        <p:txBody>
          <a:bodyPr lIns="90000" rIns="90000" tIns="45000" bIns="45000" anchor="ctr">
            <a:noAutofit/>
          </a:bodyPr>
          <a:p>
            <a:pPr indent="0" algn="ctr">
              <a:lnSpc>
                <a:spcPct val="120000"/>
              </a:lnSpc>
              <a:buNone/>
              <a:tabLst>
                <a:tab algn="l" pos="0"/>
              </a:tabLst>
            </a:pPr>
            <a:r>
              <a:rPr b="0" lang="de-DE" sz="1600" spc="-1" strike="noStrike">
                <a:solidFill>
                  <a:srgbClr val="009193"/>
                </a:solidFill>
                <a:latin typeface="Titillium"/>
                <a:ea typeface="Titillium"/>
              </a:rPr>
              <a:t>Drop Image here</a:t>
            </a:r>
            <a:endParaRPr b="0" lang="en-US" sz="1600" spc="-1" strike="noStrike">
              <a:solidFill>
                <a:srgbClr val="5e5e5e"/>
              </a:solidFill>
              <a:latin typeface="Montserrat Light"/>
            </a:endParaRPr>
          </a:p>
        </p:txBody>
      </p:sp>
      <p:sp>
        <p:nvSpPr>
          <p:cNvPr id="132"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4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7"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8ADF43D-2BB2-4F79-927D-8E8B48FF039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668" name="pasted-image.pdf" descr=""/>
          <p:cNvPicPr/>
          <p:nvPr/>
        </p:nvPicPr>
        <p:blipFill>
          <a:blip r:embed="rId2"/>
          <a:stretch/>
        </p:blipFill>
        <p:spPr>
          <a:xfrm>
            <a:off x="11176560" y="0"/>
            <a:ext cx="13207320" cy="13715640"/>
          </a:xfrm>
          <a:prstGeom prst="rect">
            <a:avLst/>
          </a:prstGeom>
          <a:ln w="12700">
            <a:noFill/>
          </a:ln>
        </p:spPr>
      </p:pic>
      <p:sp>
        <p:nvSpPr>
          <p:cNvPr id="1669" name="Shape 39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7C38CAD-DDAA-4D6B-B8EB-454AC9F61B9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670" name="PlaceHolder 1"/>
          <p:cNvSpPr>
            <a:spLocks noGrp="1"/>
          </p:cNvSpPr>
          <p:nvPr>
            <p:ph type="body"/>
          </p:nvPr>
        </p:nvSpPr>
        <p:spPr>
          <a:xfrm>
            <a:off x="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671" name="PlaceHolder 2"/>
          <p:cNvSpPr>
            <a:spLocks noGrp="1"/>
          </p:cNvSpPr>
          <p:nvPr>
            <p:ph type="body"/>
          </p:nvPr>
        </p:nvSpPr>
        <p:spPr>
          <a:xfrm>
            <a:off x="609588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672" name="PlaceHolder 3"/>
          <p:cNvSpPr>
            <a:spLocks noGrp="1"/>
          </p:cNvSpPr>
          <p:nvPr>
            <p:ph type="body"/>
          </p:nvPr>
        </p:nvSpPr>
        <p:spPr>
          <a:xfrm>
            <a:off x="1219212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673" name="PlaceHolder 4"/>
          <p:cNvSpPr>
            <a:spLocks noGrp="1"/>
          </p:cNvSpPr>
          <p:nvPr>
            <p:ph type="body"/>
          </p:nvPr>
        </p:nvSpPr>
        <p:spPr>
          <a:xfrm>
            <a:off x="1828800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674" name="PlaceHolder 5"/>
          <p:cNvSpPr>
            <a:spLocks noGrp="1"/>
          </p:cNvSpPr>
          <p:nvPr>
            <p:ph type="sldNum" idx="40"/>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4635C549-845D-47BC-806A-4CD38517863F}"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675"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156" r:id="rId3"/>
    <p:sldLayoutId id="2147484157" r:id="rId4"/>
    <p:sldLayoutId id="2147484158" r:id="rId5"/>
    <p:sldLayoutId id="2147484159" r:id="rId6"/>
    <p:sldLayoutId id="2147484160" r:id="rId7"/>
    <p:sldLayoutId id="2147484161" r:id="rId8"/>
    <p:sldLayoutId id="2147484162" r:id="rId9"/>
    <p:sldLayoutId id="2147484163" r:id="rId10"/>
    <p:sldLayoutId id="2147484164" r:id="rId11"/>
    <p:sldLayoutId id="2147484165" r:id="rId12"/>
    <p:sldLayoutId id="2147484166" r:id="rId13"/>
    <p:sldLayoutId id="2147484167" r:id="rId14"/>
  </p:sldLayoutIdLst>
</p:sldMaster>
</file>

<file path=ppt/slideMasters/slideMaster4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2"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452E9E2-0CDC-4330-8317-8F93435A297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713" name="pasted-image.pdf" descr=""/>
          <p:cNvPicPr/>
          <p:nvPr/>
        </p:nvPicPr>
        <p:blipFill>
          <a:blip r:embed="rId2"/>
          <a:stretch/>
        </p:blipFill>
        <p:spPr>
          <a:xfrm>
            <a:off x="11176560" y="0"/>
            <a:ext cx="13207320" cy="13715640"/>
          </a:xfrm>
          <a:prstGeom prst="rect">
            <a:avLst/>
          </a:prstGeom>
          <a:ln w="12700">
            <a:noFill/>
          </a:ln>
        </p:spPr>
      </p:pic>
      <p:sp>
        <p:nvSpPr>
          <p:cNvPr id="1714" name="Shape 40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51B39E8-3EC0-46AB-A610-5E8DEE132B8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715" name="PlaceHolder 1"/>
          <p:cNvSpPr>
            <a:spLocks noGrp="1"/>
          </p:cNvSpPr>
          <p:nvPr>
            <p:ph type="body"/>
          </p:nvPr>
        </p:nvSpPr>
        <p:spPr>
          <a:xfrm>
            <a:off x="15897240" y="2870280"/>
            <a:ext cx="6019200" cy="79750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716" name="PlaceHolder 2"/>
          <p:cNvSpPr>
            <a:spLocks noGrp="1"/>
          </p:cNvSpPr>
          <p:nvPr>
            <p:ph type="sldNum" idx="4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F8ACAD61-4111-4D9B-AE4A-A27B3E5F87AB}"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717"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169" r:id="rId3"/>
    <p:sldLayoutId id="2147484170" r:id="rId4"/>
    <p:sldLayoutId id="2147484171" r:id="rId5"/>
    <p:sldLayoutId id="2147484172" r:id="rId6"/>
    <p:sldLayoutId id="2147484173" r:id="rId7"/>
    <p:sldLayoutId id="2147484174" r:id="rId8"/>
    <p:sldLayoutId id="2147484175" r:id="rId9"/>
    <p:sldLayoutId id="2147484176" r:id="rId10"/>
    <p:sldLayoutId id="2147484177" r:id="rId11"/>
    <p:sldLayoutId id="2147484178" r:id="rId12"/>
    <p:sldLayoutId id="2147484179" r:id="rId13"/>
    <p:sldLayoutId id="2147484180" r:id="rId14"/>
  </p:sldLayoutIdLst>
</p:sldMaster>
</file>

<file path=ppt/slideMasters/slideMaster4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E619A29-D6E9-4604-8E13-8DD0B8B06CF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755" name="pasted-image.pdf" descr=""/>
          <p:cNvPicPr/>
          <p:nvPr/>
        </p:nvPicPr>
        <p:blipFill>
          <a:blip r:embed="rId2"/>
          <a:stretch/>
        </p:blipFill>
        <p:spPr>
          <a:xfrm>
            <a:off x="11176560" y="0"/>
            <a:ext cx="13207320" cy="13715640"/>
          </a:xfrm>
          <a:prstGeom prst="rect">
            <a:avLst/>
          </a:prstGeom>
          <a:ln w="12700">
            <a:noFill/>
          </a:ln>
        </p:spPr>
      </p:pic>
      <p:sp>
        <p:nvSpPr>
          <p:cNvPr id="1756" name="PlaceHolder 1"/>
          <p:cNvSpPr>
            <a:spLocks noGrp="1"/>
          </p:cNvSpPr>
          <p:nvPr>
            <p:ph type="body"/>
          </p:nvPr>
        </p:nvSpPr>
        <p:spPr>
          <a:xfrm>
            <a:off x="0" y="0"/>
            <a:ext cx="2438352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757" name="Shape 41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622AE92-98FD-442E-A40A-F5C84D46797C}"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758" name="PlaceHolder 2"/>
          <p:cNvSpPr>
            <a:spLocks noGrp="1"/>
          </p:cNvSpPr>
          <p:nvPr>
            <p:ph type="sldNum" idx="4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2377B930-A03C-4346-BB1B-3F5A8B650051}"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759"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182" r:id="rId3"/>
    <p:sldLayoutId id="2147484183" r:id="rId4"/>
    <p:sldLayoutId id="2147484184" r:id="rId5"/>
    <p:sldLayoutId id="2147484185" r:id="rId6"/>
    <p:sldLayoutId id="2147484186" r:id="rId7"/>
    <p:sldLayoutId id="2147484187" r:id="rId8"/>
    <p:sldLayoutId id="2147484188" r:id="rId9"/>
    <p:sldLayoutId id="2147484189" r:id="rId10"/>
    <p:sldLayoutId id="2147484190" r:id="rId11"/>
    <p:sldLayoutId id="2147484191" r:id="rId12"/>
    <p:sldLayoutId id="2147484192" r:id="rId13"/>
    <p:sldLayoutId id="2147484193" r:id="rId14"/>
  </p:sldLayoutIdLst>
</p:sldMaster>
</file>

<file path=ppt/slideMasters/slideMaster4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6"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58142A9-D6F6-498B-86C5-AAFA8786BB6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797" name="pasted-image.pdf" descr=""/>
          <p:cNvPicPr/>
          <p:nvPr/>
        </p:nvPicPr>
        <p:blipFill>
          <a:blip r:embed="rId2"/>
          <a:stretch/>
        </p:blipFill>
        <p:spPr>
          <a:xfrm>
            <a:off x="11176560" y="0"/>
            <a:ext cx="13207320" cy="13715640"/>
          </a:xfrm>
          <a:prstGeom prst="rect">
            <a:avLst/>
          </a:prstGeom>
          <a:ln w="12700">
            <a:noFill/>
          </a:ln>
        </p:spPr>
      </p:pic>
      <p:sp>
        <p:nvSpPr>
          <p:cNvPr id="1798" name="Shape 421"/>
          <p:cNvSpPr/>
          <p:nvPr/>
        </p:nvSpPr>
        <p:spPr>
          <a:xfrm>
            <a:off x="0" y="0"/>
            <a:ext cx="1219176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900" spc="-1" strike="noStrike">
              <a:solidFill>
                <a:srgbClr val="ffffff"/>
              </a:solidFill>
              <a:latin typeface="Helvetica Light"/>
              <a:ea typeface="Helvetica Light"/>
            </a:endParaRPr>
          </a:p>
        </p:txBody>
      </p:sp>
      <p:sp>
        <p:nvSpPr>
          <p:cNvPr id="1799" name="PlaceHolder 1"/>
          <p:cNvSpPr>
            <a:spLocks noGrp="1"/>
          </p:cNvSpPr>
          <p:nvPr>
            <p:ph type="body"/>
          </p:nvPr>
        </p:nvSpPr>
        <p:spPr>
          <a:xfrm>
            <a:off x="3098880" y="2870280"/>
            <a:ext cx="6019200" cy="797508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800" name="Shape 42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BD88A0B-C5C7-4607-9968-755818D43B7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801" name="PlaceHolder 2"/>
          <p:cNvSpPr>
            <a:spLocks noGrp="1"/>
          </p:cNvSpPr>
          <p:nvPr>
            <p:ph type="sldNum" idx="4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5B6994F7-D03E-49A8-814D-722B3A78A21F}"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802"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195" r:id="rId3"/>
    <p:sldLayoutId id="2147484196" r:id="rId4"/>
    <p:sldLayoutId id="2147484197" r:id="rId5"/>
    <p:sldLayoutId id="2147484198" r:id="rId6"/>
    <p:sldLayoutId id="2147484199" r:id="rId7"/>
    <p:sldLayoutId id="2147484200" r:id="rId8"/>
    <p:sldLayoutId id="2147484201" r:id="rId9"/>
    <p:sldLayoutId id="2147484202" r:id="rId10"/>
    <p:sldLayoutId id="2147484203" r:id="rId11"/>
    <p:sldLayoutId id="2147484204" r:id="rId12"/>
    <p:sldLayoutId id="2147484205" r:id="rId13"/>
    <p:sldLayoutId id="2147484206" r:id="rId14"/>
  </p:sldLayoutIdLst>
</p:sldMaster>
</file>

<file path=ppt/slideMasters/slideMaster4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89FDEDD-3E1E-4ADD-AC0A-0730F43024F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840" name="pasted-image.pdf" descr=""/>
          <p:cNvPicPr/>
          <p:nvPr/>
        </p:nvPicPr>
        <p:blipFill>
          <a:blip r:embed="rId2"/>
          <a:stretch/>
        </p:blipFill>
        <p:spPr>
          <a:xfrm>
            <a:off x="11176560" y="0"/>
            <a:ext cx="13207320" cy="13715640"/>
          </a:xfrm>
          <a:prstGeom prst="rect">
            <a:avLst/>
          </a:prstGeom>
          <a:ln w="12700">
            <a:noFill/>
          </a:ln>
        </p:spPr>
      </p:pic>
      <p:sp>
        <p:nvSpPr>
          <p:cNvPr id="1841" name="Shape 43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BE69053-3C9C-433A-A8CD-7C5228D6CF4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842" name="PlaceHolder 1"/>
          <p:cNvSpPr>
            <a:spLocks noGrp="1"/>
          </p:cNvSpPr>
          <p:nvPr>
            <p:ph type="body"/>
          </p:nvPr>
        </p:nvSpPr>
        <p:spPr>
          <a:xfrm>
            <a:off x="0" y="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843" name="PlaceHolder 2"/>
          <p:cNvSpPr>
            <a:spLocks noGrp="1"/>
          </p:cNvSpPr>
          <p:nvPr>
            <p:ph type="body"/>
          </p:nvPr>
        </p:nvSpPr>
        <p:spPr>
          <a:xfrm>
            <a:off x="6095880" y="4572000"/>
            <a:ext cx="6095520" cy="4571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844" name="PlaceHolder 3"/>
          <p:cNvSpPr>
            <a:spLocks noGrp="1"/>
          </p:cNvSpPr>
          <p:nvPr>
            <p:ph type="body"/>
          </p:nvPr>
        </p:nvSpPr>
        <p:spPr>
          <a:xfrm>
            <a:off x="12192120" y="0"/>
            <a:ext cx="6095520" cy="4571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845" name="PlaceHolder 4"/>
          <p:cNvSpPr>
            <a:spLocks noGrp="1"/>
          </p:cNvSpPr>
          <p:nvPr>
            <p:ph type="body"/>
          </p:nvPr>
        </p:nvSpPr>
        <p:spPr>
          <a:xfrm>
            <a:off x="18288000" y="4572000"/>
            <a:ext cx="6095520" cy="4571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846" name="PlaceHolder 5"/>
          <p:cNvSpPr>
            <a:spLocks noGrp="1"/>
          </p:cNvSpPr>
          <p:nvPr>
            <p:ph type="body"/>
          </p:nvPr>
        </p:nvSpPr>
        <p:spPr>
          <a:xfrm>
            <a:off x="1219212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847" name="PlaceHolder 6"/>
          <p:cNvSpPr>
            <a:spLocks noGrp="1"/>
          </p:cNvSpPr>
          <p:nvPr>
            <p:ph type="body"/>
          </p:nvPr>
        </p:nvSpPr>
        <p:spPr>
          <a:xfrm>
            <a:off x="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848" name="PlaceHolder 7"/>
          <p:cNvSpPr>
            <a:spLocks noGrp="1"/>
          </p:cNvSpPr>
          <p:nvPr>
            <p:ph type="sldNum" idx="4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ACEDA8E0-530C-4046-9840-0F03EEE3012C}"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849" name="PlaceHolder 8"/>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208" r:id="rId3"/>
    <p:sldLayoutId id="2147484209" r:id="rId4"/>
    <p:sldLayoutId id="2147484210" r:id="rId5"/>
    <p:sldLayoutId id="2147484211" r:id="rId6"/>
    <p:sldLayoutId id="2147484212" r:id="rId7"/>
    <p:sldLayoutId id="2147484213" r:id="rId8"/>
    <p:sldLayoutId id="2147484214" r:id="rId9"/>
    <p:sldLayoutId id="2147484215" r:id="rId10"/>
    <p:sldLayoutId id="2147484216" r:id="rId11"/>
    <p:sldLayoutId id="2147484217" r:id="rId12"/>
    <p:sldLayoutId id="2147484218" r:id="rId13"/>
    <p:sldLayoutId id="2147484219" r:id="rId14"/>
  </p:sldLayoutIdLst>
</p:sldMaster>
</file>

<file path=ppt/slideMasters/slideMaster4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6"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E2179D8-1104-4EED-B2E9-F3B3E5E563B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887" name="pasted-image.pdf" descr=""/>
          <p:cNvPicPr/>
          <p:nvPr/>
        </p:nvPicPr>
        <p:blipFill>
          <a:blip r:embed="rId2"/>
          <a:stretch/>
        </p:blipFill>
        <p:spPr>
          <a:xfrm>
            <a:off x="11176560" y="0"/>
            <a:ext cx="13207320" cy="13715640"/>
          </a:xfrm>
          <a:prstGeom prst="rect">
            <a:avLst/>
          </a:prstGeom>
          <a:ln w="12700">
            <a:noFill/>
          </a:ln>
        </p:spPr>
      </p:pic>
      <p:sp>
        <p:nvSpPr>
          <p:cNvPr id="1888" name="Shape 445"/>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5D95355-D57E-47AA-8E5A-B2175302FCB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889" name="PlaceHolder 1"/>
          <p:cNvSpPr>
            <a:spLocks noGrp="1"/>
          </p:cNvSpPr>
          <p:nvPr>
            <p:ph type="body"/>
          </p:nvPr>
        </p:nvSpPr>
        <p:spPr>
          <a:xfrm>
            <a:off x="0" y="0"/>
            <a:ext cx="1015956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890" name="PlaceHolder 2"/>
          <p:cNvSpPr>
            <a:spLocks noGrp="1"/>
          </p:cNvSpPr>
          <p:nvPr>
            <p:ph type="sldNum" idx="4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2AC85CC2-73A0-4E37-9272-E2BE5ED3F28B}"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891"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221" r:id="rId3"/>
    <p:sldLayoutId id="2147484222" r:id="rId4"/>
    <p:sldLayoutId id="2147484223" r:id="rId5"/>
    <p:sldLayoutId id="2147484224" r:id="rId6"/>
    <p:sldLayoutId id="2147484225" r:id="rId7"/>
    <p:sldLayoutId id="2147484226" r:id="rId8"/>
    <p:sldLayoutId id="2147484227" r:id="rId9"/>
    <p:sldLayoutId id="2147484228" r:id="rId10"/>
    <p:sldLayoutId id="2147484229" r:id="rId11"/>
    <p:sldLayoutId id="2147484230" r:id="rId12"/>
    <p:sldLayoutId id="2147484231" r:id="rId13"/>
    <p:sldLayoutId id="2147484232" r:id="rId14"/>
  </p:sldLayoutIdLst>
</p:sldMaster>
</file>

<file path=ppt/slideMasters/slideMaster4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EC85846-D307-478B-A30B-1E3ED779DFF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929" name="pasted-image.pdf" descr=""/>
          <p:cNvPicPr/>
          <p:nvPr/>
        </p:nvPicPr>
        <p:blipFill>
          <a:blip r:embed="rId2"/>
          <a:stretch/>
        </p:blipFill>
        <p:spPr>
          <a:xfrm>
            <a:off x="11176560" y="0"/>
            <a:ext cx="13207320" cy="13715640"/>
          </a:xfrm>
          <a:prstGeom prst="rect">
            <a:avLst/>
          </a:prstGeom>
          <a:ln w="12700">
            <a:noFill/>
          </a:ln>
        </p:spPr>
      </p:pic>
      <p:sp>
        <p:nvSpPr>
          <p:cNvPr id="1930" name="Shape 454"/>
          <p:cNvSpPr/>
          <p:nvPr/>
        </p:nvSpPr>
        <p:spPr>
          <a:xfrm>
            <a:off x="5040" y="0"/>
            <a:ext cx="978732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1931" name="PlaceHolder 1"/>
          <p:cNvSpPr>
            <a:spLocks noGrp="1"/>
          </p:cNvSpPr>
          <p:nvPr>
            <p:ph type="body"/>
          </p:nvPr>
        </p:nvSpPr>
        <p:spPr>
          <a:xfrm>
            <a:off x="6789240" y="2870280"/>
            <a:ext cx="6019200" cy="79750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932" name="Shape 456"/>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64B7D0C5-A768-48F8-8C96-E21F808E400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933" name="PlaceHolder 2"/>
          <p:cNvSpPr>
            <a:spLocks noGrp="1"/>
          </p:cNvSpPr>
          <p:nvPr>
            <p:ph type="sldNum" idx="4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0D32DDBE-CE70-4E27-BB29-966B236A3884}"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93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234" r:id="rId3"/>
    <p:sldLayoutId id="2147484235" r:id="rId4"/>
    <p:sldLayoutId id="2147484236" r:id="rId5"/>
    <p:sldLayoutId id="2147484237" r:id="rId6"/>
    <p:sldLayoutId id="2147484238" r:id="rId7"/>
    <p:sldLayoutId id="2147484239" r:id="rId8"/>
    <p:sldLayoutId id="2147484240" r:id="rId9"/>
    <p:sldLayoutId id="2147484241" r:id="rId10"/>
    <p:sldLayoutId id="2147484242" r:id="rId11"/>
    <p:sldLayoutId id="2147484243" r:id="rId12"/>
    <p:sldLayoutId id="2147484244" r:id="rId13"/>
    <p:sldLayoutId id="2147484245" r:id="rId14"/>
  </p:sldLayoutIdLst>
</p:sldMaster>
</file>

<file path=ppt/slideMasters/slideMaster4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4F4C0AF-D089-4888-99AA-7AAA8339144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972" name="pasted-image.pdf" descr=""/>
          <p:cNvPicPr/>
          <p:nvPr/>
        </p:nvPicPr>
        <p:blipFill>
          <a:blip r:embed="rId2"/>
          <a:stretch/>
        </p:blipFill>
        <p:spPr>
          <a:xfrm>
            <a:off x="11176560" y="0"/>
            <a:ext cx="13207320" cy="13715640"/>
          </a:xfrm>
          <a:prstGeom prst="rect">
            <a:avLst/>
          </a:prstGeom>
          <a:ln w="12700">
            <a:noFill/>
          </a:ln>
        </p:spPr>
      </p:pic>
      <p:sp>
        <p:nvSpPr>
          <p:cNvPr id="1973" name="Shape 464"/>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77F31B6-7CC2-4A95-8FCB-4A1AE2D3D18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974" name="PlaceHolder 1"/>
          <p:cNvSpPr>
            <a:spLocks noGrp="1"/>
          </p:cNvSpPr>
          <p:nvPr>
            <p:ph type="body"/>
          </p:nvPr>
        </p:nvSpPr>
        <p:spPr>
          <a:xfrm>
            <a:off x="0" y="0"/>
            <a:ext cx="1219752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975" name="PlaceHolder 2"/>
          <p:cNvSpPr>
            <a:spLocks noGrp="1"/>
          </p:cNvSpPr>
          <p:nvPr>
            <p:ph type="sldNum" idx="4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BECF44FE-AABB-479B-AF6E-DCABAF2C37B1}"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97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247" r:id="rId3"/>
    <p:sldLayoutId id="2147484248" r:id="rId4"/>
    <p:sldLayoutId id="2147484249" r:id="rId5"/>
    <p:sldLayoutId id="2147484250" r:id="rId6"/>
    <p:sldLayoutId id="2147484251" r:id="rId7"/>
    <p:sldLayoutId id="2147484252" r:id="rId8"/>
    <p:sldLayoutId id="2147484253" r:id="rId9"/>
    <p:sldLayoutId id="2147484254" r:id="rId10"/>
    <p:sldLayoutId id="2147484255" r:id="rId11"/>
    <p:sldLayoutId id="2147484256" r:id="rId12"/>
    <p:sldLayoutId id="2147484257" r:id="rId13"/>
    <p:sldLayoutId id="2147484258" r:id="rId14"/>
  </p:sldLayoutIdLst>
</p:sldMaster>
</file>

<file path=ppt/slideMasters/slideMaster4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DE45A17-F7E9-43A7-871D-F10FB222A39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014" name="pasted-image.pdf" descr=""/>
          <p:cNvPicPr/>
          <p:nvPr/>
        </p:nvPicPr>
        <p:blipFill>
          <a:blip r:embed="rId2"/>
          <a:stretch/>
        </p:blipFill>
        <p:spPr>
          <a:xfrm>
            <a:off x="11176560" y="0"/>
            <a:ext cx="13207320" cy="13715640"/>
          </a:xfrm>
          <a:prstGeom prst="rect">
            <a:avLst/>
          </a:prstGeom>
          <a:ln w="12700">
            <a:noFill/>
          </a:ln>
        </p:spPr>
      </p:pic>
      <p:sp>
        <p:nvSpPr>
          <p:cNvPr id="2015" name="Shape 47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63E5248-351D-40BC-8AEA-FB881D0285D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016" name="PlaceHolder 1"/>
          <p:cNvSpPr>
            <a:spLocks noGrp="1"/>
          </p:cNvSpPr>
          <p:nvPr>
            <p:ph type="body"/>
          </p:nvPr>
        </p:nvSpPr>
        <p:spPr>
          <a:xfrm>
            <a:off x="0" y="2159280"/>
            <a:ext cx="11689560" cy="93974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017" name="PlaceHolder 2"/>
          <p:cNvSpPr>
            <a:spLocks noGrp="1"/>
          </p:cNvSpPr>
          <p:nvPr>
            <p:ph type="body"/>
          </p:nvPr>
        </p:nvSpPr>
        <p:spPr>
          <a:xfrm>
            <a:off x="11937960" y="215928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018" name="PlaceHolder 3"/>
          <p:cNvSpPr>
            <a:spLocks noGrp="1"/>
          </p:cNvSpPr>
          <p:nvPr>
            <p:ph type="body"/>
          </p:nvPr>
        </p:nvSpPr>
        <p:spPr>
          <a:xfrm>
            <a:off x="18288000" y="215928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019" name="PlaceHolder 4"/>
          <p:cNvSpPr>
            <a:spLocks noGrp="1"/>
          </p:cNvSpPr>
          <p:nvPr>
            <p:ph type="body"/>
          </p:nvPr>
        </p:nvSpPr>
        <p:spPr>
          <a:xfrm>
            <a:off x="18288000" y="698472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020" name="PlaceHolder 5"/>
          <p:cNvSpPr>
            <a:spLocks noGrp="1"/>
          </p:cNvSpPr>
          <p:nvPr>
            <p:ph type="body"/>
          </p:nvPr>
        </p:nvSpPr>
        <p:spPr>
          <a:xfrm>
            <a:off x="11937960" y="6984720"/>
            <a:ext cx="6095520" cy="4571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021" name="PlaceHolder 6"/>
          <p:cNvSpPr>
            <a:spLocks noGrp="1"/>
          </p:cNvSpPr>
          <p:nvPr>
            <p:ph type="sldNum" idx="4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9B6B4BBD-1279-4323-8E95-785FE478E3C6}"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022" name="PlaceHolder 7"/>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260" r:id="rId3"/>
    <p:sldLayoutId id="2147484261" r:id="rId4"/>
    <p:sldLayoutId id="2147484262" r:id="rId5"/>
    <p:sldLayoutId id="2147484263" r:id="rId6"/>
    <p:sldLayoutId id="2147484264" r:id="rId7"/>
    <p:sldLayoutId id="2147484265" r:id="rId8"/>
    <p:sldLayoutId id="2147484266" r:id="rId9"/>
    <p:sldLayoutId id="2147484267" r:id="rId10"/>
    <p:sldLayoutId id="2147484268" r:id="rId11"/>
    <p:sldLayoutId id="2147484269" r:id="rId12"/>
    <p:sldLayoutId id="2147484270" r:id="rId13"/>
    <p:sldLayoutId id="2147484271" r:id="rId14"/>
  </p:sldLayoutIdLst>
</p:sldMaster>
</file>

<file path=ppt/slideMasters/slideMaster4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8D68C88-1432-444E-9846-719F111D853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060" name="pasted-image.pdf" descr=""/>
          <p:cNvPicPr/>
          <p:nvPr/>
        </p:nvPicPr>
        <p:blipFill>
          <a:blip r:embed="rId2"/>
          <a:stretch/>
        </p:blipFill>
        <p:spPr>
          <a:xfrm>
            <a:off x="11176560" y="0"/>
            <a:ext cx="13207320" cy="13715640"/>
          </a:xfrm>
          <a:prstGeom prst="rect">
            <a:avLst/>
          </a:prstGeom>
          <a:ln w="12700">
            <a:noFill/>
          </a:ln>
        </p:spPr>
      </p:pic>
      <p:sp>
        <p:nvSpPr>
          <p:cNvPr id="2061" name="Shape 486"/>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7DD5357-59FD-408E-8F8C-1C2FF197A72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062" name="PlaceHolder 1"/>
          <p:cNvSpPr>
            <a:spLocks noGrp="1"/>
          </p:cNvSpPr>
          <p:nvPr>
            <p:ph type="body"/>
          </p:nvPr>
        </p:nvSpPr>
        <p:spPr>
          <a:xfrm>
            <a:off x="0" y="2159280"/>
            <a:ext cx="11689560" cy="93974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063" name="PlaceHolder 2"/>
          <p:cNvSpPr>
            <a:spLocks noGrp="1"/>
          </p:cNvSpPr>
          <p:nvPr>
            <p:ph type="body"/>
          </p:nvPr>
        </p:nvSpPr>
        <p:spPr>
          <a:xfrm>
            <a:off x="18288000" y="6984720"/>
            <a:ext cx="6095520" cy="4571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064" name="PlaceHolder 3"/>
          <p:cNvSpPr>
            <a:spLocks noGrp="1"/>
          </p:cNvSpPr>
          <p:nvPr>
            <p:ph type="body"/>
          </p:nvPr>
        </p:nvSpPr>
        <p:spPr>
          <a:xfrm>
            <a:off x="11937960" y="6984720"/>
            <a:ext cx="6095520" cy="4571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065" name="PlaceHolder 4"/>
          <p:cNvSpPr>
            <a:spLocks noGrp="1"/>
          </p:cNvSpPr>
          <p:nvPr>
            <p:ph type="sldNum" idx="4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F300A995-AEEA-491E-B091-9A7232A7BC8F}"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066"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273" r:id="rId3"/>
    <p:sldLayoutId id="2147484274" r:id="rId4"/>
    <p:sldLayoutId id="2147484275" r:id="rId5"/>
    <p:sldLayoutId id="2147484276" r:id="rId6"/>
    <p:sldLayoutId id="2147484277" r:id="rId7"/>
    <p:sldLayoutId id="2147484278" r:id="rId8"/>
    <p:sldLayoutId id="2147484279" r:id="rId9"/>
    <p:sldLayoutId id="2147484280" r:id="rId10"/>
    <p:sldLayoutId id="2147484281" r:id="rId11"/>
    <p:sldLayoutId id="2147484282" r:id="rId12"/>
    <p:sldLayoutId id="2147484283" r:id="rId13"/>
    <p:sldLayoutId id="2147484284"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56BE2C5-C88B-42D9-B1F4-3FEAA477153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170" name="pasted-image.pdf" descr=""/>
          <p:cNvPicPr/>
          <p:nvPr/>
        </p:nvPicPr>
        <p:blipFill>
          <a:blip r:embed="rId2"/>
          <a:stretch/>
        </p:blipFill>
        <p:spPr>
          <a:xfrm>
            <a:off x="11176560" y="0"/>
            <a:ext cx="13207320" cy="13715640"/>
          </a:xfrm>
          <a:prstGeom prst="rect">
            <a:avLst/>
          </a:prstGeom>
          <a:ln w="12700">
            <a:noFill/>
          </a:ln>
        </p:spPr>
      </p:pic>
      <p:sp>
        <p:nvSpPr>
          <p:cNvPr id="171" name="Shape 4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968AA51-DCB4-4815-9AFD-571574FD54C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172" name="PlaceHolder 1"/>
          <p:cNvSpPr>
            <a:spLocks noGrp="1"/>
          </p:cNvSpPr>
          <p:nvPr>
            <p:ph type="sldNum" idx="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06215099-0ACD-4708-A708-08E93B8259D8}"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173" name="PlaceHolder 2"/>
          <p:cNvSpPr>
            <a:spLocks noGrp="1"/>
          </p:cNvSpPr>
          <p:nvPr>
            <p:ph type="body"/>
          </p:nvPr>
        </p:nvSpPr>
        <p:spPr>
          <a:xfrm>
            <a:off x="17856000" y="2033640"/>
            <a:ext cx="6527520" cy="964872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17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5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59B66E6-5420-423E-ADBE-5B24E066AFD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104" name="pasted-image.pdf" descr=""/>
          <p:cNvPicPr/>
          <p:nvPr/>
        </p:nvPicPr>
        <p:blipFill>
          <a:blip r:embed="rId2"/>
          <a:stretch/>
        </p:blipFill>
        <p:spPr>
          <a:xfrm>
            <a:off x="11176560" y="0"/>
            <a:ext cx="13207320" cy="13715640"/>
          </a:xfrm>
          <a:prstGeom prst="rect">
            <a:avLst/>
          </a:prstGeom>
          <a:ln w="12700">
            <a:noFill/>
          </a:ln>
        </p:spPr>
      </p:pic>
      <p:sp>
        <p:nvSpPr>
          <p:cNvPr id="2105" name="Shape 49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8AE0560-F1A4-4FAD-8D93-BAF923ABF9D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106" name="PlaceHolder 1"/>
          <p:cNvSpPr>
            <a:spLocks noGrp="1"/>
          </p:cNvSpPr>
          <p:nvPr>
            <p:ph type="sldNum" idx="50"/>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1C5B5F4B-4D8A-4F20-B6CD-FFE196F51FF1}"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107" name="PlaceHolder 2"/>
          <p:cNvSpPr>
            <a:spLocks noGrp="1"/>
          </p:cNvSpPr>
          <p:nvPr>
            <p:ph type="body"/>
          </p:nvPr>
        </p:nvSpPr>
        <p:spPr>
          <a:xfrm>
            <a:off x="13226040" y="-238680"/>
            <a:ext cx="14348160" cy="14348160"/>
          </a:xfrm>
          <a:prstGeom prst="rect">
            <a:avLst/>
          </a:prstGeom>
          <a:pattFill prst="wdUpDiag">
            <a:fgClr>
              <a:srgbClr val="45a4fc"/>
            </a:fgClr>
            <a:bgClr>
              <a:srgbClr val="dcdee0"/>
            </a:bgClr>
          </a:pattFill>
          <a:ln w="0">
            <a:noFill/>
          </a:ln>
        </p:spPr>
        <p:txBody>
          <a:bodyPr lIns="90000" rIns="90000" tIns="45000" bIns="45000" anchor="ctr">
            <a:noAutofit/>
          </a:bodyPr>
          <a:p>
            <a:pPr indent="0" algn="ctr">
              <a:lnSpc>
                <a:spcPct val="120000"/>
              </a:lnSpc>
              <a:buNone/>
              <a:tabLst>
                <a:tab algn="l" pos="0"/>
              </a:tabLst>
            </a:pPr>
            <a:r>
              <a:rPr b="0" lang="de-DE" sz="1600" spc="-1" strike="noStrike">
                <a:solidFill>
                  <a:srgbClr val="009193"/>
                </a:solidFill>
                <a:latin typeface="Titillium"/>
                <a:ea typeface="Titillium"/>
              </a:rPr>
              <a:t>Drop Image here</a:t>
            </a:r>
            <a:endParaRPr b="0" lang="en-US" sz="1600" spc="-1" strike="noStrike">
              <a:solidFill>
                <a:srgbClr val="5e5e5e"/>
              </a:solidFill>
              <a:latin typeface="Montserrat Light"/>
            </a:endParaRPr>
          </a:p>
        </p:txBody>
      </p:sp>
      <p:sp>
        <p:nvSpPr>
          <p:cNvPr id="210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286" r:id="rId3"/>
    <p:sldLayoutId id="2147484287" r:id="rId4"/>
    <p:sldLayoutId id="2147484288" r:id="rId5"/>
    <p:sldLayoutId id="2147484289" r:id="rId6"/>
    <p:sldLayoutId id="2147484290" r:id="rId7"/>
    <p:sldLayoutId id="2147484291" r:id="rId8"/>
    <p:sldLayoutId id="2147484292" r:id="rId9"/>
    <p:sldLayoutId id="2147484293" r:id="rId10"/>
    <p:sldLayoutId id="2147484294" r:id="rId11"/>
    <p:sldLayoutId id="2147484295" r:id="rId12"/>
    <p:sldLayoutId id="2147484296" r:id="rId13"/>
    <p:sldLayoutId id="2147484297" r:id="rId14"/>
  </p:sldLayoutIdLst>
</p:sldMaster>
</file>

<file path=ppt/slideMasters/slideMaster5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BB93795-8A12-40CD-9B9E-A4C9943636F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146" name="pasted-image.pdf" descr=""/>
          <p:cNvPicPr/>
          <p:nvPr/>
        </p:nvPicPr>
        <p:blipFill>
          <a:blip r:embed="rId2"/>
          <a:stretch/>
        </p:blipFill>
        <p:spPr>
          <a:xfrm>
            <a:off x="11176560" y="0"/>
            <a:ext cx="13207320" cy="13715640"/>
          </a:xfrm>
          <a:prstGeom prst="rect">
            <a:avLst/>
          </a:prstGeom>
          <a:ln w="12700">
            <a:noFill/>
          </a:ln>
        </p:spPr>
      </p:pic>
      <p:sp>
        <p:nvSpPr>
          <p:cNvPr id="2147" name="Shape 506"/>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C6FC21B-D4F4-4038-8671-664799396E5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148" name="PlaceHolder 1"/>
          <p:cNvSpPr>
            <a:spLocks noGrp="1"/>
          </p:cNvSpPr>
          <p:nvPr>
            <p:ph type="body"/>
          </p:nvPr>
        </p:nvSpPr>
        <p:spPr>
          <a:xfrm>
            <a:off x="13970160" y="0"/>
            <a:ext cx="5079960" cy="774576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49" name="PlaceHolder 2"/>
          <p:cNvSpPr>
            <a:spLocks noGrp="1"/>
          </p:cNvSpPr>
          <p:nvPr>
            <p:ph type="body"/>
          </p:nvPr>
        </p:nvSpPr>
        <p:spPr>
          <a:xfrm>
            <a:off x="19303920" y="5976360"/>
            <a:ext cx="5079960" cy="77457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50" name="PlaceHolder 3"/>
          <p:cNvSpPr>
            <a:spLocks noGrp="1"/>
          </p:cNvSpPr>
          <p:nvPr>
            <p:ph type="body"/>
          </p:nvPr>
        </p:nvSpPr>
        <p:spPr>
          <a:xfrm>
            <a:off x="13970160" y="8005680"/>
            <a:ext cx="5079960" cy="57099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51" name="PlaceHolder 4"/>
          <p:cNvSpPr>
            <a:spLocks noGrp="1"/>
          </p:cNvSpPr>
          <p:nvPr>
            <p:ph type="body"/>
          </p:nvPr>
        </p:nvSpPr>
        <p:spPr>
          <a:xfrm>
            <a:off x="19303920" y="6120"/>
            <a:ext cx="5079960" cy="570996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52" name="PlaceHolder 5"/>
          <p:cNvSpPr>
            <a:spLocks noGrp="1"/>
          </p:cNvSpPr>
          <p:nvPr>
            <p:ph type="sldNum" idx="5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545555BE-E072-4503-921C-D82AD4BBE1E6}"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153"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299" r:id="rId3"/>
    <p:sldLayoutId id="2147484300" r:id="rId4"/>
    <p:sldLayoutId id="2147484301" r:id="rId5"/>
    <p:sldLayoutId id="2147484302" r:id="rId6"/>
    <p:sldLayoutId id="2147484303" r:id="rId7"/>
    <p:sldLayoutId id="2147484304" r:id="rId8"/>
    <p:sldLayoutId id="2147484305" r:id="rId9"/>
    <p:sldLayoutId id="2147484306" r:id="rId10"/>
    <p:sldLayoutId id="2147484307" r:id="rId11"/>
    <p:sldLayoutId id="2147484308" r:id="rId12"/>
    <p:sldLayoutId id="2147484309" r:id="rId13"/>
    <p:sldLayoutId id="2147484310" r:id="rId14"/>
  </p:sldLayoutIdLst>
</p:sldMaster>
</file>

<file path=ppt/slideMasters/slideMaster5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0"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DA7EF26-510C-4CDA-8559-6AA18C87DEC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191" name="pasted-image.pdf" descr=""/>
          <p:cNvPicPr/>
          <p:nvPr/>
        </p:nvPicPr>
        <p:blipFill>
          <a:blip r:embed="rId2"/>
          <a:stretch/>
        </p:blipFill>
        <p:spPr>
          <a:xfrm>
            <a:off x="11176560" y="0"/>
            <a:ext cx="13207320" cy="13715640"/>
          </a:xfrm>
          <a:prstGeom prst="rect">
            <a:avLst/>
          </a:prstGeom>
          <a:ln w="12700">
            <a:noFill/>
          </a:ln>
        </p:spPr>
      </p:pic>
      <p:sp>
        <p:nvSpPr>
          <p:cNvPr id="2192" name="Shape 51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F032CD9-6EC7-4C2E-B176-A1105527546C}"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193" name="PlaceHolder 1"/>
          <p:cNvSpPr>
            <a:spLocks noGrp="1"/>
          </p:cNvSpPr>
          <p:nvPr>
            <p:ph type="body"/>
          </p:nvPr>
        </p:nvSpPr>
        <p:spPr>
          <a:xfrm>
            <a:off x="12196800" y="0"/>
            <a:ext cx="406368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94" name="PlaceHolder 2"/>
          <p:cNvSpPr>
            <a:spLocks noGrp="1"/>
          </p:cNvSpPr>
          <p:nvPr>
            <p:ph type="body"/>
          </p:nvPr>
        </p:nvSpPr>
        <p:spPr>
          <a:xfrm>
            <a:off x="16260840" y="0"/>
            <a:ext cx="406368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95" name="PlaceHolder 3"/>
          <p:cNvSpPr>
            <a:spLocks noGrp="1"/>
          </p:cNvSpPr>
          <p:nvPr>
            <p:ph type="body"/>
          </p:nvPr>
        </p:nvSpPr>
        <p:spPr>
          <a:xfrm>
            <a:off x="20324880" y="0"/>
            <a:ext cx="406368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96" name="PlaceHolder 4"/>
          <p:cNvSpPr>
            <a:spLocks noGrp="1"/>
          </p:cNvSpPr>
          <p:nvPr>
            <p:ph type="body"/>
          </p:nvPr>
        </p:nvSpPr>
        <p:spPr>
          <a:xfrm>
            <a:off x="16260840" y="6858000"/>
            <a:ext cx="406368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97" name="PlaceHolder 5"/>
          <p:cNvSpPr>
            <a:spLocks noGrp="1"/>
          </p:cNvSpPr>
          <p:nvPr>
            <p:ph type="body"/>
          </p:nvPr>
        </p:nvSpPr>
        <p:spPr>
          <a:xfrm>
            <a:off x="20324880" y="6859080"/>
            <a:ext cx="406368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98" name="PlaceHolder 6"/>
          <p:cNvSpPr>
            <a:spLocks noGrp="1"/>
          </p:cNvSpPr>
          <p:nvPr>
            <p:ph type="body"/>
          </p:nvPr>
        </p:nvSpPr>
        <p:spPr>
          <a:xfrm>
            <a:off x="12196800" y="6858000"/>
            <a:ext cx="406368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99" name="Shape 525"/>
          <p:cNvSpPr/>
          <p:nvPr/>
        </p:nvSpPr>
        <p:spPr>
          <a:xfrm>
            <a:off x="0" y="0"/>
            <a:ext cx="1219176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900" spc="-1" strike="noStrike">
              <a:solidFill>
                <a:srgbClr val="ffffff"/>
              </a:solidFill>
              <a:latin typeface="Helvetica Light"/>
              <a:ea typeface="Helvetica Light"/>
            </a:endParaRPr>
          </a:p>
        </p:txBody>
      </p:sp>
      <p:sp>
        <p:nvSpPr>
          <p:cNvPr id="2200" name="PlaceHolder 7"/>
          <p:cNvSpPr>
            <a:spLocks noGrp="1"/>
          </p:cNvSpPr>
          <p:nvPr>
            <p:ph type="sldNum" idx="5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559EF88E-549C-463B-9E1E-9502B9B064A1}"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201" name="PlaceHolder 8"/>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312" r:id="rId3"/>
    <p:sldLayoutId id="2147484313" r:id="rId4"/>
    <p:sldLayoutId id="2147484314" r:id="rId5"/>
    <p:sldLayoutId id="2147484315" r:id="rId6"/>
    <p:sldLayoutId id="2147484316" r:id="rId7"/>
    <p:sldLayoutId id="2147484317" r:id="rId8"/>
    <p:sldLayoutId id="2147484318" r:id="rId9"/>
    <p:sldLayoutId id="2147484319" r:id="rId10"/>
    <p:sldLayoutId id="2147484320" r:id="rId11"/>
    <p:sldLayoutId id="2147484321" r:id="rId12"/>
    <p:sldLayoutId id="2147484322" r:id="rId13"/>
    <p:sldLayoutId id="2147484323" r:id="rId14"/>
  </p:sldLayoutIdLst>
</p:sldMaster>
</file>

<file path=ppt/slideMasters/slideMaster5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13CDC03-A8F5-4463-AFCA-E2971730D65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239" name="pasted-image.pdf" descr=""/>
          <p:cNvPicPr/>
          <p:nvPr/>
        </p:nvPicPr>
        <p:blipFill>
          <a:blip r:embed="rId2"/>
          <a:stretch/>
        </p:blipFill>
        <p:spPr>
          <a:xfrm>
            <a:off x="11176560" y="0"/>
            <a:ext cx="13207320" cy="13715640"/>
          </a:xfrm>
          <a:prstGeom prst="rect">
            <a:avLst/>
          </a:prstGeom>
          <a:ln w="12700">
            <a:noFill/>
          </a:ln>
        </p:spPr>
      </p:pic>
      <p:sp>
        <p:nvSpPr>
          <p:cNvPr id="2240" name="Shape 53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CD78E77-58E9-42E8-83E9-CCAA032AC93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241" name="Shape 534"/>
          <p:cNvSpPr/>
          <p:nvPr/>
        </p:nvSpPr>
        <p:spPr>
          <a:xfrm>
            <a:off x="0" y="0"/>
            <a:ext cx="406872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2900" spc="-1" strike="noStrike">
              <a:solidFill>
                <a:srgbClr val="ffffff"/>
              </a:solidFill>
              <a:latin typeface="Helvetica Light"/>
              <a:ea typeface="Helvetica Light"/>
            </a:endParaRPr>
          </a:p>
        </p:txBody>
      </p:sp>
      <p:sp>
        <p:nvSpPr>
          <p:cNvPr id="2242" name="PlaceHolder 1"/>
          <p:cNvSpPr>
            <a:spLocks noGrp="1"/>
          </p:cNvSpPr>
          <p:nvPr>
            <p:ph type="body"/>
          </p:nvPr>
        </p:nvSpPr>
        <p:spPr>
          <a:xfrm>
            <a:off x="12196800" y="0"/>
            <a:ext cx="1218168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243" name="PlaceHolder 2"/>
          <p:cNvSpPr>
            <a:spLocks noGrp="1"/>
          </p:cNvSpPr>
          <p:nvPr>
            <p:ph type="sldNum" idx="5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C901585-5D0C-48B1-8D34-393C0307CB7D}"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24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325" r:id="rId3"/>
    <p:sldLayoutId id="2147484326" r:id="rId4"/>
    <p:sldLayoutId id="2147484327" r:id="rId5"/>
    <p:sldLayoutId id="2147484328" r:id="rId6"/>
    <p:sldLayoutId id="2147484329" r:id="rId7"/>
    <p:sldLayoutId id="2147484330" r:id="rId8"/>
    <p:sldLayoutId id="2147484331" r:id="rId9"/>
    <p:sldLayoutId id="2147484332" r:id="rId10"/>
    <p:sldLayoutId id="2147484333" r:id="rId11"/>
    <p:sldLayoutId id="2147484334" r:id="rId12"/>
    <p:sldLayoutId id="2147484335" r:id="rId13"/>
    <p:sldLayoutId id="2147484336" r:id="rId14"/>
  </p:sldLayoutIdLst>
</p:sldMaster>
</file>

<file path=ppt/slideMasters/slideMaster5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540A177-261C-465C-975E-28D4E1AFD5B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282" name="pasted-image.pdf" descr=""/>
          <p:cNvPicPr/>
          <p:nvPr/>
        </p:nvPicPr>
        <p:blipFill>
          <a:blip r:embed="rId2"/>
          <a:stretch/>
        </p:blipFill>
        <p:spPr>
          <a:xfrm>
            <a:off x="11176560" y="0"/>
            <a:ext cx="13207320" cy="13715640"/>
          </a:xfrm>
          <a:prstGeom prst="rect">
            <a:avLst/>
          </a:prstGeom>
          <a:ln w="12700">
            <a:noFill/>
          </a:ln>
        </p:spPr>
      </p:pic>
      <p:sp>
        <p:nvSpPr>
          <p:cNvPr id="2283" name="Shape 54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32568D6-F359-4035-8D1B-4C51C794D5E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284" name="PlaceHolder 1"/>
          <p:cNvSpPr>
            <a:spLocks noGrp="1"/>
          </p:cNvSpPr>
          <p:nvPr>
            <p:ph type="body"/>
          </p:nvPr>
        </p:nvSpPr>
        <p:spPr>
          <a:xfrm>
            <a:off x="8636040" y="4701240"/>
            <a:ext cx="5079960" cy="90158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285" name="PlaceHolder 2"/>
          <p:cNvSpPr>
            <a:spLocks noGrp="1"/>
          </p:cNvSpPr>
          <p:nvPr>
            <p:ph type="body"/>
          </p:nvPr>
        </p:nvSpPr>
        <p:spPr>
          <a:xfrm>
            <a:off x="8636040" y="0"/>
            <a:ext cx="5079960" cy="444672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286" name="PlaceHolder 3"/>
          <p:cNvSpPr>
            <a:spLocks noGrp="1"/>
          </p:cNvSpPr>
          <p:nvPr>
            <p:ph type="body"/>
          </p:nvPr>
        </p:nvSpPr>
        <p:spPr>
          <a:xfrm>
            <a:off x="13970160" y="0"/>
            <a:ext cx="5079960" cy="90158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287" name="PlaceHolder 4"/>
          <p:cNvSpPr>
            <a:spLocks noGrp="1"/>
          </p:cNvSpPr>
          <p:nvPr>
            <p:ph type="body"/>
          </p:nvPr>
        </p:nvSpPr>
        <p:spPr>
          <a:xfrm>
            <a:off x="13970160" y="9268920"/>
            <a:ext cx="5079960" cy="44467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288" name="PlaceHolder 5"/>
          <p:cNvSpPr>
            <a:spLocks noGrp="1"/>
          </p:cNvSpPr>
          <p:nvPr>
            <p:ph type="body"/>
          </p:nvPr>
        </p:nvSpPr>
        <p:spPr>
          <a:xfrm>
            <a:off x="19303920" y="0"/>
            <a:ext cx="5079960" cy="77457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289" name="PlaceHolder 6"/>
          <p:cNvSpPr>
            <a:spLocks noGrp="1"/>
          </p:cNvSpPr>
          <p:nvPr>
            <p:ph type="body"/>
          </p:nvPr>
        </p:nvSpPr>
        <p:spPr>
          <a:xfrm>
            <a:off x="19303920" y="8005680"/>
            <a:ext cx="5079960" cy="570960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290" name="PlaceHolder 7"/>
          <p:cNvSpPr>
            <a:spLocks noGrp="1"/>
          </p:cNvSpPr>
          <p:nvPr>
            <p:ph type="sldNum" idx="5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249368C1-732E-4FFF-8FF7-A874B346E0E9}"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291" name="PlaceHolder 8"/>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338" r:id="rId3"/>
    <p:sldLayoutId id="2147484339" r:id="rId4"/>
    <p:sldLayoutId id="2147484340" r:id="rId5"/>
    <p:sldLayoutId id="2147484341" r:id="rId6"/>
    <p:sldLayoutId id="2147484342" r:id="rId7"/>
    <p:sldLayoutId id="2147484343" r:id="rId8"/>
    <p:sldLayoutId id="2147484344" r:id="rId9"/>
    <p:sldLayoutId id="2147484345" r:id="rId10"/>
    <p:sldLayoutId id="2147484346" r:id="rId11"/>
    <p:sldLayoutId id="2147484347" r:id="rId12"/>
    <p:sldLayoutId id="2147484348" r:id="rId13"/>
    <p:sldLayoutId id="2147484349" r:id="rId14"/>
  </p:sldLayoutIdLst>
</p:sldMaster>
</file>

<file path=ppt/slideMasters/slideMaster5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9058F19-4EA3-4BA3-9933-BDFE77B5E47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329" name="pasted-image.pdf" descr=""/>
          <p:cNvPicPr/>
          <p:nvPr/>
        </p:nvPicPr>
        <p:blipFill>
          <a:blip r:embed="rId2"/>
          <a:stretch/>
        </p:blipFill>
        <p:spPr>
          <a:xfrm>
            <a:off x="11176560" y="0"/>
            <a:ext cx="13207320" cy="13715640"/>
          </a:xfrm>
          <a:prstGeom prst="rect">
            <a:avLst/>
          </a:prstGeom>
          <a:ln w="12700">
            <a:noFill/>
          </a:ln>
        </p:spPr>
      </p:pic>
      <p:sp>
        <p:nvSpPr>
          <p:cNvPr id="2330" name="Shape 55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DB4E9C8-92E2-4F93-BA86-9F4836A7220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331" name="PlaceHolder 1"/>
          <p:cNvSpPr>
            <a:spLocks noGrp="1"/>
          </p:cNvSpPr>
          <p:nvPr>
            <p:ph type="body"/>
          </p:nvPr>
        </p:nvSpPr>
        <p:spPr>
          <a:xfrm>
            <a:off x="0" y="4699800"/>
            <a:ext cx="5079960" cy="90158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332" name="PlaceHolder 2"/>
          <p:cNvSpPr>
            <a:spLocks noGrp="1"/>
          </p:cNvSpPr>
          <p:nvPr>
            <p:ph type="body"/>
          </p:nvPr>
        </p:nvSpPr>
        <p:spPr>
          <a:xfrm>
            <a:off x="0" y="0"/>
            <a:ext cx="5079960" cy="44467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333" name="PlaceHolder 3"/>
          <p:cNvSpPr>
            <a:spLocks noGrp="1"/>
          </p:cNvSpPr>
          <p:nvPr>
            <p:ph type="body"/>
          </p:nvPr>
        </p:nvSpPr>
        <p:spPr>
          <a:xfrm>
            <a:off x="5334120" y="-1440"/>
            <a:ext cx="5079960" cy="90158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334" name="PlaceHolder 4"/>
          <p:cNvSpPr>
            <a:spLocks noGrp="1"/>
          </p:cNvSpPr>
          <p:nvPr>
            <p:ph type="body"/>
          </p:nvPr>
        </p:nvSpPr>
        <p:spPr>
          <a:xfrm>
            <a:off x="5334120" y="9267480"/>
            <a:ext cx="5079960" cy="44467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335" name="PlaceHolder 5"/>
          <p:cNvSpPr>
            <a:spLocks noGrp="1"/>
          </p:cNvSpPr>
          <p:nvPr>
            <p:ph type="body"/>
          </p:nvPr>
        </p:nvSpPr>
        <p:spPr>
          <a:xfrm>
            <a:off x="10667880" y="-1440"/>
            <a:ext cx="5079960" cy="77457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336" name="PlaceHolder 6"/>
          <p:cNvSpPr>
            <a:spLocks noGrp="1"/>
          </p:cNvSpPr>
          <p:nvPr>
            <p:ph type="body"/>
          </p:nvPr>
        </p:nvSpPr>
        <p:spPr>
          <a:xfrm>
            <a:off x="10667880" y="8006040"/>
            <a:ext cx="5079960" cy="57096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337" name="PlaceHolder 7"/>
          <p:cNvSpPr>
            <a:spLocks noGrp="1"/>
          </p:cNvSpPr>
          <p:nvPr>
            <p:ph type="sldNum" idx="5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237225E2-B90D-4F61-ABC1-95FA22DF2D1A}"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338" name="PlaceHolder 8"/>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351" r:id="rId3"/>
    <p:sldLayoutId id="2147484352" r:id="rId4"/>
    <p:sldLayoutId id="2147484353" r:id="rId5"/>
    <p:sldLayoutId id="2147484354" r:id="rId6"/>
    <p:sldLayoutId id="2147484355" r:id="rId7"/>
    <p:sldLayoutId id="2147484356" r:id="rId8"/>
    <p:sldLayoutId id="2147484357" r:id="rId9"/>
    <p:sldLayoutId id="2147484358" r:id="rId10"/>
    <p:sldLayoutId id="2147484359" r:id="rId11"/>
    <p:sldLayoutId id="2147484360" r:id="rId12"/>
    <p:sldLayoutId id="2147484361" r:id="rId13"/>
    <p:sldLayoutId id="2147484362" r:id="rId14"/>
  </p:sldLayoutIdLst>
</p:sldMaster>
</file>

<file path=ppt/slideMasters/slideMaster5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A180051-8F7B-4820-87E9-1A0E544BB4F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376" name="pasted-image.pdf" descr=""/>
          <p:cNvPicPr/>
          <p:nvPr/>
        </p:nvPicPr>
        <p:blipFill>
          <a:blip r:embed="rId2"/>
          <a:stretch/>
        </p:blipFill>
        <p:spPr>
          <a:xfrm>
            <a:off x="11176560" y="0"/>
            <a:ext cx="13207320" cy="13715640"/>
          </a:xfrm>
          <a:prstGeom prst="rect">
            <a:avLst/>
          </a:prstGeom>
          <a:ln w="12700">
            <a:noFill/>
          </a:ln>
        </p:spPr>
      </p:pic>
      <p:sp>
        <p:nvSpPr>
          <p:cNvPr id="2377" name="PlaceHolder 1"/>
          <p:cNvSpPr>
            <a:spLocks noGrp="1"/>
          </p:cNvSpPr>
          <p:nvPr>
            <p:ph type="body"/>
          </p:nvPr>
        </p:nvSpPr>
        <p:spPr>
          <a:xfrm>
            <a:off x="14223960" y="0"/>
            <a:ext cx="1015956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378" name="Shape 572"/>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3561A49-471D-4A60-9CD0-C0C546EB0AC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379" name="PlaceHolder 2"/>
          <p:cNvSpPr>
            <a:spLocks noGrp="1"/>
          </p:cNvSpPr>
          <p:nvPr>
            <p:ph type="sldNum" idx="5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ED65CEAD-02BD-4D11-86BB-ACCB813D186F}"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380"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364" r:id="rId3"/>
    <p:sldLayoutId id="2147484365" r:id="rId4"/>
    <p:sldLayoutId id="2147484366" r:id="rId5"/>
    <p:sldLayoutId id="2147484367" r:id="rId6"/>
    <p:sldLayoutId id="2147484368" r:id="rId7"/>
    <p:sldLayoutId id="2147484369" r:id="rId8"/>
    <p:sldLayoutId id="2147484370" r:id="rId9"/>
    <p:sldLayoutId id="2147484371" r:id="rId10"/>
    <p:sldLayoutId id="2147484372" r:id="rId11"/>
    <p:sldLayoutId id="2147484373" r:id="rId12"/>
    <p:sldLayoutId id="2147484374" r:id="rId13"/>
    <p:sldLayoutId id="2147484375" r:id="rId14"/>
  </p:sldLayoutIdLst>
</p:sldMaster>
</file>

<file path=ppt/slideMasters/slideMaster5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7"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7990C33-36B4-4669-BFC2-B1F5C7E2A9E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418" name="pasted-image.pdf" descr=""/>
          <p:cNvPicPr/>
          <p:nvPr/>
        </p:nvPicPr>
        <p:blipFill>
          <a:blip r:embed="rId2"/>
          <a:stretch/>
        </p:blipFill>
        <p:spPr>
          <a:xfrm>
            <a:off x="11176560" y="0"/>
            <a:ext cx="13207320" cy="13715640"/>
          </a:xfrm>
          <a:prstGeom prst="rect">
            <a:avLst/>
          </a:prstGeom>
          <a:ln w="12700">
            <a:noFill/>
          </a:ln>
        </p:spPr>
      </p:pic>
      <p:sp>
        <p:nvSpPr>
          <p:cNvPr id="2419" name="Shape 58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AACA1DB-2EFA-44D6-9603-18EFD459A8B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420" name="PlaceHolder 1"/>
          <p:cNvSpPr>
            <a:spLocks noGrp="1"/>
          </p:cNvSpPr>
          <p:nvPr>
            <p:ph type="body"/>
          </p:nvPr>
        </p:nvSpPr>
        <p:spPr>
          <a:xfrm>
            <a:off x="12192120" y="0"/>
            <a:ext cx="1219176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421" name="PlaceHolder 2"/>
          <p:cNvSpPr>
            <a:spLocks noGrp="1"/>
          </p:cNvSpPr>
          <p:nvPr>
            <p:ph type="body"/>
          </p:nvPr>
        </p:nvSpPr>
        <p:spPr>
          <a:xfrm>
            <a:off x="0" y="6858000"/>
            <a:ext cx="1219176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422" name="PlaceHolder 3"/>
          <p:cNvSpPr>
            <a:spLocks noGrp="1"/>
          </p:cNvSpPr>
          <p:nvPr>
            <p:ph type="sldNum" idx="5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E53FD10C-C06D-4321-88F5-D807AFA51DCE}"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423"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377" r:id="rId3"/>
    <p:sldLayoutId id="2147484378" r:id="rId4"/>
    <p:sldLayoutId id="2147484379" r:id="rId5"/>
    <p:sldLayoutId id="2147484380" r:id="rId6"/>
    <p:sldLayoutId id="2147484381" r:id="rId7"/>
    <p:sldLayoutId id="2147484382" r:id="rId8"/>
    <p:sldLayoutId id="2147484383" r:id="rId9"/>
    <p:sldLayoutId id="2147484384" r:id="rId10"/>
    <p:sldLayoutId id="2147484385" r:id="rId11"/>
    <p:sldLayoutId id="2147484386" r:id="rId12"/>
    <p:sldLayoutId id="2147484387" r:id="rId13"/>
    <p:sldLayoutId id="2147484388" r:id="rId14"/>
  </p:sldLayoutIdLst>
</p:sldMaster>
</file>

<file path=ppt/slideMasters/slideMaster5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0"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9DCCF97-96AC-4835-B219-6147C8D3EB8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461" name="pasted-image.pdf" descr=""/>
          <p:cNvPicPr/>
          <p:nvPr/>
        </p:nvPicPr>
        <p:blipFill>
          <a:blip r:embed="rId2"/>
          <a:stretch/>
        </p:blipFill>
        <p:spPr>
          <a:xfrm>
            <a:off x="11176560" y="0"/>
            <a:ext cx="13207320" cy="13715640"/>
          </a:xfrm>
          <a:prstGeom prst="rect">
            <a:avLst/>
          </a:prstGeom>
          <a:ln w="12700">
            <a:noFill/>
          </a:ln>
        </p:spPr>
      </p:pic>
      <p:sp>
        <p:nvSpPr>
          <p:cNvPr id="2462" name="Shape 59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C7EC1C1-B040-4243-BE8E-F4FFC7E98FF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463" name="PlaceHolder 1"/>
          <p:cNvSpPr>
            <a:spLocks noGrp="1"/>
          </p:cNvSpPr>
          <p:nvPr>
            <p:ph type="body"/>
          </p:nvPr>
        </p:nvSpPr>
        <p:spPr>
          <a:xfrm>
            <a:off x="2035080" y="2025720"/>
            <a:ext cx="6095520" cy="96638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464" name="PlaceHolder 2"/>
          <p:cNvSpPr>
            <a:spLocks noGrp="1"/>
          </p:cNvSpPr>
          <p:nvPr>
            <p:ph type="body"/>
          </p:nvPr>
        </p:nvSpPr>
        <p:spPr>
          <a:xfrm>
            <a:off x="8385120" y="2025720"/>
            <a:ext cx="6095520" cy="46983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465" name="PlaceHolder 3"/>
          <p:cNvSpPr>
            <a:spLocks noGrp="1"/>
          </p:cNvSpPr>
          <p:nvPr>
            <p:ph type="body"/>
          </p:nvPr>
        </p:nvSpPr>
        <p:spPr>
          <a:xfrm>
            <a:off x="8385120" y="6984000"/>
            <a:ext cx="6095520" cy="46983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466" name="PlaceHolder 4"/>
          <p:cNvSpPr>
            <a:spLocks noGrp="1"/>
          </p:cNvSpPr>
          <p:nvPr>
            <p:ph type="sldNum" idx="5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3F6C4956-E02D-4880-B8B7-030FAC5E60E4}"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467"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390" r:id="rId3"/>
    <p:sldLayoutId id="2147484391" r:id="rId4"/>
    <p:sldLayoutId id="2147484392" r:id="rId5"/>
    <p:sldLayoutId id="2147484393" r:id="rId6"/>
    <p:sldLayoutId id="2147484394" r:id="rId7"/>
    <p:sldLayoutId id="2147484395" r:id="rId8"/>
    <p:sldLayoutId id="2147484396" r:id="rId9"/>
    <p:sldLayoutId id="2147484397" r:id="rId10"/>
    <p:sldLayoutId id="2147484398" r:id="rId11"/>
    <p:sldLayoutId id="2147484399" r:id="rId12"/>
    <p:sldLayoutId id="2147484400" r:id="rId13"/>
    <p:sldLayoutId id="2147484401" r:id="rId14"/>
  </p:sldLayoutIdLst>
</p:sldMaster>
</file>

<file path=ppt/slideMasters/slideMaster5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B323484-AE64-4C6A-887C-06E33A73DF7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505" name="pasted-image.pdf" descr=""/>
          <p:cNvPicPr/>
          <p:nvPr/>
        </p:nvPicPr>
        <p:blipFill>
          <a:blip r:embed="rId2"/>
          <a:stretch/>
        </p:blipFill>
        <p:spPr>
          <a:xfrm>
            <a:off x="11176560" y="0"/>
            <a:ext cx="13207320" cy="13715640"/>
          </a:xfrm>
          <a:prstGeom prst="rect">
            <a:avLst/>
          </a:prstGeom>
          <a:ln w="12700">
            <a:noFill/>
          </a:ln>
        </p:spPr>
      </p:pic>
      <p:sp>
        <p:nvSpPr>
          <p:cNvPr id="2506" name="PlaceHolder 1"/>
          <p:cNvSpPr>
            <a:spLocks noGrp="1"/>
          </p:cNvSpPr>
          <p:nvPr>
            <p:ph type="body"/>
          </p:nvPr>
        </p:nvSpPr>
        <p:spPr>
          <a:xfrm>
            <a:off x="0" y="0"/>
            <a:ext cx="609552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507" name="PlaceHolder 2"/>
          <p:cNvSpPr>
            <a:spLocks noGrp="1"/>
          </p:cNvSpPr>
          <p:nvPr>
            <p:ph type="body"/>
          </p:nvPr>
        </p:nvSpPr>
        <p:spPr>
          <a:xfrm>
            <a:off x="6095880" y="0"/>
            <a:ext cx="609552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508" name="PlaceHolder 3"/>
          <p:cNvSpPr>
            <a:spLocks noGrp="1"/>
          </p:cNvSpPr>
          <p:nvPr>
            <p:ph type="body"/>
          </p:nvPr>
        </p:nvSpPr>
        <p:spPr>
          <a:xfrm>
            <a:off x="12192120" y="0"/>
            <a:ext cx="609552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509" name="PlaceHolder 4"/>
          <p:cNvSpPr>
            <a:spLocks noGrp="1"/>
          </p:cNvSpPr>
          <p:nvPr>
            <p:ph type="body"/>
          </p:nvPr>
        </p:nvSpPr>
        <p:spPr>
          <a:xfrm>
            <a:off x="18288000" y="0"/>
            <a:ext cx="609552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510" name="Shape 605"/>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8BA3BEE-6585-4133-86A1-4C15116B0D5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511" name="PlaceHolder 5"/>
          <p:cNvSpPr>
            <a:spLocks noGrp="1"/>
          </p:cNvSpPr>
          <p:nvPr>
            <p:ph type="sldNum" idx="5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4539A57A-4950-44A1-9BA6-E49972365EFF}"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512"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403" r:id="rId3"/>
    <p:sldLayoutId id="2147484404" r:id="rId4"/>
    <p:sldLayoutId id="2147484405" r:id="rId5"/>
    <p:sldLayoutId id="2147484406" r:id="rId6"/>
    <p:sldLayoutId id="2147484407" r:id="rId7"/>
    <p:sldLayoutId id="2147484408" r:id="rId8"/>
    <p:sldLayoutId id="2147484409" r:id="rId9"/>
    <p:sldLayoutId id="2147484410" r:id="rId10"/>
    <p:sldLayoutId id="2147484411" r:id="rId11"/>
    <p:sldLayoutId id="2147484412" r:id="rId12"/>
    <p:sldLayoutId id="2147484413" r:id="rId13"/>
    <p:sldLayoutId id="2147484414"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6E6E503F-D504-4FB8-92D7-51DE4326C3D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12" name="pasted-image.pdf" descr=""/>
          <p:cNvPicPr/>
          <p:nvPr/>
        </p:nvPicPr>
        <p:blipFill>
          <a:blip r:embed="rId2"/>
          <a:stretch/>
        </p:blipFill>
        <p:spPr>
          <a:xfrm>
            <a:off x="11176560" y="0"/>
            <a:ext cx="13207320" cy="13715640"/>
          </a:xfrm>
          <a:prstGeom prst="rect">
            <a:avLst/>
          </a:prstGeom>
          <a:ln w="12700">
            <a:noFill/>
          </a:ln>
        </p:spPr>
      </p:pic>
      <p:sp>
        <p:nvSpPr>
          <p:cNvPr id="213" name="Shape 5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C37B28E-C935-4184-8F31-C23495EB843C}"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14" name="PlaceHolder 1"/>
          <p:cNvSpPr>
            <a:spLocks noGrp="1"/>
          </p:cNvSpPr>
          <p:nvPr>
            <p:ph type="body"/>
          </p:nvPr>
        </p:nvSpPr>
        <p:spPr>
          <a:xfrm>
            <a:off x="0" y="0"/>
            <a:ext cx="12199320" cy="1371600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15" name="PlaceHolder 2"/>
          <p:cNvSpPr>
            <a:spLocks noGrp="1"/>
          </p:cNvSpPr>
          <p:nvPr>
            <p:ph type="sldNum" idx="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92BABE0C-3278-4BA2-8156-6748924A075E}"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1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6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96C1E38A-7608-45CC-9526-A00FCFFD64E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550" name="pasted-image.pdf" descr=""/>
          <p:cNvPicPr/>
          <p:nvPr/>
        </p:nvPicPr>
        <p:blipFill>
          <a:blip r:embed="rId2"/>
          <a:stretch/>
        </p:blipFill>
        <p:spPr>
          <a:xfrm>
            <a:off x="11176560" y="0"/>
            <a:ext cx="13207320" cy="13715640"/>
          </a:xfrm>
          <a:prstGeom prst="rect">
            <a:avLst/>
          </a:prstGeom>
          <a:ln w="12700">
            <a:noFill/>
          </a:ln>
        </p:spPr>
      </p:pic>
      <p:sp>
        <p:nvSpPr>
          <p:cNvPr id="2551" name="Shape 61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3411E16-D242-47F4-A7B8-8B1F2B74272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552" name="Shape 614"/>
          <p:cNvSpPr/>
          <p:nvPr/>
        </p:nvSpPr>
        <p:spPr>
          <a:xfrm>
            <a:off x="6858000" y="0"/>
            <a:ext cx="685764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2553" name="PlaceHolder 1"/>
          <p:cNvSpPr>
            <a:spLocks noGrp="1"/>
          </p:cNvSpPr>
          <p:nvPr>
            <p:ph type="body"/>
          </p:nvPr>
        </p:nvSpPr>
        <p:spPr>
          <a:xfrm>
            <a:off x="0" y="0"/>
            <a:ext cx="685764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554" name="PlaceHolder 2"/>
          <p:cNvSpPr>
            <a:spLocks noGrp="1"/>
          </p:cNvSpPr>
          <p:nvPr>
            <p:ph type="sldNum" idx="60"/>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F3075666-FA93-469B-9C36-EE2F0D9DE48A}"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555"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416" r:id="rId3"/>
    <p:sldLayoutId id="2147484417" r:id="rId4"/>
    <p:sldLayoutId id="2147484418" r:id="rId5"/>
    <p:sldLayoutId id="2147484419" r:id="rId6"/>
    <p:sldLayoutId id="2147484420" r:id="rId7"/>
    <p:sldLayoutId id="2147484421" r:id="rId8"/>
    <p:sldLayoutId id="2147484422" r:id="rId9"/>
    <p:sldLayoutId id="2147484423" r:id="rId10"/>
    <p:sldLayoutId id="2147484424" r:id="rId11"/>
    <p:sldLayoutId id="2147484425" r:id="rId12"/>
    <p:sldLayoutId id="2147484426" r:id="rId13"/>
    <p:sldLayoutId id="2147484427" r:id="rId14"/>
  </p:sldLayoutIdLst>
</p:sldMaster>
</file>

<file path=ppt/slideMasters/slideMaster6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2"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6EE3751F-2A87-4306-96A7-B4817BC2A1F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593" name="pasted-image.pdf" descr=""/>
          <p:cNvPicPr/>
          <p:nvPr/>
        </p:nvPicPr>
        <p:blipFill>
          <a:blip r:embed="rId2"/>
          <a:stretch/>
        </p:blipFill>
        <p:spPr>
          <a:xfrm>
            <a:off x="11176560" y="0"/>
            <a:ext cx="13207320" cy="13715640"/>
          </a:xfrm>
          <a:prstGeom prst="rect">
            <a:avLst/>
          </a:prstGeom>
          <a:ln w="12700">
            <a:noFill/>
          </a:ln>
        </p:spPr>
      </p:pic>
      <p:sp>
        <p:nvSpPr>
          <p:cNvPr id="2594" name="Shape 62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A2F1799-50EE-419C-A85A-265B77770F4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595" name="Shape 624"/>
          <p:cNvSpPr/>
          <p:nvPr/>
        </p:nvSpPr>
        <p:spPr>
          <a:xfrm>
            <a:off x="17525880" y="0"/>
            <a:ext cx="685764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2596" name="PlaceHolder 1"/>
          <p:cNvSpPr>
            <a:spLocks noGrp="1"/>
          </p:cNvSpPr>
          <p:nvPr>
            <p:ph type="body"/>
          </p:nvPr>
        </p:nvSpPr>
        <p:spPr>
          <a:xfrm>
            <a:off x="10667880" y="0"/>
            <a:ext cx="685764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597" name="PlaceHolder 2"/>
          <p:cNvSpPr>
            <a:spLocks noGrp="1"/>
          </p:cNvSpPr>
          <p:nvPr>
            <p:ph type="sldNum" idx="6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FC266B1-A018-448E-B31C-5ACCA3845D0D}"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59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429" r:id="rId3"/>
    <p:sldLayoutId id="2147484430" r:id="rId4"/>
    <p:sldLayoutId id="2147484431" r:id="rId5"/>
    <p:sldLayoutId id="2147484432" r:id="rId6"/>
    <p:sldLayoutId id="2147484433" r:id="rId7"/>
    <p:sldLayoutId id="2147484434" r:id="rId8"/>
    <p:sldLayoutId id="2147484435" r:id="rId9"/>
    <p:sldLayoutId id="2147484436" r:id="rId10"/>
    <p:sldLayoutId id="2147484437" r:id="rId11"/>
    <p:sldLayoutId id="2147484438" r:id="rId12"/>
    <p:sldLayoutId id="2147484439" r:id="rId13"/>
    <p:sldLayoutId id="2147484440" r:id="rId14"/>
  </p:sldLayoutIdLst>
</p:sldMaster>
</file>

<file path=ppt/slideMasters/slideMaster6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3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EF2707F-195C-411D-934B-CB377641B9E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636" name="pasted-image.pdf" descr=""/>
          <p:cNvPicPr/>
          <p:nvPr/>
        </p:nvPicPr>
        <p:blipFill>
          <a:blip r:embed="rId2"/>
          <a:stretch/>
        </p:blipFill>
        <p:spPr>
          <a:xfrm>
            <a:off x="11176560" y="0"/>
            <a:ext cx="13207320" cy="13715640"/>
          </a:xfrm>
          <a:prstGeom prst="rect">
            <a:avLst/>
          </a:prstGeom>
          <a:ln w="12700">
            <a:noFill/>
          </a:ln>
        </p:spPr>
      </p:pic>
      <p:sp>
        <p:nvSpPr>
          <p:cNvPr id="2637" name="Shape 63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6E9D85A1-2300-4848-B797-C688DE37649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638" name="PlaceHolder 1"/>
          <p:cNvSpPr>
            <a:spLocks noGrp="1"/>
          </p:cNvSpPr>
          <p:nvPr>
            <p:ph type="body"/>
          </p:nvPr>
        </p:nvSpPr>
        <p:spPr>
          <a:xfrm>
            <a:off x="12192120" y="4572000"/>
            <a:ext cx="6095520" cy="4571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39" name="PlaceHolder 2"/>
          <p:cNvSpPr>
            <a:spLocks noGrp="1"/>
          </p:cNvSpPr>
          <p:nvPr>
            <p:ph type="body"/>
          </p:nvPr>
        </p:nvSpPr>
        <p:spPr>
          <a:xfrm>
            <a:off x="18288000" y="4572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40" name="PlaceHolder 3"/>
          <p:cNvSpPr>
            <a:spLocks noGrp="1"/>
          </p:cNvSpPr>
          <p:nvPr>
            <p:ph type="body"/>
          </p:nvPr>
        </p:nvSpPr>
        <p:spPr>
          <a:xfrm>
            <a:off x="18288000" y="9144000"/>
            <a:ext cx="6095520" cy="457164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41" name="PlaceHolder 4"/>
          <p:cNvSpPr>
            <a:spLocks noGrp="1"/>
          </p:cNvSpPr>
          <p:nvPr>
            <p:ph type="body"/>
          </p:nvPr>
        </p:nvSpPr>
        <p:spPr>
          <a:xfrm>
            <a:off x="1219212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42" name="PlaceHolder 5"/>
          <p:cNvSpPr>
            <a:spLocks noGrp="1"/>
          </p:cNvSpPr>
          <p:nvPr>
            <p:ph type="body"/>
          </p:nvPr>
        </p:nvSpPr>
        <p:spPr>
          <a:xfrm>
            <a:off x="609588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43" name="PlaceHolder 6"/>
          <p:cNvSpPr>
            <a:spLocks noGrp="1"/>
          </p:cNvSpPr>
          <p:nvPr>
            <p:ph type="body"/>
          </p:nvPr>
        </p:nvSpPr>
        <p:spPr>
          <a:xfrm>
            <a:off x="0" y="9144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44" name="PlaceHolder 7"/>
          <p:cNvSpPr>
            <a:spLocks noGrp="1"/>
          </p:cNvSpPr>
          <p:nvPr>
            <p:ph type="sldNum" idx="6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3E9C087-27E0-44B9-B054-283A66BAC68C}"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645" name="PlaceHolder 8"/>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442" r:id="rId3"/>
    <p:sldLayoutId id="2147484443" r:id="rId4"/>
    <p:sldLayoutId id="2147484444" r:id="rId5"/>
    <p:sldLayoutId id="2147484445" r:id="rId6"/>
    <p:sldLayoutId id="2147484446" r:id="rId7"/>
    <p:sldLayoutId id="2147484447" r:id="rId8"/>
    <p:sldLayoutId id="2147484448" r:id="rId9"/>
    <p:sldLayoutId id="2147484449" r:id="rId10"/>
    <p:sldLayoutId id="2147484450" r:id="rId11"/>
    <p:sldLayoutId id="2147484451" r:id="rId12"/>
    <p:sldLayoutId id="2147484452" r:id="rId13"/>
    <p:sldLayoutId id="2147484453" r:id="rId14"/>
  </p:sldLayoutIdLst>
</p:sldMaster>
</file>

<file path=ppt/slideMasters/slideMaster6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2"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AE9C80C-6658-44B2-B372-4B0730A1BDA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683" name="pasted-image.pdf" descr=""/>
          <p:cNvPicPr/>
          <p:nvPr/>
        </p:nvPicPr>
        <p:blipFill>
          <a:blip r:embed="rId2"/>
          <a:stretch/>
        </p:blipFill>
        <p:spPr>
          <a:xfrm>
            <a:off x="11176560" y="0"/>
            <a:ext cx="13207320" cy="13715640"/>
          </a:xfrm>
          <a:prstGeom prst="rect">
            <a:avLst/>
          </a:prstGeom>
          <a:ln w="12700">
            <a:noFill/>
          </a:ln>
        </p:spPr>
      </p:pic>
      <p:sp>
        <p:nvSpPr>
          <p:cNvPr id="2684" name="Shape 647"/>
          <p:cNvSpPr/>
          <p:nvPr/>
        </p:nvSpPr>
        <p:spPr>
          <a:xfrm>
            <a:off x="0" y="4572000"/>
            <a:ext cx="24383520" cy="9143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2685" name="PlaceHolder 1"/>
          <p:cNvSpPr>
            <a:spLocks noGrp="1"/>
          </p:cNvSpPr>
          <p:nvPr>
            <p:ph type="body"/>
          </p:nvPr>
        </p:nvSpPr>
        <p:spPr>
          <a:xfrm>
            <a:off x="18288000" y="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86" name="PlaceHolder 2"/>
          <p:cNvSpPr>
            <a:spLocks noGrp="1"/>
          </p:cNvSpPr>
          <p:nvPr>
            <p:ph type="body"/>
          </p:nvPr>
        </p:nvSpPr>
        <p:spPr>
          <a:xfrm>
            <a:off x="12192120" y="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87" name="PlaceHolder 3"/>
          <p:cNvSpPr>
            <a:spLocks noGrp="1"/>
          </p:cNvSpPr>
          <p:nvPr>
            <p:ph type="body"/>
          </p:nvPr>
        </p:nvSpPr>
        <p:spPr>
          <a:xfrm>
            <a:off x="6095880" y="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88" name="PlaceHolder 4"/>
          <p:cNvSpPr>
            <a:spLocks noGrp="1"/>
          </p:cNvSpPr>
          <p:nvPr>
            <p:ph type="body"/>
          </p:nvPr>
        </p:nvSpPr>
        <p:spPr>
          <a:xfrm>
            <a:off x="0" y="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689" name="Shape 652"/>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708CC0A-7DA6-4AB1-9302-A7E9AA63215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690" name="PlaceHolder 5"/>
          <p:cNvSpPr>
            <a:spLocks noGrp="1"/>
          </p:cNvSpPr>
          <p:nvPr>
            <p:ph type="sldNum" idx="6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4AC00659-471A-475C-A438-FDA53C5EBBCE}"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691"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455" r:id="rId3"/>
    <p:sldLayoutId id="2147484456" r:id="rId4"/>
    <p:sldLayoutId id="2147484457" r:id="rId5"/>
    <p:sldLayoutId id="2147484458" r:id="rId6"/>
    <p:sldLayoutId id="2147484459" r:id="rId7"/>
    <p:sldLayoutId id="2147484460" r:id="rId8"/>
    <p:sldLayoutId id="2147484461" r:id="rId9"/>
    <p:sldLayoutId id="2147484462" r:id="rId10"/>
    <p:sldLayoutId id="2147484463" r:id="rId11"/>
    <p:sldLayoutId id="2147484464" r:id="rId12"/>
    <p:sldLayoutId id="2147484465" r:id="rId13"/>
    <p:sldLayoutId id="2147484466" r:id="rId14"/>
  </p:sldLayoutIdLst>
</p:sldMaster>
</file>

<file path=ppt/slideMasters/slideMaster6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2B5E0C0-812A-466D-97D5-E6192BEAE33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729" name="pasted-image.pdf" descr=""/>
          <p:cNvPicPr/>
          <p:nvPr/>
        </p:nvPicPr>
        <p:blipFill>
          <a:blip r:embed="rId2"/>
          <a:stretch/>
        </p:blipFill>
        <p:spPr>
          <a:xfrm>
            <a:off x="11176560" y="0"/>
            <a:ext cx="13207320" cy="13715640"/>
          </a:xfrm>
          <a:prstGeom prst="rect">
            <a:avLst/>
          </a:prstGeom>
          <a:ln w="12700">
            <a:noFill/>
          </a:ln>
        </p:spPr>
      </p:pic>
      <p:sp>
        <p:nvSpPr>
          <p:cNvPr id="2730" name="Shape 660"/>
          <p:cNvSpPr/>
          <p:nvPr/>
        </p:nvSpPr>
        <p:spPr>
          <a:xfrm>
            <a:off x="0" y="11365200"/>
            <a:ext cx="24383520" cy="23504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2731" name="PlaceHolder 1"/>
          <p:cNvSpPr>
            <a:spLocks noGrp="1"/>
          </p:cNvSpPr>
          <p:nvPr>
            <p:ph type="body"/>
          </p:nvPr>
        </p:nvSpPr>
        <p:spPr>
          <a:xfrm>
            <a:off x="18288000" y="6858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732" name="PlaceHolder 2"/>
          <p:cNvSpPr>
            <a:spLocks noGrp="1"/>
          </p:cNvSpPr>
          <p:nvPr>
            <p:ph type="body"/>
          </p:nvPr>
        </p:nvSpPr>
        <p:spPr>
          <a:xfrm>
            <a:off x="12192120" y="6858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733" name="PlaceHolder 3"/>
          <p:cNvSpPr>
            <a:spLocks noGrp="1"/>
          </p:cNvSpPr>
          <p:nvPr>
            <p:ph type="body"/>
          </p:nvPr>
        </p:nvSpPr>
        <p:spPr>
          <a:xfrm>
            <a:off x="6095880" y="6858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734" name="PlaceHolder 4"/>
          <p:cNvSpPr>
            <a:spLocks noGrp="1"/>
          </p:cNvSpPr>
          <p:nvPr>
            <p:ph type="body"/>
          </p:nvPr>
        </p:nvSpPr>
        <p:spPr>
          <a:xfrm>
            <a:off x="0" y="6858000"/>
            <a:ext cx="6095520" cy="4571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735" name="Shape 665"/>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672BC5DB-591C-4E0A-A83B-93081523A54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736" name="PlaceHolder 5"/>
          <p:cNvSpPr>
            <a:spLocks noGrp="1"/>
          </p:cNvSpPr>
          <p:nvPr>
            <p:ph type="sldNum" idx="6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3B12DBD8-A744-479D-A88C-5F446DFC1634}"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737"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468" r:id="rId3"/>
    <p:sldLayoutId id="2147484469" r:id="rId4"/>
    <p:sldLayoutId id="2147484470" r:id="rId5"/>
    <p:sldLayoutId id="2147484471" r:id="rId6"/>
    <p:sldLayoutId id="2147484472" r:id="rId7"/>
    <p:sldLayoutId id="2147484473" r:id="rId8"/>
    <p:sldLayoutId id="2147484474" r:id="rId9"/>
    <p:sldLayoutId id="2147484475" r:id="rId10"/>
    <p:sldLayoutId id="2147484476" r:id="rId11"/>
    <p:sldLayoutId id="2147484477" r:id="rId12"/>
    <p:sldLayoutId id="2147484478" r:id="rId13"/>
    <p:sldLayoutId id="2147484479" r:id="rId14"/>
  </p:sldLayoutIdLst>
</p:sldMaster>
</file>

<file path=ppt/slideMasters/slideMaster6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1B23B77-271B-4140-BE33-2478C090444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775" name="pasted-image.pdf" descr=""/>
          <p:cNvPicPr/>
          <p:nvPr/>
        </p:nvPicPr>
        <p:blipFill>
          <a:blip r:embed="rId2"/>
          <a:stretch/>
        </p:blipFill>
        <p:spPr>
          <a:xfrm>
            <a:off x="11176560" y="0"/>
            <a:ext cx="13207320" cy="13715640"/>
          </a:xfrm>
          <a:prstGeom prst="rect">
            <a:avLst/>
          </a:prstGeom>
          <a:ln w="12700">
            <a:noFill/>
          </a:ln>
        </p:spPr>
      </p:pic>
      <p:sp>
        <p:nvSpPr>
          <p:cNvPr id="2776" name="Shape 67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5D98F85-CBED-4CE3-9EFA-1DBE89ED89A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777" name="PlaceHolder 1"/>
          <p:cNvSpPr>
            <a:spLocks noGrp="1"/>
          </p:cNvSpPr>
          <p:nvPr>
            <p:ph type="sldNum" idx="6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0F2B2B47-135E-4544-9F96-A8CCE12561D6}"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778" name="PlaceHolder 2"/>
          <p:cNvSpPr>
            <a:spLocks noGrp="1"/>
          </p:cNvSpPr>
          <p:nvPr>
            <p:ph type="body"/>
          </p:nvPr>
        </p:nvSpPr>
        <p:spPr>
          <a:xfrm>
            <a:off x="15628320" y="569160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779" name="PlaceHolder 3"/>
          <p:cNvSpPr>
            <a:spLocks noGrp="1"/>
          </p:cNvSpPr>
          <p:nvPr>
            <p:ph type="body"/>
          </p:nvPr>
        </p:nvSpPr>
        <p:spPr>
          <a:xfrm>
            <a:off x="18980640" y="250776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780" name="PlaceHolder 4"/>
          <p:cNvSpPr>
            <a:spLocks noGrp="1"/>
          </p:cNvSpPr>
          <p:nvPr>
            <p:ph type="body"/>
          </p:nvPr>
        </p:nvSpPr>
        <p:spPr>
          <a:xfrm>
            <a:off x="12251520" y="250776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781"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481" r:id="rId3"/>
    <p:sldLayoutId id="2147484482" r:id="rId4"/>
    <p:sldLayoutId id="2147484483" r:id="rId5"/>
    <p:sldLayoutId id="2147484484" r:id="rId6"/>
    <p:sldLayoutId id="2147484485" r:id="rId7"/>
    <p:sldLayoutId id="2147484486" r:id="rId8"/>
    <p:sldLayoutId id="2147484487" r:id="rId9"/>
    <p:sldLayoutId id="2147484488" r:id="rId10"/>
    <p:sldLayoutId id="2147484489" r:id="rId11"/>
    <p:sldLayoutId id="2147484490" r:id="rId12"/>
    <p:sldLayoutId id="2147484491" r:id="rId13"/>
    <p:sldLayoutId id="2147484492" r:id="rId14"/>
  </p:sldLayoutIdLst>
</p:sldMaster>
</file>

<file path=ppt/slideMasters/slideMaster6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45882B3-9423-4E10-8AC6-CA31ACD0E8C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819" name="pasted-image.pdf" descr=""/>
          <p:cNvPicPr/>
          <p:nvPr/>
        </p:nvPicPr>
        <p:blipFill>
          <a:blip r:embed="rId2"/>
          <a:stretch/>
        </p:blipFill>
        <p:spPr>
          <a:xfrm>
            <a:off x="11176560" y="0"/>
            <a:ext cx="13207320" cy="13715640"/>
          </a:xfrm>
          <a:prstGeom prst="rect">
            <a:avLst/>
          </a:prstGeom>
          <a:ln w="12700">
            <a:noFill/>
          </a:ln>
        </p:spPr>
      </p:pic>
      <p:sp>
        <p:nvSpPr>
          <p:cNvPr id="2820" name="Shape 685"/>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0D987C9-22E3-4A85-AEE8-646BC7624D5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821" name="PlaceHolder 1"/>
          <p:cNvSpPr>
            <a:spLocks noGrp="1"/>
          </p:cNvSpPr>
          <p:nvPr>
            <p:ph type="sldNum" idx="6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B76280C2-B392-4304-BF3E-638A09235BC5}"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822" name="PlaceHolder 2"/>
          <p:cNvSpPr>
            <a:spLocks noGrp="1"/>
          </p:cNvSpPr>
          <p:nvPr>
            <p:ph type="body"/>
          </p:nvPr>
        </p:nvSpPr>
        <p:spPr>
          <a:xfrm>
            <a:off x="9337320" y="668412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823" name="PlaceHolder 3"/>
          <p:cNvSpPr>
            <a:spLocks noGrp="1"/>
          </p:cNvSpPr>
          <p:nvPr>
            <p:ph type="body"/>
          </p:nvPr>
        </p:nvSpPr>
        <p:spPr>
          <a:xfrm>
            <a:off x="1297440" y="326916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824" name="PlaceHolder 4"/>
          <p:cNvSpPr>
            <a:spLocks noGrp="1"/>
          </p:cNvSpPr>
          <p:nvPr>
            <p:ph type="body"/>
          </p:nvPr>
        </p:nvSpPr>
        <p:spPr>
          <a:xfrm>
            <a:off x="4600800" y="668412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825" name="PlaceHolder 5"/>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494" r:id="rId3"/>
    <p:sldLayoutId id="2147484495" r:id="rId4"/>
    <p:sldLayoutId id="2147484496" r:id="rId5"/>
    <p:sldLayoutId id="2147484497" r:id="rId6"/>
    <p:sldLayoutId id="2147484498" r:id="rId7"/>
    <p:sldLayoutId id="2147484499" r:id="rId8"/>
    <p:sldLayoutId id="2147484500" r:id="rId9"/>
    <p:sldLayoutId id="2147484501" r:id="rId10"/>
    <p:sldLayoutId id="2147484502" r:id="rId11"/>
    <p:sldLayoutId id="2147484503" r:id="rId12"/>
    <p:sldLayoutId id="2147484504" r:id="rId13"/>
    <p:sldLayoutId id="2147484505" r:id="rId14"/>
  </p:sldLayoutIdLst>
</p:sldMaster>
</file>

<file path=ppt/slideMasters/slideMaster6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2"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E95CAB6-F282-4C56-86C9-203CDEDC706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863" name="pasted-image.pdf" descr=""/>
          <p:cNvPicPr/>
          <p:nvPr/>
        </p:nvPicPr>
        <p:blipFill>
          <a:blip r:embed="rId2"/>
          <a:stretch/>
        </p:blipFill>
        <p:spPr>
          <a:xfrm>
            <a:off x="11176560" y="0"/>
            <a:ext cx="13207320" cy="13715640"/>
          </a:xfrm>
          <a:prstGeom prst="rect">
            <a:avLst/>
          </a:prstGeom>
          <a:ln w="12700">
            <a:noFill/>
          </a:ln>
        </p:spPr>
      </p:pic>
      <p:sp>
        <p:nvSpPr>
          <p:cNvPr id="2864" name="Shape 70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01FFE4F-B3DF-4BDD-A254-5BED9761EF8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865" name="PlaceHolder 1"/>
          <p:cNvSpPr>
            <a:spLocks noGrp="1"/>
          </p:cNvSpPr>
          <p:nvPr>
            <p:ph type="sldNum" idx="6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C9D36A84-B9E9-4969-B77F-32FE36433973}"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866" name="PlaceHolder 2"/>
          <p:cNvSpPr>
            <a:spLocks noGrp="1"/>
          </p:cNvSpPr>
          <p:nvPr>
            <p:ph type="body"/>
          </p:nvPr>
        </p:nvSpPr>
        <p:spPr>
          <a:xfrm>
            <a:off x="11668680" y="448452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867" name="PlaceHolder 3"/>
          <p:cNvSpPr>
            <a:spLocks noGrp="1"/>
          </p:cNvSpPr>
          <p:nvPr>
            <p:ph type="body"/>
          </p:nvPr>
        </p:nvSpPr>
        <p:spPr>
          <a:xfrm>
            <a:off x="14905080" y="777168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868" name="PlaceHolder 4"/>
          <p:cNvSpPr>
            <a:spLocks noGrp="1"/>
          </p:cNvSpPr>
          <p:nvPr>
            <p:ph type="body"/>
          </p:nvPr>
        </p:nvSpPr>
        <p:spPr>
          <a:xfrm>
            <a:off x="8385120" y="118512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869" name="PlaceHolder 5"/>
          <p:cNvSpPr>
            <a:spLocks noGrp="1"/>
          </p:cNvSpPr>
          <p:nvPr>
            <p:ph type="body"/>
          </p:nvPr>
        </p:nvSpPr>
        <p:spPr>
          <a:xfrm>
            <a:off x="14952600" y="119736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870" name="PlaceHolder 6"/>
          <p:cNvSpPr>
            <a:spLocks noGrp="1"/>
          </p:cNvSpPr>
          <p:nvPr>
            <p:ph type="body"/>
          </p:nvPr>
        </p:nvSpPr>
        <p:spPr>
          <a:xfrm>
            <a:off x="18196200" y="4484520"/>
            <a:ext cx="4461480" cy="4472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871" name="PlaceHolder 7"/>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507" r:id="rId3"/>
    <p:sldLayoutId id="2147484508" r:id="rId4"/>
    <p:sldLayoutId id="2147484509" r:id="rId5"/>
    <p:sldLayoutId id="2147484510" r:id="rId6"/>
    <p:sldLayoutId id="2147484511" r:id="rId7"/>
    <p:sldLayoutId id="2147484512" r:id="rId8"/>
    <p:sldLayoutId id="2147484513" r:id="rId9"/>
    <p:sldLayoutId id="2147484514" r:id="rId10"/>
    <p:sldLayoutId id="2147484515" r:id="rId11"/>
    <p:sldLayoutId id="2147484516" r:id="rId12"/>
    <p:sldLayoutId id="2147484517" r:id="rId13"/>
    <p:sldLayoutId id="2147484518" r:id="rId14"/>
  </p:sldLayoutIdLst>
</p:sldMaster>
</file>

<file path=ppt/slideMasters/slideMaster6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6B1692E-F738-46D4-B523-913A4B4643C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909" name="pasted-image.pdf" descr=""/>
          <p:cNvPicPr/>
          <p:nvPr/>
        </p:nvPicPr>
        <p:blipFill>
          <a:blip r:embed="rId2"/>
          <a:stretch/>
        </p:blipFill>
        <p:spPr>
          <a:xfrm>
            <a:off x="11176560" y="0"/>
            <a:ext cx="13207320" cy="13715640"/>
          </a:xfrm>
          <a:prstGeom prst="rect">
            <a:avLst/>
          </a:prstGeom>
          <a:ln w="12700">
            <a:noFill/>
          </a:ln>
        </p:spPr>
      </p:pic>
      <p:sp>
        <p:nvSpPr>
          <p:cNvPr id="2910" name="Shape 70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208E731-90EC-462C-91C7-15A4981ADAB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911" name="PlaceHolder 1"/>
          <p:cNvSpPr>
            <a:spLocks noGrp="1"/>
          </p:cNvSpPr>
          <p:nvPr>
            <p:ph type="body"/>
          </p:nvPr>
        </p:nvSpPr>
        <p:spPr>
          <a:xfrm>
            <a:off x="2035080" y="2203560"/>
            <a:ext cx="9144720" cy="94730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912" name="PlaceHolder 2"/>
          <p:cNvSpPr>
            <a:spLocks noGrp="1"/>
          </p:cNvSpPr>
          <p:nvPr>
            <p:ph type="sldNum" idx="6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1DAD2A6E-B801-46F7-BA57-4DA24157FA42}"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913"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520" r:id="rId3"/>
    <p:sldLayoutId id="2147484521" r:id="rId4"/>
    <p:sldLayoutId id="2147484522" r:id="rId5"/>
    <p:sldLayoutId id="2147484523" r:id="rId6"/>
    <p:sldLayoutId id="2147484524" r:id="rId7"/>
    <p:sldLayoutId id="2147484525" r:id="rId8"/>
    <p:sldLayoutId id="2147484526" r:id="rId9"/>
    <p:sldLayoutId id="2147484527" r:id="rId10"/>
    <p:sldLayoutId id="2147484528" r:id="rId11"/>
    <p:sldLayoutId id="2147484529" r:id="rId12"/>
    <p:sldLayoutId id="2147484530" r:id="rId13"/>
    <p:sldLayoutId id="2147484531" r:id="rId14"/>
  </p:sldLayoutIdLst>
</p:sldMaster>
</file>

<file path=ppt/slideMasters/slideMaster6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0"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DE3865B-4502-429D-9BD3-3B6326DAADB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951" name="pasted-image.pdf" descr=""/>
          <p:cNvPicPr/>
          <p:nvPr/>
        </p:nvPicPr>
        <p:blipFill>
          <a:blip r:embed="rId2"/>
          <a:stretch/>
        </p:blipFill>
        <p:spPr>
          <a:xfrm>
            <a:off x="11176560" y="0"/>
            <a:ext cx="13207320" cy="13715640"/>
          </a:xfrm>
          <a:prstGeom prst="rect">
            <a:avLst/>
          </a:prstGeom>
          <a:ln w="12700">
            <a:noFill/>
          </a:ln>
        </p:spPr>
      </p:pic>
      <p:sp>
        <p:nvSpPr>
          <p:cNvPr id="2952" name="PlaceHolder 1"/>
          <p:cNvSpPr>
            <a:spLocks noGrp="1"/>
          </p:cNvSpPr>
          <p:nvPr>
            <p:ph type="body"/>
          </p:nvPr>
        </p:nvSpPr>
        <p:spPr>
          <a:xfrm>
            <a:off x="0" y="0"/>
            <a:ext cx="24383880" cy="13715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953" name="Shape 71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EEBB583-45E0-4AAA-A77C-CA3EE0DB7B3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954" name="PlaceHolder 2"/>
          <p:cNvSpPr>
            <a:spLocks noGrp="1"/>
          </p:cNvSpPr>
          <p:nvPr>
            <p:ph type="sldNum" idx="6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A47716F6-ECDA-4288-A9C5-D698B7DC0E28}"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955"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533" r:id="rId3"/>
    <p:sldLayoutId id="2147484534" r:id="rId4"/>
    <p:sldLayoutId id="2147484535" r:id="rId5"/>
    <p:sldLayoutId id="2147484536" r:id="rId6"/>
    <p:sldLayoutId id="2147484537" r:id="rId7"/>
    <p:sldLayoutId id="2147484538" r:id="rId8"/>
    <p:sldLayoutId id="2147484539" r:id="rId9"/>
    <p:sldLayoutId id="2147484540" r:id="rId10"/>
    <p:sldLayoutId id="2147484541" r:id="rId11"/>
    <p:sldLayoutId id="2147484542" r:id="rId12"/>
    <p:sldLayoutId id="2147484543" r:id="rId13"/>
    <p:sldLayoutId id="2147484544"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7995156-C978-4F6A-BA57-A39493DED31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54" name="pasted-image.pdf" descr=""/>
          <p:cNvPicPr/>
          <p:nvPr/>
        </p:nvPicPr>
        <p:blipFill>
          <a:blip r:embed="rId2"/>
          <a:stretch/>
        </p:blipFill>
        <p:spPr>
          <a:xfrm>
            <a:off x="11176560" y="0"/>
            <a:ext cx="13207320" cy="13715640"/>
          </a:xfrm>
          <a:prstGeom prst="rect">
            <a:avLst/>
          </a:prstGeom>
          <a:ln w="12700">
            <a:noFill/>
          </a:ln>
        </p:spPr>
      </p:pic>
      <p:sp>
        <p:nvSpPr>
          <p:cNvPr id="255" name="PlaceHolder 1"/>
          <p:cNvSpPr>
            <a:spLocks noGrp="1"/>
          </p:cNvSpPr>
          <p:nvPr>
            <p:ph type="title"/>
          </p:nvPr>
        </p:nvSpPr>
        <p:spPr>
          <a:xfrm>
            <a:off x="2027160" y="2025720"/>
            <a:ext cx="20316960" cy="178236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Titeltext</a:t>
            </a:r>
            <a:endParaRPr b="0" lang="en-US" sz="11200" spc="-1" strike="noStrike">
              <a:solidFill>
                <a:srgbClr val="009193"/>
              </a:solidFill>
              <a:latin typeface="Helvetica Light"/>
            </a:endParaRPr>
          </a:p>
        </p:txBody>
      </p:sp>
      <p:sp>
        <p:nvSpPr>
          <p:cNvPr id="256" name="PlaceHolder 2"/>
          <p:cNvSpPr>
            <a:spLocks noGrp="1"/>
          </p:cNvSpPr>
          <p:nvPr>
            <p:ph type="body"/>
          </p:nvPr>
        </p:nvSpPr>
        <p:spPr>
          <a:xfrm>
            <a:off x="2027160" y="4577040"/>
            <a:ext cx="20316960" cy="5847840"/>
          </a:xfrm>
          <a:prstGeom prst="rect">
            <a:avLst/>
          </a:prstGeom>
          <a:noFill/>
          <a:ln w="12600">
            <a:noFill/>
          </a:ln>
        </p:spPr>
        <p:txBody>
          <a:bodyPr lIns="50760" rIns="50760" tIns="50760" bIns="50760" anchor="t">
            <a:noAutofit/>
          </a:bodyPr>
          <a:p>
            <a:pPr indent="0">
              <a:lnSpc>
                <a:spcPct val="100000"/>
              </a:lnSpc>
              <a:buNone/>
              <a:tabLst>
                <a:tab algn="l" pos="0"/>
              </a:tabLst>
            </a:pPr>
            <a:r>
              <a:rPr b="1" lang="en-US" sz="8400" spc="-1" strike="noStrike">
                <a:solidFill>
                  <a:srgbClr val="212121"/>
                </a:solidFill>
                <a:latin typeface="Arial"/>
                <a:ea typeface="Arial"/>
              </a:rPr>
              <a:t>Textebene 1</a:t>
            </a:r>
            <a:endParaRPr b="0" lang="en-US" sz="8400" spc="-1" strike="noStrike">
              <a:solidFill>
                <a:srgbClr val="5e5e5e"/>
              </a:solidFill>
              <a:latin typeface="Montserrat Light"/>
            </a:endParaRPr>
          </a:p>
          <a:p>
            <a:pPr indent="0">
              <a:lnSpc>
                <a:spcPct val="100000"/>
              </a:lnSpc>
              <a:buNone/>
              <a:tabLst>
                <a:tab algn="l" pos="0"/>
              </a:tabLst>
            </a:pPr>
            <a:r>
              <a:rPr b="0" lang="en-US" sz="4800" spc="239" strike="noStrike">
                <a:solidFill>
                  <a:srgbClr val="212121"/>
                </a:solidFill>
                <a:latin typeface="Montserrat"/>
                <a:ea typeface="Montserrat"/>
              </a:rPr>
              <a:t>Textebene 2</a:t>
            </a:r>
            <a:endParaRPr b="0" lang="en-US" sz="4800" spc="-1" strike="noStrike">
              <a:solidFill>
                <a:srgbClr val="5e5e5e"/>
              </a:solidFill>
              <a:latin typeface="Montserrat Light"/>
            </a:endParaRPr>
          </a:p>
          <a:p>
            <a:pPr indent="0">
              <a:lnSpc>
                <a:spcPct val="120000"/>
              </a:lnSpc>
              <a:spcBef>
                <a:spcPts val="5899"/>
              </a:spcBef>
              <a:buNone/>
              <a:tabLst>
                <a:tab algn="l" pos="0"/>
              </a:tabLst>
            </a:pPr>
            <a:r>
              <a:rPr b="0" lang="en-US" sz="3000" spc="-1" strike="noStrike">
                <a:solidFill>
                  <a:srgbClr val="5e5e5e"/>
                </a:solidFill>
                <a:latin typeface="Montserrat Light"/>
                <a:ea typeface="Montserrat Light"/>
              </a:rPr>
              <a:t>Textebene 3</a:t>
            </a:r>
            <a:endParaRPr b="0" lang="en-US" sz="3000" spc="-1" strike="noStrike">
              <a:solidFill>
                <a:srgbClr val="5e5e5e"/>
              </a:solidFill>
              <a:latin typeface="Montserrat Light"/>
            </a:endParaRPr>
          </a:p>
          <a:p>
            <a:pPr indent="0">
              <a:lnSpc>
                <a:spcPct val="120000"/>
              </a:lnSpc>
              <a:spcBef>
                <a:spcPts val="4501"/>
              </a:spcBef>
              <a:buNone/>
              <a:tabLst>
                <a:tab algn="l" pos="0"/>
              </a:tabLst>
            </a:pPr>
            <a:r>
              <a:rPr b="0" lang="en-US" sz="3000" spc="-1" strike="noStrike">
                <a:solidFill>
                  <a:srgbClr val="929292"/>
                </a:solidFill>
                <a:latin typeface="Helvetica Light"/>
                <a:ea typeface="Helvetica Light"/>
              </a:rPr>
              <a:t>Textebene 4</a:t>
            </a:r>
            <a:endParaRPr b="0" lang="en-US" sz="3000" spc="-1" strike="noStrike">
              <a:solidFill>
                <a:srgbClr val="5e5e5e"/>
              </a:solidFill>
              <a:latin typeface="Montserrat Light"/>
            </a:endParaRPr>
          </a:p>
          <a:p>
            <a:pPr indent="0">
              <a:lnSpc>
                <a:spcPct val="120000"/>
              </a:lnSpc>
              <a:buNone/>
              <a:tabLst>
                <a:tab algn="l" pos="0"/>
              </a:tabLst>
            </a:pPr>
            <a:r>
              <a:rPr b="0" lang="en-US" sz="3000" spc="-1" strike="noStrike">
                <a:solidFill>
                  <a:srgbClr val="009193"/>
                </a:solidFill>
                <a:latin typeface="Helvetica Light"/>
                <a:ea typeface="Helvetica Light"/>
              </a:rPr>
              <a:t>Textebene 5</a:t>
            </a:r>
            <a:endParaRPr b="0" lang="en-US" sz="3000" spc="-1" strike="noStrike">
              <a:solidFill>
                <a:srgbClr val="5e5e5e"/>
              </a:solidFill>
              <a:latin typeface="Montserrat Light"/>
            </a:endParaRPr>
          </a:p>
        </p:txBody>
      </p:sp>
      <p:sp>
        <p:nvSpPr>
          <p:cNvPr id="257" name="PlaceHolder 3"/>
          <p:cNvSpPr>
            <a:spLocks noGrp="1"/>
          </p:cNvSpPr>
          <p:nvPr>
            <p:ph type="sldNum" idx="7"/>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FA169743-D5D0-476C-807B-070FB0D9C225}"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7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2"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224775D-91DF-47BB-810D-EA0A882838C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993" name="pasted-image.pdf" descr=""/>
          <p:cNvPicPr/>
          <p:nvPr/>
        </p:nvPicPr>
        <p:blipFill>
          <a:blip r:embed="rId2"/>
          <a:stretch/>
        </p:blipFill>
        <p:spPr>
          <a:xfrm>
            <a:off x="11176560" y="0"/>
            <a:ext cx="13207320" cy="13715640"/>
          </a:xfrm>
          <a:prstGeom prst="rect">
            <a:avLst/>
          </a:prstGeom>
          <a:ln w="12700">
            <a:noFill/>
          </a:ln>
        </p:spPr>
      </p:pic>
      <p:sp>
        <p:nvSpPr>
          <p:cNvPr id="2994" name="Shape 72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CA325C3-7E50-4130-BF89-A5B0C3842DB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995" name="Shape 728"/>
          <p:cNvSpPr/>
          <p:nvPr/>
        </p:nvSpPr>
        <p:spPr>
          <a:xfrm>
            <a:off x="17525880" y="0"/>
            <a:ext cx="685764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2996" name="PlaceHolder 1"/>
          <p:cNvSpPr>
            <a:spLocks noGrp="1"/>
          </p:cNvSpPr>
          <p:nvPr>
            <p:ph type="body"/>
          </p:nvPr>
        </p:nvSpPr>
        <p:spPr>
          <a:xfrm>
            <a:off x="11835720" y="3774240"/>
            <a:ext cx="3448800" cy="61675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997" name="PlaceHolder 2"/>
          <p:cNvSpPr>
            <a:spLocks noGrp="1"/>
          </p:cNvSpPr>
          <p:nvPr>
            <p:ph type="sldNum" idx="70"/>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B567F644-64AC-4DBF-A425-6AF3ECBDC2B7}"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99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546" r:id="rId3"/>
    <p:sldLayoutId id="2147484547" r:id="rId4"/>
    <p:sldLayoutId id="2147484548" r:id="rId5"/>
    <p:sldLayoutId id="2147484549" r:id="rId6"/>
    <p:sldLayoutId id="2147484550" r:id="rId7"/>
    <p:sldLayoutId id="2147484551" r:id="rId8"/>
    <p:sldLayoutId id="2147484552" r:id="rId9"/>
    <p:sldLayoutId id="2147484553" r:id="rId10"/>
    <p:sldLayoutId id="2147484554" r:id="rId11"/>
    <p:sldLayoutId id="2147484555" r:id="rId12"/>
    <p:sldLayoutId id="2147484556" r:id="rId13"/>
    <p:sldLayoutId id="2147484557" r:id="rId14"/>
  </p:sldLayoutIdLst>
</p:sldMaster>
</file>

<file path=ppt/slideMasters/slideMaster7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6E26865B-A64C-47FA-8F21-82FCD9A6A48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036" name="pasted-image.pdf" descr=""/>
          <p:cNvPicPr/>
          <p:nvPr/>
        </p:nvPicPr>
        <p:blipFill>
          <a:blip r:embed="rId2"/>
          <a:stretch/>
        </p:blipFill>
        <p:spPr>
          <a:xfrm>
            <a:off x="11176560" y="0"/>
            <a:ext cx="13207320" cy="13715640"/>
          </a:xfrm>
          <a:prstGeom prst="rect">
            <a:avLst/>
          </a:prstGeom>
          <a:ln w="12700">
            <a:noFill/>
          </a:ln>
        </p:spPr>
      </p:pic>
      <p:sp>
        <p:nvSpPr>
          <p:cNvPr id="3037" name="Shape 73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B4CE811-3E81-446C-BABA-F0649951DC1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038" name="PlaceHolder 1"/>
          <p:cNvSpPr>
            <a:spLocks noGrp="1"/>
          </p:cNvSpPr>
          <p:nvPr>
            <p:ph type="body"/>
          </p:nvPr>
        </p:nvSpPr>
        <p:spPr>
          <a:xfrm>
            <a:off x="0" y="0"/>
            <a:ext cx="12191760" cy="6857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039" name="PlaceHolder 2"/>
          <p:cNvSpPr>
            <a:spLocks noGrp="1"/>
          </p:cNvSpPr>
          <p:nvPr>
            <p:ph type="body"/>
          </p:nvPr>
        </p:nvSpPr>
        <p:spPr>
          <a:xfrm>
            <a:off x="12198960" y="6858000"/>
            <a:ext cx="12191760" cy="6857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040" name="PlaceHolder 3"/>
          <p:cNvSpPr>
            <a:spLocks noGrp="1"/>
          </p:cNvSpPr>
          <p:nvPr>
            <p:ph type="sldNum" idx="7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7FFECC5C-EC7A-4890-AFBE-497C7C3C90DE}"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041"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559" r:id="rId3"/>
    <p:sldLayoutId id="2147484560" r:id="rId4"/>
    <p:sldLayoutId id="2147484561" r:id="rId5"/>
    <p:sldLayoutId id="2147484562" r:id="rId6"/>
    <p:sldLayoutId id="2147484563" r:id="rId7"/>
    <p:sldLayoutId id="2147484564" r:id="rId8"/>
    <p:sldLayoutId id="2147484565" r:id="rId9"/>
    <p:sldLayoutId id="2147484566" r:id="rId10"/>
    <p:sldLayoutId id="2147484567" r:id="rId11"/>
    <p:sldLayoutId id="2147484568" r:id="rId12"/>
    <p:sldLayoutId id="2147484569" r:id="rId13"/>
    <p:sldLayoutId id="2147484570" r:id="rId14"/>
  </p:sldLayoutIdLst>
</p:sldMaster>
</file>

<file path=ppt/slideMasters/slideMaster7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64678A2-1333-49F1-9B20-D054D46F666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079" name="pasted-image.pdf" descr=""/>
          <p:cNvPicPr/>
          <p:nvPr/>
        </p:nvPicPr>
        <p:blipFill>
          <a:blip r:embed="rId2"/>
          <a:stretch/>
        </p:blipFill>
        <p:spPr>
          <a:xfrm>
            <a:off x="11176560" y="0"/>
            <a:ext cx="13207320" cy="13715640"/>
          </a:xfrm>
          <a:prstGeom prst="rect">
            <a:avLst/>
          </a:prstGeom>
          <a:ln w="12700">
            <a:noFill/>
          </a:ln>
        </p:spPr>
      </p:pic>
      <p:sp>
        <p:nvSpPr>
          <p:cNvPr id="3080" name="Shape 757"/>
          <p:cNvSpPr/>
          <p:nvPr/>
        </p:nvSpPr>
        <p:spPr>
          <a:xfrm>
            <a:off x="12206160" y="6981120"/>
            <a:ext cx="10145160" cy="470088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081" name="PlaceHolder 1"/>
          <p:cNvSpPr>
            <a:spLocks noGrp="1"/>
          </p:cNvSpPr>
          <p:nvPr>
            <p:ph type="body"/>
          </p:nvPr>
        </p:nvSpPr>
        <p:spPr>
          <a:xfrm>
            <a:off x="2035080" y="2025720"/>
            <a:ext cx="20313360" cy="47041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082" name="Shape 75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622B9345-70ED-4663-BC8F-0CBEE5CB14A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083" name="PlaceHolder 2"/>
          <p:cNvSpPr>
            <a:spLocks noGrp="1"/>
          </p:cNvSpPr>
          <p:nvPr>
            <p:ph type="sldNum" idx="7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A87DF9F0-637B-402F-A90E-58D0C65AAC2C}"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08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572" r:id="rId3"/>
    <p:sldLayoutId id="2147484573" r:id="rId4"/>
    <p:sldLayoutId id="2147484574" r:id="rId5"/>
    <p:sldLayoutId id="2147484575" r:id="rId6"/>
    <p:sldLayoutId id="2147484576" r:id="rId7"/>
    <p:sldLayoutId id="2147484577" r:id="rId8"/>
    <p:sldLayoutId id="2147484578" r:id="rId9"/>
    <p:sldLayoutId id="2147484579" r:id="rId10"/>
    <p:sldLayoutId id="2147484580" r:id="rId11"/>
    <p:sldLayoutId id="2147484581" r:id="rId12"/>
    <p:sldLayoutId id="2147484582" r:id="rId13"/>
    <p:sldLayoutId id="2147484583" r:id="rId14"/>
  </p:sldLayoutIdLst>
</p:sldMaster>
</file>

<file path=ppt/slideMasters/slideMaster7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6AB507F-43B3-4BC7-BD34-E13E84766FF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122" name="pasted-image.pdf" descr=""/>
          <p:cNvPicPr/>
          <p:nvPr/>
        </p:nvPicPr>
        <p:blipFill>
          <a:blip r:embed="rId2"/>
          <a:stretch/>
        </p:blipFill>
        <p:spPr>
          <a:xfrm>
            <a:off x="11176560" y="0"/>
            <a:ext cx="13207320" cy="13715640"/>
          </a:xfrm>
          <a:prstGeom prst="rect">
            <a:avLst/>
          </a:prstGeom>
          <a:ln w="12700">
            <a:noFill/>
          </a:ln>
        </p:spPr>
      </p:pic>
      <p:sp>
        <p:nvSpPr>
          <p:cNvPr id="3123" name="Shape 76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010A8B1-152C-4F0D-A055-4E2F1D56BC6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124" name="PlaceHolder 1"/>
          <p:cNvSpPr>
            <a:spLocks noGrp="1"/>
          </p:cNvSpPr>
          <p:nvPr>
            <p:ph type="body"/>
          </p:nvPr>
        </p:nvSpPr>
        <p:spPr>
          <a:xfrm>
            <a:off x="0" y="0"/>
            <a:ext cx="11204640" cy="1371528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125" name="PlaceHolder 2"/>
          <p:cNvSpPr>
            <a:spLocks noGrp="1"/>
          </p:cNvSpPr>
          <p:nvPr>
            <p:ph type="sldNum" idx="7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4586966A-92BD-4902-B48D-2B5007DD62B6}"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12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585" r:id="rId3"/>
    <p:sldLayoutId id="2147484586" r:id="rId4"/>
    <p:sldLayoutId id="2147484587" r:id="rId5"/>
    <p:sldLayoutId id="2147484588" r:id="rId6"/>
    <p:sldLayoutId id="2147484589" r:id="rId7"/>
    <p:sldLayoutId id="2147484590" r:id="rId8"/>
    <p:sldLayoutId id="2147484591" r:id="rId9"/>
    <p:sldLayoutId id="2147484592" r:id="rId10"/>
    <p:sldLayoutId id="2147484593" r:id="rId11"/>
    <p:sldLayoutId id="2147484594" r:id="rId12"/>
    <p:sldLayoutId id="2147484595" r:id="rId13"/>
    <p:sldLayoutId id="2147484596" r:id="rId14"/>
  </p:sldLayoutIdLst>
</p:sldMaster>
</file>

<file path=ppt/slideMasters/slideMaster7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550F655-50A8-4A97-AACD-B85E921B703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164" name="pasted-image.pdf" descr=""/>
          <p:cNvPicPr/>
          <p:nvPr/>
        </p:nvPicPr>
        <p:blipFill>
          <a:blip r:embed="rId2"/>
          <a:stretch/>
        </p:blipFill>
        <p:spPr>
          <a:xfrm>
            <a:off x="11176560" y="0"/>
            <a:ext cx="13207320" cy="13715640"/>
          </a:xfrm>
          <a:prstGeom prst="rect">
            <a:avLst/>
          </a:prstGeom>
          <a:ln w="12700">
            <a:noFill/>
          </a:ln>
        </p:spPr>
      </p:pic>
      <p:sp>
        <p:nvSpPr>
          <p:cNvPr id="3165" name="PlaceHolder 1"/>
          <p:cNvSpPr>
            <a:spLocks noGrp="1"/>
          </p:cNvSpPr>
          <p:nvPr>
            <p:ph type="body"/>
          </p:nvPr>
        </p:nvSpPr>
        <p:spPr>
          <a:xfrm>
            <a:off x="12192120" y="0"/>
            <a:ext cx="12191400" cy="13715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166" name="Shape 77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EB70D91-6366-445F-A1B6-5FAE9873CDAC}"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167" name="PlaceHolder 2"/>
          <p:cNvSpPr>
            <a:spLocks noGrp="1"/>
          </p:cNvSpPr>
          <p:nvPr>
            <p:ph type="sldNum" idx="7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33CABA10-1C5C-4AEC-9873-981C7A5A02F0}"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16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598" r:id="rId3"/>
    <p:sldLayoutId id="2147484599" r:id="rId4"/>
    <p:sldLayoutId id="2147484600" r:id="rId5"/>
    <p:sldLayoutId id="2147484601" r:id="rId6"/>
    <p:sldLayoutId id="2147484602" r:id="rId7"/>
    <p:sldLayoutId id="2147484603" r:id="rId8"/>
    <p:sldLayoutId id="2147484604" r:id="rId9"/>
    <p:sldLayoutId id="2147484605" r:id="rId10"/>
    <p:sldLayoutId id="2147484606" r:id="rId11"/>
    <p:sldLayoutId id="2147484607" r:id="rId12"/>
    <p:sldLayoutId id="2147484608" r:id="rId13"/>
    <p:sldLayoutId id="2147484609" r:id="rId14"/>
  </p:sldLayoutIdLst>
</p:sldMaster>
</file>

<file path=ppt/slideMasters/slideMaster7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A3DE31E-3E76-41F8-8517-3C6029E1E61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206" name="pasted-image.pdf" descr=""/>
          <p:cNvPicPr/>
          <p:nvPr/>
        </p:nvPicPr>
        <p:blipFill>
          <a:blip r:embed="rId2"/>
          <a:stretch/>
        </p:blipFill>
        <p:spPr>
          <a:xfrm>
            <a:off x="11176560" y="0"/>
            <a:ext cx="13207320" cy="13715640"/>
          </a:xfrm>
          <a:prstGeom prst="rect">
            <a:avLst/>
          </a:prstGeom>
          <a:ln w="12700">
            <a:noFill/>
          </a:ln>
        </p:spPr>
      </p:pic>
      <p:sp>
        <p:nvSpPr>
          <p:cNvPr id="3207" name="Shape 785"/>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466443C-0316-46BE-BCCD-54A463E3CDC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208" name="PlaceHolder 1"/>
          <p:cNvSpPr>
            <a:spLocks noGrp="1"/>
          </p:cNvSpPr>
          <p:nvPr>
            <p:ph type="body"/>
          </p:nvPr>
        </p:nvSpPr>
        <p:spPr>
          <a:xfrm>
            <a:off x="0" y="0"/>
            <a:ext cx="12191400" cy="13715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209" name="PlaceHolder 2"/>
          <p:cNvSpPr>
            <a:spLocks noGrp="1"/>
          </p:cNvSpPr>
          <p:nvPr>
            <p:ph type="sldNum" idx="7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BAD4EB40-8575-4B27-A1B1-8F8656DA9B78}"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210"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611" r:id="rId3"/>
    <p:sldLayoutId id="2147484612" r:id="rId4"/>
    <p:sldLayoutId id="2147484613" r:id="rId5"/>
    <p:sldLayoutId id="2147484614" r:id="rId6"/>
    <p:sldLayoutId id="2147484615" r:id="rId7"/>
    <p:sldLayoutId id="2147484616" r:id="rId8"/>
    <p:sldLayoutId id="2147484617" r:id="rId9"/>
    <p:sldLayoutId id="2147484618" r:id="rId10"/>
    <p:sldLayoutId id="2147484619" r:id="rId11"/>
    <p:sldLayoutId id="2147484620" r:id="rId12"/>
    <p:sldLayoutId id="2147484621" r:id="rId13"/>
    <p:sldLayoutId id="2147484622" r:id="rId14"/>
  </p:sldLayoutIdLst>
</p:sldMaster>
</file>

<file path=ppt/slideMasters/slideMaster7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7"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8DFED83-1308-4527-AACD-9BE6450CC20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248" name="pasted-image.pdf" descr=""/>
          <p:cNvPicPr/>
          <p:nvPr/>
        </p:nvPicPr>
        <p:blipFill>
          <a:blip r:embed="rId2"/>
          <a:stretch/>
        </p:blipFill>
        <p:spPr>
          <a:xfrm>
            <a:off x="11176560" y="0"/>
            <a:ext cx="13207320" cy="13715640"/>
          </a:xfrm>
          <a:prstGeom prst="rect">
            <a:avLst/>
          </a:prstGeom>
          <a:ln w="12700">
            <a:noFill/>
          </a:ln>
        </p:spPr>
      </p:pic>
      <p:sp>
        <p:nvSpPr>
          <p:cNvPr id="3249" name="PlaceHolder 1"/>
          <p:cNvSpPr>
            <a:spLocks noGrp="1"/>
          </p:cNvSpPr>
          <p:nvPr>
            <p:ph type="body"/>
          </p:nvPr>
        </p:nvSpPr>
        <p:spPr>
          <a:xfrm>
            <a:off x="12192120" y="0"/>
            <a:ext cx="10159920" cy="13715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250" name="Shape 795"/>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3ADE8EC-0A94-4F76-B8C0-66CB13A6DE9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251" name="PlaceHolder 2"/>
          <p:cNvSpPr>
            <a:spLocks noGrp="1"/>
          </p:cNvSpPr>
          <p:nvPr>
            <p:ph type="sldNum" idx="7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548CE463-1115-4B18-90FD-37F94BC0DCDC}"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252"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624" r:id="rId3"/>
    <p:sldLayoutId id="2147484625" r:id="rId4"/>
    <p:sldLayoutId id="2147484626" r:id="rId5"/>
    <p:sldLayoutId id="2147484627" r:id="rId6"/>
    <p:sldLayoutId id="2147484628" r:id="rId7"/>
    <p:sldLayoutId id="2147484629" r:id="rId8"/>
    <p:sldLayoutId id="2147484630" r:id="rId9"/>
    <p:sldLayoutId id="2147484631" r:id="rId10"/>
    <p:sldLayoutId id="2147484632" r:id="rId11"/>
    <p:sldLayoutId id="2147484633" r:id="rId12"/>
    <p:sldLayoutId id="2147484634" r:id="rId13"/>
    <p:sldLayoutId id="2147484635" r:id="rId14"/>
  </p:sldLayoutIdLst>
</p:sldMaster>
</file>

<file path=ppt/slideMasters/slideMaster7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9B1E3E9-09C6-4750-A2C6-5555D592F8E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290" name="pasted-image.pdf" descr=""/>
          <p:cNvPicPr/>
          <p:nvPr/>
        </p:nvPicPr>
        <p:blipFill>
          <a:blip r:embed="rId2"/>
          <a:stretch/>
        </p:blipFill>
        <p:spPr>
          <a:xfrm>
            <a:off x="11176560" y="0"/>
            <a:ext cx="13207320" cy="13715640"/>
          </a:xfrm>
          <a:prstGeom prst="rect">
            <a:avLst/>
          </a:prstGeom>
          <a:ln w="12700">
            <a:noFill/>
          </a:ln>
        </p:spPr>
      </p:pic>
      <p:sp>
        <p:nvSpPr>
          <p:cNvPr id="3291" name="Shape 80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074BE0E-78CA-4EF1-9981-7757667190D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292" name="PlaceHolder 1"/>
          <p:cNvSpPr>
            <a:spLocks noGrp="1"/>
          </p:cNvSpPr>
          <p:nvPr>
            <p:ph type="body"/>
          </p:nvPr>
        </p:nvSpPr>
        <p:spPr>
          <a:xfrm>
            <a:off x="13211640" y="0"/>
            <a:ext cx="10159920" cy="13715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293" name="PlaceHolder 2"/>
          <p:cNvSpPr>
            <a:spLocks noGrp="1"/>
          </p:cNvSpPr>
          <p:nvPr>
            <p:ph type="sldNum" idx="7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A1CB9D3F-2C9B-446E-ABA9-EA53DE0A17DE}"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29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637" r:id="rId3"/>
    <p:sldLayoutId id="2147484638" r:id="rId4"/>
    <p:sldLayoutId id="2147484639" r:id="rId5"/>
    <p:sldLayoutId id="2147484640" r:id="rId6"/>
    <p:sldLayoutId id="2147484641" r:id="rId7"/>
    <p:sldLayoutId id="2147484642" r:id="rId8"/>
    <p:sldLayoutId id="2147484643" r:id="rId9"/>
    <p:sldLayoutId id="2147484644" r:id="rId10"/>
    <p:sldLayoutId id="2147484645" r:id="rId11"/>
    <p:sldLayoutId id="2147484646" r:id="rId12"/>
    <p:sldLayoutId id="2147484647" r:id="rId13"/>
    <p:sldLayoutId id="2147484648" r:id="rId14"/>
  </p:sldLayoutIdLst>
</p:sldMaster>
</file>

<file path=ppt/slideMasters/slideMaster7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00A5DEE-B695-48E8-89EC-DB014718C17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332" name="pasted-image.pdf" descr=""/>
          <p:cNvPicPr/>
          <p:nvPr/>
        </p:nvPicPr>
        <p:blipFill>
          <a:blip r:embed="rId2"/>
          <a:stretch/>
        </p:blipFill>
        <p:spPr>
          <a:xfrm>
            <a:off x="11176560" y="0"/>
            <a:ext cx="13207320" cy="13715640"/>
          </a:xfrm>
          <a:prstGeom prst="rect">
            <a:avLst/>
          </a:prstGeom>
          <a:ln w="12700">
            <a:noFill/>
          </a:ln>
        </p:spPr>
      </p:pic>
      <p:sp>
        <p:nvSpPr>
          <p:cNvPr id="3333" name="Shape 812"/>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961BDF37-61FC-4669-A323-5AEA6076411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334" name="PlaceHolder 1"/>
          <p:cNvSpPr>
            <a:spLocks noGrp="1"/>
          </p:cNvSpPr>
          <p:nvPr>
            <p:ph type="body"/>
          </p:nvPr>
        </p:nvSpPr>
        <p:spPr>
          <a:xfrm>
            <a:off x="12827160" y="3615840"/>
            <a:ext cx="4317480" cy="431748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335" name="PlaceHolder 2"/>
          <p:cNvSpPr>
            <a:spLocks noGrp="1"/>
          </p:cNvSpPr>
          <p:nvPr>
            <p:ph type="body"/>
          </p:nvPr>
        </p:nvSpPr>
        <p:spPr>
          <a:xfrm>
            <a:off x="17518320" y="2031840"/>
            <a:ext cx="4825800" cy="4825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336" name="PlaceHolder 3"/>
          <p:cNvSpPr>
            <a:spLocks noGrp="1"/>
          </p:cNvSpPr>
          <p:nvPr>
            <p:ph type="body"/>
          </p:nvPr>
        </p:nvSpPr>
        <p:spPr>
          <a:xfrm>
            <a:off x="16323120" y="7111080"/>
            <a:ext cx="3809520" cy="38095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337" name="PlaceHolder 4"/>
          <p:cNvSpPr>
            <a:spLocks noGrp="1"/>
          </p:cNvSpPr>
          <p:nvPr>
            <p:ph type="body"/>
          </p:nvPr>
        </p:nvSpPr>
        <p:spPr>
          <a:xfrm>
            <a:off x="12192120" y="8381160"/>
            <a:ext cx="3301560" cy="33015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338" name="PlaceHolder 5"/>
          <p:cNvSpPr>
            <a:spLocks noGrp="1"/>
          </p:cNvSpPr>
          <p:nvPr>
            <p:ph type="sldNum" idx="7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DE711603-62AC-479F-B6D5-AEE7B2C00589}"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339"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650" r:id="rId3"/>
    <p:sldLayoutId id="2147484651" r:id="rId4"/>
    <p:sldLayoutId id="2147484652" r:id="rId5"/>
    <p:sldLayoutId id="2147484653" r:id="rId6"/>
    <p:sldLayoutId id="2147484654" r:id="rId7"/>
    <p:sldLayoutId id="2147484655" r:id="rId8"/>
    <p:sldLayoutId id="2147484656" r:id="rId9"/>
    <p:sldLayoutId id="2147484657" r:id="rId10"/>
    <p:sldLayoutId id="2147484658" r:id="rId11"/>
    <p:sldLayoutId id="2147484659" r:id="rId12"/>
    <p:sldLayoutId id="2147484660" r:id="rId13"/>
    <p:sldLayoutId id="2147484661" r:id="rId14"/>
  </p:sldLayoutIdLst>
</p:sldMaster>
</file>

<file path=ppt/slideMasters/slideMaster7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6"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5AFDD5A-825D-4DB7-92C8-721F9F2C469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377" name="pasted-image.pdf" descr=""/>
          <p:cNvPicPr/>
          <p:nvPr/>
        </p:nvPicPr>
        <p:blipFill>
          <a:blip r:embed="rId2"/>
          <a:stretch/>
        </p:blipFill>
        <p:spPr>
          <a:xfrm>
            <a:off x="11176560" y="0"/>
            <a:ext cx="13207320" cy="13715640"/>
          </a:xfrm>
          <a:prstGeom prst="rect">
            <a:avLst/>
          </a:prstGeom>
          <a:ln w="12700">
            <a:noFill/>
          </a:ln>
        </p:spPr>
      </p:pic>
      <p:sp>
        <p:nvSpPr>
          <p:cNvPr id="3378" name="Shape 824"/>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AC85B1C-D3AA-40FA-914D-CB28B77F0DD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379" name="PlaceHolder 1"/>
          <p:cNvSpPr>
            <a:spLocks noGrp="1"/>
          </p:cNvSpPr>
          <p:nvPr>
            <p:ph type="body"/>
          </p:nvPr>
        </p:nvSpPr>
        <p:spPr>
          <a:xfrm>
            <a:off x="0" y="0"/>
            <a:ext cx="24383880" cy="13715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380" name="PlaceHolder 2"/>
          <p:cNvSpPr>
            <a:spLocks noGrp="1"/>
          </p:cNvSpPr>
          <p:nvPr>
            <p:ph type="sldNum" idx="7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37925F84-9EEC-42FF-BD63-C1E3FCEE495C}"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381"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663" r:id="rId3"/>
    <p:sldLayoutId id="2147484664" r:id="rId4"/>
    <p:sldLayoutId id="2147484665" r:id="rId5"/>
    <p:sldLayoutId id="2147484666" r:id="rId6"/>
    <p:sldLayoutId id="2147484667" r:id="rId7"/>
    <p:sldLayoutId id="2147484668" r:id="rId8"/>
    <p:sldLayoutId id="2147484669" r:id="rId9"/>
    <p:sldLayoutId id="2147484670" r:id="rId10"/>
    <p:sldLayoutId id="2147484671" r:id="rId11"/>
    <p:sldLayoutId id="2147484672" r:id="rId12"/>
    <p:sldLayoutId id="2147484673" r:id="rId13"/>
    <p:sldLayoutId id="2147484674"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C0C4B57-9A74-4CDA-9C46-AC8346054D5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295" name="pasted-image.pdf" descr=""/>
          <p:cNvPicPr/>
          <p:nvPr/>
        </p:nvPicPr>
        <p:blipFill>
          <a:blip r:embed="rId2"/>
          <a:stretch/>
        </p:blipFill>
        <p:spPr>
          <a:xfrm>
            <a:off x="11176560" y="0"/>
            <a:ext cx="13207320" cy="13715640"/>
          </a:xfrm>
          <a:prstGeom prst="rect">
            <a:avLst/>
          </a:prstGeom>
          <a:ln w="12700">
            <a:noFill/>
          </a:ln>
        </p:spPr>
      </p:pic>
      <p:sp>
        <p:nvSpPr>
          <p:cNvPr id="296" name="Shape 66"/>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4451EB2-CE33-4636-BCEC-9D18BA8D407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297" name="PlaceHolder 1"/>
          <p:cNvSpPr>
            <a:spLocks noGrp="1"/>
          </p:cNvSpPr>
          <p:nvPr>
            <p:ph type="body"/>
          </p:nvPr>
        </p:nvSpPr>
        <p:spPr>
          <a:xfrm>
            <a:off x="12477960" y="4317840"/>
            <a:ext cx="8481240" cy="531000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298" name="PlaceHolder 2"/>
          <p:cNvSpPr>
            <a:spLocks noGrp="1"/>
          </p:cNvSpPr>
          <p:nvPr>
            <p:ph type="sldNum" idx="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DCFE02C7-1102-45DC-9B28-77CA716AEC82}"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299"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8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8"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6B255E7-A89D-4059-930C-B638008D8BE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419" name="pasted-image.pdf" descr=""/>
          <p:cNvPicPr/>
          <p:nvPr/>
        </p:nvPicPr>
        <p:blipFill>
          <a:blip r:embed="rId2"/>
          <a:stretch/>
        </p:blipFill>
        <p:spPr>
          <a:xfrm>
            <a:off x="11176560" y="0"/>
            <a:ext cx="13207320" cy="13715640"/>
          </a:xfrm>
          <a:prstGeom prst="rect">
            <a:avLst/>
          </a:prstGeom>
          <a:ln w="12700">
            <a:noFill/>
          </a:ln>
        </p:spPr>
      </p:pic>
      <p:sp>
        <p:nvSpPr>
          <p:cNvPr id="3420" name="Shape 83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761CD03-E494-4397-8A3C-388B6C8A934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421" name="PlaceHolder 1"/>
          <p:cNvSpPr>
            <a:spLocks noGrp="1"/>
          </p:cNvSpPr>
          <p:nvPr>
            <p:ph type="body"/>
          </p:nvPr>
        </p:nvSpPr>
        <p:spPr>
          <a:xfrm>
            <a:off x="0" y="2027880"/>
            <a:ext cx="13203360" cy="96595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422" name="PlaceHolder 2"/>
          <p:cNvSpPr>
            <a:spLocks noGrp="1"/>
          </p:cNvSpPr>
          <p:nvPr>
            <p:ph type="sldNum" idx="80"/>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E24D8E5C-4035-45D3-989B-7D514AFE0908}"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423"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676" r:id="rId3"/>
    <p:sldLayoutId id="2147484677" r:id="rId4"/>
    <p:sldLayoutId id="2147484678" r:id="rId5"/>
    <p:sldLayoutId id="2147484679" r:id="rId6"/>
    <p:sldLayoutId id="2147484680" r:id="rId7"/>
    <p:sldLayoutId id="2147484681" r:id="rId8"/>
    <p:sldLayoutId id="2147484682" r:id="rId9"/>
    <p:sldLayoutId id="2147484683" r:id="rId10"/>
    <p:sldLayoutId id="2147484684" r:id="rId11"/>
    <p:sldLayoutId id="2147484685" r:id="rId12"/>
    <p:sldLayoutId id="2147484686" r:id="rId13"/>
    <p:sldLayoutId id="2147484687" r:id="rId14"/>
  </p:sldLayoutIdLst>
</p:sldMaster>
</file>

<file path=ppt/slideMasters/slideMaster8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0"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74C55DC1-4FD7-4A68-9224-8F0ECA3F80CC}"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461" name="pasted-image.pdf" descr=""/>
          <p:cNvPicPr/>
          <p:nvPr/>
        </p:nvPicPr>
        <p:blipFill>
          <a:blip r:embed="rId2"/>
          <a:stretch/>
        </p:blipFill>
        <p:spPr>
          <a:xfrm>
            <a:off x="11176560" y="0"/>
            <a:ext cx="13207320" cy="13715640"/>
          </a:xfrm>
          <a:prstGeom prst="rect">
            <a:avLst/>
          </a:prstGeom>
          <a:ln w="12700">
            <a:noFill/>
          </a:ln>
        </p:spPr>
      </p:pic>
      <p:sp>
        <p:nvSpPr>
          <p:cNvPr id="3462" name="Shape 842"/>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2336B440-0E7C-4655-A3D3-BBE231C1A76B}"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463" name="PlaceHolder 1"/>
          <p:cNvSpPr>
            <a:spLocks noGrp="1"/>
          </p:cNvSpPr>
          <p:nvPr>
            <p:ph type="body"/>
          </p:nvPr>
        </p:nvSpPr>
        <p:spPr>
          <a:xfrm>
            <a:off x="14612760" y="2020680"/>
            <a:ext cx="7743960" cy="965952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464" name="PlaceHolder 2"/>
          <p:cNvSpPr>
            <a:spLocks noGrp="1"/>
          </p:cNvSpPr>
          <p:nvPr>
            <p:ph type="sldNum" idx="8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FEC20636-D328-4245-BDCD-E1DA013D0A05}"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465"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689" r:id="rId3"/>
    <p:sldLayoutId id="2147484690" r:id="rId4"/>
    <p:sldLayoutId id="2147484691" r:id="rId5"/>
    <p:sldLayoutId id="2147484692" r:id="rId6"/>
    <p:sldLayoutId id="2147484693" r:id="rId7"/>
    <p:sldLayoutId id="2147484694" r:id="rId8"/>
    <p:sldLayoutId id="2147484695" r:id="rId9"/>
    <p:sldLayoutId id="2147484696" r:id="rId10"/>
    <p:sldLayoutId id="2147484697" r:id="rId11"/>
    <p:sldLayoutId id="2147484698" r:id="rId12"/>
    <p:sldLayoutId id="2147484699" r:id="rId13"/>
    <p:sldLayoutId id="2147484700" r:id="rId14"/>
  </p:sldLayoutIdLst>
</p:sldMaster>
</file>

<file path=ppt/slideMasters/slideMaster8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2"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005D5DE-C7D4-4205-A87D-5FEEF40AC17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503" name="pasted-image.pdf" descr=""/>
          <p:cNvPicPr/>
          <p:nvPr/>
        </p:nvPicPr>
        <p:blipFill>
          <a:blip r:embed="rId2"/>
          <a:stretch/>
        </p:blipFill>
        <p:spPr>
          <a:xfrm>
            <a:off x="11176560" y="0"/>
            <a:ext cx="13207320" cy="13715640"/>
          </a:xfrm>
          <a:prstGeom prst="rect">
            <a:avLst/>
          </a:prstGeom>
          <a:ln w="12700">
            <a:noFill/>
          </a:ln>
        </p:spPr>
      </p:pic>
      <p:sp>
        <p:nvSpPr>
          <p:cNvPr id="3504" name="Shape 85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B49662D-CE33-40C4-88D3-B17AD0C6184F}"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505" name="PlaceHolder 1"/>
          <p:cNvSpPr>
            <a:spLocks noGrp="1"/>
          </p:cNvSpPr>
          <p:nvPr>
            <p:ph type="sldNum" idx="8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416823BE-3A7E-48E4-912B-E16841675B8A}"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506" name="PlaceHolder 2"/>
          <p:cNvSpPr>
            <a:spLocks noGrp="1"/>
          </p:cNvSpPr>
          <p:nvPr>
            <p:ph type="body"/>
          </p:nvPr>
        </p:nvSpPr>
        <p:spPr>
          <a:xfrm>
            <a:off x="-3183120" y="2024280"/>
            <a:ext cx="14348160" cy="14348160"/>
          </a:xfrm>
          <a:prstGeom prst="rect">
            <a:avLst/>
          </a:prstGeom>
          <a:pattFill prst="wdUpDiag">
            <a:fgClr>
              <a:srgbClr val="45a4fc"/>
            </a:fgClr>
            <a:bgClr>
              <a:srgbClr val="dcdee0"/>
            </a:bgClr>
          </a:pattFill>
          <a:ln w="0">
            <a:noFill/>
          </a:ln>
        </p:spPr>
        <p:txBody>
          <a:bodyPr lIns="90000" rIns="90000" tIns="45000" bIns="45000" anchor="ctr">
            <a:noAutofit/>
          </a:bodyPr>
          <a:p>
            <a:pPr indent="0" algn="ctr">
              <a:lnSpc>
                <a:spcPct val="120000"/>
              </a:lnSpc>
              <a:buNone/>
              <a:tabLst>
                <a:tab algn="l" pos="0"/>
              </a:tabLst>
            </a:pPr>
            <a:r>
              <a:rPr b="0" lang="de-DE" sz="1600" spc="-1" strike="noStrike">
                <a:solidFill>
                  <a:srgbClr val="009193"/>
                </a:solidFill>
                <a:latin typeface="Titillium"/>
                <a:ea typeface="Titillium"/>
              </a:rPr>
              <a:t>Drop Image here</a:t>
            </a:r>
            <a:endParaRPr b="0" lang="en-US" sz="1600" spc="-1" strike="noStrike">
              <a:solidFill>
                <a:srgbClr val="5e5e5e"/>
              </a:solidFill>
              <a:latin typeface="Montserrat Light"/>
            </a:endParaRPr>
          </a:p>
        </p:txBody>
      </p:sp>
      <p:sp>
        <p:nvSpPr>
          <p:cNvPr id="3507"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702" r:id="rId3"/>
    <p:sldLayoutId id="2147484703" r:id="rId4"/>
    <p:sldLayoutId id="2147484704" r:id="rId5"/>
    <p:sldLayoutId id="2147484705" r:id="rId6"/>
    <p:sldLayoutId id="2147484706" r:id="rId7"/>
    <p:sldLayoutId id="2147484707" r:id="rId8"/>
    <p:sldLayoutId id="2147484708" r:id="rId9"/>
    <p:sldLayoutId id="2147484709" r:id="rId10"/>
    <p:sldLayoutId id="2147484710" r:id="rId11"/>
    <p:sldLayoutId id="2147484711" r:id="rId12"/>
    <p:sldLayoutId id="2147484712" r:id="rId13"/>
    <p:sldLayoutId id="2147484713" r:id="rId14"/>
  </p:sldLayoutIdLst>
</p:sldMaster>
</file>

<file path=ppt/slideMasters/slideMaster8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652A82C-7158-4903-9267-42F15A9BB9B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545" name="pasted-image.pdf" descr=""/>
          <p:cNvPicPr/>
          <p:nvPr/>
        </p:nvPicPr>
        <p:blipFill>
          <a:blip r:embed="rId2"/>
          <a:stretch/>
        </p:blipFill>
        <p:spPr>
          <a:xfrm>
            <a:off x="11176560" y="0"/>
            <a:ext cx="13207320" cy="13715640"/>
          </a:xfrm>
          <a:prstGeom prst="rect">
            <a:avLst/>
          </a:prstGeom>
          <a:ln w="12700">
            <a:noFill/>
          </a:ln>
        </p:spPr>
      </p:pic>
      <p:sp>
        <p:nvSpPr>
          <p:cNvPr id="3546" name="Shape 86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C25FE3F-3E7C-45E1-B1F9-7EAE3C83EC2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547" name="Shape 861"/>
          <p:cNvSpPr/>
          <p:nvPr/>
        </p:nvSpPr>
        <p:spPr>
          <a:xfrm>
            <a:off x="0" y="0"/>
            <a:ext cx="12191760" cy="13715640"/>
          </a:xfrm>
          <a:prstGeom prst="rect">
            <a:avLst/>
          </a:prstGeom>
          <a:solidFill>
            <a:srgbClr val="21212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548" name="PlaceHolder 1"/>
          <p:cNvSpPr>
            <a:spLocks noGrp="1"/>
          </p:cNvSpPr>
          <p:nvPr>
            <p:ph type="body"/>
          </p:nvPr>
        </p:nvSpPr>
        <p:spPr>
          <a:xfrm>
            <a:off x="12192120" y="-8640"/>
            <a:ext cx="12194640" cy="137329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549" name="PlaceHolder 2"/>
          <p:cNvSpPr>
            <a:spLocks noGrp="1"/>
          </p:cNvSpPr>
          <p:nvPr>
            <p:ph type="sldNum" idx="8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7EC5A4CE-CAFB-453C-9894-B6E5AB4B5CBF}"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550"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715" r:id="rId3"/>
    <p:sldLayoutId id="2147484716" r:id="rId4"/>
    <p:sldLayoutId id="2147484717" r:id="rId5"/>
    <p:sldLayoutId id="2147484718" r:id="rId6"/>
    <p:sldLayoutId id="2147484719" r:id="rId7"/>
    <p:sldLayoutId id="2147484720" r:id="rId8"/>
    <p:sldLayoutId id="2147484721" r:id="rId9"/>
    <p:sldLayoutId id="2147484722" r:id="rId10"/>
    <p:sldLayoutId id="2147484723" r:id="rId11"/>
    <p:sldLayoutId id="2147484724" r:id="rId12"/>
    <p:sldLayoutId id="2147484725" r:id="rId13"/>
    <p:sldLayoutId id="2147484726" r:id="rId14"/>
  </p:sldLayoutIdLst>
</p:sldMaster>
</file>

<file path=ppt/slideMasters/slideMaster8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7"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DCAC2C5-328D-4D16-A0FE-8CED0366651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588" name="pasted-image.pdf" descr=""/>
          <p:cNvPicPr/>
          <p:nvPr/>
        </p:nvPicPr>
        <p:blipFill>
          <a:blip r:embed="rId2"/>
          <a:stretch/>
        </p:blipFill>
        <p:spPr>
          <a:xfrm>
            <a:off x="11176560" y="0"/>
            <a:ext cx="13207320" cy="13715640"/>
          </a:xfrm>
          <a:prstGeom prst="rect">
            <a:avLst/>
          </a:prstGeom>
          <a:ln w="12700">
            <a:noFill/>
          </a:ln>
        </p:spPr>
      </p:pic>
      <p:sp>
        <p:nvSpPr>
          <p:cNvPr id="3589" name="Shape 87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F74507D-61B2-4F71-81B0-F23F5174CE3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590" name="PlaceHolder 1"/>
          <p:cNvSpPr>
            <a:spLocks noGrp="1"/>
          </p:cNvSpPr>
          <p:nvPr>
            <p:ph type="body"/>
          </p:nvPr>
        </p:nvSpPr>
        <p:spPr>
          <a:xfrm>
            <a:off x="0" y="0"/>
            <a:ext cx="10159560" cy="137329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591" name="PlaceHolder 2"/>
          <p:cNvSpPr>
            <a:spLocks noGrp="1"/>
          </p:cNvSpPr>
          <p:nvPr>
            <p:ph type="sldNum" idx="8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D33FECDE-BBB4-4BD4-9E41-AE23EEFD8519}"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592"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728" r:id="rId3"/>
    <p:sldLayoutId id="2147484729" r:id="rId4"/>
    <p:sldLayoutId id="2147484730" r:id="rId5"/>
    <p:sldLayoutId id="2147484731" r:id="rId6"/>
    <p:sldLayoutId id="2147484732" r:id="rId7"/>
    <p:sldLayoutId id="2147484733" r:id="rId8"/>
    <p:sldLayoutId id="2147484734" r:id="rId9"/>
    <p:sldLayoutId id="2147484735" r:id="rId10"/>
    <p:sldLayoutId id="2147484736" r:id="rId11"/>
    <p:sldLayoutId id="2147484737" r:id="rId12"/>
    <p:sldLayoutId id="2147484738" r:id="rId13"/>
    <p:sldLayoutId id="2147484739" r:id="rId14"/>
  </p:sldLayoutIdLst>
</p:sldMaster>
</file>

<file path=ppt/slideMasters/slideMaster8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CDC94610-050E-4FFF-A614-22837AF0EE5D}"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630" name="pasted-image.pdf" descr=""/>
          <p:cNvPicPr/>
          <p:nvPr/>
        </p:nvPicPr>
        <p:blipFill>
          <a:blip r:embed="rId2"/>
          <a:stretch/>
        </p:blipFill>
        <p:spPr>
          <a:xfrm>
            <a:off x="11176560" y="0"/>
            <a:ext cx="13207320" cy="13715640"/>
          </a:xfrm>
          <a:prstGeom prst="rect">
            <a:avLst/>
          </a:prstGeom>
          <a:ln w="12700">
            <a:noFill/>
          </a:ln>
        </p:spPr>
      </p:pic>
      <p:sp>
        <p:nvSpPr>
          <p:cNvPr id="3631" name="Shape 87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BA230CD-DD47-4DFA-8074-FC553113512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632" name="PlaceHolder 1"/>
          <p:cNvSpPr>
            <a:spLocks noGrp="1"/>
          </p:cNvSpPr>
          <p:nvPr>
            <p:ph type="body"/>
          </p:nvPr>
        </p:nvSpPr>
        <p:spPr>
          <a:xfrm>
            <a:off x="0" y="0"/>
            <a:ext cx="24383520" cy="6857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633" name="PlaceHolder 2"/>
          <p:cNvSpPr>
            <a:spLocks noGrp="1"/>
          </p:cNvSpPr>
          <p:nvPr>
            <p:ph type="sldNum" idx="8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557EE554-B914-4314-8C69-1C540A6ED84B}"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63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741" r:id="rId3"/>
    <p:sldLayoutId id="2147484742" r:id="rId4"/>
    <p:sldLayoutId id="2147484743" r:id="rId5"/>
    <p:sldLayoutId id="2147484744" r:id="rId6"/>
    <p:sldLayoutId id="2147484745" r:id="rId7"/>
    <p:sldLayoutId id="2147484746" r:id="rId8"/>
    <p:sldLayoutId id="2147484747" r:id="rId9"/>
    <p:sldLayoutId id="2147484748" r:id="rId10"/>
    <p:sldLayoutId id="2147484749" r:id="rId11"/>
    <p:sldLayoutId id="2147484750" r:id="rId12"/>
    <p:sldLayoutId id="2147484751" r:id="rId13"/>
    <p:sldLayoutId id="2147484752" r:id="rId14"/>
  </p:sldLayoutIdLst>
</p:sldMaster>
</file>

<file path=ppt/slideMasters/slideMaster8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6EED4EF-BB1F-43CB-B5D6-5A8E4A211430}"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672" name="pasted-image.pdf" descr=""/>
          <p:cNvPicPr/>
          <p:nvPr/>
        </p:nvPicPr>
        <p:blipFill>
          <a:blip r:embed="rId2"/>
          <a:stretch/>
        </p:blipFill>
        <p:spPr>
          <a:xfrm>
            <a:off x="11176560" y="0"/>
            <a:ext cx="13207320" cy="13715640"/>
          </a:xfrm>
          <a:prstGeom prst="rect">
            <a:avLst/>
          </a:prstGeom>
          <a:ln w="12700">
            <a:noFill/>
          </a:ln>
        </p:spPr>
      </p:pic>
      <p:sp>
        <p:nvSpPr>
          <p:cNvPr id="3673" name="Shape 88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C824E72-39BB-4F41-8F41-7120C5181D2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674" name="Shape 889"/>
          <p:cNvSpPr/>
          <p:nvPr/>
        </p:nvSpPr>
        <p:spPr>
          <a:xfrm>
            <a:off x="0" y="0"/>
            <a:ext cx="12190320" cy="6858000"/>
          </a:xfrm>
          <a:prstGeom prst="rect">
            <a:avLst/>
          </a:prstGeom>
          <a:solidFill>
            <a:srgbClr val="21212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3675" name="PlaceHolder 1"/>
          <p:cNvSpPr>
            <a:spLocks noGrp="1"/>
          </p:cNvSpPr>
          <p:nvPr>
            <p:ph type="body"/>
          </p:nvPr>
        </p:nvSpPr>
        <p:spPr>
          <a:xfrm>
            <a:off x="12201480" y="0"/>
            <a:ext cx="12190320" cy="6857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676" name="PlaceHolder 2"/>
          <p:cNvSpPr>
            <a:spLocks noGrp="1"/>
          </p:cNvSpPr>
          <p:nvPr>
            <p:ph type="sldNum" idx="8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F25080C9-C9B6-431F-8E1F-B70789EBCA78}"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677"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754" r:id="rId3"/>
    <p:sldLayoutId id="2147484755" r:id="rId4"/>
    <p:sldLayoutId id="2147484756" r:id="rId5"/>
    <p:sldLayoutId id="2147484757" r:id="rId6"/>
    <p:sldLayoutId id="2147484758" r:id="rId7"/>
    <p:sldLayoutId id="2147484759" r:id="rId8"/>
    <p:sldLayoutId id="2147484760" r:id="rId9"/>
    <p:sldLayoutId id="2147484761" r:id="rId10"/>
    <p:sldLayoutId id="2147484762" r:id="rId11"/>
    <p:sldLayoutId id="2147484763" r:id="rId12"/>
    <p:sldLayoutId id="2147484764" r:id="rId13"/>
    <p:sldLayoutId id="2147484765" r:id="rId14"/>
  </p:sldLayoutIdLst>
</p:sldMaster>
</file>

<file path=ppt/slideMasters/slideMaster8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14"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18936D5-9F20-4579-ABA5-F6B7FACD7A7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715" name="pasted-image.pdf" descr=""/>
          <p:cNvPicPr/>
          <p:nvPr/>
        </p:nvPicPr>
        <p:blipFill>
          <a:blip r:embed="rId2"/>
          <a:stretch/>
        </p:blipFill>
        <p:spPr>
          <a:xfrm>
            <a:off x="11176560" y="0"/>
            <a:ext cx="13207320" cy="13715640"/>
          </a:xfrm>
          <a:prstGeom prst="rect">
            <a:avLst/>
          </a:prstGeom>
          <a:ln w="12700">
            <a:noFill/>
          </a:ln>
        </p:spPr>
      </p:pic>
      <p:sp>
        <p:nvSpPr>
          <p:cNvPr id="3716" name="Shape 89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1BB7E96-30FE-4033-9B36-E60D2E85EA0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717" name="PlaceHolder 1"/>
          <p:cNvSpPr>
            <a:spLocks noGrp="1"/>
          </p:cNvSpPr>
          <p:nvPr>
            <p:ph type="body"/>
          </p:nvPr>
        </p:nvSpPr>
        <p:spPr>
          <a:xfrm>
            <a:off x="2363400" y="446040"/>
            <a:ext cx="5136120" cy="64065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718" name="PlaceHolder 2"/>
          <p:cNvSpPr>
            <a:spLocks noGrp="1"/>
          </p:cNvSpPr>
          <p:nvPr>
            <p:ph type="body"/>
          </p:nvPr>
        </p:nvSpPr>
        <p:spPr>
          <a:xfrm>
            <a:off x="7499880" y="446040"/>
            <a:ext cx="5136120" cy="64065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719" name="PlaceHolder 3"/>
          <p:cNvSpPr>
            <a:spLocks noGrp="1"/>
          </p:cNvSpPr>
          <p:nvPr>
            <p:ph type="body"/>
          </p:nvPr>
        </p:nvSpPr>
        <p:spPr>
          <a:xfrm>
            <a:off x="1440" y="6858000"/>
            <a:ext cx="5136120" cy="64065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720" name="PlaceHolder 4"/>
          <p:cNvSpPr>
            <a:spLocks noGrp="1"/>
          </p:cNvSpPr>
          <p:nvPr>
            <p:ph type="body"/>
          </p:nvPr>
        </p:nvSpPr>
        <p:spPr>
          <a:xfrm>
            <a:off x="5137920" y="6858000"/>
            <a:ext cx="5136120" cy="64065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721" name="PlaceHolder 5"/>
          <p:cNvSpPr>
            <a:spLocks noGrp="1"/>
          </p:cNvSpPr>
          <p:nvPr>
            <p:ph type="sldNum" idx="8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CE7B59A2-1B5D-40DB-9817-B3981259A610}"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722"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767" r:id="rId3"/>
    <p:sldLayoutId id="2147484768" r:id="rId4"/>
    <p:sldLayoutId id="2147484769" r:id="rId5"/>
    <p:sldLayoutId id="2147484770" r:id="rId6"/>
    <p:sldLayoutId id="2147484771" r:id="rId7"/>
    <p:sldLayoutId id="2147484772" r:id="rId8"/>
    <p:sldLayoutId id="2147484773" r:id="rId9"/>
    <p:sldLayoutId id="2147484774" r:id="rId10"/>
    <p:sldLayoutId id="2147484775" r:id="rId11"/>
    <p:sldLayoutId id="2147484776" r:id="rId12"/>
    <p:sldLayoutId id="2147484777" r:id="rId13"/>
    <p:sldLayoutId id="2147484778" r:id="rId14"/>
  </p:sldLayoutIdLst>
</p:sldMaster>
</file>

<file path=ppt/slideMasters/slideMaster8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ABEC181-22B6-4536-BED6-4EE03B894CF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760" name="pasted-image.pdf" descr=""/>
          <p:cNvPicPr/>
          <p:nvPr/>
        </p:nvPicPr>
        <p:blipFill>
          <a:blip r:embed="rId2"/>
          <a:stretch/>
        </p:blipFill>
        <p:spPr>
          <a:xfrm>
            <a:off x="11176560" y="0"/>
            <a:ext cx="13207320" cy="13715640"/>
          </a:xfrm>
          <a:prstGeom prst="rect">
            <a:avLst/>
          </a:prstGeom>
          <a:ln w="12700">
            <a:noFill/>
          </a:ln>
        </p:spPr>
      </p:pic>
      <p:sp>
        <p:nvSpPr>
          <p:cNvPr id="3761" name="Shape 91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59F399B-759B-48FF-A36D-F7526C722C8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762" name="PlaceHolder 1"/>
          <p:cNvSpPr>
            <a:spLocks noGrp="1"/>
          </p:cNvSpPr>
          <p:nvPr>
            <p:ph type="body"/>
          </p:nvPr>
        </p:nvSpPr>
        <p:spPr>
          <a:xfrm>
            <a:off x="15071400" y="2015280"/>
            <a:ext cx="7743960" cy="96595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763" name="PlaceHolder 2"/>
          <p:cNvSpPr>
            <a:spLocks noGrp="1"/>
          </p:cNvSpPr>
          <p:nvPr>
            <p:ph type="body"/>
          </p:nvPr>
        </p:nvSpPr>
        <p:spPr>
          <a:xfrm>
            <a:off x="10978560" y="6573240"/>
            <a:ext cx="4092480" cy="5104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764" name="PlaceHolder 3"/>
          <p:cNvSpPr>
            <a:spLocks noGrp="1"/>
          </p:cNvSpPr>
          <p:nvPr>
            <p:ph type="sldNum" idx="88"/>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AD01D546-3F8B-4A99-BF95-F4B24E11EFD9}"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765" name="PlaceHolder 4"/>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780" r:id="rId3"/>
    <p:sldLayoutId id="2147484781" r:id="rId4"/>
    <p:sldLayoutId id="2147484782" r:id="rId5"/>
    <p:sldLayoutId id="2147484783" r:id="rId6"/>
    <p:sldLayoutId id="2147484784" r:id="rId7"/>
    <p:sldLayoutId id="2147484785" r:id="rId8"/>
    <p:sldLayoutId id="2147484786" r:id="rId9"/>
    <p:sldLayoutId id="2147484787" r:id="rId10"/>
    <p:sldLayoutId id="2147484788" r:id="rId11"/>
    <p:sldLayoutId id="2147484789" r:id="rId12"/>
    <p:sldLayoutId id="2147484790" r:id="rId13"/>
    <p:sldLayoutId id="2147484791" r:id="rId14"/>
  </p:sldLayoutIdLst>
</p:sldMaster>
</file>

<file path=ppt/slideMasters/slideMaster8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2"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5BED9242-3D45-4543-AAF6-7D163C201309}"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803" name="pasted-image.pdf" descr=""/>
          <p:cNvPicPr/>
          <p:nvPr/>
        </p:nvPicPr>
        <p:blipFill>
          <a:blip r:embed="rId2"/>
          <a:stretch/>
        </p:blipFill>
        <p:spPr>
          <a:xfrm>
            <a:off x="11176560" y="0"/>
            <a:ext cx="13207320" cy="13715640"/>
          </a:xfrm>
          <a:prstGeom prst="rect">
            <a:avLst/>
          </a:prstGeom>
          <a:ln w="12700">
            <a:noFill/>
          </a:ln>
        </p:spPr>
      </p:pic>
      <p:sp>
        <p:nvSpPr>
          <p:cNvPr id="3804" name="PlaceHolder 1"/>
          <p:cNvSpPr>
            <a:spLocks noGrp="1"/>
          </p:cNvSpPr>
          <p:nvPr>
            <p:ph type="body"/>
          </p:nvPr>
        </p:nvSpPr>
        <p:spPr>
          <a:xfrm>
            <a:off x="12193200" y="2025720"/>
            <a:ext cx="5036760" cy="4774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805" name="PlaceHolder 2"/>
          <p:cNvSpPr>
            <a:spLocks noGrp="1"/>
          </p:cNvSpPr>
          <p:nvPr>
            <p:ph type="body"/>
          </p:nvPr>
        </p:nvSpPr>
        <p:spPr>
          <a:xfrm>
            <a:off x="17332560" y="2025720"/>
            <a:ext cx="5036760" cy="4774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806" name="PlaceHolder 3"/>
          <p:cNvSpPr>
            <a:spLocks noGrp="1"/>
          </p:cNvSpPr>
          <p:nvPr>
            <p:ph type="body"/>
          </p:nvPr>
        </p:nvSpPr>
        <p:spPr>
          <a:xfrm>
            <a:off x="17340120" y="6919920"/>
            <a:ext cx="5036760" cy="4774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807" name="PlaceHolder 4"/>
          <p:cNvSpPr>
            <a:spLocks noGrp="1"/>
          </p:cNvSpPr>
          <p:nvPr>
            <p:ph type="body"/>
          </p:nvPr>
        </p:nvSpPr>
        <p:spPr>
          <a:xfrm>
            <a:off x="12189600" y="6919920"/>
            <a:ext cx="5036760" cy="47746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808" name="Shape 924"/>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FCFE7287-745C-48A5-966F-3A0FF533EEA8}"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809" name="PlaceHolder 5"/>
          <p:cNvSpPr>
            <a:spLocks noGrp="1"/>
          </p:cNvSpPr>
          <p:nvPr>
            <p:ph type="sldNum" idx="8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0CB3A7E-0E57-445C-93BF-B5C648583BCE}"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810"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793" r:id="rId3"/>
    <p:sldLayoutId id="2147484794" r:id="rId4"/>
    <p:sldLayoutId id="2147484795" r:id="rId5"/>
    <p:sldLayoutId id="2147484796" r:id="rId6"/>
    <p:sldLayoutId id="2147484797" r:id="rId7"/>
    <p:sldLayoutId id="2147484798" r:id="rId8"/>
    <p:sldLayoutId id="2147484799" r:id="rId9"/>
    <p:sldLayoutId id="2147484800" r:id="rId10"/>
    <p:sldLayoutId id="2147484801" r:id="rId11"/>
    <p:sldLayoutId id="2147484802" r:id="rId12"/>
    <p:sldLayoutId id="2147484803" r:id="rId13"/>
    <p:sldLayoutId id="2147484804"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1831ED0-2C65-4DFA-B99A-BC222FFFB08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37" name="pasted-image.pdf" descr=""/>
          <p:cNvPicPr/>
          <p:nvPr/>
        </p:nvPicPr>
        <p:blipFill>
          <a:blip r:embed="rId2"/>
          <a:stretch/>
        </p:blipFill>
        <p:spPr>
          <a:xfrm>
            <a:off x="11176560" y="0"/>
            <a:ext cx="13207320" cy="13715640"/>
          </a:xfrm>
          <a:prstGeom prst="rect">
            <a:avLst/>
          </a:prstGeom>
          <a:ln w="12700">
            <a:noFill/>
          </a:ln>
        </p:spPr>
      </p:pic>
      <p:sp>
        <p:nvSpPr>
          <p:cNvPr id="338" name="Shape 75"/>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EA30FE1-9ECC-4944-8AF8-1356A6E953A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39" name="PlaceHolder 1"/>
          <p:cNvSpPr>
            <a:spLocks noGrp="1"/>
          </p:cNvSpPr>
          <p:nvPr>
            <p:ph type="body"/>
          </p:nvPr>
        </p:nvSpPr>
        <p:spPr>
          <a:xfrm>
            <a:off x="0" y="0"/>
            <a:ext cx="6095520" cy="457164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40" name="PlaceHolder 2"/>
          <p:cNvSpPr>
            <a:spLocks noGrp="1"/>
          </p:cNvSpPr>
          <p:nvPr>
            <p:ph type="body"/>
          </p:nvPr>
        </p:nvSpPr>
        <p:spPr>
          <a:xfrm>
            <a:off x="6095880" y="0"/>
            <a:ext cx="6095520" cy="457164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41" name="PlaceHolder 3"/>
          <p:cNvSpPr>
            <a:spLocks noGrp="1"/>
          </p:cNvSpPr>
          <p:nvPr>
            <p:ph type="body"/>
          </p:nvPr>
        </p:nvSpPr>
        <p:spPr>
          <a:xfrm>
            <a:off x="12192120" y="0"/>
            <a:ext cx="6095520" cy="457164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42" name="PlaceHolder 4"/>
          <p:cNvSpPr>
            <a:spLocks noGrp="1"/>
          </p:cNvSpPr>
          <p:nvPr>
            <p:ph type="body"/>
          </p:nvPr>
        </p:nvSpPr>
        <p:spPr>
          <a:xfrm>
            <a:off x="18288000" y="0"/>
            <a:ext cx="6095520" cy="4571640"/>
          </a:xfrm>
          <a:prstGeom prst="rect">
            <a:avLst/>
          </a:prstGeom>
          <a:pattFill prst="wdUpDiag">
            <a:fgClr>
              <a:srgbClr val="45a4fc"/>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43" name="PlaceHolder 5"/>
          <p:cNvSpPr>
            <a:spLocks noGrp="1"/>
          </p:cNvSpPr>
          <p:nvPr>
            <p:ph type="sldNum" idx="9"/>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FC17FA2B-4CE1-46AA-A2F5-4CC37E9C2EFA}"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44" name="PlaceHolder 6"/>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Masters/slideMaster9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7"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1907E765-9206-4BFE-8109-DA044A71CDB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848" name="pasted-image.pdf" descr=""/>
          <p:cNvPicPr/>
          <p:nvPr/>
        </p:nvPicPr>
        <p:blipFill>
          <a:blip r:embed="rId2"/>
          <a:stretch/>
        </p:blipFill>
        <p:spPr>
          <a:xfrm>
            <a:off x="11176560" y="0"/>
            <a:ext cx="13207320" cy="13715640"/>
          </a:xfrm>
          <a:prstGeom prst="rect">
            <a:avLst/>
          </a:prstGeom>
          <a:ln w="12700">
            <a:noFill/>
          </a:ln>
        </p:spPr>
      </p:pic>
      <p:sp>
        <p:nvSpPr>
          <p:cNvPr id="3849" name="Shape 932"/>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E5922DB6-6B95-4B93-BF2D-5D8398B8496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850" name="PlaceHolder 1"/>
          <p:cNvSpPr>
            <a:spLocks noGrp="1"/>
          </p:cNvSpPr>
          <p:nvPr>
            <p:ph type="body"/>
          </p:nvPr>
        </p:nvSpPr>
        <p:spPr>
          <a:xfrm>
            <a:off x="0" y="0"/>
            <a:ext cx="1829196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851" name="PlaceHolder 2"/>
          <p:cNvSpPr>
            <a:spLocks noGrp="1"/>
          </p:cNvSpPr>
          <p:nvPr>
            <p:ph type="sldNum" idx="90"/>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D9E7DD7C-9896-4225-9FF9-25CD49DE95E7}"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852"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806" r:id="rId3"/>
    <p:sldLayoutId id="2147484807" r:id="rId4"/>
    <p:sldLayoutId id="2147484808" r:id="rId5"/>
    <p:sldLayoutId id="2147484809" r:id="rId6"/>
    <p:sldLayoutId id="2147484810" r:id="rId7"/>
    <p:sldLayoutId id="2147484811" r:id="rId8"/>
    <p:sldLayoutId id="2147484812" r:id="rId9"/>
    <p:sldLayoutId id="2147484813" r:id="rId10"/>
    <p:sldLayoutId id="2147484814" r:id="rId11"/>
    <p:sldLayoutId id="2147484815" r:id="rId12"/>
    <p:sldLayoutId id="2147484816" r:id="rId13"/>
    <p:sldLayoutId id="2147484817" r:id="rId14"/>
  </p:sldLayoutIdLst>
</p:sldMaster>
</file>

<file path=ppt/slideMasters/slideMaster9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9"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2443443-E556-442A-8542-BBC6BC81E053}"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890" name="pasted-image.pdf" descr=""/>
          <p:cNvPicPr/>
          <p:nvPr/>
        </p:nvPicPr>
        <p:blipFill>
          <a:blip r:embed="rId2"/>
          <a:stretch/>
        </p:blipFill>
        <p:spPr>
          <a:xfrm>
            <a:off x="11176560" y="0"/>
            <a:ext cx="13207320" cy="13715640"/>
          </a:xfrm>
          <a:prstGeom prst="rect">
            <a:avLst/>
          </a:prstGeom>
          <a:ln w="12700">
            <a:noFill/>
          </a:ln>
        </p:spPr>
      </p:pic>
      <p:sp>
        <p:nvSpPr>
          <p:cNvPr id="3891" name="Shape 94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255CD2D-CE47-44A5-849F-BF8E75A538A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892" name="PlaceHolder 1"/>
          <p:cNvSpPr>
            <a:spLocks noGrp="1"/>
          </p:cNvSpPr>
          <p:nvPr>
            <p:ph type="body"/>
          </p:nvPr>
        </p:nvSpPr>
        <p:spPr>
          <a:xfrm>
            <a:off x="0" y="0"/>
            <a:ext cx="1218600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893" name="PlaceHolder 2"/>
          <p:cNvSpPr>
            <a:spLocks noGrp="1"/>
          </p:cNvSpPr>
          <p:nvPr>
            <p:ph type="sldNum" idx="91"/>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4245A898-726B-4A52-BB11-0B533B336D17}"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894"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819" r:id="rId3"/>
    <p:sldLayoutId id="2147484820" r:id="rId4"/>
    <p:sldLayoutId id="2147484821" r:id="rId5"/>
    <p:sldLayoutId id="2147484822" r:id="rId6"/>
    <p:sldLayoutId id="2147484823" r:id="rId7"/>
    <p:sldLayoutId id="2147484824" r:id="rId8"/>
    <p:sldLayoutId id="2147484825" r:id="rId9"/>
    <p:sldLayoutId id="2147484826" r:id="rId10"/>
    <p:sldLayoutId id="2147484827" r:id="rId11"/>
    <p:sldLayoutId id="2147484828" r:id="rId12"/>
    <p:sldLayoutId id="2147484829" r:id="rId13"/>
    <p:sldLayoutId id="2147484830" r:id="rId14"/>
  </p:sldLayoutIdLst>
</p:sldMaster>
</file>

<file path=ppt/slideMasters/slideMaster9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6E9A05DF-9C96-401F-A12B-1CDCFC27165A}"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932" name="pasted-image.pdf" descr=""/>
          <p:cNvPicPr/>
          <p:nvPr/>
        </p:nvPicPr>
        <p:blipFill>
          <a:blip r:embed="rId2"/>
          <a:stretch/>
        </p:blipFill>
        <p:spPr>
          <a:xfrm>
            <a:off x="11176560" y="0"/>
            <a:ext cx="13207320" cy="13715640"/>
          </a:xfrm>
          <a:prstGeom prst="rect">
            <a:avLst/>
          </a:prstGeom>
          <a:ln w="12700">
            <a:noFill/>
          </a:ln>
        </p:spPr>
      </p:pic>
      <p:sp>
        <p:nvSpPr>
          <p:cNvPr id="3933" name="Shape 950"/>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A30254AD-FBFD-4F68-B84A-A4CDD08FABF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934" name="PlaceHolder 1"/>
          <p:cNvSpPr>
            <a:spLocks noGrp="1"/>
          </p:cNvSpPr>
          <p:nvPr>
            <p:ph type="body"/>
          </p:nvPr>
        </p:nvSpPr>
        <p:spPr>
          <a:xfrm>
            <a:off x="0" y="0"/>
            <a:ext cx="2438352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935" name="PlaceHolder 2"/>
          <p:cNvSpPr>
            <a:spLocks noGrp="1"/>
          </p:cNvSpPr>
          <p:nvPr>
            <p:ph type="sldNum" idx="92"/>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65F60A88-EF47-4278-A40E-644CB228FB1D}"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93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832" r:id="rId3"/>
    <p:sldLayoutId id="2147484833" r:id="rId4"/>
    <p:sldLayoutId id="2147484834" r:id="rId5"/>
    <p:sldLayoutId id="2147484835" r:id="rId6"/>
    <p:sldLayoutId id="2147484836" r:id="rId7"/>
    <p:sldLayoutId id="2147484837" r:id="rId8"/>
    <p:sldLayoutId id="2147484838" r:id="rId9"/>
    <p:sldLayoutId id="2147484839" r:id="rId10"/>
    <p:sldLayoutId id="2147484840" r:id="rId11"/>
    <p:sldLayoutId id="2147484841" r:id="rId12"/>
    <p:sldLayoutId id="2147484842" r:id="rId13"/>
    <p:sldLayoutId id="2147484843" r:id="rId14"/>
  </p:sldLayoutIdLst>
</p:sldMaster>
</file>

<file path=ppt/slideMasters/slideMaster9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B236D51-2A13-46B6-AFAD-A8735902FDA6}"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3974" name="pasted-image.pdf" descr=""/>
          <p:cNvPicPr/>
          <p:nvPr/>
        </p:nvPicPr>
        <p:blipFill>
          <a:blip r:embed="rId2"/>
          <a:stretch/>
        </p:blipFill>
        <p:spPr>
          <a:xfrm>
            <a:off x="11176560" y="0"/>
            <a:ext cx="13207320" cy="13715640"/>
          </a:xfrm>
          <a:prstGeom prst="rect">
            <a:avLst/>
          </a:prstGeom>
          <a:ln w="12700">
            <a:noFill/>
          </a:ln>
        </p:spPr>
      </p:pic>
      <p:sp>
        <p:nvSpPr>
          <p:cNvPr id="3975" name="Shape 959"/>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63ABE9B7-AC75-4C50-8CB6-06330BEBBCD1}"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3976" name="PlaceHolder 1"/>
          <p:cNvSpPr>
            <a:spLocks noGrp="1"/>
          </p:cNvSpPr>
          <p:nvPr>
            <p:ph type="body"/>
          </p:nvPr>
        </p:nvSpPr>
        <p:spPr>
          <a:xfrm>
            <a:off x="2035080" y="2038680"/>
            <a:ext cx="10154160" cy="9638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3977" name="PlaceHolder 2"/>
          <p:cNvSpPr>
            <a:spLocks noGrp="1"/>
          </p:cNvSpPr>
          <p:nvPr>
            <p:ph type="sldNum" idx="93"/>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00AFCC66-6591-4CA4-8BC0-F6084D6E45B1}"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397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845" r:id="rId3"/>
    <p:sldLayoutId id="2147484846" r:id="rId4"/>
    <p:sldLayoutId id="2147484847" r:id="rId5"/>
    <p:sldLayoutId id="2147484848" r:id="rId6"/>
    <p:sldLayoutId id="2147484849" r:id="rId7"/>
    <p:sldLayoutId id="2147484850" r:id="rId8"/>
    <p:sldLayoutId id="2147484851" r:id="rId9"/>
    <p:sldLayoutId id="2147484852" r:id="rId10"/>
    <p:sldLayoutId id="2147484853" r:id="rId11"/>
    <p:sldLayoutId id="2147484854" r:id="rId12"/>
    <p:sldLayoutId id="2147484855" r:id="rId13"/>
    <p:sldLayoutId id="2147484856" r:id="rId14"/>
  </p:sldLayoutIdLst>
</p:sldMaster>
</file>

<file path=ppt/slideMasters/slideMaster9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8E95620-8ED8-4081-8812-432997DE5B2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4016" name="pasted-image.pdf" descr=""/>
          <p:cNvPicPr/>
          <p:nvPr/>
        </p:nvPicPr>
        <p:blipFill>
          <a:blip r:embed="rId2"/>
          <a:stretch/>
        </p:blipFill>
        <p:spPr>
          <a:xfrm>
            <a:off x="11176560" y="0"/>
            <a:ext cx="13207320" cy="13715640"/>
          </a:xfrm>
          <a:prstGeom prst="rect">
            <a:avLst/>
          </a:prstGeom>
          <a:ln w="12700">
            <a:noFill/>
          </a:ln>
        </p:spPr>
      </p:pic>
      <p:sp>
        <p:nvSpPr>
          <p:cNvPr id="4017" name="PlaceHolder 1"/>
          <p:cNvSpPr>
            <a:spLocks noGrp="1"/>
          </p:cNvSpPr>
          <p:nvPr>
            <p:ph type="body"/>
          </p:nvPr>
        </p:nvSpPr>
        <p:spPr>
          <a:xfrm>
            <a:off x="7120080" y="2031840"/>
            <a:ext cx="5079600" cy="4825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018" name="PlaceHolder 2"/>
          <p:cNvSpPr>
            <a:spLocks noGrp="1"/>
          </p:cNvSpPr>
          <p:nvPr>
            <p:ph type="body"/>
          </p:nvPr>
        </p:nvSpPr>
        <p:spPr>
          <a:xfrm>
            <a:off x="12200040" y="2031840"/>
            <a:ext cx="5079600" cy="4825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019" name="PlaceHolder 3"/>
          <p:cNvSpPr>
            <a:spLocks noGrp="1"/>
          </p:cNvSpPr>
          <p:nvPr>
            <p:ph type="body"/>
          </p:nvPr>
        </p:nvSpPr>
        <p:spPr>
          <a:xfrm>
            <a:off x="7120080" y="6858000"/>
            <a:ext cx="5079600" cy="4825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020" name="PlaceHolder 4"/>
          <p:cNvSpPr>
            <a:spLocks noGrp="1"/>
          </p:cNvSpPr>
          <p:nvPr>
            <p:ph type="body"/>
          </p:nvPr>
        </p:nvSpPr>
        <p:spPr>
          <a:xfrm>
            <a:off x="2040120" y="6858000"/>
            <a:ext cx="5079600" cy="4825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021" name="PlaceHolder 5"/>
          <p:cNvSpPr>
            <a:spLocks noGrp="1"/>
          </p:cNvSpPr>
          <p:nvPr>
            <p:ph type="body"/>
          </p:nvPr>
        </p:nvSpPr>
        <p:spPr>
          <a:xfrm>
            <a:off x="17287920" y="6858000"/>
            <a:ext cx="5079600" cy="482580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022" name="Shape 973"/>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A99560A-2F62-484F-A2E7-83661FECD00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4023" name="PlaceHolder 6"/>
          <p:cNvSpPr>
            <a:spLocks noGrp="1"/>
          </p:cNvSpPr>
          <p:nvPr>
            <p:ph type="sldNum" idx="94"/>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19B3931A-FB6F-44BF-B594-2533A34FB513}"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4024" name="PlaceHolder 7"/>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858" r:id="rId3"/>
    <p:sldLayoutId id="2147484859" r:id="rId4"/>
    <p:sldLayoutId id="2147484860" r:id="rId5"/>
    <p:sldLayoutId id="2147484861" r:id="rId6"/>
    <p:sldLayoutId id="2147484862" r:id="rId7"/>
    <p:sldLayoutId id="2147484863" r:id="rId8"/>
    <p:sldLayoutId id="2147484864" r:id="rId9"/>
    <p:sldLayoutId id="2147484865" r:id="rId10"/>
    <p:sldLayoutId id="2147484866" r:id="rId11"/>
    <p:sldLayoutId id="2147484867" r:id="rId12"/>
    <p:sldLayoutId id="2147484868" r:id="rId13"/>
    <p:sldLayoutId id="2147484869" r:id="rId14"/>
  </p:sldLayoutIdLst>
</p:sldMaster>
</file>

<file path=ppt/slideMasters/slideMaster9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1"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B50C3F7A-623C-40AE-BA76-F5B92718B38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4062" name="pasted-image.pdf" descr=""/>
          <p:cNvPicPr/>
          <p:nvPr/>
        </p:nvPicPr>
        <p:blipFill>
          <a:blip r:embed="rId2"/>
          <a:stretch/>
        </p:blipFill>
        <p:spPr>
          <a:xfrm>
            <a:off x="11176560" y="0"/>
            <a:ext cx="13207320" cy="13715640"/>
          </a:xfrm>
          <a:prstGeom prst="rect">
            <a:avLst/>
          </a:prstGeom>
          <a:ln w="12700">
            <a:noFill/>
          </a:ln>
        </p:spPr>
      </p:pic>
      <p:sp>
        <p:nvSpPr>
          <p:cNvPr id="4063" name="Shape 98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08CF41A8-A7CC-4BA4-B6EC-9691830D3515}"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4064" name="PlaceHolder 1"/>
          <p:cNvSpPr>
            <a:spLocks noGrp="1"/>
          </p:cNvSpPr>
          <p:nvPr>
            <p:ph type="body"/>
          </p:nvPr>
        </p:nvSpPr>
        <p:spPr>
          <a:xfrm>
            <a:off x="13211640" y="0"/>
            <a:ext cx="11171880" cy="1371564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065" name="PlaceHolder 2"/>
          <p:cNvSpPr>
            <a:spLocks noGrp="1"/>
          </p:cNvSpPr>
          <p:nvPr>
            <p:ph type="sldNum" idx="95"/>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E3B59358-B464-4667-8EF5-1386B126ADEF}"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4066"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871" r:id="rId3"/>
    <p:sldLayoutId id="2147484872" r:id="rId4"/>
    <p:sldLayoutId id="2147484873" r:id="rId5"/>
    <p:sldLayoutId id="2147484874" r:id="rId6"/>
    <p:sldLayoutId id="2147484875" r:id="rId7"/>
    <p:sldLayoutId id="2147484876" r:id="rId8"/>
    <p:sldLayoutId id="2147484877" r:id="rId9"/>
    <p:sldLayoutId id="2147484878" r:id="rId10"/>
    <p:sldLayoutId id="2147484879" r:id="rId11"/>
    <p:sldLayoutId id="2147484880" r:id="rId12"/>
    <p:sldLayoutId id="2147484881" r:id="rId13"/>
    <p:sldLayoutId id="2147484882" r:id="rId14"/>
  </p:sldLayoutIdLst>
</p:sldMaster>
</file>

<file path=ppt/slideMasters/slideMaster9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3"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40DFEAC0-15FC-46A7-BE2A-6A1FFBE74AEE}"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4104" name="pasted-image.pdf" descr=""/>
          <p:cNvPicPr/>
          <p:nvPr/>
        </p:nvPicPr>
        <p:blipFill>
          <a:blip r:embed="rId2"/>
          <a:stretch/>
        </p:blipFill>
        <p:spPr>
          <a:xfrm>
            <a:off x="11176560" y="0"/>
            <a:ext cx="13207320" cy="13715640"/>
          </a:xfrm>
          <a:prstGeom prst="rect">
            <a:avLst/>
          </a:prstGeom>
          <a:ln w="12700">
            <a:noFill/>
          </a:ln>
        </p:spPr>
      </p:pic>
      <p:sp>
        <p:nvSpPr>
          <p:cNvPr id="4105" name="Shape 1008"/>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30CDA809-447D-4837-86F4-38759C886577}"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4106" name="PlaceHolder 1"/>
          <p:cNvSpPr>
            <a:spLocks noGrp="1"/>
          </p:cNvSpPr>
          <p:nvPr>
            <p:ph type="body"/>
          </p:nvPr>
        </p:nvSpPr>
        <p:spPr>
          <a:xfrm>
            <a:off x="4680" y="0"/>
            <a:ext cx="24374160" cy="68572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107" name="PlaceHolder 2"/>
          <p:cNvSpPr>
            <a:spLocks noGrp="1"/>
          </p:cNvSpPr>
          <p:nvPr>
            <p:ph type="sldNum" idx="96"/>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501DF6F1-82FE-4E5F-9D83-EE51B912C9BE}"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4108" name="PlaceHolder 3"/>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884" r:id="rId3"/>
    <p:sldLayoutId id="2147484885" r:id="rId4"/>
    <p:sldLayoutId id="2147484886" r:id="rId5"/>
    <p:sldLayoutId id="2147484887" r:id="rId6"/>
    <p:sldLayoutId id="2147484888" r:id="rId7"/>
    <p:sldLayoutId id="2147484889" r:id="rId8"/>
    <p:sldLayoutId id="2147484890" r:id="rId9"/>
    <p:sldLayoutId id="2147484891" r:id="rId10"/>
    <p:sldLayoutId id="2147484892" r:id="rId11"/>
    <p:sldLayoutId id="2147484893" r:id="rId12"/>
    <p:sldLayoutId id="2147484894" r:id="rId13"/>
    <p:sldLayoutId id="2147484895" r:id="rId14"/>
  </p:sldLayoutIdLst>
</p:sldMaster>
</file>

<file path=ppt/slideMasters/slideMaster9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5" name="Shape 2" hidden="1"/>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D2327EFE-DEB5-4D02-9EA7-6D0F3B1668F4}"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pic>
        <p:nvPicPr>
          <p:cNvPr id="4146" name="pasted-image.pdf" descr=""/>
          <p:cNvPicPr/>
          <p:nvPr/>
        </p:nvPicPr>
        <p:blipFill>
          <a:blip r:embed="rId2"/>
          <a:stretch/>
        </p:blipFill>
        <p:spPr>
          <a:xfrm>
            <a:off x="11176560" y="0"/>
            <a:ext cx="13207320" cy="13715640"/>
          </a:xfrm>
          <a:prstGeom prst="rect">
            <a:avLst/>
          </a:prstGeom>
          <a:ln w="12700">
            <a:noFill/>
          </a:ln>
        </p:spPr>
      </p:pic>
      <p:sp>
        <p:nvSpPr>
          <p:cNvPr id="4147" name="Shape 1017"/>
          <p:cNvSpPr/>
          <p:nvPr/>
        </p:nvSpPr>
        <p:spPr>
          <a:xfrm>
            <a:off x="21005640" y="12318840"/>
            <a:ext cx="2196360" cy="680760"/>
          </a:xfrm>
          <a:prstGeom prst="rect">
            <a:avLst/>
          </a:prstGeom>
          <a:noFill/>
          <a:ln w="12700">
            <a:noFill/>
          </a:ln>
        </p:spPr>
        <p:style>
          <a:lnRef idx="0"/>
          <a:fillRef idx="0"/>
          <a:effectRef idx="0"/>
          <a:fontRef idx="minor"/>
        </p:style>
        <p:txBody>
          <a:bodyPr wrap="none" lIns="50760" rIns="50760" tIns="50760" bIns="50760" anchor="t">
            <a:spAutoFit/>
          </a:bodyPr>
          <a:p>
            <a:pPr>
              <a:lnSpc>
                <a:spcPct val="120000"/>
              </a:lnSpc>
              <a:spcBef>
                <a:spcPts val="4501"/>
              </a:spcBef>
              <a:tabLst>
                <a:tab algn="l" pos="0"/>
              </a:tabLst>
            </a:pPr>
            <a:fld id="{82A881FB-C917-489A-979C-75E3B38F1FB2}" type="slidenum">
              <a:rPr b="0" lang="en-US" sz="2800" spc="-1" strike="noStrike">
                <a:solidFill>
                  <a:srgbClr val="797979"/>
                </a:solidFill>
                <a:latin typeface="Helvetica Light"/>
                <a:ea typeface="Helvetica Light"/>
              </a:rPr>
              <a:t>&lt;number&gt;</a:t>
            </a:fld>
            <a:r>
              <a:rPr b="0" lang="en-US" sz="2800" spc="-1" strike="noStrike">
                <a:solidFill>
                  <a:srgbClr val="797979"/>
                </a:solidFill>
                <a:latin typeface="Helvetica Light"/>
                <a:ea typeface="Helvetica Light"/>
              </a:rPr>
              <a:t>￼</a:t>
            </a:r>
            <a:endParaRPr b="0" lang="en-US" sz="2800" spc="-1" strike="noStrike">
              <a:solidFill>
                <a:srgbClr val="000000"/>
              </a:solidFill>
              <a:latin typeface="Arial"/>
            </a:endParaRPr>
          </a:p>
        </p:txBody>
      </p:sp>
      <p:sp>
        <p:nvSpPr>
          <p:cNvPr id="4148" name="PlaceHolder 1"/>
          <p:cNvSpPr>
            <a:spLocks noGrp="1"/>
          </p:cNvSpPr>
          <p:nvPr>
            <p:ph type="body"/>
          </p:nvPr>
        </p:nvSpPr>
        <p:spPr>
          <a:xfrm>
            <a:off x="11384640" y="2443320"/>
            <a:ext cx="2996640" cy="39787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149" name="PlaceHolder 2"/>
          <p:cNvSpPr>
            <a:spLocks noGrp="1"/>
          </p:cNvSpPr>
          <p:nvPr>
            <p:ph type="body"/>
          </p:nvPr>
        </p:nvSpPr>
        <p:spPr>
          <a:xfrm>
            <a:off x="19141920" y="2443320"/>
            <a:ext cx="2996640" cy="39787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150" name="PlaceHolder 3"/>
          <p:cNvSpPr>
            <a:spLocks noGrp="1"/>
          </p:cNvSpPr>
          <p:nvPr>
            <p:ph type="body"/>
          </p:nvPr>
        </p:nvSpPr>
        <p:spPr>
          <a:xfrm>
            <a:off x="15052680" y="4274280"/>
            <a:ext cx="1235880" cy="21967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i</a:t>
            </a:r>
            <a:endParaRPr b="0" lang="en-US" sz="3000" spc="-1" strike="noStrike">
              <a:solidFill>
                <a:srgbClr val="5e5e5e"/>
              </a:solidFill>
              <a:latin typeface="Montserrat Light"/>
            </a:endParaRPr>
          </a:p>
        </p:txBody>
      </p:sp>
      <p:sp>
        <p:nvSpPr>
          <p:cNvPr id="4151" name="PlaceHolder 4"/>
          <p:cNvSpPr>
            <a:spLocks noGrp="1"/>
          </p:cNvSpPr>
          <p:nvPr>
            <p:ph type="body"/>
          </p:nvPr>
        </p:nvSpPr>
        <p:spPr>
          <a:xfrm>
            <a:off x="17030520" y="4285800"/>
            <a:ext cx="1235880" cy="219672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i</a:t>
            </a:r>
            <a:endParaRPr b="0" lang="en-US" sz="3000" spc="-1" strike="noStrike">
              <a:solidFill>
                <a:srgbClr val="5e5e5e"/>
              </a:solidFill>
              <a:latin typeface="Montserrat Light"/>
            </a:endParaRPr>
          </a:p>
        </p:txBody>
      </p:sp>
      <p:sp>
        <p:nvSpPr>
          <p:cNvPr id="4152" name="PlaceHolder 5"/>
          <p:cNvSpPr>
            <a:spLocks noGrp="1"/>
          </p:cNvSpPr>
          <p:nvPr>
            <p:ph type="body"/>
          </p:nvPr>
        </p:nvSpPr>
        <p:spPr>
          <a:xfrm>
            <a:off x="11354040" y="10273680"/>
            <a:ext cx="837720" cy="104076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i</a:t>
            </a:r>
            <a:endParaRPr b="0" lang="en-US" sz="3000" spc="-1" strike="noStrike">
              <a:solidFill>
                <a:srgbClr val="5e5e5e"/>
              </a:solidFill>
              <a:latin typeface="Montserrat Light"/>
            </a:endParaRPr>
          </a:p>
        </p:txBody>
      </p:sp>
      <p:sp>
        <p:nvSpPr>
          <p:cNvPr id="4153" name="PlaceHolder 6"/>
          <p:cNvSpPr>
            <a:spLocks noGrp="1"/>
          </p:cNvSpPr>
          <p:nvPr>
            <p:ph type="body"/>
          </p:nvPr>
        </p:nvSpPr>
        <p:spPr>
          <a:xfrm>
            <a:off x="13063320" y="10278360"/>
            <a:ext cx="837720" cy="1040760"/>
          </a:xfrm>
          <a:prstGeom prst="rect">
            <a:avLst/>
          </a:prstGeom>
          <a:pattFill prst="wdUpDiag">
            <a:fgClr>
              <a:srgbClr val="0365c0"/>
            </a:fgClr>
            <a:bgClr>
              <a:srgbClr val="dcdee0"/>
            </a:bgClr>
          </a:pattFill>
          <a:ln w="0">
            <a:noFill/>
          </a:ln>
        </p:spPr>
        <p:txBody>
          <a:bodyPr anchor="t">
            <a:noAutofit/>
          </a:bodyPr>
          <a:p>
            <a:pPr indent="0">
              <a:lnSpc>
                <a:spcPct val="120000"/>
              </a:lnSpc>
              <a:buNone/>
              <a:tabLst>
                <a:tab algn="l" pos="0"/>
              </a:tabLst>
            </a:pPr>
            <a:r>
              <a:rPr b="0" lang="de-DE" sz="3000" spc="-1" strike="noStrike">
                <a:solidFill>
                  <a:srgbClr val="009193"/>
                </a:solidFill>
                <a:latin typeface="Helvetica Light"/>
                <a:ea typeface="Helvetica Light"/>
              </a:rPr>
              <a:t>i</a:t>
            </a:r>
            <a:endParaRPr b="0" lang="en-US" sz="3000" spc="-1" strike="noStrike">
              <a:solidFill>
                <a:srgbClr val="5e5e5e"/>
              </a:solidFill>
              <a:latin typeface="Montserrat Light"/>
            </a:endParaRPr>
          </a:p>
        </p:txBody>
      </p:sp>
      <p:sp>
        <p:nvSpPr>
          <p:cNvPr id="4154" name="PlaceHolder 7"/>
          <p:cNvSpPr>
            <a:spLocks noGrp="1"/>
          </p:cNvSpPr>
          <p:nvPr>
            <p:ph type="body"/>
          </p:nvPr>
        </p:nvSpPr>
        <p:spPr>
          <a:xfrm>
            <a:off x="16103520" y="8099640"/>
            <a:ext cx="5352120" cy="3390480"/>
          </a:xfrm>
          <a:prstGeom prst="rect">
            <a:avLst/>
          </a:prstGeom>
          <a:pattFill prst="wdUpDiag">
            <a:fgClr>
              <a:srgbClr val="0365c0"/>
            </a:fgClr>
            <a:bgClr>
              <a:srgbClr val="dcdee0"/>
            </a:bgClr>
          </a:pattFill>
          <a:ln w="0">
            <a:noFill/>
          </a:ln>
        </p:spPr>
        <p:txBody>
          <a:bodyPr anchor="t">
            <a:noAutofit/>
          </a:bodyPr>
          <a:p>
            <a:pPr marL="366480" indent="-366480">
              <a:lnSpc>
                <a:spcPct val="120000"/>
              </a:lnSpc>
              <a:spcBef>
                <a:spcPts val="5199"/>
              </a:spcBef>
              <a:buClr>
                <a:srgbClr val="009193"/>
              </a:buClr>
              <a:buSzPct val="75000"/>
              <a:buFont typeface="Symbol" charset="2"/>
              <a:buChar char=""/>
            </a:pPr>
            <a:r>
              <a:rPr b="0" lang="de-DE" sz="3000" spc="-1" strike="noStrike">
                <a:solidFill>
                  <a:srgbClr val="009193"/>
                </a:solidFill>
                <a:latin typeface="Helvetica Light"/>
                <a:ea typeface="Helvetica Light"/>
              </a:rPr>
              <a:t>Drop Image here</a:t>
            </a:r>
            <a:endParaRPr b="0" lang="en-US" sz="3000" spc="-1" strike="noStrike">
              <a:solidFill>
                <a:srgbClr val="5e5e5e"/>
              </a:solidFill>
              <a:latin typeface="Montserrat Light"/>
            </a:endParaRPr>
          </a:p>
        </p:txBody>
      </p:sp>
      <p:sp>
        <p:nvSpPr>
          <p:cNvPr id="4155" name="PlaceHolder 8"/>
          <p:cNvSpPr>
            <a:spLocks noGrp="1"/>
          </p:cNvSpPr>
          <p:nvPr>
            <p:ph type="sldNum" idx="97"/>
          </p:nvPr>
        </p:nvSpPr>
        <p:spPr>
          <a:xfrm>
            <a:off x="11959200" y="13080960"/>
            <a:ext cx="452880" cy="46944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533491BE-BEAD-4EE4-8D34-61209867CB56}" type="slidenum">
              <a:rPr b="0" lang="en-US" sz="2400" spc="-1" strike="noStrike">
                <a:solidFill>
                  <a:srgbClr val="000000"/>
                </a:solidFill>
                <a:latin typeface="Helvetica Light"/>
                <a:ea typeface="Helvetica Light"/>
              </a:rPr>
              <a:t>&lt;number&gt;</a:t>
            </a:fld>
            <a:endParaRPr b="0" lang="en-US" sz="2400" spc="-1" strike="noStrike">
              <a:solidFill>
                <a:srgbClr val="000000"/>
              </a:solidFill>
              <a:latin typeface="Times New Roman"/>
            </a:endParaRPr>
          </a:p>
        </p:txBody>
      </p:sp>
      <p:sp>
        <p:nvSpPr>
          <p:cNvPr id="4156" name="PlaceHolder 9"/>
          <p:cNvSpPr>
            <a:spLocks noGrp="1"/>
          </p:cNvSpPr>
          <p:nvPr>
            <p:ph type="title"/>
          </p:nvPr>
        </p:nvSpPr>
        <p:spPr>
          <a:xfrm>
            <a:off x="1218960" y="547200"/>
            <a:ext cx="21944880" cy="2289960"/>
          </a:xfrm>
          <a:prstGeom prst="rect">
            <a:avLst/>
          </a:prstGeom>
          <a:noFill/>
          <a:ln w="0">
            <a:noFill/>
          </a:ln>
        </p:spPr>
        <p:txBody>
          <a:bodyPr lIns="0" rIns="0" tIns="0" bIns="0" anchor="ctr">
            <a:noAutofit/>
          </a:bodyPr>
          <a:p>
            <a:pPr indent="0">
              <a:lnSpc>
                <a:spcPct val="120000"/>
              </a:lnSpc>
              <a:buNone/>
            </a:pPr>
            <a:r>
              <a:rPr b="0" lang="en-US" sz="3000" spc="-1" strike="noStrike">
                <a:solidFill>
                  <a:srgbClr val="009193"/>
                </a:solidFill>
                <a:latin typeface="Helvetica Light"/>
              </a:rPr>
              <a:t>Click to edit the title text format</a:t>
            </a:r>
            <a:endParaRPr b="0" lang="en-US" sz="3000" spc="-1" strike="noStrike">
              <a:solidFill>
                <a:srgbClr val="009193"/>
              </a:solidFill>
              <a:latin typeface="Helvetica Light"/>
            </a:endParaRPr>
          </a:p>
        </p:txBody>
      </p:sp>
    </p:spTree>
  </p:cSld>
  <p:clrMap bg1="lt1" bg2="lt2" tx1="dk1" tx2="dk2" accent1="accent1" accent2="accent2" accent3="accent3" accent4="accent4" accent5="accent5" accent6="accent6" hlink="hlink" folHlink="folHlink"/>
  <p:sldLayoutIdLst>
    <p:sldLayoutId id="2147484897" r:id="rId3"/>
    <p:sldLayoutId id="2147484898" r:id="rId4"/>
    <p:sldLayoutId id="2147484899" r:id="rId5"/>
    <p:sldLayoutId id="2147484900" r:id="rId6"/>
    <p:sldLayoutId id="2147484901" r:id="rId7"/>
    <p:sldLayoutId id="2147484902" r:id="rId8"/>
    <p:sldLayoutId id="2147484903" r:id="rId9"/>
    <p:sldLayoutId id="2147484904" r:id="rId10"/>
    <p:sldLayoutId id="2147484905" r:id="rId11"/>
    <p:sldLayoutId id="2147484906" r:id="rId12"/>
    <p:sldLayoutId id="2147484907" r:id="rId13"/>
    <p:sldLayoutId id="2147484908" r:id="rId14"/>
  </p:sldLayoutIdLst>
</p:sldMaster>
</file>

<file path=ppt/slides/_rels/slide1.xml.rels><?xml version="1.0" encoding="UTF-8"?>
<Relationships xmlns="http://schemas.openxmlformats.org/package/2006/relationships"><Relationship Id="rId1" Type="http://schemas.openxmlformats.org/officeDocument/2006/relationships/hyperlink" Target="https://www.fontsquirrel.com/fonts/montserrat"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071.xml"/>
</Relationships>
</file>

<file path=ppt/slides/_rels/slide10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08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095.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107.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119.xml"/>
</Relationships>
</file>

<file path=ppt/slides/_rels/slide105.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75.xml"/>
</Relationships>
</file>

<file path=ppt/slides/_rels/slide106.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chart" Target="../charts/chart3.xml"/><Relationship Id="rId3" Type="http://schemas.openxmlformats.org/officeDocument/2006/relationships/slideLayout" Target="../slideLayouts/slideLayout75.xml"/>
</Relationships>
</file>

<file path=ppt/slides/_rels/slide107.xml.rels><?xml version="1.0" encoding="UTF-8"?>
<Relationships xmlns="http://schemas.openxmlformats.org/package/2006/relationships"><Relationship Id="rId1" Type="http://schemas.openxmlformats.org/officeDocument/2006/relationships/chart" Target="../charts/chart4.xml"/><Relationship Id="rId2" Type="http://schemas.openxmlformats.org/officeDocument/2006/relationships/slideLayout" Target="../slideLayouts/slideLayout75.xml"/>
</Relationships>
</file>

<file path=ppt/slides/_rels/slide108.xml.rels><?xml version="1.0" encoding="UTF-8"?>
<Relationships xmlns="http://schemas.openxmlformats.org/package/2006/relationships"><Relationship Id="rId1" Type="http://schemas.openxmlformats.org/officeDocument/2006/relationships/chart" Target="../charts/chart5.xml"/><Relationship Id="rId2" Type="http://schemas.openxmlformats.org/officeDocument/2006/relationships/slideLayout" Target="../slideLayouts/slideLayout75.xml"/>
</Relationships>
</file>

<file path=ppt/slides/_rels/slide109.xml.rels><?xml version="1.0" encoding="UTF-8"?>
<Relationships xmlns="http://schemas.openxmlformats.org/package/2006/relationships"><Relationship Id="rId1" Type="http://schemas.openxmlformats.org/officeDocument/2006/relationships/chart" Target="../charts/chart6.xml"/><Relationship Id="rId2" Type="http://schemas.openxmlformats.org/officeDocument/2006/relationships/slideLayout" Target="../slideLayouts/slideLayout7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87.xml"/>
</Relationships>
</file>

<file path=ppt/slides/_rels/slide110.xml.rels><?xml version="1.0" encoding="UTF-8"?>
<Relationships xmlns="http://schemas.openxmlformats.org/package/2006/relationships"><Relationship Id="rId1" Type="http://schemas.openxmlformats.org/officeDocument/2006/relationships/chart" Target="../charts/chart7.xml"/><Relationship Id="rId2" Type="http://schemas.openxmlformats.org/officeDocument/2006/relationships/slideLayout" Target="../slideLayouts/slideLayout1131.xml"/>
</Relationships>
</file>

<file path=ppt/slides/_rels/slide111.xml.rels><?xml version="1.0" encoding="UTF-8"?>
<Relationships xmlns="http://schemas.openxmlformats.org/package/2006/relationships"><Relationship Id="rId1" Type="http://schemas.openxmlformats.org/officeDocument/2006/relationships/chart" Target="../charts/chart8.xml"/><Relationship Id="rId2" Type="http://schemas.openxmlformats.org/officeDocument/2006/relationships/slideLayout" Target="../slideLayouts/slideLayout75.xml"/>
</Relationships>
</file>

<file path=ppt/slides/_rels/slide112.xml.rels><?xml version="1.0" encoding="UTF-8"?>
<Relationships xmlns="http://schemas.openxmlformats.org/package/2006/relationships"><Relationship Id="rId1" Type="http://schemas.openxmlformats.org/officeDocument/2006/relationships/chart" Target="../charts/chart9.xml"/><Relationship Id="rId2" Type="http://schemas.openxmlformats.org/officeDocument/2006/relationships/slideLayout" Target="../slideLayouts/slideLayout108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095.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14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155.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1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2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47.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59.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7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8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9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07.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19.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4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6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79.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9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0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1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27.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39.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5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6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5.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75.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7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8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9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41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42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3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447.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59.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7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8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9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23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507.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19.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53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54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5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567.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7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58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60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61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627.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639.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65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66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675.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68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699.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6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71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72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735.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747.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759.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769.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78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79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05.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81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83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84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855.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867.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879.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89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90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91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927.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93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95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96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97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985.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999.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01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02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035.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047.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05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3" name="Shape 1052"/>
          <p:cNvSpPr/>
          <p:nvPr/>
        </p:nvSpPr>
        <p:spPr>
          <a:xfrm>
            <a:off x="2031840" y="1898280"/>
            <a:ext cx="8614080" cy="2001960"/>
          </a:xfrm>
          <a:prstGeom prst="rect">
            <a:avLst/>
          </a:prstGeom>
          <a:noFill/>
          <a:ln w="12700">
            <a:noFill/>
          </a:ln>
        </p:spPr>
        <p:style>
          <a:lnRef idx="0"/>
          <a:fillRef idx="0"/>
          <a:effectRef idx="0"/>
          <a:fontRef idx="minor"/>
        </p:style>
        <p:txBody>
          <a:bodyPr lIns="65520" rIns="65520" tIns="65520" bIns="65520" anchor="ctr">
            <a:noAutofit/>
          </a:bodyPr>
          <a:p>
            <a:pPr>
              <a:lnSpc>
                <a:spcPct val="100000"/>
              </a:lnSpc>
              <a:tabLst>
                <a:tab algn="l" pos="0"/>
              </a:tabLst>
            </a:pPr>
            <a:r>
              <a:rPr b="0" lang="en-US" sz="4800" spc="239" strike="noStrike">
                <a:solidFill>
                  <a:srgbClr val="212121"/>
                </a:solidFill>
                <a:latin typeface="Montserrat"/>
                <a:ea typeface="Montserrat"/>
              </a:rPr>
              <a:t>Befor you start! </a:t>
            </a:r>
            <a:endParaRPr b="0" lang="en-US" sz="4800" spc="-1" strike="noStrike">
              <a:solidFill>
                <a:srgbClr val="000000"/>
              </a:solidFill>
              <a:latin typeface="Arial"/>
            </a:endParaRPr>
          </a:p>
        </p:txBody>
      </p:sp>
      <p:sp>
        <p:nvSpPr>
          <p:cNvPr id="4194" name="Shape 1053"/>
          <p:cNvSpPr/>
          <p:nvPr/>
        </p:nvSpPr>
        <p:spPr>
          <a:xfrm>
            <a:off x="2031840" y="4460040"/>
            <a:ext cx="19644480" cy="1189440"/>
          </a:xfrm>
          <a:prstGeom prst="rect">
            <a:avLst/>
          </a:prstGeom>
          <a:noFill/>
          <a:ln w="12700">
            <a:noFill/>
          </a:ln>
        </p:spPr>
        <p:style>
          <a:lnRef idx="0"/>
          <a:fillRef idx="0"/>
          <a:effectRef idx="0"/>
          <a:fontRef idx="minor"/>
        </p:style>
        <p:txBody>
          <a:bodyPr lIns="65520" rIns="65520" tIns="65520" bIns="65520" anchor="t">
            <a:noAutofit/>
          </a:bodyPr>
          <a:p>
            <a:pPr>
              <a:lnSpc>
                <a:spcPct val="100000"/>
              </a:lnSpc>
              <a:spcBef>
                <a:spcPts val="4501"/>
              </a:spcBef>
              <a:tabLst>
                <a:tab algn="l" pos="0"/>
              </a:tabLst>
            </a:pPr>
            <a:r>
              <a:rPr b="0" lang="en-US" sz="4500" spc="-1" strike="noStrike">
                <a:solidFill>
                  <a:srgbClr val="000000"/>
                </a:solidFill>
                <a:latin typeface="Helvetica Light"/>
                <a:ea typeface="Helvetica Light"/>
              </a:rPr>
              <a:t>1. Install: Font Awesome </a:t>
            </a:r>
            <a:r>
              <a:rPr b="0" lang="de-DE" sz="4500" spc="-1" strike="noStrike">
                <a:solidFill>
                  <a:srgbClr val="000000"/>
                </a:solidFill>
                <a:latin typeface="Helvetica Light"/>
                <a:ea typeface="Helvetica Light"/>
              </a:rPr>
              <a:t>4 Icons – Version 4.7.0 (Not V.5)</a:t>
            </a:r>
            <a:endParaRPr b="0" lang="en-US" sz="4500" spc="-1" strike="noStrike">
              <a:solidFill>
                <a:srgbClr val="000000"/>
              </a:solidFill>
              <a:latin typeface="Arial"/>
            </a:endParaRPr>
          </a:p>
        </p:txBody>
      </p:sp>
      <p:sp>
        <p:nvSpPr>
          <p:cNvPr id="4195" name="Shape 1054"/>
          <p:cNvSpPr/>
          <p:nvPr/>
        </p:nvSpPr>
        <p:spPr>
          <a:xfrm>
            <a:off x="2031840" y="5572800"/>
            <a:ext cx="19644480" cy="1189440"/>
          </a:xfrm>
          <a:prstGeom prst="rect">
            <a:avLst/>
          </a:prstGeom>
          <a:noFill/>
          <a:ln w="12700">
            <a:noFill/>
          </a:ln>
        </p:spPr>
        <p:style>
          <a:lnRef idx="0"/>
          <a:fillRef idx="0"/>
          <a:effectRef idx="0"/>
          <a:fontRef idx="minor"/>
        </p:style>
        <p:txBody>
          <a:bodyPr lIns="65520" rIns="65520" tIns="65520" bIns="65520" anchor="t">
            <a:noAutofit/>
          </a:bodyPr>
          <a:p>
            <a:pPr>
              <a:lnSpc>
                <a:spcPct val="100000"/>
              </a:lnSpc>
              <a:spcBef>
                <a:spcPts val="4501"/>
              </a:spcBef>
              <a:tabLst>
                <a:tab algn="l" pos="0"/>
              </a:tabLst>
            </a:pPr>
            <a:r>
              <a:rPr b="0" lang="de-DE" sz="4500" spc="-1" strike="noStrike">
                <a:solidFill>
                  <a:srgbClr val="000000"/>
                </a:solidFill>
                <a:latin typeface="Helvetica Light"/>
                <a:ea typeface="Helvetica Light"/>
              </a:rPr>
              <a:t>https://fontawesome.com/v4.7.0/</a:t>
            </a:r>
            <a:endParaRPr b="0" lang="en-US" sz="4500" spc="-1" strike="noStrike">
              <a:solidFill>
                <a:srgbClr val="000000"/>
              </a:solidFill>
              <a:latin typeface="Arial"/>
            </a:endParaRPr>
          </a:p>
        </p:txBody>
      </p:sp>
      <p:sp>
        <p:nvSpPr>
          <p:cNvPr id="4196" name="Shape 1055"/>
          <p:cNvSpPr/>
          <p:nvPr/>
        </p:nvSpPr>
        <p:spPr>
          <a:xfrm>
            <a:off x="2031840" y="8281440"/>
            <a:ext cx="19644480" cy="1189440"/>
          </a:xfrm>
          <a:prstGeom prst="rect">
            <a:avLst/>
          </a:prstGeom>
          <a:noFill/>
          <a:ln w="12700">
            <a:noFill/>
          </a:ln>
        </p:spPr>
        <p:style>
          <a:lnRef idx="0"/>
          <a:fillRef idx="0"/>
          <a:effectRef idx="0"/>
          <a:fontRef idx="minor"/>
        </p:style>
        <p:txBody>
          <a:bodyPr lIns="65520" rIns="65520" tIns="65520" bIns="65520" anchor="t">
            <a:noAutofit/>
          </a:bodyPr>
          <a:p>
            <a:pPr>
              <a:lnSpc>
                <a:spcPct val="100000"/>
              </a:lnSpc>
              <a:spcBef>
                <a:spcPts val="4501"/>
              </a:spcBef>
              <a:tabLst>
                <a:tab algn="l" pos="0"/>
              </a:tabLst>
            </a:pPr>
            <a:r>
              <a:rPr b="0" lang="en-US" sz="4500" spc="-1" strike="noStrike" u="sng">
                <a:solidFill>
                  <a:srgbClr val="0000ff"/>
                </a:solidFill>
                <a:uFillTx/>
                <a:latin typeface="Helvetica Light"/>
                <a:ea typeface="Helvetica Light"/>
                <a:hlinkClick r:id="rId1"/>
              </a:rPr>
              <a:t>https://www.fontsquirrel.com/fonts/montserrat</a:t>
            </a:r>
            <a:endParaRPr b="0" lang="en-US" sz="4500" spc="-1" strike="noStrike">
              <a:solidFill>
                <a:srgbClr val="000000"/>
              </a:solidFill>
              <a:latin typeface="Arial"/>
            </a:endParaRPr>
          </a:p>
        </p:txBody>
      </p:sp>
      <p:sp>
        <p:nvSpPr>
          <p:cNvPr id="4197" name="Shape 1056"/>
          <p:cNvSpPr/>
          <p:nvPr/>
        </p:nvSpPr>
        <p:spPr>
          <a:xfrm>
            <a:off x="2031840" y="7269840"/>
            <a:ext cx="19644480" cy="1189440"/>
          </a:xfrm>
          <a:prstGeom prst="rect">
            <a:avLst/>
          </a:prstGeom>
          <a:noFill/>
          <a:ln w="12700">
            <a:noFill/>
          </a:ln>
        </p:spPr>
        <p:style>
          <a:lnRef idx="0"/>
          <a:fillRef idx="0"/>
          <a:effectRef idx="0"/>
          <a:fontRef idx="minor"/>
        </p:style>
        <p:txBody>
          <a:bodyPr lIns="65520" rIns="65520" tIns="65520" bIns="65520" anchor="t">
            <a:noAutofit/>
          </a:bodyPr>
          <a:p>
            <a:pPr>
              <a:lnSpc>
                <a:spcPct val="100000"/>
              </a:lnSpc>
              <a:spcBef>
                <a:spcPts val="4501"/>
              </a:spcBef>
              <a:tabLst>
                <a:tab algn="l" pos="0"/>
              </a:tabLst>
            </a:pPr>
            <a:r>
              <a:rPr b="0" lang="en-US" sz="4500" spc="-1" strike="noStrike">
                <a:solidFill>
                  <a:srgbClr val="000000"/>
                </a:solidFill>
                <a:latin typeface="Helvetica Light"/>
                <a:ea typeface="Helvetica Light"/>
              </a:rPr>
              <a:t>2. Install: Font Montserrat</a:t>
            </a:r>
            <a:endParaRPr b="0" lang="en-US" sz="4500" spc="-1" strike="noStrike">
              <a:solidFill>
                <a:srgbClr val="000000"/>
              </a:solidFill>
              <a:latin typeface="Arial"/>
            </a:endParaRPr>
          </a:p>
        </p:txBody>
      </p:sp>
      <p:sp>
        <p:nvSpPr>
          <p:cNvPr id="4198" name="Shape 1057"/>
          <p:cNvSpPr/>
          <p:nvPr/>
        </p:nvSpPr>
        <p:spPr>
          <a:xfrm>
            <a:off x="2031840" y="10170360"/>
            <a:ext cx="19644480" cy="1012320"/>
          </a:xfrm>
          <a:prstGeom prst="rect">
            <a:avLst/>
          </a:prstGeom>
          <a:noFill/>
          <a:ln w="12700">
            <a:noFill/>
          </a:ln>
        </p:spPr>
        <p:style>
          <a:lnRef idx="0"/>
          <a:fillRef idx="0"/>
          <a:effectRef idx="0"/>
          <a:fontRef idx="minor"/>
        </p:style>
        <p:txBody>
          <a:bodyPr lIns="65520" rIns="65520" tIns="65520" bIns="65520" anchor="t">
            <a:noAutofit/>
          </a:bodyPr>
          <a:p>
            <a:pPr>
              <a:lnSpc>
                <a:spcPct val="100000"/>
              </a:lnSpc>
              <a:spcBef>
                <a:spcPts val="4501"/>
              </a:spcBef>
              <a:tabLst>
                <a:tab algn="l" pos="0"/>
              </a:tabLst>
            </a:pPr>
            <a:r>
              <a:rPr b="0" lang="en-US" sz="4500" spc="-1" strike="noStrike">
                <a:solidFill>
                  <a:srgbClr val="000000"/>
                </a:solidFill>
                <a:latin typeface="Helvetica Light"/>
                <a:ea typeface="Helvetica Light"/>
              </a:rPr>
              <a:t>For more Info please read the „Read_befor_Start“ in your download file</a:t>
            </a:r>
            <a:endParaRPr b="0" lang="en-US" sz="4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3" name="PlaceHolder 1"/>
          <p:cNvSpPr>
            <a:spLocks noGrp="1"/>
          </p:cNvSpPr>
          <p:nvPr>
            <p:ph type="sldNum" idx="100"/>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AFA2A164-9135-4D46-B3BD-54E129F4A85A}" type="slidenum">
              <a:rPr b="0" lang="en-US" sz="2800" spc="-1" strike="noStrike">
                <a:solidFill>
                  <a:srgbClr val="797979"/>
                </a:solidFill>
                <a:latin typeface="Helvetica Light"/>
                <a:ea typeface="Helvetica Light"/>
              </a:rPr>
              <a:t>6</a:t>
            </a:fld>
            <a:endParaRPr b="0" lang="en-US" sz="2800" spc="-1" strike="noStrike">
              <a:solidFill>
                <a:srgbClr val="000000"/>
              </a:solidFill>
              <a:latin typeface="Times New Roman"/>
            </a:endParaRPr>
          </a:p>
        </p:txBody>
      </p:sp>
      <p:sp>
        <p:nvSpPr>
          <p:cNvPr id="4234" name="Shape 1106"/>
          <p:cNvSpPr/>
          <p:nvPr/>
        </p:nvSpPr>
        <p:spPr>
          <a:xfrm>
            <a:off x="2032200" y="5973120"/>
            <a:ext cx="20319480" cy="31755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eot clita kuasd gubergren, nosotra sea fronds takimata sanctus est Lorem ero psusit druamet. Lorem som ipsum dolor sit amet, deras gradaso consetetur sadipscing elitromas. Sed diam dnie nonumy eirmod reporo invidunt utony labore etodre dolor noradsa mirda. Stet clita kuasd gubergren, nosotra seansa takimata sanc tus est Lorem ipsum dolor sit amet. Lorem eso ipsum dolor sit amet, deras consetetur sadipscing idas brotas geras herdas cursados mersas ioda los brandas merasnm fran elitromas.</a:t>
            </a:r>
            <a:endParaRPr b="0" lang="en-US" sz="3000" spc="-1" strike="noStrike">
              <a:solidFill>
                <a:srgbClr val="000000"/>
              </a:solidFill>
              <a:latin typeface="Arial"/>
            </a:endParaRPr>
          </a:p>
        </p:txBody>
      </p:sp>
      <p:sp>
        <p:nvSpPr>
          <p:cNvPr id="4235" name="PlaceHolder 2"/>
          <p:cNvSpPr>
            <a:spLocks noGrp="1"/>
          </p:cNvSpPr>
          <p:nvPr>
            <p:ph type="title"/>
          </p:nvPr>
        </p:nvSpPr>
        <p:spPr>
          <a:xfrm>
            <a:off x="2031840" y="1708200"/>
            <a:ext cx="10159920" cy="31248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Full Width</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Text</a:t>
            </a:r>
            <a:endParaRPr b="0" lang="en-US" sz="11200" spc="-1" strike="noStrike">
              <a:solidFill>
                <a:srgbClr val="009193"/>
              </a:solidFill>
              <a:latin typeface="Helvetica Light"/>
            </a:endParaRPr>
          </a:p>
        </p:txBody>
      </p:sp>
      <p:sp>
        <p:nvSpPr>
          <p:cNvPr id="4236" name="Shape 1108"/>
          <p:cNvSpPr/>
          <p:nvPr/>
        </p:nvSpPr>
        <p:spPr>
          <a:xfrm>
            <a:off x="2032200" y="9610200"/>
            <a:ext cx="20319480" cy="22852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wetoma jam rebum. Stet clita kuasd gubergren, nosotra dras seansa takimata sanctus est Lorem ipsum dolor sit amet. Lorem eso ipsum dolor sit amet, deruas consetetur sadipscing idas brotas geras elitromas. Sed diam nie nonumy eirmod tempor invidunt ut labore etos dolore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4" name="Shape 2353"/>
          <p:cNvSpPr/>
          <p:nvPr/>
        </p:nvSpPr>
        <p:spPr>
          <a:xfrm>
            <a:off x="13236480" y="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55" name="Shape 2354"/>
          <p:cNvSpPr/>
          <p:nvPr/>
        </p:nvSpPr>
        <p:spPr>
          <a:xfrm>
            <a:off x="18801000" y="11138760"/>
            <a:ext cx="3557160" cy="761760"/>
          </a:xfrm>
          <a:prstGeom prst="rect">
            <a:avLst/>
          </a:prstGeom>
          <a:noFill/>
          <a:ln w="12700">
            <a:noFill/>
          </a:ln>
        </p:spPr>
        <p:style>
          <a:lnRef idx="0"/>
          <a:fillRef idx="0"/>
          <a:effectRef idx="0"/>
          <a:fontRef idx="minor"/>
        </p:style>
        <p:txBody>
          <a:bodyPr lIns="48600" rIns="48600" tIns="48600" bIns="48600" anchor="t">
            <a:noAutofit/>
          </a:bodyPr>
          <a:p>
            <a:pPr algn="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5056" name="Shape 2355"/>
          <p:cNvSpPr/>
          <p:nvPr/>
        </p:nvSpPr>
        <p:spPr>
          <a:xfrm>
            <a:off x="18801000" y="10347840"/>
            <a:ext cx="3555720" cy="761760"/>
          </a:xfrm>
          <a:prstGeom prst="rect">
            <a:avLst/>
          </a:prstGeom>
          <a:noFill/>
          <a:ln w="12700">
            <a:noFill/>
          </a:ln>
        </p:spPr>
        <p:style>
          <a:lnRef idx="0"/>
          <a:fillRef idx="0"/>
          <a:effectRef idx="0"/>
          <a:fontRef idx="minor"/>
        </p:style>
        <p:txBody>
          <a:bodyPr lIns="48600" rIns="48600" tIns="48600" bIns="48600" anchor="t">
            <a:noAutofit/>
          </a:bodyPr>
          <a:p>
            <a:pPr algn="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5057" name="Shape 2356"/>
          <p:cNvSpPr/>
          <p:nvPr/>
        </p:nvSpPr>
        <p:spPr>
          <a:xfrm>
            <a:off x="21531600" y="943524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5058" name="Shape 2357"/>
          <p:cNvSpPr/>
          <p:nvPr/>
        </p:nvSpPr>
        <p:spPr>
          <a:xfrm>
            <a:off x="17530560" y="6639120"/>
            <a:ext cx="4827960" cy="1904760"/>
          </a:xfrm>
          <a:prstGeom prst="rect">
            <a:avLst/>
          </a:prstGeom>
          <a:noFill/>
          <a:ln w="12700">
            <a:noFill/>
          </a:ln>
        </p:spPr>
        <p:style>
          <a:lnRef idx="0"/>
          <a:fillRef idx="0"/>
          <a:effectRef idx="0"/>
          <a:fontRef idx="minor"/>
        </p:style>
        <p:txBody>
          <a:bodyPr lIns="48600" rIns="48600" tIns="48600" bIns="48600" anchor="t">
            <a:noAutofit/>
          </a:bodyPr>
          <a:p>
            <a:pPr algn="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5059" name="Shape 2358"/>
          <p:cNvSpPr/>
          <p:nvPr/>
        </p:nvSpPr>
        <p:spPr>
          <a:xfrm>
            <a:off x="17530560" y="5833080"/>
            <a:ext cx="4827960" cy="761760"/>
          </a:xfrm>
          <a:prstGeom prst="rect">
            <a:avLst/>
          </a:prstGeom>
          <a:noFill/>
          <a:ln w="12700">
            <a:noFill/>
          </a:ln>
        </p:spPr>
        <p:style>
          <a:lnRef idx="0"/>
          <a:fillRef idx="0"/>
          <a:effectRef idx="0"/>
          <a:fontRef idx="minor"/>
        </p:style>
        <p:txBody>
          <a:bodyPr lIns="48600" rIns="48600" tIns="48600" bIns="48600" anchor="t">
            <a:noAutofit/>
          </a:bodyPr>
          <a:p>
            <a:pPr algn="r">
              <a:lnSpc>
                <a:spcPct val="120000"/>
              </a:lnSpc>
              <a:spcBef>
                <a:spcPts val="5899"/>
              </a:spcBef>
              <a:tabLst>
                <a:tab algn="l" pos="0"/>
              </a:tabLst>
            </a:pPr>
            <a:r>
              <a:rPr b="0" lang="en-US" sz="3000" spc="148" strike="noStrike">
                <a:solidFill>
                  <a:srgbClr val="212121"/>
                </a:solidFill>
                <a:latin typeface="Montserrat"/>
                <a:ea typeface="Montserrat"/>
              </a:rPr>
              <a:t>TABLET MOCKUP</a:t>
            </a:r>
            <a:endParaRPr b="0" lang="en-US" sz="3000" spc="-1" strike="noStrike">
              <a:solidFill>
                <a:srgbClr val="000000"/>
              </a:solidFill>
              <a:latin typeface="Arial"/>
            </a:endParaRPr>
          </a:p>
        </p:txBody>
      </p:sp>
      <p:sp>
        <p:nvSpPr>
          <p:cNvPr id="5060" name="Shape 2359"/>
          <p:cNvSpPr/>
          <p:nvPr/>
        </p:nvSpPr>
        <p:spPr>
          <a:xfrm>
            <a:off x="15751800" y="2025720"/>
            <a:ext cx="6606720" cy="2608200"/>
          </a:xfrm>
          <a:prstGeom prst="rect">
            <a:avLst/>
          </a:prstGeom>
          <a:noFill/>
          <a:ln w="12700">
            <a:noFill/>
          </a:ln>
        </p:spPr>
        <p:style>
          <a:lnRef idx="0"/>
          <a:fillRef idx="0"/>
          <a:effectRef idx="0"/>
          <a:fontRef idx="minor"/>
        </p:style>
        <p:txBody>
          <a:bodyPr lIns="50760" rIns="50760" tIns="50760" bIns="50760" anchor="t">
            <a:noAutofit/>
          </a:bodyPr>
          <a:p>
            <a:pPr algn="r">
              <a:lnSpc>
                <a:spcPct val="120000"/>
              </a:lnSpc>
              <a:tabLst>
                <a:tab algn="l" pos="0"/>
              </a:tabLst>
            </a:pPr>
            <a:r>
              <a:rPr b="0" lang="en-US" sz="4800" spc="-1" strike="noStrike">
                <a:solidFill>
                  <a:srgbClr val="212121"/>
                </a:solidFill>
                <a:latin typeface="Montserrat"/>
                <a:ea typeface="Montserrat"/>
              </a:rPr>
              <a:t>Agmona nodos leso</a:t>
            </a:r>
            <a:endParaRPr b="0" lang="en-US" sz="4800" spc="-1" strike="noStrike">
              <a:solidFill>
                <a:srgbClr val="000000"/>
              </a:solidFill>
              <a:latin typeface="Arial"/>
            </a:endParaRPr>
          </a:p>
          <a:p>
            <a:pPr algn="r">
              <a:lnSpc>
                <a:spcPct val="120000"/>
              </a:lnSpc>
              <a:tabLst>
                <a:tab algn="l" pos="0"/>
              </a:tabLst>
            </a:pPr>
            <a:r>
              <a:rPr b="0" lang="en-US" sz="4800" spc="-1" strike="noStrike">
                <a:solidFill>
                  <a:srgbClr val="212121"/>
                </a:solidFill>
                <a:latin typeface="Montserrat"/>
                <a:ea typeface="Montserrat"/>
              </a:rPr>
              <a:t>diam bras idom </a:t>
            </a:r>
            <a:endParaRPr b="0" lang="en-US" sz="4800" spc="-1" strike="noStrike">
              <a:solidFill>
                <a:srgbClr val="000000"/>
              </a:solidFill>
              <a:latin typeface="Arial"/>
            </a:endParaRPr>
          </a:p>
          <a:p>
            <a:pPr algn="r">
              <a:lnSpc>
                <a:spcPct val="120000"/>
              </a:lnSpc>
              <a:tabLst>
                <a:tab algn="l" pos="0"/>
              </a:tabLst>
            </a:pPr>
            <a:r>
              <a:rPr b="0" lang="en-US" sz="4800" spc="-1" strike="noStrike">
                <a:solidFill>
                  <a:srgbClr val="212121"/>
                </a:solidFill>
                <a:latin typeface="Montserrat"/>
                <a:ea typeface="Montserrat"/>
              </a:rPr>
              <a:t>cisma volup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61" name="Group 2365"/>
          <p:cNvGrpSpPr/>
          <p:nvPr/>
        </p:nvGrpSpPr>
        <p:grpSpPr>
          <a:xfrm>
            <a:off x="360" y="0"/>
            <a:ext cx="12215880" cy="13716000"/>
            <a:chOff x="360" y="0"/>
            <a:chExt cx="12215880" cy="13716000"/>
          </a:xfrm>
        </p:grpSpPr>
        <p:sp>
          <p:nvSpPr>
            <p:cNvPr id="5062" name="Shape 2363"/>
            <p:cNvSpPr/>
            <p:nvPr/>
          </p:nvSpPr>
          <p:spPr>
            <a:xfrm>
              <a:off x="7136640" y="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63" name="Shape 2364"/>
            <p:cNvSpPr/>
            <p:nvPr/>
          </p:nvSpPr>
          <p:spPr>
            <a:xfrm rot="10800000">
              <a:off x="360" y="36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pic>
        <p:nvPicPr>
          <p:cNvPr id="5064" name="client_05.png" descr=""/>
          <p:cNvPicPr/>
          <p:nvPr/>
        </p:nvPicPr>
        <p:blipFill>
          <a:blip r:embed="rId1"/>
          <a:stretch/>
        </p:blipFill>
        <p:spPr>
          <a:xfrm>
            <a:off x="18546840" y="8451720"/>
            <a:ext cx="3809520" cy="2539800"/>
          </a:xfrm>
          <a:prstGeom prst="rect">
            <a:avLst/>
          </a:prstGeom>
          <a:ln w="12700">
            <a:noFill/>
          </a:ln>
        </p:spPr>
      </p:pic>
      <p:pic>
        <p:nvPicPr>
          <p:cNvPr id="5065" name="client_06.png" descr=""/>
          <p:cNvPicPr/>
          <p:nvPr/>
        </p:nvPicPr>
        <p:blipFill>
          <a:blip r:embed="rId2"/>
          <a:stretch/>
        </p:blipFill>
        <p:spPr>
          <a:xfrm>
            <a:off x="13043160" y="8451720"/>
            <a:ext cx="3809520" cy="2539800"/>
          </a:xfrm>
          <a:prstGeom prst="rect">
            <a:avLst/>
          </a:prstGeom>
          <a:ln w="12700">
            <a:noFill/>
          </a:ln>
        </p:spPr>
      </p:pic>
      <p:sp>
        <p:nvSpPr>
          <p:cNvPr id="5066" name="Shape 2368"/>
          <p:cNvSpPr/>
          <p:nvPr/>
        </p:nvSpPr>
        <p:spPr>
          <a:xfrm>
            <a:off x="13211640" y="1799640"/>
            <a:ext cx="9144720" cy="241488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5067" name="Shape 2369"/>
          <p:cNvSpPr/>
          <p:nvPr/>
        </p:nvSpPr>
        <p:spPr>
          <a:xfrm>
            <a:off x="13211640" y="4445640"/>
            <a:ext cx="9144720" cy="42595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n teot clita kuasd gubergren, nosotra seon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8" name="Shape 2380"/>
          <p:cNvSpPr/>
          <p:nvPr/>
        </p:nvSpPr>
        <p:spPr>
          <a:xfrm rot="16200000">
            <a:off x="7682760" y="-7682040"/>
            <a:ext cx="9018000" cy="24383520"/>
          </a:xfrm>
          <a:custGeom>
            <a:avLst/>
            <a:gdLst>
              <a:gd name="textAreaLeft" fmla="*/ 0 w 9018000"/>
              <a:gd name="textAreaRight" fmla="*/ 9018360 w 9018000"/>
              <a:gd name="textAreaTop" fmla="*/ 0 h 24383520"/>
              <a:gd name="textAreaBottom" fmla="*/ 24383880 h 2438352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69" name="Shape 2381"/>
          <p:cNvSpPr/>
          <p:nvPr/>
        </p:nvSpPr>
        <p:spPr>
          <a:xfrm rot="5400000">
            <a:off x="7683120" y="-2985120"/>
            <a:ext cx="9018000" cy="24383520"/>
          </a:xfrm>
          <a:custGeom>
            <a:avLst/>
            <a:gdLst>
              <a:gd name="textAreaLeft" fmla="*/ 0 w 9018000"/>
              <a:gd name="textAreaRight" fmla="*/ 9018360 w 9018000"/>
              <a:gd name="textAreaTop" fmla="*/ 0 h 24383520"/>
              <a:gd name="textAreaBottom" fmla="*/ 24383880 h 2438352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70" name="Shape 2382"/>
          <p:cNvSpPr/>
          <p:nvPr/>
        </p:nvSpPr>
        <p:spPr>
          <a:xfrm>
            <a:off x="2035080" y="1708200"/>
            <a:ext cx="7135200" cy="3773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Creative</a:t>
            </a:r>
            <a:endParaRPr b="0" lang="en-US" sz="11200" spc="-1" strike="noStrike">
              <a:solidFill>
                <a:srgbClr val="000000"/>
              </a:solidFill>
              <a:latin typeface="Arial"/>
            </a:endParaRPr>
          </a:p>
        </p:txBody>
      </p:sp>
      <p:sp>
        <p:nvSpPr>
          <p:cNvPr id="5071" name="Shape 2383"/>
          <p:cNvSpPr/>
          <p:nvPr/>
        </p:nvSpPr>
        <p:spPr>
          <a:xfrm>
            <a:off x="16009200" y="9267120"/>
            <a:ext cx="634680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m danars vreso nade osf lesdiacw sidoraco es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2" name="Shape 2386"/>
          <p:cNvSpPr/>
          <p:nvPr/>
        </p:nvSpPr>
        <p:spPr>
          <a:xfrm>
            <a:off x="13330800" y="1714680"/>
            <a:ext cx="787788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Tagline</a:t>
            </a:r>
            <a:endParaRPr b="0" lang="en-US" sz="11200" spc="-1" strike="noStrike">
              <a:solidFill>
                <a:srgbClr val="000000"/>
              </a:solidFill>
              <a:latin typeface="Arial"/>
            </a:endParaRPr>
          </a:p>
        </p:txBody>
      </p:sp>
      <p:sp>
        <p:nvSpPr>
          <p:cNvPr id="5073" name="Shape 2387"/>
          <p:cNvSpPr/>
          <p:nvPr/>
        </p:nvSpPr>
        <p:spPr>
          <a:xfrm>
            <a:off x="13337280" y="4438800"/>
            <a:ext cx="774936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Nors fransto on dreso nade lesdiacw sids.</a:t>
            </a:r>
            <a:endParaRPr b="0" lang="en-US" sz="4800" spc="-1" strike="noStrike">
              <a:solidFill>
                <a:srgbClr val="000000"/>
              </a:solidFill>
              <a:latin typeface="Arial"/>
            </a:endParaRPr>
          </a:p>
        </p:txBody>
      </p:sp>
      <p:sp>
        <p:nvSpPr>
          <p:cNvPr id="5074" name="Shape 2388"/>
          <p:cNvSpPr/>
          <p:nvPr/>
        </p:nvSpPr>
        <p:spPr>
          <a:xfrm>
            <a:off x="15879960" y="7994160"/>
            <a:ext cx="660348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trosa gubergren, nosotra frudn grasda irtra seao. </a:t>
            </a:r>
            <a:endParaRPr b="0" lang="en-US" sz="3000" spc="-1" strike="noStrike">
              <a:solidFill>
                <a:srgbClr val="000000"/>
              </a:solidFill>
              <a:latin typeface="Arial"/>
            </a:endParaRPr>
          </a:p>
        </p:txBody>
      </p:sp>
      <p:sp>
        <p:nvSpPr>
          <p:cNvPr id="5075" name="Shape 2389"/>
          <p:cNvSpPr/>
          <p:nvPr/>
        </p:nvSpPr>
        <p:spPr>
          <a:xfrm>
            <a:off x="15879960" y="723204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OMA DESNADA</a:t>
            </a:r>
            <a:endParaRPr b="0" lang="en-US" sz="3000" spc="-1" strike="noStrike">
              <a:solidFill>
                <a:srgbClr val="000000"/>
              </a:solidFill>
              <a:latin typeface="Arial"/>
            </a:endParaRPr>
          </a:p>
        </p:txBody>
      </p:sp>
      <p:sp>
        <p:nvSpPr>
          <p:cNvPr id="5076" name="Shape 2390"/>
          <p:cNvSpPr/>
          <p:nvPr/>
        </p:nvSpPr>
        <p:spPr>
          <a:xfrm>
            <a:off x="15879960" y="976752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IDONAS BRUSDRA</a:t>
            </a:r>
            <a:endParaRPr b="0" lang="en-US" sz="3000" spc="-1" strike="noStrike">
              <a:solidFill>
                <a:srgbClr val="000000"/>
              </a:solidFill>
              <a:latin typeface="Arial"/>
            </a:endParaRPr>
          </a:p>
        </p:txBody>
      </p:sp>
      <p:sp>
        <p:nvSpPr>
          <p:cNvPr id="5077" name="Shape 2391"/>
          <p:cNvSpPr/>
          <p:nvPr/>
        </p:nvSpPr>
        <p:spPr>
          <a:xfrm>
            <a:off x="15879960" y="10529640"/>
            <a:ext cx="660348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s tun jamosan  granss rebum turasn murda.</a:t>
            </a:r>
            <a:endParaRPr b="0" lang="en-US" sz="3000" spc="-1" strike="noStrike">
              <a:solidFill>
                <a:srgbClr val="000000"/>
              </a:solidFill>
              <a:latin typeface="Arial"/>
            </a:endParaRPr>
          </a:p>
        </p:txBody>
      </p:sp>
      <p:sp>
        <p:nvSpPr>
          <p:cNvPr id="5078" name="Shape 2392"/>
          <p:cNvSpPr/>
          <p:nvPr/>
        </p:nvSpPr>
        <p:spPr>
          <a:xfrm>
            <a:off x="13337280" y="6846480"/>
            <a:ext cx="25423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01</a:t>
            </a:r>
            <a:endParaRPr b="0" lang="en-US" sz="12000" spc="-1" strike="noStrike">
              <a:solidFill>
                <a:srgbClr val="000000"/>
              </a:solidFill>
              <a:latin typeface="Arial"/>
            </a:endParaRPr>
          </a:p>
        </p:txBody>
      </p:sp>
      <p:sp>
        <p:nvSpPr>
          <p:cNvPr id="5079" name="Shape 2393"/>
          <p:cNvSpPr/>
          <p:nvPr/>
        </p:nvSpPr>
        <p:spPr>
          <a:xfrm>
            <a:off x="13337280" y="9388440"/>
            <a:ext cx="25423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02</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0" name="Shape 2400"/>
          <p:cNvSpPr/>
          <p:nvPr/>
        </p:nvSpPr>
        <p:spPr>
          <a:xfrm>
            <a:off x="2043000" y="1708200"/>
            <a:ext cx="4761720" cy="2072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it-IT"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p:txBody>
      </p:sp>
      <p:sp>
        <p:nvSpPr>
          <p:cNvPr id="5081" name="Shape 2401"/>
          <p:cNvSpPr/>
          <p:nvPr/>
        </p:nvSpPr>
        <p:spPr>
          <a:xfrm>
            <a:off x="12708000" y="8492760"/>
            <a:ext cx="4063680" cy="231804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sduo dolores etoa jam rebum. Steto clita kuasd gubergren, nosotra seao kurdsm. </a:t>
            </a:r>
            <a:endParaRPr b="0" lang="en-US" sz="3000" spc="-1" strike="noStrike">
              <a:solidFill>
                <a:srgbClr val="000000"/>
              </a:solidFill>
              <a:latin typeface="Arial"/>
            </a:endParaRPr>
          </a:p>
        </p:txBody>
      </p:sp>
      <p:sp>
        <p:nvSpPr>
          <p:cNvPr id="5082" name="Shape 2402"/>
          <p:cNvSpPr/>
          <p:nvPr/>
        </p:nvSpPr>
        <p:spPr>
          <a:xfrm>
            <a:off x="12708000" y="7730640"/>
            <a:ext cx="406368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5083" name="Shape 2403"/>
          <p:cNvSpPr/>
          <p:nvPr/>
        </p:nvSpPr>
        <p:spPr>
          <a:xfrm>
            <a:off x="17793000" y="3666600"/>
            <a:ext cx="4063680" cy="231804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drosds sefrao. </a:t>
            </a:r>
            <a:endParaRPr b="0" lang="en-US" sz="3000" spc="-1" strike="noStrike">
              <a:solidFill>
                <a:srgbClr val="000000"/>
              </a:solidFill>
              <a:latin typeface="Arial"/>
            </a:endParaRPr>
          </a:p>
        </p:txBody>
      </p:sp>
      <p:sp>
        <p:nvSpPr>
          <p:cNvPr id="5084" name="Shape 2404"/>
          <p:cNvSpPr/>
          <p:nvPr/>
        </p:nvSpPr>
        <p:spPr>
          <a:xfrm>
            <a:off x="17793000" y="2904840"/>
            <a:ext cx="406368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KE DESIGN</a:t>
            </a:r>
            <a:endParaRPr b="0" lang="en-US" sz="3000" spc="-1" strike="noStrike">
              <a:solidFill>
                <a:srgbClr val="000000"/>
              </a:solidFill>
              <a:latin typeface="Arial"/>
            </a:endParaRPr>
          </a:p>
        </p:txBody>
      </p:sp>
      <p:sp>
        <p:nvSpPr>
          <p:cNvPr id="5085" name="Shape 2405"/>
          <p:cNvSpPr/>
          <p:nvPr/>
        </p:nvSpPr>
        <p:spPr>
          <a:xfrm>
            <a:off x="2040120" y="3666600"/>
            <a:ext cx="5079600" cy="254340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Dasta siaws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sidm bring</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es nsond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6" name="PlaceHolder 1"/>
          <p:cNvSpPr>
            <a:spLocks noGrp="1"/>
          </p:cNvSpPr>
          <p:nvPr>
            <p:ph type="sldNum" idx="109"/>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4E1B0F30-32EC-4A4B-8E0A-D8AF9A334001}" type="slidenum">
              <a:rPr b="0" lang="en-US" sz="2800" spc="-1" strike="noStrike">
                <a:solidFill>
                  <a:srgbClr val="797979"/>
                </a:solidFill>
                <a:latin typeface="Helvetica Light"/>
                <a:ea typeface="Helvetica Light"/>
              </a:rPr>
              <a:t>104</a:t>
            </a:fld>
            <a:endParaRPr b="0" lang="en-US" sz="2800" spc="-1" strike="noStrike">
              <a:solidFill>
                <a:srgbClr val="000000"/>
              </a:solidFill>
              <a:latin typeface="Times New Roman"/>
            </a:endParaRPr>
          </a:p>
        </p:txBody>
      </p:sp>
      <p:graphicFrame>
        <p:nvGraphicFramePr>
          <p:cNvPr id="5087" name="Chart 2408"/>
          <p:cNvGraphicFramePr/>
          <p:nvPr/>
        </p:nvGraphicFramePr>
        <p:xfrm>
          <a:off x="13070880" y="1812960"/>
          <a:ext cx="9291240" cy="9957240"/>
        </p:xfrm>
        <a:graphic>
          <a:graphicData uri="http://schemas.openxmlformats.org/drawingml/2006/chart">
            <c:chart xmlns:c="http://schemas.openxmlformats.org/drawingml/2006/chart" xmlns:r="http://schemas.openxmlformats.org/officeDocument/2006/relationships" r:id="rId1"/>
          </a:graphicData>
        </a:graphic>
      </p:graphicFrame>
      <p:sp>
        <p:nvSpPr>
          <p:cNvPr id="5088" name="PlaceHolder 2"/>
          <p:cNvSpPr>
            <a:spLocks noGrp="1"/>
          </p:cNvSpPr>
          <p:nvPr>
            <p:ph type="title"/>
          </p:nvPr>
        </p:nvSpPr>
        <p:spPr>
          <a:xfrm>
            <a:off x="2031840" y="1708200"/>
            <a:ext cx="914508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Graphic</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Chart</a:t>
            </a:r>
            <a:endParaRPr b="0" lang="en-US" sz="11200" spc="-1" strike="noStrike">
              <a:solidFill>
                <a:srgbClr val="009193"/>
              </a:solidFill>
              <a:latin typeface="Helvetica Light"/>
            </a:endParaRPr>
          </a:p>
        </p:txBody>
      </p:sp>
      <p:sp>
        <p:nvSpPr>
          <p:cNvPr id="5089" name="Shape 2410"/>
          <p:cNvSpPr/>
          <p:nvPr/>
        </p:nvSpPr>
        <p:spPr>
          <a:xfrm>
            <a:off x="2031840" y="6013800"/>
            <a:ext cx="9145080" cy="20361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Froada osa mago ona leso damer prier ersade.</a:t>
            </a:r>
            <a:endParaRPr b="0" lang="en-US" sz="4800" spc="-1" strike="noStrike">
              <a:solidFill>
                <a:srgbClr val="000000"/>
              </a:solidFill>
              <a:latin typeface="Arial"/>
            </a:endParaRPr>
          </a:p>
        </p:txBody>
      </p:sp>
      <p:sp>
        <p:nvSpPr>
          <p:cNvPr id="5090" name="Shape 2411"/>
          <p:cNvSpPr/>
          <p:nvPr/>
        </p:nvSpPr>
        <p:spPr>
          <a:xfrm>
            <a:off x="2032200" y="9043920"/>
            <a:ext cx="9144720" cy="28069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Psusit druamet. Lorem eso ipsum dolor sit amet, deras consetetur sadipscing elitromas. Sed diam dnie nonumy eirmod tempor invidunt utony labore etodre dolore magna aliquyam desando erosa mie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1" name="PlaceHolder 1"/>
          <p:cNvSpPr>
            <a:spLocks noGrp="1"/>
          </p:cNvSpPr>
          <p:nvPr>
            <p:ph type="sldNum" idx="110"/>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4B80871B-B569-41D8-93AC-1C6CA23D7264}" type="slidenum">
              <a:rPr b="0" lang="en-US" sz="2800" spc="-1" strike="noStrike">
                <a:solidFill>
                  <a:srgbClr val="797979"/>
                </a:solidFill>
                <a:latin typeface="Helvetica Light"/>
                <a:ea typeface="Helvetica Light"/>
              </a:rPr>
              <a:t>104</a:t>
            </a:fld>
            <a:endParaRPr b="0" lang="en-US" sz="2800" spc="-1" strike="noStrike">
              <a:solidFill>
                <a:srgbClr val="000000"/>
              </a:solidFill>
              <a:latin typeface="Times New Roman"/>
            </a:endParaRPr>
          </a:p>
        </p:txBody>
      </p:sp>
      <p:graphicFrame>
        <p:nvGraphicFramePr>
          <p:cNvPr id="5092" name="Chart 2414"/>
          <p:cNvGraphicFramePr/>
          <p:nvPr/>
        </p:nvGraphicFramePr>
        <p:xfrm>
          <a:off x="2035080" y="6161040"/>
          <a:ext cx="4063680" cy="4063680"/>
        </p:xfrm>
        <a:graphic>
          <a:graphicData uri="http://schemas.openxmlformats.org/drawingml/2006/chart">
            <c:chart xmlns:c="http://schemas.openxmlformats.org/drawingml/2006/chart" xmlns:r="http://schemas.openxmlformats.org/officeDocument/2006/relationships" r:id="rId1"/>
          </a:graphicData>
        </a:graphic>
      </p:graphicFrame>
      <p:sp>
        <p:nvSpPr>
          <p:cNvPr id="5093" name="Shape 2415"/>
          <p:cNvSpPr/>
          <p:nvPr/>
        </p:nvSpPr>
        <p:spPr>
          <a:xfrm>
            <a:off x="2289240" y="6415200"/>
            <a:ext cx="3555720" cy="3555720"/>
          </a:xfrm>
          <a:prstGeom prst="ellipse">
            <a:avLst/>
          </a:pr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94" name="Shape 2416"/>
          <p:cNvSpPr/>
          <p:nvPr/>
        </p:nvSpPr>
        <p:spPr>
          <a:xfrm>
            <a:off x="2289240" y="7448400"/>
            <a:ext cx="3555720" cy="1393560"/>
          </a:xfrm>
          <a:prstGeom prst="rect">
            <a:avLst/>
          </a:prstGeom>
          <a:noFill/>
          <a:ln w="12700">
            <a:noFill/>
          </a:ln>
        </p:spPr>
        <p:style>
          <a:lnRef idx="0"/>
          <a:fillRef idx="0"/>
          <a:effectRef idx="0"/>
          <a:fontRef idx="minor"/>
        </p:style>
        <p:txBody>
          <a:bodyPr lIns="50760" rIns="50760" tIns="50760" bIns="50760" anchor="ctr">
            <a:noAutofit/>
          </a:bodyPr>
          <a:p>
            <a:pPr algn="ctr">
              <a:lnSpc>
                <a:spcPct val="100000"/>
              </a:lnSpc>
              <a:tabLst>
                <a:tab algn="l" pos="0"/>
              </a:tabLst>
            </a:pPr>
            <a:r>
              <a:rPr b="0" lang="en-US" sz="8400" spc="-1" strike="noStrike">
                <a:solidFill>
                  <a:srgbClr val="212121"/>
                </a:solidFill>
                <a:latin typeface="Montserrat"/>
                <a:ea typeface="Montserrat"/>
              </a:rPr>
              <a:t>43%</a:t>
            </a:r>
            <a:endParaRPr b="0" lang="en-US" sz="8400" spc="-1" strike="noStrike">
              <a:solidFill>
                <a:srgbClr val="000000"/>
              </a:solidFill>
              <a:latin typeface="Arial"/>
            </a:endParaRPr>
          </a:p>
        </p:txBody>
      </p:sp>
      <p:graphicFrame>
        <p:nvGraphicFramePr>
          <p:cNvPr id="5095" name="Chart 2417"/>
          <p:cNvGraphicFramePr/>
          <p:nvPr/>
        </p:nvGraphicFramePr>
        <p:xfrm>
          <a:off x="7113240" y="6161040"/>
          <a:ext cx="4063680" cy="4063680"/>
        </p:xfrm>
        <a:graphic>
          <a:graphicData uri="http://schemas.openxmlformats.org/drawingml/2006/chart">
            <c:chart xmlns:c="http://schemas.openxmlformats.org/drawingml/2006/chart" xmlns:r="http://schemas.openxmlformats.org/officeDocument/2006/relationships" r:id="rId2"/>
          </a:graphicData>
        </a:graphic>
      </p:graphicFrame>
      <p:sp>
        <p:nvSpPr>
          <p:cNvPr id="5096" name="Shape 2418"/>
          <p:cNvSpPr/>
          <p:nvPr/>
        </p:nvSpPr>
        <p:spPr>
          <a:xfrm>
            <a:off x="7367400" y="6415200"/>
            <a:ext cx="3555720" cy="3555720"/>
          </a:xfrm>
          <a:prstGeom prst="ellipse">
            <a:avLst/>
          </a:pr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97" name="Shape 2419"/>
          <p:cNvSpPr/>
          <p:nvPr/>
        </p:nvSpPr>
        <p:spPr>
          <a:xfrm>
            <a:off x="7367400" y="7448400"/>
            <a:ext cx="3555720" cy="1393560"/>
          </a:xfrm>
          <a:prstGeom prst="rect">
            <a:avLst/>
          </a:prstGeom>
          <a:noFill/>
          <a:ln w="12700">
            <a:noFill/>
          </a:ln>
        </p:spPr>
        <p:style>
          <a:lnRef idx="0"/>
          <a:fillRef idx="0"/>
          <a:effectRef idx="0"/>
          <a:fontRef idx="minor"/>
        </p:style>
        <p:txBody>
          <a:bodyPr lIns="50760" rIns="50760" tIns="50760" bIns="50760" anchor="ctr">
            <a:noAutofit/>
          </a:bodyPr>
          <a:p>
            <a:pPr algn="ctr">
              <a:lnSpc>
                <a:spcPct val="100000"/>
              </a:lnSpc>
              <a:tabLst>
                <a:tab algn="l" pos="0"/>
              </a:tabLst>
            </a:pPr>
            <a:r>
              <a:rPr b="0" lang="en-US" sz="8400" spc="-1" strike="noStrike">
                <a:solidFill>
                  <a:srgbClr val="212121"/>
                </a:solidFill>
                <a:latin typeface="Montserrat"/>
                <a:ea typeface="Montserrat"/>
              </a:rPr>
              <a:t>57%</a:t>
            </a:r>
            <a:endParaRPr b="0" lang="en-US" sz="8400" spc="-1" strike="noStrike">
              <a:solidFill>
                <a:srgbClr val="000000"/>
              </a:solidFill>
              <a:latin typeface="Arial"/>
            </a:endParaRPr>
          </a:p>
        </p:txBody>
      </p:sp>
      <p:sp>
        <p:nvSpPr>
          <p:cNvPr id="5098" name="PlaceHolder 2"/>
          <p:cNvSpPr>
            <a:spLocks noGrp="1"/>
          </p:cNvSpPr>
          <p:nvPr>
            <p:ph type="title"/>
          </p:nvPr>
        </p:nvSpPr>
        <p:spPr>
          <a:xfrm>
            <a:off x="2031840" y="1708200"/>
            <a:ext cx="914508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Graphic</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Chart</a:t>
            </a:r>
            <a:endParaRPr b="0" lang="en-US" sz="11200" spc="-1" strike="noStrike">
              <a:solidFill>
                <a:srgbClr val="009193"/>
              </a:solidFill>
              <a:latin typeface="Helvetica Light"/>
            </a:endParaRPr>
          </a:p>
        </p:txBody>
      </p:sp>
      <p:sp>
        <p:nvSpPr>
          <p:cNvPr id="5099" name="Shape 2421"/>
          <p:cNvSpPr/>
          <p:nvPr/>
        </p:nvSpPr>
        <p:spPr>
          <a:xfrm>
            <a:off x="2035080" y="11098440"/>
            <a:ext cx="406368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ONE</a:t>
            </a:r>
            <a:endParaRPr b="0" lang="en-US" sz="3200" spc="-1" strike="noStrike">
              <a:solidFill>
                <a:srgbClr val="000000"/>
              </a:solidFill>
              <a:latin typeface="Arial"/>
            </a:endParaRPr>
          </a:p>
        </p:txBody>
      </p:sp>
      <p:sp>
        <p:nvSpPr>
          <p:cNvPr id="5100" name="Shape 2422"/>
          <p:cNvSpPr/>
          <p:nvPr/>
        </p:nvSpPr>
        <p:spPr>
          <a:xfrm>
            <a:off x="7113240" y="11098440"/>
            <a:ext cx="406368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TWO</a:t>
            </a:r>
            <a:endParaRPr b="0" lang="en-US" sz="3200" spc="-1" strike="noStrike">
              <a:solidFill>
                <a:srgbClr val="000000"/>
              </a:solidFill>
              <a:latin typeface="Arial"/>
            </a:endParaRPr>
          </a:p>
        </p:txBody>
      </p:sp>
      <p:sp>
        <p:nvSpPr>
          <p:cNvPr id="5101" name="Shape 2423"/>
          <p:cNvSpPr/>
          <p:nvPr/>
        </p:nvSpPr>
        <p:spPr>
          <a:xfrm>
            <a:off x="13211640" y="1835280"/>
            <a:ext cx="9145080" cy="20361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Froada osa mago ona leso damer prier ersade.</a:t>
            </a:r>
            <a:endParaRPr b="0" lang="en-US" sz="4800" spc="-1" strike="noStrike">
              <a:solidFill>
                <a:srgbClr val="000000"/>
              </a:solidFill>
              <a:latin typeface="Arial"/>
            </a:endParaRPr>
          </a:p>
        </p:txBody>
      </p:sp>
      <p:sp>
        <p:nvSpPr>
          <p:cNvPr id="5102" name="Shape 2424"/>
          <p:cNvSpPr/>
          <p:nvPr/>
        </p:nvSpPr>
        <p:spPr>
          <a:xfrm>
            <a:off x="13212000" y="4378680"/>
            <a:ext cx="9144720" cy="203616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Psusit druamet. Lorem eso ipsum dolor sit amet, deras consetetur sadipscing elitromas. Sed diam dnie nonumy eirmod temporosn.</a:t>
            </a:r>
            <a:endParaRPr b="0" lang="en-US" sz="3000" spc="-1" strike="noStrike">
              <a:solidFill>
                <a:srgbClr val="000000"/>
              </a:solidFill>
              <a:latin typeface="Arial"/>
            </a:endParaRPr>
          </a:p>
        </p:txBody>
      </p:sp>
      <p:sp>
        <p:nvSpPr>
          <p:cNvPr id="5103" name="Shape 2425"/>
          <p:cNvSpPr/>
          <p:nvPr/>
        </p:nvSpPr>
        <p:spPr>
          <a:xfrm>
            <a:off x="15064200" y="7448400"/>
            <a:ext cx="729252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CIRCLE ONE</a:t>
            </a:r>
            <a:endParaRPr b="0" lang="en-US" sz="3000" spc="-1" strike="noStrike">
              <a:solidFill>
                <a:srgbClr val="000000"/>
              </a:solidFill>
              <a:latin typeface="Arial"/>
            </a:endParaRPr>
          </a:p>
        </p:txBody>
      </p:sp>
      <p:sp>
        <p:nvSpPr>
          <p:cNvPr id="5104" name="Shape 2426"/>
          <p:cNvSpPr/>
          <p:nvPr/>
        </p:nvSpPr>
        <p:spPr>
          <a:xfrm>
            <a:off x="15064200" y="8210520"/>
            <a:ext cx="7292520" cy="11523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5105" name="Shape 2427"/>
          <p:cNvSpPr/>
          <p:nvPr/>
        </p:nvSpPr>
        <p:spPr>
          <a:xfrm>
            <a:off x="15064200" y="9945360"/>
            <a:ext cx="729252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CIRCLE TWO</a:t>
            </a:r>
            <a:endParaRPr b="0" lang="en-US" sz="3000" spc="-1" strike="noStrike">
              <a:solidFill>
                <a:srgbClr val="000000"/>
              </a:solidFill>
              <a:latin typeface="Arial"/>
            </a:endParaRPr>
          </a:p>
        </p:txBody>
      </p:sp>
      <p:sp>
        <p:nvSpPr>
          <p:cNvPr id="5106" name="Shape 2428"/>
          <p:cNvSpPr/>
          <p:nvPr/>
        </p:nvSpPr>
        <p:spPr>
          <a:xfrm>
            <a:off x="15064200" y="10707480"/>
            <a:ext cx="7292520" cy="11523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5107" name="Shape 2429"/>
          <p:cNvSpPr/>
          <p:nvPr/>
        </p:nvSpPr>
        <p:spPr>
          <a:xfrm>
            <a:off x="13563720" y="74484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5108" name="Shape 2430"/>
          <p:cNvSpPr/>
          <p:nvPr/>
        </p:nvSpPr>
        <p:spPr>
          <a:xfrm>
            <a:off x="13563720" y="99712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9" name="PlaceHolder 1"/>
          <p:cNvSpPr>
            <a:spLocks noGrp="1"/>
          </p:cNvSpPr>
          <p:nvPr>
            <p:ph type="sldNum" idx="111"/>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FB345D4D-BBB0-4E53-8EFA-00EA5E5C6028}" type="slidenum">
              <a:rPr b="0" lang="en-US" sz="2800" spc="-1" strike="noStrike">
                <a:solidFill>
                  <a:srgbClr val="797979"/>
                </a:solidFill>
                <a:latin typeface="Helvetica Light"/>
                <a:ea typeface="Helvetica Light"/>
              </a:rPr>
              <a:t>104</a:t>
            </a:fld>
            <a:endParaRPr b="0" lang="en-US" sz="2800" spc="-1" strike="noStrike">
              <a:solidFill>
                <a:srgbClr val="000000"/>
              </a:solidFill>
              <a:latin typeface="Times New Roman"/>
            </a:endParaRPr>
          </a:p>
        </p:txBody>
      </p:sp>
      <p:sp>
        <p:nvSpPr>
          <p:cNvPr id="5110" name="PlaceHolder 2"/>
          <p:cNvSpPr>
            <a:spLocks noGrp="1"/>
          </p:cNvSpPr>
          <p:nvPr>
            <p:ph type="title"/>
          </p:nvPr>
        </p:nvSpPr>
        <p:spPr>
          <a:xfrm>
            <a:off x="13211640" y="1712160"/>
            <a:ext cx="914508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Graphic</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Chart</a:t>
            </a:r>
            <a:endParaRPr b="0" lang="en-US" sz="11200" spc="-1" strike="noStrike">
              <a:solidFill>
                <a:srgbClr val="009193"/>
              </a:solidFill>
              <a:latin typeface="Helvetica Light"/>
            </a:endParaRPr>
          </a:p>
        </p:txBody>
      </p:sp>
      <p:sp>
        <p:nvSpPr>
          <p:cNvPr id="5111" name="Shape 2434"/>
          <p:cNvSpPr/>
          <p:nvPr/>
        </p:nvSpPr>
        <p:spPr>
          <a:xfrm>
            <a:off x="13211640" y="6017760"/>
            <a:ext cx="9145080" cy="20361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Froada osa mago ona leso damer prier ersade.</a:t>
            </a:r>
            <a:endParaRPr b="0" lang="en-US" sz="4800" spc="-1" strike="noStrike">
              <a:solidFill>
                <a:srgbClr val="000000"/>
              </a:solidFill>
              <a:latin typeface="Arial"/>
            </a:endParaRPr>
          </a:p>
        </p:txBody>
      </p:sp>
      <p:sp>
        <p:nvSpPr>
          <p:cNvPr id="5112" name="Shape 2435"/>
          <p:cNvSpPr/>
          <p:nvPr/>
        </p:nvSpPr>
        <p:spPr>
          <a:xfrm>
            <a:off x="13212000" y="9047880"/>
            <a:ext cx="9144720" cy="28069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Psusit druamet. Lorem eso ipsum dolor sit amet, deras consetetur sadipscing elitromas. Sed diam dnie nonumy eirmod tempor invidunt utony labore etodre dolore magna aliquyam desando erosa mie greadon.</a:t>
            </a:r>
            <a:endParaRPr b="0" lang="en-US" sz="3000" spc="-1" strike="noStrike">
              <a:solidFill>
                <a:srgbClr val="000000"/>
              </a:solidFill>
              <a:latin typeface="Arial"/>
            </a:endParaRPr>
          </a:p>
        </p:txBody>
      </p:sp>
      <p:graphicFrame>
        <p:nvGraphicFramePr>
          <p:cNvPr id="5113" name="Chart 2436"/>
          <p:cNvGraphicFramePr/>
          <p:nvPr/>
        </p:nvGraphicFramePr>
        <p:xfrm>
          <a:off x="1720440" y="1562400"/>
          <a:ext cx="9340920" cy="1019772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4" name="PlaceHolder 1"/>
          <p:cNvSpPr>
            <a:spLocks noGrp="1"/>
          </p:cNvSpPr>
          <p:nvPr>
            <p:ph type="sldNum" idx="112"/>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F416C88C-4913-4EA4-A8E4-A47002115379}" type="slidenum">
              <a:rPr b="0" lang="en-US" sz="2800" spc="-1" strike="noStrike">
                <a:solidFill>
                  <a:srgbClr val="797979"/>
                </a:solidFill>
                <a:latin typeface="Helvetica Light"/>
                <a:ea typeface="Helvetica Light"/>
              </a:rPr>
              <a:t>104</a:t>
            </a:fld>
            <a:endParaRPr b="0" lang="en-US" sz="2800" spc="-1" strike="noStrike">
              <a:solidFill>
                <a:srgbClr val="000000"/>
              </a:solidFill>
              <a:latin typeface="Times New Roman"/>
            </a:endParaRPr>
          </a:p>
        </p:txBody>
      </p:sp>
      <p:sp>
        <p:nvSpPr>
          <p:cNvPr id="5115" name="PlaceHolder 2"/>
          <p:cNvSpPr>
            <a:spLocks noGrp="1"/>
          </p:cNvSpPr>
          <p:nvPr>
            <p:ph type="title"/>
          </p:nvPr>
        </p:nvSpPr>
        <p:spPr>
          <a:xfrm>
            <a:off x="2031840" y="1708200"/>
            <a:ext cx="914508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Graphic</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Chart</a:t>
            </a:r>
            <a:endParaRPr b="0" lang="en-US" sz="11200" spc="-1" strike="noStrike">
              <a:solidFill>
                <a:srgbClr val="009193"/>
              </a:solidFill>
              <a:latin typeface="Helvetica Light"/>
            </a:endParaRPr>
          </a:p>
        </p:txBody>
      </p:sp>
      <p:sp>
        <p:nvSpPr>
          <p:cNvPr id="5116" name="Shape 2440"/>
          <p:cNvSpPr/>
          <p:nvPr/>
        </p:nvSpPr>
        <p:spPr>
          <a:xfrm>
            <a:off x="2031840" y="6013800"/>
            <a:ext cx="9145080" cy="20361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Froada osa mago ona leso damer prier ersade.</a:t>
            </a:r>
            <a:endParaRPr b="0" lang="en-US" sz="4800" spc="-1" strike="noStrike">
              <a:solidFill>
                <a:srgbClr val="000000"/>
              </a:solidFill>
              <a:latin typeface="Arial"/>
            </a:endParaRPr>
          </a:p>
        </p:txBody>
      </p:sp>
      <p:sp>
        <p:nvSpPr>
          <p:cNvPr id="5117" name="Shape 2441"/>
          <p:cNvSpPr/>
          <p:nvPr/>
        </p:nvSpPr>
        <p:spPr>
          <a:xfrm>
            <a:off x="2032200" y="9043920"/>
            <a:ext cx="9144720" cy="28069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Psusit druamet. Lorem eso ipsum dolor sit amet, deras consetetur sadipscing elitromas. Sed diam dnie nonumy eirmod tempor invidunt utony labore etodre dolore magna aliquyam desando erosa mie greadon.</a:t>
            </a:r>
            <a:endParaRPr b="0" lang="en-US" sz="3000" spc="-1" strike="noStrike">
              <a:solidFill>
                <a:srgbClr val="000000"/>
              </a:solidFill>
              <a:latin typeface="Arial"/>
            </a:endParaRPr>
          </a:p>
        </p:txBody>
      </p:sp>
      <p:graphicFrame>
        <p:nvGraphicFramePr>
          <p:cNvPr id="5118" name="Chart 2442"/>
          <p:cNvGraphicFramePr/>
          <p:nvPr/>
        </p:nvGraphicFramePr>
        <p:xfrm>
          <a:off x="10995480" y="2031480"/>
          <a:ext cx="12098520" cy="6732720"/>
        </p:xfrm>
        <a:graphic>
          <a:graphicData uri="http://schemas.openxmlformats.org/drawingml/2006/chart">
            <c:chart xmlns:c="http://schemas.openxmlformats.org/drawingml/2006/chart" xmlns:r="http://schemas.openxmlformats.org/officeDocument/2006/relationships" r:id="rId1"/>
          </a:graphicData>
        </a:graphic>
      </p:graphicFrame>
      <p:sp>
        <p:nvSpPr>
          <p:cNvPr id="5119" name="Shape 2443"/>
          <p:cNvSpPr/>
          <p:nvPr/>
        </p:nvSpPr>
        <p:spPr>
          <a:xfrm>
            <a:off x="13211640" y="10137960"/>
            <a:ext cx="9144720" cy="171288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nie nonumy eirmod tempor invidunt utony labore etodre dolore magna aliquyam desando erosa mie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20" name="Chart 2445"/>
          <p:cNvGraphicFramePr/>
          <p:nvPr/>
        </p:nvGraphicFramePr>
        <p:xfrm>
          <a:off x="1988280" y="6067800"/>
          <a:ext cx="20634480" cy="5614200"/>
        </p:xfrm>
        <a:graphic>
          <a:graphicData uri="http://schemas.openxmlformats.org/drawingml/2006/chart">
            <c:chart xmlns:c="http://schemas.openxmlformats.org/drawingml/2006/chart" xmlns:r="http://schemas.openxmlformats.org/officeDocument/2006/relationships" r:id="rId1"/>
          </a:graphicData>
        </a:graphic>
      </p:graphicFrame>
      <p:sp>
        <p:nvSpPr>
          <p:cNvPr id="5121" name="Shape 2446"/>
          <p:cNvSpPr/>
          <p:nvPr/>
        </p:nvSpPr>
        <p:spPr>
          <a:xfrm>
            <a:off x="13223160" y="1821240"/>
            <a:ext cx="9120600" cy="94644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Frans brano predsa</a:t>
            </a:r>
            <a:endParaRPr b="0" lang="en-US" sz="4800" spc="-1" strike="noStrike">
              <a:solidFill>
                <a:srgbClr val="000000"/>
              </a:solidFill>
              <a:latin typeface="Arial"/>
            </a:endParaRPr>
          </a:p>
        </p:txBody>
      </p:sp>
      <p:sp>
        <p:nvSpPr>
          <p:cNvPr id="5122" name="Shape 2447"/>
          <p:cNvSpPr/>
          <p:nvPr/>
        </p:nvSpPr>
        <p:spPr>
          <a:xfrm>
            <a:off x="13223160" y="3209400"/>
            <a:ext cx="9120600" cy="177984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lor sit amet, deras consetetur forns sadicing elitromas. Sed diam dnie friad nonumy eirmod tempor invidunt forn utony.</a:t>
            </a:r>
            <a:endParaRPr b="0" lang="en-US" sz="3000" spc="-1" strike="noStrike">
              <a:solidFill>
                <a:srgbClr val="000000"/>
              </a:solidFill>
              <a:latin typeface="Arial"/>
            </a:endParaRPr>
          </a:p>
        </p:txBody>
      </p:sp>
      <p:sp>
        <p:nvSpPr>
          <p:cNvPr id="5123" name="PlaceHolder 1"/>
          <p:cNvSpPr>
            <a:spLocks noGrp="1"/>
          </p:cNvSpPr>
          <p:nvPr>
            <p:ph type="title"/>
          </p:nvPr>
        </p:nvSpPr>
        <p:spPr>
          <a:xfrm>
            <a:off x="2031840" y="1708200"/>
            <a:ext cx="914508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Graphic</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Chart</a:t>
            </a:r>
            <a:endParaRPr b="0" lang="en-US" sz="11200" spc="-1" strike="noStrike">
              <a:solidFill>
                <a:srgbClr val="009193"/>
              </a:solidFill>
              <a:latin typeface="Helvetica Light"/>
            </a:endParaRPr>
          </a:p>
        </p:txBody>
      </p:sp>
      <p:sp>
        <p:nvSpPr>
          <p:cNvPr id="5124" name="PlaceHolder 2"/>
          <p:cNvSpPr>
            <a:spLocks noGrp="1"/>
          </p:cNvSpPr>
          <p:nvPr>
            <p:ph type="sldNum" idx="113"/>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8FF879A2-C207-41E4-9406-9316996F8B77}" type="slidenum">
              <a:rPr b="0" lang="en-US" sz="2800" spc="-1" strike="noStrike">
                <a:solidFill>
                  <a:srgbClr val="797979"/>
                </a:solidFill>
                <a:latin typeface="Helvetica Light"/>
                <a:ea typeface="Helvetica Light"/>
              </a:rPr>
              <a:t>104</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37" name="Group 1119"/>
          <p:cNvGrpSpPr/>
          <p:nvPr/>
        </p:nvGrpSpPr>
        <p:grpSpPr>
          <a:xfrm>
            <a:off x="11148120" y="3823560"/>
            <a:ext cx="11208240" cy="6506640"/>
            <a:chOff x="11148120" y="3823560"/>
            <a:chExt cx="11208240" cy="6506640"/>
          </a:xfrm>
        </p:grpSpPr>
        <p:sp>
          <p:nvSpPr>
            <p:cNvPr id="4238" name="Shape 1110"/>
            <p:cNvSpPr/>
            <p:nvPr/>
          </p:nvSpPr>
          <p:spPr>
            <a:xfrm>
              <a:off x="12169080" y="3854880"/>
              <a:ext cx="9122400" cy="6178680"/>
            </a:xfrm>
            <a:custGeom>
              <a:avLst/>
              <a:gdLst>
                <a:gd name="textAreaLeft" fmla="*/ 0 w 9122400"/>
                <a:gd name="textAreaRight" fmla="*/ 9122760 w 9122400"/>
                <a:gd name="textAreaTop" fmla="*/ 0 h 6178680"/>
                <a:gd name="textAreaBottom" fmla="*/ 6179040 h 617868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39" name="Shape 1111"/>
            <p:cNvSpPr/>
            <p:nvPr/>
          </p:nvSpPr>
          <p:spPr>
            <a:xfrm>
              <a:off x="12150360" y="3823560"/>
              <a:ext cx="9159840" cy="6231960"/>
            </a:xfrm>
            <a:custGeom>
              <a:avLst/>
              <a:gdLst>
                <a:gd name="textAreaLeft" fmla="*/ 0 w 9159840"/>
                <a:gd name="textAreaRight" fmla="*/ 9160200 w 9159840"/>
                <a:gd name="textAreaTop" fmla="*/ 0 h 6231960"/>
                <a:gd name="textAreaBottom" fmla="*/ 6232320 h 623196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b4b3b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0" name="Shape 1112"/>
            <p:cNvSpPr/>
            <p:nvPr/>
          </p:nvSpPr>
          <p:spPr>
            <a:xfrm>
              <a:off x="12197520" y="3886560"/>
              <a:ext cx="9064440" cy="5999400"/>
            </a:xfrm>
            <a:custGeom>
              <a:avLst/>
              <a:gdLst>
                <a:gd name="textAreaLeft" fmla="*/ 0 w 9064440"/>
                <a:gd name="textAreaRight" fmla="*/ 9064800 w 9064440"/>
                <a:gd name="textAreaTop" fmla="*/ 0 h 5999400"/>
                <a:gd name="textAreaBottom" fmla="*/ 5999760 h 599940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1" name="Shape 1113"/>
            <p:cNvSpPr/>
            <p:nvPr/>
          </p:nvSpPr>
          <p:spPr>
            <a:xfrm>
              <a:off x="12486600" y="4278960"/>
              <a:ext cx="8484480" cy="5346000"/>
            </a:xfrm>
            <a:custGeom>
              <a:avLst/>
              <a:gdLst>
                <a:gd name="textAreaLeft" fmla="*/ 0 w 8484480"/>
                <a:gd name="textAreaRight" fmla="*/ 8484840 w 8484480"/>
                <a:gd name="textAreaTop" fmla="*/ 0 h 5346000"/>
                <a:gd name="textAreaBottom" fmla="*/ 5346360 h 534600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2" name="Shape 1114"/>
            <p:cNvSpPr/>
            <p:nvPr/>
          </p:nvSpPr>
          <p:spPr>
            <a:xfrm>
              <a:off x="16696440" y="4106160"/>
              <a:ext cx="71280" cy="71280"/>
            </a:xfrm>
            <a:custGeom>
              <a:avLst/>
              <a:gdLst>
                <a:gd name="textAreaLeft" fmla="*/ 0 w 71280"/>
                <a:gd name="textAreaRight" fmla="*/ 71640 w 71280"/>
                <a:gd name="textAreaTop" fmla="*/ 0 h 71280"/>
                <a:gd name="textAreaBottom" fmla="*/ 71640 h 7128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12700">
              <a:noFill/>
            </a:ln>
          </p:spPr>
          <p:style>
            <a:lnRef idx="0"/>
            <a:fillRef idx="0"/>
            <a:effectRef idx="0"/>
            <a:fontRef idx="minor"/>
          </p:style>
          <p:txBody>
            <a:bodyPr numCol="1" spcCol="0" lIns="45720" rIns="45720" tIns="35640" bIns="35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3" name="Shape 1115"/>
            <p:cNvSpPr/>
            <p:nvPr/>
          </p:nvSpPr>
          <p:spPr>
            <a:xfrm>
              <a:off x="16696440" y="4107600"/>
              <a:ext cx="55440" cy="54000"/>
            </a:xfrm>
            <a:custGeom>
              <a:avLst/>
              <a:gdLst>
                <a:gd name="textAreaLeft" fmla="*/ 0 w 55440"/>
                <a:gd name="textAreaRight" fmla="*/ 55800 w 55440"/>
                <a:gd name="textAreaTop" fmla="*/ 0 h 54000"/>
                <a:gd name="textAreaBottom" fmla="*/ 54360 h 5400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12700">
              <a:noFill/>
            </a:ln>
          </p:spPr>
          <p:style>
            <a:lnRef idx="0"/>
            <a:fillRef idx="0"/>
            <a:effectRef idx="0"/>
            <a:fontRef idx="minor"/>
          </p:style>
          <p:txBody>
            <a:bodyPr numCol="1" spcCol="0" lIns="45720" rIns="45720" tIns="27000" bIns="27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4" name="Shape 1116"/>
            <p:cNvSpPr/>
            <p:nvPr/>
          </p:nvSpPr>
          <p:spPr>
            <a:xfrm>
              <a:off x="11148840" y="10180440"/>
              <a:ext cx="11207520" cy="149760"/>
            </a:xfrm>
            <a:custGeom>
              <a:avLst/>
              <a:gdLst>
                <a:gd name="textAreaLeft" fmla="*/ 0 w 11207520"/>
                <a:gd name="textAreaRight" fmla="*/ 11207880 w 11207520"/>
                <a:gd name="textAreaTop" fmla="*/ 0 h 149760"/>
                <a:gd name="textAreaBottom" fmla="*/ 150120 h 14976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solidFill>
              <a:srgbClr val="afba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5" name="Shape 1117"/>
            <p:cNvSpPr/>
            <p:nvPr/>
          </p:nvSpPr>
          <p:spPr>
            <a:xfrm>
              <a:off x="11148120" y="10006200"/>
              <a:ext cx="11208240" cy="177840"/>
            </a:xfrm>
            <a:custGeom>
              <a:avLst/>
              <a:gdLst>
                <a:gd name="textAreaLeft" fmla="*/ 0 w 11208240"/>
                <a:gd name="textAreaRight" fmla="*/ 11208600 w 11208240"/>
                <a:gd name="textAreaTop" fmla="*/ 0 h 177840"/>
                <a:gd name="textAreaBottom" fmla="*/ 178200 h 177840"/>
              </a:gdLst>
              <a:ahLst/>
              <a:rect l="textAreaLeft" t="textAreaTop" r="textAreaRight" b="textAreaBottom"/>
              <a:pathLst>
                <a:path w="21600" h="21600">
                  <a:moveTo>
                    <a:pt x="21597" y="21600"/>
                  </a:moveTo>
                  <a:lnTo>
                    <a:pt x="4" y="21600"/>
                  </a:lnTo>
                  <a:cubicBezTo>
                    <a:pt x="0" y="21600"/>
                    <a:pt x="0" y="21600"/>
                    <a:pt x="0" y="21429"/>
                  </a:cubicBezTo>
                  <a:lnTo>
                    <a:pt x="0" y="3600"/>
                  </a:lnTo>
                  <a:cubicBezTo>
                    <a:pt x="0" y="1629"/>
                    <a:pt x="26" y="0"/>
                    <a:pt x="58" y="0"/>
                  </a:cubicBezTo>
                  <a:lnTo>
                    <a:pt x="21542" y="0"/>
                  </a:lnTo>
                  <a:cubicBezTo>
                    <a:pt x="21574" y="0"/>
                    <a:pt x="21600" y="1629"/>
                    <a:pt x="21600" y="3600"/>
                  </a:cubicBezTo>
                  <a:cubicBezTo>
                    <a:pt x="21600" y="3600"/>
                    <a:pt x="21600" y="21600"/>
                    <a:pt x="21597" y="21600"/>
                  </a:cubicBezTo>
                </a:path>
              </a:pathLst>
            </a:custGeom>
            <a:solidFill>
              <a:srgbClr val="e7e7e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46" name="Shape 1118"/>
            <p:cNvSpPr/>
            <p:nvPr/>
          </p:nvSpPr>
          <p:spPr>
            <a:xfrm>
              <a:off x="15989400" y="10006200"/>
              <a:ext cx="1522800" cy="90000"/>
            </a:xfrm>
            <a:custGeom>
              <a:avLst/>
              <a:gdLst>
                <a:gd name="textAreaLeft" fmla="*/ 0 w 1522800"/>
                <a:gd name="textAreaRight" fmla="*/ 1523160 w 1522800"/>
                <a:gd name="textAreaTop" fmla="*/ 0 h 90000"/>
                <a:gd name="textAreaBottom" fmla="*/ 90360 h 9000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solidFill>
              <a:srgbClr val="afbac0"/>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247" name="Shape 1121"/>
          <p:cNvSpPr/>
          <p:nvPr/>
        </p:nvSpPr>
        <p:spPr>
          <a:xfrm>
            <a:off x="2031840" y="1708200"/>
            <a:ext cx="721440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p:txBody>
      </p:sp>
      <p:sp>
        <p:nvSpPr>
          <p:cNvPr id="4248" name="Shape 1122"/>
          <p:cNvSpPr/>
          <p:nvPr/>
        </p:nvSpPr>
        <p:spPr>
          <a:xfrm>
            <a:off x="2032200" y="4317840"/>
            <a:ext cx="7492680" cy="17823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Osa imona l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m idoms.</a:t>
            </a:r>
            <a:endParaRPr b="0" lang="en-US" sz="4800" spc="-1" strike="noStrike">
              <a:solidFill>
                <a:srgbClr val="000000"/>
              </a:solidFill>
              <a:latin typeface="Arial"/>
            </a:endParaRPr>
          </a:p>
        </p:txBody>
      </p:sp>
      <p:sp>
        <p:nvSpPr>
          <p:cNvPr id="4249" name="Shape 1123"/>
          <p:cNvSpPr/>
          <p:nvPr/>
        </p:nvSpPr>
        <p:spPr>
          <a:xfrm>
            <a:off x="2032200" y="6858000"/>
            <a:ext cx="7111800" cy="42145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nsa justo fosduo dolores etoa jam rebum. Stet clita kuasd gubergren, nosotra seam takimata sanctus Lorem ipsum dolor sit amet. Lorem eso ipsum dolor sito amet, deras consetetur asdips cinge tradnos don elitro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5" name="Shape 2452"/>
          <p:cNvSpPr/>
          <p:nvPr/>
        </p:nvSpPr>
        <p:spPr>
          <a:xfrm>
            <a:off x="15277680" y="1559880"/>
            <a:ext cx="7125840" cy="33246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ffffff"/>
                </a:solidFill>
                <a:latin typeface="Montserrat Semi Bold"/>
                <a:ea typeface="Montserrat Semi Bold"/>
              </a:rPr>
              <a:t>Graphic</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ffffff"/>
                </a:solidFill>
                <a:latin typeface="Montserrat Semi Bold"/>
                <a:ea typeface="Montserrat Semi Bold"/>
              </a:rPr>
              <a:t>Chart</a:t>
            </a:r>
            <a:endParaRPr b="0" lang="en-US" sz="11200" spc="-1" strike="noStrike">
              <a:solidFill>
                <a:srgbClr val="000000"/>
              </a:solidFill>
              <a:latin typeface="Arial"/>
            </a:endParaRPr>
          </a:p>
        </p:txBody>
      </p:sp>
      <p:sp>
        <p:nvSpPr>
          <p:cNvPr id="5126" name="Shape 2453"/>
          <p:cNvSpPr/>
          <p:nvPr/>
        </p:nvSpPr>
        <p:spPr>
          <a:xfrm>
            <a:off x="2035080" y="1839240"/>
            <a:ext cx="9145080" cy="20361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mago ona leso damer prier ersade.</a:t>
            </a:r>
            <a:endParaRPr b="0" lang="en-US" sz="4800" spc="-1" strike="noStrike">
              <a:solidFill>
                <a:srgbClr val="000000"/>
              </a:solidFill>
              <a:latin typeface="Arial"/>
            </a:endParaRPr>
          </a:p>
        </p:txBody>
      </p:sp>
      <p:graphicFrame>
        <p:nvGraphicFramePr>
          <p:cNvPr id="5127" name="Chart 2455"/>
          <p:cNvGraphicFramePr/>
          <p:nvPr/>
        </p:nvGraphicFramePr>
        <p:xfrm>
          <a:off x="1963440" y="4621320"/>
          <a:ext cx="8904600" cy="713700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8" name="PlaceHolder 1"/>
          <p:cNvSpPr>
            <a:spLocks noGrp="1"/>
          </p:cNvSpPr>
          <p:nvPr>
            <p:ph type="sldNum" idx="114"/>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775EA5F5-D6A0-4A91-9996-65D2B6CC92D0}" type="slidenum">
              <a:rPr b="0" lang="en-US" sz="2800" spc="-1" strike="noStrike">
                <a:solidFill>
                  <a:srgbClr val="797979"/>
                </a:solidFill>
                <a:latin typeface="Helvetica Light"/>
                <a:ea typeface="Helvetica Light"/>
              </a:rPr>
              <a:t>110</a:t>
            </a:fld>
            <a:endParaRPr b="0" lang="en-US" sz="2800" spc="-1" strike="noStrike">
              <a:solidFill>
                <a:srgbClr val="000000"/>
              </a:solidFill>
              <a:latin typeface="Times New Roman"/>
            </a:endParaRPr>
          </a:p>
        </p:txBody>
      </p:sp>
      <p:sp>
        <p:nvSpPr>
          <p:cNvPr id="5129" name="PlaceHolder 2"/>
          <p:cNvSpPr>
            <a:spLocks noGrp="1"/>
          </p:cNvSpPr>
          <p:nvPr>
            <p:ph type="title"/>
          </p:nvPr>
        </p:nvSpPr>
        <p:spPr>
          <a:xfrm>
            <a:off x="14481720" y="1712160"/>
            <a:ext cx="787500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Graphic</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Chart</a:t>
            </a:r>
            <a:endParaRPr b="0" lang="en-US" sz="11200" spc="-1" strike="noStrike">
              <a:solidFill>
                <a:srgbClr val="009193"/>
              </a:solidFill>
              <a:latin typeface="Helvetica Light"/>
            </a:endParaRPr>
          </a:p>
        </p:txBody>
      </p:sp>
      <p:sp>
        <p:nvSpPr>
          <p:cNvPr id="5130" name="Shape 2459"/>
          <p:cNvSpPr/>
          <p:nvPr/>
        </p:nvSpPr>
        <p:spPr>
          <a:xfrm>
            <a:off x="14481720" y="5740560"/>
            <a:ext cx="7875000" cy="16095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Interactive Bubble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Chart.</a:t>
            </a:r>
            <a:endParaRPr b="0" lang="en-US" sz="4800" spc="-1" strike="noStrike">
              <a:solidFill>
                <a:srgbClr val="000000"/>
              </a:solidFill>
              <a:latin typeface="Arial"/>
            </a:endParaRPr>
          </a:p>
        </p:txBody>
      </p:sp>
      <p:sp>
        <p:nvSpPr>
          <p:cNvPr id="5131" name="Shape 2460"/>
          <p:cNvSpPr/>
          <p:nvPr/>
        </p:nvSpPr>
        <p:spPr>
          <a:xfrm>
            <a:off x="14481720" y="8054280"/>
            <a:ext cx="7874640" cy="362808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lor sit amet, deras consetetur sadicing elitromas. Sed diam dnie friad nonumy eirmod tempor invidunt utony labore etodre dolore magna aliquyam dando erosa mie frws greadon.</a:t>
            </a:r>
            <a:endParaRPr b="0" lang="en-US" sz="3000" spc="-1" strike="noStrike">
              <a:solidFill>
                <a:srgbClr val="000000"/>
              </a:solidFill>
              <a:latin typeface="Arial"/>
            </a:endParaRPr>
          </a:p>
        </p:txBody>
      </p:sp>
      <p:graphicFrame>
        <p:nvGraphicFramePr>
          <p:cNvPr id="5132" name="Chart 2461"/>
          <p:cNvGraphicFramePr/>
          <p:nvPr/>
        </p:nvGraphicFramePr>
        <p:xfrm>
          <a:off x="1816560" y="2287080"/>
          <a:ext cx="10771560" cy="855936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iterate type="el">
                                    <p:tmAbs val="0"/>
                                  </p:iterate>
                                  <p:childTnLst>
                                    <p:set>
                                      <p:cBhvr>
                                        <p:cTn id="6" fill="hold"/>
                                        <p:tgtEl>
                                          <p:spTgt spid="5132"/>
                                        </p:tgtEl>
                                        <p:attrNameLst>
                                          <p:attrName>style.visibility</p:attrName>
                                        </p:attrNameLst>
                                      </p:cBhvr>
                                      <p:to>
                                        <p:strVal val="visible"/>
                                      </p:to>
                                    </p:set>
                                    <p:animEffect filter="dissolve" transition="in">
                                      <p:cBhvr additive="repl">
                                        <p:cTn id="7" dur="5000"/>
                                        <p:tgtEl>
                                          <p:spTgt spid="5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133" name="Chart 2464"/>
          <p:cNvGraphicFramePr/>
          <p:nvPr/>
        </p:nvGraphicFramePr>
        <p:xfrm>
          <a:off x="13215240" y="6088320"/>
          <a:ext cx="9191520" cy="5614200"/>
        </p:xfrm>
        <a:graphic>
          <a:graphicData uri="http://schemas.openxmlformats.org/drawingml/2006/chart">
            <c:chart xmlns:c="http://schemas.openxmlformats.org/drawingml/2006/chart" xmlns:r="http://schemas.openxmlformats.org/officeDocument/2006/relationships" r:id="rId1"/>
          </a:graphicData>
        </a:graphic>
      </p:graphicFrame>
      <p:sp>
        <p:nvSpPr>
          <p:cNvPr id="5134" name="Shape 2465"/>
          <p:cNvSpPr/>
          <p:nvPr/>
        </p:nvSpPr>
        <p:spPr>
          <a:xfrm>
            <a:off x="13236120" y="1841760"/>
            <a:ext cx="9120600" cy="94644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Graphic Charts</a:t>
            </a:r>
            <a:endParaRPr b="0" lang="en-US" sz="4800" spc="-1" strike="noStrike">
              <a:solidFill>
                <a:srgbClr val="000000"/>
              </a:solidFill>
              <a:latin typeface="Arial"/>
            </a:endParaRPr>
          </a:p>
        </p:txBody>
      </p:sp>
      <p:sp>
        <p:nvSpPr>
          <p:cNvPr id="5135" name="Shape 2466"/>
          <p:cNvSpPr/>
          <p:nvPr/>
        </p:nvSpPr>
        <p:spPr>
          <a:xfrm>
            <a:off x="13236120" y="3229560"/>
            <a:ext cx="9120600" cy="177984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lor sit amet, deras consetetur forns sadicing elitromas. Sed diam dnie friad nonumy eirmod tempor invidunt forn utony.</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6" name="PlaceHolder 1"/>
          <p:cNvSpPr>
            <a:spLocks noGrp="1"/>
          </p:cNvSpPr>
          <p:nvPr>
            <p:ph type="sldNum" idx="115"/>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4FFE3EA5-3C04-47AC-83A3-DA316BBDD208}" type="slidenum">
              <a:rPr b="0" lang="en-US" sz="2800" spc="-1" strike="noStrike">
                <a:solidFill>
                  <a:srgbClr val="797979"/>
                </a:solidFill>
                <a:latin typeface="Helvetica Light"/>
                <a:ea typeface="Helvetica Light"/>
              </a:rPr>
              <a:t>110</a:t>
            </a:fld>
            <a:endParaRPr b="0" lang="en-US" sz="2800" spc="-1" strike="noStrike">
              <a:solidFill>
                <a:srgbClr val="000000"/>
              </a:solidFill>
              <a:latin typeface="Times New Roman"/>
            </a:endParaRPr>
          </a:p>
        </p:txBody>
      </p:sp>
      <p:graphicFrame>
        <p:nvGraphicFramePr>
          <p:cNvPr id="5137" name="Table 2469"/>
          <p:cNvGraphicFramePr/>
          <p:nvPr/>
        </p:nvGraphicFramePr>
        <p:xfrm>
          <a:off x="2036880" y="3935520"/>
          <a:ext cx="20313360" cy="5717520"/>
        </p:xfrm>
        <a:graphic>
          <a:graphicData uri="http://schemas.openxmlformats.org/drawingml/2006/table">
            <a:tbl>
              <a:tblPr/>
              <a:tblGrid>
                <a:gridCol w="5078160"/>
                <a:gridCol w="5078160"/>
                <a:gridCol w="5078160"/>
                <a:gridCol w="5078160"/>
              </a:tblGrid>
              <a:tr h="635040">
                <a:tc>
                  <a:txBody>
                    <a:bodyPr lIns="50760" rIns="50760" tIns="50760" bIns="50760" anchor="ctr">
                      <a:noAutofit/>
                    </a:bodyPr>
                    <a:p>
                      <a:pPr algn="ctr">
                        <a:lnSpc>
                          <a:spcPct val="100000"/>
                        </a:lnSpc>
                        <a:tabLst>
                          <a:tab algn="l" pos="0"/>
                        </a:tabLst>
                      </a:pPr>
                      <a:r>
                        <a:rPr b="0" lang="en-US" sz="2400" spc="-1" strike="noStrike">
                          <a:solidFill>
                            <a:srgbClr val="ffffff"/>
                          </a:solidFill>
                          <a:latin typeface="Montserrat"/>
                          <a:ea typeface="Montserrat"/>
                        </a:rPr>
                        <a:t>Column 1</a:t>
                      </a:r>
                      <a:endParaRPr b="0" lang="en-US" sz="2400" spc="-1" strike="noStrike">
                        <a:solidFill>
                          <a:srgbClr val="ffffff"/>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212121"/>
                    </a:solidFill>
                  </a:tcPr>
                </a:tc>
                <a:tc>
                  <a:txBody>
                    <a:bodyPr lIns="50760" rIns="50760" tIns="50760" bIns="50760" anchor="ctr">
                      <a:noAutofit/>
                    </a:bodyPr>
                    <a:p>
                      <a:pPr algn="ctr">
                        <a:lnSpc>
                          <a:spcPct val="100000"/>
                        </a:lnSpc>
                        <a:tabLst>
                          <a:tab algn="l" pos="0"/>
                        </a:tabLst>
                      </a:pPr>
                      <a:r>
                        <a:rPr b="0" lang="en-US" sz="2400" spc="-1" strike="noStrike">
                          <a:solidFill>
                            <a:srgbClr val="ffffff"/>
                          </a:solidFill>
                          <a:latin typeface="Montserrat"/>
                          <a:ea typeface="Montserrat"/>
                        </a:rPr>
                        <a:t>Column 2</a:t>
                      </a:r>
                      <a:endParaRPr b="0" lang="en-US" sz="2400" spc="-1" strike="noStrike">
                        <a:solidFill>
                          <a:srgbClr val="ffffff"/>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212121"/>
                    </a:solidFill>
                  </a:tcPr>
                </a:tc>
                <a:tc>
                  <a:txBody>
                    <a:bodyPr lIns="50760" rIns="50760" tIns="50760" bIns="50760" anchor="ctr">
                      <a:noAutofit/>
                    </a:bodyPr>
                    <a:p>
                      <a:pPr algn="ctr">
                        <a:lnSpc>
                          <a:spcPct val="100000"/>
                        </a:lnSpc>
                        <a:tabLst>
                          <a:tab algn="l" pos="0"/>
                        </a:tabLst>
                      </a:pPr>
                      <a:r>
                        <a:rPr b="0" lang="en-US" sz="2400" spc="-1" strike="noStrike">
                          <a:solidFill>
                            <a:srgbClr val="ffffff"/>
                          </a:solidFill>
                          <a:latin typeface="Montserrat"/>
                          <a:ea typeface="Montserrat"/>
                        </a:rPr>
                        <a:t>Column 3</a:t>
                      </a:r>
                      <a:endParaRPr b="0" lang="en-US" sz="2400" spc="-1" strike="noStrike">
                        <a:solidFill>
                          <a:srgbClr val="ffffff"/>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212121"/>
                    </a:solidFill>
                  </a:tcPr>
                </a:tc>
                <a:tc>
                  <a:txBody>
                    <a:bodyPr lIns="50760" rIns="50760" tIns="50760" bIns="50760" anchor="ctr">
                      <a:noAutofit/>
                    </a:bodyPr>
                    <a:p>
                      <a:pPr algn="ctr">
                        <a:lnSpc>
                          <a:spcPct val="100000"/>
                        </a:lnSpc>
                        <a:tabLst>
                          <a:tab algn="l" pos="0"/>
                        </a:tabLst>
                      </a:pPr>
                      <a:r>
                        <a:rPr b="0" lang="en-US" sz="2400" spc="-1" strike="noStrike">
                          <a:solidFill>
                            <a:srgbClr val="ffffff"/>
                          </a:solidFill>
                          <a:latin typeface="Montserrat"/>
                          <a:ea typeface="Montserrat"/>
                        </a:rPr>
                        <a:t>Column 4</a:t>
                      </a:r>
                      <a:endParaRPr b="0" lang="en-US" sz="2400" spc="-1" strike="noStrike">
                        <a:solidFill>
                          <a:srgbClr val="ffffff"/>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212121"/>
                    </a:solidFill>
                  </a:tcPr>
                </a:tc>
              </a:tr>
              <a:tr h="635040">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Line 1</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d6d6d6"/>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672</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987</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r>
              <a:tr h="635040">
                <a:tc>
                  <a:txBody>
                    <a:bodyPr lIns="50760" rIns="50760" tIns="50760" bIns="50760" anchor="ctr">
                      <a:noAutofit/>
                    </a:bodyPr>
                    <a:p>
                      <a:pPr algn="ctr">
                        <a:lnSpc>
                          <a:spcPct val="100000"/>
                        </a:lnSpc>
                        <a:tabLst>
                          <a:tab algn="l" pos="0"/>
                        </a:tabLst>
                      </a:pPr>
                      <a:r>
                        <a:rPr b="0" lang="en-US" sz="2500" spc="-1" strike="noStrike">
                          <a:solidFill>
                            <a:srgbClr val="5e5e5e"/>
                          </a:solidFill>
                          <a:latin typeface="Montserrat Light"/>
                          <a:ea typeface="Montserrat Light"/>
                        </a:rPr>
                        <a:t>Line 2</a:t>
                      </a:r>
                      <a:endParaRPr b="0" lang="en-US" sz="25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d6d6d6"/>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782</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r>
              <a:tr h="635040">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Line 3</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d6d6d6"/>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363</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r>
              <a:tr h="635040">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Line 4</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d6d6d6"/>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564</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r>
              <a:tr h="635040">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Line 5</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d6d6d6"/>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236</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r>
              <a:tr h="635040">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Line 6</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d6d6d6"/>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22</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r>
              <a:tr h="635040">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Line 7</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w="38160">
                      <a:solidFill>
                        <a:srgbClr val="ffffff"/>
                      </a:solidFill>
                    </a:lnB>
                    <a:solidFill>
                      <a:srgbClr val="d6d6d6"/>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623</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453</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ffffff"/>
                    </a:solidFill>
                  </a:tcPr>
                </a:tc>
              </a:tr>
              <a:tr h="635040">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Line 8</a:t>
                      </a:r>
                      <a:endParaRPr b="0" lang="en-US" sz="2400" spc="-1" strike="noStrike">
                        <a:solidFill>
                          <a:srgbClr val="000000"/>
                        </a:solidFill>
                        <a:latin typeface="Arial"/>
                      </a:endParaRPr>
                    </a:p>
                  </a:txBody>
                  <a:tcPr anchor="ctr" marL="50760" marR="50760">
                    <a:lnL>
                      <a:noFill/>
                    </a:lnL>
                    <a:lnR w="38160">
                      <a:solidFill>
                        <a:srgbClr val="ffffff"/>
                      </a:solidFill>
                    </a:lnR>
                    <a:lnT w="38160">
                      <a:solidFill>
                        <a:srgbClr val="ffffff"/>
                      </a:solidFill>
                    </a:lnT>
                    <a:lnB>
                      <a:noFill/>
                    </a:lnB>
                    <a:solidFill>
                      <a:srgbClr val="d6d6d6"/>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c>
                  <a:txBody>
                    <a:bodyPr lIns="50760" rIns="50760" tIns="50760" bIns="50760" anchor="ctr">
                      <a:noAutofit/>
                    </a:bodyPr>
                    <a:p>
                      <a:pPr algn="ctr">
                        <a:lnSpc>
                          <a:spcPct val="100000"/>
                        </a:lnSpc>
                        <a:tabLst>
                          <a:tab algn="l" pos="0"/>
                        </a:tabLst>
                      </a:pPr>
                      <a:r>
                        <a:rPr b="0" lang="en-US" sz="2400" spc="-1" strike="noStrike">
                          <a:solidFill>
                            <a:srgbClr val="5e5e5e"/>
                          </a:solidFill>
                          <a:latin typeface="Montserrat Light"/>
                          <a:ea typeface="Montserrat Light"/>
                        </a:rPr>
                        <a:t>341</a:t>
                      </a:r>
                      <a:endParaRPr b="0" lang="en-US" sz="2400" spc="-1" strike="noStrike">
                        <a:solidFill>
                          <a:srgbClr val="000000"/>
                        </a:solidFill>
                        <a:latin typeface="Arial"/>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c>
                  <a:txBody>
                    <a:bodyPr lIns="50760" rIns="50760" tIns="50760" bIns="50760" anchor="ctr">
                      <a:noAutofit/>
                    </a:bodyPr>
                    <a:p>
                      <a:endParaRPr b="0" lang="en-US" sz="2400" spc="-1" strike="noStrike">
                        <a:solidFill>
                          <a:srgbClr val="5e5e5e"/>
                        </a:solidFill>
                        <a:latin typeface="Montserrat Light"/>
                        <a:ea typeface="Montserrat Light"/>
                      </a:endParaRPr>
                    </a:p>
                  </a:txBody>
                  <a:tcPr anchor="ctr" marL="50760" marR="50760">
                    <a:lnL w="38160">
                      <a:solidFill>
                        <a:srgbClr val="ffffff"/>
                      </a:solidFill>
                    </a:lnL>
                    <a:lnR w="38160">
                      <a:solidFill>
                        <a:srgbClr val="ffffff"/>
                      </a:solidFill>
                    </a:lnR>
                    <a:lnT w="38160">
                      <a:solidFill>
                        <a:srgbClr val="ffffff"/>
                      </a:solidFill>
                    </a:lnT>
                    <a:lnB w="38160">
                      <a:solidFill>
                        <a:srgbClr val="ffffff"/>
                      </a:solidFill>
                    </a:lnB>
                    <a:solidFill>
                      <a:srgbClr val="ebebeb"/>
                    </a:solidFill>
                  </a:tcPr>
                </a:tc>
              </a:tr>
            </a:tbl>
          </a:graphicData>
        </a:graphic>
      </p:graphicFrame>
      <p:sp>
        <p:nvSpPr>
          <p:cNvPr id="5138" name="Shape 2470"/>
          <p:cNvSpPr/>
          <p:nvPr/>
        </p:nvSpPr>
        <p:spPr>
          <a:xfrm>
            <a:off x="1998720" y="1823040"/>
            <a:ext cx="9178200" cy="113832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Table Slide</a:t>
            </a:r>
            <a:endParaRPr b="0" lang="en-US" sz="4800" spc="-1" strike="noStrike">
              <a:solidFill>
                <a:srgbClr val="000000"/>
              </a:solidFill>
              <a:latin typeface="Arial"/>
            </a:endParaRPr>
          </a:p>
        </p:txBody>
      </p:sp>
      <p:sp>
        <p:nvSpPr>
          <p:cNvPr id="5139" name="Shape 2471"/>
          <p:cNvSpPr/>
          <p:nvPr/>
        </p:nvSpPr>
        <p:spPr>
          <a:xfrm>
            <a:off x="1998720" y="10481400"/>
            <a:ext cx="506736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ONE</a:t>
            </a:r>
            <a:endParaRPr b="0" lang="en-US" sz="3200" spc="-1" strike="noStrike">
              <a:solidFill>
                <a:srgbClr val="000000"/>
              </a:solidFill>
              <a:latin typeface="Arial"/>
            </a:endParaRPr>
          </a:p>
        </p:txBody>
      </p:sp>
      <p:sp>
        <p:nvSpPr>
          <p:cNvPr id="5140" name="Shape 2472"/>
          <p:cNvSpPr/>
          <p:nvPr/>
        </p:nvSpPr>
        <p:spPr>
          <a:xfrm>
            <a:off x="7124400" y="10481400"/>
            <a:ext cx="506736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TWO</a:t>
            </a:r>
            <a:endParaRPr b="0" lang="en-US" sz="3200" spc="-1" strike="noStrike">
              <a:solidFill>
                <a:srgbClr val="000000"/>
              </a:solidFill>
              <a:latin typeface="Arial"/>
            </a:endParaRPr>
          </a:p>
        </p:txBody>
      </p:sp>
      <p:sp>
        <p:nvSpPr>
          <p:cNvPr id="5141" name="Shape 2473"/>
          <p:cNvSpPr/>
          <p:nvPr/>
        </p:nvSpPr>
        <p:spPr>
          <a:xfrm>
            <a:off x="12192120" y="10481400"/>
            <a:ext cx="506736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THREE</a:t>
            </a:r>
            <a:endParaRPr b="0" lang="en-US" sz="3200" spc="-1" strike="noStrike">
              <a:solidFill>
                <a:srgbClr val="000000"/>
              </a:solidFill>
              <a:latin typeface="Arial"/>
            </a:endParaRPr>
          </a:p>
        </p:txBody>
      </p:sp>
      <p:sp>
        <p:nvSpPr>
          <p:cNvPr id="5142" name="Shape 2474"/>
          <p:cNvSpPr/>
          <p:nvPr/>
        </p:nvSpPr>
        <p:spPr>
          <a:xfrm>
            <a:off x="17308440" y="10481400"/>
            <a:ext cx="506736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FOUR</a:t>
            </a:r>
            <a:endParaRPr b="0" lang="en-US" sz="3200" spc="-1" strike="noStrike">
              <a:solidFill>
                <a:srgbClr val="000000"/>
              </a:solidFill>
              <a:latin typeface="Arial"/>
            </a:endParaRPr>
          </a:p>
        </p:txBody>
      </p:sp>
      <p:sp>
        <p:nvSpPr>
          <p:cNvPr id="5143" name="Shape 2475"/>
          <p:cNvSpPr/>
          <p:nvPr/>
        </p:nvSpPr>
        <p:spPr>
          <a:xfrm>
            <a:off x="2017800" y="11243520"/>
            <a:ext cx="504828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Fosduo dolores osd, </a:t>
            </a:r>
            <a:endParaRPr b="0" lang="en-US" sz="3000" spc="-1" strike="noStrike">
              <a:solidFill>
                <a:srgbClr val="000000"/>
              </a:solidFill>
              <a:latin typeface="Arial"/>
            </a:endParaRPr>
          </a:p>
        </p:txBody>
      </p:sp>
      <p:sp>
        <p:nvSpPr>
          <p:cNvPr id="5144" name="Shape 2476"/>
          <p:cNvSpPr/>
          <p:nvPr/>
        </p:nvSpPr>
        <p:spPr>
          <a:xfrm>
            <a:off x="7157880" y="11243520"/>
            <a:ext cx="504828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osd, </a:t>
            </a:r>
            <a:endParaRPr b="0" lang="en-US" sz="3000" spc="-1" strike="noStrike">
              <a:solidFill>
                <a:srgbClr val="000000"/>
              </a:solidFill>
              <a:latin typeface="Arial"/>
            </a:endParaRPr>
          </a:p>
        </p:txBody>
      </p:sp>
      <p:sp>
        <p:nvSpPr>
          <p:cNvPr id="5145" name="Shape 2477"/>
          <p:cNvSpPr/>
          <p:nvPr/>
        </p:nvSpPr>
        <p:spPr>
          <a:xfrm>
            <a:off x="12192120" y="11243520"/>
            <a:ext cx="504828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Sudra etoa froas</a:t>
            </a:r>
            <a:endParaRPr b="0" lang="en-US" sz="3000" spc="-1" strike="noStrike">
              <a:solidFill>
                <a:srgbClr val="000000"/>
              </a:solidFill>
              <a:latin typeface="Arial"/>
            </a:endParaRPr>
          </a:p>
        </p:txBody>
      </p:sp>
      <p:sp>
        <p:nvSpPr>
          <p:cNvPr id="5146" name="Shape 2478"/>
          <p:cNvSpPr/>
          <p:nvPr/>
        </p:nvSpPr>
        <p:spPr>
          <a:xfrm>
            <a:off x="17346600" y="11243520"/>
            <a:ext cx="504828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Bronas fra losr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7" name="Shape 2481"/>
          <p:cNvSpPr/>
          <p:nvPr/>
        </p:nvSpPr>
        <p:spPr>
          <a:xfrm>
            <a:off x="2031840" y="1714680"/>
            <a:ext cx="8127720" cy="340200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ffffff"/>
                </a:solidFill>
                <a:latin typeface="Montserrat Semi Bold"/>
                <a:ea typeface="Montserrat Semi Bold"/>
              </a:rPr>
              <a:t>Get in </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ffffff"/>
                </a:solidFill>
                <a:latin typeface="Montserrat Semi Bold"/>
                <a:ea typeface="Montserrat Semi Bold"/>
              </a:rPr>
              <a:t>touch.</a:t>
            </a:r>
            <a:endParaRPr b="0" lang="en-US" sz="11200" spc="-1" strike="noStrike">
              <a:solidFill>
                <a:srgbClr val="000000"/>
              </a:solidFill>
              <a:latin typeface="Arial"/>
            </a:endParaRPr>
          </a:p>
        </p:txBody>
      </p:sp>
      <p:sp>
        <p:nvSpPr>
          <p:cNvPr id="5148" name="Shape 2482"/>
          <p:cNvSpPr/>
          <p:nvPr/>
        </p:nvSpPr>
        <p:spPr>
          <a:xfrm>
            <a:off x="2031840" y="6125040"/>
            <a:ext cx="9145080" cy="16552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ffffff"/>
                </a:solidFill>
                <a:latin typeface="Montserrat"/>
                <a:ea typeface="Montserrat"/>
              </a:rPr>
              <a:t>Froada osa mago ona leso damer prier ersade.</a:t>
            </a:r>
            <a:endParaRPr b="0" lang="en-US" sz="4800" spc="-1" strike="noStrike">
              <a:solidFill>
                <a:srgbClr val="000000"/>
              </a:solidFill>
              <a:latin typeface="Arial"/>
            </a:endParaRPr>
          </a:p>
        </p:txBody>
      </p:sp>
      <p:grpSp>
        <p:nvGrpSpPr>
          <p:cNvPr id="5149" name="Group 2487"/>
          <p:cNvGrpSpPr/>
          <p:nvPr/>
        </p:nvGrpSpPr>
        <p:grpSpPr>
          <a:xfrm>
            <a:off x="16385760" y="9806040"/>
            <a:ext cx="5970960" cy="1701720"/>
            <a:chOff x="16385760" y="9806040"/>
            <a:chExt cx="5970960" cy="1701720"/>
          </a:xfrm>
        </p:grpSpPr>
        <p:grpSp>
          <p:nvGrpSpPr>
            <p:cNvPr id="5150" name="Group 2485"/>
            <p:cNvGrpSpPr/>
            <p:nvPr/>
          </p:nvGrpSpPr>
          <p:grpSpPr>
            <a:xfrm>
              <a:off x="17528760" y="9806040"/>
              <a:ext cx="4827960" cy="1701720"/>
              <a:chOff x="17528760" y="9806040"/>
              <a:chExt cx="4827960" cy="1701720"/>
            </a:xfrm>
          </p:grpSpPr>
          <p:sp>
            <p:nvSpPr>
              <p:cNvPr id="5151" name="Shape 2483"/>
              <p:cNvSpPr/>
              <p:nvPr/>
            </p:nvSpPr>
            <p:spPr>
              <a:xfrm>
                <a:off x="17528760" y="10695240"/>
                <a:ext cx="4827960" cy="812520"/>
              </a:xfrm>
              <a:prstGeom prst="rect">
                <a:avLst/>
              </a:prstGeom>
              <a:noFill/>
              <a:ln w="12700">
                <a:noFill/>
              </a:ln>
            </p:spPr>
            <p:style>
              <a:lnRef idx="0"/>
              <a:fillRef idx="0"/>
              <a:effectRef idx="0"/>
              <a:fontRef idx="minor"/>
            </p:style>
            <p:txBody>
              <a:bodyPr numCol="1" spcCol="0" lIns="48600" rIns="48600" tIns="48600" bIns="4860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contact@company.com</a:t>
                </a:r>
                <a:endParaRPr b="0" lang="en-US" sz="3000" spc="-1" strike="noStrike">
                  <a:solidFill>
                    <a:srgbClr val="000000"/>
                  </a:solidFill>
                  <a:latin typeface="Arial"/>
                </a:endParaRPr>
              </a:p>
            </p:txBody>
          </p:sp>
          <p:sp>
            <p:nvSpPr>
              <p:cNvPr id="5152" name="Shape 2484"/>
              <p:cNvSpPr/>
              <p:nvPr/>
            </p:nvSpPr>
            <p:spPr>
              <a:xfrm>
                <a:off x="17528760" y="9806040"/>
                <a:ext cx="4827960" cy="761760"/>
              </a:xfrm>
              <a:prstGeom prst="rect">
                <a:avLst/>
              </a:prstGeom>
              <a:noFill/>
              <a:ln w="12700">
                <a:noFill/>
              </a:ln>
            </p:spPr>
            <p:style>
              <a:lnRef idx="0"/>
              <a:fillRef idx="0"/>
              <a:effectRef idx="0"/>
              <a:fontRef idx="minor"/>
            </p:style>
            <p:txBody>
              <a:bodyPr numCol="1" spcCol="0" lIns="48600" rIns="48600" tIns="48600" bIns="48600" anchor="t">
                <a:noAutofit/>
              </a:bodyPr>
              <a:p>
                <a:pPr>
                  <a:lnSpc>
                    <a:spcPct val="100000"/>
                  </a:lnSpc>
                  <a:tabLst>
                    <a:tab algn="l" pos="0"/>
                  </a:tabLst>
                </a:pPr>
                <a:r>
                  <a:rPr b="0" lang="en-US" sz="4800" spc="239" strike="noStrike">
                    <a:solidFill>
                      <a:srgbClr val="ffffff"/>
                    </a:solidFill>
                    <a:latin typeface="Montserrat"/>
                    <a:ea typeface="Montserrat"/>
                  </a:rPr>
                  <a:t>Email</a:t>
                </a:r>
                <a:endParaRPr b="0" lang="en-US" sz="4800" spc="-1" strike="noStrike">
                  <a:solidFill>
                    <a:srgbClr val="000000"/>
                  </a:solidFill>
                  <a:latin typeface="Arial"/>
                </a:endParaRPr>
              </a:p>
            </p:txBody>
          </p:sp>
        </p:grpSp>
        <p:sp>
          <p:nvSpPr>
            <p:cNvPr id="5153" name="Shape 2486"/>
            <p:cNvSpPr/>
            <p:nvPr/>
          </p:nvSpPr>
          <p:spPr>
            <a:xfrm>
              <a:off x="16385760" y="9806040"/>
              <a:ext cx="812520" cy="812520"/>
            </a:xfrm>
            <a:prstGeom prst="rect">
              <a:avLst/>
            </a:prstGeom>
            <a:noFill/>
            <a:ln w="12700">
              <a:noFill/>
            </a:ln>
          </p:spPr>
          <p:style>
            <a:lnRef idx="0"/>
            <a:fillRef idx="0"/>
            <a:effectRef idx="0"/>
            <a:fontRef idx="minor"/>
          </p:style>
          <p:txBody>
            <a:bodyPr numCol="1" spcCol="0" lIns="0" rIns="0" tIns="0" bIns="0" anchor="ctr">
              <a:noAutofit/>
            </a:bodyPr>
            <a:p>
              <a:pPr algn="ctr">
                <a:lnSpc>
                  <a:spcPct val="100000"/>
                </a:lnSpc>
                <a:tabLst>
                  <a:tab algn="l" pos="0"/>
                </a:tabLst>
              </a:pPr>
              <a:r>
                <a:rPr b="0" lang="en-US" sz="6400" spc="-1" strike="noStrike">
                  <a:solidFill>
                    <a:srgbClr val="ffffff"/>
                  </a:solidFill>
                  <a:latin typeface="FontAwesome"/>
                  <a:ea typeface="FontAwesome"/>
                </a:rPr>
                <a:t></a:t>
              </a:r>
              <a:endParaRPr b="0" lang="en-US" sz="6400" spc="-1" strike="noStrike">
                <a:solidFill>
                  <a:srgbClr val="000000"/>
                </a:solidFill>
                <a:latin typeface="Arial"/>
              </a:endParaRPr>
            </a:p>
          </p:txBody>
        </p:sp>
      </p:grpSp>
      <p:grpSp>
        <p:nvGrpSpPr>
          <p:cNvPr id="5154" name="Group 2492"/>
          <p:cNvGrpSpPr/>
          <p:nvPr/>
        </p:nvGrpSpPr>
        <p:grpSpPr>
          <a:xfrm>
            <a:off x="16385760" y="2393280"/>
            <a:ext cx="5970960" cy="2209320"/>
            <a:chOff x="16385760" y="2393280"/>
            <a:chExt cx="5970960" cy="2209320"/>
          </a:xfrm>
        </p:grpSpPr>
        <p:grpSp>
          <p:nvGrpSpPr>
            <p:cNvPr id="5155" name="Group 2490"/>
            <p:cNvGrpSpPr/>
            <p:nvPr/>
          </p:nvGrpSpPr>
          <p:grpSpPr>
            <a:xfrm>
              <a:off x="17528760" y="2444040"/>
              <a:ext cx="4827960" cy="2158560"/>
              <a:chOff x="17528760" y="2444040"/>
              <a:chExt cx="4827960" cy="2158560"/>
            </a:xfrm>
          </p:grpSpPr>
          <p:sp>
            <p:nvSpPr>
              <p:cNvPr id="5156" name="Shape 2488"/>
              <p:cNvSpPr/>
              <p:nvPr/>
            </p:nvSpPr>
            <p:spPr>
              <a:xfrm>
                <a:off x="17528760" y="3332880"/>
                <a:ext cx="4827960" cy="1269720"/>
              </a:xfrm>
              <a:prstGeom prst="rect">
                <a:avLst/>
              </a:prstGeom>
              <a:noFill/>
              <a:ln w="12700">
                <a:noFill/>
              </a:ln>
            </p:spPr>
            <p:style>
              <a:lnRef idx="0"/>
              <a:fillRef idx="0"/>
              <a:effectRef idx="0"/>
              <a:fontRef idx="minor"/>
            </p:style>
            <p:txBody>
              <a:bodyPr numCol="1" spcCol="0" lIns="48600" rIns="48600" tIns="48600" bIns="4860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New York, Manhattan 4423 - Main  Building</a:t>
                </a:r>
                <a:endParaRPr b="0" lang="en-US" sz="3000" spc="-1" strike="noStrike">
                  <a:solidFill>
                    <a:srgbClr val="000000"/>
                  </a:solidFill>
                  <a:latin typeface="Arial"/>
                </a:endParaRPr>
              </a:p>
            </p:txBody>
          </p:sp>
          <p:sp>
            <p:nvSpPr>
              <p:cNvPr id="5157" name="Shape 2489"/>
              <p:cNvSpPr/>
              <p:nvPr/>
            </p:nvSpPr>
            <p:spPr>
              <a:xfrm>
                <a:off x="17528760" y="2444040"/>
                <a:ext cx="4827960" cy="761760"/>
              </a:xfrm>
              <a:prstGeom prst="rect">
                <a:avLst/>
              </a:prstGeom>
              <a:noFill/>
              <a:ln w="12700">
                <a:noFill/>
              </a:ln>
            </p:spPr>
            <p:style>
              <a:lnRef idx="0"/>
              <a:fillRef idx="0"/>
              <a:effectRef idx="0"/>
              <a:fontRef idx="minor"/>
            </p:style>
            <p:txBody>
              <a:bodyPr numCol="1" spcCol="0" lIns="48600" rIns="48600" tIns="48600" bIns="48600" anchor="t">
                <a:noAutofit/>
              </a:bodyPr>
              <a:p>
                <a:pPr>
                  <a:lnSpc>
                    <a:spcPct val="100000"/>
                  </a:lnSpc>
                  <a:tabLst>
                    <a:tab algn="l" pos="0"/>
                  </a:tabLst>
                </a:pPr>
                <a:r>
                  <a:rPr b="0" lang="en-US" sz="4800" spc="239" strike="noStrike">
                    <a:solidFill>
                      <a:srgbClr val="ffffff"/>
                    </a:solidFill>
                    <a:latin typeface="Montserrat"/>
                    <a:ea typeface="Montserrat"/>
                  </a:rPr>
                  <a:t>Adress</a:t>
                </a:r>
                <a:endParaRPr b="0" lang="en-US" sz="4800" spc="-1" strike="noStrike">
                  <a:solidFill>
                    <a:srgbClr val="000000"/>
                  </a:solidFill>
                  <a:latin typeface="Arial"/>
                </a:endParaRPr>
              </a:p>
            </p:txBody>
          </p:sp>
        </p:grpSp>
        <p:sp>
          <p:nvSpPr>
            <p:cNvPr id="5158" name="Shape 2491"/>
            <p:cNvSpPr/>
            <p:nvPr/>
          </p:nvSpPr>
          <p:spPr>
            <a:xfrm>
              <a:off x="16385760" y="2393280"/>
              <a:ext cx="812520" cy="812520"/>
            </a:xfrm>
            <a:prstGeom prst="rect">
              <a:avLst/>
            </a:prstGeom>
            <a:noFill/>
            <a:ln w="12700">
              <a:noFill/>
            </a:ln>
          </p:spPr>
          <p:style>
            <a:lnRef idx="0"/>
            <a:fillRef idx="0"/>
            <a:effectRef idx="0"/>
            <a:fontRef idx="minor"/>
          </p:style>
          <p:txBody>
            <a:bodyPr numCol="1" spcCol="0" lIns="0" rIns="0" tIns="0" bIns="0" anchor="ctr">
              <a:noAutofit/>
            </a:bodyPr>
            <a:p>
              <a:pPr algn="ctr">
                <a:lnSpc>
                  <a:spcPct val="100000"/>
                </a:lnSpc>
                <a:tabLst>
                  <a:tab algn="l" pos="0"/>
                </a:tabLst>
              </a:pPr>
              <a:r>
                <a:rPr b="0" lang="en-US" sz="6400" spc="-1" strike="noStrike">
                  <a:solidFill>
                    <a:srgbClr val="ffffff"/>
                  </a:solidFill>
                  <a:latin typeface="FontAwesome"/>
                  <a:ea typeface="FontAwesome"/>
                </a:rPr>
                <a:t></a:t>
              </a:r>
              <a:endParaRPr b="0" lang="en-US" sz="6400" spc="-1" strike="noStrike">
                <a:solidFill>
                  <a:srgbClr val="000000"/>
                </a:solidFill>
                <a:latin typeface="Arial"/>
              </a:endParaRPr>
            </a:p>
          </p:txBody>
        </p:sp>
      </p:grpSp>
      <p:grpSp>
        <p:nvGrpSpPr>
          <p:cNvPr id="5159" name="Group 2497"/>
          <p:cNvGrpSpPr/>
          <p:nvPr/>
        </p:nvGrpSpPr>
        <p:grpSpPr>
          <a:xfrm>
            <a:off x="16385760" y="6125040"/>
            <a:ext cx="5970960" cy="2158920"/>
            <a:chOff x="16385760" y="6125040"/>
            <a:chExt cx="5970960" cy="2158920"/>
          </a:xfrm>
        </p:grpSpPr>
        <p:grpSp>
          <p:nvGrpSpPr>
            <p:cNvPr id="5160" name="Group 2495"/>
            <p:cNvGrpSpPr/>
            <p:nvPr/>
          </p:nvGrpSpPr>
          <p:grpSpPr>
            <a:xfrm>
              <a:off x="17528760" y="6125040"/>
              <a:ext cx="4827960" cy="2158920"/>
              <a:chOff x="17528760" y="6125040"/>
              <a:chExt cx="4827960" cy="2158920"/>
            </a:xfrm>
          </p:grpSpPr>
          <p:sp>
            <p:nvSpPr>
              <p:cNvPr id="5161" name="Shape 2493"/>
              <p:cNvSpPr/>
              <p:nvPr/>
            </p:nvSpPr>
            <p:spPr>
              <a:xfrm>
                <a:off x="17528760" y="7014240"/>
                <a:ext cx="4827960" cy="1269720"/>
              </a:xfrm>
              <a:prstGeom prst="rect">
                <a:avLst/>
              </a:prstGeom>
              <a:noFill/>
              <a:ln w="12700">
                <a:noFill/>
              </a:ln>
            </p:spPr>
            <p:style>
              <a:lnRef idx="0"/>
              <a:fillRef idx="0"/>
              <a:effectRef idx="0"/>
              <a:fontRef idx="minor"/>
            </p:style>
            <p:txBody>
              <a:bodyPr numCol="1" spcCol="0" lIns="48600" rIns="48600" tIns="48600" bIns="4860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423 - 123456789 00 Support: 423 - 1234 123 </a:t>
                </a:r>
                <a:endParaRPr b="0" lang="en-US" sz="3000" spc="-1" strike="noStrike">
                  <a:solidFill>
                    <a:srgbClr val="000000"/>
                  </a:solidFill>
                  <a:latin typeface="Arial"/>
                </a:endParaRPr>
              </a:p>
            </p:txBody>
          </p:sp>
          <p:sp>
            <p:nvSpPr>
              <p:cNvPr id="5162" name="Shape 2494"/>
              <p:cNvSpPr/>
              <p:nvPr/>
            </p:nvSpPr>
            <p:spPr>
              <a:xfrm>
                <a:off x="17528760" y="6125040"/>
                <a:ext cx="4827960" cy="761760"/>
              </a:xfrm>
              <a:prstGeom prst="rect">
                <a:avLst/>
              </a:prstGeom>
              <a:noFill/>
              <a:ln w="12700">
                <a:noFill/>
              </a:ln>
            </p:spPr>
            <p:style>
              <a:lnRef idx="0"/>
              <a:fillRef idx="0"/>
              <a:effectRef idx="0"/>
              <a:fontRef idx="minor"/>
            </p:style>
            <p:txBody>
              <a:bodyPr numCol="1" spcCol="0" lIns="48600" rIns="48600" tIns="48600" bIns="48600" anchor="t">
                <a:noAutofit/>
              </a:bodyPr>
              <a:p>
                <a:pPr>
                  <a:lnSpc>
                    <a:spcPct val="100000"/>
                  </a:lnSpc>
                  <a:tabLst>
                    <a:tab algn="l" pos="0"/>
                  </a:tabLst>
                </a:pPr>
                <a:r>
                  <a:rPr b="0" lang="en-US" sz="4800" spc="239" strike="noStrike">
                    <a:solidFill>
                      <a:srgbClr val="ffffff"/>
                    </a:solidFill>
                    <a:latin typeface="Montserrat"/>
                    <a:ea typeface="Montserrat"/>
                  </a:rPr>
                  <a:t>Phone</a:t>
                </a:r>
                <a:endParaRPr b="0" lang="en-US" sz="4800" spc="-1" strike="noStrike">
                  <a:solidFill>
                    <a:srgbClr val="000000"/>
                  </a:solidFill>
                  <a:latin typeface="Arial"/>
                </a:endParaRPr>
              </a:p>
            </p:txBody>
          </p:sp>
        </p:grpSp>
        <p:sp>
          <p:nvSpPr>
            <p:cNvPr id="5163" name="Shape 2496"/>
            <p:cNvSpPr/>
            <p:nvPr/>
          </p:nvSpPr>
          <p:spPr>
            <a:xfrm>
              <a:off x="16385760" y="6201360"/>
              <a:ext cx="812520" cy="812520"/>
            </a:xfrm>
            <a:prstGeom prst="rect">
              <a:avLst/>
            </a:prstGeom>
            <a:noFill/>
            <a:ln w="12700">
              <a:noFill/>
            </a:ln>
          </p:spPr>
          <p:style>
            <a:lnRef idx="0"/>
            <a:fillRef idx="0"/>
            <a:effectRef idx="0"/>
            <a:fontRef idx="minor"/>
          </p:style>
          <p:txBody>
            <a:bodyPr numCol="1" spcCol="0" lIns="0" rIns="0" tIns="0" bIns="0" anchor="ctr">
              <a:noAutofit/>
            </a:bodyPr>
            <a:p>
              <a:pPr algn="ctr">
                <a:lnSpc>
                  <a:spcPct val="100000"/>
                </a:lnSpc>
                <a:tabLst>
                  <a:tab algn="l" pos="0"/>
                </a:tabLst>
              </a:pPr>
              <a:r>
                <a:rPr b="0" lang="en-US" sz="6400" spc="-1" strike="noStrike">
                  <a:solidFill>
                    <a:srgbClr val="ffffff"/>
                  </a:solidFill>
                  <a:latin typeface="FontAwesome"/>
                  <a:ea typeface="FontAwesome"/>
                </a:rPr>
                <a:t></a:t>
              </a:r>
              <a:endParaRPr b="0" lang="en-US" sz="6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4" name="Shape 2499"/>
          <p:cNvSpPr/>
          <p:nvPr/>
        </p:nvSpPr>
        <p:spPr>
          <a:xfrm>
            <a:off x="2031840" y="6013800"/>
            <a:ext cx="6863400" cy="252144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Vector World Map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full editable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in color and size.</a:t>
            </a:r>
            <a:endParaRPr b="0" lang="en-US" sz="4800" spc="-1" strike="noStrike">
              <a:solidFill>
                <a:srgbClr val="000000"/>
              </a:solidFill>
              <a:latin typeface="Arial"/>
            </a:endParaRPr>
          </a:p>
        </p:txBody>
      </p:sp>
      <p:sp>
        <p:nvSpPr>
          <p:cNvPr id="5165" name="Shape 2500"/>
          <p:cNvSpPr/>
          <p:nvPr/>
        </p:nvSpPr>
        <p:spPr>
          <a:xfrm>
            <a:off x="2031840" y="9921960"/>
            <a:ext cx="7111800" cy="176040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 and make your next cool and fresh Presentation</a:t>
            </a:r>
            <a:endParaRPr b="0" lang="en-US" sz="3000" spc="-1" strike="noStrike">
              <a:solidFill>
                <a:srgbClr val="000000"/>
              </a:solidFill>
              <a:latin typeface="Arial"/>
            </a:endParaRPr>
          </a:p>
        </p:txBody>
      </p:sp>
      <p:sp>
        <p:nvSpPr>
          <p:cNvPr id="5166" name="Shape 2501"/>
          <p:cNvSpPr/>
          <p:nvPr/>
        </p:nvSpPr>
        <p:spPr>
          <a:xfrm>
            <a:off x="9642960" y="6475320"/>
            <a:ext cx="90360" cy="54360"/>
          </a:xfrm>
          <a:custGeom>
            <a:avLst/>
            <a:gdLst>
              <a:gd name="textAreaLeft" fmla="*/ 0 w 90360"/>
              <a:gd name="textAreaRight" fmla="*/ 90720 w 90360"/>
              <a:gd name="textAreaTop" fmla="*/ 0 h 54360"/>
              <a:gd name="textAreaBottom" fmla="*/ 54720 h 54360"/>
            </a:gdLst>
            <a:ahLst/>
            <a:rect l="textAreaLeft" t="textAreaTop" r="textAreaRight" b="textAreaBottom"/>
            <a:pathLst>
              <a:path w="19534" h="17494">
                <a:moveTo>
                  <a:pt x="5219" y="9567"/>
                </a:moveTo>
                <a:cubicBezTo>
                  <a:pt x="3885" y="9963"/>
                  <a:pt x="2419" y="8774"/>
                  <a:pt x="1085" y="9963"/>
                </a:cubicBezTo>
                <a:cubicBezTo>
                  <a:pt x="-648" y="11152"/>
                  <a:pt x="-115" y="15314"/>
                  <a:pt x="1352" y="16701"/>
                </a:cubicBezTo>
                <a:cubicBezTo>
                  <a:pt x="2685" y="17890"/>
                  <a:pt x="4685" y="17494"/>
                  <a:pt x="6685" y="17097"/>
                </a:cubicBezTo>
                <a:cubicBezTo>
                  <a:pt x="9752" y="15710"/>
                  <a:pt x="13085" y="12936"/>
                  <a:pt x="13885" y="8378"/>
                </a:cubicBezTo>
                <a:cubicBezTo>
                  <a:pt x="13885" y="7784"/>
                  <a:pt x="13885" y="7784"/>
                  <a:pt x="14152" y="7387"/>
                </a:cubicBezTo>
                <a:cubicBezTo>
                  <a:pt x="14419" y="6595"/>
                  <a:pt x="15619" y="6991"/>
                  <a:pt x="16152" y="6991"/>
                </a:cubicBezTo>
                <a:cubicBezTo>
                  <a:pt x="20952" y="7784"/>
                  <a:pt x="20685" y="-3710"/>
                  <a:pt x="15085" y="1244"/>
                </a:cubicBezTo>
                <a:cubicBezTo>
                  <a:pt x="11619" y="3820"/>
                  <a:pt x="9752" y="8774"/>
                  <a:pt x="5219" y="9567"/>
                </a:cubicBezTo>
              </a:path>
            </a:pathLst>
          </a:custGeom>
          <a:solidFill>
            <a:srgbClr val="d6d6d6"/>
          </a:solidFill>
          <a:ln w="0">
            <a:solidFill>
              <a:srgbClr val="424242"/>
            </a:solidFill>
          </a:ln>
        </p:spPr>
        <p:style>
          <a:lnRef idx="0"/>
          <a:fillRef idx="0"/>
          <a:effectRef idx="0"/>
          <a:fontRef idx="minor"/>
        </p:style>
        <p:txBody>
          <a:bodyPr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67" name="Shape 2502"/>
          <p:cNvSpPr/>
          <p:nvPr/>
        </p:nvSpPr>
        <p:spPr>
          <a:xfrm>
            <a:off x="9691560" y="6060600"/>
            <a:ext cx="61560" cy="34560"/>
          </a:xfrm>
          <a:custGeom>
            <a:avLst/>
            <a:gdLst>
              <a:gd name="textAreaLeft" fmla="*/ 0 w 61560"/>
              <a:gd name="textAreaRight" fmla="*/ 61920 w 61560"/>
              <a:gd name="textAreaTop" fmla="*/ 0 h 34560"/>
              <a:gd name="textAreaBottom" fmla="*/ 34920 h 34560"/>
            </a:gdLst>
            <a:ahLst/>
            <a:rect l="textAreaLeft" t="textAreaTop" r="textAreaRight" b="textAreaBottom"/>
            <a:pathLst>
              <a:path w="20682" h="19991">
                <a:moveTo>
                  <a:pt x="7130" y="14606"/>
                </a:moveTo>
                <a:cubicBezTo>
                  <a:pt x="7550" y="13898"/>
                  <a:pt x="7969" y="13190"/>
                  <a:pt x="8388" y="13190"/>
                </a:cubicBezTo>
                <a:cubicBezTo>
                  <a:pt x="9227" y="12482"/>
                  <a:pt x="10066" y="14606"/>
                  <a:pt x="10905" y="16023"/>
                </a:cubicBezTo>
                <a:cubicBezTo>
                  <a:pt x="12792" y="19918"/>
                  <a:pt x="16777" y="21334"/>
                  <a:pt x="18874" y="18501"/>
                </a:cubicBezTo>
                <a:cubicBezTo>
                  <a:pt x="21600" y="15314"/>
                  <a:pt x="21181" y="7170"/>
                  <a:pt x="18035" y="5754"/>
                </a:cubicBezTo>
                <a:cubicBezTo>
                  <a:pt x="16777" y="5045"/>
                  <a:pt x="15309" y="5754"/>
                  <a:pt x="14470" y="5045"/>
                </a:cubicBezTo>
                <a:cubicBezTo>
                  <a:pt x="12792" y="4337"/>
                  <a:pt x="12373" y="1504"/>
                  <a:pt x="10485" y="442"/>
                </a:cubicBezTo>
                <a:cubicBezTo>
                  <a:pt x="9227" y="-266"/>
                  <a:pt x="5662" y="-266"/>
                  <a:pt x="4404" y="1504"/>
                </a:cubicBezTo>
                <a:cubicBezTo>
                  <a:pt x="2097" y="2921"/>
                  <a:pt x="419" y="5754"/>
                  <a:pt x="0" y="9649"/>
                </a:cubicBezTo>
                <a:cubicBezTo>
                  <a:pt x="3146" y="7878"/>
                  <a:pt x="5243" y="16023"/>
                  <a:pt x="7130" y="14606"/>
                </a:cubicBezTo>
              </a:path>
            </a:pathLst>
          </a:custGeom>
          <a:solidFill>
            <a:srgbClr val="d6d6d6"/>
          </a:solidFill>
          <a:ln w="0">
            <a:solidFill>
              <a:srgbClr val="424242"/>
            </a:solidFill>
          </a:ln>
        </p:spPr>
        <p:style>
          <a:lnRef idx="0"/>
          <a:fillRef idx="0"/>
          <a:effectRef idx="0"/>
          <a:fontRef idx="minor"/>
        </p:style>
        <p:txBody>
          <a:bodyPr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168" name="Group 2644"/>
          <p:cNvGrpSpPr/>
          <p:nvPr/>
        </p:nvGrpSpPr>
        <p:grpSpPr>
          <a:xfrm>
            <a:off x="9667080" y="2923560"/>
            <a:ext cx="12675600" cy="8216640"/>
            <a:chOff x="9667080" y="2923560"/>
            <a:chExt cx="12675600" cy="8216640"/>
          </a:xfrm>
        </p:grpSpPr>
        <p:sp>
          <p:nvSpPr>
            <p:cNvPr id="5169" name="Shape 2503"/>
            <p:cNvSpPr/>
            <p:nvPr/>
          </p:nvSpPr>
          <p:spPr>
            <a:xfrm>
              <a:off x="15095880" y="770184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d6d6d6"/>
            </a:solidFill>
            <a:ln w="9525">
              <a:solidFill>
                <a:srgbClr val="424242"/>
              </a:solidFill>
              <a:miter/>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0" name="Shape 2504"/>
            <p:cNvSpPr/>
            <p:nvPr/>
          </p:nvSpPr>
          <p:spPr>
            <a:xfrm>
              <a:off x="14992560" y="7342920"/>
              <a:ext cx="2419200" cy="2717640"/>
            </a:xfrm>
            <a:custGeom>
              <a:avLst/>
              <a:gdLst>
                <a:gd name="textAreaLeft" fmla="*/ 0 w 2419200"/>
                <a:gd name="textAreaRight" fmla="*/ 2419560 w 2419200"/>
                <a:gd name="textAreaTop" fmla="*/ 0 h 2717640"/>
                <a:gd name="textAreaBottom" fmla="*/ 2718000 h 271764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2"/>
                    <a:pt x="15854" y="18478"/>
                    <a:pt x="15909" y="18478"/>
                  </a:cubicBezTo>
                  <a:cubicBezTo>
                    <a:pt x="15970" y="18478"/>
                    <a:pt x="16014" y="18512"/>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1" name="Shape 2505"/>
            <p:cNvSpPr/>
            <p:nvPr/>
          </p:nvSpPr>
          <p:spPr>
            <a:xfrm>
              <a:off x="17139600" y="9196200"/>
              <a:ext cx="244080" cy="502920"/>
            </a:xfrm>
            <a:custGeom>
              <a:avLst/>
              <a:gdLst>
                <a:gd name="textAreaLeft" fmla="*/ 0 w 244080"/>
                <a:gd name="textAreaRight" fmla="*/ 244440 w 244080"/>
                <a:gd name="textAreaTop" fmla="*/ 0 h 502920"/>
                <a:gd name="textAreaBottom" fmla="*/ 503280 h 50292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2" name="Shape 2506"/>
            <p:cNvSpPr/>
            <p:nvPr/>
          </p:nvSpPr>
          <p:spPr>
            <a:xfrm>
              <a:off x="14704560" y="8135640"/>
              <a:ext cx="51840" cy="29160"/>
            </a:xfrm>
            <a:custGeom>
              <a:avLst/>
              <a:gdLst>
                <a:gd name="textAreaLeft" fmla="*/ 0 w 51840"/>
                <a:gd name="textAreaRight" fmla="*/ 52200 w 51840"/>
                <a:gd name="textAreaTop" fmla="*/ 0 h 29160"/>
                <a:gd name="textAreaBottom" fmla="*/ 29520 h 2916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d6d6d6"/>
            </a:solidFill>
            <a:ln w="9525">
              <a:solidFill>
                <a:srgbClr val="424242"/>
              </a:solidFill>
              <a:miter/>
            </a:ln>
          </p:spPr>
          <p:style>
            <a:lnRef idx="0"/>
            <a:fillRef idx="0"/>
            <a:effectRef idx="0"/>
            <a:fontRef idx="minor"/>
          </p:style>
          <p:txBody>
            <a:bodyPr numCol="1" spcCol="0" lIns="45720" rIns="45720" tIns="14760" bIns="14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3" name="Shape 2507"/>
            <p:cNvSpPr/>
            <p:nvPr/>
          </p:nvSpPr>
          <p:spPr>
            <a:xfrm>
              <a:off x="12735360" y="8313480"/>
              <a:ext cx="1635480" cy="2826720"/>
            </a:xfrm>
            <a:custGeom>
              <a:avLst/>
              <a:gdLst>
                <a:gd name="textAreaLeft" fmla="*/ 0 w 1635480"/>
                <a:gd name="textAreaRight" fmla="*/ 1635840 w 1635480"/>
                <a:gd name="textAreaTop" fmla="*/ 0 h 2826720"/>
                <a:gd name="textAreaBottom" fmla="*/ 2827080 h 282672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4" name="Shape 2508"/>
            <p:cNvSpPr/>
            <p:nvPr/>
          </p:nvSpPr>
          <p:spPr>
            <a:xfrm>
              <a:off x="13428360" y="10847880"/>
              <a:ext cx="137520" cy="88200"/>
            </a:xfrm>
            <a:custGeom>
              <a:avLst/>
              <a:gdLst>
                <a:gd name="textAreaLeft" fmla="*/ 0 w 137520"/>
                <a:gd name="textAreaRight" fmla="*/ 137880 w 137520"/>
                <a:gd name="textAreaTop" fmla="*/ 0 h 88200"/>
                <a:gd name="textAreaBottom" fmla="*/ 88560 h 8820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d6d6d6"/>
            </a:solidFill>
            <a:ln w="9525">
              <a:solidFill>
                <a:srgbClr val="424242"/>
              </a:solidFill>
              <a:miter/>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5" name="Shape 2509"/>
            <p:cNvSpPr/>
            <p:nvPr/>
          </p:nvSpPr>
          <p:spPr>
            <a:xfrm>
              <a:off x="12351600" y="8735400"/>
              <a:ext cx="74160" cy="60120"/>
            </a:xfrm>
            <a:custGeom>
              <a:avLst/>
              <a:gdLst>
                <a:gd name="textAreaLeft" fmla="*/ 0 w 74160"/>
                <a:gd name="textAreaRight" fmla="*/ 74520 w 74160"/>
                <a:gd name="textAreaTop" fmla="*/ 0 h 60120"/>
                <a:gd name="textAreaBottom" fmla="*/ 60480 h 60120"/>
              </a:gdLst>
              <a:ahLst/>
              <a:rect l="textAreaLeft" t="textAreaTop" r="textAreaRight" b="textAreaBottom"/>
              <a:pathLst>
                <a:path w="19782" h="20169">
                  <a:moveTo>
                    <a:pt x="5761" y="10066"/>
                  </a:moveTo>
                  <a:cubicBezTo>
                    <a:pt x="5761" y="10485"/>
                    <a:pt x="5761" y="11114"/>
                    <a:pt x="5761" y="11534"/>
                  </a:cubicBezTo>
                  <a:cubicBezTo>
                    <a:pt x="6093" y="12373"/>
                    <a:pt x="6426" y="12792"/>
                    <a:pt x="7090" y="13211"/>
                  </a:cubicBezTo>
                  <a:cubicBezTo>
                    <a:pt x="8918" y="14470"/>
                    <a:pt x="10247" y="16357"/>
                    <a:pt x="11743" y="18035"/>
                  </a:cubicBezTo>
                  <a:cubicBezTo>
                    <a:pt x="13404" y="19293"/>
                    <a:pt x="15232" y="20761"/>
                    <a:pt x="17226" y="19922"/>
                  </a:cubicBezTo>
                  <a:cubicBezTo>
                    <a:pt x="19718" y="18874"/>
                    <a:pt x="20715" y="14050"/>
                    <a:pt x="18721" y="11953"/>
                  </a:cubicBezTo>
                  <a:cubicBezTo>
                    <a:pt x="17890" y="11114"/>
                    <a:pt x="17226" y="10485"/>
                    <a:pt x="16893" y="9646"/>
                  </a:cubicBezTo>
                  <a:cubicBezTo>
                    <a:pt x="16561" y="8388"/>
                    <a:pt x="17226" y="7130"/>
                    <a:pt x="17226" y="5243"/>
                  </a:cubicBezTo>
                  <a:cubicBezTo>
                    <a:pt x="17226" y="2726"/>
                    <a:pt x="15232" y="1258"/>
                    <a:pt x="13072" y="419"/>
                  </a:cubicBezTo>
                  <a:cubicBezTo>
                    <a:pt x="12075" y="0"/>
                    <a:pt x="10580" y="-420"/>
                    <a:pt x="9915" y="839"/>
                  </a:cubicBezTo>
                  <a:cubicBezTo>
                    <a:pt x="9583" y="1258"/>
                    <a:pt x="9583" y="1887"/>
                    <a:pt x="9250" y="2307"/>
                  </a:cubicBezTo>
                  <a:cubicBezTo>
                    <a:pt x="7090" y="6711"/>
                    <a:pt x="1607" y="-839"/>
                    <a:pt x="112" y="3984"/>
                  </a:cubicBezTo>
                  <a:cubicBezTo>
                    <a:pt x="-885" y="8808"/>
                    <a:pt x="5097" y="7549"/>
                    <a:pt x="5761" y="10066"/>
                  </a:cubicBezTo>
                </a:path>
              </a:pathLst>
            </a:custGeom>
            <a:solidFill>
              <a:srgbClr val="d6d6d6"/>
            </a:solidFill>
            <a:ln w="9525">
              <a:solidFill>
                <a:srgbClr val="424242"/>
              </a:solidFill>
              <a:miter/>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6" name="Shape 2510"/>
            <p:cNvSpPr/>
            <p:nvPr/>
          </p:nvSpPr>
          <p:spPr>
            <a:xfrm>
              <a:off x="9667080" y="4751640"/>
              <a:ext cx="3970080" cy="3729600"/>
            </a:xfrm>
            <a:custGeom>
              <a:avLst/>
              <a:gdLst>
                <a:gd name="textAreaLeft" fmla="*/ 0 w 3970080"/>
                <a:gd name="textAreaRight" fmla="*/ 3970440 w 3970080"/>
                <a:gd name="textAreaTop" fmla="*/ 0 h 3729600"/>
                <a:gd name="textAreaBottom" fmla="*/ 3729960 h 372960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4"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7" name="Shape 2511"/>
            <p:cNvSpPr/>
            <p:nvPr/>
          </p:nvSpPr>
          <p:spPr>
            <a:xfrm>
              <a:off x="12616200" y="7890120"/>
              <a:ext cx="350280" cy="135720"/>
            </a:xfrm>
            <a:custGeom>
              <a:avLst/>
              <a:gdLst>
                <a:gd name="textAreaLeft" fmla="*/ 0 w 350280"/>
                <a:gd name="textAreaRight" fmla="*/ 350640 w 350280"/>
                <a:gd name="textAreaTop" fmla="*/ 0 h 135720"/>
                <a:gd name="textAreaBottom" fmla="*/ 136080 h 13572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8" name="Shape 2512"/>
            <p:cNvSpPr/>
            <p:nvPr/>
          </p:nvSpPr>
          <p:spPr>
            <a:xfrm>
              <a:off x="12839760" y="8070120"/>
              <a:ext cx="82080" cy="39960"/>
            </a:xfrm>
            <a:custGeom>
              <a:avLst/>
              <a:gdLst>
                <a:gd name="textAreaLeft" fmla="*/ 0 w 82080"/>
                <a:gd name="textAreaRight" fmla="*/ 82440 w 82080"/>
                <a:gd name="textAreaTop" fmla="*/ 0 h 39960"/>
                <a:gd name="textAreaBottom" fmla="*/ 40320 h 3996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d6d6d6"/>
            </a:solidFill>
            <a:ln w="9525">
              <a:solidFill>
                <a:srgbClr val="424242"/>
              </a:solidFill>
              <a:miter/>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79" name="Shape 2513"/>
            <p:cNvSpPr/>
            <p:nvPr/>
          </p:nvSpPr>
          <p:spPr>
            <a:xfrm>
              <a:off x="12975480" y="8019000"/>
              <a:ext cx="232560" cy="75600"/>
            </a:xfrm>
            <a:custGeom>
              <a:avLst/>
              <a:gdLst>
                <a:gd name="textAreaLeft" fmla="*/ 0 w 232560"/>
                <a:gd name="textAreaRight" fmla="*/ 232920 w 232560"/>
                <a:gd name="textAreaTop" fmla="*/ 0 h 75600"/>
                <a:gd name="textAreaBottom" fmla="*/ 75960 h 7560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d6d6d6"/>
            </a:solidFill>
            <a:ln w="9525">
              <a:solidFill>
                <a:srgbClr val="424242"/>
              </a:solidFill>
              <a:miter/>
            </a:ln>
          </p:spPr>
          <p:style>
            <a:lnRef idx="0"/>
            <a:fillRef idx="0"/>
            <a:effectRef idx="0"/>
            <a:fontRef idx="minor"/>
          </p:style>
          <p:txBody>
            <a:bodyPr numCol="1" spcCol="0" lIns="45720" rIns="45720" tIns="37800" bIns="37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0" name="Shape 2514"/>
            <p:cNvSpPr/>
            <p:nvPr/>
          </p:nvSpPr>
          <p:spPr>
            <a:xfrm>
              <a:off x="13223880" y="8073720"/>
              <a:ext cx="94320" cy="35640"/>
            </a:xfrm>
            <a:custGeom>
              <a:avLst/>
              <a:gdLst>
                <a:gd name="textAreaLeft" fmla="*/ 0 w 94320"/>
                <a:gd name="textAreaRight" fmla="*/ 94680 w 94320"/>
                <a:gd name="textAreaTop" fmla="*/ 0 h 35640"/>
                <a:gd name="textAreaBottom" fmla="*/ 36000 h 3564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d6d6d6"/>
            </a:solidFill>
            <a:ln w="9525">
              <a:solidFill>
                <a:srgbClr val="424242"/>
              </a:solidFill>
              <a:miter/>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1" name="Shape 2515"/>
            <p:cNvSpPr/>
            <p:nvPr/>
          </p:nvSpPr>
          <p:spPr>
            <a:xfrm>
              <a:off x="13321800" y="6703560"/>
              <a:ext cx="110160" cy="60480"/>
            </a:xfrm>
            <a:custGeom>
              <a:avLst/>
              <a:gdLst>
                <a:gd name="textAreaLeft" fmla="*/ 0 w 110160"/>
                <a:gd name="textAreaRight" fmla="*/ 110520 w 110160"/>
                <a:gd name="textAreaTop" fmla="*/ 0 h 60480"/>
                <a:gd name="textAreaBottom" fmla="*/ 60840 h 6048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d6d6d6"/>
            </a:solidFill>
            <a:ln w="9525">
              <a:solidFill>
                <a:srgbClr val="424242"/>
              </a:solidFill>
              <a:miter/>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2" name="Shape 2516"/>
            <p:cNvSpPr/>
            <p:nvPr/>
          </p:nvSpPr>
          <p:spPr>
            <a:xfrm>
              <a:off x="13507200" y="6589440"/>
              <a:ext cx="235440" cy="289440"/>
            </a:xfrm>
            <a:custGeom>
              <a:avLst/>
              <a:gdLst>
                <a:gd name="textAreaLeft" fmla="*/ 0 w 235440"/>
                <a:gd name="textAreaRight" fmla="*/ 235800 w 235440"/>
                <a:gd name="textAreaTop" fmla="*/ 0 h 289440"/>
                <a:gd name="textAreaBottom" fmla="*/ 289800 h 28944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3" name="Shape 2517"/>
            <p:cNvSpPr/>
            <p:nvPr/>
          </p:nvSpPr>
          <p:spPr>
            <a:xfrm>
              <a:off x="12767760" y="6279120"/>
              <a:ext cx="61560" cy="88200"/>
            </a:xfrm>
            <a:custGeom>
              <a:avLst/>
              <a:gdLst>
                <a:gd name="textAreaLeft" fmla="*/ 0 w 61560"/>
                <a:gd name="textAreaRight" fmla="*/ 61920 w 61560"/>
                <a:gd name="textAreaTop" fmla="*/ 0 h 88200"/>
                <a:gd name="textAreaBottom" fmla="*/ 88560 h 8820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d6d6d6"/>
            </a:solidFill>
            <a:ln w="9525">
              <a:solidFill>
                <a:srgbClr val="424242"/>
              </a:solidFill>
              <a:miter/>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4" name="Shape 2518"/>
            <p:cNvSpPr/>
            <p:nvPr/>
          </p:nvSpPr>
          <p:spPr>
            <a:xfrm>
              <a:off x="12749040" y="6076080"/>
              <a:ext cx="37800" cy="75240"/>
            </a:xfrm>
            <a:custGeom>
              <a:avLst/>
              <a:gdLst>
                <a:gd name="textAreaLeft" fmla="*/ 0 w 37800"/>
                <a:gd name="textAreaRight" fmla="*/ 38160 w 37800"/>
                <a:gd name="textAreaTop" fmla="*/ 0 h 75240"/>
                <a:gd name="textAreaBottom" fmla="*/ 75600 h 7524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d6d6d6"/>
            </a:solidFill>
            <a:ln w="9525">
              <a:solidFill>
                <a:srgbClr val="424242"/>
              </a:solidFill>
              <a:miter/>
            </a:ln>
          </p:spPr>
          <p:style>
            <a:lnRef idx="0"/>
            <a:fillRef idx="0"/>
            <a:effectRef idx="0"/>
            <a:fontRef idx="minor"/>
          </p:style>
          <p:txBody>
            <a:bodyPr numCol="1" spcCol="0" lIns="45720" rIns="45720" tIns="37800" bIns="37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5" name="Shape 2519"/>
            <p:cNvSpPr/>
            <p:nvPr/>
          </p:nvSpPr>
          <p:spPr>
            <a:xfrm>
              <a:off x="12769200" y="5905440"/>
              <a:ext cx="46440" cy="69120"/>
            </a:xfrm>
            <a:custGeom>
              <a:avLst/>
              <a:gdLst>
                <a:gd name="textAreaLeft" fmla="*/ 0 w 46440"/>
                <a:gd name="textAreaRight" fmla="*/ 46800 w 46440"/>
                <a:gd name="textAreaTop" fmla="*/ 0 h 69120"/>
                <a:gd name="textAreaBottom" fmla="*/ 69480 h 6912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d6d6d6"/>
            </a:solidFill>
            <a:ln w="9525">
              <a:solidFill>
                <a:srgbClr val="424242"/>
              </a:solidFill>
              <a:miter/>
            </a:ln>
          </p:spPr>
          <p:style>
            <a:lnRef idx="0"/>
            <a:fillRef idx="0"/>
            <a:effectRef idx="0"/>
            <a:fontRef idx="minor"/>
          </p:style>
          <p:txBody>
            <a:bodyPr numCol="1" spcCol="0" lIns="45720" rIns="45720" tIns="34560" bIns="34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6" name="Shape 2520"/>
            <p:cNvSpPr/>
            <p:nvPr/>
          </p:nvSpPr>
          <p:spPr>
            <a:xfrm>
              <a:off x="13181040" y="6038280"/>
              <a:ext cx="34560" cy="36000"/>
            </a:xfrm>
            <a:custGeom>
              <a:avLst/>
              <a:gdLst>
                <a:gd name="textAreaLeft" fmla="*/ 0 w 34560"/>
                <a:gd name="textAreaRight" fmla="*/ 34920 w 34560"/>
                <a:gd name="textAreaTop" fmla="*/ 0 h 36000"/>
                <a:gd name="textAreaBottom" fmla="*/ 36360 h 3600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d6d6d6"/>
            </a:solidFill>
            <a:ln w="9525">
              <a:solidFill>
                <a:srgbClr val="424242"/>
              </a:solidFill>
              <a:miter/>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7" name="Shape 2521"/>
            <p:cNvSpPr/>
            <p:nvPr/>
          </p:nvSpPr>
          <p:spPr>
            <a:xfrm>
              <a:off x="12517200" y="5621400"/>
              <a:ext cx="259920" cy="241560"/>
            </a:xfrm>
            <a:custGeom>
              <a:avLst/>
              <a:gdLst>
                <a:gd name="textAreaLeft" fmla="*/ 0 w 259920"/>
                <a:gd name="textAreaRight" fmla="*/ 260280 w 259920"/>
                <a:gd name="textAreaTop" fmla="*/ 0 h 241560"/>
                <a:gd name="textAreaBottom" fmla="*/ 241920 h 24156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8" name="Shape 2522"/>
            <p:cNvSpPr/>
            <p:nvPr/>
          </p:nvSpPr>
          <p:spPr>
            <a:xfrm>
              <a:off x="12627000" y="5860440"/>
              <a:ext cx="90360" cy="71280"/>
            </a:xfrm>
            <a:custGeom>
              <a:avLst/>
              <a:gdLst>
                <a:gd name="textAreaLeft" fmla="*/ 0 w 90360"/>
                <a:gd name="textAreaRight" fmla="*/ 90720 w 90360"/>
                <a:gd name="textAreaTop" fmla="*/ 0 h 71280"/>
                <a:gd name="textAreaBottom" fmla="*/ 71640 h 7128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d6d6d6"/>
            </a:solidFill>
            <a:ln w="9525">
              <a:solidFill>
                <a:srgbClr val="424242"/>
              </a:solidFill>
              <a:miter/>
            </a:ln>
          </p:spPr>
          <p:style>
            <a:lnRef idx="0"/>
            <a:fillRef idx="0"/>
            <a:effectRef idx="0"/>
            <a:fontRef idx="minor"/>
          </p:style>
          <p:txBody>
            <a:bodyPr numCol="1" spcCol="0" lIns="45720" rIns="45720" tIns="35640" bIns="35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89" name="Shape 2523"/>
            <p:cNvSpPr/>
            <p:nvPr/>
          </p:nvSpPr>
          <p:spPr>
            <a:xfrm>
              <a:off x="12870000" y="5408280"/>
              <a:ext cx="88200" cy="99720"/>
            </a:xfrm>
            <a:custGeom>
              <a:avLst/>
              <a:gdLst>
                <a:gd name="textAreaLeft" fmla="*/ 0 w 88200"/>
                <a:gd name="textAreaRight" fmla="*/ 88560 w 88200"/>
                <a:gd name="textAreaTop" fmla="*/ 0 h 99720"/>
                <a:gd name="textAreaBottom" fmla="*/ 100080 h 9972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0" name="Shape 2524"/>
            <p:cNvSpPr/>
            <p:nvPr/>
          </p:nvSpPr>
          <p:spPr>
            <a:xfrm>
              <a:off x="12805560" y="5279400"/>
              <a:ext cx="31320" cy="79560"/>
            </a:xfrm>
            <a:custGeom>
              <a:avLst/>
              <a:gdLst>
                <a:gd name="textAreaLeft" fmla="*/ 0 w 31320"/>
                <a:gd name="textAreaRight" fmla="*/ 31680 w 31320"/>
                <a:gd name="textAreaTop" fmla="*/ 0 h 79560"/>
                <a:gd name="textAreaBottom" fmla="*/ 79920 h 7956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d6d6d6"/>
            </a:solidFill>
            <a:ln w="9525">
              <a:solidFill>
                <a:srgbClr val="424242"/>
              </a:solidFill>
              <a:miter/>
            </a:ln>
          </p:spPr>
          <p:style>
            <a:lnRef idx="0"/>
            <a:fillRef idx="0"/>
            <a:effectRef idx="0"/>
            <a:fontRef idx="minor"/>
          </p:style>
          <p:txBody>
            <a:bodyPr numCol="1" spcCol="0" lIns="45720" rIns="45720" tIns="39960" bIns="39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1" name="Shape 2525"/>
            <p:cNvSpPr/>
            <p:nvPr/>
          </p:nvSpPr>
          <p:spPr>
            <a:xfrm>
              <a:off x="12878640" y="5298480"/>
              <a:ext cx="32400" cy="61560"/>
            </a:xfrm>
            <a:custGeom>
              <a:avLst/>
              <a:gdLst>
                <a:gd name="textAreaLeft" fmla="*/ 0 w 32400"/>
                <a:gd name="textAreaRight" fmla="*/ 32760 w 32400"/>
                <a:gd name="textAreaTop" fmla="*/ 0 h 61560"/>
                <a:gd name="textAreaBottom" fmla="*/ 61920 h 6156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d6d6d6"/>
            </a:solidFill>
            <a:ln w="9525">
              <a:solidFill>
                <a:srgbClr val="424242"/>
              </a:solidFill>
              <a:miter/>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2" name="Shape 2526"/>
            <p:cNvSpPr/>
            <p:nvPr/>
          </p:nvSpPr>
          <p:spPr>
            <a:xfrm>
              <a:off x="12966480" y="5424480"/>
              <a:ext cx="45720" cy="42480"/>
            </a:xfrm>
            <a:custGeom>
              <a:avLst/>
              <a:gdLst>
                <a:gd name="textAreaLeft" fmla="*/ 0 w 45720"/>
                <a:gd name="textAreaRight" fmla="*/ 46080 w 45720"/>
                <a:gd name="textAreaTop" fmla="*/ 0 h 42480"/>
                <a:gd name="textAreaBottom" fmla="*/ 42840 h 4248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d6d6d6"/>
            </a:solidFill>
            <a:ln w="9525">
              <a:solidFill>
                <a:srgbClr val="424242"/>
              </a:solidFill>
              <a:miter/>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3" name="Shape 2527"/>
            <p:cNvSpPr/>
            <p:nvPr/>
          </p:nvSpPr>
          <p:spPr>
            <a:xfrm>
              <a:off x="12833640" y="5806440"/>
              <a:ext cx="38880" cy="50760"/>
            </a:xfrm>
            <a:custGeom>
              <a:avLst/>
              <a:gdLst>
                <a:gd name="textAreaLeft" fmla="*/ 0 w 38880"/>
                <a:gd name="textAreaRight" fmla="*/ 39240 w 38880"/>
                <a:gd name="textAreaTop" fmla="*/ 0 h 50760"/>
                <a:gd name="textAreaBottom" fmla="*/ 51120 h 5076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d6d6d6"/>
            </a:solidFill>
            <a:ln w="9525">
              <a:solidFill>
                <a:srgbClr val="424242"/>
              </a:solidFill>
              <a:miter/>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4" name="Shape 2528"/>
            <p:cNvSpPr/>
            <p:nvPr/>
          </p:nvSpPr>
          <p:spPr>
            <a:xfrm>
              <a:off x="13290480" y="5938920"/>
              <a:ext cx="24840" cy="45720"/>
            </a:xfrm>
            <a:custGeom>
              <a:avLst/>
              <a:gdLst>
                <a:gd name="textAreaLeft" fmla="*/ 0 w 24840"/>
                <a:gd name="textAreaRight" fmla="*/ 25200 w 24840"/>
                <a:gd name="textAreaTop" fmla="*/ 0 h 45720"/>
                <a:gd name="textAreaBottom" fmla="*/ 46080 h 4572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d6d6d6"/>
            </a:solidFill>
            <a:ln w="9525">
              <a:solidFill>
                <a:srgbClr val="424242"/>
              </a:solidFill>
              <a:miter/>
            </a:ln>
          </p:spPr>
          <p:style>
            <a:lnRef idx="0"/>
            <a:fillRef idx="0"/>
            <a:effectRef idx="0"/>
            <a:fontRef idx="minor"/>
          </p:style>
          <p:txBody>
            <a:bodyPr numCol="1" spcCol="0" lIns="45720" rIns="45720" tIns="23040" bIns="23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5" name="Shape 2529"/>
            <p:cNvSpPr/>
            <p:nvPr/>
          </p:nvSpPr>
          <p:spPr>
            <a:xfrm>
              <a:off x="12741120" y="4817160"/>
              <a:ext cx="181800" cy="121320"/>
            </a:xfrm>
            <a:custGeom>
              <a:avLst/>
              <a:gdLst>
                <a:gd name="textAreaLeft" fmla="*/ 0 w 181800"/>
                <a:gd name="textAreaRight" fmla="*/ 182160 w 181800"/>
                <a:gd name="textAreaTop" fmla="*/ 0 h 121320"/>
                <a:gd name="textAreaBottom" fmla="*/ 121680 h 12132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6" name="Shape 2530"/>
            <p:cNvSpPr/>
            <p:nvPr/>
          </p:nvSpPr>
          <p:spPr>
            <a:xfrm>
              <a:off x="10141560" y="6182280"/>
              <a:ext cx="90720" cy="108720"/>
            </a:xfrm>
            <a:custGeom>
              <a:avLst/>
              <a:gdLst>
                <a:gd name="textAreaLeft" fmla="*/ 0 w 90720"/>
                <a:gd name="textAreaRight" fmla="*/ 91080 w 90720"/>
                <a:gd name="textAreaTop" fmla="*/ 0 h 108720"/>
                <a:gd name="textAreaBottom" fmla="*/ 109080 h 10872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7" name="Shape 2531"/>
            <p:cNvSpPr/>
            <p:nvPr/>
          </p:nvSpPr>
          <p:spPr>
            <a:xfrm>
              <a:off x="9758160" y="6428520"/>
              <a:ext cx="43560" cy="39960"/>
            </a:xfrm>
            <a:custGeom>
              <a:avLst/>
              <a:gdLst>
                <a:gd name="textAreaLeft" fmla="*/ 0 w 43560"/>
                <a:gd name="textAreaRight" fmla="*/ 43920 w 43560"/>
                <a:gd name="textAreaTop" fmla="*/ 0 h 39960"/>
                <a:gd name="textAreaBottom" fmla="*/ 40320 h 3996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d6d6d6"/>
            </a:solidFill>
            <a:ln w="9525">
              <a:solidFill>
                <a:srgbClr val="424242"/>
              </a:solidFill>
              <a:miter/>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8" name="Shape 2532"/>
            <p:cNvSpPr/>
            <p:nvPr/>
          </p:nvSpPr>
          <p:spPr>
            <a:xfrm>
              <a:off x="10902240" y="6463800"/>
              <a:ext cx="77400" cy="132480"/>
            </a:xfrm>
            <a:custGeom>
              <a:avLst/>
              <a:gdLst>
                <a:gd name="textAreaLeft" fmla="*/ 0 w 77400"/>
                <a:gd name="textAreaRight" fmla="*/ 77760 w 77400"/>
                <a:gd name="textAreaTop" fmla="*/ 0 h 132480"/>
                <a:gd name="textAreaBottom" fmla="*/ 132840 h 13248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199" name="Shape 2533"/>
            <p:cNvSpPr/>
            <p:nvPr/>
          </p:nvSpPr>
          <p:spPr>
            <a:xfrm>
              <a:off x="11172600" y="4712760"/>
              <a:ext cx="358920" cy="413640"/>
            </a:xfrm>
            <a:custGeom>
              <a:avLst/>
              <a:gdLst>
                <a:gd name="textAreaLeft" fmla="*/ 0 w 358920"/>
                <a:gd name="textAreaRight" fmla="*/ 359280 w 358920"/>
                <a:gd name="textAreaTop" fmla="*/ 0 h 413640"/>
                <a:gd name="textAreaBottom" fmla="*/ 414000 h 41364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0" name="Shape 2534"/>
            <p:cNvSpPr/>
            <p:nvPr/>
          </p:nvSpPr>
          <p:spPr>
            <a:xfrm>
              <a:off x="11977200" y="4757400"/>
              <a:ext cx="219960" cy="340560"/>
            </a:xfrm>
            <a:custGeom>
              <a:avLst/>
              <a:gdLst>
                <a:gd name="textAreaLeft" fmla="*/ 0 w 219960"/>
                <a:gd name="textAreaRight" fmla="*/ 220320 w 219960"/>
                <a:gd name="textAreaTop" fmla="*/ 0 h 340560"/>
                <a:gd name="textAreaBottom" fmla="*/ 340920 h 34056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1" name="Shape 2535"/>
            <p:cNvSpPr/>
            <p:nvPr/>
          </p:nvSpPr>
          <p:spPr>
            <a:xfrm>
              <a:off x="12039840" y="5142600"/>
              <a:ext cx="36360" cy="63720"/>
            </a:xfrm>
            <a:custGeom>
              <a:avLst/>
              <a:gdLst>
                <a:gd name="textAreaLeft" fmla="*/ 0 w 36360"/>
                <a:gd name="textAreaRight" fmla="*/ 36720 w 36360"/>
                <a:gd name="textAreaTop" fmla="*/ 0 h 63720"/>
                <a:gd name="textAreaBottom" fmla="*/ 64080 h 6372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d6d6d6"/>
            </a:solidFill>
            <a:ln w="9525">
              <a:solidFill>
                <a:srgbClr val="424242"/>
              </a:solidFill>
              <a:miter/>
            </a:ln>
          </p:spPr>
          <p:style>
            <a:lnRef idx="0"/>
            <a:fillRef idx="0"/>
            <a:effectRef idx="0"/>
            <a:fontRef idx="minor"/>
          </p:style>
          <p:txBody>
            <a:bodyPr numCol="1" spcCol="0" lIns="45720" rIns="45720" tIns="32040" bIns="32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2" name="Shape 2536"/>
            <p:cNvSpPr/>
            <p:nvPr/>
          </p:nvSpPr>
          <p:spPr>
            <a:xfrm>
              <a:off x="11251440" y="4259520"/>
              <a:ext cx="271080" cy="277920"/>
            </a:xfrm>
            <a:custGeom>
              <a:avLst/>
              <a:gdLst>
                <a:gd name="textAreaLeft" fmla="*/ 0 w 271080"/>
                <a:gd name="textAreaRight" fmla="*/ 271440 w 271080"/>
                <a:gd name="textAreaTop" fmla="*/ 0 h 277920"/>
                <a:gd name="textAreaBottom" fmla="*/ 278280 h 27792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3" name="Shape 2537"/>
            <p:cNvSpPr/>
            <p:nvPr/>
          </p:nvSpPr>
          <p:spPr>
            <a:xfrm>
              <a:off x="11383200" y="4484520"/>
              <a:ext cx="73800" cy="88200"/>
            </a:xfrm>
            <a:custGeom>
              <a:avLst/>
              <a:gdLst>
                <a:gd name="textAreaLeft" fmla="*/ 0 w 73800"/>
                <a:gd name="textAreaRight" fmla="*/ 74160 w 73800"/>
                <a:gd name="textAreaTop" fmla="*/ 0 h 88200"/>
                <a:gd name="textAreaBottom" fmla="*/ 88560 h 8820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d6d6d6"/>
            </a:solidFill>
            <a:ln w="9525">
              <a:solidFill>
                <a:srgbClr val="424242"/>
              </a:solidFill>
              <a:miter/>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4" name="Shape 2538"/>
            <p:cNvSpPr/>
            <p:nvPr/>
          </p:nvSpPr>
          <p:spPr>
            <a:xfrm>
              <a:off x="11538720" y="4177440"/>
              <a:ext cx="53280" cy="67320"/>
            </a:xfrm>
            <a:custGeom>
              <a:avLst/>
              <a:gdLst>
                <a:gd name="textAreaLeft" fmla="*/ 0 w 53280"/>
                <a:gd name="textAreaRight" fmla="*/ 53640 w 53280"/>
                <a:gd name="textAreaTop" fmla="*/ 0 h 67320"/>
                <a:gd name="textAreaBottom" fmla="*/ 67680 h 6732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d6d6d6"/>
            </a:solidFill>
            <a:ln w="9525">
              <a:solidFill>
                <a:srgbClr val="424242"/>
              </a:solidFill>
              <a:miter/>
            </a:ln>
          </p:spPr>
          <p:style>
            <a:lnRef idx="0"/>
            <a:fillRef idx="0"/>
            <a:effectRef idx="0"/>
            <a:fontRef idx="minor"/>
          </p:style>
          <p:txBody>
            <a:bodyPr numCol="1" spcCol="0" lIns="45720" rIns="45720" tIns="33840" bIns="33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5" name="Shape 2539"/>
            <p:cNvSpPr/>
            <p:nvPr/>
          </p:nvSpPr>
          <p:spPr>
            <a:xfrm>
              <a:off x="11544480" y="4374720"/>
              <a:ext cx="56880" cy="30240"/>
            </a:xfrm>
            <a:custGeom>
              <a:avLst/>
              <a:gdLst>
                <a:gd name="textAreaLeft" fmla="*/ 0 w 56880"/>
                <a:gd name="textAreaRight" fmla="*/ 57240 w 56880"/>
                <a:gd name="textAreaTop" fmla="*/ 0 h 30240"/>
                <a:gd name="textAreaBottom" fmla="*/ 30600 h 3024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d6d6d6"/>
            </a:solidFill>
            <a:ln w="9525">
              <a:solidFill>
                <a:srgbClr val="424242"/>
              </a:solidFill>
              <a:miter/>
            </a:ln>
          </p:spPr>
          <p:style>
            <a:lnRef idx="0"/>
            <a:fillRef idx="0"/>
            <a:effectRef idx="0"/>
            <a:fontRef idx="minor"/>
          </p:style>
          <p:txBody>
            <a:bodyPr numCol="1" spcCol="0" lIns="45720" rIns="45720" tIns="15120" bIns="15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6" name="Shape 2540"/>
            <p:cNvSpPr/>
            <p:nvPr/>
          </p:nvSpPr>
          <p:spPr>
            <a:xfrm>
              <a:off x="11459160" y="4365360"/>
              <a:ext cx="423000" cy="357120"/>
            </a:xfrm>
            <a:custGeom>
              <a:avLst/>
              <a:gdLst>
                <a:gd name="textAreaLeft" fmla="*/ 0 w 423000"/>
                <a:gd name="textAreaRight" fmla="*/ 423360 w 423000"/>
                <a:gd name="textAreaTop" fmla="*/ 0 h 357120"/>
                <a:gd name="textAreaBottom" fmla="*/ 357480 h 35712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7" name="Shape 2541"/>
            <p:cNvSpPr/>
            <p:nvPr/>
          </p:nvSpPr>
          <p:spPr>
            <a:xfrm>
              <a:off x="11899440" y="4582440"/>
              <a:ext cx="53280" cy="70920"/>
            </a:xfrm>
            <a:custGeom>
              <a:avLst/>
              <a:gdLst>
                <a:gd name="textAreaLeft" fmla="*/ 0 w 53280"/>
                <a:gd name="textAreaRight" fmla="*/ 53640 w 53280"/>
                <a:gd name="textAreaTop" fmla="*/ 0 h 70920"/>
                <a:gd name="textAreaBottom" fmla="*/ 71280 h 7092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d6d6d6"/>
            </a:solidFill>
            <a:ln w="9525">
              <a:solidFill>
                <a:srgbClr val="424242"/>
              </a:solidFill>
              <a:miter/>
            </a:ln>
          </p:spPr>
          <p:style>
            <a:lnRef idx="0"/>
            <a:fillRef idx="0"/>
            <a:effectRef idx="0"/>
            <a:fontRef idx="minor"/>
          </p:style>
          <p:txBody>
            <a:bodyPr numCol="1" spcCol="0" lIns="45720" rIns="45720" tIns="35640" bIns="35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8" name="Shape 2542"/>
            <p:cNvSpPr/>
            <p:nvPr/>
          </p:nvSpPr>
          <p:spPr>
            <a:xfrm>
              <a:off x="11605680" y="4167360"/>
              <a:ext cx="131760" cy="145080"/>
            </a:xfrm>
            <a:custGeom>
              <a:avLst/>
              <a:gdLst>
                <a:gd name="textAreaLeft" fmla="*/ 0 w 131760"/>
                <a:gd name="textAreaRight" fmla="*/ 132120 w 131760"/>
                <a:gd name="textAreaTop" fmla="*/ 0 h 145080"/>
                <a:gd name="textAreaBottom" fmla="*/ 145440 h 14508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09" name="Shape 2543"/>
            <p:cNvSpPr/>
            <p:nvPr/>
          </p:nvSpPr>
          <p:spPr>
            <a:xfrm>
              <a:off x="11573280" y="4051080"/>
              <a:ext cx="170640" cy="105840"/>
            </a:xfrm>
            <a:custGeom>
              <a:avLst/>
              <a:gdLst>
                <a:gd name="textAreaLeft" fmla="*/ 0 w 170640"/>
                <a:gd name="textAreaRight" fmla="*/ 171000 w 170640"/>
                <a:gd name="textAreaTop" fmla="*/ 0 h 105840"/>
                <a:gd name="textAreaBottom" fmla="*/ 106200 h 10584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0" name="Shape 2544"/>
            <p:cNvSpPr/>
            <p:nvPr/>
          </p:nvSpPr>
          <p:spPr>
            <a:xfrm>
              <a:off x="11871000" y="3949200"/>
              <a:ext cx="245520" cy="281160"/>
            </a:xfrm>
            <a:custGeom>
              <a:avLst/>
              <a:gdLst>
                <a:gd name="textAreaLeft" fmla="*/ 0 w 245520"/>
                <a:gd name="textAreaRight" fmla="*/ 245880 w 245520"/>
                <a:gd name="textAreaTop" fmla="*/ 0 h 281160"/>
                <a:gd name="textAreaBottom" fmla="*/ 281520 h 28116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1" name="Shape 2545"/>
            <p:cNvSpPr/>
            <p:nvPr/>
          </p:nvSpPr>
          <p:spPr>
            <a:xfrm>
              <a:off x="11978280" y="4204800"/>
              <a:ext cx="57960" cy="56160"/>
            </a:xfrm>
            <a:custGeom>
              <a:avLst/>
              <a:gdLst>
                <a:gd name="textAreaLeft" fmla="*/ 0 w 57960"/>
                <a:gd name="textAreaRight" fmla="*/ 58320 w 57960"/>
                <a:gd name="textAreaTop" fmla="*/ 0 h 56160"/>
                <a:gd name="textAreaBottom" fmla="*/ 56520 h 5616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d6d6d6"/>
            </a:solidFill>
            <a:ln w="9525">
              <a:solidFill>
                <a:srgbClr val="424242"/>
              </a:solidFill>
              <a:miter/>
            </a:ln>
          </p:spPr>
          <p:style>
            <a:lnRef idx="0"/>
            <a:fillRef idx="0"/>
            <a:effectRef idx="0"/>
            <a:fontRef idx="minor"/>
          </p:style>
          <p:txBody>
            <a:bodyPr numCol="1" spcCol="0" lIns="45720" rIns="45720" tIns="28080" bIns="28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2" name="Shape 2546"/>
            <p:cNvSpPr/>
            <p:nvPr/>
          </p:nvSpPr>
          <p:spPr>
            <a:xfrm>
              <a:off x="11853000" y="4231080"/>
              <a:ext cx="92160" cy="119880"/>
            </a:xfrm>
            <a:custGeom>
              <a:avLst/>
              <a:gdLst>
                <a:gd name="textAreaLeft" fmla="*/ 0 w 92160"/>
                <a:gd name="textAreaRight" fmla="*/ 92520 w 92160"/>
                <a:gd name="textAreaTop" fmla="*/ 0 h 119880"/>
                <a:gd name="textAreaBottom" fmla="*/ 120240 h 11988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3" name="Shape 2547"/>
            <p:cNvSpPr/>
            <p:nvPr/>
          </p:nvSpPr>
          <p:spPr>
            <a:xfrm>
              <a:off x="11909160" y="4392000"/>
              <a:ext cx="279720" cy="258120"/>
            </a:xfrm>
            <a:custGeom>
              <a:avLst/>
              <a:gdLst>
                <a:gd name="textAreaLeft" fmla="*/ 0 w 279720"/>
                <a:gd name="textAreaRight" fmla="*/ 280080 w 279720"/>
                <a:gd name="textAreaTop" fmla="*/ 0 h 258120"/>
                <a:gd name="textAreaBottom" fmla="*/ 258480 h 25812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4" name="Shape 2548"/>
            <p:cNvSpPr/>
            <p:nvPr/>
          </p:nvSpPr>
          <p:spPr>
            <a:xfrm>
              <a:off x="12180960" y="4558680"/>
              <a:ext cx="117000" cy="150480"/>
            </a:xfrm>
            <a:custGeom>
              <a:avLst/>
              <a:gdLst>
                <a:gd name="textAreaLeft" fmla="*/ 0 w 117000"/>
                <a:gd name="textAreaRight" fmla="*/ 117360 w 117000"/>
                <a:gd name="textAreaTop" fmla="*/ 0 h 150480"/>
                <a:gd name="textAreaBottom" fmla="*/ 150840 h 15048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5" name="Shape 2549"/>
            <p:cNvSpPr/>
            <p:nvPr/>
          </p:nvSpPr>
          <p:spPr>
            <a:xfrm>
              <a:off x="12174480" y="4343040"/>
              <a:ext cx="620640" cy="383400"/>
            </a:xfrm>
            <a:custGeom>
              <a:avLst/>
              <a:gdLst>
                <a:gd name="textAreaLeft" fmla="*/ 0 w 620640"/>
                <a:gd name="textAreaRight" fmla="*/ 621000 w 620640"/>
                <a:gd name="textAreaTop" fmla="*/ 0 h 383400"/>
                <a:gd name="textAreaBottom" fmla="*/ 383760 h 38340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6" name="Shape 2550"/>
            <p:cNvSpPr/>
            <p:nvPr/>
          </p:nvSpPr>
          <p:spPr>
            <a:xfrm>
              <a:off x="12119400" y="4053960"/>
              <a:ext cx="194760" cy="235440"/>
            </a:xfrm>
            <a:custGeom>
              <a:avLst/>
              <a:gdLst>
                <a:gd name="textAreaLeft" fmla="*/ 0 w 194760"/>
                <a:gd name="textAreaRight" fmla="*/ 195120 w 194760"/>
                <a:gd name="textAreaTop" fmla="*/ 0 h 235440"/>
                <a:gd name="textAreaBottom" fmla="*/ 235800 h 23544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7" name="Shape 2551"/>
            <p:cNvSpPr/>
            <p:nvPr/>
          </p:nvSpPr>
          <p:spPr>
            <a:xfrm>
              <a:off x="12052080" y="3775680"/>
              <a:ext cx="77760" cy="130680"/>
            </a:xfrm>
            <a:custGeom>
              <a:avLst/>
              <a:gdLst>
                <a:gd name="textAreaLeft" fmla="*/ 0 w 77760"/>
                <a:gd name="textAreaRight" fmla="*/ 78120 w 77760"/>
                <a:gd name="textAreaTop" fmla="*/ 0 h 130680"/>
                <a:gd name="textAreaBottom" fmla="*/ 131040 h 13068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8" name="Shape 2552"/>
            <p:cNvSpPr/>
            <p:nvPr/>
          </p:nvSpPr>
          <p:spPr>
            <a:xfrm>
              <a:off x="12380400" y="4249800"/>
              <a:ext cx="48600" cy="77040"/>
            </a:xfrm>
            <a:custGeom>
              <a:avLst/>
              <a:gdLst>
                <a:gd name="textAreaLeft" fmla="*/ 0 w 48600"/>
                <a:gd name="textAreaRight" fmla="*/ 48960 w 48600"/>
                <a:gd name="textAreaTop" fmla="*/ 0 h 77040"/>
                <a:gd name="textAreaBottom" fmla="*/ 77400 h 7704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d6d6d6"/>
            </a:solidFill>
            <a:ln w="9525">
              <a:solidFill>
                <a:srgbClr val="424242"/>
              </a:solidFill>
              <a:miter/>
            </a:ln>
          </p:spPr>
          <p:style>
            <a:lnRef idx="0"/>
            <a:fillRef idx="0"/>
            <a:effectRef idx="0"/>
            <a:fontRef idx="minor"/>
          </p:style>
          <p:txBody>
            <a:bodyPr numCol="1" spcCol="0" lIns="45720" rIns="45720" tIns="38520" bIns="38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19" name="Shape 2553"/>
            <p:cNvSpPr/>
            <p:nvPr/>
          </p:nvSpPr>
          <p:spPr>
            <a:xfrm>
              <a:off x="12185640" y="3080880"/>
              <a:ext cx="1243800" cy="1403280"/>
            </a:xfrm>
            <a:custGeom>
              <a:avLst/>
              <a:gdLst>
                <a:gd name="textAreaLeft" fmla="*/ 0 w 1243800"/>
                <a:gd name="textAreaRight" fmla="*/ 1244160 w 1243800"/>
                <a:gd name="textAreaTop" fmla="*/ 0 h 1403280"/>
                <a:gd name="textAreaBottom" fmla="*/ 1403640 h 140328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5" y="428"/>
                  </a:cubicBezTo>
                  <a:cubicBezTo>
                    <a:pt x="16325"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7"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0" name="Shape 2554"/>
            <p:cNvSpPr/>
            <p:nvPr/>
          </p:nvSpPr>
          <p:spPr>
            <a:xfrm>
              <a:off x="13035960" y="2923560"/>
              <a:ext cx="2163960" cy="3175200"/>
            </a:xfrm>
            <a:custGeom>
              <a:avLst/>
              <a:gdLst>
                <a:gd name="textAreaLeft" fmla="*/ 0 w 2163960"/>
                <a:gd name="textAreaRight" fmla="*/ 2164320 w 2163960"/>
                <a:gd name="textAreaTop" fmla="*/ 0 h 3175200"/>
                <a:gd name="textAreaBottom" fmla="*/ 3175560 h 3175200"/>
              </a:gdLst>
              <a:ahLst/>
              <a:rect l="textAreaLeft" t="textAreaTop" r="textAreaRight" b="textAreaBottom"/>
              <a:pathLst>
                <a:path w="21591" h="21592">
                  <a:moveTo>
                    <a:pt x="4094" y="3256"/>
                  </a:moveTo>
                  <a:cubicBezTo>
                    <a:pt x="3964" y="3201"/>
                    <a:pt x="3835" y="3327"/>
                    <a:pt x="3847" y="3424"/>
                  </a:cubicBezTo>
                  <a:cubicBezTo>
                    <a:pt x="3859" y="3521"/>
                    <a:pt x="3952" y="3618"/>
                    <a:pt x="3915" y="3714"/>
                  </a:cubicBezTo>
                  <a:cubicBezTo>
                    <a:pt x="3899" y="3750"/>
                    <a:pt x="3873" y="3783"/>
                    <a:pt x="3848" y="3815"/>
                  </a:cubicBezTo>
                  <a:cubicBezTo>
                    <a:pt x="3822" y="3848"/>
                    <a:pt x="3798" y="3880"/>
                    <a:pt x="3785" y="3916"/>
                  </a:cubicBezTo>
                  <a:cubicBezTo>
                    <a:pt x="3770" y="3950"/>
                    <a:pt x="3788" y="3992"/>
                    <a:pt x="3822" y="4021"/>
                  </a:cubicBezTo>
                  <a:cubicBezTo>
                    <a:pt x="3856" y="4051"/>
                    <a:pt x="3906" y="4068"/>
                    <a:pt x="3952" y="4051"/>
                  </a:cubicBezTo>
                  <a:cubicBezTo>
                    <a:pt x="3875" y="4120"/>
                    <a:pt x="3822" y="4204"/>
                    <a:pt x="3799" y="4293"/>
                  </a:cubicBezTo>
                  <a:cubicBezTo>
                    <a:pt x="3776" y="4382"/>
                    <a:pt x="3782" y="4476"/>
                    <a:pt x="3822" y="4564"/>
                  </a:cubicBezTo>
                  <a:cubicBezTo>
                    <a:pt x="3705" y="4631"/>
                    <a:pt x="3588" y="4438"/>
                    <a:pt x="3434" y="4438"/>
                  </a:cubicBezTo>
                  <a:cubicBezTo>
                    <a:pt x="3372" y="4438"/>
                    <a:pt x="3316" y="4476"/>
                    <a:pt x="3255" y="4492"/>
                  </a:cubicBezTo>
                  <a:cubicBezTo>
                    <a:pt x="3227" y="4505"/>
                    <a:pt x="3187" y="4511"/>
                    <a:pt x="3152" y="4509"/>
                  </a:cubicBezTo>
                  <a:cubicBezTo>
                    <a:pt x="3117" y="4507"/>
                    <a:pt x="3088" y="4497"/>
                    <a:pt x="3082" y="4476"/>
                  </a:cubicBezTo>
                  <a:cubicBezTo>
                    <a:pt x="3057" y="4532"/>
                    <a:pt x="3036" y="4589"/>
                    <a:pt x="3013" y="4646"/>
                  </a:cubicBezTo>
                  <a:cubicBezTo>
                    <a:pt x="2991" y="4703"/>
                    <a:pt x="2968" y="4760"/>
                    <a:pt x="2940" y="4816"/>
                  </a:cubicBezTo>
                  <a:cubicBezTo>
                    <a:pt x="2909" y="4791"/>
                    <a:pt x="2858" y="4780"/>
                    <a:pt x="2804" y="4780"/>
                  </a:cubicBezTo>
                  <a:cubicBezTo>
                    <a:pt x="2749" y="4781"/>
                    <a:pt x="2690" y="4793"/>
                    <a:pt x="2644" y="4816"/>
                  </a:cubicBezTo>
                  <a:cubicBezTo>
                    <a:pt x="2598" y="4837"/>
                    <a:pt x="2565" y="4869"/>
                    <a:pt x="2540" y="4903"/>
                  </a:cubicBezTo>
                  <a:cubicBezTo>
                    <a:pt x="2514" y="4936"/>
                    <a:pt x="2496" y="4972"/>
                    <a:pt x="2477" y="5001"/>
                  </a:cubicBezTo>
                  <a:cubicBezTo>
                    <a:pt x="2450" y="5041"/>
                    <a:pt x="2426" y="5083"/>
                    <a:pt x="2404" y="5126"/>
                  </a:cubicBezTo>
                  <a:cubicBezTo>
                    <a:pt x="2382" y="5168"/>
                    <a:pt x="2360" y="5210"/>
                    <a:pt x="2335" y="5250"/>
                  </a:cubicBezTo>
                  <a:cubicBezTo>
                    <a:pt x="2277" y="5250"/>
                    <a:pt x="2221" y="5250"/>
                    <a:pt x="2166" y="5251"/>
                  </a:cubicBezTo>
                  <a:cubicBezTo>
                    <a:pt x="2110" y="5252"/>
                    <a:pt x="2055" y="5254"/>
                    <a:pt x="1996" y="5258"/>
                  </a:cubicBezTo>
                  <a:cubicBezTo>
                    <a:pt x="2024" y="5321"/>
                    <a:pt x="2008" y="5385"/>
                    <a:pt x="1976" y="5448"/>
                  </a:cubicBezTo>
                  <a:cubicBezTo>
                    <a:pt x="1944" y="5510"/>
                    <a:pt x="1894" y="5571"/>
                    <a:pt x="1854" y="5628"/>
                  </a:cubicBezTo>
                  <a:cubicBezTo>
                    <a:pt x="1817" y="5687"/>
                    <a:pt x="1788" y="5758"/>
                    <a:pt x="1787" y="5823"/>
                  </a:cubicBezTo>
                  <a:cubicBezTo>
                    <a:pt x="1786" y="5889"/>
                    <a:pt x="1814" y="5950"/>
                    <a:pt x="1891" y="5990"/>
                  </a:cubicBezTo>
                  <a:cubicBezTo>
                    <a:pt x="1962" y="5990"/>
                    <a:pt x="2035" y="5995"/>
                    <a:pt x="2106" y="6006"/>
                  </a:cubicBezTo>
                  <a:cubicBezTo>
                    <a:pt x="2177" y="6016"/>
                    <a:pt x="2246" y="6032"/>
                    <a:pt x="2311" y="6053"/>
                  </a:cubicBezTo>
                  <a:cubicBezTo>
                    <a:pt x="2335" y="6036"/>
                    <a:pt x="2360" y="6020"/>
                    <a:pt x="2384" y="6005"/>
                  </a:cubicBezTo>
                  <a:cubicBezTo>
                    <a:pt x="2408" y="5989"/>
                    <a:pt x="2431" y="5973"/>
                    <a:pt x="2453" y="5956"/>
                  </a:cubicBezTo>
                  <a:cubicBezTo>
                    <a:pt x="2554" y="5973"/>
                    <a:pt x="2641" y="6026"/>
                    <a:pt x="2691" y="6092"/>
                  </a:cubicBezTo>
                  <a:cubicBezTo>
                    <a:pt x="2741" y="6158"/>
                    <a:pt x="2755" y="6238"/>
                    <a:pt x="2712" y="6310"/>
                  </a:cubicBezTo>
                  <a:cubicBezTo>
                    <a:pt x="2684" y="6314"/>
                    <a:pt x="2655" y="6318"/>
                    <a:pt x="2625" y="6322"/>
                  </a:cubicBezTo>
                  <a:cubicBezTo>
                    <a:pt x="2596" y="6326"/>
                    <a:pt x="2567" y="6331"/>
                    <a:pt x="2539" y="6335"/>
                  </a:cubicBezTo>
                  <a:cubicBezTo>
                    <a:pt x="2585" y="6362"/>
                    <a:pt x="2632" y="6391"/>
                    <a:pt x="2677" y="6419"/>
                  </a:cubicBezTo>
                  <a:cubicBezTo>
                    <a:pt x="2723" y="6447"/>
                    <a:pt x="2767" y="6476"/>
                    <a:pt x="2811" y="6503"/>
                  </a:cubicBezTo>
                  <a:cubicBezTo>
                    <a:pt x="2761" y="6503"/>
                    <a:pt x="2704" y="6507"/>
                    <a:pt x="2654" y="6520"/>
                  </a:cubicBezTo>
                  <a:cubicBezTo>
                    <a:pt x="2604" y="6534"/>
                    <a:pt x="2561" y="6556"/>
                    <a:pt x="2539" y="6591"/>
                  </a:cubicBezTo>
                  <a:cubicBezTo>
                    <a:pt x="2527" y="6608"/>
                    <a:pt x="2521" y="6626"/>
                    <a:pt x="2517" y="6645"/>
                  </a:cubicBezTo>
                  <a:cubicBezTo>
                    <a:pt x="2514" y="6664"/>
                    <a:pt x="2514" y="6684"/>
                    <a:pt x="2514" y="6705"/>
                  </a:cubicBezTo>
                  <a:cubicBezTo>
                    <a:pt x="2502" y="6865"/>
                    <a:pt x="2379" y="7011"/>
                    <a:pt x="2201" y="7110"/>
                  </a:cubicBezTo>
                  <a:cubicBezTo>
                    <a:pt x="2022" y="7210"/>
                    <a:pt x="1789" y="7262"/>
                    <a:pt x="1558" y="7235"/>
                  </a:cubicBezTo>
                  <a:cubicBezTo>
                    <a:pt x="1546" y="7258"/>
                    <a:pt x="1532" y="7282"/>
                    <a:pt x="1520" y="7307"/>
                  </a:cubicBezTo>
                  <a:cubicBezTo>
                    <a:pt x="1507" y="7331"/>
                    <a:pt x="1496" y="7355"/>
                    <a:pt x="1490" y="7378"/>
                  </a:cubicBezTo>
                  <a:cubicBezTo>
                    <a:pt x="1453" y="7378"/>
                    <a:pt x="1412" y="7374"/>
                    <a:pt x="1370" y="7367"/>
                  </a:cubicBezTo>
                  <a:cubicBezTo>
                    <a:pt x="1328" y="7360"/>
                    <a:pt x="1287" y="7351"/>
                    <a:pt x="1250" y="7340"/>
                  </a:cubicBezTo>
                  <a:cubicBezTo>
                    <a:pt x="1222" y="7408"/>
                    <a:pt x="1182" y="7470"/>
                    <a:pt x="1131" y="7526"/>
                  </a:cubicBezTo>
                  <a:cubicBezTo>
                    <a:pt x="1080" y="7582"/>
                    <a:pt x="1018" y="7633"/>
                    <a:pt x="947" y="7677"/>
                  </a:cubicBezTo>
                  <a:cubicBezTo>
                    <a:pt x="916" y="7673"/>
                    <a:pt x="884" y="7668"/>
                    <a:pt x="853" y="7664"/>
                  </a:cubicBezTo>
                  <a:cubicBezTo>
                    <a:pt x="822" y="7660"/>
                    <a:pt x="793" y="7656"/>
                    <a:pt x="768" y="7651"/>
                  </a:cubicBezTo>
                  <a:cubicBezTo>
                    <a:pt x="651" y="7702"/>
                    <a:pt x="534" y="7765"/>
                    <a:pt x="429" y="7820"/>
                  </a:cubicBezTo>
                  <a:cubicBezTo>
                    <a:pt x="262" y="7908"/>
                    <a:pt x="84" y="7996"/>
                    <a:pt x="16" y="8135"/>
                  </a:cubicBezTo>
                  <a:cubicBezTo>
                    <a:pt x="-9" y="8203"/>
                    <a:pt x="-3" y="8269"/>
                    <a:pt x="18" y="8333"/>
                  </a:cubicBezTo>
                  <a:cubicBezTo>
                    <a:pt x="39" y="8398"/>
                    <a:pt x="74" y="8461"/>
                    <a:pt x="108" y="8522"/>
                  </a:cubicBezTo>
                  <a:cubicBezTo>
                    <a:pt x="145" y="8529"/>
                    <a:pt x="181" y="8534"/>
                    <a:pt x="217" y="8539"/>
                  </a:cubicBezTo>
                  <a:cubicBezTo>
                    <a:pt x="253" y="8543"/>
                    <a:pt x="290" y="8547"/>
                    <a:pt x="330" y="8552"/>
                  </a:cubicBezTo>
                  <a:cubicBezTo>
                    <a:pt x="321" y="8596"/>
                    <a:pt x="307" y="8638"/>
                    <a:pt x="289" y="8678"/>
                  </a:cubicBezTo>
                  <a:cubicBezTo>
                    <a:pt x="272" y="8719"/>
                    <a:pt x="250" y="8758"/>
                    <a:pt x="225" y="8796"/>
                  </a:cubicBezTo>
                  <a:cubicBezTo>
                    <a:pt x="380" y="8840"/>
                    <a:pt x="542" y="8889"/>
                    <a:pt x="681" y="8954"/>
                  </a:cubicBezTo>
                  <a:cubicBezTo>
                    <a:pt x="821" y="9019"/>
                    <a:pt x="938" y="9099"/>
                    <a:pt x="1003" y="9204"/>
                  </a:cubicBezTo>
                  <a:cubicBezTo>
                    <a:pt x="1092" y="9191"/>
                    <a:pt x="1185" y="9177"/>
                    <a:pt x="1278" y="9164"/>
                  </a:cubicBezTo>
                  <a:cubicBezTo>
                    <a:pt x="1371" y="9150"/>
                    <a:pt x="1466" y="9136"/>
                    <a:pt x="1558" y="9124"/>
                  </a:cubicBezTo>
                  <a:cubicBezTo>
                    <a:pt x="1577" y="9107"/>
                    <a:pt x="1600" y="9091"/>
                    <a:pt x="1623" y="9075"/>
                  </a:cubicBezTo>
                  <a:cubicBezTo>
                    <a:pt x="1646" y="9060"/>
                    <a:pt x="1669" y="9044"/>
                    <a:pt x="1688" y="9027"/>
                  </a:cubicBezTo>
                  <a:cubicBezTo>
                    <a:pt x="1811" y="8991"/>
                    <a:pt x="1953" y="8985"/>
                    <a:pt x="2085" y="9005"/>
                  </a:cubicBezTo>
                  <a:cubicBezTo>
                    <a:pt x="2217" y="9025"/>
                    <a:pt x="2339" y="9071"/>
                    <a:pt x="2422" y="9141"/>
                  </a:cubicBezTo>
                  <a:cubicBezTo>
                    <a:pt x="2372" y="9229"/>
                    <a:pt x="2266" y="9303"/>
                    <a:pt x="2138" y="9347"/>
                  </a:cubicBezTo>
                  <a:cubicBezTo>
                    <a:pt x="2010" y="9392"/>
                    <a:pt x="1860" y="9408"/>
                    <a:pt x="1725" y="9380"/>
                  </a:cubicBezTo>
                  <a:cubicBezTo>
                    <a:pt x="1620" y="9364"/>
                    <a:pt x="1521" y="9317"/>
                    <a:pt x="1404" y="9317"/>
                  </a:cubicBezTo>
                  <a:cubicBezTo>
                    <a:pt x="1287" y="9317"/>
                    <a:pt x="1157" y="9372"/>
                    <a:pt x="1182" y="9452"/>
                  </a:cubicBezTo>
                  <a:cubicBezTo>
                    <a:pt x="1077" y="9492"/>
                    <a:pt x="967" y="9520"/>
                    <a:pt x="855" y="9536"/>
                  </a:cubicBezTo>
                  <a:cubicBezTo>
                    <a:pt x="742" y="9553"/>
                    <a:pt x="626" y="9557"/>
                    <a:pt x="509" y="9549"/>
                  </a:cubicBezTo>
                  <a:cubicBezTo>
                    <a:pt x="497" y="9584"/>
                    <a:pt x="488" y="9619"/>
                    <a:pt x="478" y="9653"/>
                  </a:cubicBezTo>
                  <a:cubicBezTo>
                    <a:pt x="468" y="9686"/>
                    <a:pt x="457" y="9719"/>
                    <a:pt x="441" y="9750"/>
                  </a:cubicBezTo>
                  <a:cubicBezTo>
                    <a:pt x="552" y="9786"/>
                    <a:pt x="673" y="9828"/>
                    <a:pt x="770" y="9881"/>
                  </a:cubicBezTo>
                  <a:cubicBezTo>
                    <a:pt x="867" y="9935"/>
                    <a:pt x="941" y="9999"/>
                    <a:pt x="960" y="10079"/>
                  </a:cubicBezTo>
                  <a:cubicBezTo>
                    <a:pt x="1031" y="10047"/>
                    <a:pt x="1115" y="10031"/>
                    <a:pt x="1200" y="10031"/>
                  </a:cubicBezTo>
                  <a:cubicBezTo>
                    <a:pt x="1285" y="10031"/>
                    <a:pt x="1370" y="10047"/>
                    <a:pt x="1441" y="10079"/>
                  </a:cubicBezTo>
                  <a:cubicBezTo>
                    <a:pt x="1388" y="10119"/>
                    <a:pt x="1333" y="10155"/>
                    <a:pt x="1278" y="10192"/>
                  </a:cubicBezTo>
                  <a:cubicBezTo>
                    <a:pt x="1223" y="10229"/>
                    <a:pt x="1169" y="10266"/>
                    <a:pt x="1120" y="10306"/>
                  </a:cubicBezTo>
                  <a:cubicBezTo>
                    <a:pt x="1145" y="10289"/>
                    <a:pt x="1177" y="10293"/>
                    <a:pt x="1205" y="10307"/>
                  </a:cubicBezTo>
                  <a:cubicBezTo>
                    <a:pt x="1233" y="10322"/>
                    <a:pt x="1256" y="10346"/>
                    <a:pt x="1262" y="10369"/>
                  </a:cubicBezTo>
                  <a:cubicBezTo>
                    <a:pt x="1274" y="10411"/>
                    <a:pt x="1250" y="10466"/>
                    <a:pt x="1274" y="10508"/>
                  </a:cubicBezTo>
                  <a:cubicBezTo>
                    <a:pt x="1287" y="10529"/>
                    <a:pt x="1324" y="10546"/>
                    <a:pt x="1348" y="10562"/>
                  </a:cubicBezTo>
                  <a:cubicBezTo>
                    <a:pt x="1512" y="10642"/>
                    <a:pt x="1697" y="10722"/>
                    <a:pt x="1885" y="10765"/>
                  </a:cubicBezTo>
                  <a:cubicBezTo>
                    <a:pt x="2073" y="10808"/>
                    <a:pt x="2265" y="10815"/>
                    <a:pt x="2440" y="10747"/>
                  </a:cubicBezTo>
                  <a:cubicBezTo>
                    <a:pt x="2447" y="10716"/>
                    <a:pt x="2453" y="10683"/>
                    <a:pt x="2459" y="10651"/>
                  </a:cubicBezTo>
                  <a:cubicBezTo>
                    <a:pt x="2465" y="10618"/>
                    <a:pt x="2471" y="10585"/>
                    <a:pt x="2477" y="10554"/>
                  </a:cubicBezTo>
                  <a:cubicBezTo>
                    <a:pt x="2669" y="10520"/>
                    <a:pt x="2798" y="10684"/>
                    <a:pt x="2996" y="10714"/>
                  </a:cubicBezTo>
                  <a:cubicBezTo>
                    <a:pt x="3113" y="10731"/>
                    <a:pt x="3224" y="10676"/>
                    <a:pt x="3341" y="10667"/>
                  </a:cubicBezTo>
                  <a:cubicBezTo>
                    <a:pt x="3412" y="10659"/>
                    <a:pt x="3485" y="10661"/>
                    <a:pt x="3555" y="10669"/>
                  </a:cubicBezTo>
                  <a:cubicBezTo>
                    <a:pt x="3625" y="10677"/>
                    <a:pt x="3693" y="10691"/>
                    <a:pt x="3754" y="10705"/>
                  </a:cubicBezTo>
                  <a:cubicBezTo>
                    <a:pt x="4248" y="10802"/>
                    <a:pt x="4803" y="10916"/>
                    <a:pt x="5050" y="11223"/>
                  </a:cubicBezTo>
                  <a:cubicBezTo>
                    <a:pt x="5192" y="11399"/>
                    <a:pt x="5204" y="11614"/>
                    <a:pt x="5223" y="11807"/>
                  </a:cubicBezTo>
                  <a:cubicBezTo>
                    <a:pt x="5306" y="11833"/>
                    <a:pt x="5377" y="11879"/>
                    <a:pt x="5423" y="11934"/>
                  </a:cubicBezTo>
                  <a:cubicBezTo>
                    <a:pt x="5470" y="11989"/>
                    <a:pt x="5491" y="12054"/>
                    <a:pt x="5476" y="12115"/>
                  </a:cubicBezTo>
                  <a:cubicBezTo>
                    <a:pt x="5463" y="12211"/>
                    <a:pt x="5426" y="12300"/>
                    <a:pt x="5426" y="12396"/>
                  </a:cubicBezTo>
                  <a:cubicBezTo>
                    <a:pt x="5426" y="12426"/>
                    <a:pt x="5426" y="12459"/>
                    <a:pt x="5451" y="12476"/>
                  </a:cubicBezTo>
                  <a:cubicBezTo>
                    <a:pt x="5457" y="12485"/>
                    <a:pt x="5471" y="12494"/>
                    <a:pt x="5485" y="12505"/>
                  </a:cubicBezTo>
                  <a:cubicBezTo>
                    <a:pt x="5499" y="12515"/>
                    <a:pt x="5513" y="12527"/>
                    <a:pt x="5519" y="12539"/>
                  </a:cubicBezTo>
                  <a:cubicBezTo>
                    <a:pt x="5531" y="12560"/>
                    <a:pt x="5524" y="12581"/>
                    <a:pt x="5510" y="12602"/>
                  </a:cubicBezTo>
                  <a:cubicBezTo>
                    <a:pt x="5496" y="12622"/>
                    <a:pt x="5476" y="12642"/>
                    <a:pt x="5463" y="12661"/>
                  </a:cubicBezTo>
                  <a:cubicBezTo>
                    <a:pt x="5430" y="12703"/>
                    <a:pt x="5423" y="12757"/>
                    <a:pt x="5440" y="12808"/>
                  </a:cubicBezTo>
                  <a:cubicBezTo>
                    <a:pt x="5457" y="12858"/>
                    <a:pt x="5497" y="12905"/>
                    <a:pt x="5556" y="12935"/>
                  </a:cubicBezTo>
                  <a:cubicBezTo>
                    <a:pt x="5575" y="12945"/>
                    <a:pt x="5598" y="12955"/>
                    <a:pt x="5619" y="12966"/>
                  </a:cubicBezTo>
                  <a:cubicBezTo>
                    <a:pt x="5641" y="12977"/>
                    <a:pt x="5661" y="12989"/>
                    <a:pt x="5673" y="13006"/>
                  </a:cubicBezTo>
                  <a:cubicBezTo>
                    <a:pt x="5686" y="13032"/>
                    <a:pt x="5686" y="13061"/>
                    <a:pt x="5686" y="13086"/>
                  </a:cubicBezTo>
                  <a:cubicBezTo>
                    <a:pt x="5686" y="13351"/>
                    <a:pt x="5908" y="13608"/>
                    <a:pt x="5828" y="13873"/>
                  </a:cubicBezTo>
                  <a:cubicBezTo>
                    <a:pt x="5803" y="13953"/>
                    <a:pt x="5766" y="14058"/>
                    <a:pt x="5865" y="14100"/>
                  </a:cubicBezTo>
                  <a:cubicBezTo>
                    <a:pt x="5908" y="14117"/>
                    <a:pt x="5969" y="14129"/>
                    <a:pt x="5994" y="14163"/>
                  </a:cubicBezTo>
                  <a:cubicBezTo>
                    <a:pt x="6013" y="14188"/>
                    <a:pt x="5994" y="14218"/>
                    <a:pt x="5994" y="14243"/>
                  </a:cubicBezTo>
                  <a:cubicBezTo>
                    <a:pt x="5957" y="14340"/>
                    <a:pt x="5965" y="14443"/>
                    <a:pt x="6010" y="14538"/>
                  </a:cubicBezTo>
                  <a:cubicBezTo>
                    <a:pt x="6056" y="14634"/>
                    <a:pt x="6139" y="14722"/>
                    <a:pt x="6253" y="14790"/>
                  </a:cubicBezTo>
                  <a:cubicBezTo>
                    <a:pt x="6269" y="14798"/>
                    <a:pt x="6283" y="14805"/>
                    <a:pt x="6297" y="14809"/>
                  </a:cubicBezTo>
                  <a:cubicBezTo>
                    <a:pt x="6312" y="14813"/>
                    <a:pt x="6327" y="14815"/>
                    <a:pt x="6346" y="14815"/>
                  </a:cubicBezTo>
                  <a:cubicBezTo>
                    <a:pt x="6380" y="14819"/>
                    <a:pt x="6409" y="14809"/>
                    <a:pt x="6433" y="14791"/>
                  </a:cubicBezTo>
                  <a:cubicBezTo>
                    <a:pt x="6457" y="14774"/>
                    <a:pt x="6475" y="14750"/>
                    <a:pt x="6488" y="14727"/>
                  </a:cubicBezTo>
                  <a:cubicBezTo>
                    <a:pt x="6494" y="14706"/>
                    <a:pt x="6497" y="14684"/>
                    <a:pt x="6500" y="14660"/>
                  </a:cubicBezTo>
                  <a:cubicBezTo>
                    <a:pt x="6503" y="14637"/>
                    <a:pt x="6506" y="14613"/>
                    <a:pt x="6512" y="14588"/>
                  </a:cubicBezTo>
                  <a:cubicBezTo>
                    <a:pt x="6559" y="14573"/>
                    <a:pt x="6611" y="14584"/>
                    <a:pt x="6647" y="14606"/>
                  </a:cubicBezTo>
                  <a:cubicBezTo>
                    <a:pt x="6684" y="14628"/>
                    <a:pt x="6704" y="14661"/>
                    <a:pt x="6685" y="14693"/>
                  </a:cubicBezTo>
                  <a:cubicBezTo>
                    <a:pt x="6670" y="14714"/>
                    <a:pt x="6640" y="14732"/>
                    <a:pt x="6613" y="14751"/>
                  </a:cubicBezTo>
                  <a:cubicBezTo>
                    <a:pt x="6586" y="14770"/>
                    <a:pt x="6562" y="14790"/>
                    <a:pt x="6556" y="14815"/>
                  </a:cubicBezTo>
                  <a:cubicBezTo>
                    <a:pt x="6525" y="14878"/>
                    <a:pt x="6617" y="14941"/>
                    <a:pt x="6722" y="14941"/>
                  </a:cubicBezTo>
                  <a:cubicBezTo>
                    <a:pt x="6827" y="14941"/>
                    <a:pt x="6901" y="14903"/>
                    <a:pt x="6981" y="14861"/>
                  </a:cubicBezTo>
                  <a:cubicBezTo>
                    <a:pt x="7098" y="14887"/>
                    <a:pt x="7185" y="14953"/>
                    <a:pt x="7230" y="15031"/>
                  </a:cubicBezTo>
                  <a:cubicBezTo>
                    <a:pt x="7274" y="15109"/>
                    <a:pt x="7277" y="15200"/>
                    <a:pt x="7228" y="15274"/>
                  </a:cubicBezTo>
                  <a:cubicBezTo>
                    <a:pt x="7111" y="15261"/>
                    <a:pt x="6997" y="15239"/>
                    <a:pt x="6888" y="15209"/>
                  </a:cubicBezTo>
                  <a:cubicBezTo>
                    <a:pt x="6779" y="15179"/>
                    <a:pt x="6676" y="15141"/>
                    <a:pt x="6580" y="15097"/>
                  </a:cubicBezTo>
                  <a:cubicBezTo>
                    <a:pt x="6451" y="15088"/>
                    <a:pt x="6383" y="15202"/>
                    <a:pt x="6383" y="15290"/>
                  </a:cubicBezTo>
                  <a:cubicBezTo>
                    <a:pt x="6383" y="15379"/>
                    <a:pt x="6426" y="15488"/>
                    <a:pt x="6321" y="15547"/>
                  </a:cubicBezTo>
                  <a:cubicBezTo>
                    <a:pt x="6266" y="15585"/>
                    <a:pt x="6167" y="15602"/>
                    <a:pt x="6167" y="15652"/>
                  </a:cubicBezTo>
                  <a:cubicBezTo>
                    <a:pt x="6167" y="15682"/>
                    <a:pt x="6192" y="15707"/>
                    <a:pt x="6204" y="15724"/>
                  </a:cubicBezTo>
                  <a:cubicBezTo>
                    <a:pt x="6256" y="15772"/>
                    <a:pt x="6295" y="15826"/>
                    <a:pt x="6322" y="15882"/>
                  </a:cubicBezTo>
                  <a:cubicBezTo>
                    <a:pt x="6349" y="15939"/>
                    <a:pt x="6364" y="15999"/>
                    <a:pt x="6370" y="16060"/>
                  </a:cubicBezTo>
                  <a:cubicBezTo>
                    <a:pt x="6370" y="16077"/>
                    <a:pt x="6370" y="16095"/>
                    <a:pt x="6374" y="16112"/>
                  </a:cubicBezTo>
                  <a:cubicBezTo>
                    <a:pt x="6377" y="16128"/>
                    <a:pt x="6383" y="16144"/>
                    <a:pt x="6395" y="16157"/>
                  </a:cubicBezTo>
                  <a:cubicBezTo>
                    <a:pt x="6429" y="16197"/>
                    <a:pt x="6491" y="16213"/>
                    <a:pt x="6560" y="16214"/>
                  </a:cubicBezTo>
                  <a:cubicBezTo>
                    <a:pt x="6630" y="16215"/>
                    <a:pt x="6707" y="16201"/>
                    <a:pt x="6771" y="16182"/>
                  </a:cubicBezTo>
                  <a:cubicBezTo>
                    <a:pt x="6812" y="16174"/>
                    <a:pt x="6850" y="16163"/>
                    <a:pt x="6890" y="16153"/>
                  </a:cubicBezTo>
                  <a:cubicBezTo>
                    <a:pt x="6930" y="16142"/>
                    <a:pt x="6972" y="16132"/>
                    <a:pt x="7018" y="16123"/>
                  </a:cubicBezTo>
                  <a:cubicBezTo>
                    <a:pt x="7037" y="16119"/>
                    <a:pt x="7057" y="16112"/>
                    <a:pt x="7074" y="16102"/>
                  </a:cubicBezTo>
                  <a:cubicBezTo>
                    <a:pt x="7091" y="16093"/>
                    <a:pt x="7105" y="16081"/>
                    <a:pt x="7111" y="16069"/>
                  </a:cubicBezTo>
                  <a:cubicBezTo>
                    <a:pt x="7117" y="16052"/>
                    <a:pt x="7108" y="16034"/>
                    <a:pt x="7100" y="16017"/>
                  </a:cubicBezTo>
                  <a:cubicBezTo>
                    <a:pt x="7092" y="16000"/>
                    <a:pt x="7086" y="15984"/>
                    <a:pt x="7098" y="15972"/>
                  </a:cubicBezTo>
                  <a:cubicBezTo>
                    <a:pt x="7105" y="15963"/>
                    <a:pt x="7114" y="15959"/>
                    <a:pt x="7125" y="15957"/>
                  </a:cubicBezTo>
                  <a:cubicBezTo>
                    <a:pt x="7135" y="15955"/>
                    <a:pt x="7148" y="15955"/>
                    <a:pt x="7160" y="15955"/>
                  </a:cubicBezTo>
                  <a:cubicBezTo>
                    <a:pt x="7206" y="15951"/>
                    <a:pt x="7248" y="15947"/>
                    <a:pt x="7290" y="15942"/>
                  </a:cubicBezTo>
                  <a:cubicBezTo>
                    <a:pt x="7331" y="15937"/>
                    <a:pt x="7373" y="15932"/>
                    <a:pt x="7419" y="15926"/>
                  </a:cubicBezTo>
                  <a:cubicBezTo>
                    <a:pt x="7459" y="15997"/>
                    <a:pt x="7495" y="16077"/>
                    <a:pt x="7501" y="16152"/>
                  </a:cubicBezTo>
                  <a:cubicBezTo>
                    <a:pt x="7507" y="16227"/>
                    <a:pt x="7484" y="16298"/>
                    <a:pt x="7407" y="16350"/>
                  </a:cubicBezTo>
                  <a:cubicBezTo>
                    <a:pt x="7459" y="16342"/>
                    <a:pt x="7498" y="16366"/>
                    <a:pt x="7517" y="16400"/>
                  </a:cubicBezTo>
                  <a:cubicBezTo>
                    <a:pt x="7537" y="16435"/>
                    <a:pt x="7537" y="16479"/>
                    <a:pt x="7512" y="16510"/>
                  </a:cubicBezTo>
                  <a:cubicBezTo>
                    <a:pt x="7484" y="16542"/>
                    <a:pt x="7449" y="16570"/>
                    <a:pt x="7417" y="16600"/>
                  </a:cubicBezTo>
                  <a:cubicBezTo>
                    <a:pt x="7385" y="16629"/>
                    <a:pt x="7358" y="16660"/>
                    <a:pt x="7345" y="16695"/>
                  </a:cubicBezTo>
                  <a:cubicBezTo>
                    <a:pt x="7280" y="16683"/>
                    <a:pt x="7213" y="16669"/>
                    <a:pt x="7145" y="16655"/>
                  </a:cubicBezTo>
                  <a:cubicBezTo>
                    <a:pt x="7077" y="16642"/>
                    <a:pt x="7009" y="16628"/>
                    <a:pt x="6944" y="16615"/>
                  </a:cubicBezTo>
                  <a:cubicBezTo>
                    <a:pt x="6910" y="16611"/>
                    <a:pt x="6876" y="16605"/>
                    <a:pt x="6845" y="16602"/>
                  </a:cubicBezTo>
                  <a:cubicBezTo>
                    <a:pt x="6813" y="16599"/>
                    <a:pt x="6784" y="16599"/>
                    <a:pt x="6759" y="16607"/>
                  </a:cubicBezTo>
                  <a:cubicBezTo>
                    <a:pt x="6731" y="16615"/>
                    <a:pt x="6708" y="16635"/>
                    <a:pt x="6699" y="16656"/>
                  </a:cubicBezTo>
                  <a:cubicBezTo>
                    <a:pt x="6690" y="16677"/>
                    <a:pt x="6694" y="16700"/>
                    <a:pt x="6722" y="16712"/>
                  </a:cubicBezTo>
                  <a:cubicBezTo>
                    <a:pt x="6747" y="16704"/>
                    <a:pt x="6768" y="16710"/>
                    <a:pt x="6782" y="16723"/>
                  </a:cubicBezTo>
                  <a:cubicBezTo>
                    <a:pt x="6796" y="16736"/>
                    <a:pt x="6802" y="16756"/>
                    <a:pt x="6796" y="16775"/>
                  </a:cubicBezTo>
                  <a:cubicBezTo>
                    <a:pt x="6787" y="16792"/>
                    <a:pt x="6775" y="16808"/>
                    <a:pt x="6761" y="16823"/>
                  </a:cubicBezTo>
                  <a:cubicBezTo>
                    <a:pt x="6748" y="16837"/>
                    <a:pt x="6734" y="16851"/>
                    <a:pt x="6722" y="16864"/>
                  </a:cubicBezTo>
                  <a:cubicBezTo>
                    <a:pt x="6676" y="16908"/>
                    <a:pt x="6656" y="16960"/>
                    <a:pt x="6653" y="17015"/>
                  </a:cubicBezTo>
                  <a:cubicBezTo>
                    <a:pt x="6650" y="17070"/>
                    <a:pt x="6663" y="17126"/>
                    <a:pt x="6685" y="17179"/>
                  </a:cubicBezTo>
                  <a:cubicBezTo>
                    <a:pt x="6710" y="17291"/>
                    <a:pt x="6687" y="17410"/>
                    <a:pt x="6669" y="17529"/>
                  </a:cubicBezTo>
                  <a:cubicBezTo>
                    <a:pt x="6651" y="17647"/>
                    <a:pt x="6639" y="17764"/>
                    <a:pt x="6685" y="17869"/>
                  </a:cubicBezTo>
                  <a:cubicBezTo>
                    <a:pt x="6716" y="17957"/>
                    <a:pt x="6767" y="18048"/>
                    <a:pt x="6798" y="18137"/>
                  </a:cubicBezTo>
                  <a:cubicBezTo>
                    <a:pt x="6830" y="18226"/>
                    <a:pt x="6842" y="18315"/>
                    <a:pt x="6796" y="18399"/>
                  </a:cubicBezTo>
                  <a:cubicBezTo>
                    <a:pt x="6824" y="18407"/>
                    <a:pt x="6847" y="18414"/>
                    <a:pt x="6870" y="18420"/>
                  </a:cubicBezTo>
                  <a:cubicBezTo>
                    <a:pt x="6893" y="18426"/>
                    <a:pt x="6916" y="18433"/>
                    <a:pt x="6944" y="18441"/>
                  </a:cubicBezTo>
                  <a:cubicBezTo>
                    <a:pt x="6994" y="18592"/>
                    <a:pt x="7048" y="18741"/>
                    <a:pt x="7102" y="18888"/>
                  </a:cubicBezTo>
                  <a:cubicBezTo>
                    <a:pt x="7157" y="19036"/>
                    <a:pt x="7213" y="19183"/>
                    <a:pt x="7265" y="19333"/>
                  </a:cubicBezTo>
                  <a:cubicBezTo>
                    <a:pt x="7271" y="19352"/>
                    <a:pt x="7277" y="19372"/>
                    <a:pt x="7287" y="19390"/>
                  </a:cubicBezTo>
                  <a:cubicBezTo>
                    <a:pt x="7296" y="19408"/>
                    <a:pt x="7308" y="19425"/>
                    <a:pt x="7327" y="19438"/>
                  </a:cubicBezTo>
                  <a:cubicBezTo>
                    <a:pt x="7342" y="19453"/>
                    <a:pt x="7362" y="19462"/>
                    <a:pt x="7380" y="19472"/>
                  </a:cubicBezTo>
                  <a:cubicBezTo>
                    <a:pt x="7398" y="19482"/>
                    <a:pt x="7413" y="19493"/>
                    <a:pt x="7419" y="19509"/>
                  </a:cubicBezTo>
                  <a:cubicBezTo>
                    <a:pt x="7444" y="19547"/>
                    <a:pt x="7432" y="19581"/>
                    <a:pt x="7432" y="19615"/>
                  </a:cubicBezTo>
                  <a:cubicBezTo>
                    <a:pt x="7432" y="19749"/>
                    <a:pt x="7617" y="19846"/>
                    <a:pt x="7734" y="19959"/>
                  </a:cubicBezTo>
                  <a:cubicBezTo>
                    <a:pt x="7796" y="20023"/>
                    <a:pt x="7837" y="20091"/>
                    <a:pt x="7870" y="20162"/>
                  </a:cubicBezTo>
                  <a:cubicBezTo>
                    <a:pt x="7902" y="20234"/>
                    <a:pt x="7925" y="20309"/>
                    <a:pt x="7950" y="20384"/>
                  </a:cubicBezTo>
                  <a:cubicBezTo>
                    <a:pt x="7984" y="20384"/>
                    <a:pt x="8013" y="20386"/>
                    <a:pt x="8042" y="20389"/>
                  </a:cubicBezTo>
                  <a:cubicBezTo>
                    <a:pt x="8072" y="20391"/>
                    <a:pt x="8101" y="20393"/>
                    <a:pt x="8135" y="20393"/>
                  </a:cubicBezTo>
                  <a:cubicBezTo>
                    <a:pt x="8101" y="20441"/>
                    <a:pt x="8107" y="20492"/>
                    <a:pt x="8133" y="20541"/>
                  </a:cubicBezTo>
                  <a:cubicBezTo>
                    <a:pt x="8158" y="20590"/>
                    <a:pt x="8203" y="20639"/>
                    <a:pt x="8246" y="20683"/>
                  </a:cubicBezTo>
                  <a:cubicBezTo>
                    <a:pt x="8292" y="20723"/>
                    <a:pt x="8339" y="20763"/>
                    <a:pt x="8383" y="20803"/>
                  </a:cubicBezTo>
                  <a:cubicBezTo>
                    <a:pt x="8426" y="20843"/>
                    <a:pt x="8468" y="20883"/>
                    <a:pt x="8505" y="20923"/>
                  </a:cubicBezTo>
                  <a:cubicBezTo>
                    <a:pt x="8564" y="20975"/>
                    <a:pt x="8629" y="21032"/>
                    <a:pt x="8705" y="21077"/>
                  </a:cubicBezTo>
                  <a:cubicBezTo>
                    <a:pt x="8781" y="21122"/>
                    <a:pt x="8869" y="21154"/>
                    <a:pt x="8974" y="21158"/>
                  </a:cubicBezTo>
                  <a:cubicBezTo>
                    <a:pt x="8999" y="21133"/>
                    <a:pt x="9043" y="21127"/>
                    <a:pt x="9092" y="21130"/>
                  </a:cubicBezTo>
                  <a:cubicBezTo>
                    <a:pt x="9141" y="21133"/>
                    <a:pt x="9193" y="21146"/>
                    <a:pt x="9233" y="21158"/>
                  </a:cubicBezTo>
                  <a:cubicBezTo>
                    <a:pt x="9329" y="21194"/>
                    <a:pt x="9429" y="21232"/>
                    <a:pt x="9523" y="21275"/>
                  </a:cubicBezTo>
                  <a:cubicBezTo>
                    <a:pt x="9617" y="21318"/>
                    <a:pt x="9705" y="21367"/>
                    <a:pt x="9776" y="21423"/>
                  </a:cubicBezTo>
                  <a:cubicBezTo>
                    <a:pt x="9869" y="21495"/>
                    <a:pt x="9943" y="21583"/>
                    <a:pt x="10072" y="21592"/>
                  </a:cubicBezTo>
                  <a:cubicBezTo>
                    <a:pt x="10202" y="21600"/>
                    <a:pt x="10313" y="21533"/>
                    <a:pt x="10356" y="21444"/>
                  </a:cubicBezTo>
                  <a:cubicBezTo>
                    <a:pt x="10375" y="21400"/>
                    <a:pt x="10378" y="21356"/>
                    <a:pt x="10373" y="21312"/>
                  </a:cubicBezTo>
                  <a:cubicBezTo>
                    <a:pt x="10368" y="21268"/>
                    <a:pt x="10356" y="21224"/>
                    <a:pt x="10344" y="21179"/>
                  </a:cubicBezTo>
                  <a:cubicBezTo>
                    <a:pt x="10365" y="21175"/>
                    <a:pt x="10385" y="21173"/>
                    <a:pt x="10406" y="21170"/>
                  </a:cubicBezTo>
                  <a:cubicBezTo>
                    <a:pt x="10427" y="21168"/>
                    <a:pt x="10449" y="21165"/>
                    <a:pt x="10473" y="21158"/>
                  </a:cubicBezTo>
                  <a:cubicBezTo>
                    <a:pt x="10479" y="21106"/>
                    <a:pt x="10483" y="21051"/>
                    <a:pt x="10486" y="20996"/>
                  </a:cubicBezTo>
                  <a:cubicBezTo>
                    <a:pt x="10489" y="20942"/>
                    <a:pt x="10492" y="20887"/>
                    <a:pt x="10498" y="20834"/>
                  </a:cubicBezTo>
                  <a:cubicBezTo>
                    <a:pt x="10507" y="20816"/>
                    <a:pt x="10515" y="20796"/>
                    <a:pt x="10522" y="20776"/>
                  </a:cubicBezTo>
                  <a:cubicBezTo>
                    <a:pt x="10529" y="20757"/>
                    <a:pt x="10535" y="20738"/>
                    <a:pt x="10541" y="20721"/>
                  </a:cubicBezTo>
                  <a:cubicBezTo>
                    <a:pt x="10566" y="20637"/>
                    <a:pt x="10587" y="20546"/>
                    <a:pt x="10582" y="20462"/>
                  </a:cubicBezTo>
                  <a:cubicBezTo>
                    <a:pt x="10577" y="20378"/>
                    <a:pt x="10544" y="20300"/>
                    <a:pt x="10461" y="20241"/>
                  </a:cubicBezTo>
                  <a:cubicBezTo>
                    <a:pt x="10479" y="20237"/>
                    <a:pt x="10499" y="20231"/>
                    <a:pt x="10520" y="20224"/>
                  </a:cubicBezTo>
                  <a:cubicBezTo>
                    <a:pt x="10540" y="20218"/>
                    <a:pt x="10560" y="20212"/>
                    <a:pt x="10578" y="20208"/>
                  </a:cubicBezTo>
                  <a:cubicBezTo>
                    <a:pt x="10646" y="20145"/>
                    <a:pt x="10708" y="20086"/>
                    <a:pt x="10769" y="20031"/>
                  </a:cubicBezTo>
                  <a:cubicBezTo>
                    <a:pt x="11047" y="19791"/>
                    <a:pt x="11331" y="19493"/>
                    <a:pt x="11201" y="19202"/>
                  </a:cubicBezTo>
                  <a:cubicBezTo>
                    <a:pt x="11220" y="19207"/>
                    <a:pt x="11238" y="19209"/>
                    <a:pt x="11258" y="19211"/>
                  </a:cubicBezTo>
                  <a:cubicBezTo>
                    <a:pt x="11277" y="19213"/>
                    <a:pt x="11297" y="19215"/>
                    <a:pt x="11319" y="19219"/>
                  </a:cubicBezTo>
                  <a:cubicBezTo>
                    <a:pt x="11312" y="19158"/>
                    <a:pt x="11292" y="19096"/>
                    <a:pt x="11262" y="19037"/>
                  </a:cubicBezTo>
                  <a:cubicBezTo>
                    <a:pt x="11232" y="18978"/>
                    <a:pt x="11192" y="18923"/>
                    <a:pt x="11146" y="18874"/>
                  </a:cubicBezTo>
                  <a:cubicBezTo>
                    <a:pt x="11192" y="18883"/>
                    <a:pt x="11241" y="18892"/>
                    <a:pt x="11290" y="18895"/>
                  </a:cubicBezTo>
                  <a:cubicBezTo>
                    <a:pt x="11339" y="18897"/>
                    <a:pt x="11386" y="18893"/>
                    <a:pt x="11430" y="18874"/>
                  </a:cubicBezTo>
                  <a:cubicBezTo>
                    <a:pt x="11522" y="18838"/>
                    <a:pt x="11554" y="18760"/>
                    <a:pt x="11590" y="18686"/>
                  </a:cubicBezTo>
                  <a:cubicBezTo>
                    <a:pt x="11625" y="18612"/>
                    <a:pt x="11664" y="18544"/>
                    <a:pt x="11769" y="18529"/>
                  </a:cubicBezTo>
                  <a:cubicBezTo>
                    <a:pt x="11794" y="18548"/>
                    <a:pt x="11820" y="18564"/>
                    <a:pt x="11848" y="18577"/>
                  </a:cubicBezTo>
                  <a:cubicBezTo>
                    <a:pt x="11875" y="18590"/>
                    <a:pt x="11905" y="18601"/>
                    <a:pt x="11935" y="18609"/>
                  </a:cubicBezTo>
                  <a:cubicBezTo>
                    <a:pt x="11942" y="18561"/>
                    <a:pt x="11959" y="18515"/>
                    <a:pt x="11983" y="18470"/>
                  </a:cubicBezTo>
                  <a:cubicBezTo>
                    <a:pt x="12008" y="18426"/>
                    <a:pt x="12040" y="18384"/>
                    <a:pt x="12077" y="18344"/>
                  </a:cubicBezTo>
                  <a:cubicBezTo>
                    <a:pt x="12105" y="18384"/>
                    <a:pt x="12125" y="18426"/>
                    <a:pt x="12138" y="18470"/>
                  </a:cubicBezTo>
                  <a:cubicBezTo>
                    <a:pt x="12151" y="18515"/>
                    <a:pt x="12158" y="18561"/>
                    <a:pt x="12158" y="18609"/>
                  </a:cubicBezTo>
                  <a:cubicBezTo>
                    <a:pt x="12176" y="18584"/>
                    <a:pt x="12218" y="18578"/>
                    <a:pt x="12266" y="18578"/>
                  </a:cubicBezTo>
                  <a:cubicBezTo>
                    <a:pt x="12315" y="18578"/>
                    <a:pt x="12370" y="18584"/>
                    <a:pt x="12417" y="18584"/>
                  </a:cubicBezTo>
                  <a:cubicBezTo>
                    <a:pt x="12506" y="18588"/>
                    <a:pt x="12586" y="18555"/>
                    <a:pt x="12637" y="18506"/>
                  </a:cubicBezTo>
                  <a:cubicBezTo>
                    <a:pt x="12687" y="18457"/>
                    <a:pt x="12707" y="18393"/>
                    <a:pt x="12676" y="18336"/>
                  </a:cubicBezTo>
                  <a:cubicBezTo>
                    <a:pt x="12707" y="18327"/>
                    <a:pt x="12745" y="18323"/>
                    <a:pt x="12785" y="18325"/>
                  </a:cubicBezTo>
                  <a:cubicBezTo>
                    <a:pt x="12824" y="18327"/>
                    <a:pt x="12864" y="18336"/>
                    <a:pt x="12898" y="18353"/>
                  </a:cubicBezTo>
                  <a:cubicBezTo>
                    <a:pt x="12935" y="18304"/>
                    <a:pt x="12983" y="18263"/>
                    <a:pt x="13039" y="18229"/>
                  </a:cubicBezTo>
                  <a:cubicBezTo>
                    <a:pt x="13095" y="18194"/>
                    <a:pt x="13160" y="18165"/>
                    <a:pt x="13231" y="18142"/>
                  </a:cubicBezTo>
                  <a:cubicBezTo>
                    <a:pt x="13250" y="18138"/>
                    <a:pt x="13270" y="18132"/>
                    <a:pt x="13288" y="18124"/>
                  </a:cubicBezTo>
                  <a:cubicBezTo>
                    <a:pt x="13307" y="18117"/>
                    <a:pt x="13324" y="18109"/>
                    <a:pt x="13336" y="18100"/>
                  </a:cubicBezTo>
                  <a:cubicBezTo>
                    <a:pt x="13348" y="18090"/>
                    <a:pt x="13358" y="18078"/>
                    <a:pt x="13365" y="18066"/>
                  </a:cubicBezTo>
                  <a:cubicBezTo>
                    <a:pt x="13373" y="18054"/>
                    <a:pt x="13379" y="18041"/>
                    <a:pt x="13385" y="18029"/>
                  </a:cubicBezTo>
                  <a:cubicBezTo>
                    <a:pt x="13441" y="17924"/>
                    <a:pt x="13527" y="17827"/>
                    <a:pt x="13644" y="17755"/>
                  </a:cubicBezTo>
                  <a:cubicBezTo>
                    <a:pt x="13842" y="17638"/>
                    <a:pt x="13959" y="17482"/>
                    <a:pt x="14021" y="17305"/>
                  </a:cubicBezTo>
                  <a:cubicBezTo>
                    <a:pt x="14113" y="17356"/>
                    <a:pt x="14268" y="17288"/>
                    <a:pt x="14280" y="17200"/>
                  </a:cubicBezTo>
                  <a:cubicBezTo>
                    <a:pt x="14292" y="17112"/>
                    <a:pt x="14200" y="17040"/>
                    <a:pt x="14126" y="16969"/>
                  </a:cubicBezTo>
                  <a:cubicBezTo>
                    <a:pt x="14086" y="16933"/>
                    <a:pt x="14047" y="16897"/>
                    <a:pt x="14020" y="16859"/>
                  </a:cubicBezTo>
                  <a:cubicBezTo>
                    <a:pt x="13993" y="16822"/>
                    <a:pt x="13978" y="16782"/>
                    <a:pt x="13984" y="16737"/>
                  </a:cubicBezTo>
                  <a:cubicBezTo>
                    <a:pt x="14002" y="16761"/>
                    <a:pt x="14032" y="16778"/>
                    <a:pt x="14064" y="16789"/>
                  </a:cubicBezTo>
                  <a:cubicBezTo>
                    <a:pt x="14096" y="16800"/>
                    <a:pt x="14132" y="16805"/>
                    <a:pt x="14163" y="16800"/>
                  </a:cubicBezTo>
                  <a:cubicBezTo>
                    <a:pt x="14181" y="16868"/>
                    <a:pt x="14234" y="16930"/>
                    <a:pt x="14305" y="16978"/>
                  </a:cubicBezTo>
                  <a:cubicBezTo>
                    <a:pt x="14377" y="17027"/>
                    <a:pt x="14468" y="17061"/>
                    <a:pt x="14564" y="17074"/>
                  </a:cubicBezTo>
                  <a:cubicBezTo>
                    <a:pt x="14699" y="17049"/>
                    <a:pt x="14832" y="17020"/>
                    <a:pt x="14965" y="16991"/>
                  </a:cubicBezTo>
                  <a:cubicBezTo>
                    <a:pt x="15097" y="16962"/>
                    <a:pt x="15230" y="16933"/>
                    <a:pt x="15366" y="16906"/>
                  </a:cubicBezTo>
                  <a:cubicBezTo>
                    <a:pt x="15390" y="16872"/>
                    <a:pt x="15409" y="16855"/>
                    <a:pt x="15458" y="16855"/>
                  </a:cubicBezTo>
                  <a:cubicBezTo>
                    <a:pt x="15495" y="16855"/>
                    <a:pt x="15532" y="16864"/>
                    <a:pt x="15576" y="16855"/>
                  </a:cubicBezTo>
                  <a:cubicBezTo>
                    <a:pt x="15588" y="16851"/>
                    <a:pt x="15600" y="16847"/>
                    <a:pt x="15613" y="16841"/>
                  </a:cubicBezTo>
                  <a:cubicBezTo>
                    <a:pt x="15625" y="16835"/>
                    <a:pt x="15637" y="16828"/>
                    <a:pt x="15650" y="16817"/>
                  </a:cubicBezTo>
                  <a:cubicBezTo>
                    <a:pt x="15754" y="16756"/>
                    <a:pt x="15869" y="16700"/>
                    <a:pt x="15989" y="16649"/>
                  </a:cubicBezTo>
                  <a:cubicBezTo>
                    <a:pt x="16109" y="16599"/>
                    <a:pt x="16236" y="16554"/>
                    <a:pt x="16365" y="16519"/>
                  </a:cubicBezTo>
                  <a:cubicBezTo>
                    <a:pt x="16390" y="16510"/>
                    <a:pt x="16419" y="16504"/>
                    <a:pt x="16450" y="16501"/>
                  </a:cubicBezTo>
                  <a:cubicBezTo>
                    <a:pt x="16481" y="16498"/>
                    <a:pt x="16513" y="16498"/>
                    <a:pt x="16544" y="16502"/>
                  </a:cubicBezTo>
                  <a:cubicBezTo>
                    <a:pt x="16634" y="16409"/>
                    <a:pt x="16740" y="16323"/>
                    <a:pt x="16858" y="16245"/>
                  </a:cubicBezTo>
                  <a:cubicBezTo>
                    <a:pt x="16976" y="16166"/>
                    <a:pt x="17106" y="16096"/>
                    <a:pt x="17241" y="16035"/>
                  </a:cubicBezTo>
                  <a:cubicBezTo>
                    <a:pt x="17288" y="16016"/>
                    <a:pt x="17334" y="15998"/>
                    <a:pt x="17376" y="15977"/>
                  </a:cubicBezTo>
                  <a:cubicBezTo>
                    <a:pt x="17419" y="15956"/>
                    <a:pt x="17457" y="15932"/>
                    <a:pt x="17488" y="15900"/>
                  </a:cubicBezTo>
                  <a:cubicBezTo>
                    <a:pt x="17510" y="15888"/>
                    <a:pt x="17527" y="15873"/>
                    <a:pt x="17543" y="15859"/>
                  </a:cubicBezTo>
                  <a:cubicBezTo>
                    <a:pt x="17559" y="15845"/>
                    <a:pt x="17575" y="15831"/>
                    <a:pt x="17593" y="15820"/>
                  </a:cubicBezTo>
                  <a:cubicBezTo>
                    <a:pt x="17618" y="15808"/>
                    <a:pt x="17647" y="15799"/>
                    <a:pt x="17678" y="15791"/>
                  </a:cubicBezTo>
                  <a:cubicBezTo>
                    <a:pt x="17709" y="15783"/>
                    <a:pt x="17741" y="15774"/>
                    <a:pt x="17772" y="15761"/>
                  </a:cubicBezTo>
                  <a:cubicBezTo>
                    <a:pt x="17800" y="15747"/>
                    <a:pt x="17826" y="15727"/>
                    <a:pt x="17841" y="15706"/>
                  </a:cubicBezTo>
                  <a:cubicBezTo>
                    <a:pt x="17855" y="15685"/>
                    <a:pt x="17858" y="15663"/>
                    <a:pt x="17840" y="15644"/>
                  </a:cubicBezTo>
                  <a:cubicBezTo>
                    <a:pt x="17661" y="15644"/>
                    <a:pt x="17463" y="15635"/>
                    <a:pt x="17285" y="15635"/>
                  </a:cubicBezTo>
                  <a:cubicBezTo>
                    <a:pt x="17217" y="15635"/>
                    <a:pt x="17155" y="15635"/>
                    <a:pt x="17099" y="15610"/>
                  </a:cubicBezTo>
                  <a:cubicBezTo>
                    <a:pt x="17075" y="15602"/>
                    <a:pt x="17050" y="15586"/>
                    <a:pt x="17033" y="15567"/>
                  </a:cubicBezTo>
                  <a:cubicBezTo>
                    <a:pt x="17016" y="15548"/>
                    <a:pt x="17007" y="15526"/>
                    <a:pt x="17013" y="15505"/>
                  </a:cubicBezTo>
                  <a:cubicBezTo>
                    <a:pt x="16896" y="15492"/>
                    <a:pt x="16772" y="15481"/>
                    <a:pt x="16652" y="15482"/>
                  </a:cubicBezTo>
                  <a:cubicBezTo>
                    <a:pt x="16532" y="15484"/>
                    <a:pt x="16415" y="15499"/>
                    <a:pt x="16310" y="15539"/>
                  </a:cubicBezTo>
                  <a:cubicBezTo>
                    <a:pt x="16267" y="15557"/>
                    <a:pt x="16225" y="15577"/>
                    <a:pt x="16183" y="15598"/>
                  </a:cubicBezTo>
                  <a:cubicBezTo>
                    <a:pt x="16140" y="15620"/>
                    <a:pt x="16097" y="15642"/>
                    <a:pt x="16051" y="15665"/>
                  </a:cubicBezTo>
                  <a:cubicBezTo>
                    <a:pt x="15949" y="15713"/>
                    <a:pt x="15836" y="15748"/>
                    <a:pt x="15718" y="15769"/>
                  </a:cubicBezTo>
                  <a:cubicBezTo>
                    <a:pt x="15600" y="15791"/>
                    <a:pt x="15477" y="15799"/>
                    <a:pt x="15353" y="15795"/>
                  </a:cubicBezTo>
                  <a:cubicBezTo>
                    <a:pt x="15347" y="15795"/>
                    <a:pt x="15341" y="15795"/>
                    <a:pt x="15335" y="15794"/>
                  </a:cubicBezTo>
                  <a:cubicBezTo>
                    <a:pt x="15329" y="15793"/>
                    <a:pt x="15323" y="15791"/>
                    <a:pt x="15316" y="15787"/>
                  </a:cubicBezTo>
                  <a:cubicBezTo>
                    <a:pt x="15289" y="15778"/>
                    <a:pt x="15287" y="15758"/>
                    <a:pt x="15301" y="15737"/>
                  </a:cubicBezTo>
                  <a:cubicBezTo>
                    <a:pt x="15315" y="15716"/>
                    <a:pt x="15344" y="15694"/>
                    <a:pt x="15378" y="15682"/>
                  </a:cubicBezTo>
                  <a:cubicBezTo>
                    <a:pt x="15440" y="15652"/>
                    <a:pt x="15520" y="15635"/>
                    <a:pt x="15600" y="15618"/>
                  </a:cubicBezTo>
                  <a:cubicBezTo>
                    <a:pt x="15680" y="15602"/>
                    <a:pt x="15754" y="15593"/>
                    <a:pt x="15835" y="15564"/>
                  </a:cubicBezTo>
                  <a:cubicBezTo>
                    <a:pt x="15866" y="15551"/>
                    <a:pt x="15895" y="15536"/>
                    <a:pt x="15924" y="15522"/>
                  </a:cubicBezTo>
                  <a:cubicBezTo>
                    <a:pt x="15953" y="15507"/>
                    <a:pt x="15983" y="15492"/>
                    <a:pt x="16014" y="15480"/>
                  </a:cubicBezTo>
                  <a:cubicBezTo>
                    <a:pt x="16143" y="15417"/>
                    <a:pt x="16322" y="15408"/>
                    <a:pt x="16452" y="15345"/>
                  </a:cubicBezTo>
                  <a:cubicBezTo>
                    <a:pt x="16581" y="15282"/>
                    <a:pt x="16698" y="15152"/>
                    <a:pt x="16581" y="15072"/>
                  </a:cubicBezTo>
                  <a:cubicBezTo>
                    <a:pt x="16495" y="15000"/>
                    <a:pt x="16322" y="15030"/>
                    <a:pt x="16193" y="15063"/>
                  </a:cubicBezTo>
                  <a:cubicBezTo>
                    <a:pt x="16063" y="15097"/>
                    <a:pt x="15921" y="15152"/>
                    <a:pt x="15792" y="15114"/>
                  </a:cubicBezTo>
                  <a:cubicBezTo>
                    <a:pt x="15785" y="15080"/>
                    <a:pt x="15818" y="15059"/>
                    <a:pt x="15863" y="15046"/>
                  </a:cubicBezTo>
                  <a:cubicBezTo>
                    <a:pt x="15909" y="15034"/>
                    <a:pt x="15967" y="15030"/>
                    <a:pt x="16014" y="15030"/>
                  </a:cubicBezTo>
                  <a:cubicBezTo>
                    <a:pt x="16085" y="15023"/>
                    <a:pt x="16156" y="15012"/>
                    <a:pt x="16222" y="14994"/>
                  </a:cubicBezTo>
                  <a:cubicBezTo>
                    <a:pt x="16288" y="14976"/>
                    <a:pt x="16350" y="14952"/>
                    <a:pt x="16402" y="14920"/>
                  </a:cubicBezTo>
                  <a:cubicBezTo>
                    <a:pt x="16442" y="14899"/>
                    <a:pt x="16481" y="14869"/>
                    <a:pt x="16502" y="14837"/>
                  </a:cubicBezTo>
                  <a:cubicBezTo>
                    <a:pt x="16523" y="14805"/>
                    <a:pt x="16526" y="14771"/>
                    <a:pt x="16495" y="14744"/>
                  </a:cubicBezTo>
                  <a:cubicBezTo>
                    <a:pt x="16452" y="14710"/>
                    <a:pt x="16378" y="14710"/>
                    <a:pt x="16310" y="14710"/>
                  </a:cubicBezTo>
                  <a:cubicBezTo>
                    <a:pt x="16211" y="14710"/>
                    <a:pt x="16106" y="14710"/>
                    <a:pt x="16001" y="14685"/>
                  </a:cubicBezTo>
                  <a:cubicBezTo>
                    <a:pt x="15955" y="14670"/>
                    <a:pt x="15910" y="14648"/>
                    <a:pt x="15879" y="14620"/>
                  </a:cubicBezTo>
                  <a:cubicBezTo>
                    <a:pt x="15847" y="14593"/>
                    <a:pt x="15829" y="14561"/>
                    <a:pt x="15835" y="14525"/>
                  </a:cubicBezTo>
                  <a:cubicBezTo>
                    <a:pt x="15782" y="14508"/>
                    <a:pt x="15730" y="14490"/>
                    <a:pt x="15681" y="14469"/>
                  </a:cubicBezTo>
                  <a:cubicBezTo>
                    <a:pt x="15633" y="14447"/>
                    <a:pt x="15588" y="14422"/>
                    <a:pt x="15551" y="14390"/>
                  </a:cubicBezTo>
                  <a:cubicBezTo>
                    <a:pt x="15511" y="14361"/>
                    <a:pt x="15488" y="14322"/>
                    <a:pt x="15482" y="14282"/>
                  </a:cubicBezTo>
                  <a:cubicBezTo>
                    <a:pt x="15477" y="14243"/>
                    <a:pt x="15489" y="14203"/>
                    <a:pt x="15520" y="14171"/>
                  </a:cubicBezTo>
                  <a:cubicBezTo>
                    <a:pt x="15591" y="14232"/>
                    <a:pt x="15667" y="14290"/>
                    <a:pt x="15745" y="14346"/>
                  </a:cubicBezTo>
                  <a:cubicBezTo>
                    <a:pt x="15824" y="14402"/>
                    <a:pt x="15906" y="14455"/>
                    <a:pt x="15989" y="14508"/>
                  </a:cubicBezTo>
                  <a:cubicBezTo>
                    <a:pt x="16020" y="14525"/>
                    <a:pt x="16049" y="14543"/>
                    <a:pt x="16080" y="14558"/>
                  </a:cubicBezTo>
                  <a:cubicBezTo>
                    <a:pt x="16111" y="14574"/>
                    <a:pt x="16143" y="14588"/>
                    <a:pt x="16180" y="14596"/>
                  </a:cubicBezTo>
                  <a:cubicBezTo>
                    <a:pt x="16285" y="14622"/>
                    <a:pt x="16402" y="14622"/>
                    <a:pt x="16507" y="14630"/>
                  </a:cubicBezTo>
                  <a:cubicBezTo>
                    <a:pt x="16612" y="14638"/>
                    <a:pt x="16723" y="14676"/>
                    <a:pt x="16766" y="14744"/>
                  </a:cubicBezTo>
                  <a:cubicBezTo>
                    <a:pt x="16772" y="14758"/>
                    <a:pt x="16776" y="14774"/>
                    <a:pt x="16779" y="14789"/>
                  </a:cubicBezTo>
                  <a:cubicBezTo>
                    <a:pt x="16782" y="14805"/>
                    <a:pt x="16785" y="14819"/>
                    <a:pt x="16791" y="14832"/>
                  </a:cubicBezTo>
                  <a:cubicBezTo>
                    <a:pt x="16803" y="14855"/>
                    <a:pt x="16823" y="14875"/>
                    <a:pt x="16845" y="14894"/>
                  </a:cubicBezTo>
                  <a:cubicBezTo>
                    <a:pt x="16867" y="14913"/>
                    <a:pt x="16890" y="14931"/>
                    <a:pt x="16908" y="14950"/>
                  </a:cubicBezTo>
                  <a:cubicBezTo>
                    <a:pt x="16979" y="15002"/>
                    <a:pt x="17041" y="15063"/>
                    <a:pt x="17089" y="15130"/>
                  </a:cubicBezTo>
                  <a:cubicBezTo>
                    <a:pt x="17138" y="15197"/>
                    <a:pt x="17174" y="15269"/>
                    <a:pt x="17192" y="15345"/>
                  </a:cubicBezTo>
                  <a:cubicBezTo>
                    <a:pt x="17217" y="15372"/>
                    <a:pt x="17258" y="15388"/>
                    <a:pt x="17307" y="15396"/>
                  </a:cubicBezTo>
                  <a:cubicBezTo>
                    <a:pt x="17356" y="15404"/>
                    <a:pt x="17411" y="15404"/>
                    <a:pt x="17463" y="15400"/>
                  </a:cubicBezTo>
                  <a:cubicBezTo>
                    <a:pt x="17556" y="15391"/>
                    <a:pt x="17655" y="15362"/>
                    <a:pt x="17747" y="15362"/>
                  </a:cubicBezTo>
                  <a:cubicBezTo>
                    <a:pt x="17834" y="15362"/>
                    <a:pt x="17969" y="15370"/>
                    <a:pt x="17982" y="15311"/>
                  </a:cubicBezTo>
                  <a:cubicBezTo>
                    <a:pt x="17994" y="15271"/>
                    <a:pt x="17949" y="15247"/>
                    <a:pt x="17898" y="15223"/>
                  </a:cubicBezTo>
                  <a:cubicBezTo>
                    <a:pt x="17846" y="15199"/>
                    <a:pt x="17787" y="15175"/>
                    <a:pt x="17772" y="15135"/>
                  </a:cubicBezTo>
                  <a:cubicBezTo>
                    <a:pt x="17753" y="15091"/>
                    <a:pt x="17797" y="15046"/>
                    <a:pt x="17834" y="15004"/>
                  </a:cubicBezTo>
                  <a:cubicBezTo>
                    <a:pt x="17872" y="14962"/>
                    <a:pt x="17905" y="14922"/>
                    <a:pt x="17865" y="14887"/>
                  </a:cubicBezTo>
                  <a:cubicBezTo>
                    <a:pt x="17824" y="14855"/>
                    <a:pt x="17801" y="14813"/>
                    <a:pt x="17797" y="14770"/>
                  </a:cubicBezTo>
                  <a:cubicBezTo>
                    <a:pt x="17792" y="14727"/>
                    <a:pt x="17806" y="14683"/>
                    <a:pt x="17840" y="14647"/>
                  </a:cubicBezTo>
                  <a:cubicBezTo>
                    <a:pt x="17812" y="14651"/>
                    <a:pt x="17789" y="14642"/>
                    <a:pt x="17771" y="14626"/>
                  </a:cubicBezTo>
                  <a:cubicBezTo>
                    <a:pt x="17753" y="14610"/>
                    <a:pt x="17741" y="14588"/>
                    <a:pt x="17735" y="14567"/>
                  </a:cubicBezTo>
                  <a:cubicBezTo>
                    <a:pt x="17729" y="14544"/>
                    <a:pt x="17729" y="14525"/>
                    <a:pt x="17726" y="14507"/>
                  </a:cubicBezTo>
                  <a:cubicBezTo>
                    <a:pt x="17723" y="14489"/>
                    <a:pt x="17716" y="14472"/>
                    <a:pt x="17698" y="14453"/>
                  </a:cubicBezTo>
                  <a:cubicBezTo>
                    <a:pt x="17664" y="14432"/>
                    <a:pt x="17612" y="14430"/>
                    <a:pt x="17563" y="14425"/>
                  </a:cubicBezTo>
                  <a:cubicBezTo>
                    <a:pt x="17514" y="14421"/>
                    <a:pt x="17470" y="14413"/>
                    <a:pt x="17451" y="14382"/>
                  </a:cubicBezTo>
                  <a:cubicBezTo>
                    <a:pt x="17426" y="14357"/>
                    <a:pt x="17451" y="14310"/>
                    <a:pt x="17414" y="14285"/>
                  </a:cubicBezTo>
                  <a:cubicBezTo>
                    <a:pt x="17383" y="14264"/>
                    <a:pt x="17346" y="14277"/>
                    <a:pt x="17322" y="14277"/>
                  </a:cubicBezTo>
                  <a:cubicBezTo>
                    <a:pt x="17155" y="14277"/>
                    <a:pt x="17050" y="14146"/>
                    <a:pt x="16982" y="14028"/>
                  </a:cubicBezTo>
                  <a:cubicBezTo>
                    <a:pt x="16958" y="13986"/>
                    <a:pt x="16933" y="13953"/>
                    <a:pt x="16896" y="13923"/>
                  </a:cubicBezTo>
                  <a:cubicBezTo>
                    <a:pt x="16868" y="13911"/>
                    <a:pt x="16836" y="13904"/>
                    <a:pt x="16805" y="13905"/>
                  </a:cubicBezTo>
                  <a:cubicBezTo>
                    <a:pt x="16774" y="13906"/>
                    <a:pt x="16745" y="13915"/>
                    <a:pt x="16723" y="13932"/>
                  </a:cubicBezTo>
                  <a:cubicBezTo>
                    <a:pt x="16717" y="13942"/>
                    <a:pt x="16711" y="13954"/>
                    <a:pt x="16706" y="13965"/>
                  </a:cubicBezTo>
                  <a:cubicBezTo>
                    <a:pt x="16702" y="13976"/>
                    <a:pt x="16698" y="13986"/>
                    <a:pt x="16698" y="13995"/>
                  </a:cubicBezTo>
                  <a:cubicBezTo>
                    <a:pt x="16692" y="14043"/>
                    <a:pt x="16674" y="14089"/>
                    <a:pt x="16642" y="14130"/>
                  </a:cubicBezTo>
                  <a:cubicBezTo>
                    <a:pt x="16611" y="14171"/>
                    <a:pt x="16566" y="14207"/>
                    <a:pt x="16507" y="14235"/>
                  </a:cubicBezTo>
                  <a:cubicBezTo>
                    <a:pt x="16449" y="14260"/>
                    <a:pt x="16378" y="14272"/>
                    <a:pt x="16308" y="14271"/>
                  </a:cubicBezTo>
                  <a:cubicBezTo>
                    <a:pt x="16239" y="14270"/>
                    <a:pt x="16171" y="14256"/>
                    <a:pt x="16119" y="14226"/>
                  </a:cubicBezTo>
                  <a:cubicBezTo>
                    <a:pt x="16171" y="14195"/>
                    <a:pt x="16222" y="14161"/>
                    <a:pt x="16274" y="14127"/>
                  </a:cubicBezTo>
                  <a:cubicBezTo>
                    <a:pt x="16327" y="14094"/>
                    <a:pt x="16381" y="14060"/>
                    <a:pt x="16439" y="14028"/>
                  </a:cubicBezTo>
                  <a:cubicBezTo>
                    <a:pt x="16452" y="14020"/>
                    <a:pt x="16483" y="14003"/>
                    <a:pt x="16483" y="13986"/>
                  </a:cubicBezTo>
                  <a:cubicBezTo>
                    <a:pt x="16483" y="13970"/>
                    <a:pt x="16427" y="13961"/>
                    <a:pt x="16415" y="13940"/>
                  </a:cubicBezTo>
                  <a:cubicBezTo>
                    <a:pt x="16402" y="13927"/>
                    <a:pt x="16399" y="13913"/>
                    <a:pt x="16402" y="13899"/>
                  </a:cubicBezTo>
                  <a:cubicBezTo>
                    <a:pt x="16405" y="13885"/>
                    <a:pt x="16415" y="13873"/>
                    <a:pt x="16427" y="13864"/>
                  </a:cubicBezTo>
                  <a:cubicBezTo>
                    <a:pt x="16449" y="13854"/>
                    <a:pt x="16469" y="13847"/>
                    <a:pt x="16489" y="13841"/>
                  </a:cubicBezTo>
                  <a:cubicBezTo>
                    <a:pt x="16510" y="13835"/>
                    <a:pt x="16532" y="13831"/>
                    <a:pt x="16557" y="13827"/>
                  </a:cubicBezTo>
                  <a:cubicBezTo>
                    <a:pt x="16609" y="13818"/>
                    <a:pt x="16665" y="13812"/>
                    <a:pt x="16720" y="13805"/>
                  </a:cubicBezTo>
                  <a:cubicBezTo>
                    <a:pt x="16776" y="13799"/>
                    <a:pt x="16831" y="13793"/>
                    <a:pt x="16884" y="13784"/>
                  </a:cubicBezTo>
                  <a:cubicBezTo>
                    <a:pt x="16850" y="13749"/>
                    <a:pt x="16817" y="13715"/>
                    <a:pt x="16785" y="13681"/>
                  </a:cubicBezTo>
                  <a:cubicBezTo>
                    <a:pt x="16752" y="13648"/>
                    <a:pt x="16720" y="13614"/>
                    <a:pt x="16686" y="13578"/>
                  </a:cubicBezTo>
                  <a:cubicBezTo>
                    <a:pt x="16649" y="13585"/>
                    <a:pt x="16614" y="13578"/>
                    <a:pt x="16580" y="13567"/>
                  </a:cubicBezTo>
                  <a:cubicBezTo>
                    <a:pt x="16546" y="13556"/>
                    <a:pt x="16513" y="13540"/>
                    <a:pt x="16483" y="13528"/>
                  </a:cubicBezTo>
                  <a:cubicBezTo>
                    <a:pt x="16449" y="13515"/>
                    <a:pt x="16405" y="13509"/>
                    <a:pt x="16368" y="13511"/>
                  </a:cubicBezTo>
                  <a:cubicBezTo>
                    <a:pt x="16330" y="13513"/>
                    <a:pt x="16297" y="13524"/>
                    <a:pt x="16285" y="13545"/>
                  </a:cubicBezTo>
                  <a:cubicBezTo>
                    <a:pt x="16260" y="13524"/>
                    <a:pt x="16250" y="13494"/>
                    <a:pt x="16253" y="13466"/>
                  </a:cubicBezTo>
                  <a:cubicBezTo>
                    <a:pt x="16257" y="13437"/>
                    <a:pt x="16276" y="13410"/>
                    <a:pt x="16310" y="13393"/>
                  </a:cubicBezTo>
                  <a:cubicBezTo>
                    <a:pt x="16341" y="13374"/>
                    <a:pt x="16384" y="13368"/>
                    <a:pt x="16425" y="13372"/>
                  </a:cubicBezTo>
                  <a:cubicBezTo>
                    <a:pt x="16467" y="13376"/>
                    <a:pt x="16507" y="13391"/>
                    <a:pt x="16532" y="13414"/>
                  </a:cubicBezTo>
                  <a:cubicBezTo>
                    <a:pt x="16550" y="13435"/>
                    <a:pt x="16567" y="13464"/>
                    <a:pt x="16589" y="13485"/>
                  </a:cubicBezTo>
                  <a:cubicBezTo>
                    <a:pt x="16611" y="13506"/>
                    <a:pt x="16637" y="13519"/>
                    <a:pt x="16674" y="13511"/>
                  </a:cubicBezTo>
                  <a:cubicBezTo>
                    <a:pt x="16686" y="13511"/>
                    <a:pt x="16698" y="13504"/>
                    <a:pt x="16712" y="13495"/>
                  </a:cubicBezTo>
                  <a:cubicBezTo>
                    <a:pt x="16725" y="13487"/>
                    <a:pt x="16739" y="13477"/>
                    <a:pt x="16754" y="13473"/>
                  </a:cubicBezTo>
                  <a:cubicBezTo>
                    <a:pt x="16803" y="13456"/>
                    <a:pt x="16853" y="13473"/>
                    <a:pt x="16896" y="13503"/>
                  </a:cubicBezTo>
                  <a:cubicBezTo>
                    <a:pt x="16933" y="13528"/>
                    <a:pt x="16945" y="13562"/>
                    <a:pt x="16945" y="13599"/>
                  </a:cubicBezTo>
                  <a:cubicBezTo>
                    <a:pt x="16964" y="13652"/>
                    <a:pt x="16987" y="13713"/>
                    <a:pt x="17025" y="13763"/>
                  </a:cubicBezTo>
                  <a:cubicBezTo>
                    <a:pt x="17062" y="13814"/>
                    <a:pt x="17115" y="13854"/>
                    <a:pt x="17192" y="13864"/>
                  </a:cubicBezTo>
                  <a:cubicBezTo>
                    <a:pt x="17238" y="13869"/>
                    <a:pt x="17286" y="13861"/>
                    <a:pt x="17334" y="13856"/>
                  </a:cubicBezTo>
                  <a:cubicBezTo>
                    <a:pt x="17382" y="13852"/>
                    <a:pt x="17430" y="13850"/>
                    <a:pt x="17476" y="13864"/>
                  </a:cubicBezTo>
                  <a:cubicBezTo>
                    <a:pt x="17504" y="13873"/>
                    <a:pt x="17527" y="13885"/>
                    <a:pt x="17546" y="13902"/>
                  </a:cubicBezTo>
                  <a:cubicBezTo>
                    <a:pt x="17565" y="13918"/>
                    <a:pt x="17581" y="13938"/>
                    <a:pt x="17593" y="13961"/>
                  </a:cubicBezTo>
                  <a:cubicBezTo>
                    <a:pt x="17605" y="13982"/>
                    <a:pt x="17618" y="14002"/>
                    <a:pt x="17634" y="14019"/>
                  </a:cubicBezTo>
                  <a:cubicBezTo>
                    <a:pt x="17650" y="14036"/>
                    <a:pt x="17670" y="14049"/>
                    <a:pt x="17698" y="14058"/>
                  </a:cubicBezTo>
                  <a:cubicBezTo>
                    <a:pt x="17723" y="14066"/>
                    <a:pt x="17758" y="14066"/>
                    <a:pt x="17787" y="14059"/>
                  </a:cubicBezTo>
                  <a:cubicBezTo>
                    <a:pt x="17817" y="14053"/>
                    <a:pt x="17840" y="14039"/>
                    <a:pt x="17840" y="14020"/>
                  </a:cubicBezTo>
                  <a:cubicBezTo>
                    <a:pt x="17806" y="13991"/>
                    <a:pt x="17767" y="13962"/>
                    <a:pt x="17726" y="13938"/>
                  </a:cubicBezTo>
                  <a:cubicBezTo>
                    <a:pt x="17684" y="13914"/>
                    <a:pt x="17639" y="13894"/>
                    <a:pt x="17593" y="13881"/>
                  </a:cubicBezTo>
                  <a:cubicBezTo>
                    <a:pt x="17618" y="13873"/>
                    <a:pt x="17641" y="13857"/>
                    <a:pt x="17656" y="13838"/>
                  </a:cubicBezTo>
                  <a:cubicBezTo>
                    <a:pt x="17672" y="13819"/>
                    <a:pt x="17679" y="13797"/>
                    <a:pt x="17673" y="13776"/>
                  </a:cubicBezTo>
                  <a:cubicBezTo>
                    <a:pt x="17698" y="13784"/>
                    <a:pt x="17730" y="13784"/>
                    <a:pt x="17758" y="13778"/>
                  </a:cubicBezTo>
                  <a:cubicBezTo>
                    <a:pt x="17786" y="13771"/>
                    <a:pt x="17809" y="13757"/>
                    <a:pt x="17815" y="13738"/>
                  </a:cubicBezTo>
                  <a:cubicBezTo>
                    <a:pt x="17747" y="13768"/>
                    <a:pt x="17661" y="13717"/>
                    <a:pt x="17661" y="13667"/>
                  </a:cubicBezTo>
                  <a:cubicBezTo>
                    <a:pt x="17661" y="13612"/>
                    <a:pt x="17735" y="13570"/>
                    <a:pt x="17815" y="13562"/>
                  </a:cubicBezTo>
                  <a:cubicBezTo>
                    <a:pt x="17716" y="13549"/>
                    <a:pt x="17635" y="13514"/>
                    <a:pt x="17563" y="13470"/>
                  </a:cubicBezTo>
                  <a:cubicBezTo>
                    <a:pt x="17491" y="13425"/>
                    <a:pt x="17430" y="13370"/>
                    <a:pt x="17371" y="13318"/>
                  </a:cubicBezTo>
                  <a:cubicBezTo>
                    <a:pt x="17359" y="13303"/>
                    <a:pt x="17346" y="13289"/>
                    <a:pt x="17339" y="13276"/>
                  </a:cubicBezTo>
                  <a:cubicBezTo>
                    <a:pt x="17331" y="13263"/>
                    <a:pt x="17328" y="13250"/>
                    <a:pt x="17334" y="13238"/>
                  </a:cubicBezTo>
                  <a:cubicBezTo>
                    <a:pt x="17223" y="13246"/>
                    <a:pt x="17123" y="13200"/>
                    <a:pt x="17026" y="13158"/>
                  </a:cubicBezTo>
                  <a:cubicBezTo>
                    <a:pt x="16930" y="13116"/>
                    <a:pt x="16837" y="13078"/>
                    <a:pt x="16742" y="13103"/>
                  </a:cubicBezTo>
                  <a:cubicBezTo>
                    <a:pt x="16708" y="13111"/>
                    <a:pt x="16681" y="13125"/>
                    <a:pt x="16655" y="13139"/>
                  </a:cubicBezTo>
                  <a:cubicBezTo>
                    <a:pt x="16629" y="13152"/>
                    <a:pt x="16603" y="13166"/>
                    <a:pt x="16569" y="13175"/>
                  </a:cubicBezTo>
                  <a:cubicBezTo>
                    <a:pt x="16544" y="13183"/>
                    <a:pt x="16509" y="13187"/>
                    <a:pt x="16476" y="13184"/>
                  </a:cubicBezTo>
                  <a:cubicBezTo>
                    <a:pt x="16444" y="13181"/>
                    <a:pt x="16415" y="13170"/>
                    <a:pt x="16402" y="13149"/>
                  </a:cubicBezTo>
                  <a:cubicBezTo>
                    <a:pt x="16442" y="13126"/>
                    <a:pt x="16481" y="13106"/>
                    <a:pt x="16523" y="13090"/>
                  </a:cubicBezTo>
                  <a:cubicBezTo>
                    <a:pt x="16564" y="13074"/>
                    <a:pt x="16609" y="13061"/>
                    <a:pt x="16661" y="13053"/>
                  </a:cubicBezTo>
                  <a:cubicBezTo>
                    <a:pt x="16686" y="13048"/>
                    <a:pt x="16715" y="13043"/>
                    <a:pt x="16745" y="13037"/>
                  </a:cubicBezTo>
                  <a:cubicBezTo>
                    <a:pt x="16774" y="13030"/>
                    <a:pt x="16803" y="13023"/>
                    <a:pt x="16828" y="13015"/>
                  </a:cubicBezTo>
                  <a:cubicBezTo>
                    <a:pt x="16887" y="12985"/>
                    <a:pt x="16901" y="12928"/>
                    <a:pt x="16916" y="12873"/>
                  </a:cubicBezTo>
                  <a:cubicBezTo>
                    <a:pt x="16931" y="12818"/>
                    <a:pt x="16948" y="12764"/>
                    <a:pt x="17013" y="12741"/>
                  </a:cubicBezTo>
                  <a:cubicBezTo>
                    <a:pt x="17044" y="12741"/>
                    <a:pt x="17062" y="12756"/>
                    <a:pt x="17072" y="12776"/>
                  </a:cubicBezTo>
                  <a:cubicBezTo>
                    <a:pt x="17081" y="12797"/>
                    <a:pt x="17081" y="12823"/>
                    <a:pt x="17075" y="12846"/>
                  </a:cubicBezTo>
                  <a:cubicBezTo>
                    <a:pt x="17062" y="12888"/>
                    <a:pt x="17038" y="12943"/>
                    <a:pt x="17087" y="12973"/>
                  </a:cubicBezTo>
                  <a:cubicBezTo>
                    <a:pt x="17130" y="12998"/>
                    <a:pt x="17192" y="12989"/>
                    <a:pt x="17241" y="13006"/>
                  </a:cubicBezTo>
                  <a:cubicBezTo>
                    <a:pt x="17285" y="13023"/>
                    <a:pt x="17309" y="13061"/>
                    <a:pt x="17334" y="13086"/>
                  </a:cubicBezTo>
                  <a:cubicBezTo>
                    <a:pt x="17359" y="13111"/>
                    <a:pt x="17426" y="13128"/>
                    <a:pt x="17463" y="13103"/>
                  </a:cubicBezTo>
                  <a:cubicBezTo>
                    <a:pt x="17476" y="13141"/>
                    <a:pt x="17488" y="13175"/>
                    <a:pt x="17531" y="13208"/>
                  </a:cubicBezTo>
                  <a:cubicBezTo>
                    <a:pt x="17568" y="13238"/>
                    <a:pt x="17630" y="13254"/>
                    <a:pt x="17673" y="13238"/>
                  </a:cubicBezTo>
                  <a:cubicBezTo>
                    <a:pt x="17692" y="13233"/>
                    <a:pt x="17703" y="13224"/>
                    <a:pt x="17714" y="13214"/>
                  </a:cubicBezTo>
                  <a:cubicBezTo>
                    <a:pt x="17726" y="13205"/>
                    <a:pt x="17738" y="13196"/>
                    <a:pt x="17760" y="13191"/>
                  </a:cubicBezTo>
                  <a:cubicBezTo>
                    <a:pt x="17778" y="13187"/>
                    <a:pt x="17801" y="13191"/>
                    <a:pt x="17826" y="13196"/>
                  </a:cubicBezTo>
                  <a:cubicBezTo>
                    <a:pt x="17851" y="13200"/>
                    <a:pt x="17877" y="13204"/>
                    <a:pt x="17902" y="13200"/>
                  </a:cubicBezTo>
                  <a:cubicBezTo>
                    <a:pt x="17929" y="13196"/>
                    <a:pt x="17946" y="13184"/>
                    <a:pt x="17955" y="13169"/>
                  </a:cubicBezTo>
                  <a:cubicBezTo>
                    <a:pt x="17963" y="13155"/>
                    <a:pt x="17963" y="13137"/>
                    <a:pt x="17957" y="13120"/>
                  </a:cubicBezTo>
                  <a:cubicBezTo>
                    <a:pt x="17951" y="13101"/>
                    <a:pt x="17940" y="13088"/>
                    <a:pt x="17926" y="13077"/>
                  </a:cubicBezTo>
                  <a:cubicBezTo>
                    <a:pt x="17912" y="13066"/>
                    <a:pt x="17895" y="13057"/>
                    <a:pt x="17877" y="13044"/>
                  </a:cubicBezTo>
                  <a:cubicBezTo>
                    <a:pt x="18031" y="13044"/>
                    <a:pt x="18192" y="13032"/>
                    <a:pt x="18333" y="13032"/>
                  </a:cubicBezTo>
                  <a:cubicBezTo>
                    <a:pt x="18358" y="13032"/>
                    <a:pt x="18383" y="13032"/>
                    <a:pt x="18395" y="13023"/>
                  </a:cubicBezTo>
                  <a:cubicBezTo>
                    <a:pt x="18414" y="13015"/>
                    <a:pt x="18420" y="13000"/>
                    <a:pt x="18420" y="12983"/>
                  </a:cubicBezTo>
                  <a:cubicBezTo>
                    <a:pt x="18420" y="12965"/>
                    <a:pt x="18414" y="12945"/>
                    <a:pt x="18407" y="12926"/>
                  </a:cubicBezTo>
                  <a:cubicBezTo>
                    <a:pt x="18401" y="12910"/>
                    <a:pt x="18407" y="12890"/>
                    <a:pt x="18422" y="12876"/>
                  </a:cubicBezTo>
                  <a:cubicBezTo>
                    <a:pt x="18437" y="12863"/>
                    <a:pt x="18460" y="12857"/>
                    <a:pt x="18488" y="12867"/>
                  </a:cubicBezTo>
                  <a:cubicBezTo>
                    <a:pt x="18429" y="12823"/>
                    <a:pt x="18341" y="12808"/>
                    <a:pt x="18253" y="12792"/>
                  </a:cubicBezTo>
                  <a:cubicBezTo>
                    <a:pt x="18165" y="12776"/>
                    <a:pt x="18077" y="12760"/>
                    <a:pt x="18019" y="12716"/>
                  </a:cubicBezTo>
                  <a:cubicBezTo>
                    <a:pt x="17982" y="12693"/>
                    <a:pt x="17956" y="12659"/>
                    <a:pt x="17926" y="12630"/>
                  </a:cubicBezTo>
                  <a:cubicBezTo>
                    <a:pt x="17897" y="12601"/>
                    <a:pt x="17865" y="12577"/>
                    <a:pt x="17815" y="12573"/>
                  </a:cubicBezTo>
                  <a:lnTo>
                    <a:pt x="17710" y="12573"/>
                  </a:lnTo>
                  <a:cubicBezTo>
                    <a:pt x="17670" y="12569"/>
                    <a:pt x="17641" y="12554"/>
                    <a:pt x="17625" y="12534"/>
                  </a:cubicBezTo>
                  <a:cubicBezTo>
                    <a:pt x="17608" y="12513"/>
                    <a:pt x="17605" y="12487"/>
                    <a:pt x="17618" y="12459"/>
                  </a:cubicBezTo>
                  <a:cubicBezTo>
                    <a:pt x="17612" y="12447"/>
                    <a:pt x="17612" y="12436"/>
                    <a:pt x="17615" y="12425"/>
                  </a:cubicBezTo>
                  <a:cubicBezTo>
                    <a:pt x="17618" y="12414"/>
                    <a:pt x="17624" y="12403"/>
                    <a:pt x="17630" y="12388"/>
                  </a:cubicBezTo>
                  <a:cubicBezTo>
                    <a:pt x="17645" y="12392"/>
                    <a:pt x="17662" y="12394"/>
                    <a:pt x="17680" y="12395"/>
                  </a:cubicBezTo>
                  <a:cubicBezTo>
                    <a:pt x="17698" y="12396"/>
                    <a:pt x="17716" y="12396"/>
                    <a:pt x="17735" y="12396"/>
                  </a:cubicBezTo>
                  <a:cubicBezTo>
                    <a:pt x="17741" y="12401"/>
                    <a:pt x="17744" y="12406"/>
                    <a:pt x="17747" y="12411"/>
                  </a:cubicBezTo>
                  <a:cubicBezTo>
                    <a:pt x="17750" y="12416"/>
                    <a:pt x="17753" y="12422"/>
                    <a:pt x="17760" y="12426"/>
                  </a:cubicBezTo>
                  <a:cubicBezTo>
                    <a:pt x="17818" y="12403"/>
                    <a:pt x="17883" y="12405"/>
                    <a:pt x="17945" y="12420"/>
                  </a:cubicBezTo>
                  <a:cubicBezTo>
                    <a:pt x="18006" y="12435"/>
                    <a:pt x="18065" y="12464"/>
                    <a:pt x="18111" y="12493"/>
                  </a:cubicBezTo>
                  <a:cubicBezTo>
                    <a:pt x="18164" y="12525"/>
                    <a:pt x="18216" y="12556"/>
                    <a:pt x="18273" y="12579"/>
                  </a:cubicBezTo>
                  <a:cubicBezTo>
                    <a:pt x="18330" y="12601"/>
                    <a:pt x="18392" y="12615"/>
                    <a:pt x="18463" y="12611"/>
                  </a:cubicBezTo>
                  <a:cubicBezTo>
                    <a:pt x="18441" y="12588"/>
                    <a:pt x="18457" y="12566"/>
                    <a:pt x="18476" y="12544"/>
                  </a:cubicBezTo>
                  <a:cubicBezTo>
                    <a:pt x="18495" y="12521"/>
                    <a:pt x="18519" y="12499"/>
                    <a:pt x="18512" y="12476"/>
                  </a:cubicBezTo>
                  <a:cubicBezTo>
                    <a:pt x="18512" y="12468"/>
                    <a:pt x="18509" y="12462"/>
                    <a:pt x="18505" y="12456"/>
                  </a:cubicBezTo>
                  <a:cubicBezTo>
                    <a:pt x="18500" y="12451"/>
                    <a:pt x="18494" y="12447"/>
                    <a:pt x="18488" y="12443"/>
                  </a:cubicBezTo>
                  <a:cubicBezTo>
                    <a:pt x="18448" y="12403"/>
                    <a:pt x="18409" y="12363"/>
                    <a:pt x="18369" y="12323"/>
                  </a:cubicBezTo>
                  <a:cubicBezTo>
                    <a:pt x="18329" y="12283"/>
                    <a:pt x="18287" y="12243"/>
                    <a:pt x="18241" y="12203"/>
                  </a:cubicBezTo>
                  <a:cubicBezTo>
                    <a:pt x="18272" y="12199"/>
                    <a:pt x="18307" y="12201"/>
                    <a:pt x="18340" y="12210"/>
                  </a:cubicBezTo>
                  <a:cubicBezTo>
                    <a:pt x="18372" y="12219"/>
                    <a:pt x="18401" y="12234"/>
                    <a:pt x="18420" y="12258"/>
                  </a:cubicBezTo>
                  <a:cubicBezTo>
                    <a:pt x="18448" y="12274"/>
                    <a:pt x="18465" y="12294"/>
                    <a:pt x="18478" y="12316"/>
                  </a:cubicBezTo>
                  <a:cubicBezTo>
                    <a:pt x="18491" y="12338"/>
                    <a:pt x="18500" y="12363"/>
                    <a:pt x="18512" y="12388"/>
                  </a:cubicBezTo>
                  <a:cubicBezTo>
                    <a:pt x="18577" y="12344"/>
                    <a:pt x="18642" y="12300"/>
                    <a:pt x="18708" y="12256"/>
                  </a:cubicBezTo>
                  <a:cubicBezTo>
                    <a:pt x="18775" y="12213"/>
                    <a:pt x="18842" y="12171"/>
                    <a:pt x="18913" y="12131"/>
                  </a:cubicBezTo>
                  <a:cubicBezTo>
                    <a:pt x="18953" y="12106"/>
                    <a:pt x="18998" y="12078"/>
                    <a:pt x="19030" y="12047"/>
                  </a:cubicBezTo>
                  <a:cubicBezTo>
                    <a:pt x="19061" y="12016"/>
                    <a:pt x="19080" y="11982"/>
                    <a:pt x="19068" y="11946"/>
                  </a:cubicBezTo>
                  <a:cubicBezTo>
                    <a:pt x="19021" y="11929"/>
                    <a:pt x="18967" y="11927"/>
                    <a:pt x="18920" y="11938"/>
                  </a:cubicBezTo>
                  <a:cubicBezTo>
                    <a:pt x="18872" y="11949"/>
                    <a:pt x="18830" y="11974"/>
                    <a:pt x="18808" y="12009"/>
                  </a:cubicBezTo>
                  <a:cubicBezTo>
                    <a:pt x="18691" y="11967"/>
                    <a:pt x="18642" y="11858"/>
                    <a:pt x="18642" y="11770"/>
                  </a:cubicBezTo>
                  <a:cubicBezTo>
                    <a:pt x="18642" y="11736"/>
                    <a:pt x="18642" y="11698"/>
                    <a:pt x="18630" y="11664"/>
                  </a:cubicBezTo>
                  <a:cubicBezTo>
                    <a:pt x="18623" y="11645"/>
                    <a:pt x="18606" y="11628"/>
                    <a:pt x="18585" y="11616"/>
                  </a:cubicBezTo>
                  <a:cubicBezTo>
                    <a:pt x="18563" y="11604"/>
                    <a:pt x="18537" y="11599"/>
                    <a:pt x="18512" y="11606"/>
                  </a:cubicBezTo>
                  <a:cubicBezTo>
                    <a:pt x="18537" y="11587"/>
                    <a:pt x="18563" y="11567"/>
                    <a:pt x="18589" y="11546"/>
                  </a:cubicBezTo>
                  <a:cubicBezTo>
                    <a:pt x="18616" y="11525"/>
                    <a:pt x="18642" y="11502"/>
                    <a:pt x="18667" y="11479"/>
                  </a:cubicBezTo>
                  <a:cubicBezTo>
                    <a:pt x="18654" y="11475"/>
                    <a:pt x="18639" y="11473"/>
                    <a:pt x="18623" y="11471"/>
                  </a:cubicBezTo>
                  <a:cubicBezTo>
                    <a:pt x="18606" y="11469"/>
                    <a:pt x="18589" y="11467"/>
                    <a:pt x="18574" y="11463"/>
                  </a:cubicBezTo>
                  <a:cubicBezTo>
                    <a:pt x="18633" y="11427"/>
                    <a:pt x="18665" y="11378"/>
                    <a:pt x="18672" y="11328"/>
                  </a:cubicBezTo>
                  <a:cubicBezTo>
                    <a:pt x="18679" y="11277"/>
                    <a:pt x="18660" y="11225"/>
                    <a:pt x="18617" y="11181"/>
                  </a:cubicBezTo>
                  <a:cubicBezTo>
                    <a:pt x="18617" y="11193"/>
                    <a:pt x="18620" y="11204"/>
                    <a:pt x="18623" y="11215"/>
                  </a:cubicBezTo>
                  <a:cubicBezTo>
                    <a:pt x="18626" y="11226"/>
                    <a:pt x="18630" y="11237"/>
                    <a:pt x="18630" y="11252"/>
                  </a:cubicBezTo>
                  <a:cubicBezTo>
                    <a:pt x="18611" y="11229"/>
                    <a:pt x="18588" y="11209"/>
                    <a:pt x="18565" y="11189"/>
                  </a:cubicBezTo>
                  <a:cubicBezTo>
                    <a:pt x="18542" y="11169"/>
                    <a:pt x="18519" y="11149"/>
                    <a:pt x="18500" y="11126"/>
                  </a:cubicBezTo>
                  <a:cubicBezTo>
                    <a:pt x="18525" y="11113"/>
                    <a:pt x="18551" y="11105"/>
                    <a:pt x="18579" y="11100"/>
                  </a:cubicBezTo>
                  <a:cubicBezTo>
                    <a:pt x="18606" y="11094"/>
                    <a:pt x="18636" y="11092"/>
                    <a:pt x="18667" y="11092"/>
                  </a:cubicBezTo>
                  <a:cubicBezTo>
                    <a:pt x="18654" y="11044"/>
                    <a:pt x="18642" y="10996"/>
                    <a:pt x="18631" y="10947"/>
                  </a:cubicBezTo>
                  <a:cubicBezTo>
                    <a:pt x="18620" y="10899"/>
                    <a:pt x="18611" y="10850"/>
                    <a:pt x="18605" y="10802"/>
                  </a:cubicBezTo>
                  <a:cubicBezTo>
                    <a:pt x="18589" y="10754"/>
                    <a:pt x="18576" y="10702"/>
                    <a:pt x="18559" y="10651"/>
                  </a:cubicBezTo>
                  <a:cubicBezTo>
                    <a:pt x="18543" y="10599"/>
                    <a:pt x="18525" y="10548"/>
                    <a:pt x="18500" y="10499"/>
                  </a:cubicBezTo>
                  <a:cubicBezTo>
                    <a:pt x="18488" y="10482"/>
                    <a:pt x="18474" y="10466"/>
                    <a:pt x="18461" y="10448"/>
                  </a:cubicBezTo>
                  <a:cubicBezTo>
                    <a:pt x="18449" y="10431"/>
                    <a:pt x="18438" y="10413"/>
                    <a:pt x="18432" y="10394"/>
                  </a:cubicBezTo>
                  <a:cubicBezTo>
                    <a:pt x="18420" y="10354"/>
                    <a:pt x="18417" y="10306"/>
                    <a:pt x="18402" y="10264"/>
                  </a:cubicBezTo>
                  <a:cubicBezTo>
                    <a:pt x="18387" y="10223"/>
                    <a:pt x="18361" y="10188"/>
                    <a:pt x="18303" y="10175"/>
                  </a:cubicBezTo>
                  <a:cubicBezTo>
                    <a:pt x="18318" y="10140"/>
                    <a:pt x="18323" y="10102"/>
                    <a:pt x="18318" y="10065"/>
                  </a:cubicBezTo>
                  <a:cubicBezTo>
                    <a:pt x="18313" y="10028"/>
                    <a:pt x="18299" y="9992"/>
                    <a:pt x="18278" y="9961"/>
                  </a:cubicBezTo>
                  <a:cubicBezTo>
                    <a:pt x="18303" y="9936"/>
                    <a:pt x="18370" y="9936"/>
                    <a:pt x="18407" y="9952"/>
                  </a:cubicBezTo>
                  <a:cubicBezTo>
                    <a:pt x="18444" y="9969"/>
                    <a:pt x="18475" y="9999"/>
                    <a:pt x="18525" y="10016"/>
                  </a:cubicBezTo>
                  <a:cubicBezTo>
                    <a:pt x="18543" y="10024"/>
                    <a:pt x="18572" y="10024"/>
                    <a:pt x="18597" y="10019"/>
                  </a:cubicBezTo>
                  <a:cubicBezTo>
                    <a:pt x="18622" y="10013"/>
                    <a:pt x="18642" y="10003"/>
                    <a:pt x="18642" y="9990"/>
                  </a:cubicBezTo>
                  <a:cubicBezTo>
                    <a:pt x="18679" y="10121"/>
                    <a:pt x="18722" y="10272"/>
                    <a:pt x="18864" y="10369"/>
                  </a:cubicBezTo>
                  <a:cubicBezTo>
                    <a:pt x="18889" y="10386"/>
                    <a:pt x="18913" y="10394"/>
                    <a:pt x="18913" y="10419"/>
                  </a:cubicBezTo>
                  <a:cubicBezTo>
                    <a:pt x="18913" y="10440"/>
                    <a:pt x="18901" y="10457"/>
                    <a:pt x="18889" y="10474"/>
                  </a:cubicBezTo>
                  <a:cubicBezTo>
                    <a:pt x="18861" y="10522"/>
                    <a:pt x="18896" y="10567"/>
                    <a:pt x="18940" y="10611"/>
                  </a:cubicBezTo>
                  <a:cubicBezTo>
                    <a:pt x="18984" y="10655"/>
                    <a:pt x="19037" y="10699"/>
                    <a:pt x="19043" y="10747"/>
                  </a:cubicBezTo>
                  <a:lnTo>
                    <a:pt x="19043" y="10819"/>
                  </a:lnTo>
                  <a:cubicBezTo>
                    <a:pt x="19049" y="10832"/>
                    <a:pt x="19061" y="10842"/>
                    <a:pt x="19076" y="10847"/>
                  </a:cubicBezTo>
                  <a:cubicBezTo>
                    <a:pt x="19091" y="10853"/>
                    <a:pt x="19108" y="10853"/>
                    <a:pt x="19123" y="10844"/>
                  </a:cubicBezTo>
                  <a:cubicBezTo>
                    <a:pt x="19123" y="10764"/>
                    <a:pt x="19115" y="10685"/>
                    <a:pt x="19102" y="10608"/>
                  </a:cubicBezTo>
                  <a:cubicBezTo>
                    <a:pt x="19088" y="10530"/>
                    <a:pt x="19068" y="10453"/>
                    <a:pt x="19043" y="10377"/>
                  </a:cubicBezTo>
                  <a:cubicBezTo>
                    <a:pt x="19031" y="10341"/>
                    <a:pt x="19014" y="10303"/>
                    <a:pt x="19002" y="10263"/>
                  </a:cubicBezTo>
                  <a:cubicBezTo>
                    <a:pt x="18990" y="10224"/>
                    <a:pt x="18984" y="10184"/>
                    <a:pt x="18994" y="10146"/>
                  </a:cubicBezTo>
                  <a:cubicBezTo>
                    <a:pt x="19000" y="10106"/>
                    <a:pt x="19012" y="10067"/>
                    <a:pt x="19036" y="10033"/>
                  </a:cubicBezTo>
                  <a:cubicBezTo>
                    <a:pt x="19060" y="10000"/>
                    <a:pt x="19095" y="9971"/>
                    <a:pt x="19148" y="9952"/>
                  </a:cubicBezTo>
                  <a:cubicBezTo>
                    <a:pt x="19108" y="9952"/>
                    <a:pt x="19085" y="9932"/>
                    <a:pt x="19075" y="9907"/>
                  </a:cubicBezTo>
                  <a:cubicBezTo>
                    <a:pt x="19065" y="9882"/>
                    <a:pt x="19068" y="9851"/>
                    <a:pt x="19080" y="9830"/>
                  </a:cubicBezTo>
                  <a:cubicBezTo>
                    <a:pt x="19092" y="9807"/>
                    <a:pt x="19115" y="9783"/>
                    <a:pt x="19134" y="9759"/>
                  </a:cubicBezTo>
                  <a:cubicBezTo>
                    <a:pt x="19152" y="9735"/>
                    <a:pt x="19166" y="9711"/>
                    <a:pt x="19160" y="9687"/>
                  </a:cubicBezTo>
                  <a:cubicBezTo>
                    <a:pt x="19148" y="9662"/>
                    <a:pt x="19123" y="9637"/>
                    <a:pt x="19123" y="9607"/>
                  </a:cubicBezTo>
                  <a:cubicBezTo>
                    <a:pt x="19123" y="9574"/>
                    <a:pt x="19160" y="9540"/>
                    <a:pt x="19172" y="9502"/>
                  </a:cubicBezTo>
                  <a:cubicBezTo>
                    <a:pt x="19185" y="9443"/>
                    <a:pt x="19117" y="9385"/>
                    <a:pt x="19055" y="9334"/>
                  </a:cubicBezTo>
                  <a:cubicBezTo>
                    <a:pt x="18987" y="9279"/>
                    <a:pt x="18950" y="9212"/>
                    <a:pt x="19006" y="9157"/>
                  </a:cubicBezTo>
                  <a:cubicBezTo>
                    <a:pt x="18978" y="9157"/>
                    <a:pt x="18958" y="9149"/>
                    <a:pt x="18942" y="9137"/>
                  </a:cubicBezTo>
                  <a:cubicBezTo>
                    <a:pt x="18926" y="9126"/>
                    <a:pt x="18913" y="9111"/>
                    <a:pt x="18901" y="9099"/>
                  </a:cubicBezTo>
                  <a:cubicBezTo>
                    <a:pt x="18867" y="9050"/>
                    <a:pt x="18847" y="8996"/>
                    <a:pt x="18842" y="8943"/>
                  </a:cubicBezTo>
                  <a:cubicBezTo>
                    <a:pt x="18838" y="8889"/>
                    <a:pt x="18849" y="8836"/>
                    <a:pt x="18876" y="8787"/>
                  </a:cubicBezTo>
                  <a:cubicBezTo>
                    <a:pt x="18895" y="8747"/>
                    <a:pt x="18920" y="8710"/>
                    <a:pt x="18948" y="8675"/>
                  </a:cubicBezTo>
                  <a:cubicBezTo>
                    <a:pt x="18977" y="8639"/>
                    <a:pt x="19009" y="8604"/>
                    <a:pt x="19043" y="8568"/>
                  </a:cubicBezTo>
                  <a:cubicBezTo>
                    <a:pt x="19024" y="8533"/>
                    <a:pt x="19018" y="8493"/>
                    <a:pt x="19023" y="8453"/>
                  </a:cubicBezTo>
                  <a:cubicBezTo>
                    <a:pt x="19028" y="8413"/>
                    <a:pt x="19043" y="8373"/>
                    <a:pt x="19068" y="8337"/>
                  </a:cubicBezTo>
                  <a:cubicBezTo>
                    <a:pt x="19037" y="8341"/>
                    <a:pt x="19001" y="8343"/>
                    <a:pt x="18972" y="8339"/>
                  </a:cubicBezTo>
                  <a:cubicBezTo>
                    <a:pt x="18943" y="8335"/>
                    <a:pt x="18920" y="8325"/>
                    <a:pt x="18913" y="8303"/>
                  </a:cubicBezTo>
                  <a:cubicBezTo>
                    <a:pt x="18913" y="8295"/>
                    <a:pt x="18916" y="8289"/>
                    <a:pt x="18921" y="8282"/>
                  </a:cubicBezTo>
                  <a:cubicBezTo>
                    <a:pt x="18926" y="8275"/>
                    <a:pt x="18932" y="8268"/>
                    <a:pt x="18938" y="8257"/>
                  </a:cubicBezTo>
                  <a:cubicBezTo>
                    <a:pt x="18957" y="8228"/>
                    <a:pt x="18941" y="8189"/>
                    <a:pt x="18930" y="8152"/>
                  </a:cubicBezTo>
                  <a:cubicBezTo>
                    <a:pt x="18920" y="8114"/>
                    <a:pt x="18913" y="8078"/>
                    <a:pt x="18950" y="8055"/>
                  </a:cubicBezTo>
                  <a:cubicBezTo>
                    <a:pt x="18963" y="8047"/>
                    <a:pt x="18980" y="8043"/>
                    <a:pt x="18998" y="8040"/>
                  </a:cubicBezTo>
                  <a:cubicBezTo>
                    <a:pt x="19017" y="8036"/>
                    <a:pt x="19037" y="8034"/>
                    <a:pt x="19055" y="8030"/>
                  </a:cubicBezTo>
                  <a:cubicBezTo>
                    <a:pt x="19102" y="8017"/>
                    <a:pt x="19122" y="7989"/>
                    <a:pt x="19126" y="7956"/>
                  </a:cubicBezTo>
                  <a:cubicBezTo>
                    <a:pt x="19131" y="7923"/>
                    <a:pt x="19120" y="7885"/>
                    <a:pt x="19105" y="7853"/>
                  </a:cubicBezTo>
                  <a:cubicBezTo>
                    <a:pt x="19092" y="7822"/>
                    <a:pt x="19083" y="7784"/>
                    <a:pt x="19087" y="7751"/>
                  </a:cubicBezTo>
                  <a:cubicBezTo>
                    <a:pt x="19091" y="7718"/>
                    <a:pt x="19108" y="7689"/>
                    <a:pt x="19148" y="7677"/>
                  </a:cubicBezTo>
                  <a:cubicBezTo>
                    <a:pt x="19160" y="7673"/>
                    <a:pt x="19172" y="7670"/>
                    <a:pt x="19185" y="7668"/>
                  </a:cubicBezTo>
                  <a:cubicBezTo>
                    <a:pt x="19197" y="7666"/>
                    <a:pt x="19210" y="7664"/>
                    <a:pt x="19222" y="7660"/>
                  </a:cubicBezTo>
                  <a:cubicBezTo>
                    <a:pt x="19250" y="7647"/>
                    <a:pt x="19263" y="7629"/>
                    <a:pt x="19272" y="7609"/>
                  </a:cubicBezTo>
                  <a:cubicBezTo>
                    <a:pt x="19280" y="7589"/>
                    <a:pt x="19284" y="7567"/>
                    <a:pt x="19290" y="7546"/>
                  </a:cubicBezTo>
                  <a:cubicBezTo>
                    <a:pt x="19296" y="7502"/>
                    <a:pt x="19314" y="7460"/>
                    <a:pt x="19334" y="7418"/>
                  </a:cubicBezTo>
                  <a:cubicBezTo>
                    <a:pt x="19353" y="7376"/>
                    <a:pt x="19373" y="7334"/>
                    <a:pt x="19382" y="7290"/>
                  </a:cubicBezTo>
                  <a:cubicBezTo>
                    <a:pt x="19388" y="7246"/>
                    <a:pt x="19371" y="7197"/>
                    <a:pt x="19337" y="7160"/>
                  </a:cubicBezTo>
                  <a:cubicBezTo>
                    <a:pt x="19302" y="7123"/>
                    <a:pt x="19250" y="7096"/>
                    <a:pt x="19185" y="7096"/>
                  </a:cubicBezTo>
                  <a:cubicBezTo>
                    <a:pt x="19191" y="7161"/>
                    <a:pt x="19159" y="7230"/>
                    <a:pt x="19101" y="7285"/>
                  </a:cubicBezTo>
                  <a:cubicBezTo>
                    <a:pt x="19043" y="7340"/>
                    <a:pt x="18960" y="7382"/>
                    <a:pt x="18864" y="7395"/>
                  </a:cubicBezTo>
                  <a:cubicBezTo>
                    <a:pt x="18842" y="7342"/>
                    <a:pt x="18839" y="7287"/>
                    <a:pt x="18849" y="7231"/>
                  </a:cubicBezTo>
                  <a:cubicBezTo>
                    <a:pt x="18859" y="7175"/>
                    <a:pt x="18883" y="7119"/>
                    <a:pt x="18913" y="7067"/>
                  </a:cubicBezTo>
                  <a:cubicBezTo>
                    <a:pt x="18873" y="7058"/>
                    <a:pt x="18847" y="7036"/>
                    <a:pt x="18829" y="7009"/>
                  </a:cubicBezTo>
                  <a:cubicBezTo>
                    <a:pt x="18812" y="6982"/>
                    <a:pt x="18802" y="6949"/>
                    <a:pt x="18796" y="6920"/>
                  </a:cubicBezTo>
                  <a:cubicBezTo>
                    <a:pt x="18790" y="6871"/>
                    <a:pt x="18784" y="6820"/>
                    <a:pt x="18776" y="6768"/>
                  </a:cubicBezTo>
                  <a:cubicBezTo>
                    <a:pt x="18768" y="6717"/>
                    <a:pt x="18759" y="6665"/>
                    <a:pt x="18747" y="6617"/>
                  </a:cubicBezTo>
                  <a:cubicBezTo>
                    <a:pt x="18784" y="6503"/>
                    <a:pt x="19031" y="6457"/>
                    <a:pt x="19148" y="6537"/>
                  </a:cubicBezTo>
                  <a:cubicBezTo>
                    <a:pt x="19172" y="6554"/>
                    <a:pt x="19185" y="6583"/>
                    <a:pt x="19222" y="6583"/>
                  </a:cubicBezTo>
                  <a:cubicBezTo>
                    <a:pt x="19222" y="6520"/>
                    <a:pt x="19382" y="6495"/>
                    <a:pt x="19382" y="6432"/>
                  </a:cubicBezTo>
                  <a:cubicBezTo>
                    <a:pt x="19382" y="6415"/>
                    <a:pt x="19364" y="6398"/>
                    <a:pt x="19364" y="6381"/>
                  </a:cubicBezTo>
                  <a:cubicBezTo>
                    <a:pt x="19364" y="6360"/>
                    <a:pt x="19382" y="6335"/>
                    <a:pt x="19395" y="6318"/>
                  </a:cubicBezTo>
                  <a:cubicBezTo>
                    <a:pt x="19444" y="6253"/>
                    <a:pt x="19486" y="6187"/>
                    <a:pt x="19521" y="6119"/>
                  </a:cubicBezTo>
                  <a:cubicBezTo>
                    <a:pt x="19557" y="6051"/>
                    <a:pt x="19586" y="5982"/>
                    <a:pt x="19611" y="5910"/>
                  </a:cubicBezTo>
                  <a:cubicBezTo>
                    <a:pt x="19632" y="5925"/>
                    <a:pt x="19658" y="5925"/>
                    <a:pt x="19682" y="5917"/>
                  </a:cubicBezTo>
                  <a:cubicBezTo>
                    <a:pt x="19706" y="5909"/>
                    <a:pt x="19728" y="5893"/>
                    <a:pt x="19740" y="5876"/>
                  </a:cubicBezTo>
                  <a:cubicBezTo>
                    <a:pt x="19746" y="5860"/>
                    <a:pt x="19749" y="5840"/>
                    <a:pt x="19755" y="5821"/>
                  </a:cubicBezTo>
                  <a:cubicBezTo>
                    <a:pt x="19760" y="5802"/>
                    <a:pt x="19768" y="5784"/>
                    <a:pt x="19783" y="5771"/>
                  </a:cubicBezTo>
                  <a:cubicBezTo>
                    <a:pt x="19796" y="5759"/>
                    <a:pt x="19811" y="5747"/>
                    <a:pt x="19826" y="5737"/>
                  </a:cubicBezTo>
                  <a:cubicBezTo>
                    <a:pt x="19842" y="5726"/>
                    <a:pt x="19857" y="5717"/>
                    <a:pt x="19870" y="5708"/>
                  </a:cubicBezTo>
                  <a:cubicBezTo>
                    <a:pt x="19928" y="5672"/>
                    <a:pt x="19971" y="5628"/>
                    <a:pt x="19998" y="5580"/>
                  </a:cubicBezTo>
                  <a:cubicBezTo>
                    <a:pt x="20024" y="5531"/>
                    <a:pt x="20033" y="5479"/>
                    <a:pt x="20024" y="5426"/>
                  </a:cubicBezTo>
                  <a:cubicBezTo>
                    <a:pt x="19968" y="5418"/>
                    <a:pt x="19917" y="5389"/>
                    <a:pt x="19884" y="5353"/>
                  </a:cubicBezTo>
                  <a:cubicBezTo>
                    <a:pt x="19850" y="5317"/>
                    <a:pt x="19833" y="5273"/>
                    <a:pt x="19845" y="5233"/>
                  </a:cubicBezTo>
                  <a:cubicBezTo>
                    <a:pt x="19879" y="5241"/>
                    <a:pt x="19908" y="5250"/>
                    <a:pt x="19937" y="5259"/>
                  </a:cubicBezTo>
                  <a:cubicBezTo>
                    <a:pt x="19965" y="5267"/>
                    <a:pt x="19993" y="5277"/>
                    <a:pt x="20024" y="5287"/>
                  </a:cubicBezTo>
                  <a:cubicBezTo>
                    <a:pt x="20052" y="5243"/>
                    <a:pt x="20075" y="5199"/>
                    <a:pt x="20097" y="5155"/>
                  </a:cubicBezTo>
                  <a:cubicBezTo>
                    <a:pt x="20120" y="5111"/>
                    <a:pt x="20141" y="5067"/>
                    <a:pt x="20166" y="5022"/>
                  </a:cubicBezTo>
                  <a:cubicBezTo>
                    <a:pt x="20206" y="5039"/>
                    <a:pt x="20255" y="5052"/>
                    <a:pt x="20306" y="5057"/>
                  </a:cubicBezTo>
                  <a:cubicBezTo>
                    <a:pt x="20357" y="5062"/>
                    <a:pt x="20410" y="5060"/>
                    <a:pt x="20456" y="5048"/>
                  </a:cubicBezTo>
                  <a:cubicBezTo>
                    <a:pt x="20450" y="5031"/>
                    <a:pt x="20453" y="5013"/>
                    <a:pt x="20462" y="4997"/>
                  </a:cubicBezTo>
                  <a:cubicBezTo>
                    <a:pt x="20471" y="4981"/>
                    <a:pt x="20487" y="4968"/>
                    <a:pt x="20505" y="4959"/>
                  </a:cubicBezTo>
                  <a:cubicBezTo>
                    <a:pt x="20530" y="4951"/>
                    <a:pt x="20554" y="4943"/>
                    <a:pt x="20554" y="4926"/>
                  </a:cubicBezTo>
                  <a:cubicBezTo>
                    <a:pt x="20554" y="4913"/>
                    <a:pt x="20554" y="4896"/>
                    <a:pt x="20542" y="4888"/>
                  </a:cubicBezTo>
                  <a:cubicBezTo>
                    <a:pt x="20524" y="4867"/>
                    <a:pt x="20505" y="4843"/>
                    <a:pt x="20486" y="4818"/>
                  </a:cubicBezTo>
                  <a:cubicBezTo>
                    <a:pt x="20467" y="4794"/>
                    <a:pt x="20447" y="4770"/>
                    <a:pt x="20425" y="4749"/>
                  </a:cubicBezTo>
                  <a:cubicBezTo>
                    <a:pt x="20459" y="4739"/>
                    <a:pt x="20496" y="4733"/>
                    <a:pt x="20532" y="4734"/>
                  </a:cubicBezTo>
                  <a:cubicBezTo>
                    <a:pt x="20568" y="4735"/>
                    <a:pt x="20604" y="4743"/>
                    <a:pt x="20635" y="4757"/>
                  </a:cubicBezTo>
                  <a:cubicBezTo>
                    <a:pt x="20647" y="4766"/>
                    <a:pt x="20659" y="4774"/>
                    <a:pt x="20674" y="4781"/>
                  </a:cubicBezTo>
                  <a:cubicBezTo>
                    <a:pt x="20689" y="4787"/>
                    <a:pt x="20706" y="4791"/>
                    <a:pt x="20727" y="4791"/>
                  </a:cubicBezTo>
                  <a:cubicBezTo>
                    <a:pt x="20752" y="4795"/>
                    <a:pt x="20774" y="4787"/>
                    <a:pt x="20793" y="4774"/>
                  </a:cubicBezTo>
                  <a:cubicBezTo>
                    <a:pt x="20812" y="4761"/>
                    <a:pt x="20829" y="4743"/>
                    <a:pt x="20844" y="4728"/>
                  </a:cubicBezTo>
                  <a:cubicBezTo>
                    <a:pt x="20863" y="4707"/>
                    <a:pt x="20878" y="4687"/>
                    <a:pt x="20889" y="4667"/>
                  </a:cubicBezTo>
                  <a:cubicBezTo>
                    <a:pt x="20900" y="4647"/>
                    <a:pt x="20906" y="4627"/>
                    <a:pt x="20906" y="4606"/>
                  </a:cubicBezTo>
                  <a:cubicBezTo>
                    <a:pt x="20912" y="4545"/>
                    <a:pt x="20865" y="4487"/>
                    <a:pt x="20821" y="4430"/>
                  </a:cubicBezTo>
                  <a:cubicBezTo>
                    <a:pt x="20778" y="4374"/>
                    <a:pt x="20740" y="4318"/>
                    <a:pt x="20764" y="4261"/>
                  </a:cubicBezTo>
                  <a:cubicBezTo>
                    <a:pt x="20823" y="4293"/>
                    <a:pt x="20881" y="4326"/>
                    <a:pt x="20936" y="4363"/>
                  </a:cubicBezTo>
                  <a:cubicBezTo>
                    <a:pt x="20991" y="4400"/>
                    <a:pt x="21042" y="4440"/>
                    <a:pt x="21085" y="4484"/>
                  </a:cubicBezTo>
                  <a:cubicBezTo>
                    <a:pt x="21125" y="4440"/>
                    <a:pt x="21165" y="4394"/>
                    <a:pt x="21213" y="4355"/>
                  </a:cubicBezTo>
                  <a:cubicBezTo>
                    <a:pt x="21261" y="4316"/>
                    <a:pt x="21316" y="4284"/>
                    <a:pt x="21387" y="4270"/>
                  </a:cubicBezTo>
                  <a:cubicBezTo>
                    <a:pt x="21412" y="4265"/>
                    <a:pt x="21437" y="4261"/>
                    <a:pt x="21459" y="4256"/>
                  </a:cubicBezTo>
                  <a:cubicBezTo>
                    <a:pt x="21481" y="4251"/>
                    <a:pt x="21502" y="4244"/>
                    <a:pt x="21517" y="4236"/>
                  </a:cubicBezTo>
                  <a:cubicBezTo>
                    <a:pt x="21535" y="4223"/>
                    <a:pt x="21542" y="4203"/>
                    <a:pt x="21536" y="4186"/>
                  </a:cubicBezTo>
                  <a:cubicBezTo>
                    <a:pt x="21531" y="4170"/>
                    <a:pt x="21514" y="4156"/>
                    <a:pt x="21486" y="4156"/>
                  </a:cubicBezTo>
                  <a:cubicBezTo>
                    <a:pt x="21566" y="4139"/>
                    <a:pt x="21579" y="4076"/>
                    <a:pt x="21579" y="4026"/>
                  </a:cubicBezTo>
                  <a:cubicBezTo>
                    <a:pt x="21579" y="3971"/>
                    <a:pt x="21554" y="3916"/>
                    <a:pt x="21591" y="3866"/>
                  </a:cubicBezTo>
                  <a:cubicBezTo>
                    <a:pt x="21526" y="3866"/>
                    <a:pt x="21505" y="3826"/>
                    <a:pt x="21486" y="3782"/>
                  </a:cubicBezTo>
                  <a:cubicBezTo>
                    <a:pt x="21468" y="3737"/>
                    <a:pt x="21452" y="3689"/>
                    <a:pt x="21400" y="3672"/>
                  </a:cubicBezTo>
                  <a:cubicBezTo>
                    <a:pt x="21366" y="3657"/>
                    <a:pt x="21324" y="3655"/>
                    <a:pt x="21289" y="3651"/>
                  </a:cubicBezTo>
                  <a:cubicBezTo>
                    <a:pt x="21253" y="3647"/>
                    <a:pt x="21224" y="3641"/>
                    <a:pt x="21215" y="3618"/>
                  </a:cubicBezTo>
                  <a:cubicBezTo>
                    <a:pt x="21184" y="3630"/>
                    <a:pt x="21151" y="3639"/>
                    <a:pt x="21119" y="3644"/>
                  </a:cubicBezTo>
                  <a:cubicBezTo>
                    <a:pt x="21087" y="3649"/>
                    <a:pt x="21054" y="3651"/>
                    <a:pt x="21023" y="3651"/>
                  </a:cubicBezTo>
                  <a:cubicBezTo>
                    <a:pt x="21005" y="3626"/>
                    <a:pt x="20988" y="3598"/>
                    <a:pt x="20969" y="3569"/>
                  </a:cubicBezTo>
                  <a:cubicBezTo>
                    <a:pt x="20951" y="3541"/>
                    <a:pt x="20931" y="3512"/>
                    <a:pt x="20906" y="3487"/>
                  </a:cubicBezTo>
                  <a:cubicBezTo>
                    <a:pt x="20888" y="3460"/>
                    <a:pt x="20861" y="3432"/>
                    <a:pt x="20829" y="3411"/>
                  </a:cubicBezTo>
                  <a:cubicBezTo>
                    <a:pt x="20797" y="3389"/>
                    <a:pt x="20758" y="3374"/>
                    <a:pt x="20715" y="3369"/>
                  </a:cubicBezTo>
                  <a:cubicBezTo>
                    <a:pt x="20669" y="3361"/>
                    <a:pt x="20619" y="3366"/>
                    <a:pt x="20580" y="3381"/>
                  </a:cubicBezTo>
                  <a:cubicBezTo>
                    <a:pt x="20541" y="3396"/>
                    <a:pt x="20511" y="3420"/>
                    <a:pt x="20505" y="3449"/>
                  </a:cubicBezTo>
                  <a:cubicBezTo>
                    <a:pt x="20434" y="3424"/>
                    <a:pt x="20357" y="3402"/>
                    <a:pt x="20278" y="3384"/>
                  </a:cubicBezTo>
                  <a:cubicBezTo>
                    <a:pt x="20200" y="3366"/>
                    <a:pt x="20120" y="3353"/>
                    <a:pt x="20042" y="3344"/>
                  </a:cubicBezTo>
                  <a:cubicBezTo>
                    <a:pt x="20033" y="3361"/>
                    <a:pt x="20016" y="3373"/>
                    <a:pt x="19997" y="3381"/>
                  </a:cubicBezTo>
                  <a:cubicBezTo>
                    <a:pt x="19978" y="3389"/>
                    <a:pt x="19956" y="3395"/>
                    <a:pt x="19938" y="3399"/>
                  </a:cubicBezTo>
                  <a:cubicBezTo>
                    <a:pt x="19916" y="3407"/>
                    <a:pt x="19896" y="3420"/>
                    <a:pt x="19886" y="3433"/>
                  </a:cubicBezTo>
                  <a:cubicBezTo>
                    <a:pt x="19876" y="3447"/>
                    <a:pt x="19876" y="3462"/>
                    <a:pt x="19894" y="3475"/>
                  </a:cubicBezTo>
                  <a:cubicBezTo>
                    <a:pt x="19863" y="3475"/>
                    <a:pt x="19831" y="3478"/>
                    <a:pt x="19800" y="3481"/>
                  </a:cubicBezTo>
                  <a:cubicBezTo>
                    <a:pt x="19769" y="3484"/>
                    <a:pt x="19740" y="3487"/>
                    <a:pt x="19715" y="3487"/>
                  </a:cubicBezTo>
                  <a:cubicBezTo>
                    <a:pt x="19715" y="3504"/>
                    <a:pt x="19719" y="3521"/>
                    <a:pt x="19725" y="3538"/>
                  </a:cubicBezTo>
                  <a:cubicBezTo>
                    <a:pt x="19731" y="3555"/>
                    <a:pt x="19740" y="3573"/>
                    <a:pt x="19752" y="3592"/>
                  </a:cubicBezTo>
                  <a:cubicBezTo>
                    <a:pt x="19740" y="3613"/>
                    <a:pt x="19714" y="3626"/>
                    <a:pt x="19683" y="3631"/>
                  </a:cubicBezTo>
                  <a:cubicBezTo>
                    <a:pt x="19652" y="3636"/>
                    <a:pt x="19617" y="3634"/>
                    <a:pt x="19586" y="3626"/>
                  </a:cubicBezTo>
                  <a:cubicBezTo>
                    <a:pt x="19552" y="3618"/>
                    <a:pt x="19526" y="3605"/>
                    <a:pt x="19505" y="3589"/>
                  </a:cubicBezTo>
                  <a:cubicBezTo>
                    <a:pt x="19484" y="3572"/>
                    <a:pt x="19469" y="3552"/>
                    <a:pt x="19456" y="3529"/>
                  </a:cubicBezTo>
                  <a:cubicBezTo>
                    <a:pt x="19432" y="3512"/>
                    <a:pt x="19419" y="3487"/>
                    <a:pt x="19419" y="3466"/>
                  </a:cubicBezTo>
                  <a:cubicBezTo>
                    <a:pt x="19419" y="3441"/>
                    <a:pt x="19444" y="3407"/>
                    <a:pt x="19432" y="3378"/>
                  </a:cubicBezTo>
                  <a:cubicBezTo>
                    <a:pt x="19425" y="3357"/>
                    <a:pt x="19396" y="3343"/>
                    <a:pt x="19364" y="3339"/>
                  </a:cubicBezTo>
                  <a:cubicBezTo>
                    <a:pt x="19331" y="3336"/>
                    <a:pt x="19296" y="3342"/>
                    <a:pt x="19277" y="3361"/>
                  </a:cubicBezTo>
                  <a:cubicBezTo>
                    <a:pt x="19256" y="3378"/>
                    <a:pt x="19245" y="3400"/>
                    <a:pt x="19245" y="3422"/>
                  </a:cubicBezTo>
                  <a:cubicBezTo>
                    <a:pt x="19245" y="3445"/>
                    <a:pt x="19256" y="3468"/>
                    <a:pt x="19277" y="3487"/>
                  </a:cubicBezTo>
                  <a:cubicBezTo>
                    <a:pt x="19231" y="3496"/>
                    <a:pt x="19193" y="3510"/>
                    <a:pt x="19163" y="3531"/>
                  </a:cubicBezTo>
                  <a:cubicBezTo>
                    <a:pt x="19134" y="3551"/>
                    <a:pt x="19114" y="3578"/>
                    <a:pt x="19105" y="3609"/>
                  </a:cubicBezTo>
                  <a:cubicBezTo>
                    <a:pt x="19092" y="3643"/>
                    <a:pt x="19105" y="3672"/>
                    <a:pt x="19092" y="3706"/>
                  </a:cubicBezTo>
                  <a:cubicBezTo>
                    <a:pt x="19080" y="3740"/>
                    <a:pt x="19043" y="3769"/>
                    <a:pt x="18994" y="3761"/>
                  </a:cubicBezTo>
                  <a:cubicBezTo>
                    <a:pt x="18852" y="3714"/>
                    <a:pt x="18901" y="3512"/>
                    <a:pt x="18747" y="3496"/>
                  </a:cubicBezTo>
                  <a:cubicBezTo>
                    <a:pt x="18667" y="3487"/>
                    <a:pt x="18617" y="3538"/>
                    <a:pt x="18593" y="3592"/>
                  </a:cubicBezTo>
                  <a:cubicBezTo>
                    <a:pt x="18583" y="3618"/>
                    <a:pt x="18583" y="3644"/>
                    <a:pt x="18586" y="3669"/>
                  </a:cubicBezTo>
                  <a:cubicBezTo>
                    <a:pt x="18588" y="3694"/>
                    <a:pt x="18593" y="3718"/>
                    <a:pt x="18593" y="3740"/>
                  </a:cubicBezTo>
                  <a:cubicBezTo>
                    <a:pt x="18583" y="3803"/>
                    <a:pt x="18551" y="3860"/>
                    <a:pt x="18505" y="3914"/>
                  </a:cubicBezTo>
                  <a:cubicBezTo>
                    <a:pt x="18458" y="3967"/>
                    <a:pt x="18398" y="4015"/>
                    <a:pt x="18333" y="4059"/>
                  </a:cubicBezTo>
                  <a:cubicBezTo>
                    <a:pt x="18312" y="4072"/>
                    <a:pt x="18292" y="4085"/>
                    <a:pt x="18274" y="4100"/>
                  </a:cubicBezTo>
                  <a:cubicBezTo>
                    <a:pt x="18256" y="4115"/>
                    <a:pt x="18241" y="4131"/>
                    <a:pt x="18229" y="4148"/>
                  </a:cubicBezTo>
                  <a:cubicBezTo>
                    <a:pt x="18216" y="4160"/>
                    <a:pt x="18210" y="4176"/>
                    <a:pt x="18203" y="4192"/>
                  </a:cubicBezTo>
                  <a:cubicBezTo>
                    <a:pt x="18196" y="4207"/>
                    <a:pt x="18188" y="4223"/>
                    <a:pt x="18173" y="4236"/>
                  </a:cubicBezTo>
                  <a:cubicBezTo>
                    <a:pt x="18161" y="4257"/>
                    <a:pt x="18142" y="4277"/>
                    <a:pt x="18120" y="4296"/>
                  </a:cubicBezTo>
                  <a:cubicBezTo>
                    <a:pt x="18097" y="4315"/>
                    <a:pt x="18071" y="4333"/>
                    <a:pt x="18043" y="4349"/>
                  </a:cubicBezTo>
                  <a:cubicBezTo>
                    <a:pt x="17994" y="4385"/>
                    <a:pt x="17943" y="4421"/>
                    <a:pt x="17892" y="4458"/>
                  </a:cubicBezTo>
                  <a:cubicBezTo>
                    <a:pt x="17840" y="4495"/>
                    <a:pt x="17787" y="4532"/>
                    <a:pt x="17735" y="4572"/>
                  </a:cubicBezTo>
                  <a:cubicBezTo>
                    <a:pt x="17710" y="4589"/>
                    <a:pt x="17686" y="4606"/>
                    <a:pt x="17661" y="4606"/>
                  </a:cubicBezTo>
                  <a:cubicBezTo>
                    <a:pt x="17605" y="4606"/>
                    <a:pt x="17581" y="4560"/>
                    <a:pt x="17593" y="4526"/>
                  </a:cubicBezTo>
                  <a:cubicBezTo>
                    <a:pt x="17599" y="4507"/>
                    <a:pt x="17612" y="4491"/>
                    <a:pt x="17628" y="4478"/>
                  </a:cubicBezTo>
                  <a:cubicBezTo>
                    <a:pt x="17644" y="4465"/>
                    <a:pt x="17664" y="4455"/>
                    <a:pt x="17686" y="4446"/>
                  </a:cubicBezTo>
                  <a:cubicBezTo>
                    <a:pt x="17815" y="4366"/>
                    <a:pt x="17912" y="4267"/>
                    <a:pt x="17985" y="4160"/>
                  </a:cubicBezTo>
                  <a:cubicBezTo>
                    <a:pt x="18057" y="4052"/>
                    <a:pt x="18105" y="3935"/>
                    <a:pt x="18136" y="3819"/>
                  </a:cubicBezTo>
                  <a:cubicBezTo>
                    <a:pt x="18142" y="3803"/>
                    <a:pt x="18145" y="3788"/>
                    <a:pt x="18145" y="3773"/>
                  </a:cubicBezTo>
                  <a:cubicBezTo>
                    <a:pt x="18145" y="3757"/>
                    <a:pt x="18142" y="3742"/>
                    <a:pt x="18136" y="3723"/>
                  </a:cubicBezTo>
                  <a:cubicBezTo>
                    <a:pt x="18130" y="3710"/>
                    <a:pt x="18121" y="3700"/>
                    <a:pt x="18110" y="3689"/>
                  </a:cubicBezTo>
                  <a:cubicBezTo>
                    <a:pt x="18099" y="3677"/>
                    <a:pt x="18087" y="3666"/>
                    <a:pt x="18074" y="3651"/>
                  </a:cubicBezTo>
                  <a:cubicBezTo>
                    <a:pt x="18053" y="3622"/>
                    <a:pt x="18045" y="3589"/>
                    <a:pt x="18051" y="3557"/>
                  </a:cubicBezTo>
                  <a:cubicBezTo>
                    <a:pt x="18057" y="3525"/>
                    <a:pt x="18077" y="3493"/>
                    <a:pt x="18111" y="3466"/>
                  </a:cubicBezTo>
                  <a:cubicBezTo>
                    <a:pt x="18059" y="3449"/>
                    <a:pt x="18010" y="3432"/>
                    <a:pt x="17961" y="3416"/>
                  </a:cubicBezTo>
                  <a:cubicBezTo>
                    <a:pt x="17912" y="3400"/>
                    <a:pt x="17865" y="3384"/>
                    <a:pt x="17815" y="3369"/>
                  </a:cubicBezTo>
                  <a:cubicBezTo>
                    <a:pt x="17809" y="3365"/>
                    <a:pt x="17798" y="3363"/>
                    <a:pt x="17787" y="3361"/>
                  </a:cubicBezTo>
                  <a:cubicBezTo>
                    <a:pt x="17777" y="3359"/>
                    <a:pt x="17766" y="3357"/>
                    <a:pt x="17760" y="3353"/>
                  </a:cubicBezTo>
                  <a:cubicBezTo>
                    <a:pt x="17723" y="3348"/>
                    <a:pt x="17684" y="3355"/>
                    <a:pt x="17650" y="3368"/>
                  </a:cubicBezTo>
                  <a:cubicBezTo>
                    <a:pt x="17616" y="3381"/>
                    <a:pt x="17587" y="3401"/>
                    <a:pt x="17568" y="3424"/>
                  </a:cubicBezTo>
                  <a:cubicBezTo>
                    <a:pt x="17541" y="3445"/>
                    <a:pt x="17517" y="3467"/>
                    <a:pt x="17494" y="3487"/>
                  </a:cubicBezTo>
                  <a:cubicBezTo>
                    <a:pt x="17470" y="3507"/>
                    <a:pt x="17445" y="3525"/>
                    <a:pt x="17414" y="3538"/>
                  </a:cubicBezTo>
                  <a:cubicBezTo>
                    <a:pt x="17386" y="3546"/>
                    <a:pt x="17354" y="3550"/>
                    <a:pt x="17322" y="3553"/>
                  </a:cubicBezTo>
                  <a:cubicBezTo>
                    <a:pt x="17289" y="3557"/>
                    <a:pt x="17257" y="3559"/>
                    <a:pt x="17229" y="3563"/>
                  </a:cubicBezTo>
                  <a:cubicBezTo>
                    <a:pt x="17186" y="3573"/>
                    <a:pt x="17141" y="3591"/>
                    <a:pt x="17104" y="3614"/>
                  </a:cubicBezTo>
                  <a:cubicBezTo>
                    <a:pt x="17067" y="3638"/>
                    <a:pt x="17038" y="3666"/>
                    <a:pt x="17025" y="3697"/>
                  </a:cubicBezTo>
                  <a:cubicBezTo>
                    <a:pt x="17013" y="3681"/>
                    <a:pt x="17007" y="3663"/>
                    <a:pt x="17007" y="3645"/>
                  </a:cubicBezTo>
                  <a:cubicBezTo>
                    <a:pt x="17007" y="3627"/>
                    <a:pt x="17013" y="3609"/>
                    <a:pt x="17025" y="3592"/>
                  </a:cubicBezTo>
                  <a:cubicBezTo>
                    <a:pt x="16973" y="3601"/>
                    <a:pt x="16921" y="3583"/>
                    <a:pt x="16886" y="3555"/>
                  </a:cubicBezTo>
                  <a:cubicBezTo>
                    <a:pt x="16851" y="3527"/>
                    <a:pt x="16834" y="3489"/>
                    <a:pt x="16853" y="3458"/>
                  </a:cubicBezTo>
                  <a:cubicBezTo>
                    <a:pt x="16834" y="3449"/>
                    <a:pt x="16816" y="3443"/>
                    <a:pt x="16795" y="3437"/>
                  </a:cubicBezTo>
                  <a:cubicBezTo>
                    <a:pt x="16774" y="3430"/>
                    <a:pt x="16751" y="3424"/>
                    <a:pt x="16723" y="3416"/>
                  </a:cubicBezTo>
                  <a:cubicBezTo>
                    <a:pt x="16717" y="3411"/>
                    <a:pt x="16722" y="3409"/>
                    <a:pt x="16725" y="3408"/>
                  </a:cubicBezTo>
                  <a:cubicBezTo>
                    <a:pt x="16729" y="3407"/>
                    <a:pt x="16732" y="3407"/>
                    <a:pt x="16723" y="3407"/>
                  </a:cubicBezTo>
                  <a:cubicBezTo>
                    <a:pt x="16692" y="3380"/>
                    <a:pt x="16648" y="3362"/>
                    <a:pt x="16597" y="3354"/>
                  </a:cubicBezTo>
                  <a:cubicBezTo>
                    <a:pt x="16547" y="3346"/>
                    <a:pt x="16492" y="3348"/>
                    <a:pt x="16439" y="3361"/>
                  </a:cubicBezTo>
                  <a:cubicBezTo>
                    <a:pt x="16427" y="3365"/>
                    <a:pt x="16415" y="3369"/>
                    <a:pt x="16402" y="3371"/>
                  </a:cubicBezTo>
                  <a:cubicBezTo>
                    <a:pt x="16390" y="3374"/>
                    <a:pt x="16378" y="3374"/>
                    <a:pt x="16365" y="3369"/>
                  </a:cubicBezTo>
                  <a:cubicBezTo>
                    <a:pt x="16359" y="3369"/>
                    <a:pt x="16348" y="3367"/>
                    <a:pt x="16338" y="3363"/>
                  </a:cubicBezTo>
                  <a:cubicBezTo>
                    <a:pt x="16327" y="3359"/>
                    <a:pt x="16316" y="3353"/>
                    <a:pt x="16310" y="3344"/>
                  </a:cubicBezTo>
                  <a:cubicBezTo>
                    <a:pt x="16285" y="3323"/>
                    <a:pt x="16263" y="3301"/>
                    <a:pt x="16244" y="3277"/>
                  </a:cubicBezTo>
                  <a:cubicBezTo>
                    <a:pt x="16225" y="3254"/>
                    <a:pt x="16208" y="3228"/>
                    <a:pt x="16193" y="3201"/>
                  </a:cubicBezTo>
                  <a:cubicBezTo>
                    <a:pt x="16174" y="3180"/>
                    <a:pt x="16139" y="3170"/>
                    <a:pt x="16098" y="3164"/>
                  </a:cubicBezTo>
                  <a:cubicBezTo>
                    <a:pt x="16058" y="3159"/>
                    <a:pt x="16014" y="3159"/>
                    <a:pt x="15977" y="3159"/>
                  </a:cubicBezTo>
                  <a:cubicBezTo>
                    <a:pt x="15899" y="3163"/>
                    <a:pt x="15825" y="3163"/>
                    <a:pt x="15751" y="3161"/>
                  </a:cubicBezTo>
                  <a:cubicBezTo>
                    <a:pt x="15676" y="3159"/>
                    <a:pt x="15600" y="3155"/>
                    <a:pt x="15520" y="3151"/>
                  </a:cubicBezTo>
                  <a:cubicBezTo>
                    <a:pt x="15483" y="3146"/>
                    <a:pt x="15448" y="3142"/>
                    <a:pt x="15412" y="3141"/>
                  </a:cubicBezTo>
                  <a:cubicBezTo>
                    <a:pt x="15377" y="3140"/>
                    <a:pt x="15341" y="3142"/>
                    <a:pt x="15304" y="3151"/>
                  </a:cubicBezTo>
                  <a:cubicBezTo>
                    <a:pt x="15264" y="3159"/>
                    <a:pt x="15232" y="3175"/>
                    <a:pt x="15211" y="3194"/>
                  </a:cubicBezTo>
                  <a:cubicBezTo>
                    <a:pt x="15190" y="3213"/>
                    <a:pt x="15181" y="3235"/>
                    <a:pt x="15187" y="3256"/>
                  </a:cubicBezTo>
                  <a:cubicBezTo>
                    <a:pt x="15181" y="3243"/>
                    <a:pt x="15171" y="3233"/>
                    <a:pt x="15161" y="3222"/>
                  </a:cubicBezTo>
                  <a:cubicBezTo>
                    <a:pt x="15151" y="3211"/>
                    <a:pt x="15141" y="3199"/>
                    <a:pt x="15131" y="3184"/>
                  </a:cubicBezTo>
                  <a:cubicBezTo>
                    <a:pt x="15011" y="3199"/>
                    <a:pt x="14889" y="3228"/>
                    <a:pt x="14776" y="3269"/>
                  </a:cubicBezTo>
                  <a:cubicBezTo>
                    <a:pt x="14662" y="3310"/>
                    <a:pt x="14558" y="3363"/>
                    <a:pt x="14471" y="3424"/>
                  </a:cubicBezTo>
                  <a:cubicBezTo>
                    <a:pt x="14440" y="3392"/>
                    <a:pt x="14393" y="3379"/>
                    <a:pt x="14338" y="3374"/>
                  </a:cubicBezTo>
                  <a:cubicBezTo>
                    <a:pt x="14283" y="3369"/>
                    <a:pt x="14221" y="3374"/>
                    <a:pt x="14163" y="3378"/>
                  </a:cubicBezTo>
                  <a:cubicBezTo>
                    <a:pt x="14138" y="3384"/>
                    <a:pt x="14112" y="3389"/>
                    <a:pt x="14089" y="3395"/>
                  </a:cubicBezTo>
                  <a:cubicBezTo>
                    <a:pt x="14066" y="3401"/>
                    <a:pt x="14045" y="3407"/>
                    <a:pt x="14033" y="3416"/>
                  </a:cubicBezTo>
                  <a:cubicBezTo>
                    <a:pt x="14021" y="3428"/>
                    <a:pt x="14015" y="3446"/>
                    <a:pt x="14018" y="3462"/>
                  </a:cubicBezTo>
                  <a:cubicBezTo>
                    <a:pt x="14021" y="3478"/>
                    <a:pt x="14033" y="3491"/>
                    <a:pt x="14058" y="3496"/>
                  </a:cubicBezTo>
                  <a:cubicBezTo>
                    <a:pt x="13956" y="3504"/>
                    <a:pt x="13853" y="3521"/>
                    <a:pt x="13754" y="3545"/>
                  </a:cubicBezTo>
                  <a:cubicBezTo>
                    <a:pt x="13655" y="3570"/>
                    <a:pt x="13561" y="3603"/>
                    <a:pt x="13478" y="3643"/>
                  </a:cubicBezTo>
                  <a:cubicBezTo>
                    <a:pt x="13438" y="3630"/>
                    <a:pt x="13412" y="3604"/>
                    <a:pt x="13400" y="3574"/>
                  </a:cubicBezTo>
                  <a:cubicBezTo>
                    <a:pt x="13388" y="3545"/>
                    <a:pt x="13392" y="3512"/>
                    <a:pt x="13410" y="3487"/>
                  </a:cubicBezTo>
                  <a:cubicBezTo>
                    <a:pt x="13432" y="3460"/>
                    <a:pt x="13461" y="3436"/>
                    <a:pt x="13493" y="3414"/>
                  </a:cubicBezTo>
                  <a:cubicBezTo>
                    <a:pt x="13526" y="3391"/>
                    <a:pt x="13561" y="3371"/>
                    <a:pt x="13595" y="3353"/>
                  </a:cubicBezTo>
                  <a:cubicBezTo>
                    <a:pt x="13638" y="3331"/>
                    <a:pt x="13683" y="3309"/>
                    <a:pt x="13730" y="3290"/>
                  </a:cubicBezTo>
                  <a:cubicBezTo>
                    <a:pt x="13777" y="3272"/>
                    <a:pt x="13826" y="3256"/>
                    <a:pt x="13879" y="3247"/>
                  </a:cubicBezTo>
                  <a:cubicBezTo>
                    <a:pt x="13891" y="3247"/>
                    <a:pt x="13907" y="3245"/>
                    <a:pt x="13923" y="3242"/>
                  </a:cubicBezTo>
                  <a:cubicBezTo>
                    <a:pt x="13939" y="3239"/>
                    <a:pt x="13956" y="3235"/>
                    <a:pt x="13971" y="3231"/>
                  </a:cubicBezTo>
                  <a:cubicBezTo>
                    <a:pt x="13990" y="3226"/>
                    <a:pt x="14005" y="3215"/>
                    <a:pt x="14021" y="3202"/>
                  </a:cubicBezTo>
                  <a:cubicBezTo>
                    <a:pt x="14036" y="3190"/>
                    <a:pt x="14052" y="3176"/>
                    <a:pt x="14070" y="3167"/>
                  </a:cubicBezTo>
                  <a:cubicBezTo>
                    <a:pt x="14098" y="3151"/>
                    <a:pt x="14130" y="3135"/>
                    <a:pt x="14164" y="3120"/>
                  </a:cubicBezTo>
                  <a:cubicBezTo>
                    <a:pt x="14198" y="3105"/>
                    <a:pt x="14234" y="3092"/>
                    <a:pt x="14268" y="3079"/>
                  </a:cubicBezTo>
                  <a:lnTo>
                    <a:pt x="14928" y="2839"/>
                  </a:lnTo>
                  <a:cubicBezTo>
                    <a:pt x="14989" y="2814"/>
                    <a:pt x="15057" y="2797"/>
                    <a:pt x="15131" y="2797"/>
                  </a:cubicBezTo>
                  <a:cubicBezTo>
                    <a:pt x="15187" y="2797"/>
                    <a:pt x="15224" y="2814"/>
                    <a:pt x="15279" y="2806"/>
                  </a:cubicBezTo>
                  <a:cubicBezTo>
                    <a:pt x="15298" y="2801"/>
                    <a:pt x="15316" y="2795"/>
                    <a:pt x="15333" y="2789"/>
                  </a:cubicBezTo>
                  <a:cubicBezTo>
                    <a:pt x="15350" y="2783"/>
                    <a:pt x="15366" y="2776"/>
                    <a:pt x="15378" y="2772"/>
                  </a:cubicBezTo>
                  <a:cubicBezTo>
                    <a:pt x="15437" y="2745"/>
                    <a:pt x="15502" y="2729"/>
                    <a:pt x="15568" y="2723"/>
                  </a:cubicBezTo>
                  <a:cubicBezTo>
                    <a:pt x="15634" y="2717"/>
                    <a:pt x="15702" y="2722"/>
                    <a:pt x="15767" y="2734"/>
                  </a:cubicBezTo>
                  <a:cubicBezTo>
                    <a:pt x="15779" y="2738"/>
                    <a:pt x="15796" y="2743"/>
                    <a:pt x="15813" y="2745"/>
                  </a:cubicBezTo>
                  <a:cubicBezTo>
                    <a:pt x="15830" y="2747"/>
                    <a:pt x="15847" y="2747"/>
                    <a:pt x="15859" y="2743"/>
                  </a:cubicBezTo>
                  <a:cubicBezTo>
                    <a:pt x="15896" y="2734"/>
                    <a:pt x="15909" y="2709"/>
                    <a:pt x="15952" y="2692"/>
                  </a:cubicBezTo>
                  <a:cubicBezTo>
                    <a:pt x="16051" y="2654"/>
                    <a:pt x="16143" y="2764"/>
                    <a:pt x="16260" y="2751"/>
                  </a:cubicBezTo>
                  <a:cubicBezTo>
                    <a:pt x="16285" y="2751"/>
                    <a:pt x="16311" y="2745"/>
                    <a:pt x="16336" y="2739"/>
                  </a:cubicBezTo>
                  <a:cubicBezTo>
                    <a:pt x="16361" y="2734"/>
                    <a:pt x="16384" y="2730"/>
                    <a:pt x="16402" y="2734"/>
                  </a:cubicBezTo>
                  <a:cubicBezTo>
                    <a:pt x="16415" y="2738"/>
                    <a:pt x="16424" y="2746"/>
                    <a:pt x="16434" y="2752"/>
                  </a:cubicBezTo>
                  <a:cubicBezTo>
                    <a:pt x="16444" y="2758"/>
                    <a:pt x="16455" y="2764"/>
                    <a:pt x="16470" y="2764"/>
                  </a:cubicBezTo>
                  <a:cubicBezTo>
                    <a:pt x="16495" y="2768"/>
                    <a:pt x="16513" y="2758"/>
                    <a:pt x="16530" y="2745"/>
                  </a:cubicBezTo>
                  <a:cubicBezTo>
                    <a:pt x="16547" y="2731"/>
                    <a:pt x="16563" y="2713"/>
                    <a:pt x="16581" y="2701"/>
                  </a:cubicBezTo>
                  <a:cubicBezTo>
                    <a:pt x="16597" y="2692"/>
                    <a:pt x="16614" y="2686"/>
                    <a:pt x="16631" y="2680"/>
                  </a:cubicBezTo>
                  <a:cubicBezTo>
                    <a:pt x="16649" y="2674"/>
                    <a:pt x="16668" y="2669"/>
                    <a:pt x="16686" y="2663"/>
                  </a:cubicBezTo>
                  <a:cubicBezTo>
                    <a:pt x="16791" y="2642"/>
                    <a:pt x="16894" y="2621"/>
                    <a:pt x="16996" y="2599"/>
                  </a:cubicBezTo>
                  <a:cubicBezTo>
                    <a:pt x="17098" y="2577"/>
                    <a:pt x="17198" y="2555"/>
                    <a:pt x="17297" y="2532"/>
                  </a:cubicBezTo>
                  <a:cubicBezTo>
                    <a:pt x="17328" y="2524"/>
                    <a:pt x="17360" y="2510"/>
                    <a:pt x="17382" y="2494"/>
                  </a:cubicBezTo>
                  <a:cubicBezTo>
                    <a:pt x="17403" y="2479"/>
                    <a:pt x="17414" y="2461"/>
                    <a:pt x="17402" y="2444"/>
                  </a:cubicBezTo>
                  <a:lnTo>
                    <a:pt x="17359" y="2419"/>
                  </a:lnTo>
                  <a:cubicBezTo>
                    <a:pt x="17346" y="2404"/>
                    <a:pt x="17346" y="2388"/>
                    <a:pt x="17352" y="2374"/>
                  </a:cubicBezTo>
                  <a:cubicBezTo>
                    <a:pt x="17359" y="2360"/>
                    <a:pt x="17371" y="2347"/>
                    <a:pt x="17383" y="2339"/>
                  </a:cubicBezTo>
                  <a:cubicBezTo>
                    <a:pt x="17405" y="2330"/>
                    <a:pt x="17425" y="2324"/>
                    <a:pt x="17444" y="2317"/>
                  </a:cubicBezTo>
                  <a:cubicBezTo>
                    <a:pt x="17463" y="2310"/>
                    <a:pt x="17482" y="2303"/>
                    <a:pt x="17501" y="2293"/>
                  </a:cubicBezTo>
                  <a:cubicBezTo>
                    <a:pt x="17581" y="2263"/>
                    <a:pt x="17624" y="2204"/>
                    <a:pt x="17668" y="2148"/>
                  </a:cubicBezTo>
                  <a:cubicBezTo>
                    <a:pt x="17712" y="2092"/>
                    <a:pt x="17757" y="2038"/>
                    <a:pt x="17840" y="2019"/>
                  </a:cubicBezTo>
                  <a:cubicBezTo>
                    <a:pt x="17775" y="2034"/>
                    <a:pt x="17713" y="2023"/>
                    <a:pt x="17658" y="1999"/>
                  </a:cubicBezTo>
                  <a:cubicBezTo>
                    <a:pt x="17602" y="1975"/>
                    <a:pt x="17553" y="1937"/>
                    <a:pt x="17513" y="1897"/>
                  </a:cubicBezTo>
                  <a:cubicBezTo>
                    <a:pt x="17476" y="1861"/>
                    <a:pt x="17437" y="1821"/>
                    <a:pt x="17392" y="1788"/>
                  </a:cubicBezTo>
                  <a:cubicBezTo>
                    <a:pt x="17346" y="1755"/>
                    <a:pt x="17294" y="1729"/>
                    <a:pt x="17229" y="1720"/>
                  </a:cubicBezTo>
                  <a:cubicBezTo>
                    <a:pt x="17223" y="1733"/>
                    <a:pt x="17217" y="1747"/>
                    <a:pt x="17211" y="1761"/>
                  </a:cubicBezTo>
                  <a:cubicBezTo>
                    <a:pt x="17204" y="1776"/>
                    <a:pt x="17198" y="1792"/>
                    <a:pt x="17192" y="1809"/>
                  </a:cubicBezTo>
                  <a:cubicBezTo>
                    <a:pt x="17146" y="1765"/>
                    <a:pt x="17098" y="1725"/>
                    <a:pt x="17045" y="1688"/>
                  </a:cubicBezTo>
                  <a:cubicBezTo>
                    <a:pt x="16993" y="1652"/>
                    <a:pt x="16936" y="1619"/>
                    <a:pt x="16871" y="1590"/>
                  </a:cubicBezTo>
                  <a:cubicBezTo>
                    <a:pt x="16843" y="1615"/>
                    <a:pt x="16820" y="1644"/>
                    <a:pt x="16801" y="1674"/>
                  </a:cubicBezTo>
                  <a:cubicBezTo>
                    <a:pt x="16782" y="1704"/>
                    <a:pt x="16766" y="1735"/>
                    <a:pt x="16754" y="1767"/>
                  </a:cubicBezTo>
                  <a:cubicBezTo>
                    <a:pt x="16739" y="1748"/>
                    <a:pt x="16731" y="1730"/>
                    <a:pt x="16725" y="1712"/>
                  </a:cubicBezTo>
                  <a:cubicBezTo>
                    <a:pt x="16720" y="1694"/>
                    <a:pt x="16717" y="1676"/>
                    <a:pt x="16711" y="1657"/>
                  </a:cubicBezTo>
                  <a:cubicBezTo>
                    <a:pt x="16705" y="1641"/>
                    <a:pt x="16695" y="1624"/>
                    <a:pt x="16681" y="1608"/>
                  </a:cubicBezTo>
                  <a:cubicBezTo>
                    <a:pt x="16668" y="1593"/>
                    <a:pt x="16649" y="1580"/>
                    <a:pt x="16624" y="1569"/>
                  </a:cubicBezTo>
                  <a:cubicBezTo>
                    <a:pt x="16597" y="1565"/>
                    <a:pt x="16567" y="1570"/>
                    <a:pt x="16547" y="1581"/>
                  </a:cubicBezTo>
                  <a:cubicBezTo>
                    <a:pt x="16526" y="1591"/>
                    <a:pt x="16513" y="1607"/>
                    <a:pt x="16520" y="1624"/>
                  </a:cubicBezTo>
                  <a:cubicBezTo>
                    <a:pt x="16507" y="1611"/>
                    <a:pt x="16498" y="1599"/>
                    <a:pt x="16488" y="1588"/>
                  </a:cubicBezTo>
                  <a:cubicBezTo>
                    <a:pt x="16478" y="1576"/>
                    <a:pt x="16467" y="1565"/>
                    <a:pt x="16452" y="1552"/>
                  </a:cubicBezTo>
                  <a:cubicBezTo>
                    <a:pt x="16396" y="1571"/>
                    <a:pt x="16342" y="1593"/>
                    <a:pt x="16290" y="1618"/>
                  </a:cubicBezTo>
                  <a:cubicBezTo>
                    <a:pt x="16239" y="1644"/>
                    <a:pt x="16189" y="1672"/>
                    <a:pt x="16143" y="1704"/>
                  </a:cubicBezTo>
                  <a:cubicBezTo>
                    <a:pt x="16119" y="1655"/>
                    <a:pt x="16183" y="1617"/>
                    <a:pt x="16251" y="1578"/>
                  </a:cubicBezTo>
                  <a:cubicBezTo>
                    <a:pt x="16319" y="1540"/>
                    <a:pt x="16390" y="1500"/>
                    <a:pt x="16378" y="1447"/>
                  </a:cubicBezTo>
                  <a:cubicBezTo>
                    <a:pt x="16365" y="1413"/>
                    <a:pt x="16322" y="1384"/>
                    <a:pt x="16322" y="1359"/>
                  </a:cubicBezTo>
                  <a:cubicBezTo>
                    <a:pt x="16322" y="1296"/>
                    <a:pt x="16483" y="1245"/>
                    <a:pt x="16439" y="1190"/>
                  </a:cubicBezTo>
                  <a:cubicBezTo>
                    <a:pt x="16433" y="1182"/>
                    <a:pt x="16424" y="1178"/>
                    <a:pt x="16415" y="1174"/>
                  </a:cubicBezTo>
                  <a:cubicBezTo>
                    <a:pt x="16405" y="1169"/>
                    <a:pt x="16396" y="1165"/>
                    <a:pt x="16390" y="1157"/>
                  </a:cubicBezTo>
                  <a:cubicBezTo>
                    <a:pt x="16365" y="1138"/>
                    <a:pt x="16362" y="1114"/>
                    <a:pt x="16368" y="1088"/>
                  </a:cubicBezTo>
                  <a:cubicBezTo>
                    <a:pt x="16375" y="1063"/>
                    <a:pt x="16390" y="1037"/>
                    <a:pt x="16402" y="1014"/>
                  </a:cubicBezTo>
                  <a:cubicBezTo>
                    <a:pt x="16338" y="1001"/>
                    <a:pt x="16270" y="1003"/>
                    <a:pt x="16202" y="1013"/>
                  </a:cubicBezTo>
                  <a:cubicBezTo>
                    <a:pt x="16134" y="1023"/>
                    <a:pt x="16066" y="1041"/>
                    <a:pt x="16001" y="1060"/>
                  </a:cubicBezTo>
                  <a:cubicBezTo>
                    <a:pt x="15835" y="1110"/>
                    <a:pt x="15650" y="1174"/>
                    <a:pt x="15471" y="1190"/>
                  </a:cubicBezTo>
                  <a:cubicBezTo>
                    <a:pt x="15378" y="1199"/>
                    <a:pt x="15292" y="1190"/>
                    <a:pt x="15187" y="1190"/>
                  </a:cubicBezTo>
                  <a:cubicBezTo>
                    <a:pt x="15131" y="1190"/>
                    <a:pt x="15070" y="1182"/>
                    <a:pt x="15033" y="1165"/>
                  </a:cubicBezTo>
                  <a:cubicBezTo>
                    <a:pt x="15005" y="1157"/>
                    <a:pt x="14985" y="1145"/>
                    <a:pt x="14966" y="1134"/>
                  </a:cubicBezTo>
                  <a:cubicBezTo>
                    <a:pt x="14946" y="1122"/>
                    <a:pt x="14928" y="1110"/>
                    <a:pt x="14903" y="1102"/>
                  </a:cubicBezTo>
                  <a:cubicBezTo>
                    <a:pt x="14875" y="1094"/>
                    <a:pt x="14846" y="1092"/>
                    <a:pt x="14817" y="1093"/>
                  </a:cubicBezTo>
                  <a:cubicBezTo>
                    <a:pt x="14787" y="1094"/>
                    <a:pt x="14758" y="1098"/>
                    <a:pt x="14730" y="1102"/>
                  </a:cubicBezTo>
                  <a:cubicBezTo>
                    <a:pt x="14653" y="1115"/>
                    <a:pt x="14576" y="1135"/>
                    <a:pt x="14501" y="1159"/>
                  </a:cubicBezTo>
                  <a:cubicBezTo>
                    <a:pt x="14425" y="1184"/>
                    <a:pt x="14351" y="1214"/>
                    <a:pt x="14280" y="1245"/>
                  </a:cubicBezTo>
                  <a:cubicBezTo>
                    <a:pt x="14249" y="1230"/>
                    <a:pt x="14217" y="1221"/>
                    <a:pt x="14182" y="1216"/>
                  </a:cubicBezTo>
                  <a:cubicBezTo>
                    <a:pt x="14147" y="1211"/>
                    <a:pt x="14110" y="1211"/>
                    <a:pt x="14070" y="1216"/>
                  </a:cubicBezTo>
                  <a:cubicBezTo>
                    <a:pt x="13941" y="1239"/>
                    <a:pt x="13870" y="1319"/>
                    <a:pt x="13800" y="1401"/>
                  </a:cubicBezTo>
                  <a:cubicBezTo>
                    <a:pt x="13731" y="1483"/>
                    <a:pt x="13663" y="1567"/>
                    <a:pt x="13540" y="1598"/>
                  </a:cubicBezTo>
                  <a:cubicBezTo>
                    <a:pt x="13555" y="1567"/>
                    <a:pt x="13566" y="1533"/>
                    <a:pt x="13571" y="1500"/>
                  </a:cubicBezTo>
                  <a:cubicBezTo>
                    <a:pt x="13577" y="1467"/>
                    <a:pt x="13577" y="1434"/>
                    <a:pt x="13570" y="1405"/>
                  </a:cubicBezTo>
                  <a:cubicBezTo>
                    <a:pt x="13518" y="1394"/>
                    <a:pt x="13466" y="1389"/>
                    <a:pt x="13415" y="1389"/>
                  </a:cubicBezTo>
                  <a:cubicBezTo>
                    <a:pt x="13364" y="1389"/>
                    <a:pt x="13314" y="1394"/>
                    <a:pt x="13268" y="1405"/>
                  </a:cubicBezTo>
                  <a:cubicBezTo>
                    <a:pt x="13237" y="1470"/>
                    <a:pt x="13199" y="1535"/>
                    <a:pt x="13155" y="1600"/>
                  </a:cubicBezTo>
                  <a:cubicBezTo>
                    <a:pt x="13111" y="1665"/>
                    <a:pt x="13061" y="1729"/>
                    <a:pt x="13009" y="1792"/>
                  </a:cubicBezTo>
                  <a:cubicBezTo>
                    <a:pt x="12990" y="1756"/>
                    <a:pt x="12984" y="1720"/>
                    <a:pt x="12983" y="1684"/>
                  </a:cubicBezTo>
                  <a:cubicBezTo>
                    <a:pt x="12981" y="1647"/>
                    <a:pt x="12984" y="1609"/>
                    <a:pt x="12984" y="1569"/>
                  </a:cubicBezTo>
                  <a:cubicBezTo>
                    <a:pt x="12978" y="1535"/>
                    <a:pt x="12963" y="1499"/>
                    <a:pt x="12937" y="1466"/>
                  </a:cubicBezTo>
                  <a:cubicBezTo>
                    <a:pt x="12912" y="1434"/>
                    <a:pt x="12876" y="1407"/>
                    <a:pt x="12830" y="1392"/>
                  </a:cubicBezTo>
                  <a:cubicBezTo>
                    <a:pt x="12778" y="1455"/>
                    <a:pt x="12725" y="1520"/>
                    <a:pt x="12674" y="1584"/>
                  </a:cubicBezTo>
                  <a:cubicBezTo>
                    <a:pt x="12622" y="1648"/>
                    <a:pt x="12571" y="1712"/>
                    <a:pt x="12522" y="1775"/>
                  </a:cubicBezTo>
                  <a:cubicBezTo>
                    <a:pt x="12481" y="1712"/>
                    <a:pt x="12471" y="1638"/>
                    <a:pt x="12490" y="1571"/>
                  </a:cubicBezTo>
                  <a:cubicBezTo>
                    <a:pt x="12509" y="1504"/>
                    <a:pt x="12559" y="1443"/>
                    <a:pt x="12639" y="1405"/>
                  </a:cubicBezTo>
                  <a:cubicBezTo>
                    <a:pt x="12670" y="1386"/>
                    <a:pt x="12707" y="1372"/>
                    <a:pt x="12746" y="1364"/>
                  </a:cubicBezTo>
                  <a:cubicBezTo>
                    <a:pt x="12785" y="1357"/>
                    <a:pt x="12827" y="1354"/>
                    <a:pt x="12867" y="1359"/>
                  </a:cubicBezTo>
                  <a:cubicBezTo>
                    <a:pt x="12904" y="1363"/>
                    <a:pt x="12947" y="1369"/>
                    <a:pt x="12989" y="1371"/>
                  </a:cubicBezTo>
                  <a:cubicBezTo>
                    <a:pt x="13031" y="1373"/>
                    <a:pt x="13071" y="1371"/>
                    <a:pt x="13102" y="1359"/>
                  </a:cubicBezTo>
                  <a:cubicBezTo>
                    <a:pt x="13120" y="1350"/>
                    <a:pt x="13132" y="1342"/>
                    <a:pt x="13145" y="1333"/>
                  </a:cubicBezTo>
                  <a:cubicBezTo>
                    <a:pt x="13159" y="1324"/>
                    <a:pt x="13172" y="1315"/>
                    <a:pt x="13194" y="1304"/>
                  </a:cubicBezTo>
                  <a:cubicBezTo>
                    <a:pt x="13231" y="1287"/>
                    <a:pt x="13282" y="1283"/>
                    <a:pt x="13329" y="1277"/>
                  </a:cubicBezTo>
                  <a:cubicBezTo>
                    <a:pt x="13376" y="1270"/>
                    <a:pt x="13419" y="1262"/>
                    <a:pt x="13441" y="1237"/>
                  </a:cubicBezTo>
                  <a:cubicBezTo>
                    <a:pt x="13466" y="1205"/>
                    <a:pt x="13455" y="1174"/>
                    <a:pt x="13429" y="1145"/>
                  </a:cubicBezTo>
                  <a:cubicBezTo>
                    <a:pt x="13402" y="1116"/>
                    <a:pt x="13361" y="1089"/>
                    <a:pt x="13324" y="1068"/>
                  </a:cubicBezTo>
                  <a:cubicBezTo>
                    <a:pt x="13361" y="1064"/>
                    <a:pt x="13402" y="1064"/>
                    <a:pt x="13441" y="1071"/>
                  </a:cubicBezTo>
                  <a:cubicBezTo>
                    <a:pt x="13479" y="1077"/>
                    <a:pt x="13515" y="1089"/>
                    <a:pt x="13540" y="1110"/>
                  </a:cubicBezTo>
                  <a:cubicBezTo>
                    <a:pt x="13555" y="1119"/>
                    <a:pt x="13566" y="1128"/>
                    <a:pt x="13577" y="1136"/>
                  </a:cubicBezTo>
                  <a:cubicBezTo>
                    <a:pt x="13589" y="1143"/>
                    <a:pt x="13601" y="1148"/>
                    <a:pt x="13620" y="1148"/>
                  </a:cubicBezTo>
                  <a:cubicBezTo>
                    <a:pt x="13632" y="1153"/>
                    <a:pt x="13648" y="1150"/>
                    <a:pt x="13664" y="1146"/>
                  </a:cubicBezTo>
                  <a:cubicBezTo>
                    <a:pt x="13680" y="1141"/>
                    <a:pt x="13697" y="1134"/>
                    <a:pt x="13712" y="1127"/>
                  </a:cubicBezTo>
                  <a:cubicBezTo>
                    <a:pt x="13777" y="1102"/>
                    <a:pt x="13842" y="1074"/>
                    <a:pt x="13903" y="1043"/>
                  </a:cubicBezTo>
                  <a:cubicBezTo>
                    <a:pt x="13964" y="1012"/>
                    <a:pt x="14021" y="978"/>
                    <a:pt x="14070" y="942"/>
                  </a:cubicBezTo>
                  <a:cubicBezTo>
                    <a:pt x="14058" y="938"/>
                    <a:pt x="14045" y="936"/>
                    <a:pt x="14033" y="934"/>
                  </a:cubicBezTo>
                  <a:cubicBezTo>
                    <a:pt x="14021" y="932"/>
                    <a:pt x="14008" y="930"/>
                    <a:pt x="13996" y="925"/>
                  </a:cubicBezTo>
                  <a:cubicBezTo>
                    <a:pt x="14113" y="934"/>
                    <a:pt x="14226" y="934"/>
                    <a:pt x="14339" y="929"/>
                  </a:cubicBezTo>
                  <a:cubicBezTo>
                    <a:pt x="14451" y="923"/>
                    <a:pt x="14564" y="913"/>
                    <a:pt x="14681" y="900"/>
                  </a:cubicBezTo>
                  <a:cubicBezTo>
                    <a:pt x="14727" y="896"/>
                    <a:pt x="14775" y="892"/>
                    <a:pt x="14820" y="882"/>
                  </a:cubicBezTo>
                  <a:cubicBezTo>
                    <a:pt x="14865" y="872"/>
                    <a:pt x="14906" y="856"/>
                    <a:pt x="14940" y="829"/>
                  </a:cubicBezTo>
                  <a:cubicBezTo>
                    <a:pt x="14986" y="837"/>
                    <a:pt x="15031" y="843"/>
                    <a:pt x="15076" y="845"/>
                  </a:cubicBezTo>
                  <a:cubicBezTo>
                    <a:pt x="15121" y="848"/>
                    <a:pt x="15165" y="845"/>
                    <a:pt x="15212" y="837"/>
                  </a:cubicBezTo>
                  <a:cubicBezTo>
                    <a:pt x="15224" y="875"/>
                    <a:pt x="15279" y="883"/>
                    <a:pt x="15329" y="883"/>
                  </a:cubicBezTo>
                  <a:cubicBezTo>
                    <a:pt x="15378" y="883"/>
                    <a:pt x="15421" y="867"/>
                    <a:pt x="15471" y="854"/>
                  </a:cubicBezTo>
                  <a:cubicBezTo>
                    <a:pt x="15563" y="837"/>
                    <a:pt x="15662" y="875"/>
                    <a:pt x="15754" y="883"/>
                  </a:cubicBezTo>
                  <a:cubicBezTo>
                    <a:pt x="15847" y="892"/>
                    <a:pt x="15977" y="875"/>
                    <a:pt x="15989" y="812"/>
                  </a:cubicBezTo>
                  <a:cubicBezTo>
                    <a:pt x="15955" y="812"/>
                    <a:pt x="15926" y="800"/>
                    <a:pt x="15906" y="783"/>
                  </a:cubicBezTo>
                  <a:cubicBezTo>
                    <a:pt x="15887" y="767"/>
                    <a:pt x="15878" y="745"/>
                    <a:pt x="15884" y="724"/>
                  </a:cubicBezTo>
                  <a:cubicBezTo>
                    <a:pt x="15896" y="677"/>
                    <a:pt x="15977" y="644"/>
                    <a:pt x="15952" y="602"/>
                  </a:cubicBezTo>
                  <a:cubicBezTo>
                    <a:pt x="15940" y="580"/>
                    <a:pt x="15909" y="564"/>
                    <a:pt x="15884" y="555"/>
                  </a:cubicBezTo>
                  <a:lnTo>
                    <a:pt x="15495" y="395"/>
                  </a:lnTo>
                  <a:cubicBezTo>
                    <a:pt x="15452" y="379"/>
                    <a:pt x="15401" y="362"/>
                    <a:pt x="15351" y="355"/>
                  </a:cubicBezTo>
                  <a:cubicBezTo>
                    <a:pt x="15301" y="349"/>
                    <a:pt x="15252" y="353"/>
                    <a:pt x="15212" y="379"/>
                  </a:cubicBezTo>
                  <a:cubicBezTo>
                    <a:pt x="15199" y="391"/>
                    <a:pt x="15190" y="405"/>
                    <a:pt x="15181" y="419"/>
                  </a:cubicBezTo>
                  <a:cubicBezTo>
                    <a:pt x="15171" y="432"/>
                    <a:pt x="15162" y="446"/>
                    <a:pt x="15150" y="459"/>
                  </a:cubicBezTo>
                  <a:cubicBezTo>
                    <a:pt x="15116" y="482"/>
                    <a:pt x="15073" y="482"/>
                    <a:pt x="15029" y="472"/>
                  </a:cubicBezTo>
                  <a:cubicBezTo>
                    <a:pt x="14985" y="462"/>
                    <a:pt x="14940" y="442"/>
                    <a:pt x="14903" y="425"/>
                  </a:cubicBezTo>
                  <a:cubicBezTo>
                    <a:pt x="14897" y="389"/>
                    <a:pt x="14883" y="353"/>
                    <a:pt x="14863" y="319"/>
                  </a:cubicBezTo>
                  <a:cubicBezTo>
                    <a:pt x="14843" y="284"/>
                    <a:pt x="14817" y="250"/>
                    <a:pt x="14786" y="219"/>
                  </a:cubicBezTo>
                  <a:cubicBezTo>
                    <a:pt x="14792" y="242"/>
                    <a:pt x="14760" y="249"/>
                    <a:pt x="14723" y="246"/>
                  </a:cubicBezTo>
                  <a:cubicBezTo>
                    <a:pt x="14686" y="243"/>
                    <a:pt x="14644" y="229"/>
                    <a:pt x="14632" y="210"/>
                  </a:cubicBezTo>
                  <a:cubicBezTo>
                    <a:pt x="14585" y="166"/>
                    <a:pt x="14524" y="120"/>
                    <a:pt x="14456" y="89"/>
                  </a:cubicBezTo>
                  <a:cubicBezTo>
                    <a:pt x="14388" y="59"/>
                    <a:pt x="14314" y="44"/>
                    <a:pt x="14243" y="63"/>
                  </a:cubicBezTo>
                  <a:cubicBezTo>
                    <a:pt x="14221" y="88"/>
                    <a:pt x="14211" y="117"/>
                    <a:pt x="14209" y="145"/>
                  </a:cubicBezTo>
                  <a:cubicBezTo>
                    <a:pt x="14207" y="174"/>
                    <a:pt x="14215" y="202"/>
                    <a:pt x="14231" y="227"/>
                  </a:cubicBezTo>
                  <a:cubicBezTo>
                    <a:pt x="14209" y="215"/>
                    <a:pt x="14183" y="208"/>
                    <a:pt x="14159" y="208"/>
                  </a:cubicBezTo>
                  <a:cubicBezTo>
                    <a:pt x="14135" y="208"/>
                    <a:pt x="14113" y="215"/>
                    <a:pt x="14101" y="227"/>
                  </a:cubicBezTo>
                  <a:cubicBezTo>
                    <a:pt x="14086" y="189"/>
                    <a:pt x="14059" y="148"/>
                    <a:pt x="14022" y="116"/>
                  </a:cubicBezTo>
                  <a:cubicBezTo>
                    <a:pt x="13985" y="83"/>
                    <a:pt x="13938" y="59"/>
                    <a:pt x="13879" y="55"/>
                  </a:cubicBezTo>
                  <a:cubicBezTo>
                    <a:pt x="13820" y="44"/>
                    <a:pt x="13759" y="66"/>
                    <a:pt x="13722" y="99"/>
                  </a:cubicBezTo>
                  <a:cubicBezTo>
                    <a:pt x="13685" y="133"/>
                    <a:pt x="13672" y="177"/>
                    <a:pt x="13712" y="210"/>
                  </a:cubicBezTo>
                  <a:cubicBezTo>
                    <a:pt x="13666" y="185"/>
                    <a:pt x="13628" y="152"/>
                    <a:pt x="13598" y="116"/>
                  </a:cubicBezTo>
                  <a:cubicBezTo>
                    <a:pt x="13569" y="80"/>
                    <a:pt x="13549" y="40"/>
                    <a:pt x="13540" y="0"/>
                  </a:cubicBezTo>
                  <a:cubicBezTo>
                    <a:pt x="13469" y="0"/>
                    <a:pt x="13401" y="4"/>
                    <a:pt x="13334" y="13"/>
                  </a:cubicBezTo>
                  <a:cubicBezTo>
                    <a:pt x="13268" y="22"/>
                    <a:pt x="13203" y="36"/>
                    <a:pt x="13139" y="55"/>
                  </a:cubicBezTo>
                  <a:cubicBezTo>
                    <a:pt x="13126" y="59"/>
                    <a:pt x="13117" y="63"/>
                    <a:pt x="13108" y="67"/>
                  </a:cubicBezTo>
                  <a:cubicBezTo>
                    <a:pt x="13098" y="72"/>
                    <a:pt x="13089" y="76"/>
                    <a:pt x="13077" y="80"/>
                  </a:cubicBezTo>
                  <a:cubicBezTo>
                    <a:pt x="13065" y="88"/>
                    <a:pt x="13061" y="101"/>
                    <a:pt x="13061" y="115"/>
                  </a:cubicBezTo>
                  <a:cubicBezTo>
                    <a:pt x="13061" y="129"/>
                    <a:pt x="13065" y="145"/>
                    <a:pt x="13065" y="160"/>
                  </a:cubicBezTo>
                  <a:cubicBezTo>
                    <a:pt x="13071" y="193"/>
                    <a:pt x="13077" y="228"/>
                    <a:pt x="13085" y="263"/>
                  </a:cubicBezTo>
                  <a:cubicBezTo>
                    <a:pt x="13092" y="299"/>
                    <a:pt x="13102" y="334"/>
                    <a:pt x="13114" y="370"/>
                  </a:cubicBezTo>
                  <a:cubicBezTo>
                    <a:pt x="13083" y="322"/>
                    <a:pt x="13051" y="273"/>
                    <a:pt x="13020" y="225"/>
                  </a:cubicBezTo>
                  <a:cubicBezTo>
                    <a:pt x="12989" y="177"/>
                    <a:pt x="12960" y="128"/>
                    <a:pt x="12935" y="80"/>
                  </a:cubicBezTo>
                  <a:cubicBezTo>
                    <a:pt x="12923" y="67"/>
                    <a:pt x="12909" y="52"/>
                    <a:pt x="12893" y="38"/>
                  </a:cubicBezTo>
                  <a:cubicBezTo>
                    <a:pt x="12878" y="24"/>
                    <a:pt x="12861" y="13"/>
                    <a:pt x="12842" y="8"/>
                  </a:cubicBezTo>
                  <a:cubicBezTo>
                    <a:pt x="12818" y="4"/>
                    <a:pt x="12792" y="13"/>
                    <a:pt x="12770" y="27"/>
                  </a:cubicBezTo>
                  <a:cubicBezTo>
                    <a:pt x="12748" y="41"/>
                    <a:pt x="12731" y="61"/>
                    <a:pt x="12725" y="80"/>
                  </a:cubicBezTo>
                  <a:cubicBezTo>
                    <a:pt x="12704" y="124"/>
                    <a:pt x="12690" y="169"/>
                    <a:pt x="12684" y="214"/>
                  </a:cubicBezTo>
                  <a:cubicBezTo>
                    <a:pt x="12679" y="259"/>
                    <a:pt x="12682" y="303"/>
                    <a:pt x="12694" y="345"/>
                  </a:cubicBezTo>
                  <a:cubicBezTo>
                    <a:pt x="12676" y="318"/>
                    <a:pt x="12648" y="294"/>
                    <a:pt x="12616" y="277"/>
                  </a:cubicBezTo>
                  <a:cubicBezTo>
                    <a:pt x="12583" y="259"/>
                    <a:pt x="12546" y="246"/>
                    <a:pt x="12509" y="240"/>
                  </a:cubicBezTo>
                  <a:cubicBezTo>
                    <a:pt x="12515" y="200"/>
                    <a:pt x="12483" y="162"/>
                    <a:pt x="12438" y="139"/>
                  </a:cubicBezTo>
                  <a:cubicBezTo>
                    <a:pt x="12392" y="117"/>
                    <a:pt x="12333" y="109"/>
                    <a:pt x="12287" y="130"/>
                  </a:cubicBezTo>
                  <a:cubicBezTo>
                    <a:pt x="12235" y="149"/>
                    <a:pt x="12212" y="189"/>
                    <a:pt x="12215" y="228"/>
                  </a:cubicBezTo>
                  <a:cubicBezTo>
                    <a:pt x="12218" y="266"/>
                    <a:pt x="12247" y="303"/>
                    <a:pt x="12299" y="315"/>
                  </a:cubicBezTo>
                  <a:cubicBezTo>
                    <a:pt x="12259" y="343"/>
                    <a:pt x="12236" y="381"/>
                    <a:pt x="12232" y="420"/>
                  </a:cubicBezTo>
                  <a:cubicBezTo>
                    <a:pt x="12227" y="459"/>
                    <a:pt x="12241" y="498"/>
                    <a:pt x="12275" y="530"/>
                  </a:cubicBezTo>
                  <a:cubicBezTo>
                    <a:pt x="12229" y="530"/>
                    <a:pt x="12196" y="511"/>
                    <a:pt x="12171" y="486"/>
                  </a:cubicBezTo>
                  <a:cubicBezTo>
                    <a:pt x="12145" y="461"/>
                    <a:pt x="12127" y="429"/>
                    <a:pt x="12108" y="404"/>
                  </a:cubicBezTo>
                  <a:cubicBezTo>
                    <a:pt x="12087" y="376"/>
                    <a:pt x="12054" y="350"/>
                    <a:pt x="12019" y="335"/>
                  </a:cubicBezTo>
                  <a:cubicBezTo>
                    <a:pt x="11983" y="321"/>
                    <a:pt x="11945" y="318"/>
                    <a:pt x="11911" y="337"/>
                  </a:cubicBezTo>
                  <a:cubicBezTo>
                    <a:pt x="11905" y="341"/>
                    <a:pt x="11898" y="347"/>
                    <a:pt x="11892" y="354"/>
                  </a:cubicBezTo>
                  <a:cubicBezTo>
                    <a:pt x="11886" y="362"/>
                    <a:pt x="11880" y="370"/>
                    <a:pt x="11874" y="379"/>
                  </a:cubicBezTo>
                  <a:cubicBezTo>
                    <a:pt x="11821" y="471"/>
                    <a:pt x="11843" y="575"/>
                    <a:pt x="11914" y="658"/>
                  </a:cubicBezTo>
                  <a:cubicBezTo>
                    <a:pt x="11985" y="741"/>
                    <a:pt x="12105" y="803"/>
                    <a:pt x="12250" y="812"/>
                  </a:cubicBezTo>
                  <a:cubicBezTo>
                    <a:pt x="12269" y="812"/>
                    <a:pt x="12290" y="812"/>
                    <a:pt x="12311" y="814"/>
                  </a:cubicBezTo>
                  <a:cubicBezTo>
                    <a:pt x="12332" y="816"/>
                    <a:pt x="12352" y="820"/>
                    <a:pt x="12367" y="829"/>
                  </a:cubicBezTo>
                  <a:cubicBezTo>
                    <a:pt x="12380" y="837"/>
                    <a:pt x="12392" y="851"/>
                    <a:pt x="12398" y="864"/>
                  </a:cubicBezTo>
                  <a:cubicBezTo>
                    <a:pt x="12404" y="878"/>
                    <a:pt x="12404" y="892"/>
                    <a:pt x="12392" y="900"/>
                  </a:cubicBezTo>
                  <a:cubicBezTo>
                    <a:pt x="12321" y="888"/>
                    <a:pt x="12253" y="874"/>
                    <a:pt x="12185" y="860"/>
                  </a:cubicBezTo>
                  <a:cubicBezTo>
                    <a:pt x="12117" y="847"/>
                    <a:pt x="12050" y="833"/>
                    <a:pt x="11979" y="820"/>
                  </a:cubicBezTo>
                  <a:cubicBezTo>
                    <a:pt x="11957" y="816"/>
                    <a:pt x="11934" y="812"/>
                    <a:pt x="11912" y="807"/>
                  </a:cubicBezTo>
                  <a:cubicBezTo>
                    <a:pt x="11889" y="801"/>
                    <a:pt x="11868" y="795"/>
                    <a:pt x="11849" y="787"/>
                  </a:cubicBezTo>
                  <a:cubicBezTo>
                    <a:pt x="11828" y="772"/>
                    <a:pt x="11811" y="756"/>
                    <a:pt x="11794" y="741"/>
                  </a:cubicBezTo>
                  <a:cubicBezTo>
                    <a:pt x="11778" y="726"/>
                    <a:pt x="11763" y="711"/>
                    <a:pt x="11744" y="698"/>
                  </a:cubicBezTo>
                  <a:cubicBezTo>
                    <a:pt x="11698" y="650"/>
                    <a:pt x="11636" y="608"/>
                    <a:pt x="11564" y="577"/>
                  </a:cubicBezTo>
                  <a:cubicBezTo>
                    <a:pt x="11491" y="546"/>
                    <a:pt x="11408" y="526"/>
                    <a:pt x="11319" y="522"/>
                  </a:cubicBezTo>
                  <a:cubicBezTo>
                    <a:pt x="11303" y="583"/>
                    <a:pt x="11322" y="644"/>
                    <a:pt x="11362" y="698"/>
                  </a:cubicBezTo>
                  <a:cubicBezTo>
                    <a:pt x="11402" y="753"/>
                    <a:pt x="11463" y="801"/>
                    <a:pt x="11534" y="837"/>
                  </a:cubicBezTo>
                  <a:cubicBezTo>
                    <a:pt x="11605" y="877"/>
                    <a:pt x="11687" y="906"/>
                    <a:pt x="11772" y="930"/>
                  </a:cubicBezTo>
                  <a:cubicBezTo>
                    <a:pt x="11857" y="954"/>
                    <a:pt x="11945" y="972"/>
                    <a:pt x="12028" y="989"/>
                  </a:cubicBezTo>
                  <a:cubicBezTo>
                    <a:pt x="11982" y="1020"/>
                    <a:pt x="11937" y="1060"/>
                    <a:pt x="11915" y="1099"/>
                  </a:cubicBezTo>
                  <a:cubicBezTo>
                    <a:pt x="11892" y="1139"/>
                    <a:pt x="11892" y="1178"/>
                    <a:pt x="11935" y="1207"/>
                  </a:cubicBezTo>
                  <a:lnTo>
                    <a:pt x="11898" y="1262"/>
                  </a:lnTo>
                  <a:cubicBezTo>
                    <a:pt x="11905" y="1319"/>
                    <a:pt x="11914" y="1376"/>
                    <a:pt x="11923" y="1433"/>
                  </a:cubicBezTo>
                  <a:cubicBezTo>
                    <a:pt x="11932" y="1490"/>
                    <a:pt x="11942" y="1548"/>
                    <a:pt x="11948" y="1607"/>
                  </a:cubicBezTo>
                  <a:cubicBezTo>
                    <a:pt x="11871" y="1592"/>
                    <a:pt x="11820" y="1552"/>
                    <a:pt x="11787" y="1503"/>
                  </a:cubicBezTo>
                  <a:cubicBezTo>
                    <a:pt x="11753" y="1453"/>
                    <a:pt x="11738" y="1394"/>
                    <a:pt x="11732" y="1342"/>
                  </a:cubicBezTo>
                  <a:cubicBezTo>
                    <a:pt x="11732" y="1289"/>
                    <a:pt x="11732" y="1229"/>
                    <a:pt x="11717" y="1174"/>
                  </a:cubicBezTo>
                  <a:cubicBezTo>
                    <a:pt x="11703" y="1118"/>
                    <a:pt x="11673" y="1066"/>
                    <a:pt x="11615" y="1031"/>
                  </a:cubicBezTo>
                  <a:cubicBezTo>
                    <a:pt x="11587" y="1062"/>
                    <a:pt x="11570" y="1098"/>
                    <a:pt x="11561" y="1135"/>
                  </a:cubicBezTo>
                  <a:cubicBezTo>
                    <a:pt x="11553" y="1171"/>
                    <a:pt x="11553" y="1209"/>
                    <a:pt x="11559" y="1245"/>
                  </a:cubicBezTo>
                  <a:cubicBezTo>
                    <a:pt x="11522" y="1245"/>
                    <a:pt x="11484" y="1247"/>
                    <a:pt x="11445" y="1252"/>
                  </a:cubicBezTo>
                  <a:cubicBezTo>
                    <a:pt x="11406" y="1258"/>
                    <a:pt x="11368" y="1266"/>
                    <a:pt x="11331" y="1279"/>
                  </a:cubicBezTo>
                  <a:cubicBezTo>
                    <a:pt x="11309" y="1310"/>
                    <a:pt x="11315" y="1352"/>
                    <a:pt x="11315" y="1389"/>
                  </a:cubicBezTo>
                  <a:cubicBezTo>
                    <a:pt x="11315" y="1425"/>
                    <a:pt x="11309" y="1455"/>
                    <a:pt x="11263" y="1464"/>
                  </a:cubicBezTo>
                  <a:cubicBezTo>
                    <a:pt x="11232" y="1468"/>
                    <a:pt x="11203" y="1455"/>
                    <a:pt x="11178" y="1437"/>
                  </a:cubicBezTo>
                  <a:cubicBezTo>
                    <a:pt x="11153" y="1419"/>
                    <a:pt x="11133" y="1394"/>
                    <a:pt x="11121" y="1376"/>
                  </a:cubicBezTo>
                  <a:cubicBezTo>
                    <a:pt x="11109" y="1354"/>
                    <a:pt x="11073" y="1334"/>
                    <a:pt x="11038" y="1326"/>
                  </a:cubicBezTo>
                  <a:cubicBezTo>
                    <a:pt x="11002" y="1317"/>
                    <a:pt x="10967" y="1319"/>
                    <a:pt x="10954" y="1342"/>
                  </a:cubicBezTo>
                  <a:cubicBezTo>
                    <a:pt x="10930" y="1304"/>
                    <a:pt x="10967" y="1254"/>
                    <a:pt x="11029" y="1254"/>
                  </a:cubicBezTo>
                  <a:cubicBezTo>
                    <a:pt x="11072" y="1254"/>
                    <a:pt x="11121" y="1270"/>
                    <a:pt x="11146" y="1254"/>
                  </a:cubicBezTo>
                  <a:cubicBezTo>
                    <a:pt x="11158" y="1245"/>
                    <a:pt x="11158" y="1237"/>
                    <a:pt x="11158" y="1216"/>
                  </a:cubicBezTo>
                  <a:cubicBezTo>
                    <a:pt x="11152" y="1182"/>
                    <a:pt x="11149" y="1148"/>
                    <a:pt x="11141" y="1116"/>
                  </a:cubicBezTo>
                  <a:cubicBezTo>
                    <a:pt x="11133" y="1083"/>
                    <a:pt x="11121" y="1052"/>
                    <a:pt x="11096" y="1022"/>
                  </a:cubicBezTo>
                  <a:cubicBezTo>
                    <a:pt x="11072" y="991"/>
                    <a:pt x="11036" y="964"/>
                    <a:pt x="10994" y="948"/>
                  </a:cubicBezTo>
                  <a:cubicBezTo>
                    <a:pt x="10951" y="932"/>
                    <a:pt x="10902" y="925"/>
                    <a:pt x="10850" y="934"/>
                  </a:cubicBezTo>
                  <a:cubicBezTo>
                    <a:pt x="10843" y="949"/>
                    <a:pt x="10837" y="964"/>
                    <a:pt x="10831" y="980"/>
                  </a:cubicBezTo>
                  <a:cubicBezTo>
                    <a:pt x="10825" y="995"/>
                    <a:pt x="10819" y="1010"/>
                    <a:pt x="10813" y="1022"/>
                  </a:cubicBezTo>
                  <a:cubicBezTo>
                    <a:pt x="10760" y="961"/>
                    <a:pt x="10708" y="900"/>
                    <a:pt x="10658" y="839"/>
                  </a:cubicBezTo>
                  <a:cubicBezTo>
                    <a:pt x="10607" y="777"/>
                    <a:pt x="10560" y="715"/>
                    <a:pt x="10516" y="652"/>
                  </a:cubicBezTo>
                  <a:cubicBezTo>
                    <a:pt x="10464" y="665"/>
                    <a:pt x="10424" y="696"/>
                    <a:pt x="10405" y="732"/>
                  </a:cubicBezTo>
                  <a:cubicBezTo>
                    <a:pt x="10387" y="768"/>
                    <a:pt x="10390" y="808"/>
                    <a:pt x="10424" y="837"/>
                  </a:cubicBezTo>
                  <a:cubicBezTo>
                    <a:pt x="10449" y="867"/>
                    <a:pt x="10498" y="883"/>
                    <a:pt x="10529" y="917"/>
                  </a:cubicBezTo>
                  <a:cubicBezTo>
                    <a:pt x="10578" y="972"/>
                    <a:pt x="10578" y="1039"/>
                    <a:pt x="10529" y="1094"/>
                  </a:cubicBezTo>
                  <a:cubicBezTo>
                    <a:pt x="10507" y="1073"/>
                    <a:pt x="10472" y="1059"/>
                    <a:pt x="10435" y="1055"/>
                  </a:cubicBezTo>
                  <a:cubicBezTo>
                    <a:pt x="10398" y="1052"/>
                    <a:pt x="10359" y="1058"/>
                    <a:pt x="10331" y="1077"/>
                  </a:cubicBezTo>
                  <a:cubicBezTo>
                    <a:pt x="10325" y="1050"/>
                    <a:pt x="10319" y="1025"/>
                    <a:pt x="10314" y="1001"/>
                  </a:cubicBezTo>
                  <a:cubicBezTo>
                    <a:pt x="10310" y="977"/>
                    <a:pt x="10307" y="953"/>
                    <a:pt x="10307" y="925"/>
                  </a:cubicBezTo>
                  <a:cubicBezTo>
                    <a:pt x="10202" y="900"/>
                    <a:pt x="10097" y="892"/>
                    <a:pt x="9998" y="892"/>
                  </a:cubicBezTo>
                  <a:cubicBezTo>
                    <a:pt x="9943" y="892"/>
                    <a:pt x="9881" y="900"/>
                    <a:pt x="9869" y="934"/>
                  </a:cubicBezTo>
                  <a:cubicBezTo>
                    <a:pt x="9847" y="974"/>
                    <a:pt x="9895" y="1005"/>
                    <a:pt x="9943" y="1037"/>
                  </a:cubicBezTo>
                  <a:cubicBezTo>
                    <a:pt x="9992" y="1068"/>
                    <a:pt x="10041" y="1100"/>
                    <a:pt x="10023" y="1140"/>
                  </a:cubicBezTo>
                  <a:cubicBezTo>
                    <a:pt x="9989" y="1157"/>
                    <a:pt x="9952" y="1152"/>
                    <a:pt x="9919" y="1137"/>
                  </a:cubicBezTo>
                  <a:cubicBezTo>
                    <a:pt x="9886" y="1122"/>
                    <a:pt x="9856" y="1098"/>
                    <a:pt x="9838" y="1077"/>
                  </a:cubicBezTo>
                  <a:cubicBezTo>
                    <a:pt x="9816" y="1054"/>
                    <a:pt x="9778" y="1036"/>
                    <a:pt x="9741" y="1031"/>
                  </a:cubicBezTo>
                  <a:cubicBezTo>
                    <a:pt x="9705" y="1025"/>
                    <a:pt x="9671" y="1033"/>
                    <a:pt x="9659" y="1060"/>
                  </a:cubicBezTo>
                  <a:cubicBezTo>
                    <a:pt x="9653" y="1073"/>
                    <a:pt x="9656" y="1083"/>
                    <a:pt x="9663" y="1094"/>
                  </a:cubicBezTo>
                  <a:cubicBezTo>
                    <a:pt x="9671" y="1104"/>
                    <a:pt x="9684" y="1115"/>
                    <a:pt x="9696" y="1127"/>
                  </a:cubicBezTo>
                  <a:cubicBezTo>
                    <a:pt x="9730" y="1155"/>
                    <a:pt x="9765" y="1180"/>
                    <a:pt x="9801" y="1205"/>
                  </a:cubicBezTo>
                  <a:cubicBezTo>
                    <a:pt x="9836" y="1229"/>
                    <a:pt x="9872" y="1254"/>
                    <a:pt x="9906" y="1279"/>
                  </a:cubicBezTo>
                  <a:cubicBezTo>
                    <a:pt x="9872" y="1279"/>
                    <a:pt x="9842" y="1272"/>
                    <a:pt x="9820" y="1260"/>
                  </a:cubicBezTo>
                  <a:cubicBezTo>
                    <a:pt x="9798" y="1248"/>
                    <a:pt x="9782" y="1230"/>
                    <a:pt x="9776" y="1207"/>
                  </a:cubicBezTo>
                  <a:cubicBezTo>
                    <a:pt x="9742" y="1226"/>
                    <a:pt x="9704" y="1231"/>
                    <a:pt x="9665" y="1227"/>
                  </a:cubicBezTo>
                  <a:cubicBezTo>
                    <a:pt x="9626" y="1223"/>
                    <a:pt x="9588" y="1209"/>
                    <a:pt x="9554" y="1190"/>
                  </a:cubicBezTo>
                  <a:cubicBezTo>
                    <a:pt x="9529" y="1174"/>
                    <a:pt x="9511" y="1152"/>
                    <a:pt x="9495" y="1127"/>
                  </a:cubicBezTo>
                  <a:cubicBezTo>
                    <a:pt x="9480" y="1103"/>
                    <a:pt x="9468" y="1077"/>
                    <a:pt x="9455" y="1052"/>
                  </a:cubicBezTo>
                  <a:cubicBezTo>
                    <a:pt x="9403" y="1064"/>
                    <a:pt x="9347" y="1077"/>
                    <a:pt x="9290" y="1087"/>
                  </a:cubicBezTo>
                  <a:cubicBezTo>
                    <a:pt x="9233" y="1098"/>
                    <a:pt x="9175" y="1106"/>
                    <a:pt x="9116" y="1110"/>
                  </a:cubicBezTo>
                  <a:cubicBezTo>
                    <a:pt x="9156" y="1150"/>
                    <a:pt x="9195" y="1190"/>
                    <a:pt x="9235" y="1231"/>
                  </a:cubicBezTo>
                  <a:cubicBezTo>
                    <a:pt x="9275" y="1272"/>
                    <a:pt x="9316" y="1315"/>
                    <a:pt x="9363" y="1359"/>
                  </a:cubicBezTo>
                  <a:cubicBezTo>
                    <a:pt x="9381" y="1376"/>
                    <a:pt x="9397" y="1393"/>
                    <a:pt x="9414" y="1409"/>
                  </a:cubicBezTo>
                  <a:cubicBezTo>
                    <a:pt x="9432" y="1425"/>
                    <a:pt x="9452" y="1439"/>
                    <a:pt x="9480" y="1447"/>
                  </a:cubicBezTo>
                  <a:cubicBezTo>
                    <a:pt x="9539" y="1474"/>
                    <a:pt x="9603" y="1481"/>
                    <a:pt x="9670" y="1477"/>
                  </a:cubicBezTo>
                  <a:cubicBezTo>
                    <a:pt x="9736" y="1473"/>
                    <a:pt x="9804" y="1460"/>
                    <a:pt x="9869" y="1447"/>
                  </a:cubicBezTo>
                  <a:cubicBezTo>
                    <a:pt x="9887" y="1455"/>
                    <a:pt x="9906" y="1466"/>
                    <a:pt x="9925" y="1477"/>
                  </a:cubicBezTo>
                  <a:cubicBezTo>
                    <a:pt x="9944" y="1488"/>
                    <a:pt x="9964" y="1500"/>
                    <a:pt x="9986" y="1510"/>
                  </a:cubicBezTo>
                  <a:cubicBezTo>
                    <a:pt x="10106" y="1495"/>
                    <a:pt x="10231" y="1486"/>
                    <a:pt x="10357" y="1481"/>
                  </a:cubicBezTo>
                  <a:cubicBezTo>
                    <a:pt x="10483" y="1476"/>
                    <a:pt x="10609" y="1476"/>
                    <a:pt x="10732" y="1481"/>
                  </a:cubicBezTo>
                  <a:cubicBezTo>
                    <a:pt x="10825" y="1525"/>
                    <a:pt x="10919" y="1567"/>
                    <a:pt x="11015" y="1607"/>
                  </a:cubicBezTo>
                  <a:cubicBezTo>
                    <a:pt x="11110" y="1647"/>
                    <a:pt x="11207" y="1685"/>
                    <a:pt x="11306" y="1720"/>
                  </a:cubicBezTo>
                  <a:cubicBezTo>
                    <a:pt x="11325" y="1704"/>
                    <a:pt x="11340" y="1686"/>
                    <a:pt x="11356" y="1667"/>
                  </a:cubicBezTo>
                  <a:cubicBezTo>
                    <a:pt x="11371" y="1648"/>
                    <a:pt x="11386" y="1628"/>
                    <a:pt x="11405" y="1607"/>
                  </a:cubicBezTo>
                  <a:cubicBezTo>
                    <a:pt x="11417" y="1668"/>
                    <a:pt x="11431" y="1727"/>
                    <a:pt x="11447" y="1786"/>
                  </a:cubicBezTo>
                  <a:cubicBezTo>
                    <a:pt x="11462" y="1846"/>
                    <a:pt x="11479" y="1906"/>
                    <a:pt x="11497" y="1969"/>
                  </a:cubicBezTo>
                  <a:cubicBezTo>
                    <a:pt x="11510" y="2021"/>
                    <a:pt x="11522" y="2076"/>
                    <a:pt x="11530" y="2132"/>
                  </a:cubicBezTo>
                  <a:cubicBezTo>
                    <a:pt x="11538" y="2187"/>
                    <a:pt x="11541" y="2244"/>
                    <a:pt x="11534" y="2301"/>
                  </a:cubicBezTo>
                  <a:cubicBezTo>
                    <a:pt x="11491" y="2236"/>
                    <a:pt x="11443" y="2171"/>
                    <a:pt x="11395" y="2105"/>
                  </a:cubicBezTo>
                  <a:cubicBezTo>
                    <a:pt x="11346" y="2039"/>
                    <a:pt x="11297" y="1973"/>
                    <a:pt x="11251" y="1906"/>
                  </a:cubicBezTo>
                  <a:cubicBezTo>
                    <a:pt x="11238" y="1889"/>
                    <a:pt x="11226" y="1869"/>
                    <a:pt x="11210" y="1849"/>
                  </a:cubicBezTo>
                  <a:cubicBezTo>
                    <a:pt x="11194" y="1829"/>
                    <a:pt x="11174" y="1809"/>
                    <a:pt x="11146" y="1792"/>
                  </a:cubicBezTo>
                  <a:cubicBezTo>
                    <a:pt x="11109" y="1760"/>
                    <a:pt x="11058" y="1736"/>
                    <a:pt x="11002" y="1716"/>
                  </a:cubicBezTo>
                  <a:cubicBezTo>
                    <a:pt x="10945" y="1696"/>
                    <a:pt x="10884" y="1680"/>
                    <a:pt x="10825" y="1666"/>
                  </a:cubicBezTo>
                  <a:cubicBezTo>
                    <a:pt x="10760" y="1653"/>
                    <a:pt x="10698" y="1638"/>
                    <a:pt x="10637" y="1623"/>
                  </a:cubicBezTo>
                  <a:cubicBezTo>
                    <a:pt x="10575" y="1608"/>
                    <a:pt x="10513" y="1592"/>
                    <a:pt x="10449" y="1577"/>
                  </a:cubicBezTo>
                  <a:cubicBezTo>
                    <a:pt x="10399" y="1615"/>
                    <a:pt x="10486" y="1666"/>
                    <a:pt x="10566" y="1687"/>
                  </a:cubicBezTo>
                  <a:cubicBezTo>
                    <a:pt x="10695" y="1720"/>
                    <a:pt x="10800" y="1784"/>
                    <a:pt x="10874" y="1851"/>
                  </a:cubicBezTo>
                  <a:cubicBezTo>
                    <a:pt x="10961" y="1935"/>
                    <a:pt x="11004" y="2035"/>
                    <a:pt x="11023" y="2139"/>
                  </a:cubicBezTo>
                  <a:cubicBezTo>
                    <a:pt x="11042" y="2243"/>
                    <a:pt x="11038" y="2351"/>
                    <a:pt x="11029" y="2452"/>
                  </a:cubicBezTo>
                  <a:cubicBezTo>
                    <a:pt x="10954" y="2444"/>
                    <a:pt x="10899" y="2381"/>
                    <a:pt x="10899" y="2322"/>
                  </a:cubicBezTo>
                  <a:cubicBezTo>
                    <a:pt x="10899" y="2259"/>
                    <a:pt x="10917" y="2204"/>
                    <a:pt x="10887" y="2154"/>
                  </a:cubicBezTo>
                  <a:cubicBezTo>
                    <a:pt x="10874" y="2118"/>
                    <a:pt x="10850" y="2090"/>
                    <a:pt x="10820" y="2063"/>
                  </a:cubicBezTo>
                  <a:cubicBezTo>
                    <a:pt x="10789" y="2037"/>
                    <a:pt x="10754" y="2013"/>
                    <a:pt x="10720" y="1985"/>
                  </a:cubicBezTo>
                  <a:lnTo>
                    <a:pt x="10399" y="1767"/>
                  </a:lnTo>
                  <a:cubicBezTo>
                    <a:pt x="10399" y="1809"/>
                    <a:pt x="10413" y="1850"/>
                    <a:pt x="10432" y="1890"/>
                  </a:cubicBezTo>
                  <a:cubicBezTo>
                    <a:pt x="10452" y="1931"/>
                    <a:pt x="10476" y="1971"/>
                    <a:pt x="10498" y="2011"/>
                  </a:cubicBezTo>
                  <a:cubicBezTo>
                    <a:pt x="10516" y="2051"/>
                    <a:pt x="10530" y="2095"/>
                    <a:pt x="10530" y="2138"/>
                  </a:cubicBezTo>
                  <a:cubicBezTo>
                    <a:pt x="10529" y="2181"/>
                    <a:pt x="10513" y="2223"/>
                    <a:pt x="10473" y="2259"/>
                  </a:cubicBezTo>
                  <a:cubicBezTo>
                    <a:pt x="10408" y="2242"/>
                    <a:pt x="10364" y="2202"/>
                    <a:pt x="10347" y="2156"/>
                  </a:cubicBezTo>
                  <a:cubicBezTo>
                    <a:pt x="10330" y="2111"/>
                    <a:pt x="10341" y="2059"/>
                    <a:pt x="10387" y="2019"/>
                  </a:cubicBezTo>
                  <a:cubicBezTo>
                    <a:pt x="10313" y="1994"/>
                    <a:pt x="10305" y="1933"/>
                    <a:pt x="10298" y="1872"/>
                  </a:cubicBezTo>
                  <a:cubicBezTo>
                    <a:pt x="10291" y="1812"/>
                    <a:pt x="10285" y="1752"/>
                    <a:pt x="10214" y="1729"/>
                  </a:cubicBezTo>
                  <a:cubicBezTo>
                    <a:pt x="10165" y="1712"/>
                    <a:pt x="10097" y="1729"/>
                    <a:pt x="10035" y="1729"/>
                  </a:cubicBezTo>
                  <a:cubicBezTo>
                    <a:pt x="9943" y="1729"/>
                    <a:pt x="9856" y="1704"/>
                    <a:pt x="9764" y="1695"/>
                  </a:cubicBezTo>
                  <a:cubicBezTo>
                    <a:pt x="9671" y="1687"/>
                    <a:pt x="9554" y="1712"/>
                    <a:pt x="9542" y="1775"/>
                  </a:cubicBezTo>
                  <a:cubicBezTo>
                    <a:pt x="9705" y="1853"/>
                    <a:pt x="9844" y="1954"/>
                    <a:pt x="9950" y="2069"/>
                  </a:cubicBezTo>
                  <a:cubicBezTo>
                    <a:pt x="10057" y="2183"/>
                    <a:pt x="10131" y="2311"/>
                    <a:pt x="10165" y="2444"/>
                  </a:cubicBezTo>
                  <a:cubicBezTo>
                    <a:pt x="10242" y="2448"/>
                    <a:pt x="10316" y="2466"/>
                    <a:pt x="10384" y="2493"/>
                  </a:cubicBezTo>
                  <a:cubicBezTo>
                    <a:pt x="10452" y="2520"/>
                    <a:pt x="10513" y="2555"/>
                    <a:pt x="10566" y="2595"/>
                  </a:cubicBezTo>
                  <a:cubicBezTo>
                    <a:pt x="10501" y="2587"/>
                    <a:pt x="10439" y="2575"/>
                    <a:pt x="10381" y="2560"/>
                  </a:cubicBezTo>
                  <a:cubicBezTo>
                    <a:pt x="10322" y="2544"/>
                    <a:pt x="10267" y="2524"/>
                    <a:pt x="10214" y="2499"/>
                  </a:cubicBezTo>
                  <a:cubicBezTo>
                    <a:pt x="10041" y="2419"/>
                    <a:pt x="9920" y="2306"/>
                    <a:pt x="9803" y="2189"/>
                  </a:cubicBezTo>
                  <a:cubicBezTo>
                    <a:pt x="9687" y="2072"/>
                    <a:pt x="9576" y="1950"/>
                    <a:pt x="9424" y="1851"/>
                  </a:cubicBezTo>
                  <a:cubicBezTo>
                    <a:pt x="9387" y="1830"/>
                    <a:pt x="9346" y="1809"/>
                    <a:pt x="9302" y="1796"/>
                  </a:cubicBezTo>
                  <a:cubicBezTo>
                    <a:pt x="9258" y="1784"/>
                    <a:pt x="9212" y="1779"/>
                    <a:pt x="9165" y="1792"/>
                  </a:cubicBezTo>
                  <a:cubicBezTo>
                    <a:pt x="9252" y="1872"/>
                    <a:pt x="9333" y="1949"/>
                    <a:pt x="9414" y="2025"/>
                  </a:cubicBezTo>
                  <a:cubicBezTo>
                    <a:pt x="9495" y="2102"/>
                    <a:pt x="9576" y="2179"/>
                    <a:pt x="9659" y="2259"/>
                  </a:cubicBezTo>
                  <a:cubicBezTo>
                    <a:pt x="9693" y="2290"/>
                    <a:pt x="9725" y="2323"/>
                    <a:pt x="9754" y="2358"/>
                  </a:cubicBezTo>
                  <a:cubicBezTo>
                    <a:pt x="9782" y="2392"/>
                    <a:pt x="9807" y="2429"/>
                    <a:pt x="9825" y="2469"/>
                  </a:cubicBezTo>
                  <a:cubicBezTo>
                    <a:pt x="9841" y="2509"/>
                    <a:pt x="9858" y="2561"/>
                    <a:pt x="9886" y="2600"/>
                  </a:cubicBezTo>
                  <a:cubicBezTo>
                    <a:pt x="9913" y="2638"/>
                    <a:pt x="9952" y="2665"/>
                    <a:pt x="10011" y="2654"/>
                  </a:cubicBezTo>
                  <a:cubicBezTo>
                    <a:pt x="9955" y="2717"/>
                    <a:pt x="9813" y="2679"/>
                    <a:pt x="9739" y="2629"/>
                  </a:cubicBezTo>
                  <a:cubicBezTo>
                    <a:pt x="9437" y="2423"/>
                    <a:pt x="9400" y="2065"/>
                    <a:pt x="9023" y="1931"/>
                  </a:cubicBezTo>
                  <a:cubicBezTo>
                    <a:pt x="8974" y="1967"/>
                    <a:pt x="8965" y="2016"/>
                    <a:pt x="8976" y="2067"/>
                  </a:cubicBezTo>
                  <a:cubicBezTo>
                    <a:pt x="8986" y="2119"/>
                    <a:pt x="9017" y="2173"/>
                    <a:pt x="9048" y="2217"/>
                  </a:cubicBezTo>
                  <a:cubicBezTo>
                    <a:pt x="9070" y="2238"/>
                    <a:pt x="9087" y="2262"/>
                    <a:pt x="9103" y="2286"/>
                  </a:cubicBezTo>
                  <a:cubicBezTo>
                    <a:pt x="9119" y="2310"/>
                    <a:pt x="9134" y="2335"/>
                    <a:pt x="9153" y="2356"/>
                  </a:cubicBezTo>
                  <a:cubicBezTo>
                    <a:pt x="9165" y="2368"/>
                    <a:pt x="9176" y="2382"/>
                    <a:pt x="9187" y="2396"/>
                  </a:cubicBezTo>
                  <a:cubicBezTo>
                    <a:pt x="9198" y="2409"/>
                    <a:pt x="9208" y="2423"/>
                    <a:pt x="9221" y="2436"/>
                  </a:cubicBezTo>
                  <a:cubicBezTo>
                    <a:pt x="9239" y="2457"/>
                    <a:pt x="9266" y="2477"/>
                    <a:pt x="9293" y="2495"/>
                  </a:cubicBezTo>
                  <a:cubicBezTo>
                    <a:pt x="9321" y="2514"/>
                    <a:pt x="9350" y="2532"/>
                    <a:pt x="9375" y="2549"/>
                  </a:cubicBezTo>
                  <a:cubicBezTo>
                    <a:pt x="9597" y="2692"/>
                    <a:pt x="9764" y="2869"/>
                    <a:pt x="9856" y="3062"/>
                  </a:cubicBezTo>
                  <a:cubicBezTo>
                    <a:pt x="9869" y="3088"/>
                    <a:pt x="9881" y="3113"/>
                    <a:pt x="9869" y="3134"/>
                  </a:cubicBezTo>
                  <a:cubicBezTo>
                    <a:pt x="9853" y="3163"/>
                    <a:pt x="9807" y="3174"/>
                    <a:pt x="9757" y="3169"/>
                  </a:cubicBezTo>
                  <a:cubicBezTo>
                    <a:pt x="9707" y="3164"/>
                    <a:pt x="9653" y="3144"/>
                    <a:pt x="9622" y="3113"/>
                  </a:cubicBezTo>
                  <a:cubicBezTo>
                    <a:pt x="9588" y="3132"/>
                    <a:pt x="9552" y="3150"/>
                    <a:pt x="9515" y="3163"/>
                  </a:cubicBezTo>
                  <a:cubicBezTo>
                    <a:pt x="9478" y="3176"/>
                    <a:pt x="9440" y="3184"/>
                    <a:pt x="9400" y="3184"/>
                  </a:cubicBezTo>
                  <a:cubicBezTo>
                    <a:pt x="9316" y="3188"/>
                    <a:pt x="9239" y="3171"/>
                    <a:pt x="9167" y="3142"/>
                  </a:cubicBezTo>
                  <a:cubicBezTo>
                    <a:pt x="9094" y="3114"/>
                    <a:pt x="9026" y="3075"/>
                    <a:pt x="8962" y="3037"/>
                  </a:cubicBezTo>
                  <a:cubicBezTo>
                    <a:pt x="8897" y="2997"/>
                    <a:pt x="8829" y="2955"/>
                    <a:pt x="8761" y="2913"/>
                  </a:cubicBezTo>
                  <a:cubicBezTo>
                    <a:pt x="8693" y="2871"/>
                    <a:pt x="8625" y="2829"/>
                    <a:pt x="8561" y="2789"/>
                  </a:cubicBezTo>
                  <a:cubicBezTo>
                    <a:pt x="8527" y="2766"/>
                    <a:pt x="8494" y="2746"/>
                    <a:pt x="8465" y="2725"/>
                  </a:cubicBezTo>
                  <a:cubicBezTo>
                    <a:pt x="8436" y="2704"/>
                    <a:pt x="8410" y="2682"/>
                    <a:pt x="8388" y="2654"/>
                  </a:cubicBezTo>
                  <a:cubicBezTo>
                    <a:pt x="8376" y="2642"/>
                    <a:pt x="8363" y="2627"/>
                    <a:pt x="8351" y="2612"/>
                  </a:cubicBezTo>
                  <a:cubicBezTo>
                    <a:pt x="8339" y="2596"/>
                    <a:pt x="8326" y="2581"/>
                    <a:pt x="8314" y="2566"/>
                  </a:cubicBezTo>
                  <a:cubicBezTo>
                    <a:pt x="8302" y="2558"/>
                    <a:pt x="8285" y="2549"/>
                    <a:pt x="8268" y="2541"/>
                  </a:cubicBezTo>
                  <a:cubicBezTo>
                    <a:pt x="8251" y="2532"/>
                    <a:pt x="8234" y="2524"/>
                    <a:pt x="8221" y="2515"/>
                  </a:cubicBezTo>
                  <a:cubicBezTo>
                    <a:pt x="8144" y="2475"/>
                    <a:pt x="8079" y="2427"/>
                    <a:pt x="8026" y="2372"/>
                  </a:cubicBezTo>
                  <a:cubicBezTo>
                    <a:pt x="7973" y="2317"/>
                    <a:pt x="7931" y="2255"/>
                    <a:pt x="7901" y="2187"/>
                  </a:cubicBezTo>
                  <a:cubicBezTo>
                    <a:pt x="7860" y="2175"/>
                    <a:pt x="7808" y="2162"/>
                    <a:pt x="7761" y="2160"/>
                  </a:cubicBezTo>
                  <a:cubicBezTo>
                    <a:pt x="7714" y="2158"/>
                    <a:pt x="7672" y="2166"/>
                    <a:pt x="7654" y="2196"/>
                  </a:cubicBezTo>
                  <a:cubicBezTo>
                    <a:pt x="7641" y="2217"/>
                    <a:pt x="7641" y="2234"/>
                    <a:pt x="7641" y="2250"/>
                  </a:cubicBezTo>
                  <a:cubicBezTo>
                    <a:pt x="7641" y="2490"/>
                    <a:pt x="7759" y="2734"/>
                    <a:pt x="7975" y="2928"/>
                  </a:cubicBezTo>
                  <a:cubicBezTo>
                    <a:pt x="8018" y="2966"/>
                    <a:pt x="8067" y="3008"/>
                    <a:pt x="8055" y="3062"/>
                  </a:cubicBezTo>
                  <a:cubicBezTo>
                    <a:pt x="8036" y="3115"/>
                    <a:pt x="7948" y="3133"/>
                    <a:pt x="7860" y="3151"/>
                  </a:cubicBezTo>
                  <a:cubicBezTo>
                    <a:pt x="7772" y="3168"/>
                    <a:pt x="7685" y="3186"/>
                    <a:pt x="7666" y="3239"/>
                  </a:cubicBezTo>
                  <a:cubicBezTo>
                    <a:pt x="7614" y="3203"/>
                    <a:pt x="7546" y="3179"/>
                    <a:pt x="7473" y="3168"/>
                  </a:cubicBezTo>
                  <a:cubicBezTo>
                    <a:pt x="7401" y="3157"/>
                    <a:pt x="7324" y="3159"/>
                    <a:pt x="7253" y="3176"/>
                  </a:cubicBezTo>
                  <a:cubicBezTo>
                    <a:pt x="7234" y="3123"/>
                    <a:pt x="7202" y="3071"/>
                    <a:pt x="7159" y="3021"/>
                  </a:cubicBezTo>
                  <a:cubicBezTo>
                    <a:pt x="7117" y="2972"/>
                    <a:pt x="7065" y="2926"/>
                    <a:pt x="7006" y="2886"/>
                  </a:cubicBezTo>
                  <a:cubicBezTo>
                    <a:pt x="6975" y="2881"/>
                    <a:pt x="6949" y="2894"/>
                    <a:pt x="6932" y="2913"/>
                  </a:cubicBezTo>
                  <a:cubicBezTo>
                    <a:pt x="6915" y="2933"/>
                    <a:pt x="6907" y="2959"/>
                    <a:pt x="6913" y="2982"/>
                  </a:cubicBezTo>
                  <a:cubicBezTo>
                    <a:pt x="6920" y="3003"/>
                    <a:pt x="6937" y="3025"/>
                    <a:pt x="6949" y="3048"/>
                  </a:cubicBezTo>
                  <a:cubicBezTo>
                    <a:pt x="6961" y="3070"/>
                    <a:pt x="6969" y="3092"/>
                    <a:pt x="6957" y="3113"/>
                  </a:cubicBezTo>
                  <a:cubicBezTo>
                    <a:pt x="6929" y="3104"/>
                    <a:pt x="6896" y="3102"/>
                    <a:pt x="6867" y="3107"/>
                  </a:cubicBezTo>
                  <a:cubicBezTo>
                    <a:pt x="6838" y="3112"/>
                    <a:pt x="6812" y="3123"/>
                    <a:pt x="6796" y="3142"/>
                  </a:cubicBezTo>
                  <a:cubicBezTo>
                    <a:pt x="6784" y="3106"/>
                    <a:pt x="6771" y="3073"/>
                    <a:pt x="6758" y="3040"/>
                  </a:cubicBezTo>
                  <a:cubicBezTo>
                    <a:pt x="6744" y="3007"/>
                    <a:pt x="6728" y="2974"/>
                    <a:pt x="6710" y="2940"/>
                  </a:cubicBezTo>
                  <a:cubicBezTo>
                    <a:pt x="6617" y="2928"/>
                    <a:pt x="6568" y="2999"/>
                    <a:pt x="6556" y="3062"/>
                  </a:cubicBezTo>
                  <a:cubicBezTo>
                    <a:pt x="6543" y="3125"/>
                    <a:pt x="6512" y="3201"/>
                    <a:pt x="6426" y="3214"/>
                  </a:cubicBezTo>
                  <a:cubicBezTo>
                    <a:pt x="6386" y="3222"/>
                    <a:pt x="6357" y="3206"/>
                    <a:pt x="6339" y="3182"/>
                  </a:cubicBezTo>
                  <a:cubicBezTo>
                    <a:pt x="6321" y="3157"/>
                    <a:pt x="6315" y="3123"/>
                    <a:pt x="6321" y="3096"/>
                  </a:cubicBezTo>
                  <a:cubicBezTo>
                    <a:pt x="6321" y="3031"/>
                    <a:pt x="6318" y="2967"/>
                    <a:pt x="6313" y="2902"/>
                  </a:cubicBezTo>
                  <a:cubicBezTo>
                    <a:pt x="6309" y="2838"/>
                    <a:pt x="6303" y="2774"/>
                    <a:pt x="6296" y="2709"/>
                  </a:cubicBezTo>
                  <a:cubicBezTo>
                    <a:pt x="6290" y="2673"/>
                    <a:pt x="6270" y="2629"/>
                    <a:pt x="6239" y="2598"/>
                  </a:cubicBezTo>
                  <a:cubicBezTo>
                    <a:pt x="6207" y="2567"/>
                    <a:pt x="6164" y="2549"/>
                    <a:pt x="6111" y="2566"/>
                  </a:cubicBezTo>
                  <a:cubicBezTo>
                    <a:pt x="6117" y="2545"/>
                    <a:pt x="6102" y="2526"/>
                    <a:pt x="6077" y="2513"/>
                  </a:cubicBezTo>
                  <a:cubicBezTo>
                    <a:pt x="6051" y="2501"/>
                    <a:pt x="6016" y="2494"/>
                    <a:pt x="5982" y="2499"/>
                  </a:cubicBezTo>
                  <a:cubicBezTo>
                    <a:pt x="5957" y="2503"/>
                    <a:pt x="5935" y="2515"/>
                    <a:pt x="5919" y="2533"/>
                  </a:cubicBezTo>
                  <a:cubicBezTo>
                    <a:pt x="5902" y="2550"/>
                    <a:pt x="5889" y="2572"/>
                    <a:pt x="5883" y="2595"/>
                  </a:cubicBezTo>
                  <a:cubicBezTo>
                    <a:pt x="5883" y="2612"/>
                    <a:pt x="5863" y="2624"/>
                    <a:pt x="5837" y="2634"/>
                  </a:cubicBezTo>
                  <a:cubicBezTo>
                    <a:pt x="5811" y="2644"/>
                    <a:pt x="5778" y="2652"/>
                    <a:pt x="5753" y="2663"/>
                  </a:cubicBezTo>
                  <a:cubicBezTo>
                    <a:pt x="5726" y="2671"/>
                    <a:pt x="5696" y="2683"/>
                    <a:pt x="5677" y="2697"/>
                  </a:cubicBezTo>
                  <a:cubicBezTo>
                    <a:pt x="5658" y="2712"/>
                    <a:pt x="5649" y="2730"/>
                    <a:pt x="5661" y="2751"/>
                  </a:cubicBezTo>
                  <a:cubicBezTo>
                    <a:pt x="5649" y="2734"/>
                    <a:pt x="5635" y="2719"/>
                    <a:pt x="5619" y="2707"/>
                  </a:cubicBezTo>
                  <a:cubicBezTo>
                    <a:pt x="5604" y="2694"/>
                    <a:pt x="5587" y="2684"/>
                    <a:pt x="5568" y="2675"/>
                  </a:cubicBezTo>
                  <a:cubicBezTo>
                    <a:pt x="5544" y="2665"/>
                    <a:pt x="5514" y="2662"/>
                    <a:pt x="5490" y="2666"/>
                  </a:cubicBezTo>
                  <a:cubicBezTo>
                    <a:pt x="5465" y="2670"/>
                    <a:pt x="5445" y="2682"/>
                    <a:pt x="5439" y="2701"/>
                  </a:cubicBezTo>
                  <a:cubicBezTo>
                    <a:pt x="5433" y="2726"/>
                    <a:pt x="5420" y="2750"/>
                    <a:pt x="5405" y="2773"/>
                  </a:cubicBezTo>
                  <a:cubicBezTo>
                    <a:pt x="5389" y="2796"/>
                    <a:pt x="5371" y="2818"/>
                    <a:pt x="5352" y="2839"/>
                  </a:cubicBezTo>
                  <a:cubicBezTo>
                    <a:pt x="5325" y="2823"/>
                    <a:pt x="5298" y="2808"/>
                    <a:pt x="5272" y="2793"/>
                  </a:cubicBezTo>
                  <a:cubicBezTo>
                    <a:pt x="5246" y="2777"/>
                    <a:pt x="5220" y="2762"/>
                    <a:pt x="5192" y="2743"/>
                  </a:cubicBezTo>
                  <a:cubicBezTo>
                    <a:pt x="5192" y="2780"/>
                    <a:pt x="5124" y="2797"/>
                    <a:pt x="5075" y="2797"/>
                  </a:cubicBezTo>
                  <a:cubicBezTo>
                    <a:pt x="5019" y="2797"/>
                    <a:pt x="4976" y="2789"/>
                    <a:pt x="4921" y="2797"/>
                  </a:cubicBezTo>
                  <a:cubicBezTo>
                    <a:pt x="4890" y="2801"/>
                    <a:pt x="4863" y="2812"/>
                    <a:pt x="4840" y="2826"/>
                  </a:cubicBezTo>
                  <a:cubicBezTo>
                    <a:pt x="4817" y="2840"/>
                    <a:pt x="4797" y="2858"/>
                    <a:pt x="4779" y="2877"/>
                  </a:cubicBezTo>
                  <a:cubicBezTo>
                    <a:pt x="4757" y="2894"/>
                    <a:pt x="4739" y="2918"/>
                    <a:pt x="4733" y="2940"/>
                  </a:cubicBezTo>
                  <a:cubicBezTo>
                    <a:pt x="4728" y="2962"/>
                    <a:pt x="4735" y="2982"/>
                    <a:pt x="4766" y="2991"/>
                  </a:cubicBezTo>
                  <a:cubicBezTo>
                    <a:pt x="4825" y="3010"/>
                    <a:pt x="4877" y="3038"/>
                    <a:pt x="4917" y="3073"/>
                  </a:cubicBezTo>
                  <a:cubicBezTo>
                    <a:pt x="4956" y="3107"/>
                    <a:pt x="4982" y="3149"/>
                    <a:pt x="4988" y="3193"/>
                  </a:cubicBezTo>
                  <a:cubicBezTo>
                    <a:pt x="4936" y="3197"/>
                    <a:pt x="4884" y="3204"/>
                    <a:pt x="4831" y="3212"/>
                  </a:cubicBezTo>
                  <a:cubicBezTo>
                    <a:pt x="4779" y="3219"/>
                    <a:pt x="4726" y="3226"/>
                    <a:pt x="4674" y="3231"/>
                  </a:cubicBezTo>
                  <a:cubicBezTo>
                    <a:pt x="4649" y="3167"/>
                    <a:pt x="4563" y="3125"/>
                    <a:pt x="4470" y="3134"/>
                  </a:cubicBezTo>
                  <a:cubicBezTo>
                    <a:pt x="4378" y="3142"/>
                    <a:pt x="4304" y="3214"/>
                    <a:pt x="4341" y="3264"/>
                  </a:cubicBezTo>
                  <a:cubicBezTo>
                    <a:pt x="4285" y="3281"/>
                    <a:pt x="4248" y="3218"/>
                    <a:pt x="4248" y="3176"/>
                  </a:cubicBezTo>
                  <a:cubicBezTo>
                    <a:pt x="4248" y="3130"/>
                    <a:pt x="4248" y="3079"/>
                    <a:pt x="4186" y="3071"/>
                  </a:cubicBezTo>
                  <a:cubicBezTo>
                    <a:pt x="4186" y="3083"/>
                    <a:pt x="4186" y="3094"/>
                    <a:pt x="4185" y="3105"/>
                  </a:cubicBezTo>
                  <a:cubicBezTo>
                    <a:pt x="4183" y="3116"/>
                    <a:pt x="4180" y="3127"/>
                    <a:pt x="4174" y="3142"/>
                  </a:cubicBezTo>
                  <a:cubicBezTo>
                    <a:pt x="4146" y="3191"/>
                    <a:pt x="4126" y="3219"/>
                    <a:pt x="4113" y="3235"/>
                  </a:cubicBezTo>
                  <a:cubicBezTo>
                    <a:pt x="4100" y="3252"/>
                    <a:pt x="4094" y="3256"/>
                    <a:pt x="4094" y="325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1" name="Shape 2555"/>
            <p:cNvSpPr/>
            <p:nvPr/>
          </p:nvSpPr>
          <p:spPr>
            <a:xfrm>
              <a:off x="14924880" y="4577760"/>
              <a:ext cx="70560" cy="77400"/>
            </a:xfrm>
            <a:custGeom>
              <a:avLst/>
              <a:gdLst>
                <a:gd name="textAreaLeft" fmla="*/ 0 w 70560"/>
                <a:gd name="textAreaRight" fmla="*/ 70920 w 70560"/>
                <a:gd name="textAreaTop" fmla="*/ 0 h 77400"/>
                <a:gd name="textAreaBottom" fmla="*/ 77760 h 7740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d6d6d6"/>
            </a:solidFill>
            <a:ln w="9525">
              <a:solidFill>
                <a:srgbClr val="424242"/>
              </a:solidFill>
              <a:miter/>
            </a:ln>
          </p:spPr>
          <p:style>
            <a:lnRef idx="0"/>
            <a:fillRef idx="0"/>
            <a:effectRef idx="0"/>
            <a:fontRef idx="minor"/>
          </p:style>
          <p:txBody>
            <a:bodyPr numCol="1" spcCol="0" lIns="45720" rIns="45720" tIns="38880" bIns="38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2" name="Shape 2556"/>
            <p:cNvSpPr/>
            <p:nvPr/>
          </p:nvSpPr>
          <p:spPr>
            <a:xfrm>
              <a:off x="20826720" y="8886600"/>
              <a:ext cx="169920" cy="103680"/>
            </a:xfrm>
            <a:custGeom>
              <a:avLst/>
              <a:gdLst>
                <a:gd name="textAreaLeft" fmla="*/ 0 w 169920"/>
                <a:gd name="textAreaRight" fmla="*/ 170280 w 169920"/>
                <a:gd name="textAreaTop" fmla="*/ 0 h 103680"/>
                <a:gd name="textAreaBottom" fmla="*/ 104040 h 10368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3" name="Shape 2557"/>
            <p:cNvSpPr/>
            <p:nvPr/>
          </p:nvSpPr>
          <p:spPr>
            <a:xfrm>
              <a:off x="19595160" y="9142560"/>
              <a:ext cx="1405440" cy="1116720"/>
            </a:xfrm>
            <a:custGeom>
              <a:avLst/>
              <a:gdLst>
                <a:gd name="textAreaLeft" fmla="*/ 0 w 1405440"/>
                <a:gd name="textAreaRight" fmla="*/ 1405800 w 1405440"/>
                <a:gd name="textAreaTop" fmla="*/ 0 h 1116720"/>
                <a:gd name="textAreaBottom" fmla="*/ 1117080 h 111672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4" name="Shape 2558"/>
            <p:cNvSpPr/>
            <p:nvPr/>
          </p:nvSpPr>
          <p:spPr>
            <a:xfrm>
              <a:off x="20804760" y="10263960"/>
              <a:ext cx="29880" cy="44280"/>
            </a:xfrm>
            <a:custGeom>
              <a:avLst/>
              <a:gdLst>
                <a:gd name="textAreaLeft" fmla="*/ 0 w 29880"/>
                <a:gd name="textAreaRight" fmla="*/ 30240 w 29880"/>
                <a:gd name="textAreaTop" fmla="*/ 0 h 44280"/>
                <a:gd name="textAreaBottom" fmla="*/ 44640 h 4428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d6d6d6"/>
            </a:solidFill>
            <a:ln w="9525">
              <a:solidFill>
                <a:srgbClr val="424242"/>
              </a:solidFill>
              <a:miter/>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5" name="Shape 2559"/>
            <p:cNvSpPr/>
            <p:nvPr/>
          </p:nvSpPr>
          <p:spPr>
            <a:xfrm>
              <a:off x="20686320" y="10313280"/>
              <a:ext cx="144000" cy="157320"/>
            </a:xfrm>
            <a:custGeom>
              <a:avLst/>
              <a:gdLst>
                <a:gd name="textAreaLeft" fmla="*/ 0 w 144000"/>
                <a:gd name="textAreaRight" fmla="*/ 144360 w 144000"/>
                <a:gd name="textAreaTop" fmla="*/ 0 h 157320"/>
                <a:gd name="textAreaBottom" fmla="*/ 157680 h 15732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8"/>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7"/>
                    <a:pt x="9775" y="21600"/>
                    <a:pt x="10869" y="21600"/>
                  </a:cubicBezTo>
                  <a:cubicBezTo>
                    <a:pt x="11416" y="21600"/>
                    <a:pt x="12054" y="21262"/>
                    <a:pt x="12418" y="20841"/>
                  </a:cubicBezTo>
                  <a:cubicBezTo>
                    <a:pt x="13603" y="20166"/>
                    <a:pt x="14697" y="19238"/>
                    <a:pt x="15699" y="18563"/>
                  </a:cubicBezTo>
                  <a:cubicBezTo>
                    <a:pt x="17431" y="17297"/>
                    <a:pt x="19254" y="15947"/>
                    <a:pt x="20074" y="14006"/>
                  </a:cubicBezTo>
                  <a:cubicBezTo>
                    <a:pt x="20985" y="11644"/>
                    <a:pt x="19892" y="8859"/>
                    <a:pt x="20803" y="6497"/>
                  </a:cubicBezTo>
                  <a:cubicBezTo>
                    <a:pt x="20985" y="5822"/>
                    <a:pt x="21441" y="5147"/>
                    <a:pt x="21168" y="4388"/>
                  </a:cubicBezTo>
                  <a:cubicBezTo>
                    <a:pt x="20803" y="3712"/>
                    <a:pt x="19892" y="3375"/>
                    <a:pt x="18889" y="3206"/>
                  </a:cubicBezTo>
                  <a:cubicBezTo>
                    <a:pt x="17157" y="2784"/>
                    <a:pt x="15517" y="2447"/>
                    <a:pt x="13968" y="2278"/>
                  </a:cubicBezTo>
                  <a:cubicBezTo>
                    <a:pt x="13785" y="2278"/>
                    <a:pt x="13330" y="2109"/>
                    <a:pt x="13147" y="2278"/>
                  </a:cubicBezTo>
                  <a:cubicBezTo>
                    <a:pt x="12418" y="2447"/>
                    <a:pt x="12054" y="3544"/>
                    <a:pt x="11233" y="3712"/>
                  </a:cubicBezTo>
                  <a:cubicBezTo>
                    <a:pt x="10322" y="4050"/>
                    <a:pt x="9593" y="2953"/>
                    <a:pt x="8773" y="2447"/>
                  </a:cubicBezTo>
                  <a:cubicBezTo>
                    <a:pt x="7223" y="1434"/>
                    <a:pt x="5309" y="1941"/>
                    <a:pt x="3578" y="844"/>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6" name="Shape 2560"/>
            <p:cNvSpPr/>
            <p:nvPr/>
          </p:nvSpPr>
          <p:spPr>
            <a:xfrm>
              <a:off x="21686040" y="10055160"/>
              <a:ext cx="209160" cy="335160"/>
            </a:xfrm>
            <a:custGeom>
              <a:avLst/>
              <a:gdLst>
                <a:gd name="textAreaLeft" fmla="*/ 0 w 209160"/>
                <a:gd name="textAreaRight" fmla="*/ 209520 w 209160"/>
                <a:gd name="textAreaTop" fmla="*/ 0 h 335160"/>
                <a:gd name="textAreaBottom" fmla="*/ 335520 h 33516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7" name="Shape 2561"/>
            <p:cNvSpPr/>
            <p:nvPr/>
          </p:nvSpPr>
          <p:spPr>
            <a:xfrm>
              <a:off x="21470760" y="10321560"/>
              <a:ext cx="288000" cy="293040"/>
            </a:xfrm>
            <a:custGeom>
              <a:avLst/>
              <a:gdLst>
                <a:gd name="textAreaLeft" fmla="*/ 0 w 288000"/>
                <a:gd name="textAreaRight" fmla="*/ 288360 w 288000"/>
                <a:gd name="textAreaTop" fmla="*/ 0 h 293040"/>
                <a:gd name="textAreaBottom" fmla="*/ 293400 h 29304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8" name="Shape 2562"/>
            <p:cNvSpPr/>
            <p:nvPr/>
          </p:nvSpPr>
          <p:spPr>
            <a:xfrm>
              <a:off x="21368880" y="9449640"/>
              <a:ext cx="118800" cy="126000"/>
            </a:xfrm>
            <a:custGeom>
              <a:avLst/>
              <a:gdLst>
                <a:gd name="textAreaLeft" fmla="*/ 0 w 118800"/>
                <a:gd name="textAreaRight" fmla="*/ 119160 w 118800"/>
                <a:gd name="textAreaTop" fmla="*/ 0 h 126000"/>
                <a:gd name="textAreaBottom" fmla="*/ 126360 h 12600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29" name="Shape 2563"/>
            <p:cNvSpPr/>
            <p:nvPr/>
          </p:nvSpPr>
          <p:spPr>
            <a:xfrm>
              <a:off x="21844440" y="9369360"/>
              <a:ext cx="64440" cy="46440"/>
            </a:xfrm>
            <a:custGeom>
              <a:avLst/>
              <a:gdLst>
                <a:gd name="textAreaLeft" fmla="*/ 0 w 64440"/>
                <a:gd name="textAreaRight" fmla="*/ 64800 w 64440"/>
                <a:gd name="textAreaTop" fmla="*/ 0 h 46440"/>
                <a:gd name="textAreaBottom" fmla="*/ 46800 h 4644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0" name="Shape 2564"/>
            <p:cNvSpPr/>
            <p:nvPr/>
          </p:nvSpPr>
          <p:spPr>
            <a:xfrm>
              <a:off x="21909240" y="9324000"/>
              <a:ext cx="42120" cy="38160"/>
            </a:xfrm>
            <a:custGeom>
              <a:avLst/>
              <a:gdLst>
                <a:gd name="textAreaLeft" fmla="*/ 0 w 42120"/>
                <a:gd name="textAreaRight" fmla="*/ 42480 w 42120"/>
                <a:gd name="textAreaTop" fmla="*/ 0 h 38160"/>
                <a:gd name="textAreaBottom" fmla="*/ 38520 h 3816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d6d6d6"/>
            </a:solidFill>
            <a:ln w="9525">
              <a:solidFill>
                <a:srgbClr val="424242"/>
              </a:solidFill>
              <a:miter/>
            </a:ln>
          </p:spPr>
          <p:style>
            <a:lnRef idx="0"/>
            <a:fillRef idx="0"/>
            <a:effectRef idx="0"/>
            <a:fontRef idx="minor"/>
          </p:style>
          <p:txBody>
            <a:bodyPr numCol="1" spcCol="0" lIns="45720" rIns="45720" tIns="19080" bIns="19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1" name="Shape 2565"/>
            <p:cNvSpPr/>
            <p:nvPr/>
          </p:nvSpPr>
          <p:spPr>
            <a:xfrm>
              <a:off x="21923280" y="9388440"/>
              <a:ext cx="25920" cy="30600"/>
            </a:xfrm>
            <a:custGeom>
              <a:avLst/>
              <a:gdLst>
                <a:gd name="textAreaLeft" fmla="*/ 0 w 25920"/>
                <a:gd name="textAreaRight" fmla="*/ 26280 w 25920"/>
                <a:gd name="textAreaTop" fmla="*/ 0 h 30600"/>
                <a:gd name="textAreaBottom" fmla="*/ 30960 h 3060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d6d6d6"/>
            </a:solidFill>
            <a:ln w="9525">
              <a:solidFill>
                <a:srgbClr val="424242"/>
              </a:solidFill>
              <a:miter/>
            </a:ln>
          </p:spPr>
          <p:style>
            <a:lnRef idx="0"/>
            <a:fillRef idx="0"/>
            <a:effectRef idx="0"/>
            <a:fontRef idx="minor"/>
          </p:style>
          <p:txBody>
            <a:bodyPr numCol="1" spcCol="0" lIns="45720" rIns="45720" tIns="15480" bIns="15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2" name="Shape 2566"/>
            <p:cNvSpPr/>
            <p:nvPr/>
          </p:nvSpPr>
          <p:spPr>
            <a:xfrm>
              <a:off x="21462120" y="9274320"/>
              <a:ext cx="62280" cy="68400"/>
            </a:xfrm>
            <a:custGeom>
              <a:avLst/>
              <a:gdLst>
                <a:gd name="textAreaLeft" fmla="*/ 0 w 62280"/>
                <a:gd name="textAreaRight" fmla="*/ 62640 w 62280"/>
                <a:gd name="textAreaTop" fmla="*/ 0 h 68400"/>
                <a:gd name="textAreaBottom" fmla="*/ 68760 h 6840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d6d6d6"/>
            </a:solidFill>
            <a:ln w="9525">
              <a:solidFill>
                <a:srgbClr val="424242"/>
              </a:solidFill>
              <a:miter/>
            </a:ln>
          </p:spPr>
          <p:style>
            <a:lnRef idx="0"/>
            <a:fillRef idx="0"/>
            <a:effectRef idx="0"/>
            <a:fontRef idx="minor"/>
          </p:style>
          <p:txBody>
            <a:bodyPr numCol="1" spcCol="0" lIns="45720" rIns="45720" tIns="34200" bIns="34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3" name="Shape 2567"/>
            <p:cNvSpPr/>
            <p:nvPr/>
          </p:nvSpPr>
          <p:spPr>
            <a:xfrm>
              <a:off x="20585160" y="8840520"/>
              <a:ext cx="317520" cy="297360"/>
            </a:xfrm>
            <a:custGeom>
              <a:avLst/>
              <a:gdLst>
                <a:gd name="textAreaLeft" fmla="*/ 0 w 317520"/>
                <a:gd name="textAreaRight" fmla="*/ 317880 w 317520"/>
                <a:gd name="textAreaTop" fmla="*/ 0 h 297360"/>
                <a:gd name="textAreaBottom" fmla="*/ 297720 h 29736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4" name="Shape 2568"/>
            <p:cNvSpPr/>
            <p:nvPr/>
          </p:nvSpPr>
          <p:spPr>
            <a:xfrm>
              <a:off x="18389520" y="8399880"/>
              <a:ext cx="90720" cy="134640"/>
            </a:xfrm>
            <a:custGeom>
              <a:avLst/>
              <a:gdLst>
                <a:gd name="textAreaLeft" fmla="*/ 0 w 90720"/>
                <a:gd name="textAreaRight" fmla="*/ 91080 w 90720"/>
                <a:gd name="textAreaTop" fmla="*/ 0 h 134640"/>
                <a:gd name="textAreaBottom" fmla="*/ 135000 h 13464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5" name="Shape 2569"/>
            <p:cNvSpPr/>
            <p:nvPr/>
          </p:nvSpPr>
          <p:spPr>
            <a:xfrm>
              <a:off x="18954360" y="8532720"/>
              <a:ext cx="363960" cy="406800"/>
            </a:xfrm>
            <a:custGeom>
              <a:avLst/>
              <a:gdLst>
                <a:gd name="textAreaLeft" fmla="*/ 0 w 363960"/>
                <a:gd name="textAreaRight" fmla="*/ 364320 w 363960"/>
                <a:gd name="textAreaTop" fmla="*/ 0 h 406800"/>
                <a:gd name="textAreaBottom" fmla="*/ 407160 h 40680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3"/>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6" name="Shape 2570"/>
            <p:cNvSpPr/>
            <p:nvPr/>
          </p:nvSpPr>
          <p:spPr>
            <a:xfrm>
              <a:off x="19299600" y="8779680"/>
              <a:ext cx="46440" cy="61560"/>
            </a:xfrm>
            <a:custGeom>
              <a:avLst/>
              <a:gdLst>
                <a:gd name="textAreaLeft" fmla="*/ 0 w 46440"/>
                <a:gd name="textAreaRight" fmla="*/ 46800 w 46440"/>
                <a:gd name="textAreaTop" fmla="*/ 0 h 61560"/>
                <a:gd name="textAreaBottom" fmla="*/ 61920 h 6156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d6d6d6"/>
            </a:solidFill>
            <a:ln w="9525">
              <a:solidFill>
                <a:srgbClr val="424242"/>
              </a:solidFill>
              <a:miter/>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7" name="Shape 2571"/>
            <p:cNvSpPr/>
            <p:nvPr/>
          </p:nvSpPr>
          <p:spPr>
            <a:xfrm>
              <a:off x="19378440" y="8825400"/>
              <a:ext cx="36000" cy="21600"/>
            </a:xfrm>
            <a:custGeom>
              <a:avLst/>
              <a:gdLst>
                <a:gd name="textAreaLeft" fmla="*/ 0 w 36000"/>
                <a:gd name="textAreaRight" fmla="*/ 36360 w 36000"/>
                <a:gd name="textAreaTop" fmla="*/ 0 h 21600"/>
                <a:gd name="textAreaBottom" fmla="*/ 21960 h 2160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d6d6d6"/>
            </a:solidFill>
            <a:ln w="9525">
              <a:solidFill>
                <a:srgbClr val="424242"/>
              </a:solidFill>
              <a:miter/>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8" name="Shape 2572"/>
            <p:cNvSpPr/>
            <p:nvPr/>
          </p:nvSpPr>
          <p:spPr>
            <a:xfrm>
              <a:off x="19429200" y="8472240"/>
              <a:ext cx="370800" cy="400320"/>
            </a:xfrm>
            <a:custGeom>
              <a:avLst/>
              <a:gdLst>
                <a:gd name="textAreaLeft" fmla="*/ 0 w 370800"/>
                <a:gd name="textAreaRight" fmla="*/ 371160 w 370800"/>
                <a:gd name="textAreaTop" fmla="*/ 0 h 400320"/>
                <a:gd name="textAreaBottom" fmla="*/ 400680 h 40032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39" name="Shape 2573"/>
            <p:cNvSpPr/>
            <p:nvPr/>
          </p:nvSpPr>
          <p:spPr>
            <a:xfrm>
              <a:off x="19328760" y="8935920"/>
              <a:ext cx="333360" cy="105840"/>
            </a:xfrm>
            <a:custGeom>
              <a:avLst/>
              <a:gdLst>
                <a:gd name="textAreaLeft" fmla="*/ 0 w 333360"/>
                <a:gd name="textAreaRight" fmla="*/ 333720 w 333360"/>
                <a:gd name="textAreaTop" fmla="*/ 0 h 105840"/>
                <a:gd name="textAreaBottom" fmla="*/ 106200 h 10584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0" name="Shape 2574"/>
            <p:cNvSpPr/>
            <p:nvPr/>
          </p:nvSpPr>
          <p:spPr>
            <a:xfrm>
              <a:off x="19693440" y="9025920"/>
              <a:ext cx="97200" cy="23040"/>
            </a:xfrm>
            <a:custGeom>
              <a:avLst/>
              <a:gdLst>
                <a:gd name="textAreaLeft" fmla="*/ 0 w 97200"/>
                <a:gd name="textAreaRight" fmla="*/ 97560 w 97200"/>
                <a:gd name="textAreaTop" fmla="*/ 0 h 23040"/>
                <a:gd name="textAreaBottom" fmla="*/ 23400 h 2304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d6d6d6"/>
            </a:solidFill>
            <a:ln w="9525">
              <a:solidFill>
                <a:srgbClr val="424242"/>
              </a:solidFill>
              <a:miter/>
            </a:ln>
          </p:spPr>
          <p:style>
            <a:lnRef idx="0"/>
            <a:fillRef idx="0"/>
            <a:effectRef idx="0"/>
            <a:fontRef idx="minor"/>
          </p:style>
          <p:txBody>
            <a:bodyPr numCol="1" spcCol="0" lIns="45720" rIns="45720" tIns="11520" bIns="11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1" name="Shape 2575"/>
            <p:cNvSpPr/>
            <p:nvPr/>
          </p:nvSpPr>
          <p:spPr>
            <a:xfrm>
              <a:off x="19793160" y="9057240"/>
              <a:ext cx="65520" cy="48600"/>
            </a:xfrm>
            <a:custGeom>
              <a:avLst/>
              <a:gdLst>
                <a:gd name="textAreaLeft" fmla="*/ 0 w 65520"/>
                <a:gd name="textAreaRight" fmla="*/ 65880 w 65520"/>
                <a:gd name="textAreaTop" fmla="*/ 0 h 48600"/>
                <a:gd name="textAreaBottom" fmla="*/ 48960 h 4860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d6d6d6"/>
            </a:solidFill>
            <a:ln w="9525">
              <a:solidFill>
                <a:srgbClr val="424242"/>
              </a:solidFill>
              <a:miter/>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2" name="Shape 2576"/>
            <p:cNvSpPr/>
            <p:nvPr/>
          </p:nvSpPr>
          <p:spPr>
            <a:xfrm>
              <a:off x="19807560" y="9016560"/>
              <a:ext cx="181800" cy="37080"/>
            </a:xfrm>
            <a:custGeom>
              <a:avLst/>
              <a:gdLst>
                <a:gd name="textAreaLeft" fmla="*/ 0 w 181800"/>
                <a:gd name="textAreaRight" fmla="*/ 182160 w 181800"/>
                <a:gd name="textAreaTop" fmla="*/ 0 h 37080"/>
                <a:gd name="textAreaBottom" fmla="*/ 37440 h 3708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d6d6d6"/>
            </a:solidFill>
            <a:ln w="9525">
              <a:solidFill>
                <a:srgbClr val="424242"/>
              </a:solidFill>
              <a:miter/>
            </a:ln>
          </p:spPr>
          <p:style>
            <a:lnRef idx="0"/>
            <a:fillRef idx="0"/>
            <a:effectRef idx="0"/>
            <a:fontRef idx="minor"/>
          </p:style>
          <p:txBody>
            <a:bodyPr numCol="1" spcCol="0" lIns="45720" rIns="45720" tIns="18720" bIns="18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3" name="Shape 2577"/>
            <p:cNvSpPr/>
            <p:nvPr/>
          </p:nvSpPr>
          <p:spPr>
            <a:xfrm>
              <a:off x="19956960" y="9027000"/>
              <a:ext cx="133200" cy="65520"/>
            </a:xfrm>
            <a:custGeom>
              <a:avLst/>
              <a:gdLst>
                <a:gd name="textAreaLeft" fmla="*/ 0 w 133200"/>
                <a:gd name="textAreaRight" fmla="*/ 133560 w 133200"/>
                <a:gd name="textAreaTop" fmla="*/ 0 h 65520"/>
                <a:gd name="textAreaBottom" fmla="*/ 65880 h 6552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d6d6d6"/>
            </a:solidFill>
            <a:ln w="9525">
              <a:solidFill>
                <a:srgbClr val="424242"/>
              </a:solidFill>
              <a:miter/>
            </a:ln>
          </p:spPr>
          <p:style>
            <a:lnRef idx="0"/>
            <a:fillRef idx="0"/>
            <a:effectRef idx="0"/>
            <a:fontRef idx="minor"/>
          </p:style>
          <p:txBody>
            <a:bodyPr numCol="1" spcCol="0" lIns="45720" rIns="45720" tIns="32760" bIns="32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4" name="Shape 2578"/>
            <p:cNvSpPr/>
            <p:nvPr/>
          </p:nvSpPr>
          <p:spPr>
            <a:xfrm>
              <a:off x="19785960" y="8741880"/>
              <a:ext cx="169920" cy="191160"/>
            </a:xfrm>
            <a:custGeom>
              <a:avLst/>
              <a:gdLst>
                <a:gd name="textAreaLeft" fmla="*/ 0 w 169920"/>
                <a:gd name="textAreaRight" fmla="*/ 170280 w 169920"/>
                <a:gd name="textAreaTop" fmla="*/ 0 h 191160"/>
                <a:gd name="textAreaBottom" fmla="*/ 191520 h 19116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5" name="Shape 2579"/>
            <p:cNvSpPr/>
            <p:nvPr/>
          </p:nvSpPr>
          <p:spPr>
            <a:xfrm>
              <a:off x="19838880" y="8659440"/>
              <a:ext cx="176040" cy="71640"/>
            </a:xfrm>
            <a:custGeom>
              <a:avLst/>
              <a:gdLst>
                <a:gd name="textAreaLeft" fmla="*/ 0 w 176040"/>
                <a:gd name="textAreaRight" fmla="*/ 176400 w 176040"/>
                <a:gd name="textAreaTop" fmla="*/ 0 h 71640"/>
                <a:gd name="textAreaBottom" fmla="*/ 72000 h 7164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d6d6d6"/>
            </a:solidFill>
            <a:ln w="9525">
              <a:solidFill>
                <a:srgbClr val="424242"/>
              </a:solidFill>
              <a:miter/>
            </a:ln>
          </p:spPr>
          <p:style>
            <a:lnRef idx="0"/>
            <a:fillRef idx="0"/>
            <a:effectRef idx="0"/>
            <a:fontRef idx="minor"/>
          </p:style>
          <p:txBody>
            <a:bodyPr numCol="1" spcCol="0" lIns="45720" rIns="45720" tIns="36000" bIns="36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6" name="Shape 2580"/>
            <p:cNvSpPr/>
            <p:nvPr/>
          </p:nvSpPr>
          <p:spPr>
            <a:xfrm>
              <a:off x="20037240" y="8833680"/>
              <a:ext cx="36720" cy="56160"/>
            </a:xfrm>
            <a:custGeom>
              <a:avLst/>
              <a:gdLst>
                <a:gd name="textAreaLeft" fmla="*/ 0 w 36720"/>
                <a:gd name="textAreaRight" fmla="*/ 37080 w 36720"/>
                <a:gd name="textAreaTop" fmla="*/ 0 h 56160"/>
                <a:gd name="textAreaBottom" fmla="*/ 56520 h 5616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d6d6d6"/>
            </a:solidFill>
            <a:ln w="9525">
              <a:solidFill>
                <a:srgbClr val="424242"/>
              </a:solidFill>
              <a:miter/>
            </a:ln>
          </p:spPr>
          <p:style>
            <a:lnRef idx="0"/>
            <a:fillRef idx="0"/>
            <a:effectRef idx="0"/>
            <a:fontRef idx="minor"/>
          </p:style>
          <p:txBody>
            <a:bodyPr numCol="1" spcCol="0" lIns="45720" rIns="45720" tIns="28080" bIns="28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7" name="Shape 2581"/>
            <p:cNvSpPr/>
            <p:nvPr/>
          </p:nvSpPr>
          <p:spPr>
            <a:xfrm>
              <a:off x="20098440" y="8827560"/>
              <a:ext cx="117360" cy="59760"/>
            </a:xfrm>
            <a:custGeom>
              <a:avLst/>
              <a:gdLst>
                <a:gd name="textAreaLeft" fmla="*/ 0 w 117360"/>
                <a:gd name="textAreaRight" fmla="*/ 117720 w 117360"/>
                <a:gd name="textAreaTop" fmla="*/ 0 h 59760"/>
                <a:gd name="textAreaBottom" fmla="*/ 60120 h 5976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d6d6d6"/>
            </a:solidFill>
            <a:ln w="9525">
              <a:solidFill>
                <a:srgbClr val="424242"/>
              </a:solidFill>
              <a:miter/>
            </a:ln>
          </p:spPr>
          <p:style>
            <a:lnRef idx="0"/>
            <a:fillRef idx="0"/>
            <a:effectRef idx="0"/>
            <a:fontRef idx="minor"/>
          </p:style>
          <p:txBody>
            <a:bodyPr numCol="1" spcCol="0" lIns="45720" rIns="45720" tIns="29880" bIns="29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8" name="Shape 2582"/>
            <p:cNvSpPr/>
            <p:nvPr/>
          </p:nvSpPr>
          <p:spPr>
            <a:xfrm>
              <a:off x="20203920" y="898452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d6d6d6"/>
            </a:solidFill>
            <a:ln w="9525">
              <a:solidFill>
                <a:srgbClr val="424242"/>
              </a:solidFill>
              <a:miter/>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49" name="Shape 2583"/>
            <p:cNvSpPr/>
            <p:nvPr/>
          </p:nvSpPr>
          <p:spPr>
            <a:xfrm>
              <a:off x="20267280" y="8918640"/>
              <a:ext cx="31680" cy="36360"/>
            </a:xfrm>
            <a:custGeom>
              <a:avLst/>
              <a:gdLst>
                <a:gd name="textAreaLeft" fmla="*/ 0 w 31680"/>
                <a:gd name="textAreaRight" fmla="*/ 32040 w 31680"/>
                <a:gd name="textAreaTop" fmla="*/ 0 h 36360"/>
                <a:gd name="textAreaBottom" fmla="*/ 36720 h 3636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d6d6d6"/>
            </a:solidFill>
            <a:ln w="9525">
              <a:solidFill>
                <a:srgbClr val="424242"/>
              </a:solidFill>
              <a:miter/>
            </a:ln>
          </p:spPr>
          <p:style>
            <a:lnRef idx="0"/>
            <a:fillRef idx="0"/>
            <a:effectRef idx="0"/>
            <a:fontRef idx="minor"/>
          </p:style>
          <p:txBody>
            <a:bodyPr numCol="1" spcCol="0" lIns="45720" rIns="45720" tIns="18360" bIns="18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0" name="Shape 2584"/>
            <p:cNvSpPr/>
            <p:nvPr/>
          </p:nvSpPr>
          <p:spPr>
            <a:xfrm>
              <a:off x="20323080" y="8927640"/>
              <a:ext cx="30960" cy="53280"/>
            </a:xfrm>
            <a:custGeom>
              <a:avLst/>
              <a:gdLst>
                <a:gd name="textAreaLeft" fmla="*/ 0 w 30960"/>
                <a:gd name="textAreaRight" fmla="*/ 31320 w 30960"/>
                <a:gd name="textAreaTop" fmla="*/ 0 h 53280"/>
                <a:gd name="textAreaBottom" fmla="*/ 53640 h 5328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d6d6d6"/>
            </a:solidFill>
            <a:ln w="9525">
              <a:solidFill>
                <a:srgbClr val="424242"/>
              </a:solidFill>
              <a:miter/>
            </a:ln>
          </p:spPr>
          <p:style>
            <a:lnRef idx="0"/>
            <a:fillRef idx="0"/>
            <a:effectRef idx="0"/>
            <a:fontRef idx="minor"/>
          </p:style>
          <p:txBody>
            <a:bodyPr numCol="1" spcCol="0" lIns="45720" rIns="45720" tIns="26640" bIns="26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1" name="Shape 2585"/>
            <p:cNvSpPr/>
            <p:nvPr/>
          </p:nvSpPr>
          <p:spPr>
            <a:xfrm>
              <a:off x="20080440" y="8660880"/>
              <a:ext cx="58680" cy="106560"/>
            </a:xfrm>
            <a:custGeom>
              <a:avLst/>
              <a:gdLst>
                <a:gd name="textAreaLeft" fmla="*/ 0 w 58680"/>
                <a:gd name="textAreaRight" fmla="*/ 59040 w 58680"/>
                <a:gd name="textAreaTop" fmla="*/ 0 h 106560"/>
                <a:gd name="textAreaBottom" fmla="*/ 106920 h 106560"/>
              </a:gdLst>
              <a:ahLst/>
              <a:rect l="textAreaLeft" t="textAreaTop" r="textAreaRight" b="textAreaBottom"/>
              <a:pathLst>
                <a:path w="21488"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2" name="Shape 2586"/>
            <p:cNvSpPr/>
            <p:nvPr/>
          </p:nvSpPr>
          <p:spPr>
            <a:xfrm>
              <a:off x="20185200" y="8727120"/>
              <a:ext cx="41400" cy="51120"/>
            </a:xfrm>
            <a:custGeom>
              <a:avLst/>
              <a:gdLst>
                <a:gd name="textAreaLeft" fmla="*/ 0 w 41400"/>
                <a:gd name="textAreaRight" fmla="*/ 41760 w 41400"/>
                <a:gd name="textAreaTop" fmla="*/ 0 h 51120"/>
                <a:gd name="textAreaBottom" fmla="*/ 51480 h 5112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d6d6d6"/>
            </a:solidFill>
            <a:ln w="9525">
              <a:solidFill>
                <a:srgbClr val="424242"/>
              </a:solidFill>
              <a:miter/>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3" name="Shape 2587"/>
            <p:cNvSpPr/>
            <p:nvPr/>
          </p:nvSpPr>
          <p:spPr>
            <a:xfrm>
              <a:off x="19829520" y="7806960"/>
              <a:ext cx="57600" cy="125280"/>
            </a:xfrm>
            <a:custGeom>
              <a:avLst/>
              <a:gdLst>
                <a:gd name="textAreaLeft" fmla="*/ 0 w 57600"/>
                <a:gd name="textAreaRight" fmla="*/ 57960 w 57600"/>
                <a:gd name="textAreaTop" fmla="*/ 0 h 125280"/>
                <a:gd name="textAreaBottom" fmla="*/ 125640 h 12528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4" name="Shape 2588"/>
            <p:cNvSpPr/>
            <p:nvPr/>
          </p:nvSpPr>
          <p:spPr>
            <a:xfrm>
              <a:off x="19814400" y="8051040"/>
              <a:ext cx="101160" cy="249840"/>
            </a:xfrm>
            <a:custGeom>
              <a:avLst/>
              <a:gdLst>
                <a:gd name="textAreaLeft" fmla="*/ 0 w 101160"/>
                <a:gd name="textAreaRight" fmla="*/ 101520 w 101160"/>
                <a:gd name="textAreaTop" fmla="*/ 0 h 249840"/>
                <a:gd name="textAreaBottom" fmla="*/ 250200 h 24984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5" name="Shape 2589"/>
            <p:cNvSpPr/>
            <p:nvPr/>
          </p:nvSpPr>
          <p:spPr>
            <a:xfrm>
              <a:off x="19892160" y="8217720"/>
              <a:ext cx="69840" cy="50400"/>
            </a:xfrm>
            <a:custGeom>
              <a:avLst/>
              <a:gdLst>
                <a:gd name="textAreaLeft" fmla="*/ 0 w 69840"/>
                <a:gd name="textAreaRight" fmla="*/ 70200 w 69840"/>
                <a:gd name="textAreaTop" fmla="*/ 0 h 50400"/>
                <a:gd name="textAreaBottom" fmla="*/ 50760 h 5040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d6d6d6"/>
            </a:solidFill>
            <a:ln w="9525">
              <a:solidFill>
                <a:srgbClr val="424242"/>
              </a:solidFill>
              <a:miter/>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6" name="Shape 2590"/>
            <p:cNvSpPr/>
            <p:nvPr/>
          </p:nvSpPr>
          <p:spPr>
            <a:xfrm>
              <a:off x="19890000" y="8301960"/>
              <a:ext cx="41040" cy="57960"/>
            </a:xfrm>
            <a:custGeom>
              <a:avLst/>
              <a:gdLst>
                <a:gd name="textAreaLeft" fmla="*/ 0 w 41040"/>
                <a:gd name="textAreaRight" fmla="*/ 41400 w 41040"/>
                <a:gd name="textAreaTop" fmla="*/ 0 h 57960"/>
                <a:gd name="textAreaBottom" fmla="*/ 58320 h 5796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d6d6d6"/>
            </a:solidFill>
            <a:ln w="9525">
              <a:solidFill>
                <a:srgbClr val="424242"/>
              </a:solidFill>
              <a:miter/>
            </a:ln>
          </p:spPr>
          <p:style>
            <a:lnRef idx="0"/>
            <a:fillRef idx="0"/>
            <a:effectRef idx="0"/>
            <a:fontRef idx="minor"/>
          </p:style>
          <p:txBody>
            <a:bodyPr numCol="1" spcCol="0" lIns="45720" rIns="45720" tIns="29160" bIns="29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7" name="Shape 2591"/>
            <p:cNvSpPr/>
            <p:nvPr/>
          </p:nvSpPr>
          <p:spPr>
            <a:xfrm>
              <a:off x="19909440" y="8344080"/>
              <a:ext cx="68040" cy="68760"/>
            </a:xfrm>
            <a:custGeom>
              <a:avLst/>
              <a:gdLst>
                <a:gd name="textAreaLeft" fmla="*/ 0 w 68040"/>
                <a:gd name="textAreaRight" fmla="*/ 68400 w 68040"/>
                <a:gd name="textAreaTop" fmla="*/ 0 h 68760"/>
                <a:gd name="textAreaBottom" fmla="*/ 69120 h 6876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d6d6d6"/>
            </a:solidFill>
            <a:ln w="9525">
              <a:solidFill>
                <a:srgbClr val="424242"/>
              </a:solidFill>
              <a:miter/>
            </a:ln>
          </p:spPr>
          <p:style>
            <a:lnRef idx="0"/>
            <a:fillRef idx="0"/>
            <a:effectRef idx="0"/>
            <a:fontRef idx="minor"/>
          </p:style>
          <p:txBody>
            <a:bodyPr numCol="1" spcCol="0" lIns="45720" rIns="45720" tIns="34560" bIns="34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8" name="Shape 2592"/>
            <p:cNvSpPr/>
            <p:nvPr/>
          </p:nvSpPr>
          <p:spPr>
            <a:xfrm>
              <a:off x="19950120" y="8278200"/>
              <a:ext cx="63000" cy="97560"/>
            </a:xfrm>
            <a:custGeom>
              <a:avLst/>
              <a:gdLst>
                <a:gd name="textAreaLeft" fmla="*/ 0 w 63000"/>
                <a:gd name="textAreaRight" fmla="*/ 63360 w 63000"/>
                <a:gd name="textAreaTop" fmla="*/ 0 h 97560"/>
                <a:gd name="textAreaBottom" fmla="*/ 97920 h 9756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59" name="Shape 2593"/>
            <p:cNvSpPr/>
            <p:nvPr/>
          </p:nvSpPr>
          <p:spPr>
            <a:xfrm>
              <a:off x="19890720" y="8403120"/>
              <a:ext cx="174240" cy="135360"/>
            </a:xfrm>
            <a:custGeom>
              <a:avLst/>
              <a:gdLst>
                <a:gd name="textAreaLeft" fmla="*/ 0 w 174240"/>
                <a:gd name="textAreaRight" fmla="*/ 174600 w 174240"/>
                <a:gd name="textAreaTop" fmla="*/ 0 h 135360"/>
                <a:gd name="textAreaBottom" fmla="*/ 135720 h 13536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0" name="Shape 2594"/>
            <p:cNvSpPr/>
            <p:nvPr/>
          </p:nvSpPr>
          <p:spPr>
            <a:xfrm>
              <a:off x="22233600" y="5788440"/>
              <a:ext cx="109080" cy="66240"/>
            </a:xfrm>
            <a:custGeom>
              <a:avLst/>
              <a:gdLst>
                <a:gd name="textAreaLeft" fmla="*/ 0 w 109080"/>
                <a:gd name="textAreaRight" fmla="*/ 109440 w 109080"/>
                <a:gd name="textAreaTop" fmla="*/ 0 h 66240"/>
                <a:gd name="textAreaBottom" fmla="*/ 66600 h 66240"/>
              </a:gdLst>
              <a:ahLst/>
              <a:rect l="textAreaLeft" t="textAreaTop" r="textAreaRight" b="textAreaBottom"/>
              <a:pathLst>
                <a:path w="20746" h="19746">
                  <a:moveTo>
                    <a:pt x="2693" y="8974"/>
                  </a:moveTo>
                  <a:cubicBezTo>
                    <a:pt x="3163" y="8974"/>
                    <a:pt x="3398" y="8608"/>
                    <a:pt x="3985" y="8608"/>
                  </a:cubicBezTo>
                  <a:cubicBezTo>
                    <a:pt x="4219" y="8608"/>
                    <a:pt x="4454" y="8974"/>
                    <a:pt x="4689" y="8974"/>
                  </a:cubicBezTo>
                  <a:cubicBezTo>
                    <a:pt x="4924" y="8974"/>
                    <a:pt x="5159" y="8608"/>
                    <a:pt x="5159" y="8608"/>
                  </a:cubicBezTo>
                  <a:cubicBezTo>
                    <a:pt x="6685" y="6960"/>
                    <a:pt x="8915" y="8425"/>
                    <a:pt x="9854" y="10438"/>
                  </a:cubicBezTo>
                  <a:cubicBezTo>
                    <a:pt x="10793" y="12269"/>
                    <a:pt x="11615" y="15381"/>
                    <a:pt x="11615" y="18126"/>
                  </a:cubicBezTo>
                  <a:cubicBezTo>
                    <a:pt x="12789" y="17028"/>
                    <a:pt x="14315" y="20506"/>
                    <a:pt x="15489" y="19591"/>
                  </a:cubicBezTo>
                  <a:cubicBezTo>
                    <a:pt x="15959" y="19225"/>
                    <a:pt x="16193" y="18492"/>
                    <a:pt x="15959" y="17760"/>
                  </a:cubicBezTo>
                  <a:cubicBezTo>
                    <a:pt x="15724" y="17028"/>
                    <a:pt x="15254" y="16662"/>
                    <a:pt x="14785" y="16662"/>
                  </a:cubicBezTo>
                  <a:cubicBezTo>
                    <a:pt x="14785" y="15381"/>
                    <a:pt x="15489" y="14648"/>
                    <a:pt x="16546" y="14282"/>
                  </a:cubicBezTo>
                  <a:cubicBezTo>
                    <a:pt x="17250" y="14282"/>
                    <a:pt x="17954" y="14648"/>
                    <a:pt x="18659" y="14648"/>
                  </a:cubicBezTo>
                  <a:cubicBezTo>
                    <a:pt x="19480" y="14648"/>
                    <a:pt x="20419" y="14648"/>
                    <a:pt x="20654" y="13550"/>
                  </a:cubicBezTo>
                  <a:cubicBezTo>
                    <a:pt x="20889" y="12452"/>
                    <a:pt x="20654" y="11170"/>
                    <a:pt x="20185" y="10438"/>
                  </a:cubicBezTo>
                  <a:cubicBezTo>
                    <a:pt x="19715" y="9706"/>
                    <a:pt x="19011" y="9340"/>
                    <a:pt x="18189" y="8974"/>
                  </a:cubicBezTo>
                  <a:cubicBezTo>
                    <a:pt x="17485" y="8608"/>
                    <a:pt x="17015" y="8242"/>
                    <a:pt x="16193" y="7692"/>
                  </a:cubicBezTo>
                  <a:cubicBezTo>
                    <a:pt x="15959" y="7692"/>
                    <a:pt x="15489" y="7326"/>
                    <a:pt x="15019" y="7326"/>
                  </a:cubicBezTo>
                  <a:cubicBezTo>
                    <a:pt x="14550" y="7326"/>
                    <a:pt x="14315" y="8242"/>
                    <a:pt x="14080" y="8608"/>
                  </a:cubicBezTo>
                  <a:cubicBezTo>
                    <a:pt x="13259" y="9340"/>
                    <a:pt x="12319" y="8608"/>
                    <a:pt x="11850" y="7326"/>
                  </a:cubicBezTo>
                  <a:cubicBezTo>
                    <a:pt x="11380" y="6228"/>
                    <a:pt x="11028" y="5130"/>
                    <a:pt x="10559" y="3848"/>
                  </a:cubicBezTo>
                  <a:cubicBezTo>
                    <a:pt x="10089" y="2750"/>
                    <a:pt x="9385" y="1652"/>
                    <a:pt x="8328" y="1652"/>
                  </a:cubicBezTo>
                  <a:cubicBezTo>
                    <a:pt x="8093" y="1652"/>
                    <a:pt x="7624" y="2018"/>
                    <a:pt x="7389" y="1652"/>
                  </a:cubicBezTo>
                  <a:cubicBezTo>
                    <a:pt x="6919" y="1652"/>
                    <a:pt x="6450" y="920"/>
                    <a:pt x="6098" y="553"/>
                  </a:cubicBezTo>
                  <a:cubicBezTo>
                    <a:pt x="4219" y="-1094"/>
                    <a:pt x="1989" y="1286"/>
                    <a:pt x="463" y="3116"/>
                  </a:cubicBezTo>
                  <a:cubicBezTo>
                    <a:pt x="-711" y="5496"/>
                    <a:pt x="463" y="9706"/>
                    <a:pt x="2693" y="8974"/>
                  </a:cubicBezTo>
                </a:path>
              </a:pathLst>
            </a:custGeom>
            <a:solidFill>
              <a:srgbClr val="d6d6d6"/>
            </a:solidFill>
            <a:ln w="9525">
              <a:solidFill>
                <a:srgbClr val="424242"/>
              </a:solidFill>
              <a:miter/>
            </a:ln>
          </p:spPr>
          <p:style>
            <a:lnRef idx="0"/>
            <a:fillRef idx="0"/>
            <a:effectRef idx="0"/>
            <a:fontRef idx="minor"/>
          </p:style>
          <p:txBody>
            <a:bodyPr numCol="1" spcCol="0" lIns="45720" rIns="45720" tIns="33120" bIns="33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1" name="Shape 2595"/>
            <p:cNvSpPr/>
            <p:nvPr/>
          </p:nvSpPr>
          <p:spPr>
            <a:xfrm>
              <a:off x="21889800" y="5042880"/>
              <a:ext cx="158400" cy="97200"/>
            </a:xfrm>
            <a:custGeom>
              <a:avLst/>
              <a:gdLst>
                <a:gd name="textAreaLeft" fmla="*/ 0 w 158400"/>
                <a:gd name="textAreaRight" fmla="*/ 158760 w 158400"/>
                <a:gd name="textAreaTop" fmla="*/ 0 h 97200"/>
                <a:gd name="textAreaBottom" fmla="*/ 97560 h 9720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2" name="Shape 2596"/>
            <p:cNvSpPr/>
            <p:nvPr/>
          </p:nvSpPr>
          <p:spPr>
            <a:xfrm>
              <a:off x="20532600" y="4717800"/>
              <a:ext cx="135000" cy="137520"/>
            </a:xfrm>
            <a:custGeom>
              <a:avLst/>
              <a:gdLst>
                <a:gd name="textAreaLeft" fmla="*/ 0 w 135000"/>
                <a:gd name="textAreaRight" fmla="*/ 135360 w 135000"/>
                <a:gd name="textAreaTop" fmla="*/ 0 h 137520"/>
                <a:gd name="textAreaBottom" fmla="*/ 137880 h 13752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3" name="Shape 2597"/>
            <p:cNvSpPr/>
            <p:nvPr/>
          </p:nvSpPr>
          <p:spPr>
            <a:xfrm>
              <a:off x="20419560" y="4455360"/>
              <a:ext cx="300960" cy="207360"/>
            </a:xfrm>
            <a:custGeom>
              <a:avLst/>
              <a:gdLst>
                <a:gd name="textAreaLeft" fmla="*/ 0 w 300960"/>
                <a:gd name="textAreaRight" fmla="*/ 301320 w 300960"/>
                <a:gd name="textAreaTop" fmla="*/ 0 h 207360"/>
                <a:gd name="textAreaBottom" fmla="*/ 207720 h 20736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60"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4" name="Shape 2598"/>
            <p:cNvSpPr/>
            <p:nvPr/>
          </p:nvSpPr>
          <p:spPr>
            <a:xfrm>
              <a:off x="20364120" y="4505760"/>
              <a:ext cx="38880" cy="88200"/>
            </a:xfrm>
            <a:custGeom>
              <a:avLst/>
              <a:gdLst>
                <a:gd name="textAreaLeft" fmla="*/ 0 w 38880"/>
                <a:gd name="textAreaRight" fmla="*/ 39240 w 38880"/>
                <a:gd name="textAreaTop" fmla="*/ 0 h 88200"/>
                <a:gd name="textAreaBottom" fmla="*/ 88560 h 8820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d6d6d6"/>
            </a:solidFill>
            <a:ln w="9525">
              <a:solidFill>
                <a:srgbClr val="424242"/>
              </a:solidFill>
              <a:miter/>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5" name="Shape 2599"/>
            <p:cNvSpPr/>
            <p:nvPr/>
          </p:nvSpPr>
          <p:spPr>
            <a:xfrm>
              <a:off x="20745720" y="4534920"/>
              <a:ext cx="178200" cy="124200"/>
            </a:xfrm>
            <a:custGeom>
              <a:avLst/>
              <a:gdLst>
                <a:gd name="textAreaLeft" fmla="*/ 0 w 178200"/>
                <a:gd name="textAreaRight" fmla="*/ 178560 w 178200"/>
                <a:gd name="textAreaTop" fmla="*/ 0 h 124200"/>
                <a:gd name="textAreaBottom" fmla="*/ 124560 h 12420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6" name="Shape 2600"/>
            <p:cNvSpPr/>
            <p:nvPr/>
          </p:nvSpPr>
          <p:spPr>
            <a:xfrm>
              <a:off x="18357480" y="4831920"/>
              <a:ext cx="39240" cy="86760"/>
            </a:xfrm>
            <a:custGeom>
              <a:avLst/>
              <a:gdLst>
                <a:gd name="textAreaLeft" fmla="*/ 0 w 39240"/>
                <a:gd name="textAreaRight" fmla="*/ 39600 w 39240"/>
                <a:gd name="textAreaTop" fmla="*/ 0 h 86760"/>
                <a:gd name="textAreaBottom" fmla="*/ 87120 h 8676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d6d6d6"/>
            </a:solidFill>
            <a:ln w="9525">
              <a:solidFill>
                <a:srgbClr val="424242"/>
              </a:solidFill>
              <a:miter/>
            </a:ln>
          </p:spPr>
          <p:style>
            <a:lnRef idx="0"/>
            <a:fillRef idx="0"/>
            <a:effectRef idx="0"/>
            <a:fontRef idx="minor"/>
          </p:style>
          <p:txBody>
            <a:bodyPr numCol="1" spcCol="0" lIns="45720" rIns="45720" tIns="43560" bIns="43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7" name="Shape 2601"/>
            <p:cNvSpPr/>
            <p:nvPr/>
          </p:nvSpPr>
          <p:spPr>
            <a:xfrm>
              <a:off x="16726680" y="7394040"/>
              <a:ext cx="70920" cy="31680"/>
            </a:xfrm>
            <a:custGeom>
              <a:avLst/>
              <a:gdLst>
                <a:gd name="textAreaLeft" fmla="*/ 0 w 70920"/>
                <a:gd name="textAreaRight" fmla="*/ 71280 w 70920"/>
                <a:gd name="textAreaTop" fmla="*/ 0 h 31680"/>
                <a:gd name="textAreaBottom" fmla="*/ 32040 h 3168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d6d6d6"/>
            </a:solidFill>
            <a:ln w="9525">
              <a:solidFill>
                <a:srgbClr val="424242"/>
              </a:solidFill>
              <a:miter/>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8" name="Shape 2602"/>
            <p:cNvSpPr/>
            <p:nvPr/>
          </p:nvSpPr>
          <p:spPr>
            <a:xfrm>
              <a:off x="20582280" y="6425640"/>
              <a:ext cx="94680" cy="482760"/>
            </a:xfrm>
            <a:custGeom>
              <a:avLst/>
              <a:gdLst>
                <a:gd name="textAreaLeft" fmla="*/ 0 w 94680"/>
                <a:gd name="textAreaRight" fmla="*/ 95040 w 94680"/>
                <a:gd name="textAreaTop" fmla="*/ 0 h 482760"/>
                <a:gd name="textAreaBottom" fmla="*/ 483120 h 48276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69" name="Shape 2603"/>
            <p:cNvSpPr/>
            <p:nvPr/>
          </p:nvSpPr>
          <p:spPr>
            <a:xfrm>
              <a:off x="20523600" y="6932520"/>
              <a:ext cx="206640" cy="205920"/>
            </a:xfrm>
            <a:custGeom>
              <a:avLst/>
              <a:gdLst>
                <a:gd name="textAreaLeft" fmla="*/ 0 w 206640"/>
                <a:gd name="textAreaRight" fmla="*/ 207000 w 206640"/>
                <a:gd name="textAreaTop" fmla="*/ 0 h 205920"/>
                <a:gd name="textAreaBottom" fmla="*/ 206280 h 20592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0" name="Shape 2604"/>
            <p:cNvSpPr/>
            <p:nvPr/>
          </p:nvSpPr>
          <p:spPr>
            <a:xfrm>
              <a:off x="20156760" y="7144920"/>
              <a:ext cx="446040" cy="427320"/>
            </a:xfrm>
            <a:custGeom>
              <a:avLst/>
              <a:gdLst>
                <a:gd name="textAreaLeft" fmla="*/ 0 w 446040"/>
                <a:gd name="textAreaRight" fmla="*/ 446400 w 446040"/>
                <a:gd name="textAreaTop" fmla="*/ 0 h 427320"/>
                <a:gd name="textAreaBottom" fmla="*/ 427680 h 42732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2"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2"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1" name="Shape 2605"/>
            <p:cNvSpPr/>
            <p:nvPr/>
          </p:nvSpPr>
          <p:spPr>
            <a:xfrm>
              <a:off x="18813960" y="3553200"/>
              <a:ext cx="204480" cy="252360"/>
            </a:xfrm>
            <a:custGeom>
              <a:avLst/>
              <a:gdLst>
                <a:gd name="textAreaLeft" fmla="*/ 0 w 204480"/>
                <a:gd name="textAreaRight" fmla="*/ 204840 w 204480"/>
                <a:gd name="textAreaTop" fmla="*/ 0 h 252360"/>
                <a:gd name="textAreaBottom" fmla="*/ 252720 h 25236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2" name="Shape 2606"/>
            <p:cNvSpPr/>
            <p:nvPr/>
          </p:nvSpPr>
          <p:spPr>
            <a:xfrm>
              <a:off x="18784800" y="3773520"/>
              <a:ext cx="324000" cy="274680"/>
            </a:xfrm>
            <a:custGeom>
              <a:avLst/>
              <a:gdLst>
                <a:gd name="textAreaLeft" fmla="*/ 0 w 324000"/>
                <a:gd name="textAreaRight" fmla="*/ 324360 w 324000"/>
                <a:gd name="textAreaTop" fmla="*/ 0 h 274680"/>
                <a:gd name="textAreaBottom" fmla="*/ 275040 h 27468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3" name="Shape 2607"/>
            <p:cNvSpPr/>
            <p:nvPr/>
          </p:nvSpPr>
          <p:spPr>
            <a:xfrm>
              <a:off x="19079640" y="3915000"/>
              <a:ext cx="214560" cy="275400"/>
            </a:xfrm>
            <a:custGeom>
              <a:avLst/>
              <a:gdLst>
                <a:gd name="textAreaLeft" fmla="*/ 0 w 214560"/>
                <a:gd name="textAreaRight" fmla="*/ 214920 w 214560"/>
                <a:gd name="textAreaTop" fmla="*/ 0 h 275400"/>
                <a:gd name="textAreaBottom" fmla="*/ 275760 h 27540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4" name="Shape 2608"/>
            <p:cNvSpPr/>
            <p:nvPr/>
          </p:nvSpPr>
          <p:spPr>
            <a:xfrm>
              <a:off x="20228400" y="8754120"/>
              <a:ext cx="366480" cy="310680"/>
            </a:xfrm>
            <a:custGeom>
              <a:avLst/>
              <a:gdLst>
                <a:gd name="textAreaLeft" fmla="*/ 0 w 366480"/>
                <a:gd name="textAreaRight" fmla="*/ 366840 w 366480"/>
                <a:gd name="textAreaTop" fmla="*/ 0 h 310680"/>
                <a:gd name="textAreaBottom" fmla="*/ 311040 h 31068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5" name="Shape 2609"/>
            <p:cNvSpPr/>
            <p:nvPr/>
          </p:nvSpPr>
          <p:spPr>
            <a:xfrm>
              <a:off x="16497720" y="4219200"/>
              <a:ext cx="5806800" cy="4518360"/>
            </a:xfrm>
            <a:custGeom>
              <a:avLst/>
              <a:gdLst>
                <a:gd name="textAreaLeft" fmla="*/ 0 w 5806800"/>
                <a:gd name="textAreaRight" fmla="*/ 5807160 w 5806800"/>
                <a:gd name="textAreaTop" fmla="*/ 0 h 4518360"/>
                <a:gd name="textAreaBottom" fmla="*/ 4518720 h 451836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8"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3"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3"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3"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7" y="14865"/>
                  </a:cubicBezTo>
                  <a:cubicBezTo>
                    <a:pt x="12290" y="14865"/>
                    <a:pt x="12255" y="14827"/>
                    <a:pt x="12265" y="14788"/>
                  </a:cubicBezTo>
                  <a:cubicBezTo>
                    <a:pt x="12290" y="14815"/>
                    <a:pt x="12334" y="14776"/>
                    <a:pt x="12329" y="14735"/>
                  </a:cubicBezTo>
                  <a:cubicBezTo>
                    <a:pt x="12317"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5"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6" name="Shape 2610"/>
            <p:cNvSpPr/>
            <p:nvPr/>
          </p:nvSpPr>
          <p:spPr>
            <a:xfrm>
              <a:off x="15103440" y="7662240"/>
              <a:ext cx="24480" cy="21600"/>
            </a:xfrm>
            <a:custGeom>
              <a:avLst/>
              <a:gdLst>
                <a:gd name="textAreaLeft" fmla="*/ 0 w 24480"/>
                <a:gd name="textAreaRight" fmla="*/ 24840 w 24480"/>
                <a:gd name="textAreaTop" fmla="*/ 0 h 21600"/>
                <a:gd name="textAreaBottom" fmla="*/ 21960 h 21600"/>
              </a:gdLst>
              <a:ahLst/>
              <a:rect l="textAreaLeft" t="textAreaTop" r="textAreaRight" b="textAreaBottom"/>
              <a:pathLst>
                <a:path w="20029" h="21600">
                  <a:moveTo>
                    <a:pt x="4730" y="1350"/>
                  </a:moveTo>
                  <a:cubicBezTo>
                    <a:pt x="4730" y="0"/>
                    <a:pt x="2673" y="0"/>
                    <a:pt x="1644" y="0"/>
                  </a:cubicBezTo>
                  <a:cubicBezTo>
                    <a:pt x="2673" y="2700"/>
                    <a:pt x="1644" y="7425"/>
                    <a:pt x="616" y="10125"/>
                  </a:cubicBezTo>
                  <a:cubicBezTo>
                    <a:pt x="-413" y="12825"/>
                    <a:pt x="-413" y="18225"/>
                    <a:pt x="2673" y="20250"/>
                  </a:cubicBezTo>
                  <a:cubicBezTo>
                    <a:pt x="4730" y="20250"/>
                    <a:pt x="5758" y="18225"/>
                    <a:pt x="8330" y="16875"/>
                  </a:cubicBezTo>
                  <a:cubicBezTo>
                    <a:pt x="11416" y="15525"/>
                    <a:pt x="14501" y="16875"/>
                    <a:pt x="16558" y="21600"/>
                  </a:cubicBezTo>
                  <a:cubicBezTo>
                    <a:pt x="21187" y="20250"/>
                    <a:pt x="21187" y="10800"/>
                    <a:pt x="16558" y="7425"/>
                  </a:cubicBezTo>
                  <a:cubicBezTo>
                    <a:pt x="14501" y="6750"/>
                    <a:pt x="13473" y="7425"/>
                    <a:pt x="11416" y="7425"/>
                  </a:cubicBezTo>
                  <a:cubicBezTo>
                    <a:pt x="9358" y="7425"/>
                    <a:pt x="12444" y="2700"/>
                    <a:pt x="11416" y="1350"/>
                  </a:cubicBezTo>
                  <a:cubicBezTo>
                    <a:pt x="10387" y="6075"/>
                    <a:pt x="5758" y="1350"/>
                    <a:pt x="5758" y="7425"/>
                  </a:cubicBezTo>
                  <a:cubicBezTo>
                    <a:pt x="5758" y="4725"/>
                    <a:pt x="5758" y="1350"/>
                    <a:pt x="4730" y="1350"/>
                  </a:cubicBezTo>
                </a:path>
              </a:pathLst>
            </a:custGeom>
            <a:solidFill>
              <a:srgbClr val="d6d6d6"/>
            </a:solidFill>
            <a:ln w="9525">
              <a:solidFill>
                <a:srgbClr val="424242"/>
              </a:solidFill>
              <a:miter/>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7" name="Shape 2611"/>
            <p:cNvSpPr/>
            <p:nvPr/>
          </p:nvSpPr>
          <p:spPr>
            <a:xfrm>
              <a:off x="15002280" y="7696440"/>
              <a:ext cx="23040" cy="28080"/>
            </a:xfrm>
            <a:custGeom>
              <a:avLst/>
              <a:gdLst>
                <a:gd name="textAreaLeft" fmla="*/ 0 w 23040"/>
                <a:gd name="textAreaRight" fmla="*/ 23400 w 23040"/>
                <a:gd name="textAreaTop" fmla="*/ 0 h 28080"/>
                <a:gd name="textAreaBottom" fmla="*/ 28440 h 28080"/>
              </a:gdLst>
              <a:ahLst/>
              <a:rect l="textAreaLeft" t="textAreaTop" r="textAreaRight" b="textAreaBottom"/>
              <a:pathLst>
                <a:path w="21210" h="20842">
                  <a:moveTo>
                    <a:pt x="5863" y="3757"/>
                  </a:moveTo>
                  <a:cubicBezTo>
                    <a:pt x="4726" y="3757"/>
                    <a:pt x="3589" y="3757"/>
                    <a:pt x="1884" y="3757"/>
                  </a:cubicBezTo>
                  <a:cubicBezTo>
                    <a:pt x="-390" y="7983"/>
                    <a:pt x="-390" y="11739"/>
                    <a:pt x="747" y="14557"/>
                  </a:cubicBezTo>
                  <a:cubicBezTo>
                    <a:pt x="1884" y="18783"/>
                    <a:pt x="6431" y="21600"/>
                    <a:pt x="11547" y="20661"/>
                  </a:cubicBezTo>
                  <a:cubicBezTo>
                    <a:pt x="16094" y="19722"/>
                    <a:pt x="20073" y="15496"/>
                    <a:pt x="17799" y="11739"/>
                  </a:cubicBezTo>
                  <a:cubicBezTo>
                    <a:pt x="15526" y="8922"/>
                    <a:pt x="10410" y="6574"/>
                    <a:pt x="11547" y="3757"/>
                  </a:cubicBezTo>
                  <a:cubicBezTo>
                    <a:pt x="15526" y="3757"/>
                    <a:pt x="18936" y="4696"/>
                    <a:pt x="21210" y="6574"/>
                  </a:cubicBezTo>
                  <a:cubicBezTo>
                    <a:pt x="20073" y="5635"/>
                    <a:pt x="21210" y="4696"/>
                    <a:pt x="20073" y="3757"/>
                  </a:cubicBezTo>
                  <a:cubicBezTo>
                    <a:pt x="20073" y="2817"/>
                    <a:pt x="18936" y="2817"/>
                    <a:pt x="17799" y="1878"/>
                  </a:cubicBezTo>
                  <a:cubicBezTo>
                    <a:pt x="16663" y="939"/>
                    <a:pt x="13821" y="0"/>
                    <a:pt x="12684" y="0"/>
                  </a:cubicBezTo>
                  <a:cubicBezTo>
                    <a:pt x="11547" y="0"/>
                    <a:pt x="11547" y="0"/>
                    <a:pt x="10410" y="0"/>
                  </a:cubicBezTo>
                  <a:cubicBezTo>
                    <a:pt x="10410" y="939"/>
                    <a:pt x="8136" y="1878"/>
                    <a:pt x="5863" y="3757"/>
                  </a:cubicBezTo>
                </a:path>
              </a:pathLst>
            </a:custGeom>
            <a:solidFill>
              <a:srgbClr val="d6d6d6"/>
            </a:solidFill>
            <a:ln w="9525">
              <a:solidFill>
                <a:srgbClr val="424242"/>
              </a:solidFill>
              <a:miter/>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8" name="Shape 2612"/>
            <p:cNvSpPr/>
            <p:nvPr/>
          </p:nvSpPr>
          <p:spPr>
            <a:xfrm>
              <a:off x="15033600" y="7711560"/>
              <a:ext cx="24480" cy="27000"/>
            </a:xfrm>
            <a:custGeom>
              <a:avLst/>
              <a:gdLst>
                <a:gd name="textAreaLeft" fmla="*/ 0 w 24480"/>
                <a:gd name="textAreaRight" fmla="*/ 24840 w 24480"/>
                <a:gd name="textAreaTop" fmla="*/ 0 h 27000"/>
                <a:gd name="textAreaBottom" fmla="*/ 27360 h 27000"/>
              </a:gdLst>
              <a:ahLst/>
              <a:rect l="textAreaLeft" t="textAreaTop" r="textAreaRight" b="textAreaBottom"/>
              <a:pathLst>
                <a:path w="20282" h="20177">
                  <a:moveTo>
                    <a:pt x="225" y="9964"/>
                  </a:moveTo>
                  <a:cubicBezTo>
                    <a:pt x="-1318" y="4799"/>
                    <a:pt x="5368" y="-836"/>
                    <a:pt x="11025" y="103"/>
                  </a:cubicBezTo>
                  <a:cubicBezTo>
                    <a:pt x="8453" y="103"/>
                    <a:pt x="7425" y="2921"/>
                    <a:pt x="8453" y="4799"/>
                  </a:cubicBezTo>
                  <a:cubicBezTo>
                    <a:pt x="9482" y="7147"/>
                    <a:pt x="12053" y="8086"/>
                    <a:pt x="14111" y="8086"/>
                  </a:cubicBezTo>
                  <a:cubicBezTo>
                    <a:pt x="16168" y="8086"/>
                    <a:pt x="18225" y="9025"/>
                    <a:pt x="20282" y="10903"/>
                  </a:cubicBezTo>
                  <a:cubicBezTo>
                    <a:pt x="17196" y="12781"/>
                    <a:pt x="17196" y="17947"/>
                    <a:pt x="14111" y="19825"/>
                  </a:cubicBezTo>
                  <a:cubicBezTo>
                    <a:pt x="12053" y="20764"/>
                    <a:pt x="7425" y="19825"/>
                    <a:pt x="6396" y="17007"/>
                  </a:cubicBezTo>
                  <a:cubicBezTo>
                    <a:pt x="5368" y="14660"/>
                    <a:pt x="5368" y="11842"/>
                    <a:pt x="5368" y="9025"/>
                  </a:cubicBezTo>
                  <a:cubicBezTo>
                    <a:pt x="4339" y="9025"/>
                    <a:pt x="2282" y="9025"/>
                    <a:pt x="225" y="9964"/>
                  </a:cubicBezTo>
                </a:path>
              </a:pathLst>
            </a:custGeom>
            <a:solidFill>
              <a:srgbClr val="d6d6d6"/>
            </a:solidFill>
            <a:ln w="9525">
              <a:solidFill>
                <a:srgbClr val="424242"/>
              </a:solidFill>
              <a:miter/>
            </a:ln>
          </p:spPr>
          <p:style>
            <a:lnRef idx="0"/>
            <a:fillRef idx="0"/>
            <a:effectRef idx="0"/>
            <a:fontRef idx="minor"/>
          </p:style>
          <p:txBody>
            <a:bodyPr numCol="1" spcCol="0" lIns="45720" rIns="45720" tIns="13680" bIns="13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79" name="Shape 2613"/>
            <p:cNvSpPr/>
            <p:nvPr/>
          </p:nvSpPr>
          <p:spPr>
            <a:xfrm>
              <a:off x="15105600" y="7579440"/>
              <a:ext cx="27000" cy="23400"/>
            </a:xfrm>
            <a:custGeom>
              <a:avLst/>
              <a:gdLst>
                <a:gd name="textAreaLeft" fmla="*/ 0 w 27000"/>
                <a:gd name="textAreaRight" fmla="*/ 27360 w 27000"/>
                <a:gd name="textAreaTop" fmla="*/ 0 h 23400"/>
                <a:gd name="textAreaBottom" fmla="*/ 23760 h 23400"/>
              </a:gdLst>
              <a:ahLst/>
              <a:rect l="textAreaLeft" t="textAreaTop" r="textAreaRight" b="textAreaBottom"/>
              <a:pathLst>
                <a:path w="20236" h="21600">
                  <a:moveTo>
                    <a:pt x="0" y="0"/>
                  </a:moveTo>
                  <a:cubicBezTo>
                    <a:pt x="0" y="4547"/>
                    <a:pt x="0" y="8526"/>
                    <a:pt x="0" y="13074"/>
                  </a:cubicBezTo>
                  <a:cubicBezTo>
                    <a:pt x="0" y="14211"/>
                    <a:pt x="0" y="15347"/>
                    <a:pt x="0" y="15347"/>
                  </a:cubicBezTo>
                  <a:cubicBezTo>
                    <a:pt x="0" y="16484"/>
                    <a:pt x="900" y="16484"/>
                    <a:pt x="1800" y="16484"/>
                  </a:cubicBezTo>
                  <a:cubicBezTo>
                    <a:pt x="4500" y="17621"/>
                    <a:pt x="7650" y="19326"/>
                    <a:pt x="10350" y="21600"/>
                  </a:cubicBezTo>
                  <a:cubicBezTo>
                    <a:pt x="10350" y="19326"/>
                    <a:pt x="12600" y="16484"/>
                    <a:pt x="14850" y="16484"/>
                  </a:cubicBezTo>
                  <a:cubicBezTo>
                    <a:pt x="16650" y="16484"/>
                    <a:pt x="18900" y="19326"/>
                    <a:pt x="18900" y="21600"/>
                  </a:cubicBezTo>
                  <a:cubicBezTo>
                    <a:pt x="21600" y="17621"/>
                    <a:pt x="19800" y="10800"/>
                    <a:pt x="17100" y="7389"/>
                  </a:cubicBezTo>
                  <a:cubicBezTo>
                    <a:pt x="16200" y="4547"/>
                    <a:pt x="13950" y="2274"/>
                    <a:pt x="11250" y="1137"/>
                  </a:cubicBezTo>
                  <a:cubicBezTo>
                    <a:pt x="9450" y="1137"/>
                    <a:pt x="6750" y="3411"/>
                    <a:pt x="7650" y="5684"/>
                  </a:cubicBezTo>
                  <a:cubicBezTo>
                    <a:pt x="5850" y="3411"/>
                    <a:pt x="2700" y="2274"/>
                    <a:pt x="0" y="0"/>
                  </a:cubicBezTo>
                </a:path>
              </a:pathLst>
            </a:custGeom>
            <a:solidFill>
              <a:srgbClr val="d6d6d6"/>
            </a:solidFill>
            <a:ln w="9525">
              <a:solidFill>
                <a:srgbClr val="424242"/>
              </a:solidFill>
              <a:miter/>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0" name="Shape 2614"/>
            <p:cNvSpPr/>
            <p:nvPr/>
          </p:nvSpPr>
          <p:spPr>
            <a:xfrm>
              <a:off x="15929640" y="575820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9600" h="16200">
                  <a:moveTo>
                    <a:pt x="0" y="0"/>
                  </a:moveTo>
                  <a:cubicBezTo>
                    <a:pt x="0" y="21600"/>
                    <a:pt x="21600" y="21600"/>
                    <a:pt x="0" y="0"/>
                  </a:cubicBezTo>
                </a:path>
              </a:pathLst>
            </a:custGeom>
            <a:solidFill>
              <a:srgbClr val="d6d6d6"/>
            </a:solidFill>
            <a:ln w="9525">
              <a:solidFill>
                <a:srgbClr val="424242"/>
              </a:solidFill>
              <a:miter/>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1" name="Shape 2615"/>
            <p:cNvSpPr/>
            <p:nvPr/>
          </p:nvSpPr>
          <p:spPr>
            <a:xfrm>
              <a:off x="17298360" y="5279040"/>
              <a:ext cx="93240" cy="98280"/>
            </a:xfrm>
            <a:custGeom>
              <a:avLst/>
              <a:gdLst>
                <a:gd name="textAreaLeft" fmla="*/ 0 w 93240"/>
                <a:gd name="textAreaRight" fmla="*/ 93600 w 93240"/>
                <a:gd name="textAreaTop" fmla="*/ 0 h 98280"/>
                <a:gd name="textAreaBottom" fmla="*/ 98640 h 9828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2" name="Shape 2616"/>
            <p:cNvSpPr/>
            <p:nvPr/>
          </p:nvSpPr>
          <p:spPr>
            <a:xfrm>
              <a:off x="16239240" y="6223680"/>
              <a:ext cx="48240" cy="86040"/>
            </a:xfrm>
            <a:custGeom>
              <a:avLst/>
              <a:gdLst>
                <a:gd name="textAreaLeft" fmla="*/ 0 w 48240"/>
                <a:gd name="textAreaRight" fmla="*/ 48600 w 48240"/>
                <a:gd name="textAreaTop" fmla="*/ 0 h 86040"/>
                <a:gd name="textAreaBottom" fmla="*/ 86400 h 8604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d6d6d6"/>
            </a:solidFill>
            <a:ln w="9525">
              <a:solidFill>
                <a:srgbClr val="424242"/>
              </a:solidFill>
              <a:miter/>
            </a:ln>
          </p:spPr>
          <p:style>
            <a:lnRef idx="0"/>
            <a:fillRef idx="0"/>
            <a:effectRef idx="0"/>
            <a:fontRef idx="minor"/>
          </p:style>
          <p:txBody>
            <a:bodyPr numCol="1" spcCol="0" lIns="45720" rIns="45720" tIns="43200" bIns="43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3" name="Shape 2617"/>
            <p:cNvSpPr/>
            <p:nvPr/>
          </p:nvSpPr>
          <p:spPr>
            <a:xfrm>
              <a:off x="15996240" y="6351120"/>
              <a:ext cx="58320" cy="87480"/>
            </a:xfrm>
            <a:custGeom>
              <a:avLst/>
              <a:gdLst>
                <a:gd name="textAreaLeft" fmla="*/ 0 w 58320"/>
                <a:gd name="textAreaRight" fmla="*/ 58680 w 58320"/>
                <a:gd name="textAreaTop" fmla="*/ 0 h 87480"/>
                <a:gd name="textAreaBottom" fmla="*/ 87840 h 8748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d6d6d6"/>
            </a:solidFill>
            <a:ln w="9525">
              <a:solidFill>
                <a:srgbClr val="424242"/>
              </a:solidFill>
              <a:miter/>
            </a:ln>
          </p:spPr>
          <p:style>
            <a:lnRef idx="0"/>
            <a:fillRef idx="0"/>
            <a:effectRef idx="0"/>
            <a:fontRef idx="minor"/>
          </p:style>
          <p:txBody>
            <a:bodyPr numCol="1" spcCol="0" lIns="45720" rIns="45720" tIns="43920" bIns="43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4" name="Shape 2618"/>
            <p:cNvSpPr/>
            <p:nvPr/>
          </p:nvSpPr>
          <p:spPr>
            <a:xfrm>
              <a:off x="16004160" y="6292080"/>
              <a:ext cx="21600" cy="31680"/>
            </a:xfrm>
            <a:custGeom>
              <a:avLst/>
              <a:gdLst>
                <a:gd name="textAreaLeft" fmla="*/ 0 w 21600"/>
                <a:gd name="textAreaRight" fmla="*/ 21960 w 21600"/>
                <a:gd name="textAreaTop" fmla="*/ 0 h 31680"/>
                <a:gd name="textAreaBottom" fmla="*/ 32040 h 3168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d6d6d6"/>
            </a:solidFill>
            <a:ln w="9525">
              <a:solidFill>
                <a:srgbClr val="424242"/>
              </a:solidFill>
              <a:miter/>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5" name="Shape 2619"/>
            <p:cNvSpPr/>
            <p:nvPr/>
          </p:nvSpPr>
          <p:spPr>
            <a:xfrm>
              <a:off x="15908040" y="7056720"/>
              <a:ext cx="36000" cy="99000"/>
            </a:xfrm>
            <a:custGeom>
              <a:avLst/>
              <a:gdLst>
                <a:gd name="textAreaLeft" fmla="*/ 0 w 36000"/>
                <a:gd name="textAreaRight" fmla="*/ 36360 w 36000"/>
                <a:gd name="textAreaTop" fmla="*/ 0 h 99000"/>
                <a:gd name="textAreaBottom" fmla="*/ 99360 h 9900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6" name="Shape 2620"/>
            <p:cNvSpPr/>
            <p:nvPr/>
          </p:nvSpPr>
          <p:spPr>
            <a:xfrm>
              <a:off x="15891120" y="7162200"/>
              <a:ext cx="59040" cy="105480"/>
            </a:xfrm>
            <a:custGeom>
              <a:avLst/>
              <a:gdLst>
                <a:gd name="textAreaLeft" fmla="*/ 0 w 59040"/>
                <a:gd name="textAreaRight" fmla="*/ 59400 w 59040"/>
                <a:gd name="textAreaTop" fmla="*/ 0 h 105480"/>
                <a:gd name="textAreaBottom" fmla="*/ 105840 h 10548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7" name="Shape 2621"/>
            <p:cNvSpPr/>
            <p:nvPr/>
          </p:nvSpPr>
          <p:spPr>
            <a:xfrm>
              <a:off x="15692760" y="7211520"/>
              <a:ext cx="41040" cy="37080"/>
            </a:xfrm>
            <a:custGeom>
              <a:avLst/>
              <a:gdLst>
                <a:gd name="textAreaLeft" fmla="*/ 0 w 41040"/>
                <a:gd name="textAreaRight" fmla="*/ 41400 w 41040"/>
                <a:gd name="textAreaTop" fmla="*/ 0 h 37080"/>
                <a:gd name="textAreaBottom" fmla="*/ 37440 h 3708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d6d6d6"/>
            </a:solidFill>
            <a:ln w="9525">
              <a:solidFill>
                <a:srgbClr val="424242"/>
              </a:solidFill>
              <a:miter/>
            </a:ln>
          </p:spPr>
          <p:style>
            <a:lnRef idx="0"/>
            <a:fillRef idx="0"/>
            <a:effectRef idx="0"/>
            <a:fontRef idx="minor"/>
          </p:style>
          <p:txBody>
            <a:bodyPr numCol="1" spcCol="0" lIns="45720" rIns="45720" tIns="18720" bIns="18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8" name="Shape 2622"/>
            <p:cNvSpPr/>
            <p:nvPr/>
          </p:nvSpPr>
          <p:spPr>
            <a:xfrm>
              <a:off x="15728040" y="720288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d6d6d6"/>
            </a:solidFill>
            <a:ln w="9525">
              <a:solidFill>
                <a:srgbClr val="424242"/>
              </a:solidFill>
              <a:miter/>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89" name="Shape 2623"/>
            <p:cNvSpPr/>
            <p:nvPr/>
          </p:nvSpPr>
          <p:spPr>
            <a:xfrm>
              <a:off x="15675120" y="724932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0" name="Shape 2624"/>
            <p:cNvSpPr/>
            <p:nvPr/>
          </p:nvSpPr>
          <p:spPr>
            <a:xfrm>
              <a:off x="15339600" y="6138360"/>
              <a:ext cx="325440" cy="582480"/>
            </a:xfrm>
            <a:custGeom>
              <a:avLst/>
              <a:gdLst>
                <a:gd name="textAreaLeft" fmla="*/ 0 w 325440"/>
                <a:gd name="textAreaRight" fmla="*/ 325800 w 325440"/>
                <a:gd name="textAreaTop" fmla="*/ 0 h 582480"/>
                <a:gd name="textAreaBottom" fmla="*/ 582840 h 58248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1" name="Shape 2625"/>
            <p:cNvSpPr/>
            <p:nvPr/>
          </p:nvSpPr>
          <p:spPr>
            <a:xfrm>
              <a:off x="15239160" y="6401520"/>
              <a:ext cx="169560" cy="231480"/>
            </a:xfrm>
            <a:custGeom>
              <a:avLst/>
              <a:gdLst>
                <a:gd name="textAreaLeft" fmla="*/ 0 w 169560"/>
                <a:gd name="textAreaRight" fmla="*/ 169920 w 169560"/>
                <a:gd name="textAreaTop" fmla="*/ 0 h 231480"/>
                <a:gd name="textAreaBottom" fmla="*/ 231840 h 23148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2" name="Shape 2626"/>
            <p:cNvSpPr/>
            <p:nvPr/>
          </p:nvSpPr>
          <p:spPr>
            <a:xfrm>
              <a:off x="16036560" y="7290000"/>
              <a:ext cx="112680" cy="82440"/>
            </a:xfrm>
            <a:custGeom>
              <a:avLst/>
              <a:gdLst>
                <a:gd name="textAreaLeft" fmla="*/ 0 w 112680"/>
                <a:gd name="textAreaRight" fmla="*/ 113040 w 112680"/>
                <a:gd name="textAreaTop" fmla="*/ 0 h 82440"/>
                <a:gd name="textAreaBottom" fmla="*/ 82800 h 8244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d6d6d6"/>
            </a:solidFill>
            <a:ln w="9525">
              <a:solidFill>
                <a:srgbClr val="424242"/>
              </a:solidFill>
              <a:miter/>
            </a:ln>
          </p:spPr>
          <p:style>
            <a:lnRef idx="0"/>
            <a:fillRef idx="0"/>
            <a:effectRef idx="0"/>
            <a:fontRef idx="minor"/>
          </p:style>
          <p:txBody>
            <a:bodyPr numCol="1" spcCol="0" lIns="45720" rIns="45720" tIns="41400" bIns="41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3" name="Shape 2627"/>
            <p:cNvSpPr/>
            <p:nvPr/>
          </p:nvSpPr>
          <p:spPr>
            <a:xfrm>
              <a:off x="16438320" y="7410960"/>
              <a:ext cx="108720" cy="35640"/>
            </a:xfrm>
            <a:custGeom>
              <a:avLst/>
              <a:gdLst>
                <a:gd name="textAreaLeft" fmla="*/ 0 w 108720"/>
                <a:gd name="textAreaRight" fmla="*/ 109080 w 108720"/>
                <a:gd name="textAreaTop" fmla="*/ 0 h 35640"/>
                <a:gd name="textAreaBottom" fmla="*/ 36000 h 3564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d6d6d6"/>
            </a:solidFill>
            <a:ln w="9525">
              <a:solidFill>
                <a:srgbClr val="424242"/>
              </a:solidFill>
              <a:miter/>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4" name="Shape 2628"/>
            <p:cNvSpPr/>
            <p:nvPr/>
          </p:nvSpPr>
          <p:spPr>
            <a:xfrm>
              <a:off x="15545520" y="6014160"/>
              <a:ext cx="39960" cy="86040"/>
            </a:xfrm>
            <a:custGeom>
              <a:avLst/>
              <a:gdLst>
                <a:gd name="textAreaLeft" fmla="*/ 0 w 39960"/>
                <a:gd name="textAreaRight" fmla="*/ 40320 w 39960"/>
                <a:gd name="textAreaTop" fmla="*/ 0 h 86040"/>
                <a:gd name="textAreaBottom" fmla="*/ 86400 h 8604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d6d6d6"/>
            </a:solidFill>
            <a:ln w="9525">
              <a:solidFill>
                <a:srgbClr val="424242"/>
              </a:solidFill>
              <a:miter/>
            </a:ln>
          </p:spPr>
          <p:style>
            <a:lnRef idx="0"/>
            <a:fillRef idx="0"/>
            <a:effectRef idx="0"/>
            <a:fontRef idx="minor"/>
          </p:style>
          <p:txBody>
            <a:bodyPr numCol="1" spcCol="0" lIns="45720" rIns="45720" tIns="43200" bIns="43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5" name="Shape 2629"/>
            <p:cNvSpPr/>
            <p:nvPr/>
          </p:nvSpPr>
          <p:spPr>
            <a:xfrm>
              <a:off x="15332760" y="5896440"/>
              <a:ext cx="53640" cy="55440"/>
            </a:xfrm>
            <a:custGeom>
              <a:avLst/>
              <a:gdLst>
                <a:gd name="textAreaLeft" fmla="*/ 0 w 53640"/>
                <a:gd name="textAreaRight" fmla="*/ 54000 w 53640"/>
                <a:gd name="textAreaTop" fmla="*/ 0 h 55440"/>
                <a:gd name="textAreaBottom" fmla="*/ 55800 h 5544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d6d6d6"/>
            </a:solidFill>
            <a:ln w="9525">
              <a:solidFill>
                <a:srgbClr val="424242"/>
              </a:solidFill>
              <a:miter/>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6" name="Shape 2630"/>
            <p:cNvSpPr/>
            <p:nvPr/>
          </p:nvSpPr>
          <p:spPr>
            <a:xfrm>
              <a:off x="14731920" y="5573880"/>
              <a:ext cx="393480" cy="254880"/>
            </a:xfrm>
            <a:custGeom>
              <a:avLst/>
              <a:gdLst>
                <a:gd name="textAreaLeft" fmla="*/ 0 w 393480"/>
                <a:gd name="textAreaRight" fmla="*/ 393840 w 393480"/>
                <a:gd name="textAreaTop" fmla="*/ 0 h 254880"/>
                <a:gd name="textAreaBottom" fmla="*/ 255240 h 25488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7" name="Shape 2631"/>
            <p:cNvSpPr/>
            <p:nvPr/>
          </p:nvSpPr>
          <p:spPr>
            <a:xfrm>
              <a:off x="15970320" y="3826800"/>
              <a:ext cx="481680" cy="587520"/>
            </a:xfrm>
            <a:custGeom>
              <a:avLst/>
              <a:gdLst>
                <a:gd name="textAreaLeft" fmla="*/ 0 w 481680"/>
                <a:gd name="textAreaRight" fmla="*/ 482040 w 481680"/>
                <a:gd name="textAreaTop" fmla="*/ 0 h 587520"/>
                <a:gd name="textAreaBottom" fmla="*/ 587880 h 58752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5"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8" name="Shape 2632"/>
            <p:cNvSpPr/>
            <p:nvPr/>
          </p:nvSpPr>
          <p:spPr>
            <a:xfrm>
              <a:off x="16241040" y="3652920"/>
              <a:ext cx="328680" cy="329760"/>
            </a:xfrm>
            <a:custGeom>
              <a:avLst/>
              <a:gdLst>
                <a:gd name="textAreaLeft" fmla="*/ 0 w 328680"/>
                <a:gd name="textAreaRight" fmla="*/ 329040 w 328680"/>
                <a:gd name="textAreaTop" fmla="*/ 0 h 329760"/>
                <a:gd name="textAreaBottom" fmla="*/ 330120 h 32976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299" name="Shape 2633"/>
            <p:cNvSpPr/>
            <p:nvPr/>
          </p:nvSpPr>
          <p:spPr>
            <a:xfrm>
              <a:off x="17424000" y="4359240"/>
              <a:ext cx="594000" cy="830160"/>
            </a:xfrm>
            <a:custGeom>
              <a:avLst/>
              <a:gdLst>
                <a:gd name="textAreaLeft" fmla="*/ 0 w 594000"/>
                <a:gd name="textAreaRight" fmla="*/ 594360 w 594000"/>
                <a:gd name="textAreaTop" fmla="*/ 0 h 830160"/>
                <a:gd name="textAreaBottom" fmla="*/ 830520 h 83016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0" name="Shape 2634"/>
            <p:cNvSpPr/>
            <p:nvPr/>
          </p:nvSpPr>
          <p:spPr>
            <a:xfrm>
              <a:off x="17691120" y="3651840"/>
              <a:ext cx="83520" cy="91440"/>
            </a:xfrm>
            <a:custGeom>
              <a:avLst/>
              <a:gdLst>
                <a:gd name="textAreaLeft" fmla="*/ 0 w 83520"/>
                <a:gd name="textAreaRight" fmla="*/ 83880 w 83520"/>
                <a:gd name="textAreaTop" fmla="*/ 0 h 91440"/>
                <a:gd name="textAreaBottom" fmla="*/ 91800 h 91440"/>
              </a:gdLst>
              <a:ahLst/>
              <a:rect l="textAreaLeft" t="textAreaTop" r="textAreaRight" b="textAreaBottom"/>
              <a:pathLst>
                <a:path w="21600" h="21528">
                  <a:moveTo>
                    <a:pt x="19988" y="9423"/>
                  </a:moveTo>
                  <a:cubicBezTo>
                    <a:pt x="20633" y="9423"/>
                    <a:pt x="21278" y="9423"/>
                    <a:pt x="21600" y="10003"/>
                  </a:cubicBezTo>
                  <a:cubicBezTo>
                    <a:pt x="20633" y="11887"/>
                    <a:pt x="20955" y="13627"/>
                    <a:pt x="20310" y="15801"/>
                  </a:cubicBezTo>
                  <a:cubicBezTo>
                    <a:pt x="19666" y="17541"/>
                    <a:pt x="17570" y="19426"/>
                    <a:pt x="15958" y="18846"/>
                  </a:cubicBezTo>
                  <a:cubicBezTo>
                    <a:pt x="16603" y="19426"/>
                    <a:pt x="16281" y="21020"/>
                    <a:pt x="15152" y="21310"/>
                  </a:cubicBezTo>
                  <a:cubicBezTo>
                    <a:pt x="14185" y="21600"/>
                    <a:pt x="13218" y="21600"/>
                    <a:pt x="11767" y="21310"/>
                  </a:cubicBezTo>
                  <a:cubicBezTo>
                    <a:pt x="9188" y="20585"/>
                    <a:pt x="6770" y="20295"/>
                    <a:pt x="4030" y="19715"/>
                  </a:cubicBezTo>
                  <a:cubicBezTo>
                    <a:pt x="3385" y="19715"/>
                    <a:pt x="2740" y="19426"/>
                    <a:pt x="2418" y="19136"/>
                  </a:cubicBezTo>
                  <a:cubicBezTo>
                    <a:pt x="2096" y="18846"/>
                    <a:pt x="1612" y="18266"/>
                    <a:pt x="1290" y="17541"/>
                  </a:cubicBezTo>
                  <a:cubicBezTo>
                    <a:pt x="322" y="14932"/>
                    <a:pt x="0" y="12177"/>
                    <a:pt x="0" y="9423"/>
                  </a:cubicBezTo>
                  <a:cubicBezTo>
                    <a:pt x="0" y="7828"/>
                    <a:pt x="322" y="5799"/>
                    <a:pt x="2096" y="5509"/>
                  </a:cubicBezTo>
                  <a:cubicBezTo>
                    <a:pt x="3385" y="4784"/>
                    <a:pt x="4675" y="5799"/>
                    <a:pt x="6448" y="5799"/>
                  </a:cubicBezTo>
                  <a:cubicBezTo>
                    <a:pt x="7737" y="6089"/>
                    <a:pt x="9833" y="5074"/>
                    <a:pt x="9510" y="3914"/>
                  </a:cubicBezTo>
                  <a:cubicBezTo>
                    <a:pt x="11445" y="3914"/>
                    <a:pt x="13540" y="3624"/>
                    <a:pt x="15475" y="3624"/>
                  </a:cubicBezTo>
                  <a:cubicBezTo>
                    <a:pt x="14507" y="3624"/>
                    <a:pt x="16603" y="0"/>
                    <a:pt x="19343" y="0"/>
                  </a:cubicBezTo>
                  <a:cubicBezTo>
                    <a:pt x="18215" y="2754"/>
                    <a:pt x="20633" y="6379"/>
                    <a:pt x="19988" y="942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1" name="Shape 2635"/>
            <p:cNvSpPr/>
            <p:nvPr/>
          </p:nvSpPr>
          <p:spPr>
            <a:xfrm>
              <a:off x="17802360" y="3575520"/>
              <a:ext cx="83160" cy="114480"/>
            </a:xfrm>
            <a:custGeom>
              <a:avLst/>
              <a:gdLst>
                <a:gd name="textAreaLeft" fmla="*/ 0 w 83160"/>
                <a:gd name="textAreaRight" fmla="*/ 83520 w 83160"/>
                <a:gd name="textAreaTop" fmla="*/ 0 h 114480"/>
                <a:gd name="textAreaBottom" fmla="*/ 114840 h 114480"/>
              </a:gdLst>
              <a:ahLst/>
              <a:rect l="textAreaLeft" t="textAreaTop" r="textAreaRight" b="textAreaBottom"/>
              <a:pathLst>
                <a:path w="20823" h="21232">
                  <a:moveTo>
                    <a:pt x="13131" y="21138"/>
                  </a:moveTo>
                  <a:cubicBezTo>
                    <a:pt x="16083" y="20560"/>
                    <a:pt x="18103" y="18712"/>
                    <a:pt x="19036" y="16749"/>
                  </a:cubicBezTo>
                  <a:cubicBezTo>
                    <a:pt x="20434" y="14323"/>
                    <a:pt x="20745" y="11435"/>
                    <a:pt x="20745" y="8779"/>
                  </a:cubicBezTo>
                  <a:cubicBezTo>
                    <a:pt x="20745" y="6815"/>
                    <a:pt x="21056" y="4620"/>
                    <a:pt x="20434" y="2657"/>
                  </a:cubicBezTo>
                  <a:cubicBezTo>
                    <a:pt x="19968" y="1502"/>
                    <a:pt x="18725" y="0"/>
                    <a:pt x="17171" y="0"/>
                  </a:cubicBezTo>
                  <a:cubicBezTo>
                    <a:pt x="14840" y="0"/>
                    <a:pt x="13908" y="2426"/>
                    <a:pt x="14219" y="4158"/>
                  </a:cubicBezTo>
                  <a:cubicBezTo>
                    <a:pt x="14529" y="9241"/>
                    <a:pt x="8624" y="9010"/>
                    <a:pt x="4429" y="12128"/>
                  </a:cubicBezTo>
                  <a:cubicBezTo>
                    <a:pt x="2719" y="13399"/>
                    <a:pt x="-544" y="15016"/>
                    <a:pt x="78" y="16980"/>
                  </a:cubicBezTo>
                  <a:cubicBezTo>
                    <a:pt x="1165" y="19174"/>
                    <a:pt x="4739" y="19174"/>
                    <a:pt x="6915" y="17904"/>
                  </a:cubicBezTo>
                  <a:cubicBezTo>
                    <a:pt x="7692" y="20329"/>
                    <a:pt x="10178" y="21600"/>
                    <a:pt x="13131" y="2113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2" name="Shape 2636"/>
            <p:cNvSpPr/>
            <p:nvPr/>
          </p:nvSpPr>
          <p:spPr>
            <a:xfrm>
              <a:off x="17718120" y="3600000"/>
              <a:ext cx="44640" cy="33480"/>
            </a:xfrm>
            <a:custGeom>
              <a:avLst/>
              <a:gdLst>
                <a:gd name="textAreaLeft" fmla="*/ 0 w 44640"/>
                <a:gd name="textAreaRight" fmla="*/ 45000 w 44640"/>
                <a:gd name="textAreaTop" fmla="*/ 0 h 33480"/>
                <a:gd name="textAreaBottom" fmla="*/ 33840 h 33480"/>
              </a:gdLst>
              <a:ahLst/>
              <a:rect l="textAreaLeft" t="textAreaTop" r="textAreaRight" b="textAreaBottom"/>
              <a:pathLst>
                <a:path w="20046" h="21043">
                  <a:moveTo>
                    <a:pt x="2319" y="7200"/>
                  </a:moveTo>
                  <a:cubicBezTo>
                    <a:pt x="-1047" y="8716"/>
                    <a:pt x="-486" y="15916"/>
                    <a:pt x="2319" y="18947"/>
                  </a:cubicBezTo>
                  <a:cubicBezTo>
                    <a:pt x="5405" y="21600"/>
                    <a:pt x="9613" y="21600"/>
                    <a:pt x="12979" y="19705"/>
                  </a:cubicBezTo>
                  <a:cubicBezTo>
                    <a:pt x="16065" y="18947"/>
                    <a:pt x="19431" y="16674"/>
                    <a:pt x="19992" y="12884"/>
                  </a:cubicBezTo>
                  <a:cubicBezTo>
                    <a:pt x="20553" y="7200"/>
                    <a:pt x="16626" y="3032"/>
                    <a:pt x="12979" y="758"/>
                  </a:cubicBezTo>
                  <a:cubicBezTo>
                    <a:pt x="12418" y="758"/>
                    <a:pt x="11857" y="0"/>
                    <a:pt x="11296" y="0"/>
                  </a:cubicBezTo>
                  <a:cubicBezTo>
                    <a:pt x="10174" y="0"/>
                    <a:pt x="9613" y="0"/>
                    <a:pt x="8771" y="758"/>
                  </a:cubicBezTo>
                  <a:cubicBezTo>
                    <a:pt x="5966" y="2274"/>
                    <a:pt x="3722" y="3789"/>
                    <a:pt x="636" y="5684"/>
                  </a:cubicBezTo>
                  <a:cubicBezTo>
                    <a:pt x="-486" y="6442"/>
                    <a:pt x="2319" y="7200"/>
                    <a:pt x="2319" y="7200"/>
                  </a:cubicBezTo>
                </a:path>
              </a:pathLst>
            </a:custGeom>
            <a:solidFill>
              <a:srgbClr val="d6d6d6"/>
            </a:solidFill>
            <a:ln w="9525">
              <a:solidFill>
                <a:srgbClr val="424242"/>
              </a:solidFill>
              <a:miter/>
            </a:ln>
          </p:spPr>
          <p:style>
            <a:lnRef idx="0"/>
            <a:fillRef idx="0"/>
            <a:effectRef idx="0"/>
            <a:fontRef idx="minor"/>
          </p:style>
          <p:txBody>
            <a:bodyPr numCol="1" spcCol="0" lIns="45720" rIns="45720" tIns="16920" bIns="16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3" name="Shape 2637"/>
            <p:cNvSpPr/>
            <p:nvPr/>
          </p:nvSpPr>
          <p:spPr>
            <a:xfrm>
              <a:off x="17574120" y="3728160"/>
              <a:ext cx="85320" cy="78480"/>
            </a:xfrm>
            <a:custGeom>
              <a:avLst/>
              <a:gdLst>
                <a:gd name="textAreaLeft" fmla="*/ 0 w 85320"/>
                <a:gd name="textAreaRight" fmla="*/ 85680 w 85320"/>
                <a:gd name="textAreaTop" fmla="*/ 0 h 78480"/>
                <a:gd name="textAreaBottom" fmla="*/ 78840 h 78480"/>
              </a:gdLst>
              <a:ahLst/>
              <a:rect l="textAreaLeft" t="textAreaTop" r="textAreaRight" b="textAreaBottom"/>
              <a:pathLst>
                <a:path w="21341" h="20939">
                  <a:moveTo>
                    <a:pt x="9651" y="1473"/>
                  </a:moveTo>
                  <a:cubicBezTo>
                    <a:pt x="9345" y="2127"/>
                    <a:pt x="9345" y="9000"/>
                    <a:pt x="9957" y="9000"/>
                  </a:cubicBezTo>
                  <a:cubicBezTo>
                    <a:pt x="5515" y="8018"/>
                    <a:pt x="306" y="12109"/>
                    <a:pt x="0" y="17182"/>
                  </a:cubicBezTo>
                  <a:cubicBezTo>
                    <a:pt x="1685" y="20291"/>
                    <a:pt x="5515" y="21600"/>
                    <a:pt x="8732" y="20618"/>
                  </a:cubicBezTo>
                  <a:cubicBezTo>
                    <a:pt x="11949" y="19473"/>
                    <a:pt x="14094" y="15873"/>
                    <a:pt x="13481" y="12436"/>
                  </a:cubicBezTo>
                  <a:cubicBezTo>
                    <a:pt x="15166" y="12764"/>
                    <a:pt x="17157" y="13091"/>
                    <a:pt x="18689" y="12436"/>
                  </a:cubicBezTo>
                  <a:cubicBezTo>
                    <a:pt x="20374" y="11782"/>
                    <a:pt x="21600" y="9982"/>
                    <a:pt x="21294" y="8345"/>
                  </a:cubicBezTo>
                  <a:cubicBezTo>
                    <a:pt x="18996" y="8345"/>
                    <a:pt x="17004" y="6218"/>
                    <a:pt x="16698" y="4255"/>
                  </a:cubicBezTo>
                  <a:cubicBezTo>
                    <a:pt x="15166" y="4582"/>
                    <a:pt x="13634" y="4582"/>
                    <a:pt x="12255" y="3927"/>
                  </a:cubicBezTo>
                  <a:cubicBezTo>
                    <a:pt x="11030" y="3109"/>
                    <a:pt x="9651" y="1473"/>
                    <a:pt x="10264" y="0"/>
                  </a:cubicBezTo>
                  <a:cubicBezTo>
                    <a:pt x="9957" y="0"/>
                    <a:pt x="9345" y="1473"/>
                    <a:pt x="9651" y="1473"/>
                  </a:cubicBezTo>
                </a:path>
              </a:pathLst>
            </a:custGeom>
            <a:solidFill>
              <a:srgbClr val="d6d6d6"/>
            </a:solidFill>
            <a:ln w="9525">
              <a:solidFill>
                <a:srgbClr val="424242"/>
              </a:solidFill>
              <a:miter/>
            </a:ln>
          </p:spPr>
          <p:style>
            <a:lnRef idx="0"/>
            <a:fillRef idx="0"/>
            <a:effectRef idx="0"/>
            <a:fontRef idx="minor"/>
          </p:style>
          <p:txBody>
            <a:bodyPr numCol="1" spcCol="0" lIns="45720" rIns="45720" tIns="39240" bIns="39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4" name="Shape 2638"/>
            <p:cNvSpPr/>
            <p:nvPr/>
          </p:nvSpPr>
          <p:spPr>
            <a:xfrm>
              <a:off x="17560440" y="3641760"/>
              <a:ext cx="89640" cy="54360"/>
            </a:xfrm>
            <a:custGeom>
              <a:avLst/>
              <a:gdLst>
                <a:gd name="textAreaLeft" fmla="*/ 0 w 89640"/>
                <a:gd name="textAreaRight" fmla="*/ 90000 w 89640"/>
                <a:gd name="textAreaTop" fmla="*/ 0 h 54360"/>
                <a:gd name="textAreaBottom" fmla="*/ 54720 h 54360"/>
              </a:gdLst>
              <a:ahLst/>
              <a:rect l="textAreaLeft" t="textAreaTop" r="textAreaRight" b="textAreaBottom"/>
              <a:pathLst>
                <a:path w="15934" h="20795">
                  <a:moveTo>
                    <a:pt x="3584" y="20785"/>
                  </a:moveTo>
                  <a:cubicBezTo>
                    <a:pt x="4886" y="20785"/>
                    <a:pt x="6297" y="18907"/>
                    <a:pt x="6731" y="15855"/>
                  </a:cubicBezTo>
                  <a:cubicBezTo>
                    <a:pt x="6948" y="14446"/>
                    <a:pt x="6948" y="13038"/>
                    <a:pt x="7382" y="11864"/>
                  </a:cubicBezTo>
                  <a:cubicBezTo>
                    <a:pt x="7600" y="10455"/>
                    <a:pt x="8359" y="9516"/>
                    <a:pt x="9011" y="9985"/>
                  </a:cubicBezTo>
                  <a:cubicBezTo>
                    <a:pt x="9445" y="9985"/>
                    <a:pt x="9662" y="10925"/>
                    <a:pt x="9879" y="10925"/>
                  </a:cubicBezTo>
                  <a:cubicBezTo>
                    <a:pt x="11507" y="13507"/>
                    <a:pt x="13787" y="9985"/>
                    <a:pt x="15198" y="7168"/>
                  </a:cubicBezTo>
                  <a:cubicBezTo>
                    <a:pt x="15415" y="6464"/>
                    <a:pt x="15632" y="5994"/>
                    <a:pt x="15849" y="5525"/>
                  </a:cubicBezTo>
                  <a:cubicBezTo>
                    <a:pt x="16283" y="3177"/>
                    <a:pt x="14980" y="1533"/>
                    <a:pt x="13787" y="1533"/>
                  </a:cubicBezTo>
                  <a:cubicBezTo>
                    <a:pt x="12701" y="1533"/>
                    <a:pt x="11507" y="2707"/>
                    <a:pt x="10639" y="1533"/>
                  </a:cubicBezTo>
                  <a:cubicBezTo>
                    <a:pt x="10205" y="1064"/>
                    <a:pt x="9879" y="594"/>
                    <a:pt x="9445" y="125"/>
                  </a:cubicBezTo>
                  <a:cubicBezTo>
                    <a:pt x="8794" y="-345"/>
                    <a:pt x="7925" y="594"/>
                    <a:pt x="7165" y="1533"/>
                  </a:cubicBezTo>
                  <a:cubicBezTo>
                    <a:pt x="4886" y="4585"/>
                    <a:pt x="-5317" y="21255"/>
                    <a:pt x="3584" y="20785"/>
                  </a:cubicBezTo>
                </a:path>
              </a:pathLst>
            </a:custGeom>
            <a:solidFill>
              <a:srgbClr val="d6d6d6"/>
            </a:solidFill>
            <a:ln w="9525">
              <a:solidFill>
                <a:srgbClr val="424242"/>
              </a:solidFill>
              <a:miter/>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5" name="Shape 2639"/>
            <p:cNvSpPr/>
            <p:nvPr/>
          </p:nvSpPr>
          <p:spPr>
            <a:xfrm>
              <a:off x="17537400" y="3602880"/>
              <a:ext cx="51480" cy="32400"/>
            </a:xfrm>
            <a:custGeom>
              <a:avLst/>
              <a:gdLst>
                <a:gd name="textAreaLeft" fmla="*/ 0 w 51480"/>
                <a:gd name="textAreaRight" fmla="*/ 51840 w 51480"/>
                <a:gd name="textAreaTop" fmla="*/ 0 h 32400"/>
                <a:gd name="textAreaBottom" fmla="*/ 32760 h 32400"/>
              </a:gdLst>
              <a:ahLst/>
              <a:rect l="textAreaLeft" t="textAreaTop" r="textAreaRight" b="textAreaBottom"/>
              <a:pathLst>
                <a:path w="20721" h="20357">
                  <a:moveTo>
                    <a:pt x="401" y="6676"/>
                  </a:moveTo>
                  <a:cubicBezTo>
                    <a:pt x="-581" y="9033"/>
                    <a:pt x="401" y="13353"/>
                    <a:pt x="1628" y="14924"/>
                  </a:cubicBezTo>
                  <a:cubicBezTo>
                    <a:pt x="3101" y="17280"/>
                    <a:pt x="5064" y="18065"/>
                    <a:pt x="6783" y="18851"/>
                  </a:cubicBezTo>
                  <a:cubicBezTo>
                    <a:pt x="10219" y="20815"/>
                    <a:pt x="15374" y="21600"/>
                    <a:pt x="17583" y="16495"/>
                  </a:cubicBezTo>
                  <a:cubicBezTo>
                    <a:pt x="18074" y="14924"/>
                    <a:pt x="18074" y="13353"/>
                    <a:pt x="19055" y="12567"/>
                  </a:cubicBezTo>
                  <a:cubicBezTo>
                    <a:pt x="19546" y="11782"/>
                    <a:pt x="20037" y="11782"/>
                    <a:pt x="20528" y="10604"/>
                  </a:cubicBezTo>
                  <a:cubicBezTo>
                    <a:pt x="21019" y="9818"/>
                    <a:pt x="20528" y="8247"/>
                    <a:pt x="19546" y="7462"/>
                  </a:cubicBezTo>
                  <a:cubicBezTo>
                    <a:pt x="15864" y="3535"/>
                    <a:pt x="11446" y="1571"/>
                    <a:pt x="7274" y="2356"/>
                  </a:cubicBezTo>
                  <a:cubicBezTo>
                    <a:pt x="4819" y="3142"/>
                    <a:pt x="1874" y="3927"/>
                    <a:pt x="1137" y="785"/>
                  </a:cubicBezTo>
                  <a:cubicBezTo>
                    <a:pt x="1137" y="2356"/>
                    <a:pt x="401" y="5891"/>
                    <a:pt x="401" y="6676"/>
                  </a:cubicBezTo>
                  <a:close/>
                  <a:moveTo>
                    <a:pt x="1137" y="0"/>
                  </a:moveTo>
                  <a:cubicBezTo>
                    <a:pt x="1137" y="393"/>
                    <a:pt x="1137" y="393"/>
                    <a:pt x="1137" y="785"/>
                  </a:cubicBezTo>
                  <a:cubicBezTo>
                    <a:pt x="1137" y="785"/>
                    <a:pt x="1137" y="393"/>
                    <a:pt x="1137" y="0"/>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6" name="Shape 2640"/>
            <p:cNvSpPr/>
            <p:nvPr/>
          </p:nvSpPr>
          <p:spPr>
            <a:xfrm>
              <a:off x="17611200" y="3477240"/>
              <a:ext cx="49680" cy="45360"/>
            </a:xfrm>
            <a:custGeom>
              <a:avLst/>
              <a:gdLst>
                <a:gd name="textAreaLeft" fmla="*/ 0 w 49680"/>
                <a:gd name="textAreaRight" fmla="*/ 50040 w 49680"/>
                <a:gd name="textAreaTop" fmla="*/ 0 h 45360"/>
                <a:gd name="textAreaBottom" fmla="*/ 45720 h 45360"/>
              </a:gdLst>
              <a:ahLst/>
              <a:rect l="textAreaLeft" t="textAreaTop" r="textAreaRight" b="textAreaBottom"/>
              <a:pathLst>
                <a:path w="20106" h="21600">
                  <a:moveTo>
                    <a:pt x="260" y="8352"/>
                  </a:moveTo>
                  <a:cubicBezTo>
                    <a:pt x="-745" y="12672"/>
                    <a:pt x="1264" y="16704"/>
                    <a:pt x="4529" y="19296"/>
                  </a:cubicBezTo>
                  <a:cubicBezTo>
                    <a:pt x="7543" y="21024"/>
                    <a:pt x="11813" y="21600"/>
                    <a:pt x="15581" y="21600"/>
                  </a:cubicBezTo>
                  <a:cubicBezTo>
                    <a:pt x="16083" y="21600"/>
                    <a:pt x="17088" y="21600"/>
                    <a:pt x="17590" y="21600"/>
                  </a:cubicBezTo>
                  <a:cubicBezTo>
                    <a:pt x="20855" y="20448"/>
                    <a:pt x="20855" y="14400"/>
                    <a:pt x="18092" y="12096"/>
                  </a:cubicBezTo>
                  <a:cubicBezTo>
                    <a:pt x="15581" y="9504"/>
                    <a:pt x="12064" y="8928"/>
                    <a:pt x="8799" y="7776"/>
                  </a:cubicBezTo>
                  <a:cubicBezTo>
                    <a:pt x="5785" y="6624"/>
                    <a:pt x="1767" y="4032"/>
                    <a:pt x="1767" y="0"/>
                  </a:cubicBezTo>
                  <a:lnTo>
                    <a:pt x="260" y="8352"/>
                  </a:lnTo>
                </a:path>
              </a:pathLst>
            </a:custGeom>
            <a:solidFill>
              <a:srgbClr val="d6d6d6"/>
            </a:solidFill>
            <a:ln w="9525">
              <a:solidFill>
                <a:srgbClr val="424242"/>
              </a:solidFill>
              <a:miter/>
            </a:ln>
          </p:spPr>
          <p:style>
            <a:lnRef idx="0"/>
            <a:fillRef idx="0"/>
            <a:effectRef idx="0"/>
            <a:fontRef idx="minor"/>
          </p:style>
          <p:txBody>
            <a:bodyPr numCol="1" spcCol="0" lIns="45720" rIns="45720" tIns="22680" bIns="22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7" name="Shape 2641"/>
            <p:cNvSpPr/>
            <p:nvPr/>
          </p:nvSpPr>
          <p:spPr>
            <a:xfrm>
              <a:off x="17634960" y="3406320"/>
              <a:ext cx="37800" cy="38880"/>
            </a:xfrm>
            <a:custGeom>
              <a:avLst/>
              <a:gdLst>
                <a:gd name="textAreaLeft" fmla="*/ 0 w 37800"/>
                <a:gd name="textAreaRight" fmla="*/ 38160 w 37800"/>
                <a:gd name="textAreaTop" fmla="*/ 0 h 38880"/>
                <a:gd name="textAreaBottom" fmla="*/ 39240 h 38880"/>
              </a:gdLst>
              <a:ahLst/>
              <a:rect l="textAreaLeft" t="textAreaTop" r="textAreaRight" b="textAreaBottom"/>
              <a:pathLst>
                <a:path w="20550" h="21086">
                  <a:moveTo>
                    <a:pt x="20447" y="8914"/>
                  </a:moveTo>
                  <a:cubicBezTo>
                    <a:pt x="21112" y="13029"/>
                    <a:pt x="18454" y="17486"/>
                    <a:pt x="14798" y="19543"/>
                  </a:cubicBezTo>
                  <a:cubicBezTo>
                    <a:pt x="11475" y="21600"/>
                    <a:pt x="6490" y="21600"/>
                    <a:pt x="2835" y="19543"/>
                  </a:cubicBezTo>
                  <a:cubicBezTo>
                    <a:pt x="1506" y="18857"/>
                    <a:pt x="177" y="17486"/>
                    <a:pt x="177" y="15771"/>
                  </a:cubicBezTo>
                  <a:cubicBezTo>
                    <a:pt x="-488" y="13714"/>
                    <a:pt x="841" y="11657"/>
                    <a:pt x="2170" y="9600"/>
                  </a:cubicBezTo>
                  <a:cubicBezTo>
                    <a:pt x="4829" y="5829"/>
                    <a:pt x="7820" y="3086"/>
                    <a:pt x="10478" y="0"/>
                  </a:cubicBezTo>
                  <a:cubicBezTo>
                    <a:pt x="10478" y="2057"/>
                    <a:pt x="10478" y="4114"/>
                    <a:pt x="10146" y="5829"/>
                  </a:cubicBezTo>
                  <a:cubicBezTo>
                    <a:pt x="13469" y="5829"/>
                    <a:pt x="17124" y="6857"/>
                    <a:pt x="20447" y="8914"/>
                  </a:cubicBezTo>
                </a:path>
              </a:pathLst>
            </a:custGeom>
            <a:solidFill>
              <a:srgbClr val="d6d6d6"/>
            </a:solidFill>
            <a:ln w="9525">
              <a:solidFill>
                <a:srgbClr val="424242"/>
              </a:solidFill>
              <a:miter/>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8" name="Shape 2642"/>
            <p:cNvSpPr/>
            <p:nvPr/>
          </p:nvSpPr>
          <p:spPr>
            <a:xfrm>
              <a:off x="17601480" y="347256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18138" h="19713">
                  <a:moveTo>
                    <a:pt x="18138" y="513"/>
                  </a:moveTo>
                  <a:cubicBezTo>
                    <a:pt x="9498" y="-1887"/>
                    <a:pt x="-3462" y="4713"/>
                    <a:pt x="858" y="8313"/>
                  </a:cubicBezTo>
                  <a:cubicBezTo>
                    <a:pt x="5178" y="11913"/>
                    <a:pt x="13818" y="16113"/>
                    <a:pt x="5178" y="19713"/>
                  </a:cubicBezTo>
                  <a:lnTo>
                    <a:pt x="18138" y="513"/>
                  </a:lnTo>
                </a:path>
              </a:pathLst>
            </a:custGeom>
            <a:solidFill>
              <a:srgbClr val="d6d6d6"/>
            </a:solidFill>
            <a:ln w="9525">
              <a:solidFill>
                <a:srgbClr val="424242"/>
              </a:solidFill>
              <a:miter/>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09" name="Shape 2643"/>
            <p:cNvSpPr/>
            <p:nvPr/>
          </p:nvSpPr>
          <p:spPr>
            <a:xfrm>
              <a:off x="15268320" y="5119920"/>
              <a:ext cx="2647080" cy="2277360"/>
            </a:xfrm>
            <a:custGeom>
              <a:avLst/>
              <a:gdLst>
                <a:gd name="textAreaLeft" fmla="*/ 0 w 2647080"/>
                <a:gd name="textAreaRight" fmla="*/ 2647440 w 2647080"/>
                <a:gd name="textAreaTop" fmla="*/ 0 h 2277360"/>
                <a:gd name="textAreaBottom" fmla="*/ 2277720 h 227736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6"/>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6"/>
                    <a:pt x="12257" y="1626"/>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6"/>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7"/>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7"/>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310" name="PlaceHolder 1"/>
          <p:cNvSpPr>
            <a:spLocks noGrp="1"/>
          </p:cNvSpPr>
          <p:nvPr>
            <p:ph type="title"/>
          </p:nvPr>
        </p:nvSpPr>
        <p:spPr>
          <a:xfrm>
            <a:off x="2031840" y="1708200"/>
            <a:ext cx="6216480" cy="31248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World</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Map</a:t>
            </a:r>
            <a:endParaRPr b="0" lang="en-US" sz="11200" spc="-1" strike="noStrike">
              <a:solidFill>
                <a:srgbClr val="009193"/>
              </a:solidFill>
              <a:latin typeface="Helvetica Light"/>
            </a:endParaRPr>
          </a:p>
        </p:txBody>
      </p:sp>
      <p:sp>
        <p:nvSpPr>
          <p:cNvPr id="5311" name="PlaceHolder 2"/>
          <p:cNvSpPr>
            <a:spLocks noGrp="1"/>
          </p:cNvSpPr>
          <p:nvPr>
            <p:ph type="sldNum" idx="116"/>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02C22274-209D-4A56-B697-DC320CF65B75}" type="slidenum">
              <a:rPr b="0" lang="en-US" sz="2800" spc="-1" strike="noStrike">
                <a:solidFill>
                  <a:srgbClr val="797979"/>
                </a:solidFill>
                <a:latin typeface="Helvetica Light"/>
                <a:ea typeface="Helvetica Light"/>
              </a:rPr>
              <a:t>110</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2" name="PlaceHolder 1"/>
          <p:cNvSpPr>
            <a:spLocks noGrp="1"/>
          </p:cNvSpPr>
          <p:nvPr>
            <p:ph type="title"/>
          </p:nvPr>
        </p:nvSpPr>
        <p:spPr>
          <a:xfrm>
            <a:off x="11175840" y="1708200"/>
            <a:ext cx="11179440" cy="31482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North</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America</a:t>
            </a:r>
            <a:endParaRPr b="0" lang="en-US" sz="11200" spc="-1" strike="noStrike">
              <a:solidFill>
                <a:srgbClr val="009193"/>
              </a:solidFill>
              <a:latin typeface="Helvetica Light"/>
            </a:endParaRPr>
          </a:p>
        </p:txBody>
      </p:sp>
      <p:sp>
        <p:nvSpPr>
          <p:cNvPr id="5313" name="PlaceHolder 2"/>
          <p:cNvSpPr>
            <a:spLocks noGrp="1"/>
          </p:cNvSpPr>
          <p:nvPr>
            <p:ph type="sldNum" idx="117"/>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CED1FB9B-1EC2-44D9-BE20-503BB4F6F116}" type="slidenum">
              <a:rPr b="0" lang="en-US" sz="2800" spc="-1" strike="noStrike">
                <a:solidFill>
                  <a:srgbClr val="797979"/>
                </a:solidFill>
                <a:latin typeface="Helvetica Light"/>
                <a:ea typeface="Helvetica Light"/>
              </a:rPr>
              <a:t>110</a:t>
            </a:fld>
            <a:endParaRPr b="0" lang="en-US" sz="2800" spc="-1" strike="noStrike">
              <a:solidFill>
                <a:srgbClr val="000000"/>
              </a:solidFill>
              <a:latin typeface="Times New Roman"/>
            </a:endParaRPr>
          </a:p>
        </p:txBody>
      </p:sp>
      <p:sp>
        <p:nvSpPr>
          <p:cNvPr id="5314" name="Shape 2650"/>
          <p:cNvSpPr/>
          <p:nvPr/>
        </p:nvSpPr>
        <p:spPr>
          <a:xfrm>
            <a:off x="11175480" y="10692720"/>
            <a:ext cx="494676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5315" name="Shape 2651"/>
          <p:cNvSpPr/>
          <p:nvPr/>
        </p:nvSpPr>
        <p:spPr>
          <a:xfrm>
            <a:off x="11175480" y="980352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DRUSAM BERUDA</a:t>
            </a:r>
            <a:endParaRPr b="0" lang="en-US" sz="3000" spc="-1" strike="noStrike">
              <a:solidFill>
                <a:srgbClr val="000000"/>
              </a:solidFill>
              <a:latin typeface="Arial"/>
            </a:endParaRPr>
          </a:p>
        </p:txBody>
      </p:sp>
      <p:sp>
        <p:nvSpPr>
          <p:cNvPr id="5316" name="Shape 2652"/>
          <p:cNvSpPr/>
          <p:nvPr/>
        </p:nvSpPr>
        <p:spPr>
          <a:xfrm>
            <a:off x="11175480" y="736812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73M</a:t>
            </a:r>
            <a:endParaRPr b="0" lang="en-US" sz="12000" spc="-1" strike="noStrike">
              <a:solidFill>
                <a:srgbClr val="000000"/>
              </a:solidFill>
              <a:latin typeface="Arial"/>
            </a:endParaRPr>
          </a:p>
        </p:txBody>
      </p:sp>
      <p:sp>
        <p:nvSpPr>
          <p:cNvPr id="5317" name="Shape 2653"/>
          <p:cNvSpPr/>
          <p:nvPr/>
        </p:nvSpPr>
        <p:spPr>
          <a:xfrm>
            <a:off x="17408160" y="10692720"/>
            <a:ext cx="494676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5318" name="Shape 2654"/>
          <p:cNvSpPr/>
          <p:nvPr/>
        </p:nvSpPr>
        <p:spPr>
          <a:xfrm>
            <a:off x="17408160" y="980352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URADN ESTADA</a:t>
            </a:r>
            <a:endParaRPr b="0" lang="en-US" sz="3000" spc="-1" strike="noStrike">
              <a:solidFill>
                <a:srgbClr val="000000"/>
              </a:solidFill>
              <a:latin typeface="Arial"/>
            </a:endParaRPr>
          </a:p>
        </p:txBody>
      </p:sp>
      <p:sp>
        <p:nvSpPr>
          <p:cNvPr id="5319" name="Shape 2655"/>
          <p:cNvSpPr/>
          <p:nvPr/>
        </p:nvSpPr>
        <p:spPr>
          <a:xfrm>
            <a:off x="17408160" y="736812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4M</a:t>
            </a:r>
            <a:endParaRPr b="0" lang="en-US" sz="12000" spc="-1" strike="noStrike">
              <a:solidFill>
                <a:srgbClr val="000000"/>
              </a:solidFill>
              <a:latin typeface="Arial"/>
            </a:endParaRPr>
          </a:p>
        </p:txBody>
      </p:sp>
      <p:grpSp>
        <p:nvGrpSpPr>
          <p:cNvPr id="5320" name="Group 2700"/>
          <p:cNvGrpSpPr/>
          <p:nvPr/>
        </p:nvGrpSpPr>
        <p:grpSpPr>
          <a:xfrm>
            <a:off x="-3647880" y="-3875040"/>
            <a:ext cx="13372200" cy="17717400"/>
            <a:chOff x="-3647880" y="-3875040"/>
            <a:chExt cx="13372200" cy="17717400"/>
          </a:xfrm>
        </p:grpSpPr>
        <p:sp>
          <p:nvSpPr>
            <p:cNvPr id="5321" name="Shape 2656"/>
            <p:cNvSpPr/>
            <p:nvPr/>
          </p:nvSpPr>
          <p:spPr>
            <a:xfrm>
              <a:off x="-3647880" y="1605600"/>
              <a:ext cx="13025880" cy="12236760"/>
            </a:xfrm>
            <a:custGeom>
              <a:avLst/>
              <a:gdLst>
                <a:gd name="textAreaLeft" fmla="*/ 0 w 13025880"/>
                <a:gd name="textAreaRight" fmla="*/ 13026240 w 13025880"/>
                <a:gd name="textAreaTop" fmla="*/ 0 h 12236760"/>
                <a:gd name="textAreaBottom" fmla="*/ 12237120 h 1223676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3"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2" name="Shape 2657"/>
            <p:cNvSpPr/>
            <p:nvPr/>
          </p:nvSpPr>
          <p:spPr>
            <a:xfrm>
              <a:off x="6027120" y="11903400"/>
              <a:ext cx="1149840" cy="445680"/>
            </a:xfrm>
            <a:custGeom>
              <a:avLst/>
              <a:gdLst>
                <a:gd name="textAreaLeft" fmla="*/ 0 w 1149840"/>
                <a:gd name="textAreaRight" fmla="*/ 1150200 w 1149840"/>
                <a:gd name="textAreaTop" fmla="*/ 0 h 445680"/>
                <a:gd name="textAreaBottom" fmla="*/ 446040 h 44568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3" name="Shape 2658"/>
            <p:cNvSpPr/>
            <p:nvPr/>
          </p:nvSpPr>
          <p:spPr>
            <a:xfrm>
              <a:off x="6760800" y="12493800"/>
              <a:ext cx="270000" cy="131760"/>
            </a:xfrm>
            <a:custGeom>
              <a:avLst/>
              <a:gdLst>
                <a:gd name="textAreaLeft" fmla="*/ 0 w 270000"/>
                <a:gd name="textAreaRight" fmla="*/ 270360 w 270000"/>
                <a:gd name="textAreaTop" fmla="*/ 0 h 131760"/>
                <a:gd name="textAreaBottom" fmla="*/ 132120 h 13176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4" name="Shape 2659"/>
            <p:cNvSpPr/>
            <p:nvPr/>
          </p:nvSpPr>
          <p:spPr>
            <a:xfrm>
              <a:off x="7206120" y="12326040"/>
              <a:ext cx="763920" cy="249120"/>
            </a:xfrm>
            <a:custGeom>
              <a:avLst/>
              <a:gdLst>
                <a:gd name="textAreaLeft" fmla="*/ 0 w 763920"/>
                <a:gd name="textAreaRight" fmla="*/ 764280 w 763920"/>
                <a:gd name="textAreaTop" fmla="*/ 0 h 249120"/>
                <a:gd name="textAreaBottom" fmla="*/ 249480 h 24912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5" name="Shape 2660"/>
            <p:cNvSpPr/>
            <p:nvPr/>
          </p:nvSpPr>
          <p:spPr>
            <a:xfrm>
              <a:off x="8020440" y="12504960"/>
              <a:ext cx="309960" cy="117720"/>
            </a:xfrm>
            <a:custGeom>
              <a:avLst/>
              <a:gdLst>
                <a:gd name="textAreaLeft" fmla="*/ 0 w 309960"/>
                <a:gd name="textAreaRight" fmla="*/ 310320 w 309960"/>
                <a:gd name="textAreaTop" fmla="*/ 0 h 117720"/>
                <a:gd name="textAreaBottom" fmla="*/ 118080 h 11772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6" name="Shape 2661"/>
            <p:cNvSpPr/>
            <p:nvPr/>
          </p:nvSpPr>
          <p:spPr>
            <a:xfrm>
              <a:off x="8342640" y="8010360"/>
              <a:ext cx="362160" cy="199080"/>
            </a:xfrm>
            <a:custGeom>
              <a:avLst/>
              <a:gdLst>
                <a:gd name="textAreaLeft" fmla="*/ 0 w 362160"/>
                <a:gd name="textAreaRight" fmla="*/ 362520 w 362160"/>
                <a:gd name="textAreaTop" fmla="*/ 0 h 199080"/>
                <a:gd name="textAreaBottom" fmla="*/ 199440 h 19908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7" name="Shape 2662"/>
            <p:cNvSpPr/>
            <p:nvPr/>
          </p:nvSpPr>
          <p:spPr>
            <a:xfrm>
              <a:off x="8951040" y="7635240"/>
              <a:ext cx="773280" cy="950400"/>
            </a:xfrm>
            <a:custGeom>
              <a:avLst/>
              <a:gdLst>
                <a:gd name="textAreaLeft" fmla="*/ 0 w 773280"/>
                <a:gd name="textAreaRight" fmla="*/ 773640 w 773280"/>
                <a:gd name="textAreaTop" fmla="*/ 0 h 950400"/>
                <a:gd name="textAreaBottom" fmla="*/ 950760 h 95040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8" name="Shape 2663"/>
            <p:cNvSpPr/>
            <p:nvPr/>
          </p:nvSpPr>
          <p:spPr>
            <a:xfrm>
              <a:off x="6524280" y="6618240"/>
              <a:ext cx="203040" cy="289800"/>
            </a:xfrm>
            <a:custGeom>
              <a:avLst/>
              <a:gdLst>
                <a:gd name="textAreaLeft" fmla="*/ 0 w 203040"/>
                <a:gd name="textAreaRight" fmla="*/ 203400 w 203040"/>
                <a:gd name="textAreaTop" fmla="*/ 0 h 289800"/>
                <a:gd name="textAreaBottom" fmla="*/ 290160 h 28980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29" name="Shape 2664"/>
            <p:cNvSpPr/>
            <p:nvPr/>
          </p:nvSpPr>
          <p:spPr>
            <a:xfrm>
              <a:off x="6463440" y="5951520"/>
              <a:ext cx="124920" cy="246960"/>
            </a:xfrm>
            <a:custGeom>
              <a:avLst/>
              <a:gdLst>
                <a:gd name="textAreaLeft" fmla="*/ 0 w 124920"/>
                <a:gd name="textAreaRight" fmla="*/ 125280 w 124920"/>
                <a:gd name="textAreaTop" fmla="*/ 0 h 246960"/>
                <a:gd name="textAreaBottom" fmla="*/ 247320 h 24696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0" name="Shape 2665"/>
            <p:cNvSpPr/>
            <p:nvPr/>
          </p:nvSpPr>
          <p:spPr>
            <a:xfrm>
              <a:off x="6528960" y="5391720"/>
              <a:ext cx="153720" cy="227520"/>
            </a:xfrm>
            <a:custGeom>
              <a:avLst/>
              <a:gdLst>
                <a:gd name="textAreaLeft" fmla="*/ 0 w 153720"/>
                <a:gd name="textAreaRight" fmla="*/ 154080 w 153720"/>
                <a:gd name="textAreaTop" fmla="*/ 0 h 227520"/>
                <a:gd name="textAreaBottom" fmla="*/ 227880 h 22752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1" name="Shape 2666"/>
            <p:cNvSpPr/>
            <p:nvPr/>
          </p:nvSpPr>
          <p:spPr>
            <a:xfrm>
              <a:off x="7880400" y="5827680"/>
              <a:ext cx="114840" cy="119520"/>
            </a:xfrm>
            <a:custGeom>
              <a:avLst/>
              <a:gdLst>
                <a:gd name="textAreaLeft" fmla="*/ 0 w 114840"/>
                <a:gd name="textAreaRight" fmla="*/ 115200 w 114840"/>
                <a:gd name="textAreaTop" fmla="*/ 0 h 119520"/>
                <a:gd name="textAreaBottom" fmla="*/ 119880 h 11952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2" name="Shape 2667"/>
            <p:cNvSpPr/>
            <p:nvPr/>
          </p:nvSpPr>
          <p:spPr>
            <a:xfrm>
              <a:off x="5703120" y="4459680"/>
              <a:ext cx="853200" cy="793080"/>
            </a:xfrm>
            <a:custGeom>
              <a:avLst/>
              <a:gdLst>
                <a:gd name="textAreaLeft" fmla="*/ 0 w 853200"/>
                <a:gd name="textAreaRight" fmla="*/ 853560 w 853200"/>
                <a:gd name="textAreaTop" fmla="*/ 0 h 793080"/>
                <a:gd name="textAreaBottom" fmla="*/ 793440 h 79308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3" name="Shape 2668"/>
            <p:cNvSpPr/>
            <p:nvPr/>
          </p:nvSpPr>
          <p:spPr>
            <a:xfrm>
              <a:off x="6063120" y="5244480"/>
              <a:ext cx="297000" cy="234720"/>
            </a:xfrm>
            <a:custGeom>
              <a:avLst/>
              <a:gdLst>
                <a:gd name="textAreaLeft" fmla="*/ 0 w 297000"/>
                <a:gd name="textAreaRight" fmla="*/ 297360 w 297000"/>
                <a:gd name="textAreaTop" fmla="*/ 0 h 234720"/>
                <a:gd name="textAreaBottom" fmla="*/ 235080 h 23472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4" name="Shape 2669"/>
            <p:cNvSpPr/>
            <p:nvPr/>
          </p:nvSpPr>
          <p:spPr>
            <a:xfrm>
              <a:off x="6860520" y="3760920"/>
              <a:ext cx="289800" cy="328320"/>
            </a:xfrm>
            <a:custGeom>
              <a:avLst/>
              <a:gdLst>
                <a:gd name="textAreaLeft" fmla="*/ 0 w 289800"/>
                <a:gd name="textAreaRight" fmla="*/ 290160 w 289800"/>
                <a:gd name="textAreaTop" fmla="*/ 0 h 328320"/>
                <a:gd name="textAreaBottom" fmla="*/ 328680 h 32832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5" name="Shape 2670"/>
            <p:cNvSpPr/>
            <p:nvPr/>
          </p:nvSpPr>
          <p:spPr>
            <a:xfrm>
              <a:off x="6648840" y="3337200"/>
              <a:ext cx="103680" cy="262080"/>
            </a:xfrm>
            <a:custGeom>
              <a:avLst/>
              <a:gdLst>
                <a:gd name="textAreaLeft" fmla="*/ 0 w 103680"/>
                <a:gd name="textAreaRight" fmla="*/ 104040 w 103680"/>
                <a:gd name="textAreaTop" fmla="*/ 0 h 262080"/>
                <a:gd name="textAreaBottom" fmla="*/ 262440 h 26208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6" name="Shape 2671"/>
            <p:cNvSpPr/>
            <p:nvPr/>
          </p:nvSpPr>
          <p:spPr>
            <a:xfrm>
              <a:off x="6887880" y="3400560"/>
              <a:ext cx="107280" cy="203400"/>
            </a:xfrm>
            <a:custGeom>
              <a:avLst/>
              <a:gdLst>
                <a:gd name="textAreaLeft" fmla="*/ 0 w 107280"/>
                <a:gd name="textAreaRight" fmla="*/ 107640 w 107280"/>
                <a:gd name="textAreaTop" fmla="*/ 0 h 203400"/>
                <a:gd name="textAreaBottom" fmla="*/ 203760 h 20340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7" name="Shape 2672"/>
            <p:cNvSpPr/>
            <p:nvPr/>
          </p:nvSpPr>
          <p:spPr>
            <a:xfrm>
              <a:off x="7176240" y="3814200"/>
              <a:ext cx="150480" cy="140040"/>
            </a:xfrm>
            <a:custGeom>
              <a:avLst/>
              <a:gdLst>
                <a:gd name="textAreaLeft" fmla="*/ 0 w 150480"/>
                <a:gd name="textAreaRight" fmla="*/ 150840 w 150480"/>
                <a:gd name="textAreaTop" fmla="*/ 0 h 140040"/>
                <a:gd name="textAreaBottom" fmla="*/ 140400 h 14004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8" name="Shape 2673"/>
            <p:cNvSpPr/>
            <p:nvPr/>
          </p:nvSpPr>
          <p:spPr>
            <a:xfrm>
              <a:off x="6741000" y="5067000"/>
              <a:ext cx="128520" cy="167760"/>
            </a:xfrm>
            <a:custGeom>
              <a:avLst/>
              <a:gdLst>
                <a:gd name="textAreaLeft" fmla="*/ 0 w 128520"/>
                <a:gd name="textAreaRight" fmla="*/ 128880 w 128520"/>
                <a:gd name="textAreaTop" fmla="*/ 0 h 167760"/>
                <a:gd name="textAreaBottom" fmla="*/ 168120 h 16776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39" name="Shape 2674"/>
            <p:cNvSpPr/>
            <p:nvPr/>
          </p:nvSpPr>
          <p:spPr>
            <a:xfrm>
              <a:off x="8240040" y="5501160"/>
              <a:ext cx="82440" cy="150840"/>
            </a:xfrm>
            <a:custGeom>
              <a:avLst/>
              <a:gdLst>
                <a:gd name="textAreaLeft" fmla="*/ 0 w 82440"/>
                <a:gd name="textAreaRight" fmla="*/ 82800 w 82440"/>
                <a:gd name="textAreaTop" fmla="*/ 0 h 150840"/>
                <a:gd name="textAreaBottom" fmla="*/ 151200 h 15084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0" name="Shape 2675"/>
            <p:cNvSpPr/>
            <p:nvPr/>
          </p:nvSpPr>
          <p:spPr>
            <a:xfrm>
              <a:off x="6436800" y="1820880"/>
              <a:ext cx="597240" cy="398520"/>
            </a:xfrm>
            <a:custGeom>
              <a:avLst/>
              <a:gdLst>
                <a:gd name="textAreaLeft" fmla="*/ 0 w 597240"/>
                <a:gd name="textAreaRight" fmla="*/ 597600 w 597240"/>
                <a:gd name="textAreaTop" fmla="*/ 0 h 398520"/>
                <a:gd name="textAreaBottom" fmla="*/ 398880 h 39852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1" name="Shape 2676"/>
            <p:cNvSpPr/>
            <p:nvPr/>
          </p:nvSpPr>
          <p:spPr>
            <a:xfrm>
              <a:off x="-2090880" y="6300360"/>
              <a:ext cx="298080" cy="357120"/>
            </a:xfrm>
            <a:custGeom>
              <a:avLst/>
              <a:gdLst>
                <a:gd name="textAreaLeft" fmla="*/ 0 w 298080"/>
                <a:gd name="textAreaRight" fmla="*/ 298440 w 298080"/>
                <a:gd name="textAreaTop" fmla="*/ 0 h 357120"/>
                <a:gd name="textAreaBottom" fmla="*/ 357480 h 35712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2" name="Shape 2677"/>
            <p:cNvSpPr/>
            <p:nvPr/>
          </p:nvSpPr>
          <p:spPr>
            <a:xfrm>
              <a:off x="-3349080" y="7107120"/>
              <a:ext cx="143280" cy="131760"/>
            </a:xfrm>
            <a:custGeom>
              <a:avLst/>
              <a:gdLst>
                <a:gd name="textAreaLeft" fmla="*/ 0 w 143280"/>
                <a:gd name="textAreaRight" fmla="*/ 143640 w 143280"/>
                <a:gd name="textAreaTop" fmla="*/ 0 h 131760"/>
                <a:gd name="textAreaBottom" fmla="*/ 132120 h 13176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3" name="Shape 2678"/>
            <p:cNvSpPr/>
            <p:nvPr/>
          </p:nvSpPr>
          <p:spPr>
            <a:xfrm>
              <a:off x="404640" y="7223760"/>
              <a:ext cx="254160" cy="435960"/>
            </a:xfrm>
            <a:custGeom>
              <a:avLst/>
              <a:gdLst>
                <a:gd name="textAreaLeft" fmla="*/ 0 w 254160"/>
                <a:gd name="textAreaRight" fmla="*/ 254520 w 254160"/>
                <a:gd name="textAreaTop" fmla="*/ 0 h 435960"/>
                <a:gd name="textAreaBottom" fmla="*/ 436320 h 43596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4" name="Shape 2679"/>
            <p:cNvSpPr/>
            <p:nvPr/>
          </p:nvSpPr>
          <p:spPr>
            <a:xfrm>
              <a:off x="1291680" y="1478880"/>
              <a:ext cx="1178640" cy="1357560"/>
            </a:xfrm>
            <a:custGeom>
              <a:avLst/>
              <a:gdLst>
                <a:gd name="textAreaLeft" fmla="*/ 0 w 1178640"/>
                <a:gd name="textAreaRight" fmla="*/ 1179000 w 1178640"/>
                <a:gd name="textAreaTop" fmla="*/ 0 h 1357560"/>
                <a:gd name="textAreaBottom" fmla="*/ 1357920 h 135756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5" name="Shape 2680"/>
            <p:cNvSpPr/>
            <p:nvPr/>
          </p:nvSpPr>
          <p:spPr>
            <a:xfrm>
              <a:off x="3931200" y="1625760"/>
              <a:ext cx="722520" cy="1117800"/>
            </a:xfrm>
            <a:custGeom>
              <a:avLst/>
              <a:gdLst>
                <a:gd name="textAreaLeft" fmla="*/ 0 w 722520"/>
                <a:gd name="textAreaRight" fmla="*/ 722880 w 722520"/>
                <a:gd name="textAreaTop" fmla="*/ 0 h 1117800"/>
                <a:gd name="textAreaBottom" fmla="*/ 1118160 h 111780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6" name="Shape 2681"/>
            <p:cNvSpPr/>
            <p:nvPr/>
          </p:nvSpPr>
          <p:spPr>
            <a:xfrm>
              <a:off x="4136760" y="2889000"/>
              <a:ext cx="120240" cy="209520"/>
            </a:xfrm>
            <a:custGeom>
              <a:avLst/>
              <a:gdLst>
                <a:gd name="textAreaLeft" fmla="*/ 0 w 120240"/>
                <a:gd name="textAreaRight" fmla="*/ 120600 w 120240"/>
                <a:gd name="textAreaTop" fmla="*/ 0 h 209520"/>
                <a:gd name="textAreaBottom" fmla="*/ 209880 h 20952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7" name="Shape 2682"/>
            <p:cNvSpPr/>
            <p:nvPr/>
          </p:nvSpPr>
          <p:spPr>
            <a:xfrm>
              <a:off x="1549800" y="-8640"/>
              <a:ext cx="889920" cy="912600"/>
            </a:xfrm>
            <a:custGeom>
              <a:avLst/>
              <a:gdLst>
                <a:gd name="textAreaLeft" fmla="*/ 0 w 889920"/>
                <a:gd name="textAreaRight" fmla="*/ 890280 w 889920"/>
                <a:gd name="textAreaTop" fmla="*/ 0 h 912600"/>
                <a:gd name="textAreaBottom" fmla="*/ 912960 h 91260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8" name="Shape 2683"/>
            <p:cNvSpPr/>
            <p:nvPr/>
          </p:nvSpPr>
          <p:spPr>
            <a:xfrm>
              <a:off x="1982160" y="730440"/>
              <a:ext cx="243000" cy="289800"/>
            </a:xfrm>
            <a:custGeom>
              <a:avLst/>
              <a:gdLst>
                <a:gd name="textAreaLeft" fmla="*/ 0 w 243000"/>
                <a:gd name="textAreaRight" fmla="*/ 243360 w 243000"/>
                <a:gd name="textAreaTop" fmla="*/ 0 h 289800"/>
                <a:gd name="textAreaBottom" fmla="*/ 290160 h 28980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49" name="Shape 2684"/>
            <p:cNvSpPr/>
            <p:nvPr/>
          </p:nvSpPr>
          <p:spPr>
            <a:xfrm>
              <a:off x="2492280" y="-277920"/>
              <a:ext cx="174960" cy="221400"/>
            </a:xfrm>
            <a:custGeom>
              <a:avLst/>
              <a:gdLst>
                <a:gd name="textAreaLeft" fmla="*/ 0 w 174960"/>
                <a:gd name="textAreaRight" fmla="*/ 175320 w 174960"/>
                <a:gd name="textAreaTop" fmla="*/ 0 h 221400"/>
                <a:gd name="textAreaBottom" fmla="*/ 221760 h 22140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0" name="Shape 2685"/>
            <p:cNvSpPr/>
            <p:nvPr/>
          </p:nvSpPr>
          <p:spPr>
            <a:xfrm>
              <a:off x="2511720" y="369360"/>
              <a:ext cx="187200" cy="100440"/>
            </a:xfrm>
            <a:custGeom>
              <a:avLst/>
              <a:gdLst>
                <a:gd name="textAreaLeft" fmla="*/ 0 w 187200"/>
                <a:gd name="textAreaRight" fmla="*/ 187560 w 187200"/>
                <a:gd name="textAreaTop" fmla="*/ 0 h 100440"/>
                <a:gd name="textAreaBottom" fmla="*/ 100800 h 10044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1" name="Shape 2686"/>
            <p:cNvSpPr/>
            <p:nvPr/>
          </p:nvSpPr>
          <p:spPr>
            <a:xfrm>
              <a:off x="2231280" y="339120"/>
              <a:ext cx="1388880" cy="1172880"/>
            </a:xfrm>
            <a:custGeom>
              <a:avLst/>
              <a:gdLst>
                <a:gd name="textAreaLeft" fmla="*/ 0 w 1388880"/>
                <a:gd name="textAreaRight" fmla="*/ 1389240 w 1388880"/>
                <a:gd name="textAreaTop" fmla="*/ 0 h 1172880"/>
                <a:gd name="textAreaBottom" fmla="*/ 1173240 h 117288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2" name="Shape 2687"/>
            <p:cNvSpPr/>
            <p:nvPr/>
          </p:nvSpPr>
          <p:spPr>
            <a:xfrm>
              <a:off x="3676320" y="1051200"/>
              <a:ext cx="176040" cy="233280"/>
            </a:xfrm>
            <a:custGeom>
              <a:avLst/>
              <a:gdLst>
                <a:gd name="textAreaLeft" fmla="*/ 0 w 176040"/>
                <a:gd name="textAreaRight" fmla="*/ 176400 w 176040"/>
                <a:gd name="textAreaTop" fmla="*/ 0 h 233280"/>
                <a:gd name="textAreaBottom" fmla="*/ 233640 h 23328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3" name="Shape 2688"/>
            <p:cNvSpPr/>
            <p:nvPr/>
          </p:nvSpPr>
          <p:spPr>
            <a:xfrm>
              <a:off x="2711880" y="-310680"/>
              <a:ext cx="433440" cy="477360"/>
            </a:xfrm>
            <a:custGeom>
              <a:avLst/>
              <a:gdLst>
                <a:gd name="textAreaLeft" fmla="*/ 0 w 433440"/>
                <a:gd name="textAreaRight" fmla="*/ 433800 w 433440"/>
                <a:gd name="textAreaTop" fmla="*/ 0 h 477360"/>
                <a:gd name="textAreaBottom" fmla="*/ 477720 h 47736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4" name="Shape 2689"/>
            <p:cNvSpPr/>
            <p:nvPr/>
          </p:nvSpPr>
          <p:spPr>
            <a:xfrm>
              <a:off x="2605320" y="-692640"/>
              <a:ext cx="560160" cy="347760"/>
            </a:xfrm>
            <a:custGeom>
              <a:avLst/>
              <a:gdLst>
                <a:gd name="textAreaLeft" fmla="*/ 0 w 560160"/>
                <a:gd name="textAreaRight" fmla="*/ 560520 w 560160"/>
                <a:gd name="textAreaTop" fmla="*/ 0 h 347760"/>
                <a:gd name="textAreaBottom" fmla="*/ 348120 h 34776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5" name="Shape 2690"/>
            <p:cNvSpPr/>
            <p:nvPr/>
          </p:nvSpPr>
          <p:spPr>
            <a:xfrm>
              <a:off x="3583080" y="-1026720"/>
              <a:ext cx="806760" cy="923040"/>
            </a:xfrm>
            <a:custGeom>
              <a:avLst/>
              <a:gdLst>
                <a:gd name="textAreaLeft" fmla="*/ 0 w 806760"/>
                <a:gd name="textAreaRight" fmla="*/ 807120 w 806760"/>
                <a:gd name="textAreaTop" fmla="*/ 0 h 923040"/>
                <a:gd name="textAreaBottom" fmla="*/ 923400 h 92304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6" name="Shape 2691"/>
            <p:cNvSpPr/>
            <p:nvPr/>
          </p:nvSpPr>
          <p:spPr>
            <a:xfrm>
              <a:off x="3934800" y="-188280"/>
              <a:ext cx="190800" cy="185040"/>
            </a:xfrm>
            <a:custGeom>
              <a:avLst/>
              <a:gdLst>
                <a:gd name="textAreaLeft" fmla="*/ 0 w 190800"/>
                <a:gd name="textAreaRight" fmla="*/ 191160 w 190800"/>
                <a:gd name="textAreaTop" fmla="*/ 0 h 185040"/>
                <a:gd name="textAreaBottom" fmla="*/ 185400 h 18504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7" name="Shape 2692"/>
            <p:cNvSpPr/>
            <p:nvPr/>
          </p:nvSpPr>
          <p:spPr>
            <a:xfrm>
              <a:off x="3524040" y="-102240"/>
              <a:ext cx="302760" cy="393840"/>
            </a:xfrm>
            <a:custGeom>
              <a:avLst/>
              <a:gdLst>
                <a:gd name="textAreaLeft" fmla="*/ 0 w 302760"/>
                <a:gd name="textAreaRight" fmla="*/ 303120 w 302760"/>
                <a:gd name="textAreaTop" fmla="*/ 0 h 393840"/>
                <a:gd name="textAreaBottom" fmla="*/ 394200 h 39384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8" name="Shape 2693"/>
            <p:cNvSpPr/>
            <p:nvPr/>
          </p:nvSpPr>
          <p:spPr>
            <a:xfrm>
              <a:off x="3707640" y="426600"/>
              <a:ext cx="919080" cy="847440"/>
            </a:xfrm>
            <a:custGeom>
              <a:avLst/>
              <a:gdLst>
                <a:gd name="textAreaLeft" fmla="*/ 0 w 919080"/>
                <a:gd name="textAreaRight" fmla="*/ 919440 w 919080"/>
                <a:gd name="textAreaTop" fmla="*/ 0 h 847440"/>
                <a:gd name="textAreaBottom" fmla="*/ 847800 h 84744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59" name="Shape 2694"/>
            <p:cNvSpPr/>
            <p:nvPr/>
          </p:nvSpPr>
          <p:spPr>
            <a:xfrm>
              <a:off x="4599720" y="973080"/>
              <a:ext cx="385200" cy="494280"/>
            </a:xfrm>
            <a:custGeom>
              <a:avLst/>
              <a:gdLst>
                <a:gd name="textAreaLeft" fmla="*/ 0 w 385200"/>
                <a:gd name="textAreaRight" fmla="*/ 385560 w 385200"/>
                <a:gd name="textAreaTop" fmla="*/ 0 h 494280"/>
                <a:gd name="textAreaBottom" fmla="*/ 494640 h 49428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60" name="Shape 2695"/>
            <p:cNvSpPr/>
            <p:nvPr/>
          </p:nvSpPr>
          <p:spPr>
            <a:xfrm>
              <a:off x="4577760" y="265680"/>
              <a:ext cx="2037240" cy="1258200"/>
            </a:xfrm>
            <a:custGeom>
              <a:avLst/>
              <a:gdLst>
                <a:gd name="textAreaLeft" fmla="*/ 0 w 2037240"/>
                <a:gd name="textAreaRight" fmla="*/ 2037600 w 2037240"/>
                <a:gd name="textAreaTop" fmla="*/ 0 h 1258200"/>
                <a:gd name="textAreaBottom" fmla="*/ 1258560 h 125820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61" name="Shape 2696"/>
            <p:cNvSpPr/>
            <p:nvPr/>
          </p:nvSpPr>
          <p:spPr>
            <a:xfrm>
              <a:off x="4397400" y="-682920"/>
              <a:ext cx="639360" cy="772560"/>
            </a:xfrm>
            <a:custGeom>
              <a:avLst/>
              <a:gdLst>
                <a:gd name="textAreaLeft" fmla="*/ 0 w 639360"/>
                <a:gd name="textAreaRight" fmla="*/ 639720 w 639360"/>
                <a:gd name="textAreaTop" fmla="*/ 0 h 772560"/>
                <a:gd name="textAreaBottom" fmla="*/ 772920 h 77256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62" name="Shape 2697"/>
            <p:cNvSpPr/>
            <p:nvPr/>
          </p:nvSpPr>
          <p:spPr>
            <a:xfrm>
              <a:off x="4176720" y="-1595880"/>
              <a:ext cx="255600" cy="429120"/>
            </a:xfrm>
            <a:custGeom>
              <a:avLst/>
              <a:gdLst>
                <a:gd name="textAreaLeft" fmla="*/ 0 w 255600"/>
                <a:gd name="textAreaRight" fmla="*/ 255960 w 255600"/>
                <a:gd name="textAreaTop" fmla="*/ 0 h 429120"/>
                <a:gd name="textAreaBottom" fmla="*/ 429480 h 42912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63" name="Shape 2698"/>
            <p:cNvSpPr/>
            <p:nvPr/>
          </p:nvSpPr>
          <p:spPr>
            <a:xfrm>
              <a:off x="5253480" y="-39960"/>
              <a:ext cx="160920" cy="253440"/>
            </a:xfrm>
            <a:custGeom>
              <a:avLst/>
              <a:gdLst>
                <a:gd name="textAreaLeft" fmla="*/ 0 w 160920"/>
                <a:gd name="textAreaRight" fmla="*/ 161280 w 160920"/>
                <a:gd name="textAreaTop" fmla="*/ 0 h 253440"/>
                <a:gd name="textAreaBottom" fmla="*/ 253800 h 25344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64" name="Shape 2699"/>
            <p:cNvSpPr/>
            <p:nvPr/>
          </p:nvSpPr>
          <p:spPr>
            <a:xfrm>
              <a:off x="4614840" y="-3875040"/>
              <a:ext cx="4081680" cy="4605120"/>
            </a:xfrm>
            <a:custGeom>
              <a:avLst/>
              <a:gdLst>
                <a:gd name="textAreaLeft" fmla="*/ 0 w 4081680"/>
                <a:gd name="textAreaRight" fmla="*/ 4082040 w 4081680"/>
                <a:gd name="textAreaTop" fmla="*/ 0 h 4605120"/>
                <a:gd name="textAreaBottom" fmla="*/ 4605480 h 460512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5" y="428"/>
                  </a:cubicBezTo>
                  <a:cubicBezTo>
                    <a:pt x="16325"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7"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365" name="Shape 2701"/>
          <p:cNvSpPr/>
          <p:nvPr/>
        </p:nvSpPr>
        <p:spPr>
          <a:xfrm>
            <a:off x="11175840" y="6451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5366" name="Shape 2702"/>
          <p:cNvSpPr/>
          <p:nvPr/>
        </p:nvSpPr>
        <p:spPr>
          <a:xfrm>
            <a:off x="17408160" y="6451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7" name="Shape 2704"/>
          <p:cNvSpPr/>
          <p:nvPr/>
        </p:nvSpPr>
        <p:spPr>
          <a:xfrm>
            <a:off x="14226120" y="0"/>
            <a:ext cx="10157400" cy="13715640"/>
          </a:xfrm>
          <a:prstGeom prst="rect">
            <a:avLst/>
          </a:prstGeom>
          <a:solidFill>
            <a:srgbClr val="21212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nvGrpSpPr>
          <p:cNvPr id="5368" name="Group 2707"/>
          <p:cNvGrpSpPr/>
          <p:nvPr/>
        </p:nvGrpSpPr>
        <p:grpSpPr>
          <a:xfrm>
            <a:off x="10292040" y="1698840"/>
            <a:ext cx="5969880" cy="10317960"/>
            <a:chOff x="10292040" y="1698840"/>
            <a:chExt cx="5969880" cy="10317960"/>
          </a:xfrm>
        </p:grpSpPr>
        <p:sp>
          <p:nvSpPr>
            <p:cNvPr id="5369" name="Shape 2705"/>
            <p:cNvSpPr/>
            <p:nvPr/>
          </p:nvSpPr>
          <p:spPr>
            <a:xfrm>
              <a:off x="10292040" y="1698840"/>
              <a:ext cx="5969880" cy="10317960"/>
            </a:xfrm>
            <a:custGeom>
              <a:avLst/>
              <a:gdLst>
                <a:gd name="textAreaLeft" fmla="*/ 0 w 5969880"/>
                <a:gd name="textAreaRight" fmla="*/ 5970240 w 5969880"/>
                <a:gd name="textAreaTop" fmla="*/ 0 h 10317960"/>
                <a:gd name="textAreaBottom" fmla="*/ 10318320 h 1031796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370" name="Shape 2706"/>
            <p:cNvSpPr/>
            <p:nvPr/>
          </p:nvSpPr>
          <p:spPr>
            <a:xfrm>
              <a:off x="12820320" y="10947600"/>
              <a:ext cx="502920" cy="322560"/>
            </a:xfrm>
            <a:custGeom>
              <a:avLst/>
              <a:gdLst>
                <a:gd name="textAreaLeft" fmla="*/ 0 w 502920"/>
                <a:gd name="textAreaRight" fmla="*/ 503280 w 502920"/>
                <a:gd name="textAreaTop" fmla="*/ 0 h 322560"/>
                <a:gd name="textAreaBottom" fmla="*/ 322920 h 32256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371" name="PlaceHolder 1"/>
          <p:cNvSpPr>
            <a:spLocks noGrp="1"/>
          </p:cNvSpPr>
          <p:nvPr>
            <p:ph type="title"/>
          </p:nvPr>
        </p:nvSpPr>
        <p:spPr>
          <a:xfrm>
            <a:off x="2031840" y="1708200"/>
            <a:ext cx="7232760" cy="31338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South</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America</a:t>
            </a:r>
            <a:endParaRPr b="0" lang="en-US" sz="11200" spc="-1" strike="noStrike">
              <a:solidFill>
                <a:srgbClr val="009193"/>
              </a:solidFill>
              <a:latin typeface="Helvetica Light"/>
            </a:endParaRPr>
          </a:p>
        </p:txBody>
      </p:sp>
      <p:sp>
        <p:nvSpPr>
          <p:cNvPr id="5372" name="Shape 2709"/>
          <p:cNvSpPr/>
          <p:nvPr/>
        </p:nvSpPr>
        <p:spPr>
          <a:xfrm>
            <a:off x="17383680" y="4842360"/>
            <a:ext cx="494676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5373" name="Shape 2710"/>
          <p:cNvSpPr/>
          <p:nvPr/>
        </p:nvSpPr>
        <p:spPr>
          <a:xfrm>
            <a:off x="17383680" y="395352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ffffff"/>
                </a:solidFill>
                <a:latin typeface="Montserrat"/>
                <a:ea typeface="Montserrat"/>
              </a:rPr>
              <a:t>DRUSAM BERUDA</a:t>
            </a:r>
            <a:endParaRPr b="0" lang="en-US" sz="3000" spc="-1" strike="noStrike">
              <a:solidFill>
                <a:srgbClr val="000000"/>
              </a:solidFill>
              <a:latin typeface="Arial"/>
            </a:endParaRPr>
          </a:p>
        </p:txBody>
      </p:sp>
      <p:sp>
        <p:nvSpPr>
          <p:cNvPr id="5374" name="Shape 2711"/>
          <p:cNvSpPr/>
          <p:nvPr/>
        </p:nvSpPr>
        <p:spPr>
          <a:xfrm>
            <a:off x="17383680" y="151776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48%</a:t>
            </a:r>
            <a:endParaRPr b="0" lang="en-US" sz="12000" spc="-1" strike="noStrike">
              <a:solidFill>
                <a:srgbClr val="000000"/>
              </a:solidFill>
              <a:latin typeface="Arial"/>
            </a:endParaRPr>
          </a:p>
        </p:txBody>
      </p:sp>
      <p:sp>
        <p:nvSpPr>
          <p:cNvPr id="5375" name="Shape 2712"/>
          <p:cNvSpPr/>
          <p:nvPr/>
        </p:nvSpPr>
        <p:spPr>
          <a:xfrm>
            <a:off x="17409960" y="10683000"/>
            <a:ext cx="494676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5376" name="Shape 2713"/>
          <p:cNvSpPr/>
          <p:nvPr/>
        </p:nvSpPr>
        <p:spPr>
          <a:xfrm>
            <a:off x="17409960" y="979416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ffffff"/>
                </a:solidFill>
                <a:latin typeface="Montserrat"/>
                <a:ea typeface="Montserrat"/>
              </a:rPr>
              <a:t>URADN ESTADA</a:t>
            </a:r>
            <a:endParaRPr b="0" lang="en-US" sz="3000" spc="-1" strike="noStrike">
              <a:solidFill>
                <a:srgbClr val="000000"/>
              </a:solidFill>
              <a:latin typeface="Arial"/>
            </a:endParaRPr>
          </a:p>
        </p:txBody>
      </p:sp>
      <p:sp>
        <p:nvSpPr>
          <p:cNvPr id="5377" name="Shape 2714"/>
          <p:cNvSpPr/>
          <p:nvPr/>
        </p:nvSpPr>
        <p:spPr>
          <a:xfrm>
            <a:off x="17409960" y="735840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24M</a:t>
            </a:r>
            <a:endParaRPr b="0" lang="en-US" sz="12000" spc="-1" strike="noStrike">
              <a:solidFill>
                <a:srgbClr val="000000"/>
              </a:solidFill>
              <a:latin typeface="Arial"/>
            </a:endParaRPr>
          </a:p>
        </p:txBody>
      </p:sp>
      <p:sp>
        <p:nvSpPr>
          <p:cNvPr id="5378" name="Shape 2715"/>
          <p:cNvSpPr/>
          <p:nvPr/>
        </p:nvSpPr>
        <p:spPr>
          <a:xfrm>
            <a:off x="2032200" y="6044400"/>
            <a:ext cx="8259480" cy="241488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5379" name="Shape 2716"/>
          <p:cNvSpPr/>
          <p:nvPr/>
        </p:nvSpPr>
        <p:spPr>
          <a:xfrm>
            <a:off x="2035080" y="9021600"/>
            <a:ext cx="7810200" cy="31759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oteot clita kuasd gubergren, nosotra sea takimata sanctus est Lorem ipsusit idos druamet. Lorem eso ipsum dolor sit 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380" name="Group 2741"/>
          <p:cNvGrpSpPr/>
          <p:nvPr/>
        </p:nvGrpSpPr>
        <p:grpSpPr>
          <a:xfrm>
            <a:off x="12890880" y="-4306680"/>
            <a:ext cx="13851000" cy="15989040"/>
            <a:chOff x="12890880" y="-4306680"/>
            <a:chExt cx="13851000" cy="15989040"/>
          </a:xfrm>
        </p:grpSpPr>
        <p:sp>
          <p:nvSpPr>
            <p:cNvPr id="5381" name="Shape 2718"/>
            <p:cNvSpPr/>
            <p:nvPr/>
          </p:nvSpPr>
          <p:spPr>
            <a:xfrm>
              <a:off x="13703760" y="-409320"/>
              <a:ext cx="297720" cy="327240"/>
            </a:xfrm>
            <a:custGeom>
              <a:avLst/>
              <a:gdLst>
                <a:gd name="textAreaLeft" fmla="*/ 0 w 297720"/>
                <a:gd name="textAreaRight" fmla="*/ 298080 w 297720"/>
                <a:gd name="textAreaTop" fmla="*/ 0 h 327240"/>
                <a:gd name="textAreaBottom" fmla="*/ 327600 h 32724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82" name="Shape 2719"/>
            <p:cNvSpPr/>
            <p:nvPr/>
          </p:nvSpPr>
          <p:spPr>
            <a:xfrm>
              <a:off x="21297960" y="11460240"/>
              <a:ext cx="300240" cy="135000"/>
            </a:xfrm>
            <a:custGeom>
              <a:avLst/>
              <a:gdLst>
                <a:gd name="textAreaLeft" fmla="*/ 0 w 300240"/>
                <a:gd name="textAreaRight" fmla="*/ 300600 w 300240"/>
                <a:gd name="textAreaTop" fmla="*/ 0 h 135000"/>
                <a:gd name="textAreaBottom" fmla="*/ 135360 h 13500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83" name="Shape 2720"/>
            <p:cNvSpPr/>
            <p:nvPr/>
          </p:nvSpPr>
          <p:spPr>
            <a:xfrm>
              <a:off x="17939160" y="4565880"/>
              <a:ext cx="91440" cy="91440"/>
            </a:xfrm>
            <a:custGeom>
              <a:avLst/>
              <a:gdLst>
                <a:gd name="textAreaLeft" fmla="*/ 0 w 91440"/>
                <a:gd name="textAreaRight" fmla="*/ 91800 w 91440"/>
                <a:gd name="textAreaTop" fmla="*/ 0 h 91440"/>
                <a:gd name="textAreaBottom" fmla="*/ 91800 h 91440"/>
              </a:gdLst>
              <a:ahLst/>
              <a:rect l="textAreaLeft" t="textAreaTop" r="textAreaRight" b="textAreaBottom"/>
              <a:pathLst>
                <a:path w="9600" h="16200">
                  <a:moveTo>
                    <a:pt x="0" y="0"/>
                  </a:moveTo>
                  <a:cubicBezTo>
                    <a:pt x="0" y="21600"/>
                    <a:pt x="21600" y="21600"/>
                    <a:pt x="0" y="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84" name="Shape 2721"/>
            <p:cNvSpPr/>
            <p:nvPr/>
          </p:nvSpPr>
          <p:spPr>
            <a:xfrm>
              <a:off x="23707440" y="2547000"/>
              <a:ext cx="394560" cy="415080"/>
            </a:xfrm>
            <a:custGeom>
              <a:avLst/>
              <a:gdLst>
                <a:gd name="textAreaLeft" fmla="*/ 0 w 394560"/>
                <a:gd name="textAreaRight" fmla="*/ 394920 w 394560"/>
                <a:gd name="textAreaTop" fmla="*/ 0 h 415080"/>
                <a:gd name="textAreaBottom" fmla="*/ 415440 h 41508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85" name="Shape 2722"/>
            <p:cNvSpPr/>
            <p:nvPr/>
          </p:nvSpPr>
          <p:spPr>
            <a:xfrm>
              <a:off x="19244160" y="6528600"/>
              <a:ext cx="204840" cy="363240"/>
            </a:xfrm>
            <a:custGeom>
              <a:avLst/>
              <a:gdLst>
                <a:gd name="textAreaLeft" fmla="*/ 0 w 204840"/>
                <a:gd name="textAreaRight" fmla="*/ 205200 w 204840"/>
                <a:gd name="textAreaTop" fmla="*/ 0 h 363240"/>
                <a:gd name="textAreaBottom" fmla="*/ 363600 h 36324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86" name="Shape 2723"/>
            <p:cNvSpPr/>
            <p:nvPr/>
          </p:nvSpPr>
          <p:spPr>
            <a:xfrm>
              <a:off x="18219960" y="7064640"/>
              <a:ext cx="247320" cy="369360"/>
            </a:xfrm>
            <a:custGeom>
              <a:avLst/>
              <a:gdLst>
                <a:gd name="textAreaLeft" fmla="*/ 0 w 247320"/>
                <a:gd name="textAreaRight" fmla="*/ 247680 w 247320"/>
                <a:gd name="textAreaTop" fmla="*/ 0 h 369360"/>
                <a:gd name="textAreaBottom" fmla="*/ 369720 h 36936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87" name="Shape 2724"/>
            <p:cNvSpPr/>
            <p:nvPr/>
          </p:nvSpPr>
          <p:spPr>
            <a:xfrm>
              <a:off x="18252360" y="6816240"/>
              <a:ext cx="91440" cy="135000"/>
            </a:xfrm>
            <a:custGeom>
              <a:avLst/>
              <a:gdLst>
                <a:gd name="textAreaLeft" fmla="*/ 0 w 91440"/>
                <a:gd name="textAreaRight" fmla="*/ 91800 w 91440"/>
                <a:gd name="textAreaTop" fmla="*/ 0 h 135000"/>
                <a:gd name="textAreaBottom" fmla="*/ 135360 h 13500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88" name="Shape 2725"/>
            <p:cNvSpPr/>
            <p:nvPr/>
          </p:nvSpPr>
          <p:spPr>
            <a:xfrm>
              <a:off x="17847720" y="10039320"/>
              <a:ext cx="152640" cy="417960"/>
            </a:xfrm>
            <a:custGeom>
              <a:avLst/>
              <a:gdLst>
                <a:gd name="textAreaLeft" fmla="*/ 0 w 152640"/>
                <a:gd name="textAreaRight" fmla="*/ 153000 w 152640"/>
                <a:gd name="textAreaTop" fmla="*/ 0 h 417960"/>
                <a:gd name="textAreaBottom" fmla="*/ 418320 h 41796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89" name="Shape 2726"/>
            <p:cNvSpPr/>
            <p:nvPr/>
          </p:nvSpPr>
          <p:spPr>
            <a:xfrm>
              <a:off x="17776440" y="10483200"/>
              <a:ext cx="249840" cy="445320"/>
            </a:xfrm>
            <a:custGeom>
              <a:avLst/>
              <a:gdLst>
                <a:gd name="textAreaLeft" fmla="*/ 0 w 249840"/>
                <a:gd name="textAreaRight" fmla="*/ 250200 w 249840"/>
                <a:gd name="textAreaTop" fmla="*/ 0 h 445320"/>
                <a:gd name="textAreaBottom" fmla="*/ 445680 h 44532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0" name="Shape 2727"/>
            <p:cNvSpPr/>
            <p:nvPr/>
          </p:nvSpPr>
          <p:spPr>
            <a:xfrm>
              <a:off x="16940160" y="10690920"/>
              <a:ext cx="173520" cy="156960"/>
            </a:xfrm>
            <a:custGeom>
              <a:avLst/>
              <a:gdLst>
                <a:gd name="textAreaLeft" fmla="*/ 0 w 173520"/>
                <a:gd name="textAreaRight" fmla="*/ 173880 w 173520"/>
                <a:gd name="textAreaTop" fmla="*/ 0 h 156960"/>
                <a:gd name="textAreaBottom" fmla="*/ 157320 h 15696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1" name="Shape 2728"/>
            <p:cNvSpPr/>
            <p:nvPr/>
          </p:nvSpPr>
          <p:spPr>
            <a:xfrm>
              <a:off x="17089200" y="10654920"/>
              <a:ext cx="91440" cy="91440"/>
            </a:xfrm>
            <a:custGeom>
              <a:avLst/>
              <a:gdLst>
                <a:gd name="textAreaLeft" fmla="*/ 0 w 91440"/>
                <a:gd name="textAreaRight" fmla="*/ 91800 w 91440"/>
                <a:gd name="textAreaTop" fmla="*/ 0 h 91440"/>
                <a:gd name="textAreaBottom" fmla="*/ 91800 h 9144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2" name="Shape 2729"/>
            <p:cNvSpPr/>
            <p:nvPr/>
          </p:nvSpPr>
          <p:spPr>
            <a:xfrm>
              <a:off x="16866360" y="10850400"/>
              <a:ext cx="91440" cy="91440"/>
            </a:xfrm>
            <a:custGeom>
              <a:avLst/>
              <a:gdLst>
                <a:gd name="textAreaLeft" fmla="*/ 0 w 91440"/>
                <a:gd name="textAreaRight" fmla="*/ 91800 w 91440"/>
                <a:gd name="textAreaTop" fmla="*/ 0 h 91440"/>
                <a:gd name="textAreaBottom" fmla="*/ 91800 h 9144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3" name="Shape 2730"/>
            <p:cNvSpPr/>
            <p:nvPr/>
          </p:nvSpPr>
          <p:spPr>
            <a:xfrm>
              <a:off x="15451560" y="6168240"/>
              <a:ext cx="1373400" cy="2456640"/>
            </a:xfrm>
            <a:custGeom>
              <a:avLst/>
              <a:gdLst>
                <a:gd name="textAreaLeft" fmla="*/ 0 w 1373400"/>
                <a:gd name="textAreaRight" fmla="*/ 1373760 w 1373400"/>
                <a:gd name="textAreaTop" fmla="*/ 0 h 2456640"/>
                <a:gd name="textAreaBottom" fmla="*/ 2457000 h 245664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4" name="Shape 2731"/>
            <p:cNvSpPr/>
            <p:nvPr/>
          </p:nvSpPr>
          <p:spPr>
            <a:xfrm>
              <a:off x="15028920" y="7278120"/>
              <a:ext cx="716040" cy="976320"/>
            </a:xfrm>
            <a:custGeom>
              <a:avLst/>
              <a:gdLst>
                <a:gd name="textAreaLeft" fmla="*/ 0 w 716040"/>
                <a:gd name="textAreaRight" fmla="*/ 716400 w 716040"/>
                <a:gd name="textAreaTop" fmla="*/ 0 h 976320"/>
                <a:gd name="textAreaBottom" fmla="*/ 976680 h 97632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5" name="Shape 2732"/>
            <p:cNvSpPr/>
            <p:nvPr/>
          </p:nvSpPr>
          <p:spPr>
            <a:xfrm>
              <a:off x="18389520" y="11022120"/>
              <a:ext cx="475920" cy="348480"/>
            </a:xfrm>
            <a:custGeom>
              <a:avLst/>
              <a:gdLst>
                <a:gd name="textAreaLeft" fmla="*/ 0 w 475920"/>
                <a:gd name="textAreaRight" fmla="*/ 476280 w 475920"/>
                <a:gd name="textAreaTop" fmla="*/ 0 h 348480"/>
                <a:gd name="textAreaBottom" fmla="*/ 348840 h 34848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6" name="Shape 2733"/>
            <p:cNvSpPr/>
            <p:nvPr/>
          </p:nvSpPr>
          <p:spPr>
            <a:xfrm>
              <a:off x="20082240" y="11531520"/>
              <a:ext cx="460080" cy="150840"/>
            </a:xfrm>
            <a:custGeom>
              <a:avLst/>
              <a:gdLst>
                <a:gd name="textAreaLeft" fmla="*/ 0 w 460080"/>
                <a:gd name="textAreaRight" fmla="*/ 460440 w 460080"/>
                <a:gd name="textAreaTop" fmla="*/ 0 h 150840"/>
                <a:gd name="textAreaBottom" fmla="*/ 151200 h 15084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7" name="Shape 2734"/>
            <p:cNvSpPr/>
            <p:nvPr/>
          </p:nvSpPr>
          <p:spPr>
            <a:xfrm>
              <a:off x="16320600" y="5644800"/>
              <a:ext cx="170280" cy="363600"/>
            </a:xfrm>
            <a:custGeom>
              <a:avLst/>
              <a:gdLst>
                <a:gd name="textAreaLeft" fmla="*/ 0 w 170280"/>
                <a:gd name="textAreaRight" fmla="*/ 170640 w 170280"/>
                <a:gd name="textAreaTop" fmla="*/ 0 h 363600"/>
                <a:gd name="textAreaBottom" fmla="*/ 363960 h 36360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8" name="Shape 2735"/>
            <p:cNvSpPr/>
            <p:nvPr/>
          </p:nvSpPr>
          <p:spPr>
            <a:xfrm>
              <a:off x="15423480" y="5149080"/>
              <a:ext cx="227520" cy="235440"/>
            </a:xfrm>
            <a:custGeom>
              <a:avLst/>
              <a:gdLst>
                <a:gd name="textAreaLeft" fmla="*/ 0 w 227520"/>
                <a:gd name="textAreaRight" fmla="*/ 227880 w 227520"/>
                <a:gd name="textAreaTop" fmla="*/ 0 h 235440"/>
                <a:gd name="textAreaBottom" fmla="*/ 235800 h 23544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399" name="Shape 2736"/>
            <p:cNvSpPr/>
            <p:nvPr/>
          </p:nvSpPr>
          <p:spPr>
            <a:xfrm>
              <a:off x="12890880" y="3789000"/>
              <a:ext cx="1659600" cy="1075320"/>
            </a:xfrm>
            <a:custGeom>
              <a:avLst/>
              <a:gdLst>
                <a:gd name="textAreaLeft" fmla="*/ 0 w 1659600"/>
                <a:gd name="textAreaRight" fmla="*/ 1659960 w 1659600"/>
                <a:gd name="textAreaTop" fmla="*/ 0 h 1075320"/>
                <a:gd name="textAreaBottom" fmla="*/ 1075680 h 107532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400" name="Shape 2737"/>
            <p:cNvSpPr/>
            <p:nvPr/>
          </p:nvSpPr>
          <p:spPr>
            <a:xfrm>
              <a:off x="18110880" y="-3573360"/>
              <a:ext cx="2030760" cy="2477520"/>
            </a:xfrm>
            <a:custGeom>
              <a:avLst/>
              <a:gdLst>
                <a:gd name="textAreaLeft" fmla="*/ 0 w 2030760"/>
                <a:gd name="textAreaRight" fmla="*/ 2031120 w 2030760"/>
                <a:gd name="textAreaTop" fmla="*/ 0 h 2477520"/>
                <a:gd name="textAreaBottom" fmla="*/ 2477880 h 247752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4"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01" name="Shape 2738"/>
            <p:cNvSpPr/>
            <p:nvPr/>
          </p:nvSpPr>
          <p:spPr>
            <a:xfrm>
              <a:off x="19251000" y="-4306680"/>
              <a:ext cx="1386360" cy="1390320"/>
            </a:xfrm>
            <a:custGeom>
              <a:avLst/>
              <a:gdLst>
                <a:gd name="textAreaLeft" fmla="*/ 0 w 1386360"/>
                <a:gd name="textAreaRight" fmla="*/ 1386720 w 1386360"/>
                <a:gd name="textAreaTop" fmla="*/ 0 h 1390320"/>
                <a:gd name="textAreaBottom" fmla="*/ 1390680 h 139032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02" name="Shape 2739"/>
            <p:cNvSpPr/>
            <p:nvPr/>
          </p:nvSpPr>
          <p:spPr>
            <a:xfrm>
              <a:off x="24237000" y="-1330560"/>
              <a:ext cx="2504880" cy="3499560"/>
            </a:xfrm>
            <a:custGeom>
              <a:avLst/>
              <a:gdLst>
                <a:gd name="textAreaLeft" fmla="*/ 0 w 2504880"/>
                <a:gd name="textAreaRight" fmla="*/ 2505240 w 2504880"/>
                <a:gd name="textAreaTop" fmla="*/ 0 h 3499560"/>
                <a:gd name="textAreaBottom" fmla="*/ 3499920 h 349956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sp>
          <p:nvSpPr>
            <p:cNvPr id="5403" name="Shape 2740"/>
            <p:cNvSpPr/>
            <p:nvPr/>
          </p:nvSpPr>
          <p:spPr>
            <a:xfrm>
              <a:off x="15151680" y="1876680"/>
              <a:ext cx="11157840" cy="9599400"/>
            </a:xfrm>
            <a:custGeom>
              <a:avLst/>
              <a:gdLst>
                <a:gd name="textAreaLeft" fmla="*/ 0 w 11157840"/>
                <a:gd name="textAreaRight" fmla="*/ 11158200 w 11157840"/>
                <a:gd name="textAreaTop" fmla="*/ 0 h 9599400"/>
                <a:gd name="textAreaBottom" fmla="*/ 9599760 h 959940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6"/>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6"/>
                    <a:pt x="12257" y="1626"/>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6"/>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7"/>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8"/>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d6d6d6"/>
            </a:solidFill>
            <a:ln w="9525">
              <a:solidFill>
                <a:srgbClr val="424242"/>
              </a:solidFill>
              <a:miter/>
            </a:ln>
          </p:spPr>
          <p:style>
            <a:lnRef idx="0"/>
            <a:fillRef idx="0"/>
            <a:effectRef idx="0"/>
            <a:fontRef idx="minor"/>
          </p:style>
          <p:txBody>
            <a:bodyPr numCol="1" spcCol="0" lIns="45720" rIns="45720" anchor="ctr">
              <a:noAutofit/>
            </a:bodyPr>
            <a:p>
              <a:pPr>
                <a:lnSpc>
                  <a:spcPct val="93000"/>
                </a:lnSpc>
                <a:tabLst>
                  <a:tab algn="l" pos="0"/>
                </a:tabLst>
              </a:pPr>
              <a:endParaRPr b="0" lang="en-US" sz="1700" spc="-1" strike="noStrike">
                <a:solidFill>
                  <a:srgbClr val="000000"/>
                </a:solidFill>
                <a:latin typeface="Arial"/>
                <a:ea typeface="Arial"/>
              </a:endParaRPr>
            </a:p>
          </p:txBody>
        </p:sp>
      </p:grpSp>
      <p:sp>
        <p:nvSpPr>
          <p:cNvPr id="5404" name="PlaceHolder 1"/>
          <p:cNvSpPr>
            <a:spLocks noGrp="1"/>
          </p:cNvSpPr>
          <p:nvPr>
            <p:ph type="title"/>
          </p:nvPr>
        </p:nvSpPr>
        <p:spPr>
          <a:xfrm>
            <a:off x="2031840" y="1708200"/>
            <a:ext cx="9145080" cy="215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Europe</a:t>
            </a:r>
            <a:endParaRPr b="0" lang="en-US" sz="11200" spc="-1" strike="noStrike">
              <a:solidFill>
                <a:srgbClr val="009193"/>
              </a:solidFill>
              <a:latin typeface="Helvetica Light"/>
            </a:endParaRPr>
          </a:p>
        </p:txBody>
      </p:sp>
      <p:sp>
        <p:nvSpPr>
          <p:cNvPr id="5405" name="PlaceHolder 2"/>
          <p:cNvSpPr>
            <a:spLocks noGrp="1"/>
          </p:cNvSpPr>
          <p:nvPr>
            <p:ph type="sldNum" idx="118"/>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27155C3E-22C0-46AD-AED1-7A1D5BA328F6}" type="slidenum">
              <a:rPr b="0" lang="en-US" sz="2800" spc="-1" strike="noStrike">
                <a:solidFill>
                  <a:srgbClr val="797979"/>
                </a:solidFill>
                <a:latin typeface="Helvetica Light"/>
                <a:ea typeface="Helvetica Light"/>
              </a:rPr>
              <a:t>110</a:t>
            </a:fld>
            <a:endParaRPr b="0" lang="en-US" sz="2800" spc="-1" strike="noStrike">
              <a:solidFill>
                <a:srgbClr val="000000"/>
              </a:solidFill>
              <a:latin typeface="Times New Roman"/>
            </a:endParaRPr>
          </a:p>
        </p:txBody>
      </p:sp>
      <p:sp>
        <p:nvSpPr>
          <p:cNvPr id="5406" name="Shape 2744"/>
          <p:cNvSpPr/>
          <p:nvPr/>
        </p:nvSpPr>
        <p:spPr>
          <a:xfrm>
            <a:off x="2031840" y="10654560"/>
            <a:ext cx="494676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5407" name="Shape 2745"/>
          <p:cNvSpPr/>
          <p:nvPr/>
        </p:nvSpPr>
        <p:spPr>
          <a:xfrm>
            <a:off x="2031840" y="976536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DRUSAM BERUDA</a:t>
            </a:r>
            <a:endParaRPr b="0" lang="en-US" sz="3000" spc="-1" strike="noStrike">
              <a:solidFill>
                <a:srgbClr val="000000"/>
              </a:solidFill>
              <a:latin typeface="Arial"/>
            </a:endParaRPr>
          </a:p>
        </p:txBody>
      </p:sp>
      <p:sp>
        <p:nvSpPr>
          <p:cNvPr id="5408" name="Shape 2746"/>
          <p:cNvSpPr/>
          <p:nvPr/>
        </p:nvSpPr>
        <p:spPr>
          <a:xfrm>
            <a:off x="2031840" y="732996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43M</a:t>
            </a:r>
            <a:endParaRPr b="0" lang="en-US" sz="12000" spc="-1" strike="noStrike">
              <a:solidFill>
                <a:srgbClr val="000000"/>
              </a:solidFill>
              <a:latin typeface="Arial"/>
            </a:endParaRPr>
          </a:p>
        </p:txBody>
      </p:sp>
      <p:sp>
        <p:nvSpPr>
          <p:cNvPr id="5409" name="Shape 2747"/>
          <p:cNvSpPr/>
          <p:nvPr/>
        </p:nvSpPr>
        <p:spPr>
          <a:xfrm>
            <a:off x="8264880" y="10654560"/>
            <a:ext cx="494676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5410" name="Shape 2748"/>
          <p:cNvSpPr/>
          <p:nvPr/>
        </p:nvSpPr>
        <p:spPr>
          <a:xfrm>
            <a:off x="8264880" y="976536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URADN ESTADA</a:t>
            </a:r>
            <a:endParaRPr b="0" lang="en-US" sz="3000" spc="-1" strike="noStrike">
              <a:solidFill>
                <a:srgbClr val="000000"/>
              </a:solidFill>
              <a:latin typeface="Arial"/>
            </a:endParaRPr>
          </a:p>
        </p:txBody>
      </p:sp>
      <p:sp>
        <p:nvSpPr>
          <p:cNvPr id="5411" name="Shape 2749"/>
          <p:cNvSpPr/>
          <p:nvPr/>
        </p:nvSpPr>
        <p:spPr>
          <a:xfrm>
            <a:off x="8264880" y="732996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83M</a:t>
            </a:r>
            <a:endParaRPr b="0" lang="en-US" sz="12000" spc="-1" strike="noStrike">
              <a:solidFill>
                <a:srgbClr val="000000"/>
              </a:solidFill>
              <a:latin typeface="Arial"/>
            </a:endParaRPr>
          </a:p>
        </p:txBody>
      </p:sp>
      <p:sp>
        <p:nvSpPr>
          <p:cNvPr id="5412" name="Shape 2750"/>
          <p:cNvSpPr/>
          <p:nvPr/>
        </p:nvSpPr>
        <p:spPr>
          <a:xfrm>
            <a:off x="2032200" y="4510800"/>
            <a:ext cx="9144720" cy="241488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3" name="Shape 2752"/>
          <p:cNvSpPr/>
          <p:nvPr/>
        </p:nvSpPr>
        <p:spPr>
          <a:xfrm>
            <a:off x="0" y="0"/>
            <a:ext cx="13211280" cy="13715640"/>
          </a:xfrm>
          <a:prstGeom prst="rect">
            <a:avLst/>
          </a:prstGeom>
          <a:solidFill>
            <a:srgbClr val="21212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14" name="PlaceHolder 1"/>
          <p:cNvSpPr>
            <a:spLocks noGrp="1"/>
          </p:cNvSpPr>
          <p:nvPr>
            <p:ph type="sldNum" idx="119"/>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B1F86A7D-24FA-43AE-8F6A-AE1DBA6A467B}" type="slidenum">
              <a:rPr b="0" lang="en-US" sz="2800" spc="-1" strike="noStrike">
                <a:solidFill>
                  <a:srgbClr val="797979"/>
                </a:solidFill>
                <a:latin typeface="Helvetica Light"/>
                <a:ea typeface="Helvetica Light"/>
              </a:rPr>
              <a:t>110</a:t>
            </a:fld>
            <a:endParaRPr b="0" lang="en-US" sz="2800" spc="-1" strike="noStrike">
              <a:solidFill>
                <a:srgbClr val="000000"/>
              </a:solidFill>
              <a:latin typeface="Times New Roman"/>
            </a:endParaRPr>
          </a:p>
        </p:txBody>
      </p:sp>
      <p:sp>
        <p:nvSpPr>
          <p:cNvPr id="5415" name="Shape 2754"/>
          <p:cNvSpPr/>
          <p:nvPr/>
        </p:nvSpPr>
        <p:spPr>
          <a:xfrm>
            <a:off x="9657000" y="6301080"/>
            <a:ext cx="90360" cy="54360"/>
          </a:xfrm>
          <a:custGeom>
            <a:avLst/>
            <a:gdLst>
              <a:gd name="textAreaLeft" fmla="*/ 0 w 90360"/>
              <a:gd name="textAreaRight" fmla="*/ 90720 w 90360"/>
              <a:gd name="textAreaTop" fmla="*/ 0 h 54360"/>
              <a:gd name="textAreaBottom" fmla="*/ 54720 h 54360"/>
            </a:gdLst>
            <a:ahLst/>
            <a:rect l="textAreaLeft" t="textAreaTop" r="textAreaRight" b="textAreaBottom"/>
            <a:pathLst>
              <a:path w="19534" h="17494">
                <a:moveTo>
                  <a:pt x="5219" y="9567"/>
                </a:moveTo>
                <a:cubicBezTo>
                  <a:pt x="3885" y="9963"/>
                  <a:pt x="2419" y="8774"/>
                  <a:pt x="1085" y="9963"/>
                </a:cubicBezTo>
                <a:cubicBezTo>
                  <a:pt x="-648" y="11152"/>
                  <a:pt x="-115" y="15314"/>
                  <a:pt x="1352" y="16701"/>
                </a:cubicBezTo>
                <a:cubicBezTo>
                  <a:pt x="2685" y="17890"/>
                  <a:pt x="4685" y="17494"/>
                  <a:pt x="6685" y="17097"/>
                </a:cubicBezTo>
                <a:cubicBezTo>
                  <a:pt x="9752" y="15710"/>
                  <a:pt x="13085" y="12936"/>
                  <a:pt x="13885" y="8378"/>
                </a:cubicBezTo>
                <a:cubicBezTo>
                  <a:pt x="13885" y="7784"/>
                  <a:pt x="13885" y="7784"/>
                  <a:pt x="14152" y="7387"/>
                </a:cubicBezTo>
                <a:cubicBezTo>
                  <a:pt x="14419" y="6595"/>
                  <a:pt x="15619" y="6991"/>
                  <a:pt x="16152" y="6991"/>
                </a:cubicBezTo>
                <a:cubicBezTo>
                  <a:pt x="20952" y="7784"/>
                  <a:pt x="20685" y="-3710"/>
                  <a:pt x="15085" y="1244"/>
                </a:cubicBezTo>
                <a:cubicBezTo>
                  <a:pt x="11619" y="3820"/>
                  <a:pt x="9752" y="8774"/>
                  <a:pt x="5219" y="9567"/>
                </a:cubicBezTo>
              </a:path>
            </a:pathLst>
          </a:custGeom>
          <a:solidFill>
            <a:srgbClr val="ffffff"/>
          </a:solidFill>
          <a:ln w="12700">
            <a:noFill/>
          </a:ln>
        </p:spPr>
        <p:style>
          <a:lnRef idx="0"/>
          <a:fillRef idx="0"/>
          <a:effectRef idx="0"/>
          <a:fontRef idx="minor"/>
        </p:style>
        <p:txBody>
          <a:bodyPr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16" name="Shape 2755"/>
          <p:cNvSpPr/>
          <p:nvPr/>
        </p:nvSpPr>
        <p:spPr>
          <a:xfrm>
            <a:off x="9705600" y="5886360"/>
            <a:ext cx="83520" cy="54360"/>
          </a:xfrm>
          <a:custGeom>
            <a:avLst/>
            <a:gdLst>
              <a:gd name="textAreaLeft" fmla="*/ 0 w 83520"/>
              <a:gd name="textAreaRight" fmla="*/ 83880 w 83520"/>
              <a:gd name="textAreaTop" fmla="*/ 0 h 54360"/>
              <a:gd name="textAreaBottom" fmla="*/ 54720 h 54360"/>
            </a:gdLst>
            <a:ahLst/>
            <a:rect l="textAreaLeft" t="textAreaTop" r="textAreaRight" b="textAreaBottom"/>
            <a:pathLst>
              <a:path w="20682" h="19991">
                <a:moveTo>
                  <a:pt x="7130" y="14606"/>
                </a:moveTo>
                <a:cubicBezTo>
                  <a:pt x="7550" y="13898"/>
                  <a:pt x="7969" y="13190"/>
                  <a:pt x="8388" y="13190"/>
                </a:cubicBezTo>
                <a:cubicBezTo>
                  <a:pt x="9227" y="12482"/>
                  <a:pt x="10066" y="14606"/>
                  <a:pt x="10905" y="16023"/>
                </a:cubicBezTo>
                <a:cubicBezTo>
                  <a:pt x="12792" y="19918"/>
                  <a:pt x="16777" y="21334"/>
                  <a:pt x="18874" y="18501"/>
                </a:cubicBezTo>
                <a:cubicBezTo>
                  <a:pt x="21600" y="15314"/>
                  <a:pt x="21181" y="7170"/>
                  <a:pt x="18035" y="5754"/>
                </a:cubicBezTo>
                <a:cubicBezTo>
                  <a:pt x="16777" y="5045"/>
                  <a:pt x="15309" y="5754"/>
                  <a:pt x="14470" y="5045"/>
                </a:cubicBezTo>
                <a:cubicBezTo>
                  <a:pt x="12792" y="4337"/>
                  <a:pt x="12373" y="1504"/>
                  <a:pt x="10485" y="442"/>
                </a:cubicBezTo>
                <a:cubicBezTo>
                  <a:pt x="9227" y="-266"/>
                  <a:pt x="5662" y="-266"/>
                  <a:pt x="4404" y="1504"/>
                </a:cubicBezTo>
                <a:cubicBezTo>
                  <a:pt x="2097" y="2921"/>
                  <a:pt x="419" y="5754"/>
                  <a:pt x="0" y="9649"/>
                </a:cubicBezTo>
                <a:cubicBezTo>
                  <a:pt x="3146" y="7878"/>
                  <a:pt x="5243" y="16023"/>
                  <a:pt x="7130" y="14606"/>
                </a:cubicBezTo>
              </a:path>
            </a:pathLst>
          </a:custGeom>
          <a:solidFill>
            <a:srgbClr val="ffffff"/>
          </a:solidFill>
          <a:ln w="12700">
            <a:noFill/>
          </a:ln>
        </p:spPr>
        <p:style>
          <a:lnRef idx="0"/>
          <a:fillRef idx="0"/>
          <a:effectRef idx="0"/>
          <a:fontRef idx="minor"/>
        </p:style>
        <p:txBody>
          <a:bodyPr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417" name="Group 2768"/>
          <p:cNvGrpSpPr/>
          <p:nvPr/>
        </p:nvGrpSpPr>
        <p:grpSpPr>
          <a:xfrm>
            <a:off x="2040840" y="3025080"/>
            <a:ext cx="10177560" cy="7665480"/>
            <a:chOff x="2040840" y="3025080"/>
            <a:chExt cx="10177560" cy="7665480"/>
          </a:xfrm>
        </p:grpSpPr>
        <p:sp>
          <p:nvSpPr>
            <p:cNvPr id="5418" name="Shape 2756"/>
            <p:cNvSpPr/>
            <p:nvPr/>
          </p:nvSpPr>
          <p:spPr>
            <a:xfrm>
              <a:off x="7360200" y="3225240"/>
              <a:ext cx="735840" cy="449280"/>
            </a:xfrm>
            <a:custGeom>
              <a:avLst/>
              <a:gdLst>
                <a:gd name="textAreaLeft" fmla="*/ 0 w 735840"/>
                <a:gd name="textAreaRight" fmla="*/ 736200 w 735840"/>
                <a:gd name="textAreaTop" fmla="*/ 0 h 449280"/>
                <a:gd name="textAreaBottom" fmla="*/ 449640 h 44928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19" name="Shape 2757"/>
            <p:cNvSpPr/>
            <p:nvPr/>
          </p:nvSpPr>
          <p:spPr>
            <a:xfrm>
              <a:off x="2040840" y="4330080"/>
              <a:ext cx="6071040" cy="4824720"/>
            </a:xfrm>
            <a:custGeom>
              <a:avLst/>
              <a:gdLst>
                <a:gd name="textAreaLeft" fmla="*/ 0 w 6071040"/>
                <a:gd name="textAreaRight" fmla="*/ 6071400 w 6071040"/>
                <a:gd name="textAreaTop" fmla="*/ 0 h 4824720"/>
                <a:gd name="textAreaBottom" fmla="*/ 4825080 h 482472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0" name="Shape 2758"/>
            <p:cNvSpPr/>
            <p:nvPr/>
          </p:nvSpPr>
          <p:spPr>
            <a:xfrm>
              <a:off x="7264440" y="9173880"/>
              <a:ext cx="129960" cy="192600"/>
            </a:xfrm>
            <a:custGeom>
              <a:avLst/>
              <a:gdLst>
                <a:gd name="textAreaLeft" fmla="*/ 0 w 129960"/>
                <a:gd name="textAreaRight" fmla="*/ 130320 w 129960"/>
                <a:gd name="textAreaTop" fmla="*/ 0 h 192600"/>
                <a:gd name="textAreaBottom" fmla="*/ 192960 h 19260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1" name="Shape 2759"/>
            <p:cNvSpPr/>
            <p:nvPr/>
          </p:nvSpPr>
          <p:spPr>
            <a:xfrm>
              <a:off x="6752880" y="9385920"/>
              <a:ext cx="622800" cy="680040"/>
            </a:xfrm>
            <a:custGeom>
              <a:avLst/>
              <a:gdLst>
                <a:gd name="textAreaLeft" fmla="*/ 0 w 622800"/>
                <a:gd name="textAreaRight" fmla="*/ 623160 w 622800"/>
                <a:gd name="textAreaTop" fmla="*/ 0 h 680040"/>
                <a:gd name="textAreaBottom" fmla="*/ 680400 h 68004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8"/>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7"/>
                    <a:pt x="9775" y="21600"/>
                    <a:pt x="10869" y="21600"/>
                  </a:cubicBezTo>
                  <a:cubicBezTo>
                    <a:pt x="11416" y="21600"/>
                    <a:pt x="12054" y="21262"/>
                    <a:pt x="12418" y="20841"/>
                  </a:cubicBezTo>
                  <a:cubicBezTo>
                    <a:pt x="13603" y="20166"/>
                    <a:pt x="14697" y="19238"/>
                    <a:pt x="15699" y="18563"/>
                  </a:cubicBezTo>
                  <a:cubicBezTo>
                    <a:pt x="17431" y="17297"/>
                    <a:pt x="19254" y="15947"/>
                    <a:pt x="20074" y="14006"/>
                  </a:cubicBezTo>
                  <a:cubicBezTo>
                    <a:pt x="20985" y="11644"/>
                    <a:pt x="19892" y="8859"/>
                    <a:pt x="20803" y="6497"/>
                  </a:cubicBezTo>
                  <a:cubicBezTo>
                    <a:pt x="20985" y="5822"/>
                    <a:pt x="21441" y="5147"/>
                    <a:pt x="21168" y="4388"/>
                  </a:cubicBezTo>
                  <a:cubicBezTo>
                    <a:pt x="20803" y="3713"/>
                    <a:pt x="19892" y="3375"/>
                    <a:pt x="18889" y="3206"/>
                  </a:cubicBezTo>
                  <a:cubicBezTo>
                    <a:pt x="17157" y="2784"/>
                    <a:pt x="15517" y="2447"/>
                    <a:pt x="13968" y="2278"/>
                  </a:cubicBezTo>
                  <a:cubicBezTo>
                    <a:pt x="13785" y="2278"/>
                    <a:pt x="13330" y="2109"/>
                    <a:pt x="13147" y="2278"/>
                  </a:cubicBezTo>
                  <a:cubicBezTo>
                    <a:pt x="12418" y="2447"/>
                    <a:pt x="12054" y="3544"/>
                    <a:pt x="11233" y="3713"/>
                  </a:cubicBezTo>
                  <a:cubicBezTo>
                    <a:pt x="10322" y="4050"/>
                    <a:pt x="9593" y="2953"/>
                    <a:pt x="8773" y="2447"/>
                  </a:cubicBezTo>
                  <a:cubicBezTo>
                    <a:pt x="7223" y="1434"/>
                    <a:pt x="5309" y="1941"/>
                    <a:pt x="3578" y="844"/>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2" name="Shape 2760"/>
            <p:cNvSpPr/>
            <p:nvPr/>
          </p:nvSpPr>
          <p:spPr>
            <a:xfrm>
              <a:off x="11071440" y="8271720"/>
              <a:ext cx="903960" cy="1448280"/>
            </a:xfrm>
            <a:custGeom>
              <a:avLst/>
              <a:gdLst>
                <a:gd name="textAreaLeft" fmla="*/ 0 w 903960"/>
                <a:gd name="textAreaRight" fmla="*/ 904320 w 903960"/>
                <a:gd name="textAreaTop" fmla="*/ 0 h 1448280"/>
                <a:gd name="textAreaBottom" fmla="*/ 1448640 h 144828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3" name="Shape 2761"/>
            <p:cNvSpPr/>
            <p:nvPr/>
          </p:nvSpPr>
          <p:spPr>
            <a:xfrm>
              <a:off x="10140840" y="9423000"/>
              <a:ext cx="1245600" cy="1267560"/>
            </a:xfrm>
            <a:custGeom>
              <a:avLst/>
              <a:gdLst>
                <a:gd name="textAreaLeft" fmla="*/ 0 w 1245600"/>
                <a:gd name="textAreaRight" fmla="*/ 1245960 w 1245600"/>
                <a:gd name="textAreaTop" fmla="*/ 0 h 1267560"/>
                <a:gd name="textAreaBottom" fmla="*/ 1267920 h 126756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4" name="Shape 2762"/>
            <p:cNvSpPr/>
            <p:nvPr/>
          </p:nvSpPr>
          <p:spPr>
            <a:xfrm>
              <a:off x="9701640" y="5657040"/>
              <a:ext cx="514080" cy="545400"/>
            </a:xfrm>
            <a:custGeom>
              <a:avLst/>
              <a:gdLst>
                <a:gd name="textAreaLeft" fmla="*/ 0 w 514080"/>
                <a:gd name="textAreaRight" fmla="*/ 514440 w 514080"/>
                <a:gd name="textAreaTop" fmla="*/ 0 h 545400"/>
                <a:gd name="textAreaBottom" fmla="*/ 545760 h 54540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5" name="Shape 2763"/>
            <p:cNvSpPr/>
            <p:nvPr/>
          </p:nvSpPr>
          <p:spPr>
            <a:xfrm>
              <a:off x="11754720" y="5310360"/>
              <a:ext cx="280080" cy="201240"/>
            </a:xfrm>
            <a:custGeom>
              <a:avLst/>
              <a:gdLst>
                <a:gd name="textAreaLeft" fmla="*/ 0 w 280080"/>
                <a:gd name="textAreaRight" fmla="*/ 280440 w 280080"/>
                <a:gd name="textAreaTop" fmla="*/ 0 h 201240"/>
                <a:gd name="textAreaBottom" fmla="*/ 201600 h 20124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6" name="Shape 2764"/>
            <p:cNvSpPr/>
            <p:nvPr/>
          </p:nvSpPr>
          <p:spPr>
            <a:xfrm>
              <a:off x="12035880" y="5114160"/>
              <a:ext cx="182520" cy="165600"/>
            </a:xfrm>
            <a:custGeom>
              <a:avLst/>
              <a:gdLst>
                <a:gd name="textAreaLeft" fmla="*/ 0 w 182520"/>
                <a:gd name="textAreaRight" fmla="*/ 182880 w 182520"/>
                <a:gd name="textAreaTop" fmla="*/ 0 h 165600"/>
                <a:gd name="textAreaBottom" fmla="*/ 165960 h 16560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7" name="Shape 2765"/>
            <p:cNvSpPr/>
            <p:nvPr/>
          </p:nvSpPr>
          <p:spPr>
            <a:xfrm>
              <a:off x="12096360" y="5392800"/>
              <a:ext cx="112680" cy="133560"/>
            </a:xfrm>
            <a:custGeom>
              <a:avLst/>
              <a:gdLst>
                <a:gd name="textAreaLeft" fmla="*/ 0 w 112680"/>
                <a:gd name="textAreaRight" fmla="*/ 113040 w 112680"/>
                <a:gd name="textAreaTop" fmla="*/ 0 h 133560"/>
                <a:gd name="textAreaBottom" fmla="*/ 133920 h 13356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8" name="Shape 2766"/>
            <p:cNvSpPr/>
            <p:nvPr/>
          </p:nvSpPr>
          <p:spPr>
            <a:xfrm>
              <a:off x="10103760" y="4899960"/>
              <a:ext cx="269640" cy="296280"/>
            </a:xfrm>
            <a:custGeom>
              <a:avLst/>
              <a:gdLst>
                <a:gd name="textAreaLeft" fmla="*/ 0 w 269640"/>
                <a:gd name="textAreaRight" fmla="*/ 270000 w 269640"/>
                <a:gd name="textAreaTop" fmla="*/ 0 h 296280"/>
                <a:gd name="textAreaBottom" fmla="*/ 296640 h 29628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29" name="Shape 2767"/>
            <p:cNvSpPr/>
            <p:nvPr/>
          </p:nvSpPr>
          <p:spPr>
            <a:xfrm>
              <a:off x="6317280" y="3025080"/>
              <a:ext cx="1372680" cy="1285920"/>
            </a:xfrm>
            <a:custGeom>
              <a:avLst/>
              <a:gdLst>
                <a:gd name="textAreaLeft" fmla="*/ 0 w 1372680"/>
                <a:gd name="textAreaRight" fmla="*/ 1373040 w 1372680"/>
                <a:gd name="textAreaTop" fmla="*/ 0 h 1285920"/>
                <a:gd name="textAreaBottom" fmla="*/ 1286280 h 128592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430" name="PlaceHolder 2"/>
          <p:cNvSpPr>
            <a:spLocks noGrp="1"/>
          </p:cNvSpPr>
          <p:nvPr>
            <p:ph type="title"/>
          </p:nvPr>
        </p:nvSpPr>
        <p:spPr>
          <a:xfrm>
            <a:off x="15239880" y="1708200"/>
            <a:ext cx="7116480" cy="2031480"/>
          </a:xfrm>
          <a:prstGeom prst="rect">
            <a:avLst/>
          </a:prstGeom>
          <a:noFill/>
          <a:ln w="12600">
            <a:noFill/>
          </a:ln>
        </p:spPr>
        <p:txBody>
          <a:bodyPr lIns="0" rIns="0" tIns="0" bIns="0" anchor="t">
            <a:normAutofit/>
          </a:bodyPr>
          <a:p>
            <a:pPr indent="0">
              <a:lnSpc>
                <a:spcPct val="80000"/>
              </a:lnSpc>
              <a:buNone/>
              <a:tabLst>
                <a:tab algn="l" pos="0"/>
              </a:tabLst>
            </a:pPr>
            <a:r>
              <a:rPr b="0" lang="en-US" sz="11200" spc="559" strike="noStrike">
                <a:solidFill>
                  <a:srgbClr val="212121"/>
                </a:solidFill>
                <a:latin typeface="Montserrat Semi Bold"/>
                <a:ea typeface="Montserrat Semi Bold"/>
              </a:rPr>
              <a:t>Australia</a:t>
            </a:r>
            <a:endParaRPr b="0" lang="en-US" sz="11200" spc="-1" strike="noStrike">
              <a:solidFill>
                <a:srgbClr val="009193"/>
              </a:solidFill>
              <a:latin typeface="Helvetica Light"/>
            </a:endParaRPr>
          </a:p>
        </p:txBody>
      </p:sp>
      <p:sp>
        <p:nvSpPr>
          <p:cNvPr id="5431" name="Shape 2770"/>
          <p:cNvSpPr/>
          <p:nvPr/>
        </p:nvSpPr>
        <p:spPr>
          <a:xfrm>
            <a:off x="15239880" y="10705320"/>
            <a:ext cx="711648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oteoto.</a:t>
            </a:r>
            <a:endParaRPr b="0" lang="en-US" sz="3000" spc="-1" strike="noStrike">
              <a:solidFill>
                <a:srgbClr val="000000"/>
              </a:solidFill>
              <a:latin typeface="Arial"/>
            </a:endParaRPr>
          </a:p>
        </p:txBody>
      </p:sp>
      <p:sp>
        <p:nvSpPr>
          <p:cNvPr id="5432" name="Shape 2771"/>
          <p:cNvSpPr/>
          <p:nvPr/>
        </p:nvSpPr>
        <p:spPr>
          <a:xfrm>
            <a:off x="15239880" y="981612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DRUSAM BERUDA</a:t>
            </a:r>
            <a:endParaRPr b="0" lang="en-US" sz="3000" spc="-1" strike="noStrike">
              <a:solidFill>
                <a:srgbClr val="000000"/>
              </a:solidFill>
              <a:latin typeface="Arial"/>
            </a:endParaRPr>
          </a:p>
        </p:txBody>
      </p:sp>
      <p:sp>
        <p:nvSpPr>
          <p:cNvPr id="5433" name="Shape 2772"/>
          <p:cNvSpPr/>
          <p:nvPr/>
        </p:nvSpPr>
        <p:spPr>
          <a:xfrm>
            <a:off x="15239880" y="7380720"/>
            <a:ext cx="711648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136M</a:t>
            </a:r>
            <a:endParaRPr b="0" lang="en-US" sz="12000" spc="-1" strike="noStrike">
              <a:solidFill>
                <a:srgbClr val="000000"/>
              </a:solidFill>
              <a:latin typeface="Arial"/>
            </a:endParaRPr>
          </a:p>
        </p:txBody>
      </p:sp>
      <p:sp>
        <p:nvSpPr>
          <p:cNvPr id="5434" name="Shape 2773"/>
          <p:cNvSpPr/>
          <p:nvPr/>
        </p:nvSpPr>
        <p:spPr>
          <a:xfrm>
            <a:off x="15239880" y="4965120"/>
            <a:ext cx="7116480" cy="241488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Mese fru dreso nade lesdiacw for sids.</a:t>
            </a:r>
            <a:endParaRPr b="0" lang="en-US" sz="4800" spc="-1" strike="noStrike">
              <a:solidFill>
                <a:srgbClr val="000000"/>
              </a:solidFill>
              <a:latin typeface="Arial"/>
            </a:endParaRPr>
          </a:p>
        </p:txBody>
      </p:sp>
      <p:grpSp>
        <p:nvGrpSpPr>
          <p:cNvPr id="5435" name="Group 2777"/>
          <p:cNvGrpSpPr/>
          <p:nvPr/>
        </p:nvGrpSpPr>
        <p:grpSpPr>
          <a:xfrm>
            <a:off x="2035080" y="2025720"/>
            <a:ext cx="2280600" cy="1996920"/>
            <a:chOff x="2035080" y="2025720"/>
            <a:chExt cx="2280600" cy="1996920"/>
          </a:xfrm>
        </p:grpSpPr>
        <p:sp>
          <p:nvSpPr>
            <p:cNvPr id="5436" name="Shape 2774"/>
            <p:cNvSpPr/>
            <p:nvPr/>
          </p:nvSpPr>
          <p:spPr>
            <a:xfrm>
              <a:off x="2540520" y="2752920"/>
              <a:ext cx="1269720" cy="1269720"/>
            </a:xfrm>
            <a:prstGeom prst="ellipse">
              <a:avLst/>
            </a:prstGeom>
            <a:solidFill>
              <a:srgbClr val="ffffff"/>
            </a:solidFill>
            <a:ln w="38100">
              <a:solidFill>
                <a:srgbClr val="ffffff"/>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437" name="Shape 2775"/>
            <p:cNvSpPr/>
            <p:nvPr/>
          </p:nvSpPr>
          <p:spPr>
            <a:xfrm>
              <a:off x="2035080" y="2025720"/>
              <a:ext cx="2280600" cy="70776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Growth</a:t>
              </a:r>
              <a:endParaRPr b="0" lang="en-US" sz="3000" spc="-1" strike="noStrike">
                <a:solidFill>
                  <a:srgbClr val="000000"/>
                </a:solidFill>
                <a:latin typeface="Arial"/>
              </a:endParaRPr>
            </a:p>
          </p:txBody>
        </p:sp>
        <p:sp>
          <p:nvSpPr>
            <p:cNvPr id="5438" name="Shape 2776"/>
            <p:cNvSpPr/>
            <p:nvPr/>
          </p:nvSpPr>
          <p:spPr>
            <a:xfrm>
              <a:off x="2515320" y="3094920"/>
              <a:ext cx="1320480" cy="58608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31%</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0" name="Shape 1129"/>
          <p:cNvSpPr/>
          <p:nvPr/>
        </p:nvSpPr>
        <p:spPr>
          <a:xfrm>
            <a:off x="2035080" y="6642000"/>
            <a:ext cx="914472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Write here</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your title.</a:t>
            </a:r>
            <a:endParaRPr b="0" lang="en-US" sz="4800" spc="-1" strike="noStrike">
              <a:solidFill>
                <a:srgbClr val="000000"/>
              </a:solidFill>
              <a:latin typeface="Arial"/>
            </a:endParaRPr>
          </a:p>
        </p:txBody>
      </p:sp>
      <p:sp>
        <p:nvSpPr>
          <p:cNvPr id="4251" name="Shape 1130"/>
          <p:cNvSpPr/>
          <p:nvPr/>
        </p:nvSpPr>
        <p:spPr>
          <a:xfrm>
            <a:off x="2035080" y="9059760"/>
            <a:ext cx="9144720" cy="31759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raom tros et accusam eto justo fosduo dolores etoma jam rebum. Steot clita kuasd gubergren, nosotra sea takimata sanctus est Lorem ipsusit druamet. Lorem eso ipsum dolor sit amet, deras consetetur sadipscing elitromas</a:t>
            </a:r>
            <a:endParaRPr b="0" lang="en-US" sz="3000" spc="-1" strike="noStrike">
              <a:solidFill>
                <a:srgbClr val="000000"/>
              </a:solidFill>
              <a:latin typeface="Arial"/>
            </a:endParaRPr>
          </a:p>
        </p:txBody>
      </p:sp>
      <p:sp>
        <p:nvSpPr>
          <p:cNvPr id="4252" name="Shape 1131"/>
          <p:cNvSpPr/>
          <p:nvPr/>
        </p:nvSpPr>
        <p:spPr>
          <a:xfrm>
            <a:off x="13215240" y="6670800"/>
            <a:ext cx="9144720" cy="5202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ma jam rebum. Stet clita kuasd gubergren, nosotra sea takimata sanctus est Lorem ipsum dolor sit amet. Lorem eso ipsum dolor sit amet, deras consetetur sadipscing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9" name="PlaceHolder 1"/>
          <p:cNvSpPr>
            <a:spLocks noGrp="1"/>
          </p:cNvSpPr>
          <p:nvPr>
            <p:ph type="title"/>
          </p:nvPr>
        </p:nvSpPr>
        <p:spPr>
          <a:xfrm>
            <a:off x="2031840" y="1708200"/>
            <a:ext cx="9145080" cy="215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Asia</a:t>
            </a:r>
            <a:endParaRPr b="0" lang="en-US" sz="11200" spc="-1" strike="noStrike">
              <a:solidFill>
                <a:srgbClr val="009193"/>
              </a:solidFill>
              <a:latin typeface="Helvetica Light"/>
            </a:endParaRPr>
          </a:p>
        </p:txBody>
      </p:sp>
      <p:sp>
        <p:nvSpPr>
          <p:cNvPr id="5440" name="PlaceHolder 2"/>
          <p:cNvSpPr>
            <a:spLocks noGrp="1"/>
          </p:cNvSpPr>
          <p:nvPr>
            <p:ph type="sldNum" idx="120"/>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B38CB8BA-4310-4DDE-B99D-51AC755F56F0}" type="slidenum">
              <a:rPr b="0" lang="en-US" sz="2800" spc="-1" strike="noStrike">
                <a:solidFill>
                  <a:srgbClr val="797979"/>
                </a:solidFill>
                <a:latin typeface="Helvetica Light"/>
                <a:ea typeface="Helvetica Light"/>
              </a:rPr>
              <a:t>119</a:t>
            </a:fld>
            <a:endParaRPr b="0" lang="en-US" sz="2800" spc="-1" strike="noStrike">
              <a:solidFill>
                <a:srgbClr val="000000"/>
              </a:solidFill>
              <a:latin typeface="Times New Roman"/>
            </a:endParaRPr>
          </a:p>
        </p:txBody>
      </p:sp>
      <p:sp>
        <p:nvSpPr>
          <p:cNvPr id="5441" name="Shape 2781"/>
          <p:cNvSpPr/>
          <p:nvPr/>
        </p:nvSpPr>
        <p:spPr>
          <a:xfrm>
            <a:off x="2031840" y="10654560"/>
            <a:ext cx="494676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5442" name="Shape 2782"/>
          <p:cNvSpPr/>
          <p:nvPr/>
        </p:nvSpPr>
        <p:spPr>
          <a:xfrm>
            <a:off x="2031840" y="976536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DRUSAM BERUDA</a:t>
            </a:r>
            <a:endParaRPr b="0" lang="en-US" sz="3000" spc="-1" strike="noStrike">
              <a:solidFill>
                <a:srgbClr val="000000"/>
              </a:solidFill>
              <a:latin typeface="Arial"/>
            </a:endParaRPr>
          </a:p>
        </p:txBody>
      </p:sp>
      <p:sp>
        <p:nvSpPr>
          <p:cNvPr id="5443" name="Shape 2783"/>
          <p:cNvSpPr/>
          <p:nvPr/>
        </p:nvSpPr>
        <p:spPr>
          <a:xfrm>
            <a:off x="2031840" y="732996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64%</a:t>
            </a:r>
            <a:endParaRPr b="0" lang="en-US" sz="12000" spc="-1" strike="noStrike">
              <a:solidFill>
                <a:srgbClr val="000000"/>
              </a:solidFill>
              <a:latin typeface="Arial"/>
            </a:endParaRPr>
          </a:p>
        </p:txBody>
      </p:sp>
      <p:sp>
        <p:nvSpPr>
          <p:cNvPr id="5444" name="Shape 2784"/>
          <p:cNvSpPr/>
          <p:nvPr/>
        </p:nvSpPr>
        <p:spPr>
          <a:xfrm>
            <a:off x="8264880" y="10654560"/>
            <a:ext cx="494676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5445" name="Shape 2785"/>
          <p:cNvSpPr/>
          <p:nvPr/>
        </p:nvSpPr>
        <p:spPr>
          <a:xfrm>
            <a:off x="8264880" y="976536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URADN ESTADA</a:t>
            </a:r>
            <a:endParaRPr b="0" lang="en-US" sz="3000" spc="-1" strike="noStrike">
              <a:solidFill>
                <a:srgbClr val="000000"/>
              </a:solidFill>
              <a:latin typeface="Arial"/>
            </a:endParaRPr>
          </a:p>
        </p:txBody>
      </p:sp>
      <p:sp>
        <p:nvSpPr>
          <p:cNvPr id="5446" name="Shape 2786"/>
          <p:cNvSpPr/>
          <p:nvPr/>
        </p:nvSpPr>
        <p:spPr>
          <a:xfrm>
            <a:off x="8264880" y="732996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78M</a:t>
            </a:r>
            <a:endParaRPr b="0" lang="en-US" sz="12000" spc="-1" strike="noStrike">
              <a:solidFill>
                <a:srgbClr val="000000"/>
              </a:solidFill>
              <a:latin typeface="Arial"/>
            </a:endParaRPr>
          </a:p>
        </p:txBody>
      </p:sp>
      <p:sp>
        <p:nvSpPr>
          <p:cNvPr id="5447" name="Shape 2787"/>
          <p:cNvSpPr/>
          <p:nvPr/>
        </p:nvSpPr>
        <p:spPr>
          <a:xfrm>
            <a:off x="2032200" y="4510800"/>
            <a:ext cx="9144720" cy="241488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5448" name="Shape 2788"/>
          <p:cNvSpPr/>
          <p:nvPr/>
        </p:nvSpPr>
        <p:spPr>
          <a:xfrm>
            <a:off x="18228960" y="708840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dddddd"/>
          </a:solidFill>
          <a:ln w="12700">
            <a:noFill/>
          </a:ln>
        </p:spPr>
        <p:style>
          <a:lnRef idx="0"/>
          <a:fillRef idx="0"/>
          <a:effectRef idx="0"/>
          <a:fontRef idx="minor"/>
        </p:style>
        <p:txBody>
          <a:bodyPr lIns="45720" rIns="45720" tIns="-23040" bIns="-2304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449" name="Group 2831"/>
          <p:cNvGrpSpPr/>
          <p:nvPr/>
        </p:nvGrpSpPr>
        <p:grpSpPr>
          <a:xfrm>
            <a:off x="14243760" y="1489320"/>
            <a:ext cx="10728720" cy="10193040"/>
            <a:chOff x="14243760" y="1489320"/>
            <a:chExt cx="10728720" cy="10193040"/>
          </a:xfrm>
        </p:grpSpPr>
        <p:sp>
          <p:nvSpPr>
            <p:cNvPr id="5450" name="Shape 2789"/>
            <p:cNvSpPr/>
            <p:nvPr/>
          </p:nvSpPr>
          <p:spPr>
            <a:xfrm>
              <a:off x="17716320" y="10386000"/>
              <a:ext cx="167040" cy="247680"/>
            </a:xfrm>
            <a:custGeom>
              <a:avLst/>
              <a:gdLst>
                <a:gd name="textAreaLeft" fmla="*/ 0 w 167040"/>
                <a:gd name="textAreaRight" fmla="*/ 167400 w 167040"/>
                <a:gd name="textAreaTop" fmla="*/ 0 h 247680"/>
                <a:gd name="textAreaBottom" fmla="*/ 248040 h 24768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1" name="Shape 2790"/>
            <p:cNvSpPr/>
            <p:nvPr/>
          </p:nvSpPr>
          <p:spPr>
            <a:xfrm>
              <a:off x="18753120" y="10630080"/>
              <a:ext cx="668520" cy="747000"/>
            </a:xfrm>
            <a:custGeom>
              <a:avLst/>
              <a:gdLst>
                <a:gd name="textAreaLeft" fmla="*/ 0 w 668520"/>
                <a:gd name="textAreaRight" fmla="*/ 668880 w 668520"/>
                <a:gd name="textAreaTop" fmla="*/ 0 h 747000"/>
                <a:gd name="textAreaBottom" fmla="*/ 747360 h 74700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3"/>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2" name="Shape 2791"/>
            <p:cNvSpPr/>
            <p:nvPr/>
          </p:nvSpPr>
          <p:spPr>
            <a:xfrm>
              <a:off x="19386720" y="11083320"/>
              <a:ext cx="85320" cy="113040"/>
            </a:xfrm>
            <a:custGeom>
              <a:avLst/>
              <a:gdLst>
                <a:gd name="textAreaLeft" fmla="*/ 0 w 85320"/>
                <a:gd name="textAreaRight" fmla="*/ 85680 w 85320"/>
                <a:gd name="textAreaTop" fmla="*/ 0 h 113040"/>
                <a:gd name="textAreaBottom" fmla="*/ 113400 h 11304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3" name="Shape 2792"/>
            <p:cNvSpPr/>
            <p:nvPr/>
          </p:nvSpPr>
          <p:spPr>
            <a:xfrm>
              <a:off x="19531800" y="11167560"/>
              <a:ext cx="66600" cy="39600"/>
            </a:xfrm>
            <a:custGeom>
              <a:avLst/>
              <a:gdLst>
                <a:gd name="textAreaLeft" fmla="*/ 0 w 66600"/>
                <a:gd name="textAreaRight" fmla="*/ 66960 w 66600"/>
                <a:gd name="textAreaTop" fmla="*/ 0 h 39600"/>
                <a:gd name="textAreaBottom" fmla="*/ 39960 h 3960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919191"/>
            </a:solidFill>
            <a:ln w="12700">
              <a:noFill/>
            </a:ln>
          </p:spPr>
          <p:style>
            <a:lnRef idx="0"/>
            <a:fillRef idx="0"/>
            <a:effectRef idx="0"/>
            <a:fontRef idx="minor"/>
          </p:style>
          <p:txBody>
            <a:bodyPr numCol="1" spcCol="0" lIns="45720" rIns="45720" tIns="19800" bIns="19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4" name="Shape 2793"/>
            <p:cNvSpPr/>
            <p:nvPr/>
          </p:nvSpPr>
          <p:spPr>
            <a:xfrm>
              <a:off x="19625040" y="10519200"/>
              <a:ext cx="681120" cy="735120"/>
            </a:xfrm>
            <a:custGeom>
              <a:avLst/>
              <a:gdLst>
                <a:gd name="textAreaLeft" fmla="*/ 0 w 681120"/>
                <a:gd name="textAreaRight" fmla="*/ 681480 w 681120"/>
                <a:gd name="textAreaTop" fmla="*/ 0 h 735120"/>
                <a:gd name="textAreaBottom" fmla="*/ 735480 h 73512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5" name="Shape 2794"/>
            <p:cNvSpPr/>
            <p:nvPr/>
          </p:nvSpPr>
          <p:spPr>
            <a:xfrm>
              <a:off x="19440000" y="11369880"/>
              <a:ext cx="612360" cy="194760"/>
            </a:xfrm>
            <a:custGeom>
              <a:avLst/>
              <a:gdLst>
                <a:gd name="textAreaLeft" fmla="*/ 0 w 612360"/>
                <a:gd name="textAreaRight" fmla="*/ 612720 w 612360"/>
                <a:gd name="textAreaTop" fmla="*/ 0 h 194760"/>
                <a:gd name="textAreaBottom" fmla="*/ 195120 h 19476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6" name="Shape 2795"/>
            <p:cNvSpPr/>
            <p:nvPr/>
          </p:nvSpPr>
          <p:spPr>
            <a:xfrm>
              <a:off x="20109600" y="11535480"/>
              <a:ext cx="178560" cy="42840"/>
            </a:xfrm>
            <a:custGeom>
              <a:avLst/>
              <a:gdLst>
                <a:gd name="textAreaLeft" fmla="*/ 0 w 178560"/>
                <a:gd name="textAreaRight" fmla="*/ 178920 w 178560"/>
                <a:gd name="textAreaTop" fmla="*/ 0 h 42840"/>
                <a:gd name="textAreaBottom" fmla="*/ 43200 h 4284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919191"/>
            </a:solidFill>
            <a:ln w="12700">
              <a:noFill/>
            </a:ln>
          </p:spPr>
          <p:style>
            <a:lnRef idx="0"/>
            <a:fillRef idx="0"/>
            <a:effectRef idx="0"/>
            <a:fontRef idx="minor"/>
          </p:style>
          <p:txBody>
            <a:bodyPr numCol="1" spcCol="0" lIns="45720" rIns="45720" tIns="21600" bIns="21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7" name="Shape 2796"/>
            <p:cNvSpPr/>
            <p:nvPr/>
          </p:nvSpPr>
          <p:spPr>
            <a:xfrm>
              <a:off x="20292480" y="11592720"/>
              <a:ext cx="120600" cy="89640"/>
            </a:xfrm>
            <a:custGeom>
              <a:avLst/>
              <a:gdLst>
                <a:gd name="textAreaLeft" fmla="*/ 0 w 120600"/>
                <a:gd name="textAreaRight" fmla="*/ 120960 w 120600"/>
                <a:gd name="textAreaTop" fmla="*/ 0 h 89640"/>
                <a:gd name="textAreaBottom" fmla="*/ 90000 h 8964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919191"/>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8" name="Shape 2797"/>
            <p:cNvSpPr/>
            <p:nvPr/>
          </p:nvSpPr>
          <p:spPr>
            <a:xfrm>
              <a:off x="20319480" y="11518560"/>
              <a:ext cx="334080" cy="68400"/>
            </a:xfrm>
            <a:custGeom>
              <a:avLst/>
              <a:gdLst>
                <a:gd name="textAreaLeft" fmla="*/ 0 w 334080"/>
                <a:gd name="textAreaRight" fmla="*/ 334440 w 334080"/>
                <a:gd name="textAreaTop" fmla="*/ 0 h 68400"/>
                <a:gd name="textAreaBottom" fmla="*/ 68760 h 6840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919191"/>
            </a:solidFill>
            <a:ln w="12700">
              <a:noFill/>
            </a:ln>
          </p:spPr>
          <p:style>
            <a:lnRef idx="0"/>
            <a:fillRef idx="0"/>
            <a:effectRef idx="0"/>
            <a:fontRef idx="minor"/>
          </p:style>
          <p:txBody>
            <a:bodyPr numCol="1" spcCol="0" lIns="45720" rIns="45720" tIns="34200" bIns="34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59" name="Shape 2798"/>
            <p:cNvSpPr/>
            <p:nvPr/>
          </p:nvSpPr>
          <p:spPr>
            <a:xfrm>
              <a:off x="20593440" y="11537280"/>
              <a:ext cx="244440" cy="120600"/>
            </a:xfrm>
            <a:custGeom>
              <a:avLst/>
              <a:gdLst>
                <a:gd name="textAreaLeft" fmla="*/ 0 w 244440"/>
                <a:gd name="textAreaRight" fmla="*/ 244800 w 244440"/>
                <a:gd name="textAreaTop" fmla="*/ 0 h 120600"/>
                <a:gd name="textAreaBottom" fmla="*/ 120960 h 12060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0" name="Shape 2799"/>
            <p:cNvSpPr/>
            <p:nvPr/>
          </p:nvSpPr>
          <p:spPr>
            <a:xfrm>
              <a:off x="20279520" y="11014200"/>
              <a:ext cx="311760" cy="351360"/>
            </a:xfrm>
            <a:custGeom>
              <a:avLst/>
              <a:gdLst>
                <a:gd name="textAreaLeft" fmla="*/ 0 w 311760"/>
                <a:gd name="textAreaRight" fmla="*/ 312120 w 311760"/>
                <a:gd name="textAreaTop" fmla="*/ 0 h 351360"/>
                <a:gd name="textAreaBottom" fmla="*/ 351720 h 35136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1" name="Shape 2800"/>
            <p:cNvSpPr/>
            <p:nvPr/>
          </p:nvSpPr>
          <p:spPr>
            <a:xfrm>
              <a:off x="20376720" y="10862640"/>
              <a:ext cx="323640" cy="132120"/>
            </a:xfrm>
            <a:custGeom>
              <a:avLst/>
              <a:gdLst>
                <a:gd name="textAreaLeft" fmla="*/ 0 w 323640"/>
                <a:gd name="textAreaRight" fmla="*/ 324000 w 323640"/>
                <a:gd name="textAreaTop" fmla="*/ 0 h 132120"/>
                <a:gd name="textAreaBottom" fmla="*/ 132480 h 13212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2" name="Shape 2801"/>
            <p:cNvSpPr/>
            <p:nvPr/>
          </p:nvSpPr>
          <p:spPr>
            <a:xfrm>
              <a:off x="20741040" y="11182680"/>
              <a:ext cx="67680" cy="103320"/>
            </a:xfrm>
            <a:custGeom>
              <a:avLst/>
              <a:gdLst>
                <a:gd name="textAreaLeft" fmla="*/ 0 w 67680"/>
                <a:gd name="textAreaRight" fmla="*/ 68040 w 67680"/>
                <a:gd name="textAreaTop" fmla="*/ 0 h 103320"/>
                <a:gd name="textAreaBottom" fmla="*/ 103680 h 10332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3" name="Shape 2802"/>
            <p:cNvSpPr/>
            <p:nvPr/>
          </p:nvSpPr>
          <p:spPr>
            <a:xfrm>
              <a:off x="20853360" y="11171520"/>
              <a:ext cx="216000" cy="110160"/>
            </a:xfrm>
            <a:custGeom>
              <a:avLst/>
              <a:gdLst>
                <a:gd name="textAreaLeft" fmla="*/ 0 w 216000"/>
                <a:gd name="textAreaRight" fmla="*/ 216360 w 216000"/>
                <a:gd name="textAreaTop" fmla="*/ 0 h 110160"/>
                <a:gd name="textAreaBottom" fmla="*/ 110520 h 11016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4" name="Shape 2803"/>
            <p:cNvSpPr/>
            <p:nvPr/>
          </p:nvSpPr>
          <p:spPr>
            <a:xfrm>
              <a:off x="21046680" y="11459520"/>
              <a:ext cx="87120" cy="101160"/>
            </a:xfrm>
            <a:custGeom>
              <a:avLst/>
              <a:gdLst>
                <a:gd name="textAreaLeft" fmla="*/ 0 w 87120"/>
                <a:gd name="textAreaRight" fmla="*/ 87480 w 87120"/>
                <a:gd name="textAreaTop" fmla="*/ 0 h 101160"/>
                <a:gd name="textAreaBottom" fmla="*/ 101520 h 10116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5" name="Shape 2804"/>
            <p:cNvSpPr/>
            <p:nvPr/>
          </p:nvSpPr>
          <p:spPr>
            <a:xfrm>
              <a:off x="21162960" y="11338200"/>
              <a:ext cx="58680" cy="66960"/>
            </a:xfrm>
            <a:custGeom>
              <a:avLst/>
              <a:gdLst>
                <a:gd name="textAreaLeft" fmla="*/ 0 w 58680"/>
                <a:gd name="textAreaRight" fmla="*/ 59040 w 58680"/>
                <a:gd name="textAreaTop" fmla="*/ 0 h 66960"/>
                <a:gd name="textAreaBottom" fmla="*/ 67320 h 6696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919191"/>
            </a:solidFill>
            <a:ln w="12700">
              <a:noFill/>
            </a:ln>
          </p:spPr>
          <p:style>
            <a:lnRef idx="0"/>
            <a:fillRef idx="0"/>
            <a:effectRef idx="0"/>
            <a:fontRef idx="minor"/>
          </p:style>
          <p:txBody>
            <a:bodyPr numCol="1" spcCol="0" lIns="45720" rIns="45720" tIns="33480" bIns="33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6" name="Shape 2805"/>
            <p:cNvSpPr/>
            <p:nvPr/>
          </p:nvSpPr>
          <p:spPr>
            <a:xfrm>
              <a:off x="21265560" y="11355120"/>
              <a:ext cx="56880" cy="98280"/>
            </a:xfrm>
            <a:custGeom>
              <a:avLst/>
              <a:gdLst>
                <a:gd name="textAreaLeft" fmla="*/ 0 w 56880"/>
                <a:gd name="textAreaRight" fmla="*/ 57240 w 56880"/>
                <a:gd name="textAreaTop" fmla="*/ 0 h 98280"/>
                <a:gd name="textAreaBottom" fmla="*/ 98640 h 9828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7" name="Shape 2806"/>
            <p:cNvSpPr/>
            <p:nvPr/>
          </p:nvSpPr>
          <p:spPr>
            <a:xfrm>
              <a:off x="20820240" y="10865160"/>
              <a:ext cx="108000" cy="196200"/>
            </a:xfrm>
            <a:custGeom>
              <a:avLst/>
              <a:gdLst>
                <a:gd name="textAreaLeft" fmla="*/ 0 w 108000"/>
                <a:gd name="textAreaRight" fmla="*/ 108360 w 108000"/>
                <a:gd name="textAreaTop" fmla="*/ 0 h 196200"/>
                <a:gd name="textAreaBottom" fmla="*/ 196560 h 196200"/>
              </a:gdLst>
              <a:ahLst/>
              <a:rect l="textAreaLeft" t="textAreaTop" r="textAreaRight" b="textAreaBottom"/>
              <a:pathLst>
                <a:path w="21488"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8" name="Shape 2807"/>
            <p:cNvSpPr/>
            <p:nvPr/>
          </p:nvSpPr>
          <p:spPr>
            <a:xfrm>
              <a:off x="21012480" y="10986840"/>
              <a:ext cx="76680" cy="94320"/>
            </a:xfrm>
            <a:custGeom>
              <a:avLst/>
              <a:gdLst>
                <a:gd name="textAreaLeft" fmla="*/ 0 w 76680"/>
                <a:gd name="textAreaRight" fmla="*/ 77040 w 76680"/>
                <a:gd name="textAreaTop" fmla="*/ 0 h 94320"/>
                <a:gd name="textAreaBottom" fmla="*/ 94680 h 9432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69" name="Shape 2808"/>
            <p:cNvSpPr/>
            <p:nvPr/>
          </p:nvSpPr>
          <p:spPr>
            <a:xfrm>
              <a:off x="20359440" y="9297720"/>
              <a:ext cx="105840" cy="230400"/>
            </a:xfrm>
            <a:custGeom>
              <a:avLst/>
              <a:gdLst>
                <a:gd name="textAreaLeft" fmla="*/ 0 w 105840"/>
                <a:gd name="textAreaRight" fmla="*/ 106200 w 105840"/>
                <a:gd name="textAreaTop" fmla="*/ 0 h 230400"/>
                <a:gd name="textAreaBottom" fmla="*/ 230760 h 23040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0" name="Shape 2809"/>
            <p:cNvSpPr/>
            <p:nvPr/>
          </p:nvSpPr>
          <p:spPr>
            <a:xfrm>
              <a:off x="20332080" y="9746280"/>
              <a:ext cx="186120" cy="459000"/>
            </a:xfrm>
            <a:custGeom>
              <a:avLst/>
              <a:gdLst>
                <a:gd name="textAreaLeft" fmla="*/ 0 w 186120"/>
                <a:gd name="textAreaRight" fmla="*/ 186480 w 186120"/>
                <a:gd name="textAreaTop" fmla="*/ 0 h 459000"/>
                <a:gd name="textAreaBottom" fmla="*/ 459360 h 45900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1" name="Shape 2810"/>
            <p:cNvSpPr/>
            <p:nvPr/>
          </p:nvSpPr>
          <p:spPr>
            <a:xfrm>
              <a:off x="20474640" y="10051560"/>
              <a:ext cx="128520" cy="92880"/>
            </a:xfrm>
            <a:custGeom>
              <a:avLst/>
              <a:gdLst>
                <a:gd name="textAreaLeft" fmla="*/ 0 w 128520"/>
                <a:gd name="textAreaRight" fmla="*/ 128880 w 128520"/>
                <a:gd name="textAreaTop" fmla="*/ 0 h 92880"/>
                <a:gd name="textAreaBottom" fmla="*/ 93240 h 9288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2" name="Shape 2811"/>
            <p:cNvSpPr/>
            <p:nvPr/>
          </p:nvSpPr>
          <p:spPr>
            <a:xfrm>
              <a:off x="20470320" y="10206720"/>
              <a:ext cx="75600" cy="106920"/>
            </a:xfrm>
            <a:custGeom>
              <a:avLst/>
              <a:gdLst>
                <a:gd name="textAreaLeft" fmla="*/ 0 w 75600"/>
                <a:gd name="textAreaRight" fmla="*/ 75960 w 75600"/>
                <a:gd name="textAreaTop" fmla="*/ 0 h 106920"/>
                <a:gd name="textAreaBottom" fmla="*/ 107280 h 10692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3" name="Shape 2812"/>
            <p:cNvSpPr/>
            <p:nvPr/>
          </p:nvSpPr>
          <p:spPr>
            <a:xfrm>
              <a:off x="20506320" y="10283400"/>
              <a:ext cx="125640" cy="126720"/>
            </a:xfrm>
            <a:custGeom>
              <a:avLst/>
              <a:gdLst>
                <a:gd name="textAreaLeft" fmla="*/ 0 w 125640"/>
                <a:gd name="textAreaRight" fmla="*/ 126000 w 125640"/>
                <a:gd name="textAreaTop" fmla="*/ 0 h 126720"/>
                <a:gd name="textAreaBottom" fmla="*/ 127080 h 12672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4" name="Shape 2813"/>
            <p:cNvSpPr/>
            <p:nvPr/>
          </p:nvSpPr>
          <p:spPr>
            <a:xfrm>
              <a:off x="20580480" y="10163160"/>
              <a:ext cx="116280" cy="179640"/>
            </a:xfrm>
            <a:custGeom>
              <a:avLst/>
              <a:gdLst>
                <a:gd name="textAreaLeft" fmla="*/ 0 w 116280"/>
                <a:gd name="textAreaRight" fmla="*/ 116640 w 116280"/>
                <a:gd name="textAreaTop" fmla="*/ 0 h 179640"/>
                <a:gd name="textAreaBottom" fmla="*/ 180000 h 17964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5" name="Shape 2814"/>
            <p:cNvSpPr/>
            <p:nvPr/>
          </p:nvSpPr>
          <p:spPr>
            <a:xfrm>
              <a:off x="20471400" y="10392120"/>
              <a:ext cx="320400" cy="248760"/>
            </a:xfrm>
            <a:custGeom>
              <a:avLst/>
              <a:gdLst>
                <a:gd name="textAreaLeft" fmla="*/ 0 w 320400"/>
                <a:gd name="textAreaRight" fmla="*/ 320760 w 320400"/>
                <a:gd name="textAreaTop" fmla="*/ 0 h 248760"/>
                <a:gd name="textAreaBottom" fmla="*/ 249120 h 24876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6" name="Shape 2815"/>
            <p:cNvSpPr/>
            <p:nvPr/>
          </p:nvSpPr>
          <p:spPr>
            <a:xfrm>
              <a:off x="24771960" y="5592600"/>
              <a:ext cx="200520" cy="122040"/>
            </a:xfrm>
            <a:custGeom>
              <a:avLst/>
              <a:gdLst>
                <a:gd name="textAreaLeft" fmla="*/ 0 w 200520"/>
                <a:gd name="textAreaRight" fmla="*/ 200880 w 200520"/>
                <a:gd name="textAreaTop" fmla="*/ 0 h 122040"/>
                <a:gd name="textAreaBottom" fmla="*/ 122400 h 122040"/>
              </a:gdLst>
              <a:ahLst/>
              <a:rect l="textAreaLeft" t="textAreaTop" r="textAreaRight" b="textAreaBottom"/>
              <a:pathLst>
                <a:path w="20746" h="19746">
                  <a:moveTo>
                    <a:pt x="2693" y="8974"/>
                  </a:moveTo>
                  <a:cubicBezTo>
                    <a:pt x="3163" y="8974"/>
                    <a:pt x="3398" y="8608"/>
                    <a:pt x="3985" y="8608"/>
                  </a:cubicBezTo>
                  <a:cubicBezTo>
                    <a:pt x="4219" y="8608"/>
                    <a:pt x="4454" y="8974"/>
                    <a:pt x="4689" y="8974"/>
                  </a:cubicBezTo>
                  <a:cubicBezTo>
                    <a:pt x="4924" y="8974"/>
                    <a:pt x="5159" y="8608"/>
                    <a:pt x="5159" y="8608"/>
                  </a:cubicBezTo>
                  <a:cubicBezTo>
                    <a:pt x="6685" y="6960"/>
                    <a:pt x="8915" y="8425"/>
                    <a:pt x="9854" y="10438"/>
                  </a:cubicBezTo>
                  <a:cubicBezTo>
                    <a:pt x="10793" y="12269"/>
                    <a:pt x="11615" y="15381"/>
                    <a:pt x="11615" y="18126"/>
                  </a:cubicBezTo>
                  <a:cubicBezTo>
                    <a:pt x="12789" y="17028"/>
                    <a:pt x="14315" y="20506"/>
                    <a:pt x="15489" y="19591"/>
                  </a:cubicBezTo>
                  <a:cubicBezTo>
                    <a:pt x="15959" y="19225"/>
                    <a:pt x="16193" y="18492"/>
                    <a:pt x="15959" y="17760"/>
                  </a:cubicBezTo>
                  <a:cubicBezTo>
                    <a:pt x="15724" y="17028"/>
                    <a:pt x="15254" y="16662"/>
                    <a:pt x="14785" y="16662"/>
                  </a:cubicBezTo>
                  <a:cubicBezTo>
                    <a:pt x="14785" y="15381"/>
                    <a:pt x="15489" y="14648"/>
                    <a:pt x="16546" y="14282"/>
                  </a:cubicBezTo>
                  <a:cubicBezTo>
                    <a:pt x="17250" y="14282"/>
                    <a:pt x="17954" y="14648"/>
                    <a:pt x="18659" y="14648"/>
                  </a:cubicBezTo>
                  <a:cubicBezTo>
                    <a:pt x="19480" y="14648"/>
                    <a:pt x="20419" y="14648"/>
                    <a:pt x="20654" y="13550"/>
                  </a:cubicBezTo>
                  <a:cubicBezTo>
                    <a:pt x="20889" y="12452"/>
                    <a:pt x="20654" y="11170"/>
                    <a:pt x="20185" y="10438"/>
                  </a:cubicBezTo>
                  <a:cubicBezTo>
                    <a:pt x="19715" y="9706"/>
                    <a:pt x="19011" y="9340"/>
                    <a:pt x="18189" y="8974"/>
                  </a:cubicBezTo>
                  <a:cubicBezTo>
                    <a:pt x="17485" y="8608"/>
                    <a:pt x="17015" y="8242"/>
                    <a:pt x="16193" y="7692"/>
                  </a:cubicBezTo>
                  <a:cubicBezTo>
                    <a:pt x="15959" y="7692"/>
                    <a:pt x="15489" y="7326"/>
                    <a:pt x="15019" y="7326"/>
                  </a:cubicBezTo>
                  <a:cubicBezTo>
                    <a:pt x="14550" y="7326"/>
                    <a:pt x="14315" y="8242"/>
                    <a:pt x="14080" y="8608"/>
                  </a:cubicBezTo>
                  <a:cubicBezTo>
                    <a:pt x="13259" y="9340"/>
                    <a:pt x="12319" y="8608"/>
                    <a:pt x="11850" y="7326"/>
                  </a:cubicBezTo>
                  <a:cubicBezTo>
                    <a:pt x="11380" y="6228"/>
                    <a:pt x="11028" y="5130"/>
                    <a:pt x="10559" y="3848"/>
                  </a:cubicBezTo>
                  <a:cubicBezTo>
                    <a:pt x="10089" y="2750"/>
                    <a:pt x="9385" y="1652"/>
                    <a:pt x="8328" y="1652"/>
                  </a:cubicBezTo>
                  <a:cubicBezTo>
                    <a:pt x="8093" y="1652"/>
                    <a:pt x="7624" y="2018"/>
                    <a:pt x="7389" y="1652"/>
                  </a:cubicBezTo>
                  <a:cubicBezTo>
                    <a:pt x="6919" y="1652"/>
                    <a:pt x="6450" y="920"/>
                    <a:pt x="6098" y="553"/>
                  </a:cubicBezTo>
                  <a:cubicBezTo>
                    <a:pt x="4219" y="-1094"/>
                    <a:pt x="1989" y="1286"/>
                    <a:pt x="463" y="3116"/>
                  </a:cubicBezTo>
                  <a:cubicBezTo>
                    <a:pt x="-711" y="5496"/>
                    <a:pt x="463" y="9706"/>
                    <a:pt x="2693" y="897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7" name="Shape 2816"/>
            <p:cNvSpPr/>
            <p:nvPr/>
          </p:nvSpPr>
          <p:spPr>
            <a:xfrm>
              <a:off x="24141240" y="4223880"/>
              <a:ext cx="290880" cy="178920"/>
            </a:xfrm>
            <a:custGeom>
              <a:avLst/>
              <a:gdLst>
                <a:gd name="textAreaLeft" fmla="*/ 0 w 290880"/>
                <a:gd name="textAreaRight" fmla="*/ 291240 w 290880"/>
                <a:gd name="textAreaTop" fmla="*/ 0 h 178920"/>
                <a:gd name="textAreaBottom" fmla="*/ 179280 h 17892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8" name="Shape 2817"/>
            <p:cNvSpPr/>
            <p:nvPr/>
          </p:nvSpPr>
          <p:spPr>
            <a:xfrm>
              <a:off x="21649680" y="3627720"/>
              <a:ext cx="248400" cy="252720"/>
            </a:xfrm>
            <a:custGeom>
              <a:avLst/>
              <a:gdLst>
                <a:gd name="textAreaLeft" fmla="*/ 0 w 248400"/>
                <a:gd name="textAreaRight" fmla="*/ 248760 w 248400"/>
                <a:gd name="textAreaTop" fmla="*/ 0 h 252720"/>
                <a:gd name="textAreaBottom" fmla="*/ 253080 h 25272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79" name="Shape 2818"/>
            <p:cNvSpPr/>
            <p:nvPr/>
          </p:nvSpPr>
          <p:spPr>
            <a:xfrm>
              <a:off x="21442320" y="3146040"/>
              <a:ext cx="552960" cy="380880"/>
            </a:xfrm>
            <a:custGeom>
              <a:avLst/>
              <a:gdLst>
                <a:gd name="textAreaLeft" fmla="*/ 0 w 552960"/>
                <a:gd name="textAreaRight" fmla="*/ 553320 w 552960"/>
                <a:gd name="textAreaTop" fmla="*/ 0 h 380880"/>
                <a:gd name="textAreaBottom" fmla="*/ 381240 h 38088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60"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0" name="Shape 2819"/>
            <p:cNvSpPr/>
            <p:nvPr/>
          </p:nvSpPr>
          <p:spPr>
            <a:xfrm>
              <a:off x="21340800" y="3238560"/>
              <a:ext cx="72000" cy="162000"/>
            </a:xfrm>
            <a:custGeom>
              <a:avLst/>
              <a:gdLst>
                <a:gd name="textAreaLeft" fmla="*/ 0 w 72000"/>
                <a:gd name="textAreaRight" fmla="*/ 72360 w 72000"/>
                <a:gd name="textAreaTop" fmla="*/ 0 h 162000"/>
                <a:gd name="textAreaBottom" fmla="*/ 162360 h 16200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1" name="Shape 2820"/>
            <p:cNvSpPr/>
            <p:nvPr/>
          </p:nvSpPr>
          <p:spPr>
            <a:xfrm>
              <a:off x="22041360" y="3291840"/>
              <a:ext cx="327600" cy="227880"/>
            </a:xfrm>
            <a:custGeom>
              <a:avLst/>
              <a:gdLst>
                <a:gd name="textAreaLeft" fmla="*/ 0 w 327600"/>
                <a:gd name="textAreaRight" fmla="*/ 327960 w 327600"/>
                <a:gd name="textAreaTop" fmla="*/ 0 h 227880"/>
                <a:gd name="textAreaBottom" fmla="*/ 228240 h 22788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2" name="Shape 2821"/>
            <p:cNvSpPr/>
            <p:nvPr/>
          </p:nvSpPr>
          <p:spPr>
            <a:xfrm>
              <a:off x="17657640" y="3836880"/>
              <a:ext cx="72000" cy="159480"/>
            </a:xfrm>
            <a:custGeom>
              <a:avLst/>
              <a:gdLst>
                <a:gd name="textAreaLeft" fmla="*/ 0 w 72000"/>
                <a:gd name="textAreaRight" fmla="*/ 72360 w 72000"/>
                <a:gd name="textAreaTop" fmla="*/ 0 h 159480"/>
                <a:gd name="textAreaBottom" fmla="*/ 159840 h 15948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3" name="Shape 2822"/>
            <p:cNvSpPr/>
            <p:nvPr/>
          </p:nvSpPr>
          <p:spPr>
            <a:xfrm>
              <a:off x="14663880" y="8539560"/>
              <a:ext cx="130680" cy="58680"/>
            </a:xfrm>
            <a:custGeom>
              <a:avLst/>
              <a:gdLst>
                <a:gd name="textAreaLeft" fmla="*/ 0 w 130680"/>
                <a:gd name="textAreaRight" fmla="*/ 131040 w 130680"/>
                <a:gd name="textAreaTop" fmla="*/ 0 h 58680"/>
                <a:gd name="textAreaBottom" fmla="*/ 59040 h 5868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919191"/>
            </a:solidFill>
            <a:ln w="12700">
              <a:noFill/>
            </a:ln>
          </p:spPr>
          <p:style>
            <a:lnRef idx="0"/>
            <a:fillRef idx="0"/>
            <a:effectRef idx="0"/>
            <a:fontRef idx="minor"/>
          </p:style>
          <p:txBody>
            <a:bodyPr numCol="1" spcCol="0" lIns="45720" rIns="45720" tIns="29520" bIns="29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4" name="Shape 2823"/>
            <p:cNvSpPr/>
            <p:nvPr/>
          </p:nvSpPr>
          <p:spPr>
            <a:xfrm>
              <a:off x="21741480" y="6762240"/>
              <a:ext cx="173880" cy="886680"/>
            </a:xfrm>
            <a:custGeom>
              <a:avLst/>
              <a:gdLst>
                <a:gd name="textAreaLeft" fmla="*/ 0 w 173880"/>
                <a:gd name="textAreaRight" fmla="*/ 174240 w 173880"/>
                <a:gd name="textAreaTop" fmla="*/ 0 h 886680"/>
                <a:gd name="textAreaBottom" fmla="*/ 887040 h 88668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5" name="Shape 2824"/>
            <p:cNvSpPr/>
            <p:nvPr/>
          </p:nvSpPr>
          <p:spPr>
            <a:xfrm>
              <a:off x="21633480" y="7692840"/>
              <a:ext cx="379800" cy="378000"/>
            </a:xfrm>
            <a:custGeom>
              <a:avLst/>
              <a:gdLst>
                <a:gd name="textAreaLeft" fmla="*/ 0 w 379800"/>
                <a:gd name="textAreaRight" fmla="*/ 380160 w 379800"/>
                <a:gd name="textAreaTop" fmla="*/ 0 h 378000"/>
                <a:gd name="textAreaBottom" fmla="*/ 378360 h 37800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6" name="Shape 2825"/>
            <p:cNvSpPr/>
            <p:nvPr/>
          </p:nvSpPr>
          <p:spPr>
            <a:xfrm>
              <a:off x="20960280" y="8082360"/>
              <a:ext cx="819000" cy="784800"/>
            </a:xfrm>
            <a:custGeom>
              <a:avLst/>
              <a:gdLst>
                <a:gd name="textAreaLeft" fmla="*/ 0 w 819000"/>
                <a:gd name="textAreaRight" fmla="*/ 819360 w 819000"/>
                <a:gd name="textAreaTop" fmla="*/ 0 h 784800"/>
                <a:gd name="textAreaBottom" fmla="*/ 785160 h 78480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2"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2"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7" name="Shape 2826"/>
            <p:cNvSpPr/>
            <p:nvPr/>
          </p:nvSpPr>
          <p:spPr>
            <a:xfrm>
              <a:off x="18495720" y="1489320"/>
              <a:ext cx="375480" cy="463320"/>
            </a:xfrm>
            <a:custGeom>
              <a:avLst/>
              <a:gdLst>
                <a:gd name="textAreaLeft" fmla="*/ 0 w 375480"/>
                <a:gd name="textAreaRight" fmla="*/ 375840 w 375480"/>
                <a:gd name="textAreaTop" fmla="*/ 0 h 463320"/>
                <a:gd name="textAreaBottom" fmla="*/ 463680 h 46332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8" name="Shape 2827"/>
            <p:cNvSpPr/>
            <p:nvPr/>
          </p:nvSpPr>
          <p:spPr>
            <a:xfrm>
              <a:off x="18442080" y="1893960"/>
              <a:ext cx="594720" cy="504720"/>
            </a:xfrm>
            <a:custGeom>
              <a:avLst/>
              <a:gdLst>
                <a:gd name="textAreaLeft" fmla="*/ 0 w 594720"/>
                <a:gd name="textAreaRight" fmla="*/ 595080 w 594720"/>
                <a:gd name="textAreaTop" fmla="*/ 0 h 504720"/>
                <a:gd name="textAreaBottom" fmla="*/ 505080 h 50472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89" name="Shape 2828"/>
            <p:cNvSpPr/>
            <p:nvPr/>
          </p:nvSpPr>
          <p:spPr>
            <a:xfrm>
              <a:off x="18982800" y="2153520"/>
              <a:ext cx="393840" cy="505800"/>
            </a:xfrm>
            <a:custGeom>
              <a:avLst/>
              <a:gdLst>
                <a:gd name="textAreaLeft" fmla="*/ 0 w 393840"/>
                <a:gd name="textAreaRight" fmla="*/ 394200 w 393840"/>
                <a:gd name="textAreaTop" fmla="*/ 0 h 505800"/>
                <a:gd name="textAreaBottom" fmla="*/ 506160 h 50580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0" name="Shape 2829"/>
            <p:cNvSpPr/>
            <p:nvPr/>
          </p:nvSpPr>
          <p:spPr>
            <a:xfrm>
              <a:off x="21091680" y="11036520"/>
              <a:ext cx="673200" cy="570240"/>
            </a:xfrm>
            <a:custGeom>
              <a:avLst/>
              <a:gdLst>
                <a:gd name="textAreaLeft" fmla="*/ 0 w 673200"/>
                <a:gd name="textAreaRight" fmla="*/ 673560 w 673200"/>
                <a:gd name="textAreaTop" fmla="*/ 0 h 570240"/>
                <a:gd name="textAreaBottom" fmla="*/ 570600 h 57024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1" name="Shape 2830"/>
            <p:cNvSpPr/>
            <p:nvPr/>
          </p:nvSpPr>
          <p:spPr>
            <a:xfrm>
              <a:off x="14243760" y="2712240"/>
              <a:ext cx="10659240" cy="8294040"/>
            </a:xfrm>
            <a:custGeom>
              <a:avLst/>
              <a:gdLst>
                <a:gd name="textAreaLeft" fmla="*/ 0 w 10659240"/>
                <a:gd name="textAreaRight" fmla="*/ 10659600 w 10659240"/>
                <a:gd name="textAreaTop" fmla="*/ 0 h 8294040"/>
                <a:gd name="textAreaBottom" fmla="*/ 8294400 h 829404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8"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4"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4"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4"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7" y="14865"/>
                  </a:cubicBezTo>
                  <a:cubicBezTo>
                    <a:pt x="12290" y="14865"/>
                    <a:pt x="12255" y="14827"/>
                    <a:pt x="12265" y="14788"/>
                  </a:cubicBezTo>
                  <a:cubicBezTo>
                    <a:pt x="12290" y="14815"/>
                    <a:pt x="12334" y="14776"/>
                    <a:pt x="12329" y="14735"/>
                  </a:cubicBezTo>
                  <a:cubicBezTo>
                    <a:pt x="12317"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5"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2" name="PlaceHolder 1"/>
          <p:cNvSpPr>
            <a:spLocks noGrp="1"/>
          </p:cNvSpPr>
          <p:nvPr>
            <p:ph type="sldNum" idx="121"/>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18AB0E96-5C4E-49B4-A156-C1199B6D3589}" type="slidenum">
              <a:rPr b="0" lang="en-US" sz="2800" spc="-1" strike="noStrike">
                <a:solidFill>
                  <a:srgbClr val="797979"/>
                </a:solidFill>
                <a:latin typeface="Helvetica Light"/>
                <a:ea typeface="Helvetica Light"/>
              </a:rPr>
              <a:t>119</a:t>
            </a:fld>
            <a:endParaRPr b="0" lang="en-US" sz="2800" spc="-1" strike="noStrike">
              <a:solidFill>
                <a:srgbClr val="000000"/>
              </a:solidFill>
              <a:latin typeface="Times New Roman"/>
            </a:endParaRPr>
          </a:p>
        </p:txBody>
      </p:sp>
      <p:grpSp>
        <p:nvGrpSpPr>
          <p:cNvPr id="5493" name="Group 2837"/>
          <p:cNvGrpSpPr/>
          <p:nvPr/>
        </p:nvGrpSpPr>
        <p:grpSpPr>
          <a:xfrm>
            <a:off x="1617120" y="2085120"/>
            <a:ext cx="9559800" cy="9596880"/>
            <a:chOff x="1617120" y="2085120"/>
            <a:chExt cx="9559800" cy="9596880"/>
          </a:xfrm>
        </p:grpSpPr>
        <p:sp>
          <p:nvSpPr>
            <p:cNvPr id="5494" name="Shape 2834"/>
            <p:cNvSpPr/>
            <p:nvPr/>
          </p:nvSpPr>
          <p:spPr>
            <a:xfrm>
              <a:off x="2633040" y="2085120"/>
              <a:ext cx="8543880" cy="9596880"/>
            </a:xfrm>
            <a:custGeom>
              <a:avLst/>
              <a:gdLst>
                <a:gd name="textAreaLeft" fmla="*/ 0 w 8543880"/>
                <a:gd name="textAreaRight" fmla="*/ 8544240 w 8543880"/>
                <a:gd name="textAreaTop" fmla="*/ 0 h 9596880"/>
                <a:gd name="textAreaBottom" fmla="*/ 9597240 h 959688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2"/>
                    <a:pt x="15854" y="18478"/>
                    <a:pt x="15909" y="18478"/>
                  </a:cubicBezTo>
                  <a:cubicBezTo>
                    <a:pt x="15970" y="18478"/>
                    <a:pt x="16014" y="18512"/>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a9a9a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5" name="Shape 2835"/>
            <p:cNvSpPr/>
            <p:nvPr/>
          </p:nvSpPr>
          <p:spPr>
            <a:xfrm>
              <a:off x="10215720" y="8629560"/>
              <a:ext cx="862560" cy="1776600"/>
            </a:xfrm>
            <a:custGeom>
              <a:avLst/>
              <a:gdLst>
                <a:gd name="textAreaLeft" fmla="*/ 0 w 862560"/>
                <a:gd name="textAreaRight" fmla="*/ 862920 w 862560"/>
                <a:gd name="textAreaTop" fmla="*/ 0 h 1776600"/>
                <a:gd name="textAreaBottom" fmla="*/ 1776960 h 177660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a9a9a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496" name="Shape 2836"/>
            <p:cNvSpPr/>
            <p:nvPr/>
          </p:nvSpPr>
          <p:spPr>
            <a:xfrm>
              <a:off x="1617120" y="4885200"/>
              <a:ext cx="183600" cy="103320"/>
            </a:xfrm>
            <a:custGeom>
              <a:avLst/>
              <a:gdLst>
                <a:gd name="textAreaLeft" fmla="*/ 0 w 183600"/>
                <a:gd name="textAreaRight" fmla="*/ 183960 w 183600"/>
                <a:gd name="textAreaTop" fmla="*/ 0 h 103320"/>
                <a:gd name="textAreaBottom" fmla="*/ 103680 h 10332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a9a9a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497" name="PlaceHolder 2"/>
          <p:cNvSpPr>
            <a:spLocks noGrp="1"/>
          </p:cNvSpPr>
          <p:nvPr>
            <p:ph type="title"/>
          </p:nvPr>
        </p:nvSpPr>
        <p:spPr>
          <a:xfrm>
            <a:off x="15239880" y="1708200"/>
            <a:ext cx="7116480" cy="203148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Africa</a:t>
            </a:r>
            <a:endParaRPr b="0" lang="en-US" sz="11200" spc="-1" strike="noStrike">
              <a:solidFill>
                <a:srgbClr val="009193"/>
              </a:solidFill>
              <a:latin typeface="Helvetica Light"/>
            </a:endParaRPr>
          </a:p>
        </p:txBody>
      </p:sp>
      <p:sp>
        <p:nvSpPr>
          <p:cNvPr id="5498" name="Shape 2839"/>
          <p:cNvSpPr/>
          <p:nvPr/>
        </p:nvSpPr>
        <p:spPr>
          <a:xfrm>
            <a:off x="15239880" y="10705320"/>
            <a:ext cx="711648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oteoto.</a:t>
            </a:r>
            <a:endParaRPr b="0" lang="en-US" sz="3000" spc="-1" strike="noStrike">
              <a:solidFill>
                <a:srgbClr val="000000"/>
              </a:solidFill>
              <a:latin typeface="Arial"/>
            </a:endParaRPr>
          </a:p>
        </p:txBody>
      </p:sp>
      <p:sp>
        <p:nvSpPr>
          <p:cNvPr id="5499" name="Shape 2840"/>
          <p:cNvSpPr/>
          <p:nvPr/>
        </p:nvSpPr>
        <p:spPr>
          <a:xfrm>
            <a:off x="15239880" y="9816120"/>
            <a:ext cx="49467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DRUSAM BERUDA</a:t>
            </a:r>
            <a:endParaRPr b="0" lang="en-US" sz="3000" spc="-1" strike="noStrike">
              <a:solidFill>
                <a:srgbClr val="000000"/>
              </a:solidFill>
              <a:latin typeface="Arial"/>
            </a:endParaRPr>
          </a:p>
        </p:txBody>
      </p:sp>
      <p:sp>
        <p:nvSpPr>
          <p:cNvPr id="5500" name="Shape 2841"/>
          <p:cNvSpPr/>
          <p:nvPr/>
        </p:nvSpPr>
        <p:spPr>
          <a:xfrm>
            <a:off x="15239880" y="7380720"/>
            <a:ext cx="711648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237M</a:t>
            </a:r>
            <a:endParaRPr b="0" lang="en-US" sz="12000" spc="-1" strike="noStrike">
              <a:solidFill>
                <a:srgbClr val="000000"/>
              </a:solidFill>
              <a:latin typeface="Arial"/>
            </a:endParaRPr>
          </a:p>
        </p:txBody>
      </p:sp>
      <p:sp>
        <p:nvSpPr>
          <p:cNvPr id="5501" name="Shape 2842"/>
          <p:cNvSpPr/>
          <p:nvPr/>
        </p:nvSpPr>
        <p:spPr>
          <a:xfrm>
            <a:off x="15239880" y="4965120"/>
            <a:ext cx="7116480" cy="241488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Mese fru dreso nade lesdiacw for sids.</a:t>
            </a:r>
            <a:endParaRPr b="0" lang="en-US" sz="4800" spc="-1" strike="noStrike">
              <a:solidFill>
                <a:srgbClr val="000000"/>
              </a:solidFill>
              <a:latin typeface="Arial"/>
            </a:endParaRPr>
          </a:p>
        </p:txBody>
      </p:sp>
      <p:grpSp>
        <p:nvGrpSpPr>
          <p:cNvPr id="5502" name="Group 2846"/>
          <p:cNvGrpSpPr/>
          <p:nvPr/>
        </p:nvGrpSpPr>
        <p:grpSpPr>
          <a:xfrm>
            <a:off x="4116240" y="3336840"/>
            <a:ext cx="2280600" cy="1996920"/>
            <a:chOff x="4116240" y="3336840"/>
            <a:chExt cx="2280600" cy="1996920"/>
          </a:xfrm>
        </p:grpSpPr>
        <p:sp>
          <p:nvSpPr>
            <p:cNvPr id="5503" name="Shape 2843"/>
            <p:cNvSpPr/>
            <p:nvPr/>
          </p:nvSpPr>
          <p:spPr>
            <a:xfrm>
              <a:off x="4621680" y="4064040"/>
              <a:ext cx="1269720" cy="1269720"/>
            </a:xfrm>
            <a:prstGeom prst="ellipse">
              <a:avLst/>
            </a:prstGeom>
            <a:solidFill>
              <a:srgbClr val="ffffff"/>
            </a:solidFill>
            <a:ln w="38100">
              <a:solidFill>
                <a:srgbClr val="ffffff"/>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504" name="Shape 2844"/>
            <p:cNvSpPr/>
            <p:nvPr/>
          </p:nvSpPr>
          <p:spPr>
            <a:xfrm>
              <a:off x="4116240" y="3336840"/>
              <a:ext cx="2280600" cy="70776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Growth</a:t>
              </a:r>
              <a:endParaRPr b="0" lang="en-US" sz="3000" spc="-1" strike="noStrike">
                <a:solidFill>
                  <a:srgbClr val="000000"/>
                </a:solidFill>
                <a:latin typeface="Arial"/>
              </a:endParaRPr>
            </a:p>
          </p:txBody>
        </p:sp>
        <p:sp>
          <p:nvSpPr>
            <p:cNvPr id="5505" name="Shape 2845"/>
            <p:cNvSpPr/>
            <p:nvPr/>
          </p:nvSpPr>
          <p:spPr>
            <a:xfrm>
              <a:off x="4596480" y="4405680"/>
              <a:ext cx="1320480" cy="58608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24%</a:t>
              </a:r>
              <a:endParaRPr b="0" lang="en-US" sz="3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06" name="Group 2991"/>
          <p:cNvGrpSpPr/>
          <p:nvPr/>
        </p:nvGrpSpPr>
        <p:grpSpPr>
          <a:xfrm>
            <a:off x="1901520" y="2034000"/>
            <a:ext cx="10747800" cy="6953760"/>
            <a:chOff x="1901520" y="2034000"/>
            <a:chExt cx="10747800" cy="6953760"/>
          </a:xfrm>
        </p:grpSpPr>
        <p:sp>
          <p:nvSpPr>
            <p:cNvPr id="5507" name="Shape 2848"/>
            <p:cNvSpPr/>
            <p:nvPr/>
          </p:nvSpPr>
          <p:spPr>
            <a:xfrm>
              <a:off x="6516360" y="6077880"/>
              <a:ext cx="18000" cy="18000"/>
            </a:xfrm>
            <a:custGeom>
              <a:avLst/>
              <a:gdLst>
                <a:gd name="textAreaLeft" fmla="*/ 0 w 18000"/>
                <a:gd name="textAreaRight" fmla="*/ 18360 w 18000"/>
                <a:gd name="textAreaTop" fmla="*/ 0 h 18000"/>
                <a:gd name="textAreaBottom" fmla="*/ 18360 h 1800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424242"/>
            </a:solidFill>
            <a:ln w="12700">
              <a:noFill/>
            </a:ln>
          </p:spPr>
          <p:style>
            <a:lnRef idx="0"/>
            <a:fillRef idx="0"/>
            <a:effectRef idx="0"/>
            <a:fontRef idx="minor"/>
          </p:style>
          <p:txBody>
            <a:bodyPr numCol="1" spcCol="0" lIns="45720" rIns="45720" tIns="9000" bIns="9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08" name="Shape 2849"/>
            <p:cNvSpPr/>
            <p:nvPr/>
          </p:nvSpPr>
          <p:spPr>
            <a:xfrm>
              <a:off x="6428880" y="5774040"/>
              <a:ext cx="2047320" cy="2299680"/>
            </a:xfrm>
            <a:custGeom>
              <a:avLst/>
              <a:gdLst>
                <a:gd name="textAreaLeft" fmla="*/ 0 w 2047320"/>
                <a:gd name="textAreaRight" fmla="*/ 2047680 w 2047320"/>
                <a:gd name="textAreaTop" fmla="*/ 0 h 2299680"/>
                <a:gd name="textAreaBottom" fmla="*/ 2300040 h 229968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2"/>
                    <a:pt x="15854" y="18478"/>
                    <a:pt x="15909" y="18478"/>
                  </a:cubicBezTo>
                  <a:cubicBezTo>
                    <a:pt x="15970" y="18478"/>
                    <a:pt x="16014" y="18512"/>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09" name="Shape 2850"/>
            <p:cNvSpPr/>
            <p:nvPr/>
          </p:nvSpPr>
          <p:spPr>
            <a:xfrm>
              <a:off x="8246160" y="7342560"/>
              <a:ext cx="206280" cy="425520"/>
            </a:xfrm>
            <a:custGeom>
              <a:avLst/>
              <a:gdLst>
                <a:gd name="textAreaLeft" fmla="*/ 0 w 206280"/>
                <a:gd name="textAreaRight" fmla="*/ 206640 w 206280"/>
                <a:gd name="textAreaTop" fmla="*/ 0 h 425520"/>
                <a:gd name="textAreaBottom" fmla="*/ 425880 h 42552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0" name="Shape 2851"/>
            <p:cNvSpPr/>
            <p:nvPr/>
          </p:nvSpPr>
          <p:spPr>
            <a:xfrm>
              <a:off x="6185520" y="6445080"/>
              <a:ext cx="43560" cy="24480"/>
            </a:xfrm>
            <a:custGeom>
              <a:avLst/>
              <a:gdLst>
                <a:gd name="textAreaLeft" fmla="*/ 0 w 43560"/>
                <a:gd name="textAreaRight" fmla="*/ 43920 w 43560"/>
                <a:gd name="textAreaTop" fmla="*/ 0 h 24480"/>
                <a:gd name="textAreaBottom" fmla="*/ 24840 h 2448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d6d6d6"/>
            </a:solidFill>
            <a:ln w="12700">
              <a:noFill/>
            </a:ln>
          </p:spPr>
          <p:style>
            <a:lnRef idx="0"/>
            <a:fillRef idx="0"/>
            <a:effectRef idx="0"/>
            <a:fontRef idx="minor"/>
          </p:style>
          <p:txBody>
            <a:bodyPr numCol="1" spcCol="0" lIns="45720" rIns="45720" tIns="12240" bIns="12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1" name="Shape 2852"/>
            <p:cNvSpPr/>
            <p:nvPr/>
          </p:nvSpPr>
          <p:spPr>
            <a:xfrm>
              <a:off x="4518720" y="6595560"/>
              <a:ext cx="1384200" cy="2392200"/>
            </a:xfrm>
            <a:custGeom>
              <a:avLst/>
              <a:gdLst>
                <a:gd name="textAreaLeft" fmla="*/ 0 w 1384200"/>
                <a:gd name="textAreaRight" fmla="*/ 1384560 w 1384200"/>
                <a:gd name="textAreaTop" fmla="*/ 0 h 2392200"/>
                <a:gd name="textAreaBottom" fmla="*/ 2392560 h 239220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2" name="Shape 2853"/>
            <p:cNvSpPr/>
            <p:nvPr/>
          </p:nvSpPr>
          <p:spPr>
            <a:xfrm>
              <a:off x="5105160" y="8740080"/>
              <a:ext cx="116280" cy="74520"/>
            </a:xfrm>
            <a:custGeom>
              <a:avLst/>
              <a:gdLst>
                <a:gd name="textAreaLeft" fmla="*/ 0 w 116280"/>
                <a:gd name="textAreaRight" fmla="*/ 116640 w 116280"/>
                <a:gd name="textAreaTop" fmla="*/ 0 h 74520"/>
                <a:gd name="textAreaBottom" fmla="*/ 74880 h 7452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d6d6d6"/>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3" name="Shape 2854"/>
            <p:cNvSpPr/>
            <p:nvPr/>
          </p:nvSpPr>
          <p:spPr>
            <a:xfrm>
              <a:off x="4194000" y="6952680"/>
              <a:ext cx="62640" cy="50760"/>
            </a:xfrm>
            <a:custGeom>
              <a:avLst/>
              <a:gdLst>
                <a:gd name="textAreaLeft" fmla="*/ 0 w 62640"/>
                <a:gd name="textAreaRight" fmla="*/ 63000 w 62640"/>
                <a:gd name="textAreaTop" fmla="*/ 0 h 50760"/>
                <a:gd name="textAreaBottom" fmla="*/ 51120 h 50760"/>
              </a:gdLst>
              <a:ahLst/>
              <a:rect l="textAreaLeft" t="textAreaTop" r="textAreaRight" b="textAreaBottom"/>
              <a:pathLst>
                <a:path w="19782" h="20169">
                  <a:moveTo>
                    <a:pt x="5761" y="10066"/>
                  </a:moveTo>
                  <a:cubicBezTo>
                    <a:pt x="5761" y="10485"/>
                    <a:pt x="5761" y="11114"/>
                    <a:pt x="5761" y="11534"/>
                  </a:cubicBezTo>
                  <a:cubicBezTo>
                    <a:pt x="6093" y="12373"/>
                    <a:pt x="6426" y="12792"/>
                    <a:pt x="7090" y="13211"/>
                  </a:cubicBezTo>
                  <a:cubicBezTo>
                    <a:pt x="8918" y="14470"/>
                    <a:pt x="10247" y="16357"/>
                    <a:pt x="11743" y="18035"/>
                  </a:cubicBezTo>
                  <a:cubicBezTo>
                    <a:pt x="13404" y="19293"/>
                    <a:pt x="15232" y="20761"/>
                    <a:pt x="17226" y="19922"/>
                  </a:cubicBezTo>
                  <a:cubicBezTo>
                    <a:pt x="19718" y="18874"/>
                    <a:pt x="20715" y="14050"/>
                    <a:pt x="18721" y="11953"/>
                  </a:cubicBezTo>
                  <a:cubicBezTo>
                    <a:pt x="17890" y="11114"/>
                    <a:pt x="17226" y="10485"/>
                    <a:pt x="16893" y="9646"/>
                  </a:cubicBezTo>
                  <a:cubicBezTo>
                    <a:pt x="16561" y="8388"/>
                    <a:pt x="17226" y="7130"/>
                    <a:pt x="17226" y="5243"/>
                  </a:cubicBezTo>
                  <a:cubicBezTo>
                    <a:pt x="17226" y="2726"/>
                    <a:pt x="15232" y="1258"/>
                    <a:pt x="13072" y="419"/>
                  </a:cubicBezTo>
                  <a:cubicBezTo>
                    <a:pt x="12075" y="0"/>
                    <a:pt x="10580" y="-420"/>
                    <a:pt x="9915" y="839"/>
                  </a:cubicBezTo>
                  <a:cubicBezTo>
                    <a:pt x="9583" y="1258"/>
                    <a:pt x="9583" y="1887"/>
                    <a:pt x="9250" y="2307"/>
                  </a:cubicBezTo>
                  <a:cubicBezTo>
                    <a:pt x="7090" y="6711"/>
                    <a:pt x="1607" y="-839"/>
                    <a:pt x="112" y="3984"/>
                  </a:cubicBezTo>
                  <a:cubicBezTo>
                    <a:pt x="-885" y="8808"/>
                    <a:pt x="5097" y="7549"/>
                    <a:pt x="5761" y="10066"/>
                  </a:cubicBezTo>
                </a:path>
              </a:pathLst>
            </a:custGeom>
            <a:solidFill>
              <a:srgbClr val="d6d6d6"/>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4" name="Shape 2855"/>
            <p:cNvSpPr/>
            <p:nvPr/>
          </p:nvSpPr>
          <p:spPr>
            <a:xfrm>
              <a:off x="1901520" y="5040000"/>
              <a:ext cx="76320" cy="46080"/>
            </a:xfrm>
            <a:custGeom>
              <a:avLst/>
              <a:gdLst>
                <a:gd name="textAreaLeft" fmla="*/ 0 w 76320"/>
                <a:gd name="textAreaRight" fmla="*/ 76680 w 76320"/>
                <a:gd name="textAreaTop" fmla="*/ 0 h 46080"/>
                <a:gd name="textAreaBottom" fmla="*/ 46440 h 46080"/>
              </a:gdLst>
              <a:ahLst/>
              <a:rect l="textAreaLeft" t="textAreaTop" r="textAreaRight" b="textAreaBottom"/>
              <a:pathLst>
                <a:path w="19534" h="17494">
                  <a:moveTo>
                    <a:pt x="5219" y="9567"/>
                  </a:moveTo>
                  <a:cubicBezTo>
                    <a:pt x="3885" y="9963"/>
                    <a:pt x="2419" y="8774"/>
                    <a:pt x="1085" y="9963"/>
                  </a:cubicBezTo>
                  <a:cubicBezTo>
                    <a:pt x="-648" y="11152"/>
                    <a:pt x="-115" y="15314"/>
                    <a:pt x="1352" y="16701"/>
                  </a:cubicBezTo>
                  <a:cubicBezTo>
                    <a:pt x="2685" y="17890"/>
                    <a:pt x="4685" y="17494"/>
                    <a:pt x="6685" y="17097"/>
                  </a:cubicBezTo>
                  <a:cubicBezTo>
                    <a:pt x="9752" y="15710"/>
                    <a:pt x="13085" y="12936"/>
                    <a:pt x="13885" y="8378"/>
                  </a:cubicBezTo>
                  <a:cubicBezTo>
                    <a:pt x="13885" y="7784"/>
                    <a:pt x="13885" y="7784"/>
                    <a:pt x="14152" y="7387"/>
                  </a:cubicBezTo>
                  <a:cubicBezTo>
                    <a:pt x="14419" y="6595"/>
                    <a:pt x="15619" y="6991"/>
                    <a:pt x="16152" y="6991"/>
                  </a:cubicBezTo>
                  <a:cubicBezTo>
                    <a:pt x="20952" y="7784"/>
                    <a:pt x="20685" y="-3710"/>
                    <a:pt x="15085" y="1244"/>
                  </a:cubicBezTo>
                  <a:cubicBezTo>
                    <a:pt x="11619" y="3820"/>
                    <a:pt x="9752" y="8774"/>
                    <a:pt x="5219" y="9567"/>
                  </a:cubicBezTo>
                </a:path>
              </a:pathLst>
            </a:custGeom>
            <a:solidFill>
              <a:srgbClr val="d6d6d6"/>
            </a:solidFill>
            <a:ln w="12700">
              <a:noFill/>
            </a:ln>
          </p:spPr>
          <p:style>
            <a:lnRef idx="0"/>
            <a:fillRef idx="0"/>
            <a:effectRef idx="0"/>
            <a:fontRef idx="minor"/>
          </p:style>
          <p:txBody>
            <a:bodyPr numCol="1" spcCol="0" lIns="45720" rIns="45720" tIns="23040" bIns="23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5" name="Shape 2856"/>
            <p:cNvSpPr/>
            <p:nvPr/>
          </p:nvSpPr>
          <p:spPr>
            <a:xfrm>
              <a:off x="1942920" y="4689000"/>
              <a:ext cx="52200" cy="29160"/>
            </a:xfrm>
            <a:custGeom>
              <a:avLst/>
              <a:gdLst>
                <a:gd name="textAreaLeft" fmla="*/ 0 w 52200"/>
                <a:gd name="textAreaRight" fmla="*/ 52560 w 52200"/>
                <a:gd name="textAreaTop" fmla="*/ 0 h 29160"/>
                <a:gd name="textAreaBottom" fmla="*/ 29520 h 29160"/>
              </a:gdLst>
              <a:ahLst/>
              <a:rect l="textAreaLeft" t="textAreaTop" r="textAreaRight" b="textAreaBottom"/>
              <a:pathLst>
                <a:path w="20682" h="19991">
                  <a:moveTo>
                    <a:pt x="7130" y="14606"/>
                  </a:moveTo>
                  <a:cubicBezTo>
                    <a:pt x="7550" y="13898"/>
                    <a:pt x="7969" y="13190"/>
                    <a:pt x="8388" y="13190"/>
                  </a:cubicBezTo>
                  <a:cubicBezTo>
                    <a:pt x="9227" y="12482"/>
                    <a:pt x="10066" y="14606"/>
                    <a:pt x="10905" y="16023"/>
                  </a:cubicBezTo>
                  <a:cubicBezTo>
                    <a:pt x="12792" y="19918"/>
                    <a:pt x="16777" y="21334"/>
                    <a:pt x="18874" y="18501"/>
                  </a:cubicBezTo>
                  <a:cubicBezTo>
                    <a:pt x="21600" y="15314"/>
                    <a:pt x="21181" y="7170"/>
                    <a:pt x="18035" y="5754"/>
                  </a:cubicBezTo>
                  <a:cubicBezTo>
                    <a:pt x="16777" y="5045"/>
                    <a:pt x="15309" y="5754"/>
                    <a:pt x="14470" y="5045"/>
                  </a:cubicBezTo>
                  <a:cubicBezTo>
                    <a:pt x="12792" y="4337"/>
                    <a:pt x="12373" y="1504"/>
                    <a:pt x="10485" y="442"/>
                  </a:cubicBezTo>
                  <a:cubicBezTo>
                    <a:pt x="9227" y="-266"/>
                    <a:pt x="5662" y="-266"/>
                    <a:pt x="4404" y="1504"/>
                  </a:cubicBezTo>
                  <a:cubicBezTo>
                    <a:pt x="2097" y="2921"/>
                    <a:pt x="419" y="5754"/>
                    <a:pt x="0" y="9649"/>
                  </a:cubicBezTo>
                  <a:cubicBezTo>
                    <a:pt x="3146" y="7878"/>
                    <a:pt x="5243" y="16023"/>
                    <a:pt x="7130" y="14606"/>
                  </a:cubicBezTo>
                </a:path>
              </a:pathLst>
            </a:custGeom>
            <a:solidFill>
              <a:srgbClr val="d6d6d6"/>
            </a:solidFill>
            <a:ln w="12700">
              <a:noFill/>
            </a:ln>
          </p:spPr>
          <p:style>
            <a:lnRef idx="0"/>
            <a:fillRef idx="0"/>
            <a:effectRef idx="0"/>
            <a:fontRef idx="minor"/>
          </p:style>
          <p:txBody>
            <a:bodyPr numCol="1" spcCol="0" lIns="45720" rIns="45720" tIns="14760" bIns="14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6" name="Shape 2857"/>
            <p:cNvSpPr/>
            <p:nvPr/>
          </p:nvSpPr>
          <p:spPr>
            <a:xfrm>
              <a:off x="1922040" y="3580920"/>
              <a:ext cx="3359880" cy="3156480"/>
            </a:xfrm>
            <a:custGeom>
              <a:avLst/>
              <a:gdLst>
                <a:gd name="textAreaLeft" fmla="*/ 0 w 3359880"/>
                <a:gd name="textAreaRight" fmla="*/ 3360240 w 3359880"/>
                <a:gd name="textAreaTop" fmla="*/ 0 h 3156480"/>
                <a:gd name="textAreaBottom" fmla="*/ 3156840 h 315648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3"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7" name="Shape 2858"/>
            <p:cNvSpPr/>
            <p:nvPr/>
          </p:nvSpPr>
          <p:spPr>
            <a:xfrm>
              <a:off x="4417920" y="6237360"/>
              <a:ext cx="296280" cy="114840"/>
            </a:xfrm>
            <a:custGeom>
              <a:avLst/>
              <a:gdLst>
                <a:gd name="textAreaLeft" fmla="*/ 0 w 296280"/>
                <a:gd name="textAreaRight" fmla="*/ 296640 w 296280"/>
                <a:gd name="textAreaTop" fmla="*/ 0 h 114840"/>
                <a:gd name="textAreaBottom" fmla="*/ 115200 h 11484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8" name="Shape 2859"/>
            <p:cNvSpPr/>
            <p:nvPr/>
          </p:nvSpPr>
          <p:spPr>
            <a:xfrm>
              <a:off x="4606920" y="6389640"/>
              <a:ext cx="69480" cy="33840"/>
            </a:xfrm>
            <a:custGeom>
              <a:avLst/>
              <a:gdLst>
                <a:gd name="textAreaLeft" fmla="*/ 0 w 69480"/>
                <a:gd name="textAreaRight" fmla="*/ 69840 w 69480"/>
                <a:gd name="textAreaTop" fmla="*/ 0 h 33840"/>
                <a:gd name="textAreaBottom" fmla="*/ 34200 h 3384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d6d6d6"/>
            </a:solidFill>
            <a:ln w="12700">
              <a:noFill/>
            </a:ln>
          </p:spPr>
          <p:style>
            <a:lnRef idx="0"/>
            <a:fillRef idx="0"/>
            <a:effectRef idx="0"/>
            <a:fontRef idx="minor"/>
          </p:style>
          <p:txBody>
            <a:bodyPr numCol="1" spcCol="0" lIns="45720" rIns="45720" tIns="16920" bIns="16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19" name="Shape 2860"/>
            <p:cNvSpPr/>
            <p:nvPr/>
          </p:nvSpPr>
          <p:spPr>
            <a:xfrm>
              <a:off x="4721760" y="6346440"/>
              <a:ext cx="196920" cy="64080"/>
            </a:xfrm>
            <a:custGeom>
              <a:avLst/>
              <a:gdLst>
                <a:gd name="textAreaLeft" fmla="*/ 0 w 196920"/>
                <a:gd name="textAreaRight" fmla="*/ 197280 w 196920"/>
                <a:gd name="textAreaTop" fmla="*/ 0 h 64080"/>
                <a:gd name="textAreaBottom" fmla="*/ 64440 h 6408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d6d6d6"/>
            </a:solidFill>
            <a:ln w="12700">
              <a:noFill/>
            </a:ln>
          </p:spPr>
          <p:style>
            <a:lnRef idx="0"/>
            <a:fillRef idx="0"/>
            <a:effectRef idx="0"/>
            <a:fontRef idx="minor"/>
          </p:style>
          <p:txBody>
            <a:bodyPr numCol="1" spcCol="0" lIns="45720" rIns="45720" tIns="32040" bIns="32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0" name="Shape 2861"/>
            <p:cNvSpPr/>
            <p:nvPr/>
          </p:nvSpPr>
          <p:spPr>
            <a:xfrm>
              <a:off x="4932000" y="6392520"/>
              <a:ext cx="79560" cy="30240"/>
            </a:xfrm>
            <a:custGeom>
              <a:avLst/>
              <a:gdLst>
                <a:gd name="textAreaLeft" fmla="*/ 0 w 79560"/>
                <a:gd name="textAreaRight" fmla="*/ 79920 w 79560"/>
                <a:gd name="textAreaTop" fmla="*/ 0 h 30240"/>
                <a:gd name="textAreaBottom" fmla="*/ 30600 h 3024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d6d6d6"/>
            </a:solidFill>
            <a:ln w="12700">
              <a:noFill/>
            </a:ln>
          </p:spPr>
          <p:style>
            <a:lnRef idx="0"/>
            <a:fillRef idx="0"/>
            <a:effectRef idx="0"/>
            <a:fontRef idx="minor"/>
          </p:style>
          <p:txBody>
            <a:bodyPr numCol="1" spcCol="0" lIns="45720" rIns="45720" tIns="15120" bIns="15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1" name="Shape 2862"/>
            <p:cNvSpPr/>
            <p:nvPr/>
          </p:nvSpPr>
          <p:spPr>
            <a:xfrm>
              <a:off x="5015160" y="5232960"/>
              <a:ext cx="93240" cy="51120"/>
            </a:xfrm>
            <a:custGeom>
              <a:avLst/>
              <a:gdLst>
                <a:gd name="textAreaLeft" fmla="*/ 0 w 93240"/>
                <a:gd name="textAreaRight" fmla="*/ 93600 w 93240"/>
                <a:gd name="textAreaTop" fmla="*/ 0 h 51120"/>
                <a:gd name="textAreaBottom" fmla="*/ 51480 h 5112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d6d6d6"/>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2" name="Shape 2863"/>
            <p:cNvSpPr/>
            <p:nvPr/>
          </p:nvSpPr>
          <p:spPr>
            <a:xfrm>
              <a:off x="5172120" y="5136120"/>
              <a:ext cx="199080" cy="244800"/>
            </a:xfrm>
            <a:custGeom>
              <a:avLst/>
              <a:gdLst>
                <a:gd name="textAreaLeft" fmla="*/ 0 w 199080"/>
                <a:gd name="textAreaRight" fmla="*/ 199440 w 199080"/>
                <a:gd name="textAreaTop" fmla="*/ 0 h 244800"/>
                <a:gd name="textAreaBottom" fmla="*/ 245160 h 24480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3" name="Shape 2864"/>
            <p:cNvSpPr/>
            <p:nvPr/>
          </p:nvSpPr>
          <p:spPr>
            <a:xfrm>
              <a:off x="4546080" y="4874040"/>
              <a:ext cx="52200" cy="74520"/>
            </a:xfrm>
            <a:custGeom>
              <a:avLst/>
              <a:gdLst>
                <a:gd name="textAreaLeft" fmla="*/ 0 w 52200"/>
                <a:gd name="textAreaRight" fmla="*/ 52560 w 52200"/>
                <a:gd name="textAreaTop" fmla="*/ 0 h 74520"/>
                <a:gd name="textAreaBottom" fmla="*/ 74880 h 7452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d6d6d6"/>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4" name="Shape 2865"/>
            <p:cNvSpPr/>
            <p:nvPr/>
          </p:nvSpPr>
          <p:spPr>
            <a:xfrm>
              <a:off x="4530240" y="4701960"/>
              <a:ext cx="32040" cy="63360"/>
            </a:xfrm>
            <a:custGeom>
              <a:avLst/>
              <a:gdLst>
                <a:gd name="textAreaLeft" fmla="*/ 0 w 32040"/>
                <a:gd name="textAreaRight" fmla="*/ 32400 w 32040"/>
                <a:gd name="textAreaTop" fmla="*/ 0 h 63360"/>
                <a:gd name="textAreaBottom" fmla="*/ 63720 h 6336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d6d6d6"/>
            </a:solidFill>
            <a:ln w="12700">
              <a:noFill/>
            </a:ln>
          </p:spPr>
          <p:style>
            <a:lnRef idx="0"/>
            <a:fillRef idx="0"/>
            <a:effectRef idx="0"/>
            <a:fontRef idx="minor"/>
          </p:style>
          <p:txBody>
            <a:bodyPr numCol="1" spcCol="0" lIns="45720" rIns="45720" tIns="31680" bIns="31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5" name="Shape 2866"/>
            <p:cNvSpPr/>
            <p:nvPr/>
          </p:nvSpPr>
          <p:spPr>
            <a:xfrm>
              <a:off x="4547160" y="4557600"/>
              <a:ext cx="39240" cy="58320"/>
            </a:xfrm>
            <a:custGeom>
              <a:avLst/>
              <a:gdLst>
                <a:gd name="textAreaLeft" fmla="*/ 0 w 39240"/>
                <a:gd name="textAreaRight" fmla="*/ 39600 w 39240"/>
                <a:gd name="textAreaTop" fmla="*/ 0 h 58320"/>
                <a:gd name="textAreaBottom" fmla="*/ 58680 h 5832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d6d6d6"/>
            </a:solidFill>
            <a:ln w="12700">
              <a:noFill/>
            </a:ln>
          </p:spPr>
          <p:style>
            <a:lnRef idx="0"/>
            <a:fillRef idx="0"/>
            <a:effectRef idx="0"/>
            <a:fontRef idx="minor"/>
          </p:style>
          <p:txBody>
            <a:bodyPr numCol="1" spcCol="0" lIns="45720" rIns="45720" tIns="29160" bIns="29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6" name="Shape 2867"/>
            <p:cNvSpPr/>
            <p:nvPr/>
          </p:nvSpPr>
          <p:spPr>
            <a:xfrm>
              <a:off x="4896000" y="4669920"/>
              <a:ext cx="29160" cy="30600"/>
            </a:xfrm>
            <a:custGeom>
              <a:avLst/>
              <a:gdLst>
                <a:gd name="textAreaLeft" fmla="*/ 0 w 29160"/>
                <a:gd name="textAreaRight" fmla="*/ 29520 w 29160"/>
                <a:gd name="textAreaTop" fmla="*/ 0 h 30600"/>
                <a:gd name="textAreaBottom" fmla="*/ 30960 h 3060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d6d6d6"/>
            </a:solidFill>
            <a:ln w="12700">
              <a:noFill/>
            </a:ln>
          </p:spPr>
          <p:style>
            <a:lnRef idx="0"/>
            <a:fillRef idx="0"/>
            <a:effectRef idx="0"/>
            <a:fontRef idx="minor"/>
          </p:style>
          <p:txBody>
            <a:bodyPr numCol="1" spcCol="0" lIns="45720" rIns="45720" tIns="15480" bIns="15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7" name="Shape 2868"/>
            <p:cNvSpPr/>
            <p:nvPr/>
          </p:nvSpPr>
          <p:spPr>
            <a:xfrm>
              <a:off x="4334040" y="4317120"/>
              <a:ext cx="219960" cy="204480"/>
            </a:xfrm>
            <a:custGeom>
              <a:avLst/>
              <a:gdLst>
                <a:gd name="textAreaLeft" fmla="*/ 0 w 219960"/>
                <a:gd name="textAreaRight" fmla="*/ 220320 w 219960"/>
                <a:gd name="textAreaTop" fmla="*/ 0 h 204480"/>
                <a:gd name="textAreaBottom" fmla="*/ 204840 h 20448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8" name="Shape 2869"/>
            <p:cNvSpPr/>
            <p:nvPr/>
          </p:nvSpPr>
          <p:spPr>
            <a:xfrm>
              <a:off x="4427280" y="4519440"/>
              <a:ext cx="76320" cy="60120"/>
            </a:xfrm>
            <a:custGeom>
              <a:avLst/>
              <a:gdLst>
                <a:gd name="textAreaLeft" fmla="*/ 0 w 76320"/>
                <a:gd name="textAreaRight" fmla="*/ 76680 w 76320"/>
                <a:gd name="textAreaTop" fmla="*/ 0 h 60120"/>
                <a:gd name="textAreaBottom" fmla="*/ 60480 h 6012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d6d6d6"/>
            </a:solidFill>
            <a:ln w="12700">
              <a:noFill/>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29" name="Shape 2870"/>
            <p:cNvSpPr/>
            <p:nvPr/>
          </p:nvSpPr>
          <p:spPr>
            <a:xfrm>
              <a:off x="4632840" y="4136760"/>
              <a:ext cx="74520" cy="84600"/>
            </a:xfrm>
            <a:custGeom>
              <a:avLst/>
              <a:gdLst>
                <a:gd name="textAreaLeft" fmla="*/ 0 w 74520"/>
                <a:gd name="textAreaRight" fmla="*/ 74880 w 74520"/>
                <a:gd name="textAreaTop" fmla="*/ 0 h 84600"/>
                <a:gd name="textAreaBottom" fmla="*/ 84960 h 8460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d6d6d6"/>
            </a:solidFill>
            <a:ln w="12700">
              <a:noFill/>
            </a:ln>
          </p:spPr>
          <p:style>
            <a:lnRef idx="0"/>
            <a:fillRef idx="0"/>
            <a:effectRef idx="0"/>
            <a:fontRef idx="minor"/>
          </p:style>
          <p:txBody>
            <a:bodyPr numCol="1" spcCol="0" lIns="45720" rIns="45720" tIns="42480" bIns="42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0" name="Shape 2871"/>
            <p:cNvSpPr/>
            <p:nvPr/>
          </p:nvSpPr>
          <p:spPr>
            <a:xfrm>
              <a:off x="4578120" y="4027680"/>
              <a:ext cx="26640" cy="67320"/>
            </a:xfrm>
            <a:custGeom>
              <a:avLst/>
              <a:gdLst>
                <a:gd name="textAreaLeft" fmla="*/ 0 w 26640"/>
                <a:gd name="textAreaRight" fmla="*/ 27000 w 26640"/>
                <a:gd name="textAreaTop" fmla="*/ 0 h 67320"/>
                <a:gd name="textAreaBottom" fmla="*/ 67680 h 6732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d6d6d6"/>
            </a:solidFill>
            <a:ln w="12700">
              <a:noFill/>
            </a:ln>
          </p:spPr>
          <p:style>
            <a:lnRef idx="0"/>
            <a:fillRef idx="0"/>
            <a:effectRef idx="0"/>
            <a:fontRef idx="minor"/>
          </p:style>
          <p:txBody>
            <a:bodyPr numCol="1" spcCol="0" lIns="45720" rIns="45720" tIns="33840" bIns="33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1" name="Shape 2872"/>
            <p:cNvSpPr/>
            <p:nvPr/>
          </p:nvSpPr>
          <p:spPr>
            <a:xfrm>
              <a:off x="4639680" y="4043880"/>
              <a:ext cx="27360" cy="52200"/>
            </a:xfrm>
            <a:custGeom>
              <a:avLst/>
              <a:gdLst>
                <a:gd name="textAreaLeft" fmla="*/ 0 w 27360"/>
                <a:gd name="textAreaRight" fmla="*/ 27720 w 27360"/>
                <a:gd name="textAreaTop" fmla="*/ 0 h 52200"/>
                <a:gd name="textAreaBottom" fmla="*/ 52560 h 5220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d6d6d6"/>
            </a:solidFill>
            <a:ln w="12700">
              <a:noFill/>
            </a:ln>
          </p:spPr>
          <p:style>
            <a:lnRef idx="0"/>
            <a:fillRef idx="0"/>
            <a:effectRef idx="0"/>
            <a:fontRef idx="minor"/>
          </p:style>
          <p:txBody>
            <a:bodyPr numCol="1" spcCol="0" lIns="45720" rIns="45720" tIns="26280" bIns="26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2" name="Shape 2873"/>
            <p:cNvSpPr/>
            <p:nvPr/>
          </p:nvSpPr>
          <p:spPr>
            <a:xfrm>
              <a:off x="4714200" y="4150800"/>
              <a:ext cx="38520" cy="36000"/>
            </a:xfrm>
            <a:custGeom>
              <a:avLst/>
              <a:gdLst>
                <a:gd name="textAreaLeft" fmla="*/ 0 w 38520"/>
                <a:gd name="textAreaRight" fmla="*/ 38880 w 38520"/>
                <a:gd name="textAreaTop" fmla="*/ 0 h 36000"/>
                <a:gd name="textAreaBottom" fmla="*/ 36360 h 3600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d6d6d6"/>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3" name="Shape 2874"/>
            <p:cNvSpPr/>
            <p:nvPr/>
          </p:nvSpPr>
          <p:spPr>
            <a:xfrm>
              <a:off x="4601880" y="4473720"/>
              <a:ext cx="32760" cy="42840"/>
            </a:xfrm>
            <a:custGeom>
              <a:avLst/>
              <a:gdLst>
                <a:gd name="textAreaLeft" fmla="*/ 0 w 32760"/>
                <a:gd name="textAreaRight" fmla="*/ 33120 w 32760"/>
                <a:gd name="textAreaTop" fmla="*/ 0 h 42840"/>
                <a:gd name="textAreaBottom" fmla="*/ 43200 h 4284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d6d6d6"/>
            </a:solidFill>
            <a:ln w="12700">
              <a:noFill/>
            </a:ln>
          </p:spPr>
          <p:style>
            <a:lnRef idx="0"/>
            <a:fillRef idx="0"/>
            <a:effectRef idx="0"/>
            <a:fontRef idx="minor"/>
          </p:style>
          <p:txBody>
            <a:bodyPr numCol="1" spcCol="0" lIns="45720" rIns="45720" tIns="21600" bIns="21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4" name="Shape 2875"/>
            <p:cNvSpPr/>
            <p:nvPr/>
          </p:nvSpPr>
          <p:spPr>
            <a:xfrm>
              <a:off x="4988520" y="4585680"/>
              <a:ext cx="20880" cy="38520"/>
            </a:xfrm>
            <a:custGeom>
              <a:avLst/>
              <a:gdLst>
                <a:gd name="textAreaLeft" fmla="*/ 0 w 20880"/>
                <a:gd name="textAreaRight" fmla="*/ 21240 w 20880"/>
                <a:gd name="textAreaTop" fmla="*/ 0 h 38520"/>
                <a:gd name="textAreaBottom" fmla="*/ 38880 h 3852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d6d6d6"/>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5" name="Shape 2876"/>
            <p:cNvSpPr/>
            <p:nvPr/>
          </p:nvSpPr>
          <p:spPr>
            <a:xfrm>
              <a:off x="4523400" y="3636360"/>
              <a:ext cx="153720" cy="102600"/>
            </a:xfrm>
            <a:custGeom>
              <a:avLst/>
              <a:gdLst>
                <a:gd name="textAreaLeft" fmla="*/ 0 w 153720"/>
                <a:gd name="textAreaRight" fmla="*/ 154080 w 153720"/>
                <a:gd name="textAreaTop" fmla="*/ 0 h 102600"/>
                <a:gd name="textAreaBottom" fmla="*/ 102960 h 10260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6" name="Shape 2877"/>
            <p:cNvSpPr/>
            <p:nvPr/>
          </p:nvSpPr>
          <p:spPr>
            <a:xfrm>
              <a:off x="2323800" y="4791960"/>
              <a:ext cx="76680" cy="91800"/>
            </a:xfrm>
            <a:custGeom>
              <a:avLst/>
              <a:gdLst>
                <a:gd name="textAreaLeft" fmla="*/ 0 w 76680"/>
                <a:gd name="textAreaRight" fmla="*/ 77040 w 76680"/>
                <a:gd name="textAreaTop" fmla="*/ 0 h 91800"/>
                <a:gd name="textAreaBottom" fmla="*/ 92160 h 9180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7" name="Shape 2878"/>
            <p:cNvSpPr/>
            <p:nvPr/>
          </p:nvSpPr>
          <p:spPr>
            <a:xfrm>
              <a:off x="1999080" y="5000040"/>
              <a:ext cx="36720" cy="33840"/>
            </a:xfrm>
            <a:custGeom>
              <a:avLst/>
              <a:gdLst>
                <a:gd name="textAreaLeft" fmla="*/ 0 w 36720"/>
                <a:gd name="textAreaRight" fmla="*/ 37080 w 36720"/>
                <a:gd name="textAreaTop" fmla="*/ 0 h 33840"/>
                <a:gd name="textAreaBottom" fmla="*/ 34200 h 3384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d6d6d6"/>
            </a:solidFill>
            <a:ln w="12700">
              <a:noFill/>
            </a:ln>
          </p:spPr>
          <p:style>
            <a:lnRef idx="0"/>
            <a:fillRef idx="0"/>
            <a:effectRef idx="0"/>
            <a:fontRef idx="minor"/>
          </p:style>
          <p:txBody>
            <a:bodyPr numCol="1" spcCol="0" lIns="45720" rIns="45720" tIns="16920" bIns="16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8" name="Shape 2879"/>
            <p:cNvSpPr/>
            <p:nvPr/>
          </p:nvSpPr>
          <p:spPr>
            <a:xfrm>
              <a:off x="2967480" y="5030280"/>
              <a:ext cx="65160" cy="112320"/>
            </a:xfrm>
            <a:custGeom>
              <a:avLst/>
              <a:gdLst>
                <a:gd name="textAreaLeft" fmla="*/ 0 w 65160"/>
                <a:gd name="textAreaRight" fmla="*/ 65520 w 65160"/>
                <a:gd name="textAreaTop" fmla="*/ 0 h 112320"/>
                <a:gd name="textAreaBottom" fmla="*/ 112680 h 11232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39" name="Shape 2880"/>
            <p:cNvSpPr/>
            <p:nvPr/>
          </p:nvSpPr>
          <p:spPr>
            <a:xfrm>
              <a:off x="3196080" y="3548160"/>
              <a:ext cx="303840" cy="349920"/>
            </a:xfrm>
            <a:custGeom>
              <a:avLst/>
              <a:gdLst>
                <a:gd name="textAreaLeft" fmla="*/ 0 w 303840"/>
                <a:gd name="textAreaRight" fmla="*/ 304200 w 303840"/>
                <a:gd name="textAreaTop" fmla="*/ 0 h 349920"/>
                <a:gd name="textAreaBottom" fmla="*/ 350280 h 34992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0" name="Shape 2881"/>
            <p:cNvSpPr/>
            <p:nvPr/>
          </p:nvSpPr>
          <p:spPr>
            <a:xfrm>
              <a:off x="3877200" y="3585960"/>
              <a:ext cx="186120" cy="288000"/>
            </a:xfrm>
            <a:custGeom>
              <a:avLst/>
              <a:gdLst>
                <a:gd name="textAreaLeft" fmla="*/ 0 w 186120"/>
                <a:gd name="textAreaRight" fmla="*/ 186480 w 186120"/>
                <a:gd name="textAreaTop" fmla="*/ 0 h 288000"/>
                <a:gd name="textAreaBottom" fmla="*/ 288360 h 28800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1" name="Shape 2882"/>
            <p:cNvSpPr/>
            <p:nvPr/>
          </p:nvSpPr>
          <p:spPr>
            <a:xfrm>
              <a:off x="3930120" y="3912120"/>
              <a:ext cx="30600" cy="53640"/>
            </a:xfrm>
            <a:custGeom>
              <a:avLst/>
              <a:gdLst>
                <a:gd name="textAreaLeft" fmla="*/ 0 w 30600"/>
                <a:gd name="textAreaRight" fmla="*/ 30960 w 30600"/>
                <a:gd name="textAreaTop" fmla="*/ 0 h 53640"/>
                <a:gd name="textAreaBottom" fmla="*/ 54000 h 5364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d6d6d6"/>
            </a:solidFill>
            <a:ln w="12700">
              <a:noFill/>
            </a:ln>
          </p:spPr>
          <p:style>
            <a:lnRef idx="0"/>
            <a:fillRef idx="0"/>
            <a:effectRef idx="0"/>
            <a:fontRef idx="minor"/>
          </p:style>
          <p:txBody>
            <a:bodyPr numCol="1" spcCol="0" lIns="45720" rIns="45720" tIns="27000" bIns="27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2" name="Shape 2883"/>
            <p:cNvSpPr/>
            <p:nvPr/>
          </p:nvSpPr>
          <p:spPr>
            <a:xfrm>
              <a:off x="3262680" y="3164400"/>
              <a:ext cx="229320" cy="235080"/>
            </a:xfrm>
            <a:custGeom>
              <a:avLst/>
              <a:gdLst>
                <a:gd name="textAreaLeft" fmla="*/ 0 w 229320"/>
                <a:gd name="textAreaRight" fmla="*/ 229680 w 229320"/>
                <a:gd name="textAreaTop" fmla="*/ 0 h 235080"/>
                <a:gd name="textAreaBottom" fmla="*/ 235440 h 23508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3" name="Shape 2884"/>
            <p:cNvSpPr/>
            <p:nvPr/>
          </p:nvSpPr>
          <p:spPr>
            <a:xfrm>
              <a:off x="3374280" y="3355200"/>
              <a:ext cx="62640" cy="74520"/>
            </a:xfrm>
            <a:custGeom>
              <a:avLst/>
              <a:gdLst>
                <a:gd name="textAreaLeft" fmla="*/ 0 w 62640"/>
                <a:gd name="textAreaRight" fmla="*/ 63000 w 62640"/>
                <a:gd name="textAreaTop" fmla="*/ 0 h 74520"/>
                <a:gd name="textAreaBottom" fmla="*/ 74880 h 7452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d6d6d6"/>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4" name="Shape 2885"/>
            <p:cNvSpPr/>
            <p:nvPr/>
          </p:nvSpPr>
          <p:spPr>
            <a:xfrm>
              <a:off x="3506040" y="3094920"/>
              <a:ext cx="45000" cy="56880"/>
            </a:xfrm>
            <a:custGeom>
              <a:avLst/>
              <a:gdLst>
                <a:gd name="textAreaLeft" fmla="*/ 0 w 45000"/>
                <a:gd name="textAreaRight" fmla="*/ 45360 w 45000"/>
                <a:gd name="textAreaTop" fmla="*/ 0 h 56880"/>
                <a:gd name="textAreaBottom" fmla="*/ 57240 h 5688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d6d6d6"/>
            </a:solidFill>
            <a:ln w="12700">
              <a:noFill/>
            </a:ln>
          </p:spPr>
          <p:style>
            <a:lnRef idx="0"/>
            <a:fillRef idx="0"/>
            <a:effectRef idx="0"/>
            <a:fontRef idx="minor"/>
          </p:style>
          <p:txBody>
            <a:bodyPr numCol="1" spcCol="0" lIns="45720" rIns="45720" tIns="28440" bIns="28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5" name="Shape 2886"/>
            <p:cNvSpPr/>
            <p:nvPr/>
          </p:nvSpPr>
          <p:spPr>
            <a:xfrm>
              <a:off x="3511080" y="3261960"/>
              <a:ext cx="47880" cy="25560"/>
            </a:xfrm>
            <a:custGeom>
              <a:avLst/>
              <a:gdLst>
                <a:gd name="textAreaLeft" fmla="*/ 0 w 47880"/>
                <a:gd name="textAreaRight" fmla="*/ 48240 w 47880"/>
                <a:gd name="textAreaTop" fmla="*/ 0 h 25560"/>
                <a:gd name="textAreaBottom" fmla="*/ 25920 h 2556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d6d6d6"/>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6" name="Shape 2887"/>
            <p:cNvSpPr/>
            <p:nvPr/>
          </p:nvSpPr>
          <p:spPr>
            <a:xfrm>
              <a:off x="3438720" y="3254040"/>
              <a:ext cx="358200" cy="302400"/>
            </a:xfrm>
            <a:custGeom>
              <a:avLst/>
              <a:gdLst>
                <a:gd name="textAreaLeft" fmla="*/ 0 w 358200"/>
                <a:gd name="textAreaRight" fmla="*/ 358560 w 358200"/>
                <a:gd name="textAreaTop" fmla="*/ 0 h 302400"/>
                <a:gd name="textAreaBottom" fmla="*/ 302760 h 30240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7" name="Shape 2888"/>
            <p:cNvSpPr/>
            <p:nvPr/>
          </p:nvSpPr>
          <p:spPr>
            <a:xfrm>
              <a:off x="3811320" y="3438000"/>
              <a:ext cx="45000" cy="59760"/>
            </a:xfrm>
            <a:custGeom>
              <a:avLst/>
              <a:gdLst>
                <a:gd name="textAreaLeft" fmla="*/ 0 w 45000"/>
                <a:gd name="textAreaRight" fmla="*/ 45360 w 45000"/>
                <a:gd name="textAreaTop" fmla="*/ 0 h 59760"/>
                <a:gd name="textAreaBottom" fmla="*/ 60120 h 5976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d6d6d6"/>
            </a:solidFill>
            <a:ln w="12700">
              <a:noFill/>
            </a:ln>
          </p:spPr>
          <p:style>
            <a:lnRef idx="0"/>
            <a:fillRef idx="0"/>
            <a:effectRef idx="0"/>
            <a:fontRef idx="minor"/>
          </p:style>
          <p:txBody>
            <a:bodyPr numCol="1" spcCol="0" lIns="45720" rIns="45720" tIns="29880" bIns="29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8" name="Shape 2889"/>
            <p:cNvSpPr/>
            <p:nvPr/>
          </p:nvSpPr>
          <p:spPr>
            <a:xfrm>
              <a:off x="3562560" y="3086640"/>
              <a:ext cx="111600" cy="122760"/>
            </a:xfrm>
            <a:custGeom>
              <a:avLst/>
              <a:gdLst>
                <a:gd name="textAreaLeft" fmla="*/ 0 w 111600"/>
                <a:gd name="textAreaRight" fmla="*/ 111960 w 111600"/>
                <a:gd name="textAreaTop" fmla="*/ 0 h 122760"/>
                <a:gd name="textAreaBottom" fmla="*/ 123120 h 12276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49" name="Shape 2890"/>
            <p:cNvSpPr/>
            <p:nvPr/>
          </p:nvSpPr>
          <p:spPr>
            <a:xfrm>
              <a:off x="3535200" y="2988000"/>
              <a:ext cx="144360" cy="89280"/>
            </a:xfrm>
            <a:custGeom>
              <a:avLst/>
              <a:gdLst>
                <a:gd name="textAreaLeft" fmla="*/ 0 w 144360"/>
                <a:gd name="textAreaRight" fmla="*/ 144720 w 144360"/>
                <a:gd name="textAreaTop" fmla="*/ 0 h 89280"/>
                <a:gd name="textAreaBottom" fmla="*/ 89640 h 8928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d6d6d6"/>
            </a:solidFill>
            <a:ln w="12700">
              <a:noFill/>
            </a:ln>
          </p:spPr>
          <p:style>
            <a:lnRef idx="0"/>
            <a:fillRef idx="0"/>
            <a:effectRef idx="0"/>
            <a:fontRef idx="minor"/>
          </p:style>
          <p:txBody>
            <a:bodyPr numCol="1" spcCol="0" lIns="45720" rIns="45720" tIns="44640" bIns="44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0" name="Shape 2891"/>
            <p:cNvSpPr/>
            <p:nvPr/>
          </p:nvSpPr>
          <p:spPr>
            <a:xfrm>
              <a:off x="3787200" y="2901960"/>
              <a:ext cx="207720" cy="237960"/>
            </a:xfrm>
            <a:custGeom>
              <a:avLst/>
              <a:gdLst>
                <a:gd name="textAreaLeft" fmla="*/ 0 w 207720"/>
                <a:gd name="textAreaRight" fmla="*/ 208080 w 207720"/>
                <a:gd name="textAreaTop" fmla="*/ 0 h 237960"/>
                <a:gd name="textAreaBottom" fmla="*/ 238320 h 23796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1" name="Shape 2892"/>
            <p:cNvSpPr/>
            <p:nvPr/>
          </p:nvSpPr>
          <p:spPr>
            <a:xfrm>
              <a:off x="3877920" y="3118320"/>
              <a:ext cx="48960" cy="47520"/>
            </a:xfrm>
            <a:custGeom>
              <a:avLst/>
              <a:gdLst>
                <a:gd name="textAreaLeft" fmla="*/ 0 w 48960"/>
                <a:gd name="textAreaRight" fmla="*/ 49320 w 48960"/>
                <a:gd name="textAreaTop" fmla="*/ 0 h 47520"/>
                <a:gd name="textAreaBottom" fmla="*/ 47880 h 4752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d6d6d6"/>
            </a:solidFill>
            <a:ln w="12700">
              <a:noFill/>
            </a:ln>
          </p:spPr>
          <p:style>
            <a:lnRef idx="0"/>
            <a:fillRef idx="0"/>
            <a:effectRef idx="0"/>
            <a:fontRef idx="minor"/>
          </p:style>
          <p:txBody>
            <a:bodyPr numCol="1" spcCol="0" lIns="45720" rIns="45720" tIns="23760" bIns="23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2" name="Shape 2893"/>
            <p:cNvSpPr/>
            <p:nvPr/>
          </p:nvSpPr>
          <p:spPr>
            <a:xfrm>
              <a:off x="3772080" y="3140280"/>
              <a:ext cx="77760" cy="101160"/>
            </a:xfrm>
            <a:custGeom>
              <a:avLst/>
              <a:gdLst>
                <a:gd name="textAreaLeft" fmla="*/ 0 w 77760"/>
                <a:gd name="textAreaRight" fmla="*/ 78120 w 77760"/>
                <a:gd name="textAreaTop" fmla="*/ 0 h 101160"/>
                <a:gd name="textAreaBottom" fmla="*/ 101520 h 10116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3" name="Shape 2894"/>
            <p:cNvSpPr/>
            <p:nvPr/>
          </p:nvSpPr>
          <p:spPr>
            <a:xfrm>
              <a:off x="3819600" y="3276720"/>
              <a:ext cx="236880" cy="218520"/>
            </a:xfrm>
            <a:custGeom>
              <a:avLst/>
              <a:gdLst>
                <a:gd name="textAreaLeft" fmla="*/ 0 w 236880"/>
                <a:gd name="textAreaRight" fmla="*/ 237240 w 236880"/>
                <a:gd name="textAreaTop" fmla="*/ 0 h 218520"/>
                <a:gd name="textAreaBottom" fmla="*/ 218880 h 21852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4" name="Shape 2895"/>
            <p:cNvSpPr/>
            <p:nvPr/>
          </p:nvSpPr>
          <p:spPr>
            <a:xfrm>
              <a:off x="4049640" y="3417840"/>
              <a:ext cx="99000" cy="127440"/>
            </a:xfrm>
            <a:custGeom>
              <a:avLst/>
              <a:gdLst>
                <a:gd name="textAreaLeft" fmla="*/ 0 w 99000"/>
                <a:gd name="textAreaRight" fmla="*/ 99360 w 99000"/>
                <a:gd name="textAreaTop" fmla="*/ 0 h 127440"/>
                <a:gd name="textAreaBottom" fmla="*/ 127800 h 12744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5" name="Shape 2896"/>
            <p:cNvSpPr/>
            <p:nvPr/>
          </p:nvSpPr>
          <p:spPr>
            <a:xfrm>
              <a:off x="4043880" y="3235320"/>
              <a:ext cx="525240" cy="324360"/>
            </a:xfrm>
            <a:custGeom>
              <a:avLst/>
              <a:gdLst>
                <a:gd name="textAreaLeft" fmla="*/ 0 w 525240"/>
                <a:gd name="textAreaRight" fmla="*/ 525600 w 525240"/>
                <a:gd name="textAreaTop" fmla="*/ 0 h 324360"/>
                <a:gd name="textAreaBottom" fmla="*/ 324720 h 32436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6" name="Shape 2897"/>
            <p:cNvSpPr/>
            <p:nvPr/>
          </p:nvSpPr>
          <p:spPr>
            <a:xfrm>
              <a:off x="3997440" y="2990520"/>
              <a:ext cx="164520" cy="199080"/>
            </a:xfrm>
            <a:custGeom>
              <a:avLst/>
              <a:gdLst>
                <a:gd name="textAreaLeft" fmla="*/ 0 w 164520"/>
                <a:gd name="textAreaRight" fmla="*/ 164880 w 164520"/>
                <a:gd name="textAreaTop" fmla="*/ 0 h 199080"/>
                <a:gd name="textAreaBottom" fmla="*/ 199440 h 19908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7" name="Shape 2898"/>
            <p:cNvSpPr/>
            <p:nvPr/>
          </p:nvSpPr>
          <p:spPr>
            <a:xfrm>
              <a:off x="3940560" y="2755080"/>
              <a:ext cx="65520" cy="110520"/>
            </a:xfrm>
            <a:custGeom>
              <a:avLst/>
              <a:gdLst>
                <a:gd name="textAreaLeft" fmla="*/ 0 w 65520"/>
                <a:gd name="textAreaRight" fmla="*/ 65880 w 65520"/>
                <a:gd name="textAreaTop" fmla="*/ 0 h 110520"/>
                <a:gd name="textAreaBottom" fmla="*/ 110880 h 11052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8" name="Shape 2899"/>
            <p:cNvSpPr/>
            <p:nvPr/>
          </p:nvSpPr>
          <p:spPr>
            <a:xfrm>
              <a:off x="4218120" y="3156480"/>
              <a:ext cx="41040" cy="65160"/>
            </a:xfrm>
            <a:custGeom>
              <a:avLst/>
              <a:gdLst>
                <a:gd name="textAreaLeft" fmla="*/ 0 w 41040"/>
                <a:gd name="textAreaRight" fmla="*/ 41400 w 41040"/>
                <a:gd name="textAreaTop" fmla="*/ 0 h 65160"/>
                <a:gd name="textAreaBottom" fmla="*/ 65520 h 6516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d6d6d6"/>
            </a:solidFill>
            <a:ln w="12700">
              <a:noFill/>
            </a:ln>
          </p:spPr>
          <p:style>
            <a:lnRef idx="0"/>
            <a:fillRef idx="0"/>
            <a:effectRef idx="0"/>
            <a:fontRef idx="minor"/>
          </p:style>
          <p:txBody>
            <a:bodyPr numCol="1" spcCol="0" lIns="45720" rIns="45720" tIns="32760" bIns="32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59" name="Shape 2900"/>
            <p:cNvSpPr/>
            <p:nvPr/>
          </p:nvSpPr>
          <p:spPr>
            <a:xfrm>
              <a:off x="4053600" y="2167200"/>
              <a:ext cx="1052640" cy="1187640"/>
            </a:xfrm>
            <a:custGeom>
              <a:avLst/>
              <a:gdLst>
                <a:gd name="textAreaLeft" fmla="*/ 0 w 1052640"/>
                <a:gd name="textAreaRight" fmla="*/ 1053000 w 1052640"/>
                <a:gd name="textAreaTop" fmla="*/ 0 h 1187640"/>
                <a:gd name="textAreaBottom" fmla="*/ 1188000 h 118764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5" y="428"/>
                  </a:cubicBezTo>
                  <a:cubicBezTo>
                    <a:pt x="16325"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6"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0" name="Shape 2901"/>
            <p:cNvSpPr/>
            <p:nvPr/>
          </p:nvSpPr>
          <p:spPr>
            <a:xfrm>
              <a:off x="4773240" y="2034000"/>
              <a:ext cx="1831320" cy="2687400"/>
            </a:xfrm>
            <a:custGeom>
              <a:avLst/>
              <a:gdLst>
                <a:gd name="textAreaLeft" fmla="*/ 0 w 1831320"/>
                <a:gd name="textAreaRight" fmla="*/ 1831680 w 1831320"/>
                <a:gd name="textAreaTop" fmla="*/ 0 h 2687400"/>
                <a:gd name="textAreaBottom" fmla="*/ 2687760 h 2687400"/>
              </a:gdLst>
              <a:ahLst/>
              <a:rect l="textAreaLeft" t="textAreaTop" r="textAreaRight" b="textAreaBottom"/>
              <a:pathLst>
                <a:path w="21591" h="21592">
                  <a:moveTo>
                    <a:pt x="4094" y="3256"/>
                  </a:moveTo>
                  <a:cubicBezTo>
                    <a:pt x="3964" y="3201"/>
                    <a:pt x="3835" y="3327"/>
                    <a:pt x="3847" y="3424"/>
                  </a:cubicBezTo>
                  <a:cubicBezTo>
                    <a:pt x="3859" y="3521"/>
                    <a:pt x="3952" y="3618"/>
                    <a:pt x="3915" y="3714"/>
                  </a:cubicBezTo>
                  <a:cubicBezTo>
                    <a:pt x="3899" y="3750"/>
                    <a:pt x="3873" y="3783"/>
                    <a:pt x="3848" y="3815"/>
                  </a:cubicBezTo>
                  <a:cubicBezTo>
                    <a:pt x="3822" y="3848"/>
                    <a:pt x="3798" y="3880"/>
                    <a:pt x="3785" y="3916"/>
                  </a:cubicBezTo>
                  <a:cubicBezTo>
                    <a:pt x="3770" y="3950"/>
                    <a:pt x="3788" y="3992"/>
                    <a:pt x="3822" y="4021"/>
                  </a:cubicBezTo>
                  <a:cubicBezTo>
                    <a:pt x="3856" y="4051"/>
                    <a:pt x="3906" y="4068"/>
                    <a:pt x="3952" y="4051"/>
                  </a:cubicBezTo>
                  <a:cubicBezTo>
                    <a:pt x="3875" y="4120"/>
                    <a:pt x="3822" y="4204"/>
                    <a:pt x="3799" y="4293"/>
                  </a:cubicBezTo>
                  <a:cubicBezTo>
                    <a:pt x="3776" y="4382"/>
                    <a:pt x="3782" y="4476"/>
                    <a:pt x="3822" y="4564"/>
                  </a:cubicBezTo>
                  <a:cubicBezTo>
                    <a:pt x="3705" y="4631"/>
                    <a:pt x="3588" y="4438"/>
                    <a:pt x="3434" y="4438"/>
                  </a:cubicBezTo>
                  <a:cubicBezTo>
                    <a:pt x="3372" y="4438"/>
                    <a:pt x="3316" y="4476"/>
                    <a:pt x="3255" y="4492"/>
                  </a:cubicBezTo>
                  <a:cubicBezTo>
                    <a:pt x="3227" y="4505"/>
                    <a:pt x="3187" y="4511"/>
                    <a:pt x="3152" y="4509"/>
                  </a:cubicBezTo>
                  <a:cubicBezTo>
                    <a:pt x="3117" y="4507"/>
                    <a:pt x="3088" y="4497"/>
                    <a:pt x="3082" y="4476"/>
                  </a:cubicBezTo>
                  <a:cubicBezTo>
                    <a:pt x="3057" y="4532"/>
                    <a:pt x="3036" y="4589"/>
                    <a:pt x="3013" y="4646"/>
                  </a:cubicBezTo>
                  <a:cubicBezTo>
                    <a:pt x="2991" y="4703"/>
                    <a:pt x="2968" y="4760"/>
                    <a:pt x="2940" y="4816"/>
                  </a:cubicBezTo>
                  <a:cubicBezTo>
                    <a:pt x="2909" y="4791"/>
                    <a:pt x="2858" y="4780"/>
                    <a:pt x="2804" y="4780"/>
                  </a:cubicBezTo>
                  <a:cubicBezTo>
                    <a:pt x="2749" y="4781"/>
                    <a:pt x="2690" y="4793"/>
                    <a:pt x="2644" y="4816"/>
                  </a:cubicBezTo>
                  <a:cubicBezTo>
                    <a:pt x="2598" y="4837"/>
                    <a:pt x="2565" y="4869"/>
                    <a:pt x="2540" y="4903"/>
                  </a:cubicBezTo>
                  <a:cubicBezTo>
                    <a:pt x="2514" y="4936"/>
                    <a:pt x="2496" y="4972"/>
                    <a:pt x="2477" y="5001"/>
                  </a:cubicBezTo>
                  <a:cubicBezTo>
                    <a:pt x="2450" y="5041"/>
                    <a:pt x="2426" y="5083"/>
                    <a:pt x="2404" y="5126"/>
                  </a:cubicBezTo>
                  <a:cubicBezTo>
                    <a:pt x="2382" y="5168"/>
                    <a:pt x="2360" y="5210"/>
                    <a:pt x="2335" y="5250"/>
                  </a:cubicBezTo>
                  <a:cubicBezTo>
                    <a:pt x="2277" y="5250"/>
                    <a:pt x="2221" y="5250"/>
                    <a:pt x="2166" y="5251"/>
                  </a:cubicBezTo>
                  <a:cubicBezTo>
                    <a:pt x="2110" y="5252"/>
                    <a:pt x="2055" y="5254"/>
                    <a:pt x="1996" y="5258"/>
                  </a:cubicBezTo>
                  <a:cubicBezTo>
                    <a:pt x="2024" y="5321"/>
                    <a:pt x="2008" y="5385"/>
                    <a:pt x="1976" y="5448"/>
                  </a:cubicBezTo>
                  <a:cubicBezTo>
                    <a:pt x="1944" y="5510"/>
                    <a:pt x="1894" y="5571"/>
                    <a:pt x="1854" y="5628"/>
                  </a:cubicBezTo>
                  <a:cubicBezTo>
                    <a:pt x="1817" y="5687"/>
                    <a:pt x="1788" y="5758"/>
                    <a:pt x="1787" y="5823"/>
                  </a:cubicBezTo>
                  <a:cubicBezTo>
                    <a:pt x="1786" y="5889"/>
                    <a:pt x="1814" y="5950"/>
                    <a:pt x="1891" y="5990"/>
                  </a:cubicBezTo>
                  <a:cubicBezTo>
                    <a:pt x="1962" y="5990"/>
                    <a:pt x="2035" y="5995"/>
                    <a:pt x="2106" y="6006"/>
                  </a:cubicBezTo>
                  <a:cubicBezTo>
                    <a:pt x="2177" y="6016"/>
                    <a:pt x="2246" y="6032"/>
                    <a:pt x="2311" y="6053"/>
                  </a:cubicBezTo>
                  <a:cubicBezTo>
                    <a:pt x="2335" y="6036"/>
                    <a:pt x="2360" y="6020"/>
                    <a:pt x="2384" y="6005"/>
                  </a:cubicBezTo>
                  <a:cubicBezTo>
                    <a:pt x="2408" y="5989"/>
                    <a:pt x="2431" y="5973"/>
                    <a:pt x="2453" y="5956"/>
                  </a:cubicBezTo>
                  <a:cubicBezTo>
                    <a:pt x="2554" y="5973"/>
                    <a:pt x="2641" y="6026"/>
                    <a:pt x="2691" y="6092"/>
                  </a:cubicBezTo>
                  <a:cubicBezTo>
                    <a:pt x="2741" y="6158"/>
                    <a:pt x="2755" y="6238"/>
                    <a:pt x="2712" y="6310"/>
                  </a:cubicBezTo>
                  <a:cubicBezTo>
                    <a:pt x="2684" y="6314"/>
                    <a:pt x="2655" y="6318"/>
                    <a:pt x="2625" y="6322"/>
                  </a:cubicBezTo>
                  <a:cubicBezTo>
                    <a:pt x="2596" y="6326"/>
                    <a:pt x="2567" y="6331"/>
                    <a:pt x="2539" y="6335"/>
                  </a:cubicBezTo>
                  <a:cubicBezTo>
                    <a:pt x="2585" y="6362"/>
                    <a:pt x="2632" y="6391"/>
                    <a:pt x="2677" y="6419"/>
                  </a:cubicBezTo>
                  <a:cubicBezTo>
                    <a:pt x="2723" y="6447"/>
                    <a:pt x="2767" y="6476"/>
                    <a:pt x="2811" y="6503"/>
                  </a:cubicBezTo>
                  <a:cubicBezTo>
                    <a:pt x="2761" y="6503"/>
                    <a:pt x="2704" y="6507"/>
                    <a:pt x="2654" y="6520"/>
                  </a:cubicBezTo>
                  <a:cubicBezTo>
                    <a:pt x="2604" y="6534"/>
                    <a:pt x="2561" y="6556"/>
                    <a:pt x="2539" y="6591"/>
                  </a:cubicBezTo>
                  <a:cubicBezTo>
                    <a:pt x="2527" y="6608"/>
                    <a:pt x="2521" y="6626"/>
                    <a:pt x="2517" y="6645"/>
                  </a:cubicBezTo>
                  <a:cubicBezTo>
                    <a:pt x="2514" y="6664"/>
                    <a:pt x="2514" y="6684"/>
                    <a:pt x="2514" y="6705"/>
                  </a:cubicBezTo>
                  <a:cubicBezTo>
                    <a:pt x="2502" y="6865"/>
                    <a:pt x="2379" y="7011"/>
                    <a:pt x="2201" y="7110"/>
                  </a:cubicBezTo>
                  <a:cubicBezTo>
                    <a:pt x="2022" y="7210"/>
                    <a:pt x="1789" y="7262"/>
                    <a:pt x="1558" y="7235"/>
                  </a:cubicBezTo>
                  <a:cubicBezTo>
                    <a:pt x="1546" y="7258"/>
                    <a:pt x="1532" y="7282"/>
                    <a:pt x="1520" y="7307"/>
                  </a:cubicBezTo>
                  <a:cubicBezTo>
                    <a:pt x="1507" y="7331"/>
                    <a:pt x="1496" y="7355"/>
                    <a:pt x="1490" y="7378"/>
                  </a:cubicBezTo>
                  <a:cubicBezTo>
                    <a:pt x="1453" y="7378"/>
                    <a:pt x="1412" y="7374"/>
                    <a:pt x="1370" y="7367"/>
                  </a:cubicBezTo>
                  <a:cubicBezTo>
                    <a:pt x="1328" y="7360"/>
                    <a:pt x="1287" y="7351"/>
                    <a:pt x="1250" y="7340"/>
                  </a:cubicBezTo>
                  <a:cubicBezTo>
                    <a:pt x="1222" y="7408"/>
                    <a:pt x="1182" y="7470"/>
                    <a:pt x="1131" y="7526"/>
                  </a:cubicBezTo>
                  <a:cubicBezTo>
                    <a:pt x="1080" y="7582"/>
                    <a:pt x="1018" y="7633"/>
                    <a:pt x="947" y="7677"/>
                  </a:cubicBezTo>
                  <a:cubicBezTo>
                    <a:pt x="916" y="7673"/>
                    <a:pt x="884" y="7668"/>
                    <a:pt x="853" y="7664"/>
                  </a:cubicBezTo>
                  <a:cubicBezTo>
                    <a:pt x="822" y="7660"/>
                    <a:pt x="793" y="7656"/>
                    <a:pt x="768" y="7651"/>
                  </a:cubicBezTo>
                  <a:cubicBezTo>
                    <a:pt x="651" y="7702"/>
                    <a:pt x="534" y="7765"/>
                    <a:pt x="429" y="7820"/>
                  </a:cubicBezTo>
                  <a:cubicBezTo>
                    <a:pt x="262" y="7908"/>
                    <a:pt x="84" y="7996"/>
                    <a:pt x="16" y="8135"/>
                  </a:cubicBezTo>
                  <a:cubicBezTo>
                    <a:pt x="-9" y="8203"/>
                    <a:pt x="-3" y="8269"/>
                    <a:pt x="18" y="8333"/>
                  </a:cubicBezTo>
                  <a:cubicBezTo>
                    <a:pt x="39" y="8398"/>
                    <a:pt x="74" y="8461"/>
                    <a:pt x="108" y="8522"/>
                  </a:cubicBezTo>
                  <a:cubicBezTo>
                    <a:pt x="145" y="8529"/>
                    <a:pt x="181" y="8534"/>
                    <a:pt x="217" y="8539"/>
                  </a:cubicBezTo>
                  <a:cubicBezTo>
                    <a:pt x="253" y="8543"/>
                    <a:pt x="290" y="8547"/>
                    <a:pt x="330" y="8552"/>
                  </a:cubicBezTo>
                  <a:cubicBezTo>
                    <a:pt x="321" y="8596"/>
                    <a:pt x="307" y="8638"/>
                    <a:pt x="289" y="8678"/>
                  </a:cubicBezTo>
                  <a:cubicBezTo>
                    <a:pt x="272" y="8719"/>
                    <a:pt x="250" y="8758"/>
                    <a:pt x="225" y="8796"/>
                  </a:cubicBezTo>
                  <a:cubicBezTo>
                    <a:pt x="380" y="8840"/>
                    <a:pt x="542" y="8889"/>
                    <a:pt x="681" y="8954"/>
                  </a:cubicBezTo>
                  <a:cubicBezTo>
                    <a:pt x="821" y="9019"/>
                    <a:pt x="938" y="9099"/>
                    <a:pt x="1003" y="9204"/>
                  </a:cubicBezTo>
                  <a:cubicBezTo>
                    <a:pt x="1092" y="9191"/>
                    <a:pt x="1185" y="9177"/>
                    <a:pt x="1278" y="9164"/>
                  </a:cubicBezTo>
                  <a:cubicBezTo>
                    <a:pt x="1371" y="9150"/>
                    <a:pt x="1466" y="9136"/>
                    <a:pt x="1558" y="9124"/>
                  </a:cubicBezTo>
                  <a:cubicBezTo>
                    <a:pt x="1577" y="9107"/>
                    <a:pt x="1600" y="9091"/>
                    <a:pt x="1623" y="9075"/>
                  </a:cubicBezTo>
                  <a:cubicBezTo>
                    <a:pt x="1646" y="9060"/>
                    <a:pt x="1669" y="9044"/>
                    <a:pt x="1688" y="9027"/>
                  </a:cubicBezTo>
                  <a:cubicBezTo>
                    <a:pt x="1811" y="8991"/>
                    <a:pt x="1953" y="8985"/>
                    <a:pt x="2085" y="9005"/>
                  </a:cubicBezTo>
                  <a:cubicBezTo>
                    <a:pt x="2217" y="9025"/>
                    <a:pt x="2339" y="9071"/>
                    <a:pt x="2422" y="9141"/>
                  </a:cubicBezTo>
                  <a:cubicBezTo>
                    <a:pt x="2372" y="9229"/>
                    <a:pt x="2266" y="9303"/>
                    <a:pt x="2138" y="9347"/>
                  </a:cubicBezTo>
                  <a:cubicBezTo>
                    <a:pt x="2010" y="9392"/>
                    <a:pt x="1860" y="9408"/>
                    <a:pt x="1725" y="9380"/>
                  </a:cubicBezTo>
                  <a:cubicBezTo>
                    <a:pt x="1620" y="9364"/>
                    <a:pt x="1521" y="9317"/>
                    <a:pt x="1404" y="9317"/>
                  </a:cubicBezTo>
                  <a:cubicBezTo>
                    <a:pt x="1287" y="9317"/>
                    <a:pt x="1157" y="9372"/>
                    <a:pt x="1182" y="9452"/>
                  </a:cubicBezTo>
                  <a:cubicBezTo>
                    <a:pt x="1077" y="9492"/>
                    <a:pt x="967" y="9520"/>
                    <a:pt x="855" y="9536"/>
                  </a:cubicBezTo>
                  <a:cubicBezTo>
                    <a:pt x="742" y="9553"/>
                    <a:pt x="626" y="9557"/>
                    <a:pt x="509" y="9549"/>
                  </a:cubicBezTo>
                  <a:cubicBezTo>
                    <a:pt x="497" y="9584"/>
                    <a:pt x="488" y="9619"/>
                    <a:pt x="478" y="9653"/>
                  </a:cubicBezTo>
                  <a:cubicBezTo>
                    <a:pt x="468" y="9686"/>
                    <a:pt x="457" y="9719"/>
                    <a:pt x="441" y="9750"/>
                  </a:cubicBezTo>
                  <a:cubicBezTo>
                    <a:pt x="552" y="9786"/>
                    <a:pt x="673" y="9828"/>
                    <a:pt x="770" y="9881"/>
                  </a:cubicBezTo>
                  <a:cubicBezTo>
                    <a:pt x="867" y="9935"/>
                    <a:pt x="941" y="9999"/>
                    <a:pt x="960" y="10079"/>
                  </a:cubicBezTo>
                  <a:cubicBezTo>
                    <a:pt x="1031" y="10047"/>
                    <a:pt x="1115" y="10031"/>
                    <a:pt x="1200" y="10031"/>
                  </a:cubicBezTo>
                  <a:cubicBezTo>
                    <a:pt x="1285" y="10031"/>
                    <a:pt x="1370" y="10047"/>
                    <a:pt x="1441" y="10079"/>
                  </a:cubicBezTo>
                  <a:cubicBezTo>
                    <a:pt x="1388" y="10119"/>
                    <a:pt x="1333" y="10155"/>
                    <a:pt x="1278" y="10192"/>
                  </a:cubicBezTo>
                  <a:cubicBezTo>
                    <a:pt x="1223" y="10229"/>
                    <a:pt x="1169" y="10266"/>
                    <a:pt x="1120" y="10306"/>
                  </a:cubicBezTo>
                  <a:cubicBezTo>
                    <a:pt x="1145" y="10289"/>
                    <a:pt x="1177" y="10293"/>
                    <a:pt x="1205" y="10307"/>
                  </a:cubicBezTo>
                  <a:cubicBezTo>
                    <a:pt x="1233" y="10322"/>
                    <a:pt x="1256" y="10346"/>
                    <a:pt x="1262" y="10369"/>
                  </a:cubicBezTo>
                  <a:cubicBezTo>
                    <a:pt x="1274" y="10411"/>
                    <a:pt x="1250" y="10466"/>
                    <a:pt x="1274" y="10508"/>
                  </a:cubicBezTo>
                  <a:cubicBezTo>
                    <a:pt x="1287" y="10529"/>
                    <a:pt x="1324" y="10546"/>
                    <a:pt x="1348" y="10562"/>
                  </a:cubicBezTo>
                  <a:cubicBezTo>
                    <a:pt x="1512" y="10642"/>
                    <a:pt x="1697" y="10722"/>
                    <a:pt x="1885" y="10765"/>
                  </a:cubicBezTo>
                  <a:cubicBezTo>
                    <a:pt x="2073" y="10808"/>
                    <a:pt x="2265" y="10815"/>
                    <a:pt x="2440" y="10747"/>
                  </a:cubicBezTo>
                  <a:cubicBezTo>
                    <a:pt x="2447" y="10716"/>
                    <a:pt x="2453" y="10683"/>
                    <a:pt x="2459" y="10651"/>
                  </a:cubicBezTo>
                  <a:cubicBezTo>
                    <a:pt x="2465" y="10618"/>
                    <a:pt x="2471" y="10585"/>
                    <a:pt x="2477" y="10554"/>
                  </a:cubicBezTo>
                  <a:cubicBezTo>
                    <a:pt x="2669" y="10520"/>
                    <a:pt x="2798" y="10684"/>
                    <a:pt x="2996" y="10714"/>
                  </a:cubicBezTo>
                  <a:cubicBezTo>
                    <a:pt x="3113" y="10731"/>
                    <a:pt x="3224" y="10676"/>
                    <a:pt x="3341" y="10667"/>
                  </a:cubicBezTo>
                  <a:cubicBezTo>
                    <a:pt x="3412" y="10659"/>
                    <a:pt x="3485" y="10661"/>
                    <a:pt x="3555" y="10669"/>
                  </a:cubicBezTo>
                  <a:cubicBezTo>
                    <a:pt x="3625" y="10677"/>
                    <a:pt x="3693" y="10691"/>
                    <a:pt x="3754" y="10705"/>
                  </a:cubicBezTo>
                  <a:cubicBezTo>
                    <a:pt x="4248" y="10802"/>
                    <a:pt x="4803" y="10916"/>
                    <a:pt x="5050" y="11223"/>
                  </a:cubicBezTo>
                  <a:cubicBezTo>
                    <a:pt x="5192" y="11399"/>
                    <a:pt x="5204" y="11614"/>
                    <a:pt x="5223" y="11807"/>
                  </a:cubicBezTo>
                  <a:cubicBezTo>
                    <a:pt x="5306" y="11833"/>
                    <a:pt x="5377" y="11879"/>
                    <a:pt x="5423" y="11934"/>
                  </a:cubicBezTo>
                  <a:cubicBezTo>
                    <a:pt x="5470" y="11989"/>
                    <a:pt x="5491" y="12054"/>
                    <a:pt x="5476" y="12115"/>
                  </a:cubicBezTo>
                  <a:cubicBezTo>
                    <a:pt x="5463" y="12211"/>
                    <a:pt x="5426" y="12300"/>
                    <a:pt x="5426" y="12396"/>
                  </a:cubicBezTo>
                  <a:cubicBezTo>
                    <a:pt x="5426" y="12426"/>
                    <a:pt x="5426" y="12459"/>
                    <a:pt x="5451" y="12476"/>
                  </a:cubicBezTo>
                  <a:cubicBezTo>
                    <a:pt x="5457" y="12485"/>
                    <a:pt x="5471" y="12494"/>
                    <a:pt x="5485" y="12505"/>
                  </a:cubicBezTo>
                  <a:cubicBezTo>
                    <a:pt x="5499" y="12515"/>
                    <a:pt x="5513" y="12527"/>
                    <a:pt x="5519" y="12539"/>
                  </a:cubicBezTo>
                  <a:cubicBezTo>
                    <a:pt x="5531" y="12560"/>
                    <a:pt x="5524" y="12581"/>
                    <a:pt x="5510" y="12602"/>
                  </a:cubicBezTo>
                  <a:cubicBezTo>
                    <a:pt x="5496" y="12622"/>
                    <a:pt x="5476" y="12642"/>
                    <a:pt x="5463" y="12661"/>
                  </a:cubicBezTo>
                  <a:cubicBezTo>
                    <a:pt x="5430" y="12703"/>
                    <a:pt x="5423" y="12757"/>
                    <a:pt x="5440" y="12808"/>
                  </a:cubicBezTo>
                  <a:cubicBezTo>
                    <a:pt x="5457" y="12858"/>
                    <a:pt x="5497" y="12905"/>
                    <a:pt x="5556" y="12935"/>
                  </a:cubicBezTo>
                  <a:cubicBezTo>
                    <a:pt x="5575" y="12945"/>
                    <a:pt x="5598" y="12955"/>
                    <a:pt x="5619" y="12966"/>
                  </a:cubicBezTo>
                  <a:cubicBezTo>
                    <a:pt x="5641" y="12977"/>
                    <a:pt x="5661" y="12989"/>
                    <a:pt x="5673" y="13006"/>
                  </a:cubicBezTo>
                  <a:cubicBezTo>
                    <a:pt x="5686" y="13032"/>
                    <a:pt x="5686" y="13061"/>
                    <a:pt x="5686" y="13086"/>
                  </a:cubicBezTo>
                  <a:cubicBezTo>
                    <a:pt x="5686" y="13351"/>
                    <a:pt x="5908" y="13608"/>
                    <a:pt x="5828" y="13873"/>
                  </a:cubicBezTo>
                  <a:cubicBezTo>
                    <a:pt x="5803" y="13953"/>
                    <a:pt x="5766" y="14058"/>
                    <a:pt x="5865" y="14100"/>
                  </a:cubicBezTo>
                  <a:cubicBezTo>
                    <a:pt x="5908" y="14117"/>
                    <a:pt x="5969" y="14129"/>
                    <a:pt x="5994" y="14163"/>
                  </a:cubicBezTo>
                  <a:cubicBezTo>
                    <a:pt x="6013" y="14188"/>
                    <a:pt x="5994" y="14218"/>
                    <a:pt x="5994" y="14243"/>
                  </a:cubicBezTo>
                  <a:cubicBezTo>
                    <a:pt x="5957" y="14340"/>
                    <a:pt x="5965" y="14443"/>
                    <a:pt x="6010" y="14538"/>
                  </a:cubicBezTo>
                  <a:cubicBezTo>
                    <a:pt x="6056" y="14634"/>
                    <a:pt x="6139" y="14722"/>
                    <a:pt x="6253" y="14790"/>
                  </a:cubicBezTo>
                  <a:cubicBezTo>
                    <a:pt x="6269" y="14798"/>
                    <a:pt x="6283" y="14805"/>
                    <a:pt x="6297" y="14809"/>
                  </a:cubicBezTo>
                  <a:cubicBezTo>
                    <a:pt x="6312" y="14813"/>
                    <a:pt x="6327" y="14815"/>
                    <a:pt x="6346" y="14815"/>
                  </a:cubicBezTo>
                  <a:cubicBezTo>
                    <a:pt x="6380" y="14819"/>
                    <a:pt x="6409" y="14809"/>
                    <a:pt x="6433" y="14791"/>
                  </a:cubicBezTo>
                  <a:cubicBezTo>
                    <a:pt x="6457" y="14774"/>
                    <a:pt x="6475" y="14750"/>
                    <a:pt x="6488" y="14727"/>
                  </a:cubicBezTo>
                  <a:cubicBezTo>
                    <a:pt x="6494" y="14706"/>
                    <a:pt x="6497" y="14684"/>
                    <a:pt x="6500" y="14660"/>
                  </a:cubicBezTo>
                  <a:cubicBezTo>
                    <a:pt x="6503" y="14637"/>
                    <a:pt x="6506" y="14613"/>
                    <a:pt x="6512" y="14588"/>
                  </a:cubicBezTo>
                  <a:cubicBezTo>
                    <a:pt x="6559" y="14573"/>
                    <a:pt x="6611" y="14584"/>
                    <a:pt x="6647" y="14606"/>
                  </a:cubicBezTo>
                  <a:cubicBezTo>
                    <a:pt x="6684" y="14628"/>
                    <a:pt x="6704" y="14661"/>
                    <a:pt x="6685" y="14693"/>
                  </a:cubicBezTo>
                  <a:cubicBezTo>
                    <a:pt x="6670" y="14714"/>
                    <a:pt x="6640" y="14732"/>
                    <a:pt x="6613" y="14751"/>
                  </a:cubicBezTo>
                  <a:cubicBezTo>
                    <a:pt x="6586" y="14770"/>
                    <a:pt x="6562" y="14790"/>
                    <a:pt x="6556" y="14815"/>
                  </a:cubicBezTo>
                  <a:cubicBezTo>
                    <a:pt x="6525" y="14878"/>
                    <a:pt x="6617" y="14941"/>
                    <a:pt x="6722" y="14941"/>
                  </a:cubicBezTo>
                  <a:cubicBezTo>
                    <a:pt x="6827" y="14941"/>
                    <a:pt x="6901" y="14903"/>
                    <a:pt x="6981" y="14861"/>
                  </a:cubicBezTo>
                  <a:cubicBezTo>
                    <a:pt x="7098" y="14887"/>
                    <a:pt x="7185" y="14953"/>
                    <a:pt x="7230" y="15031"/>
                  </a:cubicBezTo>
                  <a:cubicBezTo>
                    <a:pt x="7274" y="15109"/>
                    <a:pt x="7277" y="15200"/>
                    <a:pt x="7228" y="15274"/>
                  </a:cubicBezTo>
                  <a:cubicBezTo>
                    <a:pt x="7111" y="15261"/>
                    <a:pt x="6997" y="15239"/>
                    <a:pt x="6888" y="15209"/>
                  </a:cubicBezTo>
                  <a:cubicBezTo>
                    <a:pt x="6779" y="15179"/>
                    <a:pt x="6676" y="15141"/>
                    <a:pt x="6580" y="15097"/>
                  </a:cubicBezTo>
                  <a:cubicBezTo>
                    <a:pt x="6451" y="15088"/>
                    <a:pt x="6383" y="15202"/>
                    <a:pt x="6383" y="15290"/>
                  </a:cubicBezTo>
                  <a:cubicBezTo>
                    <a:pt x="6383" y="15379"/>
                    <a:pt x="6426" y="15488"/>
                    <a:pt x="6321" y="15547"/>
                  </a:cubicBezTo>
                  <a:cubicBezTo>
                    <a:pt x="6266" y="15585"/>
                    <a:pt x="6167" y="15602"/>
                    <a:pt x="6167" y="15652"/>
                  </a:cubicBezTo>
                  <a:cubicBezTo>
                    <a:pt x="6167" y="15682"/>
                    <a:pt x="6192" y="15707"/>
                    <a:pt x="6204" y="15724"/>
                  </a:cubicBezTo>
                  <a:cubicBezTo>
                    <a:pt x="6256" y="15772"/>
                    <a:pt x="6295" y="15826"/>
                    <a:pt x="6322" y="15882"/>
                  </a:cubicBezTo>
                  <a:cubicBezTo>
                    <a:pt x="6349" y="15939"/>
                    <a:pt x="6364" y="15999"/>
                    <a:pt x="6370" y="16060"/>
                  </a:cubicBezTo>
                  <a:cubicBezTo>
                    <a:pt x="6370" y="16077"/>
                    <a:pt x="6370" y="16095"/>
                    <a:pt x="6374" y="16112"/>
                  </a:cubicBezTo>
                  <a:cubicBezTo>
                    <a:pt x="6377" y="16128"/>
                    <a:pt x="6383" y="16144"/>
                    <a:pt x="6395" y="16157"/>
                  </a:cubicBezTo>
                  <a:cubicBezTo>
                    <a:pt x="6429" y="16197"/>
                    <a:pt x="6491" y="16213"/>
                    <a:pt x="6560" y="16214"/>
                  </a:cubicBezTo>
                  <a:cubicBezTo>
                    <a:pt x="6630" y="16215"/>
                    <a:pt x="6707" y="16201"/>
                    <a:pt x="6771" y="16182"/>
                  </a:cubicBezTo>
                  <a:cubicBezTo>
                    <a:pt x="6812" y="16174"/>
                    <a:pt x="6850" y="16163"/>
                    <a:pt x="6890" y="16153"/>
                  </a:cubicBezTo>
                  <a:cubicBezTo>
                    <a:pt x="6930" y="16142"/>
                    <a:pt x="6972" y="16132"/>
                    <a:pt x="7018" y="16123"/>
                  </a:cubicBezTo>
                  <a:cubicBezTo>
                    <a:pt x="7037" y="16119"/>
                    <a:pt x="7057" y="16112"/>
                    <a:pt x="7074" y="16102"/>
                  </a:cubicBezTo>
                  <a:cubicBezTo>
                    <a:pt x="7091" y="16093"/>
                    <a:pt x="7105" y="16081"/>
                    <a:pt x="7111" y="16069"/>
                  </a:cubicBezTo>
                  <a:cubicBezTo>
                    <a:pt x="7117" y="16052"/>
                    <a:pt x="7108" y="16034"/>
                    <a:pt x="7100" y="16017"/>
                  </a:cubicBezTo>
                  <a:cubicBezTo>
                    <a:pt x="7092" y="16000"/>
                    <a:pt x="7086" y="15984"/>
                    <a:pt x="7098" y="15972"/>
                  </a:cubicBezTo>
                  <a:cubicBezTo>
                    <a:pt x="7105" y="15963"/>
                    <a:pt x="7114" y="15959"/>
                    <a:pt x="7125" y="15957"/>
                  </a:cubicBezTo>
                  <a:cubicBezTo>
                    <a:pt x="7135" y="15955"/>
                    <a:pt x="7148" y="15955"/>
                    <a:pt x="7160" y="15955"/>
                  </a:cubicBezTo>
                  <a:cubicBezTo>
                    <a:pt x="7206" y="15951"/>
                    <a:pt x="7248" y="15947"/>
                    <a:pt x="7290" y="15942"/>
                  </a:cubicBezTo>
                  <a:cubicBezTo>
                    <a:pt x="7331" y="15937"/>
                    <a:pt x="7373" y="15932"/>
                    <a:pt x="7419" y="15926"/>
                  </a:cubicBezTo>
                  <a:cubicBezTo>
                    <a:pt x="7459" y="15997"/>
                    <a:pt x="7495" y="16077"/>
                    <a:pt x="7501" y="16152"/>
                  </a:cubicBezTo>
                  <a:cubicBezTo>
                    <a:pt x="7507" y="16227"/>
                    <a:pt x="7484" y="16298"/>
                    <a:pt x="7407" y="16350"/>
                  </a:cubicBezTo>
                  <a:cubicBezTo>
                    <a:pt x="7459" y="16342"/>
                    <a:pt x="7498" y="16366"/>
                    <a:pt x="7517" y="16400"/>
                  </a:cubicBezTo>
                  <a:cubicBezTo>
                    <a:pt x="7537" y="16435"/>
                    <a:pt x="7537" y="16479"/>
                    <a:pt x="7512" y="16510"/>
                  </a:cubicBezTo>
                  <a:cubicBezTo>
                    <a:pt x="7484" y="16542"/>
                    <a:pt x="7449" y="16570"/>
                    <a:pt x="7417" y="16600"/>
                  </a:cubicBezTo>
                  <a:cubicBezTo>
                    <a:pt x="7385" y="16629"/>
                    <a:pt x="7358" y="16660"/>
                    <a:pt x="7345" y="16695"/>
                  </a:cubicBezTo>
                  <a:cubicBezTo>
                    <a:pt x="7280" y="16683"/>
                    <a:pt x="7213" y="16669"/>
                    <a:pt x="7145" y="16655"/>
                  </a:cubicBezTo>
                  <a:cubicBezTo>
                    <a:pt x="7077" y="16642"/>
                    <a:pt x="7009" y="16628"/>
                    <a:pt x="6944" y="16615"/>
                  </a:cubicBezTo>
                  <a:cubicBezTo>
                    <a:pt x="6910" y="16611"/>
                    <a:pt x="6876" y="16605"/>
                    <a:pt x="6845" y="16602"/>
                  </a:cubicBezTo>
                  <a:cubicBezTo>
                    <a:pt x="6813" y="16599"/>
                    <a:pt x="6784" y="16599"/>
                    <a:pt x="6759" y="16607"/>
                  </a:cubicBezTo>
                  <a:cubicBezTo>
                    <a:pt x="6731" y="16615"/>
                    <a:pt x="6708" y="16635"/>
                    <a:pt x="6699" y="16656"/>
                  </a:cubicBezTo>
                  <a:cubicBezTo>
                    <a:pt x="6690" y="16677"/>
                    <a:pt x="6694" y="16700"/>
                    <a:pt x="6722" y="16712"/>
                  </a:cubicBezTo>
                  <a:cubicBezTo>
                    <a:pt x="6747" y="16704"/>
                    <a:pt x="6768" y="16710"/>
                    <a:pt x="6782" y="16723"/>
                  </a:cubicBezTo>
                  <a:cubicBezTo>
                    <a:pt x="6796" y="16736"/>
                    <a:pt x="6802" y="16756"/>
                    <a:pt x="6796" y="16775"/>
                  </a:cubicBezTo>
                  <a:cubicBezTo>
                    <a:pt x="6787" y="16792"/>
                    <a:pt x="6775" y="16808"/>
                    <a:pt x="6761" y="16823"/>
                  </a:cubicBezTo>
                  <a:cubicBezTo>
                    <a:pt x="6748" y="16837"/>
                    <a:pt x="6734" y="16851"/>
                    <a:pt x="6722" y="16864"/>
                  </a:cubicBezTo>
                  <a:cubicBezTo>
                    <a:pt x="6676" y="16908"/>
                    <a:pt x="6656" y="16960"/>
                    <a:pt x="6653" y="17015"/>
                  </a:cubicBezTo>
                  <a:cubicBezTo>
                    <a:pt x="6650" y="17070"/>
                    <a:pt x="6663" y="17126"/>
                    <a:pt x="6685" y="17179"/>
                  </a:cubicBezTo>
                  <a:cubicBezTo>
                    <a:pt x="6710" y="17291"/>
                    <a:pt x="6687" y="17410"/>
                    <a:pt x="6669" y="17529"/>
                  </a:cubicBezTo>
                  <a:cubicBezTo>
                    <a:pt x="6651" y="17647"/>
                    <a:pt x="6639" y="17764"/>
                    <a:pt x="6685" y="17869"/>
                  </a:cubicBezTo>
                  <a:cubicBezTo>
                    <a:pt x="6716" y="17957"/>
                    <a:pt x="6767" y="18048"/>
                    <a:pt x="6798" y="18137"/>
                  </a:cubicBezTo>
                  <a:cubicBezTo>
                    <a:pt x="6830" y="18226"/>
                    <a:pt x="6842" y="18315"/>
                    <a:pt x="6796" y="18399"/>
                  </a:cubicBezTo>
                  <a:cubicBezTo>
                    <a:pt x="6824" y="18407"/>
                    <a:pt x="6847" y="18414"/>
                    <a:pt x="6870" y="18420"/>
                  </a:cubicBezTo>
                  <a:cubicBezTo>
                    <a:pt x="6893" y="18426"/>
                    <a:pt x="6916" y="18433"/>
                    <a:pt x="6944" y="18441"/>
                  </a:cubicBezTo>
                  <a:cubicBezTo>
                    <a:pt x="6994" y="18592"/>
                    <a:pt x="7048" y="18741"/>
                    <a:pt x="7102" y="18888"/>
                  </a:cubicBezTo>
                  <a:cubicBezTo>
                    <a:pt x="7157" y="19036"/>
                    <a:pt x="7213" y="19183"/>
                    <a:pt x="7265" y="19333"/>
                  </a:cubicBezTo>
                  <a:cubicBezTo>
                    <a:pt x="7271" y="19352"/>
                    <a:pt x="7277" y="19372"/>
                    <a:pt x="7287" y="19390"/>
                  </a:cubicBezTo>
                  <a:cubicBezTo>
                    <a:pt x="7296" y="19408"/>
                    <a:pt x="7308" y="19425"/>
                    <a:pt x="7327" y="19438"/>
                  </a:cubicBezTo>
                  <a:cubicBezTo>
                    <a:pt x="7342" y="19453"/>
                    <a:pt x="7362" y="19462"/>
                    <a:pt x="7380" y="19472"/>
                  </a:cubicBezTo>
                  <a:cubicBezTo>
                    <a:pt x="7398" y="19482"/>
                    <a:pt x="7413" y="19493"/>
                    <a:pt x="7419" y="19509"/>
                  </a:cubicBezTo>
                  <a:cubicBezTo>
                    <a:pt x="7444" y="19547"/>
                    <a:pt x="7432" y="19581"/>
                    <a:pt x="7432" y="19615"/>
                  </a:cubicBezTo>
                  <a:cubicBezTo>
                    <a:pt x="7432" y="19749"/>
                    <a:pt x="7617" y="19846"/>
                    <a:pt x="7734" y="19959"/>
                  </a:cubicBezTo>
                  <a:cubicBezTo>
                    <a:pt x="7796" y="20023"/>
                    <a:pt x="7837" y="20091"/>
                    <a:pt x="7870" y="20162"/>
                  </a:cubicBezTo>
                  <a:cubicBezTo>
                    <a:pt x="7902" y="20234"/>
                    <a:pt x="7925" y="20309"/>
                    <a:pt x="7950" y="20384"/>
                  </a:cubicBezTo>
                  <a:cubicBezTo>
                    <a:pt x="7984" y="20384"/>
                    <a:pt x="8013" y="20386"/>
                    <a:pt x="8042" y="20389"/>
                  </a:cubicBezTo>
                  <a:cubicBezTo>
                    <a:pt x="8072" y="20391"/>
                    <a:pt x="8101" y="20393"/>
                    <a:pt x="8135" y="20393"/>
                  </a:cubicBezTo>
                  <a:cubicBezTo>
                    <a:pt x="8101" y="20441"/>
                    <a:pt x="8107" y="20492"/>
                    <a:pt x="8133" y="20541"/>
                  </a:cubicBezTo>
                  <a:cubicBezTo>
                    <a:pt x="8158" y="20590"/>
                    <a:pt x="8203" y="20639"/>
                    <a:pt x="8246" y="20683"/>
                  </a:cubicBezTo>
                  <a:cubicBezTo>
                    <a:pt x="8292" y="20723"/>
                    <a:pt x="8339" y="20763"/>
                    <a:pt x="8383" y="20803"/>
                  </a:cubicBezTo>
                  <a:cubicBezTo>
                    <a:pt x="8426" y="20843"/>
                    <a:pt x="8468" y="20883"/>
                    <a:pt x="8505" y="20923"/>
                  </a:cubicBezTo>
                  <a:cubicBezTo>
                    <a:pt x="8564" y="20975"/>
                    <a:pt x="8629" y="21032"/>
                    <a:pt x="8705" y="21077"/>
                  </a:cubicBezTo>
                  <a:cubicBezTo>
                    <a:pt x="8781" y="21122"/>
                    <a:pt x="8869" y="21154"/>
                    <a:pt x="8974" y="21158"/>
                  </a:cubicBezTo>
                  <a:cubicBezTo>
                    <a:pt x="8999" y="21133"/>
                    <a:pt x="9043" y="21127"/>
                    <a:pt x="9092" y="21130"/>
                  </a:cubicBezTo>
                  <a:cubicBezTo>
                    <a:pt x="9141" y="21133"/>
                    <a:pt x="9193" y="21146"/>
                    <a:pt x="9233" y="21158"/>
                  </a:cubicBezTo>
                  <a:cubicBezTo>
                    <a:pt x="9329" y="21194"/>
                    <a:pt x="9429" y="21232"/>
                    <a:pt x="9523" y="21275"/>
                  </a:cubicBezTo>
                  <a:cubicBezTo>
                    <a:pt x="9617" y="21318"/>
                    <a:pt x="9705" y="21367"/>
                    <a:pt x="9776" y="21423"/>
                  </a:cubicBezTo>
                  <a:cubicBezTo>
                    <a:pt x="9869" y="21495"/>
                    <a:pt x="9943" y="21583"/>
                    <a:pt x="10072" y="21592"/>
                  </a:cubicBezTo>
                  <a:cubicBezTo>
                    <a:pt x="10202" y="21600"/>
                    <a:pt x="10313" y="21533"/>
                    <a:pt x="10356" y="21444"/>
                  </a:cubicBezTo>
                  <a:cubicBezTo>
                    <a:pt x="10375" y="21400"/>
                    <a:pt x="10378" y="21356"/>
                    <a:pt x="10373" y="21312"/>
                  </a:cubicBezTo>
                  <a:cubicBezTo>
                    <a:pt x="10368" y="21268"/>
                    <a:pt x="10356" y="21224"/>
                    <a:pt x="10344" y="21179"/>
                  </a:cubicBezTo>
                  <a:cubicBezTo>
                    <a:pt x="10365" y="21175"/>
                    <a:pt x="10385" y="21173"/>
                    <a:pt x="10406" y="21170"/>
                  </a:cubicBezTo>
                  <a:cubicBezTo>
                    <a:pt x="10427" y="21168"/>
                    <a:pt x="10449" y="21165"/>
                    <a:pt x="10473" y="21158"/>
                  </a:cubicBezTo>
                  <a:cubicBezTo>
                    <a:pt x="10479" y="21106"/>
                    <a:pt x="10483" y="21051"/>
                    <a:pt x="10486" y="20996"/>
                  </a:cubicBezTo>
                  <a:cubicBezTo>
                    <a:pt x="10489" y="20942"/>
                    <a:pt x="10492" y="20887"/>
                    <a:pt x="10498" y="20834"/>
                  </a:cubicBezTo>
                  <a:cubicBezTo>
                    <a:pt x="10507" y="20816"/>
                    <a:pt x="10515" y="20796"/>
                    <a:pt x="10522" y="20776"/>
                  </a:cubicBezTo>
                  <a:cubicBezTo>
                    <a:pt x="10529" y="20757"/>
                    <a:pt x="10535" y="20738"/>
                    <a:pt x="10541" y="20721"/>
                  </a:cubicBezTo>
                  <a:cubicBezTo>
                    <a:pt x="10566" y="20637"/>
                    <a:pt x="10587" y="20546"/>
                    <a:pt x="10582" y="20462"/>
                  </a:cubicBezTo>
                  <a:cubicBezTo>
                    <a:pt x="10577" y="20378"/>
                    <a:pt x="10544" y="20300"/>
                    <a:pt x="10461" y="20241"/>
                  </a:cubicBezTo>
                  <a:cubicBezTo>
                    <a:pt x="10479" y="20237"/>
                    <a:pt x="10499" y="20231"/>
                    <a:pt x="10520" y="20224"/>
                  </a:cubicBezTo>
                  <a:cubicBezTo>
                    <a:pt x="10540" y="20218"/>
                    <a:pt x="10560" y="20212"/>
                    <a:pt x="10578" y="20208"/>
                  </a:cubicBezTo>
                  <a:cubicBezTo>
                    <a:pt x="10646" y="20145"/>
                    <a:pt x="10708" y="20086"/>
                    <a:pt x="10769" y="20031"/>
                  </a:cubicBezTo>
                  <a:cubicBezTo>
                    <a:pt x="11047" y="19791"/>
                    <a:pt x="11331" y="19493"/>
                    <a:pt x="11201" y="19202"/>
                  </a:cubicBezTo>
                  <a:cubicBezTo>
                    <a:pt x="11220" y="19207"/>
                    <a:pt x="11238" y="19209"/>
                    <a:pt x="11258" y="19211"/>
                  </a:cubicBezTo>
                  <a:cubicBezTo>
                    <a:pt x="11277" y="19213"/>
                    <a:pt x="11297" y="19215"/>
                    <a:pt x="11319" y="19219"/>
                  </a:cubicBezTo>
                  <a:cubicBezTo>
                    <a:pt x="11312" y="19158"/>
                    <a:pt x="11292" y="19096"/>
                    <a:pt x="11262" y="19037"/>
                  </a:cubicBezTo>
                  <a:cubicBezTo>
                    <a:pt x="11232" y="18978"/>
                    <a:pt x="11192" y="18923"/>
                    <a:pt x="11146" y="18874"/>
                  </a:cubicBezTo>
                  <a:cubicBezTo>
                    <a:pt x="11192" y="18883"/>
                    <a:pt x="11241" y="18892"/>
                    <a:pt x="11290" y="18895"/>
                  </a:cubicBezTo>
                  <a:cubicBezTo>
                    <a:pt x="11339" y="18897"/>
                    <a:pt x="11386" y="18893"/>
                    <a:pt x="11430" y="18874"/>
                  </a:cubicBezTo>
                  <a:cubicBezTo>
                    <a:pt x="11522" y="18838"/>
                    <a:pt x="11554" y="18760"/>
                    <a:pt x="11590" y="18686"/>
                  </a:cubicBezTo>
                  <a:cubicBezTo>
                    <a:pt x="11625" y="18612"/>
                    <a:pt x="11664" y="18544"/>
                    <a:pt x="11769" y="18529"/>
                  </a:cubicBezTo>
                  <a:cubicBezTo>
                    <a:pt x="11794" y="18548"/>
                    <a:pt x="11820" y="18564"/>
                    <a:pt x="11848" y="18577"/>
                  </a:cubicBezTo>
                  <a:cubicBezTo>
                    <a:pt x="11875" y="18590"/>
                    <a:pt x="11905" y="18601"/>
                    <a:pt x="11935" y="18609"/>
                  </a:cubicBezTo>
                  <a:cubicBezTo>
                    <a:pt x="11942" y="18561"/>
                    <a:pt x="11959" y="18515"/>
                    <a:pt x="11983" y="18470"/>
                  </a:cubicBezTo>
                  <a:cubicBezTo>
                    <a:pt x="12008" y="18426"/>
                    <a:pt x="12040" y="18384"/>
                    <a:pt x="12077" y="18344"/>
                  </a:cubicBezTo>
                  <a:cubicBezTo>
                    <a:pt x="12105" y="18384"/>
                    <a:pt x="12125" y="18426"/>
                    <a:pt x="12138" y="18470"/>
                  </a:cubicBezTo>
                  <a:cubicBezTo>
                    <a:pt x="12151" y="18515"/>
                    <a:pt x="12158" y="18561"/>
                    <a:pt x="12158" y="18609"/>
                  </a:cubicBezTo>
                  <a:cubicBezTo>
                    <a:pt x="12176" y="18584"/>
                    <a:pt x="12218" y="18578"/>
                    <a:pt x="12266" y="18578"/>
                  </a:cubicBezTo>
                  <a:cubicBezTo>
                    <a:pt x="12315" y="18578"/>
                    <a:pt x="12370" y="18584"/>
                    <a:pt x="12417" y="18584"/>
                  </a:cubicBezTo>
                  <a:cubicBezTo>
                    <a:pt x="12506" y="18588"/>
                    <a:pt x="12586" y="18555"/>
                    <a:pt x="12637" y="18506"/>
                  </a:cubicBezTo>
                  <a:cubicBezTo>
                    <a:pt x="12687" y="18457"/>
                    <a:pt x="12707" y="18393"/>
                    <a:pt x="12676" y="18336"/>
                  </a:cubicBezTo>
                  <a:cubicBezTo>
                    <a:pt x="12707" y="18327"/>
                    <a:pt x="12745" y="18323"/>
                    <a:pt x="12785" y="18325"/>
                  </a:cubicBezTo>
                  <a:cubicBezTo>
                    <a:pt x="12824" y="18327"/>
                    <a:pt x="12864" y="18336"/>
                    <a:pt x="12898" y="18353"/>
                  </a:cubicBezTo>
                  <a:cubicBezTo>
                    <a:pt x="12935" y="18304"/>
                    <a:pt x="12983" y="18263"/>
                    <a:pt x="13039" y="18229"/>
                  </a:cubicBezTo>
                  <a:cubicBezTo>
                    <a:pt x="13095" y="18194"/>
                    <a:pt x="13160" y="18165"/>
                    <a:pt x="13231" y="18142"/>
                  </a:cubicBezTo>
                  <a:cubicBezTo>
                    <a:pt x="13250" y="18138"/>
                    <a:pt x="13270" y="18132"/>
                    <a:pt x="13288" y="18124"/>
                  </a:cubicBezTo>
                  <a:cubicBezTo>
                    <a:pt x="13307" y="18117"/>
                    <a:pt x="13324" y="18109"/>
                    <a:pt x="13336" y="18100"/>
                  </a:cubicBezTo>
                  <a:cubicBezTo>
                    <a:pt x="13348" y="18090"/>
                    <a:pt x="13358" y="18078"/>
                    <a:pt x="13365" y="18066"/>
                  </a:cubicBezTo>
                  <a:cubicBezTo>
                    <a:pt x="13373" y="18054"/>
                    <a:pt x="13379" y="18041"/>
                    <a:pt x="13385" y="18029"/>
                  </a:cubicBezTo>
                  <a:cubicBezTo>
                    <a:pt x="13441" y="17924"/>
                    <a:pt x="13527" y="17827"/>
                    <a:pt x="13644" y="17755"/>
                  </a:cubicBezTo>
                  <a:cubicBezTo>
                    <a:pt x="13842" y="17638"/>
                    <a:pt x="13959" y="17482"/>
                    <a:pt x="14021" y="17305"/>
                  </a:cubicBezTo>
                  <a:cubicBezTo>
                    <a:pt x="14113" y="17356"/>
                    <a:pt x="14268" y="17288"/>
                    <a:pt x="14280" y="17200"/>
                  </a:cubicBezTo>
                  <a:cubicBezTo>
                    <a:pt x="14292" y="17112"/>
                    <a:pt x="14200" y="17040"/>
                    <a:pt x="14126" y="16969"/>
                  </a:cubicBezTo>
                  <a:cubicBezTo>
                    <a:pt x="14086" y="16933"/>
                    <a:pt x="14047" y="16897"/>
                    <a:pt x="14020" y="16859"/>
                  </a:cubicBezTo>
                  <a:cubicBezTo>
                    <a:pt x="13993" y="16821"/>
                    <a:pt x="13978" y="16782"/>
                    <a:pt x="13984" y="16737"/>
                  </a:cubicBezTo>
                  <a:cubicBezTo>
                    <a:pt x="14002" y="16761"/>
                    <a:pt x="14032" y="16778"/>
                    <a:pt x="14064" y="16789"/>
                  </a:cubicBezTo>
                  <a:cubicBezTo>
                    <a:pt x="14096" y="16800"/>
                    <a:pt x="14132" y="16805"/>
                    <a:pt x="14163" y="16800"/>
                  </a:cubicBezTo>
                  <a:cubicBezTo>
                    <a:pt x="14181" y="16868"/>
                    <a:pt x="14234" y="16930"/>
                    <a:pt x="14305" y="16978"/>
                  </a:cubicBezTo>
                  <a:cubicBezTo>
                    <a:pt x="14377" y="17027"/>
                    <a:pt x="14468" y="17061"/>
                    <a:pt x="14564" y="17074"/>
                  </a:cubicBezTo>
                  <a:cubicBezTo>
                    <a:pt x="14699" y="17049"/>
                    <a:pt x="14832" y="17020"/>
                    <a:pt x="14965" y="16991"/>
                  </a:cubicBezTo>
                  <a:cubicBezTo>
                    <a:pt x="15097" y="16962"/>
                    <a:pt x="15230" y="16933"/>
                    <a:pt x="15366" y="16906"/>
                  </a:cubicBezTo>
                  <a:cubicBezTo>
                    <a:pt x="15390" y="16872"/>
                    <a:pt x="15409" y="16855"/>
                    <a:pt x="15458" y="16855"/>
                  </a:cubicBezTo>
                  <a:cubicBezTo>
                    <a:pt x="15495" y="16855"/>
                    <a:pt x="15532" y="16864"/>
                    <a:pt x="15576" y="16855"/>
                  </a:cubicBezTo>
                  <a:cubicBezTo>
                    <a:pt x="15588" y="16851"/>
                    <a:pt x="15600" y="16847"/>
                    <a:pt x="15613" y="16841"/>
                  </a:cubicBezTo>
                  <a:cubicBezTo>
                    <a:pt x="15625" y="16835"/>
                    <a:pt x="15637" y="16828"/>
                    <a:pt x="15650" y="16817"/>
                  </a:cubicBezTo>
                  <a:cubicBezTo>
                    <a:pt x="15754" y="16756"/>
                    <a:pt x="15869" y="16700"/>
                    <a:pt x="15989" y="16649"/>
                  </a:cubicBezTo>
                  <a:cubicBezTo>
                    <a:pt x="16109" y="16599"/>
                    <a:pt x="16236" y="16554"/>
                    <a:pt x="16365" y="16519"/>
                  </a:cubicBezTo>
                  <a:cubicBezTo>
                    <a:pt x="16390" y="16510"/>
                    <a:pt x="16419" y="16504"/>
                    <a:pt x="16450" y="16501"/>
                  </a:cubicBezTo>
                  <a:cubicBezTo>
                    <a:pt x="16481" y="16498"/>
                    <a:pt x="16513" y="16498"/>
                    <a:pt x="16544" y="16502"/>
                  </a:cubicBezTo>
                  <a:cubicBezTo>
                    <a:pt x="16634" y="16409"/>
                    <a:pt x="16740" y="16323"/>
                    <a:pt x="16858" y="16245"/>
                  </a:cubicBezTo>
                  <a:cubicBezTo>
                    <a:pt x="16976" y="16166"/>
                    <a:pt x="17106" y="16096"/>
                    <a:pt x="17241" y="16035"/>
                  </a:cubicBezTo>
                  <a:cubicBezTo>
                    <a:pt x="17288" y="16016"/>
                    <a:pt x="17334" y="15998"/>
                    <a:pt x="17376" y="15977"/>
                  </a:cubicBezTo>
                  <a:cubicBezTo>
                    <a:pt x="17419" y="15956"/>
                    <a:pt x="17457" y="15932"/>
                    <a:pt x="17488" y="15900"/>
                  </a:cubicBezTo>
                  <a:cubicBezTo>
                    <a:pt x="17510" y="15888"/>
                    <a:pt x="17527" y="15873"/>
                    <a:pt x="17543" y="15859"/>
                  </a:cubicBezTo>
                  <a:cubicBezTo>
                    <a:pt x="17559" y="15845"/>
                    <a:pt x="17575" y="15831"/>
                    <a:pt x="17593" y="15820"/>
                  </a:cubicBezTo>
                  <a:cubicBezTo>
                    <a:pt x="17618" y="15808"/>
                    <a:pt x="17647" y="15799"/>
                    <a:pt x="17678" y="15791"/>
                  </a:cubicBezTo>
                  <a:cubicBezTo>
                    <a:pt x="17709" y="15783"/>
                    <a:pt x="17741" y="15774"/>
                    <a:pt x="17772" y="15761"/>
                  </a:cubicBezTo>
                  <a:cubicBezTo>
                    <a:pt x="17800" y="15747"/>
                    <a:pt x="17826" y="15727"/>
                    <a:pt x="17841" y="15706"/>
                  </a:cubicBezTo>
                  <a:cubicBezTo>
                    <a:pt x="17855" y="15685"/>
                    <a:pt x="17858" y="15663"/>
                    <a:pt x="17840" y="15644"/>
                  </a:cubicBezTo>
                  <a:cubicBezTo>
                    <a:pt x="17661" y="15644"/>
                    <a:pt x="17463" y="15635"/>
                    <a:pt x="17285" y="15635"/>
                  </a:cubicBezTo>
                  <a:cubicBezTo>
                    <a:pt x="17217" y="15635"/>
                    <a:pt x="17155" y="15635"/>
                    <a:pt x="17099" y="15610"/>
                  </a:cubicBezTo>
                  <a:cubicBezTo>
                    <a:pt x="17075" y="15602"/>
                    <a:pt x="17050" y="15586"/>
                    <a:pt x="17033" y="15567"/>
                  </a:cubicBezTo>
                  <a:cubicBezTo>
                    <a:pt x="17016" y="15548"/>
                    <a:pt x="17007" y="15526"/>
                    <a:pt x="17013" y="15505"/>
                  </a:cubicBezTo>
                  <a:cubicBezTo>
                    <a:pt x="16896" y="15492"/>
                    <a:pt x="16772" y="15481"/>
                    <a:pt x="16652" y="15482"/>
                  </a:cubicBezTo>
                  <a:cubicBezTo>
                    <a:pt x="16532" y="15484"/>
                    <a:pt x="16415" y="15499"/>
                    <a:pt x="16310" y="15539"/>
                  </a:cubicBezTo>
                  <a:cubicBezTo>
                    <a:pt x="16267" y="15557"/>
                    <a:pt x="16225" y="15577"/>
                    <a:pt x="16183" y="15598"/>
                  </a:cubicBezTo>
                  <a:cubicBezTo>
                    <a:pt x="16140" y="15620"/>
                    <a:pt x="16097" y="15642"/>
                    <a:pt x="16051" y="15665"/>
                  </a:cubicBezTo>
                  <a:cubicBezTo>
                    <a:pt x="15949" y="15713"/>
                    <a:pt x="15836" y="15748"/>
                    <a:pt x="15718" y="15769"/>
                  </a:cubicBezTo>
                  <a:cubicBezTo>
                    <a:pt x="15600" y="15791"/>
                    <a:pt x="15477" y="15799"/>
                    <a:pt x="15353" y="15795"/>
                  </a:cubicBezTo>
                  <a:cubicBezTo>
                    <a:pt x="15347" y="15795"/>
                    <a:pt x="15341" y="15795"/>
                    <a:pt x="15335" y="15794"/>
                  </a:cubicBezTo>
                  <a:cubicBezTo>
                    <a:pt x="15329" y="15793"/>
                    <a:pt x="15323" y="15791"/>
                    <a:pt x="15316" y="15787"/>
                  </a:cubicBezTo>
                  <a:cubicBezTo>
                    <a:pt x="15289" y="15778"/>
                    <a:pt x="15287" y="15758"/>
                    <a:pt x="15301" y="15737"/>
                  </a:cubicBezTo>
                  <a:cubicBezTo>
                    <a:pt x="15315" y="15716"/>
                    <a:pt x="15344" y="15694"/>
                    <a:pt x="15378" y="15682"/>
                  </a:cubicBezTo>
                  <a:cubicBezTo>
                    <a:pt x="15440" y="15652"/>
                    <a:pt x="15520" y="15635"/>
                    <a:pt x="15600" y="15618"/>
                  </a:cubicBezTo>
                  <a:cubicBezTo>
                    <a:pt x="15680" y="15602"/>
                    <a:pt x="15754" y="15593"/>
                    <a:pt x="15835" y="15564"/>
                  </a:cubicBezTo>
                  <a:cubicBezTo>
                    <a:pt x="15866" y="15551"/>
                    <a:pt x="15895" y="15536"/>
                    <a:pt x="15924" y="15522"/>
                  </a:cubicBezTo>
                  <a:cubicBezTo>
                    <a:pt x="15953" y="15507"/>
                    <a:pt x="15983" y="15492"/>
                    <a:pt x="16014" y="15480"/>
                  </a:cubicBezTo>
                  <a:cubicBezTo>
                    <a:pt x="16143" y="15417"/>
                    <a:pt x="16322" y="15408"/>
                    <a:pt x="16452" y="15345"/>
                  </a:cubicBezTo>
                  <a:cubicBezTo>
                    <a:pt x="16581" y="15282"/>
                    <a:pt x="16698" y="15152"/>
                    <a:pt x="16581" y="15072"/>
                  </a:cubicBezTo>
                  <a:cubicBezTo>
                    <a:pt x="16495" y="15000"/>
                    <a:pt x="16322" y="15030"/>
                    <a:pt x="16193" y="15063"/>
                  </a:cubicBezTo>
                  <a:cubicBezTo>
                    <a:pt x="16063" y="15097"/>
                    <a:pt x="15921" y="15152"/>
                    <a:pt x="15792" y="15114"/>
                  </a:cubicBezTo>
                  <a:cubicBezTo>
                    <a:pt x="15785" y="15080"/>
                    <a:pt x="15818" y="15059"/>
                    <a:pt x="15863" y="15046"/>
                  </a:cubicBezTo>
                  <a:cubicBezTo>
                    <a:pt x="15909" y="15034"/>
                    <a:pt x="15967" y="15030"/>
                    <a:pt x="16014" y="15030"/>
                  </a:cubicBezTo>
                  <a:cubicBezTo>
                    <a:pt x="16085" y="15023"/>
                    <a:pt x="16156" y="15012"/>
                    <a:pt x="16222" y="14994"/>
                  </a:cubicBezTo>
                  <a:cubicBezTo>
                    <a:pt x="16288" y="14976"/>
                    <a:pt x="16350" y="14952"/>
                    <a:pt x="16402" y="14920"/>
                  </a:cubicBezTo>
                  <a:cubicBezTo>
                    <a:pt x="16442" y="14899"/>
                    <a:pt x="16481" y="14869"/>
                    <a:pt x="16502" y="14837"/>
                  </a:cubicBezTo>
                  <a:cubicBezTo>
                    <a:pt x="16523" y="14805"/>
                    <a:pt x="16526" y="14771"/>
                    <a:pt x="16495" y="14744"/>
                  </a:cubicBezTo>
                  <a:cubicBezTo>
                    <a:pt x="16452" y="14710"/>
                    <a:pt x="16378" y="14710"/>
                    <a:pt x="16310" y="14710"/>
                  </a:cubicBezTo>
                  <a:cubicBezTo>
                    <a:pt x="16211" y="14710"/>
                    <a:pt x="16106" y="14710"/>
                    <a:pt x="16001" y="14685"/>
                  </a:cubicBezTo>
                  <a:cubicBezTo>
                    <a:pt x="15955" y="14670"/>
                    <a:pt x="15910" y="14648"/>
                    <a:pt x="15879" y="14620"/>
                  </a:cubicBezTo>
                  <a:cubicBezTo>
                    <a:pt x="15847" y="14593"/>
                    <a:pt x="15829" y="14561"/>
                    <a:pt x="15835" y="14525"/>
                  </a:cubicBezTo>
                  <a:cubicBezTo>
                    <a:pt x="15782" y="14508"/>
                    <a:pt x="15730" y="14490"/>
                    <a:pt x="15681" y="14469"/>
                  </a:cubicBezTo>
                  <a:cubicBezTo>
                    <a:pt x="15633" y="14447"/>
                    <a:pt x="15588" y="14422"/>
                    <a:pt x="15551" y="14390"/>
                  </a:cubicBezTo>
                  <a:cubicBezTo>
                    <a:pt x="15511" y="14361"/>
                    <a:pt x="15488" y="14322"/>
                    <a:pt x="15482" y="14282"/>
                  </a:cubicBezTo>
                  <a:cubicBezTo>
                    <a:pt x="15477" y="14243"/>
                    <a:pt x="15489" y="14203"/>
                    <a:pt x="15520" y="14171"/>
                  </a:cubicBezTo>
                  <a:cubicBezTo>
                    <a:pt x="15591" y="14232"/>
                    <a:pt x="15667" y="14290"/>
                    <a:pt x="15745" y="14346"/>
                  </a:cubicBezTo>
                  <a:cubicBezTo>
                    <a:pt x="15824" y="14402"/>
                    <a:pt x="15906" y="14455"/>
                    <a:pt x="15989" y="14508"/>
                  </a:cubicBezTo>
                  <a:cubicBezTo>
                    <a:pt x="16020" y="14525"/>
                    <a:pt x="16049" y="14543"/>
                    <a:pt x="16080" y="14558"/>
                  </a:cubicBezTo>
                  <a:cubicBezTo>
                    <a:pt x="16111" y="14574"/>
                    <a:pt x="16143" y="14588"/>
                    <a:pt x="16180" y="14596"/>
                  </a:cubicBezTo>
                  <a:cubicBezTo>
                    <a:pt x="16285" y="14622"/>
                    <a:pt x="16402" y="14622"/>
                    <a:pt x="16507" y="14630"/>
                  </a:cubicBezTo>
                  <a:cubicBezTo>
                    <a:pt x="16612" y="14638"/>
                    <a:pt x="16723" y="14676"/>
                    <a:pt x="16766" y="14744"/>
                  </a:cubicBezTo>
                  <a:cubicBezTo>
                    <a:pt x="16772" y="14758"/>
                    <a:pt x="16776" y="14774"/>
                    <a:pt x="16779" y="14789"/>
                  </a:cubicBezTo>
                  <a:cubicBezTo>
                    <a:pt x="16782" y="14805"/>
                    <a:pt x="16785" y="14819"/>
                    <a:pt x="16791" y="14832"/>
                  </a:cubicBezTo>
                  <a:cubicBezTo>
                    <a:pt x="16803" y="14855"/>
                    <a:pt x="16823" y="14875"/>
                    <a:pt x="16845" y="14894"/>
                  </a:cubicBezTo>
                  <a:cubicBezTo>
                    <a:pt x="16867" y="14913"/>
                    <a:pt x="16890" y="14931"/>
                    <a:pt x="16908" y="14950"/>
                  </a:cubicBezTo>
                  <a:cubicBezTo>
                    <a:pt x="16979" y="15002"/>
                    <a:pt x="17041" y="15063"/>
                    <a:pt x="17089" y="15130"/>
                  </a:cubicBezTo>
                  <a:cubicBezTo>
                    <a:pt x="17138" y="15197"/>
                    <a:pt x="17174" y="15269"/>
                    <a:pt x="17192" y="15345"/>
                  </a:cubicBezTo>
                  <a:cubicBezTo>
                    <a:pt x="17217" y="15372"/>
                    <a:pt x="17258" y="15388"/>
                    <a:pt x="17307" y="15396"/>
                  </a:cubicBezTo>
                  <a:cubicBezTo>
                    <a:pt x="17356" y="15404"/>
                    <a:pt x="17411" y="15404"/>
                    <a:pt x="17463" y="15400"/>
                  </a:cubicBezTo>
                  <a:cubicBezTo>
                    <a:pt x="17556" y="15391"/>
                    <a:pt x="17655" y="15362"/>
                    <a:pt x="17747" y="15362"/>
                  </a:cubicBezTo>
                  <a:cubicBezTo>
                    <a:pt x="17834" y="15362"/>
                    <a:pt x="17969" y="15370"/>
                    <a:pt x="17982" y="15311"/>
                  </a:cubicBezTo>
                  <a:cubicBezTo>
                    <a:pt x="17994" y="15271"/>
                    <a:pt x="17949" y="15247"/>
                    <a:pt x="17898" y="15223"/>
                  </a:cubicBezTo>
                  <a:cubicBezTo>
                    <a:pt x="17846" y="15199"/>
                    <a:pt x="17787" y="15175"/>
                    <a:pt x="17772" y="15135"/>
                  </a:cubicBezTo>
                  <a:cubicBezTo>
                    <a:pt x="17753" y="15091"/>
                    <a:pt x="17797" y="15046"/>
                    <a:pt x="17834" y="15004"/>
                  </a:cubicBezTo>
                  <a:cubicBezTo>
                    <a:pt x="17872" y="14962"/>
                    <a:pt x="17905" y="14922"/>
                    <a:pt x="17865" y="14887"/>
                  </a:cubicBezTo>
                  <a:cubicBezTo>
                    <a:pt x="17824" y="14855"/>
                    <a:pt x="17801" y="14813"/>
                    <a:pt x="17797" y="14770"/>
                  </a:cubicBezTo>
                  <a:cubicBezTo>
                    <a:pt x="17792" y="14727"/>
                    <a:pt x="17806" y="14683"/>
                    <a:pt x="17840" y="14647"/>
                  </a:cubicBezTo>
                  <a:cubicBezTo>
                    <a:pt x="17812" y="14651"/>
                    <a:pt x="17789" y="14642"/>
                    <a:pt x="17771" y="14626"/>
                  </a:cubicBezTo>
                  <a:cubicBezTo>
                    <a:pt x="17753" y="14610"/>
                    <a:pt x="17741" y="14588"/>
                    <a:pt x="17735" y="14567"/>
                  </a:cubicBezTo>
                  <a:cubicBezTo>
                    <a:pt x="17729" y="14544"/>
                    <a:pt x="17729" y="14525"/>
                    <a:pt x="17726" y="14507"/>
                  </a:cubicBezTo>
                  <a:cubicBezTo>
                    <a:pt x="17723" y="14489"/>
                    <a:pt x="17716" y="14472"/>
                    <a:pt x="17698" y="14453"/>
                  </a:cubicBezTo>
                  <a:cubicBezTo>
                    <a:pt x="17664" y="14432"/>
                    <a:pt x="17612" y="14430"/>
                    <a:pt x="17563" y="14425"/>
                  </a:cubicBezTo>
                  <a:cubicBezTo>
                    <a:pt x="17514" y="14421"/>
                    <a:pt x="17470" y="14413"/>
                    <a:pt x="17451" y="14382"/>
                  </a:cubicBezTo>
                  <a:cubicBezTo>
                    <a:pt x="17426" y="14357"/>
                    <a:pt x="17451" y="14310"/>
                    <a:pt x="17414" y="14285"/>
                  </a:cubicBezTo>
                  <a:cubicBezTo>
                    <a:pt x="17383" y="14264"/>
                    <a:pt x="17346" y="14277"/>
                    <a:pt x="17322" y="14277"/>
                  </a:cubicBezTo>
                  <a:cubicBezTo>
                    <a:pt x="17155" y="14277"/>
                    <a:pt x="17050" y="14146"/>
                    <a:pt x="16982" y="14028"/>
                  </a:cubicBezTo>
                  <a:cubicBezTo>
                    <a:pt x="16958" y="13986"/>
                    <a:pt x="16933" y="13953"/>
                    <a:pt x="16896" y="13923"/>
                  </a:cubicBezTo>
                  <a:cubicBezTo>
                    <a:pt x="16868" y="13911"/>
                    <a:pt x="16836" y="13904"/>
                    <a:pt x="16805" y="13905"/>
                  </a:cubicBezTo>
                  <a:cubicBezTo>
                    <a:pt x="16774" y="13906"/>
                    <a:pt x="16745" y="13915"/>
                    <a:pt x="16723" y="13932"/>
                  </a:cubicBezTo>
                  <a:cubicBezTo>
                    <a:pt x="16717" y="13942"/>
                    <a:pt x="16711" y="13954"/>
                    <a:pt x="16706" y="13965"/>
                  </a:cubicBezTo>
                  <a:cubicBezTo>
                    <a:pt x="16702" y="13976"/>
                    <a:pt x="16698" y="13986"/>
                    <a:pt x="16698" y="13995"/>
                  </a:cubicBezTo>
                  <a:cubicBezTo>
                    <a:pt x="16692" y="14043"/>
                    <a:pt x="16674" y="14089"/>
                    <a:pt x="16642" y="14130"/>
                  </a:cubicBezTo>
                  <a:cubicBezTo>
                    <a:pt x="16611" y="14171"/>
                    <a:pt x="16566" y="14207"/>
                    <a:pt x="16507" y="14235"/>
                  </a:cubicBezTo>
                  <a:cubicBezTo>
                    <a:pt x="16449" y="14260"/>
                    <a:pt x="16378" y="14272"/>
                    <a:pt x="16308" y="14271"/>
                  </a:cubicBezTo>
                  <a:cubicBezTo>
                    <a:pt x="16239" y="14270"/>
                    <a:pt x="16171" y="14256"/>
                    <a:pt x="16119" y="14226"/>
                  </a:cubicBezTo>
                  <a:cubicBezTo>
                    <a:pt x="16171" y="14195"/>
                    <a:pt x="16222" y="14161"/>
                    <a:pt x="16274" y="14127"/>
                  </a:cubicBezTo>
                  <a:cubicBezTo>
                    <a:pt x="16327" y="14094"/>
                    <a:pt x="16381" y="14060"/>
                    <a:pt x="16439" y="14028"/>
                  </a:cubicBezTo>
                  <a:cubicBezTo>
                    <a:pt x="16452" y="14020"/>
                    <a:pt x="16483" y="14003"/>
                    <a:pt x="16483" y="13986"/>
                  </a:cubicBezTo>
                  <a:cubicBezTo>
                    <a:pt x="16483" y="13970"/>
                    <a:pt x="16427" y="13961"/>
                    <a:pt x="16415" y="13940"/>
                  </a:cubicBezTo>
                  <a:cubicBezTo>
                    <a:pt x="16402" y="13927"/>
                    <a:pt x="16399" y="13913"/>
                    <a:pt x="16402" y="13899"/>
                  </a:cubicBezTo>
                  <a:cubicBezTo>
                    <a:pt x="16405" y="13885"/>
                    <a:pt x="16415" y="13873"/>
                    <a:pt x="16427" y="13864"/>
                  </a:cubicBezTo>
                  <a:cubicBezTo>
                    <a:pt x="16449" y="13854"/>
                    <a:pt x="16469" y="13847"/>
                    <a:pt x="16489" y="13841"/>
                  </a:cubicBezTo>
                  <a:cubicBezTo>
                    <a:pt x="16510" y="13835"/>
                    <a:pt x="16532" y="13831"/>
                    <a:pt x="16557" y="13827"/>
                  </a:cubicBezTo>
                  <a:cubicBezTo>
                    <a:pt x="16609" y="13818"/>
                    <a:pt x="16665" y="13812"/>
                    <a:pt x="16720" y="13805"/>
                  </a:cubicBezTo>
                  <a:cubicBezTo>
                    <a:pt x="16776" y="13799"/>
                    <a:pt x="16831" y="13793"/>
                    <a:pt x="16884" y="13784"/>
                  </a:cubicBezTo>
                  <a:cubicBezTo>
                    <a:pt x="16850" y="13749"/>
                    <a:pt x="16817" y="13715"/>
                    <a:pt x="16785" y="13681"/>
                  </a:cubicBezTo>
                  <a:cubicBezTo>
                    <a:pt x="16752" y="13648"/>
                    <a:pt x="16720" y="13614"/>
                    <a:pt x="16686" y="13578"/>
                  </a:cubicBezTo>
                  <a:cubicBezTo>
                    <a:pt x="16649" y="13585"/>
                    <a:pt x="16614" y="13578"/>
                    <a:pt x="16580" y="13567"/>
                  </a:cubicBezTo>
                  <a:cubicBezTo>
                    <a:pt x="16546" y="13556"/>
                    <a:pt x="16513" y="13540"/>
                    <a:pt x="16483" y="13528"/>
                  </a:cubicBezTo>
                  <a:cubicBezTo>
                    <a:pt x="16449" y="13515"/>
                    <a:pt x="16405" y="13509"/>
                    <a:pt x="16368" y="13511"/>
                  </a:cubicBezTo>
                  <a:cubicBezTo>
                    <a:pt x="16330" y="13513"/>
                    <a:pt x="16297" y="13524"/>
                    <a:pt x="16285" y="13545"/>
                  </a:cubicBezTo>
                  <a:cubicBezTo>
                    <a:pt x="16260" y="13524"/>
                    <a:pt x="16250" y="13494"/>
                    <a:pt x="16253" y="13466"/>
                  </a:cubicBezTo>
                  <a:cubicBezTo>
                    <a:pt x="16257" y="13437"/>
                    <a:pt x="16276" y="13410"/>
                    <a:pt x="16310" y="13393"/>
                  </a:cubicBezTo>
                  <a:cubicBezTo>
                    <a:pt x="16341" y="13374"/>
                    <a:pt x="16384" y="13368"/>
                    <a:pt x="16425" y="13372"/>
                  </a:cubicBezTo>
                  <a:cubicBezTo>
                    <a:pt x="16467" y="13376"/>
                    <a:pt x="16507" y="13391"/>
                    <a:pt x="16532" y="13414"/>
                  </a:cubicBezTo>
                  <a:cubicBezTo>
                    <a:pt x="16550" y="13435"/>
                    <a:pt x="16567" y="13464"/>
                    <a:pt x="16589" y="13485"/>
                  </a:cubicBezTo>
                  <a:cubicBezTo>
                    <a:pt x="16611" y="13506"/>
                    <a:pt x="16637" y="13519"/>
                    <a:pt x="16674" y="13511"/>
                  </a:cubicBezTo>
                  <a:cubicBezTo>
                    <a:pt x="16686" y="13511"/>
                    <a:pt x="16698" y="13504"/>
                    <a:pt x="16712" y="13495"/>
                  </a:cubicBezTo>
                  <a:cubicBezTo>
                    <a:pt x="16725" y="13487"/>
                    <a:pt x="16739" y="13477"/>
                    <a:pt x="16754" y="13473"/>
                  </a:cubicBezTo>
                  <a:cubicBezTo>
                    <a:pt x="16803" y="13456"/>
                    <a:pt x="16853" y="13473"/>
                    <a:pt x="16896" y="13503"/>
                  </a:cubicBezTo>
                  <a:cubicBezTo>
                    <a:pt x="16933" y="13528"/>
                    <a:pt x="16945" y="13562"/>
                    <a:pt x="16945" y="13599"/>
                  </a:cubicBezTo>
                  <a:cubicBezTo>
                    <a:pt x="16964" y="13652"/>
                    <a:pt x="16987" y="13713"/>
                    <a:pt x="17025" y="13763"/>
                  </a:cubicBezTo>
                  <a:cubicBezTo>
                    <a:pt x="17062" y="13814"/>
                    <a:pt x="17115" y="13854"/>
                    <a:pt x="17192" y="13864"/>
                  </a:cubicBezTo>
                  <a:cubicBezTo>
                    <a:pt x="17238" y="13869"/>
                    <a:pt x="17286" y="13861"/>
                    <a:pt x="17334" y="13856"/>
                  </a:cubicBezTo>
                  <a:cubicBezTo>
                    <a:pt x="17382" y="13852"/>
                    <a:pt x="17430" y="13850"/>
                    <a:pt x="17476" y="13864"/>
                  </a:cubicBezTo>
                  <a:cubicBezTo>
                    <a:pt x="17504" y="13873"/>
                    <a:pt x="17527" y="13885"/>
                    <a:pt x="17546" y="13902"/>
                  </a:cubicBezTo>
                  <a:cubicBezTo>
                    <a:pt x="17565" y="13918"/>
                    <a:pt x="17581" y="13938"/>
                    <a:pt x="17593" y="13961"/>
                  </a:cubicBezTo>
                  <a:cubicBezTo>
                    <a:pt x="17605" y="13982"/>
                    <a:pt x="17618" y="14002"/>
                    <a:pt x="17634" y="14019"/>
                  </a:cubicBezTo>
                  <a:cubicBezTo>
                    <a:pt x="17650" y="14036"/>
                    <a:pt x="17670" y="14049"/>
                    <a:pt x="17698" y="14058"/>
                  </a:cubicBezTo>
                  <a:cubicBezTo>
                    <a:pt x="17723" y="14066"/>
                    <a:pt x="17758" y="14066"/>
                    <a:pt x="17787" y="14059"/>
                  </a:cubicBezTo>
                  <a:cubicBezTo>
                    <a:pt x="17817" y="14053"/>
                    <a:pt x="17840" y="14039"/>
                    <a:pt x="17840" y="14020"/>
                  </a:cubicBezTo>
                  <a:cubicBezTo>
                    <a:pt x="17806" y="13991"/>
                    <a:pt x="17767" y="13962"/>
                    <a:pt x="17726" y="13938"/>
                  </a:cubicBezTo>
                  <a:cubicBezTo>
                    <a:pt x="17684" y="13914"/>
                    <a:pt x="17639" y="13894"/>
                    <a:pt x="17593" y="13881"/>
                  </a:cubicBezTo>
                  <a:cubicBezTo>
                    <a:pt x="17618" y="13873"/>
                    <a:pt x="17641" y="13857"/>
                    <a:pt x="17656" y="13838"/>
                  </a:cubicBezTo>
                  <a:cubicBezTo>
                    <a:pt x="17672" y="13819"/>
                    <a:pt x="17679" y="13797"/>
                    <a:pt x="17673" y="13776"/>
                  </a:cubicBezTo>
                  <a:cubicBezTo>
                    <a:pt x="17698" y="13784"/>
                    <a:pt x="17730" y="13784"/>
                    <a:pt x="17758" y="13778"/>
                  </a:cubicBezTo>
                  <a:cubicBezTo>
                    <a:pt x="17786" y="13771"/>
                    <a:pt x="17809" y="13757"/>
                    <a:pt x="17815" y="13738"/>
                  </a:cubicBezTo>
                  <a:cubicBezTo>
                    <a:pt x="17747" y="13768"/>
                    <a:pt x="17661" y="13717"/>
                    <a:pt x="17661" y="13667"/>
                  </a:cubicBezTo>
                  <a:cubicBezTo>
                    <a:pt x="17661" y="13612"/>
                    <a:pt x="17735" y="13570"/>
                    <a:pt x="17815" y="13562"/>
                  </a:cubicBezTo>
                  <a:cubicBezTo>
                    <a:pt x="17716" y="13549"/>
                    <a:pt x="17635" y="13514"/>
                    <a:pt x="17563" y="13470"/>
                  </a:cubicBezTo>
                  <a:cubicBezTo>
                    <a:pt x="17491" y="13425"/>
                    <a:pt x="17430" y="13370"/>
                    <a:pt x="17371" y="13318"/>
                  </a:cubicBezTo>
                  <a:cubicBezTo>
                    <a:pt x="17359" y="13303"/>
                    <a:pt x="17346" y="13289"/>
                    <a:pt x="17339" y="13276"/>
                  </a:cubicBezTo>
                  <a:cubicBezTo>
                    <a:pt x="17331" y="13263"/>
                    <a:pt x="17328" y="13250"/>
                    <a:pt x="17334" y="13238"/>
                  </a:cubicBezTo>
                  <a:cubicBezTo>
                    <a:pt x="17223" y="13246"/>
                    <a:pt x="17123" y="13200"/>
                    <a:pt x="17026" y="13158"/>
                  </a:cubicBezTo>
                  <a:cubicBezTo>
                    <a:pt x="16930" y="13116"/>
                    <a:pt x="16837" y="13078"/>
                    <a:pt x="16742" y="13103"/>
                  </a:cubicBezTo>
                  <a:cubicBezTo>
                    <a:pt x="16708" y="13111"/>
                    <a:pt x="16681" y="13125"/>
                    <a:pt x="16655" y="13139"/>
                  </a:cubicBezTo>
                  <a:cubicBezTo>
                    <a:pt x="16629" y="13152"/>
                    <a:pt x="16603" y="13166"/>
                    <a:pt x="16569" y="13175"/>
                  </a:cubicBezTo>
                  <a:cubicBezTo>
                    <a:pt x="16544" y="13183"/>
                    <a:pt x="16509" y="13187"/>
                    <a:pt x="16476" y="13184"/>
                  </a:cubicBezTo>
                  <a:cubicBezTo>
                    <a:pt x="16444" y="13181"/>
                    <a:pt x="16415" y="13170"/>
                    <a:pt x="16402" y="13149"/>
                  </a:cubicBezTo>
                  <a:cubicBezTo>
                    <a:pt x="16442" y="13126"/>
                    <a:pt x="16481" y="13106"/>
                    <a:pt x="16523" y="13090"/>
                  </a:cubicBezTo>
                  <a:cubicBezTo>
                    <a:pt x="16564" y="13074"/>
                    <a:pt x="16609" y="13061"/>
                    <a:pt x="16661" y="13053"/>
                  </a:cubicBezTo>
                  <a:cubicBezTo>
                    <a:pt x="16686" y="13048"/>
                    <a:pt x="16715" y="13043"/>
                    <a:pt x="16745" y="13037"/>
                  </a:cubicBezTo>
                  <a:cubicBezTo>
                    <a:pt x="16774" y="13030"/>
                    <a:pt x="16803" y="13023"/>
                    <a:pt x="16828" y="13015"/>
                  </a:cubicBezTo>
                  <a:cubicBezTo>
                    <a:pt x="16887" y="12985"/>
                    <a:pt x="16901" y="12928"/>
                    <a:pt x="16916" y="12873"/>
                  </a:cubicBezTo>
                  <a:cubicBezTo>
                    <a:pt x="16931" y="12818"/>
                    <a:pt x="16948" y="12764"/>
                    <a:pt x="17013" y="12741"/>
                  </a:cubicBezTo>
                  <a:cubicBezTo>
                    <a:pt x="17044" y="12741"/>
                    <a:pt x="17062" y="12756"/>
                    <a:pt x="17072" y="12776"/>
                  </a:cubicBezTo>
                  <a:cubicBezTo>
                    <a:pt x="17081" y="12797"/>
                    <a:pt x="17081" y="12823"/>
                    <a:pt x="17075" y="12846"/>
                  </a:cubicBezTo>
                  <a:cubicBezTo>
                    <a:pt x="17062" y="12888"/>
                    <a:pt x="17038" y="12943"/>
                    <a:pt x="17087" y="12973"/>
                  </a:cubicBezTo>
                  <a:cubicBezTo>
                    <a:pt x="17130" y="12998"/>
                    <a:pt x="17192" y="12989"/>
                    <a:pt x="17241" y="13006"/>
                  </a:cubicBezTo>
                  <a:cubicBezTo>
                    <a:pt x="17285" y="13023"/>
                    <a:pt x="17309" y="13061"/>
                    <a:pt x="17334" y="13086"/>
                  </a:cubicBezTo>
                  <a:cubicBezTo>
                    <a:pt x="17359" y="13111"/>
                    <a:pt x="17426" y="13128"/>
                    <a:pt x="17463" y="13103"/>
                  </a:cubicBezTo>
                  <a:cubicBezTo>
                    <a:pt x="17476" y="13141"/>
                    <a:pt x="17488" y="13175"/>
                    <a:pt x="17531" y="13208"/>
                  </a:cubicBezTo>
                  <a:cubicBezTo>
                    <a:pt x="17568" y="13238"/>
                    <a:pt x="17630" y="13254"/>
                    <a:pt x="17673" y="13238"/>
                  </a:cubicBezTo>
                  <a:cubicBezTo>
                    <a:pt x="17692" y="13233"/>
                    <a:pt x="17703" y="13224"/>
                    <a:pt x="17714" y="13214"/>
                  </a:cubicBezTo>
                  <a:cubicBezTo>
                    <a:pt x="17726" y="13205"/>
                    <a:pt x="17738" y="13196"/>
                    <a:pt x="17760" y="13191"/>
                  </a:cubicBezTo>
                  <a:cubicBezTo>
                    <a:pt x="17778" y="13187"/>
                    <a:pt x="17801" y="13191"/>
                    <a:pt x="17826" y="13196"/>
                  </a:cubicBezTo>
                  <a:cubicBezTo>
                    <a:pt x="17851" y="13200"/>
                    <a:pt x="17877" y="13204"/>
                    <a:pt x="17902" y="13200"/>
                  </a:cubicBezTo>
                  <a:cubicBezTo>
                    <a:pt x="17929" y="13196"/>
                    <a:pt x="17946" y="13184"/>
                    <a:pt x="17955" y="13169"/>
                  </a:cubicBezTo>
                  <a:cubicBezTo>
                    <a:pt x="17963" y="13155"/>
                    <a:pt x="17963" y="13137"/>
                    <a:pt x="17957" y="13120"/>
                  </a:cubicBezTo>
                  <a:cubicBezTo>
                    <a:pt x="17951" y="13101"/>
                    <a:pt x="17940" y="13088"/>
                    <a:pt x="17926" y="13077"/>
                  </a:cubicBezTo>
                  <a:cubicBezTo>
                    <a:pt x="17912" y="13066"/>
                    <a:pt x="17895" y="13057"/>
                    <a:pt x="17877" y="13044"/>
                  </a:cubicBezTo>
                  <a:cubicBezTo>
                    <a:pt x="18031" y="13044"/>
                    <a:pt x="18192" y="13032"/>
                    <a:pt x="18333" y="13032"/>
                  </a:cubicBezTo>
                  <a:cubicBezTo>
                    <a:pt x="18358" y="13032"/>
                    <a:pt x="18383" y="13032"/>
                    <a:pt x="18395" y="13023"/>
                  </a:cubicBezTo>
                  <a:cubicBezTo>
                    <a:pt x="18414" y="13015"/>
                    <a:pt x="18420" y="13000"/>
                    <a:pt x="18420" y="12983"/>
                  </a:cubicBezTo>
                  <a:cubicBezTo>
                    <a:pt x="18420" y="12965"/>
                    <a:pt x="18414" y="12945"/>
                    <a:pt x="18407" y="12926"/>
                  </a:cubicBezTo>
                  <a:cubicBezTo>
                    <a:pt x="18401" y="12910"/>
                    <a:pt x="18407" y="12890"/>
                    <a:pt x="18422" y="12876"/>
                  </a:cubicBezTo>
                  <a:cubicBezTo>
                    <a:pt x="18437" y="12863"/>
                    <a:pt x="18460" y="12857"/>
                    <a:pt x="18488" y="12867"/>
                  </a:cubicBezTo>
                  <a:cubicBezTo>
                    <a:pt x="18429" y="12823"/>
                    <a:pt x="18341" y="12808"/>
                    <a:pt x="18253" y="12792"/>
                  </a:cubicBezTo>
                  <a:cubicBezTo>
                    <a:pt x="18165" y="12776"/>
                    <a:pt x="18077" y="12760"/>
                    <a:pt x="18019" y="12716"/>
                  </a:cubicBezTo>
                  <a:cubicBezTo>
                    <a:pt x="17982" y="12693"/>
                    <a:pt x="17956" y="12659"/>
                    <a:pt x="17926" y="12630"/>
                  </a:cubicBezTo>
                  <a:cubicBezTo>
                    <a:pt x="17897" y="12601"/>
                    <a:pt x="17865" y="12577"/>
                    <a:pt x="17815" y="12573"/>
                  </a:cubicBezTo>
                  <a:lnTo>
                    <a:pt x="17710" y="12573"/>
                  </a:lnTo>
                  <a:cubicBezTo>
                    <a:pt x="17670" y="12569"/>
                    <a:pt x="17641" y="12554"/>
                    <a:pt x="17625" y="12534"/>
                  </a:cubicBezTo>
                  <a:cubicBezTo>
                    <a:pt x="17608" y="12513"/>
                    <a:pt x="17605" y="12487"/>
                    <a:pt x="17618" y="12459"/>
                  </a:cubicBezTo>
                  <a:cubicBezTo>
                    <a:pt x="17612" y="12447"/>
                    <a:pt x="17612" y="12436"/>
                    <a:pt x="17615" y="12425"/>
                  </a:cubicBezTo>
                  <a:cubicBezTo>
                    <a:pt x="17618" y="12414"/>
                    <a:pt x="17624" y="12403"/>
                    <a:pt x="17630" y="12388"/>
                  </a:cubicBezTo>
                  <a:cubicBezTo>
                    <a:pt x="17645" y="12392"/>
                    <a:pt x="17662" y="12394"/>
                    <a:pt x="17680" y="12395"/>
                  </a:cubicBezTo>
                  <a:cubicBezTo>
                    <a:pt x="17698" y="12396"/>
                    <a:pt x="17716" y="12396"/>
                    <a:pt x="17735" y="12396"/>
                  </a:cubicBezTo>
                  <a:cubicBezTo>
                    <a:pt x="17741" y="12401"/>
                    <a:pt x="17744" y="12406"/>
                    <a:pt x="17747" y="12411"/>
                  </a:cubicBezTo>
                  <a:cubicBezTo>
                    <a:pt x="17750" y="12416"/>
                    <a:pt x="17753" y="12422"/>
                    <a:pt x="17760" y="12426"/>
                  </a:cubicBezTo>
                  <a:cubicBezTo>
                    <a:pt x="17818" y="12403"/>
                    <a:pt x="17883" y="12405"/>
                    <a:pt x="17945" y="12420"/>
                  </a:cubicBezTo>
                  <a:cubicBezTo>
                    <a:pt x="18006" y="12435"/>
                    <a:pt x="18065" y="12464"/>
                    <a:pt x="18111" y="12493"/>
                  </a:cubicBezTo>
                  <a:cubicBezTo>
                    <a:pt x="18164" y="12525"/>
                    <a:pt x="18216" y="12556"/>
                    <a:pt x="18273" y="12579"/>
                  </a:cubicBezTo>
                  <a:cubicBezTo>
                    <a:pt x="18330" y="12601"/>
                    <a:pt x="18392" y="12615"/>
                    <a:pt x="18463" y="12611"/>
                  </a:cubicBezTo>
                  <a:cubicBezTo>
                    <a:pt x="18441" y="12588"/>
                    <a:pt x="18457" y="12566"/>
                    <a:pt x="18476" y="12544"/>
                  </a:cubicBezTo>
                  <a:cubicBezTo>
                    <a:pt x="18495" y="12521"/>
                    <a:pt x="18519" y="12499"/>
                    <a:pt x="18512" y="12476"/>
                  </a:cubicBezTo>
                  <a:cubicBezTo>
                    <a:pt x="18512" y="12468"/>
                    <a:pt x="18509" y="12462"/>
                    <a:pt x="18505" y="12456"/>
                  </a:cubicBezTo>
                  <a:cubicBezTo>
                    <a:pt x="18500" y="12451"/>
                    <a:pt x="18494" y="12447"/>
                    <a:pt x="18488" y="12443"/>
                  </a:cubicBezTo>
                  <a:cubicBezTo>
                    <a:pt x="18448" y="12403"/>
                    <a:pt x="18409" y="12363"/>
                    <a:pt x="18369" y="12323"/>
                  </a:cubicBezTo>
                  <a:cubicBezTo>
                    <a:pt x="18329" y="12283"/>
                    <a:pt x="18287" y="12243"/>
                    <a:pt x="18241" y="12203"/>
                  </a:cubicBezTo>
                  <a:cubicBezTo>
                    <a:pt x="18272" y="12199"/>
                    <a:pt x="18307" y="12201"/>
                    <a:pt x="18340" y="12210"/>
                  </a:cubicBezTo>
                  <a:cubicBezTo>
                    <a:pt x="18372" y="12219"/>
                    <a:pt x="18401" y="12234"/>
                    <a:pt x="18420" y="12258"/>
                  </a:cubicBezTo>
                  <a:cubicBezTo>
                    <a:pt x="18448" y="12274"/>
                    <a:pt x="18465" y="12294"/>
                    <a:pt x="18478" y="12316"/>
                  </a:cubicBezTo>
                  <a:cubicBezTo>
                    <a:pt x="18491" y="12338"/>
                    <a:pt x="18500" y="12363"/>
                    <a:pt x="18512" y="12388"/>
                  </a:cubicBezTo>
                  <a:cubicBezTo>
                    <a:pt x="18577" y="12344"/>
                    <a:pt x="18642" y="12300"/>
                    <a:pt x="18708" y="12256"/>
                  </a:cubicBezTo>
                  <a:cubicBezTo>
                    <a:pt x="18775" y="12213"/>
                    <a:pt x="18842" y="12171"/>
                    <a:pt x="18913" y="12131"/>
                  </a:cubicBezTo>
                  <a:cubicBezTo>
                    <a:pt x="18953" y="12106"/>
                    <a:pt x="18998" y="12078"/>
                    <a:pt x="19030" y="12047"/>
                  </a:cubicBezTo>
                  <a:cubicBezTo>
                    <a:pt x="19061" y="12016"/>
                    <a:pt x="19080" y="11982"/>
                    <a:pt x="19068" y="11946"/>
                  </a:cubicBezTo>
                  <a:cubicBezTo>
                    <a:pt x="19021" y="11929"/>
                    <a:pt x="18967" y="11927"/>
                    <a:pt x="18920" y="11938"/>
                  </a:cubicBezTo>
                  <a:cubicBezTo>
                    <a:pt x="18872" y="11949"/>
                    <a:pt x="18830" y="11974"/>
                    <a:pt x="18808" y="12009"/>
                  </a:cubicBezTo>
                  <a:cubicBezTo>
                    <a:pt x="18691" y="11967"/>
                    <a:pt x="18642" y="11858"/>
                    <a:pt x="18642" y="11770"/>
                  </a:cubicBezTo>
                  <a:cubicBezTo>
                    <a:pt x="18642" y="11736"/>
                    <a:pt x="18642" y="11698"/>
                    <a:pt x="18630" y="11664"/>
                  </a:cubicBezTo>
                  <a:cubicBezTo>
                    <a:pt x="18623" y="11645"/>
                    <a:pt x="18606" y="11628"/>
                    <a:pt x="18585" y="11616"/>
                  </a:cubicBezTo>
                  <a:cubicBezTo>
                    <a:pt x="18563" y="11604"/>
                    <a:pt x="18537" y="11599"/>
                    <a:pt x="18512" y="11606"/>
                  </a:cubicBezTo>
                  <a:cubicBezTo>
                    <a:pt x="18537" y="11587"/>
                    <a:pt x="18563" y="11567"/>
                    <a:pt x="18589" y="11546"/>
                  </a:cubicBezTo>
                  <a:cubicBezTo>
                    <a:pt x="18616" y="11525"/>
                    <a:pt x="18642" y="11502"/>
                    <a:pt x="18667" y="11479"/>
                  </a:cubicBezTo>
                  <a:cubicBezTo>
                    <a:pt x="18654" y="11475"/>
                    <a:pt x="18639" y="11473"/>
                    <a:pt x="18623" y="11471"/>
                  </a:cubicBezTo>
                  <a:cubicBezTo>
                    <a:pt x="18606" y="11469"/>
                    <a:pt x="18589" y="11467"/>
                    <a:pt x="18574" y="11463"/>
                  </a:cubicBezTo>
                  <a:cubicBezTo>
                    <a:pt x="18633" y="11427"/>
                    <a:pt x="18665" y="11378"/>
                    <a:pt x="18672" y="11328"/>
                  </a:cubicBezTo>
                  <a:cubicBezTo>
                    <a:pt x="18679" y="11277"/>
                    <a:pt x="18660" y="11225"/>
                    <a:pt x="18617" y="11181"/>
                  </a:cubicBezTo>
                  <a:cubicBezTo>
                    <a:pt x="18617" y="11193"/>
                    <a:pt x="18620" y="11204"/>
                    <a:pt x="18623" y="11215"/>
                  </a:cubicBezTo>
                  <a:cubicBezTo>
                    <a:pt x="18626" y="11226"/>
                    <a:pt x="18630" y="11237"/>
                    <a:pt x="18630" y="11252"/>
                  </a:cubicBezTo>
                  <a:cubicBezTo>
                    <a:pt x="18611" y="11229"/>
                    <a:pt x="18588" y="11209"/>
                    <a:pt x="18565" y="11189"/>
                  </a:cubicBezTo>
                  <a:cubicBezTo>
                    <a:pt x="18542" y="11169"/>
                    <a:pt x="18519" y="11149"/>
                    <a:pt x="18500" y="11126"/>
                  </a:cubicBezTo>
                  <a:cubicBezTo>
                    <a:pt x="18525" y="11113"/>
                    <a:pt x="18551" y="11105"/>
                    <a:pt x="18579" y="11100"/>
                  </a:cubicBezTo>
                  <a:cubicBezTo>
                    <a:pt x="18606" y="11094"/>
                    <a:pt x="18636" y="11092"/>
                    <a:pt x="18667" y="11092"/>
                  </a:cubicBezTo>
                  <a:cubicBezTo>
                    <a:pt x="18654" y="11044"/>
                    <a:pt x="18642" y="10996"/>
                    <a:pt x="18631" y="10947"/>
                  </a:cubicBezTo>
                  <a:cubicBezTo>
                    <a:pt x="18620" y="10899"/>
                    <a:pt x="18611" y="10850"/>
                    <a:pt x="18605" y="10802"/>
                  </a:cubicBezTo>
                  <a:cubicBezTo>
                    <a:pt x="18589" y="10754"/>
                    <a:pt x="18576" y="10702"/>
                    <a:pt x="18559" y="10651"/>
                  </a:cubicBezTo>
                  <a:cubicBezTo>
                    <a:pt x="18543" y="10599"/>
                    <a:pt x="18525" y="10548"/>
                    <a:pt x="18500" y="10499"/>
                  </a:cubicBezTo>
                  <a:cubicBezTo>
                    <a:pt x="18488" y="10482"/>
                    <a:pt x="18474" y="10466"/>
                    <a:pt x="18461" y="10448"/>
                  </a:cubicBezTo>
                  <a:cubicBezTo>
                    <a:pt x="18449" y="10431"/>
                    <a:pt x="18438" y="10413"/>
                    <a:pt x="18432" y="10394"/>
                  </a:cubicBezTo>
                  <a:cubicBezTo>
                    <a:pt x="18420" y="10354"/>
                    <a:pt x="18417" y="10306"/>
                    <a:pt x="18402" y="10264"/>
                  </a:cubicBezTo>
                  <a:cubicBezTo>
                    <a:pt x="18387" y="10223"/>
                    <a:pt x="18361" y="10188"/>
                    <a:pt x="18303" y="10175"/>
                  </a:cubicBezTo>
                  <a:cubicBezTo>
                    <a:pt x="18318" y="10140"/>
                    <a:pt x="18323" y="10102"/>
                    <a:pt x="18318" y="10065"/>
                  </a:cubicBezTo>
                  <a:cubicBezTo>
                    <a:pt x="18313" y="10028"/>
                    <a:pt x="18299" y="9992"/>
                    <a:pt x="18278" y="9961"/>
                  </a:cubicBezTo>
                  <a:cubicBezTo>
                    <a:pt x="18303" y="9936"/>
                    <a:pt x="18370" y="9936"/>
                    <a:pt x="18407" y="9952"/>
                  </a:cubicBezTo>
                  <a:cubicBezTo>
                    <a:pt x="18444" y="9969"/>
                    <a:pt x="18475" y="9999"/>
                    <a:pt x="18525" y="10016"/>
                  </a:cubicBezTo>
                  <a:cubicBezTo>
                    <a:pt x="18543" y="10024"/>
                    <a:pt x="18572" y="10024"/>
                    <a:pt x="18597" y="10019"/>
                  </a:cubicBezTo>
                  <a:cubicBezTo>
                    <a:pt x="18622" y="10013"/>
                    <a:pt x="18642" y="10003"/>
                    <a:pt x="18642" y="9990"/>
                  </a:cubicBezTo>
                  <a:cubicBezTo>
                    <a:pt x="18679" y="10121"/>
                    <a:pt x="18722" y="10272"/>
                    <a:pt x="18864" y="10369"/>
                  </a:cubicBezTo>
                  <a:cubicBezTo>
                    <a:pt x="18889" y="10386"/>
                    <a:pt x="18913" y="10394"/>
                    <a:pt x="18913" y="10419"/>
                  </a:cubicBezTo>
                  <a:cubicBezTo>
                    <a:pt x="18913" y="10440"/>
                    <a:pt x="18901" y="10457"/>
                    <a:pt x="18889" y="10474"/>
                  </a:cubicBezTo>
                  <a:cubicBezTo>
                    <a:pt x="18861" y="10522"/>
                    <a:pt x="18896" y="10567"/>
                    <a:pt x="18940" y="10611"/>
                  </a:cubicBezTo>
                  <a:cubicBezTo>
                    <a:pt x="18984" y="10655"/>
                    <a:pt x="19037" y="10699"/>
                    <a:pt x="19043" y="10747"/>
                  </a:cubicBezTo>
                  <a:lnTo>
                    <a:pt x="19043" y="10819"/>
                  </a:lnTo>
                  <a:cubicBezTo>
                    <a:pt x="19049" y="10832"/>
                    <a:pt x="19061" y="10842"/>
                    <a:pt x="19076" y="10847"/>
                  </a:cubicBezTo>
                  <a:cubicBezTo>
                    <a:pt x="19091" y="10853"/>
                    <a:pt x="19108" y="10853"/>
                    <a:pt x="19123" y="10844"/>
                  </a:cubicBezTo>
                  <a:cubicBezTo>
                    <a:pt x="19123" y="10764"/>
                    <a:pt x="19115" y="10685"/>
                    <a:pt x="19102" y="10608"/>
                  </a:cubicBezTo>
                  <a:cubicBezTo>
                    <a:pt x="19088" y="10530"/>
                    <a:pt x="19068" y="10453"/>
                    <a:pt x="19043" y="10377"/>
                  </a:cubicBezTo>
                  <a:cubicBezTo>
                    <a:pt x="19031" y="10341"/>
                    <a:pt x="19014" y="10303"/>
                    <a:pt x="19002" y="10263"/>
                  </a:cubicBezTo>
                  <a:cubicBezTo>
                    <a:pt x="18990" y="10224"/>
                    <a:pt x="18984" y="10184"/>
                    <a:pt x="18994" y="10146"/>
                  </a:cubicBezTo>
                  <a:cubicBezTo>
                    <a:pt x="19000" y="10106"/>
                    <a:pt x="19012" y="10067"/>
                    <a:pt x="19036" y="10033"/>
                  </a:cubicBezTo>
                  <a:cubicBezTo>
                    <a:pt x="19060" y="10000"/>
                    <a:pt x="19095" y="9971"/>
                    <a:pt x="19148" y="9952"/>
                  </a:cubicBezTo>
                  <a:cubicBezTo>
                    <a:pt x="19108" y="9952"/>
                    <a:pt x="19085" y="9932"/>
                    <a:pt x="19075" y="9907"/>
                  </a:cubicBezTo>
                  <a:cubicBezTo>
                    <a:pt x="19065" y="9882"/>
                    <a:pt x="19068" y="9851"/>
                    <a:pt x="19080" y="9830"/>
                  </a:cubicBezTo>
                  <a:cubicBezTo>
                    <a:pt x="19092" y="9807"/>
                    <a:pt x="19115" y="9783"/>
                    <a:pt x="19134" y="9759"/>
                  </a:cubicBezTo>
                  <a:cubicBezTo>
                    <a:pt x="19152" y="9735"/>
                    <a:pt x="19166" y="9711"/>
                    <a:pt x="19160" y="9687"/>
                  </a:cubicBezTo>
                  <a:cubicBezTo>
                    <a:pt x="19148" y="9662"/>
                    <a:pt x="19123" y="9637"/>
                    <a:pt x="19123" y="9607"/>
                  </a:cubicBezTo>
                  <a:cubicBezTo>
                    <a:pt x="19123" y="9574"/>
                    <a:pt x="19160" y="9540"/>
                    <a:pt x="19172" y="9502"/>
                  </a:cubicBezTo>
                  <a:cubicBezTo>
                    <a:pt x="19185" y="9443"/>
                    <a:pt x="19117" y="9385"/>
                    <a:pt x="19055" y="9334"/>
                  </a:cubicBezTo>
                  <a:cubicBezTo>
                    <a:pt x="18987" y="9279"/>
                    <a:pt x="18950" y="9212"/>
                    <a:pt x="19006" y="9157"/>
                  </a:cubicBezTo>
                  <a:cubicBezTo>
                    <a:pt x="18978" y="9157"/>
                    <a:pt x="18958" y="9149"/>
                    <a:pt x="18942" y="9137"/>
                  </a:cubicBezTo>
                  <a:cubicBezTo>
                    <a:pt x="18926" y="9126"/>
                    <a:pt x="18913" y="9111"/>
                    <a:pt x="18901" y="9099"/>
                  </a:cubicBezTo>
                  <a:cubicBezTo>
                    <a:pt x="18867" y="9050"/>
                    <a:pt x="18847" y="8996"/>
                    <a:pt x="18842" y="8943"/>
                  </a:cubicBezTo>
                  <a:cubicBezTo>
                    <a:pt x="18838" y="8889"/>
                    <a:pt x="18849" y="8836"/>
                    <a:pt x="18876" y="8787"/>
                  </a:cubicBezTo>
                  <a:cubicBezTo>
                    <a:pt x="18895" y="8747"/>
                    <a:pt x="18920" y="8710"/>
                    <a:pt x="18948" y="8675"/>
                  </a:cubicBezTo>
                  <a:cubicBezTo>
                    <a:pt x="18977" y="8639"/>
                    <a:pt x="19009" y="8604"/>
                    <a:pt x="19043" y="8568"/>
                  </a:cubicBezTo>
                  <a:cubicBezTo>
                    <a:pt x="19024" y="8533"/>
                    <a:pt x="19018" y="8493"/>
                    <a:pt x="19023" y="8453"/>
                  </a:cubicBezTo>
                  <a:cubicBezTo>
                    <a:pt x="19028" y="8413"/>
                    <a:pt x="19043" y="8373"/>
                    <a:pt x="19068" y="8337"/>
                  </a:cubicBezTo>
                  <a:cubicBezTo>
                    <a:pt x="19037" y="8341"/>
                    <a:pt x="19001" y="8343"/>
                    <a:pt x="18972" y="8339"/>
                  </a:cubicBezTo>
                  <a:cubicBezTo>
                    <a:pt x="18943" y="8335"/>
                    <a:pt x="18920" y="8325"/>
                    <a:pt x="18913" y="8303"/>
                  </a:cubicBezTo>
                  <a:cubicBezTo>
                    <a:pt x="18913" y="8295"/>
                    <a:pt x="18916" y="8289"/>
                    <a:pt x="18921" y="8282"/>
                  </a:cubicBezTo>
                  <a:cubicBezTo>
                    <a:pt x="18926" y="8275"/>
                    <a:pt x="18932" y="8268"/>
                    <a:pt x="18938" y="8257"/>
                  </a:cubicBezTo>
                  <a:cubicBezTo>
                    <a:pt x="18957" y="8228"/>
                    <a:pt x="18941" y="8189"/>
                    <a:pt x="18930" y="8152"/>
                  </a:cubicBezTo>
                  <a:cubicBezTo>
                    <a:pt x="18920" y="8114"/>
                    <a:pt x="18913" y="8078"/>
                    <a:pt x="18950" y="8055"/>
                  </a:cubicBezTo>
                  <a:cubicBezTo>
                    <a:pt x="18963" y="8047"/>
                    <a:pt x="18980" y="8043"/>
                    <a:pt x="18998" y="8040"/>
                  </a:cubicBezTo>
                  <a:cubicBezTo>
                    <a:pt x="19017" y="8036"/>
                    <a:pt x="19037" y="8034"/>
                    <a:pt x="19055" y="8030"/>
                  </a:cubicBezTo>
                  <a:cubicBezTo>
                    <a:pt x="19102" y="8017"/>
                    <a:pt x="19122" y="7989"/>
                    <a:pt x="19126" y="7956"/>
                  </a:cubicBezTo>
                  <a:cubicBezTo>
                    <a:pt x="19131" y="7923"/>
                    <a:pt x="19120" y="7885"/>
                    <a:pt x="19105" y="7853"/>
                  </a:cubicBezTo>
                  <a:cubicBezTo>
                    <a:pt x="19092" y="7822"/>
                    <a:pt x="19083" y="7784"/>
                    <a:pt x="19087" y="7751"/>
                  </a:cubicBezTo>
                  <a:cubicBezTo>
                    <a:pt x="19091" y="7718"/>
                    <a:pt x="19108" y="7689"/>
                    <a:pt x="19148" y="7677"/>
                  </a:cubicBezTo>
                  <a:cubicBezTo>
                    <a:pt x="19160" y="7673"/>
                    <a:pt x="19172" y="7670"/>
                    <a:pt x="19185" y="7668"/>
                  </a:cubicBezTo>
                  <a:cubicBezTo>
                    <a:pt x="19197" y="7666"/>
                    <a:pt x="19210" y="7664"/>
                    <a:pt x="19222" y="7660"/>
                  </a:cubicBezTo>
                  <a:cubicBezTo>
                    <a:pt x="19250" y="7647"/>
                    <a:pt x="19263" y="7629"/>
                    <a:pt x="19272" y="7609"/>
                  </a:cubicBezTo>
                  <a:cubicBezTo>
                    <a:pt x="19280" y="7589"/>
                    <a:pt x="19284" y="7567"/>
                    <a:pt x="19290" y="7546"/>
                  </a:cubicBezTo>
                  <a:cubicBezTo>
                    <a:pt x="19296" y="7502"/>
                    <a:pt x="19314" y="7460"/>
                    <a:pt x="19334" y="7418"/>
                  </a:cubicBezTo>
                  <a:cubicBezTo>
                    <a:pt x="19353" y="7376"/>
                    <a:pt x="19373" y="7334"/>
                    <a:pt x="19382" y="7290"/>
                  </a:cubicBezTo>
                  <a:cubicBezTo>
                    <a:pt x="19388" y="7246"/>
                    <a:pt x="19371" y="7197"/>
                    <a:pt x="19337" y="7160"/>
                  </a:cubicBezTo>
                  <a:cubicBezTo>
                    <a:pt x="19302" y="7123"/>
                    <a:pt x="19250" y="7096"/>
                    <a:pt x="19185" y="7096"/>
                  </a:cubicBezTo>
                  <a:cubicBezTo>
                    <a:pt x="19191" y="7161"/>
                    <a:pt x="19159" y="7230"/>
                    <a:pt x="19101" y="7285"/>
                  </a:cubicBezTo>
                  <a:cubicBezTo>
                    <a:pt x="19043" y="7340"/>
                    <a:pt x="18960" y="7382"/>
                    <a:pt x="18864" y="7395"/>
                  </a:cubicBezTo>
                  <a:cubicBezTo>
                    <a:pt x="18842" y="7342"/>
                    <a:pt x="18839" y="7287"/>
                    <a:pt x="18849" y="7231"/>
                  </a:cubicBezTo>
                  <a:cubicBezTo>
                    <a:pt x="18859" y="7175"/>
                    <a:pt x="18883" y="7119"/>
                    <a:pt x="18913" y="7067"/>
                  </a:cubicBezTo>
                  <a:cubicBezTo>
                    <a:pt x="18873" y="7058"/>
                    <a:pt x="18847" y="7036"/>
                    <a:pt x="18829" y="7009"/>
                  </a:cubicBezTo>
                  <a:cubicBezTo>
                    <a:pt x="18812" y="6982"/>
                    <a:pt x="18802" y="6949"/>
                    <a:pt x="18796" y="6920"/>
                  </a:cubicBezTo>
                  <a:cubicBezTo>
                    <a:pt x="18790" y="6871"/>
                    <a:pt x="18784" y="6820"/>
                    <a:pt x="18776" y="6768"/>
                  </a:cubicBezTo>
                  <a:cubicBezTo>
                    <a:pt x="18768" y="6717"/>
                    <a:pt x="18759" y="6665"/>
                    <a:pt x="18747" y="6617"/>
                  </a:cubicBezTo>
                  <a:cubicBezTo>
                    <a:pt x="18784" y="6503"/>
                    <a:pt x="19031" y="6457"/>
                    <a:pt x="19148" y="6537"/>
                  </a:cubicBezTo>
                  <a:cubicBezTo>
                    <a:pt x="19172" y="6554"/>
                    <a:pt x="19185" y="6583"/>
                    <a:pt x="19222" y="6583"/>
                  </a:cubicBezTo>
                  <a:cubicBezTo>
                    <a:pt x="19222" y="6520"/>
                    <a:pt x="19382" y="6495"/>
                    <a:pt x="19382" y="6432"/>
                  </a:cubicBezTo>
                  <a:cubicBezTo>
                    <a:pt x="19382" y="6415"/>
                    <a:pt x="19364" y="6398"/>
                    <a:pt x="19364" y="6381"/>
                  </a:cubicBezTo>
                  <a:cubicBezTo>
                    <a:pt x="19364" y="6360"/>
                    <a:pt x="19382" y="6335"/>
                    <a:pt x="19395" y="6318"/>
                  </a:cubicBezTo>
                  <a:cubicBezTo>
                    <a:pt x="19444" y="6253"/>
                    <a:pt x="19486" y="6187"/>
                    <a:pt x="19521" y="6119"/>
                  </a:cubicBezTo>
                  <a:cubicBezTo>
                    <a:pt x="19557" y="6051"/>
                    <a:pt x="19586" y="5982"/>
                    <a:pt x="19611" y="5910"/>
                  </a:cubicBezTo>
                  <a:cubicBezTo>
                    <a:pt x="19632" y="5925"/>
                    <a:pt x="19658" y="5925"/>
                    <a:pt x="19682" y="5917"/>
                  </a:cubicBezTo>
                  <a:cubicBezTo>
                    <a:pt x="19706" y="5909"/>
                    <a:pt x="19728" y="5893"/>
                    <a:pt x="19740" y="5876"/>
                  </a:cubicBezTo>
                  <a:cubicBezTo>
                    <a:pt x="19746" y="5860"/>
                    <a:pt x="19749" y="5840"/>
                    <a:pt x="19755" y="5821"/>
                  </a:cubicBezTo>
                  <a:cubicBezTo>
                    <a:pt x="19760" y="5802"/>
                    <a:pt x="19768" y="5784"/>
                    <a:pt x="19783" y="5771"/>
                  </a:cubicBezTo>
                  <a:cubicBezTo>
                    <a:pt x="19796" y="5759"/>
                    <a:pt x="19811" y="5747"/>
                    <a:pt x="19826" y="5737"/>
                  </a:cubicBezTo>
                  <a:cubicBezTo>
                    <a:pt x="19842" y="5726"/>
                    <a:pt x="19857" y="5717"/>
                    <a:pt x="19870" y="5708"/>
                  </a:cubicBezTo>
                  <a:cubicBezTo>
                    <a:pt x="19928" y="5672"/>
                    <a:pt x="19971" y="5628"/>
                    <a:pt x="19998" y="5580"/>
                  </a:cubicBezTo>
                  <a:cubicBezTo>
                    <a:pt x="20024" y="5531"/>
                    <a:pt x="20033" y="5479"/>
                    <a:pt x="20024" y="5426"/>
                  </a:cubicBezTo>
                  <a:cubicBezTo>
                    <a:pt x="19968" y="5418"/>
                    <a:pt x="19917" y="5389"/>
                    <a:pt x="19884" y="5353"/>
                  </a:cubicBezTo>
                  <a:cubicBezTo>
                    <a:pt x="19850" y="5317"/>
                    <a:pt x="19833" y="5273"/>
                    <a:pt x="19845" y="5233"/>
                  </a:cubicBezTo>
                  <a:cubicBezTo>
                    <a:pt x="19879" y="5241"/>
                    <a:pt x="19908" y="5250"/>
                    <a:pt x="19937" y="5259"/>
                  </a:cubicBezTo>
                  <a:cubicBezTo>
                    <a:pt x="19965" y="5267"/>
                    <a:pt x="19993" y="5277"/>
                    <a:pt x="20024" y="5287"/>
                  </a:cubicBezTo>
                  <a:cubicBezTo>
                    <a:pt x="20052" y="5243"/>
                    <a:pt x="20075" y="5199"/>
                    <a:pt x="20097" y="5155"/>
                  </a:cubicBezTo>
                  <a:cubicBezTo>
                    <a:pt x="20120" y="5111"/>
                    <a:pt x="20141" y="5067"/>
                    <a:pt x="20166" y="5022"/>
                  </a:cubicBezTo>
                  <a:cubicBezTo>
                    <a:pt x="20206" y="5039"/>
                    <a:pt x="20255" y="5052"/>
                    <a:pt x="20306" y="5057"/>
                  </a:cubicBezTo>
                  <a:cubicBezTo>
                    <a:pt x="20357" y="5062"/>
                    <a:pt x="20410" y="5060"/>
                    <a:pt x="20456" y="5048"/>
                  </a:cubicBezTo>
                  <a:cubicBezTo>
                    <a:pt x="20450" y="5031"/>
                    <a:pt x="20453" y="5013"/>
                    <a:pt x="20462" y="4997"/>
                  </a:cubicBezTo>
                  <a:cubicBezTo>
                    <a:pt x="20471" y="4981"/>
                    <a:pt x="20487" y="4968"/>
                    <a:pt x="20505" y="4959"/>
                  </a:cubicBezTo>
                  <a:cubicBezTo>
                    <a:pt x="20530" y="4951"/>
                    <a:pt x="20554" y="4943"/>
                    <a:pt x="20554" y="4926"/>
                  </a:cubicBezTo>
                  <a:cubicBezTo>
                    <a:pt x="20554" y="4913"/>
                    <a:pt x="20554" y="4896"/>
                    <a:pt x="20542" y="4888"/>
                  </a:cubicBezTo>
                  <a:cubicBezTo>
                    <a:pt x="20524" y="4867"/>
                    <a:pt x="20505" y="4843"/>
                    <a:pt x="20486" y="4818"/>
                  </a:cubicBezTo>
                  <a:cubicBezTo>
                    <a:pt x="20467" y="4794"/>
                    <a:pt x="20447" y="4770"/>
                    <a:pt x="20425" y="4749"/>
                  </a:cubicBezTo>
                  <a:cubicBezTo>
                    <a:pt x="20459" y="4739"/>
                    <a:pt x="20496" y="4733"/>
                    <a:pt x="20532" y="4734"/>
                  </a:cubicBezTo>
                  <a:cubicBezTo>
                    <a:pt x="20568" y="4735"/>
                    <a:pt x="20604" y="4743"/>
                    <a:pt x="20635" y="4757"/>
                  </a:cubicBezTo>
                  <a:cubicBezTo>
                    <a:pt x="20647" y="4766"/>
                    <a:pt x="20659" y="4774"/>
                    <a:pt x="20674" y="4781"/>
                  </a:cubicBezTo>
                  <a:cubicBezTo>
                    <a:pt x="20689" y="4787"/>
                    <a:pt x="20706" y="4791"/>
                    <a:pt x="20727" y="4791"/>
                  </a:cubicBezTo>
                  <a:cubicBezTo>
                    <a:pt x="20752" y="4795"/>
                    <a:pt x="20774" y="4787"/>
                    <a:pt x="20793" y="4774"/>
                  </a:cubicBezTo>
                  <a:cubicBezTo>
                    <a:pt x="20812" y="4761"/>
                    <a:pt x="20829" y="4743"/>
                    <a:pt x="20844" y="4728"/>
                  </a:cubicBezTo>
                  <a:cubicBezTo>
                    <a:pt x="20863" y="4707"/>
                    <a:pt x="20878" y="4687"/>
                    <a:pt x="20889" y="4667"/>
                  </a:cubicBezTo>
                  <a:cubicBezTo>
                    <a:pt x="20900" y="4647"/>
                    <a:pt x="20906" y="4627"/>
                    <a:pt x="20906" y="4606"/>
                  </a:cubicBezTo>
                  <a:cubicBezTo>
                    <a:pt x="20912" y="4545"/>
                    <a:pt x="20865" y="4487"/>
                    <a:pt x="20821" y="4430"/>
                  </a:cubicBezTo>
                  <a:cubicBezTo>
                    <a:pt x="20778" y="4374"/>
                    <a:pt x="20740" y="4318"/>
                    <a:pt x="20764" y="4261"/>
                  </a:cubicBezTo>
                  <a:cubicBezTo>
                    <a:pt x="20823" y="4293"/>
                    <a:pt x="20881" y="4326"/>
                    <a:pt x="20936" y="4363"/>
                  </a:cubicBezTo>
                  <a:cubicBezTo>
                    <a:pt x="20991" y="4400"/>
                    <a:pt x="21042" y="4440"/>
                    <a:pt x="21085" y="4484"/>
                  </a:cubicBezTo>
                  <a:cubicBezTo>
                    <a:pt x="21125" y="4440"/>
                    <a:pt x="21165" y="4394"/>
                    <a:pt x="21213" y="4355"/>
                  </a:cubicBezTo>
                  <a:cubicBezTo>
                    <a:pt x="21261" y="4316"/>
                    <a:pt x="21316" y="4284"/>
                    <a:pt x="21387" y="4270"/>
                  </a:cubicBezTo>
                  <a:cubicBezTo>
                    <a:pt x="21412" y="4265"/>
                    <a:pt x="21437" y="4261"/>
                    <a:pt x="21459" y="4256"/>
                  </a:cubicBezTo>
                  <a:cubicBezTo>
                    <a:pt x="21481" y="4251"/>
                    <a:pt x="21502" y="4244"/>
                    <a:pt x="21517" y="4236"/>
                  </a:cubicBezTo>
                  <a:cubicBezTo>
                    <a:pt x="21535" y="4223"/>
                    <a:pt x="21542" y="4203"/>
                    <a:pt x="21536" y="4186"/>
                  </a:cubicBezTo>
                  <a:cubicBezTo>
                    <a:pt x="21531" y="4170"/>
                    <a:pt x="21514" y="4156"/>
                    <a:pt x="21486" y="4156"/>
                  </a:cubicBezTo>
                  <a:cubicBezTo>
                    <a:pt x="21566" y="4139"/>
                    <a:pt x="21579" y="4076"/>
                    <a:pt x="21579" y="4026"/>
                  </a:cubicBezTo>
                  <a:cubicBezTo>
                    <a:pt x="21579" y="3971"/>
                    <a:pt x="21554" y="3916"/>
                    <a:pt x="21591" y="3866"/>
                  </a:cubicBezTo>
                  <a:cubicBezTo>
                    <a:pt x="21526" y="3866"/>
                    <a:pt x="21505" y="3826"/>
                    <a:pt x="21486" y="3782"/>
                  </a:cubicBezTo>
                  <a:cubicBezTo>
                    <a:pt x="21468" y="3737"/>
                    <a:pt x="21452" y="3689"/>
                    <a:pt x="21400" y="3672"/>
                  </a:cubicBezTo>
                  <a:cubicBezTo>
                    <a:pt x="21366" y="3657"/>
                    <a:pt x="21324" y="3655"/>
                    <a:pt x="21289" y="3651"/>
                  </a:cubicBezTo>
                  <a:cubicBezTo>
                    <a:pt x="21253" y="3647"/>
                    <a:pt x="21224" y="3641"/>
                    <a:pt x="21215" y="3618"/>
                  </a:cubicBezTo>
                  <a:cubicBezTo>
                    <a:pt x="21184" y="3630"/>
                    <a:pt x="21151" y="3639"/>
                    <a:pt x="21119" y="3644"/>
                  </a:cubicBezTo>
                  <a:cubicBezTo>
                    <a:pt x="21087" y="3649"/>
                    <a:pt x="21054" y="3651"/>
                    <a:pt x="21023" y="3651"/>
                  </a:cubicBezTo>
                  <a:cubicBezTo>
                    <a:pt x="21005" y="3626"/>
                    <a:pt x="20988" y="3598"/>
                    <a:pt x="20969" y="3569"/>
                  </a:cubicBezTo>
                  <a:cubicBezTo>
                    <a:pt x="20951" y="3541"/>
                    <a:pt x="20931" y="3512"/>
                    <a:pt x="20906" y="3487"/>
                  </a:cubicBezTo>
                  <a:cubicBezTo>
                    <a:pt x="20888" y="3460"/>
                    <a:pt x="20861" y="3432"/>
                    <a:pt x="20829" y="3411"/>
                  </a:cubicBezTo>
                  <a:cubicBezTo>
                    <a:pt x="20797" y="3389"/>
                    <a:pt x="20758" y="3374"/>
                    <a:pt x="20715" y="3369"/>
                  </a:cubicBezTo>
                  <a:cubicBezTo>
                    <a:pt x="20669" y="3361"/>
                    <a:pt x="20619" y="3366"/>
                    <a:pt x="20580" y="3381"/>
                  </a:cubicBezTo>
                  <a:cubicBezTo>
                    <a:pt x="20541" y="3396"/>
                    <a:pt x="20511" y="3420"/>
                    <a:pt x="20505" y="3449"/>
                  </a:cubicBezTo>
                  <a:cubicBezTo>
                    <a:pt x="20434" y="3424"/>
                    <a:pt x="20357" y="3402"/>
                    <a:pt x="20278" y="3384"/>
                  </a:cubicBezTo>
                  <a:cubicBezTo>
                    <a:pt x="20200" y="3366"/>
                    <a:pt x="20120" y="3353"/>
                    <a:pt x="20042" y="3344"/>
                  </a:cubicBezTo>
                  <a:cubicBezTo>
                    <a:pt x="20033" y="3361"/>
                    <a:pt x="20016" y="3373"/>
                    <a:pt x="19997" y="3381"/>
                  </a:cubicBezTo>
                  <a:cubicBezTo>
                    <a:pt x="19978" y="3389"/>
                    <a:pt x="19956" y="3395"/>
                    <a:pt x="19938" y="3399"/>
                  </a:cubicBezTo>
                  <a:cubicBezTo>
                    <a:pt x="19916" y="3407"/>
                    <a:pt x="19896" y="3420"/>
                    <a:pt x="19886" y="3433"/>
                  </a:cubicBezTo>
                  <a:cubicBezTo>
                    <a:pt x="19876" y="3447"/>
                    <a:pt x="19876" y="3462"/>
                    <a:pt x="19894" y="3475"/>
                  </a:cubicBezTo>
                  <a:cubicBezTo>
                    <a:pt x="19863" y="3475"/>
                    <a:pt x="19831" y="3478"/>
                    <a:pt x="19800" y="3481"/>
                  </a:cubicBezTo>
                  <a:cubicBezTo>
                    <a:pt x="19769" y="3484"/>
                    <a:pt x="19740" y="3487"/>
                    <a:pt x="19715" y="3487"/>
                  </a:cubicBezTo>
                  <a:cubicBezTo>
                    <a:pt x="19715" y="3504"/>
                    <a:pt x="19719" y="3521"/>
                    <a:pt x="19725" y="3538"/>
                  </a:cubicBezTo>
                  <a:cubicBezTo>
                    <a:pt x="19731" y="3555"/>
                    <a:pt x="19740" y="3573"/>
                    <a:pt x="19752" y="3592"/>
                  </a:cubicBezTo>
                  <a:cubicBezTo>
                    <a:pt x="19740" y="3613"/>
                    <a:pt x="19714" y="3626"/>
                    <a:pt x="19683" y="3631"/>
                  </a:cubicBezTo>
                  <a:cubicBezTo>
                    <a:pt x="19652" y="3636"/>
                    <a:pt x="19617" y="3634"/>
                    <a:pt x="19586" y="3626"/>
                  </a:cubicBezTo>
                  <a:cubicBezTo>
                    <a:pt x="19552" y="3618"/>
                    <a:pt x="19526" y="3605"/>
                    <a:pt x="19505" y="3589"/>
                  </a:cubicBezTo>
                  <a:cubicBezTo>
                    <a:pt x="19484" y="3572"/>
                    <a:pt x="19469" y="3552"/>
                    <a:pt x="19456" y="3529"/>
                  </a:cubicBezTo>
                  <a:cubicBezTo>
                    <a:pt x="19432" y="3512"/>
                    <a:pt x="19419" y="3487"/>
                    <a:pt x="19419" y="3466"/>
                  </a:cubicBezTo>
                  <a:cubicBezTo>
                    <a:pt x="19419" y="3441"/>
                    <a:pt x="19444" y="3407"/>
                    <a:pt x="19432" y="3378"/>
                  </a:cubicBezTo>
                  <a:cubicBezTo>
                    <a:pt x="19425" y="3357"/>
                    <a:pt x="19396" y="3343"/>
                    <a:pt x="19364" y="3339"/>
                  </a:cubicBezTo>
                  <a:cubicBezTo>
                    <a:pt x="19331" y="3336"/>
                    <a:pt x="19296" y="3342"/>
                    <a:pt x="19277" y="3361"/>
                  </a:cubicBezTo>
                  <a:cubicBezTo>
                    <a:pt x="19256" y="3378"/>
                    <a:pt x="19245" y="3400"/>
                    <a:pt x="19245" y="3422"/>
                  </a:cubicBezTo>
                  <a:cubicBezTo>
                    <a:pt x="19245" y="3445"/>
                    <a:pt x="19256" y="3468"/>
                    <a:pt x="19277" y="3487"/>
                  </a:cubicBezTo>
                  <a:cubicBezTo>
                    <a:pt x="19231" y="3496"/>
                    <a:pt x="19193" y="3510"/>
                    <a:pt x="19163" y="3531"/>
                  </a:cubicBezTo>
                  <a:cubicBezTo>
                    <a:pt x="19134" y="3551"/>
                    <a:pt x="19114" y="3578"/>
                    <a:pt x="19105" y="3609"/>
                  </a:cubicBezTo>
                  <a:cubicBezTo>
                    <a:pt x="19092" y="3643"/>
                    <a:pt x="19105" y="3672"/>
                    <a:pt x="19092" y="3706"/>
                  </a:cubicBezTo>
                  <a:cubicBezTo>
                    <a:pt x="19080" y="3740"/>
                    <a:pt x="19043" y="3769"/>
                    <a:pt x="18994" y="3761"/>
                  </a:cubicBezTo>
                  <a:cubicBezTo>
                    <a:pt x="18852" y="3714"/>
                    <a:pt x="18901" y="3512"/>
                    <a:pt x="18747" y="3496"/>
                  </a:cubicBezTo>
                  <a:cubicBezTo>
                    <a:pt x="18667" y="3487"/>
                    <a:pt x="18617" y="3538"/>
                    <a:pt x="18593" y="3592"/>
                  </a:cubicBezTo>
                  <a:cubicBezTo>
                    <a:pt x="18583" y="3618"/>
                    <a:pt x="18583" y="3644"/>
                    <a:pt x="18586" y="3669"/>
                  </a:cubicBezTo>
                  <a:cubicBezTo>
                    <a:pt x="18588" y="3694"/>
                    <a:pt x="18593" y="3718"/>
                    <a:pt x="18593" y="3740"/>
                  </a:cubicBezTo>
                  <a:cubicBezTo>
                    <a:pt x="18583" y="3803"/>
                    <a:pt x="18551" y="3860"/>
                    <a:pt x="18505" y="3914"/>
                  </a:cubicBezTo>
                  <a:cubicBezTo>
                    <a:pt x="18458" y="3967"/>
                    <a:pt x="18398" y="4015"/>
                    <a:pt x="18333" y="4059"/>
                  </a:cubicBezTo>
                  <a:cubicBezTo>
                    <a:pt x="18312" y="4072"/>
                    <a:pt x="18292" y="4085"/>
                    <a:pt x="18274" y="4100"/>
                  </a:cubicBezTo>
                  <a:cubicBezTo>
                    <a:pt x="18256" y="4115"/>
                    <a:pt x="18241" y="4131"/>
                    <a:pt x="18229" y="4148"/>
                  </a:cubicBezTo>
                  <a:cubicBezTo>
                    <a:pt x="18216" y="4160"/>
                    <a:pt x="18210" y="4176"/>
                    <a:pt x="18203" y="4192"/>
                  </a:cubicBezTo>
                  <a:cubicBezTo>
                    <a:pt x="18196" y="4207"/>
                    <a:pt x="18188" y="4223"/>
                    <a:pt x="18173" y="4236"/>
                  </a:cubicBezTo>
                  <a:cubicBezTo>
                    <a:pt x="18161" y="4257"/>
                    <a:pt x="18142" y="4277"/>
                    <a:pt x="18120" y="4296"/>
                  </a:cubicBezTo>
                  <a:cubicBezTo>
                    <a:pt x="18097" y="4315"/>
                    <a:pt x="18071" y="4333"/>
                    <a:pt x="18043" y="4349"/>
                  </a:cubicBezTo>
                  <a:cubicBezTo>
                    <a:pt x="17994" y="4385"/>
                    <a:pt x="17943" y="4421"/>
                    <a:pt x="17892" y="4458"/>
                  </a:cubicBezTo>
                  <a:cubicBezTo>
                    <a:pt x="17840" y="4495"/>
                    <a:pt x="17787" y="4532"/>
                    <a:pt x="17735" y="4572"/>
                  </a:cubicBezTo>
                  <a:cubicBezTo>
                    <a:pt x="17710" y="4589"/>
                    <a:pt x="17686" y="4606"/>
                    <a:pt x="17661" y="4606"/>
                  </a:cubicBezTo>
                  <a:cubicBezTo>
                    <a:pt x="17605" y="4606"/>
                    <a:pt x="17581" y="4560"/>
                    <a:pt x="17593" y="4526"/>
                  </a:cubicBezTo>
                  <a:cubicBezTo>
                    <a:pt x="17599" y="4507"/>
                    <a:pt x="17612" y="4491"/>
                    <a:pt x="17628" y="4478"/>
                  </a:cubicBezTo>
                  <a:cubicBezTo>
                    <a:pt x="17644" y="4465"/>
                    <a:pt x="17664" y="4455"/>
                    <a:pt x="17686" y="4446"/>
                  </a:cubicBezTo>
                  <a:cubicBezTo>
                    <a:pt x="17815" y="4366"/>
                    <a:pt x="17912" y="4267"/>
                    <a:pt x="17985" y="4160"/>
                  </a:cubicBezTo>
                  <a:cubicBezTo>
                    <a:pt x="18057" y="4052"/>
                    <a:pt x="18105" y="3935"/>
                    <a:pt x="18136" y="3819"/>
                  </a:cubicBezTo>
                  <a:cubicBezTo>
                    <a:pt x="18142" y="3803"/>
                    <a:pt x="18145" y="3788"/>
                    <a:pt x="18145" y="3773"/>
                  </a:cubicBezTo>
                  <a:cubicBezTo>
                    <a:pt x="18145" y="3757"/>
                    <a:pt x="18142" y="3742"/>
                    <a:pt x="18136" y="3723"/>
                  </a:cubicBezTo>
                  <a:cubicBezTo>
                    <a:pt x="18130" y="3710"/>
                    <a:pt x="18121" y="3700"/>
                    <a:pt x="18110" y="3689"/>
                  </a:cubicBezTo>
                  <a:cubicBezTo>
                    <a:pt x="18099" y="3677"/>
                    <a:pt x="18087" y="3666"/>
                    <a:pt x="18074" y="3651"/>
                  </a:cubicBezTo>
                  <a:cubicBezTo>
                    <a:pt x="18053" y="3622"/>
                    <a:pt x="18045" y="3589"/>
                    <a:pt x="18051" y="3557"/>
                  </a:cubicBezTo>
                  <a:cubicBezTo>
                    <a:pt x="18057" y="3525"/>
                    <a:pt x="18077" y="3493"/>
                    <a:pt x="18111" y="3466"/>
                  </a:cubicBezTo>
                  <a:cubicBezTo>
                    <a:pt x="18059" y="3449"/>
                    <a:pt x="18010" y="3432"/>
                    <a:pt x="17961" y="3416"/>
                  </a:cubicBezTo>
                  <a:cubicBezTo>
                    <a:pt x="17912" y="3400"/>
                    <a:pt x="17865" y="3384"/>
                    <a:pt x="17815" y="3369"/>
                  </a:cubicBezTo>
                  <a:cubicBezTo>
                    <a:pt x="17809" y="3365"/>
                    <a:pt x="17798" y="3363"/>
                    <a:pt x="17787" y="3361"/>
                  </a:cubicBezTo>
                  <a:cubicBezTo>
                    <a:pt x="17777" y="3359"/>
                    <a:pt x="17766" y="3357"/>
                    <a:pt x="17760" y="3353"/>
                  </a:cubicBezTo>
                  <a:cubicBezTo>
                    <a:pt x="17723" y="3348"/>
                    <a:pt x="17684" y="3355"/>
                    <a:pt x="17650" y="3368"/>
                  </a:cubicBezTo>
                  <a:cubicBezTo>
                    <a:pt x="17616" y="3381"/>
                    <a:pt x="17587" y="3401"/>
                    <a:pt x="17568" y="3424"/>
                  </a:cubicBezTo>
                  <a:cubicBezTo>
                    <a:pt x="17541" y="3445"/>
                    <a:pt x="17517" y="3467"/>
                    <a:pt x="17494" y="3487"/>
                  </a:cubicBezTo>
                  <a:cubicBezTo>
                    <a:pt x="17470" y="3507"/>
                    <a:pt x="17445" y="3525"/>
                    <a:pt x="17414" y="3538"/>
                  </a:cubicBezTo>
                  <a:cubicBezTo>
                    <a:pt x="17386" y="3546"/>
                    <a:pt x="17354" y="3550"/>
                    <a:pt x="17322" y="3553"/>
                  </a:cubicBezTo>
                  <a:cubicBezTo>
                    <a:pt x="17289" y="3557"/>
                    <a:pt x="17257" y="3559"/>
                    <a:pt x="17229" y="3563"/>
                  </a:cubicBezTo>
                  <a:cubicBezTo>
                    <a:pt x="17186" y="3573"/>
                    <a:pt x="17141" y="3591"/>
                    <a:pt x="17104" y="3614"/>
                  </a:cubicBezTo>
                  <a:cubicBezTo>
                    <a:pt x="17067" y="3638"/>
                    <a:pt x="17038" y="3666"/>
                    <a:pt x="17025" y="3697"/>
                  </a:cubicBezTo>
                  <a:cubicBezTo>
                    <a:pt x="17013" y="3681"/>
                    <a:pt x="17007" y="3663"/>
                    <a:pt x="17007" y="3645"/>
                  </a:cubicBezTo>
                  <a:cubicBezTo>
                    <a:pt x="17007" y="3627"/>
                    <a:pt x="17013" y="3609"/>
                    <a:pt x="17025" y="3592"/>
                  </a:cubicBezTo>
                  <a:cubicBezTo>
                    <a:pt x="16973" y="3601"/>
                    <a:pt x="16921" y="3583"/>
                    <a:pt x="16886" y="3555"/>
                  </a:cubicBezTo>
                  <a:cubicBezTo>
                    <a:pt x="16851" y="3527"/>
                    <a:pt x="16834" y="3489"/>
                    <a:pt x="16853" y="3458"/>
                  </a:cubicBezTo>
                  <a:cubicBezTo>
                    <a:pt x="16834" y="3449"/>
                    <a:pt x="16816" y="3443"/>
                    <a:pt x="16795" y="3437"/>
                  </a:cubicBezTo>
                  <a:cubicBezTo>
                    <a:pt x="16774" y="3430"/>
                    <a:pt x="16751" y="3424"/>
                    <a:pt x="16723" y="3416"/>
                  </a:cubicBezTo>
                  <a:cubicBezTo>
                    <a:pt x="16717" y="3411"/>
                    <a:pt x="16722" y="3409"/>
                    <a:pt x="16725" y="3408"/>
                  </a:cubicBezTo>
                  <a:cubicBezTo>
                    <a:pt x="16729" y="3407"/>
                    <a:pt x="16732" y="3407"/>
                    <a:pt x="16723" y="3407"/>
                  </a:cubicBezTo>
                  <a:cubicBezTo>
                    <a:pt x="16692" y="3380"/>
                    <a:pt x="16648" y="3362"/>
                    <a:pt x="16597" y="3354"/>
                  </a:cubicBezTo>
                  <a:cubicBezTo>
                    <a:pt x="16547" y="3346"/>
                    <a:pt x="16492" y="3348"/>
                    <a:pt x="16439" y="3361"/>
                  </a:cubicBezTo>
                  <a:cubicBezTo>
                    <a:pt x="16427" y="3365"/>
                    <a:pt x="16415" y="3369"/>
                    <a:pt x="16402" y="3371"/>
                  </a:cubicBezTo>
                  <a:cubicBezTo>
                    <a:pt x="16390" y="3374"/>
                    <a:pt x="16378" y="3374"/>
                    <a:pt x="16365" y="3369"/>
                  </a:cubicBezTo>
                  <a:cubicBezTo>
                    <a:pt x="16359" y="3369"/>
                    <a:pt x="16348" y="3367"/>
                    <a:pt x="16338" y="3363"/>
                  </a:cubicBezTo>
                  <a:cubicBezTo>
                    <a:pt x="16327" y="3359"/>
                    <a:pt x="16316" y="3353"/>
                    <a:pt x="16310" y="3344"/>
                  </a:cubicBezTo>
                  <a:cubicBezTo>
                    <a:pt x="16285" y="3323"/>
                    <a:pt x="16263" y="3301"/>
                    <a:pt x="16244" y="3277"/>
                  </a:cubicBezTo>
                  <a:cubicBezTo>
                    <a:pt x="16225" y="3254"/>
                    <a:pt x="16208" y="3228"/>
                    <a:pt x="16193" y="3201"/>
                  </a:cubicBezTo>
                  <a:cubicBezTo>
                    <a:pt x="16174" y="3180"/>
                    <a:pt x="16139" y="3170"/>
                    <a:pt x="16098" y="3164"/>
                  </a:cubicBezTo>
                  <a:cubicBezTo>
                    <a:pt x="16058" y="3159"/>
                    <a:pt x="16014" y="3159"/>
                    <a:pt x="15977" y="3159"/>
                  </a:cubicBezTo>
                  <a:cubicBezTo>
                    <a:pt x="15899" y="3163"/>
                    <a:pt x="15825" y="3163"/>
                    <a:pt x="15751" y="3161"/>
                  </a:cubicBezTo>
                  <a:cubicBezTo>
                    <a:pt x="15676" y="3159"/>
                    <a:pt x="15600" y="3155"/>
                    <a:pt x="15520" y="3151"/>
                  </a:cubicBezTo>
                  <a:cubicBezTo>
                    <a:pt x="15483" y="3146"/>
                    <a:pt x="15448" y="3142"/>
                    <a:pt x="15412" y="3141"/>
                  </a:cubicBezTo>
                  <a:cubicBezTo>
                    <a:pt x="15377" y="3140"/>
                    <a:pt x="15341" y="3142"/>
                    <a:pt x="15304" y="3151"/>
                  </a:cubicBezTo>
                  <a:cubicBezTo>
                    <a:pt x="15264" y="3159"/>
                    <a:pt x="15232" y="3175"/>
                    <a:pt x="15211" y="3194"/>
                  </a:cubicBezTo>
                  <a:cubicBezTo>
                    <a:pt x="15190" y="3213"/>
                    <a:pt x="15181" y="3235"/>
                    <a:pt x="15187" y="3256"/>
                  </a:cubicBezTo>
                  <a:cubicBezTo>
                    <a:pt x="15181" y="3243"/>
                    <a:pt x="15171" y="3233"/>
                    <a:pt x="15161" y="3222"/>
                  </a:cubicBezTo>
                  <a:cubicBezTo>
                    <a:pt x="15151" y="3211"/>
                    <a:pt x="15141" y="3199"/>
                    <a:pt x="15131" y="3184"/>
                  </a:cubicBezTo>
                  <a:cubicBezTo>
                    <a:pt x="15011" y="3199"/>
                    <a:pt x="14889" y="3228"/>
                    <a:pt x="14776" y="3269"/>
                  </a:cubicBezTo>
                  <a:cubicBezTo>
                    <a:pt x="14662" y="3310"/>
                    <a:pt x="14558" y="3363"/>
                    <a:pt x="14471" y="3424"/>
                  </a:cubicBezTo>
                  <a:cubicBezTo>
                    <a:pt x="14440" y="3392"/>
                    <a:pt x="14393" y="3379"/>
                    <a:pt x="14338" y="3374"/>
                  </a:cubicBezTo>
                  <a:cubicBezTo>
                    <a:pt x="14283" y="3369"/>
                    <a:pt x="14221" y="3374"/>
                    <a:pt x="14163" y="3378"/>
                  </a:cubicBezTo>
                  <a:cubicBezTo>
                    <a:pt x="14138" y="3384"/>
                    <a:pt x="14112" y="3389"/>
                    <a:pt x="14089" y="3395"/>
                  </a:cubicBezTo>
                  <a:cubicBezTo>
                    <a:pt x="14066" y="3401"/>
                    <a:pt x="14045" y="3407"/>
                    <a:pt x="14033" y="3416"/>
                  </a:cubicBezTo>
                  <a:cubicBezTo>
                    <a:pt x="14021" y="3428"/>
                    <a:pt x="14015" y="3446"/>
                    <a:pt x="14018" y="3462"/>
                  </a:cubicBezTo>
                  <a:cubicBezTo>
                    <a:pt x="14021" y="3478"/>
                    <a:pt x="14033" y="3491"/>
                    <a:pt x="14058" y="3496"/>
                  </a:cubicBezTo>
                  <a:cubicBezTo>
                    <a:pt x="13956" y="3504"/>
                    <a:pt x="13853" y="3521"/>
                    <a:pt x="13754" y="3545"/>
                  </a:cubicBezTo>
                  <a:cubicBezTo>
                    <a:pt x="13655" y="3570"/>
                    <a:pt x="13561" y="3603"/>
                    <a:pt x="13478" y="3643"/>
                  </a:cubicBezTo>
                  <a:cubicBezTo>
                    <a:pt x="13438" y="3630"/>
                    <a:pt x="13412" y="3604"/>
                    <a:pt x="13400" y="3574"/>
                  </a:cubicBezTo>
                  <a:cubicBezTo>
                    <a:pt x="13388" y="3545"/>
                    <a:pt x="13392" y="3512"/>
                    <a:pt x="13410" y="3487"/>
                  </a:cubicBezTo>
                  <a:cubicBezTo>
                    <a:pt x="13432" y="3460"/>
                    <a:pt x="13461" y="3436"/>
                    <a:pt x="13493" y="3414"/>
                  </a:cubicBezTo>
                  <a:cubicBezTo>
                    <a:pt x="13526" y="3391"/>
                    <a:pt x="13561" y="3371"/>
                    <a:pt x="13595" y="3353"/>
                  </a:cubicBezTo>
                  <a:cubicBezTo>
                    <a:pt x="13638" y="3331"/>
                    <a:pt x="13683" y="3309"/>
                    <a:pt x="13730" y="3290"/>
                  </a:cubicBezTo>
                  <a:cubicBezTo>
                    <a:pt x="13777" y="3272"/>
                    <a:pt x="13826" y="3256"/>
                    <a:pt x="13879" y="3247"/>
                  </a:cubicBezTo>
                  <a:cubicBezTo>
                    <a:pt x="13891" y="3247"/>
                    <a:pt x="13907" y="3245"/>
                    <a:pt x="13923" y="3242"/>
                  </a:cubicBezTo>
                  <a:cubicBezTo>
                    <a:pt x="13939" y="3239"/>
                    <a:pt x="13956" y="3235"/>
                    <a:pt x="13971" y="3231"/>
                  </a:cubicBezTo>
                  <a:cubicBezTo>
                    <a:pt x="13990" y="3226"/>
                    <a:pt x="14005" y="3215"/>
                    <a:pt x="14021" y="3202"/>
                  </a:cubicBezTo>
                  <a:cubicBezTo>
                    <a:pt x="14036" y="3190"/>
                    <a:pt x="14052" y="3176"/>
                    <a:pt x="14070" y="3167"/>
                  </a:cubicBezTo>
                  <a:cubicBezTo>
                    <a:pt x="14098" y="3151"/>
                    <a:pt x="14130" y="3135"/>
                    <a:pt x="14164" y="3120"/>
                  </a:cubicBezTo>
                  <a:cubicBezTo>
                    <a:pt x="14198" y="3105"/>
                    <a:pt x="14234" y="3092"/>
                    <a:pt x="14268" y="3079"/>
                  </a:cubicBezTo>
                  <a:lnTo>
                    <a:pt x="14928" y="2839"/>
                  </a:lnTo>
                  <a:cubicBezTo>
                    <a:pt x="14989" y="2814"/>
                    <a:pt x="15057" y="2797"/>
                    <a:pt x="15131" y="2797"/>
                  </a:cubicBezTo>
                  <a:cubicBezTo>
                    <a:pt x="15187" y="2797"/>
                    <a:pt x="15224" y="2814"/>
                    <a:pt x="15279" y="2806"/>
                  </a:cubicBezTo>
                  <a:cubicBezTo>
                    <a:pt x="15298" y="2801"/>
                    <a:pt x="15316" y="2795"/>
                    <a:pt x="15333" y="2789"/>
                  </a:cubicBezTo>
                  <a:cubicBezTo>
                    <a:pt x="15350" y="2783"/>
                    <a:pt x="15366" y="2776"/>
                    <a:pt x="15378" y="2772"/>
                  </a:cubicBezTo>
                  <a:cubicBezTo>
                    <a:pt x="15437" y="2745"/>
                    <a:pt x="15502" y="2729"/>
                    <a:pt x="15568" y="2723"/>
                  </a:cubicBezTo>
                  <a:cubicBezTo>
                    <a:pt x="15634" y="2717"/>
                    <a:pt x="15702" y="2722"/>
                    <a:pt x="15767" y="2734"/>
                  </a:cubicBezTo>
                  <a:cubicBezTo>
                    <a:pt x="15779" y="2738"/>
                    <a:pt x="15796" y="2743"/>
                    <a:pt x="15813" y="2745"/>
                  </a:cubicBezTo>
                  <a:cubicBezTo>
                    <a:pt x="15830" y="2747"/>
                    <a:pt x="15847" y="2747"/>
                    <a:pt x="15859" y="2743"/>
                  </a:cubicBezTo>
                  <a:cubicBezTo>
                    <a:pt x="15896" y="2734"/>
                    <a:pt x="15909" y="2709"/>
                    <a:pt x="15952" y="2692"/>
                  </a:cubicBezTo>
                  <a:cubicBezTo>
                    <a:pt x="16051" y="2654"/>
                    <a:pt x="16143" y="2764"/>
                    <a:pt x="16260" y="2751"/>
                  </a:cubicBezTo>
                  <a:cubicBezTo>
                    <a:pt x="16285" y="2751"/>
                    <a:pt x="16311" y="2745"/>
                    <a:pt x="16336" y="2739"/>
                  </a:cubicBezTo>
                  <a:cubicBezTo>
                    <a:pt x="16361" y="2734"/>
                    <a:pt x="16384" y="2730"/>
                    <a:pt x="16402" y="2734"/>
                  </a:cubicBezTo>
                  <a:cubicBezTo>
                    <a:pt x="16415" y="2738"/>
                    <a:pt x="16424" y="2746"/>
                    <a:pt x="16434" y="2752"/>
                  </a:cubicBezTo>
                  <a:cubicBezTo>
                    <a:pt x="16444" y="2758"/>
                    <a:pt x="16455" y="2764"/>
                    <a:pt x="16470" y="2764"/>
                  </a:cubicBezTo>
                  <a:cubicBezTo>
                    <a:pt x="16495" y="2768"/>
                    <a:pt x="16513" y="2758"/>
                    <a:pt x="16530" y="2745"/>
                  </a:cubicBezTo>
                  <a:cubicBezTo>
                    <a:pt x="16547" y="2731"/>
                    <a:pt x="16563" y="2713"/>
                    <a:pt x="16581" y="2701"/>
                  </a:cubicBezTo>
                  <a:cubicBezTo>
                    <a:pt x="16597" y="2692"/>
                    <a:pt x="16614" y="2686"/>
                    <a:pt x="16631" y="2680"/>
                  </a:cubicBezTo>
                  <a:cubicBezTo>
                    <a:pt x="16649" y="2674"/>
                    <a:pt x="16668" y="2669"/>
                    <a:pt x="16686" y="2663"/>
                  </a:cubicBezTo>
                  <a:cubicBezTo>
                    <a:pt x="16791" y="2642"/>
                    <a:pt x="16894" y="2621"/>
                    <a:pt x="16996" y="2599"/>
                  </a:cubicBezTo>
                  <a:cubicBezTo>
                    <a:pt x="17098" y="2577"/>
                    <a:pt x="17198" y="2555"/>
                    <a:pt x="17297" y="2532"/>
                  </a:cubicBezTo>
                  <a:cubicBezTo>
                    <a:pt x="17328" y="2524"/>
                    <a:pt x="17360" y="2510"/>
                    <a:pt x="17382" y="2494"/>
                  </a:cubicBezTo>
                  <a:cubicBezTo>
                    <a:pt x="17403" y="2479"/>
                    <a:pt x="17414" y="2461"/>
                    <a:pt x="17402" y="2444"/>
                  </a:cubicBezTo>
                  <a:lnTo>
                    <a:pt x="17359" y="2419"/>
                  </a:lnTo>
                  <a:cubicBezTo>
                    <a:pt x="17346" y="2404"/>
                    <a:pt x="17346" y="2388"/>
                    <a:pt x="17352" y="2374"/>
                  </a:cubicBezTo>
                  <a:cubicBezTo>
                    <a:pt x="17359" y="2360"/>
                    <a:pt x="17371" y="2347"/>
                    <a:pt x="17383" y="2339"/>
                  </a:cubicBezTo>
                  <a:cubicBezTo>
                    <a:pt x="17405" y="2330"/>
                    <a:pt x="17425" y="2324"/>
                    <a:pt x="17444" y="2317"/>
                  </a:cubicBezTo>
                  <a:cubicBezTo>
                    <a:pt x="17463" y="2310"/>
                    <a:pt x="17482" y="2303"/>
                    <a:pt x="17501" y="2293"/>
                  </a:cubicBezTo>
                  <a:cubicBezTo>
                    <a:pt x="17581" y="2263"/>
                    <a:pt x="17624" y="2204"/>
                    <a:pt x="17668" y="2148"/>
                  </a:cubicBezTo>
                  <a:cubicBezTo>
                    <a:pt x="17712" y="2092"/>
                    <a:pt x="17757" y="2038"/>
                    <a:pt x="17840" y="2019"/>
                  </a:cubicBezTo>
                  <a:cubicBezTo>
                    <a:pt x="17775" y="2034"/>
                    <a:pt x="17713" y="2023"/>
                    <a:pt x="17658" y="1999"/>
                  </a:cubicBezTo>
                  <a:cubicBezTo>
                    <a:pt x="17602" y="1975"/>
                    <a:pt x="17553" y="1937"/>
                    <a:pt x="17513" y="1897"/>
                  </a:cubicBezTo>
                  <a:cubicBezTo>
                    <a:pt x="17476" y="1861"/>
                    <a:pt x="17437" y="1821"/>
                    <a:pt x="17392" y="1788"/>
                  </a:cubicBezTo>
                  <a:cubicBezTo>
                    <a:pt x="17346" y="1755"/>
                    <a:pt x="17294" y="1729"/>
                    <a:pt x="17229" y="1720"/>
                  </a:cubicBezTo>
                  <a:cubicBezTo>
                    <a:pt x="17223" y="1733"/>
                    <a:pt x="17217" y="1747"/>
                    <a:pt x="17211" y="1761"/>
                  </a:cubicBezTo>
                  <a:cubicBezTo>
                    <a:pt x="17204" y="1776"/>
                    <a:pt x="17198" y="1792"/>
                    <a:pt x="17192" y="1809"/>
                  </a:cubicBezTo>
                  <a:cubicBezTo>
                    <a:pt x="17146" y="1765"/>
                    <a:pt x="17098" y="1725"/>
                    <a:pt x="17045" y="1688"/>
                  </a:cubicBezTo>
                  <a:cubicBezTo>
                    <a:pt x="16993" y="1652"/>
                    <a:pt x="16936" y="1619"/>
                    <a:pt x="16871" y="1590"/>
                  </a:cubicBezTo>
                  <a:cubicBezTo>
                    <a:pt x="16843" y="1615"/>
                    <a:pt x="16820" y="1644"/>
                    <a:pt x="16801" y="1674"/>
                  </a:cubicBezTo>
                  <a:cubicBezTo>
                    <a:pt x="16782" y="1704"/>
                    <a:pt x="16766" y="1735"/>
                    <a:pt x="16754" y="1767"/>
                  </a:cubicBezTo>
                  <a:cubicBezTo>
                    <a:pt x="16739" y="1748"/>
                    <a:pt x="16731" y="1730"/>
                    <a:pt x="16725" y="1712"/>
                  </a:cubicBezTo>
                  <a:cubicBezTo>
                    <a:pt x="16720" y="1694"/>
                    <a:pt x="16717" y="1676"/>
                    <a:pt x="16711" y="1657"/>
                  </a:cubicBezTo>
                  <a:cubicBezTo>
                    <a:pt x="16705" y="1641"/>
                    <a:pt x="16695" y="1624"/>
                    <a:pt x="16681" y="1608"/>
                  </a:cubicBezTo>
                  <a:cubicBezTo>
                    <a:pt x="16668" y="1593"/>
                    <a:pt x="16649" y="1580"/>
                    <a:pt x="16624" y="1569"/>
                  </a:cubicBezTo>
                  <a:cubicBezTo>
                    <a:pt x="16597" y="1565"/>
                    <a:pt x="16567" y="1570"/>
                    <a:pt x="16547" y="1581"/>
                  </a:cubicBezTo>
                  <a:cubicBezTo>
                    <a:pt x="16526" y="1591"/>
                    <a:pt x="16513" y="1607"/>
                    <a:pt x="16520" y="1624"/>
                  </a:cubicBezTo>
                  <a:cubicBezTo>
                    <a:pt x="16507" y="1611"/>
                    <a:pt x="16498" y="1599"/>
                    <a:pt x="16488" y="1588"/>
                  </a:cubicBezTo>
                  <a:cubicBezTo>
                    <a:pt x="16478" y="1576"/>
                    <a:pt x="16467" y="1565"/>
                    <a:pt x="16452" y="1552"/>
                  </a:cubicBezTo>
                  <a:cubicBezTo>
                    <a:pt x="16396" y="1571"/>
                    <a:pt x="16342" y="1593"/>
                    <a:pt x="16290" y="1618"/>
                  </a:cubicBezTo>
                  <a:cubicBezTo>
                    <a:pt x="16239" y="1644"/>
                    <a:pt x="16189" y="1672"/>
                    <a:pt x="16143" y="1704"/>
                  </a:cubicBezTo>
                  <a:cubicBezTo>
                    <a:pt x="16119" y="1655"/>
                    <a:pt x="16183" y="1617"/>
                    <a:pt x="16251" y="1578"/>
                  </a:cubicBezTo>
                  <a:cubicBezTo>
                    <a:pt x="16319" y="1540"/>
                    <a:pt x="16390" y="1500"/>
                    <a:pt x="16378" y="1447"/>
                  </a:cubicBezTo>
                  <a:cubicBezTo>
                    <a:pt x="16365" y="1413"/>
                    <a:pt x="16322" y="1384"/>
                    <a:pt x="16322" y="1359"/>
                  </a:cubicBezTo>
                  <a:cubicBezTo>
                    <a:pt x="16322" y="1296"/>
                    <a:pt x="16483" y="1245"/>
                    <a:pt x="16439" y="1190"/>
                  </a:cubicBezTo>
                  <a:cubicBezTo>
                    <a:pt x="16433" y="1182"/>
                    <a:pt x="16424" y="1178"/>
                    <a:pt x="16415" y="1174"/>
                  </a:cubicBezTo>
                  <a:cubicBezTo>
                    <a:pt x="16405" y="1169"/>
                    <a:pt x="16396" y="1165"/>
                    <a:pt x="16390" y="1157"/>
                  </a:cubicBezTo>
                  <a:cubicBezTo>
                    <a:pt x="16365" y="1138"/>
                    <a:pt x="16362" y="1114"/>
                    <a:pt x="16368" y="1088"/>
                  </a:cubicBezTo>
                  <a:cubicBezTo>
                    <a:pt x="16375" y="1063"/>
                    <a:pt x="16390" y="1037"/>
                    <a:pt x="16402" y="1014"/>
                  </a:cubicBezTo>
                  <a:cubicBezTo>
                    <a:pt x="16338" y="1001"/>
                    <a:pt x="16270" y="1003"/>
                    <a:pt x="16202" y="1013"/>
                  </a:cubicBezTo>
                  <a:cubicBezTo>
                    <a:pt x="16134" y="1023"/>
                    <a:pt x="16066" y="1041"/>
                    <a:pt x="16001" y="1060"/>
                  </a:cubicBezTo>
                  <a:cubicBezTo>
                    <a:pt x="15835" y="1110"/>
                    <a:pt x="15650" y="1174"/>
                    <a:pt x="15471" y="1190"/>
                  </a:cubicBezTo>
                  <a:cubicBezTo>
                    <a:pt x="15378" y="1199"/>
                    <a:pt x="15292" y="1190"/>
                    <a:pt x="15187" y="1190"/>
                  </a:cubicBezTo>
                  <a:cubicBezTo>
                    <a:pt x="15131" y="1190"/>
                    <a:pt x="15070" y="1182"/>
                    <a:pt x="15033" y="1165"/>
                  </a:cubicBezTo>
                  <a:cubicBezTo>
                    <a:pt x="15005" y="1157"/>
                    <a:pt x="14985" y="1145"/>
                    <a:pt x="14966" y="1134"/>
                  </a:cubicBezTo>
                  <a:cubicBezTo>
                    <a:pt x="14946" y="1122"/>
                    <a:pt x="14928" y="1110"/>
                    <a:pt x="14903" y="1102"/>
                  </a:cubicBezTo>
                  <a:cubicBezTo>
                    <a:pt x="14875" y="1094"/>
                    <a:pt x="14846" y="1092"/>
                    <a:pt x="14817" y="1093"/>
                  </a:cubicBezTo>
                  <a:cubicBezTo>
                    <a:pt x="14787" y="1094"/>
                    <a:pt x="14758" y="1098"/>
                    <a:pt x="14730" y="1102"/>
                  </a:cubicBezTo>
                  <a:cubicBezTo>
                    <a:pt x="14653" y="1115"/>
                    <a:pt x="14576" y="1135"/>
                    <a:pt x="14501" y="1159"/>
                  </a:cubicBezTo>
                  <a:cubicBezTo>
                    <a:pt x="14425" y="1184"/>
                    <a:pt x="14351" y="1214"/>
                    <a:pt x="14280" y="1245"/>
                  </a:cubicBezTo>
                  <a:cubicBezTo>
                    <a:pt x="14249" y="1230"/>
                    <a:pt x="14217" y="1221"/>
                    <a:pt x="14182" y="1216"/>
                  </a:cubicBezTo>
                  <a:cubicBezTo>
                    <a:pt x="14147" y="1211"/>
                    <a:pt x="14110" y="1211"/>
                    <a:pt x="14070" y="1216"/>
                  </a:cubicBezTo>
                  <a:cubicBezTo>
                    <a:pt x="13941" y="1239"/>
                    <a:pt x="13870" y="1319"/>
                    <a:pt x="13800" y="1401"/>
                  </a:cubicBezTo>
                  <a:cubicBezTo>
                    <a:pt x="13731" y="1483"/>
                    <a:pt x="13663" y="1567"/>
                    <a:pt x="13540" y="1598"/>
                  </a:cubicBezTo>
                  <a:cubicBezTo>
                    <a:pt x="13555" y="1567"/>
                    <a:pt x="13566" y="1533"/>
                    <a:pt x="13571" y="1500"/>
                  </a:cubicBezTo>
                  <a:cubicBezTo>
                    <a:pt x="13577" y="1467"/>
                    <a:pt x="13577" y="1434"/>
                    <a:pt x="13570" y="1405"/>
                  </a:cubicBezTo>
                  <a:cubicBezTo>
                    <a:pt x="13518" y="1394"/>
                    <a:pt x="13466" y="1389"/>
                    <a:pt x="13415" y="1389"/>
                  </a:cubicBezTo>
                  <a:cubicBezTo>
                    <a:pt x="13364" y="1389"/>
                    <a:pt x="13314" y="1394"/>
                    <a:pt x="13268" y="1405"/>
                  </a:cubicBezTo>
                  <a:cubicBezTo>
                    <a:pt x="13237" y="1470"/>
                    <a:pt x="13199" y="1535"/>
                    <a:pt x="13155" y="1600"/>
                  </a:cubicBezTo>
                  <a:cubicBezTo>
                    <a:pt x="13111" y="1665"/>
                    <a:pt x="13061" y="1729"/>
                    <a:pt x="13009" y="1792"/>
                  </a:cubicBezTo>
                  <a:cubicBezTo>
                    <a:pt x="12990" y="1756"/>
                    <a:pt x="12984" y="1720"/>
                    <a:pt x="12983" y="1684"/>
                  </a:cubicBezTo>
                  <a:cubicBezTo>
                    <a:pt x="12981" y="1647"/>
                    <a:pt x="12984" y="1609"/>
                    <a:pt x="12984" y="1569"/>
                  </a:cubicBezTo>
                  <a:cubicBezTo>
                    <a:pt x="12978" y="1535"/>
                    <a:pt x="12963" y="1499"/>
                    <a:pt x="12937" y="1466"/>
                  </a:cubicBezTo>
                  <a:cubicBezTo>
                    <a:pt x="12912" y="1434"/>
                    <a:pt x="12876" y="1407"/>
                    <a:pt x="12830" y="1392"/>
                  </a:cubicBezTo>
                  <a:cubicBezTo>
                    <a:pt x="12778" y="1455"/>
                    <a:pt x="12725" y="1520"/>
                    <a:pt x="12674" y="1584"/>
                  </a:cubicBezTo>
                  <a:cubicBezTo>
                    <a:pt x="12622" y="1648"/>
                    <a:pt x="12571" y="1712"/>
                    <a:pt x="12522" y="1775"/>
                  </a:cubicBezTo>
                  <a:cubicBezTo>
                    <a:pt x="12481" y="1712"/>
                    <a:pt x="12471" y="1638"/>
                    <a:pt x="12490" y="1571"/>
                  </a:cubicBezTo>
                  <a:cubicBezTo>
                    <a:pt x="12509" y="1504"/>
                    <a:pt x="12559" y="1443"/>
                    <a:pt x="12639" y="1405"/>
                  </a:cubicBezTo>
                  <a:cubicBezTo>
                    <a:pt x="12670" y="1386"/>
                    <a:pt x="12707" y="1372"/>
                    <a:pt x="12746" y="1364"/>
                  </a:cubicBezTo>
                  <a:cubicBezTo>
                    <a:pt x="12785" y="1357"/>
                    <a:pt x="12827" y="1354"/>
                    <a:pt x="12867" y="1359"/>
                  </a:cubicBezTo>
                  <a:cubicBezTo>
                    <a:pt x="12904" y="1363"/>
                    <a:pt x="12947" y="1369"/>
                    <a:pt x="12989" y="1371"/>
                  </a:cubicBezTo>
                  <a:cubicBezTo>
                    <a:pt x="13031" y="1373"/>
                    <a:pt x="13071" y="1371"/>
                    <a:pt x="13102" y="1359"/>
                  </a:cubicBezTo>
                  <a:cubicBezTo>
                    <a:pt x="13120" y="1350"/>
                    <a:pt x="13132" y="1342"/>
                    <a:pt x="13145" y="1333"/>
                  </a:cubicBezTo>
                  <a:cubicBezTo>
                    <a:pt x="13159" y="1324"/>
                    <a:pt x="13172" y="1315"/>
                    <a:pt x="13194" y="1304"/>
                  </a:cubicBezTo>
                  <a:cubicBezTo>
                    <a:pt x="13231" y="1287"/>
                    <a:pt x="13282" y="1283"/>
                    <a:pt x="13329" y="1277"/>
                  </a:cubicBezTo>
                  <a:cubicBezTo>
                    <a:pt x="13376" y="1270"/>
                    <a:pt x="13419" y="1262"/>
                    <a:pt x="13441" y="1237"/>
                  </a:cubicBezTo>
                  <a:cubicBezTo>
                    <a:pt x="13466" y="1205"/>
                    <a:pt x="13455" y="1174"/>
                    <a:pt x="13429" y="1145"/>
                  </a:cubicBezTo>
                  <a:cubicBezTo>
                    <a:pt x="13402" y="1116"/>
                    <a:pt x="13361" y="1089"/>
                    <a:pt x="13324" y="1068"/>
                  </a:cubicBezTo>
                  <a:cubicBezTo>
                    <a:pt x="13361" y="1064"/>
                    <a:pt x="13402" y="1064"/>
                    <a:pt x="13441" y="1071"/>
                  </a:cubicBezTo>
                  <a:cubicBezTo>
                    <a:pt x="13479" y="1077"/>
                    <a:pt x="13515" y="1089"/>
                    <a:pt x="13540" y="1110"/>
                  </a:cubicBezTo>
                  <a:cubicBezTo>
                    <a:pt x="13555" y="1119"/>
                    <a:pt x="13566" y="1128"/>
                    <a:pt x="13577" y="1136"/>
                  </a:cubicBezTo>
                  <a:cubicBezTo>
                    <a:pt x="13589" y="1143"/>
                    <a:pt x="13601" y="1148"/>
                    <a:pt x="13620" y="1148"/>
                  </a:cubicBezTo>
                  <a:cubicBezTo>
                    <a:pt x="13632" y="1153"/>
                    <a:pt x="13648" y="1150"/>
                    <a:pt x="13664" y="1146"/>
                  </a:cubicBezTo>
                  <a:cubicBezTo>
                    <a:pt x="13680" y="1141"/>
                    <a:pt x="13697" y="1134"/>
                    <a:pt x="13712" y="1127"/>
                  </a:cubicBezTo>
                  <a:cubicBezTo>
                    <a:pt x="13777" y="1102"/>
                    <a:pt x="13842" y="1074"/>
                    <a:pt x="13903" y="1043"/>
                  </a:cubicBezTo>
                  <a:cubicBezTo>
                    <a:pt x="13964" y="1012"/>
                    <a:pt x="14021" y="978"/>
                    <a:pt x="14070" y="942"/>
                  </a:cubicBezTo>
                  <a:cubicBezTo>
                    <a:pt x="14058" y="938"/>
                    <a:pt x="14045" y="936"/>
                    <a:pt x="14033" y="934"/>
                  </a:cubicBezTo>
                  <a:cubicBezTo>
                    <a:pt x="14021" y="932"/>
                    <a:pt x="14008" y="930"/>
                    <a:pt x="13996" y="925"/>
                  </a:cubicBezTo>
                  <a:cubicBezTo>
                    <a:pt x="14113" y="934"/>
                    <a:pt x="14226" y="934"/>
                    <a:pt x="14339" y="929"/>
                  </a:cubicBezTo>
                  <a:cubicBezTo>
                    <a:pt x="14451" y="923"/>
                    <a:pt x="14564" y="913"/>
                    <a:pt x="14681" y="900"/>
                  </a:cubicBezTo>
                  <a:cubicBezTo>
                    <a:pt x="14727" y="896"/>
                    <a:pt x="14775" y="892"/>
                    <a:pt x="14820" y="882"/>
                  </a:cubicBezTo>
                  <a:cubicBezTo>
                    <a:pt x="14865" y="872"/>
                    <a:pt x="14906" y="856"/>
                    <a:pt x="14940" y="829"/>
                  </a:cubicBezTo>
                  <a:cubicBezTo>
                    <a:pt x="14986" y="837"/>
                    <a:pt x="15031" y="843"/>
                    <a:pt x="15076" y="845"/>
                  </a:cubicBezTo>
                  <a:cubicBezTo>
                    <a:pt x="15121" y="848"/>
                    <a:pt x="15165" y="845"/>
                    <a:pt x="15212" y="837"/>
                  </a:cubicBezTo>
                  <a:cubicBezTo>
                    <a:pt x="15224" y="875"/>
                    <a:pt x="15279" y="883"/>
                    <a:pt x="15329" y="883"/>
                  </a:cubicBezTo>
                  <a:cubicBezTo>
                    <a:pt x="15378" y="883"/>
                    <a:pt x="15421" y="867"/>
                    <a:pt x="15471" y="854"/>
                  </a:cubicBezTo>
                  <a:cubicBezTo>
                    <a:pt x="15563" y="837"/>
                    <a:pt x="15662" y="875"/>
                    <a:pt x="15754" y="883"/>
                  </a:cubicBezTo>
                  <a:cubicBezTo>
                    <a:pt x="15847" y="892"/>
                    <a:pt x="15977" y="875"/>
                    <a:pt x="15989" y="812"/>
                  </a:cubicBezTo>
                  <a:cubicBezTo>
                    <a:pt x="15955" y="812"/>
                    <a:pt x="15926" y="800"/>
                    <a:pt x="15906" y="783"/>
                  </a:cubicBezTo>
                  <a:cubicBezTo>
                    <a:pt x="15887" y="767"/>
                    <a:pt x="15878" y="745"/>
                    <a:pt x="15884" y="724"/>
                  </a:cubicBezTo>
                  <a:cubicBezTo>
                    <a:pt x="15896" y="677"/>
                    <a:pt x="15977" y="644"/>
                    <a:pt x="15952" y="602"/>
                  </a:cubicBezTo>
                  <a:cubicBezTo>
                    <a:pt x="15940" y="580"/>
                    <a:pt x="15909" y="564"/>
                    <a:pt x="15884" y="555"/>
                  </a:cubicBezTo>
                  <a:lnTo>
                    <a:pt x="15495" y="395"/>
                  </a:lnTo>
                  <a:cubicBezTo>
                    <a:pt x="15452" y="379"/>
                    <a:pt x="15401" y="362"/>
                    <a:pt x="15351" y="355"/>
                  </a:cubicBezTo>
                  <a:cubicBezTo>
                    <a:pt x="15301" y="349"/>
                    <a:pt x="15252" y="353"/>
                    <a:pt x="15212" y="379"/>
                  </a:cubicBezTo>
                  <a:cubicBezTo>
                    <a:pt x="15199" y="391"/>
                    <a:pt x="15190" y="405"/>
                    <a:pt x="15181" y="419"/>
                  </a:cubicBezTo>
                  <a:cubicBezTo>
                    <a:pt x="15171" y="432"/>
                    <a:pt x="15162" y="446"/>
                    <a:pt x="15150" y="459"/>
                  </a:cubicBezTo>
                  <a:cubicBezTo>
                    <a:pt x="15116" y="482"/>
                    <a:pt x="15073" y="482"/>
                    <a:pt x="15029" y="472"/>
                  </a:cubicBezTo>
                  <a:cubicBezTo>
                    <a:pt x="14985" y="462"/>
                    <a:pt x="14940" y="442"/>
                    <a:pt x="14903" y="425"/>
                  </a:cubicBezTo>
                  <a:cubicBezTo>
                    <a:pt x="14897" y="389"/>
                    <a:pt x="14883" y="353"/>
                    <a:pt x="14863" y="319"/>
                  </a:cubicBezTo>
                  <a:cubicBezTo>
                    <a:pt x="14843" y="284"/>
                    <a:pt x="14817" y="250"/>
                    <a:pt x="14786" y="219"/>
                  </a:cubicBezTo>
                  <a:cubicBezTo>
                    <a:pt x="14792" y="242"/>
                    <a:pt x="14760" y="249"/>
                    <a:pt x="14723" y="246"/>
                  </a:cubicBezTo>
                  <a:cubicBezTo>
                    <a:pt x="14686" y="243"/>
                    <a:pt x="14644" y="229"/>
                    <a:pt x="14632" y="210"/>
                  </a:cubicBezTo>
                  <a:cubicBezTo>
                    <a:pt x="14585" y="166"/>
                    <a:pt x="14524" y="120"/>
                    <a:pt x="14456" y="89"/>
                  </a:cubicBezTo>
                  <a:cubicBezTo>
                    <a:pt x="14388" y="59"/>
                    <a:pt x="14314" y="44"/>
                    <a:pt x="14243" y="63"/>
                  </a:cubicBezTo>
                  <a:cubicBezTo>
                    <a:pt x="14221" y="88"/>
                    <a:pt x="14211" y="117"/>
                    <a:pt x="14209" y="145"/>
                  </a:cubicBezTo>
                  <a:cubicBezTo>
                    <a:pt x="14207" y="174"/>
                    <a:pt x="14215" y="202"/>
                    <a:pt x="14231" y="227"/>
                  </a:cubicBezTo>
                  <a:cubicBezTo>
                    <a:pt x="14209" y="215"/>
                    <a:pt x="14183" y="208"/>
                    <a:pt x="14159" y="208"/>
                  </a:cubicBezTo>
                  <a:cubicBezTo>
                    <a:pt x="14135" y="208"/>
                    <a:pt x="14113" y="215"/>
                    <a:pt x="14101" y="227"/>
                  </a:cubicBezTo>
                  <a:cubicBezTo>
                    <a:pt x="14086" y="189"/>
                    <a:pt x="14059" y="148"/>
                    <a:pt x="14022" y="116"/>
                  </a:cubicBezTo>
                  <a:cubicBezTo>
                    <a:pt x="13985" y="83"/>
                    <a:pt x="13938" y="59"/>
                    <a:pt x="13879" y="55"/>
                  </a:cubicBezTo>
                  <a:cubicBezTo>
                    <a:pt x="13820" y="44"/>
                    <a:pt x="13759" y="66"/>
                    <a:pt x="13722" y="99"/>
                  </a:cubicBezTo>
                  <a:cubicBezTo>
                    <a:pt x="13685" y="133"/>
                    <a:pt x="13672" y="177"/>
                    <a:pt x="13712" y="210"/>
                  </a:cubicBezTo>
                  <a:cubicBezTo>
                    <a:pt x="13666" y="185"/>
                    <a:pt x="13628" y="152"/>
                    <a:pt x="13598" y="116"/>
                  </a:cubicBezTo>
                  <a:cubicBezTo>
                    <a:pt x="13569" y="80"/>
                    <a:pt x="13549" y="40"/>
                    <a:pt x="13540" y="0"/>
                  </a:cubicBezTo>
                  <a:cubicBezTo>
                    <a:pt x="13469" y="0"/>
                    <a:pt x="13401" y="4"/>
                    <a:pt x="13334" y="13"/>
                  </a:cubicBezTo>
                  <a:cubicBezTo>
                    <a:pt x="13268" y="22"/>
                    <a:pt x="13203" y="36"/>
                    <a:pt x="13139" y="55"/>
                  </a:cubicBezTo>
                  <a:cubicBezTo>
                    <a:pt x="13126" y="59"/>
                    <a:pt x="13117" y="63"/>
                    <a:pt x="13108" y="67"/>
                  </a:cubicBezTo>
                  <a:cubicBezTo>
                    <a:pt x="13098" y="72"/>
                    <a:pt x="13089" y="76"/>
                    <a:pt x="13077" y="80"/>
                  </a:cubicBezTo>
                  <a:cubicBezTo>
                    <a:pt x="13065" y="88"/>
                    <a:pt x="13061" y="101"/>
                    <a:pt x="13061" y="115"/>
                  </a:cubicBezTo>
                  <a:cubicBezTo>
                    <a:pt x="13061" y="129"/>
                    <a:pt x="13065" y="145"/>
                    <a:pt x="13065" y="160"/>
                  </a:cubicBezTo>
                  <a:cubicBezTo>
                    <a:pt x="13071" y="193"/>
                    <a:pt x="13077" y="228"/>
                    <a:pt x="13085" y="263"/>
                  </a:cubicBezTo>
                  <a:cubicBezTo>
                    <a:pt x="13092" y="299"/>
                    <a:pt x="13102" y="334"/>
                    <a:pt x="13114" y="370"/>
                  </a:cubicBezTo>
                  <a:cubicBezTo>
                    <a:pt x="13083" y="322"/>
                    <a:pt x="13051" y="273"/>
                    <a:pt x="13020" y="225"/>
                  </a:cubicBezTo>
                  <a:cubicBezTo>
                    <a:pt x="12989" y="177"/>
                    <a:pt x="12960" y="128"/>
                    <a:pt x="12935" y="80"/>
                  </a:cubicBezTo>
                  <a:cubicBezTo>
                    <a:pt x="12923" y="67"/>
                    <a:pt x="12909" y="52"/>
                    <a:pt x="12893" y="38"/>
                  </a:cubicBezTo>
                  <a:cubicBezTo>
                    <a:pt x="12878" y="24"/>
                    <a:pt x="12861" y="13"/>
                    <a:pt x="12842" y="8"/>
                  </a:cubicBezTo>
                  <a:cubicBezTo>
                    <a:pt x="12818" y="4"/>
                    <a:pt x="12792" y="13"/>
                    <a:pt x="12770" y="27"/>
                  </a:cubicBezTo>
                  <a:cubicBezTo>
                    <a:pt x="12748" y="41"/>
                    <a:pt x="12731" y="61"/>
                    <a:pt x="12725" y="80"/>
                  </a:cubicBezTo>
                  <a:cubicBezTo>
                    <a:pt x="12704" y="124"/>
                    <a:pt x="12690" y="169"/>
                    <a:pt x="12684" y="214"/>
                  </a:cubicBezTo>
                  <a:cubicBezTo>
                    <a:pt x="12679" y="259"/>
                    <a:pt x="12682" y="303"/>
                    <a:pt x="12694" y="345"/>
                  </a:cubicBezTo>
                  <a:cubicBezTo>
                    <a:pt x="12676" y="318"/>
                    <a:pt x="12648" y="294"/>
                    <a:pt x="12616" y="277"/>
                  </a:cubicBezTo>
                  <a:cubicBezTo>
                    <a:pt x="12583" y="259"/>
                    <a:pt x="12546" y="246"/>
                    <a:pt x="12509" y="240"/>
                  </a:cubicBezTo>
                  <a:cubicBezTo>
                    <a:pt x="12515" y="200"/>
                    <a:pt x="12483" y="162"/>
                    <a:pt x="12438" y="139"/>
                  </a:cubicBezTo>
                  <a:cubicBezTo>
                    <a:pt x="12392" y="117"/>
                    <a:pt x="12333" y="109"/>
                    <a:pt x="12287" y="130"/>
                  </a:cubicBezTo>
                  <a:cubicBezTo>
                    <a:pt x="12235" y="149"/>
                    <a:pt x="12212" y="189"/>
                    <a:pt x="12215" y="228"/>
                  </a:cubicBezTo>
                  <a:cubicBezTo>
                    <a:pt x="12218" y="266"/>
                    <a:pt x="12247" y="303"/>
                    <a:pt x="12299" y="315"/>
                  </a:cubicBezTo>
                  <a:cubicBezTo>
                    <a:pt x="12259" y="343"/>
                    <a:pt x="12236" y="381"/>
                    <a:pt x="12232" y="420"/>
                  </a:cubicBezTo>
                  <a:cubicBezTo>
                    <a:pt x="12227" y="459"/>
                    <a:pt x="12241" y="498"/>
                    <a:pt x="12275" y="530"/>
                  </a:cubicBezTo>
                  <a:cubicBezTo>
                    <a:pt x="12229" y="530"/>
                    <a:pt x="12196" y="511"/>
                    <a:pt x="12171" y="486"/>
                  </a:cubicBezTo>
                  <a:cubicBezTo>
                    <a:pt x="12145" y="461"/>
                    <a:pt x="12127" y="429"/>
                    <a:pt x="12108" y="404"/>
                  </a:cubicBezTo>
                  <a:cubicBezTo>
                    <a:pt x="12087" y="376"/>
                    <a:pt x="12054" y="350"/>
                    <a:pt x="12019" y="335"/>
                  </a:cubicBezTo>
                  <a:cubicBezTo>
                    <a:pt x="11983" y="321"/>
                    <a:pt x="11945" y="318"/>
                    <a:pt x="11911" y="337"/>
                  </a:cubicBezTo>
                  <a:cubicBezTo>
                    <a:pt x="11905" y="341"/>
                    <a:pt x="11898" y="347"/>
                    <a:pt x="11892" y="354"/>
                  </a:cubicBezTo>
                  <a:cubicBezTo>
                    <a:pt x="11886" y="362"/>
                    <a:pt x="11880" y="370"/>
                    <a:pt x="11874" y="379"/>
                  </a:cubicBezTo>
                  <a:cubicBezTo>
                    <a:pt x="11821" y="471"/>
                    <a:pt x="11843" y="575"/>
                    <a:pt x="11914" y="658"/>
                  </a:cubicBezTo>
                  <a:cubicBezTo>
                    <a:pt x="11985" y="741"/>
                    <a:pt x="12105" y="803"/>
                    <a:pt x="12250" y="812"/>
                  </a:cubicBezTo>
                  <a:cubicBezTo>
                    <a:pt x="12269" y="812"/>
                    <a:pt x="12290" y="812"/>
                    <a:pt x="12311" y="814"/>
                  </a:cubicBezTo>
                  <a:cubicBezTo>
                    <a:pt x="12332" y="816"/>
                    <a:pt x="12352" y="820"/>
                    <a:pt x="12367" y="829"/>
                  </a:cubicBezTo>
                  <a:cubicBezTo>
                    <a:pt x="12380" y="837"/>
                    <a:pt x="12392" y="851"/>
                    <a:pt x="12398" y="864"/>
                  </a:cubicBezTo>
                  <a:cubicBezTo>
                    <a:pt x="12404" y="878"/>
                    <a:pt x="12404" y="892"/>
                    <a:pt x="12392" y="900"/>
                  </a:cubicBezTo>
                  <a:cubicBezTo>
                    <a:pt x="12321" y="888"/>
                    <a:pt x="12253" y="874"/>
                    <a:pt x="12185" y="860"/>
                  </a:cubicBezTo>
                  <a:cubicBezTo>
                    <a:pt x="12117" y="847"/>
                    <a:pt x="12050" y="833"/>
                    <a:pt x="11979" y="820"/>
                  </a:cubicBezTo>
                  <a:cubicBezTo>
                    <a:pt x="11957" y="816"/>
                    <a:pt x="11934" y="812"/>
                    <a:pt x="11912" y="807"/>
                  </a:cubicBezTo>
                  <a:cubicBezTo>
                    <a:pt x="11889" y="801"/>
                    <a:pt x="11868" y="795"/>
                    <a:pt x="11849" y="787"/>
                  </a:cubicBezTo>
                  <a:cubicBezTo>
                    <a:pt x="11828" y="772"/>
                    <a:pt x="11811" y="756"/>
                    <a:pt x="11794" y="741"/>
                  </a:cubicBezTo>
                  <a:cubicBezTo>
                    <a:pt x="11778" y="726"/>
                    <a:pt x="11763" y="711"/>
                    <a:pt x="11744" y="698"/>
                  </a:cubicBezTo>
                  <a:cubicBezTo>
                    <a:pt x="11698" y="650"/>
                    <a:pt x="11636" y="608"/>
                    <a:pt x="11564" y="577"/>
                  </a:cubicBezTo>
                  <a:cubicBezTo>
                    <a:pt x="11491" y="546"/>
                    <a:pt x="11408" y="526"/>
                    <a:pt x="11319" y="522"/>
                  </a:cubicBezTo>
                  <a:cubicBezTo>
                    <a:pt x="11303" y="583"/>
                    <a:pt x="11322" y="644"/>
                    <a:pt x="11362" y="698"/>
                  </a:cubicBezTo>
                  <a:cubicBezTo>
                    <a:pt x="11402" y="753"/>
                    <a:pt x="11463" y="801"/>
                    <a:pt x="11534" y="837"/>
                  </a:cubicBezTo>
                  <a:cubicBezTo>
                    <a:pt x="11605" y="877"/>
                    <a:pt x="11687" y="906"/>
                    <a:pt x="11772" y="930"/>
                  </a:cubicBezTo>
                  <a:cubicBezTo>
                    <a:pt x="11857" y="954"/>
                    <a:pt x="11945" y="972"/>
                    <a:pt x="12028" y="989"/>
                  </a:cubicBezTo>
                  <a:cubicBezTo>
                    <a:pt x="11982" y="1020"/>
                    <a:pt x="11937" y="1060"/>
                    <a:pt x="11915" y="1099"/>
                  </a:cubicBezTo>
                  <a:cubicBezTo>
                    <a:pt x="11892" y="1139"/>
                    <a:pt x="11892" y="1178"/>
                    <a:pt x="11935" y="1207"/>
                  </a:cubicBezTo>
                  <a:lnTo>
                    <a:pt x="11898" y="1262"/>
                  </a:lnTo>
                  <a:cubicBezTo>
                    <a:pt x="11905" y="1319"/>
                    <a:pt x="11914" y="1376"/>
                    <a:pt x="11923" y="1433"/>
                  </a:cubicBezTo>
                  <a:cubicBezTo>
                    <a:pt x="11932" y="1490"/>
                    <a:pt x="11942" y="1548"/>
                    <a:pt x="11948" y="1607"/>
                  </a:cubicBezTo>
                  <a:cubicBezTo>
                    <a:pt x="11871" y="1592"/>
                    <a:pt x="11820" y="1552"/>
                    <a:pt x="11787" y="1503"/>
                  </a:cubicBezTo>
                  <a:cubicBezTo>
                    <a:pt x="11753" y="1453"/>
                    <a:pt x="11738" y="1394"/>
                    <a:pt x="11732" y="1342"/>
                  </a:cubicBezTo>
                  <a:cubicBezTo>
                    <a:pt x="11732" y="1289"/>
                    <a:pt x="11732" y="1229"/>
                    <a:pt x="11717" y="1174"/>
                  </a:cubicBezTo>
                  <a:cubicBezTo>
                    <a:pt x="11703" y="1118"/>
                    <a:pt x="11673" y="1066"/>
                    <a:pt x="11615" y="1031"/>
                  </a:cubicBezTo>
                  <a:cubicBezTo>
                    <a:pt x="11587" y="1062"/>
                    <a:pt x="11570" y="1098"/>
                    <a:pt x="11561" y="1135"/>
                  </a:cubicBezTo>
                  <a:cubicBezTo>
                    <a:pt x="11553" y="1171"/>
                    <a:pt x="11553" y="1209"/>
                    <a:pt x="11559" y="1245"/>
                  </a:cubicBezTo>
                  <a:cubicBezTo>
                    <a:pt x="11522" y="1245"/>
                    <a:pt x="11484" y="1247"/>
                    <a:pt x="11445" y="1252"/>
                  </a:cubicBezTo>
                  <a:cubicBezTo>
                    <a:pt x="11406" y="1258"/>
                    <a:pt x="11368" y="1266"/>
                    <a:pt x="11331" y="1279"/>
                  </a:cubicBezTo>
                  <a:cubicBezTo>
                    <a:pt x="11309" y="1310"/>
                    <a:pt x="11315" y="1352"/>
                    <a:pt x="11315" y="1389"/>
                  </a:cubicBezTo>
                  <a:cubicBezTo>
                    <a:pt x="11315" y="1425"/>
                    <a:pt x="11309" y="1455"/>
                    <a:pt x="11263" y="1464"/>
                  </a:cubicBezTo>
                  <a:cubicBezTo>
                    <a:pt x="11232" y="1468"/>
                    <a:pt x="11203" y="1455"/>
                    <a:pt x="11178" y="1437"/>
                  </a:cubicBezTo>
                  <a:cubicBezTo>
                    <a:pt x="11153" y="1419"/>
                    <a:pt x="11133" y="1394"/>
                    <a:pt x="11121" y="1376"/>
                  </a:cubicBezTo>
                  <a:cubicBezTo>
                    <a:pt x="11109" y="1354"/>
                    <a:pt x="11073" y="1334"/>
                    <a:pt x="11038" y="1326"/>
                  </a:cubicBezTo>
                  <a:cubicBezTo>
                    <a:pt x="11002" y="1317"/>
                    <a:pt x="10967" y="1319"/>
                    <a:pt x="10954" y="1342"/>
                  </a:cubicBezTo>
                  <a:cubicBezTo>
                    <a:pt x="10930" y="1304"/>
                    <a:pt x="10967" y="1254"/>
                    <a:pt x="11029" y="1254"/>
                  </a:cubicBezTo>
                  <a:cubicBezTo>
                    <a:pt x="11072" y="1254"/>
                    <a:pt x="11121" y="1270"/>
                    <a:pt x="11146" y="1254"/>
                  </a:cubicBezTo>
                  <a:cubicBezTo>
                    <a:pt x="11158" y="1245"/>
                    <a:pt x="11158" y="1237"/>
                    <a:pt x="11158" y="1216"/>
                  </a:cubicBezTo>
                  <a:cubicBezTo>
                    <a:pt x="11152" y="1182"/>
                    <a:pt x="11149" y="1148"/>
                    <a:pt x="11141" y="1116"/>
                  </a:cubicBezTo>
                  <a:cubicBezTo>
                    <a:pt x="11133" y="1083"/>
                    <a:pt x="11121" y="1052"/>
                    <a:pt x="11096" y="1022"/>
                  </a:cubicBezTo>
                  <a:cubicBezTo>
                    <a:pt x="11072" y="991"/>
                    <a:pt x="11036" y="964"/>
                    <a:pt x="10994" y="948"/>
                  </a:cubicBezTo>
                  <a:cubicBezTo>
                    <a:pt x="10951" y="932"/>
                    <a:pt x="10902" y="925"/>
                    <a:pt x="10850" y="934"/>
                  </a:cubicBezTo>
                  <a:cubicBezTo>
                    <a:pt x="10843" y="949"/>
                    <a:pt x="10837" y="964"/>
                    <a:pt x="10831" y="980"/>
                  </a:cubicBezTo>
                  <a:cubicBezTo>
                    <a:pt x="10825" y="995"/>
                    <a:pt x="10819" y="1010"/>
                    <a:pt x="10813" y="1022"/>
                  </a:cubicBezTo>
                  <a:cubicBezTo>
                    <a:pt x="10760" y="961"/>
                    <a:pt x="10708" y="900"/>
                    <a:pt x="10658" y="839"/>
                  </a:cubicBezTo>
                  <a:cubicBezTo>
                    <a:pt x="10607" y="777"/>
                    <a:pt x="10560" y="715"/>
                    <a:pt x="10516" y="652"/>
                  </a:cubicBezTo>
                  <a:cubicBezTo>
                    <a:pt x="10464" y="665"/>
                    <a:pt x="10424" y="696"/>
                    <a:pt x="10405" y="732"/>
                  </a:cubicBezTo>
                  <a:cubicBezTo>
                    <a:pt x="10387" y="768"/>
                    <a:pt x="10390" y="808"/>
                    <a:pt x="10424" y="837"/>
                  </a:cubicBezTo>
                  <a:cubicBezTo>
                    <a:pt x="10449" y="867"/>
                    <a:pt x="10498" y="883"/>
                    <a:pt x="10529" y="917"/>
                  </a:cubicBezTo>
                  <a:cubicBezTo>
                    <a:pt x="10578" y="972"/>
                    <a:pt x="10578" y="1039"/>
                    <a:pt x="10529" y="1094"/>
                  </a:cubicBezTo>
                  <a:cubicBezTo>
                    <a:pt x="10507" y="1073"/>
                    <a:pt x="10472" y="1059"/>
                    <a:pt x="10435" y="1055"/>
                  </a:cubicBezTo>
                  <a:cubicBezTo>
                    <a:pt x="10398" y="1052"/>
                    <a:pt x="10359" y="1058"/>
                    <a:pt x="10331" y="1077"/>
                  </a:cubicBezTo>
                  <a:cubicBezTo>
                    <a:pt x="10325" y="1050"/>
                    <a:pt x="10319" y="1025"/>
                    <a:pt x="10314" y="1001"/>
                  </a:cubicBezTo>
                  <a:cubicBezTo>
                    <a:pt x="10310" y="977"/>
                    <a:pt x="10307" y="953"/>
                    <a:pt x="10307" y="925"/>
                  </a:cubicBezTo>
                  <a:cubicBezTo>
                    <a:pt x="10202" y="900"/>
                    <a:pt x="10097" y="892"/>
                    <a:pt x="9998" y="892"/>
                  </a:cubicBezTo>
                  <a:cubicBezTo>
                    <a:pt x="9943" y="892"/>
                    <a:pt x="9881" y="900"/>
                    <a:pt x="9869" y="934"/>
                  </a:cubicBezTo>
                  <a:cubicBezTo>
                    <a:pt x="9847" y="974"/>
                    <a:pt x="9895" y="1005"/>
                    <a:pt x="9943" y="1037"/>
                  </a:cubicBezTo>
                  <a:cubicBezTo>
                    <a:pt x="9992" y="1068"/>
                    <a:pt x="10041" y="1100"/>
                    <a:pt x="10023" y="1140"/>
                  </a:cubicBezTo>
                  <a:cubicBezTo>
                    <a:pt x="9989" y="1157"/>
                    <a:pt x="9952" y="1152"/>
                    <a:pt x="9919" y="1137"/>
                  </a:cubicBezTo>
                  <a:cubicBezTo>
                    <a:pt x="9886" y="1122"/>
                    <a:pt x="9856" y="1098"/>
                    <a:pt x="9838" y="1077"/>
                  </a:cubicBezTo>
                  <a:cubicBezTo>
                    <a:pt x="9816" y="1054"/>
                    <a:pt x="9778" y="1036"/>
                    <a:pt x="9741" y="1031"/>
                  </a:cubicBezTo>
                  <a:cubicBezTo>
                    <a:pt x="9705" y="1025"/>
                    <a:pt x="9671" y="1033"/>
                    <a:pt x="9659" y="1060"/>
                  </a:cubicBezTo>
                  <a:cubicBezTo>
                    <a:pt x="9653" y="1073"/>
                    <a:pt x="9656" y="1083"/>
                    <a:pt x="9663" y="1094"/>
                  </a:cubicBezTo>
                  <a:cubicBezTo>
                    <a:pt x="9671" y="1104"/>
                    <a:pt x="9684" y="1115"/>
                    <a:pt x="9696" y="1127"/>
                  </a:cubicBezTo>
                  <a:cubicBezTo>
                    <a:pt x="9730" y="1155"/>
                    <a:pt x="9765" y="1180"/>
                    <a:pt x="9801" y="1205"/>
                  </a:cubicBezTo>
                  <a:cubicBezTo>
                    <a:pt x="9836" y="1229"/>
                    <a:pt x="9872" y="1254"/>
                    <a:pt x="9906" y="1279"/>
                  </a:cubicBezTo>
                  <a:cubicBezTo>
                    <a:pt x="9872" y="1279"/>
                    <a:pt x="9842" y="1272"/>
                    <a:pt x="9820" y="1260"/>
                  </a:cubicBezTo>
                  <a:cubicBezTo>
                    <a:pt x="9798" y="1248"/>
                    <a:pt x="9782" y="1230"/>
                    <a:pt x="9776" y="1207"/>
                  </a:cubicBezTo>
                  <a:cubicBezTo>
                    <a:pt x="9742" y="1226"/>
                    <a:pt x="9704" y="1231"/>
                    <a:pt x="9665" y="1227"/>
                  </a:cubicBezTo>
                  <a:cubicBezTo>
                    <a:pt x="9626" y="1223"/>
                    <a:pt x="9588" y="1209"/>
                    <a:pt x="9554" y="1190"/>
                  </a:cubicBezTo>
                  <a:cubicBezTo>
                    <a:pt x="9529" y="1174"/>
                    <a:pt x="9511" y="1152"/>
                    <a:pt x="9495" y="1127"/>
                  </a:cubicBezTo>
                  <a:cubicBezTo>
                    <a:pt x="9480" y="1103"/>
                    <a:pt x="9468" y="1077"/>
                    <a:pt x="9455" y="1052"/>
                  </a:cubicBezTo>
                  <a:cubicBezTo>
                    <a:pt x="9403" y="1064"/>
                    <a:pt x="9347" y="1077"/>
                    <a:pt x="9290" y="1087"/>
                  </a:cubicBezTo>
                  <a:cubicBezTo>
                    <a:pt x="9233" y="1098"/>
                    <a:pt x="9175" y="1106"/>
                    <a:pt x="9116" y="1110"/>
                  </a:cubicBezTo>
                  <a:cubicBezTo>
                    <a:pt x="9156" y="1150"/>
                    <a:pt x="9195" y="1190"/>
                    <a:pt x="9235" y="1231"/>
                  </a:cubicBezTo>
                  <a:cubicBezTo>
                    <a:pt x="9275" y="1272"/>
                    <a:pt x="9316" y="1315"/>
                    <a:pt x="9363" y="1359"/>
                  </a:cubicBezTo>
                  <a:cubicBezTo>
                    <a:pt x="9381" y="1376"/>
                    <a:pt x="9397" y="1393"/>
                    <a:pt x="9414" y="1409"/>
                  </a:cubicBezTo>
                  <a:cubicBezTo>
                    <a:pt x="9432" y="1425"/>
                    <a:pt x="9452" y="1439"/>
                    <a:pt x="9480" y="1447"/>
                  </a:cubicBezTo>
                  <a:cubicBezTo>
                    <a:pt x="9539" y="1474"/>
                    <a:pt x="9603" y="1481"/>
                    <a:pt x="9670" y="1477"/>
                  </a:cubicBezTo>
                  <a:cubicBezTo>
                    <a:pt x="9736" y="1473"/>
                    <a:pt x="9804" y="1460"/>
                    <a:pt x="9869" y="1447"/>
                  </a:cubicBezTo>
                  <a:cubicBezTo>
                    <a:pt x="9887" y="1455"/>
                    <a:pt x="9906" y="1466"/>
                    <a:pt x="9925" y="1477"/>
                  </a:cubicBezTo>
                  <a:cubicBezTo>
                    <a:pt x="9944" y="1488"/>
                    <a:pt x="9964" y="1500"/>
                    <a:pt x="9986" y="1510"/>
                  </a:cubicBezTo>
                  <a:cubicBezTo>
                    <a:pt x="10106" y="1495"/>
                    <a:pt x="10231" y="1486"/>
                    <a:pt x="10357" y="1481"/>
                  </a:cubicBezTo>
                  <a:cubicBezTo>
                    <a:pt x="10483" y="1476"/>
                    <a:pt x="10609" y="1476"/>
                    <a:pt x="10732" y="1481"/>
                  </a:cubicBezTo>
                  <a:cubicBezTo>
                    <a:pt x="10825" y="1525"/>
                    <a:pt x="10919" y="1567"/>
                    <a:pt x="11015" y="1607"/>
                  </a:cubicBezTo>
                  <a:cubicBezTo>
                    <a:pt x="11110" y="1647"/>
                    <a:pt x="11207" y="1685"/>
                    <a:pt x="11306" y="1720"/>
                  </a:cubicBezTo>
                  <a:cubicBezTo>
                    <a:pt x="11325" y="1704"/>
                    <a:pt x="11340" y="1686"/>
                    <a:pt x="11356" y="1667"/>
                  </a:cubicBezTo>
                  <a:cubicBezTo>
                    <a:pt x="11371" y="1648"/>
                    <a:pt x="11386" y="1628"/>
                    <a:pt x="11405" y="1607"/>
                  </a:cubicBezTo>
                  <a:cubicBezTo>
                    <a:pt x="11417" y="1668"/>
                    <a:pt x="11431" y="1727"/>
                    <a:pt x="11447" y="1786"/>
                  </a:cubicBezTo>
                  <a:cubicBezTo>
                    <a:pt x="11462" y="1846"/>
                    <a:pt x="11479" y="1906"/>
                    <a:pt x="11497" y="1969"/>
                  </a:cubicBezTo>
                  <a:cubicBezTo>
                    <a:pt x="11510" y="2021"/>
                    <a:pt x="11522" y="2076"/>
                    <a:pt x="11530" y="2132"/>
                  </a:cubicBezTo>
                  <a:cubicBezTo>
                    <a:pt x="11538" y="2187"/>
                    <a:pt x="11541" y="2244"/>
                    <a:pt x="11534" y="2301"/>
                  </a:cubicBezTo>
                  <a:cubicBezTo>
                    <a:pt x="11491" y="2236"/>
                    <a:pt x="11443" y="2171"/>
                    <a:pt x="11395" y="2105"/>
                  </a:cubicBezTo>
                  <a:cubicBezTo>
                    <a:pt x="11346" y="2039"/>
                    <a:pt x="11297" y="1973"/>
                    <a:pt x="11251" y="1906"/>
                  </a:cubicBezTo>
                  <a:cubicBezTo>
                    <a:pt x="11238" y="1889"/>
                    <a:pt x="11226" y="1869"/>
                    <a:pt x="11210" y="1849"/>
                  </a:cubicBezTo>
                  <a:cubicBezTo>
                    <a:pt x="11194" y="1829"/>
                    <a:pt x="11174" y="1809"/>
                    <a:pt x="11146" y="1792"/>
                  </a:cubicBezTo>
                  <a:cubicBezTo>
                    <a:pt x="11109" y="1760"/>
                    <a:pt x="11058" y="1736"/>
                    <a:pt x="11002" y="1716"/>
                  </a:cubicBezTo>
                  <a:cubicBezTo>
                    <a:pt x="10945" y="1696"/>
                    <a:pt x="10884" y="1680"/>
                    <a:pt x="10825" y="1666"/>
                  </a:cubicBezTo>
                  <a:cubicBezTo>
                    <a:pt x="10760" y="1653"/>
                    <a:pt x="10698" y="1638"/>
                    <a:pt x="10637" y="1623"/>
                  </a:cubicBezTo>
                  <a:cubicBezTo>
                    <a:pt x="10575" y="1608"/>
                    <a:pt x="10513" y="1592"/>
                    <a:pt x="10449" y="1577"/>
                  </a:cubicBezTo>
                  <a:cubicBezTo>
                    <a:pt x="10399" y="1615"/>
                    <a:pt x="10486" y="1666"/>
                    <a:pt x="10566" y="1687"/>
                  </a:cubicBezTo>
                  <a:cubicBezTo>
                    <a:pt x="10695" y="1720"/>
                    <a:pt x="10800" y="1784"/>
                    <a:pt x="10874" y="1851"/>
                  </a:cubicBezTo>
                  <a:cubicBezTo>
                    <a:pt x="10961" y="1935"/>
                    <a:pt x="11004" y="2035"/>
                    <a:pt x="11023" y="2139"/>
                  </a:cubicBezTo>
                  <a:cubicBezTo>
                    <a:pt x="11042" y="2243"/>
                    <a:pt x="11038" y="2351"/>
                    <a:pt x="11029" y="2452"/>
                  </a:cubicBezTo>
                  <a:cubicBezTo>
                    <a:pt x="10954" y="2444"/>
                    <a:pt x="10899" y="2381"/>
                    <a:pt x="10899" y="2322"/>
                  </a:cubicBezTo>
                  <a:cubicBezTo>
                    <a:pt x="10899" y="2259"/>
                    <a:pt x="10917" y="2204"/>
                    <a:pt x="10887" y="2154"/>
                  </a:cubicBezTo>
                  <a:cubicBezTo>
                    <a:pt x="10874" y="2118"/>
                    <a:pt x="10850" y="2090"/>
                    <a:pt x="10820" y="2063"/>
                  </a:cubicBezTo>
                  <a:cubicBezTo>
                    <a:pt x="10789" y="2037"/>
                    <a:pt x="10754" y="2013"/>
                    <a:pt x="10720" y="1985"/>
                  </a:cubicBezTo>
                  <a:lnTo>
                    <a:pt x="10399" y="1767"/>
                  </a:lnTo>
                  <a:cubicBezTo>
                    <a:pt x="10399" y="1809"/>
                    <a:pt x="10413" y="1850"/>
                    <a:pt x="10432" y="1890"/>
                  </a:cubicBezTo>
                  <a:cubicBezTo>
                    <a:pt x="10452" y="1931"/>
                    <a:pt x="10476" y="1971"/>
                    <a:pt x="10498" y="2011"/>
                  </a:cubicBezTo>
                  <a:cubicBezTo>
                    <a:pt x="10516" y="2051"/>
                    <a:pt x="10530" y="2095"/>
                    <a:pt x="10530" y="2138"/>
                  </a:cubicBezTo>
                  <a:cubicBezTo>
                    <a:pt x="10529" y="2181"/>
                    <a:pt x="10513" y="2223"/>
                    <a:pt x="10473" y="2259"/>
                  </a:cubicBezTo>
                  <a:cubicBezTo>
                    <a:pt x="10408" y="2242"/>
                    <a:pt x="10364" y="2202"/>
                    <a:pt x="10347" y="2156"/>
                  </a:cubicBezTo>
                  <a:cubicBezTo>
                    <a:pt x="10330" y="2111"/>
                    <a:pt x="10341" y="2059"/>
                    <a:pt x="10387" y="2019"/>
                  </a:cubicBezTo>
                  <a:cubicBezTo>
                    <a:pt x="10313" y="1994"/>
                    <a:pt x="10305" y="1933"/>
                    <a:pt x="10298" y="1872"/>
                  </a:cubicBezTo>
                  <a:cubicBezTo>
                    <a:pt x="10291" y="1812"/>
                    <a:pt x="10285" y="1752"/>
                    <a:pt x="10214" y="1729"/>
                  </a:cubicBezTo>
                  <a:cubicBezTo>
                    <a:pt x="10165" y="1712"/>
                    <a:pt x="10097" y="1729"/>
                    <a:pt x="10035" y="1729"/>
                  </a:cubicBezTo>
                  <a:cubicBezTo>
                    <a:pt x="9943" y="1729"/>
                    <a:pt x="9856" y="1704"/>
                    <a:pt x="9764" y="1695"/>
                  </a:cubicBezTo>
                  <a:cubicBezTo>
                    <a:pt x="9671" y="1687"/>
                    <a:pt x="9554" y="1712"/>
                    <a:pt x="9542" y="1775"/>
                  </a:cubicBezTo>
                  <a:cubicBezTo>
                    <a:pt x="9705" y="1853"/>
                    <a:pt x="9844" y="1954"/>
                    <a:pt x="9950" y="2069"/>
                  </a:cubicBezTo>
                  <a:cubicBezTo>
                    <a:pt x="10057" y="2183"/>
                    <a:pt x="10131" y="2311"/>
                    <a:pt x="10165" y="2444"/>
                  </a:cubicBezTo>
                  <a:cubicBezTo>
                    <a:pt x="10242" y="2448"/>
                    <a:pt x="10316" y="2466"/>
                    <a:pt x="10384" y="2493"/>
                  </a:cubicBezTo>
                  <a:cubicBezTo>
                    <a:pt x="10452" y="2520"/>
                    <a:pt x="10513" y="2555"/>
                    <a:pt x="10566" y="2595"/>
                  </a:cubicBezTo>
                  <a:cubicBezTo>
                    <a:pt x="10501" y="2587"/>
                    <a:pt x="10439" y="2575"/>
                    <a:pt x="10381" y="2560"/>
                  </a:cubicBezTo>
                  <a:cubicBezTo>
                    <a:pt x="10322" y="2544"/>
                    <a:pt x="10267" y="2524"/>
                    <a:pt x="10214" y="2499"/>
                  </a:cubicBezTo>
                  <a:cubicBezTo>
                    <a:pt x="10041" y="2419"/>
                    <a:pt x="9920" y="2306"/>
                    <a:pt x="9803" y="2189"/>
                  </a:cubicBezTo>
                  <a:cubicBezTo>
                    <a:pt x="9687" y="2072"/>
                    <a:pt x="9576" y="1950"/>
                    <a:pt x="9424" y="1851"/>
                  </a:cubicBezTo>
                  <a:cubicBezTo>
                    <a:pt x="9387" y="1830"/>
                    <a:pt x="9346" y="1809"/>
                    <a:pt x="9302" y="1796"/>
                  </a:cubicBezTo>
                  <a:cubicBezTo>
                    <a:pt x="9258" y="1784"/>
                    <a:pt x="9212" y="1779"/>
                    <a:pt x="9165" y="1792"/>
                  </a:cubicBezTo>
                  <a:cubicBezTo>
                    <a:pt x="9252" y="1872"/>
                    <a:pt x="9333" y="1949"/>
                    <a:pt x="9414" y="2025"/>
                  </a:cubicBezTo>
                  <a:cubicBezTo>
                    <a:pt x="9495" y="2102"/>
                    <a:pt x="9576" y="2179"/>
                    <a:pt x="9659" y="2259"/>
                  </a:cubicBezTo>
                  <a:cubicBezTo>
                    <a:pt x="9693" y="2290"/>
                    <a:pt x="9725" y="2323"/>
                    <a:pt x="9754" y="2358"/>
                  </a:cubicBezTo>
                  <a:cubicBezTo>
                    <a:pt x="9782" y="2392"/>
                    <a:pt x="9807" y="2429"/>
                    <a:pt x="9825" y="2469"/>
                  </a:cubicBezTo>
                  <a:cubicBezTo>
                    <a:pt x="9841" y="2509"/>
                    <a:pt x="9858" y="2561"/>
                    <a:pt x="9886" y="2600"/>
                  </a:cubicBezTo>
                  <a:cubicBezTo>
                    <a:pt x="9913" y="2638"/>
                    <a:pt x="9952" y="2665"/>
                    <a:pt x="10011" y="2654"/>
                  </a:cubicBezTo>
                  <a:cubicBezTo>
                    <a:pt x="9955" y="2717"/>
                    <a:pt x="9813" y="2679"/>
                    <a:pt x="9739" y="2629"/>
                  </a:cubicBezTo>
                  <a:cubicBezTo>
                    <a:pt x="9437" y="2423"/>
                    <a:pt x="9400" y="2065"/>
                    <a:pt x="9023" y="1931"/>
                  </a:cubicBezTo>
                  <a:cubicBezTo>
                    <a:pt x="8974" y="1967"/>
                    <a:pt x="8965" y="2016"/>
                    <a:pt x="8976" y="2067"/>
                  </a:cubicBezTo>
                  <a:cubicBezTo>
                    <a:pt x="8986" y="2119"/>
                    <a:pt x="9017" y="2173"/>
                    <a:pt x="9048" y="2217"/>
                  </a:cubicBezTo>
                  <a:cubicBezTo>
                    <a:pt x="9070" y="2238"/>
                    <a:pt x="9087" y="2262"/>
                    <a:pt x="9103" y="2286"/>
                  </a:cubicBezTo>
                  <a:cubicBezTo>
                    <a:pt x="9119" y="2310"/>
                    <a:pt x="9134" y="2335"/>
                    <a:pt x="9153" y="2356"/>
                  </a:cubicBezTo>
                  <a:cubicBezTo>
                    <a:pt x="9165" y="2368"/>
                    <a:pt x="9176" y="2382"/>
                    <a:pt x="9187" y="2396"/>
                  </a:cubicBezTo>
                  <a:cubicBezTo>
                    <a:pt x="9198" y="2409"/>
                    <a:pt x="9208" y="2423"/>
                    <a:pt x="9221" y="2436"/>
                  </a:cubicBezTo>
                  <a:cubicBezTo>
                    <a:pt x="9239" y="2457"/>
                    <a:pt x="9266" y="2477"/>
                    <a:pt x="9293" y="2495"/>
                  </a:cubicBezTo>
                  <a:cubicBezTo>
                    <a:pt x="9321" y="2514"/>
                    <a:pt x="9350" y="2532"/>
                    <a:pt x="9375" y="2549"/>
                  </a:cubicBezTo>
                  <a:cubicBezTo>
                    <a:pt x="9597" y="2692"/>
                    <a:pt x="9764" y="2869"/>
                    <a:pt x="9856" y="3062"/>
                  </a:cubicBezTo>
                  <a:cubicBezTo>
                    <a:pt x="9869" y="3088"/>
                    <a:pt x="9881" y="3113"/>
                    <a:pt x="9869" y="3134"/>
                  </a:cubicBezTo>
                  <a:cubicBezTo>
                    <a:pt x="9853" y="3163"/>
                    <a:pt x="9807" y="3174"/>
                    <a:pt x="9757" y="3169"/>
                  </a:cubicBezTo>
                  <a:cubicBezTo>
                    <a:pt x="9707" y="3164"/>
                    <a:pt x="9653" y="3144"/>
                    <a:pt x="9622" y="3113"/>
                  </a:cubicBezTo>
                  <a:cubicBezTo>
                    <a:pt x="9588" y="3132"/>
                    <a:pt x="9552" y="3150"/>
                    <a:pt x="9515" y="3163"/>
                  </a:cubicBezTo>
                  <a:cubicBezTo>
                    <a:pt x="9478" y="3176"/>
                    <a:pt x="9440" y="3184"/>
                    <a:pt x="9400" y="3184"/>
                  </a:cubicBezTo>
                  <a:cubicBezTo>
                    <a:pt x="9316" y="3188"/>
                    <a:pt x="9239" y="3171"/>
                    <a:pt x="9167" y="3142"/>
                  </a:cubicBezTo>
                  <a:cubicBezTo>
                    <a:pt x="9094" y="3114"/>
                    <a:pt x="9026" y="3075"/>
                    <a:pt x="8962" y="3037"/>
                  </a:cubicBezTo>
                  <a:cubicBezTo>
                    <a:pt x="8897" y="2997"/>
                    <a:pt x="8829" y="2955"/>
                    <a:pt x="8761" y="2913"/>
                  </a:cubicBezTo>
                  <a:cubicBezTo>
                    <a:pt x="8693" y="2871"/>
                    <a:pt x="8625" y="2829"/>
                    <a:pt x="8561" y="2789"/>
                  </a:cubicBezTo>
                  <a:cubicBezTo>
                    <a:pt x="8527" y="2766"/>
                    <a:pt x="8494" y="2746"/>
                    <a:pt x="8465" y="2725"/>
                  </a:cubicBezTo>
                  <a:cubicBezTo>
                    <a:pt x="8436" y="2704"/>
                    <a:pt x="8410" y="2682"/>
                    <a:pt x="8388" y="2654"/>
                  </a:cubicBezTo>
                  <a:cubicBezTo>
                    <a:pt x="8376" y="2642"/>
                    <a:pt x="8363" y="2627"/>
                    <a:pt x="8351" y="2612"/>
                  </a:cubicBezTo>
                  <a:cubicBezTo>
                    <a:pt x="8339" y="2596"/>
                    <a:pt x="8326" y="2581"/>
                    <a:pt x="8314" y="2566"/>
                  </a:cubicBezTo>
                  <a:cubicBezTo>
                    <a:pt x="8302" y="2558"/>
                    <a:pt x="8285" y="2549"/>
                    <a:pt x="8268" y="2541"/>
                  </a:cubicBezTo>
                  <a:cubicBezTo>
                    <a:pt x="8251" y="2532"/>
                    <a:pt x="8234" y="2524"/>
                    <a:pt x="8221" y="2515"/>
                  </a:cubicBezTo>
                  <a:cubicBezTo>
                    <a:pt x="8144" y="2475"/>
                    <a:pt x="8079" y="2427"/>
                    <a:pt x="8026" y="2372"/>
                  </a:cubicBezTo>
                  <a:cubicBezTo>
                    <a:pt x="7973" y="2317"/>
                    <a:pt x="7931" y="2255"/>
                    <a:pt x="7901" y="2187"/>
                  </a:cubicBezTo>
                  <a:cubicBezTo>
                    <a:pt x="7860" y="2175"/>
                    <a:pt x="7808" y="2162"/>
                    <a:pt x="7761" y="2160"/>
                  </a:cubicBezTo>
                  <a:cubicBezTo>
                    <a:pt x="7714" y="2158"/>
                    <a:pt x="7672" y="2166"/>
                    <a:pt x="7654" y="2196"/>
                  </a:cubicBezTo>
                  <a:cubicBezTo>
                    <a:pt x="7641" y="2217"/>
                    <a:pt x="7641" y="2234"/>
                    <a:pt x="7641" y="2250"/>
                  </a:cubicBezTo>
                  <a:cubicBezTo>
                    <a:pt x="7641" y="2490"/>
                    <a:pt x="7759" y="2734"/>
                    <a:pt x="7975" y="2928"/>
                  </a:cubicBezTo>
                  <a:cubicBezTo>
                    <a:pt x="8018" y="2966"/>
                    <a:pt x="8067" y="3008"/>
                    <a:pt x="8055" y="3062"/>
                  </a:cubicBezTo>
                  <a:cubicBezTo>
                    <a:pt x="8036" y="3115"/>
                    <a:pt x="7948" y="3133"/>
                    <a:pt x="7860" y="3151"/>
                  </a:cubicBezTo>
                  <a:cubicBezTo>
                    <a:pt x="7772" y="3168"/>
                    <a:pt x="7685" y="3186"/>
                    <a:pt x="7666" y="3239"/>
                  </a:cubicBezTo>
                  <a:cubicBezTo>
                    <a:pt x="7614" y="3203"/>
                    <a:pt x="7546" y="3179"/>
                    <a:pt x="7473" y="3168"/>
                  </a:cubicBezTo>
                  <a:cubicBezTo>
                    <a:pt x="7401" y="3157"/>
                    <a:pt x="7324" y="3159"/>
                    <a:pt x="7253" y="3176"/>
                  </a:cubicBezTo>
                  <a:cubicBezTo>
                    <a:pt x="7234" y="3123"/>
                    <a:pt x="7202" y="3071"/>
                    <a:pt x="7159" y="3021"/>
                  </a:cubicBezTo>
                  <a:cubicBezTo>
                    <a:pt x="7117" y="2972"/>
                    <a:pt x="7065" y="2926"/>
                    <a:pt x="7006" y="2886"/>
                  </a:cubicBezTo>
                  <a:cubicBezTo>
                    <a:pt x="6975" y="2881"/>
                    <a:pt x="6949" y="2894"/>
                    <a:pt x="6932" y="2913"/>
                  </a:cubicBezTo>
                  <a:cubicBezTo>
                    <a:pt x="6915" y="2933"/>
                    <a:pt x="6907" y="2959"/>
                    <a:pt x="6913" y="2982"/>
                  </a:cubicBezTo>
                  <a:cubicBezTo>
                    <a:pt x="6920" y="3003"/>
                    <a:pt x="6937" y="3025"/>
                    <a:pt x="6949" y="3048"/>
                  </a:cubicBezTo>
                  <a:cubicBezTo>
                    <a:pt x="6961" y="3070"/>
                    <a:pt x="6969" y="3092"/>
                    <a:pt x="6957" y="3113"/>
                  </a:cubicBezTo>
                  <a:cubicBezTo>
                    <a:pt x="6929" y="3104"/>
                    <a:pt x="6896" y="3102"/>
                    <a:pt x="6867" y="3107"/>
                  </a:cubicBezTo>
                  <a:cubicBezTo>
                    <a:pt x="6838" y="3112"/>
                    <a:pt x="6812" y="3123"/>
                    <a:pt x="6796" y="3142"/>
                  </a:cubicBezTo>
                  <a:cubicBezTo>
                    <a:pt x="6784" y="3106"/>
                    <a:pt x="6771" y="3073"/>
                    <a:pt x="6758" y="3040"/>
                  </a:cubicBezTo>
                  <a:cubicBezTo>
                    <a:pt x="6744" y="3007"/>
                    <a:pt x="6728" y="2974"/>
                    <a:pt x="6710" y="2940"/>
                  </a:cubicBezTo>
                  <a:cubicBezTo>
                    <a:pt x="6617" y="2928"/>
                    <a:pt x="6568" y="2999"/>
                    <a:pt x="6556" y="3062"/>
                  </a:cubicBezTo>
                  <a:cubicBezTo>
                    <a:pt x="6543" y="3125"/>
                    <a:pt x="6512" y="3201"/>
                    <a:pt x="6426" y="3214"/>
                  </a:cubicBezTo>
                  <a:cubicBezTo>
                    <a:pt x="6386" y="3222"/>
                    <a:pt x="6357" y="3206"/>
                    <a:pt x="6339" y="3182"/>
                  </a:cubicBezTo>
                  <a:cubicBezTo>
                    <a:pt x="6321" y="3157"/>
                    <a:pt x="6315" y="3123"/>
                    <a:pt x="6321" y="3096"/>
                  </a:cubicBezTo>
                  <a:cubicBezTo>
                    <a:pt x="6321" y="3031"/>
                    <a:pt x="6318" y="2967"/>
                    <a:pt x="6313" y="2902"/>
                  </a:cubicBezTo>
                  <a:cubicBezTo>
                    <a:pt x="6309" y="2838"/>
                    <a:pt x="6303" y="2774"/>
                    <a:pt x="6296" y="2709"/>
                  </a:cubicBezTo>
                  <a:cubicBezTo>
                    <a:pt x="6290" y="2673"/>
                    <a:pt x="6270" y="2629"/>
                    <a:pt x="6239" y="2598"/>
                  </a:cubicBezTo>
                  <a:cubicBezTo>
                    <a:pt x="6207" y="2567"/>
                    <a:pt x="6164" y="2549"/>
                    <a:pt x="6111" y="2566"/>
                  </a:cubicBezTo>
                  <a:cubicBezTo>
                    <a:pt x="6117" y="2545"/>
                    <a:pt x="6102" y="2526"/>
                    <a:pt x="6077" y="2513"/>
                  </a:cubicBezTo>
                  <a:cubicBezTo>
                    <a:pt x="6051" y="2501"/>
                    <a:pt x="6016" y="2494"/>
                    <a:pt x="5982" y="2499"/>
                  </a:cubicBezTo>
                  <a:cubicBezTo>
                    <a:pt x="5957" y="2503"/>
                    <a:pt x="5935" y="2515"/>
                    <a:pt x="5919" y="2533"/>
                  </a:cubicBezTo>
                  <a:cubicBezTo>
                    <a:pt x="5902" y="2550"/>
                    <a:pt x="5889" y="2572"/>
                    <a:pt x="5883" y="2595"/>
                  </a:cubicBezTo>
                  <a:cubicBezTo>
                    <a:pt x="5883" y="2612"/>
                    <a:pt x="5863" y="2624"/>
                    <a:pt x="5837" y="2634"/>
                  </a:cubicBezTo>
                  <a:cubicBezTo>
                    <a:pt x="5811" y="2644"/>
                    <a:pt x="5778" y="2652"/>
                    <a:pt x="5753" y="2663"/>
                  </a:cubicBezTo>
                  <a:cubicBezTo>
                    <a:pt x="5726" y="2671"/>
                    <a:pt x="5696" y="2683"/>
                    <a:pt x="5677" y="2697"/>
                  </a:cubicBezTo>
                  <a:cubicBezTo>
                    <a:pt x="5658" y="2712"/>
                    <a:pt x="5649" y="2730"/>
                    <a:pt x="5661" y="2751"/>
                  </a:cubicBezTo>
                  <a:cubicBezTo>
                    <a:pt x="5649" y="2734"/>
                    <a:pt x="5635" y="2719"/>
                    <a:pt x="5619" y="2707"/>
                  </a:cubicBezTo>
                  <a:cubicBezTo>
                    <a:pt x="5604" y="2694"/>
                    <a:pt x="5587" y="2684"/>
                    <a:pt x="5568" y="2675"/>
                  </a:cubicBezTo>
                  <a:cubicBezTo>
                    <a:pt x="5544" y="2665"/>
                    <a:pt x="5514" y="2662"/>
                    <a:pt x="5490" y="2666"/>
                  </a:cubicBezTo>
                  <a:cubicBezTo>
                    <a:pt x="5465" y="2670"/>
                    <a:pt x="5445" y="2682"/>
                    <a:pt x="5439" y="2701"/>
                  </a:cubicBezTo>
                  <a:cubicBezTo>
                    <a:pt x="5433" y="2726"/>
                    <a:pt x="5420" y="2750"/>
                    <a:pt x="5405" y="2773"/>
                  </a:cubicBezTo>
                  <a:cubicBezTo>
                    <a:pt x="5389" y="2796"/>
                    <a:pt x="5371" y="2818"/>
                    <a:pt x="5352" y="2839"/>
                  </a:cubicBezTo>
                  <a:cubicBezTo>
                    <a:pt x="5325" y="2823"/>
                    <a:pt x="5298" y="2808"/>
                    <a:pt x="5272" y="2793"/>
                  </a:cubicBezTo>
                  <a:cubicBezTo>
                    <a:pt x="5246" y="2777"/>
                    <a:pt x="5220" y="2762"/>
                    <a:pt x="5192" y="2743"/>
                  </a:cubicBezTo>
                  <a:cubicBezTo>
                    <a:pt x="5192" y="2780"/>
                    <a:pt x="5124" y="2797"/>
                    <a:pt x="5075" y="2797"/>
                  </a:cubicBezTo>
                  <a:cubicBezTo>
                    <a:pt x="5019" y="2797"/>
                    <a:pt x="4976" y="2789"/>
                    <a:pt x="4921" y="2797"/>
                  </a:cubicBezTo>
                  <a:cubicBezTo>
                    <a:pt x="4890" y="2801"/>
                    <a:pt x="4863" y="2812"/>
                    <a:pt x="4840" y="2826"/>
                  </a:cubicBezTo>
                  <a:cubicBezTo>
                    <a:pt x="4817" y="2840"/>
                    <a:pt x="4797" y="2858"/>
                    <a:pt x="4779" y="2877"/>
                  </a:cubicBezTo>
                  <a:cubicBezTo>
                    <a:pt x="4757" y="2894"/>
                    <a:pt x="4739" y="2918"/>
                    <a:pt x="4733" y="2940"/>
                  </a:cubicBezTo>
                  <a:cubicBezTo>
                    <a:pt x="4728" y="2962"/>
                    <a:pt x="4735" y="2982"/>
                    <a:pt x="4766" y="2991"/>
                  </a:cubicBezTo>
                  <a:cubicBezTo>
                    <a:pt x="4825" y="3010"/>
                    <a:pt x="4877" y="3038"/>
                    <a:pt x="4917" y="3073"/>
                  </a:cubicBezTo>
                  <a:cubicBezTo>
                    <a:pt x="4956" y="3107"/>
                    <a:pt x="4982" y="3149"/>
                    <a:pt x="4988" y="3193"/>
                  </a:cubicBezTo>
                  <a:cubicBezTo>
                    <a:pt x="4936" y="3197"/>
                    <a:pt x="4884" y="3204"/>
                    <a:pt x="4831" y="3212"/>
                  </a:cubicBezTo>
                  <a:cubicBezTo>
                    <a:pt x="4779" y="3219"/>
                    <a:pt x="4726" y="3226"/>
                    <a:pt x="4674" y="3231"/>
                  </a:cubicBezTo>
                  <a:cubicBezTo>
                    <a:pt x="4649" y="3167"/>
                    <a:pt x="4563" y="3125"/>
                    <a:pt x="4470" y="3134"/>
                  </a:cubicBezTo>
                  <a:cubicBezTo>
                    <a:pt x="4378" y="3142"/>
                    <a:pt x="4304" y="3214"/>
                    <a:pt x="4341" y="3264"/>
                  </a:cubicBezTo>
                  <a:cubicBezTo>
                    <a:pt x="4285" y="3281"/>
                    <a:pt x="4248" y="3218"/>
                    <a:pt x="4248" y="3176"/>
                  </a:cubicBezTo>
                  <a:cubicBezTo>
                    <a:pt x="4248" y="3130"/>
                    <a:pt x="4248" y="3079"/>
                    <a:pt x="4186" y="3071"/>
                  </a:cubicBezTo>
                  <a:cubicBezTo>
                    <a:pt x="4186" y="3083"/>
                    <a:pt x="4186" y="3094"/>
                    <a:pt x="4185" y="3105"/>
                  </a:cubicBezTo>
                  <a:cubicBezTo>
                    <a:pt x="4183" y="3116"/>
                    <a:pt x="4180" y="3127"/>
                    <a:pt x="4174" y="3142"/>
                  </a:cubicBezTo>
                  <a:cubicBezTo>
                    <a:pt x="4146" y="3191"/>
                    <a:pt x="4126" y="3219"/>
                    <a:pt x="4113" y="3235"/>
                  </a:cubicBezTo>
                  <a:cubicBezTo>
                    <a:pt x="4100" y="3252"/>
                    <a:pt x="4094" y="3256"/>
                    <a:pt x="4094" y="325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1" name="Shape 2902"/>
            <p:cNvSpPr/>
            <p:nvPr/>
          </p:nvSpPr>
          <p:spPr>
            <a:xfrm>
              <a:off x="6371640" y="3434040"/>
              <a:ext cx="59400" cy="65520"/>
            </a:xfrm>
            <a:custGeom>
              <a:avLst/>
              <a:gdLst>
                <a:gd name="textAreaLeft" fmla="*/ 0 w 59400"/>
                <a:gd name="textAreaRight" fmla="*/ 59760 w 59400"/>
                <a:gd name="textAreaTop" fmla="*/ 0 h 65520"/>
                <a:gd name="textAreaBottom" fmla="*/ 65880 h 6552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d6d6d6"/>
            </a:solidFill>
            <a:ln w="12700">
              <a:noFill/>
            </a:ln>
          </p:spPr>
          <p:style>
            <a:lnRef idx="0"/>
            <a:fillRef idx="0"/>
            <a:effectRef idx="0"/>
            <a:fontRef idx="minor"/>
          </p:style>
          <p:txBody>
            <a:bodyPr numCol="1" spcCol="0" lIns="45720" rIns="45720" tIns="32760" bIns="32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2" name="Shape 2903"/>
            <p:cNvSpPr/>
            <p:nvPr/>
          </p:nvSpPr>
          <p:spPr>
            <a:xfrm>
              <a:off x="11366640" y="7080480"/>
              <a:ext cx="144000" cy="87840"/>
            </a:xfrm>
            <a:custGeom>
              <a:avLst/>
              <a:gdLst>
                <a:gd name="textAreaLeft" fmla="*/ 0 w 144000"/>
                <a:gd name="textAreaRight" fmla="*/ 144360 w 144000"/>
                <a:gd name="textAreaTop" fmla="*/ 0 h 87840"/>
                <a:gd name="textAreaBottom" fmla="*/ 88200 h 8784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d6d6d6"/>
            </a:solidFill>
            <a:ln w="12700">
              <a:noFill/>
            </a:ln>
          </p:spPr>
          <p:style>
            <a:lnRef idx="0"/>
            <a:fillRef idx="0"/>
            <a:effectRef idx="0"/>
            <a:fontRef idx="minor"/>
          </p:style>
          <p:txBody>
            <a:bodyPr numCol="1" spcCol="0" lIns="45720" rIns="45720" tIns="43920" bIns="43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3" name="Shape 2904"/>
            <p:cNvSpPr/>
            <p:nvPr/>
          </p:nvSpPr>
          <p:spPr>
            <a:xfrm>
              <a:off x="10324080" y="7297200"/>
              <a:ext cx="1189440" cy="945000"/>
            </a:xfrm>
            <a:custGeom>
              <a:avLst/>
              <a:gdLst>
                <a:gd name="textAreaLeft" fmla="*/ 0 w 1189440"/>
                <a:gd name="textAreaRight" fmla="*/ 1189800 w 1189440"/>
                <a:gd name="textAreaTop" fmla="*/ 0 h 945000"/>
                <a:gd name="textAreaBottom" fmla="*/ 945360 h 94500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4" name="Shape 2905"/>
            <p:cNvSpPr/>
            <p:nvPr/>
          </p:nvSpPr>
          <p:spPr>
            <a:xfrm>
              <a:off x="11347920" y="8246160"/>
              <a:ext cx="25200" cy="37440"/>
            </a:xfrm>
            <a:custGeom>
              <a:avLst/>
              <a:gdLst>
                <a:gd name="textAreaLeft" fmla="*/ 0 w 25200"/>
                <a:gd name="textAreaRight" fmla="*/ 25560 w 25200"/>
                <a:gd name="textAreaTop" fmla="*/ 0 h 37440"/>
                <a:gd name="textAreaBottom" fmla="*/ 37800 h 3744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d6d6d6"/>
            </a:solidFill>
            <a:ln w="12700">
              <a:noFill/>
            </a:ln>
          </p:spPr>
          <p:style>
            <a:lnRef idx="0"/>
            <a:fillRef idx="0"/>
            <a:effectRef idx="0"/>
            <a:fontRef idx="minor"/>
          </p:style>
          <p:txBody>
            <a:bodyPr numCol="1" spcCol="0" lIns="45720" rIns="45720" tIns="18720" bIns="18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5" name="Shape 2906"/>
            <p:cNvSpPr/>
            <p:nvPr/>
          </p:nvSpPr>
          <p:spPr>
            <a:xfrm>
              <a:off x="11247480" y="8287920"/>
              <a:ext cx="121680" cy="132840"/>
            </a:xfrm>
            <a:custGeom>
              <a:avLst/>
              <a:gdLst>
                <a:gd name="textAreaLeft" fmla="*/ 0 w 121680"/>
                <a:gd name="textAreaRight" fmla="*/ 122040 w 121680"/>
                <a:gd name="textAreaTop" fmla="*/ 0 h 132840"/>
                <a:gd name="textAreaBottom" fmla="*/ 133200 h 13284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8"/>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8"/>
                    <a:pt x="9775" y="21600"/>
                    <a:pt x="10869" y="21600"/>
                  </a:cubicBezTo>
                  <a:cubicBezTo>
                    <a:pt x="11416" y="21600"/>
                    <a:pt x="12054" y="21262"/>
                    <a:pt x="12418" y="20841"/>
                  </a:cubicBezTo>
                  <a:cubicBezTo>
                    <a:pt x="13603" y="20166"/>
                    <a:pt x="14697" y="19238"/>
                    <a:pt x="15699" y="18562"/>
                  </a:cubicBezTo>
                  <a:cubicBezTo>
                    <a:pt x="17431" y="17297"/>
                    <a:pt x="19254" y="15947"/>
                    <a:pt x="20074" y="14006"/>
                  </a:cubicBezTo>
                  <a:cubicBezTo>
                    <a:pt x="20985" y="11644"/>
                    <a:pt x="19892" y="8859"/>
                    <a:pt x="20803" y="6497"/>
                  </a:cubicBezTo>
                  <a:cubicBezTo>
                    <a:pt x="20985" y="5822"/>
                    <a:pt x="21441" y="5147"/>
                    <a:pt x="21168" y="4388"/>
                  </a:cubicBezTo>
                  <a:cubicBezTo>
                    <a:pt x="20803" y="3713"/>
                    <a:pt x="19892" y="3375"/>
                    <a:pt x="18889" y="3206"/>
                  </a:cubicBezTo>
                  <a:cubicBezTo>
                    <a:pt x="17157" y="2784"/>
                    <a:pt x="15517" y="2447"/>
                    <a:pt x="13968" y="2278"/>
                  </a:cubicBezTo>
                  <a:cubicBezTo>
                    <a:pt x="13785" y="2278"/>
                    <a:pt x="13330" y="2109"/>
                    <a:pt x="13147" y="2278"/>
                  </a:cubicBezTo>
                  <a:cubicBezTo>
                    <a:pt x="12418" y="2447"/>
                    <a:pt x="12054" y="3544"/>
                    <a:pt x="11233" y="3713"/>
                  </a:cubicBezTo>
                  <a:cubicBezTo>
                    <a:pt x="10322" y="4050"/>
                    <a:pt x="9593" y="2953"/>
                    <a:pt x="8773" y="2447"/>
                  </a:cubicBezTo>
                  <a:cubicBezTo>
                    <a:pt x="7223" y="1434"/>
                    <a:pt x="5309" y="1941"/>
                    <a:pt x="3578" y="84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6" name="Shape 2907"/>
            <p:cNvSpPr/>
            <p:nvPr/>
          </p:nvSpPr>
          <p:spPr>
            <a:xfrm>
              <a:off x="12093840" y="8069400"/>
              <a:ext cx="176760" cy="283320"/>
            </a:xfrm>
            <a:custGeom>
              <a:avLst/>
              <a:gdLst>
                <a:gd name="textAreaLeft" fmla="*/ 0 w 176760"/>
                <a:gd name="textAreaRight" fmla="*/ 177120 w 176760"/>
                <a:gd name="textAreaTop" fmla="*/ 0 h 283320"/>
                <a:gd name="textAreaBottom" fmla="*/ 283680 h 28332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7" name="Shape 2908"/>
            <p:cNvSpPr/>
            <p:nvPr/>
          </p:nvSpPr>
          <p:spPr>
            <a:xfrm>
              <a:off x="11911320" y="8295120"/>
              <a:ext cx="243720" cy="248040"/>
            </a:xfrm>
            <a:custGeom>
              <a:avLst/>
              <a:gdLst>
                <a:gd name="textAreaLeft" fmla="*/ 0 w 243720"/>
                <a:gd name="textAreaRight" fmla="*/ 244080 w 243720"/>
                <a:gd name="textAreaTop" fmla="*/ 0 h 248040"/>
                <a:gd name="textAreaBottom" fmla="*/ 248400 h 24804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8" name="Shape 2909"/>
            <p:cNvSpPr/>
            <p:nvPr/>
          </p:nvSpPr>
          <p:spPr>
            <a:xfrm>
              <a:off x="11825280" y="7557120"/>
              <a:ext cx="100440" cy="106560"/>
            </a:xfrm>
            <a:custGeom>
              <a:avLst/>
              <a:gdLst>
                <a:gd name="textAreaLeft" fmla="*/ 0 w 100440"/>
                <a:gd name="textAreaRight" fmla="*/ 100800 w 100440"/>
                <a:gd name="textAreaTop" fmla="*/ 0 h 106560"/>
                <a:gd name="textAreaBottom" fmla="*/ 106920 h 10656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69" name="Shape 2910"/>
            <p:cNvSpPr/>
            <p:nvPr/>
          </p:nvSpPr>
          <p:spPr>
            <a:xfrm>
              <a:off x="12227760" y="7489080"/>
              <a:ext cx="54720" cy="39240"/>
            </a:xfrm>
            <a:custGeom>
              <a:avLst/>
              <a:gdLst>
                <a:gd name="textAreaLeft" fmla="*/ 0 w 54720"/>
                <a:gd name="textAreaRight" fmla="*/ 55080 w 54720"/>
                <a:gd name="textAreaTop" fmla="*/ 0 h 39240"/>
                <a:gd name="textAreaBottom" fmla="*/ 39600 h 3924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d6d6d6"/>
            </a:solidFill>
            <a:ln w="12700">
              <a:noFill/>
            </a:ln>
          </p:spPr>
          <p:style>
            <a:lnRef idx="0"/>
            <a:fillRef idx="0"/>
            <a:effectRef idx="0"/>
            <a:fontRef idx="minor"/>
          </p:style>
          <p:txBody>
            <a:bodyPr numCol="1" spcCol="0" lIns="45720" rIns="45720" tIns="19800" bIns="19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0" name="Shape 2911"/>
            <p:cNvSpPr/>
            <p:nvPr/>
          </p:nvSpPr>
          <p:spPr>
            <a:xfrm>
              <a:off x="12282840" y="7450920"/>
              <a:ext cx="35280" cy="32040"/>
            </a:xfrm>
            <a:custGeom>
              <a:avLst/>
              <a:gdLst>
                <a:gd name="textAreaLeft" fmla="*/ 0 w 35280"/>
                <a:gd name="textAreaRight" fmla="*/ 35640 w 35280"/>
                <a:gd name="textAreaTop" fmla="*/ 0 h 32040"/>
                <a:gd name="textAreaBottom" fmla="*/ 32400 h 3204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d6d6d6"/>
            </a:solidFill>
            <a:ln w="12700">
              <a:noFill/>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1" name="Shape 2912"/>
            <p:cNvSpPr/>
            <p:nvPr/>
          </p:nvSpPr>
          <p:spPr>
            <a:xfrm>
              <a:off x="12294720" y="7505280"/>
              <a:ext cx="21960" cy="25920"/>
            </a:xfrm>
            <a:custGeom>
              <a:avLst/>
              <a:gdLst>
                <a:gd name="textAreaLeft" fmla="*/ 0 w 21960"/>
                <a:gd name="textAreaRight" fmla="*/ 22320 w 21960"/>
                <a:gd name="textAreaTop" fmla="*/ 0 h 25920"/>
                <a:gd name="textAreaBottom" fmla="*/ 26280 h 2592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d6d6d6"/>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2" name="Shape 2913"/>
            <p:cNvSpPr/>
            <p:nvPr/>
          </p:nvSpPr>
          <p:spPr>
            <a:xfrm>
              <a:off x="11904120" y="7408800"/>
              <a:ext cx="52560" cy="57960"/>
            </a:xfrm>
            <a:custGeom>
              <a:avLst/>
              <a:gdLst>
                <a:gd name="textAreaLeft" fmla="*/ 0 w 52560"/>
                <a:gd name="textAreaRight" fmla="*/ 52920 w 52560"/>
                <a:gd name="textAreaTop" fmla="*/ 0 h 57960"/>
                <a:gd name="textAreaBottom" fmla="*/ 58320 h 5796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d6d6d6"/>
            </a:solidFill>
            <a:ln w="12700">
              <a:noFill/>
            </a:ln>
          </p:spPr>
          <p:style>
            <a:lnRef idx="0"/>
            <a:fillRef idx="0"/>
            <a:effectRef idx="0"/>
            <a:fontRef idx="minor"/>
          </p:style>
          <p:txBody>
            <a:bodyPr numCol="1" spcCol="0" lIns="45720" rIns="45720" tIns="29160" bIns="29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3" name="Shape 2914"/>
            <p:cNvSpPr/>
            <p:nvPr/>
          </p:nvSpPr>
          <p:spPr>
            <a:xfrm>
              <a:off x="11162160" y="7041240"/>
              <a:ext cx="268560" cy="251640"/>
            </a:xfrm>
            <a:custGeom>
              <a:avLst/>
              <a:gdLst>
                <a:gd name="textAreaLeft" fmla="*/ 0 w 268560"/>
                <a:gd name="textAreaRight" fmla="*/ 268920 w 268560"/>
                <a:gd name="textAreaTop" fmla="*/ 0 h 251640"/>
                <a:gd name="textAreaBottom" fmla="*/ 252000 h 25164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4" name="Shape 2915"/>
            <p:cNvSpPr/>
            <p:nvPr/>
          </p:nvSpPr>
          <p:spPr>
            <a:xfrm>
              <a:off x="9303840" y="6668640"/>
              <a:ext cx="76680" cy="114120"/>
            </a:xfrm>
            <a:custGeom>
              <a:avLst/>
              <a:gdLst>
                <a:gd name="textAreaLeft" fmla="*/ 0 w 76680"/>
                <a:gd name="textAreaRight" fmla="*/ 77040 w 76680"/>
                <a:gd name="textAreaTop" fmla="*/ 0 h 114120"/>
                <a:gd name="textAreaBottom" fmla="*/ 114480 h 11412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5" name="Shape 2916"/>
            <p:cNvSpPr/>
            <p:nvPr/>
          </p:nvSpPr>
          <p:spPr>
            <a:xfrm>
              <a:off x="9781920" y="6780960"/>
              <a:ext cx="308160" cy="344160"/>
            </a:xfrm>
            <a:custGeom>
              <a:avLst/>
              <a:gdLst>
                <a:gd name="textAreaLeft" fmla="*/ 0 w 308160"/>
                <a:gd name="textAreaRight" fmla="*/ 308520 w 308160"/>
                <a:gd name="textAreaTop" fmla="*/ 0 h 344160"/>
                <a:gd name="textAreaBottom" fmla="*/ 344520 h 34416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3"/>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6" name="Shape 2917"/>
            <p:cNvSpPr/>
            <p:nvPr/>
          </p:nvSpPr>
          <p:spPr>
            <a:xfrm>
              <a:off x="10073880" y="6990120"/>
              <a:ext cx="39240" cy="51840"/>
            </a:xfrm>
            <a:custGeom>
              <a:avLst/>
              <a:gdLst>
                <a:gd name="textAreaLeft" fmla="*/ 0 w 39240"/>
                <a:gd name="textAreaRight" fmla="*/ 39600 w 39240"/>
                <a:gd name="textAreaTop" fmla="*/ 0 h 51840"/>
                <a:gd name="textAreaBottom" fmla="*/ 52200 h 5184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d6d6d6"/>
            </a:solidFill>
            <a:ln w="12700">
              <a:noFill/>
            </a:ln>
          </p:spPr>
          <p:style>
            <a:lnRef idx="0"/>
            <a:fillRef idx="0"/>
            <a:effectRef idx="0"/>
            <a:fontRef idx="minor"/>
          </p:style>
          <p:txBody>
            <a:bodyPr numCol="1" spcCol="0" lIns="45720" rIns="45720" tIns="25920" bIns="25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7" name="Shape 2918"/>
            <p:cNvSpPr/>
            <p:nvPr/>
          </p:nvSpPr>
          <p:spPr>
            <a:xfrm>
              <a:off x="10140840" y="7028640"/>
              <a:ext cx="30600" cy="18000"/>
            </a:xfrm>
            <a:custGeom>
              <a:avLst/>
              <a:gdLst>
                <a:gd name="textAreaLeft" fmla="*/ 0 w 30600"/>
                <a:gd name="textAreaRight" fmla="*/ 30960 w 30600"/>
                <a:gd name="textAreaTop" fmla="*/ 0 h 18000"/>
                <a:gd name="textAreaBottom" fmla="*/ 18360 h 1800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d6d6d6"/>
            </a:solidFill>
            <a:ln w="12700">
              <a:noFill/>
            </a:ln>
          </p:spPr>
          <p:style>
            <a:lnRef idx="0"/>
            <a:fillRef idx="0"/>
            <a:effectRef idx="0"/>
            <a:fontRef idx="minor"/>
          </p:style>
          <p:txBody>
            <a:bodyPr numCol="1" spcCol="0" lIns="45720" rIns="45720" tIns="9000" bIns="9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8" name="Shape 2919"/>
            <p:cNvSpPr/>
            <p:nvPr/>
          </p:nvSpPr>
          <p:spPr>
            <a:xfrm>
              <a:off x="10184040" y="6729840"/>
              <a:ext cx="313920" cy="338760"/>
            </a:xfrm>
            <a:custGeom>
              <a:avLst/>
              <a:gdLst>
                <a:gd name="textAreaLeft" fmla="*/ 0 w 313920"/>
                <a:gd name="textAreaRight" fmla="*/ 314280 w 313920"/>
                <a:gd name="textAreaTop" fmla="*/ 0 h 338760"/>
                <a:gd name="textAreaBottom" fmla="*/ 339120 h 33876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79" name="Shape 2920"/>
            <p:cNvSpPr/>
            <p:nvPr/>
          </p:nvSpPr>
          <p:spPr>
            <a:xfrm>
              <a:off x="10098720" y="7122240"/>
              <a:ext cx="282240" cy="89640"/>
            </a:xfrm>
            <a:custGeom>
              <a:avLst/>
              <a:gdLst>
                <a:gd name="textAreaLeft" fmla="*/ 0 w 282240"/>
                <a:gd name="textAreaRight" fmla="*/ 282600 w 282240"/>
                <a:gd name="textAreaTop" fmla="*/ 0 h 89640"/>
                <a:gd name="textAreaBottom" fmla="*/ 90000 h 8964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d6d6d6"/>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0" name="Shape 2921"/>
            <p:cNvSpPr/>
            <p:nvPr/>
          </p:nvSpPr>
          <p:spPr>
            <a:xfrm>
              <a:off x="10407240" y="7198560"/>
              <a:ext cx="82080" cy="19440"/>
            </a:xfrm>
            <a:custGeom>
              <a:avLst/>
              <a:gdLst>
                <a:gd name="textAreaLeft" fmla="*/ 0 w 82080"/>
                <a:gd name="textAreaRight" fmla="*/ 82440 w 82080"/>
                <a:gd name="textAreaTop" fmla="*/ 0 h 19440"/>
                <a:gd name="textAreaBottom" fmla="*/ 19800 h 1944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d6d6d6"/>
            </a:solidFill>
            <a:ln w="12700">
              <a:noFill/>
            </a:ln>
          </p:spPr>
          <p:style>
            <a:lnRef idx="0"/>
            <a:fillRef idx="0"/>
            <a:effectRef idx="0"/>
            <a:fontRef idx="minor"/>
          </p:style>
          <p:txBody>
            <a:bodyPr numCol="1" spcCol="0"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1" name="Shape 2922"/>
            <p:cNvSpPr/>
            <p:nvPr/>
          </p:nvSpPr>
          <p:spPr>
            <a:xfrm>
              <a:off x="10491840" y="7224840"/>
              <a:ext cx="55440" cy="41040"/>
            </a:xfrm>
            <a:custGeom>
              <a:avLst/>
              <a:gdLst>
                <a:gd name="textAreaLeft" fmla="*/ 0 w 55440"/>
                <a:gd name="textAreaRight" fmla="*/ 55800 w 55440"/>
                <a:gd name="textAreaTop" fmla="*/ 0 h 41040"/>
                <a:gd name="textAreaBottom" fmla="*/ 41400 h 4104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d6d6d6"/>
            </a:solidFill>
            <a:ln w="12700">
              <a:noFill/>
            </a:ln>
          </p:spPr>
          <p:style>
            <a:lnRef idx="0"/>
            <a:fillRef idx="0"/>
            <a:effectRef idx="0"/>
            <a:fontRef idx="minor"/>
          </p:style>
          <p:txBody>
            <a:bodyPr numCol="1" spcCol="0" lIns="45720" rIns="45720" tIns="20520" bIns="20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2" name="Shape 2923"/>
            <p:cNvSpPr/>
            <p:nvPr/>
          </p:nvSpPr>
          <p:spPr>
            <a:xfrm>
              <a:off x="10504080" y="7190640"/>
              <a:ext cx="153720" cy="31320"/>
            </a:xfrm>
            <a:custGeom>
              <a:avLst/>
              <a:gdLst>
                <a:gd name="textAreaLeft" fmla="*/ 0 w 153720"/>
                <a:gd name="textAreaRight" fmla="*/ 154080 w 153720"/>
                <a:gd name="textAreaTop" fmla="*/ 0 h 31320"/>
                <a:gd name="textAreaBottom" fmla="*/ 31680 h 3132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d6d6d6"/>
            </a:solidFill>
            <a:ln w="12700">
              <a:noFill/>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3" name="Shape 2924"/>
            <p:cNvSpPr/>
            <p:nvPr/>
          </p:nvSpPr>
          <p:spPr>
            <a:xfrm>
              <a:off x="10630440" y="7199280"/>
              <a:ext cx="112680" cy="55440"/>
            </a:xfrm>
            <a:custGeom>
              <a:avLst/>
              <a:gdLst>
                <a:gd name="textAreaLeft" fmla="*/ 0 w 112680"/>
                <a:gd name="textAreaRight" fmla="*/ 113040 w 112680"/>
                <a:gd name="textAreaTop" fmla="*/ 0 h 55440"/>
                <a:gd name="textAreaBottom" fmla="*/ 55800 h 5544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d6d6d6"/>
            </a:solidFill>
            <a:ln w="12700">
              <a:noFill/>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4" name="Shape 2925"/>
            <p:cNvSpPr/>
            <p:nvPr/>
          </p:nvSpPr>
          <p:spPr>
            <a:xfrm>
              <a:off x="10485720" y="6958080"/>
              <a:ext cx="143640" cy="162000"/>
            </a:xfrm>
            <a:custGeom>
              <a:avLst/>
              <a:gdLst>
                <a:gd name="textAreaLeft" fmla="*/ 0 w 143640"/>
                <a:gd name="textAreaRight" fmla="*/ 144000 w 143640"/>
                <a:gd name="textAreaTop" fmla="*/ 0 h 162000"/>
                <a:gd name="textAreaBottom" fmla="*/ 162360 h 16200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5" name="Shape 2926"/>
            <p:cNvSpPr/>
            <p:nvPr/>
          </p:nvSpPr>
          <p:spPr>
            <a:xfrm>
              <a:off x="10530360" y="6888240"/>
              <a:ext cx="149040" cy="60840"/>
            </a:xfrm>
            <a:custGeom>
              <a:avLst/>
              <a:gdLst>
                <a:gd name="textAreaLeft" fmla="*/ 0 w 149040"/>
                <a:gd name="textAreaRight" fmla="*/ 149400 w 149040"/>
                <a:gd name="textAreaTop" fmla="*/ 0 h 60840"/>
                <a:gd name="textAreaBottom" fmla="*/ 61200 h 6084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d6d6d6"/>
            </a:solidFill>
            <a:ln w="12700">
              <a:noFill/>
            </a:ln>
          </p:spPr>
          <p:style>
            <a:lnRef idx="0"/>
            <a:fillRef idx="0"/>
            <a:effectRef idx="0"/>
            <a:fontRef idx="minor"/>
          </p:style>
          <p:txBody>
            <a:bodyPr numCol="1" spcCol="0" lIns="45720" rIns="45720" tIns="30600" bIns="30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6" name="Shape 2927"/>
            <p:cNvSpPr/>
            <p:nvPr/>
          </p:nvSpPr>
          <p:spPr>
            <a:xfrm>
              <a:off x="10698480" y="7035840"/>
              <a:ext cx="30960" cy="47520"/>
            </a:xfrm>
            <a:custGeom>
              <a:avLst/>
              <a:gdLst>
                <a:gd name="textAreaLeft" fmla="*/ 0 w 30960"/>
                <a:gd name="textAreaRight" fmla="*/ 31320 w 30960"/>
                <a:gd name="textAreaTop" fmla="*/ 0 h 47520"/>
                <a:gd name="textAreaBottom" fmla="*/ 47880 h 4752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d6d6d6"/>
            </a:solidFill>
            <a:ln w="12700">
              <a:noFill/>
            </a:ln>
          </p:spPr>
          <p:style>
            <a:lnRef idx="0"/>
            <a:fillRef idx="0"/>
            <a:effectRef idx="0"/>
            <a:fontRef idx="minor"/>
          </p:style>
          <p:txBody>
            <a:bodyPr numCol="1" spcCol="0" lIns="45720" rIns="45720" tIns="23760" bIns="23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7" name="Shape 2928"/>
            <p:cNvSpPr/>
            <p:nvPr/>
          </p:nvSpPr>
          <p:spPr>
            <a:xfrm>
              <a:off x="10750320" y="7030800"/>
              <a:ext cx="99360" cy="50760"/>
            </a:xfrm>
            <a:custGeom>
              <a:avLst/>
              <a:gdLst>
                <a:gd name="textAreaLeft" fmla="*/ 0 w 99360"/>
                <a:gd name="textAreaRight" fmla="*/ 99720 w 99360"/>
                <a:gd name="textAreaTop" fmla="*/ 0 h 50760"/>
                <a:gd name="textAreaBottom" fmla="*/ 51120 h 5076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d6d6d6"/>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8" name="Shape 2929"/>
            <p:cNvSpPr/>
            <p:nvPr/>
          </p:nvSpPr>
          <p:spPr>
            <a:xfrm>
              <a:off x="10839600" y="7163640"/>
              <a:ext cx="39960" cy="46440"/>
            </a:xfrm>
            <a:custGeom>
              <a:avLst/>
              <a:gdLst>
                <a:gd name="textAreaLeft" fmla="*/ 0 w 39960"/>
                <a:gd name="textAreaRight" fmla="*/ 40320 w 39960"/>
                <a:gd name="textAreaTop" fmla="*/ 0 h 46440"/>
                <a:gd name="textAreaBottom" fmla="*/ 46800 h 4644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d6d6d6"/>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89" name="Shape 2930"/>
            <p:cNvSpPr/>
            <p:nvPr/>
          </p:nvSpPr>
          <p:spPr>
            <a:xfrm>
              <a:off x="10892880" y="7107480"/>
              <a:ext cx="27000" cy="30600"/>
            </a:xfrm>
            <a:custGeom>
              <a:avLst/>
              <a:gdLst>
                <a:gd name="textAreaLeft" fmla="*/ 0 w 27000"/>
                <a:gd name="textAreaRight" fmla="*/ 27360 w 27000"/>
                <a:gd name="textAreaTop" fmla="*/ 0 h 30600"/>
                <a:gd name="textAreaBottom" fmla="*/ 30960 h 3060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d6d6d6"/>
            </a:solidFill>
            <a:ln w="12700">
              <a:noFill/>
            </a:ln>
          </p:spPr>
          <p:style>
            <a:lnRef idx="0"/>
            <a:fillRef idx="0"/>
            <a:effectRef idx="0"/>
            <a:fontRef idx="minor"/>
          </p:style>
          <p:txBody>
            <a:bodyPr numCol="1" spcCol="0" lIns="45720" rIns="45720" tIns="15480" bIns="15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0" name="Shape 2931"/>
            <p:cNvSpPr/>
            <p:nvPr/>
          </p:nvSpPr>
          <p:spPr>
            <a:xfrm>
              <a:off x="10940400" y="7115400"/>
              <a:ext cx="25920" cy="45000"/>
            </a:xfrm>
            <a:custGeom>
              <a:avLst/>
              <a:gdLst>
                <a:gd name="textAreaLeft" fmla="*/ 0 w 25920"/>
                <a:gd name="textAreaRight" fmla="*/ 26280 w 25920"/>
                <a:gd name="textAreaTop" fmla="*/ 0 h 45000"/>
                <a:gd name="textAreaBottom" fmla="*/ 45360 h 4500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d6d6d6"/>
            </a:solidFill>
            <a:ln w="12700">
              <a:noFill/>
            </a:ln>
          </p:spPr>
          <p:style>
            <a:lnRef idx="0"/>
            <a:fillRef idx="0"/>
            <a:effectRef idx="0"/>
            <a:fontRef idx="minor"/>
          </p:style>
          <p:txBody>
            <a:bodyPr numCol="1" spcCol="0" lIns="45720" rIns="45720" tIns="22680" bIns="22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1" name="Shape 2932"/>
            <p:cNvSpPr/>
            <p:nvPr/>
          </p:nvSpPr>
          <p:spPr>
            <a:xfrm>
              <a:off x="10734840" y="6889680"/>
              <a:ext cx="49680" cy="90360"/>
            </a:xfrm>
            <a:custGeom>
              <a:avLst/>
              <a:gdLst>
                <a:gd name="textAreaLeft" fmla="*/ 0 w 49680"/>
                <a:gd name="textAreaRight" fmla="*/ 50040 w 49680"/>
                <a:gd name="textAreaTop" fmla="*/ 0 h 90360"/>
                <a:gd name="textAreaBottom" fmla="*/ 90720 h 90360"/>
              </a:gdLst>
              <a:ahLst/>
              <a:rect l="textAreaLeft" t="textAreaTop" r="textAreaRight" b="textAreaBottom"/>
              <a:pathLst>
                <a:path w="21487"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d6d6d6"/>
            </a:solidFill>
            <a:ln w="12700">
              <a:noFill/>
            </a:ln>
          </p:spPr>
          <p:style>
            <a:lnRef idx="0"/>
            <a:fillRef idx="0"/>
            <a:effectRef idx="0"/>
            <a:fontRef idx="minor"/>
          </p:style>
          <p:txBody>
            <a:bodyPr numCol="1" spcCol="0" lIns="45720" rIns="45720" tIns="45360" bIns="45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2" name="Shape 2933"/>
            <p:cNvSpPr/>
            <p:nvPr/>
          </p:nvSpPr>
          <p:spPr>
            <a:xfrm>
              <a:off x="10823760" y="6945480"/>
              <a:ext cx="34920" cy="43200"/>
            </a:xfrm>
            <a:custGeom>
              <a:avLst/>
              <a:gdLst>
                <a:gd name="textAreaLeft" fmla="*/ 0 w 34920"/>
                <a:gd name="textAreaRight" fmla="*/ 35280 w 34920"/>
                <a:gd name="textAreaTop" fmla="*/ 0 h 43200"/>
                <a:gd name="textAreaBottom" fmla="*/ 43560 h 4320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d6d6d6"/>
            </a:solidFill>
            <a:ln w="12700">
              <a:noFill/>
            </a:ln>
          </p:spPr>
          <p:style>
            <a:lnRef idx="0"/>
            <a:fillRef idx="0"/>
            <a:effectRef idx="0"/>
            <a:fontRef idx="minor"/>
          </p:style>
          <p:txBody>
            <a:bodyPr numCol="1" spcCol="0" lIns="45720" rIns="45720" tIns="21600" bIns="21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3" name="Shape 2934"/>
            <p:cNvSpPr/>
            <p:nvPr/>
          </p:nvSpPr>
          <p:spPr>
            <a:xfrm>
              <a:off x="10522440" y="6166800"/>
              <a:ext cx="48600" cy="105840"/>
            </a:xfrm>
            <a:custGeom>
              <a:avLst/>
              <a:gdLst>
                <a:gd name="textAreaLeft" fmla="*/ 0 w 48600"/>
                <a:gd name="textAreaRight" fmla="*/ 48960 w 48600"/>
                <a:gd name="textAreaTop" fmla="*/ 0 h 105840"/>
                <a:gd name="textAreaBottom" fmla="*/ 106200 h 10584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4" name="Shape 2935"/>
            <p:cNvSpPr/>
            <p:nvPr/>
          </p:nvSpPr>
          <p:spPr>
            <a:xfrm>
              <a:off x="10509840" y="6373440"/>
              <a:ext cx="85680" cy="211320"/>
            </a:xfrm>
            <a:custGeom>
              <a:avLst/>
              <a:gdLst>
                <a:gd name="textAreaLeft" fmla="*/ 0 w 85680"/>
                <a:gd name="textAreaRight" fmla="*/ 86040 w 85680"/>
                <a:gd name="textAreaTop" fmla="*/ 0 h 211320"/>
                <a:gd name="textAreaBottom" fmla="*/ 211680 h 21132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5" name="Shape 2936"/>
            <p:cNvSpPr/>
            <p:nvPr/>
          </p:nvSpPr>
          <p:spPr>
            <a:xfrm>
              <a:off x="10575720" y="6514200"/>
              <a:ext cx="59040" cy="42480"/>
            </a:xfrm>
            <a:custGeom>
              <a:avLst/>
              <a:gdLst>
                <a:gd name="textAreaLeft" fmla="*/ 0 w 59040"/>
                <a:gd name="textAreaRight" fmla="*/ 59400 w 59040"/>
                <a:gd name="textAreaTop" fmla="*/ 0 h 42480"/>
                <a:gd name="textAreaBottom" fmla="*/ 42840 h 4248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d6d6d6"/>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6" name="Shape 2937"/>
            <p:cNvSpPr/>
            <p:nvPr/>
          </p:nvSpPr>
          <p:spPr>
            <a:xfrm>
              <a:off x="10573560" y="6585840"/>
              <a:ext cx="34560" cy="48960"/>
            </a:xfrm>
            <a:custGeom>
              <a:avLst/>
              <a:gdLst>
                <a:gd name="textAreaLeft" fmla="*/ 0 w 34560"/>
                <a:gd name="textAreaRight" fmla="*/ 34920 w 34560"/>
                <a:gd name="textAreaTop" fmla="*/ 0 h 48960"/>
                <a:gd name="textAreaBottom" fmla="*/ 49320 h 4896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d6d6d6"/>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7" name="Shape 2938"/>
            <p:cNvSpPr/>
            <p:nvPr/>
          </p:nvSpPr>
          <p:spPr>
            <a:xfrm>
              <a:off x="10590120" y="6621120"/>
              <a:ext cx="57600" cy="58320"/>
            </a:xfrm>
            <a:custGeom>
              <a:avLst/>
              <a:gdLst>
                <a:gd name="textAreaLeft" fmla="*/ 0 w 57600"/>
                <a:gd name="textAreaRight" fmla="*/ 57960 w 57600"/>
                <a:gd name="textAreaTop" fmla="*/ 0 h 58320"/>
                <a:gd name="textAreaBottom" fmla="*/ 58680 h 5832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d6d6d6"/>
            </a:solidFill>
            <a:ln w="12700">
              <a:noFill/>
            </a:ln>
          </p:spPr>
          <p:style>
            <a:lnRef idx="0"/>
            <a:fillRef idx="0"/>
            <a:effectRef idx="0"/>
            <a:fontRef idx="minor"/>
          </p:style>
          <p:txBody>
            <a:bodyPr numCol="1" spcCol="0" lIns="45720" rIns="45720" tIns="29160" bIns="29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8" name="Shape 2939"/>
            <p:cNvSpPr/>
            <p:nvPr/>
          </p:nvSpPr>
          <p:spPr>
            <a:xfrm>
              <a:off x="10624680" y="6565680"/>
              <a:ext cx="53280" cy="82440"/>
            </a:xfrm>
            <a:custGeom>
              <a:avLst/>
              <a:gdLst>
                <a:gd name="textAreaLeft" fmla="*/ 0 w 53280"/>
                <a:gd name="textAreaRight" fmla="*/ 53640 w 53280"/>
                <a:gd name="textAreaTop" fmla="*/ 0 h 82440"/>
                <a:gd name="textAreaBottom" fmla="*/ 82800 h 8244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d6d6d6"/>
            </a:solidFill>
            <a:ln w="12700">
              <a:noFill/>
            </a:ln>
          </p:spPr>
          <p:style>
            <a:lnRef idx="0"/>
            <a:fillRef idx="0"/>
            <a:effectRef idx="0"/>
            <a:fontRef idx="minor"/>
          </p:style>
          <p:txBody>
            <a:bodyPr numCol="1" spcCol="0" lIns="45720" rIns="45720" tIns="41400" bIns="41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599" name="Shape 2940"/>
            <p:cNvSpPr/>
            <p:nvPr/>
          </p:nvSpPr>
          <p:spPr>
            <a:xfrm>
              <a:off x="10574280" y="6671160"/>
              <a:ext cx="147600" cy="114480"/>
            </a:xfrm>
            <a:custGeom>
              <a:avLst/>
              <a:gdLst>
                <a:gd name="textAreaLeft" fmla="*/ 0 w 147600"/>
                <a:gd name="textAreaRight" fmla="*/ 147960 w 147600"/>
                <a:gd name="textAreaTop" fmla="*/ 0 h 114480"/>
                <a:gd name="textAreaBottom" fmla="*/ 114840 h 11448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0" name="Shape 2941"/>
            <p:cNvSpPr/>
            <p:nvPr/>
          </p:nvSpPr>
          <p:spPr>
            <a:xfrm>
              <a:off x="12557160" y="4458600"/>
              <a:ext cx="92160" cy="56160"/>
            </a:xfrm>
            <a:custGeom>
              <a:avLst/>
              <a:gdLst>
                <a:gd name="textAreaLeft" fmla="*/ 0 w 92160"/>
                <a:gd name="textAreaRight" fmla="*/ 92520 w 92160"/>
                <a:gd name="textAreaTop" fmla="*/ 0 h 56160"/>
                <a:gd name="textAreaBottom" fmla="*/ 56520 h 56160"/>
              </a:gdLst>
              <a:ahLst/>
              <a:rect l="textAreaLeft" t="textAreaTop" r="textAreaRight" b="textAreaBottom"/>
              <a:pathLst>
                <a:path w="20746" h="19746">
                  <a:moveTo>
                    <a:pt x="2693" y="8974"/>
                  </a:moveTo>
                  <a:cubicBezTo>
                    <a:pt x="3163" y="8974"/>
                    <a:pt x="3398" y="8608"/>
                    <a:pt x="3985" y="8608"/>
                  </a:cubicBezTo>
                  <a:cubicBezTo>
                    <a:pt x="4219" y="8608"/>
                    <a:pt x="4454" y="8974"/>
                    <a:pt x="4689" y="8974"/>
                  </a:cubicBezTo>
                  <a:cubicBezTo>
                    <a:pt x="4924" y="8974"/>
                    <a:pt x="5159" y="8608"/>
                    <a:pt x="5159" y="8608"/>
                  </a:cubicBezTo>
                  <a:cubicBezTo>
                    <a:pt x="6685" y="6960"/>
                    <a:pt x="8915" y="8425"/>
                    <a:pt x="9854" y="10438"/>
                  </a:cubicBezTo>
                  <a:cubicBezTo>
                    <a:pt x="10793" y="12269"/>
                    <a:pt x="11615" y="15381"/>
                    <a:pt x="11615" y="18126"/>
                  </a:cubicBezTo>
                  <a:cubicBezTo>
                    <a:pt x="12789" y="17028"/>
                    <a:pt x="14315" y="20506"/>
                    <a:pt x="15489" y="19591"/>
                  </a:cubicBezTo>
                  <a:cubicBezTo>
                    <a:pt x="15959" y="19225"/>
                    <a:pt x="16193" y="18492"/>
                    <a:pt x="15959" y="17760"/>
                  </a:cubicBezTo>
                  <a:cubicBezTo>
                    <a:pt x="15724" y="17028"/>
                    <a:pt x="15254" y="16662"/>
                    <a:pt x="14785" y="16662"/>
                  </a:cubicBezTo>
                  <a:cubicBezTo>
                    <a:pt x="14785" y="15381"/>
                    <a:pt x="15489" y="14648"/>
                    <a:pt x="16546" y="14282"/>
                  </a:cubicBezTo>
                  <a:cubicBezTo>
                    <a:pt x="17250" y="14282"/>
                    <a:pt x="17954" y="14648"/>
                    <a:pt x="18659" y="14648"/>
                  </a:cubicBezTo>
                  <a:cubicBezTo>
                    <a:pt x="19480" y="14648"/>
                    <a:pt x="20419" y="14648"/>
                    <a:pt x="20654" y="13550"/>
                  </a:cubicBezTo>
                  <a:cubicBezTo>
                    <a:pt x="20889" y="12452"/>
                    <a:pt x="20654" y="11170"/>
                    <a:pt x="20185" y="10438"/>
                  </a:cubicBezTo>
                  <a:cubicBezTo>
                    <a:pt x="19715" y="9706"/>
                    <a:pt x="19011" y="9340"/>
                    <a:pt x="18189" y="8974"/>
                  </a:cubicBezTo>
                  <a:cubicBezTo>
                    <a:pt x="17485" y="8608"/>
                    <a:pt x="17015" y="8242"/>
                    <a:pt x="16193" y="7692"/>
                  </a:cubicBezTo>
                  <a:cubicBezTo>
                    <a:pt x="15959" y="7692"/>
                    <a:pt x="15489" y="7326"/>
                    <a:pt x="15019" y="7326"/>
                  </a:cubicBezTo>
                  <a:cubicBezTo>
                    <a:pt x="14550" y="7326"/>
                    <a:pt x="14315" y="8242"/>
                    <a:pt x="14080" y="8608"/>
                  </a:cubicBezTo>
                  <a:cubicBezTo>
                    <a:pt x="13259" y="9340"/>
                    <a:pt x="12319" y="8608"/>
                    <a:pt x="11850" y="7326"/>
                  </a:cubicBezTo>
                  <a:cubicBezTo>
                    <a:pt x="11380" y="6228"/>
                    <a:pt x="11028" y="5130"/>
                    <a:pt x="10559" y="3848"/>
                  </a:cubicBezTo>
                  <a:cubicBezTo>
                    <a:pt x="10089" y="2750"/>
                    <a:pt x="9385" y="1652"/>
                    <a:pt x="8328" y="1652"/>
                  </a:cubicBezTo>
                  <a:cubicBezTo>
                    <a:pt x="8093" y="1652"/>
                    <a:pt x="7624" y="2018"/>
                    <a:pt x="7389" y="1652"/>
                  </a:cubicBezTo>
                  <a:cubicBezTo>
                    <a:pt x="6919" y="1652"/>
                    <a:pt x="6450" y="920"/>
                    <a:pt x="6098" y="553"/>
                  </a:cubicBezTo>
                  <a:cubicBezTo>
                    <a:pt x="4219" y="-1094"/>
                    <a:pt x="1989" y="1286"/>
                    <a:pt x="463" y="3116"/>
                  </a:cubicBezTo>
                  <a:cubicBezTo>
                    <a:pt x="-711" y="5496"/>
                    <a:pt x="463" y="9706"/>
                    <a:pt x="2693" y="8974"/>
                  </a:cubicBezTo>
                </a:path>
              </a:pathLst>
            </a:custGeom>
            <a:solidFill>
              <a:srgbClr val="d6d6d6"/>
            </a:solidFill>
            <a:ln w="12700">
              <a:noFill/>
            </a:ln>
          </p:spPr>
          <p:style>
            <a:lnRef idx="0"/>
            <a:fillRef idx="0"/>
            <a:effectRef idx="0"/>
            <a:fontRef idx="minor"/>
          </p:style>
          <p:txBody>
            <a:bodyPr numCol="1" spcCol="0" lIns="45720" rIns="45720" tIns="28080" bIns="28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1" name="Shape 2942"/>
            <p:cNvSpPr/>
            <p:nvPr/>
          </p:nvSpPr>
          <p:spPr>
            <a:xfrm>
              <a:off x="12266280" y="3827520"/>
              <a:ext cx="133920" cy="82080"/>
            </a:xfrm>
            <a:custGeom>
              <a:avLst/>
              <a:gdLst>
                <a:gd name="textAreaLeft" fmla="*/ 0 w 133920"/>
                <a:gd name="textAreaRight" fmla="*/ 134280 w 133920"/>
                <a:gd name="textAreaTop" fmla="*/ 0 h 82080"/>
                <a:gd name="textAreaBottom" fmla="*/ 82440 h 8208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d6d6d6"/>
            </a:solidFill>
            <a:ln w="12700">
              <a:noFill/>
            </a:ln>
          </p:spPr>
          <p:style>
            <a:lnRef idx="0"/>
            <a:fillRef idx="0"/>
            <a:effectRef idx="0"/>
            <a:fontRef idx="minor"/>
          </p:style>
          <p:txBody>
            <a:bodyPr numCol="1" spcCol="0" lIns="45720" rIns="45720" tIns="41040" bIns="41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2" name="Shape 2943"/>
            <p:cNvSpPr/>
            <p:nvPr/>
          </p:nvSpPr>
          <p:spPr>
            <a:xfrm>
              <a:off x="11117520" y="3552480"/>
              <a:ext cx="114480" cy="116280"/>
            </a:xfrm>
            <a:custGeom>
              <a:avLst/>
              <a:gdLst>
                <a:gd name="textAreaLeft" fmla="*/ 0 w 114480"/>
                <a:gd name="textAreaRight" fmla="*/ 114840 w 114480"/>
                <a:gd name="textAreaTop" fmla="*/ 0 h 116280"/>
                <a:gd name="textAreaBottom" fmla="*/ 116640 h 11628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3" name="Shape 2944"/>
            <p:cNvSpPr/>
            <p:nvPr/>
          </p:nvSpPr>
          <p:spPr>
            <a:xfrm>
              <a:off x="11021760" y="3330360"/>
              <a:ext cx="254880" cy="175320"/>
            </a:xfrm>
            <a:custGeom>
              <a:avLst/>
              <a:gdLst>
                <a:gd name="textAreaLeft" fmla="*/ 0 w 254880"/>
                <a:gd name="textAreaRight" fmla="*/ 255240 w 254880"/>
                <a:gd name="textAreaTop" fmla="*/ 0 h 175320"/>
                <a:gd name="textAreaBottom" fmla="*/ 175680 h 17532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59"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4" name="Shape 2945"/>
            <p:cNvSpPr/>
            <p:nvPr/>
          </p:nvSpPr>
          <p:spPr>
            <a:xfrm>
              <a:off x="10974960" y="3373200"/>
              <a:ext cx="32760" cy="74520"/>
            </a:xfrm>
            <a:custGeom>
              <a:avLst/>
              <a:gdLst>
                <a:gd name="textAreaLeft" fmla="*/ 0 w 32760"/>
                <a:gd name="textAreaRight" fmla="*/ 33120 w 32760"/>
                <a:gd name="textAreaTop" fmla="*/ 0 h 74520"/>
                <a:gd name="textAreaBottom" fmla="*/ 74880 h 7452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d6d6d6"/>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5" name="Shape 2946"/>
            <p:cNvSpPr/>
            <p:nvPr/>
          </p:nvSpPr>
          <p:spPr>
            <a:xfrm>
              <a:off x="11297880" y="3397680"/>
              <a:ext cx="150840" cy="104760"/>
            </a:xfrm>
            <a:custGeom>
              <a:avLst/>
              <a:gdLst>
                <a:gd name="textAreaLeft" fmla="*/ 0 w 150840"/>
                <a:gd name="textAreaRight" fmla="*/ 151200 w 150840"/>
                <a:gd name="textAreaTop" fmla="*/ 0 h 104760"/>
                <a:gd name="textAreaBottom" fmla="*/ 105120 h 10476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6" name="Shape 2947"/>
            <p:cNvSpPr/>
            <p:nvPr/>
          </p:nvSpPr>
          <p:spPr>
            <a:xfrm>
              <a:off x="9276840" y="3648960"/>
              <a:ext cx="33120" cy="73440"/>
            </a:xfrm>
            <a:custGeom>
              <a:avLst/>
              <a:gdLst>
                <a:gd name="textAreaLeft" fmla="*/ 0 w 33120"/>
                <a:gd name="textAreaRight" fmla="*/ 33480 w 33120"/>
                <a:gd name="textAreaTop" fmla="*/ 0 h 73440"/>
                <a:gd name="textAreaBottom" fmla="*/ 73800 h 7344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d6d6d6"/>
            </a:solidFill>
            <a:ln w="12700">
              <a:noFill/>
            </a:ln>
          </p:spPr>
          <p:style>
            <a:lnRef idx="0"/>
            <a:fillRef idx="0"/>
            <a:effectRef idx="0"/>
            <a:fontRef idx="minor"/>
          </p:style>
          <p:txBody>
            <a:bodyPr numCol="1" spcCol="0" lIns="45720" rIns="45720" tIns="36720" bIns="36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7" name="Shape 2948"/>
            <p:cNvSpPr/>
            <p:nvPr/>
          </p:nvSpPr>
          <p:spPr>
            <a:xfrm>
              <a:off x="7896600" y="5817240"/>
              <a:ext cx="60120" cy="26640"/>
            </a:xfrm>
            <a:custGeom>
              <a:avLst/>
              <a:gdLst>
                <a:gd name="textAreaLeft" fmla="*/ 0 w 60120"/>
                <a:gd name="textAreaRight" fmla="*/ 60480 w 60120"/>
                <a:gd name="textAreaTop" fmla="*/ 0 h 26640"/>
                <a:gd name="textAreaBottom" fmla="*/ 27000 h 2664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d6d6d6"/>
            </a:solidFill>
            <a:ln w="12700">
              <a:noFill/>
            </a:ln>
          </p:spPr>
          <p:style>
            <a:lnRef idx="0"/>
            <a:fillRef idx="0"/>
            <a:effectRef idx="0"/>
            <a:fontRef idx="minor"/>
          </p:style>
          <p:txBody>
            <a:bodyPr numCol="1" spcCol="0" lIns="45720" rIns="45720" tIns="13320" bIns="13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8" name="Shape 2949"/>
            <p:cNvSpPr/>
            <p:nvPr/>
          </p:nvSpPr>
          <p:spPr>
            <a:xfrm>
              <a:off x="11159640" y="4997880"/>
              <a:ext cx="79920" cy="408600"/>
            </a:xfrm>
            <a:custGeom>
              <a:avLst/>
              <a:gdLst>
                <a:gd name="textAreaLeft" fmla="*/ 0 w 79920"/>
                <a:gd name="textAreaRight" fmla="*/ 80280 w 79920"/>
                <a:gd name="textAreaTop" fmla="*/ 0 h 408600"/>
                <a:gd name="textAreaBottom" fmla="*/ 408960 h 40860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09" name="Shape 2950"/>
            <p:cNvSpPr/>
            <p:nvPr/>
          </p:nvSpPr>
          <p:spPr>
            <a:xfrm>
              <a:off x="11109960" y="5427000"/>
              <a:ext cx="174960" cy="174240"/>
            </a:xfrm>
            <a:custGeom>
              <a:avLst/>
              <a:gdLst>
                <a:gd name="textAreaLeft" fmla="*/ 0 w 174960"/>
                <a:gd name="textAreaRight" fmla="*/ 175320 w 174960"/>
                <a:gd name="textAreaTop" fmla="*/ 0 h 174240"/>
                <a:gd name="textAreaBottom" fmla="*/ 174600 h 17424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0" name="Shape 2951"/>
            <p:cNvSpPr/>
            <p:nvPr/>
          </p:nvSpPr>
          <p:spPr>
            <a:xfrm>
              <a:off x="10799640" y="5606280"/>
              <a:ext cx="377640" cy="361800"/>
            </a:xfrm>
            <a:custGeom>
              <a:avLst/>
              <a:gdLst>
                <a:gd name="textAreaLeft" fmla="*/ 0 w 377640"/>
                <a:gd name="textAreaRight" fmla="*/ 378000 w 377640"/>
                <a:gd name="textAreaTop" fmla="*/ 0 h 361800"/>
                <a:gd name="textAreaBottom" fmla="*/ 362160 h 36180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1"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1"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1" name="Shape 2952"/>
            <p:cNvSpPr/>
            <p:nvPr/>
          </p:nvSpPr>
          <p:spPr>
            <a:xfrm>
              <a:off x="9663120" y="2566800"/>
              <a:ext cx="172800" cy="213480"/>
            </a:xfrm>
            <a:custGeom>
              <a:avLst/>
              <a:gdLst>
                <a:gd name="textAreaLeft" fmla="*/ 0 w 172800"/>
                <a:gd name="textAreaRight" fmla="*/ 173160 w 172800"/>
                <a:gd name="textAreaTop" fmla="*/ 0 h 213480"/>
                <a:gd name="textAreaBottom" fmla="*/ 213840 h 21348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2" name="Shape 2953"/>
            <p:cNvSpPr/>
            <p:nvPr/>
          </p:nvSpPr>
          <p:spPr>
            <a:xfrm>
              <a:off x="9638640" y="2753280"/>
              <a:ext cx="273960" cy="232560"/>
            </a:xfrm>
            <a:custGeom>
              <a:avLst/>
              <a:gdLst>
                <a:gd name="textAreaLeft" fmla="*/ 0 w 273960"/>
                <a:gd name="textAreaRight" fmla="*/ 274320 w 273960"/>
                <a:gd name="textAreaTop" fmla="*/ 0 h 232560"/>
                <a:gd name="textAreaBottom" fmla="*/ 232920 h 23256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3" name="Shape 2954"/>
            <p:cNvSpPr/>
            <p:nvPr/>
          </p:nvSpPr>
          <p:spPr>
            <a:xfrm>
              <a:off x="9887760" y="2872800"/>
              <a:ext cx="181440" cy="232920"/>
            </a:xfrm>
            <a:custGeom>
              <a:avLst/>
              <a:gdLst>
                <a:gd name="textAreaLeft" fmla="*/ 0 w 181440"/>
                <a:gd name="textAreaRight" fmla="*/ 181800 w 181440"/>
                <a:gd name="textAreaTop" fmla="*/ 0 h 232920"/>
                <a:gd name="textAreaBottom" fmla="*/ 233280 h 23292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4" name="Shape 2955"/>
            <p:cNvSpPr/>
            <p:nvPr/>
          </p:nvSpPr>
          <p:spPr>
            <a:xfrm>
              <a:off x="10860120" y="6968520"/>
              <a:ext cx="310320" cy="262800"/>
            </a:xfrm>
            <a:custGeom>
              <a:avLst/>
              <a:gdLst>
                <a:gd name="textAreaLeft" fmla="*/ 0 w 310320"/>
                <a:gd name="textAreaRight" fmla="*/ 310680 w 310320"/>
                <a:gd name="textAreaTop" fmla="*/ 0 h 262800"/>
                <a:gd name="textAreaBottom" fmla="*/ 263160 h 26280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5" name="Shape 2956"/>
            <p:cNvSpPr/>
            <p:nvPr/>
          </p:nvSpPr>
          <p:spPr>
            <a:xfrm>
              <a:off x="7702920" y="3130560"/>
              <a:ext cx="4914360" cy="3823920"/>
            </a:xfrm>
            <a:custGeom>
              <a:avLst/>
              <a:gdLst>
                <a:gd name="textAreaLeft" fmla="*/ 0 w 4914360"/>
                <a:gd name="textAreaRight" fmla="*/ 4914720 w 4914360"/>
                <a:gd name="textAreaTop" fmla="*/ 0 h 3823920"/>
                <a:gd name="textAreaBottom" fmla="*/ 3824280 h 382392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9"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4"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4"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4"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8" y="14865"/>
                  </a:cubicBezTo>
                  <a:cubicBezTo>
                    <a:pt x="12290" y="14865"/>
                    <a:pt x="12255" y="14827"/>
                    <a:pt x="12265" y="14788"/>
                  </a:cubicBezTo>
                  <a:cubicBezTo>
                    <a:pt x="12290" y="14815"/>
                    <a:pt x="12334" y="14776"/>
                    <a:pt x="12329" y="14735"/>
                  </a:cubicBezTo>
                  <a:cubicBezTo>
                    <a:pt x="12318"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5"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6" name="Shape 2957"/>
            <p:cNvSpPr/>
            <p:nvPr/>
          </p:nvSpPr>
          <p:spPr>
            <a:xfrm>
              <a:off x="6522840" y="6044400"/>
              <a:ext cx="20520" cy="18000"/>
            </a:xfrm>
            <a:custGeom>
              <a:avLst/>
              <a:gdLst>
                <a:gd name="textAreaLeft" fmla="*/ 0 w 20520"/>
                <a:gd name="textAreaRight" fmla="*/ 20880 w 20520"/>
                <a:gd name="textAreaTop" fmla="*/ 0 h 18000"/>
                <a:gd name="textAreaBottom" fmla="*/ 18360 h 18000"/>
              </a:gdLst>
              <a:ahLst/>
              <a:rect l="textAreaLeft" t="textAreaTop" r="textAreaRight" b="textAreaBottom"/>
              <a:pathLst>
                <a:path w="20029" h="21600">
                  <a:moveTo>
                    <a:pt x="4730" y="1350"/>
                  </a:moveTo>
                  <a:cubicBezTo>
                    <a:pt x="4730" y="0"/>
                    <a:pt x="2673" y="0"/>
                    <a:pt x="1644" y="0"/>
                  </a:cubicBezTo>
                  <a:cubicBezTo>
                    <a:pt x="2673" y="2700"/>
                    <a:pt x="1644" y="7425"/>
                    <a:pt x="616" y="10125"/>
                  </a:cubicBezTo>
                  <a:cubicBezTo>
                    <a:pt x="-413" y="12825"/>
                    <a:pt x="-413" y="18225"/>
                    <a:pt x="2673" y="20250"/>
                  </a:cubicBezTo>
                  <a:cubicBezTo>
                    <a:pt x="4730" y="20250"/>
                    <a:pt x="5758" y="18225"/>
                    <a:pt x="8330" y="16875"/>
                  </a:cubicBezTo>
                  <a:cubicBezTo>
                    <a:pt x="11416" y="15525"/>
                    <a:pt x="14501" y="16875"/>
                    <a:pt x="16558" y="21600"/>
                  </a:cubicBezTo>
                  <a:cubicBezTo>
                    <a:pt x="21187" y="20250"/>
                    <a:pt x="21187" y="10800"/>
                    <a:pt x="16558" y="7425"/>
                  </a:cubicBezTo>
                  <a:cubicBezTo>
                    <a:pt x="14501" y="6750"/>
                    <a:pt x="13473" y="7425"/>
                    <a:pt x="11416" y="7425"/>
                  </a:cubicBezTo>
                  <a:cubicBezTo>
                    <a:pt x="9358" y="7425"/>
                    <a:pt x="12444" y="2700"/>
                    <a:pt x="11416" y="1350"/>
                  </a:cubicBezTo>
                  <a:cubicBezTo>
                    <a:pt x="10387" y="6075"/>
                    <a:pt x="5758" y="1350"/>
                    <a:pt x="5758" y="7425"/>
                  </a:cubicBezTo>
                  <a:cubicBezTo>
                    <a:pt x="5758" y="4725"/>
                    <a:pt x="5758" y="1350"/>
                    <a:pt x="4730" y="1350"/>
                  </a:cubicBezTo>
                </a:path>
              </a:pathLst>
            </a:custGeom>
            <a:solidFill>
              <a:srgbClr val="424242"/>
            </a:solidFill>
            <a:ln w="12700">
              <a:noFill/>
            </a:ln>
          </p:spPr>
          <p:style>
            <a:lnRef idx="0"/>
            <a:fillRef idx="0"/>
            <a:effectRef idx="0"/>
            <a:fontRef idx="minor"/>
          </p:style>
          <p:txBody>
            <a:bodyPr numCol="1" spcCol="0" lIns="45720" rIns="45720" tIns="9000" bIns="9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7" name="Shape 2958"/>
            <p:cNvSpPr/>
            <p:nvPr/>
          </p:nvSpPr>
          <p:spPr>
            <a:xfrm>
              <a:off x="6437520" y="6073560"/>
              <a:ext cx="19440" cy="23760"/>
            </a:xfrm>
            <a:custGeom>
              <a:avLst/>
              <a:gdLst>
                <a:gd name="textAreaLeft" fmla="*/ 0 w 19440"/>
                <a:gd name="textAreaRight" fmla="*/ 19800 w 19440"/>
                <a:gd name="textAreaTop" fmla="*/ 0 h 23760"/>
                <a:gd name="textAreaBottom" fmla="*/ 24120 h 23760"/>
              </a:gdLst>
              <a:ahLst/>
              <a:rect l="textAreaLeft" t="textAreaTop" r="textAreaRight" b="textAreaBottom"/>
              <a:pathLst>
                <a:path w="21210" h="20842">
                  <a:moveTo>
                    <a:pt x="5863" y="3757"/>
                  </a:moveTo>
                  <a:cubicBezTo>
                    <a:pt x="4726" y="3757"/>
                    <a:pt x="3589" y="3757"/>
                    <a:pt x="1884" y="3757"/>
                  </a:cubicBezTo>
                  <a:cubicBezTo>
                    <a:pt x="-390" y="7983"/>
                    <a:pt x="-390" y="11739"/>
                    <a:pt x="747" y="14557"/>
                  </a:cubicBezTo>
                  <a:cubicBezTo>
                    <a:pt x="1884" y="18783"/>
                    <a:pt x="6431" y="21600"/>
                    <a:pt x="11547" y="20661"/>
                  </a:cubicBezTo>
                  <a:cubicBezTo>
                    <a:pt x="16094" y="19722"/>
                    <a:pt x="20073" y="15496"/>
                    <a:pt x="17799" y="11739"/>
                  </a:cubicBezTo>
                  <a:cubicBezTo>
                    <a:pt x="15526" y="8922"/>
                    <a:pt x="10410" y="6574"/>
                    <a:pt x="11547" y="3757"/>
                  </a:cubicBezTo>
                  <a:cubicBezTo>
                    <a:pt x="15526" y="3757"/>
                    <a:pt x="18936" y="4696"/>
                    <a:pt x="21210" y="6574"/>
                  </a:cubicBezTo>
                  <a:cubicBezTo>
                    <a:pt x="20073" y="5635"/>
                    <a:pt x="21210" y="4696"/>
                    <a:pt x="20073" y="3757"/>
                  </a:cubicBezTo>
                  <a:cubicBezTo>
                    <a:pt x="20073" y="2817"/>
                    <a:pt x="18936" y="2817"/>
                    <a:pt x="17799" y="1878"/>
                  </a:cubicBezTo>
                  <a:cubicBezTo>
                    <a:pt x="16663" y="939"/>
                    <a:pt x="13821" y="0"/>
                    <a:pt x="12684" y="0"/>
                  </a:cubicBezTo>
                  <a:cubicBezTo>
                    <a:pt x="11547" y="0"/>
                    <a:pt x="11547" y="0"/>
                    <a:pt x="10410" y="0"/>
                  </a:cubicBezTo>
                  <a:cubicBezTo>
                    <a:pt x="10410" y="939"/>
                    <a:pt x="8136" y="1878"/>
                    <a:pt x="5863" y="3757"/>
                  </a:cubicBezTo>
                </a:path>
              </a:pathLst>
            </a:custGeom>
            <a:solidFill>
              <a:srgbClr val="424242"/>
            </a:solidFill>
            <a:ln w="12700">
              <a:noFill/>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8" name="Shape 2959"/>
            <p:cNvSpPr/>
            <p:nvPr/>
          </p:nvSpPr>
          <p:spPr>
            <a:xfrm>
              <a:off x="6463800" y="6085800"/>
              <a:ext cx="20880" cy="22680"/>
            </a:xfrm>
            <a:custGeom>
              <a:avLst/>
              <a:gdLst>
                <a:gd name="textAreaLeft" fmla="*/ 0 w 20880"/>
                <a:gd name="textAreaRight" fmla="*/ 21240 w 20880"/>
                <a:gd name="textAreaTop" fmla="*/ 0 h 22680"/>
                <a:gd name="textAreaBottom" fmla="*/ 23040 h 22680"/>
              </a:gdLst>
              <a:ahLst/>
              <a:rect l="textAreaLeft" t="textAreaTop" r="textAreaRight" b="textAreaBottom"/>
              <a:pathLst>
                <a:path w="20282" h="20177">
                  <a:moveTo>
                    <a:pt x="225" y="9964"/>
                  </a:moveTo>
                  <a:cubicBezTo>
                    <a:pt x="-1318" y="4799"/>
                    <a:pt x="5368" y="-836"/>
                    <a:pt x="11025" y="103"/>
                  </a:cubicBezTo>
                  <a:cubicBezTo>
                    <a:pt x="8453" y="103"/>
                    <a:pt x="7425" y="2921"/>
                    <a:pt x="8453" y="4799"/>
                  </a:cubicBezTo>
                  <a:cubicBezTo>
                    <a:pt x="9482" y="7147"/>
                    <a:pt x="12053" y="8086"/>
                    <a:pt x="14111" y="8086"/>
                  </a:cubicBezTo>
                  <a:cubicBezTo>
                    <a:pt x="16168" y="8086"/>
                    <a:pt x="18225" y="9025"/>
                    <a:pt x="20282" y="10903"/>
                  </a:cubicBezTo>
                  <a:cubicBezTo>
                    <a:pt x="17196" y="12781"/>
                    <a:pt x="17196" y="17947"/>
                    <a:pt x="14111" y="19825"/>
                  </a:cubicBezTo>
                  <a:cubicBezTo>
                    <a:pt x="12053" y="20764"/>
                    <a:pt x="7425" y="19825"/>
                    <a:pt x="6396" y="17007"/>
                  </a:cubicBezTo>
                  <a:cubicBezTo>
                    <a:pt x="5368" y="14660"/>
                    <a:pt x="5368" y="11842"/>
                    <a:pt x="5368" y="9025"/>
                  </a:cubicBezTo>
                  <a:cubicBezTo>
                    <a:pt x="4339" y="9025"/>
                    <a:pt x="2282" y="9025"/>
                    <a:pt x="225" y="9964"/>
                  </a:cubicBezTo>
                </a:path>
              </a:pathLst>
            </a:custGeom>
            <a:solidFill>
              <a:srgbClr val="424242"/>
            </a:solidFill>
            <a:ln w="12700">
              <a:noFill/>
            </a:ln>
          </p:spPr>
          <p:style>
            <a:lnRef idx="0"/>
            <a:fillRef idx="0"/>
            <a:effectRef idx="0"/>
            <a:fontRef idx="minor"/>
          </p:style>
          <p:txBody>
            <a:bodyPr numCol="1" spcCol="0" lIns="45720" rIns="45720" tIns="11520" bIns="11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19" name="Shape 2960"/>
            <p:cNvSpPr/>
            <p:nvPr/>
          </p:nvSpPr>
          <p:spPr>
            <a:xfrm>
              <a:off x="6524640" y="5974200"/>
              <a:ext cx="23040" cy="19800"/>
            </a:xfrm>
            <a:custGeom>
              <a:avLst/>
              <a:gdLst>
                <a:gd name="textAreaLeft" fmla="*/ 0 w 23040"/>
                <a:gd name="textAreaRight" fmla="*/ 23400 w 23040"/>
                <a:gd name="textAreaTop" fmla="*/ 0 h 19800"/>
                <a:gd name="textAreaBottom" fmla="*/ 20160 h 19800"/>
              </a:gdLst>
              <a:ahLst/>
              <a:rect l="textAreaLeft" t="textAreaTop" r="textAreaRight" b="textAreaBottom"/>
              <a:pathLst>
                <a:path w="20236" h="21600">
                  <a:moveTo>
                    <a:pt x="0" y="0"/>
                  </a:moveTo>
                  <a:cubicBezTo>
                    <a:pt x="0" y="4547"/>
                    <a:pt x="0" y="8526"/>
                    <a:pt x="0" y="13074"/>
                  </a:cubicBezTo>
                  <a:cubicBezTo>
                    <a:pt x="0" y="14211"/>
                    <a:pt x="0" y="15347"/>
                    <a:pt x="0" y="15347"/>
                  </a:cubicBezTo>
                  <a:cubicBezTo>
                    <a:pt x="0" y="16484"/>
                    <a:pt x="900" y="16484"/>
                    <a:pt x="1800" y="16484"/>
                  </a:cubicBezTo>
                  <a:cubicBezTo>
                    <a:pt x="4500" y="17621"/>
                    <a:pt x="7650" y="19326"/>
                    <a:pt x="10350" y="21600"/>
                  </a:cubicBezTo>
                  <a:cubicBezTo>
                    <a:pt x="10350" y="19326"/>
                    <a:pt x="12600" y="16484"/>
                    <a:pt x="14850" y="16484"/>
                  </a:cubicBezTo>
                  <a:cubicBezTo>
                    <a:pt x="16650" y="16484"/>
                    <a:pt x="18900" y="19326"/>
                    <a:pt x="18900" y="21600"/>
                  </a:cubicBezTo>
                  <a:cubicBezTo>
                    <a:pt x="21600" y="17621"/>
                    <a:pt x="19800" y="10800"/>
                    <a:pt x="17100" y="7389"/>
                  </a:cubicBezTo>
                  <a:cubicBezTo>
                    <a:pt x="16200" y="4547"/>
                    <a:pt x="13950" y="2274"/>
                    <a:pt x="11250" y="1137"/>
                  </a:cubicBezTo>
                  <a:cubicBezTo>
                    <a:pt x="9450" y="1137"/>
                    <a:pt x="6750" y="3411"/>
                    <a:pt x="7650" y="5684"/>
                  </a:cubicBezTo>
                  <a:cubicBezTo>
                    <a:pt x="5850" y="3411"/>
                    <a:pt x="2700" y="2274"/>
                    <a:pt x="0" y="0"/>
                  </a:cubicBezTo>
                </a:path>
              </a:pathLst>
            </a:custGeom>
            <a:solidFill>
              <a:srgbClr val="424242"/>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0" name="Shape 2961"/>
            <p:cNvSpPr/>
            <p:nvPr/>
          </p:nvSpPr>
          <p:spPr>
            <a:xfrm>
              <a:off x="7221960" y="4432680"/>
              <a:ext cx="18000" cy="18000"/>
            </a:xfrm>
            <a:custGeom>
              <a:avLst/>
              <a:gdLst>
                <a:gd name="textAreaLeft" fmla="*/ 0 w 18000"/>
                <a:gd name="textAreaRight" fmla="*/ 18360 w 18000"/>
                <a:gd name="textAreaTop" fmla="*/ 0 h 18000"/>
                <a:gd name="textAreaBottom" fmla="*/ 18360 h 18000"/>
              </a:gdLst>
              <a:ahLst/>
              <a:rect l="textAreaLeft" t="textAreaTop" r="textAreaRight" b="textAreaBottom"/>
              <a:pathLst>
                <a:path w="9600" h="16200">
                  <a:moveTo>
                    <a:pt x="0" y="0"/>
                  </a:moveTo>
                  <a:cubicBezTo>
                    <a:pt x="0" y="21600"/>
                    <a:pt x="21600" y="21600"/>
                    <a:pt x="0" y="0"/>
                  </a:cubicBezTo>
                </a:path>
              </a:pathLst>
            </a:custGeom>
            <a:solidFill>
              <a:srgbClr val="424242"/>
            </a:solidFill>
            <a:ln w="12700">
              <a:noFill/>
            </a:ln>
          </p:spPr>
          <p:style>
            <a:lnRef idx="0"/>
            <a:fillRef idx="0"/>
            <a:effectRef idx="0"/>
            <a:fontRef idx="minor"/>
          </p:style>
          <p:txBody>
            <a:bodyPr numCol="1" spcCol="0" lIns="45720" rIns="45720" tIns="9000" bIns="9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1" name="Shape 2962"/>
            <p:cNvSpPr/>
            <p:nvPr/>
          </p:nvSpPr>
          <p:spPr>
            <a:xfrm>
              <a:off x="8380440" y="4027320"/>
              <a:ext cx="78840" cy="83160"/>
            </a:xfrm>
            <a:custGeom>
              <a:avLst/>
              <a:gdLst>
                <a:gd name="textAreaLeft" fmla="*/ 0 w 78840"/>
                <a:gd name="textAreaRight" fmla="*/ 79200 w 78840"/>
                <a:gd name="textAreaTop" fmla="*/ 0 h 83160"/>
                <a:gd name="textAreaBottom" fmla="*/ 83520 h 8316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424242"/>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2" name="Shape 2963"/>
            <p:cNvSpPr/>
            <p:nvPr/>
          </p:nvSpPr>
          <p:spPr>
            <a:xfrm>
              <a:off x="7484040" y="4826880"/>
              <a:ext cx="40680" cy="72720"/>
            </a:xfrm>
            <a:custGeom>
              <a:avLst/>
              <a:gdLst>
                <a:gd name="textAreaLeft" fmla="*/ 0 w 40680"/>
                <a:gd name="textAreaRight" fmla="*/ 41040 w 40680"/>
                <a:gd name="textAreaTop" fmla="*/ 0 h 72720"/>
                <a:gd name="textAreaBottom" fmla="*/ 73080 h 7272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424242"/>
            </a:solidFill>
            <a:ln w="12700">
              <a:noFill/>
            </a:ln>
          </p:spPr>
          <p:style>
            <a:lnRef idx="0"/>
            <a:fillRef idx="0"/>
            <a:effectRef idx="0"/>
            <a:fontRef idx="minor"/>
          </p:style>
          <p:txBody>
            <a:bodyPr numCol="1" spcCol="0" lIns="45720" rIns="45720" tIns="36360" bIns="36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3" name="Shape 2964"/>
            <p:cNvSpPr/>
            <p:nvPr/>
          </p:nvSpPr>
          <p:spPr>
            <a:xfrm>
              <a:off x="7278480" y="4934520"/>
              <a:ext cx="49320" cy="73800"/>
            </a:xfrm>
            <a:custGeom>
              <a:avLst/>
              <a:gdLst>
                <a:gd name="textAreaLeft" fmla="*/ 0 w 49320"/>
                <a:gd name="textAreaRight" fmla="*/ 49680 w 49320"/>
                <a:gd name="textAreaTop" fmla="*/ 0 h 73800"/>
                <a:gd name="textAreaBottom" fmla="*/ 74160 h 7380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424242"/>
            </a:solidFill>
            <a:ln w="12700">
              <a:noFill/>
            </a:ln>
          </p:spPr>
          <p:style>
            <a:lnRef idx="0"/>
            <a:fillRef idx="0"/>
            <a:effectRef idx="0"/>
            <a:fontRef idx="minor"/>
          </p:style>
          <p:txBody>
            <a:bodyPr numCol="1" spcCol="0" lIns="45720" rIns="45720" tIns="37080" bIns="37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4" name="Shape 2965"/>
            <p:cNvSpPr/>
            <p:nvPr/>
          </p:nvSpPr>
          <p:spPr>
            <a:xfrm>
              <a:off x="7284960" y="4884840"/>
              <a:ext cx="18000" cy="26640"/>
            </a:xfrm>
            <a:custGeom>
              <a:avLst/>
              <a:gdLst>
                <a:gd name="textAreaLeft" fmla="*/ 0 w 18000"/>
                <a:gd name="textAreaRight" fmla="*/ 18360 w 18000"/>
                <a:gd name="textAreaTop" fmla="*/ 0 h 26640"/>
                <a:gd name="textAreaBottom" fmla="*/ 27000 h 2664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424242"/>
            </a:solidFill>
            <a:ln w="12700">
              <a:noFill/>
            </a:ln>
          </p:spPr>
          <p:style>
            <a:lnRef idx="0"/>
            <a:fillRef idx="0"/>
            <a:effectRef idx="0"/>
            <a:fontRef idx="minor"/>
          </p:style>
          <p:txBody>
            <a:bodyPr numCol="1" spcCol="0" lIns="45720" rIns="45720" tIns="13320" bIns="13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5" name="Shape 2966"/>
            <p:cNvSpPr/>
            <p:nvPr/>
          </p:nvSpPr>
          <p:spPr>
            <a:xfrm>
              <a:off x="7203600" y="5531760"/>
              <a:ext cx="30240" cy="83520"/>
            </a:xfrm>
            <a:custGeom>
              <a:avLst/>
              <a:gdLst>
                <a:gd name="textAreaLeft" fmla="*/ 0 w 30240"/>
                <a:gd name="textAreaRight" fmla="*/ 30600 w 30240"/>
                <a:gd name="textAreaTop" fmla="*/ 0 h 83520"/>
                <a:gd name="textAreaBottom" fmla="*/ 83880 h 8352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424242"/>
            </a:solidFill>
            <a:ln w="12700">
              <a:noFill/>
            </a:ln>
          </p:spPr>
          <p:style>
            <a:lnRef idx="0"/>
            <a:fillRef idx="0"/>
            <a:effectRef idx="0"/>
            <a:fontRef idx="minor"/>
          </p:style>
          <p:txBody>
            <a:bodyPr numCol="1" spcCol="0" lIns="45720" rIns="45720" tIns="41760" bIns="41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6" name="Shape 2967"/>
            <p:cNvSpPr/>
            <p:nvPr/>
          </p:nvSpPr>
          <p:spPr>
            <a:xfrm>
              <a:off x="7189560" y="5621040"/>
              <a:ext cx="50040" cy="89280"/>
            </a:xfrm>
            <a:custGeom>
              <a:avLst/>
              <a:gdLst>
                <a:gd name="textAreaLeft" fmla="*/ 0 w 50040"/>
                <a:gd name="textAreaRight" fmla="*/ 50400 w 50040"/>
                <a:gd name="textAreaTop" fmla="*/ 0 h 89280"/>
                <a:gd name="textAreaBottom" fmla="*/ 89640 h 8928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424242"/>
            </a:solidFill>
            <a:ln w="12700">
              <a:noFill/>
            </a:ln>
          </p:spPr>
          <p:style>
            <a:lnRef idx="0"/>
            <a:fillRef idx="0"/>
            <a:effectRef idx="0"/>
            <a:fontRef idx="minor"/>
          </p:style>
          <p:txBody>
            <a:bodyPr numCol="1" spcCol="0" lIns="45720" rIns="45720" tIns="44640" bIns="44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7" name="Shape 2968"/>
            <p:cNvSpPr/>
            <p:nvPr/>
          </p:nvSpPr>
          <p:spPr>
            <a:xfrm>
              <a:off x="7021440" y="5662800"/>
              <a:ext cx="34560" cy="31320"/>
            </a:xfrm>
            <a:custGeom>
              <a:avLst/>
              <a:gdLst>
                <a:gd name="textAreaLeft" fmla="*/ 0 w 34560"/>
                <a:gd name="textAreaRight" fmla="*/ 34920 w 34560"/>
                <a:gd name="textAreaTop" fmla="*/ 0 h 31320"/>
                <a:gd name="textAreaBottom" fmla="*/ 31680 h 3132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424242"/>
            </a:solidFill>
            <a:ln w="12700">
              <a:noFill/>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8" name="Shape 2969"/>
            <p:cNvSpPr/>
            <p:nvPr/>
          </p:nvSpPr>
          <p:spPr>
            <a:xfrm>
              <a:off x="7051320" y="5655600"/>
              <a:ext cx="18000" cy="18000"/>
            </a:xfrm>
            <a:custGeom>
              <a:avLst/>
              <a:gdLst>
                <a:gd name="textAreaLeft" fmla="*/ 0 w 18000"/>
                <a:gd name="textAreaRight" fmla="*/ 18360 w 18000"/>
                <a:gd name="textAreaTop" fmla="*/ 0 h 18000"/>
                <a:gd name="textAreaBottom" fmla="*/ 18360 h 1800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424242"/>
            </a:solidFill>
            <a:ln w="12700">
              <a:noFill/>
            </a:ln>
          </p:spPr>
          <p:style>
            <a:lnRef idx="0"/>
            <a:fillRef idx="0"/>
            <a:effectRef idx="0"/>
            <a:fontRef idx="minor"/>
          </p:style>
          <p:txBody>
            <a:bodyPr numCol="1" spcCol="0" lIns="45720" rIns="45720" tIns="9000" bIns="9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29" name="Shape 2970"/>
            <p:cNvSpPr/>
            <p:nvPr/>
          </p:nvSpPr>
          <p:spPr>
            <a:xfrm>
              <a:off x="7006680" y="5694840"/>
              <a:ext cx="18000" cy="18000"/>
            </a:xfrm>
            <a:custGeom>
              <a:avLst/>
              <a:gdLst>
                <a:gd name="textAreaLeft" fmla="*/ 0 w 18000"/>
                <a:gd name="textAreaRight" fmla="*/ 18360 w 18000"/>
                <a:gd name="textAreaTop" fmla="*/ 0 h 18000"/>
                <a:gd name="textAreaBottom" fmla="*/ 18360 h 1800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424242"/>
            </a:solidFill>
            <a:ln w="12700">
              <a:noFill/>
            </a:ln>
          </p:spPr>
          <p:style>
            <a:lnRef idx="0"/>
            <a:fillRef idx="0"/>
            <a:effectRef idx="0"/>
            <a:fontRef idx="minor"/>
          </p:style>
          <p:txBody>
            <a:bodyPr numCol="1" spcCol="0" lIns="45720" rIns="45720" tIns="9000" bIns="9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0" name="Shape 2971"/>
            <p:cNvSpPr/>
            <p:nvPr/>
          </p:nvSpPr>
          <p:spPr>
            <a:xfrm>
              <a:off x="7312680" y="5729400"/>
              <a:ext cx="95400" cy="69840"/>
            </a:xfrm>
            <a:custGeom>
              <a:avLst/>
              <a:gdLst>
                <a:gd name="textAreaLeft" fmla="*/ 0 w 95400"/>
                <a:gd name="textAreaRight" fmla="*/ 95760 w 95400"/>
                <a:gd name="textAreaTop" fmla="*/ 0 h 69840"/>
                <a:gd name="textAreaBottom" fmla="*/ 70200 h 6984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424242"/>
            </a:solidFill>
            <a:ln w="12700">
              <a:noFill/>
            </a:ln>
          </p:spPr>
          <p:style>
            <a:lnRef idx="0"/>
            <a:fillRef idx="0"/>
            <a:effectRef idx="0"/>
            <a:fontRef idx="minor"/>
          </p:style>
          <p:txBody>
            <a:bodyPr numCol="1" spcCol="0" lIns="45720" rIns="45720" tIns="34920" bIns="34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1" name="Shape 2972"/>
            <p:cNvSpPr/>
            <p:nvPr/>
          </p:nvSpPr>
          <p:spPr>
            <a:xfrm>
              <a:off x="7652520" y="5831640"/>
              <a:ext cx="92160" cy="29880"/>
            </a:xfrm>
            <a:custGeom>
              <a:avLst/>
              <a:gdLst>
                <a:gd name="textAreaLeft" fmla="*/ 0 w 92160"/>
                <a:gd name="textAreaRight" fmla="*/ 92520 w 92160"/>
                <a:gd name="textAreaTop" fmla="*/ 0 h 29880"/>
                <a:gd name="textAreaBottom" fmla="*/ 30240 h 2988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424242"/>
            </a:solidFill>
            <a:ln w="12700">
              <a:noFill/>
            </a:ln>
          </p:spPr>
          <p:style>
            <a:lnRef idx="0"/>
            <a:fillRef idx="0"/>
            <a:effectRef idx="0"/>
            <a:fontRef idx="minor"/>
          </p:style>
          <p:txBody>
            <a:bodyPr numCol="1" spcCol="0" lIns="45720" rIns="45720" tIns="15120" bIns="15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2" name="Shape 2973"/>
            <p:cNvSpPr/>
            <p:nvPr/>
          </p:nvSpPr>
          <p:spPr>
            <a:xfrm>
              <a:off x="6722640" y="4754520"/>
              <a:ext cx="275400" cy="492840"/>
            </a:xfrm>
            <a:custGeom>
              <a:avLst/>
              <a:gdLst>
                <a:gd name="textAreaLeft" fmla="*/ 0 w 275400"/>
                <a:gd name="textAreaRight" fmla="*/ 275760 w 275400"/>
                <a:gd name="textAreaTop" fmla="*/ 0 h 492840"/>
                <a:gd name="textAreaBottom" fmla="*/ 493200 h 49284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3" name="Shape 2974"/>
            <p:cNvSpPr/>
            <p:nvPr/>
          </p:nvSpPr>
          <p:spPr>
            <a:xfrm>
              <a:off x="6637680" y="4977360"/>
              <a:ext cx="143640" cy="195840"/>
            </a:xfrm>
            <a:custGeom>
              <a:avLst/>
              <a:gdLst>
                <a:gd name="textAreaLeft" fmla="*/ 0 w 143640"/>
                <a:gd name="textAreaRight" fmla="*/ 144000 w 143640"/>
                <a:gd name="textAreaTop" fmla="*/ 0 h 195840"/>
                <a:gd name="textAreaBottom" fmla="*/ 196200 h 19584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4" name="Shape 2975"/>
            <p:cNvSpPr/>
            <p:nvPr/>
          </p:nvSpPr>
          <p:spPr>
            <a:xfrm>
              <a:off x="6897240" y="4649400"/>
              <a:ext cx="33840" cy="72720"/>
            </a:xfrm>
            <a:custGeom>
              <a:avLst/>
              <a:gdLst>
                <a:gd name="textAreaLeft" fmla="*/ 0 w 33840"/>
                <a:gd name="textAreaRight" fmla="*/ 34200 w 33840"/>
                <a:gd name="textAreaTop" fmla="*/ 0 h 72720"/>
                <a:gd name="textAreaBottom" fmla="*/ 73080 h 7272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424242"/>
            </a:solidFill>
            <a:ln w="12700">
              <a:noFill/>
            </a:ln>
          </p:spPr>
          <p:style>
            <a:lnRef idx="0"/>
            <a:fillRef idx="0"/>
            <a:effectRef idx="0"/>
            <a:fontRef idx="minor"/>
          </p:style>
          <p:txBody>
            <a:bodyPr numCol="1" spcCol="0" lIns="45720" rIns="45720" tIns="36360" bIns="36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5" name="Shape 2976"/>
            <p:cNvSpPr/>
            <p:nvPr/>
          </p:nvSpPr>
          <p:spPr>
            <a:xfrm>
              <a:off x="6716880" y="4550040"/>
              <a:ext cx="45360" cy="47160"/>
            </a:xfrm>
            <a:custGeom>
              <a:avLst/>
              <a:gdLst>
                <a:gd name="textAreaLeft" fmla="*/ 0 w 45360"/>
                <a:gd name="textAreaRight" fmla="*/ 45720 w 45360"/>
                <a:gd name="textAreaTop" fmla="*/ 0 h 47160"/>
                <a:gd name="textAreaBottom" fmla="*/ 47520 h 4716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424242"/>
            </a:solidFill>
            <a:ln w="12700">
              <a:noFill/>
            </a:ln>
          </p:spPr>
          <p:style>
            <a:lnRef idx="0"/>
            <a:fillRef idx="0"/>
            <a:effectRef idx="0"/>
            <a:fontRef idx="minor"/>
          </p:style>
          <p:txBody>
            <a:bodyPr numCol="1" spcCol="0" lIns="45720" rIns="45720" tIns="23760" bIns="23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6" name="Shape 2977"/>
            <p:cNvSpPr/>
            <p:nvPr/>
          </p:nvSpPr>
          <p:spPr>
            <a:xfrm>
              <a:off x="6208560" y="4276800"/>
              <a:ext cx="333000" cy="215640"/>
            </a:xfrm>
            <a:custGeom>
              <a:avLst/>
              <a:gdLst>
                <a:gd name="textAreaLeft" fmla="*/ 0 w 333000"/>
                <a:gd name="textAreaRight" fmla="*/ 333360 w 333000"/>
                <a:gd name="textAreaTop" fmla="*/ 0 h 215640"/>
                <a:gd name="textAreaBottom" fmla="*/ 216000 h 21564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7" name="Shape 2978"/>
            <p:cNvSpPr/>
            <p:nvPr/>
          </p:nvSpPr>
          <p:spPr>
            <a:xfrm>
              <a:off x="7256520" y="2798640"/>
              <a:ext cx="407520" cy="497160"/>
            </a:xfrm>
            <a:custGeom>
              <a:avLst/>
              <a:gdLst>
                <a:gd name="textAreaLeft" fmla="*/ 0 w 407520"/>
                <a:gd name="textAreaRight" fmla="*/ 407880 w 407520"/>
                <a:gd name="textAreaTop" fmla="*/ 0 h 497160"/>
                <a:gd name="textAreaBottom" fmla="*/ 497520 h 49716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4"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8" name="Shape 2979"/>
            <p:cNvSpPr/>
            <p:nvPr/>
          </p:nvSpPr>
          <p:spPr>
            <a:xfrm>
              <a:off x="7485480" y="2651400"/>
              <a:ext cx="277920" cy="279000"/>
            </a:xfrm>
            <a:custGeom>
              <a:avLst/>
              <a:gdLst>
                <a:gd name="textAreaLeft" fmla="*/ 0 w 277920"/>
                <a:gd name="textAreaRight" fmla="*/ 278280 w 277920"/>
                <a:gd name="textAreaTop" fmla="*/ 0 h 279000"/>
                <a:gd name="textAreaBottom" fmla="*/ 279360 h 27900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39" name="Shape 2980"/>
            <p:cNvSpPr/>
            <p:nvPr/>
          </p:nvSpPr>
          <p:spPr>
            <a:xfrm>
              <a:off x="8486640" y="3249000"/>
              <a:ext cx="502560" cy="702360"/>
            </a:xfrm>
            <a:custGeom>
              <a:avLst/>
              <a:gdLst>
                <a:gd name="textAreaLeft" fmla="*/ 0 w 502560"/>
                <a:gd name="textAreaRight" fmla="*/ 502920 w 502560"/>
                <a:gd name="textAreaTop" fmla="*/ 0 h 702360"/>
                <a:gd name="textAreaBottom" fmla="*/ 702720 h 70236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0" name="Shape 2981"/>
            <p:cNvSpPr/>
            <p:nvPr/>
          </p:nvSpPr>
          <p:spPr>
            <a:xfrm>
              <a:off x="8713080" y="2650320"/>
              <a:ext cx="70560" cy="77400"/>
            </a:xfrm>
            <a:custGeom>
              <a:avLst/>
              <a:gdLst>
                <a:gd name="textAreaLeft" fmla="*/ 0 w 70560"/>
                <a:gd name="textAreaRight" fmla="*/ 70920 w 70560"/>
                <a:gd name="textAreaTop" fmla="*/ 0 h 77400"/>
                <a:gd name="textAreaBottom" fmla="*/ 77760 h 77400"/>
              </a:gdLst>
              <a:ahLst/>
              <a:rect l="textAreaLeft" t="textAreaTop" r="textAreaRight" b="textAreaBottom"/>
              <a:pathLst>
                <a:path w="21600" h="21528">
                  <a:moveTo>
                    <a:pt x="19988" y="9423"/>
                  </a:moveTo>
                  <a:cubicBezTo>
                    <a:pt x="20633" y="9423"/>
                    <a:pt x="21278" y="9423"/>
                    <a:pt x="21600" y="10003"/>
                  </a:cubicBezTo>
                  <a:cubicBezTo>
                    <a:pt x="20633" y="11887"/>
                    <a:pt x="20955" y="13627"/>
                    <a:pt x="20310" y="15801"/>
                  </a:cubicBezTo>
                  <a:cubicBezTo>
                    <a:pt x="19666" y="17541"/>
                    <a:pt x="17570" y="19426"/>
                    <a:pt x="15958" y="18846"/>
                  </a:cubicBezTo>
                  <a:cubicBezTo>
                    <a:pt x="16603" y="19426"/>
                    <a:pt x="16281" y="21020"/>
                    <a:pt x="15152" y="21310"/>
                  </a:cubicBezTo>
                  <a:cubicBezTo>
                    <a:pt x="14185" y="21600"/>
                    <a:pt x="13218" y="21600"/>
                    <a:pt x="11767" y="21310"/>
                  </a:cubicBezTo>
                  <a:cubicBezTo>
                    <a:pt x="9188" y="20585"/>
                    <a:pt x="6770" y="20295"/>
                    <a:pt x="4030" y="19715"/>
                  </a:cubicBezTo>
                  <a:cubicBezTo>
                    <a:pt x="3385" y="19715"/>
                    <a:pt x="2740" y="19426"/>
                    <a:pt x="2418" y="19136"/>
                  </a:cubicBezTo>
                  <a:cubicBezTo>
                    <a:pt x="2096" y="18846"/>
                    <a:pt x="1612" y="18266"/>
                    <a:pt x="1290" y="17541"/>
                  </a:cubicBezTo>
                  <a:cubicBezTo>
                    <a:pt x="322" y="14932"/>
                    <a:pt x="0" y="12177"/>
                    <a:pt x="0" y="9423"/>
                  </a:cubicBezTo>
                  <a:cubicBezTo>
                    <a:pt x="0" y="7828"/>
                    <a:pt x="322" y="5799"/>
                    <a:pt x="2096" y="5509"/>
                  </a:cubicBezTo>
                  <a:cubicBezTo>
                    <a:pt x="3385" y="4784"/>
                    <a:pt x="4675" y="5799"/>
                    <a:pt x="6448" y="5799"/>
                  </a:cubicBezTo>
                  <a:cubicBezTo>
                    <a:pt x="7737" y="6089"/>
                    <a:pt x="9833" y="5074"/>
                    <a:pt x="9510" y="3914"/>
                  </a:cubicBezTo>
                  <a:cubicBezTo>
                    <a:pt x="11445" y="3914"/>
                    <a:pt x="13540" y="3624"/>
                    <a:pt x="15475" y="3624"/>
                  </a:cubicBezTo>
                  <a:cubicBezTo>
                    <a:pt x="14507" y="3624"/>
                    <a:pt x="16603" y="0"/>
                    <a:pt x="19343" y="0"/>
                  </a:cubicBezTo>
                  <a:cubicBezTo>
                    <a:pt x="18215" y="2754"/>
                    <a:pt x="20633" y="6379"/>
                    <a:pt x="19988" y="9423"/>
                  </a:cubicBezTo>
                </a:path>
              </a:pathLst>
            </a:custGeom>
            <a:solidFill>
              <a:srgbClr val="d6d6d6"/>
            </a:solidFill>
            <a:ln w="12700">
              <a:noFill/>
            </a:ln>
          </p:spPr>
          <p:style>
            <a:lnRef idx="0"/>
            <a:fillRef idx="0"/>
            <a:effectRef idx="0"/>
            <a:fontRef idx="minor"/>
          </p:style>
          <p:txBody>
            <a:bodyPr numCol="1" spcCol="0" lIns="45720" rIns="45720" tIns="38880" bIns="38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1" name="Shape 2982"/>
            <p:cNvSpPr/>
            <p:nvPr/>
          </p:nvSpPr>
          <p:spPr>
            <a:xfrm>
              <a:off x="8807040" y="2585520"/>
              <a:ext cx="70200" cy="96840"/>
            </a:xfrm>
            <a:custGeom>
              <a:avLst/>
              <a:gdLst>
                <a:gd name="textAreaLeft" fmla="*/ 0 w 70200"/>
                <a:gd name="textAreaRight" fmla="*/ 70560 w 70200"/>
                <a:gd name="textAreaTop" fmla="*/ 0 h 96840"/>
                <a:gd name="textAreaBottom" fmla="*/ 97200 h 96840"/>
              </a:gdLst>
              <a:ahLst/>
              <a:rect l="textAreaLeft" t="textAreaTop" r="textAreaRight" b="textAreaBottom"/>
              <a:pathLst>
                <a:path w="20823" h="21232">
                  <a:moveTo>
                    <a:pt x="13131" y="21138"/>
                  </a:moveTo>
                  <a:cubicBezTo>
                    <a:pt x="16083" y="20560"/>
                    <a:pt x="18103" y="18712"/>
                    <a:pt x="19036" y="16749"/>
                  </a:cubicBezTo>
                  <a:cubicBezTo>
                    <a:pt x="20434" y="14323"/>
                    <a:pt x="20745" y="11435"/>
                    <a:pt x="20745" y="8779"/>
                  </a:cubicBezTo>
                  <a:cubicBezTo>
                    <a:pt x="20745" y="6815"/>
                    <a:pt x="21056" y="4620"/>
                    <a:pt x="20434" y="2657"/>
                  </a:cubicBezTo>
                  <a:cubicBezTo>
                    <a:pt x="19968" y="1502"/>
                    <a:pt x="18725" y="0"/>
                    <a:pt x="17171" y="0"/>
                  </a:cubicBezTo>
                  <a:cubicBezTo>
                    <a:pt x="14840" y="0"/>
                    <a:pt x="13908" y="2426"/>
                    <a:pt x="14219" y="4158"/>
                  </a:cubicBezTo>
                  <a:cubicBezTo>
                    <a:pt x="14529" y="9241"/>
                    <a:pt x="8624" y="9010"/>
                    <a:pt x="4429" y="12128"/>
                  </a:cubicBezTo>
                  <a:cubicBezTo>
                    <a:pt x="2719" y="13399"/>
                    <a:pt x="-544" y="15016"/>
                    <a:pt x="78" y="16980"/>
                  </a:cubicBezTo>
                  <a:cubicBezTo>
                    <a:pt x="1165" y="19174"/>
                    <a:pt x="4739" y="19174"/>
                    <a:pt x="6915" y="17904"/>
                  </a:cubicBezTo>
                  <a:cubicBezTo>
                    <a:pt x="7692" y="20329"/>
                    <a:pt x="10178" y="21600"/>
                    <a:pt x="13131" y="21138"/>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2" name="Shape 2983"/>
            <p:cNvSpPr/>
            <p:nvPr/>
          </p:nvSpPr>
          <p:spPr>
            <a:xfrm>
              <a:off x="8735760" y="2606400"/>
              <a:ext cx="37800" cy="28440"/>
            </a:xfrm>
            <a:custGeom>
              <a:avLst/>
              <a:gdLst>
                <a:gd name="textAreaLeft" fmla="*/ 0 w 37800"/>
                <a:gd name="textAreaRight" fmla="*/ 38160 w 37800"/>
                <a:gd name="textAreaTop" fmla="*/ 0 h 28440"/>
                <a:gd name="textAreaBottom" fmla="*/ 28800 h 28440"/>
              </a:gdLst>
              <a:ahLst/>
              <a:rect l="textAreaLeft" t="textAreaTop" r="textAreaRight" b="textAreaBottom"/>
              <a:pathLst>
                <a:path w="20046" h="21043">
                  <a:moveTo>
                    <a:pt x="2319" y="7200"/>
                  </a:moveTo>
                  <a:cubicBezTo>
                    <a:pt x="-1047" y="8716"/>
                    <a:pt x="-486" y="15916"/>
                    <a:pt x="2319" y="18947"/>
                  </a:cubicBezTo>
                  <a:cubicBezTo>
                    <a:pt x="5405" y="21600"/>
                    <a:pt x="9613" y="21600"/>
                    <a:pt x="12979" y="19705"/>
                  </a:cubicBezTo>
                  <a:cubicBezTo>
                    <a:pt x="16065" y="18947"/>
                    <a:pt x="19431" y="16674"/>
                    <a:pt x="19992" y="12884"/>
                  </a:cubicBezTo>
                  <a:cubicBezTo>
                    <a:pt x="20553" y="7200"/>
                    <a:pt x="16626" y="3032"/>
                    <a:pt x="12979" y="758"/>
                  </a:cubicBezTo>
                  <a:cubicBezTo>
                    <a:pt x="12418" y="758"/>
                    <a:pt x="11857" y="0"/>
                    <a:pt x="11296" y="0"/>
                  </a:cubicBezTo>
                  <a:cubicBezTo>
                    <a:pt x="10174" y="0"/>
                    <a:pt x="9613" y="0"/>
                    <a:pt x="8771" y="758"/>
                  </a:cubicBezTo>
                  <a:cubicBezTo>
                    <a:pt x="5966" y="2274"/>
                    <a:pt x="3722" y="3789"/>
                    <a:pt x="636" y="5684"/>
                  </a:cubicBezTo>
                  <a:cubicBezTo>
                    <a:pt x="-486" y="6442"/>
                    <a:pt x="2319" y="7200"/>
                    <a:pt x="2319" y="7200"/>
                  </a:cubicBezTo>
                </a:path>
              </a:pathLst>
            </a:custGeom>
            <a:solidFill>
              <a:srgbClr val="d6d6d6"/>
            </a:solidFill>
            <a:ln w="12700">
              <a:noFill/>
            </a:ln>
          </p:spPr>
          <p:style>
            <a:lnRef idx="0"/>
            <a:fillRef idx="0"/>
            <a:effectRef idx="0"/>
            <a:fontRef idx="minor"/>
          </p:style>
          <p:txBody>
            <a:bodyPr numCol="1" spcCol="0" lIns="45720" rIns="45720" tIns="14400" bIns="14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3" name="Shape 2984"/>
            <p:cNvSpPr/>
            <p:nvPr/>
          </p:nvSpPr>
          <p:spPr>
            <a:xfrm>
              <a:off x="8613720" y="2714760"/>
              <a:ext cx="72000" cy="66240"/>
            </a:xfrm>
            <a:custGeom>
              <a:avLst/>
              <a:gdLst>
                <a:gd name="textAreaLeft" fmla="*/ 0 w 72000"/>
                <a:gd name="textAreaRight" fmla="*/ 72360 w 72000"/>
                <a:gd name="textAreaTop" fmla="*/ 0 h 66240"/>
                <a:gd name="textAreaBottom" fmla="*/ 66600 h 66240"/>
              </a:gdLst>
              <a:ahLst/>
              <a:rect l="textAreaLeft" t="textAreaTop" r="textAreaRight" b="textAreaBottom"/>
              <a:pathLst>
                <a:path w="21341" h="20939">
                  <a:moveTo>
                    <a:pt x="9651" y="1473"/>
                  </a:moveTo>
                  <a:cubicBezTo>
                    <a:pt x="9345" y="2127"/>
                    <a:pt x="9345" y="9000"/>
                    <a:pt x="9957" y="9000"/>
                  </a:cubicBezTo>
                  <a:cubicBezTo>
                    <a:pt x="5515" y="8018"/>
                    <a:pt x="306" y="12109"/>
                    <a:pt x="0" y="17182"/>
                  </a:cubicBezTo>
                  <a:cubicBezTo>
                    <a:pt x="1685" y="20291"/>
                    <a:pt x="5515" y="21600"/>
                    <a:pt x="8732" y="20618"/>
                  </a:cubicBezTo>
                  <a:cubicBezTo>
                    <a:pt x="11949" y="19473"/>
                    <a:pt x="14094" y="15873"/>
                    <a:pt x="13481" y="12436"/>
                  </a:cubicBezTo>
                  <a:cubicBezTo>
                    <a:pt x="15166" y="12764"/>
                    <a:pt x="17157" y="13091"/>
                    <a:pt x="18689" y="12436"/>
                  </a:cubicBezTo>
                  <a:cubicBezTo>
                    <a:pt x="20374" y="11782"/>
                    <a:pt x="21600" y="9982"/>
                    <a:pt x="21294" y="8345"/>
                  </a:cubicBezTo>
                  <a:cubicBezTo>
                    <a:pt x="18996" y="8345"/>
                    <a:pt x="17004" y="6218"/>
                    <a:pt x="16698" y="4255"/>
                  </a:cubicBezTo>
                  <a:cubicBezTo>
                    <a:pt x="15166" y="4582"/>
                    <a:pt x="13634" y="4582"/>
                    <a:pt x="12255" y="3927"/>
                  </a:cubicBezTo>
                  <a:cubicBezTo>
                    <a:pt x="11030" y="3109"/>
                    <a:pt x="9651" y="1473"/>
                    <a:pt x="10264" y="0"/>
                  </a:cubicBezTo>
                  <a:cubicBezTo>
                    <a:pt x="9957" y="0"/>
                    <a:pt x="9345" y="1473"/>
                    <a:pt x="9651" y="1473"/>
                  </a:cubicBezTo>
                </a:path>
              </a:pathLst>
            </a:custGeom>
            <a:solidFill>
              <a:srgbClr val="d6d6d6"/>
            </a:solidFill>
            <a:ln w="12700">
              <a:noFill/>
            </a:ln>
          </p:spPr>
          <p:style>
            <a:lnRef idx="0"/>
            <a:fillRef idx="0"/>
            <a:effectRef idx="0"/>
            <a:fontRef idx="minor"/>
          </p:style>
          <p:txBody>
            <a:bodyPr numCol="1" spcCol="0" lIns="45720" rIns="45720" tIns="33120" bIns="33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4" name="Shape 2985"/>
            <p:cNvSpPr/>
            <p:nvPr/>
          </p:nvSpPr>
          <p:spPr>
            <a:xfrm>
              <a:off x="8602200" y="2641680"/>
              <a:ext cx="75960" cy="45720"/>
            </a:xfrm>
            <a:custGeom>
              <a:avLst/>
              <a:gdLst>
                <a:gd name="textAreaLeft" fmla="*/ 0 w 75960"/>
                <a:gd name="textAreaRight" fmla="*/ 76320 w 75960"/>
                <a:gd name="textAreaTop" fmla="*/ 0 h 45720"/>
                <a:gd name="textAreaBottom" fmla="*/ 46080 h 45720"/>
              </a:gdLst>
              <a:ahLst/>
              <a:rect l="textAreaLeft" t="textAreaTop" r="textAreaRight" b="textAreaBottom"/>
              <a:pathLst>
                <a:path w="15934" h="20795">
                  <a:moveTo>
                    <a:pt x="3584" y="20785"/>
                  </a:moveTo>
                  <a:cubicBezTo>
                    <a:pt x="4886" y="20785"/>
                    <a:pt x="6297" y="18907"/>
                    <a:pt x="6731" y="15855"/>
                  </a:cubicBezTo>
                  <a:cubicBezTo>
                    <a:pt x="6948" y="14446"/>
                    <a:pt x="6948" y="13038"/>
                    <a:pt x="7382" y="11864"/>
                  </a:cubicBezTo>
                  <a:cubicBezTo>
                    <a:pt x="7600" y="10455"/>
                    <a:pt x="8359" y="9516"/>
                    <a:pt x="9011" y="9985"/>
                  </a:cubicBezTo>
                  <a:cubicBezTo>
                    <a:pt x="9445" y="9985"/>
                    <a:pt x="9662" y="10925"/>
                    <a:pt x="9879" y="10925"/>
                  </a:cubicBezTo>
                  <a:cubicBezTo>
                    <a:pt x="11507" y="13507"/>
                    <a:pt x="13787" y="9985"/>
                    <a:pt x="15198" y="7168"/>
                  </a:cubicBezTo>
                  <a:cubicBezTo>
                    <a:pt x="15415" y="6464"/>
                    <a:pt x="15632" y="5994"/>
                    <a:pt x="15849" y="5525"/>
                  </a:cubicBezTo>
                  <a:cubicBezTo>
                    <a:pt x="16283" y="3177"/>
                    <a:pt x="14980" y="1533"/>
                    <a:pt x="13787" y="1533"/>
                  </a:cubicBezTo>
                  <a:cubicBezTo>
                    <a:pt x="12701" y="1533"/>
                    <a:pt x="11507" y="2707"/>
                    <a:pt x="10639" y="1533"/>
                  </a:cubicBezTo>
                  <a:cubicBezTo>
                    <a:pt x="10205" y="1064"/>
                    <a:pt x="9879" y="594"/>
                    <a:pt x="9445" y="125"/>
                  </a:cubicBezTo>
                  <a:cubicBezTo>
                    <a:pt x="8794" y="-345"/>
                    <a:pt x="7925" y="594"/>
                    <a:pt x="7165" y="1533"/>
                  </a:cubicBezTo>
                  <a:cubicBezTo>
                    <a:pt x="4886" y="4585"/>
                    <a:pt x="-5317" y="21255"/>
                    <a:pt x="3584" y="20785"/>
                  </a:cubicBezTo>
                </a:path>
              </a:pathLst>
            </a:custGeom>
            <a:solidFill>
              <a:srgbClr val="d6d6d6"/>
            </a:solidFill>
            <a:ln w="12700">
              <a:noFill/>
            </a:ln>
          </p:spPr>
          <p:style>
            <a:lnRef idx="0"/>
            <a:fillRef idx="0"/>
            <a:effectRef idx="0"/>
            <a:fontRef idx="minor"/>
          </p:style>
          <p:txBody>
            <a:bodyPr numCol="1" spcCol="0" lIns="45720" rIns="45720" tIns="23040" bIns="23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5" name="Shape 2986"/>
            <p:cNvSpPr/>
            <p:nvPr/>
          </p:nvSpPr>
          <p:spPr>
            <a:xfrm>
              <a:off x="8582760" y="2608920"/>
              <a:ext cx="43560" cy="27360"/>
            </a:xfrm>
            <a:custGeom>
              <a:avLst/>
              <a:gdLst>
                <a:gd name="textAreaLeft" fmla="*/ 0 w 43560"/>
                <a:gd name="textAreaRight" fmla="*/ 43920 w 43560"/>
                <a:gd name="textAreaTop" fmla="*/ 0 h 27360"/>
                <a:gd name="textAreaBottom" fmla="*/ 27720 h 27360"/>
              </a:gdLst>
              <a:ahLst/>
              <a:rect l="textAreaLeft" t="textAreaTop" r="textAreaRight" b="textAreaBottom"/>
              <a:pathLst>
                <a:path w="20721" h="20357">
                  <a:moveTo>
                    <a:pt x="401" y="6676"/>
                  </a:moveTo>
                  <a:cubicBezTo>
                    <a:pt x="-581" y="9033"/>
                    <a:pt x="401" y="13353"/>
                    <a:pt x="1628" y="14924"/>
                  </a:cubicBezTo>
                  <a:cubicBezTo>
                    <a:pt x="3101" y="17280"/>
                    <a:pt x="5064" y="18065"/>
                    <a:pt x="6783" y="18851"/>
                  </a:cubicBezTo>
                  <a:cubicBezTo>
                    <a:pt x="10219" y="20815"/>
                    <a:pt x="15374" y="21600"/>
                    <a:pt x="17583" y="16495"/>
                  </a:cubicBezTo>
                  <a:cubicBezTo>
                    <a:pt x="18074" y="14924"/>
                    <a:pt x="18074" y="13353"/>
                    <a:pt x="19055" y="12567"/>
                  </a:cubicBezTo>
                  <a:cubicBezTo>
                    <a:pt x="19546" y="11782"/>
                    <a:pt x="20037" y="11782"/>
                    <a:pt x="20528" y="10604"/>
                  </a:cubicBezTo>
                  <a:cubicBezTo>
                    <a:pt x="21019" y="9818"/>
                    <a:pt x="20528" y="8247"/>
                    <a:pt x="19546" y="7462"/>
                  </a:cubicBezTo>
                  <a:cubicBezTo>
                    <a:pt x="15864" y="3535"/>
                    <a:pt x="11446" y="1571"/>
                    <a:pt x="7274" y="2356"/>
                  </a:cubicBezTo>
                  <a:cubicBezTo>
                    <a:pt x="4819" y="3142"/>
                    <a:pt x="1874" y="3927"/>
                    <a:pt x="1137" y="785"/>
                  </a:cubicBezTo>
                  <a:cubicBezTo>
                    <a:pt x="1137" y="2356"/>
                    <a:pt x="401" y="5891"/>
                    <a:pt x="401" y="6676"/>
                  </a:cubicBezTo>
                  <a:close/>
                  <a:moveTo>
                    <a:pt x="1137" y="0"/>
                  </a:moveTo>
                  <a:cubicBezTo>
                    <a:pt x="1137" y="393"/>
                    <a:pt x="1137" y="393"/>
                    <a:pt x="1137" y="785"/>
                  </a:cubicBezTo>
                  <a:cubicBezTo>
                    <a:pt x="1137" y="785"/>
                    <a:pt x="1137" y="393"/>
                    <a:pt x="1137" y="0"/>
                  </a:cubicBezTo>
                  <a:close/>
                </a:path>
              </a:pathLst>
            </a:custGeom>
            <a:solidFill>
              <a:srgbClr val="d6d6d6"/>
            </a:solidFill>
            <a:ln w="12700">
              <a:noFill/>
            </a:ln>
          </p:spPr>
          <p:style>
            <a:lnRef idx="0"/>
            <a:fillRef idx="0"/>
            <a:effectRef idx="0"/>
            <a:fontRef idx="minor"/>
          </p:style>
          <p:txBody>
            <a:bodyPr numCol="1" spcCol="0" lIns="45720" rIns="45720" tIns="13680" bIns="13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6" name="Shape 2987"/>
            <p:cNvSpPr/>
            <p:nvPr/>
          </p:nvSpPr>
          <p:spPr>
            <a:xfrm>
              <a:off x="8645400" y="2502720"/>
              <a:ext cx="42120" cy="38520"/>
            </a:xfrm>
            <a:custGeom>
              <a:avLst/>
              <a:gdLst>
                <a:gd name="textAreaLeft" fmla="*/ 0 w 42120"/>
                <a:gd name="textAreaRight" fmla="*/ 42480 w 42120"/>
                <a:gd name="textAreaTop" fmla="*/ 0 h 38520"/>
                <a:gd name="textAreaBottom" fmla="*/ 38880 h 38520"/>
              </a:gdLst>
              <a:ahLst/>
              <a:rect l="textAreaLeft" t="textAreaTop" r="textAreaRight" b="textAreaBottom"/>
              <a:pathLst>
                <a:path w="20106" h="21600">
                  <a:moveTo>
                    <a:pt x="260" y="8352"/>
                  </a:moveTo>
                  <a:cubicBezTo>
                    <a:pt x="-745" y="12672"/>
                    <a:pt x="1264" y="16704"/>
                    <a:pt x="4529" y="19296"/>
                  </a:cubicBezTo>
                  <a:cubicBezTo>
                    <a:pt x="7543" y="21024"/>
                    <a:pt x="11813" y="21600"/>
                    <a:pt x="15581" y="21600"/>
                  </a:cubicBezTo>
                  <a:cubicBezTo>
                    <a:pt x="16083" y="21600"/>
                    <a:pt x="17088" y="21600"/>
                    <a:pt x="17590" y="21600"/>
                  </a:cubicBezTo>
                  <a:cubicBezTo>
                    <a:pt x="20855" y="20448"/>
                    <a:pt x="20855" y="14400"/>
                    <a:pt x="18092" y="12096"/>
                  </a:cubicBezTo>
                  <a:cubicBezTo>
                    <a:pt x="15581" y="9504"/>
                    <a:pt x="12064" y="8928"/>
                    <a:pt x="8799" y="7776"/>
                  </a:cubicBezTo>
                  <a:cubicBezTo>
                    <a:pt x="5785" y="6624"/>
                    <a:pt x="1767" y="4032"/>
                    <a:pt x="1767" y="0"/>
                  </a:cubicBezTo>
                  <a:lnTo>
                    <a:pt x="260" y="8352"/>
                  </a:lnTo>
                </a:path>
              </a:pathLst>
            </a:custGeom>
            <a:solidFill>
              <a:srgbClr val="d6d6d6"/>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7" name="Shape 2988"/>
            <p:cNvSpPr/>
            <p:nvPr/>
          </p:nvSpPr>
          <p:spPr>
            <a:xfrm>
              <a:off x="8665200" y="2442600"/>
              <a:ext cx="32040" cy="32760"/>
            </a:xfrm>
            <a:custGeom>
              <a:avLst/>
              <a:gdLst>
                <a:gd name="textAreaLeft" fmla="*/ 0 w 32040"/>
                <a:gd name="textAreaRight" fmla="*/ 32400 w 32040"/>
                <a:gd name="textAreaTop" fmla="*/ 0 h 32760"/>
                <a:gd name="textAreaBottom" fmla="*/ 33120 h 32760"/>
              </a:gdLst>
              <a:ahLst/>
              <a:rect l="textAreaLeft" t="textAreaTop" r="textAreaRight" b="textAreaBottom"/>
              <a:pathLst>
                <a:path w="20550" h="21086">
                  <a:moveTo>
                    <a:pt x="20447" y="8914"/>
                  </a:moveTo>
                  <a:cubicBezTo>
                    <a:pt x="21112" y="13029"/>
                    <a:pt x="18454" y="17486"/>
                    <a:pt x="14798" y="19543"/>
                  </a:cubicBezTo>
                  <a:cubicBezTo>
                    <a:pt x="11475" y="21600"/>
                    <a:pt x="6490" y="21600"/>
                    <a:pt x="2835" y="19543"/>
                  </a:cubicBezTo>
                  <a:cubicBezTo>
                    <a:pt x="1506" y="18857"/>
                    <a:pt x="177" y="17486"/>
                    <a:pt x="177" y="15771"/>
                  </a:cubicBezTo>
                  <a:cubicBezTo>
                    <a:pt x="-488" y="13714"/>
                    <a:pt x="841" y="11657"/>
                    <a:pt x="2170" y="9600"/>
                  </a:cubicBezTo>
                  <a:cubicBezTo>
                    <a:pt x="4829" y="5829"/>
                    <a:pt x="7820" y="3086"/>
                    <a:pt x="10478" y="0"/>
                  </a:cubicBezTo>
                  <a:cubicBezTo>
                    <a:pt x="10478" y="2057"/>
                    <a:pt x="10478" y="4114"/>
                    <a:pt x="10146" y="5829"/>
                  </a:cubicBezTo>
                  <a:cubicBezTo>
                    <a:pt x="13469" y="5829"/>
                    <a:pt x="17124" y="6857"/>
                    <a:pt x="20447" y="8914"/>
                  </a:cubicBezTo>
                </a:path>
              </a:pathLst>
            </a:custGeom>
            <a:solidFill>
              <a:srgbClr val="d6d6d6"/>
            </a:solidFill>
            <a:ln w="12700">
              <a:noFill/>
            </a:ln>
          </p:spPr>
          <p:style>
            <a:lnRef idx="0"/>
            <a:fillRef idx="0"/>
            <a:effectRef idx="0"/>
            <a:fontRef idx="minor"/>
          </p:style>
          <p:txBody>
            <a:bodyPr numCol="1" spcCol="0" lIns="45720" rIns="45720" tIns="16560" bIns="16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8" name="Shape 2989"/>
            <p:cNvSpPr/>
            <p:nvPr/>
          </p:nvSpPr>
          <p:spPr>
            <a:xfrm>
              <a:off x="8636760" y="2498400"/>
              <a:ext cx="18000" cy="18000"/>
            </a:xfrm>
            <a:custGeom>
              <a:avLst/>
              <a:gdLst>
                <a:gd name="textAreaLeft" fmla="*/ 0 w 18000"/>
                <a:gd name="textAreaRight" fmla="*/ 18360 w 18000"/>
                <a:gd name="textAreaTop" fmla="*/ 0 h 18000"/>
                <a:gd name="textAreaBottom" fmla="*/ 18360 h 18000"/>
              </a:gdLst>
              <a:ahLst/>
              <a:rect l="textAreaLeft" t="textAreaTop" r="textAreaRight" b="textAreaBottom"/>
              <a:pathLst>
                <a:path w="18138" h="19713">
                  <a:moveTo>
                    <a:pt x="18138" y="513"/>
                  </a:moveTo>
                  <a:cubicBezTo>
                    <a:pt x="9498" y="-1887"/>
                    <a:pt x="-3462" y="4713"/>
                    <a:pt x="858" y="8313"/>
                  </a:cubicBezTo>
                  <a:cubicBezTo>
                    <a:pt x="5178" y="11913"/>
                    <a:pt x="13818" y="16113"/>
                    <a:pt x="5178" y="19713"/>
                  </a:cubicBezTo>
                  <a:lnTo>
                    <a:pt x="18138" y="513"/>
                  </a:lnTo>
                </a:path>
              </a:pathLst>
            </a:custGeom>
            <a:solidFill>
              <a:srgbClr val="d6d6d6"/>
            </a:solidFill>
            <a:ln w="12700">
              <a:noFill/>
            </a:ln>
          </p:spPr>
          <p:style>
            <a:lnRef idx="0"/>
            <a:fillRef idx="0"/>
            <a:effectRef idx="0"/>
            <a:fontRef idx="minor"/>
          </p:style>
          <p:txBody>
            <a:bodyPr numCol="1" spcCol="0" lIns="45720" rIns="45720" tIns="9000" bIns="9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49" name="Shape 2990"/>
            <p:cNvSpPr/>
            <p:nvPr/>
          </p:nvSpPr>
          <p:spPr>
            <a:xfrm>
              <a:off x="6662520" y="3893040"/>
              <a:ext cx="2240280" cy="1927080"/>
            </a:xfrm>
            <a:custGeom>
              <a:avLst/>
              <a:gdLst>
                <a:gd name="textAreaLeft" fmla="*/ 0 w 2240280"/>
                <a:gd name="textAreaRight" fmla="*/ 2240640 w 2240280"/>
                <a:gd name="textAreaTop" fmla="*/ 0 h 1927080"/>
                <a:gd name="textAreaBottom" fmla="*/ 1927440 h 192708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7"/>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7"/>
                    <a:pt x="12257" y="1627"/>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7"/>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7"/>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8"/>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650" name="Group 2995"/>
          <p:cNvGrpSpPr/>
          <p:nvPr/>
        </p:nvGrpSpPr>
        <p:grpSpPr>
          <a:xfrm>
            <a:off x="7532280" y="3213000"/>
            <a:ext cx="2280600" cy="1996920"/>
            <a:chOff x="7532280" y="3213000"/>
            <a:chExt cx="2280600" cy="1996920"/>
          </a:xfrm>
        </p:grpSpPr>
        <p:sp>
          <p:nvSpPr>
            <p:cNvPr id="5651" name="Shape 2992"/>
            <p:cNvSpPr/>
            <p:nvPr/>
          </p:nvSpPr>
          <p:spPr>
            <a:xfrm>
              <a:off x="8037720" y="3940200"/>
              <a:ext cx="1269720" cy="1269720"/>
            </a:xfrm>
            <a:prstGeom prst="ellipse">
              <a:avLst/>
            </a:prstGeom>
            <a:solidFill>
              <a:srgbClr val="ffffff"/>
            </a:solidFill>
            <a:ln w="38100">
              <a:solidFill>
                <a:srgbClr val="ffffff"/>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652" name="Shape 2993"/>
            <p:cNvSpPr/>
            <p:nvPr/>
          </p:nvSpPr>
          <p:spPr>
            <a:xfrm>
              <a:off x="7532280" y="3213000"/>
              <a:ext cx="2280600" cy="70776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Europa</a:t>
              </a:r>
              <a:endParaRPr b="0" lang="en-US" sz="3200" spc="-1" strike="noStrike">
                <a:solidFill>
                  <a:srgbClr val="000000"/>
                </a:solidFill>
                <a:latin typeface="Arial"/>
              </a:endParaRPr>
            </a:p>
          </p:txBody>
        </p:sp>
        <p:sp>
          <p:nvSpPr>
            <p:cNvPr id="5653" name="Shape 2994"/>
            <p:cNvSpPr/>
            <p:nvPr/>
          </p:nvSpPr>
          <p:spPr>
            <a:xfrm>
              <a:off x="8012520" y="4282200"/>
              <a:ext cx="1320480" cy="58608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68%</a:t>
              </a:r>
              <a:endParaRPr b="0" lang="en-US" sz="3000" spc="-1" strike="noStrike">
                <a:solidFill>
                  <a:srgbClr val="000000"/>
                </a:solidFill>
                <a:latin typeface="Arial"/>
              </a:endParaRPr>
            </a:p>
          </p:txBody>
        </p:sp>
      </p:grpSp>
      <p:sp>
        <p:nvSpPr>
          <p:cNvPr id="5654" name="PlaceHolder 1"/>
          <p:cNvSpPr>
            <a:spLocks noGrp="1"/>
          </p:cNvSpPr>
          <p:nvPr>
            <p:ph type="title"/>
          </p:nvPr>
        </p:nvSpPr>
        <p:spPr>
          <a:xfrm>
            <a:off x="14481720" y="1712160"/>
            <a:ext cx="787500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World</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Map</a:t>
            </a:r>
            <a:endParaRPr b="0" lang="en-US" sz="11200" spc="-1" strike="noStrike">
              <a:solidFill>
                <a:srgbClr val="009193"/>
              </a:solidFill>
              <a:latin typeface="Helvetica Light"/>
            </a:endParaRPr>
          </a:p>
        </p:txBody>
      </p:sp>
      <p:sp>
        <p:nvSpPr>
          <p:cNvPr id="5655" name="Shape 2997"/>
          <p:cNvSpPr/>
          <p:nvPr/>
        </p:nvSpPr>
        <p:spPr>
          <a:xfrm>
            <a:off x="14481720" y="5930280"/>
            <a:ext cx="7875000" cy="16095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World Map with</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separate Continents</a:t>
            </a:r>
            <a:endParaRPr b="0" lang="en-US" sz="4800" spc="-1" strike="noStrike">
              <a:solidFill>
                <a:srgbClr val="000000"/>
              </a:solidFill>
              <a:latin typeface="Arial"/>
            </a:endParaRPr>
          </a:p>
        </p:txBody>
      </p:sp>
      <p:sp>
        <p:nvSpPr>
          <p:cNvPr id="5656" name="Shape 2998"/>
          <p:cNvSpPr/>
          <p:nvPr/>
        </p:nvSpPr>
        <p:spPr>
          <a:xfrm>
            <a:off x="14482080" y="8433720"/>
            <a:ext cx="7874640" cy="34891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lor sit amet, deras consetetur sadicing elitromas. Sed diam dnie friad nonumy eirmod tempor invidunt utony es labore etodre dolore magna alito uyam dando erosa mie frws greadon. Psusit druamet. Lorem eso ipsum dolor sit amet, deras.</a:t>
            </a:r>
            <a:endParaRPr b="0" lang="en-US" sz="3000" spc="-1" strike="noStrike">
              <a:solidFill>
                <a:srgbClr val="000000"/>
              </a:solidFill>
              <a:latin typeface="Arial"/>
            </a:endParaRPr>
          </a:p>
        </p:txBody>
      </p:sp>
      <p:sp>
        <p:nvSpPr>
          <p:cNvPr id="5657" name="PlaceHolder 2"/>
          <p:cNvSpPr>
            <a:spLocks noGrp="1"/>
          </p:cNvSpPr>
          <p:nvPr>
            <p:ph type="sldNum" idx="122"/>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D4A0BF66-BD41-4C0C-BB37-B09E11E7DB04}"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
        <p:nvSpPr>
          <p:cNvPr id="5658" name="Shape 3000"/>
          <p:cNvSpPr/>
          <p:nvPr/>
        </p:nvSpPr>
        <p:spPr>
          <a:xfrm>
            <a:off x="2035080" y="9868320"/>
            <a:ext cx="48279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68% EUROPA</a:t>
            </a:r>
            <a:endParaRPr b="0" lang="en-US" sz="3000" spc="-1" strike="noStrike">
              <a:solidFill>
                <a:srgbClr val="000000"/>
              </a:solidFill>
              <a:latin typeface="Arial"/>
            </a:endParaRPr>
          </a:p>
        </p:txBody>
      </p:sp>
      <p:sp>
        <p:nvSpPr>
          <p:cNvPr id="5659" name="Shape 3001"/>
          <p:cNvSpPr/>
          <p:nvPr/>
        </p:nvSpPr>
        <p:spPr>
          <a:xfrm>
            <a:off x="7559280" y="9868320"/>
            <a:ext cx="4827960" cy="761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32% OTHERS</a:t>
            </a:r>
            <a:endParaRPr b="0" lang="en-US" sz="3000" spc="-1" strike="noStrike">
              <a:solidFill>
                <a:srgbClr val="000000"/>
              </a:solidFill>
              <a:latin typeface="Arial"/>
            </a:endParaRPr>
          </a:p>
        </p:txBody>
      </p:sp>
      <p:sp>
        <p:nvSpPr>
          <p:cNvPr id="5660" name="Shape 3002"/>
          <p:cNvSpPr/>
          <p:nvPr/>
        </p:nvSpPr>
        <p:spPr>
          <a:xfrm>
            <a:off x="2035080" y="10630440"/>
            <a:ext cx="4825800" cy="1292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a:t>
            </a:r>
            <a:endParaRPr b="0" lang="en-US" sz="3000" spc="-1" strike="noStrike">
              <a:solidFill>
                <a:srgbClr val="000000"/>
              </a:solidFill>
              <a:latin typeface="Arial"/>
            </a:endParaRPr>
          </a:p>
        </p:txBody>
      </p:sp>
      <p:sp>
        <p:nvSpPr>
          <p:cNvPr id="5661" name="Shape 3003"/>
          <p:cNvSpPr/>
          <p:nvPr/>
        </p:nvSpPr>
        <p:spPr>
          <a:xfrm>
            <a:off x="7559280" y="10630440"/>
            <a:ext cx="4825800" cy="1292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662" name="Group 3154"/>
          <p:cNvGrpSpPr/>
          <p:nvPr/>
        </p:nvGrpSpPr>
        <p:grpSpPr>
          <a:xfrm>
            <a:off x="9657000" y="2749320"/>
            <a:ext cx="12699720" cy="8216640"/>
            <a:chOff x="9657000" y="2749320"/>
            <a:chExt cx="12699720" cy="8216640"/>
          </a:xfrm>
        </p:grpSpPr>
        <p:sp>
          <p:nvSpPr>
            <p:cNvPr id="5663" name="Shape 3005"/>
            <p:cNvSpPr/>
            <p:nvPr/>
          </p:nvSpPr>
          <p:spPr>
            <a:xfrm>
              <a:off x="15109920" y="752760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dddddd"/>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664" name="Group 3009"/>
            <p:cNvGrpSpPr/>
            <p:nvPr/>
          </p:nvGrpSpPr>
          <p:grpSpPr>
            <a:xfrm>
              <a:off x="14718960" y="7168680"/>
              <a:ext cx="2706840" cy="2717640"/>
              <a:chOff x="14718960" y="7168680"/>
              <a:chExt cx="2706840" cy="2717640"/>
            </a:xfrm>
          </p:grpSpPr>
          <p:sp>
            <p:nvSpPr>
              <p:cNvPr id="5665" name="Shape 3006"/>
              <p:cNvSpPr/>
              <p:nvPr/>
            </p:nvSpPr>
            <p:spPr>
              <a:xfrm>
                <a:off x="15006600" y="7168680"/>
                <a:ext cx="2419200" cy="2717640"/>
              </a:xfrm>
              <a:custGeom>
                <a:avLst/>
                <a:gdLst>
                  <a:gd name="textAreaLeft" fmla="*/ 0 w 2419200"/>
                  <a:gd name="textAreaRight" fmla="*/ 2419560 w 2419200"/>
                  <a:gd name="textAreaTop" fmla="*/ 0 h 2717640"/>
                  <a:gd name="textAreaBottom" fmla="*/ 2718000 h 271764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2"/>
                      <a:pt x="15854" y="18478"/>
                      <a:pt x="15909" y="18478"/>
                    </a:cubicBezTo>
                    <a:cubicBezTo>
                      <a:pt x="15970" y="18478"/>
                      <a:pt x="16014" y="18512"/>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a9a9a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66" name="Shape 3007"/>
              <p:cNvSpPr/>
              <p:nvPr/>
            </p:nvSpPr>
            <p:spPr>
              <a:xfrm>
                <a:off x="17153640" y="9021960"/>
                <a:ext cx="244080" cy="502920"/>
              </a:xfrm>
              <a:custGeom>
                <a:avLst/>
                <a:gdLst>
                  <a:gd name="textAreaLeft" fmla="*/ 0 w 244080"/>
                  <a:gd name="textAreaRight" fmla="*/ 244440 w 244080"/>
                  <a:gd name="textAreaTop" fmla="*/ 0 h 502920"/>
                  <a:gd name="textAreaBottom" fmla="*/ 503280 h 50292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a9a9a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67" name="Shape 3008"/>
              <p:cNvSpPr/>
              <p:nvPr/>
            </p:nvSpPr>
            <p:spPr>
              <a:xfrm>
                <a:off x="14718960" y="7961400"/>
                <a:ext cx="51840" cy="29160"/>
              </a:xfrm>
              <a:custGeom>
                <a:avLst/>
                <a:gdLst>
                  <a:gd name="textAreaLeft" fmla="*/ 0 w 51840"/>
                  <a:gd name="textAreaRight" fmla="*/ 52200 w 51840"/>
                  <a:gd name="textAreaTop" fmla="*/ 0 h 29160"/>
                  <a:gd name="textAreaBottom" fmla="*/ 29520 h 2916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a9a9a9"/>
              </a:solidFill>
              <a:ln w="12700">
                <a:noFill/>
              </a:ln>
            </p:spPr>
            <p:style>
              <a:lnRef idx="0"/>
              <a:fillRef idx="0"/>
              <a:effectRef idx="0"/>
              <a:fontRef idx="minor"/>
            </p:style>
            <p:txBody>
              <a:bodyPr numCol="1" spcCol="0" lIns="45720" rIns="45720" tIns="14760" bIns="1476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5668" name="Shape 3010"/>
            <p:cNvSpPr/>
            <p:nvPr/>
          </p:nvSpPr>
          <p:spPr>
            <a:xfrm>
              <a:off x="12749760" y="8139240"/>
              <a:ext cx="1635480" cy="2826720"/>
            </a:xfrm>
            <a:custGeom>
              <a:avLst/>
              <a:gdLst>
                <a:gd name="textAreaLeft" fmla="*/ 0 w 1635480"/>
                <a:gd name="textAreaRight" fmla="*/ 1635840 w 1635480"/>
                <a:gd name="textAreaTop" fmla="*/ 0 h 2826720"/>
                <a:gd name="textAreaBottom" fmla="*/ 2827080 h 282672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69" name="Shape 3011"/>
            <p:cNvSpPr/>
            <p:nvPr/>
          </p:nvSpPr>
          <p:spPr>
            <a:xfrm>
              <a:off x="13442400" y="10673640"/>
              <a:ext cx="137520" cy="88200"/>
            </a:xfrm>
            <a:custGeom>
              <a:avLst/>
              <a:gdLst>
                <a:gd name="textAreaLeft" fmla="*/ 0 w 137520"/>
                <a:gd name="textAreaRight" fmla="*/ 137880 w 137520"/>
                <a:gd name="textAreaTop" fmla="*/ 0 h 88200"/>
                <a:gd name="textAreaBottom" fmla="*/ 88560 h 8820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d6d6d6"/>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70" name="Shape 3012"/>
            <p:cNvSpPr/>
            <p:nvPr/>
          </p:nvSpPr>
          <p:spPr>
            <a:xfrm>
              <a:off x="12365640" y="8561520"/>
              <a:ext cx="74160" cy="60120"/>
            </a:xfrm>
            <a:custGeom>
              <a:avLst/>
              <a:gdLst>
                <a:gd name="textAreaLeft" fmla="*/ 0 w 74160"/>
                <a:gd name="textAreaRight" fmla="*/ 74520 w 74160"/>
                <a:gd name="textAreaTop" fmla="*/ 0 h 60120"/>
                <a:gd name="textAreaBottom" fmla="*/ 60480 h 60120"/>
              </a:gdLst>
              <a:ahLst/>
              <a:rect l="textAreaLeft" t="textAreaTop" r="textAreaRight" b="textAreaBottom"/>
              <a:pathLst>
                <a:path w="19782" h="20169">
                  <a:moveTo>
                    <a:pt x="5761" y="10066"/>
                  </a:moveTo>
                  <a:cubicBezTo>
                    <a:pt x="5761" y="10485"/>
                    <a:pt x="5761" y="11114"/>
                    <a:pt x="5761" y="11534"/>
                  </a:cubicBezTo>
                  <a:cubicBezTo>
                    <a:pt x="6093" y="12373"/>
                    <a:pt x="6426" y="12792"/>
                    <a:pt x="7090" y="13211"/>
                  </a:cubicBezTo>
                  <a:cubicBezTo>
                    <a:pt x="8918" y="14470"/>
                    <a:pt x="10247" y="16357"/>
                    <a:pt x="11743" y="18035"/>
                  </a:cubicBezTo>
                  <a:cubicBezTo>
                    <a:pt x="13404" y="19293"/>
                    <a:pt x="15232" y="20761"/>
                    <a:pt x="17226" y="19922"/>
                  </a:cubicBezTo>
                  <a:cubicBezTo>
                    <a:pt x="19718" y="18874"/>
                    <a:pt x="20715" y="14050"/>
                    <a:pt x="18721" y="11953"/>
                  </a:cubicBezTo>
                  <a:cubicBezTo>
                    <a:pt x="17890" y="11114"/>
                    <a:pt x="17226" y="10485"/>
                    <a:pt x="16893" y="9646"/>
                  </a:cubicBezTo>
                  <a:cubicBezTo>
                    <a:pt x="16561" y="8388"/>
                    <a:pt x="17226" y="7130"/>
                    <a:pt x="17226" y="5243"/>
                  </a:cubicBezTo>
                  <a:cubicBezTo>
                    <a:pt x="17226" y="2726"/>
                    <a:pt x="15232" y="1258"/>
                    <a:pt x="13072" y="419"/>
                  </a:cubicBezTo>
                  <a:cubicBezTo>
                    <a:pt x="12075" y="0"/>
                    <a:pt x="10580" y="-420"/>
                    <a:pt x="9915" y="839"/>
                  </a:cubicBezTo>
                  <a:cubicBezTo>
                    <a:pt x="9583" y="1258"/>
                    <a:pt x="9583" y="1887"/>
                    <a:pt x="9250" y="2307"/>
                  </a:cubicBezTo>
                  <a:cubicBezTo>
                    <a:pt x="7090" y="6711"/>
                    <a:pt x="1607" y="-839"/>
                    <a:pt x="112" y="3984"/>
                  </a:cubicBezTo>
                  <a:cubicBezTo>
                    <a:pt x="-885" y="8808"/>
                    <a:pt x="5097" y="7549"/>
                    <a:pt x="5761" y="10066"/>
                  </a:cubicBezTo>
                </a:path>
              </a:pathLst>
            </a:custGeom>
            <a:solidFill>
              <a:srgbClr val="d6d6d6"/>
            </a:solidFill>
            <a:ln w="12700">
              <a:noFill/>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71" name="Shape 3013"/>
            <p:cNvSpPr/>
            <p:nvPr/>
          </p:nvSpPr>
          <p:spPr>
            <a:xfrm>
              <a:off x="9657000" y="6301080"/>
              <a:ext cx="90360" cy="54360"/>
            </a:xfrm>
            <a:custGeom>
              <a:avLst/>
              <a:gdLst>
                <a:gd name="textAreaLeft" fmla="*/ 0 w 90360"/>
                <a:gd name="textAreaRight" fmla="*/ 90720 w 90360"/>
                <a:gd name="textAreaTop" fmla="*/ 0 h 54360"/>
                <a:gd name="textAreaBottom" fmla="*/ 54720 h 54360"/>
              </a:gdLst>
              <a:ahLst/>
              <a:rect l="textAreaLeft" t="textAreaTop" r="textAreaRight" b="textAreaBottom"/>
              <a:pathLst>
                <a:path w="19534" h="17494">
                  <a:moveTo>
                    <a:pt x="5219" y="9567"/>
                  </a:moveTo>
                  <a:cubicBezTo>
                    <a:pt x="3885" y="9963"/>
                    <a:pt x="2419" y="8774"/>
                    <a:pt x="1085" y="9963"/>
                  </a:cubicBezTo>
                  <a:cubicBezTo>
                    <a:pt x="-648" y="11152"/>
                    <a:pt x="-115" y="15314"/>
                    <a:pt x="1352" y="16701"/>
                  </a:cubicBezTo>
                  <a:cubicBezTo>
                    <a:pt x="2685" y="17890"/>
                    <a:pt x="4685" y="17494"/>
                    <a:pt x="6685" y="17097"/>
                  </a:cubicBezTo>
                  <a:cubicBezTo>
                    <a:pt x="9752" y="15710"/>
                    <a:pt x="13085" y="12936"/>
                    <a:pt x="13885" y="8378"/>
                  </a:cubicBezTo>
                  <a:cubicBezTo>
                    <a:pt x="13885" y="7784"/>
                    <a:pt x="13885" y="7784"/>
                    <a:pt x="14152" y="7387"/>
                  </a:cubicBezTo>
                  <a:cubicBezTo>
                    <a:pt x="14419" y="6595"/>
                    <a:pt x="15619" y="6991"/>
                    <a:pt x="16152" y="6991"/>
                  </a:cubicBezTo>
                  <a:cubicBezTo>
                    <a:pt x="20952" y="7784"/>
                    <a:pt x="20685" y="-3710"/>
                    <a:pt x="15085" y="1244"/>
                  </a:cubicBezTo>
                  <a:cubicBezTo>
                    <a:pt x="11619" y="3820"/>
                    <a:pt x="9752" y="8774"/>
                    <a:pt x="5219" y="9567"/>
                  </a:cubicBezTo>
                </a:path>
              </a:pathLst>
            </a:custGeom>
            <a:solidFill>
              <a:srgbClr val="929292"/>
            </a:solidFill>
            <a:ln w="12700">
              <a:noFill/>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72" name="Shape 3014"/>
            <p:cNvSpPr/>
            <p:nvPr/>
          </p:nvSpPr>
          <p:spPr>
            <a:xfrm>
              <a:off x="9705600" y="5886360"/>
              <a:ext cx="61560" cy="34560"/>
            </a:xfrm>
            <a:custGeom>
              <a:avLst/>
              <a:gdLst>
                <a:gd name="textAreaLeft" fmla="*/ 0 w 61560"/>
                <a:gd name="textAreaRight" fmla="*/ 61920 w 61560"/>
                <a:gd name="textAreaTop" fmla="*/ 0 h 34560"/>
                <a:gd name="textAreaBottom" fmla="*/ 34920 h 34560"/>
              </a:gdLst>
              <a:ahLst/>
              <a:rect l="textAreaLeft" t="textAreaTop" r="textAreaRight" b="textAreaBottom"/>
              <a:pathLst>
                <a:path w="20682" h="19991">
                  <a:moveTo>
                    <a:pt x="7130" y="14606"/>
                  </a:moveTo>
                  <a:cubicBezTo>
                    <a:pt x="7550" y="13898"/>
                    <a:pt x="7969" y="13190"/>
                    <a:pt x="8388" y="13190"/>
                  </a:cubicBezTo>
                  <a:cubicBezTo>
                    <a:pt x="9227" y="12482"/>
                    <a:pt x="10066" y="14606"/>
                    <a:pt x="10905" y="16023"/>
                  </a:cubicBezTo>
                  <a:cubicBezTo>
                    <a:pt x="12792" y="19918"/>
                    <a:pt x="16777" y="21334"/>
                    <a:pt x="18874" y="18501"/>
                  </a:cubicBezTo>
                  <a:cubicBezTo>
                    <a:pt x="21600" y="15314"/>
                    <a:pt x="21181" y="7170"/>
                    <a:pt x="18035" y="5754"/>
                  </a:cubicBezTo>
                  <a:cubicBezTo>
                    <a:pt x="16777" y="5045"/>
                    <a:pt x="15309" y="5754"/>
                    <a:pt x="14470" y="5045"/>
                  </a:cubicBezTo>
                  <a:cubicBezTo>
                    <a:pt x="12792" y="4337"/>
                    <a:pt x="12373" y="1504"/>
                    <a:pt x="10485" y="442"/>
                  </a:cubicBezTo>
                  <a:cubicBezTo>
                    <a:pt x="9227" y="-266"/>
                    <a:pt x="5662" y="-266"/>
                    <a:pt x="4404" y="1504"/>
                  </a:cubicBezTo>
                  <a:cubicBezTo>
                    <a:pt x="2097" y="2921"/>
                    <a:pt x="419" y="5754"/>
                    <a:pt x="0" y="9649"/>
                  </a:cubicBezTo>
                  <a:cubicBezTo>
                    <a:pt x="3146" y="7878"/>
                    <a:pt x="5243" y="16023"/>
                    <a:pt x="7130" y="14606"/>
                  </a:cubicBezTo>
                </a:path>
              </a:pathLst>
            </a:custGeom>
            <a:solidFill>
              <a:srgbClr val="929292"/>
            </a:solidFill>
            <a:ln w="12700">
              <a:noFill/>
            </a:ln>
          </p:spPr>
          <p:style>
            <a:lnRef idx="0"/>
            <a:fillRef idx="0"/>
            <a:effectRef idx="0"/>
            <a:fontRef idx="minor"/>
          </p:style>
          <p:txBody>
            <a:bodyPr numCol="1" spcCol="0" lIns="45720" rIns="45720" tIns="17280" bIns="1728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673" name="Group 3062"/>
            <p:cNvGrpSpPr/>
            <p:nvPr/>
          </p:nvGrpSpPr>
          <p:grpSpPr>
            <a:xfrm>
              <a:off x="9681120" y="2749320"/>
              <a:ext cx="5533200" cy="5557680"/>
              <a:chOff x="9681120" y="2749320"/>
              <a:chExt cx="5533200" cy="5557680"/>
            </a:xfrm>
          </p:grpSpPr>
          <p:sp>
            <p:nvSpPr>
              <p:cNvPr id="5674" name="Shape 3015"/>
              <p:cNvSpPr/>
              <p:nvPr/>
            </p:nvSpPr>
            <p:spPr>
              <a:xfrm>
                <a:off x="9681120" y="4577400"/>
                <a:ext cx="3970080" cy="3729600"/>
              </a:xfrm>
              <a:custGeom>
                <a:avLst/>
                <a:gdLst>
                  <a:gd name="textAreaLeft" fmla="*/ 0 w 3970080"/>
                  <a:gd name="textAreaRight" fmla="*/ 3970440 w 3970080"/>
                  <a:gd name="textAreaTop" fmla="*/ 0 h 3729600"/>
                  <a:gd name="textAreaBottom" fmla="*/ 3729960 h 372960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4"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75" name="Shape 3016"/>
              <p:cNvSpPr/>
              <p:nvPr/>
            </p:nvSpPr>
            <p:spPr>
              <a:xfrm>
                <a:off x="12630240" y="7716240"/>
                <a:ext cx="350280" cy="135720"/>
              </a:xfrm>
              <a:custGeom>
                <a:avLst/>
                <a:gdLst>
                  <a:gd name="textAreaLeft" fmla="*/ 0 w 350280"/>
                  <a:gd name="textAreaRight" fmla="*/ 350640 w 350280"/>
                  <a:gd name="textAreaTop" fmla="*/ 0 h 135720"/>
                  <a:gd name="textAreaBottom" fmla="*/ 136080 h 13572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76" name="Shape 3017"/>
              <p:cNvSpPr/>
              <p:nvPr/>
            </p:nvSpPr>
            <p:spPr>
              <a:xfrm>
                <a:off x="12853800" y="7896240"/>
                <a:ext cx="82080" cy="39960"/>
              </a:xfrm>
              <a:custGeom>
                <a:avLst/>
                <a:gdLst>
                  <a:gd name="textAreaLeft" fmla="*/ 0 w 82080"/>
                  <a:gd name="textAreaRight" fmla="*/ 82440 w 82080"/>
                  <a:gd name="textAreaTop" fmla="*/ 0 h 39960"/>
                  <a:gd name="textAreaBottom" fmla="*/ 40320 h 3996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929292"/>
              </a:solidFill>
              <a:ln w="12700">
                <a:noFill/>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77" name="Shape 3018"/>
              <p:cNvSpPr/>
              <p:nvPr/>
            </p:nvSpPr>
            <p:spPr>
              <a:xfrm>
                <a:off x="12989520" y="7845120"/>
                <a:ext cx="232560" cy="75600"/>
              </a:xfrm>
              <a:custGeom>
                <a:avLst/>
                <a:gdLst>
                  <a:gd name="textAreaLeft" fmla="*/ 0 w 232560"/>
                  <a:gd name="textAreaRight" fmla="*/ 232920 w 232560"/>
                  <a:gd name="textAreaTop" fmla="*/ 0 h 75600"/>
                  <a:gd name="textAreaBottom" fmla="*/ 75960 h 7560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929292"/>
              </a:solidFill>
              <a:ln w="12700">
                <a:noFill/>
              </a:ln>
            </p:spPr>
            <p:style>
              <a:lnRef idx="0"/>
              <a:fillRef idx="0"/>
              <a:effectRef idx="0"/>
              <a:fontRef idx="minor"/>
            </p:style>
            <p:txBody>
              <a:bodyPr numCol="1" spcCol="0" lIns="45720" rIns="45720" tIns="37800" bIns="37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78" name="Shape 3019"/>
              <p:cNvSpPr/>
              <p:nvPr/>
            </p:nvSpPr>
            <p:spPr>
              <a:xfrm>
                <a:off x="13237920" y="7899480"/>
                <a:ext cx="94320" cy="35640"/>
              </a:xfrm>
              <a:custGeom>
                <a:avLst/>
                <a:gdLst>
                  <a:gd name="textAreaLeft" fmla="*/ 0 w 94320"/>
                  <a:gd name="textAreaRight" fmla="*/ 94680 w 94320"/>
                  <a:gd name="textAreaTop" fmla="*/ 0 h 35640"/>
                  <a:gd name="textAreaBottom" fmla="*/ 36000 h 3564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929292"/>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79" name="Shape 3020"/>
              <p:cNvSpPr/>
              <p:nvPr/>
            </p:nvSpPr>
            <p:spPr>
              <a:xfrm>
                <a:off x="13335840" y="6529320"/>
                <a:ext cx="110160" cy="60480"/>
              </a:xfrm>
              <a:custGeom>
                <a:avLst/>
                <a:gdLst>
                  <a:gd name="textAreaLeft" fmla="*/ 0 w 110160"/>
                  <a:gd name="textAreaRight" fmla="*/ 110520 w 110160"/>
                  <a:gd name="textAreaTop" fmla="*/ 0 h 60480"/>
                  <a:gd name="textAreaBottom" fmla="*/ 60840 h 6048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929292"/>
              </a:solidFill>
              <a:ln w="12700">
                <a:noFill/>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0" name="Shape 3021"/>
              <p:cNvSpPr/>
              <p:nvPr/>
            </p:nvSpPr>
            <p:spPr>
              <a:xfrm>
                <a:off x="13521600" y="6415200"/>
                <a:ext cx="235440" cy="289440"/>
              </a:xfrm>
              <a:custGeom>
                <a:avLst/>
                <a:gdLst>
                  <a:gd name="textAreaLeft" fmla="*/ 0 w 235440"/>
                  <a:gd name="textAreaRight" fmla="*/ 235800 w 235440"/>
                  <a:gd name="textAreaTop" fmla="*/ 0 h 289440"/>
                  <a:gd name="textAreaBottom" fmla="*/ 289800 h 28944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1" name="Shape 3022"/>
              <p:cNvSpPr/>
              <p:nvPr/>
            </p:nvSpPr>
            <p:spPr>
              <a:xfrm>
                <a:off x="12781800" y="6105240"/>
                <a:ext cx="61560" cy="88200"/>
              </a:xfrm>
              <a:custGeom>
                <a:avLst/>
                <a:gdLst>
                  <a:gd name="textAreaLeft" fmla="*/ 0 w 61560"/>
                  <a:gd name="textAreaRight" fmla="*/ 61920 w 61560"/>
                  <a:gd name="textAreaTop" fmla="*/ 0 h 88200"/>
                  <a:gd name="textAreaBottom" fmla="*/ 88560 h 8820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929292"/>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2" name="Shape 3023"/>
              <p:cNvSpPr/>
              <p:nvPr/>
            </p:nvSpPr>
            <p:spPr>
              <a:xfrm>
                <a:off x="12763080" y="5901840"/>
                <a:ext cx="37800" cy="75240"/>
              </a:xfrm>
              <a:custGeom>
                <a:avLst/>
                <a:gdLst>
                  <a:gd name="textAreaLeft" fmla="*/ 0 w 37800"/>
                  <a:gd name="textAreaRight" fmla="*/ 38160 w 37800"/>
                  <a:gd name="textAreaTop" fmla="*/ 0 h 75240"/>
                  <a:gd name="textAreaBottom" fmla="*/ 75600 h 7524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929292"/>
              </a:solidFill>
              <a:ln w="12700">
                <a:noFill/>
              </a:ln>
            </p:spPr>
            <p:style>
              <a:lnRef idx="0"/>
              <a:fillRef idx="0"/>
              <a:effectRef idx="0"/>
              <a:fontRef idx="minor"/>
            </p:style>
            <p:txBody>
              <a:bodyPr numCol="1" spcCol="0" lIns="45720" rIns="45720" tIns="37800" bIns="37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3" name="Shape 3024"/>
              <p:cNvSpPr/>
              <p:nvPr/>
            </p:nvSpPr>
            <p:spPr>
              <a:xfrm>
                <a:off x="12783240" y="5731200"/>
                <a:ext cx="46440" cy="69120"/>
              </a:xfrm>
              <a:custGeom>
                <a:avLst/>
                <a:gdLst>
                  <a:gd name="textAreaLeft" fmla="*/ 0 w 46440"/>
                  <a:gd name="textAreaRight" fmla="*/ 46800 w 46440"/>
                  <a:gd name="textAreaTop" fmla="*/ 0 h 69120"/>
                  <a:gd name="textAreaBottom" fmla="*/ 69480 h 6912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929292"/>
              </a:solidFill>
              <a:ln w="12700">
                <a:noFill/>
              </a:ln>
            </p:spPr>
            <p:style>
              <a:lnRef idx="0"/>
              <a:fillRef idx="0"/>
              <a:effectRef idx="0"/>
              <a:fontRef idx="minor"/>
            </p:style>
            <p:txBody>
              <a:bodyPr numCol="1" spcCol="0" lIns="45720" rIns="45720" tIns="34560" bIns="34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4" name="Shape 3025"/>
              <p:cNvSpPr/>
              <p:nvPr/>
            </p:nvSpPr>
            <p:spPr>
              <a:xfrm>
                <a:off x="13195080" y="5864040"/>
                <a:ext cx="34560" cy="36000"/>
              </a:xfrm>
              <a:custGeom>
                <a:avLst/>
                <a:gdLst>
                  <a:gd name="textAreaLeft" fmla="*/ 0 w 34560"/>
                  <a:gd name="textAreaRight" fmla="*/ 34920 w 34560"/>
                  <a:gd name="textAreaTop" fmla="*/ 0 h 36000"/>
                  <a:gd name="textAreaBottom" fmla="*/ 36360 h 3600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929292"/>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5" name="Shape 3026"/>
              <p:cNvSpPr/>
              <p:nvPr/>
            </p:nvSpPr>
            <p:spPr>
              <a:xfrm>
                <a:off x="12531240" y="5447160"/>
                <a:ext cx="259920" cy="241560"/>
              </a:xfrm>
              <a:custGeom>
                <a:avLst/>
                <a:gdLst>
                  <a:gd name="textAreaLeft" fmla="*/ 0 w 259920"/>
                  <a:gd name="textAreaRight" fmla="*/ 260280 w 259920"/>
                  <a:gd name="textAreaTop" fmla="*/ 0 h 241560"/>
                  <a:gd name="textAreaBottom" fmla="*/ 241920 h 24156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6" name="Shape 3027"/>
              <p:cNvSpPr/>
              <p:nvPr/>
            </p:nvSpPr>
            <p:spPr>
              <a:xfrm>
                <a:off x="12641400" y="5686560"/>
                <a:ext cx="90360" cy="71280"/>
              </a:xfrm>
              <a:custGeom>
                <a:avLst/>
                <a:gdLst>
                  <a:gd name="textAreaLeft" fmla="*/ 0 w 90360"/>
                  <a:gd name="textAreaRight" fmla="*/ 90720 w 90360"/>
                  <a:gd name="textAreaTop" fmla="*/ 0 h 71280"/>
                  <a:gd name="textAreaBottom" fmla="*/ 71640 h 7128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929292"/>
              </a:solidFill>
              <a:ln w="12700">
                <a:noFill/>
              </a:ln>
            </p:spPr>
            <p:style>
              <a:lnRef idx="0"/>
              <a:fillRef idx="0"/>
              <a:effectRef idx="0"/>
              <a:fontRef idx="minor"/>
            </p:style>
            <p:txBody>
              <a:bodyPr numCol="1" spcCol="0" lIns="45720" rIns="45720" tIns="35640" bIns="35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7" name="Shape 3028"/>
              <p:cNvSpPr/>
              <p:nvPr/>
            </p:nvSpPr>
            <p:spPr>
              <a:xfrm>
                <a:off x="12884400" y="5234040"/>
                <a:ext cx="88200" cy="99720"/>
              </a:xfrm>
              <a:custGeom>
                <a:avLst/>
                <a:gdLst>
                  <a:gd name="textAreaLeft" fmla="*/ 0 w 88200"/>
                  <a:gd name="textAreaRight" fmla="*/ 88560 w 88200"/>
                  <a:gd name="textAreaTop" fmla="*/ 0 h 99720"/>
                  <a:gd name="textAreaBottom" fmla="*/ 100080 h 9972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8" name="Shape 3029"/>
              <p:cNvSpPr/>
              <p:nvPr/>
            </p:nvSpPr>
            <p:spPr>
              <a:xfrm>
                <a:off x="12819600" y="5105160"/>
                <a:ext cx="31320" cy="79560"/>
              </a:xfrm>
              <a:custGeom>
                <a:avLst/>
                <a:gdLst>
                  <a:gd name="textAreaLeft" fmla="*/ 0 w 31320"/>
                  <a:gd name="textAreaRight" fmla="*/ 31680 w 31320"/>
                  <a:gd name="textAreaTop" fmla="*/ 0 h 79560"/>
                  <a:gd name="textAreaBottom" fmla="*/ 79920 h 7956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929292"/>
              </a:solidFill>
              <a:ln w="12700">
                <a:noFill/>
              </a:ln>
            </p:spPr>
            <p:style>
              <a:lnRef idx="0"/>
              <a:fillRef idx="0"/>
              <a:effectRef idx="0"/>
              <a:fontRef idx="minor"/>
            </p:style>
            <p:txBody>
              <a:bodyPr numCol="1" spcCol="0" lIns="45720" rIns="45720" tIns="39960" bIns="39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89" name="Shape 3030"/>
              <p:cNvSpPr/>
              <p:nvPr/>
            </p:nvSpPr>
            <p:spPr>
              <a:xfrm>
                <a:off x="12892680" y="5124240"/>
                <a:ext cx="32400" cy="61560"/>
              </a:xfrm>
              <a:custGeom>
                <a:avLst/>
                <a:gdLst>
                  <a:gd name="textAreaLeft" fmla="*/ 0 w 32400"/>
                  <a:gd name="textAreaRight" fmla="*/ 32760 w 32400"/>
                  <a:gd name="textAreaTop" fmla="*/ 0 h 61560"/>
                  <a:gd name="textAreaBottom" fmla="*/ 61920 h 6156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929292"/>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0" name="Shape 3031"/>
              <p:cNvSpPr/>
              <p:nvPr/>
            </p:nvSpPr>
            <p:spPr>
              <a:xfrm>
                <a:off x="12980520" y="5250600"/>
                <a:ext cx="45720" cy="42480"/>
              </a:xfrm>
              <a:custGeom>
                <a:avLst/>
                <a:gdLst>
                  <a:gd name="textAreaLeft" fmla="*/ 0 w 45720"/>
                  <a:gd name="textAreaRight" fmla="*/ 46080 w 45720"/>
                  <a:gd name="textAreaTop" fmla="*/ 0 h 42480"/>
                  <a:gd name="textAreaBottom" fmla="*/ 42840 h 4248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929292"/>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1" name="Shape 3032"/>
              <p:cNvSpPr/>
              <p:nvPr/>
            </p:nvSpPr>
            <p:spPr>
              <a:xfrm>
                <a:off x="12847680" y="5632200"/>
                <a:ext cx="38880" cy="50760"/>
              </a:xfrm>
              <a:custGeom>
                <a:avLst/>
                <a:gdLst>
                  <a:gd name="textAreaLeft" fmla="*/ 0 w 38880"/>
                  <a:gd name="textAreaRight" fmla="*/ 39240 w 38880"/>
                  <a:gd name="textAreaTop" fmla="*/ 0 h 50760"/>
                  <a:gd name="textAreaBottom" fmla="*/ 51120 h 5076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929292"/>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2" name="Shape 3033"/>
              <p:cNvSpPr/>
              <p:nvPr/>
            </p:nvSpPr>
            <p:spPr>
              <a:xfrm>
                <a:off x="13304880" y="5764680"/>
                <a:ext cx="24840" cy="45720"/>
              </a:xfrm>
              <a:custGeom>
                <a:avLst/>
                <a:gdLst>
                  <a:gd name="textAreaLeft" fmla="*/ 0 w 24840"/>
                  <a:gd name="textAreaRight" fmla="*/ 25200 w 24840"/>
                  <a:gd name="textAreaTop" fmla="*/ 0 h 45720"/>
                  <a:gd name="textAreaBottom" fmla="*/ 46080 h 4572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929292"/>
              </a:solidFill>
              <a:ln w="12700">
                <a:noFill/>
              </a:ln>
            </p:spPr>
            <p:style>
              <a:lnRef idx="0"/>
              <a:fillRef idx="0"/>
              <a:effectRef idx="0"/>
              <a:fontRef idx="minor"/>
            </p:style>
            <p:txBody>
              <a:bodyPr numCol="1" spcCol="0" lIns="45720" rIns="45720" tIns="23040" bIns="23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3" name="Shape 3034"/>
              <p:cNvSpPr/>
              <p:nvPr/>
            </p:nvSpPr>
            <p:spPr>
              <a:xfrm>
                <a:off x="12755160" y="4642920"/>
                <a:ext cx="181800" cy="121320"/>
              </a:xfrm>
              <a:custGeom>
                <a:avLst/>
                <a:gdLst>
                  <a:gd name="textAreaLeft" fmla="*/ 0 w 181800"/>
                  <a:gd name="textAreaRight" fmla="*/ 182160 w 181800"/>
                  <a:gd name="textAreaTop" fmla="*/ 0 h 121320"/>
                  <a:gd name="textAreaBottom" fmla="*/ 121680 h 12132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4" name="Shape 3035"/>
              <p:cNvSpPr/>
              <p:nvPr/>
            </p:nvSpPr>
            <p:spPr>
              <a:xfrm>
                <a:off x="10155960" y="6008400"/>
                <a:ext cx="90720" cy="108720"/>
              </a:xfrm>
              <a:custGeom>
                <a:avLst/>
                <a:gdLst>
                  <a:gd name="textAreaLeft" fmla="*/ 0 w 90720"/>
                  <a:gd name="textAreaRight" fmla="*/ 91080 w 90720"/>
                  <a:gd name="textAreaTop" fmla="*/ 0 h 108720"/>
                  <a:gd name="textAreaBottom" fmla="*/ 109080 h 10872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5" name="Shape 3036"/>
              <p:cNvSpPr/>
              <p:nvPr/>
            </p:nvSpPr>
            <p:spPr>
              <a:xfrm>
                <a:off x="9772200" y="6254280"/>
                <a:ext cx="43560" cy="39960"/>
              </a:xfrm>
              <a:custGeom>
                <a:avLst/>
                <a:gdLst>
                  <a:gd name="textAreaLeft" fmla="*/ 0 w 43560"/>
                  <a:gd name="textAreaRight" fmla="*/ 43920 w 43560"/>
                  <a:gd name="textAreaTop" fmla="*/ 0 h 39960"/>
                  <a:gd name="textAreaBottom" fmla="*/ 40320 h 3996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929292"/>
              </a:solidFill>
              <a:ln w="12700">
                <a:noFill/>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6" name="Shape 3037"/>
              <p:cNvSpPr/>
              <p:nvPr/>
            </p:nvSpPr>
            <p:spPr>
              <a:xfrm>
                <a:off x="10916280" y="6289560"/>
                <a:ext cx="77400" cy="132480"/>
              </a:xfrm>
              <a:custGeom>
                <a:avLst/>
                <a:gdLst>
                  <a:gd name="textAreaLeft" fmla="*/ 0 w 77400"/>
                  <a:gd name="textAreaRight" fmla="*/ 77760 w 77400"/>
                  <a:gd name="textAreaTop" fmla="*/ 0 h 132480"/>
                  <a:gd name="textAreaBottom" fmla="*/ 132840 h 13248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7" name="Shape 3038"/>
              <p:cNvSpPr/>
              <p:nvPr/>
            </p:nvSpPr>
            <p:spPr>
              <a:xfrm>
                <a:off x="11186640" y="4538520"/>
                <a:ext cx="358920" cy="413640"/>
              </a:xfrm>
              <a:custGeom>
                <a:avLst/>
                <a:gdLst>
                  <a:gd name="textAreaLeft" fmla="*/ 0 w 358920"/>
                  <a:gd name="textAreaRight" fmla="*/ 359280 w 358920"/>
                  <a:gd name="textAreaTop" fmla="*/ 0 h 413640"/>
                  <a:gd name="textAreaBottom" fmla="*/ 414000 h 41364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8" name="Shape 3039"/>
              <p:cNvSpPr/>
              <p:nvPr/>
            </p:nvSpPr>
            <p:spPr>
              <a:xfrm>
                <a:off x="11991240" y="4583520"/>
                <a:ext cx="219960" cy="340560"/>
              </a:xfrm>
              <a:custGeom>
                <a:avLst/>
                <a:gdLst>
                  <a:gd name="textAreaLeft" fmla="*/ 0 w 219960"/>
                  <a:gd name="textAreaRight" fmla="*/ 220320 w 219960"/>
                  <a:gd name="textAreaTop" fmla="*/ 0 h 340560"/>
                  <a:gd name="textAreaBottom" fmla="*/ 340920 h 34056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699" name="Shape 3040"/>
              <p:cNvSpPr/>
              <p:nvPr/>
            </p:nvSpPr>
            <p:spPr>
              <a:xfrm>
                <a:off x="12053880" y="4968360"/>
                <a:ext cx="36360" cy="63720"/>
              </a:xfrm>
              <a:custGeom>
                <a:avLst/>
                <a:gdLst>
                  <a:gd name="textAreaLeft" fmla="*/ 0 w 36360"/>
                  <a:gd name="textAreaRight" fmla="*/ 36720 w 36360"/>
                  <a:gd name="textAreaTop" fmla="*/ 0 h 63720"/>
                  <a:gd name="textAreaBottom" fmla="*/ 64080 h 6372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929292"/>
              </a:solidFill>
              <a:ln w="12700">
                <a:noFill/>
              </a:ln>
            </p:spPr>
            <p:style>
              <a:lnRef idx="0"/>
              <a:fillRef idx="0"/>
              <a:effectRef idx="0"/>
              <a:fontRef idx="minor"/>
            </p:style>
            <p:txBody>
              <a:bodyPr numCol="1" spcCol="0" lIns="45720" rIns="45720" tIns="32040" bIns="32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0" name="Shape 3041"/>
              <p:cNvSpPr/>
              <p:nvPr/>
            </p:nvSpPr>
            <p:spPr>
              <a:xfrm>
                <a:off x="11265480" y="4085280"/>
                <a:ext cx="271080" cy="277920"/>
              </a:xfrm>
              <a:custGeom>
                <a:avLst/>
                <a:gdLst>
                  <a:gd name="textAreaLeft" fmla="*/ 0 w 271080"/>
                  <a:gd name="textAreaRight" fmla="*/ 271440 w 271080"/>
                  <a:gd name="textAreaTop" fmla="*/ 0 h 277920"/>
                  <a:gd name="textAreaBottom" fmla="*/ 278280 h 27792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1" name="Shape 3042"/>
              <p:cNvSpPr/>
              <p:nvPr/>
            </p:nvSpPr>
            <p:spPr>
              <a:xfrm>
                <a:off x="11397240" y="4310640"/>
                <a:ext cx="73800" cy="88200"/>
              </a:xfrm>
              <a:custGeom>
                <a:avLst/>
                <a:gdLst>
                  <a:gd name="textAreaLeft" fmla="*/ 0 w 73800"/>
                  <a:gd name="textAreaRight" fmla="*/ 74160 w 73800"/>
                  <a:gd name="textAreaTop" fmla="*/ 0 h 88200"/>
                  <a:gd name="textAreaBottom" fmla="*/ 88560 h 8820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929292"/>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2" name="Shape 3043"/>
              <p:cNvSpPr/>
              <p:nvPr/>
            </p:nvSpPr>
            <p:spPr>
              <a:xfrm>
                <a:off x="11552760" y="4003200"/>
                <a:ext cx="53280" cy="67320"/>
              </a:xfrm>
              <a:custGeom>
                <a:avLst/>
                <a:gdLst>
                  <a:gd name="textAreaLeft" fmla="*/ 0 w 53280"/>
                  <a:gd name="textAreaRight" fmla="*/ 53640 w 53280"/>
                  <a:gd name="textAreaTop" fmla="*/ 0 h 67320"/>
                  <a:gd name="textAreaBottom" fmla="*/ 67680 h 6732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929292"/>
              </a:solidFill>
              <a:ln w="12700">
                <a:noFill/>
              </a:ln>
            </p:spPr>
            <p:style>
              <a:lnRef idx="0"/>
              <a:fillRef idx="0"/>
              <a:effectRef idx="0"/>
              <a:fontRef idx="minor"/>
            </p:style>
            <p:txBody>
              <a:bodyPr numCol="1" spcCol="0" lIns="45720" rIns="45720" tIns="33840" bIns="33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3" name="Shape 3044"/>
              <p:cNvSpPr/>
              <p:nvPr/>
            </p:nvSpPr>
            <p:spPr>
              <a:xfrm>
                <a:off x="11558880" y="4200480"/>
                <a:ext cx="56880" cy="30240"/>
              </a:xfrm>
              <a:custGeom>
                <a:avLst/>
                <a:gdLst>
                  <a:gd name="textAreaLeft" fmla="*/ 0 w 56880"/>
                  <a:gd name="textAreaRight" fmla="*/ 57240 w 56880"/>
                  <a:gd name="textAreaTop" fmla="*/ 0 h 30240"/>
                  <a:gd name="textAreaBottom" fmla="*/ 30600 h 3024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929292"/>
              </a:solidFill>
              <a:ln w="12700">
                <a:noFill/>
              </a:ln>
            </p:spPr>
            <p:style>
              <a:lnRef idx="0"/>
              <a:fillRef idx="0"/>
              <a:effectRef idx="0"/>
              <a:fontRef idx="minor"/>
            </p:style>
            <p:txBody>
              <a:bodyPr numCol="1" spcCol="0" lIns="45720" rIns="45720" tIns="15120" bIns="15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4" name="Shape 3045"/>
              <p:cNvSpPr/>
              <p:nvPr/>
            </p:nvSpPr>
            <p:spPr>
              <a:xfrm>
                <a:off x="11473200" y="4191120"/>
                <a:ext cx="423000" cy="357120"/>
              </a:xfrm>
              <a:custGeom>
                <a:avLst/>
                <a:gdLst>
                  <a:gd name="textAreaLeft" fmla="*/ 0 w 423000"/>
                  <a:gd name="textAreaRight" fmla="*/ 423360 w 423000"/>
                  <a:gd name="textAreaTop" fmla="*/ 0 h 357120"/>
                  <a:gd name="textAreaBottom" fmla="*/ 357480 h 35712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5" name="Shape 3046"/>
              <p:cNvSpPr/>
              <p:nvPr/>
            </p:nvSpPr>
            <p:spPr>
              <a:xfrm>
                <a:off x="11913840" y="4408200"/>
                <a:ext cx="53280" cy="70920"/>
              </a:xfrm>
              <a:custGeom>
                <a:avLst/>
                <a:gdLst>
                  <a:gd name="textAreaLeft" fmla="*/ 0 w 53280"/>
                  <a:gd name="textAreaRight" fmla="*/ 53640 w 53280"/>
                  <a:gd name="textAreaTop" fmla="*/ 0 h 70920"/>
                  <a:gd name="textAreaBottom" fmla="*/ 71280 h 7092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929292"/>
              </a:solidFill>
              <a:ln w="12700">
                <a:noFill/>
              </a:ln>
            </p:spPr>
            <p:style>
              <a:lnRef idx="0"/>
              <a:fillRef idx="0"/>
              <a:effectRef idx="0"/>
              <a:fontRef idx="minor"/>
            </p:style>
            <p:txBody>
              <a:bodyPr numCol="1" spcCol="0" lIns="45720" rIns="45720" tIns="35640" bIns="35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6" name="Shape 3047"/>
              <p:cNvSpPr/>
              <p:nvPr/>
            </p:nvSpPr>
            <p:spPr>
              <a:xfrm>
                <a:off x="11619720" y="3993120"/>
                <a:ext cx="131760" cy="145080"/>
              </a:xfrm>
              <a:custGeom>
                <a:avLst/>
                <a:gdLst>
                  <a:gd name="textAreaLeft" fmla="*/ 0 w 131760"/>
                  <a:gd name="textAreaRight" fmla="*/ 132120 w 131760"/>
                  <a:gd name="textAreaTop" fmla="*/ 0 h 145080"/>
                  <a:gd name="textAreaBottom" fmla="*/ 145440 h 14508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7" name="Shape 3048"/>
              <p:cNvSpPr/>
              <p:nvPr/>
            </p:nvSpPr>
            <p:spPr>
              <a:xfrm>
                <a:off x="11587320" y="3876840"/>
                <a:ext cx="170640" cy="105840"/>
              </a:xfrm>
              <a:custGeom>
                <a:avLst/>
                <a:gdLst>
                  <a:gd name="textAreaLeft" fmla="*/ 0 w 170640"/>
                  <a:gd name="textAreaRight" fmla="*/ 171000 w 170640"/>
                  <a:gd name="textAreaTop" fmla="*/ 0 h 105840"/>
                  <a:gd name="textAreaBottom" fmla="*/ 106200 h 10584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8" name="Shape 3049"/>
              <p:cNvSpPr/>
              <p:nvPr/>
            </p:nvSpPr>
            <p:spPr>
              <a:xfrm>
                <a:off x="11885400" y="3774960"/>
                <a:ext cx="245520" cy="281160"/>
              </a:xfrm>
              <a:custGeom>
                <a:avLst/>
                <a:gdLst>
                  <a:gd name="textAreaLeft" fmla="*/ 0 w 245520"/>
                  <a:gd name="textAreaRight" fmla="*/ 245880 w 245520"/>
                  <a:gd name="textAreaTop" fmla="*/ 0 h 281160"/>
                  <a:gd name="textAreaBottom" fmla="*/ 281520 h 28116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09" name="Shape 3050"/>
              <p:cNvSpPr/>
              <p:nvPr/>
            </p:nvSpPr>
            <p:spPr>
              <a:xfrm>
                <a:off x="11992320" y="4030560"/>
                <a:ext cx="57960" cy="56160"/>
              </a:xfrm>
              <a:custGeom>
                <a:avLst/>
                <a:gdLst>
                  <a:gd name="textAreaLeft" fmla="*/ 0 w 57960"/>
                  <a:gd name="textAreaRight" fmla="*/ 58320 w 57960"/>
                  <a:gd name="textAreaTop" fmla="*/ 0 h 56160"/>
                  <a:gd name="textAreaBottom" fmla="*/ 56520 h 5616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929292"/>
              </a:solidFill>
              <a:ln w="12700">
                <a:noFill/>
              </a:ln>
            </p:spPr>
            <p:style>
              <a:lnRef idx="0"/>
              <a:fillRef idx="0"/>
              <a:effectRef idx="0"/>
              <a:fontRef idx="minor"/>
            </p:style>
            <p:txBody>
              <a:bodyPr numCol="1" spcCol="0" lIns="45720" rIns="45720" tIns="28080" bIns="28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10" name="Shape 3051"/>
              <p:cNvSpPr/>
              <p:nvPr/>
            </p:nvSpPr>
            <p:spPr>
              <a:xfrm>
                <a:off x="11867400" y="4056840"/>
                <a:ext cx="92160" cy="119880"/>
              </a:xfrm>
              <a:custGeom>
                <a:avLst/>
                <a:gdLst>
                  <a:gd name="textAreaLeft" fmla="*/ 0 w 92160"/>
                  <a:gd name="textAreaRight" fmla="*/ 92520 w 92160"/>
                  <a:gd name="textAreaTop" fmla="*/ 0 h 119880"/>
                  <a:gd name="textAreaBottom" fmla="*/ 120240 h 11988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11" name="Shape 3052"/>
              <p:cNvSpPr/>
              <p:nvPr/>
            </p:nvSpPr>
            <p:spPr>
              <a:xfrm>
                <a:off x="11923200" y="4217760"/>
                <a:ext cx="279720" cy="258120"/>
              </a:xfrm>
              <a:custGeom>
                <a:avLst/>
                <a:gdLst>
                  <a:gd name="textAreaLeft" fmla="*/ 0 w 279720"/>
                  <a:gd name="textAreaRight" fmla="*/ 280080 w 279720"/>
                  <a:gd name="textAreaTop" fmla="*/ 0 h 258120"/>
                  <a:gd name="textAreaBottom" fmla="*/ 258480 h 25812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12" name="Shape 3053"/>
              <p:cNvSpPr/>
              <p:nvPr/>
            </p:nvSpPr>
            <p:spPr>
              <a:xfrm>
                <a:off x="12195000" y="4384440"/>
                <a:ext cx="117000" cy="150480"/>
              </a:xfrm>
              <a:custGeom>
                <a:avLst/>
                <a:gdLst>
                  <a:gd name="textAreaLeft" fmla="*/ 0 w 117000"/>
                  <a:gd name="textAreaRight" fmla="*/ 117360 w 117000"/>
                  <a:gd name="textAreaTop" fmla="*/ 0 h 150480"/>
                  <a:gd name="textAreaBottom" fmla="*/ 150840 h 15048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13" name="Shape 3054"/>
              <p:cNvSpPr/>
              <p:nvPr/>
            </p:nvSpPr>
            <p:spPr>
              <a:xfrm>
                <a:off x="12188520" y="4168800"/>
                <a:ext cx="620640" cy="383400"/>
              </a:xfrm>
              <a:custGeom>
                <a:avLst/>
                <a:gdLst>
                  <a:gd name="textAreaLeft" fmla="*/ 0 w 620640"/>
                  <a:gd name="textAreaRight" fmla="*/ 621000 w 620640"/>
                  <a:gd name="textAreaTop" fmla="*/ 0 h 383400"/>
                  <a:gd name="textAreaBottom" fmla="*/ 383760 h 38340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14" name="Shape 3055"/>
              <p:cNvSpPr/>
              <p:nvPr/>
            </p:nvSpPr>
            <p:spPr>
              <a:xfrm>
                <a:off x="12133440" y="3879720"/>
                <a:ext cx="194760" cy="235440"/>
              </a:xfrm>
              <a:custGeom>
                <a:avLst/>
                <a:gdLst>
                  <a:gd name="textAreaLeft" fmla="*/ 0 w 194760"/>
                  <a:gd name="textAreaRight" fmla="*/ 195120 w 194760"/>
                  <a:gd name="textAreaTop" fmla="*/ 0 h 235440"/>
                  <a:gd name="textAreaBottom" fmla="*/ 235800 h 23544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15" name="Shape 3056"/>
              <p:cNvSpPr/>
              <p:nvPr/>
            </p:nvSpPr>
            <p:spPr>
              <a:xfrm>
                <a:off x="12066120" y="3601440"/>
                <a:ext cx="77760" cy="130680"/>
              </a:xfrm>
              <a:custGeom>
                <a:avLst/>
                <a:gdLst>
                  <a:gd name="textAreaLeft" fmla="*/ 0 w 77760"/>
                  <a:gd name="textAreaRight" fmla="*/ 78120 w 77760"/>
                  <a:gd name="textAreaTop" fmla="*/ 0 h 130680"/>
                  <a:gd name="textAreaBottom" fmla="*/ 131040 h 13068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16" name="Shape 3057"/>
              <p:cNvSpPr/>
              <p:nvPr/>
            </p:nvSpPr>
            <p:spPr>
              <a:xfrm>
                <a:off x="12394440" y="4075560"/>
                <a:ext cx="48600" cy="77040"/>
              </a:xfrm>
              <a:custGeom>
                <a:avLst/>
                <a:gdLst>
                  <a:gd name="textAreaLeft" fmla="*/ 0 w 48600"/>
                  <a:gd name="textAreaRight" fmla="*/ 48960 w 48600"/>
                  <a:gd name="textAreaTop" fmla="*/ 0 h 77040"/>
                  <a:gd name="textAreaBottom" fmla="*/ 77400 h 7704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929292"/>
              </a:solidFill>
              <a:ln w="12700">
                <a:noFill/>
              </a:ln>
            </p:spPr>
            <p:style>
              <a:lnRef idx="0"/>
              <a:fillRef idx="0"/>
              <a:effectRef idx="0"/>
              <a:fontRef idx="minor"/>
            </p:style>
            <p:txBody>
              <a:bodyPr numCol="1" spcCol="0" lIns="45720" rIns="45720" tIns="38520" bIns="38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17" name="Shape 3058"/>
              <p:cNvSpPr/>
              <p:nvPr/>
            </p:nvSpPr>
            <p:spPr>
              <a:xfrm>
                <a:off x="12199680" y="2906640"/>
                <a:ext cx="1243800" cy="1403280"/>
              </a:xfrm>
              <a:custGeom>
                <a:avLst/>
                <a:gdLst>
                  <a:gd name="textAreaLeft" fmla="*/ 0 w 1243800"/>
                  <a:gd name="textAreaRight" fmla="*/ 1244160 w 1243800"/>
                  <a:gd name="textAreaTop" fmla="*/ 0 h 1403280"/>
                  <a:gd name="textAreaBottom" fmla="*/ 1403640 h 140328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5" y="428"/>
                    </a:cubicBezTo>
                    <a:cubicBezTo>
                      <a:pt x="16325"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7"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718" name="Group 3061"/>
              <p:cNvGrpSpPr/>
              <p:nvPr/>
            </p:nvGrpSpPr>
            <p:grpSpPr>
              <a:xfrm>
                <a:off x="13050360" y="2749320"/>
                <a:ext cx="2163960" cy="3175200"/>
                <a:chOff x="13050360" y="2749320"/>
                <a:chExt cx="2163960" cy="3175200"/>
              </a:xfrm>
            </p:grpSpPr>
            <p:sp>
              <p:nvSpPr>
                <p:cNvPr id="5719" name="Shape 3059"/>
                <p:cNvSpPr/>
                <p:nvPr/>
              </p:nvSpPr>
              <p:spPr>
                <a:xfrm>
                  <a:off x="13050360" y="2749320"/>
                  <a:ext cx="2163960" cy="3175200"/>
                </a:xfrm>
                <a:custGeom>
                  <a:avLst/>
                  <a:gdLst>
                    <a:gd name="textAreaLeft" fmla="*/ 0 w 2163960"/>
                    <a:gd name="textAreaRight" fmla="*/ 2164320 w 2163960"/>
                    <a:gd name="textAreaTop" fmla="*/ 0 h 3175200"/>
                    <a:gd name="textAreaBottom" fmla="*/ 3175560 h 3175200"/>
                  </a:gdLst>
                  <a:ahLst/>
                  <a:rect l="textAreaLeft" t="textAreaTop" r="textAreaRight" b="textAreaBottom"/>
                  <a:pathLst>
                    <a:path w="21591" h="21592">
                      <a:moveTo>
                        <a:pt x="4094" y="3256"/>
                      </a:moveTo>
                      <a:cubicBezTo>
                        <a:pt x="3964" y="3201"/>
                        <a:pt x="3835" y="3327"/>
                        <a:pt x="3847" y="3424"/>
                      </a:cubicBezTo>
                      <a:cubicBezTo>
                        <a:pt x="3859" y="3521"/>
                        <a:pt x="3952" y="3618"/>
                        <a:pt x="3915" y="3714"/>
                      </a:cubicBezTo>
                      <a:cubicBezTo>
                        <a:pt x="3899" y="3750"/>
                        <a:pt x="3873" y="3783"/>
                        <a:pt x="3848" y="3815"/>
                      </a:cubicBezTo>
                      <a:cubicBezTo>
                        <a:pt x="3822" y="3848"/>
                        <a:pt x="3798" y="3880"/>
                        <a:pt x="3785" y="3916"/>
                      </a:cubicBezTo>
                      <a:cubicBezTo>
                        <a:pt x="3770" y="3950"/>
                        <a:pt x="3788" y="3992"/>
                        <a:pt x="3822" y="4021"/>
                      </a:cubicBezTo>
                      <a:cubicBezTo>
                        <a:pt x="3856" y="4051"/>
                        <a:pt x="3906" y="4068"/>
                        <a:pt x="3952" y="4051"/>
                      </a:cubicBezTo>
                      <a:cubicBezTo>
                        <a:pt x="3875" y="4120"/>
                        <a:pt x="3822" y="4204"/>
                        <a:pt x="3799" y="4293"/>
                      </a:cubicBezTo>
                      <a:cubicBezTo>
                        <a:pt x="3776" y="4382"/>
                        <a:pt x="3782" y="4476"/>
                        <a:pt x="3822" y="4564"/>
                      </a:cubicBezTo>
                      <a:cubicBezTo>
                        <a:pt x="3705" y="4631"/>
                        <a:pt x="3588" y="4438"/>
                        <a:pt x="3434" y="4438"/>
                      </a:cubicBezTo>
                      <a:cubicBezTo>
                        <a:pt x="3372" y="4438"/>
                        <a:pt x="3316" y="4476"/>
                        <a:pt x="3255" y="4492"/>
                      </a:cubicBezTo>
                      <a:cubicBezTo>
                        <a:pt x="3227" y="4505"/>
                        <a:pt x="3187" y="4511"/>
                        <a:pt x="3152" y="4509"/>
                      </a:cubicBezTo>
                      <a:cubicBezTo>
                        <a:pt x="3117" y="4507"/>
                        <a:pt x="3088" y="4497"/>
                        <a:pt x="3082" y="4476"/>
                      </a:cubicBezTo>
                      <a:cubicBezTo>
                        <a:pt x="3057" y="4532"/>
                        <a:pt x="3036" y="4589"/>
                        <a:pt x="3013" y="4646"/>
                      </a:cubicBezTo>
                      <a:cubicBezTo>
                        <a:pt x="2991" y="4703"/>
                        <a:pt x="2968" y="4760"/>
                        <a:pt x="2940" y="4816"/>
                      </a:cubicBezTo>
                      <a:cubicBezTo>
                        <a:pt x="2909" y="4791"/>
                        <a:pt x="2858" y="4780"/>
                        <a:pt x="2804" y="4780"/>
                      </a:cubicBezTo>
                      <a:cubicBezTo>
                        <a:pt x="2749" y="4781"/>
                        <a:pt x="2690" y="4793"/>
                        <a:pt x="2644" y="4816"/>
                      </a:cubicBezTo>
                      <a:cubicBezTo>
                        <a:pt x="2598" y="4837"/>
                        <a:pt x="2565" y="4869"/>
                        <a:pt x="2540" y="4903"/>
                      </a:cubicBezTo>
                      <a:cubicBezTo>
                        <a:pt x="2514" y="4936"/>
                        <a:pt x="2496" y="4972"/>
                        <a:pt x="2477" y="5001"/>
                      </a:cubicBezTo>
                      <a:cubicBezTo>
                        <a:pt x="2450" y="5041"/>
                        <a:pt x="2426" y="5083"/>
                        <a:pt x="2404" y="5126"/>
                      </a:cubicBezTo>
                      <a:cubicBezTo>
                        <a:pt x="2382" y="5168"/>
                        <a:pt x="2360" y="5210"/>
                        <a:pt x="2335" y="5250"/>
                      </a:cubicBezTo>
                      <a:cubicBezTo>
                        <a:pt x="2277" y="5250"/>
                        <a:pt x="2221" y="5250"/>
                        <a:pt x="2166" y="5251"/>
                      </a:cubicBezTo>
                      <a:cubicBezTo>
                        <a:pt x="2110" y="5252"/>
                        <a:pt x="2055" y="5254"/>
                        <a:pt x="1996" y="5258"/>
                      </a:cubicBezTo>
                      <a:cubicBezTo>
                        <a:pt x="2024" y="5321"/>
                        <a:pt x="2008" y="5385"/>
                        <a:pt x="1976" y="5448"/>
                      </a:cubicBezTo>
                      <a:cubicBezTo>
                        <a:pt x="1944" y="5510"/>
                        <a:pt x="1894" y="5571"/>
                        <a:pt x="1854" y="5628"/>
                      </a:cubicBezTo>
                      <a:cubicBezTo>
                        <a:pt x="1817" y="5687"/>
                        <a:pt x="1788" y="5758"/>
                        <a:pt x="1787" y="5823"/>
                      </a:cubicBezTo>
                      <a:cubicBezTo>
                        <a:pt x="1786" y="5889"/>
                        <a:pt x="1814" y="5950"/>
                        <a:pt x="1891" y="5990"/>
                      </a:cubicBezTo>
                      <a:cubicBezTo>
                        <a:pt x="1962" y="5990"/>
                        <a:pt x="2035" y="5995"/>
                        <a:pt x="2106" y="6006"/>
                      </a:cubicBezTo>
                      <a:cubicBezTo>
                        <a:pt x="2177" y="6016"/>
                        <a:pt x="2246" y="6032"/>
                        <a:pt x="2311" y="6053"/>
                      </a:cubicBezTo>
                      <a:cubicBezTo>
                        <a:pt x="2335" y="6036"/>
                        <a:pt x="2360" y="6020"/>
                        <a:pt x="2384" y="6005"/>
                      </a:cubicBezTo>
                      <a:cubicBezTo>
                        <a:pt x="2408" y="5989"/>
                        <a:pt x="2431" y="5973"/>
                        <a:pt x="2453" y="5956"/>
                      </a:cubicBezTo>
                      <a:cubicBezTo>
                        <a:pt x="2554" y="5973"/>
                        <a:pt x="2641" y="6026"/>
                        <a:pt x="2691" y="6092"/>
                      </a:cubicBezTo>
                      <a:cubicBezTo>
                        <a:pt x="2741" y="6158"/>
                        <a:pt x="2755" y="6238"/>
                        <a:pt x="2712" y="6310"/>
                      </a:cubicBezTo>
                      <a:cubicBezTo>
                        <a:pt x="2684" y="6314"/>
                        <a:pt x="2655" y="6318"/>
                        <a:pt x="2625" y="6322"/>
                      </a:cubicBezTo>
                      <a:cubicBezTo>
                        <a:pt x="2596" y="6326"/>
                        <a:pt x="2567" y="6331"/>
                        <a:pt x="2539" y="6335"/>
                      </a:cubicBezTo>
                      <a:cubicBezTo>
                        <a:pt x="2585" y="6362"/>
                        <a:pt x="2632" y="6391"/>
                        <a:pt x="2677" y="6419"/>
                      </a:cubicBezTo>
                      <a:cubicBezTo>
                        <a:pt x="2723" y="6447"/>
                        <a:pt x="2767" y="6476"/>
                        <a:pt x="2811" y="6503"/>
                      </a:cubicBezTo>
                      <a:cubicBezTo>
                        <a:pt x="2761" y="6503"/>
                        <a:pt x="2704" y="6507"/>
                        <a:pt x="2654" y="6520"/>
                      </a:cubicBezTo>
                      <a:cubicBezTo>
                        <a:pt x="2604" y="6534"/>
                        <a:pt x="2561" y="6556"/>
                        <a:pt x="2539" y="6591"/>
                      </a:cubicBezTo>
                      <a:cubicBezTo>
                        <a:pt x="2527" y="6608"/>
                        <a:pt x="2521" y="6626"/>
                        <a:pt x="2517" y="6645"/>
                      </a:cubicBezTo>
                      <a:cubicBezTo>
                        <a:pt x="2514" y="6664"/>
                        <a:pt x="2514" y="6684"/>
                        <a:pt x="2514" y="6705"/>
                      </a:cubicBezTo>
                      <a:cubicBezTo>
                        <a:pt x="2502" y="6865"/>
                        <a:pt x="2379" y="7011"/>
                        <a:pt x="2201" y="7110"/>
                      </a:cubicBezTo>
                      <a:cubicBezTo>
                        <a:pt x="2022" y="7210"/>
                        <a:pt x="1789" y="7262"/>
                        <a:pt x="1558" y="7235"/>
                      </a:cubicBezTo>
                      <a:cubicBezTo>
                        <a:pt x="1546" y="7258"/>
                        <a:pt x="1532" y="7282"/>
                        <a:pt x="1520" y="7307"/>
                      </a:cubicBezTo>
                      <a:cubicBezTo>
                        <a:pt x="1507" y="7331"/>
                        <a:pt x="1496" y="7355"/>
                        <a:pt x="1490" y="7378"/>
                      </a:cubicBezTo>
                      <a:cubicBezTo>
                        <a:pt x="1453" y="7378"/>
                        <a:pt x="1412" y="7374"/>
                        <a:pt x="1370" y="7367"/>
                      </a:cubicBezTo>
                      <a:cubicBezTo>
                        <a:pt x="1328" y="7360"/>
                        <a:pt x="1287" y="7351"/>
                        <a:pt x="1250" y="7340"/>
                      </a:cubicBezTo>
                      <a:cubicBezTo>
                        <a:pt x="1222" y="7408"/>
                        <a:pt x="1182" y="7470"/>
                        <a:pt x="1131" y="7526"/>
                      </a:cubicBezTo>
                      <a:cubicBezTo>
                        <a:pt x="1080" y="7582"/>
                        <a:pt x="1018" y="7633"/>
                        <a:pt x="947" y="7677"/>
                      </a:cubicBezTo>
                      <a:cubicBezTo>
                        <a:pt x="916" y="7673"/>
                        <a:pt x="884" y="7668"/>
                        <a:pt x="853" y="7664"/>
                      </a:cubicBezTo>
                      <a:cubicBezTo>
                        <a:pt x="822" y="7660"/>
                        <a:pt x="793" y="7656"/>
                        <a:pt x="768" y="7651"/>
                      </a:cubicBezTo>
                      <a:cubicBezTo>
                        <a:pt x="651" y="7702"/>
                        <a:pt x="534" y="7765"/>
                        <a:pt x="429" y="7820"/>
                      </a:cubicBezTo>
                      <a:cubicBezTo>
                        <a:pt x="262" y="7908"/>
                        <a:pt x="84" y="7996"/>
                        <a:pt x="16" y="8135"/>
                      </a:cubicBezTo>
                      <a:cubicBezTo>
                        <a:pt x="-9" y="8203"/>
                        <a:pt x="-3" y="8269"/>
                        <a:pt x="18" y="8333"/>
                      </a:cubicBezTo>
                      <a:cubicBezTo>
                        <a:pt x="39" y="8398"/>
                        <a:pt x="74" y="8461"/>
                        <a:pt x="108" y="8522"/>
                      </a:cubicBezTo>
                      <a:cubicBezTo>
                        <a:pt x="145" y="8529"/>
                        <a:pt x="181" y="8534"/>
                        <a:pt x="217" y="8539"/>
                      </a:cubicBezTo>
                      <a:cubicBezTo>
                        <a:pt x="253" y="8543"/>
                        <a:pt x="290" y="8547"/>
                        <a:pt x="330" y="8552"/>
                      </a:cubicBezTo>
                      <a:cubicBezTo>
                        <a:pt x="321" y="8596"/>
                        <a:pt x="307" y="8638"/>
                        <a:pt x="289" y="8678"/>
                      </a:cubicBezTo>
                      <a:cubicBezTo>
                        <a:pt x="272" y="8719"/>
                        <a:pt x="250" y="8758"/>
                        <a:pt x="225" y="8796"/>
                      </a:cubicBezTo>
                      <a:cubicBezTo>
                        <a:pt x="380" y="8840"/>
                        <a:pt x="542" y="8889"/>
                        <a:pt x="681" y="8954"/>
                      </a:cubicBezTo>
                      <a:cubicBezTo>
                        <a:pt x="821" y="9019"/>
                        <a:pt x="938" y="9099"/>
                        <a:pt x="1003" y="9204"/>
                      </a:cubicBezTo>
                      <a:cubicBezTo>
                        <a:pt x="1092" y="9191"/>
                        <a:pt x="1185" y="9177"/>
                        <a:pt x="1278" y="9164"/>
                      </a:cubicBezTo>
                      <a:cubicBezTo>
                        <a:pt x="1371" y="9150"/>
                        <a:pt x="1466" y="9136"/>
                        <a:pt x="1558" y="9124"/>
                      </a:cubicBezTo>
                      <a:cubicBezTo>
                        <a:pt x="1577" y="9107"/>
                        <a:pt x="1600" y="9091"/>
                        <a:pt x="1623" y="9075"/>
                      </a:cubicBezTo>
                      <a:cubicBezTo>
                        <a:pt x="1646" y="9060"/>
                        <a:pt x="1669" y="9044"/>
                        <a:pt x="1688" y="9027"/>
                      </a:cubicBezTo>
                      <a:cubicBezTo>
                        <a:pt x="1811" y="8991"/>
                        <a:pt x="1953" y="8985"/>
                        <a:pt x="2085" y="9005"/>
                      </a:cubicBezTo>
                      <a:cubicBezTo>
                        <a:pt x="2217" y="9025"/>
                        <a:pt x="2339" y="9071"/>
                        <a:pt x="2422" y="9141"/>
                      </a:cubicBezTo>
                      <a:cubicBezTo>
                        <a:pt x="2372" y="9229"/>
                        <a:pt x="2266" y="9303"/>
                        <a:pt x="2138" y="9347"/>
                      </a:cubicBezTo>
                      <a:cubicBezTo>
                        <a:pt x="2010" y="9392"/>
                        <a:pt x="1860" y="9408"/>
                        <a:pt x="1725" y="9380"/>
                      </a:cubicBezTo>
                      <a:cubicBezTo>
                        <a:pt x="1620" y="9364"/>
                        <a:pt x="1521" y="9317"/>
                        <a:pt x="1404" y="9317"/>
                      </a:cubicBezTo>
                      <a:cubicBezTo>
                        <a:pt x="1287" y="9317"/>
                        <a:pt x="1157" y="9372"/>
                        <a:pt x="1182" y="9452"/>
                      </a:cubicBezTo>
                      <a:cubicBezTo>
                        <a:pt x="1077" y="9492"/>
                        <a:pt x="967" y="9520"/>
                        <a:pt x="855" y="9536"/>
                      </a:cubicBezTo>
                      <a:cubicBezTo>
                        <a:pt x="742" y="9553"/>
                        <a:pt x="626" y="9557"/>
                        <a:pt x="509" y="9549"/>
                      </a:cubicBezTo>
                      <a:cubicBezTo>
                        <a:pt x="497" y="9584"/>
                        <a:pt x="488" y="9619"/>
                        <a:pt x="478" y="9653"/>
                      </a:cubicBezTo>
                      <a:cubicBezTo>
                        <a:pt x="468" y="9686"/>
                        <a:pt x="457" y="9719"/>
                        <a:pt x="441" y="9750"/>
                      </a:cubicBezTo>
                      <a:cubicBezTo>
                        <a:pt x="552" y="9786"/>
                        <a:pt x="673" y="9828"/>
                        <a:pt x="770" y="9881"/>
                      </a:cubicBezTo>
                      <a:cubicBezTo>
                        <a:pt x="867" y="9935"/>
                        <a:pt x="941" y="9999"/>
                        <a:pt x="960" y="10079"/>
                      </a:cubicBezTo>
                      <a:cubicBezTo>
                        <a:pt x="1031" y="10047"/>
                        <a:pt x="1115" y="10031"/>
                        <a:pt x="1200" y="10031"/>
                      </a:cubicBezTo>
                      <a:cubicBezTo>
                        <a:pt x="1285" y="10031"/>
                        <a:pt x="1370" y="10047"/>
                        <a:pt x="1441" y="10079"/>
                      </a:cubicBezTo>
                      <a:cubicBezTo>
                        <a:pt x="1388" y="10119"/>
                        <a:pt x="1333" y="10155"/>
                        <a:pt x="1278" y="10192"/>
                      </a:cubicBezTo>
                      <a:cubicBezTo>
                        <a:pt x="1223" y="10229"/>
                        <a:pt x="1169" y="10266"/>
                        <a:pt x="1120" y="10306"/>
                      </a:cubicBezTo>
                      <a:cubicBezTo>
                        <a:pt x="1145" y="10289"/>
                        <a:pt x="1177" y="10293"/>
                        <a:pt x="1205" y="10307"/>
                      </a:cubicBezTo>
                      <a:cubicBezTo>
                        <a:pt x="1233" y="10322"/>
                        <a:pt x="1256" y="10346"/>
                        <a:pt x="1262" y="10369"/>
                      </a:cubicBezTo>
                      <a:cubicBezTo>
                        <a:pt x="1274" y="10411"/>
                        <a:pt x="1250" y="10466"/>
                        <a:pt x="1274" y="10508"/>
                      </a:cubicBezTo>
                      <a:cubicBezTo>
                        <a:pt x="1287" y="10529"/>
                        <a:pt x="1324" y="10546"/>
                        <a:pt x="1348" y="10562"/>
                      </a:cubicBezTo>
                      <a:cubicBezTo>
                        <a:pt x="1512" y="10642"/>
                        <a:pt x="1697" y="10722"/>
                        <a:pt x="1885" y="10765"/>
                      </a:cubicBezTo>
                      <a:cubicBezTo>
                        <a:pt x="2073" y="10808"/>
                        <a:pt x="2265" y="10815"/>
                        <a:pt x="2440" y="10747"/>
                      </a:cubicBezTo>
                      <a:cubicBezTo>
                        <a:pt x="2447" y="10716"/>
                        <a:pt x="2453" y="10683"/>
                        <a:pt x="2459" y="10651"/>
                      </a:cubicBezTo>
                      <a:cubicBezTo>
                        <a:pt x="2465" y="10618"/>
                        <a:pt x="2471" y="10585"/>
                        <a:pt x="2477" y="10554"/>
                      </a:cubicBezTo>
                      <a:cubicBezTo>
                        <a:pt x="2669" y="10520"/>
                        <a:pt x="2798" y="10684"/>
                        <a:pt x="2996" y="10714"/>
                      </a:cubicBezTo>
                      <a:cubicBezTo>
                        <a:pt x="3113" y="10731"/>
                        <a:pt x="3224" y="10676"/>
                        <a:pt x="3341" y="10667"/>
                      </a:cubicBezTo>
                      <a:cubicBezTo>
                        <a:pt x="3412" y="10659"/>
                        <a:pt x="3485" y="10661"/>
                        <a:pt x="3555" y="10669"/>
                      </a:cubicBezTo>
                      <a:cubicBezTo>
                        <a:pt x="3625" y="10677"/>
                        <a:pt x="3693" y="10691"/>
                        <a:pt x="3754" y="10705"/>
                      </a:cubicBezTo>
                      <a:cubicBezTo>
                        <a:pt x="4248" y="10802"/>
                        <a:pt x="4803" y="10916"/>
                        <a:pt x="5050" y="11223"/>
                      </a:cubicBezTo>
                      <a:cubicBezTo>
                        <a:pt x="5192" y="11399"/>
                        <a:pt x="5204" y="11614"/>
                        <a:pt x="5223" y="11807"/>
                      </a:cubicBezTo>
                      <a:cubicBezTo>
                        <a:pt x="5306" y="11833"/>
                        <a:pt x="5377" y="11879"/>
                        <a:pt x="5423" y="11934"/>
                      </a:cubicBezTo>
                      <a:cubicBezTo>
                        <a:pt x="5470" y="11989"/>
                        <a:pt x="5491" y="12054"/>
                        <a:pt x="5476" y="12115"/>
                      </a:cubicBezTo>
                      <a:cubicBezTo>
                        <a:pt x="5463" y="12211"/>
                        <a:pt x="5426" y="12300"/>
                        <a:pt x="5426" y="12396"/>
                      </a:cubicBezTo>
                      <a:cubicBezTo>
                        <a:pt x="5426" y="12426"/>
                        <a:pt x="5426" y="12459"/>
                        <a:pt x="5451" y="12476"/>
                      </a:cubicBezTo>
                      <a:cubicBezTo>
                        <a:pt x="5457" y="12485"/>
                        <a:pt x="5471" y="12494"/>
                        <a:pt x="5485" y="12505"/>
                      </a:cubicBezTo>
                      <a:cubicBezTo>
                        <a:pt x="5499" y="12515"/>
                        <a:pt x="5513" y="12527"/>
                        <a:pt x="5519" y="12539"/>
                      </a:cubicBezTo>
                      <a:cubicBezTo>
                        <a:pt x="5531" y="12560"/>
                        <a:pt x="5524" y="12581"/>
                        <a:pt x="5510" y="12602"/>
                      </a:cubicBezTo>
                      <a:cubicBezTo>
                        <a:pt x="5496" y="12622"/>
                        <a:pt x="5476" y="12642"/>
                        <a:pt x="5463" y="12661"/>
                      </a:cubicBezTo>
                      <a:cubicBezTo>
                        <a:pt x="5430" y="12703"/>
                        <a:pt x="5423" y="12757"/>
                        <a:pt x="5440" y="12808"/>
                      </a:cubicBezTo>
                      <a:cubicBezTo>
                        <a:pt x="5457" y="12858"/>
                        <a:pt x="5497" y="12905"/>
                        <a:pt x="5556" y="12935"/>
                      </a:cubicBezTo>
                      <a:cubicBezTo>
                        <a:pt x="5575" y="12945"/>
                        <a:pt x="5598" y="12955"/>
                        <a:pt x="5619" y="12966"/>
                      </a:cubicBezTo>
                      <a:cubicBezTo>
                        <a:pt x="5641" y="12977"/>
                        <a:pt x="5661" y="12989"/>
                        <a:pt x="5673" y="13006"/>
                      </a:cubicBezTo>
                      <a:cubicBezTo>
                        <a:pt x="5686" y="13032"/>
                        <a:pt x="5686" y="13061"/>
                        <a:pt x="5686" y="13086"/>
                      </a:cubicBezTo>
                      <a:cubicBezTo>
                        <a:pt x="5686" y="13351"/>
                        <a:pt x="5908" y="13608"/>
                        <a:pt x="5828" y="13873"/>
                      </a:cubicBezTo>
                      <a:cubicBezTo>
                        <a:pt x="5803" y="13953"/>
                        <a:pt x="5766" y="14058"/>
                        <a:pt x="5865" y="14100"/>
                      </a:cubicBezTo>
                      <a:cubicBezTo>
                        <a:pt x="5908" y="14117"/>
                        <a:pt x="5969" y="14129"/>
                        <a:pt x="5994" y="14163"/>
                      </a:cubicBezTo>
                      <a:cubicBezTo>
                        <a:pt x="6013" y="14188"/>
                        <a:pt x="5994" y="14218"/>
                        <a:pt x="5994" y="14243"/>
                      </a:cubicBezTo>
                      <a:cubicBezTo>
                        <a:pt x="5957" y="14340"/>
                        <a:pt x="5965" y="14443"/>
                        <a:pt x="6010" y="14538"/>
                      </a:cubicBezTo>
                      <a:cubicBezTo>
                        <a:pt x="6056" y="14634"/>
                        <a:pt x="6139" y="14722"/>
                        <a:pt x="6253" y="14790"/>
                      </a:cubicBezTo>
                      <a:cubicBezTo>
                        <a:pt x="6269" y="14798"/>
                        <a:pt x="6283" y="14805"/>
                        <a:pt x="6297" y="14809"/>
                      </a:cubicBezTo>
                      <a:cubicBezTo>
                        <a:pt x="6312" y="14813"/>
                        <a:pt x="6327" y="14815"/>
                        <a:pt x="6346" y="14815"/>
                      </a:cubicBezTo>
                      <a:cubicBezTo>
                        <a:pt x="6380" y="14819"/>
                        <a:pt x="6409" y="14809"/>
                        <a:pt x="6433" y="14791"/>
                      </a:cubicBezTo>
                      <a:cubicBezTo>
                        <a:pt x="6457" y="14774"/>
                        <a:pt x="6475" y="14750"/>
                        <a:pt x="6488" y="14727"/>
                      </a:cubicBezTo>
                      <a:cubicBezTo>
                        <a:pt x="6494" y="14706"/>
                        <a:pt x="6497" y="14684"/>
                        <a:pt x="6500" y="14660"/>
                      </a:cubicBezTo>
                      <a:cubicBezTo>
                        <a:pt x="6503" y="14637"/>
                        <a:pt x="6506" y="14613"/>
                        <a:pt x="6512" y="14588"/>
                      </a:cubicBezTo>
                      <a:cubicBezTo>
                        <a:pt x="6559" y="14573"/>
                        <a:pt x="6611" y="14584"/>
                        <a:pt x="6647" y="14606"/>
                      </a:cubicBezTo>
                      <a:cubicBezTo>
                        <a:pt x="6684" y="14628"/>
                        <a:pt x="6704" y="14661"/>
                        <a:pt x="6685" y="14693"/>
                      </a:cubicBezTo>
                      <a:cubicBezTo>
                        <a:pt x="6670" y="14714"/>
                        <a:pt x="6640" y="14732"/>
                        <a:pt x="6613" y="14751"/>
                      </a:cubicBezTo>
                      <a:cubicBezTo>
                        <a:pt x="6586" y="14770"/>
                        <a:pt x="6562" y="14790"/>
                        <a:pt x="6556" y="14815"/>
                      </a:cubicBezTo>
                      <a:cubicBezTo>
                        <a:pt x="6525" y="14878"/>
                        <a:pt x="6617" y="14941"/>
                        <a:pt x="6722" y="14941"/>
                      </a:cubicBezTo>
                      <a:cubicBezTo>
                        <a:pt x="6827" y="14941"/>
                        <a:pt x="6901" y="14903"/>
                        <a:pt x="6981" y="14861"/>
                      </a:cubicBezTo>
                      <a:cubicBezTo>
                        <a:pt x="7098" y="14887"/>
                        <a:pt x="7185" y="14953"/>
                        <a:pt x="7230" y="15031"/>
                      </a:cubicBezTo>
                      <a:cubicBezTo>
                        <a:pt x="7274" y="15109"/>
                        <a:pt x="7277" y="15200"/>
                        <a:pt x="7228" y="15274"/>
                      </a:cubicBezTo>
                      <a:cubicBezTo>
                        <a:pt x="7111" y="15261"/>
                        <a:pt x="6997" y="15239"/>
                        <a:pt x="6888" y="15209"/>
                      </a:cubicBezTo>
                      <a:cubicBezTo>
                        <a:pt x="6779" y="15179"/>
                        <a:pt x="6676" y="15141"/>
                        <a:pt x="6580" y="15097"/>
                      </a:cubicBezTo>
                      <a:cubicBezTo>
                        <a:pt x="6451" y="15088"/>
                        <a:pt x="6383" y="15202"/>
                        <a:pt x="6383" y="15290"/>
                      </a:cubicBezTo>
                      <a:cubicBezTo>
                        <a:pt x="6383" y="15379"/>
                        <a:pt x="6426" y="15488"/>
                        <a:pt x="6321" y="15547"/>
                      </a:cubicBezTo>
                      <a:cubicBezTo>
                        <a:pt x="6266" y="15585"/>
                        <a:pt x="6167" y="15602"/>
                        <a:pt x="6167" y="15652"/>
                      </a:cubicBezTo>
                      <a:cubicBezTo>
                        <a:pt x="6167" y="15682"/>
                        <a:pt x="6192" y="15707"/>
                        <a:pt x="6204" y="15724"/>
                      </a:cubicBezTo>
                      <a:cubicBezTo>
                        <a:pt x="6256" y="15772"/>
                        <a:pt x="6295" y="15826"/>
                        <a:pt x="6322" y="15882"/>
                      </a:cubicBezTo>
                      <a:cubicBezTo>
                        <a:pt x="6349" y="15939"/>
                        <a:pt x="6364" y="15999"/>
                        <a:pt x="6370" y="16060"/>
                      </a:cubicBezTo>
                      <a:cubicBezTo>
                        <a:pt x="6370" y="16077"/>
                        <a:pt x="6370" y="16095"/>
                        <a:pt x="6374" y="16112"/>
                      </a:cubicBezTo>
                      <a:cubicBezTo>
                        <a:pt x="6377" y="16128"/>
                        <a:pt x="6383" y="16144"/>
                        <a:pt x="6395" y="16157"/>
                      </a:cubicBezTo>
                      <a:cubicBezTo>
                        <a:pt x="6429" y="16197"/>
                        <a:pt x="6491" y="16213"/>
                        <a:pt x="6560" y="16214"/>
                      </a:cubicBezTo>
                      <a:cubicBezTo>
                        <a:pt x="6630" y="16215"/>
                        <a:pt x="6707" y="16201"/>
                        <a:pt x="6771" y="16182"/>
                      </a:cubicBezTo>
                      <a:cubicBezTo>
                        <a:pt x="6812" y="16174"/>
                        <a:pt x="6850" y="16163"/>
                        <a:pt x="6890" y="16153"/>
                      </a:cubicBezTo>
                      <a:cubicBezTo>
                        <a:pt x="6930" y="16142"/>
                        <a:pt x="6972" y="16132"/>
                        <a:pt x="7018" y="16123"/>
                      </a:cubicBezTo>
                      <a:cubicBezTo>
                        <a:pt x="7037" y="16119"/>
                        <a:pt x="7057" y="16112"/>
                        <a:pt x="7074" y="16102"/>
                      </a:cubicBezTo>
                      <a:cubicBezTo>
                        <a:pt x="7091" y="16093"/>
                        <a:pt x="7105" y="16081"/>
                        <a:pt x="7111" y="16069"/>
                      </a:cubicBezTo>
                      <a:cubicBezTo>
                        <a:pt x="7117" y="16052"/>
                        <a:pt x="7108" y="16034"/>
                        <a:pt x="7100" y="16017"/>
                      </a:cubicBezTo>
                      <a:cubicBezTo>
                        <a:pt x="7092" y="16000"/>
                        <a:pt x="7086" y="15984"/>
                        <a:pt x="7098" y="15972"/>
                      </a:cubicBezTo>
                      <a:cubicBezTo>
                        <a:pt x="7105" y="15963"/>
                        <a:pt x="7114" y="15959"/>
                        <a:pt x="7125" y="15957"/>
                      </a:cubicBezTo>
                      <a:cubicBezTo>
                        <a:pt x="7135" y="15955"/>
                        <a:pt x="7148" y="15955"/>
                        <a:pt x="7160" y="15955"/>
                      </a:cubicBezTo>
                      <a:cubicBezTo>
                        <a:pt x="7206" y="15951"/>
                        <a:pt x="7248" y="15947"/>
                        <a:pt x="7290" y="15942"/>
                      </a:cubicBezTo>
                      <a:cubicBezTo>
                        <a:pt x="7331" y="15937"/>
                        <a:pt x="7373" y="15932"/>
                        <a:pt x="7419" y="15926"/>
                      </a:cubicBezTo>
                      <a:cubicBezTo>
                        <a:pt x="7459" y="15997"/>
                        <a:pt x="7495" y="16077"/>
                        <a:pt x="7501" y="16152"/>
                      </a:cubicBezTo>
                      <a:cubicBezTo>
                        <a:pt x="7507" y="16227"/>
                        <a:pt x="7484" y="16298"/>
                        <a:pt x="7407" y="16350"/>
                      </a:cubicBezTo>
                      <a:cubicBezTo>
                        <a:pt x="7459" y="16342"/>
                        <a:pt x="7498" y="16366"/>
                        <a:pt x="7517" y="16400"/>
                      </a:cubicBezTo>
                      <a:cubicBezTo>
                        <a:pt x="7537" y="16435"/>
                        <a:pt x="7537" y="16479"/>
                        <a:pt x="7512" y="16510"/>
                      </a:cubicBezTo>
                      <a:cubicBezTo>
                        <a:pt x="7484" y="16542"/>
                        <a:pt x="7449" y="16570"/>
                        <a:pt x="7417" y="16600"/>
                      </a:cubicBezTo>
                      <a:cubicBezTo>
                        <a:pt x="7385" y="16629"/>
                        <a:pt x="7358" y="16660"/>
                        <a:pt x="7345" y="16695"/>
                      </a:cubicBezTo>
                      <a:cubicBezTo>
                        <a:pt x="7280" y="16683"/>
                        <a:pt x="7213" y="16669"/>
                        <a:pt x="7145" y="16655"/>
                      </a:cubicBezTo>
                      <a:cubicBezTo>
                        <a:pt x="7077" y="16642"/>
                        <a:pt x="7009" y="16628"/>
                        <a:pt x="6944" y="16615"/>
                      </a:cubicBezTo>
                      <a:cubicBezTo>
                        <a:pt x="6910" y="16611"/>
                        <a:pt x="6876" y="16605"/>
                        <a:pt x="6845" y="16602"/>
                      </a:cubicBezTo>
                      <a:cubicBezTo>
                        <a:pt x="6813" y="16599"/>
                        <a:pt x="6784" y="16599"/>
                        <a:pt x="6759" y="16607"/>
                      </a:cubicBezTo>
                      <a:cubicBezTo>
                        <a:pt x="6731" y="16615"/>
                        <a:pt x="6708" y="16635"/>
                        <a:pt x="6699" y="16656"/>
                      </a:cubicBezTo>
                      <a:cubicBezTo>
                        <a:pt x="6690" y="16677"/>
                        <a:pt x="6694" y="16700"/>
                        <a:pt x="6722" y="16712"/>
                      </a:cubicBezTo>
                      <a:cubicBezTo>
                        <a:pt x="6747" y="16704"/>
                        <a:pt x="6768" y="16710"/>
                        <a:pt x="6782" y="16723"/>
                      </a:cubicBezTo>
                      <a:cubicBezTo>
                        <a:pt x="6796" y="16736"/>
                        <a:pt x="6802" y="16756"/>
                        <a:pt x="6796" y="16775"/>
                      </a:cubicBezTo>
                      <a:cubicBezTo>
                        <a:pt x="6787" y="16792"/>
                        <a:pt x="6775" y="16808"/>
                        <a:pt x="6761" y="16823"/>
                      </a:cubicBezTo>
                      <a:cubicBezTo>
                        <a:pt x="6748" y="16837"/>
                        <a:pt x="6734" y="16851"/>
                        <a:pt x="6722" y="16864"/>
                      </a:cubicBezTo>
                      <a:cubicBezTo>
                        <a:pt x="6676" y="16908"/>
                        <a:pt x="6656" y="16960"/>
                        <a:pt x="6653" y="17015"/>
                      </a:cubicBezTo>
                      <a:cubicBezTo>
                        <a:pt x="6650" y="17070"/>
                        <a:pt x="6663" y="17126"/>
                        <a:pt x="6685" y="17179"/>
                      </a:cubicBezTo>
                      <a:cubicBezTo>
                        <a:pt x="6710" y="17291"/>
                        <a:pt x="6687" y="17410"/>
                        <a:pt x="6669" y="17529"/>
                      </a:cubicBezTo>
                      <a:cubicBezTo>
                        <a:pt x="6651" y="17647"/>
                        <a:pt x="6639" y="17764"/>
                        <a:pt x="6685" y="17869"/>
                      </a:cubicBezTo>
                      <a:cubicBezTo>
                        <a:pt x="6716" y="17957"/>
                        <a:pt x="6767" y="18048"/>
                        <a:pt x="6798" y="18137"/>
                      </a:cubicBezTo>
                      <a:cubicBezTo>
                        <a:pt x="6830" y="18226"/>
                        <a:pt x="6842" y="18315"/>
                        <a:pt x="6796" y="18399"/>
                      </a:cubicBezTo>
                      <a:cubicBezTo>
                        <a:pt x="6824" y="18407"/>
                        <a:pt x="6847" y="18414"/>
                        <a:pt x="6870" y="18420"/>
                      </a:cubicBezTo>
                      <a:cubicBezTo>
                        <a:pt x="6893" y="18426"/>
                        <a:pt x="6916" y="18433"/>
                        <a:pt x="6944" y="18441"/>
                      </a:cubicBezTo>
                      <a:cubicBezTo>
                        <a:pt x="6994" y="18592"/>
                        <a:pt x="7048" y="18741"/>
                        <a:pt x="7102" y="18888"/>
                      </a:cubicBezTo>
                      <a:cubicBezTo>
                        <a:pt x="7157" y="19036"/>
                        <a:pt x="7213" y="19183"/>
                        <a:pt x="7265" y="19333"/>
                      </a:cubicBezTo>
                      <a:cubicBezTo>
                        <a:pt x="7271" y="19352"/>
                        <a:pt x="7277" y="19372"/>
                        <a:pt x="7287" y="19390"/>
                      </a:cubicBezTo>
                      <a:cubicBezTo>
                        <a:pt x="7296" y="19408"/>
                        <a:pt x="7308" y="19425"/>
                        <a:pt x="7327" y="19438"/>
                      </a:cubicBezTo>
                      <a:cubicBezTo>
                        <a:pt x="7342" y="19453"/>
                        <a:pt x="7362" y="19462"/>
                        <a:pt x="7380" y="19472"/>
                      </a:cubicBezTo>
                      <a:cubicBezTo>
                        <a:pt x="7398" y="19482"/>
                        <a:pt x="7413" y="19493"/>
                        <a:pt x="7419" y="19509"/>
                      </a:cubicBezTo>
                      <a:cubicBezTo>
                        <a:pt x="7444" y="19547"/>
                        <a:pt x="7432" y="19581"/>
                        <a:pt x="7432" y="19615"/>
                      </a:cubicBezTo>
                      <a:cubicBezTo>
                        <a:pt x="7432" y="19749"/>
                        <a:pt x="7617" y="19846"/>
                        <a:pt x="7734" y="19959"/>
                      </a:cubicBezTo>
                      <a:cubicBezTo>
                        <a:pt x="7796" y="20023"/>
                        <a:pt x="7837" y="20091"/>
                        <a:pt x="7870" y="20162"/>
                      </a:cubicBezTo>
                      <a:cubicBezTo>
                        <a:pt x="7902" y="20234"/>
                        <a:pt x="7925" y="20309"/>
                        <a:pt x="7950" y="20384"/>
                      </a:cubicBezTo>
                      <a:cubicBezTo>
                        <a:pt x="7984" y="20384"/>
                        <a:pt x="8013" y="20386"/>
                        <a:pt x="8042" y="20389"/>
                      </a:cubicBezTo>
                      <a:cubicBezTo>
                        <a:pt x="8072" y="20391"/>
                        <a:pt x="8101" y="20393"/>
                        <a:pt x="8135" y="20393"/>
                      </a:cubicBezTo>
                      <a:cubicBezTo>
                        <a:pt x="8101" y="20441"/>
                        <a:pt x="8107" y="20492"/>
                        <a:pt x="8133" y="20541"/>
                      </a:cubicBezTo>
                      <a:cubicBezTo>
                        <a:pt x="8158" y="20590"/>
                        <a:pt x="8203" y="20639"/>
                        <a:pt x="8246" y="20683"/>
                      </a:cubicBezTo>
                      <a:cubicBezTo>
                        <a:pt x="8292" y="20723"/>
                        <a:pt x="8339" y="20763"/>
                        <a:pt x="8383" y="20803"/>
                      </a:cubicBezTo>
                      <a:cubicBezTo>
                        <a:pt x="8426" y="20843"/>
                        <a:pt x="8468" y="20883"/>
                        <a:pt x="8505" y="20923"/>
                      </a:cubicBezTo>
                      <a:cubicBezTo>
                        <a:pt x="8564" y="20975"/>
                        <a:pt x="8629" y="21032"/>
                        <a:pt x="8705" y="21077"/>
                      </a:cubicBezTo>
                      <a:cubicBezTo>
                        <a:pt x="8781" y="21122"/>
                        <a:pt x="8869" y="21154"/>
                        <a:pt x="8974" y="21158"/>
                      </a:cubicBezTo>
                      <a:cubicBezTo>
                        <a:pt x="8999" y="21133"/>
                        <a:pt x="9043" y="21127"/>
                        <a:pt x="9092" y="21130"/>
                      </a:cubicBezTo>
                      <a:cubicBezTo>
                        <a:pt x="9141" y="21133"/>
                        <a:pt x="9193" y="21146"/>
                        <a:pt x="9233" y="21158"/>
                      </a:cubicBezTo>
                      <a:cubicBezTo>
                        <a:pt x="9329" y="21194"/>
                        <a:pt x="9429" y="21232"/>
                        <a:pt x="9523" y="21275"/>
                      </a:cubicBezTo>
                      <a:cubicBezTo>
                        <a:pt x="9617" y="21318"/>
                        <a:pt x="9705" y="21367"/>
                        <a:pt x="9776" y="21423"/>
                      </a:cubicBezTo>
                      <a:cubicBezTo>
                        <a:pt x="9869" y="21495"/>
                        <a:pt x="9943" y="21583"/>
                        <a:pt x="10072" y="21592"/>
                      </a:cubicBezTo>
                      <a:cubicBezTo>
                        <a:pt x="10202" y="21600"/>
                        <a:pt x="10313" y="21533"/>
                        <a:pt x="10356" y="21444"/>
                      </a:cubicBezTo>
                      <a:cubicBezTo>
                        <a:pt x="10375" y="21400"/>
                        <a:pt x="10378" y="21356"/>
                        <a:pt x="10373" y="21312"/>
                      </a:cubicBezTo>
                      <a:cubicBezTo>
                        <a:pt x="10368" y="21268"/>
                        <a:pt x="10356" y="21224"/>
                        <a:pt x="10344" y="21179"/>
                      </a:cubicBezTo>
                      <a:cubicBezTo>
                        <a:pt x="10365" y="21175"/>
                        <a:pt x="10385" y="21173"/>
                        <a:pt x="10406" y="21170"/>
                      </a:cubicBezTo>
                      <a:cubicBezTo>
                        <a:pt x="10427" y="21168"/>
                        <a:pt x="10449" y="21165"/>
                        <a:pt x="10473" y="21158"/>
                      </a:cubicBezTo>
                      <a:cubicBezTo>
                        <a:pt x="10479" y="21106"/>
                        <a:pt x="10483" y="21051"/>
                        <a:pt x="10486" y="20996"/>
                      </a:cubicBezTo>
                      <a:cubicBezTo>
                        <a:pt x="10489" y="20942"/>
                        <a:pt x="10492" y="20887"/>
                        <a:pt x="10498" y="20834"/>
                      </a:cubicBezTo>
                      <a:cubicBezTo>
                        <a:pt x="10507" y="20816"/>
                        <a:pt x="10515" y="20796"/>
                        <a:pt x="10522" y="20776"/>
                      </a:cubicBezTo>
                      <a:cubicBezTo>
                        <a:pt x="10529" y="20757"/>
                        <a:pt x="10535" y="20738"/>
                        <a:pt x="10541" y="20721"/>
                      </a:cubicBezTo>
                      <a:cubicBezTo>
                        <a:pt x="10566" y="20637"/>
                        <a:pt x="10587" y="20546"/>
                        <a:pt x="10582" y="20462"/>
                      </a:cubicBezTo>
                      <a:cubicBezTo>
                        <a:pt x="10577" y="20378"/>
                        <a:pt x="10544" y="20300"/>
                        <a:pt x="10461" y="20241"/>
                      </a:cubicBezTo>
                      <a:cubicBezTo>
                        <a:pt x="10479" y="20237"/>
                        <a:pt x="10499" y="20231"/>
                        <a:pt x="10520" y="20224"/>
                      </a:cubicBezTo>
                      <a:cubicBezTo>
                        <a:pt x="10540" y="20218"/>
                        <a:pt x="10560" y="20212"/>
                        <a:pt x="10578" y="20208"/>
                      </a:cubicBezTo>
                      <a:cubicBezTo>
                        <a:pt x="10646" y="20145"/>
                        <a:pt x="10708" y="20086"/>
                        <a:pt x="10769" y="20031"/>
                      </a:cubicBezTo>
                      <a:cubicBezTo>
                        <a:pt x="11047" y="19791"/>
                        <a:pt x="11331" y="19493"/>
                        <a:pt x="11201" y="19202"/>
                      </a:cubicBezTo>
                      <a:cubicBezTo>
                        <a:pt x="11220" y="19207"/>
                        <a:pt x="11238" y="19209"/>
                        <a:pt x="11258" y="19211"/>
                      </a:cubicBezTo>
                      <a:cubicBezTo>
                        <a:pt x="11277" y="19213"/>
                        <a:pt x="11297" y="19215"/>
                        <a:pt x="11319" y="19219"/>
                      </a:cubicBezTo>
                      <a:cubicBezTo>
                        <a:pt x="11312" y="19158"/>
                        <a:pt x="11292" y="19096"/>
                        <a:pt x="11262" y="19037"/>
                      </a:cubicBezTo>
                      <a:cubicBezTo>
                        <a:pt x="11232" y="18978"/>
                        <a:pt x="11192" y="18923"/>
                        <a:pt x="11146" y="18874"/>
                      </a:cubicBezTo>
                      <a:cubicBezTo>
                        <a:pt x="11192" y="18883"/>
                        <a:pt x="11241" y="18892"/>
                        <a:pt x="11290" y="18895"/>
                      </a:cubicBezTo>
                      <a:cubicBezTo>
                        <a:pt x="11339" y="18897"/>
                        <a:pt x="11386" y="18893"/>
                        <a:pt x="11430" y="18874"/>
                      </a:cubicBezTo>
                      <a:cubicBezTo>
                        <a:pt x="11522" y="18838"/>
                        <a:pt x="11554" y="18760"/>
                        <a:pt x="11590" y="18686"/>
                      </a:cubicBezTo>
                      <a:cubicBezTo>
                        <a:pt x="11625" y="18612"/>
                        <a:pt x="11664" y="18544"/>
                        <a:pt x="11769" y="18529"/>
                      </a:cubicBezTo>
                      <a:cubicBezTo>
                        <a:pt x="11794" y="18548"/>
                        <a:pt x="11820" y="18564"/>
                        <a:pt x="11848" y="18577"/>
                      </a:cubicBezTo>
                      <a:cubicBezTo>
                        <a:pt x="11875" y="18590"/>
                        <a:pt x="11905" y="18601"/>
                        <a:pt x="11935" y="18609"/>
                      </a:cubicBezTo>
                      <a:cubicBezTo>
                        <a:pt x="11942" y="18561"/>
                        <a:pt x="11959" y="18515"/>
                        <a:pt x="11983" y="18470"/>
                      </a:cubicBezTo>
                      <a:cubicBezTo>
                        <a:pt x="12008" y="18426"/>
                        <a:pt x="12040" y="18384"/>
                        <a:pt x="12077" y="18344"/>
                      </a:cubicBezTo>
                      <a:cubicBezTo>
                        <a:pt x="12105" y="18384"/>
                        <a:pt x="12125" y="18426"/>
                        <a:pt x="12138" y="18470"/>
                      </a:cubicBezTo>
                      <a:cubicBezTo>
                        <a:pt x="12151" y="18515"/>
                        <a:pt x="12158" y="18561"/>
                        <a:pt x="12158" y="18609"/>
                      </a:cubicBezTo>
                      <a:cubicBezTo>
                        <a:pt x="12176" y="18584"/>
                        <a:pt x="12218" y="18578"/>
                        <a:pt x="12266" y="18578"/>
                      </a:cubicBezTo>
                      <a:cubicBezTo>
                        <a:pt x="12315" y="18578"/>
                        <a:pt x="12370" y="18584"/>
                        <a:pt x="12417" y="18584"/>
                      </a:cubicBezTo>
                      <a:cubicBezTo>
                        <a:pt x="12506" y="18588"/>
                        <a:pt x="12586" y="18555"/>
                        <a:pt x="12637" y="18506"/>
                      </a:cubicBezTo>
                      <a:cubicBezTo>
                        <a:pt x="12687" y="18457"/>
                        <a:pt x="12707" y="18393"/>
                        <a:pt x="12676" y="18336"/>
                      </a:cubicBezTo>
                      <a:cubicBezTo>
                        <a:pt x="12707" y="18327"/>
                        <a:pt x="12745" y="18323"/>
                        <a:pt x="12785" y="18325"/>
                      </a:cubicBezTo>
                      <a:cubicBezTo>
                        <a:pt x="12824" y="18327"/>
                        <a:pt x="12864" y="18336"/>
                        <a:pt x="12898" y="18353"/>
                      </a:cubicBezTo>
                      <a:cubicBezTo>
                        <a:pt x="12935" y="18304"/>
                        <a:pt x="12983" y="18263"/>
                        <a:pt x="13039" y="18229"/>
                      </a:cubicBezTo>
                      <a:cubicBezTo>
                        <a:pt x="13095" y="18194"/>
                        <a:pt x="13160" y="18165"/>
                        <a:pt x="13231" y="18142"/>
                      </a:cubicBezTo>
                      <a:cubicBezTo>
                        <a:pt x="13250" y="18138"/>
                        <a:pt x="13270" y="18132"/>
                        <a:pt x="13288" y="18124"/>
                      </a:cubicBezTo>
                      <a:cubicBezTo>
                        <a:pt x="13307" y="18117"/>
                        <a:pt x="13324" y="18109"/>
                        <a:pt x="13336" y="18100"/>
                      </a:cubicBezTo>
                      <a:cubicBezTo>
                        <a:pt x="13348" y="18090"/>
                        <a:pt x="13358" y="18078"/>
                        <a:pt x="13365" y="18066"/>
                      </a:cubicBezTo>
                      <a:cubicBezTo>
                        <a:pt x="13373" y="18054"/>
                        <a:pt x="13379" y="18041"/>
                        <a:pt x="13385" y="18029"/>
                      </a:cubicBezTo>
                      <a:cubicBezTo>
                        <a:pt x="13441" y="17924"/>
                        <a:pt x="13527" y="17827"/>
                        <a:pt x="13644" y="17755"/>
                      </a:cubicBezTo>
                      <a:cubicBezTo>
                        <a:pt x="13842" y="17638"/>
                        <a:pt x="13959" y="17482"/>
                        <a:pt x="14021" y="17305"/>
                      </a:cubicBezTo>
                      <a:cubicBezTo>
                        <a:pt x="14113" y="17356"/>
                        <a:pt x="14268" y="17288"/>
                        <a:pt x="14280" y="17200"/>
                      </a:cubicBezTo>
                      <a:cubicBezTo>
                        <a:pt x="14292" y="17112"/>
                        <a:pt x="14200" y="17040"/>
                        <a:pt x="14126" y="16969"/>
                      </a:cubicBezTo>
                      <a:cubicBezTo>
                        <a:pt x="14086" y="16933"/>
                        <a:pt x="14047" y="16897"/>
                        <a:pt x="14020" y="16859"/>
                      </a:cubicBezTo>
                      <a:cubicBezTo>
                        <a:pt x="13993" y="16822"/>
                        <a:pt x="13978" y="16782"/>
                        <a:pt x="13984" y="16737"/>
                      </a:cubicBezTo>
                      <a:cubicBezTo>
                        <a:pt x="14002" y="16761"/>
                        <a:pt x="14032" y="16778"/>
                        <a:pt x="14064" y="16789"/>
                      </a:cubicBezTo>
                      <a:cubicBezTo>
                        <a:pt x="14096" y="16800"/>
                        <a:pt x="14132" y="16805"/>
                        <a:pt x="14163" y="16800"/>
                      </a:cubicBezTo>
                      <a:cubicBezTo>
                        <a:pt x="14181" y="16868"/>
                        <a:pt x="14234" y="16930"/>
                        <a:pt x="14305" y="16978"/>
                      </a:cubicBezTo>
                      <a:cubicBezTo>
                        <a:pt x="14377" y="17027"/>
                        <a:pt x="14468" y="17061"/>
                        <a:pt x="14564" y="17074"/>
                      </a:cubicBezTo>
                      <a:cubicBezTo>
                        <a:pt x="14699" y="17049"/>
                        <a:pt x="14832" y="17020"/>
                        <a:pt x="14965" y="16991"/>
                      </a:cubicBezTo>
                      <a:cubicBezTo>
                        <a:pt x="15097" y="16962"/>
                        <a:pt x="15230" y="16933"/>
                        <a:pt x="15366" y="16906"/>
                      </a:cubicBezTo>
                      <a:cubicBezTo>
                        <a:pt x="15390" y="16872"/>
                        <a:pt x="15409" y="16855"/>
                        <a:pt x="15458" y="16855"/>
                      </a:cubicBezTo>
                      <a:cubicBezTo>
                        <a:pt x="15495" y="16855"/>
                        <a:pt x="15532" y="16864"/>
                        <a:pt x="15576" y="16855"/>
                      </a:cubicBezTo>
                      <a:cubicBezTo>
                        <a:pt x="15588" y="16851"/>
                        <a:pt x="15600" y="16847"/>
                        <a:pt x="15613" y="16841"/>
                      </a:cubicBezTo>
                      <a:cubicBezTo>
                        <a:pt x="15625" y="16835"/>
                        <a:pt x="15637" y="16828"/>
                        <a:pt x="15650" y="16817"/>
                      </a:cubicBezTo>
                      <a:cubicBezTo>
                        <a:pt x="15754" y="16756"/>
                        <a:pt x="15869" y="16700"/>
                        <a:pt x="15989" y="16649"/>
                      </a:cubicBezTo>
                      <a:cubicBezTo>
                        <a:pt x="16109" y="16599"/>
                        <a:pt x="16236" y="16554"/>
                        <a:pt x="16365" y="16519"/>
                      </a:cubicBezTo>
                      <a:cubicBezTo>
                        <a:pt x="16390" y="16510"/>
                        <a:pt x="16419" y="16504"/>
                        <a:pt x="16450" y="16501"/>
                      </a:cubicBezTo>
                      <a:cubicBezTo>
                        <a:pt x="16481" y="16498"/>
                        <a:pt x="16513" y="16498"/>
                        <a:pt x="16544" y="16502"/>
                      </a:cubicBezTo>
                      <a:cubicBezTo>
                        <a:pt x="16634" y="16409"/>
                        <a:pt x="16740" y="16323"/>
                        <a:pt x="16858" y="16245"/>
                      </a:cubicBezTo>
                      <a:cubicBezTo>
                        <a:pt x="16976" y="16166"/>
                        <a:pt x="17106" y="16096"/>
                        <a:pt x="17241" y="16035"/>
                      </a:cubicBezTo>
                      <a:cubicBezTo>
                        <a:pt x="17288" y="16016"/>
                        <a:pt x="17334" y="15998"/>
                        <a:pt x="17376" y="15977"/>
                      </a:cubicBezTo>
                      <a:cubicBezTo>
                        <a:pt x="17419" y="15956"/>
                        <a:pt x="17457" y="15932"/>
                        <a:pt x="17488" y="15900"/>
                      </a:cubicBezTo>
                      <a:cubicBezTo>
                        <a:pt x="17510" y="15888"/>
                        <a:pt x="17527" y="15873"/>
                        <a:pt x="17543" y="15859"/>
                      </a:cubicBezTo>
                      <a:cubicBezTo>
                        <a:pt x="17559" y="15845"/>
                        <a:pt x="17575" y="15831"/>
                        <a:pt x="17593" y="15820"/>
                      </a:cubicBezTo>
                      <a:cubicBezTo>
                        <a:pt x="17618" y="15808"/>
                        <a:pt x="17647" y="15799"/>
                        <a:pt x="17678" y="15791"/>
                      </a:cubicBezTo>
                      <a:cubicBezTo>
                        <a:pt x="17709" y="15783"/>
                        <a:pt x="17741" y="15774"/>
                        <a:pt x="17772" y="15761"/>
                      </a:cubicBezTo>
                      <a:cubicBezTo>
                        <a:pt x="17800" y="15747"/>
                        <a:pt x="17826" y="15727"/>
                        <a:pt x="17841" y="15706"/>
                      </a:cubicBezTo>
                      <a:cubicBezTo>
                        <a:pt x="17855" y="15685"/>
                        <a:pt x="17858" y="15663"/>
                        <a:pt x="17840" y="15644"/>
                      </a:cubicBezTo>
                      <a:cubicBezTo>
                        <a:pt x="17661" y="15644"/>
                        <a:pt x="17463" y="15635"/>
                        <a:pt x="17285" y="15635"/>
                      </a:cubicBezTo>
                      <a:cubicBezTo>
                        <a:pt x="17217" y="15635"/>
                        <a:pt x="17155" y="15635"/>
                        <a:pt x="17099" y="15610"/>
                      </a:cubicBezTo>
                      <a:cubicBezTo>
                        <a:pt x="17075" y="15602"/>
                        <a:pt x="17050" y="15586"/>
                        <a:pt x="17033" y="15567"/>
                      </a:cubicBezTo>
                      <a:cubicBezTo>
                        <a:pt x="17016" y="15548"/>
                        <a:pt x="17007" y="15526"/>
                        <a:pt x="17013" y="15505"/>
                      </a:cubicBezTo>
                      <a:cubicBezTo>
                        <a:pt x="16896" y="15492"/>
                        <a:pt x="16772" y="15481"/>
                        <a:pt x="16652" y="15482"/>
                      </a:cubicBezTo>
                      <a:cubicBezTo>
                        <a:pt x="16532" y="15484"/>
                        <a:pt x="16415" y="15499"/>
                        <a:pt x="16310" y="15539"/>
                      </a:cubicBezTo>
                      <a:cubicBezTo>
                        <a:pt x="16267" y="15557"/>
                        <a:pt x="16225" y="15577"/>
                        <a:pt x="16183" y="15598"/>
                      </a:cubicBezTo>
                      <a:cubicBezTo>
                        <a:pt x="16140" y="15620"/>
                        <a:pt x="16097" y="15642"/>
                        <a:pt x="16051" y="15665"/>
                      </a:cubicBezTo>
                      <a:cubicBezTo>
                        <a:pt x="15949" y="15713"/>
                        <a:pt x="15836" y="15748"/>
                        <a:pt x="15718" y="15769"/>
                      </a:cubicBezTo>
                      <a:cubicBezTo>
                        <a:pt x="15600" y="15791"/>
                        <a:pt x="15477" y="15799"/>
                        <a:pt x="15353" y="15795"/>
                      </a:cubicBezTo>
                      <a:cubicBezTo>
                        <a:pt x="15347" y="15795"/>
                        <a:pt x="15341" y="15795"/>
                        <a:pt x="15335" y="15794"/>
                      </a:cubicBezTo>
                      <a:cubicBezTo>
                        <a:pt x="15329" y="15793"/>
                        <a:pt x="15323" y="15791"/>
                        <a:pt x="15316" y="15787"/>
                      </a:cubicBezTo>
                      <a:cubicBezTo>
                        <a:pt x="15289" y="15778"/>
                        <a:pt x="15287" y="15758"/>
                        <a:pt x="15301" y="15737"/>
                      </a:cubicBezTo>
                      <a:cubicBezTo>
                        <a:pt x="15315" y="15716"/>
                        <a:pt x="15344" y="15694"/>
                        <a:pt x="15378" y="15682"/>
                      </a:cubicBezTo>
                      <a:cubicBezTo>
                        <a:pt x="15440" y="15652"/>
                        <a:pt x="15520" y="15635"/>
                        <a:pt x="15600" y="15618"/>
                      </a:cubicBezTo>
                      <a:cubicBezTo>
                        <a:pt x="15680" y="15602"/>
                        <a:pt x="15754" y="15593"/>
                        <a:pt x="15835" y="15564"/>
                      </a:cubicBezTo>
                      <a:cubicBezTo>
                        <a:pt x="15866" y="15551"/>
                        <a:pt x="15895" y="15536"/>
                        <a:pt x="15924" y="15522"/>
                      </a:cubicBezTo>
                      <a:cubicBezTo>
                        <a:pt x="15953" y="15507"/>
                        <a:pt x="15983" y="15492"/>
                        <a:pt x="16014" y="15480"/>
                      </a:cubicBezTo>
                      <a:cubicBezTo>
                        <a:pt x="16143" y="15417"/>
                        <a:pt x="16322" y="15408"/>
                        <a:pt x="16452" y="15345"/>
                      </a:cubicBezTo>
                      <a:cubicBezTo>
                        <a:pt x="16581" y="15282"/>
                        <a:pt x="16698" y="15152"/>
                        <a:pt x="16581" y="15072"/>
                      </a:cubicBezTo>
                      <a:cubicBezTo>
                        <a:pt x="16495" y="15000"/>
                        <a:pt x="16322" y="15030"/>
                        <a:pt x="16193" y="15063"/>
                      </a:cubicBezTo>
                      <a:cubicBezTo>
                        <a:pt x="16063" y="15097"/>
                        <a:pt x="15921" y="15152"/>
                        <a:pt x="15792" y="15114"/>
                      </a:cubicBezTo>
                      <a:cubicBezTo>
                        <a:pt x="15785" y="15080"/>
                        <a:pt x="15818" y="15059"/>
                        <a:pt x="15863" y="15046"/>
                      </a:cubicBezTo>
                      <a:cubicBezTo>
                        <a:pt x="15909" y="15034"/>
                        <a:pt x="15967" y="15030"/>
                        <a:pt x="16014" y="15030"/>
                      </a:cubicBezTo>
                      <a:cubicBezTo>
                        <a:pt x="16085" y="15023"/>
                        <a:pt x="16156" y="15012"/>
                        <a:pt x="16222" y="14994"/>
                      </a:cubicBezTo>
                      <a:cubicBezTo>
                        <a:pt x="16288" y="14976"/>
                        <a:pt x="16350" y="14952"/>
                        <a:pt x="16402" y="14920"/>
                      </a:cubicBezTo>
                      <a:cubicBezTo>
                        <a:pt x="16442" y="14899"/>
                        <a:pt x="16481" y="14869"/>
                        <a:pt x="16502" y="14837"/>
                      </a:cubicBezTo>
                      <a:cubicBezTo>
                        <a:pt x="16523" y="14805"/>
                        <a:pt x="16526" y="14771"/>
                        <a:pt x="16495" y="14744"/>
                      </a:cubicBezTo>
                      <a:cubicBezTo>
                        <a:pt x="16452" y="14710"/>
                        <a:pt x="16378" y="14710"/>
                        <a:pt x="16310" y="14710"/>
                      </a:cubicBezTo>
                      <a:cubicBezTo>
                        <a:pt x="16211" y="14710"/>
                        <a:pt x="16106" y="14710"/>
                        <a:pt x="16001" y="14685"/>
                      </a:cubicBezTo>
                      <a:cubicBezTo>
                        <a:pt x="15955" y="14670"/>
                        <a:pt x="15910" y="14648"/>
                        <a:pt x="15879" y="14620"/>
                      </a:cubicBezTo>
                      <a:cubicBezTo>
                        <a:pt x="15847" y="14593"/>
                        <a:pt x="15829" y="14561"/>
                        <a:pt x="15835" y="14525"/>
                      </a:cubicBezTo>
                      <a:cubicBezTo>
                        <a:pt x="15782" y="14508"/>
                        <a:pt x="15730" y="14490"/>
                        <a:pt x="15681" y="14469"/>
                      </a:cubicBezTo>
                      <a:cubicBezTo>
                        <a:pt x="15633" y="14447"/>
                        <a:pt x="15588" y="14422"/>
                        <a:pt x="15551" y="14390"/>
                      </a:cubicBezTo>
                      <a:cubicBezTo>
                        <a:pt x="15511" y="14361"/>
                        <a:pt x="15488" y="14322"/>
                        <a:pt x="15482" y="14282"/>
                      </a:cubicBezTo>
                      <a:cubicBezTo>
                        <a:pt x="15477" y="14243"/>
                        <a:pt x="15489" y="14203"/>
                        <a:pt x="15520" y="14171"/>
                      </a:cubicBezTo>
                      <a:cubicBezTo>
                        <a:pt x="15591" y="14232"/>
                        <a:pt x="15667" y="14290"/>
                        <a:pt x="15745" y="14346"/>
                      </a:cubicBezTo>
                      <a:cubicBezTo>
                        <a:pt x="15824" y="14402"/>
                        <a:pt x="15906" y="14455"/>
                        <a:pt x="15989" y="14508"/>
                      </a:cubicBezTo>
                      <a:cubicBezTo>
                        <a:pt x="16020" y="14525"/>
                        <a:pt x="16049" y="14543"/>
                        <a:pt x="16080" y="14558"/>
                      </a:cubicBezTo>
                      <a:cubicBezTo>
                        <a:pt x="16111" y="14574"/>
                        <a:pt x="16143" y="14588"/>
                        <a:pt x="16180" y="14596"/>
                      </a:cubicBezTo>
                      <a:cubicBezTo>
                        <a:pt x="16285" y="14622"/>
                        <a:pt x="16402" y="14622"/>
                        <a:pt x="16507" y="14630"/>
                      </a:cubicBezTo>
                      <a:cubicBezTo>
                        <a:pt x="16612" y="14638"/>
                        <a:pt x="16723" y="14676"/>
                        <a:pt x="16766" y="14744"/>
                      </a:cubicBezTo>
                      <a:cubicBezTo>
                        <a:pt x="16772" y="14758"/>
                        <a:pt x="16776" y="14774"/>
                        <a:pt x="16779" y="14789"/>
                      </a:cubicBezTo>
                      <a:cubicBezTo>
                        <a:pt x="16782" y="14805"/>
                        <a:pt x="16785" y="14819"/>
                        <a:pt x="16791" y="14832"/>
                      </a:cubicBezTo>
                      <a:cubicBezTo>
                        <a:pt x="16803" y="14855"/>
                        <a:pt x="16823" y="14875"/>
                        <a:pt x="16845" y="14894"/>
                      </a:cubicBezTo>
                      <a:cubicBezTo>
                        <a:pt x="16867" y="14913"/>
                        <a:pt x="16890" y="14931"/>
                        <a:pt x="16908" y="14950"/>
                      </a:cubicBezTo>
                      <a:cubicBezTo>
                        <a:pt x="16979" y="15002"/>
                        <a:pt x="17041" y="15063"/>
                        <a:pt x="17089" y="15130"/>
                      </a:cubicBezTo>
                      <a:cubicBezTo>
                        <a:pt x="17138" y="15197"/>
                        <a:pt x="17174" y="15269"/>
                        <a:pt x="17192" y="15345"/>
                      </a:cubicBezTo>
                      <a:cubicBezTo>
                        <a:pt x="17217" y="15372"/>
                        <a:pt x="17258" y="15388"/>
                        <a:pt x="17307" y="15396"/>
                      </a:cubicBezTo>
                      <a:cubicBezTo>
                        <a:pt x="17356" y="15404"/>
                        <a:pt x="17411" y="15404"/>
                        <a:pt x="17463" y="15400"/>
                      </a:cubicBezTo>
                      <a:cubicBezTo>
                        <a:pt x="17556" y="15391"/>
                        <a:pt x="17655" y="15362"/>
                        <a:pt x="17747" y="15362"/>
                      </a:cubicBezTo>
                      <a:cubicBezTo>
                        <a:pt x="17834" y="15362"/>
                        <a:pt x="17969" y="15370"/>
                        <a:pt x="17982" y="15311"/>
                      </a:cubicBezTo>
                      <a:cubicBezTo>
                        <a:pt x="17994" y="15271"/>
                        <a:pt x="17949" y="15247"/>
                        <a:pt x="17898" y="15223"/>
                      </a:cubicBezTo>
                      <a:cubicBezTo>
                        <a:pt x="17846" y="15199"/>
                        <a:pt x="17787" y="15175"/>
                        <a:pt x="17772" y="15135"/>
                      </a:cubicBezTo>
                      <a:cubicBezTo>
                        <a:pt x="17753" y="15091"/>
                        <a:pt x="17797" y="15046"/>
                        <a:pt x="17834" y="15004"/>
                      </a:cubicBezTo>
                      <a:cubicBezTo>
                        <a:pt x="17872" y="14962"/>
                        <a:pt x="17905" y="14922"/>
                        <a:pt x="17865" y="14887"/>
                      </a:cubicBezTo>
                      <a:cubicBezTo>
                        <a:pt x="17824" y="14855"/>
                        <a:pt x="17801" y="14813"/>
                        <a:pt x="17797" y="14770"/>
                      </a:cubicBezTo>
                      <a:cubicBezTo>
                        <a:pt x="17792" y="14727"/>
                        <a:pt x="17806" y="14683"/>
                        <a:pt x="17840" y="14647"/>
                      </a:cubicBezTo>
                      <a:cubicBezTo>
                        <a:pt x="17812" y="14651"/>
                        <a:pt x="17789" y="14642"/>
                        <a:pt x="17771" y="14626"/>
                      </a:cubicBezTo>
                      <a:cubicBezTo>
                        <a:pt x="17753" y="14610"/>
                        <a:pt x="17741" y="14588"/>
                        <a:pt x="17735" y="14567"/>
                      </a:cubicBezTo>
                      <a:cubicBezTo>
                        <a:pt x="17729" y="14544"/>
                        <a:pt x="17729" y="14525"/>
                        <a:pt x="17726" y="14507"/>
                      </a:cubicBezTo>
                      <a:cubicBezTo>
                        <a:pt x="17723" y="14489"/>
                        <a:pt x="17716" y="14472"/>
                        <a:pt x="17698" y="14453"/>
                      </a:cubicBezTo>
                      <a:cubicBezTo>
                        <a:pt x="17664" y="14432"/>
                        <a:pt x="17612" y="14430"/>
                        <a:pt x="17563" y="14425"/>
                      </a:cubicBezTo>
                      <a:cubicBezTo>
                        <a:pt x="17514" y="14421"/>
                        <a:pt x="17470" y="14413"/>
                        <a:pt x="17451" y="14382"/>
                      </a:cubicBezTo>
                      <a:cubicBezTo>
                        <a:pt x="17426" y="14357"/>
                        <a:pt x="17451" y="14310"/>
                        <a:pt x="17414" y="14285"/>
                      </a:cubicBezTo>
                      <a:cubicBezTo>
                        <a:pt x="17383" y="14264"/>
                        <a:pt x="17346" y="14277"/>
                        <a:pt x="17322" y="14277"/>
                      </a:cubicBezTo>
                      <a:cubicBezTo>
                        <a:pt x="17155" y="14277"/>
                        <a:pt x="17050" y="14146"/>
                        <a:pt x="16982" y="14028"/>
                      </a:cubicBezTo>
                      <a:cubicBezTo>
                        <a:pt x="16958" y="13986"/>
                        <a:pt x="16933" y="13953"/>
                        <a:pt x="16896" y="13923"/>
                      </a:cubicBezTo>
                      <a:cubicBezTo>
                        <a:pt x="16868" y="13911"/>
                        <a:pt x="16836" y="13904"/>
                        <a:pt x="16805" y="13905"/>
                      </a:cubicBezTo>
                      <a:cubicBezTo>
                        <a:pt x="16774" y="13906"/>
                        <a:pt x="16745" y="13915"/>
                        <a:pt x="16723" y="13932"/>
                      </a:cubicBezTo>
                      <a:cubicBezTo>
                        <a:pt x="16717" y="13942"/>
                        <a:pt x="16711" y="13954"/>
                        <a:pt x="16706" y="13965"/>
                      </a:cubicBezTo>
                      <a:cubicBezTo>
                        <a:pt x="16702" y="13976"/>
                        <a:pt x="16698" y="13986"/>
                        <a:pt x="16698" y="13995"/>
                      </a:cubicBezTo>
                      <a:cubicBezTo>
                        <a:pt x="16692" y="14043"/>
                        <a:pt x="16674" y="14089"/>
                        <a:pt x="16642" y="14130"/>
                      </a:cubicBezTo>
                      <a:cubicBezTo>
                        <a:pt x="16611" y="14171"/>
                        <a:pt x="16566" y="14207"/>
                        <a:pt x="16507" y="14235"/>
                      </a:cubicBezTo>
                      <a:cubicBezTo>
                        <a:pt x="16449" y="14260"/>
                        <a:pt x="16378" y="14272"/>
                        <a:pt x="16308" y="14271"/>
                      </a:cubicBezTo>
                      <a:cubicBezTo>
                        <a:pt x="16239" y="14270"/>
                        <a:pt x="16171" y="14256"/>
                        <a:pt x="16119" y="14226"/>
                      </a:cubicBezTo>
                      <a:cubicBezTo>
                        <a:pt x="16171" y="14195"/>
                        <a:pt x="16222" y="14161"/>
                        <a:pt x="16274" y="14127"/>
                      </a:cubicBezTo>
                      <a:cubicBezTo>
                        <a:pt x="16327" y="14094"/>
                        <a:pt x="16381" y="14060"/>
                        <a:pt x="16439" y="14028"/>
                      </a:cubicBezTo>
                      <a:cubicBezTo>
                        <a:pt x="16452" y="14020"/>
                        <a:pt x="16483" y="14003"/>
                        <a:pt x="16483" y="13986"/>
                      </a:cubicBezTo>
                      <a:cubicBezTo>
                        <a:pt x="16483" y="13970"/>
                        <a:pt x="16427" y="13961"/>
                        <a:pt x="16415" y="13940"/>
                      </a:cubicBezTo>
                      <a:cubicBezTo>
                        <a:pt x="16402" y="13927"/>
                        <a:pt x="16399" y="13913"/>
                        <a:pt x="16402" y="13899"/>
                      </a:cubicBezTo>
                      <a:cubicBezTo>
                        <a:pt x="16405" y="13885"/>
                        <a:pt x="16415" y="13873"/>
                        <a:pt x="16427" y="13864"/>
                      </a:cubicBezTo>
                      <a:cubicBezTo>
                        <a:pt x="16449" y="13854"/>
                        <a:pt x="16469" y="13847"/>
                        <a:pt x="16489" y="13841"/>
                      </a:cubicBezTo>
                      <a:cubicBezTo>
                        <a:pt x="16510" y="13835"/>
                        <a:pt x="16532" y="13831"/>
                        <a:pt x="16557" y="13827"/>
                      </a:cubicBezTo>
                      <a:cubicBezTo>
                        <a:pt x="16609" y="13818"/>
                        <a:pt x="16665" y="13812"/>
                        <a:pt x="16720" y="13805"/>
                      </a:cubicBezTo>
                      <a:cubicBezTo>
                        <a:pt x="16776" y="13799"/>
                        <a:pt x="16831" y="13793"/>
                        <a:pt x="16884" y="13784"/>
                      </a:cubicBezTo>
                      <a:cubicBezTo>
                        <a:pt x="16850" y="13749"/>
                        <a:pt x="16817" y="13715"/>
                        <a:pt x="16785" y="13681"/>
                      </a:cubicBezTo>
                      <a:cubicBezTo>
                        <a:pt x="16752" y="13648"/>
                        <a:pt x="16720" y="13614"/>
                        <a:pt x="16686" y="13578"/>
                      </a:cubicBezTo>
                      <a:cubicBezTo>
                        <a:pt x="16649" y="13585"/>
                        <a:pt x="16614" y="13578"/>
                        <a:pt x="16580" y="13567"/>
                      </a:cubicBezTo>
                      <a:cubicBezTo>
                        <a:pt x="16546" y="13556"/>
                        <a:pt x="16513" y="13540"/>
                        <a:pt x="16483" y="13528"/>
                      </a:cubicBezTo>
                      <a:cubicBezTo>
                        <a:pt x="16449" y="13515"/>
                        <a:pt x="16405" y="13509"/>
                        <a:pt x="16368" y="13511"/>
                      </a:cubicBezTo>
                      <a:cubicBezTo>
                        <a:pt x="16330" y="13513"/>
                        <a:pt x="16297" y="13524"/>
                        <a:pt x="16285" y="13545"/>
                      </a:cubicBezTo>
                      <a:cubicBezTo>
                        <a:pt x="16260" y="13524"/>
                        <a:pt x="16250" y="13494"/>
                        <a:pt x="16253" y="13466"/>
                      </a:cubicBezTo>
                      <a:cubicBezTo>
                        <a:pt x="16257" y="13437"/>
                        <a:pt x="16276" y="13410"/>
                        <a:pt x="16310" y="13393"/>
                      </a:cubicBezTo>
                      <a:cubicBezTo>
                        <a:pt x="16341" y="13374"/>
                        <a:pt x="16384" y="13368"/>
                        <a:pt x="16425" y="13372"/>
                      </a:cubicBezTo>
                      <a:cubicBezTo>
                        <a:pt x="16467" y="13376"/>
                        <a:pt x="16507" y="13391"/>
                        <a:pt x="16532" y="13414"/>
                      </a:cubicBezTo>
                      <a:cubicBezTo>
                        <a:pt x="16550" y="13435"/>
                        <a:pt x="16567" y="13464"/>
                        <a:pt x="16589" y="13485"/>
                      </a:cubicBezTo>
                      <a:cubicBezTo>
                        <a:pt x="16611" y="13506"/>
                        <a:pt x="16637" y="13519"/>
                        <a:pt x="16674" y="13511"/>
                      </a:cubicBezTo>
                      <a:cubicBezTo>
                        <a:pt x="16686" y="13511"/>
                        <a:pt x="16698" y="13504"/>
                        <a:pt x="16712" y="13495"/>
                      </a:cubicBezTo>
                      <a:cubicBezTo>
                        <a:pt x="16725" y="13487"/>
                        <a:pt x="16739" y="13477"/>
                        <a:pt x="16754" y="13473"/>
                      </a:cubicBezTo>
                      <a:cubicBezTo>
                        <a:pt x="16803" y="13456"/>
                        <a:pt x="16853" y="13473"/>
                        <a:pt x="16896" y="13503"/>
                      </a:cubicBezTo>
                      <a:cubicBezTo>
                        <a:pt x="16933" y="13528"/>
                        <a:pt x="16945" y="13562"/>
                        <a:pt x="16945" y="13599"/>
                      </a:cubicBezTo>
                      <a:cubicBezTo>
                        <a:pt x="16964" y="13652"/>
                        <a:pt x="16987" y="13713"/>
                        <a:pt x="17025" y="13763"/>
                      </a:cubicBezTo>
                      <a:cubicBezTo>
                        <a:pt x="17062" y="13814"/>
                        <a:pt x="17115" y="13854"/>
                        <a:pt x="17192" y="13864"/>
                      </a:cubicBezTo>
                      <a:cubicBezTo>
                        <a:pt x="17238" y="13869"/>
                        <a:pt x="17286" y="13861"/>
                        <a:pt x="17334" y="13856"/>
                      </a:cubicBezTo>
                      <a:cubicBezTo>
                        <a:pt x="17382" y="13852"/>
                        <a:pt x="17430" y="13850"/>
                        <a:pt x="17476" y="13864"/>
                      </a:cubicBezTo>
                      <a:cubicBezTo>
                        <a:pt x="17504" y="13873"/>
                        <a:pt x="17527" y="13885"/>
                        <a:pt x="17546" y="13902"/>
                      </a:cubicBezTo>
                      <a:cubicBezTo>
                        <a:pt x="17565" y="13918"/>
                        <a:pt x="17581" y="13938"/>
                        <a:pt x="17593" y="13961"/>
                      </a:cubicBezTo>
                      <a:cubicBezTo>
                        <a:pt x="17605" y="13982"/>
                        <a:pt x="17618" y="14002"/>
                        <a:pt x="17634" y="14019"/>
                      </a:cubicBezTo>
                      <a:cubicBezTo>
                        <a:pt x="17650" y="14036"/>
                        <a:pt x="17670" y="14049"/>
                        <a:pt x="17698" y="14058"/>
                      </a:cubicBezTo>
                      <a:cubicBezTo>
                        <a:pt x="17723" y="14066"/>
                        <a:pt x="17758" y="14066"/>
                        <a:pt x="17787" y="14059"/>
                      </a:cubicBezTo>
                      <a:cubicBezTo>
                        <a:pt x="17817" y="14053"/>
                        <a:pt x="17840" y="14039"/>
                        <a:pt x="17840" y="14020"/>
                      </a:cubicBezTo>
                      <a:cubicBezTo>
                        <a:pt x="17806" y="13991"/>
                        <a:pt x="17767" y="13962"/>
                        <a:pt x="17726" y="13938"/>
                      </a:cubicBezTo>
                      <a:cubicBezTo>
                        <a:pt x="17684" y="13914"/>
                        <a:pt x="17639" y="13894"/>
                        <a:pt x="17593" y="13881"/>
                      </a:cubicBezTo>
                      <a:cubicBezTo>
                        <a:pt x="17618" y="13873"/>
                        <a:pt x="17641" y="13857"/>
                        <a:pt x="17656" y="13838"/>
                      </a:cubicBezTo>
                      <a:cubicBezTo>
                        <a:pt x="17672" y="13819"/>
                        <a:pt x="17679" y="13797"/>
                        <a:pt x="17673" y="13776"/>
                      </a:cubicBezTo>
                      <a:cubicBezTo>
                        <a:pt x="17698" y="13784"/>
                        <a:pt x="17730" y="13784"/>
                        <a:pt x="17758" y="13778"/>
                      </a:cubicBezTo>
                      <a:cubicBezTo>
                        <a:pt x="17786" y="13771"/>
                        <a:pt x="17809" y="13757"/>
                        <a:pt x="17815" y="13738"/>
                      </a:cubicBezTo>
                      <a:cubicBezTo>
                        <a:pt x="17747" y="13768"/>
                        <a:pt x="17661" y="13717"/>
                        <a:pt x="17661" y="13667"/>
                      </a:cubicBezTo>
                      <a:cubicBezTo>
                        <a:pt x="17661" y="13612"/>
                        <a:pt x="17735" y="13570"/>
                        <a:pt x="17815" y="13562"/>
                      </a:cubicBezTo>
                      <a:cubicBezTo>
                        <a:pt x="17716" y="13549"/>
                        <a:pt x="17635" y="13514"/>
                        <a:pt x="17563" y="13470"/>
                      </a:cubicBezTo>
                      <a:cubicBezTo>
                        <a:pt x="17491" y="13425"/>
                        <a:pt x="17430" y="13370"/>
                        <a:pt x="17371" y="13318"/>
                      </a:cubicBezTo>
                      <a:cubicBezTo>
                        <a:pt x="17359" y="13303"/>
                        <a:pt x="17346" y="13289"/>
                        <a:pt x="17339" y="13276"/>
                      </a:cubicBezTo>
                      <a:cubicBezTo>
                        <a:pt x="17331" y="13263"/>
                        <a:pt x="17328" y="13250"/>
                        <a:pt x="17334" y="13238"/>
                      </a:cubicBezTo>
                      <a:cubicBezTo>
                        <a:pt x="17223" y="13246"/>
                        <a:pt x="17123" y="13200"/>
                        <a:pt x="17026" y="13158"/>
                      </a:cubicBezTo>
                      <a:cubicBezTo>
                        <a:pt x="16930" y="13116"/>
                        <a:pt x="16837" y="13078"/>
                        <a:pt x="16742" y="13103"/>
                      </a:cubicBezTo>
                      <a:cubicBezTo>
                        <a:pt x="16708" y="13111"/>
                        <a:pt x="16681" y="13125"/>
                        <a:pt x="16655" y="13139"/>
                      </a:cubicBezTo>
                      <a:cubicBezTo>
                        <a:pt x="16629" y="13152"/>
                        <a:pt x="16603" y="13166"/>
                        <a:pt x="16569" y="13175"/>
                      </a:cubicBezTo>
                      <a:cubicBezTo>
                        <a:pt x="16544" y="13183"/>
                        <a:pt x="16509" y="13187"/>
                        <a:pt x="16476" y="13184"/>
                      </a:cubicBezTo>
                      <a:cubicBezTo>
                        <a:pt x="16444" y="13181"/>
                        <a:pt x="16415" y="13170"/>
                        <a:pt x="16402" y="13149"/>
                      </a:cubicBezTo>
                      <a:cubicBezTo>
                        <a:pt x="16442" y="13126"/>
                        <a:pt x="16481" y="13106"/>
                        <a:pt x="16523" y="13090"/>
                      </a:cubicBezTo>
                      <a:cubicBezTo>
                        <a:pt x="16564" y="13074"/>
                        <a:pt x="16609" y="13061"/>
                        <a:pt x="16661" y="13053"/>
                      </a:cubicBezTo>
                      <a:cubicBezTo>
                        <a:pt x="16686" y="13048"/>
                        <a:pt x="16715" y="13043"/>
                        <a:pt x="16745" y="13037"/>
                      </a:cubicBezTo>
                      <a:cubicBezTo>
                        <a:pt x="16774" y="13030"/>
                        <a:pt x="16803" y="13023"/>
                        <a:pt x="16828" y="13015"/>
                      </a:cubicBezTo>
                      <a:cubicBezTo>
                        <a:pt x="16887" y="12985"/>
                        <a:pt x="16901" y="12928"/>
                        <a:pt x="16916" y="12873"/>
                      </a:cubicBezTo>
                      <a:cubicBezTo>
                        <a:pt x="16931" y="12818"/>
                        <a:pt x="16948" y="12764"/>
                        <a:pt x="17013" y="12741"/>
                      </a:cubicBezTo>
                      <a:cubicBezTo>
                        <a:pt x="17044" y="12741"/>
                        <a:pt x="17062" y="12756"/>
                        <a:pt x="17072" y="12776"/>
                      </a:cubicBezTo>
                      <a:cubicBezTo>
                        <a:pt x="17081" y="12797"/>
                        <a:pt x="17081" y="12823"/>
                        <a:pt x="17075" y="12846"/>
                      </a:cubicBezTo>
                      <a:cubicBezTo>
                        <a:pt x="17062" y="12888"/>
                        <a:pt x="17038" y="12943"/>
                        <a:pt x="17087" y="12973"/>
                      </a:cubicBezTo>
                      <a:cubicBezTo>
                        <a:pt x="17130" y="12998"/>
                        <a:pt x="17192" y="12989"/>
                        <a:pt x="17241" y="13006"/>
                      </a:cubicBezTo>
                      <a:cubicBezTo>
                        <a:pt x="17285" y="13023"/>
                        <a:pt x="17309" y="13061"/>
                        <a:pt x="17334" y="13086"/>
                      </a:cubicBezTo>
                      <a:cubicBezTo>
                        <a:pt x="17359" y="13111"/>
                        <a:pt x="17426" y="13128"/>
                        <a:pt x="17463" y="13103"/>
                      </a:cubicBezTo>
                      <a:cubicBezTo>
                        <a:pt x="17476" y="13141"/>
                        <a:pt x="17488" y="13175"/>
                        <a:pt x="17531" y="13208"/>
                      </a:cubicBezTo>
                      <a:cubicBezTo>
                        <a:pt x="17568" y="13238"/>
                        <a:pt x="17630" y="13254"/>
                        <a:pt x="17673" y="13238"/>
                      </a:cubicBezTo>
                      <a:cubicBezTo>
                        <a:pt x="17692" y="13233"/>
                        <a:pt x="17703" y="13224"/>
                        <a:pt x="17714" y="13214"/>
                      </a:cubicBezTo>
                      <a:cubicBezTo>
                        <a:pt x="17726" y="13205"/>
                        <a:pt x="17738" y="13196"/>
                        <a:pt x="17760" y="13191"/>
                      </a:cubicBezTo>
                      <a:cubicBezTo>
                        <a:pt x="17778" y="13187"/>
                        <a:pt x="17801" y="13191"/>
                        <a:pt x="17826" y="13196"/>
                      </a:cubicBezTo>
                      <a:cubicBezTo>
                        <a:pt x="17851" y="13200"/>
                        <a:pt x="17877" y="13204"/>
                        <a:pt x="17902" y="13200"/>
                      </a:cubicBezTo>
                      <a:cubicBezTo>
                        <a:pt x="17929" y="13196"/>
                        <a:pt x="17946" y="13184"/>
                        <a:pt x="17955" y="13169"/>
                      </a:cubicBezTo>
                      <a:cubicBezTo>
                        <a:pt x="17963" y="13155"/>
                        <a:pt x="17963" y="13137"/>
                        <a:pt x="17957" y="13120"/>
                      </a:cubicBezTo>
                      <a:cubicBezTo>
                        <a:pt x="17951" y="13101"/>
                        <a:pt x="17940" y="13088"/>
                        <a:pt x="17926" y="13077"/>
                      </a:cubicBezTo>
                      <a:cubicBezTo>
                        <a:pt x="17912" y="13066"/>
                        <a:pt x="17895" y="13057"/>
                        <a:pt x="17877" y="13044"/>
                      </a:cubicBezTo>
                      <a:cubicBezTo>
                        <a:pt x="18031" y="13044"/>
                        <a:pt x="18192" y="13032"/>
                        <a:pt x="18333" y="13032"/>
                      </a:cubicBezTo>
                      <a:cubicBezTo>
                        <a:pt x="18358" y="13032"/>
                        <a:pt x="18383" y="13032"/>
                        <a:pt x="18395" y="13023"/>
                      </a:cubicBezTo>
                      <a:cubicBezTo>
                        <a:pt x="18414" y="13015"/>
                        <a:pt x="18420" y="13000"/>
                        <a:pt x="18420" y="12983"/>
                      </a:cubicBezTo>
                      <a:cubicBezTo>
                        <a:pt x="18420" y="12965"/>
                        <a:pt x="18414" y="12945"/>
                        <a:pt x="18407" y="12926"/>
                      </a:cubicBezTo>
                      <a:cubicBezTo>
                        <a:pt x="18401" y="12910"/>
                        <a:pt x="18407" y="12890"/>
                        <a:pt x="18422" y="12876"/>
                      </a:cubicBezTo>
                      <a:cubicBezTo>
                        <a:pt x="18437" y="12863"/>
                        <a:pt x="18460" y="12857"/>
                        <a:pt x="18488" y="12867"/>
                      </a:cubicBezTo>
                      <a:cubicBezTo>
                        <a:pt x="18429" y="12823"/>
                        <a:pt x="18341" y="12808"/>
                        <a:pt x="18253" y="12792"/>
                      </a:cubicBezTo>
                      <a:cubicBezTo>
                        <a:pt x="18165" y="12776"/>
                        <a:pt x="18077" y="12760"/>
                        <a:pt x="18019" y="12716"/>
                      </a:cubicBezTo>
                      <a:cubicBezTo>
                        <a:pt x="17982" y="12693"/>
                        <a:pt x="17956" y="12659"/>
                        <a:pt x="17926" y="12630"/>
                      </a:cubicBezTo>
                      <a:cubicBezTo>
                        <a:pt x="17897" y="12601"/>
                        <a:pt x="17865" y="12577"/>
                        <a:pt x="17815" y="12573"/>
                      </a:cubicBezTo>
                      <a:lnTo>
                        <a:pt x="17710" y="12573"/>
                      </a:lnTo>
                      <a:cubicBezTo>
                        <a:pt x="17670" y="12569"/>
                        <a:pt x="17641" y="12554"/>
                        <a:pt x="17625" y="12534"/>
                      </a:cubicBezTo>
                      <a:cubicBezTo>
                        <a:pt x="17608" y="12513"/>
                        <a:pt x="17605" y="12487"/>
                        <a:pt x="17618" y="12459"/>
                      </a:cubicBezTo>
                      <a:cubicBezTo>
                        <a:pt x="17612" y="12447"/>
                        <a:pt x="17612" y="12436"/>
                        <a:pt x="17615" y="12425"/>
                      </a:cubicBezTo>
                      <a:cubicBezTo>
                        <a:pt x="17618" y="12414"/>
                        <a:pt x="17624" y="12403"/>
                        <a:pt x="17630" y="12388"/>
                      </a:cubicBezTo>
                      <a:cubicBezTo>
                        <a:pt x="17645" y="12392"/>
                        <a:pt x="17662" y="12394"/>
                        <a:pt x="17680" y="12395"/>
                      </a:cubicBezTo>
                      <a:cubicBezTo>
                        <a:pt x="17698" y="12396"/>
                        <a:pt x="17716" y="12396"/>
                        <a:pt x="17735" y="12396"/>
                      </a:cubicBezTo>
                      <a:cubicBezTo>
                        <a:pt x="17741" y="12401"/>
                        <a:pt x="17744" y="12406"/>
                        <a:pt x="17747" y="12411"/>
                      </a:cubicBezTo>
                      <a:cubicBezTo>
                        <a:pt x="17750" y="12416"/>
                        <a:pt x="17753" y="12422"/>
                        <a:pt x="17760" y="12426"/>
                      </a:cubicBezTo>
                      <a:cubicBezTo>
                        <a:pt x="17818" y="12403"/>
                        <a:pt x="17883" y="12405"/>
                        <a:pt x="17945" y="12420"/>
                      </a:cubicBezTo>
                      <a:cubicBezTo>
                        <a:pt x="18006" y="12435"/>
                        <a:pt x="18065" y="12464"/>
                        <a:pt x="18111" y="12493"/>
                      </a:cubicBezTo>
                      <a:cubicBezTo>
                        <a:pt x="18164" y="12525"/>
                        <a:pt x="18216" y="12556"/>
                        <a:pt x="18273" y="12579"/>
                      </a:cubicBezTo>
                      <a:cubicBezTo>
                        <a:pt x="18330" y="12601"/>
                        <a:pt x="18392" y="12615"/>
                        <a:pt x="18463" y="12611"/>
                      </a:cubicBezTo>
                      <a:cubicBezTo>
                        <a:pt x="18441" y="12588"/>
                        <a:pt x="18457" y="12566"/>
                        <a:pt x="18476" y="12544"/>
                      </a:cubicBezTo>
                      <a:cubicBezTo>
                        <a:pt x="18495" y="12521"/>
                        <a:pt x="18519" y="12499"/>
                        <a:pt x="18512" y="12476"/>
                      </a:cubicBezTo>
                      <a:cubicBezTo>
                        <a:pt x="18512" y="12468"/>
                        <a:pt x="18509" y="12462"/>
                        <a:pt x="18505" y="12456"/>
                      </a:cubicBezTo>
                      <a:cubicBezTo>
                        <a:pt x="18500" y="12451"/>
                        <a:pt x="18494" y="12447"/>
                        <a:pt x="18488" y="12443"/>
                      </a:cubicBezTo>
                      <a:cubicBezTo>
                        <a:pt x="18448" y="12403"/>
                        <a:pt x="18409" y="12363"/>
                        <a:pt x="18369" y="12323"/>
                      </a:cubicBezTo>
                      <a:cubicBezTo>
                        <a:pt x="18329" y="12283"/>
                        <a:pt x="18287" y="12243"/>
                        <a:pt x="18241" y="12203"/>
                      </a:cubicBezTo>
                      <a:cubicBezTo>
                        <a:pt x="18272" y="12199"/>
                        <a:pt x="18307" y="12201"/>
                        <a:pt x="18340" y="12210"/>
                      </a:cubicBezTo>
                      <a:cubicBezTo>
                        <a:pt x="18372" y="12219"/>
                        <a:pt x="18401" y="12234"/>
                        <a:pt x="18420" y="12258"/>
                      </a:cubicBezTo>
                      <a:cubicBezTo>
                        <a:pt x="18448" y="12274"/>
                        <a:pt x="18465" y="12294"/>
                        <a:pt x="18478" y="12316"/>
                      </a:cubicBezTo>
                      <a:cubicBezTo>
                        <a:pt x="18491" y="12338"/>
                        <a:pt x="18500" y="12363"/>
                        <a:pt x="18512" y="12388"/>
                      </a:cubicBezTo>
                      <a:cubicBezTo>
                        <a:pt x="18577" y="12344"/>
                        <a:pt x="18642" y="12300"/>
                        <a:pt x="18708" y="12256"/>
                      </a:cubicBezTo>
                      <a:cubicBezTo>
                        <a:pt x="18775" y="12213"/>
                        <a:pt x="18842" y="12171"/>
                        <a:pt x="18913" y="12131"/>
                      </a:cubicBezTo>
                      <a:cubicBezTo>
                        <a:pt x="18953" y="12106"/>
                        <a:pt x="18998" y="12078"/>
                        <a:pt x="19030" y="12047"/>
                      </a:cubicBezTo>
                      <a:cubicBezTo>
                        <a:pt x="19061" y="12016"/>
                        <a:pt x="19080" y="11982"/>
                        <a:pt x="19068" y="11946"/>
                      </a:cubicBezTo>
                      <a:cubicBezTo>
                        <a:pt x="19021" y="11929"/>
                        <a:pt x="18967" y="11927"/>
                        <a:pt x="18920" y="11938"/>
                      </a:cubicBezTo>
                      <a:cubicBezTo>
                        <a:pt x="18872" y="11949"/>
                        <a:pt x="18830" y="11974"/>
                        <a:pt x="18808" y="12009"/>
                      </a:cubicBezTo>
                      <a:cubicBezTo>
                        <a:pt x="18691" y="11967"/>
                        <a:pt x="18642" y="11858"/>
                        <a:pt x="18642" y="11770"/>
                      </a:cubicBezTo>
                      <a:cubicBezTo>
                        <a:pt x="18642" y="11736"/>
                        <a:pt x="18642" y="11698"/>
                        <a:pt x="18630" y="11664"/>
                      </a:cubicBezTo>
                      <a:cubicBezTo>
                        <a:pt x="18623" y="11645"/>
                        <a:pt x="18606" y="11628"/>
                        <a:pt x="18585" y="11616"/>
                      </a:cubicBezTo>
                      <a:cubicBezTo>
                        <a:pt x="18563" y="11604"/>
                        <a:pt x="18537" y="11599"/>
                        <a:pt x="18512" y="11606"/>
                      </a:cubicBezTo>
                      <a:cubicBezTo>
                        <a:pt x="18537" y="11587"/>
                        <a:pt x="18563" y="11567"/>
                        <a:pt x="18589" y="11546"/>
                      </a:cubicBezTo>
                      <a:cubicBezTo>
                        <a:pt x="18616" y="11525"/>
                        <a:pt x="18642" y="11502"/>
                        <a:pt x="18667" y="11479"/>
                      </a:cubicBezTo>
                      <a:cubicBezTo>
                        <a:pt x="18654" y="11475"/>
                        <a:pt x="18639" y="11473"/>
                        <a:pt x="18623" y="11471"/>
                      </a:cubicBezTo>
                      <a:cubicBezTo>
                        <a:pt x="18606" y="11469"/>
                        <a:pt x="18589" y="11467"/>
                        <a:pt x="18574" y="11463"/>
                      </a:cubicBezTo>
                      <a:cubicBezTo>
                        <a:pt x="18633" y="11427"/>
                        <a:pt x="18665" y="11378"/>
                        <a:pt x="18672" y="11328"/>
                      </a:cubicBezTo>
                      <a:cubicBezTo>
                        <a:pt x="18679" y="11277"/>
                        <a:pt x="18660" y="11225"/>
                        <a:pt x="18617" y="11181"/>
                      </a:cubicBezTo>
                      <a:cubicBezTo>
                        <a:pt x="18617" y="11193"/>
                        <a:pt x="18620" y="11204"/>
                        <a:pt x="18623" y="11215"/>
                      </a:cubicBezTo>
                      <a:cubicBezTo>
                        <a:pt x="18626" y="11226"/>
                        <a:pt x="18630" y="11237"/>
                        <a:pt x="18630" y="11252"/>
                      </a:cubicBezTo>
                      <a:cubicBezTo>
                        <a:pt x="18611" y="11229"/>
                        <a:pt x="18588" y="11209"/>
                        <a:pt x="18565" y="11189"/>
                      </a:cubicBezTo>
                      <a:cubicBezTo>
                        <a:pt x="18542" y="11169"/>
                        <a:pt x="18519" y="11149"/>
                        <a:pt x="18500" y="11126"/>
                      </a:cubicBezTo>
                      <a:cubicBezTo>
                        <a:pt x="18525" y="11113"/>
                        <a:pt x="18551" y="11105"/>
                        <a:pt x="18579" y="11100"/>
                      </a:cubicBezTo>
                      <a:cubicBezTo>
                        <a:pt x="18606" y="11094"/>
                        <a:pt x="18636" y="11092"/>
                        <a:pt x="18667" y="11092"/>
                      </a:cubicBezTo>
                      <a:cubicBezTo>
                        <a:pt x="18654" y="11044"/>
                        <a:pt x="18642" y="10996"/>
                        <a:pt x="18631" y="10947"/>
                      </a:cubicBezTo>
                      <a:cubicBezTo>
                        <a:pt x="18620" y="10899"/>
                        <a:pt x="18611" y="10850"/>
                        <a:pt x="18605" y="10802"/>
                      </a:cubicBezTo>
                      <a:cubicBezTo>
                        <a:pt x="18589" y="10754"/>
                        <a:pt x="18576" y="10702"/>
                        <a:pt x="18559" y="10651"/>
                      </a:cubicBezTo>
                      <a:cubicBezTo>
                        <a:pt x="18543" y="10599"/>
                        <a:pt x="18525" y="10548"/>
                        <a:pt x="18500" y="10499"/>
                      </a:cubicBezTo>
                      <a:cubicBezTo>
                        <a:pt x="18488" y="10482"/>
                        <a:pt x="18474" y="10466"/>
                        <a:pt x="18461" y="10448"/>
                      </a:cubicBezTo>
                      <a:cubicBezTo>
                        <a:pt x="18449" y="10431"/>
                        <a:pt x="18438" y="10413"/>
                        <a:pt x="18432" y="10394"/>
                      </a:cubicBezTo>
                      <a:cubicBezTo>
                        <a:pt x="18420" y="10354"/>
                        <a:pt x="18417" y="10306"/>
                        <a:pt x="18402" y="10264"/>
                      </a:cubicBezTo>
                      <a:cubicBezTo>
                        <a:pt x="18387" y="10223"/>
                        <a:pt x="18361" y="10188"/>
                        <a:pt x="18303" y="10175"/>
                      </a:cubicBezTo>
                      <a:cubicBezTo>
                        <a:pt x="18318" y="10140"/>
                        <a:pt x="18323" y="10102"/>
                        <a:pt x="18318" y="10065"/>
                      </a:cubicBezTo>
                      <a:cubicBezTo>
                        <a:pt x="18313" y="10028"/>
                        <a:pt x="18299" y="9992"/>
                        <a:pt x="18278" y="9961"/>
                      </a:cubicBezTo>
                      <a:cubicBezTo>
                        <a:pt x="18303" y="9936"/>
                        <a:pt x="18370" y="9936"/>
                        <a:pt x="18407" y="9952"/>
                      </a:cubicBezTo>
                      <a:cubicBezTo>
                        <a:pt x="18444" y="9969"/>
                        <a:pt x="18475" y="9999"/>
                        <a:pt x="18525" y="10016"/>
                      </a:cubicBezTo>
                      <a:cubicBezTo>
                        <a:pt x="18543" y="10024"/>
                        <a:pt x="18572" y="10024"/>
                        <a:pt x="18597" y="10019"/>
                      </a:cubicBezTo>
                      <a:cubicBezTo>
                        <a:pt x="18622" y="10013"/>
                        <a:pt x="18642" y="10003"/>
                        <a:pt x="18642" y="9990"/>
                      </a:cubicBezTo>
                      <a:cubicBezTo>
                        <a:pt x="18679" y="10121"/>
                        <a:pt x="18722" y="10272"/>
                        <a:pt x="18864" y="10369"/>
                      </a:cubicBezTo>
                      <a:cubicBezTo>
                        <a:pt x="18889" y="10386"/>
                        <a:pt x="18913" y="10394"/>
                        <a:pt x="18913" y="10419"/>
                      </a:cubicBezTo>
                      <a:cubicBezTo>
                        <a:pt x="18913" y="10440"/>
                        <a:pt x="18901" y="10457"/>
                        <a:pt x="18889" y="10474"/>
                      </a:cubicBezTo>
                      <a:cubicBezTo>
                        <a:pt x="18861" y="10522"/>
                        <a:pt x="18896" y="10567"/>
                        <a:pt x="18940" y="10611"/>
                      </a:cubicBezTo>
                      <a:cubicBezTo>
                        <a:pt x="18984" y="10655"/>
                        <a:pt x="19037" y="10699"/>
                        <a:pt x="19043" y="10747"/>
                      </a:cubicBezTo>
                      <a:lnTo>
                        <a:pt x="19043" y="10819"/>
                      </a:lnTo>
                      <a:cubicBezTo>
                        <a:pt x="19049" y="10832"/>
                        <a:pt x="19061" y="10842"/>
                        <a:pt x="19076" y="10847"/>
                      </a:cubicBezTo>
                      <a:cubicBezTo>
                        <a:pt x="19091" y="10853"/>
                        <a:pt x="19108" y="10853"/>
                        <a:pt x="19123" y="10844"/>
                      </a:cubicBezTo>
                      <a:cubicBezTo>
                        <a:pt x="19123" y="10764"/>
                        <a:pt x="19115" y="10685"/>
                        <a:pt x="19102" y="10608"/>
                      </a:cubicBezTo>
                      <a:cubicBezTo>
                        <a:pt x="19088" y="10530"/>
                        <a:pt x="19068" y="10453"/>
                        <a:pt x="19043" y="10377"/>
                      </a:cubicBezTo>
                      <a:cubicBezTo>
                        <a:pt x="19031" y="10341"/>
                        <a:pt x="19014" y="10303"/>
                        <a:pt x="19002" y="10263"/>
                      </a:cubicBezTo>
                      <a:cubicBezTo>
                        <a:pt x="18990" y="10224"/>
                        <a:pt x="18984" y="10184"/>
                        <a:pt x="18994" y="10146"/>
                      </a:cubicBezTo>
                      <a:cubicBezTo>
                        <a:pt x="19000" y="10106"/>
                        <a:pt x="19012" y="10067"/>
                        <a:pt x="19036" y="10033"/>
                      </a:cubicBezTo>
                      <a:cubicBezTo>
                        <a:pt x="19060" y="10000"/>
                        <a:pt x="19095" y="9971"/>
                        <a:pt x="19148" y="9952"/>
                      </a:cubicBezTo>
                      <a:cubicBezTo>
                        <a:pt x="19108" y="9952"/>
                        <a:pt x="19085" y="9932"/>
                        <a:pt x="19075" y="9907"/>
                      </a:cubicBezTo>
                      <a:cubicBezTo>
                        <a:pt x="19065" y="9882"/>
                        <a:pt x="19068" y="9851"/>
                        <a:pt x="19080" y="9830"/>
                      </a:cubicBezTo>
                      <a:cubicBezTo>
                        <a:pt x="19092" y="9807"/>
                        <a:pt x="19115" y="9783"/>
                        <a:pt x="19134" y="9759"/>
                      </a:cubicBezTo>
                      <a:cubicBezTo>
                        <a:pt x="19152" y="9735"/>
                        <a:pt x="19166" y="9711"/>
                        <a:pt x="19160" y="9687"/>
                      </a:cubicBezTo>
                      <a:cubicBezTo>
                        <a:pt x="19148" y="9662"/>
                        <a:pt x="19123" y="9637"/>
                        <a:pt x="19123" y="9607"/>
                      </a:cubicBezTo>
                      <a:cubicBezTo>
                        <a:pt x="19123" y="9574"/>
                        <a:pt x="19160" y="9540"/>
                        <a:pt x="19172" y="9502"/>
                      </a:cubicBezTo>
                      <a:cubicBezTo>
                        <a:pt x="19185" y="9443"/>
                        <a:pt x="19117" y="9385"/>
                        <a:pt x="19055" y="9334"/>
                      </a:cubicBezTo>
                      <a:cubicBezTo>
                        <a:pt x="18987" y="9279"/>
                        <a:pt x="18950" y="9212"/>
                        <a:pt x="19006" y="9157"/>
                      </a:cubicBezTo>
                      <a:cubicBezTo>
                        <a:pt x="18978" y="9157"/>
                        <a:pt x="18958" y="9149"/>
                        <a:pt x="18942" y="9137"/>
                      </a:cubicBezTo>
                      <a:cubicBezTo>
                        <a:pt x="18926" y="9126"/>
                        <a:pt x="18913" y="9111"/>
                        <a:pt x="18901" y="9099"/>
                      </a:cubicBezTo>
                      <a:cubicBezTo>
                        <a:pt x="18867" y="9050"/>
                        <a:pt x="18847" y="8996"/>
                        <a:pt x="18842" y="8943"/>
                      </a:cubicBezTo>
                      <a:cubicBezTo>
                        <a:pt x="18838" y="8889"/>
                        <a:pt x="18849" y="8836"/>
                        <a:pt x="18876" y="8787"/>
                      </a:cubicBezTo>
                      <a:cubicBezTo>
                        <a:pt x="18895" y="8747"/>
                        <a:pt x="18920" y="8710"/>
                        <a:pt x="18948" y="8675"/>
                      </a:cubicBezTo>
                      <a:cubicBezTo>
                        <a:pt x="18977" y="8639"/>
                        <a:pt x="19009" y="8604"/>
                        <a:pt x="19043" y="8568"/>
                      </a:cubicBezTo>
                      <a:cubicBezTo>
                        <a:pt x="19024" y="8533"/>
                        <a:pt x="19018" y="8493"/>
                        <a:pt x="19023" y="8453"/>
                      </a:cubicBezTo>
                      <a:cubicBezTo>
                        <a:pt x="19028" y="8413"/>
                        <a:pt x="19043" y="8373"/>
                        <a:pt x="19068" y="8337"/>
                      </a:cubicBezTo>
                      <a:cubicBezTo>
                        <a:pt x="19037" y="8341"/>
                        <a:pt x="19001" y="8343"/>
                        <a:pt x="18972" y="8339"/>
                      </a:cubicBezTo>
                      <a:cubicBezTo>
                        <a:pt x="18943" y="8335"/>
                        <a:pt x="18920" y="8325"/>
                        <a:pt x="18913" y="8303"/>
                      </a:cubicBezTo>
                      <a:cubicBezTo>
                        <a:pt x="18913" y="8295"/>
                        <a:pt x="18916" y="8289"/>
                        <a:pt x="18921" y="8282"/>
                      </a:cubicBezTo>
                      <a:cubicBezTo>
                        <a:pt x="18926" y="8275"/>
                        <a:pt x="18932" y="8268"/>
                        <a:pt x="18938" y="8257"/>
                      </a:cubicBezTo>
                      <a:cubicBezTo>
                        <a:pt x="18957" y="8228"/>
                        <a:pt x="18941" y="8189"/>
                        <a:pt x="18930" y="8152"/>
                      </a:cubicBezTo>
                      <a:cubicBezTo>
                        <a:pt x="18920" y="8114"/>
                        <a:pt x="18913" y="8078"/>
                        <a:pt x="18950" y="8055"/>
                      </a:cubicBezTo>
                      <a:cubicBezTo>
                        <a:pt x="18963" y="8047"/>
                        <a:pt x="18980" y="8043"/>
                        <a:pt x="18998" y="8040"/>
                      </a:cubicBezTo>
                      <a:cubicBezTo>
                        <a:pt x="19017" y="8036"/>
                        <a:pt x="19037" y="8034"/>
                        <a:pt x="19055" y="8030"/>
                      </a:cubicBezTo>
                      <a:cubicBezTo>
                        <a:pt x="19102" y="8017"/>
                        <a:pt x="19122" y="7989"/>
                        <a:pt x="19126" y="7956"/>
                      </a:cubicBezTo>
                      <a:cubicBezTo>
                        <a:pt x="19131" y="7923"/>
                        <a:pt x="19120" y="7885"/>
                        <a:pt x="19105" y="7853"/>
                      </a:cubicBezTo>
                      <a:cubicBezTo>
                        <a:pt x="19092" y="7822"/>
                        <a:pt x="19083" y="7784"/>
                        <a:pt x="19087" y="7751"/>
                      </a:cubicBezTo>
                      <a:cubicBezTo>
                        <a:pt x="19091" y="7718"/>
                        <a:pt x="19108" y="7689"/>
                        <a:pt x="19148" y="7677"/>
                      </a:cubicBezTo>
                      <a:cubicBezTo>
                        <a:pt x="19160" y="7673"/>
                        <a:pt x="19172" y="7670"/>
                        <a:pt x="19185" y="7668"/>
                      </a:cubicBezTo>
                      <a:cubicBezTo>
                        <a:pt x="19197" y="7666"/>
                        <a:pt x="19210" y="7664"/>
                        <a:pt x="19222" y="7660"/>
                      </a:cubicBezTo>
                      <a:cubicBezTo>
                        <a:pt x="19250" y="7647"/>
                        <a:pt x="19263" y="7629"/>
                        <a:pt x="19272" y="7609"/>
                      </a:cubicBezTo>
                      <a:cubicBezTo>
                        <a:pt x="19280" y="7589"/>
                        <a:pt x="19284" y="7567"/>
                        <a:pt x="19290" y="7546"/>
                      </a:cubicBezTo>
                      <a:cubicBezTo>
                        <a:pt x="19296" y="7502"/>
                        <a:pt x="19314" y="7460"/>
                        <a:pt x="19334" y="7418"/>
                      </a:cubicBezTo>
                      <a:cubicBezTo>
                        <a:pt x="19353" y="7376"/>
                        <a:pt x="19373" y="7334"/>
                        <a:pt x="19382" y="7290"/>
                      </a:cubicBezTo>
                      <a:cubicBezTo>
                        <a:pt x="19388" y="7246"/>
                        <a:pt x="19371" y="7197"/>
                        <a:pt x="19337" y="7160"/>
                      </a:cubicBezTo>
                      <a:cubicBezTo>
                        <a:pt x="19302" y="7123"/>
                        <a:pt x="19250" y="7096"/>
                        <a:pt x="19185" y="7096"/>
                      </a:cubicBezTo>
                      <a:cubicBezTo>
                        <a:pt x="19191" y="7161"/>
                        <a:pt x="19159" y="7230"/>
                        <a:pt x="19101" y="7285"/>
                      </a:cubicBezTo>
                      <a:cubicBezTo>
                        <a:pt x="19043" y="7340"/>
                        <a:pt x="18960" y="7382"/>
                        <a:pt x="18864" y="7395"/>
                      </a:cubicBezTo>
                      <a:cubicBezTo>
                        <a:pt x="18842" y="7342"/>
                        <a:pt x="18839" y="7287"/>
                        <a:pt x="18849" y="7231"/>
                      </a:cubicBezTo>
                      <a:cubicBezTo>
                        <a:pt x="18859" y="7175"/>
                        <a:pt x="18883" y="7119"/>
                        <a:pt x="18913" y="7067"/>
                      </a:cubicBezTo>
                      <a:cubicBezTo>
                        <a:pt x="18873" y="7058"/>
                        <a:pt x="18847" y="7036"/>
                        <a:pt x="18829" y="7009"/>
                      </a:cubicBezTo>
                      <a:cubicBezTo>
                        <a:pt x="18812" y="6982"/>
                        <a:pt x="18802" y="6949"/>
                        <a:pt x="18796" y="6920"/>
                      </a:cubicBezTo>
                      <a:cubicBezTo>
                        <a:pt x="18790" y="6871"/>
                        <a:pt x="18784" y="6820"/>
                        <a:pt x="18776" y="6768"/>
                      </a:cubicBezTo>
                      <a:cubicBezTo>
                        <a:pt x="18768" y="6717"/>
                        <a:pt x="18759" y="6665"/>
                        <a:pt x="18747" y="6617"/>
                      </a:cubicBezTo>
                      <a:cubicBezTo>
                        <a:pt x="18784" y="6503"/>
                        <a:pt x="19031" y="6457"/>
                        <a:pt x="19148" y="6537"/>
                      </a:cubicBezTo>
                      <a:cubicBezTo>
                        <a:pt x="19172" y="6554"/>
                        <a:pt x="19185" y="6583"/>
                        <a:pt x="19222" y="6583"/>
                      </a:cubicBezTo>
                      <a:cubicBezTo>
                        <a:pt x="19222" y="6520"/>
                        <a:pt x="19382" y="6495"/>
                        <a:pt x="19382" y="6432"/>
                      </a:cubicBezTo>
                      <a:cubicBezTo>
                        <a:pt x="19382" y="6415"/>
                        <a:pt x="19364" y="6398"/>
                        <a:pt x="19364" y="6381"/>
                      </a:cubicBezTo>
                      <a:cubicBezTo>
                        <a:pt x="19364" y="6360"/>
                        <a:pt x="19382" y="6335"/>
                        <a:pt x="19395" y="6318"/>
                      </a:cubicBezTo>
                      <a:cubicBezTo>
                        <a:pt x="19444" y="6253"/>
                        <a:pt x="19486" y="6187"/>
                        <a:pt x="19521" y="6119"/>
                      </a:cubicBezTo>
                      <a:cubicBezTo>
                        <a:pt x="19557" y="6051"/>
                        <a:pt x="19586" y="5982"/>
                        <a:pt x="19611" y="5910"/>
                      </a:cubicBezTo>
                      <a:cubicBezTo>
                        <a:pt x="19632" y="5925"/>
                        <a:pt x="19658" y="5925"/>
                        <a:pt x="19682" y="5917"/>
                      </a:cubicBezTo>
                      <a:cubicBezTo>
                        <a:pt x="19706" y="5909"/>
                        <a:pt x="19728" y="5893"/>
                        <a:pt x="19740" y="5876"/>
                      </a:cubicBezTo>
                      <a:cubicBezTo>
                        <a:pt x="19746" y="5860"/>
                        <a:pt x="19749" y="5840"/>
                        <a:pt x="19755" y="5821"/>
                      </a:cubicBezTo>
                      <a:cubicBezTo>
                        <a:pt x="19760" y="5802"/>
                        <a:pt x="19768" y="5784"/>
                        <a:pt x="19783" y="5771"/>
                      </a:cubicBezTo>
                      <a:cubicBezTo>
                        <a:pt x="19796" y="5759"/>
                        <a:pt x="19811" y="5747"/>
                        <a:pt x="19826" y="5737"/>
                      </a:cubicBezTo>
                      <a:cubicBezTo>
                        <a:pt x="19842" y="5726"/>
                        <a:pt x="19857" y="5717"/>
                        <a:pt x="19870" y="5708"/>
                      </a:cubicBezTo>
                      <a:cubicBezTo>
                        <a:pt x="19928" y="5672"/>
                        <a:pt x="19971" y="5628"/>
                        <a:pt x="19998" y="5580"/>
                      </a:cubicBezTo>
                      <a:cubicBezTo>
                        <a:pt x="20024" y="5531"/>
                        <a:pt x="20033" y="5479"/>
                        <a:pt x="20024" y="5426"/>
                      </a:cubicBezTo>
                      <a:cubicBezTo>
                        <a:pt x="19968" y="5418"/>
                        <a:pt x="19917" y="5389"/>
                        <a:pt x="19884" y="5353"/>
                      </a:cubicBezTo>
                      <a:cubicBezTo>
                        <a:pt x="19850" y="5317"/>
                        <a:pt x="19833" y="5273"/>
                        <a:pt x="19845" y="5233"/>
                      </a:cubicBezTo>
                      <a:cubicBezTo>
                        <a:pt x="19879" y="5241"/>
                        <a:pt x="19908" y="5250"/>
                        <a:pt x="19937" y="5259"/>
                      </a:cubicBezTo>
                      <a:cubicBezTo>
                        <a:pt x="19965" y="5267"/>
                        <a:pt x="19993" y="5277"/>
                        <a:pt x="20024" y="5287"/>
                      </a:cubicBezTo>
                      <a:cubicBezTo>
                        <a:pt x="20052" y="5243"/>
                        <a:pt x="20075" y="5199"/>
                        <a:pt x="20097" y="5155"/>
                      </a:cubicBezTo>
                      <a:cubicBezTo>
                        <a:pt x="20120" y="5111"/>
                        <a:pt x="20141" y="5067"/>
                        <a:pt x="20166" y="5022"/>
                      </a:cubicBezTo>
                      <a:cubicBezTo>
                        <a:pt x="20206" y="5039"/>
                        <a:pt x="20255" y="5052"/>
                        <a:pt x="20306" y="5057"/>
                      </a:cubicBezTo>
                      <a:cubicBezTo>
                        <a:pt x="20357" y="5062"/>
                        <a:pt x="20410" y="5060"/>
                        <a:pt x="20456" y="5048"/>
                      </a:cubicBezTo>
                      <a:cubicBezTo>
                        <a:pt x="20450" y="5031"/>
                        <a:pt x="20453" y="5013"/>
                        <a:pt x="20462" y="4997"/>
                      </a:cubicBezTo>
                      <a:cubicBezTo>
                        <a:pt x="20471" y="4981"/>
                        <a:pt x="20487" y="4968"/>
                        <a:pt x="20505" y="4959"/>
                      </a:cubicBezTo>
                      <a:cubicBezTo>
                        <a:pt x="20530" y="4951"/>
                        <a:pt x="20554" y="4943"/>
                        <a:pt x="20554" y="4926"/>
                      </a:cubicBezTo>
                      <a:cubicBezTo>
                        <a:pt x="20554" y="4913"/>
                        <a:pt x="20554" y="4896"/>
                        <a:pt x="20542" y="4888"/>
                      </a:cubicBezTo>
                      <a:cubicBezTo>
                        <a:pt x="20524" y="4867"/>
                        <a:pt x="20505" y="4843"/>
                        <a:pt x="20486" y="4818"/>
                      </a:cubicBezTo>
                      <a:cubicBezTo>
                        <a:pt x="20467" y="4794"/>
                        <a:pt x="20447" y="4770"/>
                        <a:pt x="20425" y="4749"/>
                      </a:cubicBezTo>
                      <a:cubicBezTo>
                        <a:pt x="20459" y="4739"/>
                        <a:pt x="20496" y="4733"/>
                        <a:pt x="20532" y="4734"/>
                      </a:cubicBezTo>
                      <a:cubicBezTo>
                        <a:pt x="20568" y="4735"/>
                        <a:pt x="20604" y="4743"/>
                        <a:pt x="20635" y="4757"/>
                      </a:cubicBezTo>
                      <a:cubicBezTo>
                        <a:pt x="20647" y="4766"/>
                        <a:pt x="20659" y="4774"/>
                        <a:pt x="20674" y="4781"/>
                      </a:cubicBezTo>
                      <a:cubicBezTo>
                        <a:pt x="20689" y="4787"/>
                        <a:pt x="20706" y="4791"/>
                        <a:pt x="20727" y="4791"/>
                      </a:cubicBezTo>
                      <a:cubicBezTo>
                        <a:pt x="20752" y="4795"/>
                        <a:pt x="20774" y="4787"/>
                        <a:pt x="20793" y="4774"/>
                      </a:cubicBezTo>
                      <a:cubicBezTo>
                        <a:pt x="20812" y="4761"/>
                        <a:pt x="20829" y="4743"/>
                        <a:pt x="20844" y="4728"/>
                      </a:cubicBezTo>
                      <a:cubicBezTo>
                        <a:pt x="20863" y="4707"/>
                        <a:pt x="20878" y="4687"/>
                        <a:pt x="20889" y="4667"/>
                      </a:cubicBezTo>
                      <a:cubicBezTo>
                        <a:pt x="20900" y="4647"/>
                        <a:pt x="20906" y="4627"/>
                        <a:pt x="20906" y="4606"/>
                      </a:cubicBezTo>
                      <a:cubicBezTo>
                        <a:pt x="20912" y="4545"/>
                        <a:pt x="20865" y="4487"/>
                        <a:pt x="20821" y="4430"/>
                      </a:cubicBezTo>
                      <a:cubicBezTo>
                        <a:pt x="20778" y="4374"/>
                        <a:pt x="20740" y="4318"/>
                        <a:pt x="20764" y="4261"/>
                      </a:cubicBezTo>
                      <a:cubicBezTo>
                        <a:pt x="20823" y="4293"/>
                        <a:pt x="20881" y="4326"/>
                        <a:pt x="20936" y="4363"/>
                      </a:cubicBezTo>
                      <a:cubicBezTo>
                        <a:pt x="20991" y="4400"/>
                        <a:pt x="21042" y="4440"/>
                        <a:pt x="21085" y="4484"/>
                      </a:cubicBezTo>
                      <a:cubicBezTo>
                        <a:pt x="21125" y="4440"/>
                        <a:pt x="21165" y="4394"/>
                        <a:pt x="21213" y="4355"/>
                      </a:cubicBezTo>
                      <a:cubicBezTo>
                        <a:pt x="21261" y="4316"/>
                        <a:pt x="21316" y="4284"/>
                        <a:pt x="21387" y="4270"/>
                      </a:cubicBezTo>
                      <a:cubicBezTo>
                        <a:pt x="21412" y="4265"/>
                        <a:pt x="21437" y="4261"/>
                        <a:pt x="21459" y="4256"/>
                      </a:cubicBezTo>
                      <a:cubicBezTo>
                        <a:pt x="21481" y="4251"/>
                        <a:pt x="21502" y="4244"/>
                        <a:pt x="21517" y="4236"/>
                      </a:cubicBezTo>
                      <a:cubicBezTo>
                        <a:pt x="21535" y="4223"/>
                        <a:pt x="21542" y="4203"/>
                        <a:pt x="21536" y="4186"/>
                      </a:cubicBezTo>
                      <a:cubicBezTo>
                        <a:pt x="21531" y="4170"/>
                        <a:pt x="21514" y="4156"/>
                        <a:pt x="21486" y="4156"/>
                      </a:cubicBezTo>
                      <a:cubicBezTo>
                        <a:pt x="21566" y="4139"/>
                        <a:pt x="21579" y="4076"/>
                        <a:pt x="21579" y="4026"/>
                      </a:cubicBezTo>
                      <a:cubicBezTo>
                        <a:pt x="21579" y="3971"/>
                        <a:pt x="21554" y="3916"/>
                        <a:pt x="21591" y="3866"/>
                      </a:cubicBezTo>
                      <a:cubicBezTo>
                        <a:pt x="21526" y="3866"/>
                        <a:pt x="21505" y="3826"/>
                        <a:pt x="21486" y="3782"/>
                      </a:cubicBezTo>
                      <a:cubicBezTo>
                        <a:pt x="21468" y="3737"/>
                        <a:pt x="21452" y="3689"/>
                        <a:pt x="21400" y="3672"/>
                      </a:cubicBezTo>
                      <a:cubicBezTo>
                        <a:pt x="21366" y="3657"/>
                        <a:pt x="21324" y="3655"/>
                        <a:pt x="21289" y="3651"/>
                      </a:cubicBezTo>
                      <a:cubicBezTo>
                        <a:pt x="21253" y="3647"/>
                        <a:pt x="21224" y="3641"/>
                        <a:pt x="21215" y="3618"/>
                      </a:cubicBezTo>
                      <a:cubicBezTo>
                        <a:pt x="21184" y="3630"/>
                        <a:pt x="21151" y="3639"/>
                        <a:pt x="21119" y="3644"/>
                      </a:cubicBezTo>
                      <a:cubicBezTo>
                        <a:pt x="21087" y="3649"/>
                        <a:pt x="21054" y="3651"/>
                        <a:pt x="21023" y="3651"/>
                      </a:cubicBezTo>
                      <a:cubicBezTo>
                        <a:pt x="21005" y="3626"/>
                        <a:pt x="20988" y="3598"/>
                        <a:pt x="20969" y="3569"/>
                      </a:cubicBezTo>
                      <a:cubicBezTo>
                        <a:pt x="20951" y="3541"/>
                        <a:pt x="20931" y="3512"/>
                        <a:pt x="20906" y="3487"/>
                      </a:cubicBezTo>
                      <a:cubicBezTo>
                        <a:pt x="20888" y="3460"/>
                        <a:pt x="20861" y="3432"/>
                        <a:pt x="20829" y="3411"/>
                      </a:cubicBezTo>
                      <a:cubicBezTo>
                        <a:pt x="20797" y="3389"/>
                        <a:pt x="20758" y="3374"/>
                        <a:pt x="20715" y="3369"/>
                      </a:cubicBezTo>
                      <a:cubicBezTo>
                        <a:pt x="20669" y="3361"/>
                        <a:pt x="20619" y="3366"/>
                        <a:pt x="20580" y="3381"/>
                      </a:cubicBezTo>
                      <a:cubicBezTo>
                        <a:pt x="20541" y="3396"/>
                        <a:pt x="20511" y="3420"/>
                        <a:pt x="20505" y="3449"/>
                      </a:cubicBezTo>
                      <a:cubicBezTo>
                        <a:pt x="20434" y="3424"/>
                        <a:pt x="20357" y="3402"/>
                        <a:pt x="20278" y="3384"/>
                      </a:cubicBezTo>
                      <a:cubicBezTo>
                        <a:pt x="20200" y="3366"/>
                        <a:pt x="20120" y="3353"/>
                        <a:pt x="20042" y="3344"/>
                      </a:cubicBezTo>
                      <a:cubicBezTo>
                        <a:pt x="20033" y="3361"/>
                        <a:pt x="20016" y="3373"/>
                        <a:pt x="19997" y="3381"/>
                      </a:cubicBezTo>
                      <a:cubicBezTo>
                        <a:pt x="19978" y="3389"/>
                        <a:pt x="19956" y="3395"/>
                        <a:pt x="19938" y="3399"/>
                      </a:cubicBezTo>
                      <a:cubicBezTo>
                        <a:pt x="19916" y="3407"/>
                        <a:pt x="19896" y="3420"/>
                        <a:pt x="19886" y="3433"/>
                      </a:cubicBezTo>
                      <a:cubicBezTo>
                        <a:pt x="19876" y="3447"/>
                        <a:pt x="19876" y="3462"/>
                        <a:pt x="19894" y="3475"/>
                      </a:cubicBezTo>
                      <a:cubicBezTo>
                        <a:pt x="19863" y="3475"/>
                        <a:pt x="19831" y="3478"/>
                        <a:pt x="19800" y="3481"/>
                      </a:cubicBezTo>
                      <a:cubicBezTo>
                        <a:pt x="19769" y="3484"/>
                        <a:pt x="19740" y="3487"/>
                        <a:pt x="19715" y="3487"/>
                      </a:cubicBezTo>
                      <a:cubicBezTo>
                        <a:pt x="19715" y="3504"/>
                        <a:pt x="19719" y="3521"/>
                        <a:pt x="19725" y="3538"/>
                      </a:cubicBezTo>
                      <a:cubicBezTo>
                        <a:pt x="19731" y="3555"/>
                        <a:pt x="19740" y="3573"/>
                        <a:pt x="19752" y="3592"/>
                      </a:cubicBezTo>
                      <a:cubicBezTo>
                        <a:pt x="19740" y="3613"/>
                        <a:pt x="19714" y="3626"/>
                        <a:pt x="19683" y="3631"/>
                      </a:cubicBezTo>
                      <a:cubicBezTo>
                        <a:pt x="19652" y="3636"/>
                        <a:pt x="19617" y="3634"/>
                        <a:pt x="19586" y="3626"/>
                      </a:cubicBezTo>
                      <a:cubicBezTo>
                        <a:pt x="19552" y="3618"/>
                        <a:pt x="19526" y="3605"/>
                        <a:pt x="19505" y="3589"/>
                      </a:cubicBezTo>
                      <a:cubicBezTo>
                        <a:pt x="19484" y="3572"/>
                        <a:pt x="19469" y="3552"/>
                        <a:pt x="19456" y="3529"/>
                      </a:cubicBezTo>
                      <a:cubicBezTo>
                        <a:pt x="19432" y="3512"/>
                        <a:pt x="19419" y="3487"/>
                        <a:pt x="19419" y="3466"/>
                      </a:cubicBezTo>
                      <a:cubicBezTo>
                        <a:pt x="19419" y="3441"/>
                        <a:pt x="19444" y="3407"/>
                        <a:pt x="19432" y="3378"/>
                      </a:cubicBezTo>
                      <a:cubicBezTo>
                        <a:pt x="19425" y="3357"/>
                        <a:pt x="19396" y="3343"/>
                        <a:pt x="19364" y="3339"/>
                      </a:cubicBezTo>
                      <a:cubicBezTo>
                        <a:pt x="19331" y="3336"/>
                        <a:pt x="19296" y="3342"/>
                        <a:pt x="19277" y="3361"/>
                      </a:cubicBezTo>
                      <a:cubicBezTo>
                        <a:pt x="19256" y="3378"/>
                        <a:pt x="19245" y="3400"/>
                        <a:pt x="19245" y="3422"/>
                      </a:cubicBezTo>
                      <a:cubicBezTo>
                        <a:pt x="19245" y="3445"/>
                        <a:pt x="19256" y="3468"/>
                        <a:pt x="19277" y="3487"/>
                      </a:cubicBezTo>
                      <a:cubicBezTo>
                        <a:pt x="19231" y="3496"/>
                        <a:pt x="19193" y="3510"/>
                        <a:pt x="19163" y="3531"/>
                      </a:cubicBezTo>
                      <a:cubicBezTo>
                        <a:pt x="19134" y="3551"/>
                        <a:pt x="19114" y="3578"/>
                        <a:pt x="19105" y="3609"/>
                      </a:cubicBezTo>
                      <a:cubicBezTo>
                        <a:pt x="19092" y="3643"/>
                        <a:pt x="19105" y="3672"/>
                        <a:pt x="19092" y="3706"/>
                      </a:cubicBezTo>
                      <a:cubicBezTo>
                        <a:pt x="19080" y="3740"/>
                        <a:pt x="19043" y="3769"/>
                        <a:pt x="18994" y="3761"/>
                      </a:cubicBezTo>
                      <a:cubicBezTo>
                        <a:pt x="18852" y="3714"/>
                        <a:pt x="18901" y="3512"/>
                        <a:pt x="18747" y="3496"/>
                      </a:cubicBezTo>
                      <a:cubicBezTo>
                        <a:pt x="18667" y="3487"/>
                        <a:pt x="18617" y="3538"/>
                        <a:pt x="18593" y="3592"/>
                      </a:cubicBezTo>
                      <a:cubicBezTo>
                        <a:pt x="18583" y="3618"/>
                        <a:pt x="18583" y="3644"/>
                        <a:pt x="18586" y="3669"/>
                      </a:cubicBezTo>
                      <a:cubicBezTo>
                        <a:pt x="18588" y="3694"/>
                        <a:pt x="18593" y="3718"/>
                        <a:pt x="18593" y="3740"/>
                      </a:cubicBezTo>
                      <a:cubicBezTo>
                        <a:pt x="18583" y="3803"/>
                        <a:pt x="18551" y="3860"/>
                        <a:pt x="18505" y="3914"/>
                      </a:cubicBezTo>
                      <a:cubicBezTo>
                        <a:pt x="18458" y="3967"/>
                        <a:pt x="18398" y="4015"/>
                        <a:pt x="18333" y="4059"/>
                      </a:cubicBezTo>
                      <a:cubicBezTo>
                        <a:pt x="18312" y="4072"/>
                        <a:pt x="18292" y="4085"/>
                        <a:pt x="18274" y="4100"/>
                      </a:cubicBezTo>
                      <a:cubicBezTo>
                        <a:pt x="18256" y="4115"/>
                        <a:pt x="18241" y="4131"/>
                        <a:pt x="18229" y="4148"/>
                      </a:cubicBezTo>
                      <a:cubicBezTo>
                        <a:pt x="18216" y="4160"/>
                        <a:pt x="18210" y="4176"/>
                        <a:pt x="18203" y="4192"/>
                      </a:cubicBezTo>
                      <a:cubicBezTo>
                        <a:pt x="18196" y="4207"/>
                        <a:pt x="18188" y="4223"/>
                        <a:pt x="18173" y="4236"/>
                      </a:cubicBezTo>
                      <a:cubicBezTo>
                        <a:pt x="18161" y="4257"/>
                        <a:pt x="18142" y="4277"/>
                        <a:pt x="18120" y="4296"/>
                      </a:cubicBezTo>
                      <a:cubicBezTo>
                        <a:pt x="18097" y="4315"/>
                        <a:pt x="18071" y="4333"/>
                        <a:pt x="18043" y="4349"/>
                      </a:cubicBezTo>
                      <a:cubicBezTo>
                        <a:pt x="17994" y="4385"/>
                        <a:pt x="17943" y="4421"/>
                        <a:pt x="17892" y="4458"/>
                      </a:cubicBezTo>
                      <a:cubicBezTo>
                        <a:pt x="17840" y="4495"/>
                        <a:pt x="17787" y="4532"/>
                        <a:pt x="17735" y="4572"/>
                      </a:cubicBezTo>
                      <a:cubicBezTo>
                        <a:pt x="17710" y="4589"/>
                        <a:pt x="17686" y="4606"/>
                        <a:pt x="17661" y="4606"/>
                      </a:cubicBezTo>
                      <a:cubicBezTo>
                        <a:pt x="17605" y="4606"/>
                        <a:pt x="17581" y="4560"/>
                        <a:pt x="17593" y="4526"/>
                      </a:cubicBezTo>
                      <a:cubicBezTo>
                        <a:pt x="17599" y="4507"/>
                        <a:pt x="17612" y="4491"/>
                        <a:pt x="17628" y="4478"/>
                      </a:cubicBezTo>
                      <a:cubicBezTo>
                        <a:pt x="17644" y="4465"/>
                        <a:pt x="17664" y="4455"/>
                        <a:pt x="17686" y="4446"/>
                      </a:cubicBezTo>
                      <a:cubicBezTo>
                        <a:pt x="17815" y="4366"/>
                        <a:pt x="17912" y="4267"/>
                        <a:pt x="17985" y="4160"/>
                      </a:cubicBezTo>
                      <a:cubicBezTo>
                        <a:pt x="18057" y="4052"/>
                        <a:pt x="18105" y="3935"/>
                        <a:pt x="18136" y="3819"/>
                      </a:cubicBezTo>
                      <a:cubicBezTo>
                        <a:pt x="18142" y="3803"/>
                        <a:pt x="18145" y="3788"/>
                        <a:pt x="18145" y="3773"/>
                      </a:cubicBezTo>
                      <a:cubicBezTo>
                        <a:pt x="18145" y="3757"/>
                        <a:pt x="18142" y="3742"/>
                        <a:pt x="18136" y="3723"/>
                      </a:cubicBezTo>
                      <a:cubicBezTo>
                        <a:pt x="18130" y="3710"/>
                        <a:pt x="18121" y="3700"/>
                        <a:pt x="18110" y="3689"/>
                      </a:cubicBezTo>
                      <a:cubicBezTo>
                        <a:pt x="18099" y="3677"/>
                        <a:pt x="18087" y="3666"/>
                        <a:pt x="18074" y="3651"/>
                      </a:cubicBezTo>
                      <a:cubicBezTo>
                        <a:pt x="18053" y="3622"/>
                        <a:pt x="18045" y="3589"/>
                        <a:pt x="18051" y="3557"/>
                      </a:cubicBezTo>
                      <a:cubicBezTo>
                        <a:pt x="18057" y="3525"/>
                        <a:pt x="18077" y="3493"/>
                        <a:pt x="18111" y="3466"/>
                      </a:cubicBezTo>
                      <a:cubicBezTo>
                        <a:pt x="18059" y="3449"/>
                        <a:pt x="18010" y="3432"/>
                        <a:pt x="17961" y="3416"/>
                      </a:cubicBezTo>
                      <a:cubicBezTo>
                        <a:pt x="17912" y="3400"/>
                        <a:pt x="17865" y="3384"/>
                        <a:pt x="17815" y="3369"/>
                      </a:cubicBezTo>
                      <a:cubicBezTo>
                        <a:pt x="17809" y="3365"/>
                        <a:pt x="17798" y="3363"/>
                        <a:pt x="17787" y="3361"/>
                      </a:cubicBezTo>
                      <a:cubicBezTo>
                        <a:pt x="17777" y="3359"/>
                        <a:pt x="17766" y="3357"/>
                        <a:pt x="17760" y="3353"/>
                      </a:cubicBezTo>
                      <a:cubicBezTo>
                        <a:pt x="17723" y="3348"/>
                        <a:pt x="17684" y="3355"/>
                        <a:pt x="17650" y="3368"/>
                      </a:cubicBezTo>
                      <a:cubicBezTo>
                        <a:pt x="17616" y="3381"/>
                        <a:pt x="17587" y="3401"/>
                        <a:pt x="17568" y="3424"/>
                      </a:cubicBezTo>
                      <a:cubicBezTo>
                        <a:pt x="17541" y="3445"/>
                        <a:pt x="17517" y="3467"/>
                        <a:pt x="17494" y="3487"/>
                      </a:cubicBezTo>
                      <a:cubicBezTo>
                        <a:pt x="17470" y="3507"/>
                        <a:pt x="17445" y="3525"/>
                        <a:pt x="17414" y="3538"/>
                      </a:cubicBezTo>
                      <a:cubicBezTo>
                        <a:pt x="17386" y="3546"/>
                        <a:pt x="17354" y="3550"/>
                        <a:pt x="17322" y="3553"/>
                      </a:cubicBezTo>
                      <a:cubicBezTo>
                        <a:pt x="17289" y="3557"/>
                        <a:pt x="17257" y="3559"/>
                        <a:pt x="17229" y="3563"/>
                      </a:cubicBezTo>
                      <a:cubicBezTo>
                        <a:pt x="17186" y="3573"/>
                        <a:pt x="17141" y="3591"/>
                        <a:pt x="17104" y="3614"/>
                      </a:cubicBezTo>
                      <a:cubicBezTo>
                        <a:pt x="17067" y="3638"/>
                        <a:pt x="17038" y="3666"/>
                        <a:pt x="17025" y="3697"/>
                      </a:cubicBezTo>
                      <a:cubicBezTo>
                        <a:pt x="17013" y="3681"/>
                        <a:pt x="17007" y="3663"/>
                        <a:pt x="17007" y="3645"/>
                      </a:cubicBezTo>
                      <a:cubicBezTo>
                        <a:pt x="17007" y="3627"/>
                        <a:pt x="17013" y="3609"/>
                        <a:pt x="17025" y="3592"/>
                      </a:cubicBezTo>
                      <a:cubicBezTo>
                        <a:pt x="16973" y="3601"/>
                        <a:pt x="16921" y="3583"/>
                        <a:pt x="16886" y="3555"/>
                      </a:cubicBezTo>
                      <a:cubicBezTo>
                        <a:pt x="16851" y="3527"/>
                        <a:pt x="16834" y="3489"/>
                        <a:pt x="16853" y="3458"/>
                      </a:cubicBezTo>
                      <a:cubicBezTo>
                        <a:pt x="16834" y="3449"/>
                        <a:pt x="16816" y="3443"/>
                        <a:pt x="16795" y="3437"/>
                      </a:cubicBezTo>
                      <a:cubicBezTo>
                        <a:pt x="16774" y="3430"/>
                        <a:pt x="16751" y="3424"/>
                        <a:pt x="16723" y="3416"/>
                      </a:cubicBezTo>
                      <a:cubicBezTo>
                        <a:pt x="16717" y="3411"/>
                        <a:pt x="16722" y="3409"/>
                        <a:pt x="16725" y="3408"/>
                      </a:cubicBezTo>
                      <a:cubicBezTo>
                        <a:pt x="16729" y="3407"/>
                        <a:pt x="16732" y="3407"/>
                        <a:pt x="16723" y="3407"/>
                      </a:cubicBezTo>
                      <a:cubicBezTo>
                        <a:pt x="16692" y="3380"/>
                        <a:pt x="16648" y="3362"/>
                        <a:pt x="16597" y="3354"/>
                      </a:cubicBezTo>
                      <a:cubicBezTo>
                        <a:pt x="16547" y="3346"/>
                        <a:pt x="16492" y="3348"/>
                        <a:pt x="16439" y="3361"/>
                      </a:cubicBezTo>
                      <a:cubicBezTo>
                        <a:pt x="16427" y="3365"/>
                        <a:pt x="16415" y="3369"/>
                        <a:pt x="16402" y="3371"/>
                      </a:cubicBezTo>
                      <a:cubicBezTo>
                        <a:pt x="16390" y="3374"/>
                        <a:pt x="16378" y="3374"/>
                        <a:pt x="16365" y="3369"/>
                      </a:cubicBezTo>
                      <a:cubicBezTo>
                        <a:pt x="16359" y="3369"/>
                        <a:pt x="16348" y="3367"/>
                        <a:pt x="16338" y="3363"/>
                      </a:cubicBezTo>
                      <a:cubicBezTo>
                        <a:pt x="16327" y="3359"/>
                        <a:pt x="16316" y="3353"/>
                        <a:pt x="16310" y="3344"/>
                      </a:cubicBezTo>
                      <a:cubicBezTo>
                        <a:pt x="16285" y="3323"/>
                        <a:pt x="16263" y="3301"/>
                        <a:pt x="16244" y="3277"/>
                      </a:cubicBezTo>
                      <a:cubicBezTo>
                        <a:pt x="16225" y="3254"/>
                        <a:pt x="16208" y="3228"/>
                        <a:pt x="16193" y="3201"/>
                      </a:cubicBezTo>
                      <a:cubicBezTo>
                        <a:pt x="16174" y="3180"/>
                        <a:pt x="16139" y="3170"/>
                        <a:pt x="16098" y="3164"/>
                      </a:cubicBezTo>
                      <a:cubicBezTo>
                        <a:pt x="16058" y="3159"/>
                        <a:pt x="16014" y="3159"/>
                        <a:pt x="15977" y="3159"/>
                      </a:cubicBezTo>
                      <a:cubicBezTo>
                        <a:pt x="15899" y="3163"/>
                        <a:pt x="15825" y="3163"/>
                        <a:pt x="15751" y="3161"/>
                      </a:cubicBezTo>
                      <a:cubicBezTo>
                        <a:pt x="15676" y="3159"/>
                        <a:pt x="15600" y="3155"/>
                        <a:pt x="15520" y="3151"/>
                      </a:cubicBezTo>
                      <a:cubicBezTo>
                        <a:pt x="15483" y="3146"/>
                        <a:pt x="15448" y="3142"/>
                        <a:pt x="15412" y="3141"/>
                      </a:cubicBezTo>
                      <a:cubicBezTo>
                        <a:pt x="15377" y="3140"/>
                        <a:pt x="15341" y="3142"/>
                        <a:pt x="15304" y="3151"/>
                      </a:cubicBezTo>
                      <a:cubicBezTo>
                        <a:pt x="15264" y="3159"/>
                        <a:pt x="15232" y="3175"/>
                        <a:pt x="15211" y="3194"/>
                      </a:cubicBezTo>
                      <a:cubicBezTo>
                        <a:pt x="15190" y="3213"/>
                        <a:pt x="15181" y="3235"/>
                        <a:pt x="15187" y="3256"/>
                      </a:cubicBezTo>
                      <a:cubicBezTo>
                        <a:pt x="15181" y="3243"/>
                        <a:pt x="15171" y="3233"/>
                        <a:pt x="15161" y="3222"/>
                      </a:cubicBezTo>
                      <a:cubicBezTo>
                        <a:pt x="15151" y="3211"/>
                        <a:pt x="15141" y="3199"/>
                        <a:pt x="15131" y="3184"/>
                      </a:cubicBezTo>
                      <a:cubicBezTo>
                        <a:pt x="15011" y="3199"/>
                        <a:pt x="14889" y="3228"/>
                        <a:pt x="14776" y="3269"/>
                      </a:cubicBezTo>
                      <a:cubicBezTo>
                        <a:pt x="14662" y="3310"/>
                        <a:pt x="14558" y="3363"/>
                        <a:pt x="14471" y="3424"/>
                      </a:cubicBezTo>
                      <a:cubicBezTo>
                        <a:pt x="14440" y="3392"/>
                        <a:pt x="14393" y="3379"/>
                        <a:pt x="14338" y="3374"/>
                      </a:cubicBezTo>
                      <a:cubicBezTo>
                        <a:pt x="14283" y="3369"/>
                        <a:pt x="14221" y="3374"/>
                        <a:pt x="14163" y="3378"/>
                      </a:cubicBezTo>
                      <a:cubicBezTo>
                        <a:pt x="14138" y="3384"/>
                        <a:pt x="14112" y="3389"/>
                        <a:pt x="14089" y="3395"/>
                      </a:cubicBezTo>
                      <a:cubicBezTo>
                        <a:pt x="14066" y="3401"/>
                        <a:pt x="14045" y="3407"/>
                        <a:pt x="14033" y="3416"/>
                      </a:cubicBezTo>
                      <a:cubicBezTo>
                        <a:pt x="14021" y="3428"/>
                        <a:pt x="14015" y="3446"/>
                        <a:pt x="14018" y="3462"/>
                      </a:cubicBezTo>
                      <a:cubicBezTo>
                        <a:pt x="14021" y="3478"/>
                        <a:pt x="14033" y="3491"/>
                        <a:pt x="14058" y="3496"/>
                      </a:cubicBezTo>
                      <a:cubicBezTo>
                        <a:pt x="13956" y="3504"/>
                        <a:pt x="13853" y="3521"/>
                        <a:pt x="13754" y="3545"/>
                      </a:cubicBezTo>
                      <a:cubicBezTo>
                        <a:pt x="13655" y="3570"/>
                        <a:pt x="13561" y="3603"/>
                        <a:pt x="13478" y="3643"/>
                      </a:cubicBezTo>
                      <a:cubicBezTo>
                        <a:pt x="13438" y="3630"/>
                        <a:pt x="13412" y="3604"/>
                        <a:pt x="13400" y="3574"/>
                      </a:cubicBezTo>
                      <a:cubicBezTo>
                        <a:pt x="13388" y="3545"/>
                        <a:pt x="13392" y="3512"/>
                        <a:pt x="13410" y="3487"/>
                      </a:cubicBezTo>
                      <a:cubicBezTo>
                        <a:pt x="13432" y="3460"/>
                        <a:pt x="13461" y="3436"/>
                        <a:pt x="13493" y="3414"/>
                      </a:cubicBezTo>
                      <a:cubicBezTo>
                        <a:pt x="13526" y="3391"/>
                        <a:pt x="13561" y="3371"/>
                        <a:pt x="13595" y="3353"/>
                      </a:cubicBezTo>
                      <a:cubicBezTo>
                        <a:pt x="13638" y="3331"/>
                        <a:pt x="13683" y="3309"/>
                        <a:pt x="13730" y="3290"/>
                      </a:cubicBezTo>
                      <a:cubicBezTo>
                        <a:pt x="13777" y="3272"/>
                        <a:pt x="13826" y="3256"/>
                        <a:pt x="13879" y="3247"/>
                      </a:cubicBezTo>
                      <a:cubicBezTo>
                        <a:pt x="13891" y="3247"/>
                        <a:pt x="13907" y="3245"/>
                        <a:pt x="13923" y="3242"/>
                      </a:cubicBezTo>
                      <a:cubicBezTo>
                        <a:pt x="13939" y="3239"/>
                        <a:pt x="13956" y="3235"/>
                        <a:pt x="13971" y="3231"/>
                      </a:cubicBezTo>
                      <a:cubicBezTo>
                        <a:pt x="13990" y="3226"/>
                        <a:pt x="14005" y="3215"/>
                        <a:pt x="14021" y="3202"/>
                      </a:cubicBezTo>
                      <a:cubicBezTo>
                        <a:pt x="14036" y="3190"/>
                        <a:pt x="14052" y="3176"/>
                        <a:pt x="14070" y="3167"/>
                      </a:cubicBezTo>
                      <a:cubicBezTo>
                        <a:pt x="14098" y="3151"/>
                        <a:pt x="14130" y="3135"/>
                        <a:pt x="14164" y="3120"/>
                      </a:cubicBezTo>
                      <a:cubicBezTo>
                        <a:pt x="14198" y="3105"/>
                        <a:pt x="14234" y="3092"/>
                        <a:pt x="14268" y="3079"/>
                      </a:cubicBezTo>
                      <a:lnTo>
                        <a:pt x="14928" y="2839"/>
                      </a:lnTo>
                      <a:cubicBezTo>
                        <a:pt x="14989" y="2814"/>
                        <a:pt x="15057" y="2797"/>
                        <a:pt x="15131" y="2797"/>
                      </a:cubicBezTo>
                      <a:cubicBezTo>
                        <a:pt x="15187" y="2797"/>
                        <a:pt x="15224" y="2814"/>
                        <a:pt x="15279" y="2806"/>
                      </a:cubicBezTo>
                      <a:cubicBezTo>
                        <a:pt x="15298" y="2801"/>
                        <a:pt x="15316" y="2795"/>
                        <a:pt x="15333" y="2789"/>
                      </a:cubicBezTo>
                      <a:cubicBezTo>
                        <a:pt x="15350" y="2783"/>
                        <a:pt x="15366" y="2776"/>
                        <a:pt x="15378" y="2772"/>
                      </a:cubicBezTo>
                      <a:cubicBezTo>
                        <a:pt x="15437" y="2745"/>
                        <a:pt x="15502" y="2729"/>
                        <a:pt x="15568" y="2723"/>
                      </a:cubicBezTo>
                      <a:cubicBezTo>
                        <a:pt x="15634" y="2717"/>
                        <a:pt x="15702" y="2722"/>
                        <a:pt x="15767" y="2734"/>
                      </a:cubicBezTo>
                      <a:cubicBezTo>
                        <a:pt x="15779" y="2738"/>
                        <a:pt x="15796" y="2743"/>
                        <a:pt x="15813" y="2745"/>
                      </a:cubicBezTo>
                      <a:cubicBezTo>
                        <a:pt x="15830" y="2747"/>
                        <a:pt x="15847" y="2747"/>
                        <a:pt x="15859" y="2743"/>
                      </a:cubicBezTo>
                      <a:cubicBezTo>
                        <a:pt x="15896" y="2734"/>
                        <a:pt x="15909" y="2709"/>
                        <a:pt x="15952" y="2692"/>
                      </a:cubicBezTo>
                      <a:cubicBezTo>
                        <a:pt x="16051" y="2654"/>
                        <a:pt x="16143" y="2764"/>
                        <a:pt x="16260" y="2751"/>
                      </a:cubicBezTo>
                      <a:cubicBezTo>
                        <a:pt x="16285" y="2751"/>
                        <a:pt x="16311" y="2745"/>
                        <a:pt x="16336" y="2739"/>
                      </a:cubicBezTo>
                      <a:cubicBezTo>
                        <a:pt x="16361" y="2734"/>
                        <a:pt x="16384" y="2730"/>
                        <a:pt x="16402" y="2734"/>
                      </a:cubicBezTo>
                      <a:cubicBezTo>
                        <a:pt x="16415" y="2738"/>
                        <a:pt x="16424" y="2746"/>
                        <a:pt x="16434" y="2752"/>
                      </a:cubicBezTo>
                      <a:cubicBezTo>
                        <a:pt x="16444" y="2758"/>
                        <a:pt x="16455" y="2764"/>
                        <a:pt x="16470" y="2764"/>
                      </a:cubicBezTo>
                      <a:cubicBezTo>
                        <a:pt x="16495" y="2768"/>
                        <a:pt x="16513" y="2758"/>
                        <a:pt x="16530" y="2745"/>
                      </a:cubicBezTo>
                      <a:cubicBezTo>
                        <a:pt x="16547" y="2731"/>
                        <a:pt x="16563" y="2713"/>
                        <a:pt x="16581" y="2701"/>
                      </a:cubicBezTo>
                      <a:cubicBezTo>
                        <a:pt x="16597" y="2692"/>
                        <a:pt x="16614" y="2686"/>
                        <a:pt x="16631" y="2680"/>
                      </a:cubicBezTo>
                      <a:cubicBezTo>
                        <a:pt x="16649" y="2674"/>
                        <a:pt x="16668" y="2669"/>
                        <a:pt x="16686" y="2663"/>
                      </a:cubicBezTo>
                      <a:cubicBezTo>
                        <a:pt x="16791" y="2642"/>
                        <a:pt x="16894" y="2621"/>
                        <a:pt x="16996" y="2599"/>
                      </a:cubicBezTo>
                      <a:cubicBezTo>
                        <a:pt x="17098" y="2577"/>
                        <a:pt x="17198" y="2555"/>
                        <a:pt x="17297" y="2532"/>
                      </a:cubicBezTo>
                      <a:cubicBezTo>
                        <a:pt x="17328" y="2524"/>
                        <a:pt x="17360" y="2510"/>
                        <a:pt x="17382" y="2494"/>
                      </a:cubicBezTo>
                      <a:cubicBezTo>
                        <a:pt x="17403" y="2479"/>
                        <a:pt x="17414" y="2461"/>
                        <a:pt x="17402" y="2444"/>
                      </a:cubicBezTo>
                      <a:lnTo>
                        <a:pt x="17359" y="2419"/>
                      </a:lnTo>
                      <a:cubicBezTo>
                        <a:pt x="17346" y="2404"/>
                        <a:pt x="17346" y="2388"/>
                        <a:pt x="17352" y="2374"/>
                      </a:cubicBezTo>
                      <a:cubicBezTo>
                        <a:pt x="17359" y="2360"/>
                        <a:pt x="17371" y="2347"/>
                        <a:pt x="17383" y="2339"/>
                      </a:cubicBezTo>
                      <a:cubicBezTo>
                        <a:pt x="17405" y="2330"/>
                        <a:pt x="17425" y="2324"/>
                        <a:pt x="17444" y="2317"/>
                      </a:cubicBezTo>
                      <a:cubicBezTo>
                        <a:pt x="17463" y="2310"/>
                        <a:pt x="17482" y="2303"/>
                        <a:pt x="17501" y="2293"/>
                      </a:cubicBezTo>
                      <a:cubicBezTo>
                        <a:pt x="17581" y="2263"/>
                        <a:pt x="17624" y="2204"/>
                        <a:pt x="17668" y="2148"/>
                      </a:cubicBezTo>
                      <a:cubicBezTo>
                        <a:pt x="17712" y="2092"/>
                        <a:pt x="17757" y="2038"/>
                        <a:pt x="17840" y="2019"/>
                      </a:cubicBezTo>
                      <a:cubicBezTo>
                        <a:pt x="17775" y="2034"/>
                        <a:pt x="17713" y="2023"/>
                        <a:pt x="17658" y="1999"/>
                      </a:cubicBezTo>
                      <a:cubicBezTo>
                        <a:pt x="17602" y="1975"/>
                        <a:pt x="17553" y="1937"/>
                        <a:pt x="17513" y="1897"/>
                      </a:cubicBezTo>
                      <a:cubicBezTo>
                        <a:pt x="17476" y="1861"/>
                        <a:pt x="17437" y="1821"/>
                        <a:pt x="17392" y="1788"/>
                      </a:cubicBezTo>
                      <a:cubicBezTo>
                        <a:pt x="17346" y="1755"/>
                        <a:pt x="17294" y="1729"/>
                        <a:pt x="17229" y="1720"/>
                      </a:cubicBezTo>
                      <a:cubicBezTo>
                        <a:pt x="17223" y="1733"/>
                        <a:pt x="17217" y="1747"/>
                        <a:pt x="17211" y="1761"/>
                      </a:cubicBezTo>
                      <a:cubicBezTo>
                        <a:pt x="17204" y="1776"/>
                        <a:pt x="17198" y="1792"/>
                        <a:pt x="17192" y="1809"/>
                      </a:cubicBezTo>
                      <a:cubicBezTo>
                        <a:pt x="17146" y="1765"/>
                        <a:pt x="17098" y="1725"/>
                        <a:pt x="17045" y="1688"/>
                      </a:cubicBezTo>
                      <a:cubicBezTo>
                        <a:pt x="16993" y="1652"/>
                        <a:pt x="16936" y="1619"/>
                        <a:pt x="16871" y="1590"/>
                      </a:cubicBezTo>
                      <a:cubicBezTo>
                        <a:pt x="16843" y="1615"/>
                        <a:pt x="16820" y="1644"/>
                        <a:pt x="16801" y="1674"/>
                      </a:cubicBezTo>
                      <a:cubicBezTo>
                        <a:pt x="16782" y="1704"/>
                        <a:pt x="16766" y="1735"/>
                        <a:pt x="16754" y="1767"/>
                      </a:cubicBezTo>
                      <a:cubicBezTo>
                        <a:pt x="16739" y="1748"/>
                        <a:pt x="16731" y="1730"/>
                        <a:pt x="16725" y="1712"/>
                      </a:cubicBezTo>
                      <a:cubicBezTo>
                        <a:pt x="16720" y="1694"/>
                        <a:pt x="16717" y="1676"/>
                        <a:pt x="16711" y="1657"/>
                      </a:cubicBezTo>
                      <a:cubicBezTo>
                        <a:pt x="16705" y="1641"/>
                        <a:pt x="16695" y="1624"/>
                        <a:pt x="16681" y="1608"/>
                      </a:cubicBezTo>
                      <a:cubicBezTo>
                        <a:pt x="16668" y="1593"/>
                        <a:pt x="16649" y="1580"/>
                        <a:pt x="16624" y="1569"/>
                      </a:cubicBezTo>
                      <a:cubicBezTo>
                        <a:pt x="16597" y="1565"/>
                        <a:pt x="16567" y="1570"/>
                        <a:pt x="16547" y="1581"/>
                      </a:cubicBezTo>
                      <a:cubicBezTo>
                        <a:pt x="16526" y="1591"/>
                        <a:pt x="16513" y="1607"/>
                        <a:pt x="16520" y="1624"/>
                      </a:cubicBezTo>
                      <a:cubicBezTo>
                        <a:pt x="16507" y="1611"/>
                        <a:pt x="16498" y="1599"/>
                        <a:pt x="16488" y="1588"/>
                      </a:cubicBezTo>
                      <a:cubicBezTo>
                        <a:pt x="16478" y="1576"/>
                        <a:pt x="16467" y="1565"/>
                        <a:pt x="16452" y="1552"/>
                      </a:cubicBezTo>
                      <a:cubicBezTo>
                        <a:pt x="16396" y="1571"/>
                        <a:pt x="16342" y="1593"/>
                        <a:pt x="16290" y="1618"/>
                      </a:cubicBezTo>
                      <a:cubicBezTo>
                        <a:pt x="16239" y="1644"/>
                        <a:pt x="16189" y="1672"/>
                        <a:pt x="16143" y="1704"/>
                      </a:cubicBezTo>
                      <a:cubicBezTo>
                        <a:pt x="16119" y="1655"/>
                        <a:pt x="16183" y="1617"/>
                        <a:pt x="16251" y="1578"/>
                      </a:cubicBezTo>
                      <a:cubicBezTo>
                        <a:pt x="16319" y="1540"/>
                        <a:pt x="16390" y="1500"/>
                        <a:pt x="16378" y="1447"/>
                      </a:cubicBezTo>
                      <a:cubicBezTo>
                        <a:pt x="16365" y="1413"/>
                        <a:pt x="16322" y="1384"/>
                        <a:pt x="16322" y="1359"/>
                      </a:cubicBezTo>
                      <a:cubicBezTo>
                        <a:pt x="16322" y="1296"/>
                        <a:pt x="16483" y="1245"/>
                        <a:pt x="16439" y="1190"/>
                      </a:cubicBezTo>
                      <a:cubicBezTo>
                        <a:pt x="16433" y="1182"/>
                        <a:pt x="16424" y="1178"/>
                        <a:pt x="16415" y="1174"/>
                      </a:cubicBezTo>
                      <a:cubicBezTo>
                        <a:pt x="16405" y="1169"/>
                        <a:pt x="16396" y="1165"/>
                        <a:pt x="16390" y="1157"/>
                      </a:cubicBezTo>
                      <a:cubicBezTo>
                        <a:pt x="16365" y="1138"/>
                        <a:pt x="16362" y="1114"/>
                        <a:pt x="16368" y="1088"/>
                      </a:cubicBezTo>
                      <a:cubicBezTo>
                        <a:pt x="16375" y="1063"/>
                        <a:pt x="16390" y="1037"/>
                        <a:pt x="16402" y="1014"/>
                      </a:cubicBezTo>
                      <a:cubicBezTo>
                        <a:pt x="16338" y="1001"/>
                        <a:pt x="16270" y="1003"/>
                        <a:pt x="16202" y="1013"/>
                      </a:cubicBezTo>
                      <a:cubicBezTo>
                        <a:pt x="16134" y="1023"/>
                        <a:pt x="16066" y="1041"/>
                        <a:pt x="16001" y="1060"/>
                      </a:cubicBezTo>
                      <a:cubicBezTo>
                        <a:pt x="15835" y="1110"/>
                        <a:pt x="15650" y="1174"/>
                        <a:pt x="15471" y="1190"/>
                      </a:cubicBezTo>
                      <a:cubicBezTo>
                        <a:pt x="15378" y="1199"/>
                        <a:pt x="15292" y="1190"/>
                        <a:pt x="15187" y="1190"/>
                      </a:cubicBezTo>
                      <a:cubicBezTo>
                        <a:pt x="15131" y="1190"/>
                        <a:pt x="15070" y="1182"/>
                        <a:pt x="15033" y="1165"/>
                      </a:cubicBezTo>
                      <a:cubicBezTo>
                        <a:pt x="15005" y="1157"/>
                        <a:pt x="14985" y="1145"/>
                        <a:pt x="14966" y="1134"/>
                      </a:cubicBezTo>
                      <a:cubicBezTo>
                        <a:pt x="14946" y="1122"/>
                        <a:pt x="14928" y="1110"/>
                        <a:pt x="14903" y="1102"/>
                      </a:cubicBezTo>
                      <a:cubicBezTo>
                        <a:pt x="14875" y="1094"/>
                        <a:pt x="14846" y="1092"/>
                        <a:pt x="14817" y="1093"/>
                      </a:cubicBezTo>
                      <a:cubicBezTo>
                        <a:pt x="14787" y="1094"/>
                        <a:pt x="14758" y="1098"/>
                        <a:pt x="14730" y="1102"/>
                      </a:cubicBezTo>
                      <a:cubicBezTo>
                        <a:pt x="14653" y="1115"/>
                        <a:pt x="14576" y="1135"/>
                        <a:pt x="14501" y="1159"/>
                      </a:cubicBezTo>
                      <a:cubicBezTo>
                        <a:pt x="14425" y="1184"/>
                        <a:pt x="14351" y="1214"/>
                        <a:pt x="14280" y="1245"/>
                      </a:cubicBezTo>
                      <a:cubicBezTo>
                        <a:pt x="14249" y="1230"/>
                        <a:pt x="14217" y="1221"/>
                        <a:pt x="14182" y="1216"/>
                      </a:cubicBezTo>
                      <a:cubicBezTo>
                        <a:pt x="14147" y="1211"/>
                        <a:pt x="14110" y="1211"/>
                        <a:pt x="14070" y="1216"/>
                      </a:cubicBezTo>
                      <a:cubicBezTo>
                        <a:pt x="13941" y="1239"/>
                        <a:pt x="13870" y="1319"/>
                        <a:pt x="13800" y="1401"/>
                      </a:cubicBezTo>
                      <a:cubicBezTo>
                        <a:pt x="13731" y="1483"/>
                        <a:pt x="13663" y="1567"/>
                        <a:pt x="13540" y="1598"/>
                      </a:cubicBezTo>
                      <a:cubicBezTo>
                        <a:pt x="13555" y="1567"/>
                        <a:pt x="13566" y="1533"/>
                        <a:pt x="13571" y="1500"/>
                      </a:cubicBezTo>
                      <a:cubicBezTo>
                        <a:pt x="13577" y="1467"/>
                        <a:pt x="13577" y="1434"/>
                        <a:pt x="13570" y="1405"/>
                      </a:cubicBezTo>
                      <a:cubicBezTo>
                        <a:pt x="13518" y="1394"/>
                        <a:pt x="13466" y="1389"/>
                        <a:pt x="13415" y="1389"/>
                      </a:cubicBezTo>
                      <a:cubicBezTo>
                        <a:pt x="13364" y="1389"/>
                        <a:pt x="13314" y="1394"/>
                        <a:pt x="13268" y="1405"/>
                      </a:cubicBezTo>
                      <a:cubicBezTo>
                        <a:pt x="13237" y="1470"/>
                        <a:pt x="13199" y="1535"/>
                        <a:pt x="13155" y="1600"/>
                      </a:cubicBezTo>
                      <a:cubicBezTo>
                        <a:pt x="13111" y="1665"/>
                        <a:pt x="13061" y="1729"/>
                        <a:pt x="13009" y="1792"/>
                      </a:cubicBezTo>
                      <a:cubicBezTo>
                        <a:pt x="12990" y="1756"/>
                        <a:pt x="12984" y="1720"/>
                        <a:pt x="12983" y="1684"/>
                      </a:cubicBezTo>
                      <a:cubicBezTo>
                        <a:pt x="12981" y="1647"/>
                        <a:pt x="12984" y="1609"/>
                        <a:pt x="12984" y="1569"/>
                      </a:cubicBezTo>
                      <a:cubicBezTo>
                        <a:pt x="12978" y="1535"/>
                        <a:pt x="12963" y="1499"/>
                        <a:pt x="12937" y="1466"/>
                      </a:cubicBezTo>
                      <a:cubicBezTo>
                        <a:pt x="12912" y="1434"/>
                        <a:pt x="12876" y="1407"/>
                        <a:pt x="12830" y="1392"/>
                      </a:cubicBezTo>
                      <a:cubicBezTo>
                        <a:pt x="12778" y="1455"/>
                        <a:pt x="12725" y="1520"/>
                        <a:pt x="12674" y="1584"/>
                      </a:cubicBezTo>
                      <a:cubicBezTo>
                        <a:pt x="12622" y="1648"/>
                        <a:pt x="12571" y="1712"/>
                        <a:pt x="12522" y="1775"/>
                      </a:cubicBezTo>
                      <a:cubicBezTo>
                        <a:pt x="12481" y="1712"/>
                        <a:pt x="12471" y="1638"/>
                        <a:pt x="12490" y="1571"/>
                      </a:cubicBezTo>
                      <a:cubicBezTo>
                        <a:pt x="12509" y="1504"/>
                        <a:pt x="12559" y="1443"/>
                        <a:pt x="12639" y="1405"/>
                      </a:cubicBezTo>
                      <a:cubicBezTo>
                        <a:pt x="12670" y="1386"/>
                        <a:pt x="12707" y="1372"/>
                        <a:pt x="12746" y="1364"/>
                      </a:cubicBezTo>
                      <a:cubicBezTo>
                        <a:pt x="12785" y="1357"/>
                        <a:pt x="12827" y="1354"/>
                        <a:pt x="12867" y="1359"/>
                      </a:cubicBezTo>
                      <a:cubicBezTo>
                        <a:pt x="12904" y="1363"/>
                        <a:pt x="12947" y="1369"/>
                        <a:pt x="12989" y="1371"/>
                      </a:cubicBezTo>
                      <a:cubicBezTo>
                        <a:pt x="13031" y="1373"/>
                        <a:pt x="13071" y="1371"/>
                        <a:pt x="13102" y="1359"/>
                      </a:cubicBezTo>
                      <a:cubicBezTo>
                        <a:pt x="13120" y="1350"/>
                        <a:pt x="13132" y="1342"/>
                        <a:pt x="13145" y="1333"/>
                      </a:cubicBezTo>
                      <a:cubicBezTo>
                        <a:pt x="13159" y="1324"/>
                        <a:pt x="13172" y="1315"/>
                        <a:pt x="13194" y="1304"/>
                      </a:cubicBezTo>
                      <a:cubicBezTo>
                        <a:pt x="13231" y="1287"/>
                        <a:pt x="13282" y="1283"/>
                        <a:pt x="13329" y="1277"/>
                      </a:cubicBezTo>
                      <a:cubicBezTo>
                        <a:pt x="13376" y="1270"/>
                        <a:pt x="13419" y="1262"/>
                        <a:pt x="13441" y="1237"/>
                      </a:cubicBezTo>
                      <a:cubicBezTo>
                        <a:pt x="13466" y="1205"/>
                        <a:pt x="13455" y="1174"/>
                        <a:pt x="13429" y="1145"/>
                      </a:cubicBezTo>
                      <a:cubicBezTo>
                        <a:pt x="13402" y="1116"/>
                        <a:pt x="13361" y="1089"/>
                        <a:pt x="13324" y="1068"/>
                      </a:cubicBezTo>
                      <a:cubicBezTo>
                        <a:pt x="13361" y="1064"/>
                        <a:pt x="13402" y="1064"/>
                        <a:pt x="13441" y="1071"/>
                      </a:cubicBezTo>
                      <a:cubicBezTo>
                        <a:pt x="13479" y="1077"/>
                        <a:pt x="13515" y="1089"/>
                        <a:pt x="13540" y="1110"/>
                      </a:cubicBezTo>
                      <a:cubicBezTo>
                        <a:pt x="13555" y="1119"/>
                        <a:pt x="13566" y="1128"/>
                        <a:pt x="13577" y="1136"/>
                      </a:cubicBezTo>
                      <a:cubicBezTo>
                        <a:pt x="13589" y="1143"/>
                        <a:pt x="13601" y="1148"/>
                        <a:pt x="13620" y="1148"/>
                      </a:cubicBezTo>
                      <a:cubicBezTo>
                        <a:pt x="13632" y="1153"/>
                        <a:pt x="13648" y="1150"/>
                        <a:pt x="13664" y="1146"/>
                      </a:cubicBezTo>
                      <a:cubicBezTo>
                        <a:pt x="13680" y="1141"/>
                        <a:pt x="13697" y="1134"/>
                        <a:pt x="13712" y="1127"/>
                      </a:cubicBezTo>
                      <a:cubicBezTo>
                        <a:pt x="13777" y="1102"/>
                        <a:pt x="13842" y="1074"/>
                        <a:pt x="13903" y="1043"/>
                      </a:cubicBezTo>
                      <a:cubicBezTo>
                        <a:pt x="13964" y="1012"/>
                        <a:pt x="14021" y="978"/>
                        <a:pt x="14070" y="942"/>
                      </a:cubicBezTo>
                      <a:cubicBezTo>
                        <a:pt x="14058" y="938"/>
                        <a:pt x="14045" y="936"/>
                        <a:pt x="14033" y="934"/>
                      </a:cubicBezTo>
                      <a:cubicBezTo>
                        <a:pt x="14021" y="932"/>
                        <a:pt x="14008" y="930"/>
                        <a:pt x="13996" y="925"/>
                      </a:cubicBezTo>
                      <a:cubicBezTo>
                        <a:pt x="14113" y="934"/>
                        <a:pt x="14226" y="934"/>
                        <a:pt x="14339" y="929"/>
                      </a:cubicBezTo>
                      <a:cubicBezTo>
                        <a:pt x="14451" y="923"/>
                        <a:pt x="14564" y="913"/>
                        <a:pt x="14681" y="900"/>
                      </a:cubicBezTo>
                      <a:cubicBezTo>
                        <a:pt x="14727" y="896"/>
                        <a:pt x="14775" y="892"/>
                        <a:pt x="14820" y="882"/>
                      </a:cubicBezTo>
                      <a:cubicBezTo>
                        <a:pt x="14865" y="872"/>
                        <a:pt x="14906" y="856"/>
                        <a:pt x="14940" y="829"/>
                      </a:cubicBezTo>
                      <a:cubicBezTo>
                        <a:pt x="14986" y="837"/>
                        <a:pt x="15031" y="843"/>
                        <a:pt x="15076" y="845"/>
                      </a:cubicBezTo>
                      <a:cubicBezTo>
                        <a:pt x="15121" y="848"/>
                        <a:pt x="15165" y="845"/>
                        <a:pt x="15212" y="837"/>
                      </a:cubicBezTo>
                      <a:cubicBezTo>
                        <a:pt x="15224" y="875"/>
                        <a:pt x="15279" y="883"/>
                        <a:pt x="15329" y="883"/>
                      </a:cubicBezTo>
                      <a:cubicBezTo>
                        <a:pt x="15378" y="883"/>
                        <a:pt x="15421" y="867"/>
                        <a:pt x="15471" y="854"/>
                      </a:cubicBezTo>
                      <a:cubicBezTo>
                        <a:pt x="15563" y="837"/>
                        <a:pt x="15662" y="875"/>
                        <a:pt x="15754" y="883"/>
                      </a:cubicBezTo>
                      <a:cubicBezTo>
                        <a:pt x="15847" y="892"/>
                        <a:pt x="15977" y="875"/>
                        <a:pt x="15989" y="812"/>
                      </a:cubicBezTo>
                      <a:cubicBezTo>
                        <a:pt x="15955" y="812"/>
                        <a:pt x="15926" y="800"/>
                        <a:pt x="15906" y="783"/>
                      </a:cubicBezTo>
                      <a:cubicBezTo>
                        <a:pt x="15887" y="767"/>
                        <a:pt x="15878" y="745"/>
                        <a:pt x="15884" y="724"/>
                      </a:cubicBezTo>
                      <a:cubicBezTo>
                        <a:pt x="15896" y="677"/>
                        <a:pt x="15977" y="644"/>
                        <a:pt x="15952" y="602"/>
                      </a:cubicBezTo>
                      <a:cubicBezTo>
                        <a:pt x="15940" y="580"/>
                        <a:pt x="15909" y="564"/>
                        <a:pt x="15884" y="555"/>
                      </a:cubicBezTo>
                      <a:lnTo>
                        <a:pt x="15495" y="395"/>
                      </a:lnTo>
                      <a:cubicBezTo>
                        <a:pt x="15452" y="379"/>
                        <a:pt x="15401" y="362"/>
                        <a:pt x="15351" y="355"/>
                      </a:cubicBezTo>
                      <a:cubicBezTo>
                        <a:pt x="15301" y="349"/>
                        <a:pt x="15252" y="353"/>
                        <a:pt x="15212" y="379"/>
                      </a:cubicBezTo>
                      <a:cubicBezTo>
                        <a:pt x="15199" y="391"/>
                        <a:pt x="15190" y="405"/>
                        <a:pt x="15181" y="419"/>
                      </a:cubicBezTo>
                      <a:cubicBezTo>
                        <a:pt x="15171" y="432"/>
                        <a:pt x="15162" y="446"/>
                        <a:pt x="15150" y="459"/>
                      </a:cubicBezTo>
                      <a:cubicBezTo>
                        <a:pt x="15116" y="482"/>
                        <a:pt x="15073" y="482"/>
                        <a:pt x="15029" y="472"/>
                      </a:cubicBezTo>
                      <a:cubicBezTo>
                        <a:pt x="14985" y="462"/>
                        <a:pt x="14940" y="442"/>
                        <a:pt x="14903" y="425"/>
                      </a:cubicBezTo>
                      <a:cubicBezTo>
                        <a:pt x="14897" y="389"/>
                        <a:pt x="14883" y="353"/>
                        <a:pt x="14863" y="319"/>
                      </a:cubicBezTo>
                      <a:cubicBezTo>
                        <a:pt x="14843" y="284"/>
                        <a:pt x="14817" y="250"/>
                        <a:pt x="14786" y="219"/>
                      </a:cubicBezTo>
                      <a:cubicBezTo>
                        <a:pt x="14792" y="242"/>
                        <a:pt x="14760" y="249"/>
                        <a:pt x="14723" y="246"/>
                      </a:cubicBezTo>
                      <a:cubicBezTo>
                        <a:pt x="14686" y="243"/>
                        <a:pt x="14644" y="229"/>
                        <a:pt x="14632" y="210"/>
                      </a:cubicBezTo>
                      <a:cubicBezTo>
                        <a:pt x="14585" y="166"/>
                        <a:pt x="14524" y="120"/>
                        <a:pt x="14456" y="89"/>
                      </a:cubicBezTo>
                      <a:cubicBezTo>
                        <a:pt x="14388" y="59"/>
                        <a:pt x="14314" y="44"/>
                        <a:pt x="14243" y="63"/>
                      </a:cubicBezTo>
                      <a:cubicBezTo>
                        <a:pt x="14221" y="88"/>
                        <a:pt x="14211" y="117"/>
                        <a:pt x="14209" y="145"/>
                      </a:cubicBezTo>
                      <a:cubicBezTo>
                        <a:pt x="14207" y="174"/>
                        <a:pt x="14215" y="202"/>
                        <a:pt x="14231" y="227"/>
                      </a:cubicBezTo>
                      <a:cubicBezTo>
                        <a:pt x="14209" y="215"/>
                        <a:pt x="14183" y="208"/>
                        <a:pt x="14159" y="208"/>
                      </a:cubicBezTo>
                      <a:cubicBezTo>
                        <a:pt x="14135" y="208"/>
                        <a:pt x="14113" y="215"/>
                        <a:pt x="14101" y="227"/>
                      </a:cubicBezTo>
                      <a:cubicBezTo>
                        <a:pt x="14086" y="189"/>
                        <a:pt x="14059" y="148"/>
                        <a:pt x="14022" y="116"/>
                      </a:cubicBezTo>
                      <a:cubicBezTo>
                        <a:pt x="13985" y="83"/>
                        <a:pt x="13938" y="59"/>
                        <a:pt x="13879" y="55"/>
                      </a:cubicBezTo>
                      <a:cubicBezTo>
                        <a:pt x="13820" y="44"/>
                        <a:pt x="13759" y="66"/>
                        <a:pt x="13722" y="99"/>
                      </a:cubicBezTo>
                      <a:cubicBezTo>
                        <a:pt x="13685" y="133"/>
                        <a:pt x="13672" y="177"/>
                        <a:pt x="13712" y="210"/>
                      </a:cubicBezTo>
                      <a:cubicBezTo>
                        <a:pt x="13666" y="185"/>
                        <a:pt x="13628" y="152"/>
                        <a:pt x="13598" y="116"/>
                      </a:cubicBezTo>
                      <a:cubicBezTo>
                        <a:pt x="13569" y="80"/>
                        <a:pt x="13549" y="40"/>
                        <a:pt x="13540" y="0"/>
                      </a:cubicBezTo>
                      <a:cubicBezTo>
                        <a:pt x="13469" y="0"/>
                        <a:pt x="13401" y="4"/>
                        <a:pt x="13334" y="13"/>
                      </a:cubicBezTo>
                      <a:cubicBezTo>
                        <a:pt x="13268" y="22"/>
                        <a:pt x="13203" y="36"/>
                        <a:pt x="13139" y="55"/>
                      </a:cubicBezTo>
                      <a:cubicBezTo>
                        <a:pt x="13126" y="59"/>
                        <a:pt x="13117" y="63"/>
                        <a:pt x="13108" y="67"/>
                      </a:cubicBezTo>
                      <a:cubicBezTo>
                        <a:pt x="13098" y="72"/>
                        <a:pt x="13089" y="76"/>
                        <a:pt x="13077" y="80"/>
                      </a:cubicBezTo>
                      <a:cubicBezTo>
                        <a:pt x="13065" y="88"/>
                        <a:pt x="13061" y="101"/>
                        <a:pt x="13061" y="115"/>
                      </a:cubicBezTo>
                      <a:cubicBezTo>
                        <a:pt x="13061" y="129"/>
                        <a:pt x="13065" y="145"/>
                        <a:pt x="13065" y="160"/>
                      </a:cubicBezTo>
                      <a:cubicBezTo>
                        <a:pt x="13071" y="193"/>
                        <a:pt x="13077" y="228"/>
                        <a:pt x="13085" y="263"/>
                      </a:cubicBezTo>
                      <a:cubicBezTo>
                        <a:pt x="13092" y="299"/>
                        <a:pt x="13102" y="334"/>
                        <a:pt x="13114" y="370"/>
                      </a:cubicBezTo>
                      <a:cubicBezTo>
                        <a:pt x="13083" y="322"/>
                        <a:pt x="13051" y="273"/>
                        <a:pt x="13020" y="225"/>
                      </a:cubicBezTo>
                      <a:cubicBezTo>
                        <a:pt x="12989" y="177"/>
                        <a:pt x="12960" y="128"/>
                        <a:pt x="12935" y="80"/>
                      </a:cubicBezTo>
                      <a:cubicBezTo>
                        <a:pt x="12923" y="67"/>
                        <a:pt x="12909" y="52"/>
                        <a:pt x="12893" y="38"/>
                      </a:cubicBezTo>
                      <a:cubicBezTo>
                        <a:pt x="12878" y="24"/>
                        <a:pt x="12861" y="13"/>
                        <a:pt x="12842" y="8"/>
                      </a:cubicBezTo>
                      <a:cubicBezTo>
                        <a:pt x="12818" y="4"/>
                        <a:pt x="12792" y="13"/>
                        <a:pt x="12770" y="27"/>
                      </a:cubicBezTo>
                      <a:cubicBezTo>
                        <a:pt x="12748" y="41"/>
                        <a:pt x="12731" y="61"/>
                        <a:pt x="12725" y="80"/>
                      </a:cubicBezTo>
                      <a:cubicBezTo>
                        <a:pt x="12704" y="124"/>
                        <a:pt x="12690" y="169"/>
                        <a:pt x="12684" y="214"/>
                      </a:cubicBezTo>
                      <a:cubicBezTo>
                        <a:pt x="12679" y="259"/>
                        <a:pt x="12682" y="303"/>
                        <a:pt x="12694" y="345"/>
                      </a:cubicBezTo>
                      <a:cubicBezTo>
                        <a:pt x="12676" y="318"/>
                        <a:pt x="12648" y="294"/>
                        <a:pt x="12616" y="277"/>
                      </a:cubicBezTo>
                      <a:cubicBezTo>
                        <a:pt x="12583" y="259"/>
                        <a:pt x="12546" y="246"/>
                        <a:pt x="12509" y="240"/>
                      </a:cubicBezTo>
                      <a:cubicBezTo>
                        <a:pt x="12515" y="200"/>
                        <a:pt x="12483" y="162"/>
                        <a:pt x="12438" y="139"/>
                      </a:cubicBezTo>
                      <a:cubicBezTo>
                        <a:pt x="12392" y="117"/>
                        <a:pt x="12333" y="109"/>
                        <a:pt x="12287" y="130"/>
                      </a:cubicBezTo>
                      <a:cubicBezTo>
                        <a:pt x="12235" y="149"/>
                        <a:pt x="12212" y="189"/>
                        <a:pt x="12215" y="228"/>
                      </a:cubicBezTo>
                      <a:cubicBezTo>
                        <a:pt x="12218" y="266"/>
                        <a:pt x="12247" y="303"/>
                        <a:pt x="12299" y="315"/>
                      </a:cubicBezTo>
                      <a:cubicBezTo>
                        <a:pt x="12259" y="343"/>
                        <a:pt x="12236" y="381"/>
                        <a:pt x="12232" y="420"/>
                      </a:cubicBezTo>
                      <a:cubicBezTo>
                        <a:pt x="12227" y="459"/>
                        <a:pt x="12241" y="498"/>
                        <a:pt x="12275" y="530"/>
                      </a:cubicBezTo>
                      <a:cubicBezTo>
                        <a:pt x="12229" y="530"/>
                        <a:pt x="12196" y="511"/>
                        <a:pt x="12171" y="486"/>
                      </a:cubicBezTo>
                      <a:cubicBezTo>
                        <a:pt x="12145" y="461"/>
                        <a:pt x="12127" y="429"/>
                        <a:pt x="12108" y="404"/>
                      </a:cubicBezTo>
                      <a:cubicBezTo>
                        <a:pt x="12087" y="376"/>
                        <a:pt x="12054" y="350"/>
                        <a:pt x="12019" y="335"/>
                      </a:cubicBezTo>
                      <a:cubicBezTo>
                        <a:pt x="11983" y="321"/>
                        <a:pt x="11945" y="318"/>
                        <a:pt x="11911" y="337"/>
                      </a:cubicBezTo>
                      <a:cubicBezTo>
                        <a:pt x="11905" y="341"/>
                        <a:pt x="11898" y="347"/>
                        <a:pt x="11892" y="354"/>
                      </a:cubicBezTo>
                      <a:cubicBezTo>
                        <a:pt x="11886" y="362"/>
                        <a:pt x="11880" y="370"/>
                        <a:pt x="11874" y="379"/>
                      </a:cubicBezTo>
                      <a:cubicBezTo>
                        <a:pt x="11821" y="471"/>
                        <a:pt x="11843" y="575"/>
                        <a:pt x="11914" y="658"/>
                      </a:cubicBezTo>
                      <a:cubicBezTo>
                        <a:pt x="11985" y="741"/>
                        <a:pt x="12105" y="803"/>
                        <a:pt x="12250" y="812"/>
                      </a:cubicBezTo>
                      <a:cubicBezTo>
                        <a:pt x="12269" y="812"/>
                        <a:pt x="12290" y="812"/>
                        <a:pt x="12311" y="814"/>
                      </a:cubicBezTo>
                      <a:cubicBezTo>
                        <a:pt x="12332" y="816"/>
                        <a:pt x="12352" y="820"/>
                        <a:pt x="12367" y="829"/>
                      </a:cubicBezTo>
                      <a:cubicBezTo>
                        <a:pt x="12380" y="837"/>
                        <a:pt x="12392" y="851"/>
                        <a:pt x="12398" y="864"/>
                      </a:cubicBezTo>
                      <a:cubicBezTo>
                        <a:pt x="12404" y="878"/>
                        <a:pt x="12404" y="892"/>
                        <a:pt x="12392" y="900"/>
                      </a:cubicBezTo>
                      <a:cubicBezTo>
                        <a:pt x="12321" y="888"/>
                        <a:pt x="12253" y="874"/>
                        <a:pt x="12185" y="860"/>
                      </a:cubicBezTo>
                      <a:cubicBezTo>
                        <a:pt x="12117" y="847"/>
                        <a:pt x="12050" y="833"/>
                        <a:pt x="11979" y="820"/>
                      </a:cubicBezTo>
                      <a:cubicBezTo>
                        <a:pt x="11957" y="816"/>
                        <a:pt x="11934" y="812"/>
                        <a:pt x="11912" y="807"/>
                      </a:cubicBezTo>
                      <a:cubicBezTo>
                        <a:pt x="11889" y="801"/>
                        <a:pt x="11868" y="795"/>
                        <a:pt x="11849" y="787"/>
                      </a:cubicBezTo>
                      <a:cubicBezTo>
                        <a:pt x="11828" y="772"/>
                        <a:pt x="11811" y="756"/>
                        <a:pt x="11794" y="741"/>
                      </a:cubicBezTo>
                      <a:cubicBezTo>
                        <a:pt x="11778" y="726"/>
                        <a:pt x="11763" y="711"/>
                        <a:pt x="11744" y="698"/>
                      </a:cubicBezTo>
                      <a:cubicBezTo>
                        <a:pt x="11698" y="650"/>
                        <a:pt x="11636" y="608"/>
                        <a:pt x="11564" y="577"/>
                      </a:cubicBezTo>
                      <a:cubicBezTo>
                        <a:pt x="11491" y="546"/>
                        <a:pt x="11408" y="526"/>
                        <a:pt x="11319" y="522"/>
                      </a:cubicBezTo>
                      <a:cubicBezTo>
                        <a:pt x="11303" y="583"/>
                        <a:pt x="11322" y="644"/>
                        <a:pt x="11362" y="698"/>
                      </a:cubicBezTo>
                      <a:cubicBezTo>
                        <a:pt x="11402" y="753"/>
                        <a:pt x="11463" y="801"/>
                        <a:pt x="11534" y="837"/>
                      </a:cubicBezTo>
                      <a:cubicBezTo>
                        <a:pt x="11605" y="877"/>
                        <a:pt x="11687" y="906"/>
                        <a:pt x="11772" y="930"/>
                      </a:cubicBezTo>
                      <a:cubicBezTo>
                        <a:pt x="11857" y="954"/>
                        <a:pt x="11945" y="972"/>
                        <a:pt x="12028" y="989"/>
                      </a:cubicBezTo>
                      <a:cubicBezTo>
                        <a:pt x="11982" y="1020"/>
                        <a:pt x="11937" y="1060"/>
                        <a:pt x="11915" y="1099"/>
                      </a:cubicBezTo>
                      <a:cubicBezTo>
                        <a:pt x="11892" y="1139"/>
                        <a:pt x="11892" y="1178"/>
                        <a:pt x="11935" y="1207"/>
                      </a:cubicBezTo>
                      <a:lnTo>
                        <a:pt x="11898" y="1262"/>
                      </a:lnTo>
                      <a:cubicBezTo>
                        <a:pt x="11905" y="1319"/>
                        <a:pt x="11914" y="1376"/>
                        <a:pt x="11923" y="1433"/>
                      </a:cubicBezTo>
                      <a:cubicBezTo>
                        <a:pt x="11932" y="1490"/>
                        <a:pt x="11942" y="1548"/>
                        <a:pt x="11948" y="1607"/>
                      </a:cubicBezTo>
                      <a:cubicBezTo>
                        <a:pt x="11871" y="1592"/>
                        <a:pt x="11820" y="1552"/>
                        <a:pt x="11787" y="1503"/>
                      </a:cubicBezTo>
                      <a:cubicBezTo>
                        <a:pt x="11753" y="1453"/>
                        <a:pt x="11738" y="1394"/>
                        <a:pt x="11732" y="1342"/>
                      </a:cubicBezTo>
                      <a:cubicBezTo>
                        <a:pt x="11732" y="1289"/>
                        <a:pt x="11732" y="1229"/>
                        <a:pt x="11717" y="1174"/>
                      </a:cubicBezTo>
                      <a:cubicBezTo>
                        <a:pt x="11703" y="1118"/>
                        <a:pt x="11673" y="1066"/>
                        <a:pt x="11615" y="1031"/>
                      </a:cubicBezTo>
                      <a:cubicBezTo>
                        <a:pt x="11587" y="1062"/>
                        <a:pt x="11570" y="1098"/>
                        <a:pt x="11561" y="1135"/>
                      </a:cubicBezTo>
                      <a:cubicBezTo>
                        <a:pt x="11553" y="1171"/>
                        <a:pt x="11553" y="1209"/>
                        <a:pt x="11559" y="1245"/>
                      </a:cubicBezTo>
                      <a:cubicBezTo>
                        <a:pt x="11522" y="1245"/>
                        <a:pt x="11484" y="1247"/>
                        <a:pt x="11445" y="1252"/>
                      </a:cubicBezTo>
                      <a:cubicBezTo>
                        <a:pt x="11406" y="1258"/>
                        <a:pt x="11368" y="1266"/>
                        <a:pt x="11331" y="1279"/>
                      </a:cubicBezTo>
                      <a:cubicBezTo>
                        <a:pt x="11309" y="1310"/>
                        <a:pt x="11315" y="1352"/>
                        <a:pt x="11315" y="1389"/>
                      </a:cubicBezTo>
                      <a:cubicBezTo>
                        <a:pt x="11315" y="1425"/>
                        <a:pt x="11309" y="1455"/>
                        <a:pt x="11263" y="1464"/>
                      </a:cubicBezTo>
                      <a:cubicBezTo>
                        <a:pt x="11232" y="1468"/>
                        <a:pt x="11203" y="1455"/>
                        <a:pt x="11178" y="1437"/>
                      </a:cubicBezTo>
                      <a:cubicBezTo>
                        <a:pt x="11153" y="1419"/>
                        <a:pt x="11133" y="1394"/>
                        <a:pt x="11121" y="1376"/>
                      </a:cubicBezTo>
                      <a:cubicBezTo>
                        <a:pt x="11109" y="1354"/>
                        <a:pt x="11073" y="1334"/>
                        <a:pt x="11038" y="1326"/>
                      </a:cubicBezTo>
                      <a:cubicBezTo>
                        <a:pt x="11002" y="1317"/>
                        <a:pt x="10967" y="1319"/>
                        <a:pt x="10954" y="1342"/>
                      </a:cubicBezTo>
                      <a:cubicBezTo>
                        <a:pt x="10930" y="1304"/>
                        <a:pt x="10967" y="1254"/>
                        <a:pt x="11029" y="1254"/>
                      </a:cubicBezTo>
                      <a:cubicBezTo>
                        <a:pt x="11072" y="1254"/>
                        <a:pt x="11121" y="1270"/>
                        <a:pt x="11146" y="1254"/>
                      </a:cubicBezTo>
                      <a:cubicBezTo>
                        <a:pt x="11158" y="1245"/>
                        <a:pt x="11158" y="1237"/>
                        <a:pt x="11158" y="1216"/>
                      </a:cubicBezTo>
                      <a:cubicBezTo>
                        <a:pt x="11152" y="1182"/>
                        <a:pt x="11149" y="1148"/>
                        <a:pt x="11141" y="1116"/>
                      </a:cubicBezTo>
                      <a:cubicBezTo>
                        <a:pt x="11133" y="1083"/>
                        <a:pt x="11121" y="1052"/>
                        <a:pt x="11096" y="1022"/>
                      </a:cubicBezTo>
                      <a:cubicBezTo>
                        <a:pt x="11072" y="991"/>
                        <a:pt x="11036" y="964"/>
                        <a:pt x="10994" y="948"/>
                      </a:cubicBezTo>
                      <a:cubicBezTo>
                        <a:pt x="10951" y="932"/>
                        <a:pt x="10902" y="925"/>
                        <a:pt x="10850" y="934"/>
                      </a:cubicBezTo>
                      <a:cubicBezTo>
                        <a:pt x="10843" y="949"/>
                        <a:pt x="10837" y="964"/>
                        <a:pt x="10831" y="980"/>
                      </a:cubicBezTo>
                      <a:cubicBezTo>
                        <a:pt x="10825" y="995"/>
                        <a:pt x="10819" y="1010"/>
                        <a:pt x="10813" y="1022"/>
                      </a:cubicBezTo>
                      <a:cubicBezTo>
                        <a:pt x="10760" y="961"/>
                        <a:pt x="10708" y="900"/>
                        <a:pt x="10658" y="839"/>
                      </a:cubicBezTo>
                      <a:cubicBezTo>
                        <a:pt x="10607" y="777"/>
                        <a:pt x="10560" y="715"/>
                        <a:pt x="10516" y="652"/>
                      </a:cubicBezTo>
                      <a:cubicBezTo>
                        <a:pt x="10464" y="665"/>
                        <a:pt x="10424" y="696"/>
                        <a:pt x="10405" y="732"/>
                      </a:cubicBezTo>
                      <a:cubicBezTo>
                        <a:pt x="10387" y="768"/>
                        <a:pt x="10390" y="808"/>
                        <a:pt x="10424" y="837"/>
                      </a:cubicBezTo>
                      <a:cubicBezTo>
                        <a:pt x="10449" y="867"/>
                        <a:pt x="10498" y="883"/>
                        <a:pt x="10529" y="917"/>
                      </a:cubicBezTo>
                      <a:cubicBezTo>
                        <a:pt x="10578" y="972"/>
                        <a:pt x="10578" y="1039"/>
                        <a:pt x="10529" y="1094"/>
                      </a:cubicBezTo>
                      <a:cubicBezTo>
                        <a:pt x="10507" y="1073"/>
                        <a:pt x="10472" y="1059"/>
                        <a:pt x="10435" y="1055"/>
                      </a:cubicBezTo>
                      <a:cubicBezTo>
                        <a:pt x="10398" y="1052"/>
                        <a:pt x="10359" y="1058"/>
                        <a:pt x="10331" y="1077"/>
                      </a:cubicBezTo>
                      <a:cubicBezTo>
                        <a:pt x="10325" y="1050"/>
                        <a:pt x="10319" y="1025"/>
                        <a:pt x="10314" y="1001"/>
                      </a:cubicBezTo>
                      <a:cubicBezTo>
                        <a:pt x="10310" y="977"/>
                        <a:pt x="10307" y="953"/>
                        <a:pt x="10307" y="925"/>
                      </a:cubicBezTo>
                      <a:cubicBezTo>
                        <a:pt x="10202" y="900"/>
                        <a:pt x="10097" y="892"/>
                        <a:pt x="9998" y="892"/>
                      </a:cubicBezTo>
                      <a:cubicBezTo>
                        <a:pt x="9943" y="892"/>
                        <a:pt x="9881" y="900"/>
                        <a:pt x="9869" y="934"/>
                      </a:cubicBezTo>
                      <a:cubicBezTo>
                        <a:pt x="9847" y="974"/>
                        <a:pt x="9895" y="1005"/>
                        <a:pt x="9943" y="1037"/>
                      </a:cubicBezTo>
                      <a:cubicBezTo>
                        <a:pt x="9992" y="1068"/>
                        <a:pt x="10041" y="1100"/>
                        <a:pt x="10023" y="1140"/>
                      </a:cubicBezTo>
                      <a:cubicBezTo>
                        <a:pt x="9989" y="1157"/>
                        <a:pt x="9952" y="1152"/>
                        <a:pt x="9919" y="1137"/>
                      </a:cubicBezTo>
                      <a:cubicBezTo>
                        <a:pt x="9886" y="1122"/>
                        <a:pt x="9856" y="1098"/>
                        <a:pt x="9838" y="1077"/>
                      </a:cubicBezTo>
                      <a:cubicBezTo>
                        <a:pt x="9816" y="1054"/>
                        <a:pt x="9778" y="1036"/>
                        <a:pt x="9741" y="1031"/>
                      </a:cubicBezTo>
                      <a:cubicBezTo>
                        <a:pt x="9705" y="1025"/>
                        <a:pt x="9671" y="1033"/>
                        <a:pt x="9659" y="1060"/>
                      </a:cubicBezTo>
                      <a:cubicBezTo>
                        <a:pt x="9653" y="1073"/>
                        <a:pt x="9656" y="1083"/>
                        <a:pt x="9663" y="1094"/>
                      </a:cubicBezTo>
                      <a:cubicBezTo>
                        <a:pt x="9671" y="1104"/>
                        <a:pt x="9684" y="1115"/>
                        <a:pt x="9696" y="1127"/>
                      </a:cubicBezTo>
                      <a:cubicBezTo>
                        <a:pt x="9730" y="1155"/>
                        <a:pt x="9765" y="1180"/>
                        <a:pt x="9801" y="1205"/>
                      </a:cubicBezTo>
                      <a:cubicBezTo>
                        <a:pt x="9836" y="1229"/>
                        <a:pt x="9872" y="1254"/>
                        <a:pt x="9906" y="1279"/>
                      </a:cubicBezTo>
                      <a:cubicBezTo>
                        <a:pt x="9872" y="1279"/>
                        <a:pt x="9842" y="1272"/>
                        <a:pt x="9820" y="1260"/>
                      </a:cubicBezTo>
                      <a:cubicBezTo>
                        <a:pt x="9798" y="1248"/>
                        <a:pt x="9782" y="1230"/>
                        <a:pt x="9776" y="1207"/>
                      </a:cubicBezTo>
                      <a:cubicBezTo>
                        <a:pt x="9742" y="1226"/>
                        <a:pt x="9704" y="1231"/>
                        <a:pt x="9665" y="1227"/>
                      </a:cubicBezTo>
                      <a:cubicBezTo>
                        <a:pt x="9626" y="1223"/>
                        <a:pt x="9588" y="1209"/>
                        <a:pt x="9554" y="1190"/>
                      </a:cubicBezTo>
                      <a:cubicBezTo>
                        <a:pt x="9529" y="1174"/>
                        <a:pt x="9511" y="1152"/>
                        <a:pt x="9495" y="1127"/>
                      </a:cubicBezTo>
                      <a:cubicBezTo>
                        <a:pt x="9480" y="1103"/>
                        <a:pt x="9468" y="1077"/>
                        <a:pt x="9455" y="1052"/>
                      </a:cubicBezTo>
                      <a:cubicBezTo>
                        <a:pt x="9403" y="1064"/>
                        <a:pt x="9347" y="1077"/>
                        <a:pt x="9290" y="1087"/>
                      </a:cubicBezTo>
                      <a:cubicBezTo>
                        <a:pt x="9233" y="1098"/>
                        <a:pt x="9175" y="1106"/>
                        <a:pt x="9116" y="1110"/>
                      </a:cubicBezTo>
                      <a:cubicBezTo>
                        <a:pt x="9156" y="1150"/>
                        <a:pt x="9195" y="1190"/>
                        <a:pt x="9235" y="1231"/>
                      </a:cubicBezTo>
                      <a:cubicBezTo>
                        <a:pt x="9275" y="1272"/>
                        <a:pt x="9316" y="1315"/>
                        <a:pt x="9363" y="1359"/>
                      </a:cubicBezTo>
                      <a:cubicBezTo>
                        <a:pt x="9381" y="1376"/>
                        <a:pt x="9397" y="1393"/>
                        <a:pt x="9414" y="1409"/>
                      </a:cubicBezTo>
                      <a:cubicBezTo>
                        <a:pt x="9432" y="1425"/>
                        <a:pt x="9452" y="1439"/>
                        <a:pt x="9480" y="1447"/>
                      </a:cubicBezTo>
                      <a:cubicBezTo>
                        <a:pt x="9539" y="1474"/>
                        <a:pt x="9603" y="1481"/>
                        <a:pt x="9670" y="1477"/>
                      </a:cubicBezTo>
                      <a:cubicBezTo>
                        <a:pt x="9736" y="1473"/>
                        <a:pt x="9804" y="1460"/>
                        <a:pt x="9869" y="1447"/>
                      </a:cubicBezTo>
                      <a:cubicBezTo>
                        <a:pt x="9887" y="1455"/>
                        <a:pt x="9906" y="1466"/>
                        <a:pt x="9925" y="1477"/>
                      </a:cubicBezTo>
                      <a:cubicBezTo>
                        <a:pt x="9944" y="1488"/>
                        <a:pt x="9964" y="1500"/>
                        <a:pt x="9986" y="1510"/>
                      </a:cubicBezTo>
                      <a:cubicBezTo>
                        <a:pt x="10106" y="1495"/>
                        <a:pt x="10231" y="1486"/>
                        <a:pt x="10357" y="1481"/>
                      </a:cubicBezTo>
                      <a:cubicBezTo>
                        <a:pt x="10483" y="1476"/>
                        <a:pt x="10609" y="1476"/>
                        <a:pt x="10732" y="1481"/>
                      </a:cubicBezTo>
                      <a:cubicBezTo>
                        <a:pt x="10825" y="1525"/>
                        <a:pt x="10919" y="1567"/>
                        <a:pt x="11015" y="1607"/>
                      </a:cubicBezTo>
                      <a:cubicBezTo>
                        <a:pt x="11110" y="1647"/>
                        <a:pt x="11207" y="1685"/>
                        <a:pt x="11306" y="1720"/>
                      </a:cubicBezTo>
                      <a:cubicBezTo>
                        <a:pt x="11325" y="1704"/>
                        <a:pt x="11340" y="1686"/>
                        <a:pt x="11356" y="1667"/>
                      </a:cubicBezTo>
                      <a:cubicBezTo>
                        <a:pt x="11371" y="1648"/>
                        <a:pt x="11386" y="1628"/>
                        <a:pt x="11405" y="1607"/>
                      </a:cubicBezTo>
                      <a:cubicBezTo>
                        <a:pt x="11417" y="1668"/>
                        <a:pt x="11431" y="1727"/>
                        <a:pt x="11447" y="1786"/>
                      </a:cubicBezTo>
                      <a:cubicBezTo>
                        <a:pt x="11462" y="1846"/>
                        <a:pt x="11479" y="1906"/>
                        <a:pt x="11497" y="1969"/>
                      </a:cubicBezTo>
                      <a:cubicBezTo>
                        <a:pt x="11510" y="2021"/>
                        <a:pt x="11522" y="2076"/>
                        <a:pt x="11530" y="2132"/>
                      </a:cubicBezTo>
                      <a:cubicBezTo>
                        <a:pt x="11538" y="2187"/>
                        <a:pt x="11541" y="2244"/>
                        <a:pt x="11534" y="2301"/>
                      </a:cubicBezTo>
                      <a:cubicBezTo>
                        <a:pt x="11491" y="2236"/>
                        <a:pt x="11443" y="2171"/>
                        <a:pt x="11395" y="2105"/>
                      </a:cubicBezTo>
                      <a:cubicBezTo>
                        <a:pt x="11346" y="2039"/>
                        <a:pt x="11297" y="1973"/>
                        <a:pt x="11251" y="1906"/>
                      </a:cubicBezTo>
                      <a:cubicBezTo>
                        <a:pt x="11238" y="1889"/>
                        <a:pt x="11226" y="1869"/>
                        <a:pt x="11210" y="1849"/>
                      </a:cubicBezTo>
                      <a:cubicBezTo>
                        <a:pt x="11194" y="1829"/>
                        <a:pt x="11174" y="1809"/>
                        <a:pt x="11146" y="1792"/>
                      </a:cubicBezTo>
                      <a:cubicBezTo>
                        <a:pt x="11109" y="1760"/>
                        <a:pt x="11058" y="1736"/>
                        <a:pt x="11002" y="1716"/>
                      </a:cubicBezTo>
                      <a:cubicBezTo>
                        <a:pt x="10945" y="1696"/>
                        <a:pt x="10884" y="1680"/>
                        <a:pt x="10825" y="1666"/>
                      </a:cubicBezTo>
                      <a:cubicBezTo>
                        <a:pt x="10760" y="1653"/>
                        <a:pt x="10698" y="1638"/>
                        <a:pt x="10637" y="1623"/>
                      </a:cubicBezTo>
                      <a:cubicBezTo>
                        <a:pt x="10575" y="1608"/>
                        <a:pt x="10513" y="1592"/>
                        <a:pt x="10449" y="1577"/>
                      </a:cubicBezTo>
                      <a:cubicBezTo>
                        <a:pt x="10399" y="1615"/>
                        <a:pt x="10486" y="1666"/>
                        <a:pt x="10566" y="1687"/>
                      </a:cubicBezTo>
                      <a:cubicBezTo>
                        <a:pt x="10695" y="1720"/>
                        <a:pt x="10800" y="1784"/>
                        <a:pt x="10874" y="1851"/>
                      </a:cubicBezTo>
                      <a:cubicBezTo>
                        <a:pt x="10961" y="1935"/>
                        <a:pt x="11004" y="2035"/>
                        <a:pt x="11023" y="2139"/>
                      </a:cubicBezTo>
                      <a:cubicBezTo>
                        <a:pt x="11042" y="2243"/>
                        <a:pt x="11038" y="2351"/>
                        <a:pt x="11029" y="2452"/>
                      </a:cubicBezTo>
                      <a:cubicBezTo>
                        <a:pt x="10954" y="2444"/>
                        <a:pt x="10899" y="2381"/>
                        <a:pt x="10899" y="2322"/>
                      </a:cubicBezTo>
                      <a:cubicBezTo>
                        <a:pt x="10899" y="2259"/>
                        <a:pt x="10917" y="2204"/>
                        <a:pt x="10887" y="2154"/>
                      </a:cubicBezTo>
                      <a:cubicBezTo>
                        <a:pt x="10874" y="2118"/>
                        <a:pt x="10850" y="2090"/>
                        <a:pt x="10820" y="2063"/>
                      </a:cubicBezTo>
                      <a:cubicBezTo>
                        <a:pt x="10789" y="2037"/>
                        <a:pt x="10754" y="2013"/>
                        <a:pt x="10720" y="1985"/>
                      </a:cubicBezTo>
                      <a:lnTo>
                        <a:pt x="10399" y="1767"/>
                      </a:lnTo>
                      <a:cubicBezTo>
                        <a:pt x="10399" y="1809"/>
                        <a:pt x="10413" y="1850"/>
                        <a:pt x="10432" y="1890"/>
                      </a:cubicBezTo>
                      <a:cubicBezTo>
                        <a:pt x="10452" y="1931"/>
                        <a:pt x="10476" y="1971"/>
                        <a:pt x="10498" y="2011"/>
                      </a:cubicBezTo>
                      <a:cubicBezTo>
                        <a:pt x="10516" y="2051"/>
                        <a:pt x="10530" y="2095"/>
                        <a:pt x="10530" y="2138"/>
                      </a:cubicBezTo>
                      <a:cubicBezTo>
                        <a:pt x="10529" y="2181"/>
                        <a:pt x="10513" y="2223"/>
                        <a:pt x="10473" y="2259"/>
                      </a:cubicBezTo>
                      <a:cubicBezTo>
                        <a:pt x="10408" y="2242"/>
                        <a:pt x="10364" y="2202"/>
                        <a:pt x="10347" y="2156"/>
                      </a:cubicBezTo>
                      <a:cubicBezTo>
                        <a:pt x="10330" y="2111"/>
                        <a:pt x="10341" y="2059"/>
                        <a:pt x="10387" y="2019"/>
                      </a:cubicBezTo>
                      <a:cubicBezTo>
                        <a:pt x="10313" y="1994"/>
                        <a:pt x="10305" y="1933"/>
                        <a:pt x="10298" y="1872"/>
                      </a:cubicBezTo>
                      <a:cubicBezTo>
                        <a:pt x="10291" y="1812"/>
                        <a:pt x="10285" y="1752"/>
                        <a:pt x="10214" y="1729"/>
                      </a:cubicBezTo>
                      <a:cubicBezTo>
                        <a:pt x="10165" y="1712"/>
                        <a:pt x="10097" y="1729"/>
                        <a:pt x="10035" y="1729"/>
                      </a:cubicBezTo>
                      <a:cubicBezTo>
                        <a:pt x="9943" y="1729"/>
                        <a:pt x="9856" y="1704"/>
                        <a:pt x="9764" y="1695"/>
                      </a:cubicBezTo>
                      <a:cubicBezTo>
                        <a:pt x="9671" y="1687"/>
                        <a:pt x="9554" y="1712"/>
                        <a:pt x="9542" y="1775"/>
                      </a:cubicBezTo>
                      <a:cubicBezTo>
                        <a:pt x="9705" y="1853"/>
                        <a:pt x="9844" y="1954"/>
                        <a:pt x="9950" y="2069"/>
                      </a:cubicBezTo>
                      <a:cubicBezTo>
                        <a:pt x="10057" y="2183"/>
                        <a:pt x="10131" y="2311"/>
                        <a:pt x="10165" y="2444"/>
                      </a:cubicBezTo>
                      <a:cubicBezTo>
                        <a:pt x="10242" y="2448"/>
                        <a:pt x="10316" y="2466"/>
                        <a:pt x="10384" y="2493"/>
                      </a:cubicBezTo>
                      <a:cubicBezTo>
                        <a:pt x="10452" y="2520"/>
                        <a:pt x="10513" y="2555"/>
                        <a:pt x="10566" y="2595"/>
                      </a:cubicBezTo>
                      <a:cubicBezTo>
                        <a:pt x="10501" y="2587"/>
                        <a:pt x="10439" y="2575"/>
                        <a:pt x="10381" y="2560"/>
                      </a:cubicBezTo>
                      <a:cubicBezTo>
                        <a:pt x="10322" y="2544"/>
                        <a:pt x="10267" y="2524"/>
                        <a:pt x="10214" y="2499"/>
                      </a:cubicBezTo>
                      <a:cubicBezTo>
                        <a:pt x="10041" y="2419"/>
                        <a:pt x="9920" y="2306"/>
                        <a:pt x="9803" y="2189"/>
                      </a:cubicBezTo>
                      <a:cubicBezTo>
                        <a:pt x="9687" y="2072"/>
                        <a:pt x="9576" y="1950"/>
                        <a:pt x="9424" y="1851"/>
                      </a:cubicBezTo>
                      <a:cubicBezTo>
                        <a:pt x="9387" y="1830"/>
                        <a:pt x="9346" y="1809"/>
                        <a:pt x="9302" y="1796"/>
                      </a:cubicBezTo>
                      <a:cubicBezTo>
                        <a:pt x="9258" y="1784"/>
                        <a:pt x="9212" y="1779"/>
                        <a:pt x="9165" y="1792"/>
                      </a:cubicBezTo>
                      <a:cubicBezTo>
                        <a:pt x="9252" y="1872"/>
                        <a:pt x="9333" y="1949"/>
                        <a:pt x="9414" y="2025"/>
                      </a:cubicBezTo>
                      <a:cubicBezTo>
                        <a:pt x="9495" y="2102"/>
                        <a:pt x="9576" y="2179"/>
                        <a:pt x="9659" y="2259"/>
                      </a:cubicBezTo>
                      <a:cubicBezTo>
                        <a:pt x="9693" y="2290"/>
                        <a:pt x="9725" y="2323"/>
                        <a:pt x="9754" y="2358"/>
                      </a:cubicBezTo>
                      <a:cubicBezTo>
                        <a:pt x="9782" y="2392"/>
                        <a:pt x="9807" y="2429"/>
                        <a:pt x="9825" y="2469"/>
                      </a:cubicBezTo>
                      <a:cubicBezTo>
                        <a:pt x="9841" y="2509"/>
                        <a:pt x="9858" y="2561"/>
                        <a:pt x="9886" y="2600"/>
                      </a:cubicBezTo>
                      <a:cubicBezTo>
                        <a:pt x="9913" y="2638"/>
                        <a:pt x="9952" y="2665"/>
                        <a:pt x="10011" y="2654"/>
                      </a:cubicBezTo>
                      <a:cubicBezTo>
                        <a:pt x="9955" y="2717"/>
                        <a:pt x="9813" y="2679"/>
                        <a:pt x="9739" y="2629"/>
                      </a:cubicBezTo>
                      <a:cubicBezTo>
                        <a:pt x="9437" y="2423"/>
                        <a:pt x="9400" y="2065"/>
                        <a:pt x="9023" y="1931"/>
                      </a:cubicBezTo>
                      <a:cubicBezTo>
                        <a:pt x="8974" y="1967"/>
                        <a:pt x="8965" y="2016"/>
                        <a:pt x="8976" y="2067"/>
                      </a:cubicBezTo>
                      <a:cubicBezTo>
                        <a:pt x="8986" y="2119"/>
                        <a:pt x="9017" y="2173"/>
                        <a:pt x="9048" y="2217"/>
                      </a:cubicBezTo>
                      <a:cubicBezTo>
                        <a:pt x="9070" y="2238"/>
                        <a:pt x="9087" y="2262"/>
                        <a:pt x="9103" y="2286"/>
                      </a:cubicBezTo>
                      <a:cubicBezTo>
                        <a:pt x="9119" y="2310"/>
                        <a:pt x="9134" y="2335"/>
                        <a:pt x="9153" y="2356"/>
                      </a:cubicBezTo>
                      <a:cubicBezTo>
                        <a:pt x="9165" y="2368"/>
                        <a:pt x="9176" y="2382"/>
                        <a:pt x="9187" y="2396"/>
                      </a:cubicBezTo>
                      <a:cubicBezTo>
                        <a:pt x="9198" y="2409"/>
                        <a:pt x="9208" y="2423"/>
                        <a:pt x="9221" y="2436"/>
                      </a:cubicBezTo>
                      <a:cubicBezTo>
                        <a:pt x="9239" y="2457"/>
                        <a:pt x="9266" y="2477"/>
                        <a:pt x="9293" y="2495"/>
                      </a:cubicBezTo>
                      <a:cubicBezTo>
                        <a:pt x="9321" y="2514"/>
                        <a:pt x="9350" y="2532"/>
                        <a:pt x="9375" y="2549"/>
                      </a:cubicBezTo>
                      <a:cubicBezTo>
                        <a:pt x="9597" y="2692"/>
                        <a:pt x="9764" y="2869"/>
                        <a:pt x="9856" y="3062"/>
                      </a:cubicBezTo>
                      <a:cubicBezTo>
                        <a:pt x="9869" y="3088"/>
                        <a:pt x="9881" y="3113"/>
                        <a:pt x="9869" y="3134"/>
                      </a:cubicBezTo>
                      <a:cubicBezTo>
                        <a:pt x="9853" y="3163"/>
                        <a:pt x="9807" y="3174"/>
                        <a:pt x="9757" y="3169"/>
                      </a:cubicBezTo>
                      <a:cubicBezTo>
                        <a:pt x="9707" y="3164"/>
                        <a:pt x="9653" y="3144"/>
                        <a:pt x="9622" y="3113"/>
                      </a:cubicBezTo>
                      <a:cubicBezTo>
                        <a:pt x="9588" y="3132"/>
                        <a:pt x="9552" y="3150"/>
                        <a:pt x="9515" y="3163"/>
                      </a:cubicBezTo>
                      <a:cubicBezTo>
                        <a:pt x="9478" y="3176"/>
                        <a:pt x="9440" y="3184"/>
                        <a:pt x="9400" y="3184"/>
                      </a:cubicBezTo>
                      <a:cubicBezTo>
                        <a:pt x="9316" y="3188"/>
                        <a:pt x="9239" y="3171"/>
                        <a:pt x="9167" y="3142"/>
                      </a:cubicBezTo>
                      <a:cubicBezTo>
                        <a:pt x="9094" y="3114"/>
                        <a:pt x="9026" y="3075"/>
                        <a:pt x="8962" y="3037"/>
                      </a:cubicBezTo>
                      <a:cubicBezTo>
                        <a:pt x="8897" y="2997"/>
                        <a:pt x="8829" y="2955"/>
                        <a:pt x="8761" y="2913"/>
                      </a:cubicBezTo>
                      <a:cubicBezTo>
                        <a:pt x="8693" y="2871"/>
                        <a:pt x="8625" y="2829"/>
                        <a:pt x="8561" y="2789"/>
                      </a:cubicBezTo>
                      <a:cubicBezTo>
                        <a:pt x="8527" y="2766"/>
                        <a:pt x="8494" y="2746"/>
                        <a:pt x="8465" y="2725"/>
                      </a:cubicBezTo>
                      <a:cubicBezTo>
                        <a:pt x="8436" y="2704"/>
                        <a:pt x="8410" y="2682"/>
                        <a:pt x="8388" y="2654"/>
                      </a:cubicBezTo>
                      <a:cubicBezTo>
                        <a:pt x="8376" y="2642"/>
                        <a:pt x="8363" y="2627"/>
                        <a:pt x="8351" y="2612"/>
                      </a:cubicBezTo>
                      <a:cubicBezTo>
                        <a:pt x="8339" y="2596"/>
                        <a:pt x="8326" y="2581"/>
                        <a:pt x="8314" y="2566"/>
                      </a:cubicBezTo>
                      <a:cubicBezTo>
                        <a:pt x="8302" y="2558"/>
                        <a:pt x="8285" y="2549"/>
                        <a:pt x="8268" y="2541"/>
                      </a:cubicBezTo>
                      <a:cubicBezTo>
                        <a:pt x="8251" y="2532"/>
                        <a:pt x="8234" y="2524"/>
                        <a:pt x="8221" y="2515"/>
                      </a:cubicBezTo>
                      <a:cubicBezTo>
                        <a:pt x="8144" y="2475"/>
                        <a:pt x="8079" y="2427"/>
                        <a:pt x="8026" y="2372"/>
                      </a:cubicBezTo>
                      <a:cubicBezTo>
                        <a:pt x="7973" y="2317"/>
                        <a:pt x="7931" y="2255"/>
                        <a:pt x="7901" y="2187"/>
                      </a:cubicBezTo>
                      <a:cubicBezTo>
                        <a:pt x="7860" y="2175"/>
                        <a:pt x="7808" y="2162"/>
                        <a:pt x="7761" y="2160"/>
                      </a:cubicBezTo>
                      <a:cubicBezTo>
                        <a:pt x="7714" y="2158"/>
                        <a:pt x="7672" y="2166"/>
                        <a:pt x="7654" y="2196"/>
                      </a:cubicBezTo>
                      <a:cubicBezTo>
                        <a:pt x="7641" y="2217"/>
                        <a:pt x="7641" y="2234"/>
                        <a:pt x="7641" y="2250"/>
                      </a:cubicBezTo>
                      <a:cubicBezTo>
                        <a:pt x="7641" y="2490"/>
                        <a:pt x="7759" y="2734"/>
                        <a:pt x="7975" y="2928"/>
                      </a:cubicBezTo>
                      <a:cubicBezTo>
                        <a:pt x="8018" y="2966"/>
                        <a:pt x="8067" y="3008"/>
                        <a:pt x="8055" y="3062"/>
                      </a:cubicBezTo>
                      <a:cubicBezTo>
                        <a:pt x="8036" y="3115"/>
                        <a:pt x="7948" y="3133"/>
                        <a:pt x="7860" y="3151"/>
                      </a:cubicBezTo>
                      <a:cubicBezTo>
                        <a:pt x="7772" y="3168"/>
                        <a:pt x="7685" y="3186"/>
                        <a:pt x="7666" y="3239"/>
                      </a:cubicBezTo>
                      <a:cubicBezTo>
                        <a:pt x="7614" y="3203"/>
                        <a:pt x="7546" y="3179"/>
                        <a:pt x="7473" y="3168"/>
                      </a:cubicBezTo>
                      <a:cubicBezTo>
                        <a:pt x="7401" y="3157"/>
                        <a:pt x="7324" y="3159"/>
                        <a:pt x="7253" y="3176"/>
                      </a:cubicBezTo>
                      <a:cubicBezTo>
                        <a:pt x="7234" y="3123"/>
                        <a:pt x="7202" y="3071"/>
                        <a:pt x="7159" y="3021"/>
                      </a:cubicBezTo>
                      <a:cubicBezTo>
                        <a:pt x="7117" y="2972"/>
                        <a:pt x="7065" y="2926"/>
                        <a:pt x="7006" y="2886"/>
                      </a:cubicBezTo>
                      <a:cubicBezTo>
                        <a:pt x="6975" y="2881"/>
                        <a:pt x="6949" y="2894"/>
                        <a:pt x="6932" y="2913"/>
                      </a:cubicBezTo>
                      <a:cubicBezTo>
                        <a:pt x="6915" y="2933"/>
                        <a:pt x="6907" y="2959"/>
                        <a:pt x="6913" y="2982"/>
                      </a:cubicBezTo>
                      <a:cubicBezTo>
                        <a:pt x="6920" y="3003"/>
                        <a:pt x="6937" y="3025"/>
                        <a:pt x="6949" y="3048"/>
                      </a:cubicBezTo>
                      <a:cubicBezTo>
                        <a:pt x="6961" y="3070"/>
                        <a:pt x="6969" y="3092"/>
                        <a:pt x="6957" y="3113"/>
                      </a:cubicBezTo>
                      <a:cubicBezTo>
                        <a:pt x="6929" y="3104"/>
                        <a:pt x="6896" y="3102"/>
                        <a:pt x="6867" y="3107"/>
                      </a:cubicBezTo>
                      <a:cubicBezTo>
                        <a:pt x="6838" y="3112"/>
                        <a:pt x="6812" y="3123"/>
                        <a:pt x="6796" y="3142"/>
                      </a:cubicBezTo>
                      <a:cubicBezTo>
                        <a:pt x="6784" y="3106"/>
                        <a:pt x="6771" y="3073"/>
                        <a:pt x="6758" y="3040"/>
                      </a:cubicBezTo>
                      <a:cubicBezTo>
                        <a:pt x="6744" y="3007"/>
                        <a:pt x="6728" y="2974"/>
                        <a:pt x="6710" y="2940"/>
                      </a:cubicBezTo>
                      <a:cubicBezTo>
                        <a:pt x="6617" y="2928"/>
                        <a:pt x="6568" y="2999"/>
                        <a:pt x="6556" y="3062"/>
                      </a:cubicBezTo>
                      <a:cubicBezTo>
                        <a:pt x="6543" y="3125"/>
                        <a:pt x="6512" y="3201"/>
                        <a:pt x="6426" y="3214"/>
                      </a:cubicBezTo>
                      <a:cubicBezTo>
                        <a:pt x="6386" y="3222"/>
                        <a:pt x="6357" y="3206"/>
                        <a:pt x="6339" y="3182"/>
                      </a:cubicBezTo>
                      <a:cubicBezTo>
                        <a:pt x="6321" y="3157"/>
                        <a:pt x="6315" y="3123"/>
                        <a:pt x="6321" y="3096"/>
                      </a:cubicBezTo>
                      <a:cubicBezTo>
                        <a:pt x="6321" y="3031"/>
                        <a:pt x="6318" y="2967"/>
                        <a:pt x="6313" y="2902"/>
                      </a:cubicBezTo>
                      <a:cubicBezTo>
                        <a:pt x="6309" y="2838"/>
                        <a:pt x="6303" y="2774"/>
                        <a:pt x="6296" y="2709"/>
                      </a:cubicBezTo>
                      <a:cubicBezTo>
                        <a:pt x="6290" y="2673"/>
                        <a:pt x="6270" y="2629"/>
                        <a:pt x="6239" y="2598"/>
                      </a:cubicBezTo>
                      <a:cubicBezTo>
                        <a:pt x="6207" y="2567"/>
                        <a:pt x="6164" y="2549"/>
                        <a:pt x="6111" y="2566"/>
                      </a:cubicBezTo>
                      <a:cubicBezTo>
                        <a:pt x="6117" y="2545"/>
                        <a:pt x="6102" y="2526"/>
                        <a:pt x="6077" y="2513"/>
                      </a:cubicBezTo>
                      <a:cubicBezTo>
                        <a:pt x="6051" y="2501"/>
                        <a:pt x="6016" y="2494"/>
                        <a:pt x="5982" y="2499"/>
                      </a:cubicBezTo>
                      <a:cubicBezTo>
                        <a:pt x="5957" y="2503"/>
                        <a:pt x="5935" y="2515"/>
                        <a:pt x="5919" y="2533"/>
                      </a:cubicBezTo>
                      <a:cubicBezTo>
                        <a:pt x="5902" y="2550"/>
                        <a:pt x="5889" y="2572"/>
                        <a:pt x="5883" y="2595"/>
                      </a:cubicBezTo>
                      <a:cubicBezTo>
                        <a:pt x="5883" y="2612"/>
                        <a:pt x="5863" y="2624"/>
                        <a:pt x="5837" y="2634"/>
                      </a:cubicBezTo>
                      <a:cubicBezTo>
                        <a:pt x="5811" y="2644"/>
                        <a:pt x="5778" y="2652"/>
                        <a:pt x="5753" y="2663"/>
                      </a:cubicBezTo>
                      <a:cubicBezTo>
                        <a:pt x="5726" y="2671"/>
                        <a:pt x="5696" y="2683"/>
                        <a:pt x="5677" y="2697"/>
                      </a:cubicBezTo>
                      <a:cubicBezTo>
                        <a:pt x="5658" y="2712"/>
                        <a:pt x="5649" y="2730"/>
                        <a:pt x="5661" y="2751"/>
                      </a:cubicBezTo>
                      <a:cubicBezTo>
                        <a:pt x="5649" y="2734"/>
                        <a:pt x="5635" y="2719"/>
                        <a:pt x="5619" y="2707"/>
                      </a:cubicBezTo>
                      <a:cubicBezTo>
                        <a:pt x="5604" y="2694"/>
                        <a:pt x="5587" y="2684"/>
                        <a:pt x="5568" y="2675"/>
                      </a:cubicBezTo>
                      <a:cubicBezTo>
                        <a:pt x="5544" y="2665"/>
                        <a:pt x="5514" y="2662"/>
                        <a:pt x="5490" y="2666"/>
                      </a:cubicBezTo>
                      <a:cubicBezTo>
                        <a:pt x="5465" y="2670"/>
                        <a:pt x="5445" y="2682"/>
                        <a:pt x="5439" y="2701"/>
                      </a:cubicBezTo>
                      <a:cubicBezTo>
                        <a:pt x="5433" y="2726"/>
                        <a:pt x="5420" y="2750"/>
                        <a:pt x="5405" y="2773"/>
                      </a:cubicBezTo>
                      <a:cubicBezTo>
                        <a:pt x="5389" y="2796"/>
                        <a:pt x="5371" y="2818"/>
                        <a:pt x="5352" y="2839"/>
                      </a:cubicBezTo>
                      <a:cubicBezTo>
                        <a:pt x="5325" y="2823"/>
                        <a:pt x="5298" y="2808"/>
                        <a:pt x="5272" y="2793"/>
                      </a:cubicBezTo>
                      <a:cubicBezTo>
                        <a:pt x="5246" y="2777"/>
                        <a:pt x="5220" y="2762"/>
                        <a:pt x="5192" y="2743"/>
                      </a:cubicBezTo>
                      <a:cubicBezTo>
                        <a:pt x="5192" y="2780"/>
                        <a:pt x="5124" y="2797"/>
                        <a:pt x="5075" y="2797"/>
                      </a:cubicBezTo>
                      <a:cubicBezTo>
                        <a:pt x="5019" y="2797"/>
                        <a:pt x="4976" y="2789"/>
                        <a:pt x="4921" y="2797"/>
                      </a:cubicBezTo>
                      <a:cubicBezTo>
                        <a:pt x="4890" y="2801"/>
                        <a:pt x="4863" y="2812"/>
                        <a:pt x="4840" y="2826"/>
                      </a:cubicBezTo>
                      <a:cubicBezTo>
                        <a:pt x="4817" y="2840"/>
                        <a:pt x="4797" y="2858"/>
                        <a:pt x="4779" y="2877"/>
                      </a:cubicBezTo>
                      <a:cubicBezTo>
                        <a:pt x="4757" y="2894"/>
                        <a:pt x="4739" y="2918"/>
                        <a:pt x="4733" y="2940"/>
                      </a:cubicBezTo>
                      <a:cubicBezTo>
                        <a:pt x="4728" y="2962"/>
                        <a:pt x="4735" y="2982"/>
                        <a:pt x="4766" y="2991"/>
                      </a:cubicBezTo>
                      <a:cubicBezTo>
                        <a:pt x="4825" y="3010"/>
                        <a:pt x="4877" y="3038"/>
                        <a:pt x="4917" y="3073"/>
                      </a:cubicBezTo>
                      <a:cubicBezTo>
                        <a:pt x="4956" y="3107"/>
                        <a:pt x="4982" y="3149"/>
                        <a:pt x="4988" y="3193"/>
                      </a:cubicBezTo>
                      <a:cubicBezTo>
                        <a:pt x="4936" y="3197"/>
                        <a:pt x="4884" y="3204"/>
                        <a:pt x="4831" y="3212"/>
                      </a:cubicBezTo>
                      <a:cubicBezTo>
                        <a:pt x="4779" y="3219"/>
                        <a:pt x="4726" y="3226"/>
                        <a:pt x="4674" y="3231"/>
                      </a:cubicBezTo>
                      <a:cubicBezTo>
                        <a:pt x="4649" y="3167"/>
                        <a:pt x="4563" y="3125"/>
                        <a:pt x="4470" y="3134"/>
                      </a:cubicBezTo>
                      <a:cubicBezTo>
                        <a:pt x="4378" y="3142"/>
                        <a:pt x="4304" y="3214"/>
                        <a:pt x="4341" y="3264"/>
                      </a:cubicBezTo>
                      <a:cubicBezTo>
                        <a:pt x="4285" y="3281"/>
                        <a:pt x="4248" y="3218"/>
                        <a:pt x="4248" y="3176"/>
                      </a:cubicBezTo>
                      <a:cubicBezTo>
                        <a:pt x="4248" y="3130"/>
                        <a:pt x="4248" y="3079"/>
                        <a:pt x="4186" y="3071"/>
                      </a:cubicBezTo>
                      <a:cubicBezTo>
                        <a:pt x="4186" y="3083"/>
                        <a:pt x="4186" y="3094"/>
                        <a:pt x="4185" y="3105"/>
                      </a:cubicBezTo>
                      <a:cubicBezTo>
                        <a:pt x="4183" y="3116"/>
                        <a:pt x="4180" y="3127"/>
                        <a:pt x="4174" y="3142"/>
                      </a:cubicBezTo>
                      <a:cubicBezTo>
                        <a:pt x="4146" y="3191"/>
                        <a:pt x="4126" y="3219"/>
                        <a:pt x="4113" y="3235"/>
                      </a:cubicBezTo>
                      <a:cubicBezTo>
                        <a:pt x="4100" y="3252"/>
                        <a:pt x="4094" y="3256"/>
                        <a:pt x="4094" y="3256"/>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20" name="Shape 3060"/>
                <p:cNvSpPr/>
                <p:nvPr/>
              </p:nvSpPr>
              <p:spPr>
                <a:xfrm>
                  <a:off x="14938920" y="4403520"/>
                  <a:ext cx="70560" cy="77400"/>
                </a:xfrm>
                <a:custGeom>
                  <a:avLst/>
                  <a:gdLst>
                    <a:gd name="textAreaLeft" fmla="*/ 0 w 70560"/>
                    <a:gd name="textAreaRight" fmla="*/ 70920 w 70560"/>
                    <a:gd name="textAreaTop" fmla="*/ 0 h 77400"/>
                    <a:gd name="textAreaBottom" fmla="*/ 77760 h 7740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929292"/>
                </a:solidFill>
                <a:ln w="12700">
                  <a:noFill/>
                </a:ln>
              </p:spPr>
              <p:style>
                <a:lnRef idx="0"/>
                <a:fillRef idx="0"/>
                <a:effectRef idx="0"/>
                <a:fontRef idx="minor"/>
              </p:style>
              <p:txBody>
                <a:bodyPr numCol="1" spcCol="0" lIns="45720" rIns="45720" tIns="38880" bIns="3888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grpSp>
          <p:nvGrpSpPr>
            <p:cNvPr id="5721" name="Group 3075"/>
            <p:cNvGrpSpPr/>
            <p:nvPr/>
          </p:nvGrpSpPr>
          <p:grpSpPr>
            <a:xfrm>
              <a:off x="19609200" y="8666280"/>
              <a:ext cx="2356560" cy="1774440"/>
              <a:chOff x="19609200" y="8666280"/>
              <a:chExt cx="2356560" cy="1774440"/>
            </a:xfrm>
          </p:grpSpPr>
          <p:sp>
            <p:nvSpPr>
              <p:cNvPr id="5722" name="Shape 3063"/>
              <p:cNvSpPr/>
              <p:nvPr/>
            </p:nvSpPr>
            <p:spPr>
              <a:xfrm>
                <a:off x="20840760" y="8712360"/>
                <a:ext cx="169920" cy="103680"/>
              </a:xfrm>
              <a:custGeom>
                <a:avLst/>
                <a:gdLst>
                  <a:gd name="textAreaLeft" fmla="*/ 0 w 169920"/>
                  <a:gd name="textAreaRight" fmla="*/ 170280 w 169920"/>
                  <a:gd name="textAreaTop" fmla="*/ 0 h 103680"/>
                  <a:gd name="textAreaBottom" fmla="*/ 104040 h 10368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23" name="Shape 3064"/>
              <p:cNvSpPr/>
              <p:nvPr/>
            </p:nvSpPr>
            <p:spPr>
              <a:xfrm>
                <a:off x="19609200" y="8968320"/>
                <a:ext cx="1405440" cy="1116720"/>
              </a:xfrm>
              <a:custGeom>
                <a:avLst/>
                <a:gdLst>
                  <a:gd name="textAreaLeft" fmla="*/ 0 w 1405440"/>
                  <a:gd name="textAreaRight" fmla="*/ 1405800 w 1405440"/>
                  <a:gd name="textAreaTop" fmla="*/ 0 h 1116720"/>
                  <a:gd name="textAreaBottom" fmla="*/ 1117080 h 111672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24" name="Shape 3065"/>
              <p:cNvSpPr/>
              <p:nvPr/>
            </p:nvSpPr>
            <p:spPr>
              <a:xfrm>
                <a:off x="20818800" y="10089720"/>
                <a:ext cx="29880" cy="44280"/>
              </a:xfrm>
              <a:custGeom>
                <a:avLst/>
                <a:gdLst>
                  <a:gd name="textAreaLeft" fmla="*/ 0 w 29880"/>
                  <a:gd name="textAreaRight" fmla="*/ 30240 w 29880"/>
                  <a:gd name="textAreaTop" fmla="*/ 0 h 44280"/>
                  <a:gd name="textAreaBottom" fmla="*/ 44640 h 4428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a9a9a9"/>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25" name="Shape 3066"/>
              <p:cNvSpPr/>
              <p:nvPr/>
            </p:nvSpPr>
            <p:spPr>
              <a:xfrm>
                <a:off x="20700360" y="10139040"/>
                <a:ext cx="144000" cy="157320"/>
              </a:xfrm>
              <a:custGeom>
                <a:avLst/>
                <a:gdLst>
                  <a:gd name="textAreaLeft" fmla="*/ 0 w 144000"/>
                  <a:gd name="textAreaRight" fmla="*/ 144360 w 144000"/>
                  <a:gd name="textAreaTop" fmla="*/ 0 h 157320"/>
                  <a:gd name="textAreaBottom" fmla="*/ 157680 h 15732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8"/>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7"/>
                      <a:pt x="9775" y="21600"/>
                      <a:pt x="10869" y="21600"/>
                    </a:cubicBezTo>
                    <a:cubicBezTo>
                      <a:pt x="11416" y="21600"/>
                      <a:pt x="12054" y="21262"/>
                      <a:pt x="12418" y="20841"/>
                    </a:cubicBezTo>
                    <a:cubicBezTo>
                      <a:pt x="13603" y="20166"/>
                      <a:pt x="14697" y="19238"/>
                      <a:pt x="15699" y="18563"/>
                    </a:cubicBezTo>
                    <a:cubicBezTo>
                      <a:pt x="17431" y="17297"/>
                      <a:pt x="19254" y="15947"/>
                      <a:pt x="20074" y="14006"/>
                    </a:cubicBezTo>
                    <a:cubicBezTo>
                      <a:pt x="20985" y="11644"/>
                      <a:pt x="19892" y="8859"/>
                      <a:pt x="20803" y="6497"/>
                    </a:cubicBezTo>
                    <a:cubicBezTo>
                      <a:pt x="20985" y="5822"/>
                      <a:pt x="21441" y="5147"/>
                      <a:pt x="21168" y="4388"/>
                    </a:cubicBezTo>
                    <a:cubicBezTo>
                      <a:pt x="20803" y="3712"/>
                      <a:pt x="19892" y="3375"/>
                      <a:pt x="18889" y="3206"/>
                    </a:cubicBezTo>
                    <a:cubicBezTo>
                      <a:pt x="17157" y="2784"/>
                      <a:pt x="15517" y="2447"/>
                      <a:pt x="13968" y="2278"/>
                    </a:cubicBezTo>
                    <a:cubicBezTo>
                      <a:pt x="13785" y="2278"/>
                      <a:pt x="13330" y="2109"/>
                      <a:pt x="13147" y="2278"/>
                    </a:cubicBezTo>
                    <a:cubicBezTo>
                      <a:pt x="12418" y="2447"/>
                      <a:pt x="12054" y="3544"/>
                      <a:pt x="11233" y="3712"/>
                    </a:cubicBezTo>
                    <a:cubicBezTo>
                      <a:pt x="10322" y="4050"/>
                      <a:pt x="9593" y="2953"/>
                      <a:pt x="8773" y="2447"/>
                    </a:cubicBezTo>
                    <a:cubicBezTo>
                      <a:pt x="7223" y="1434"/>
                      <a:pt x="5309" y="1941"/>
                      <a:pt x="3578" y="84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26" name="Shape 3067"/>
              <p:cNvSpPr/>
              <p:nvPr/>
            </p:nvSpPr>
            <p:spPr>
              <a:xfrm>
                <a:off x="21700080" y="9880920"/>
                <a:ext cx="209160" cy="335160"/>
              </a:xfrm>
              <a:custGeom>
                <a:avLst/>
                <a:gdLst>
                  <a:gd name="textAreaLeft" fmla="*/ 0 w 209160"/>
                  <a:gd name="textAreaRight" fmla="*/ 209520 w 209160"/>
                  <a:gd name="textAreaTop" fmla="*/ 0 h 335160"/>
                  <a:gd name="textAreaBottom" fmla="*/ 335520 h 33516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27" name="Shape 3068"/>
              <p:cNvSpPr/>
              <p:nvPr/>
            </p:nvSpPr>
            <p:spPr>
              <a:xfrm>
                <a:off x="21484800" y="10147680"/>
                <a:ext cx="288000" cy="293040"/>
              </a:xfrm>
              <a:custGeom>
                <a:avLst/>
                <a:gdLst>
                  <a:gd name="textAreaLeft" fmla="*/ 0 w 288000"/>
                  <a:gd name="textAreaRight" fmla="*/ 288360 w 288000"/>
                  <a:gd name="textAreaTop" fmla="*/ 0 h 293040"/>
                  <a:gd name="textAreaBottom" fmla="*/ 293400 h 29304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28" name="Shape 3069"/>
              <p:cNvSpPr/>
              <p:nvPr/>
            </p:nvSpPr>
            <p:spPr>
              <a:xfrm>
                <a:off x="21382920" y="9275400"/>
                <a:ext cx="118800" cy="126000"/>
              </a:xfrm>
              <a:custGeom>
                <a:avLst/>
                <a:gdLst>
                  <a:gd name="textAreaLeft" fmla="*/ 0 w 118800"/>
                  <a:gd name="textAreaRight" fmla="*/ 119160 w 118800"/>
                  <a:gd name="textAreaTop" fmla="*/ 0 h 126000"/>
                  <a:gd name="textAreaBottom" fmla="*/ 126360 h 12600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29" name="Shape 3070"/>
              <p:cNvSpPr/>
              <p:nvPr/>
            </p:nvSpPr>
            <p:spPr>
              <a:xfrm>
                <a:off x="21858480" y="9195120"/>
                <a:ext cx="64440" cy="46440"/>
              </a:xfrm>
              <a:custGeom>
                <a:avLst/>
                <a:gdLst>
                  <a:gd name="textAreaLeft" fmla="*/ 0 w 64440"/>
                  <a:gd name="textAreaRight" fmla="*/ 64800 w 64440"/>
                  <a:gd name="textAreaTop" fmla="*/ 0 h 46440"/>
                  <a:gd name="textAreaBottom" fmla="*/ 46800 h 4644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d6d6d6"/>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30" name="Shape 3071"/>
              <p:cNvSpPr/>
              <p:nvPr/>
            </p:nvSpPr>
            <p:spPr>
              <a:xfrm>
                <a:off x="21923640" y="9149760"/>
                <a:ext cx="42120" cy="38160"/>
              </a:xfrm>
              <a:custGeom>
                <a:avLst/>
                <a:gdLst>
                  <a:gd name="textAreaLeft" fmla="*/ 0 w 42120"/>
                  <a:gd name="textAreaRight" fmla="*/ 42480 w 42120"/>
                  <a:gd name="textAreaTop" fmla="*/ 0 h 38160"/>
                  <a:gd name="textAreaBottom" fmla="*/ 38520 h 3816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a9a9a9"/>
              </a:solidFill>
              <a:ln w="12700">
                <a:noFill/>
              </a:ln>
            </p:spPr>
            <p:style>
              <a:lnRef idx="0"/>
              <a:fillRef idx="0"/>
              <a:effectRef idx="0"/>
              <a:fontRef idx="minor"/>
            </p:style>
            <p:txBody>
              <a:bodyPr numCol="1" spcCol="0" lIns="45720" rIns="45720" tIns="19080" bIns="19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31" name="Shape 3072"/>
              <p:cNvSpPr/>
              <p:nvPr/>
            </p:nvSpPr>
            <p:spPr>
              <a:xfrm>
                <a:off x="21937320" y="9214560"/>
                <a:ext cx="25920" cy="30600"/>
              </a:xfrm>
              <a:custGeom>
                <a:avLst/>
                <a:gdLst>
                  <a:gd name="textAreaLeft" fmla="*/ 0 w 25920"/>
                  <a:gd name="textAreaRight" fmla="*/ 26280 w 25920"/>
                  <a:gd name="textAreaTop" fmla="*/ 0 h 30600"/>
                  <a:gd name="textAreaBottom" fmla="*/ 30960 h 3060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d6d6d6"/>
              </a:solidFill>
              <a:ln w="12700">
                <a:noFill/>
              </a:ln>
            </p:spPr>
            <p:style>
              <a:lnRef idx="0"/>
              <a:fillRef idx="0"/>
              <a:effectRef idx="0"/>
              <a:fontRef idx="minor"/>
            </p:style>
            <p:txBody>
              <a:bodyPr numCol="1" spcCol="0" lIns="45720" rIns="45720" tIns="15480" bIns="15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32" name="Shape 3073"/>
              <p:cNvSpPr/>
              <p:nvPr/>
            </p:nvSpPr>
            <p:spPr>
              <a:xfrm>
                <a:off x="21476160" y="9100440"/>
                <a:ext cx="62280" cy="68400"/>
              </a:xfrm>
              <a:custGeom>
                <a:avLst/>
                <a:gdLst>
                  <a:gd name="textAreaLeft" fmla="*/ 0 w 62280"/>
                  <a:gd name="textAreaRight" fmla="*/ 62640 w 62280"/>
                  <a:gd name="textAreaTop" fmla="*/ 0 h 68400"/>
                  <a:gd name="textAreaBottom" fmla="*/ 68760 h 6840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d6d6d6"/>
              </a:solidFill>
              <a:ln w="12700">
                <a:noFill/>
              </a:ln>
            </p:spPr>
            <p:style>
              <a:lnRef idx="0"/>
              <a:fillRef idx="0"/>
              <a:effectRef idx="0"/>
              <a:fontRef idx="minor"/>
            </p:style>
            <p:txBody>
              <a:bodyPr numCol="1" spcCol="0" lIns="45720" rIns="45720" tIns="34200" bIns="34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33" name="Shape 3074"/>
              <p:cNvSpPr/>
              <p:nvPr/>
            </p:nvSpPr>
            <p:spPr>
              <a:xfrm>
                <a:off x="20599560" y="8666280"/>
                <a:ext cx="317520" cy="297360"/>
              </a:xfrm>
              <a:custGeom>
                <a:avLst/>
                <a:gdLst>
                  <a:gd name="textAreaLeft" fmla="*/ 0 w 317520"/>
                  <a:gd name="textAreaRight" fmla="*/ 317880 w 317520"/>
                  <a:gd name="textAreaTop" fmla="*/ 0 h 297360"/>
                  <a:gd name="textAreaBottom" fmla="*/ 297720 h 29736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734" name="Group 3118"/>
            <p:cNvGrpSpPr/>
            <p:nvPr/>
          </p:nvGrpSpPr>
          <p:grpSpPr>
            <a:xfrm>
              <a:off x="16511760" y="3378960"/>
              <a:ext cx="5844960" cy="5552640"/>
              <a:chOff x="16511760" y="3378960"/>
              <a:chExt cx="5844960" cy="5552640"/>
            </a:xfrm>
          </p:grpSpPr>
          <p:sp>
            <p:nvSpPr>
              <p:cNvPr id="5735" name="Shape 3076"/>
              <p:cNvSpPr/>
              <p:nvPr/>
            </p:nvSpPr>
            <p:spPr>
              <a:xfrm>
                <a:off x="18403560" y="8225640"/>
                <a:ext cx="90720" cy="134640"/>
              </a:xfrm>
              <a:custGeom>
                <a:avLst/>
                <a:gdLst>
                  <a:gd name="textAreaLeft" fmla="*/ 0 w 90720"/>
                  <a:gd name="textAreaRight" fmla="*/ 91080 w 90720"/>
                  <a:gd name="textAreaTop" fmla="*/ 0 h 134640"/>
                  <a:gd name="textAreaBottom" fmla="*/ 135000 h 13464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36" name="Shape 3077"/>
              <p:cNvSpPr/>
              <p:nvPr/>
            </p:nvSpPr>
            <p:spPr>
              <a:xfrm>
                <a:off x="18968400" y="8358480"/>
                <a:ext cx="363960" cy="406800"/>
              </a:xfrm>
              <a:custGeom>
                <a:avLst/>
                <a:gdLst>
                  <a:gd name="textAreaLeft" fmla="*/ 0 w 363960"/>
                  <a:gd name="textAreaRight" fmla="*/ 364320 w 363960"/>
                  <a:gd name="textAreaTop" fmla="*/ 0 h 406800"/>
                  <a:gd name="textAreaBottom" fmla="*/ 407160 h 40680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3"/>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37" name="Shape 3078"/>
              <p:cNvSpPr/>
              <p:nvPr/>
            </p:nvSpPr>
            <p:spPr>
              <a:xfrm>
                <a:off x="19313640" y="8605440"/>
                <a:ext cx="46440" cy="61560"/>
              </a:xfrm>
              <a:custGeom>
                <a:avLst/>
                <a:gdLst>
                  <a:gd name="textAreaLeft" fmla="*/ 0 w 46440"/>
                  <a:gd name="textAreaRight" fmla="*/ 46800 w 46440"/>
                  <a:gd name="textAreaTop" fmla="*/ 0 h 61560"/>
                  <a:gd name="textAreaBottom" fmla="*/ 61920 h 6156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919191"/>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38" name="Shape 3079"/>
              <p:cNvSpPr/>
              <p:nvPr/>
            </p:nvSpPr>
            <p:spPr>
              <a:xfrm>
                <a:off x="19392480" y="8651160"/>
                <a:ext cx="36000" cy="21600"/>
              </a:xfrm>
              <a:custGeom>
                <a:avLst/>
                <a:gdLst>
                  <a:gd name="textAreaLeft" fmla="*/ 0 w 36000"/>
                  <a:gd name="textAreaRight" fmla="*/ 36360 w 36000"/>
                  <a:gd name="textAreaTop" fmla="*/ 0 h 21600"/>
                  <a:gd name="textAreaBottom" fmla="*/ 21960 h 2160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919191"/>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39" name="Shape 3080"/>
              <p:cNvSpPr/>
              <p:nvPr/>
            </p:nvSpPr>
            <p:spPr>
              <a:xfrm>
                <a:off x="19443600" y="8298000"/>
                <a:ext cx="370800" cy="400320"/>
              </a:xfrm>
              <a:custGeom>
                <a:avLst/>
                <a:gdLst>
                  <a:gd name="textAreaLeft" fmla="*/ 0 w 370800"/>
                  <a:gd name="textAreaRight" fmla="*/ 371160 w 370800"/>
                  <a:gd name="textAreaTop" fmla="*/ 0 h 400320"/>
                  <a:gd name="textAreaBottom" fmla="*/ 400680 h 40032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0" name="Shape 3081"/>
              <p:cNvSpPr/>
              <p:nvPr/>
            </p:nvSpPr>
            <p:spPr>
              <a:xfrm>
                <a:off x="19342800" y="8761680"/>
                <a:ext cx="333360" cy="105840"/>
              </a:xfrm>
              <a:custGeom>
                <a:avLst/>
                <a:gdLst>
                  <a:gd name="textAreaLeft" fmla="*/ 0 w 333360"/>
                  <a:gd name="textAreaRight" fmla="*/ 333720 w 333360"/>
                  <a:gd name="textAreaTop" fmla="*/ 0 h 105840"/>
                  <a:gd name="textAreaBottom" fmla="*/ 106200 h 10584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1" name="Shape 3082"/>
              <p:cNvSpPr/>
              <p:nvPr/>
            </p:nvSpPr>
            <p:spPr>
              <a:xfrm>
                <a:off x="19707480" y="8851680"/>
                <a:ext cx="97200" cy="23040"/>
              </a:xfrm>
              <a:custGeom>
                <a:avLst/>
                <a:gdLst>
                  <a:gd name="textAreaLeft" fmla="*/ 0 w 97200"/>
                  <a:gd name="textAreaRight" fmla="*/ 97560 w 97200"/>
                  <a:gd name="textAreaTop" fmla="*/ 0 h 23040"/>
                  <a:gd name="textAreaBottom" fmla="*/ 23400 h 2304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919191"/>
              </a:solidFill>
              <a:ln w="12700">
                <a:noFill/>
              </a:ln>
            </p:spPr>
            <p:style>
              <a:lnRef idx="0"/>
              <a:fillRef idx="0"/>
              <a:effectRef idx="0"/>
              <a:fontRef idx="minor"/>
            </p:style>
            <p:txBody>
              <a:bodyPr numCol="1" spcCol="0" lIns="45720" rIns="45720" tIns="11520" bIns="11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2" name="Shape 3083"/>
              <p:cNvSpPr/>
              <p:nvPr/>
            </p:nvSpPr>
            <p:spPr>
              <a:xfrm>
                <a:off x="19807200" y="8883000"/>
                <a:ext cx="65520" cy="48600"/>
              </a:xfrm>
              <a:custGeom>
                <a:avLst/>
                <a:gdLst>
                  <a:gd name="textAreaLeft" fmla="*/ 0 w 65520"/>
                  <a:gd name="textAreaRight" fmla="*/ 65880 w 65520"/>
                  <a:gd name="textAreaTop" fmla="*/ 0 h 48600"/>
                  <a:gd name="textAreaBottom" fmla="*/ 48960 h 4860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919191"/>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3" name="Shape 3084"/>
              <p:cNvSpPr/>
              <p:nvPr/>
            </p:nvSpPr>
            <p:spPr>
              <a:xfrm>
                <a:off x="19821960" y="8842680"/>
                <a:ext cx="181800" cy="37080"/>
              </a:xfrm>
              <a:custGeom>
                <a:avLst/>
                <a:gdLst>
                  <a:gd name="textAreaLeft" fmla="*/ 0 w 181800"/>
                  <a:gd name="textAreaRight" fmla="*/ 182160 w 181800"/>
                  <a:gd name="textAreaTop" fmla="*/ 0 h 37080"/>
                  <a:gd name="textAreaBottom" fmla="*/ 37440 h 3708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919191"/>
              </a:solidFill>
              <a:ln w="12700">
                <a:noFill/>
              </a:ln>
            </p:spPr>
            <p:style>
              <a:lnRef idx="0"/>
              <a:fillRef idx="0"/>
              <a:effectRef idx="0"/>
              <a:fontRef idx="minor"/>
            </p:style>
            <p:txBody>
              <a:bodyPr numCol="1" spcCol="0" lIns="45720" rIns="45720" tIns="18720" bIns="18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4" name="Shape 3085"/>
              <p:cNvSpPr/>
              <p:nvPr/>
            </p:nvSpPr>
            <p:spPr>
              <a:xfrm>
                <a:off x="19971000" y="8852760"/>
                <a:ext cx="133200" cy="65520"/>
              </a:xfrm>
              <a:custGeom>
                <a:avLst/>
                <a:gdLst>
                  <a:gd name="textAreaLeft" fmla="*/ 0 w 133200"/>
                  <a:gd name="textAreaRight" fmla="*/ 133560 w 133200"/>
                  <a:gd name="textAreaTop" fmla="*/ 0 h 65520"/>
                  <a:gd name="textAreaBottom" fmla="*/ 65880 h 6552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919191"/>
              </a:solidFill>
              <a:ln w="12700">
                <a:noFill/>
              </a:ln>
            </p:spPr>
            <p:style>
              <a:lnRef idx="0"/>
              <a:fillRef idx="0"/>
              <a:effectRef idx="0"/>
              <a:fontRef idx="minor"/>
            </p:style>
            <p:txBody>
              <a:bodyPr numCol="1" spcCol="0" lIns="45720" rIns="45720" tIns="32760" bIns="32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5" name="Shape 3086"/>
              <p:cNvSpPr/>
              <p:nvPr/>
            </p:nvSpPr>
            <p:spPr>
              <a:xfrm>
                <a:off x="19800000" y="8567640"/>
                <a:ext cx="169920" cy="191160"/>
              </a:xfrm>
              <a:custGeom>
                <a:avLst/>
                <a:gdLst>
                  <a:gd name="textAreaLeft" fmla="*/ 0 w 169920"/>
                  <a:gd name="textAreaRight" fmla="*/ 170280 w 169920"/>
                  <a:gd name="textAreaTop" fmla="*/ 0 h 191160"/>
                  <a:gd name="textAreaBottom" fmla="*/ 191520 h 19116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6" name="Shape 3087"/>
              <p:cNvSpPr/>
              <p:nvPr/>
            </p:nvSpPr>
            <p:spPr>
              <a:xfrm>
                <a:off x="19852920" y="8485200"/>
                <a:ext cx="176040" cy="71640"/>
              </a:xfrm>
              <a:custGeom>
                <a:avLst/>
                <a:gdLst>
                  <a:gd name="textAreaLeft" fmla="*/ 0 w 176040"/>
                  <a:gd name="textAreaRight" fmla="*/ 176400 w 176040"/>
                  <a:gd name="textAreaTop" fmla="*/ 0 h 71640"/>
                  <a:gd name="textAreaBottom" fmla="*/ 72000 h 7164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919191"/>
              </a:solidFill>
              <a:ln w="12700">
                <a:noFill/>
              </a:ln>
            </p:spPr>
            <p:style>
              <a:lnRef idx="0"/>
              <a:fillRef idx="0"/>
              <a:effectRef idx="0"/>
              <a:fontRef idx="minor"/>
            </p:style>
            <p:txBody>
              <a:bodyPr numCol="1" spcCol="0" lIns="45720" rIns="45720" tIns="36000" bIns="36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7" name="Shape 3088"/>
              <p:cNvSpPr/>
              <p:nvPr/>
            </p:nvSpPr>
            <p:spPr>
              <a:xfrm>
                <a:off x="20051280" y="8659800"/>
                <a:ext cx="36720" cy="56160"/>
              </a:xfrm>
              <a:custGeom>
                <a:avLst/>
                <a:gdLst>
                  <a:gd name="textAreaLeft" fmla="*/ 0 w 36720"/>
                  <a:gd name="textAreaRight" fmla="*/ 37080 w 36720"/>
                  <a:gd name="textAreaTop" fmla="*/ 0 h 56160"/>
                  <a:gd name="textAreaBottom" fmla="*/ 56520 h 5616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919191"/>
              </a:solidFill>
              <a:ln w="12700">
                <a:noFill/>
              </a:ln>
            </p:spPr>
            <p:style>
              <a:lnRef idx="0"/>
              <a:fillRef idx="0"/>
              <a:effectRef idx="0"/>
              <a:fontRef idx="minor"/>
            </p:style>
            <p:txBody>
              <a:bodyPr numCol="1" spcCol="0" lIns="45720" rIns="45720" tIns="28080" bIns="28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8" name="Shape 3089"/>
              <p:cNvSpPr/>
              <p:nvPr/>
            </p:nvSpPr>
            <p:spPr>
              <a:xfrm>
                <a:off x="20112480" y="8653320"/>
                <a:ext cx="117360" cy="59760"/>
              </a:xfrm>
              <a:custGeom>
                <a:avLst/>
                <a:gdLst>
                  <a:gd name="textAreaLeft" fmla="*/ 0 w 117360"/>
                  <a:gd name="textAreaRight" fmla="*/ 117720 w 117360"/>
                  <a:gd name="textAreaTop" fmla="*/ 0 h 59760"/>
                  <a:gd name="textAreaBottom" fmla="*/ 60120 h 5976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919191"/>
              </a:solidFill>
              <a:ln w="12700">
                <a:noFill/>
              </a:ln>
            </p:spPr>
            <p:style>
              <a:lnRef idx="0"/>
              <a:fillRef idx="0"/>
              <a:effectRef idx="0"/>
              <a:fontRef idx="minor"/>
            </p:style>
            <p:txBody>
              <a:bodyPr numCol="1" spcCol="0" lIns="45720" rIns="45720" tIns="29880" bIns="29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49" name="Shape 3090"/>
              <p:cNvSpPr/>
              <p:nvPr/>
            </p:nvSpPr>
            <p:spPr>
              <a:xfrm>
                <a:off x="20217960" y="8810640"/>
                <a:ext cx="47520" cy="54720"/>
              </a:xfrm>
              <a:custGeom>
                <a:avLst/>
                <a:gdLst>
                  <a:gd name="textAreaLeft" fmla="*/ 0 w 47520"/>
                  <a:gd name="textAreaRight" fmla="*/ 47880 w 47520"/>
                  <a:gd name="textAreaTop" fmla="*/ 0 h 54720"/>
                  <a:gd name="textAreaBottom" fmla="*/ 55080 h 5472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919191"/>
              </a:solidFill>
              <a:ln w="12700">
                <a:noFill/>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0" name="Shape 3091"/>
              <p:cNvSpPr/>
              <p:nvPr/>
            </p:nvSpPr>
            <p:spPr>
              <a:xfrm>
                <a:off x="20281320" y="8744400"/>
                <a:ext cx="31680" cy="36360"/>
              </a:xfrm>
              <a:custGeom>
                <a:avLst/>
                <a:gdLst>
                  <a:gd name="textAreaLeft" fmla="*/ 0 w 31680"/>
                  <a:gd name="textAreaRight" fmla="*/ 32040 w 31680"/>
                  <a:gd name="textAreaTop" fmla="*/ 0 h 36360"/>
                  <a:gd name="textAreaBottom" fmla="*/ 36720 h 3636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919191"/>
              </a:solidFill>
              <a:ln w="12700">
                <a:noFill/>
              </a:ln>
            </p:spPr>
            <p:style>
              <a:lnRef idx="0"/>
              <a:fillRef idx="0"/>
              <a:effectRef idx="0"/>
              <a:fontRef idx="minor"/>
            </p:style>
            <p:txBody>
              <a:bodyPr numCol="1" spcCol="0" lIns="45720" rIns="45720" tIns="18360" bIns="18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1" name="Shape 3092"/>
              <p:cNvSpPr/>
              <p:nvPr/>
            </p:nvSpPr>
            <p:spPr>
              <a:xfrm>
                <a:off x="20337480" y="8753760"/>
                <a:ext cx="30960" cy="53280"/>
              </a:xfrm>
              <a:custGeom>
                <a:avLst/>
                <a:gdLst>
                  <a:gd name="textAreaLeft" fmla="*/ 0 w 30960"/>
                  <a:gd name="textAreaRight" fmla="*/ 31320 w 30960"/>
                  <a:gd name="textAreaTop" fmla="*/ 0 h 53280"/>
                  <a:gd name="textAreaBottom" fmla="*/ 53640 h 5328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919191"/>
              </a:solidFill>
              <a:ln w="12700">
                <a:noFill/>
              </a:ln>
            </p:spPr>
            <p:style>
              <a:lnRef idx="0"/>
              <a:fillRef idx="0"/>
              <a:effectRef idx="0"/>
              <a:fontRef idx="minor"/>
            </p:style>
            <p:txBody>
              <a:bodyPr numCol="1" spcCol="0" lIns="45720" rIns="45720" tIns="26640" bIns="26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2" name="Shape 3093"/>
              <p:cNvSpPr/>
              <p:nvPr/>
            </p:nvSpPr>
            <p:spPr>
              <a:xfrm>
                <a:off x="20094480" y="8486640"/>
                <a:ext cx="58680" cy="106560"/>
              </a:xfrm>
              <a:custGeom>
                <a:avLst/>
                <a:gdLst>
                  <a:gd name="textAreaLeft" fmla="*/ 0 w 58680"/>
                  <a:gd name="textAreaRight" fmla="*/ 59040 w 58680"/>
                  <a:gd name="textAreaTop" fmla="*/ 0 h 106560"/>
                  <a:gd name="textAreaBottom" fmla="*/ 106920 h 106560"/>
                </a:gdLst>
                <a:ahLst/>
                <a:rect l="textAreaLeft" t="textAreaTop" r="textAreaRight" b="textAreaBottom"/>
                <a:pathLst>
                  <a:path w="21488"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3" name="Shape 3094"/>
              <p:cNvSpPr/>
              <p:nvPr/>
            </p:nvSpPr>
            <p:spPr>
              <a:xfrm>
                <a:off x="20199240" y="8552880"/>
                <a:ext cx="41400" cy="51120"/>
              </a:xfrm>
              <a:custGeom>
                <a:avLst/>
                <a:gdLst>
                  <a:gd name="textAreaLeft" fmla="*/ 0 w 41400"/>
                  <a:gd name="textAreaRight" fmla="*/ 41760 w 41400"/>
                  <a:gd name="textAreaTop" fmla="*/ 0 h 51120"/>
                  <a:gd name="textAreaBottom" fmla="*/ 51480 h 5112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919191"/>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4" name="Shape 3095"/>
              <p:cNvSpPr/>
              <p:nvPr/>
            </p:nvSpPr>
            <p:spPr>
              <a:xfrm>
                <a:off x="19843560" y="7632720"/>
                <a:ext cx="57600" cy="125280"/>
              </a:xfrm>
              <a:custGeom>
                <a:avLst/>
                <a:gdLst>
                  <a:gd name="textAreaLeft" fmla="*/ 0 w 57600"/>
                  <a:gd name="textAreaRight" fmla="*/ 57960 w 57600"/>
                  <a:gd name="textAreaTop" fmla="*/ 0 h 125280"/>
                  <a:gd name="textAreaBottom" fmla="*/ 125640 h 12528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5" name="Shape 3096"/>
              <p:cNvSpPr/>
              <p:nvPr/>
            </p:nvSpPr>
            <p:spPr>
              <a:xfrm>
                <a:off x="19828800" y="7877160"/>
                <a:ext cx="101160" cy="249840"/>
              </a:xfrm>
              <a:custGeom>
                <a:avLst/>
                <a:gdLst>
                  <a:gd name="textAreaLeft" fmla="*/ 0 w 101160"/>
                  <a:gd name="textAreaRight" fmla="*/ 101520 w 101160"/>
                  <a:gd name="textAreaTop" fmla="*/ 0 h 249840"/>
                  <a:gd name="textAreaBottom" fmla="*/ 250200 h 24984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6" name="Shape 3097"/>
              <p:cNvSpPr/>
              <p:nvPr/>
            </p:nvSpPr>
            <p:spPr>
              <a:xfrm>
                <a:off x="19906200" y="8043480"/>
                <a:ext cx="69840" cy="50400"/>
              </a:xfrm>
              <a:custGeom>
                <a:avLst/>
                <a:gdLst>
                  <a:gd name="textAreaLeft" fmla="*/ 0 w 69840"/>
                  <a:gd name="textAreaRight" fmla="*/ 70200 w 69840"/>
                  <a:gd name="textAreaTop" fmla="*/ 0 h 50400"/>
                  <a:gd name="textAreaBottom" fmla="*/ 50760 h 5040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919191"/>
              </a:solidFill>
              <a:ln w="12700">
                <a:noFill/>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7" name="Shape 3098"/>
              <p:cNvSpPr/>
              <p:nvPr/>
            </p:nvSpPr>
            <p:spPr>
              <a:xfrm>
                <a:off x="19904040" y="8128080"/>
                <a:ext cx="41040" cy="57960"/>
              </a:xfrm>
              <a:custGeom>
                <a:avLst/>
                <a:gdLst>
                  <a:gd name="textAreaLeft" fmla="*/ 0 w 41040"/>
                  <a:gd name="textAreaRight" fmla="*/ 41400 w 41040"/>
                  <a:gd name="textAreaTop" fmla="*/ 0 h 57960"/>
                  <a:gd name="textAreaBottom" fmla="*/ 58320 h 5796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919191"/>
              </a:solidFill>
              <a:ln w="12700">
                <a:noFill/>
              </a:ln>
            </p:spPr>
            <p:style>
              <a:lnRef idx="0"/>
              <a:fillRef idx="0"/>
              <a:effectRef idx="0"/>
              <a:fontRef idx="minor"/>
            </p:style>
            <p:txBody>
              <a:bodyPr numCol="1" spcCol="0" lIns="45720" rIns="45720" tIns="29160" bIns="29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8" name="Shape 3099"/>
              <p:cNvSpPr/>
              <p:nvPr/>
            </p:nvSpPr>
            <p:spPr>
              <a:xfrm>
                <a:off x="19923480" y="8169840"/>
                <a:ext cx="68040" cy="68760"/>
              </a:xfrm>
              <a:custGeom>
                <a:avLst/>
                <a:gdLst>
                  <a:gd name="textAreaLeft" fmla="*/ 0 w 68040"/>
                  <a:gd name="textAreaRight" fmla="*/ 68400 w 68040"/>
                  <a:gd name="textAreaTop" fmla="*/ 0 h 68760"/>
                  <a:gd name="textAreaBottom" fmla="*/ 69120 h 6876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919191"/>
              </a:solidFill>
              <a:ln w="12700">
                <a:noFill/>
              </a:ln>
            </p:spPr>
            <p:style>
              <a:lnRef idx="0"/>
              <a:fillRef idx="0"/>
              <a:effectRef idx="0"/>
              <a:fontRef idx="minor"/>
            </p:style>
            <p:txBody>
              <a:bodyPr numCol="1" spcCol="0" lIns="45720" rIns="45720" tIns="34560" bIns="34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59" name="Shape 3100"/>
              <p:cNvSpPr/>
              <p:nvPr/>
            </p:nvSpPr>
            <p:spPr>
              <a:xfrm>
                <a:off x="19964160" y="8104320"/>
                <a:ext cx="63000" cy="97560"/>
              </a:xfrm>
              <a:custGeom>
                <a:avLst/>
                <a:gdLst>
                  <a:gd name="textAreaLeft" fmla="*/ 0 w 63000"/>
                  <a:gd name="textAreaRight" fmla="*/ 63360 w 63000"/>
                  <a:gd name="textAreaTop" fmla="*/ 0 h 97560"/>
                  <a:gd name="textAreaBottom" fmla="*/ 97920 h 9756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0" name="Shape 3101"/>
              <p:cNvSpPr/>
              <p:nvPr/>
            </p:nvSpPr>
            <p:spPr>
              <a:xfrm>
                <a:off x="19904760" y="8228880"/>
                <a:ext cx="174240" cy="135360"/>
              </a:xfrm>
              <a:custGeom>
                <a:avLst/>
                <a:gdLst>
                  <a:gd name="textAreaLeft" fmla="*/ 0 w 174240"/>
                  <a:gd name="textAreaRight" fmla="*/ 174600 w 174240"/>
                  <a:gd name="textAreaTop" fmla="*/ 0 h 135360"/>
                  <a:gd name="textAreaBottom" fmla="*/ 135720 h 13536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1" name="Shape 3102"/>
              <p:cNvSpPr/>
              <p:nvPr/>
            </p:nvSpPr>
            <p:spPr>
              <a:xfrm>
                <a:off x="22247640" y="5614200"/>
                <a:ext cx="109080" cy="66240"/>
              </a:xfrm>
              <a:custGeom>
                <a:avLst/>
                <a:gdLst>
                  <a:gd name="textAreaLeft" fmla="*/ 0 w 109080"/>
                  <a:gd name="textAreaRight" fmla="*/ 109440 w 109080"/>
                  <a:gd name="textAreaTop" fmla="*/ 0 h 66240"/>
                  <a:gd name="textAreaBottom" fmla="*/ 66600 h 66240"/>
                </a:gdLst>
                <a:ahLst/>
                <a:rect l="textAreaLeft" t="textAreaTop" r="textAreaRight" b="textAreaBottom"/>
                <a:pathLst>
                  <a:path w="20746" h="19746">
                    <a:moveTo>
                      <a:pt x="2693" y="8974"/>
                    </a:moveTo>
                    <a:cubicBezTo>
                      <a:pt x="3163" y="8974"/>
                      <a:pt x="3398" y="8608"/>
                      <a:pt x="3985" y="8608"/>
                    </a:cubicBezTo>
                    <a:cubicBezTo>
                      <a:pt x="4219" y="8608"/>
                      <a:pt x="4454" y="8974"/>
                      <a:pt x="4689" y="8974"/>
                    </a:cubicBezTo>
                    <a:cubicBezTo>
                      <a:pt x="4924" y="8974"/>
                      <a:pt x="5159" y="8608"/>
                      <a:pt x="5159" y="8608"/>
                    </a:cubicBezTo>
                    <a:cubicBezTo>
                      <a:pt x="6685" y="6960"/>
                      <a:pt x="8915" y="8425"/>
                      <a:pt x="9854" y="10438"/>
                    </a:cubicBezTo>
                    <a:cubicBezTo>
                      <a:pt x="10793" y="12269"/>
                      <a:pt x="11615" y="15381"/>
                      <a:pt x="11615" y="18126"/>
                    </a:cubicBezTo>
                    <a:cubicBezTo>
                      <a:pt x="12789" y="17028"/>
                      <a:pt x="14315" y="20506"/>
                      <a:pt x="15489" y="19591"/>
                    </a:cubicBezTo>
                    <a:cubicBezTo>
                      <a:pt x="15959" y="19225"/>
                      <a:pt x="16193" y="18492"/>
                      <a:pt x="15959" y="17760"/>
                    </a:cubicBezTo>
                    <a:cubicBezTo>
                      <a:pt x="15724" y="17028"/>
                      <a:pt x="15254" y="16662"/>
                      <a:pt x="14785" y="16662"/>
                    </a:cubicBezTo>
                    <a:cubicBezTo>
                      <a:pt x="14785" y="15381"/>
                      <a:pt x="15489" y="14648"/>
                      <a:pt x="16546" y="14282"/>
                    </a:cubicBezTo>
                    <a:cubicBezTo>
                      <a:pt x="17250" y="14282"/>
                      <a:pt x="17954" y="14648"/>
                      <a:pt x="18659" y="14648"/>
                    </a:cubicBezTo>
                    <a:cubicBezTo>
                      <a:pt x="19480" y="14648"/>
                      <a:pt x="20419" y="14648"/>
                      <a:pt x="20654" y="13550"/>
                    </a:cubicBezTo>
                    <a:cubicBezTo>
                      <a:pt x="20889" y="12452"/>
                      <a:pt x="20654" y="11170"/>
                      <a:pt x="20185" y="10438"/>
                    </a:cubicBezTo>
                    <a:cubicBezTo>
                      <a:pt x="19715" y="9706"/>
                      <a:pt x="19011" y="9340"/>
                      <a:pt x="18189" y="8974"/>
                    </a:cubicBezTo>
                    <a:cubicBezTo>
                      <a:pt x="17485" y="8608"/>
                      <a:pt x="17015" y="8242"/>
                      <a:pt x="16193" y="7692"/>
                    </a:cubicBezTo>
                    <a:cubicBezTo>
                      <a:pt x="15959" y="7692"/>
                      <a:pt x="15489" y="7326"/>
                      <a:pt x="15019" y="7326"/>
                    </a:cubicBezTo>
                    <a:cubicBezTo>
                      <a:pt x="14550" y="7326"/>
                      <a:pt x="14315" y="8242"/>
                      <a:pt x="14080" y="8608"/>
                    </a:cubicBezTo>
                    <a:cubicBezTo>
                      <a:pt x="13259" y="9340"/>
                      <a:pt x="12319" y="8608"/>
                      <a:pt x="11850" y="7326"/>
                    </a:cubicBezTo>
                    <a:cubicBezTo>
                      <a:pt x="11380" y="6228"/>
                      <a:pt x="11028" y="5130"/>
                      <a:pt x="10559" y="3848"/>
                    </a:cubicBezTo>
                    <a:cubicBezTo>
                      <a:pt x="10089" y="2750"/>
                      <a:pt x="9385" y="1652"/>
                      <a:pt x="8328" y="1652"/>
                    </a:cubicBezTo>
                    <a:cubicBezTo>
                      <a:pt x="8093" y="1652"/>
                      <a:pt x="7624" y="2018"/>
                      <a:pt x="7389" y="1652"/>
                    </a:cubicBezTo>
                    <a:cubicBezTo>
                      <a:pt x="6919" y="1652"/>
                      <a:pt x="6450" y="920"/>
                      <a:pt x="6098" y="553"/>
                    </a:cubicBezTo>
                    <a:cubicBezTo>
                      <a:pt x="4219" y="-1094"/>
                      <a:pt x="1989" y="1286"/>
                      <a:pt x="463" y="3116"/>
                    </a:cubicBezTo>
                    <a:cubicBezTo>
                      <a:pt x="-711" y="5496"/>
                      <a:pt x="463" y="9706"/>
                      <a:pt x="2693" y="8974"/>
                    </a:cubicBezTo>
                  </a:path>
                </a:pathLst>
              </a:custGeom>
              <a:solidFill>
                <a:srgbClr val="919191"/>
              </a:solidFill>
              <a:ln w="12700">
                <a:noFill/>
              </a:ln>
            </p:spPr>
            <p:style>
              <a:lnRef idx="0"/>
              <a:fillRef idx="0"/>
              <a:effectRef idx="0"/>
              <a:fontRef idx="minor"/>
            </p:style>
            <p:txBody>
              <a:bodyPr numCol="1" spcCol="0" lIns="45720" rIns="45720" tIns="33120" bIns="33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2" name="Shape 3103"/>
              <p:cNvSpPr/>
              <p:nvPr/>
            </p:nvSpPr>
            <p:spPr>
              <a:xfrm>
                <a:off x="21903840" y="4868640"/>
                <a:ext cx="158400" cy="97200"/>
              </a:xfrm>
              <a:custGeom>
                <a:avLst/>
                <a:gdLst>
                  <a:gd name="textAreaLeft" fmla="*/ 0 w 158400"/>
                  <a:gd name="textAreaRight" fmla="*/ 158760 w 158400"/>
                  <a:gd name="textAreaTop" fmla="*/ 0 h 97200"/>
                  <a:gd name="textAreaBottom" fmla="*/ 97560 h 9720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3" name="Shape 3104"/>
              <p:cNvSpPr/>
              <p:nvPr/>
            </p:nvSpPr>
            <p:spPr>
              <a:xfrm>
                <a:off x="20546640" y="4543920"/>
                <a:ext cx="135000" cy="137520"/>
              </a:xfrm>
              <a:custGeom>
                <a:avLst/>
                <a:gdLst>
                  <a:gd name="textAreaLeft" fmla="*/ 0 w 135000"/>
                  <a:gd name="textAreaRight" fmla="*/ 135360 w 135000"/>
                  <a:gd name="textAreaTop" fmla="*/ 0 h 137520"/>
                  <a:gd name="textAreaBottom" fmla="*/ 137880 h 13752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4" name="Shape 3105"/>
              <p:cNvSpPr/>
              <p:nvPr/>
            </p:nvSpPr>
            <p:spPr>
              <a:xfrm>
                <a:off x="20433600" y="4281480"/>
                <a:ext cx="300960" cy="207360"/>
              </a:xfrm>
              <a:custGeom>
                <a:avLst/>
                <a:gdLst>
                  <a:gd name="textAreaLeft" fmla="*/ 0 w 300960"/>
                  <a:gd name="textAreaRight" fmla="*/ 301320 w 300960"/>
                  <a:gd name="textAreaTop" fmla="*/ 0 h 207360"/>
                  <a:gd name="textAreaBottom" fmla="*/ 207720 h 20736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60"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5" name="Shape 3106"/>
              <p:cNvSpPr/>
              <p:nvPr/>
            </p:nvSpPr>
            <p:spPr>
              <a:xfrm>
                <a:off x="20378160" y="4331880"/>
                <a:ext cx="38880" cy="88200"/>
              </a:xfrm>
              <a:custGeom>
                <a:avLst/>
                <a:gdLst>
                  <a:gd name="textAreaLeft" fmla="*/ 0 w 38880"/>
                  <a:gd name="textAreaRight" fmla="*/ 39240 w 38880"/>
                  <a:gd name="textAreaTop" fmla="*/ 0 h 88200"/>
                  <a:gd name="textAreaBottom" fmla="*/ 88560 h 8820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919191"/>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6" name="Shape 3107"/>
              <p:cNvSpPr/>
              <p:nvPr/>
            </p:nvSpPr>
            <p:spPr>
              <a:xfrm>
                <a:off x="20759760" y="4360680"/>
                <a:ext cx="178200" cy="124200"/>
              </a:xfrm>
              <a:custGeom>
                <a:avLst/>
                <a:gdLst>
                  <a:gd name="textAreaLeft" fmla="*/ 0 w 178200"/>
                  <a:gd name="textAreaRight" fmla="*/ 178560 w 178200"/>
                  <a:gd name="textAreaTop" fmla="*/ 0 h 124200"/>
                  <a:gd name="textAreaBottom" fmla="*/ 124560 h 12420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7" name="Shape 3108"/>
              <p:cNvSpPr/>
              <p:nvPr/>
            </p:nvSpPr>
            <p:spPr>
              <a:xfrm>
                <a:off x="18371880" y="4657680"/>
                <a:ext cx="39240" cy="86760"/>
              </a:xfrm>
              <a:custGeom>
                <a:avLst/>
                <a:gdLst>
                  <a:gd name="textAreaLeft" fmla="*/ 0 w 39240"/>
                  <a:gd name="textAreaRight" fmla="*/ 39600 w 39240"/>
                  <a:gd name="textAreaTop" fmla="*/ 0 h 86760"/>
                  <a:gd name="textAreaBottom" fmla="*/ 87120 h 8676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919191"/>
              </a:solidFill>
              <a:ln w="12700">
                <a:noFill/>
              </a:ln>
            </p:spPr>
            <p:style>
              <a:lnRef idx="0"/>
              <a:fillRef idx="0"/>
              <a:effectRef idx="0"/>
              <a:fontRef idx="minor"/>
            </p:style>
            <p:txBody>
              <a:bodyPr numCol="1" spcCol="0" lIns="45720" rIns="45720" tIns="43560" bIns="43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8" name="Shape 3109"/>
              <p:cNvSpPr/>
              <p:nvPr/>
            </p:nvSpPr>
            <p:spPr>
              <a:xfrm>
                <a:off x="16740720" y="7219800"/>
                <a:ext cx="70920" cy="31680"/>
              </a:xfrm>
              <a:custGeom>
                <a:avLst/>
                <a:gdLst>
                  <a:gd name="textAreaLeft" fmla="*/ 0 w 70920"/>
                  <a:gd name="textAreaRight" fmla="*/ 71280 w 70920"/>
                  <a:gd name="textAreaTop" fmla="*/ 0 h 31680"/>
                  <a:gd name="textAreaBottom" fmla="*/ 32040 h 3168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919191"/>
              </a:solidFill>
              <a:ln w="12700">
                <a:noFill/>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69" name="Shape 3110"/>
              <p:cNvSpPr/>
              <p:nvPr/>
            </p:nvSpPr>
            <p:spPr>
              <a:xfrm>
                <a:off x="20596320" y="6251400"/>
                <a:ext cx="94680" cy="482760"/>
              </a:xfrm>
              <a:custGeom>
                <a:avLst/>
                <a:gdLst>
                  <a:gd name="textAreaLeft" fmla="*/ 0 w 94680"/>
                  <a:gd name="textAreaRight" fmla="*/ 95040 w 94680"/>
                  <a:gd name="textAreaTop" fmla="*/ 0 h 482760"/>
                  <a:gd name="textAreaBottom" fmla="*/ 483120 h 48276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70" name="Shape 3111"/>
              <p:cNvSpPr/>
              <p:nvPr/>
            </p:nvSpPr>
            <p:spPr>
              <a:xfrm>
                <a:off x="20537640" y="6758640"/>
                <a:ext cx="206640" cy="205920"/>
              </a:xfrm>
              <a:custGeom>
                <a:avLst/>
                <a:gdLst>
                  <a:gd name="textAreaLeft" fmla="*/ 0 w 206640"/>
                  <a:gd name="textAreaRight" fmla="*/ 207000 w 206640"/>
                  <a:gd name="textAreaTop" fmla="*/ 0 h 205920"/>
                  <a:gd name="textAreaBottom" fmla="*/ 206280 h 20592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71" name="Shape 3112"/>
              <p:cNvSpPr/>
              <p:nvPr/>
            </p:nvSpPr>
            <p:spPr>
              <a:xfrm>
                <a:off x="20170800" y="6970680"/>
                <a:ext cx="446040" cy="427320"/>
              </a:xfrm>
              <a:custGeom>
                <a:avLst/>
                <a:gdLst>
                  <a:gd name="textAreaLeft" fmla="*/ 0 w 446040"/>
                  <a:gd name="textAreaRight" fmla="*/ 446400 w 446040"/>
                  <a:gd name="textAreaTop" fmla="*/ 0 h 427320"/>
                  <a:gd name="textAreaBottom" fmla="*/ 427680 h 42732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2"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2"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72" name="Shape 3113"/>
              <p:cNvSpPr/>
              <p:nvPr/>
            </p:nvSpPr>
            <p:spPr>
              <a:xfrm>
                <a:off x="18828000" y="3378960"/>
                <a:ext cx="204480" cy="252360"/>
              </a:xfrm>
              <a:custGeom>
                <a:avLst/>
                <a:gdLst>
                  <a:gd name="textAreaLeft" fmla="*/ 0 w 204480"/>
                  <a:gd name="textAreaRight" fmla="*/ 204840 w 204480"/>
                  <a:gd name="textAreaTop" fmla="*/ 0 h 252360"/>
                  <a:gd name="textAreaBottom" fmla="*/ 252720 h 25236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73" name="Shape 3114"/>
              <p:cNvSpPr/>
              <p:nvPr/>
            </p:nvSpPr>
            <p:spPr>
              <a:xfrm>
                <a:off x="18799200" y="3599280"/>
                <a:ext cx="324000" cy="274680"/>
              </a:xfrm>
              <a:custGeom>
                <a:avLst/>
                <a:gdLst>
                  <a:gd name="textAreaLeft" fmla="*/ 0 w 324000"/>
                  <a:gd name="textAreaRight" fmla="*/ 324360 w 324000"/>
                  <a:gd name="textAreaTop" fmla="*/ 0 h 274680"/>
                  <a:gd name="textAreaBottom" fmla="*/ 275040 h 27468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74" name="Shape 3115"/>
              <p:cNvSpPr/>
              <p:nvPr/>
            </p:nvSpPr>
            <p:spPr>
              <a:xfrm>
                <a:off x="19093680" y="3740760"/>
                <a:ext cx="214560" cy="275400"/>
              </a:xfrm>
              <a:custGeom>
                <a:avLst/>
                <a:gdLst>
                  <a:gd name="textAreaLeft" fmla="*/ 0 w 214560"/>
                  <a:gd name="textAreaRight" fmla="*/ 214920 w 214560"/>
                  <a:gd name="textAreaTop" fmla="*/ 0 h 275400"/>
                  <a:gd name="textAreaBottom" fmla="*/ 275760 h 27540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75" name="Shape 3116"/>
              <p:cNvSpPr/>
              <p:nvPr/>
            </p:nvSpPr>
            <p:spPr>
              <a:xfrm>
                <a:off x="20242440" y="8580240"/>
                <a:ext cx="366480" cy="310680"/>
              </a:xfrm>
              <a:custGeom>
                <a:avLst/>
                <a:gdLst>
                  <a:gd name="textAreaLeft" fmla="*/ 0 w 366480"/>
                  <a:gd name="textAreaRight" fmla="*/ 366840 w 366480"/>
                  <a:gd name="textAreaTop" fmla="*/ 0 h 310680"/>
                  <a:gd name="textAreaBottom" fmla="*/ 311040 h 31068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76" name="Shape 3117"/>
              <p:cNvSpPr/>
              <p:nvPr/>
            </p:nvSpPr>
            <p:spPr>
              <a:xfrm>
                <a:off x="16511760" y="4044960"/>
                <a:ext cx="5806800" cy="4518360"/>
              </a:xfrm>
              <a:custGeom>
                <a:avLst/>
                <a:gdLst>
                  <a:gd name="textAreaLeft" fmla="*/ 0 w 5806800"/>
                  <a:gd name="textAreaRight" fmla="*/ 5807160 w 5806800"/>
                  <a:gd name="textAreaTop" fmla="*/ 0 h 4518360"/>
                  <a:gd name="textAreaBottom" fmla="*/ 4518720 h 451836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8"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3"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3"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3"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7" y="14865"/>
                    </a:cubicBezTo>
                    <a:cubicBezTo>
                      <a:pt x="12290" y="14865"/>
                      <a:pt x="12255" y="14827"/>
                      <a:pt x="12265" y="14788"/>
                    </a:cubicBezTo>
                    <a:cubicBezTo>
                      <a:pt x="12290" y="14815"/>
                      <a:pt x="12334" y="14776"/>
                      <a:pt x="12329" y="14735"/>
                    </a:cubicBezTo>
                    <a:cubicBezTo>
                      <a:pt x="12317"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5"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777" name="Group 3153"/>
            <p:cNvGrpSpPr/>
            <p:nvPr/>
          </p:nvGrpSpPr>
          <p:grpSpPr>
            <a:xfrm>
              <a:off x="14745960" y="3232080"/>
              <a:ext cx="3286080" cy="4332240"/>
              <a:chOff x="14745960" y="3232080"/>
              <a:chExt cx="3286080" cy="4332240"/>
            </a:xfrm>
          </p:grpSpPr>
          <p:sp>
            <p:nvSpPr>
              <p:cNvPr id="5778" name="Shape 3119"/>
              <p:cNvSpPr/>
              <p:nvPr/>
            </p:nvSpPr>
            <p:spPr>
              <a:xfrm>
                <a:off x="15117480" y="7488000"/>
                <a:ext cx="24480" cy="21600"/>
              </a:xfrm>
              <a:custGeom>
                <a:avLst/>
                <a:gdLst>
                  <a:gd name="textAreaLeft" fmla="*/ 0 w 24480"/>
                  <a:gd name="textAreaRight" fmla="*/ 24840 w 24480"/>
                  <a:gd name="textAreaTop" fmla="*/ 0 h 21600"/>
                  <a:gd name="textAreaBottom" fmla="*/ 21960 h 21600"/>
                </a:gdLst>
                <a:ahLst/>
                <a:rect l="textAreaLeft" t="textAreaTop" r="textAreaRight" b="textAreaBottom"/>
                <a:pathLst>
                  <a:path w="20029" h="21600">
                    <a:moveTo>
                      <a:pt x="4730" y="1350"/>
                    </a:moveTo>
                    <a:cubicBezTo>
                      <a:pt x="4730" y="0"/>
                      <a:pt x="2673" y="0"/>
                      <a:pt x="1644" y="0"/>
                    </a:cubicBezTo>
                    <a:cubicBezTo>
                      <a:pt x="2673" y="2700"/>
                      <a:pt x="1644" y="7425"/>
                      <a:pt x="616" y="10125"/>
                    </a:cubicBezTo>
                    <a:cubicBezTo>
                      <a:pt x="-413" y="12825"/>
                      <a:pt x="-413" y="18225"/>
                      <a:pt x="2673" y="20250"/>
                    </a:cubicBezTo>
                    <a:cubicBezTo>
                      <a:pt x="4730" y="20250"/>
                      <a:pt x="5758" y="18225"/>
                      <a:pt x="8330" y="16875"/>
                    </a:cubicBezTo>
                    <a:cubicBezTo>
                      <a:pt x="11416" y="15525"/>
                      <a:pt x="14501" y="16875"/>
                      <a:pt x="16558" y="21600"/>
                    </a:cubicBezTo>
                    <a:cubicBezTo>
                      <a:pt x="21187" y="20250"/>
                      <a:pt x="21187" y="10800"/>
                      <a:pt x="16558" y="7425"/>
                    </a:cubicBezTo>
                    <a:cubicBezTo>
                      <a:pt x="14501" y="6750"/>
                      <a:pt x="13473" y="7425"/>
                      <a:pt x="11416" y="7425"/>
                    </a:cubicBezTo>
                    <a:cubicBezTo>
                      <a:pt x="9358" y="7425"/>
                      <a:pt x="12444" y="2700"/>
                      <a:pt x="11416" y="1350"/>
                    </a:cubicBezTo>
                    <a:cubicBezTo>
                      <a:pt x="10387" y="6075"/>
                      <a:pt x="5758" y="1350"/>
                      <a:pt x="5758" y="7425"/>
                    </a:cubicBezTo>
                    <a:cubicBezTo>
                      <a:pt x="5758" y="4725"/>
                      <a:pt x="5758" y="1350"/>
                      <a:pt x="4730" y="1350"/>
                    </a:cubicBezTo>
                  </a:path>
                </a:pathLst>
              </a:custGeom>
              <a:solidFill>
                <a:srgbClr val="c0c0c0"/>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79" name="Shape 3120"/>
              <p:cNvSpPr/>
              <p:nvPr/>
            </p:nvSpPr>
            <p:spPr>
              <a:xfrm>
                <a:off x="15016680" y="7522560"/>
                <a:ext cx="23040" cy="28080"/>
              </a:xfrm>
              <a:custGeom>
                <a:avLst/>
                <a:gdLst>
                  <a:gd name="textAreaLeft" fmla="*/ 0 w 23040"/>
                  <a:gd name="textAreaRight" fmla="*/ 23400 w 23040"/>
                  <a:gd name="textAreaTop" fmla="*/ 0 h 28080"/>
                  <a:gd name="textAreaBottom" fmla="*/ 28440 h 28080"/>
                </a:gdLst>
                <a:ahLst/>
                <a:rect l="textAreaLeft" t="textAreaTop" r="textAreaRight" b="textAreaBottom"/>
                <a:pathLst>
                  <a:path w="21210" h="20842">
                    <a:moveTo>
                      <a:pt x="5863" y="3757"/>
                    </a:moveTo>
                    <a:cubicBezTo>
                      <a:pt x="4726" y="3757"/>
                      <a:pt x="3589" y="3757"/>
                      <a:pt x="1884" y="3757"/>
                    </a:cubicBezTo>
                    <a:cubicBezTo>
                      <a:pt x="-390" y="7983"/>
                      <a:pt x="-390" y="11739"/>
                      <a:pt x="747" y="14557"/>
                    </a:cubicBezTo>
                    <a:cubicBezTo>
                      <a:pt x="1884" y="18783"/>
                      <a:pt x="6431" y="21600"/>
                      <a:pt x="11547" y="20661"/>
                    </a:cubicBezTo>
                    <a:cubicBezTo>
                      <a:pt x="16094" y="19722"/>
                      <a:pt x="20073" y="15496"/>
                      <a:pt x="17799" y="11739"/>
                    </a:cubicBezTo>
                    <a:cubicBezTo>
                      <a:pt x="15526" y="8922"/>
                      <a:pt x="10410" y="6574"/>
                      <a:pt x="11547" y="3757"/>
                    </a:cubicBezTo>
                    <a:cubicBezTo>
                      <a:pt x="15526" y="3757"/>
                      <a:pt x="18936" y="4696"/>
                      <a:pt x="21210" y="6574"/>
                    </a:cubicBezTo>
                    <a:cubicBezTo>
                      <a:pt x="20073" y="5635"/>
                      <a:pt x="21210" y="4696"/>
                      <a:pt x="20073" y="3757"/>
                    </a:cubicBezTo>
                    <a:cubicBezTo>
                      <a:pt x="20073" y="2817"/>
                      <a:pt x="18936" y="2817"/>
                      <a:pt x="17799" y="1878"/>
                    </a:cubicBezTo>
                    <a:cubicBezTo>
                      <a:pt x="16663" y="939"/>
                      <a:pt x="13821" y="0"/>
                      <a:pt x="12684" y="0"/>
                    </a:cubicBezTo>
                    <a:cubicBezTo>
                      <a:pt x="11547" y="0"/>
                      <a:pt x="11547" y="0"/>
                      <a:pt x="10410" y="0"/>
                    </a:cubicBezTo>
                    <a:cubicBezTo>
                      <a:pt x="10410" y="939"/>
                      <a:pt x="8136" y="1878"/>
                      <a:pt x="5863" y="3757"/>
                    </a:cubicBezTo>
                  </a:path>
                </a:pathLst>
              </a:custGeom>
              <a:solidFill>
                <a:srgbClr val="c0c0c0"/>
              </a:solidFill>
              <a:ln w="12700">
                <a:noFill/>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0" name="Shape 3121"/>
              <p:cNvSpPr/>
              <p:nvPr/>
            </p:nvSpPr>
            <p:spPr>
              <a:xfrm>
                <a:off x="15047640" y="7537320"/>
                <a:ext cx="24480" cy="27000"/>
              </a:xfrm>
              <a:custGeom>
                <a:avLst/>
                <a:gdLst>
                  <a:gd name="textAreaLeft" fmla="*/ 0 w 24480"/>
                  <a:gd name="textAreaRight" fmla="*/ 24840 w 24480"/>
                  <a:gd name="textAreaTop" fmla="*/ 0 h 27000"/>
                  <a:gd name="textAreaBottom" fmla="*/ 27360 h 27000"/>
                </a:gdLst>
                <a:ahLst/>
                <a:rect l="textAreaLeft" t="textAreaTop" r="textAreaRight" b="textAreaBottom"/>
                <a:pathLst>
                  <a:path w="20282" h="20177">
                    <a:moveTo>
                      <a:pt x="225" y="9964"/>
                    </a:moveTo>
                    <a:cubicBezTo>
                      <a:pt x="-1318" y="4799"/>
                      <a:pt x="5368" y="-836"/>
                      <a:pt x="11025" y="103"/>
                    </a:cubicBezTo>
                    <a:cubicBezTo>
                      <a:pt x="8453" y="103"/>
                      <a:pt x="7425" y="2921"/>
                      <a:pt x="8453" y="4799"/>
                    </a:cubicBezTo>
                    <a:cubicBezTo>
                      <a:pt x="9482" y="7147"/>
                      <a:pt x="12053" y="8086"/>
                      <a:pt x="14111" y="8086"/>
                    </a:cubicBezTo>
                    <a:cubicBezTo>
                      <a:pt x="16168" y="8086"/>
                      <a:pt x="18225" y="9025"/>
                      <a:pt x="20282" y="10903"/>
                    </a:cubicBezTo>
                    <a:cubicBezTo>
                      <a:pt x="17196" y="12781"/>
                      <a:pt x="17196" y="17947"/>
                      <a:pt x="14111" y="19825"/>
                    </a:cubicBezTo>
                    <a:cubicBezTo>
                      <a:pt x="12053" y="20764"/>
                      <a:pt x="7425" y="19825"/>
                      <a:pt x="6396" y="17007"/>
                    </a:cubicBezTo>
                    <a:cubicBezTo>
                      <a:pt x="5368" y="14660"/>
                      <a:pt x="5368" y="11842"/>
                      <a:pt x="5368" y="9025"/>
                    </a:cubicBezTo>
                    <a:cubicBezTo>
                      <a:pt x="4339" y="9025"/>
                      <a:pt x="2282" y="9025"/>
                      <a:pt x="225" y="9964"/>
                    </a:cubicBezTo>
                  </a:path>
                </a:pathLst>
              </a:custGeom>
              <a:solidFill>
                <a:srgbClr val="c0c0c0"/>
              </a:solidFill>
              <a:ln w="12700">
                <a:noFill/>
              </a:ln>
            </p:spPr>
            <p:style>
              <a:lnRef idx="0"/>
              <a:fillRef idx="0"/>
              <a:effectRef idx="0"/>
              <a:fontRef idx="minor"/>
            </p:style>
            <p:txBody>
              <a:bodyPr numCol="1" spcCol="0" lIns="45720" rIns="45720" tIns="13680" bIns="13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1" name="Shape 3122"/>
              <p:cNvSpPr/>
              <p:nvPr/>
            </p:nvSpPr>
            <p:spPr>
              <a:xfrm>
                <a:off x="15119640" y="7405200"/>
                <a:ext cx="27000" cy="23400"/>
              </a:xfrm>
              <a:custGeom>
                <a:avLst/>
                <a:gdLst>
                  <a:gd name="textAreaLeft" fmla="*/ 0 w 27000"/>
                  <a:gd name="textAreaRight" fmla="*/ 27360 w 27000"/>
                  <a:gd name="textAreaTop" fmla="*/ 0 h 23400"/>
                  <a:gd name="textAreaBottom" fmla="*/ 23760 h 23400"/>
                </a:gdLst>
                <a:ahLst/>
                <a:rect l="textAreaLeft" t="textAreaTop" r="textAreaRight" b="textAreaBottom"/>
                <a:pathLst>
                  <a:path w="20236" h="21600">
                    <a:moveTo>
                      <a:pt x="0" y="0"/>
                    </a:moveTo>
                    <a:cubicBezTo>
                      <a:pt x="0" y="4547"/>
                      <a:pt x="0" y="8526"/>
                      <a:pt x="0" y="13074"/>
                    </a:cubicBezTo>
                    <a:cubicBezTo>
                      <a:pt x="0" y="14211"/>
                      <a:pt x="0" y="15347"/>
                      <a:pt x="0" y="15347"/>
                    </a:cubicBezTo>
                    <a:cubicBezTo>
                      <a:pt x="0" y="16484"/>
                      <a:pt x="900" y="16484"/>
                      <a:pt x="1800" y="16484"/>
                    </a:cubicBezTo>
                    <a:cubicBezTo>
                      <a:pt x="4500" y="17621"/>
                      <a:pt x="7650" y="19326"/>
                      <a:pt x="10350" y="21600"/>
                    </a:cubicBezTo>
                    <a:cubicBezTo>
                      <a:pt x="10350" y="19326"/>
                      <a:pt x="12600" y="16484"/>
                      <a:pt x="14850" y="16484"/>
                    </a:cubicBezTo>
                    <a:cubicBezTo>
                      <a:pt x="16650" y="16484"/>
                      <a:pt x="18900" y="19326"/>
                      <a:pt x="18900" y="21600"/>
                    </a:cubicBezTo>
                    <a:cubicBezTo>
                      <a:pt x="21600" y="17621"/>
                      <a:pt x="19800" y="10800"/>
                      <a:pt x="17100" y="7389"/>
                    </a:cubicBezTo>
                    <a:cubicBezTo>
                      <a:pt x="16200" y="4547"/>
                      <a:pt x="13950" y="2274"/>
                      <a:pt x="11250" y="1137"/>
                    </a:cubicBezTo>
                    <a:cubicBezTo>
                      <a:pt x="9450" y="1137"/>
                      <a:pt x="6750" y="3411"/>
                      <a:pt x="7650" y="5684"/>
                    </a:cubicBezTo>
                    <a:cubicBezTo>
                      <a:pt x="5850" y="3411"/>
                      <a:pt x="2700" y="2274"/>
                      <a:pt x="0" y="0"/>
                    </a:cubicBezTo>
                  </a:path>
                </a:pathLst>
              </a:custGeom>
              <a:solidFill>
                <a:srgbClr val="c0c0c0"/>
              </a:solidFill>
              <a:ln w="12700">
                <a:noFill/>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2" name="Shape 3123"/>
              <p:cNvSpPr/>
              <p:nvPr/>
            </p:nvSpPr>
            <p:spPr>
              <a:xfrm>
                <a:off x="15943680" y="558396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9600" h="16200">
                    <a:moveTo>
                      <a:pt x="0" y="0"/>
                    </a:moveTo>
                    <a:cubicBezTo>
                      <a:pt x="0" y="21600"/>
                      <a:pt x="21600" y="21600"/>
                      <a:pt x="0" y="0"/>
                    </a:cubicBezTo>
                  </a:path>
                </a:pathLst>
              </a:custGeom>
              <a:solidFill>
                <a:srgbClr val="c0c0c0"/>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3" name="Shape 3124"/>
              <p:cNvSpPr/>
              <p:nvPr/>
            </p:nvSpPr>
            <p:spPr>
              <a:xfrm>
                <a:off x="17312400" y="5104800"/>
                <a:ext cx="93240" cy="98280"/>
              </a:xfrm>
              <a:custGeom>
                <a:avLst/>
                <a:gdLst>
                  <a:gd name="textAreaLeft" fmla="*/ 0 w 93240"/>
                  <a:gd name="textAreaRight" fmla="*/ 93600 w 93240"/>
                  <a:gd name="textAreaTop" fmla="*/ 0 h 98280"/>
                  <a:gd name="textAreaBottom" fmla="*/ 98640 h 9828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4" name="Shape 3125"/>
              <p:cNvSpPr/>
              <p:nvPr/>
            </p:nvSpPr>
            <p:spPr>
              <a:xfrm>
                <a:off x="16253640" y="6049800"/>
                <a:ext cx="48240" cy="86040"/>
              </a:xfrm>
              <a:custGeom>
                <a:avLst/>
                <a:gdLst>
                  <a:gd name="textAreaLeft" fmla="*/ 0 w 48240"/>
                  <a:gd name="textAreaRight" fmla="*/ 48600 w 48240"/>
                  <a:gd name="textAreaTop" fmla="*/ 0 h 86040"/>
                  <a:gd name="textAreaBottom" fmla="*/ 86400 h 8604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c0c0c0"/>
              </a:solidFill>
              <a:ln w="12700">
                <a:noFill/>
              </a:ln>
            </p:spPr>
            <p:style>
              <a:lnRef idx="0"/>
              <a:fillRef idx="0"/>
              <a:effectRef idx="0"/>
              <a:fontRef idx="minor"/>
            </p:style>
            <p:txBody>
              <a:bodyPr numCol="1" spcCol="0" lIns="45720" rIns="45720" tIns="43200" bIns="43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5" name="Shape 3126"/>
              <p:cNvSpPr/>
              <p:nvPr/>
            </p:nvSpPr>
            <p:spPr>
              <a:xfrm>
                <a:off x="16010280" y="6176880"/>
                <a:ext cx="58320" cy="87480"/>
              </a:xfrm>
              <a:custGeom>
                <a:avLst/>
                <a:gdLst>
                  <a:gd name="textAreaLeft" fmla="*/ 0 w 58320"/>
                  <a:gd name="textAreaRight" fmla="*/ 58680 w 58320"/>
                  <a:gd name="textAreaTop" fmla="*/ 0 h 87480"/>
                  <a:gd name="textAreaBottom" fmla="*/ 87840 h 8748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c0c0c0"/>
              </a:solidFill>
              <a:ln w="12700">
                <a:noFill/>
              </a:ln>
            </p:spPr>
            <p:style>
              <a:lnRef idx="0"/>
              <a:fillRef idx="0"/>
              <a:effectRef idx="0"/>
              <a:fontRef idx="minor"/>
            </p:style>
            <p:txBody>
              <a:bodyPr numCol="1" spcCol="0" lIns="45720" rIns="45720" tIns="43920" bIns="43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6" name="Shape 3127"/>
              <p:cNvSpPr/>
              <p:nvPr/>
            </p:nvSpPr>
            <p:spPr>
              <a:xfrm>
                <a:off x="16018200" y="6117840"/>
                <a:ext cx="21600" cy="31680"/>
              </a:xfrm>
              <a:custGeom>
                <a:avLst/>
                <a:gdLst>
                  <a:gd name="textAreaLeft" fmla="*/ 0 w 21600"/>
                  <a:gd name="textAreaRight" fmla="*/ 21960 w 21600"/>
                  <a:gd name="textAreaTop" fmla="*/ 0 h 31680"/>
                  <a:gd name="textAreaBottom" fmla="*/ 32040 h 3168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c0c0c0"/>
              </a:solidFill>
              <a:ln w="12700">
                <a:noFill/>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7" name="Shape 3128"/>
              <p:cNvSpPr/>
              <p:nvPr/>
            </p:nvSpPr>
            <p:spPr>
              <a:xfrm>
                <a:off x="15922080" y="6882480"/>
                <a:ext cx="36000" cy="99000"/>
              </a:xfrm>
              <a:custGeom>
                <a:avLst/>
                <a:gdLst>
                  <a:gd name="textAreaLeft" fmla="*/ 0 w 36000"/>
                  <a:gd name="textAreaRight" fmla="*/ 36360 w 36000"/>
                  <a:gd name="textAreaTop" fmla="*/ 0 h 99000"/>
                  <a:gd name="textAreaBottom" fmla="*/ 99360 h 9900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8" name="Shape 3129"/>
              <p:cNvSpPr/>
              <p:nvPr/>
            </p:nvSpPr>
            <p:spPr>
              <a:xfrm>
                <a:off x="15905160" y="6987960"/>
                <a:ext cx="59040" cy="105480"/>
              </a:xfrm>
              <a:custGeom>
                <a:avLst/>
                <a:gdLst>
                  <a:gd name="textAreaLeft" fmla="*/ 0 w 59040"/>
                  <a:gd name="textAreaRight" fmla="*/ 59400 w 59040"/>
                  <a:gd name="textAreaTop" fmla="*/ 0 h 105480"/>
                  <a:gd name="textAreaBottom" fmla="*/ 105840 h 10548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89" name="Shape 3130"/>
              <p:cNvSpPr/>
              <p:nvPr/>
            </p:nvSpPr>
            <p:spPr>
              <a:xfrm>
                <a:off x="15706800" y="7037280"/>
                <a:ext cx="41040" cy="37080"/>
              </a:xfrm>
              <a:custGeom>
                <a:avLst/>
                <a:gdLst>
                  <a:gd name="textAreaLeft" fmla="*/ 0 w 41040"/>
                  <a:gd name="textAreaRight" fmla="*/ 41400 w 41040"/>
                  <a:gd name="textAreaTop" fmla="*/ 0 h 37080"/>
                  <a:gd name="textAreaBottom" fmla="*/ 37440 h 3708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c0c0c0"/>
              </a:solidFill>
              <a:ln w="12700">
                <a:noFill/>
              </a:ln>
            </p:spPr>
            <p:style>
              <a:lnRef idx="0"/>
              <a:fillRef idx="0"/>
              <a:effectRef idx="0"/>
              <a:fontRef idx="minor"/>
            </p:style>
            <p:txBody>
              <a:bodyPr numCol="1" spcCol="0" lIns="45720" rIns="45720" tIns="18720" bIns="18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0" name="Shape 3131"/>
              <p:cNvSpPr/>
              <p:nvPr/>
            </p:nvSpPr>
            <p:spPr>
              <a:xfrm>
                <a:off x="15742080" y="702864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c0c0c0"/>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1" name="Shape 3132"/>
              <p:cNvSpPr/>
              <p:nvPr/>
            </p:nvSpPr>
            <p:spPr>
              <a:xfrm>
                <a:off x="15689160" y="707508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c0c0c0"/>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2" name="Shape 3133"/>
              <p:cNvSpPr/>
              <p:nvPr/>
            </p:nvSpPr>
            <p:spPr>
              <a:xfrm>
                <a:off x="15353640" y="5964120"/>
                <a:ext cx="325440" cy="582480"/>
              </a:xfrm>
              <a:custGeom>
                <a:avLst/>
                <a:gdLst>
                  <a:gd name="textAreaLeft" fmla="*/ 0 w 325440"/>
                  <a:gd name="textAreaRight" fmla="*/ 325800 w 325440"/>
                  <a:gd name="textAreaTop" fmla="*/ 0 h 582480"/>
                  <a:gd name="textAreaBottom" fmla="*/ 582840 h 58248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3" name="Shape 3134"/>
              <p:cNvSpPr/>
              <p:nvPr/>
            </p:nvSpPr>
            <p:spPr>
              <a:xfrm>
                <a:off x="15253200" y="6227280"/>
                <a:ext cx="169560" cy="231480"/>
              </a:xfrm>
              <a:custGeom>
                <a:avLst/>
                <a:gdLst>
                  <a:gd name="textAreaLeft" fmla="*/ 0 w 169560"/>
                  <a:gd name="textAreaRight" fmla="*/ 169920 w 169560"/>
                  <a:gd name="textAreaTop" fmla="*/ 0 h 231480"/>
                  <a:gd name="textAreaBottom" fmla="*/ 231840 h 23148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4" name="Shape 3135"/>
              <p:cNvSpPr/>
              <p:nvPr/>
            </p:nvSpPr>
            <p:spPr>
              <a:xfrm>
                <a:off x="16050600" y="7115760"/>
                <a:ext cx="112680" cy="82440"/>
              </a:xfrm>
              <a:custGeom>
                <a:avLst/>
                <a:gdLst>
                  <a:gd name="textAreaLeft" fmla="*/ 0 w 112680"/>
                  <a:gd name="textAreaRight" fmla="*/ 113040 w 112680"/>
                  <a:gd name="textAreaTop" fmla="*/ 0 h 82440"/>
                  <a:gd name="textAreaBottom" fmla="*/ 82800 h 8244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c0c0c0"/>
              </a:solidFill>
              <a:ln w="12700">
                <a:noFill/>
              </a:ln>
            </p:spPr>
            <p:style>
              <a:lnRef idx="0"/>
              <a:fillRef idx="0"/>
              <a:effectRef idx="0"/>
              <a:fontRef idx="minor"/>
            </p:style>
            <p:txBody>
              <a:bodyPr numCol="1" spcCol="0" lIns="45720" rIns="45720" tIns="41400" bIns="41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5" name="Shape 3136"/>
              <p:cNvSpPr/>
              <p:nvPr/>
            </p:nvSpPr>
            <p:spPr>
              <a:xfrm>
                <a:off x="16452360" y="7236720"/>
                <a:ext cx="108720" cy="35640"/>
              </a:xfrm>
              <a:custGeom>
                <a:avLst/>
                <a:gdLst>
                  <a:gd name="textAreaLeft" fmla="*/ 0 w 108720"/>
                  <a:gd name="textAreaRight" fmla="*/ 109080 w 108720"/>
                  <a:gd name="textAreaTop" fmla="*/ 0 h 35640"/>
                  <a:gd name="textAreaBottom" fmla="*/ 36000 h 3564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c0c0c0"/>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6" name="Shape 3137"/>
              <p:cNvSpPr/>
              <p:nvPr/>
            </p:nvSpPr>
            <p:spPr>
              <a:xfrm>
                <a:off x="15559920" y="5839920"/>
                <a:ext cx="39960" cy="86040"/>
              </a:xfrm>
              <a:custGeom>
                <a:avLst/>
                <a:gdLst>
                  <a:gd name="textAreaLeft" fmla="*/ 0 w 39960"/>
                  <a:gd name="textAreaRight" fmla="*/ 40320 w 39960"/>
                  <a:gd name="textAreaTop" fmla="*/ 0 h 86040"/>
                  <a:gd name="textAreaBottom" fmla="*/ 86400 h 8604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c0c0c0"/>
              </a:solidFill>
              <a:ln w="12700">
                <a:noFill/>
              </a:ln>
            </p:spPr>
            <p:style>
              <a:lnRef idx="0"/>
              <a:fillRef idx="0"/>
              <a:effectRef idx="0"/>
              <a:fontRef idx="minor"/>
            </p:style>
            <p:txBody>
              <a:bodyPr numCol="1" spcCol="0" lIns="45720" rIns="45720" tIns="43200" bIns="43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7" name="Shape 3138"/>
              <p:cNvSpPr/>
              <p:nvPr/>
            </p:nvSpPr>
            <p:spPr>
              <a:xfrm>
                <a:off x="15346800" y="5722200"/>
                <a:ext cx="53640" cy="55440"/>
              </a:xfrm>
              <a:custGeom>
                <a:avLst/>
                <a:gdLst>
                  <a:gd name="textAreaLeft" fmla="*/ 0 w 53640"/>
                  <a:gd name="textAreaRight" fmla="*/ 54000 w 53640"/>
                  <a:gd name="textAreaTop" fmla="*/ 0 h 55440"/>
                  <a:gd name="textAreaBottom" fmla="*/ 55800 h 5544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c0c0c0"/>
              </a:solidFill>
              <a:ln w="12700">
                <a:noFill/>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8" name="Shape 3139"/>
              <p:cNvSpPr/>
              <p:nvPr/>
            </p:nvSpPr>
            <p:spPr>
              <a:xfrm>
                <a:off x="14745960" y="5399640"/>
                <a:ext cx="393480" cy="254880"/>
              </a:xfrm>
              <a:custGeom>
                <a:avLst/>
                <a:gdLst>
                  <a:gd name="textAreaLeft" fmla="*/ 0 w 393480"/>
                  <a:gd name="textAreaRight" fmla="*/ 393840 w 393480"/>
                  <a:gd name="textAreaTop" fmla="*/ 0 h 254880"/>
                  <a:gd name="textAreaBottom" fmla="*/ 255240 h 25488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799" name="Shape 3140"/>
              <p:cNvSpPr/>
              <p:nvPr/>
            </p:nvSpPr>
            <p:spPr>
              <a:xfrm>
                <a:off x="15984720" y="3652920"/>
                <a:ext cx="481680" cy="587520"/>
              </a:xfrm>
              <a:custGeom>
                <a:avLst/>
                <a:gdLst>
                  <a:gd name="textAreaLeft" fmla="*/ 0 w 481680"/>
                  <a:gd name="textAreaRight" fmla="*/ 482040 w 481680"/>
                  <a:gd name="textAreaTop" fmla="*/ 0 h 587520"/>
                  <a:gd name="textAreaBottom" fmla="*/ 587880 h 58752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5"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0" name="Shape 3141"/>
              <p:cNvSpPr/>
              <p:nvPr/>
            </p:nvSpPr>
            <p:spPr>
              <a:xfrm>
                <a:off x="16255080" y="3478680"/>
                <a:ext cx="328680" cy="329760"/>
              </a:xfrm>
              <a:custGeom>
                <a:avLst/>
                <a:gdLst>
                  <a:gd name="textAreaLeft" fmla="*/ 0 w 328680"/>
                  <a:gd name="textAreaRight" fmla="*/ 329040 w 328680"/>
                  <a:gd name="textAreaTop" fmla="*/ 0 h 329760"/>
                  <a:gd name="textAreaBottom" fmla="*/ 330120 h 32976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1" name="Shape 3142"/>
              <p:cNvSpPr/>
              <p:nvPr/>
            </p:nvSpPr>
            <p:spPr>
              <a:xfrm>
                <a:off x="17438040" y="4185000"/>
                <a:ext cx="594000" cy="830160"/>
              </a:xfrm>
              <a:custGeom>
                <a:avLst/>
                <a:gdLst>
                  <a:gd name="textAreaLeft" fmla="*/ 0 w 594000"/>
                  <a:gd name="textAreaRight" fmla="*/ 594360 w 594000"/>
                  <a:gd name="textAreaTop" fmla="*/ 0 h 830160"/>
                  <a:gd name="textAreaBottom" fmla="*/ 830520 h 83016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2" name="Shape 3143"/>
              <p:cNvSpPr/>
              <p:nvPr/>
            </p:nvSpPr>
            <p:spPr>
              <a:xfrm>
                <a:off x="17705160" y="3477600"/>
                <a:ext cx="83520" cy="91440"/>
              </a:xfrm>
              <a:custGeom>
                <a:avLst/>
                <a:gdLst>
                  <a:gd name="textAreaLeft" fmla="*/ 0 w 83520"/>
                  <a:gd name="textAreaRight" fmla="*/ 83880 w 83520"/>
                  <a:gd name="textAreaTop" fmla="*/ 0 h 91440"/>
                  <a:gd name="textAreaBottom" fmla="*/ 91800 h 91440"/>
                </a:gdLst>
                <a:ahLst/>
                <a:rect l="textAreaLeft" t="textAreaTop" r="textAreaRight" b="textAreaBottom"/>
                <a:pathLst>
                  <a:path w="21600" h="21528">
                    <a:moveTo>
                      <a:pt x="19988" y="9423"/>
                    </a:moveTo>
                    <a:cubicBezTo>
                      <a:pt x="20633" y="9423"/>
                      <a:pt x="21278" y="9423"/>
                      <a:pt x="21600" y="10003"/>
                    </a:cubicBezTo>
                    <a:cubicBezTo>
                      <a:pt x="20633" y="11887"/>
                      <a:pt x="20955" y="13627"/>
                      <a:pt x="20310" y="15801"/>
                    </a:cubicBezTo>
                    <a:cubicBezTo>
                      <a:pt x="19666" y="17541"/>
                      <a:pt x="17570" y="19426"/>
                      <a:pt x="15958" y="18846"/>
                    </a:cubicBezTo>
                    <a:cubicBezTo>
                      <a:pt x="16603" y="19426"/>
                      <a:pt x="16281" y="21020"/>
                      <a:pt x="15152" y="21310"/>
                    </a:cubicBezTo>
                    <a:cubicBezTo>
                      <a:pt x="14185" y="21600"/>
                      <a:pt x="13218" y="21600"/>
                      <a:pt x="11767" y="21310"/>
                    </a:cubicBezTo>
                    <a:cubicBezTo>
                      <a:pt x="9188" y="20585"/>
                      <a:pt x="6770" y="20295"/>
                      <a:pt x="4030" y="19715"/>
                    </a:cubicBezTo>
                    <a:cubicBezTo>
                      <a:pt x="3385" y="19715"/>
                      <a:pt x="2740" y="19426"/>
                      <a:pt x="2418" y="19136"/>
                    </a:cubicBezTo>
                    <a:cubicBezTo>
                      <a:pt x="2096" y="18846"/>
                      <a:pt x="1612" y="18266"/>
                      <a:pt x="1290" y="17541"/>
                    </a:cubicBezTo>
                    <a:cubicBezTo>
                      <a:pt x="322" y="14932"/>
                      <a:pt x="0" y="12177"/>
                      <a:pt x="0" y="9423"/>
                    </a:cubicBezTo>
                    <a:cubicBezTo>
                      <a:pt x="0" y="7828"/>
                      <a:pt x="322" y="5799"/>
                      <a:pt x="2096" y="5509"/>
                    </a:cubicBezTo>
                    <a:cubicBezTo>
                      <a:pt x="3385" y="4784"/>
                      <a:pt x="4675" y="5799"/>
                      <a:pt x="6448" y="5799"/>
                    </a:cubicBezTo>
                    <a:cubicBezTo>
                      <a:pt x="7737" y="6089"/>
                      <a:pt x="9833" y="5074"/>
                      <a:pt x="9510" y="3914"/>
                    </a:cubicBezTo>
                    <a:cubicBezTo>
                      <a:pt x="11445" y="3914"/>
                      <a:pt x="13540" y="3624"/>
                      <a:pt x="15475" y="3624"/>
                    </a:cubicBezTo>
                    <a:cubicBezTo>
                      <a:pt x="14507" y="3624"/>
                      <a:pt x="16603" y="0"/>
                      <a:pt x="19343" y="0"/>
                    </a:cubicBezTo>
                    <a:cubicBezTo>
                      <a:pt x="18215" y="2754"/>
                      <a:pt x="20633" y="6379"/>
                      <a:pt x="19988" y="9423"/>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3" name="Shape 3144"/>
              <p:cNvSpPr/>
              <p:nvPr/>
            </p:nvSpPr>
            <p:spPr>
              <a:xfrm>
                <a:off x="17816760" y="3401280"/>
                <a:ext cx="83160" cy="114480"/>
              </a:xfrm>
              <a:custGeom>
                <a:avLst/>
                <a:gdLst>
                  <a:gd name="textAreaLeft" fmla="*/ 0 w 83160"/>
                  <a:gd name="textAreaRight" fmla="*/ 83520 w 83160"/>
                  <a:gd name="textAreaTop" fmla="*/ 0 h 114480"/>
                  <a:gd name="textAreaBottom" fmla="*/ 114840 h 114480"/>
                </a:gdLst>
                <a:ahLst/>
                <a:rect l="textAreaLeft" t="textAreaTop" r="textAreaRight" b="textAreaBottom"/>
                <a:pathLst>
                  <a:path w="20823" h="21232">
                    <a:moveTo>
                      <a:pt x="13131" y="21138"/>
                    </a:moveTo>
                    <a:cubicBezTo>
                      <a:pt x="16083" y="20560"/>
                      <a:pt x="18103" y="18712"/>
                      <a:pt x="19036" y="16749"/>
                    </a:cubicBezTo>
                    <a:cubicBezTo>
                      <a:pt x="20434" y="14323"/>
                      <a:pt x="20745" y="11435"/>
                      <a:pt x="20745" y="8779"/>
                    </a:cubicBezTo>
                    <a:cubicBezTo>
                      <a:pt x="20745" y="6815"/>
                      <a:pt x="21056" y="4620"/>
                      <a:pt x="20434" y="2657"/>
                    </a:cubicBezTo>
                    <a:cubicBezTo>
                      <a:pt x="19968" y="1502"/>
                      <a:pt x="18725" y="0"/>
                      <a:pt x="17171" y="0"/>
                    </a:cubicBezTo>
                    <a:cubicBezTo>
                      <a:pt x="14840" y="0"/>
                      <a:pt x="13908" y="2426"/>
                      <a:pt x="14219" y="4158"/>
                    </a:cubicBezTo>
                    <a:cubicBezTo>
                      <a:pt x="14529" y="9241"/>
                      <a:pt x="8624" y="9010"/>
                      <a:pt x="4429" y="12128"/>
                    </a:cubicBezTo>
                    <a:cubicBezTo>
                      <a:pt x="2719" y="13399"/>
                      <a:pt x="-544" y="15016"/>
                      <a:pt x="78" y="16980"/>
                    </a:cubicBezTo>
                    <a:cubicBezTo>
                      <a:pt x="1165" y="19174"/>
                      <a:pt x="4739" y="19174"/>
                      <a:pt x="6915" y="17904"/>
                    </a:cubicBezTo>
                    <a:cubicBezTo>
                      <a:pt x="7692" y="20329"/>
                      <a:pt x="10178" y="21600"/>
                      <a:pt x="13131" y="21138"/>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4" name="Shape 3145"/>
              <p:cNvSpPr/>
              <p:nvPr/>
            </p:nvSpPr>
            <p:spPr>
              <a:xfrm>
                <a:off x="17732160" y="3425760"/>
                <a:ext cx="44640" cy="33480"/>
              </a:xfrm>
              <a:custGeom>
                <a:avLst/>
                <a:gdLst>
                  <a:gd name="textAreaLeft" fmla="*/ 0 w 44640"/>
                  <a:gd name="textAreaRight" fmla="*/ 45000 w 44640"/>
                  <a:gd name="textAreaTop" fmla="*/ 0 h 33480"/>
                  <a:gd name="textAreaBottom" fmla="*/ 33840 h 33480"/>
                </a:gdLst>
                <a:ahLst/>
                <a:rect l="textAreaLeft" t="textAreaTop" r="textAreaRight" b="textAreaBottom"/>
                <a:pathLst>
                  <a:path w="20046" h="21043">
                    <a:moveTo>
                      <a:pt x="2319" y="7200"/>
                    </a:moveTo>
                    <a:cubicBezTo>
                      <a:pt x="-1047" y="8716"/>
                      <a:pt x="-486" y="15916"/>
                      <a:pt x="2319" y="18947"/>
                    </a:cubicBezTo>
                    <a:cubicBezTo>
                      <a:pt x="5405" y="21600"/>
                      <a:pt x="9613" y="21600"/>
                      <a:pt x="12979" y="19705"/>
                    </a:cubicBezTo>
                    <a:cubicBezTo>
                      <a:pt x="16065" y="18947"/>
                      <a:pt x="19431" y="16674"/>
                      <a:pt x="19992" y="12884"/>
                    </a:cubicBezTo>
                    <a:cubicBezTo>
                      <a:pt x="20553" y="7200"/>
                      <a:pt x="16626" y="3032"/>
                      <a:pt x="12979" y="758"/>
                    </a:cubicBezTo>
                    <a:cubicBezTo>
                      <a:pt x="12418" y="758"/>
                      <a:pt x="11857" y="0"/>
                      <a:pt x="11296" y="0"/>
                    </a:cubicBezTo>
                    <a:cubicBezTo>
                      <a:pt x="10174" y="0"/>
                      <a:pt x="9613" y="0"/>
                      <a:pt x="8771" y="758"/>
                    </a:cubicBezTo>
                    <a:cubicBezTo>
                      <a:pt x="5966" y="2274"/>
                      <a:pt x="3722" y="3789"/>
                      <a:pt x="636" y="5684"/>
                    </a:cubicBezTo>
                    <a:cubicBezTo>
                      <a:pt x="-486" y="6442"/>
                      <a:pt x="2319" y="7200"/>
                      <a:pt x="2319" y="7200"/>
                    </a:cubicBezTo>
                  </a:path>
                </a:pathLst>
              </a:custGeom>
              <a:solidFill>
                <a:srgbClr val="c0c0c0"/>
              </a:solidFill>
              <a:ln w="12700">
                <a:noFill/>
              </a:ln>
            </p:spPr>
            <p:style>
              <a:lnRef idx="0"/>
              <a:fillRef idx="0"/>
              <a:effectRef idx="0"/>
              <a:fontRef idx="minor"/>
            </p:style>
            <p:txBody>
              <a:bodyPr numCol="1" spcCol="0" lIns="45720" rIns="45720" tIns="16920" bIns="16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5" name="Shape 3146"/>
              <p:cNvSpPr/>
              <p:nvPr/>
            </p:nvSpPr>
            <p:spPr>
              <a:xfrm>
                <a:off x="17588160" y="3553920"/>
                <a:ext cx="85320" cy="78480"/>
              </a:xfrm>
              <a:custGeom>
                <a:avLst/>
                <a:gdLst>
                  <a:gd name="textAreaLeft" fmla="*/ 0 w 85320"/>
                  <a:gd name="textAreaRight" fmla="*/ 85680 w 85320"/>
                  <a:gd name="textAreaTop" fmla="*/ 0 h 78480"/>
                  <a:gd name="textAreaBottom" fmla="*/ 78840 h 78480"/>
                </a:gdLst>
                <a:ahLst/>
                <a:rect l="textAreaLeft" t="textAreaTop" r="textAreaRight" b="textAreaBottom"/>
                <a:pathLst>
                  <a:path w="21341" h="20939">
                    <a:moveTo>
                      <a:pt x="9651" y="1473"/>
                    </a:moveTo>
                    <a:cubicBezTo>
                      <a:pt x="9345" y="2127"/>
                      <a:pt x="9345" y="9000"/>
                      <a:pt x="9957" y="9000"/>
                    </a:cubicBezTo>
                    <a:cubicBezTo>
                      <a:pt x="5515" y="8018"/>
                      <a:pt x="306" y="12109"/>
                      <a:pt x="0" y="17182"/>
                    </a:cubicBezTo>
                    <a:cubicBezTo>
                      <a:pt x="1685" y="20291"/>
                      <a:pt x="5515" y="21600"/>
                      <a:pt x="8732" y="20618"/>
                    </a:cubicBezTo>
                    <a:cubicBezTo>
                      <a:pt x="11949" y="19473"/>
                      <a:pt x="14094" y="15873"/>
                      <a:pt x="13481" y="12436"/>
                    </a:cubicBezTo>
                    <a:cubicBezTo>
                      <a:pt x="15166" y="12764"/>
                      <a:pt x="17157" y="13091"/>
                      <a:pt x="18689" y="12436"/>
                    </a:cubicBezTo>
                    <a:cubicBezTo>
                      <a:pt x="20374" y="11782"/>
                      <a:pt x="21600" y="9982"/>
                      <a:pt x="21294" y="8345"/>
                    </a:cubicBezTo>
                    <a:cubicBezTo>
                      <a:pt x="18996" y="8345"/>
                      <a:pt x="17004" y="6218"/>
                      <a:pt x="16698" y="4255"/>
                    </a:cubicBezTo>
                    <a:cubicBezTo>
                      <a:pt x="15166" y="4582"/>
                      <a:pt x="13634" y="4582"/>
                      <a:pt x="12255" y="3927"/>
                    </a:cubicBezTo>
                    <a:cubicBezTo>
                      <a:pt x="11030" y="3109"/>
                      <a:pt x="9651" y="1473"/>
                      <a:pt x="10264" y="0"/>
                    </a:cubicBezTo>
                    <a:cubicBezTo>
                      <a:pt x="9957" y="0"/>
                      <a:pt x="9345" y="1473"/>
                      <a:pt x="9651" y="1473"/>
                    </a:cubicBezTo>
                  </a:path>
                </a:pathLst>
              </a:custGeom>
              <a:solidFill>
                <a:srgbClr val="c0c0c0"/>
              </a:solidFill>
              <a:ln w="12700">
                <a:noFill/>
              </a:ln>
            </p:spPr>
            <p:style>
              <a:lnRef idx="0"/>
              <a:fillRef idx="0"/>
              <a:effectRef idx="0"/>
              <a:fontRef idx="minor"/>
            </p:style>
            <p:txBody>
              <a:bodyPr numCol="1" spcCol="0" lIns="45720" rIns="45720" tIns="39240" bIns="39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6" name="Shape 3147"/>
              <p:cNvSpPr/>
              <p:nvPr/>
            </p:nvSpPr>
            <p:spPr>
              <a:xfrm>
                <a:off x="17574480" y="3467520"/>
                <a:ext cx="89640" cy="54360"/>
              </a:xfrm>
              <a:custGeom>
                <a:avLst/>
                <a:gdLst>
                  <a:gd name="textAreaLeft" fmla="*/ 0 w 89640"/>
                  <a:gd name="textAreaRight" fmla="*/ 90000 w 89640"/>
                  <a:gd name="textAreaTop" fmla="*/ 0 h 54360"/>
                  <a:gd name="textAreaBottom" fmla="*/ 54720 h 54360"/>
                </a:gdLst>
                <a:ahLst/>
                <a:rect l="textAreaLeft" t="textAreaTop" r="textAreaRight" b="textAreaBottom"/>
                <a:pathLst>
                  <a:path w="15934" h="20795">
                    <a:moveTo>
                      <a:pt x="3584" y="20785"/>
                    </a:moveTo>
                    <a:cubicBezTo>
                      <a:pt x="4886" y="20785"/>
                      <a:pt x="6297" y="18907"/>
                      <a:pt x="6731" y="15855"/>
                    </a:cubicBezTo>
                    <a:cubicBezTo>
                      <a:pt x="6948" y="14446"/>
                      <a:pt x="6948" y="13038"/>
                      <a:pt x="7382" y="11864"/>
                    </a:cubicBezTo>
                    <a:cubicBezTo>
                      <a:pt x="7600" y="10455"/>
                      <a:pt x="8359" y="9516"/>
                      <a:pt x="9011" y="9985"/>
                    </a:cubicBezTo>
                    <a:cubicBezTo>
                      <a:pt x="9445" y="9985"/>
                      <a:pt x="9662" y="10925"/>
                      <a:pt x="9879" y="10925"/>
                    </a:cubicBezTo>
                    <a:cubicBezTo>
                      <a:pt x="11507" y="13507"/>
                      <a:pt x="13787" y="9985"/>
                      <a:pt x="15198" y="7168"/>
                    </a:cubicBezTo>
                    <a:cubicBezTo>
                      <a:pt x="15415" y="6464"/>
                      <a:pt x="15632" y="5994"/>
                      <a:pt x="15849" y="5525"/>
                    </a:cubicBezTo>
                    <a:cubicBezTo>
                      <a:pt x="16283" y="3177"/>
                      <a:pt x="14980" y="1533"/>
                      <a:pt x="13787" y="1533"/>
                    </a:cubicBezTo>
                    <a:cubicBezTo>
                      <a:pt x="12701" y="1533"/>
                      <a:pt x="11507" y="2707"/>
                      <a:pt x="10639" y="1533"/>
                    </a:cubicBezTo>
                    <a:cubicBezTo>
                      <a:pt x="10205" y="1064"/>
                      <a:pt x="9879" y="594"/>
                      <a:pt x="9445" y="125"/>
                    </a:cubicBezTo>
                    <a:cubicBezTo>
                      <a:pt x="8794" y="-345"/>
                      <a:pt x="7925" y="594"/>
                      <a:pt x="7165" y="1533"/>
                    </a:cubicBezTo>
                    <a:cubicBezTo>
                      <a:pt x="4886" y="4585"/>
                      <a:pt x="-5317" y="21255"/>
                      <a:pt x="3584" y="20785"/>
                    </a:cubicBezTo>
                  </a:path>
                </a:pathLst>
              </a:custGeom>
              <a:solidFill>
                <a:srgbClr val="c0c0c0"/>
              </a:solidFill>
              <a:ln w="12700">
                <a:noFill/>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7" name="Shape 3148"/>
              <p:cNvSpPr/>
              <p:nvPr/>
            </p:nvSpPr>
            <p:spPr>
              <a:xfrm>
                <a:off x="17551440" y="3428640"/>
                <a:ext cx="51480" cy="32400"/>
              </a:xfrm>
              <a:custGeom>
                <a:avLst/>
                <a:gdLst>
                  <a:gd name="textAreaLeft" fmla="*/ 0 w 51480"/>
                  <a:gd name="textAreaRight" fmla="*/ 51840 w 51480"/>
                  <a:gd name="textAreaTop" fmla="*/ 0 h 32400"/>
                  <a:gd name="textAreaBottom" fmla="*/ 32760 h 32400"/>
                </a:gdLst>
                <a:ahLst/>
                <a:rect l="textAreaLeft" t="textAreaTop" r="textAreaRight" b="textAreaBottom"/>
                <a:pathLst>
                  <a:path w="20721" h="20357">
                    <a:moveTo>
                      <a:pt x="401" y="6676"/>
                    </a:moveTo>
                    <a:cubicBezTo>
                      <a:pt x="-581" y="9033"/>
                      <a:pt x="401" y="13353"/>
                      <a:pt x="1628" y="14924"/>
                    </a:cubicBezTo>
                    <a:cubicBezTo>
                      <a:pt x="3101" y="17280"/>
                      <a:pt x="5064" y="18065"/>
                      <a:pt x="6783" y="18851"/>
                    </a:cubicBezTo>
                    <a:cubicBezTo>
                      <a:pt x="10219" y="20815"/>
                      <a:pt x="15374" y="21600"/>
                      <a:pt x="17583" y="16495"/>
                    </a:cubicBezTo>
                    <a:cubicBezTo>
                      <a:pt x="18074" y="14924"/>
                      <a:pt x="18074" y="13353"/>
                      <a:pt x="19055" y="12567"/>
                    </a:cubicBezTo>
                    <a:cubicBezTo>
                      <a:pt x="19546" y="11782"/>
                      <a:pt x="20037" y="11782"/>
                      <a:pt x="20528" y="10604"/>
                    </a:cubicBezTo>
                    <a:cubicBezTo>
                      <a:pt x="21019" y="9818"/>
                      <a:pt x="20528" y="8247"/>
                      <a:pt x="19546" y="7462"/>
                    </a:cubicBezTo>
                    <a:cubicBezTo>
                      <a:pt x="15864" y="3535"/>
                      <a:pt x="11446" y="1571"/>
                      <a:pt x="7274" y="2356"/>
                    </a:cubicBezTo>
                    <a:cubicBezTo>
                      <a:pt x="4819" y="3142"/>
                      <a:pt x="1874" y="3927"/>
                      <a:pt x="1137" y="785"/>
                    </a:cubicBezTo>
                    <a:cubicBezTo>
                      <a:pt x="1137" y="2356"/>
                      <a:pt x="401" y="5891"/>
                      <a:pt x="401" y="6676"/>
                    </a:cubicBezTo>
                    <a:close/>
                    <a:moveTo>
                      <a:pt x="1137" y="0"/>
                    </a:moveTo>
                    <a:cubicBezTo>
                      <a:pt x="1137" y="393"/>
                      <a:pt x="1137" y="393"/>
                      <a:pt x="1137" y="785"/>
                    </a:cubicBezTo>
                    <a:cubicBezTo>
                      <a:pt x="1137" y="785"/>
                      <a:pt x="1137" y="393"/>
                      <a:pt x="1137" y="0"/>
                    </a:cubicBezTo>
                    <a:close/>
                  </a:path>
                </a:pathLst>
              </a:custGeom>
              <a:solidFill>
                <a:srgbClr val="c0c0c0"/>
              </a:solidFill>
              <a:ln w="12700">
                <a:noFill/>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8" name="Shape 3149"/>
              <p:cNvSpPr/>
              <p:nvPr/>
            </p:nvSpPr>
            <p:spPr>
              <a:xfrm>
                <a:off x="17625240" y="3303000"/>
                <a:ext cx="49680" cy="45360"/>
              </a:xfrm>
              <a:custGeom>
                <a:avLst/>
                <a:gdLst>
                  <a:gd name="textAreaLeft" fmla="*/ 0 w 49680"/>
                  <a:gd name="textAreaRight" fmla="*/ 50040 w 49680"/>
                  <a:gd name="textAreaTop" fmla="*/ 0 h 45360"/>
                  <a:gd name="textAreaBottom" fmla="*/ 45720 h 45360"/>
                </a:gdLst>
                <a:ahLst/>
                <a:rect l="textAreaLeft" t="textAreaTop" r="textAreaRight" b="textAreaBottom"/>
                <a:pathLst>
                  <a:path w="20106" h="21600">
                    <a:moveTo>
                      <a:pt x="260" y="8352"/>
                    </a:moveTo>
                    <a:cubicBezTo>
                      <a:pt x="-745" y="12672"/>
                      <a:pt x="1264" y="16704"/>
                      <a:pt x="4529" y="19296"/>
                    </a:cubicBezTo>
                    <a:cubicBezTo>
                      <a:pt x="7543" y="21024"/>
                      <a:pt x="11813" y="21600"/>
                      <a:pt x="15581" y="21600"/>
                    </a:cubicBezTo>
                    <a:cubicBezTo>
                      <a:pt x="16083" y="21600"/>
                      <a:pt x="17088" y="21600"/>
                      <a:pt x="17590" y="21600"/>
                    </a:cubicBezTo>
                    <a:cubicBezTo>
                      <a:pt x="20855" y="20448"/>
                      <a:pt x="20855" y="14400"/>
                      <a:pt x="18092" y="12096"/>
                    </a:cubicBezTo>
                    <a:cubicBezTo>
                      <a:pt x="15581" y="9504"/>
                      <a:pt x="12064" y="8928"/>
                      <a:pt x="8799" y="7776"/>
                    </a:cubicBezTo>
                    <a:cubicBezTo>
                      <a:pt x="5785" y="6624"/>
                      <a:pt x="1767" y="4032"/>
                      <a:pt x="1767" y="0"/>
                    </a:cubicBezTo>
                    <a:lnTo>
                      <a:pt x="260" y="8352"/>
                    </a:lnTo>
                  </a:path>
                </a:pathLst>
              </a:custGeom>
              <a:solidFill>
                <a:srgbClr val="c0c0c0"/>
              </a:solidFill>
              <a:ln w="12700">
                <a:noFill/>
              </a:ln>
            </p:spPr>
            <p:style>
              <a:lnRef idx="0"/>
              <a:fillRef idx="0"/>
              <a:effectRef idx="0"/>
              <a:fontRef idx="minor"/>
            </p:style>
            <p:txBody>
              <a:bodyPr numCol="1" spcCol="0" lIns="45720" rIns="45720" tIns="22680" bIns="22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09" name="Shape 3150"/>
              <p:cNvSpPr/>
              <p:nvPr/>
            </p:nvSpPr>
            <p:spPr>
              <a:xfrm>
                <a:off x="17649000" y="3232080"/>
                <a:ext cx="37800" cy="38880"/>
              </a:xfrm>
              <a:custGeom>
                <a:avLst/>
                <a:gdLst>
                  <a:gd name="textAreaLeft" fmla="*/ 0 w 37800"/>
                  <a:gd name="textAreaRight" fmla="*/ 38160 w 37800"/>
                  <a:gd name="textAreaTop" fmla="*/ 0 h 38880"/>
                  <a:gd name="textAreaBottom" fmla="*/ 39240 h 38880"/>
                </a:gdLst>
                <a:ahLst/>
                <a:rect l="textAreaLeft" t="textAreaTop" r="textAreaRight" b="textAreaBottom"/>
                <a:pathLst>
                  <a:path w="20550" h="21086">
                    <a:moveTo>
                      <a:pt x="20447" y="8914"/>
                    </a:moveTo>
                    <a:cubicBezTo>
                      <a:pt x="21112" y="13029"/>
                      <a:pt x="18454" y="17486"/>
                      <a:pt x="14798" y="19543"/>
                    </a:cubicBezTo>
                    <a:cubicBezTo>
                      <a:pt x="11475" y="21600"/>
                      <a:pt x="6490" y="21600"/>
                      <a:pt x="2835" y="19543"/>
                    </a:cubicBezTo>
                    <a:cubicBezTo>
                      <a:pt x="1506" y="18857"/>
                      <a:pt x="177" y="17486"/>
                      <a:pt x="177" y="15771"/>
                    </a:cubicBezTo>
                    <a:cubicBezTo>
                      <a:pt x="-488" y="13714"/>
                      <a:pt x="841" y="11657"/>
                      <a:pt x="2170" y="9600"/>
                    </a:cubicBezTo>
                    <a:cubicBezTo>
                      <a:pt x="4829" y="5829"/>
                      <a:pt x="7820" y="3086"/>
                      <a:pt x="10478" y="0"/>
                    </a:cubicBezTo>
                    <a:cubicBezTo>
                      <a:pt x="10478" y="2057"/>
                      <a:pt x="10478" y="4114"/>
                      <a:pt x="10146" y="5829"/>
                    </a:cubicBezTo>
                    <a:cubicBezTo>
                      <a:pt x="13469" y="5829"/>
                      <a:pt x="17124" y="6857"/>
                      <a:pt x="20447" y="8914"/>
                    </a:cubicBezTo>
                  </a:path>
                </a:pathLst>
              </a:custGeom>
              <a:solidFill>
                <a:srgbClr val="c0c0c0"/>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10" name="Shape 3151"/>
              <p:cNvSpPr/>
              <p:nvPr/>
            </p:nvSpPr>
            <p:spPr>
              <a:xfrm>
                <a:off x="17615520" y="3298320"/>
                <a:ext cx="21600" cy="21600"/>
              </a:xfrm>
              <a:custGeom>
                <a:avLst/>
                <a:gdLst>
                  <a:gd name="textAreaLeft" fmla="*/ 0 w 21600"/>
                  <a:gd name="textAreaRight" fmla="*/ 21960 w 21600"/>
                  <a:gd name="textAreaTop" fmla="*/ 0 h 21600"/>
                  <a:gd name="textAreaBottom" fmla="*/ 21960 h 21600"/>
                </a:gdLst>
                <a:ahLst/>
                <a:rect l="textAreaLeft" t="textAreaTop" r="textAreaRight" b="textAreaBottom"/>
                <a:pathLst>
                  <a:path w="18138" h="19713">
                    <a:moveTo>
                      <a:pt x="18138" y="513"/>
                    </a:moveTo>
                    <a:cubicBezTo>
                      <a:pt x="9498" y="-1887"/>
                      <a:pt x="-3462" y="4713"/>
                      <a:pt x="858" y="8313"/>
                    </a:cubicBezTo>
                    <a:cubicBezTo>
                      <a:pt x="5178" y="11913"/>
                      <a:pt x="13818" y="16113"/>
                      <a:pt x="5178" y="19713"/>
                    </a:cubicBezTo>
                    <a:lnTo>
                      <a:pt x="18138" y="513"/>
                    </a:lnTo>
                  </a:path>
                </a:pathLst>
              </a:custGeom>
              <a:solidFill>
                <a:srgbClr val="c0c0c0"/>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11" name="Shape 3152"/>
              <p:cNvSpPr/>
              <p:nvPr/>
            </p:nvSpPr>
            <p:spPr>
              <a:xfrm>
                <a:off x="15282360" y="4946040"/>
                <a:ext cx="2647080" cy="2277360"/>
              </a:xfrm>
              <a:custGeom>
                <a:avLst/>
                <a:gdLst>
                  <a:gd name="textAreaLeft" fmla="*/ 0 w 2647080"/>
                  <a:gd name="textAreaRight" fmla="*/ 2647440 w 2647080"/>
                  <a:gd name="textAreaTop" fmla="*/ 0 h 2277360"/>
                  <a:gd name="textAreaBottom" fmla="*/ 2277720 h 227736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6"/>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6"/>
                      <a:pt x="12257" y="1626"/>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6"/>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7"/>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7"/>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sp>
        <p:nvSpPr>
          <p:cNvPr id="5812" name="PlaceHolder 1"/>
          <p:cNvSpPr>
            <a:spLocks noGrp="1"/>
          </p:cNvSpPr>
          <p:nvPr>
            <p:ph type="title"/>
          </p:nvPr>
        </p:nvSpPr>
        <p:spPr>
          <a:xfrm>
            <a:off x="2031840" y="1708200"/>
            <a:ext cx="914508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World</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Map</a:t>
            </a:r>
            <a:endParaRPr b="0" lang="en-US" sz="11200" spc="-1" strike="noStrike">
              <a:solidFill>
                <a:srgbClr val="009193"/>
              </a:solidFill>
              <a:latin typeface="Helvetica Light"/>
            </a:endParaRPr>
          </a:p>
        </p:txBody>
      </p:sp>
      <p:grpSp>
        <p:nvGrpSpPr>
          <p:cNvPr id="5813" name="Group 3159"/>
          <p:cNvGrpSpPr/>
          <p:nvPr/>
        </p:nvGrpSpPr>
        <p:grpSpPr>
          <a:xfrm>
            <a:off x="19410480" y="3163320"/>
            <a:ext cx="2280600" cy="2003400"/>
            <a:chOff x="19410480" y="3163320"/>
            <a:chExt cx="2280600" cy="2003400"/>
          </a:xfrm>
        </p:grpSpPr>
        <p:sp>
          <p:nvSpPr>
            <p:cNvPr id="5814" name="Shape 3156"/>
            <p:cNvSpPr/>
            <p:nvPr/>
          </p:nvSpPr>
          <p:spPr>
            <a:xfrm>
              <a:off x="19915920" y="3897000"/>
              <a:ext cx="1269720" cy="1269720"/>
            </a:xfrm>
            <a:prstGeom prst="ellipse">
              <a:avLst/>
            </a:prstGeom>
            <a:solidFill>
              <a:srgbClr val="ffffff"/>
            </a:solidFill>
            <a:ln w="38100">
              <a:solidFill>
                <a:srgbClr val="212121"/>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815" name="Shape 3157"/>
            <p:cNvSpPr/>
            <p:nvPr/>
          </p:nvSpPr>
          <p:spPr>
            <a:xfrm>
              <a:off x="19410480" y="3163320"/>
              <a:ext cx="2280600" cy="70776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sia</a:t>
              </a:r>
              <a:endParaRPr b="0" lang="en-US" sz="3000" spc="-1" strike="noStrike">
                <a:solidFill>
                  <a:srgbClr val="000000"/>
                </a:solidFill>
                <a:latin typeface="Arial"/>
              </a:endParaRPr>
            </a:p>
          </p:txBody>
        </p:sp>
        <p:sp>
          <p:nvSpPr>
            <p:cNvPr id="5816" name="Shape 3158"/>
            <p:cNvSpPr/>
            <p:nvPr/>
          </p:nvSpPr>
          <p:spPr>
            <a:xfrm>
              <a:off x="19890720" y="4238640"/>
              <a:ext cx="1320480" cy="58608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45%</a:t>
              </a:r>
              <a:endParaRPr b="0" lang="en-US" sz="3000" spc="-1" strike="noStrike">
                <a:solidFill>
                  <a:srgbClr val="000000"/>
                </a:solidFill>
                <a:latin typeface="Arial"/>
              </a:endParaRPr>
            </a:p>
          </p:txBody>
        </p:sp>
      </p:grpSp>
      <p:grpSp>
        <p:nvGrpSpPr>
          <p:cNvPr id="5817" name="Group 3163"/>
          <p:cNvGrpSpPr/>
          <p:nvPr/>
        </p:nvGrpSpPr>
        <p:grpSpPr>
          <a:xfrm>
            <a:off x="14866560" y="7472880"/>
            <a:ext cx="2280600" cy="2003400"/>
            <a:chOff x="14866560" y="7472880"/>
            <a:chExt cx="2280600" cy="2003400"/>
          </a:xfrm>
        </p:grpSpPr>
        <p:sp>
          <p:nvSpPr>
            <p:cNvPr id="5818" name="Shape 3160"/>
            <p:cNvSpPr/>
            <p:nvPr/>
          </p:nvSpPr>
          <p:spPr>
            <a:xfrm>
              <a:off x="15372000" y="8206560"/>
              <a:ext cx="1269720" cy="1269720"/>
            </a:xfrm>
            <a:prstGeom prst="ellipse">
              <a:avLst/>
            </a:prstGeom>
            <a:solidFill>
              <a:srgbClr val="ffffff"/>
            </a:solidFill>
            <a:ln w="38100">
              <a:solidFill>
                <a:srgbClr val="212121"/>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819" name="Shape 3161"/>
            <p:cNvSpPr/>
            <p:nvPr/>
          </p:nvSpPr>
          <p:spPr>
            <a:xfrm>
              <a:off x="14866560" y="7472880"/>
              <a:ext cx="2280600" cy="70776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frica</a:t>
              </a:r>
              <a:endParaRPr b="0" lang="en-US" sz="3000" spc="-1" strike="noStrike">
                <a:solidFill>
                  <a:srgbClr val="000000"/>
                </a:solidFill>
                <a:latin typeface="Arial"/>
              </a:endParaRPr>
            </a:p>
          </p:txBody>
        </p:sp>
        <p:sp>
          <p:nvSpPr>
            <p:cNvPr id="5820" name="Shape 3162"/>
            <p:cNvSpPr/>
            <p:nvPr/>
          </p:nvSpPr>
          <p:spPr>
            <a:xfrm>
              <a:off x="15346440" y="8548200"/>
              <a:ext cx="1320480" cy="58608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37%</a:t>
              </a:r>
              <a:endParaRPr b="0" lang="en-US" sz="3000" spc="-1" strike="noStrike">
                <a:solidFill>
                  <a:srgbClr val="000000"/>
                </a:solidFill>
                <a:latin typeface="Arial"/>
              </a:endParaRPr>
            </a:p>
          </p:txBody>
        </p:sp>
      </p:grpSp>
      <p:grpSp>
        <p:nvGrpSpPr>
          <p:cNvPr id="5821" name="Group 3167"/>
          <p:cNvGrpSpPr/>
          <p:nvPr/>
        </p:nvGrpSpPr>
        <p:grpSpPr>
          <a:xfrm>
            <a:off x="10012680" y="5319360"/>
            <a:ext cx="2280600" cy="2003400"/>
            <a:chOff x="10012680" y="5319360"/>
            <a:chExt cx="2280600" cy="2003400"/>
          </a:xfrm>
        </p:grpSpPr>
        <p:sp>
          <p:nvSpPr>
            <p:cNvPr id="5822" name="Shape 3164"/>
            <p:cNvSpPr/>
            <p:nvPr/>
          </p:nvSpPr>
          <p:spPr>
            <a:xfrm>
              <a:off x="10518120" y="6053040"/>
              <a:ext cx="1269720" cy="1269720"/>
            </a:xfrm>
            <a:prstGeom prst="ellipse">
              <a:avLst/>
            </a:prstGeom>
            <a:solidFill>
              <a:srgbClr val="ffffff"/>
            </a:solidFill>
            <a:ln w="38100">
              <a:solidFill>
                <a:srgbClr val="212121"/>
              </a:solidFill>
              <a:miter/>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823" name="Shape 3165"/>
            <p:cNvSpPr/>
            <p:nvPr/>
          </p:nvSpPr>
          <p:spPr>
            <a:xfrm>
              <a:off x="10012680" y="5319360"/>
              <a:ext cx="2280600" cy="70776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merica</a:t>
              </a:r>
              <a:endParaRPr b="0" lang="en-US" sz="3000" spc="-1" strike="noStrike">
                <a:solidFill>
                  <a:srgbClr val="000000"/>
                </a:solidFill>
                <a:latin typeface="Arial"/>
              </a:endParaRPr>
            </a:p>
          </p:txBody>
        </p:sp>
        <p:sp>
          <p:nvSpPr>
            <p:cNvPr id="5824" name="Shape 3166"/>
            <p:cNvSpPr/>
            <p:nvPr/>
          </p:nvSpPr>
          <p:spPr>
            <a:xfrm>
              <a:off x="10492560" y="6394680"/>
              <a:ext cx="1320480" cy="586080"/>
            </a:xfrm>
            <a:prstGeom prst="rect">
              <a:avLst/>
            </a:prstGeom>
            <a:noFill/>
            <a:ln w="12700">
              <a:noFill/>
            </a:ln>
          </p:spPr>
          <p:style>
            <a:lnRef idx="0"/>
            <a:fillRef idx="0"/>
            <a:effectRef idx="0"/>
            <a:fontRef idx="minor"/>
          </p:style>
          <p:txBody>
            <a:bodyPr numCol="1" spcCol="0" lIns="50760" rIns="50760" tIns="50760" bIns="5076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68%</a:t>
              </a:r>
              <a:endParaRPr b="0" lang="en-US" sz="3000" spc="-1" strike="noStrike">
                <a:solidFill>
                  <a:srgbClr val="000000"/>
                </a:solidFill>
                <a:latin typeface="Arial"/>
              </a:endParaRPr>
            </a:p>
          </p:txBody>
        </p:sp>
      </p:grpSp>
      <p:sp>
        <p:nvSpPr>
          <p:cNvPr id="5825" name="Shape 3168"/>
          <p:cNvSpPr/>
          <p:nvPr/>
        </p:nvSpPr>
        <p:spPr>
          <a:xfrm>
            <a:off x="2031840" y="6013800"/>
            <a:ext cx="6886800" cy="20361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Editable World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Map Continents</a:t>
            </a:r>
            <a:endParaRPr b="0" lang="en-US" sz="4800" spc="-1" strike="noStrike">
              <a:solidFill>
                <a:srgbClr val="000000"/>
              </a:solidFill>
              <a:latin typeface="Arial"/>
            </a:endParaRPr>
          </a:p>
        </p:txBody>
      </p:sp>
      <p:sp>
        <p:nvSpPr>
          <p:cNvPr id="5826" name="Shape 3169"/>
          <p:cNvSpPr/>
          <p:nvPr/>
        </p:nvSpPr>
        <p:spPr>
          <a:xfrm>
            <a:off x="2007720" y="9031320"/>
            <a:ext cx="9144720" cy="28069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Psusit druamet. Lorem eso ipsum dolor sit amet, deras consetetur sadipscing elitromas. Sed diam dnie nonumy eirmod tempor invidunt utony labore etodre dolore magna aliquyam desando erosa mie greadon.</a:t>
            </a:r>
            <a:endParaRPr b="0" lang="en-US" sz="3000" spc="-1" strike="noStrike">
              <a:solidFill>
                <a:srgbClr val="000000"/>
              </a:solidFill>
              <a:latin typeface="Arial"/>
            </a:endParaRPr>
          </a:p>
        </p:txBody>
      </p:sp>
      <p:sp>
        <p:nvSpPr>
          <p:cNvPr id="5827" name="PlaceHolder 2"/>
          <p:cNvSpPr>
            <a:spLocks noGrp="1"/>
          </p:cNvSpPr>
          <p:nvPr>
            <p:ph type="sldNum" idx="123"/>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204452D6-4D07-4FDD-92AA-112AF44E5A36}"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8" name="Shape 3172"/>
          <p:cNvSpPr/>
          <p:nvPr/>
        </p:nvSpPr>
        <p:spPr>
          <a:xfrm>
            <a:off x="0" y="0"/>
            <a:ext cx="15624360" cy="13715640"/>
          </a:xfrm>
          <a:prstGeom prst="rect">
            <a:avLst/>
          </a:prstGeom>
          <a:solidFill>
            <a:srgbClr val="212121"/>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nvGrpSpPr>
          <p:cNvPr id="5829" name="Group 3328"/>
          <p:cNvGrpSpPr/>
          <p:nvPr/>
        </p:nvGrpSpPr>
        <p:grpSpPr>
          <a:xfrm>
            <a:off x="1908000" y="2025720"/>
            <a:ext cx="11695320" cy="7555320"/>
            <a:chOff x="1908000" y="2025720"/>
            <a:chExt cx="11695320" cy="7555320"/>
          </a:xfrm>
        </p:grpSpPr>
        <p:grpSp>
          <p:nvGrpSpPr>
            <p:cNvPr id="5830" name="Group 3176"/>
            <p:cNvGrpSpPr/>
            <p:nvPr/>
          </p:nvGrpSpPr>
          <p:grpSpPr>
            <a:xfrm>
              <a:off x="6569640" y="6095520"/>
              <a:ext cx="2492640" cy="2502360"/>
              <a:chOff x="6569640" y="6095520"/>
              <a:chExt cx="2492640" cy="2502360"/>
            </a:xfrm>
          </p:grpSpPr>
          <p:sp>
            <p:nvSpPr>
              <p:cNvPr id="5831" name="Shape 3173"/>
              <p:cNvSpPr/>
              <p:nvPr/>
            </p:nvSpPr>
            <p:spPr>
              <a:xfrm>
                <a:off x="6834600" y="6095520"/>
                <a:ext cx="2227680" cy="2502360"/>
              </a:xfrm>
              <a:custGeom>
                <a:avLst/>
                <a:gdLst>
                  <a:gd name="textAreaLeft" fmla="*/ 0 w 2227680"/>
                  <a:gd name="textAreaRight" fmla="*/ 2228040 w 2227680"/>
                  <a:gd name="textAreaTop" fmla="*/ 0 h 2502360"/>
                  <a:gd name="textAreaBottom" fmla="*/ 2502720 h 250236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2"/>
                      <a:pt x="15854" y="18478"/>
                      <a:pt x="15909" y="18478"/>
                    </a:cubicBezTo>
                    <a:cubicBezTo>
                      <a:pt x="15970" y="18478"/>
                      <a:pt x="16014" y="18512"/>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32" name="Shape 3174"/>
              <p:cNvSpPr/>
              <p:nvPr/>
            </p:nvSpPr>
            <p:spPr>
              <a:xfrm>
                <a:off x="8811720" y="7802280"/>
                <a:ext cx="224640" cy="462960"/>
              </a:xfrm>
              <a:custGeom>
                <a:avLst/>
                <a:gdLst>
                  <a:gd name="textAreaLeft" fmla="*/ 0 w 224640"/>
                  <a:gd name="textAreaRight" fmla="*/ 225000 w 224640"/>
                  <a:gd name="textAreaTop" fmla="*/ 0 h 462960"/>
                  <a:gd name="textAreaBottom" fmla="*/ 463320 h 46296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33" name="Shape 3175"/>
              <p:cNvSpPr/>
              <p:nvPr/>
            </p:nvSpPr>
            <p:spPr>
              <a:xfrm>
                <a:off x="6569640" y="6825600"/>
                <a:ext cx="47520" cy="26640"/>
              </a:xfrm>
              <a:custGeom>
                <a:avLst/>
                <a:gdLst>
                  <a:gd name="textAreaLeft" fmla="*/ 0 w 47520"/>
                  <a:gd name="textAreaRight" fmla="*/ 47880 w 47520"/>
                  <a:gd name="textAreaTop" fmla="*/ 0 h 26640"/>
                  <a:gd name="textAreaBottom" fmla="*/ 27000 h 2664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ffffff"/>
              </a:solidFill>
              <a:ln w="12700">
                <a:noFill/>
              </a:ln>
            </p:spPr>
            <p:style>
              <a:lnRef idx="0"/>
              <a:fillRef idx="0"/>
              <a:effectRef idx="0"/>
              <a:fontRef idx="minor"/>
            </p:style>
            <p:txBody>
              <a:bodyPr numCol="1" spcCol="0" lIns="45720" rIns="45720" tIns="13320" bIns="133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834" name="Group 3180"/>
            <p:cNvGrpSpPr/>
            <p:nvPr/>
          </p:nvGrpSpPr>
          <p:grpSpPr>
            <a:xfrm>
              <a:off x="4402440" y="6977880"/>
              <a:ext cx="1859760" cy="2603160"/>
              <a:chOff x="4402440" y="6977880"/>
              <a:chExt cx="1859760" cy="2603160"/>
            </a:xfrm>
          </p:grpSpPr>
          <p:sp>
            <p:nvSpPr>
              <p:cNvPr id="5835" name="Shape 3177"/>
              <p:cNvSpPr/>
              <p:nvPr/>
            </p:nvSpPr>
            <p:spPr>
              <a:xfrm>
                <a:off x="4755960" y="6977880"/>
                <a:ext cx="1506240" cy="2603160"/>
              </a:xfrm>
              <a:custGeom>
                <a:avLst/>
                <a:gdLst>
                  <a:gd name="textAreaLeft" fmla="*/ 0 w 1506240"/>
                  <a:gd name="textAreaRight" fmla="*/ 1506600 w 1506240"/>
                  <a:gd name="textAreaTop" fmla="*/ 0 h 2603160"/>
                  <a:gd name="textAreaBottom" fmla="*/ 2603520 h 260316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36" name="Shape 3178"/>
              <p:cNvSpPr/>
              <p:nvPr/>
            </p:nvSpPr>
            <p:spPr>
              <a:xfrm>
                <a:off x="5393880" y="9311400"/>
                <a:ext cx="126720" cy="81000"/>
              </a:xfrm>
              <a:custGeom>
                <a:avLst/>
                <a:gdLst>
                  <a:gd name="textAreaLeft" fmla="*/ 0 w 126720"/>
                  <a:gd name="textAreaRight" fmla="*/ 127080 w 126720"/>
                  <a:gd name="textAreaTop" fmla="*/ 0 h 81000"/>
                  <a:gd name="textAreaBottom" fmla="*/ 81360 h 8100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ffffff"/>
              </a:solidFill>
              <a:ln w="12700">
                <a:noFill/>
              </a:ln>
            </p:spPr>
            <p:style>
              <a:lnRef idx="0"/>
              <a:fillRef idx="0"/>
              <a:effectRef idx="0"/>
              <a:fontRef idx="minor"/>
            </p:style>
            <p:txBody>
              <a:bodyPr numCol="1" spcCol="0" lIns="45720" rIns="45720" tIns="40680" bIns="40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37" name="Shape 3179"/>
              <p:cNvSpPr/>
              <p:nvPr/>
            </p:nvSpPr>
            <p:spPr>
              <a:xfrm>
                <a:off x="4402440" y="7366320"/>
                <a:ext cx="68040" cy="55440"/>
              </a:xfrm>
              <a:custGeom>
                <a:avLst/>
                <a:gdLst>
                  <a:gd name="textAreaLeft" fmla="*/ 0 w 68040"/>
                  <a:gd name="textAreaRight" fmla="*/ 68400 w 68040"/>
                  <a:gd name="textAreaTop" fmla="*/ 0 h 55440"/>
                  <a:gd name="textAreaBottom" fmla="*/ 55800 h 55440"/>
                </a:gdLst>
                <a:ahLst/>
                <a:rect l="textAreaLeft" t="textAreaTop" r="textAreaRight" b="textAreaBottom"/>
                <a:pathLst>
                  <a:path w="19782" h="20169">
                    <a:moveTo>
                      <a:pt x="5761" y="10066"/>
                    </a:moveTo>
                    <a:cubicBezTo>
                      <a:pt x="5761" y="10485"/>
                      <a:pt x="5761" y="11114"/>
                      <a:pt x="5761" y="11534"/>
                    </a:cubicBezTo>
                    <a:cubicBezTo>
                      <a:pt x="6093" y="12373"/>
                      <a:pt x="6426" y="12792"/>
                      <a:pt x="7090" y="13211"/>
                    </a:cubicBezTo>
                    <a:cubicBezTo>
                      <a:pt x="8918" y="14470"/>
                      <a:pt x="10247" y="16357"/>
                      <a:pt x="11743" y="18035"/>
                    </a:cubicBezTo>
                    <a:cubicBezTo>
                      <a:pt x="13404" y="19293"/>
                      <a:pt x="15232" y="20761"/>
                      <a:pt x="17226" y="19922"/>
                    </a:cubicBezTo>
                    <a:cubicBezTo>
                      <a:pt x="19718" y="18874"/>
                      <a:pt x="20715" y="14050"/>
                      <a:pt x="18721" y="11953"/>
                    </a:cubicBezTo>
                    <a:cubicBezTo>
                      <a:pt x="17890" y="11114"/>
                      <a:pt x="17226" y="10485"/>
                      <a:pt x="16893" y="9646"/>
                    </a:cubicBezTo>
                    <a:cubicBezTo>
                      <a:pt x="16561" y="8388"/>
                      <a:pt x="17226" y="7130"/>
                      <a:pt x="17226" y="5243"/>
                    </a:cubicBezTo>
                    <a:cubicBezTo>
                      <a:pt x="17226" y="2726"/>
                      <a:pt x="15232" y="1258"/>
                      <a:pt x="13072" y="419"/>
                    </a:cubicBezTo>
                    <a:cubicBezTo>
                      <a:pt x="12075" y="0"/>
                      <a:pt x="10580" y="-420"/>
                      <a:pt x="9915" y="839"/>
                    </a:cubicBezTo>
                    <a:cubicBezTo>
                      <a:pt x="9583" y="1258"/>
                      <a:pt x="9583" y="1887"/>
                      <a:pt x="9250" y="2307"/>
                    </a:cubicBezTo>
                    <a:cubicBezTo>
                      <a:pt x="7090" y="6711"/>
                      <a:pt x="1607" y="-839"/>
                      <a:pt x="112" y="3984"/>
                    </a:cubicBezTo>
                    <a:cubicBezTo>
                      <a:pt x="-885" y="8808"/>
                      <a:pt x="5097" y="7549"/>
                      <a:pt x="5761" y="10066"/>
                    </a:cubicBezTo>
                  </a:path>
                </a:pathLst>
              </a:custGeom>
              <a:solidFill>
                <a:srgbClr val="ffffff"/>
              </a:solidFill>
              <a:ln w="12700">
                <a:noFill/>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838" name="Group 3231"/>
            <p:cNvGrpSpPr/>
            <p:nvPr/>
          </p:nvGrpSpPr>
          <p:grpSpPr>
            <a:xfrm>
              <a:off x="1908000" y="2025720"/>
              <a:ext cx="5117760" cy="5118120"/>
              <a:chOff x="1908000" y="2025720"/>
              <a:chExt cx="5117760" cy="5118120"/>
            </a:xfrm>
          </p:grpSpPr>
          <p:sp>
            <p:nvSpPr>
              <p:cNvPr id="5839" name="Shape 3181"/>
              <p:cNvSpPr/>
              <p:nvPr/>
            </p:nvSpPr>
            <p:spPr>
              <a:xfrm>
                <a:off x="5295960" y="5506920"/>
                <a:ext cx="101520" cy="55440"/>
              </a:xfrm>
              <a:custGeom>
                <a:avLst/>
                <a:gdLst>
                  <a:gd name="textAreaLeft" fmla="*/ 0 w 101520"/>
                  <a:gd name="textAreaRight" fmla="*/ 101880 w 101520"/>
                  <a:gd name="textAreaTop" fmla="*/ 0 h 55440"/>
                  <a:gd name="textAreaBottom" fmla="*/ 55800 h 5544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ffffff"/>
              </a:solidFill>
              <a:ln w="12700">
                <a:noFill/>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40" name="Shape 3182"/>
              <p:cNvSpPr/>
              <p:nvPr/>
            </p:nvSpPr>
            <p:spPr>
              <a:xfrm>
                <a:off x="4245480" y="3531600"/>
                <a:ext cx="108000" cy="138600"/>
              </a:xfrm>
              <a:custGeom>
                <a:avLst/>
                <a:gdLst>
                  <a:gd name="textAreaLeft" fmla="*/ 0 w 108000"/>
                  <a:gd name="textAreaRight" fmla="*/ 108360 w 108000"/>
                  <a:gd name="textAreaTop" fmla="*/ 0 h 138600"/>
                  <a:gd name="textAreaBottom" fmla="*/ 138960 h 13860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841" name="Group 3230"/>
              <p:cNvGrpSpPr/>
              <p:nvPr/>
            </p:nvGrpSpPr>
            <p:grpSpPr>
              <a:xfrm>
                <a:off x="1908000" y="2025720"/>
                <a:ext cx="5117760" cy="5118120"/>
                <a:chOff x="1908000" y="2025720"/>
                <a:chExt cx="5117760" cy="5118120"/>
              </a:xfrm>
            </p:grpSpPr>
            <p:sp>
              <p:nvSpPr>
                <p:cNvPr id="5842" name="Shape 3183"/>
                <p:cNvSpPr/>
                <p:nvPr/>
              </p:nvSpPr>
              <p:spPr>
                <a:xfrm>
                  <a:off x="4761000" y="3769560"/>
                  <a:ext cx="167400" cy="111600"/>
                </a:xfrm>
                <a:custGeom>
                  <a:avLst/>
                  <a:gdLst>
                    <a:gd name="textAreaLeft" fmla="*/ 0 w 167400"/>
                    <a:gd name="textAreaRight" fmla="*/ 167760 w 167400"/>
                    <a:gd name="textAreaTop" fmla="*/ 0 h 111600"/>
                    <a:gd name="textAreaBottom" fmla="*/ 111960 h 11160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843" name="Group 3229"/>
                <p:cNvGrpSpPr/>
                <p:nvPr/>
              </p:nvGrpSpPr>
              <p:grpSpPr>
                <a:xfrm>
                  <a:off x="1908000" y="2025720"/>
                  <a:ext cx="5117760" cy="5118120"/>
                  <a:chOff x="1908000" y="2025720"/>
                  <a:chExt cx="5117760" cy="5118120"/>
                </a:xfrm>
              </p:grpSpPr>
              <p:sp>
                <p:nvSpPr>
                  <p:cNvPr id="5844" name="Shape 3184"/>
                  <p:cNvSpPr/>
                  <p:nvPr/>
                </p:nvSpPr>
                <p:spPr>
                  <a:xfrm>
                    <a:off x="1908000" y="5296680"/>
                    <a:ext cx="83160" cy="50040"/>
                  </a:xfrm>
                  <a:custGeom>
                    <a:avLst/>
                    <a:gdLst>
                      <a:gd name="textAreaLeft" fmla="*/ 0 w 83160"/>
                      <a:gd name="textAreaRight" fmla="*/ 83520 w 83160"/>
                      <a:gd name="textAreaTop" fmla="*/ 0 h 50040"/>
                      <a:gd name="textAreaBottom" fmla="*/ 50400 h 50040"/>
                    </a:gdLst>
                    <a:ahLst/>
                    <a:rect l="textAreaLeft" t="textAreaTop" r="textAreaRight" b="textAreaBottom"/>
                    <a:pathLst>
                      <a:path w="19534" h="17494">
                        <a:moveTo>
                          <a:pt x="5219" y="9567"/>
                        </a:moveTo>
                        <a:cubicBezTo>
                          <a:pt x="3885" y="9963"/>
                          <a:pt x="2419" y="8774"/>
                          <a:pt x="1085" y="9963"/>
                        </a:cubicBezTo>
                        <a:cubicBezTo>
                          <a:pt x="-648" y="11152"/>
                          <a:pt x="-115" y="15314"/>
                          <a:pt x="1352" y="16701"/>
                        </a:cubicBezTo>
                        <a:cubicBezTo>
                          <a:pt x="2685" y="17890"/>
                          <a:pt x="4685" y="17494"/>
                          <a:pt x="6685" y="17097"/>
                        </a:cubicBezTo>
                        <a:cubicBezTo>
                          <a:pt x="9752" y="15710"/>
                          <a:pt x="13085" y="12936"/>
                          <a:pt x="13885" y="8378"/>
                        </a:cubicBezTo>
                        <a:cubicBezTo>
                          <a:pt x="13885" y="7784"/>
                          <a:pt x="13885" y="7784"/>
                          <a:pt x="14152" y="7387"/>
                        </a:cubicBezTo>
                        <a:cubicBezTo>
                          <a:pt x="14419" y="6595"/>
                          <a:pt x="15619" y="6991"/>
                          <a:pt x="16152" y="6991"/>
                        </a:cubicBezTo>
                        <a:cubicBezTo>
                          <a:pt x="20952" y="7784"/>
                          <a:pt x="20685" y="-3710"/>
                          <a:pt x="15085" y="1244"/>
                        </a:cubicBezTo>
                        <a:cubicBezTo>
                          <a:pt x="11619" y="3820"/>
                          <a:pt x="9752" y="8774"/>
                          <a:pt x="5219" y="9567"/>
                        </a:cubicBezTo>
                      </a:path>
                    </a:pathLst>
                  </a:custGeom>
                  <a:solidFill>
                    <a:srgbClr val="ffffff"/>
                  </a:solidFill>
                  <a:ln w="12700">
                    <a:noFill/>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45" name="Shape 3185"/>
                  <p:cNvSpPr/>
                  <p:nvPr/>
                </p:nvSpPr>
                <p:spPr>
                  <a:xfrm>
                    <a:off x="1953000" y="4914720"/>
                    <a:ext cx="56880" cy="31680"/>
                  </a:xfrm>
                  <a:custGeom>
                    <a:avLst/>
                    <a:gdLst>
                      <a:gd name="textAreaLeft" fmla="*/ 0 w 56880"/>
                      <a:gd name="textAreaRight" fmla="*/ 57240 w 56880"/>
                      <a:gd name="textAreaTop" fmla="*/ 0 h 31680"/>
                      <a:gd name="textAreaBottom" fmla="*/ 32040 h 31680"/>
                    </a:gdLst>
                    <a:ahLst/>
                    <a:rect l="textAreaLeft" t="textAreaTop" r="textAreaRight" b="textAreaBottom"/>
                    <a:pathLst>
                      <a:path w="20682" h="19991">
                        <a:moveTo>
                          <a:pt x="7130" y="14606"/>
                        </a:moveTo>
                        <a:cubicBezTo>
                          <a:pt x="7550" y="13898"/>
                          <a:pt x="7969" y="13190"/>
                          <a:pt x="8388" y="13190"/>
                        </a:cubicBezTo>
                        <a:cubicBezTo>
                          <a:pt x="9227" y="12482"/>
                          <a:pt x="10066" y="14606"/>
                          <a:pt x="10905" y="16023"/>
                        </a:cubicBezTo>
                        <a:cubicBezTo>
                          <a:pt x="12792" y="19918"/>
                          <a:pt x="16777" y="21334"/>
                          <a:pt x="18874" y="18501"/>
                        </a:cubicBezTo>
                        <a:cubicBezTo>
                          <a:pt x="21600" y="15314"/>
                          <a:pt x="21181" y="7170"/>
                          <a:pt x="18035" y="5754"/>
                        </a:cubicBezTo>
                        <a:cubicBezTo>
                          <a:pt x="16777" y="5045"/>
                          <a:pt x="15309" y="5754"/>
                          <a:pt x="14470" y="5045"/>
                        </a:cubicBezTo>
                        <a:cubicBezTo>
                          <a:pt x="12792" y="4337"/>
                          <a:pt x="12373" y="1504"/>
                          <a:pt x="10485" y="442"/>
                        </a:cubicBezTo>
                        <a:cubicBezTo>
                          <a:pt x="9227" y="-266"/>
                          <a:pt x="5662" y="-266"/>
                          <a:pt x="4404" y="1504"/>
                        </a:cubicBezTo>
                        <a:cubicBezTo>
                          <a:pt x="2097" y="2921"/>
                          <a:pt x="419" y="5754"/>
                          <a:pt x="0" y="9649"/>
                        </a:cubicBezTo>
                        <a:cubicBezTo>
                          <a:pt x="3146" y="7878"/>
                          <a:pt x="5243" y="16023"/>
                          <a:pt x="7130" y="14606"/>
                        </a:cubicBezTo>
                      </a:path>
                    </a:pathLst>
                  </a:custGeom>
                  <a:solidFill>
                    <a:srgbClr val="ffffff"/>
                  </a:solidFill>
                  <a:ln w="12700">
                    <a:noFill/>
                  </a:ln>
                </p:spPr>
                <p:style>
                  <a:lnRef idx="0"/>
                  <a:fillRef idx="0"/>
                  <a:effectRef idx="0"/>
                  <a:fontRef idx="minor"/>
                </p:style>
                <p:txBody>
                  <a:bodyPr numCol="1" spcCol="0" lIns="45720" rIns="45720" tIns="15840" bIns="15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46" name="Shape 3186"/>
                  <p:cNvSpPr/>
                  <p:nvPr/>
                </p:nvSpPr>
                <p:spPr>
                  <a:xfrm>
                    <a:off x="1930320" y="3709080"/>
                    <a:ext cx="3656160" cy="3434760"/>
                  </a:xfrm>
                  <a:custGeom>
                    <a:avLst/>
                    <a:gdLst>
                      <a:gd name="textAreaLeft" fmla="*/ 0 w 3656160"/>
                      <a:gd name="textAreaRight" fmla="*/ 3656520 w 3656160"/>
                      <a:gd name="textAreaTop" fmla="*/ 0 h 3434760"/>
                      <a:gd name="textAreaBottom" fmla="*/ 3435120 h 343476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3"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47" name="Shape 3187"/>
                  <p:cNvSpPr/>
                  <p:nvPr/>
                </p:nvSpPr>
                <p:spPr>
                  <a:xfrm>
                    <a:off x="4646160" y="6599520"/>
                    <a:ext cx="322560" cy="124920"/>
                  </a:xfrm>
                  <a:custGeom>
                    <a:avLst/>
                    <a:gdLst>
                      <a:gd name="textAreaLeft" fmla="*/ 0 w 322560"/>
                      <a:gd name="textAreaRight" fmla="*/ 322920 w 322560"/>
                      <a:gd name="textAreaTop" fmla="*/ 0 h 124920"/>
                      <a:gd name="textAreaBottom" fmla="*/ 125280 h 12492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48" name="Shape 3188"/>
                  <p:cNvSpPr/>
                  <p:nvPr/>
                </p:nvSpPr>
                <p:spPr>
                  <a:xfrm>
                    <a:off x="4852080" y="6765480"/>
                    <a:ext cx="75600" cy="36720"/>
                  </a:xfrm>
                  <a:custGeom>
                    <a:avLst/>
                    <a:gdLst>
                      <a:gd name="textAreaLeft" fmla="*/ 0 w 75600"/>
                      <a:gd name="textAreaRight" fmla="*/ 75960 w 75600"/>
                      <a:gd name="textAreaTop" fmla="*/ 0 h 36720"/>
                      <a:gd name="textAreaBottom" fmla="*/ 37080 h 3672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ffffff"/>
                  </a:solidFill>
                  <a:ln w="12700">
                    <a:noFill/>
                  </a:ln>
                </p:spPr>
                <p:style>
                  <a:lnRef idx="0"/>
                  <a:fillRef idx="0"/>
                  <a:effectRef idx="0"/>
                  <a:fontRef idx="minor"/>
                </p:style>
                <p:txBody>
                  <a:bodyPr numCol="1" spcCol="0" lIns="45720" rIns="45720" tIns="18360" bIns="18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49" name="Shape 3189"/>
                  <p:cNvSpPr/>
                  <p:nvPr/>
                </p:nvSpPr>
                <p:spPr>
                  <a:xfrm>
                    <a:off x="4977000" y="6718320"/>
                    <a:ext cx="214200" cy="69840"/>
                  </a:xfrm>
                  <a:custGeom>
                    <a:avLst/>
                    <a:gdLst>
                      <a:gd name="textAreaLeft" fmla="*/ 0 w 214200"/>
                      <a:gd name="textAreaRight" fmla="*/ 214560 w 214200"/>
                      <a:gd name="textAreaTop" fmla="*/ 0 h 69840"/>
                      <a:gd name="textAreaBottom" fmla="*/ 70200 h 6984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ffffff"/>
                  </a:solidFill>
                  <a:ln w="12700">
                    <a:noFill/>
                  </a:ln>
                </p:spPr>
                <p:style>
                  <a:lnRef idx="0"/>
                  <a:fillRef idx="0"/>
                  <a:effectRef idx="0"/>
                  <a:fontRef idx="minor"/>
                </p:style>
                <p:txBody>
                  <a:bodyPr numCol="1" spcCol="0" lIns="45720" rIns="45720" tIns="34920" bIns="34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0" name="Shape 3190"/>
                  <p:cNvSpPr/>
                  <p:nvPr/>
                </p:nvSpPr>
                <p:spPr>
                  <a:xfrm>
                    <a:off x="5205600" y="6768720"/>
                    <a:ext cx="86760" cy="32760"/>
                  </a:xfrm>
                  <a:custGeom>
                    <a:avLst/>
                    <a:gdLst>
                      <a:gd name="textAreaLeft" fmla="*/ 0 w 86760"/>
                      <a:gd name="textAreaRight" fmla="*/ 87120 w 86760"/>
                      <a:gd name="textAreaTop" fmla="*/ 0 h 32760"/>
                      <a:gd name="textAreaBottom" fmla="*/ 33120 h 3276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ffffff"/>
                  </a:solidFill>
                  <a:ln w="12700">
                    <a:noFill/>
                  </a:ln>
                </p:spPr>
                <p:style>
                  <a:lnRef idx="0"/>
                  <a:fillRef idx="0"/>
                  <a:effectRef idx="0"/>
                  <a:fontRef idx="minor"/>
                </p:style>
                <p:txBody>
                  <a:bodyPr numCol="1" spcCol="0" lIns="45720" rIns="45720" tIns="16560" bIns="16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1" name="Shape 3191"/>
                  <p:cNvSpPr/>
                  <p:nvPr/>
                </p:nvSpPr>
                <p:spPr>
                  <a:xfrm>
                    <a:off x="5466960" y="5401440"/>
                    <a:ext cx="216720" cy="266400"/>
                  </a:xfrm>
                  <a:custGeom>
                    <a:avLst/>
                    <a:gdLst>
                      <a:gd name="textAreaLeft" fmla="*/ 0 w 216720"/>
                      <a:gd name="textAreaRight" fmla="*/ 217080 w 216720"/>
                      <a:gd name="textAreaTop" fmla="*/ 0 h 266400"/>
                      <a:gd name="textAreaBottom" fmla="*/ 266760 h 26640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2" name="Shape 3192"/>
                  <p:cNvSpPr/>
                  <p:nvPr/>
                </p:nvSpPr>
                <p:spPr>
                  <a:xfrm>
                    <a:off x="4785480" y="5115960"/>
                    <a:ext cx="56880" cy="81000"/>
                  </a:xfrm>
                  <a:custGeom>
                    <a:avLst/>
                    <a:gdLst>
                      <a:gd name="textAreaLeft" fmla="*/ 0 w 56880"/>
                      <a:gd name="textAreaRight" fmla="*/ 57240 w 56880"/>
                      <a:gd name="textAreaTop" fmla="*/ 0 h 81000"/>
                      <a:gd name="textAreaBottom" fmla="*/ 81360 h 8100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ffffff"/>
                  </a:solidFill>
                  <a:ln w="12700">
                    <a:noFill/>
                  </a:ln>
                </p:spPr>
                <p:style>
                  <a:lnRef idx="0"/>
                  <a:fillRef idx="0"/>
                  <a:effectRef idx="0"/>
                  <a:fontRef idx="minor"/>
                </p:style>
                <p:txBody>
                  <a:bodyPr numCol="1" spcCol="0" lIns="45720" rIns="45720" tIns="40680" bIns="40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3" name="Shape 3193"/>
                  <p:cNvSpPr/>
                  <p:nvPr/>
                </p:nvSpPr>
                <p:spPr>
                  <a:xfrm>
                    <a:off x="4768560" y="4929120"/>
                    <a:ext cx="34920" cy="69120"/>
                  </a:xfrm>
                  <a:custGeom>
                    <a:avLst/>
                    <a:gdLst>
                      <a:gd name="textAreaLeft" fmla="*/ 0 w 34920"/>
                      <a:gd name="textAreaRight" fmla="*/ 35280 w 34920"/>
                      <a:gd name="textAreaTop" fmla="*/ 0 h 69120"/>
                      <a:gd name="textAreaBottom" fmla="*/ 69480 h 6912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ffffff"/>
                  </a:solidFill>
                  <a:ln w="12700">
                    <a:noFill/>
                  </a:ln>
                </p:spPr>
                <p:style>
                  <a:lnRef idx="0"/>
                  <a:fillRef idx="0"/>
                  <a:effectRef idx="0"/>
                  <a:fontRef idx="minor"/>
                </p:style>
                <p:txBody>
                  <a:bodyPr numCol="1" spcCol="0" lIns="45720" rIns="45720" tIns="34560" bIns="34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4" name="Shape 3194"/>
                  <p:cNvSpPr/>
                  <p:nvPr/>
                </p:nvSpPr>
                <p:spPr>
                  <a:xfrm>
                    <a:off x="4786920" y="4771800"/>
                    <a:ext cx="42840" cy="63720"/>
                  </a:xfrm>
                  <a:custGeom>
                    <a:avLst/>
                    <a:gdLst>
                      <a:gd name="textAreaLeft" fmla="*/ 0 w 42840"/>
                      <a:gd name="textAreaRight" fmla="*/ 43200 w 42840"/>
                      <a:gd name="textAreaTop" fmla="*/ 0 h 63720"/>
                      <a:gd name="textAreaBottom" fmla="*/ 64080 h 6372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ffffff"/>
                  </a:solidFill>
                  <a:ln w="12700">
                    <a:noFill/>
                  </a:ln>
                </p:spPr>
                <p:style>
                  <a:lnRef idx="0"/>
                  <a:fillRef idx="0"/>
                  <a:effectRef idx="0"/>
                  <a:fontRef idx="minor"/>
                </p:style>
                <p:txBody>
                  <a:bodyPr numCol="1" spcCol="0" lIns="45720" rIns="45720" tIns="32040" bIns="32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5" name="Shape 3195"/>
                  <p:cNvSpPr/>
                  <p:nvPr/>
                </p:nvSpPr>
                <p:spPr>
                  <a:xfrm>
                    <a:off x="5166360" y="4894200"/>
                    <a:ext cx="32040" cy="33120"/>
                  </a:xfrm>
                  <a:custGeom>
                    <a:avLst/>
                    <a:gdLst>
                      <a:gd name="textAreaLeft" fmla="*/ 0 w 32040"/>
                      <a:gd name="textAreaRight" fmla="*/ 32400 w 32040"/>
                      <a:gd name="textAreaTop" fmla="*/ 0 h 33120"/>
                      <a:gd name="textAreaBottom" fmla="*/ 33480 h 3312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ffffff"/>
                  </a:solidFill>
                  <a:ln w="12700">
                    <a:noFill/>
                  </a:ln>
                </p:spPr>
                <p:style>
                  <a:lnRef idx="0"/>
                  <a:fillRef idx="0"/>
                  <a:effectRef idx="0"/>
                  <a:fontRef idx="minor"/>
                </p:style>
                <p:txBody>
                  <a:bodyPr numCol="1" spcCol="0" lIns="45720" rIns="45720" tIns="16560" bIns="16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6" name="Shape 3196"/>
                  <p:cNvSpPr/>
                  <p:nvPr/>
                </p:nvSpPr>
                <p:spPr>
                  <a:xfrm>
                    <a:off x="4555080" y="4510080"/>
                    <a:ext cx="239040" cy="222480"/>
                  </a:xfrm>
                  <a:custGeom>
                    <a:avLst/>
                    <a:gdLst>
                      <a:gd name="textAreaLeft" fmla="*/ 0 w 239040"/>
                      <a:gd name="textAreaRight" fmla="*/ 239400 w 239040"/>
                      <a:gd name="textAreaTop" fmla="*/ 0 h 222480"/>
                      <a:gd name="textAreaBottom" fmla="*/ 222840 h 22248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7" name="Shape 3197"/>
                  <p:cNvSpPr/>
                  <p:nvPr/>
                </p:nvSpPr>
                <p:spPr>
                  <a:xfrm>
                    <a:off x="4656240" y="4730400"/>
                    <a:ext cx="83160" cy="65520"/>
                  </a:xfrm>
                  <a:custGeom>
                    <a:avLst/>
                    <a:gdLst>
                      <a:gd name="textAreaLeft" fmla="*/ 0 w 83160"/>
                      <a:gd name="textAreaRight" fmla="*/ 83520 w 83160"/>
                      <a:gd name="textAreaTop" fmla="*/ 0 h 65520"/>
                      <a:gd name="textAreaBottom" fmla="*/ 65880 h 6552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ffffff"/>
                  </a:solidFill>
                  <a:ln w="12700">
                    <a:noFill/>
                  </a:ln>
                </p:spPr>
                <p:style>
                  <a:lnRef idx="0"/>
                  <a:fillRef idx="0"/>
                  <a:effectRef idx="0"/>
                  <a:fontRef idx="minor"/>
                </p:style>
                <p:txBody>
                  <a:bodyPr numCol="1" spcCol="0" lIns="45720" rIns="45720" tIns="32760" bIns="32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8" name="Shape 3198"/>
                  <p:cNvSpPr/>
                  <p:nvPr/>
                </p:nvSpPr>
                <p:spPr>
                  <a:xfrm>
                    <a:off x="4880160" y="4314240"/>
                    <a:ext cx="81000" cy="91800"/>
                  </a:xfrm>
                  <a:custGeom>
                    <a:avLst/>
                    <a:gdLst>
                      <a:gd name="textAreaLeft" fmla="*/ 0 w 81000"/>
                      <a:gd name="textAreaRight" fmla="*/ 81360 w 81000"/>
                      <a:gd name="textAreaTop" fmla="*/ 0 h 91800"/>
                      <a:gd name="textAreaBottom" fmla="*/ 92160 h 9180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59" name="Shape 3199"/>
                  <p:cNvSpPr/>
                  <p:nvPr/>
                </p:nvSpPr>
                <p:spPr>
                  <a:xfrm>
                    <a:off x="4820760" y="4195080"/>
                    <a:ext cx="28800" cy="73440"/>
                  </a:xfrm>
                  <a:custGeom>
                    <a:avLst/>
                    <a:gdLst>
                      <a:gd name="textAreaLeft" fmla="*/ 0 w 28800"/>
                      <a:gd name="textAreaRight" fmla="*/ 29160 w 28800"/>
                      <a:gd name="textAreaTop" fmla="*/ 0 h 73440"/>
                      <a:gd name="textAreaBottom" fmla="*/ 73800 h 7344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ffffff"/>
                  </a:solidFill>
                  <a:ln w="12700">
                    <a:noFill/>
                  </a:ln>
                </p:spPr>
                <p:style>
                  <a:lnRef idx="0"/>
                  <a:fillRef idx="0"/>
                  <a:effectRef idx="0"/>
                  <a:fontRef idx="minor"/>
                </p:style>
                <p:txBody>
                  <a:bodyPr numCol="1" spcCol="0" lIns="45720" rIns="45720" tIns="36720" bIns="36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0" name="Shape 3200"/>
                  <p:cNvSpPr/>
                  <p:nvPr/>
                </p:nvSpPr>
                <p:spPr>
                  <a:xfrm>
                    <a:off x="4887720" y="4212720"/>
                    <a:ext cx="29880" cy="56880"/>
                  </a:xfrm>
                  <a:custGeom>
                    <a:avLst/>
                    <a:gdLst>
                      <a:gd name="textAreaLeft" fmla="*/ 0 w 29880"/>
                      <a:gd name="textAreaRight" fmla="*/ 30240 w 29880"/>
                      <a:gd name="textAreaTop" fmla="*/ 0 h 56880"/>
                      <a:gd name="textAreaBottom" fmla="*/ 57240 h 5688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ffffff"/>
                  </a:solidFill>
                  <a:ln w="12700">
                    <a:noFill/>
                  </a:ln>
                </p:spPr>
                <p:style>
                  <a:lnRef idx="0"/>
                  <a:fillRef idx="0"/>
                  <a:effectRef idx="0"/>
                  <a:fontRef idx="minor"/>
                </p:style>
                <p:txBody>
                  <a:bodyPr numCol="1" spcCol="0" lIns="45720" rIns="45720" tIns="28440" bIns="28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1" name="Shape 3201"/>
                  <p:cNvSpPr/>
                  <p:nvPr/>
                </p:nvSpPr>
                <p:spPr>
                  <a:xfrm>
                    <a:off x="4968720" y="4329000"/>
                    <a:ext cx="42120" cy="38880"/>
                  </a:xfrm>
                  <a:custGeom>
                    <a:avLst/>
                    <a:gdLst>
                      <a:gd name="textAreaLeft" fmla="*/ 0 w 42120"/>
                      <a:gd name="textAreaRight" fmla="*/ 42480 w 42120"/>
                      <a:gd name="textAreaTop" fmla="*/ 0 h 38880"/>
                      <a:gd name="textAreaBottom" fmla="*/ 39240 h 3888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ffffff"/>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2" name="Shape 3202"/>
                  <p:cNvSpPr/>
                  <p:nvPr/>
                </p:nvSpPr>
                <p:spPr>
                  <a:xfrm>
                    <a:off x="4846320" y="4680720"/>
                    <a:ext cx="36000" cy="46800"/>
                  </a:xfrm>
                  <a:custGeom>
                    <a:avLst/>
                    <a:gdLst>
                      <a:gd name="textAreaLeft" fmla="*/ 0 w 36000"/>
                      <a:gd name="textAreaRight" fmla="*/ 36360 w 36000"/>
                      <a:gd name="textAreaTop" fmla="*/ 0 h 46800"/>
                      <a:gd name="textAreaBottom" fmla="*/ 47160 h 4680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ffffff"/>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3" name="Shape 3203"/>
                  <p:cNvSpPr/>
                  <p:nvPr/>
                </p:nvSpPr>
                <p:spPr>
                  <a:xfrm>
                    <a:off x="5267160" y="4802400"/>
                    <a:ext cx="22680" cy="42120"/>
                  </a:xfrm>
                  <a:custGeom>
                    <a:avLst/>
                    <a:gdLst>
                      <a:gd name="textAreaLeft" fmla="*/ 0 w 22680"/>
                      <a:gd name="textAreaRight" fmla="*/ 23040 w 22680"/>
                      <a:gd name="textAreaTop" fmla="*/ 0 h 42120"/>
                      <a:gd name="textAreaBottom" fmla="*/ 42480 h 4212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ffffff"/>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4" name="Shape 3204"/>
                  <p:cNvSpPr/>
                  <p:nvPr/>
                </p:nvSpPr>
                <p:spPr>
                  <a:xfrm>
                    <a:off x="2367360" y="5027040"/>
                    <a:ext cx="83520" cy="100080"/>
                  </a:xfrm>
                  <a:custGeom>
                    <a:avLst/>
                    <a:gdLst>
                      <a:gd name="textAreaLeft" fmla="*/ 0 w 83520"/>
                      <a:gd name="textAreaRight" fmla="*/ 83880 w 83520"/>
                      <a:gd name="textAreaTop" fmla="*/ 0 h 100080"/>
                      <a:gd name="textAreaBottom" fmla="*/ 100440 h 10008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5" name="Shape 3205"/>
                  <p:cNvSpPr/>
                  <p:nvPr/>
                </p:nvSpPr>
                <p:spPr>
                  <a:xfrm>
                    <a:off x="2014200" y="5253480"/>
                    <a:ext cx="39960" cy="36720"/>
                  </a:xfrm>
                  <a:custGeom>
                    <a:avLst/>
                    <a:gdLst>
                      <a:gd name="textAreaLeft" fmla="*/ 0 w 39960"/>
                      <a:gd name="textAreaRight" fmla="*/ 40320 w 39960"/>
                      <a:gd name="textAreaTop" fmla="*/ 0 h 36720"/>
                      <a:gd name="textAreaBottom" fmla="*/ 37080 h 3672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ffffff"/>
                  </a:solidFill>
                  <a:ln w="12700">
                    <a:noFill/>
                  </a:ln>
                </p:spPr>
                <p:style>
                  <a:lnRef idx="0"/>
                  <a:fillRef idx="0"/>
                  <a:effectRef idx="0"/>
                  <a:fontRef idx="minor"/>
                </p:style>
                <p:txBody>
                  <a:bodyPr numCol="1" spcCol="0" lIns="45720" rIns="45720" tIns="18360" bIns="18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6" name="Shape 3206"/>
                  <p:cNvSpPr/>
                  <p:nvPr/>
                </p:nvSpPr>
                <p:spPr>
                  <a:xfrm>
                    <a:off x="3067920" y="5286240"/>
                    <a:ext cx="71280" cy="122040"/>
                  </a:xfrm>
                  <a:custGeom>
                    <a:avLst/>
                    <a:gdLst>
                      <a:gd name="textAreaLeft" fmla="*/ 0 w 71280"/>
                      <a:gd name="textAreaRight" fmla="*/ 71640 w 71280"/>
                      <a:gd name="textAreaTop" fmla="*/ 0 h 122040"/>
                      <a:gd name="textAreaBottom" fmla="*/ 122400 h 12204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7" name="Shape 3207"/>
                  <p:cNvSpPr/>
                  <p:nvPr/>
                </p:nvSpPr>
                <p:spPr>
                  <a:xfrm>
                    <a:off x="3317040" y="3673440"/>
                    <a:ext cx="330480" cy="380880"/>
                  </a:xfrm>
                  <a:custGeom>
                    <a:avLst/>
                    <a:gdLst>
                      <a:gd name="textAreaLeft" fmla="*/ 0 w 330480"/>
                      <a:gd name="textAreaRight" fmla="*/ 330840 w 330480"/>
                      <a:gd name="textAreaTop" fmla="*/ 0 h 380880"/>
                      <a:gd name="textAreaBottom" fmla="*/ 381240 h 38088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8" name="Shape 3208"/>
                  <p:cNvSpPr/>
                  <p:nvPr/>
                </p:nvSpPr>
                <p:spPr>
                  <a:xfrm>
                    <a:off x="4057920" y="3714840"/>
                    <a:ext cx="202680" cy="313560"/>
                  </a:xfrm>
                  <a:custGeom>
                    <a:avLst/>
                    <a:gdLst>
                      <a:gd name="textAreaLeft" fmla="*/ 0 w 202680"/>
                      <a:gd name="textAreaRight" fmla="*/ 203040 w 202680"/>
                      <a:gd name="textAreaTop" fmla="*/ 0 h 313560"/>
                      <a:gd name="textAreaBottom" fmla="*/ 313920 h 31356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69" name="Shape 3209"/>
                  <p:cNvSpPr/>
                  <p:nvPr/>
                </p:nvSpPr>
                <p:spPr>
                  <a:xfrm>
                    <a:off x="4115520" y="4069440"/>
                    <a:ext cx="33480" cy="58680"/>
                  </a:xfrm>
                  <a:custGeom>
                    <a:avLst/>
                    <a:gdLst>
                      <a:gd name="textAreaLeft" fmla="*/ 0 w 33480"/>
                      <a:gd name="textAreaRight" fmla="*/ 33840 w 33480"/>
                      <a:gd name="textAreaTop" fmla="*/ 0 h 58680"/>
                      <a:gd name="textAreaBottom" fmla="*/ 59040 h 5868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ffffff"/>
                  </a:solidFill>
                  <a:ln w="12700">
                    <a:noFill/>
                  </a:ln>
                </p:spPr>
                <p:style>
                  <a:lnRef idx="0"/>
                  <a:fillRef idx="0"/>
                  <a:effectRef idx="0"/>
                  <a:fontRef idx="minor"/>
                </p:style>
                <p:txBody>
                  <a:bodyPr numCol="1" spcCol="0" lIns="45720" rIns="45720" tIns="29520" bIns="29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0" name="Shape 3210"/>
                  <p:cNvSpPr/>
                  <p:nvPr/>
                </p:nvSpPr>
                <p:spPr>
                  <a:xfrm>
                    <a:off x="3389400" y="3255840"/>
                    <a:ext cx="249480" cy="255960"/>
                  </a:xfrm>
                  <a:custGeom>
                    <a:avLst/>
                    <a:gdLst>
                      <a:gd name="textAreaLeft" fmla="*/ 0 w 249480"/>
                      <a:gd name="textAreaRight" fmla="*/ 249840 w 249480"/>
                      <a:gd name="textAreaTop" fmla="*/ 0 h 255960"/>
                      <a:gd name="textAreaBottom" fmla="*/ 256320 h 25596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1" name="Shape 3211"/>
                  <p:cNvSpPr/>
                  <p:nvPr/>
                </p:nvSpPr>
                <p:spPr>
                  <a:xfrm>
                    <a:off x="3510720" y="3463560"/>
                    <a:ext cx="68040" cy="81000"/>
                  </a:xfrm>
                  <a:custGeom>
                    <a:avLst/>
                    <a:gdLst>
                      <a:gd name="textAreaLeft" fmla="*/ 0 w 68040"/>
                      <a:gd name="textAreaRight" fmla="*/ 68400 w 68040"/>
                      <a:gd name="textAreaTop" fmla="*/ 0 h 81000"/>
                      <a:gd name="textAreaBottom" fmla="*/ 81360 h 8100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ffffff"/>
                  </a:solidFill>
                  <a:ln w="12700">
                    <a:noFill/>
                  </a:ln>
                </p:spPr>
                <p:style>
                  <a:lnRef idx="0"/>
                  <a:fillRef idx="0"/>
                  <a:effectRef idx="0"/>
                  <a:fontRef idx="minor"/>
                </p:style>
                <p:txBody>
                  <a:bodyPr numCol="1" spcCol="0" lIns="45720" rIns="45720" tIns="40680" bIns="40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2" name="Shape 3212"/>
                  <p:cNvSpPr/>
                  <p:nvPr/>
                </p:nvSpPr>
                <p:spPr>
                  <a:xfrm>
                    <a:off x="3654000" y="3180240"/>
                    <a:ext cx="48960" cy="61920"/>
                  </a:xfrm>
                  <a:custGeom>
                    <a:avLst/>
                    <a:gdLst>
                      <a:gd name="textAreaLeft" fmla="*/ 0 w 48960"/>
                      <a:gd name="textAreaRight" fmla="*/ 49320 w 48960"/>
                      <a:gd name="textAreaTop" fmla="*/ 0 h 61920"/>
                      <a:gd name="textAreaBottom" fmla="*/ 62280 h 6192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ffffff"/>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3" name="Shape 3213"/>
                  <p:cNvSpPr/>
                  <p:nvPr/>
                </p:nvSpPr>
                <p:spPr>
                  <a:xfrm>
                    <a:off x="3659400" y="3362040"/>
                    <a:ext cx="52200" cy="28080"/>
                  </a:xfrm>
                  <a:custGeom>
                    <a:avLst/>
                    <a:gdLst>
                      <a:gd name="textAreaLeft" fmla="*/ 0 w 52200"/>
                      <a:gd name="textAreaRight" fmla="*/ 52560 w 52200"/>
                      <a:gd name="textAreaTop" fmla="*/ 0 h 28080"/>
                      <a:gd name="textAreaBottom" fmla="*/ 28440 h 2808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ffffff"/>
                  </a:solidFill>
                  <a:ln w="12700">
                    <a:noFill/>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4" name="Shape 3214"/>
                  <p:cNvSpPr/>
                  <p:nvPr/>
                </p:nvSpPr>
                <p:spPr>
                  <a:xfrm>
                    <a:off x="3580560" y="3353400"/>
                    <a:ext cx="389520" cy="329040"/>
                  </a:xfrm>
                  <a:custGeom>
                    <a:avLst/>
                    <a:gdLst>
                      <a:gd name="textAreaLeft" fmla="*/ 0 w 389520"/>
                      <a:gd name="textAreaRight" fmla="*/ 389880 w 389520"/>
                      <a:gd name="textAreaTop" fmla="*/ 0 h 329040"/>
                      <a:gd name="textAreaBottom" fmla="*/ 329400 h 32904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5" name="Shape 3215"/>
                  <p:cNvSpPr/>
                  <p:nvPr/>
                </p:nvSpPr>
                <p:spPr>
                  <a:xfrm>
                    <a:off x="3986280" y="3553560"/>
                    <a:ext cx="49320" cy="65160"/>
                  </a:xfrm>
                  <a:custGeom>
                    <a:avLst/>
                    <a:gdLst>
                      <a:gd name="textAreaLeft" fmla="*/ 0 w 49320"/>
                      <a:gd name="textAreaRight" fmla="*/ 49680 w 49320"/>
                      <a:gd name="textAreaTop" fmla="*/ 0 h 65160"/>
                      <a:gd name="textAreaBottom" fmla="*/ 65520 h 6516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ffffff"/>
                  </a:solidFill>
                  <a:ln w="12700">
                    <a:noFill/>
                  </a:ln>
                </p:spPr>
                <p:style>
                  <a:lnRef idx="0"/>
                  <a:fillRef idx="0"/>
                  <a:effectRef idx="0"/>
                  <a:fontRef idx="minor"/>
                </p:style>
                <p:txBody>
                  <a:bodyPr numCol="1" spcCol="0" lIns="45720" rIns="45720" tIns="32760" bIns="32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6" name="Shape 3216"/>
                  <p:cNvSpPr/>
                  <p:nvPr/>
                </p:nvSpPr>
                <p:spPr>
                  <a:xfrm>
                    <a:off x="3715560" y="3171240"/>
                    <a:ext cx="121320" cy="133560"/>
                  </a:xfrm>
                  <a:custGeom>
                    <a:avLst/>
                    <a:gdLst>
                      <a:gd name="textAreaLeft" fmla="*/ 0 w 121320"/>
                      <a:gd name="textAreaRight" fmla="*/ 121680 w 121320"/>
                      <a:gd name="textAreaTop" fmla="*/ 0 h 133560"/>
                      <a:gd name="textAreaBottom" fmla="*/ 133920 h 13356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7" name="Shape 3217"/>
                  <p:cNvSpPr/>
                  <p:nvPr/>
                </p:nvSpPr>
                <p:spPr>
                  <a:xfrm>
                    <a:off x="3685680" y="3063960"/>
                    <a:ext cx="156960" cy="97200"/>
                  </a:xfrm>
                  <a:custGeom>
                    <a:avLst/>
                    <a:gdLst>
                      <a:gd name="textAreaLeft" fmla="*/ 0 w 156960"/>
                      <a:gd name="textAreaRight" fmla="*/ 157320 w 156960"/>
                      <a:gd name="textAreaTop" fmla="*/ 0 h 97200"/>
                      <a:gd name="textAreaBottom" fmla="*/ 97560 h 9720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8" name="Shape 3218"/>
                  <p:cNvSpPr/>
                  <p:nvPr/>
                </p:nvSpPr>
                <p:spPr>
                  <a:xfrm>
                    <a:off x="3960000" y="2970360"/>
                    <a:ext cx="226080" cy="258840"/>
                  </a:xfrm>
                  <a:custGeom>
                    <a:avLst/>
                    <a:gdLst>
                      <a:gd name="textAreaLeft" fmla="*/ 0 w 226080"/>
                      <a:gd name="textAreaRight" fmla="*/ 226440 w 226080"/>
                      <a:gd name="textAreaTop" fmla="*/ 0 h 258840"/>
                      <a:gd name="textAreaBottom" fmla="*/ 259200 h 25884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79" name="Shape 3219"/>
                  <p:cNvSpPr/>
                  <p:nvPr/>
                </p:nvSpPr>
                <p:spPr>
                  <a:xfrm>
                    <a:off x="4059000" y="3205440"/>
                    <a:ext cx="53280" cy="51840"/>
                  </a:xfrm>
                  <a:custGeom>
                    <a:avLst/>
                    <a:gdLst>
                      <a:gd name="textAreaLeft" fmla="*/ 0 w 53280"/>
                      <a:gd name="textAreaRight" fmla="*/ 53640 w 53280"/>
                      <a:gd name="textAreaTop" fmla="*/ 0 h 51840"/>
                      <a:gd name="textAreaBottom" fmla="*/ 52200 h 5184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ffffff"/>
                  </a:solidFill>
                  <a:ln w="12700">
                    <a:noFill/>
                  </a:ln>
                </p:spPr>
                <p:style>
                  <a:lnRef idx="0"/>
                  <a:fillRef idx="0"/>
                  <a:effectRef idx="0"/>
                  <a:fontRef idx="minor"/>
                </p:style>
                <p:txBody>
                  <a:bodyPr numCol="1" spcCol="0" lIns="45720" rIns="45720" tIns="25920" bIns="25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0" name="Shape 3220"/>
                  <p:cNvSpPr/>
                  <p:nvPr/>
                </p:nvSpPr>
                <p:spPr>
                  <a:xfrm>
                    <a:off x="3943440" y="3229560"/>
                    <a:ext cx="84600" cy="110160"/>
                  </a:xfrm>
                  <a:custGeom>
                    <a:avLst/>
                    <a:gdLst>
                      <a:gd name="textAreaLeft" fmla="*/ 0 w 84600"/>
                      <a:gd name="textAreaRight" fmla="*/ 84960 w 84600"/>
                      <a:gd name="textAreaTop" fmla="*/ 0 h 110160"/>
                      <a:gd name="textAreaBottom" fmla="*/ 110520 h 11016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1" name="Shape 3221"/>
                  <p:cNvSpPr/>
                  <p:nvPr/>
                </p:nvSpPr>
                <p:spPr>
                  <a:xfrm>
                    <a:off x="3994920" y="3378240"/>
                    <a:ext cx="257760" cy="237600"/>
                  </a:xfrm>
                  <a:custGeom>
                    <a:avLst/>
                    <a:gdLst>
                      <a:gd name="textAreaLeft" fmla="*/ 0 w 257760"/>
                      <a:gd name="textAreaRight" fmla="*/ 258120 w 257760"/>
                      <a:gd name="textAreaTop" fmla="*/ 0 h 237600"/>
                      <a:gd name="textAreaBottom" fmla="*/ 237960 h 23760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2" name="Shape 3222"/>
                  <p:cNvSpPr/>
                  <p:nvPr/>
                </p:nvSpPr>
                <p:spPr>
                  <a:xfrm>
                    <a:off x="4239360" y="3332880"/>
                    <a:ext cx="571680" cy="352800"/>
                  </a:xfrm>
                  <a:custGeom>
                    <a:avLst/>
                    <a:gdLst>
                      <a:gd name="textAreaLeft" fmla="*/ 0 w 571680"/>
                      <a:gd name="textAreaRight" fmla="*/ 572040 w 571680"/>
                      <a:gd name="textAreaTop" fmla="*/ 0 h 352800"/>
                      <a:gd name="textAreaBottom" fmla="*/ 353160 h 35280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3" name="Shape 3223"/>
                  <p:cNvSpPr/>
                  <p:nvPr/>
                </p:nvSpPr>
                <p:spPr>
                  <a:xfrm>
                    <a:off x="4188600" y="3066840"/>
                    <a:ext cx="179280" cy="216720"/>
                  </a:xfrm>
                  <a:custGeom>
                    <a:avLst/>
                    <a:gdLst>
                      <a:gd name="textAreaLeft" fmla="*/ 0 w 179280"/>
                      <a:gd name="textAreaRight" fmla="*/ 179640 w 179280"/>
                      <a:gd name="textAreaTop" fmla="*/ 0 h 216720"/>
                      <a:gd name="textAreaBottom" fmla="*/ 217080 h 21672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4" name="Shape 3224"/>
                  <p:cNvSpPr/>
                  <p:nvPr/>
                </p:nvSpPr>
                <p:spPr>
                  <a:xfrm>
                    <a:off x="4126680" y="2810520"/>
                    <a:ext cx="71640" cy="120240"/>
                  </a:xfrm>
                  <a:custGeom>
                    <a:avLst/>
                    <a:gdLst>
                      <a:gd name="textAreaLeft" fmla="*/ 0 w 71640"/>
                      <a:gd name="textAreaRight" fmla="*/ 72000 w 71640"/>
                      <a:gd name="textAreaTop" fmla="*/ 0 h 120240"/>
                      <a:gd name="textAreaBottom" fmla="*/ 120600 h 12024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5" name="Shape 3225"/>
                  <p:cNvSpPr/>
                  <p:nvPr/>
                </p:nvSpPr>
                <p:spPr>
                  <a:xfrm>
                    <a:off x="4429080" y="3247200"/>
                    <a:ext cx="45000" cy="70920"/>
                  </a:xfrm>
                  <a:custGeom>
                    <a:avLst/>
                    <a:gdLst>
                      <a:gd name="textAreaLeft" fmla="*/ 0 w 45000"/>
                      <a:gd name="textAreaRight" fmla="*/ 45360 w 45000"/>
                      <a:gd name="textAreaTop" fmla="*/ 0 h 70920"/>
                      <a:gd name="textAreaBottom" fmla="*/ 71280 h 7092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ffffff"/>
                  </a:solidFill>
                  <a:ln w="12700">
                    <a:noFill/>
                  </a:ln>
                </p:spPr>
                <p:style>
                  <a:lnRef idx="0"/>
                  <a:fillRef idx="0"/>
                  <a:effectRef idx="0"/>
                  <a:fontRef idx="minor"/>
                </p:style>
                <p:txBody>
                  <a:bodyPr numCol="1" spcCol="0" lIns="45720" rIns="45720" tIns="35640" bIns="35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6" name="Shape 3226"/>
                  <p:cNvSpPr/>
                  <p:nvPr/>
                </p:nvSpPr>
                <p:spPr>
                  <a:xfrm>
                    <a:off x="4249800" y="2170800"/>
                    <a:ext cx="1145520" cy="1292400"/>
                  </a:xfrm>
                  <a:custGeom>
                    <a:avLst/>
                    <a:gdLst>
                      <a:gd name="textAreaLeft" fmla="*/ 0 w 1145520"/>
                      <a:gd name="textAreaRight" fmla="*/ 1145880 w 1145520"/>
                      <a:gd name="textAreaTop" fmla="*/ 0 h 1292400"/>
                      <a:gd name="textAreaBottom" fmla="*/ 1292760 h 129240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6" y="428"/>
                        </a:cubicBezTo>
                        <a:cubicBezTo>
                          <a:pt x="16326"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7"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7" name="Shape 3227"/>
                  <p:cNvSpPr/>
                  <p:nvPr/>
                </p:nvSpPr>
                <p:spPr>
                  <a:xfrm>
                    <a:off x="5032800" y="2025720"/>
                    <a:ext cx="1992960" cy="2924280"/>
                  </a:xfrm>
                  <a:custGeom>
                    <a:avLst/>
                    <a:gdLst>
                      <a:gd name="textAreaLeft" fmla="*/ 0 w 1992960"/>
                      <a:gd name="textAreaRight" fmla="*/ 1993320 w 1992960"/>
                      <a:gd name="textAreaTop" fmla="*/ 0 h 2924280"/>
                      <a:gd name="textAreaBottom" fmla="*/ 2924640 h 2924280"/>
                    </a:gdLst>
                    <a:ahLst/>
                    <a:rect l="textAreaLeft" t="textAreaTop" r="textAreaRight" b="textAreaBottom"/>
                    <a:pathLst>
                      <a:path w="21591" h="21592">
                        <a:moveTo>
                          <a:pt x="4094" y="3256"/>
                        </a:moveTo>
                        <a:cubicBezTo>
                          <a:pt x="3964" y="3201"/>
                          <a:pt x="3835" y="3327"/>
                          <a:pt x="3847" y="3424"/>
                        </a:cubicBezTo>
                        <a:cubicBezTo>
                          <a:pt x="3859" y="3521"/>
                          <a:pt x="3952" y="3618"/>
                          <a:pt x="3915" y="3714"/>
                        </a:cubicBezTo>
                        <a:cubicBezTo>
                          <a:pt x="3899" y="3750"/>
                          <a:pt x="3873" y="3783"/>
                          <a:pt x="3848" y="3815"/>
                        </a:cubicBezTo>
                        <a:cubicBezTo>
                          <a:pt x="3822" y="3848"/>
                          <a:pt x="3798" y="3880"/>
                          <a:pt x="3785" y="3916"/>
                        </a:cubicBezTo>
                        <a:cubicBezTo>
                          <a:pt x="3770" y="3950"/>
                          <a:pt x="3788" y="3992"/>
                          <a:pt x="3822" y="4021"/>
                        </a:cubicBezTo>
                        <a:cubicBezTo>
                          <a:pt x="3856" y="4051"/>
                          <a:pt x="3906" y="4068"/>
                          <a:pt x="3952" y="4051"/>
                        </a:cubicBezTo>
                        <a:cubicBezTo>
                          <a:pt x="3875" y="4120"/>
                          <a:pt x="3822" y="4204"/>
                          <a:pt x="3799" y="4293"/>
                        </a:cubicBezTo>
                        <a:cubicBezTo>
                          <a:pt x="3776" y="4382"/>
                          <a:pt x="3782" y="4476"/>
                          <a:pt x="3822" y="4564"/>
                        </a:cubicBezTo>
                        <a:cubicBezTo>
                          <a:pt x="3705" y="4631"/>
                          <a:pt x="3588" y="4438"/>
                          <a:pt x="3434" y="4438"/>
                        </a:cubicBezTo>
                        <a:cubicBezTo>
                          <a:pt x="3372" y="4438"/>
                          <a:pt x="3316" y="4476"/>
                          <a:pt x="3255" y="4492"/>
                        </a:cubicBezTo>
                        <a:cubicBezTo>
                          <a:pt x="3227" y="4505"/>
                          <a:pt x="3187" y="4511"/>
                          <a:pt x="3152" y="4509"/>
                        </a:cubicBezTo>
                        <a:cubicBezTo>
                          <a:pt x="3117" y="4507"/>
                          <a:pt x="3088" y="4497"/>
                          <a:pt x="3082" y="4476"/>
                        </a:cubicBezTo>
                        <a:cubicBezTo>
                          <a:pt x="3057" y="4532"/>
                          <a:pt x="3036" y="4589"/>
                          <a:pt x="3013" y="4646"/>
                        </a:cubicBezTo>
                        <a:cubicBezTo>
                          <a:pt x="2991" y="4703"/>
                          <a:pt x="2968" y="4760"/>
                          <a:pt x="2940" y="4816"/>
                        </a:cubicBezTo>
                        <a:cubicBezTo>
                          <a:pt x="2909" y="4791"/>
                          <a:pt x="2858" y="4780"/>
                          <a:pt x="2804" y="4780"/>
                        </a:cubicBezTo>
                        <a:cubicBezTo>
                          <a:pt x="2749" y="4781"/>
                          <a:pt x="2690" y="4793"/>
                          <a:pt x="2644" y="4816"/>
                        </a:cubicBezTo>
                        <a:cubicBezTo>
                          <a:pt x="2598" y="4837"/>
                          <a:pt x="2565" y="4869"/>
                          <a:pt x="2540" y="4903"/>
                        </a:cubicBezTo>
                        <a:cubicBezTo>
                          <a:pt x="2514" y="4936"/>
                          <a:pt x="2496" y="4972"/>
                          <a:pt x="2477" y="5001"/>
                        </a:cubicBezTo>
                        <a:cubicBezTo>
                          <a:pt x="2450" y="5041"/>
                          <a:pt x="2426" y="5083"/>
                          <a:pt x="2404" y="5126"/>
                        </a:cubicBezTo>
                        <a:cubicBezTo>
                          <a:pt x="2382" y="5168"/>
                          <a:pt x="2360" y="5210"/>
                          <a:pt x="2335" y="5250"/>
                        </a:cubicBezTo>
                        <a:cubicBezTo>
                          <a:pt x="2277" y="5250"/>
                          <a:pt x="2221" y="5250"/>
                          <a:pt x="2166" y="5251"/>
                        </a:cubicBezTo>
                        <a:cubicBezTo>
                          <a:pt x="2110" y="5252"/>
                          <a:pt x="2055" y="5254"/>
                          <a:pt x="1996" y="5258"/>
                        </a:cubicBezTo>
                        <a:cubicBezTo>
                          <a:pt x="2024" y="5321"/>
                          <a:pt x="2008" y="5385"/>
                          <a:pt x="1976" y="5448"/>
                        </a:cubicBezTo>
                        <a:cubicBezTo>
                          <a:pt x="1944" y="5510"/>
                          <a:pt x="1894" y="5571"/>
                          <a:pt x="1854" y="5628"/>
                        </a:cubicBezTo>
                        <a:cubicBezTo>
                          <a:pt x="1817" y="5687"/>
                          <a:pt x="1788" y="5758"/>
                          <a:pt x="1787" y="5823"/>
                        </a:cubicBezTo>
                        <a:cubicBezTo>
                          <a:pt x="1786" y="5889"/>
                          <a:pt x="1814" y="5950"/>
                          <a:pt x="1891" y="5990"/>
                        </a:cubicBezTo>
                        <a:cubicBezTo>
                          <a:pt x="1962" y="5990"/>
                          <a:pt x="2035" y="5995"/>
                          <a:pt x="2106" y="6006"/>
                        </a:cubicBezTo>
                        <a:cubicBezTo>
                          <a:pt x="2177" y="6016"/>
                          <a:pt x="2246" y="6032"/>
                          <a:pt x="2311" y="6053"/>
                        </a:cubicBezTo>
                        <a:cubicBezTo>
                          <a:pt x="2335" y="6036"/>
                          <a:pt x="2360" y="6020"/>
                          <a:pt x="2384" y="6005"/>
                        </a:cubicBezTo>
                        <a:cubicBezTo>
                          <a:pt x="2408" y="5989"/>
                          <a:pt x="2431" y="5973"/>
                          <a:pt x="2453" y="5956"/>
                        </a:cubicBezTo>
                        <a:cubicBezTo>
                          <a:pt x="2554" y="5973"/>
                          <a:pt x="2641" y="6026"/>
                          <a:pt x="2691" y="6092"/>
                        </a:cubicBezTo>
                        <a:cubicBezTo>
                          <a:pt x="2741" y="6158"/>
                          <a:pt x="2755" y="6238"/>
                          <a:pt x="2712" y="6310"/>
                        </a:cubicBezTo>
                        <a:cubicBezTo>
                          <a:pt x="2684" y="6314"/>
                          <a:pt x="2655" y="6318"/>
                          <a:pt x="2625" y="6322"/>
                        </a:cubicBezTo>
                        <a:cubicBezTo>
                          <a:pt x="2596" y="6326"/>
                          <a:pt x="2567" y="6331"/>
                          <a:pt x="2539" y="6335"/>
                        </a:cubicBezTo>
                        <a:cubicBezTo>
                          <a:pt x="2585" y="6362"/>
                          <a:pt x="2632" y="6391"/>
                          <a:pt x="2677" y="6419"/>
                        </a:cubicBezTo>
                        <a:cubicBezTo>
                          <a:pt x="2723" y="6447"/>
                          <a:pt x="2767" y="6476"/>
                          <a:pt x="2811" y="6503"/>
                        </a:cubicBezTo>
                        <a:cubicBezTo>
                          <a:pt x="2761" y="6503"/>
                          <a:pt x="2704" y="6507"/>
                          <a:pt x="2654" y="6520"/>
                        </a:cubicBezTo>
                        <a:cubicBezTo>
                          <a:pt x="2604" y="6534"/>
                          <a:pt x="2561" y="6556"/>
                          <a:pt x="2539" y="6591"/>
                        </a:cubicBezTo>
                        <a:cubicBezTo>
                          <a:pt x="2527" y="6608"/>
                          <a:pt x="2521" y="6626"/>
                          <a:pt x="2517" y="6645"/>
                        </a:cubicBezTo>
                        <a:cubicBezTo>
                          <a:pt x="2514" y="6664"/>
                          <a:pt x="2514" y="6684"/>
                          <a:pt x="2514" y="6705"/>
                        </a:cubicBezTo>
                        <a:cubicBezTo>
                          <a:pt x="2502" y="6865"/>
                          <a:pt x="2379" y="7011"/>
                          <a:pt x="2201" y="7110"/>
                        </a:cubicBezTo>
                        <a:cubicBezTo>
                          <a:pt x="2022" y="7210"/>
                          <a:pt x="1789" y="7262"/>
                          <a:pt x="1558" y="7235"/>
                        </a:cubicBezTo>
                        <a:cubicBezTo>
                          <a:pt x="1546" y="7258"/>
                          <a:pt x="1532" y="7282"/>
                          <a:pt x="1520" y="7307"/>
                        </a:cubicBezTo>
                        <a:cubicBezTo>
                          <a:pt x="1507" y="7331"/>
                          <a:pt x="1496" y="7355"/>
                          <a:pt x="1490" y="7378"/>
                        </a:cubicBezTo>
                        <a:cubicBezTo>
                          <a:pt x="1453" y="7378"/>
                          <a:pt x="1412" y="7374"/>
                          <a:pt x="1370" y="7367"/>
                        </a:cubicBezTo>
                        <a:cubicBezTo>
                          <a:pt x="1328" y="7360"/>
                          <a:pt x="1287" y="7351"/>
                          <a:pt x="1250" y="7340"/>
                        </a:cubicBezTo>
                        <a:cubicBezTo>
                          <a:pt x="1222" y="7408"/>
                          <a:pt x="1182" y="7470"/>
                          <a:pt x="1131" y="7526"/>
                        </a:cubicBezTo>
                        <a:cubicBezTo>
                          <a:pt x="1080" y="7582"/>
                          <a:pt x="1018" y="7633"/>
                          <a:pt x="947" y="7677"/>
                        </a:cubicBezTo>
                        <a:cubicBezTo>
                          <a:pt x="916" y="7673"/>
                          <a:pt x="884" y="7668"/>
                          <a:pt x="853" y="7664"/>
                        </a:cubicBezTo>
                        <a:cubicBezTo>
                          <a:pt x="822" y="7660"/>
                          <a:pt x="793" y="7656"/>
                          <a:pt x="768" y="7651"/>
                        </a:cubicBezTo>
                        <a:cubicBezTo>
                          <a:pt x="651" y="7702"/>
                          <a:pt x="534" y="7765"/>
                          <a:pt x="429" y="7820"/>
                        </a:cubicBezTo>
                        <a:cubicBezTo>
                          <a:pt x="262" y="7908"/>
                          <a:pt x="84" y="7996"/>
                          <a:pt x="16" y="8135"/>
                        </a:cubicBezTo>
                        <a:cubicBezTo>
                          <a:pt x="-9" y="8203"/>
                          <a:pt x="-3" y="8269"/>
                          <a:pt x="18" y="8333"/>
                        </a:cubicBezTo>
                        <a:cubicBezTo>
                          <a:pt x="39" y="8398"/>
                          <a:pt x="74" y="8461"/>
                          <a:pt x="108" y="8522"/>
                        </a:cubicBezTo>
                        <a:cubicBezTo>
                          <a:pt x="145" y="8529"/>
                          <a:pt x="181" y="8534"/>
                          <a:pt x="217" y="8539"/>
                        </a:cubicBezTo>
                        <a:cubicBezTo>
                          <a:pt x="253" y="8543"/>
                          <a:pt x="290" y="8547"/>
                          <a:pt x="330" y="8552"/>
                        </a:cubicBezTo>
                        <a:cubicBezTo>
                          <a:pt x="321" y="8596"/>
                          <a:pt x="307" y="8638"/>
                          <a:pt x="289" y="8678"/>
                        </a:cubicBezTo>
                        <a:cubicBezTo>
                          <a:pt x="272" y="8719"/>
                          <a:pt x="250" y="8758"/>
                          <a:pt x="225" y="8796"/>
                        </a:cubicBezTo>
                        <a:cubicBezTo>
                          <a:pt x="380" y="8840"/>
                          <a:pt x="542" y="8889"/>
                          <a:pt x="681" y="8954"/>
                        </a:cubicBezTo>
                        <a:cubicBezTo>
                          <a:pt x="821" y="9019"/>
                          <a:pt x="938" y="9099"/>
                          <a:pt x="1003" y="9204"/>
                        </a:cubicBezTo>
                        <a:cubicBezTo>
                          <a:pt x="1092" y="9191"/>
                          <a:pt x="1185" y="9177"/>
                          <a:pt x="1278" y="9164"/>
                        </a:cubicBezTo>
                        <a:cubicBezTo>
                          <a:pt x="1371" y="9150"/>
                          <a:pt x="1466" y="9136"/>
                          <a:pt x="1558" y="9124"/>
                        </a:cubicBezTo>
                        <a:cubicBezTo>
                          <a:pt x="1577" y="9107"/>
                          <a:pt x="1600" y="9091"/>
                          <a:pt x="1623" y="9075"/>
                        </a:cubicBezTo>
                        <a:cubicBezTo>
                          <a:pt x="1646" y="9060"/>
                          <a:pt x="1669" y="9044"/>
                          <a:pt x="1688" y="9027"/>
                        </a:cubicBezTo>
                        <a:cubicBezTo>
                          <a:pt x="1811" y="8991"/>
                          <a:pt x="1953" y="8985"/>
                          <a:pt x="2085" y="9005"/>
                        </a:cubicBezTo>
                        <a:cubicBezTo>
                          <a:pt x="2217" y="9025"/>
                          <a:pt x="2339" y="9071"/>
                          <a:pt x="2422" y="9141"/>
                        </a:cubicBezTo>
                        <a:cubicBezTo>
                          <a:pt x="2372" y="9229"/>
                          <a:pt x="2266" y="9303"/>
                          <a:pt x="2138" y="9347"/>
                        </a:cubicBezTo>
                        <a:cubicBezTo>
                          <a:pt x="2010" y="9392"/>
                          <a:pt x="1860" y="9408"/>
                          <a:pt x="1725" y="9380"/>
                        </a:cubicBezTo>
                        <a:cubicBezTo>
                          <a:pt x="1620" y="9364"/>
                          <a:pt x="1521" y="9317"/>
                          <a:pt x="1404" y="9317"/>
                        </a:cubicBezTo>
                        <a:cubicBezTo>
                          <a:pt x="1287" y="9317"/>
                          <a:pt x="1157" y="9372"/>
                          <a:pt x="1182" y="9452"/>
                        </a:cubicBezTo>
                        <a:cubicBezTo>
                          <a:pt x="1077" y="9492"/>
                          <a:pt x="967" y="9520"/>
                          <a:pt x="855" y="9536"/>
                        </a:cubicBezTo>
                        <a:cubicBezTo>
                          <a:pt x="742" y="9553"/>
                          <a:pt x="626" y="9557"/>
                          <a:pt x="509" y="9549"/>
                        </a:cubicBezTo>
                        <a:cubicBezTo>
                          <a:pt x="497" y="9584"/>
                          <a:pt x="488" y="9619"/>
                          <a:pt x="478" y="9653"/>
                        </a:cubicBezTo>
                        <a:cubicBezTo>
                          <a:pt x="468" y="9686"/>
                          <a:pt x="457" y="9719"/>
                          <a:pt x="441" y="9750"/>
                        </a:cubicBezTo>
                        <a:cubicBezTo>
                          <a:pt x="552" y="9786"/>
                          <a:pt x="673" y="9828"/>
                          <a:pt x="770" y="9881"/>
                        </a:cubicBezTo>
                        <a:cubicBezTo>
                          <a:pt x="867" y="9935"/>
                          <a:pt x="941" y="9999"/>
                          <a:pt x="960" y="10079"/>
                        </a:cubicBezTo>
                        <a:cubicBezTo>
                          <a:pt x="1031" y="10047"/>
                          <a:pt x="1115" y="10031"/>
                          <a:pt x="1200" y="10031"/>
                        </a:cubicBezTo>
                        <a:cubicBezTo>
                          <a:pt x="1285" y="10031"/>
                          <a:pt x="1370" y="10047"/>
                          <a:pt x="1441" y="10079"/>
                        </a:cubicBezTo>
                        <a:cubicBezTo>
                          <a:pt x="1388" y="10119"/>
                          <a:pt x="1333" y="10155"/>
                          <a:pt x="1278" y="10192"/>
                        </a:cubicBezTo>
                        <a:cubicBezTo>
                          <a:pt x="1223" y="10229"/>
                          <a:pt x="1169" y="10266"/>
                          <a:pt x="1120" y="10306"/>
                        </a:cubicBezTo>
                        <a:cubicBezTo>
                          <a:pt x="1145" y="10289"/>
                          <a:pt x="1177" y="10293"/>
                          <a:pt x="1205" y="10307"/>
                        </a:cubicBezTo>
                        <a:cubicBezTo>
                          <a:pt x="1233" y="10322"/>
                          <a:pt x="1256" y="10346"/>
                          <a:pt x="1262" y="10369"/>
                        </a:cubicBezTo>
                        <a:cubicBezTo>
                          <a:pt x="1274" y="10411"/>
                          <a:pt x="1250" y="10466"/>
                          <a:pt x="1274" y="10508"/>
                        </a:cubicBezTo>
                        <a:cubicBezTo>
                          <a:pt x="1287" y="10529"/>
                          <a:pt x="1324" y="10546"/>
                          <a:pt x="1348" y="10562"/>
                        </a:cubicBezTo>
                        <a:cubicBezTo>
                          <a:pt x="1512" y="10642"/>
                          <a:pt x="1697" y="10722"/>
                          <a:pt x="1885" y="10765"/>
                        </a:cubicBezTo>
                        <a:cubicBezTo>
                          <a:pt x="2073" y="10808"/>
                          <a:pt x="2265" y="10815"/>
                          <a:pt x="2440" y="10747"/>
                        </a:cubicBezTo>
                        <a:cubicBezTo>
                          <a:pt x="2447" y="10716"/>
                          <a:pt x="2453" y="10683"/>
                          <a:pt x="2459" y="10651"/>
                        </a:cubicBezTo>
                        <a:cubicBezTo>
                          <a:pt x="2465" y="10618"/>
                          <a:pt x="2471" y="10585"/>
                          <a:pt x="2477" y="10554"/>
                        </a:cubicBezTo>
                        <a:cubicBezTo>
                          <a:pt x="2669" y="10520"/>
                          <a:pt x="2798" y="10684"/>
                          <a:pt x="2996" y="10714"/>
                        </a:cubicBezTo>
                        <a:cubicBezTo>
                          <a:pt x="3113" y="10731"/>
                          <a:pt x="3224" y="10676"/>
                          <a:pt x="3341" y="10667"/>
                        </a:cubicBezTo>
                        <a:cubicBezTo>
                          <a:pt x="3412" y="10659"/>
                          <a:pt x="3485" y="10661"/>
                          <a:pt x="3555" y="10669"/>
                        </a:cubicBezTo>
                        <a:cubicBezTo>
                          <a:pt x="3625" y="10677"/>
                          <a:pt x="3693" y="10691"/>
                          <a:pt x="3754" y="10705"/>
                        </a:cubicBezTo>
                        <a:cubicBezTo>
                          <a:pt x="4248" y="10802"/>
                          <a:pt x="4803" y="10916"/>
                          <a:pt x="5050" y="11223"/>
                        </a:cubicBezTo>
                        <a:cubicBezTo>
                          <a:pt x="5192" y="11399"/>
                          <a:pt x="5204" y="11614"/>
                          <a:pt x="5223" y="11807"/>
                        </a:cubicBezTo>
                        <a:cubicBezTo>
                          <a:pt x="5306" y="11833"/>
                          <a:pt x="5377" y="11879"/>
                          <a:pt x="5423" y="11934"/>
                        </a:cubicBezTo>
                        <a:cubicBezTo>
                          <a:pt x="5470" y="11989"/>
                          <a:pt x="5491" y="12054"/>
                          <a:pt x="5476" y="12115"/>
                        </a:cubicBezTo>
                        <a:cubicBezTo>
                          <a:pt x="5463" y="12211"/>
                          <a:pt x="5426" y="12300"/>
                          <a:pt x="5426" y="12396"/>
                        </a:cubicBezTo>
                        <a:cubicBezTo>
                          <a:pt x="5426" y="12426"/>
                          <a:pt x="5426" y="12459"/>
                          <a:pt x="5451" y="12476"/>
                        </a:cubicBezTo>
                        <a:cubicBezTo>
                          <a:pt x="5457" y="12485"/>
                          <a:pt x="5471" y="12494"/>
                          <a:pt x="5485" y="12505"/>
                        </a:cubicBezTo>
                        <a:cubicBezTo>
                          <a:pt x="5499" y="12515"/>
                          <a:pt x="5513" y="12527"/>
                          <a:pt x="5519" y="12539"/>
                        </a:cubicBezTo>
                        <a:cubicBezTo>
                          <a:pt x="5531" y="12560"/>
                          <a:pt x="5524" y="12581"/>
                          <a:pt x="5510" y="12602"/>
                        </a:cubicBezTo>
                        <a:cubicBezTo>
                          <a:pt x="5496" y="12622"/>
                          <a:pt x="5476" y="12642"/>
                          <a:pt x="5463" y="12661"/>
                        </a:cubicBezTo>
                        <a:cubicBezTo>
                          <a:pt x="5430" y="12703"/>
                          <a:pt x="5423" y="12757"/>
                          <a:pt x="5440" y="12808"/>
                        </a:cubicBezTo>
                        <a:cubicBezTo>
                          <a:pt x="5457" y="12858"/>
                          <a:pt x="5497" y="12905"/>
                          <a:pt x="5556" y="12935"/>
                        </a:cubicBezTo>
                        <a:cubicBezTo>
                          <a:pt x="5575" y="12945"/>
                          <a:pt x="5598" y="12955"/>
                          <a:pt x="5619" y="12966"/>
                        </a:cubicBezTo>
                        <a:cubicBezTo>
                          <a:pt x="5641" y="12977"/>
                          <a:pt x="5661" y="12989"/>
                          <a:pt x="5673" y="13006"/>
                        </a:cubicBezTo>
                        <a:cubicBezTo>
                          <a:pt x="5686" y="13032"/>
                          <a:pt x="5686" y="13061"/>
                          <a:pt x="5686" y="13086"/>
                        </a:cubicBezTo>
                        <a:cubicBezTo>
                          <a:pt x="5686" y="13351"/>
                          <a:pt x="5908" y="13608"/>
                          <a:pt x="5828" y="13873"/>
                        </a:cubicBezTo>
                        <a:cubicBezTo>
                          <a:pt x="5803" y="13953"/>
                          <a:pt x="5766" y="14058"/>
                          <a:pt x="5865" y="14100"/>
                        </a:cubicBezTo>
                        <a:cubicBezTo>
                          <a:pt x="5908" y="14117"/>
                          <a:pt x="5969" y="14129"/>
                          <a:pt x="5994" y="14163"/>
                        </a:cubicBezTo>
                        <a:cubicBezTo>
                          <a:pt x="6013" y="14188"/>
                          <a:pt x="5994" y="14218"/>
                          <a:pt x="5994" y="14243"/>
                        </a:cubicBezTo>
                        <a:cubicBezTo>
                          <a:pt x="5957" y="14340"/>
                          <a:pt x="5965" y="14443"/>
                          <a:pt x="6010" y="14538"/>
                        </a:cubicBezTo>
                        <a:cubicBezTo>
                          <a:pt x="6056" y="14634"/>
                          <a:pt x="6139" y="14722"/>
                          <a:pt x="6253" y="14790"/>
                        </a:cubicBezTo>
                        <a:cubicBezTo>
                          <a:pt x="6269" y="14798"/>
                          <a:pt x="6283" y="14805"/>
                          <a:pt x="6297" y="14809"/>
                        </a:cubicBezTo>
                        <a:cubicBezTo>
                          <a:pt x="6312" y="14813"/>
                          <a:pt x="6327" y="14815"/>
                          <a:pt x="6346" y="14815"/>
                        </a:cubicBezTo>
                        <a:cubicBezTo>
                          <a:pt x="6380" y="14819"/>
                          <a:pt x="6409" y="14809"/>
                          <a:pt x="6433" y="14791"/>
                        </a:cubicBezTo>
                        <a:cubicBezTo>
                          <a:pt x="6457" y="14774"/>
                          <a:pt x="6475" y="14750"/>
                          <a:pt x="6488" y="14727"/>
                        </a:cubicBezTo>
                        <a:cubicBezTo>
                          <a:pt x="6494" y="14706"/>
                          <a:pt x="6497" y="14684"/>
                          <a:pt x="6500" y="14660"/>
                        </a:cubicBezTo>
                        <a:cubicBezTo>
                          <a:pt x="6503" y="14637"/>
                          <a:pt x="6506" y="14613"/>
                          <a:pt x="6512" y="14588"/>
                        </a:cubicBezTo>
                        <a:cubicBezTo>
                          <a:pt x="6559" y="14573"/>
                          <a:pt x="6611" y="14584"/>
                          <a:pt x="6647" y="14606"/>
                        </a:cubicBezTo>
                        <a:cubicBezTo>
                          <a:pt x="6684" y="14628"/>
                          <a:pt x="6704" y="14661"/>
                          <a:pt x="6685" y="14693"/>
                        </a:cubicBezTo>
                        <a:cubicBezTo>
                          <a:pt x="6670" y="14714"/>
                          <a:pt x="6640" y="14732"/>
                          <a:pt x="6613" y="14751"/>
                        </a:cubicBezTo>
                        <a:cubicBezTo>
                          <a:pt x="6586" y="14770"/>
                          <a:pt x="6562" y="14790"/>
                          <a:pt x="6556" y="14815"/>
                        </a:cubicBezTo>
                        <a:cubicBezTo>
                          <a:pt x="6525" y="14878"/>
                          <a:pt x="6617" y="14941"/>
                          <a:pt x="6722" y="14941"/>
                        </a:cubicBezTo>
                        <a:cubicBezTo>
                          <a:pt x="6827" y="14941"/>
                          <a:pt x="6901" y="14903"/>
                          <a:pt x="6981" y="14861"/>
                        </a:cubicBezTo>
                        <a:cubicBezTo>
                          <a:pt x="7098" y="14887"/>
                          <a:pt x="7185" y="14953"/>
                          <a:pt x="7230" y="15031"/>
                        </a:cubicBezTo>
                        <a:cubicBezTo>
                          <a:pt x="7274" y="15109"/>
                          <a:pt x="7277" y="15200"/>
                          <a:pt x="7228" y="15274"/>
                        </a:cubicBezTo>
                        <a:cubicBezTo>
                          <a:pt x="7111" y="15261"/>
                          <a:pt x="6997" y="15239"/>
                          <a:pt x="6888" y="15209"/>
                        </a:cubicBezTo>
                        <a:cubicBezTo>
                          <a:pt x="6779" y="15179"/>
                          <a:pt x="6676" y="15141"/>
                          <a:pt x="6580" y="15097"/>
                        </a:cubicBezTo>
                        <a:cubicBezTo>
                          <a:pt x="6451" y="15088"/>
                          <a:pt x="6383" y="15202"/>
                          <a:pt x="6383" y="15290"/>
                        </a:cubicBezTo>
                        <a:cubicBezTo>
                          <a:pt x="6383" y="15379"/>
                          <a:pt x="6426" y="15488"/>
                          <a:pt x="6321" y="15547"/>
                        </a:cubicBezTo>
                        <a:cubicBezTo>
                          <a:pt x="6266" y="15585"/>
                          <a:pt x="6167" y="15602"/>
                          <a:pt x="6167" y="15652"/>
                        </a:cubicBezTo>
                        <a:cubicBezTo>
                          <a:pt x="6167" y="15682"/>
                          <a:pt x="6192" y="15707"/>
                          <a:pt x="6204" y="15724"/>
                        </a:cubicBezTo>
                        <a:cubicBezTo>
                          <a:pt x="6256" y="15772"/>
                          <a:pt x="6295" y="15826"/>
                          <a:pt x="6322" y="15882"/>
                        </a:cubicBezTo>
                        <a:cubicBezTo>
                          <a:pt x="6349" y="15939"/>
                          <a:pt x="6364" y="15999"/>
                          <a:pt x="6370" y="16060"/>
                        </a:cubicBezTo>
                        <a:cubicBezTo>
                          <a:pt x="6370" y="16077"/>
                          <a:pt x="6370" y="16095"/>
                          <a:pt x="6374" y="16112"/>
                        </a:cubicBezTo>
                        <a:cubicBezTo>
                          <a:pt x="6377" y="16128"/>
                          <a:pt x="6383" y="16144"/>
                          <a:pt x="6395" y="16157"/>
                        </a:cubicBezTo>
                        <a:cubicBezTo>
                          <a:pt x="6429" y="16197"/>
                          <a:pt x="6491" y="16213"/>
                          <a:pt x="6560" y="16214"/>
                        </a:cubicBezTo>
                        <a:cubicBezTo>
                          <a:pt x="6630" y="16215"/>
                          <a:pt x="6707" y="16201"/>
                          <a:pt x="6771" y="16182"/>
                        </a:cubicBezTo>
                        <a:cubicBezTo>
                          <a:pt x="6812" y="16174"/>
                          <a:pt x="6850" y="16163"/>
                          <a:pt x="6890" y="16153"/>
                        </a:cubicBezTo>
                        <a:cubicBezTo>
                          <a:pt x="6930" y="16142"/>
                          <a:pt x="6972" y="16132"/>
                          <a:pt x="7018" y="16123"/>
                        </a:cubicBezTo>
                        <a:cubicBezTo>
                          <a:pt x="7037" y="16119"/>
                          <a:pt x="7057" y="16112"/>
                          <a:pt x="7074" y="16102"/>
                        </a:cubicBezTo>
                        <a:cubicBezTo>
                          <a:pt x="7091" y="16093"/>
                          <a:pt x="7105" y="16081"/>
                          <a:pt x="7111" y="16069"/>
                        </a:cubicBezTo>
                        <a:cubicBezTo>
                          <a:pt x="7117" y="16052"/>
                          <a:pt x="7108" y="16034"/>
                          <a:pt x="7100" y="16017"/>
                        </a:cubicBezTo>
                        <a:cubicBezTo>
                          <a:pt x="7092" y="16000"/>
                          <a:pt x="7086" y="15984"/>
                          <a:pt x="7098" y="15972"/>
                        </a:cubicBezTo>
                        <a:cubicBezTo>
                          <a:pt x="7105" y="15963"/>
                          <a:pt x="7114" y="15959"/>
                          <a:pt x="7125" y="15957"/>
                        </a:cubicBezTo>
                        <a:cubicBezTo>
                          <a:pt x="7135" y="15955"/>
                          <a:pt x="7148" y="15955"/>
                          <a:pt x="7160" y="15955"/>
                        </a:cubicBezTo>
                        <a:cubicBezTo>
                          <a:pt x="7206" y="15951"/>
                          <a:pt x="7248" y="15947"/>
                          <a:pt x="7290" y="15942"/>
                        </a:cubicBezTo>
                        <a:cubicBezTo>
                          <a:pt x="7331" y="15937"/>
                          <a:pt x="7373" y="15932"/>
                          <a:pt x="7419" y="15926"/>
                        </a:cubicBezTo>
                        <a:cubicBezTo>
                          <a:pt x="7459" y="15997"/>
                          <a:pt x="7495" y="16077"/>
                          <a:pt x="7501" y="16152"/>
                        </a:cubicBezTo>
                        <a:cubicBezTo>
                          <a:pt x="7507" y="16227"/>
                          <a:pt x="7484" y="16298"/>
                          <a:pt x="7407" y="16350"/>
                        </a:cubicBezTo>
                        <a:cubicBezTo>
                          <a:pt x="7459" y="16342"/>
                          <a:pt x="7498" y="16366"/>
                          <a:pt x="7517" y="16400"/>
                        </a:cubicBezTo>
                        <a:cubicBezTo>
                          <a:pt x="7537" y="16435"/>
                          <a:pt x="7537" y="16479"/>
                          <a:pt x="7512" y="16510"/>
                        </a:cubicBezTo>
                        <a:cubicBezTo>
                          <a:pt x="7484" y="16542"/>
                          <a:pt x="7449" y="16570"/>
                          <a:pt x="7417" y="16600"/>
                        </a:cubicBezTo>
                        <a:cubicBezTo>
                          <a:pt x="7385" y="16629"/>
                          <a:pt x="7358" y="16660"/>
                          <a:pt x="7345" y="16695"/>
                        </a:cubicBezTo>
                        <a:cubicBezTo>
                          <a:pt x="7280" y="16683"/>
                          <a:pt x="7213" y="16669"/>
                          <a:pt x="7145" y="16655"/>
                        </a:cubicBezTo>
                        <a:cubicBezTo>
                          <a:pt x="7077" y="16642"/>
                          <a:pt x="7009" y="16628"/>
                          <a:pt x="6944" y="16615"/>
                        </a:cubicBezTo>
                        <a:cubicBezTo>
                          <a:pt x="6910" y="16611"/>
                          <a:pt x="6876" y="16605"/>
                          <a:pt x="6845" y="16602"/>
                        </a:cubicBezTo>
                        <a:cubicBezTo>
                          <a:pt x="6813" y="16599"/>
                          <a:pt x="6784" y="16599"/>
                          <a:pt x="6759" y="16607"/>
                        </a:cubicBezTo>
                        <a:cubicBezTo>
                          <a:pt x="6731" y="16615"/>
                          <a:pt x="6708" y="16635"/>
                          <a:pt x="6699" y="16656"/>
                        </a:cubicBezTo>
                        <a:cubicBezTo>
                          <a:pt x="6690" y="16677"/>
                          <a:pt x="6694" y="16700"/>
                          <a:pt x="6722" y="16712"/>
                        </a:cubicBezTo>
                        <a:cubicBezTo>
                          <a:pt x="6747" y="16704"/>
                          <a:pt x="6768" y="16710"/>
                          <a:pt x="6782" y="16723"/>
                        </a:cubicBezTo>
                        <a:cubicBezTo>
                          <a:pt x="6796" y="16736"/>
                          <a:pt x="6802" y="16756"/>
                          <a:pt x="6796" y="16775"/>
                        </a:cubicBezTo>
                        <a:cubicBezTo>
                          <a:pt x="6787" y="16792"/>
                          <a:pt x="6775" y="16808"/>
                          <a:pt x="6761" y="16823"/>
                        </a:cubicBezTo>
                        <a:cubicBezTo>
                          <a:pt x="6748" y="16837"/>
                          <a:pt x="6734" y="16851"/>
                          <a:pt x="6722" y="16864"/>
                        </a:cubicBezTo>
                        <a:cubicBezTo>
                          <a:pt x="6676" y="16908"/>
                          <a:pt x="6656" y="16960"/>
                          <a:pt x="6653" y="17015"/>
                        </a:cubicBezTo>
                        <a:cubicBezTo>
                          <a:pt x="6650" y="17070"/>
                          <a:pt x="6663" y="17126"/>
                          <a:pt x="6685" y="17179"/>
                        </a:cubicBezTo>
                        <a:cubicBezTo>
                          <a:pt x="6710" y="17291"/>
                          <a:pt x="6687" y="17410"/>
                          <a:pt x="6669" y="17529"/>
                        </a:cubicBezTo>
                        <a:cubicBezTo>
                          <a:pt x="6651" y="17647"/>
                          <a:pt x="6639" y="17764"/>
                          <a:pt x="6685" y="17869"/>
                        </a:cubicBezTo>
                        <a:cubicBezTo>
                          <a:pt x="6716" y="17957"/>
                          <a:pt x="6767" y="18048"/>
                          <a:pt x="6798" y="18137"/>
                        </a:cubicBezTo>
                        <a:cubicBezTo>
                          <a:pt x="6830" y="18226"/>
                          <a:pt x="6842" y="18315"/>
                          <a:pt x="6796" y="18399"/>
                        </a:cubicBezTo>
                        <a:cubicBezTo>
                          <a:pt x="6824" y="18407"/>
                          <a:pt x="6847" y="18414"/>
                          <a:pt x="6870" y="18420"/>
                        </a:cubicBezTo>
                        <a:cubicBezTo>
                          <a:pt x="6893" y="18426"/>
                          <a:pt x="6916" y="18433"/>
                          <a:pt x="6944" y="18441"/>
                        </a:cubicBezTo>
                        <a:cubicBezTo>
                          <a:pt x="6994" y="18592"/>
                          <a:pt x="7048" y="18741"/>
                          <a:pt x="7102" y="18888"/>
                        </a:cubicBezTo>
                        <a:cubicBezTo>
                          <a:pt x="7157" y="19036"/>
                          <a:pt x="7213" y="19183"/>
                          <a:pt x="7265" y="19333"/>
                        </a:cubicBezTo>
                        <a:cubicBezTo>
                          <a:pt x="7271" y="19352"/>
                          <a:pt x="7277" y="19372"/>
                          <a:pt x="7287" y="19390"/>
                        </a:cubicBezTo>
                        <a:cubicBezTo>
                          <a:pt x="7296" y="19408"/>
                          <a:pt x="7308" y="19425"/>
                          <a:pt x="7327" y="19438"/>
                        </a:cubicBezTo>
                        <a:cubicBezTo>
                          <a:pt x="7342" y="19453"/>
                          <a:pt x="7362" y="19462"/>
                          <a:pt x="7380" y="19472"/>
                        </a:cubicBezTo>
                        <a:cubicBezTo>
                          <a:pt x="7398" y="19482"/>
                          <a:pt x="7413" y="19493"/>
                          <a:pt x="7419" y="19509"/>
                        </a:cubicBezTo>
                        <a:cubicBezTo>
                          <a:pt x="7444" y="19547"/>
                          <a:pt x="7432" y="19581"/>
                          <a:pt x="7432" y="19615"/>
                        </a:cubicBezTo>
                        <a:cubicBezTo>
                          <a:pt x="7432" y="19749"/>
                          <a:pt x="7617" y="19846"/>
                          <a:pt x="7734" y="19959"/>
                        </a:cubicBezTo>
                        <a:cubicBezTo>
                          <a:pt x="7796" y="20023"/>
                          <a:pt x="7837" y="20091"/>
                          <a:pt x="7870" y="20162"/>
                        </a:cubicBezTo>
                        <a:cubicBezTo>
                          <a:pt x="7902" y="20234"/>
                          <a:pt x="7925" y="20309"/>
                          <a:pt x="7950" y="20384"/>
                        </a:cubicBezTo>
                        <a:cubicBezTo>
                          <a:pt x="7984" y="20384"/>
                          <a:pt x="8013" y="20386"/>
                          <a:pt x="8042" y="20389"/>
                        </a:cubicBezTo>
                        <a:cubicBezTo>
                          <a:pt x="8072" y="20391"/>
                          <a:pt x="8101" y="20393"/>
                          <a:pt x="8135" y="20393"/>
                        </a:cubicBezTo>
                        <a:cubicBezTo>
                          <a:pt x="8101" y="20441"/>
                          <a:pt x="8107" y="20492"/>
                          <a:pt x="8133" y="20541"/>
                        </a:cubicBezTo>
                        <a:cubicBezTo>
                          <a:pt x="8158" y="20590"/>
                          <a:pt x="8203" y="20639"/>
                          <a:pt x="8246" y="20683"/>
                        </a:cubicBezTo>
                        <a:cubicBezTo>
                          <a:pt x="8292" y="20723"/>
                          <a:pt x="8339" y="20763"/>
                          <a:pt x="8383" y="20803"/>
                        </a:cubicBezTo>
                        <a:cubicBezTo>
                          <a:pt x="8426" y="20843"/>
                          <a:pt x="8468" y="20883"/>
                          <a:pt x="8505" y="20923"/>
                        </a:cubicBezTo>
                        <a:cubicBezTo>
                          <a:pt x="8564" y="20975"/>
                          <a:pt x="8629" y="21032"/>
                          <a:pt x="8705" y="21077"/>
                        </a:cubicBezTo>
                        <a:cubicBezTo>
                          <a:pt x="8781" y="21122"/>
                          <a:pt x="8869" y="21154"/>
                          <a:pt x="8974" y="21158"/>
                        </a:cubicBezTo>
                        <a:cubicBezTo>
                          <a:pt x="8999" y="21133"/>
                          <a:pt x="9043" y="21127"/>
                          <a:pt x="9092" y="21130"/>
                        </a:cubicBezTo>
                        <a:cubicBezTo>
                          <a:pt x="9141" y="21133"/>
                          <a:pt x="9193" y="21146"/>
                          <a:pt x="9233" y="21158"/>
                        </a:cubicBezTo>
                        <a:cubicBezTo>
                          <a:pt x="9329" y="21194"/>
                          <a:pt x="9429" y="21232"/>
                          <a:pt x="9523" y="21275"/>
                        </a:cubicBezTo>
                        <a:cubicBezTo>
                          <a:pt x="9617" y="21318"/>
                          <a:pt x="9705" y="21367"/>
                          <a:pt x="9776" y="21423"/>
                        </a:cubicBezTo>
                        <a:cubicBezTo>
                          <a:pt x="9869" y="21495"/>
                          <a:pt x="9943" y="21583"/>
                          <a:pt x="10072" y="21592"/>
                        </a:cubicBezTo>
                        <a:cubicBezTo>
                          <a:pt x="10202" y="21600"/>
                          <a:pt x="10313" y="21533"/>
                          <a:pt x="10356" y="21444"/>
                        </a:cubicBezTo>
                        <a:cubicBezTo>
                          <a:pt x="10375" y="21400"/>
                          <a:pt x="10378" y="21356"/>
                          <a:pt x="10373" y="21312"/>
                        </a:cubicBezTo>
                        <a:cubicBezTo>
                          <a:pt x="10368" y="21268"/>
                          <a:pt x="10356" y="21224"/>
                          <a:pt x="10344" y="21179"/>
                        </a:cubicBezTo>
                        <a:cubicBezTo>
                          <a:pt x="10365" y="21175"/>
                          <a:pt x="10385" y="21173"/>
                          <a:pt x="10406" y="21170"/>
                        </a:cubicBezTo>
                        <a:cubicBezTo>
                          <a:pt x="10427" y="21168"/>
                          <a:pt x="10449" y="21165"/>
                          <a:pt x="10473" y="21158"/>
                        </a:cubicBezTo>
                        <a:cubicBezTo>
                          <a:pt x="10479" y="21106"/>
                          <a:pt x="10483" y="21051"/>
                          <a:pt x="10486" y="20996"/>
                        </a:cubicBezTo>
                        <a:cubicBezTo>
                          <a:pt x="10489" y="20942"/>
                          <a:pt x="10492" y="20887"/>
                          <a:pt x="10498" y="20834"/>
                        </a:cubicBezTo>
                        <a:cubicBezTo>
                          <a:pt x="10507" y="20816"/>
                          <a:pt x="10515" y="20796"/>
                          <a:pt x="10522" y="20776"/>
                        </a:cubicBezTo>
                        <a:cubicBezTo>
                          <a:pt x="10529" y="20757"/>
                          <a:pt x="10535" y="20738"/>
                          <a:pt x="10541" y="20721"/>
                        </a:cubicBezTo>
                        <a:cubicBezTo>
                          <a:pt x="10566" y="20637"/>
                          <a:pt x="10587" y="20546"/>
                          <a:pt x="10582" y="20462"/>
                        </a:cubicBezTo>
                        <a:cubicBezTo>
                          <a:pt x="10577" y="20378"/>
                          <a:pt x="10544" y="20300"/>
                          <a:pt x="10461" y="20241"/>
                        </a:cubicBezTo>
                        <a:cubicBezTo>
                          <a:pt x="10479" y="20237"/>
                          <a:pt x="10499" y="20231"/>
                          <a:pt x="10520" y="20224"/>
                        </a:cubicBezTo>
                        <a:cubicBezTo>
                          <a:pt x="10540" y="20218"/>
                          <a:pt x="10560" y="20212"/>
                          <a:pt x="10578" y="20208"/>
                        </a:cubicBezTo>
                        <a:cubicBezTo>
                          <a:pt x="10646" y="20145"/>
                          <a:pt x="10708" y="20086"/>
                          <a:pt x="10769" y="20031"/>
                        </a:cubicBezTo>
                        <a:cubicBezTo>
                          <a:pt x="11047" y="19791"/>
                          <a:pt x="11331" y="19493"/>
                          <a:pt x="11201" y="19202"/>
                        </a:cubicBezTo>
                        <a:cubicBezTo>
                          <a:pt x="11220" y="19207"/>
                          <a:pt x="11238" y="19209"/>
                          <a:pt x="11258" y="19211"/>
                        </a:cubicBezTo>
                        <a:cubicBezTo>
                          <a:pt x="11277" y="19213"/>
                          <a:pt x="11297" y="19215"/>
                          <a:pt x="11319" y="19219"/>
                        </a:cubicBezTo>
                        <a:cubicBezTo>
                          <a:pt x="11312" y="19158"/>
                          <a:pt x="11292" y="19096"/>
                          <a:pt x="11262" y="19037"/>
                        </a:cubicBezTo>
                        <a:cubicBezTo>
                          <a:pt x="11232" y="18978"/>
                          <a:pt x="11192" y="18923"/>
                          <a:pt x="11146" y="18874"/>
                        </a:cubicBezTo>
                        <a:cubicBezTo>
                          <a:pt x="11192" y="18883"/>
                          <a:pt x="11241" y="18892"/>
                          <a:pt x="11290" y="18895"/>
                        </a:cubicBezTo>
                        <a:cubicBezTo>
                          <a:pt x="11339" y="18897"/>
                          <a:pt x="11386" y="18893"/>
                          <a:pt x="11430" y="18874"/>
                        </a:cubicBezTo>
                        <a:cubicBezTo>
                          <a:pt x="11522" y="18838"/>
                          <a:pt x="11554" y="18760"/>
                          <a:pt x="11590" y="18686"/>
                        </a:cubicBezTo>
                        <a:cubicBezTo>
                          <a:pt x="11625" y="18612"/>
                          <a:pt x="11664" y="18544"/>
                          <a:pt x="11769" y="18529"/>
                        </a:cubicBezTo>
                        <a:cubicBezTo>
                          <a:pt x="11794" y="18548"/>
                          <a:pt x="11820" y="18564"/>
                          <a:pt x="11848" y="18577"/>
                        </a:cubicBezTo>
                        <a:cubicBezTo>
                          <a:pt x="11875" y="18590"/>
                          <a:pt x="11905" y="18601"/>
                          <a:pt x="11935" y="18609"/>
                        </a:cubicBezTo>
                        <a:cubicBezTo>
                          <a:pt x="11942" y="18561"/>
                          <a:pt x="11959" y="18515"/>
                          <a:pt x="11983" y="18470"/>
                        </a:cubicBezTo>
                        <a:cubicBezTo>
                          <a:pt x="12008" y="18426"/>
                          <a:pt x="12040" y="18384"/>
                          <a:pt x="12077" y="18344"/>
                        </a:cubicBezTo>
                        <a:cubicBezTo>
                          <a:pt x="12105" y="18384"/>
                          <a:pt x="12125" y="18426"/>
                          <a:pt x="12138" y="18470"/>
                        </a:cubicBezTo>
                        <a:cubicBezTo>
                          <a:pt x="12151" y="18515"/>
                          <a:pt x="12158" y="18561"/>
                          <a:pt x="12158" y="18609"/>
                        </a:cubicBezTo>
                        <a:cubicBezTo>
                          <a:pt x="12176" y="18584"/>
                          <a:pt x="12218" y="18578"/>
                          <a:pt x="12266" y="18578"/>
                        </a:cubicBezTo>
                        <a:cubicBezTo>
                          <a:pt x="12315" y="18578"/>
                          <a:pt x="12370" y="18584"/>
                          <a:pt x="12417" y="18584"/>
                        </a:cubicBezTo>
                        <a:cubicBezTo>
                          <a:pt x="12506" y="18588"/>
                          <a:pt x="12586" y="18555"/>
                          <a:pt x="12637" y="18506"/>
                        </a:cubicBezTo>
                        <a:cubicBezTo>
                          <a:pt x="12687" y="18457"/>
                          <a:pt x="12707" y="18393"/>
                          <a:pt x="12676" y="18336"/>
                        </a:cubicBezTo>
                        <a:cubicBezTo>
                          <a:pt x="12707" y="18327"/>
                          <a:pt x="12745" y="18323"/>
                          <a:pt x="12785" y="18325"/>
                        </a:cubicBezTo>
                        <a:cubicBezTo>
                          <a:pt x="12824" y="18327"/>
                          <a:pt x="12864" y="18336"/>
                          <a:pt x="12898" y="18353"/>
                        </a:cubicBezTo>
                        <a:cubicBezTo>
                          <a:pt x="12935" y="18304"/>
                          <a:pt x="12983" y="18263"/>
                          <a:pt x="13039" y="18229"/>
                        </a:cubicBezTo>
                        <a:cubicBezTo>
                          <a:pt x="13095" y="18194"/>
                          <a:pt x="13160" y="18165"/>
                          <a:pt x="13231" y="18142"/>
                        </a:cubicBezTo>
                        <a:cubicBezTo>
                          <a:pt x="13250" y="18138"/>
                          <a:pt x="13270" y="18132"/>
                          <a:pt x="13288" y="18124"/>
                        </a:cubicBezTo>
                        <a:cubicBezTo>
                          <a:pt x="13307" y="18117"/>
                          <a:pt x="13324" y="18109"/>
                          <a:pt x="13336" y="18100"/>
                        </a:cubicBezTo>
                        <a:cubicBezTo>
                          <a:pt x="13348" y="18090"/>
                          <a:pt x="13358" y="18078"/>
                          <a:pt x="13365" y="18066"/>
                        </a:cubicBezTo>
                        <a:cubicBezTo>
                          <a:pt x="13373" y="18054"/>
                          <a:pt x="13379" y="18041"/>
                          <a:pt x="13385" y="18029"/>
                        </a:cubicBezTo>
                        <a:cubicBezTo>
                          <a:pt x="13441" y="17924"/>
                          <a:pt x="13527" y="17827"/>
                          <a:pt x="13644" y="17755"/>
                        </a:cubicBezTo>
                        <a:cubicBezTo>
                          <a:pt x="13842" y="17638"/>
                          <a:pt x="13959" y="17482"/>
                          <a:pt x="14021" y="17305"/>
                        </a:cubicBezTo>
                        <a:cubicBezTo>
                          <a:pt x="14113" y="17356"/>
                          <a:pt x="14268" y="17288"/>
                          <a:pt x="14280" y="17200"/>
                        </a:cubicBezTo>
                        <a:cubicBezTo>
                          <a:pt x="14292" y="17112"/>
                          <a:pt x="14200" y="17040"/>
                          <a:pt x="14126" y="16969"/>
                        </a:cubicBezTo>
                        <a:cubicBezTo>
                          <a:pt x="14086" y="16933"/>
                          <a:pt x="14047" y="16897"/>
                          <a:pt x="14020" y="16859"/>
                        </a:cubicBezTo>
                        <a:cubicBezTo>
                          <a:pt x="13993" y="16821"/>
                          <a:pt x="13978" y="16782"/>
                          <a:pt x="13984" y="16737"/>
                        </a:cubicBezTo>
                        <a:cubicBezTo>
                          <a:pt x="14002" y="16761"/>
                          <a:pt x="14032" y="16778"/>
                          <a:pt x="14064" y="16789"/>
                        </a:cubicBezTo>
                        <a:cubicBezTo>
                          <a:pt x="14096" y="16800"/>
                          <a:pt x="14132" y="16805"/>
                          <a:pt x="14163" y="16800"/>
                        </a:cubicBezTo>
                        <a:cubicBezTo>
                          <a:pt x="14181" y="16868"/>
                          <a:pt x="14234" y="16930"/>
                          <a:pt x="14305" y="16978"/>
                        </a:cubicBezTo>
                        <a:cubicBezTo>
                          <a:pt x="14377" y="17027"/>
                          <a:pt x="14468" y="17061"/>
                          <a:pt x="14564" y="17074"/>
                        </a:cubicBezTo>
                        <a:cubicBezTo>
                          <a:pt x="14699" y="17049"/>
                          <a:pt x="14832" y="17020"/>
                          <a:pt x="14965" y="16991"/>
                        </a:cubicBezTo>
                        <a:cubicBezTo>
                          <a:pt x="15097" y="16962"/>
                          <a:pt x="15230" y="16933"/>
                          <a:pt x="15366" y="16906"/>
                        </a:cubicBezTo>
                        <a:cubicBezTo>
                          <a:pt x="15390" y="16872"/>
                          <a:pt x="15409" y="16855"/>
                          <a:pt x="15458" y="16855"/>
                        </a:cubicBezTo>
                        <a:cubicBezTo>
                          <a:pt x="15495" y="16855"/>
                          <a:pt x="15532" y="16864"/>
                          <a:pt x="15576" y="16855"/>
                        </a:cubicBezTo>
                        <a:cubicBezTo>
                          <a:pt x="15588" y="16851"/>
                          <a:pt x="15600" y="16847"/>
                          <a:pt x="15613" y="16841"/>
                        </a:cubicBezTo>
                        <a:cubicBezTo>
                          <a:pt x="15625" y="16835"/>
                          <a:pt x="15637" y="16828"/>
                          <a:pt x="15650" y="16817"/>
                        </a:cubicBezTo>
                        <a:cubicBezTo>
                          <a:pt x="15754" y="16756"/>
                          <a:pt x="15869" y="16700"/>
                          <a:pt x="15989" y="16649"/>
                        </a:cubicBezTo>
                        <a:cubicBezTo>
                          <a:pt x="16109" y="16599"/>
                          <a:pt x="16236" y="16554"/>
                          <a:pt x="16365" y="16519"/>
                        </a:cubicBezTo>
                        <a:cubicBezTo>
                          <a:pt x="16390" y="16510"/>
                          <a:pt x="16419" y="16504"/>
                          <a:pt x="16450" y="16501"/>
                        </a:cubicBezTo>
                        <a:cubicBezTo>
                          <a:pt x="16481" y="16498"/>
                          <a:pt x="16513" y="16498"/>
                          <a:pt x="16544" y="16502"/>
                        </a:cubicBezTo>
                        <a:cubicBezTo>
                          <a:pt x="16634" y="16409"/>
                          <a:pt x="16740" y="16323"/>
                          <a:pt x="16858" y="16245"/>
                        </a:cubicBezTo>
                        <a:cubicBezTo>
                          <a:pt x="16976" y="16166"/>
                          <a:pt x="17106" y="16096"/>
                          <a:pt x="17241" y="16035"/>
                        </a:cubicBezTo>
                        <a:cubicBezTo>
                          <a:pt x="17288" y="16016"/>
                          <a:pt x="17334" y="15998"/>
                          <a:pt x="17376" y="15977"/>
                        </a:cubicBezTo>
                        <a:cubicBezTo>
                          <a:pt x="17419" y="15956"/>
                          <a:pt x="17457" y="15932"/>
                          <a:pt x="17488" y="15900"/>
                        </a:cubicBezTo>
                        <a:cubicBezTo>
                          <a:pt x="17510" y="15888"/>
                          <a:pt x="17527" y="15873"/>
                          <a:pt x="17543" y="15859"/>
                        </a:cubicBezTo>
                        <a:cubicBezTo>
                          <a:pt x="17559" y="15845"/>
                          <a:pt x="17575" y="15831"/>
                          <a:pt x="17593" y="15820"/>
                        </a:cubicBezTo>
                        <a:cubicBezTo>
                          <a:pt x="17618" y="15808"/>
                          <a:pt x="17647" y="15799"/>
                          <a:pt x="17678" y="15791"/>
                        </a:cubicBezTo>
                        <a:cubicBezTo>
                          <a:pt x="17709" y="15783"/>
                          <a:pt x="17741" y="15774"/>
                          <a:pt x="17772" y="15761"/>
                        </a:cubicBezTo>
                        <a:cubicBezTo>
                          <a:pt x="17800" y="15747"/>
                          <a:pt x="17826" y="15727"/>
                          <a:pt x="17841" y="15706"/>
                        </a:cubicBezTo>
                        <a:cubicBezTo>
                          <a:pt x="17855" y="15685"/>
                          <a:pt x="17858" y="15663"/>
                          <a:pt x="17840" y="15644"/>
                        </a:cubicBezTo>
                        <a:cubicBezTo>
                          <a:pt x="17661" y="15644"/>
                          <a:pt x="17463" y="15635"/>
                          <a:pt x="17285" y="15635"/>
                        </a:cubicBezTo>
                        <a:cubicBezTo>
                          <a:pt x="17217" y="15635"/>
                          <a:pt x="17155" y="15635"/>
                          <a:pt x="17099" y="15610"/>
                        </a:cubicBezTo>
                        <a:cubicBezTo>
                          <a:pt x="17075" y="15602"/>
                          <a:pt x="17050" y="15586"/>
                          <a:pt x="17033" y="15567"/>
                        </a:cubicBezTo>
                        <a:cubicBezTo>
                          <a:pt x="17016" y="15548"/>
                          <a:pt x="17007" y="15526"/>
                          <a:pt x="17013" y="15505"/>
                        </a:cubicBezTo>
                        <a:cubicBezTo>
                          <a:pt x="16896" y="15492"/>
                          <a:pt x="16772" y="15481"/>
                          <a:pt x="16652" y="15482"/>
                        </a:cubicBezTo>
                        <a:cubicBezTo>
                          <a:pt x="16532" y="15484"/>
                          <a:pt x="16415" y="15499"/>
                          <a:pt x="16310" y="15539"/>
                        </a:cubicBezTo>
                        <a:cubicBezTo>
                          <a:pt x="16267" y="15557"/>
                          <a:pt x="16225" y="15577"/>
                          <a:pt x="16183" y="15598"/>
                        </a:cubicBezTo>
                        <a:cubicBezTo>
                          <a:pt x="16140" y="15620"/>
                          <a:pt x="16097" y="15642"/>
                          <a:pt x="16051" y="15665"/>
                        </a:cubicBezTo>
                        <a:cubicBezTo>
                          <a:pt x="15949" y="15713"/>
                          <a:pt x="15836" y="15748"/>
                          <a:pt x="15718" y="15769"/>
                        </a:cubicBezTo>
                        <a:cubicBezTo>
                          <a:pt x="15600" y="15791"/>
                          <a:pt x="15477" y="15799"/>
                          <a:pt x="15353" y="15795"/>
                        </a:cubicBezTo>
                        <a:cubicBezTo>
                          <a:pt x="15347" y="15795"/>
                          <a:pt x="15341" y="15795"/>
                          <a:pt x="15335" y="15794"/>
                        </a:cubicBezTo>
                        <a:cubicBezTo>
                          <a:pt x="15329" y="15793"/>
                          <a:pt x="15323" y="15791"/>
                          <a:pt x="15316" y="15787"/>
                        </a:cubicBezTo>
                        <a:cubicBezTo>
                          <a:pt x="15289" y="15778"/>
                          <a:pt x="15287" y="15758"/>
                          <a:pt x="15301" y="15737"/>
                        </a:cubicBezTo>
                        <a:cubicBezTo>
                          <a:pt x="15315" y="15716"/>
                          <a:pt x="15344" y="15694"/>
                          <a:pt x="15378" y="15682"/>
                        </a:cubicBezTo>
                        <a:cubicBezTo>
                          <a:pt x="15440" y="15652"/>
                          <a:pt x="15520" y="15635"/>
                          <a:pt x="15600" y="15618"/>
                        </a:cubicBezTo>
                        <a:cubicBezTo>
                          <a:pt x="15680" y="15602"/>
                          <a:pt x="15754" y="15593"/>
                          <a:pt x="15835" y="15564"/>
                        </a:cubicBezTo>
                        <a:cubicBezTo>
                          <a:pt x="15866" y="15551"/>
                          <a:pt x="15895" y="15536"/>
                          <a:pt x="15924" y="15522"/>
                        </a:cubicBezTo>
                        <a:cubicBezTo>
                          <a:pt x="15953" y="15507"/>
                          <a:pt x="15983" y="15492"/>
                          <a:pt x="16014" y="15480"/>
                        </a:cubicBezTo>
                        <a:cubicBezTo>
                          <a:pt x="16143" y="15417"/>
                          <a:pt x="16322" y="15408"/>
                          <a:pt x="16452" y="15345"/>
                        </a:cubicBezTo>
                        <a:cubicBezTo>
                          <a:pt x="16581" y="15282"/>
                          <a:pt x="16698" y="15152"/>
                          <a:pt x="16581" y="15072"/>
                        </a:cubicBezTo>
                        <a:cubicBezTo>
                          <a:pt x="16495" y="15000"/>
                          <a:pt x="16322" y="15030"/>
                          <a:pt x="16193" y="15063"/>
                        </a:cubicBezTo>
                        <a:cubicBezTo>
                          <a:pt x="16063" y="15097"/>
                          <a:pt x="15921" y="15152"/>
                          <a:pt x="15792" y="15114"/>
                        </a:cubicBezTo>
                        <a:cubicBezTo>
                          <a:pt x="15785" y="15080"/>
                          <a:pt x="15818" y="15059"/>
                          <a:pt x="15863" y="15046"/>
                        </a:cubicBezTo>
                        <a:cubicBezTo>
                          <a:pt x="15909" y="15034"/>
                          <a:pt x="15967" y="15030"/>
                          <a:pt x="16014" y="15030"/>
                        </a:cubicBezTo>
                        <a:cubicBezTo>
                          <a:pt x="16085" y="15023"/>
                          <a:pt x="16156" y="15012"/>
                          <a:pt x="16222" y="14994"/>
                        </a:cubicBezTo>
                        <a:cubicBezTo>
                          <a:pt x="16288" y="14976"/>
                          <a:pt x="16350" y="14952"/>
                          <a:pt x="16402" y="14920"/>
                        </a:cubicBezTo>
                        <a:cubicBezTo>
                          <a:pt x="16442" y="14899"/>
                          <a:pt x="16481" y="14869"/>
                          <a:pt x="16502" y="14837"/>
                        </a:cubicBezTo>
                        <a:cubicBezTo>
                          <a:pt x="16523" y="14805"/>
                          <a:pt x="16526" y="14771"/>
                          <a:pt x="16495" y="14744"/>
                        </a:cubicBezTo>
                        <a:cubicBezTo>
                          <a:pt x="16452" y="14710"/>
                          <a:pt x="16378" y="14710"/>
                          <a:pt x="16310" y="14710"/>
                        </a:cubicBezTo>
                        <a:cubicBezTo>
                          <a:pt x="16211" y="14710"/>
                          <a:pt x="16106" y="14710"/>
                          <a:pt x="16001" y="14685"/>
                        </a:cubicBezTo>
                        <a:cubicBezTo>
                          <a:pt x="15955" y="14670"/>
                          <a:pt x="15910" y="14648"/>
                          <a:pt x="15879" y="14620"/>
                        </a:cubicBezTo>
                        <a:cubicBezTo>
                          <a:pt x="15847" y="14593"/>
                          <a:pt x="15829" y="14561"/>
                          <a:pt x="15835" y="14525"/>
                        </a:cubicBezTo>
                        <a:cubicBezTo>
                          <a:pt x="15782" y="14508"/>
                          <a:pt x="15730" y="14490"/>
                          <a:pt x="15681" y="14469"/>
                        </a:cubicBezTo>
                        <a:cubicBezTo>
                          <a:pt x="15633" y="14447"/>
                          <a:pt x="15588" y="14422"/>
                          <a:pt x="15551" y="14390"/>
                        </a:cubicBezTo>
                        <a:cubicBezTo>
                          <a:pt x="15511" y="14361"/>
                          <a:pt x="15488" y="14322"/>
                          <a:pt x="15482" y="14282"/>
                        </a:cubicBezTo>
                        <a:cubicBezTo>
                          <a:pt x="15477" y="14243"/>
                          <a:pt x="15489" y="14203"/>
                          <a:pt x="15520" y="14171"/>
                        </a:cubicBezTo>
                        <a:cubicBezTo>
                          <a:pt x="15591" y="14232"/>
                          <a:pt x="15667" y="14290"/>
                          <a:pt x="15745" y="14346"/>
                        </a:cubicBezTo>
                        <a:cubicBezTo>
                          <a:pt x="15824" y="14402"/>
                          <a:pt x="15906" y="14455"/>
                          <a:pt x="15989" y="14508"/>
                        </a:cubicBezTo>
                        <a:cubicBezTo>
                          <a:pt x="16020" y="14525"/>
                          <a:pt x="16049" y="14543"/>
                          <a:pt x="16080" y="14558"/>
                        </a:cubicBezTo>
                        <a:cubicBezTo>
                          <a:pt x="16111" y="14574"/>
                          <a:pt x="16143" y="14588"/>
                          <a:pt x="16180" y="14596"/>
                        </a:cubicBezTo>
                        <a:cubicBezTo>
                          <a:pt x="16285" y="14622"/>
                          <a:pt x="16402" y="14622"/>
                          <a:pt x="16507" y="14630"/>
                        </a:cubicBezTo>
                        <a:cubicBezTo>
                          <a:pt x="16612" y="14638"/>
                          <a:pt x="16723" y="14676"/>
                          <a:pt x="16766" y="14744"/>
                        </a:cubicBezTo>
                        <a:cubicBezTo>
                          <a:pt x="16772" y="14758"/>
                          <a:pt x="16776" y="14774"/>
                          <a:pt x="16779" y="14789"/>
                        </a:cubicBezTo>
                        <a:cubicBezTo>
                          <a:pt x="16782" y="14805"/>
                          <a:pt x="16785" y="14819"/>
                          <a:pt x="16791" y="14832"/>
                        </a:cubicBezTo>
                        <a:cubicBezTo>
                          <a:pt x="16803" y="14855"/>
                          <a:pt x="16823" y="14875"/>
                          <a:pt x="16845" y="14894"/>
                        </a:cubicBezTo>
                        <a:cubicBezTo>
                          <a:pt x="16867" y="14913"/>
                          <a:pt x="16890" y="14931"/>
                          <a:pt x="16908" y="14950"/>
                        </a:cubicBezTo>
                        <a:cubicBezTo>
                          <a:pt x="16979" y="15002"/>
                          <a:pt x="17041" y="15063"/>
                          <a:pt x="17089" y="15130"/>
                        </a:cubicBezTo>
                        <a:cubicBezTo>
                          <a:pt x="17138" y="15197"/>
                          <a:pt x="17174" y="15269"/>
                          <a:pt x="17192" y="15345"/>
                        </a:cubicBezTo>
                        <a:cubicBezTo>
                          <a:pt x="17217" y="15372"/>
                          <a:pt x="17258" y="15388"/>
                          <a:pt x="17307" y="15396"/>
                        </a:cubicBezTo>
                        <a:cubicBezTo>
                          <a:pt x="17356" y="15404"/>
                          <a:pt x="17411" y="15404"/>
                          <a:pt x="17463" y="15400"/>
                        </a:cubicBezTo>
                        <a:cubicBezTo>
                          <a:pt x="17556" y="15391"/>
                          <a:pt x="17655" y="15362"/>
                          <a:pt x="17747" y="15362"/>
                        </a:cubicBezTo>
                        <a:cubicBezTo>
                          <a:pt x="17834" y="15362"/>
                          <a:pt x="17969" y="15370"/>
                          <a:pt x="17982" y="15311"/>
                        </a:cubicBezTo>
                        <a:cubicBezTo>
                          <a:pt x="17994" y="15271"/>
                          <a:pt x="17949" y="15247"/>
                          <a:pt x="17898" y="15223"/>
                        </a:cubicBezTo>
                        <a:cubicBezTo>
                          <a:pt x="17846" y="15199"/>
                          <a:pt x="17787" y="15175"/>
                          <a:pt x="17772" y="15135"/>
                        </a:cubicBezTo>
                        <a:cubicBezTo>
                          <a:pt x="17753" y="15091"/>
                          <a:pt x="17797" y="15046"/>
                          <a:pt x="17834" y="15004"/>
                        </a:cubicBezTo>
                        <a:cubicBezTo>
                          <a:pt x="17872" y="14962"/>
                          <a:pt x="17905" y="14922"/>
                          <a:pt x="17865" y="14887"/>
                        </a:cubicBezTo>
                        <a:cubicBezTo>
                          <a:pt x="17824" y="14855"/>
                          <a:pt x="17801" y="14813"/>
                          <a:pt x="17797" y="14770"/>
                        </a:cubicBezTo>
                        <a:cubicBezTo>
                          <a:pt x="17792" y="14727"/>
                          <a:pt x="17806" y="14683"/>
                          <a:pt x="17840" y="14647"/>
                        </a:cubicBezTo>
                        <a:cubicBezTo>
                          <a:pt x="17812" y="14651"/>
                          <a:pt x="17789" y="14642"/>
                          <a:pt x="17771" y="14626"/>
                        </a:cubicBezTo>
                        <a:cubicBezTo>
                          <a:pt x="17753" y="14610"/>
                          <a:pt x="17741" y="14588"/>
                          <a:pt x="17735" y="14567"/>
                        </a:cubicBezTo>
                        <a:cubicBezTo>
                          <a:pt x="17729" y="14544"/>
                          <a:pt x="17729" y="14525"/>
                          <a:pt x="17726" y="14507"/>
                        </a:cubicBezTo>
                        <a:cubicBezTo>
                          <a:pt x="17723" y="14489"/>
                          <a:pt x="17716" y="14472"/>
                          <a:pt x="17698" y="14453"/>
                        </a:cubicBezTo>
                        <a:cubicBezTo>
                          <a:pt x="17664" y="14432"/>
                          <a:pt x="17612" y="14430"/>
                          <a:pt x="17563" y="14425"/>
                        </a:cubicBezTo>
                        <a:cubicBezTo>
                          <a:pt x="17514" y="14421"/>
                          <a:pt x="17470" y="14413"/>
                          <a:pt x="17451" y="14382"/>
                        </a:cubicBezTo>
                        <a:cubicBezTo>
                          <a:pt x="17426" y="14357"/>
                          <a:pt x="17451" y="14310"/>
                          <a:pt x="17414" y="14285"/>
                        </a:cubicBezTo>
                        <a:cubicBezTo>
                          <a:pt x="17383" y="14264"/>
                          <a:pt x="17346" y="14277"/>
                          <a:pt x="17322" y="14277"/>
                        </a:cubicBezTo>
                        <a:cubicBezTo>
                          <a:pt x="17155" y="14277"/>
                          <a:pt x="17050" y="14146"/>
                          <a:pt x="16982" y="14028"/>
                        </a:cubicBezTo>
                        <a:cubicBezTo>
                          <a:pt x="16958" y="13986"/>
                          <a:pt x="16933" y="13953"/>
                          <a:pt x="16896" y="13923"/>
                        </a:cubicBezTo>
                        <a:cubicBezTo>
                          <a:pt x="16868" y="13911"/>
                          <a:pt x="16836" y="13904"/>
                          <a:pt x="16805" y="13905"/>
                        </a:cubicBezTo>
                        <a:cubicBezTo>
                          <a:pt x="16774" y="13906"/>
                          <a:pt x="16745" y="13915"/>
                          <a:pt x="16723" y="13932"/>
                        </a:cubicBezTo>
                        <a:cubicBezTo>
                          <a:pt x="16717" y="13942"/>
                          <a:pt x="16711" y="13954"/>
                          <a:pt x="16706" y="13965"/>
                        </a:cubicBezTo>
                        <a:cubicBezTo>
                          <a:pt x="16702" y="13976"/>
                          <a:pt x="16698" y="13986"/>
                          <a:pt x="16698" y="13995"/>
                        </a:cubicBezTo>
                        <a:cubicBezTo>
                          <a:pt x="16692" y="14043"/>
                          <a:pt x="16674" y="14089"/>
                          <a:pt x="16642" y="14130"/>
                        </a:cubicBezTo>
                        <a:cubicBezTo>
                          <a:pt x="16611" y="14171"/>
                          <a:pt x="16566" y="14207"/>
                          <a:pt x="16507" y="14235"/>
                        </a:cubicBezTo>
                        <a:cubicBezTo>
                          <a:pt x="16449" y="14260"/>
                          <a:pt x="16378" y="14272"/>
                          <a:pt x="16308" y="14271"/>
                        </a:cubicBezTo>
                        <a:cubicBezTo>
                          <a:pt x="16239" y="14270"/>
                          <a:pt x="16171" y="14256"/>
                          <a:pt x="16119" y="14226"/>
                        </a:cubicBezTo>
                        <a:cubicBezTo>
                          <a:pt x="16171" y="14195"/>
                          <a:pt x="16222" y="14161"/>
                          <a:pt x="16274" y="14127"/>
                        </a:cubicBezTo>
                        <a:cubicBezTo>
                          <a:pt x="16327" y="14094"/>
                          <a:pt x="16381" y="14060"/>
                          <a:pt x="16439" y="14028"/>
                        </a:cubicBezTo>
                        <a:cubicBezTo>
                          <a:pt x="16452" y="14020"/>
                          <a:pt x="16483" y="14003"/>
                          <a:pt x="16483" y="13986"/>
                        </a:cubicBezTo>
                        <a:cubicBezTo>
                          <a:pt x="16483" y="13970"/>
                          <a:pt x="16427" y="13961"/>
                          <a:pt x="16415" y="13940"/>
                        </a:cubicBezTo>
                        <a:cubicBezTo>
                          <a:pt x="16402" y="13927"/>
                          <a:pt x="16399" y="13913"/>
                          <a:pt x="16402" y="13899"/>
                        </a:cubicBezTo>
                        <a:cubicBezTo>
                          <a:pt x="16405" y="13885"/>
                          <a:pt x="16415" y="13873"/>
                          <a:pt x="16427" y="13864"/>
                        </a:cubicBezTo>
                        <a:cubicBezTo>
                          <a:pt x="16449" y="13854"/>
                          <a:pt x="16469" y="13847"/>
                          <a:pt x="16489" y="13841"/>
                        </a:cubicBezTo>
                        <a:cubicBezTo>
                          <a:pt x="16510" y="13835"/>
                          <a:pt x="16532" y="13831"/>
                          <a:pt x="16557" y="13827"/>
                        </a:cubicBezTo>
                        <a:cubicBezTo>
                          <a:pt x="16609" y="13818"/>
                          <a:pt x="16665" y="13812"/>
                          <a:pt x="16720" y="13805"/>
                        </a:cubicBezTo>
                        <a:cubicBezTo>
                          <a:pt x="16776" y="13799"/>
                          <a:pt x="16831" y="13793"/>
                          <a:pt x="16884" y="13784"/>
                        </a:cubicBezTo>
                        <a:cubicBezTo>
                          <a:pt x="16850" y="13749"/>
                          <a:pt x="16817" y="13715"/>
                          <a:pt x="16785" y="13681"/>
                        </a:cubicBezTo>
                        <a:cubicBezTo>
                          <a:pt x="16752" y="13648"/>
                          <a:pt x="16720" y="13614"/>
                          <a:pt x="16686" y="13578"/>
                        </a:cubicBezTo>
                        <a:cubicBezTo>
                          <a:pt x="16649" y="13585"/>
                          <a:pt x="16614" y="13578"/>
                          <a:pt x="16580" y="13567"/>
                        </a:cubicBezTo>
                        <a:cubicBezTo>
                          <a:pt x="16546" y="13556"/>
                          <a:pt x="16513" y="13540"/>
                          <a:pt x="16483" y="13528"/>
                        </a:cubicBezTo>
                        <a:cubicBezTo>
                          <a:pt x="16449" y="13515"/>
                          <a:pt x="16405" y="13509"/>
                          <a:pt x="16368" y="13511"/>
                        </a:cubicBezTo>
                        <a:cubicBezTo>
                          <a:pt x="16330" y="13513"/>
                          <a:pt x="16297" y="13524"/>
                          <a:pt x="16285" y="13545"/>
                        </a:cubicBezTo>
                        <a:cubicBezTo>
                          <a:pt x="16260" y="13524"/>
                          <a:pt x="16250" y="13494"/>
                          <a:pt x="16253" y="13466"/>
                        </a:cubicBezTo>
                        <a:cubicBezTo>
                          <a:pt x="16257" y="13437"/>
                          <a:pt x="16276" y="13410"/>
                          <a:pt x="16310" y="13393"/>
                        </a:cubicBezTo>
                        <a:cubicBezTo>
                          <a:pt x="16341" y="13374"/>
                          <a:pt x="16384" y="13368"/>
                          <a:pt x="16425" y="13372"/>
                        </a:cubicBezTo>
                        <a:cubicBezTo>
                          <a:pt x="16467" y="13376"/>
                          <a:pt x="16507" y="13391"/>
                          <a:pt x="16532" y="13414"/>
                        </a:cubicBezTo>
                        <a:cubicBezTo>
                          <a:pt x="16550" y="13435"/>
                          <a:pt x="16567" y="13464"/>
                          <a:pt x="16589" y="13485"/>
                        </a:cubicBezTo>
                        <a:cubicBezTo>
                          <a:pt x="16611" y="13506"/>
                          <a:pt x="16637" y="13519"/>
                          <a:pt x="16674" y="13511"/>
                        </a:cubicBezTo>
                        <a:cubicBezTo>
                          <a:pt x="16686" y="13511"/>
                          <a:pt x="16698" y="13504"/>
                          <a:pt x="16712" y="13495"/>
                        </a:cubicBezTo>
                        <a:cubicBezTo>
                          <a:pt x="16725" y="13487"/>
                          <a:pt x="16739" y="13477"/>
                          <a:pt x="16754" y="13473"/>
                        </a:cubicBezTo>
                        <a:cubicBezTo>
                          <a:pt x="16803" y="13456"/>
                          <a:pt x="16853" y="13473"/>
                          <a:pt x="16896" y="13503"/>
                        </a:cubicBezTo>
                        <a:cubicBezTo>
                          <a:pt x="16933" y="13528"/>
                          <a:pt x="16945" y="13562"/>
                          <a:pt x="16945" y="13599"/>
                        </a:cubicBezTo>
                        <a:cubicBezTo>
                          <a:pt x="16964" y="13652"/>
                          <a:pt x="16987" y="13713"/>
                          <a:pt x="17025" y="13763"/>
                        </a:cubicBezTo>
                        <a:cubicBezTo>
                          <a:pt x="17062" y="13814"/>
                          <a:pt x="17115" y="13854"/>
                          <a:pt x="17192" y="13864"/>
                        </a:cubicBezTo>
                        <a:cubicBezTo>
                          <a:pt x="17238" y="13869"/>
                          <a:pt x="17286" y="13861"/>
                          <a:pt x="17334" y="13856"/>
                        </a:cubicBezTo>
                        <a:cubicBezTo>
                          <a:pt x="17382" y="13852"/>
                          <a:pt x="17430" y="13850"/>
                          <a:pt x="17476" y="13864"/>
                        </a:cubicBezTo>
                        <a:cubicBezTo>
                          <a:pt x="17504" y="13873"/>
                          <a:pt x="17527" y="13885"/>
                          <a:pt x="17546" y="13902"/>
                        </a:cubicBezTo>
                        <a:cubicBezTo>
                          <a:pt x="17565" y="13918"/>
                          <a:pt x="17581" y="13938"/>
                          <a:pt x="17593" y="13961"/>
                        </a:cubicBezTo>
                        <a:cubicBezTo>
                          <a:pt x="17605" y="13982"/>
                          <a:pt x="17618" y="14002"/>
                          <a:pt x="17634" y="14019"/>
                        </a:cubicBezTo>
                        <a:cubicBezTo>
                          <a:pt x="17650" y="14036"/>
                          <a:pt x="17670" y="14049"/>
                          <a:pt x="17698" y="14058"/>
                        </a:cubicBezTo>
                        <a:cubicBezTo>
                          <a:pt x="17723" y="14066"/>
                          <a:pt x="17758" y="14066"/>
                          <a:pt x="17787" y="14059"/>
                        </a:cubicBezTo>
                        <a:cubicBezTo>
                          <a:pt x="17817" y="14053"/>
                          <a:pt x="17840" y="14039"/>
                          <a:pt x="17840" y="14020"/>
                        </a:cubicBezTo>
                        <a:cubicBezTo>
                          <a:pt x="17806" y="13991"/>
                          <a:pt x="17767" y="13962"/>
                          <a:pt x="17726" y="13938"/>
                        </a:cubicBezTo>
                        <a:cubicBezTo>
                          <a:pt x="17684" y="13914"/>
                          <a:pt x="17639" y="13894"/>
                          <a:pt x="17593" y="13881"/>
                        </a:cubicBezTo>
                        <a:cubicBezTo>
                          <a:pt x="17618" y="13873"/>
                          <a:pt x="17641" y="13857"/>
                          <a:pt x="17656" y="13838"/>
                        </a:cubicBezTo>
                        <a:cubicBezTo>
                          <a:pt x="17672" y="13819"/>
                          <a:pt x="17679" y="13797"/>
                          <a:pt x="17673" y="13776"/>
                        </a:cubicBezTo>
                        <a:cubicBezTo>
                          <a:pt x="17698" y="13784"/>
                          <a:pt x="17730" y="13784"/>
                          <a:pt x="17758" y="13778"/>
                        </a:cubicBezTo>
                        <a:cubicBezTo>
                          <a:pt x="17786" y="13771"/>
                          <a:pt x="17809" y="13757"/>
                          <a:pt x="17815" y="13738"/>
                        </a:cubicBezTo>
                        <a:cubicBezTo>
                          <a:pt x="17747" y="13768"/>
                          <a:pt x="17661" y="13717"/>
                          <a:pt x="17661" y="13667"/>
                        </a:cubicBezTo>
                        <a:cubicBezTo>
                          <a:pt x="17661" y="13612"/>
                          <a:pt x="17735" y="13570"/>
                          <a:pt x="17815" y="13562"/>
                        </a:cubicBezTo>
                        <a:cubicBezTo>
                          <a:pt x="17716" y="13549"/>
                          <a:pt x="17635" y="13514"/>
                          <a:pt x="17563" y="13470"/>
                        </a:cubicBezTo>
                        <a:cubicBezTo>
                          <a:pt x="17491" y="13425"/>
                          <a:pt x="17430" y="13370"/>
                          <a:pt x="17371" y="13318"/>
                        </a:cubicBezTo>
                        <a:cubicBezTo>
                          <a:pt x="17359" y="13303"/>
                          <a:pt x="17346" y="13289"/>
                          <a:pt x="17339" y="13276"/>
                        </a:cubicBezTo>
                        <a:cubicBezTo>
                          <a:pt x="17331" y="13263"/>
                          <a:pt x="17328" y="13250"/>
                          <a:pt x="17334" y="13238"/>
                        </a:cubicBezTo>
                        <a:cubicBezTo>
                          <a:pt x="17223" y="13246"/>
                          <a:pt x="17123" y="13200"/>
                          <a:pt x="17026" y="13158"/>
                        </a:cubicBezTo>
                        <a:cubicBezTo>
                          <a:pt x="16930" y="13116"/>
                          <a:pt x="16837" y="13078"/>
                          <a:pt x="16742" y="13103"/>
                        </a:cubicBezTo>
                        <a:cubicBezTo>
                          <a:pt x="16708" y="13111"/>
                          <a:pt x="16681" y="13125"/>
                          <a:pt x="16655" y="13139"/>
                        </a:cubicBezTo>
                        <a:cubicBezTo>
                          <a:pt x="16629" y="13152"/>
                          <a:pt x="16603" y="13166"/>
                          <a:pt x="16569" y="13175"/>
                        </a:cubicBezTo>
                        <a:cubicBezTo>
                          <a:pt x="16544" y="13183"/>
                          <a:pt x="16509" y="13187"/>
                          <a:pt x="16476" y="13184"/>
                        </a:cubicBezTo>
                        <a:cubicBezTo>
                          <a:pt x="16444" y="13181"/>
                          <a:pt x="16415" y="13170"/>
                          <a:pt x="16402" y="13149"/>
                        </a:cubicBezTo>
                        <a:cubicBezTo>
                          <a:pt x="16442" y="13126"/>
                          <a:pt x="16481" y="13106"/>
                          <a:pt x="16523" y="13090"/>
                        </a:cubicBezTo>
                        <a:cubicBezTo>
                          <a:pt x="16564" y="13074"/>
                          <a:pt x="16609" y="13061"/>
                          <a:pt x="16661" y="13053"/>
                        </a:cubicBezTo>
                        <a:cubicBezTo>
                          <a:pt x="16686" y="13048"/>
                          <a:pt x="16715" y="13043"/>
                          <a:pt x="16745" y="13037"/>
                        </a:cubicBezTo>
                        <a:cubicBezTo>
                          <a:pt x="16774" y="13030"/>
                          <a:pt x="16803" y="13023"/>
                          <a:pt x="16828" y="13015"/>
                        </a:cubicBezTo>
                        <a:cubicBezTo>
                          <a:pt x="16887" y="12985"/>
                          <a:pt x="16901" y="12928"/>
                          <a:pt x="16916" y="12873"/>
                        </a:cubicBezTo>
                        <a:cubicBezTo>
                          <a:pt x="16931" y="12818"/>
                          <a:pt x="16948" y="12764"/>
                          <a:pt x="17013" y="12741"/>
                        </a:cubicBezTo>
                        <a:cubicBezTo>
                          <a:pt x="17044" y="12741"/>
                          <a:pt x="17062" y="12756"/>
                          <a:pt x="17072" y="12776"/>
                        </a:cubicBezTo>
                        <a:cubicBezTo>
                          <a:pt x="17081" y="12797"/>
                          <a:pt x="17081" y="12823"/>
                          <a:pt x="17075" y="12846"/>
                        </a:cubicBezTo>
                        <a:cubicBezTo>
                          <a:pt x="17062" y="12888"/>
                          <a:pt x="17038" y="12943"/>
                          <a:pt x="17087" y="12973"/>
                        </a:cubicBezTo>
                        <a:cubicBezTo>
                          <a:pt x="17130" y="12998"/>
                          <a:pt x="17192" y="12989"/>
                          <a:pt x="17241" y="13006"/>
                        </a:cubicBezTo>
                        <a:cubicBezTo>
                          <a:pt x="17285" y="13023"/>
                          <a:pt x="17309" y="13061"/>
                          <a:pt x="17334" y="13086"/>
                        </a:cubicBezTo>
                        <a:cubicBezTo>
                          <a:pt x="17359" y="13111"/>
                          <a:pt x="17426" y="13128"/>
                          <a:pt x="17463" y="13103"/>
                        </a:cubicBezTo>
                        <a:cubicBezTo>
                          <a:pt x="17476" y="13141"/>
                          <a:pt x="17488" y="13175"/>
                          <a:pt x="17531" y="13208"/>
                        </a:cubicBezTo>
                        <a:cubicBezTo>
                          <a:pt x="17568" y="13238"/>
                          <a:pt x="17630" y="13254"/>
                          <a:pt x="17673" y="13238"/>
                        </a:cubicBezTo>
                        <a:cubicBezTo>
                          <a:pt x="17692" y="13233"/>
                          <a:pt x="17703" y="13224"/>
                          <a:pt x="17714" y="13214"/>
                        </a:cubicBezTo>
                        <a:cubicBezTo>
                          <a:pt x="17726" y="13205"/>
                          <a:pt x="17738" y="13196"/>
                          <a:pt x="17760" y="13191"/>
                        </a:cubicBezTo>
                        <a:cubicBezTo>
                          <a:pt x="17778" y="13187"/>
                          <a:pt x="17801" y="13191"/>
                          <a:pt x="17826" y="13196"/>
                        </a:cubicBezTo>
                        <a:cubicBezTo>
                          <a:pt x="17851" y="13200"/>
                          <a:pt x="17877" y="13204"/>
                          <a:pt x="17902" y="13200"/>
                        </a:cubicBezTo>
                        <a:cubicBezTo>
                          <a:pt x="17929" y="13196"/>
                          <a:pt x="17946" y="13184"/>
                          <a:pt x="17955" y="13169"/>
                        </a:cubicBezTo>
                        <a:cubicBezTo>
                          <a:pt x="17963" y="13155"/>
                          <a:pt x="17963" y="13137"/>
                          <a:pt x="17957" y="13120"/>
                        </a:cubicBezTo>
                        <a:cubicBezTo>
                          <a:pt x="17951" y="13101"/>
                          <a:pt x="17940" y="13088"/>
                          <a:pt x="17926" y="13077"/>
                        </a:cubicBezTo>
                        <a:cubicBezTo>
                          <a:pt x="17912" y="13066"/>
                          <a:pt x="17895" y="13057"/>
                          <a:pt x="17877" y="13044"/>
                        </a:cubicBezTo>
                        <a:cubicBezTo>
                          <a:pt x="18031" y="13044"/>
                          <a:pt x="18192" y="13032"/>
                          <a:pt x="18333" y="13032"/>
                        </a:cubicBezTo>
                        <a:cubicBezTo>
                          <a:pt x="18358" y="13032"/>
                          <a:pt x="18383" y="13032"/>
                          <a:pt x="18395" y="13023"/>
                        </a:cubicBezTo>
                        <a:cubicBezTo>
                          <a:pt x="18414" y="13015"/>
                          <a:pt x="18420" y="13000"/>
                          <a:pt x="18420" y="12983"/>
                        </a:cubicBezTo>
                        <a:cubicBezTo>
                          <a:pt x="18420" y="12965"/>
                          <a:pt x="18414" y="12945"/>
                          <a:pt x="18407" y="12926"/>
                        </a:cubicBezTo>
                        <a:cubicBezTo>
                          <a:pt x="18401" y="12910"/>
                          <a:pt x="18407" y="12890"/>
                          <a:pt x="18422" y="12876"/>
                        </a:cubicBezTo>
                        <a:cubicBezTo>
                          <a:pt x="18437" y="12863"/>
                          <a:pt x="18460" y="12857"/>
                          <a:pt x="18488" y="12867"/>
                        </a:cubicBezTo>
                        <a:cubicBezTo>
                          <a:pt x="18429" y="12823"/>
                          <a:pt x="18341" y="12808"/>
                          <a:pt x="18253" y="12792"/>
                        </a:cubicBezTo>
                        <a:cubicBezTo>
                          <a:pt x="18165" y="12776"/>
                          <a:pt x="18077" y="12760"/>
                          <a:pt x="18019" y="12716"/>
                        </a:cubicBezTo>
                        <a:cubicBezTo>
                          <a:pt x="17982" y="12693"/>
                          <a:pt x="17956" y="12659"/>
                          <a:pt x="17926" y="12630"/>
                        </a:cubicBezTo>
                        <a:cubicBezTo>
                          <a:pt x="17897" y="12601"/>
                          <a:pt x="17865" y="12577"/>
                          <a:pt x="17815" y="12573"/>
                        </a:cubicBezTo>
                        <a:lnTo>
                          <a:pt x="17710" y="12573"/>
                        </a:lnTo>
                        <a:cubicBezTo>
                          <a:pt x="17670" y="12569"/>
                          <a:pt x="17641" y="12554"/>
                          <a:pt x="17625" y="12534"/>
                        </a:cubicBezTo>
                        <a:cubicBezTo>
                          <a:pt x="17608" y="12513"/>
                          <a:pt x="17605" y="12487"/>
                          <a:pt x="17618" y="12459"/>
                        </a:cubicBezTo>
                        <a:cubicBezTo>
                          <a:pt x="17612" y="12447"/>
                          <a:pt x="17612" y="12436"/>
                          <a:pt x="17615" y="12425"/>
                        </a:cubicBezTo>
                        <a:cubicBezTo>
                          <a:pt x="17618" y="12414"/>
                          <a:pt x="17624" y="12403"/>
                          <a:pt x="17630" y="12388"/>
                        </a:cubicBezTo>
                        <a:cubicBezTo>
                          <a:pt x="17645" y="12392"/>
                          <a:pt x="17662" y="12394"/>
                          <a:pt x="17680" y="12395"/>
                        </a:cubicBezTo>
                        <a:cubicBezTo>
                          <a:pt x="17698" y="12396"/>
                          <a:pt x="17716" y="12396"/>
                          <a:pt x="17735" y="12396"/>
                        </a:cubicBezTo>
                        <a:cubicBezTo>
                          <a:pt x="17741" y="12401"/>
                          <a:pt x="17744" y="12406"/>
                          <a:pt x="17747" y="12411"/>
                        </a:cubicBezTo>
                        <a:cubicBezTo>
                          <a:pt x="17750" y="12416"/>
                          <a:pt x="17753" y="12422"/>
                          <a:pt x="17760" y="12426"/>
                        </a:cubicBezTo>
                        <a:cubicBezTo>
                          <a:pt x="17818" y="12403"/>
                          <a:pt x="17883" y="12405"/>
                          <a:pt x="17945" y="12420"/>
                        </a:cubicBezTo>
                        <a:cubicBezTo>
                          <a:pt x="18006" y="12435"/>
                          <a:pt x="18065" y="12464"/>
                          <a:pt x="18111" y="12493"/>
                        </a:cubicBezTo>
                        <a:cubicBezTo>
                          <a:pt x="18164" y="12525"/>
                          <a:pt x="18216" y="12556"/>
                          <a:pt x="18273" y="12579"/>
                        </a:cubicBezTo>
                        <a:cubicBezTo>
                          <a:pt x="18330" y="12601"/>
                          <a:pt x="18392" y="12615"/>
                          <a:pt x="18463" y="12611"/>
                        </a:cubicBezTo>
                        <a:cubicBezTo>
                          <a:pt x="18441" y="12588"/>
                          <a:pt x="18457" y="12566"/>
                          <a:pt x="18476" y="12544"/>
                        </a:cubicBezTo>
                        <a:cubicBezTo>
                          <a:pt x="18495" y="12521"/>
                          <a:pt x="18519" y="12499"/>
                          <a:pt x="18512" y="12476"/>
                        </a:cubicBezTo>
                        <a:cubicBezTo>
                          <a:pt x="18512" y="12468"/>
                          <a:pt x="18509" y="12462"/>
                          <a:pt x="18505" y="12456"/>
                        </a:cubicBezTo>
                        <a:cubicBezTo>
                          <a:pt x="18500" y="12451"/>
                          <a:pt x="18494" y="12447"/>
                          <a:pt x="18488" y="12443"/>
                        </a:cubicBezTo>
                        <a:cubicBezTo>
                          <a:pt x="18448" y="12403"/>
                          <a:pt x="18409" y="12363"/>
                          <a:pt x="18369" y="12323"/>
                        </a:cubicBezTo>
                        <a:cubicBezTo>
                          <a:pt x="18329" y="12283"/>
                          <a:pt x="18287" y="12243"/>
                          <a:pt x="18241" y="12203"/>
                        </a:cubicBezTo>
                        <a:cubicBezTo>
                          <a:pt x="18272" y="12199"/>
                          <a:pt x="18307" y="12201"/>
                          <a:pt x="18340" y="12210"/>
                        </a:cubicBezTo>
                        <a:cubicBezTo>
                          <a:pt x="18372" y="12219"/>
                          <a:pt x="18401" y="12234"/>
                          <a:pt x="18420" y="12258"/>
                        </a:cubicBezTo>
                        <a:cubicBezTo>
                          <a:pt x="18448" y="12274"/>
                          <a:pt x="18465" y="12294"/>
                          <a:pt x="18478" y="12316"/>
                        </a:cubicBezTo>
                        <a:cubicBezTo>
                          <a:pt x="18491" y="12338"/>
                          <a:pt x="18500" y="12363"/>
                          <a:pt x="18512" y="12388"/>
                        </a:cubicBezTo>
                        <a:cubicBezTo>
                          <a:pt x="18577" y="12344"/>
                          <a:pt x="18642" y="12300"/>
                          <a:pt x="18708" y="12256"/>
                        </a:cubicBezTo>
                        <a:cubicBezTo>
                          <a:pt x="18775" y="12213"/>
                          <a:pt x="18842" y="12171"/>
                          <a:pt x="18913" y="12131"/>
                        </a:cubicBezTo>
                        <a:cubicBezTo>
                          <a:pt x="18953" y="12106"/>
                          <a:pt x="18998" y="12078"/>
                          <a:pt x="19030" y="12047"/>
                        </a:cubicBezTo>
                        <a:cubicBezTo>
                          <a:pt x="19061" y="12016"/>
                          <a:pt x="19080" y="11982"/>
                          <a:pt x="19068" y="11946"/>
                        </a:cubicBezTo>
                        <a:cubicBezTo>
                          <a:pt x="19021" y="11929"/>
                          <a:pt x="18967" y="11927"/>
                          <a:pt x="18920" y="11938"/>
                        </a:cubicBezTo>
                        <a:cubicBezTo>
                          <a:pt x="18872" y="11949"/>
                          <a:pt x="18830" y="11974"/>
                          <a:pt x="18808" y="12009"/>
                        </a:cubicBezTo>
                        <a:cubicBezTo>
                          <a:pt x="18691" y="11967"/>
                          <a:pt x="18642" y="11858"/>
                          <a:pt x="18642" y="11770"/>
                        </a:cubicBezTo>
                        <a:cubicBezTo>
                          <a:pt x="18642" y="11736"/>
                          <a:pt x="18642" y="11698"/>
                          <a:pt x="18630" y="11664"/>
                        </a:cubicBezTo>
                        <a:cubicBezTo>
                          <a:pt x="18623" y="11645"/>
                          <a:pt x="18606" y="11628"/>
                          <a:pt x="18585" y="11616"/>
                        </a:cubicBezTo>
                        <a:cubicBezTo>
                          <a:pt x="18563" y="11604"/>
                          <a:pt x="18537" y="11599"/>
                          <a:pt x="18512" y="11606"/>
                        </a:cubicBezTo>
                        <a:cubicBezTo>
                          <a:pt x="18537" y="11587"/>
                          <a:pt x="18563" y="11567"/>
                          <a:pt x="18589" y="11546"/>
                        </a:cubicBezTo>
                        <a:cubicBezTo>
                          <a:pt x="18616" y="11525"/>
                          <a:pt x="18642" y="11502"/>
                          <a:pt x="18667" y="11479"/>
                        </a:cubicBezTo>
                        <a:cubicBezTo>
                          <a:pt x="18654" y="11475"/>
                          <a:pt x="18639" y="11473"/>
                          <a:pt x="18623" y="11471"/>
                        </a:cubicBezTo>
                        <a:cubicBezTo>
                          <a:pt x="18606" y="11469"/>
                          <a:pt x="18589" y="11467"/>
                          <a:pt x="18574" y="11463"/>
                        </a:cubicBezTo>
                        <a:cubicBezTo>
                          <a:pt x="18633" y="11427"/>
                          <a:pt x="18665" y="11378"/>
                          <a:pt x="18672" y="11328"/>
                        </a:cubicBezTo>
                        <a:cubicBezTo>
                          <a:pt x="18679" y="11277"/>
                          <a:pt x="18660" y="11225"/>
                          <a:pt x="18617" y="11181"/>
                        </a:cubicBezTo>
                        <a:cubicBezTo>
                          <a:pt x="18617" y="11193"/>
                          <a:pt x="18620" y="11204"/>
                          <a:pt x="18623" y="11215"/>
                        </a:cubicBezTo>
                        <a:cubicBezTo>
                          <a:pt x="18626" y="11226"/>
                          <a:pt x="18630" y="11237"/>
                          <a:pt x="18630" y="11252"/>
                        </a:cubicBezTo>
                        <a:cubicBezTo>
                          <a:pt x="18611" y="11229"/>
                          <a:pt x="18588" y="11209"/>
                          <a:pt x="18565" y="11189"/>
                        </a:cubicBezTo>
                        <a:cubicBezTo>
                          <a:pt x="18542" y="11169"/>
                          <a:pt x="18519" y="11149"/>
                          <a:pt x="18500" y="11126"/>
                        </a:cubicBezTo>
                        <a:cubicBezTo>
                          <a:pt x="18525" y="11113"/>
                          <a:pt x="18551" y="11105"/>
                          <a:pt x="18579" y="11100"/>
                        </a:cubicBezTo>
                        <a:cubicBezTo>
                          <a:pt x="18606" y="11094"/>
                          <a:pt x="18636" y="11092"/>
                          <a:pt x="18667" y="11092"/>
                        </a:cubicBezTo>
                        <a:cubicBezTo>
                          <a:pt x="18654" y="11044"/>
                          <a:pt x="18642" y="10996"/>
                          <a:pt x="18631" y="10947"/>
                        </a:cubicBezTo>
                        <a:cubicBezTo>
                          <a:pt x="18620" y="10899"/>
                          <a:pt x="18611" y="10850"/>
                          <a:pt x="18605" y="10802"/>
                        </a:cubicBezTo>
                        <a:cubicBezTo>
                          <a:pt x="18589" y="10754"/>
                          <a:pt x="18576" y="10702"/>
                          <a:pt x="18559" y="10651"/>
                        </a:cubicBezTo>
                        <a:cubicBezTo>
                          <a:pt x="18543" y="10599"/>
                          <a:pt x="18525" y="10548"/>
                          <a:pt x="18500" y="10499"/>
                        </a:cubicBezTo>
                        <a:cubicBezTo>
                          <a:pt x="18488" y="10482"/>
                          <a:pt x="18474" y="10466"/>
                          <a:pt x="18461" y="10448"/>
                        </a:cubicBezTo>
                        <a:cubicBezTo>
                          <a:pt x="18449" y="10431"/>
                          <a:pt x="18438" y="10413"/>
                          <a:pt x="18432" y="10394"/>
                        </a:cubicBezTo>
                        <a:cubicBezTo>
                          <a:pt x="18420" y="10354"/>
                          <a:pt x="18417" y="10306"/>
                          <a:pt x="18402" y="10264"/>
                        </a:cubicBezTo>
                        <a:cubicBezTo>
                          <a:pt x="18387" y="10223"/>
                          <a:pt x="18361" y="10188"/>
                          <a:pt x="18303" y="10175"/>
                        </a:cubicBezTo>
                        <a:cubicBezTo>
                          <a:pt x="18318" y="10140"/>
                          <a:pt x="18323" y="10102"/>
                          <a:pt x="18318" y="10065"/>
                        </a:cubicBezTo>
                        <a:cubicBezTo>
                          <a:pt x="18313" y="10028"/>
                          <a:pt x="18299" y="9992"/>
                          <a:pt x="18278" y="9961"/>
                        </a:cubicBezTo>
                        <a:cubicBezTo>
                          <a:pt x="18303" y="9936"/>
                          <a:pt x="18370" y="9936"/>
                          <a:pt x="18407" y="9952"/>
                        </a:cubicBezTo>
                        <a:cubicBezTo>
                          <a:pt x="18444" y="9969"/>
                          <a:pt x="18475" y="9999"/>
                          <a:pt x="18525" y="10016"/>
                        </a:cubicBezTo>
                        <a:cubicBezTo>
                          <a:pt x="18543" y="10024"/>
                          <a:pt x="18572" y="10024"/>
                          <a:pt x="18597" y="10019"/>
                        </a:cubicBezTo>
                        <a:cubicBezTo>
                          <a:pt x="18622" y="10013"/>
                          <a:pt x="18642" y="10003"/>
                          <a:pt x="18642" y="9990"/>
                        </a:cubicBezTo>
                        <a:cubicBezTo>
                          <a:pt x="18679" y="10121"/>
                          <a:pt x="18722" y="10272"/>
                          <a:pt x="18864" y="10369"/>
                        </a:cubicBezTo>
                        <a:cubicBezTo>
                          <a:pt x="18889" y="10386"/>
                          <a:pt x="18913" y="10394"/>
                          <a:pt x="18913" y="10419"/>
                        </a:cubicBezTo>
                        <a:cubicBezTo>
                          <a:pt x="18913" y="10440"/>
                          <a:pt x="18901" y="10457"/>
                          <a:pt x="18889" y="10474"/>
                        </a:cubicBezTo>
                        <a:cubicBezTo>
                          <a:pt x="18861" y="10522"/>
                          <a:pt x="18896" y="10567"/>
                          <a:pt x="18940" y="10611"/>
                        </a:cubicBezTo>
                        <a:cubicBezTo>
                          <a:pt x="18984" y="10655"/>
                          <a:pt x="19037" y="10699"/>
                          <a:pt x="19043" y="10747"/>
                        </a:cubicBezTo>
                        <a:lnTo>
                          <a:pt x="19043" y="10819"/>
                        </a:lnTo>
                        <a:cubicBezTo>
                          <a:pt x="19049" y="10832"/>
                          <a:pt x="19061" y="10842"/>
                          <a:pt x="19076" y="10847"/>
                        </a:cubicBezTo>
                        <a:cubicBezTo>
                          <a:pt x="19091" y="10853"/>
                          <a:pt x="19108" y="10853"/>
                          <a:pt x="19123" y="10844"/>
                        </a:cubicBezTo>
                        <a:cubicBezTo>
                          <a:pt x="19123" y="10764"/>
                          <a:pt x="19115" y="10685"/>
                          <a:pt x="19102" y="10608"/>
                        </a:cubicBezTo>
                        <a:cubicBezTo>
                          <a:pt x="19088" y="10530"/>
                          <a:pt x="19068" y="10453"/>
                          <a:pt x="19043" y="10377"/>
                        </a:cubicBezTo>
                        <a:cubicBezTo>
                          <a:pt x="19031" y="10341"/>
                          <a:pt x="19014" y="10303"/>
                          <a:pt x="19002" y="10263"/>
                        </a:cubicBezTo>
                        <a:cubicBezTo>
                          <a:pt x="18990" y="10224"/>
                          <a:pt x="18984" y="10184"/>
                          <a:pt x="18994" y="10146"/>
                        </a:cubicBezTo>
                        <a:cubicBezTo>
                          <a:pt x="19000" y="10106"/>
                          <a:pt x="19012" y="10067"/>
                          <a:pt x="19036" y="10033"/>
                        </a:cubicBezTo>
                        <a:cubicBezTo>
                          <a:pt x="19060" y="10000"/>
                          <a:pt x="19095" y="9971"/>
                          <a:pt x="19148" y="9952"/>
                        </a:cubicBezTo>
                        <a:cubicBezTo>
                          <a:pt x="19108" y="9952"/>
                          <a:pt x="19085" y="9932"/>
                          <a:pt x="19075" y="9907"/>
                        </a:cubicBezTo>
                        <a:cubicBezTo>
                          <a:pt x="19065" y="9882"/>
                          <a:pt x="19068" y="9851"/>
                          <a:pt x="19080" y="9830"/>
                        </a:cubicBezTo>
                        <a:cubicBezTo>
                          <a:pt x="19092" y="9807"/>
                          <a:pt x="19115" y="9783"/>
                          <a:pt x="19134" y="9759"/>
                        </a:cubicBezTo>
                        <a:cubicBezTo>
                          <a:pt x="19152" y="9735"/>
                          <a:pt x="19166" y="9711"/>
                          <a:pt x="19160" y="9687"/>
                        </a:cubicBezTo>
                        <a:cubicBezTo>
                          <a:pt x="19148" y="9662"/>
                          <a:pt x="19123" y="9637"/>
                          <a:pt x="19123" y="9607"/>
                        </a:cubicBezTo>
                        <a:cubicBezTo>
                          <a:pt x="19123" y="9574"/>
                          <a:pt x="19160" y="9540"/>
                          <a:pt x="19172" y="9502"/>
                        </a:cubicBezTo>
                        <a:cubicBezTo>
                          <a:pt x="19185" y="9443"/>
                          <a:pt x="19117" y="9385"/>
                          <a:pt x="19055" y="9334"/>
                        </a:cubicBezTo>
                        <a:cubicBezTo>
                          <a:pt x="18987" y="9279"/>
                          <a:pt x="18950" y="9212"/>
                          <a:pt x="19006" y="9157"/>
                        </a:cubicBezTo>
                        <a:cubicBezTo>
                          <a:pt x="18978" y="9157"/>
                          <a:pt x="18958" y="9149"/>
                          <a:pt x="18942" y="9137"/>
                        </a:cubicBezTo>
                        <a:cubicBezTo>
                          <a:pt x="18926" y="9126"/>
                          <a:pt x="18913" y="9111"/>
                          <a:pt x="18901" y="9099"/>
                        </a:cubicBezTo>
                        <a:cubicBezTo>
                          <a:pt x="18867" y="9050"/>
                          <a:pt x="18847" y="8996"/>
                          <a:pt x="18842" y="8943"/>
                        </a:cubicBezTo>
                        <a:cubicBezTo>
                          <a:pt x="18838" y="8889"/>
                          <a:pt x="18849" y="8836"/>
                          <a:pt x="18876" y="8787"/>
                        </a:cubicBezTo>
                        <a:cubicBezTo>
                          <a:pt x="18895" y="8747"/>
                          <a:pt x="18920" y="8710"/>
                          <a:pt x="18948" y="8675"/>
                        </a:cubicBezTo>
                        <a:cubicBezTo>
                          <a:pt x="18977" y="8639"/>
                          <a:pt x="19009" y="8604"/>
                          <a:pt x="19043" y="8568"/>
                        </a:cubicBezTo>
                        <a:cubicBezTo>
                          <a:pt x="19024" y="8533"/>
                          <a:pt x="19018" y="8493"/>
                          <a:pt x="19023" y="8453"/>
                        </a:cubicBezTo>
                        <a:cubicBezTo>
                          <a:pt x="19028" y="8413"/>
                          <a:pt x="19043" y="8373"/>
                          <a:pt x="19068" y="8337"/>
                        </a:cubicBezTo>
                        <a:cubicBezTo>
                          <a:pt x="19037" y="8341"/>
                          <a:pt x="19001" y="8343"/>
                          <a:pt x="18972" y="8339"/>
                        </a:cubicBezTo>
                        <a:cubicBezTo>
                          <a:pt x="18943" y="8335"/>
                          <a:pt x="18920" y="8325"/>
                          <a:pt x="18913" y="8303"/>
                        </a:cubicBezTo>
                        <a:cubicBezTo>
                          <a:pt x="18913" y="8295"/>
                          <a:pt x="18916" y="8289"/>
                          <a:pt x="18921" y="8282"/>
                        </a:cubicBezTo>
                        <a:cubicBezTo>
                          <a:pt x="18926" y="8275"/>
                          <a:pt x="18932" y="8268"/>
                          <a:pt x="18938" y="8257"/>
                        </a:cubicBezTo>
                        <a:cubicBezTo>
                          <a:pt x="18957" y="8228"/>
                          <a:pt x="18941" y="8189"/>
                          <a:pt x="18930" y="8152"/>
                        </a:cubicBezTo>
                        <a:cubicBezTo>
                          <a:pt x="18920" y="8114"/>
                          <a:pt x="18913" y="8078"/>
                          <a:pt x="18950" y="8055"/>
                        </a:cubicBezTo>
                        <a:cubicBezTo>
                          <a:pt x="18963" y="8047"/>
                          <a:pt x="18980" y="8043"/>
                          <a:pt x="18998" y="8040"/>
                        </a:cubicBezTo>
                        <a:cubicBezTo>
                          <a:pt x="19017" y="8036"/>
                          <a:pt x="19037" y="8034"/>
                          <a:pt x="19055" y="8030"/>
                        </a:cubicBezTo>
                        <a:cubicBezTo>
                          <a:pt x="19102" y="8017"/>
                          <a:pt x="19122" y="7989"/>
                          <a:pt x="19126" y="7956"/>
                        </a:cubicBezTo>
                        <a:cubicBezTo>
                          <a:pt x="19131" y="7923"/>
                          <a:pt x="19120" y="7885"/>
                          <a:pt x="19105" y="7853"/>
                        </a:cubicBezTo>
                        <a:cubicBezTo>
                          <a:pt x="19092" y="7822"/>
                          <a:pt x="19083" y="7784"/>
                          <a:pt x="19087" y="7751"/>
                        </a:cubicBezTo>
                        <a:cubicBezTo>
                          <a:pt x="19091" y="7718"/>
                          <a:pt x="19108" y="7689"/>
                          <a:pt x="19148" y="7677"/>
                        </a:cubicBezTo>
                        <a:cubicBezTo>
                          <a:pt x="19160" y="7673"/>
                          <a:pt x="19172" y="7670"/>
                          <a:pt x="19185" y="7668"/>
                        </a:cubicBezTo>
                        <a:cubicBezTo>
                          <a:pt x="19197" y="7666"/>
                          <a:pt x="19210" y="7664"/>
                          <a:pt x="19222" y="7660"/>
                        </a:cubicBezTo>
                        <a:cubicBezTo>
                          <a:pt x="19250" y="7647"/>
                          <a:pt x="19263" y="7629"/>
                          <a:pt x="19272" y="7609"/>
                        </a:cubicBezTo>
                        <a:cubicBezTo>
                          <a:pt x="19280" y="7589"/>
                          <a:pt x="19284" y="7567"/>
                          <a:pt x="19290" y="7546"/>
                        </a:cubicBezTo>
                        <a:cubicBezTo>
                          <a:pt x="19296" y="7502"/>
                          <a:pt x="19314" y="7460"/>
                          <a:pt x="19334" y="7418"/>
                        </a:cubicBezTo>
                        <a:cubicBezTo>
                          <a:pt x="19353" y="7376"/>
                          <a:pt x="19373" y="7334"/>
                          <a:pt x="19382" y="7290"/>
                        </a:cubicBezTo>
                        <a:cubicBezTo>
                          <a:pt x="19388" y="7246"/>
                          <a:pt x="19371" y="7197"/>
                          <a:pt x="19337" y="7160"/>
                        </a:cubicBezTo>
                        <a:cubicBezTo>
                          <a:pt x="19302" y="7123"/>
                          <a:pt x="19250" y="7096"/>
                          <a:pt x="19185" y="7096"/>
                        </a:cubicBezTo>
                        <a:cubicBezTo>
                          <a:pt x="19191" y="7161"/>
                          <a:pt x="19159" y="7230"/>
                          <a:pt x="19101" y="7285"/>
                        </a:cubicBezTo>
                        <a:cubicBezTo>
                          <a:pt x="19043" y="7340"/>
                          <a:pt x="18960" y="7382"/>
                          <a:pt x="18864" y="7395"/>
                        </a:cubicBezTo>
                        <a:cubicBezTo>
                          <a:pt x="18842" y="7342"/>
                          <a:pt x="18839" y="7287"/>
                          <a:pt x="18849" y="7231"/>
                        </a:cubicBezTo>
                        <a:cubicBezTo>
                          <a:pt x="18859" y="7175"/>
                          <a:pt x="18883" y="7119"/>
                          <a:pt x="18913" y="7067"/>
                        </a:cubicBezTo>
                        <a:cubicBezTo>
                          <a:pt x="18873" y="7058"/>
                          <a:pt x="18847" y="7036"/>
                          <a:pt x="18829" y="7009"/>
                        </a:cubicBezTo>
                        <a:cubicBezTo>
                          <a:pt x="18812" y="6982"/>
                          <a:pt x="18802" y="6949"/>
                          <a:pt x="18796" y="6920"/>
                        </a:cubicBezTo>
                        <a:cubicBezTo>
                          <a:pt x="18790" y="6871"/>
                          <a:pt x="18784" y="6820"/>
                          <a:pt x="18776" y="6768"/>
                        </a:cubicBezTo>
                        <a:cubicBezTo>
                          <a:pt x="18768" y="6717"/>
                          <a:pt x="18759" y="6665"/>
                          <a:pt x="18747" y="6617"/>
                        </a:cubicBezTo>
                        <a:cubicBezTo>
                          <a:pt x="18784" y="6503"/>
                          <a:pt x="19031" y="6457"/>
                          <a:pt x="19148" y="6537"/>
                        </a:cubicBezTo>
                        <a:cubicBezTo>
                          <a:pt x="19172" y="6554"/>
                          <a:pt x="19185" y="6583"/>
                          <a:pt x="19222" y="6583"/>
                        </a:cubicBezTo>
                        <a:cubicBezTo>
                          <a:pt x="19222" y="6520"/>
                          <a:pt x="19382" y="6495"/>
                          <a:pt x="19382" y="6432"/>
                        </a:cubicBezTo>
                        <a:cubicBezTo>
                          <a:pt x="19382" y="6415"/>
                          <a:pt x="19364" y="6398"/>
                          <a:pt x="19364" y="6381"/>
                        </a:cubicBezTo>
                        <a:cubicBezTo>
                          <a:pt x="19364" y="6360"/>
                          <a:pt x="19382" y="6335"/>
                          <a:pt x="19395" y="6318"/>
                        </a:cubicBezTo>
                        <a:cubicBezTo>
                          <a:pt x="19444" y="6253"/>
                          <a:pt x="19486" y="6187"/>
                          <a:pt x="19521" y="6119"/>
                        </a:cubicBezTo>
                        <a:cubicBezTo>
                          <a:pt x="19557" y="6051"/>
                          <a:pt x="19586" y="5982"/>
                          <a:pt x="19611" y="5910"/>
                        </a:cubicBezTo>
                        <a:cubicBezTo>
                          <a:pt x="19632" y="5925"/>
                          <a:pt x="19658" y="5925"/>
                          <a:pt x="19682" y="5917"/>
                        </a:cubicBezTo>
                        <a:cubicBezTo>
                          <a:pt x="19706" y="5909"/>
                          <a:pt x="19728" y="5893"/>
                          <a:pt x="19740" y="5876"/>
                        </a:cubicBezTo>
                        <a:cubicBezTo>
                          <a:pt x="19746" y="5860"/>
                          <a:pt x="19749" y="5840"/>
                          <a:pt x="19755" y="5821"/>
                        </a:cubicBezTo>
                        <a:cubicBezTo>
                          <a:pt x="19760" y="5802"/>
                          <a:pt x="19768" y="5784"/>
                          <a:pt x="19783" y="5771"/>
                        </a:cubicBezTo>
                        <a:cubicBezTo>
                          <a:pt x="19796" y="5759"/>
                          <a:pt x="19811" y="5747"/>
                          <a:pt x="19826" y="5737"/>
                        </a:cubicBezTo>
                        <a:cubicBezTo>
                          <a:pt x="19842" y="5726"/>
                          <a:pt x="19857" y="5717"/>
                          <a:pt x="19870" y="5708"/>
                        </a:cubicBezTo>
                        <a:cubicBezTo>
                          <a:pt x="19928" y="5672"/>
                          <a:pt x="19971" y="5628"/>
                          <a:pt x="19998" y="5580"/>
                        </a:cubicBezTo>
                        <a:cubicBezTo>
                          <a:pt x="20024" y="5531"/>
                          <a:pt x="20033" y="5479"/>
                          <a:pt x="20024" y="5426"/>
                        </a:cubicBezTo>
                        <a:cubicBezTo>
                          <a:pt x="19968" y="5418"/>
                          <a:pt x="19917" y="5389"/>
                          <a:pt x="19884" y="5353"/>
                        </a:cubicBezTo>
                        <a:cubicBezTo>
                          <a:pt x="19850" y="5317"/>
                          <a:pt x="19833" y="5273"/>
                          <a:pt x="19845" y="5233"/>
                        </a:cubicBezTo>
                        <a:cubicBezTo>
                          <a:pt x="19879" y="5241"/>
                          <a:pt x="19908" y="5250"/>
                          <a:pt x="19937" y="5259"/>
                        </a:cubicBezTo>
                        <a:cubicBezTo>
                          <a:pt x="19965" y="5267"/>
                          <a:pt x="19993" y="5277"/>
                          <a:pt x="20024" y="5287"/>
                        </a:cubicBezTo>
                        <a:cubicBezTo>
                          <a:pt x="20052" y="5243"/>
                          <a:pt x="20075" y="5199"/>
                          <a:pt x="20097" y="5155"/>
                        </a:cubicBezTo>
                        <a:cubicBezTo>
                          <a:pt x="20120" y="5111"/>
                          <a:pt x="20141" y="5067"/>
                          <a:pt x="20166" y="5022"/>
                        </a:cubicBezTo>
                        <a:cubicBezTo>
                          <a:pt x="20206" y="5039"/>
                          <a:pt x="20255" y="5052"/>
                          <a:pt x="20306" y="5057"/>
                        </a:cubicBezTo>
                        <a:cubicBezTo>
                          <a:pt x="20357" y="5062"/>
                          <a:pt x="20410" y="5060"/>
                          <a:pt x="20456" y="5048"/>
                        </a:cubicBezTo>
                        <a:cubicBezTo>
                          <a:pt x="20450" y="5031"/>
                          <a:pt x="20453" y="5013"/>
                          <a:pt x="20462" y="4997"/>
                        </a:cubicBezTo>
                        <a:cubicBezTo>
                          <a:pt x="20471" y="4981"/>
                          <a:pt x="20487" y="4968"/>
                          <a:pt x="20505" y="4959"/>
                        </a:cubicBezTo>
                        <a:cubicBezTo>
                          <a:pt x="20530" y="4951"/>
                          <a:pt x="20554" y="4943"/>
                          <a:pt x="20554" y="4926"/>
                        </a:cubicBezTo>
                        <a:cubicBezTo>
                          <a:pt x="20554" y="4913"/>
                          <a:pt x="20554" y="4896"/>
                          <a:pt x="20542" y="4888"/>
                        </a:cubicBezTo>
                        <a:cubicBezTo>
                          <a:pt x="20524" y="4867"/>
                          <a:pt x="20505" y="4843"/>
                          <a:pt x="20486" y="4818"/>
                        </a:cubicBezTo>
                        <a:cubicBezTo>
                          <a:pt x="20467" y="4794"/>
                          <a:pt x="20447" y="4770"/>
                          <a:pt x="20425" y="4749"/>
                        </a:cubicBezTo>
                        <a:cubicBezTo>
                          <a:pt x="20459" y="4739"/>
                          <a:pt x="20496" y="4733"/>
                          <a:pt x="20532" y="4734"/>
                        </a:cubicBezTo>
                        <a:cubicBezTo>
                          <a:pt x="20568" y="4735"/>
                          <a:pt x="20604" y="4743"/>
                          <a:pt x="20635" y="4757"/>
                        </a:cubicBezTo>
                        <a:cubicBezTo>
                          <a:pt x="20647" y="4766"/>
                          <a:pt x="20659" y="4774"/>
                          <a:pt x="20674" y="4781"/>
                        </a:cubicBezTo>
                        <a:cubicBezTo>
                          <a:pt x="20689" y="4787"/>
                          <a:pt x="20706" y="4791"/>
                          <a:pt x="20727" y="4791"/>
                        </a:cubicBezTo>
                        <a:cubicBezTo>
                          <a:pt x="20752" y="4795"/>
                          <a:pt x="20774" y="4787"/>
                          <a:pt x="20793" y="4774"/>
                        </a:cubicBezTo>
                        <a:cubicBezTo>
                          <a:pt x="20812" y="4761"/>
                          <a:pt x="20829" y="4743"/>
                          <a:pt x="20844" y="4728"/>
                        </a:cubicBezTo>
                        <a:cubicBezTo>
                          <a:pt x="20863" y="4707"/>
                          <a:pt x="20878" y="4687"/>
                          <a:pt x="20889" y="4667"/>
                        </a:cubicBezTo>
                        <a:cubicBezTo>
                          <a:pt x="20900" y="4647"/>
                          <a:pt x="20906" y="4627"/>
                          <a:pt x="20906" y="4606"/>
                        </a:cubicBezTo>
                        <a:cubicBezTo>
                          <a:pt x="20912" y="4545"/>
                          <a:pt x="20865" y="4487"/>
                          <a:pt x="20821" y="4430"/>
                        </a:cubicBezTo>
                        <a:cubicBezTo>
                          <a:pt x="20778" y="4374"/>
                          <a:pt x="20740" y="4318"/>
                          <a:pt x="20764" y="4261"/>
                        </a:cubicBezTo>
                        <a:cubicBezTo>
                          <a:pt x="20823" y="4293"/>
                          <a:pt x="20881" y="4326"/>
                          <a:pt x="20936" y="4363"/>
                        </a:cubicBezTo>
                        <a:cubicBezTo>
                          <a:pt x="20991" y="4400"/>
                          <a:pt x="21042" y="4440"/>
                          <a:pt x="21085" y="4484"/>
                        </a:cubicBezTo>
                        <a:cubicBezTo>
                          <a:pt x="21125" y="4440"/>
                          <a:pt x="21165" y="4394"/>
                          <a:pt x="21213" y="4355"/>
                        </a:cubicBezTo>
                        <a:cubicBezTo>
                          <a:pt x="21261" y="4316"/>
                          <a:pt x="21316" y="4284"/>
                          <a:pt x="21387" y="4270"/>
                        </a:cubicBezTo>
                        <a:cubicBezTo>
                          <a:pt x="21412" y="4265"/>
                          <a:pt x="21437" y="4261"/>
                          <a:pt x="21459" y="4256"/>
                        </a:cubicBezTo>
                        <a:cubicBezTo>
                          <a:pt x="21481" y="4251"/>
                          <a:pt x="21502" y="4244"/>
                          <a:pt x="21517" y="4236"/>
                        </a:cubicBezTo>
                        <a:cubicBezTo>
                          <a:pt x="21535" y="4223"/>
                          <a:pt x="21542" y="4203"/>
                          <a:pt x="21536" y="4186"/>
                        </a:cubicBezTo>
                        <a:cubicBezTo>
                          <a:pt x="21531" y="4170"/>
                          <a:pt x="21514" y="4156"/>
                          <a:pt x="21486" y="4156"/>
                        </a:cubicBezTo>
                        <a:cubicBezTo>
                          <a:pt x="21566" y="4139"/>
                          <a:pt x="21579" y="4076"/>
                          <a:pt x="21579" y="4026"/>
                        </a:cubicBezTo>
                        <a:cubicBezTo>
                          <a:pt x="21579" y="3971"/>
                          <a:pt x="21554" y="3916"/>
                          <a:pt x="21591" y="3866"/>
                        </a:cubicBezTo>
                        <a:cubicBezTo>
                          <a:pt x="21526" y="3866"/>
                          <a:pt x="21505" y="3826"/>
                          <a:pt x="21486" y="3782"/>
                        </a:cubicBezTo>
                        <a:cubicBezTo>
                          <a:pt x="21468" y="3737"/>
                          <a:pt x="21452" y="3689"/>
                          <a:pt x="21400" y="3672"/>
                        </a:cubicBezTo>
                        <a:cubicBezTo>
                          <a:pt x="21366" y="3657"/>
                          <a:pt x="21324" y="3655"/>
                          <a:pt x="21289" y="3651"/>
                        </a:cubicBezTo>
                        <a:cubicBezTo>
                          <a:pt x="21253" y="3647"/>
                          <a:pt x="21224" y="3641"/>
                          <a:pt x="21215" y="3618"/>
                        </a:cubicBezTo>
                        <a:cubicBezTo>
                          <a:pt x="21184" y="3630"/>
                          <a:pt x="21151" y="3639"/>
                          <a:pt x="21119" y="3644"/>
                        </a:cubicBezTo>
                        <a:cubicBezTo>
                          <a:pt x="21087" y="3649"/>
                          <a:pt x="21054" y="3651"/>
                          <a:pt x="21023" y="3651"/>
                        </a:cubicBezTo>
                        <a:cubicBezTo>
                          <a:pt x="21005" y="3626"/>
                          <a:pt x="20988" y="3598"/>
                          <a:pt x="20969" y="3569"/>
                        </a:cubicBezTo>
                        <a:cubicBezTo>
                          <a:pt x="20951" y="3541"/>
                          <a:pt x="20931" y="3512"/>
                          <a:pt x="20906" y="3487"/>
                        </a:cubicBezTo>
                        <a:cubicBezTo>
                          <a:pt x="20888" y="3460"/>
                          <a:pt x="20861" y="3432"/>
                          <a:pt x="20829" y="3411"/>
                        </a:cubicBezTo>
                        <a:cubicBezTo>
                          <a:pt x="20797" y="3389"/>
                          <a:pt x="20758" y="3374"/>
                          <a:pt x="20715" y="3369"/>
                        </a:cubicBezTo>
                        <a:cubicBezTo>
                          <a:pt x="20669" y="3361"/>
                          <a:pt x="20619" y="3366"/>
                          <a:pt x="20580" y="3381"/>
                        </a:cubicBezTo>
                        <a:cubicBezTo>
                          <a:pt x="20541" y="3396"/>
                          <a:pt x="20511" y="3420"/>
                          <a:pt x="20505" y="3449"/>
                        </a:cubicBezTo>
                        <a:cubicBezTo>
                          <a:pt x="20434" y="3424"/>
                          <a:pt x="20357" y="3402"/>
                          <a:pt x="20278" y="3384"/>
                        </a:cubicBezTo>
                        <a:cubicBezTo>
                          <a:pt x="20200" y="3366"/>
                          <a:pt x="20120" y="3353"/>
                          <a:pt x="20042" y="3344"/>
                        </a:cubicBezTo>
                        <a:cubicBezTo>
                          <a:pt x="20033" y="3361"/>
                          <a:pt x="20016" y="3373"/>
                          <a:pt x="19997" y="3381"/>
                        </a:cubicBezTo>
                        <a:cubicBezTo>
                          <a:pt x="19978" y="3389"/>
                          <a:pt x="19956" y="3395"/>
                          <a:pt x="19938" y="3399"/>
                        </a:cubicBezTo>
                        <a:cubicBezTo>
                          <a:pt x="19916" y="3407"/>
                          <a:pt x="19896" y="3420"/>
                          <a:pt x="19886" y="3433"/>
                        </a:cubicBezTo>
                        <a:cubicBezTo>
                          <a:pt x="19876" y="3447"/>
                          <a:pt x="19876" y="3462"/>
                          <a:pt x="19894" y="3475"/>
                        </a:cubicBezTo>
                        <a:cubicBezTo>
                          <a:pt x="19863" y="3475"/>
                          <a:pt x="19831" y="3478"/>
                          <a:pt x="19800" y="3481"/>
                        </a:cubicBezTo>
                        <a:cubicBezTo>
                          <a:pt x="19769" y="3484"/>
                          <a:pt x="19740" y="3487"/>
                          <a:pt x="19715" y="3487"/>
                        </a:cubicBezTo>
                        <a:cubicBezTo>
                          <a:pt x="19715" y="3504"/>
                          <a:pt x="19719" y="3521"/>
                          <a:pt x="19725" y="3538"/>
                        </a:cubicBezTo>
                        <a:cubicBezTo>
                          <a:pt x="19731" y="3555"/>
                          <a:pt x="19740" y="3573"/>
                          <a:pt x="19752" y="3592"/>
                        </a:cubicBezTo>
                        <a:cubicBezTo>
                          <a:pt x="19740" y="3613"/>
                          <a:pt x="19714" y="3626"/>
                          <a:pt x="19683" y="3631"/>
                        </a:cubicBezTo>
                        <a:cubicBezTo>
                          <a:pt x="19652" y="3636"/>
                          <a:pt x="19617" y="3634"/>
                          <a:pt x="19586" y="3626"/>
                        </a:cubicBezTo>
                        <a:cubicBezTo>
                          <a:pt x="19552" y="3618"/>
                          <a:pt x="19526" y="3605"/>
                          <a:pt x="19505" y="3589"/>
                        </a:cubicBezTo>
                        <a:cubicBezTo>
                          <a:pt x="19484" y="3572"/>
                          <a:pt x="19469" y="3552"/>
                          <a:pt x="19456" y="3529"/>
                        </a:cubicBezTo>
                        <a:cubicBezTo>
                          <a:pt x="19432" y="3512"/>
                          <a:pt x="19419" y="3487"/>
                          <a:pt x="19419" y="3466"/>
                        </a:cubicBezTo>
                        <a:cubicBezTo>
                          <a:pt x="19419" y="3441"/>
                          <a:pt x="19444" y="3407"/>
                          <a:pt x="19432" y="3378"/>
                        </a:cubicBezTo>
                        <a:cubicBezTo>
                          <a:pt x="19425" y="3357"/>
                          <a:pt x="19396" y="3343"/>
                          <a:pt x="19364" y="3339"/>
                        </a:cubicBezTo>
                        <a:cubicBezTo>
                          <a:pt x="19331" y="3336"/>
                          <a:pt x="19296" y="3342"/>
                          <a:pt x="19277" y="3361"/>
                        </a:cubicBezTo>
                        <a:cubicBezTo>
                          <a:pt x="19256" y="3378"/>
                          <a:pt x="19245" y="3400"/>
                          <a:pt x="19245" y="3422"/>
                        </a:cubicBezTo>
                        <a:cubicBezTo>
                          <a:pt x="19245" y="3445"/>
                          <a:pt x="19256" y="3468"/>
                          <a:pt x="19277" y="3487"/>
                        </a:cubicBezTo>
                        <a:cubicBezTo>
                          <a:pt x="19231" y="3496"/>
                          <a:pt x="19193" y="3510"/>
                          <a:pt x="19163" y="3531"/>
                        </a:cubicBezTo>
                        <a:cubicBezTo>
                          <a:pt x="19134" y="3551"/>
                          <a:pt x="19114" y="3578"/>
                          <a:pt x="19105" y="3609"/>
                        </a:cubicBezTo>
                        <a:cubicBezTo>
                          <a:pt x="19092" y="3643"/>
                          <a:pt x="19105" y="3672"/>
                          <a:pt x="19092" y="3706"/>
                        </a:cubicBezTo>
                        <a:cubicBezTo>
                          <a:pt x="19080" y="3740"/>
                          <a:pt x="19043" y="3769"/>
                          <a:pt x="18994" y="3761"/>
                        </a:cubicBezTo>
                        <a:cubicBezTo>
                          <a:pt x="18852" y="3714"/>
                          <a:pt x="18901" y="3512"/>
                          <a:pt x="18747" y="3496"/>
                        </a:cubicBezTo>
                        <a:cubicBezTo>
                          <a:pt x="18667" y="3487"/>
                          <a:pt x="18617" y="3538"/>
                          <a:pt x="18593" y="3592"/>
                        </a:cubicBezTo>
                        <a:cubicBezTo>
                          <a:pt x="18583" y="3618"/>
                          <a:pt x="18583" y="3644"/>
                          <a:pt x="18586" y="3669"/>
                        </a:cubicBezTo>
                        <a:cubicBezTo>
                          <a:pt x="18588" y="3694"/>
                          <a:pt x="18593" y="3718"/>
                          <a:pt x="18593" y="3740"/>
                        </a:cubicBezTo>
                        <a:cubicBezTo>
                          <a:pt x="18583" y="3803"/>
                          <a:pt x="18551" y="3860"/>
                          <a:pt x="18505" y="3914"/>
                        </a:cubicBezTo>
                        <a:cubicBezTo>
                          <a:pt x="18458" y="3967"/>
                          <a:pt x="18398" y="4015"/>
                          <a:pt x="18333" y="4059"/>
                        </a:cubicBezTo>
                        <a:cubicBezTo>
                          <a:pt x="18312" y="4072"/>
                          <a:pt x="18292" y="4085"/>
                          <a:pt x="18274" y="4100"/>
                        </a:cubicBezTo>
                        <a:cubicBezTo>
                          <a:pt x="18256" y="4115"/>
                          <a:pt x="18241" y="4131"/>
                          <a:pt x="18229" y="4148"/>
                        </a:cubicBezTo>
                        <a:cubicBezTo>
                          <a:pt x="18216" y="4160"/>
                          <a:pt x="18210" y="4176"/>
                          <a:pt x="18203" y="4192"/>
                        </a:cubicBezTo>
                        <a:cubicBezTo>
                          <a:pt x="18196" y="4207"/>
                          <a:pt x="18188" y="4223"/>
                          <a:pt x="18173" y="4236"/>
                        </a:cubicBezTo>
                        <a:cubicBezTo>
                          <a:pt x="18161" y="4257"/>
                          <a:pt x="18142" y="4277"/>
                          <a:pt x="18120" y="4296"/>
                        </a:cubicBezTo>
                        <a:cubicBezTo>
                          <a:pt x="18097" y="4315"/>
                          <a:pt x="18071" y="4333"/>
                          <a:pt x="18043" y="4349"/>
                        </a:cubicBezTo>
                        <a:cubicBezTo>
                          <a:pt x="17994" y="4385"/>
                          <a:pt x="17943" y="4421"/>
                          <a:pt x="17892" y="4458"/>
                        </a:cubicBezTo>
                        <a:cubicBezTo>
                          <a:pt x="17840" y="4495"/>
                          <a:pt x="17787" y="4532"/>
                          <a:pt x="17735" y="4572"/>
                        </a:cubicBezTo>
                        <a:cubicBezTo>
                          <a:pt x="17710" y="4589"/>
                          <a:pt x="17686" y="4606"/>
                          <a:pt x="17661" y="4606"/>
                        </a:cubicBezTo>
                        <a:cubicBezTo>
                          <a:pt x="17605" y="4606"/>
                          <a:pt x="17581" y="4560"/>
                          <a:pt x="17593" y="4526"/>
                        </a:cubicBezTo>
                        <a:cubicBezTo>
                          <a:pt x="17599" y="4507"/>
                          <a:pt x="17612" y="4491"/>
                          <a:pt x="17628" y="4478"/>
                        </a:cubicBezTo>
                        <a:cubicBezTo>
                          <a:pt x="17644" y="4465"/>
                          <a:pt x="17664" y="4455"/>
                          <a:pt x="17686" y="4446"/>
                        </a:cubicBezTo>
                        <a:cubicBezTo>
                          <a:pt x="17815" y="4366"/>
                          <a:pt x="17912" y="4267"/>
                          <a:pt x="17985" y="4160"/>
                        </a:cubicBezTo>
                        <a:cubicBezTo>
                          <a:pt x="18057" y="4052"/>
                          <a:pt x="18105" y="3935"/>
                          <a:pt x="18136" y="3819"/>
                        </a:cubicBezTo>
                        <a:cubicBezTo>
                          <a:pt x="18142" y="3803"/>
                          <a:pt x="18145" y="3788"/>
                          <a:pt x="18145" y="3773"/>
                        </a:cubicBezTo>
                        <a:cubicBezTo>
                          <a:pt x="18145" y="3757"/>
                          <a:pt x="18142" y="3742"/>
                          <a:pt x="18136" y="3723"/>
                        </a:cubicBezTo>
                        <a:cubicBezTo>
                          <a:pt x="18130" y="3710"/>
                          <a:pt x="18121" y="3700"/>
                          <a:pt x="18110" y="3689"/>
                        </a:cubicBezTo>
                        <a:cubicBezTo>
                          <a:pt x="18099" y="3677"/>
                          <a:pt x="18087" y="3666"/>
                          <a:pt x="18074" y="3651"/>
                        </a:cubicBezTo>
                        <a:cubicBezTo>
                          <a:pt x="18053" y="3622"/>
                          <a:pt x="18045" y="3589"/>
                          <a:pt x="18051" y="3557"/>
                        </a:cubicBezTo>
                        <a:cubicBezTo>
                          <a:pt x="18057" y="3525"/>
                          <a:pt x="18077" y="3493"/>
                          <a:pt x="18111" y="3466"/>
                        </a:cubicBezTo>
                        <a:cubicBezTo>
                          <a:pt x="18059" y="3449"/>
                          <a:pt x="18010" y="3432"/>
                          <a:pt x="17961" y="3416"/>
                        </a:cubicBezTo>
                        <a:cubicBezTo>
                          <a:pt x="17912" y="3400"/>
                          <a:pt x="17865" y="3384"/>
                          <a:pt x="17815" y="3369"/>
                        </a:cubicBezTo>
                        <a:cubicBezTo>
                          <a:pt x="17809" y="3365"/>
                          <a:pt x="17798" y="3363"/>
                          <a:pt x="17787" y="3361"/>
                        </a:cubicBezTo>
                        <a:cubicBezTo>
                          <a:pt x="17777" y="3359"/>
                          <a:pt x="17766" y="3357"/>
                          <a:pt x="17760" y="3353"/>
                        </a:cubicBezTo>
                        <a:cubicBezTo>
                          <a:pt x="17723" y="3348"/>
                          <a:pt x="17684" y="3355"/>
                          <a:pt x="17650" y="3368"/>
                        </a:cubicBezTo>
                        <a:cubicBezTo>
                          <a:pt x="17616" y="3381"/>
                          <a:pt x="17587" y="3401"/>
                          <a:pt x="17568" y="3424"/>
                        </a:cubicBezTo>
                        <a:cubicBezTo>
                          <a:pt x="17541" y="3445"/>
                          <a:pt x="17517" y="3467"/>
                          <a:pt x="17494" y="3487"/>
                        </a:cubicBezTo>
                        <a:cubicBezTo>
                          <a:pt x="17470" y="3507"/>
                          <a:pt x="17445" y="3525"/>
                          <a:pt x="17414" y="3538"/>
                        </a:cubicBezTo>
                        <a:cubicBezTo>
                          <a:pt x="17386" y="3546"/>
                          <a:pt x="17354" y="3550"/>
                          <a:pt x="17322" y="3553"/>
                        </a:cubicBezTo>
                        <a:cubicBezTo>
                          <a:pt x="17289" y="3557"/>
                          <a:pt x="17257" y="3559"/>
                          <a:pt x="17229" y="3563"/>
                        </a:cubicBezTo>
                        <a:cubicBezTo>
                          <a:pt x="17186" y="3573"/>
                          <a:pt x="17141" y="3591"/>
                          <a:pt x="17104" y="3614"/>
                        </a:cubicBezTo>
                        <a:cubicBezTo>
                          <a:pt x="17067" y="3638"/>
                          <a:pt x="17038" y="3666"/>
                          <a:pt x="17025" y="3697"/>
                        </a:cubicBezTo>
                        <a:cubicBezTo>
                          <a:pt x="17013" y="3681"/>
                          <a:pt x="17007" y="3663"/>
                          <a:pt x="17007" y="3645"/>
                        </a:cubicBezTo>
                        <a:cubicBezTo>
                          <a:pt x="17007" y="3627"/>
                          <a:pt x="17013" y="3609"/>
                          <a:pt x="17025" y="3592"/>
                        </a:cubicBezTo>
                        <a:cubicBezTo>
                          <a:pt x="16973" y="3601"/>
                          <a:pt x="16921" y="3583"/>
                          <a:pt x="16886" y="3555"/>
                        </a:cubicBezTo>
                        <a:cubicBezTo>
                          <a:pt x="16851" y="3527"/>
                          <a:pt x="16834" y="3489"/>
                          <a:pt x="16853" y="3458"/>
                        </a:cubicBezTo>
                        <a:cubicBezTo>
                          <a:pt x="16834" y="3449"/>
                          <a:pt x="16816" y="3443"/>
                          <a:pt x="16795" y="3437"/>
                        </a:cubicBezTo>
                        <a:cubicBezTo>
                          <a:pt x="16774" y="3430"/>
                          <a:pt x="16751" y="3424"/>
                          <a:pt x="16723" y="3416"/>
                        </a:cubicBezTo>
                        <a:cubicBezTo>
                          <a:pt x="16717" y="3411"/>
                          <a:pt x="16722" y="3409"/>
                          <a:pt x="16725" y="3408"/>
                        </a:cubicBezTo>
                        <a:cubicBezTo>
                          <a:pt x="16729" y="3407"/>
                          <a:pt x="16732" y="3407"/>
                          <a:pt x="16723" y="3407"/>
                        </a:cubicBezTo>
                        <a:cubicBezTo>
                          <a:pt x="16692" y="3380"/>
                          <a:pt x="16648" y="3362"/>
                          <a:pt x="16597" y="3354"/>
                        </a:cubicBezTo>
                        <a:cubicBezTo>
                          <a:pt x="16547" y="3346"/>
                          <a:pt x="16492" y="3348"/>
                          <a:pt x="16439" y="3361"/>
                        </a:cubicBezTo>
                        <a:cubicBezTo>
                          <a:pt x="16427" y="3365"/>
                          <a:pt x="16415" y="3369"/>
                          <a:pt x="16402" y="3371"/>
                        </a:cubicBezTo>
                        <a:cubicBezTo>
                          <a:pt x="16390" y="3374"/>
                          <a:pt x="16378" y="3374"/>
                          <a:pt x="16365" y="3369"/>
                        </a:cubicBezTo>
                        <a:cubicBezTo>
                          <a:pt x="16359" y="3369"/>
                          <a:pt x="16348" y="3367"/>
                          <a:pt x="16338" y="3363"/>
                        </a:cubicBezTo>
                        <a:cubicBezTo>
                          <a:pt x="16327" y="3359"/>
                          <a:pt x="16316" y="3353"/>
                          <a:pt x="16310" y="3344"/>
                        </a:cubicBezTo>
                        <a:cubicBezTo>
                          <a:pt x="16285" y="3323"/>
                          <a:pt x="16263" y="3301"/>
                          <a:pt x="16244" y="3277"/>
                        </a:cubicBezTo>
                        <a:cubicBezTo>
                          <a:pt x="16225" y="3254"/>
                          <a:pt x="16208" y="3228"/>
                          <a:pt x="16193" y="3201"/>
                        </a:cubicBezTo>
                        <a:cubicBezTo>
                          <a:pt x="16174" y="3180"/>
                          <a:pt x="16139" y="3170"/>
                          <a:pt x="16098" y="3164"/>
                        </a:cubicBezTo>
                        <a:cubicBezTo>
                          <a:pt x="16058" y="3159"/>
                          <a:pt x="16014" y="3159"/>
                          <a:pt x="15977" y="3159"/>
                        </a:cubicBezTo>
                        <a:cubicBezTo>
                          <a:pt x="15899" y="3163"/>
                          <a:pt x="15825" y="3163"/>
                          <a:pt x="15751" y="3161"/>
                        </a:cubicBezTo>
                        <a:cubicBezTo>
                          <a:pt x="15676" y="3159"/>
                          <a:pt x="15600" y="3155"/>
                          <a:pt x="15520" y="3151"/>
                        </a:cubicBezTo>
                        <a:cubicBezTo>
                          <a:pt x="15483" y="3146"/>
                          <a:pt x="15448" y="3142"/>
                          <a:pt x="15412" y="3141"/>
                        </a:cubicBezTo>
                        <a:cubicBezTo>
                          <a:pt x="15377" y="3140"/>
                          <a:pt x="15341" y="3142"/>
                          <a:pt x="15304" y="3151"/>
                        </a:cubicBezTo>
                        <a:cubicBezTo>
                          <a:pt x="15264" y="3159"/>
                          <a:pt x="15232" y="3175"/>
                          <a:pt x="15211" y="3194"/>
                        </a:cubicBezTo>
                        <a:cubicBezTo>
                          <a:pt x="15190" y="3213"/>
                          <a:pt x="15181" y="3235"/>
                          <a:pt x="15187" y="3256"/>
                        </a:cubicBezTo>
                        <a:cubicBezTo>
                          <a:pt x="15181" y="3243"/>
                          <a:pt x="15171" y="3233"/>
                          <a:pt x="15161" y="3222"/>
                        </a:cubicBezTo>
                        <a:cubicBezTo>
                          <a:pt x="15151" y="3211"/>
                          <a:pt x="15141" y="3199"/>
                          <a:pt x="15131" y="3184"/>
                        </a:cubicBezTo>
                        <a:cubicBezTo>
                          <a:pt x="15011" y="3199"/>
                          <a:pt x="14889" y="3228"/>
                          <a:pt x="14776" y="3269"/>
                        </a:cubicBezTo>
                        <a:cubicBezTo>
                          <a:pt x="14662" y="3310"/>
                          <a:pt x="14558" y="3363"/>
                          <a:pt x="14471" y="3424"/>
                        </a:cubicBezTo>
                        <a:cubicBezTo>
                          <a:pt x="14440" y="3392"/>
                          <a:pt x="14393" y="3379"/>
                          <a:pt x="14338" y="3374"/>
                        </a:cubicBezTo>
                        <a:cubicBezTo>
                          <a:pt x="14283" y="3369"/>
                          <a:pt x="14221" y="3374"/>
                          <a:pt x="14163" y="3378"/>
                        </a:cubicBezTo>
                        <a:cubicBezTo>
                          <a:pt x="14138" y="3384"/>
                          <a:pt x="14112" y="3389"/>
                          <a:pt x="14089" y="3395"/>
                        </a:cubicBezTo>
                        <a:cubicBezTo>
                          <a:pt x="14066" y="3401"/>
                          <a:pt x="14045" y="3407"/>
                          <a:pt x="14033" y="3416"/>
                        </a:cubicBezTo>
                        <a:cubicBezTo>
                          <a:pt x="14021" y="3428"/>
                          <a:pt x="14015" y="3446"/>
                          <a:pt x="14018" y="3462"/>
                        </a:cubicBezTo>
                        <a:cubicBezTo>
                          <a:pt x="14021" y="3478"/>
                          <a:pt x="14033" y="3491"/>
                          <a:pt x="14058" y="3496"/>
                        </a:cubicBezTo>
                        <a:cubicBezTo>
                          <a:pt x="13956" y="3504"/>
                          <a:pt x="13853" y="3521"/>
                          <a:pt x="13754" y="3545"/>
                        </a:cubicBezTo>
                        <a:cubicBezTo>
                          <a:pt x="13655" y="3570"/>
                          <a:pt x="13561" y="3603"/>
                          <a:pt x="13478" y="3643"/>
                        </a:cubicBezTo>
                        <a:cubicBezTo>
                          <a:pt x="13438" y="3630"/>
                          <a:pt x="13412" y="3604"/>
                          <a:pt x="13400" y="3574"/>
                        </a:cubicBezTo>
                        <a:cubicBezTo>
                          <a:pt x="13388" y="3545"/>
                          <a:pt x="13392" y="3512"/>
                          <a:pt x="13410" y="3487"/>
                        </a:cubicBezTo>
                        <a:cubicBezTo>
                          <a:pt x="13432" y="3460"/>
                          <a:pt x="13461" y="3436"/>
                          <a:pt x="13493" y="3414"/>
                        </a:cubicBezTo>
                        <a:cubicBezTo>
                          <a:pt x="13526" y="3391"/>
                          <a:pt x="13561" y="3371"/>
                          <a:pt x="13595" y="3353"/>
                        </a:cubicBezTo>
                        <a:cubicBezTo>
                          <a:pt x="13638" y="3331"/>
                          <a:pt x="13683" y="3309"/>
                          <a:pt x="13730" y="3290"/>
                        </a:cubicBezTo>
                        <a:cubicBezTo>
                          <a:pt x="13777" y="3272"/>
                          <a:pt x="13826" y="3256"/>
                          <a:pt x="13879" y="3247"/>
                        </a:cubicBezTo>
                        <a:cubicBezTo>
                          <a:pt x="13891" y="3247"/>
                          <a:pt x="13907" y="3245"/>
                          <a:pt x="13923" y="3242"/>
                        </a:cubicBezTo>
                        <a:cubicBezTo>
                          <a:pt x="13939" y="3239"/>
                          <a:pt x="13956" y="3235"/>
                          <a:pt x="13971" y="3231"/>
                        </a:cubicBezTo>
                        <a:cubicBezTo>
                          <a:pt x="13990" y="3226"/>
                          <a:pt x="14005" y="3215"/>
                          <a:pt x="14021" y="3202"/>
                        </a:cubicBezTo>
                        <a:cubicBezTo>
                          <a:pt x="14036" y="3190"/>
                          <a:pt x="14052" y="3176"/>
                          <a:pt x="14070" y="3167"/>
                        </a:cubicBezTo>
                        <a:cubicBezTo>
                          <a:pt x="14098" y="3151"/>
                          <a:pt x="14130" y="3135"/>
                          <a:pt x="14164" y="3120"/>
                        </a:cubicBezTo>
                        <a:cubicBezTo>
                          <a:pt x="14198" y="3105"/>
                          <a:pt x="14234" y="3092"/>
                          <a:pt x="14268" y="3079"/>
                        </a:cubicBezTo>
                        <a:lnTo>
                          <a:pt x="14928" y="2839"/>
                        </a:lnTo>
                        <a:cubicBezTo>
                          <a:pt x="14989" y="2814"/>
                          <a:pt x="15057" y="2797"/>
                          <a:pt x="15131" y="2797"/>
                        </a:cubicBezTo>
                        <a:cubicBezTo>
                          <a:pt x="15187" y="2797"/>
                          <a:pt x="15224" y="2814"/>
                          <a:pt x="15279" y="2806"/>
                        </a:cubicBezTo>
                        <a:cubicBezTo>
                          <a:pt x="15298" y="2801"/>
                          <a:pt x="15316" y="2795"/>
                          <a:pt x="15333" y="2789"/>
                        </a:cubicBezTo>
                        <a:cubicBezTo>
                          <a:pt x="15350" y="2783"/>
                          <a:pt x="15366" y="2776"/>
                          <a:pt x="15378" y="2772"/>
                        </a:cubicBezTo>
                        <a:cubicBezTo>
                          <a:pt x="15437" y="2745"/>
                          <a:pt x="15502" y="2729"/>
                          <a:pt x="15568" y="2723"/>
                        </a:cubicBezTo>
                        <a:cubicBezTo>
                          <a:pt x="15634" y="2717"/>
                          <a:pt x="15702" y="2722"/>
                          <a:pt x="15767" y="2734"/>
                        </a:cubicBezTo>
                        <a:cubicBezTo>
                          <a:pt x="15779" y="2738"/>
                          <a:pt x="15796" y="2743"/>
                          <a:pt x="15813" y="2745"/>
                        </a:cubicBezTo>
                        <a:cubicBezTo>
                          <a:pt x="15830" y="2747"/>
                          <a:pt x="15847" y="2747"/>
                          <a:pt x="15859" y="2743"/>
                        </a:cubicBezTo>
                        <a:cubicBezTo>
                          <a:pt x="15896" y="2734"/>
                          <a:pt x="15909" y="2709"/>
                          <a:pt x="15952" y="2692"/>
                        </a:cubicBezTo>
                        <a:cubicBezTo>
                          <a:pt x="16051" y="2654"/>
                          <a:pt x="16143" y="2764"/>
                          <a:pt x="16260" y="2751"/>
                        </a:cubicBezTo>
                        <a:cubicBezTo>
                          <a:pt x="16285" y="2751"/>
                          <a:pt x="16311" y="2745"/>
                          <a:pt x="16336" y="2739"/>
                        </a:cubicBezTo>
                        <a:cubicBezTo>
                          <a:pt x="16361" y="2734"/>
                          <a:pt x="16384" y="2730"/>
                          <a:pt x="16402" y="2734"/>
                        </a:cubicBezTo>
                        <a:cubicBezTo>
                          <a:pt x="16415" y="2738"/>
                          <a:pt x="16424" y="2746"/>
                          <a:pt x="16434" y="2752"/>
                        </a:cubicBezTo>
                        <a:cubicBezTo>
                          <a:pt x="16444" y="2758"/>
                          <a:pt x="16455" y="2764"/>
                          <a:pt x="16470" y="2764"/>
                        </a:cubicBezTo>
                        <a:cubicBezTo>
                          <a:pt x="16495" y="2768"/>
                          <a:pt x="16513" y="2758"/>
                          <a:pt x="16530" y="2745"/>
                        </a:cubicBezTo>
                        <a:cubicBezTo>
                          <a:pt x="16547" y="2731"/>
                          <a:pt x="16563" y="2713"/>
                          <a:pt x="16581" y="2701"/>
                        </a:cubicBezTo>
                        <a:cubicBezTo>
                          <a:pt x="16597" y="2692"/>
                          <a:pt x="16614" y="2686"/>
                          <a:pt x="16631" y="2680"/>
                        </a:cubicBezTo>
                        <a:cubicBezTo>
                          <a:pt x="16649" y="2674"/>
                          <a:pt x="16668" y="2669"/>
                          <a:pt x="16686" y="2663"/>
                        </a:cubicBezTo>
                        <a:cubicBezTo>
                          <a:pt x="16791" y="2642"/>
                          <a:pt x="16894" y="2621"/>
                          <a:pt x="16996" y="2599"/>
                        </a:cubicBezTo>
                        <a:cubicBezTo>
                          <a:pt x="17098" y="2577"/>
                          <a:pt x="17198" y="2555"/>
                          <a:pt x="17297" y="2532"/>
                        </a:cubicBezTo>
                        <a:cubicBezTo>
                          <a:pt x="17328" y="2524"/>
                          <a:pt x="17360" y="2510"/>
                          <a:pt x="17382" y="2494"/>
                        </a:cubicBezTo>
                        <a:cubicBezTo>
                          <a:pt x="17403" y="2479"/>
                          <a:pt x="17414" y="2461"/>
                          <a:pt x="17402" y="2444"/>
                        </a:cubicBezTo>
                        <a:lnTo>
                          <a:pt x="17359" y="2419"/>
                        </a:lnTo>
                        <a:cubicBezTo>
                          <a:pt x="17346" y="2404"/>
                          <a:pt x="17346" y="2388"/>
                          <a:pt x="17352" y="2374"/>
                        </a:cubicBezTo>
                        <a:cubicBezTo>
                          <a:pt x="17359" y="2360"/>
                          <a:pt x="17371" y="2347"/>
                          <a:pt x="17383" y="2339"/>
                        </a:cubicBezTo>
                        <a:cubicBezTo>
                          <a:pt x="17405" y="2330"/>
                          <a:pt x="17425" y="2324"/>
                          <a:pt x="17444" y="2317"/>
                        </a:cubicBezTo>
                        <a:cubicBezTo>
                          <a:pt x="17463" y="2310"/>
                          <a:pt x="17482" y="2303"/>
                          <a:pt x="17501" y="2293"/>
                        </a:cubicBezTo>
                        <a:cubicBezTo>
                          <a:pt x="17581" y="2263"/>
                          <a:pt x="17624" y="2204"/>
                          <a:pt x="17668" y="2148"/>
                        </a:cubicBezTo>
                        <a:cubicBezTo>
                          <a:pt x="17712" y="2092"/>
                          <a:pt x="17757" y="2038"/>
                          <a:pt x="17840" y="2019"/>
                        </a:cubicBezTo>
                        <a:cubicBezTo>
                          <a:pt x="17775" y="2034"/>
                          <a:pt x="17713" y="2023"/>
                          <a:pt x="17658" y="1999"/>
                        </a:cubicBezTo>
                        <a:cubicBezTo>
                          <a:pt x="17602" y="1975"/>
                          <a:pt x="17553" y="1937"/>
                          <a:pt x="17513" y="1897"/>
                        </a:cubicBezTo>
                        <a:cubicBezTo>
                          <a:pt x="17476" y="1861"/>
                          <a:pt x="17437" y="1821"/>
                          <a:pt x="17392" y="1788"/>
                        </a:cubicBezTo>
                        <a:cubicBezTo>
                          <a:pt x="17346" y="1755"/>
                          <a:pt x="17294" y="1729"/>
                          <a:pt x="17229" y="1720"/>
                        </a:cubicBezTo>
                        <a:cubicBezTo>
                          <a:pt x="17223" y="1733"/>
                          <a:pt x="17217" y="1747"/>
                          <a:pt x="17211" y="1761"/>
                        </a:cubicBezTo>
                        <a:cubicBezTo>
                          <a:pt x="17204" y="1776"/>
                          <a:pt x="17198" y="1792"/>
                          <a:pt x="17192" y="1809"/>
                        </a:cubicBezTo>
                        <a:cubicBezTo>
                          <a:pt x="17146" y="1765"/>
                          <a:pt x="17098" y="1725"/>
                          <a:pt x="17045" y="1688"/>
                        </a:cubicBezTo>
                        <a:cubicBezTo>
                          <a:pt x="16993" y="1652"/>
                          <a:pt x="16936" y="1619"/>
                          <a:pt x="16871" y="1590"/>
                        </a:cubicBezTo>
                        <a:cubicBezTo>
                          <a:pt x="16843" y="1615"/>
                          <a:pt x="16820" y="1644"/>
                          <a:pt x="16801" y="1674"/>
                        </a:cubicBezTo>
                        <a:cubicBezTo>
                          <a:pt x="16782" y="1704"/>
                          <a:pt x="16766" y="1735"/>
                          <a:pt x="16754" y="1767"/>
                        </a:cubicBezTo>
                        <a:cubicBezTo>
                          <a:pt x="16739" y="1748"/>
                          <a:pt x="16731" y="1730"/>
                          <a:pt x="16725" y="1712"/>
                        </a:cubicBezTo>
                        <a:cubicBezTo>
                          <a:pt x="16720" y="1694"/>
                          <a:pt x="16717" y="1676"/>
                          <a:pt x="16711" y="1657"/>
                        </a:cubicBezTo>
                        <a:cubicBezTo>
                          <a:pt x="16705" y="1641"/>
                          <a:pt x="16695" y="1624"/>
                          <a:pt x="16681" y="1608"/>
                        </a:cubicBezTo>
                        <a:cubicBezTo>
                          <a:pt x="16668" y="1593"/>
                          <a:pt x="16649" y="1580"/>
                          <a:pt x="16624" y="1569"/>
                        </a:cubicBezTo>
                        <a:cubicBezTo>
                          <a:pt x="16597" y="1565"/>
                          <a:pt x="16567" y="1570"/>
                          <a:pt x="16547" y="1581"/>
                        </a:cubicBezTo>
                        <a:cubicBezTo>
                          <a:pt x="16526" y="1591"/>
                          <a:pt x="16513" y="1607"/>
                          <a:pt x="16520" y="1624"/>
                        </a:cubicBezTo>
                        <a:cubicBezTo>
                          <a:pt x="16507" y="1611"/>
                          <a:pt x="16498" y="1599"/>
                          <a:pt x="16488" y="1588"/>
                        </a:cubicBezTo>
                        <a:cubicBezTo>
                          <a:pt x="16478" y="1576"/>
                          <a:pt x="16467" y="1565"/>
                          <a:pt x="16452" y="1552"/>
                        </a:cubicBezTo>
                        <a:cubicBezTo>
                          <a:pt x="16396" y="1571"/>
                          <a:pt x="16342" y="1593"/>
                          <a:pt x="16290" y="1618"/>
                        </a:cubicBezTo>
                        <a:cubicBezTo>
                          <a:pt x="16239" y="1644"/>
                          <a:pt x="16189" y="1672"/>
                          <a:pt x="16143" y="1704"/>
                        </a:cubicBezTo>
                        <a:cubicBezTo>
                          <a:pt x="16119" y="1655"/>
                          <a:pt x="16183" y="1617"/>
                          <a:pt x="16251" y="1578"/>
                        </a:cubicBezTo>
                        <a:cubicBezTo>
                          <a:pt x="16319" y="1540"/>
                          <a:pt x="16390" y="1500"/>
                          <a:pt x="16378" y="1447"/>
                        </a:cubicBezTo>
                        <a:cubicBezTo>
                          <a:pt x="16365" y="1413"/>
                          <a:pt x="16322" y="1384"/>
                          <a:pt x="16322" y="1359"/>
                        </a:cubicBezTo>
                        <a:cubicBezTo>
                          <a:pt x="16322" y="1296"/>
                          <a:pt x="16483" y="1245"/>
                          <a:pt x="16439" y="1190"/>
                        </a:cubicBezTo>
                        <a:cubicBezTo>
                          <a:pt x="16433" y="1182"/>
                          <a:pt x="16424" y="1178"/>
                          <a:pt x="16415" y="1174"/>
                        </a:cubicBezTo>
                        <a:cubicBezTo>
                          <a:pt x="16405" y="1169"/>
                          <a:pt x="16396" y="1165"/>
                          <a:pt x="16390" y="1157"/>
                        </a:cubicBezTo>
                        <a:cubicBezTo>
                          <a:pt x="16365" y="1138"/>
                          <a:pt x="16362" y="1114"/>
                          <a:pt x="16368" y="1088"/>
                        </a:cubicBezTo>
                        <a:cubicBezTo>
                          <a:pt x="16375" y="1063"/>
                          <a:pt x="16390" y="1037"/>
                          <a:pt x="16402" y="1014"/>
                        </a:cubicBezTo>
                        <a:cubicBezTo>
                          <a:pt x="16338" y="1001"/>
                          <a:pt x="16270" y="1003"/>
                          <a:pt x="16202" y="1013"/>
                        </a:cubicBezTo>
                        <a:cubicBezTo>
                          <a:pt x="16134" y="1023"/>
                          <a:pt x="16066" y="1041"/>
                          <a:pt x="16001" y="1060"/>
                        </a:cubicBezTo>
                        <a:cubicBezTo>
                          <a:pt x="15835" y="1110"/>
                          <a:pt x="15650" y="1174"/>
                          <a:pt x="15471" y="1190"/>
                        </a:cubicBezTo>
                        <a:cubicBezTo>
                          <a:pt x="15378" y="1199"/>
                          <a:pt x="15292" y="1190"/>
                          <a:pt x="15187" y="1190"/>
                        </a:cubicBezTo>
                        <a:cubicBezTo>
                          <a:pt x="15131" y="1190"/>
                          <a:pt x="15070" y="1182"/>
                          <a:pt x="15033" y="1165"/>
                        </a:cubicBezTo>
                        <a:cubicBezTo>
                          <a:pt x="15005" y="1157"/>
                          <a:pt x="14985" y="1145"/>
                          <a:pt x="14966" y="1134"/>
                        </a:cubicBezTo>
                        <a:cubicBezTo>
                          <a:pt x="14946" y="1122"/>
                          <a:pt x="14928" y="1110"/>
                          <a:pt x="14903" y="1102"/>
                        </a:cubicBezTo>
                        <a:cubicBezTo>
                          <a:pt x="14875" y="1094"/>
                          <a:pt x="14846" y="1092"/>
                          <a:pt x="14817" y="1093"/>
                        </a:cubicBezTo>
                        <a:cubicBezTo>
                          <a:pt x="14787" y="1094"/>
                          <a:pt x="14758" y="1098"/>
                          <a:pt x="14730" y="1102"/>
                        </a:cubicBezTo>
                        <a:cubicBezTo>
                          <a:pt x="14653" y="1115"/>
                          <a:pt x="14576" y="1135"/>
                          <a:pt x="14501" y="1159"/>
                        </a:cubicBezTo>
                        <a:cubicBezTo>
                          <a:pt x="14425" y="1184"/>
                          <a:pt x="14351" y="1214"/>
                          <a:pt x="14280" y="1245"/>
                        </a:cubicBezTo>
                        <a:cubicBezTo>
                          <a:pt x="14249" y="1230"/>
                          <a:pt x="14217" y="1221"/>
                          <a:pt x="14182" y="1216"/>
                        </a:cubicBezTo>
                        <a:cubicBezTo>
                          <a:pt x="14147" y="1211"/>
                          <a:pt x="14110" y="1211"/>
                          <a:pt x="14070" y="1216"/>
                        </a:cubicBezTo>
                        <a:cubicBezTo>
                          <a:pt x="13941" y="1239"/>
                          <a:pt x="13870" y="1319"/>
                          <a:pt x="13800" y="1401"/>
                        </a:cubicBezTo>
                        <a:cubicBezTo>
                          <a:pt x="13731" y="1483"/>
                          <a:pt x="13663" y="1567"/>
                          <a:pt x="13540" y="1598"/>
                        </a:cubicBezTo>
                        <a:cubicBezTo>
                          <a:pt x="13555" y="1567"/>
                          <a:pt x="13566" y="1533"/>
                          <a:pt x="13571" y="1500"/>
                        </a:cubicBezTo>
                        <a:cubicBezTo>
                          <a:pt x="13577" y="1467"/>
                          <a:pt x="13577" y="1434"/>
                          <a:pt x="13570" y="1405"/>
                        </a:cubicBezTo>
                        <a:cubicBezTo>
                          <a:pt x="13518" y="1394"/>
                          <a:pt x="13466" y="1389"/>
                          <a:pt x="13415" y="1389"/>
                        </a:cubicBezTo>
                        <a:cubicBezTo>
                          <a:pt x="13364" y="1389"/>
                          <a:pt x="13314" y="1394"/>
                          <a:pt x="13268" y="1405"/>
                        </a:cubicBezTo>
                        <a:cubicBezTo>
                          <a:pt x="13237" y="1470"/>
                          <a:pt x="13199" y="1535"/>
                          <a:pt x="13155" y="1600"/>
                        </a:cubicBezTo>
                        <a:cubicBezTo>
                          <a:pt x="13111" y="1665"/>
                          <a:pt x="13061" y="1729"/>
                          <a:pt x="13009" y="1792"/>
                        </a:cubicBezTo>
                        <a:cubicBezTo>
                          <a:pt x="12990" y="1756"/>
                          <a:pt x="12984" y="1720"/>
                          <a:pt x="12983" y="1684"/>
                        </a:cubicBezTo>
                        <a:cubicBezTo>
                          <a:pt x="12981" y="1647"/>
                          <a:pt x="12984" y="1609"/>
                          <a:pt x="12984" y="1569"/>
                        </a:cubicBezTo>
                        <a:cubicBezTo>
                          <a:pt x="12978" y="1535"/>
                          <a:pt x="12963" y="1499"/>
                          <a:pt x="12937" y="1466"/>
                        </a:cubicBezTo>
                        <a:cubicBezTo>
                          <a:pt x="12912" y="1434"/>
                          <a:pt x="12876" y="1407"/>
                          <a:pt x="12830" y="1392"/>
                        </a:cubicBezTo>
                        <a:cubicBezTo>
                          <a:pt x="12778" y="1455"/>
                          <a:pt x="12725" y="1520"/>
                          <a:pt x="12674" y="1584"/>
                        </a:cubicBezTo>
                        <a:cubicBezTo>
                          <a:pt x="12622" y="1648"/>
                          <a:pt x="12571" y="1712"/>
                          <a:pt x="12522" y="1775"/>
                        </a:cubicBezTo>
                        <a:cubicBezTo>
                          <a:pt x="12481" y="1712"/>
                          <a:pt x="12471" y="1638"/>
                          <a:pt x="12490" y="1571"/>
                        </a:cubicBezTo>
                        <a:cubicBezTo>
                          <a:pt x="12509" y="1504"/>
                          <a:pt x="12559" y="1443"/>
                          <a:pt x="12639" y="1405"/>
                        </a:cubicBezTo>
                        <a:cubicBezTo>
                          <a:pt x="12670" y="1386"/>
                          <a:pt x="12707" y="1372"/>
                          <a:pt x="12746" y="1364"/>
                        </a:cubicBezTo>
                        <a:cubicBezTo>
                          <a:pt x="12785" y="1357"/>
                          <a:pt x="12827" y="1354"/>
                          <a:pt x="12867" y="1359"/>
                        </a:cubicBezTo>
                        <a:cubicBezTo>
                          <a:pt x="12904" y="1363"/>
                          <a:pt x="12947" y="1369"/>
                          <a:pt x="12989" y="1371"/>
                        </a:cubicBezTo>
                        <a:cubicBezTo>
                          <a:pt x="13031" y="1373"/>
                          <a:pt x="13071" y="1371"/>
                          <a:pt x="13102" y="1359"/>
                        </a:cubicBezTo>
                        <a:cubicBezTo>
                          <a:pt x="13120" y="1350"/>
                          <a:pt x="13132" y="1342"/>
                          <a:pt x="13145" y="1333"/>
                        </a:cubicBezTo>
                        <a:cubicBezTo>
                          <a:pt x="13159" y="1324"/>
                          <a:pt x="13172" y="1315"/>
                          <a:pt x="13194" y="1304"/>
                        </a:cubicBezTo>
                        <a:cubicBezTo>
                          <a:pt x="13231" y="1287"/>
                          <a:pt x="13282" y="1283"/>
                          <a:pt x="13329" y="1277"/>
                        </a:cubicBezTo>
                        <a:cubicBezTo>
                          <a:pt x="13376" y="1270"/>
                          <a:pt x="13419" y="1262"/>
                          <a:pt x="13441" y="1237"/>
                        </a:cubicBezTo>
                        <a:cubicBezTo>
                          <a:pt x="13466" y="1205"/>
                          <a:pt x="13455" y="1174"/>
                          <a:pt x="13429" y="1145"/>
                        </a:cubicBezTo>
                        <a:cubicBezTo>
                          <a:pt x="13402" y="1116"/>
                          <a:pt x="13361" y="1089"/>
                          <a:pt x="13324" y="1068"/>
                        </a:cubicBezTo>
                        <a:cubicBezTo>
                          <a:pt x="13361" y="1064"/>
                          <a:pt x="13402" y="1064"/>
                          <a:pt x="13441" y="1071"/>
                        </a:cubicBezTo>
                        <a:cubicBezTo>
                          <a:pt x="13479" y="1077"/>
                          <a:pt x="13515" y="1089"/>
                          <a:pt x="13540" y="1110"/>
                        </a:cubicBezTo>
                        <a:cubicBezTo>
                          <a:pt x="13555" y="1119"/>
                          <a:pt x="13566" y="1128"/>
                          <a:pt x="13577" y="1136"/>
                        </a:cubicBezTo>
                        <a:cubicBezTo>
                          <a:pt x="13589" y="1143"/>
                          <a:pt x="13601" y="1148"/>
                          <a:pt x="13620" y="1148"/>
                        </a:cubicBezTo>
                        <a:cubicBezTo>
                          <a:pt x="13632" y="1153"/>
                          <a:pt x="13648" y="1150"/>
                          <a:pt x="13664" y="1146"/>
                        </a:cubicBezTo>
                        <a:cubicBezTo>
                          <a:pt x="13680" y="1141"/>
                          <a:pt x="13697" y="1134"/>
                          <a:pt x="13712" y="1127"/>
                        </a:cubicBezTo>
                        <a:cubicBezTo>
                          <a:pt x="13777" y="1102"/>
                          <a:pt x="13842" y="1074"/>
                          <a:pt x="13903" y="1043"/>
                        </a:cubicBezTo>
                        <a:cubicBezTo>
                          <a:pt x="13964" y="1012"/>
                          <a:pt x="14021" y="978"/>
                          <a:pt x="14070" y="942"/>
                        </a:cubicBezTo>
                        <a:cubicBezTo>
                          <a:pt x="14058" y="938"/>
                          <a:pt x="14045" y="936"/>
                          <a:pt x="14033" y="934"/>
                        </a:cubicBezTo>
                        <a:cubicBezTo>
                          <a:pt x="14021" y="932"/>
                          <a:pt x="14008" y="930"/>
                          <a:pt x="13996" y="925"/>
                        </a:cubicBezTo>
                        <a:cubicBezTo>
                          <a:pt x="14113" y="934"/>
                          <a:pt x="14226" y="934"/>
                          <a:pt x="14339" y="929"/>
                        </a:cubicBezTo>
                        <a:cubicBezTo>
                          <a:pt x="14451" y="923"/>
                          <a:pt x="14564" y="913"/>
                          <a:pt x="14681" y="900"/>
                        </a:cubicBezTo>
                        <a:cubicBezTo>
                          <a:pt x="14727" y="896"/>
                          <a:pt x="14775" y="892"/>
                          <a:pt x="14820" y="882"/>
                        </a:cubicBezTo>
                        <a:cubicBezTo>
                          <a:pt x="14865" y="872"/>
                          <a:pt x="14906" y="856"/>
                          <a:pt x="14940" y="829"/>
                        </a:cubicBezTo>
                        <a:cubicBezTo>
                          <a:pt x="14986" y="837"/>
                          <a:pt x="15031" y="843"/>
                          <a:pt x="15076" y="845"/>
                        </a:cubicBezTo>
                        <a:cubicBezTo>
                          <a:pt x="15121" y="848"/>
                          <a:pt x="15165" y="845"/>
                          <a:pt x="15212" y="837"/>
                        </a:cubicBezTo>
                        <a:cubicBezTo>
                          <a:pt x="15224" y="875"/>
                          <a:pt x="15279" y="883"/>
                          <a:pt x="15329" y="883"/>
                        </a:cubicBezTo>
                        <a:cubicBezTo>
                          <a:pt x="15378" y="883"/>
                          <a:pt x="15421" y="867"/>
                          <a:pt x="15471" y="854"/>
                        </a:cubicBezTo>
                        <a:cubicBezTo>
                          <a:pt x="15563" y="837"/>
                          <a:pt x="15662" y="875"/>
                          <a:pt x="15754" y="883"/>
                        </a:cubicBezTo>
                        <a:cubicBezTo>
                          <a:pt x="15847" y="892"/>
                          <a:pt x="15977" y="875"/>
                          <a:pt x="15989" y="812"/>
                        </a:cubicBezTo>
                        <a:cubicBezTo>
                          <a:pt x="15955" y="812"/>
                          <a:pt x="15926" y="800"/>
                          <a:pt x="15906" y="783"/>
                        </a:cubicBezTo>
                        <a:cubicBezTo>
                          <a:pt x="15887" y="767"/>
                          <a:pt x="15878" y="745"/>
                          <a:pt x="15884" y="724"/>
                        </a:cubicBezTo>
                        <a:cubicBezTo>
                          <a:pt x="15896" y="677"/>
                          <a:pt x="15977" y="644"/>
                          <a:pt x="15952" y="602"/>
                        </a:cubicBezTo>
                        <a:cubicBezTo>
                          <a:pt x="15940" y="580"/>
                          <a:pt x="15909" y="564"/>
                          <a:pt x="15884" y="555"/>
                        </a:cubicBezTo>
                        <a:lnTo>
                          <a:pt x="15495" y="395"/>
                        </a:lnTo>
                        <a:cubicBezTo>
                          <a:pt x="15452" y="379"/>
                          <a:pt x="15401" y="362"/>
                          <a:pt x="15351" y="355"/>
                        </a:cubicBezTo>
                        <a:cubicBezTo>
                          <a:pt x="15301" y="349"/>
                          <a:pt x="15252" y="353"/>
                          <a:pt x="15212" y="379"/>
                        </a:cubicBezTo>
                        <a:cubicBezTo>
                          <a:pt x="15199" y="391"/>
                          <a:pt x="15190" y="405"/>
                          <a:pt x="15181" y="419"/>
                        </a:cubicBezTo>
                        <a:cubicBezTo>
                          <a:pt x="15171" y="432"/>
                          <a:pt x="15162" y="446"/>
                          <a:pt x="15150" y="459"/>
                        </a:cubicBezTo>
                        <a:cubicBezTo>
                          <a:pt x="15116" y="482"/>
                          <a:pt x="15073" y="482"/>
                          <a:pt x="15029" y="472"/>
                        </a:cubicBezTo>
                        <a:cubicBezTo>
                          <a:pt x="14985" y="462"/>
                          <a:pt x="14940" y="442"/>
                          <a:pt x="14903" y="425"/>
                        </a:cubicBezTo>
                        <a:cubicBezTo>
                          <a:pt x="14897" y="389"/>
                          <a:pt x="14883" y="353"/>
                          <a:pt x="14863" y="319"/>
                        </a:cubicBezTo>
                        <a:cubicBezTo>
                          <a:pt x="14843" y="284"/>
                          <a:pt x="14817" y="250"/>
                          <a:pt x="14786" y="219"/>
                        </a:cubicBezTo>
                        <a:cubicBezTo>
                          <a:pt x="14792" y="242"/>
                          <a:pt x="14760" y="249"/>
                          <a:pt x="14723" y="246"/>
                        </a:cubicBezTo>
                        <a:cubicBezTo>
                          <a:pt x="14686" y="243"/>
                          <a:pt x="14644" y="229"/>
                          <a:pt x="14632" y="210"/>
                        </a:cubicBezTo>
                        <a:cubicBezTo>
                          <a:pt x="14585" y="166"/>
                          <a:pt x="14524" y="120"/>
                          <a:pt x="14456" y="89"/>
                        </a:cubicBezTo>
                        <a:cubicBezTo>
                          <a:pt x="14388" y="59"/>
                          <a:pt x="14314" y="44"/>
                          <a:pt x="14243" y="63"/>
                        </a:cubicBezTo>
                        <a:cubicBezTo>
                          <a:pt x="14221" y="88"/>
                          <a:pt x="14211" y="117"/>
                          <a:pt x="14209" y="145"/>
                        </a:cubicBezTo>
                        <a:cubicBezTo>
                          <a:pt x="14207" y="174"/>
                          <a:pt x="14215" y="202"/>
                          <a:pt x="14231" y="227"/>
                        </a:cubicBezTo>
                        <a:cubicBezTo>
                          <a:pt x="14209" y="215"/>
                          <a:pt x="14183" y="208"/>
                          <a:pt x="14159" y="208"/>
                        </a:cubicBezTo>
                        <a:cubicBezTo>
                          <a:pt x="14135" y="208"/>
                          <a:pt x="14113" y="215"/>
                          <a:pt x="14101" y="227"/>
                        </a:cubicBezTo>
                        <a:cubicBezTo>
                          <a:pt x="14086" y="189"/>
                          <a:pt x="14059" y="148"/>
                          <a:pt x="14022" y="116"/>
                        </a:cubicBezTo>
                        <a:cubicBezTo>
                          <a:pt x="13985" y="83"/>
                          <a:pt x="13938" y="59"/>
                          <a:pt x="13879" y="55"/>
                        </a:cubicBezTo>
                        <a:cubicBezTo>
                          <a:pt x="13820" y="44"/>
                          <a:pt x="13759" y="66"/>
                          <a:pt x="13722" y="99"/>
                        </a:cubicBezTo>
                        <a:cubicBezTo>
                          <a:pt x="13685" y="133"/>
                          <a:pt x="13672" y="177"/>
                          <a:pt x="13712" y="210"/>
                        </a:cubicBezTo>
                        <a:cubicBezTo>
                          <a:pt x="13666" y="185"/>
                          <a:pt x="13628" y="152"/>
                          <a:pt x="13598" y="116"/>
                        </a:cubicBezTo>
                        <a:cubicBezTo>
                          <a:pt x="13569" y="80"/>
                          <a:pt x="13549" y="40"/>
                          <a:pt x="13540" y="0"/>
                        </a:cubicBezTo>
                        <a:cubicBezTo>
                          <a:pt x="13469" y="0"/>
                          <a:pt x="13401" y="4"/>
                          <a:pt x="13334" y="13"/>
                        </a:cubicBezTo>
                        <a:cubicBezTo>
                          <a:pt x="13268" y="22"/>
                          <a:pt x="13203" y="36"/>
                          <a:pt x="13139" y="55"/>
                        </a:cubicBezTo>
                        <a:cubicBezTo>
                          <a:pt x="13126" y="59"/>
                          <a:pt x="13117" y="63"/>
                          <a:pt x="13108" y="67"/>
                        </a:cubicBezTo>
                        <a:cubicBezTo>
                          <a:pt x="13098" y="72"/>
                          <a:pt x="13089" y="76"/>
                          <a:pt x="13077" y="80"/>
                        </a:cubicBezTo>
                        <a:cubicBezTo>
                          <a:pt x="13065" y="88"/>
                          <a:pt x="13061" y="101"/>
                          <a:pt x="13061" y="115"/>
                        </a:cubicBezTo>
                        <a:cubicBezTo>
                          <a:pt x="13061" y="129"/>
                          <a:pt x="13065" y="145"/>
                          <a:pt x="13065" y="160"/>
                        </a:cubicBezTo>
                        <a:cubicBezTo>
                          <a:pt x="13071" y="193"/>
                          <a:pt x="13077" y="228"/>
                          <a:pt x="13085" y="263"/>
                        </a:cubicBezTo>
                        <a:cubicBezTo>
                          <a:pt x="13092" y="299"/>
                          <a:pt x="13102" y="334"/>
                          <a:pt x="13114" y="370"/>
                        </a:cubicBezTo>
                        <a:cubicBezTo>
                          <a:pt x="13083" y="322"/>
                          <a:pt x="13051" y="273"/>
                          <a:pt x="13020" y="225"/>
                        </a:cubicBezTo>
                        <a:cubicBezTo>
                          <a:pt x="12989" y="177"/>
                          <a:pt x="12960" y="128"/>
                          <a:pt x="12935" y="80"/>
                        </a:cubicBezTo>
                        <a:cubicBezTo>
                          <a:pt x="12923" y="67"/>
                          <a:pt x="12909" y="52"/>
                          <a:pt x="12893" y="38"/>
                        </a:cubicBezTo>
                        <a:cubicBezTo>
                          <a:pt x="12878" y="24"/>
                          <a:pt x="12861" y="13"/>
                          <a:pt x="12842" y="8"/>
                        </a:cubicBezTo>
                        <a:cubicBezTo>
                          <a:pt x="12818" y="4"/>
                          <a:pt x="12792" y="13"/>
                          <a:pt x="12770" y="27"/>
                        </a:cubicBezTo>
                        <a:cubicBezTo>
                          <a:pt x="12748" y="41"/>
                          <a:pt x="12731" y="61"/>
                          <a:pt x="12725" y="80"/>
                        </a:cubicBezTo>
                        <a:cubicBezTo>
                          <a:pt x="12704" y="124"/>
                          <a:pt x="12690" y="169"/>
                          <a:pt x="12684" y="214"/>
                        </a:cubicBezTo>
                        <a:cubicBezTo>
                          <a:pt x="12679" y="259"/>
                          <a:pt x="12682" y="303"/>
                          <a:pt x="12694" y="345"/>
                        </a:cubicBezTo>
                        <a:cubicBezTo>
                          <a:pt x="12676" y="318"/>
                          <a:pt x="12648" y="294"/>
                          <a:pt x="12616" y="277"/>
                        </a:cubicBezTo>
                        <a:cubicBezTo>
                          <a:pt x="12583" y="259"/>
                          <a:pt x="12546" y="246"/>
                          <a:pt x="12509" y="240"/>
                        </a:cubicBezTo>
                        <a:cubicBezTo>
                          <a:pt x="12515" y="200"/>
                          <a:pt x="12483" y="162"/>
                          <a:pt x="12438" y="139"/>
                        </a:cubicBezTo>
                        <a:cubicBezTo>
                          <a:pt x="12392" y="117"/>
                          <a:pt x="12333" y="109"/>
                          <a:pt x="12287" y="130"/>
                        </a:cubicBezTo>
                        <a:cubicBezTo>
                          <a:pt x="12235" y="149"/>
                          <a:pt x="12212" y="189"/>
                          <a:pt x="12215" y="228"/>
                        </a:cubicBezTo>
                        <a:cubicBezTo>
                          <a:pt x="12218" y="266"/>
                          <a:pt x="12247" y="303"/>
                          <a:pt x="12299" y="315"/>
                        </a:cubicBezTo>
                        <a:cubicBezTo>
                          <a:pt x="12259" y="343"/>
                          <a:pt x="12236" y="381"/>
                          <a:pt x="12232" y="420"/>
                        </a:cubicBezTo>
                        <a:cubicBezTo>
                          <a:pt x="12227" y="459"/>
                          <a:pt x="12241" y="498"/>
                          <a:pt x="12275" y="530"/>
                        </a:cubicBezTo>
                        <a:cubicBezTo>
                          <a:pt x="12229" y="530"/>
                          <a:pt x="12196" y="511"/>
                          <a:pt x="12171" y="486"/>
                        </a:cubicBezTo>
                        <a:cubicBezTo>
                          <a:pt x="12145" y="461"/>
                          <a:pt x="12127" y="429"/>
                          <a:pt x="12108" y="404"/>
                        </a:cubicBezTo>
                        <a:cubicBezTo>
                          <a:pt x="12087" y="376"/>
                          <a:pt x="12054" y="350"/>
                          <a:pt x="12019" y="335"/>
                        </a:cubicBezTo>
                        <a:cubicBezTo>
                          <a:pt x="11983" y="321"/>
                          <a:pt x="11945" y="318"/>
                          <a:pt x="11911" y="337"/>
                        </a:cubicBezTo>
                        <a:cubicBezTo>
                          <a:pt x="11905" y="341"/>
                          <a:pt x="11898" y="347"/>
                          <a:pt x="11892" y="354"/>
                        </a:cubicBezTo>
                        <a:cubicBezTo>
                          <a:pt x="11886" y="362"/>
                          <a:pt x="11880" y="370"/>
                          <a:pt x="11874" y="379"/>
                        </a:cubicBezTo>
                        <a:cubicBezTo>
                          <a:pt x="11821" y="471"/>
                          <a:pt x="11843" y="575"/>
                          <a:pt x="11914" y="658"/>
                        </a:cubicBezTo>
                        <a:cubicBezTo>
                          <a:pt x="11985" y="741"/>
                          <a:pt x="12105" y="803"/>
                          <a:pt x="12250" y="812"/>
                        </a:cubicBezTo>
                        <a:cubicBezTo>
                          <a:pt x="12269" y="812"/>
                          <a:pt x="12290" y="812"/>
                          <a:pt x="12311" y="814"/>
                        </a:cubicBezTo>
                        <a:cubicBezTo>
                          <a:pt x="12332" y="816"/>
                          <a:pt x="12352" y="820"/>
                          <a:pt x="12367" y="829"/>
                        </a:cubicBezTo>
                        <a:cubicBezTo>
                          <a:pt x="12380" y="837"/>
                          <a:pt x="12392" y="851"/>
                          <a:pt x="12398" y="864"/>
                        </a:cubicBezTo>
                        <a:cubicBezTo>
                          <a:pt x="12404" y="878"/>
                          <a:pt x="12404" y="892"/>
                          <a:pt x="12392" y="900"/>
                        </a:cubicBezTo>
                        <a:cubicBezTo>
                          <a:pt x="12321" y="888"/>
                          <a:pt x="12253" y="874"/>
                          <a:pt x="12185" y="860"/>
                        </a:cubicBezTo>
                        <a:cubicBezTo>
                          <a:pt x="12117" y="847"/>
                          <a:pt x="12050" y="833"/>
                          <a:pt x="11979" y="820"/>
                        </a:cubicBezTo>
                        <a:cubicBezTo>
                          <a:pt x="11957" y="816"/>
                          <a:pt x="11934" y="812"/>
                          <a:pt x="11912" y="807"/>
                        </a:cubicBezTo>
                        <a:cubicBezTo>
                          <a:pt x="11889" y="801"/>
                          <a:pt x="11868" y="795"/>
                          <a:pt x="11849" y="787"/>
                        </a:cubicBezTo>
                        <a:cubicBezTo>
                          <a:pt x="11828" y="772"/>
                          <a:pt x="11811" y="756"/>
                          <a:pt x="11794" y="741"/>
                        </a:cubicBezTo>
                        <a:cubicBezTo>
                          <a:pt x="11778" y="726"/>
                          <a:pt x="11763" y="711"/>
                          <a:pt x="11744" y="698"/>
                        </a:cubicBezTo>
                        <a:cubicBezTo>
                          <a:pt x="11698" y="650"/>
                          <a:pt x="11636" y="608"/>
                          <a:pt x="11564" y="577"/>
                        </a:cubicBezTo>
                        <a:cubicBezTo>
                          <a:pt x="11491" y="546"/>
                          <a:pt x="11408" y="526"/>
                          <a:pt x="11319" y="522"/>
                        </a:cubicBezTo>
                        <a:cubicBezTo>
                          <a:pt x="11303" y="583"/>
                          <a:pt x="11322" y="644"/>
                          <a:pt x="11362" y="698"/>
                        </a:cubicBezTo>
                        <a:cubicBezTo>
                          <a:pt x="11402" y="753"/>
                          <a:pt x="11463" y="801"/>
                          <a:pt x="11534" y="837"/>
                        </a:cubicBezTo>
                        <a:cubicBezTo>
                          <a:pt x="11605" y="877"/>
                          <a:pt x="11687" y="906"/>
                          <a:pt x="11772" y="930"/>
                        </a:cubicBezTo>
                        <a:cubicBezTo>
                          <a:pt x="11857" y="954"/>
                          <a:pt x="11945" y="972"/>
                          <a:pt x="12028" y="989"/>
                        </a:cubicBezTo>
                        <a:cubicBezTo>
                          <a:pt x="11982" y="1020"/>
                          <a:pt x="11937" y="1060"/>
                          <a:pt x="11915" y="1099"/>
                        </a:cubicBezTo>
                        <a:cubicBezTo>
                          <a:pt x="11892" y="1139"/>
                          <a:pt x="11892" y="1178"/>
                          <a:pt x="11935" y="1207"/>
                        </a:cubicBezTo>
                        <a:lnTo>
                          <a:pt x="11898" y="1262"/>
                        </a:lnTo>
                        <a:cubicBezTo>
                          <a:pt x="11905" y="1319"/>
                          <a:pt x="11914" y="1376"/>
                          <a:pt x="11923" y="1433"/>
                        </a:cubicBezTo>
                        <a:cubicBezTo>
                          <a:pt x="11932" y="1490"/>
                          <a:pt x="11942" y="1548"/>
                          <a:pt x="11948" y="1607"/>
                        </a:cubicBezTo>
                        <a:cubicBezTo>
                          <a:pt x="11871" y="1592"/>
                          <a:pt x="11820" y="1552"/>
                          <a:pt x="11787" y="1503"/>
                        </a:cubicBezTo>
                        <a:cubicBezTo>
                          <a:pt x="11753" y="1453"/>
                          <a:pt x="11738" y="1394"/>
                          <a:pt x="11732" y="1342"/>
                        </a:cubicBezTo>
                        <a:cubicBezTo>
                          <a:pt x="11732" y="1289"/>
                          <a:pt x="11732" y="1229"/>
                          <a:pt x="11717" y="1174"/>
                        </a:cubicBezTo>
                        <a:cubicBezTo>
                          <a:pt x="11703" y="1118"/>
                          <a:pt x="11673" y="1066"/>
                          <a:pt x="11615" y="1031"/>
                        </a:cubicBezTo>
                        <a:cubicBezTo>
                          <a:pt x="11587" y="1062"/>
                          <a:pt x="11570" y="1098"/>
                          <a:pt x="11561" y="1135"/>
                        </a:cubicBezTo>
                        <a:cubicBezTo>
                          <a:pt x="11553" y="1171"/>
                          <a:pt x="11553" y="1209"/>
                          <a:pt x="11559" y="1245"/>
                        </a:cubicBezTo>
                        <a:cubicBezTo>
                          <a:pt x="11522" y="1245"/>
                          <a:pt x="11484" y="1247"/>
                          <a:pt x="11445" y="1252"/>
                        </a:cubicBezTo>
                        <a:cubicBezTo>
                          <a:pt x="11406" y="1258"/>
                          <a:pt x="11368" y="1266"/>
                          <a:pt x="11331" y="1279"/>
                        </a:cubicBezTo>
                        <a:cubicBezTo>
                          <a:pt x="11309" y="1310"/>
                          <a:pt x="11315" y="1352"/>
                          <a:pt x="11315" y="1389"/>
                        </a:cubicBezTo>
                        <a:cubicBezTo>
                          <a:pt x="11315" y="1425"/>
                          <a:pt x="11309" y="1455"/>
                          <a:pt x="11263" y="1464"/>
                        </a:cubicBezTo>
                        <a:cubicBezTo>
                          <a:pt x="11232" y="1468"/>
                          <a:pt x="11203" y="1455"/>
                          <a:pt x="11178" y="1437"/>
                        </a:cubicBezTo>
                        <a:cubicBezTo>
                          <a:pt x="11153" y="1419"/>
                          <a:pt x="11133" y="1394"/>
                          <a:pt x="11121" y="1376"/>
                        </a:cubicBezTo>
                        <a:cubicBezTo>
                          <a:pt x="11109" y="1354"/>
                          <a:pt x="11073" y="1334"/>
                          <a:pt x="11038" y="1326"/>
                        </a:cubicBezTo>
                        <a:cubicBezTo>
                          <a:pt x="11002" y="1317"/>
                          <a:pt x="10967" y="1319"/>
                          <a:pt x="10954" y="1342"/>
                        </a:cubicBezTo>
                        <a:cubicBezTo>
                          <a:pt x="10930" y="1304"/>
                          <a:pt x="10967" y="1254"/>
                          <a:pt x="11029" y="1254"/>
                        </a:cubicBezTo>
                        <a:cubicBezTo>
                          <a:pt x="11072" y="1254"/>
                          <a:pt x="11121" y="1270"/>
                          <a:pt x="11146" y="1254"/>
                        </a:cubicBezTo>
                        <a:cubicBezTo>
                          <a:pt x="11158" y="1245"/>
                          <a:pt x="11158" y="1237"/>
                          <a:pt x="11158" y="1216"/>
                        </a:cubicBezTo>
                        <a:cubicBezTo>
                          <a:pt x="11152" y="1182"/>
                          <a:pt x="11149" y="1148"/>
                          <a:pt x="11141" y="1116"/>
                        </a:cubicBezTo>
                        <a:cubicBezTo>
                          <a:pt x="11133" y="1083"/>
                          <a:pt x="11121" y="1052"/>
                          <a:pt x="11096" y="1022"/>
                        </a:cubicBezTo>
                        <a:cubicBezTo>
                          <a:pt x="11072" y="991"/>
                          <a:pt x="11036" y="964"/>
                          <a:pt x="10994" y="948"/>
                        </a:cubicBezTo>
                        <a:cubicBezTo>
                          <a:pt x="10951" y="932"/>
                          <a:pt x="10902" y="925"/>
                          <a:pt x="10850" y="934"/>
                        </a:cubicBezTo>
                        <a:cubicBezTo>
                          <a:pt x="10843" y="949"/>
                          <a:pt x="10837" y="964"/>
                          <a:pt x="10831" y="980"/>
                        </a:cubicBezTo>
                        <a:cubicBezTo>
                          <a:pt x="10825" y="995"/>
                          <a:pt x="10819" y="1010"/>
                          <a:pt x="10813" y="1022"/>
                        </a:cubicBezTo>
                        <a:cubicBezTo>
                          <a:pt x="10760" y="961"/>
                          <a:pt x="10708" y="900"/>
                          <a:pt x="10658" y="839"/>
                        </a:cubicBezTo>
                        <a:cubicBezTo>
                          <a:pt x="10607" y="777"/>
                          <a:pt x="10560" y="715"/>
                          <a:pt x="10516" y="652"/>
                        </a:cubicBezTo>
                        <a:cubicBezTo>
                          <a:pt x="10464" y="665"/>
                          <a:pt x="10424" y="696"/>
                          <a:pt x="10405" y="732"/>
                        </a:cubicBezTo>
                        <a:cubicBezTo>
                          <a:pt x="10387" y="768"/>
                          <a:pt x="10390" y="808"/>
                          <a:pt x="10424" y="837"/>
                        </a:cubicBezTo>
                        <a:cubicBezTo>
                          <a:pt x="10449" y="867"/>
                          <a:pt x="10498" y="883"/>
                          <a:pt x="10529" y="917"/>
                        </a:cubicBezTo>
                        <a:cubicBezTo>
                          <a:pt x="10578" y="972"/>
                          <a:pt x="10578" y="1039"/>
                          <a:pt x="10529" y="1094"/>
                        </a:cubicBezTo>
                        <a:cubicBezTo>
                          <a:pt x="10507" y="1073"/>
                          <a:pt x="10472" y="1059"/>
                          <a:pt x="10435" y="1055"/>
                        </a:cubicBezTo>
                        <a:cubicBezTo>
                          <a:pt x="10398" y="1052"/>
                          <a:pt x="10359" y="1058"/>
                          <a:pt x="10331" y="1077"/>
                        </a:cubicBezTo>
                        <a:cubicBezTo>
                          <a:pt x="10325" y="1050"/>
                          <a:pt x="10319" y="1025"/>
                          <a:pt x="10314" y="1001"/>
                        </a:cubicBezTo>
                        <a:cubicBezTo>
                          <a:pt x="10310" y="977"/>
                          <a:pt x="10307" y="953"/>
                          <a:pt x="10307" y="925"/>
                        </a:cubicBezTo>
                        <a:cubicBezTo>
                          <a:pt x="10202" y="900"/>
                          <a:pt x="10097" y="892"/>
                          <a:pt x="9998" y="892"/>
                        </a:cubicBezTo>
                        <a:cubicBezTo>
                          <a:pt x="9943" y="892"/>
                          <a:pt x="9881" y="900"/>
                          <a:pt x="9869" y="934"/>
                        </a:cubicBezTo>
                        <a:cubicBezTo>
                          <a:pt x="9847" y="974"/>
                          <a:pt x="9895" y="1005"/>
                          <a:pt x="9943" y="1037"/>
                        </a:cubicBezTo>
                        <a:cubicBezTo>
                          <a:pt x="9992" y="1068"/>
                          <a:pt x="10041" y="1100"/>
                          <a:pt x="10023" y="1140"/>
                        </a:cubicBezTo>
                        <a:cubicBezTo>
                          <a:pt x="9989" y="1157"/>
                          <a:pt x="9952" y="1152"/>
                          <a:pt x="9919" y="1137"/>
                        </a:cubicBezTo>
                        <a:cubicBezTo>
                          <a:pt x="9886" y="1122"/>
                          <a:pt x="9856" y="1098"/>
                          <a:pt x="9838" y="1077"/>
                        </a:cubicBezTo>
                        <a:cubicBezTo>
                          <a:pt x="9816" y="1054"/>
                          <a:pt x="9778" y="1036"/>
                          <a:pt x="9741" y="1031"/>
                        </a:cubicBezTo>
                        <a:cubicBezTo>
                          <a:pt x="9705" y="1025"/>
                          <a:pt x="9671" y="1033"/>
                          <a:pt x="9659" y="1060"/>
                        </a:cubicBezTo>
                        <a:cubicBezTo>
                          <a:pt x="9653" y="1073"/>
                          <a:pt x="9656" y="1083"/>
                          <a:pt x="9663" y="1094"/>
                        </a:cubicBezTo>
                        <a:cubicBezTo>
                          <a:pt x="9671" y="1104"/>
                          <a:pt x="9684" y="1115"/>
                          <a:pt x="9696" y="1127"/>
                        </a:cubicBezTo>
                        <a:cubicBezTo>
                          <a:pt x="9730" y="1155"/>
                          <a:pt x="9765" y="1180"/>
                          <a:pt x="9801" y="1205"/>
                        </a:cubicBezTo>
                        <a:cubicBezTo>
                          <a:pt x="9836" y="1229"/>
                          <a:pt x="9872" y="1254"/>
                          <a:pt x="9906" y="1279"/>
                        </a:cubicBezTo>
                        <a:cubicBezTo>
                          <a:pt x="9872" y="1279"/>
                          <a:pt x="9842" y="1272"/>
                          <a:pt x="9820" y="1260"/>
                        </a:cubicBezTo>
                        <a:cubicBezTo>
                          <a:pt x="9798" y="1248"/>
                          <a:pt x="9782" y="1230"/>
                          <a:pt x="9776" y="1207"/>
                        </a:cubicBezTo>
                        <a:cubicBezTo>
                          <a:pt x="9742" y="1226"/>
                          <a:pt x="9704" y="1231"/>
                          <a:pt x="9665" y="1227"/>
                        </a:cubicBezTo>
                        <a:cubicBezTo>
                          <a:pt x="9626" y="1223"/>
                          <a:pt x="9588" y="1209"/>
                          <a:pt x="9554" y="1190"/>
                        </a:cubicBezTo>
                        <a:cubicBezTo>
                          <a:pt x="9529" y="1174"/>
                          <a:pt x="9511" y="1152"/>
                          <a:pt x="9495" y="1127"/>
                        </a:cubicBezTo>
                        <a:cubicBezTo>
                          <a:pt x="9480" y="1103"/>
                          <a:pt x="9468" y="1077"/>
                          <a:pt x="9455" y="1052"/>
                        </a:cubicBezTo>
                        <a:cubicBezTo>
                          <a:pt x="9403" y="1064"/>
                          <a:pt x="9347" y="1077"/>
                          <a:pt x="9290" y="1087"/>
                        </a:cubicBezTo>
                        <a:cubicBezTo>
                          <a:pt x="9233" y="1098"/>
                          <a:pt x="9175" y="1106"/>
                          <a:pt x="9116" y="1110"/>
                        </a:cubicBezTo>
                        <a:cubicBezTo>
                          <a:pt x="9156" y="1150"/>
                          <a:pt x="9195" y="1190"/>
                          <a:pt x="9235" y="1231"/>
                        </a:cubicBezTo>
                        <a:cubicBezTo>
                          <a:pt x="9275" y="1272"/>
                          <a:pt x="9316" y="1315"/>
                          <a:pt x="9363" y="1359"/>
                        </a:cubicBezTo>
                        <a:cubicBezTo>
                          <a:pt x="9381" y="1376"/>
                          <a:pt x="9397" y="1393"/>
                          <a:pt x="9414" y="1409"/>
                        </a:cubicBezTo>
                        <a:cubicBezTo>
                          <a:pt x="9432" y="1425"/>
                          <a:pt x="9452" y="1439"/>
                          <a:pt x="9480" y="1447"/>
                        </a:cubicBezTo>
                        <a:cubicBezTo>
                          <a:pt x="9539" y="1474"/>
                          <a:pt x="9603" y="1481"/>
                          <a:pt x="9670" y="1477"/>
                        </a:cubicBezTo>
                        <a:cubicBezTo>
                          <a:pt x="9736" y="1473"/>
                          <a:pt x="9804" y="1460"/>
                          <a:pt x="9869" y="1447"/>
                        </a:cubicBezTo>
                        <a:cubicBezTo>
                          <a:pt x="9887" y="1455"/>
                          <a:pt x="9906" y="1466"/>
                          <a:pt x="9925" y="1477"/>
                        </a:cubicBezTo>
                        <a:cubicBezTo>
                          <a:pt x="9944" y="1488"/>
                          <a:pt x="9964" y="1500"/>
                          <a:pt x="9986" y="1510"/>
                        </a:cubicBezTo>
                        <a:cubicBezTo>
                          <a:pt x="10106" y="1495"/>
                          <a:pt x="10231" y="1486"/>
                          <a:pt x="10357" y="1481"/>
                        </a:cubicBezTo>
                        <a:cubicBezTo>
                          <a:pt x="10483" y="1476"/>
                          <a:pt x="10609" y="1476"/>
                          <a:pt x="10732" y="1481"/>
                        </a:cubicBezTo>
                        <a:cubicBezTo>
                          <a:pt x="10825" y="1525"/>
                          <a:pt x="10919" y="1567"/>
                          <a:pt x="11015" y="1607"/>
                        </a:cubicBezTo>
                        <a:cubicBezTo>
                          <a:pt x="11110" y="1647"/>
                          <a:pt x="11207" y="1685"/>
                          <a:pt x="11306" y="1720"/>
                        </a:cubicBezTo>
                        <a:cubicBezTo>
                          <a:pt x="11325" y="1704"/>
                          <a:pt x="11340" y="1686"/>
                          <a:pt x="11356" y="1667"/>
                        </a:cubicBezTo>
                        <a:cubicBezTo>
                          <a:pt x="11371" y="1648"/>
                          <a:pt x="11386" y="1628"/>
                          <a:pt x="11405" y="1607"/>
                        </a:cubicBezTo>
                        <a:cubicBezTo>
                          <a:pt x="11417" y="1668"/>
                          <a:pt x="11431" y="1727"/>
                          <a:pt x="11447" y="1786"/>
                        </a:cubicBezTo>
                        <a:cubicBezTo>
                          <a:pt x="11462" y="1846"/>
                          <a:pt x="11479" y="1906"/>
                          <a:pt x="11497" y="1969"/>
                        </a:cubicBezTo>
                        <a:cubicBezTo>
                          <a:pt x="11510" y="2021"/>
                          <a:pt x="11522" y="2076"/>
                          <a:pt x="11530" y="2132"/>
                        </a:cubicBezTo>
                        <a:cubicBezTo>
                          <a:pt x="11538" y="2187"/>
                          <a:pt x="11541" y="2244"/>
                          <a:pt x="11534" y="2301"/>
                        </a:cubicBezTo>
                        <a:cubicBezTo>
                          <a:pt x="11491" y="2236"/>
                          <a:pt x="11443" y="2171"/>
                          <a:pt x="11395" y="2105"/>
                        </a:cubicBezTo>
                        <a:cubicBezTo>
                          <a:pt x="11346" y="2039"/>
                          <a:pt x="11297" y="1973"/>
                          <a:pt x="11251" y="1906"/>
                        </a:cubicBezTo>
                        <a:cubicBezTo>
                          <a:pt x="11238" y="1889"/>
                          <a:pt x="11226" y="1869"/>
                          <a:pt x="11210" y="1849"/>
                        </a:cubicBezTo>
                        <a:cubicBezTo>
                          <a:pt x="11194" y="1829"/>
                          <a:pt x="11174" y="1809"/>
                          <a:pt x="11146" y="1792"/>
                        </a:cubicBezTo>
                        <a:cubicBezTo>
                          <a:pt x="11109" y="1760"/>
                          <a:pt x="11058" y="1736"/>
                          <a:pt x="11002" y="1716"/>
                        </a:cubicBezTo>
                        <a:cubicBezTo>
                          <a:pt x="10945" y="1696"/>
                          <a:pt x="10884" y="1680"/>
                          <a:pt x="10825" y="1666"/>
                        </a:cubicBezTo>
                        <a:cubicBezTo>
                          <a:pt x="10760" y="1653"/>
                          <a:pt x="10698" y="1638"/>
                          <a:pt x="10637" y="1623"/>
                        </a:cubicBezTo>
                        <a:cubicBezTo>
                          <a:pt x="10575" y="1608"/>
                          <a:pt x="10513" y="1592"/>
                          <a:pt x="10449" y="1577"/>
                        </a:cubicBezTo>
                        <a:cubicBezTo>
                          <a:pt x="10399" y="1615"/>
                          <a:pt x="10486" y="1666"/>
                          <a:pt x="10566" y="1687"/>
                        </a:cubicBezTo>
                        <a:cubicBezTo>
                          <a:pt x="10695" y="1720"/>
                          <a:pt x="10800" y="1784"/>
                          <a:pt x="10874" y="1851"/>
                        </a:cubicBezTo>
                        <a:cubicBezTo>
                          <a:pt x="10961" y="1935"/>
                          <a:pt x="11004" y="2035"/>
                          <a:pt x="11023" y="2139"/>
                        </a:cubicBezTo>
                        <a:cubicBezTo>
                          <a:pt x="11042" y="2243"/>
                          <a:pt x="11038" y="2351"/>
                          <a:pt x="11029" y="2452"/>
                        </a:cubicBezTo>
                        <a:cubicBezTo>
                          <a:pt x="10954" y="2444"/>
                          <a:pt x="10899" y="2381"/>
                          <a:pt x="10899" y="2322"/>
                        </a:cubicBezTo>
                        <a:cubicBezTo>
                          <a:pt x="10899" y="2259"/>
                          <a:pt x="10917" y="2204"/>
                          <a:pt x="10887" y="2154"/>
                        </a:cubicBezTo>
                        <a:cubicBezTo>
                          <a:pt x="10874" y="2118"/>
                          <a:pt x="10850" y="2090"/>
                          <a:pt x="10820" y="2063"/>
                        </a:cubicBezTo>
                        <a:cubicBezTo>
                          <a:pt x="10789" y="2037"/>
                          <a:pt x="10754" y="2013"/>
                          <a:pt x="10720" y="1985"/>
                        </a:cubicBezTo>
                        <a:lnTo>
                          <a:pt x="10399" y="1767"/>
                        </a:lnTo>
                        <a:cubicBezTo>
                          <a:pt x="10399" y="1809"/>
                          <a:pt x="10413" y="1850"/>
                          <a:pt x="10432" y="1890"/>
                        </a:cubicBezTo>
                        <a:cubicBezTo>
                          <a:pt x="10452" y="1931"/>
                          <a:pt x="10476" y="1971"/>
                          <a:pt x="10498" y="2011"/>
                        </a:cubicBezTo>
                        <a:cubicBezTo>
                          <a:pt x="10516" y="2051"/>
                          <a:pt x="10530" y="2095"/>
                          <a:pt x="10530" y="2138"/>
                        </a:cubicBezTo>
                        <a:cubicBezTo>
                          <a:pt x="10529" y="2181"/>
                          <a:pt x="10513" y="2223"/>
                          <a:pt x="10473" y="2259"/>
                        </a:cubicBezTo>
                        <a:cubicBezTo>
                          <a:pt x="10408" y="2242"/>
                          <a:pt x="10364" y="2202"/>
                          <a:pt x="10347" y="2156"/>
                        </a:cubicBezTo>
                        <a:cubicBezTo>
                          <a:pt x="10330" y="2111"/>
                          <a:pt x="10341" y="2059"/>
                          <a:pt x="10387" y="2019"/>
                        </a:cubicBezTo>
                        <a:cubicBezTo>
                          <a:pt x="10313" y="1994"/>
                          <a:pt x="10305" y="1933"/>
                          <a:pt x="10298" y="1872"/>
                        </a:cubicBezTo>
                        <a:cubicBezTo>
                          <a:pt x="10291" y="1812"/>
                          <a:pt x="10285" y="1752"/>
                          <a:pt x="10214" y="1729"/>
                        </a:cubicBezTo>
                        <a:cubicBezTo>
                          <a:pt x="10165" y="1712"/>
                          <a:pt x="10097" y="1729"/>
                          <a:pt x="10035" y="1729"/>
                        </a:cubicBezTo>
                        <a:cubicBezTo>
                          <a:pt x="9943" y="1729"/>
                          <a:pt x="9856" y="1704"/>
                          <a:pt x="9764" y="1695"/>
                        </a:cubicBezTo>
                        <a:cubicBezTo>
                          <a:pt x="9671" y="1687"/>
                          <a:pt x="9554" y="1712"/>
                          <a:pt x="9542" y="1775"/>
                        </a:cubicBezTo>
                        <a:cubicBezTo>
                          <a:pt x="9705" y="1853"/>
                          <a:pt x="9844" y="1954"/>
                          <a:pt x="9950" y="2069"/>
                        </a:cubicBezTo>
                        <a:cubicBezTo>
                          <a:pt x="10057" y="2183"/>
                          <a:pt x="10131" y="2311"/>
                          <a:pt x="10165" y="2444"/>
                        </a:cubicBezTo>
                        <a:cubicBezTo>
                          <a:pt x="10242" y="2448"/>
                          <a:pt x="10316" y="2466"/>
                          <a:pt x="10384" y="2493"/>
                        </a:cubicBezTo>
                        <a:cubicBezTo>
                          <a:pt x="10452" y="2520"/>
                          <a:pt x="10513" y="2555"/>
                          <a:pt x="10566" y="2595"/>
                        </a:cubicBezTo>
                        <a:cubicBezTo>
                          <a:pt x="10501" y="2587"/>
                          <a:pt x="10439" y="2575"/>
                          <a:pt x="10381" y="2560"/>
                        </a:cubicBezTo>
                        <a:cubicBezTo>
                          <a:pt x="10322" y="2544"/>
                          <a:pt x="10267" y="2524"/>
                          <a:pt x="10214" y="2499"/>
                        </a:cubicBezTo>
                        <a:cubicBezTo>
                          <a:pt x="10041" y="2419"/>
                          <a:pt x="9920" y="2306"/>
                          <a:pt x="9803" y="2189"/>
                        </a:cubicBezTo>
                        <a:cubicBezTo>
                          <a:pt x="9687" y="2072"/>
                          <a:pt x="9576" y="1950"/>
                          <a:pt x="9424" y="1851"/>
                        </a:cubicBezTo>
                        <a:cubicBezTo>
                          <a:pt x="9387" y="1830"/>
                          <a:pt x="9346" y="1809"/>
                          <a:pt x="9302" y="1796"/>
                        </a:cubicBezTo>
                        <a:cubicBezTo>
                          <a:pt x="9258" y="1784"/>
                          <a:pt x="9212" y="1779"/>
                          <a:pt x="9165" y="1792"/>
                        </a:cubicBezTo>
                        <a:cubicBezTo>
                          <a:pt x="9252" y="1872"/>
                          <a:pt x="9333" y="1949"/>
                          <a:pt x="9414" y="2025"/>
                        </a:cubicBezTo>
                        <a:cubicBezTo>
                          <a:pt x="9495" y="2102"/>
                          <a:pt x="9576" y="2179"/>
                          <a:pt x="9659" y="2259"/>
                        </a:cubicBezTo>
                        <a:cubicBezTo>
                          <a:pt x="9693" y="2290"/>
                          <a:pt x="9725" y="2323"/>
                          <a:pt x="9754" y="2358"/>
                        </a:cubicBezTo>
                        <a:cubicBezTo>
                          <a:pt x="9782" y="2392"/>
                          <a:pt x="9807" y="2429"/>
                          <a:pt x="9825" y="2469"/>
                        </a:cubicBezTo>
                        <a:cubicBezTo>
                          <a:pt x="9841" y="2509"/>
                          <a:pt x="9858" y="2561"/>
                          <a:pt x="9886" y="2600"/>
                        </a:cubicBezTo>
                        <a:cubicBezTo>
                          <a:pt x="9913" y="2638"/>
                          <a:pt x="9952" y="2665"/>
                          <a:pt x="10011" y="2654"/>
                        </a:cubicBezTo>
                        <a:cubicBezTo>
                          <a:pt x="9955" y="2717"/>
                          <a:pt x="9813" y="2679"/>
                          <a:pt x="9739" y="2629"/>
                        </a:cubicBezTo>
                        <a:cubicBezTo>
                          <a:pt x="9437" y="2423"/>
                          <a:pt x="9400" y="2065"/>
                          <a:pt x="9023" y="1931"/>
                        </a:cubicBezTo>
                        <a:cubicBezTo>
                          <a:pt x="8974" y="1967"/>
                          <a:pt x="8965" y="2016"/>
                          <a:pt x="8976" y="2067"/>
                        </a:cubicBezTo>
                        <a:cubicBezTo>
                          <a:pt x="8986" y="2119"/>
                          <a:pt x="9017" y="2173"/>
                          <a:pt x="9048" y="2217"/>
                        </a:cubicBezTo>
                        <a:cubicBezTo>
                          <a:pt x="9070" y="2238"/>
                          <a:pt x="9087" y="2262"/>
                          <a:pt x="9103" y="2286"/>
                        </a:cubicBezTo>
                        <a:cubicBezTo>
                          <a:pt x="9119" y="2310"/>
                          <a:pt x="9134" y="2335"/>
                          <a:pt x="9153" y="2356"/>
                        </a:cubicBezTo>
                        <a:cubicBezTo>
                          <a:pt x="9165" y="2368"/>
                          <a:pt x="9176" y="2382"/>
                          <a:pt x="9187" y="2396"/>
                        </a:cubicBezTo>
                        <a:cubicBezTo>
                          <a:pt x="9198" y="2409"/>
                          <a:pt x="9208" y="2423"/>
                          <a:pt x="9221" y="2436"/>
                        </a:cubicBezTo>
                        <a:cubicBezTo>
                          <a:pt x="9239" y="2457"/>
                          <a:pt x="9266" y="2477"/>
                          <a:pt x="9293" y="2495"/>
                        </a:cubicBezTo>
                        <a:cubicBezTo>
                          <a:pt x="9321" y="2514"/>
                          <a:pt x="9350" y="2532"/>
                          <a:pt x="9375" y="2549"/>
                        </a:cubicBezTo>
                        <a:cubicBezTo>
                          <a:pt x="9597" y="2692"/>
                          <a:pt x="9764" y="2869"/>
                          <a:pt x="9856" y="3062"/>
                        </a:cubicBezTo>
                        <a:cubicBezTo>
                          <a:pt x="9869" y="3088"/>
                          <a:pt x="9881" y="3113"/>
                          <a:pt x="9869" y="3134"/>
                        </a:cubicBezTo>
                        <a:cubicBezTo>
                          <a:pt x="9853" y="3163"/>
                          <a:pt x="9807" y="3174"/>
                          <a:pt x="9757" y="3169"/>
                        </a:cubicBezTo>
                        <a:cubicBezTo>
                          <a:pt x="9707" y="3164"/>
                          <a:pt x="9653" y="3144"/>
                          <a:pt x="9622" y="3113"/>
                        </a:cubicBezTo>
                        <a:cubicBezTo>
                          <a:pt x="9588" y="3132"/>
                          <a:pt x="9552" y="3150"/>
                          <a:pt x="9515" y="3163"/>
                        </a:cubicBezTo>
                        <a:cubicBezTo>
                          <a:pt x="9478" y="3176"/>
                          <a:pt x="9440" y="3184"/>
                          <a:pt x="9400" y="3184"/>
                        </a:cubicBezTo>
                        <a:cubicBezTo>
                          <a:pt x="9316" y="3188"/>
                          <a:pt x="9239" y="3171"/>
                          <a:pt x="9167" y="3142"/>
                        </a:cubicBezTo>
                        <a:cubicBezTo>
                          <a:pt x="9094" y="3114"/>
                          <a:pt x="9026" y="3075"/>
                          <a:pt x="8962" y="3037"/>
                        </a:cubicBezTo>
                        <a:cubicBezTo>
                          <a:pt x="8897" y="2997"/>
                          <a:pt x="8829" y="2955"/>
                          <a:pt x="8761" y="2913"/>
                        </a:cubicBezTo>
                        <a:cubicBezTo>
                          <a:pt x="8693" y="2871"/>
                          <a:pt x="8625" y="2829"/>
                          <a:pt x="8561" y="2789"/>
                        </a:cubicBezTo>
                        <a:cubicBezTo>
                          <a:pt x="8527" y="2766"/>
                          <a:pt x="8494" y="2746"/>
                          <a:pt x="8465" y="2725"/>
                        </a:cubicBezTo>
                        <a:cubicBezTo>
                          <a:pt x="8436" y="2704"/>
                          <a:pt x="8410" y="2682"/>
                          <a:pt x="8388" y="2654"/>
                        </a:cubicBezTo>
                        <a:cubicBezTo>
                          <a:pt x="8376" y="2642"/>
                          <a:pt x="8363" y="2627"/>
                          <a:pt x="8351" y="2612"/>
                        </a:cubicBezTo>
                        <a:cubicBezTo>
                          <a:pt x="8339" y="2596"/>
                          <a:pt x="8326" y="2581"/>
                          <a:pt x="8314" y="2566"/>
                        </a:cubicBezTo>
                        <a:cubicBezTo>
                          <a:pt x="8302" y="2558"/>
                          <a:pt x="8285" y="2549"/>
                          <a:pt x="8268" y="2541"/>
                        </a:cubicBezTo>
                        <a:cubicBezTo>
                          <a:pt x="8251" y="2532"/>
                          <a:pt x="8234" y="2524"/>
                          <a:pt x="8221" y="2515"/>
                        </a:cubicBezTo>
                        <a:cubicBezTo>
                          <a:pt x="8144" y="2475"/>
                          <a:pt x="8079" y="2427"/>
                          <a:pt x="8026" y="2372"/>
                        </a:cubicBezTo>
                        <a:cubicBezTo>
                          <a:pt x="7973" y="2317"/>
                          <a:pt x="7931" y="2255"/>
                          <a:pt x="7901" y="2187"/>
                        </a:cubicBezTo>
                        <a:cubicBezTo>
                          <a:pt x="7860" y="2175"/>
                          <a:pt x="7808" y="2162"/>
                          <a:pt x="7761" y="2160"/>
                        </a:cubicBezTo>
                        <a:cubicBezTo>
                          <a:pt x="7714" y="2158"/>
                          <a:pt x="7672" y="2166"/>
                          <a:pt x="7654" y="2196"/>
                        </a:cubicBezTo>
                        <a:cubicBezTo>
                          <a:pt x="7641" y="2217"/>
                          <a:pt x="7641" y="2234"/>
                          <a:pt x="7641" y="2250"/>
                        </a:cubicBezTo>
                        <a:cubicBezTo>
                          <a:pt x="7641" y="2490"/>
                          <a:pt x="7759" y="2734"/>
                          <a:pt x="7975" y="2928"/>
                        </a:cubicBezTo>
                        <a:cubicBezTo>
                          <a:pt x="8018" y="2966"/>
                          <a:pt x="8067" y="3008"/>
                          <a:pt x="8055" y="3062"/>
                        </a:cubicBezTo>
                        <a:cubicBezTo>
                          <a:pt x="8036" y="3115"/>
                          <a:pt x="7948" y="3133"/>
                          <a:pt x="7860" y="3151"/>
                        </a:cubicBezTo>
                        <a:cubicBezTo>
                          <a:pt x="7772" y="3168"/>
                          <a:pt x="7685" y="3186"/>
                          <a:pt x="7666" y="3239"/>
                        </a:cubicBezTo>
                        <a:cubicBezTo>
                          <a:pt x="7614" y="3203"/>
                          <a:pt x="7546" y="3179"/>
                          <a:pt x="7473" y="3168"/>
                        </a:cubicBezTo>
                        <a:cubicBezTo>
                          <a:pt x="7401" y="3157"/>
                          <a:pt x="7324" y="3159"/>
                          <a:pt x="7253" y="3176"/>
                        </a:cubicBezTo>
                        <a:cubicBezTo>
                          <a:pt x="7234" y="3123"/>
                          <a:pt x="7202" y="3071"/>
                          <a:pt x="7159" y="3021"/>
                        </a:cubicBezTo>
                        <a:cubicBezTo>
                          <a:pt x="7117" y="2972"/>
                          <a:pt x="7065" y="2926"/>
                          <a:pt x="7006" y="2886"/>
                        </a:cubicBezTo>
                        <a:cubicBezTo>
                          <a:pt x="6975" y="2881"/>
                          <a:pt x="6949" y="2894"/>
                          <a:pt x="6932" y="2913"/>
                        </a:cubicBezTo>
                        <a:cubicBezTo>
                          <a:pt x="6915" y="2933"/>
                          <a:pt x="6907" y="2959"/>
                          <a:pt x="6913" y="2982"/>
                        </a:cubicBezTo>
                        <a:cubicBezTo>
                          <a:pt x="6920" y="3003"/>
                          <a:pt x="6937" y="3025"/>
                          <a:pt x="6949" y="3048"/>
                        </a:cubicBezTo>
                        <a:cubicBezTo>
                          <a:pt x="6961" y="3070"/>
                          <a:pt x="6969" y="3092"/>
                          <a:pt x="6957" y="3113"/>
                        </a:cubicBezTo>
                        <a:cubicBezTo>
                          <a:pt x="6929" y="3104"/>
                          <a:pt x="6896" y="3102"/>
                          <a:pt x="6867" y="3107"/>
                        </a:cubicBezTo>
                        <a:cubicBezTo>
                          <a:pt x="6838" y="3112"/>
                          <a:pt x="6812" y="3123"/>
                          <a:pt x="6796" y="3142"/>
                        </a:cubicBezTo>
                        <a:cubicBezTo>
                          <a:pt x="6784" y="3106"/>
                          <a:pt x="6771" y="3073"/>
                          <a:pt x="6758" y="3040"/>
                        </a:cubicBezTo>
                        <a:cubicBezTo>
                          <a:pt x="6744" y="3007"/>
                          <a:pt x="6728" y="2974"/>
                          <a:pt x="6710" y="2940"/>
                        </a:cubicBezTo>
                        <a:cubicBezTo>
                          <a:pt x="6617" y="2928"/>
                          <a:pt x="6568" y="2999"/>
                          <a:pt x="6556" y="3062"/>
                        </a:cubicBezTo>
                        <a:cubicBezTo>
                          <a:pt x="6543" y="3125"/>
                          <a:pt x="6512" y="3201"/>
                          <a:pt x="6426" y="3214"/>
                        </a:cubicBezTo>
                        <a:cubicBezTo>
                          <a:pt x="6386" y="3222"/>
                          <a:pt x="6357" y="3206"/>
                          <a:pt x="6339" y="3182"/>
                        </a:cubicBezTo>
                        <a:cubicBezTo>
                          <a:pt x="6321" y="3157"/>
                          <a:pt x="6315" y="3123"/>
                          <a:pt x="6321" y="3096"/>
                        </a:cubicBezTo>
                        <a:cubicBezTo>
                          <a:pt x="6321" y="3031"/>
                          <a:pt x="6318" y="2967"/>
                          <a:pt x="6313" y="2902"/>
                        </a:cubicBezTo>
                        <a:cubicBezTo>
                          <a:pt x="6309" y="2838"/>
                          <a:pt x="6303" y="2774"/>
                          <a:pt x="6296" y="2709"/>
                        </a:cubicBezTo>
                        <a:cubicBezTo>
                          <a:pt x="6290" y="2673"/>
                          <a:pt x="6270" y="2629"/>
                          <a:pt x="6239" y="2598"/>
                        </a:cubicBezTo>
                        <a:cubicBezTo>
                          <a:pt x="6207" y="2567"/>
                          <a:pt x="6164" y="2549"/>
                          <a:pt x="6111" y="2566"/>
                        </a:cubicBezTo>
                        <a:cubicBezTo>
                          <a:pt x="6117" y="2545"/>
                          <a:pt x="6102" y="2526"/>
                          <a:pt x="6077" y="2513"/>
                        </a:cubicBezTo>
                        <a:cubicBezTo>
                          <a:pt x="6051" y="2501"/>
                          <a:pt x="6016" y="2494"/>
                          <a:pt x="5982" y="2499"/>
                        </a:cubicBezTo>
                        <a:cubicBezTo>
                          <a:pt x="5957" y="2503"/>
                          <a:pt x="5935" y="2515"/>
                          <a:pt x="5919" y="2533"/>
                        </a:cubicBezTo>
                        <a:cubicBezTo>
                          <a:pt x="5902" y="2550"/>
                          <a:pt x="5889" y="2572"/>
                          <a:pt x="5883" y="2595"/>
                        </a:cubicBezTo>
                        <a:cubicBezTo>
                          <a:pt x="5883" y="2612"/>
                          <a:pt x="5863" y="2624"/>
                          <a:pt x="5837" y="2634"/>
                        </a:cubicBezTo>
                        <a:cubicBezTo>
                          <a:pt x="5811" y="2644"/>
                          <a:pt x="5778" y="2652"/>
                          <a:pt x="5753" y="2663"/>
                        </a:cubicBezTo>
                        <a:cubicBezTo>
                          <a:pt x="5726" y="2671"/>
                          <a:pt x="5696" y="2683"/>
                          <a:pt x="5677" y="2697"/>
                        </a:cubicBezTo>
                        <a:cubicBezTo>
                          <a:pt x="5658" y="2712"/>
                          <a:pt x="5649" y="2730"/>
                          <a:pt x="5661" y="2751"/>
                        </a:cubicBezTo>
                        <a:cubicBezTo>
                          <a:pt x="5649" y="2734"/>
                          <a:pt x="5635" y="2719"/>
                          <a:pt x="5619" y="2707"/>
                        </a:cubicBezTo>
                        <a:cubicBezTo>
                          <a:pt x="5604" y="2694"/>
                          <a:pt x="5587" y="2684"/>
                          <a:pt x="5568" y="2675"/>
                        </a:cubicBezTo>
                        <a:cubicBezTo>
                          <a:pt x="5544" y="2665"/>
                          <a:pt x="5514" y="2662"/>
                          <a:pt x="5490" y="2666"/>
                        </a:cubicBezTo>
                        <a:cubicBezTo>
                          <a:pt x="5465" y="2670"/>
                          <a:pt x="5445" y="2682"/>
                          <a:pt x="5439" y="2701"/>
                        </a:cubicBezTo>
                        <a:cubicBezTo>
                          <a:pt x="5433" y="2726"/>
                          <a:pt x="5420" y="2750"/>
                          <a:pt x="5405" y="2773"/>
                        </a:cubicBezTo>
                        <a:cubicBezTo>
                          <a:pt x="5389" y="2796"/>
                          <a:pt x="5371" y="2818"/>
                          <a:pt x="5352" y="2839"/>
                        </a:cubicBezTo>
                        <a:cubicBezTo>
                          <a:pt x="5325" y="2823"/>
                          <a:pt x="5298" y="2808"/>
                          <a:pt x="5272" y="2793"/>
                        </a:cubicBezTo>
                        <a:cubicBezTo>
                          <a:pt x="5246" y="2777"/>
                          <a:pt x="5220" y="2762"/>
                          <a:pt x="5192" y="2743"/>
                        </a:cubicBezTo>
                        <a:cubicBezTo>
                          <a:pt x="5192" y="2780"/>
                          <a:pt x="5124" y="2797"/>
                          <a:pt x="5075" y="2797"/>
                        </a:cubicBezTo>
                        <a:cubicBezTo>
                          <a:pt x="5019" y="2797"/>
                          <a:pt x="4976" y="2789"/>
                          <a:pt x="4921" y="2797"/>
                        </a:cubicBezTo>
                        <a:cubicBezTo>
                          <a:pt x="4890" y="2801"/>
                          <a:pt x="4863" y="2812"/>
                          <a:pt x="4840" y="2826"/>
                        </a:cubicBezTo>
                        <a:cubicBezTo>
                          <a:pt x="4817" y="2840"/>
                          <a:pt x="4797" y="2858"/>
                          <a:pt x="4779" y="2877"/>
                        </a:cubicBezTo>
                        <a:cubicBezTo>
                          <a:pt x="4757" y="2894"/>
                          <a:pt x="4739" y="2918"/>
                          <a:pt x="4733" y="2940"/>
                        </a:cubicBezTo>
                        <a:cubicBezTo>
                          <a:pt x="4728" y="2962"/>
                          <a:pt x="4735" y="2982"/>
                          <a:pt x="4766" y="2991"/>
                        </a:cubicBezTo>
                        <a:cubicBezTo>
                          <a:pt x="4825" y="3010"/>
                          <a:pt x="4877" y="3038"/>
                          <a:pt x="4917" y="3073"/>
                        </a:cubicBezTo>
                        <a:cubicBezTo>
                          <a:pt x="4956" y="3107"/>
                          <a:pt x="4982" y="3149"/>
                          <a:pt x="4988" y="3193"/>
                        </a:cubicBezTo>
                        <a:cubicBezTo>
                          <a:pt x="4936" y="3197"/>
                          <a:pt x="4884" y="3204"/>
                          <a:pt x="4831" y="3212"/>
                        </a:cubicBezTo>
                        <a:cubicBezTo>
                          <a:pt x="4779" y="3219"/>
                          <a:pt x="4726" y="3226"/>
                          <a:pt x="4674" y="3231"/>
                        </a:cubicBezTo>
                        <a:cubicBezTo>
                          <a:pt x="4649" y="3167"/>
                          <a:pt x="4563" y="3125"/>
                          <a:pt x="4470" y="3134"/>
                        </a:cubicBezTo>
                        <a:cubicBezTo>
                          <a:pt x="4378" y="3142"/>
                          <a:pt x="4304" y="3214"/>
                          <a:pt x="4341" y="3264"/>
                        </a:cubicBezTo>
                        <a:cubicBezTo>
                          <a:pt x="4285" y="3281"/>
                          <a:pt x="4248" y="3218"/>
                          <a:pt x="4248" y="3176"/>
                        </a:cubicBezTo>
                        <a:cubicBezTo>
                          <a:pt x="4248" y="3130"/>
                          <a:pt x="4248" y="3079"/>
                          <a:pt x="4186" y="3071"/>
                        </a:cubicBezTo>
                        <a:cubicBezTo>
                          <a:pt x="4186" y="3083"/>
                          <a:pt x="4186" y="3094"/>
                          <a:pt x="4185" y="3105"/>
                        </a:cubicBezTo>
                        <a:cubicBezTo>
                          <a:pt x="4183" y="3116"/>
                          <a:pt x="4180" y="3127"/>
                          <a:pt x="4174" y="3142"/>
                        </a:cubicBezTo>
                        <a:cubicBezTo>
                          <a:pt x="4146" y="3191"/>
                          <a:pt x="4126" y="3219"/>
                          <a:pt x="4113" y="3235"/>
                        </a:cubicBezTo>
                        <a:cubicBezTo>
                          <a:pt x="4100" y="3252"/>
                          <a:pt x="4094" y="3256"/>
                          <a:pt x="4094" y="325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88" name="Shape 3228"/>
                  <p:cNvSpPr/>
                  <p:nvPr/>
                </p:nvSpPr>
                <p:spPr>
                  <a:xfrm>
                    <a:off x="6772320" y="3549240"/>
                    <a:ext cx="64800" cy="71280"/>
                  </a:xfrm>
                  <a:custGeom>
                    <a:avLst/>
                    <a:gdLst>
                      <a:gd name="textAreaLeft" fmla="*/ 0 w 64800"/>
                      <a:gd name="textAreaRight" fmla="*/ 65160 w 64800"/>
                      <a:gd name="textAreaTop" fmla="*/ 0 h 71280"/>
                      <a:gd name="textAreaBottom" fmla="*/ 71640 h 7128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ffffff"/>
                  </a:solidFill>
                  <a:ln w="12700">
                    <a:noFill/>
                  </a:ln>
                </p:spPr>
                <p:style>
                  <a:lnRef idx="0"/>
                  <a:fillRef idx="0"/>
                  <a:effectRef idx="0"/>
                  <a:fontRef idx="minor"/>
                </p:style>
                <p:txBody>
                  <a:bodyPr numCol="1" spcCol="0" lIns="45720" rIns="45720" tIns="35640" bIns="3564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grpSp>
        <p:grpSp>
          <p:nvGrpSpPr>
            <p:cNvPr id="5889" name="Group 3244"/>
            <p:cNvGrpSpPr/>
            <p:nvPr/>
          </p:nvGrpSpPr>
          <p:grpSpPr>
            <a:xfrm>
              <a:off x="11073240" y="7474680"/>
              <a:ext cx="2169720" cy="1634040"/>
              <a:chOff x="11073240" y="7474680"/>
              <a:chExt cx="2169720" cy="1634040"/>
            </a:xfrm>
          </p:grpSpPr>
          <p:sp>
            <p:nvSpPr>
              <p:cNvPr id="5890" name="Shape 3232"/>
              <p:cNvSpPr/>
              <p:nvPr/>
            </p:nvSpPr>
            <p:spPr>
              <a:xfrm>
                <a:off x="12207240" y="7517160"/>
                <a:ext cx="156600" cy="95400"/>
              </a:xfrm>
              <a:custGeom>
                <a:avLst/>
                <a:gdLst>
                  <a:gd name="textAreaLeft" fmla="*/ 0 w 156600"/>
                  <a:gd name="textAreaRight" fmla="*/ 156960 w 156600"/>
                  <a:gd name="textAreaTop" fmla="*/ 0 h 95400"/>
                  <a:gd name="textAreaBottom" fmla="*/ 95760 h 9540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1" name="Shape 3233"/>
              <p:cNvSpPr/>
              <p:nvPr/>
            </p:nvSpPr>
            <p:spPr>
              <a:xfrm>
                <a:off x="11073240" y="7752960"/>
                <a:ext cx="1294200" cy="1028520"/>
              </a:xfrm>
              <a:custGeom>
                <a:avLst/>
                <a:gdLst>
                  <a:gd name="textAreaLeft" fmla="*/ 0 w 1294200"/>
                  <a:gd name="textAreaRight" fmla="*/ 1294560 w 1294200"/>
                  <a:gd name="textAreaTop" fmla="*/ 0 h 1028520"/>
                  <a:gd name="textAreaBottom" fmla="*/ 1028880 h 102852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2" name="Shape 3234"/>
              <p:cNvSpPr/>
              <p:nvPr/>
            </p:nvSpPr>
            <p:spPr>
              <a:xfrm>
                <a:off x="12187080" y="8785800"/>
                <a:ext cx="27360" cy="40680"/>
              </a:xfrm>
              <a:custGeom>
                <a:avLst/>
                <a:gdLst>
                  <a:gd name="textAreaLeft" fmla="*/ 0 w 27360"/>
                  <a:gd name="textAreaRight" fmla="*/ 27720 w 27360"/>
                  <a:gd name="textAreaTop" fmla="*/ 0 h 40680"/>
                  <a:gd name="textAreaBottom" fmla="*/ 41040 h 4068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ffffff"/>
              </a:solidFill>
              <a:ln w="12700">
                <a:noFill/>
              </a:ln>
            </p:spPr>
            <p:style>
              <a:lnRef idx="0"/>
              <a:fillRef idx="0"/>
              <a:effectRef idx="0"/>
              <a:fontRef idx="minor"/>
            </p:style>
            <p:txBody>
              <a:bodyPr numCol="1" spcCol="0" lIns="45720" rIns="45720" tIns="20520" bIns="20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3" name="Shape 3235"/>
              <p:cNvSpPr/>
              <p:nvPr/>
            </p:nvSpPr>
            <p:spPr>
              <a:xfrm>
                <a:off x="12078000" y="8830800"/>
                <a:ext cx="132480" cy="144720"/>
              </a:xfrm>
              <a:custGeom>
                <a:avLst/>
                <a:gdLst>
                  <a:gd name="textAreaLeft" fmla="*/ 0 w 132480"/>
                  <a:gd name="textAreaRight" fmla="*/ 132840 w 132480"/>
                  <a:gd name="textAreaTop" fmla="*/ 0 h 144720"/>
                  <a:gd name="textAreaBottom" fmla="*/ 145080 h 14472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8"/>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7"/>
                      <a:pt x="9775" y="21600"/>
                      <a:pt x="10869" y="21600"/>
                    </a:cubicBezTo>
                    <a:cubicBezTo>
                      <a:pt x="11416" y="21600"/>
                      <a:pt x="12054" y="21262"/>
                      <a:pt x="12418" y="20841"/>
                    </a:cubicBezTo>
                    <a:cubicBezTo>
                      <a:pt x="13603" y="20166"/>
                      <a:pt x="14697" y="19237"/>
                      <a:pt x="15699" y="18563"/>
                    </a:cubicBezTo>
                    <a:cubicBezTo>
                      <a:pt x="17431" y="17297"/>
                      <a:pt x="19254" y="15947"/>
                      <a:pt x="20074" y="14006"/>
                    </a:cubicBezTo>
                    <a:cubicBezTo>
                      <a:pt x="20985" y="11644"/>
                      <a:pt x="19892" y="8859"/>
                      <a:pt x="20803" y="6497"/>
                    </a:cubicBezTo>
                    <a:cubicBezTo>
                      <a:pt x="20985" y="5822"/>
                      <a:pt x="21441" y="5147"/>
                      <a:pt x="21168" y="4388"/>
                    </a:cubicBezTo>
                    <a:cubicBezTo>
                      <a:pt x="20803" y="3713"/>
                      <a:pt x="19892" y="3375"/>
                      <a:pt x="18889" y="3206"/>
                    </a:cubicBezTo>
                    <a:cubicBezTo>
                      <a:pt x="17157" y="2784"/>
                      <a:pt x="15517" y="2447"/>
                      <a:pt x="13968" y="2278"/>
                    </a:cubicBezTo>
                    <a:cubicBezTo>
                      <a:pt x="13785" y="2278"/>
                      <a:pt x="13330" y="2109"/>
                      <a:pt x="13147" y="2278"/>
                    </a:cubicBezTo>
                    <a:cubicBezTo>
                      <a:pt x="12418" y="2447"/>
                      <a:pt x="12054" y="3544"/>
                      <a:pt x="11233" y="3713"/>
                    </a:cubicBezTo>
                    <a:cubicBezTo>
                      <a:pt x="10322" y="4050"/>
                      <a:pt x="9593" y="2953"/>
                      <a:pt x="8773" y="2447"/>
                    </a:cubicBezTo>
                    <a:cubicBezTo>
                      <a:pt x="7223" y="1434"/>
                      <a:pt x="5309" y="1941"/>
                      <a:pt x="3578" y="844"/>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4" name="Shape 3236"/>
              <p:cNvSpPr/>
              <p:nvPr/>
            </p:nvSpPr>
            <p:spPr>
              <a:xfrm>
                <a:off x="12998520" y="8593200"/>
                <a:ext cx="192600" cy="308520"/>
              </a:xfrm>
              <a:custGeom>
                <a:avLst/>
                <a:gdLst>
                  <a:gd name="textAreaLeft" fmla="*/ 0 w 192600"/>
                  <a:gd name="textAreaRight" fmla="*/ 192960 w 192600"/>
                  <a:gd name="textAreaTop" fmla="*/ 0 h 308520"/>
                  <a:gd name="textAreaBottom" fmla="*/ 308880 h 30852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5" name="Shape 3237"/>
              <p:cNvSpPr/>
              <p:nvPr/>
            </p:nvSpPr>
            <p:spPr>
              <a:xfrm>
                <a:off x="12800160" y="8838720"/>
                <a:ext cx="265320" cy="270000"/>
              </a:xfrm>
              <a:custGeom>
                <a:avLst/>
                <a:gdLst>
                  <a:gd name="textAreaLeft" fmla="*/ 0 w 265320"/>
                  <a:gd name="textAreaRight" fmla="*/ 265680 w 265320"/>
                  <a:gd name="textAreaTop" fmla="*/ 0 h 270000"/>
                  <a:gd name="textAreaBottom" fmla="*/ 270360 h 27000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6" name="Shape 3238"/>
              <p:cNvSpPr/>
              <p:nvPr/>
            </p:nvSpPr>
            <p:spPr>
              <a:xfrm>
                <a:off x="12706560" y="8035920"/>
                <a:ext cx="109440" cy="115920"/>
              </a:xfrm>
              <a:custGeom>
                <a:avLst/>
                <a:gdLst>
                  <a:gd name="textAreaLeft" fmla="*/ 0 w 109440"/>
                  <a:gd name="textAreaRight" fmla="*/ 109800 w 109440"/>
                  <a:gd name="textAreaTop" fmla="*/ 0 h 115920"/>
                  <a:gd name="textAreaBottom" fmla="*/ 116280 h 11592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7" name="Shape 3239"/>
              <p:cNvSpPr/>
              <p:nvPr/>
            </p:nvSpPr>
            <p:spPr>
              <a:xfrm>
                <a:off x="13144320" y="7961760"/>
                <a:ext cx="59400" cy="42480"/>
              </a:xfrm>
              <a:custGeom>
                <a:avLst/>
                <a:gdLst>
                  <a:gd name="textAreaLeft" fmla="*/ 0 w 59400"/>
                  <a:gd name="textAreaRight" fmla="*/ 59760 w 59400"/>
                  <a:gd name="textAreaTop" fmla="*/ 0 h 42480"/>
                  <a:gd name="textAreaBottom" fmla="*/ 42840 h 4248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ffffff"/>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8" name="Shape 3240"/>
              <p:cNvSpPr/>
              <p:nvPr/>
            </p:nvSpPr>
            <p:spPr>
              <a:xfrm>
                <a:off x="13204440" y="7920000"/>
                <a:ext cx="38520" cy="34920"/>
              </a:xfrm>
              <a:custGeom>
                <a:avLst/>
                <a:gdLst>
                  <a:gd name="textAreaLeft" fmla="*/ 0 w 38520"/>
                  <a:gd name="textAreaRight" fmla="*/ 38880 w 38520"/>
                  <a:gd name="textAreaTop" fmla="*/ 0 h 34920"/>
                  <a:gd name="textAreaBottom" fmla="*/ 35280 h 3492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ffffff"/>
              </a:solidFill>
              <a:ln w="12700">
                <a:noFill/>
              </a:ln>
            </p:spPr>
            <p:style>
              <a:lnRef idx="0"/>
              <a:fillRef idx="0"/>
              <a:effectRef idx="0"/>
              <a:fontRef idx="minor"/>
            </p:style>
            <p:txBody>
              <a:bodyPr numCol="1" spcCol="0" lIns="45720" rIns="45720" tIns="17640" bIns="17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899" name="Shape 3241"/>
              <p:cNvSpPr/>
              <p:nvPr/>
            </p:nvSpPr>
            <p:spPr>
              <a:xfrm>
                <a:off x="13217040" y="7979400"/>
                <a:ext cx="23760" cy="28080"/>
              </a:xfrm>
              <a:custGeom>
                <a:avLst/>
                <a:gdLst>
                  <a:gd name="textAreaLeft" fmla="*/ 0 w 23760"/>
                  <a:gd name="textAreaRight" fmla="*/ 24120 w 23760"/>
                  <a:gd name="textAreaTop" fmla="*/ 0 h 28080"/>
                  <a:gd name="textAreaBottom" fmla="*/ 28440 h 2808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ffffff"/>
              </a:solidFill>
              <a:ln w="12700">
                <a:noFill/>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00" name="Shape 3242"/>
              <p:cNvSpPr/>
              <p:nvPr/>
            </p:nvSpPr>
            <p:spPr>
              <a:xfrm>
                <a:off x="12792240" y="7874280"/>
                <a:ext cx="57240" cy="63000"/>
              </a:xfrm>
              <a:custGeom>
                <a:avLst/>
                <a:gdLst>
                  <a:gd name="textAreaLeft" fmla="*/ 0 w 57240"/>
                  <a:gd name="textAreaRight" fmla="*/ 57600 w 57240"/>
                  <a:gd name="textAreaTop" fmla="*/ 0 h 63000"/>
                  <a:gd name="textAreaBottom" fmla="*/ 63360 h 6300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ffffff"/>
              </a:solidFill>
              <a:ln w="12700">
                <a:noFill/>
              </a:ln>
            </p:spPr>
            <p:style>
              <a:lnRef idx="0"/>
              <a:fillRef idx="0"/>
              <a:effectRef idx="0"/>
              <a:fontRef idx="minor"/>
            </p:style>
            <p:txBody>
              <a:bodyPr numCol="1" spcCol="0" lIns="45720" rIns="45720" tIns="31680" bIns="31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01" name="Shape 3243"/>
              <p:cNvSpPr/>
              <p:nvPr/>
            </p:nvSpPr>
            <p:spPr>
              <a:xfrm>
                <a:off x="11985120" y="7474680"/>
                <a:ext cx="292320" cy="273960"/>
              </a:xfrm>
              <a:custGeom>
                <a:avLst/>
                <a:gdLst>
                  <a:gd name="textAreaLeft" fmla="*/ 0 w 292320"/>
                  <a:gd name="textAreaRight" fmla="*/ 292680 w 292320"/>
                  <a:gd name="textAreaTop" fmla="*/ 0 h 273960"/>
                  <a:gd name="textAreaBottom" fmla="*/ 274320 h 27396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5902" name="Group 3299"/>
            <p:cNvGrpSpPr/>
            <p:nvPr/>
          </p:nvGrpSpPr>
          <p:grpSpPr>
            <a:xfrm>
              <a:off x="8220600" y="2470320"/>
              <a:ext cx="5382720" cy="5248440"/>
              <a:chOff x="8220600" y="2470320"/>
              <a:chExt cx="5382720" cy="5248440"/>
            </a:xfrm>
          </p:grpSpPr>
          <p:sp>
            <p:nvSpPr>
              <p:cNvPr id="5903" name="Shape 3245"/>
              <p:cNvSpPr/>
              <p:nvPr/>
            </p:nvSpPr>
            <p:spPr>
              <a:xfrm>
                <a:off x="8431560" y="6142680"/>
                <a:ext cx="65520" cy="29160"/>
              </a:xfrm>
              <a:custGeom>
                <a:avLst/>
                <a:gdLst>
                  <a:gd name="textAreaLeft" fmla="*/ 0 w 65520"/>
                  <a:gd name="textAreaRight" fmla="*/ 65880 w 65520"/>
                  <a:gd name="textAreaTop" fmla="*/ 0 h 29160"/>
                  <a:gd name="textAreaBottom" fmla="*/ 29520 h 2916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ffffff"/>
              </a:solidFill>
              <a:ln w="12700">
                <a:noFill/>
              </a:ln>
            </p:spPr>
            <p:style>
              <a:lnRef idx="0"/>
              <a:fillRef idx="0"/>
              <a:effectRef idx="0"/>
              <a:fontRef idx="minor"/>
            </p:style>
            <p:txBody>
              <a:bodyPr numCol="1" spcCol="0" lIns="45720" rIns="45720" tIns="14760" bIns="1476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904" name="Group 3298"/>
              <p:cNvGrpSpPr/>
              <p:nvPr/>
            </p:nvGrpSpPr>
            <p:grpSpPr>
              <a:xfrm>
                <a:off x="8220600" y="2470320"/>
                <a:ext cx="5382720" cy="5248440"/>
                <a:chOff x="8220600" y="2470320"/>
                <a:chExt cx="5382720" cy="5248440"/>
              </a:xfrm>
            </p:grpSpPr>
            <p:sp>
              <p:nvSpPr>
                <p:cNvPr id="5905" name="Shape 3246"/>
                <p:cNvSpPr/>
                <p:nvPr/>
              </p:nvSpPr>
              <p:spPr>
                <a:xfrm>
                  <a:off x="9246240" y="2535840"/>
                  <a:ext cx="45720" cy="41760"/>
                </a:xfrm>
                <a:custGeom>
                  <a:avLst/>
                  <a:gdLst>
                    <a:gd name="textAreaLeft" fmla="*/ 0 w 45720"/>
                    <a:gd name="textAreaRight" fmla="*/ 46080 w 45720"/>
                    <a:gd name="textAreaTop" fmla="*/ 0 h 41760"/>
                    <a:gd name="textAreaBottom" fmla="*/ 42120 h 41760"/>
                  </a:gdLst>
                  <a:ahLst/>
                  <a:rect l="textAreaLeft" t="textAreaTop" r="textAreaRight" b="textAreaBottom"/>
                  <a:pathLst>
                    <a:path w="20106" h="21600">
                      <a:moveTo>
                        <a:pt x="260" y="8352"/>
                      </a:moveTo>
                      <a:cubicBezTo>
                        <a:pt x="-745" y="12672"/>
                        <a:pt x="1264" y="16704"/>
                        <a:pt x="4529" y="19296"/>
                      </a:cubicBezTo>
                      <a:cubicBezTo>
                        <a:pt x="7543" y="21024"/>
                        <a:pt x="11813" y="21600"/>
                        <a:pt x="15581" y="21600"/>
                      </a:cubicBezTo>
                      <a:cubicBezTo>
                        <a:pt x="16083" y="21600"/>
                        <a:pt x="17088" y="21600"/>
                        <a:pt x="17590" y="21600"/>
                      </a:cubicBezTo>
                      <a:cubicBezTo>
                        <a:pt x="20855" y="20448"/>
                        <a:pt x="20855" y="14400"/>
                        <a:pt x="18092" y="12096"/>
                      </a:cubicBezTo>
                      <a:cubicBezTo>
                        <a:pt x="15581" y="9504"/>
                        <a:pt x="12064" y="8928"/>
                        <a:pt x="8799" y="7776"/>
                      </a:cubicBezTo>
                      <a:cubicBezTo>
                        <a:pt x="5785" y="6624"/>
                        <a:pt x="1767" y="4032"/>
                        <a:pt x="1767" y="0"/>
                      </a:cubicBezTo>
                      <a:lnTo>
                        <a:pt x="260" y="8352"/>
                      </a:lnTo>
                    </a:path>
                  </a:pathLst>
                </a:custGeom>
                <a:solidFill>
                  <a:srgbClr val="ffffff"/>
                </a:solidFill>
                <a:ln w="12700">
                  <a:noFill/>
                </a:ln>
              </p:spPr>
              <p:style>
                <a:lnRef idx="0"/>
                <a:fillRef idx="0"/>
                <a:effectRef idx="0"/>
                <a:fontRef idx="minor"/>
              </p:style>
              <p:txBody>
                <a:bodyPr numCol="1" spcCol="0" lIns="45720" rIns="45720" tIns="20880" bIns="2088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906" name="Group 3297"/>
                <p:cNvGrpSpPr/>
                <p:nvPr/>
              </p:nvGrpSpPr>
              <p:grpSpPr>
                <a:xfrm>
                  <a:off x="8220600" y="2470320"/>
                  <a:ext cx="5382720" cy="5248440"/>
                  <a:chOff x="8220600" y="2470320"/>
                  <a:chExt cx="5382720" cy="5248440"/>
                </a:xfrm>
              </p:grpSpPr>
              <p:sp>
                <p:nvSpPr>
                  <p:cNvPr id="5907" name="Shape 3247"/>
                  <p:cNvSpPr/>
                  <p:nvPr/>
                </p:nvSpPr>
                <p:spPr>
                  <a:xfrm>
                    <a:off x="9933480" y="3783240"/>
                    <a:ext cx="36000" cy="79920"/>
                  </a:xfrm>
                  <a:custGeom>
                    <a:avLst/>
                    <a:gdLst>
                      <a:gd name="textAreaLeft" fmla="*/ 0 w 36000"/>
                      <a:gd name="textAreaRight" fmla="*/ 36360 w 36000"/>
                      <a:gd name="textAreaTop" fmla="*/ 0 h 79920"/>
                      <a:gd name="textAreaBottom" fmla="*/ 80280 h 7992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ffffff"/>
                  </a:solidFill>
                  <a:ln w="12700">
                    <a:noFill/>
                  </a:ln>
                </p:spPr>
                <p:style>
                  <a:lnRef idx="0"/>
                  <a:fillRef idx="0"/>
                  <a:effectRef idx="0"/>
                  <a:fontRef idx="minor"/>
                </p:style>
                <p:txBody>
                  <a:bodyPr numCol="1" spcCol="0" lIns="45720" rIns="45720" tIns="39960" bIns="3996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908" name="Group 3296"/>
                  <p:cNvGrpSpPr/>
                  <p:nvPr/>
                </p:nvGrpSpPr>
                <p:grpSpPr>
                  <a:xfrm>
                    <a:off x="8220600" y="2470320"/>
                    <a:ext cx="5382720" cy="5248440"/>
                    <a:chOff x="8220600" y="2470320"/>
                    <a:chExt cx="5382720" cy="5248440"/>
                  </a:xfrm>
                </p:grpSpPr>
                <p:sp>
                  <p:nvSpPr>
                    <p:cNvPr id="5909" name="Shape 3248"/>
                    <p:cNvSpPr/>
                    <p:nvPr/>
                  </p:nvSpPr>
                  <p:spPr>
                    <a:xfrm>
                      <a:off x="9962640" y="7068960"/>
                      <a:ext cx="83520" cy="124200"/>
                    </a:xfrm>
                    <a:custGeom>
                      <a:avLst/>
                      <a:gdLst>
                        <a:gd name="textAreaLeft" fmla="*/ 0 w 83520"/>
                        <a:gd name="textAreaRight" fmla="*/ 83880 w 83520"/>
                        <a:gd name="textAreaTop" fmla="*/ 0 h 124200"/>
                        <a:gd name="textAreaBottom" fmla="*/ 124560 h 12420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0" name="Shape 3249"/>
                    <p:cNvSpPr/>
                    <p:nvPr/>
                  </p:nvSpPr>
                  <p:spPr>
                    <a:xfrm>
                      <a:off x="10483200" y="7191360"/>
                      <a:ext cx="335160" cy="374760"/>
                    </a:xfrm>
                    <a:custGeom>
                      <a:avLst/>
                      <a:gdLst>
                        <a:gd name="textAreaLeft" fmla="*/ 0 w 335160"/>
                        <a:gd name="textAreaRight" fmla="*/ 335520 w 335160"/>
                        <a:gd name="textAreaTop" fmla="*/ 0 h 374760"/>
                        <a:gd name="textAreaBottom" fmla="*/ 375120 h 37476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3"/>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1" name="Shape 3250"/>
                    <p:cNvSpPr/>
                    <p:nvPr/>
                  </p:nvSpPr>
                  <p:spPr>
                    <a:xfrm>
                      <a:off x="10800720" y="7418880"/>
                      <a:ext cx="42480" cy="56520"/>
                    </a:xfrm>
                    <a:custGeom>
                      <a:avLst/>
                      <a:gdLst>
                        <a:gd name="textAreaLeft" fmla="*/ 0 w 42480"/>
                        <a:gd name="textAreaRight" fmla="*/ 42840 w 42480"/>
                        <a:gd name="textAreaTop" fmla="*/ 0 h 56520"/>
                        <a:gd name="textAreaBottom" fmla="*/ 56880 h 5652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ffffff"/>
                    </a:solidFill>
                    <a:ln w="12700">
                      <a:noFill/>
                    </a:ln>
                  </p:spPr>
                  <p:style>
                    <a:lnRef idx="0"/>
                    <a:fillRef idx="0"/>
                    <a:effectRef idx="0"/>
                    <a:fontRef idx="minor"/>
                  </p:style>
                  <p:txBody>
                    <a:bodyPr numCol="1" spcCol="0" lIns="45720" rIns="45720" tIns="28440" bIns="28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2" name="Shape 3251"/>
                    <p:cNvSpPr/>
                    <p:nvPr/>
                  </p:nvSpPr>
                  <p:spPr>
                    <a:xfrm>
                      <a:off x="10873800" y="7461000"/>
                      <a:ext cx="33120" cy="19800"/>
                    </a:xfrm>
                    <a:custGeom>
                      <a:avLst/>
                      <a:gdLst>
                        <a:gd name="textAreaLeft" fmla="*/ 0 w 33120"/>
                        <a:gd name="textAreaRight" fmla="*/ 33480 w 33120"/>
                        <a:gd name="textAreaTop" fmla="*/ 0 h 19800"/>
                        <a:gd name="textAreaBottom" fmla="*/ 20160 h 1980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ffffff"/>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3" name="Shape 3252"/>
                    <p:cNvSpPr/>
                    <p:nvPr/>
                  </p:nvSpPr>
                  <p:spPr>
                    <a:xfrm>
                      <a:off x="10920240" y="7135560"/>
                      <a:ext cx="341640" cy="368640"/>
                    </a:xfrm>
                    <a:custGeom>
                      <a:avLst/>
                      <a:gdLst>
                        <a:gd name="textAreaLeft" fmla="*/ 0 w 341640"/>
                        <a:gd name="textAreaRight" fmla="*/ 342000 w 341640"/>
                        <a:gd name="textAreaTop" fmla="*/ 0 h 368640"/>
                        <a:gd name="textAreaBottom" fmla="*/ 369000 h 36864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4" name="Shape 3253"/>
                    <p:cNvSpPr/>
                    <p:nvPr/>
                  </p:nvSpPr>
                  <p:spPr>
                    <a:xfrm>
                      <a:off x="10827720" y="7562520"/>
                      <a:ext cx="307080" cy="97560"/>
                    </a:xfrm>
                    <a:custGeom>
                      <a:avLst/>
                      <a:gdLst>
                        <a:gd name="textAreaLeft" fmla="*/ 0 w 307080"/>
                        <a:gd name="textAreaRight" fmla="*/ 307440 w 307080"/>
                        <a:gd name="textAreaTop" fmla="*/ 0 h 97560"/>
                        <a:gd name="textAreaBottom" fmla="*/ 97920 h 9756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5" name="Shape 3254"/>
                    <p:cNvSpPr/>
                    <p:nvPr/>
                  </p:nvSpPr>
                  <p:spPr>
                    <a:xfrm>
                      <a:off x="11163600" y="7645680"/>
                      <a:ext cx="89280" cy="21240"/>
                    </a:xfrm>
                    <a:custGeom>
                      <a:avLst/>
                      <a:gdLst>
                        <a:gd name="textAreaLeft" fmla="*/ 0 w 89280"/>
                        <a:gd name="textAreaRight" fmla="*/ 89640 w 89280"/>
                        <a:gd name="textAreaTop" fmla="*/ 0 h 21240"/>
                        <a:gd name="textAreaBottom" fmla="*/ 21600 h 2124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ffffff"/>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6" name="Shape 3255"/>
                    <p:cNvSpPr/>
                    <p:nvPr/>
                  </p:nvSpPr>
                  <p:spPr>
                    <a:xfrm>
                      <a:off x="11255400" y="7674120"/>
                      <a:ext cx="60480" cy="44640"/>
                    </a:xfrm>
                    <a:custGeom>
                      <a:avLst/>
                      <a:gdLst>
                        <a:gd name="textAreaLeft" fmla="*/ 0 w 60480"/>
                        <a:gd name="textAreaRight" fmla="*/ 60840 w 60480"/>
                        <a:gd name="textAreaTop" fmla="*/ 0 h 44640"/>
                        <a:gd name="textAreaBottom" fmla="*/ 45000 h 4464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ffffff"/>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7" name="Shape 3256"/>
                    <p:cNvSpPr/>
                    <p:nvPr/>
                  </p:nvSpPr>
                  <p:spPr>
                    <a:xfrm>
                      <a:off x="11268720" y="7637040"/>
                      <a:ext cx="167400" cy="34200"/>
                    </a:xfrm>
                    <a:custGeom>
                      <a:avLst/>
                      <a:gdLst>
                        <a:gd name="textAreaLeft" fmla="*/ 0 w 167400"/>
                        <a:gd name="textAreaRight" fmla="*/ 167760 w 167400"/>
                        <a:gd name="textAreaTop" fmla="*/ 0 h 34200"/>
                        <a:gd name="textAreaBottom" fmla="*/ 34560 h 3420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ffffff"/>
                    </a:solidFill>
                    <a:ln w="12700">
                      <a:noFill/>
                    </a:ln>
                  </p:spPr>
                  <p:style>
                    <a:lnRef idx="0"/>
                    <a:fillRef idx="0"/>
                    <a:effectRef idx="0"/>
                    <a:fontRef idx="minor"/>
                  </p:style>
                  <p:txBody>
                    <a:bodyPr numCol="1" spcCol="0" lIns="45720" rIns="45720" tIns="17280" bIns="17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8" name="Shape 3257"/>
                    <p:cNvSpPr/>
                    <p:nvPr/>
                  </p:nvSpPr>
                  <p:spPr>
                    <a:xfrm>
                      <a:off x="11406240" y="7646400"/>
                      <a:ext cx="122400" cy="60480"/>
                    </a:xfrm>
                    <a:custGeom>
                      <a:avLst/>
                      <a:gdLst>
                        <a:gd name="textAreaLeft" fmla="*/ 0 w 122400"/>
                        <a:gd name="textAreaRight" fmla="*/ 122760 w 122400"/>
                        <a:gd name="textAreaTop" fmla="*/ 0 h 60480"/>
                        <a:gd name="textAreaBottom" fmla="*/ 60840 h 6048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ffffff"/>
                    </a:solidFill>
                    <a:ln w="12700">
                      <a:noFill/>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19" name="Shape 3258"/>
                    <p:cNvSpPr/>
                    <p:nvPr/>
                  </p:nvSpPr>
                  <p:spPr>
                    <a:xfrm>
                      <a:off x="11248920" y="7383960"/>
                      <a:ext cx="156240" cy="176040"/>
                    </a:xfrm>
                    <a:custGeom>
                      <a:avLst/>
                      <a:gdLst>
                        <a:gd name="textAreaLeft" fmla="*/ 0 w 156240"/>
                        <a:gd name="textAreaRight" fmla="*/ 156600 w 156240"/>
                        <a:gd name="textAreaTop" fmla="*/ 0 h 176040"/>
                        <a:gd name="textAreaBottom" fmla="*/ 176400 h 17604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0" name="Shape 3259"/>
                    <p:cNvSpPr/>
                    <p:nvPr/>
                  </p:nvSpPr>
                  <p:spPr>
                    <a:xfrm>
                      <a:off x="11297520" y="7308000"/>
                      <a:ext cx="162000" cy="66240"/>
                    </a:xfrm>
                    <a:custGeom>
                      <a:avLst/>
                      <a:gdLst>
                        <a:gd name="textAreaLeft" fmla="*/ 0 w 162000"/>
                        <a:gd name="textAreaRight" fmla="*/ 162360 w 162000"/>
                        <a:gd name="textAreaTop" fmla="*/ 0 h 66240"/>
                        <a:gd name="textAreaBottom" fmla="*/ 66600 h 6624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ffffff"/>
                    </a:solidFill>
                    <a:ln w="12700">
                      <a:noFill/>
                    </a:ln>
                  </p:spPr>
                  <p:style>
                    <a:lnRef idx="0"/>
                    <a:fillRef idx="0"/>
                    <a:effectRef idx="0"/>
                    <a:fontRef idx="minor"/>
                  </p:style>
                  <p:txBody>
                    <a:bodyPr numCol="1" spcCol="0" lIns="45720" rIns="45720" tIns="33120" bIns="33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1" name="Shape 3260"/>
                    <p:cNvSpPr/>
                    <p:nvPr/>
                  </p:nvSpPr>
                  <p:spPr>
                    <a:xfrm>
                      <a:off x="11480400" y="7468560"/>
                      <a:ext cx="33840" cy="51480"/>
                    </a:xfrm>
                    <a:custGeom>
                      <a:avLst/>
                      <a:gdLst>
                        <a:gd name="textAreaLeft" fmla="*/ 0 w 33840"/>
                        <a:gd name="textAreaRight" fmla="*/ 34200 w 33840"/>
                        <a:gd name="textAreaTop" fmla="*/ 0 h 51480"/>
                        <a:gd name="textAreaBottom" fmla="*/ 51840 h 5148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ffffff"/>
                    </a:solidFill>
                    <a:ln w="12700">
                      <a:noFill/>
                    </a:ln>
                  </p:spPr>
                  <p:style>
                    <a:lnRef idx="0"/>
                    <a:fillRef idx="0"/>
                    <a:effectRef idx="0"/>
                    <a:fontRef idx="minor"/>
                  </p:style>
                  <p:txBody>
                    <a:bodyPr numCol="1" spcCol="0" lIns="45720" rIns="45720" tIns="25920" bIns="25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2" name="Shape 3261"/>
                    <p:cNvSpPr/>
                    <p:nvPr/>
                  </p:nvSpPr>
                  <p:spPr>
                    <a:xfrm>
                      <a:off x="11536560" y="7462800"/>
                      <a:ext cx="108000" cy="55080"/>
                    </a:xfrm>
                    <a:custGeom>
                      <a:avLst/>
                      <a:gdLst>
                        <a:gd name="textAreaLeft" fmla="*/ 0 w 108000"/>
                        <a:gd name="textAreaRight" fmla="*/ 108360 w 108000"/>
                        <a:gd name="textAreaTop" fmla="*/ 0 h 55080"/>
                        <a:gd name="textAreaBottom" fmla="*/ 55440 h 5508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ffffff"/>
                    </a:solidFill>
                    <a:ln w="12700">
                      <a:noFill/>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3" name="Shape 3262"/>
                    <p:cNvSpPr/>
                    <p:nvPr/>
                  </p:nvSpPr>
                  <p:spPr>
                    <a:xfrm>
                      <a:off x="11633760" y="7607520"/>
                      <a:ext cx="43560" cy="50400"/>
                    </a:xfrm>
                    <a:custGeom>
                      <a:avLst/>
                      <a:gdLst>
                        <a:gd name="textAreaLeft" fmla="*/ 0 w 43560"/>
                        <a:gd name="textAreaRight" fmla="*/ 43920 w 43560"/>
                        <a:gd name="textAreaTop" fmla="*/ 0 h 50400"/>
                        <a:gd name="textAreaBottom" fmla="*/ 50760 h 5040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ffffff"/>
                    </a:solidFill>
                    <a:ln w="12700">
                      <a:noFill/>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4" name="Shape 3263"/>
                    <p:cNvSpPr/>
                    <p:nvPr/>
                  </p:nvSpPr>
                  <p:spPr>
                    <a:xfrm>
                      <a:off x="11692080" y="7546680"/>
                      <a:ext cx="29160" cy="33480"/>
                    </a:xfrm>
                    <a:custGeom>
                      <a:avLst/>
                      <a:gdLst>
                        <a:gd name="textAreaLeft" fmla="*/ 0 w 29160"/>
                        <a:gd name="textAreaRight" fmla="*/ 29520 w 29160"/>
                        <a:gd name="textAreaTop" fmla="*/ 0 h 33480"/>
                        <a:gd name="textAreaBottom" fmla="*/ 33840 h 3348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ffffff"/>
                    </a:solidFill>
                    <a:ln w="12700">
                      <a:noFill/>
                    </a:ln>
                  </p:spPr>
                  <p:style>
                    <a:lnRef idx="0"/>
                    <a:fillRef idx="0"/>
                    <a:effectRef idx="0"/>
                    <a:fontRef idx="minor"/>
                  </p:style>
                  <p:txBody>
                    <a:bodyPr numCol="1" spcCol="0" lIns="45720" rIns="45720" tIns="16920" bIns="16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5" name="Shape 3264"/>
                    <p:cNvSpPr/>
                    <p:nvPr/>
                  </p:nvSpPr>
                  <p:spPr>
                    <a:xfrm>
                      <a:off x="11743560" y="7554960"/>
                      <a:ext cx="28440" cy="49320"/>
                    </a:xfrm>
                    <a:custGeom>
                      <a:avLst/>
                      <a:gdLst>
                        <a:gd name="textAreaLeft" fmla="*/ 0 w 28440"/>
                        <a:gd name="textAreaRight" fmla="*/ 28800 w 28440"/>
                        <a:gd name="textAreaTop" fmla="*/ 0 h 49320"/>
                        <a:gd name="textAreaBottom" fmla="*/ 49680 h 4932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ffffff"/>
                    </a:solidFill>
                    <a:ln w="12700">
                      <a:noFill/>
                    </a:ln>
                  </p:spPr>
                  <p:style>
                    <a:lnRef idx="0"/>
                    <a:fillRef idx="0"/>
                    <a:effectRef idx="0"/>
                    <a:fontRef idx="minor"/>
                  </p:style>
                  <p:txBody>
                    <a:bodyPr numCol="1" spcCol="0" lIns="45720" rIns="45720" tIns="24840" bIns="24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6" name="Shape 3265"/>
                    <p:cNvSpPr/>
                    <p:nvPr/>
                  </p:nvSpPr>
                  <p:spPr>
                    <a:xfrm>
                      <a:off x="11520000" y="7309440"/>
                      <a:ext cx="54000" cy="98280"/>
                    </a:xfrm>
                    <a:custGeom>
                      <a:avLst/>
                      <a:gdLst>
                        <a:gd name="textAreaLeft" fmla="*/ 0 w 54000"/>
                        <a:gd name="textAreaRight" fmla="*/ 54360 w 54000"/>
                        <a:gd name="textAreaTop" fmla="*/ 0 h 98280"/>
                        <a:gd name="textAreaBottom" fmla="*/ 98640 h 98280"/>
                      </a:gdLst>
                      <a:ahLst/>
                      <a:rect l="textAreaLeft" t="textAreaTop" r="textAreaRight" b="textAreaBottom"/>
                      <a:pathLst>
                        <a:path w="21488"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7" name="Shape 3266"/>
                    <p:cNvSpPr/>
                    <p:nvPr/>
                  </p:nvSpPr>
                  <p:spPr>
                    <a:xfrm>
                      <a:off x="11616480" y="7370280"/>
                      <a:ext cx="38160" cy="47160"/>
                    </a:xfrm>
                    <a:custGeom>
                      <a:avLst/>
                      <a:gdLst>
                        <a:gd name="textAreaLeft" fmla="*/ 0 w 38160"/>
                        <a:gd name="textAreaRight" fmla="*/ 38520 w 38160"/>
                        <a:gd name="textAreaTop" fmla="*/ 0 h 47160"/>
                        <a:gd name="textAreaBottom" fmla="*/ 47520 h 4716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ffffff"/>
                    </a:solidFill>
                    <a:ln w="12700">
                      <a:noFill/>
                    </a:ln>
                  </p:spPr>
                  <p:style>
                    <a:lnRef idx="0"/>
                    <a:fillRef idx="0"/>
                    <a:effectRef idx="0"/>
                    <a:fontRef idx="minor"/>
                  </p:style>
                  <p:txBody>
                    <a:bodyPr numCol="1" spcCol="0" lIns="45720" rIns="45720" tIns="23760" bIns="23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8" name="Shape 3267"/>
                    <p:cNvSpPr/>
                    <p:nvPr/>
                  </p:nvSpPr>
                  <p:spPr>
                    <a:xfrm>
                      <a:off x="11288880" y="6522840"/>
                      <a:ext cx="52920" cy="115560"/>
                    </a:xfrm>
                    <a:custGeom>
                      <a:avLst/>
                      <a:gdLst>
                        <a:gd name="textAreaLeft" fmla="*/ 0 w 52920"/>
                        <a:gd name="textAreaRight" fmla="*/ 53280 w 52920"/>
                        <a:gd name="textAreaTop" fmla="*/ 0 h 115560"/>
                        <a:gd name="textAreaBottom" fmla="*/ 115920 h 11556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29" name="Shape 3268"/>
                    <p:cNvSpPr/>
                    <p:nvPr/>
                  </p:nvSpPr>
                  <p:spPr>
                    <a:xfrm>
                      <a:off x="11275200" y="6747840"/>
                      <a:ext cx="93240" cy="230040"/>
                    </a:xfrm>
                    <a:custGeom>
                      <a:avLst/>
                      <a:gdLst>
                        <a:gd name="textAreaLeft" fmla="*/ 0 w 93240"/>
                        <a:gd name="textAreaRight" fmla="*/ 93600 w 93240"/>
                        <a:gd name="textAreaTop" fmla="*/ 0 h 230040"/>
                        <a:gd name="textAreaBottom" fmla="*/ 230400 h 23004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0" name="Shape 3269"/>
                    <p:cNvSpPr/>
                    <p:nvPr/>
                  </p:nvSpPr>
                  <p:spPr>
                    <a:xfrm>
                      <a:off x="11346840" y="6901200"/>
                      <a:ext cx="64440" cy="46440"/>
                    </a:xfrm>
                    <a:custGeom>
                      <a:avLst/>
                      <a:gdLst>
                        <a:gd name="textAreaLeft" fmla="*/ 0 w 64440"/>
                        <a:gd name="textAreaRight" fmla="*/ 64800 w 64440"/>
                        <a:gd name="textAreaTop" fmla="*/ 0 h 46440"/>
                        <a:gd name="textAreaBottom" fmla="*/ 46800 h 4644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ffffff"/>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1" name="Shape 3270"/>
                    <p:cNvSpPr/>
                    <p:nvPr/>
                  </p:nvSpPr>
                  <p:spPr>
                    <a:xfrm>
                      <a:off x="11344680" y="6978960"/>
                      <a:ext cx="37800" cy="53280"/>
                    </a:xfrm>
                    <a:custGeom>
                      <a:avLst/>
                      <a:gdLst>
                        <a:gd name="textAreaLeft" fmla="*/ 0 w 37800"/>
                        <a:gd name="textAreaRight" fmla="*/ 38160 w 37800"/>
                        <a:gd name="textAreaTop" fmla="*/ 0 h 53280"/>
                        <a:gd name="textAreaBottom" fmla="*/ 53640 h 5328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ffffff"/>
                    </a:solidFill>
                    <a:ln w="12700">
                      <a:noFill/>
                    </a:ln>
                  </p:spPr>
                  <p:style>
                    <a:lnRef idx="0"/>
                    <a:fillRef idx="0"/>
                    <a:effectRef idx="0"/>
                    <a:fontRef idx="minor"/>
                  </p:style>
                  <p:txBody>
                    <a:bodyPr numCol="1" spcCol="0" lIns="45720" rIns="45720" tIns="26640" bIns="26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2" name="Shape 3271"/>
                    <p:cNvSpPr/>
                    <p:nvPr/>
                  </p:nvSpPr>
                  <p:spPr>
                    <a:xfrm>
                      <a:off x="11362680" y="7017480"/>
                      <a:ext cx="62640" cy="63360"/>
                    </a:xfrm>
                    <a:custGeom>
                      <a:avLst/>
                      <a:gdLst>
                        <a:gd name="textAreaLeft" fmla="*/ 0 w 62640"/>
                        <a:gd name="textAreaRight" fmla="*/ 63000 w 62640"/>
                        <a:gd name="textAreaTop" fmla="*/ 0 h 63360"/>
                        <a:gd name="textAreaBottom" fmla="*/ 63720 h 6336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ffffff"/>
                    </a:solidFill>
                    <a:ln w="12700">
                      <a:noFill/>
                    </a:ln>
                  </p:spPr>
                  <p:style>
                    <a:lnRef idx="0"/>
                    <a:fillRef idx="0"/>
                    <a:effectRef idx="0"/>
                    <a:fontRef idx="minor"/>
                  </p:style>
                  <p:txBody>
                    <a:bodyPr numCol="1" spcCol="0" lIns="45720" rIns="45720" tIns="31680" bIns="31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3" name="Shape 3272"/>
                    <p:cNvSpPr/>
                    <p:nvPr/>
                  </p:nvSpPr>
                  <p:spPr>
                    <a:xfrm>
                      <a:off x="11399760" y="6957000"/>
                      <a:ext cx="57960" cy="90000"/>
                    </a:xfrm>
                    <a:custGeom>
                      <a:avLst/>
                      <a:gdLst>
                        <a:gd name="textAreaLeft" fmla="*/ 0 w 57960"/>
                        <a:gd name="textAreaRight" fmla="*/ 58320 w 57960"/>
                        <a:gd name="textAreaTop" fmla="*/ 0 h 90000"/>
                        <a:gd name="textAreaBottom" fmla="*/ 90360 h 9000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ffffff"/>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4" name="Shape 3273"/>
                    <p:cNvSpPr/>
                    <p:nvPr/>
                  </p:nvSpPr>
                  <p:spPr>
                    <a:xfrm>
                      <a:off x="11345040" y="7071840"/>
                      <a:ext cx="160560" cy="124560"/>
                    </a:xfrm>
                    <a:custGeom>
                      <a:avLst/>
                      <a:gdLst>
                        <a:gd name="textAreaLeft" fmla="*/ 0 w 160560"/>
                        <a:gd name="textAreaRight" fmla="*/ 160920 w 160560"/>
                        <a:gd name="textAreaTop" fmla="*/ 0 h 124560"/>
                        <a:gd name="textAreaBottom" fmla="*/ 124920 h 12456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5" name="Shape 3274"/>
                    <p:cNvSpPr/>
                    <p:nvPr/>
                  </p:nvSpPr>
                  <p:spPr>
                    <a:xfrm>
                      <a:off x="13502880" y="4664160"/>
                      <a:ext cx="100440" cy="61200"/>
                    </a:xfrm>
                    <a:custGeom>
                      <a:avLst/>
                      <a:gdLst>
                        <a:gd name="textAreaLeft" fmla="*/ 0 w 100440"/>
                        <a:gd name="textAreaRight" fmla="*/ 100800 w 100440"/>
                        <a:gd name="textAreaTop" fmla="*/ 0 h 61200"/>
                        <a:gd name="textAreaBottom" fmla="*/ 61560 h 61200"/>
                      </a:gdLst>
                      <a:ahLst/>
                      <a:rect l="textAreaLeft" t="textAreaTop" r="textAreaRight" b="textAreaBottom"/>
                      <a:pathLst>
                        <a:path w="20746" h="19746">
                          <a:moveTo>
                            <a:pt x="2693" y="8974"/>
                          </a:moveTo>
                          <a:cubicBezTo>
                            <a:pt x="3163" y="8974"/>
                            <a:pt x="3398" y="8608"/>
                            <a:pt x="3985" y="8608"/>
                          </a:cubicBezTo>
                          <a:cubicBezTo>
                            <a:pt x="4219" y="8608"/>
                            <a:pt x="4454" y="8974"/>
                            <a:pt x="4689" y="8974"/>
                          </a:cubicBezTo>
                          <a:cubicBezTo>
                            <a:pt x="4924" y="8974"/>
                            <a:pt x="5159" y="8608"/>
                            <a:pt x="5159" y="8608"/>
                          </a:cubicBezTo>
                          <a:cubicBezTo>
                            <a:pt x="6685" y="6960"/>
                            <a:pt x="8915" y="8425"/>
                            <a:pt x="9854" y="10438"/>
                          </a:cubicBezTo>
                          <a:cubicBezTo>
                            <a:pt x="10793" y="12269"/>
                            <a:pt x="11615" y="15381"/>
                            <a:pt x="11615" y="18126"/>
                          </a:cubicBezTo>
                          <a:cubicBezTo>
                            <a:pt x="12789" y="17028"/>
                            <a:pt x="14315" y="20506"/>
                            <a:pt x="15489" y="19591"/>
                          </a:cubicBezTo>
                          <a:cubicBezTo>
                            <a:pt x="15959" y="19225"/>
                            <a:pt x="16193" y="18492"/>
                            <a:pt x="15959" y="17760"/>
                          </a:cubicBezTo>
                          <a:cubicBezTo>
                            <a:pt x="15724" y="17028"/>
                            <a:pt x="15254" y="16662"/>
                            <a:pt x="14785" y="16662"/>
                          </a:cubicBezTo>
                          <a:cubicBezTo>
                            <a:pt x="14785" y="15381"/>
                            <a:pt x="15489" y="14648"/>
                            <a:pt x="16546" y="14282"/>
                          </a:cubicBezTo>
                          <a:cubicBezTo>
                            <a:pt x="17250" y="14282"/>
                            <a:pt x="17954" y="14648"/>
                            <a:pt x="18659" y="14648"/>
                          </a:cubicBezTo>
                          <a:cubicBezTo>
                            <a:pt x="19480" y="14648"/>
                            <a:pt x="20419" y="14648"/>
                            <a:pt x="20654" y="13550"/>
                          </a:cubicBezTo>
                          <a:cubicBezTo>
                            <a:pt x="20889" y="12452"/>
                            <a:pt x="20654" y="11170"/>
                            <a:pt x="20185" y="10438"/>
                          </a:cubicBezTo>
                          <a:cubicBezTo>
                            <a:pt x="19715" y="9706"/>
                            <a:pt x="19011" y="9340"/>
                            <a:pt x="18189" y="8974"/>
                          </a:cubicBezTo>
                          <a:cubicBezTo>
                            <a:pt x="17485" y="8608"/>
                            <a:pt x="17015" y="8242"/>
                            <a:pt x="16193" y="7692"/>
                          </a:cubicBezTo>
                          <a:cubicBezTo>
                            <a:pt x="15959" y="7692"/>
                            <a:pt x="15489" y="7326"/>
                            <a:pt x="15019" y="7326"/>
                          </a:cubicBezTo>
                          <a:cubicBezTo>
                            <a:pt x="14550" y="7326"/>
                            <a:pt x="14315" y="8242"/>
                            <a:pt x="14080" y="8608"/>
                          </a:cubicBezTo>
                          <a:cubicBezTo>
                            <a:pt x="13259" y="9340"/>
                            <a:pt x="12319" y="8608"/>
                            <a:pt x="11850" y="7326"/>
                          </a:cubicBezTo>
                          <a:cubicBezTo>
                            <a:pt x="11380" y="6228"/>
                            <a:pt x="11028" y="5130"/>
                            <a:pt x="10559" y="3848"/>
                          </a:cubicBezTo>
                          <a:cubicBezTo>
                            <a:pt x="10089" y="2750"/>
                            <a:pt x="9385" y="1652"/>
                            <a:pt x="8328" y="1652"/>
                          </a:cubicBezTo>
                          <a:cubicBezTo>
                            <a:pt x="8093" y="1652"/>
                            <a:pt x="7624" y="2018"/>
                            <a:pt x="7389" y="1652"/>
                          </a:cubicBezTo>
                          <a:cubicBezTo>
                            <a:pt x="6919" y="1652"/>
                            <a:pt x="6450" y="920"/>
                            <a:pt x="6098" y="553"/>
                          </a:cubicBezTo>
                          <a:cubicBezTo>
                            <a:pt x="4219" y="-1094"/>
                            <a:pt x="1989" y="1286"/>
                            <a:pt x="463" y="3116"/>
                          </a:cubicBezTo>
                          <a:cubicBezTo>
                            <a:pt x="-711" y="5496"/>
                            <a:pt x="463" y="9706"/>
                            <a:pt x="2693" y="8974"/>
                          </a:cubicBezTo>
                        </a:path>
                      </a:pathLst>
                    </a:custGeom>
                    <a:solidFill>
                      <a:srgbClr val="ffffff"/>
                    </a:solidFill>
                    <a:ln w="12700">
                      <a:noFill/>
                    </a:ln>
                  </p:spPr>
                  <p:style>
                    <a:lnRef idx="0"/>
                    <a:fillRef idx="0"/>
                    <a:effectRef idx="0"/>
                    <a:fontRef idx="minor"/>
                  </p:style>
                  <p:txBody>
                    <a:bodyPr numCol="1" spcCol="0" lIns="45720" rIns="45720" tIns="30600" bIns="30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6" name="Shape 3275"/>
                    <p:cNvSpPr/>
                    <p:nvPr/>
                  </p:nvSpPr>
                  <p:spPr>
                    <a:xfrm>
                      <a:off x="13186080" y="3977280"/>
                      <a:ext cx="145800" cy="89640"/>
                    </a:xfrm>
                    <a:custGeom>
                      <a:avLst/>
                      <a:gdLst>
                        <a:gd name="textAreaLeft" fmla="*/ 0 w 145800"/>
                        <a:gd name="textAreaRight" fmla="*/ 146160 w 145800"/>
                        <a:gd name="textAreaTop" fmla="*/ 0 h 89640"/>
                        <a:gd name="textAreaBottom" fmla="*/ 90000 h 8964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ffffff"/>
                    </a:solidFill>
                    <a:ln w="12700">
                      <a:noFill/>
                    </a:ln>
                  </p:spPr>
                  <p:style>
                    <a:lnRef idx="0"/>
                    <a:fillRef idx="0"/>
                    <a:effectRef idx="0"/>
                    <a:fontRef idx="minor"/>
                  </p:style>
                  <p:txBody>
                    <a:bodyPr numCol="1" spcCol="0"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7" name="Shape 3276"/>
                    <p:cNvSpPr/>
                    <p:nvPr/>
                  </p:nvSpPr>
                  <p:spPr>
                    <a:xfrm>
                      <a:off x="11936160" y="3678120"/>
                      <a:ext cx="124560" cy="126720"/>
                    </a:xfrm>
                    <a:custGeom>
                      <a:avLst/>
                      <a:gdLst>
                        <a:gd name="textAreaLeft" fmla="*/ 0 w 124560"/>
                        <a:gd name="textAreaRight" fmla="*/ 124920 w 124560"/>
                        <a:gd name="textAreaTop" fmla="*/ 0 h 126720"/>
                        <a:gd name="textAreaBottom" fmla="*/ 127080 h 12672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8" name="Shape 3277"/>
                    <p:cNvSpPr/>
                    <p:nvPr/>
                  </p:nvSpPr>
                  <p:spPr>
                    <a:xfrm>
                      <a:off x="11832120" y="3436560"/>
                      <a:ext cx="277200" cy="190800"/>
                    </a:xfrm>
                    <a:custGeom>
                      <a:avLst/>
                      <a:gdLst>
                        <a:gd name="textAreaLeft" fmla="*/ 0 w 277200"/>
                        <a:gd name="textAreaRight" fmla="*/ 277560 w 277200"/>
                        <a:gd name="textAreaTop" fmla="*/ 0 h 190800"/>
                        <a:gd name="textAreaBottom" fmla="*/ 191160 h 19080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59"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39" name="Shape 3278"/>
                    <p:cNvSpPr/>
                    <p:nvPr/>
                  </p:nvSpPr>
                  <p:spPr>
                    <a:xfrm>
                      <a:off x="11781360" y="3483000"/>
                      <a:ext cx="36000" cy="81000"/>
                    </a:xfrm>
                    <a:custGeom>
                      <a:avLst/>
                      <a:gdLst>
                        <a:gd name="textAreaLeft" fmla="*/ 0 w 36000"/>
                        <a:gd name="textAreaRight" fmla="*/ 36360 w 36000"/>
                        <a:gd name="textAreaTop" fmla="*/ 0 h 81000"/>
                        <a:gd name="textAreaBottom" fmla="*/ 81360 h 8100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ffffff"/>
                    </a:solidFill>
                    <a:ln w="12700">
                      <a:noFill/>
                    </a:ln>
                  </p:spPr>
                  <p:style>
                    <a:lnRef idx="0"/>
                    <a:fillRef idx="0"/>
                    <a:effectRef idx="0"/>
                    <a:fontRef idx="minor"/>
                  </p:style>
                  <p:txBody>
                    <a:bodyPr numCol="1" spcCol="0" lIns="45720" rIns="45720" tIns="40680" bIns="40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0" name="Shape 3279"/>
                    <p:cNvSpPr/>
                    <p:nvPr/>
                  </p:nvSpPr>
                  <p:spPr>
                    <a:xfrm>
                      <a:off x="12132720" y="3509640"/>
                      <a:ext cx="164160" cy="114120"/>
                    </a:xfrm>
                    <a:custGeom>
                      <a:avLst/>
                      <a:gdLst>
                        <a:gd name="textAreaLeft" fmla="*/ 0 w 164160"/>
                        <a:gd name="textAreaRight" fmla="*/ 164520 w 164160"/>
                        <a:gd name="textAreaTop" fmla="*/ 0 h 114120"/>
                        <a:gd name="textAreaBottom" fmla="*/ 114480 h 11412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1" name="Shape 3280"/>
                    <p:cNvSpPr/>
                    <p:nvPr/>
                  </p:nvSpPr>
                  <p:spPr>
                    <a:xfrm>
                      <a:off x="11982240" y="5250600"/>
                      <a:ext cx="87120" cy="444600"/>
                    </a:xfrm>
                    <a:custGeom>
                      <a:avLst/>
                      <a:gdLst>
                        <a:gd name="textAreaLeft" fmla="*/ 0 w 87120"/>
                        <a:gd name="textAreaRight" fmla="*/ 87480 w 87120"/>
                        <a:gd name="textAreaTop" fmla="*/ 0 h 444600"/>
                        <a:gd name="textAreaBottom" fmla="*/ 444960 h 44460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2" name="Shape 3281"/>
                    <p:cNvSpPr/>
                    <p:nvPr/>
                  </p:nvSpPr>
                  <p:spPr>
                    <a:xfrm>
                      <a:off x="11927880" y="5717880"/>
                      <a:ext cx="190440" cy="189360"/>
                    </a:xfrm>
                    <a:custGeom>
                      <a:avLst/>
                      <a:gdLst>
                        <a:gd name="textAreaLeft" fmla="*/ 0 w 190440"/>
                        <a:gd name="textAreaRight" fmla="*/ 190800 w 190440"/>
                        <a:gd name="textAreaTop" fmla="*/ 0 h 189360"/>
                        <a:gd name="textAreaBottom" fmla="*/ 189720 h 18936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3" name="Shape 3282"/>
                    <p:cNvSpPr/>
                    <p:nvPr/>
                  </p:nvSpPr>
                  <p:spPr>
                    <a:xfrm>
                      <a:off x="11590200" y="5913000"/>
                      <a:ext cx="410760" cy="393480"/>
                    </a:xfrm>
                    <a:custGeom>
                      <a:avLst/>
                      <a:gdLst>
                        <a:gd name="textAreaLeft" fmla="*/ 0 w 410760"/>
                        <a:gd name="textAreaRight" fmla="*/ 411120 w 410760"/>
                        <a:gd name="textAreaTop" fmla="*/ 0 h 393480"/>
                        <a:gd name="textAreaBottom" fmla="*/ 393840 h 39348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2"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2"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4" name="Shape 3283"/>
                    <p:cNvSpPr/>
                    <p:nvPr/>
                  </p:nvSpPr>
                  <p:spPr>
                    <a:xfrm>
                      <a:off x="10353960" y="2605680"/>
                      <a:ext cx="188280" cy="232200"/>
                    </a:xfrm>
                    <a:custGeom>
                      <a:avLst/>
                      <a:gdLst>
                        <a:gd name="textAreaLeft" fmla="*/ 0 w 188280"/>
                        <a:gd name="textAreaRight" fmla="*/ 188640 w 188280"/>
                        <a:gd name="textAreaTop" fmla="*/ 0 h 232200"/>
                        <a:gd name="textAreaBottom" fmla="*/ 232560 h 23220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5" name="Shape 3284"/>
                    <p:cNvSpPr/>
                    <p:nvPr/>
                  </p:nvSpPr>
                  <p:spPr>
                    <a:xfrm>
                      <a:off x="10326960" y="2808360"/>
                      <a:ext cx="298080" cy="253080"/>
                    </a:xfrm>
                    <a:custGeom>
                      <a:avLst/>
                      <a:gdLst>
                        <a:gd name="textAreaLeft" fmla="*/ 0 w 298080"/>
                        <a:gd name="textAreaRight" fmla="*/ 298440 w 298080"/>
                        <a:gd name="textAreaTop" fmla="*/ 0 h 253080"/>
                        <a:gd name="textAreaBottom" fmla="*/ 253440 h 25308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6" name="Shape 3285"/>
                    <p:cNvSpPr/>
                    <p:nvPr/>
                  </p:nvSpPr>
                  <p:spPr>
                    <a:xfrm>
                      <a:off x="10598400" y="2938680"/>
                      <a:ext cx="197640" cy="253440"/>
                    </a:xfrm>
                    <a:custGeom>
                      <a:avLst/>
                      <a:gdLst>
                        <a:gd name="textAreaLeft" fmla="*/ 0 w 197640"/>
                        <a:gd name="textAreaRight" fmla="*/ 198000 w 197640"/>
                        <a:gd name="textAreaTop" fmla="*/ 0 h 253440"/>
                        <a:gd name="textAreaBottom" fmla="*/ 253800 h 25344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7" name="Shape 3286"/>
                    <p:cNvSpPr/>
                    <p:nvPr/>
                  </p:nvSpPr>
                  <p:spPr>
                    <a:xfrm>
                      <a:off x="11656440" y="7395120"/>
                      <a:ext cx="337680" cy="285840"/>
                    </a:xfrm>
                    <a:custGeom>
                      <a:avLst/>
                      <a:gdLst>
                        <a:gd name="textAreaLeft" fmla="*/ 0 w 337680"/>
                        <a:gd name="textAreaRight" fmla="*/ 338040 w 337680"/>
                        <a:gd name="textAreaTop" fmla="*/ 0 h 285840"/>
                        <a:gd name="textAreaBottom" fmla="*/ 286200 h 28584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8" name="Shape 3287"/>
                    <p:cNvSpPr/>
                    <p:nvPr/>
                  </p:nvSpPr>
                  <p:spPr>
                    <a:xfrm>
                      <a:off x="8220600" y="3218760"/>
                      <a:ext cx="5347440" cy="4160880"/>
                    </a:xfrm>
                    <a:custGeom>
                      <a:avLst/>
                      <a:gdLst>
                        <a:gd name="textAreaLeft" fmla="*/ 0 w 5347440"/>
                        <a:gd name="textAreaRight" fmla="*/ 5347800 w 5347440"/>
                        <a:gd name="textAreaTop" fmla="*/ 0 h 4160880"/>
                        <a:gd name="textAreaBottom" fmla="*/ 4161240 h 416088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8"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3"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3"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3"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7" y="14865"/>
                          </a:cubicBezTo>
                          <a:cubicBezTo>
                            <a:pt x="12290" y="14865"/>
                            <a:pt x="12255" y="14827"/>
                            <a:pt x="12265" y="14788"/>
                          </a:cubicBezTo>
                          <a:cubicBezTo>
                            <a:pt x="12290" y="14815"/>
                            <a:pt x="12334" y="14776"/>
                            <a:pt x="12329" y="14735"/>
                          </a:cubicBezTo>
                          <a:cubicBezTo>
                            <a:pt x="12317"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5"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49" name="Shape 3288"/>
                    <p:cNvSpPr/>
                    <p:nvPr/>
                  </p:nvSpPr>
                  <p:spPr>
                    <a:xfrm>
                      <a:off x="9319680" y="2696400"/>
                      <a:ext cx="77040" cy="84240"/>
                    </a:xfrm>
                    <a:custGeom>
                      <a:avLst/>
                      <a:gdLst>
                        <a:gd name="textAreaLeft" fmla="*/ 0 w 77040"/>
                        <a:gd name="textAreaRight" fmla="*/ 77400 w 77040"/>
                        <a:gd name="textAreaTop" fmla="*/ 0 h 84240"/>
                        <a:gd name="textAreaBottom" fmla="*/ 84600 h 84240"/>
                      </a:gdLst>
                      <a:ahLst/>
                      <a:rect l="textAreaLeft" t="textAreaTop" r="textAreaRight" b="textAreaBottom"/>
                      <a:pathLst>
                        <a:path w="21600" h="21528">
                          <a:moveTo>
                            <a:pt x="19988" y="9423"/>
                          </a:moveTo>
                          <a:cubicBezTo>
                            <a:pt x="20633" y="9423"/>
                            <a:pt x="21278" y="9423"/>
                            <a:pt x="21600" y="10003"/>
                          </a:cubicBezTo>
                          <a:cubicBezTo>
                            <a:pt x="20633" y="11887"/>
                            <a:pt x="20955" y="13627"/>
                            <a:pt x="20310" y="15801"/>
                          </a:cubicBezTo>
                          <a:cubicBezTo>
                            <a:pt x="19666" y="17541"/>
                            <a:pt x="17570" y="19426"/>
                            <a:pt x="15958" y="18846"/>
                          </a:cubicBezTo>
                          <a:cubicBezTo>
                            <a:pt x="16603" y="19426"/>
                            <a:pt x="16281" y="21020"/>
                            <a:pt x="15152" y="21310"/>
                          </a:cubicBezTo>
                          <a:cubicBezTo>
                            <a:pt x="14185" y="21600"/>
                            <a:pt x="13218" y="21600"/>
                            <a:pt x="11767" y="21310"/>
                          </a:cubicBezTo>
                          <a:cubicBezTo>
                            <a:pt x="9188" y="20585"/>
                            <a:pt x="6770" y="20295"/>
                            <a:pt x="4030" y="19715"/>
                          </a:cubicBezTo>
                          <a:cubicBezTo>
                            <a:pt x="3385" y="19715"/>
                            <a:pt x="2740" y="19426"/>
                            <a:pt x="2418" y="19136"/>
                          </a:cubicBezTo>
                          <a:cubicBezTo>
                            <a:pt x="2096" y="18846"/>
                            <a:pt x="1612" y="18266"/>
                            <a:pt x="1290" y="17541"/>
                          </a:cubicBezTo>
                          <a:cubicBezTo>
                            <a:pt x="322" y="14932"/>
                            <a:pt x="0" y="12177"/>
                            <a:pt x="0" y="9423"/>
                          </a:cubicBezTo>
                          <a:cubicBezTo>
                            <a:pt x="0" y="7828"/>
                            <a:pt x="322" y="5799"/>
                            <a:pt x="2096" y="5509"/>
                          </a:cubicBezTo>
                          <a:cubicBezTo>
                            <a:pt x="3385" y="4784"/>
                            <a:pt x="4675" y="5799"/>
                            <a:pt x="6448" y="5799"/>
                          </a:cubicBezTo>
                          <a:cubicBezTo>
                            <a:pt x="7737" y="6089"/>
                            <a:pt x="9833" y="5074"/>
                            <a:pt x="9510" y="3914"/>
                          </a:cubicBezTo>
                          <a:cubicBezTo>
                            <a:pt x="11445" y="3914"/>
                            <a:pt x="13540" y="3624"/>
                            <a:pt x="15475" y="3624"/>
                          </a:cubicBezTo>
                          <a:cubicBezTo>
                            <a:pt x="14507" y="3624"/>
                            <a:pt x="16603" y="0"/>
                            <a:pt x="19343" y="0"/>
                          </a:cubicBezTo>
                          <a:cubicBezTo>
                            <a:pt x="18215" y="2754"/>
                            <a:pt x="20633" y="6379"/>
                            <a:pt x="19988" y="9423"/>
                          </a:cubicBezTo>
                        </a:path>
                      </a:pathLst>
                    </a:custGeom>
                    <a:solidFill>
                      <a:srgbClr val="ffffff"/>
                    </a:solidFill>
                    <a:ln w="12700">
                      <a:noFill/>
                    </a:ln>
                  </p:spPr>
                  <p:style>
                    <a:lnRef idx="0"/>
                    <a:fillRef idx="0"/>
                    <a:effectRef idx="0"/>
                    <a:fontRef idx="minor"/>
                  </p:style>
                  <p:txBody>
                    <a:bodyPr numCol="1" spcCol="0" lIns="45720" rIns="45720" tIns="42120" bIns="42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50" name="Shape 3289"/>
                    <p:cNvSpPr/>
                    <p:nvPr/>
                  </p:nvSpPr>
                  <p:spPr>
                    <a:xfrm>
                      <a:off x="9422280" y="2626200"/>
                      <a:ext cx="76680" cy="105120"/>
                    </a:xfrm>
                    <a:custGeom>
                      <a:avLst/>
                      <a:gdLst>
                        <a:gd name="textAreaLeft" fmla="*/ 0 w 76680"/>
                        <a:gd name="textAreaRight" fmla="*/ 77040 w 76680"/>
                        <a:gd name="textAreaTop" fmla="*/ 0 h 105120"/>
                        <a:gd name="textAreaBottom" fmla="*/ 105480 h 105120"/>
                      </a:gdLst>
                      <a:ahLst/>
                      <a:rect l="textAreaLeft" t="textAreaTop" r="textAreaRight" b="textAreaBottom"/>
                      <a:pathLst>
                        <a:path w="20823" h="21232">
                          <a:moveTo>
                            <a:pt x="13131" y="21138"/>
                          </a:moveTo>
                          <a:cubicBezTo>
                            <a:pt x="16083" y="20560"/>
                            <a:pt x="18103" y="18712"/>
                            <a:pt x="19036" y="16749"/>
                          </a:cubicBezTo>
                          <a:cubicBezTo>
                            <a:pt x="20434" y="14323"/>
                            <a:pt x="20745" y="11435"/>
                            <a:pt x="20745" y="8779"/>
                          </a:cubicBezTo>
                          <a:cubicBezTo>
                            <a:pt x="20745" y="6815"/>
                            <a:pt x="21056" y="4620"/>
                            <a:pt x="20434" y="2657"/>
                          </a:cubicBezTo>
                          <a:cubicBezTo>
                            <a:pt x="19968" y="1502"/>
                            <a:pt x="18725" y="0"/>
                            <a:pt x="17171" y="0"/>
                          </a:cubicBezTo>
                          <a:cubicBezTo>
                            <a:pt x="14840" y="0"/>
                            <a:pt x="13908" y="2426"/>
                            <a:pt x="14219" y="4158"/>
                          </a:cubicBezTo>
                          <a:cubicBezTo>
                            <a:pt x="14529" y="9241"/>
                            <a:pt x="8624" y="9010"/>
                            <a:pt x="4429" y="12128"/>
                          </a:cubicBezTo>
                          <a:cubicBezTo>
                            <a:pt x="2719" y="13399"/>
                            <a:pt x="-544" y="15016"/>
                            <a:pt x="78" y="16980"/>
                          </a:cubicBezTo>
                          <a:cubicBezTo>
                            <a:pt x="1165" y="19174"/>
                            <a:pt x="4739" y="19174"/>
                            <a:pt x="6915" y="17904"/>
                          </a:cubicBezTo>
                          <a:cubicBezTo>
                            <a:pt x="7692" y="20329"/>
                            <a:pt x="10178" y="21600"/>
                            <a:pt x="13131" y="21138"/>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51" name="Shape 3290"/>
                    <p:cNvSpPr/>
                    <p:nvPr/>
                  </p:nvSpPr>
                  <p:spPr>
                    <a:xfrm>
                      <a:off x="9344520" y="2648880"/>
                      <a:ext cx="41040" cy="30960"/>
                    </a:xfrm>
                    <a:custGeom>
                      <a:avLst/>
                      <a:gdLst>
                        <a:gd name="textAreaLeft" fmla="*/ 0 w 41040"/>
                        <a:gd name="textAreaRight" fmla="*/ 41400 w 41040"/>
                        <a:gd name="textAreaTop" fmla="*/ 0 h 30960"/>
                        <a:gd name="textAreaBottom" fmla="*/ 31320 h 30960"/>
                      </a:gdLst>
                      <a:ahLst/>
                      <a:rect l="textAreaLeft" t="textAreaTop" r="textAreaRight" b="textAreaBottom"/>
                      <a:pathLst>
                        <a:path w="20046" h="21043">
                          <a:moveTo>
                            <a:pt x="2319" y="7200"/>
                          </a:moveTo>
                          <a:cubicBezTo>
                            <a:pt x="-1047" y="8716"/>
                            <a:pt x="-486" y="15916"/>
                            <a:pt x="2319" y="18947"/>
                          </a:cubicBezTo>
                          <a:cubicBezTo>
                            <a:pt x="5405" y="21600"/>
                            <a:pt x="9613" y="21600"/>
                            <a:pt x="12979" y="19705"/>
                          </a:cubicBezTo>
                          <a:cubicBezTo>
                            <a:pt x="16065" y="18947"/>
                            <a:pt x="19431" y="16674"/>
                            <a:pt x="19992" y="12884"/>
                          </a:cubicBezTo>
                          <a:cubicBezTo>
                            <a:pt x="20553" y="7200"/>
                            <a:pt x="16626" y="3032"/>
                            <a:pt x="12979" y="758"/>
                          </a:cubicBezTo>
                          <a:cubicBezTo>
                            <a:pt x="12418" y="758"/>
                            <a:pt x="11857" y="0"/>
                            <a:pt x="11296" y="0"/>
                          </a:cubicBezTo>
                          <a:cubicBezTo>
                            <a:pt x="10174" y="0"/>
                            <a:pt x="9613" y="0"/>
                            <a:pt x="8771" y="758"/>
                          </a:cubicBezTo>
                          <a:cubicBezTo>
                            <a:pt x="5966" y="2274"/>
                            <a:pt x="3722" y="3789"/>
                            <a:pt x="636" y="5684"/>
                          </a:cubicBezTo>
                          <a:cubicBezTo>
                            <a:pt x="-486" y="6442"/>
                            <a:pt x="2319" y="7200"/>
                            <a:pt x="2319" y="7200"/>
                          </a:cubicBezTo>
                        </a:path>
                      </a:pathLst>
                    </a:custGeom>
                    <a:solidFill>
                      <a:srgbClr val="ffffff"/>
                    </a:solidFill>
                    <a:ln w="12700">
                      <a:noFill/>
                    </a:ln>
                  </p:spPr>
                  <p:style>
                    <a:lnRef idx="0"/>
                    <a:fillRef idx="0"/>
                    <a:effectRef idx="0"/>
                    <a:fontRef idx="minor"/>
                  </p:style>
                  <p:txBody>
                    <a:bodyPr numCol="1" spcCol="0" lIns="45720" rIns="45720" tIns="15480" bIns="15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52" name="Shape 3291"/>
                    <p:cNvSpPr/>
                    <p:nvPr/>
                  </p:nvSpPr>
                  <p:spPr>
                    <a:xfrm>
                      <a:off x="9211680" y="2766960"/>
                      <a:ext cx="78480" cy="72000"/>
                    </a:xfrm>
                    <a:custGeom>
                      <a:avLst/>
                      <a:gdLst>
                        <a:gd name="textAreaLeft" fmla="*/ 0 w 78480"/>
                        <a:gd name="textAreaRight" fmla="*/ 78840 w 78480"/>
                        <a:gd name="textAreaTop" fmla="*/ 0 h 72000"/>
                        <a:gd name="textAreaBottom" fmla="*/ 72360 h 72000"/>
                      </a:gdLst>
                      <a:ahLst/>
                      <a:rect l="textAreaLeft" t="textAreaTop" r="textAreaRight" b="textAreaBottom"/>
                      <a:pathLst>
                        <a:path w="21341" h="20939">
                          <a:moveTo>
                            <a:pt x="9651" y="1473"/>
                          </a:moveTo>
                          <a:cubicBezTo>
                            <a:pt x="9345" y="2127"/>
                            <a:pt x="9345" y="9000"/>
                            <a:pt x="9957" y="9000"/>
                          </a:cubicBezTo>
                          <a:cubicBezTo>
                            <a:pt x="5515" y="8018"/>
                            <a:pt x="306" y="12109"/>
                            <a:pt x="0" y="17182"/>
                          </a:cubicBezTo>
                          <a:cubicBezTo>
                            <a:pt x="1685" y="20291"/>
                            <a:pt x="5515" y="21600"/>
                            <a:pt x="8732" y="20618"/>
                          </a:cubicBezTo>
                          <a:cubicBezTo>
                            <a:pt x="11949" y="19473"/>
                            <a:pt x="14094" y="15873"/>
                            <a:pt x="13481" y="12436"/>
                          </a:cubicBezTo>
                          <a:cubicBezTo>
                            <a:pt x="15166" y="12764"/>
                            <a:pt x="17157" y="13091"/>
                            <a:pt x="18689" y="12436"/>
                          </a:cubicBezTo>
                          <a:cubicBezTo>
                            <a:pt x="20374" y="11782"/>
                            <a:pt x="21600" y="9982"/>
                            <a:pt x="21294" y="8345"/>
                          </a:cubicBezTo>
                          <a:cubicBezTo>
                            <a:pt x="18996" y="8345"/>
                            <a:pt x="17004" y="6218"/>
                            <a:pt x="16698" y="4255"/>
                          </a:cubicBezTo>
                          <a:cubicBezTo>
                            <a:pt x="15166" y="4582"/>
                            <a:pt x="13634" y="4582"/>
                            <a:pt x="12255" y="3927"/>
                          </a:cubicBezTo>
                          <a:cubicBezTo>
                            <a:pt x="11030" y="3109"/>
                            <a:pt x="9651" y="1473"/>
                            <a:pt x="10264" y="0"/>
                          </a:cubicBezTo>
                          <a:cubicBezTo>
                            <a:pt x="9957" y="0"/>
                            <a:pt x="9345" y="1473"/>
                            <a:pt x="9651" y="1473"/>
                          </a:cubicBezTo>
                        </a:path>
                      </a:pathLst>
                    </a:custGeom>
                    <a:solidFill>
                      <a:srgbClr val="ffffff"/>
                    </a:solidFill>
                    <a:ln w="12700">
                      <a:noFill/>
                    </a:ln>
                  </p:spPr>
                  <p:style>
                    <a:lnRef idx="0"/>
                    <a:fillRef idx="0"/>
                    <a:effectRef idx="0"/>
                    <a:fontRef idx="minor"/>
                  </p:style>
                  <p:txBody>
                    <a:bodyPr numCol="1" spcCol="0" lIns="45720" rIns="45720" tIns="36000" bIns="36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53" name="Shape 3292"/>
                    <p:cNvSpPr/>
                    <p:nvPr/>
                  </p:nvSpPr>
                  <p:spPr>
                    <a:xfrm>
                      <a:off x="9199440" y="2687400"/>
                      <a:ext cx="82440" cy="50040"/>
                    </a:xfrm>
                    <a:custGeom>
                      <a:avLst/>
                      <a:gdLst>
                        <a:gd name="textAreaLeft" fmla="*/ 0 w 82440"/>
                        <a:gd name="textAreaRight" fmla="*/ 82800 w 82440"/>
                        <a:gd name="textAreaTop" fmla="*/ 0 h 50040"/>
                        <a:gd name="textAreaBottom" fmla="*/ 50400 h 50040"/>
                      </a:gdLst>
                      <a:ahLst/>
                      <a:rect l="textAreaLeft" t="textAreaTop" r="textAreaRight" b="textAreaBottom"/>
                      <a:pathLst>
                        <a:path w="15934" h="20795">
                          <a:moveTo>
                            <a:pt x="3584" y="20785"/>
                          </a:moveTo>
                          <a:cubicBezTo>
                            <a:pt x="4886" y="20785"/>
                            <a:pt x="6297" y="18907"/>
                            <a:pt x="6731" y="15855"/>
                          </a:cubicBezTo>
                          <a:cubicBezTo>
                            <a:pt x="6948" y="14446"/>
                            <a:pt x="6948" y="13038"/>
                            <a:pt x="7382" y="11864"/>
                          </a:cubicBezTo>
                          <a:cubicBezTo>
                            <a:pt x="7600" y="10455"/>
                            <a:pt x="8359" y="9516"/>
                            <a:pt x="9011" y="9985"/>
                          </a:cubicBezTo>
                          <a:cubicBezTo>
                            <a:pt x="9445" y="9985"/>
                            <a:pt x="9662" y="10925"/>
                            <a:pt x="9879" y="10925"/>
                          </a:cubicBezTo>
                          <a:cubicBezTo>
                            <a:pt x="11507" y="13507"/>
                            <a:pt x="13787" y="9985"/>
                            <a:pt x="15198" y="7168"/>
                          </a:cubicBezTo>
                          <a:cubicBezTo>
                            <a:pt x="15415" y="6464"/>
                            <a:pt x="15632" y="5994"/>
                            <a:pt x="15849" y="5525"/>
                          </a:cubicBezTo>
                          <a:cubicBezTo>
                            <a:pt x="16283" y="3177"/>
                            <a:pt x="14980" y="1533"/>
                            <a:pt x="13787" y="1533"/>
                          </a:cubicBezTo>
                          <a:cubicBezTo>
                            <a:pt x="12701" y="1533"/>
                            <a:pt x="11507" y="2707"/>
                            <a:pt x="10639" y="1533"/>
                          </a:cubicBezTo>
                          <a:cubicBezTo>
                            <a:pt x="10205" y="1064"/>
                            <a:pt x="9879" y="594"/>
                            <a:pt x="9445" y="125"/>
                          </a:cubicBezTo>
                          <a:cubicBezTo>
                            <a:pt x="8794" y="-345"/>
                            <a:pt x="7925" y="594"/>
                            <a:pt x="7165" y="1533"/>
                          </a:cubicBezTo>
                          <a:cubicBezTo>
                            <a:pt x="4886" y="4585"/>
                            <a:pt x="-5317" y="21255"/>
                            <a:pt x="3584" y="20785"/>
                          </a:cubicBezTo>
                        </a:path>
                      </a:pathLst>
                    </a:custGeom>
                    <a:solidFill>
                      <a:srgbClr val="ffffff"/>
                    </a:solidFill>
                    <a:ln w="12700">
                      <a:noFill/>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54" name="Shape 3293"/>
                    <p:cNvSpPr/>
                    <p:nvPr/>
                  </p:nvSpPr>
                  <p:spPr>
                    <a:xfrm>
                      <a:off x="9177840" y="2651400"/>
                      <a:ext cx="47160" cy="29880"/>
                    </a:xfrm>
                    <a:custGeom>
                      <a:avLst/>
                      <a:gdLst>
                        <a:gd name="textAreaLeft" fmla="*/ 0 w 47160"/>
                        <a:gd name="textAreaRight" fmla="*/ 47520 w 47160"/>
                        <a:gd name="textAreaTop" fmla="*/ 0 h 29880"/>
                        <a:gd name="textAreaBottom" fmla="*/ 30240 h 29880"/>
                      </a:gdLst>
                      <a:ahLst/>
                      <a:rect l="textAreaLeft" t="textAreaTop" r="textAreaRight" b="textAreaBottom"/>
                      <a:pathLst>
                        <a:path w="20721" h="20357">
                          <a:moveTo>
                            <a:pt x="401" y="6676"/>
                          </a:moveTo>
                          <a:cubicBezTo>
                            <a:pt x="-581" y="9033"/>
                            <a:pt x="401" y="13353"/>
                            <a:pt x="1628" y="14924"/>
                          </a:cubicBezTo>
                          <a:cubicBezTo>
                            <a:pt x="3101" y="17280"/>
                            <a:pt x="5064" y="18065"/>
                            <a:pt x="6783" y="18851"/>
                          </a:cubicBezTo>
                          <a:cubicBezTo>
                            <a:pt x="10219" y="20815"/>
                            <a:pt x="15374" y="21600"/>
                            <a:pt x="17583" y="16495"/>
                          </a:cubicBezTo>
                          <a:cubicBezTo>
                            <a:pt x="18074" y="14924"/>
                            <a:pt x="18074" y="13353"/>
                            <a:pt x="19055" y="12567"/>
                          </a:cubicBezTo>
                          <a:cubicBezTo>
                            <a:pt x="19546" y="11782"/>
                            <a:pt x="20037" y="11782"/>
                            <a:pt x="20528" y="10604"/>
                          </a:cubicBezTo>
                          <a:cubicBezTo>
                            <a:pt x="21019" y="9818"/>
                            <a:pt x="20528" y="8247"/>
                            <a:pt x="19546" y="7462"/>
                          </a:cubicBezTo>
                          <a:cubicBezTo>
                            <a:pt x="15864" y="3535"/>
                            <a:pt x="11446" y="1571"/>
                            <a:pt x="7274" y="2356"/>
                          </a:cubicBezTo>
                          <a:cubicBezTo>
                            <a:pt x="4819" y="3142"/>
                            <a:pt x="1874" y="3927"/>
                            <a:pt x="1137" y="785"/>
                          </a:cubicBezTo>
                          <a:cubicBezTo>
                            <a:pt x="1137" y="2356"/>
                            <a:pt x="401" y="5891"/>
                            <a:pt x="401" y="6676"/>
                          </a:cubicBezTo>
                          <a:close/>
                          <a:moveTo>
                            <a:pt x="1137" y="0"/>
                          </a:moveTo>
                          <a:cubicBezTo>
                            <a:pt x="1137" y="393"/>
                            <a:pt x="1137" y="393"/>
                            <a:pt x="1137" y="785"/>
                          </a:cubicBezTo>
                          <a:cubicBezTo>
                            <a:pt x="1137" y="785"/>
                            <a:pt x="1137" y="393"/>
                            <a:pt x="1137" y="0"/>
                          </a:cubicBezTo>
                          <a:close/>
                        </a:path>
                      </a:pathLst>
                    </a:custGeom>
                    <a:solidFill>
                      <a:srgbClr val="ffffff"/>
                    </a:solidFill>
                    <a:ln w="12700">
                      <a:noFill/>
                    </a:ln>
                  </p:spPr>
                  <p:style>
                    <a:lnRef idx="0"/>
                    <a:fillRef idx="0"/>
                    <a:effectRef idx="0"/>
                    <a:fontRef idx="minor"/>
                  </p:style>
                  <p:txBody>
                    <a:bodyPr numCol="1" spcCol="0" lIns="45720" rIns="45720" tIns="15120" bIns="15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55" name="Shape 3294"/>
                    <p:cNvSpPr/>
                    <p:nvPr/>
                  </p:nvSpPr>
                  <p:spPr>
                    <a:xfrm>
                      <a:off x="9267840" y="2470320"/>
                      <a:ext cx="34920" cy="36000"/>
                    </a:xfrm>
                    <a:custGeom>
                      <a:avLst/>
                      <a:gdLst>
                        <a:gd name="textAreaLeft" fmla="*/ 0 w 34920"/>
                        <a:gd name="textAreaRight" fmla="*/ 35280 w 34920"/>
                        <a:gd name="textAreaTop" fmla="*/ 0 h 36000"/>
                        <a:gd name="textAreaBottom" fmla="*/ 36360 h 36000"/>
                      </a:gdLst>
                      <a:ahLst/>
                      <a:rect l="textAreaLeft" t="textAreaTop" r="textAreaRight" b="textAreaBottom"/>
                      <a:pathLst>
                        <a:path w="20550" h="21086">
                          <a:moveTo>
                            <a:pt x="20447" y="8914"/>
                          </a:moveTo>
                          <a:cubicBezTo>
                            <a:pt x="21112" y="13029"/>
                            <a:pt x="18454" y="17486"/>
                            <a:pt x="14798" y="19543"/>
                          </a:cubicBezTo>
                          <a:cubicBezTo>
                            <a:pt x="11475" y="21600"/>
                            <a:pt x="6490" y="21600"/>
                            <a:pt x="2835" y="19543"/>
                          </a:cubicBezTo>
                          <a:cubicBezTo>
                            <a:pt x="1506" y="18857"/>
                            <a:pt x="177" y="17486"/>
                            <a:pt x="177" y="15771"/>
                          </a:cubicBezTo>
                          <a:cubicBezTo>
                            <a:pt x="-488" y="13714"/>
                            <a:pt x="841" y="11657"/>
                            <a:pt x="2170" y="9600"/>
                          </a:cubicBezTo>
                          <a:cubicBezTo>
                            <a:pt x="4829" y="5829"/>
                            <a:pt x="7820" y="3086"/>
                            <a:pt x="10478" y="0"/>
                          </a:cubicBezTo>
                          <a:cubicBezTo>
                            <a:pt x="10478" y="2057"/>
                            <a:pt x="10478" y="4114"/>
                            <a:pt x="10146" y="5829"/>
                          </a:cubicBezTo>
                          <a:cubicBezTo>
                            <a:pt x="13469" y="5829"/>
                            <a:pt x="17124" y="6857"/>
                            <a:pt x="20447" y="8914"/>
                          </a:cubicBezTo>
                        </a:path>
                      </a:pathLst>
                    </a:custGeom>
                    <a:solidFill>
                      <a:srgbClr val="ffffff"/>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56" name="Shape 3295"/>
                    <p:cNvSpPr/>
                    <p:nvPr/>
                  </p:nvSpPr>
                  <p:spPr>
                    <a:xfrm>
                      <a:off x="9236880" y="2531160"/>
                      <a:ext cx="19800" cy="19800"/>
                    </a:xfrm>
                    <a:custGeom>
                      <a:avLst/>
                      <a:gdLst>
                        <a:gd name="textAreaLeft" fmla="*/ 0 w 19800"/>
                        <a:gd name="textAreaRight" fmla="*/ 20160 w 19800"/>
                        <a:gd name="textAreaTop" fmla="*/ 0 h 19800"/>
                        <a:gd name="textAreaBottom" fmla="*/ 20160 h 19800"/>
                      </a:gdLst>
                      <a:ahLst/>
                      <a:rect l="textAreaLeft" t="textAreaTop" r="textAreaRight" b="textAreaBottom"/>
                      <a:pathLst>
                        <a:path w="18138" h="19713">
                          <a:moveTo>
                            <a:pt x="18138" y="513"/>
                          </a:moveTo>
                          <a:cubicBezTo>
                            <a:pt x="9498" y="-1887"/>
                            <a:pt x="-3462" y="4713"/>
                            <a:pt x="858" y="8313"/>
                          </a:cubicBezTo>
                          <a:cubicBezTo>
                            <a:pt x="5178" y="11913"/>
                            <a:pt x="13818" y="16113"/>
                            <a:pt x="5178" y="19713"/>
                          </a:cubicBezTo>
                          <a:lnTo>
                            <a:pt x="18138" y="513"/>
                          </a:lnTo>
                        </a:path>
                      </a:pathLst>
                    </a:custGeom>
                    <a:solidFill>
                      <a:srgbClr val="ffffff"/>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grpSp>
        </p:grpSp>
        <p:grpSp>
          <p:nvGrpSpPr>
            <p:cNvPr id="5957" name="Group 3327"/>
            <p:cNvGrpSpPr/>
            <p:nvPr/>
          </p:nvGrpSpPr>
          <p:grpSpPr>
            <a:xfrm>
              <a:off x="6594480" y="2697480"/>
              <a:ext cx="3026160" cy="3762360"/>
              <a:chOff x="6594480" y="2697480"/>
              <a:chExt cx="3026160" cy="3762360"/>
            </a:xfrm>
          </p:grpSpPr>
          <p:sp>
            <p:nvSpPr>
              <p:cNvPr id="5958" name="Shape 3300"/>
              <p:cNvSpPr/>
              <p:nvPr/>
            </p:nvSpPr>
            <p:spPr>
              <a:xfrm>
                <a:off x="7982640" y="5064840"/>
                <a:ext cx="44280" cy="79200"/>
              </a:xfrm>
              <a:custGeom>
                <a:avLst/>
                <a:gdLst>
                  <a:gd name="textAreaLeft" fmla="*/ 0 w 44280"/>
                  <a:gd name="textAreaRight" fmla="*/ 44640 w 44280"/>
                  <a:gd name="textAreaTop" fmla="*/ 0 h 79200"/>
                  <a:gd name="textAreaBottom" fmla="*/ 79560 h 7920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ffffff"/>
              </a:solidFill>
              <a:ln w="12700">
                <a:noFill/>
              </a:ln>
            </p:spPr>
            <p:style>
              <a:lnRef idx="0"/>
              <a:fillRef idx="0"/>
              <a:effectRef idx="0"/>
              <a:fontRef idx="minor"/>
            </p:style>
            <p:txBody>
              <a:bodyPr numCol="1" spcCol="0" lIns="45720" rIns="45720" tIns="39600" bIns="39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59" name="Shape 3301"/>
              <p:cNvSpPr/>
              <p:nvPr/>
            </p:nvSpPr>
            <p:spPr>
              <a:xfrm>
                <a:off x="7759080" y="5182200"/>
                <a:ext cx="53640" cy="80280"/>
              </a:xfrm>
              <a:custGeom>
                <a:avLst/>
                <a:gdLst>
                  <a:gd name="textAreaLeft" fmla="*/ 0 w 53640"/>
                  <a:gd name="textAreaRight" fmla="*/ 54000 w 53640"/>
                  <a:gd name="textAreaTop" fmla="*/ 0 h 80280"/>
                  <a:gd name="textAreaBottom" fmla="*/ 80640 h 8028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ffffff"/>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60" name="Shape 3302"/>
              <p:cNvSpPr/>
              <p:nvPr/>
            </p:nvSpPr>
            <p:spPr>
              <a:xfrm>
                <a:off x="7765920" y="5127840"/>
                <a:ext cx="19800" cy="29160"/>
              </a:xfrm>
              <a:custGeom>
                <a:avLst/>
                <a:gdLst>
                  <a:gd name="textAreaLeft" fmla="*/ 0 w 19800"/>
                  <a:gd name="textAreaRight" fmla="*/ 20160 w 19800"/>
                  <a:gd name="textAreaTop" fmla="*/ 0 h 29160"/>
                  <a:gd name="textAreaBottom" fmla="*/ 29520 h 2916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ffffff"/>
              </a:solidFill>
              <a:ln w="12700">
                <a:noFill/>
              </a:ln>
            </p:spPr>
            <p:style>
              <a:lnRef idx="0"/>
              <a:fillRef idx="0"/>
              <a:effectRef idx="0"/>
              <a:fontRef idx="minor"/>
            </p:style>
            <p:txBody>
              <a:bodyPr numCol="1" spcCol="0" lIns="45720" rIns="45720" tIns="14760" bIns="1476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961" name="Group 3326"/>
              <p:cNvGrpSpPr/>
              <p:nvPr/>
            </p:nvGrpSpPr>
            <p:grpSpPr>
              <a:xfrm>
                <a:off x="6594480" y="2697480"/>
                <a:ext cx="3026160" cy="3762360"/>
                <a:chOff x="6594480" y="2697480"/>
                <a:chExt cx="3026160" cy="3762360"/>
              </a:xfrm>
            </p:grpSpPr>
            <p:sp>
              <p:nvSpPr>
                <p:cNvPr id="5962" name="Shape 3303"/>
                <p:cNvSpPr/>
                <p:nvPr/>
              </p:nvSpPr>
              <p:spPr>
                <a:xfrm>
                  <a:off x="7796160" y="6046920"/>
                  <a:ext cx="103680" cy="75960"/>
                </a:xfrm>
                <a:custGeom>
                  <a:avLst/>
                  <a:gdLst>
                    <a:gd name="textAreaLeft" fmla="*/ 0 w 103680"/>
                    <a:gd name="textAreaRight" fmla="*/ 104040 w 103680"/>
                    <a:gd name="textAreaTop" fmla="*/ 0 h 75960"/>
                    <a:gd name="textAreaBottom" fmla="*/ 76320 h 7596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ffffff"/>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5963" name="Group 3325"/>
                <p:cNvGrpSpPr/>
                <p:nvPr/>
              </p:nvGrpSpPr>
              <p:grpSpPr>
                <a:xfrm>
                  <a:off x="6594480" y="2697480"/>
                  <a:ext cx="3026160" cy="3762360"/>
                  <a:chOff x="6594480" y="2697480"/>
                  <a:chExt cx="3026160" cy="3762360"/>
                </a:xfrm>
              </p:grpSpPr>
              <p:sp>
                <p:nvSpPr>
                  <p:cNvPr id="5964" name="Shape 3304"/>
                  <p:cNvSpPr/>
                  <p:nvPr/>
                </p:nvSpPr>
                <p:spPr>
                  <a:xfrm>
                    <a:off x="6929640" y="6426000"/>
                    <a:ext cx="19800" cy="19800"/>
                  </a:xfrm>
                  <a:custGeom>
                    <a:avLst/>
                    <a:gdLst>
                      <a:gd name="textAreaLeft" fmla="*/ 0 w 19800"/>
                      <a:gd name="textAreaRight" fmla="*/ 20160 w 19800"/>
                      <a:gd name="textAreaTop" fmla="*/ 0 h 19800"/>
                      <a:gd name="textAreaBottom" fmla="*/ 20160 h 1980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ffffff"/>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65" name="Shape 3305"/>
                  <p:cNvSpPr/>
                  <p:nvPr/>
                </p:nvSpPr>
                <p:spPr>
                  <a:xfrm>
                    <a:off x="6936840" y="6389640"/>
                    <a:ext cx="22320" cy="19800"/>
                  </a:xfrm>
                  <a:custGeom>
                    <a:avLst/>
                    <a:gdLst>
                      <a:gd name="textAreaLeft" fmla="*/ 0 w 22320"/>
                      <a:gd name="textAreaRight" fmla="*/ 22680 w 22320"/>
                      <a:gd name="textAreaTop" fmla="*/ 0 h 19800"/>
                      <a:gd name="textAreaBottom" fmla="*/ 20160 h 19800"/>
                    </a:gdLst>
                    <a:ahLst/>
                    <a:rect l="textAreaLeft" t="textAreaTop" r="textAreaRight" b="textAreaBottom"/>
                    <a:pathLst>
                      <a:path w="20029" h="21600">
                        <a:moveTo>
                          <a:pt x="4730" y="1350"/>
                        </a:moveTo>
                        <a:cubicBezTo>
                          <a:pt x="4730" y="0"/>
                          <a:pt x="2673" y="0"/>
                          <a:pt x="1644" y="0"/>
                        </a:cubicBezTo>
                        <a:cubicBezTo>
                          <a:pt x="2673" y="2700"/>
                          <a:pt x="1644" y="7425"/>
                          <a:pt x="616" y="10125"/>
                        </a:cubicBezTo>
                        <a:cubicBezTo>
                          <a:pt x="-413" y="12825"/>
                          <a:pt x="-413" y="18225"/>
                          <a:pt x="2673" y="20250"/>
                        </a:cubicBezTo>
                        <a:cubicBezTo>
                          <a:pt x="4730" y="20250"/>
                          <a:pt x="5758" y="18225"/>
                          <a:pt x="8330" y="16875"/>
                        </a:cubicBezTo>
                        <a:cubicBezTo>
                          <a:pt x="11416" y="15525"/>
                          <a:pt x="14501" y="16875"/>
                          <a:pt x="16558" y="21600"/>
                        </a:cubicBezTo>
                        <a:cubicBezTo>
                          <a:pt x="21187" y="20250"/>
                          <a:pt x="21187" y="10800"/>
                          <a:pt x="16558" y="7425"/>
                        </a:cubicBezTo>
                        <a:cubicBezTo>
                          <a:pt x="14501" y="6750"/>
                          <a:pt x="13473" y="7425"/>
                          <a:pt x="11416" y="7425"/>
                        </a:cubicBezTo>
                        <a:cubicBezTo>
                          <a:pt x="9358" y="7425"/>
                          <a:pt x="12444" y="2700"/>
                          <a:pt x="11416" y="1350"/>
                        </a:cubicBezTo>
                        <a:cubicBezTo>
                          <a:pt x="10387" y="6075"/>
                          <a:pt x="5758" y="1350"/>
                          <a:pt x="5758" y="7425"/>
                        </a:cubicBezTo>
                        <a:cubicBezTo>
                          <a:pt x="5758" y="4725"/>
                          <a:pt x="5758" y="1350"/>
                          <a:pt x="4730" y="1350"/>
                        </a:cubicBezTo>
                      </a:path>
                    </a:pathLst>
                  </a:custGeom>
                  <a:solidFill>
                    <a:srgbClr val="ffffff"/>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66" name="Shape 3306"/>
                  <p:cNvSpPr/>
                  <p:nvPr/>
                </p:nvSpPr>
                <p:spPr>
                  <a:xfrm>
                    <a:off x="6843600" y="6421320"/>
                    <a:ext cx="21240" cy="25560"/>
                  </a:xfrm>
                  <a:custGeom>
                    <a:avLst/>
                    <a:gdLst>
                      <a:gd name="textAreaLeft" fmla="*/ 0 w 21240"/>
                      <a:gd name="textAreaRight" fmla="*/ 21600 w 21240"/>
                      <a:gd name="textAreaTop" fmla="*/ 0 h 25560"/>
                      <a:gd name="textAreaBottom" fmla="*/ 25920 h 25560"/>
                    </a:gdLst>
                    <a:ahLst/>
                    <a:rect l="textAreaLeft" t="textAreaTop" r="textAreaRight" b="textAreaBottom"/>
                    <a:pathLst>
                      <a:path w="21210" h="20842">
                        <a:moveTo>
                          <a:pt x="5863" y="3757"/>
                        </a:moveTo>
                        <a:cubicBezTo>
                          <a:pt x="4726" y="3757"/>
                          <a:pt x="3589" y="3757"/>
                          <a:pt x="1884" y="3757"/>
                        </a:cubicBezTo>
                        <a:cubicBezTo>
                          <a:pt x="-390" y="7983"/>
                          <a:pt x="-390" y="11739"/>
                          <a:pt x="747" y="14557"/>
                        </a:cubicBezTo>
                        <a:cubicBezTo>
                          <a:pt x="1884" y="18783"/>
                          <a:pt x="6431" y="21600"/>
                          <a:pt x="11547" y="20661"/>
                        </a:cubicBezTo>
                        <a:cubicBezTo>
                          <a:pt x="16094" y="19722"/>
                          <a:pt x="20073" y="15496"/>
                          <a:pt x="17799" y="11739"/>
                        </a:cubicBezTo>
                        <a:cubicBezTo>
                          <a:pt x="15526" y="8922"/>
                          <a:pt x="10410" y="6574"/>
                          <a:pt x="11547" y="3757"/>
                        </a:cubicBezTo>
                        <a:cubicBezTo>
                          <a:pt x="15526" y="3757"/>
                          <a:pt x="18936" y="4696"/>
                          <a:pt x="21210" y="6574"/>
                        </a:cubicBezTo>
                        <a:cubicBezTo>
                          <a:pt x="20073" y="5635"/>
                          <a:pt x="21210" y="4696"/>
                          <a:pt x="20073" y="3757"/>
                        </a:cubicBezTo>
                        <a:cubicBezTo>
                          <a:pt x="20073" y="2817"/>
                          <a:pt x="18936" y="2817"/>
                          <a:pt x="17799" y="1878"/>
                        </a:cubicBezTo>
                        <a:cubicBezTo>
                          <a:pt x="16663" y="939"/>
                          <a:pt x="13821" y="0"/>
                          <a:pt x="12684" y="0"/>
                        </a:cubicBezTo>
                        <a:cubicBezTo>
                          <a:pt x="11547" y="0"/>
                          <a:pt x="11547" y="0"/>
                          <a:pt x="10410" y="0"/>
                        </a:cubicBezTo>
                        <a:cubicBezTo>
                          <a:pt x="10410" y="939"/>
                          <a:pt x="8136" y="1878"/>
                          <a:pt x="5863" y="3757"/>
                        </a:cubicBezTo>
                      </a:path>
                    </a:pathLst>
                  </a:custGeom>
                  <a:solidFill>
                    <a:srgbClr val="ffffff"/>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67" name="Shape 3307"/>
                  <p:cNvSpPr/>
                  <p:nvPr/>
                </p:nvSpPr>
                <p:spPr>
                  <a:xfrm>
                    <a:off x="6872400" y="6435000"/>
                    <a:ext cx="22680" cy="24840"/>
                  </a:xfrm>
                  <a:custGeom>
                    <a:avLst/>
                    <a:gdLst>
                      <a:gd name="textAreaLeft" fmla="*/ 0 w 22680"/>
                      <a:gd name="textAreaRight" fmla="*/ 23040 w 22680"/>
                      <a:gd name="textAreaTop" fmla="*/ 0 h 24840"/>
                      <a:gd name="textAreaBottom" fmla="*/ 25200 h 24840"/>
                    </a:gdLst>
                    <a:ahLst/>
                    <a:rect l="textAreaLeft" t="textAreaTop" r="textAreaRight" b="textAreaBottom"/>
                    <a:pathLst>
                      <a:path w="20282" h="20177">
                        <a:moveTo>
                          <a:pt x="225" y="9964"/>
                        </a:moveTo>
                        <a:cubicBezTo>
                          <a:pt x="-1318" y="4799"/>
                          <a:pt x="5368" y="-836"/>
                          <a:pt x="11025" y="103"/>
                        </a:cubicBezTo>
                        <a:cubicBezTo>
                          <a:pt x="8453" y="103"/>
                          <a:pt x="7425" y="2921"/>
                          <a:pt x="8453" y="4799"/>
                        </a:cubicBezTo>
                        <a:cubicBezTo>
                          <a:pt x="9482" y="7147"/>
                          <a:pt x="12053" y="8086"/>
                          <a:pt x="14111" y="8086"/>
                        </a:cubicBezTo>
                        <a:cubicBezTo>
                          <a:pt x="16168" y="8086"/>
                          <a:pt x="18225" y="9025"/>
                          <a:pt x="20282" y="10903"/>
                        </a:cubicBezTo>
                        <a:cubicBezTo>
                          <a:pt x="17196" y="12781"/>
                          <a:pt x="17196" y="17947"/>
                          <a:pt x="14111" y="19825"/>
                        </a:cubicBezTo>
                        <a:cubicBezTo>
                          <a:pt x="12053" y="20764"/>
                          <a:pt x="7425" y="19825"/>
                          <a:pt x="6396" y="17007"/>
                        </a:cubicBezTo>
                        <a:cubicBezTo>
                          <a:pt x="5368" y="14660"/>
                          <a:pt x="5368" y="11842"/>
                          <a:pt x="5368" y="9025"/>
                        </a:cubicBezTo>
                        <a:cubicBezTo>
                          <a:pt x="4339" y="9025"/>
                          <a:pt x="2282" y="9025"/>
                          <a:pt x="225" y="9964"/>
                        </a:cubicBezTo>
                      </a:path>
                    </a:pathLst>
                  </a:custGeom>
                  <a:solidFill>
                    <a:srgbClr val="ffffff"/>
                  </a:solidFill>
                  <a:ln w="12700">
                    <a:noFill/>
                  </a:ln>
                </p:spPr>
                <p:style>
                  <a:lnRef idx="0"/>
                  <a:fillRef idx="0"/>
                  <a:effectRef idx="0"/>
                  <a:fontRef idx="minor"/>
                </p:style>
                <p:txBody>
                  <a:bodyPr numCol="1" spcCol="0" lIns="45720" rIns="45720" tIns="12600" bIns="12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68" name="Shape 3308"/>
                  <p:cNvSpPr/>
                  <p:nvPr/>
                </p:nvSpPr>
                <p:spPr>
                  <a:xfrm>
                    <a:off x="6938640" y="6313320"/>
                    <a:ext cx="24840" cy="21600"/>
                  </a:xfrm>
                  <a:custGeom>
                    <a:avLst/>
                    <a:gdLst>
                      <a:gd name="textAreaLeft" fmla="*/ 0 w 24840"/>
                      <a:gd name="textAreaRight" fmla="*/ 25200 w 24840"/>
                      <a:gd name="textAreaTop" fmla="*/ 0 h 21600"/>
                      <a:gd name="textAreaBottom" fmla="*/ 21960 h 21600"/>
                    </a:gdLst>
                    <a:ahLst/>
                    <a:rect l="textAreaLeft" t="textAreaTop" r="textAreaRight" b="textAreaBottom"/>
                    <a:pathLst>
                      <a:path w="20236" h="21600">
                        <a:moveTo>
                          <a:pt x="0" y="0"/>
                        </a:moveTo>
                        <a:cubicBezTo>
                          <a:pt x="0" y="4547"/>
                          <a:pt x="0" y="8526"/>
                          <a:pt x="0" y="13074"/>
                        </a:cubicBezTo>
                        <a:cubicBezTo>
                          <a:pt x="0" y="14211"/>
                          <a:pt x="0" y="15347"/>
                          <a:pt x="0" y="15347"/>
                        </a:cubicBezTo>
                        <a:cubicBezTo>
                          <a:pt x="0" y="16484"/>
                          <a:pt x="900" y="16484"/>
                          <a:pt x="1800" y="16484"/>
                        </a:cubicBezTo>
                        <a:cubicBezTo>
                          <a:pt x="4500" y="17621"/>
                          <a:pt x="7650" y="19326"/>
                          <a:pt x="10350" y="21600"/>
                        </a:cubicBezTo>
                        <a:cubicBezTo>
                          <a:pt x="10350" y="19326"/>
                          <a:pt x="12600" y="16484"/>
                          <a:pt x="14850" y="16484"/>
                        </a:cubicBezTo>
                        <a:cubicBezTo>
                          <a:pt x="16650" y="16484"/>
                          <a:pt x="18900" y="19326"/>
                          <a:pt x="18900" y="21600"/>
                        </a:cubicBezTo>
                        <a:cubicBezTo>
                          <a:pt x="21600" y="17621"/>
                          <a:pt x="19800" y="10800"/>
                          <a:pt x="17100" y="7389"/>
                        </a:cubicBezTo>
                        <a:cubicBezTo>
                          <a:pt x="16200" y="4547"/>
                          <a:pt x="13950" y="2274"/>
                          <a:pt x="11250" y="1137"/>
                        </a:cubicBezTo>
                        <a:cubicBezTo>
                          <a:pt x="9450" y="1137"/>
                          <a:pt x="6750" y="3411"/>
                          <a:pt x="7650" y="5684"/>
                        </a:cubicBezTo>
                        <a:cubicBezTo>
                          <a:pt x="5850" y="3411"/>
                          <a:pt x="2700" y="2274"/>
                          <a:pt x="0" y="0"/>
                        </a:cubicBezTo>
                      </a:path>
                    </a:pathLst>
                  </a:custGeom>
                  <a:solidFill>
                    <a:srgbClr val="ffffff"/>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69" name="Shape 3309"/>
                  <p:cNvSpPr/>
                  <p:nvPr/>
                </p:nvSpPr>
                <p:spPr>
                  <a:xfrm>
                    <a:off x="8957880" y="4195080"/>
                    <a:ext cx="86040" cy="90360"/>
                  </a:xfrm>
                  <a:custGeom>
                    <a:avLst/>
                    <a:gdLst>
                      <a:gd name="textAreaLeft" fmla="*/ 0 w 86040"/>
                      <a:gd name="textAreaRight" fmla="*/ 86400 w 86040"/>
                      <a:gd name="textAreaTop" fmla="*/ 0 h 90360"/>
                      <a:gd name="textAreaBottom" fmla="*/ 90720 h 9036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ffffff"/>
                  </a:solidFill>
                  <a:ln w="12700">
                    <a:noFill/>
                  </a:ln>
                </p:spPr>
                <p:style>
                  <a:lnRef idx="0"/>
                  <a:fillRef idx="0"/>
                  <a:effectRef idx="0"/>
                  <a:fontRef idx="minor"/>
                </p:style>
                <p:txBody>
                  <a:bodyPr numCol="1" spcCol="0" lIns="45720" rIns="45720" tIns="45360" bIns="45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0" name="Shape 3310"/>
                  <p:cNvSpPr/>
                  <p:nvPr/>
                </p:nvSpPr>
                <p:spPr>
                  <a:xfrm>
                    <a:off x="7677720" y="5832000"/>
                    <a:ext cx="33120" cy="91080"/>
                  </a:xfrm>
                  <a:custGeom>
                    <a:avLst/>
                    <a:gdLst>
                      <a:gd name="textAreaLeft" fmla="*/ 0 w 33120"/>
                      <a:gd name="textAreaRight" fmla="*/ 33480 w 33120"/>
                      <a:gd name="textAreaTop" fmla="*/ 0 h 91080"/>
                      <a:gd name="textAreaBottom" fmla="*/ 91440 h 9108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1" name="Shape 3311"/>
                  <p:cNvSpPr/>
                  <p:nvPr/>
                </p:nvSpPr>
                <p:spPr>
                  <a:xfrm>
                    <a:off x="7662240" y="5928840"/>
                    <a:ext cx="54360" cy="97200"/>
                  </a:xfrm>
                  <a:custGeom>
                    <a:avLst/>
                    <a:gdLst>
                      <a:gd name="textAreaLeft" fmla="*/ 0 w 54360"/>
                      <a:gd name="textAreaRight" fmla="*/ 54720 w 54360"/>
                      <a:gd name="textAreaTop" fmla="*/ 0 h 97200"/>
                      <a:gd name="textAreaBottom" fmla="*/ 97560 h 9720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2" name="Shape 3312"/>
                  <p:cNvSpPr/>
                  <p:nvPr/>
                </p:nvSpPr>
                <p:spPr>
                  <a:xfrm>
                    <a:off x="7479360" y="5974560"/>
                    <a:ext cx="37800" cy="33840"/>
                  </a:xfrm>
                  <a:custGeom>
                    <a:avLst/>
                    <a:gdLst>
                      <a:gd name="textAreaLeft" fmla="*/ 0 w 37800"/>
                      <a:gd name="textAreaRight" fmla="*/ 38160 w 37800"/>
                      <a:gd name="textAreaTop" fmla="*/ 0 h 33840"/>
                      <a:gd name="textAreaBottom" fmla="*/ 34200 h 3384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ffffff"/>
                  </a:solidFill>
                  <a:ln w="12700">
                    <a:noFill/>
                  </a:ln>
                </p:spPr>
                <p:style>
                  <a:lnRef idx="0"/>
                  <a:fillRef idx="0"/>
                  <a:effectRef idx="0"/>
                  <a:fontRef idx="minor"/>
                </p:style>
                <p:txBody>
                  <a:bodyPr numCol="1" spcCol="0" lIns="45720" rIns="45720" tIns="16920" bIns="16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3" name="Shape 3313"/>
                  <p:cNvSpPr/>
                  <p:nvPr/>
                </p:nvSpPr>
                <p:spPr>
                  <a:xfrm>
                    <a:off x="7512120" y="5966640"/>
                    <a:ext cx="19800" cy="19800"/>
                  </a:xfrm>
                  <a:custGeom>
                    <a:avLst/>
                    <a:gdLst>
                      <a:gd name="textAreaLeft" fmla="*/ 0 w 19800"/>
                      <a:gd name="textAreaRight" fmla="*/ 20160 w 19800"/>
                      <a:gd name="textAreaTop" fmla="*/ 0 h 19800"/>
                      <a:gd name="textAreaBottom" fmla="*/ 20160 h 1980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ffffff"/>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4" name="Shape 3314"/>
                  <p:cNvSpPr/>
                  <p:nvPr/>
                </p:nvSpPr>
                <p:spPr>
                  <a:xfrm>
                    <a:off x="7463160" y="6009120"/>
                    <a:ext cx="19800" cy="19800"/>
                  </a:xfrm>
                  <a:custGeom>
                    <a:avLst/>
                    <a:gdLst>
                      <a:gd name="textAreaLeft" fmla="*/ 0 w 19800"/>
                      <a:gd name="textAreaRight" fmla="*/ 20160 w 19800"/>
                      <a:gd name="textAreaTop" fmla="*/ 0 h 19800"/>
                      <a:gd name="textAreaBottom" fmla="*/ 20160 h 1980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ffffff"/>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5" name="Shape 3315"/>
                  <p:cNvSpPr/>
                  <p:nvPr/>
                </p:nvSpPr>
                <p:spPr>
                  <a:xfrm>
                    <a:off x="7154280" y="4986360"/>
                    <a:ext cx="299880" cy="536400"/>
                  </a:xfrm>
                  <a:custGeom>
                    <a:avLst/>
                    <a:gdLst>
                      <a:gd name="textAreaLeft" fmla="*/ 0 w 299880"/>
                      <a:gd name="textAreaRight" fmla="*/ 300240 w 299880"/>
                      <a:gd name="textAreaTop" fmla="*/ 0 h 536400"/>
                      <a:gd name="textAreaBottom" fmla="*/ 536760 h 53640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6" name="Shape 3316"/>
                  <p:cNvSpPr/>
                  <p:nvPr/>
                </p:nvSpPr>
                <p:spPr>
                  <a:xfrm>
                    <a:off x="7061760" y="5228640"/>
                    <a:ext cx="156240" cy="213120"/>
                  </a:xfrm>
                  <a:custGeom>
                    <a:avLst/>
                    <a:gdLst>
                      <a:gd name="textAreaLeft" fmla="*/ 0 w 156240"/>
                      <a:gd name="textAreaRight" fmla="*/ 156600 w 156240"/>
                      <a:gd name="textAreaTop" fmla="*/ 0 h 213120"/>
                      <a:gd name="textAreaBottom" fmla="*/ 213480 h 21312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7" name="Shape 3317"/>
                  <p:cNvSpPr/>
                  <p:nvPr/>
                </p:nvSpPr>
                <p:spPr>
                  <a:xfrm>
                    <a:off x="8165880" y="6158160"/>
                    <a:ext cx="100080" cy="32760"/>
                  </a:xfrm>
                  <a:custGeom>
                    <a:avLst/>
                    <a:gdLst>
                      <a:gd name="textAreaLeft" fmla="*/ 0 w 100080"/>
                      <a:gd name="textAreaRight" fmla="*/ 100440 w 100080"/>
                      <a:gd name="textAreaTop" fmla="*/ 0 h 32760"/>
                      <a:gd name="textAreaBottom" fmla="*/ 33120 h 3276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ffffff"/>
                  </a:solidFill>
                  <a:ln w="12700">
                    <a:noFill/>
                  </a:ln>
                </p:spPr>
                <p:style>
                  <a:lnRef idx="0"/>
                  <a:fillRef idx="0"/>
                  <a:effectRef idx="0"/>
                  <a:fontRef idx="minor"/>
                </p:style>
                <p:txBody>
                  <a:bodyPr numCol="1" spcCol="0" lIns="45720" rIns="45720" tIns="16560" bIns="16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8" name="Shape 3318"/>
                  <p:cNvSpPr/>
                  <p:nvPr/>
                </p:nvSpPr>
                <p:spPr>
                  <a:xfrm>
                    <a:off x="7344000" y="4871880"/>
                    <a:ext cx="36720" cy="79200"/>
                  </a:xfrm>
                  <a:custGeom>
                    <a:avLst/>
                    <a:gdLst>
                      <a:gd name="textAreaLeft" fmla="*/ 0 w 36720"/>
                      <a:gd name="textAreaRight" fmla="*/ 37080 w 36720"/>
                      <a:gd name="textAreaTop" fmla="*/ 0 h 79200"/>
                      <a:gd name="textAreaBottom" fmla="*/ 79560 h 7920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ffffff"/>
                  </a:solidFill>
                  <a:ln w="12700">
                    <a:noFill/>
                  </a:ln>
                </p:spPr>
                <p:style>
                  <a:lnRef idx="0"/>
                  <a:fillRef idx="0"/>
                  <a:effectRef idx="0"/>
                  <a:fontRef idx="minor"/>
                </p:style>
                <p:txBody>
                  <a:bodyPr numCol="1" spcCol="0" lIns="45720" rIns="45720" tIns="39600" bIns="39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79" name="Shape 3319"/>
                  <p:cNvSpPr/>
                  <p:nvPr/>
                </p:nvSpPr>
                <p:spPr>
                  <a:xfrm>
                    <a:off x="7147800" y="4763520"/>
                    <a:ext cx="49320" cy="51120"/>
                  </a:xfrm>
                  <a:custGeom>
                    <a:avLst/>
                    <a:gdLst>
                      <a:gd name="textAreaLeft" fmla="*/ 0 w 49320"/>
                      <a:gd name="textAreaRight" fmla="*/ 49680 w 49320"/>
                      <a:gd name="textAreaTop" fmla="*/ 0 h 51120"/>
                      <a:gd name="textAreaBottom" fmla="*/ 51480 h 5112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ffffff"/>
                  </a:solidFill>
                  <a:ln w="12700">
                    <a:noFill/>
                  </a:ln>
                </p:spPr>
                <p:style>
                  <a:lnRef idx="0"/>
                  <a:fillRef idx="0"/>
                  <a:effectRef idx="0"/>
                  <a:fontRef idx="minor"/>
                </p:style>
                <p:txBody>
                  <a:bodyPr numCol="1" spcCol="0" lIns="45720" rIns="45720" tIns="25560" bIns="25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80" name="Shape 3320"/>
                  <p:cNvSpPr/>
                  <p:nvPr/>
                </p:nvSpPr>
                <p:spPr>
                  <a:xfrm>
                    <a:off x="6594480" y="4466520"/>
                    <a:ext cx="362160" cy="234720"/>
                  </a:xfrm>
                  <a:custGeom>
                    <a:avLst/>
                    <a:gdLst>
                      <a:gd name="textAreaLeft" fmla="*/ 0 w 362160"/>
                      <a:gd name="textAreaRight" fmla="*/ 362520 w 362160"/>
                      <a:gd name="textAreaTop" fmla="*/ 0 h 234720"/>
                      <a:gd name="textAreaBottom" fmla="*/ 235080 h 23472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81" name="Shape 3321"/>
                  <p:cNvSpPr/>
                  <p:nvPr/>
                </p:nvSpPr>
                <p:spPr>
                  <a:xfrm>
                    <a:off x="7735320" y="2857680"/>
                    <a:ext cx="443520" cy="541080"/>
                  </a:xfrm>
                  <a:custGeom>
                    <a:avLst/>
                    <a:gdLst>
                      <a:gd name="textAreaLeft" fmla="*/ 0 w 443520"/>
                      <a:gd name="textAreaRight" fmla="*/ 443880 w 443520"/>
                      <a:gd name="textAreaTop" fmla="*/ 0 h 541080"/>
                      <a:gd name="textAreaBottom" fmla="*/ 541440 h 54108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4"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82" name="Shape 3322"/>
                  <p:cNvSpPr/>
                  <p:nvPr/>
                </p:nvSpPr>
                <p:spPr>
                  <a:xfrm>
                    <a:off x="7984440" y="2697480"/>
                    <a:ext cx="302760" cy="303480"/>
                  </a:xfrm>
                  <a:custGeom>
                    <a:avLst/>
                    <a:gdLst>
                      <a:gd name="textAreaLeft" fmla="*/ 0 w 302760"/>
                      <a:gd name="textAreaRight" fmla="*/ 303120 w 302760"/>
                      <a:gd name="textAreaTop" fmla="*/ 0 h 303480"/>
                      <a:gd name="textAreaBottom" fmla="*/ 303840 h 30348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83" name="Shape 3323"/>
                  <p:cNvSpPr/>
                  <p:nvPr/>
                </p:nvSpPr>
                <p:spPr>
                  <a:xfrm>
                    <a:off x="9073800" y="3347640"/>
                    <a:ext cx="546840" cy="764280"/>
                  </a:xfrm>
                  <a:custGeom>
                    <a:avLst/>
                    <a:gdLst>
                      <a:gd name="textAreaLeft" fmla="*/ 0 w 546840"/>
                      <a:gd name="textAreaRight" fmla="*/ 547200 w 546840"/>
                      <a:gd name="textAreaTop" fmla="*/ 0 h 764280"/>
                      <a:gd name="textAreaBottom" fmla="*/ 764640 h 76428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5984" name="Shape 3324"/>
                  <p:cNvSpPr/>
                  <p:nvPr/>
                </p:nvSpPr>
                <p:spPr>
                  <a:xfrm>
                    <a:off x="7088760" y="4048560"/>
                    <a:ext cx="2437560" cy="2097000"/>
                  </a:xfrm>
                  <a:custGeom>
                    <a:avLst/>
                    <a:gdLst>
                      <a:gd name="textAreaLeft" fmla="*/ 0 w 2437560"/>
                      <a:gd name="textAreaRight" fmla="*/ 2437920 w 2437560"/>
                      <a:gd name="textAreaTop" fmla="*/ 0 h 2097000"/>
                      <a:gd name="textAreaBottom" fmla="*/ 2097360 h 209700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6"/>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6"/>
                          <a:pt x="12257" y="1626"/>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6"/>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7"/>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8"/>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fffff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grpSp>
      </p:grpSp>
      <p:sp>
        <p:nvSpPr>
          <p:cNvPr id="5985" name="PlaceHolder 1"/>
          <p:cNvSpPr>
            <a:spLocks noGrp="1"/>
          </p:cNvSpPr>
          <p:nvPr>
            <p:ph type="title"/>
          </p:nvPr>
        </p:nvSpPr>
        <p:spPr>
          <a:xfrm>
            <a:off x="16894800" y="1712160"/>
            <a:ext cx="7875000" cy="33246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World</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Map</a:t>
            </a:r>
            <a:endParaRPr b="0" lang="en-US" sz="11200" spc="-1" strike="noStrike">
              <a:solidFill>
                <a:srgbClr val="009193"/>
              </a:solidFill>
              <a:latin typeface="Helvetica Light"/>
            </a:endParaRPr>
          </a:p>
        </p:txBody>
      </p:sp>
      <p:sp>
        <p:nvSpPr>
          <p:cNvPr id="5986" name="Shape 3330"/>
          <p:cNvSpPr/>
          <p:nvPr/>
        </p:nvSpPr>
        <p:spPr>
          <a:xfrm>
            <a:off x="16894440" y="6057360"/>
            <a:ext cx="5461920" cy="250308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World Map</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White on Black</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Background</a:t>
            </a:r>
            <a:endParaRPr b="0" lang="en-US" sz="4800" spc="-1" strike="noStrike">
              <a:solidFill>
                <a:srgbClr val="000000"/>
              </a:solidFill>
              <a:latin typeface="Arial"/>
            </a:endParaRPr>
          </a:p>
        </p:txBody>
      </p:sp>
      <p:sp>
        <p:nvSpPr>
          <p:cNvPr id="5987" name="Shape 3331"/>
          <p:cNvSpPr/>
          <p:nvPr/>
        </p:nvSpPr>
        <p:spPr>
          <a:xfrm>
            <a:off x="16895160" y="9581400"/>
            <a:ext cx="5461200" cy="235476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lor sit amet, deras consto tetur sadicing elitromas. Sed diam dnie friad dru nonumy eirmod tempor in invidunt.</a:t>
            </a:r>
            <a:endParaRPr b="0" lang="en-US" sz="3000" spc="-1" strike="noStrike">
              <a:solidFill>
                <a:srgbClr val="000000"/>
              </a:solidFill>
              <a:latin typeface="Arial"/>
            </a:endParaRPr>
          </a:p>
        </p:txBody>
      </p:sp>
      <p:grpSp>
        <p:nvGrpSpPr>
          <p:cNvPr id="5988" name="Group 3334"/>
          <p:cNvGrpSpPr/>
          <p:nvPr/>
        </p:nvGrpSpPr>
        <p:grpSpPr>
          <a:xfrm>
            <a:off x="2035080" y="10527840"/>
            <a:ext cx="4827960" cy="1408320"/>
            <a:chOff x="2035080" y="10527840"/>
            <a:chExt cx="4827960" cy="1408320"/>
          </a:xfrm>
        </p:grpSpPr>
        <p:sp>
          <p:nvSpPr>
            <p:cNvPr id="5989" name="Shape 3332"/>
            <p:cNvSpPr/>
            <p:nvPr/>
          </p:nvSpPr>
          <p:spPr>
            <a:xfrm>
              <a:off x="2035080" y="10527840"/>
              <a:ext cx="4827960" cy="761760"/>
            </a:xfrm>
            <a:prstGeom prst="rect">
              <a:avLst/>
            </a:prstGeom>
            <a:noFill/>
            <a:ln w="12700">
              <a:noFill/>
            </a:ln>
          </p:spPr>
          <p:style>
            <a:lnRef idx="0"/>
            <a:fillRef idx="0"/>
            <a:effectRef idx="0"/>
            <a:fontRef idx="minor"/>
          </p:style>
          <p:txBody>
            <a:bodyPr numCol="1" spcCol="0" lIns="48600" rIns="48600" tIns="48600" bIns="48600" anchor="ctr">
              <a:noAutofit/>
            </a:bodyPr>
            <a:p>
              <a:pPr>
                <a:lnSpc>
                  <a:spcPct val="120000"/>
                </a:lnSpc>
                <a:spcBef>
                  <a:spcPts val="5899"/>
                </a:spcBef>
                <a:tabLst>
                  <a:tab algn="l" pos="0"/>
                </a:tabLst>
              </a:pPr>
              <a:r>
                <a:rPr b="0" lang="en-US" sz="3000" spc="148" strike="noStrike">
                  <a:solidFill>
                    <a:srgbClr val="ffffff"/>
                  </a:solidFill>
                  <a:latin typeface="Montserrat"/>
                  <a:ea typeface="Montserrat"/>
                </a:rPr>
                <a:t>68% GLOBAL</a:t>
              </a:r>
              <a:endParaRPr b="0" lang="en-US" sz="3000" spc="-1" strike="noStrike">
                <a:solidFill>
                  <a:srgbClr val="000000"/>
                </a:solidFill>
                <a:latin typeface="Arial"/>
              </a:endParaRPr>
            </a:p>
          </p:txBody>
        </p:sp>
        <p:sp>
          <p:nvSpPr>
            <p:cNvPr id="5990" name="Shape 3333"/>
            <p:cNvSpPr/>
            <p:nvPr/>
          </p:nvSpPr>
          <p:spPr>
            <a:xfrm>
              <a:off x="2035080" y="11289960"/>
              <a:ext cx="4825800" cy="646200"/>
            </a:xfrm>
            <a:prstGeom prst="rect">
              <a:avLst/>
            </a:prstGeom>
            <a:noFill/>
            <a:ln w="12700">
              <a:noFill/>
            </a:ln>
          </p:spPr>
          <p:style>
            <a:lnRef idx="0"/>
            <a:fillRef idx="0"/>
            <a:effectRef idx="0"/>
            <a:fontRef idx="minor"/>
          </p:style>
          <p:txBody>
            <a:bodyPr numCol="1" spcCol="0" lIns="48600" rIns="48600" tIns="48600" bIns="48600" anchor="ctr">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Fosduo dolores etoa jam.</a:t>
              </a:r>
              <a:endParaRPr b="0" lang="en-US" sz="3000" spc="-1" strike="noStrike">
                <a:solidFill>
                  <a:srgbClr val="000000"/>
                </a:solidFill>
                <a:latin typeface="Arial"/>
              </a:endParaRPr>
            </a:p>
          </p:txBody>
        </p:sp>
      </p:grpSp>
      <p:grpSp>
        <p:nvGrpSpPr>
          <p:cNvPr id="5991" name="Group 3337"/>
          <p:cNvGrpSpPr/>
          <p:nvPr/>
        </p:nvGrpSpPr>
        <p:grpSpPr>
          <a:xfrm>
            <a:off x="8892720" y="10527840"/>
            <a:ext cx="4827960" cy="1408320"/>
            <a:chOff x="8892720" y="10527840"/>
            <a:chExt cx="4827960" cy="1408320"/>
          </a:xfrm>
        </p:grpSpPr>
        <p:sp>
          <p:nvSpPr>
            <p:cNvPr id="5992" name="Shape 3335"/>
            <p:cNvSpPr/>
            <p:nvPr/>
          </p:nvSpPr>
          <p:spPr>
            <a:xfrm>
              <a:off x="8892720" y="10527840"/>
              <a:ext cx="4827960" cy="761760"/>
            </a:xfrm>
            <a:prstGeom prst="rect">
              <a:avLst/>
            </a:prstGeom>
            <a:noFill/>
            <a:ln w="12700">
              <a:noFill/>
            </a:ln>
          </p:spPr>
          <p:style>
            <a:lnRef idx="0"/>
            <a:fillRef idx="0"/>
            <a:effectRef idx="0"/>
            <a:fontRef idx="minor"/>
          </p:style>
          <p:txBody>
            <a:bodyPr numCol="1" spcCol="0" lIns="48600" rIns="48600" tIns="48600" bIns="48600" anchor="ctr">
              <a:noAutofit/>
            </a:bodyPr>
            <a:p>
              <a:pPr>
                <a:lnSpc>
                  <a:spcPct val="120000"/>
                </a:lnSpc>
                <a:spcBef>
                  <a:spcPts val="5899"/>
                </a:spcBef>
                <a:tabLst>
                  <a:tab algn="l" pos="0"/>
                </a:tabLst>
              </a:pPr>
              <a:r>
                <a:rPr b="0" lang="en-US" sz="3000" spc="148" strike="noStrike">
                  <a:solidFill>
                    <a:srgbClr val="ffffff"/>
                  </a:solidFill>
                  <a:latin typeface="Montserrat"/>
                  <a:ea typeface="Montserrat"/>
                </a:rPr>
                <a:t>$ 827M IN 2015</a:t>
              </a:r>
              <a:endParaRPr b="0" lang="en-US" sz="3000" spc="-1" strike="noStrike">
                <a:solidFill>
                  <a:srgbClr val="000000"/>
                </a:solidFill>
                <a:latin typeface="Arial"/>
              </a:endParaRPr>
            </a:p>
          </p:txBody>
        </p:sp>
        <p:sp>
          <p:nvSpPr>
            <p:cNvPr id="5993" name="Shape 3336"/>
            <p:cNvSpPr/>
            <p:nvPr/>
          </p:nvSpPr>
          <p:spPr>
            <a:xfrm>
              <a:off x="8892720" y="11289960"/>
              <a:ext cx="4825800" cy="646200"/>
            </a:xfrm>
            <a:prstGeom prst="rect">
              <a:avLst/>
            </a:prstGeom>
            <a:noFill/>
            <a:ln w="12700">
              <a:noFill/>
            </a:ln>
          </p:spPr>
          <p:style>
            <a:lnRef idx="0"/>
            <a:fillRef idx="0"/>
            <a:effectRef idx="0"/>
            <a:fontRef idx="minor"/>
          </p:style>
          <p:txBody>
            <a:bodyPr numCol="1" spcCol="0" lIns="48600" rIns="48600" tIns="48600" bIns="48600" anchor="ctr">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Rebur steto clita kuasd.</a:t>
              </a:r>
              <a:endParaRPr b="0" lang="en-US" sz="3000" spc="-1" strike="noStrike">
                <a:solidFill>
                  <a:srgbClr val="000000"/>
                </a:solidFill>
                <a:latin typeface="Arial"/>
              </a:endParaRPr>
            </a:p>
          </p:txBody>
        </p:sp>
      </p:grpSp>
      <p:sp>
        <p:nvSpPr>
          <p:cNvPr id="5994" name="PlaceHolder 2"/>
          <p:cNvSpPr>
            <a:spLocks noGrp="1"/>
          </p:cNvSpPr>
          <p:nvPr>
            <p:ph type="sldNum" idx="124"/>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CA1A6409-4363-4BCB-84CB-1A656C5FDBA6}"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5" name="Shape 3341"/>
          <p:cNvSpPr/>
          <p:nvPr/>
        </p:nvSpPr>
        <p:spPr>
          <a:xfrm>
            <a:off x="2031840" y="1714680"/>
            <a:ext cx="8127720" cy="340200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ffffff"/>
                </a:solidFill>
                <a:latin typeface="Montserrat Semi Bold"/>
                <a:ea typeface="Montserrat Semi Bold"/>
              </a:rPr>
              <a:t>Get in </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ffffff"/>
                </a:solidFill>
                <a:latin typeface="Montserrat Semi Bold"/>
                <a:ea typeface="Montserrat Semi Bold"/>
              </a:rPr>
              <a:t>touch.</a:t>
            </a:r>
            <a:endParaRPr b="0" lang="en-US" sz="11200" spc="-1" strike="noStrike">
              <a:solidFill>
                <a:srgbClr val="000000"/>
              </a:solidFill>
              <a:latin typeface="Arial"/>
            </a:endParaRPr>
          </a:p>
        </p:txBody>
      </p:sp>
      <p:sp>
        <p:nvSpPr>
          <p:cNvPr id="5996" name="Shape 3342"/>
          <p:cNvSpPr/>
          <p:nvPr/>
        </p:nvSpPr>
        <p:spPr>
          <a:xfrm>
            <a:off x="13211640" y="1835280"/>
            <a:ext cx="9145080" cy="16552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ffffff"/>
                </a:solidFill>
                <a:latin typeface="Montserrat"/>
                <a:ea typeface="Montserrat"/>
              </a:rPr>
              <a:t>Froada osa mago ona leso damer prier drus ersade.</a:t>
            </a:r>
            <a:endParaRPr b="0" lang="en-US" sz="4800" spc="-1" strike="noStrike">
              <a:solidFill>
                <a:srgbClr val="000000"/>
              </a:solidFill>
              <a:latin typeface="Arial"/>
            </a:endParaRPr>
          </a:p>
        </p:txBody>
      </p:sp>
      <p:grpSp>
        <p:nvGrpSpPr>
          <p:cNvPr id="5997" name="Group 3346"/>
          <p:cNvGrpSpPr/>
          <p:nvPr/>
        </p:nvGrpSpPr>
        <p:grpSpPr>
          <a:xfrm>
            <a:off x="9777960" y="8606880"/>
            <a:ext cx="4827960" cy="3389040"/>
            <a:chOff x="9777960" y="8606880"/>
            <a:chExt cx="4827960" cy="3389040"/>
          </a:xfrm>
        </p:grpSpPr>
        <p:sp>
          <p:nvSpPr>
            <p:cNvPr id="5998" name="Shape 3343"/>
            <p:cNvSpPr/>
            <p:nvPr/>
          </p:nvSpPr>
          <p:spPr>
            <a:xfrm>
              <a:off x="9777960" y="11043720"/>
              <a:ext cx="4827960" cy="952200"/>
            </a:xfrm>
            <a:prstGeom prst="rect">
              <a:avLst/>
            </a:prstGeom>
            <a:noFill/>
            <a:ln w="12700">
              <a:noFill/>
            </a:ln>
          </p:spPr>
          <p:style>
            <a:lnRef idx="0"/>
            <a:fillRef idx="0"/>
            <a:effectRef idx="0"/>
            <a:fontRef idx="minor"/>
          </p:style>
          <p:txBody>
            <a:bodyPr numCol="1" spcCol="0"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contact@company.com</a:t>
              </a:r>
              <a:endParaRPr b="0" lang="en-US" sz="3000" spc="-1" strike="noStrike">
                <a:solidFill>
                  <a:srgbClr val="000000"/>
                </a:solidFill>
                <a:latin typeface="Arial"/>
              </a:endParaRPr>
            </a:p>
          </p:txBody>
        </p:sp>
        <p:sp>
          <p:nvSpPr>
            <p:cNvPr id="5999" name="Shape 3344"/>
            <p:cNvSpPr/>
            <p:nvPr/>
          </p:nvSpPr>
          <p:spPr>
            <a:xfrm>
              <a:off x="9777960" y="10154520"/>
              <a:ext cx="4827960" cy="761760"/>
            </a:xfrm>
            <a:prstGeom prst="rect">
              <a:avLst/>
            </a:prstGeom>
            <a:noFill/>
            <a:ln w="12700">
              <a:noFill/>
            </a:ln>
          </p:spPr>
          <p:style>
            <a:lnRef idx="0"/>
            <a:fillRef idx="0"/>
            <a:effectRef idx="0"/>
            <a:fontRef idx="minor"/>
          </p:style>
          <p:txBody>
            <a:bodyPr numCol="1" spcCol="0" lIns="48600" rIns="48600" tIns="48600" bIns="48600" anchor="t">
              <a:noAutofit/>
            </a:bodyPr>
            <a:p>
              <a:pPr algn="ctr">
                <a:lnSpc>
                  <a:spcPct val="120000"/>
                </a:lnSpc>
                <a:tabLst>
                  <a:tab algn="l" pos="0"/>
                </a:tabLst>
              </a:pPr>
              <a:r>
                <a:rPr b="0" lang="en-US" sz="4800" spc="-1" strike="noStrike">
                  <a:solidFill>
                    <a:srgbClr val="212121"/>
                  </a:solidFill>
                  <a:latin typeface="Montserrat"/>
                  <a:ea typeface="Montserrat"/>
                </a:rPr>
                <a:t>Email</a:t>
              </a:r>
              <a:endParaRPr b="0" lang="en-US" sz="4800" spc="-1" strike="noStrike">
                <a:solidFill>
                  <a:srgbClr val="000000"/>
                </a:solidFill>
                <a:latin typeface="Arial"/>
              </a:endParaRPr>
            </a:p>
          </p:txBody>
        </p:sp>
        <p:sp>
          <p:nvSpPr>
            <p:cNvPr id="6000" name="Shape 3345"/>
            <p:cNvSpPr/>
            <p:nvPr/>
          </p:nvSpPr>
          <p:spPr>
            <a:xfrm>
              <a:off x="11785680" y="8606880"/>
              <a:ext cx="812520" cy="812520"/>
            </a:xfrm>
            <a:prstGeom prst="rect">
              <a:avLst/>
            </a:prstGeom>
            <a:noFill/>
            <a:ln w="12700">
              <a:noFill/>
            </a:ln>
          </p:spPr>
          <p:style>
            <a:lnRef idx="0"/>
            <a:fillRef idx="0"/>
            <a:effectRef idx="0"/>
            <a:fontRef idx="minor"/>
          </p:style>
          <p:txBody>
            <a:bodyPr numCol="1" spcCol="0" lIns="0" rIns="0" tIns="0" bIns="0" anchor="ctr">
              <a:no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grpSp>
      <p:grpSp>
        <p:nvGrpSpPr>
          <p:cNvPr id="6001" name="Group 3350"/>
          <p:cNvGrpSpPr/>
          <p:nvPr/>
        </p:nvGrpSpPr>
        <p:grpSpPr>
          <a:xfrm>
            <a:off x="2031840" y="8606880"/>
            <a:ext cx="4827960" cy="3389040"/>
            <a:chOff x="2031840" y="8606880"/>
            <a:chExt cx="4827960" cy="3389040"/>
          </a:xfrm>
        </p:grpSpPr>
        <p:sp>
          <p:nvSpPr>
            <p:cNvPr id="6002" name="Shape 3347"/>
            <p:cNvSpPr/>
            <p:nvPr/>
          </p:nvSpPr>
          <p:spPr>
            <a:xfrm>
              <a:off x="2031840" y="10726200"/>
              <a:ext cx="4827960" cy="1269720"/>
            </a:xfrm>
            <a:prstGeom prst="rect">
              <a:avLst/>
            </a:prstGeom>
            <a:noFill/>
            <a:ln w="12700">
              <a:noFill/>
            </a:ln>
          </p:spPr>
          <p:style>
            <a:lnRef idx="0"/>
            <a:fillRef idx="0"/>
            <a:effectRef idx="0"/>
            <a:fontRef idx="minor"/>
          </p:style>
          <p:txBody>
            <a:bodyPr numCol="1" spcCol="0"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New York, Manhattan 4423 - Main  Building</a:t>
              </a:r>
              <a:endParaRPr b="0" lang="en-US" sz="3000" spc="-1" strike="noStrike">
                <a:solidFill>
                  <a:srgbClr val="000000"/>
                </a:solidFill>
                <a:latin typeface="Arial"/>
              </a:endParaRPr>
            </a:p>
          </p:txBody>
        </p:sp>
        <p:sp>
          <p:nvSpPr>
            <p:cNvPr id="6003" name="Shape 3348"/>
            <p:cNvSpPr/>
            <p:nvPr/>
          </p:nvSpPr>
          <p:spPr>
            <a:xfrm>
              <a:off x="2031840" y="9837000"/>
              <a:ext cx="4827960" cy="761760"/>
            </a:xfrm>
            <a:prstGeom prst="rect">
              <a:avLst/>
            </a:prstGeom>
            <a:noFill/>
            <a:ln w="12700">
              <a:noFill/>
            </a:ln>
          </p:spPr>
          <p:style>
            <a:lnRef idx="0"/>
            <a:fillRef idx="0"/>
            <a:effectRef idx="0"/>
            <a:fontRef idx="minor"/>
          </p:style>
          <p:txBody>
            <a:bodyPr numCol="1" spcCol="0" lIns="48600" rIns="48600" tIns="48600" bIns="48600" anchor="t">
              <a:noAutofit/>
            </a:bodyPr>
            <a:p>
              <a:pPr algn="ctr">
                <a:lnSpc>
                  <a:spcPct val="120000"/>
                </a:lnSpc>
                <a:tabLst>
                  <a:tab algn="l" pos="0"/>
                </a:tabLst>
              </a:pPr>
              <a:r>
                <a:rPr b="0" lang="en-US" sz="4800" spc="-1" strike="noStrike">
                  <a:solidFill>
                    <a:srgbClr val="212121"/>
                  </a:solidFill>
                  <a:latin typeface="Montserrat"/>
                  <a:ea typeface="Montserrat"/>
                </a:rPr>
                <a:t>Address</a:t>
              </a:r>
              <a:endParaRPr b="0" lang="en-US" sz="4800" spc="-1" strike="noStrike">
                <a:solidFill>
                  <a:srgbClr val="000000"/>
                </a:solidFill>
                <a:latin typeface="Arial"/>
              </a:endParaRPr>
            </a:p>
          </p:txBody>
        </p:sp>
        <p:sp>
          <p:nvSpPr>
            <p:cNvPr id="6004" name="Shape 3349"/>
            <p:cNvSpPr/>
            <p:nvPr/>
          </p:nvSpPr>
          <p:spPr>
            <a:xfrm>
              <a:off x="4039560" y="8606880"/>
              <a:ext cx="812520" cy="812520"/>
            </a:xfrm>
            <a:prstGeom prst="rect">
              <a:avLst/>
            </a:prstGeom>
            <a:noFill/>
            <a:ln w="12700">
              <a:noFill/>
            </a:ln>
          </p:spPr>
          <p:style>
            <a:lnRef idx="0"/>
            <a:fillRef idx="0"/>
            <a:effectRef idx="0"/>
            <a:fontRef idx="minor"/>
          </p:style>
          <p:txBody>
            <a:bodyPr numCol="1" spcCol="0" lIns="0" rIns="0" tIns="0" bIns="0" anchor="ctr">
              <a:no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grpSp>
      <p:grpSp>
        <p:nvGrpSpPr>
          <p:cNvPr id="6005" name="Group 3354"/>
          <p:cNvGrpSpPr/>
          <p:nvPr/>
        </p:nvGrpSpPr>
        <p:grpSpPr>
          <a:xfrm>
            <a:off x="17528760" y="8553960"/>
            <a:ext cx="4827960" cy="3423600"/>
            <a:chOff x="17528760" y="8553960"/>
            <a:chExt cx="4827960" cy="3423600"/>
          </a:xfrm>
        </p:grpSpPr>
        <p:sp>
          <p:nvSpPr>
            <p:cNvPr id="6006" name="Shape 3351"/>
            <p:cNvSpPr/>
            <p:nvPr/>
          </p:nvSpPr>
          <p:spPr>
            <a:xfrm>
              <a:off x="17528760" y="10707840"/>
              <a:ext cx="4827960" cy="1269720"/>
            </a:xfrm>
            <a:prstGeom prst="rect">
              <a:avLst/>
            </a:prstGeom>
            <a:noFill/>
            <a:ln w="12700">
              <a:noFill/>
            </a:ln>
          </p:spPr>
          <p:style>
            <a:lnRef idx="0"/>
            <a:fillRef idx="0"/>
            <a:effectRef idx="0"/>
            <a:fontRef idx="minor"/>
          </p:style>
          <p:txBody>
            <a:bodyPr numCol="1" spcCol="0"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423 - 123456789 00 Support: 423 - 1234 123 </a:t>
              </a:r>
              <a:endParaRPr b="0" lang="en-US" sz="3000" spc="-1" strike="noStrike">
                <a:solidFill>
                  <a:srgbClr val="000000"/>
                </a:solidFill>
                <a:latin typeface="Arial"/>
              </a:endParaRPr>
            </a:p>
          </p:txBody>
        </p:sp>
        <p:sp>
          <p:nvSpPr>
            <p:cNvPr id="6007" name="Shape 3352"/>
            <p:cNvSpPr/>
            <p:nvPr/>
          </p:nvSpPr>
          <p:spPr>
            <a:xfrm>
              <a:off x="17528760" y="9819000"/>
              <a:ext cx="4827960" cy="761760"/>
            </a:xfrm>
            <a:prstGeom prst="rect">
              <a:avLst/>
            </a:prstGeom>
            <a:noFill/>
            <a:ln w="12700">
              <a:noFill/>
            </a:ln>
          </p:spPr>
          <p:style>
            <a:lnRef idx="0"/>
            <a:fillRef idx="0"/>
            <a:effectRef idx="0"/>
            <a:fontRef idx="minor"/>
          </p:style>
          <p:txBody>
            <a:bodyPr numCol="1" spcCol="0" lIns="48600" rIns="48600" tIns="48600" bIns="48600" anchor="t">
              <a:noAutofit/>
            </a:bodyPr>
            <a:p>
              <a:pPr algn="ctr">
                <a:lnSpc>
                  <a:spcPct val="120000"/>
                </a:lnSpc>
                <a:tabLst>
                  <a:tab algn="l" pos="0"/>
                </a:tabLst>
              </a:pPr>
              <a:r>
                <a:rPr b="0" lang="en-US" sz="4800" spc="-1" strike="noStrike">
                  <a:solidFill>
                    <a:srgbClr val="212121"/>
                  </a:solidFill>
                  <a:latin typeface="Montserrat"/>
                  <a:ea typeface="Montserrat"/>
                </a:rPr>
                <a:t>Phone</a:t>
              </a:r>
              <a:endParaRPr b="0" lang="en-US" sz="4800" spc="-1" strike="noStrike">
                <a:solidFill>
                  <a:srgbClr val="000000"/>
                </a:solidFill>
                <a:latin typeface="Arial"/>
              </a:endParaRPr>
            </a:p>
          </p:txBody>
        </p:sp>
        <p:sp>
          <p:nvSpPr>
            <p:cNvPr id="6008" name="Shape 3353"/>
            <p:cNvSpPr/>
            <p:nvPr/>
          </p:nvSpPr>
          <p:spPr>
            <a:xfrm>
              <a:off x="19536480" y="8553960"/>
              <a:ext cx="812520" cy="812520"/>
            </a:xfrm>
            <a:prstGeom prst="rect">
              <a:avLst/>
            </a:prstGeom>
            <a:noFill/>
            <a:ln w="12700">
              <a:noFill/>
            </a:ln>
          </p:spPr>
          <p:style>
            <a:lnRef idx="0"/>
            <a:fillRef idx="0"/>
            <a:effectRef idx="0"/>
            <a:fontRef idx="minor"/>
          </p:style>
          <p:txBody>
            <a:bodyPr numCol="1" spcCol="0" lIns="0" rIns="0" tIns="0" bIns="0" anchor="ctr">
              <a:no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009" name="Group 3365"/>
          <p:cNvGrpSpPr/>
          <p:nvPr/>
        </p:nvGrpSpPr>
        <p:grpSpPr>
          <a:xfrm>
            <a:off x="15244920" y="7807680"/>
            <a:ext cx="7111800" cy="4128480"/>
            <a:chOff x="15244920" y="7807680"/>
            <a:chExt cx="7111800" cy="4128480"/>
          </a:xfrm>
        </p:grpSpPr>
        <p:sp>
          <p:nvSpPr>
            <p:cNvPr id="6010" name="Shape 3356"/>
            <p:cNvSpPr/>
            <p:nvPr/>
          </p:nvSpPr>
          <p:spPr>
            <a:xfrm>
              <a:off x="15892920" y="7827840"/>
              <a:ext cx="5788080" cy="3920040"/>
            </a:xfrm>
            <a:custGeom>
              <a:avLst/>
              <a:gdLst>
                <a:gd name="textAreaLeft" fmla="*/ 0 w 5788080"/>
                <a:gd name="textAreaRight" fmla="*/ 5788440 w 5788080"/>
                <a:gd name="textAreaTop" fmla="*/ 0 h 3920040"/>
                <a:gd name="textAreaBottom" fmla="*/ 3920400 h 392004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11" name="Shape 3357"/>
            <p:cNvSpPr/>
            <p:nvPr/>
          </p:nvSpPr>
          <p:spPr>
            <a:xfrm>
              <a:off x="15880680" y="7807680"/>
              <a:ext cx="5811840" cy="3954240"/>
            </a:xfrm>
            <a:custGeom>
              <a:avLst/>
              <a:gdLst>
                <a:gd name="textAreaLeft" fmla="*/ 0 w 5811840"/>
                <a:gd name="textAreaRight" fmla="*/ 5812200 w 5811840"/>
                <a:gd name="textAreaTop" fmla="*/ 0 h 3954240"/>
                <a:gd name="textAreaBottom" fmla="*/ 3954600 h 395424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b4b3b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12" name="Shape 3358"/>
            <p:cNvSpPr/>
            <p:nvPr/>
          </p:nvSpPr>
          <p:spPr>
            <a:xfrm>
              <a:off x="15910920" y="7847640"/>
              <a:ext cx="5751360" cy="3806640"/>
            </a:xfrm>
            <a:custGeom>
              <a:avLst/>
              <a:gdLst>
                <a:gd name="textAreaLeft" fmla="*/ 0 w 5751360"/>
                <a:gd name="textAreaRight" fmla="*/ 5751720 w 5751360"/>
                <a:gd name="textAreaTop" fmla="*/ 0 h 3806640"/>
                <a:gd name="textAreaBottom" fmla="*/ 3807000 h 380664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13" name="Shape 3359"/>
            <p:cNvSpPr/>
            <p:nvPr/>
          </p:nvSpPr>
          <p:spPr>
            <a:xfrm>
              <a:off x="16094160" y="8096760"/>
              <a:ext cx="5383440" cy="3391920"/>
            </a:xfrm>
            <a:custGeom>
              <a:avLst/>
              <a:gdLst>
                <a:gd name="textAreaLeft" fmla="*/ 0 w 5383440"/>
                <a:gd name="textAreaRight" fmla="*/ 5383800 w 5383440"/>
                <a:gd name="textAreaTop" fmla="*/ 0 h 3391920"/>
                <a:gd name="textAreaBottom" fmla="*/ 3392280 h 339192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14" name="Shape 3360"/>
            <p:cNvSpPr/>
            <p:nvPr/>
          </p:nvSpPr>
          <p:spPr>
            <a:xfrm>
              <a:off x="18765360" y="7987320"/>
              <a:ext cx="45000" cy="45000"/>
            </a:xfrm>
            <a:custGeom>
              <a:avLst/>
              <a:gdLst>
                <a:gd name="textAreaLeft" fmla="*/ 0 w 45000"/>
                <a:gd name="textAreaRight" fmla="*/ 45360 w 45000"/>
                <a:gd name="textAreaTop" fmla="*/ 0 h 45000"/>
                <a:gd name="textAreaBottom" fmla="*/ 45360 h 4500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12700">
              <a:noFill/>
            </a:ln>
          </p:spPr>
          <p:style>
            <a:lnRef idx="0"/>
            <a:fillRef idx="0"/>
            <a:effectRef idx="0"/>
            <a:fontRef idx="minor"/>
          </p:style>
          <p:txBody>
            <a:bodyPr numCol="1" spcCol="0" lIns="45720" rIns="45720" tIns="22680" bIns="22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15" name="Shape 3361"/>
            <p:cNvSpPr/>
            <p:nvPr/>
          </p:nvSpPr>
          <p:spPr>
            <a:xfrm>
              <a:off x="18765360" y="7988040"/>
              <a:ext cx="34920" cy="34200"/>
            </a:xfrm>
            <a:custGeom>
              <a:avLst/>
              <a:gdLst>
                <a:gd name="textAreaLeft" fmla="*/ 0 w 34920"/>
                <a:gd name="textAreaRight" fmla="*/ 35280 w 34920"/>
                <a:gd name="textAreaTop" fmla="*/ 0 h 34200"/>
                <a:gd name="textAreaBottom" fmla="*/ 34560 h 3420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12700">
              <a:noFill/>
            </a:ln>
          </p:spPr>
          <p:style>
            <a:lnRef idx="0"/>
            <a:fillRef idx="0"/>
            <a:effectRef idx="0"/>
            <a:fontRef idx="minor"/>
          </p:style>
          <p:txBody>
            <a:bodyPr numCol="1" spcCol="0" lIns="45720" rIns="45720" tIns="17280" bIns="17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16" name="Shape 3362"/>
            <p:cNvSpPr/>
            <p:nvPr/>
          </p:nvSpPr>
          <p:spPr>
            <a:xfrm>
              <a:off x="15245280" y="11841120"/>
              <a:ext cx="7111080" cy="95040"/>
            </a:xfrm>
            <a:custGeom>
              <a:avLst/>
              <a:gdLst>
                <a:gd name="textAreaLeft" fmla="*/ 0 w 7111080"/>
                <a:gd name="textAreaRight" fmla="*/ 7111440 w 7111080"/>
                <a:gd name="textAreaTop" fmla="*/ 0 h 95040"/>
                <a:gd name="textAreaBottom" fmla="*/ 95400 h 9504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solidFill>
              <a:srgbClr val="afba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17" name="Shape 3363"/>
            <p:cNvSpPr/>
            <p:nvPr/>
          </p:nvSpPr>
          <p:spPr>
            <a:xfrm>
              <a:off x="15244920" y="11730600"/>
              <a:ext cx="7111800" cy="112680"/>
            </a:xfrm>
            <a:custGeom>
              <a:avLst/>
              <a:gdLst>
                <a:gd name="textAreaLeft" fmla="*/ 0 w 7111800"/>
                <a:gd name="textAreaRight" fmla="*/ 7112160 w 7111800"/>
                <a:gd name="textAreaTop" fmla="*/ 0 h 112680"/>
                <a:gd name="textAreaBottom" fmla="*/ 113040 h 112680"/>
              </a:gdLst>
              <a:ahLst/>
              <a:rect l="textAreaLeft" t="textAreaTop" r="textAreaRight" b="textAreaBottom"/>
              <a:pathLst>
                <a:path w="21600" h="21600">
                  <a:moveTo>
                    <a:pt x="21597" y="21600"/>
                  </a:moveTo>
                  <a:lnTo>
                    <a:pt x="4" y="21600"/>
                  </a:lnTo>
                  <a:cubicBezTo>
                    <a:pt x="0" y="21600"/>
                    <a:pt x="0" y="21600"/>
                    <a:pt x="0" y="21429"/>
                  </a:cubicBezTo>
                  <a:lnTo>
                    <a:pt x="0" y="3600"/>
                  </a:lnTo>
                  <a:cubicBezTo>
                    <a:pt x="0" y="1629"/>
                    <a:pt x="26" y="0"/>
                    <a:pt x="58" y="0"/>
                  </a:cubicBezTo>
                  <a:lnTo>
                    <a:pt x="21542" y="0"/>
                  </a:lnTo>
                  <a:cubicBezTo>
                    <a:pt x="21574" y="0"/>
                    <a:pt x="21600" y="1629"/>
                    <a:pt x="21600" y="3600"/>
                  </a:cubicBezTo>
                  <a:cubicBezTo>
                    <a:pt x="21600" y="3600"/>
                    <a:pt x="21600" y="21600"/>
                    <a:pt x="21597" y="21600"/>
                  </a:cubicBezTo>
                </a:path>
              </a:pathLst>
            </a:custGeom>
            <a:solidFill>
              <a:srgbClr val="e7e7e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18" name="Shape 3364"/>
            <p:cNvSpPr/>
            <p:nvPr/>
          </p:nvSpPr>
          <p:spPr>
            <a:xfrm>
              <a:off x="18316800" y="11730600"/>
              <a:ext cx="965880" cy="56880"/>
            </a:xfrm>
            <a:custGeom>
              <a:avLst/>
              <a:gdLst>
                <a:gd name="textAreaLeft" fmla="*/ 0 w 965880"/>
                <a:gd name="textAreaRight" fmla="*/ 966240 w 965880"/>
                <a:gd name="textAreaTop" fmla="*/ 0 h 56880"/>
                <a:gd name="textAreaBottom" fmla="*/ 57240 h 5688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solidFill>
              <a:srgbClr val="afbac0"/>
            </a:solidFill>
            <a:ln w="12700">
              <a:noFill/>
            </a:ln>
          </p:spPr>
          <p:style>
            <a:lnRef idx="0"/>
            <a:fillRef idx="0"/>
            <a:effectRef idx="0"/>
            <a:fontRef idx="minor"/>
          </p:style>
          <p:txBody>
            <a:bodyPr numCol="1" spcCol="0" lIns="45720" rIns="45720" tIns="28440" bIns="2844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019" name="Group 3372"/>
          <p:cNvGrpSpPr/>
          <p:nvPr/>
        </p:nvGrpSpPr>
        <p:grpSpPr>
          <a:xfrm>
            <a:off x="11177280" y="9652320"/>
            <a:ext cx="1266480" cy="2283840"/>
            <a:chOff x="11177280" y="9652320"/>
            <a:chExt cx="1266480" cy="2283840"/>
          </a:xfrm>
        </p:grpSpPr>
        <p:sp>
          <p:nvSpPr>
            <p:cNvPr id="6020" name="Shape 3366"/>
            <p:cNvSpPr/>
            <p:nvPr/>
          </p:nvSpPr>
          <p:spPr>
            <a:xfrm>
              <a:off x="12350880" y="10421280"/>
              <a:ext cx="92880" cy="240840"/>
            </a:xfrm>
            <a:custGeom>
              <a:avLst/>
              <a:gdLst>
                <a:gd name="textAreaLeft" fmla="*/ 0 w 92880"/>
                <a:gd name="textAreaRight" fmla="*/ 93240 w 92880"/>
                <a:gd name="textAreaTop" fmla="*/ 0 h 240840"/>
                <a:gd name="textAreaBottom" fmla="*/ 241200 h 240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6021" name="Shape 3367"/>
            <p:cNvSpPr/>
            <p:nvPr/>
          </p:nvSpPr>
          <p:spPr>
            <a:xfrm>
              <a:off x="12371760" y="10834560"/>
              <a:ext cx="36720" cy="360720"/>
            </a:xfrm>
            <a:custGeom>
              <a:avLst/>
              <a:gdLst>
                <a:gd name="textAreaLeft" fmla="*/ 0 w 36720"/>
                <a:gd name="textAreaRight" fmla="*/ 37080 w 36720"/>
                <a:gd name="textAreaTop" fmla="*/ 0 h 360720"/>
                <a:gd name="textAreaBottom" fmla="*/ 361080 h 360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22" name="Shape 3368"/>
            <p:cNvSpPr/>
            <p:nvPr/>
          </p:nvSpPr>
          <p:spPr>
            <a:xfrm>
              <a:off x="11299680" y="11466000"/>
              <a:ext cx="961560" cy="470160"/>
            </a:xfrm>
            <a:custGeom>
              <a:avLst/>
              <a:gdLst>
                <a:gd name="textAreaLeft" fmla="*/ 0 w 961560"/>
                <a:gd name="textAreaRight" fmla="*/ 961920 w 961560"/>
                <a:gd name="textAreaTop" fmla="*/ 0 h 470160"/>
                <a:gd name="textAreaBottom" fmla="*/ 470520 h 47016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4450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23" name="Shape 3369"/>
            <p:cNvSpPr/>
            <p:nvPr/>
          </p:nvSpPr>
          <p:spPr>
            <a:xfrm>
              <a:off x="11299680" y="9652320"/>
              <a:ext cx="961560" cy="469800"/>
            </a:xfrm>
            <a:custGeom>
              <a:avLst/>
              <a:gdLst>
                <a:gd name="textAreaLeft" fmla="*/ 0 w 961560"/>
                <a:gd name="textAreaRight" fmla="*/ 961920 w 961560"/>
                <a:gd name="textAreaTop" fmla="*/ 0 h 469800"/>
                <a:gd name="textAreaBottom" fmla="*/ 470160 h 46980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4450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24" name="Shape 3370"/>
            <p:cNvSpPr/>
            <p:nvPr/>
          </p:nvSpPr>
          <p:spPr>
            <a:xfrm>
              <a:off x="11177280" y="10086480"/>
              <a:ext cx="1206360" cy="1423080"/>
            </a:xfrm>
            <a:custGeom>
              <a:avLst/>
              <a:gdLst>
                <a:gd name="textAreaLeft" fmla="*/ 0 w 1206360"/>
                <a:gd name="textAreaRight" fmla="*/ 1206720 w 1206360"/>
                <a:gd name="textAreaTop" fmla="*/ 0 h 1423080"/>
                <a:gd name="textAreaBottom" fmla="*/ 1423440 h 1423080"/>
              </a:gdLst>
              <a:ahLst/>
              <a:rect l="textAreaLeft" t="textAreaTop" r="textAreaRight" b="textAreaBottom"/>
              <a:pathLst>
                <a:path w="21553" h="21560">
                  <a:moveTo>
                    <a:pt x="17154" y="21560"/>
                  </a:moveTo>
                  <a:lnTo>
                    <a:pt x="4267" y="21511"/>
                  </a:lnTo>
                  <a:cubicBezTo>
                    <a:pt x="1893" y="21495"/>
                    <a:pt x="-19" y="19844"/>
                    <a:pt x="0" y="17778"/>
                  </a:cubicBezTo>
                  <a:lnTo>
                    <a:pt x="75" y="3684"/>
                  </a:lnTo>
                  <a:cubicBezTo>
                    <a:pt x="94" y="1635"/>
                    <a:pt x="2016" y="-16"/>
                    <a:pt x="4408" y="0"/>
                  </a:cubicBezTo>
                  <a:lnTo>
                    <a:pt x="17285" y="49"/>
                  </a:lnTo>
                  <a:cubicBezTo>
                    <a:pt x="19659" y="65"/>
                    <a:pt x="21581" y="1724"/>
                    <a:pt x="21553" y="3790"/>
                  </a:cubicBezTo>
                  <a:lnTo>
                    <a:pt x="21477" y="17876"/>
                  </a:lnTo>
                  <a:cubicBezTo>
                    <a:pt x="21459" y="19925"/>
                    <a:pt x="19518" y="21584"/>
                    <a:pt x="17154" y="2156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25" name="Shape 3371"/>
            <p:cNvSpPr/>
            <p:nvPr/>
          </p:nvSpPr>
          <p:spPr>
            <a:xfrm>
              <a:off x="11228760" y="10144080"/>
              <a:ext cx="1103400" cy="1307880"/>
            </a:xfrm>
            <a:custGeom>
              <a:avLst/>
              <a:gdLst>
                <a:gd name="textAreaLeft" fmla="*/ 0 w 1103400"/>
                <a:gd name="textAreaRight" fmla="*/ 1103760 w 1103400"/>
                <a:gd name="textAreaTop" fmla="*/ 0 h 1307880"/>
                <a:gd name="textAreaBottom" fmla="*/ 1308240 h 1307880"/>
              </a:gdLst>
              <a:ahLst/>
              <a:rect l="textAreaLeft" t="textAreaTop" r="textAreaRight" b="textAreaBottom"/>
              <a:pathLst>
                <a:path w="21559" h="21583">
                  <a:moveTo>
                    <a:pt x="18125" y="21583"/>
                  </a:moveTo>
                  <a:lnTo>
                    <a:pt x="3308" y="21530"/>
                  </a:lnTo>
                  <a:cubicBezTo>
                    <a:pt x="1471" y="21530"/>
                    <a:pt x="-21" y="20256"/>
                    <a:pt x="0" y="18709"/>
                  </a:cubicBezTo>
                  <a:lnTo>
                    <a:pt x="83" y="2786"/>
                  </a:lnTo>
                  <a:cubicBezTo>
                    <a:pt x="83" y="1231"/>
                    <a:pt x="1596" y="-17"/>
                    <a:pt x="3433" y="1"/>
                  </a:cubicBezTo>
                  <a:lnTo>
                    <a:pt x="18261" y="53"/>
                  </a:lnTo>
                  <a:cubicBezTo>
                    <a:pt x="20097" y="53"/>
                    <a:pt x="21579" y="1328"/>
                    <a:pt x="21558" y="2874"/>
                  </a:cubicBezTo>
                  <a:lnTo>
                    <a:pt x="21475" y="18806"/>
                  </a:lnTo>
                  <a:cubicBezTo>
                    <a:pt x="21454" y="20335"/>
                    <a:pt x="19962" y="21583"/>
                    <a:pt x="18125" y="215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026" name="Group 3379"/>
          <p:cNvGrpSpPr/>
          <p:nvPr/>
        </p:nvGrpSpPr>
        <p:grpSpPr>
          <a:xfrm>
            <a:off x="12886920" y="9652320"/>
            <a:ext cx="1266480" cy="2283840"/>
            <a:chOff x="12886920" y="9652320"/>
            <a:chExt cx="1266480" cy="2283840"/>
          </a:xfrm>
        </p:grpSpPr>
        <p:sp>
          <p:nvSpPr>
            <p:cNvPr id="6027" name="Shape 3373"/>
            <p:cNvSpPr/>
            <p:nvPr/>
          </p:nvSpPr>
          <p:spPr>
            <a:xfrm>
              <a:off x="14060520" y="10421280"/>
              <a:ext cx="92880" cy="240840"/>
            </a:xfrm>
            <a:custGeom>
              <a:avLst/>
              <a:gdLst>
                <a:gd name="textAreaLeft" fmla="*/ 0 w 92880"/>
                <a:gd name="textAreaRight" fmla="*/ 93240 w 92880"/>
                <a:gd name="textAreaTop" fmla="*/ 0 h 240840"/>
                <a:gd name="textAreaBottom" fmla="*/ 241200 h 2408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6028" name="Shape 3374"/>
            <p:cNvSpPr/>
            <p:nvPr/>
          </p:nvSpPr>
          <p:spPr>
            <a:xfrm>
              <a:off x="14081400" y="10834560"/>
              <a:ext cx="36720" cy="360720"/>
            </a:xfrm>
            <a:custGeom>
              <a:avLst/>
              <a:gdLst>
                <a:gd name="textAreaLeft" fmla="*/ 0 w 36720"/>
                <a:gd name="textAreaRight" fmla="*/ 37080 w 36720"/>
                <a:gd name="textAreaTop" fmla="*/ 0 h 360720"/>
                <a:gd name="textAreaBottom" fmla="*/ 361080 h 36072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29" name="Shape 3375"/>
            <p:cNvSpPr/>
            <p:nvPr/>
          </p:nvSpPr>
          <p:spPr>
            <a:xfrm>
              <a:off x="13009320" y="11466000"/>
              <a:ext cx="961560" cy="470160"/>
            </a:xfrm>
            <a:custGeom>
              <a:avLst/>
              <a:gdLst>
                <a:gd name="textAreaLeft" fmla="*/ 0 w 961560"/>
                <a:gd name="textAreaRight" fmla="*/ 961920 w 961560"/>
                <a:gd name="textAreaTop" fmla="*/ 0 h 470160"/>
                <a:gd name="textAreaBottom" fmla="*/ 470520 h 47016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c8cc2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30" name="Shape 3376"/>
            <p:cNvSpPr/>
            <p:nvPr/>
          </p:nvSpPr>
          <p:spPr>
            <a:xfrm>
              <a:off x="13009320" y="9652320"/>
              <a:ext cx="961560" cy="469800"/>
            </a:xfrm>
            <a:custGeom>
              <a:avLst/>
              <a:gdLst>
                <a:gd name="textAreaLeft" fmla="*/ 0 w 961560"/>
                <a:gd name="textAreaRight" fmla="*/ 961920 w 961560"/>
                <a:gd name="textAreaTop" fmla="*/ 0 h 469800"/>
                <a:gd name="textAreaBottom" fmla="*/ 470160 h 46980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c8cc2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31" name="Shape 3377"/>
            <p:cNvSpPr/>
            <p:nvPr/>
          </p:nvSpPr>
          <p:spPr>
            <a:xfrm>
              <a:off x="12886920" y="10086480"/>
              <a:ext cx="1206360" cy="1423080"/>
            </a:xfrm>
            <a:custGeom>
              <a:avLst/>
              <a:gdLst>
                <a:gd name="textAreaLeft" fmla="*/ 0 w 1206360"/>
                <a:gd name="textAreaRight" fmla="*/ 1206720 w 1206360"/>
                <a:gd name="textAreaTop" fmla="*/ 0 h 1423080"/>
                <a:gd name="textAreaBottom" fmla="*/ 1423440 h 1423080"/>
              </a:gdLst>
              <a:ahLst/>
              <a:rect l="textAreaLeft" t="textAreaTop" r="textAreaRight" b="textAreaBottom"/>
              <a:pathLst>
                <a:path w="21553" h="21560">
                  <a:moveTo>
                    <a:pt x="17154" y="21560"/>
                  </a:moveTo>
                  <a:lnTo>
                    <a:pt x="4267" y="21511"/>
                  </a:lnTo>
                  <a:cubicBezTo>
                    <a:pt x="1893" y="21495"/>
                    <a:pt x="-19" y="19844"/>
                    <a:pt x="0" y="17778"/>
                  </a:cubicBezTo>
                  <a:lnTo>
                    <a:pt x="75" y="3684"/>
                  </a:lnTo>
                  <a:cubicBezTo>
                    <a:pt x="94" y="1635"/>
                    <a:pt x="2016" y="-16"/>
                    <a:pt x="4408" y="0"/>
                  </a:cubicBezTo>
                  <a:lnTo>
                    <a:pt x="17285" y="49"/>
                  </a:lnTo>
                  <a:cubicBezTo>
                    <a:pt x="19659" y="65"/>
                    <a:pt x="21581" y="1724"/>
                    <a:pt x="21553" y="3790"/>
                  </a:cubicBezTo>
                  <a:lnTo>
                    <a:pt x="21477" y="17876"/>
                  </a:lnTo>
                  <a:cubicBezTo>
                    <a:pt x="21459" y="19925"/>
                    <a:pt x="19518" y="21584"/>
                    <a:pt x="17154" y="2156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32" name="Shape 3378"/>
            <p:cNvSpPr/>
            <p:nvPr/>
          </p:nvSpPr>
          <p:spPr>
            <a:xfrm>
              <a:off x="12938400" y="10144080"/>
              <a:ext cx="1103400" cy="1307880"/>
            </a:xfrm>
            <a:custGeom>
              <a:avLst/>
              <a:gdLst>
                <a:gd name="textAreaLeft" fmla="*/ 0 w 1103400"/>
                <a:gd name="textAreaRight" fmla="*/ 1103760 w 1103400"/>
                <a:gd name="textAreaTop" fmla="*/ 0 h 1307880"/>
                <a:gd name="textAreaBottom" fmla="*/ 1308240 h 1307880"/>
              </a:gdLst>
              <a:ahLst/>
              <a:rect l="textAreaLeft" t="textAreaTop" r="textAreaRight" b="textAreaBottom"/>
              <a:pathLst>
                <a:path w="21559" h="21583">
                  <a:moveTo>
                    <a:pt x="18125" y="21583"/>
                  </a:moveTo>
                  <a:lnTo>
                    <a:pt x="3308" y="21530"/>
                  </a:lnTo>
                  <a:cubicBezTo>
                    <a:pt x="1471" y="21530"/>
                    <a:pt x="-21" y="20256"/>
                    <a:pt x="0" y="18709"/>
                  </a:cubicBezTo>
                  <a:lnTo>
                    <a:pt x="83" y="2786"/>
                  </a:lnTo>
                  <a:cubicBezTo>
                    <a:pt x="83" y="1231"/>
                    <a:pt x="1596" y="-17"/>
                    <a:pt x="3433" y="1"/>
                  </a:cubicBezTo>
                  <a:lnTo>
                    <a:pt x="18261" y="53"/>
                  </a:lnTo>
                  <a:cubicBezTo>
                    <a:pt x="20097" y="53"/>
                    <a:pt x="21579" y="1328"/>
                    <a:pt x="21558" y="2874"/>
                  </a:cubicBezTo>
                  <a:lnTo>
                    <a:pt x="21475" y="18806"/>
                  </a:lnTo>
                  <a:cubicBezTo>
                    <a:pt x="21454" y="20335"/>
                    <a:pt x="19962" y="21583"/>
                    <a:pt x="18125" y="215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033" name="Group 3395"/>
          <p:cNvGrpSpPr/>
          <p:nvPr/>
        </p:nvGrpSpPr>
        <p:grpSpPr>
          <a:xfrm>
            <a:off x="11177280" y="2025720"/>
            <a:ext cx="3411000" cy="4813200"/>
            <a:chOff x="11177280" y="2025720"/>
            <a:chExt cx="3411000" cy="4813200"/>
          </a:xfrm>
        </p:grpSpPr>
        <p:sp>
          <p:nvSpPr>
            <p:cNvPr id="6034" name="Shape 3380"/>
            <p:cNvSpPr/>
            <p:nvPr/>
          </p:nvSpPr>
          <p:spPr>
            <a:xfrm>
              <a:off x="11177280" y="2025720"/>
              <a:ext cx="3411000" cy="4813200"/>
            </a:xfrm>
            <a:custGeom>
              <a:avLst/>
              <a:gdLst>
                <a:gd name="textAreaLeft" fmla="*/ 0 w 3411000"/>
                <a:gd name="textAreaRight" fmla="*/ 3411360 w 3411000"/>
                <a:gd name="textAreaTop" fmla="*/ 0 h 4813200"/>
                <a:gd name="textAreaBottom" fmla="*/ 4813560 h 481320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35" name="Shape 3381"/>
            <p:cNvSpPr/>
            <p:nvPr/>
          </p:nvSpPr>
          <p:spPr>
            <a:xfrm>
              <a:off x="11198160" y="2048760"/>
              <a:ext cx="3367080" cy="4769640"/>
            </a:xfrm>
            <a:custGeom>
              <a:avLst/>
              <a:gdLst>
                <a:gd name="textAreaLeft" fmla="*/ 0 w 3367080"/>
                <a:gd name="textAreaRight" fmla="*/ 3367440 w 3367080"/>
                <a:gd name="textAreaTop" fmla="*/ 0 h 4769640"/>
                <a:gd name="textAreaBottom" fmla="*/ 4770000 h 476964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36" name="Shape 3382"/>
            <p:cNvSpPr/>
            <p:nvPr/>
          </p:nvSpPr>
          <p:spPr>
            <a:xfrm>
              <a:off x="11372760" y="2432880"/>
              <a:ext cx="3017880" cy="4001760"/>
            </a:xfrm>
            <a:custGeom>
              <a:avLst/>
              <a:gdLst>
                <a:gd name="textAreaLeft" fmla="*/ 0 w 3017880"/>
                <a:gd name="textAreaRight" fmla="*/ 3018240 w 3017880"/>
                <a:gd name="textAreaTop" fmla="*/ 0 h 4001760"/>
                <a:gd name="textAreaBottom" fmla="*/ 4002120 h 400176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37" name="Shape 3383"/>
            <p:cNvSpPr/>
            <p:nvPr/>
          </p:nvSpPr>
          <p:spPr>
            <a:xfrm>
              <a:off x="11384280" y="2441880"/>
              <a:ext cx="2997000" cy="3981240"/>
            </a:xfrm>
            <a:custGeom>
              <a:avLst/>
              <a:gdLst>
                <a:gd name="textAreaLeft" fmla="*/ 0 w 2997000"/>
                <a:gd name="textAreaRight" fmla="*/ 2997360 w 2997000"/>
                <a:gd name="textAreaTop" fmla="*/ 0 h 3981240"/>
                <a:gd name="textAreaBottom" fmla="*/ 3981600 h 398124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38" name="Shape 3384"/>
            <p:cNvSpPr/>
            <p:nvPr/>
          </p:nvSpPr>
          <p:spPr>
            <a:xfrm>
              <a:off x="12855960" y="2216520"/>
              <a:ext cx="54000" cy="54000"/>
            </a:xfrm>
            <a:custGeom>
              <a:avLst/>
              <a:gdLst>
                <a:gd name="textAreaLeft" fmla="*/ 0 w 54000"/>
                <a:gd name="textAreaRight" fmla="*/ 54360 w 54000"/>
                <a:gd name="textAreaTop" fmla="*/ 0 h 54000"/>
                <a:gd name="textAreaBottom" fmla="*/ 54360 h 5400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tIns="27000" bIns="27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39" name="Shape 3385"/>
            <p:cNvSpPr/>
            <p:nvPr/>
          </p:nvSpPr>
          <p:spPr>
            <a:xfrm>
              <a:off x="12862800" y="2223720"/>
              <a:ext cx="39960" cy="39960"/>
            </a:xfrm>
            <a:custGeom>
              <a:avLst/>
              <a:gdLst>
                <a:gd name="textAreaLeft" fmla="*/ 0 w 39960"/>
                <a:gd name="textAreaRight" fmla="*/ 40320 w 39960"/>
                <a:gd name="textAreaTop" fmla="*/ 0 h 39960"/>
                <a:gd name="textAreaBottom" fmla="*/ 40320 h 3996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0" name="Shape 3386"/>
            <p:cNvSpPr/>
            <p:nvPr/>
          </p:nvSpPr>
          <p:spPr>
            <a:xfrm>
              <a:off x="12871800" y="223272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11160" bIns="11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1" name="Shape 3387"/>
            <p:cNvSpPr/>
            <p:nvPr/>
          </p:nvSpPr>
          <p:spPr>
            <a:xfrm>
              <a:off x="12774240" y="6537960"/>
              <a:ext cx="209880" cy="210240"/>
            </a:xfrm>
            <a:custGeom>
              <a:avLst/>
              <a:gdLst>
                <a:gd name="textAreaLeft" fmla="*/ 0 w 209880"/>
                <a:gd name="textAreaRight" fmla="*/ 210240 w 209880"/>
                <a:gd name="textAreaTop" fmla="*/ 0 h 210240"/>
                <a:gd name="textAreaBottom" fmla="*/ 210600 h 21024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2" name="Shape 3388"/>
            <p:cNvSpPr/>
            <p:nvPr/>
          </p:nvSpPr>
          <p:spPr>
            <a:xfrm>
              <a:off x="12772800" y="6539760"/>
              <a:ext cx="100440" cy="108360"/>
            </a:xfrm>
            <a:custGeom>
              <a:avLst/>
              <a:gdLst>
                <a:gd name="textAreaLeft" fmla="*/ 0 w 100440"/>
                <a:gd name="textAreaRight" fmla="*/ 100800 w 100440"/>
                <a:gd name="textAreaTop" fmla="*/ 0 h 108360"/>
                <a:gd name="textAreaBottom" fmla="*/ 108720 h 10836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3" name="Shape 3389"/>
            <p:cNvSpPr/>
            <p:nvPr/>
          </p:nvSpPr>
          <p:spPr>
            <a:xfrm>
              <a:off x="12791160" y="6540120"/>
              <a:ext cx="146160" cy="105840"/>
            </a:xfrm>
            <a:custGeom>
              <a:avLst/>
              <a:gdLst>
                <a:gd name="textAreaLeft" fmla="*/ 0 w 146160"/>
                <a:gd name="textAreaRight" fmla="*/ 146520 w 146160"/>
                <a:gd name="textAreaTop" fmla="*/ 0 h 105840"/>
                <a:gd name="textAreaBottom" fmla="*/ 106200 h 10584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4" name="Shape 3390"/>
            <p:cNvSpPr/>
            <p:nvPr/>
          </p:nvSpPr>
          <p:spPr>
            <a:xfrm>
              <a:off x="12830400" y="6540120"/>
              <a:ext cx="141840" cy="105840"/>
            </a:xfrm>
            <a:custGeom>
              <a:avLst/>
              <a:gdLst>
                <a:gd name="textAreaLeft" fmla="*/ 0 w 141840"/>
                <a:gd name="textAreaRight" fmla="*/ 142200 w 141840"/>
                <a:gd name="textAreaTop" fmla="*/ 0 h 105840"/>
                <a:gd name="textAreaBottom" fmla="*/ 106200 h 10584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5" name="Shape 3391"/>
            <p:cNvSpPr/>
            <p:nvPr/>
          </p:nvSpPr>
          <p:spPr>
            <a:xfrm>
              <a:off x="12885480" y="6640200"/>
              <a:ext cx="97920" cy="109440"/>
            </a:xfrm>
            <a:custGeom>
              <a:avLst/>
              <a:gdLst>
                <a:gd name="textAreaLeft" fmla="*/ 0 w 97920"/>
                <a:gd name="textAreaRight" fmla="*/ 98280 w 97920"/>
                <a:gd name="textAreaTop" fmla="*/ 0 h 109440"/>
                <a:gd name="textAreaBottom" fmla="*/ 109800 h 10944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6" name="Shape 3392"/>
            <p:cNvSpPr/>
            <p:nvPr/>
          </p:nvSpPr>
          <p:spPr>
            <a:xfrm>
              <a:off x="12818880" y="6642360"/>
              <a:ext cx="146160" cy="105840"/>
            </a:xfrm>
            <a:custGeom>
              <a:avLst/>
              <a:gdLst>
                <a:gd name="textAreaLeft" fmla="*/ 0 w 146160"/>
                <a:gd name="textAreaRight" fmla="*/ 146520 w 146160"/>
                <a:gd name="textAreaTop" fmla="*/ 0 h 105840"/>
                <a:gd name="textAreaBottom" fmla="*/ 106200 h 10584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7" name="Shape 3393"/>
            <p:cNvSpPr/>
            <p:nvPr/>
          </p:nvSpPr>
          <p:spPr>
            <a:xfrm>
              <a:off x="12784320" y="6642360"/>
              <a:ext cx="141840" cy="105840"/>
            </a:xfrm>
            <a:custGeom>
              <a:avLst/>
              <a:gdLst>
                <a:gd name="textAreaLeft" fmla="*/ 0 w 141840"/>
                <a:gd name="textAreaRight" fmla="*/ 142200 w 141840"/>
                <a:gd name="textAreaTop" fmla="*/ 0 h 105840"/>
                <a:gd name="textAreaBottom" fmla="*/ 106200 h 10584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48" name="Shape 3394"/>
            <p:cNvSpPr/>
            <p:nvPr/>
          </p:nvSpPr>
          <p:spPr>
            <a:xfrm>
              <a:off x="12786480" y="6550560"/>
              <a:ext cx="185400" cy="185400"/>
            </a:xfrm>
            <a:custGeom>
              <a:avLst/>
              <a:gdLst>
                <a:gd name="textAreaLeft" fmla="*/ 0 w 185400"/>
                <a:gd name="textAreaRight" fmla="*/ 185760 w 185400"/>
                <a:gd name="textAreaTop" fmla="*/ 0 h 185400"/>
                <a:gd name="textAreaBottom" fmla="*/ 185760 h 18540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049" name="Group 3417"/>
          <p:cNvGrpSpPr/>
          <p:nvPr/>
        </p:nvGrpSpPr>
        <p:grpSpPr>
          <a:xfrm>
            <a:off x="14946840" y="3895920"/>
            <a:ext cx="1447200" cy="2943360"/>
            <a:chOff x="14946840" y="3895920"/>
            <a:chExt cx="1447200" cy="2943360"/>
          </a:xfrm>
        </p:grpSpPr>
        <p:sp>
          <p:nvSpPr>
            <p:cNvPr id="6050" name="Shape 3396"/>
            <p:cNvSpPr/>
            <p:nvPr/>
          </p:nvSpPr>
          <p:spPr>
            <a:xfrm>
              <a:off x="14946840" y="4272480"/>
              <a:ext cx="36000" cy="113760"/>
            </a:xfrm>
            <a:custGeom>
              <a:avLst/>
              <a:gdLst>
                <a:gd name="textAreaLeft" fmla="*/ 0 w 36000"/>
                <a:gd name="textAreaRight" fmla="*/ 36360 w 36000"/>
                <a:gd name="textAreaTop" fmla="*/ 0 h 113760"/>
                <a:gd name="textAreaBottom" fmla="*/ 114120 h 113760"/>
              </a:gdLst>
              <a:ahLst/>
              <a:rect l="textAreaLeft" t="textAreaTop" r="textAreaRight" b="textAreaBottom"/>
              <a:pathLst>
                <a:path w="21600" h="21600">
                  <a:moveTo>
                    <a:pt x="21600" y="21600"/>
                  </a:moveTo>
                  <a:lnTo>
                    <a:pt x="5274" y="21600"/>
                  </a:lnTo>
                  <a:cubicBezTo>
                    <a:pt x="2260" y="21600"/>
                    <a:pt x="0" y="20883"/>
                    <a:pt x="0" y="19926"/>
                  </a:cubicBezTo>
                  <a:lnTo>
                    <a:pt x="0" y="1674"/>
                  </a:lnTo>
                  <a:cubicBezTo>
                    <a:pt x="0" y="717"/>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1" name="Shape 3397"/>
            <p:cNvSpPr/>
            <p:nvPr/>
          </p:nvSpPr>
          <p:spPr>
            <a:xfrm>
              <a:off x="14946840" y="4521960"/>
              <a:ext cx="43560" cy="211680"/>
            </a:xfrm>
            <a:custGeom>
              <a:avLst/>
              <a:gdLst>
                <a:gd name="textAreaLeft" fmla="*/ 0 w 43560"/>
                <a:gd name="textAreaRight" fmla="*/ 43920 w 43560"/>
                <a:gd name="textAreaTop" fmla="*/ 0 h 211680"/>
                <a:gd name="textAreaBottom" fmla="*/ 212040 h 211680"/>
              </a:gdLst>
              <a:ahLst/>
              <a:rect l="textAreaLeft" t="textAreaTop" r="textAreaRight" b="textAreaBottom"/>
              <a:pathLst>
                <a:path w="21600" h="21600">
                  <a:moveTo>
                    <a:pt x="21600" y="21600"/>
                  </a:moveTo>
                  <a:lnTo>
                    <a:pt x="4404" y="21600"/>
                  </a:lnTo>
                  <a:cubicBezTo>
                    <a:pt x="1887" y="21600"/>
                    <a:pt x="0" y="21216"/>
                    <a:pt x="0" y="20704"/>
                  </a:cubicBezTo>
                  <a:lnTo>
                    <a:pt x="0" y="896"/>
                  </a:lnTo>
                  <a:cubicBezTo>
                    <a:pt x="0" y="342"/>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2" name="Shape 3398"/>
            <p:cNvSpPr/>
            <p:nvPr/>
          </p:nvSpPr>
          <p:spPr>
            <a:xfrm>
              <a:off x="14946840" y="4793400"/>
              <a:ext cx="36000" cy="205920"/>
            </a:xfrm>
            <a:custGeom>
              <a:avLst/>
              <a:gdLst>
                <a:gd name="textAreaLeft" fmla="*/ 0 w 36000"/>
                <a:gd name="textAreaRight" fmla="*/ 36360 w 36000"/>
                <a:gd name="textAreaTop" fmla="*/ 0 h 205920"/>
                <a:gd name="textAreaBottom" fmla="*/ 206280 h 20592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3" name="Shape 3399"/>
            <p:cNvSpPr/>
            <p:nvPr/>
          </p:nvSpPr>
          <p:spPr>
            <a:xfrm>
              <a:off x="16363440" y="4521960"/>
              <a:ext cx="30600" cy="218880"/>
            </a:xfrm>
            <a:custGeom>
              <a:avLst/>
              <a:gdLst>
                <a:gd name="textAreaLeft" fmla="*/ 0 w 30600"/>
                <a:gd name="textAreaRight" fmla="*/ 30960 w 30600"/>
                <a:gd name="textAreaTop" fmla="*/ 0 h 218880"/>
                <a:gd name="textAreaBottom" fmla="*/ 219240 h 218880"/>
              </a:gdLst>
              <a:ahLst/>
              <a:rect l="textAreaLeft" t="textAreaTop" r="textAreaRight" b="textAreaBottom"/>
              <a:pathLst>
                <a:path w="21600" h="21600">
                  <a:moveTo>
                    <a:pt x="15386" y="21600"/>
                  </a:moveTo>
                  <a:lnTo>
                    <a:pt x="0" y="21600"/>
                  </a:lnTo>
                  <a:lnTo>
                    <a:pt x="0" y="0"/>
                  </a:lnTo>
                  <a:lnTo>
                    <a:pt x="15386" y="0"/>
                  </a:lnTo>
                  <a:cubicBezTo>
                    <a:pt x="19233" y="0"/>
                    <a:pt x="21600" y="331"/>
                    <a:pt x="21600" y="869"/>
                  </a:cubicBezTo>
                  <a:lnTo>
                    <a:pt x="21600" y="20731"/>
                  </a:lnTo>
                  <a:cubicBezTo>
                    <a:pt x="21600" y="2118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4" name="Shape 3400"/>
            <p:cNvSpPr/>
            <p:nvPr/>
          </p:nvSpPr>
          <p:spPr>
            <a:xfrm>
              <a:off x="14961600" y="3895920"/>
              <a:ext cx="1415880" cy="2943360"/>
            </a:xfrm>
            <a:custGeom>
              <a:avLst/>
              <a:gdLst>
                <a:gd name="textAreaLeft" fmla="*/ 0 w 1415880"/>
                <a:gd name="textAreaRight" fmla="*/ 1416240 w 1415880"/>
                <a:gd name="textAreaTop" fmla="*/ 0 h 2943360"/>
                <a:gd name="textAreaBottom" fmla="*/ 2943720 h 2943360"/>
              </a:gdLst>
              <a:ahLst/>
              <a:rect l="textAreaLeft" t="textAreaTop" r="textAreaRight" b="textAreaBottom"/>
              <a:pathLst>
                <a:path w="21600" h="21600">
                  <a:moveTo>
                    <a:pt x="17562" y="21600"/>
                  </a:moveTo>
                  <a:lnTo>
                    <a:pt x="4018" y="21600"/>
                  </a:lnTo>
                  <a:cubicBezTo>
                    <a:pt x="1795" y="21600"/>
                    <a:pt x="0" y="20736"/>
                    <a:pt x="0" y="19667"/>
                  </a:cubicBezTo>
                  <a:lnTo>
                    <a:pt x="0" y="1936"/>
                  </a:lnTo>
                  <a:cubicBezTo>
                    <a:pt x="0" y="864"/>
                    <a:pt x="1795" y="0"/>
                    <a:pt x="4018" y="0"/>
                  </a:cubicBezTo>
                  <a:lnTo>
                    <a:pt x="17575" y="0"/>
                  </a:lnTo>
                  <a:cubicBezTo>
                    <a:pt x="19798" y="0"/>
                    <a:pt x="21600" y="864"/>
                    <a:pt x="21600" y="1936"/>
                  </a:cubicBezTo>
                  <a:lnTo>
                    <a:pt x="21600" y="19673"/>
                  </a:lnTo>
                  <a:cubicBezTo>
                    <a:pt x="21581" y="20736"/>
                    <a:pt x="19786" y="21600"/>
                    <a:pt x="1756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5" name="Shape 3401"/>
            <p:cNvSpPr/>
            <p:nvPr/>
          </p:nvSpPr>
          <p:spPr>
            <a:xfrm>
              <a:off x="14974560" y="3910680"/>
              <a:ext cx="1388160" cy="2915640"/>
            </a:xfrm>
            <a:custGeom>
              <a:avLst/>
              <a:gdLst>
                <a:gd name="textAreaLeft" fmla="*/ 0 w 1388160"/>
                <a:gd name="textAreaRight" fmla="*/ 1388520 w 1388160"/>
                <a:gd name="textAreaTop" fmla="*/ 0 h 2915640"/>
                <a:gd name="textAreaBottom" fmla="*/ 2916000 h 2915640"/>
              </a:gdLst>
              <a:ahLst/>
              <a:rect l="textAreaLeft" t="textAreaTop" r="textAreaRight" b="textAreaBottom"/>
              <a:pathLst>
                <a:path w="21600" h="21600">
                  <a:moveTo>
                    <a:pt x="17637" y="21600"/>
                  </a:moveTo>
                  <a:lnTo>
                    <a:pt x="3969" y="21600"/>
                  </a:lnTo>
                  <a:cubicBezTo>
                    <a:pt x="1779" y="21600"/>
                    <a:pt x="0" y="20756"/>
                    <a:pt x="0" y="19713"/>
                  </a:cubicBezTo>
                  <a:lnTo>
                    <a:pt x="0" y="1887"/>
                  </a:lnTo>
                  <a:cubicBezTo>
                    <a:pt x="0" y="847"/>
                    <a:pt x="1779" y="0"/>
                    <a:pt x="3969" y="0"/>
                  </a:cubicBezTo>
                  <a:lnTo>
                    <a:pt x="17637" y="0"/>
                  </a:lnTo>
                  <a:cubicBezTo>
                    <a:pt x="19821" y="0"/>
                    <a:pt x="21600" y="847"/>
                    <a:pt x="21600" y="1887"/>
                  </a:cubicBezTo>
                  <a:lnTo>
                    <a:pt x="21600" y="19719"/>
                  </a:lnTo>
                  <a:cubicBezTo>
                    <a:pt x="21600" y="20762"/>
                    <a:pt x="19821" y="21600"/>
                    <a:pt x="1763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6" name="Shape 3402"/>
            <p:cNvSpPr/>
            <p:nvPr/>
          </p:nvSpPr>
          <p:spPr>
            <a:xfrm>
              <a:off x="15031800" y="4250520"/>
              <a:ext cx="1275480" cy="2243520"/>
            </a:xfrm>
            <a:custGeom>
              <a:avLst/>
              <a:gdLst>
                <a:gd name="textAreaLeft" fmla="*/ 0 w 1275480"/>
                <a:gd name="textAreaRight" fmla="*/ 1275840 w 1275480"/>
                <a:gd name="textAreaTop" fmla="*/ 0 h 2243520"/>
                <a:gd name="textAreaBottom" fmla="*/ 2243880 h 2243520"/>
              </a:gdLst>
              <a:ahLst/>
              <a:rect l="textAreaLeft" t="textAreaTop" r="textAreaRight" b="textAreaBottom"/>
              <a:pathLst>
                <a:path w="21600" h="21600">
                  <a:moveTo>
                    <a:pt x="21302" y="21600"/>
                  </a:moveTo>
                  <a:lnTo>
                    <a:pt x="298" y="21600"/>
                  </a:lnTo>
                  <a:cubicBezTo>
                    <a:pt x="135" y="21600"/>
                    <a:pt x="0" y="21523"/>
                    <a:pt x="0" y="21431"/>
                  </a:cubicBezTo>
                  <a:lnTo>
                    <a:pt x="0" y="169"/>
                  </a:lnTo>
                  <a:cubicBezTo>
                    <a:pt x="0" y="77"/>
                    <a:pt x="135" y="0"/>
                    <a:pt x="298" y="0"/>
                  </a:cubicBezTo>
                  <a:lnTo>
                    <a:pt x="21302" y="0"/>
                  </a:lnTo>
                  <a:cubicBezTo>
                    <a:pt x="21465" y="0"/>
                    <a:pt x="21600" y="77"/>
                    <a:pt x="21600" y="169"/>
                  </a:cubicBezTo>
                  <a:lnTo>
                    <a:pt x="21600" y="21431"/>
                  </a:lnTo>
                  <a:cubicBezTo>
                    <a:pt x="21600" y="21523"/>
                    <a:pt x="21465" y="21600"/>
                    <a:pt x="21302" y="21600"/>
                  </a:cubicBezTo>
                </a:path>
              </a:pathLst>
            </a:custGeom>
            <a:solidFill>
              <a:srgbClr val="f7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7" name="Shape 3403"/>
            <p:cNvSpPr/>
            <p:nvPr/>
          </p:nvSpPr>
          <p:spPr>
            <a:xfrm>
              <a:off x="15039000" y="4257720"/>
              <a:ext cx="1260720" cy="2228760"/>
            </a:xfrm>
            <a:custGeom>
              <a:avLst/>
              <a:gdLst>
                <a:gd name="textAreaLeft" fmla="*/ 0 w 1260720"/>
                <a:gd name="textAreaRight" fmla="*/ 1261080 w 1260720"/>
                <a:gd name="textAreaTop" fmla="*/ 0 h 2228760"/>
                <a:gd name="textAreaBottom" fmla="*/ 2229120 h 2228760"/>
              </a:gdLst>
              <a:ahLst/>
              <a:rect l="textAreaLeft" t="textAreaTop" r="textAreaRight" b="textAreaBottom"/>
              <a:pathLst>
                <a:path w="21600" h="21600">
                  <a:moveTo>
                    <a:pt x="21299" y="21600"/>
                  </a:moveTo>
                  <a:lnTo>
                    <a:pt x="301" y="21600"/>
                  </a:lnTo>
                  <a:cubicBezTo>
                    <a:pt x="136" y="21600"/>
                    <a:pt x="0" y="21523"/>
                    <a:pt x="0" y="21430"/>
                  </a:cubicBezTo>
                  <a:lnTo>
                    <a:pt x="0" y="170"/>
                  </a:lnTo>
                  <a:cubicBezTo>
                    <a:pt x="0" y="77"/>
                    <a:pt x="136" y="0"/>
                    <a:pt x="301" y="0"/>
                  </a:cubicBezTo>
                  <a:lnTo>
                    <a:pt x="21299" y="0"/>
                  </a:lnTo>
                  <a:cubicBezTo>
                    <a:pt x="21464" y="0"/>
                    <a:pt x="21600" y="77"/>
                    <a:pt x="21600" y="170"/>
                  </a:cubicBezTo>
                  <a:lnTo>
                    <a:pt x="21600" y="21430"/>
                  </a:lnTo>
                  <a:cubicBezTo>
                    <a:pt x="21600" y="21523"/>
                    <a:pt x="21464" y="21600"/>
                    <a:pt x="21299"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8" name="Shape 3404"/>
            <p:cNvSpPr/>
            <p:nvPr/>
          </p:nvSpPr>
          <p:spPr>
            <a:xfrm>
              <a:off x="15555960" y="6542280"/>
              <a:ext cx="229320" cy="229320"/>
            </a:xfrm>
            <a:custGeom>
              <a:avLst/>
              <a:gdLst>
                <a:gd name="textAreaLeft" fmla="*/ 0 w 229320"/>
                <a:gd name="textAreaRight" fmla="*/ 229680 w 229320"/>
                <a:gd name="textAreaTop" fmla="*/ 0 h 229320"/>
                <a:gd name="textAreaBottom" fmla="*/ 229680 h 229320"/>
              </a:gdLst>
              <a:ahLst/>
              <a:rect l="textAreaLeft" t="textAreaTop" r="textAreaRight" b="textAreaBottom"/>
              <a:pathLst>
                <a:path w="21346" h="21346">
                  <a:moveTo>
                    <a:pt x="18192" y="3154"/>
                  </a:moveTo>
                  <a:cubicBezTo>
                    <a:pt x="19598" y="4521"/>
                    <a:pt x="20457" y="6005"/>
                    <a:pt x="20965" y="7919"/>
                  </a:cubicBezTo>
                  <a:cubicBezTo>
                    <a:pt x="21473" y="9794"/>
                    <a:pt x="21473" y="11513"/>
                    <a:pt x="20965" y="13427"/>
                  </a:cubicBezTo>
                  <a:cubicBezTo>
                    <a:pt x="20457" y="15302"/>
                    <a:pt x="19559" y="16786"/>
                    <a:pt x="18192" y="18192"/>
                  </a:cubicBezTo>
                  <a:cubicBezTo>
                    <a:pt x="16786" y="19559"/>
                    <a:pt x="15302" y="20457"/>
                    <a:pt x="13427" y="20965"/>
                  </a:cubicBezTo>
                  <a:cubicBezTo>
                    <a:pt x="11513" y="21473"/>
                    <a:pt x="9794" y="21473"/>
                    <a:pt x="7919" y="20965"/>
                  </a:cubicBezTo>
                  <a:cubicBezTo>
                    <a:pt x="6005" y="20457"/>
                    <a:pt x="4482" y="19559"/>
                    <a:pt x="3115" y="18192"/>
                  </a:cubicBezTo>
                  <a:cubicBezTo>
                    <a:pt x="1709" y="16786"/>
                    <a:pt x="889" y="15302"/>
                    <a:pt x="381" y="13427"/>
                  </a:cubicBezTo>
                  <a:cubicBezTo>
                    <a:pt x="-127" y="11513"/>
                    <a:pt x="-127" y="9794"/>
                    <a:pt x="381" y="7919"/>
                  </a:cubicBezTo>
                  <a:cubicBezTo>
                    <a:pt x="889" y="6005"/>
                    <a:pt x="1709" y="4482"/>
                    <a:pt x="3115" y="3115"/>
                  </a:cubicBezTo>
                  <a:cubicBezTo>
                    <a:pt x="4482" y="1709"/>
                    <a:pt x="6005" y="889"/>
                    <a:pt x="7919" y="381"/>
                  </a:cubicBezTo>
                  <a:cubicBezTo>
                    <a:pt x="9794" y="-127"/>
                    <a:pt x="11513" y="-127"/>
                    <a:pt x="13427" y="381"/>
                  </a:cubicBezTo>
                  <a:cubicBezTo>
                    <a:pt x="15302" y="889"/>
                    <a:pt x="16825" y="1748"/>
                    <a:pt x="18192" y="3154"/>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59" name="Shape 3405"/>
            <p:cNvSpPr/>
            <p:nvPr/>
          </p:nvSpPr>
          <p:spPr>
            <a:xfrm>
              <a:off x="15554520" y="6542640"/>
              <a:ext cx="108360" cy="117360"/>
            </a:xfrm>
            <a:custGeom>
              <a:avLst/>
              <a:gdLst>
                <a:gd name="textAreaLeft" fmla="*/ 0 w 108360"/>
                <a:gd name="textAreaRight" fmla="*/ 108720 w 108360"/>
                <a:gd name="textAreaTop" fmla="*/ 0 h 117360"/>
                <a:gd name="textAreaBottom" fmla="*/ 117720 h 11736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366"/>
                    <a:pt x="6065" y="64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0" name="Shape 3406"/>
            <p:cNvSpPr/>
            <p:nvPr/>
          </p:nvSpPr>
          <p:spPr>
            <a:xfrm>
              <a:off x="15574680" y="6541200"/>
              <a:ext cx="158040" cy="113400"/>
            </a:xfrm>
            <a:custGeom>
              <a:avLst/>
              <a:gdLst>
                <a:gd name="textAreaLeft" fmla="*/ 0 w 158040"/>
                <a:gd name="textAreaRight" fmla="*/ 158400 w 158040"/>
                <a:gd name="textAreaTop" fmla="*/ 0 h 113400"/>
                <a:gd name="textAreaBottom" fmla="*/ 113760 h 113400"/>
              </a:gdLst>
              <a:ahLst/>
              <a:rect l="textAreaLeft" t="textAreaTop" r="textAreaRight" b="textAreaBottom"/>
              <a:pathLst>
                <a:path w="21600" h="20845">
                  <a:moveTo>
                    <a:pt x="10004" y="390"/>
                  </a:moveTo>
                  <a:cubicBezTo>
                    <a:pt x="5855" y="1382"/>
                    <a:pt x="2274" y="4740"/>
                    <a:pt x="0" y="9015"/>
                  </a:cubicBezTo>
                  <a:lnTo>
                    <a:pt x="12789" y="20845"/>
                  </a:lnTo>
                  <a:lnTo>
                    <a:pt x="21600" y="3748"/>
                  </a:lnTo>
                  <a:cubicBezTo>
                    <a:pt x="18360" y="695"/>
                    <a:pt x="14211" y="-755"/>
                    <a:pt x="10004" y="39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1" name="Shape 3407"/>
            <p:cNvSpPr/>
            <p:nvPr/>
          </p:nvSpPr>
          <p:spPr>
            <a:xfrm>
              <a:off x="15617160" y="6541200"/>
              <a:ext cx="152640" cy="113400"/>
            </a:xfrm>
            <a:custGeom>
              <a:avLst/>
              <a:gdLst>
                <a:gd name="textAreaLeft" fmla="*/ 0 w 152640"/>
                <a:gd name="textAreaRight" fmla="*/ 153000 w 152640"/>
                <a:gd name="textAreaTop" fmla="*/ 0 h 113400"/>
                <a:gd name="textAreaBottom" fmla="*/ 113760 h 113400"/>
              </a:gdLst>
              <a:ahLst/>
              <a:rect l="textAreaLeft" t="textAreaTop" r="textAreaRight" b="textAreaBottom"/>
              <a:pathLst>
                <a:path w="21600" h="20830">
                  <a:moveTo>
                    <a:pt x="12242" y="985"/>
                  </a:moveTo>
                  <a:cubicBezTo>
                    <a:pt x="8004" y="-770"/>
                    <a:pt x="3590" y="-83"/>
                    <a:pt x="0" y="2283"/>
                  </a:cubicBezTo>
                  <a:lnTo>
                    <a:pt x="7298" y="20830"/>
                  </a:lnTo>
                  <a:lnTo>
                    <a:pt x="21600" y="11442"/>
                  </a:lnTo>
                  <a:cubicBezTo>
                    <a:pt x="19775" y="6634"/>
                    <a:pt x="16421" y="2741"/>
                    <a:pt x="12242" y="985"/>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2" name="Shape 3408"/>
            <p:cNvSpPr/>
            <p:nvPr/>
          </p:nvSpPr>
          <p:spPr>
            <a:xfrm>
              <a:off x="15674400" y="6651720"/>
              <a:ext cx="108360" cy="117360"/>
            </a:xfrm>
            <a:custGeom>
              <a:avLst/>
              <a:gdLst>
                <a:gd name="textAreaLeft" fmla="*/ 0 w 108360"/>
                <a:gd name="textAreaRight" fmla="*/ 108720 w 108360"/>
                <a:gd name="textAreaTop" fmla="*/ 0 h 117360"/>
                <a:gd name="textAreaBottom" fmla="*/ 117720 h 117360"/>
              </a:gdLst>
              <a:ahLst/>
              <a:rect l="textAreaLeft" t="textAreaTop" r="textAreaRight" b="textAreaBottom"/>
              <a:pathLst>
                <a:path w="21600" h="21600">
                  <a:moveTo>
                    <a:pt x="15535" y="15189"/>
                  </a:moveTo>
                  <a:cubicBezTo>
                    <a:pt x="19855" y="11220"/>
                    <a:pt x="21600" y="6411"/>
                    <a:pt x="21600" y="0"/>
                  </a:cubicBezTo>
                  <a:lnTo>
                    <a:pt x="0" y="0"/>
                  </a:lnTo>
                  <a:lnTo>
                    <a:pt x="0" y="21600"/>
                  </a:lnTo>
                  <a:cubicBezTo>
                    <a:pt x="4735" y="21600"/>
                    <a:pt x="10966" y="19234"/>
                    <a:pt x="15535" y="15189"/>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3" name="Shape 3409"/>
            <p:cNvSpPr/>
            <p:nvPr/>
          </p:nvSpPr>
          <p:spPr>
            <a:xfrm>
              <a:off x="15604200" y="6655320"/>
              <a:ext cx="158040" cy="115200"/>
            </a:xfrm>
            <a:custGeom>
              <a:avLst/>
              <a:gdLst>
                <a:gd name="textAreaLeft" fmla="*/ 0 w 158040"/>
                <a:gd name="textAreaRight" fmla="*/ 158400 w 158040"/>
                <a:gd name="textAreaTop" fmla="*/ 0 h 115200"/>
                <a:gd name="textAreaBottom" fmla="*/ 115560 h 115200"/>
              </a:gdLst>
              <a:ahLst/>
              <a:rect l="textAreaLeft" t="textAreaTop" r="textAreaRight" b="textAreaBottom"/>
              <a:pathLst>
                <a:path w="21600" h="20848">
                  <a:moveTo>
                    <a:pt x="11596" y="20459"/>
                  </a:moveTo>
                  <a:cubicBezTo>
                    <a:pt x="15745" y="19470"/>
                    <a:pt x="19326" y="16124"/>
                    <a:pt x="21600" y="11865"/>
                  </a:cubicBezTo>
                  <a:lnTo>
                    <a:pt x="8867" y="0"/>
                  </a:lnTo>
                  <a:lnTo>
                    <a:pt x="0" y="17113"/>
                  </a:lnTo>
                  <a:cubicBezTo>
                    <a:pt x="3240" y="20155"/>
                    <a:pt x="7389" y="21600"/>
                    <a:pt x="11596" y="20459"/>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4" name="Shape 3410"/>
            <p:cNvSpPr/>
            <p:nvPr/>
          </p:nvSpPr>
          <p:spPr>
            <a:xfrm>
              <a:off x="15567480" y="6655320"/>
              <a:ext cx="152640" cy="115200"/>
            </a:xfrm>
            <a:custGeom>
              <a:avLst/>
              <a:gdLst>
                <a:gd name="textAreaLeft" fmla="*/ 0 w 152640"/>
                <a:gd name="textAreaRight" fmla="*/ 153000 w 152640"/>
                <a:gd name="textAreaTop" fmla="*/ 0 h 115200"/>
                <a:gd name="textAreaBottom" fmla="*/ 115560 h 115200"/>
              </a:gdLst>
              <a:ahLst/>
              <a:rect l="textAreaLeft" t="textAreaTop" r="textAreaRight" b="textAreaBottom"/>
              <a:pathLst>
                <a:path w="21600" h="20832">
                  <a:moveTo>
                    <a:pt x="9417" y="19851"/>
                  </a:moveTo>
                  <a:cubicBezTo>
                    <a:pt x="13596" y="21600"/>
                    <a:pt x="18069" y="20915"/>
                    <a:pt x="21600" y="18558"/>
                  </a:cubicBezTo>
                  <a:lnTo>
                    <a:pt x="14361" y="0"/>
                  </a:lnTo>
                  <a:lnTo>
                    <a:pt x="0" y="9431"/>
                  </a:lnTo>
                  <a:cubicBezTo>
                    <a:pt x="1883" y="14223"/>
                    <a:pt x="5179" y="18101"/>
                    <a:pt x="9417"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5" name="Shape 3411"/>
            <p:cNvSpPr/>
            <p:nvPr/>
          </p:nvSpPr>
          <p:spPr>
            <a:xfrm>
              <a:off x="15568920" y="6555240"/>
              <a:ext cx="201600" cy="201600"/>
            </a:xfrm>
            <a:custGeom>
              <a:avLst/>
              <a:gdLst>
                <a:gd name="textAreaLeft" fmla="*/ 0 w 201600"/>
                <a:gd name="textAreaRight" fmla="*/ 201960 w 201600"/>
                <a:gd name="textAreaTop" fmla="*/ 0 h 201600"/>
                <a:gd name="textAreaBottom" fmla="*/ 201960 h 201600"/>
              </a:gdLst>
              <a:ahLst/>
              <a:rect l="textAreaLeft" t="textAreaTop" r="textAreaRight" b="textAreaBottom"/>
              <a:pathLst>
                <a:path w="21330" h="21330">
                  <a:moveTo>
                    <a:pt x="18226" y="3157"/>
                  </a:moveTo>
                  <a:cubicBezTo>
                    <a:pt x="19596" y="4524"/>
                    <a:pt x="20435" y="6022"/>
                    <a:pt x="20965" y="7918"/>
                  </a:cubicBezTo>
                  <a:cubicBezTo>
                    <a:pt x="21451" y="9813"/>
                    <a:pt x="21451" y="11533"/>
                    <a:pt x="20965" y="13428"/>
                  </a:cubicBezTo>
                  <a:cubicBezTo>
                    <a:pt x="20435" y="15324"/>
                    <a:pt x="19596" y="16822"/>
                    <a:pt x="18226" y="18189"/>
                  </a:cubicBezTo>
                  <a:cubicBezTo>
                    <a:pt x="16857" y="19555"/>
                    <a:pt x="15355" y="20437"/>
                    <a:pt x="13456" y="20966"/>
                  </a:cubicBezTo>
                  <a:cubicBezTo>
                    <a:pt x="11557" y="21451"/>
                    <a:pt x="9834" y="21451"/>
                    <a:pt x="7934" y="20966"/>
                  </a:cubicBezTo>
                  <a:cubicBezTo>
                    <a:pt x="6035" y="20437"/>
                    <a:pt x="4533" y="19555"/>
                    <a:pt x="3164" y="18189"/>
                  </a:cubicBezTo>
                  <a:cubicBezTo>
                    <a:pt x="1750" y="16822"/>
                    <a:pt x="867" y="15324"/>
                    <a:pt x="381" y="13428"/>
                  </a:cubicBezTo>
                  <a:cubicBezTo>
                    <a:pt x="-149" y="11533"/>
                    <a:pt x="-105" y="9813"/>
                    <a:pt x="381" y="7918"/>
                  </a:cubicBezTo>
                  <a:cubicBezTo>
                    <a:pt x="911" y="6022"/>
                    <a:pt x="1750" y="4524"/>
                    <a:pt x="3164" y="3157"/>
                  </a:cubicBezTo>
                  <a:cubicBezTo>
                    <a:pt x="4533" y="1791"/>
                    <a:pt x="6035" y="865"/>
                    <a:pt x="7934" y="380"/>
                  </a:cubicBezTo>
                  <a:cubicBezTo>
                    <a:pt x="9834" y="-149"/>
                    <a:pt x="11557" y="-105"/>
                    <a:pt x="13456" y="380"/>
                  </a:cubicBezTo>
                  <a:cubicBezTo>
                    <a:pt x="15355" y="909"/>
                    <a:pt x="16857" y="1791"/>
                    <a:pt x="18226" y="3157"/>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6" name="Shape 3412"/>
            <p:cNvSpPr/>
            <p:nvPr/>
          </p:nvSpPr>
          <p:spPr>
            <a:xfrm>
              <a:off x="15561720" y="4078440"/>
              <a:ext cx="209880" cy="21240"/>
            </a:xfrm>
            <a:custGeom>
              <a:avLst/>
              <a:gdLst>
                <a:gd name="textAreaLeft" fmla="*/ 0 w 209880"/>
                <a:gd name="textAreaRight" fmla="*/ 210240 w 209880"/>
                <a:gd name="textAreaTop" fmla="*/ 0 h 21240"/>
                <a:gd name="textAreaBottom" fmla="*/ 21600 h 21240"/>
              </a:gdLst>
              <a:ahLst/>
              <a:rect l="textAreaLeft" t="textAreaTop" r="textAreaRight" b="textAreaBottom"/>
              <a:pathLst>
                <a:path w="21600" h="21600">
                  <a:moveTo>
                    <a:pt x="20522" y="21600"/>
                  </a:moveTo>
                  <a:lnTo>
                    <a:pt x="1078" y="21600"/>
                  </a:lnTo>
                  <a:cubicBezTo>
                    <a:pt x="431" y="21600"/>
                    <a:pt x="0" y="16848"/>
                    <a:pt x="0" y="10800"/>
                  </a:cubicBezTo>
                  <a:cubicBezTo>
                    <a:pt x="0" y="4320"/>
                    <a:pt x="431" y="0"/>
                    <a:pt x="1078" y="0"/>
                  </a:cubicBezTo>
                  <a:lnTo>
                    <a:pt x="20522" y="0"/>
                  </a:lnTo>
                  <a:cubicBezTo>
                    <a:pt x="21126" y="0"/>
                    <a:pt x="21600" y="4320"/>
                    <a:pt x="21600" y="10800"/>
                  </a:cubicBezTo>
                  <a:cubicBezTo>
                    <a:pt x="21600" y="15984"/>
                    <a:pt x="21126" y="21600"/>
                    <a:pt x="20522" y="21600"/>
                  </a:cubicBezTo>
                </a:path>
              </a:pathLst>
            </a:custGeom>
            <a:solidFill>
              <a:srgbClr val="545454"/>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7" name="Shape 3413"/>
            <p:cNvSpPr/>
            <p:nvPr/>
          </p:nvSpPr>
          <p:spPr>
            <a:xfrm>
              <a:off x="15644880" y="3971520"/>
              <a:ext cx="34200" cy="34200"/>
            </a:xfrm>
            <a:custGeom>
              <a:avLst/>
              <a:gdLst>
                <a:gd name="textAreaLeft" fmla="*/ 0 w 34200"/>
                <a:gd name="textAreaRight" fmla="*/ 34560 w 34200"/>
                <a:gd name="textAreaTop" fmla="*/ 0 h 34200"/>
                <a:gd name="textAreaBottom" fmla="*/ 34560 h 34200"/>
              </a:gdLst>
              <a:ahLst/>
              <a:rect l="textAreaLeft" t="textAreaTop" r="textAreaRight" b="textAreaBottom"/>
              <a:pathLst>
                <a:path w="21600" h="21600">
                  <a:moveTo>
                    <a:pt x="21600" y="10930"/>
                  </a:moveTo>
                  <a:cubicBezTo>
                    <a:pt x="21600" y="12752"/>
                    <a:pt x="21086" y="14573"/>
                    <a:pt x="20057" y="16395"/>
                  </a:cubicBezTo>
                  <a:cubicBezTo>
                    <a:pt x="19029" y="17957"/>
                    <a:pt x="18000" y="19258"/>
                    <a:pt x="16200" y="20299"/>
                  </a:cubicBezTo>
                  <a:cubicBezTo>
                    <a:pt x="14400" y="21340"/>
                    <a:pt x="12857" y="21600"/>
                    <a:pt x="10800" y="21600"/>
                  </a:cubicBezTo>
                  <a:cubicBezTo>
                    <a:pt x="8743" y="21600"/>
                    <a:pt x="7200" y="21340"/>
                    <a:pt x="5400" y="20299"/>
                  </a:cubicBezTo>
                  <a:cubicBezTo>
                    <a:pt x="3600" y="19258"/>
                    <a:pt x="2314" y="17957"/>
                    <a:pt x="1543" y="16395"/>
                  </a:cubicBezTo>
                  <a:cubicBezTo>
                    <a:pt x="514" y="14573"/>
                    <a:pt x="0" y="12752"/>
                    <a:pt x="0" y="10930"/>
                  </a:cubicBezTo>
                  <a:cubicBezTo>
                    <a:pt x="0" y="8848"/>
                    <a:pt x="514" y="7027"/>
                    <a:pt x="1543" y="5465"/>
                  </a:cubicBezTo>
                  <a:cubicBezTo>
                    <a:pt x="2314" y="3643"/>
                    <a:pt x="3600" y="2342"/>
                    <a:pt x="5400" y="1301"/>
                  </a:cubicBezTo>
                  <a:cubicBezTo>
                    <a:pt x="7200" y="260"/>
                    <a:pt x="8743" y="0"/>
                    <a:pt x="10800" y="0"/>
                  </a:cubicBezTo>
                  <a:cubicBezTo>
                    <a:pt x="12857" y="0"/>
                    <a:pt x="14400" y="260"/>
                    <a:pt x="16200" y="1301"/>
                  </a:cubicBezTo>
                  <a:cubicBezTo>
                    <a:pt x="18000" y="2342"/>
                    <a:pt x="19029" y="3643"/>
                    <a:pt x="20057" y="5465"/>
                  </a:cubicBezTo>
                  <a:cubicBezTo>
                    <a:pt x="21086" y="7027"/>
                    <a:pt x="21600" y="8848"/>
                    <a:pt x="21600" y="10930"/>
                  </a:cubicBezTo>
                </a:path>
              </a:pathLst>
            </a:custGeom>
            <a:solidFill>
              <a:srgbClr val="545454"/>
            </a:solidFill>
            <a:ln w="12700">
              <a:noFill/>
            </a:ln>
          </p:spPr>
          <p:style>
            <a:lnRef idx="0"/>
            <a:fillRef idx="0"/>
            <a:effectRef idx="0"/>
            <a:fontRef idx="minor"/>
          </p:style>
          <p:txBody>
            <a:bodyPr numCol="1" spcCol="0" lIns="45720" rIns="45720" tIns="17280" bIns="17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8" name="Shape 3414"/>
            <p:cNvSpPr/>
            <p:nvPr/>
          </p:nvSpPr>
          <p:spPr>
            <a:xfrm>
              <a:off x="15416280" y="4064040"/>
              <a:ext cx="48600" cy="48600"/>
            </a:xfrm>
            <a:custGeom>
              <a:avLst/>
              <a:gdLst>
                <a:gd name="textAreaLeft" fmla="*/ 0 w 48600"/>
                <a:gd name="textAreaRight" fmla="*/ 48960 w 48600"/>
                <a:gd name="textAreaTop" fmla="*/ 0 h 48600"/>
                <a:gd name="textAreaBottom" fmla="*/ 48960 h 48600"/>
              </a:gdLst>
              <a:ahLst/>
              <a:rect l="textAreaLeft" t="textAreaTop" r="textAreaRight" b="textAreaBottom"/>
              <a:pathLst>
                <a:path w="21328" h="21346">
                  <a:moveTo>
                    <a:pt x="11481" y="64"/>
                  </a:moveTo>
                  <a:cubicBezTo>
                    <a:pt x="13296" y="64"/>
                    <a:pt x="14930" y="608"/>
                    <a:pt x="16563" y="1879"/>
                  </a:cubicBezTo>
                  <a:cubicBezTo>
                    <a:pt x="18197" y="2968"/>
                    <a:pt x="19286" y="4057"/>
                    <a:pt x="20193" y="5872"/>
                  </a:cubicBezTo>
                  <a:cubicBezTo>
                    <a:pt x="21101" y="7506"/>
                    <a:pt x="21464" y="9321"/>
                    <a:pt x="21282" y="11317"/>
                  </a:cubicBezTo>
                  <a:cubicBezTo>
                    <a:pt x="21101" y="13132"/>
                    <a:pt x="20556" y="14948"/>
                    <a:pt x="19467" y="16581"/>
                  </a:cubicBezTo>
                  <a:cubicBezTo>
                    <a:pt x="18378" y="18215"/>
                    <a:pt x="17108" y="19304"/>
                    <a:pt x="15293" y="20211"/>
                  </a:cubicBezTo>
                  <a:cubicBezTo>
                    <a:pt x="13477" y="21119"/>
                    <a:pt x="11844" y="21482"/>
                    <a:pt x="9847" y="21300"/>
                  </a:cubicBezTo>
                  <a:cubicBezTo>
                    <a:pt x="7851" y="21119"/>
                    <a:pt x="6217" y="20574"/>
                    <a:pt x="4583" y="19485"/>
                  </a:cubicBezTo>
                  <a:cubicBezTo>
                    <a:pt x="2950" y="18396"/>
                    <a:pt x="1861" y="17126"/>
                    <a:pt x="1135" y="15311"/>
                  </a:cubicBezTo>
                  <a:cubicBezTo>
                    <a:pt x="227" y="13495"/>
                    <a:pt x="-136" y="11862"/>
                    <a:pt x="46" y="9865"/>
                  </a:cubicBezTo>
                  <a:cubicBezTo>
                    <a:pt x="227" y="7869"/>
                    <a:pt x="772" y="6235"/>
                    <a:pt x="1861" y="4601"/>
                  </a:cubicBezTo>
                  <a:cubicBezTo>
                    <a:pt x="2950" y="2968"/>
                    <a:pt x="4220" y="1697"/>
                    <a:pt x="6035" y="971"/>
                  </a:cubicBezTo>
                  <a:cubicBezTo>
                    <a:pt x="7669" y="64"/>
                    <a:pt x="9484" y="-118"/>
                    <a:pt x="11481" y="64"/>
                  </a:cubicBezTo>
                </a:path>
              </a:pathLst>
            </a:custGeom>
            <a:solidFill>
              <a:srgbClr val="545454"/>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69" name="Shape 3415"/>
            <p:cNvSpPr/>
            <p:nvPr/>
          </p:nvSpPr>
          <p:spPr>
            <a:xfrm>
              <a:off x="15421680" y="4071600"/>
              <a:ext cx="35640" cy="35640"/>
            </a:xfrm>
            <a:custGeom>
              <a:avLst/>
              <a:gdLst>
                <a:gd name="textAreaLeft" fmla="*/ 0 w 35640"/>
                <a:gd name="textAreaRight" fmla="*/ 36000 w 35640"/>
                <a:gd name="textAreaTop" fmla="*/ 0 h 35640"/>
                <a:gd name="textAreaBottom" fmla="*/ 36000 h 35640"/>
              </a:gdLst>
              <a:ahLst/>
              <a:rect l="textAreaLeft" t="textAreaTop" r="textAreaRight" b="textAreaBottom"/>
              <a:pathLst>
                <a:path w="21282" h="21282">
                  <a:moveTo>
                    <a:pt x="17121" y="2128"/>
                  </a:moveTo>
                  <a:cubicBezTo>
                    <a:pt x="18646" y="3399"/>
                    <a:pt x="19662" y="4669"/>
                    <a:pt x="20425" y="6448"/>
                  </a:cubicBezTo>
                  <a:cubicBezTo>
                    <a:pt x="21187" y="8227"/>
                    <a:pt x="21441" y="10006"/>
                    <a:pt x="21187" y="12039"/>
                  </a:cubicBezTo>
                  <a:cubicBezTo>
                    <a:pt x="20933" y="13817"/>
                    <a:pt x="20170" y="15342"/>
                    <a:pt x="19154" y="17121"/>
                  </a:cubicBezTo>
                  <a:cubicBezTo>
                    <a:pt x="17883" y="18646"/>
                    <a:pt x="16613" y="19662"/>
                    <a:pt x="14834" y="20425"/>
                  </a:cubicBezTo>
                  <a:cubicBezTo>
                    <a:pt x="13055" y="21187"/>
                    <a:pt x="11276" y="21441"/>
                    <a:pt x="9497" y="21187"/>
                  </a:cubicBezTo>
                  <a:cubicBezTo>
                    <a:pt x="7465" y="20933"/>
                    <a:pt x="5686" y="20170"/>
                    <a:pt x="4161" y="19154"/>
                  </a:cubicBezTo>
                  <a:cubicBezTo>
                    <a:pt x="2382" y="17883"/>
                    <a:pt x="1620" y="16613"/>
                    <a:pt x="857" y="14834"/>
                  </a:cubicBezTo>
                  <a:cubicBezTo>
                    <a:pt x="95" y="12801"/>
                    <a:pt x="-159" y="11276"/>
                    <a:pt x="95" y="9243"/>
                  </a:cubicBezTo>
                  <a:cubicBezTo>
                    <a:pt x="349" y="7210"/>
                    <a:pt x="857" y="5686"/>
                    <a:pt x="2128" y="4161"/>
                  </a:cubicBezTo>
                  <a:cubicBezTo>
                    <a:pt x="3145" y="2636"/>
                    <a:pt x="4669" y="1620"/>
                    <a:pt x="6702" y="857"/>
                  </a:cubicBezTo>
                  <a:cubicBezTo>
                    <a:pt x="8481" y="95"/>
                    <a:pt x="10006" y="-159"/>
                    <a:pt x="12039" y="95"/>
                  </a:cubicBezTo>
                  <a:cubicBezTo>
                    <a:pt x="14072" y="349"/>
                    <a:pt x="15596" y="857"/>
                    <a:pt x="17121" y="2128"/>
                  </a:cubicBezTo>
                </a:path>
              </a:pathLst>
            </a:custGeom>
            <a:solidFill>
              <a:srgbClr val="7f7f7f"/>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70" name="Shape 3416"/>
            <p:cNvSpPr/>
            <p:nvPr/>
          </p:nvSpPr>
          <p:spPr>
            <a:xfrm>
              <a:off x="15430680" y="4078440"/>
              <a:ext cx="19440" cy="19440"/>
            </a:xfrm>
            <a:custGeom>
              <a:avLst/>
              <a:gdLst>
                <a:gd name="textAreaLeft" fmla="*/ 0 w 19440"/>
                <a:gd name="textAreaRight" fmla="*/ 19800 w 19440"/>
                <a:gd name="textAreaTop" fmla="*/ 0 h 19440"/>
                <a:gd name="textAreaBottom" fmla="*/ 19800 h 19440"/>
              </a:gdLst>
              <a:ahLst/>
              <a:rect l="textAreaLeft" t="textAreaTop" r="textAreaRight" b="textAreaBottom"/>
              <a:pathLst>
                <a:path w="21600" h="21600">
                  <a:moveTo>
                    <a:pt x="20191" y="4696"/>
                  </a:moveTo>
                  <a:cubicBezTo>
                    <a:pt x="21130" y="6574"/>
                    <a:pt x="21130" y="8452"/>
                    <a:pt x="21600" y="10330"/>
                  </a:cubicBezTo>
                  <a:cubicBezTo>
                    <a:pt x="21600" y="12209"/>
                    <a:pt x="21600" y="13617"/>
                    <a:pt x="20661" y="15496"/>
                  </a:cubicBezTo>
                  <a:cubicBezTo>
                    <a:pt x="19722" y="16904"/>
                    <a:pt x="18313" y="18313"/>
                    <a:pt x="16904" y="19722"/>
                  </a:cubicBezTo>
                  <a:cubicBezTo>
                    <a:pt x="15026" y="20661"/>
                    <a:pt x="13617" y="21600"/>
                    <a:pt x="11270" y="21600"/>
                  </a:cubicBezTo>
                  <a:cubicBezTo>
                    <a:pt x="9391" y="21600"/>
                    <a:pt x="7983" y="21130"/>
                    <a:pt x="6104" y="20191"/>
                  </a:cubicBezTo>
                  <a:cubicBezTo>
                    <a:pt x="4226" y="19252"/>
                    <a:pt x="2817" y="17843"/>
                    <a:pt x="1878" y="16435"/>
                  </a:cubicBezTo>
                  <a:cubicBezTo>
                    <a:pt x="939" y="14557"/>
                    <a:pt x="470" y="13148"/>
                    <a:pt x="0" y="11270"/>
                  </a:cubicBezTo>
                  <a:cubicBezTo>
                    <a:pt x="0" y="8922"/>
                    <a:pt x="470" y="7513"/>
                    <a:pt x="1409" y="5635"/>
                  </a:cubicBezTo>
                  <a:cubicBezTo>
                    <a:pt x="2348" y="3757"/>
                    <a:pt x="3287" y="2348"/>
                    <a:pt x="5165" y="1409"/>
                  </a:cubicBezTo>
                  <a:cubicBezTo>
                    <a:pt x="7043" y="0"/>
                    <a:pt x="8452" y="0"/>
                    <a:pt x="10330" y="0"/>
                  </a:cubicBezTo>
                  <a:cubicBezTo>
                    <a:pt x="12678" y="0"/>
                    <a:pt x="14087" y="0"/>
                    <a:pt x="15965" y="939"/>
                  </a:cubicBezTo>
                  <a:cubicBezTo>
                    <a:pt x="17843" y="1878"/>
                    <a:pt x="19252" y="3287"/>
                    <a:pt x="20191" y="4696"/>
                  </a:cubicBezTo>
                </a:path>
              </a:pathLst>
            </a:custGeom>
            <a:solidFill>
              <a:srgbClr val="545454"/>
            </a:solidFill>
            <a:ln w="12700">
              <a:noFill/>
            </a:ln>
          </p:spPr>
          <p:style>
            <a:lnRef idx="0"/>
            <a:fillRef idx="0"/>
            <a:effectRef idx="0"/>
            <a:fontRef idx="minor"/>
          </p:style>
          <p:txBody>
            <a:bodyPr numCol="1" spcCol="0"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071" name="Group 3433"/>
          <p:cNvGrpSpPr/>
          <p:nvPr/>
        </p:nvGrpSpPr>
        <p:grpSpPr>
          <a:xfrm>
            <a:off x="18935640" y="2046600"/>
            <a:ext cx="3411000" cy="4811040"/>
            <a:chOff x="18935640" y="2046600"/>
            <a:chExt cx="3411000" cy="4811040"/>
          </a:xfrm>
        </p:grpSpPr>
        <p:sp>
          <p:nvSpPr>
            <p:cNvPr id="6072" name="Shape 3418"/>
            <p:cNvSpPr/>
            <p:nvPr/>
          </p:nvSpPr>
          <p:spPr>
            <a:xfrm>
              <a:off x="18935640" y="2046600"/>
              <a:ext cx="3411000" cy="4811040"/>
            </a:xfrm>
            <a:custGeom>
              <a:avLst/>
              <a:gdLst>
                <a:gd name="textAreaLeft" fmla="*/ 0 w 3411000"/>
                <a:gd name="textAreaRight" fmla="*/ 3411360 w 3411000"/>
                <a:gd name="textAreaTop" fmla="*/ 0 h 4811040"/>
                <a:gd name="textAreaBottom" fmla="*/ 4811400 h 4811040"/>
              </a:gdLst>
              <a:ahLst/>
              <a:rect l="textAreaLeft" t="textAreaTop" r="textAreaRight" b="textAreaBottom"/>
              <a:pathLst>
                <a:path w="21600" h="21600">
                  <a:moveTo>
                    <a:pt x="20422" y="21600"/>
                  </a:moveTo>
                  <a:lnTo>
                    <a:pt x="1178" y="21600"/>
                  </a:lnTo>
                  <a:cubicBezTo>
                    <a:pt x="525" y="21600"/>
                    <a:pt x="0" y="21228"/>
                    <a:pt x="0" y="20767"/>
                  </a:cubicBezTo>
                  <a:lnTo>
                    <a:pt x="0" y="835"/>
                  </a:lnTo>
                  <a:cubicBezTo>
                    <a:pt x="0" y="372"/>
                    <a:pt x="525" y="0"/>
                    <a:pt x="1178" y="0"/>
                  </a:cubicBezTo>
                  <a:lnTo>
                    <a:pt x="20422" y="0"/>
                  </a:lnTo>
                  <a:cubicBezTo>
                    <a:pt x="21075" y="0"/>
                    <a:pt x="21600" y="372"/>
                    <a:pt x="21600" y="835"/>
                  </a:cubicBezTo>
                  <a:lnTo>
                    <a:pt x="21600" y="20767"/>
                  </a:lnTo>
                  <a:cubicBezTo>
                    <a:pt x="21600" y="21228"/>
                    <a:pt x="21075" y="21600"/>
                    <a:pt x="20422"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73" name="Shape 3419"/>
            <p:cNvSpPr/>
            <p:nvPr/>
          </p:nvSpPr>
          <p:spPr>
            <a:xfrm>
              <a:off x="18956520" y="2067120"/>
              <a:ext cx="3367080" cy="4767480"/>
            </a:xfrm>
            <a:custGeom>
              <a:avLst/>
              <a:gdLst>
                <a:gd name="textAreaLeft" fmla="*/ 0 w 3367080"/>
                <a:gd name="textAreaRight" fmla="*/ 3367440 w 3367080"/>
                <a:gd name="textAreaTop" fmla="*/ 0 h 4767480"/>
                <a:gd name="textAreaBottom" fmla="*/ 4767840 h 4767480"/>
              </a:gdLst>
              <a:ahLst/>
              <a:rect l="textAreaLeft" t="textAreaTop" r="textAreaRight" b="textAreaBottom"/>
              <a:pathLst>
                <a:path w="21600" h="21600">
                  <a:moveTo>
                    <a:pt x="20547" y="21600"/>
                  </a:moveTo>
                  <a:lnTo>
                    <a:pt x="1053" y="21600"/>
                  </a:lnTo>
                  <a:cubicBezTo>
                    <a:pt x="468" y="21600"/>
                    <a:pt x="0" y="21269"/>
                    <a:pt x="0" y="20858"/>
                  </a:cubicBezTo>
                  <a:lnTo>
                    <a:pt x="0" y="744"/>
                  </a:lnTo>
                  <a:cubicBezTo>
                    <a:pt x="0" y="331"/>
                    <a:pt x="468" y="0"/>
                    <a:pt x="1053" y="0"/>
                  </a:cubicBezTo>
                  <a:lnTo>
                    <a:pt x="20547" y="0"/>
                  </a:lnTo>
                  <a:cubicBezTo>
                    <a:pt x="21132" y="0"/>
                    <a:pt x="21600" y="331"/>
                    <a:pt x="21600" y="744"/>
                  </a:cubicBezTo>
                  <a:lnTo>
                    <a:pt x="21600" y="20858"/>
                  </a:lnTo>
                  <a:cubicBezTo>
                    <a:pt x="21600" y="21269"/>
                    <a:pt x="21132" y="21600"/>
                    <a:pt x="20547"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74" name="Shape 3420"/>
            <p:cNvSpPr/>
            <p:nvPr/>
          </p:nvSpPr>
          <p:spPr>
            <a:xfrm>
              <a:off x="19131120" y="2451240"/>
              <a:ext cx="3017880" cy="4001760"/>
            </a:xfrm>
            <a:custGeom>
              <a:avLst/>
              <a:gdLst>
                <a:gd name="textAreaLeft" fmla="*/ 0 w 3017880"/>
                <a:gd name="textAreaRight" fmla="*/ 3018240 w 3017880"/>
                <a:gd name="textAreaTop" fmla="*/ 0 h 4001760"/>
                <a:gd name="textAreaBottom" fmla="*/ 4002120 h 400176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75" name="Shape 3421"/>
            <p:cNvSpPr/>
            <p:nvPr/>
          </p:nvSpPr>
          <p:spPr>
            <a:xfrm>
              <a:off x="19142640" y="2460240"/>
              <a:ext cx="2997000" cy="3981240"/>
            </a:xfrm>
            <a:custGeom>
              <a:avLst/>
              <a:gdLst>
                <a:gd name="textAreaLeft" fmla="*/ 0 w 2997000"/>
                <a:gd name="textAreaRight" fmla="*/ 2997360 w 2997000"/>
                <a:gd name="textAreaTop" fmla="*/ 0 h 3981240"/>
                <a:gd name="textAreaBottom" fmla="*/ 3981600 h 398124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76" name="Shape 3422"/>
            <p:cNvSpPr/>
            <p:nvPr/>
          </p:nvSpPr>
          <p:spPr>
            <a:xfrm>
              <a:off x="20614320" y="2235600"/>
              <a:ext cx="54000" cy="53640"/>
            </a:xfrm>
            <a:custGeom>
              <a:avLst/>
              <a:gdLst>
                <a:gd name="textAreaLeft" fmla="*/ 0 w 54000"/>
                <a:gd name="textAreaRight" fmla="*/ 54360 w 54000"/>
                <a:gd name="textAreaTop" fmla="*/ 0 h 53640"/>
                <a:gd name="textAreaBottom" fmla="*/ 54000 h 53640"/>
              </a:gdLst>
              <a:ahLst/>
              <a:rect l="textAreaLeft" t="textAreaTop" r="textAreaRight" b="textAreaBottom"/>
              <a:pathLst>
                <a:path w="21448" h="21296">
                  <a:moveTo>
                    <a:pt x="11463" y="52"/>
                  </a:moveTo>
                  <a:cubicBezTo>
                    <a:pt x="13501" y="52"/>
                    <a:pt x="15131" y="663"/>
                    <a:pt x="16761" y="1682"/>
                  </a:cubicBezTo>
                  <a:cubicBezTo>
                    <a:pt x="18391" y="2905"/>
                    <a:pt x="19206" y="4127"/>
                    <a:pt x="20225" y="5961"/>
                  </a:cubicBezTo>
                  <a:cubicBezTo>
                    <a:pt x="21040" y="7795"/>
                    <a:pt x="21448" y="9629"/>
                    <a:pt x="21448" y="11463"/>
                  </a:cubicBezTo>
                  <a:cubicBezTo>
                    <a:pt x="21244" y="13501"/>
                    <a:pt x="20633" y="14927"/>
                    <a:pt x="19614" y="16557"/>
                  </a:cubicBezTo>
                  <a:cubicBezTo>
                    <a:pt x="18391" y="18188"/>
                    <a:pt x="17169" y="19410"/>
                    <a:pt x="15335" y="20225"/>
                  </a:cubicBezTo>
                  <a:cubicBezTo>
                    <a:pt x="13501" y="21040"/>
                    <a:pt x="11667" y="21448"/>
                    <a:pt x="9833" y="21244"/>
                  </a:cubicBezTo>
                  <a:cubicBezTo>
                    <a:pt x="7795" y="21244"/>
                    <a:pt x="6369" y="20633"/>
                    <a:pt x="4739" y="19410"/>
                  </a:cubicBezTo>
                  <a:cubicBezTo>
                    <a:pt x="3108" y="18391"/>
                    <a:pt x="1886" y="17169"/>
                    <a:pt x="1071" y="15335"/>
                  </a:cubicBezTo>
                  <a:cubicBezTo>
                    <a:pt x="256" y="13501"/>
                    <a:pt x="-152" y="11871"/>
                    <a:pt x="52" y="9833"/>
                  </a:cubicBezTo>
                  <a:cubicBezTo>
                    <a:pt x="256" y="7999"/>
                    <a:pt x="663" y="6369"/>
                    <a:pt x="1886" y="4739"/>
                  </a:cubicBezTo>
                  <a:cubicBezTo>
                    <a:pt x="2905" y="3108"/>
                    <a:pt x="4127" y="1886"/>
                    <a:pt x="5961" y="1071"/>
                  </a:cubicBezTo>
                  <a:cubicBezTo>
                    <a:pt x="7591" y="256"/>
                    <a:pt x="9425" y="-152"/>
                    <a:pt x="11463" y="52"/>
                  </a:cubicBezTo>
                </a:path>
              </a:pathLst>
            </a:custGeom>
            <a:solidFill>
              <a:srgbClr val="545454"/>
            </a:solidFill>
            <a:ln w="12700">
              <a:noFill/>
            </a:ln>
          </p:spPr>
          <p:style>
            <a:lnRef idx="0"/>
            <a:fillRef idx="0"/>
            <a:effectRef idx="0"/>
            <a:fontRef idx="minor"/>
          </p:style>
          <p:txBody>
            <a:bodyPr numCol="1" spcCol="0" lIns="45720" rIns="45720" tIns="27000" bIns="27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77" name="Shape 3423"/>
            <p:cNvSpPr/>
            <p:nvPr/>
          </p:nvSpPr>
          <p:spPr>
            <a:xfrm>
              <a:off x="20620800" y="2244600"/>
              <a:ext cx="38160" cy="39960"/>
            </a:xfrm>
            <a:custGeom>
              <a:avLst/>
              <a:gdLst>
                <a:gd name="textAreaLeft" fmla="*/ 0 w 38160"/>
                <a:gd name="textAreaRight" fmla="*/ 38520 w 38160"/>
                <a:gd name="textAreaTop" fmla="*/ 0 h 39960"/>
                <a:gd name="textAreaBottom" fmla="*/ 40320 h 39960"/>
              </a:gdLst>
              <a:ahLst/>
              <a:rect l="textAreaLeft" t="textAreaTop" r="textAreaRight" b="textAreaBottom"/>
              <a:pathLst>
                <a:path w="21600" h="21254">
                  <a:moveTo>
                    <a:pt x="17568" y="2074"/>
                  </a:moveTo>
                  <a:cubicBezTo>
                    <a:pt x="19008" y="3196"/>
                    <a:pt x="20160" y="4879"/>
                    <a:pt x="21024" y="6562"/>
                  </a:cubicBezTo>
                  <a:cubicBezTo>
                    <a:pt x="21600" y="8526"/>
                    <a:pt x="21600" y="9929"/>
                    <a:pt x="21600" y="11892"/>
                  </a:cubicBezTo>
                  <a:cubicBezTo>
                    <a:pt x="21312" y="13856"/>
                    <a:pt x="20736" y="15539"/>
                    <a:pt x="19584" y="16942"/>
                  </a:cubicBezTo>
                  <a:cubicBezTo>
                    <a:pt x="18432" y="18625"/>
                    <a:pt x="16992" y="19466"/>
                    <a:pt x="15264" y="20308"/>
                  </a:cubicBezTo>
                  <a:cubicBezTo>
                    <a:pt x="13248" y="21149"/>
                    <a:pt x="11520" y="21430"/>
                    <a:pt x="9504" y="21149"/>
                  </a:cubicBezTo>
                  <a:cubicBezTo>
                    <a:pt x="7488" y="20869"/>
                    <a:pt x="5760" y="20308"/>
                    <a:pt x="4320" y="18905"/>
                  </a:cubicBezTo>
                  <a:cubicBezTo>
                    <a:pt x="2592" y="17783"/>
                    <a:pt x="1728" y="16381"/>
                    <a:pt x="864" y="14698"/>
                  </a:cubicBezTo>
                  <a:cubicBezTo>
                    <a:pt x="0" y="13014"/>
                    <a:pt x="0" y="11051"/>
                    <a:pt x="0" y="9368"/>
                  </a:cubicBezTo>
                  <a:cubicBezTo>
                    <a:pt x="288" y="7404"/>
                    <a:pt x="1152" y="5721"/>
                    <a:pt x="2304" y="4038"/>
                  </a:cubicBezTo>
                  <a:cubicBezTo>
                    <a:pt x="3456" y="2635"/>
                    <a:pt x="4608" y="1513"/>
                    <a:pt x="6624" y="672"/>
                  </a:cubicBezTo>
                  <a:cubicBezTo>
                    <a:pt x="8352" y="111"/>
                    <a:pt x="10368" y="-170"/>
                    <a:pt x="12384" y="111"/>
                  </a:cubicBezTo>
                  <a:cubicBezTo>
                    <a:pt x="14400" y="391"/>
                    <a:pt x="15840" y="952"/>
                    <a:pt x="17568" y="2074"/>
                  </a:cubicBezTo>
                </a:path>
              </a:pathLst>
            </a:custGeom>
            <a:solidFill>
              <a:srgbClr val="7f7f7f"/>
            </a:solidFill>
            <a:ln w="12700">
              <a:noFill/>
            </a:ln>
          </p:spPr>
          <p:style>
            <a:lnRef idx="0"/>
            <a:fillRef idx="0"/>
            <a:effectRef idx="0"/>
            <a:fontRef idx="minor"/>
          </p:style>
          <p:txBody>
            <a:bodyPr numCol="1" spcCol="0" lIns="45720" rIns="45720" tIns="20160" bIns="20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78" name="Shape 3424"/>
            <p:cNvSpPr/>
            <p:nvPr/>
          </p:nvSpPr>
          <p:spPr>
            <a:xfrm>
              <a:off x="20630160" y="2253600"/>
              <a:ext cx="21960" cy="21960"/>
            </a:xfrm>
            <a:custGeom>
              <a:avLst/>
              <a:gdLst>
                <a:gd name="textAreaLeft" fmla="*/ 0 w 21960"/>
                <a:gd name="textAreaRight" fmla="*/ 22320 w 21960"/>
                <a:gd name="textAreaTop" fmla="*/ 0 h 21960"/>
                <a:gd name="textAreaBottom" fmla="*/ 22320 h 21960"/>
              </a:gdLst>
              <a:ahLst/>
              <a:rect l="textAreaLeft" t="textAreaTop" r="textAreaRight" b="textAreaBottom"/>
              <a:pathLst>
                <a:path w="21600" h="21600">
                  <a:moveTo>
                    <a:pt x="19543" y="5143"/>
                  </a:moveTo>
                  <a:cubicBezTo>
                    <a:pt x="20571" y="6686"/>
                    <a:pt x="21086" y="8229"/>
                    <a:pt x="21600" y="10286"/>
                  </a:cubicBezTo>
                  <a:cubicBezTo>
                    <a:pt x="21600" y="12857"/>
                    <a:pt x="21086" y="14400"/>
                    <a:pt x="20057" y="15943"/>
                  </a:cubicBezTo>
                  <a:cubicBezTo>
                    <a:pt x="19029" y="18000"/>
                    <a:pt x="18000" y="19029"/>
                    <a:pt x="16457" y="20057"/>
                  </a:cubicBezTo>
                  <a:cubicBezTo>
                    <a:pt x="14914" y="21086"/>
                    <a:pt x="12857" y="21600"/>
                    <a:pt x="11314" y="21600"/>
                  </a:cubicBezTo>
                  <a:cubicBezTo>
                    <a:pt x="9257" y="21600"/>
                    <a:pt x="7200" y="21086"/>
                    <a:pt x="5657" y="20057"/>
                  </a:cubicBezTo>
                  <a:cubicBezTo>
                    <a:pt x="4114" y="19543"/>
                    <a:pt x="2571" y="18000"/>
                    <a:pt x="1543" y="16457"/>
                  </a:cubicBezTo>
                  <a:cubicBezTo>
                    <a:pt x="514" y="14914"/>
                    <a:pt x="0" y="13371"/>
                    <a:pt x="0" y="11314"/>
                  </a:cubicBezTo>
                  <a:cubicBezTo>
                    <a:pt x="0" y="9257"/>
                    <a:pt x="0" y="7714"/>
                    <a:pt x="1029" y="5657"/>
                  </a:cubicBezTo>
                  <a:cubicBezTo>
                    <a:pt x="2057" y="4114"/>
                    <a:pt x="2571" y="2571"/>
                    <a:pt x="4629" y="1543"/>
                  </a:cubicBezTo>
                  <a:cubicBezTo>
                    <a:pt x="6171" y="514"/>
                    <a:pt x="8229" y="0"/>
                    <a:pt x="10286" y="0"/>
                  </a:cubicBezTo>
                  <a:cubicBezTo>
                    <a:pt x="12343" y="0"/>
                    <a:pt x="13886" y="514"/>
                    <a:pt x="15429" y="1029"/>
                  </a:cubicBezTo>
                  <a:cubicBezTo>
                    <a:pt x="17486" y="2057"/>
                    <a:pt x="18514" y="3086"/>
                    <a:pt x="19543" y="5143"/>
                  </a:cubicBezTo>
                </a:path>
              </a:pathLst>
            </a:custGeom>
            <a:solidFill>
              <a:srgbClr val="545454"/>
            </a:solidFill>
            <a:ln w="12700">
              <a:noFill/>
            </a:ln>
          </p:spPr>
          <p:style>
            <a:lnRef idx="0"/>
            <a:fillRef idx="0"/>
            <a:effectRef idx="0"/>
            <a:fontRef idx="minor"/>
          </p:style>
          <p:txBody>
            <a:bodyPr numCol="1" spcCol="0" lIns="45720" rIns="45720" tIns="11160" bIns="11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79" name="Shape 3425"/>
            <p:cNvSpPr/>
            <p:nvPr/>
          </p:nvSpPr>
          <p:spPr>
            <a:xfrm>
              <a:off x="20535120" y="6558840"/>
              <a:ext cx="210240" cy="210240"/>
            </a:xfrm>
            <a:custGeom>
              <a:avLst/>
              <a:gdLst>
                <a:gd name="textAreaLeft" fmla="*/ 0 w 210240"/>
                <a:gd name="textAreaRight" fmla="*/ 210600 w 210240"/>
                <a:gd name="textAreaTop" fmla="*/ 0 h 210240"/>
                <a:gd name="textAreaBottom" fmla="*/ 210600 h 210240"/>
              </a:gdLst>
              <a:ahLst/>
              <a:rect l="textAreaLeft" t="textAreaTop" r="textAreaRight" b="textAreaBottom"/>
              <a:pathLst>
                <a:path w="21329" h="21316">
                  <a:moveTo>
                    <a:pt x="18219" y="3122"/>
                  </a:moveTo>
                  <a:cubicBezTo>
                    <a:pt x="19595" y="4495"/>
                    <a:pt x="20442" y="5974"/>
                    <a:pt x="20972" y="7875"/>
                  </a:cubicBezTo>
                  <a:cubicBezTo>
                    <a:pt x="21448" y="9777"/>
                    <a:pt x="21448" y="11467"/>
                    <a:pt x="20972" y="13368"/>
                  </a:cubicBezTo>
                  <a:cubicBezTo>
                    <a:pt x="20442" y="15269"/>
                    <a:pt x="19595" y="16801"/>
                    <a:pt x="18219" y="18174"/>
                  </a:cubicBezTo>
                  <a:cubicBezTo>
                    <a:pt x="16842" y="19600"/>
                    <a:pt x="15360" y="20445"/>
                    <a:pt x="13454" y="20920"/>
                  </a:cubicBezTo>
                  <a:cubicBezTo>
                    <a:pt x="11548" y="21448"/>
                    <a:pt x="9801" y="21448"/>
                    <a:pt x="7948" y="20920"/>
                  </a:cubicBezTo>
                  <a:cubicBezTo>
                    <a:pt x="6042" y="20445"/>
                    <a:pt x="4507" y="19547"/>
                    <a:pt x="3130" y="18121"/>
                  </a:cubicBezTo>
                  <a:cubicBezTo>
                    <a:pt x="1701" y="16748"/>
                    <a:pt x="854" y="15269"/>
                    <a:pt x="377" y="13368"/>
                  </a:cubicBezTo>
                  <a:cubicBezTo>
                    <a:pt x="-152" y="11467"/>
                    <a:pt x="-99" y="9777"/>
                    <a:pt x="377" y="7875"/>
                  </a:cubicBezTo>
                  <a:cubicBezTo>
                    <a:pt x="907" y="5974"/>
                    <a:pt x="1701" y="4548"/>
                    <a:pt x="3130" y="3122"/>
                  </a:cubicBezTo>
                  <a:cubicBezTo>
                    <a:pt x="4507" y="1749"/>
                    <a:pt x="6042" y="904"/>
                    <a:pt x="7948" y="376"/>
                  </a:cubicBezTo>
                  <a:cubicBezTo>
                    <a:pt x="9801" y="-99"/>
                    <a:pt x="11548" y="-152"/>
                    <a:pt x="13454" y="376"/>
                  </a:cubicBezTo>
                  <a:cubicBezTo>
                    <a:pt x="15360" y="851"/>
                    <a:pt x="16842" y="1696"/>
                    <a:pt x="18219" y="3122"/>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80" name="Shape 3426"/>
            <p:cNvSpPr/>
            <p:nvPr/>
          </p:nvSpPr>
          <p:spPr>
            <a:xfrm>
              <a:off x="20533680" y="6559560"/>
              <a:ext cx="100440" cy="109440"/>
            </a:xfrm>
            <a:custGeom>
              <a:avLst/>
              <a:gdLst>
                <a:gd name="textAreaLeft" fmla="*/ 0 w 100440"/>
                <a:gd name="textAreaRight" fmla="*/ 100800 w 100440"/>
                <a:gd name="textAreaTop" fmla="*/ 0 h 109440"/>
                <a:gd name="textAreaBottom" fmla="*/ 109800 h 109440"/>
              </a:gdLst>
              <a:ahLst/>
              <a:rect l="textAreaLeft" t="textAreaTop" r="textAreaRight" b="textAreaBottom"/>
              <a:pathLst>
                <a:path w="21600" h="21600">
                  <a:moveTo>
                    <a:pt x="6107" y="6408"/>
                  </a:moveTo>
                  <a:cubicBezTo>
                    <a:pt x="1696" y="10542"/>
                    <a:pt x="0" y="15089"/>
                    <a:pt x="0" y="21600"/>
                  </a:cubicBezTo>
                  <a:lnTo>
                    <a:pt x="21600" y="21600"/>
                  </a:lnTo>
                  <a:lnTo>
                    <a:pt x="21600" y="0"/>
                  </a:lnTo>
                  <a:cubicBezTo>
                    <a:pt x="16850" y="0"/>
                    <a:pt x="10404" y="2377"/>
                    <a:pt x="6107" y="6408"/>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81" name="Shape 3427"/>
            <p:cNvSpPr/>
            <p:nvPr/>
          </p:nvSpPr>
          <p:spPr>
            <a:xfrm>
              <a:off x="20552040" y="6558840"/>
              <a:ext cx="146160" cy="105840"/>
            </a:xfrm>
            <a:custGeom>
              <a:avLst/>
              <a:gdLst>
                <a:gd name="textAreaLeft" fmla="*/ 0 w 146160"/>
                <a:gd name="textAreaRight" fmla="*/ 146520 w 146160"/>
                <a:gd name="textAreaTop" fmla="*/ 0 h 105840"/>
                <a:gd name="textAreaBottom" fmla="*/ 106200 h 105840"/>
              </a:gdLst>
              <a:ahLst/>
              <a:rect l="textAreaLeft" t="textAreaTop" r="textAreaRight" b="textAreaBottom"/>
              <a:pathLst>
                <a:path w="21600" h="20865">
                  <a:moveTo>
                    <a:pt x="10034" y="396"/>
                  </a:moveTo>
                  <a:cubicBezTo>
                    <a:pt x="5821" y="1425"/>
                    <a:pt x="2298" y="4716"/>
                    <a:pt x="0" y="9036"/>
                  </a:cubicBezTo>
                  <a:lnTo>
                    <a:pt x="12715" y="20865"/>
                  </a:lnTo>
                  <a:lnTo>
                    <a:pt x="21600" y="3791"/>
                  </a:lnTo>
                  <a:cubicBezTo>
                    <a:pt x="18383" y="602"/>
                    <a:pt x="14170" y="-735"/>
                    <a:pt x="10034" y="396"/>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82" name="Shape 3428"/>
            <p:cNvSpPr/>
            <p:nvPr/>
          </p:nvSpPr>
          <p:spPr>
            <a:xfrm>
              <a:off x="20590920" y="6558840"/>
              <a:ext cx="141840" cy="105480"/>
            </a:xfrm>
            <a:custGeom>
              <a:avLst/>
              <a:gdLst>
                <a:gd name="textAreaLeft" fmla="*/ 0 w 141840"/>
                <a:gd name="textAreaRight" fmla="*/ 142200 w 141840"/>
                <a:gd name="textAreaTop" fmla="*/ 0 h 105480"/>
                <a:gd name="textAreaBottom" fmla="*/ 105840 h 105480"/>
              </a:gdLst>
              <a:ahLst/>
              <a:rect l="textAreaLeft" t="textAreaTop" r="textAreaRight" b="textAreaBottom"/>
              <a:pathLst>
                <a:path w="21600" h="20821">
                  <a:moveTo>
                    <a:pt x="12105" y="970"/>
                  </a:moveTo>
                  <a:cubicBezTo>
                    <a:pt x="7991" y="-779"/>
                    <a:pt x="3640" y="-59"/>
                    <a:pt x="0" y="2307"/>
                  </a:cubicBezTo>
                  <a:lnTo>
                    <a:pt x="7279" y="20821"/>
                  </a:lnTo>
                  <a:lnTo>
                    <a:pt x="21600" y="11358"/>
                  </a:lnTo>
                  <a:cubicBezTo>
                    <a:pt x="19622" y="6318"/>
                    <a:pt x="16299" y="2718"/>
                    <a:pt x="12105" y="970"/>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83" name="Shape 3429"/>
            <p:cNvSpPr/>
            <p:nvPr/>
          </p:nvSpPr>
          <p:spPr>
            <a:xfrm>
              <a:off x="20643840" y="6660720"/>
              <a:ext cx="100440" cy="109440"/>
            </a:xfrm>
            <a:custGeom>
              <a:avLst/>
              <a:gdLst>
                <a:gd name="textAreaLeft" fmla="*/ 0 w 100440"/>
                <a:gd name="textAreaRight" fmla="*/ 100800 w 100440"/>
                <a:gd name="textAreaTop" fmla="*/ 0 h 109440"/>
                <a:gd name="textAreaBottom" fmla="*/ 109800 h 109440"/>
              </a:gdLst>
              <a:ahLst/>
              <a:rect l="textAreaLeft" t="textAreaTop" r="textAreaRight" b="textAreaBottom"/>
              <a:pathLst>
                <a:path w="21600" h="21600">
                  <a:moveTo>
                    <a:pt x="15380" y="15089"/>
                  </a:moveTo>
                  <a:cubicBezTo>
                    <a:pt x="19904" y="11058"/>
                    <a:pt x="21600" y="6408"/>
                    <a:pt x="21600" y="0"/>
                  </a:cubicBezTo>
                  <a:lnTo>
                    <a:pt x="0" y="0"/>
                  </a:lnTo>
                  <a:lnTo>
                    <a:pt x="0" y="21600"/>
                  </a:lnTo>
                  <a:cubicBezTo>
                    <a:pt x="4750" y="21600"/>
                    <a:pt x="11083" y="19223"/>
                    <a:pt x="15380" y="15089"/>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84" name="Shape 3430"/>
            <p:cNvSpPr/>
            <p:nvPr/>
          </p:nvSpPr>
          <p:spPr>
            <a:xfrm>
              <a:off x="20579400" y="6665400"/>
              <a:ext cx="146160" cy="104040"/>
            </a:xfrm>
            <a:custGeom>
              <a:avLst/>
              <a:gdLst>
                <a:gd name="textAreaLeft" fmla="*/ 0 w 146160"/>
                <a:gd name="textAreaRight" fmla="*/ 146520 w 146160"/>
                <a:gd name="textAreaTop" fmla="*/ 0 h 104040"/>
                <a:gd name="textAreaBottom" fmla="*/ 104400 h 104040"/>
              </a:gdLst>
              <a:ahLst/>
              <a:rect l="textAreaLeft" t="textAreaTop" r="textAreaRight" b="textAreaBottom"/>
              <a:pathLst>
                <a:path w="21600" h="20958">
                  <a:moveTo>
                    <a:pt x="11607" y="20665"/>
                  </a:moveTo>
                  <a:cubicBezTo>
                    <a:pt x="15758" y="19627"/>
                    <a:pt x="19371" y="16304"/>
                    <a:pt x="21600" y="11942"/>
                  </a:cubicBezTo>
                  <a:lnTo>
                    <a:pt x="8840" y="0"/>
                  </a:lnTo>
                  <a:lnTo>
                    <a:pt x="0" y="17238"/>
                  </a:lnTo>
                  <a:cubicBezTo>
                    <a:pt x="3228" y="20250"/>
                    <a:pt x="7379" y="21600"/>
                    <a:pt x="11607" y="20665"/>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85" name="Shape 3431"/>
            <p:cNvSpPr/>
            <p:nvPr/>
          </p:nvSpPr>
          <p:spPr>
            <a:xfrm>
              <a:off x="20545200" y="6665400"/>
              <a:ext cx="141840" cy="105480"/>
            </a:xfrm>
            <a:custGeom>
              <a:avLst/>
              <a:gdLst>
                <a:gd name="textAreaLeft" fmla="*/ 0 w 141840"/>
                <a:gd name="textAreaRight" fmla="*/ 142200 w 141840"/>
                <a:gd name="textAreaTop" fmla="*/ 0 h 105480"/>
                <a:gd name="textAreaBottom" fmla="*/ 105840 h 105480"/>
              </a:gdLst>
              <a:ahLst/>
              <a:rect l="textAreaLeft" t="textAreaTop" r="textAreaRight" b="textAreaBottom"/>
              <a:pathLst>
                <a:path w="21600" h="20821">
                  <a:moveTo>
                    <a:pt x="9450" y="19851"/>
                  </a:moveTo>
                  <a:cubicBezTo>
                    <a:pt x="13659" y="21600"/>
                    <a:pt x="17947" y="20880"/>
                    <a:pt x="21600" y="18514"/>
                  </a:cubicBezTo>
                  <a:lnTo>
                    <a:pt x="14294" y="0"/>
                  </a:lnTo>
                  <a:lnTo>
                    <a:pt x="0" y="9463"/>
                  </a:lnTo>
                  <a:cubicBezTo>
                    <a:pt x="1985" y="14194"/>
                    <a:pt x="5321" y="17897"/>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86" name="Shape 3432"/>
            <p:cNvSpPr/>
            <p:nvPr/>
          </p:nvSpPr>
          <p:spPr>
            <a:xfrm>
              <a:off x="20546280" y="6572160"/>
              <a:ext cx="185400" cy="185400"/>
            </a:xfrm>
            <a:custGeom>
              <a:avLst/>
              <a:gdLst>
                <a:gd name="textAreaLeft" fmla="*/ 0 w 185400"/>
                <a:gd name="textAreaRight" fmla="*/ 185760 w 185400"/>
                <a:gd name="textAreaTop" fmla="*/ 0 h 185400"/>
                <a:gd name="textAreaBottom" fmla="*/ 185760 h 185400"/>
              </a:gdLst>
              <a:ahLst/>
              <a:rect l="textAreaLeft" t="textAreaTop" r="textAreaRight" b="textAreaBottom"/>
              <a:pathLst>
                <a:path w="21346" h="21324">
                  <a:moveTo>
                    <a:pt x="18234" y="3103"/>
                  </a:moveTo>
                  <a:cubicBezTo>
                    <a:pt x="19610" y="4535"/>
                    <a:pt x="20448" y="6027"/>
                    <a:pt x="20986" y="7877"/>
                  </a:cubicBezTo>
                  <a:cubicBezTo>
                    <a:pt x="21465" y="9786"/>
                    <a:pt x="21465" y="11576"/>
                    <a:pt x="20986" y="13426"/>
                  </a:cubicBezTo>
                  <a:cubicBezTo>
                    <a:pt x="20448" y="15335"/>
                    <a:pt x="19610" y="16827"/>
                    <a:pt x="18234" y="18199"/>
                  </a:cubicBezTo>
                  <a:cubicBezTo>
                    <a:pt x="16858" y="19631"/>
                    <a:pt x="15302" y="20467"/>
                    <a:pt x="13447" y="20944"/>
                  </a:cubicBezTo>
                  <a:cubicBezTo>
                    <a:pt x="11533" y="21481"/>
                    <a:pt x="9857" y="21421"/>
                    <a:pt x="7943" y="20944"/>
                  </a:cubicBezTo>
                  <a:cubicBezTo>
                    <a:pt x="6028" y="20407"/>
                    <a:pt x="4532" y="19631"/>
                    <a:pt x="3156" y="18199"/>
                  </a:cubicBezTo>
                  <a:cubicBezTo>
                    <a:pt x="1780" y="16827"/>
                    <a:pt x="882" y="15275"/>
                    <a:pt x="404" y="13426"/>
                  </a:cubicBezTo>
                  <a:cubicBezTo>
                    <a:pt x="-135" y="11516"/>
                    <a:pt x="-135" y="9786"/>
                    <a:pt x="404" y="7877"/>
                  </a:cubicBezTo>
                  <a:cubicBezTo>
                    <a:pt x="882" y="6027"/>
                    <a:pt x="1780" y="4535"/>
                    <a:pt x="3156" y="3103"/>
                  </a:cubicBezTo>
                  <a:cubicBezTo>
                    <a:pt x="4532" y="1731"/>
                    <a:pt x="6028" y="895"/>
                    <a:pt x="7943" y="358"/>
                  </a:cubicBezTo>
                  <a:cubicBezTo>
                    <a:pt x="9857" y="-119"/>
                    <a:pt x="11592" y="-119"/>
                    <a:pt x="13447" y="358"/>
                  </a:cubicBezTo>
                  <a:cubicBezTo>
                    <a:pt x="15362" y="895"/>
                    <a:pt x="16858" y="1731"/>
                    <a:pt x="18234" y="310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087" name="Group 3454"/>
          <p:cNvGrpSpPr/>
          <p:nvPr/>
        </p:nvGrpSpPr>
        <p:grpSpPr>
          <a:xfrm>
            <a:off x="16941240" y="3910320"/>
            <a:ext cx="1447200" cy="2947320"/>
            <a:chOff x="16941240" y="3910320"/>
            <a:chExt cx="1447200" cy="2947320"/>
          </a:xfrm>
        </p:grpSpPr>
        <p:sp>
          <p:nvSpPr>
            <p:cNvPr id="6088" name="Shape 3434"/>
            <p:cNvSpPr/>
            <p:nvPr/>
          </p:nvSpPr>
          <p:spPr>
            <a:xfrm>
              <a:off x="16941240" y="4287600"/>
              <a:ext cx="36360" cy="111960"/>
            </a:xfrm>
            <a:custGeom>
              <a:avLst/>
              <a:gdLst>
                <a:gd name="textAreaLeft" fmla="*/ 0 w 36360"/>
                <a:gd name="textAreaRight" fmla="*/ 36720 w 36360"/>
                <a:gd name="textAreaTop" fmla="*/ 0 h 111960"/>
                <a:gd name="textAreaBottom" fmla="*/ 112320 h 11196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89" name="Shape 3435"/>
            <p:cNvSpPr/>
            <p:nvPr/>
          </p:nvSpPr>
          <p:spPr>
            <a:xfrm>
              <a:off x="16941240" y="4537440"/>
              <a:ext cx="43560" cy="212040"/>
            </a:xfrm>
            <a:custGeom>
              <a:avLst/>
              <a:gdLst>
                <a:gd name="textAreaLeft" fmla="*/ 0 w 43560"/>
                <a:gd name="textAreaRight" fmla="*/ 43920 w 43560"/>
                <a:gd name="textAreaTop" fmla="*/ 0 h 212040"/>
                <a:gd name="textAreaBottom" fmla="*/ 212400 h 2120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0" name="Shape 3436"/>
            <p:cNvSpPr/>
            <p:nvPr/>
          </p:nvSpPr>
          <p:spPr>
            <a:xfrm>
              <a:off x="16941240" y="4807440"/>
              <a:ext cx="36360" cy="206280"/>
            </a:xfrm>
            <a:custGeom>
              <a:avLst/>
              <a:gdLst>
                <a:gd name="textAreaLeft" fmla="*/ 0 w 36360"/>
                <a:gd name="textAreaRight" fmla="*/ 36720 w 36360"/>
                <a:gd name="textAreaTop" fmla="*/ 0 h 206280"/>
                <a:gd name="textAreaBottom" fmla="*/ 206640 h 2062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1" name="Shape 3437"/>
            <p:cNvSpPr/>
            <p:nvPr/>
          </p:nvSpPr>
          <p:spPr>
            <a:xfrm>
              <a:off x="18357840" y="4535640"/>
              <a:ext cx="30600" cy="219240"/>
            </a:xfrm>
            <a:custGeom>
              <a:avLst/>
              <a:gdLst>
                <a:gd name="textAreaLeft" fmla="*/ 0 w 30600"/>
                <a:gd name="textAreaRight" fmla="*/ 30960 w 30600"/>
                <a:gd name="textAreaTop" fmla="*/ 0 h 219240"/>
                <a:gd name="textAreaBottom" fmla="*/ 219600 h 21924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2" name="Shape 3438"/>
            <p:cNvSpPr/>
            <p:nvPr/>
          </p:nvSpPr>
          <p:spPr>
            <a:xfrm>
              <a:off x="16956000" y="3910320"/>
              <a:ext cx="1417680" cy="2947320"/>
            </a:xfrm>
            <a:custGeom>
              <a:avLst/>
              <a:gdLst>
                <a:gd name="textAreaLeft" fmla="*/ 0 w 1417680"/>
                <a:gd name="textAreaRight" fmla="*/ 1418040 w 1417680"/>
                <a:gd name="textAreaTop" fmla="*/ 0 h 2947320"/>
                <a:gd name="textAreaBottom" fmla="*/ 2947680 h 2947320"/>
              </a:gdLst>
              <a:ahLst/>
              <a:rect l="textAreaLeft" t="textAreaTop" r="textAreaRight" b="textAreaBottom"/>
              <a:pathLst>
                <a:path w="21600" h="21600">
                  <a:moveTo>
                    <a:pt x="17568" y="21600"/>
                  </a:moveTo>
                  <a:lnTo>
                    <a:pt x="4020" y="21600"/>
                  </a:lnTo>
                  <a:cubicBezTo>
                    <a:pt x="1796" y="21600"/>
                    <a:pt x="0" y="20736"/>
                    <a:pt x="0" y="19667"/>
                  </a:cubicBezTo>
                  <a:lnTo>
                    <a:pt x="0" y="1933"/>
                  </a:lnTo>
                  <a:cubicBezTo>
                    <a:pt x="0" y="864"/>
                    <a:pt x="1796" y="0"/>
                    <a:pt x="4020" y="0"/>
                  </a:cubicBezTo>
                  <a:lnTo>
                    <a:pt x="17580" y="0"/>
                  </a:lnTo>
                  <a:cubicBezTo>
                    <a:pt x="19804" y="0"/>
                    <a:pt x="21600" y="864"/>
                    <a:pt x="21600" y="1933"/>
                  </a:cubicBezTo>
                  <a:lnTo>
                    <a:pt x="21600" y="19673"/>
                  </a:lnTo>
                  <a:cubicBezTo>
                    <a:pt x="21587" y="20736"/>
                    <a:pt x="19791" y="21600"/>
                    <a:pt x="17568"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3" name="Shape 3439"/>
            <p:cNvSpPr/>
            <p:nvPr/>
          </p:nvSpPr>
          <p:spPr>
            <a:xfrm>
              <a:off x="16968960" y="3923280"/>
              <a:ext cx="1389960" cy="2919600"/>
            </a:xfrm>
            <a:custGeom>
              <a:avLst/>
              <a:gdLst>
                <a:gd name="textAreaLeft" fmla="*/ 0 w 1389960"/>
                <a:gd name="textAreaRight" fmla="*/ 1390320 w 1389960"/>
                <a:gd name="textAreaTop" fmla="*/ 0 h 2919600"/>
                <a:gd name="textAreaBottom" fmla="*/ 2919960 h 2919600"/>
              </a:gdLst>
              <a:ahLst/>
              <a:rect l="textAreaLeft" t="textAreaTop" r="textAreaRight" b="textAreaBottom"/>
              <a:pathLst>
                <a:path w="21600" h="21600">
                  <a:moveTo>
                    <a:pt x="17631" y="21600"/>
                  </a:moveTo>
                  <a:lnTo>
                    <a:pt x="3969" y="21600"/>
                  </a:lnTo>
                  <a:cubicBezTo>
                    <a:pt x="1779" y="21600"/>
                    <a:pt x="0" y="20753"/>
                    <a:pt x="0" y="19710"/>
                  </a:cubicBezTo>
                  <a:lnTo>
                    <a:pt x="0" y="1890"/>
                  </a:lnTo>
                  <a:cubicBezTo>
                    <a:pt x="0" y="847"/>
                    <a:pt x="1779" y="0"/>
                    <a:pt x="3969" y="0"/>
                  </a:cubicBezTo>
                  <a:lnTo>
                    <a:pt x="17631" y="0"/>
                  </a:lnTo>
                  <a:cubicBezTo>
                    <a:pt x="19821" y="0"/>
                    <a:pt x="21600" y="847"/>
                    <a:pt x="21600" y="1890"/>
                  </a:cubicBezTo>
                  <a:lnTo>
                    <a:pt x="21600" y="19716"/>
                  </a:lnTo>
                  <a:cubicBezTo>
                    <a:pt x="21600" y="20759"/>
                    <a:pt x="19821" y="21600"/>
                    <a:pt x="17631"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4" name="Shape 3440"/>
            <p:cNvSpPr/>
            <p:nvPr/>
          </p:nvSpPr>
          <p:spPr>
            <a:xfrm>
              <a:off x="17016840" y="4265640"/>
              <a:ext cx="1264320" cy="2236680"/>
            </a:xfrm>
            <a:custGeom>
              <a:avLst/>
              <a:gdLst>
                <a:gd name="textAreaLeft" fmla="*/ 0 w 1264320"/>
                <a:gd name="textAreaRight" fmla="*/ 1264680 w 1264320"/>
                <a:gd name="textAreaTop" fmla="*/ 0 h 2236680"/>
                <a:gd name="textAreaBottom" fmla="*/ 2237040 h 2236680"/>
              </a:gdLst>
              <a:ahLst/>
              <a:rect l="textAreaLeft" t="textAreaTop" r="textAreaRight" b="textAreaBottom"/>
              <a:pathLst>
                <a:path w="21600" h="21600">
                  <a:moveTo>
                    <a:pt x="21302" y="21600"/>
                  </a:moveTo>
                  <a:lnTo>
                    <a:pt x="291" y="21600"/>
                  </a:lnTo>
                  <a:cubicBezTo>
                    <a:pt x="128" y="21600"/>
                    <a:pt x="0" y="21523"/>
                    <a:pt x="0" y="21431"/>
                  </a:cubicBezTo>
                  <a:lnTo>
                    <a:pt x="0" y="169"/>
                  </a:lnTo>
                  <a:cubicBezTo>
                    <a:pt x="0" y="77"/>
                    <a:pt x="128" y="0"/>
                    <a:pt x="291" y="0"/>
                  </a:cubicBezTo>
                  <a:lnTo>
                    <a:pt x="21302" y="0"/>
                  </a:lnTo>
                  <a:cubicBezTo>
                    <a:pt x="21465" y="0"/>
                    <a:pt x="21600" y="77"/>
                    <a:pt x="21600" y="169"/>
                  </a:cubicBezTo>
                  <a:lnTo>
                    <a:pt x="21600" y="21431"/>
                  </a:lnTo>
                  <a:cubicBezTo>
                    <a:pt x="21600" y="21523"/>
                    <a:pt x="21465" y="21600"/>
                    <a:pt x="21302" y="21600"/>
                  </a:cubicBezTo>
                </a:path>
              </a:pathLst>
            </a:custGeom>
            <a:solidFill>
              <a:srgbClr val="5e5e5e"/>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5" name="Shape 3441"/>
            <p:cNvSpPr/>
            <p:nvPr/>
          </p:nvSpPr>
          <p:spPr>
            <a:xfrm>
              <a:off x="17549280" y="6558480"/>
              <a:ext cx="229680" cy="229680"/>
            </a:xfrm>
            <a:custGeom>
              <a:avLst/>
              <a:gdLst>
                <a:gd name="textAreaLeft" fmla="*/ 0 w 229680"/>
                <a:gd name="textAreaRight" fmla="*/ 230040 w 229680"/>
                <a:gd name="textAreaTop" fmla="*/ 0 h 229680"/>
                <a:gd name="textAreaBottom" fmla="*/ 230040 h 229680"/>
              </a:gdLst>
              <a:ahLst/>
              <a:rect l="textAreaLeft" t="textAreaTop" r="textAreaRight" b="textAreaBottom"/>
              <a:pathLst>
                <a:path w="21346" h="21346">
                  <a:moveTo>
                    <a:pt x="18192" y="3115"/>
                  </a:moveTo>
                  <a:cubicBezTo>
                    <a:pt x="19598" y="4521"/>
                    <a:pt x="20457" y="6044"/>
                    <a:pt x="20965" y="7919"/>
                  </a:cubicBezTo>
                  <a:cubicBezTo>
                    <a:pt x="21473" y="9833"/>
                    <a:pt x="21473" y="11552"/>
                    <a:pt x="20965" y="13427"/>
                  </a:cubicBezTo>
                  <a:cubicBezTo>
                    <a:pt x="20457" y="15341"/>
                    <a:pt x="19559" y="16825"/>
                    <a:pt x="18192" y="18192"/>
                  </a:cubicBezTo>
                  <a:cubicBezTo>
                    <a:pt x="16786" y="19598"/>
                    <a:pt x="15302" y="20457"/>
                    <a:pt x="13427" y="20965"/>
                  </a:cubicBezTo>
                  <a:cubicBezTo>
                    <a:pt x="11513" y="21473"/>
                    <a:pt x="9794" y="21473"/>
                    <a:pt x="7919" y="20965"/>
                  </a:cubicBezTo>
                  <a:cubicBezTo>
                    <a:pt x="6005" y="20457"/>
                    <a:pt x="4521" y="19598"/>
                    <a:pt x="3154" y="18192"/>
                  </a:cubicBezTo>
                  <a:cubicBezTo>
                    <a:pt x="1748" y="16786"/>
                    <a:pt x="889" y="15302"/>
                    <a:pt x="381" y="13427"/>
                  </a:cubicBezTo>
                  <a:cubicBezTo>
                    <a:pt x="-127" y="11513"/>
                    <a:pt x="-127" y="9794"/>
                    <a:pt x="381" y="7919"/>
                  </a:cubicBezTo>
                  <a:cubicBezTo>
                    <a:pt x="889" y="6005"/>
                    <a:pt x="1748" y="4521"/>
                    <a:pt x="3154" y="3115"/>
                  </a:cubicBezTo>
                  <a:cubicBezTo>
                    <a:pt x="4521" y="1748"/>
                    <a:pt x="6005" y="889"/>
                    <a:pt x="7919" y="381"/>
                  </a:cubicBezTo>
                  <a:cubicBezTo>
                    <a:pt x="9794" y="-127"/>
                    <a:pt x="11552" y="-127"/>
                    <a:pt x="13427" y="381"/>
                  </a:cubicBezTo>
                  <a:cubicBezTo>
                    <a:pt x="15341" y="889"/>
                    <a:pt x="16825" y="1748"/>
                    <a:pt x="18192" y="311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6" name="Shape 3442"/>
            <p:cNvSpPr/>
            <p:nvPr/>
          </p:nvSpPr>
          <p:spPr>
            <a:xfrm>
              <a:off x="17549640" y="6558840"/>
              <a:ext cx="108360" cy="117720"/>
            </a:xfrm>
            <a:custGeom>
              <a:avLst/>
              <a:gdLst>
                <a:gd name="textAreaLeft" fmla="*/ 0 w 108360"/>
                <a:gd name="textAreaRight" fmla="*/ 108720 w 108360"/>
                <a:gd name="textAreaTop" fmla="*/ 0 h 117720"/>
                <a:gd name="textAreaBottom" fmla="*/ 118080 h 11772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442"/>
                    <a:pt x="6065" y="64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7" name="Shape 3443"/>
            <p:cNvSpPr/>
            <p:nvPr/>
          </p:nvSpPr>
          <p:spPr>
            <a:xfrm>
              <a:off x="17570160" y="6559200"/>
              <a:ext cx="158400" cy="113760"/>
            </a:xfrm>
            <a:custGeom>
              <a:avLst/>
              <a:gdLst>
                <a:gd name="textAreaLeft" fmla="*/ 0 w 158400"/>
                <a:gd name="textAreaRight" fmla="*/ 158760 w 158400"/>
                <a:gd name="textAreaTop" fmla="*/ 0 h 113760"/>
                <a:gd name="textAreaBottom" fmla="*/ 114120 h 113760"/>
              </a:gdLst>
              <a:ahLst/>
              <a:rect l="textAreaLeft" t="textAreaTop" r="textAreaRight" b="textAreaBottom"/>
              <a:pathLst>
                <a:path w="21600" h="20882">
                  <a:moveTo>
                    <a:pt x="10004" y="351"/>
                  </a:moveTo>
                  <a:cubicBezTo>
                    <a:pt x="5855" y="1343"/>
                    <a:pt x="2274" y="4701"/>
                    <a:pt x="0" y="9052"/>
                  </a:cubicBezTo>
                  <a:lnTo>
                    <a:pt x="12789" y="20882"/>
                  </a:lnTo>
                  <a:lnTo>
                    <a:pt x="21600" y="3709"/>
                  </a:lnTo>
                  <a:cubicBezTo>
                    <a:pt x="18360" y="732"/>
                    <a:pt x="14211" y="-718"/>
                    <a:pt x="10004" y="35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8" name="Shape 3444"/>
            <p:cNvSpPr/>
            <p:nvPr/>
          </p:nvSpPr>
          <p:spPr>
            <a:xfrm>
              <a:off x="17612640" y="6559200"/>
              <a:ext cx="152640" cy="113400"/>
            </a:xfrm>
            <a:custGeom>
              <a:avLst/>
              <a:gdLst>
                <a:gd name="textAreaLeft" fmla="*/ 0 w 152640"/>
                <a:gd name="textAreaRight" fmla="*/ 153000 w 152640"/>
                <a:gd name="textAreaTop" fmla="*/ 0 h 113400"/>
                <a:gd name="textAreaBottom" fmla="*/ 113760 h 113400"/>
              </a:gdLst>
              <a:ahLst/>
              <a:rect l="textAreaLeft" t="textAreaTop" r="textAreaRight" b="textAreaBottom"/>
              <a:pathLst>
                <a:path w="21600" h="20855">
                  <a:moveTo>
                    <a:pt x="12183" y="1010"/>
                  </a:moveTo>
                  <a:cubicBezTo>
                    <a:pt x="8004" y="-745"/>
                    <a:pt x="3590" y="-134"/>
                    <a:pt x="0" y="2232"/>
                  </a:cubicBezTo>
                  <a:lnTo>
                    <a:pt x="7298" y="20855"/>
                  </a:lnTo>
                  <a:lnTo>
                    <a:pt x="21600" y="11391"/>
                  </a:lnTo>
                  <a:cubicBezTo>
                    <a:pt x="19717" y="6582"/>
                    <a:pt x="16421" y="2766"/>
                    <a:pt x="12183" y="1010"/>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099" name="Shape 3445"/>
            <p:cNvSpPr/>
            <p:nvPr/>
          </p:nvSpPr>
          <p:spPr>
            <a:xfrm>
              <a:off x="17669880" y="6667920"/>
              <a:ext cx="108360" cy="119520"/>
            </a:xfrm>
            <a:custGeom>
              <a:avLst/>
              <a:gdLst>
                <a:gd name="textAreaLeft" fmla="*/ 0 w 108360"/>
                <a:gd name="textAreaRight" fmla="*/ 108720 w 108360"/>
                <a:gd name="textAreaTop" fmla="*/ 0 h 119520"/>
                <a:gd name="textAreaBottom" fmla="*/ 119880 h 119520"/>
              </a:gdLst>
              <a:ahLst/>
              <a:rect l="textAreaLeft" t="textAreaTop" r="textAreaRight" b="textAreaBottom"/>
              <a:pathLst>
                <a:path w="21600" h="21600">
                  <a:moveTo>
                    <a:pt x="15535" y="15211"/>
                  </a:moveTo>
                  <a:cubicBezTo>
                    <a:pt x="19855" y="11180"/>
                    <a:pt x="21600" y="6389"/>
                    <a:pt x="21600" y="0"/>
                  </a:cubicBezTo>
                  <a:lnTo>
                    <a:pt x="0" y="0"/>
                  </a:lnTo>
                  <a:lnTo>
                    <a:pt x="0" y="21600"/>
                  </a:lnTo>
                  <a:cubicBezTo>
                    <a:pt x="4735" y="21600"/>
                    <a:pt x="10966" y="19166"/>
                    <a:pt x="15535" y="152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00" name="Shape 3446"/>
            <p:cNvSpPr/>
            <p:nvPr/>
          </p:nvSpPr>
          <p:spPr>
            <a:xfrm>
              <a:off x="17597880" y="6673320"/>
              <a:ext cx="158400" cy="113400"/>
            </a:xfrm>
            <a:custGeom>
              <a:avLst/>
              <a:gdLst>
                <a:gd name="textAreaLeft" fmla="*/ 0 w 158400"/>
                <a:gd name="textAreaRight" fmla="*/ 158760 w 158400"/>
                <a:gd name="textAreaTop" fmla="*/ 0 h 113400"/>
                <a:gd name="textAreaBottom" fmla="*/ 113760 h 113400"/>
              </a:gdLst>
              <a:ahLst/>
              <a:rect l="textAreaLeft" t="textAreaTop" r="textAreaRight" b="textAreaBottom"/>
              <a:pathLst>
                <a:path w="21600" h="20845">
                  <a:moveTo>
                    <a:pt x="11596" y="20455"/>
                  </a:moveTo>
                  <a:cubicBezTo>
                    <a:pt x="15745" y="19539"/>
                    <a:pt x="19326" y="16181"/>
                    <a:pt x="21600" y="11830"/>
                  </a:cubicBezTo>
                  <a:lnTo>
                    <a:pt x="8867" y="0"/>
                  </a:lnTo>
                  <a:lnTo>
                    <a:pt x="0" y="17097"/>
                  </a:lnTo>
                  <a:cubicBezTo>
                    <a:pt x="3240" y="20150"/>
                    <a:pt x="7389" y="21600"/>
                    <a:pt x="11596" y="20455"/>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01" name="Shape 3447"/>
            <p:cNvSpPr/>
            <p:nvPr/>
          </p:nvSpPr>
          <p:spPr>
            <a:xfrm>
              <a:off x="17562600" y="6673320"/>
              <a:ext cx="152640" cy="113400"/>
            </a:xfrm>
            <a:custGeom>
              <a:avLst/>
              <a:gdLst>
                <a:gd name="textAreaLeft" fmla="*/ 0 w 152640"/>
                <a:gd name="textAreaRight" fmla="*/ 153000 w 152640"/>
                <a:gd name="textAreaTop" fmla="*/ 0 h 113400"/>
                <a:gd name="textAreaBottom" fmla="*/ 113760 h 113400"/>
              </a:gdLst>
              <a:ahLst/>
              <a:rect l="textAreaLeft" t="textAreaTop" r="textAreaRight" b="textAreaBottom"/>
              <a:pathLst>
                <a:path w="21600" h="20851">
                  <a:moveTo>
                    <a:pt x="9417" y="19845"/>
                  </a:moveTo>
                  <a:cubicBezTo>
                    <a:pt x="13596" y="21600"/>
                    <a:pt x="18010" y="20989"/>
                    <a:pt x="21600" y="18547"/>
                  </a:cubicBezTo>
                  <a:lnTo>
                    <a:pt x="14361" y="0"/>
                  </a:lnTo>
                  <a:lnTo>
                    <a:pt x="0" y="9464"/>
                  </a:lnTo>
                  <a:cubicBezTo>
                    <a:pt x="1883" y="14273"/>
                    <a:pt x="5179" y="18089"/>
                    <a:pt x="9417" y="19845"/>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02" name="Shape 3448"/>
            <p:cNvSpPr/>
            <p:nvPr/>
          </p:nvSpPr>
          <p:spPr>
            <a:xfrm>
              <a:off x="17564040" y="6571440"/>
              <a:ext cx="201960" cy="201960"/>
            </a:xfrm>
            <a:custGeom>
              <a:avLst/>
              <a:gdLst>
                <a:gd name="textAreaLeft" fmla="*/ 0 w 201960"/>
                <a:gd name="textAreaRight" fmla="*/ 202320 w 201960"/>
                <a:gd name="textAreaTop" fmla="*/ 0 h 201960"/>
                <a:gd name="textAreaBottom" fmla="*/ 202320 h 201960"/>
              </a:gdLst>
              <a:ahLst/>
              <a:rect l="textAreaLeft" t="textAreaTop" r="textAreaRight" b="textAreaBottom"/>
              <a:pathLst>
                <a:path w="21330" h="21319">
                  <a:moveTo>
                    <a:pt x="18226" y="3113"/>
                  </a:moveTo>
                  <a:cubicBezTo>
                    <a:pt x="19596" y="4524"/>
                    <a:pt x="20435" y="5978"/>
                    <a:pt x="20965" y="7874"/>
                  </a:cubicBezTo>
                  <a:cubicBezTo>
                    <a:pt x="21451" y="9769"/>
                    <a:pt x="21451" y="11489"/>
                    <a:pt x="20965" y="13384"/>
                  </a:cubicBezTo>
                  <a:cubicBezTo>
                    <a:pt x="20435" y="15280"/>
                    <a:pt x="19596" y="16778"/>
                    <a:pt x="18226" y="18145"/>
                  </a:cubicBezTo>
                  <a:cubicBezTo>
                    <a:pt x="16813" y="19555"/>
                    <a:pt x="15355" y="20437"/>
                    <a:pt x="13456" y="20922"/>
                  </a:cubicBezTo>
                  <a:cubicBezTo>
                    <a:pt x="11557" y="21451"/>
                    <a:pt x="9834" y="21451"/>
                    <a:pt x="7934" y="20922"/>
                  </a:cubicBezTo>
                  <a:cubicBezTo>
                    <a:pt x="6035" y="20437"/>
                    <a:pt x="4533" y="19555"/>
                    <a:pt x="3164" y="18145"/>
                  </a:cubicBezTo>
                  <a:cubicBezTo>
                    <a:pt x="1750" y="16778"/>
                    <a:pt x="867" y="15280"/>
                    <a:pt x="381" y="13384"/>
                  </a:cubicBezTo>
                  <a:cubicBezTo>
                    <a:pt x="-149" y="11489"/>
                    <a:pt x="-105" y="9769"/>
                    <a:pt x="381" y="7874"/>
                  </a:cubicBezTo>
                  <a:cubicBezTo>
                    <a:pt x="911" y="5978"/>
                    <a:pt x="1750" y="4524"/>
                    <a:pt x="3164" y="3113"/>
                  </a:cubicBezTo>
                  <a:cubicBezTo>
                    <a:pt x="4533" y="1747"/>
                    <a:pt x="6035" y="909"/>
                    <a:pt x="7934" y="380"/>
                  </a:cubicBezTo>
                  <a:cubicBezTo>
                    <a:pt x="9834" y="-105"/>
                    <a:pt x="11557" y="-149"/>
                    <a:pt x="13456" y="380"/>
                  </a:cubicBezTo>
                  <a:cubicBezTo>
                    <a:pt x="15355" y="865"/>
                    <a:pt x="16813" y="1747"/>
                    <a:pt x="18226" y="311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03" name="Shape 3449"/>
            <p:cNvSpPr/>
            <p:nvPr/>
          </p:nvSpPr>
          <p:spPr>
            <a:xfrm>
              <a:off x="17555400" y="4091760"/>
              <a:ext cx="209880" cy="21240"/>
            </a:xfrm>
            <a:custGeom>
              <a:avLst/>
              <a:gdLst>
                <a:gd name="textAreaLeft" fmla="*/ 0 w 209880"/>
                <a:gd name="textAreaRight" fmla="*/ 210240 w 209880"/>
                <a:gd name="textAreaTop" fmla="*/ 0 h 21240"/>
                <a:gd name="textAreaBottom" fmla="*/ 21600 h 2124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545454"/>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04" name="Shape 3450"/>
            <p:cNvSpPr/>
            <p:nvPr/>
          </p:nvSpPr>
          <p:spPr>
            <a:xfrm>
              <a:off x="17640360" y="3984480"/>
              <a:ext cx="34200" cy="34200"/>
            </a:xfrm>
            <a:custGeom>
              <a:avLst/>
              <a:gdLst>
                <a:gd name="textAreaLeft" fmla="*/ 0 w 34200"/>
                <a:gd name="textAreaRight" fmla="*/ 34560 w 34200"/>
                <a:gd name="textAreaTop" fmla="*/ 0 h 34200"/>
                <a:gd name="textAreaBottom" fmla="*/ 34560 h 34200"/>
              </a:gdLst>
              <a:ahLst/>
              <a:rect l="textAreaLeft" t="textAreaTop" r="textAreaRight" b="textAreaBottom"/>
              <a:pathLst>
                <a:path w="21600" h="21600">
                  <a:moveTo>
                    <a:pt x="21600" y="10800"/>
                  </a:moveTo>
                  <a:cubicBezTo>
                    <a:pt x="21600" y="12857"/>
                    <a:pt x="21086" y="14400"/>
                    <a:pt x="20057" y="16200"/>
                  </a:cubicBezTo>
                  <a:cubicBezTo>
                    <a:pt x="19029" y="18000"/>
                    <a:pt x="17743" y="19029"/>
                    <a:pt x="16200" y="20057"/>
                  </a:cubicBezTo>
                  <a:cubicBezTo>
                    <a:pt x="14400" y="21086"/>
                    <a:pt x="12857" y="21600"/>
                    <a:pt x="10800" y="21600"/>
                  </a:cubicBezTo>
                  <a:cubicBezTo>
                    <a:pt x="8743" y="21600"/>
                    <a:pt x="7200" y="21086"/>
                    <a:pt x="5400" y="20057"/>
                  </a:cubicBezTo>
                  <a:cubicBezTo>
                    <a:pt x="3600" y="19029"/>
                    <a:pt x="2057" y="18000"/>
                    <a:pt x="1286" y="16200"/>
                  </a:cubicBezTo>
                  <a:cubicBezTo>
                    <a:pt x="257" y="14400"/>
                    <a:pt x="0" y="12857"/>
                    <a:pt x="0" y="10800"/>
                  </a:cubicBezTo>
                  <a:cubicBezTo>
                    <a:pt x="0" y="8743"/>
                    <a:pt x="257" y="7200"/>
                    <a:pt x="1286" y="5400"/>
                  </a:cubicBezTo>
                  <a:cubicBezTo>
                    <a:pt x="2057" y="3600"/>
                    <a:pt x="3600" y="2571"/>
                    <a:pt x="5400" y="1543"/>
                  </a:cubicBezTo>
                  <a:cubicBezTo>
                    <a:pt x="7200" y="771"/>
                    <a:pt x="8743" y="0"/>
                    <a:pt x="10800" y="0"/>
                  </a:cubicBezTo>
                  <a:cubicBezTo>
                    <a:pt x="12857" y="0"/>
                    <a:pt x="14400" y="771"/>
                    <a:pt x="16200" y="1543"/>
                  </a:cubicBezTo>
                  <a:cubicBezTo>
                    <a:pt x="17743" y="2571"/>
                    <a:pt x="19029" y="3600"/>
                    <a:pt x="20057" y="5400"/>
                  </a:cubicBezTo>
                  <a:cubicBezTo>
                    <a:pt x="21086" y="7200"/>
                    <a:pt x="21600" y="8743"/>
                    <a:pt x="21600" y="10800"/>
                  </a:cubicBezTo>
                </a:path>
              </a:pathLst>
            </a:custGeom>
            <a:solidFill>
              <a:srgbClr val="545454"/>
            </a:solidFill>
            <a:ln w="12700">
              <a:noFill/>
            </a:ln>
          </p:spPr>
          <p:style>
            <a:lnRef idx="0"/>
            <a:fillRef idx="0"/>
            <a:effectRef idx="0"/>
            <a:fontRef idx="minor"/>
          </p:style>
          <p:txBody>
            <a:bodyPr numCol="1" spcCol="0" lIns="45720" rIns="45720" tIns="17280" bIns="17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05" name="Shape 3451"/>
            <p:cNvSpPr/>
            <p:nvPr/>
          </p:nvSpPr>
          <p:spPr>
            <a:xfrm>
              <a:off x="17409600" y="4077360"/>
              <a:ext cx="48600" cy="48600"/>
            </a:xfrm>
            <a:custGeom>
              <a:avLst/>
              <a:gdLst>
                <a:gd name="textAreaLeft" fmla="*/ 0 w 48600"/>
                <a:gd name="textAreaRight" fmla="*/ 48960 w 48600"/>
                <a:gd name="textAreaTop" fmla="*/ 0 h 48600"/>
                <a:gd name="textAreaBottom" fmla="*/ 48960 h 4860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545454"/>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06" name="Shape 3452"/>
            <p:cNvSpPr/>
            <p:nvPr/>
          </p:nvSpPr>
          <p:spPr>
            <a:xfrm>
              <a:off x="17416800" y="4084560"/>
              <a:ext cx="35640" cy="35640"/>
            </a:xfrm>
            <a:custGeom>
              <a:avLst/>
              <a:gdLst>
                <a:gd name="textAreaLeft" fmla="*/ 0 w 35640"/>
                <a:gd name="textAreaRight" fmla="*/ 36000 w 35640"/>
                <a:gd name="textAreaTop" fmla="*/ 0 h 35640"/>
                <a:gd name="textAreaBottom" fmla="*/ 36000 h 3564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7f7f7f"/>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07" name="Shape 3453"/>
            <p:cNvSpPr/>
            <p:nvPr/>
          </p:nvSpPr>
          <p:spPr>
            <a:xfrm>
              <a:off x="17424000" y="4091760"/>
              <a:ext cx="19440" cy="19440"/>
            </a:xfrm>
            <a:custGeom>
              <a:avLst/>
              <a:gdLst>
                <a:gd name="textAreaLeft" fmla="*/ 0 w 19440"/>
                <a:gd name="textAreaRight" fmla="*/ 19800 w 19440"/>
                <a:gd name="textAreaTop" fmla="*/ 0 h 19440"/>
                <a:gd name="textAreaBottom" fmla="*/ 19800 h 1944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545454"/>
            </a:solidFill>
            <a:ln w="12700">
              <a:noFill/>
            </a:ln>
          </p:spPr>
          <p:style>
            <a:lnRef idx="0"/>
            <a:fillRef idx="0"/>
            <a:effectRef idx="0"/>
            <a:fontRef idx="minor"/>
          </p:style>
          <p:txBody>
            <a:bodyPr numCol="1" spcCol="0"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6108" name="Shape 3462"/>
          <p:cNvSpPr/>
          <p:nvPr/>
        </p:nvSpPr>
        <p:spPr>
          <a:xfrm>
            <a:off x="2031840" y="1708200"/>
            <a:ext cx="782424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Included</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Devices</a:t>
            </a:r>
            <a:endParaRPr b="0" lang="en-US" sz="11200" spc="-1" strike="noStrike">
              <a:solidFill>
                <a:srgbClr val="000000"/>
              </a:solidFill>
              <a:latin typeface="Arial"/>
            </a:endParaRPr>
          </a:p>
        </p:txBody>
      </p:sp>
      <p:sp>
        <p:nvSpPr>
          <p:cNvPr id="6109" name="Shape 3463"/>
          <p:cNvSpPr/>
          <p:nvPr/>
        </p:nvSpPr>
        <p:spPr>
          <a:xfrm>
            <a:off x="2031840" y="6067080"/>
            <a:ext cx="7610400" cy="332532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All Vector based and full editable with Image Placeholder for a easy Image insert</a:t>
            </a:r>
            <a:endParaRPr b="0" lang="en-US" sz="4800" spc="-1" strike="noStrike">
              <a:solidFill>
                <a:srgbClr val="000000"/>
              </a:solidFill>
              <a:latin typeface="Arial"/>
            </a:endParaRPr>
          </a:p>
        </p:txBody>
      </p:sp>
      <p:sp>
        <p:nvSpPr>
          <p:cNvPr id="6110" name="Shape 3464"/>
          <p:cNvSpPr/>
          <p:nvPr/>
        </p:nvSpPr>
        <p:spPr>
          <a:xfrm>
            <a:off x="2031840" y="10626480"/>
            <a:ext cx="7111800" cy="13096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 and make your next cool and fresh Present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11" name="Group 3475"/>
          <p:cNvGrpSpPr/>
          <p:nvPr/>
        </p:nvGrpSpPr>
        <p:grpSpPr>
          <a:xfrm>
            <a:off x="2118600" y="6296400"/>
            <a:ext cx="9258840" cy="5374800"/>
            <a:chOff x="2118600" y="6296400"/>
            <a:chExt cx="9258840" cy="5374800"/>
          </a:xfrm>
        </p:grpSpPr>
        <p:sp>
          <p:nvSpPr>
            <p:cNvPr id="6112" name="Shape 3466"/>
            <p:cNvSpPr/>
            <p:nvPr/>
          </p:nvSpPr>
          <p:spPr>
            <a:xfrm>
              <a:off x="2962080" y="6322320"/>
              <a:ext cx="7535520" cy="5104080"/>
            </a:xfrm>
            <a:custGeom>
              <a:avLst/>
              <a:gdLst>
                <a:gd name="textAreaLeft" fmla="*/ 0 w 7535520"/>
                <a:gd name="textAreaRight" fmla="*/ 7535880 w 7535520"/>
                <a:gd name="textAreaTop" fmla="*/ 0 h 5104080"/>
                <a:gd name="textAreaBottom" fmla="*/ 5104440 h 510408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13" name="Shape 3467"/>
            <p:cNvSpPr/>
            <p:nvPr/>
          </p:nvSpPr>
          <p:spPr>
            <a:xfrm>
              <a:off x="2946600" y="6296400"/>
              <a:ext cx="7566840" cy="5148000"/>
            </a:xfrm>
            <a:custGeom>
              <a:avLst/>
              <a:gdLst>
                <a:gd name="textAreaLeft" fmla="*/ 0 w 7566840"/>
                <a:gd name="textAreaRight" fmla="*/ 7567200 w 7566840"/>
                <a:gd name="textAreaTop" fmla="*/ 0 h 5148000"/>
                <a:gd name="textAreaBottom" fmla="*/ 5148360 h 514800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b4b3b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14" name="Shape 3468"/>
            <p:cNvSpPr/>
            <p:nvPr/>
          </p:nvSpPr>
          <p:spPr>
            <a:xfrm>
              <a:off x="2985480" y="6348240"/>
              <a:ext cx="7487640" cy="4956120"/>
            </a:xfrm>
            <a:custGeom>
              <a:avLst/>
              <a:gdLst>
                <a:gd name="textAreaLeft" fmla="*/ 0 w 7487640"/>
                <a:gd name="textAreaRight" fmla="*/ 7488000 w 7487640"/>
                <a:gd name="textAreaTop" fmla="*/ 0 h 4956120"/>
                <a:gd name="textAreaBottom" fmla="*/ 4956480 h 495612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15" name="Shape 3469"/>
            <p:cNvSpPr/>
            <p:nvPr/>
          </p:nvSpPr>
          <p:spPr>
            <a:xfrm>
              <a:off x="3224160" y="6672600"/>
              <a:ext cx="7008840" cy="4416120"/>
            </a:xfrm>
            <a:custGeom>
              <a:avLst/>
              <a:gdLst>
                <a:gd name="textAreaLeft" fmla="*/ 0 w 7008840"/>
                <a:gd name="textAreaRight" fmla="*/ 7009200 w 7008840"/>
                <a:gd name="textAreaTop" fmla="*/ 0 h 4416120"/>
                <a:gd name="textAreaBottom" fmla="*/ 4416480 h 441612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16" name="Shape 3470"/>
            <p:cNvSpPr/>
            <p:nvPr/>
          </p:nvSpPr>
          <p:spPr>
            <a:xfrm>
              <a:off x="6701760" y="6530040"/>
              <a:ext cx="58680" cy="58680"/>
            </a:xfrm>
            <a:custGeom>
              <a:avLst/>
              <a:gdLst>
                <a:gd name="textAreaLeft" fmla="*/ 0 w 58680"/>
                <a:gd name="textAreaRight" fmla="*/ 59040 w 58680"/>
                <a:gd name="textAreaTop" fmla="*/ 0 h 58680"/>
                <a:gd name="textAreaBottom" fmla="*/ 59040 h 5868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12700">
              <a:noFill/>
            </a:ln>
          </p:spPr>
          <p:style>
            <a:lnRef idx="0"/>
            <a:fillRef idx="0"/>
            <a:effectRef idx="0"/>
            <a:fontRef idx="minor"/>
          </p:style>
          <p:txBody>
            <a:bodyPr numCol="1" spcCol="0" lIns="45720" rIns="45720" tIns="29520" bIns="29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17" name="Shape 3471"/>
            <p:cNvSpPr/>
            <p:nvPr/>
          </p:nvSpPr>
          <p:spPr>
            <a:xfrm>
              <a:off x="6701760" y="6531120"/>
              <a:ext cx="45720" cy="44640"/>
            </a:xfrm>
            <a:custGeom>
              <a:avLst/>
              <a:gdLst>
                <a:gd name="textAreaLeft" fmla="*/ 0 w 45720"/>
                <a:gd name="textAreaRight" fmla="*/ 46080 w 45720"/>
                <a:gd name="textAreaTop" fmla="*/ 0 h 44640"/>
                <a:gd name="textAreaBottom" fmla="*/ 45000 h 4464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18" name="Shape 3472"/>
            <p:cNvSpPr/>
            <p:nvPr/>
          </p:nvSpPr>
          <p:spPr>
            <a:xfrm>
              <a:off x="2118960" y="11547720"/>
              <a:ext cx="9258120" cy="123480"/>
            </a:xfrm>
            <a:custGeom>
              <a:avLst/>
              <a:gdLst>
                <a:gd name="textAreaLeft" fmla="*/ 0 w 9258120"/>
                <a:gd name="textAreaRight" fmla="*/ 9258480 w 9258120"/>
                <a:gd name="textAreaTop" fmla="*/ 0 h 123480"/>
                <a:gd name="textAreaBottom" fmla="*/ 123840 h 12348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solidFill>
              <a:srgbClr val="afba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19" name="Shape 3473"/>
            <p:cNvSpPr/>
            <p:nvPr/>
          </p:nvSpPr>
          <p:spPr>
            <a:xfrm>
              <a:off x="2118600" y="11403720"/>
              <a:ext cx="9258840" cy="146880"/>
            </a:xfrm>
            <a:custGeom>
              <a:avLst/>
              <a:gdLst>
                <a:gd name="textAreaLeft" fmla="*/ 0 w 9258840"/>
                <a:gd name="textAreaRight" fmla="*/ 9259200 w 9258840"/>
                <a:gd name="textAreaTop" fmla="*/ 0 h 146880"/>
                <a:gd name="textAreaBottom" fmla="*/ 147240 h 146880"/>
              </a:gdLst>
              <a:ahLst/>
              <a:rect l="textAreaLeft" t="textAreaTop" r="textAreaRight" b="textAreaBottom"/>
              <a:pathLst>
                <a:path w="21600" h="21600">
                  <a:moveTo>
                    <a:pt x="21597" y="21600"/>
                  </a:moveTo>
                  <a:lnTo>
                    <a:pt x="4" y="21600"/>
                  </a:lnTo>
                  <a:cubicBezTo>
                    <a:pt x="0" y="21600"/>
                    <a:pt x="0" y="21600"/>
                    <a:pt x="0" y="21429"/>
                  </a:cubicBezTo>
                  <a:lnTo>
                    <a:pt x="0" y="3600"/>
                  </a:lnTo>
                  <a:cubicBezTo>
                    <a:pt x="0" y="1629"/>
                    <a:pt x="26" y="0"/>
                    <a:pt x="58" y="0"/>
                  </a:cubicBezTo>
                  <a:lnTo>
                    <a:pt x="21542" y="0"/>
                  </a:lnTo>
                  <a:cubicBezTo>
                    <a:pt x="21574" y="0"/>
                    <a:pt x="21600" y="1629"/>
                    <a:pt x="21600" y="3600"/>
                  </a:cubicBezTo>
                  <a:cubicBezTo>
                    <a:pt x="21600" y="3600"/>
                    <a:pt x="21600" y="21600"/>
                    <a:pt x="21597" y="21600"/>
                  </a:cubicBezTo>
                </a:path>
              </a:pathLst>
            </a:custGeom>
            <a:solidFill>
              <a:srgbClr val="e7e7e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20" name="Shape 3474"/>
            <p:cNvSpPr/>
            <p:nvPr/>
          </p:nvSpPr>
          <p:spPr>
            <a:xfrm>
              <a:off x="6117840" y="11403720"/>
              <a:ext cx="1257840" cy="74160"/>
            </a:xfrm>
            <a:custGeom>
              <a:avLst/>
              <a:gdLst>
                <a:gd name="textAreaLeft" fmla="*/ 0 w 1257840"/>
                <a:gd name="textAreaRight" fmla="*/ 1258200 w 1257840"/>
                <a:gd name="textAreaTop" fmla="*/ 0 h 74160"/>
                <a:gd name="textAreaBottom" fmla="*/ 74520 h 7416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solidFill>
              <a:srgbClr val="afbac0"/>
            </a:solidFill>
            <a:ln w="12700">
              <a:noFill/>
            </a:ln>
          </p:spPr>
          <p:style>
            <a:lnRef idx="0"/>
            <a:fillRef idx="0"/>
            <a:effectRef idx="0"/>
            <a:fontRef idx="minor"/>
          </p:style>
          <p:txBody>
            <a:bodyPr numCol="1" spcCol="0" lIns="45720" rIns="45720" tIns="37080" bIns="3708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121" name="Group 3482"/>
          <p:cNvGrpSpPr/>
          <p:nvPr/>
        </p:nvGrpSpPr>
        <p:grpSpPr>
          <a:xfrm>
            <a:off x="12192120" y="8214120"/>
            <a:ext cx="853560" cy="1539360"/>
            <a:chOff x="12192120" y="8214120"/>
            <a:chExt cx="853560" cy="1539360"/>
          </a:xfrm>
        </p:grpSpPr>
        <p:sp>
          <p:nvSpPr>
            <p:cNvPr id="6122" name="Shape 3476"/>
            <p:cNvSpPr/>
            <p:nvPr/>
          </p:nvSpPr>
          <p:spPr>
            <a:xfrm>
              <a:off x="12983040" y="8732520"/>
              <a:ext cx="62640" cy="162360"/>
            </a:xfrm>
            <a:custGeom>
              <a:avLst/>
              <a:gdLst>
                <a:gd name="textAreaLeft" fmla="*/ 0 w 62640"/>
                <a:gd name="textAreaRight" fmla="*/ 63000 w 62640"/>
                <a:gd name="textAreaTop" fmla="*/ 0 h 162360"/>
                <a:gd name="textAreaBottom" fmla="*/ 162720 h 162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6123" name="Shape 3477"/>
            <p:cNvSpPr/>
            <p:nvPr/>
          </p:nvSpPr>
          <p:spPr>
            <a:xfrm>
              <a:off x="12997440" y="9011160"/>
              <a:ext cx="24480" cy="243000"/>
            </a:xfrm>
            <a:custGeom>
              <a:avLst/>
              <a:gdLst>
                <a:gd name="textAreaLeft" fmla="*/ 0 w 24480"/>
                <a:gd name="textAreaRight" fmla="*/ 24840 w 24480"/>
                <a:gd name="textAreaTop" fmla="*/ 0 h 243000"/>
                <a:gd name="textAreaBottom" fmla="*/ 243360 h 2430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24" name="Shape 3478"/>
            <p:cNvSpPr/>
            <p:nvPr/>
          </p:nvSpPr>
          <p:spPr>
            <a:xfrm>
              <a:off x="12274560" y="9436680"/>
              <a:ext cx="648360" cy="316800"/>
            </a:xfrm>
            <a:custGeom>
              <a:avLst/>
              <a:gdLst>
                <a:gd name="textAreaLeft" fmla="*/ 0 w 648360"/>
                <a:gd name="textAreaRight" fmla="*/ 648720 w 648360"/>
                <a:gd name="textAreaTop" fmla="*/ 0 h 316800"/>
                <a:gd name="textAreaBottom" fmla="*/ 317160 h 31680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4450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25" name="Shape 3479"/>
            <p:cNvSpPr/>
            <p:nvPr/>
          </p:nvSpPr>
          <p:spPr>
            <a:xfrm>
              <a:off x="12274560" y="8214120"/>
              <a:ext cx="648360" cy="316440"/>
            </a:xfrm>
            <a:custGeom>
              <a:avLst/>
              <a:gdLst>
                <a:gd name="textAreaLeft" fmla="*/ 0 w 648360"/>
                <a:gd name="textAreaRight" fmla="*/ 648720 w 648360"/>
                <a:gd name="textAreaTop" fmla="*/ 0 h 316440"/>
                <a:gd name="textAreaBottom" fmla="*/ 316800 h 31644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4450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26" name="Shape 3480"/>
            <p:cNvSpPr/>
            <p:nvPr/>
          </p:nvSpPr>
          <p:spPr>
            <a:xfrm>
              <a:off x="12192120" y="8506800"/>
              <a:ext cx="813240" cy="959400"/>
            </a:xfrm>
            <a:custGeom>
              <a:avLst/>
              <a:gdLst>
                <a:gd name="textAreaLeft" fmla="*/ 0 w 813240"/>
                <a:gd name="textAreaRight" fmla="*/ 813600 w 813240"/>
                <a:gd name="textAreaTop" fmla="*/ 0 h 959400"/>
                <a:gd name="textAreaBottom" fmla="*/ 959760 h 959400"/>
              </a:gdLst>
              <a:ahLst/>
              <a:rect l="textAreaLeft" t="textAreaTop" r="textAreaRight" b="textAreaBottom"/>
              <a:pathLst>
                <a:path w="21553" h="21560">
                  <a:moveTo>
                    <a:pt x="17154" y="21560"/>
                  </a:moveTo>
                  <a:lnTo>
                    <a:pt x="4267" y="21511"/>
                  </a:lnTo>
                  <a:cubicBezTo>
                    <a:pt x="1893" y="21495"/>
                    <a:pt x="-19" y="19844"/>
                    <a:pt x="0" y="17778"/>
                  </a:cubicBezTo>
                  <a:lnTo>
                    <a:pt x="75" y="3684"/>
                  </a:lnTo>
                  <a:cubicBezTo>
                    <a:pt x="94" y="1635"/>
                    <a:pt x="2016" y="-16"/>
                    <a:pt x="4408" y="0"/>
                  </a:cubicBezTo>
                  <a:lnTo>
                    <a:pt x="17285" y="49"/>
                  </a:lnTo>
                  <a:cubicBezTo>
                    <a:pt x="19659" y="65"/>
                    <a:pt x="21581" y="1724"/>
                    <a:pt x="21553" y="3790"/>
                  </a:cubicBezTo>
                  <a:lnTo>
                    <a:pt x="21477" y="17876"/>
                  </a:lnTo>
                  <a:cubicBezTo>
                    <a:pt x="21459" y="19925"/>
                    <a:pt x="19518" y="21584"/>
                    <a:pt x="17154" y="2156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27" name="Shape 3481"/>
            <p:cNvSpPr/>
            <p:nvPr/>
          </p:nvSpPr>
          <p:spPr>
            <a:xfrm>
              <a:off x="12226680" y="8545680"/>
              <a:ext cx="743760" cy="881640"/>
            </a:xfrm>
            <a:custGeom>
              <a:avLst/>
              <a:gdLst>
                <a:gd name="textAreaLeft" fmla="*/ 0 w 743760"/>
                <a:gd name="textAreaRight" fmla="*/ 744120 w 743760"/>
                <a:gd name="textAreaTop" fmla="*/ 0 h 881640"/>
                <a:gd name="textAreaBottom" fmla="*/ 882000 h 881640"/>
              </a:gdLst>
              <a:ahLst/>
              <a:rect l="textAreaLeft" t="textAreaTop" r="textAreaRight" b="textAreaBottom"/>
              <a:pathLst>
                <a:path w="21559" h="21583">
                  <a:moveTo>
                    <a:pt x="18125" y="21583"/>
                  </a:moveTo>
                  <a:lnTo>
                    <a:pt x="3308" y="21530"/>
                  </a:lnTo>
                  <a:cubicBezTo>
                    <a:pt x="1471" y="21530"/>
                    <a:pt x="-21" y="20256"/>
                    <a:pt x="0" y="18709"/>
                  </a:cubicBezTo>
                  <a:lnTo>
                    <a:pt x="83" y="2786"/>
                  </a:lnTo>
                  <a:cubicBezTo>
                    <a:pt x="83" y="1231"/>
                    <a:pt x="1596" y="-17"/>
                    <a:pt x="3433" y="1"/>
                  </a:cubicBezTo>
                  <a:lnTo>
                    <a:pt x="18261" y="53"/>
                  </a:lnTo>
                  <a:cubicBezTo>
                    <a:pt x="20097" y="53"/>
                    <a:pt x="21579" y="1328"/>
                    <a:pt x="21558" y="2874"/>
                  </a:cubicBezTo>
                  <a:lnTo>
                    <a:pt x="21475" y="18806"/>
                  </a:lnTo>
                  <a:cubicBezTo>
                    <a:pt x="21454" y="20335"/>
                    <a:pt x="19962" y="21583"/>
                    <a:pt x="18125" y="215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128" name="Group 3489"/>
          <p:cNvGrpSpPr/>
          <p:nvPr/>
        </p:nvGrpSpPr>
        <p:grpSpPr>
          <a:xfrm>
            <a:off x="12192120" y="10148040"/>
            <a:ext cx="853560" cy="1539720"/>
            <a:chOff x="12192120" y="10148040"/>
            <a:chExt cx="853560" cy="1539720"/>
          </a:xfrm>
        </p:grpSpPr>
        <p:sp>
          <p:nvSpPr>
            <p:cNvPr id="6129" name="Shape 3483"/>
            <p:cNvSpPr/>
            <p:nvPr/>
          </p:nvSpPr>
          <p:spPr>
            <a:xfrm>
              <a:off x="12983040" y="10666440"/>
              <a:ext cx="62640" cy="162360"/>
            </a:xfrm>
            <a:custGeom>
              <a:avLst/>
              <a:gdLst>
                <a:gd name="textAreaLeft" fmla="*/ 0 w 62640"/>
                <a:gd name="textAreaRight" fmla="*/ 63000 w 62640"/>
                <a:gd name="textAreaTop" fmla="*/ 0 h 162360"/>
                <a:gd name="textAreaBottom" fmla="*/ 162720 h 16236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6130" name="Shape 3484"/>
            <p:cNvSpPr/>
            <p:nvPr/>
          </p:nvSpPr>
          <p:spPr>
            <a:xfrm>
              <a:off x="12997440" y="10945080"/>
              <a:ext cx="24480" cy="243000"/>
            </a:xfrm>
            <a:custGeom>
              <a:avLst/>
              <a:gdLst>
                <a:gd name="textAreaLeft" fmla="*/ 0 w 24480"/>
                <a:gd name="textAreaRight" fmla="*/ 24840 w 24480"/>
                <a:gd name="textAreaTop" fmla="*/ 0 h 243000"/>
                <a:gd name="textAreaBottom" fmla="*/ 243360 h 2430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31" name="Shape 3485"/>
            <p:cNvSpPr/>
            <p:nvPr/>
          </p:nvSpPr>
          <p:spPr>
            <a:xfrm>
              <a:off x="12274560" y="11370960"/>
              <a:ext cx="648360" cy="316800"/>
            </a:xfrm>
            <a:custGeom>
              <a:avLst/>
              <a:gdLst>
                <a:gd name="textAreaLeft" fmla="*/ 0 w 648360"/>
                <a:gd name="textAreaRight" fmla="*/ 648720 w 648360"/>
                <a:gd name="textAreaTop" fmla="*/ 0 h 316800"/>
                <a:gd name="textAreaBottom" fmla="*/ 317160 h 31680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c8cc2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32" name="Shape 3486"/>
            <p:cNvSpPr/>
            <p:nvPr/>
          </p:nvSpPr>
          <p:spPr>
            <a:xfrm>
              <a:off x="12274560" y="10148040"/>
              <a:ext cx="648360" cy="316440"/>
            </a:xfrm>
            <a:custGeom>
              <a:avLst/>
              <a:gdLst>
                <a:gd name="textAreaLeft" fmla="*/ 0 w 648360"/>
                <a:gd name="textAreaRight" fmla="*/ 648720 w 648360"/>
                <a:gd name="textAreaTop" fmla="*/ 0 h 316440"/>
                <a:gd name="textAreaBottom" fmla="*/ 316800 h 31644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c8cc2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33" name="Shape 3487"/>
            <p:cNvSpPr/>
            <p:nvPr/>
          </p:nvSpPr>
          <p:spPr>
            <a:xfrm>
              <a:off x="12192120" y="10441080"/>
              <a:ext cx="813240" cy="959400"/>
            </a:xfrm>
            <a:custGeom>
              <a:avLst/>
              <a:gdLst>
                <a:gd name="textAreaLeft" fmla="*/ 0 w 813240"/>
                <a:gd name="textAreaRight" fmla="*/ 813600 w 813240"/>
                <a:gd name="textAreaTop" fmla="*/ 0 h 959400"/>
                <a:gd name="textAreaBottom" fmla="*/ 959760 h 959400"/>
              </a:gdLst>
              <a:ahLst/>
              <a:rect l="textAreaLeft" t="textAreaTop" r="textAreaRight" b="textAreaBottom"/>
              <a:pathLst>
                <a:path w="21553" h="21560">
                  <a:moveTo>
                    <a:pt x="17154" y="21560"/>
                  </a:moveTo>
                  <a:lnTo>
                    <a:pt x="4267" y="21511"/>
                  </a:lnTo>
                  <a:cubicBezTo>
                    <a:pt x="1893" y="21495"/>
                    <a:pt x="-19" y="19844"/>
                    <a:pt x="0" y="17778"/>
                  </a:cubicBezTo>
                  <a:lnTo>
                    <a:pt x="75" y="3684"/>
                  </a:lnTo>
                  <a:cubicBezTo>
                    <a:pt x="94" y="1635"/>
                    <a:pt x="2016" y="-16"/>
                    <a:pt x="4408" y="0"/>
                  </a:cubicBezTo>
                  <a:lnTo>
                    <a:pt x="17285" y="49"/>
                  </a:lnTo>
                  <a:cubicBezTo>
                    <a:pt x="19659" y="65"/>
                    <a:pt x="21581" y="1724"/>
                    <a:pt x="21553" y="3790"/>
                  </a:cubicBezTo>
                  <a:lnTo>
                    <a:pt x="21477" y="17876"/>
                  </a:lnTo>
                  <a:cubicBezTo>
                    <a:pt x="21459" y="19925"/>
                    <a:pt x="19518" y="21584"/>
                    <a:pt x="17154" y="2156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34" name="Shape 3488"/>
            <p:cNvSpPr/>
            <p:nvPr/>
          </p:nvSpPr>
          <p:spPr>
            <a:xfrm>
              <a:off x="12226680" y="10479600"/>
              <a:ext cx="743760" cy="881640"/>
            </a:xfrm>
            <a:custGeom>
              <a:avLst/>
              <a:gdLst>
                <a:gd name="textAreaLeft" fmla="*/ 0 w 743760"/>
                <a:gd name="textAreaRight" fmla="*/ 744120 w 743760"/>
                <a:gd name="textAreaTop" fmla="*/ 0 h 881640"/>
                <a:gd name="textAreaBottom" fmla="*/ 882000 h 881640"/>
              </a:gdLst>
              <a:ahLst/>
              <a:rect l="textAreaLeft" t="textAreaTop" r="textAreaRight" b="textAreaBottom"/>
              <a:pathLst>
                <a:path w="21559" h="21583">
                  <a:moveTo>
                    <a:pt x="18125" y="21583"/>
                  </a:moveTo>
                  <a:lnTo>
                    <a:pt x="3308" y="21530"/>
                  </a:lnTo>
                  <a:cubicBezTo>
                    <a:pt x="1471" y="21530"/>
                    <a:pt x="-21" y="20256"/>
                    <a:pt x="0" y="18709"/>
                  </a:cubicBezTo>
                  <a:lnTo>
                    <a:pt x="83" y="2786"/>
                  </a:lnTo>
                  <a:cubicBezTo>
                    <a:pt x="83" y="1231"/>
                    <a:pt x="1596" y="-17"/>
                    <a:pt x="3433" y="1"/>
                  </a:cubicBezTo>
                  <a:lnTo>
                    <a:pt x="18261" y="53"/>
                  </a:lnTo>
                  <a:cubicBezTo>
                    <a:pt x="20097" y="53"/>
                    <a:pt x="21579" y="1328"/>
                    <a:pt x="21558" y="2874"/>
                  </a:cubicBezTo>
                  <a:lnTo>
                    <a:pt x="21475" y="18806"/>
                  </a:lnTo>
                  <a:cubicBezTo>
                    <a:pt x="21454" y="20335"/>
                    <a:pt x="19962" y="21583"/>
                    <a:pt x="18125" y="215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135" name="Group 3505"/>
          <p:cNvGrpSpPr/>
          <p:nvPr/>
        </p:nvGrpSpPr>
        <p:grpSpPr>
          <a:xfrm>
            <a:off x="14034240" y="8214120"/>
            <a:ext cx="2457720" cy="3468240"/>
            <a:chOff x="14034240" y="8214120"/>
            <a:chExt cx="2457720" cy="3468240"/>
          </a:xfrm>
        </p:grpSpPr>
        <p:sp>
          <p:nvSpPr>
            <p:cNvPr id="6136" name="Shape 3490"/>
            <p:cNvSpPr/>
            <p:nvPr/>
          </p:nvSpPr>
          <p:spPr>
            <a:xfrm>
              <a:off x="14034240" y="8214120"/>
              <a:ext cx="2457720" cy="3468240"/>
            </a:xfrm>
            <a:custGeom>
              <a:avLst/>
              <a:gdLst>
                <a:gd name="textAreaLeft" fmla="*/ 0 w 2457720"/>
                <a:gd name="textAreaRight" fmla="*/ 2458080 w 2457720"/>
                <a:gd name="textAreaTop" fmla="*/ 0 h 3468240"/>
                <a:gd name="textAreaBottom" fmla="*/ 3468600 h 346824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37" name="Shape 3491"/>
            <p:cNvSpPr/>
            <p:nvPr/>
          </p:nvSpPr>
          <p:spPr>
            <a:xfrm>
              <a:off x="14049000" y="8230680"/>
              <a:ext cx="2426040" cy="3436560"/>
            </a:xfrm>
            <a:custGeom>
              <a:avLst/>
              <a:gdLst>
                <a:gd name="textAreaLeft" fmla="*/ 0 w 2426040"/>
                <a:gd name="textAreaRight" fmla="*/ 2426400 w 2426040"/>
                <a:gd name="textAreaTop" fmla="*/ 0 h 3436560"/>
                <a:gd name="textAreaBottom" fmla="*/ 3436920 h 343656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38" name="Shape 3492"/>
            <p:cNvSpPr/>
            <p:nvPr/>
          </p:nvSpPr>
          <p:spPr>
            <a:xfrm>
              <a:off x="14175000" y="8507160"/>
              <a:ext cx="2174400" cy="2883240"/>
            </a:xfrm>
            <a:custGeom>
              <a:avLst/>
              <a:gdLst>
                <a:gd name="textAreaLeft" fmla="*/ 0 w 2174400"/>
                <a:gd name="textAreaRight" fmla="*/ 2174760 w 2174400"/>
                <a:gd name="textAreaTop" fmla="*/ 0 h 2883240"/>
                <a:gd name="textAreaBottom" fmla="*/ 2883600 h 288324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39" name="Shape 3493"/>
            <p:cNvSpPr/>
            <p:nvPr/>
          </p:nvSpPr>
          <p:spPr>
            <a:xfrm>
              <a:off x="14183280" y="8514000"/>
              <a:ext cx="2159280" cy="2868480"/>
            </a:xfrm>
            <a:custGeom>
              <a:avLst/>
              <a:gdLst>
                <a:gd name="textAreaLeft" fmla="*/ 0 w 2159280"/>
                <a:gd name="textAreaRight" fmla="*/ 2159640 w 2159280"/>
                <a:gd name="textAreaTop" fmla="*/ 0 h 2868480"/>
                <a:gd name="textAreaBottom" fmla="*/ 2868840 h 28684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0" name="Shape 3494"/>
            <p:cNvSpPr/>
            <p:nvPr/>
          </p:nvSpPr>
          <p:spPr>
            <a:xfrm>
              <a:off x="15243840" y="8351640"/>
              <a:ext cx="38880" cy="38880"/>
            </a:xfrm>
            <a:custGeom>
              <a:avLst/>
              <a:gdLst>
                <a:gd name="textAreaLeft" fmla="*/ 0 w 38880"/>
                <a:gd name="textAreaRight" fmla="*/ 39240 w 38880"/>
                <a:gd name="textAreaTop" fmla="*/ 0 h 38880"/>
                <a:gd name="textAreaBottom" fmla="*/ 39240 h 3888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1" name="Shape 3495"/>
            <p:cNvSpPr/>
            <p:nvPr/>
          </p:nvSpPr>
          <p:spPr>
            <a:xfrm>
              <a:off x="15248880" y="8356680"/>
              <a:ext cx="28440" cy="28440"/>
            </a:xfrm>
            <a:custGeom>
              <a:avLst/>
              <a:gdLst>
                <a:gd name="textAreaLeft" fmla="*/ 0 w 28440"/>
                <a:gd name="textAreaRight" fmla="*/ 28800 w 28440"/>
                <a:gd name="textAreaTop" fmla="*/ 0 h 28440"/>
                <a:gd name="textAreaBottom" fmla="*/ 28800 h 2844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14400" bIns="14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2" name="Shape 3496"/>
            <p:cNvSpPr/>
            <p:nvPr/>
          </p:nvSpPr>
          <p:spPr>
            <a:xfrm>
              <a:off x="15255000" y="836316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7920" bIns="7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3" name="Shape 3497"/>
            <p:cNvSpPr/>
            <p:nvPr/>
          </p:nvSpPr>
          <p:spPr>
            <a:xfrm>
              <a:off x="15184800" y="11465280"/>
              <a:ext cx="151200" cy="151560"/>
            </a:xfrm>
            <a:custGeom>
              <a:avLst/>
              <a:gdLst>
                <a:gd name="textAreaLeft" fmla="*/ 0 w 151200"/>
                <a:gd name="textAreaRight" fmla="*/ 151560 w 151200"/>
                <a:gd name="textAreaTop" fmla="*/ 0 h 151560"/>
                <a:gd name="textAreaBottom" fmla="*/ 151920 h 15156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4" name="Shape 3498"/>
            <p:cNvSpPr/>
            <p:nvPr/>
          </p:nvSpPr>
          <p:spPr>
            <a:xfrm>
              <a:off x="15183720" y="11466720"/>
              <a:ext cx="72000" cy="78120"/>
            </a:xfrm>
            <a:custGeom>
              <a:avLst/>
              <a:gdLst>
                <a:gd name="textAreaLeft" fmla="*/ 0 w 72000"/>
                <a:gd name="textAreaRight" fmla="*/ 72360 w 72000"/>
                <a:gd name="textAreaTop" fmla="*/ 0 h 78120"/>
                <a:gd name="textAreaBottom" fmla="*/ 78480 h 7812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tIns="39240" bIns="39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5" name="Shape 3499"/>
            <p:cNvSpPr/>
            <p:nvPr/>
          </p:nvSpPr>
          <p:spPr>
            <a:xfrm>
              <a:off x="15197040" y="11466720"/>
              <a:ext cx="105120" cy="76320"/>
            </a:xfrm>
            <a:custGeom>
              <a:avLst/>
              <a:gdLst>
                <a:gd name="textAreaLeft" fmla="*/ 0 w 105120"/>
                <a:gd name="textAreaRight" fmla="*/ 105480 w 105120"/>
                <a:gd name="textAreaTop" fmla="*/ 0 h 76320"/>
                <a:gd name="textAreaBottom" fmla="*/ 76680 h 7632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6" name="Shape 3500"/>
            <p:cNvSpPr/>
            <p:nvPr/>
          </p:nvSpPr>
          <p:spPr>
            <a:xfrm>
              <a:off x="15225480" y="11466720"/>
              <a:ext cx="101880" cy="75960"/>
            </a:xfrm>
            <a:custGeom>
              <a:avLst/>
              <a:gdLst>
                <a:gd name="textAreaLeft" fmla="*/ 0 w 101880"/>
                <a:gd name="textAreaRight" fmla="*/ 102240 w 101880"/>
                <a:gd name="textAreaTop" fmla="*/ 0 h 75960"/>
                <a:gd name="textAreaBottom" fmla="*/ 76320 h 7596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7" name="Shape 3501"/>
            <p:cNvSpPr/>
            <p:nvPr/>
          </p:nvSpPr>
          <p:spPr>
            <a:xfrm>
              <a:off x="15265080" y="11538720"/>
              <a:ext cx="70560" cy="78840"/>
            </a:xfrm>
            <a:custGeom>
              <a:avLst/>
              <a:gdLst>
                <a:gd name="textAreaLeft" fmla="*/ 0 w 70560"/>
                <a:gd name="textAreaRight" fmla="*/ 70920 w 70560"/>
                <a:gd name="textAreaTop" fmla="*/ 0 h 78840"/>
                <a:gd name="textAreaBottom" fmla="*/ 79200 h 7884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tIns="39600" bIns="39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8" name="Shape 3502"/>
            <p:cNvSpPr/>
            <p:nvPr/>
          </p:nvSpPr>
          <p:spPr>
            <a:xfrm>
              <a:off x="15217200" y="11540520"/>
              <a:ext cx="105120" cy="76320"/>
            </a:xfrm>
            <a:custGeom>
              <a:avLst/>
              <a:gdLst>
                <a:gd name="textAreaLeft" fmla="*/ 0 w 105120"/>
                <a:gd name="textAreaRight" fmla="*/ 105480 w 105120"/>
                <a:gd name="textAreaTop" fmla="*/ 0 h 76320"/>
                <a:gd name="textAreaBottom" fmla="*/ 76680 h 7632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49" name="Shape 3503"/>
            <p:cNvSpPr/>
            <p:nvPr/>
          </p:nvSpPr>
          <p:spPr>
            <a:xfrm>
              <a:off x="15192000" y="11540520"/>
              <a:ext cx="101880" cy="75960"/>
            </a:xfrm>
            <a:custGeom>
              <a:avLst/>
              <a:gdLst>
                <a:gd name="textAreaLeft" fmla="*/ 0 w 101880"/>
                <a:gd name="textAreaRight" fmla="*/ 102240 w 101880"/>
                <a:gd name="textAreaTop" fmla="*/ 0 h 75960"/>
                <a:gd name="textAreaBottom" fmla="*/ 76320 h 7596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50" name="Shape 3504"/>
            <p:cNvSpPr/>
            <p:nvPr/>
          </p:nvSpPr>
          <p:spPr>
            <a:xfrm>
              <a:off x="15193800" y="11474280"/>
              <a:ext cx="133560" cy="133200"/>
            </a:xfrm>
            <a:custGeom>
              <a:avLst/>
              <a:gdLst>
                <a:gd name="textAreaLeft" fmla="*/ 0 w 133560"/>
                <a:gd name="textAreaRight" fmla="*/ 133920 w 133560"/>
                <a:gd name="textAreaTop" fmla="*/ 0 h 133200"/>
                <a:gd name="textAreaBottom" fmla="*/ 133560 h 13320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151" name="Group 3527"/>
          <p:cNvGrpSpPr/>
          <p:nvPr/>
        </p:nvGrpSpPr>
        <p:grpSpPr>
          <a:xfrm>
            <a:off x="16780320" y="9561240"/>
            <a:ext cx="1042920" cy="2120760"/>
            <a:chOff x="16780320" y="9561240"/>
            <a:chExt cx="1042920" cy="2120760"/>
          </a:xfrm>
        </p:grpSpPr>
        <p:sp>
          <p:nvSpPr>
            <p:cNvPr id="6152" name="Shape 3506"/>
            <p:cNvSpPr/>
            <p:nvPr/>
          </p:nvSpPr>
          <p:spPr>
            <a:xfrm>
              <a:off x="16780320" y="9833040"/>
              <a:ext cx="25920" cy="81720"/>
            </a:xfrm>
            <a:custGeom>
              <a:avLst/>
              <a:gdLst>
                <a:gd name="textAreaLeft" fmla="*/ 0 w 25920"/>
                <a:gd name="textAreaRight" fmla="*/ 26280 w 25920"/>
                <a:gd name="textAreaTop" fmla="*/ 0 h 81720"/>
                <a:gd name="textAreaBottom" fmla="*/ 82080 h 81720"/>
              </a:gdLst>
              <a:ahLst/>
              <a:rect l="textAreaLeft" t="textAreaTop" r="textAreaRight" b="textAreaBottom"/>
              <a:pathLst>
                <a:path w="21600" h="21600">
                  <a:moveTo>
                    <a:pt x="21600" y="21600"/>
                  </a:moveTo>
                  <a:lnTo>
                    <a:pt x="5274" y="21600"/>
                  </a:lnTo>
                  <a:cubicBezTo>
                    <a:pt x="2260" y="21600"/>
                    <a:pt x="0" y="20883"/>
                    <a:pt x="0" y="19926"/>
                  </a:cubicBezTo>
                  <a:lnTo>
                    <a:pt x="0" y="1674"/>
                  </a:lnTo>
                  <a:cubicBezTo>
                    <a:pt x="0" y="717"/>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tIns="41040" bIns="41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53" name="Shape 3507"/>
            <p:cNvSpPr/>
            <p:nvPr/>
          </p:nvSpPr>
          <p:spPr>
            <a:xfrm>
              <a:off x="16780320" y="10012680"/>
              <a:ext cx="31320" cy="152280"/>
            </a:xfrm>
            <a:custGeom>
              <a:avLst/>
              <a:gdLst>
                <a:gd name="textAreaLeft" fmla="*/ 0 w 31320"/>
                <a:gd name="textAreaRight" fmla="*/ 31680 w 31320"/>
                <a:gd name="textAreaTop" fmla="*/ 0 h 152280"/>
                <a:gd name="textAreaBottom" fmla="*/ 152640 h 152280"/>
              </a:gdLst>
              <a:ahLst/>
              <a:rect l="textAreaLeft" t="textAreaTop" r="textAreaRight" b="textAreaBottom"/>
              <a:pathLst>
                <a:path w="21600" h="21600">
                  <a:moveTo>
                    <a:pt x="21600" y="21600"/>
                  </a:moveTo>
                  <a:lnTo>
                    <a:pt x="4404" y="21600"/>
                  </a:lnTo>
                  <a:cubicBezTo>
                    <a:pt x="1887" y="21600"/>
                    <a:pt x="0" y="21216"/>
                    <a:pt x="0" y="20704"/>
                  </a:cubicBezTo>
                  <a:lnTo>
                    <a:pt x="0" y="896"/>
                  </a:lnTo>
                  <a:cubicBezTo>
                    <a:pt x="0" y="342"/>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54" name="Shape 3508"/>
            <p:cNvSpPr/>
            <p:nvPr/>
          </p:nvSpPr>
          <p:spPr>
            <a:xfrm>
              <a:off x="16780320" y="10208160"/>
              <a:ext cx="25920" cy="148320"/>
            </a:xfrm>
            <a:custGeom>
              <a:avLst/>
              <a:gdLst>
                <a:gd name="textAreaLeft" fmla="*/ 0 w 25920"/>
                <a:gd name="textAreaRight" fmla="*/ 26280 w 25920"/>
                <a:gd name="textAreaTop" fmla="*/ 0 h 148320"/>
                <a:gd name="textAreaBottom" fmla="*/ 148680 h 14832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55" name="Shape 3509"/>
            <p:cNvSpPr/>
            <p:nvPr/>
          </p:nvSpPr>
          <p:spPr>
            <a:xfrm>
              <a:off x="17801280" y="10012680"/>
              <a:ext cx="21960" cy="157680"/>
            </a:xfrm>
            <a:custGeom>
              <a:avLst/>
              <a:gdLst>
                <a:gd name="textAreaLeft" fmla="*/ 0 w 21960"/>
                <a:gd name="textAreaRight" fmla="*/ 22320 w 21960"/>
                <a:gd name="textAreaTop" fmla="*/ 0 h 157680"/>
                <a:gd name="textAreaBottom" fmla="*/ 158040 h 157680"/>
              </a:gdLst>
              <a:ahLst/>
              <a:rect l="textAreaLeft" t="textAreaTop" r="textAreaRight" b="textAreaBottom"/>
              <a:pathLst>
                <a:path w="21600" h="21600">
                  <a:moveTo>
                    <a:pt x="15386" y="21600"/>
                  </a:moveTo>
                  <a:lnTo>
                    <a:pt x="0" y="21600"/>
                  </a:lnTo>
                  <a:lnTo>
                    <a:pt x="0" y="0"/>
                  </a:lnTo>
                  <a:lnTo>
                    <a:pt x="15386" y="0"/>
                  </a:lnTo>
                  <a:cubicBezTo>
                    <a:pt x="19233" y="0"/>
                    <a:pt x="21600" y="331"/>
                    <a:pt x="21600" y="869"/>
                  </a:cubicBezTo>
                  <a:lnTo>
                    <a:pt x="21600" y="20731"/>
                  </a:lnTo>
                  <a:cubicBezTo>
                    <a:pt x="21600" y="2118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56" name="Shape 3510"/>
            <p:cNvSpPr/>
            <p:nvPr/>
          </p:nvSpPr>
          <p:spPr>
            <a:xfrm>
              <a:off x="16791120" y="9561240"/>
              <a:ext cx="1020240" cy="2120760"/>
            </a:xfrm>
            <a:custGeom>
              <a:avLst/>
              <a:gdLst>
                <a:gd name="textAreaLeft" fmla="*/ 0 w 1020240"/>
                <a:gd name="textAreaRight" fmla="*/ 1020600 w 1020240"/>
                <a:gd name="textAreaTop" fmla="*/ 0 h 2120760"/>
                <a:gd name="textAreaBottom" fmla="*/ 2121120 h 2120760"/>
              </a:gdLst>
              <a:ahLst/>
              <a:rect l="textAreaLeft" t="textAreaTop" r="textAreaRight" b="textAreaBottom"/>
              <a:pathLst>
                <a:path w="21600" h="21600">
                  <a:moveTo>
                    <a:pt x="17562" y="21600"/>
                  </a:moveTo>
                  <a:lnTo>
                    <a:pt x="4018" y="21600"/>
                  </a:lnTo>
                  <a:cubicBezTo>
                    <a:pt x="1795" y="21600"/>
                    <a:pt x="0" y="20736"/>
                    <a:pt x="0" y="19667"/>
                  </a:cubicBezTo>
                  <a:lnTo>
                    <a:pt x="0" y="1936"/>
                  </a:lnTo>
                  <a:cubicBezTo>
                    <a:pt x="0" y="864"/>
                    <a:pt x="1795" y="0"/>
                    <a:pt x="4018" y="0"/>
                  </a:cubicBezTo>
                  <a:lnTo>
                    <a:pt x="17575" y="0"/>
                  </a:lnTo>
                  <a:cubicBezTo>
                    <a:pt x="19798" y="0"/>
                    <a:pt x="21600" y="864"/>
                    <a:pt x="21600" y="1936"/>
                  </a:cubicBezTo>
                  <a:lnTo>
                    <a:pt x="21600" y="19673"/>
                  </a:lnTo>
                  <a:cubicBezTo>
                    <a:pt x="21581" y="20736"/>
                    <a:pt x="19786" y="21600"/>
                    <a:pt x="1756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57" name="Shape 3511"/>
            <p:cNvSpPr/>
            <p:nvPr/>
          </p:nvSpPr>
          <p:spPr>
            <a:xfrm>
              <a:off x="16800120" y="9572040"/>
              <a:ext cx="1000080" cy="2100960"/>
            </a:xfrm>
            <a:custGeom>
              <a:avLst/>
              <a:gdLst>
                <a:gd name="textAreaLeft" fmla="*/ 0 w 1000080"/>
                <a:gd name="textAreaRight" fmla="*/ 1000440 w 1000080"/>
                <a:gd name="textAreaTop" fmla="*/ 0 h 2100960"/>
                <a:gd name="textAreaBottom" fmla="*/ 2101320 h 2100960"/>
              </a:gdLst>
              <a:ahLst/>
              <a:rect l="textAreaLeft" t="textAreaTop" r="textAreaRight" b="textAreaBottom"/>
              <a:pathLst>
                <a:path w="21600" h="21600">
                  <a:moveTo>
                    <a:pt x="17637" y="21600"/>
                  </a:moveTo>
                  <a:lnTo>
                    <a:pt x="3969" y="21600"/>
                  </a:lnTo>
                  <a:cubicBezTo>
                    <a:pt x="1779" y="21600"/>
                    <a:pt x="0" y="20756"/>
                    <a:pt x="0" y="19713"/>
                  </a:cubicBezTo>
                  <a:lnTo>
                    <a:pt x="0" y="1887"/>
                  </a:lnTo>
                  <a:cubicBezTo>
                    <a:pt x="0" y="847"/>
                    <a:pt x="1779" y="0"/>
                    <a:pt x="3969" y="0"/>
                  </a:cubicBezTo>
                  <a:lnTo>
                    <a:pt x="17637" y="0"/>
                  </a:lnTo>
                  <a:cubicBezTo>
                    <a:pt x="19821" y="0"/>
                    <a:pt x="21600" y="847"/>
                    <a:pt x="21600" y="1887"/>
                  </a:cubicBezTo>
                  <a:lnTo>
                    <a:pt x="21600" y="19719"/>
                  </a:lnTo>
                  <a:cubicBezTo>
                    <a:pt x="21600" y="20762"/>
                    <a:pt x="19821" y="21600"/>
                    <a:pt x="1763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58" name="Shape 3512"/>
            <p:cNvSpPr/>
            <p:nvPr/>
          </p:nvSpPr>
          <p:spPr>
            <a:xfrm>
              <a:off x="16841520" y="9816840"/>
              <a:ext cx="919080" cy="1616400"/>
            </a:xfrm>
            <a:custGeom>
              <a:avLst/>
              <a:gdLst>
                <a:gd name="textAreaLeft" fmla="*/ 0 w 919080"/>
                <a:gd name="textAreaRight" fmla="*/ 919440 w 919080"/>
                <a:gd name="textAreaTop" fmla="*/ 0 h 1616400"/>
                <a:gd name="textAreaBottom" fmla="*/ 1616760 h 1616400"/>
              </a:gdLst>
              <a:ahLst/>
              <a:rect l="textAreaLeft" t="textAreaTop" r="textAreaRight" b="textAreaBottom"/>
              <a:pathLst>
                <a:path w="21600" h="21600">
                  <a:moveTo>
                    <a:pt x="21302" y="21600"/>
                  </a:moveTo>
                  <a:lnTo>
                    <a:pt x="298" y="21600"/>
                  </a:lnTo>
                  <a:cubicBezTo>
                    <a:pt x="135" y="21600"/>
                    <a:pt x="0" y="21523"/>
                    <a:pt x="0" y="21431"/>
                  </a:cubicBezTo>
                  <a:lnTo>
                    <a:pt x="0" y="169"/>
                  </a:lnTo>
                  <a:cubicBezTo>
                    <a:pt x="0" y="77"/>
                    <a:pt x="135" y="0"/>
                    <a:pt x="298" y="0"/>
                  </a:cubicBezTo>
                  <a:lnTo>
                    <a:pt x="21302" y="0"/>
                  </a:lnTo>
                  <a:cubicBezTo>
                    <a:pt x="21465" y="0"/>
                    <a:pt x="21600" y="77"/>
                    <a:pt x="21600" y="169"/>
                  </a:cubicBezTo>
                  <a:lnTo>
                    <a:pt x="21600" y="21431"/>
                  </a:lnTo>
                  <a:cubicBezTo>
                    <a:pt x="21600" y="21523"/>
                    <a:pt x="21465" y="21600"/>
                    <a:pt x="21302" y="21600"/>
                  </a:cubicBezTo>
                </a:path>
              </a:pathLst>
            </a:custGeom>
            <a:solidFill>
              <a:srgbClr val="f7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59" name="Shape 3513"/>
            <p:cNvSpPr/>
            <p:nvPr/>
          </p:nvSpPr>
          <p:spPr>
            <a:xfrm>
              <a:off x="16846920" y="9822240"/>
              <a:ext cx="908280" cy="1605600"/>
            </a:xfrm>
            <a:custGeom>
              <a:avLst/>
              <a:gdLst>
                <a:gd name="textAreaLeft" fmla="*/ 0 w 908280"/>
                <a:gd name="textAreaRight" fmla="*/ 908640 w 908280"/>
                <a:gd name="textAreaTop" fmla="*/ 0 h 1605600"/>
                <a:gd name="textAreaBottom" fmla="*/ 1605960 h 1605600"/>
              </a:gdLst>
              <a:ahLst/>
              <a:rect l="textAreaLeft" t="textAreaTop" r="textAreaRight" b="textAreaBottom"/>
              <a:pathLst>
                <a:path w="21600" h="21600">
                  <a:moveTo>
                    <a:pt x="21299" y="21600"/>
                  </a:moveTo>
                  <a:lnTo>
                    <a:pt x="301" y="21600"/>
                  </a:lnTo>
                  <a:cubicBezTo>
                    <a:pt x="136" y="21600"/>
                    <a:pt x="0" y="21523"/>
                    <a:pt x="0" y="21430"/>
                  </a:cubicBezTo>
                  <a:lnTo>
                    <a:pt x="0" y="170"/>
                  </a:lnTo>
                  <a:cubicBezTo>
                    <a:pt x="0" y="77"/>
                    <a:pt x="136" y="0"/>
                    <a:pt x="301" y="0"/>
                  </a:cubicBezTo>
                  <a:lnTo>
                    <a:pt x="21299" y="0"/>
                  </a:lnTo>
                  <a:cubicBezTo>
                    <a:pt x="21464" y="0"/>
                    <a:pt x="21600" y="77"/>
                    <a:pt x="21600" y="170"/>
                  </a:cubicBezTo>
                  <a:lnTo>
                    <a:pt x="21600" y="21430"/>
                  </a:lnTo>
                  <a:cubicBezTo>
                    <a:pt x="21600" y="21523"/>
                    <a:pt x="21464" y="21600"/>
                    <a:pt x="21299"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0" name="Shape 3514"/>
            <p:cNvSpPr/>
            <p:nvPr/>
          </p:nvSpPr>
          <p:spPr>
            <a:xfrm>
              <a:off x="17219160" y="11468160"/>
              <a:ext cx="165240" cy="165240"/>
            </a:xfrm>
            <a:custGeom>
              <a:avLst/>
              <a:gdLst>
                <a:gd name="textAreaLeft" fmla="*/ 0 w 165240"/>
                <a:gd name="textAreaRight" fmla="*/ 165600 w 165240"/>
                <a:gd name="textAreaTop" fmla="*/ 0 h 165240"/>
                <a:gd name="textAreaBottom" fmla="*/ 165600 h 165240"/>
              </a:gdLst>
              <a:ahLst/>
              <a:rect l="textAreaLeft" t="textAreaTop" r="textAreaRight" b="textAreaBottom"/>
              <a:pathLst>
                <a:path w="21346" h="21346">
                  <a:moveTo>
                    <a:pt x="18192" y="3154"/>
                  </a:moveTo>
                  <a:cubicBezTo>
                    <a:pt x="19598" y="4521"/>
                    <a:pt x="20457" y="6005"/>
                    <a:pt x="20965" y="7919"/>
                  </a:cubicBezTo>
                  <a:cubicBezTo>
                    <a:pt x="21473" y="9794"/>
                    <a:pt x="21473" y="11513"/>
                    <a:pt x="20965" y="13427"/>
                  </a:cubicBezTo>
                  <a:cubicBezTo>
                    <a:pt x="20457" y="15302"/>
                    <a:pt x="19559" y="16786"/>
                    <a:pt x="18192" y="18192"/>
                  </a:cubicBezTo>
                  <a:cubicBezTo>
                    <a:pt x="16786" y="19559"/>
                    <a:pt x="15302" y="20457"/>
                    <a:pt x="13427" y="20965"/>
                  </a:cubicBezTo>
                  <a:cubicBezTo>
                    <a:pt x="11513" y="21473"/>
                    <a:pt x="9794" y="21473"/>
                    <a:pt x="7919" y="20965"/>
                  </a:cubicBezTo>
                  <a:cubicBezTo>
                    <a:pt x="6005" y="20457"/>
                    <a:pt x="4482" y="19559"/>
                    <a:pt x="3115" y="18192"/>
                  </a:cubicBezTo>
                  <a:cubicBezTo>
                    <a:pt x="1709" y="16786"/>
                    <a:pt x="889" y="15302"/>
                    <a:pt x="381" y="13427"/>
                  </a:cubicBezTo>
                  <a:cubicBezTo>
                    <a:pt x="-127" y="11513"/>
                    <a:pt x="-127" y="9794"/>
                    <a:pt x="381" y="7919"/>
                  </a:cubicBezTo>
                  <a:cubicBezTo>
                    <a:pt x="889" y="6005"/>
                    <a:pt x="1709" y="4482"/>
                    <a:pt x="3115" y="3115"/>
                  </a:cubicBezTo>
                  <a:cubicBezTo>
                    <a:pt x="4482" y="1709"/>
                    <a:pt x="6005" y="889"/>
                    <a:pt x="7919" y="381"/>
                  </a:cubicBezTo>
                  <a:cubicBezTo>
                    <a:pt x="9794" y="-127"/>
                    <a:pt x="11513" y="-127"/>
                    <a:pt x="13427" y="381"/>
                  </a:cubicBezTo>
                  <a:cubicBezTo>
                    <a:pt x="15302" y="889"/>
                    <a:pt x="16825" y="1748"/>
                    <a:pt x="18192" y="3154"/>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1" name="Shape 3515"/>
            <p:cNvSpPr/>
            <p:nvPr/>
          </p:nvSpPr>
          <p:spPr>
            <a:xfrm>
              <a:off x="17218080" y="11468520"/>
              <a:ext cx="77760" cy="84600"/>
            </a:xfrm>
            <a:custGeom>
              <a:avLst/>
              <a:gdLst>
                <a:gd name="textAreaLeft" fmla="*/ 0 w 77760"/>
                <a:gd name="textAreaRight" fmla="*/ 78120 w 77760"/>
                <a:gd name="textAreaTop" fmla="*/ 0 h 84600"/>
                <a:gd name="textAreaBottom" fmla="*/ 84960 h 8460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366"/>
                    <a:pt x="6065" y="6411"/>
                  </a:cubicBezTo>
                </a:path>
              </a:pathLst>
            </a:custGeom>
            <a:solidFill>
              <a:srgbClr val="9e9e9e">
                <a:alpha val="50000"/>
              </a:srgbClr>
            </a:solidFill>
            <a:ln w="12700">
              <a:noFill/>
            </a:ln>
          </p:spPr>
          <p:style>
            <a:lnRef idx="0"/>
            <a:fillRef idx="0"/>
            <a:effectRef idx="0"/>
            <a:fontRef idx="minor"/>
          </p:style>
          <p:txBody>
            <a:bodyPr numCol="1" spcCol="0" lIns="45720" rIns="45720" tIns="42480" bIns="42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2" name="Shape 3516"/>
            <p:cNvSpPr/>
            <p:nvPr/>
          </p:nvSpPr>
          <p:spPr>
            <a:xfrm>
              <a:off x="17232840" y="11467440"/>
              <a:ext cx="113760" cy="81720"/>
            </a:xfrm>
            <a:custGeom>
              <a:avLst/>
              <a:gdLst>
                <a:gd name="textAreaLeft" fmla="*/ 0 w 113760"/>
                <a:gd name="textAreaRight" fmla="*/ 114120 w 113760"/>
                <a:gd name="textAreaTop" fmla="*/ 0 h 81720"/>
                <a:gd name="textAreaBottom" fmla="*/ 82080 h 81720"/>
              </a:gdLst>
              <a:ahLst/>
              <a:rect l="textAreaLeft" t="textAreaTop" r="textAreaRight" b="textAreaBottom"/>
              <a:pathLst>
                <a:path w="21600" h="20845">
                  <a:moveTo>
                    <a:pt x="10004" y="390"/>
                  </a:moveTo>
                  <a:cubicBezTo>
                    <a:pt x="5855" y="1382"/>
                    <a:pt x="2274" y="4740"/>
                    <a:pt x="0" y="9015"/>
                  </a:cubicBezTo>
                  <a:lnTo>
                    <a:pt x="12789" y="20845"/>
                  </a:lnTo>
                  <a:lnTo>
                    <a:pt x="21600" y="3748"/>
                  </a:lnTo>
                  <a:cubicBezTo>
                    <a:pt x="18360" y="695"/>
                    <a:pt x="14211" y="-755"/>
                    <a:pt x="10004" y="390"/>
                  </a:cubicBezTo>
                </a:path>
              </a:pathLst>
            </a:custGeom>
            <a:solidFill>
              <a:srgbClr val="b5b5b5">
                <a:alpha val="50000"/>
              </a:srgbClr>
            </a:solidFill>
            <a:ln w="12700">
              <a:noFill/>
            </a:ln>
          </p:spPr>
          <p:style>
            <a:lnRef idx="0"/>
            <a:fillRef idx="0"/>
            <a:effectRef idx="0"/>
            <a:fontRef idx="minor"/>
          </p:style>
          <p:txBody>
            <a:bodyPr numCol="1" spcCol="0" lIns="45720" rIns="45720" tIns="41040" bIns="41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3" name="Shape 3517"/>
            <p:cNvSpPr/>
            <p:nvPr/>
          </p:nvSpPr>
          <p:spPr>
            <a:xfrm>
              <a:off x="17263440" y="11467440"/>
              <a:ext cx="109800" cy="81360"/>
            </a:xfrm>
            <a:custGeom>
              <a:avLst/>
              <a:gdLst>
                <a:gd name="textAreaLeft" fmla="*/ 0 w 109800"/>
                <a:gd name="textAreaRight" fmla="*/ 110160 w 109800"/>
                <a:gd name="textAreaTop" fmla="*/ 0 h 81360"/>
                <a:gd name="textAreaBottom" fmla="*/ 81720 h 81360"/>
              </a:gdLst>
              <a:ahLst/>
              <a:rect l="textAreaLeft" t="textAreaTop" r="textAreaRight" b="textAreaBottom"/>
              <a:pathLst>
                <a:path w="21600" h="20830">
                  <a:moveTo>
                    <a:pt x="12242" y="985"/>
                  </a:moveTo>
                  <a:cubicBezTo>
                    <a:pt x="8004" y="-770"/>
                    <a:pt x="3590" y="-83"/>
                    <a:pt x="0" y="2283"/>
                  </a:cubicBezTo>
                  <a:lnTo>
                    <a:pt x="7298" y="20830"/>
                  </a:lnTo>
                  <a:lnTo>
                    <a:pt x="21600" y="11442"/>
                  </a:lnTo>
                  <a:cubicBezTo>
                    <a:pt x="19775" y="6634"/>
                    <a:pt x="16421" y="2741"/>
                    <a:pt x="12242" y="985"/>
                  </a:cubicBezTo>
                </a:path>
              </a:pathLst>
            </a:custGeom>
            <a:solidFill>
              <a:srgbClr val="d3d3d3">
                <a:alpha val="50000"/>
              </a:srgbClr>
            </a:solidFill>
            <a:ln w="12700">
              <a:noFill/>
            </a:ln>
          </p:spPr>
          <p:style>
            <a:lnRef idx="0"/>
            <a:fillRef idx="0"/>
            <a:effectRef idx="0"/>
            <a:fontRef idx="minor"/>
          </p:style>
          <p:txBody>
            <a:bodyPr numCol="1" spcCol="0" lIns="45720" rIns="45720" tIns="40680" bIns="40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4" name="Shape 3518"/>
            <p:cNvSpPr/>
            <p:nvPr/>
          </p:nvSpPr>
          <p:spPr>
            <a:xfrm>
              <a:off x="17304840" y="11547000"/>
              <a:ext cx="77760" cy="84600"/>
            </a:xfrm>
            <a:custGeom>
              <a:avLst/>
              <a:gdLst>
                <a:gd name="textAreaLeft" fmla="*/ 0 w 77760"/>
                <a:gd name="textAreaRight" fmla="*/ 78120 w 77760"/>
                <a:gd name="textAreaTop" fmla="*/ 0 h 84600"/>
                <a:gd name="textAreaBottom" fmla="*/ 84960 h 84600"/>
              </a:gdLst>
              <a:ahLst/>
              <a:rect l="textAreaLeft" t="textAreaTop" r="textAreaRight" b="textAreaBottom"/>
              <a:pathLst>
                <a:path w="21600" h="21600">
                  <a:moveTo>
                    <a:pt x="15535" y="15189"/>
                  </a:moveTo>
                  <a:cubicBezTo>
                    <a:pt x="19855" y="11220"/>
                    <a:pt x="21600" y="6411"/>
                    <a:pt x="21600" y="0"/>
                  </a:cubicBezTo>
                  <a:lnTo>
                    <a:pt x="0" y="0"/>
                  </a:lnTo>
                  <a:lnTo>
                    <a:pt x="0" y="21600"/>
                  </a:lnTo>
                  <a:cubicBezTo>
                    <a:pt x="4735" y="21600"/>
                    <a:pt x="10966" y="19234"/>
                    <a:pt x="15535" y="15189"/>
                  </a:cubicBezTo>
                </a:path>
              </a:pathLst>
            </a:custGeom>
            <a:solidFill>
              <a:srgbClr val="9e9e9e">
                <a:alpha val="50000"/>
              </a:srgbClr>
            </a:solidFill>
            <a:ln w="12700">
              <a:noFill/>
            </a:ln>
          </p:spPr>
          <p:style>
            <a:lnRef idx="0"/>
            <a:fillRef idx="0"/>
            <a:effectRef idx="0"/>
            <a:fontRef idx="minor"/>
          </p:style>
          <p:txBody>
            <a:bodyPr numCol="1" spcCol="0" lIns="45720" rIns="45720" tIns="42480" bIns="42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5" name="Shape 3519"/>
            <p:cNvSpPr/>
            <p:nvPr/>
          </p:nvSpPr>
          <p:spPr>
            <a:xfrm>
              <a:off x="17254080" y="11549880"/>
              <a:ext cx="113760" cy="82800"/>
            </a:xfrm>
            <a:custGeom>
              <a:avLst/>
              <a:gdLst>
                <a:gd name="textAreaLeft" fmla="*/ 0 w 113760"/>
                <a:gd name="textAreaRight" fmla="*/ 114120 w 113760"/>
                <a:gd name="textAreaTop" fmla="*/ 0 h 82800"/>
                <a:gd name="textAreaBottom" fmla="*/ 83160 h 82800"/>
              </a:gdLst>
              <a:ahLst/>
              <a:rect l="textAreaLeft" t="textAreaTop" r="textAreaRight" b="textAreaBottom"/>
              <a:pathLst>
                <a:path w="21600" h="20848">
                  <a:moveTo>
                    <a:pt x="11596" y="20459"/>
                  </a:moveTo>
                  <a:cubicBezTo>
                    <a:pt x="15745" y="19470"/>
                    <a:pt x="19326" y="16124"/>
                    <a:pt x="21600" y="11865"/>
                  </a:cubicBezTo>
                  <a:lnTo>
                    <a:pt x="8867" y="0"/>
                  </a:lnTo>
                  <a:lnTo>
                    <a:pt x="0" y="17113"/>
                  </a:lnTo>
                  <a:cubicBezTo>
                    <a:pt x="3240" y="20155"/>
                    <a:pt x="7389" y="21600"/>
                    <a:pt x="11596" y="20459"/>
                  </a:cubicBezTo>
                </a:path>
              </a:pathLst>
            </a:custGeom>
            <a:solidFill>
              <a:srgbClr val="b5b5b5">
                <a:alpha val="50000"/>
              </a:srgbClr>
            </a:solidFill>
            <a:ln w="12700">
              <a:noFill/>
            </a:ln>
          </p:spPr>
          <p:style>
            <a:lnRef idx="0"/>
            <a:fillRef idx="0"/>
            <a:effectRef idx="0"/>
            <a:fontRef idx="minor"/>
          </p:style>
          <p:txBody>
            <a:bodyPr numCol="1" spcCol="0" lIns="45720" rIns="45720" tIns="41400" bIns="41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6" name="Shape 3520"/>
            <p:cNvSpPr/>
            <p:nvPr/>
          </p:nvSpPr>
          <p:spPr>
            <a:xfrm>
              <a:off x="17227440" y="11549880"/>
              <a:ext cx="109800" cy="82800"/>
            </a:xfrm>
            <a:custGeom>
              <a:avLst/>
              <a:gdLst>
                <a:gd name="textAreaLeft" fmla="*/ 0 w 109800"/>
                <a:gd name="textAreaRight" fmla="*/ 110160 w 109800"/>
                <a:gd name="textAreaTop" fmla="*/ 0 h 82800"/>
                <a:gd name="textAreaBottom" fmla="*/ 83160 h 82800"/>
              </a:gdLst>
              <a:ahLst/>
              <a:rect l="textAreaLeft" t="textAreaTop" r="textAreaRight" b="textAreaBottom"/>
              <a:pathLst>
                <a:path w="21600" h="20832">
                  <a:moveTo>
                    <a:pt x="9417" y="19851"/>
                  </a:moveTo>
                  <a:cubicBezTo>
                    <a:pt x="13596" y="21600"/>
                    <a:pt x="18069" y="20915"/>
                    <a:pt x="21600" y="18558"/>
                  </a:cubicBezTo>
                  <a:lnTo>
                    <a:pt x="14361" y="0"/>
                  </a:lnTo>
                  <a:lnTo>
                    <a:pt x="0" y="9431"/>
                  </a:lnTo>
                  <a:cubicBezTo>
                    <a:pt x="1883" y="14223"/>
                    <a:pt x="5179" y="18101"/>
                    <a:pt x="9417" y="19851"/>
                  </a:cubicBezTo>
                </a:path>
              </a:pathLst>
            </a:custGeom>
            <a:solidFill>
              <a:srgbClr val="d3d3d3">
                <a:alpha val="50000"/>
              </a:srgbClr>
            </a:solidFill>
            <a:ln w="12700">
              <a:noFill/>
            </a:ln>
          </p:spPr>
          <p:style>
            <a:lnRef idx="0"/>
            <a:fillRef idx="0"/>
            <a:effectRef idx="0"/>
            <a:fontRef idx="minor"/>
          </p:style>
          <p:txBody>
            <a:bodyPr numCol="1" spcCol="0" lIns="45720" rIns="45720" tIns="41400" bIns="41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7" name="Shape 3521"/>
            <p:cNvSpPr/>
            <p:nvPr/>
          </p:nvSpPr>
          <p:spPr>
            <a:xfrm>
              <a:off x="17228520" y="11477520"/>
              <a:ext cx="145080" cy="145080"/>
            </a:xfrm>
            <a:custGeom>
              <a:avLst/>
              <a:gdLst>
                <a:gd name="textAreaLeft" fmla="*/ 0 w 145080"/>
                <a:gd name="textAreaRight" fmla="*/ 145440 w 145080"/>
                <a:gd name="textAreaTop" fmla="*/ 0 h 145080"/>
                <a:gd name="textAreaBottom" fmla="*/ 145440 h 145080"/>
              </a:gdLst>
              <a:ahLst/>
              <a:rect l="textAreaLeft" t="textAreaTop" r="textAreaRight" b="textAreaBottom"/>
              <a:pathLst>
                <a:path w="21330" h="21330">
                  <a:moveTo>
                    <a:pt x="18226" y="3157"/>
                  </a:moveTo>
                  <a:cubicBezTo>
                    <a:pt x="19596" y="4524"/>
                    <a:pt x="20435" y="6022"/>
                    <a:pt x="20965" y="7918"/>
                  </a:cubicBezTo>
                  <a:cubicBezTo>
                    <a:pt x="21451" y="9813"/>
                    <a:pt x="21451" y="11533"/>
                    <a:pt x="20965" y="13428"/>
                  </a:cubicBezTo>
                  <a:cubicBezTo>
                    <a:pt x="20435" y="15324"/>
                    <a:pt x="19596" y="16822"/>
                    <a:pt x="18226" y="18189"/>
                  </a:cubicBezTo>
                  <a:cubicBezTo>
                    <a:pt x="16857" y="19555"/>
                    <a:pt x="15355" y="20437"/>
                    <a:pt x="13456" y="20966"/>
                  </a:cubicBezTo>
                  <a:cubicBezTo>
                    <a:pt x="11557" y="21451"/>
                    <a:pt x="9834" y="21451"/>
                    <a:pt x="7934" y="20966"/>
                  </a:cubicBezTo>
                  <a:cubicBezTo>
                    <a:pt x="6035" y="20437"/>
                    <a:pt x="4533" y="19555"/>
                    <a:pt x="3164" y="18189"/>
                  </a:cubicBezTo>
                  <a:cubicBezTo>
                    <a:pt x="1750" y="16822"/>
                    <a:pt x="867" y="15324"/>
                    <a:pt x="381" y="13428"/>
                  </a:cubicBezTo>
                  <a:cubicBezTo>
                    <a:pt x="-149" y="11533"/>
                    <a:pt x="-105" y="9813"/>
                    <a:pt x="381" y="7918"/>
                  </a:cubicBezTo>
                  <a:cubicBezTo>
                    <a:pt x="911" y="6022"/>
                    <a:pt x="1750" y="4524"/>
                    <a:pt x="3164" y="3157"/>
                  </a:cubicBezTo>
                  <a:cubicBezTo>
                    <a:pt x="4533" y="1791"/>
                    <a:pt x="6035" y="865"/>
                    <a:pt x="7934" y="380"/>
                  </a:cubicBezTo>
                  <a:cubicBezTo>
                    <a:pt x="9834" y="-149"/>
                    <a:pt x="11557" y="-105"/>
                    <a:pt x="13456" y="380"/>
                  </a:cubicBezTo>
                  <a:cubicBezTo>
                    <a:pt x="15355" y="909"/>
                    <a:pt x="16857" y="1791"/>
                    <a:pt x="18226" y="3157"/>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8" name="Shape 3522"/>
            <p:cNvSpPr/>
            <p:nvPr/>
          </p:nvSpPr>
          <p:spPr>
            <a:xfrm>
              <a:off x="17223480" y="9693000"/>
              <a:ext cx="151200" cy="15120"/>
            </a:xfrm>
            <a:custGeom>
              <a:avLst/>
              <a:gdLst>
                <a:gd name="textAreaLeft" fmla="*/ 0 w 151200"/>
                <a:gd name="textAreaRight" fmla="*/ 151560 w 151200"/>
                <a:gd name="textAreaTop" fmla="*/ 0 h 15120"/>
                <a:gd name="textAreaBottom" fmla="*/ 15480 h 15120"/>
              </a:gdLst>
              <a:ahLst/>
              <a:rect l="textAreaLeft" t="textAreaTop" r="textAreaRight" b="textAreaBottom"/>
              <a:pathLst>
                <a:path w="21600" h="21600">
                  <a:moveTo>
                    <a:pt x="20522" y="21600"/>
                  </a:moveTo>
                  <a:lnTo>
                    <a:pt x="1078" y="21600"/>
                  </a:lnTo>
                  <a:cubicBezTo>
                    <a:pt x="431" y="21600"/>
                    <a:pt x="0" y="16848"/>
                    <a:pt x="0" y="10800"/>
                  </a:cubicBezTo>
                  <a:cubicBezTo>
                    <a:pt x="0" y="4320"/>
                    <a:pt x="431" y="0"/>
                    <a:pt x="1078" y="0"/>
                  </a:cubicBezTo>
                  <a:lnTo>
                    <a:pt x="20522" y="0"/>
                  </a:lnTo>
                  <a:cubicBezTo>
                    <a:pt x="21126" y="0"/>
                    <a:pt x="21600" y="4320"/>
                    <a:pt x="21600" y="10800"/>
                  </a:cubicBezTo>
                  <a:cubicBezTo>
                    <a:pt x="21600" y="15984"/>
                    <a:pt x="21126" y="21600"/>
                    <a:pt x="20522" y="21600"/>
                  </a:cubicBezTo>
                </a:path>
              </a:pathLst>
            </a:custGeom>
            <a:solidFill>
              <a:srgbClr val="545454"/>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69" name="Shape 3523"/>
            <p:cNvSpPr/>
            <p:nvPr/>
          </p:nvSpPr>
          <p:spPr>
            <a:xfrm>
              <a:off x="17283240" y="9615960"/>
              <a:ext cx="24480" cy="24480"/>
            </a:xfrm>
            <a:custGeom>
              <a:avLst/>
              <a:gdLst>
                <a:gd name="textAreaLeft" fmla="*/ 0 w 24480"/>
                <a:gd name="textAreaRight" fmla="*/ 24840 w 24480"/>
                <a:gd name="textAreaTop" fmla="*/ 0 h 24480"/>
                <a:gd name="textAreaBottom" fmla="*/ 24840 h 24480"/>
              </a:gdLst>
              <a:ahLst/>
              <a:rect l="textAreaLeft" t="textAreaTop" r="textAreaRight" b="textAreaBottom"/>
              <a:pathLst>
                <a:path w="21600" h="21600">
                  <a:moveTo>
                    <a:pt x="21600" y="10930"/>
                  </a:moveTo>
                  <a:cubicBezTo>
                    <a:pt x="21600" y="12752"/>
                    <a:pt x="21086" y="14573"/>
                    <a:pt x="20057" y="16395"/>
                  </a:cubicBezTo>
                  <a:cubicBezTo>
                    <a:pt x="19029" y="17957"/>
                    <a:pt x="18000" y="19258"/>
                    <a:pt x="16200" y="20299"/>
                  </a:cubicBezTo>
                  <a:cubicBezTo>
                    <a:pt x="14400" y="21340"/>
                    <a:pt x="12857" y="21600"/>
                    <a:pt x="10800" y="21600"/>
                  </a:cubicBezTo>
                  <a:cubicBezTo>
                    <a:pt x="8743" y="21600"/>
                    <a:pt x="7200" y="21340"/>
                    <a:pt x="5400" y="20299"/>
                  </a:cubicBezTo>
                  <a:cubicBezTo>
                    <a:pt x="3600" y="19258"/>
                    <a:pt x="2314" y="17957"/>
                    <a:pt x="1543" y="16395"/>
                  </a:cubicBezTo>
                  <a:cubicBezTo>
                    <a:pt x="514" y="14573"/>
                    <a:pt x="0" y="12752"/>
                    <a:pt x="0" y="10930"/>
                  </a:cubicBezTo>
                  <a:cubicBezTo>
                    <a:pt x="0" y="8848"/>
                    <a:pt x="514" y="7027"/>
                    <a:pt x="1543" y="5465"/>
                  </a:cubicBezTo>
                  <a:cubicBezTo>
                    <a:pt x="2314" y="3643"/>
                    <a:pt x="3600" y="2342"/>
                    <a:pt x="5400" y="1301"/>
                  </a:cubicBezTo>
                  <a:cubicBezTo>
                    <a:pt x="7200" y="260"/>
                    <a:pt x="8743" y="0"/>
                    <a:pt x="10800" y="0"/>
                  </a:cubicBezTo>
                  <a:cubicBezTo>
                    <a:pt x="12857" y="0"/>
                    <a:pt x="14400" y="260"/>
                    <a:pt x="16200" y="1301"/>
                  </a:cubicBezTo>
                  <a:cubicBezTo>
                    <a:pt x="18000" y="2342"/>
                    <a:pt x="19029" y="3643"/>
                    <a:pt x="20057" y="5465"/>
                  </a:cubicBezTo>
                  <a:cubicBezTo>
                    <a:pt x="21086" y="7027"/>
                    <a:pt x="21600" y="8848"/>
                    <a:pt x="21600" y="10930"/>
                  </a:cubicBezTo>
                </a:path>
              </a:pathLst>
            </a:custGeom>
            <a:solidFill>
              <a:srgbClr val="545454"/>
            </a:solidFill>
            <a:ln w="12700">
              <a:noFill/>
            </a:ln>
          </p:spPr>
          <p:style>
            <a:lnRef idx="0"/>
            <a:fillRef idx="0"/>
            <a:effectRef idx="0"/>
            <a:fontRef idx="minor"/>
          </p:style>
          <p:txBody>
            <a:bodyPr numCol="1" spcCol="0" lIns="45720" rIns="45720" tIns="12240" bIns="12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70" name="Shape 3524"/>
            <p:cNvSpPr/>
            <p:nvPr/>
          </p:nvSpPr>
          <p:spPr>
            <a:xfrm>
              <a:off x="17118720" y="9682560"/>
              <a:ext cx="34920" cy="34920"/>
            </a:xfrm>
            <a:custGeom>
              <a:avLst/>
              <a:gdLst>
                <a:gd name="textAreaLeft" fmla="*/ 0 w 34920"/>
                <a:gd name="textAreaRight" fmla="*/ 35280 w 34920"/>
                <a:gd name="textAreaTop" fmla="*/ 0 h 34920"/>
                <a:gd name="textAreaBottom" fmla="*/ 35280 h 34920"/>
              </a:gdLst>
              <a:ahLst/>
              <a:rect l="textAreaLeft" t="textAreaTop" r="textAreaRight" b="textAreaBottom"/>
              <a:pathLst>
                <a:path w="21328" h="21346">
                  <a:moveTo>
                    <a:pt x="11481" y="64"/>
                  </a:moveTo>
                  <a:cubicBezTo>
                    <a:pt x="13296" y="64"/>
                    <a:pt x="14930" y="608"/>
                    <a:pt x="16563" y="1879"/>
                  </a:cubicBezTo>
                  <a:cubicBezTo>
                    <a:pt x="18197" y="2968"/>
                    <a:pt x="19286" y="4057"/>
                    <a:pt x="20193" y="5872"/>
                  </a:cubicBezTo>
                  <a:cubicBezTo>
                    <a:pt x="21101" y="7506"/>
                    <a:pt x="21464" y="9321"/>
                    <a:pt x="21282" y="11317"/>
                  </a:cubicBezTo>
                  <a:cubicBezTo>
                    <a:pt x="21101" y="13132"/>
                    <a:pt x="20556" y="14948"/>
                    <a:pt x="19467" y="16581"/>
                  </a:cubicBezTo>
                  <a:cubicBezTo>
                    <a:pt x="18378" y="18215"/>
                    <a:pt x="17108" y="19304"/>
                    <a:pt x="15293" y="20211"/>
                  </a:cubicBezTo>
                  <a:cubicBezTo>
                    <a:pt x="13477" y="21119"/>
                    <a:pt x="11844" y="21482"/>
                    <a:pt x="9847" y="21300"/>
                  </a:cubicBezTo>
                  <a:cubicBezTo>
                    <a:pt x="7851" y="21119"/>
                    <a:pt x="6217" y="20574"/>
                    <a:pt x="4583" y="19485"/>
                  </a:cubicBezTo>
                  <a:cubicBezTo>
                    <a:pt x="2950" y="18396"/>
                    <a:pt x="1861" y="17126"/>
                    <a:pt x="1135" y="15311"/>
                  </a:cubicBezTo>
                  <a:cubicBezTo>
                    <a:pt x="227" y="13495"/>
                    <a:pt x="-136" y="11862"/>
                    <a:pt x="46" y="9865"/>
                  </a:cubicBezTo>
                  <a:cubicBezTo>
                    <a:pt x="227" y="7869"/>
                    <a:pt x="772" y="6235"/>
                    <a:pt x="1861" y="4601"/>
                  </a:cubicBezTo>
                  <a:cubicBezTo>
                    <a:pt x="2950" y="2968"/>
                    <a:pt x="4220" y="1697"/>
                    <a:pt x="6035" y="971"/>
                  </a:cubicBezTo>
                  <a:cubicBezTo>
                    <a:pt x="7669" y="64"/>
                    <a:pt x="9484" y="-118"/>
                    <a:pt x="11481" y="64"/>
                  </a:cubicBezTo>
                </a:path>
              </a:pathLst>
            </a:custGeom>
            <a:solidFill>
              <a:srgbClr val="545454"/>
            </a:solidFill>
            <a:ln w="12700">
              <a:noFill/>
            </a:ln>
          </p:spPr>
          <p:style>
            <a:lnRef idx="0"/>
            <a:fillRef idx="0"/>
            <a:effectRef idx="0"/>
            <a:fontRef idx="minor"/>
          </p:style>
          <p:txBody>
            <a:bodyPr numCol="1" spcCol="0" lIns="45720" rIns="45720" tIns="17640" bIns="17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71" name="Shape 3525"/>
            <p:cNvSpPr/>
            <p:nvPr/>
          </p:nvSpPr>
          <p:spPr>
            <a:xfrm>
              <a:off x="17122680" y="968796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21282" h="21282">
                  <a:moveTo>
                    <a:pt x="17121" y="2128"/>
                  </a:moveTo>
                  <a:cubicBezTo>
                    <a:pt x="18646" y="3399"/>
                    <a:pt x="19662" y="4669"/>
                    <a:pt x="20425" y="6448"/>
                  </a:cubicBezTo>
                  <a:cubicBezTo>
                    <a:pt x="21187" y="8227"/>
                    <a:pt x="21441" y="10006"/>
                    <a:pt x="21187" y="12039"/>
                  </a:cubicBezTo>
                  <a:cubicBezTo>
                    <a:pt x="20933" y="13817"/>
                    <a:pt x="20170" y="15342"/>
                    <a:pt x="19154" y="17121"/>
                  </a:cubicBezTo>
                  <a:cubicBezTo>
                    <a:pt x="17883" y="18646"/>
                    <a:pt x="16613" y="19662"/>
                    <a:pt x="14834" y="20425"/>
                  </a:cubicBezTo>
                  <a:cubicBezTo>
                    <a:pt x="13055" y="21187"/>
                    <a:pt x="11276" y="21441"/>
                    <a:pt x="9497" y="21187"/>
                  </a:cubicBezTo>
                  <a:cubicBezTo>
                    <a:pt x="7465" y="20933"/>
                    <a:pt x="5686" y="20170"/>
                    <a:pt x="4161" y="19154"/>
                  </a:cubicBezTo>
                  <a:cubicBezTo>
                    <a:pt x="2382" y="17883"/>
                    <a:pt x="1620" y="16613"/>
                    <a:pt x="857" y="14834"/>
                  </a:cubicBezTo>
                  <a:cubicBezTo>
                    <a:pt x="95" y="12801"/>
                    <a:pt x="-159" y="11276"/>
                    <a:pt x="95" y="9243"/>
                  </a:cubicBezTo>
                  <a:cubicBezTo>
                    <a:pt x="349" y="7210"/>
                    <a:pt x="857" y="5686"/>
                    <a:pt x="2128" y="4161"/>
                  </a:cubicBezTo>
                  <a:cubicBezTo>
                    <a:pt x="3145" y="2636"/>
                    <a:pt x="4669" y="1620"/>
                    <a:pt x="6702" y="857"/>
                  </a:cubicBezTo>
                  <a:cubicBezTo>
                    <a:pt x="8481" y="95"/>
                    <a:pt x="10006" y="-159"/>
                    <a:pt x="12039" y="95"/>
                  </a:cubicBezTo>
                  <a:cubicBezTo>
                    <a:pt x="14072" y="349"/>
                    <a:pt x="15596" y="857"/>
                    <a:pt x="17121" y="2128"/>
                  </a:cubicBezTo>
                </a:path>
              </a:pathLst>
            </a:custGeom>
            <a:solidFill>
              <a:srgbClr val="7f7f7f"/>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72" name="Shape 3526"/>
            <p:cNvSpPr/>
            <p:nvPr/>
          </p:nvSpPr>
          <p:spPr>
            <a:xfrm>
              <a:off x="17129160" y="9693000"/>
              <a:ext cx="14040" cy="14040"/>
            </a:xfrm>
            <a:custGeom>
              <a:avLst/>
              <a:gdLst>
                <a:gd name="textAreaLeft" fmla="*/ 0 w 14040"/>
                <a:gd name="textAreaRight" fmla="*/ 14400 w 14040"/>
                <a:gd name="textAreaTop" fmla="*/ 0 h 14040"/>
                <a:gd name="textAreaBottom" fmla="*/ 14400 h 14040"/>
              </a:gdLst>
              <a:ahLst/>
              <a:rect l="textAreaLeft" t="textAreaTop" r="textAreaRight" b="textAreaBottom"/>
              <a:pathLst>
                <a:path w="21600" h="21600">
                  <a:moveTo>
                    <a:pt x="20191" y="4696"/>
                  </a:moveTo>
                  <a:cubicBezTo>
                    <a:pt x="21130" y="6574"/>
                    <a:pt x="21130" y="8452"/>
                    <a:pt x="21600" y="10330"/>
                  </a:cubicBezTo>
                  <a:cubicBezTo>
                    <a:pt x="21600" y="12209"/>
                    <a:pt x="21600" y="13617"/>
                    <a:pt x="20661" y="15496"/>
                  </a:cubicBezTo>
                  <a:cubicBezTo>
                    <a:pt x="19722" y="16904"/>
                    <a:pt x="18313" y="18313"/>
                    <a:pt x="16904" y="19722"/>
                  </a:cubicBezTo>
                  <a:cubicBezTo>
                    <a:pt x="15026" y="20661"/>
                    <a:pt x="13617" y="21600"/>
                    <a:pt x="11270" y="21600"/>
                  </a:cubicBezTo>
                  <a:cubicBezTo>
                    <a:pt x="9391" y="21600"/>
                    <a:pt x="7983" y="21130"/>
                    <a:pt x="6104" y="20191"/>
                  </a:cubicBezTo>
                  <a:cubicBezTo>
                    <a:pt x="4226" y="19252"/>
                    <a:pt x="2817" y="17843"/>
                    <a:pt x="1878" y="16435"/>
                  </a:cubicBezTo>
                  <a:cubicBezTo>
                    <a:pt x="939" y="14557"/>
                    <a:pt x="470" y="13148"/>
                    <a:pt x="0" y="11270"/>
                  </a:cubicBezTo>
                  <a:cubicBezTo>
                    <a:pt x="0" y="8922"/>
                    <a:pt x="470" y="7513"/>
                    <a:pt x="1409" y="5635"/>
                  </a:cubicBezTo>
                  <a:cubicBezTo>
                    <a:pt x="2348" y="3757"/>
                    <a:pt x="3287" y="2348"/>
                    <a:pt x="5165" y="1409"/>
                  </a:cubicBezTo>
                  <a:cubicBezTo>
                    <a:pt x="7043" y="0"/>
                    <a:pt x="8452" y="0"/>
                    <a:pt x="10330" y="0"/>
                  </a:cubicBezTo>
                  <a:cubicBezTo>
                    <a:pt x="12678" y="0"/>
                    <a:pt x="14087" y="0"/>
                    <a:pt x="15965" y="939"/>
                  </a:cubicBezTo>
                  <a:cubicBezTo>
                    <a:pt x="17843" y="1878"/>
                    <a:pt x="19252" y="3287"/>
                    <a:pt x="20191" y="4696"/>
                  </a:cubicBezTo>
                </a:path>
              </a:pathLst>
            </a:custGeom>
            <a:solidFill>
              <a:srgbClr val="545454"/>
            </a:solidFill>
            <a:ln w="12700">
              <a:noFill/>
            </a:ln>
          </p:spPr>
          <p:style>
            <a:lnRef idx="0"/>
            <a:fillRef idx="0"/>
            <a:effectRef idx="0"/>
            <a:fontRef idx="minor"/>
          </p:style>
          <p:txBody>
            <a:bodyPr numCol="1" spcCol="0" lIns="45720" rIns="45720" tIns="7200" bIns="720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173" name="Group 3543"/>
          <p:cNvGrpSpPr/>
          <p:nvPr/>
        </p:nvGrpSpPr>
        <p:grpSpPr>
          <a:xfrm>
            <a:off x="19899000" y="8208360"/>
            <a:ext cx="2457720" cy="3466440"/>
            <a:chOff x="19899000" y="8208360"/>
            <a:chExt cx="2457720" cy="3466440"/>
          </a:xfrm>
        </p:grpSpPr>
        <p:sp>
          <p:nvSpPr>
            <p:cNvPr id="6174" name="Shape 3528"/>
            <p:cNvSpPr/>
            <p:nvPr/>
          </p:nvSpPr>
          <p:spPr>
            <a:xfrm>
              <a:off x="19899000" y="8208360"/>
              <a:ext cx="2457720" cy="3466440"/>
            </a:xfrm>
            <a:custGeom>
              <a:avLst/>
              <a:gdLst>
                <a:gd name="textAreaLeft" fmla="*/ 0 w 2457720"/>
                <a:gd name="textAreaRight" fmla="*/ 2458080 w 2457720"/>
                <a:gd name="textAreaTop" fmla="*/ 0 h 3466440"/>
                <a:gd name="textAreaBottom" fmla="*/ 3466800 h 3466440"/>
              </a:gdLst>
              <a:ahLst/>
              <a:rect l="textAreaLeft" t="textAreaTop" r="textAreaRight" b="textAreaBottom"/>
              <a:pathLst>
                <a:path w="21600" h="21600">
                  <a:moveTo>
                    <a:pt x="20422" y="21600"/>
                  </a:moveTo>
                  <a:lnTo>
                    <a:pt x="1178" y="21600"/>
                  </a:lnTo>
                  <a:cubicBezTo>
                    <a:pt x="525" y="21600"/>
                    <a:pt x="0" y="21228"/>
                    <a:pt x="0" y="20767"/>
                  </a:cubicBezTo>
                  <a:lnTo>
                    <a:pt x="0" y="835"/>
                  </a:lnTo>
                  <a:cubicBezTo>
                    <a:pt x="0" y="372"/>
                    <a:pt x="525" y="0"/>
                    <a:pt x="1178" y="0"/>
                  </a:cubicBezTo>
                  <a:lnTo>
                    <a:pt x="20422" y="0"/>
                  </a:lnTo>
                  <a:cubicBezTo>
                    <a:pt x="21075" y="0"/>
                    <a:pt x="21600" y="372"/>
                    <a:pt x="21600" y="835"/>
                  </a:cubicBezTo>
                  <a:lnTo>
                    <a:pt x="21600" y="20767"/>
                  </a:lnTo>
                  <a:cubicBezTo>
                    <a:pt x="21600" y="21228"/>
                    <a:pt x="21075" y="21600"/>
                    <a:pt x="20422"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75" name="Shape 3529"/>
            <p:cNvSpPr/>
            <p:nvPr/>
          </p:nvSpPr>
          <p:spPr>
            <a:xfrm>
              <a:off x="19913760" y="8223480"/>
              <a:ext cx="2426040" cy="3435120"/>
            </a:xfrm>
            <a:custGeom>
              <a:avLst/>
              <a:gdLst>
                <a:gd name="textAreaLeft" fmla="*/ 0 w 2426040"/>
                <a:gd name="textAreaRight" fmla="*/ 2426400 w 2426040"/>
                <a:gd name="textAreaTop" fmla="*/ 0 h 3435120"/>
                <a:gd name="textAreaBottom" fmla="*/ 3435480 h 3435120"/>
              </a:gdLst>
              <a:ahLst/>
              <a:rect l="textAreaLeft" t="textAreaTop" r="textAreaRight" b="textAreaBottom"/>
              <a:pathLst>
                <a:path w="21600" h="21600">
                  <a:moveTo>
                    <a:pt x="20547" y="21600"/>
                  </a:moveTo>
                  <a:lnTo>
                    <a:pt x="1053" y="21600"/>
                  </a:lnTo>
                  <a:cubicBezTo>
                    <a:pt x="468" y="21600"/>
                    <a:pt x="0" y="21269"/>
                    <a:pt x="0" y="20858"/>
                  </a:cubicBezTo>
                  <a:lnTo>
                    <a:pt x="0" y="744"/>
                  </a:lnTo>
                  <a:cubicBezTo>
                    <a:pt x="0" y="331"/>
                    <a:pt x="468" y="0"/>
                    <a:pt x="1053" y="0"/>
                  </a:cubicBezTo>
                  <a:lnTo>
                    <a:pt x="20547" y="0"/>
                  </a:lnTo>
                  <a:cubicBezTo>
                    <a:pt x="21132" y="0"/>
                    <a:pt x="21600" y="331"/>
                    <a:pt x="21600" y="744"/>
                  </a:cubicBezTo>
                  <a:lnTo>
                    <a:pt x="21600" y="20858"/>
                  </a:lnTo>
                  <a:cubicBezTo>
                    <a:pt x="21600" y="21269"/>
                    <a:pt x="21132" y="21600"/>
                    <a:pt x="20547"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76" name="Shape 3530"/>
            <p:cNvSpPr/>
            <p:nvPr/>
          </p:nvSpPr>
          <p:spPr>
            <a:xfrm>
              <a:off x="20039760" y="8499960"/>
              <a:ext cx="2174400" cy="2883240"/>
            </a:xfrm>
            <a:custGeom>
              <a:avLst/>
              <a:gdLst>
                <a:gd name="textAreaLeft" fmla="*/ 0 w 2174400"/>
                <a:gd name="textAreaRight" fmla="*/ 2174760 w 2174400"/>
                <a:gd name="textAreaTop" fmla="*/ 0 h 2883240"/>
                <a:gd name="textAreaBottom" fmla="*/ 2883600 h 288324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77" name="Shape 3531"/>
            <p:cNvSpPr/>
            <p:nvPr/>
          </p:nvSpPr>
          <p:spPr>
            <a:xfrm>
              <a:off x="20048040" y="8506440"/>
              <a:ext cx="2159280" cy="2868480"/>
            </a:xfrm>
            <a:custGeom>
              <a:avLst/>
              <a:gdLst>
                <a:gd name="textAreaLeft" fmla="*/ 0 w 2159280"/>
                <a:gd name="textAreaRight" fmla="*/ 2159640 w 2159280"/>
                <a:gd name="textAreaTop" fmla="*/ 0 h 2868480"/>
                <a:gd name="textAreaBottom" fmla="*/ 2868840 h 28684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78" name="Shape 3532"/>
            <p:cNvSpPr/>
            <p:nvPr/>
          </p:nvSpPr>
          <p:spPr>
            <a:xfrm>
              <a:off x="21108600" y="8344440"/>
              <a:ext cx="38880" cy="38520"/>
            </a:xfrm>
            <a:custGeom>
              <a:avLst/>
              <a:gdLst>
                <a:gd name="textAreaLeft" fmla="*/ 0 w 38880"/>
                <a:gd name="textAreaRight" fmla="*/ 39240 w 38880"/>
                <a:gd name="textAreaTop" fmla="*/ 0 h 38520"/>
                <a:gd name="textAreaBottom" fmla="*/ 38880 h 38520"/>
              </a:gdLst>
              <a:ahLst/>
              <a:rect l="textAreaLeft" t="textAreaTop" r="textAreaRight" b="textAreaBottom"/>
              <a:pathLst>
                <a:path w="21448" h="21296">
                  <a:moveTo>
                    <a:pt x="11463" y="52"/>
                  </a:moveTo>
                  <a:cubicBezTo>
                    <a:pt x="13501" y="52"/>
                    <a:pt x="15131" y="663"/>
                    <a:pt x="16761" y="1682"/>
                  </a:cubicBezTo>
                  <a:cubicBezTo>
                    <a:pt x="18391" y="2905"/>
                    <a:pt x="19206" y="4127"/>
                    <a:pt x="20225" y="5961"/>
                  </a:cubicBezTo>
                  <a:cubicBezTo>
                    <a:pt x="21040" y="7795"/>
                    <a:pt x="21448" y="9629"/>
                    <a:pt x="21448" y="11463"/>
                  </a:cubicBezTo>
                  <a:cubicBezTo>
                    <a:pt x="21244" y="13501"/>
                    <a:pt x="20633" y="14927"/>
                    <a:pt x="19614" y="16557"/>
                  </a:cubicBezTo>
                  <a:cubicBezTo>
                    <a:pt x="18391" y="18188"/>
                    <a:pt x="17169" y="19410"/>
                    <a:pt x="15335" y="20225"/>
                  </a:cubicBezTo>
                  <a:cubicBezTo>
                    <a:pt x="13501" y="21040"/>
                    <a:pt x="11667" y="21448"/>
                    <a:pt x="9833" y="21244"/>
                  </a:cubicBezTo>
                  <a:cubicBezTo>
                    <a:pt x="7795" y="21244"/>
                    <a:pt x="6369" y="20633"/>
                    <a:pt x="4739" y="19410"/>
                  </a:cubicBezTo>
                  <a:cubicBezTo>
                    <a:pt x="3108" y="18391"/>
                    <a:pt x="1886" y="17169"/>
                    <a:pt x="1071" y="15335"/>
                  </a:cubicBezTo>
                  <a:cubicBezTo>
                    <a:pt x="256" y="13501"/>
                    <a:pt x="-152" y="11871"/>
                    <a:pt x="52" y="9833"/>
                  </a:cubicBezTo>
                  <a:cubicBezTo>
                    <a:pt x="256" y="7999"/>
                    <a:pt x="663" y="6369"/>
                    <a:pt x="1886" y="4739"/>
                  </a:cubicBezTo>
                  <a:cubicBezTo>
                    <a:pt x="2905" y="3108"/>
                    <a:pt x="4127" y="1886"/>
                    <a:pt x="5961" y="1071"/>
                  </a:cubicBezTo>
                  <a:cubicBezTo>
                    <a:pt x="7591" y="256"/>
                    <a:pt x="9425" y="-152"/>
                    <a:pt x="11463" y="52"/>
                  </a:cubicBezTo>
                </a:path>
              </a:pathLst>
            </a:custGeom>
            <a:solidFill>
              <a:srgbClr val="545454"/>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79" name="Shape 3533"/>
            <p:cNvSpPr/>
            <p:nvPr/>
          </p:nvSpPr>
          <p:spPr>
            <a:xfrm>
              <a:off x="21113280" y="8351280"/>
              <a:ext cx="27360" cy="28440"/>
            </a:xfrm>
            <a:custGeom>
              <a:avLst/>
              <a:gdLst>
                <a:gd name="textAreaLeft" fmla="*/ 0 w 27360"/>
                <a:gd name="textAreaRight" fmla="*/ 27720 w 27360"/>
                <a:gd name="textAreaTop" fmla="*/ 0 h 28440"/>
                <a:gd name="textAreaBottom" fmla="*/ 28800 h 28440"/>
              </a:gdLst>
              <a:ahLst/>
              <a:rect l="textAreaLeft" t="textAreaTop" r="textAreaRight" b="textAreaBottom"/>
              <a:pathLst>
                <a:path w="21600" h="21254">
                  <a:moveTo>
                    <a:pt x="17568" y="2074"/>
                  </a:moveTo>
                  <a:cubicBezTo>
                    <a:pt x="19008" y="3196"/>
                    <a:pt x="20160" y="4879"/>
                    <a:pt x="21024" y="6562"/>
                  </a:cubicBezTo>
                  <a:cubicBezTo>
                    <a:pt x="21600" y="8526"/>
                    <a:pt x="21600" y="9929"/>
                    <a:pt x="21600" y="11892"/>
                  </a:cubicBezTo>
                  <a:cubicBezTo>
                    <a:pt x="21312" y="13856"/>
                    <a:pt x="20736" y="15539"/>
                    <a:pt x="19584" y="16942"/>
                  </a:cubicBezTo>
                  <a:cubicBezTo>
                    <a:pt x="18432" y="18625"/>
                    <a:pt x="16992" y="19466"/>
                    <a:pt x="15264" y="20308"/>
                  </a:cubicBezTo>
                  <a:cubicBezTo>
                    <a:pt x="13248" y="21149"/>
                    <a:pt x="11520" y="21430"/>
                    <a:pt x="9504" y="21149"/>
                  </a:cubicBezTo>
                  <a:cubicBezTo>
                    <a:pt x="7488" y="20869"/>
                    <a:pt x="5760" y="20308"/>
                    <a:pt x="4320" y="18905"/>
                  </a:cubicBezTo>
                  <a:cubicBezTo>
                    <a:pt x="2592" y="17783"/>
                    <a:pt x="1728" y="16381"/>
                    <a:pt x="864" y="14698"/>
                  </a:cubicBezTo>
                  <a:cubicBezTo>
                    <a:pt x="0" y="13014"/>
                    <a:pt x="0" y="11051"/>
                    <a:pt x="0" y="9368"/>
                  </a:cubicBezTo>
                  <a:cubicBezTo>
                    <a:pt x="288" y="7404"/>
                    <a:pt x="1152" y="5721"/>
                    <a:pt x="2304" y="4038"/>
                  </a:cubicBezTo>
                  <a:cubicBezTo>
                    <a:pt x="3456" y="2635"/>
                    <a:pt x="4608" y="1513"/>
                    <a:pt x="6624" y="672"/>
                  </a:cubicBezTo>
                  <a:cubicBezTo>
                    <a:pt x="8352" y="111"/>
                    <a:pt x="10368" y="-170"/>
                    <a:pt x="12384" y="111"/>
                  </a:cubicBezTo>
                  <a:cubicBezTo>
                    <a:pt x="14400" y="391"/>
                    <a:pt x="15840" y="952"/>
                    <a:pt x="17568" y="2074"/>
                  </a:cubicBezTo>
                </a:path>
              </a:pathLst>
            </a:custGeom>
            <a:solidFill>
              <a:srgbClr val="7f7f7f"/>
            </a:solidFill>
            <a:ln w="12700">
              <a:noFill/>
            </a:ln>
          </p:spPr>
          <p:style>
            <a:lnRef idx="0"/>
            <a:fillRef idx="0"/>
            <a:effectRef idx="0"/>
            <a:fontRef idx="minor"/>
          </p:style>
          <p:txBody>
            <a:bodyPr numCol="1" spcCol="0" lIns="45720" rIns="45720" tIns="14400" bIns="14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0" name="Shape 3534"/>
            <p:cNvSpPr/>
            <p:nvPr/>
          </p:nvSpPr>
          <p:spPr>
            <a:xfrm>
              <a:off x="21119760" y="8357400"/>
              <a:ext cx="15840" cy="15840"/>
            </a:xfrm>
            <a:custGeom>
              <a:avLst/>
              <a:gdLst>
                <a:gd name="textAreaLeft" fmla="*/ 0 w 15840"/>
                <a:gd name="textAreaRight" fmla="*/ 16200 w 15840"/>
                <a:gd name="textAreaTop" fmla="*/ 0 h 15840"/>
                <a:gd name="textAreaBottom" fmla="*/ 16200 h 15840"/>
              </a:gdLst>
              <a:ahLst/>
              <a:rect l="textAreaLeft" t="textAreaTop" r="textAreaRight" b="textAreaBottom"/>
              <a:pathLst>
                <a:path w="21600" h="21600">
                  <a:moveTo>
                    <a:pt x="19543" y="5143"/>
                  </a:moveTo>
                  <a:cubicBezTo>
                    <a:pt x="20571" y="6686"/>
                    <a:pt x="21086" y="8229"/>
                    <a:pt x="21600" y="10286"/>
                  </a:cubicBezTo>
                  <a:cubicBezTo>
                    <a:pt x="21600" y="12857"/>
                    <a:pt x="21086" y="14400"/>
                    <a:pt x="20057" y="15943"/>
                  </a:cubicBezTo>
                  <a:cubicBezTo>
                    <a:pt x="19029" y="18000"/>
                    <a:pt x="18000" y="19029"/>
                    <a:pt x="16457" y="20057"/>
                  </a:cubicBezTo>
                  <a:cubicBezTo>
                    <a:pt x="14914" y="21086"/>
                    <a:pt x="12857" y="21600"/>
                    <a:pt x="11314" y="21600"/>
                  </a:cubicBezTo>
                  <a:cubicBezTo>
                    <a:pt x="9257" y="21600"/>
                    <a:pt x="7200" y="21086"/>
                    <a:pt x="5657" y="20057"/>
                  </a:cubicBezTo>
                  <a:cubicBezTo>
                    <a:pt x="4114" y="19543"/>
                    <a:pt x="2571" y="18000"/>
                    <a:pt x="1543" y="16457"/>
                  </a:cubicBezTo>
                  <a:cubicBezTo>
                    <a:pt x="514" y="14914"/>
                    <a:pt x="0" y="13371"/>
                    <a:pt x="0" y="11314"/>
                  </a:cubicBezTo>
                  <a:cubicBezTo>
                    <a:pt x="0" y="9257"/>
                    <a:pt x="0" y="7714"/>
                    <a:pt x="1029" y="5657"/>
                  </a:cubicBezTo>
                  <a:cubicBezTo>
                    <a:pt x="2057" y="4114"/>
                    <a:pt x="2571" y="2571"/>
                    <a:pt x="4629" y="1543"/>
                  </a:cubicBezTo>
                  <a:cubicBezTo>
                    <a:pt x="6171" y="514"/>
                    <a:pt x="8229" y="0"/>
                    <a:pt x="10286" y="0"/>
                  </a:cubicBezTo>
                  <a:cubicBezTo>
                    <a:pt x="12343" y="0"/>
                    <a:pt x="13886" y="514"/>
                    <a:pt x="15429" y="1029"/>
                  </a:cubicBezTo>
                  <a:cubicBezTo>
                    <a:pt x="17486" y="2057"/>
                    <a:pt x="18514" y="3086"/>
                    <a:pt x="19543" y="5143"/>
                  </a:cubicBezTo>
                </a:path>
              </a:pathLst>
            </a:custGeom>
            <a:solidFill>
              <a:srgbClr val="545454"/>
            </a:solidFill>
            <a:ln w="12700">
              <a:noFill/>
            </a:ln>
          </p:spPr>
          <p:style>
            <a:lnRef idx="0"/>
            <a:fillRef idx="0"/>
            <a:effectRef idx="0"/>
            <a:fontRef idx="minor"/>
          </p:style>
          <p:txBody>
            <a:bodyPr numCol="1" spcCol="0" lIns="45720" rIns="45720" tIns="7920" bIns="7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1" name="Shape 3535"/>
            <p:cNvSpPr/>
            <p:nvPr/>
          </p:nvSpPr>
          <p:spPr>
            <a:xfrm>
              <a:off x="21051360" y="11459520"/>
              <a:ext cx="151560" cy="151200"/>
            </a:xfrm>
            <a:custGeom>
              <a:avLst/>
              <a:gdLst>
                <a:gd name="textAreaLeft" fmla="*/ 0 w 151560"/>
                <a:gd name="textAreaRight" fmla="*/ 151920 w 151560"/>
                <a:gd name="textAreaTop" fmla="*/ 0 h 151200"/>
                <a:gd name="textAreaBottom" fmla="*/ 151560 h 151200"/>
              </a:gdLst>
              <a:ahLst/>
              <a:rect l="textAreaLeft" t="textAreaTop" r="textAreaRight" b="textAreaBottom"/>
              <a:pathLst>
                <a:path w="21329" h="21316">
                  <a:moveTo>
                    <a:pt x="18219" y="3122"/>
                  </a:moveTo>
                  <a:cubicBezTo>
                    <a:pt x="19595" y="4495"/>
                    <a:pt x="20442" y="5974"/>
                    <a:pt x="20972" y="7875"/>
                  </a:cubicBezTo>
                  <a:cubicBezTo>
                    <a:pt x="21448" y="9777"/>
                    <a:pt x="21448" y="11467"/>
                    <a:pt x="20972" y="13368"/>
                  </a:cubicBezTo>
                  <a:cubicBezTo>
                    <a:pt x="20442" y="15269"/>
                    <a:pt x="19595" y="16801"/>
                    <a:pt x="18219" y="18174"/>
                  </a:cubicBezTo>
                  <a:cubicBezTo>
                    <a:pt x="16842" y="19600"/>
                    <a:pt x="15360" y="20445"/>
                    <a:pt x="13454" y="20920"/>
                  </a:cubicBezTo>
                  <a:cubicBezTo>
                    <a:pt x="11548" y="21448"/>
                    <a:pt x="9801" y="21448"/>
                    <a:pt x="7948" y="20920"/>
                  </a:cubicBezTo>
                  <a:cubicBezTo>
                    <a:pt x="6042" y="20445"/>
                    <a:pt x="4507" y="19547"/>
                    <a:pt x="3130" y="18121"/>
                  </a:cubicBezTo>
                  <a:cubicBezTo>
                    <a:pt x="1701" y="16748"/>
                    <a:pt x="854" y="15269"/>
                    <a:pt x="377" y="13368"/>
                  </a:cubicBezTo>
                  <a:cubicBezTo>
                    <a:pt x="-152" y="11467"/>
                    <a:pt x="-99" y="9777"/>
                    <a:pt x="377" y="7875"/>
                  </a:cubicBezTo>
                  <a:cubicBezTo>
                    <a:pt x="907" y="5974"/>
                    <a:pt x="1701" y="4548"/>
                    <a:pt x="3130" y="3122"/>
                  </a:cubicBezTo>
                  <a:cubicBezTo>
                    <a:pt x="4507" y="1749"/>
                    <a:pt x="6042" y="904"/>
                    <a:pt x="7948" y="376"/>
                  </a:cubicBezTo>
                  <a:cubicBezTo>
                    <a:pt x="9801" y="-99"/>
                    <a:pt x="11548" y="-152"/>
                    <a:pt x="13454" y="376"/>
                  </a:cubicBezTo>
                  <a:cubicBezTo>
                    <a:pt x="15360" y="851"/>
                    <a:pt x="16842" y="1696"/>
                    <a:pt x="18219" y="3122"/>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2" name="Shape 3536"/>
            <p:cNvSpPr/>
            <p:nvPr/>
          </p:nvSpPr>
          <p:spPr>
            <a:xfrm>
              <a:off x="21050280" y="11460240"/>
              <a:ext cx="72000" cy="78840"/>
            </a:xfrm>
            <a:custGeom>
              <a:avLst/>
              <a:gdLst>
                <a:gd name="textAreaLeft" fmla="*/ 0 w 72000"/>
                <a:gd name="textAreaRight" fmla="*/ 72360 w 72000"/>
                <a:gd name="textAreaTop" fmla="*/ 0 h 78840"/>
                <a:gd name="textAreaBottom" fmla="*/ 79200 h 78840"/>
              </a:gdLst>
              <a:ahLst/>
              <a:rect l="textAreaLeft" t="textAreaTop" r="textAreaRight" b="textAreaBottom"/>
              <a:pathLst>
                <a:path w="21600" h="21600">
                  <a:moveTo>
                    <a:pt x="6107" y="6408"/>
                  </a:moveTo>
                  <a:cubicBezTo>
                    <a:pt x="1696" y="10542"/>
                    <a:pt x="0" y="15089"/>
                    <a:pt x="0" y="21600"/>
                  </a:cubicBezTo>
                  <a:lnTo>
                    <a:pt x="21600" y="21600"/>
                  </a:lnTo>
                  <a:lnTo>
                    <a:pt x="21600" y="0"/>
                  </a:lnTo>
                  <a:cubicBezTo>
                    <a:pt x="16850" y="0"/>
                    <a:pt x="10404" y="2377"/>
                    <a:pt x="6107" y="6408"/>
                  </a:cubicBezTo>
                </a:path>
              </a:pathLst>
            </a:custGeom>
            <a:solidFill>
              <a:srgbClr val="9e9e9e">
                <a:alpha val="50000"/>
              </a:srgbClr>
            </a:solidFill>
            <a:ln w="12700">
              <a:noFill/>
            </a:ln>
          </p:spPr>
          <p:style>
            <a:lnRef idx="0"/>
            <a:fillRef idx="0"/>
            <a:effectRef idx="0"/>
            <a:fontRef idx="minor"/>
          </p:style>
          <p:txBody>
            <a:bodyPr numCol="1" spcCol="0" lIns="45720" rIns="45720" tIns="39600" bIns="39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3" name="Shape 3537"/>
            <p:cNvSpPr/>
            <p:nvPr/>
          </p:nvSpPr>
          <p:spPr>
            <a:xfrm>
              <a:off x="21063600" y="11459520"/>
              <a:ext cx="105120" cy="75960"/>
            </a:xfrm>
            <a:custGeom>
              <a:avLst/>
              <a:gdLst>
                <a:gd name="textAreaLeft" fmla="*/ 0 w 105120"/>
                <a:gd name="textAreaRight" fmla="*/ 105480 w 105120"/>
                <a:gd name="textAreaTop" fmla="*/ 0 h 75960"/>
                <a:gd name="textAreaBottom" fmla="*/ 76320 h 75960"/>
              </a:gdLst>
              <a:ahLst/>
              <a:rect l="textAreaLeft" t="textAreaTop" r="textAreaRight" b="textAreaBottom"/>
              <a:pathLst>
                <a:path w="21600" h="20865">
                  <a:moveTo>
                    <a:pt x="10034" y="396"/>
                  </a:moveTo>
                  <a:cubicBezTo>
                    <a:pt x="5821" y="1425"/>
                    <a:pt x="2298" y="4716"/>
                    <a:pt x="0" y="9036"/>
                  </a:cubicBezTo>
                  <a:lnTo>
                    <a:pt x="12715" y="20865"/>
                  </a:lnTo>
                  <a:lnTo>
                    <a:pt x="21600" y="3791"/>
                  </a:lnTo>
                  <a:cubicBezTo>
                    <a:pt x="18383" y="602"/>
                    <a:pt x="14170" y="-735"/>
                    <a:pt x="10034" y="396"/>
                  </a:cubicBezTo>
                </a:path>
              </a:pathLst>
            </a:custGeom>
            <a:solidFill>
              <a:srgbClr val="b5b5b5">
                <a:alpha val="50000"/>
              </a:srgbClr>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4" name="Shape 3538"/>
            <p:cNvSpPr/>
            <p:nvPr/>
          </p:nvSpPr>
          <p:spPr>
            <a:xfrm>
              <a:off x="21091680" y="11459880"/>
              <a:ext cx="101880" cy="75960"/>
            </a:xfrm>
            <a:custGeom>
              <a:avLst/>
              <a:gdLst>
                <a:gd name="textAreaLeft" fmla="*/ 0 w 101880"/>
                <a:gd name="textAreaRight" fmla="*/ 102240 w 101880"/>
                <a:gd name="textAreaTop" fmla="*/ 0 h 75960"/>
                <a:gd name="textAreaBottom" fmla="*/ 76320 h 75960"/>
              </a:gdLst>
              <a:ahLst/>
              <a:rect l="textAreaLeft" t="textAreaTop" r="textAreaRight" b="textAreaBottom"/>
              <a:pathLst>
                <a:path w="21600" h="20821">
                  <a:moveTo>
                    <a:pt x="12105" y="970"/>
                  </a:moveTo>
                  <a:cubicBezTo>
                    <a:pt x="7991" y="-779"/>
                    <a:pt x="3640" y="-59"/>
                    <a:pt x="0" y="2307"/>
                  </a:cubicBezTo>
                  <a:lnTo>
                    <a:pt x="7279" y="20821"/>
                  </a:lnTo>
                  <a:lnTo>
                    <a:pt x="21600" y="11358"/>
                  </a:lnTo>
                  <a:cubicBezTo>
                    <a:pt x="19622" y="6318"/>
                    <a:pt x="16299" y="2718"/>
                    <a:pt x="12105" y="970"/>
                  </a:cubicBezTo>
                </a:path>
              </a:pathLst>
            </a:custGeom>
            <a:solidFill>
              <a:srgbClr val="d3d3d3">
                <a:alpha val="50000"/>
              </a:srgbClr>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5" name="Shape 3539"/>
            <p:cNvSpPr/>
            <p:nvPr/>
          </p:nvSpPr>
          <p:spPr>
            <a:xfrm>
              <a:off x="21129840" y="11532960"/>
              <a:ext cx="72000" cy="78840"/>
            </a:xfrm>
            <a:custGeom>
              <a:avLst/>
              <a:gdLst>
                <a:gd name="textAreaLeft" fmla="*/ 0 w 72000"/>
                <a:gd name="textAreaRight" fmla="*/ 72360 w 72000"/>
                <a:gd name="textAreaTop" fmla="*/ 0 h 78840"/>
                <a:gd name="textAreaBottom" fmla="*/ 79200 h 78840"/>
              </a:gdLst>
              <a:ahLst/>
              <a:rect l="textAreaLeft" t="textAreaTop" r="textAreaRight" b="textAreaBottom"/>
              <a:pathLst>
                <a:path w="21600" h="21600">
                  <a:moveTo>
                    <a:pt x="15380" y="15089"/>
                  </a:moveTo>
                  <a:cubicBezTo>
                    <a:pt x="19904" y="11058"/>
                    <a:pt x="21600" y="6408"/>
                    <a:pt x="21600" y="0"/>
                  </a:cubicBezTo>
                  <a:lnTo>
                    <a:pt x="0" y="0"/>
                  </a:lnTo>
                  <a:lnTo>
                    <a:pt x="0" y="21600"/>
                  </a:lnTo>
                  <a:cubicBezTo>
                    <a:pt x="4750" y="21600"/>
                    <a:pt x="11083" y="19223"/>
                    <a:pt x="15380" y="15089"/>
                  </a:cubicBezTo>
                </a:path>
              </a:pathLst>
            </a:custGeom>
            <a:solidFill>
              <a:srgbClr val="9e9e9e">
                <a:alpha val="50000"/>
              </a:srgbClr>
            </a:solidFill>
            <a:ln w="12700">
              <a:noFill/>
            </a:ln>
          </p:spPr>
          <p:style>
            <a:lnRef idx="0"/>
            <a:fillRef idx="0"/>
            <a:effectRef idx="0"/>
            <a:fontRef idx="minor"/>
          </p:style>
          <p:txBody>
            <a:bodyPr numCol="1" spcCol="0" lIns="45720" rIns="45720" tIns="39600" bIns="39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6" name="Shape 3540"/>
            <p:cNvSpPr/>
            <p:nvPr/>
          </p:nvSpPr>
          <p:spPr>
            <a:xfrm>
              <a:off x="21083400" y="11536560"/>
              <a:ext cx="105120" cy="74880"/>
            </a:xfrm>
            <a:custGeom>
              <a:avLst/>
              <a:gdLst>
                <a:gd name="textAreaLeft" fmla="*/ 0 w 105120"/>
                <a:gd name="textAreaRight" fmla="*/ 105480 w 105120"/>
                <a:gd name="textAreaTop" fmla="*/ 0 h 74880"/>
                <a:gd name="textAreaBottom" fmla="*/ 75240 h 74880"/>
              </a:gdLst>
              <a:ahLst/>
              <a:rect l="textAreaLeft" t="textAreaTop" r="textAreaRight" b="textAreaBottom"/>
              <a:pathLst>
                <a:path w="21600" h="20958">
                  <a:moveTo>
                    <a:pt x="11607" y="20665"/>
                  </a:moveTo>
                  <a:cubicBezTo>
                    <a:pt x="15758" y="19627"/>
                    <a:pt x="19371" y="16304"/>
                    <a:pt x="21600" y="11942"/>
                  </a:cubicBezTo>
                  <a:lnTo>
                    <a:pt x="8840" y="0"/>
                  </a:lnTo>
                  <a:lnTo>
                    <a:pt x="0" y="17238"/>
                  </a:lnTo>
                  <a:cubicBezTo>
                    <a:pt x="3228" y="20250"/>
                    <a:pt x="7379" y="21600"/>
                    <a:pt x="11607" y="20665"/>
                  </a:cubicBezTo>
                </a:path>
              </a:pathLst>
            </a:custGeom>
            <a:solidFill>
              <a:srgbClr val="b5b5b5">
                <a:alpha val="50000"/>
              </a:srgbClr>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7" name="Shape 3541"/>
            <p:cNvSpPr/>
            <p:nvPr/>
          </p:nvSpPr>
          <p:spPr>
            <a:xfrm>
              <a:off x="21058560" y="11536560"/>
              <a:ext cx="101880" cy="75960"/>
            </a:xfrm>
            <a:custGeom>
              <a:avLst/>
              <a:gdLst>
                <a:gd name="textAreaLeft" fmla="*/ 0 w 101880"/>
                <a:gd name="textAreaRight" fmla="*/ 102240 w 101880"/>
                <a:gd name="textAreaTop" fmla="*/ 0 h 75960"/>
                <a:gd name="textAreaBottom" fmla="*/ 76320 h 75960"/>
              </a:gdLst>
              <a:ahLst/>
              <a:rect l="textAreaLeft" t="textAreaTop" r="textAreaRight" b="textAreaBottom"/>
              <a:pathLst>
                <a:path w="21600" h="20821">
                  <a:moveTo>
                    <a:pt x="9450" y="19851"/>
                  </a:moveTo>
                  <a:cubicBezTo>
                    <a:pt x="13659" y="21600"/>
                    <a:pt x="17947" y="20880"/>
                    <a:pt x="21600" y="18514"/>
                  </a:cubicBezTo>
                  <a:lnTo>
                    <a:pt x="14294" y="0"/>
                  </a:lnTo>
                  <a:lnTo>
                    <a:pt x="0" y="9463"/>
                  </a:lnTo>
                  <a:cubicBezTo>
                    <a:pt x="1985" y="14194"/>
                    <a:pt x="5321" y="17897"/>
                    <a:pt x="9450" y="19851"/>
                  </a:cubicBezTo>
                </a:path>
              </a:pathLst>
            </a:custGeom>
            <a:solidFill>
              <a:srgbClr val="d3d3d3">
                <a:alpha val="50000"/>
              </a:srgbClr>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88" name="Shape 3542"/>
            <p:cNvSpPr/>
            <p:nvPr/>
          </p:nvSpPr>
          <p:spPr>
            <a:xfrm>
              <a:off x="21059280" y="11469240"/>
              <a:ext cx="133560" cy="133200"/>
            </a:xfrm>
            <a:custGeom>
              <a:avLst/>
              <a:gdLst>
                <a:gd name="textAreaLeft" fmla="*/ 0 w 133560"/>
                <a:gd name="textAreaRight" fmla="*/ 133920 w 133560"/>
                <a:gd name="textAreaTop" fmla="*/ 0 h 133200"/>
                <a:gd name="textAreaBottom" fmla="*/ 133560 h 133200"/>
              </a:gdLst>
              <a:ahLst/>
              <a:rect l="textAreaLeft" t="textAreaTop" r="textAreaRight" b="textAreaBottom"/>
              <a:pathLst>
                <a:path w="21346" h="21324">
                  <a:moveTo>
                    <a:pt x="18234" y="3103"/>
                  </a:moveTo>
                  <a:cubicBezTo>
                    <a:pt x="19610" y="4535"/>
                    <a:pt x="20448" y="6027"/>
                    <a:pt x="20986" y="7877"/>
                  </a:cubicBezTo>
                  <a:cubicBezTo>
                    <a:pt x="21465" y="9786"/>
                    <a:pt x="21465" y="11576"/>
                    <a:pt x="20986" y="13426"/>
                  </a:cubicBezTo>
                  <a:cubicBezTo>
                    <a:pt x="20448" y="15335"/>
                    <a:pt x="19610" y="16827"/>
                    <a:pt x="18234" y="18199"/>
                  </a:cubicBezTo>
                  <a:cubicBezTo>
                    <a:pt x="16858" y="19631"/>
                    <a:pt x="15302" y="20467"/>
                    <a:pt x="13447" y="20944"/>
                  </a:cubicBezTo>
                  <a:cubicBezTo>
                    <a:pt x="11533" y="21481"/>
                    <a:pt x="9857" y="21421"/>
                    <a:pt x="7943" y="20944"/>
                  </a:cubicBezTo>
                  <a:cubicBezTo>
                    <a:pt x="6028" y="20407"/>
                    <a:pt x="4532" y="19631"/>
                    <a:pt x="3156" y="18199"/>
                  </a:cubicBezTo>
                  <a:cubicBezTo>
                    <a:pt x="1780" y="16827"/>
                    <a:pt x="882" y="15275"/>
                    <a:pt x="404" y="13426"/>
                  </a:cubicBezTo>
                  <a:cubicBezTo>
                    <a:pt x="-135" y="11516"/>
                    <a:pt x="-135" y="9786"/>
                    <a:pt x="404" y="7877"/>
                  </a:cubicBezTo>
                  <a:cubicBezTo>
                    <a:pt x="882" y="6027"/>
                    <a:pt x="1780" y="4535"/>
                    <a:pt x="3156" y="3103"/>
                  </a:cubicBezTo>
                  <a:cubicBezTo>
                    <a:pt x="4532" y="1731"/>
                    <a:pt x="6028" y="895"/>
                    <a:pt x="7943" y="358"/>
                  </a:cubicBezTo>
                  <a:cubicBezTo>
                    <a:pt x="9857" y="-119"/>
                    <a:pt x="11592" y="-119"/>
                    <a:pt x="13447" y="358"/>
                  </a:cubicBezTo>
                  <a:cubicBezTo>
                    <a:pt x="15362" y="895"/>
                    <a:pt x="16858" y="1731"/>
                    <a:pt x="18234" y="310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189" name="Group 3564"/>
          <p:cNvGrpSpPr/>
          <p:nvPr/>
        </p:nvGrpSpPr>
        <p:grpSpPr>
          <a:xfrm>
            <a:off x="18466560" y="9561240"/>
            <a:ext cx="1042920" cy="2123640"/>
            <a:chOff x="18466560" y="9561240"/>
            <a:chExt cx="1042920" cy="2123640"/>
          </a:xfrm>
        </p:grpSpPr>
        <p:sp>
          <p:nvSpPr>
            <p:cNvPr id="6190" name="Shape 3544"/>
            <p:cNvSpPr/>
            <p:nvPr/>
          </p:nvSpPr>
          <p:spPr>
            <a:xfrm>
              <a:off x="18466560" y="9833400"/>
              <a:ext cx="25920" cy="80640"/>
            </a:xfrm>
            <a:custGeom>
              <a:avLst/>
              <a:gdLst>
                <a:gd name="textAreaLeft" fmla="*/ 0 w 25920"/>
                <a:gd name="textAreaRight" fmla="*/ 26280 w 25920"/>
                <a:gd name="textAreaTop" fmla="*/ 0 h 80640"/>
                <a:gd name="textAreaBottom" fmla="*/ 81000 h 8064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1" name="Shape 3545"/>
            <p:cNvSpPr/>
            <p:nvPr/>
          </p:nvSpPr>
          <p:spPr>
            <a:xfrm>
              <a:off x="18466560" y="10013040"/>
              <a:ext cx="31320" cy="152640"/>
            </a:xfrm>
            <a:custGeom>
              <a:avLst/>
              <a:gdLst>
                <a:gd name="textAreaLeft" fmla="*/ 0 w 31320"/>
                <a:gd name="textAreaRight" fmla="*/ 31680 w 31320"/>
                <a:gd name="textAreaTop" fmla="*/ 0 h 152640"/>
                <a:gd name="textAreaBottom" fmla="*/ 153000 h 1526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2" name="Shape 3546"/>
            <p:cNvSpPr/>
            <p:nvPr/>
          </p:nvSpPr>
          <p:spPr>
            <a:xfrm>
              <a:off x="18466560" y="10207800"/>
              <a:ext cx="25920" cy="148680"/>
            </a:xfrm>
            <a:custGeom>
              <a:avLst/>
              <a:gdLst>
                <a:gd name="textAreaLeft" fmla="*/ 0 w 25920"/>
                <a:gd name="textAreaRight" fmla="*/ 26280 w 25920"/>
                <a:gd name="textAreaTop" fmla="*/ 0 h 148680"/>
                <a:gd name="textAreaBottom" fmla="*/ 149040 h 14868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3" name="Shape 3547"/>
            <p:cNvSpPr/>
            <p:nvPr/>
          </p:nvSpPr>
          <p:spPr>
            <a:xfrm>
              <a:off x="19487520" y="10011960"/>
              <a:ext cx="21960" cy="158040"/>
            </a:xfrm>
            <a:custGeom>
              <a:avLst/>
              <a:gdLst>
                <a:gd name="textAreaLeft" fmla="*/ 0 w 21960"/>
                <a:gd name="textAreaRight" fmla="*/ 22320 w 21960"/>
                <a:gd name="textAreaTop" fmla="*/ 0 h 158040"/>
                <a:gd name="textAreaBottom" fmla="*/ 158400 h 15804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4" name="Shape 3548"/>
            <p:cNvSpPr/>
            <p:nvPr/>
          </p:nvSpPr>
          <p:spPr>
            <a:xfrm>
              <a:off x="18477360" y="9561240"/>
              <a:ext cx="1021320" cy="2123640"/>
            </a:xfrm>
            <a:custGeom>
              <a:avLst/>
              <a:gdLst>
                <a:gd name="textAreaLeft" fmla="*/ 0 w 1021320"/>
                <a:gd name="textAreaRight" fmla="*/ 1021680 w 1021320"/>
                <a:gd name="textAreaTop" fmla="*/ 0 h 2123640"/>
                <a:gd name="textAreaBottom" fmla="*/ 2124000 h 2123640"/>
              </a:gdLst>
              <a:ahLst/>
              <a:rect l="textAreaLeft" t="textAreaTop" r="textAreaRight" b="textAreaBottom"/>
              <a:pathLst>
                <a:path w="21600" h="21600">
                  <a:moveTo>
                    <a:pt x="17568" y="21600"/>
                  </a:moveTo>
                  <a:lnTo>
                    <a:pt x="4020" y="21600"/>
                  </a:lnTo>
                  <a:cubicBezTo>
                    <a:pt x="1796" y="21600"/>
                    <a:pt x="0" y="20736"/>
                    <a:pt x="0" y="19667"/>
                  </a:cubicBezTo>
                  <a:lnTo>
                    <a:pt x="0" y="1933"/>
                  </a:lnTo>
                  <a:cubicBezTo>
                    <a:pt x="0" y="864"/>
                    <a:pt x="1796" y="0"/>
                    <a:pt x="4020" y="0"/>
                  </a:cubicBezTo>
                  <a:lnTo>
                    <a:pt x="17580" y="0"/>
                  </a:lnTo>
                  <a:cubicBezTo>
                    <a:pt x="19804" y="0"/>
                    <a:pt x="21600" y="864"/>
                    <a:pt x="21600" y="1933"/>
                  </a:cubicBezTo>
                  <a:lnTo>
                    <a:pt x="21600" y="19673"/>
                  </a:lnTo>
                  <a:cubicBezTo>
                    <a:pt x="21587" y="20736"/>
                    <a:pt x="19791" y="21600"/>
                    <a:pt x="17568"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5" name="Shape 3549"/>
            <p:cNvSpPr/>
            <p:nvPr/>
          </p:nvSpPr>
          <p:spPr>
            <a:xfrm>
              <a:off x="18486720" y="9570600"/>
              <a:ext cx="1001520" cy="2103480"/>
            </a:xfrm>
            <a:custGeom>
              <a:avLst/>
              <a:gdLst>
                <a:gd name="textAreaLeft" fmla="*/ 0 w 1001520"/>
                <a:gd name="textAreaRight" fmla="*/ 1001880 w 1001520"/>
                <a:gd name="textAreaTop" fmla="*/ 0 h 2103480"/>
                <a:gd name="textAreaBottom" fmla="*/ 2103840 h 2103480"/>
              </a:gdLst>
              <a:ahLst/>
              <a:rect l="textAreaLeft" t="textAreaTop" r="textAreaRight" b="textAreaBottom"/>
              <a:pathLst>
                <a:path w="21600" h="21600">
                  <a:moveTo>
                    <a:pt x="17631" y="21600"/>
                  </a:moveTo>
                  <a:lnTo>
                    <a:pt x="3969" y="21600"/>
                  </a:lnTo>
                  <a:cubicBezTo>
                    <a:pt x="1779" y="21600"/>
                    <a:pt x="0" y="20753"/>
                    <a:pt x="0" y="19710"/>
                  </a:cubicBezTo>
                  <a:lnTo>
                    <a:pt x="0" y="1890"/>
                  </a:lnTo>
                  <a:cubicBezTo>
                    <a:pt x="0" y="847"/>
                    <a:pt x="1779" y="0"/>
                    <a:pt x="3969" y="0"/>
                  </a:cubicBezTo>
                  <a:lnTo>
                    <a:pt x="17631" y="0"/>
                  </a:lnTo>
                  <a:cubicBezTo>
                    <a:pt x="19821" y="0"/>
                    <a:pt x="21600" y="847"/>
                    <a:pt x="21600" y="1890"/>
                  </a:cubicBezTo>
                  <a:lnTo>
                    <a:pt x="21600" y="19716"/>
                  </a:lnTo>
                  <a:cubicBezTo>
                    <a:pt x="21600" y="20759"/>
                    <a:pt x="19821" y="21600"/>
                    <a:pt x="17631"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6" name="Shape 3550"/>
            <p:cNvSpPr/>
            <p:nvPr/>
          </p:nvSpPr>
          <p:spPr>
            <a:xfrm>
              <a:off x="18521280" y="9817560"/>
              <a:ext cx="911160" cy="1611360"/>
            </a:xfrm>
            <a:custGeom>
              <a:avLst/>
              <a:gdLst>
                <a:gd name="textAreaLeft" fmla="*/ 0 w 911160"/>
                <a:gd name="textAreaRight" fmla="*/ 911520 w 911160"/>
                <a:gd name="textAreaTop" fmla="*/ 0 h 1611360"/>
                <a:gd name="textAreaBottom" fmla="*/ 1611720 h 1611360"/>
              </a:gdLst>
              <a:ahLst/>
              <a:rect l="textAreaLeft" t="textAreaTop" r="textAreaRight" b="textAreaBottom"/>
              <a:pathLst>
                <a:path w="21600" h="21600">
                  <a:moveTo>
                    <a:pt x="21302" y="21600"/>
                  </a:moveTo>
                  <a:lnTo>
                    <a:pt x="291" y="21600"/>
                  </a:lnTo>
                  <a:cubicBezTo>
                    <a:pt x="128" y="21600"/>
                    <a:pt x="0" y="21523"/>
                    <a:pt x="0" y="21431"/>
                  </a:cubicBezTo>
                  <a:lnTo>
                    <a:pt x="0" y="169"/>
                  </a:lnTo>
                  <a:cubicBezTo>
                    <a:pt x="0" y="77"/>
                    <a:pt x="128" y="0"/>
                    <a:pt x="291" y="0"/>
                  </a:cubicBezTo>
                  <a:lnTo>
                    <a:pt x="21302" y="0"/>
                  </a:lnTo>
                  <a:cubicBezTo>
                    <a:pt x="21465" y="0"/>
                    <a:pt x="21600" y="77"/>
                    <a:pt x="21600" y="169"/>
                  </a:cubicBezTo>
                  <a:lnTo>
                    <a:pt x="21600" y="21431"/>
                  </a:lnTo>
                  <a:cubicBezTo>
                    <a:pt x="21600" y="21523"/>
                    <a:pt x="21465" y="21600"/>
                    <a:pt x="21302" y="21600"/>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7" name="Shape 3551"/>
            <p:cNvSpPr/>
            <p:nvPr/>
          </p:nvSpPr>
          <p:spPr>
            <a:xfrm>
              <a:off x="18904680" y="11469240"/>
              <a:ext cx="165240" cy="165240"/>
            </a:xfrm>
            <a:custGeom>
              <a:avLst/>
              <a:gdLst>
                <a:gd name="textAreaLeft" fmla="*/ 0 w 165240"/>
                <a:gd name="textAreaRight" fmla="*/ 165600 w 165240"/>
                <a:gd name="textAreaTop" fmla="*/ 0 h 165240"/>
                <a:gd name="textAreaBottom" fmla="*/ 165600 h 165240"/>
              </a:gdLst>
              <a:ahLst/>
              <a:rect l="textAreaLeft" t="textAreaTop" r="textAreaRight" b="textAreaBottom"/>
              <a:pathLst>
                <a:path w="21346" h="21346">
                  <a:moveTo>
                    <a:pt x="18192" y="3115"/>
                  </a:moveTo>
                  <a:cubicBezTo>
                    <a:pt x="19598" y="4521"/>
                    <a:pt x="20457" y="6044"/>
                    <a:pt x="20965" y="7919"/>
                  </a:cubicBezTo>
                  <a:cubicBezTo>
                    <a:pt x="21473" y="9833"/>
                    <a:pt x="21473" y="11552"/>
                    <a:pt x="20965" y="13427"/>
                  </a:cubicBezTo>
                  <a:cubicBezTo>
                    <a:pt x="20457" y="15341"/>
                    <a:pt x="19559" y="16825"/>
                    <a:pt x="18192" y="18192"/>
                  </a:cubicBezTo>
                  <a:cubicBezTo>
                    <a:pt x="16786" y="19598"/>
                    <a:pt x="15302" y="20457"/>
                    <a:pt x="13427" y="20965"/>
                  </a:cubicBezTo>
                  <a:cubicBezTo>
                    <a:pt x="11513" y="21473"/>
                    <a:pt x="9794" y="21473"/>
                    <a:pt x="7919" y="20965"/>
                  </a:cubicBezTo>
                  <a:cubicBezTo>
                    <a:pt x="6005" y="20457"/>
                    <a:pt x="4521" y="19598"/>
                    <a:pt x="3154" y="18192"/>
                  </a:cubicBezTo>
                  <a:cubicBezTo>
                    <a:pt x="1748" y="16786"/>
                    <a:pt x="889" y="15302"/>
                    <a:pt x="381" y="13427"/>
                  </a:cubicBezTo>
                  <a:cubicBezTo>
                    <a:pt x="-127" y="11513"/>
                    <a:pt x="-127" y="9794"/>
                    <a:pt x="381" y="7919"/>
                  </a:cubicBezTo>
                  <a:cubicBezTo>
                    <a:pt x="889" y="6005"/>
                    <a:pt x="1748" y="4521"/>
                    <a:pt x="3154" y="3115"/>
                  </a:cubicBezTo>
                  <a:cubicBezTo>
                    <a:pt x="4521" y="1748"/>
                    <a:pt x="6005" y="889"/>
                    <a:pt x="7919" y="381"/>
                  </a:cubicBezTo>
                  <a:cubicBezTo>
                    <a:pt x="9794" y="-127"/>
                    <a:pt x="11552" y="-127"/>
                    <a:pt x="13427" y="381"/>
                  </a:cubicBezTo>
                  <a:cubicBezTo>
                    <a:pt x="15341" y="889"/>
                    <a:pt x="16825" y="1748"/>
                    <a:pt x="18192" y="311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8" name="Shape 3552"/>
            <p:cNvSpPr/>
            <p:nvPr/>
          </p:nvSpPr>
          <p:spPr>
            <a:xfrm>
              <a:off x="18905040" y="11469600"/>
              <a:ext cx="78120" cy="84600"/>
            </a:xfrm>
            <a:custGeom>
              <a:avLst/>
              <a:gdLst>
                <a:gd name="textAreaLeft" fmla="*/ 0 w 78120"/>
                <a:gd name="textAreaRight" fmla="*/ 78480 w 78120"/>
                <a:gd name="textAreaTop" fmla="*/ 0 h 84600"/>
                <a:gd name="textAreaBottom" fmla="*/ 84960 h 8460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442"/>
                    <a:pt x="6065" y="6411"/>
                  </a:cubicBezTo>
                </a:path>
              </a:pathLst>
            </a:custGeom>
            <a:solidFill>
              <a:srgbClr val="9e9e9e">
                <a:alpha val="50000"/>
              </a:srgbClr>
            </a:solidFill>
            <a:ln w="12700">
              <a:noFill/>
            </a:ln>
          </p:spPr>
          <p:style>
            <a:lnRef idx="0"/>
            <a:fillRef idx="0"/>
            <a:effectRef idx="0"/>
            <a:fontRef idx="minor"/>
          </p:style>
          <p:txBody>
            <a:bodyPr numCol="1" spcCol="0" lIns="45720" rIns="45720" tIns="42480" bIns="42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199" name="Shape 3553"/>
            <p:cNvSpPr/>
            <p:nvPr/>
          </p:nvSpPr>
          <p:spPr>
            <a:xfrm>
              <a:off x="18919800" y="11469960"/>
              <a:ext cx="114120" cy="81720"/>
            </a:xfrm>
            <a:custGeom>
              <a:avLst/>
              <a:gdLst>
                <a:gd name="textAreaLeft" fmla="*/ 0 w 114120"/>
                <a:gd name="textAreaRight" fmla="*/ 114480 w 114120"/>
                <a:gd name="textAreaTop" fmla="*/ 0 h 81720"/>
                <a:gd name="textAreaBottom" fmla="*/ 82080 h 81720"/>
              </a:gdLst>
              <a:ahLst/>
              <a:rect l="textAreaLeft" t="textAreaTop" r="textAreaRight" b="textAreaBottom"/>
              <a:pathLst>
                <a:path w="21600" h="20882">
                  <a:moveTo>
                    <a:pt x="10004" y="351"/>
                  </a:moveTo>
                  <a:cubicBezTo>
                    <a:pt x="5855" y="1343"/>
                    <a:pt x="2274" y="4701"/>
                    <a:pt x="0" y="9052"/>
                  </a:cubicBezTo>
                  <a:lnTo>
                    <a:pt x="12789" y="20882"/>
                  </a:lnTo>
                  <a:lnTo>
                    <a:pt x="21600" y="3709"/>
                  </a:lnTo>
                  <a:cubicBezTo>
                    <a:pt x="18360" y="732"/>
                    <a:pt x="14211" y="-718"/>
                    <a:pt x="10004" y="351"/>
                  </a:cubicBezTo>
                </a:path>
              </a:pathLst>
            </a:custGeom>
            <a:solidFill>
              <a:srgbClr val="b5b5b5">
                <a:alpha val="50000"/>
              </a:srgbClr>
            </a:solidFill>
            <a:ln w="12700">
              <a:noFill/>
            </a:ln>
          </p:spPr>
          <p:style>
            <a:lnRef idx="0"/>
            <a:fillRef idx="0"/>
            <a:effectRef idx="0"/>
            <a:fontRef idx="minor"/>
          </p:style>
          <p:txBody>
            <a:bodyPr numCol="1" spcCol="0" lIns="45720" rIns="45720" tIns="41040" bIns="41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0" name="Shape 3554"/>
            <p:cNvSpPr/>
            <p:nvPr/>
          </p:nvSpPr>
          <p:spPr>
            <a:xfrm>
              <a:off x="18950400" y="11469960"/>
              <a:ext cx="109800" cy="81720"/>
            </a:xfrm>
            <a:custGeom>
              <a:avLst/>
              <a:gdLst>
                <a:gd name="textAreaLeft" fmla="*/ 0 w 109800"/>
                <a:gd name="textAreaRight" fmla="*/ 110160 w 109800"/>
                <a:gd name="textAreaTop" fmla="*/ 0 h 81720"/>
                <a:gd name="textAreaBottom" fmla="*/ 82080 h 81720"/>
              </a:gdLst>
              <a:ahLst/>
              <a:rect l="textAreaLeft" t="textAreaTop" r="textAreaRight" b="textAreaBottom"/>
              <a:pathLst>
                <a:path w="21600" h="20855">
                  <a:moveTo>
                    <a:pt x="12183" y="1010"/>
                  </a:moveTo>
                  <a:cubicBezTo>
                    <a:pt x="8004" y="-745"/>
                    <a:pt x="3590" y="-134"/>
                    <a:pt x="0" y="2232"/>
                  </a:cubicBezTo>
                  <a:lnTo>
                    <a:pt x="7298" y="20855"/>
                  </a:lnTo>
                  <a:lnTo>
                    <a:pt x="21600" y="11391"/>
                  </a:lnTo>
                  <a:cubicBezTo>
                    <a:pt x="19717" y="6582"/>
                    <a:pt x="16421" y="2766"/>
                    <a:pt x="12183" y="1010"/>
                  </a:cubicBezTo>
                </a:path>
              </a:pathLst>
            </a:custGeom>
            <a:solidFill>
              <a:srgbClr val="d3d3d3">
                <a:alpha val="50000"/>
              </a:srgbClr>
            </a:solidFill>
            <a:ln w="12700">
              <a:noFill/>
            </a:ln>
          </p:spPr>
          <p:style>
            <a:lnRef idx="0"/>
            <a:fillRef idx="0"/>
            <a:effectRef idx="0"/>
            <a:fontRef idx="minor"/>
          </p:style>
          <p:txBody>
            <a:bodyPr numCol="1" spcCol="0" lIns="45720" rIns="45720" tIns="41040" bIns="41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1" name="Shape 3555"/>
            <p:cNvSpPr/>
            <p:nvPr/>
          </p:nvSpPr>
          <p:spPr>
            <a:xfrm>
              <a:off x="18991800" y="11548440"/>
              <a:ext cx="78120" cy="86040"/>
            </a:xfrm>
            <a:custGeom>
              <a:avLst/>
              <a:gdLst>
                <a:gd name="textAreaLeft" fmla="*/ 0 w 78120"/>
                <a:gd name="textAreaRight" fmla="*/ 78480 w 78120"/>
                <a:gd name="textAreaTop" fmla="*/ 0 h 86040"/>
                <a:gd name="textAreaBottom" fmla="*/ 86400 h 86040"/>
              </a:gdLst>
              <a:ahLst/>
              <a:rect l="textAreaLeft" t="textAreaTop" r="textAreaRight" b="textAreaBottom"/>
              <a:pathLst>
                <a:path w="21600" h="21600">
                  <a:moveTo>
                    <a:pt x="15535" y="15211"/>
                  </a:moveTo>
                  <a:cubicBezTo>
                    <a:pt x="19855" y="11180"/>
                    <a:pt x="21600" y="6389"/>
                    <a:pt x="21600" y="0"/>
                  </a:cubicBezTo>
                  <a:lnTo>
                    <a:pt x="0" y="0"/>
                  </a:lnTo>
                  <a:lnTo>
                    <a:pt x="0" y="21600"/>
                  </a:lnTo>
                  <a:cubicBezTo>
                    <a:pt x="4735" y="21600"/>
                    <a:pt x="10966" y="19166"/>
                    <a:pt x="15535" y="15211"/>
                  </a:cubicBezTo>
                </a:path>
              </a:pathLst>
            </a:custGeom>
            <a:solidFill>
              <a:srgbClr val="9e9e9e">
                <a:alpha val="50000"/>
              </a:srgbClr>
            </a:solidFill>
            <a:ln w="12700">
              <a:noFill/>
            </a:ln>
          </p:spPr>
          <p:style>
            <a:lnRef idx="0"/>
            <a:fillRef idx="0"/>
            <a:effectRef idx="0"/>
            <a:fontRef idx="minor"/>
          </p:style>
          <p:txBody>
            <a:bodyPr numCol="1" spcCol="0" lIns="45720" rIns="45720" tIns="43200" bIns="43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2" name="Shape 3556"/>
            <p:cNvSpPr/>
            <p:nvPr/>
          </p:nvSpPr>
          <p:spPr>
            <a:xfrm>
              <a:off x="18939600" y="11552400"/>
              <a:ext cx="114120" cy="81720"/>
            </a:xfrm>
            <a:custGeom>
              <a:avLst/>
              <a:gdLst>
                <a:gd name="textAreaLeft" fmla="*/ 0 w 114120"/>
                <a:gd name="textAreaRight" fmla="*/ 114480 w 114120"/>
                <a:gd name="textAreaTop" fmla="*/ 0 h 81720"/>
                <a:gd name="textAreaBottom" fmla="*/ 82080 h 81720"/>
              </a:gdLst>
              <a:ahLst/>
              <a:rect l="textAreaLeft" t="textAreaTop" r="textAreaRight" b="textAreaBottom"/>
              <a:pathLst>
                <a:path w="21600" h="20845">
                  <a:moveTo>
                    <a:pt x="11596" y="20455"/>
                  </a:moveTo>
                  <a:cubicBezTo>
                    <a:pt x="15745" y="19539"/>
                    <a:pt x="19326" y="16181"/>
                    <a:pt x="21600" y="11830"/>
                  </a:cubicBezTo>
                  <a:lnTo>
                    <a:pt x="8867" y="0"/>
                  </a:lnTo>
                  <a:lnTo>
                    <a:pt x="0" y="17097"/>
                  </a:lnTo>
                  <a:cubicBezTo>
                    <a:pt x="3240" y="20150"/>
                    <a:pt x="7389" y="21600"/>
                    <a:pt x="11596" y="20455"/>
                  </a:cubicBezTo>
                </a:path>
              </a:pathLst>
            </a:custGeom>
            <a:solidFill>
              <a:srgbClr val="b5b5b5">
                <a:alpha val="50000"/>
              </a:srgbClr>
            </a:solidFill>
            <a:ln w="12700">
              <a:noFill/>
            </a:ln>
          </p:spPr>
          <p:style>
            <a:lnRef idx="0"/>
            <a:fillRef idx="0"/>
            <a:effectRef idx="0"/>
            <a:fontRef idx="minor"/>
          </p:style>
          <p:txBody>
            <a:bodyPr numCol="1" spcCol="0" lIns="45720" rIns="45720" tIns="41040" bIns="41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3" name="Shape 3557"/>
            <p:cNvSpPr/>
            <p:nvPr/>
          </p:nvSpPr>
          <p:spPr>
            <a:xfrm>
              <a:off x="18914400" y="11552400"/>
              <a:ext cx="109800" cy="81720"/>
            </a:xfrm>
            <a:custGeom>
              <a:avLst/>
              <a:gdLst>
                <a:gd name="textAreaLeft" fmla="*/ 0 w 109800"/>
                <a:gd name="textAreaRight" fmla="*/ 110160 w 109800"/>
                <a:gd name="textAreaTop" fmla="*/ 0 h 81720"/>
                <a:gd name="textAreaBottom" fmla="*/ 82080 h 81720"/>
              </a:gdLst>
              <a:ahLst/>
              <a:rect l="textAreaLeft" t="textAreaTop" r="textAreaRight" b="textAreaBottom"/>
              <a:pathLst>
                <a:path w="21600" h="20851">
                  <a:moveTo>
                    <a:pt x="9417" y="19845"/>
                  </a:moveTo>
                  <a:cubicBezTo>
                    <a:pt x="13596" y="21600"/>
                    <a:pt x="18010" y="20989"/>
                    <a:pt x="21600" y="18547"/>
                  </a:cubicBezTo>
                  <a:lnTo>
                    <a:pt x="14361" y="0"/>
                  </a:lnTo>
                  <a:lnTo>
                    <a:pt x="0" y="9464"/>
                  </a:lnTo>
                  <a:cubicBezTo>
                    <a:pt x="1883" y="14273"/>
                    <a:pt x="5179" y="18089"/>
                    <a:pt x="9417" y="19845"/>
                  </a:cubicBezTo>
                </a:path>
              </a:pathLst>
            </a:custGeom>
            <a:solidFill>
              <a:srgbClr val="d3d3d3">
                <a:alpha val="50000"/>
              </a:srgbClr>
            </a:solidFill>
            <a:ln w="12700">
              <a:noFill/>
            </a:ln>
          </p:spPr>
          <p:style>
            <a:lnRef idx="0"/>
            <a:fillRef idx="0"/>
            <a:effectRef idx="0"/>
            <a:fontRef idx="minor"/>
          </p:style>
          <p:txBody>
            <a:bodyPr numCol="1" spcCol="0" lIns="45720" rIns="45720" tIns="41040" bIns="41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4" name="Shape 3558"/>
            <p:cNvSpPr/>
            <p:nvPr/>
          </p:nvSpPr>
          <p:spPr>
            <a:xfrm>
              <a:off x="18915480" y="11478600"/>
              <a:ext cx="145440" cy="145440"/>
            </a:xfrm>
            <a:custGeom>
              <a:avLst/>
              <a:gdLst>
                <a:gd name="textAreaLeft" fmla="*/ 0 w 145440"/>
                <a:gd name="textAreaRight" fmla="*/ 145800 w 145440"/>
                <a:gd name="textAreaTop" fmla="*/ 0 h 145440"/>
                <a:gd name="textAreaBottom" fmla="*/ 145800 h 145440"/>
              </a:gdLst>
              <a:ahLst/>
              <a:rect l="textAreaLeft" t="textAreaTop" r="textAreaRight" b="textAreaBottom"/>
              <a:pathLst>
                <a:path w="21330" h="21319">
                  <a:moveTo>
                    <a:pt x="18226" y="3113"/>
                  </a:moveTo>
                  <a:cubicBezTo>
                    <a:pt x="19596" y="4524"/>
                    <a:pt x="20435" y="5978"/>
                    <a:pt x="20965" y="7874"/>
                  </a:cubicBezTo>
                  <a:cubicBezTo>
                    <a:pt x="21451" y="9769"/>
                    <a:pt x="21451" y="11489"/>
                    <a:pt x="20965" y="13384"/>
                  </a:cubicBezTo>
                  <a:cubicBezTo>
                    <a:pt x="20435" y="15280"/>
                    <a:pt x="19596" y="16778"/>
                    <a:pt x="18226" y="18145"/>
                  </a:cubicBezTo>
                  <a:cubicBezTo>
                    <a:pt x="16813" y="19555"/>
                    <a:pt x="15355" y="20437"/>
                    <a:pt x="13456" y="20922"/>
                  </a:cubicBezTo>
                  <a:cubicBezTo>
                    <a:pt x="11557" y="21451"/>
                    <a:pt x="9834" y="21451"/>
                    <a:pt x="7934" y="20922"/>
                  </a:cubicBezTo>
                  <a:cubicBezTo>
                    <a:pt x="6035" y="20437"/>
                    <a:pt x="4533" y="19555"/>
                    <a:pt x="3164" y="18145"/>
                  </a:cubicBezTo>
                  <a:cubicBezTo>
                    <a:pt x="1750" y="16778"/>
                    <a:pt x="867" y="15280"/>
                    <a:pt x="381" y="13384"/>
                  </a:cubicBezTo>
                  <a:cubicBezTo>
                    <a:pt x="-149" y="11489"/>
                    <a:pt x="-105" y="9769"/>
                    <a:pt x="381" y="7874"/>
                  </a:cubicBezTo>
                  <a:cubicBezTo>
                    <a:pt x="911" y="5978"/>
                    <a:pt x="1750" y="4524"/>
                    <a:pt x="3164" y="3113"/>
                  </a:cubicBezTo>
                  <a:cubicBezTo>
                    <a:pt x="4533" y="1747"/>
                    <a:pt x="6035" y="909"/>
                    <a:pt x="7934" y="380"/>
                  </a:cubicBezTo>
                  <a:cubicBezTo>
                    <a:pt x="9834" y="-105"/>
                    <a:pt x="11557" y="-149"/>
                    <a:pt x="13456" y="380"/>
                  </a:cubicBezTo>
                  <a:cubicBezTo>
                    <a:pt x="15355" y="865"/>
                    <a:pt x="16813" y="1747"/>
                    <a:pt x="18226" y="311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5" name="Shape 3559"/>
            <p:cNvSpPr/>
            <p:nvPr/>
          </p:nvSpPr>
          <p:spPr>
            <a:xfrm>
              <a:off x="18909000" y="9691920"/>
              <a:ext cx="151200" cy="15480"/>
            </a:xfrm>
            <a:custGeom>
              <a:avLst/>
              <a:gdLst>
                <a:gd name="textAreaLeft" fmla="*/ 0 w 151200"/>
                <a:gd name="textAreaRight" fmla="*/ 151560 w 151200"/>
                <a:gd name="textAreaTop" fmla="*/ 0 h 15480"/>
                <a:gd name="textAreaBottom" fmla="*/ 15840 h 1548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545454"/>
            </a:solidFill>
            <a:ln w="12700">
              <a:noFill/>
            </a:ln>
          </p:spPr>
          <p:style>
            <a:lnRef idx="0"/>
            <a:fillRef idx="0"/>
            <a:effectRef idx="0"/>
            <a:fontRef idx="minor"/>
          </p:style>
          <p:txBody>
            <a:bodyPr numCol="1" spcCol="0" lIns="45720" rIns="45720" tIns="7920" bIns="7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6" name="Shape 3560"/>
            <p:cNvSpPr/>
            <p:nvPr/>
          </p:nvSpPr>
          <p:spPr>
            <a:xfrm>
              <a:off x="18970560" y="9614880"/>
              <a:ext cx="24840" cy="24840"/>
            </a:xfrm>
            <a:custGeom>
              <a:avLst/>
              <a:gdLst>
                <a:gd name="textAreaLeft" fmla="*/ 0 w 24840"/>
                <a:gd name="textAreaRight" fmla="*/ 25200 w 24840"/>
                <a:gd name="textAreaTop" fmla="*/ 0 h 24840"/>
                <a:gd name="textAreaBottom" fmla="*/ 25200 h 24840"/>
              </a:gdLst>
              <a:ahLst/>
              <a:rect l="textAreaLeft" t="textAreaTop" r="textAreaRight" b="textAreaBottom"/>
              <a:pathLst>
                <a:path w="21600" h="21600">
                  <a:moveTo>
                    <a:pt x="21600" y="10800"/>
                  </a:moveTo>
                  <a:cubicBezTo>
                    <a:pt x="21600" y="12857"/>
                    <a:pt x="21086" y="14400"/>
                    <a:pt x="20057" y="16200"/>
                  </a:cubicBezTo>
                  <a:cubicBezTo>
                    <a:pt x="19029" y="18000"/>
                    <a:pt x="17743" y="19029"/>
                    <a:pt x="16200" y="20057"/>
                  </a:cubicBezTo>
                  <a:cubicBezTo>
                    <a:pt x="14400" y="21086"/>
                    <a:pt x="12857" y="21600"/>
                    <a:pt x="10800" y="21600"/>
                  </a:cubicBezTo>
                  <a:cubicBezTo>
                    <a:pt x="8743" y="21600"/>
                    <a:pt x="7200" y="21086"/>
                    <a:pt x="5400" y="20057"/>
                  </a:cubicBezTo>
                  <a:cubicBezTo>
                    <a:pt x="3600" y="19029"/>
                    <a:pt x="2057" y="18000"/>
                    <a:pt x="1286" y="16200"/>
                  </a:cubicBezTo>
                  <a:cubicBezTo>
                    <a:pt x="257" y="14400"/>
                    <a:pt x="0" y="12857"/>
                    <a:pt x="0" y="10800"/>
                  </a:cubicBezTo>
                  <a:cubicBezTo>
                    <a:pt x="0" y="8743"/>
                    <a:pt x="257" y="7200"/>
                    <a:pt x="1286" y="5400"/>
                  </a:cubicBezTo>
                  <a:cubicBezTo>
                    <a:pt x="2057" y="3600"/>
                    <a:pt x="3600" y="2571"/>
                    <a:pt x="5400" y="1543"/>
                  </a:cubicBezTo>
                  <a:cubicBezTo>
                    <a:pt x="7200" y="771"/>
                    <a:pt x="8743" y="0"/>
                    <a:pt x="10800" y="0"/>
                  </a:cubicBezTo>
                  <a:cubicBezTo>
                    <a:pt x="12857" y="0"/>
                    <a:pt x="14400" y="771"/>
                    <a:pt x="16200" y="1543"/>
                  </a:cubicBezTo>
                  <a:cubicBezTo>
                    <a:pt x="17743" y="2571"/>
                    <a:pt x="19029" y="3600"/>
                    <a:pt x="20057" y="5400"/>
                  </a:cubicBezTo>
                  <a:cubicBezTo>
                    <a:pt x="21086" y="7200"/>
                    <a:pt x="21600" y="8743"/>
                    <a:pt x="21600" y="10800"/>
                  </a:cubicBezTo>
                </a:path>
              </a:pathLst>
            </a:custGeom>
            <a:solidFill>
              <a:srgbClr val="545454"/>
            </a:solidFill>
            <a:ln w="12700">
              <a:noFill/>
            </a:ln>
          </p:spPr>
          <p:style>
            <a:lnRef idx="0"/>
            <a:fillRef idx="0"/>
            <a:effectRef idx="0"/>
            <a:fontRef idx="minor"/>
          </p:style>
          <p:txBody>
            <a:bodyPr numCol="1" spcCol="0" lIns="45720" rIns="45720" tIns="12600" bIns="12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7" name="Shape 3561"/>
            <p:cNvSpPr/>
            <p:nvPr/>
          </p:nvSpPr>
          <p:spPr>
            <a:xfrm>
              <a:off x="18803880" y="9681480"/>
              <a:ext cx="34920" cy="34920"/>
            </a:xfrm>
            <a:custGeom>
              <a:avLst/>
              <a:gdLst>
                <a:gd name="textAreaLeft" fmla="*/ 0 w 34920"/>
                <a:gd name="textAreaRight" fmla="*/ 35280 w 34920"/>
                <a:gd name="textAreaTop" fmla="*/ 0 h 34920"/>
                <a:gd name="textAreaBottom" fmla="*/ 35280 h 3492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545454"/>
            </a:solidFill>
            <a:ln w="12700">
              <a:noFill/>
            </a:ln>
          </p:spPr>
          <p:style>
            <a:lnRef idx="0"/>
            <a:fillRef idx="0"/>
            <a:effectRef idx="0"/>
            <a:fontRef idx="minor"/>
          </p:style>
          <p:txBody>
            <a:bodyPr numCol="1" spcCol="0" lIns="45720" rIns="45720" tIns="17640" bIns="17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8" name="Shape 3562"/>
            <p:cNvSpPr/>
            <p:nvPr/>
          </p:nvSpPr>
          <p:spPr>
            <a:xfrm>
              <a:off x="18809280" y="9686880"/>
              <a:ext cx="25560" cy="25560"/>
            </a:xfrm>
            <a:custGeom>
              <a:avLst/>
              <a:gdLst>
                <a:gd name="textAreaLeft" fmla="*/ 0 w 25560"/>
                <a:gd name="textAreaRight" fmla="*/ 25920 w 25560"/>
                <a:gd name="textAreaTop" fmla="*/ 0 h 25560"/>
                <a:gd name="textAreaBottom" fmla="*/ 25920 h 2556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7f7f7f"/>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09" name="Shape 3563"/>
            <p:cNvSpPr/>
            <p:nvPr/>
          </p:nvSpPr>
          <p:spPr>
            <a:xfrm>
              <a:off x="18814320" y="9691920"/>
              <a:ext cx="14040" cy="13680"/>
            </a:xfrm>
            <a:custGeom>
              <a:avLst/>
              <a:gdLst>
                <a:gd name="textAreaLeft" fmla="*/ 0 w 14040"/>
                <a:gd name="textAreaRight" fmla="*/ 14400 w 14040"/>
                <a:gd name="textAreaTop" fmla="*/ 0 h 13680"/>
                <a:gd name="textAreaBottom" fmla="*/ 14040 h 1368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545454"/>
            </a:solidFill>
            <a:ln w="12700">
              <a:noFill/>
            </a:ln>
          </p:spPr>
          <p:style>
            <a:lnRef idx="0"/>
            <a:fillRef idx="0"/>
            <a:effectRef idx="0"/>
            <a:fontRef idx="minor"/>
          </p:style>
          <p:txBody>
            <a:bodyPr numCol="1" spcCol="0" lIns="45720" rIns="45720" tIns="6840" bIns="684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6210" name="Shape 3565"/>
          <p:cNvSpPr/>
          <p:nvPr/>
        </p:nvSpPr>
        <p:spPr>
          <a:xfrm>
            <a:off x="2035080" y="8787960"/>
            <a:ext cx="68040" cy="40680"/>
          </a:xfrm>
          <a:custGeom>
            <a:avLst/>
            <a:gdLst>
              <a:gd name="textAreaLeft" fmla="*/ 0 w 68040"/>
              <a:gd name="textAreaRight" fmla="*/ 68400 w 68040"/>
              <a:gd name="textAreaTop" fmla="*/ 0 h 40680"/>
              <a:gd name="textAreaBottom" fmla="*/ 41040 h 40680"/>
            </a:gdLst>
            <a:ahLst/>
            <a:rect l="textAreaLeft" t="textAreaTop" r="textAreaRight" b="textAreaBottom"/>
            <a:pathLst>
              <a:path w="19534" h="17494">
                <a:moveTo>
                  <a:pt x="5219" y="9567"/>
                </a:moveTo>
                <a:cubicBezTo>
                  <a:pt x="3885" y="9963"/>
                  <a:pt x="2419" y="8774"/>
                  <a:pt x="1085" y="9963"/>
                </a:cubicBezTo>
                <a:cubicBezTo>
                  <a:pt x="-648" y="11152"/>
                  <a:pt x="-115" y="15314"/>
                  <a:pt x="1352" y="16701"/>
                </a:cubicBezTo>
                <a:cubicBezTo>
                  <a:pt x="2685" y="17890"/>
                  <a:pt x="4685" y="17494"/>
                  <a:pt x="6685" y="17097"/>
                </a:cubicBezTo>
                <a:cubicBezTo>
                  <a:pt x="9752" y="15710"/>
                  <a:pt x="13085" y="12936"/>
                  <a:pt x="13885" y="8378"/>
                </a:cubicBezTo>
                <a:cubicBezTo>
                  <a:pt x="13885" y="7784"/>
                  <a:pt x="13885" y="7784"/>
                  <a:pt x="14152" y="7387"/>
                </a:cubicBezTo>
                <a:cubicBezTo>
                  <a:pt x="14419" y="6595"/>
                  <a:pt x="15619" y="6991"/>
                  <a:pt x="16152" y="6991"/>
                </a:cubicBezTo>
                <a:cubicBezTo>
                  <a:pt x="20952" y="7784"/>
                  <a:pt x="20685" y="-3710"/>
                  <a:pt x="15085" y="1244"/>
                </a:cubicBezTo>
                <a:cubicBezTo>
                  <a:pt x="11619" y="3820"/>
                  <a:pt x="9752" y="8774"/>
                  <a:pt x="5219" y="9567"/>
                </a:cubicBezTo>
              </a:path>
            </a:pathLst>
          </a:custGeom>
          <a:solidFill>
            <a:srgbClr val="929292"/>
          </a:solidFill>
          <a:ln w="12700">
            <a:noFill/>
          </a:ln>
        </p:spPr>
        <p:style>
          <a:lnRef idx="0"/>
          <a:fillRef idx="0"/>
          <a:effectRef idx="0"/>
          <a:fontRef idx="minor"/>
        </p:style>
        <p:txBody>
          <a:bodyPr lIns="45720" rIns="45720" tIns="-3960" bIns="-3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11" name="Shape 3566"/>
          <p:cNvSpPr/>
          <p:nvPr/>
        </p:nvSpPr>
        <p:spPr>
          <a:xfrm>
            <a:off x="2071800" y="8475480"/>
            <a:ext cx="46440" cy="25920"/>
          </a:xfrm>
          <a:custGeom>
            <a:avLst/>
            <a:gdLst>
              <a:gd name="textAreaLeft" fmla="*/ 0 w 46440"/>
              <a:gd name="textAreaRight" fmla="*/ 46800 w 46440"/>
              <a:gd name="textAreaTop" fmla="*/ 0 h 25920"/>
              <a:gd name="textAreaBottom" fmla="*/ 26280 h 25920"/>
            </a:gdLst>
            <a:ahLst/>
            <a:rect l="textAreaLeft" t="textAreaTop" r="textAreaRight" b="textAreaBottom"/>
            <a:pathLst>
              <a:path w="20682" h="19991">
                <a:moveTo>
                  <a:pt x="7130" y="14606"/>
                </a:moveTo>
                <a:cubicBezTo>
                  <a:pt x="7550" y="13898"/>
                  <a:pt x="7969" y="13190"/>
                  <a:pt x="8388" y="13190"/>
                </a:cubicBezTo>
                <a:cubicBezTo>
                  <a:pt x="9227" y="12482"/>
                  <a:pt x="10066" y="14606"/>
                  <a:pt x="10905" y="16023"/>
                </a:cubicBezTo>
                <a:cubicBezTo>
                  <a:pt x="12792" y="19918"/>
                  <a:pt x="16777" y="21334"/>
                  <a:pt x="18874" y="18501"/>
                </a:cubicBezTo>
                <a:cubicBezTo>
                  <a:pt x="21600" y="15314"/>
                  <a:pt x="21181" y="7170"/>
                  <a:pt x="18035" y="5754"/>
                </a:cubicBezTo>
                <a:cubicBezTo>
                  <a:pt x="16777" y="5045"/>
                  <a:pt x="15309" y="5754"/>
                  <a:pt x="14470" y="5045"/>
                </a:cubicBezTo>
                <a:cubicBezTo>
                  <a:pt x="12792" y="4337"/>
                  <a:pt x="12373" y="1504"/>
                  <a:pt x="10485" y="442"/>
                </a:cubicBezTo>
                <a:cubicBezTo>
                  <a:pt x="9227" y="-266"/>
                  <a:pt x="5662" y="-266"/>
                  <a:pt x="4404" y="1504"/>
                </a:cubicBezTo>
                <a:cubicBezTo>
                  <a:pt x="2097" y="2921"/>
                  <a:pt x="419" y="5754"/>
                  <a:pt x="0" y="9649"/>
                </a:cubicBezTo>
                <a:cubicBezTo>
                  <a:pt x="3146" y="7878"/>
                  <a:pt x="5243" y="16023"/>
                  <a:pt x="7130" y="14606"/>
                </a:cubicBezTo>
              </a:path>
            </a:pathLst>
          </a:custGeom>
          <a:solidFill>
            <a:srgbClr val="929292"/>
          </a:solidFill>
          <a:ln w="12700">
            <a:noFill/>
          </a:ln>
        </p:spPr>
        <p:style>
          <a:lnRef idx="0"/>
          <a:fillRef idx="0"/>
          <a:effectRef idx="0"/>
          <a:fontRef idx="minor"/>
        </p:style>
        <p:txBody>
          <a:bodyPr lIns="45720" rIns="45720" tIns="-18720" bIns="-18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12" name="Shape 3567"/>
          <p:cNvSpPr/>
          <p:nvPr/>
        </p:nvSpPr>
        <p:spPr>
          <a:xfrm>
            <a:off x="17155440" y="47574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1600" h="21600">
                <a:moveTo>
                  <a:pt x="0" y="2541"/>
                </a:moveTo>
                <a:cubicBezTo>
                  <a:pt x="3375" y="1271"/>
                  <a:pt x="7425" y="0"/>
                  <a:pt x="10125" y="0"/>
                </a:cubicBezTo>
                <a:cubicBezTo>
                  <a:pt x="12825" y="0"/>
                  <a:pt x="17550" y="2541"/>
                  <a:pt x="17550" y="6988"/>
                </a:cubicBezTo>
                <a:cubicBezTo>
                  <a:pt x="18900" y="6988"/>
                  <a:pt x="20250" y="6988"/>
                  <a:pt x="21600" y="8259"/>
                </a:cubicBezTo>
                <a:cubicBezTo>
                  <a:pt x="20250" y="10800"/>
                  <a:pt x="18900" y="13341"/>
                  <a:pt x="18900" y="15882"/>
                </a:cubicBezTo>
                <a:cubicBezTo>
                  <a:pt x="18900" y="17153"/>
                  <a:pt x="18900" y="18424"/>
                  <a:pt x="18900" y="20329"/>
                </a:cubicBezTo>
                <a:cubicBezTo>
                  <a:pt x="18900" y="21600"/>
                  <a:pt x="17550" y="21600"/>
                  <a:pt x="15525" y="21600"/>
                </a:cubicBezTo>
                <a:cubicBezTo>
                  <a:pt x="11475" y="21600"/>
                  <a:pt x="8775" y="21600"/>
                  <a:pt x="4725" y="21600"/>
                </a:cubicBezTo>
                <a:cubicBezTo>
                  <a:pt x="3375" y="15882"/>
                  <a:pt x="6075" y="10800"/>
                  <a:pt x="11475" y="8259"/>
                </a:cubicBezTo>
                <a:cubicBezTo>
                  <a:pt x="10125" y="6988"/>
                  <a:pt x="8775" y="6988"/>
                  <a:pt x="7425" y="5082"/>
                </a:cubicBezTo>
                <a:cubicBezTo>
                  <a:pt x="7425" y="5082"/>
                  <a:pt x="7425" y="5082"/>
                  <a:pt x="6075" y="5082"/>
                </a:cubicBezTo>
                <a:cubicBezTo>
                  <a:pt x="4725" y="5082"/>
                  <a:pt x="3375" y="6988"/>
                  <a:pt x="3375" y="6988"/>
                </a:cubicBezTo>
                <a:cubicBezTo>
                  <a:pt x="1350" y="5082"/>
                  <a:pt x="1350" y="3812"/>
                  <a:pt x="0" y="2541"/>
                </a:cubicBezTo>
              </a:path>
            </a:pathLst>
          </a:custGeom>
          <a:solidFill>
            <a:srgbClr val="dddddd"/>
          </a:solidFill>
          <a:ln w="12700">
            <a:noFill/>
          </a:ln>
        </p:spPr>
        <p:style>
          <a:lnRef idx="0"/>
          <a:fillRef idx="0"/>
          <a:effectRef idx="0"/>
          <a:fontRef idx="minor"/>
        </p:style>
        <p:txBody>
          <a:bodyPr lIns="45720" rIns="45720" tIns="-29520" bIns="-295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6213" name="Group 3571"/>
          <p:cNvGrpSpPr/>
          <p:nvPr/>
        </p:nvGrpSpPr>
        <p:grpSpPr>
          <a:xfrm>
            <a:off x="16880040" y="4504320"/>
            <a:ext cx="1907640" cy="1915200"/>
            <a:chOff x="16880040" y="4504320"/>
            <a:chExt cx="1907640" cy="1915200"/>
          </a:xfrm>
        </p:grpSpPr>
        <p:sp>
          <p:nvSpPr>
            <p:cNvPr id="6214" name="Shape 3568"/>
            <p:cNvSpPr/>
            <p:nvPr/>
          </p:nvSpPr>
          <p:spPr>
            <a:xfrm>
              <a:off x="17082720" y="4504320"/>
              <a:ext cx="1704960" cy="1915200"/>
            </a:xfrm>
            <a:custGeom>
              <a:avLst/>
              <a:gdLst>
                <a:gd name="textAreaLeft" fmla="*/ 0 w 1704960"/>
                <a:gd name="textAreaRight" fmla="*/ 1705320 w 1704960"/>
                <a:gd name="textAreaTop" fmla="*/ 0 h 1915200"/>
                <a:gd name="textAreaBottom" fmla="*/ 1915560 h 1915200"/>
              </a:gdLst>
              <a:ahLst/>
              <a:rect l="textAreaLeft" t="textAreaTop" r="textAreaRight" b="textAreaBottom"/>
              <a:pathLst>
                <a:path w="21512" h="21594">
                  <a:moveTo>
                    <a:pt x="3597" y="574"/>
                  </a:moveTo>
                  <a:cubicBezTo>
                    <a:pt x="3591" y="574"/>
                    <a:pt x="3591" y="574"/>
                    <a:pt x="3586" y="574"/>
                  </a:cubicBezTo>
                  <a:cubicBezTo>
                    <a:pt x="3586" y="549"/>
                    <a:pt x="3597" y="559"/>
                    <a:pt x="3597" y="574"/>
                  </a:cubicBezTo>
                  <a:close/>
                  <a:moveTo>
                    <a:pt x="3481" y="800"/>
                  </a:moveTo>
                  <a:cubicBezTo>
                    <a:pt x="3195" y="1006"/>
                    <a:pt x="2882" y="1178"/>
                    <a:pt x="2547" y="1326"/>
                  </a:cubicBezTo>
                  <a:cubicBezTo>
                    <a:pt x="2514" y="1365"/>
                    <a:pt x="2525" y="1439"/>
                    <a:pt x="2569" y="1468"/>
                  </a:cubicBezTo>
                  <a:cubicBezTo>
                    <a:pt x="2431" y="1601"/>
                    <a:pt x="2338" y="1788"/>
                    <a:pt x="2316" y="1975"/>
                  </a:cubicBezTo>
                  <a:cubicBezTo>
                    <a:pt x="2376" y="1975"/>
                    <a:pt x="2442" y="2004"/>
                    <a:pt x="2464" y="2058"/>
                  </a:cubicBezTo>
                  <a:cubicBezTo>
                    <a:pt x="2338" y="2107"/>
                    <a:pt x="2349" y="2265"/>
                    <a:pt x="2365" y="2387"/>
                  </a:cubicBezTo>
                  <a:cubicBezTo>
                    <a:pt x="2376" y="2510"/>
                    <a:pt x="2261" y="2672"/>
                    <a:pt x="2134" y="2614"/>
                  </a:cubicBezTo>
                  <a:cubicBezTo>
                    <a:pt x="1969" y="2800"/>
                    <a:pt x="1777" y="2953"/>
                    <a:pt x="1557" y="3085"/>
                  </a:cubicBezTo>
                  <a:cubicBezTo>
                    <a:pt x="1463" y="3085"/>
                    <a:pt x="1370" y="3076"/>
                    <a:pt x="1265" y="3076"/>
                  </a:cubicBezTo>
                  <a:cubicBezTo>
                    <a:pt x="1265" y="3169"/>
                    <a:pt x="1254" y="3252"/>
                    <a:pt x="1254" y="3346"/>
                  </a:cubicBezTo>
                  <a:cubicBezTo>
                    <a:pt x="1106" y="3459"/>
                    <a:pt x="957" y="3582"/>
                    <a:pt x="803" y="3695"/>
                  </a:cubicBezTo>
                  <a:cubicBezTo>
                    <a:pt x="803" y="3818"/>
                    <a:pt x="792" y="3936"/>
                    <a:pt x="748" y="4049"/>
                  </a:cubicBezTo>
                  <a:cubicBezTo>
                    <a:pt x="699" y="4167"/>
                    <a:pt x="583" y="4250"/>
                    <a:pt x="446" y="4265"/>
                  </a:cubicBezTo>
                  <a:cubicBezTo>
                    <a:pt x="457" y="4294"/>
                    <a:pt x="484" y="4314"/>
                    <a:pt x="495" y="4343"/>
                  </a:cubicBezTo>
                  <a:cubicBezTo>
                    <a:pt x="193" y="4457"/>
                    <a:pt x="308" y="4963"/>
                    <a:pt x="0" y="5046"/>
                  </a:cubicBezTo>
                  <a:cubicBezTo>
                    <a:pt x="22" y="5149"/>
                    <a:pt x="44" y="5263"/>
                    <a:pt x="77" y="5366"/>
                  </a:cubicBezTo>
                  <a:cubicBezTo>
                    <a:pt x="160" y="5356"/>
                    <a:pt x="242" y="5366"/>
                    <a:pt x="319" y="5395"/>
                  </a:cubicBezTo>
                  <a:cubicBezTo>
                    <a:pt x="413" y="5420"/>
                    <a:pt x="385" y="5552"/>
                    <a:pt x="319" y="5611"/>
                  </a:cubicBezTo>
                  <a:cubicBezTo>
                    <a:pt x="248" y="5675"/>
                    <a:pt x="171" y="5769"/>
                    <a:pt x="215" y="5842"/>
                  </a:cubicBezTo>
                  <a:cubicBezTo>
                    <a:pt x="242" y="5872"/>
                    <a:pt x="275" y="5892"/>
                    <a:pt x="308" y="5911"/>
                  </a:cubicBezTo>
                  <a:cubicBezTo>
                    <a:pt x="446" y="6044"/>
                    <a:pt x="253" y="6324"/>
                    <a:pt x="424" y="6437"/>
                  </a:cubicBezTo>
                  <a:cubicBezTo>
                    <a:pt x="308" y="6511"/>
                    <a:pt x="264" y="6644"/>
                    <a:pt x="297" y="6757"/>
                  </a:cubicBezTo>
                  <a:cubicBezTo>
                    <a:pt x="226" y="6776"/>
                    <a:pt x="160" y="6820"/>
                    <a:pt x="127" y="6879"/>
                  </a:cubicBezTo>
                  <a:cubicBezTo>
                    <a:pt x="-60" y="7150"/>
                    <a:pt x="297" y="7499"/>
                    <a:pt x="193" y="7799"/>
                  </a:cubicBezTo>
                  <a:cubicBezTo>
                    <a:pt x="308" y="7853"/>
                    <a:pt x="424" y="7892"/>
                    <a:pt x="528" y="7941"/>
                  </a:cubicBezTo>
                  <a:lnTo>
                    <a:pt x="886" y="8265"/>
                  </a:lnTo>
                  <a:cubicBezTo>
                    <a:pt x="1095" y="8457"/>
                    <a:pt x="1326" y="8688"/>
                    <a:pt x="1315" y="8953"/>
                  </a:cubicBezTo>
                  <a:cubicBezTo>
                    <a:pt x="1579" y="9111"/>
                    <a:pt x="1832" y="9273"/>
                    <a:pt x="2096" y="9430"/>
                  </a:cubicBezTo>
                  <a:cubicBezTo>
                    <a:pt x="2283" y="9543"/>
                    <a:pt x="2453" y="9646"/>
                    <a:pt x="2629" y="9769"/>
                  </a:cubicBezTo>
                  <a:cubicBezTo>
                    <a:pt x="2788" y="9892"/>
                    <a:pt x="2975" y="10025"/>
                    <a:pt x="3184" y="10015"/>
                  </a:cubicBezTo>
                  <a:cubicBezTo>
                    <a:pt x="3217" y="9892"/>
                    <a:pt x="3426" y="9956"/>
                    <a:pt x="3564" y="9931"/>
                  </a:cubicBezTo>
                  <a:cubicBezTo>
                    <a:pt x="3641" y="9922"/>
                    <a:pt x="3701" y="9882"/>
                    <a:pt x="3767" y="9838"/>
                  </a:cubicBezTo>
                  <a:cubicBezTo>
                    <a:pt x="4070" y="9686"/>
                    <a:pt x="4488" y="9735"/>
                    <a:pt x="4730" y="9956"/>
                  </a:cubicBezTo>
                  <a:cubicBezTo>
                    <a:pt x="4944" y="9779"/>
                    <a:pt x="5214" y="9583"/>
                    <a:pt x="5499" y="9622"/>
                  </a:cubicBezTo>
                  <a:cubicBezTo>
                    <a:pt x="5549" y="9479"/>
                    <a:pt x="5791" y="9519"/>
                    <a:pt x="5950" y="9499"/>
                  </a:cubicBezTo>
                  <a:cubicBezTo>
                    <a:pt x="6099" y="9479"/>
                    <a:pt x="6236" y="9376"/>
                    <a:pt x="6390" y="9366"/>
                  </a:cubicBezTo>
                  <a:cubicBezTo>
                    <a:pt x="6528" y="9366"/>
                    <a:pt x="6654" y="9450"/>
                    <a:pt x="6792" y="9460"/>
                  </a:cubicBezTo>
                  <a:cubicBezTo>
                    <a:pt x="6863" y="9460"/>
                    <a:pt x="6940" y="9450"/>
                    <a:pt x="7012" y="9469"/>
                  </a:cubicBezTo>
                  <a:cubicBezTo>
                    <a:pt x="7105" y="9499"/>
                    <a:pt x="7160" y="9583"/>
                    <a:pt x="7182" y="9676"/>
                  </a:cubicBezTo>
                  <a:cubicBezTo>
                    <a:pt x="7210" y="9750"/>
                    <a:pt x="7210" y="9838"/>
                    <a:pt x="7254" y="9902"/>
                  </a:cubicBezTo>
                  <a:cubicBezTo>
                    <a:pt x="7298" y="9966"/>
                    <a:pt x="7424" y="10005"/>
                    <a:pt x="7474" y="9941"/>
                  </a:cubicBezTo>
                  <a:cubicBezTo>
                    <a:pt x="7507" y="9912"/>
                    <a:pt x="7578" y="9882"/>
                    <a:pt x="7611" y="9853"/>
                  </a:cubicBezTo>
                  <a:cubicBezTo>
                    <a:pt x="7633" y="9872"/>
                    <a:pt x="7655" y="9902"/>
                    <a:pt x="7683" y="9922"/>
                  </a:cubicBezTo>
                  <a:cubicBezTo>
                    <a:pt x="7694" y="9872"/>
                    <a:pt x="7787" y="9892"/>
                    <a:pt x="7820" y="9922"/>
                  </a:cubicBezTo>
                  <a:cubicBezTo>
                    <a:pt x="7864" y="9956"/>
                    <a:pt x="7903" y="10005"/>
                    <a:pt x="7958" y="9995"/>
                  </a:cubicBezTo>
                  <a:cubicBezTo>
                    <a:pt x="8062" y="10005"/>
                    <a:pt x="8166" y="10005"/>
                    <a:pt x="8271" y="10015"/>
                  </a:cubicBezTo>
                  <a:cubicBezTo>
                    <a:pt x="8441" y="10172"/>
                    <a:pt x="8546" y="10398"/>
                    <a:pt x="8535" y="10615"/>
                  </a:cubicBezTo>
                  <a:cubicBezTo>
                    <a:pt x="8397" y="10674"/>
                    <a:pt x="8386" y="10880"/>
                    <a:pt x="8513" y="10954"/>
                  </a:cubicBezTo>
                  <a:cubicBezTo>
                    <a:pt x="8359" y="11047"/>
                    <a:pt x="8304" y="11224"/>
                    <a:pt x="8260" y="11386"/>
                  </a:cubicBezTo>
                  <a:cubicBezTo>
                    <a:pt x="8243" y="11416"/>
                    <a:pt x="8232" y="11460"/>
                    <a:pt x="8243" y="11489"/>
                  </a:cubicBezTo>
                  <a:cubicBezTo>
                    <a:pt x="8243" y="11553"/>
                    <a:pt x="8304" y="11612"/>
                    <a:pt x="8337" y="11666"/>
                  </a:cubicBezTo>
                  <a:cubicBezTo>
                    <a:pt x="8375" y="11725"/>
                    <a:pt x="8408" y="11799"/>
                    <a:pt x="8359" y="11853"/>
                  </a:cubicBezTo>
                  <a:cubicBezTo>
                    <a:pt x="8408" y="11838"/>
                    <a:pt x="8452" y="11863"/>
                    <a:pt x="8485" y="11892"/>
                  </a:cubicBezTo>
                  <a:cubicBezTo>
                    <a:pt x="8557" y="11956"/>
                    <a:pt x="8617" y="12035"/>
                    <a:pt x="8650" y="12128"/>
                  </a:cubicBezTo>
                  <a:cubicBezTo>
                    <a:pt x="8733" y="12138"/>
                    <a:pt x="8788" y="12222"/>
                    <a:pt x="8799" y="12305"/>
                  </a:cubicBezTo>
                  <a:cubicBezTo>
                    <a:pt x="8810" y="12379"/>
                    <a:pt x="8810" y="12467"/>
                    <a:pt x="8870" y="12531"/>
                  </a:cubicBezTo>
                  <a:cubicBezTo>
                    <a:pt x="8914" y="12522"/>
                    <a:pt x="8964" y="12522"/>
                    <a:pt x="9002" y="12512"/>
                  </a:cubicBezTo>
                  <a:cubicBezTo>
                    <a:pt x="9129" y="12635"/>
                    <a:pt x="9266" y="12787"/>
                    <a:pt x="9244" y="12954"/>
                  </a:cubicBezTo>
                  <a:cubicBezTo>
                    <a:pt x="9288" y="12954"/>
                    <a:pt x="9316" y="12993"/>
                    <a:pt x="9316" y="13028"/>
                  </a:cubicBezTo>
                  <a:cubicBezTo>
                    <a:pt x="9316" y="13067"/>
                    <a:pt x="9288" y="13097"/>
                    <a:pt x="9266" y="13131"/>
                  </a:cubicBezTo>
                  <a:cubicBezTo>
                    <a:pt x="9338" y="13106"/>
                    <a:pt x="9415" y="13180"/>
                    <a:pt x="9404" y="13244"/>
                  </a:cubicBezTo>
                  <a:cubicBezTo>
                    <a:pt x="9404" y="13264"/>
                    <a:pt x="9393" y="13283"/>
                    <a:pt x="9393" y="13303"/>
                  </a:cubicBezTo>
                  <a:cubicBezTo>
                    <a:pt x="9393" y="13337"/>
                    <a:pt x="9431" y="13357"/>
                    <a:pt x="9453" y="13377"/>
                  </a:cubicBezTo>
                  <a:cubicBezTo>
                    <a:pt x="9569" y="13480"/>
                    <a:pt x="9646" y="13613"/>
                    <a:pt x="9684" y="13760"/>
                  </a:cubicBezTo>
                  <a:cubicBezTo>
                    <a:pt x="9624" y="13760"/>
                    <a:pt x="9569" y="13750"/>
                    <a:pt x="9508" y="13750"/>
                  </a:cubicBezTo>
                  <a:cubicBezTo>
                    <a:pt x="9519" y="13893"/>
                    <a:pt x="9602" y="14025"/>
                    <a:pt x="9717" y="14129"/>
                  </a:cubicBezTo>
                  <a:cubicBezTo>
                    <a:pt x="9646" y="14138"/>
                    <a:pt x="9624" y="14232"/>
                    <a:pt x="9673" y="14286"/>
                  </a:cubicBezTo>
                  <a:cubicBezTo>
                    <a:pt x="9717" y="14335"/>
                    <a:pt x="9789" y="14365"/>
                    <a:pt x="9822" y="14428"/>
                  </a:cubicBezTo>
                  <a:cubicBezTo>
                    <a:pt x="9761" y="14502"/>
                    <a:pt x="9750" y="14615"/>
                    <a:pt x="9811" y="14699"/>
                  </a:cubicBezTo>
                  <a:cubicBezTo>
                    <a:pt x="9728" y="14748"/>
                    <a:pt x="9646" y="14812"/>
                    <a:pt x="9569" y="14861"/>
                  </a:cubicBezTo>
                  <a:cubicBezTo>
                    <a:pt x="9530" y="14881"/>
                    <a:pt x="9497" y="14915"/>
                    <a:pt x="9486" y="14954"/>
                  </a:cubicBezTo>
                  <a:cubicBezTo>
                    <a:pt x="9475" y="14994"/>
                    <a:pt x="9508" y="15048"/>
                    <a:pt x="9558" y="15038"/>
                  </a:cubicBezTo>
                  <a:cubicBezTo>
                    <a:pt x="9415" y="15131"/>
                    <a:pt x="9277" y="15303"/>
                    <a:pt x="9277" y="15460"/>
                  </a:cubicBezTo>
                  <a:cubicBezTo>
                    <a:pt x="9277" y="15500"/>
                    <a:pt x="9288" y="15544"/>
                    <a:pt x="9266" y="15574"/>
                  </a:cubicBezTo>
                  <a:cubicBezTo>
                    <a:pt x="9244" y="15603"/>
                    <a:pt x="9211" y="15613"/>
                    <a:pt x="9184" y="15632"/>
                  </a:cubicBezTo>
                  <a:cubicBezTo>
                    <a:pt x="9129" y="15687"/>
                    <a:pt x="9107" y="15770"/>
                    <a:pt x="9096" y="15839"/>
                  </a:cubicBezTo>
                  <a:cubicBezTo>
                    <a:pt x="9068" y="15996"/>
                    <a:pt x="9068" y="16149"/>
                    <a:pt x="9107" y="16306"/>
                  </a:cubicBezTo>
                  <a:cubicBezTo>
                    <a:pt x="9162" y="16542"/>
                    <a:pt x="9316" y="16748"/>
                    <a:pt x="9464" y="16955"/>
                  </a:cubicBezTo>
                  <a:cubicBezTo>
                    <a:pt x="9486" y="16994"/>
                    <a:pt x="9519" y="17038"/>
                    <a:pt x="9569" y="17058"/>
                  </a:cubicBezTo>
                  <a:cubicBezTo>
                    <a:pt x="9706" y="17284"/>
                    <a:pt x="9833" y="17520"/>
                    <a:pt x="9970" y="17746"/>
                  </a:cubicBezTo>
                  <a:cubicBezTo>
                    <a:pt x="10003" y="17800"/>
                    <a:pt x="10031" y="17849"/>
                    <a:pt x="10031" y="17913"/>
                  </a:cubicBezTo>
                  <a:cubicBezTo>
                    <a:pt x="10031" y="17977"/>
                    <a:pt x="9981" y="18016"/>
                    <a:pt x="9970" y="18080"/>
                  </a:cubicBezTo>
                  <a:cubicBezTo>
                    <a:pt x="9937" y="18193"/>
                    <a:pt x="9992" y="18306"/>
                    <a:pt x="10042" y="18419"/>
                  </a:cubicBezTo>
                  <a:cubicBezTo>
                    <a:pt x="10053" y="18449"/>
                    <a:pt x="10064" y="18468"/>
                    <a:pt x="10075" y="18503"/>
                  </a:cubicBezTo>
                  <a:cubicBezTo>
                    <a:pt x="10157" y="18665"/>
                    <a:pt x="10234" y="18852"/>
                    <a:pt x="10190" y="19029"/>
                  </a:cubicBezTo>
                  <a:cubicBezTo>
                    <a:pt x="10179" y="19068"/>
                    <a:pt x="10157" y="19107"/>
                    <a:pt x="10157" y="19151"/>
                  </a:cubicBezTo>
                  <a:cubicBezTo>
                    <a:pt x="10168" y="19294"/>
                    <a:pt x="10421" y="19387"/>
                    <a:pt x="10350" y="19510"/>
                  </a:cubicBezTo>
                  <a:cubicBezTo>
                    <a:pt x="10504" y="19667"/>
                    <a:pt x="10652" y="19830"/>
                    <a:pt x="10800" y="19987"/>
                  </a:cubicBezTo>
                  <a:cubicBezTo>
                    <a:pt x="10822" y="20016"/>
                    <a:pt x="10850" y="20036"/>
                    <a:pt x="10861" y="20066"/>
                  </a:cubicBezTo>
                  <a:cubicBezTo>
                    <a:pt x="10894" y="20159"/>
                    <a:pt x="10811" y="20262"/>
                    <a:pt x="10872" y="20336"/>
                  </a:cubicBezTo>
                  <a:cubicBezTo>
                    <a:pt x="10916" y="20400"/>
                    <a:pt x="11020" y="20410"/>
                    <a:pt x="11075" y="20469"/>
                  </a:cubicBezTo>
                  <a:cubicBezTo>
                    <a:pt x="11147" y="20542"/>
                    <a:pt x="11092" y="20655"/>
                    <a:pt x="11114" y="20749"/>
                  </a:cubicBezTo>
                  <a:cubicBezTo>
                    <a:pt x="11136" y="20822"/>
                    <a:pt x="11196" y="20876"/>
                    <a:pt x="11218" y="20935"/>
                  </a:cubicBezTo>
                  <a:cubicBezTo>
                    <a:pt x="11246" y="20999"/>
                    <a:pt x="11169" y="21098"/>
                    <a:pt x="11103" y="21068"/>
                  </a:cubicBezTo>
                  <a:cubicBezTo>
                    <a:pt x="11042" y="21181"/>
                    <a:pt x="11075" y="21314"/>
                    <a:pt x="11169" y="21417"/>
                  </a:cubicBezTo>
                  <a:cubicBezTo>
                    <a:pt x="11262" y="21510"/>
                    <a:pt x="11389" y="21574"/>
                    <a:pt x="11526" y="21594"/>
                  </a:cubicBezTo>
                  <a:cubicBezTo>
                    <a:pt x="11757" y="21574"/>
                    <a:pt x="11988" y="21574"/>
                    <a:pt x="12219" y="21594"/>
                  </a:cubicBezTo>
                  <a:cubicBezTo>
                    <a:pt x="12230" y="21555"/>
                    <a:pt x="12241" y="21520"/>
                    <a:pt x="12252" y="21481"/>
                  </a:cubicBezTo>
                  <a:cubicBezTo>
                    <a:pt x="12219" y="21471"/>
                    <a:pt x="12186" y="21471"/>
                    <a:pt x="12153" y="21461"/>
                  </a:cubicBezTo>
                  <a:cubicBezTo>
                    <a:pt x="12126" y="21427"/>
                    <a:pt x="12126" y="21378"/>
                    <a:pt x="12153" y="21348"/>
                  </a:cubicBezTo>
                  <a:cubicBezTo>
                    <a:pt x="12208" y="21358"/>
                    <a:pt x="12269" y="21338"/>
                    <a:pt x="12302" y="21294"/>
                  </a:cubicBezTo>
                  <a:cubicBezTo>
                    <a:pt x="12522" y="21451"/>
                    <a:pt x="12808" y="21530"/>
                    <a:pt x="13099" y="21520"/>
                  </a:cubicBezTo>
                  <a:cubicBezTo>
                    <a:pt x="13132" y="21427"/>
                    <a:pt x="13281" y="21427"/>
                    <a:pt x="13396" y="21427"/>
                  </a:cubicBezTo>
                  <a:cubicBezTo>
                    <a:pt x="13522" y="21427"/>
                    <a:pt x="13660" y="21388"/>
                    <a:pt x="13764" y="21324"/>
                  </a:cubicBezTo>
                  <a:cubicBezTo>
                    <a:pt x="13940" y="21220"/>
                    <a:pt x="14100" y="21048"/>
                    <a:pt x="14298" y="21098"/>
                  </a:cubicBezTo>
                  <a:cubicBezTo>
                    <a:pt x="14298" y="20994"/>
                    <a:pt x="14364" y="20901"/>
                    <a:pt x="14457" y="20822"/>
                  </a:cubicBezTo>
                  <a:lnTo>
                    <a:pt x="14622" y="20675"/>
                  </a:lnTo>
                  <a:cubicBezTo>
                    <a:pt x="14749" y="20562"/>
                    <a:pt x="14875" y="20449"/>
                    <a:pt x="15013" y="20336"/>
                  </a:cubicBezTo>
                  <a:cubicBezTo>
                    <a:pt x="15057" y="20233"/>
                    <a:pt x="15057" y="20129"/>
                    <a:pt x="15035" y="20026"/>
                  </a:cubicBezTo>
                  <a:cubicBezTo>
                    <a:pt x="14980" y="20016"/>
                    <a:pt x="14941" y="19952"/>
                    <a:pt x="14963" y="19903"/>
                  </a:cubicBezTo>
                  <a:cubicBezTo>
                    <a:pt x="15024" y="19903"/>
                    <a:pt x="15068" y="19894"/>
                    <a:pt x="15128" y="19894"/>
                  </a:cubicBezTo>
                  <a:cubicBezTo>
                    <a:pt x="15079" y="19820"/>
                    <a:pt x="15139" y="19707"/>
                    <a:pt x="15233" y="19697"/>
                  </a:cubicBezTo>
                  <a:cubicBezTo>
                    <a:pt x="15266" y="19697"/>
                    <a:pt x="15310" y="19707"/>
                    <a:pt x="15348" y="19707"/>
                  </a:cubicBezTo>
                  <a:cubicBezTo>
                    <a:pt x="15453" y="19707"/>
                    <a:pt x="15546" y="19628"/>
                    <a:pt x="15579" y="19545"/>
                  </a:cubicBezTo>
                  <a:cubicBezTo>
                    <a:pt x="15618" y="19466"/>
                    <a:pt x="15612" y="19358"/>
                    <a:pt x="15612" y="19264"/>
                  </a:cubicBezTo>
                  <a:cubicBezTo>
                    <a:pt x="15684" y="19314"/>
                    <a:pt x="15783" y="19235"/>
                    <a:pt x="15783" y="19161"/>
                  </a:cubicBezTo>
                  <a:cubicBezTo>
                    <a:pt x="15783" y="19078"/>
                    <a:pt x="15728" y="19019"/>
                    <a:pt x="15706" y="18935"/>
                  </a:cubicBezTo>
                  <a:cubicBezTo>
                    <a:pt x="15656" y="18798"/>
                    <a:pt x="15684" y="18645"/>
                    <a:pt x="15783" y="18542"/>
                  </a:cubicBezTo>
                  <a:cubicBezTo>
                    <a:pt x="15821" y="18513"/>
                    <a:pt x="15854" y="18478"/>
                    <a:pt x="15909" y="18478"/>
                  </a:cubicBezTo>
                  <a:cubicBezTo>
                    <a:pt x="15970" y="18478"/>
                    <a:pt x="16014" y="18513"/>
                    <a:pt x="16074" y="18522"/>
                  </a:cubicBezTo>
                  <a:cubicBezTo>
                    <a:pt x="16233" y="18571"/>
                    <a:pt x="16431" y="18449"/>
                    <a:pt x="16431" y="18296"/>
                  </a:cubicBezTo>
                  <a:cubicBezTo>
                    <a:pt x="16431" y="18223"/>
                    <a:pt x="16409" y="18159"/>
                    <a:pt x="16442" y="18100"/>
                  </a:cubicBezTo>
                  <a:cubicBezTo>
                    <a:pt x="16464" y="18055"/>
                    <a:pt x="16514" y="18036"/>
                    <a:pt x="16525" y="17996"/>
                  </a:cubicBezTo>
                  <a:cubicBezTo>
                    <a:pt x="16580" y="17893"/>
                    <a:pt x="16453" y="17790"/>
                    <a:pt x="16398" y="17687"/>
                  </a:cubicBezTo>
                  <a:cubicBezTo>
                    <a:pt x="16338" y="17574"/>
                    <a:pt x="16371" y="17441"/>
                    <a:pt x="16475" y="17367"/>
                  </a:cubicBezTo>
                  <a:cubicBezTo>
                    <a:pt x="16283" y="17323"/>
                    <a:pt x="16167" y="17107"/>
                    <a:pt x="16244" y="16945"/>
                  </a:cubicBezTo>
                  <a:cubicBezTo>
                    <a:pt x="16233" y="16974"/>
                    <a:pt x="16272" y="16994"/>
                    <a:pt x="16305" y="16984"/>
                  </a:cubicBezTo>
                  <a:cubicBezTo>
                    <a:pt x="16420" y="16900"/>
                    <a:pt x="16525" y="16787"/>
                    <a:pt x="16569" y="16665"/>
                  </a:cubicBezTo>
                  <a:cubicBezTo>
                    <a:pt x="16684" y="16719"/>
                    <a:pt x="16844" y="16655"/>
                    <a:pt x="16882" y="16542"/>
                  </a:cubicBezTo>
                  <a:cubicBezTo>
                    <a:pt x="16893" y="16512"/>
                    <a:pt x="16893" y="16478"/>
                    <a:pt x="16904" y="16448"/>
                  </a:cubicBezTo>
                  <a:cubicBezTo>
                    <a:pt x="16959" y="16325"/>
                    <a:pt x="17201" y="16375"/>
                    <a:pt x="17295" y="16276"/>
                  </a:cubicBezTo>
                  <a:cubicBezTo>
                    <a:pt x="17317" y="16242"/>
                    <a:pt x="17344" y="16212"/>
                    <a:pt x="17377" y="16193"/>
                  </a:cubicBezTo>
                  <a:cubicBezTo>
                    <a:pt x="17410" y="16183"/>
                    <a:pt x="17443" y="16193"/>
                    <a:pt x="17493" y="16193"/>
                  </a:cubicBezTo>
                  <a:cubicBezTo>
                    <a:pt x="17652" y="16203"/>
                    <a:pt x="17779" y="16026"/>
                    <a:pt x="17713" y="15903"/>
                  </a:cubicBezTo>
                  <a:cubicBezTo>
                    <a:pt x="17861" y="15932"/>
                    <a:pt x="18021" y="15903"/>
                    <a:pt x="18164" y="15839"/>
                  </a:cubicBezTo>
                  <a:cubicBezTo>
                    <a:pt x="18092" y="15706"/>
                    <a:pt x="18081" y="15544"/>
                    <a:pt x="18125" y="15406"/>
                  </a:cubicBezTo>
                  <a:cubicBezTo>
                    <a:pt x="18048" y="15357"/>
                    <a:pt x="17944" y="15254"/>
                    <a:pt x="18021" y="15190"/>
                  </a:cubicBezTo>
                  <a:cubicBezTo>
                    <a:pt x="18048" y="15171"/>
                    <a:pt x="18070" y="15171"/>
                    <a:pt x="18081" y="15151"/>
                  </a:cubicBezTo>
                  <a:cubicBezTo>
                    <a:pt x="18103" y="15131"/>
                    <a:pt x="18103" y="15097"/>
                    <a:pt x="18114" y="15067"/>
                  </a:cubicBezTo>
                  <a:cubicBezTo>
                    <a:pt x="18164" y="14802"/>
                    <a:pt x="18208" y="14532"/>
                    <a:pt x="18252" y="14276"/>
                  </a:cubicBezTo>
                  <a:cubicBezTo>
                    <a:pt x="18197" y="14276"/>
                    <a:pt x="18125" y="14261"/>
                    <a:pt x="18070" y="14261"/>
                  </a:cubicBezTo>
                  <a:cubicBezTo>
                    <a:pt x="18147" y="14173"/>
                    <a:pt x="18032" y="14060"/>
                    <a:pt x="17916" y="13986"/>
                  </a:cubicBezTo>
                  <a:cubicBezTo>
                    <a:pt x="17806" y="13917"/>
                    <a:pt x="17691" y="13799"/>
                    <a:pt x="17768" y="13706"/>
                  </a:cubicBezTo>
                  <a:cubicBezTo>
                    <a:pt x="17641" y="13632"/>
                    <a:pt x="17894" y="13386"/>
                    <a:pt x="17768" y="13303"/>
                  </a:cubicBezTo>
                  <a:cubicBezTo>
                    <a:pt x="17735" y="13283"/>
                    <a:pt x="17702" y="13288"/>
                    <a:pt x="17674" y="13264"/>
                  </a:cubicBezTo>
                  <a:cubicBezTo>
                    <a:pt x="17652" y="13249"/>
                    <a:pt x="17652" y="13210"/>
                    <a:pt x="17641" y="13190"/>
                  </a:cubicBezTo>
                  <a:cubicBezTo>
                    <a:pt x="17619" y="13028"/>
                    <a:pt x="17619" y="12851"/>
                    <a:pt x="17630" y="12684"/>
                  </a:cubicBezTo>
                  <a:cubicBezTo>
                    <a:pt x="17806" y="12625"/>
                    <a:pt x="17883" y="12418"/>
                    <a:pt x="17779" y="12276"/>
                  </a:cubicBezTo>
                  <a:cubicBezTo>
                    <a:pt x="17839" y="12305"/>
                    <a:pt x="17911" y="12266"/>
                    <a:pt x="17944" y="12212"/>
                  </a:cubicBezTo>
                  <a:cubicBezTo>
                    <a:pt x="17982" y="12163"/>
                    <a:pt x="17977" y="12109"/>
                    <a:pt x="17999" y="12045"/>
                  </a:cubicBezTo>
                  <a:cubicBezTo>
                    <a:pt x="18032" y="11942"/>
                    <a:pt x="18092" y="11863"/>
                    <a:pt x="18197" y="11799"/>
                  </a:cubicBezTo>
                  <a:cubicBezTo>
                    <a:pt x="18219" y="11829"/>
                    <a:pt x="18263" y="11863"/>
                    <a:pt x="18312" y="11883"/>
                  </a:cubicBezTo>
                  <a:cubicBezTo>
                    <a:pt x="18356" y="11770"/>
                    <a:pt x="18428" y="11666"/>
                    <a:pt x="18521" y="11583"/>
                  </a:cubicBezTo>
                  <a:cubicBezTo>
                    <a:pt x="18598" y="11563"/>
                    <a:pt x="18681" y="11534"/>
                    <a:pt x="18763" y="11509"/>
                  </a:cubicBezTo>
                  <a:cubicBezTo>
                    <a:pt x="18763" y="11376"/>
                    <a:pt x="18889" y="11273"/>
                    <a:pt x="19005" y="11190"/>
                  </a:cubicBezTo>
                  <a:cubicBezTo>
                    <a:pt x="19186" y="11067"/>
                    <a:pt x="19362" y="10934"/>
                    <a:pt x="19544" y="10811"/>
                  </a:cubicBezTo>
                  <a:cubicBezTo>
                    <a:pt x="19637" y="10747"/>
                    <a:pt x="19731" y="10674"/>
                    <a:pt x="19846" y="10654"/>
                  </a:cubicBezTo>
                  <a:cubicBezTo>
                    <a:pt x="19901" y="10644"/>
                    <a:pt x="19973" y="10634"/>
                    <a:pt x="20006" y="10605"/>
                  </a:cubicBezTo>
                  <a:cubicBezTo>
                    <a:pt x="20028" y="10570"/>
                    <a:pt x="20039" y="10541"/>
                    <a:pt x="20055" y="10511"/>
                  </a:cubicBezTo>
                  <a:cubicBezTo>
                    <a:pt x="20088" y="10408"/>
                    <a:pt x="20182" y="10315"/>
                    <a:pt x="20297" y="10261"/>
                  </a:cubicBezTo>
                  <a:cubicBezTo>
                    <a:pt x="20352" y="10241"/>
                    <a:pt x="20424" y="10231"/>
                    <a:pt x="20468" y="10192"/>
                  </a:cubicBezTo>
                  <a:cubicBezTo>
                    <a:pt x="20528" y="10128"/>
                    <a:pt x="20501" y="10035"/>
                    <a:pt x="20512" y="9966"/>
                  </a:cubicBezTo>
                  <a:cubicBezTo>
                    <a:pt x="20528" y="9882"/>
                    <a:pt x="20627" y="9799"/>
                    <a:pt x="20688" y="9853"/>
                  </a:cubicBezTo>
                  <a:cubicBezTo>
                    <a:pt x="20743" y="9715"/>
                    <a:pt x="20814" y="9583"/>
                    <a:pt x="20875" y="9450"/>
                  </a:cubicBezTo>
                  <a:cubicBezTo>
                    <a:pt x="20897" y="9406"/>
                    <a:pt x="20908" y="9366"/>
                    <a:pt x="20941" y="9337"/>
                  </a:cubicBezTo>
                  <a:cubicBezTo>
                    <a:pt x="20974" y="9293"/>
                    <a:pt x="21034" y="9273"/>
                    <a:pt x="21067" y="9243"/>
                  </a:cubicBezTo>
                  <a:cubicBezTo>
                    <a:pt x="21254" y="9086"/>
                    <a:pt x="21183" y="8801"/>
                    <a:pt x="21348" y="8624"/>
                  </a:cubicBezTo>
                  <a:cubicBezTo>
                    <a:pt x="21359" y="8605"/>
                    <a:pt x="21381" y="8595"/>
                    <a:pt x="21392" y="8570"/>
                  </a:cubicBezTo>
                  <a:cubicBezTo>
                    <a:pt x="21414" y="8541"/>
                    <a:pt x="21425" y="8501"/>
                    <a:pt x="21436" y="8457"/>
                  </a:cubicBezTo>
                  <a:cubicBezTo>
                    <a:pt x="21447" y="8388"/>
                    <a:pt x="21474" y="8315"/>
                    <a:pt x="21485" y="8241"/>
                  </a:cubicBezTo>
                  <a:cubicBezTo>
                    <a:pt x="21518" y="8098"/>
                    <a:pt x="21540" y="7921"/>
                    <a:pt x="21436" y="7808"/>
                  </a:cubicBezTo>
                  <a:cubicBezTo>
                    <a:pt x="21370" y="7931"/>
                    <a:pt x="21254" y="8034"/>
                    <a:pt x="21128" y="8118"/>
                  </a:cubicBezTo>
                  <a:cubicBezTo>
                    <a:pt x="21117" y="8079"/>
                    <a:pt x="21056" y="8059"/>
                    <a:pt x="21023" y="8069"/>
                  </a:cubicBezTo>
                  <a:cubicBezTo>
                    <a:pt x="20990" y="8079"/>
                    <a:pt x="20941" y="8108"/>
                    <a:pt x="20897" y="8118"/>
                  </a:cubicBezTo>
                  <a:cubicBezTo>
                    <a:pt x="20732" y="8192"/>
                    <a:pt x="20539" y="8108"/>
                    <a:pt x="20363" y="8147"/>
                  </a:cubicBezTo>
                  <a:cubicBezTo>
                    <a:pt x="20248" y="8182"/>
                    <a:pt x="20154" y="8265"/>
                    <a:pt x="20055" y="8295"/>
                  </a:cubicBezTo>
                  <a:cubicBezTo>
                    <a:pt x="19890" y="8344"/>
                    <a:pt x="19709" y="8295"/>
                    <a:pt x="19533" y="8315"/>
                  </a:cubicBezTo>
                  <a:cubicBezTo>
                    <a:pt x="19478" y="8324"/>
                    <a:pt x="19423" y="8334"/>
                    <a:pt x="19373" y="8324"/>
                  </a:cubicBezTo>
                  <a:cubicBezTo>
                    <a:pt x="19329" y="8315"/>
                    <a:pt x="19280" y="8241"/>
                    <a:pt x="19324" y="8211"/>
                  </a:cubicBezTo>
                  <a:cubicBezTo>
                    <a:pt x="19197" y="8251"/>
                    <a:pt x="19082" y="8128"/>
                    <a:pt x="19060" y="8005"/>
                  </a:cubicBezTo>
                  <a:cubicBezTo>
                    <a:pt x="19038" y="7892"/>
                    <a:pt x="19049" y="7759"/>
                    <a:pt x="18994" y="7656"/>
                  </a:cubicBezTo>
                  <a:cubicBezTo>
                    <a:pt x="18922" y="7646"/>
                    <a:pt x="18840" y="7695"/>
                    <a:pt x="18840" y="7769"/>
                  </a:cubicBezTo>
                  <a:cubicBezTo>
                    <a:pt x="18818" y="7725"/>
                    <a:pt x="18774" y="7685"/>
                    <a:pt x="18714" y="7676"/>
                  </a:cubicBezTo>
                  <a:cubicBezTo>
                    <a:pt x="18692" y="7592"/>
                    <a:pt x="18648" y="7509"/>
                    <a:pt x="18637" y="7430"/>
                  </a:cubicBezTo>
                  <a:cubicBezTo>
                    <a:pt x="18620" y="7396"/>
                    <a:pt x="18620" y="7356"/>
                    <a:pt x="18598" y="7337"/>
                  </a:cubicBezTo>
                  <a:cubicBezTo>
                    <a:pt x="18576" y="7302"/>
                    <a:pt x="18532" y="7292"/>
                    <a:pt x="18494" y="7302"/>
                  </a:cubicBezTo>
                  <a:cubicBezTo>
                    <a:pt x="18450" y="7214"/>
                    <a:pt x="18356" y="7150"/>
                    <a:pt x="18252" y="7086"/>
                  </a:cubicBezTo>
                  <a:cubicBezTo>
                    <a:pt x="18208" y="7056"/>
                    <a:pt x="18147" y="7027"/>
                    <a:pt x="18092" y="7027"/>
                  </a:cubicBezTo>
                  <a:cubicBezTo>
                    <a:pt x="18081" y="7027"/>
                    <a:pt x="18059" y="7027"/>
                    <a:pt x="18048" y="7017"/>
                  </a:cubicBezTo>
                  <a:cubicBezTo>
                    <a:pt x="18021" y="7007"/>
                    <a:pt x="18021" y="6983"/>
                    <a:pt x="18021" y="6963"/>
                  </a:cubicBezTo>
                  <a:cubicBezTo>
                    <a:pt x="17999" y="6850"/>
                    <a:pt x="17861" y="6776"/>
                    <a:pt x="17806" y="6673"/>
                  </a:cubicBezTo>
                  <a:cubicBezTo>
                    <a:pt x="17768" y="6614"/>
                    <a:pt x="17768" y="6540"/>
                    <a:pt x="17768" y="6467"/>
                  </a:cubicBezTo>
                  <a:cubicBezTo>
                    <a:pt x="17768" y="6417"/>
                    <a:pt x="17768" y="6368"/>
                    <a:pt x="17757" y="6314"/>
                  </a:cubicBezTo>
                  <a:cubicBezTo>
                    <a:pt x="17724" y="6221"/>
                    <a:pt x="17630" y="6162"/>
                    <a:pt x="17537" y="6118"/>
                  </a:cubicBezTo>
                  <a:cubicBezTo>
                    <a:pt x="17482" y="6098"/>
                    <a:pt x="17416" y="6093"/>
                    <a:pt x="17355" y="6059"/>
                  </a:cubicBezTo>
                  <a:cubicBezTo>
                    <a:pt x="17300" y="6029"/>
                    <a:pt x="17262" y="5965"/>
                    <a:pt x="17295" y="5911"/>
                  </a:cubicBezTo>
                  <a:cubicBezTo>
                    <a:pt x="17218" y="5921"/>
                    <a:pt x="17168" y="5842"/>
                    <a:pt x="17157" y="5779"/>
                  </a:cubicBezTo>
                  <a:cubicBezTo>
                    <a:pt x="17124" y="5646"/>
                    <a:pt x="17135" y="5508"/>
                    <a:pt x="17179" y="5376"/>
                  </a:cubicBezTo>
                  <a:cubicBezTo>
                    <a:pt x="17179" y="5366"/>
                    <a:pt x="17190" y="5346"/>
                    <a:pt x="17190" y="5336"/>
                  </a:cubicBezTo>
                  <a:cubicBezTo>
                    <a:pt x="17190" y="5326"/>
                    <a:pt x="17179" y="5317"/>
                    <a:pt x="17168" y="5302"/>
                  </a:cubicBezTo>
                  <a:cubicBezTo>
                    <a:pt x="17086" y="5233"/>
                    <a:pt x="17086" y="5130"/>
                    <a:pt x="17064" y="5036"/>
                  </a:cubicBezTo>
                  <a:cubicBezTo>
                    <a:pt x="17042" y="4943"/>
                    <a:pt x="16937" y="4840"/>
                    <a:pt x="16833" y="4879"/>
                  </a:cubicBezTo>
                  <a:cubicBezTo>
                    <a:pt x="16871" y="4776"/>
                    <a:pt x="16673" y="4717"/>
                    <a:pt x="16651" y="4604"/>
                  </a:cubicBezTo>
                  <a:cubicBezTo>
                    <a:pt x="16629" y="4481"/>
                    <a:pt x="16591" y="4343"/>
                    <a:pt x="16536" y="4230"/>
                  </a:cubicBezTo>
                  <a:lnTo>
                    <a:pt x="16222" y="3705"/>
                  </a:lnTo>
                  <a:cubicBezTo>
                    <a:pt x="16200" y="3665"/>
                    <a:pt x="16178" y="3611"/>
                    <a:pt x="16189" y="3572"/>
                  </a:cubicBezTo>
                  <a:cubicBezTo>
                    <a:pt x="16156" y="3479"/>
                    <a:pt x="16118" y="3385"/>
                    <a:pt x="16063" y="3316"/>
                  </a:cubicBezTo>
                  <a:cubicBezTo>
                    <a:pt x="16041" y="3292"/>
                    <a:pt x="16014" y="3262"/>
                    <a:pt x="16014" y="3233"/>
                  </a:cubicBezTo>
                  <a:cubicBezTo>
                    <a:pt x="16003" y="3198"/>
                    <a:pt x="16014" y="3169"/>
                    <a:pt x="16052" y="3149"/>
                  </a:cubicBezTo>
                  <a:cubicBezTo>
                    <a:pt x="16003" y="3110"/>
                    <a:pt x="15959" y="3066"/>
                    <a:pt x="15926" y="3017"/>
                  </a:cubicBezTo>
                  <a:cubicBezTo>
                    <a:pt x="15898" y="2982"/>
                    <a:pt x="15865" y="2962"/>
                    <a:pt x="15843" y="2923"/>
                  </a:cubicBezTo>
                  <a:cubicBezTo>
                    <a:pt x="15832" y="2894"/>
                    <a:pt x="15810" y="2869"/>
                    <a:pt x="15794" y="2840"/>
                  </a:cubicBezTo>
                  <a:cubicBezTo>
                    <a:pt x="15739" y="2697"/>
                    <a:pt x="15684" y="2550"/>
                    <a:pt x="15623" y="2417"/>
                  </a:cubicBezTo>
                  <a:cubicBezTo>
                    <a:pt x="15568" y="2284"/>
                    <a:pt x="15508" y="2137"/>
                    <a:pt x="15530" y="1994"/>
                  </a:cubicBezTo>
                  <a:cubicBezTo>
                    <a:pt x="15508" y="1955"/>
                    <a:pt x="15453" y="1945"/>
                    <a:pt x="15392" y="1945"/>
                  </a:cubicBezTo>
                  <a:cubicBezTo>
                    <a:pt x="15337" y="1955"/>
                    <a:pt x="15288" y="1975"/>
                    <a:pt x="15244" y="1975"/>
                  </a:cubicBezTo>
                  <a:cubicBezTo>
                    <a:pt x="15161" y="1975"/>
                    <a:pt x="15057" y="1945"/>
                    <a:pt x="15002" y="2004"/>
                  </a:cubicBezTo>
                  <a:cubicBezTo>
                    <a:pt x="14980" y="2034"/>
                    <a:pt x="14980" y="2078"/>
                    <a:pt x="14952" y="2107"/>
                  </a:cubicBezTo>
                  <a:cubicBezTo>
                    <a:pt x="14919" y="2161"/>
                    <a:pt x="14815" y="2171"/>
                    <a:pt x="14771" y="2117"/>
                  </a:cubicBezTo>
                  <a:cubicBezTo>
                    <a:pt x="14732" y="2152"/>
                    <a:pt x="14688" y="2152"/>
                    <a:pt x="14655" y="2127"/>
                  </a:cubicBezTo>
                  <a:cubicBezTo>
                    <a:pt x="14518" y="2048"/>
                    <a:pt x="14320" y="2058"/>
                    <a:pt x="14160" y="2004"/>
                  </a:cubicBezTo>
                  <a:lnTo>
                    <a:pt x="14017" y="1975"/>
                  </a:lnTo>
                  <a:cubicBezTo>
                    <a:pt x="14017" y="1930"/>
                    <a:pt x="13951" y="1955"/>
                    <a:pt x="13918" y="1965"/>
                  </a:cubicBezTo>
                  <a:cubicBezTo>
                    <a:pt x="13858" y="1975"/>
                    <a:pt x="13814" y="1945"/>
                    <a:pt x="13764" y="1911"/>
                  </a:cubicBezTo>
                  <a:cubicBezTo>
                    <a:pt x="13698" y="1871"/>
                    <a:pt x="13605" y="1862"/>
                    <a:pt x="13511" y="1871"/>
                  </a:cubicBezTo>
                  <a:lnTo>
                    <a:pt x="13456" y="1921"/>
                  </a:lnTo>
                  <a:cubicBezTo>
                    <a:pt x="13385" y="1842"/>
                    <a:pt x="13270" y="1778"/>
                    <a:pt x="13154" y="1778"/>
                  </a:cubicBezTo>
                  <a:cubicBezTo>
                    <a:pt x="13088" y="1778"/>
                    <a:pt x="13017" y="1788"/>
                    <a:pt x="12945" y="1788"/>
                  </a:cubicBezTo>
                  <a:cubicBezTo>
                    <a:pt x="12879" y="1788"/>
                    <a:pt x="12808" y="1773"/>
                    <a:pt x="12764" y="1729"/>
                  </a:cubicBezTo>
                  <a:cubicBezTo>
                    <a:pt x="12742" y="1709"/>
                    <a:pt x="12725" y="1675"/>
                    <a:pt x="12714" y="1655"/>
                  </a:cubicBezTo>
                  <a:cubicBezTo>
                    <a:pt x="12692" y="1636"/>
                    <a:pt x="12659" y="1611"/>
                    <a:pt x="12637" y="1636"/>
                  </a:cubicBezTo>
                  <a:cubicBezTo>
                    <a:pt x="12659" y="1601"/>
                    <a:pt x="12637" y="1552"/>
                    <a:pt x="12615" y="1522"/>
                  </a:cubicBezTo>
                  <a:cubicBezTo>
                    <a:pt x="12577" y="1488"/>
                    <a:pt x="12533" y="1478"/>
                    <a:pt x="12500" y="1459"/>
                  </a:cubicBezTo>
                  <a:cubicBezTo>
                    <a:pt x="12450" y="1449"/>
                    <a:pt x="12417" y="1429"/>
                    <a:pt x="12368" y="1439"/>
                  </a:cubicBezTo>
                  <a:cubicBezTo>
                    <a:pt x="12324" y="1449"/>
                    <a:pt x="12291" y="1478"/>
                    <a:pt x="12302" y="1522"/>
                  </a:cubicBezTo>
                  <a:cubicBezTo>
                    <a:pt x="12164" y="1581"/>
                    <a:pt x="11988" y="1601"/>
                    <a:pt x="11840" y="1572"/>
                  </a:cubicBezTo>
                  <a:cubicBezTo>
                    <a:pt x="11840" y="1601"/>
                    <a:pt x="11851" y="1636"/>
                    <a:pt x="11873" y="1655"/>
                  </a:cubicBezTo>
                  <a:cubicBezTo>
                    <a:pt x="11818" y="1626"/>
                    <a:pt x="11735" y="1655"/>
                    <a:pt x="11713" y="1704"/>
                  </a:cubicBezTo>
                  <a:cubicBezTo>
                    <a:pt x="11691" y="1758"/>
                    <a:pt x="11724" y="1827"/>
                    <a:pt x="11796" y="1852"/>
                  </a:cubicBezTo>
                  <a:cubicBezTo>
                    <a:pt x="11746" y="1852"/>
                    <a:pt x="11724" y="1916"/>
                    <a:pt x="11735" y="1955"/>
                  </a:cubicBezTo>
                  <a:cubicBezTo>
                    <a:pt x="11746" y="1999"/>
                    <a:pt x="11796" y="2024"/>
                    <a:pt x="11829" y="2048"/>
                  </a:cubicBezTo>
                  <a:lnTo>
                    <a:pt x="11796" y="2137"/>
                  </a:lnTo>
                  <a:cubicBezTo>
                    <a:pt x="11757" y="2117"/>
                    <a:pt x="11719" y="2142"/>
                    <a:pt x="11691" y="2171"/>
                  </a:cubicBezTo>
                  <a:cubicBezTo>
                    <a:pt x="11669" y="2206"/>
                    <a:pt x="11653" y="2240"/>
                    <a:pt x="11609" y="2250"/>
                  </a:cubicBezTo>
                  <a:cubicBezTo>
                    <a:pt x="11587" y="2265"/>
                    <a:pt x="11565" y="2265"/>
                    <a:pt x="11537" y="2274"/>
                  </a:cubicBezTo>
                  <a:cubicBezTo>
                    <a:pt x="11515" y="2284"/>
                    <a:pt x="11504" y="2314"/>
                    <a:pt x="11515" y="2324"/>
                  </a:cubicBezTo>
                  <a:cubicBezTo>
                    <a:pt x="11411" y="2353"/>
                    <a:pt x="11345" y="2230"/>
                    <a:pt x="11251" y="2181"/>
                  </a:cubicBezTo>
                  <a:cubicBezTo>
                    <a:pt x="11191" y="2161"/>
                    <a:pt x="11125" y="2152"/>
                    <a:pt x="11103" y="2097"/>
                  </a:cubicBezTo>
                  <a:cubicBezTo>
                    <a:pt x="11092" y="2078"/>
                    <a:pt x="11092" y="2068"/>
                    <a:pt x="11075" y="2048"/>
                  </a:cubicBezTo>
                  <a:cubicBezTo>
                    <a:pt x="11042" y="2004"/>
                    <a:pt x="10976" y="2024"/>
                    <a:pt x="10916" y="2048"/>
                  </a:cubicBezTo>
                  <a:cubicBezTo>
                    <a:pt x="10789" y="2078"/>
                    <a:pt x="10652" y="2048"/>
                    <a:pt x="10570" y="1955"/>
                  </a:cubicBezTo>
                  <a:cubicBezTo>
                    <a:pt x="10537" y="1975"/>
                    <a:pt x="10504" y="1994"/>
                    <a:pt x="10454" y="2014"/>
                  </a:cubicBezTo>
                  <a:cubicBezTo>
                    <a:pt x="10443" y="2024"/>
                    <a:pt x="10432" y="2024"/>
                    <a:pt x="10421" y="2024"/>
                  </a:cubicBezTo>
                  <a:cubicBezTo>
                    <a:pt x="10410" y="2024"/>
                    <a:pt x="10399" y="2014"/>
                    <a:pt x="10388" y="2004"/>
                  </a:cubicBezTo>
                  <a:cubicBezTo>
                    <a:pt x="10317" y="1930"/>
                    <a:pt x="10273" y="1842"/>
                    <a:pt x="10262" y="1749"/>
                  </a:cubicBezTo>
                  <a:cubicBezTo>
                    <a:pt x="10262" y="1729"/>
                    <a:pt x="10245" y="1704"/>
                    <a:pt x="10234" y="1685"/>
                  </a:cubicBezTo>
                  <a:cubicBezTo>
                    <a:pt x="10212" y="1665"/>
                    <a:pt x="10179" y="1655"/>
                    <a:pt x="10146" y="1655"/>
                  </a:cubicBezTo>
                  <a:cubicBezTo>
                    <a:pt x="10042" y="1645"/>
                    <a:pt x="9937" y="1645"/>
                    <a:pt x="9833" y="1636"/>
                  </a:cubicBezTo>
                  <a:cubicBezTo>
                    <a:pt x="9822" y="1508"/>
                    <a:pt x="9673" y="1429"/>
                    <a:pt x="9530" y="1459"/>
                  </a:cubicBezTo>
                  <a:cubicBezTo>
                    <a:pt x="9497" y="1468"/>
                    <a:pt x="9453" y="1488"/>
                    <a:pt x="9415" y="1488"/>
                  </a:cubicBezTo>
                  <a:cubicBezTo>
                    <a:pt x="9382" y="1488"/>
                    <a:pt x="9338" y="1468"/>
                    <a:pt x="9338" y="1429"/>
                  </a:cubicBezTo>
                  <a:cubicBezTo>
                    <a:pt x="9277" y="1449"/>
                    <a:pt x="9200" y="1429"/>
                    <a:pt x="9162" y="1375"/>
                  </a:cubicBezTo>
                  <a:cubicBezTo>
                    <a:pt x="9118" y="1395"/>
                    <a:pt x="9046" y="1395"/>
                    <a:pt x="9002" y="1365"/>
                  </a:cubicBezTo>
                  <a:cubicBezTo>
                    <a:pt x="8947" y="1336"/>
                    <a:pt x="8925" y="1272"/>
                    <a:pt x="8881" y="1223"/>
                  </a:cubicBezTo>
                  <a:cubicBezTo>
                    <a:pt x="8848" y="1169"/>
                    <a:pt x="8777" y="1129"/>
                    <a:pt x="8705" y="1139"/>
                  </a:cubicBezTo>
                  <a:cubicBezTo>
                    <a:pt x="8705" y="1169"/>
                    <a:pt x="8705" y="1203"/>
                    <a:pt x="8694" y="1242"/>
                  </a:cubicBezTo>
                  <a:cubicBezTo>
                    <a:pt x="8617" y="1159"/>
                    <a:pt x="8579" y="1056"/>
                    <a:pt x="8590" y="952"/>
                  </a:cubicBezTo>
                  <a:cubicBezTo>
                    <a:pt x="8639" y="982"/>
                    <a:pt x="8716" y="972"/>
                    <a:pt x="8766" y="933"/>
                  </a:cubicBezTo>
                  <a:cubicBezTo>
                    <a:pt x="8810" y="893"/>
                    <a:pt x="8799" y="820"/>
                    <a:pt x="8755" y="780"/>
                  </a:cubicBezTo>
                  <a:cubicBezTo>
                    <a:pt x="8788" y="756"/>
                    <a:pt x="8821" y="766"/>
                    <a:pt x="8859" y="780"/>
                  </a:cubicBezTo>
                  <a:cubicBezTo>
                    <a:pt x="8881" y="726"/>
                    <a:pt x="8903" y="662"/>
                    <a:pt x="8892" y="603"/>
                  </a:cubicBezTo>
                  <a:cubicBezTo>
                    <a:pt x="8766" y="584"/>
                    <a:pt x="8672" y="456"/>
                    <a:pt x="8694" y="343"/>
                  </a:cubicBezTo>
                  <a:cubicBezTo>
                    <a:pt x="8744" y="368"/>
                    <a:pt x="8793" y="343"/>
                    <a:pt x="8832" y="313"/>
                  </a:cubicBezTo>
                  <a:cubicBezTo>
                    <a:pt x="8865" y="284"/>
                    <a:pt x="8881" y="230"/>
                    <a:pt x="8892" y="191"/>
                  </a:cubicBezTo>
                  <a:cubicBezTo>
                    <a:pt x="8903" y="137"/>
                    <a:pt x="8914" y="78"/>
                    <a:pt x="8870" y="48"/>
                  </a:cubicBezTo>
                  <a:cubicBezTo>
                    <a:pt x="8832" y="14"/>
                    <a:pt x="8777" y="28"/>
                    <a:pt x="8733" y="48"/>
                  </a:cubicBezTo>
                  <a:cubicBezTo>
                    <a:pt x="8683" y="73"/>
                    <a:pt x="8634" y="97"/>
                    <a:pt x="8590" y="107"/>
                  </a:cubicBezTo>
                  <a:cubicBezTo>
                    <a:pt x="8540" y="117"/>
                    <a:pt x="8474" y="97"/>
                    <a:pt x="8463" y="58"/>
                  </a:cubicBezTo>
                  <a:cubicBezTo>
                    <a:pt x="8408" y="33"/>
                    <a:pt x="8348" y="14"/>
                    <a:pt x="8293" y="14"/>
                  </a:cubicBezTo>
                  <a:cubicBezTo>
                    <a:pt x="8232" y="14"/>
                    <a:pt x="8166" y="48"/>
                    <a:pt x="8155" y="97"/>
                  </a:cubicBezTo>
                  <a:cubicBezTo>
                    <a:pt x="8073" y="58"/>
                    <a:pt x="7980" y="48"/>
                    <a:pt x="7886" y="68"/>
                  </a:cubicBezTo>
                  <a:cubicBezTo>
                    <a:pt x="7864" y="78"/>
                    <a:pt x="7831" y="78"/>
                    <a:pt x="7809" y="68"/>
                  </a:cubicBezTo>
                  <a:cubicBezTo>
                    <a:pt x="7787" y="58"/>
                    <a:pt x="7760" y="33"/>
                    <a:pt x="7749" y="23"/>
                  </a:cubicBezTo>
                  <a:cubicBezTo>
                    <a:pt x="7705" y="-6"/>
                    <a:pt x="7644" y="-6"/>
                    <a:pt x="7600" y="14"/>
                  </a:cubicBezTo>
                  <a:cubicBezTo>
                    <a:pt x="7556" y="33"/>
                    <a:pt x="7518" y="78"/>
                    <a:pt x="7485" y="117"/>
                  </a:cubicBezTo>
                  <a:cubicBezTo>
                    <a:pt x="7474" y="127"/>
                    <a:pt x="7463" y="151"/>
                    <a:pt x="7441" y="161"/>
                  </a:cubicBezTo>
                  <a:lnTo>
                    <a:pt x="7391" y="161"/>
                  </a:lnTo>
                  <a:cubicBezTo>
                    <a:pt x="7287" y="151"/>
                    <a:pt x="7182" y="127"/>
                    <a:pt x="7094" y="97"/>
                  </a:cubicBezTo>
                  <a:cubicBezTo>
                    <a:pt x="7012" y="161"/>
                    <a:pt x="6885" y="171"/>
                    <a:pt x="6803" y="117"/>
                  </a:cubicBezTo>
                  <a:cubicBezTo>
                    <a:pt x="6759" y="97"/>
                    <a:pt x="6665" y="117"/>
                    <a:pt x="6621" y="137"/>
                  </a:cubicBezTo>
                  <a:cubicBezTo>
                    <a:pt x="6594" y="151"/>
                    <a:pt x="6583" y="161"/>
                    <a:pt x="6561" y="171"/>
                  </a:cubicBezTo>
                  <a:cubicBezTo>
                    <a:pt x="6506" y="191"/>
                    <a:pt x="6434" y="171"/>
                    <a:pt x="6379" y="161"/>
                  </a:cubicBezTo>
                  <a:cubicBezTo>
                    <a:pt x="6319" y="161"/>
                    <a:pt x="6236" y="210"/>
                    <a:pt x="6275" y="264"/>
                  </a:cubicBezTo>
                  <a:cubicBezTo>
                    <a:pt x="6170" y="230"/>
                    <a:pt x="6055" y="200"/>
                    <a:pt x="5950" y="171"/>
                  </a:cubicBezTo>
                  <a:cubicBezTo>
                    <a:pt x="5868" y="151"/>
                    <a:pt x="5763" y="122"/>
                    <a:pt x="5686" y="151"/>
                  </a:cubicBezTo>
                  <a:cubicBezTo>
                    <a:pt x="5604" y="186"/>
                    <a:pt x="5549" y="294"/>
                    <a:pt x="5615" y="343"/>
                  </a:cubicBezTo>
                  <a:cubicBezTo>
                    <a:pt x="5488" y="333"/>
                    <a:pt x="5351" y="377"/>
                    <a:pt x="5247" y="446"/>
                  </a:cubicBezTo>
                  <a:cubicBezTo>
                    <a:pt x="5236" y="456"/>
                    <a:pt x="5214" y="471"/>
                    <a:pt x="5192" y="481"/>
                  </a:cubicBezTo>
                  <a:cubicBezTo>
                    <a:pt x="5153" y="490"/>
                    <a:pt x="5109" y="471"/>
                    <a:pt x="5060" y="481"/>
                  </a:cubicBezTo>
                  <a:cubicBezTo>
                    <a:pt x="5016" y="490"/>
                    <a:pt x="4994" y="544"/>
                    <a:pt x="4972" y="584"/>
                  </a:cubicBezTo>
                  <a:cubicBezTo>
                    <a:pt x="4944" y="628"/>
                    <a:pt x="4900" y="677"/>
                    <a:pt x="4856" y="653"/>
                  </a:cubicBezTo>
                  <a:cubicBezTo>
                    <a:pt x="4829" y="643"/>
                    <a:pt x="4818" y="633"/>
                    <a:pt x="4796" y="633"/>
                  </a:cubicBezTo>
                  <a:cubicBezTo>
                    <a:pt x="4741" y="623"/>
                    <a:pt x="4719" y="707"/>
                    <a:pt x="4719" y="756"/>
                  </a:cubicBezTo>
                  <a:cubicBezTo>
                    <a:pt x="4669" y="780"/>
                    <a:pt x="4614" y="800"/>
                    <a:pt x="4565" y="790"/>
                  </a:cubicBezTo>
                  <a:cubicBezTo>
                    <a:pt x="4510" y="780"/>
                    <a:pt x="4471" y="716"/>
                    <a:pt x="4510" y="677"/>
                  </a:cubicBezTo>
                  <a:cubicBezTo>
                    <a:pt x="4449" y="643"/>
                    <a:pt x="4383" y="633"/>
                    <a:pt x="4312" y="643"/>
                  </a:cubicBezTo>
                  <a:cubicBezTo>
                    <a:pt x="4240" y="662"/>
                    <a:pt x="4163" y="707"/>
                    <a:pt x="4092" y="662"/>
                  </a:cubicBezTo>
                  <a:cubicBezTo>
                    <a:pt x="4059" y="643"/>
                    <a:pt x="4037" y="603"/>
                    <a:pt x="3998" y="594"/>
                  </a:cubicBezTo>
                  <a:cubicBezTo>
                    <a:pt x="3943" y="574"/>
                    <a:pt x="3883" y="613"/>
                    <a:pt x="3839" y="633"/>
                  </a:cubicBezTo>
                  <a:cubicBezTo>
                    <a:pt x="3784" y="653"/>
                    <a:pt x="3701" y="623"/>
                    <a:pt x="3712" y="584"/>
                  </a:cubicBezTo>
                  <a:cubicBezTo>
                    <a:pt x="3701" y="574"/>
                    <a:pt x="3679" y="574"/>
                    <a:pt x="3668" y="574"/>
                  </a:cubicBezTo>
                  <a:cubicBezTo>
                    <a:pt x="3657" y="574"/>
                    <a:pt x="3641" y="594"/>
                    <a:pt x="3619" y="594"/>
                  </a:cubicBezTo>
                  <a:cubicBezTo>
                    <a:pt x="3608" y="594"/>
                    <a:pt x="3586" y="594"/>
                    <a:pt x="3586" y="574"/>
                  </a:cubicBezTo>
                  <a:cubicBezTo>
                    <a:pt x="3487" y="603"/>
                    <a:pt x="3426" y="721"/>
                    <a:pt x="3481" y="800"/>
                  </a:cubicBezTo>
                  <a:close/>
                </a:path>
              </a:pathLst>
            </a:custGeom>
            <a:solidFill>
              <a:srgbClr val="a9a9a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15" name="Shape 3569"/>
            <p:cNvSpPr/>
            <p:nvPr/>
          </p:nvSpPr>
          <p:spPr>
            <a:xfrm>
              <a:off x="18596160" y="5810400"/>
              <a:ext cx="171720" cy="354240"/>
            </a:xfrm>
            <a:custGeom>
              <a:avLst/>
              <a:gdLst>
                <a:gd name="textAreaLeft" fmla="*/ 0 w 171720"/>
                <a:gd name="textAreaRight" fmla="*/ 172080 w 171720"/>
                <a:gd name="textAreaTop" fmla="*/ 0 h 354240"/>
                <a:gd name="textAreaBottom" fmla="*/ 354600 h 354240"/>
              </a:gdLst>
              <a:ahLst/>
              <a:rect l="textAreaLeft" t="textAreaTop" r="textAreaRight" b="textAreaBottom"/>
              <a:pathLst>
                <a:path w="21321" h="20780">
                  <a:moveTo>
                    <a:pt x="14700" y="1029"/>
                  </a:moveTo>
                  <a:cubicBezTo>
                    <a:pt x="13996" y="1567"/>
                    <a:pt x="13672" y="2207"/>
                    <a:pt x="13455" y="2847"/>
                  </a:cubicBezTo>
                  <a:cubicBezTo>
                    <a:pt x="13347" y="3179"/>
                    <a:pt x="13239" y="3563"/>
                    <a:pt x="12751" y="3819"/>
                  </a:cubicBezTo>
                  <a:cubicBezTo>
                    <a:pt x="12318" y="4101"/>
                    <a:pt x="11506" y="4229"/>
                    <a:pt x="10965" y="4075"/>
                  </a:cubicBezTo>
                  <a:cubicBezTo>
                    <a:pt x="9936" y="4561"/>
                    <a:pt x="8908" y="5047"/>
                    <a:pt x="7987" y="5534"/>
                  </a:cubicBezTo>
                  <a:cubicBezTo>
                    <a:pt x="7554" y="5303"/>
                    <a:pt x="6796" y="5483"/>
                    <a:pt x="6201" y="5636"/>
                  </a:cubicBezTo>
                  <a:cubicBezTo>
                    <a:pt x="5660" y="5790"/>
                    <a:pt x="4956" y="6020"/>
                    <a:pt x="4360" y="5841"/>
                  </a:cubicBezTo>
                  <a:cubicBezTo>
                    <a:pt x="4252" y="5790"/>
                    <a:pt x="4144" y="5738"/>
                    <a:pt x="4036" y="5738"/>
                  </a:cubicBezTo>
                  <a:cubicBezTo>
                    <a:pt x="3927" y="5738"/>
                    <a:pt x="3819" y="5790"/>
                    <a:pt x="3711" y="5841"/>
                  </a:cubicBezTo>
                  <a:cubicBezTo>
                    <a:pt x="3007" y="6225"/>
                    <a:pt x="2303" y="6557"/>
                    <a:pt x="1545" y="6916"/>
                  </a:cubicBezTo>
                  <a:cubicBezTo>
                    <a:pt x="1762" y="6967"/>
                    <a:pt x="1978" y="7044"/>
                    <a:pt x="2195" y="7095"/>
                  </a:cubicBezTo>
                  <a:cubicBezTo>
                    <a:pt x="1329" y="8119"/>
                    <a:pt x="1654" y="9398"/>
                    <a:pt x="3007" y="10320"/>
                  </a:cubicBezTo>
                  <a:cubicBezTo>
                    <a:pt x="3224" y="10473"/>
                    <a:pt x="3440" y="10575"/>
                    <a:pt x="3602" y="10780"/>
                  </a:cubicBezTo>
                  <a:cubicBezTo>
                    <a:pt x="3711" y="11062"/>
                    <a:pt x="3440" y="11318"/>
                    <a:pt x="3224" y="11599"/>
                  </a:cubicBezTo>
                  <a:cubicBezTo>
                    <a:pt x="2899" y="12085"/>
                    <a:pt x="2682" y="12674"/>
                    <a:pt x="2899" y="13211"/>
                  </a:cubicBezTo>
                  <a:cubicBezTo>
                    <a:pt x="2195" y="13032"/>
                    <a:pt x="1437" y="13160"/>
                    <a:pt x="950" y="13416"/>
                  </a:cubicBezTo>
                  <a:cubicBezTo>
                    <a:pt x="517" y="13698"/>
                    <a:pt x="408" y="14056"/>
                    <a:pt x="625" y="14389"/>
                  </a:cubicBezTo>
                  <a:cubicBezTo>
                    <a:pt x="733" y="14593"/>
                    <a:pt x="950" y="14773"/>
                    <a:pt x="950" y="14977"/>
                  </a:cubicBezTo>
                  <a:cubicBezTo>
                    <a:pt x="842" y="15412"/>
                    <a:pt x="-187" y="15720"/>
                    <a:pt x="30" y="16103"/>
                  </a:cubicBezTo>
                  <a:cubicBezTo>
                    <a:pt x="300" y="16487"/>
                    <a:pt x="1762" y="16641"/>
                    <a:pt x="1437" y="16974"/>
                  </a:cubicBezTo>
                  <a:cubicBezTo>
                    <a:pt x="1329" y="17127"/>
                    <a:pt x="842" y="17178"/>
                    <a:pt x="625" y="17281"/>
                  </a:cubicBezTo>
                  <a:cubicBezTo>
                    <a:pt x="192" y="17562"/>
                    <a:pt x="1058" y="17920"/>
                    <a:pt x="1329" y="18253"/>
                  </a:cubicBezTo>
                  <a:cubicBezTo>
                    <a:pt x="1437" y="18458"/>
                    <a:pt x="1166" y="18739"/>
                    <a:pt x="1329" y="18995"/>
                  </a:cubicBezTo>
                  <a:cubicBezTo>
                    <a:pt x="1545" y="19763"/>
                    <a:pt x="4144" y="19917"/>
                    <a:pt x="4360" y="20608"/>
                  </a:cubicBezTo>
                  <a:cubicBezTo>
                    <a:pt x="4956" y="20838"/>
                    <a:pt x="5714" y="20838"/>
                    <a:pt x="6201" y="20608"/>
                  </a:cubicBezTo>
                  <a:cubicBezTo>
                    <a:pt x="6742" y="20403"/>
                    <a:pt x="6851" y="20019"/>
                    <a:pt x="6418" y="19763"/>
                  </a:cubicBezTo>
                  <a:cubicBezTo>
                    <a:pt x="7446" y="19763"/>
                    <a:pt x="8366" y="19763"/>
                    <a:pt x="9341" y="19763"/>
                  </a:cubicBezTo>
                  <a:cubicBezTo>
                    <a:pt x="9720" y="19763"/>
                    <a:pt x="10045" y="19763"/>
                    <a:pt x="10369" y="19661"/>
                  </a:cubicBezTo>
                  <a:cubicBezTo>
                    <a:pt x="11290" y="19379"/>
                    <a:pt x="10857" y="18739"/>
                    <a:pt x="11290" y="18304"/>
                  </a:cubicBezTo>
                  <a:cubicBezTo>
                    <a:pt x="11777" y="17920"/>
                    <a:pt x="13022" y="17665"/>
                    <a:pt x="12914" y="17229"/>
                  </a:cubicBezTo>
                  <a:cubicBezTo>
                    <a:pt x="12751" y="17025"/>
                    <a:pt x="12210" y="16794"/>
                    <a:pt x="12210" y="16590"/>
                  </a:cubicBezTo>
                  <a:cubicBezTo>
                    <a:pt x="12210" y="16308"/>
                    <a:pt x="12751" y="16155"/>
                    <a:pt x="13239" y="16001"/>
                  </a:cubicBezTo>
                  <a:cubicBezTo>
                    <a:pt x="13672" y="15847"/>
                    <a:pt x="13780" y="15412"/>
                    <a:pt x="13239" y="15361"/>
                  </a:cubicBezTo>
                  <a:cubicBezTo>
                    <a:pt x="13888" y="15131"/>
                    <a:pt x="14267" y="14645"/>
                    <a:pt x="13888" y="14286"/>
                  </a:cubicBezTo>
                  <a:cubicBezTo>
                    <a:pt x="13780" y="14056"/>
                    <a:pt x="13455" y="13902"/>
                    <a:pt x="13563" y="13698"/>
                  </a:cubicBezTo>
                  <a:cubicBezTo>
                    <a:pt x="13672" y="13570"/>
                    <a:pt x="13780" y="13519"/>
                    <a:pt x="13996" y="13467"/>
                  </a:cubicBezTo>
                  <a:cubicBezTo>
                    <a:pt x="15621" y="12828"/>
                    <a:pt x="16649" y="11702"/>
                    <a:pt x="15512" y="10831"/>
                  </a:cubicBezTo>
                  <a:cubicBezTo>
                    <a:pt x="16270" y="10831"/>
                    <a:pt x="16974" y="10422"/>
                    <a:pt x="16757" y="10038"/>
                  </a:cubicBezTo>
                  <a:cubicBezTo>
                    <a:pt x="16649" y="9884"/>
                    <a:pt x="16433" y="9705"/>
                    <a:pt x="16649" y="9552"/>
                  </a:cubicBezTo>
                  <a:cubicBezTo>
                    <a:pt x="16866" y="9449"/>
                    <a:pt x="17190" y="9449"/>
                    <a:pt x="17407" y="9347"/>
                  </a:cubicBezTo>
                  <a:cubicBezTo>
                    <a:pt x="17786" y="9245"/>
                    <a:pt x="17678" y="9014"/>
                    <a:pt x="17407" y="8861"/>
                  </a:cubicBezTo>
                  <a:cubicBezTo>
                    <a:pt x="17190" y="8707"/>
                    <a:pt x="16974" y="8579"/>
                    <a:pt x="16757" y="8426"/>
                  </a:cubicBezTo>
                  <a:cubicBezTo>
                    <a:pt x="16270" y="7888"/>
                    <a:pt x="17678" y="7197"/>
                    <a:pt x="17082" y="6660"/>
                  </a:cubicBezTo>
                  <a:cubicBezTo>
                    <a:pt x="17786" y="6967"/>
                    <a:pt x="18923" y="7044"/>
                    <a:pt x="19681" y="6813"/>
                  </a:cubicBezTo>
                  <a:cubicBezTo>
                    <a:pt x="19464" y="6506"/>
                    <a:pt x="18815" y="6302"/>
                    <a:pt x="18327" y="5969"/>
                  </a:cubicBezTo>
                  <a:cubicBezTo>
                    <a:pt x="17894" y="5662"/>
                    <a:pt x="17786" y="5201"/>
                    <a:pt x="18436" y="5047"/>
                  </a:cubicBezTo>
                  <a:cubicBezTo>
                    <a:pt x="19031" y="5150"/>
                    <a:pt x="19572" y="5380"/>
                    <a:pt x="19789" y="5687"/>
                  </a:cubicBezTo>
                  <a:cubicBezTo>
                    <a:pt x="20060" y="5431"/>
                    <a:pt x="20709" y="5252"/>
                    <a:pt x="21305" y="5380"/>
                  </a:cubicBezTo>
                  <a:cubicBezTo>
                    <a:pt x="21413" y="4945"/>
                    <a:pt x="20926" y="4561"/>
                    <a:pt x="20709" y="4126"/>
                  </a:cubicBezTo>
                  <a:cubicBezTo>
                    <a:pt x="20493" y="3691"/>
                    <a:pt x="20493" y="3230"/>
                    <a:pt x="21196" y="2949"/>
                  </a:cubicBezTo>
                  <a:cubicBezTo>
                    <a:pt x="20384" y="2642"/>
                    <a:pt x="20276" y="2028"/>
                    <a:pt x="20384" y="1567"/>
                  </a:cubicBezTo>
                  <a:cubicBezTo>
                    <a:pt x="20493" y="1081"/>
                    <a:pt x="20709" y="543"/>
                    <a:pt x="20276" y="57"/>
                  </a:cubicBezTo>
                  <a:cubicBezTo>
                    <a:pt x="20276" y="6"/>
                    <a:pt x="18815" y="594"/>
                    <a:pt x="18706" y="646"/>
                  </a:cubicBezTo>
                  <a:cubicBezTo>
                    <a:pt x="18815" y="-762"/>
                    <a:pt x="15404" y="492"/>
                    <a:pt x="14700" y="1029"/>
                  </a:cubicBezTo>
                </a:path>
              </a:pathLst>
            </a:custGeom>
            <a:solidFill>
              <a:srgbClr val="a9a9a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16" name="Shape 3570"/>
            <p:cNvSpPr/>
            <p:nvPr/>
          </p:nvSpPr>
          <p:spPr>
            <a:xfrm>
              <a:off x="16880040" y="5063040"/>
              <a:ext cx="36360" cy="20160"/>
            </a:xfrm>
            <a:custGeom>
              <a:avLst/>
              <a:gdLst>
                <a:gd name="textAreaLeft" fmla="*/ 0 w 36360"/>
                <a:gd name="textAreaRight" fmla="*/ 36720 w 36360"/>
                <a:gd name="textAreaTop" fmla="*/ 0 h 20160"/>
                <a:gd name="textAreaBottom" fmla="*/ 20520 h 20160"/>
              </a:gdLst>
              <a:ahLst/>
              <a:rect l="textAreaLeft" t="textAreaTop" r="textAreaRight" b="textAreaBottom"/>
              <a:pathLst>
                <a:path w="20850" h="21600">
                  <a:moveTo>
                    <a:pt x="2512" y="16435"/>
                  </a:moveTo>
                  <a:cubicBezTo>
                    <a:pt x="4270" y="19722"/>
                    <a:pt x="6279" y="21600"/>
                    <a:pt x="8288" y="20661"/>
                  </a:cubicBezTo>
                  <a:cubicBezTo>
                    <a:pt x="9544" y="20661"/>
                    <a:pt x="10047" y="19722"/>
                    <a:pt x="11051" y="19722"/>
                  </a:cubicBezTo>
                  <a:cubicBezTo>
                    <a:pt x="12056" y="19722"/>
                    <a:pt x="12558" y="19722"/>
                    <a:pt x="13563" y="19722"/>
                  </a:cubicBezTo>
                  <a:cubicBezTo>
                    <a:pt x="15321" y="20661"/>
                    <a:pt x="17330" y="20661"/>
                    <a:pt x="18837" y="21600"/>
                  </a:cubicBezTo>
                  <a:cubicBezTo>
                    <a:pt x="21600" y="18783"/>
                    <a:pt x="21600" y="8922"/>
                    <a:pt x="18335" y="7043"/>
                  </a:cubicBezTo>
                  <a:cubicBezTo>
                    <a:pt x="17330" y="5635"/>
                    <a:pt x="15823" y="5635"/>
                    <a:pt x="14819" y="5635"/>
                  </a:cubicBezTo>
                  <a:cubicBezTo>
                    <a:pt x="12056" y="5635"/>
                    <a:pt x="10047" y="3757"/>
                    <a:pt x="7284" y="1878"/>
                  </a:cubicBezTo>
                  <a:cubicBezTo>
                    <a:pt x="6279" y="939"/>
                    <a:pt x="5274" y="0"/>
                    <a:pt x="4270" y="0"/>
                  </a:cubicBezTo>
                  <a:cubicBezTo>
                    <a:pt x="3014" y="0"/>
                    <a:pt x="1507" y="939"/>
                    <a:pt x="1005" y="2817"/>
                  </a:cubicBezTo>
                  <a:cubicBezTo>
                    <a:pt x="502" y="3757"/>
                    <a:pt x="1005" y="5635"/>
                    <a:pt x="1005" y="7043"/>
                  </a:cubicBezTo>
                  <a:cubicBezTo>
                    <a:pt x="502" y="7043"/>
                    <a:pt x="502" y="7043"/>
                    <a:pt x="0" y="7043"/>
                  </a:cubicBezTo>
                  <a:cubicBezTo>
                    <a:pt x="502" y="10800"/>
                    <a:pt x="1005" y="13617"/>
                    <a:pt x="2512" y="16435"/>
                  </a:cubicBezTo>
                </a:path>
              </a:pathLst>
            </a:custGeom>
            <a:solidFill>
              <a:srgbClr val="a9a9a9"/>
            </a:solidFill>
            <a:ln w="12700">
              <a:noFill/>
            </a:ln>
          </p:spPr>
          <p:style>
            <a:lnRef idx="0"/>
            <a:fillRef idx="0"/>
            <a:effectRef idx="0"/>
            <a:fontRef idx="minor"/>
          </p:style>
          <p:txBody>
            <a:bodyPr numCol="1" spcCol="0" lIns="45720" rIns="45720" tIns="10080" bIns="1008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6217" name="Shape 3572"/>
          <p:cNvSpPr/>
          <p:nvPr/>
        </p:nvSpPr>
        <p:spPr>
          <a:xfrm>
            <a:off x="15491880" y="5188320"/>
            <a:ext cx="1152720" cy="1992240"/>
          </a:xfrm>
          <a:custGeom>
            <a:avLst/>
            <a:gdLst>
              <a:gd name="textAreaLeft" fmla="*/ 0 w 1152720"/>
              <a:gd name="textAreaRight" fmla="*/ 1153080 w 1152720"/>
              <a:gd name="textAreaTop" fmla="*/ 0 h 1992240"/>
              <a:gd name="textAreaBottom" fmla="*/ 1992600 h 1992240"/>
            </a:gdLst>
            <a:ahLst/>
            <a:rect l="textAreaLeft" t="textAreaTop" r="textAreaRight" b="textAreaBottom"/>
            <a:pathLst>
              <a:path w="21600" h="21554">
                <a:moveTo>
                  <a:pt x="5976" y="341"/>
                </a:moveTo>
                <a:cubicBezTo>
                  <a:pt x="5804" y="289"/>
                  <a:pt x="5673" y="218"/>
                  <a:pt x="5518" y="152"/>
                </a:cubicBezTo>
                <a:cubicBezTo>
                  <a:pt x="5469" y="133"/>
                  <a:pt x="5412" y="110"/>
                  <a:pt x="5380" y="81"/>
                </a:cubicBezTo>
                <a:cubicBezTo>
                  <a:pt x="5224" y="11"/>
                  <a:pt x="4971" y="-46"/>
                  <a:pt x="4865" y="53"/>
                </a:cubicBezTo>
                <a:cubicBezTo>
                  <a:pt x="4816" y="110"/>
                  <a:pt x="4865" y="180"/>
                  <a:pt x="4914" y="242"/>
                </a:cubicBezTo>
                <a:cubicBezTo>
                  <a:pt x="4816" y="350"/>
                  <a:pt x="4571" y="397"/>
                  <a:pt x="4384" y="360"/>
                </a:cubicBezTo>
                <a:cubicBezTo>
                  <a:pt x="4318" y="260"/>
                  <a:pt x="4351" y="143"/>
                  <a:pt x="4457" y="62"/>
                </a:cubicBezTo>
                <a:cubicBezTo>
                  <a:pt x="4441" y="11"/>
                  <a:pt x="4286" y="25"/>
                  <a:pt x="4229" y="72"/>
                </a:cubicBezTo>
                <a:cubicBezTo>
                  <a:pt x="4180" y="110"/>
                  <a:pt x="4163" y="171"/>
                  <a:pt x="4114" y="209"/>
                </a:cubicBezTo>
                <a:cubicBezTo>
                  <a:pt x="4008" y="270"/>
                  <a:pt x="3837" y="251"/>
                  <a:pt x="3698" y="242"/>
                </a:cubicBezTo>
                <a:cubicBezTo>
                  <a:pt x="3412" y="232"/>
                  <a:pt x="3135" y="308"/>
                  <a:pt x="2882" y="388"/>
                </a:cubicBezTo>
                <a:cubicBezTo>
                  <a:pt x="2743" y="430"/>
                  <a:pt x="2571" y="487"/>
                  <a:pt x="2539" y="576"/>
                </a:cubicBezTo>
                <a:cubicBezTo>
                  <a:pt x="2522" y="614"/>
                  <a:pt x="2522" y="657"/>
                  <a:pt x="2506" y="694"/>
                </a:cubicBezTo>
                <a:cubicBezTo>
                  <a:pt x="2449" y="774"/>
                  <a:pt x="2294" y="817"/>
                  <a:pt x="2180" y="864"/>
                </a:cubicBezTo>
                <a:cubicBezTo>
                  <a:pt x="2057" y="916"/>
                  <a:pt x="1976" y="1029"/>
                  <a:pt x="2090" y="1081"/>
                </a:cubicBezTo>
                <a:cubicBezTo>
                  <a:pt x="1853" y="1090"/>
                  <a:pt x="1633" y="1270"/>
                  <a:pt x="1592" y="1406"/>
                </a:cubicBezTo>
                <a:cubicBezTo>
                  <a:pt x="1576" y="1468"/>
                  <a:pt x="1576" y="1534"/>
                  <a:pt x="1576" y="1595"/>
                </a:cubicBezTo>
                <a:cubicBezTo>
                  <a:pt x="1576" y="1684"/>
                  <a:pt x="1616" y="1774"/>
                  <a:pt x="1592" y="1873"/>
                </a:cubicBezTo>
                <a:cubicBezTo>
                  <a:pt x="1649" y="1882"/>
                  <a:pt x="1682" y="1901"/>
                  <a:pt x="1731" y="1911"/>
                </a:cubicBezTo>
                <a:cubicBezTo>
                  <a:pt x="1747" y="1991"/>
                  <a:pt x="1731" y="2071"/>
                  <a:pt x="1714" y="2151"/>
                </a:cubicBezTo>
                <a:cubicBezTo>
                  <a:pt x="1853" y="2151"/>
                  <a:pt x="1902" y="2250"/>
                  <a:pt x="1886" y="2326"/>
                </a:cubicBezTo>
                <a:cubicBezTo>
                  <a:pt x="1837" y="2467"/>
                  <a:pt x="1665" y="2576"/>
                  <a:pt x="1461" y="2623"/>
                </a:cubicBezTo>
                <a:cubicBezTo>
                  <a:pt x="1388" y="2632"/>
                  <a:pt x="1322" y="2642"/>
                  <a:pt x="1273" y="2675"/>
                </a:cubicBezTo>
                <a:cubicBezTo>
                  <a:pt x="1184" y="2722"/>
                  <a:pt x="1200" y="2807"/>
                  <a:pt x="1200" y="2873"/>
                </a:cubicBezTo>
                <a:cubicBezTo>
                  <a:pt x="1200" y="2943"/>
                  <a:pt x="1102" y="3028"/>
                  <a:pt x="996" y="3000"/>
                </a:cubicBezTo>
                <a:cubicBezTo>
                  <a:pt x="1045" y="3108"/>
                  <a:pt x="743" y="3189"/>
                  <a:pt x="620" y="3108"/>
                </a:cubicBezTo>
                <a:cubicBezTo>
                  <a:pt x="702" y="3198"/>
                  <a:pt x="588" y="3297"/>
                  <a:pt x="449" y="3354"/>
                </a:cubicBezTo>
                <a:cubicBezTo>
                  <a:pt x="310" y="3415"/>
                  <a:pt x="155" y="3467"/>
                  <a:pt x="106" y="3566"/>
                </a:cubicBezTo>
                <a:cubicBezTo>
                  <a:pt x="155" y="3585"/>
                  <a:pt x="212" y="3604"/>
                  <a:pt x="278" y="3622"/>
                </a:cubicBezTo>
                <a:cubicBezTo>
                  <a:pt x="229" y="3721"/>
                  <a:pt x="155" y="3820"/>
                  <a:pt x="106" y="3910"/>
                </a:cubicBezTo>
                <a:cubicBezTo>
                  <a:pt x="310" y="3919"/>
                  <a:pt x="482" y="3990"/>
                  <a:pt x="588" y="4089"/>
                </a:cubicBezTo>
                <a:cubicBezTo>
                  <a:pt x="653" y="4155"/>
                  <a:pt x="669" y="4245"/>
                  <a:pt x="604" y="4306"/>
                </a:cubicBezTo>
                <a:cubicBezTo>
                  <a:pt x="531" y="4377"/>
                  <a:pt x="359" y="4405"/>
                  <a:pt x="261" y="4344"/>
                </a:cubicBezTo>
                <a:cubicBezTo>
                  <a:pt x="229" y="4523"/>
                  <a:pt x="122" y="4702"/>
                  <a:pt x="0" y="4867"/>
                </a:cubicBezTo>
                <a:cubicBezTo>
                  <a:pt x="155" y="4910"/>
                  <a:pt x="310" y="4947"/>
                  <a:pt x="449" y="4990"/>
                </a:cubicBezTo>
                <a:cubicBezTo>
                  <a:pt x="498" y="5216"/>
                  <a:pt x="996" y="5306"/>
                  <a:pt x="1151" y="5513"/>
                </a:cubicBezTo>
                <a:cubicBezTo>
                  <a:pt x="1200" y="5603"/>
                  <a:pt x="1200" y="5692"/>
                  <a:pt x="1216" y="5777"/>
                </a:cubicBezTo>
                <a:cubicBezTo>
                  <a:pt x="1249" y="5867"/>
                  <a:pt x="1322" y="5966"/>
                  <a:pt x="1478" y="5985"/>
                </a:cubicBezTo>
                <a:cubicBezTo>
                  <a:pt x="1527" y="5999"/>
                  <a:pt x="1576" y="5999"/>
                  <a:pt x="1633" y="6008"/>
                </a:cubicBezTo>
                <a:cubicBezTo>
                  <a:pt x="1714" y="6027"/>
                  <a:pt x="1747" y="6098"/>
                  <a:pt x="1763" y="6145"/>
                </a:cubicBezTo>
                <a:cubicBezTo>
                  <a:pt x="1820" y="6272"/>
                  <a:pt x="1853" y="6404"/>
                  <a:pt x="1902" y="6541"/>
                </a:cubicBezTo>
                <a:cubicBezTo>
                  <a:pt x="1918" y="6569"/>
                  <a:pt x="1918" y="6602"/>
                  <a:pt x="1976" y="6621"/>
                </a:cubicBezTo>
                <a:cubicBezTo>
                  <a:pt x="2024" y="6640"/>
                  <a:pt x="2090" y="6631"/>
                  <a:pt x="2147" y="6640"/>
                </a:cubicBezTo>
                <a:cubicBezTo>
                  <a:pt x="2294" y="6668"/>
                  <a:pt x="2294" y="6800"/>
                  <a:pt x="2261" y="6885"/>
                </a:cubicBezTo>
                <a:cubicBezTo>
                  <a:pt x="2229" y="6975"/>
                  <a:pt x="2318" y="7116"/>
                  <a:pt x="2490" y="7093"/>
                </a:cubicBezTo>
                <a:cubicBezTo>
                  <a:pt x="2433" y="7225"/>
                  <a:pt x="2522" y="7361"/>
                  <a:pt x="2710" y="7432"/>
                </a:cubicBezTo>
                <a:cubicBezTo>
                  <a:pt x="2931" y="7512"/>
                  <a:pt x="3208" y="7569"/>
                  <a:pt x="3461" y="7560"/>
                </a:cubicBezTo>
                <a:lnTo>
                  <a:pt x="3510" y="7710"/>
                </a:lnTo>
                <a:cubicBezTo>
                  <a:pt x="3739" y="7767"/>
                  <a:pt x="3976" y="7828"/>
                  <a:pt x="4196" y="7885"/>
                </a:cubicBezTo>
                <a:cubicBezTo>
                  <a:pt x="4163" y="7937"/>
                  <a:pt x="4196" y="8003"/>
                  <a:pt x="4286" y="8036"/>
                </a:cubicBezTo>
                <a:cubicBezTo>
                  <a:pt x="4335" y="8055"/>
                  <a:pt x="4384" y="8055"/>
                  <a:pt x="4441" y="8064"/>
                </a:cubicBezTo>
                <a:cubicBezTo>
                  <a:pt x="4694" y="8116"/>
                  <a:pt x="4882" y="8253"/>
                  <a:pt x="5053" y="8380"/>
                </a:cubicBezTo>
                <a:cubicBezTo>
                  <a:pt x="5086" y="8408"/>
                  <a:pt x="5143" y="8451"/>
                  <a:pt x="5127" y="8498"/>
                </a:cubicBezTo>
                <a:cubicBezTo>
                  <a:pt x="5102" y="8550"/>
                  <a:pt x="5004" y="8587"/>
                  <a:pt x="5004" y="8639"/>
                </a:cubicBezTo>
                <a:cubicBezTo>
                  <a:pt x="5020" y="8686"/>
                  <a:pt x="5127" y="8705"/>
                  <a:pt x="5192" y="8748"/>
                </a:cubicBezTo>
                <a:cubicBezTo>
                  <a:pt x="5347" y="8847"/>
                  <a:pt x="5143" y="8993"/>
                  <a:pt x="5176" y="9120"/>
                </a:cubicBezTo>
                <a:cubicBezTo>
                  <a:pt x="5192" y="9172"/>
                  <a:pt x="5241" y="9219"/>
                  <a:pt x="5257" y="9281"/>
                </a:cubicBezTo>
                <a:cubicBezTo>
                  <a:pt x="5314" y="9431"/>
                  <a:pt x="5020" y="9568"/>
                  <a:pt x="5069" y="9714"/>
                </a:cubicBezTo>
                <a:cubicBezTo>
                  <a:pt x="5086" y="9785"/>
                  <a:pt x="5176" y="9837"/>
                  <a:pt x="5208" y="9893"/>
                </a:cubicBezTo>
                <a:cubicBezTo>
                  <a:pt x="5257" y="9955"/>
                  <a:pt x="5257" y="10044"/>
                  <a:pt x="5176" y="10082"/>
                </a:cubicBezTo>
                <a:cubicBezTo>
                  <a:pt x="5143" y="10101"/>
                  <a:pt x="5086" y="10101"/>
                  <a:pt x="5053" y="10120"/>
                </a:cubicBezTo>
                <a:cubicBezTo>
                  <a:pt x="5004" y="10143"/>
                  <a:pt x="4988" y="10181"/>
                  <a:pt x="4971" y="10219"/>
                </a:cubicBezTo>
                <a:cubicBezTo>
                  <a:pt x="4914" y="10370"/>
                  <a:pt x="4898" y="10516"/>
                  <a:pt x="4931" y="10676"/>
                </a:cubicBezTo>
                <a:cubicBezTo>
                  <a:pt x="4955" y="10747"/>
                  <a:pt x="4971" y="10813"/>
                  <a:pt x="4914" y="10874"/>
                </a:cubicBezTo>
                <a:cubicBezTo>
                  <a:pt x="4849" y="10931"/>
                  <a:pt x="4710" y="10964"/>
                  <a:pt x="4678" y="11020"/>
                </a:cubicBezTo>
                <a:cubicBezTo>
                  <a:pt x="4645" y="11072"/>
                  <a:pt x="4678" y="11119"/>
                  <a:pt x="4694" y="11171"/>
                </a:cubicBezTo>
                <a:cubicBezTo>
                  <a:pt x="4784" y="11360"/>
                  <a:pt x="4694" y="11577"/>
                  <a:pt x="4473" y="11723"/>
                </a:cubicBezTo>
                <a:cubicBezTo>
                  <a:pt x="4539" y="11756"/>
                  <a:pt x="4571" y="11822"/>
                  <a:pt x="4571" y="11874"/>
                </a:cubicBezTo>
                <a:cubicBezTo>
                  <a:pt x="4441" y="11930"/>
                  <a:pt x="4318" y="12001"/>
                  <a:pt x="4229" y="12081"/>
                </a:cubicBezTo>
                <a:cubicBezTo>
                  <a:pt x="4335" y="12110"/>
                  <a:pt x="4441" y="12138"/>
                  <a:pt x="4522" y="12171"/>
                </a:cubicBezTo>
                <a:cubicBezTo>
                  <a:pt x="4522" y="12378"/>
                  <a:pt x="4473" y="12586"/>
                  <a:pt x="4424" y="12784"/>
                </a:cubicBezTo>
                <a:cubicBezTo>
                  <a:pt x="4400" y="12822"/>
                  <a:pt x="4400" y="12859"/>
                  <a:pt x="4384" y="12902"/>
                </a:cubicBezTo>
                <a:cubicBezTo>
                  <a:pt x="4318" y="13119"/>
                  <a:pt x="4269" y="13345"/>
                  <a:pt x="4196" y="13562"/>
                </a:cubicBezTo>
                <a:lnTo>
                  <a:pt x="3992" y="13595"/>
                </a:lnTo>
                <a:cubicBezTo>
                  <a:pt x="4131" y="13670"/>
                  <a:pt x="4090" y="13812"/>
                  <a:pt x="3992" y="13911"/>
                </a:cubicBezTo>
                <a:cubicBezTo>
                  <a:pt x="3886" y="14010"/>
                  <a:pt x="3755" y="14090"/>
                  <a:pt x="3665" y="14189"/>
                </a:cubicBezTo>
                <a:cubicBezTo>
                  <a:pt x="3527" y="14373"/>
                  <a:pt x="3649" y="14580"/>
                  <a:pt x="3771" y="14769"/>
                </a:cubicBezTo>
                <a:cubicBezTo>
                  <a:pt x="3804" y="14821"/>
                  <a:pt x="3837" y="14868"/>
                  <a:pt x="3853" y="14920"/>
                </a:cubicBezTo>
                <a:cubicBezTo>
                  <a:pt x="3273" y="15226"/>
                  <a:pt x="3722" y="15858"/>
                  <a:pt x="3208" y="16193"/>
                </a:cubicBezTo>
                <a:cubicBezTo>
                  <a:pt x="3445" y="16245"/>
                  <a:pt x="3739" y="16193"/>
                  <a:pt x="3869" y="16066"/>
                </a:cubicBezTo>
                <a:cubicBezTo>
                  <a:pt x="3788" y="16235"/>
                  <a:pt x="3682" y="16400"/>
                  <a:pt x="3600" y="16561"/>
                </a:cubicBezTo>
                <a:cubicBezTo>
                  <a:pt x="3461" y="16580"/>
                  <a:pt x="3306" y="16570"/>
                  <a:pt x="3192" y="16523"/>
                </a:cubicBezTo>
                <a:cubicBezTo>
                  <a:pt x="3167" y="16688"/>
                  <a:pt x="3151" y="16867"/>
                  <a:pt x="3135" y="17037"/>
                </a:cubicBezTo>
                <a:cubicBezTo>
                  <a:pt x="2947" y="16976"/>
                  <a:pt x="2776" y="17145"/>
                  <a:pt x="2792" y="17273"/>
                </a:cubicBezTo>
                <a:cubicBezTo>
                  <a:pt x="2808" y="17400"/>
                  <a:pt x="2882" y="17551"/>
                  <a:pt x="2727" y="17640"/>
                </a:cubicBezTo>
                <a:cubicBezTo>
                  <a:pt x="2898" y="17598"/>
                  <a:pt x="3118" y="17640"/>
                  <a:pt x="3224" y="17739"/>
                </a:cubicBezTo>
                <a:cubicBezTo>
                  <a:pt x="3322" y="17838"/>
                  <a:pt x="3273" y="17966"/>
                  <a:pt x="3118" y="18037"/>
                </a:cubicBezTo>
                <a:cubicBezTo>
                  <a:pt x="2980" y="18046"/>
                  <a:pt x="2824" y="18046"/>
                  <a:pt x="2694" y="18055"/>
                </a:cubicBezTo>
                <a:cubicBezTo>
                  <a:pt x="2743" y="18282"/>
                  <a:pt x="2792" y="18508"/>
                  <a:pt x="2849" y="18748"/>
                </a:cubicBezTo>
                <a:cubicBezTo>
                  <a:pt x="2865" y="18805"/>
                  <a:pt x="2865" y="18857"/>
                  <a:pt x="2882" y="18914"/>
                </a:cubicBezTo>
                <a:cubicBezTo>
                  <a:pt x="2931" y="19130"/>
                  <a:pt x="2980" y="19352"/>
                  <a:pt x="2963" y="19578"/>
                </a:cubicBezTo>
                <a:cubicBezTo>
                  <a:pt x="2947" y="19715"/>
                  <a:pt x="2931" y="19847"/>
                  <a:pt x="2980" y="19974"/>
                </a:cubicBezTo>
                <a:cubicBezTo>
                  <a:pt x="3053" y="20102"/>
                  <a:pt x="3241" y="20220"/>
                  <a:pt x="3478" y="20210"/>
                </a:cubicBezTo>
                <a:cubicBezTo>
                  <a:pt x="3445" y="20361"/>
                  <a:pt x="3445" y="20559"/>
                  <a:pt x="3682" y="20616"/>
                </a:cubicBezTo>
                <a:cubicBezTo>
                  <a:pt x="3755" y="20635"/>
                  <a:pt x="3853" y="20635"/>
                  <a:pt x="3927" y="20658"/>
                </a:cubicBezTo>
                <a:cubicBezTo>
                  <a:pt x="4065" y="20696"/>
                  <a:pt x="4131" y="20795"/>
                  <a:pt x="4180" y="20875"/>
                </a:cubicBezTo>
                <a:cubicBezTo>
                  <a:pt x="4931" y="21101"/>
                  <a:pt x="5690" y="21328"/>
                  <a:pt x="6424" y="21554"/>
                </a:cubicBezTo>
                <a:cubicBezTo>
                  <a:pt x="6376" y="21347"/>
                  <a:pt x="6767" y="21205"/>
                  <a:pt x="7127" y="21172"/>
                </a:cubicBezTo>
                <a:cubicBezTo>
                  <a:pt x="7486" y="21144"/>
                  <a:pt x="7878" y="21130"/>
                  <a:pt x="8139" y="20993"/>
                </a:cubicBezTo>
                <a:cubicBezTo>
                  <a:pt x="7747" y="20875"/>
                  <a:pt x="7265" y="20875"/>
                  <a:pt x="6833" y="20804"/>
                </a:cubicBezTo>
                <a:cubicBezTo>
                  <a:pt x="6408" y="20734"/>
                  <a:pt x="5943" y="20569"/>
                  <a:pt x="5910" y="20309"/>
                </a:cubicBezTo>
                <a:cubicBezTo>
                  <a:pt x="5788" y="20352"/>
                  <a:pt x="5657" y="20290"/>
                  <a:pt x="5600" y="20210"/>
                </a:cubicBezTo>
                <a:cubicBezTo>
                  <a:pt x="5567" y="20139"/>
                  <a:pt x="5600" y="20064"/>
                  <a:pt x="5616" y="19984"/>
                </a:cubicBezTo>
                <a:cubicBezTo>
                  <a:pt x="5706" y="19734"/>
                  <a:pt x="5641" y="19479"/>
                  <a:pt x="5445" y="19253"/>
                </a:cubicBezTo>
                <a:cubicBezTo>
                  <a:pt x="5535" y="19229"/>
                  <a:pt x="5641" y="19201"/>
                  <a:pt x="5722" y="19182"/>
                </a:cubicBezTo>
                <a:cubicBezTo>
                  <a:pt x="5722" y="19102"/>
                  <a:pt x="5706" y="19031"/>
                  <a:pt x="5706" y="18956"/>
                </a:cubicBezTo>
                <a:cubicBezTo>
                  <a:pt x="5804" y="18914"/>
                  <a:pt x="5943" y="18904"/>
                  <a:pt x="6065" y="18923"/>
                </a:cubicBezTo>
                <a:cubicBezTo>
                  <a:pt x="6302" y="18866"/>
                  <a:pt x="6033" y="18626"/>
                  <a:pt x="6171" y="18499"/>
                </a:cubicBezTo>
                <a:cubicBezTo>
                  <a:pt x="6220" y="18451"/>
                  <a:pt x="6302" y="18433"/>
                  <a:pt x="6392" y="18400"/>
                </a:cubicBezTo>
                <a:cubicBezTo>
                  <a:pt x="6784" y="18272"/>
                  <a:pt x="7078" y="18037"/>
                  <a:pt x="7127" y="17777"/>
                </a:cubicBezTo>
                <a:cubicBezTo>
                  <a:pt x="6800" y="17749"/>
                  <a:pt x="6473" y="17678"/>
                  <a:pt x="6188" y="17589"/>
                </a:cubicBezTo>
                <a:cubicBezTo>
                  <a:pt x="6082" y="17560"/>
                  <a:pt x="5976" y="17523"/>
                  <a:pt x="5943" y="17452"/>
                </a:cubicBezTo>
                <a:cubicBezTo>
                  <a:pt x="5829" y="17244"/>
                  <a:pt x="6457" y="17136"/>
                  <a:pt x="6506" y="16919"/>
                </a:cubicBezTo>
                <a:cubicBezTo>
                  <a:pt x="6751" y="16858"/>
                  <a:pt x="7020" y="16848"/>
                  <a:pt x="7265" y="16886"/>
                </a:cubicBezTo>
                <a:cubicBezTo>
                  <a:pt x="7331" y="16829"/>
                  <a:pt x="7420" y="16768"/>
                  <a:pt x="7486" y="16712"/>
                </a:cubicBezTo>
                <a:cubicBezTo>
                  <a:pt x="7380" y="16712"/>
                  <a:pt x="7322" y="16622"/>
                  <a:pt x="7363" y="16570"/>
                </a:cubicBezTo>
                <a:cubicBezTo>
                  <a:pt x="7396" y="16523"/>
                  <a:pt x="7469" y="16462"/>
                  <a:pt x="7469" y="16400"/>
                </a:cubicBezTo>
                <a:cubicBezTo>
                  <a:pt x="7469" y="16325"/>
                  <a:pt x="7347" y="16235"/>
                  <a:pt x="7420" y="16165"/>
                </a:cubicBezTo>
                <a:cubicBezTo>
                  <a:pt x="7706" y="16146"/>
                  <a:pt x="8000" y="16155"/>
                  <a:pt x="8294" y="16193"/>
                </a:cubicBezTo>
                <a:cubicBezTo>
                  <a:pt x="8188" y="16094"/>
                  <a:pt x="8122" y="15976"/>
                  <a:pt x="8122" y="15868"/>
                </a:cubicBezTo>
                <a:cubicBezTo>
                  <a:pt x="7935" y="15948"/>
                  <a:pt x="7633" y="15858"/>
                  <a:pt x="7535" y="15740"/>
                </a:cubicBezTo>
                <a:cubicBezTo>
                  <a:pt x="7429" y="15622"/>
                  <a:pt x="7469" y="15471"/>
                  <a:pt x="7486" y="15344"/>
                </a:cubicBezTo>
                <a:cubicBezTo>
                  <a:pt x="7706" y="15382"/>
                  <a:pt x="7918" y="15443"/>
                  <a:pt x="8139" y="15462"/>
                </a:cubicBezTo>
                <a:cubicBezTo>
                  <a:pt x="8359" y="15481"/>
                  <a:pt x="8637" y="15424"/>
                  <a:pt x="8702" y="15297"/>
                </a:cubicBezTo>
                <a:cubicBezTo>
                  <a:pt x="8751" y="15306"/>
                  <a:pt x="8808" y="15316"/>
                  <a:pt x="8857" y="15335"/>
                </a:cubicBezTo>
                <a:cubicBezTo>
                  <a:pt x="8922" y="15198"/>
                  <a:pt x="8857" y="15047"/>
                  <a:pt x="8686" y="14948"/>
                </a:cubicBezTo>
                <a:cubicBezTo>
                  <a:pt x="8922" y="14877"/>
                  <a:pt x="9094" y="14722"/>
                  <a:pt x="9078" y="14561"/>
                </a:cubicBezTo>
                <a:cubicBezTo>
                  <a:pt x="9200" y="14514"/>
                  <a:pt x="9322" y="14623"/>
                  <a:pt x="9453" y="14651"/>
                </a:cubicBezTo>
                <a:cubicBezTo>
                  <a:pt x="9641" y="14693"/>
                  <a:pt x="9812" y="14580"/>
                  <a:pt x="9918" y="14486"/>
                </a:cubicBezTo>
                <a:cubicBezTo>
                  <a:pt x="10041" y="14594"/>
                  <a:pt x="10310" y="14571"/>
                  <a:pt x="10514" y="14543"/>
                </a:cubicBezTo>
                <a:cubicBezTo>
                  <a:pt x="10637" y="14524"/>
                  <a:pt x="10776" y="14505"/>
                  <a:pt x="10873" y="14462"/>
                </a:cubicBezTo>
                <a:cubicBezTo>
                  <a:pt x="11069" y="14396"/>
                  <a:pt x="11167" y="14264"/>
                  <a:pt x="11257" y="14147"/>
                </a:cubicBezTo>
                <a:cubicBezTo>
                  <a:pt x="11339" y="14038"/>
                  <a:pt x="11429" y="13901"/>
                  <a:pt x="11322" y="13793"/>
                </a:cubicBezTo>
                <a:cubicBezTo>
                  <a:pt x="11257" y="13732"/>
                  <a:pt x="11151" y="13694"/>
                  <a:pt x="11086" y="13633"/>
                </a:cubicBezTo>
                <a:cubicBezTo>
                  <a:pt x="10963" y="13534"/>
                  <a:pt x="10963" y="13406"/>
                  <a:pt x="10980" y="13288"/>
                </a:cubicBezTo>
                <a:cubicBezTo>
                  <a:pt x="10824" y="13336"/>
                  <a:pt x="10620" y="13246"/>
                  <a:pt x="10637" y="13147"/>
                </a:cubicBezTo>
                <a:cubicBezTo>
                  <a:pt x="10669" y="13100"/>
                  <a:pt x="10776" y="13057"/>
                  <a:pt x="10857" y="13071"/>
                </a:cubicBezTo>
                <a:cubicBezTo>
                  <a:pt x="10980" y="13109"/>
                  <a:pt x="11102" y="13156"/>
                  <a:pt x="11200" y="13199"/>
                </a:cubicBezTo>
                <a:cubicBezTo>
                  <a:pt x="11322" y="13237"/>
                  <a:pt x="11461" y="13288"/>
                  <a:pt x="11576" y="13246"/>
                </a:cubicBezTo>
                <a:cubicBezTo>
                  <a:pt x="11682" y="13218"/>
                  <a:pt x="11771" y="13137"/>
                  <a:pt x="11869" y="13156"/>
                </a:cubicBezTo>
                <a:cubicBezTo>
                  <a:pt x="11943" y="13166"/>
                  <a:pt x="11959" y="13218"/>
                  <a:pt x="12024" y="13246"/>
                </a:cubicBezTo>
                <a:cubicBezTo>
                  <a:pt x="12163" y="13307"/>
                  <a:pt x="12351" y="13199"/>
                  <a:pt x="12522" y="13189"/>
                </a:cubicBezTo>
                <a:cubicBezTo>
                  <a:pt x="12588" y="13189"/>
                  <a:pt x="12661" y="13208"/>
                  <a:pt x="12743" y="13208"/>
                </a:cubicBezTo>
                <a:cubicBezTo>
                  <a:pt x="12963" y="13208"/>
                  <a:pt x="13069" y="13038"/>
                  <a:pt x="13102" y="12911"/>
                </a:cubicBezTo>
                <a:cubicBezTo>
                  <a:pt x="13086" y="12883"/>
                  <a:pt x="13020" y="12859"/>
                  <a:pt x="12963" y="12873"/>
                </a:cubicBezTo>
                <a:cubicBezTo>
                  <a:pt x="12865" y="12784"/>
                  <a:pt x="13053" y="12685"/>
                  <a:pt x="13224" y="12642"/>
                </a:cubicBezTo>
                <a:cubicBezTo>
                  <a:pt x="13396" y="12605"/>
                  <a:pt x="13616" y="12534"/>
                  <a:pt x="13567" y="12435"/>
                </a:cubicBezTo>
                <a:cubicBezTo>
                  <a:pt x="13551" y="12416"/>
                  <a:pt x="13535" y="12397"/>
                  <a:pt x="13535" y="12369"/>
                </a:cubicBezTo>
                <a:cubicBezTo>
                  <a:pt x="13535" y="12336"/>
                  <a:pt x="13584" y="12317"/>
                  <a:pt x="13633" y="12298"/>
                </a:cubicBezTo>
                <a:cubicBezTo>
                  <a:pt x="13894" y="12209"/>
                  <a:pt x="14163" y="12119"/>
                  <a:pt x="14424" y="12029"/>
                </a:cubicBezTo>
                <a:cubicBezTo>
                  <a:pt x="14196" y="11912"/>
                  <a:pt x="14343" y="11676"/>
                  <a:pt x="14555" y="11544"/>
                </a:cubicBezTo>
                <a:cubicBezTo>
                  <a:pt x="14759" y="11416"/>
                  <a:pt x="15037" y="11327"/>
                  <a:pt x="15208" y="11190"/>
                </a:cubicBezTo>
                <a:cubicBezTo>
                  <a:pt x="15037" y="11171"/>
                  <a:pt x="14939" y="11053"/>
                  <a:pt x="15004" y="10964"/>
                </a:cubicBezTo>
                <a:cubicBezTo>
                  <a:pt x="15053" y="10903"/>
                  <a:pt x="15159" y="10855"/>
                  <a:pt x="15224" y="10794"/>
                </a:cubicBezTo>
                <a:cubicBezTo>
                  <a:pt x="15314" y="10695"/>
                  <a:pt x="15241" y="10587"/>
                  <a:pt x="15208" y="10478"/>
                </a:cubicBezTo>
                <a:cubicBezTo>
                  <a:pt x="15176" y="10370"/>
                  <a:pt x="15192" y="10242"/>
                  <a:pt x="15347" y="10191"/>
                </a:cubicBezTo>
                <a:cubicBezTo>
                  <a:pt x="15396" y="10172"/>
                  <a:pt x="15469" y="10172"/>
                  <a:pt x="15535" y="10153"/>
                </a:cubicBezTo>
                <a:cubicBezTo>
                  <a:pt x="15641" y="10120"/>
                  <a:pt x="15706" y="10054"/>
                  <a:pt x="15755" y="9993"/>
                </a:cubicBezTo>
                <a:cubicBezTo>
                  <a:pt x="15845" y="10011"/>
                  <a:pt x="15910" y="10021"/>
                  <a:pt x="16000" y="10044"/>
                </a:cubicBezTo>
                <a:cubicBezTo>
                  <a:pt x="16065" y="9936"/>
                  <a:pt x="16204" y="9804"/>
                  <a:pt x="16392" y="9823"/>
                </a:cubicBezTo>
                <a:cubicBezTo>
                  <a:pt x="16457" y="9837"/>
                  <a:pt x="16531" y="9865"/>
                  <a:pt x="16596" y="9856"/>
                </a:cubicBezTo>
                <a:cubicBezTo>
                  <a:pt x="16702" y="9846"/>
                  <a:pt x="16735" y="9785"/>
                  <a:pt x="16784" y="9738"/>
                </a:cubicBezTo>
                <a:cubicBezTo>
                  <a:pt x="16939" y="9578"/>
                  <a:pt x="17282" y="9488"/>
                  <a:pt x="17576" y="9530"/>
                </a:cubicBezTo>
                <a:cubicBezTo>
                  <a:pt x="17845" y="9559"/>
                  <a:pt x="18204" y="9677"/>
                  <a:pt x="18376" y="9549"/>
                </a:cubicBezTo>
                <a:cubicBezTo>
                  <a:pt x="18465" y="9488"/>
                  <a:pt x="18433" y="9398"/>
                  <a:pt x="18465" y="9318"/>
                </a:cubicBezTo>
                <a:cubicBezTo>
                  <a:pt x="18482" y="9243"/>
                  <a:pt x="18620" y="9153"/>
                  <a:pt x="18735" y="9191"/>
                </a:cubicBezTo>
                <a:cubicBezTo>
                  <a:pt x="18669" y="9101"/>
                  <a:pt x="18792" y="9012"/>
                  <a:pt x="18890" y="8936"/>
                </a:cubicBezTo>
                <a:cubicBezTo>
                  <a:pt x="18988" y="8861"/>
                  <a:pt x="19012" y="8724"/>
                  <a:pt x="18865" y="8701"/>
                </a:cubicBezTo>
                <a:cubicBezTo>
                  <a:pt x="18971" y="8705"/>
                  <a:pt x="19061" y="8630"/>
                  <a:pt x="19094" y="8559"/>
                </a:cubicBezTo>
                <a:cubicBezTo>
                  <a:pt x="19135" y="8488"/>
                  <a:pt x="19110" y="8408"/>
                  <a:pt x="19200" y="8342"/>
                </a:cubicBezTo>
                <a:cubicBezTo>
                  <a:pt x="19249" y="8300"/>
                  <a:pt x="19339" y="8271"/>
                  <a:pt x="19388" y="8234"/>
                </a:cubicBezTo>
                <a:cubicBezTo>
                  <a:pt x="19624" y="8073"/>
                  <a:pt x="19510" y="7748"/>
                  <a:pt x="19869" y="7696"/>
                </a:cubicBezTo>
                <a:cubicBezTo>
                  <a:pt x="19731" y="7578"/>
                  <a:pt x="19608" y="7470"/>
                  <a:pt x="19478" y="7352"/>
                </a:cubicBezTo>
                <a:cubicBezTo>
                  <a:pt x="19747" y="7262"/>
                  <a:pt x="19837" y="7046"/>
                  <a:pt x="19682" y="6895"/>
                </a:cubicBezTo>
                <a:cubicBezTo>
                  <a:pt x="20229" y="6739"/>
                  <a:pt x="20637" y="6442"/>
                  <a:pt x="20808" y="6098"/>
                </a:cubicBezTo>
                <a:cubicBezTo>
                  <a:pt x="20857" y="6136"/>
                  <a:pt x="20947" y="6117"/>
                  <a:pt x="21012" y="6084"/>
                </a:cubicBezTo>
                <a:cubicBezTo>
                  <a:pt x="21445" y="5909"/>
                  <a:pt x="21543" y="5570"/>
                  <a:pt x="21600" y="5263"/>
                </a:cubicBezTo>
                <a:cubicBezTo>
                  <a:pt x="21478" y="5244"/>
                  <a:pt x="21445" y="5164"/>
                  <a:pt x="21412" y="5098"/>
                </a:cubicBezTo>
                <a:cubicBezTo>
                  <a:pt x="21371" y="5037"/>
                  <a:pt x="21355" y="4990"/>
                  <a:pt x="21322" y="4928"/>
                </a:cubicBezTo>
                <a:cubicBezTo>
                  <a:pt x="21257" y="4768"/>
                  <a:pt x="21167" y="4613"/>
                  <a:pt x="20963" y="4504"/>
                </a:cubicBezTo>
                <a:cubicBezTo>
                  <a:pt x="20759" y="4396"/>
                  <a:pt x="20367" y="4405"/>
                  <a:pt x="20245" y="4542"/>
                </a:cubicBezTo>
                <a:cubicBezTo>
                  <a:pt x="20057" y="4363"/>
                  <a:pt x="19837" y="4165"/>
                  <a:pt x="19478" y="4136"/>
                </a:cubicBezTo>
                <a:cubicBezTo>
                  <a:pt x="19184" y="4108"/>
                  <a:pt x="18873" y="4198"/>
                  <a:pt x="18580" y="4155"/>
                </a:cubicBezTo>
                <a:cubicBezTo>
                  <a:pt x="18637" y="4117"/>
                  <a:pt x="18547" y="4056"/>
                  <a:pt x="18465" y="4056"/>
                </a:cubicBezTo>
                <a:cubicBezTo>
                  <a:pt x="18376" y="4056"/>
                  <a:pt x="18294" y="4080"/>
                  <a:pt x="18204" y="4089"/>
                </a:cubicBezTo>
                <a:cubicBezTo>
                  <a:pt x="18000" y="4117"/>
                  <a:pt x="17796" y="4056"/>
                  <a:pt x="17592" y="4047"/>
                </a:cubicBezTo>
                <a:cubicBezTo>
                  <a:pt x="17388" y="4037"/>
                  <a:pt x="17110" y="4089"/>
                  <a:pt x="17110" y="4216"/>
                </a:cubicBezTo>
                <a:cubicBezTo>
                  <a:pt x="16971" y="4117"/>
                  <a:pt x="17004" y="3957"/>
                  <a:pt x="17176" y="3882"/>
                </a:cubicBezTo>
                <a:cubicBezTo>
                  <a:pt x="17045" y="3792"/>
                  <a:pt x="16890" y="3717"/>
                  <a:pt x="16702" y="3665"/>
                </a:cubicBezTo>
                <a:cubicBezTo>
                  <a:pt x="16514" y="3618"/>
                  <a:pt x="16269" y="3613"/>
                  <a:pt x="16114" y="3693"/>
                </a:cubicBezTo>
                <a:cubicBezTo>
                  <a:pt x="16033" y="3594"/>
                  <a:pt x="15829" y="3533"/>
                  <a:pt x="15657" y="3552"/>
                </a:cubicBezTo>
                <a:cubicBezTo>
                  <a:pt x="15551" y="3566"/>
                  <a:pt x="15380" y="3575"/>
                  <a:pt x="15396" y="3514"/>
                </a:cubicBezTo>
                <a:cubicBezTo>
                  <a:pt x="15257" y="3575"/>
                  <a:pt x="15159" y="3651"/>
                  <a:pt x="15086" y="3750"/>
                </a:cubicBezTo>
                <a:cubicBezTo>
                  <a:pt x="15020" y="3641"/>
                  <a:pt x="15020" y="3514"/>
                  <a:pt x="15110" y="3415"/>
                </a:cubicBezTo>
                <a:lnTo>
                  <a:pt x="14490" y="3236"/>
                </a:lnTo>
                <a:cubicBezTo>
                  <a:pt x="14612" y="3118"/>
                  <a:pt x="14678" y="2972"/>
                  <a:pt x="14645" y="2830"/>
                </a:cubicBezTo>
                <a:cubicBezTo>
                  <a:pt x="14555" y="2849"/>
                  <a:pt x="14457" y="2873"/>
                  <a:pt x="14367" y="2892"/>
                </a:cubicBezTo>
                <a:cubicBezTo>
                  <a:pt x="14473" y="2793"/>
                  <a:pt x="14302" y="2684"/>
                  <a:pt x="14147" y="2604"/>
                </a:cubicBezTo>
                <a:cubicBezTo>
                  <a:pt x="13992" y="2533"/>
                  <a:pt x="13820" y="2415"/>
                  <a:pt x="13943" y="2316"/>
                </a:cubicBezTo>
                <a:cubicBezTo>
                  <a:pt x="13804" y="2118"/>
                  <a:pt x="13445" y="1953"/>
                  <a:pt x="13135" y="1845"/>
                </a:cubicBezTo>
                <a:cubicBezTo>
                  <a:pt x="13037" y="1802"/>
                  <a:pt x="12931" y="1774"/>
                  <a:pt x="12808" y="1755"/>
                </a:cubicBezTo>
                <a:cubicBezTo>
                  <a:pt x="12776" y="1694"/>
                  <a:pt x="12661" y="1684"/>
                  <a:pt x="12555" y="1684"/>
                </a:cubicBezTo>
                <a:cubicBezTo>
                  <a:pt x="12449" y="1694"/>
                  <a:pt x="12351" y="1703"/>
                  <a:pt x="12261" y="1675"/>
                </a:cubicBezTo>
                <a:cubicBezTo>
                  <a:pt x="12261" y="1703"/>
                  <a:pt x="12196" y="1703"/>
                  <a:pt x="12147" y="1703"/>
                </a:cubicBezTo>
                <a:cubicBezTo>
                  <a:pt x="11853" y="1684"/>
                  <a:pt x="11559" y="1675"/>
                  <a:pt x="11273" y="1656"/>
                </a:cubicBezTo>
                <a:cubicBezTo>
                  <a:pt x="11233" y="1656"/>
                  <a:pt x="11200" y="1656"/>
                  <a:pt x="11167" y="1633"/>
                </a:cubicBezTo>
                <a:cubicBezTo>
                  <a:pt x="11135" y="1623"/>
                  <a:pt x="11135" y="1595"/>
                  <a:pt x="11118" y="1585"/>
                </a:cubicBezTo>
                <a:cubicBezTo>
                  <a:pt x="11045" y="1524"/>
                  <a:pt x="10857" y="1524"/>
                  <a:pt x="10824" y="1458"/>
                </a:cubicBezTo>
                <a:cubicBezTo>
                  <a:pt x="10808" y="1425"/>
                  <a:pt x="10841" y="1397"/>
                  <a:pt x="10824" y="1369"/>
                </a:cubicBezTo>
                <a:cubicBezTo>
                  <a:pt x="10792" y="1326"/>
                  <a:pt x="10686" y="1340"/>
                  <a:pt x="10604" y="1317"/>
                </a:cubicBezTo>
                <a:cubicBezTo>
                  <a:pt x="10465" y="1288"/>
                  <a:pt x="10465" y="1171"/>
                  <a:pt x="10367" y="1109"/>
                </a:cubicBezTo>
                <a:cubicBezTo>
                  <a:pt x="10278" y="1062"/>
                  <a:pt x="10139" y="1053"/>
                  <a:pt x="10090" y="982"/>
                </a:cubicBezTo>
                <a:cubicBezTo>
                  <a:pt x="10090" y="972"/>
                  <a:pt x="10073" y="963"/>
                  <a:pt x="10073" y="963"/>
                </a:cubicBezTo>
                <a:cubicBezTo>
                  <a:pt x="10041" y="944"/>
                  <a:pt x="9967" y="972"/>
                  <a:pt x="9935" y="991"/>
                </a:cubicBezTo>
                <a:cubicBezTo>
                  <a:pt x="9869" y="1020"/>
                  <a:pt x="9763" y="1010"/>
                  <a:pt x="9698" y="972"/>
                </a:cubicBezTo>
                <a:cubicBezTo>
                  <a:pt x="9624" y="935"/>
                  <a:pt x="9592" y="892"/>
                  <a:pt x="9576" y="845"/>
                </a:cubicBezTo>
                <a:cubicBezTo>
                  <a:pt x="9527" y="746"/>
                  <a:pt x="9510" y="638"/>
                  <a:pt x="9510" y="529"/>
                </a:cubicBezTo>
                <a:cubicBezTo>
                  <a:pt x="9420" y="506"/>
                  <a:pt x="9331" y="548"/>
                  <a:pt x="9265" y="586"/>
                </a:cubicBezTo>
                <a:cubicBezTo>
                  <a:pt x="9192" y="624"/>
                  <a:pt x="9094" y="666"/>
                  <a:pt x="9029" y="624"/>
                </a:cubicBezTo>
                <a:cubicBezTo>
                  <a:pt x="8996" y="614"/>
                  <a:pt x="8971" y="586"/>
                  <a:pt x="8939" y="576"/>
                </a:cubicBezTo>
                <a:cubicBezTo>
                  <a:pt x="8898" y="567"/>
                  <a:pt x="8873" y="576"/>
                  <a:pt x="8841" y="576"/>
                </a:cubicBezTo>
                <a:cubicBezTo>
                  <a:pt x="8686" y="567"/>
                  <a:pt x="8686" y="416"/>
                  <a:pt x="8547" y="397"/>
                </a:cubicBezTo>
                <a:cubicBezTo>
                  <a:pt x="8465" y="388"/>
                  <a:pt x="8376" y="440"/>
                  <a:pt x="8278" y="430"/>
                </a:cubicBezTo>
                <a:cubicBezTo>
                  <a:pt x="8220" y="430"/>
                  <a:pt x="8171" y="397"/>
                  <a:pt x="8106" y="397"/>
                </a:cubicBezTo>
                <a:cubicBezTo>
                  <a:pt x="7935" y="397"/>
                  <a:pt x="7935" y="567"/>
                  <a:pt x="7763" y="595"/>
                </a:cubicBezTo>
                <a:cubicBezTo>
                  <a:pt x="7690" y="605"/>
                  <a:pt x="7624" y="595"/>
                  <a:pt x="7576" y="576"/>
                </a:cubicBezTo>
                <a:cubicBezTo>
                  <a:pt x="7420" y="539"/>
                  <a:pt x="7265" y="496"/>
                  <a:pt x="7192" y="407"/>
                </a:cubicBezTo>
                <a:lnTo>
                  <a:pt x="7143" y="350"/>
                </a:lnTo>
                <a:cubicBezTo>
                  <a:pt x="7110" y="331"/>
                  <a:pt x="7045" y="317"/>
                  <a:pt x="6988" y="317"/>
                </a:cubicBezTo>
                <a:cubicBezTo>
                  <a:pt x="6873" y="317"/>
                  <a:pt x="6767" y="360"/>
                  <a:pt x="6702" y="407"/>
                </a:cubicBezTo>
                <a:cubicBezTo>
                  <a:pt x="6580" y="430"/>
                  <a:pt x="6441" y="350"/>
                  <a:pt x="6359" y="407"/>
                </a:cubicBezTo>
                <a:cubicBezTo>
                  <a:pt x="6343" y="416"/>
                  <a:pt x="6335" y="449"/>
                  <a:pt x="6302" y="459"/>
                </a:cubicBezTo>
                <a:cubicBezTo>
                  <a:pt x="6261" y="468"/>
                  <a:pt x="6237" y="468"/>
                  <a:pt x="6204" y="459"/>
                </a:cubicBezTo>
                <a:cubicBezTo>
                  <a:pt x="6033" y="459"/>
                  <a:pt x="5927" y="407"/>
                  <a:pt x="5976" y="341"/>
                </a:cubicBezTo>
              </a:path>
            </a:pathLst>
          </a:custGeom>
          <a:solidFill>
            <a:srgbClr val="d6d6d6"/>
          </a:solidFill>
          <a:ln w="12700">
            <a:noFill/>
          </a:ln>
        </p:spPr>
        <p:style>
          <a:lnRef idx="0"/>
          <a:fillRef idx="0"/>
          <a:effectRef idx="0"/>
          <a:fontRef idx="minor"/>
        </p:style>
        <p:txBody>
          <a:bodyPr lIns="45720" rIns="45720" tIns="45000" bIns="45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18" name="Shape 3573"/>
          <p:cNvSpPr/>
          <p:nvPr/>
        </p:nvSpPr>
        <p:spPr>
          <a:xfrm>
            <a:off x="15980400" y="6974640"/>
            <a:ext cx="96840" cy="61920"/>
          </a:xfrm>
          <a:custGeom>
            <a:avLst/>
            <a:gdLst>
              <a:gd name="textAreaLeft" fmla="*/ 0 w 96840"/>
              <a:gd name="textAreaRight" fmla="*/ 97200 w 96840"/>
              <a:gd name="textAreaTop" fmla="*/ 0 h 61920"/>
              <a:gd name="textAreaBottom" fmla="*/ 62280 h 61920"/>
            </a:gdLst>
            <a:ahLst/>
            <a:rect l="textAreaLeft" t="textAreaTop" r="textAreaRight" b="textAreaBottom"/>
            <a:pathLst>
              <a:path w="21504" h="21382">
                <a:moveTo>
                  <a:pt x="2604" y="1746"/>
                </a:moveTo>
                <a:cubicBezTo>
                  <a:pt x="2411" y="2048"/>
                  <a:pt x="2604" y="2652"/>
                  <a:pt x="2796" y="2954"/>
                </a:cubicBezTo>
                <a:cubicBezTo>
                  <a:pt x="2989" y="3256"/>
                  <a:pt x="3375" y="3256"/>
                  <a:pt x="3568" y="3558"/>
                </a:cubicBezTo>
                <a:cubicBezTo>
                  <a:pt x="4436" y="4313"/>
                  <a:pt x="4629" y="6126"/>
                  <a:pt x="4050" y="7032"/>
                </a:cubicBezTo>
                <a:cubicBezTo>
                  <a:pt x="3375" y="8392"/>
                  <a:pt x="2025" y="8090"/>
                  <a:pt x="1157" y="8996"/>
                </a:cubicBezTo>
                <a:cubicBezTo>
                  <a:pt x="386" y="9902"/>
                  <a:pt x="193" y="11564"/>
                  <a:pt x="0" y="13074"/>
                </a:cubicBezTo>
                <a:cubicBezTo>
                  <a:pt x="579" y="13074"/>
                  <a:pt x="964" y="13679"/>
                  <a:pt x="964" y="14736"/>
                </a:cubicBezTo>
                <a:cubicBezTo>
                  <a:pt x="1736" y="14434"/>
                  <a:pt x="2796" y="14736"/>
                  <a:pt x="3568" y="15642"/>
                </a:cubicBezTo>
                <a:cubicBezTo>
                  <a:pt x="3761" y="15944"/>
                  <a:pt x="3761" y="15944"/>
                  <a:pt x="4050" y="16246"/>
                </a:cubicBezTo>
                <a:cubicBezTo>
                  <a:pt x="4243" y="16246"/>
                  <a:pt x="4629" y="16246"/>
                  <a:pt x="4821" y="15944"/>
                </a:cubicBezTo>
                <a:cubicBezTo>
                  <a:pt x="5593" y="15642"/>
                  <a:pt x="6461" y="15642"/>
                  <a:pt x="7039" y="15944"/>
                </a:cubicBezTo>
                <a:cubicBezTo>
                  <a:pt x="7232" y="15944"/>
                  <a:pt x="7425" y="16246"/>
                  <a:pt x="7618" y="16246"/>
                </a:cubicBezTo>
                <a:cubicBezTo>
                  <a:pt x="8004" y="16246"/>
                  <a:pt x="8293" y="15944"/>
                  <a:pt x="8679" y="15944"/>
                </a:cubicBezTo>
                <a:cubicBezTo>
                  <a:pt x="9257" y="15944"/>
                  <a:pt x="9643" y="17304"/>
                  <a:pt x="10029" y="18210"/>
                </a:cubicBezTo>
                <a:cubicBezTo>
                  <a:pt x="10511" y="19418"/>
                  <a:pt x="10896" y="20325"/>
                  <a:pt x="11475" y="21080"/>
                </a:cubicBezTo>
                <a:cubicBezTo>
                  <a:pt x="11668" y="21382"/>
                  <a:pt x="11668" y="21382"/>
                  <a:pt x="11861" y="21382"/>
                </a:cubicBezTo>
                <a:cubicBezTo>
                  <a:pt x="12054" y="21382"/>
                  <a:pt x="12343" y="21382"/>
                  <a:pt x="12536" y="21382"/>
                </a:cubicBezTo>
                <a:cubicBezTo>
                  <a:pt x="13500" y="21080"/>
                  <a:pt x="14754" y="20325"/>
                  <a:pt x="15332" y="19116"/>
                </a:cubicBezTo>
                <a:cubicBezTo>
                  <a:pt x="15718" y="18210"/>
                  <a:pt x="15911" y="17304"/>
                  <a:pt x="16296" y="16548"/>
                </a:cubicBezTo>
                <a:cubicBezTo>
                  <a:pt x="16971" y="15642"/>
                  <a:pt x="17936" y="15944"/>
                  <a:pt x="18804" y="15944"/>
                </a:cubicBezTo>
                <a:cubicBezTo>
                  <a:pt x="19768" y="15642"/>
                  <a:pt x="20829" y="14736"/>
                  <a:pt x="21214" y="13074"/>
                </a:cubicBezTo>
                <a:cubicBezTo>
                  <a:pt x="21600" y="11866"/>
                  <a:pt x="21600" y="9902"/>
                  <a:pt x="21214" y="8392"/>
                </a:cubicBezTo>
                <a:cubicBezTo>
                  <a:pt x="20829" y="7334"/>
                  <a:pt x="20346" y="6126"/>
                  <a:pt x="20346" y="5220"/>
                </a:cubicBezTo>
                <a:cubicBezTo>
                  <a:pt x="20346" y="4918"/>
                  <a:pt x="20636" y="4313"/>
                  <a:pt x="20346" y="3860"/>
                </a:cubicBezTo>
                <a:cubicBezTo>
                  <a:pt x="20346" y="3558"/>
                  <a:pt x="20154" y="3558"/>
                  <a:pt x="19961" y="3558"/>
                </a:cubicBezTo>
                <a:cubicBezTo>
                  <a:pt x="18996" y="3256"/>
                  <a:pt x="17743" y="2954"/>
                  <a:pt x="16779" y="2652"/>
                </a:cubicBezTo>
                <a:cubicBezTo>
                  <a:pt x="15525" y="2350"/>
                  <a:pt x="14079" y="2048"/>
                  <a:pt x="13307" y="3256"/>
                </a:cubicBezTo>
                <a:cubicBezTo>
                  <a:pt x="12921" y="3860"/>
                  <a:pt x="12729" y="4918"/>
                  <a:pt x="12536" y="5824"/>
                </a:cubicBezTo>
                <a:cubicBezTo>
                  <a:pt x="12343" y="6730"/>
                  <a:pt x="12054" y="7788"/>
                  <a:pt x="11668" y="8392"/>
                </a:cubicBezTo>
                <a:cubicBezTo>
                  <a:pt x="11282" y="8996"/>
                  <a:pt x="10511" y="9298"/>
                  <a:pt x="10029" y="8694"/>
                </a:cubicBezTo>
                <a:cubicBezTo>
                  <a:pt x="9836" y="8392"/>
                  <a:pt x="9836" y="8090"/>
                  <a:pt x="9643" y="7334"/>
                </a:cubicBezTo>
                <a:cubicBezTo>
                  <a:pt x="9257" y="5824"/>
                  <a:pt x="8679" y="4616"/>
                  <a:pt x="7618" y="3860"/>
                </a:cubicBezTo>
                <a:cubicBezTo>
                  <a:pt x="7039" y="3558"/>
                  <a:pt x="6461" y="3256"/>
                  <a:pt x="6268" y="2350"/>
                </a:cubicBezTo>
                <a:cubicBezTo>
                  <a:pt x="5979" y="1746"/>
                  <a:pt x="6268" y="1141"/>
                  <a:pt x="5786" y="688"/>
                </a:cubicBezTo>
                <a:cubicBezTo>
                  <a:pt x="5593" y="386"/>
                  <a:pt x="5207" y="386"/>
                  <a:pt x="4821" y="386"/>
                </a:cubicBezTo>
                <a:cubicBezTo>
                  <a:pt x="4243" y="386"/>
                  <a:pt x="3375" y="688"/>
                  <a:pt x="2796" y="386"/>
                </a:cubicBezTo>
                <a:cubicBezTo>
                  <a:pt x="2218" y="386"/>
                  <a:pt x="1350" y="-218"/>
                  <a:pt x="964" y="84"/>
                </a:cubicBezTo>
                <a:cubicBezTo>
                  <a:pt x="579" y="-218"/>
                  <a:pt x="1736" y="1746"/>
                  <a:pt x="2604" y="1746"/>
                </a:cubicBezTo>
              </a:path>
            </a:pathLst>
          </a:custGeom>
          <a:solidFill>
            <a:srgbClr val="d6d6d6"/>
          </a:solidFill>
          <a:ln w="12700">
            <a:noFill/>
          </a:ln>
        </p:spPr>
        <p:style>
          <a:lnRef idx="0"/>
          <a:fillRef idx="0"/>
          <a:effectRef idx="0"/>
          <a:fontRef idx="minor"/>
        </p:style>
        <p:txBody>
          <a:bodyPr lIns="45720" rIns="45720" tIns="17280" bIns="17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19" name="Shape 3574"/>
          <p:cNvSpPr/>
          <p:nvPr/>
        </p:nvSpPr>
        <p:spPr>
          <a:xfrm>
            <a:off x="15221520" y="5486040"/>
            <a:ext cx="52200" cy="42480"/>
          </a:xfrm>
          <a:custGeom>
            <a:avLst/>
            <a:gdLst>
              <a:gd name="textAreaLeft" fmla="*/ 0 w 52200"/>
              <a:gd name="textAreaRight" fmla="*/ 52560 w 52200"/>
              <a:gd name="textAreaTop" fmla="*/ 0 h 42480"/>
              <a:gd name="textAreaBottom" fmla="*/ 42840 h 42480"/>
            </a:gdLst>
            <a:ahLst/>
            <a:rect l="textAreaLeft" t="textAreaTop" r="textAreaRight" b="textAreaBottom"/>
            <a:pathLst>
              <a:path w="19782" h="20169">
                <a:moveTo>
                  <a:pt x="5761" y="10066"/>
                </a:moveTo>
                <a:cubicBezTo>
                  <a:pt x="5761" y="10485"/>
                  <a:pt x="5761" y="11114"/>
                  <a:pt x="5761" y="11534"/>
                </a:cubicBezTo>
                <a:cubicBezTo>
                  <a:pt x="6093" y="12373"/>
                  <a:pt x="6426" y="12792"/>
                  <a:pt x="7090" y="13211"/>
                </a:cubicBezTo>
                <a:cubicBezTo>
                  <a:pt x="8918" y="14470"/>
                  <a:pt x="10247" y="16357"/>
                  <a:pt x="11743" y="18035"/>
                </a:cubicBezTo>
                <a:cubicBezTo>
                  <a:pt x="13404" y="19293"/>
                  <a:pt x="15232" y="20761"/>
                  <a:pt x="17226" y="19922"/>
                </a:cubicBezTo>
                <a:cubicBezTo>
                  <a:pt x="19718" y="18874"/>
                  <a:pt x="20715" y="14050"/>
                  <a:pt x="18721" y="11953"/>
                </a:cubicBezTo>
                <a:cubicBezTo>
                  <a:pt x="17890" y="11114"/>
                  <a:pt x="17226" y="10485"/>
                  <a:pt x="16893" y="9646"/>
                </a:cubicBezTo>
                <a:cubicBezTo>
                  <a:pt x="16561" y="8388"/>
                  <a:pt x="17226" y="7130"/>
                  <a:pt x="17226" y="5243"/>
                </a:cubicBezTo>
                <a:cubicBezTo>
                  <a:pt x="17226" y="2726"/>
                  <a:pt x="15232" y="1258"/>
                  <a:pt x="13072" y="419"/>
                </a:cubicBezTo>
                <a:cubicBezTo>
                  <a:pt x="12075" y="0"/>
                  <a:pt x="10580" y="-420"/>
                  <a:pt x="9915" y="839"/>
                </a:cubicBezTo>
                <a:cubicBezTo>
                  <a:pt x="9583" y="1258"/>
                  <a:pt x="9583" y="1887"/>
                  <a:pt x="9250" y="2307"/>
                </a:cubicBezTo>
                <a:cubicBezTo>
                  <a:pt x="7090" y="6711"/>
                  <a:pt x="1607" y="-839"/>
                  <a:pt x="112" y="3984"/>
                </a:cubicBezTo>
                <a:cubicBezTo>
                  <a:pt x="-885" y="8808"/>
                  <a:pt x="5097" y="7549"/>
                  <a:pt x="5761" y="10066"/>
                </a:cubicBezTo>
              </a:path>
            </a:pathLst>
          </a:custGeom>
          <a:solidFill>
            <a:srgbClr val="d6d6d6"/>
          </a:solidFill>
          <a:ln w="12700">
            <a:noFill/>
          </a:ln>
        </p:spPr>
        <p:style>
          <a:lnRef idx="0"/>
          <a:fillRef idx="0"/>
          <a:effectRef idx="0"/>
          <a:fontRef idx="minor"/>
        </p:style>
        <p:txBody>
          <a:bodyPr lIns="45720" rIns="45720" tIns="-2160" bIns="-216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6220" name="Group 3622"/>
          <p:cNvGrpSpPr/>
          <p:nvPr/>
        </p:nvGrpSpPr>
        <p:grpSpPr>
          <a:xfrm>
            <a:off x="13329360" y="1389600"/>
            <a:ext cx="3899520" cy="3917160"/>
            <a:chOff x="13329360" y="1389600"/>
            <a:chExt cx="3899520" cy="3917160"/>
          </a:xfrm>
        </p:grpSpPr>
        <p:sp>
          <p:nvSpPr>
            <p:cNvPr id="6221" name="Shape 3575"/>
            <p:cNvSpPr/>
            <p:nvPr/>
          </p:nvSpPr>
          <p:spPr>
            <a:xfrm>
              <a:off x="13329360" y="2678040"/>
              <a:ext cx="2797920" cy="2628720"/>
            </a:xfrm>
            <a:custGeom>
              <a:avLst/>
              <a:gdLst>
                <a:gd name="textAreaLeft" fmla="*/ 0 w 2797920"/>
                <a:gd name="textAreaRight" fmla="*/ 2798280 w 2797920"/>
                <a:gd name="textAreaTop" fmla="*/ 0 h 2628720"/>
                <a:gd name="textAreaBottom" fmla="*/ 2629080 h 2628720"/>
              </a:gdLst>
              <a:ahLst/>
              <a:rect l="textAreaLeft" t="textAreaTop" r="textAreaRight" b="textAreaBottom"/>
              <a:pathLst>
                <a:path w="21600" h="21597">
                  <a:moveTo>
                    <a:pt x="17471" y="21468"/>
                  </a:moveTo>
                  <a:cubicBezTo>
                    <a:pt x="17464" y="21461"/>
                    <a:pt x="17461" y="21450"/>
                    <a:pt x="17454" y="21443"/>
                  </a:cubicBezTo>
                  <a:cubicBezTo>
                    <a:pt x="17458" y="21439"/>
                    <a:pt x="17461" y="21436"/>
                    <a:pt x="17464" y="21432"/>
                  </a:cubicBezTo>
                  <a:cubicBezTo>
                    <a:pt x="17485" y="21482"/>
                    <a:pt x="17491" y="21482"/>
                    <a:pt x="17471" y="21468"/>
                  </a:cubicBezTo>
                  <a:close/>
                  <a:moveTo>
                    <a:pt x="17414" y="21371"/>
                  </a:moveTo>
                  <a:cubicBezTo>
                    <a:pt x="17380" y="21310"/>
                    <a:pt x="17343" y="21257"/>
                    <a:pt x="17296" y="21214"/>
                  </a:cubicBezTo>
                  <a:cubicBezTo>
                    <a:pt x="17232" y="21160"/>
                    <a:pt x="17155" y="21131"/>
                    <a:pt x="17077" y="21117"/>
                  </a:cubicBezTo>
                  <a:cubicBezTo>
                    <a:pt x="17040" y="21106"/>
                    <a:pt x="17000" y="21099"/>
                    <a:pt x="16970" y="21124"/>
                  </a:cubicBezTo>
                  <a:cubicBezTo>
                    <a:pt x="16950" y="21138"/>
                    <a:pt x="16936" y="21160"/>
                    <a:pt x="16919" y="21181"/>
                  </a:cubicBezTo>
                  <a:cubicBezTo>
                    <a:pt x="16872" y="21242"/>
                    <a:pt x="16795" y="21275"/>
                    <a:pt x="16724" y="21303"/>
                  </a:cubicBezTo>
                  <a:cubicBezTo>
                    <a:pt x="16660" y="21235"/>
                    <a:pt x="16559" y="21214"/>
                    <a:pt x="16475" y="21181"/>
                  </a:cubicBezTo>
                  <a:cubicBezTo>
                    <a:pt x="16391" y="21146"/>
                    <a:pt x="16320" y="21085"/>
                    <a:pt x="16250" y="21024"/>
                  </a:cubicBezTo>
                  <a:cubicBezTo>
                    <a:pt x="16229" y="21010"/>
                    <a:pt x="16209" y="20988"/>
                    <a:pt x="16192" y="20967"/>
                  </a:cubicBezTo>
                  <a:cubicBezTo>
                    <a:pt x="16179" y="20941"/>
                    <a:pt x="16179" y="20913"/>
                    <a:pt x="16179" y="20884"/>
                  </a:cubicBezTo>
                  <a:cubicBezTo>
                    <a:pt x="16172" y="20791"/>
                    <a:pt x="16172" y="20701"/>
                    <a:pt x="16166" y="20612"/>
                  </a:cubicBezTo>
                  <a:cubicBezTo>
                    <a:pt x="16166" y="20576"/>
                    <a:pt x="16162" y="20540"/>
                    <a:pt x="16186" y="20515"/>
                  </a:cubicBezTo>
                  <a:cubicBezTo>
                    <a:pt x="16206" y="20494"/>
                    <a:pt x="16250" y="20490"/>
                    <a:pt x="16270" y="20461"/>
                  </a:cubicBezTo>
                  <a:cubicBezTo>
                    <a:pt x="16314" y="20401"/>
                    <a:pt x="16216" y="20343"/>
                    <a:pt x="16209" y="20268"/>
                  </a:cubicBezTo>
                  <a:cubicBezTo>
                    <a:pt x="16199" y="20175"/>
                    <a:pt x="16340" y="20136"/>
                    <a:pt x="16320" y="20042"/>
                  </a:cubicBezTo>
                  <a:cubicBezTo>
                    <a:pt x="16300" y="19953"/>
                    <a:pt x="16152" y="19989"/>
                    <a:pt x="16095" y="19913"/>
                  </a:cubicBezTo>
                  <a:cubicBezTo>
                    <a:pt x="16068" y="19885"/>
                    <a:pt x="16068" y="19831"/>
                    <a:pt x="16038" y="19799"/>
                  </a:cubicBezTo>
                  <a:cubicBezTo>
                    <a:pt x="15967" y="19724"/>
                    <a:pt x="15856" y="19853"/>
                    <a:pt x="15755" y="19831"/>
                  </a:cubicBezTo>
                  <a:cubicBezTo>
                    <a:pt x="15735" y="19824"/>
                    <a:pt x="15715" y="19810"/>
                    <a:pt x="15691" y="19817"/>
                  </a:cubicBezTo>
                  <a:cubicBezTo>
                    <a:pt x="15664" y="19824"/>
                    <a:pt x="15651" y="19853"/>
                    <a:pt x="15620" y="19867"/>
                  </a:cubicBezTo>
                  <a:cubicBezTo>
                    <a:pt x="15530" y="19935"/>
                    <a:pt x="15395" y="19749"/>
                    <a:pt x="15304" y="19817"/>
                  </a:cubicBezTo>
                  <a:cubicBezTo>
                    <a:pt x="15284" y="19673"/>
                    <a:pt x="15331" y="19516"/>
                    <a:pt x="15432" y="19408"/>
                  </a:cubicBezTo>
                  <a:cubicBezTo>
                    <a:pt x="15368" y="19394"/>
                    <a:pt x="15355" y="19304"/>
                    <a:pt x="15381" y="19236"/>
                  </a:cubicBezTo>
                  <a:cubicBezTo>
                    <a:pt x="15412" y="19176"/>
                    <a:pt x="15466" y="19133"/>
                    <a:pt x="15503" y="19079"/>
                  </a:cubicBezTo>
                  <a:cubicBezTo>
                    <a:pt x="15560" y="18996"/>
                    <a:pt x="15567" y="18885"/>
                    <a:pt x="15573" y="18785"/>
                  </a:cubicBezTo>
                  <a:cubicBezTo>
                    <a:pt x="15573" y="18735"/>
                    <a:pt x="15573" y="18674"/>
                    <a:pt x="15536" y="18635"/>
                  </a:cubicBezTo>
                  <a:cubicBezTo>
                    <a:pt x="15496" y="18599"/>
                    <a:pt x="15432" y="18613"/>
                    <a:pt x="15388" y="18642"/>
                  </a:cubicBezTo>
                  <a:cubicBezTo>
                    <a:pt x="15341" y="18667"/>
                    <a:pt x="15291" y="18703"/>
                    <a:pt x="15240" y="18696"/>
                  </a:cubicBezTo>
                  <a:cubicBezTo>
                    <a:pt x="15200" y="18688"/>
                    <a:pt x="15163" y="18660"/>
                    <a:pt x="15122" y="18653"/>
                  </a:cubicBezTo>
                  <a:cubicBezTo>
                    <a:pt x="15065" y="18642"/>
                    <a:pt x="14998" y="18685"/>
                    <a:pt x="14964" y="18735"/>
                  </a:cubicBezTo>
                  <a:cubicBezTo>
                    <a:pt x="14927" y="18789"/>
                    <a:pt x="14917" y="18853"/>
                    <a:pt x="14917" y="18914"/>
                  </a:cubicBezTo>
                  <a:cubicBezTo>
                    <a:pt x="14917" y="18950"/>
                    <a:pt x="14914" y="18989"/>
                    <a:pt x="14900" y="19025"/>
                  </a:cubicBezTo>
                  <a:cubicBezTo>
                    <a:pt x="14883" y="19064"/>
                    <a:pt x="14850" y="19097"/>
                    <a:pt x="14823" y="19125"/>
                  </a:cubicBezTo>
                  <a:cubicBezTo>
                    <a:pt x="14793" y="19158"/>
                    <a:pt x="14782" y="19208"/>
                    <a:pt x="14803" y="19244"/>
                  </a:cubicBezTo>
                  <a:cubicBezTo>
                    <a:pt x="14803" y="19276"/>
                    <a:pt x="14772" y="19290"/>
                    <a:pt x="14745" y="19290"/>
                  </a:cubicBezTo>
                  <a:cubicBezTo>
                    <a:pt x="14715" y="19290"/>
                    <a:pt x="14698" y="19283"/>
                    <a:pt x="14675" y="19276"/>
                  </a:cubicBezTo>
                  <a:cubicBezTo>
                    <a:pt x="14584" y="19244"/>
                    <a:pt x="14486" y="19269"/>
                    <a:pt x="14392" y="19290"/>
                  </a:cubicBezTo>
                  <a:cubicBezTo>
                    <a:pt x="14261" y="19319"/>
                    <a:pt x="14120" y="19183"/>
                    <a:pt x="13985" y="19201"/>
                  </a:cubicBezTo>
                  <a:cubicBezTo>
                    <a:pt x="13972" y="19201"/>
                    <a:pt x="13948" y="19208"/>
                    <a:pt x="13935" y="19201"/>
                  </a:cubicBezTo>
                  <a:cubicBezTo>
                    <a:pt x="13914" y="19193"/>
                    <a:pt x="13901" y="19168"/>
                    <a:pt x="13884" y="19147"/>
                  </a:cubicBezTo>
                  <a:cubicBezTo>
                    <a:pt x="13850" y="19093"/>
                    <a:pt x="13813" y="19032"/>
                    <a:pt x="13780" y="18982"/>
                  </a:cubicBezTo>
                  <a:cubicBezTo>
                    <a:pt x="13760" y="18943"/>
                    <a:pt x="13729" y="18907"/>
                    <a:pt x="13716" y="18860"/>
                  </a:cubicBezTo>
                  <a:cubicBezTo>
                    <a:pt x="13659" y="18717"/>
                    <a:pt x="13672" y="18531"/>
                    <a:pt x="13561" y="18434"/>
                  </a:cubicBezTo>
                  <a:cubicBezTo>
                    <a:pt x="13548" y="18416"/>
                    <a:pt x="13534" y="18409"/>
                    <a:pt x="13517" y="18395"/>
                  </a:cubicBezTo>
                  <a:cubicBezTo>
                    <a:pt x="13484" y="18334"/>
                    <a:pt x="13554" y="18258"/>
                    <a:pt x="13611" y="18223"/>
                  </a:cubicBezTo>
                  <a:cubicBezTo>
                    <a:pt x="13517" y="18183"/>
                    <a:pt x="13490" y="18065"/>
                    <a:pt x="13504" y="17968"/>
                  </a:cubicBezTo>
                  <a:cubicBezTo>
                    <a:pt x="13511" y="17868"/>
                    <a:pt x="13548" y="17778"/>
                    <a:pt x="13595" y="17696"/>
                  </a:cubicBezTo>
                  <a:cubicBezTo>
                    <a:pt x="13611" y="17675"/>
                    <a:pt x="13625" y="17660"/>
                    <a:pt x="13625" y="17635"/>
                  </a:cubicBezTo>
                  <a:cubicBezTo>
                    <a:pt x="13632" y="17599"/>
                    <a:pt x="13611" y="17560"/>
                    <a:pt x="13595" y="17524"/>
                  </a:cubicBezTo>
                  <a:cubicBezTo>
                    <a:pt x="13554" y="17417"/>
                    <a:pt x="13568" y="17291"/>
                    <a:pt x="13625" y="17202"/>
                  </a:cubicBezTo>
                  <a:cubicBezTo>
                    <a:pt x="13638" y="17170"/>
                    <a:pt x="13689" y="17155"/>
                    <a:pt x="13696" y="17184"/>
                  </a:cubicBezTo>
                  <a:cubicBezTo>
                    <a:pt x="13716" y="17148"/>
                    <a:pt x="13736" y="17101"/>
                    <a:pt x="13753" y="17058"/>
                  </a:cubicBezTo>
                  <a:cubicBezTo>
                    <a:pt x="13793" y="17026"/>
                    <a:pt x="13850" y="17127"/>
                    <a:pt x="13901" y="17094"/>
                  </a:cubicBezTo>
                  <a:cubicBezTo>
                    <a:pt x="13921" y="17080"/>
                    <a:pt x="13921" y="17044"/>
                    <a:pt x="13914" y="17019"/>
                  </a:cubicBezTo>
                  <a:cubicBezTo>
                    <a:pt x="13914" y="16944"/>
                    <a:pt x="13955" y="16861"/>
                    <a:pt x="14025" y="16833"/>
                  </a:cubicBezTo>
                  <a:cubicBezTo>
                    <a:pt x="14049" y="16869"/>
                    <a:pt x="14113" y="16876"/>
                    <a:pt x="14147" y="16854"/>
                  </a:cubicBezTo>
                  <a:cubicBezTo>
                    <a:pt x="14190" y="16833"/>
                    <a:pt x="14217" y="16793"/>
                    <a:pt x="14244" y="16758"/>
                  </a:cubicBezTo>
                  <a:cubicBezTo>
                    <a:pt x="14308" y="16793"/>
                    <a:pt x="14385" y="16793"/>
                    <a:pt x="14443" y="16758"/>
                  </a:cubicBezTo>
                  <a:cubicBezTo>
                    <a:pt x="14456" y="16772"/>
                    <a:pt x="14463" y="16786"/>
                    <a:pt x="14480" y="16811"/>
                  </a:cubicBezTo>
                  <a:cubicBezTo>
                    <a:pt x="14507" y="16779"/>
                    <a:pt x="14547" y="16765"/>
                    <a:pt x="14584" y="16772"/>
                  </a:cubicBezTo>
                  <a:cubicBezTo>
                    <a:pt x="14618" y="16779"/>
                    <a:pt x="14655" y="16833"/>
                    <a:pt x="14634" y="16861"/>
                  </a:cubicBezTo>
                  <a:cubicBezTo>
                    <a:pt x="14698" y="16869"/>
                    <a:pt x="14762" y="16854"/>
                    <a:pt x="14816" y="16826"/>
                  </a:cubicBezTo>
                  <a:cubicBezTo>
                    <a:pt x="14816" y="16840"/>
                    <a:pt x="14823" y="16854"/>
                    <a:pt x="14823" y="16869"/>
                  </a:cubicBezTo>
                  <a:cubicBezTo>
                    <a:pt x="14900" y="16915"/>
                    <a:pt x="15008" y="16894"/>
                    <a:pt x="15058" y="16818"/>
                  </a:cubicBezTo>
                  <a:cubicBezTo>
                    <a:pt x="15079" y="16779"/>
                    <a:pt x="15106" y="16725"/>
                    <a:pt x="15149" y="16743"/>
                  </a:cubicBezTo>
                  <a:cubicBezTo>
                    <a:pt x="15169" y="16704"/>
                    <a:pt x="15176" y="16661"/>
                    <a:pt x="15176" y="16621"/>
                  </a:cubicBezTo>
                  <a:cubicBezTo>
                    <a:pt x="15270" y="16621"/>
                    <a:pt x="15361" y="16607"/>
                    <a:pt x="15445" y="16578"/>
                  </a:cubicBezTo>
                  <a:cubicBezTo>
                    <a:pt x="15509" y="16650"/>
                    <a:pt x="15651" y="16518"/>
                    <a:pt x="15708" y="16600"/>
                  </a:cubicBezTo>
                  <a:cubicBezTo>
                    <a:pt x="15715" y="16614"/>
                    <a:pt x="15721" y="16629"/>
                    <a:pt x="15735" y="16636"/>
                  </a:cubicBezTo>
                  <a:cubicBezTo>
                    <a:pt x="15755" y="16643"/>
                    <a:pt x="15779" y="16636"/>
                    <a:pt x="15799" y="16629"/>
                  </a:cubicBezTo>
                  <a:cubicBezTo>
                    <a:pt x="15849" y="16621"/>
                    <a:pt x="15896" y="16682"/>
                    <a:pt x="15883" y="16736"/>
                  </a:cubicBezTo>
                  <a:cubicBezTo>
                    <a:pt x="15967" y="16779"/>
                    <a:pt x="16075" y="16736"/>
                    <a:pt x="16159" y="16682"/>
                  </a:cubicBezTo>
                  <a:cubicBezTo>
                    <a:pt x="16172" y="16675"/>
                    <a:pt x="16186" y="16668"/>
                    <a:pt x="16199" y="16668"/>
                  </a:cubicBezTo>
                  <a:cubicBezTo>
                    <a:pt x="16216" y="16675"/>
                    <a:pt x="16223" y="16690"/>
                    <a:pt x="16229" y="16697"/>
                  </a:cubicBezTo>
                  <a:cubicBezTo>
                    <a:pt x="16263" y="16750"/>
                    <a:pt x="16320" y="16786"/>
                    <a:pt x="16384" y="16793"/>
                  </a:cubicBezTo>
                  <a:cubicBezTo>
                    <a:pt x="16357" y="16861"/>
                    <a:pt x="16371" y="16944"/>
                    <a:pt x="16411" y="16998"/>
                  </a:cubicBezTo>
                  <a:cubicBezTo>
                    <a:pt x="16435" y="17019"/>
                    <a:pt x="16462" y="17051"/>
                    <a:pt x="16455" y="17080"/>
                  </a:cubicBezTo>
                  <a:cubicBezTo>
                    <a:pt x="16448" y="17101"/>
                    <a:pt x="16435" y="17109"/>
                    <a:pt x="16421" y="17134"/>
                  </a:cubicBezTo>
                  <a:cubicBezTo>
                    <a:pt x="16398" y="17170"/>
                    <a:pt x="16421" y="17223"/>
                    <a:pt x="16448" y="17259"/>
                  </a:cubicBezTo>
                  <a:cubicBezTo>
                    <a:pt x="16475" y="17298"/>
                    <a:pt x="16512" y="17334"/>
                    <a:pt x="16519" y="17381"/>
                  </a:cubicBezTo>
                  <a:cubicBezTo>
                    <a:pt x="16519" y="17410"/>
                    <a:pt x="16505" y="17442"/>
                    <a:pt x="16526" y="17463"/>
                  </a:cubicBezTo>
                  <a:cubicBezTo>
                    <a:pt x="16539" y="17478"/>
                    <a:pt x="16559" y="17485"/>
                    <a:pt x="16583" y="17492"/>
                  </a:cubicBezTo>
                  <a:cubicBezTo>
                    <a:pt x="16694" y="17531"/>
                    <a:pt x="16694" y="17696"/>
                    <a:pt x="16744" y="17811"/>
                  </a:cubicBezTo>
                  <a:cubicBezTo>
                    <a:pt x="16758" y="17832"/>
                    <a:pt x="16771" y="17854"/>
                    <a:pt x="16795" y="17868"/>
                  </a:cubicBezTo>
                  <a:cubicBezTo>
                    <a:pt x="16835" y="17886"/>
                    <a:pt x="16879" y="17839"/>
                    <a:pt x="16886" y="17793"/>
                  </a:cubicBezTo>
                  <a:cubicBezTo>
                    <a:pt x="16892" y="17750"/>
                    <a:pt x="16879" y="17703"/>
                    <a:pt x="16865" y="17660"/>
                  </a:cubicBezTo>
                  <a:cubicBezTo>
                    <a:pt x="16849" y="17614"/>
                    <a:pt x="16842" y="17560"/>
                    <a:pt x="16859" y="17524"/>
                  </a:cubicBezTo>
                  <a:cubicBezTo>
                    <a:pt x="16879" y="17478"/>
                    <a:pt x="16919" y="17435"/>
                    <a:pt x="16899" y="17388"/>
                  </a:cubicBezTo>
                  <a:cubicBezTo>
                    <a:pt x="16886" y="17367"/>
                    <a:pt x="16859" y="17359"/>
                    <a:pt x="16835" y="17334"/>
                  </a:cubicBezTo>
                  <a:cubicBezTo>
                    <a:pt x="16781" y="17284"/>
                    <a:pt x="16828" y="17184"/>
                    <a:pt x="16828" y="17101"/>
                  </a:cubicBezTo>
                  <a:cubicBezTo>
                    <a:pt x="16828" y="17033"/>
                    <a:pt x="16781" y="16958"/>
                    <a:pt x="16724" y="16937"/>
                  </a:cubicBezTo>
                  <a:cubicBezTo>
                    <a:pt x="16711" y="16922"/>
                    <a:pt x="16744" y="16908"/>
                    <a:pt x="16751" y="16926"/>
                  </a:cubicBezTo>
                  <a:cubicBezTo>
                    <a:pt x="16741" y="16876"/>
                    <a:pt x="16701" y="16826"/>
                    <a:pt x="16647" y="16826"/>
                  </a:cubicBezTo>
                  <a:cubicBezTo>
                    <a:pt x="16667" y="16765"/>
                    <a:pt x="16660" y="16704"/>
                    <a:pt x="16653" y="16643"/>
                  </a:cubicBezTo>
                  <a:cubicBezTo>
                    <a:pt x="16653" y="16629"/>
                    <a:pt x="16653" y="16621"/>
                    <a:pt x="16647" y="16607"/>
                  </a:cubicBezTo>
                  <a:cubicBezTo>
                    <a:pt x="16640" y="16532"/>
                    <a:pt x="16630" y="16450"/>
                    <a:pt x="16647" y="16374"/>
                  </a:cubicBezTo>
                  <a:cubicBezTo>
                    <a:pt x="16660" y="16328"/>
                    <a:pt x="16694" y="16285"/>
                    <a:pt x="16731" y="16299"/>
                  </a:cubicBezTo>
                  <a:cubicBezTo>
                    <a:pt x="16751" y="16270"/>
                    <a:pt x="16764" y="16231"/>
                    <a:pt x="16788" y="16202"/>
                  </a:cubicBezTo>
                  <a:lnTo>
                    <a:pt x="16936" y="16020"/>
                  </a:lnTo>
                  <a:cubicBezTo>
                    <a:pt x="17000" y="15944"/>
                    <a:pt x="17071" y="15855"/>
                    <a:pt x="17168" y="15841"/>
                  </a:cubicBezTo>
                  <a:cubicBezTo>
                    <a:pt x="17232" y="15841"/>
                    <a:pt x="17289" y="15780"/>
                    <a:pt x="17296" y="15719"/>
                  </a:cubicBezTo>
                  <a:cubicBezTo>
                    <a:pt x="17296" y="15712"/>
                    <a:pt x="17296" y="15697"/>
                    <a:pt x="17303" y="15690"/>
                  </a:cubicBezTo>
                  <a:cubicBezTo>
                    <a:pt x="17310" y="15676"/>
                    <a:pt x="17330" y="15683"/>
                    <a:pt x="17343" y="15676"/>
                  </a:cubicBezTo>
                  <a:cubicBezTo>
                    <a:pt x="17380" y="15676"/>
                    <a:pt x="17414" y="15644"/>
                    <a:pt x="17431" y="15608"/>
                  </a:cubicBezTo>
                  <a:cubicBezTo>
                    <a:pt x="17464" y="15629"/>
                    <a:pt x="17518" y="15633"/>
                    <a:pt x="17555" y="15601"/>
                  </a:cubicBezTo>
                  <a:cubicBezTo>
                    <a:pt x="17589" y="15572"/>
                    <a:pt x="17606" y="15518"/>
                    <a:pt x="17592" y="15472"/>
                  </a:cubicBezTo>
                  <a:cubicBezTo>
                    <a:pt x="17649" y="15486"/>
                    <a:pt x="17720" y="15457"/>
                    <a:pt x="17740" y="15396"/>
                  </a:cubicBezTo>
                  <a:cubicBezTo>
                    <a:pt x="17683" y="15404"/>
                    <a:pt x="17639" y="15328"/>
                    <a:pt x="17663" y="15278"/>
                  </a:cubicBezTo>
                  <a:cubicBezTo>
                    <a:pt x="17670" y="15260"/>
                    <a:pt x="17683" y="15246"/>
                    <a:pt x="17697" y="15224"/>
                  </a:cubicBezTo>
                  <a:cubicBezTo>
                    <a:pt x="17727" y="15171"/>
                    <a:pt x="17683" y="15096"/>
                    <a:pt x="17626" y="15096"/>
                  </a:cubicBezTo>
                  <a:cubicBezTo>
                    <a:pt x="17626" y="15060"/>
                    <a:pt x="17626" y="15013"/>
                    <a:pt x="17612" y="14977"/>
                  </a:cubicBezTo>
                  <a:cubicBezTo>
                    <a:pt x="17606" y="14959"/>
                    <a:pt x="17599" y="14952"/>
                    <a:pt x="17592" y="14938"/>
                  </a:cubicBezTo>
                  <a:cubicBezTo>
                    <a:pt x="17586" y="14924"/>
                    <a:pt x="17586" y="14909"/>
                    <a:pt x="17586" y="14895"/>
                  </a:cubicBezTo>
                  <a:cubicBezTo>
                    <a:pt x="17579" y="14795"/>
                    <a:pt x="17569" y="14698"/>
                    <a:pt x="17569" y="14601"/>
                  </a:cubicBezTo>
                  <a:cubicBezTo>
                    <a:pt x="17592" y="14623"/>
                    <a:pt x="17626" y="14594"/>
                    <a:pt x="17656" y="14594"/>
                  </a:cubicBezTo>
                  <a:cubicBezTo>
                    <a:pt x="17697" y="14594"/>
                    <a:pt x="17727" y="14644"/>
                    <a:pt x="17720" y="14684"/>
                  </a:cubicBezTo>
                  <a:cubicBezTo>
                    <a:pt x="17710" y="14727"/>
                    <a:pt x="17690" y="14766"/>
                    <a:pt x="17670" y="14802"/>
                  </a:cubicBezTo>
                  <a:cubicBezTo>
                    <a:pt x="17656" y="14841"/>
                    <a:pt x="17639" y="14895"/>
                    <a:pt x="17670" y="14924"/>
                  </a:cubicBezTo>
                  <a:cubicBezTo>
                    <a:pt x="17697" y="14924"/>
                    <a:pt x="17727" y="14895"/>
                    <a:pt x="17727" y="14856"/>
                  </a:cubicBezTo>
                  <a:cubicBezTo>
                    <a:pt x="17734" y="14827"/>
                    <a:pt x="17727" y="14787"/>
                    <a:pt x="17734" y="14759"/>
                  </a:cubicBezTo>
                  <a:cubicBezTo>
                    <a:pt x="17740" y="14712"/>
                    <a:pt x="17774" y="14669"/>
                    <a:pt x="17818" y="14651"/>
                  </a:cubicBezTo>
                  <a:cubicBezTo>
                    <a:pt x="17838" y="14644"/>
                    <a:pt x="17858" y="14637"/>
                    <a:pt x="17868" y="14623"/>
                  </a:cubicBezTo>
                  <a:cubicBezTo>
                    <a:pt x="17875" y="14616"/>
                    <a:pt x="17875" y="14601"/>
                    <a:pt x="17868" y="14594"/>
                  </a:cubicBezTo>
                  <a:cubicBezTo>
                    <a:pt x="17858" y="14540"/>
                    <a:pt x="17845" y="14494"/>
                    <a:pt x="17818" y="14458"/>
                  </a:cubicBezTo>
                  <a:cubicBezTo>
                    <a:pt x="17781" y="14436"/>
                    <a:pt x="17811" y="14368"/>
                    <a:pt x="17851" y="14361"/>
                  </a:cubicBezTo>
                  <a:cubicBezTo>
                    <a:pt x="17895" y="14361"/>
                    <a:pt x="17922" y="14404"/>
                    <a:pt x="17915" y="14451"/>
                  </a:cubicBezTo>
                  <a:cubicBezTo>
                    <a:pt x="17946" y="14376"/>
                    <a:pt x="17993" y="14315"/>
                    <a:pt x="18050" y="14261"/>
                  </a:cubicBezTo>
                  <a:cubicBezTo>
                    <a:pt x="18016" y="14225"/>
                    <a:pt x="17979" y="14164"/>
                    <a:pt x="18010" y="14128"/>
                  </a:cubicBezTo>
                  <a:cubicBezTo>
                    <a:pt x="18023" y="14110"/>
                    <a:pt x="18036" y="14103"/>
                    <a:pt x="18050" y="14096"/>
                  </a:cubicBezTo>
                  <a:cubicBezTo>
                    <a:pt x="18100" y="14067"/>
                    <a:pt x="18121" y="13985"/>
                    <a:pt x="18094" y="13931"/>
                  </a:cubicBezTo>
                  <a:cubicBezTo>
                    <a:pt x="18114" y="13953"/>
                    <a:pt x="18127" y="13978"/>
                    <a:pt x="18158" y="13985"/>
                  </a:cubicBezTo>
                  <a:cubicBezTo>
                    <a:pt x="18185" y="13992"/>
                    <a:pt x="18218" y="13978"/>
                    <a:pt x="18218" y="13946"/>
                  </a:cubicBezTo>
                  <a:cubicBezTo>
                    <a:pt x="18218" y="13931"/>
                    <a:pt x="18211" y="13917"/>
                    <a:pt x="18218" y="13910"/>
                  </a:cubicBezTo>
                  <a:cubicBezTo>
                    <a:pt x="18218" y="13878"/>
                    <a:pt x="18248" y="13863"/>
                    <a:pt x="18269" y="13849"/>
                  </a:cubicBezTo>
                  <a:cubicBezTo>
                    <a:pt x="18289" y="13863"/>
                    <a:pt x="18312" y="13885"/>
                    <a:pt x="18319" y="13917"/>
                  </a:cubicBezTo>
                  <a:lnTo>
                    <a:pt x="18353" y="13878"/>
                  </a:lnTo>
                  <a:cubicBezTo>
                    <a:pt x="18383" y="13903"/>
                    <a:pt x="18417" y="13924"/>
                    <a:pt x="18454" y="13917"/>
                  </a:cubicBezTo>
                  <a:cubicBezTo>
                    <a:pt x="18487" y="13910"/>
                    <a:pt x="18494" y="13835"/>
                    <a:pt x="18460" y="13835"/>
                  </a:cubicBezTo>
                  <a:cubicBezTo>
                    <a:pt x="18474" y="13795"/>
                    <a:pt x="18514" y="13788"/>
                    <a:pt x="18551" y="13795"/>
                  </a:cubicBezTo>
                  <a:cubicBezTo>
                    <a:pt x="18585" y="13802"/>
                    <a:pt x="18622" y="13813"/>
                    <a:pt x="18659" y="13795"/>
                  </a:cubicBezTo>
                  <a:cubicBezTo>
                    <a:pt x="18672" y="13788"/>
                    <a:pt x="18679" y="13781"/>
                    <a:pt x="18693" y="13788"/>
                  </a:cubicBezTo>
                  <a:cubicBezTo>
                    <a:pt x="18726" y="13788"/>
                    <a:pt x="18743" y="13856"/>
                    <a:pt x="18777" y="13842"/>
                  </a:cubicBezTo>
                  <a:cubicBezTo>
                    <a:pt x="18807" y="13835"/>
                    <a:pt x="18783" y="13781"/>
                    <a:pt x="18763" y="13759"/>
                  </a:cubicBezTo>
                  <a:cubicBezTo>
                    <a:pt x="18743" y="13738"/>
                    <a:pt x="18720" y="13713"/>
                    <a:pt x="18726" y="13684"/>
                  </a:cubicBezTo>
                  <a:cubicBezTo>
                    <a:pt x="18726" y="13670"/>
                    <a:pt x="18743" y="13652"/>
                    <a:pt x="18743" y="13638"/>
                  </a:cubicBezTo>
                  <a:cubicBezTo>
                    <a:pt x="18743" y="13609"/>
                    <a:pt x="18713" y="13595"/>
                    <a:pt x="18706" y="13570"/>
                  </a:cubicBezTo>
                  <a:cubicBezTo>
                    <a:pt x="18686" y="13519"/>
                    <a:pt x="18743" y="13458"/>
                    <a:pt x="18726" y="13398"/>
                  </a:cubicBezTo>
                  <a:cubicBezTo>
                    <a:pt x="18720" y="13376"/>
                    <a:pt x="18706" y="13362"/>
                    <a:pt x="18706" y="13337"/>
                  </a:cubicBezTo>
                  <a:cubicBezTo>
                    <a:pt x="18693" y="13261"/>
                    <a:pt x="18814" y="13233"/>
                    <a:pt x="18841" y="13161"/>
                  </a:cubicBezTo>
                  <a:cubicBezTo>
                    <a:pt x="18932" y="13154"/>
                    <a:pt x="19032" y="13140"/>
                    <a:pt x="19110" y="13079"/>
                  </a:cubicBezTo>
                  <a:cubicBezTo>
                    <a:pt x="19150" y="13050"/>
                    <a:pt x="19177" y="13011"/>
                    <a:pt x="19221" y="12982"/>
                  </a:cubicBezTo>
                  <a:cubicBezTo>
                    <a:pt x="19261" y="12950"/>
                    <a:pt x="19322" y="12936"/>
                    <a:pt x="19362" y="12964"/>
                  </a:cubicBezTo>
                  <a:cubicBezTo>
                    <a:pt x="19386" y="12921"/>
                    <a:pt x="19386" y="12867"/>
                    <a:pt x="19376" y="12824"/>
                  </a:cubicBezTo>
                  <a:lnTo>
                    <a:pt x="19463" y="12889"/>
                  </a:lnTo>
                  <a:cubicBezTo>
                    <a:pt x="19483" y="12860"/>
                    <a:pt x="19504" y="12832"/>
                    <a:pt x="19517" y="12792"/>
                  </a:cubicBezTo>
                  <a:cubicBezTo>
                    <a:pt x="19625" y="12756"/>
                    <a:pt x="19722" y="12724"/>
                    <a:pt x="19830" y="12688"/>
                  </a:cubicBezTo>
                  <a:cubicBezTo>
                    <a:pt x="19830" y="12717"/>
                    <a:pt x="19823" y="12749"/>
                    <a:pt x="19823" y="12778"/>
                  </a:cubicBezTo>
                  <a:cubicBezTo>
                    <a:pt x="19786" y="12764"/>
                    <a:pt x="19753" y="12792"/>
                    <a:pt x="19729" y="12832"/>
                  </a:cubicBezTo>
                  <a:cubicBezTo>
                    <a:pt x="19709" y="12860"/>
                    <a:pt x="19695" y="12907"/>
                    <a:pt x="19658" y="12921"/>
                  </a:cubicBezTo>
                  <a:cubicBezTo>
                    <a:pt x="19618" y="12950"/>
                    <a:pt x="19541" y="12957"/>
                    <a:pt x="19547" y="13018"/>
                  </a:cubicBezTo>
                  <a:cubicBezTo>
                    <a:pt x="19568" y="13025"/>
                    <a:pt x="19581" y="13032"/>
                    <a:pt x="19605" y="13032"/>
                  </a:cubicBezTo>
                  <a:cubicBezTo>
                    <a:pt x="19561" y="13115"/>
                    <a:pt x="19625" y="13211"/>
                    <a:pt x="19695" y="13269"/>
                  </a:cubicBezTo>
                  <a:cubicBezTo>
                    <a:pt x="19759" y="13226"/>
                    <a:pt x="19864" y="13211"/>
                    <a:pt x="19870" y="13133"/>
                  </a:cubicBezTo>
                  <a:cubicBezTo>
                    <a:pt x="19870" y="13115"/>
                    <a:pt x="19864" y="13093"/>
                    <a:pt x="19870" y="13079"/>
                  </a:cubicBezTo>
                  <a:cubicBezTo>
                    <a:pt x="19877" y="13064"/>
                    <a:pt x="19887" y="13057"/>
                    <a:pt x="19894" y="13039"/>
                  </a:cubicBezTo>
                  <a:cubicBezTo>
                    <a:pt x="19985" y="12950"/>
                    <a:pt x="20153" y="12996"/>
                    <a:pt x="20237" y="12900"/>
                  </a:cubicBezTo>
                  <a:cubicBezTo>
                    <a:pt x="20261" y="12867"/>
                    <a:pt x="20281" y="12832"/>
                    <a:pt x="20318" y="12832"/>
                  </a:cubicBezTo>
                  <a:cubicBezTo>
                    <a:pt x="20338" y="12832"/>
                    <a:pt x="20358" y="12839"/>
                    <a:pt x="20372" y="12839"/>
                  </a:cubicBezTo>
                  <a:cubicBezTo>
                    <a:pt x="20422" y="12839"/>
                    <a:pt x="20442" y="12771"/>
                    <a:pt x="20493" y="12749"/>
                  </a:cubicBezTo>
                  <a:cubicBezTo>
                    <a:pt x="20537" y="12731"/>
                    <a:pt x="20607" y="12749"/>
                    <a:pt x="20614" y="12703"/>
                  </a:cubicBezTo>
                  <a:cubicBezTo>
                    <a:pt x="20590" y="12688"/>
                    <a:pt x="20570" y="12656"/>
                    <a:pt x="20570" y="12627"/>
                  </a:cubicBezTo>
                  <a:cubicBezTo>
                    <a:pt x="20621" y="12606"/>
                    <a:pt x="20685" y="12592"/>
                    <a:pt x="20739" y="12592"/>
                  </a:cubicBezTo>
                  <a:cubicBezTo>
                    <a:pt x="20745" y="12559"/>
                    <a:pt x="20745" y="12531"/>
                    <a:pt x="20755" y="12498"/>
                  </a:cubicBezTo>
                  <a:cubicBezTo>
                    <a:pt x="20705" y="12484"/>
                    <a:pt x="20718" y="12409"/>
                    <a:pt x="20705" y="12359"/>
                  </a:cubicBezTo>
                  <a:cubicBezTo>
                    <a:pt x="20691" y="12291"/>
                    <a:pt x="20634" y="12244"/>
                    <a:pt x="20570" y="12244"/>
                  </a:cubicBezTo>
                  <a:cubicBezTo>
                    <a:pt x="20506" y="12312"/>
                    <a:pt x="20473" y="12395"/>
                    <a:pt x="20456" y="12484"/>
                  </a:cubicBezTo>
                  <a:cubicBezTo>
                    <a:pt x="20479" y="12509"/>
                    <a:pt x="20493" y="12538"/>
                    <a:pt x="20493" y="12567"/>
                  </a:cubicBezTo>
                  <a:cubicBezTo>
                    <a:pt x="20422" y="12552"/>
                    <a:pt x="20345" y="12559"/>
                    <a:pt x="20281" y="12606"/>
                  </a:cubicBezTo>
                  <a:cubicBezTo>
                    <a:pt x="20267" y="12613"/>
                    <a:pt x="20254" y="12620"/>
                    <a:pt x="20237" y="12620"/>
                  </a:cubicBezTo>
                  <a:cubicBezTo>
                    <a:pt x="20230" y="12617"/>
                    <a:pt x="20227" y="12599"/>
                    <a:pt x="20230" y="12592"/>
                  </a:cubicBezTo>
                  <a:cubicBezTo>
                    <a:pt x="20183" y="12606"/>
                    <a:pt x="20136" y="12606"/>
                    <a:pt x="20089" y="12592"/>
                  </a:cubicBezTo>
                  <a:cubicBezTo>
                    <a:pt x="20153" y="12524"/>
                    <a:pt x="20230" y="12463"/>
                    <a:pt x="20308" y="12409"/>
                  </a:cubicBezTo>
                  <a:cubicBezTo>
                    <a:pt x="20294" y="12387"/>
                    <a:pt x="20274" y="12380"/>
                    <a:pt x="20247" y="12373"/>
                  </a:cubicBezTo>
                  <a:cubicBezTo>
                    <a:pt x="20204" y="12359"/>
                    <a:pt x="20160" y="12341"/>
                    <a:pt x="20119" y="12359"/>
                  </a:cubicBezTo>
                  <a:cubicBezTo>
                    <a:pt x="20076" y="12366"/>
                    <a:pt x="20042" y="12409"/>
                    <a:pt x="20049" y="12456"/>
                  </a:cubicBezTo>
                  <a:cubicBezTo>
                    <a:pt x="19998" y="12448"/>
                    <a:pt x="19948" y="12441"/>
                    <a:pt x="19907" y="12434"/>
                  </a:cubicBezTo>
                  <a:cubicBezTo>
                    <a:pt x="19843" y="12334"/>
                    <a:pt x="19830" y="12198"/>
                    <a:pt x="19877" y="12087"/>
                  </a:cubicBezTo>
                  <a:cubicBezTo>
                    <a:pt x="19800" y="12018"/>
                    <a:pt x="19695" y="11983"/>
                    <a:pt x="19598" y="11983"/>
                  </a:cubicBezTo>
                  <a:cubicBezTo>
                    <a:pt x="19574" y="11936"/>
                    <a:pt x="19625" y="11900"/>
                    <a:pt x="19675" y="11900"/>
                  </a:cubicBezTo>
                  <a:cubicBezTo>
                    <a:pt x="19722" y="11900"/>
                    <a:pt x="19756" y="11922"/>
                    <a:pt x="19806" y="11915"/>
                  </a:cubicBezTo>
                  <a:cubicBezTo>
                    <a:pt x="19854" y="11907"/>
                    <a:pt x="19901" y="11857"/>
                    <a:pt x="19914" y="11807"/>
                  </a:cubicBezTo>
                  <a:cubicBezTo>
                    <a:pt x="19928" y="11753"/>
                    <a:pt x="19914" y="11703"/>
                    <a:pt x="19894" y="11650"/>
                  </a:cubicBezTo>
                  <a:cubicBezTo>
                    <a:pt x="19887" y="11635"/>
                    <a:pt x="19877" y="11621"/>
                    <a:pt x="19864" y="11614"/>
                  </a:cubicBezTo>
                  <a:cubicBezTo>
                    <a:pt x="19843" y="11599"/>
                    <a:pt x="19823" y="11592"/>
                    <a:pt x="19800" y="11581"/>
                  </a:cubicBezTo>
                  <a:cubicBezTo>
                    <a:pt x="19695" y="11560"/>
                    <a:pt x="19581" y="11538"/>
                    <a:pt x="19490" y="11599"/>
                  </a:cubicBezTo>
                  <a:cubicBezTo>
                    <a:pt x="19463" y="11614"/>
                    <a:pt x="19440" y="11642"/>
                    <a:pt x="19413" y="11650"/>
                  </a:cubicBezTo>
                  <a:cubicBezTo>
                    <a:pt x="19393" y="11657"/>
                    <a:pt x="19362" y="11657"/>
                    <a:pt x="19342" y="11667"/>
                  </a:cubicBezTo>
                  <a:cubicBezTo>
                    <a:pt x="19265" y="11689"/>
                    <a:pt x="19221" y="11786"/>
                    <a:pt x="19144" y="11832"/>
                  </a:cubicBezTo>
                  <a:cubicBezTo>
                    <a:pt x="19117" y="11847"/>
                    <a:pt x="19073" y="11850"/>
                    <a:pt x="19046" y="11875"/>
                  </a:cubicBezTo>
                  <a:cubicBezTo>
                    <a:pt x="19019" y="11897"/>
                    <a:pt x="18995" y="11936"/>
                    <a:pt x="19009" y="11976"/>
                  </a:cubicBezTo>
                  <a:cubicBezTo>
                    <a:pt x="18955" y="11976"/>
                    <a:pt x="18898" y="12018"/>
                    <a:pt x="18878" y="12079"/>
                  </a:cubicBezTo>
                  <a:cubicBezTo>
                    <a:pt x="18827" y="12051"/>
                    <a:pt x="18861" y="11965"/>
                    <a:pt x="18905" y="11929"/>
                  </a:cubicBezTo>
                  <a:cubicBezTo>
                    <a:pt x="18948" y="11890"/>
                    <a:pt x="19009" y="11847"/>
                    <a:pt x="18995" y="11786"/>
                  </a:cubicBezTo>
                  <a:cubicBezTo>
                    <a:pt x="18995" y="11771"/>
                    <a:pt x="18989" y="11764"/>
                    <a:pt x="18989" y="11750"/>
                  </a:cubicBezTo>
                  <a:cubicBezTo>
                    <a:pt x="18989" y="11725"/>
                    <a:pt x="19002" y="11703"/>
                    <a:pt x="19019" y="11689"/>
                  </a:cubicBezTo>
                  <a:lnTo>
                    <a:pt x="19144" y="11553"/>
                  </a:lnTo>
                  <a:cubicBezTo>
                    <a:pt x="19157" y="11574"/>
                    <a:pt x="19187" y="11574"/>
                    <a:pt x="19207" y="11560"/>
                  </a:cubicBezTo>
                  <a:cubicBezTo>
                    <a:pt x="19228" y="11546"/>
                    <a:pt x="19244" y="11524"/>
                    <a:pt x="19258" y="11499"/>
                  </a:cubicBezTo>
                  <a:cubicBezTo>
                    <a:pt x="19292" y="11517"/>
                    <a:pt x="19342" y="11506"/>
                    <a:pt x="19362" y="11470"/>
                  </a:cubicBezTo>
                  <a:cubicBezTo>
                    <a:pt x="19393" y="11442"/>
                    <a:pt x="19393" y="11388"/>
                    <a:pt x="19369" y="11349"/>
                  </a:cubicBezTo>
                  <a:cubicBezTo>
                    <a:pt x="19483" y="11273"/>
                    <a:pt x="19605" y="11223"/>
                    <a:pt x="19736" y="11184"/>
                  </a:cubicBezTo>
                  <a:cubicBezTo>
                    <a:pt x="19800" y="11209"/>
                    <a:pt x="19870" y="11209"/>
                    <a:pt x="19934" y="11198"/>
                  </a:cubicBezTo>
                  <a:cubicBezTo>
                    <a:pt x="19985" y="11191"/>
                    <a:pt x="20025" y="11177"/>
                    <a:pt x="20076" y="11184"/>
                  </a:cubicBezTo>
                  <a:cubicBezTo>
                    <a:pt x="20106" y="11191"/>
                    <a:pt x="20140" y="11198"/>
                    <a:pt x="20167" y="11216"/>
                  </a:cubicBezTo>
                  <a:cubicBezTo>
                    <a:pt x="20247" y="11245"/>
                    <a:pt x="20338" y="11245"/>
                    <a:pt x="20422" y="11223"/>
                  </a:cubicBezTo>
                  <a:cubicBezTo>
                    <a:pt x="20436" y="11216"/>
                    <a:pt x="20449" y="11216"/>
                    <a:pt x="20473" y="11216"/>
                  </a:cubicBezTo>
                  <a:cubicBezTo>
                    <a:pt x="20486" y="11216"/>
                    <a:pt x="20493" y="11223"/>
                    <a:pt x="20500" y="11230"/>
                  </a:cubicBezTo>
                  <a:cubicBezTo>
                    <a:pt x="20584" y="11273"/>
                    <a:pt x="20685" y="11259"/>
                    <a:pt x="20769" y="11238"/>
                  </a:cubicBezTo>
                  <a:cubicBezTo>
                    <a:pt x="20796" y="11230"/>
                    <a:pt x="20826" y="11223"/>
                    <a:pt x="20846" y="11198"/>
                  </a:cubicBezTo>
                  <a:cubicBezTo>
                    <a:pt x="20860" y="11180"/>
                    <a:pt x="20843" y="11137"/>
                    <a:pt x="20816" y="11137"/>
                  </a:cubicBezTo>
                  <a:cubicBezTo>
                    <a:pt x="20877" y="11130"/>
                    <a:pt x="20940" y="11094"/>
                    <a:pt x="20981" y="11041"/>
                  </a:cubicBezTo>
                  <a:cubicBezTo>
                    <a:pt x="20994" y="11019"/>
                    <a:pt x="21008" y="10990"/>
                    <a:pt x="21028" y="10976"/>
                  </a:cubicBezTo>
                  <a:cubicBezTo>
                    <a:pt x="21052" y="10951"/>
                    <a:pt x="21078" y="10944"/>
                    <a:pt x="21099" y="10930"/>
                  </a:cubicBezTo>
                  <a:cubicBezTo>
                    <a:pt x="21213" y="10876"/>
                    <a:pt x="21334" y="10826"/>
                    <a:pt x="21452" y="10772"/>
                  </a:cubicBezTo>
                  <a:cubicBezTo>
                    <a:pt x="21412" y="10779"/>
                    <a:pt x="21368" y="10779"/>
                    <a:pt x="21334" y="10786"/>
                  </a:cubicBezTo>
                  <a:cubicBezTo>
                    <a:pt x="21375" y="10758"/>
                    <a:pt x="21418" y="10733"/>
                    <a:pt x="21459" y="10718"/>
                  </a:cubicBezTo>
                  <a:cubicBezTo>
                    <a:pt x="21465" y="10718"/>
                    <a:pt x="21475" y="10711"/>
                    <a:pt x="21482" y="10711"/>
                  </a:cubicBezTo>
                  <a:cubicBezTo>
                    <a:pt x="21489" y="10704"/>
                    <a:pt x="21489" y="10690"/>
                    <a:pt x="21496" y="10682"/>
                  </a:cubicBezTo>
                  <a:cubicBezTo>
                    <a:pt x="21509" y="10643"/>
                    <a:pt x="21546" y="10629"/>
                    <a:pt x="21580" y="10614"/>
                  </a:cubicBezTo>
                  <a:cubicBezTo>
                    <a:pt x="21587" y="10593"/>
                    <a:pt x="21587" y="10568"/>
                    <a:pt x="21593" y="10546"/>
                  </a:cubicBezTo>
                  <a:cubicBezTo>
                    <a:pt x="21593" y="10532"/>
                    <a:pt x="21587" y="10518"/>
                    <a:pt x="21580" y="10525"/>
                  </a:cubicBezTo>
                  <a:cubicBezTo>
                    <a:pt x="21573" y="10478"/>
                    <a:pt x="21566" y="10442"/>
                    <a:pt x="21566" y="10396"/>
                  </a:cubicBezTo>
                  <a:cubicBezTo>
                    <a:pt x="21566" y="10349"/>
                    <a:pt x="21573" y="10299"/>
                    <a:pt x="21593" y="10260"/>
                  </a:cubicBezTo>
                  <a:cubicBezTo>
                    <a:pt x="21593" y="10253"/>
                    <a:pt x="21600" y="10245"/>
                    <a:pt x="21600" y="10231"/>
                  </a:cubicBezTo>
                  <a:cubicBezTo>
                    <a:pt x="21600" y="10192"/>
                    <a:pt x="21546" y="10184"/>
                    <a:pt x="21546" y="10149"/>
                  </a:cubicBezTo>
                  <a:cubicBezTo>
                    <a:pt x="21536" y="10102"/>
                    <a:pt x="21489" y="10073"/>
                    <a:pt x="21445" y="10081"/>
                  </a:cubicBezTo>
                  <a:cubicBezTo>
                    <a:pt x="21432" y="10081"/>
                    <a:pt x="21425" y="10088"/>
                    <a:pt x="21412" y="10095"/>
                  </a:cubicBezTo>
                  <a:cubicBezTo>
                    <a:pt x="21381" y="10102"/>
                    <a:pt x="21361" y="10081"/>
                    <a:pt x="21334" y="10066"/>
                  </a:cubicBezTo>
                  <a:cubicBezTo>
                    <a:pt x="21284" y="10027"/>
                    <a:pt x="21226" y="10005"/>
                    <a:pt x="21163" y="9998"/>
                  </a:cubicBezTo>
                  <a:cubicBezTo>
                    <a:pt x="21149" y="9998"/>
                    <a:pt x="21129" y="9991"/>
                    <a:pt x="21115" y="9984"/>
                  </a:cubicBezTo>
                  <a:cubicBezTo>
                    <a:pt x="21092" y="9959"/>
                    <a:pt x="21099" y="9923"/>
                    <a:pt x="21122" y="9901"/>
                  </a:cubicBezTo>
                  <a:cubicBezTo>
                    <a:pt x="21142" y="9876"/>
                    <a:pt x="21169" y="9869"/>
                    <a:pt x="21200" y="9862"/>
                  </a:cubicBezTo>
                  <a:cubicBezTo>
                    <a:pt x="21233" y="9855"/>
                    <a:pt x="21264" y="9848"/>
                    <a:pt x="21297" y="9841"/>
                  </a:cubicBezTo>
                  <a:cubicBezTo>
                    <a:pt x="21311" y="9833"/>
                    <a:pt x="21334" y="9826"/>
                    <a:pt x="21341" y="9808"/>
                  </a:cubicBezTo>
                  <a:cubicBezTo>
                    <a:pt x="21341" y="9787"/>
                    <a:pt x="21311" y="9780"/>
                    <a:pt x="21297" y="9773"/>
                  </a:cubicBezTo>
                  <a:cubicBezTo>
                    <a:pt x="21270" y="9758"/>
                    <a:pt x="21247" y="9726"/>
                    <a:pt x="21220" y="9712"/>
                  </a:cubicBezTo>
                  <a:cubicBezTo>
                    <a:pt x="21193" y="9690"/>
                    <a:pt x="21149" y="9690"/>
                    <a:pt x="21129" y="9712"/>
                  </a:cubicBezTo>
                  <a:cubicBezTo>
                    <a:pt x="21136" y="9683"/>
                    <a:pt x="21105" y="9658"/>
                    <a:pt x="21078" y="9651"/>
                  </a:cubicBezTo>
                  <a:cubicBezTo>
                    <a:pt x="21052" y="9644"/>
                    <a:pt x="21021" y="9651"/>
                    <a:pt x="21001" y="9636"/>
                  </a:cubicBezTo>
                  <a:cubicBezTo>
                    <a:pt x="20967" y="9622"/>
                    <a:pt x="20951" y="9568"/>
                    <a:pt x="20917" y="9540"/>
                  </a:cubicBezTo>
                  <a:cubicBezTo>
                    <a:pt x="20897" y="9525"/>
                    <a:pt x="20873" y="9525"/>
                    <a:pt x="20853" y="9518"/>
                  </a:cubicBezTo>
                  <a:cubicBezTo>
                    <a:pt x="20796" y="9500"/>
                    <a:pt x="20739" y="9464"/>
                    <a:pt x="20705" y="9411"/>
                  </a:cubicBezTo>
                  <a:cubicBezTo>
                    <a:pt x="20685" y="9389"/>
                    <a:pt x="20685" y="9336"/>
                    <a:pt x="20712" y="9336"/>
                  </a:cubicBezTo>
                  <a:cubicBezTo>
                    <a:pt x="20668" y="9328"/>
                    <a:pt x="20628" y="9321"/>
                    <a:pt x="20614" y="9275"/>
                  </a:cubicBezTo>
                  <a:cubicBezTo>
                    <a:pt x="20614" y="9260"/>
                    <a:pt x="20614" y="9246"/>
                    <a:pt x="20607" y="9239"/>
                  </a:cubicBezTo>
                  <a:cubicBezTo>
                    <a:pt x="20597" y="9217"/>
                    <a:pt x="20570" y="9210"/>
                    <a:pt x="20557" y="9192"/>
                  </a:cubicBezTo>
                  <a:cubicBezTo>
                    <a:pt x="20527" y="9164"/>
                    <a:pt x="20543" y="9103"/>
                    <a:pt x="20584" y="9096"/>
                  </a:cubicBezTo>
                  <a:cubicBezTo>
                    <a:pt x="20543" y="9096"/>
                    <a:pt x="20520" y="9027"/>
                    <a:pt x="20550" y="8999"/>
                  </a:cubicBezTo>
                  <a:cubicBezTo>
                    <a:pt x="20557" y="8992"/>
                    <a:pt x="20570" y="8984"/>
                    <a:pt x="20570" y="8977"/>
                  </a:cubicBezTo>
                  <a:cubicBezTo>
                    <a:pt x="20577" y="8952"/>
                    <a:pt x="20557" y="8938"/>
                    <a:pt x="20543" y="8924"/>
                  </a:cubicBezTo>
                  <a:cubicBezTo>
                    <a:pt x="20506" y="8884"/>
                    <a:pt x="20486" y="8834"/>
                    <a:pt x="20493" y="8780"/>
                  </a:cubicBezTo>
                  <a:cubicBezTo>
                    <a:pt x="20473" y="8780"/>
                    <a:pt x="20449" y="8780"/>
                    <a:pt x="20429" y="8773"/>
                  </a:cubicBezTo>
                  <a:cubicBezTo>
                    <a:pt x="20416" y="8719"/>
                    <a:pt x="20479" y="8669"/>
                    <a:pt x="20449" y="8623"/>
                  </a:cubicBezTo>
                  <a:cubicBezTo>
                    <a:pt x="20436" y="8601"/>
                    <a:pt x="20402" y="8608"/>
                    <a:pt x="20379" y="8583"/>
                  </a:cubicBezTo>
                  <a:cubicBezTo>
                    <a:pt x="20372" y="8576"/>
                    <a:pt x="20372" y="8562"/>
                    <a:pt x="20365" y="8547"/>
                  </a:cubicBezTo>
                  <a:cubicBezTo>
                    <a:pt x="20352" y="8519"/>
                    <a:pt x="20325" y="8501"/>
                    <a:pt x="20294" y="8519"/>
                  </a:cubicBezTo>
                  <a:cubicBezTo>
                    <a:pt x="20294" y="8487"/>
                    <a:pt x="20301" y="8458"/>
                    <a:pt x="20318" y="8433"/>
                  </a:cubicBezTo>
                  <a:cubicBezTo>
                    <a:pt x="20281" y="8433"/>
                    <a:pt x="20254" y="8404"/>
                    <a:pt x="20261" y="8368"/>
                  </a:cubicBezTo>
                  <a:cubicBezTo>
                    <a:pt x="20261" y="8350"/>
                    <a:pt x="20267" y="8336"/>
                    <a:pt x="20261" y="8322"/>
                  </a:cubicBezTo>
                  <a:cubicBezTo>
                    <a:pt x="20254" y="8315"/>
                    <a:pt x="20237" y="8307"/>
                    <a:pt x="20230" y="8300"/>
                  </a:cubicBezTo>
                  <a:cubicBezTo>
                    <a:pt x="20204" y="8268"/>
                    <a:pt x="20237" y="8200"/>
                    <a:pt x="20204" y="8178"/>
                  </a:cubicBezTo>
                  <a:cubicBezTo>
                    <a:pt x="20183" y="8164"/>
                    <a:pt x="20160" y="8178"/>
                    <a:pt x="20140" y="8193"/>
                  </a:cubicBezTo>
                  <a:cubicBezTo>
                    <a:pt x="20133" y="8164"/>
                    <a:pt x="20133" y="8125"/>
                    <a:pt x="20146" y="8096"/>
                  </a:cubicBezTo>
                  <a:lnTo>
                    <a:pt x="20106" y="8096"/>
                  </a:lnTo>
                  <a:cubicBezTo>
                    <a:pt x="20119" y="8067"/>
                    <a:pt x="20133" y="8042"/>
                    <a:pt x="20140" y="8014"/>
                  </a:cubicBezTo>
                  <a:cubicBezTo>
                    <a:pt x="20126" y="8028"/>
                    <a:pt x="20106" y="8007"/>
                    <a:pt x="20089" y="7992"/>
                  </a:cubicBezTo>
                  <a:cubicBezTo>
                    <a:pt x="20049" y="7938"/>
                    <a:pt x="20005" y="7863"/>
                    <a:pt x="20042" y="7810"/>
                  </a:cubicBezTo>
                  <a:cubicBezTo>
                    <a:pt x="20005" y="7817"/>
                    <a:pt x="19985" y="7767"/>
                    <a:pt x="19985" y="7720"/>
                  </a:cubicBezTo>
                  <a:cubicBezTo>
                    <a:pt x="19992" y="7684"/>
                    <a:pt x="20005" y="7638"/>
                    <a:pt x="19992" y="7602"/>
                  </a:cubicBezTo>
                  <a:cubicBezTo>
                    <a:pt x="19971" y="7548"/>
                    <a:pt x="19907" y="7534"/>
                    <a:pt x="19850" y="7534"/>
                  </a:cubicBezTo>
                  <a:cubicBezTo>
                    <a:pt x="19850" y="7509"/>
                    <a:pt x="19843" y="7487"/>
                    <a:pt x="19843" y="7466"/>
                  </a:cubicBezTo>
                  <a:cubicBezTo>
                    <a:pt x="19793" y="7487"/>
                    <a:pt x="19793" y="7555"/>
                    <a:pt x="19806" y="7616"/>
                  </a:cubicBezTo>
                  <a:cubicBezTo>
                    <a:pt x="19823" y="7670"/>
                    <a:pt x="19823" y="7741"/>
                    <a:pt x="19780" y="7767"/>
                  </a:cubicBezTo>
                  <a:cubicBezTo>
                    <a:pt x="19766" y="7774"/>
                    <a:pt x="19759" y="7774"/>
                    <a:pt x="19746" y="7781"/>
                  </a:cubicBezTo>
                  <a:cubicBezTo>
                    <a:pt x="19716" y="7802"/>
                    <a:pt x="19722" y="7842"/>
                    <a:pt x="19729" y="7878"/>
                  </a:cubicBezTo>
                  <a:cubicBezTo>
                    <a:pt x="19702" y="7870"/>
                    <a:pt x="19689" y="7910"/>
                    <a:pt x="19682" y="7938"/>
                  </a:cubicBezTo>
                  <a:cubicBezTo>
                    <a:pt x="19658" y="8028"/>
                    <a:pt x="19631" y="8118"/>
                    <a:pt x="19611" y="8211"/>
                  </a:cubicBezTo>
                  <a:cubicBezTo>
                    <a:pt x="19554" y="8193"/>
                    <a:pt x="19490" y="8261"/>
                    <a:pt x="19504" y="8322"/>
                  </a:cubicBezTo>
                  <a:lnTo>
                    <a:pt x="19419" y="8322"/>
                  </a:lnTo>
                  <a:lnTo>
                    <a:pt x="19419" y="8390"/>
                  </a:lnTo>
                  <a:cubicBezTo>
                    <a:pt x="19399" y="8390"/>
                    <a:pt x="19369" y="8397"/>
                    <a:pt x="19356" y="8411"/>
                  </a:cubicBezTo>
                  <a:cubicBezTo>
                    <a:pt x="19278" y="8397"/>
                    <a:pt x="19228" y="8322"/>
                    <a:pt x="19181" y="8261"/>
                  </a:cubicBezTo>
                  <a:cubicBezTo>
                    <a:pt x="19123" y="8200"/>
                    <a:pt x="19039" y="8157"/>
                    <a:pt x="18975" y="8200"/>
                  </a:cubicBezTo>
                  <a:cubicBezTo>
                    <a:pt x="18938" y="8225"/>
                    <a:pt x="18905" y="8264"/>
                    <a:pt x="18878" y="8239"/>
                  </a:cubicBezTo>
                  <a:cubicBezTo>
                    <a:pt x="18854" y="8214"/>
                    <a:pt x="18884" y="8178"/>
                    <a:pt x="18905" y="8171"/>
                  </a:cubicBezTo>
                  <a:cubicBezTo>
                    <a:pt x="18932" y="8164"/>
                    <a:pt x="18958" y="8171"/>
                    <a:pt x="18989" y="8164"/>
                  </a:cubicBezTo>
                  <a:cubicBezTo>
                    <a:pt x="19016" y="8157"/>
                    <a:pt x="19046" y="8136"/>
                    <a:pt x="19039" y="8103"/>
                  </a:cubicBezTo>
                  <a:cubicBezTo>
                    <a:pt x="19039" y="8089"/>
                    <a:pt x="19026" y="8082"/>
                    <a:pt x="19019" y="8075"/>
                  </a:cubicBezTo>
                  <a:cubicBezTo>
                    <a:pt x="18982" y="8035"/>
                    <a:pt x="18938" y="7999"/>
                    <a:pt x="18905" y="7967"/>
                  </a:cubicBezTo>
                  <a:cubicBezTo>
                    <a:pt x="18884" y="7953"/>
                    <a:pt x="18868" y="7931"/>
                    <a:pt x="18854" y="7910"/>
                  </a:cubicBezTo>
                  <a:cubicBezTo>
                    <a:pt x="18821" y="7842"/>
                    <a:pt x="18854" y="7759"/>
                    <a:pt x="18905" y="7698"/>
                  </a:cubicBezTo>
                  <a:cubicBezTo>
                    <a:pt x="18891" y="7698"/>
                    <a:pt x="18868" y="7691"/>
                    <a:pt x="18861" y="7677"/>
                  </a:cubicBezTo>
                  <a:cubicBezTo>
                    <a:pt x="18868" y="7652"/>
                    <a:pt x="18884" y="7630"/>
                    <a:pt x="18905" y="7616"/>
                  </a:cubicBezTo>
                  <a:lnTo>
                    <a:pt x="18884" y="7433"/>
                  </a:lnTo>
                  <a:cubicBezTo>
                    <a:pt x="18925" y="7376"/>
                    <a:pt x="18898" y="7276"/>
                    <a:pt x="18834" y="7247"/>
                  </a:cubicBezTo>
                  <a:cubicBezTo>
                    <a:pt x="18770" y="7218"/>
                    <a:pt x="18693" y="7226"/>
                    <a:pt x="18635" y="7269"/>
                  </a:cubicBezTo>
                  <a:cubicBezTo>
                    <a:pt x="18615" y="7233"/>
                    <a:pt x="18595" y="7201"/>
                    <a:pt x="18571" y="7165"/>
                  </a:cubicBezTo>
                  <a:cubicBezTo>
                    <a:pt x="18551" y="7186"/>
                    <a:pt x="18518" y="7158"/>
                    <a:pt x="18508" y="7125"/>
                  </a:cubicBezTo>
                  <a:cubicBezTo>
                    <a:pt x="18501" y="7097"/>
                    <a:pt x="18508" y="7061"/>
                    <a:pt x="18501" y="7029"/>
                  </a:cubicBezTo>
                  <a:cubicBezTo>
                    <a:pt x="18494" y="7000"/>
                    <a:pt x="18474" y="6986"/>
                    <a:pt x="18454" y="6961"/>
                  </a:cubicBezTo>
                  <a:cubicBezTo>
                    <a:pt x="18397" y="6910"/>
                    <a:pt x="18339" y="6850"/>
                    <a:pt x="18289" y="6796"/>
                  </a:cubicBezTo>
                  <a:cubicBezTo>
                    <a:pt x="18262" y="6774"/>
                    <a:pt x="18238" y="6742"/>
                    <a:pt x="18205" y="6735"/>
                  </a:cubicBezTo>
                  <a:cubicBezTo>
                    <a:pt x="18168" y="6728"/>
                    <a:pt x="18127" y="6735"/>
                    <a:pt x="18114" y="6774"/>
                  </a:cubicBezTo>
                  <a:cubicBezTo>
                    <a:pt x="18114" y="6742"/>
                    <a:pt x="18080" y="6728"/>
                    <a:pt x="18057" y="6735"/>
                  </a:cubicBezTo>
                  <a:cubicBezTo>
                    <a:pt x="18030" y="6735"/>
                    <a:pt x="18010" y="6753"/>
                    <a:pt x="17986" y="6760"/>
                  </a:cubicBezTo>
                  <a:cubicBezTo>
                    <a:pt x="17909" y="6789"/>
                    <a:pt x="17824" y="6767"/>
                    <a:pt x="17761" y="6706"/>
                  </a:cubicBezTo>
                  <a:cubicBezTo>
                    <a:pt x="17697" y="6645"/>
                    <a:pt x="17586" y="6692"/>
                    <a:pt x="17528" y="6631"/>
                  </a:cubicBezTo>
                  <a:cubicBezTo>
                    <a:pt x="17515" y="6617"/>
                    <a:pt x="17498" y="6595"/>
                    <a:pt x="17478" y="6577"/>
                  </a:cubicBezTo>
                  <a:cubicBezTo>
                    <a:pt x="17431" y="6549"/>
                    <a:pt x="17374" y="6592"/>
                    <a:pt x="17330" y="6638"/>
                  </a:cubicBezTo>
                  <a:cubicBezTo>
                    <a:pt x="17310" y="6656"/>
                    <a:pt x="17289" y="6692"/>
                    <a:pt x="17289" y="6721"/>
                  </a:cubicBezTo>
                  <a:cubicBezTo>
                    <a:pt x="17289" y="6742"/>
                    <a:pt x="17296" y="6774"/>
                    <a:pt x="17303" y="6796"/>
                  </a:cubicBezTo>
                  <a:cubicBezTo>
                    <a:pt x="17323" y="6850"/>
                    <a:pt x="17330" y="6903"/>
                    <a:pt x="17337" y="6953"/>
                  </a:cubicBezTo>
                  <a:cubicBezTo>
                    <a:pt x="17360" y="7082"/>
                    <a:pt x="17367" y="7211"/>
                    <a:pt x="17374" y="7337"/>
                  </a:cubicBezTo>
                  <a:cubicBezTo>
                    <a:pt x="17330" y="7337"/>
                    <a:pt x="17289" y="7315"/>
                    <a:pt x="17259" y="7276"/>
                  </a:cubicBezTo>
                  <a:cubicBezTo>
                    <a:pt x="17246" y="7308"/>
                    <a:pt x="17239" y="7330"/>
                    <a:pt x="17225" y="7362"/>
                  </a:cubicBezTo>
                  <a:cubicBezTo>
                    <a:pt x="17330" y="7376"/>
                    <a:pt x="17394" y="7509"/>
                    <a:pt x="17360" y="7609"/>
                  </a:cubicBezTo>
                  <a:cubicBezTo>
                    <a:pt x="17387" y="7652"/>
                    <a:pt x="17421" y="7706"/>
                    <a:pt x="17394" y="7752"/>
                  </a:cubicBezTo>
                  <a:cubicBezTo>
                    <a:pt x="17387" y="7767"/>
                    <a:pt x="17374" y="7774"/>
                    <a:pt x="17367" y="7788"/>
                  </a:cubicBezTo>
                  <a:cubicBezTo>
                    <a:pt x="17360" y="7810"/>
                    <a:pt x="17360" y="7835"/>
                    <a:pt x="17350" y="7849"/>
                  </a:cubicBezTo>
                  <a:cubicBezTo>
                    <a:pt x="17343" y="7863"/>
                    <a:pt x="17337" y="7878"/>
                    <a:pt x="17323" y="7892"/>
                  </a:cubicBezTo>
                  <a:cubicBezTo>
                    <a:pt x="17273" y="7960"/>
                    <a:pt x="17219" y="8028"/>
                    <a:pt x="17168" y="8103"/>
                  </a:cubicBezTo>
                  <a:cubicBezTo>
                    <a:pt x="17155" y="8118"/>
                    <a:pt x="17138" y="8143"/>
                    <a:pt x="17118" y="8143"/>
                  </a:cubicBezTo>
                  <a:cubicBezTo>
                    <a:pt x="17219" y="8368"/>
                    <a:pt x="17491" y="8487"/>
                    <a:pt x="17535" y="8727"/>
                  </a:cubicBezTo>
                  <a:cubicBezTo>
                    <a:pt x="17542" y="8773"/>
                    <a:pt x="17535" y="8834"/>
                    <a:pt x="17498" y="8856"/>
                  </a:cubicBezTo>
                  <a:cubicBezTo>
                    <a:pt x="17549" y="8916"/>
                    <a:pt x="17549" y="9006"/>
                    <a:pt x="17549" y="9088"/>
                  </a:cubicBezTo>
                  <a:cubicBezTo>
                    <a:pt x="17549" y="9156"/>
                    <a:pt x="17542" y="9224"/>
                    <a:pt x="17508" y="9275"/>
                  </a:cubicBezTo>
                  <a:cubicBezTo>
                    <a:pt x="17478" y="9314"/>
                    <a:pt x="17437" y="9336"/>
                    <a:pt x="17407" y="9368"/>
                  </a:cubicBezTo>
                  <a:cubicBezTo>
                    <a:pt x="17374" y="9396"/>
                    <a:pt x="17343" y="9443"/>
                    <a:pt x="17360" y="9493"/>
                  </a:cubicBezTo>
                  <a:cubicBezTo>
                    <a:pt x="17323" y="9472"/>
                    <a:pt x="17279" y="9500"/>
                    <a:pt x="17252" y="9533"/>
                  </a:cubicBezTo>
                  <a:cubicBezTo>
                    <a:pt x="17225" y="9561"/>
                    <a:pt x="17188" y="9601"/>
                    <a:pt x="17155" y="9593"/>
                  </a:cubicBezTo>
                  <a:cubicBezTo>
                    <a:pt x="17138" y="9593"/>
                    <a:pt x="17125" y="9576"/>
                    <a:pt x="17104" y="9576"/>
                  </a:cubicBezTo>
                  <a:cubicBezTo>
                    <a:pt x="17061" y="9583"/>
                    <a:pt x="17061" y="9651"/>
                    <a:pt x="17027" y="9669"/>
                  </a:cubicBezTo>
                  <a:cubicBezTo>
                    <a:pt x="17013" y="9676"/>
                    <a:pt x="16990" y="9669"/>
                    <a:pt x="16976" y="9676"/>
                  </a:cubicBezTo>
                  <a:cubicBezTo>
                    <a:pt x="16950" y="9690"/>
                    <a:pt x="16950" y="9733"/>
                    <a:pt x="16963" y="9765"/>
                  </a:cubicBezTo>
                  <a:cubicBezTo>
                    <a:pt x="16976" y="9794"/>
                    <a:pt x="17000" y="9826"/>
                    <a:pt x="17000" y="9855"/>
                  </a:cubicBezTo>
                  <a:cubicBezTo>
                    <a:pt x="17000" y="9884"/>
                    <a:pt x="17007" y="9901"/>
                    <a:pt x="17013" y="9923"/>
                  </a:cubicBezTo>
                  <a:cubicBezTo>
                    <a:pt x="17040" y="9984"/>
                    <a:pt x="17061" y="10052"/>
                    <a:pt x="17077" y="10116"/>
                  </a:cubicBezTo>
                  <a:cubicBezTo>
                    <a:pt x="17084" y="10134"/>
                    <a:pt x="17084" y="10149"/>
                    <a:pt x="17084" y="10163"/>
                  </a:cubicBezTo>
                  <a:cubicBezTo>
                    <a:pt x="17084" y="10199"/>
                    <a:pt x="17071" y="10231"/>
                    <a:pt x="17077" y="10267"/>
                  </a:cubicBezTo>
                  <a:cubicBezTo>
                    <a:pt x="17084" y="10292"/>
                    <a:pt x="17098" y="10306"/>
                    <a:pt x="17104" y="10328"/>
                  </a:cubicBezTo>
                  <a:cubicBezTo>
                    <a:pt x="17138" y="10410"/>
                    <a:pt x="17077" y="10507"/>
                    <a:pt x="17091" y="10600"/>
                  </a:cubicBezTo>
                  <a:lnTo>
                    <a:pt x="17013" y="10600"/>
                  </a:lnTo>
                  <a:cubicBezTo>
                    <a:pt x="17020" y="10690"/>
                    <a:pt x="17007" y="10786"/>
                    <a:pt x="16970" y="10869"/>
                  </a:cubicBezTo>
                  <a:cubicBezTo>
                    <a:pt x="16970" y="10876"/>
                    <a:pt x="16963" y="10883"/>
                    <a:pt x="16956" y="10890"/>
                  </a:cubicBezTo>
                  <a:cubicBezTo>
                    <a:pt x="16943" y="10908"/>
                    <a:pt x="16906" y="10901"/>
                    <a:pt x="16892" y="10883"/>
                  </a:cubicBezTo>
                  <a:cubicBezTo>
                    <a:pt x="16758" y="10793"/>
                    <a:pt x="16764" y="10568"/>
                    <a:pt x="16647" y="10450"/>
                  </a:cubicBezTo>
                  <a:cubicBezTo>
                    <a:pt x="16610" y="10471"/>
                    <a:pt x="16552" y="10435"/>
                    <a:pt x="16559" y="10389"/>
                  </a:cubicBezTo>
                  <a:cubicBezTo>
                    <a:pt x="16559" y="10342"/>
                    <a:pt x="16616" y="10313"/>
                    <a:pt x="16653" y="10342"/>
                  </a:cubicBezTo>
                  <a:cubicBezTo>
                    <a:pt x="16640" y="10274"/>
                    <a:pt x="16569" y="10231"/>
                    <a:pt x="16512" y="10245"/>
                  </a:cubicBezTo>
                  <a:cubicBezTo>
                    <a:pt x="16482" y="10170"/>
                    <a:pt x="16489" y="10088"/>
                    <a:pt x="16519" y="10013"/>
                  </a:cubicBezTo>
                  <a:cubicBezTo>
                    <a:pt x="16526" y="9991"/>
                    <a:pt x="16539" y="9959"/>
                    <a:pt x="16519" y="9944"/>
                  </a:cubicBezTo>
                  <a:cubicBezTo>
                    <a:pt x="16512" y="9937"/>
                    <a:pt x="16499" y="9937"/>
                    <a:pt x="16489" y="9930"/>
                  </a:cubicBezTo>
                  <a:cubicBezTo>
                    <a:pt x="16482" y="9923"/>
                    <a:pt x="16482" y="9901"/>
                    <a:pt x="16482" y="9884"/>
                  </a:cubicBezTo>
                  <a:cubicBezTo>
                    <a:pt x="16499" y="9787"/>
                    <a:pt x="16482" y="9690"/>
                    <a:pt x="16441" y="9608"/>
                  </a:cubicBezTo>
                  <a:cubicBezTo>
                    <a:pt x="16411" y="9554"/>
                    <a:pt x="16357" y="9500"/>
                    <a:pt x="16300" y="9507"/>
                  </a:cubicBezTo>
                  <a:cubicBezTo>
                    <a:pt x="16243" y="9518"/>
                    <a:pt x="16199" y="9576"/>
                    <a:pt x="16145" y="9576"/>
                  </a:cubicBezTo>
                  <a:cubicBezTo>
                    <a:pt x="16068" y="9576"/>
                    <a:pt x="16011" y="9457"/>
                    <a:pt x="15933" y="9479"/>
                  </a:cubicBezTo>
                  <a:cubicBezTo>
                    <a:pt x="15920" y="9457"/>
                    <a:pt x="15903" y="9443"/>
                    <a:pt x="15890" y="9418"/>
                  </a:cubicBezTo>
                  <a:cubicBezTo>
                    <a:pt x="15812" y="9314"/>
                    <a:pt x="15620" y="9350"/>
                    <a:pt x="15530" y="9267"/>
                  </a:cubicBezTo>
                  <a:cubicBezTo>
                    <a:pt x="15536" y="9275"/>
                    <a:pt x="15536" y="9293"/>
                    <a:pt x="15523" y="9293"/>
                  </a:cubicBezTo>
                  <a:cubicBezTo>
                    <a:pt x="15482" y="9260"/>
                    <a:pt x="15452" y="9217"/>
                    <a:pt x="15439" y="9164"/>
                  </a:cubicBezTo>
                  <a:cubicBezTo>
                    <a:pt x="15432" y="9149"/>
                    <a:pt x="15432" y="9124"/>
                    <a:pt x="15425" y="9110"/>
                  </a:cubicBezTo>
                  <a:cubicBezTo>
                    <a:pt x="15388" y="9042"/>
                    <a:pt x="15297" y="9053"/>
                    <a:pt x="15240" y="9006"/>
                  </a:cubicBezTo>
                  <a:cubicBezTo>
                    <a:pt x="15220" y="8984"/>
                    <a:pt x="15196" y="8952"/>
                    <a:pt x="15169" y="8938"/>
                  </a:cubicBezTo>
                  <a:cubicBezTo>
                    <a:pt x="15139" y="8924"/>
                    <a:pt x="15099" y="8924"/>
                    <a:pt x="15092" y="8959"/>
                  </a:cubicBezTo>
                  <a:cubicBezTo>
                    <a:pt x="15072" y="8916"/>
                    <a:pt x="15021" y="8891"/>
                    <a:pt x="14981" y="8884"/>
                  </a:cubicBezTo>
                  <a:cubicBezTo>
                    <a:pt x="14937" y="8877"/>
                    <a:pt x="14887" y="8870"/>
                    <a:pt x="14846" y="8848"/>
                  </a:cubicBezTo>
                  <a:cubicBezTo>
                    <a:pt x="14803" y="8816"/>
                    <a:pt x="14762" y="8759"/>
                    <a:pt x="14712" y="8766"/>
                  </a:cubicBezTo>
                  <a:cubicBezTo>
                    <a:pt x="14698" y="8773"/>
                    <a:pt x="14682" y="8780"/>
                    <a:pt x="14661" y="8787"/>
                  </a:cubicBezTo>
                  <a:cubicBezTo>
                    <a:pt x="14641" y="8795"/>
                    <a:pt x="14611" y="8787"/>
                    <a:pt x="14584" y="8787"/>
                  </a:cubicBezTo>
                  <a:cubicBezTo>
                    <a:pt x="14564" y="8787"/>
                    <a:pt x="14533" y="8816"/>
                    <a:pt x="14544" y="8841"/>
                  </a:cubicBezTo>
                  <a:cubicBezTo>
                    <a:pt x="14500" y="8856"/>
                    <a:pt x="14456" y="8795"/>
                    <a:pt x="14456" y="8744"/>
                  </a:cubicBezTo>
                  <a:cubicBezTo>
                    <a:pt x="14456" y="8691"/>
                    <a:pt x="14480" y="8637"/>
                    <a:pt x="14473" y="8583"/>
                  </a:cubicBezTo>
                  <a:cubicBezTo>
                    <a:pt x="14456" y="8526"/>
                    <a:pt x="14385" y="8472"/>
                    <a:pt x="14392" y="8404"/>
                  </a:cubicBezTo>
                  <a:cubicBezTo>
                    <a:pt x="14392" y="8390"/>
                    <a:pt x="14402" y="8376"/>
                    <a:pt x="14409" y="8361"/>
                  </a:cubicBezTo>
                  <a:cubicBezTo>
                    <a:pt x="14416" y="8307"/>
                    <a:pt x="14379" y="8261"/>
                    <a:pt x="14338" y="8232"/>
                  </a:cubicBezTo>
                  <a:cubicBezTo>
                    <a:pt x="14295" y="8225"/>
                    <a:pt x="14244" y="8218"/>
                    <a:pt x="14204" y="8211"/>
                  </a:cubicBezTo>
                  <a:cubicBezTo>
                    <a:pt x="14184" y="8211"/>
                    <a:pt x="14160" y="8200"/>
                    <a:pt x="14140" y="8186"/>
                  </a:cubicBezTo>
                  <a:cubicBezTo>
                    <a:pt x="14126" y="8171"/>
                    <a:pt x="14126" y="8136"/>
                    <a:pt x="14147" y="8125"/>
                  </a:cubicBezTo>
                  <a:cubicBezTo>
                    <a:pt x="14113" y="8118"/>
                    <a:pt x="14089" y="8082"/>
                    <a:pt x="14089" y="8035"/>
                  </a:cubicBezTo>
                  <a:cubicBezTo>
                    <a:pt x="14096" y="7999"/>
                    <a:pt x="14120" y="7960"/>
                    <a:pt x="14140" y="7931"/>
                  </a:cubicBezTo>
                  <a:cubicBezTo>
                    <a:pt x="14103" y="7946"/>
                    <a:pt x="14069" y="7903"/>
                    <a:pt x="14069" y="7856"/>
                  </a:cubicBezTo>
                  <a:cubicBezTo>
                    <a:pt x="14069" y="7810"/>
                    <a:pt x="14089" y="7774"/>
                    <a:pt x="14083" y="7727"/>
                  </a:cubicBezTo>
                  <a:cubicBezTo>
                    <a:pt x="14076" y="7677"/>
                    <a:pt x="14025" y="7616"/>
                    <a:pt x="14049" y="7570"/>
                  </a:cubicBezTo>
                  <a:cubicBezTo>
                    <a:pt x="14049" y="7584"/>
                    <a:pt x="14076" y="7577"/>
                    <a:pt x="14083" y="7562"/>
                  </a:cubicBezTo>
                  <a:cubicBezTo>
                    <a:pt x="14103" y="7509"/>
                    <a:pt x="14093" y="7451"/>
                    <a:pt x="14103" y="7390"/>
                  </a:cubicBezTo>
                  <a:cubicBezTo>
                    <a:pt x="14109" y="7330"/>
                    <a:pt x="14160" y="7269"/>
                    <a:pt x="14210" y="7294"/>
                  </a:cubicBezTo>
                  <a:cubicBezTo>
                    <a:pt x="14190" y="7269"/>
                    <a:pt x="14190" y="7240"/>
                    <a:pt x="14204" y="7211"/>
                  </a:cubicBezTo>
                  <a:cubicBezTo>
                    <a:pt x="14217" y="7186"/>
                    <a:pt x="14237" y="7165"/>
                    <a:pt x="14261" y="7143"/>
                  </a:cubicBezTo>
                  <a:cubicBezTo>
                    <a:pt x="14288" y="7111"/>
                    <a:pt x="14321" y="7079"/>
                    <a:pt x="14338" y="7036"/>
                  </a:cubicBezTo>
                  <a:cubicBezTo>
                    <a:pt x="14352" y="6989"/>
                    <a:pt x="14338" y="6939"/>
                    <a:pt x="14301" y="6918"/>
                  </a:cubicBezTo>
                  <a:cubicBezTo>
                    <a:pt x="14358" y="6918"/>
                    <a:pt x="14422" y="6903"/>
                    <a:pt x="14436" y="6842"/>
                  </a:cubicBezTo>
                  <a:cubicBezTo>
                    <a:pt x="14436" y="6828"/>
                    <a:pt x="14436" y="6817"/>
                    <a:pt x="14443" y="6803"/>
                  </a:cubicBezTo>
                  <a:cubicBezTo>
                    <a:pt x="14449" y="6789"/>
                    <a:pt x="14473" y="6781"/>
                    <a:pt x="14486" y="6767"/>
                  </a:cubicBezTo>
                  <a:cubicBezTo>
                    <a:pt x="14533" y="6735"/>
                    <a:pt x="14570" y="6685"/>
                    <a:pt x="14604" y="6638"/>
                  </a:cubicBezTo>
                  <a:cubicBezTo>
                    <a:pt x="14641" y="6595"/>
                    <a:pt x="14698" y="6549"/>
                    <a:pt x="14752" y="6556"/>
                  </a:cubicBezTo>
                  <a:cubicBezTo>
                    <a:pt x="14803" y="6509"/>
                    <a:pt x="14833" y="6466"/>
                    <a:pt x="14840" y="6398"/>
                  </a:cubicBezTo>
                  <a:cubicBezTo>
                    <a:pt x="14840" y="6370"/>
                    <a:pt x="14840" y="6337"/>
                    <a:pt x="14846" y="6309"/>
                  </a:cubicBezTo>
                  <a:cubicBezTo>
                    <a:pt x="14853" y="6276"/>
                    <a:pt x="14887" y="6255"/>
                    <a:pt x="14910" y="6269"/>
                  </a:cubicBezTo>
                  <a:cubicBezTo>
                    <a:pt x="14880" y="6212"/>
                    <a:pt x="14907" y="6137"/>
                    <a:pt x="14944" y="6083"/>
                  </a:cubicBezTo>
                  <a:cubicBezTo>
                    <a:pt x="14978" y="6029"/>
                    <a:pt x="15028" y="5986"/>
                    <a:pt x="15065" y="5925"/>
                  </a:cubicBezTo>
                  <a:cubicBezTo>
                    <a:pt x="15065" y="5947"/>
                    <a:pt x="15085" y="5968"/>
                    <a:pt x="15106" y="5968"/>
                  </a:cubicBezTo>
                  <a:cubicBezTo>
                    <a:pt x="15129" y="5968"/>
                    <a:pt x="15149" y="5961"/>
                    <a:pt x="15169" y="5954"/>
                  </a:cubicBezTo>
                  <a:cubicBezTo>
                    <a:pt x="15200" y="5940"/>
                    <a:pt x="15233" y="5925"/>
                    <a:pt x="15260" y="5911"/>
                  </a:cubicBezTo>
                  <a:cubicBezTo>
                    <a:pt x="15284" y="5904"/>
                    <a:pt x="15304" y="5886"/>
                    <a:pt x="15318" y="5864"/>
                  </a:cubicBezTo>
                  <a:cubicBezTo>
                    <a:pt x="15331" y="5843"/>
                    <a:pt x="15324" y="5811"/>
                    <a:pt x="15304" y="5796"/>
                  </a:cubicBezTo>
                  <a:cubicBezTo>
                    <a:pt x="15375" y="5789"/>
                    <a:pt x="15432" y="5728"/>
                    <a:pt x="15439" y="5660"/>
                  </a:cubicBezTo>
                  <a:cubicBezTo>
                    <a:pt x="15439" y="5639"/>
                    <a:pt x="15439" y="5617"/>
                    <a:pt x="15445" y="5603"/>
                  </a:cubicBezTo>
                  <a:cubicBezTo>
                    <a:pt x="15466" y="5549"/>
                    <a:pt x="15550" y="5535"/>
                    <a:pt x="15550" y="5474"/>
                  </a:cubicBezTo>
                  <a:cubicBezTo>
                    <a:pt x="15550" y="5435"/>
                    <a:pt x="15509" y="5406"/>
                    <a:pt x="15516" y="5377"/>
                  </a:cubicBezTo>
                  <a:cubicBezTo>
                    <a:pt x="15523" y="5338"/>
                    <a:pt x="15587" y="5324"/>
                    <a:pt x="15580" y="5288"/>
                  </a:cubicBezTo>
                  <a:cubicBezTo>
                    <a:pt x="15573" y="5263"/>
                    <a:pt x="15543" y="5256"/>
                    <a:pt x="15536" y="5241"/>
                  </a:cubicBezTo>
                  <a:cubicBezTo>
                    <a:pt x="15516" y="5202"/>
                    <a:pt x="15567" y="5166"/>
                    <a:pt x="15600" y="5137"/>
                  </a:cubicBezTo>
                  <a:cubicBezTo>
                    <a:pt x="15671" y="5084"/>
                    <a:pt x="15691" y="4951"/>
                    <a:pt x="15637" y="4879"/>
                  </a:cubicBezTo>
                  <a:cubicBezTo>
                    <a:pt x="15607" y="4840"/>
                    <a:pt x="15573" y="4797"/>
                    <a:pt x="15593" y="4761"/>
                  </a:cubicBezTo>
                  <a:cubicBezTo>
                    <a:pt x="15644" y="4776"/>
                    <a:pt x="15701" y="4761"/>
                    <a:pt x="15735" y="4722"/>
                  </a:cubicBezTo>
                  <a:cubicBezTo>
                    <a:pt x="15762" y="4761"/>
                    <a:pt x="15819" y="4776"/>
                    <a:pt x="15863" y="4754"/>
                  </a:cubicBezTo>
                  <a:cubicBezTo>
                    <a:pt x="15839" y="4811"/>
                    <a:pt x="15876" y="4879"/>
                    <a:pt x="15933" y="4894"/>
                  </a:cubicBezTo>
                  <a:cubicBezTo>
                    <a:pt x="15947" y="4904"/>
                    <a:pt x="15967" y="4904"/>
                    <a:pt x="15980" y="4912"/>
                  </a:cubicBezTo>
                  <a:cubicBezTo>
                    <a:pt x="15997" y="4919"/>
                    <a:pt x="16004" y="4947"/>
                    <a:pt x="15991" y="4955"/>
                  </a:cubicBezTo>
                  <a:cubicBezTo>
                    <a:pt x="16011" y="4955"/>
                    <a:pt x="16024" y="4962"/>
                    <a:pt x="16044" y="4962"/>
                  </a:cubicBezTo>
                  <a:cubicBezTo>
                    <a:pt x="16031" y="5016"/>
                    <a:pt x="16051" y="5076"/>
                    <a:pt x="16095" y="5105"/>
                  </a:cubicBezTo>
                  <a:cubicBezTo>
                    <a:pt x="16115" y="5119"/>
                    <a:pt x="16145" y="5119"/>
                    <a:pt x="16159" y="5144"/>
                  </a:cubicBezTo>
                  <a:cubicBezTo>
                    <a:pt x="16172" y="5159"/>
                    <a:pt x="16172" y="5202"/>
                    <a:pt x="16152" y="5202"/>
                  </a:cubicBezTo>
                  <a:cubicBezTo>
                    <a:pt x="16199" y="5241"/>
                    <a:pt x="16287" y="5202"/>
                    <a:pt x="16293" y="5144"/>
                  </a:cubicBezTo>
                  <a:cubicBezTo>
                    <a:pt x="16256" y="5137"/>
                    <a:pt x="16236" y="5105"/>
                    <a:pt x="16229" y="5069"/>
                  </a:cubicBezTo>
                  <a:cubicBezTo>
                    <a:pt x="16223" y="5030"/>
                    <a:pt x="16223" y="4994"/>
                    <a:pt x="16199" y="4962"/>
                  </a:cubicBezTo>
                  <a:cubicBezTo>
                    <a:pt x="16172" y="4919"/>
                    <a:pt x="16108" y="4879"/>
                    <a:pt x="16122" y="4829"/>
                  </a:cubicBezTo>
                  <a:cubicBezTo>
                    <a:pt x="16132" y="4797"/>
                    <a:pt x="16162" y="4776"/>
                    <a:pt x="16192" y="4776"/>
                  </a:cubicBezTo>
                  <a:cubicBezTo>
                    <a:pt x="16219" y="4776"/>
                    <a:pt x="16256" y="4776"/>
                    <a:pt x="16293" y="4768"/>
                  </a:cubicBezTo>
                  <a:cubicBezTo>
                    <a:pt x="16404" y="4736"/>
                    <a:pt x="16411" y="4578"/>
                    <a:pt x="16489" y="4482"/>
                  </a:cubicBezTo>
                  <a:cubicBezTo>
                    <a:pt x="16505" y="4503"/>
                    <a:pt x="16539" y="4503"/>
                    <a:pt x="16552" y="4482"/>
                  </a:cubicBezTo>
                  <a:cubicBezTo>
                    <a:pt x="16576" y="4467"/>
                    <a:pt x="16583" y="4435"/>
                    <a:pt x="16583" y="4407"/>
                  </a:cubicBezTo>
                  <a:cubicBezTo>
                    <a:pt x="16590" y="4360"/>
                    <a:pt x="16603" y="4306"/>
                    <a:pt x="16596" y="4263"/>
                  </a:cubicBezTo>
                  <a:cubicBezTo>
                    <a:pt x="16590" y="4217"/>
                    <a:pt x="16552" y="4174"/>
                    <a:pt x="16512" y="4167"/>
                  </a:cubicBezTo>
                  <a:cubicBezTo>
                    <a:pt x="16526" y="4106"/>
                    <a:pt x="16532" y="4030"/>
                    <a:pt x="16489" y="3995"/>
                  </a:cubicBezTo>
                  <a:cubicBezTo>
                    <a:pt x="16475" y="3977"/>
                    <a:pt x="16448" y="3962"/>
                    <a:pt x="16435" y="3948"/>
                  </a:cubicBezTo>
                  <a:cubicBezTo>
                    <a:pt x="16398" y="3912"/>
                    <a:pt x="16411" y="3833"/>
                    <a:pt x="16448" y="3798"/>
                  </a:cubicBezTo>
                  <a:cubicBezTo>
                    <a:pt x="16482" y="3758"/>
                    <a:pt x="16532" y="3730"/>
                    <a:pt x="16569" y="3687"/>
                  </a:cubicBezTo>
                  <a:cubicBezTo>
                    <a:pt x="16603" y="3647"/>
                    <a:pt x="16640" y="3586"/>
                    <a:pt x="16616" y="3536"/>
                  </a:cubicBezTo>
                  <a:cubicBezTo>
                    <a:pt x="16610" y="3522"/>
                    <a:pt x="16596" y="3504"/>
                    <a:pt x="16596" y="3490"/>
                  </a:cubicBezTo>
                  <a:cubicBezTo>
                    <a:pt x="16583" y="3447"/>
                    <a:pt x="16623" y="3407"/>
                    <a:pt x="16660" y="3378"/>
                  </a:cubicBezTo>
                  <a:cubicBezTo>
                    <a:pt x="16583" y="3346"/>
                    <a:pt x="16603" y="3221"/>
                    <a:pt x="16552" y="3153"/>
                  </a:cubicBezTo>
                  <a:cubicBezTo>
                    <a:pt x="16526" y="3113"/>
                    <a:pt x="16482" y="3099"/>
                    <a:pt x="16455" y="3063"/>
                  </a:cubicBezTo>
                  <a:cubicBezTo>
                    <a:pt x="16428" y="3024"/>
                    <a:pt x="16428" y="2956"/>
                    <a:pt x="16468" y="2949"/>
                  </a:cubicBezTo>
                  <a:cubicBezTo>
                    <a:pt x="16455" y="2913"/>
                    <a:pt x="16482" y="2866"/>
                    <a:pt x="16512" y="2852"/>
                  </a:cubicBezTo>
                  <a:cubicBezTo>
                    <a:pt x="16546" y="2838"/>
                    <a:pt x="16583" y="2845"/>
                    <a:pt x="16616" y="2859"/>
                  </a:cubicBezTo>
                  <a:cubicBezTo>
                    <a:pt x="16660" y="2881"/>
                    <a:pt x="16717" y="2913"/>
                    <a:pt x="16744" y="2873"/>
                  </a:cubicBezTo>
                  <a:cubicBezTo>
                    <a:pt x="16758" y="2927"/>
                    <a:pt x="16764" y="2970"/>
                    <a:pt x="16781" y="3024"/>
                  </a:cubicBezTo>
                  <a:cubicBezTo>
                    <a:pt x="16815" y="3053"/>
                    <a:pt x="16859" y="3070"/>
                    <a:pt x="16906" y="3070"/>
                  </a:cubicBezTo>
                  <a:cubicBezTo>
                    <a:pt x="16919" y="3031"/>
                    <a:pt x="16929" y="2988"/>
                    <a:pt x="16943" y="2949"/>
                  </a:cubicBezTo>
                  <a:cubicBezTo>
                    <a:pt x="16943" y="2934"/>
                    <a:pt x="16950" y="2927"/>
                    <a:pt x="16956" y="2913"/>
                  </a:cubicBezTo>
                  <a:cubicBezTo>
                    <a:pt x="16970" y="2895"/>
                    <a:pt x="16983" y="2888"/>
                    <a:pt x="17007" y="2881"/>
                  </a:cubicBezTo>
                  <a:cubicBezTo>
                    <a:pt x="17040" y="2866"/>
                    <a:pt x="17077" y="2852"/>
                    <a:pt x="17104" y="2845"/>
                  </a:cubicBezTo>
                  <a:cubicBezTo>
                    <a:pt x="17091" y="2798"/>
                    <a:pt x="17091" y="2755"/>
                    <a:pt x="17104" y="2716"/>
                  </a:cubicBezTo>
                  <a:cubicBezTo>
                    <a:pt x="17077" y="2709"/>
                    <a:pt x="17054" y="2669"/>
                    <a:pt x="17071" y="2641"/>
                  </a:cubicBezTo>
                  <a:cubicBezTo>
                    <a:pt x="17084" y="2612"/>
                    <a:pt x="17125" y="2605"/>
                    <a:pt x="17148" y="2626"/>
                  </a:cubicBezTo>
                  <a:cubicBezTo>
                    <a:pt x="17155" y="2633"/>
                    <a:pt x="17162" y="2648"/>
                    <a:pt x="17175" y="2655"/>
                  </a:cubicBezTo>
                  <a:cubicBezTo>
                    <a:pt x="17195" y="2680"/>
                    <a:pt x="17232" y="2669"/>
                    <a:pt x="17259" y="2680"/>
                  </a:cubicBezTo>
                  <a:cubicBezTo>
                    <a:pt x="17310" y="2694"/>
                    <a:pt x="17337" y="2770"/>
                    <a:pt x="17310" y="2813"/>
                  </a:cubicBezTo>
                  <a:cubicBezTo>
                    <a:pt x="17343" y="2820"/>
                    <a:pt x="17367" y="2859"/>
                    <a:pt x="17374" y="2895"/>
                  </a:cubicBezTo>
                  <a:cubicBezTo>
                    <a:pt x="17380" y="2934"/>
                    <a:pt x="17374" y="2970"/>
                    <a:pt x="17367" y="3010"/>
                  </a:cubicBezTo>
                  <a:cubicBezTo>
                    <a:pt x="17394" y="2988"/>
                    <a:pt x="17421" y="2977"/>
                    <a:pt x="17451" y="2970"/>
                  </a:cubicBezTo>
                  <a:cubicBezTo>
                    <a:pt x="17471" y="2995"/>
                    <a:pt x="17508" y="2995"/>
                    <a:pt x="17535" y="2977"/>
                  </a:cubicBezTo>
                  <a:cubicBezTo>
                    <a:pt x="17528" y="3010"/>
                    <a:pt x="17528" y="3031"/>
                    <a:pt x="17535" y="3063"/>
                  </a:cubicBezTo>
                  <a:cubicBezTo>
                    <a:pt x="17542" y="3085"/>
                    <a:pt x="17569" y="3106"/>
                    <a:pt x="17599" y="3092"/>
                  </a:cubicBezTo>
                  <a:cubicBezTo>
                    <a:pt x="17619" y="3113"/>
                    <a:pt x="17649" y="3138"/>
                    <a:pt x="17670" y="3167"/>
                  </a:cubicBezTo>
                  <a:cubicBezTo>
                    <a:pt x="17690" y="3196"/>
                    <a:pt x="17697" y="3235"/>
                    <a:pt x="17676" y="3264"/>
                  </a:cubicBezTo>
                  <a:cubicBezTo>
                    <a:pt x="17703" y="3318"/>
                    <a:pt x="17690" y="3393"/>
                    <a:pt x="17649" y="3429"/>
                  </a:cubicBezTo>
                  <a:cubicBezTo>
                    <a:pt x="17676" y="3429"/>
                    <a:pt x="17703" y="3454"/>
                    <a:pt x="17710" y="3482"/>
                  </a:cubicBezTo>
                  <a:cubicBezTo>
                    <a:pt x="17727" y="3475"/>
                    <a:pt x="17740" y="3475"/>
                    <a:pt x="17754" y="3468"/>
                  </a:cubicBezTo>
                  <a:cubicBezTo>
                    <a:pt x="17761" y="3490"/>
                    <a:pt x="17761" y="3522"/>
                    <a:pt x="17767" y="3543"/>
                  </a:cubicBezTo>
                  <a:cubicBezTo>
                    <a:pt x="17781" y="3543"/>
                    <a:pt x="17804" y="3536"/>
                    <a:pt x="17818" y="3536"/>
                  </a:cubicBezTo>
                  <a:cubicBezTo>
                    <a:pt x="17845" y="3543"/>
                    <a:pt x="17858" y="3586"/>
                    <a:pt x="17845" y="3611"/>
                  </a:cubicBezTo>
                  <a:cubicBezTo>
                    <a:pt x="17831" y="3640"/>
                    <a:pt x="17804" y="3654"/>
                    <a:pt x="17774" y="3661"/>
                  </a:cubicBezTo>
                  <a:cubicBezTo>
                    <a:pt x="17824" y="3708"/>
                    <a:pt x="17888" y="3722"/>
                    <a:pt x="17952" y="3715"/>
                  </a:cubicBezTo>
                  <a:cubicBezTo>
                    <a:pt x="17966" y="3715"/>
                    <a:pt x="17979" y="3708"/>
                    <a:pt x="17993" y="3715"/>
                  </a:cubicBezTo>
                  <a:cubicBezTo>
                    <a:pt x="18010" y="3722"/>
                    <a:pt x="18010" y="3730"/>
                    <a:pt x="18016" y="3744"/>
                  </a:cubicBezTo>
                  <a:cubicBezTo>
                    <a:pt x="18030" y="3776"/>
                    <a:pt x="18043" y="3798"/>
                    <a:pt x="18050" y="3830"/>
                  </a:cubicBezTo>
                  <a:cubicBezTo>
                    <a:pt x="18063" y="3819"/>
                    <a:pt x="18080" y="3812"/>
                    <a:pt x="18100" y="3805"/>
                  </a:cubicBezTo>
                  <a:cubicBezTo>
                    <a:pt x="18121" y="3830"/>
                    <a:pt x="18134" y="3858"/>
                    <a:pt x="18134" y="3894"/>
                  </a:cubicBezTo>
                  <a:cubicBezTo>
                    <a:pt x="18171" y="3905"/>
                    <a:pt x="18205" y="3919"/>
                    <a:pt x="18228" y="3941"/>
                  </a:cubicBezTo>
                  <a:cubicBezTo>
                    <a:pt x="18248" y="3970"/>
                    <a:pt x="18255" y="4016"/>
                    <a:pt x="18228" y="4038"/>
                  </a:cubicBezTo>
                  <a:cubicBezTo>
                    <a:pt x="18289" y="4063"/>
                    <a:pt x="18326" y="4145"/>
                    <a:pt x="18346" y="4213"/>
                  </a:cubicBezTo>
                  <a:cubicBezTo>
                    <a:pt x="18359" y="4256"/>
                    <a:pt x="18376" y="4317"/>
                    <a:pt x="18353" y="4360"/>
                  </a:cubicBezTo>
                  <a:cubicBezTo>
                    <a:pt x="18333" y="4407"/>
                    <a:pt x="18282" y="4428"/>
                    <a:pt x="18275" y="4482"/>
                  </a:cubicBezTo>
                  <a:cubicBezTo>
                    <a:pt x="18275" y="4510"/>
                    <a:pt x="18289" y="4536"/>
                    <a:pt x="18289" y="4564"/>
                  </a:cubicBezTo>
                  <a:cubicBezTo>
                    <a:pt x="18289" y="4632"/>
                    <a:pt x="18205" y="4668"/>
                    <a:pt x="18185" y="4736"/>
                  </a:cubicBezTo>
                  <a:cubicBezTo>
                    <a:pt x="18178" y="4754"/>
                    <a:pt x="18178" y="4761"/>
                    <a:pt x="18171" y="4768"/>
                  </a:cubicBezTo>
                  <a:cubicBezTo>
                    <a:pt x="18158" y="4783"/>
                    <a:pt x="18127" y="4768"/>
                    <a:pt x="18107" y="4768"/>
                  </a:cubicBezTo>
                  <a:cubicBezTo>
                    <a:pt x="18063" y="4768"/>
                    <a:pt x="18030" y="4829"/>
                    <a:pt x="18050" y="4865"/>
                  </a:cubicBezTo>
                  <a:cubicBezTo>
                    <a:pt x="17999" y="4904"/>
                    <a:pt x="17979" y="4980"/>
                    <a:pt x="17993" y="5037"/>
                  </a:cubicBezTo>
                  <a:cubicBezTo>
                    <a:pt x="18050" y="5084"/>
                    <a:pt x="18107" y="5137"/>
                    <a:pt x="18164" y="5180"/>
                  </a:cubicBezTo>
                  <a:cubicBezTo>
                    <a:pt x="18127" y="5256"/>
                    <a:pt x="18043" y="5309"/>
                    <a:pt x="17966" y="5288"/>
                  </a:cubicBezTo>
                  <a:cubicBezTo>
                    <a:pt x="17966" y="5331"/>
                    <a:pt x="17915" y="5370"/>
                    <a:pt x="17868" y="5370"/>
                  </a:cubicBezTo>
                  <a:cubicBezTo>
                    <a:pt x="17824" y="5370"/>
                    <a:pt x="17781" y="5352"/>
                    <a:pt x="17734" y="5338"/>
                  </a:cubicBezTo>
                  <a:cubicBezTo>
                    <a:pt x="17626" y="5309"/>
                    <a:pt x="17508" y="5309"/>
                    <a:pt x="17400" y="5345"/>
                  </a:cubicBezTo>
                  <a:cubicBezTo>
                    <a:pt x="17421" y="5359"/>
                    <a:pt x="17431" y="5384"/>
                    <a:pt x="17431" y="5413"/>
                  </a:cubicBezTo>
                  <a:cubicBezTo>
                    <a:pt x="17394" y="5384"/>
                    <a:pt x="17343" y="5413"/>
                    <a:pt x="17310" y="5445"/>
                  </a:cubicBezTo>
                  <a:cubicBezTo>
                    <a:pt x="17252" y="5510"/>
                    <a:pt x="17232" y="5624"/>
                    <a:pt x="17273" y="5707"/>
                  </a:cubicBezTo>
                  <a:cubicBezTo>
                    <a:pt x="17316" y="5714"/>
                    <a:pt x="17343" y="5761"/>
                    <a:pt x="17337" y="5804"/>
                  </a:cubicBezTo>
                  <a:cubicBezTo>
                    <a:pt x="17380" y="5850"/>
                    <a:pt x="17444" y="5879"/>
                    <a:pt x="17508" y="5879"/>
                  </a:cubicBezTo>
                  <a:cubicBezTo>
                    <a:pt x="17508" y="5843"/>
                    <a:pt x="17542" y="5829"/>
                    <a:pt x="17569" y="5818"/>
                  </a:cubicBezTo>
                  <a:cubicBezTo>
                    <a:pt x="17697" y="5789"/>
                    <a:pt x="17838" y="5789"/>
                    <a:pt x="17966" y="5836"/>
                  </a:cubicBezTo>
                  <a:cubicBezTo>
                    <a:pt x="17959" y="5857"/>
                    <a:pt x="17986" y="5879"/>
                    <a:pt x="18010" y="5879"/>
                  </a:cubicBezTo>
                  <a:cubicBezTo>
                    <a:pt x="18030" y="5879"/>
                    <a:pt x="18057" y="5872"/>
                    <a:pt x="18080" y="5879"/>
                  </a:cubicBezTo>
                  <a:cubicBezTo>
                    <a:pt x="18100" y="5886"/>
                    <a:pt x="18121" y="5918"/>
                    <a:pt x="18107" y="5933"/>
                  </a:cubicBezTo>
                  <a:cubicBezTo>
                    <a:pt x="18178" y="5918"/>
                    <a:pt x="18248" y="5961"/>
                    <a:pt x="18299" y="6022"/>
                  </a:cubicBezTo>
                  <a:cubicBezTo>
                    <a:pt x="18333" y="6069"/>
                    <a:pt x="18353" y="6126"/>
                    <a:pt x="18370" y="6187"/>
                  </a:cubicBezTo>
                  <a:cubicBezTo>
                    <a:pt x="18417" y="6180"/>
                    <a:pt x="18454" y="6241"/>
                    <a:pt x="18474" y="6294"/>
                  </a:cubicBezTo>
                  <a:cubicBezTo>
                    <a:pt x="18518" y="6391"/>
                    <a:pt x="18578" y="6481"/>
                    <a:pt x="18666" y="6549"/>
                  </a:cubicBezTo>
                  <a:cubicBezTo>
                    <a:pt x="18699" y="6520"/>
                    <a:pt x="18736" y="6595"/>
                    <a:pt x="18777" y="6602"/>
                  </a:cubicBezTo>
                  <a:lnTo>
                    <a:pt x="18821" y="6602"/>
                  </a:lnTo>
                  <a:cubicBezTo>
                    <a:pt x="18898" y="6584"/>
                    <a:pt x="18982" y="6645"/>
                    <a:pt x="19009" y="6721"/>
                  </a:cubicBezTo>
                  <a:cubicBezTo>
                    <a:pt x="19039" y="6713"/>
                    <a:pt x="19073" y="6706"/>
                    <a:pt x="19103" y="6699"/>
                  </a:cubicBezTo>
                  <a:lnTo>
                    <a:pt x="19144" y="6767"/>
                  </a:lnTo>
                  <a:cubicBezTo>
                    <a:pt x="19228" y="6810"/>
                    <a:pt x="19315" y="6850"/>
                    <a:pt x="19399" y="6893"/>
                  </a:cubicBezTo>
                  <a:cubicBezTo>
                    <a:pt x="19440" y="6918"/>
                    <a:pt x="19490" y="6939"/>
                    <a:pt x="19541" y="6939"/>
                  </a:cubicBezTo>
                  <a:cubicBezTo>
                    <a:pt x="19588" y="6939"/>
                    <a:pt x="19638" y="6903"/>
                    <a:pt x="19645" y="6850"/>
                  </a:cubicBezTo>
                  <a:cubicBezTo>
                    <a:pt x="19625" y="6850"/>
                    <a:pt x="19618" y="6810"/>
                    <a:pt x="19611" y="6789"/>
                  </a:cubicBezTo>
                  <a:cubicBezTo>
                    <a:pt x="19605" y="6760"/>
                    <a:pt x="19581" y="6728"/>
                    <a:pt x="19554" y="6706"/>
                  </a:cubicBezTo>
                  <a:cubicBezTo>
                    <a:pt x="19440" y="6595"/>
                    <a:pt x="19335" y="6481"/>
                    <a:pt x="19221" y="6377"/>
                  </a:cubicBezTo>
                  <a:cubicBezTo>
                    <a:pt x="19228" y="6352"/>
                    <a:pt x="19228" y="6330"/>
                    <a:pt x="19238" y="6316"/>
                  </a:cubicBezTo>
                  <a:cubicBezTo>
                    <a:pt x="19201" y="6316"/>
                    <a:pt x="19157" y="6287"/>
                    <a:pt x="19144" y="6248"/>
                  </a:cubicBezTo>
                  <a:cubicBezTo>
                    <a:pt x="19201" y="6226"/>
                    <a:pt x="19265" y="6219"/>
                    <a:pt x="19315" y="6241"/>
                  </a:cubicBezTo>
                  <a:cubicBezTo>
                    <a:pt x="19362" y="6269"/>
                    <a:pt x="19399" y="6344"/>
                    <a:pt x="19362" y="6398"/>
                  </a:cubicBezTo>
                  <a:cubicBezTo>
                    <a:pt x="19413" y="6420"/>
                    <a:pt x="19463" y="6445"/>
                    <a:pt x="19504" y="6481"/>
                  </a:cubicBezTo>
                  <a:cubicBezTo>
                    <a:pt x="19527" y="6434"/>
                    <a:pt x="19588" y="6434"/>
                    <a:pt x="19625" y="6466"/>
                  </a:cubicBezTo>
                  <a:cubicBezTo>
                    <a:pt x="19658" y="6495"/>
                    <a:pt x="19682" y="6538"/>
                    <a:pt x="19702" y="6584"/>
                  </a:cubicBezTo>
                  <a:cubicBezTo>
                    <a:pt x="19722" y="6627"/>
                    <a:pt x="19746" y="6678"/>
                    <a:pt x="19786" y="6699"/>
                  </a:cubicBezTo>
                  <a:cubicBezTo>
                    <a:pt x="19817" y="6692"/>
                    <a:pt x="19837" y="6670"/>
                    <a:pt x="19837" y="6645"/>
                  </a:cubicBezTo>
                  <a:cubicBezTo>
                    <a:pt x="19773" y="6563"/>
                    <a:pt x="19766" y="6445"/>
                    <a:pt x="19817" y="6352"/>
                  </a:cubicBezTo>
                  <a:cubicBezTo>
                    <a:pt x="19830" y="6344"/>
                    <a:pt x="19850" y="6344"/>
                    <a:pt x="19864" y="6337"/>
                  </a:cubicBezTo>
                  <a:cubicBezTo>
                    <a:pt x="19877" y="6309"/>
                    <a:pt x="19877" y="6276"/>
                    <a:pt x="19877" y="6248"/>
                  </a:cubicBezTo>
                  <a:cubicBezTo>
                    <a:pt x="19901" y="6241"/>
                    <a:pt x="19921" y="6226"/>
                    <a:pt x="19928" y="6212"/>
                  </a:cubicBezTo>
                  <a:cubicBezTo>
                    <a:pt x="19894" y="6187"/>
                    <a:pt x="19857" y="6158"/>
                    <a:pt x="19857" y="6112"/>
                  </a:cubicBezTo>
                  <a:cubicBezTo>
                    <a:pt x="19857" y="6097"/>
                    <a:pt x="19864" y="6083"/>
                    <a:pt x="19864" y="6061"/>
                  </a:cubicBezTo>
                  <a:cubicBezTo>
                    <a:pt x="19864" y="6015"/>
                    <a:pt x="19827" y="5983"/>
                    <a:pt x="19800" y="5954"/>
                  </a:cubicBezTo>
                  <a:cubicBezTo>
                    <a:pt x="19769" y="5922"/>
                    <a:pt x="19753" y="5864"/>
                    <a:pt x="19786" y="5843"/>
                  </a:cubicBezTo>
                  <a:cubicBezTo>
                    <a:pt x="19746" y="5850"/>
                    <a:pt x="19722" y="5796"/>
                    <a:pt x="19709" y="5753"/>
                  </a:cubicBezTo>
                  <a:cubicBezTo>
                    <a:pt x="19668" y="5624"/>
                    <a:pt x="19541" y="5556"/>
                    <a:pt x="19426" y="5503"/>
                  </a:cubicBezTo>
                  <a:cubicBezTo>
                    <a:pt x="19440" y="5467"/>
                    <a:pt x="19446" y="5427"/>
                    <a:pt x="19463" y="5392"/>
                  </a:cubicBezTo>
                  <a:cubicBezTo>
                    <a:pt x="19440" y="5384"/>
                    <a:pt x="19413" y="5370"/>
                    <a:pt x="19393" y="5359"/>
                  </a:cubicBezTo>
                  <a:cubicBezTo>
                    <a:pt x="19406" y="5263"/>
                    <a:pt x="19315" y="5180"/>
                    <a:pt x="19221" y="5152"/>
                  </a:cubicBezTo>
                  <a:cubicBezTo>
                    <a:pt x="19251" y="5105"/>
                    <a:pt x="19298" y="5076"/>
                    <a:pt x="19349" y="5062"/>
                  </a:cubicBezTo>
                  <a:cubicBezTo>
                    <a:pt x="19315" y="5044"/>
                    <a:pt x="19322" y="4998"/>
                    <a:pt x="19335" y="4962"/>
                  </a:cubicBezTo>
                  <a:cubicBezTo>
                    <a:pt x="19349" y="4922"/>
                    <a:pt x="19362" y="4879"/>
                    <a:pt x="19335" y="4858"/>
                  </a:cubicBezTo>
                  <a:cubicBezTo>
                    <a:pt x="19376" y="4858"/>
                    <a:pt x="19413" y="4818"/>
                    <a:pt x="19413" y="4776"/>
                  </a:cubicBezTo>
                  <a:cubicBezTo>
                    <a:pt x="19456" y="4783"/>
                    <a:pt x="19497" y="4818"/>
                    <a:pt x="19527" y="4858"/>
                  </a:cubicBezTo>
                  <a:cubicBezTo>
                    <a:pt x="19527" y="4872"/>
                    <a:pt x="19527" y="4879"/>
                    <a:pt x="19534" y="4894"/>
                  </a:cubicBezTo>
                  <a:lnTo>
                    <a:pt x="19746" y="5213"/>
                  </a:lnTo>
                  <a:cubicBezTo>
                    <a:pt x="19766" y="5241"/>
                    <a:pt x="19786" y="5270"/>
                    <a:pt x="19800" y="5302"/>
                  </a:cubicBezTo>
                  <a:cubicBezTo>
                    <a:pt x="19823" y="5338"/>
                    <a:pt x="19843" y="5370"/>
                    <a:pt x="19870" y="5406"/>
                  </a:cubicBezTo>
                  <a:cubicBezTo>
                    <a:pt x="19914" y="5420"/>
                    <a:pt x="19958" y="5453"/>
                    <a:pt x="19985" y="5496"/>
                  </a:cubicBezTo>
                  <a:cubicBezTo>
                    <a:pt x="20005" y="5521"/>
                    <a:pt x="20018" y="5549"/>
                    <a:pt x="20049" y="5564"/>
                  </a:cubicBezTo>
                  <a:cubicBezTo>
                    <a:pt x="20076" y="5578"/>
                    <a:pt x="20119" y="5564"/>
                    <a:pt x="20119" y="5535"/>
                  </a:cubicBezTo>
                  <a:cubicBezTo>
                    <a:pt x="20119" y="5521"/>
                    <a:pt x="20113" y="5496"/>
                    <a:pt x="20096" y="5488"/>
                  </a:cubicBezTo>
                  <a:cubicBezTo>
                    <a:pt x="20076" y="5453"/>
                    <a:pt x="20055" y="5402"/>
                    <a:pt x="20062" y="5359"/>
                  </a:cubicBezTo>
                  <a:cubicBezTo>
                    <a:pt x="20069" y="5313"/>
                    <a:pt x="20119" y="5277"/>
                    <a:pt x="20153" y="5295"/>
                  </a:cubicBezTo>
                  <a:cubicBezTo>
                    <a:pt x="20167" y="5302"/>
                    <a:pt x="20183" y="5316"/>
                    <a:pt x="20197" y="5324"/>
                  </a:cubicBezTo>
                  <a:cubicBezTo>
                    <a:pt x="20217" y="5331"/>
                    <a:pt x="20237" y="5309"/>
                    <a:pt x="20237" y="5288"/>
                  </a:cubicBezTo>
                  <a:cubicBezTo>
                    <a:pt x="20237" y="5270"/>
                    <a:pt x="20227" y="5252"/>
                    <a:pt x="20210" y="5248"/>
                  </a:cubicBezTo>
                  <a:cubicBezTo>
                    <a:pt x="20257" y="5245"/>
                    <a:pt x="20308" y="5220"/>
                    <a:pt x="20294" y="5180"/>
                  </a:cubicBezTo>
                  <a:cubicBezTo>
                    <a:pt x="20288" y="5159"/>
                    <a:pt x="20274" y="5152"/>
                    <a:pt x="20261" y="5127"/>
                  </a:cubicBezTo>
                  <a:cubicBezTo>
                    <a:pt x="20224" y="5051"/>
                    <a:pt x="20379" y="4969"/>
                    <a:pt x="20331" y="4904"/>
                  </a:cubicBezTo>
                  <a:cubicBezTo>
                    <a:pt x="20402" y="4872"/>
                    <a:pt x="20456" y="4804"/>
                    <a:pt x="20493" y="4729"/>
                  </a:cubicBezTo>
                  <a:cubicBezTo>
                    <a:pt x="20500" y="4715"/>
                    <a:pt x="20500" y="4707"/>
                    <a:pt x="20500" y="4693"/>
                  </a:cubicBezTo>
                  <a:cubicBezTo>
                    <a:pt x="20493" y="4647"/>
                    <a:pt x="20429" y="4647"/>
                    <a:pt x="20395" y="4618"/>
                  </a:cubicBezTo>
                  <a:cubicBezTo>
                    <a:pt x="20379" y="4604"/>
                    <a:pt x="20372" y="4578"/>
                    <a:pt x="20365" y="4557"/>
                  </a:cubicBezTo>
                  <a:cubicBezTo>
                    <a:pt x="20331" y="4482"/>
                    <a:pt x="20254" y="4442"/>
                    <a:pt x="20183" y="4407"/>
                  </a:cubicBezTo>
                  <a:cubicBezTo>
                    <a:pt x="20113" y="4367"/>
                    <a:pt x="20042" y="4303"/>
                    <a:pt x="20049" y="4220"/>
                  </a:cubicBezTo>
                  <a:cubicBezTo>
                    <a:pt x="19998" y="4174"/>
                    <a:pt x="19934" y="4152"/>
                    <a:pt x="19870" y="4145"/>
                  </a:cubicBezTo>
                  <a:lnTo>
                    <a:pt x="19870" y="4077"/>
                  </a:lnTo>
                  <a:cubicBezTo>
                    <a:pt x="19817" y="4016"/>
                    <a:pt x="19729" y="3987"/>
                    <a:pt x="19652" y="4009"/>
                  </a:cubicBezTo>
                  <a:cubicBezTo>
                    <a:pt x="19645" y="3987"/>
                    <a:pt x="19638" y="3962"/>
                    <a:pt x="19631" y="3934"/>
                  </a:cubicBezTo>
                  <a:cubicBezTo>
                    <a:pt x="19605" y="3941"/>
                    <a:pt x="19568" y="3955"/>
                    <a:pt x="19541" y="3962"/>
                  </a:cubicBezTo>
                  <a:cubicBezTo>
                    <a:pt x="19541" y="3948"/>
                    <a:pt x="19534" y="3927"/>
                    <a:pt x="19534" y="3912"/>
                  </a:cubicBezTo>
                  <a:cubicBezTo>
                    <a:pt x="19510" y="3919"/>
                    <a:pt x="19497" y="3927"/>
                    <a:pt x="19477" y="3941"/>
                  </a:cubicBezTo>
                  <a:cubicBezTo>
                    <a:pt x="19477" y="3919"/>
                    <a:pt x="19470" y="3894"/>
                    <a:pt x="19470" y="3866"/>
                  </a:cubicBezTo>
                  <a:cubicBezTo>
                    <a:pt x="19440" y="3866"/>
                    <a:pt x="19413" y="3873"/>
                    <a:pt x="19393" y="3873"/>
                  </a:cubicBezTo>
                  <a:cubicBezTo>
                    <a:pt x="19386" y="3830"/>
                    <a:pt x="19369" y="3783"/>
                    <a:pt x="19362" y="3737"/>
                  </a:cubicBezTo>
                  <a:cubicBezTo>
                    <a:pt x="19315" y="3722"/>
                    <a:pt x="19265" y="3701"/>
                    <a:pt x="19221" y="3661"/>
                  </a:cubicBezTo>
                  <a:cubicBezTo>
                    <a:pt x="19221" y="3647"/>
                    <a:pt x="19238" y="3633"/>
                    <a:pt x="19251" y="3626"/>
                  </a:cubicBezTo>
                  <a:cubicBezTo>
                    <a:pt x="19221" y="3640"/>
                    <a:pt x="19194" y="3597"/>
                    <a:pt x="19201" y="3565"/>
                  </a:cubicBezTo>
                  <a:cubicBezTo>
                    <a:pt x="19207" y="3536"/>
                    <a:pt x="19228" y="3511"/>
                    <a:pt x="19244" y="3482"/>
                  </a:cubicBezTo>
                  <a:cubicBezTo>
                    <a:pt x="19258" y="3454"/>
                    <a:pt x="19251" y="3407"/>
                    <a:pt x="19221" y="3400"/>
                  </a:cubicBezTo>
                  <a:cubicBezTo>
                    <a:pt x="19292" y="3393"/>
                    <a:pt x="19356" y="3371"/>
                    <a:pt x="19413" y="3332"/>
                  </a:cubicBezTo>
                  <a:cubicBezTo>
                    <a:pt x="19386" y="3318"/>
                    <a:pt x="19362" y="3285"/>
                    <a:pt x="19349" y="3257"/>
                  </a:cubicBezTo>
                  <a:cubicBezTo>
                    <a:pt x="19356" y="3228"/>
                    <a:pt x="19369" y="3203"/>
                    <a:pt x="19376" y="3174"/>
                  </a:cubicBezTo>
                  <a:cubicBezTo>
                    <a:pt x="19356" y="3138"/>
                    <a:pt x="19329" y="3106"/>
                    <a:pt x="19308" y="3070"/>
                  </a:cubicBezTo>
                  <a:lnTo>
                    <a:pt x="19329" y="3002"/>
                  </a:lnTo>
                  <a:cubicBezTo>
                    <a:pt x="19322" y="2970"/>
                    <a:pt x="19315" y="2934"/>
                    <a:pt x="19308" y="2906"/>
                  </a:cubicBezTo>
                  <a:cubicBezTo>
                    <a:pt x="19292" y="2913"/>
                    <a:pt x="19265" y="2906"/>
                    <a:pt x="19258" y="2881"/>
                  </a:cubicBezTo>
                  <a:cubicBezTo>
                    <a:pt x="19251" y="2859"/>
                    <a:pt x="19251" y="2845"/>
                    <a:pt x="19251" y="2820"/>
                  </a:cubicBezTo>
                  <a:cubicBezTo>
                    <a:pt x="19258" y="2737"/>
                    <a:pt x="19244" y="2655"/>
                    <a:pt x="19221" y="2573"/>
                  </a:cubicBezTo>
                  <a:cubicBezTo>
                    <a:pt x="19214" y="2573"/>
                    <a:pt x="19207" y="2573"/>
                    <a:pt x="19201" y="2580"/>
                  </a:cubicBezTo>
                  <a:cubicBezTo>
                    <a:pt x="19214" y="2558"/>
                    <a:pt x="19201" y="2530"/>
                    <a:pt x="19187" y="2504"/>
                  </a:cubicBezTo>
                  <a:cubicBezTo>
                    <a:pt x="19167" y="2490"/>
                    <a:pt x="19144" y="2483"/>
                    <a:pt x="19117" y="2476"/>
                  </a:cubicBezTo>
                  <a:cubicBezTo>
                    <a:pt x="19046" y="2454"/>
                    <a:pt x="18969" y="2454"/>
                    <a:pt x="18891" y="2461"/>
                  </a:cubicBezTo>
                  <a:cubicBezTo>
                    <a:pt x="18884" y="2379"/>
                    <a:pt x="18854" y="2304"/>
                    <a:pt x="18797" y="2250"/>
                  </a:cubicBezTo>
                  <a:cubicBezTo>
                    <a:pt x="18770" y="2286"/>
                    <a:pt x="18699" y="2250"/>
                    <a:pt x="18706" y="2204"/>
                  </a:cubicBezTo>
                  <a:cubicBezTo>
                    <a:pt x="18693" y="2196"/>
                    <a:pt x="18679" y="2204"/>
                    <a:pt x="18672" y="2214"/>
                  </a:cubicBezTo>
                  <a:lnTo>
                    <a:pt x="18545" y="1989"/>
                  </a:lnTo>
                  <a:cubicBezTo>
                    <a:pt x="18538" y="1971"/>
                    <a:pt x="18531" y="1956"/>
                    <a:pt x="18518" y="1949"/>
                  </a:cubicBezTo>
                  <a:cubicBezTo>
                    <a:pt x="18501" y="1942"/>
                    <a:pt x="18481" y="1956"/>
                    <a:pt x="18481" y="1971"/>
                  </a:cubicBezTo>
                  <a:cubicBezTo>
                    <a:pt x="18481" y="1921"/>
                    <a:pt x="18410" y="1896"/>
                    <a:pt x="18376" y="1935"/>
                  </a:cubicBezTo>
                  <a:cubicBezTo>
                    <a:pt x="18397" y="1888"/>
                    <a:pt x="18289" y="1874"/>
                    <a:pt x="18299" y="1820"/>
                  </a:cubicBezTo>
                  <a:cubicBezTo>
                    <a:pt x="18275" y="1831"/>
                    <a:pt x="18248" y="1838"/>
                    <a:pt x="18228" y="1831"/>
                  </a:cubicBezTo>
                  <a:cubicBezTo>
                    <a:pt x="18205" y="1820"/>
                    <a:pt x="18185" y="1792"/>
                    <a:pt x="18198" y="1770"/>
                  </a:cubicBezTo>
                  <a:lnTo>
                    <a:pt x="18080" y="1770"/>
                  </a:lnTo>
                  <a:cubicBezTo>
                    <a:pt x="18080" y="1745"/>
                    <a:pt x="18063" y="1731"/>
                    <a:pt x="18043" y="1731"/>
                  </a:cubicBezTo>
                  <a:cubicBezTo>
                    <a:pt x="18023" y="1731"/>
                    <a:pt x="18010" y="1738"/>
                    <a:pt x="17986" y="1756"/>
                  </a:cubicBezTo>
                  <a:cubicBezTo>
                    <a:pt x="17993" y="1688"/>
                    <a:pt x="17993" y="1620"/>
                    <a:pt x="17986" y="1552"/>
                  </a:cubicBezTo>
                  <a:cubicBezTo>
                    <a:pt x="17959" y="1559"/>
                    <a:pt x="17929" y="1527"/>
                    <a:pt x="17922" y="1498"/>
                  </a:cubicBezTo>
                  <a:cubicBezTo>
                    <a:pt x="17915" y="1466"/>
                    <a:pt x="17909" y="1437"/>
                    <a:pt x="17888" y="1408"/>
                  </a:cubicBezTo>
                  <a:cubicBezTo>
                    <a:pt x="17858" y="1373"/>
                    <a:pt x="17787" y="1340"/>
                    <a:pt x="17804" y="1297"/>
                  </a:cubicBezTo>
                  <a:cubicBezTo>
                    <a:pt x="17761" y="1297"/>
                    <a:pt x="17730" y="1258"/>
                    <a:pt x="17703" y="1229"/>
                  </a:cubicBezTo>
                  <a:cubicBezTo>
                    <a:pt x="17673" y="1197"/>
                    <a:pt x="17633" y="1176"/>
                    <a:pt x="17599" y="1190"/>
                  </a:cubicBezTo>
                  <a:cubicBezTo>
                    <a:pt x="17612" y="1176"/>
                    <a:pt x="17606" y="1154"/>
                    <a:pt x="17592" y="1147"/>
                  </a:cubicBezTo>
                  <a:cubicBezTo>
                    <a:pt x="17579" y="1140"/>
                    <a:pt x="17555" y="1129"/>
                    <a:pt x="17542" y="1129"/>
                  </a:cubicBezTo>
                  <a:cubicBezTo>
                    <a:pt x="17508" y="1129"/>
                    <a:pt x="17478" y="1122"/>
                    <a:pt x="17444" y="1122"/>
                  </a:cubicBezTo>
                  <a:cubicBezTo>
                    <a:pt x="17407" y="1122"/>
                    <a:pt x="17370" y="1115"/>
                    <a:pt x="17343" y="1140"/>
                  </a:cubicBezTo>
                  <a:cubicBezTo>
                    <a:pt x="17313" y="1161"/>
                    <a:pt x="17303" y="1204"/>
                    <a:pt x="17330" y="1229"/>
                  </a:cubicBezTo>
                  <a:cubicBezTo>
                    <a:pt x="17259" y="1258"/>
                    <a:pt x="17188" y="1265"/>
                    <a:pt x="17118" y="1265"/>
                  </a:cubicBezTo>
                  <a:cubicBezTo>
                    <a:pt x="17125" y="1297"/>
                    <a:pt x="17138" y="1326"/>
                    <a:pt x="17162" y="1340"/>
                  </a:cubicBezTo>
                  <a:cubicBezTo>
                    <a:pt x="17125" y="1355"/>
                    <a:pt x="17091" y="1362"/>
                    <a:pt x="17054" y="1380"/>
                  </a:cubicBezTo>
                  <a:cubicBezTo>
                    <a:pt x="17071" y="1340"/>
                    <a:pt x="17020" y="1312"/>
                    <a:pt x="16983" y="1319"/>
                  </a:cubicBezTo>
                  <a:cubicBezTo>
                    <a:pt x="16950" y="1319"/>
                    <a:pt x="16913" y="1340"/>
                    <a:pt x="16879" y="1326"/>
                  </a:cubicBezTo>
                  <a:cubicBezTo>
                    <a:pt x="16892" y="1355"/>
                    <a:pt x="16862" y="1387"/>
                    <a:pt x="16835" y="1387"/>
                  </a:cubicBezTo>
                  <a:cubicBezTo>
                    <a:pt x="16805" y="1387"/>
                    <a:pt x="16788" y="1355"/>
                    <a:pt x="16781" y="1326"/>
                  </a:cubicBezTo>
                  <a:cubicBezTo>
                    <a:pt x="16771" y="1297"/>
                    <a:pt x="16795" y="1265"/>
                    <a:pt x="16815" y="1244"/>
                  </a:cubicBezTo>
                  <a:cubicBezTo>
                    <a:pt x="16801" y="1222"/>
                    <a:pt x="16788" y="1204"/>
                    <a:pt x="16771" y="1183"/>
                  </a:cubicBezTo>
                  <a:cubicBezTo>
                    <a:pt x="16781" y="1161"/>
                    <a:pt x="16771" y="1129"/>
                    <a:pt x="16758" y="1107"/>
                  </a:cubicBezTo>
                  <a:cubicBezTo>
                    <a:pt x="16751" y="1100"/>
                    <a:pt x="16738" y="1093"/>
                    <a:pt x="16731" y="1079"/>
                  </a:cubicBezTo>
                  <a:cubicBezTo>
                    <a:pt x="16724" y="1064"/>
                    <a:pt x="16724" y="1047"/>
                    <a:pt x="16731" y="1032"/>
                  </a:cubicBezTo>
                  <a:cubicBezTo>
                    <a:pt x="16738" y="978"/>
                    <a:pt x="16744" y="921"/>
                    <a:pt x="16758" y="867"/>
                  </a:cubicBezTo>
                  <a:cubicBezTo>
                    <a:pt x="16751" y="821"/>
                    <a:pt x="16724" y="778"/>
                    <a:pt x="16674" y="764"/>
                  </a:cubicBezTo>
                  <a:cubicBezTo>
                    <a:pt x="16660" y="756"/>
                    <a:pt x="16653" y="756"/>
                    <a:pt x="16640" y="746"/>
                  </a:cubicBezTo>
                  <a:cubicBezTo>
                    <a:pt x="16630" y="738"/>
                    <a:pt x="16630" y="731"/>
                    <a:pt x="16623" y="717"/>
                  </a:cubicBezTo>
                  <a:cubicBezTo>
                    <a:pt x="16610" y="670"/>
                    <a:pt x="16603" y="620"/>
                    <a:pt x="16590" y="574"/>
                  </a:cubicBezTo>
                  <a:cubicBezTo>
                    <a:pt x="16583" y="545"/>
                    <a:pt x="16576" y="513"/>
                    <a:pt x="16590" y="484"/>
                  </a:cubicBezTo>
                  <a:cubicBezTo>
                    <a:pt x="16596" y="470"/>
                    <a:pt x="16603" y="456"/>
                    <a:pt x="16603" y="438"/>
                  </a:cubicBezTo>
                  <a:cubicBezTo>
                    <a:pt x="16603" y="430"/>
                    <a:pt x="16590" y="423"/>
                    <a:pt x="16590" y="423"/>
                  </a:cubicBezTo>
                  <a:cubicBezTo>
                    <a:pt x="16546" y="395"/>
                    <a:pt x="16482" y="362"/>
                    <a:pt x="16441" y="395"/>
                  </a:cubicBezTo>
                  <a:cubicBezTo>
                    <a:pt x="16421" y="409"/>
                    <a:pt x="16411" y="430"/>
                    <a:pt x="16391" y="430"/>
                  </a:cubicBezTo>
                  <a:cubicBezTo>
                    <a:pt x="16371" y="438"/>
                    <a:pt x="16351" y="423"/>
                    <a:pt x="16334" y="430"/>
                  </a:cubicBezTo>
                  <a:cubicBezTo>
                    <a:pt x="16314" y="438"/>
                    <a:pt x="16307" y="477"/>
                    <a:pt x="16287" y="484"/>
                  </a:cubicBezTo>
                  <a:cubicBezTo>
                    <a:pt x="16263" y="491"/>
                    <a:pt x="16236" y="477"/>
                    <a:pt x="16216" y="477"/>
                  </a:cubicBezTo>
                  <a:cubicBezTo>
                    <a:pt x="16199" y="477"/>
                    <a:pt x="16186" y="484"/>
                    <a:pt x="16172" y="491"/>
                  </a:cubicBezTo>
                  <a:lnTo>
                    <a:pt x="16044" y="559"/>
                  </a:lnTo>
                  <a:cubicBezTo>
                    <a:pt x="16031" y="567"/>
                    <a:pt x="16017" y="574"/>
                    <a:pt x="16011" y="581"/>
                  </a:cubicBezTo>
                  <a:cubicBezTo>
                    <a:pt x="16004" y="588"/>
                    <a:pt x="15997" y="606"/>
                    <a:pt x="15991" y="613"/>
                  </a:cubicBezTo>
                  <a:cubicBezTo>
                    <a:pt x="15974" y="635"/>
                    <a:pt x="15960" y="649"/>
                    <a:pt x="15940" y="663"/>
                  </a:cubicBezTo>
                  <a:cubicBezTo>
                    <a:pt x="15890" y="710"/>
                    <a:pt x="15839" y="764"/>
                    <a:pt x="15792" y="807"/>
                  </a:cubicBezTo>
                  <a:cubicBezTo>
                    <a:pt x="15755" y="839"/>
                    <a:pt x="15721" y="882"/>
                    <a:pt x="15735" y="921"/>
                  </a:cubicBezTo>
                  <a:cubicBezTo>
                    <a:pt x="15742" y="943"/>
                    <a:pt x="15742" y="971"/>
                    <a:pt x="15721" y="971"/>
                  </a:cubicBezTo>
                  <a:cubicBezTo>
                    <a:pt x="15664" y="928"/>
                    <a:pt x="15657" y="839"/>
                    <a:pt x="15684" y="764"/>
                  </a:cubicBezTo>
                  <a:cubicBezTo>
                    <a:pt x="15715" y="696"/>
                    <a:pt x="15762" y="635"/>
                    <a:pt x="15819" y="581"/>
                  </a:cubicBezTo>
                  <a:cubicBezTo>
                    <a:pt x="15883" y="513"/>
                    <a:pt x="15954" y="448"/>
                    <a:pt x="16017" y="380"/>
                  </a:cubicBezTo>
                  <a:cubicBezTo>
                    <a:pt x="15991" y="348"/>
                    <a:pt x="15954" y="341"/>
                    <a:pt x="15920" y="348"/>
                  </a:cubicBezTo>
                  <a:lnTo>
                    <a:pt x="15920" y="280"/>
                  </a:lnTo>
                  <a:cubicBezTo>
                    <a:pt x="15832" y="258"/>
                    <a:pt x="15742" y="266"/>
                    <a:pt x="15664" y="319"/>
                  </a:cubicBezTo>
                  <a:cubicBezTo>
                    <a:pt x="15644" y="334"/>
                    <a:pt x="15620" y="348"/>
                    <a:pt x="15593" y="348"/>
                  </a:cubicBezTo>
                  <a:cubicBezTo>
                    <a:pt x="15567" y="348"/>
                    <a:pt x="15530" y="334"/>
                    <a:pt x="15503" y="334"/>
                  </a:cubicBezTo>
                  <a:cubicBezTo>
                    <a:pt x="15459" y="334"/>
                    <a:pt x="15422" y="370"/>
                    <a:pt x="15395" y="409"/>
                  </a:cubicBezTo>
                  <a:cubicBezTo>
                    <a:pt x="15365" y="445"/>
                    <a:pt x="15341" y="484"/>
                    <a:pt x="15304" y="513"/>
                  </a:cubicBezTo>
                  <a:cubicBezTo>
                    <a:pt x="15284" y="538"/>
                    <a:pt x="15260" y="567"/>
                    <a:pt x="15260" y="595"/>
                  </a:cubicBezTo>
                  <a:cubicBezTo>
                    <a:pt x="15260" y="613"/>
                    <a:pt x="15270" y="627"/>
                    <a:pt x="15270" y="642"/>
                  </a:cubicBezTo>
                  <a:cubicBezTo>
                    <a:pt x="15260" y="681"/>
                    <a:pt x="15213" y="696"/>
                    <a:pt x="15193" y="724"/>
                  </a:cubicBezTo>
                  <a:cubicBezTo>
                    <a:pt x="15176" y="746"/>
                    <a:pt x="15183" y="785"/>
                    <a:pt x="15169" y="807"/>
                  </a:cubicBezTo>
                  <a:cubicBezTo>
                    <a:pt x="15149" y="839"/>
                    <a:pt x="15092" y="839"/>
                    <a:pt x="15079" y="875"/>
                  </a:cubicBezTo>
                  <a:cubicBezTo>
                    <a:pt x="15072" y="889"/>
                    <a:pt x="15079" y="914"/>
                    <a:pt x="15085" y="928"/>
                  </a:cubicBezTo>
                  <a:cubicBezTo>
                    <a:pt x="15099" y="1004"/>
                    <a:pt x="15028" y="1093"/>
                    <a:pt x="15079" y="1154"/>
                  </a:cubicBezTo>
                  <a:cubicBezTo>
                    <a:pt x="15015" y="1183"/>
                    <a:pt x="15001" y="1272"/>
                    <a:pt x="15001" y="1340"/>
                  </a:cubicBezTo>
                  <a:cubicBezTo>
                    <a:pt x="15001" y="1394"/>
                    <a:pt x="14994" y="1448"/>
                    <a:pt x="14994" y="1498"/>
                  </a:cubicBezTo>
                  <a:cubicBezTo>
                    <a:pt x="14988" y="1620"/>
                    <a:pt x="14988" y="1745"/>
                    <a:pt x="15015" y="1867"/>
                  </a:cubicBezTo>
                  <a:cubicBezTo>
                    <a:pt x="15028" y="1921"/>
                    <a:pt x="15052" y="1971"/>
                    <a:pt x="15042" y="2024"/>
                  </a:cubicBezTo>
                  <a:cubicBezTo>
                    <a:pt x="15042" y="2046"/>
                    <a:pt x="15028" y="2071"/>
                    <a:pt x="15028" y="2100"/>
                  </a:cubicBezTo>
                  <a:cubicBezTo>
                    <a:pt x="15028" y="2168"/>
                    <a:pt x="15085" y="2221"/>
                    <a:pt x="15143" y="2257"/>
                  </a:cubicBezTo>
                  <a:cubicBezTo>
                    <a:pt x="15112" y="2304"/>
                    <a:pt x="15139" y="2361"/>
                    <a:pt x="15176" y="2393"/>
                  </a:cubicBezTo>
                  <a:cubicBezTo>
                    <a:pt x="15210" y="2422"/>
                    <a:pt x="15260" y="2454"/>
                    <a:pt x="15291" y="2490"/>
                  </a:cubicBezTo>
                  <a:cubicBezTo>
                    <a:pt x="15311" y="2522"/>
                    <a:pt x="15318" y="2551"/>
                    <a:pt x="15341" y="2580"/>
                  </a:cubicBezTo>
                  <a:cubicBezTo>
                    <a:pt x="15402" y="2662"/>
                    <a:pt x="15536" y="2655"/>
                    <a:pt x="15587" y="2737"/>
                  </a:cubicBezTo>
                  <a:cubicBezTo>
                    <a:pt x="15607" y="2777"/>
                    <a:pt x="15614" y="2830"/>
                    <a:pt x="15657" y="2838"/>
                  </a:cubicBezTo>
                  <a:cubicBezTo>
                    <a:pt x="15678" y="2838"/>
                    <a:pt x="15691" y="2830"/>
                    <a:pt x="15708" y="2820"/>
                  </a:cubicBezTo>
                  <a:cubicBezTo>
                    <a:pt x="15772" y="2791"/>
                    <a:pt x="15849" y="2784"/>
                    <a:pt x="15927" y="2784"/>
                  </a:cubicBezTo>
                  <a:cubicBezTo>
                    <a:pt x="15967" y="2784"/>
                    <a:pt x="16007" y="2780"/>
                    <a:pt x="16044" y="2805"/>
                  </a:cubicBezTo>
                  <a:cubicBezTo>
                    <a:pt x="16078" y="2827"/>
                    <a:pt x="16095" y="2895"/>
                    <a:pt x="16061" y="2920"/>
                  </a:cubicBezTo>
                  <a:cubicBezTo>
                    <a:pt x="16004" y="2906"/>
                    <a:pt x="15947" y="2895"/>
                    <a:pt x="15896" y="2920"/>
                  </a:cubicBezTo>
                  <a:cubicBezTo>
                    <a:pt x="15849" y="2941"/>
                    <a:pt x="15819" y="3024"/>
                    <a:pt x="15856" y="3070"/>
                  </a:cubicBezTo>
                  <a:cubicBezTo>
                    <a:pt x="15805" y="3099"/>
                    <a:pt x="15805" y="3203"/>
                    <a:pt x="15839" y="3250"/>
                  </a:cubicBezTo>
                  <a:cubicBezTo>
                    <a:pt x="15812" y="3264"/>
                    <a:pt x="15799" y="3303"/>
                    <a:pt x="15805" y="3332"/>
                  </a:cubicBezTo>
                  <a:cubicBezTo>
                    <a:pt x="15812" y="3361"/>
                    <a:pt x="15826" y="3393"/>
                    <a:pt x="15849" y="3421"/>
                  </a:cubicBezTo>
                  <a:cubicBezTo>
                    <a:pt x="15792" y="3447"/>
                    <a:pt x="15805" y="3536"/>
                    <a:pt x="15799" y="3597"/>
                  </a:cubicBezTo>
                  <a:cubicBezTo>
                    <a:pt x="15792" y="3661"/>
                    <a:pt x="15748" y="3715"/>
                    <a:pt x="15748" y="3783"/>
                  </a:cubicBezTo>
                  <a:cubicBezTo>
                    <a:pt x="15748" y="3812"/>
                    <a:pt x="15762" y="3841"/>
                    <a:pt x="15762" y="3873"/>
                  </a:cubicBezTo>
                  <a:cubicBezTo>
                    <a:pt x="15762" y="3901"/>
                    <a:pt x="15748" y="3934"/>
                    <a:pt x="15721" y="3941"/>
                  </a:cubicBezTo>
                  <a:cubicBezTo>
                    <a:pt x="15657" y="3948"/>
                    <a:pt x="15657" y="3819"/>
                    <a:pt x="15593" y="3812"/>
                  </a:cubicBezTo>
                  <a:cubicBezTo>
                    <a:pt x="15607" y="3880"/>
                    <a:pt x="15509" y="3955"/>
                    <a:pt x="15560" y="4009"/>
                  </a:cubicBezTo>
                  <a:cubicBezTo>
                    <a:pt x="15567" y="4016"/>
                    <a:pt x="15580" y="4023"/>
                    <a:pt x="15593" y="4038"/>
                  </a:cubicBezTo>
                  <a:cubicBezTo>
                    <a:pt x="15614" y="4070"/>
                    <a:pt x="15580" y="4106"/>
                    <a:pt x="15567" y="4138"/>
                  </a:cubicBezTo>
                  <a:cubicBezTo>
                    <a:pt x="15550" y="4174"/>
                    <a:pt x="15560" y="4220"/>
                    <a:pt x="15587" y="4242"/>
                  </a:cubicBezTo>
                  <a:cubicBezTo>
                    <a:pt x="15560" y="4249"/>
                    <a:pt x="15536" y="4278"/>
                    <a:pt x="15509" y="4303"/>
                  </a:cubicBezTo>
                  <a:cubicBezTo>
                    <a:pt x="15482" y="4324"/>
                    <a:pt x="15439" y="4331"/>
                    <a:pt x="15425" y="4303"/>
                  </a:cubicBezTo>
                  <a:cubicBezTo>
                    <a:pt x="15402" y="4270"/>
                    <a:pt x="15432" y="4220"/>
                    <a:pt x="15418" y="4188"/>
                  </a:cubicBezTo>
                  <a:cubicBezTo>
                    <a:pt x="15402" y="4167"/>
                    <a:pt x="15381" y="4159"/>
                    <a:pt x="15361" y="4145"/>
                  </a:cubicBezTo>
                  <a:cubicBezTo>
                    <a:pt x="15297" y="4098"/>
                    <a:pt x="15297" y="3995"/>
                    <a:pt x="15240" y="3941"/>
                  </a:cubicBezTo>
                  <a:cubicBezTo>
                    <a:pt x="15277" y="3927"/>
                    <a:pt x="15318" y="3916"/>
                    <a:pt x="15341" y="3880"/>
                  </a:cubicBezTo>
                  <a:cubicBezTo>
                    <a:pt x="15361" y="3841"/>
                    <a:pt x="15348" y="3783"/>
                    <a:pt x="15311" y="3783"/>
                  </a:cubicBezTo>
                  <a:cubicBezTo>
                    <a:pt x="15361" y="3737"/>
                    <a:pt x="15375" y="3661"/>
                    <a:pt x="15348" y="3604"/>
                  </a:cubicBezTo>
                  <a:cubicBezTo>
                    <a:pt x="15341" y="3579"/>
                    <a:pt x="15324" y="3565"/>
                    <a:pt x="15311" y="3543"/>
                  </a:cubicBezTo>
                  <a:cubicBezTo>
                    <a:pt x="15297" y="3529"/>
                    <a:pt x="15291" y="3504"/>
                    <a:pt x="15277" y="3490"/>
                  </a:cubicBezTo>
                  <a:cubicBezTo>
                    <a:pt x="15240" y="3447"/>
                    <a:pt x="15213" y="3400"/>
                    <a:pt x="15176" y="3353"/>
                  </a:cubicBezTo>
                  <a:cubicBezTo>
                    <a:pt x="15156" y="3325"/>
                    <a:pt x="15132" y="3293"/>
                    <a:pt x="15099" y="3278"/>
                  </a:cubicBezTo>
                  <a:cubicBezTo>
                    <a:pt x="15062" y="3260"/>
                    <a:pt x="15021" y="3278"/>
                    <a:pt x="15008" y="3318"/>
                  </a:cubicBezTo>
                  <a:cubicBezTo>
                    <a:pt x="15001" y="3346"/>
                    <a:pt x="15015" y="3378"/>
                    <a:pt x="15008" y="3407"/>
                  </a:cubicBezTo>
                  <a:cubicBezTo>
                    <a:pt x="15001" y="3429"/>
                    <a:pt x="14964" y="3454"/>
                    <a:pt x="14971" y="3475"/>
                  </a:cubicBezTo>
                  <a:cubicBezTo>
                    <a:pt x="14981" y="3497"/>
                    <a:pt x="15008" y="3511"/>
                    <a:pt x="15008" y="3536"/>
                  </a:cubicBezTo>
                  <a:cubicBezTo>
                    <a:pt x="15008" y="3550"/>
                    <a:pt x="14981" y="3558"/>
                    <a:pt x="14971" y="3572"/>
                  </a:cubicBezTo>
                  <a:cubicBezTo>
                    <a:pt x="14951" y="3597"/>
                    <a:pt x="14971" y="3629"/>
                    <a:pt x="14988" y="3661"/>
                  </a:cubicBezTo>
                  <a:cubicBezTo>
                    <a:pt x="15001" y="3690"/>
                    <a:pt x="15001" y="3737"/>
                    <a:pt x="14971" y="3744"/>
                  </a:cubicBezTo>
                  <a:cubicBezTo>
                    <a:pt x="14944" y="3769"/>
                    <a:pt x="14894" y="3744"/>
                    <a:pt x="14880" y="3715"/>
                  </a:cubicBezTo>
                  <a:cubicBezTo>
                    <a:pt x="14860" y="3679"/>
                    <a:pt x="14867" y="3640"/>
                    <a:pt x="14867" y="3597"/>
                  </a:cubicBezTo>
                  <a:cubicBezTo>
                    <a:pt x="14867" y="3565"/>
                    <a:pt x="14873" y="3543"/>
                    <a:pt x="14873" y="3511"/>
                  </a:cubicBezTo>
                  <a:lnTo>
                    <a:pt x="14873" y="3475"/>
                  </a:lnTo>
                  <a:cubicBezTo>
                    <a:pt x="14867" y="3421"/>
                    <a:pt x="14816" y="3386"/>
                    <a:pt x="14833" y="3339"/>
                  </a:cubicBezTo>
                  <a:cubicBezTo>
                    <a:pt x="14846" y="3303"/>
                    <a:pt x="14910" y="3285"/>
                    <a:pt x="14910" y="3242"/>
                  </a:cubicBezTo>
                  <a:cubicBezTo>
                    <a:pt x="14910" y="3214"/>
                    <a:pt x="14880" y="3181"/>
                    <a:pt x="14887" y="3153"/>
                  </a:cubicBezTo>
                  <a:cubicBezTo>
                    <a:pt x="14894" y="3121"/>
                    <a:pt x="14924" y="3106"/>
                    <a:pt x="14931" y="3085"/>
                  </a:cubicBezTo>
                  <a:cubicBezTo>
                    <a:pt x="14944" y="3053"/>
                    <a:pt x="14924" y="3017"/>
                    <a:pt x="14900" y="3002"/>
                  </a:cubicBezTo>
                  <a:cubicBezTo>
                    <a:pt x="14873" y="2988"/>
                    <a:pt x="14846" y="2977"/>
                    <a:pt x="14816" y="2970"/>
                  </a:cubicBezTo>
                  <a:cubicBezTo>
                    <a:pt x="14762" y="2963"/>
                    <a:pt x="14705" y="2956"/>
                    <a:pt x="14655" y="2949"/>
                  </a:cubicBezTo>
                  <a:cubicBezTo>
                    <a:pt x="14621" y="2941"/>
                    <a:pt x="14577" y="2941"/>
                    <a:pt x="14557" y="2970"/>
                  </a:cubicBezTo>
                  <a:cubicBezTo>
                    <a:pt x="14513" y="2913"/>
                    <a:pt x="14513" y="2813"/>
                    <a:pt x="14570" y="2755"/>
                  </a:cubicBezTo>
                  <a:cubicBezTo>
                    <a:pt x="14604" y="2762"/>
                    <a:pt x="14648" y="2730"/>
                    <a:pt x="14655" y="2687"/>
                  </a:cubicBezTo>
                  <a:cubicBezTo>
                    <a:pt x="14661" y="2648"/>
                    <a:pt x="14628" y="2605"/>
                    <a:pt x="14591" y="2598"/>
                  </a:cubicBezTo>
                  <a:cubicBezTo>
                    <a:pt x="14634" y="2537"/>
                    <a:pt x="14611" y="2436"/>
                    <a:pt x="14557" y="2393"/>
                  </a:cubicBezTo>
                  <a:cubicBezTo>
                    <a:pt x="14520" y="2361"/>
                    <a:pt x="14463" y="2347"/>
                    <a:pt x="14463" y="2304"/>
                  </a:cubicBezTo>
                  <a:cubicBezTo>
                    <a:pt x="14463" y="2279"/>
                    <a:pt x="14473" y="2257"/>
                    <a:pt x="14463" y="2236"/>
                  </a:cubicBezTo>
                  <a:cubicBezTo>
                    <a:pt x="14456" y="2221"/>
                    <a:pt x="14443" y="2221"/>
                    <a:pt x="14436" y="2204"/>
                  </a:cubicBezTo>
                  <a:cubicBezTo>
                    <a:pt x="14372" y="2161"/>
                    <a:pt x="14385" y="2053"/>
                    <a:pt x="14416" y="1971"/>
                  </a:cubicBezTo>
                  <a:cubicBezTo>
                    <a:pt x="14379" y="1971"/>
                    <a:pt x="14352" y="1942"/>
                    <a:pt x="14338" y="1906"/>
                  </a:cubicBezTo>
                  <a:cubicBezTo>
                    <a:pt x="14321" y="1867"/>
                    <a:pt x="14321" y="1831"/>
                    <a:pt x="14332" y="1792"/>
                  </a:cubicBezTo>
                  <a:cubicBezTo>
                    <a:pt x="14295" y="1784"/>
                    <a:pt x="14261" y="1784"/>
                    <a:pt x="14224" y="1784"/>
                  </a:cubicBezTo>
                  <a:cubicBezTo>
                    <a:pt x="14261" y="1702"/>
                    <a:pt x="14126" y="1613"/>
                    <a:pt x="14167" y="1537"/>
                  </a:cubicBezTo>
                  <a:cubicBezTo>
                    <a:pt x="14184" y="1505"/>
                    <a:pt x="14224" y="1491"/>
                    <a:pt x="14244" y="1469"/>
                  </a:cubicBezTo>
                  <a:cubicBezTo>
                    <a:pt x="14301" y="1416"/>
                    <a:pt x="14301" y="1326"/>
                    <a:pt x="14295" y="1251"/>
                  </a:cubicBezTo>
                  <a:cubicBezTo>
                    <a:pt x="14321" y="1251"/>
                    <a:pt x="14345" y="1229"/>
                    <a:pt x="14358" y="1204"/>
                  </a:cubicBezTo>
                  <a:cubicBezTo>
                    <a:pt x="14332" y="1161"/>
                    <a:pt x="14261" y="1154"/>
                    <a:pt x="14237" y="1100"/>
                  </a:cubicBezTo>
                  <a:cubicBezTo>
                    <a:pt x="14224" y="1064"/>
                    <a:pt x="14244" y="1025"/>
                    <a:pt x="14274" y="996"/>
                  </a:cubicBezTo>
                  <a:cubicBezTo>
                    <a:pt x="14301" y="964"/>
                    <a:pt x="14332" y="943"/>
                    <a:pt x="14352" y="914"/>
                  </a:cubicBezTo>
                  <a:cubicBezTo>
                    <a:pt x="14409" y="943"/>
                    <a:pt x="14443" y="1011"/>
                    <a:pt x="14429" y="1072"/>
                  </a:cubicBezTo>
                  <a:cubicBezTo>
                    <a:pt x="14436" y="1039"/>
                    <a:pt x="14473" y="1043"/>
                    <a:pt x="14500" y="1054"/>
                  </a:cubicBezTo>
                  <a:cubicBezTo>
                    <a:pt x="14527" y="1061"/>
                    <a:pt x="14557" y="1086"/>
                    <a:pt x="14577" y="1072"/>
                  </a:cubicBezTo>
                  <a:cubicBezTo>
                    <a:pt x="14604" y="1054"/>
                    <a:pt x="14611" y="1004"/>
                    <a:pt x="14641" y="1011"/>
                  </a:cubicBezTo>
                  <a:cubicBezTo>
                    <a:pt x="14611" y="989"/>
                    <a:pt x="14611" y="936"/>
                    <a:pt x="14628" y="896"/>
                  </a:cubicBezTo>
                  <a:cubicBezTo>
                    <a:pt x="14641" y="860"/>
                    <a:pt x="14668" y="832"/>
                    <a:pt x="14675" y="792"/>
                  </a:cubicBezTo>
                  <a:cubicBezTo>
                    <a:pt x="14682" y="771"/>
                    <a:pt x="14682" y="756"/>
                    <a:pt x="14682" y="731"/>
                  </a:cubicBezTo>
                  <a:cubicBezTo>
                    <a:pt x="14692" y="710"/>
                    <a:pt x="14705" y="688"/>
                    <a:pt x="14719" y="663"/>
                  </a:cubicBezTo>
                  <a:cubicBezTo>
                    <a:pt x="14776" y="574"/>
                    <a:pt x="14816" y="477"/>
                    <a:pt x="14853" y="380"/>
                  </a:cubicBezTo>
                  <a:cubicBezTo>
                    <a:pt x="14880" y="305"/>
                    <a:pt x="14900" y="223"/>
                    <a:pt x="14951" y="169"/>
                  </a:cubicBezTo>
                  <a:cubicBezTo>
                    <a:pt x="14816" y="162"/>
                    <a:pt x="14682" y="140"/>
                    <a:pt x="14550" y="108"/>
                  </a:cubicBezTo>
                  <a:cubicBezTo>
                    <a:pt x="14493" y="33"/>
                    <a:pt x="14392" y="11"/>
                    <a:pt x="14301" y="4"/>
                  </a:cubicBezTo>
                  <a:cubicBezTo>
                    <a:pt x="14274" y="-3"/>
                    <a:pt x="14237" y="-3"/>
                    <a:pt x="14210" y="18"/>
                  </a:cubicBezTo>
                  <a:cubicBezTo>
                    <a:pt x="14184" y="40"/>
                    <a:pt x="14173" y="87"/>
                    <a:pt x="14210" y="101"/>
                  </a:cubicBezTo>
                  <a:cubicBezTo>
                    <a:pt x="14056" y="65"/>
                    <a:pt x="13884" y="223"/>
                    <a:pt x="13894" y="387"/>
                  </a:cubicBezTo>
                  <a:cubicBezTo>
                    <a:pt x="13894" y="409"/>
                    <a:pt x="13901" y="430"/>
                    <a:pt x="13901" y="448"/>
                  </a:cubicBezTo>
                  <a:cubicBezTo>
                    <a:pt x="13901" y="463"/>
                    <a:pt x="13908" y="484"/>
                    <a:pt x="13901" y="498"/>
                  </a:cubicBezTo>
                  <a:cubicBezTo>
                    <a:pt x="13914" y="581"/>
                    <a:pt x="13914" y="663"/>
                    <a:pt x="13884" y="738"/>
                  </a:cubicBezTo>
                  <a:cubicBezTo>
                    <a:pt x="13894" y="785"/>
                    <a:pt x="13908" y="832"/>
                    <a:pt x="13914" y="875"/>
                  </a:cubicBezTo>
                  <a:lnTo>
                    <a:pt x="13978" y="1190"/>
                  </a:lnTo>
                  <a:cubicBezTo>
                    <a:pt x="13998" y="1176"/>
                    <a:pt x="14019" y="1204"/>
                    <a:pt x="14012" y="1229"/>
                  </a:cubicBezTo>
                  <a:cubicBezTo>
                    <a:pt x="14005" y="1251"/>
                    <a:pt x="13985" y="1265"/>
                    <a:pt x="13978" y="1287"/>
                  </a:cubicBezTo>
                  <a:cubicBezTo>
                    <a:pt x="13961" y="1312"/>
                    <a:pt x="13972" y="1340"/>
                    <a:pt x="13972" y="1373"/>
                  </a:cubicBezTo>
                  <a:cubicBezTo>
                    <a:pt x="13978" y="1416"/>
                    <a:pt x="13985" y="1469"/>
                    <a:pt x="13985" y="1512"/>
                  </a:cubicBezTo>
                  <a:cubicBezTo>
                    <a:pt x="13985" y="1537"/>
                    <a:pt x="13992" y="1566"/>
                    <a:pt x="13978" y="1587"/>
                  </a:cubicBezTo>
                  <a:cubicBezTo>
                    <a:pt x="13972" y="1613"/>
                    <a:pt x="13941" y="1627"/>
                    <a:pt x="13921" y="1613"/>
                  </a:cubicBezTo>
                  <a:cubicBezTo>
                    <a:pt x="13928" y="1695"/>
                    <a:pt x="13884" y="1777"/>
                    <a:pt x="13823" y="1820"/>
                  </a:cubicBezTo>
                  <a:cubicBezTo>
                    <a:pt x="13850" y="1820"/>
                    <a:pt x="13871" y="1853"/>
                    <a:pt x="13877" y="1881"/>
                  </a:cubicBezTo>
                  <a:cubicBezTo>
                    <a:pt x="13807" y="1928"/>
                    <a:pt x="13736" y="1964"/>
                    <a:pt x="13665" y="1996"/>
                  </a:cubicBezTo>
                  <a:cubicBezTo>
                    <a:pt x="13652" y="2032"/>
                    <a:pt x="13672" y="2078"/>
                    <a:pt x="13702" y="2100"/>
                  </a:cubicBezTo>
                  <a:cubicBezTo>
                    <a:pt x="13716" y="2107"/>
                    <a:pt x="13736" y="2114"/>
                    <a:pt x="13743" y="2128"/>
                  </a:cubicBezTo>
                  <a:cubicBezTo>
                    <a:pt x="13760" y="2153"/>
                    <a:pt x="13753" y="2175"/>
                    <a:pt x="13743" y="2196"/>
                  </a:cubicBezTo>
                  <a:cubicBezTo>
                    <a:pt x="13723" y="2250"/>
                    <a:pt x="13709" y="2311"/>
                    <a:pt x="13689" y="2361"/>
                  </a:cubicBezTo>
                  <a:cubicBezTo>
                    <a:pt x="13702" y="2372"/>
                    <a:pt x="13709" y="2393"/>
                    <a:pt x="13709" y="2415"/>
                  </a:cubicBezTo>
                  <a:lnTo>
                    <a:pt x="13753" y="2820"/>
                  </a:lnTo>
                  <a:cubicBezTo>
                    <a:pt x="13864" y="2888"/>
                    <a:pt x="13978" y="2970"/>
                    <a:pt x="14019" y="3099"/>
                  </a:cubicBezTo>
                  <a:cubicBezTo>
                    <a:pt x="13941" y="3146"/>
                    <a:pt x="13837" y="3099"/>
                    <a:pt x="13807" y="3010"/>
                  </a:cubicBezTo>
                  <a:cubicBezTo>
                    <a:pt x="13729" y="3017"/>
                    <a:pt x="13645" y="2967"/>
                    <a:pt x="13611" y="2895"/>
                  </a:cubicBezTo>
                  <a:cubicBezTo>
                    <a:pt x="13595" y="2863"/>
                    <a:pt x="13588" y="2838"/>
                    <a:pt x="13574" y="2813"/>
                  </a:cubicBezTo>
                  <a:cubicBezTo>
                    <a:pt x="13554" y="2791"/>
                    <a:pt x="13524" y="2777"/>
                    <a:pt x="13497" y="2791"/>
                  </a:cubicBezTo>
                  <a:cubicBezTo>
                    <a:pt x="13484" y="2820"/>
                    <a:pt x="13470" y="2845"/>
                    <a:pt x="13453" y="2873"/>
                  </a:cubicBezTo>
                  <a:cubicBezTo>
                    <a:pt x="13440" y="2838"/>
                    <a:pt x="13383" y="2852"/>
                    <a:pt x="13369" y="2888"/>
                  </a:cubicBezTo>
                  <a:cubicBezTo>
                    <a:pt x="13356" y="2920"/>
                    <a:pt x="13362" y="2963"/>
                    <a:pt x="13356" y="3002"/>
                  </a:cubicBezTo>
                  <a:cubicBezTo>
                    <a:pt x="13349" y="3038"/>
                    <a:pt x="13322" y="3078"/>
                    <a:pt x="13285" y="3070"/>
                  </a:cubicBezTo>
                  <a:cubicBezTo>
                    <a:pt x="13322" y="3099"/>
                    <a:pt x="13319" y="3156"/>
                    <a:pt x="13285" y="3189"/>
                  </a:cubicBezTo>
                  <a:cubicBezTo>
                    <a:pt x="13248" y="3217"/>
                    <a:pt x="13194" y="3203"/>
                    <a:pt x="13174" y="3160"/>
                  </a:cubicBezTo>
                  <a:cubicBezTo>
                    <a:pt x="13103" y="3250"/>
                    <a:pt x="13124" y="3407"/>
                    <a:pt x="13221" y="3475"/>
                  </a:cubicBezTo>
                  <a:cubicBezTo>
                    <a:pt x="13292" y="3529"/>
                    <a:pt x="13393" y="3529"/>
                    <a:pt x="13447" y="3586"/>
                  </a:cubicBezTo>
                  <a:cubicBezTo>
                    <a:pt x="13453" y="3572"/>
                    <a:pt x="13453" y="3550"/>
                    <a:pt x="13463" y="3536"/>
                  </a:cubicBezTo>
                  <a:cubicBezTo>
                    <a:pt x="13490" y="3550"/>
                    <a:pt x="13511" y="3572"/>
                    <a:pt x="13541" y="3586"/>
                  </a:cubicBezTo>
                  <a:cubicBezTo>
                    <a:pt x="13541" y="3626"/>
                    <a:pt x="13497" y="3640"/>
                    <a:pt x="13463" y="3633"/>
                  </a:cubicBezTo>
                  <a:cubicBezTo>
                    <a:pt x="13426" y="3626"/>
                    <a:pt x="13393" y="3622"/>
                    <a:pt x="13369" y="3647"/>
                  </a:cubicBezTo>
                  <a:cubicBezTo>
                    <a:pt x="13356" y="3658"/>
                    <a:pt x="13356" y="3679"/>
                    <a:pt x="13349" y="3694"/>
                  </a:cubicBezTo>
                  <a:cubicBezTo>
                    <a:pt x="13336" y="3762"/>
                    <a:pt x="13342" y="3830"/>
                    <a:pt x="13369" y="3887"/>
                  </a:cubicBezTo>
                  <a:cubicBezTo>
                    <a:pt x="13336" y="3941"/>
                    <a:pt x="13299" y="4002"/>
                    <a:pt x="13245" y="4009"/>
                  </a:cubicBezTo>
                  <a:cubicBezTo>
                    <a:pt x="13194" y="4016"/>
                    <a:pt x="13144" y="3987"/>
                    <a:pt x="13087" y="3977"/>
                  </a:cubicBezTo>
                  <a:cubicBezTo>
                    <a:pt x="12975" y="3962"/>
                    <a:pt x="12854" y="4052"/>
                    <a:pt x="12757" y="4009"/>
                  </a:cubicBezTo>
                  <a:cubicBezTo>
                    <a:pt x="12713" y="3987"/>
                    <a:pt x="12663" y="3948"/>
                    <a:pt x="12622" y="3970"/>
                  </a:cubicBezTo>
                  <a:cubicBezTo>
                    <a:pt x="12609" y="3977"/>
                    <a:pt x="12595" y="3995"/>
                    <a:pt x="12578" y="4002"/>
                  </a:cubicBezTo>
                  <a:cubicBezTo>
                    <a:pt x="12565" y="4009"/>
                    <a:pt x="12545" y="4002"/>
                    <a:pt x="12531" y="3995"/>
                  </a:cubicBezTo>
                  <a:lnTo>
                    <a:pt x="12212" y="3837"/>
                  </a:lnTo>
                  <a:cubicBezTo>
                    <a:pt x="12191" y="3819"/>
                    <a:pt x="12165" y="3812"/>
                    <a:pt x="12141" y="3790"/>
                  </a:cubicBezTo>
                  <a:cubicBezTo>
                    <a:pt x="12107" y="3755"/>
                    <a:pt x="12101" y="3669"/>
                    <a:pt x="12148" y="3654"/>
                  </a:cubicBezTo>
                  <a:cubicBezTo>
                    <a:pt x="12084" y="3647"/>
                    <a:pt x="12030" y="3626"/>
                    <a:pt x="11979" y="3579"/>
                  </a:cubicBezTo>
                  <a:cubicBezTo>
                    <a:pt x="11986" y="3543"/>
                    <a:pt x="11979" y="3497"/>
                    <a:pt x="11946" y="3468"/>
                  </a:cubicBezTo>
                  <a:cubicBezTo>
                    <a:pt x="12013" y="3436"/>
                    <a:pt x="12101" y="3447"/>
                    <a:pt x="12165" y="3482"/>
                  </a:cubicBezTo>
                  <a:cubicBezTo>
                    <a:pt x="12141" y="3447"/>
                    <a:pt x="12191" y="3407"/>
                    <a:pt x="12235" y="3414"/>
                  </a:cubicBezTo>
                  <a:cubicBezTo>
                    <a:pt x="12276" y="3421"/>
                    <a:pt x="12302" y="3454"/>
                    <a:pt x="12339" y="3468"/>
                  </a:cubicBezTo>
                  <a:cubicBezTo>
                    <a:pt x="12417" y="3490"/>
                    <a:pt x="12514" y="3436"/>
                    <a:pt x="12558" y="3511"/>
                  </a:cubicBezTo>
                  <a:cubicBezTo>
                    <a:pt x="12609" y="3529"/>
                    <a:pt x="12656" y="3475"/>
                    <a:pt x="12649" y="3421"/>
                  </a:cubicBezTo>
                  <a:lnTo>
                    <a:pt x="12706" y="3421"/>
                  </a:lnTo>
                  <a:cubicBezTo>
                    <a:pt x="12706" y="3400"/>
                    <a:pt x="12713" y="3378"/>
                    <a:pt x="12713" y="3353"/>
                  </a:cubicBezTo>
                  <a:cubicBezTo>
                    <a:pt x="12693" y="3346"/>
                    <a:pt x="12679" y="3339"/>
                    <a:pt x="12656" y="3332"/>
                  </a:cubicBezTo>
                  <a:cubicBezTo>
                    <a:pt x="12663" y="3278"/>
                    <a:pt x="12679" y="3228"/>
                    <a:pt x="12713" y="3181"/>
                  </a:cubicBezTo>
                  <a:cubicBezTo>
                    <a:pt x="12642" y="3181"/>
                    <a:pt x="12585" y="3113"/>
                    <a:pt x="12585" y="3038"/>
                  </a:cubicBezTo>
                  <a:cubicBezTo>
                    <a:pt x="12609" y="3017"/>
                    <a:pt x="12636" y="2995"/>
                    <a:pt x="12656" y="2970"/>
                  </a:cubicBezTo>
                  <a:cubicBezTo>
                    <a:pt x="12700" y="2927"/>
                    <a:pt x="12743" y="2888"/>
                    <a:pt x="12784" y="2845"/>
                  </a:cubicBezTo>
                  <a:cubicBezTo>
                    <a:pt x="12804" y="2873"/>
                    <a:pt x="12814" y="2920"/>
                    <a:pt x="12814" y="2956"/>
                  </a:cubicBezTo>
                  <a:cubicBezTo>
                    <a:pt x="12841" y="2988"/>
                    <a:pt x="12875" y="2927"/>
                    <a:pt x="12875" y="2888"/>
                  </a:cubicBezTo>
                  <a:cubicBezTo>
                    <a:pt x="12885" y="2784"/>
                    <a:pt x="12885" y="2680"/>
                    <a:pt x="12932" y="2587"/>
                  </a:cubicBezTo>
                  <a:cubicBezTo>
                    <a:pt x="12875" y="2598"/>
                    <a:pt x="12827" y="2605"/>
                    <a:pt x="12770" y="2587"/>
                  </a:cubicBezTo>
                  <a:cubicBezTo>
                    <a:pt x="12720" y="2573"/>
                    <a:pt x="12673" y="2537"/>
                    <a:pt x="12663" y="2476"/>
                  </a:cubicBezTo>
                  <a:cubicBezTo>
                    <a:pt x="12602" y="2490"/>
                    <a:pt x="12508" y="2497"/>
                    <a:pt x="12481" y="2436"/>
                  </a:cubicBezTo>
                  <a:cubicBezTo>
                    <a:pt x="12474" y="2422"/>
                    <a:pt x="12474" y="2401"/>
                    <a:pt x="12461" y="2379"/>
                  </a:cubicBezTo>
                  <a:cubicBezTo>
                    <a:pt x="12437" y="2333"/>
                    <a:pt x="12383" y="2333"/>
                    <a:pt x="12339" y="2311"/>
                  </a:cubicBezTo>
                  <a:cubicBezTo>
                    <a:pt x="12255" y="2272"/>
                    <a:pt x="12198" y="2175"/>
                    <a:pt x="12198" y="2078"/>
                  </a:cubicBezTo>
                  <a:cubicBezTo>
                    <a:pt x="12191" y="1978"/>
                    <a:pt x="12218" y="1881"/>
                    <a:pt x="12249" y="1784"/>
                  </a:cubicBezTo>
                  <a:cubicBezTo>
                    <a:pt x="12198" y="1784"/>
                    <a:pt x="12165" y="1709"/>
                    <a:pt x="12191" y="1663"/>
                  </a:cubicBezTo>
                  <a:cubicBezTo>
                    <a:pt x="12178" y="1681"/>
                    <a:pt x="12148" y="1670"/>
                    <a:pt x="12134" y="1648"/>
                  </a:cubicBezTo>
                  <a:cubicBezTo>
                    <a:pt x="12121" y="1627"/>
                    <a:pt x="12121" y="1605"/>
                    <a:pt x="12121" y="1580"/>
                  </a:cubicBezTo>
                  <a:cubicBezTo>
                    <a:pt x="12121" y="1523"/>
                    <a:pt x="12114" y="1462"/>
                    <a:pt x="12114" y="1401"/>
                  </a:cubicBezTo>
                  <a:cubicBezTo>
                    <a:pt x="12064" y="1355"/>
                    <a:pt x="12037" y="1279"/>
                    <a:pt x="12064" y="1215"/>
                  </a:cubicBezTo>
                  <a:cubicBezTo>
                    <a:pt x="12077" y="1176"/>
                    <a:pt x="12084" y="1107"/>
                    <a:pt x="12050" y="1115"/>
                  </a:cubicBezTo>
                  <a:cubicBezTo>
                    <a:pt x="12141" y="1072"/>
                    <a:pt x="12057" y="896"/>
                    <a:pt x="12134" y="832"/>
                  </a:cubicBezTo>
                  <a:cubicBezTo>
                    <a:pt x="12148" y="814"/>
                    <a:pt x="12178" y="807"/>
                    <a:pt x="12185" y="785"/>
                  </a:cubicBezTo>
                  <a:cubicBezTo>
                    <a:pt x="12191" y="771"/>
                    <a:pt x="12185" y="756"/>
                    <a:pt x="12178" y="738"/>
                  </a:cubicBezTo>
                  <a:cubicBezTo>
                    <a:pt x="12165" y="670"/>
                    <a:pt x="12185" y="595"/>
                    <a:pt x="12235" y="552"/>
                  </a:cubicBezTo>
                  <a:cubicBezTo>
                    <a:pt x="12212" y="538"/>
                    <a:pt x="12191" y="513"/>
                    <a:pt x="12185" y="484"/>
                  </a:cubicBezTo>
                  <a:cubicBezTo>
                    <a:pt x="12165" y="409"/>
                    <a:pt x="12121" y="319"/>
                    <a:pt x="12057" y="280"/>
                  </a:cubicBezTo>
                  <a:cubicBezTo>
                    <a:pt x="12037" y="266"/>
                    <a:pt x="12023" y="258"/>
                    <a:pt x="12000" y="258"/>
                  </a:cubicBezTo>
                  <a:cubicBezTo>
                    <a:pt x="11959" y="258"/>
                    <a:pt x="11929" y="287"/>
                    <a:pt x="11895" y="305"/>
                  </a:cubicBezTo>
                  <a:cubicBezTo>
                    <a:pt x="11858" y="327"/>
                    <a:pt x="11811" y="327"/>
                    <a:pt x="11788" y="287"/>
                  </a:cubicBezTo>
                  <a:cubicBezTo>
                    <a:pt x="11724" y="380"/>
                    <a:pt x="11710" y="498"/>
                    <a:pt x="11697" y="606"/>
                  </a:cubicBezTo>
                  <a:cubicBezTo>
                    <a:pt x="11690" y="574"/>
                    <a:pt x="11640" y="574"/>
                    <a:pt x="11640" y="606"/>
                  </a:cubicBezTo>
                  <a:cubicBezTo>
                    <a:pt x="11613" y="595"/>
                    <a:pt x="11592" y="581"/>
                    <a:pt x="11562" y="574"/>
                  </a:cubicBezTo>
                  <a:cubicBezTo>
                    <a:pt x="11485" y="670"/>
                    <a:pt x="11394" y="764"/>
                    <a:pt x="11296" y="839"/>
                  </a:cubicBezTo>
                  <a:cubicBezTo>
                    <a:pt x="11310" y="853"/>
                    <a:pt x="11323" y="875"/>
                    <a:pt x="11337" y="889"/>
                  </a:cubicBezTo>
                  <a:cubicBezTo>
                    <a:pt x="11209" y="936"/>
                    <a:pt x="11084" y="738"/>
                    <a:pt x="10963" y="799"/>
                  </a:cubicBezTo>
                  <a:cubicBezTo>
                    <a:pt x="10983" y="832"/>
                    <a:pt x="11007" y="853"/>
                    <a:pt x="11027" y="882"/>
                  </a:cubicBezTo>
                  <a:cubicBezTo>
                    <a:pt x="11074" y="943"/>
                    <a:pt x="11125" y="1018"/>
                    <a:pt x="11118" y="1100"/>
                  </a:cubicBezTo>
                  <a:cubicBezTo>
                    <a:pt x="11084" y="1115"/>
                    <a:pt x="11054" y="1140"/>
                    <a:pt x="11020" y="1140"/>
                  </a:cubicBezTo>
                  <a:cubicBezTo>
                    <a:pt x="10983" y="1140"/>
                    <a:pt x="10943" y="1122"/>
                    <a:pt x="10926" y="1086"/>
                  </a:cubicBezTo>
                  <a:cubicBezTo>
                    <a:pt x="10913" y="1054"/>
                    <a:pt x="10919" y="1018"/>
                    <a:pt x="10913" y="989"/>
                  </a:cubicBezTo>
                  <a:cubicBezTo>
                    <a:pt x="10899" y="943"/>
                    <a:pt x="10842" y="918"/>
                    <a:pt x="10802" y="896"/>
                  </a:cubicBezTo>
                  <a:cubicBezTo>
                    <a:pt x="10758" y="871"/>
                    <a:pt x="10707" y="839"/>
                    <a:pt x="10714" y="785"/>
                  </a:cubicBezTo>
                  <a:cubicBezTo>
                    <a:pt x="10681" y="799"/>
                    <a:pt x="10637" y="792"/>
                    <a:pt x="10617" y="764"/>
                  </a:cubicBezTo>
                  <a:cubicBezTo>
                    <a:pt x="10596" y="799"/>
                    <a:pt x="10546" y="807"/>
                    <a:pt x="10506" y="814"/>
                  </a:cubicBezTo>
                  <a:cubicBezTo>
                    <a:pt x="10462" y="821"/>
                    <a:pt x="10418" y="882"/>
                    <a:pt x="10448" y="914"/>
                  </a:cubicBezTo>
                  <a:cubicBezTo>
                    <a:pt x="10405" y="921"/>
                    <a:pt x="10378" y="864"/>
                    <a:pt x="10371" y="821"/>
                  </a:cubicBezTo>
                  <a:cubicBezTo>
                    <a:pt x="10364" y="774"/>
                    <a:pt x="10384" y="731"/>
                    <a:pt x="10384" y="688"/>
                  </a:cubicBezTo>
                  <a:cubicBezTo>
                    <a:pt x="10384" y="642"/>
                    <a:pt x="10358" y="588"/>
                    <a:pt x="10314" y="574"/>
                  </a:cubicBezTo>
                  <a:cubicBezTo>
                    <a:pt x="10270" y="559"/>
                    <a:pt x="10216" y="581"/>
                    <a:pt x="10199" y="627"/>
                  </a:cubicBezTo>
                  <a:cubicBezTo>
                    <a:pt x="10172" y="627"/>
                    <a:pt x="10146" y="620"/>
                    <a:pt x="10115" y="620"/>
                  </a:cubicBezTo>
                  <a:cubicBezTo>
                    <a:pt x="10075" y="656"/>
                    <a:pt x="10031" y="710"/>
                    <a:pt x="10004" y="764"/>
                  </a:cubicBezTo>
                  <a:cubicBezTo>
                    <a:pt x="9910" y="785"/>
                    <a:pt x="9819" y="839"/>
                    <a:pt x="9762" y="914"/>
                  </a:cubicBezTo>
                  <a:cubicBezTo>
                    <a:pt x="9742" y="936"/>
                    <a:pt x="9742" y="982"/>
                    <a:pt x="9765" y="982"/>
                  </a:cubicBezTo>
                  <a:cubicBezTo>
                    <a:pt x="9668" y="996"/>
                    <a:pt x="9587" y="1086"/>
                    <a:pt x="9567" y="1190"/>
                  </a:cubicBezTo>
                  <a:cubicBezTo>
                    <a:pt x="9530" y="1204"/>
                    <a:pt x="9503" y="1251"/>
                    <a:pt x="9516" y="1287"/>
                  </a:cubicBezTo>
                  <a:cubicBezTo>
                    <a:pt x="9530" y="1287"/>
                    <a:pt x="9550" y="1297"/>
                    <a:pt x="9557" y="1312"/>
                  </a:cubicBezTo>
                  <a:cubicBezTo>
                    <a:pt x="9496" y="1394"/>
                    <a:pt x="9446" y="1491"/>
                    <a:pt x="9425" y="1595"/>
                  </a:cubicBezTo>
                  <a:cubicBezTo>
                    <a:pt x="9466" y="1613"/>
                    <a:pt x="9446" y="1681"/>
                    <a:pt x="9415" y="1716"/>
                  </a:cubicBezTo>
                  <a:cubicBezTo>
                    <a:pt x="9473" y="1724"/>
                    <a:pt x="9523" y="1770"/>
                    <a:pt x="9530" y="1831"/>
                  </a:cubicBezTo>
                  <a:cubicBezTo>
                    <a:pt x="9671" y="1881"/>
                    <a:pt x="9839" y="1874"/>
                    <a:pt x="9974" y="1806"/>
                  </a:cubicBezTo>
                  <a:cubicBezTo>
                    <a:pt x="10004" y="1792"/>
                    <a:pt x="10031" y="1777"/>
                    <a:pt x="10058" y="1770"/>
                  </a:cubicBezTo>
                  <a:cubicBezTo>
                    <a:pt x="10088" y="1770"/>
                    <a:pt x="10122" y="1777"/>
                    <a:pt x="10135" y="1806"/>
                  </a:cubicBezTo>
                  <a:cubicBezTo>
                    <a:pt x="10152" y="1860"/>
                    <a:pt x="10088" y="1903"/>
                    <a:pt x="10038" y="1896"/>
                  </a:cubicBezTo>
                  <a:cubicBezTo>
                    <a:pt x="9987" y="1885"/>
                    <a:pt x="9934" y="1874"/>
                    <a:pt x="9883" y="1896"/>
                  </a:cubicBezTo>
                  <a:cubicBezTo>
                    <a:pt x="9863" y="1906"/>
                    <a:pt x="9846" y="1928"/>
                    <a:pt x="9826" y="1935"/>
                  </a:cubicBezTo>
                  <a:cubicBezTo>
                    <a:pt x="9806" y="1942"/>
                    <a:pt x="9775" y="1935"/>
                    <a:pt x="9769" y="1913"/>
                  </a:cubicBezTo>
                  <a:cubicBezTo>
                    <a:pt x="9708" y="1971"/>
                    <a:pt x="9637" y="2024"/>
                    <a:pt x="9573" y="2085"/>
                  </a:cubicBezTo>
                  <a:cubicBezTo>
                    <a:pt x="9557" y="2093"/>
                    <a:pt x="9543" y="2103"/>
                    <a:pt x="9543" y="2121"/>
                  </a:cubicBezTo>
                  <a:cubicBezTo>
                    <a:pt x="9543" y="2136"/>
                    <a:pt x="9543" y="2153"/>
                    <a:pt x="9550" y="2161"/>
                  </a:cubicBezTo>
                  <a:cubicBezTo>
                    <a:pt x="9580" y="2243"/>
                    <a:pt x="9664" y="2297"/>
                    <a:pt x="9742" y="2325"/>
                  </a:cubicBezTo>
                  <a:cubicBezTo>
                    <a:pt x="9826" y="2354"/>
                    <a:pt x="9917" y="2379"/>
                    <a:pt x="10011" y="2379"/>
                  </a:cubicBezTo>
                  <a:cubicBezTo>
                    <a:pt x="10031" y="2379"/>
                    <a:pt x="10058" y="2379"/>
                    <a:pt x="10082" y="2372"/>
                  </a:cubicBezTo>
                  <a:cubicBezTo>
                    <a:pt x="10102" y="2361"/>
                    <a:pt x="10122" y="2347"/>
                    <a:pt x="10146" y="2340"/>
                  </a:cubicBezTo>
                  <a:cubicBezTo>
                    <a:pt x="10166" y="2333"/>
                    <a:pt x="10193" y="2340"/>
                    <a:pt x="10216" y="2340"/>
                  </a:cubicBezTo>
                  <a:cubicBezTo>
                    <a:pt x="10270" y="2347"/>
                    <a:pt x="10334" y="2354"/>
                    <a:pt x="10391" y="2372"/>
                  </a:cubicBezTo>
                  <a:cubicBezTo>
                    <a:pt x="10425" y="2379"/>
                    <a:pt x="10462" y="2386"/>
                    <a:pt x="10482" y="2415"/>
                  </a:cubicBezTo>
                  <a:cubicBezTo>
                    <a:pt x="10506" y="2447"/>
                    <a:pt x="10489" y="2497"/>
                    <a:pt x="10455" y="2497"/>
                  </a:cubicBezTo>
                  <a:cubicBezTo>
                    <a:pt x="10405" y="2490"/>
                    <a:pt x="10358" y="2490"/>
                    <a:pt x="10307" y="2483"/>
                  </a:cubicBezTo>
                  <a:cubicBezTo>
                    <a:pt x="10300" y="2504"/>
                    <a:pt x="10270" y="2522"/>
                    <a:pt x="10250" y="2512"/>
                  </a:cubicBezTo>
                  <a:cubicBezTo>
                    <a:pt x="10236" y="2565"/>
                    <a:pt x="10152" y="2580"/>
                    <a:pt x="10122" y="2537"/>
                  </a:cubicBezTo>
                  <a:cubicBezTo>
                    <a:pt x="10095" y="2573"/>
                    <a:pt x="10045" y="2587"/>
                    <a:pt x="10004" y="2573"/>
                  </a:cubicBezTo>
                  <a:cubicBezTo>
                    <a:pt x="9981" y="2565"/>
                    <a:pt x="9960" y="2551"/>
                    <a:pt x="9940" y="2551"/>
                  </a:cubicBezTo>
                  <a:cubicBezTo>
                    <a:pt x="9910" y="2551"/>
                    <a:pt x="9883" y="2573"/>
                    <a:pt x="9863" y="2587"/>
                  </a:cubicBezTo>
                  <a:cubicBezTo>
                    <a:pt x="9826" y="2619"/>
                    <a:pt x="9782" y="2655"/>
                    <a:pt x="9762" y="2701"/>
                  </a:cubicBezTo>
                  <a:cubicBezTo>
                    <a:pt x="9738" y="2744"/>
                    <a:pt x="9728" y="2798"/>
                    <a:pt x="9755" y="2845"/>
                  </a:cubicBezTo>
                  <a:cubicBezTo>
                    <a:pt x="9785" y="2906"/>
                    <a:pt x="9876" y="2949"/>
                    <a:pt x="9846" y="3010"/>
                  </a:cubicBezTo>
                  <a:cubicBezTo>
                    <a:pt x="9870" y="2995"/>
                    <a:pt x="9896" y="3010"/>
                    <a:pt x="9910" y="3031"/>
                  </a:cubicBezTo>
                  <a:cubicBezTo>
                    <a:pt x="9927" y="3053"/>
                    <a:pt x="9927" y="3085"/>
                    <a:pt x="9947" y="3099"/>
                  </a:cubicBezTo>
                  <a:cubicBezTo>
                    <a:pt x="9960" y="3121"/>
                    <a:pt x="10004" y="3121"/>
                    <a:pt x="10011" y="3092"/>
                  </a:cubicBezTo>
                  <a:cubicBezTo>
                    <a:pt x="10045" y="3128"/>
                    <a:pt x="10102" y="3146"/>
                    <a:pt x="10152" y="3153"/>
                  </a:cubicBezTo>
                  <a:cubicBezTo>
                    <a:pt x="10236" y="3167"/>
                    <a:pt x="10314" y="3174"/>
                    <a:pt x="10398" y="3189"/>
                  </a:cubicBezTo>
                  <a:cubicBezTo>
                    <a:pt x="10425" y="3189"/>
                    <a:pt x="10448" y="3196"/>
                    <a:pt x="10475" y="3214"/>
                  </a:cubicBezTo>
                  <a:cubicBezTo>
                    <a:pt x="10539" y="3242"/>
                    <a:pt x="10553" y="3346"/>
                    <a:pt x="10512" y="3400"/>
                  </a:cubicBezTo>
                  <a:cubicBezTo>
                    <a:pt x="10539" y="3468"/>
                    <a:pt x="10590" y="3522"/>
                    <a:pt x="10654" y="3550"/>
                  </a:cubicBezTo>
                  <a:cubicBezTo>
                    <a:pt x="10707" y="3579"/>
                    <a:pt x="10795" y="3558"/>
                    <a:pt x="10856" y="3558"/>
                  </a:cubicBezTo>
                  <a:lnTo>
                    <a:pt x="10893" y="3558"/>
                  </a:lnTo>
                  <a:cubicBezTo>
                    <a:pt x="10913" y="3558"/>
                    <a:pt x="10943" y="3565"/>
                    <a:pt x="10963" y="3565"/>
                  </a:cubicBezTo>
                  <a:cubicBezTo>
                    <a:pt x="11054" y="3572"/>
                    <a:pt x="11155" y="3558"/>
                    <a:pt x="11216" y="3482"/>
                  </a:cubicBezTo>
                  <a:cubicBezTo>
                    <a:pt x="11232" y="3468"/>
                    <a:pt x="11253" y="3436"/>
                    <a:pt x="11273" y="3447"/>
                  </a:cubicBezTo>
                  <a:cubicBezTo>
                    <a:pt x="11286" y="3454"/>
                    <a:pt x="11303" y="3468"/>
                    <a:pt x="11317" y="3461"/>
                  </a:cubicBezTo>
                  <a:cubicBezTo>
                    <a:pt x="11337" y="3454"/>
                    <a:pt x="11337" y="3429"/>
                    <a:pt x="11357" y="3421"/>
                  </a:cubicBezTo>
                  <a:cubicBezTo>
                    <a:pt x="11374" y="3421"/>
                    <a:pt x="11380" y="3429"/>
                    <a:pt x="11394" y="3436"/>
                  </a:cubicBezTo>
                  <a:cubicBezTo>
                    <a:pt x="11421" y="3447"/>
                    <a:pt x="11434" y="3400"/>
                    <a:pt x="11451" y="3378"/>
                  </a:cubicBezTo>
                  <a:cubicBezTo>
                    <a:pt x="11492" y="3310"/>
                    <a:pt x="11599" y="3346"/>
                    <a:pt x="11670" y="3325"/>
                  </a:cubicBezTo>
                  <a:cubicBezTo>
                    <a:pt x="11710" y="3310"/>
                    <a:pt x="11741" y="3271"/>
                    <a:pt x="11747" y="3228"/>
                  </a:cubicBezTo>
                  <a:cubicBezTo>
                    <a:pt x="11747" y="3214"/>
                    <a:pt x="11747" y="3196"/>
                    <a:pt x="11754" y="3181"/>
                  </a:cubicBezTo>
                  <a:cubicBezTo>
                    <a:pt x="11761" y="3174"/>
                    <a:pt x="11767" y="3160"/>
                    <a:pt x="11774" y="3153"/>
                  </a:cubicBezTo>
                  <a:cubicBezTo>
                    <a:pt x="11804" y="3121"/>
                    <a:pt x="11818" y="3078"/>
                    <a:pt x="11811" y="3031"/>
                  </a:cubicBezTo>
                  <a:cubicBezTo>
                    <a:pt x="11845" y="3070"/>
                    <a:pt x="11875" y="3121"/>
                    <a:pt x="11882" y="3174"/>
                  </a:cubicBezTo>
                  <a:cubicBezTo>
                    <a:pt x="11882" y="3189"/>
                    <a:pt x="11882" y="3214"/>
                    <a:pt x="11895" y="3228"/>
                  </a:cubicBezTo>
                  <a:cubicBezTo>
                    <a:pt x="11902" y="3242"/>
                    <a:pt x="11916" y="3250"/>
                    <a:pt x="11929" y="3257"/>
                  </a:cubicBezTo>
                  <a:cubicBezTo>
                    <a:pt x="11959" y="3278"/>
                    <a:pt x="11966" y="3318"/>
                    <a:pt x="11959" y="3353"/>
                  </a:cubicBezTo>
                  <a:cubicBezTo>
                    <a:pt x="11909" y="3339"/>
                    <a:pt x="11852" y="3386"/>
                    <a:pt x="11811" y="3414"/>
                  </a:cubicBezTo>
                  <a:cubicBezTo>
                    <a:pt x="11767" y="3454"/>
                    <a:pt x="11704" y="3482"/>
                    <a:pt x="11663" y="3447"/>
                  </a:cubicBezTo>
                  <a:cubicBezTo>
                    <a:pt x="11633" y="3522"/>
                    <a:pt x="11492" y="3490"/>
                    <a:pt x="11478" y="3565"/>
                  </a:cubicBezTo>
                  <a:cubicBezTo>
                    <a:pt x="11414" y="3565"/>
                    <a:pt x="11374" y="3654"/>
                    <a:pt x="11401" y="3715"/>
                  </a:cubicBezTo>
                  <a:cubicBezTo>
                    <a:pt x="11444" y="3715"/>
                    <a:pt x="11485" y="3715"/>
                    <a:pt x="11529" y="3722"/>
                  </a:cubicBezTo>
                  <a:cubicBezTo>
                    <a:pt x="11529" y="3744"/>
                    <a:pt x="11545" y="3769"/>
                    <a:pt x="11576" y="3769"/>
                  </a:cubicBezTo>
                  <a:cubicBezTo>
                    <a:pt x="11603" y="3769"/>
                    <a:pt x="11619" y="3755"/>
                    <a:pt x="11640" y="3737"/>
                  </a:cubicBezTo>
                  <a:cubicBezTo>
                    <a:pt x="11734" y="3679"/>
                    <a:pt x="11818" y="3611"/>
                    <a:pt x="11909" y="3550"/>
                  </a:cubicBezTo>
                  <a:cubicBezTo>
                    <a:pt x="11916" y="3543"/>
                    <a:pt x="11929" y="3536"/>
                    <a:pt x="11936" y="3543"/>
                  </a:cubicBezTo>
                  <a:cubicBezTo>
                    <a:pt x="11959" y="3550"/>
                    <a:pt x="11966" y="3586"/>
                    <a:pt x="11979" y="3579"/>
                  </a:cubicBezTo>
                  <a:cubicBezTo>
                    <a:pt x="11946" y="3647"/>
                    <a:pt x="11902" y="3701"/>
                    <a:pt x="11845" y="3744"/>
                  </a:cubicBezTo>
                  <a:cubicBezTo>
                    <a:pt x="11794" y="3783"/>
                    <a:pt x="11734" y="3805"/>
                    <a:pt x="11677" y="3830"/>
                  </a:cubicBezTo>
                  <a:cubicBezTo>
                    <a:pt x="11640" y="3844"/>
                    <a:pt x="11599" y="3858"/>
                    <a:pt x="11562" y="3873"/>
                  </a:cubicBezTo>
                  <a:cubicBezTo>
                    <a:pt x="11555" y="3880"/>
                    <a:pt x="11542" y="3880"/>
                    <a:pt x="11535" y="3887"/>
                  </a:cubicBezTo>
                  <a:cubicBezTo>
                    <a:pt x="11522" y="3912"/>
                    <a:pt x="11529" y="3941"/>
                    <a:pt x="11542" y="3955"/>
                  </a:cubicBezTo>
                  <a:cubicBezTo>
                    <a:pt x="11555" y="3977"/>
                    <a:pt x="11576" y="3995"/>
                    <a:pt x="11586" y="4016"/>
                  </a:cubicBezTo>
                  <a:cubicBezTo>
                    <a:pt x="11592" y="4038"/>
                    <a:pt x="11592" y="4063"/>
                    <a:pt x="11586" y="4077"/>
                  </a:cubicBezTo>
                  <a:cubicBezTo>
                    <a:pt x="11586" y="4195"/>
                    <a:pt x="11663" y="4331"/>
                    <a:pt x="11599" y="4435"/>
                  </a:cubicBezTo>
                  <a:cubicBezTo>
                    <a:pt x="11542" y="4407"/>
                    <a:pt x="11535" y="4331"/>
                    <a:pt x="11529" y="4270"/>
                  </a:cubicBezTo>
                  <a:cubicBezTo>
                    <a:pt x="11522" y="4202"/>
                    <a:pt x="11515" y="4127"/>
                    <a:pt x="11505" y="4063"/>
                  </a:cubicBezTo>
                  <a:cubicBezTo>
                    <a:pt x="11451" y="4052"/>
                    <a:pt x="11394" y="4070"/>
                    <a:pt x="11350" y="4106"/>
                  </a:cubicBezTo>
                  <a:cubicBezTo>
                    <a:pt x="11343" y="4052"/>
                    <a:pt x="11303" y="4016"/>
                    <a:pt x="11259" y="4009"/>
                  </a:cubicBezTo>
                  <a:cubicBezTo>
                    <a:pt x="11253" y="4023"/>
                    <a:pt x="11239" y="4030"/>
                    <a:pt x="11232" y="4045"/>
                  </a:cubicBezTo>
                  <a:cubicBezTo>
                    <a:pt x="11195" y="4023"/>
                    <a:pt x="11202" y="3962"/>
                    <a:pt x="11189" y="3927"/>
                  </a:cubicBezTo>
                  <a:cubicBezTo>
                    <a:pt x="11168" y="3880"/>
                    <a:pt x="11111" y="3873"/>
                    <a:pt x="11061" y="3873"/>
                  </a:cubicBezTo>
                  <a:cubicBezTo>
                    <a:pt x="11034" y="3905"/>
                    <a:pt x="11007" y="3934"/>
                    <a:pt x="10963" y="3948"/>
                  </a:cubicBezTo>
                  <a:cubicBezTo>
                    <a:pt x="10879" y="3987"/>
                    <a:pt x="10778" y="3977"/>
                    <a:pt x="10687" y="3987"/>
                  </a:cubicBezTo>
                  <a:cubicBezTo>
                    <a:pt x="10623" y="3995"/>
                    <a:pt x="10559" y="4016"/>
                    <a:pt x="10495" y="3995"/>
                  </a:cubicBezTo>
                  <a:cubicBezTo>
                    <a:pt x="10469" y="3987"/>
                    <a:pt x="10442" y="3962"/>
                    <a:pt x="10411" y="3955"/>
                  </a:cubicBezTo>
                  <a:cubicBezTo>
                    <a:pt x="10384" y="3948"/>
                    <a:pt x="10347" y="3948"/>
                    <a:pt x="10327" y="3970"/>
                  </a:cubicBezTo>
                  <a:cubicBezTo>
                    <a:pt x="10320" y="3977"/>
                    <a:pt x="10314" y="3995"/>
                    <a:pt x="10300" y="3995"/>
                  </a:cubicBezTo>
                  <a:cubicBezTo>
                    <a:pt x="10294" y="3995"/>
                    <a:pt x="10287" y="3995"/>
                    <a:pt x="10277" y="3987"/>
                  </a:cubicBezTo>
                  <a:lnTo>
                    <a:pt x="10172" y="3941"/>
                  </a:lnTo>
                  <a:cubicBezTo>
                    <a:pt x="10159" y="3934"/>
                    <a:pt x="10135" y="3927"/>
                    <a:pt x="10122" y="3905"/>
                  </a:cubicBezTo>
                  <a:cubicBezTo>
                    <a:pt x="10102" y="3866"/>
                    <a:pt x="10129" y="3830"/>
                    <a:pt x="10152" y="3798"/>
                  </a:cubicBezTo>
                  <a:cubicBezTo>
                    <a:pt x="10159" y="3790"/>
                    <a:pt x="10166" y="3776"/>
                    <a:pt x="10179" y="3769"/>
                  </a:cubicBezTo>
                  <a:cubicBezTo>
                    <a:pt x="10186" y="3762"/>
                    <a:pt x="10193" y="3744"/>
                    <a:pt x="10206" y="3737"/>
                  </a:cubicBezTo>
                  <a:cubicBezTo>
                    <a:pt x="10236" y="3715"/>
                    <a:pt x="10263" y="3715"/>
                    <a:pt x="10300" y="3730"/>
                  </a:cubicBezTo>
                  <a:cubicBezTo>
                    <a:pt x="10371" y="3694"/>
                    <a:pt x="10398" y="3572"/>
                    <a:pt x="10347" y="3504"/>
                  </a:cubicBezTo>
                  <a:cubicBezTo>
                    <a:pt x="10364" y="3490"/>
                    <a:pt x="10384" y="3475"/>
                    <a:pt x="10405" y="3468"/>
                  </a:cubicBezTo>
                  <a:cubicBezTo>
                    <a:pt x="10384" y="3468"/>
                    <a:pt x="10347" y="3454"/>
                    <a:pt x="10320" y="3454"/>
                  </a:cubicBezTo>
                  <a:cubicBezTo>
                    <a:pt x="10307" y="3454"/>
                    <a:pt x="10287" y="3454"/>
                    <a:pt x="10270" y="3447"/>
                  </a:cubicBezTo>
                  <a:cubicBezTo>
                    <a:pt x="10250" y="3436"/>
                    <a:pt x="10243" y="3414"/>
                    <a:pt x="10230" y="3400"/>
                  </a:cubicBezTo>
                  <a:cubicBezTo>
                    <a:pt x="10223" y="3386"/>
                    <a:pt x="10216" y="3378"/>
                    <a:pt x="10206" y="3361"/>
                  </a:cubicBezTo>
                  <a:cubicBezTo>
                    <a:pt x="10199" y="3353"/>
                    <a:pt x="10199" y="3346"/>
                    <a:pt x="10193" y="3346"/>
                  </a:cubicBezTo>
                  <a:cubicBezTo>
                    <a:pt x="10186" y="3346"/>
                    <a:pt x="10186" y="3353"/>
                    <a:pt x="10179" y="3353"/>
                  </a:cubicBezTo>
                  <a:cubicBezTo>
                    <a:pt x="10172" y="3361"/>
                    <a:pt x="10159" y="3353"/>
                    <a:pt x="10152" y="3353"/>
                  </a:cubicBezTo>
                  <a:cubicBezTo>
                    <a:pt x="10102" y="3339"/>
                    <a:pt x="10051" y="3318"/>
                    <a:pt x="10011" y="3296"/>
                  </a:cubicBezTo>
                  <a:cubicBezTo>
                    <a:pt x="10004" y="3285"/>
                    <a:pt x="9987" y="3275"/>
                    <a:pt x="9974" y="3285"/>
                  </a:cubicBezTo>
                  <a:cubicBezTo>
                    <a:pt x="9960" y="3293"/>
                    <a:pt x="9954" y="3303"/>
                    <a:pt x="9960" y="3318"/>
                  </a:cubicBezTo>
                  <a:cubicBezTo>
                    <a:pt x="9940" y="3318"/>
                    <a:pt x="9917" y="3339"/>
                    <a:pt x="9903" y="3361"/>
                  </a:cubicBezTo>
                  <a:cubicBezTo>
                    <a:pt x="9883" y="3339"/>
                    <a:pt x="9839" y="3361"/>
                    <a:pt x="9812" y="3353"/>
                  </a:cubicBezTo>
                  <a:cubicBezTo>
                    <a:pt x="9792" y="3353"/>
                    <a:pt x="9775" y="3339"/>
                    <a:pt x="9762" y="3325"/>
                  </a:cubicBezTo>
                  <a:cubicBezTo>
                    <a:pt x="9748" y="3318"/>
                    <a:pt x="9722" y="3310"/>
                    <a:pt x="9708" y="3325"/>
                  </a:cubicBezTo>
                  <a:cubicBezTo>
                    <a:pt x="9698" y="3303"/>
                    <a:pt x="9698" y="3285"/>
                    <a:pt x="9691" y="3264"/>
                  </a:cubicBezTo>
                  <a:cubicBezTo>
                    <a:pt x="9671" y="3278"/>
                    <a:pt x="9641" y="3278"/>
                    <a:pt x="9621" y="3271"/>
                  </a:cubicBezTo>
                  <a:cubicBezTo>
                    <a:pt x="9597" y="3264"/>
                    <a:pt x="9580" y="3242"/>
                    <a:pt x="9557" y="3228"/>
                  </a:cubicBezTo>
                  <a:cubicBezTo>
                    <a:pt x="9550" y="3221"/>
                    <a:pt x="9536" y="3214"/>
                    <a:pt x="9536" y="3196"/>
                  </a:cubicBezTo>
                  <a:cubicBezTo>
                    <a:pt x="9536" y="3189"/>
                    <a:pt x="9536" y="3181"/>
                    <a:pt x="9530" y="3174"/>
                  </a:cubicBezTo>
                  <a:cubicBezTo>
                    <a:pt x="9523" y="3167"/>
                    <a:pt x="9523" y="3167"/>
                    <a:pt x="9516" y="3167"/>
                  </a:cubicBezTo>
                  <a:cubicBezTo>
                    <a:pt x="9496" y="3160"/>
                    <a:pt x="9473" y="3153"/>
                    <a:pt x="9446" y="3146"/>
                  </a:cubicBezTo>
                  <a:cubicBezTo>
                    <a:pt x="9439" y="3146"/>
                    <a:pt x="9432" y="3138"/>
                    <a:pt x="9425" y="3138"/>
                  </a:cubicBezTo>
                  <a:cubicBezTo>
                    <a:pt x="9415" y="3138"/>
                    <a:pt x="9409" y="3138"/>
                    <a:pt x="9402" y="3146"/>
                  </a:cubicBezTo>
                  <a:cubicBezTo>
                    <a:pt x="9375" y="3153"/>
                    <a:pt x="9338" y="3153"/>
                    <a:pt x="9311" y="3138"/>
                  </a:cubicBezTo>
                  <a:cubicBezTo>
                    <a:pt x="9298" y="3121"/>
                    <a:pt x="9284" y="3106"/>
                    <a:pt x="9277" y="3085"/>
                  </a:cubicBezTo>
                  <a:cubicBezTo>
                    <a:pt x="9247" y="3078"/>
                    <a:pt x="9220" y="3063"/>
                    <a:pt x="9197" y="3053"/>
                  </a:cubicBezTo>
                  <a:cubicBezTo>
                    <a:pt x="9183" y="3038"/>
                    <a:pt x="9176" y="3024"/>
                    <a:pt x="9176" y="3002"/>
                  </a:cubicBezTo>
                  <a:cubicBezTo>
                    <a:pt x="9163" y="3010"/>
                    <a:pt x="9143" y="3002"/>
                    <a:pt x="9126" y="2977"/>
                  </a:cubicBezTo>
                  <a:cubicBezTo>
                    <a:pt x="9112" y="2963"/>
                    <a:pt x="9112" y="2941"/>
                    <a:pt x="9099" y="2927"/>
                  </a:cubicBezTo>
                  <a:cubicBezTo>
                    <a:pt x="9086" y="2913"/>
                    <a:pt x="9065" y="2906"/>
                    <a:pt x="9042" y="2895"/>
                  </a:cubicBezTo>
                  <a:cubicBezTo>
                    <a:pt x="8978" y="2859"/>
                    <a:pt x="8924" y="2784"/>
                    <a:pt x="8853" y="2791"/>
                  </a:cubicBezTo>
                  <a:cubicBezTo>
                    <a:pt x="8816" y="2791"/>
                    <a:pt x="8789" y="2813"/>
                    <a:pt x="8759" y="2798"/>
                  </a:cubicBezTo>
                  <a:cubicBezTo>
                    <a:pt x="8752" y="2791"/>
                    <a:pt x="8739" y="2784"/>
                    <a:pt x="8732" y="2784"/>
                  </a:cubicBezTo>
                  <a:cubicBezTo>
                    <a:pt x="8705" y="2784"/>
                    <a:pt x="8699" y="2813"/>
                    <a:pt x="8688" y="2845"/>
                  </a:cubicBezTo>
                  <a:cubicBezTo>
                    <a:pt x="8682" y="2873"/>
                    <a:pt x="8662" y="2906"/>
                    <a:pt x="8641" y="2920"/>
                  </a:cubicBezTo>
                  <a:cubicBezTo>
                    <a:pt x="8662" y="2920"/>
                    <a:pt x="8668" y="2949"/>
                    <a:pt x="8662" y="2963"/>
                  </a:cubicBezTo>
                  <a:cubicBezTo>
                    <a:pt x="8655" y="2977"/>
                    <a:pt x="8628" y="2988"/>
                    <a:pt x="8611" y="2995"/>
                  </a:cubicBezTo>
                  <a:cubicBezTo>
                    <a:pt x="8591" y="2988"/>
                    <a:pt x="8571" y="3017"/>
                    <a:pt x="8564" y="3031"/>
                  </a:cubicBezTo>
                  <a:cubicBezTo>
                    <a:pt x="8557" y="3045"/>
                    <a:pt x="8547" y="3078"/>
                    <a:pt x="8534" y="3092"/>
                  </a:cubicBezTo>
                  <a:cubicBezTo>
                    <a:pt x="8520" y="3106"/>
                    <a:pt x="8487" y="3099"/>
                    <a:pt x="8493" y="3078"/>
                  </a:cubicBezTo>
                  <a:cubicBezTo>
                    <a:pt x="8476" y="3085"/>
                    <a:pt x="8463" y="3085"/>
                    <a:pt x="8450" y="3092"/>
                  </a:cubicBezTo>
                  <a:cubicBezTo>
                    <a:pt x="8399" y="3045"/>
                    <a:pt x="8463" y="2956"/>
                    <a:pt x="8429" y="2906"/>
                  </a:cubicBezTo>
                  <a:cubicBezTo>
                    <a:pt x="8423" y="2888"/>
                    <a:pt x="8399" y="2881"/>
                    <a:pt x="8399" y="2859"/>
                  </a:cubicBezTo>
                  <a:cubicBezTo>
                    <a:pt x="8399" y="2852"/>
                    <a:pt x="8409" y="2845"/>
                    <a:pt x="8416" y="2830"/>
                  </a:cubicBezTo>
                  <a:cubicBezTo>
                    <a:pt x="8443" y="2784"/>
                    <a:pt x="8423" y="2723"/>
                    <a:pt x="8399" y="2669"/>
                  </a:cubicBezTo>
                  <a:cubicBezTo>
                    <a:pt x="8392" y="2655"/>
                    <a:pt x="8386" y="2633"/>
                    <a:pt x="8365" y="2626"/>
                  </a:cubicBezTo>
                  <a:cubicBezTo>
                    <a:pt x="8352" y="2619"/>
                    <a:pt x="8338" y="2626"/>
                    <a:pt x="8322" y="2626"/>
                  </a:cubicBezTo>
                  <a:cubicBezTo>
                    <a:pt x="8288" y="2633"/>
                    <a:pt x="8244" y="2641"/>
                    <a:pt x="8231" y="2680"/>
                  </a:cubicBezTo>
                  <a:cubicBezTo>
                    <a:pt x="8204" y="2737"/>
                    <a:pt x="8288" y="2820"/>
                    <a:pt x="8244" y="2881"/>
                  </a:cubicBezTo>
                  <a:cubicBezTo>
                    <a:pt x="8231" y="2906"/>
                    <a:pt x="8197" y="2913"/>
                    <a:pt x="8197" y="2941"/>
                  </a:cubicBezTo>
                  <a:cubicBezTo>
                    <a:pt x="8197" y="2970"/>
                    <a:pt x="8224" y="2988"/>
                    <a:pt x="8251" y="2995"/>
                  </a:cubicBezTo>
                  <a:cubicBezTo>
                    <a:pt x="8238" y="3031"/>
                    <a:pt x="8231" y="3070"/>
                    <a:pt x="8238" y="3106"/>
                  </a:cubicBezTo>
                  <a:cubicBezTo>
                    <a:pt x="8187" y="3099"/>
                    <a:pt x="8147" y="3092"/>
                    <a:pt x="8103" y="3070"/>
                  </a:cubicBezTo>
                  <a:cubicBezTo>
                    <a:pt x="8063" y="3045"/>
                    <a:pt x="8032" y="2995"/>
                    <a:pt x="8039" y="2941"/>
                  </a:cubicBezTo>
                  <a:cubicBezTo>
                    <a:pt x="8005" y="2934"/>
                    <a:pt x="7992" y="2888"/>
                    <a:pt x="8005" y="2859"/>
                  </a:cubicBezTo>
                  <a:cubicBezTo>
                    <a:pt x="7955" y="2845"/>
                    <a:pt x="7978" y="2762"/>
                    <a:pt x="7948" y="2716"/>
                  </a:cubicBezTo>
                  <a:cubicBezTo>
                    <a:pt x="7941" y="2701"/>
                    <a:pt x="7928" y="2694"/>
                    <a:pt x="7915" y="2687"/>
                  </a:cubicBezTo>
                  <a:cubicBezTo>
                    <a:pt x="7898" y="2669"/>
                    <a:pt x="7891" y="2655"/>
                    <a:pt x="7884" y="2641"/>
                  </a:cubicBezTo>
                  <a:cubicBezTo>
                    <a:pt x="7857" y="2580"/>
                    <a:pt x="7820" y="2530"/>
                    <a:pt x="7793" y="2469"/>
                  </a:cubicBezTo>
                  <a:cubicBezTo>
                    <a:pt x="7787" y="2454"/>
                    <a:pt x="7760" y="2429"/>
                    <a:pt x="7750" y="2454"/>
                  </a:cubicBezTo>
                  <a:cubicBezTo>
                    <a:pt x="7750" y="2415"/>
                    <a:pt x="7723" y="2386"/>
                    <a:pt x="7696" y="2386"/>
                  </a:cubicBezTo>
                  <a:cubicBezTo>
                    <a:pt x="7689" y="2461"/>
                    <a:pt x="7703" y="2544"/>
                    <a:pt x="7723" y="2619"/>
                  </a:cubicBezTo>
                  <a:cubicBezTo>
                    <a:pt x="7696" y="2626"/>
                    <a:pt x="7679" y="2662"/>
                    <a:pt x="7679" y="2694"/>
                  </a:cubicBezTo>
                  <a:cubicBezTo>
                    <a:pt x="7679" y="2723"/>
                    <a:pt x="7689" y="2755"/>
                    <a:pt x="7703" y="2784"/>
                  </a:cubicBezTo>
                  <a:lnTo>
                    <a:pt x="7602" y="2784"/>
                  </a:lnTo>
                  <a:cubicBezTo>
                    <a:pt x="7595" y="2784"/>
                    <a:pt x="7581" y="2784"/>
                    <a:pt x="7575" y="2791"/>
                  </a:cubicBezTo>
                  <a:cubicBezTo>
                    <a:pt x="7568" y="2798"/>
                    <a:pt x="7568" y="2813"/>
                    <a:pt x="7561" y="2820"/>
                  </a:cubicBezTo>
                  <a:cubicBezTo>
                    <a:pt x="7554" y="2845"/>
                    <a:pt x="7531" y="2852"/>
                    <a:pt x="7517" y="2859"/>
                  </a:cubicBezTo>
                  <a:cubicBezTo>
                    <a:pt x="7453" y="2881"/>
                    <a:pt x="7390" y="2906"/>
                    <a:pt x="7329" y="2913"/>
                  </a:cubicBezTo>
                  <a:cubicBezTo>
                    <a:pt x="7319" y="2888"/>
                    <a:pt x="7329" y="2866"/>
                    <a:pt x="7329" y="2845"/>
                  </a:cubicBezTo>
                  <a:cubicBezTo>
                    <a:pt x="7369" y="2838"/>
                    <a:pt x="7413" y="2805"/>
                    <a:pt x="7433" y="2770"/>
                  </a:cubicBezTo>
                  <a:cubicBezTo>
                    <a:pt x="7440" y="2762"/>
                    <a:pt x="7440" y="2755"/>
                    <a:pt x="7440" y="2744"/>
                  </a:cubicBezTo>
                  <a:cubicBezTo>
                    <a:pt x="7440" y="2730"/>
                    <a:pt x="7427" y="2716"/>
                    <a:pt x="7420" y="2701"/>
                  </a:cubicBezTo>
                  <a:cubicBezTo>
                    <a:pt x="7400" y="2669"/>
                    <a:pt x="7400" y="2633"/>
                    <a:pt x="7413" y="2605"/>
                  </a:cubicBezTo>
                  <a:cubicBezTo>
                    <a:pt x="7363" y="2573"/>
                    <a:pt x="7292" y="2641"/>
                    <a:pt x="7305" y="2701"/>
                  </a:cubicBezTo>
                  <a:cubicBezTo>
                    <a:pt x="7272" y="2694"/>
                    <a:pt x="7235" y="2680"/>
                    <a:pt x="7194" y="2687"/>
                  </a:cubicBezTo>
                  <a:cubicBezTo>
                    <a:pt x="7157" y="2694"/>
                    <a:pt x="7117" y="2709"/>
                    <a:pt x="7100" y="2744"/>
                  </a:cubicBezTo>
                  <a:cubicBezTo>
                    <a:pt x="7093" y="2762"/>
                    <a:pt x="7093" y="2777"/>
                    <a:pt x="7087" y="2791"/>
                  </a:cubicBezTo>
                  <a:cubicBezTo>
                    <a:pt x="7073" y="2813"/>
                    <a:pt x="7053" y="2830"/>
                    <a:pt x="7023" y="2838"/>
                  </a:cubicBezTo>
                  <a:cubicBezTo>
                    <a:pt x="6959" y="2866"/>
                    <a:pt x="6888" y="2895"/>
                    <a:pt x="6828" y="2927"/>
                  </a:cubicBezTo>
                  <a:cubicBezTo>
                    <a:pt x="6821" y="2949"/>
                    <a:pt x="6828" y="2970"/>
                    <a:pt x="6841" y="2988"/>
                  </a:cubicBezTo>
                  <a:cubicBezTo>
                    <a:pt x="6797" y="2970"/>
                    <a:pt x="6757" y="2995"/>
                    <a:pt x="6740" y="3038"/>
                  </a:cubicBezTo>
                  <a:cubicBezTo>
                    <a:pt x="6733" y="3063"/>
                    <a:pt x="6733" y="3088"/>
                    <a:pt x="6720" y="3113"/>
                  </a:cubicBezTo>
                  <a:cubicBezTo>
                    <a:pt x="6706" y="3135"/>
                    <a:pt x="6680" y="3153"/>
                    <a:pt x="6656" y="3138"/>
                  </a:cubicBezTo>
                  <a:cubicBezTo>
                    <a:pt x="6636" y="3106"/>
                    <a:pt x="6669" y="3070"/>
                    <a:pt x="6669" y="3031"/>
                  </a:cubicBezTo>
                  <a:cubicBezTo>
                    <a:pt x="6669" y="2988"/>
                    <a:pt x="6609" y="2977"/>
                    <a:pt x="6558" y="2977"/>
                  </a:cubicBezTo>
                  <a:cubicBezTo>
                    <a:pt x="6572" y="2956"/>
                    <a:pt x="6558" y="2927"/>
                    <a:pt x="6538" y="2906"/>
                  </a:cubicBezTo>
                  <a:cubicBezTo>
                    <a:pt x="6515" y="2888"/>
                    <a:pt x="6488" y="2881"/>
                    <a:pt x="6474" y="2859"/>
                  </a:cubicBezTo>
                  <a:cubicBezTo>
                    <a:pt x="6468" y="2852"/>
                    <a:pt x="6461" y="2838"/>
                    <a:pt x="6451" y="2830"/>
                  </a:cubicBezTo>
                  <a:cubicBezTo>
                    <a:pt x="6431" y="2813"/>
                    <a:pt x="6404" y="2845"/>
                    <a:pt x="6397" y="2866"/>
                  </a:cubicBezTo>
                  <a:cubicBezTo>
                    <a:pt x="6390" y="2888"/>
                    <a:pt x="6390" y="2920"/>
                    <a:pt x="6373" y="2941"/>
                  </a:cubicBezTo>
                  <a:cubicBezTo>
                    <a:pt x="6353" y="2963"/>
                    <a:pt x="6319" y="2963"/>
                    <a:pt x="6289" y="2970"/>
                  </a:cubicBezTo>
                  <a:cubicBezTo>
                    <a:pt x="6219" y="2988"/>
                    <a:pt x="6178" y="3078"/>
                    <a:pt x="6198" y="3153"/>
                  </a:cubicBezTo>
                  <a:cubicBezTo>
                    <a:pt x="6171" y="3167"/>
                    <a:pt x="6148" y="3181"/>
                    <a:pt x="6128" y="3203"/>
                  </a:cubicBezTo>
                  <a:cubicBezTo>
                    <a:pt x="6114" y="3228"/>
                    <a:pt x="6107" y="3264"/>
                    <a:pt x="6128" y="3285"/>
                  </a:cubicBezTo>
                  <a:lnTo>
                    <a:pt x="6084" y="3310"/>
                  </a:lnTo>
                  <a:cubicBezTo>
                    <a:pt x="6114" y="3325"/>
                    <a:pt x="6114" y="3371"/>
                    <a:pt x="6107" y="3400"/>
                  </a:cubicBezTo>
                  <a:cubicBezTo>
                    <a:pt x="6101" y="3429"/>
                    <a:pt x="6084" y="3468"/>
                    <a:pt x="6101" y="3497"/>
                  </a:cubicBezTo>
                  <a:cubicBezTo>
                    <a:pt x="6070" y="3497"/>
                    <a:pt x="6044" y="3482"/>
                    <a:pt x="6020" y="3461"/>
                  </a:cubicBezTo>
                  <a:cubicBezTo>
                    <a:pt x="6007" y="3461"/>
                    <a:pt x="5993" y="3429"/>
                    <a:pt x="5986" y="3421"/>
                  </a:cubicBezTo>
                  <a:cubicBezTo>
                    <a:pt x="5973" y="3407"/>
                    <a:pt x="5949" y="3400"/>
                    <a:pt x="5929" y="3393"/>
                  </a:cubicBezTo>
                  <a:cubicBezTo>
                    <a:pt x="5909" y="3386"/>
                    <a:pt x="5895" y="3361"/>
                    <a:pt x="5902" y="3339"/>
                  </a:cubicBezTo>
                  <a:cubicBezTo>
                    <a:pt x="5879" y="3361"/>
                    <a:pt x="5845" y="3332"/>
                    <a:pt x="5825" y="3310"/>
                  </a:cubicBezTo>
                  <a:cubicBezTo>
                    <a:pt x="5788" y="3271"/>
                    <a:pt x="5741" y="3235"/>
                    <a:pt x="5690" y="3221"/>
                  </a:cubicBezTo>
                  <a:cubicBezTo>
                    <a:pt x="5670" y="3214"/>
                    <a:pt x="5653" y="3203"/>
                    <a:pt x="5640" y="3189"/>
                  </a:cubicBezTo>
                  <a:cubicBezTo>
                    <a:pt x="5626" y="3160"/>
                    <a:pt x="5646" y="3128"/>
                    <a:pt x="5633" y="3099"/>
                  </a:cubicBezTo>
                  <a:cubicBezTo>
                    <a:pt x="5626" y="3078"/>
                    <a:pt x="5606" y="3063"/>
                    <a:pt x="5589" y="3045"/>
                  </a:cubicBezTo>
                  <a:cubicBezTo>
                    <a:pt x="5576" y="3031"/>
                    <a:pt x="5569" y="2995"/>
                    <a:pt x="5589" y="2988"/>
                  </a:cubicBezTo>
                  <a:cubicBezTo>
                    <a:pt x="5522" y="2941"/>
                    <a:pt x="5421" y="2934"/>
                    <a:pt x="5344" y="2977"/>
                  </a:cubicBezTo>
                  <a:cubicBezTo>
                    <a:pt x="5330" y="2988"/>
                    <a:pt x="5323" y="2995"/>
                    <a:pt x="5310" y="2995"/>
                  </a:cubicBezTo>
                  <a:lnTo>
                    <a:pt x="5280" y="2995"/>
                  </a:lnTo>
                  <a:cubicBezTo>
                    <a:pt x="5253" y="2988"/>
                    <a:pt x="5222" y="2984"/>
                    <a:pt x="5202" y="2970"/>
                  </a:cubicBezTo>
                  <a:cubicBezTo>
                    <a:pt x="5182" y="2952"/>
                    <a:pt x="5162" y="2941"/>
                    <a:pt x="5138" y="2934"/>
                  </a:cubicBezTo>
                  <a:cubicBezTo>
                    <a:pt x="5118" y="2927"/>
                    <a:pt x="5091" y="2927"/>
                    <a:pt x="5074" y="2949"/>
                  </a:cubicBezTo>
                  <a:cubicBezTo>
                    <a:pt x="5074" y="2920"/>
                    <a:pt x="5068" y="2895"/>
                    <a:pt x="5068" y="2866"/>
                  </a:cubicBezTo>
                  <a:cubicBezTo>
                    <a:pt x="5068" y="2859"/>
                    <a:pt x="5068" y="2852"/>
                    <a:pt x="5061" y="2845"/>
                  </a:cubicBezTo>
                  <a:cubicBezTo>
                    <a:pt x="5048" y="2813"/>
                    <a:pt x="4990" y="2838"/>
                    <a:pt x="4970" y="2813"/>
                  </a:cubicBezTo>
                  <a:cubicBezTo>
                    <a:pt x="4950" y="2791"/>
                    <a:pt x="4970" y="2755"/>
                    <a:pt x="4950" y="2730"/>
                  </a:cubicBezTo>
                  <a:cubicBezTo>
                    <a:pt x="4940" y="2723"/>
                    <a:pt x="4933" y="2716"/>
                    <a:pt x="4920" y="2709"/>
                  </a:cubicBezTo>
                  <a:cubicBezTo>
                    <a:pt x="4879" y="2687"/>
                    <a:pt x="4836" y="2669"/>
                    <a:pt x="4792" y="2648"/>
                  </a:cubicBezTo>
                  <a:cubicBezTo>
                    <a:pt x="4772" y="2641"/>
                    <a:pt x="4751" y="2633"/>
                    <a:pt x="4731" y="2641"/>
                  </a:cubicBezTo>
                  <a:cubicBezTo>
                    <a:pt x="4701" y="2648"/>
                    <a:pt x="4687" y="2669"/>
                    <a:pt x="4674" y="2694"/>
                  </a:cubicBezTo>
                  <a:cubicBezTo>
                    <a:pt x="4661" y="2716"/>
                    <a:pt x="4630" y="2730"/>
                    <a:pt x="4603" y="2716"/>
                  </a:cubicBezTo>
                  <a:cubicBezTo>
                    <a:pt x="4590" y="2709"/>
                    <a:pt x="4580" y="2694"/>
                    <a:pt x="4566" y="2694"/>
                  </a:cubicBezTo>
                  <a:cubicBezTo>
                    <a:pt x="4549" y="2694"/>
                    <a:pt x="4546" y="2701"/>
                    <a:pt x="4533" y="2701"/>
                  </a:cubicBezTo>
                  <a:cubicBezTo>
                    <a:pt x="4489" y="2723"/>
                    <a:pt x="4449" y="2737"/>
                    <a:pt x="4405" y="2744"/>
                  </a:cubicBezTo>
                  <a:cubicBezTo>
                    <a:pt x="4391" y="2744"/>
                    <a:pt x="4371" y="2755"/>
                    <a:pt x="4354" y="2744"/>
                  </a:cubicBezTo>
                  <a:cubicBezTo>
                    <a:pt x="4334" y="2737"/>
                    <a:pt x="4327" y="2709"/>
                    <a:pt x="4314" y="2687"/>
                  </a:cubicBezTo>
                  <a:cubicBezTo>
                    <a:pt x="4300" y="2662"/>
                    <a:pt x="4277" y="2648"/>
                    <a:pt x="4257" y="2662"/>
                  </a:cubicBezTo>
                  <a:cubicBezTo>
                    <a:pt x="4136" y="2626"/>
                    <a:pt x="3981" y="2598"/>
                    <a:pt x="3863" y="2633"/>
                  </a:cubicBezTo>
                  <a:cubicBezTo>
                    <a:pt x="3853" y="2612"/>
                    <a:pt x="3853" y="2587"/>
                    <a:pt x="3846" y="2558"/>
                  </a:cubicBezTo>
                  <a:cubicBezTo>
                    <a:pt x="3806" y="2565"/>
                    <a:pt x="3755" y="2537"/>
                    <a:pt x="3749" y="2490"/>
                  </a:cubicBezTo>
                  <a:cubicBezTo>
                    <a:pt x="3658" y="2551"/>
                    <a:pt x="3580" y="2347"/>
                    <a:pt x="3466" y="2361"/>
                  </a:cubicBezTo>
                  <a:cubicBezTo>
                    <a:pt x="3459" y="2422"/>
                    <a:pt x="3446" y="2476"/>
                    <a:pt x="3439" y="2537"/>
                  </a:cubicBezTo>
                  <a:cubicBezTo>
                    <a:pt x="3338" y="2483"/>
                    <a:pt x="3227" y="2461"/>
                    <a:pt x="3113" y="2476"/>
                  </a:cubicBezTo>
                  <a:cubicBezTo>
                    <a:pt x="3113" y="2454"/>
                    <a:pt x="3106" y="2436"/>
                    <a:pt x="3106" y="2415"/>
                  </a:cubicBezTo>
                  <a:cubicBezTo>
                    <a:pt x="3062" y="2372"/>
                    <a:pt x="3015" y="2325"/>
                    <a:pt x="2971" y="2279"/>
                  </a:cubicBezTo>
                  <a:cubicBezTo>
                    <a:pt x="2978" y="2204"/>
                    <a:pt x="2924" y="2128"/>
                    <a:pt x="2854" y="2121"/>
                  </a:cubicBezTo>
                  <a:cubicBezTo>
                    <a:pt x="2783" y="2114"/>
                    <a:pt x="2712" y="2189"/>
                    <a:pt x="2719" y="2264"/>
                  </a:cubicBezTo>
                  <a:cubicBezTo>
                    <a:pt x="2766" y="2272"/>
                    <a:pt x="2810" y="2333"/>
                    <a:pt x="2790" y="2393"/>
                  </a:cubicBezTo>
                  <a:cubicBezTo>
                    <a:pt x="2668" y="2372"/>
                    <a:pt x="2689" y="2107"/>
                    <a:pt x="2564" y="2114"/>
                  </a:cubicBezTo>
                  <a:cubicBezTo>
                    <a:pt x="2547" y="2128"/>
                    <a:pt x="2534" y="2146"/>
                    <a:pt x="2514" y="2161"/>
                  </a:cubicBezTo>
                  <a:cubicBezTo>
                    <a:pt x="2456" y="1996"/>
                    <a:pt x="2308" y="1874"/>
                    <a:pt x="2147" y="1867"/>
                  </a:cubicBezTo>
                  <a:cubicBezTo>
                    <a:pt x="2117" y="1838"/>
                    <a:pt x="2083" y="1906"/>
                    <a:pt x="2096" y="1942"/>
                  </a:cubicBezTo>
                  <a:cubicBezTo>
                    <a:pt x="2110" y="1978"/>
                    <a:pt x="2147" y="2024"/>
                    <a:pt x="2123" y="2064"/>
                  </a:cubicBezTo>
                  <a:cubicBezTo>
                    <a:pt x="2103" y="2093"/>
                    <a:pt x="2063" y="2093"/>
                    <a:pt x="2026" y="2078"/>
                  </a:cubicBezTo>
                  <a:cubicBezTo>
                    <a:pt x="1999" y="2146"/>
                    <a:pt x="1975" y="2221"/>
                    <a:pt x="1948" y="2286"/>
                  </a:cubicBezTo>
                  <a:cubicBezTo>
                    <a:pt x="1898" y="2243"/>
                    <a:pt x="1820" y="2250"/>
                    <a:pt x="1787" y="2304"/>
                  </a:cubicBezTo>
                  <a:cubicBezTo>
                    <a:pt x="1763" y="2243"/>
                    <a:pt x="1709" y="2193"/>
                    <a:pt x="1652" y="2204"/>
                  </a:cubicBezTo>
                  <a:cubicBezTo>
                    <a:pt x="1595" y="2211"/>
                    <a:pt x="1538" y="2272"/>
                    <a:pt x="1561" y="2333"/>
                  </a:cubicBezTo>
                  <a:cubicBezTo>
                    <a:pt x="1491" y="2372"/>
                    <a:pt x="1447" y="2461"/>
                    <a:pt x="1467" y="2544"/>
                  </a:cubicBezTo>
                  <a:cubicBezTo>
                    <a:pt x="1403" y="2537"/>
                    <a:pt x="1343" y="2587"/>
                    <a:pt x="1326" y="2648"/>
                  </a:cubicBezTo>
                  <a:cubicBezTo>
                    <a:pt x="1292" y="2605"/>
                    <a:pt x="1248" y="2551"/>
                    <a:pt x="1184" y="2544"/>
                  </a:cubicBezTo>
                  <a:cubicBezTo>
                    <a:pt x="1131" y="2537"/>
                    <a:pt x="1073" y="2619"/>
                    <a:pt x="1114" y="2662"/>
                  </a:cubicBezTo>
                  <a:cubicBezTo>
                    <a:pt x="1073" y="2701"/>
                    <a:pt x="1036" y="2737"/>
                    <a:pt x="996" y="2784"/>
                  </a:cubicBezTo>
                  <a:cubicBezTo>
                    <a:pt x="966" y="2813"/>
                    <a:pt x="939" y="2866"/>
                    <a:pt x="966" y="2895"/>
                  </a:cubicBezTo>
                  <a:cubicBezTo>
                    <a:pt x="925" y="2934"/>
                    <a:pt x="905" y="2988"/>
                    <a:pt x="895" y="3045"/>
                  </a:cubicBezTo>
                  <a:cubicBezTo>
                    <a:pt x="888" y="3121"/>
                    <a:pt x="919" y="3196"/>
                    <a:pt x="952" y="3264"/>
                  </a:cubicBezTo>
                  <a:cubicBezTo>
                    <a:pt x="925" y="3271"/>
                    <a:pt x="905" y="3285"/>
                    <a:pt x="875" y="3296"/>
                  </a:cubicBezTo>
                  <a:cubicBezTo>
                    <a:pt x="740" y="3393"/>
                    <a:pt x="572" y="3436"/>
                    <a:pt x="411" y="3414"/>
                  </a:cubicBezTo>
                  <a:cubicBezTo>
                    <a:pt x="404" y="3454"/>
                    <a:pt x="404" y="3490"/>
                    <a:pt x="397" y="3522"/>
                  </a:cubicBezTo>
                  <a:cubicBezTo>
                    <a:pt x="360" y="3522"/>
                    <a:pt x="333" y="3550"/>
                    <a:pt x="326" y="3586"/>
                  </a:cubicBezTo>
                  <a:cubicBezTo>
                    <a:pt x="289" y="3694"/>
                    <a:pt x="333" y="3819"/>
                    <a:pt x="417" y="3873"/>
                  </a:cubicBezTo>
                  <a:cubicBezTo>
                    <a:pt x="464" y="3905"/>
                    <a:pt x="552" y="3948"/>
                    <a:pt x="528" y="4009"/>
                  </a:cubicBezTo>
                  <a:lnTo>
                    <a:pt x="720" y="4120"/>
                  </a:lnTo>
                  <a:cubicBezTo>
                    <a:pt x="754" y="4145"/>
                    <a:pt x="791" y="4181"/>
                    <a:pt x="771" y="4213"/>
                  </a:cubicBezTo>
                  <a:cubicBezTo>
                    <a:pt x="798" y="4235"/>
                    <a:pt x="835" y="4242"/>
                    <a:pt x="868" y="4235"/>
                  </a:cubicBezTo>
                  <a:cubicBezTo>
                    <a:pt x="835" y="4256"/>
                    <a:pt x="824" y="4317"/>
                    <a:pt x="861" y="4346"/>
                  </a:cubicBezTo>
                  <a:cubicBezTo>
                    <a:pt x="912" y="4414"/>
                    <a:pt x="989" y="4460"/>
                    <a:pt x="1067" y="4460"/>
                  </a:cubicBezTo>
                  <a:cubicBezTo>
                    <a:pt x="1094" y="4460"/>
                    <a:pt x="1131" y="4460"/>
                    <a:pt x="1158" y="4475"/>
                  </a:cubicBezTo>
                  <a:cubicBezTo>
                    <a:pt x="1184" y="4489"/>
                    <a:pt x="1201" y="4536"/>
                    <a:pt x="1171" y="4557"/>
                  </a:cubicBezTo>
                  <a:cubicBezTo>
                    <a:pt x="1242" y="4578"/>
                    <a:pt x="1285" y="4686"/>
                    <a:pt x="1248" y="4754"/>
                  </a:cubicBezTo>
                  <a:cubicBezTo>
                    <a:pt x="1279" y="4768"/>
                    <a:pt x="1306" y="4783"/>
                    <a:pt x="1343" y="4797"/>
                  </a:cubicBezTo>
                  <a:cubicBezTo>
                    <a:pt x="1299" y="4790"/>
                    <a:pt x="1255" y="4786"/>
                    <a:pt x="1228" y="4818"/>
                  </a:cubicBezTo>
                  <a:cubicBezTo>
                    <a:pt x="1201" y="4847"/>
                    <a:pt x="1208" y="4912"/>
                    <a:pt x="1242" y="4919"/>
                  </a:cubicBezTo>
                  <a:cubicBezTo>
                    <a:pt x="1248" y="4940"/>
                    <a:pt x="1215" y="4955"/>
                    <a:pt x="1195" y="4962"/>
                  </a:cubicBezTo>
                  <a:cubicBezTo>
                    <a:pt x="1023" y="4980"/>
                    <a:pt x="848" y="4851"/>
                    <a:pt x="798" y="4668"/>
                  </a:cubicBezTo>
                  <a:cubicBezTo>
                    <a:pt x="670" y="4707"/>
                    <a:pt x="545" y="4736"/>
                    <a:pt x="411" y="4743"/>
                  </a:cubicBezTo>
                  <a:cubicBezTo>
                    <a:pt x="404" y="4797"/>
                    <a:pt x="367" y="4844"/>
                    <a:pt x="316" y="4858"/>
                  </a:cubicBezTo>
                  <a:cubicBezTo>
                    <a:pt x="296" y="4865"/>
                    <a:pt x="276" y="4865"/>
                    <a:pt x="262" y="4872"/>
                  </a:cubicBezTo>
                  <a:cubicBezTo>
                    <a:pt x="232" y="4879"/>
                    <a:pt x="205" y="4912"/>
                    <a:pt x="185" y="4933"/>
                  </a:cubicBezTo>
                  <a:cubicBezTo>
                    <a:pt x="168" y="4947"/>
                    <a:pt x="148" y="4962"/>
                    <a:pt x="135" y="4980"/>
                  </a:cubicBezTo>
                  <a:cubicBezTo>
                    <a:pt x="77" y="5030"/>
                    <a:pt x="20" y="5084"/>
                    <a:pt x="0" y="5166"/>
                  </a:cubicBezTo>
                  <a:cubicBezTo>
                    <a:pt x="91" y="5220"/>
                    <a:pt x="192" y="5248"/>
                    <a:pt x="296" y="5248"/>
                  </a:cubicBezTo>
                  <a:cubicBezTo>
                    <a:pt x="340" y="5241"/>
                    <a:pt x="380" y="5277"/>
                    <a:pt x="380" y="5324"/>
                  </a:cubicBezTo>
                  <a:cubicBezTo>
                    <a:pt x="367" y="5370"/>
                    <a:pt x="326" y="5406"/>
                    <a:pt x="276" y="5406"/>
                  </a:cubicBezTo>
                  <a:cubicBezTo>
                    <a:pt x="289" y="5467"/>
                    <a:pt x="289" y="5535"/>
                    <a:pt x="262" y="5596"/>
                  </a:cubicBezTo>
                  <a:cubicBezTo>
                    <a:pt x="289" y="5578"/>
                    <a:pt x="333" y="5585"/>
                    <a:pt x="353" y="5617"/>
                  </a:cubicBezTo>
                  <a:cubicBezTo>
                    <a:pt x="353" y="5646"/>
                    <a:pt x="333" y="5678"/>
                    <a:pt x="310" y="5685"/>
                  </a:cubicBezTo>
                  <a:cubicBezTo>
                    <a:pt x="360" y="5721"/>
                    <a:pt x="437" y="5721"/>
                    <a:pt x="488" y="5685"/>
                  </a:cubicBezTo>
                  <a:cubicBezTo>
                    <a:pt x="522" y="5707"/>
                    <a:pt x="552" y="5728"/>
                    <a:pt x="586" y="5761"/>
                  </a:cubicBezTo>
                  <a:cubicBezTo>
                    <a:pt x="606" y="5736"/>
                    <a:pt x="623" y="5714"/>
                    <a:pt x="629" y="5685"/>
                  </a:cubicBezTo>
                  <a:cubicBezTo>
                    <a:pt x="734" y="5685"/>
                    <a:pt x="835" y="5678"/>
                    <a:pt x="932" y="5653"/>
                  </a:cubicBezTo>
                  <a:cubicBezTo>
                    <a:pt x="959" y="5693"/>
                    <a:pt x="983" y="5736"/>
                    <a:pt x="1010" y="5775"/>
                  </a:cubicBezTo>
                  <a:cubicBezTo>
                    <a:pt x="1003" y="5700"/>
                    <a:pt x="1060" y="5632"/>
                    <a:pt x="1131" y="5603"/>
                  </a:cubicBezTo>
                  <a:cubicBezTo>
                    <a:pt x="1201" y="5571"/>
                    <a:pt x="1272" y="5578"/>
                    <a:pt x="1343" y="5585"/>
                  </a:cubicBezTo>
                  <a:cubicBezTo>
                    <a:pt x="1312" y="5639"/>
                    <a:pt x="1292" y="5685"/>
                    <a:pt x="1265" y="5736"/>
                  </a:cubicBezTo>
                  <a:cubicBezTo>
                    <a:pt x="1299" y="5782"/>
                    <a:pt x="1336" y="5818"/>
                    <a:pt x="1370" y="5864"/>
                  </a:cubicBezTo>
                  <a:cubicBezTo>
                    <a:pt x="1306" y="5886"/>
                    <a:pt x="1413" y="5993"/>
                    <a:pt x="1383" y="6051"/>
                  </a:cubicBezTo>
                  <a:cubicBezTo>
                    <a:pt x="1363" y="6097"/>
                    <a:pt x="1265" y="6112"/>
                    <a:pt x="1299" y="6158"/>
                  </a:cubicBezTo>
                  <a:cubicBezTo>
                    <a:pt x="1235" y="6151"/>
                    <a:pt x="1164" y="6137"/>
                    <a:pt x="1100" y="6126"/>
                  </a:cubicBezTo>
                  <a:cubicBezTo>
                    <a:pt x="1087" y="6165"/>
                    <a:pt x="1087" y="6212"/>
                    <a:pt x="1100" y="6248"/>
                  </a:cubicBezTo>
                  <a:cubicBezTo>
                    <a:pt x="1067" y="6248"/>
                    <a:pt x="1030" y="6255"/>
                    <a:pt x="996" y="6255"/>
                  </a:cubicBezTo>
                  <a:cubicBezTo>
                    <a:pt x="983" y="6294"/>
                    <a:pt x="966" y="6337"/>
                    <a:pt x="952" y="6377"/>
                  </a:cubicBezTo>
                  <a:cubicBezTo>
                    <a:pt x="888" y="6330"/>
                    <a:pt x="818" y="6287"/>
                    <a:pt x="740" y="6294"/>
                  </a:cubicBezTo>
                  <a:cubicBezTo>
                    <a:pt x="663" y="6301"/>
                    <a:pt x="592" y="6398"/>
                    <a:pt x="636" y="6466"/>
                  </a:cubicBezTo>
                  <a:lnTo>
                    <a:pt x="437" y="6466"/>
                  </a:lnTo>
                  <a:cubicBezTo>
                    <a:pt x="451" y="6534"/>
                    <a:pt x="508" y="6584"/>
                    <a:pt x="572" y="6595"/>
                  </a:cubicBezTo>
                  <a:cubicBezTo>
                    <a:pt x="444" y="6660"/>
                    <a:pt x="374" y="6828"/>
                    <a:pt x="411" y="6978"/>
                  </a:cubicBezTo>
                  <a:cubicBezTo>
                    <a:pt x="417" y="7007"/>
                    <a:pt x="411" y="7029"/>
                    <a:pt x="417" y="7061"/>
                  </a:cubicBezTo>
                  <a:cubicBezTo>
                    <a:pt x="451" y="7021"/>
                    <a:pt x="501" y="7090"/>
                    <a:pt x="501" y="7143"/>
                  </a:cubicBezTo>
                  <a:cubicBezTo>
                    <a:pt x="501" y="7193"/>
                    <a:pt x="501" y="7261"/>
                    <a:pt x="552" y="7269"/>
                  </a:cubicBezTo>
                  <a:cubicBezTo>
                    <a:pt x="522" y="7308"/>
                    <a:pt x="501" y="7344"/>
                    <a:pt x="501" y="7390"/>
                  </a:cubicBezTo>
                  <a:cubicBezTo>
                    <a:pt x="501" y="7433"/>
                    <a:pt x="535" y="7487"/>
                    <a:pt x="579" y="7480"/>
                  </a:cubicBezTo>
                  <a:cubicBezTo>
                    <a:pt x="579" y="7519"/>
                    <a:pt x="565" y="7548"/>
                    <a:pt x="535" y="7570"/>
                  </a:cubicBezTo>
                  <a:cubicBezTo>
                    <a:pt x="579" y="7584"/>
                    <a:pt x="629" y="7584"/>
                    <a:pt x="670" y="7577"/>
                  </a:cubicBezTo>
                  <a:cubicBezTo>
                    <a:pt x="643" y="7638"/>
                    <a:pt x="686" y="7720"/>
                    <a:pt x="747" y="7720"/>
                  </a:cubicBezTo>
                  <a:cubicBezTo>
                    <a:pt x="754" y="7752"/>
                    <a:pt x="754" y="7781"/>
                    <a:pt x="764" y="7810"/>
                  </a:cubicBezTo>
                  <a:cubicBezTo>
                    <a:pt x="798" y="7835"/>
                    <a:pt x="841" y="7856"/>
                    <a:pt x="875" y="7849"/>
                  </a:cubicBezTo>
                  <a:cubicBezTo>
                    <a:pt x="919" y="7842"/>
                    <a:pt x="946" y="7788"/>
                    <a:pt x="925" y="7752"/>
                  </a:cubicBezTo>
                  <a:cubicBezTo>
                    <a:pt x="1003" y="7734"/>
                    <a:pt x="1080" y="7713"/>
                    <a:pt x="1158" y="7698"/>
                  </a:cubicBezTo>
                  <a:cubicBezTo>
                    <a:pt x="1201" y="7720"/>
                    <a:pt x="1191" y="7788"/>
                    <a:pt x="1178" y="7842"/>
                  </a:cubicBezTo>
                  <a:cubicBezTo>
                    <a:pt x="1161" y="7892"/>
                    <a:pt x="1178" y="7967"/>
                    <a:pt x="1228" y="7960"/>
                  </a:cubicBezTo>
                  <a:cubicBezTo>
                    <a:pt x="1208" y="7999"/>
                    <a:pt x="1201" y="8060"/>
                    <a:pt x="1221" y="8096"/>
                  </a:cubicBezTo>
                  <a:cubicBezTo>
                    <a:pt x="1235" y="8178"/>
                    <a:pt x="1137" y="8254"/>
                    <a:pt x="1067" y="8218"/>
                  </a:cubicBezTo>
                  <a:lnTo>
                    <a:pt x="1067" y="8315"/>
                  </a:lnTo>
                  <a:cubicBezTo>
                    <a:pt x="1124" y="8315"/>
                    <a:pt x="1178" y="8329"/>
                    <a:pt x="1228" y="8300"/>
                  </a:cubicBezTo>
                  <a:cubicBezTo>
                    <a:pt x="1248" y="8286"/>
                    <a:pt x="1272" y="8261"/>
                    <a:pt x="1285" y="8247"/>
                  </a:cubicBezTo>
                  <a:cubicBezTo>
                    <a:pt x="1326" y="8193"/>
                    <a:pt x="1370" y="8143"/>
                    <a:pt x="1420" y="8089"/>
                  </a:cubicBezTo>
                  <a:cubicBezTo>
                    <a:pt x="1427" y="8075"/>
                    <a:pt x="1440" y="8067"/>
                    <a:pt x="1454" y="8060"/>
                  </a:cubicBezTo>
                  <a:cubicBezTo>
                    <a:pt x="1497" y="8053"/>
                    <a:pt x="1511" y="8125"/>
                    <a:pt x="1497" y="8171"/>
                  </a:cubicBezTo>
                  <a:lnTo>
                    <a:pt x="1709" y="8171"/>
                  </a:lnTo>
                  <a:cubicBezTo>
                    <a:pt x="1679" y="8225"/>
                    <a:pt x="1709" y="8307"/>
                    <a:pt x="1763" y="8322"/>
                  </a:cubicBezTo>
                  <a:cubicBezTo>
                    <a:pt x="1787" y="8275"/>
                    <a:pt x="1794" y="8232"/>
                    <a:pt x="1794" y="8186"/>
                  </a:cubicBezTo>
                  <a:cubicBezTo>
                    <a:pt x="1851" y="8186"/>
                    <a:pt x="1898" y="8186"/>
                    <a:pt x="1955" y="8178"/>
                  </a:cubicBezTo>
                  <a:cubicBezTo>
                    <a:pt x="2012" y="8178"/>
                    <a:pt x="2090" y="8200"/>
                    <a:pt x="2076" y="8261"/>
                  </a:cubicBezTo>
                  <a:cubicBezTo>
                    <a:pt x="2069" y="8275"/>
                    <a:pt x="2063" y="8293"/>
                    <a:pt x="2046" y="8307"/>
                  </a:cubicBezTo>
                  <a:cubicBezTo>
                    <a:pt x="1985" y="8383"/>
                    <a:pt x="1975" y="8494"/>
                    <a:pt x="2019" y="8583"/>
                  </a:cubicBezTo>
                  <a:cubicBezTo>
                    <a:pt x="1921" y="8712"/>
                    <a:pt x="1827" y="8841"/>
                    <a:pt x="1730" y="8959"/>
                  </a:cubicBezTo>
                  <a:cubicBezTo>
                    <a:pt x="1632" y="8984"/>
                    <a:pt x="1545" y="9067"/>
                    <a:pt x="1504" y="9164"/>
                  </a:cubicBezTo>
                  <a:cubicBezTo>
                    <a:pt x="1433" y="9171"/>
                    <a:pt x="1370" y="9210"/>
                    <a:pt x="1312" y="9253"/>
                  </a:cubicBezTo>
                  <a:cubicBezTo>
                    <a:pt x="1221" y="9314"/>
                    <a:pt x="1131" y="9382"/>
                    <a:pt x="1047" y="9450"/>
                  </a:cubicBezTo>
                  <a:cubicBezTo>
                    <a:pt x="959" y="9518"/>
                    <a:pt x="875" y="9576"/>
                    <a:pt x="784" y="9644"/>
                  </a:cubicBezTo>
                  <a:cubicBezTo>
                    <a:pt x="777" y="9697"/>
                    <a:pt x="784" y="9780"/>
                    <a:pt x="841" y="9780"/>
                  </a:cubicBezTo>
                  <a:cubicBezTo>
                    <a:pt x="861" y="9780"/>
                    <a:pt x="875" y="9765"/>
                    <a:pt x="888" y="9751"/>
                  </a:cubicBezTo>
                  <a:cubicBezTo>
                    <a:pt x="946" y="9697"/>
                    <a:pt x="1003" y="9636"/>
                    <a:pt x="1047" y="9576"/>
                  </a:cubicBezTo>
                  <a:cubicBezTo>
                    <a:pt x="1060" y="9561"/>
                    <a:pt x="1067" y="9540"/>
                    <a:pt x="1087" y="9533"/>
                  </a:cubicBezTo>
                  <a:cubicBezTo>
                    <a:pt x="1107" y="9525"/>
                    <a:pt x="1131" y="9518"/>
                    <a:pt x="1144" y="9518"/>
                  </a:cubicBezTo>
                  <a:cubicBezTo>
                    <a:pt x="1265" y="9507"/>
                    <a:pt x="1383" y="9457"/>
                    <a:pt x="1484" y="9382"/>
                  </a:cubicBezTo>
                  <a:cubicBezTo>
                    <a:pt x="1497" y="9368"/>
                    <a:pt x="1511" y="9361"/>
                    <a:pt x="1531" y="9350"/>
                  </a:cubicBezTo>
                  <a:cubicBezTo>
                    <a:pt x="1545" y="9350"/>
                    <a:pt x="1561" y="9361"/>
                    <a:pt x="1575" y="9361"/>
                  </a:cubicBezTo>
                  <a:cubicBezTo>
                    <a:pt x="1659" y="9375"/>
                    <a:pt x="1730" y="9300"/>
                    <a:pt x="1787" y="9224"/>
                  </a:cubicBezTo>
                  <a:cubicBezTo>
                    <a:pt x="1844" y="9149"/>
                    <a:pt x="1898" y="9081"/>
                    <a:pt x="1955" y="9006"/>
                  </a:cubicBezTo>
                  <a:cubicBezTo>
                    <a:pt x="1999" y="9013"/>
                    <a:pt x="2039" y="8984"/>
                    <a:pt x="2053" y="8938"/>
                  </a:cubicBezTo>
                  <a:cubicBezTo>
                    <a:pt x="2063" y="8924"/>
                    <a:pt x="2063" y="8909"/>
                    <a:pt x="2069" y="8891"/>
                  </a:cubicBezTo>
                  <a:cubicBezTo>
                    <a:pt x="2083" y="8870"/>
                    <a:pt x="2110" y="8870"/>
                    <a:pt x="2133" y="8863"/>
                  </a:cubicBezTo>
                  <a:cubicBezTo>
                    <a:pt x="2211" y="8841"/>
                    <a:pt x="2265" y="8752"/>
                    <a:pt x="2251" y="8658"/>
                  </a:cubicBezTo>
                  <a:cubicBezTo>
                    <a:pt x="2345" y="8644"/>
                    <a:pt x="2413" y="8555"/>
                    <a:pt x="2413" y="8458"/>
                  </a:cubicBezTo>
                  <a:cubicBezTo>
                    <a:pt x="2456" y="8487"/>
                    <a:pt x="2507" y="8444"/>
                    <a:pt x="2541" y="8404"/>
                  </a:cubicBezTo>
                  <a:cubicBezTo>
                    <a:pt x="2584" y="8361"/>
                    <a:pt x="2625" y="8322"/>
                    <a:pt x="2668" y="8275"/>
                  </a:cubicBezTo>
                  <a:cubicBezTo>
                    <a:pt x="2726" y="8218"/>
                    <a:pt x="2790" y="8150"/>
                    <a:pt x="2823" y="8075"/>
                  </a:cubicBezTo>
                  <a:cubicBezTo>
                    <a:pt x="2726" y="8067"/>
                    <a:pt x="2635" y="8028"/>
                    <a:pt x="2554" y="7960"/>
                  </a:cubicBezTo>
                  <a:cubicBezTo>
                    <a:pt x="2591" y="7985"/>
                    <a:pt x="2635" y="7953"/>
                    <a:pt x="2655" y="7917"/>
                  </a:cubicBezTo>
                  <a:cubicBezTo>
                    <a:pt x="2675" y="7878"/>
                    <a:pt x="2695" y="7842"/>
                    <a:pt x="2732" y="7827"/>
                  </a:cubicBezTo>
                  <a:cubicBezTo>
                    <a:pt x="2753" y="7817"/>
                    <a:pt x="2773" y="7827"/>
                    <a:pt x="2790" y="7827"/>
                  </a:cubicBezTo>
                  <a:cubicBezTo>
                    <a:pt x="2867" y="7827"/>
                    <a:pt x="2924" y="7713"/>
                    <a:pt x="2880" y="7638"/>
                  </a:cubicBezTo>
                  <a:cubicBezTo>
                    <a:pt x="2924" y="7659"/>
                    <a:pt x="2971" y="7623"/>
                    <a:pt x="2991" y="7577"/>
                  </a:cubicBezTo>
                  <a:cubicBezTo>
                    <a:pt x="3015" y="7534"/>
                    <a:pt x="3015" y="7480"/>
                    <a:pt x="3029" y="7426"/>
                  </a:cubicBezTo>
                  <a:cubicBezTo>
                    <a:pt x="3042" y="7398"/>
                    <a:pt x="3055" y="7369"/>
                    <a:pt x="3079" y="7344"/>
                  </a:cubicBezTo>
                  <a:cubicBezTo>
                    <a:pt x="3170" y="7233"/>
                    <a:pt x="3311" y="7158"/>
                    <a:pt x="3453" y="7143"/>
                  </a:cubicBezTo>
                  <a:cubicBezTo>
                    <a:pt x="3473" y="7150"/>
                    <a:pt x="3503" y="7150"/>
                    <a:pt x="3523" y="7150"/>
                  </a:cubicBezTo>
                  <a:cubicBezTo>
                    <a:pt x="3516" y="7186"/>
                    <a:pt x="3516" y="7233"/>
                    <a:pt x="3530" y="7269"/>
                  </a:cubicBezTo>
                  <a:cubicBezTo>
                    <a:pt x="3493" y="7294"/>
                    <a:pt x="3446" y="7294"/>
                    <a:pt x="3402" y="7294"/>
                  </a:cubicBezTo>
                  <a:cubicBezTo>
                    <a:pt x="3362" y="7294"/>
                    <a:pt x="3311" y="7294"/>
                    <a:pt x="3274" y="7315"/>
                  </a:cubicBezTo>
                  <a:cubicBezTo>
                    <a:pt x="3241" y="7344"/>
                    <a:pt x="3234" y="7412"/>
                    <a:pt x="3274" y="7426"/>
                  </a:cubicBezTo>
                  <a:cubicBezTo>
                    <a:pt x="3227" y="7444"/>
                    <a:pt x="3197" y="7501"/>
                    <a:pt x="3183" y="7562"/>
                  </a:cubicBezTo>
                  <a:cubicBezTo>
                    <a:pt x="3156" y="7652"/>
                    <a:pt x="3133" y="7741"/>
                    <a:pt x="3113" y="7842"/>
                  </a:cubicBezTo>
                  <a:cubicBezTo>
                    <a:pt x="3106" y="7870"/>
                    <a:pt x="3099" y="7903"/>
                    <a:pt x="3106" y="7924"/>
                  </a:cubicBezTo>
                  <a:cubicBezTo>
                    <a:pt x="3119" y="7978"/>
                    <a:pt x="3183" y="8007"/>
                    <a:pt x="3227" y="7978"/>
                  </a:cubicBezTo>
                  <a:cubicBezTo>
                    <a:pt x="3261" y="7953"/>
                    <a:pt x="3274" y="7910"/>
                    <a:pt x="3304" y="7885"/>
                  </a:cubicBezTo>
                  <a:cubicBezTo>
                    <a:pt x="3375" y="7817"/>
                    <a:pt x="3503" y="7849"/>
                    <a:pt x="3564" y="7774"/>
                  </a:cubicBezTo>
                  <a:cubicBezTo>
                    <a:pt x="3587" y="7741"/>
                    <a:pt x="3601" y="7706"/>
                    <a:pt x="3634" y="7691"/>
                  </a:cubicBezTo>
                  <a:cubicBezTo>
                    <a:pt x="3651" y="7684"/>
                    <a:pt x="3671" y="7684"/>
                    <a:pt x="3691" y="7691"/>
                  </a:cubicBezTo>
                  <a:cubicBezTo>
                    <a:pt x="3728" y="7698"/>
                    <a:pt x="3769" y="7706"/>
                    <a:pt x="3806" y="7706"/>
                  </a:cubicBezTo>
                  <a:cubicBezTo>
                    <a:pt x="3833" y="7713"/>
                    <a:pt x="3870" y="7713"/>
                    <a:pt x="3897" y="7706"/>
                  </a:cubicBezTo>
                  <a:cubicBezTo>
                    <a:pt x="3924" y="7698"/>
                    <a:pt x="3954" y="7659"/>
                    <a:pt x="3947" y="7630"/>
                  </a:cubicBezTo>
                  <a:cubicBezTo>
                    <a:pt x="3890" y="7577"/>
                    <a:pt x="3870" y="7494"/>
                    <a:pt x="3890" y="7419"/>
                  </a:cubicBezTo>
                  <a:cubicBezTo>
                    <a:pt x="3910" y="7344"/>
                    <a:pt x="3974" y="7294"/>
                    <a:pt x="4045" y="7276"/>
                  </a:cubicBezTo>
                  <a:cubicBezTo>
                    <a:pt x="4088" y="7269"/>
                    <a:pt x="4136" y="7287"/>
                    <a:pt x="4152" y="7330"/>
                  </a:cubicBezTo>
                  <a:cubicBezTo>
                    <a:pt x="4159" y="7351"/>
                    <a:pt x="4159" y="7383"/>
                    <a:pt x="4173" y="7405"/>
                  </a:cubicBezTo>
                  <a:cubicBezTo>
                    <a:pt x="4186" y="7433"/>
                    <a:pt x="4223" y="7444"/>
                    <a:pt x="4243" y="7451"/>
                  </a:cubicBezTo>
                  <a:cubicBezTo>
                    <a:pt x="4270" y="7466"/>
                    <a:pt x="4290" y="7501"/>
                    <a:pt x="4270" y="7527"/>
                  </a:cubicBezTo>
                  <a:cubicBezTo>
                    <a:pt x="4327" y="7541"/>
                    <a:pt x="4378" y="7548"/>
                    <a:pt x="4432" y="7562"/>
                  </a:cubicBezTo>
                  <a:cubicBezTo>
                    <a:pt x="4405" y="7570"/>
                    <a:pt x="4378" y="7577"/>
                    <a:pt x="4354" y="7595"/>
                  </a:cubicBezTo>
                  <a:cubicBezTo>
                    <a:pt x="4432" y="7595"/>
                    <a:pt x="4496" y="7623"/>
                    <a:pt x="4573" y="7623"/>
                  </a:cubicBezTo>
                  <a:cubicBezTo>
                    <a:pt x="4610" y="7623"/>
                    <a:pt x="4661" y="7623"/>
                    <a:pt x="4674" y="7584"/>
                  </a:cubicBezTo>
                  <a:cubicBezTo>
                    <a:pt x="4745" y="7584"/>
                    <a:pt x="4815" y="7616"/>
                    <a:pt x="4862" y="7670"/>
                  </a:cubicBezTo>
                  <a:cubicBezTo>
                    <a:pt x="4873" y="7630"/>
                    <a:pt x="4926" y="7623"/>
                    <a:pt x="4963" y="7638"/>
                  </a:cubicBezTo>
                  <a:cubicBezTo>
                    <a:pt x="4997" y="7652"/>
                    <a:pt x="5041" y="7677"/>
                    <a:pt x="5074" y="7652"/>
                  </a:cubicBezTo>
                  <a:cubicBezTo>
                    <a:pt x="5125" y="7691"/>
                    <a:pt x="5175" y="7727"/>
                    <a:pt x="5233" y="7767"/>
                  </a:cubicBezTo>
                  <a:cubicBezTo>
                    <a:pt x="5260" y="7788"/>
                    <a:pt x="5293" y="7810"/>
                    <a:pt x="5330" y="7817"/>
                  </a:cubicBezTo>
                  <a:cubicBezTo>
                    <a:pt x="5364" y="7827"/>
                    <a:pt x="5408" y="7802"/>
                    <a:pt x="5414" y="7767"/>
                  </a:cubicBezTo>
                  <a:cubicBezTo>
                    <a:pt x="5414" y="7788"/>
                    <a:pt x="5421" y="7802"/>
                    <a:pt x="5421" y="7827"/>
                  </a:cubicBezTo>
                  <a:cubicBezTo>
                    <a:pt x="5441" y="7817"/>
                    <a:pt x="5465" y="7802"/>
                    <a:pt x="5485" y="7795"/>
                  </a:cubicBezTo>
                  <a:cubicBezTo>
                    <a:pt x="5556" y="7863"/>
                    <a:pt x="5613" y="7938"/>
                    <a:pt x="5653" y="8028"/>
                  </a:cubicBezTo>
                  <a:cubicBezTo>
                    <a:pt x="5660" y="8042"/>
                    <a:pt x="5670" y="8067"/>
                    <a:pt x="5690" y="8082"/>
                  </a:cubicBezTo>
                  <a:cubicBezTo>
                    <a:pt x="5710" y="8096"/>
                    <a:pt x="5741" y="8096"/>
                    <a:pt x="5768" y="8096"/>
                  </a:cubicBezTo>
                  <a:cubicBezTo>
                    <a:pt x="5872" y="8103"/>
                    <a:pt x="5949" y="8232"/>
                    <a:pt x="5922" y="8336"/>
                  </a:cubicBezTo>
                  <a:cubicBezTo>
                    <a:pt x="5949" y="8350"/>
                    <a:pt x="5980" y="8361"/>
                    <a:pt x="6007" y="8343"/>
                  </a:cubicBezTo>
                  <a:lnTo>
                    <a:pt x="6007" y="8411"/>
                  </a:lnTo>
                  <a:cubicBezTo>
                    <a:pt x="6064" y="8451"/>
                    <a:pt x="6077" y="8533"/>
                    <a:pt x="6050" y="8594"/>
                  </a:cubicBezTo>
                  <a:cubicBezTo>
                    <a:pt x="6101" y="8576"/>
                    <a:pt x="6134" y="8637"/>
                    <a:pt x="6148" y="8684"/>
                  </a:cubicBezTo>
                  <a:cubicBezTo>
                    <a:pt x="6185" y="8773"/>
                    <a:pt x="6225" y="8863"/>
                    <a:pt x="6262" y="8952"/>
                  </a:cubicBezTo>
                  <a:cubicBezTo>
                    <a:pt x="6276" y="8977"/>
                    <a:pt x="6282" y="9006"/>
                    <a:pt x="6303" y="9020"/>
                  </a:cubicBezTo>
                  <a:cubicBezTo>
                    <a:pt x="6326" y="9042"/>
                    <a:pt x="6353" y="9053"/>
                    <a:pt x="6373" y="9074"/>
                  </a:cubicBezTo>
                  <a:cubicBezTo>
                    <a:pt x="6424" y="9117"/>
                    <a:pt x="6444" y="9185"/>
                    <a:pt x="6451" y="9260"/>
                  </a:cubicBezTo>
                  <a:cubicBezTo>
                    <a:pt x="6494" y="9260"/>
                    <a:pt x="6528" y="9293"/>
                    <a:pt x="6552" y="9328"/>
                  </a:cubicBezTo>
                  <a:cubicBezTo>
                    <a:pt x="6565" y="9314"/>
                    <a:pt x="6579" y="9307"/>
                    <a:pt x="6592" y="9293"/>
                  </a:cubicBezTo>
                  <a:cubicBezTo>
                    <a:pt x="6592" y="9389"/>
                    <a:pt x="6643" y="9486"/>
                    <a:pt x="6713" y="9547"/>
                  </a:cubicBezTo>
                  <a:cubicBezTo>
                    <a:pt x="6727" y="9533"/>
                    <a:pt x="6740" y="9525"/>
                    <a:pt x="6757" y="9507"/>
                  </a:cubicBezTo>
                  <a:cubicBezTo>
                    <a:pt x="6784" y="9576"/>
                    <a:pt x="6828" y="9644"/>
                    <a:pt x="6881" y="9690"/>
                  </a:cubicBezTo>
                  <a:cubicBezTo>
                    <a:pt x="6945" y="9658"/>
                    <a:pt x="6959" y="9554"/>
                    <a:pt x="6912" y="9507"/>
                  </a:cubicBezTo>
                  <a:cubicBezTo>
                    <a:pt x="6945" y="9533"/>
                    <a:pt x="6989" y="9533"/>
                    <a:pt x="7023" y="9518"/>
                  </a:cubicBezTo>
                  <a:cubicBezTo>
                    <a:pt x="7117" y="9601"/>
                    <a:pt x="7171" y="9726"/>
                    <a:pt x="7171" y="9862"/>
                  </a:cubicBezTo>
                  <a:cubicBezTo>
                    <a:pt x="7171" y="9930"/>
                    <a:pt x="7171" y="10013"/>
                    <a:pt x="7228" y="10034"/>
                  </a:cubicBezTo>
                  <a:cubicBezTo>
                    <a:pt x="7235" y="10041"/>
                    <a:pt x="7248" y="10041"/>
                    <a:pt x="7258" y="10041"/>
                  </a:cubicBezTo>
                  <a:cubicBezTo>
                    <a:pt x="7285" y="10059"/>
                    <a:pt x="7272" y="10102"/>
                    <a:pt x="7265" y="10134"/>
                  </a:cubicBezTo>
                  <a:cubicBezTo>
                    <a:pt x="7285" y="10163"/>
                    <a:pt x="7329" y="10170"/>
                    <a:pt x="7363" y="10184"/>
                  </a:cubicBezTo>
                  <a:cubicBezTo>
                    <a:pt x="7440" y="10231"/>
                    <a:pt x="7433" y="10367"/>
                    <a:pt x="7504" y="10424"/>
                  </a:cubicBezTo>
                  <a:cubicBezTo>
                    <a:pt x="7538" y="10457"/>
                    <a:pt x="7581" y="10464"/>
                    <a:pt x="7608" y="10493"/>
                  </a:cubicBezTo>
                  <a:cubicBezTo>
                    <a:pt x="7672" y="10568"/>
                    <a:pt x="7595" y="10718"/>
                    <a:pt x="7672" y="10786"/>
                  </a:cubicBezTo>
                  <a:cubicBezTo>
                    <a:pt x="7689" y="10801"/>
                    <a:pt x="7709" y="10808"/>
                    <a:pt x="7716" y="10826"/>
                  </a:cubicBezTo>
                  <a:cubicBezTo>
                    <a:pt x="7736" y="10861"/>
                    <a:pt x="7689" y="10908"/>
                    <a:pt x="7652" y="10922"/>
                  </a:cubicBezTo>
                  <a:cubicBezTo>
                    <a:pt x="7608" y="10937"/>
                    <a:pt x="7561" y="10944"/>
                    <a:pt x="7548" y="10990"/>
                  </a:cubicBezTo>
                  <a:cubicBezTo>
                    <a:pt x="7581" y="11019"/>
                    <a:pt x="7618" y="11041"/>
                    <a:pt x="7652" y="11073"/>
                  </a:cubicBezTo>
                  <a:cubicBezTo>
                    <a:pt x="7632" y="11058"/>
                    <a:pt x="7618" y="11051"/>
                    <a:pt x="7595" y="11033"/>
                  </a:cubicBezTo>
                  <a:cubicBezTo>
                    <a:pt x="7652" y="11094"/>
                    <a:pt x="7743" y="11177"/>
                    <a:pt x="7814" y="11216"/>
                  </a:cubicBezTo>
                  <a:cubicBezTo>
                    <a:pt x="7851" y="11238"/>
                    <a:pt x="7891" y="11259"/>
                    <a:pt x="7915" y="11298"/>
                  </a:cubicBezTo>
                  <a:cubicBezTo>
                    <a:pt x="7935" y="11334"/>
                    <a:pt x="7948" y="11388"/>
                    <a:pt x="7921" y="11424"/>
                  </a:cubicBezTo>
                  <a:cubicBezTo>
                    <a:pt x="7985" y="11402"/>
                    <a:pt x="8039" y="11449"/>
                    <a:pt x="8089" y="11492"/>
                  </a:cubicBezTo>
                  <a:cubicBezTo>
                    <a:pt x="8160" y="11560"/>
                    <a:pt x="8238" y="11628"/>
                    <a:pt x="8308" y="11696"/>
                  </a:cubicBezTo>
                  <a:cubicBezTo>
                    <a:pt x="8322" y="11703"/>
                    <a:pt x="8328" y="11714"/>
                    <a:pt x="8338" y="11732"/>
                  </a:cubicBezTo>
                  <a:cubicBezTo>
                    <a:pt x="8345" y="11746"/>
                    <a:pt x="8345" y="11771"/>
                    <a:pt x="8345" y="11793"/>
                  </a:cubicBezTo>
                  <a:lnTo>
                    <a:pt x="8345" y="11976"/>
                  </a:lnTo>
                  <a:cubicBezTo>
                    <a:pt x="8379" y="11983"/>
                    <a:pt x="8399" y="12026"/>
                    <a:pt x="8409" y="12065"/>
                  </a:cubicBezTo>
                  <a:cubicBezTo>
                    <a:pt x="8429" y="12155"/>
                    <a:pt x="8456" y="12244"/>
                    <a:pt x="8476" y="12334"/>
                  </a:cubicBezTo>
                  <a:cubicBezTo>
                    <a:pt x="8493" y="12395"/>
                    <a:pt x="8507" y="12470"/>
                    <a:pt x="8470" y="12524"/>
                  </a:cubicBezTo>
                  <a:lnTo>
                    <a:pt x="8450" y="12545"/>
                  </a:lnTo>
                  <a:cubicBezTo>
                    <a:pt x="8429" y="12592"/>
                    <a:pt x="8500" y="12635"/>
                    <a:pt x="8487" y="12681"/>
                  </a:cubicBezTo>
                  <a:cubicBezTo>
                    <a:pt x="8476" y="12710"/>
                    <a:pt x="8436" y="12717"/>
                    <a:pt x="8436" y="12749"/>
                  </a:cubicBezTo>
                  <a:cubicBezTo>
                    <a:pt x="8436" y="12778"/>
                    <a:pt x="8463" y="12792"/>
                    <a:pt x="8470" y="12824"/>
                  </a:cubicBezTo>
                  <a:cubicBezTo>
                    <a:pt x="8487" y="12853"/>
                    <a:pt x="8463" y="12889"/>
                    <a:pt x="8456" y="12921"/>
                  </a:cubicBezTo>
                  <a:cubicBezTo>
                    <a:pt x="8450" y="12950"/>
                    <a:pt x="8443" y="12996"/>
                    <a:pt x="8476" y="13011"/>
                  </a:cubicBezTo>
                  <a:cubicBezTo>
                    <a:pt x="8443" y="13050"/>
                    <a:pt x="8450" y="13107"/>
                    <a:pt x="8487" y="13147"/>
                  </a:cubicBezTo>
                  <a:cubicBezTo>
                    <a:pt x="8443" y="13147"/>
                    <a:pt x="8429" y="13197"/>
                    <a:pt x="8423" y="13240"/>
                  </a:cubicBezTo>
                  <a:cubicBezTo>
                    <a:pt x="8416" y="13287"/>
                    <a:pt x="8386" y="13337"/>
                    <a:pt x="8352" y="13322"/>
                  </a:cubicBezTo>
                  <a:cubicBezTo>
                    <a:pt x="8372" y="13398"/>
                    <a:pt x="8392" y="13480"/>
                    <a:pt x="8423" y="13555"/>
                  </a:cubicBezTo>
                  <a:cubicBezTo>
                    <a:pt x="8436" y="13602"/>
                    <a:pt x="8443" y="13663"/>
                    <a:pt x="8409" y="13684"/>
                  </a:cubicBezTo>
                  <a:cubicBezTo>
                    <a:pt x="8443" y="13698"/>
                    <a:pt x="8476" y="13720"/>
                    <a:pt x="8513" y="13745"/>
                  </a:cubicBezTo>
                  <a:cubicBezTo>
                    <a:pt x="8476" y="13835"/>
                    <a:pt x="8463" y="13931"/>
                    <a:pt x="8456" y="14028"/>
                  </a:cubicBezTo>
                  <a:cubicBezTo>
                    <a:pt x="8423" y="14028"/>
                    <a:pt x="8386" y="14060"/>
                    <a:pt x="8386" y="14096"/>
                  </a:cubicBezTo>
                  <a:cubicBezTo>
                    <a:pt x="8423" y="14136"/>
                    <a:pt x="8456" y="14171"/>
                    <a:pt x="8487" y="14211"/>
                  </a:cubicBezTo>
                  <a:cubicBezTo>
                    <a:pt x="8513" y="14239"/>
                    <a:pt x="8540" y="14272"/>
                    <a:pt x="8557" y="14307"/>
                  </a:cubicBezTo>
                  <a:cubicBezTo>
                    <a:pt x="8571" y="14347"/>
                    <a:pt x="8571" y="14390"/>
                    <a:pt x="8540" y="14418"/>
                  </a:cubicBezTo>
                  <a:cubicBezTo>
                    <a:pt x="8598" y="14504"/>
                    <a:pt x="8655" y="14594"/>
                    <a:pt x="8719" y="14676"/>
                  </a:cubicBezTo>
                  <a:cubicBezTo>
                    <a:pt x="8776" y="14669"/>
                    <a:pt x="8837" y="14684"/>
                    <a:pt x="8874" y="14727"/>
                  </a:cubicBezTo>
                  <a:cubicBezTo>
                    <a:pt x="8907" y="14773"/>
                    <a:pt x="8874" y="14863"/>
                    <a:pt x="8816" y="14856"/>
                  </a:cubicBezTo>
                  <a:cubicBezTo>
                    <a:pt x="8810" y="14945"/>
                    <a:pt x="8860" y="15045"/>
                    <a:pt x="8931" y="15088"/>
                  </a:cubicBezTo>
                  <a:cubicBezTo>
                    <a:pt x="8988" y="15121"/>
                    <a:pt x="9028" y="15171"/>
                    <a:pt x="9022" y="15239"/>
                  </a:cubicBezTo>
                  <a:cubicBezTo>
                    <a:pt x="9119" y="15246"/>
                    <a:pt x="9156" y="15375"/>
                    <a:pt x="9170" y="15472"/>
                  </a:cubicBezTo>
                  <a:cubicBezTo>
                    <a:pt x="9254" y="15518"/>
                    <a:pt x="9338" y="15561"/>
                    <a:pt x="9415" y="15608"/>
                  </a:cubicBezTo>
                  <a:cubicBezTo>
                    <a:pt x="9446" y="15622"/>
                    <a:pt x="9466" y="15636"/>
                    <a:pt x="9486" y="15651"/>
                  </a:cubicBezTo>
                  <a:cubicBezTo>
                    <a:pt x="9503" y="15669"/>
                    <a:pt x="9516" y="15683"/>
                    <a:pt x="9536" y="15697"/>
                  </a:cubicBezTo>
                  <a:cubicBezTo>
                    <a:pt x="9573" y="15737"/>
                    <a:pt x="9614" y="15765"/>
                    <a:pt x="9658" y="15780"/>
                  </a:cubicBezTo>
                  <a:cubicBezTo>
                    <a:pt x="9678" y="15737"/>
                    <a:pt x="9742" y="15765"/>
                    <a:pt x="9769" y="15812"/>
                  </a:cubicBezTo>
                  <a:cubicBezTo>
                    <a:pt x="9819" y="15894"/>
                    <a:pt x="9826" y="15998"/>
                    <a:pt x="9799" y="16088"/>
                  </a:cubicBezTo>
                  <a:cubicBezTo>
                    <a:pt x="9863" y="16127"/>
                    <a:pt x="9890" y="16217"/>
                    <a:pt x="9870" y="16292"/>
                  </a:cubicBezTo>
                  <a:cubicBezTo>
                    <a:pt x="9927" y="16299"/>
                    <a:pt x="9940" y="16374"/>
                    <a:pt x="9947" y="16428"/>
                  </a:cubicBezTo>
                  <a:cubicBezTo>
                    <a:pt x="9974" y="16607"/>
                    <a:pt x="10082" y="16772"/>
                    <a:pt x="10236" y="16861"/>
                  </a:cubicBezTo>
                  <a:cubicBezTo>
                    <a:pt x="10263" y="16876"/>
                    <a:pt x="10294" y="16894"/>
                    <a:pt x="10314" y="16915"/>
                  </a:cubicBezTo>
                  <a:cubicBezTo>
                    <a:pt x="10327" y="16930"/>
                    <a:pt x="10334" y="16944"/>
                    <a:pt x="10341" y="16969"/>
                  </a:cubicBezTo>
                  <a:cubicBezTo>
                    <a:pt x="10371" y="17033"/>
                    <a:pt x="10391" y="17101"/>
                    <a:pt x="10418" y="17170"/>
                  </a:cubicBezTo>
                  <a:cubicBezTo>
                    <a:pt x="10341" y="17195"/>
                    <a:pt x="10257" y="17195"/>
                    <a:pt x="10186" y="17155"/>
                  </a:cubicBezTo>
                  <a:cubicBezTo>
                    <a:pt x="10206" y="17284"/>
                    <a:pt x="10347" y="17367"/>
                    <a:pt x="10462" y="17320"/>
                  </a:cubicBezTo>
                  <a:cubicBezTo>
                    <a:pt x="10469" y="17341"/>
                    <a:pt x="10482" y="17367"/>
                    <a:pt x="10489" y="17388"/>
                  </a:cubicBezTo>
                  <a:cubicBezTo>
                    <a:pt x="10617" y="17395"/>
                    <a:pt x="10681" y="17546"/>
                    <a:pt x="10724" y="17682"/>
                  </a:cubicBezTo>
                  <a:cubicBezTo>
                    <a:pt x="10744" y="17757"/>
                    <a:pt x="10765" y="17825"/>
                    <a:pt x="10765" y="17900"/>
                  </a:cubicBezTo>
                  <a:cubicBezTo>
                    <a:pt x="10926" y="17900"/>
                    <a:pt x="11014" y="18087"/>
                    <a:pt x="11118" y="18216"/>
                  </a:cubicBezTo>
                  <a:cubicBezTo>
                    <a:pt x="11145" y="18244"/>
                    <a:pt x="11189" y="18276"/>
                    <a:pt x="11226" y="18251"/>
                  </a:cubicBezTo>
                  <a:cubicBezTo>
                    <a:pt x="11280" y="18201"/>
                    <a:pt x="11232" y="18094"/>
                    <a:pt x="11182" y="18033"/>
                  </a:cubicBezTo>
                  <a:cubicBezTo>
                    <a:pt x="11162" y="18004"/>
                    <a:pt x="11138" y="17976"/>
                    <a:pt x="11111" y="17943"/>
                  </a:cubicBezTo>
                  <a:cubicBezTo>
                    <a:pt x="11068" y="17943"/>
                    <a:pt x="11041" y="17893"/>
                    <a:pt x="11041" y="17847"/>
                  </a:cubicBezTo>
                  <a:cubicBezTo>
                    <a:pt x="11034" y="17800"/>
                    <a:pt x="11034" y="17750"/>
                    <a:pt x="10997" y="17718"/>
                  </a:cubicBezTo>
                  <a:cubicBezTo>
                    <a:pt x="10983" y="17710"/>
                    <a:pt x="10963" y="17703"/>
                    <a:pt x="10943" y="17696"/>
                  </a:cubicBezTo>
                  <a:cubicBezTo>
                    <a:pt x="10879" y="17667"/>
                    <a:pt x="10872" y="17567"/>
                    <a:pt x="10872" y="17492"/>
                  </a:cubicBezTo>
                  <a:lnTo>
                    <a:pt x="10744" y="17381"/>
                  </a:lnTo>
                  <a:cubicBezTo>
                    <a:pt x="10687" y="17334"/>
                    <a:pt x="10623" y="17252"/>
                    <a:pt x="10667" y="17195"/>
                  </a:cubicBezTo>
                  <a:cubicBezTo>
                    <a:pt x="10647" y="17177"/>
                    <a:pt x="10623" y="17155"/>
                    <a:pt x="10603" y="17141"/>
                  </a:cubicBezTo>
                  <a:cubicBezTo>
                    <a:pt x="10617" y="17119"/>
                    <a:pt x="10623" y="17087"/>
                    <a:pt x="10617" y="17058"/>
                  </a:cubicBezTo>
                  <a:cubicBezTo>
                    <a:pt x="10610" y="17044"/>
                    <a:pt x="10603" y="17019"/>
                    <a:pt x="10596" y="17005"/>
                  </a:cubicBezTo>
                  <a:cubicBezTo>
                    <a:pt x="10526" y="16887"/>
                    <a:pt x="10442" y="16750"/>
                    <a:pt x="10314" y="16736"/>
                  </a:cubicBezTo>
                  <a:lnTo>
                    <a:pt x="10314" y="16661"/>
                  </a:lnTo>
                  <a:cubicBezTo>
                    <a:pt x="10294" y="16675"/>
                    <a:pt x="10263" y="16643"/>
                    <a:pt x="10257" y="16614"/>
                  </a:cubicBezTo>
                  <a:cubicBezTo>
                    <a:pt x="10257" y="16586"/>
                    <a:pt x="10270" y="16553"/>
                    <a:pt x="10270" y="16525"/>
                  </a:cubicBezTo>
                  <a:cubicBezTo>
                    <a:pt x="10270" y="16471"/>
                    <a:pt x="10243" y="16435"/>
                    <a:pt x="10223" y="16381"/>
                  </a:cubicBezTo>
                  <a:cubicBezTo>
                    <a:pt x="10199" y="16328"/>
                    <a:pt x="10216" y="16270"/>
                    <a:pt x="10263" y="16260"/>
                  </a:cubicBezTo>
                  <a:cubicBezTo>
                    <a:pt x="10307" y="16260"/>
                    <a:pt x="10347" y="16285"/>
                    <a:pt x="10378" y="16313"/>
                  </a:cubicBezTo>
                  <a:cubicBezTo>
                    <a:pt x="10391" y="16270"/>
                    <a:pt x="10455" y="16260"/>
                    <a:pt x="10489" y="16299"/>
                  </a:cubicBezTo>
                  <a:cubicBezTo>
                    <a:pt x="10526" y="16328"/>
                    <a:pt x="10526" y="16389"/>
                    <a:pt x="10519" y="16435"/>
                  </a:cubicBezTo>
                  <a:cubicBezTo>
                    <a:pt x="10559" y="16428"/>
                    <a:pt x="10610" y="16442"/>
                    <a:pt x="10637" y="16478"/>
                  </a:cubicBezTo>
                  <a:cubicBezTo>
                    <a:pt x="10660" y="16518"/>
                    <a:pt x="10623" y="16586"/>
                    <a:pt x="10583" y="16568"/>
                  </a:cubicBezTo>
                  <a:cubicBezTo>
                    <a:pt x="10667" y="16668"/>
                    <a:pt x="10731" y="16786"/>
                    <a:pt x="10758" y="16915"/>
                  </a:cubicBezTo>
                  <a:cubicBezTo>
                    <a:pt x="10822" y="16951"/>
                    <a:pt x="10886" y="16990"/>
                    <a:pt x="10956" y="17026"/>
                  </a:cubicBezTo>
                  <a:cubicBezTo>
                    <a:pt x="10983" y="17044"/>
                    <a:pt x="11014" y="17058"/>
                    <a:pt x="11027" y="17087"/>
                  </a:cubicBezTo>
                  <a:cubicBezTo>
                    <a:pt x="11041" y="17119"/>
                    <a:pt x="11041" y="17148"/>
                    <a:pt x="11041" y="17177"/>
                  </a:cubicBezTo>
                  <a:cubicBezTo>
                    <a:pt x="11047" y="17209"/>
                    <a:pt x="11061" y="17238"/>
                    <a:pt x="11074" y="17259"/>
                  </a:cubicBezTo>
                  <a:cubicBezTo>
                    <a:pt x="11118" y="17306"/>
                    <a:pt x="11175" y="17327"/>
                    <a:pt x="11232" y="17359"/>
                  </a:cubicBezTo>
                  <a:cubicBezTo>
                    <a:pt x="11280" y="17388"/>
                    <a:pt x="11330" y="17456"/>
                    <a:pt x="11310" y="17517"/>
                  </a:cubicBezTo>
                  <a:cubicBezTo>
                    <a:pt x="11273" y="17553"/>
                    <a:pt x="11239" y="17635"/>
                    <a:pt x="11296" y="17650"/>
                  </a:cubicBezTo>
                  <a:cubicBezTo>
                    <a:pt x="11317" y="17660"/>
                    <a:pt x="11337" y="17650"/>
                    <a:pt x="11350" y="17642"/>
                  </a:cubicBezTo>
                  <a:cubicBezTo>
                    <a:pt x="11421" y="17628"/>
                    <a:pt x="11485" y="17710"/>
                    <a:pt x="11465" y="17778"/>
                  </a:cubicBezTo>
                  <a:cubicBezTo>
                    <a:pt x="11498" y="17793"/>
                    <a:pt x="11542" y="17793"/>
                    <a:pt x="11576" y="17778"/>
                  </a:cubicBezTo>
                  <a:cubicBezTo>
                    <a:pt x="11592" y="17811"/>
                    <a:pt x="11599" y="17839"/>
                    <a:pt x="11592" y="17868"/>
                  </a:cubicBezTo>
                  <a:cubicBezTo>
                    <a:pt x="11656" y="17861"/>
                    <a:pt x="11717" y="17900"/>
                    <a:pt x="11754" y="17961"/>
                  </a:cubicBezTo>
                  <a:cubicBezTo>
                    <a:pt x="11788" y="18011"/>
                    <a:pt x="11811" y="18087"/>
                    <a:pt x="11825" y="18147"/>
                  </a:cubicBezTo>
                  <a:cubicBezTo>
                    <a:pt x="11895" y="18216"/>
                    <a:pt x="11966" y="18291"/>
                    <a:pt x="12043" y="18359"/>
                  </a:cubicBezTo>
                  <a:cubicBezTo>
                    <a:pt x="12070" y="18387"/>
                    <a:pt x="12101" y="18434"/>
                    <a:pt x="12070" y="18463"/>
                  </a:cubicBezTo>
                  <a:cubicBezTo>
                    <a:pt x="12043" y="18470"/>
                    <a:pt x="12023" y="18477"/>
                    <a:pt x="11993" y="18477"/>
                  </a:cubicBezTo>
                  <a:cubicBezTo>
                    <a:pt x="12057" y="18531"/>
                    <a:pt x="12084" y="18627"/>
                    <a:pt x="12064" y="18710"/>
                  </a:cubicBezTo>
                  <a:cubicBezTo>
                    <a:pt x="12006" y="18710"/>
                    <a:pt x="11953" y="18710"/>
                    <a:pt x="11895" y="18717"/>
                  </a:cubicBezTo>
                  <a:cubicBezTo>
                    <a:pt x="11953" y="18742"/>
                    <a:pt x="12013" y="18778"/>
                    <a:pt x="12013" y="18839"/>
                  </a:cubicBezTo>
                  <a:cubicBezTo>
                    <a:pt x="12077" y="18921"/>
                    <a:pt x="12148" y="19004"/>
                    <a:pt x="12212" y="19093"/>
                  </a:cubicBezTo>
                  <a:cubicBezTo>
                    <a:pt x="12212" y="19107"/>
                    <a:pt x="12205" y="19100"/>
                    <a:pt x="12205" y="19118"/>
                  </a:cubicBezTo>
                  <a:cubicBezTo>
                    <a:pt x="12282" y="19107"/>
                    <a:pt x="12360" y="19154"/>
                    <a:pt x="12424" y="19208"/>
                  </a:cubicBezTo>
                  <a:cubicBezTo>
                    <a:pt x="12481" y="19251"/>
                    <a:pt x="12531" y="19304"/>
                    <a:pt x="12565" y="19365"/>
                  </a:cubicBezTo>
                  <a:cubicBezTo>
                    <a:pt x="12595" y="19344"/>
                    <a:pt x="12615" y="19319"/>
                    <a:pt x="12642" y="19297"/>
                  </a:cubicBezTo>
                  <a:cubicBezTo>
                    <a:pt x="12706" y="19304"/>
                    <a:pt x="12770" y="19333"/>
                    <a:pt x="12821" y="19373"/>
                  </a:cubicBezTo>
                  <a:cubicBezTo>
                    <a:pt x="12891" y="19426"/>
                    <a:pt x="12938" y="19509"/>
                    <a:pt x="13023" y="19537"/>
                  </a:cubicBezTo>
                  <a:cubicBezTo>
                    <a:pt x="13073" y="19559"/>
                    <a:pt x="13137" y="19552"/>
                    <a:pt x="13187" y="19566"/>
                  </a:cubicBezTo>
                  <a:cubicBezTo>
                    <a:pt x="13245" y="19584"/>
                    <a:pt x="13299" y="19620"/>
                    <a:pt x="13299" y="19681"/>
                  </a:cubicBezTo>
                  <a:cubicBezTo>
                    <a:pt x="13329" y="19634"/>
                    <a:pt x="13413" y="19666"/>
                    <a:pt x="13406" y="19716"/>
                  </a:cubicBezTo>
                  <a:cubicBezTo>
                    <a:pt x="13554" y="19716"/>
                    <a:pt x="13702" y="19734"/>
                    <a:pt x="13844" y="19763"/>
                  </a:cubicBezTo>
                  <a:cubicBezTo>
                    <a:pt x="13864" y="19741"/>
                    <a:pt x="13871" y="19702"/>
                    <a:pt x="13871" y="19673"/>
                  </a:cubicBezTo>
                  <a:cubicBezTo>
                    <a:pt x="13914" y="19673"/>
                    <a:pt x="13961" y="19695"/>
                    <a:pt x="13998" y="19716"/>
                  </a:cubicBezTo>
                  <a:cubicBezTo>
                    <a:pt x="14062" y="19634"/>
                    <a:pt x="14204" y="19652"/>
                    <a:pt x="14261" y="19734"/>
                  </a:cubicBezTo>
                  <a:cubicBezTo>
                    <a:pt x="14237" y="19741"/>
                    <a:pt x="14217" y="19763"/>
                    <a:pt x="14217" y="19784"/>
                  </a:cubicBezTo>
                  <a:cubicBezTo>
                    <a:pt x="14261" y="19817"/>
                    <a:pt x="14315" y="19817"/>
                    <a:pt x="14358" y="19792"/>
                  </a:cubicBezTo>
                  <a:cubicBezTo>
                    <a:pt x="14352" y="19838"/>
                    <a:pt x="14358" y="19885"/>
                    <a:pt x="14379" y="19921"/>
                  </a:cubicBezTo>
                  <a:cubicBezTo>
                    <a:pt x="14416" y="19899"/>
                    <a:pt x="14456" y="19906"/>
                    <a:pt x="14493" y="19935"/>
                  </a:cubicBezTo>
                  <a:cubicBezTo>
                    <a:pt x="14520" y="19967"/>
                    <a:pt x="14533" y="20010"/>
                    <a:pt x="14520" y="20050"/>
                  </a:cubicBezTo>
                  <a:cubicBezTo>
                    <a:pt x="14570" y="20035"/>
                    <a:pt x="14634" y="20064"/>
                    <a:pt x="14655" y="20125"/>
                  </a:cubicBezTo>
                  <a:cubicBezTo>
                    <a:pt x="14668" y="20118"/>
                    <a:pt x="14692" y="20100"/>
                    <a:pt x="14705" y="20093"/>
                  </a:cubicBezTo>
                  <a:cubicBezTo>
                    <a:pt x="14719" y="20107"/>
                    <a:pt x="14725" y="20125"/>
                    <a:pt x="14732" y="20139"/>
                  </a:cubicBezTo>
                  <a:cubicBezTo>
                    <a:pt x="14752" y="20139"/>
                    <a:pt x="14769" y="20132"/>
                    <a:pt x="14789" y="20132"/>
                  </a:cubicBezTo>
                  <a:cubicBezTo>
                    <a:pt x="14789" y="20153"/>
                    <a:pt x="14796" y="20182"/>
                    <a:pt x="14809" y="20200"/>
                  </a:cubicBezTo>
                  <a:cubicBezTo>
                    <a:pt x="14840" y="20182"/>
                    <a:pt x="14860" y="20175"/>
                    <a:pt x="14887" y="20161"/>
                  </a:cubicBezTo>
                  <a:cubicBezTo>
                    <a:pt x="14931" y="20221"/>
                    <a:pt x="15001" y="20250"/>
                    <a:pt x="15065" y="20243"/>
                  </a:cubicBezTo>
                  <a:cubicBezTo>
                    <a:pt x="15143" y="20236"/>
                    <a:pt x="15233" y="20193"/>
                    <a:pt x="15277" y="20257"/>
                  </a:cubicBezTo>
                  <a:cubicBezTo>
                    <a:pt x="15291" y="20275"/>
                    <a:pt x="15291" y="20297"/>
                    <a:pt x="15297" y="20318"/>
                  </a:cubicBezTo>
                  <a:cubicBezTo>
                    <a:pt x="15324" y="20372"/>
                    <a:pt x="15388" y="20379"/>
                    <a:pt x="15445" y="20393"/>
                  </a:cubicBezTo>
                  <a:cubicBezTo>
                    <a:pt x="15503" y="20408"/>
                    <a:pt x="15560" y="20461"/>
                    <a:pt x="15536" y="20515"/>
                  </a:cubicBezTo>
                  <a:cubicBezTo>
                    <a:pt x="15593" y="20490"/>
                    <a:pt x="15671" y="20544"/>
                    <a:pt x="15664" y="20612"/>
                  </a:cubicBezTo>
                  <a:cubicBezTo>
                    <a:pt x="15664" y="20641"/>
                    <a:pt x="15684" y="20666"/>
                    <a:pt x="15721" y="20673"/>
                  </a:cubicBezTo>
                  <a:lnTo>
                    <a:pt x="15721" y="20723"/>
                  </a:lnTo>
                  <a:cubicBezTo>
                    <a:pt x="15805" y="20741"/>
                    <a:pt x="15849" y="20873"/>
                    <a:pt x="15785" y="20941"/>
                  </a:cubicBezTo>
                  <a:cubicBezTo>
                    <a:pt x="15812" y="20920"/>
                    <a:pt x="15849" y="20952"/>
                    <a:pt x="15863" y="20988"/>
                  </a:cubicBezTo>
                  <a:cubicBezTo>
                    <a:pt x="15876" y="21027"/>
                    <a:pt x="15883" y="21063"/>
                    <a:pt x="15910" y="21078"/>
                  </a:cubicBezTo>
                  <a:cubicBezTo>
                    <a:pt x="15947" y="21099"/>
                    <a:pt x="15991" y="21063"/>
                    <a:pt x="16031" y="21063"/>
                  </a:cubicBezTo>
                  <a:cubicBezTo>
                    <a:pt x="16088" y="21056"/>
                    <a:pt x="16139" y="21124"/>
                    <a:pt x="16132" y="21181"/>
                  </a:cubicBezTo>
                  <a:cubicBezTo>
                    <a:pt x="16172" y="21153"/>
                    <a:pt x="16243" y="21174"/>
                    <a:pt x="16263" y="21228"/>
                  </a:cubicBezTo>
                  <a:cubicBezTo>
                    <a:pt x="16270" y="21250"/>
                    <a:pt x="16270" y="21282"/>
                    <a:pt x="16287" y="21303"/>
                  </a:cubicBezTo>
                  <a:cubicBezTo>
                    <a:pt x="16300" y="21332"/>
                    <a:pt x="16327" y="21350"/>
                    <a:pt x="16351" y="21371"/>
                  </a:cubicBezTo>
                  <a:cubicBezTo>
                    <a:pt x="16404" y="21407"/>
                    <a:pt x="16455" y="21447"/>
                    <a:pt x="16512" y="21482"/>
                  </a:cubicBezTo>
                  <a:cubicBezTo>
                    <a:pt x="16519" y="21447"/>
                    <a:pt x="16576" y="21425"/>
                    <a:pt x="16603" y="21447"/>
                  </a:cubicBezTo>
                  <a:cubicBezTo>
                    <a:pt x="16630" y="21475"/>
                    <a:pt x="16630" y="21529"/>
                    <a:pt x="16674" y="21543"/>
                  </a:cubicBezTo>
                  <a:cubicBezTo>
                    <a:pt x="16694" y="21550"/>
                    <a:pt x="16711" y="21536"/>
                    <a:pt x="16731" y="21536"/>
                  </a:cubicBezTo>
                  <a:cubicBezTo>
                    <a:pt x="16764" y="21529"/>
                    <a:pt x="16801" y="21558"/>
                    <a:pt x="16835" y="21583"/>
                  </a:cubicBezTo>
                  <a:cubicBezTo>
                    <a:pt x="16872" y="21597"/>
                    <a:pt x="16919" y="21597"/>
                    <a:pt x="16929" y="21550"/>
                  </a:cubicBezTo>
                  <a:cubicBezTo>
                    <a:pt x="16936" y="21515"/>
                    <a:pt x="16892" y="21490"/>
                    <a:pt x="16879" y="21454"/>
                  </a:cubicBezTo>
                  <a:cubicBezTo>
                    <a:pt x="16865" y="21407"/>
                    <a:pt x="16892" y="21364"/>
                    <a:pt x="16936" y="21332"/>
                  </a:cubicBezTo>
                  <a:cubicBezTo>
                    <a:pt x="17027" y="21275"/>
                    <a:pt x="17168" y="21303"/>
                    <a:pt x="17225" y="21407"/>
                  </a:cubicBezTo>
                  <a:cubicBezTo>
                    <a:pt x="17259" y="21475"/>
                    <a:pt x="17279" y="21565"/>
                    <a:pt x="17350" y="21597"/>
                  </a:cubicBezTo>
                  <a:cubicBezTo>
                    <a:pt x="17367" y="21558"/>
                    <a:pt x="17367" y="21550"/>
                    <a:pt x="17400" y="21507"/>
                  </a:cubicBezTo>
                  <a:cubicBezTo>
                    <a:pt x="17424" y="21475"/>
                    <a:pt x="17434" y="21464"/>
                    <a:pt x="17454" y="21443"/>
                  </a:cubicBezTo>
                  <a:cubicBezTo>
                    <a:pt x="17441" y="21421"/>
                    <a:pt x="17431" y="21396"/>
                    <a:pt x="17414" y="21371"/>
                  </a:cubicBezTo>
                  <a:close/>
                  <a:moveTo>
                    <a:pt x="16751" y="16930"/>
                  </a:moveTo>
                  <a:lnTo>
                    <a:pt x="16751" y="16926"/>
                  </a:lnTo>
                  <a:lnTo>
                    <a:pt x="16751" y="16930"/>
                  </a:lnTo>
                  <a:close/>
                  <a:moveTo>
                    <a:pt x="20237" y="12592"/>
                  </a:moveTo>
                  <a:cubicBezTo>
                    <a:pt x="20237" y="12592"/>
                    <a:pt x="20234" y="12592"/>
                    <a:pt x="20230" y="12592"/>
                  </a:cubicBezTo>
                  <a:cubicBezTo>
                    <a:pt x="20230" y="12588"/>
                    <a:pt x="20234" y="12588"/>
                    <a:pt x="20237" y="12592"/>
                  </a:cubicBezTo>
                  <a:close/>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22" name="Shape 3576"/>
            <p:cNvSpPr/>
            <p:nvPr/>
          </p:nvSpPr>
          <p:spPr>
            <a:xfrm>
              <a:off x="15407640" y="4890240"/>
              <a:ext cx="246600" cy="95400"/>
            </a:xfrm>
            <a:custGeom>
              <a:avLst/>
              <a:gdLst>
                <a:gd name="textAreaLeft" fmla="*/ 0 w 246600"/>
                <a:gd name="textAreaRight" fmla="*/ 246960 w 246600"/>
                <a:gd name="textAreaTop" fmla="*/ 0 h 95400"/>
                <a:gd name="textAreaBottom" fmla="*/ 95760 h 95400"/>
              </a:gdLst>
              <a:ahLst/>
              <a:rect l="textAreaLeft" t="textAreaTop" r="textAreaRight" b="textAreaBottom"/>
              <a:pathLst>
                <a:path w="20758" h="21213">
                  <a:moveTo>
                    <a:pt x="763" y="9783"/>
                  </a:moveTo>
                  <a:cubicBezTo>
                    <a:pt x="1603" y="9977"/>
                    <a:pt x="2150" y="7458"/>
                    <a:pt x="2989" y="6587"/>
                  </a:cubicBezTo>
                  <a:cubicBezTo>
                    <a:pt x="3828" y="5812"/>
                    <a:pt x="4850" y="7168"/>
                    <a:pt x="5616" y="5909"/>
                  </a:cubicBezTo>
                  <a:cubicBezTo>
                    <a:pt x="6200" y="7749"/>
                    <a:pt x="7367" y="8136"/>
                    <a:pt x="8207" y="7168"/>
                  </a:cubicBezTo>
                  <a:cubicBezTo>
                    <a:pt x="8353" y="7749"/>
                    <a:pt x="8426" y="8330"/>
                    <a:pt x="8572" y="8814"/>
                  </a:cubicBezTo>
                  <a:cubicBezTo>
                    <a:pt x="9593" y="9977"/>
                    <a:pt x="10578" y="10848"/>
                    <a:pt x="11636" y="11236"/>
                  </a:cubicBezTo>
                  <a:cubicBezTo>
                    <a:pt x="12038" y="12883"/>
                    <a:pt x="12111" y="15110"/>
                    <a:pt x="11709" y="16660"/>
                  </a:cubicBezTo>
                  <a:cubicBezTo>
                    <a:pt x="11782" y="17919"/>
                    <a:pt x="12476" y="17532"/>
                    <a:pt x="12877" y="16951"/>
                  </a:cubicBezTo>
                  <a:cubicBezTo>
                    <a:pt x="13497" y="16079"/>
                    <a:pt x="14190" y="15885"/>
                    <a:pt x="14774" y="16660"/>
                  </a:cubicBezTo>
                  <a:cubicBezTo>
                    <a:pt x="15103" y="17919"/>
                    <a:pt x="15249" y="19566"/>
                    <a:pt x="15176" y="21019"/>
                  </a:cubicBezTo>
                  <a:cubicBezTo>
                    <a:pt x="15942" y="20535"/>
                    <a:pt x="16708" y="20341"/>
                    <a:pt x="17474" y="19953"/>
                  </a:cubicBezTo>
                  <a:cubicBezTo>
                    <a:pt x="17766" y="21600"/>
                    <a:pt x="18824" y="21406"/>
                    <a:pt x="19080" y="19760"/>
                  </a:cubicBezTo>
                  <a:cubicBezTo>
                    <a:pt x="19372" y="20728"/>
                    <a:pt x="19919" y="21213"/>
                    <a:pt x="20357" y="21213"/>
                  </a:cubicBezTo>
                  <a:cubicBezTo>
                    <a:pt x="20539" y="21213"/>
                    <a:pt x="20685" y="21019"/>
                    <a:pt x="20758" y="20535"/>
                  </a:cubicBezTo>
                  <a:cubicBezTo>
                    <a:pt x="20758" y="20341"/>
                    <a:pt x="20758" y="20147"/>
                    <a:pt x="20758" y="19953"/>
                  </a:cubicBezTo>
                  <a:cubicBezTo>
                    <a:pt x="20211" y="16273"/>
                    <a:pt x="18532" y="15110"/>
                    <a:pt x="17219" y="13270"/>
                  </a:cubicBezTo>
                  <a:cubicBezTo>
                    <a:pt x="16380" y="12011"/>
                    <a:pt x="15686" y="10364"/>
                    <a:pt x="15176" y="8330"/>
                  </a:cubicBezTo>
                  <a:cubicBezTo>
                    <a:pt x="14409" y="9396"/>
                    <a:pt x="13424" y="7749"/>
                    <a:pt x="13315" y="5521"/>
                  </a:cubicBezTo>
                  <a:cubicBezTo>
                    <a:pt x="12549" y="4940"/>
                    <a:pt x="11709" y="4068"/>
                    <a:pt x="10943" y="3487"/>
                  </a:cubicBezTo>
                  <a:cubicBezTo>
                    <a:pt x="10359" y="3100"/>
                    <a:pt x="9666" y="2034"/>
                    <a:pt x="9666" y="484"/>
                  </a:cubicBezTo>
                  <a:cubicBezTo>
                    <a:pt x="7988" y="291"/>
                    <a:pt x="6273" y="291"/>
                    <a:pt x="4594" y="0"/>
                  </a:cubicBezTo>
                  <a:cubicBezTo>
                    <a:pt x="4230" y="0"/>
                    <a:pt x="3828" y="0"/>
                    <a:pt x="3536" y="678"/>
                  </a:cubicBezTo>
                  <a:cubicBezTo>
                    <a:pt x="3317" y="1065"/>
                    <a:pt x="3135" y="2034"/>
                    <a:pt x="3135" y="2906"/>
                  </a:cubicBezTo>
                  <a:cubicBezTo>
                    <a:pt x="2697" y="2518"/>
                    <a:pt x="2150" y="2034"/>
                    <a:pt x="1603" y="2325"/>
                  </a:cubicBezTo>
                  <a:cubicBezTo>
                    <a:pt x="399" y="3100"/>
                    <a:pt x="-842" y="9202"/>
                    <a:pt x="763" y="97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23" name="Shape 3577"/>
            <p:cNvSpPr/>
            <p:nvPr/>
          </p:nvSpPr>
          <p:spPr>
            <a:xfrm>
              <a:off x="15565320" y="5016960"/>
              <a:ext cx="57600" cy="28080"/>
            </a:xfrm>
            <a:custGeom>
              <a:avLst/>
              <a:gdLst>
                <a:gd name="textAreaLeft" fmla="*/ 0 w 57600"/>
                <a:gd name="textAreaRight" fmla="*/ 57960 w 57600"/>
                <a:gd name="textAreaTop" fmla="*/ 0 h 28080"/>
                <a:gd name="textAreaBottom" fmla="*/ 28440 h 28080"/>
              </a:gdLst>
              <a:ahLst/>
              <a:rect l="textAreaLeft" t="textAreaTop" r="textAreaRight" b="textAreaBottom"/>
              <a:pathLst>
                <a:path w="19910" h="21600">
                  <a:moveTo>
                    <a:pt x="6932" y="20935"/>
                  </a:moveTo>
                  <a:cubicBezTo>
                    <a:pt x="7682" y="21600"/>
                    <a:pt x="7982" y="21600"/>
                    <a:pt x="8582" y="21600"/>
                  </a:cubicBezTo>
                  <a:cubicBezTo>
                    <a:pt x="9182" y="21600"/>
                    <a:pt x="10082" y="21600"/>
                    <a:pt x="10682" y="21600"/>
                  </a:cubicBezTo>
                  <a:cubicBezTo>
                    <a:pt x="12632" y="20935"/>
                    <a:pt x="15182" y="20271"/>
                    <a:pt x="15482" y="15951"/>
                  </a:cubicBezTo>
                  <a:cubicBezTo>
                    <a:pt x="16382" y="17280"/>
                    <a:pt x="17732" y="17945"/>
                    <a:pt x="18632" y="16615"/>
                  </a:cubicBezTo>
                  <a:cubicBezTo>
                    <a:pt x="19532" y="15286"/>
                    <a:pt x="20132" y="12628"/>
                    <a:pt x="19832" y="10302"/>
                  </a:cubicBezTo>
                  <a:cubicBezTo>
                    <a:pt x="18932" y="5649"/>
                    <a:pt x="15782" y="6978"/>
                    <a:pt x="13832" y="3988"/>
                  </a:cubicBezTo>
                  <a:cubicBezTo>
                    <a:pt x="13232" y="2658"/>
                    <a:pt x="12632" y="1329"/>
                    <a:pt x="12032" y="665"/>
                  </a:cubicBezTo>
                  <a:cubicBezTo>
                    <a:pt x="11432" y="0"/>
                    <a:pt x="10682" y="0"/>
                    <a:pt x="10082" y="0"/>
                  </a:cubicBezTo>
                  <a:cubicBezTo>
                    <a:pt x="7682" y="665"/>
                    <a:pt x="1682" y="2658"/>
                    <a:pt x="332" y="8308"/>
                  </a:cubicBezTo>
                  <a:cubicBezTo>
                    <a:pt x="-1468" y="17280"/>
                    <a:pt x="4532" y="19606"/>
                    <a:pt x="6932" y="20935"/>
                  </a:cubicBezTo>
                </a:path>
              </a:pathLst>
            </a:custGeom>
            <a:solidFill>
              <a:srgbClr val="929292"/>
            </a:solidFill>
            <a:ln w="12700">
              <a:noFill/>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24" name="Shape 3578"/>
            <p:cNvSpPr/>
            <p:nvPr/>
          </p:nvSpPr>
          <p:spPr>
            <a:xfrm>
              <a:off x="15661080" y="4980960"/>
              <a:ext cx="163800" cy="53280"/>
            </a:xfrm>
            <a:custGeom>
              <a:avLst/>
              <a:gdLst>
                <a:gd name="textAreaLeft" fmla="*/ 0 w 163800"/>
                <a:gd name="textAreaRight" fmla="*/ 164160 w 163800"/>
                <a:gd name="textAreaTop" fmla="*/ 0 h 53280"/>
                <a:gd name="textAreaBottom" fmla="*/ 53640 h 53280"/>
              </a:gdLst>
              <a:ahLst/>
              <a:rect l="textAreaLeft" t="textAreaTop" r="textAreaRight" b="textAreaBottom"/>
              <a:pathLst>
                <a:path w="21264" h="20935">
                  <a:moveTo>
                    <a:pt x="1451" y="13867"/>
                  </a:moveTo>
                  <a:cubicBezTo>
                    <a:pt x="1056" y="13867"/>
                    <a:pt x="716" y="13524"/>
                    <a:pt x="377" y="14210"/>
                  </a:cubicBezTo>
                  <a:cubicBezTo>
                    <a:pt x="-245" y="15239"/>
                    <a:pt x="-19" y="18153"/>
                    <a:pt x="490" y="19181"/>
                  </a:cubicBezTo>
                  <a:cubicBezTo>
                    <a:pt x="942" y="20381"/>
                    <a:pt x="1678" y="20724"/>
                    <a:pt x="2356" y="20724"/>
                  </a:cubicBezTo>
                  <a:cubicBezTo>
                    <a:pt x="3826" y="21067"/>
                    <a:pt x="5466" y="21410"/>
                    <a:pt x="6314" y="18153"/>
                  </a:cubicBezTo>
                  <a:cubicBezTo>
                    <a:pt x="6540" y="20724"/>
                    <a:pt x="7615" y="21067"/>
                    <a:pt x="8406" y="20724"/>
                  </a:cubicBezTo>
                  <a:cubicBezTo>
                    <a:pt x="9254" y="20724"/>
                    <a:pt x="10103" y="20381"/>
                    <a:pt x="10894" y="20381"/>
                  </a:cubicBezTo>
                  <a:cubicBezTo>
                    <a:pt x="11290" y="20381"/>
                    <a:pt x="11629" y="20381"/>
                    <a:pt x="11969" y="19524"/>
                  </a:cubicBezTo>
                  <a:cubicBezTo>
                    <a:pt x="12817" y="18839"/>
                    <a:pt x="13552" y="16267"/>
                    <a:pt x="14343" y="17467"/>
                  </a:cubicBezTo>
                  <a:cubicBezTo>
                    <a:pt x="14739" y="18153"/>
                    <a:pt x="15079" y="19181"/>
                    <a:pt x="15418" y="19181"/>
                  </a:cubicBezTo>
                  <a:cubicBezTo>
                    <a:pt x="16040" y="19181"/>
                    <a:pt x="16379" y="16267"/>
                    <a:pt x="16945" y="16781"/>
                  </a:cubicBezTo>
                  <a:cubicBezTo>
                    <a:pt x="17227" y="16781"/>
                    <a:pt x="17340" y="17467"/>
                    <a:pt x="17567" y="17810"/>
                  </a:cubicBezTo>
                  <a:cubicBezTo>
                    <a:pt x="18415" y="19524"/>
                    <a:pt x="19602" y="19181"/>
                    <a:pt x="20620" y="18153"/>
                  </a:cubicBezTo>
                  <a:cubicBezTo>
                    <a:pt x="20903" y="18153"/>
                    <a:pt x="21129" y="17810"/>
                    <a:pt x="21242" y="17124"/>
                  </a:cubicBezTo>
                  <a:cubicBezTo>
                    <a:pt x="21355" y="15924"/>
                    <a:pt x="21016" y="15239"/>
                    <a:pt x="20790" y="14553"/>
                  </a:cubicBezTo>
                  <a:cubicBezTo>
                    <a:pt x="19715" y="12667"/>
                    <a:pt x="18641" y="11639"/>
                    <a:pt x="17453" y="11639"/>
                  </a:cubicBezTo>
                  <a:cubicBezTo>
                    <a:pt x="17114" y="11639"/>
                    <a:pt x="16605" y="11639"/>
                    <a:pt x="16266" y="10610"/>
                  </a:cubicBezTo>
                  <a:cubicBezTo>
                    <a:pt x="15927" y="9581"/>
                    <a:pt x="15927" y="7696"/>
                    <a:pt x="15644" y="6667"/>
                  </a:cubicBezTo>
                  <a:cubicBezTo>
                    <a:pt x="14852" y="3067"/>
                    <a:pt x="12704" y="7010"/>
                    <a:pt x="11516" y="4439"/>
                  </a:cubicBezTo>
                  <a:cubicBezTo>
                    <a:pt x="11290" y="4096"/>
                    <a:pt x="11064" y="3067"/>
                    <a:pt x="10781" y="2724"/>
                  </a:cubicBezTo>
                  <a:cubicBezTo>
                    <a:pt x="10216" y="1524"/>
                    <a:pt x="9481" y="2724"/>
                    <a:pt x="8915" y="3410"/>
                  </a:cubicBezTo>
                  <a:cubicBezTo>
                    <a:pt x="8293" y="4096"/>
                    <a:pt x="7332" y="3753"/>
                    <a:pt x="7106" y="2039"/>
                  </a:cubicBezTo>
                  <a:cubicBezTo>
                    <a:pt x="6993" y="1181"/>
                    <a:pt x="6993" y="496"/>
                    <a:pt x="6767" y="153"/>
                  </a:cubicBezTo>
                  <a:cubicBezTo>
                    <a:pt x="6653" y="-190"/>
                    <a:pt x="6540" y="153"/>
                    <a:pt x="6314" y="153"/>
                  </a:cubicBezTo>
                  <a:cubicBezTo>
                    <a:pt x="5805" y="496"/>
                    <a:pt x="5353" y="839"/>
                    <a:pt x="4844" y="1181"/>
                  </a:cubicBezTo>
                  <a:cubicBezTo>
                    <a:pt x="4505" y="1524"/>
                    <a:pt x="4052" y="2039"/>
                    <a:pt x="3939" y="3067"/>
                  </a:cubicBezTo>
                  <a:cubicBezTo>
                    <a:pt x="3826" y="4439"/>
                    <a:pt x="4222" y="5639"/>
                    <a:pt x="4731" y="6667"/>
                  </a:cubicBezTo>
                  <a:cubicBezTo>
                    <a:pt x="5183" y="7867"/>
                    <a:pt x="5240" y="9067"/>
                    <a:pt x="4844" y="10267"/>
                  </a:cubicBezTo>
                  <a:cubicBezTo>
                    <a:pt x="6201" y="14896"/>
                    <a:pt x="1904" y="13867"/>
                    <a:pt x="1451" y="13867"/>
                  </a:cubicBezTo>
                </a:path>
              </a:pathLst>
            </a:custGeom>
            <a:solidFill>
              <a:srgbClr val="929292"/>
            </a:solidFill>
            <a:ln w="12700">
              <a:noFill/>
            </a:ln>
          </p:spPr>
          <p:style>
            <a:lnRef idx="0"/>
            <a:fillRef idx="0"/>
            <a:effectRef idx="0"/>
            <a:fontRef idx="minor"/>
          </p:style>
          <p:txBody>
            <a:bodyPr numCol="1" spcCol="0" lIns="45720" rIns="45720" tIns="26640" bIns="26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25" name="Shape 3579"/>
            <p:cNvSpPr/>
            <p:nvPr/>
          </p:nvSpPr>
          <p:spPr>
            <a:xfrm>
              <a:off x="15836040" y="5019480"/>
              <a:ext cx="66240" cy="25200"/>
            </a:xfrm>
            <a:custGeom>
              <a:avLst/>
              <a:gdLst>
                <a:gd name="textAreaLeft" fmla="*/ 0 w 66240"/>
                <a:gd name="textAreaRight" fmla="*/ 66600 w 66240"/>
                <a:gd name="textAreaTop" fmla="*/ 0 h 25200"/>
                <a:gd name="textAreaBottom" fmla="*/ 25560 h 25200"/>
              </a:gdLst>
              <a:ahLst/>
              <a:rect l="textAreaLeft" t="textAreaTop" r="textAreaRight" b="textAreaBottom"/>
              <a:pathLst>
                <a:path w="20359" h="18084">
                  <a:moveTo>
                    <a:pt x="9956" y="16010"/>
                  </a:moveTo>
                  <a:cubicBezTo>
                    <a:pt x="11016" y="18514"/>
                    <a:pt x="12739" y="18514"/>
                    <a:pt x="14064" y="17262"/>
                  </a:cubicBezTo>
                  <a:cubicBezTo>
                    <a:pt x="15787" y="15071"/>
                    <a:pt x="16582" y="10062"/>
                    <a:pt x="18305" y="8810"/>
                  </a:cubicBezTo>
                  <a:cubicBezTo>
                    <a:pt x="18835" y="8810"/>
                    <a:pt x="19630" y="8810"/>
                    <a:pt x="20160" y="7244"/>
                  </a:cubicBezTo>
                  <a:cubicBezTo>
                    <a:pt x="20425" y="6618"/>
                    <a:pt x="20425" y="5992"/>
                    <a:pt x="20160" y="5366"/>
                  </a:cubicBezTo>
                  <a:cubicBezTo>
                    <a:pt x="20160" y="3488"/>
                    <a:pt x="20160" y="1297"/>
                    <a:pt x="19895" y="44"/>
                  </a:cubicBezTo>
                  <a:cubicBezTo>
                    <a:pt x="17377" y="44"/>
                    <a:pt x="14859" y="-582"/>
                    <a:pt x="12739" y="2862"/>
                  </a:cubicBezTo>
                  <a:cubicBezTo>
                    <a:pt x="11812" y="4114"/>
                    <a:pt x="11016" y="5992"/>
                    <a:pt x="9956" y="5992"/>
                  </a:cubicBezTo>
                  <a:cubicBezTo>
                    <a:pt x="9426" y="5992"/>
                    <a:pt x="9029" y="5366"/>
                    <a:pt x="8499" y="4740"/>
                  </a:cubicBezTo>
                  <a:cubicBezTo>
                    <a:pt x="6643" y="2236"/>
                    <a:pt x="-1175" y="-3086"/>
                    <a:pt x="150" y="9436"/>
                  </a:cubicBezTo>
                  <a:cubicBezTo>
                    <a:pt x="1608" y="17888"/>
                    <a:pt x="7969" y="11314"/>
                    <a:pt x="9956" y="16010"/>
                  </a:cubicBezTo>
                </a:path>
              </a:pathLst>
            </a:custGeom>
            <a:solidFill>
              <a:srgbClr val="929292"/>
            </a:solidFill>
            <a:ln w="12700">
              <a:noFill/>
            </a:ln>
          </p:spPr>
          <p:style>
            <a:lnRef idx="0"/>
            <a:fillRef idx="0"/>
            <a:effectRef idx="0"/>
            <a:fontRef idx="minor"/>
          </p:style>
          <p:txBody>
            <a:bodyPr numCol="1" spcCol="0" lIns="45720" rIns="45720" tIns="12600" bIns="12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26" name="Shape 3580"/>
            <p:cNvSpPr/>
            <p:nvPr/>
          </p:nvSpPr>
          <p:spPr>
            <a:xfrm>
              <a:off x="15905160" y="4053960"/>
              <a:ext cx="77400" cy="42480"/>
            </a:xfrm>
            <a:custGeom>
              <a:avLst/>
              <a:gdLst>
                <a:gd name="textAreaLeft" fmla="*/ 0 w 77400"/>
                <a:gd name="textAreaRight" fmla="*/ 77760 w 77400"/>
                <a:gd name="textAreaTop" fmla="*/ 0 h 42480"/>
                <a:gd name="textAreaBottom" fmla="*/ 42840 h 42480"/>
              </a:gdLst>
              <a:ahLst/>
              <a:rect l="textAreaLeft" t="textAreaTop" r="textAreaRight" b="textAreaBottom"/>
              <a:pathLst>
                <a:path w="21461" h="20233">
                  <a:moveTo>
                    <a:pt x="5222" y="9034"/>
                  </a:moveTo>
                  <a:cubicBezTo>
                    <a:pt x="5697" y="9446"/>
                    <a:pt x="6171" y="9857"/>
                    <a:pt x="6646" y="10680"/>
                  </a:cubicBezTo>
                  <a:cubicBezTo>
                    <a:pt x="6884" y="11503"/>
                    <a:pt x="7121" y="12531"/>
                    <a:pt x="6884" y="13354"/>
                  </a:cubicBezTo>
                  <a:cubicBezTo>
                    <a:pt x="8664" y="12531"/>
                    <a:pt x="10207" y="15411"/>
                    <a:pt x="11868" y="15823"/>
                  </a:cubicBezTo>
                  <a:cubicBezTo>
                    <a:pt x="12462" y="15823"/>
                    <a:pt x="12936" y="15823"/>
                    <a:pt x="13174" y="16440"/>
                  </a:cubicBezTo>
                  <a:cubicBezTo>
                    <a:pt x="14598" y="17263"/>
                    <a:pt x="15666" y="19731"/>
                    <a:pt x="17090" y="20143"/>
                  </a:cubicBezTo>
                  <a:cubicBezTo>
                    <a:pt x="18870" y="20760"/>
                    <a:pt x="20413" y="18086"/>
                    <a:pt x="21125" y="15411"/>
                  </a:cubicBezTo>
                  <a:cubicBezTo>
                    <a:pt x="21363" y="15000"/>
                    <a:pt x="21600" y="14177"/>
                    <a:pt x="21363" y="13354"/>
                  </a:cubicBezTo>
                  <a:cubicBezTo>
                    <a:pt x="21125" y="12531"/>
                    <a:pt x="20651" y="12120"/>
                    <a:pt x="20176" y="12120"/>
                  </a:cubicBezTo>
                  <a:cubicBezTo>
                    <a:pt x="19582" y="12120"/>
                    <a:pt x="19108" y="12531"/>
                    <a:pt x="18633" y="12120"/>
                  </a:cubicBezTo>
                  <a:cubicBezTo>
                    <a:pt x="17684" y="11091"/>
                    <a:pt x="17921" y="9034"/>
                    <a:pt x="17921" y="7389"/>
                  </a:cubicBezTo>
                  <a:cubicBezTo>
                    <a:pt x="16141" y="5949"/>
                    <a:pt x="14360" y="5126"/>
                    <a:pt x="12462" y="5126"/>
                  </a:cubicBezTo>
                  <a:cubicBezTo>
                    <a:pt x="11393" y="5126"/>
                    <a:pt x="10444" y="5126"/>
                    <a:pt x="9969" y="3891"/>
                  </a:cubicBezTo>
                  <a:cubicBezTo>
                    <a:pt x="9613" y="3480"/>
                    <a:pt x="9613" y="2451"/>
                    <a:pt x="9376" y="2040"/>
                  </a:cubicBezTo>
                  <a:cubicBezTo>
                    <a:pt x="9138" y="1217"/>
                    <a:pt x="8426" y="394"/>
                    <a:pt x="7714" y="394"/>
                  </a:cubicBezTo>
                  <a:cubicBezTo>
                    <a:pt x="6171" y="-17"/>
                    <a:pt x="4985" y="1629"/>
                    <a:pt x="3442" y="1217"/>
                  </a:cubicBezTo>
                  <a:cubicBezTo>
                    <a:pt x="2255" y="1217"/>
                    <a:pt x="1187" y="-840"/>
                    <a:pt x="0" y="394"/>
                  </a:cubicBezTo>
                  <a:cubicBezTo>
                    <a:pt x="1424" y="3891"/>
                    <a:pt x="3204" y="7389"/>
                    <a:pt x="5222" y="9034"/>
                  </a:cubicBezTo>
                </a:path>
              </a:pathLst>
            </a:custGeom>
            <a:solidFill>
              <a:srgbClr val="929292"/>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27" name="Shape 3581"/>
            <p:cNvSpPr/>
            <p:nvPr/>
          </p:nvSpPr>
          <p:spPr>
            <a:xfrm>
              <a:off x="16035840" y="3973320"/>
              <a:ext cx="165960" cy="203760"/>
            </a:xfrm>
            <a:custGeom>
              <a:avLst/>
              <a:gdLst>
                <a:gd name="textAreaLeft" fmla="*/ 0 w 165960"/>
                <a:gd name="textAreaRight" fmla="*/ 166320 w 165960"/>
                <a:gd name="textAreaTop" fmla="*/ 0 h 203760"/>
                <a:gd name="textAreaBottom" fmla="*/ 204120 h 203760"/>
              </a:gdLst>
              <a:ahLst/>
              <a:rect l="textAreaLeft" t="textAreaTop" r="textAreaRight" b="textAreaBottom"/>
              <a:pathLst>
                <a:path w="21518" h="21295">
                  <a:moveTo>
                    <a:pt x="6066" y="5536"/>
                  </a:moveTo>
                  <a:cubicBezTo>
                    <a:pt x="5896" y="5808"/>
                    <a:pt x="5783" y="6217"/>
                    <a:pt x="5669" y="6489"/>
                  </a:cubicBezTo>
                  <a:cubicBezTo>
                    <a:pt x="5443" y="7034"/>
                    <a:pt x="5216" y="7714"/>
                    <a:pt x="4479" y="8077"/>
                  </a:cubicBezTo>
                  <a:cubicBezTo>
                    <a:pt x="4252" y="8213"/>
                    <a:pt x="3912" y="8304"/>
                    <a:pt x="3685" y="8486"/>
                  </a:cubicBezTo>
                  <a:cubicBezTo>
                    <a:pt x="3402" y="8667"/>
                    <a:pt x="3231" y="8939"/>
                    <a:pt x="3515" y="9166"/>
                  </a:cubicBezTo>
                  <a:cubicBezTo>
                    <a:pt x="3628" y="9257"/>
                    <a:pt x="3912" y="9257"/>
                    <a:pt x="4025" y="9439"/>
                  </a:cubicBezTo>
                  <a:cubicBezTo>
                    <a:pt x="4252" y="9711"/>
                    <a:pt x="3912" y="9983"/>
                    <a:pt x="3685" y="10301"/>
                  </a:cubicBezTo>
                  <a:cubicBezTo>
                    <a:pt x="3175" y="10936"/>
                    <a:pt x="3912" y="11980"/>
                    <a:pt x="3061" y="12479"/>
                  </a:cubicBezTo>
                  <a:cubicBezTo>
                    <a:pt x="2721" y="12661"/>
                    <a:pt x="2098" y="12570"/>
                    <a:pt x="1757" y="12751"/>
                  </a:cubicBezTo>
                  <a:cubicBezTo>
                    <a:pt x="1020" y="13069"/>
                    <a:pt x="1304" y="13886"/>
                    <a:pt x="680" y="14385"/>
                  </a:cubicBezTo>
                  <a:cubicBezTo>
                    <a:pt x="454" y="14566"/>
                    <a:pt x="0" y="14748"/>
                    <a:pt x="0" y="15066"/>
                  </a:cubicBezTo>
                  <a:cubicBezTo>
                    <a:pt x="0" y="15338"/>
                    <a:pt x="227" y="15519"/>
                    <a:pt x="454" y="15701"/>
                  </a:cubicBezTo>
                  <a:cubicBezTo>
                    <a:pt x="680" y="16109"/>
                    <a:pt x="454" y="16654"/>
                    <a:pt x="340" y="17153"/>
                  </a:cubicBezTo>
                  <a:cubicBezTo>
                    <a:pt x="227" y="17607"/>
                    <a:pt x="454" y="18287"/>
                    <a:pt x="1020" y="18287"/>
                  </a:cubicBezTo>
                  <a:cubicBezTo>
                    <a:pt x="1304" y="18287"/>
                    <a:pt x="1531" y="18197"/>
                    <a:pt x="1757" y="18106"/>
                  </a:cubicBezTo>
                  <a:cubicBezTo>
                    <a:pt x="3685" y="17334"/>
                    <a:pt x="5896" y="17244"/>
                    <a:pt x="7937" y="17924"/>
                  </a:cubicBezTo>
                  <a:cubicBezTo>
                    <a:pt x="8277" y="18015"/>
                    <a:pt x="8674" y="18106"/>
                    <a:pt x="9014" y="18106"/>
                  </a:cubicBezTo>
                  <a:cubicBezTo>
                    <a:pt x="9354" y="18106"/>
                    <a:pt x="9751" y="17788"/>
                    <a:pt x="9581" y="17516"/>
                  </a:cubicBezTo>
                  <a:cubicBezTo>
                    <a:pt x="9978" y="17244"/>
                    <a:pt x="10772" y="17516"/>
                    <a:pt x="10942" y="17924"/>
                  </a:cubicBezTo>
                  <a:cubicBezTo>
                    <a:pt x="11055" y="18287"/>
                    <a:pt x="10772" y="18741"/>
                    <a:pt x="10431" y="19150"/>
                  </a:cubicBezTo>
                  <a:cubicBezTo>
                    <a:pt x="10091" y="19513"/>
                    <a:pt x="9751" y="19785"/>
                    <a:pt x="9468" y="20284"/>
                  </a:cubicBezTo>
                  <a:cubicBezTo>
                    <a:pt x="9978" y="20193"/>
                    <a:pt x="10431" y="20103"/>
                    <a:pt x="10942" y="20103"/>
                  </a:cubicBezTo>
                  <a:cubicBezTo>
                    <a:pt x="11055" y="20466"/>
                    <a:pt x="11055" y="20738"/>
                    <a:pt x="11169" y="21146"/>
                  </a:cubicBezTo>
                  <a:cubicBezTo>
                    <a:pt x="11849" y="21237"/>
                    <a:pt x="12699" y="20965"/>
                    <a:pt x="13153" y="20466"/>
                  </a:cubicBezTo>
                  <a:cubicBezTo>
                    <a:pt x="12359" y="20012"/>
                    <a:pt x="14117" y="18877"/>
                    <a:pt x="13436" y="18197"/>
                  </a:cubicBezTo>
                  <a:cubicBezTo>
                    <a:pt x="14117" y="18197"/>
                    <a:pt x="14854" y="18106"/>
                    <a:pt x="15534" y="18106"/>
                  </a:cubicBezTo>
                  <a:cubicBezTo>
                    <a:pt x="15817" y="18378"/>
                    <a:pt x="15817" y="18741"/>
                    <a:pt x="15817" y="19150"/>
                  </a:cubicBezTo>
                  <a:cubicBezTo>
                    <a:pt x="16498" y="19331"/>
                    <a:pt x="17008" y="19921"/>
                    <a:pt x="17008" y="20466"/>
                  </a:cubicBezTo>
                  <a:cubicBezTo>
                    <a:pt x="17802" y="21509"/>
                    <a:pt x="20069" y="21600"/>
                    <a:pt x="20920" y="20556"/>
                  </a:cubicBezTo>
                  <a:cubicBezTo>
                    <a:pt x="20409" y="20738"/>
                    <a:pt x="19956" y="20284"/>
                    <a:pt x="20069" y="19921"/>
                  </a:cubicBezTo>
                  <a:cubicBezTo>
                    <a:pt x="20183" y="19513"/>
                    <a:pt x="20523" y="19240"/>
                    <a:pt x="21033" y="19059"/>
                  </a:cubicBezTo>
                  <a:cubicBezTo>
                    <a:pt x="21146" y="18968"/>
                    <a:pt x="21373" y="18968"/>
                    <a:pt x="21487" y="18741"/>
                  </a:cubicBezTo>
                  <a:cubicBezTo>
                    <a:pt x="21600" y="18469"/>
                    <a:pt x="21373" y="18287"/>
                    <a:pt x="21260" y="18015"/>
                  </a:cubicBezTo>
                  <a:cubicBezTo>
                    <a:pt x="21146" y="17697"/>
                    <a:pt x="21033" y="17334"/>
                    <a:pt x="21373" y="17334"/>
                  </a:cubicBezTo>
                  <a:cubicBezTo>
                    <a:pt x="20523" y="17334"/>
                    <a:pt x="19729" y="16563"/>
                    <a:pt x="20069" y="15882"/>
                  </a:cubicBezTo>
                  <a:cubicBezTo>
                    <a:pt x="19843" y="16018"/>
                    <a:pt x="19446" y="15973"/>
                    <a:pt x="19219" y="15882"/>
                  </a:cubicBezTo>
                  <a:cubicBezTo>
                    <a:pt x="18935" y="15746"/>
                    <a:pt x="18765" y="15610"/>
                    <a:pt x="18879" y="15429"/>
                  </a:cubicBezTo>
                  <a:lnTo>
                    <a:pt x="19219" y="15156"/>
                  </a:lnTo>
                  <a:cubicBezTo>
                    <a:pt x="19616" y="14975"/>
                    <a:pt x="20069" y="14748"/>
                    <a:pt x="20409" y="14566"/>
                  </a:cubicBezTo>
                  <a:cubicBezTo>
                    <a:pt x="19956" y="14203"/>
                    <a:pt x="18879" y="14476"/>
                    <a:pt x="18539" y="14022"/>
                  </a:cubicBezTo>
                  <a:cubicBezTo>
                    <a:pt x="18425" y="13886"/>
                    <a:pt x="18425" y="13704"/>
                    <a:pt x="18539" y="13523"/>
                  </a:cubicBezTo>
                  <a:cubicBezTo>
                    <a:pt x="18652" y="12388"/>
                    <a:pt x="19332" y="11254"/>
                    <a:pt x="18765" y="10210"/>
                  </a:cubicBezTo>
                  <a:cubicBezTo>
                    <a:pt x="18652" y="9892"/>
                    <a:pt x="18028" y="9711"/>
                    <a:pt x="18028" y="9983"/>
                  </a:cubicBezTo>
                  <a:cubicBezTo>
                    <a:pt x="18028" y="9439"/>
                    <a:pt x="17008" y="8939"/>
                    <a:pt x="16384" y="9348"/>
                  </a:cubicBezTo>
                  <a:cubicBezTo>
                    <a:pt x="16157" y="9439"/>
                    <a:pt x="16044" y="9711"/>
                    <a:pt x="15647" y="9802"/>
                  </a:cubicBezTo>
                  <a:cubicBezTo>
                    <a:pt x="15307" y="9983"/>
                    <a:pt x="14797" y="9892"/>
                    <a:pt x="14457" y="9892"/>
                  </a:cubicBezTo>
                  <a:cubicBezTo>
                    <a:pt x="14060" y="9892"/>
                    <a:pt x="13550" y="9983"/>
                    <a:pt x="13550" y="10392"/>
                  </a:cubicBezTo>
                  <a:cubicBezTo>
                    <a:pt x="13776" y="10482"/>
                    <a:pt x="14003" y="10664"/>
                    <a:pt x="14230" y="10755"/>
                  </a:cubicBezTo>
                  <a:cubicBezTo>
                    <a:pt x="13436" y="10755"/>
                    <a:pt x="12472" y="10664"/>
                    <a:pt x="11849" y="10301"/>
                  </a:cubicBezTo>
                  <a:cubicBezTo>
                    <a:pt x="11282" y="9802"/>
                    <a:pt x="11395" y="8758"/>
                    <a:pt x="12246" y="8758"/>
                  </a:cubicBezTo>
                  <a:cubicBezTo>
                    <a:pt x="11735" y="8576"/>
                    <a:pt x="11395" y="8213"/>
                    <a:pt x="11169" y="7714"/>
                  </a:cubicBezTo>
                  <a:cubicBezTo>
                    <a:pt x="10545" y="7805"/>
                    <a:pt x="9751" y="7714"/>
                    <a:pt x="9751" y="7261"/>
                  </a:cubicBezTo>
                  <a:cubicBezTo>
                    <a:pt x="9581" y="6761"/>
                    <a:pt x="10658" y="6489"/>
                    <a:pt x="10658" y="5899"/>
                  </a:cubicBezTo>
                  <a:cubicBezTo>
                    <a:pt x="10658" y="5808"/>
                    <a:pt x="10545" y="5627"/>
                    <a:pt x="10545" y="5536"/>
                  </a:cubicBezTo>
                  <a:cubicBezTo>
                    <a:pt x="10318" y="4855"/>
                    <a:pt x="11169" y="4084"/>
                    <a:pt x="11962" y="4175"/>
                  </a:cubicBezTo>
                  <a:cubicBezTo>
                    <a:pt x="11622" y="3812"/>
                    <a:pt x="11962" y="3313"/>
                    <a:pt x="12359" y="3040"/>
                  </a:cubicBezTo>
                  <a:cubicBezTo>
                    <a:pt x="12699" y="2723"/>
                    <a:pt x="13153" y="2450"/>
                    <a:pt x="13436" y="2087"/>
                  </a:cubicBezTo>
                  <a:cubicBezTo>
                    <a:pt x="13663" y="1679"/>
                    <a:pt x="13550" y="1361"/>
                    <a:pt x="13663" y="953"/>
                  </a:cubicBezTo>
                  <a:cubicBezTo>
                    <a:pt x="13153" y="771"/>
                    <a:pt x="12926" y="408"/>
                    <a:pt x="12926" y="0"/>
                  </a:cubicBezTo>
                  <a:cubicBezTo>
                    <a:pt x="12472" y="0"/>
                    <a:pt x="12076" y="272"/>
                    <a:pt x="11849" y="681"/>
                  </a:cubicBezTo>
                  <a:cubicBezTo>
                    <a:pt x="11622" y="1044"/>
                    <a:pt x="11509" y="1452"/>
                    <a:pt x="11169" y="1634"/>
                  </a:cubicBezTo>
                  <a:lnTo>
                    <a:pt x="10431" y="1906"/>
                  </a:lnTo>
                  <a:cubicBezTo>
                    <a:pt x="9978" y="2087"/>
                    <a:pt x="9751" y="2496"/>
                    <a:pt x="9865" y="2859"/>
                  </a:cubicBezTo>
                  <a:cubicBezTo>
                    <a:pt x="9751" y="2723"/>
                    <a:pt x="7597" y="3630"/>
                    <a:pt x="7483" y="3721"/>
                  </a:cubicBezTo>
                  <a:cubicBezTo>
                    <a:pt x="6633" y="4084"/>
                    <a:pt x="6293" y="4765"/>
                    <a:pt x="6066" y="5536"/>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28" name="Shape 3582"/>
            <p:cNvSpPr/>
            <p:nvPr/>
          </p:nvSpPr>
          <p:spPr>
            <a:xfrm>
              <a:off x="15514560" y="3754800"/>
              <a:ext cx="43200" cy="61920"/>
            </a:xfrm>
            <a:custGeom>
              <a:avLst/>
              <a:gdLst>
                <a:gd name="textAreaLeft" fmla="*/ 0 w 43200"/>
                <a:gd name="textAreaRight" fmla="*/ 43560 w 43200"/>
                <a:gd name="textAreaTop" fmla="*/ 0 h 61920"/>
                <a:gd name="textAreaBottom" fmla="*/ 62280 h 61920"/>
              </a:gdLst>
              <a:ahLst/>
              <a:rect l="textAreaLeft" t="textAreaTop" r="textAreaRight" b="textAreaBottom"/>
              <a:pathLst>
                <a:path w="20645" h="21375">
                  <a:moveTo>
                    <a:pt x="2621" y="11025"/>
                  </a:moveTo>
                  <a:cubicBezTo>
                    <a:pt x="2206" y="11325"/>
                    <a:pt x="1375" y="11625"/>
                    <a:pt x="960" y="12375"/>
                  </a:cubicBezTo>
                  <a:cubicBezTo>
                    <a:pt x="-702" y="13875"/>
                    <a:pt x="129" y="16125"/>
                    <a:pt x="960" y="17925"/>
                  </a:cubicBezTo>
                  <a:cubicBezTo>
                    <a:pt x="960" y="18225"/>
                    <a:pt x="1375" y="18675"/>
                    <a:pt x="1790" y="18975"/>
                  </a:cubicBezTo>
                  <a:cubicBezTo>
                    <a:pt x="2206" y="18975"/>
                    <a:pt x="2621" y="18975"/>
                    <a:pt x="2621" y="19275"/>
                  </a:cubicBezTo>
                  <a:cubicBezTo>
                    <a:pt x="4075" y="19575"/>
                    <a:pt x="4075" y="20475"/>
                    <a:pt x="4075" y="21375"/>
                  </a:cubicBezTo>
                  <a:cubicBezTo>
                    <a:pt x="5736" y="21375"/>
                    <a:pt x="7398" y="21375"/>
                    <a:pt x="8852" y="21075"/>
                  </a:cubicBezTo>
                  <a:cubicBezTo>
                    <a:pt x="12383" y="20475"/>
                    <a:pt x="14044" y="17325"/>
                    <a:pt x="13213" y="15075"/>
                  </a:cubicBezTo>
                  <a:cubicBezTo>
                    <a:pt x="14460" y="15825"/>
                    <a:pt x="16121" y="14475"/>
                    <a:pt x="16536" y="13575"/>
                  </a:cubicBezTo>
                  <a:cubicBezTo>
                    <a:pt x="17160" y="12375"/>
                    <a:pt x="16536" y="11325"/>
                    <a:pt x="16536" y="10125"/>
                  </a:cubicBezTo>
                  <a:cubicBezTo>
                    <a:pt x="16536" y="8925"/>
                    <a:pt x="17575" y="7875"/>
                    <a:pt x="18406" y="6975"/>
                  </a:cubicBezTo>
                  <a:cubicBezTo>
                    <a:pt x="19236" y="6075"/>
                    <a:pt x="20067" y="5025"/>
                    <a:pt x="20483" y="3825"/>
                  </a:cubicBezTo>
                  <a:cubicBezTo>
                    <a:pt x="20898" y="2625"/>
                    <a:pt x="20483" y="1275"/>
                    <a:pt x="19652" y="675"/>
                  </a:cubicBezTo>
                  <a:cubicBezTo>
                    <a:pt x="18406" y="-225"/>
                    <a:pt x="16121" y="-225"/>
                    <a:pt x="15290" y="675"/>
                  </a:cubicBezTo>
                  <a:cubicBezTo>
                    <a:pt x="14875" y="1275"/>
                    <a:pt x="14875" y="1875"/>
                    <a:pt x="14875" y="2175"/>
                  </a:cubicBezTo>
                  <a:cubicBezTo>
                    <a:pt x="14460" y="4125"/>
                    <a:pt x="13629" y="6075"/>
                    <a:pt x="12383" y="7575"/>
                  </a:cubicBezTo>
                  <a:cubicBezTo>
                    <a:pt x="11760" y="7875"/>
                    <a:pt x="11344" y="7275"/>
                    <a:pt x="10929" y="7275"/>
                  </a:cubicBezTo>
                  <a:cubicBezTo>
                    <a:pt x="10098" y="7275"/>
                    <a:pt x="10098" y="7875"/>
                    <a:pt x="9683" y="8475"/>
                  </a:cubicBezTo>
                  <a:cubicBezTo>
                    <a:pt x="9267" y="9225"/>
                    <a:pt x="8021" y="9225"/>
                    <a:pt x="6983" y="8475"/>
                  </a:cubicBezTo>
                  <a:cubicBezTo>
                    <a:pt x="6567" y="7875"/>
                    <a:pt x="6152" y="7275"/>
                    <a:pt x="6152" y="6675"/>
                  </a:cubicBezTo>
                  <a:cubicBezTo>
                    <a:pt x="5321" y="6975"/>
                    <a:pt x="4490" y="6675"/>
                    <a:pt x="4075" y="6375"/>
                  </a:cubicBezTo>
                  <a:cubicBezTo>
                    <a:pt x="4906" y="7575"/>
                    <a:pt x="4490" y="9825"/>
                    <a:pt x="2621" y="11025"/>
                  </a:cubicBezTo>
                </a:path>
              </a:pathLst>
            </a:custGeom>
            <a:solidFill>
              <a:srgbClr val="929292"/>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29" name="Shape 3583"/>
            <p:cNvSpPr/>
            <p:nvPr/>
          </p:nvSpPr>
          <p:spPr>
            <a:xfrm>
              <a:off x="15501600" y="3611520"/>
              <a:ext cx="26640" cy="52920"/>
            </a:xfrm>
            <a:custGeom>
              <a:avLst/>
              <a:gdLst>
                <a:gd name="textAreaLeft" fmla="*/ 0 w 26640"/>
                <a:gd name="textAreaRight" fmla="*/ 27000 w 26640"/>
                <a:gd name="textAreaTop" fmla="*/ 0 h 52920"/>
                <a:gd name="textAreaBottom" fmla="*/ 53280 h 52920"/>
              </a:gdLst>
              <a:ahLst/>
              <a:rect l="textAreaLeft" t="textAreaTop" r="textAreaRight" b="textAreaBottom"/>
              <a:pathLst>
                <a:path w="19152" h="20061">
                  <a:moveTo>
                    <a:pt x="926" y="10442"/>
                  </a:moveTo>
                  <a:cubicBezTo>
                    <a:pt x="0" y="10769"/>
                    <a:pt x="0" y="11424"/>
                    <a:pt x="0" y="11751"/>
                  </a:cubicBezTo>
                  <a:cubicBezTo>
                    <a:pt x="0" y="12078"/>
                    <a:pt x="926" y="12405"/>
                    <a:pt x="926" y="13060"/>
                  </a:cubicBezTo>
                  <a:cubicBezTo>
                    <a:pt x="1543" y="13878"/>
                    <a:pt x="926" y="14860"/>
                    <a:pt x="926" y="15842"/>
                  </a:cubicBezTo>
                  <a:cubicBezTo>
                    <a:pt x="926" y="16824"/>
                    <a:pt x="2777" y="17969"/>
                    <a:pt x="4011" y="17315"/>
                  </a:cubicBezTo>
                  <a:cubicBezTo>
                    <a:pt x="4011" y="17969"/>
                    <a:pt x="3394" y="18624"/>
                    <a:pt x="4011" y="19278"/>
                  </a:cubicBezTo>
                  <a:cubicBezTo>
                    <a:pt x="4629" y="19933"/>
                    <a:pt x="5863" y="20260"/>
                    <a:pt x="7097" y="19933"/>
                  </a:cubicBezTo>
                  <a:cubicBezTo>
                    <a:pt x="8023" y="19933"/>
                    <a:pt x="8023" y="19605"/>
                    <a:pt x="8640" y="19278"/>
                  </a:cubicBezTo>
                  <a:cubicBezTo>
                    <a:pt x="10491" y="17969"/>
                    <a:pt x="11726" y="16496"/>
                    <a:pt x="12343" y="15187"/>
                  </a:cubicBezTo>
                  <a:cubicBezTo>
                    <a:pt x="12343" y="14860"/>
                    <a:pt x="12960" y="14533"/>
                    <a:pt x="12343" y="14205"/>
                  </a:cubicBezTo>
                  <a:cubicBezTo>
                    <a:pt x="12343" y="13878"/>
                    <a:pt x="11726" y="13878"/>
                    <a:pt x="11726" y="13387"/>
                  </a:cubicBezTo>
                  <a:cubicBezTo>
                    <a:pt x="10491" y="12733"/>
                    <a:pt x="10491" y="11751"/>
                    <a:pt x="11109" y="10769"/>
                  </a:cubicBezTo>
                  <a:cubicBezTo>
                    <a:pt x="11726" y="9624"/>
                    <a:pt x="12960" y="8969"/>
                    <a:pt x="13577" y="8315"/>
                  </a:cubicBezTo>
                  <a:cubicBezTo>
                    <a:pt x="15737" y="7005"/>
                    <a:pt x="16971" y="5533"/>
                    <a:pt x="18206" y="3896"/>
                  </a:cubicBezTo>
                  <a:cubicBezTo>
                    <a:pt x="21600" y="133"/>
                    <a:pt x="15120" y="-1340"/>
                    <a:pt x="10491" y="1442"/>
                  </a:cubicBezTo>
                  <a:cubicBezTo>
                    <a:pt x="5863" y="4224"/>
                    <a:pt x="3394" y="7987"/>
                    <a:pt x="926" y="10442"/>
                  </a:cubicBezTo>
                </a:path>
              </a:pathLst>
            </a:custGeom>
            <a:solidFill>
              <a:srgbClr val="929292"/>
            </a:solidFill>
            <a:ln w="12700">
              <a:noFill/>
            </a:ln>
          </p:spPr>
          <p:style>
            <a:lnRef idx="0"/>
            <a:fillRef idx="0"/>
            <a:effectRef idx="0"/>
            <a:fontRef idx="minor"/>
          </p:style>
          <p:txBody>
            <a:bodyPr numCol="1" spcCol="0" lIns="45720" rIns="45720" tIns="26640" bIns="26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0" name="Shape 3584"/>
            <p:cNvSpPr/>
            <p:nvPr/>
          </p:nvSpPr>
          <p:spPr>
            <a:xfrm>
              <a:off x="15515640" y="3491280"/>
              <a:ext cx="32760" cy="48600"/>
            </a:xfrm>
            <a:custGeom>
              <a:avLst/>
              <a:gdLst>
                <a:gd name="textAreaLeft" fmla="*/ 0 w 32760"/>
                <a:gd name="textAreaRight" fmla="*/ 33120 w 32760"/>
                <a:gd name="textAreaTop" fmla="*/ 0 h 48600"/>
                <a:gd name="textAreaBottom" fmla="*/ 48960 h 48600"/>
              </a:gdLst>
              <a:ahLst/>
              <a:rect l="textAreaLeft" t="textAreaTop" r="textAreaRight" b="textAreaBottom"/>
              <a:pathLst>
                <a:path w="19805" h="19817">
                  <a:moveTo>
                    <a:pt x="592" y="10610"/>
                  </a:moveTo>
                  <a:cubicBezTo>
                    <a:pt x="1633" y="9725"/>
                    <a:pt x="3194" y="10079"/>
                    <a:pt x="3975" y="10965"/>
                  </a:cubicBezTo>
                  <a:cubicBezTo>
                    <a:pt x="4496" y="11673"/>
                    <a:pt x="4496" y="12381"/>
                    <a:pt x="4496" y="13443"/>
                  </a:cubicBezTo>
                  <a:cubicBezTo>
                    <a:pt x="4496" y="14328"/>
                    <a:pt x="3975" y="15037"/>
                    <a:pt x="3194" y="15745"/>
                  </a:cubicBezTo>
                  <a:cubicBezTo>
                    <a:pt x="2674" y="16453"/>
                    <a:pt x="1633" y="17161"/>
                    <a:pt x="2153" y="17869"/>
                  </a:cubicBezTo>
                  <a:cubicBezTo>
                    <a:pt x="2674" y="18401"/>
                    <a:pt x="3194" y="18755"/>
                    <a:pt x="3975" y="19109"/>
                  </a:cubicBezTo>
                  <a:cubicBezTo>
                    <a:pt x="5016" y="19463"/>
                    <a:pt x="5537" y="19817"/>
                    <a:pt x="6577" y="19817"/>
                  </a:cubicBezTo>
                  <a:cubicBezTo>
                    <a:pt x="8139" y="19817"/>
                    <a:pt x="9961" y="19463"/>
                    <a:pt x="10481" y="18401"/>
                  </a:cubicBezTo>
                  <a:cubicBezTo>
                    <a:pt x="11522" y="17515"/>
                    <a:pt x="12043" y="16453"/>
                    <a:pt x="12563" y="15391"/>
                  </a:cubicBezTo>
                  <a:cubicBezTo>
                    <a:pt x="13083" y="14683"/>
                    <a:pt x="13083" y="13797"/>
                    <a:pt x="13604" y="13089"/>
                  </a:cubicBezTo>
                  <a:cubicBezTo>
                    <a:pt x="13083" y="13089"/>
                    <a:pt x="12043" y="13089"/>
                    <a:pt x="11522" y="12735"/>
                  </a:cubicBezTo>
                  <a:cubicBezTo>
                    <a:pt x="12563" y="11319"/>
                    <a:pt x="14124" y="9725"/>
                    <a:pt x="16987" y="9017"/>
                  </a:cubicBezTo>
                  <a:cubicBezTo>
                    <a:pt x="18028" y="8663"/>
                    <a:pt x="19069" y="8309"/>
                    <a:pt x="19590" y="7955"/>
                  </a:cubicBezTo>
                  <a:cubicBezTo>
                    <a:pt x="20110" y="7247"/>
                    <a:pt x="19590" y="6361"/>
                    <a:pt x="19069" y="5653"/>
                  </a:cubicBezTo>
                  <a:cubicBezTo>
                    <a:pt x="18549" y="4945"/>
                    <a:pt x="17508" y="4591"/>
                    <a:pt x="16467" y="4237"/>
                  </a:cubicBezTo>
                  <a:cubicBezTo>
                    <a:pt x="12563" y="2289"/>
                    <a:pt x="6577" y="-1783"/>
                    <a:pt x="2153" y="873"/>
                  </a:cubicBezTo>
                  <a:cubicBezTo>
                    <a:pt x="-1490" y="2643"/>
                    <a:pt x="592" y="7955"/>
                    <a:pt x="592" y="10610"/>
                  </a:cubicBezTo>
                </a:path>
              </a:pathLst>
            </a:custGeom>
            <a:solidFill>
              <a:srgbClr val="929292"/>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1" name="Shape 3585"/>
            <p:cNvSpPr/>
            <p:nvPr/>
          </p:nvSpPr>
          <p:spPr>
            <a:xfrm>
              <a:off x="15806160" y="3584880"/>
              <a:ext cx="24480" cy="25200"/>
            </a:xfrm>
            <a:custGeom>
              <a:avLst/>
              <a:gdLst>
                <a:gd name="textAreaLeft" fmla="*/ 0 w 24480"/>
                <a:gd name="textAreaRight" fmla="*/ 24840 w 24480"/>
                <a:gd name="textAreaTop" fmla="*/ 0 h 25200"/>
                <a:gd name="textAreaBottom" fmla="*/ 25560 h 25200"/>
              </a:gdLst>
              <a:ahLst/>
              <a:rect l="textAreaLeft" t="textAreaTop" r="textAreaRight" b="textAreaBottom"/>
              <a:pathLst>
                <a:path w="20187" h="21002">
                  <a:moveTo>
                    <a:pt x="3119" y="0"/>
                  </a:moveTo>
                  <a:cubicBezTo>
                    <a:pt x="922" y="3600"/>
                    <a:pt x="-542" y="9000"/>
                    <a:pt x="190" y="13680"/>
                  </a:cubicBezTo>
                  <a:cubicBezTo>
                    <a:pt x="190" y="14400"/>
                    <a:pt x="190" y="15120"/>
                    <a:pt x="922" y="15120"/>
                  </a:cubicBezTo>
                  <a:cubicBezTo>
                    <a:pt x="2387" y="15840"/>
                    <a:pt x="3851" y="15120"/>
                    <a:pt x="5682" y="15840"/>
                  </a:cubicBezTo>
                  <a:cubicBezTo>
                    <a:pt x="6414" y="16560"/>
                    <a:pt x="7146" y="17280"/>
                    <a:pt x="7878" y="18720"/>
                  </a:cubicBezTo>
                  <a:cubicBezTo>
                    <a:pt x="9343" y="21240"/>
                    <a:pt x="13370" y="21600"/>
                    <a:pt x="15566" y="20160"/>
                  </a:cubicBezTo>
                  <a:cubicBezTo>
                    <a:pt x="17763" y="18360"/>
                    <a:pt x="18495" y="15120"/>
                    <a:pt x="17031" y="12600"/>
                  </a:cubicBezTo>
                  <a:cubicBezTo>
                    <a:pt x="17031" y="11880"/>
                    <a:pt x="16299" y="11880"/>
                    <a:pt x="16299" y="11160"/>
                  </a:cubicBezTo>
                  <a:cubicBezTo>
                    <a:pt x="16299" y="9720"/>
                    <a:pt x="17031" y="8280"/>
                    <a:pt x="18495" y="7560"/>
                  </a:cubicBezTo>
                  <a:cubicBezTo>
                    <a:pt x="19960" y="6840"/>
                    <a:pt x="21058" y="4320"/>
                    <a:pt x="19227" y="3600"/>
                  </a:cubicBezTo>
                  <a:cubicBezTo>
                    <a:pt x="15566" y="1440"/>
                    <a:pt x="10807" y="720"/>
                    <a:pt x="7146" y="720"/>
                  </a:cubicBezTo>
                  <a:cubicBezTo>
                    <a:pt x="5682" y="720"/>
                    <a:pt x="3851" y="1440"/>
                    <a:pt x="3851" y="2880"/>
                  </a:cubicBezTo>
                  <a:lnTo>
                    <a:pt x="3119" y="0"/>
                  </a:lnTo>
                </a:path>
              </a:pathLst>
            </a:custGeom>
            <a:solidFill>
              <a:srgbClr val="929292"/>
            </a:solidFill>
            <a:ln w="12700">
              <a:noFill/>
            </a:ln>
          </p:spPr>
          <p:style>
            <a:lnRef idx="0"/>
            <a:fillRef idx="0"/>
            <a:effectRef idx="0"/>
            <a:fontRef idx="minor"/>
          </p:style>
          <p:txBody>
            <a:bodyPr numCol="1" spcCol="0" lIns="45720" rIns="45720" tIns="12600" bIns="12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2" name="Shape 3586"/>
            <p:cNvSpPr/>
            <p:nvPr/>
          </p:nvSpPr>
          <p:spPr>
            <a:xfrm>
              <a:off x="15338160" y="3291120"/>
              <a:ext cx="182880" cy="169920"/>
            </a:xfrm>
            <a:custGeom>
              <a:avLst/>
              <a:gdLst>
                <a:gd name="textAreaLeft" fmla="*/ 0 w 182880"/>
                <a:gd name="textAreaRight" fmla="*/ 183240 w 182880"/>
                <a:gd name="textAreaTop" fmla="*/ 0 h 169920"/>
                <a:gd name="textAreaBottom" fmla="*/ 170280 h 169920"/>
              </a:gdLst>
              <a:ahLst/>
              <a:rect l="textAreaLeft" t="textAreaTop" r="textAreaRight" b="textAreaBottom"/>
              <a:pathLst>
                <a:path w="21512" h="21334">
                  <a:moveTo>
                    <a:pt x="3020" y="6971"/>
                  </a:moveTo>
                  <a:cubicBezTo>
                    <a:pt x="2815" y="7683"/>
                    <a:pt x="3634" y="8231"/>
                    <a:pt x="3532" y="9054"/>
                  </a:cubicBezTo>
                  <a:cubicBezTo>
                    <a:pt x="3532" y="9492"/>
                    <a:pt x="3225" y="9766"/>
                    <a:pt x="3020" y="10095"/>
                  </a:cubicBezTo>
                  <a:cubicBezTo>
                    <a:pt x="2355" y="11137"/>
                    <a:pt x="2355" y="12617"/>
                    <a:pt x="3020" y="13659"/>
                  </a:cubicBezTo>
                  <a:cubicBezTo>
                    <a:pt x="2662" y="13988"/>
                    <a:pt x="2150" y="13988"/>
                    <a:pt x="1740" y="14207"/>
                  </a:cubicBezTo>
                  <a:cubicBezTo>
                    <a:pt x="665" y="14591"/>
                    <a:pt x="0" y="15742"/>
                    <a:pt x="0" y="17003"/>
                  </a:cubicBezTo>
                  <a:cubicBezTo>
                    <a:pt x="205" y="17003"/>
                    <a:pt x="512" y="17113"/>
                    <a:pt x="768" y="17113"/>
                  </a:cubicBezTo>
                  <a:cubicBezTo>
                    <a:pt x="665" y="17442"/>
                    <a:pt x="870" y="17771"/>
                    <a:pt x="1280" y="17880"/>
                  </a:cubicBezTo>
                  <a:cubicBezTo>
                    <a:pt x="1587" y="18045"/>
                    <a:pt x="1945" y="17771"/>
                    <a:pt x="2252" y="17551"/>
                  </a:cubicBezTo>
                  <a:cubicBezTo>
                    <a:pt x="2662" y="17332"/>
                    <a:pt x="3071" y="17003"/>
                    <a:pt x="3532" y="16893"/>
                  </a:cubicBezTo>
                  <a:cubicBezTo>
                    <a:pt x="3941" y="16729"/>
                    <a:pt x="4607" y="16893"/>
                    <a:pt x="4811" y="17332"/>
                  </a:cubicBezTo>
                  <a:cubicBezTo>
                    <a:pt x="5170" y="17771"/>
                    <a:pt x="4811" y="18483"/>
                    <a:pt x="4402" y="18483"/>
                  </a:cubicBezTo>
                  <a:cubicBezTo>
                    <a:pt x="4607" y="18703"/>
                    <a:pt x="4811" y="18922"/>
                    <a:pt x="5067" y="19196"/>
                  </a:cubicBezTo>
                  <a:cubicBezTo>
                    <a:pt x="4607" y="19196"/>
                    <a:pt x="4402" y="19689"/>
                    <a:pt x="4504" y="20183"/>
                  </a:cubicBezTo>
                  <a:cubicBezTo>
                    <a:pt x="4607" y="20621"/>
                    <a:pt x="4914" y="20895"/>
                    <a:pt x="5272" y="21224"/>
                  </a:cubicBezTo>
                  <a:cubicBezTo>
                    <a:pt x="5374" y="21334"/>
                    <a:pt x="5477" y="21334"/>
                    <a:pt x="5477" y="21334"/>
                  </a:cubicBezTo>
                  <a:cubicBezTo>
                    <a:pt x="5579" y="21334"/>
                    <a:pt x="5784" y="21334"/>
                    <a:pt x="5886" y="21224"/>
                  </a:cubicBezTo>
                  <a:cubicBezTo>
                    <a:pt x="6347" y="21005"/>
                    <a:pt x="6705" y="20786"/>
                    <a:pt x="7064" y="20457"/>
                  </a:cubicBezTo>
                  <a:cubicBezTo>
                    <a:pt x="7371" y="20073"/>
                    <a:pt x="7422" y="19415"/>
                    <a:pt x="7064" y="19031"/>
                  </a:cubicBezTo>
                  <a:cubicBezTo>
                    <a:pt x="7831" y="19196"/>
                    <a:pt x="8701" y="18812"/>
                    <a:pt x="9367" y="18264"/>
                  </a:cubicBezTo>
                  <a:cubicBezTo>
                    <a:pt x="9469" y="18154"/>
                    <a:pt x="9572" y="18045"/>
                    <a:pt x="9572" y="17880"/>
                  </a:cubicBezTo>
                  <a:cubicBezTo>
                    <a:pt x="9572" y="17661"/>
                    <a:pt x="9213" y="17551"/>
                    <a:pt x="9009" y="17442"/>
                  </a:cubicBezTo>
                  <a:cubicBezTo>
                    <a:pt x="8497" y="17003"/>
                    <a:pt x="9009" y="16181"/>
                    <a:pt x="9674" y="15852"/>
                  </a:cubicBezTo>
                  <a:cubicBezTo>
                    <a:pt x="10288" y="15468"/>
                    <a:pt x="10954" y="15249"/>
                    <a:pt x="11056" y="14591"/>
                  </a:cubicBezTo>
                  <a:cubicBezTo>
                    <a:pt x="10749" y="13988"/>
                    <a:pt x="11158" y="13165"/>
                    <a:pt x="11824" y="13056"/>
                  </a:cubicBezTo>
                  <a:cubicBezTo>
                    <a:pt x="12438" y="12946"/>
                    <a:pt x="13001" y="13659"/>
                    <a:pt x="12899" y="14317"/>
                  </a:cubicBezTo>
                  <a:cubicBezTo>
                    <a:pt x="14076" y="14700"/>
                    <a:pt x="15048" y="15961"/>
                    <a:pt x="15048" y="17222"/>
                  </a:cubicBezTo>
                  <a:cubicBezTo>
                    <a:pt x="15560" y="17222"/>
                    <a:pt x="16226" y="17222"/>
                    <a:pt x="16737" y="17332"/>
                  </a:cubicBezTo>
                  <a:cubicBezTo>
                    <a:pt x="16737" y="17880"/>
                    <a:pt x="17147" y="18374"/>
                    <a:pt x="17710" y="18483"/>
                  </a:cubicBezTo>
                  <a:cubicBezTo>
                    <a:pt x="18222" y="18593"/>
                    <a:pt x="18785" y="18374"/>
                    <a:pt x="19092" y="17880"/>
                  </a:cubicBezTo>
                  <a:cubicBezTo>
                    <a:pt x="19245" y="17661"/>
                    <a:pt x="19348" y="17442"/>
                    <a:pt x="19553" y="17222"/>
                  </a:cubicBezTo>
                  <a:cubicBezTo>
                    <a:pt x="19860" y="16893"/>
                    <a:pt x="20269" y="16729"/>
                    <a:pt x="20730" y="16619"/>
                  </a:cubicBezTo>
                  <a:cubicBezTo>
                    <a:pt x="21139" y="16510"/>
                    <a:pt x="21600" y="16181"/>
                    <a:pt x="21498" y="15742"/>
                  </a:cubicBezTo>
                  <a:cubicBezTo>
                    <a:pt x="21139" y="15578"/>
                    <a:pt x="20832" y="15578"/>
                    <a:pt x="20525" y="15468"/>
                  </a:cubicBezTo>
                  <a:cubicBezTo>
                    <a:pt x="20627" y="14591"/>
                    <a:pt x="19860" y="13549"/>
                    <a:pt x="18990" y="13549"/>
                  </a:cubicBezTo>
                  <a:cubicBezTo>
                    <a:pt x="18478" y="13549"/>
                    <a:pt x="17915" y="13769"/>
                    <a:pt x="17505" y="13440"/>
                  </a:cubicBezTo>
                  <a:cubicBezTo>
                    <a:pt x="17096" y="13056"/>
                    <a:pt x="17198" y="12343"/>
                    <a:pt x="17300" y="11905"/>
                  </a:cubicBezTo>
                  <a:cubicBezTo>
                    <a:pt x="17403" y="11411"/>
                    <a:pt x="17300" y="10644"/>
                    <a:pt x="16840" y="10424"/>
                  </a:cubicBezTo>
                  <a:cubicBezTo>
                    <a:pt x="16737" y="10315"/>
                    <a:pt x="16533" y="10315"/>
                    <a:pt x="16430" y="10315"/>
                  </a:cubicBezTo>
                  <a:cubicBezTo>
                    <a:pt x="15867" y="10095"/>
                    <a:pt x="15663" y="9383"/>
                    <a:pt x="15560" y="8835"/>
                  </a:cubicBezTo>
                  <a:cubicBezTo>
                    <a:pt x="14946" y="8341"/>
                    <a:pt x="14178" y="8341"/>
                    <a:pt x="13410" y="8725"/>
                  </a:cubicBezTo>
                  <a:cubicBezTo>
                    <a:pt x="13103" y="8012"/>
                    <a:pt x="12540" y="7299"/>
                    <a:pt x="12028" y="6971"/>
                  </a:cubicBezTo>
                  <a:cubicBezTo>
                    <a:pt x="11824" y="6861"/>
                    <a:pt x="11721" y="6751"/>
                    <a:pt x="11619" y="6532"/>
                  </a:cubicBezTo>
                  <a:cubicBezTo>
                    <a:pt x="11465" y="6313"/>
                    <a:pt x="11465" y="6039"/>
                    <a:pt x="11465" y="5710"/>
                  </a:cubicBezTo>
                  <a:cubicBezTo>
                    <a:pt x="11363" y="5161"/>
                    <a:pt x="11056" y="4558"/>
                    <a:pt x="10544" y="4339"/>
                  </a:cubicBezTo>
                  <a:cubicBezTo>
                    <a:pt x="9981" y="4558"/>
                    <a:pt x="9367" y="4449"/>
                    <a:pt x="8906" y="4010"/>
                  </a:cubicBezTo>
                  <a:cubicBezTo>
                    <a:pt x="8497" y="3517"/>
                    <a:pt x="8394" y="2859"/>
                    <a:pt x="8599" y="2256"/>
                  </a:cubicBezTo>
                  <a:cubicBezTo>
                    <a:pt x="7627" y="1927"/>
                    <a:pt x="7729" y="447"/>
                    <a:pt x="6859" y="63"/>
                  </a:cubicBezTo>
                  <a:cubicBezTo>
                    <a:pt x="5989" y="-266"/>
                    <a:pt x="5374" y="776"/>
                    <a:pt x="4914" y="1433"/>
                  </a:cubicBezTo>
                  <a:cubicBezTo>
                    <a:pt x="4402" y="2365"/>
                    <a:pt x="4300" y="3517"/>
                    <a:pt x="3736" y="4449"/>
                  </a:cubicBezTo>
                  <a:cubicBezTo>
                    <a:pt x="3429" y="5161"/>
                    <a:pt x="3429" y="4778"/>
                    <a:pt x="3429" y="5490"/>
                  </a:cubicBezTo>
                  <a:cubicBezTo>
                    <a:pt x="3122" y="6313"/>
                    <a:pt x="3225" y="6313"/>
                    <a:pt x="3020" y="6971"/>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3" name="Shape 3587"/>
            <p:cNvSpPr/>
            <p:nvPr/>
          </p:nvSpPr>
          <p:spPr>
            <a:xfrm>
              <a:off x="15415560" y="3459600"/>
              <a:ext cx="63360" cy="50040"/>
            </a:xfrm>
            <a:custGeom>
              <a:avLst/>
              <a:gdLst>
                <a:gd name="textAreaLeft" fmla="*/ 0 w 63360"/>
                <a:gd name="textAreaRight" fmla="*/ 63720 w 63360"/>
                <a:gd name="textAreaTop" fmla="*/ 0 h 50040"/>
                <a:gd name="textAreaBottom" fmla="*/ 50400 h 50040"/>
              </a:gdLst>
              <a:ahLst/>
              <a:rect l="textAreaLeft" t="textAreaTop" r="textAreaRight" b="textAreaBottom"/>
              <a:pathLst>
                <a:path w="21256" h="19717">
                  <a:moveTo>
                    <a:pt x="4236" y="6515"/>
                  </a:moveTo>
                  <a:cubicBezTo>
                    <a:pt x="4236" y="6858"/>
                    <a:pt x="3795" y="7200"/>
                    <a:pt x="3501" y="7200"/>
                  </a:cubicBezTo>
                  <a:cubicBezTo>
                    <a:pt x="3208" y="7200"/>
                    <a:pt x="3208" y="7200"/>
                    <a:pt x="2914" y="7200"/>
                  </a:cubicBezTo>
                  <a:cubicBezTo>
                    <a:pt x="1738" y="7200"/>
                    <a:pt x="1150" y="8743"/>
                    <a:pt x="416" y="9772"/>
                  </a:cubicBezTo>
                  <a:cubicBezTo>
                    <a:pt x="122" y="10458"/>
                    <a:pt x="-172" y="11143"/>
                    <a:pt x="122" y="12343"/>
                  </a:cubicBezTo>
                  <a:cubicBezTo>
                    <a:pt x="122" y="13029"/>
                    <a:pt x="416" y="13200"/>
                    <a:pt x="857" y="14058"/>
                  </a:cubicBezTo>
                  <a:cubicBezTo>
                    <a:pt x="1444" y="15258"/>
                    <a:pt x="2032" y="17315"/>
                    <a:pt x="3208" y="18343"/>
                  </a:cubicBezTo>
                  <a:cubicBezTo>
                    <a:pt x="5118" y="20229"/>
                    <a:pt x="8497" y="20229"/>
                    <a:pt x="9673" y="18000"/>
                  </a:cubicBezTo>
                  <a:cubicBezTo>
                    <a:pt x="10701" y="16629"/>
                    <a:pt x="10995" y="14058"/>
                    <a:pt x="12465" y="13372"/>
                  </a:cubicBezTo>
                  <a:cubicBezTo>
                    <a:pt x="12759" y="13372"/>
                    <a:pt x="13493" y="13372"/>
                    <a:pt x="13787" y="13372"/>
                  </a:cubicBezTo>
                  <a:cubicBezTo>
                    <a:pt x="15257" y="13372"/>
                    <a:pt x="16138" y="12000"/>
                    <a:pt x="17461" y="10458"/>
                  </a:cubicBezTo>
                  <a:cubicBezTo>
                    <a:pt x="18636" y="9086"/>
                    <a:pt x="19518" y="7200"/>
                    <a:pt x="20840" y="5829"/>
                  </a:cubicBezTo>
                  <a:cubicBezTo>
                    <a:pt x="21134" y="5486"/>
                    <a:pt x="21428" y="4800"/>
                    <a:pt x="21134" y="4286"/>
                  </a:cubicBezTo>
                  <a:cubicBezTo>
                    <a:pt x="20840" y="4800"/>
                    <a:pt x="20252" y="4286"/>
                    <a:pt x="20252" y="3943"/>
                  </a:cubicBezTo>
                  <a:cubicBezTo>
                    <a:pt x="20252" y="3600"/>
                    <a:pt x="20252" y="2915"/>
                    <a:pt x="20546" y="2572"/>
                  </a:cubicBezTo>
                  <a:cubicBezTo>
                    <a:pt x="20840" y="2229"/>
                    <a:pt x="21134" y="1886"/>
                    <a:pt x="20840" y="1200"/>
                  </a:cubicBezTo>
                  <a:cubicBezTo>
                    <a:pt x="20840" y="343"/>
                    <a:pt x="20252" y="0"/>
                    <a:pt x="19518" y="0"/>
                  </a:cubicBezTo>
                  <a:cubicBezTo>
                    <a:pt x="18930" y="0"/>
                    <a:pt x="18342" y="0"/>
                    <a:pt x="18048" y="343"/>
                  </a:cubicBezTo>
                  <a:cubicBezTo>
                    <a:pt x="16873" y="686"/>
                    <a:pt x="15550" y="1543"/>
                    <a:pt x="14375" y="1886"/>
                  </a:cubicBezTo>
                  <a:cubicBezTo>
                    <a:pt x="10408" y="4286"/>
                    <a:pt x="6587" y="-1371"/>
                    <a:pt x="4236" y="6515"/>
                  </a:cubicBezTo>
                </a:path>
              </a:pathLst>
            </a:custGeom>
            <a:solidFill>
              <a:srgbClr val="929292"/>
            </a:solidFill>
            <a:ln w="12700">
              <a:noFill/>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4" name="Shape 3588"/>
            <p:cNvSpPr/>
            <p:nvPr/>
          </p:nvSpPr>
          <p:spPr>
            <a:xfrm>
              <a:off x="15586920" y="3141000"/>
              <a:ext cx="61920" cy="70200"/>
            </a:xfrm>
            <a:custGeom>
              <a:avLst/>
              <a:gdLst>
                <a:gd name="textAreaLeft" fmla="*/ 0 w 61920"/>
                <a:gd name="textAreaRight" fmla="*/ 62280 w 61920"/>
                <a:gd name="textAreaTop" fmla="*/ 0 h 70200"/>
                <a:gd name="textAreaBottom" fmla="*/ 70560 h 70200"/>
              </a:gdLst>
              <a:ahLst/>
              <a:rect l="textAreaLeft" t="textAreaTop" r="textAreaRight" b="textAreaBottom"/>
              <a:pathLst>
                <a:path w="21360" h="21013">
                  <a:moveTo>
                    <a:pt x="3210" y="16589"/>
                  </a:moveTo>
                  <a:cubicBezTo>
                    <a:pt x="4110" y="17109"/>
                    <a:pt x="4410" y="18280"/>
                    <a:pt x="4110" y="19061"/>
                  </a:cubicBezTo>
                  <a:cubicBezTo>
                    <a:pt x="5610" y="19582"/>
                    <a:pt x="7260" y="19842"/>
                    <a:pt x="8760" y="20362"/>
                  </a:cubicBezTo>
                  <a:cubicBezTo>
                    <a:pt x="9510" y="20753"/>
                    <a:pt x="10410" y="21013"/>
                    <a:pt x="11010" y="21013"/>
                  </a:cubicBezTo>
                  <a:cubicBezTo>
                    <a:pt x="11910" y="21013"/>
                    <a:pt x="13260" y="20753"/>
                    <a:pt x="13860" y="19842"/>
                  </a:cubicBezTo>
                  <a:cubicBezTo>
                    <a:pt x="14160" y="19582"/>
                    <a:pt x="14160" y="19321"/>
                    <a:pt x="14160" y="19061"/>
                  </a:cubicBezTo>
                  <a:cubicBezTo>
                    <a:pt x="14160" y="18801"/>
                    <a:pt x="13860" y="18801"/>
                    <a:pt x="13860" y="18541"/>
                  </a:cubicBezTo>
                  <a:cubicBezTo>
                    <a:pt x="13560" y="18020"/>
                    <a:pt x="13560" y="17370"/>
                    <a:pt x="14160" y="16849"/>
                  </a:cubicBezTo>
                  <a:cubicBezTo>
                    <a:pt x="14760" y="16589"/>
                    <a:pt x="15360" y="16589"/>
                    <a:pt x="16110" y="16589"/>
                  </a:cubicBezTo>
                  <a:cubicBezTo>
                    <a:pt x="16710" y="16589"/>
                    <a:pt x="17310" y="16589"/>
                    <a:pt x="17610" y="16329"/>
                  </a:cubicBezTo>
                  <a:cubicBezTo>
                    <a:pt x="18510" y="15548"/>
                    <a:pt x="17010" y="14117"/>
                    <a:pt x="17310" y="13336"/>
                  </a:cubicBezTo>
                  <a:cubicBezTo>
                    <a:pt x="17610" y="12815"/>
                    <a:pt x="18510" y="12555"/>
                    <a:pt x="19260" y="12295"/>
                  </a:cubicBezTo>
                  <a:cubicBezTo>
                    <a:pt x="19860" y="11905"/>
                    <a:pt x="20460" y="11124"/>
                    <a:pt x="20160" y="10603"/>
                  </a:cubicBezTo>
                  <a:cubicBezTo>
                    <a:pt x="19860" y="10343"/>
                    <a:pt x="19860" y="10343"/>
                    <a:pt x="19560" y="10343"/>
                  </a:cubicBezTo>
                  <a:cubicBezTo>
                    <a:pt x="18510" y="9823"/>
                    <a:pt x="19260" y="8652"/>
                    <a:pt x="19560" y="7871"/>
                  </a:cubicBezTo>
                  <a:cubicBezTo>
                    <a:pt x="20160" y="6830"/>
                    <a:pt x="20760" y="5919"/>
                    <a:pt x="21360" y="4878"/>
                  </a:cubicBezTo>
                  <a:cubicBezTo>
                    <a:pt x="19860" y="4878"/>
                    <a:pt x="20460" y="2926"/>
                    <a:pt x="19860" y="2146"/>
                  </a:cubicBezTo>
                  <a:cubicBezTo>
                    <a:pt x="18510" y="714"/>
                    <a:pt x="18210" y="1105"/>
                    <a:pt x="16410" y="714"/>
                  </a:cubicBezTo>
                  <a:cubicBezTo>
                    <a:pt x="13860" y="454"/>
                    <a:pt x="10410" y="-587"/>
                    <a:pt x="7860" y="454"/>
                  </a:cubicBezTo>
                  <a:cubicBezTo>
                    <a:pt x="3810" y="2406"/>
                    <a:pt x="3810" y="8391"/>
                    <a:pt x="660" y="11384"/>
                  </a:cubicBezTo>
                  <a:cubicBezTo>
                    <a:pt x="960" y="11384"/>
                    <a:pt x="960" y="11384"/>
                    <a:pt x="1260" y="11644"/>
                  </a:cubicBezTo>
                  <a:cubicBezTo>
                    <a:pt x="660" y="13336"/>
                    <a:pt x="-240" y="14637"/>
                    <a:pt x="60" y="16329"/>
                  </a:cubicBezTo>
                  <a:cubicBezTo>
                    <a:pt x="1260" y="16068"/>
                    <a:pt x="2160" y="16068"/>
                    <a:pt x="3210" y="16589"/>
                  </a:cubicBezTo>
                </a:path>
              </a:pathLst>
            </a:custGeom>
            <a:solidFill>
              <a:srgbClr val="929292"/>
            </a:solidFill>
            <a:ln w="12700">
              <a:noFill/>
            </a:ln>
          </p:spPr>
          <p:style>
            <a:lnRef idx="0"/>
            <a:fillRef idx="0"/>
            <a:effectRef idx="0"/>
            <a:fontRef idx="minor"/>
          </p:style>
          <p:txBody>
            <a:bodyPr numCol="1" spcCol="0" lIns="45720" rIns="45720" tIns="35280" bIns="35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5" name="Shape 3589"/>
            <p:cNvSpPr/>
            <p:nvPr/>
          </p:nvSpPr>
          <p:spPr>
            <a:xfrm>
              <a:off x="15541200" y="3049920"/>
              <a:ext cx="21960" cy="56160"/>
            </a:xfrm>
            <a:custGeom>
              <a:avLst/>
              <a:gdLst>
                <a:gd name="textAreaLeft" fmla="*/ 0 w 21960"/>
                <a:gd name="textAreaRight" fmla="*/ 22320 w 21960"/>
                <a:gd name="textAreaTop" fmla="*/ 0 h 56160"/>
                <a:gd name="textAreaBottom" fmla="*/ 56520 h 56160"/>
              </a:gdLst>
              <a:ahLst/>
              <a:rect l="textAreaLeft" t="textAreaTop" r="textAreaRight" b="textAreaBottom"/>
              <a:pathLst>
                <a:path w="18239" h="20596">
                  <a:moveTo>
                    <a:pt x="534" y="13279"/>
                  </a:moveTo>
                  <a:cubicBezTo>
                    <a:pt x="1242" y="14399"/>
                    <a:pt x="3367" y="15039"/>
                    <a:pt x="4075" y="16319"/>
                  </a:cubicBezTo>
                  <a:cubicBezTo>
                    <a:pt x="5491" y="17759"/>
                    <a:pt x="4075" y="19679"/>
                    <a:pt x="1242" y="20319"/>
                  </a:cubicBezTo>
                  <a:cubicBezTo>
                    <a:pt x="2658" y="21119"/>
                    <a:pt x="5491" y="19999"/>
                    <a:pt x="7262" y="19359"/>
                  </a:cubicBezTo>
                  <a:cubicBezTo>
                    <a:pt x="10095" y="17759"/>
                    <a:pt x="12927" y="15679"/>
                    <a:pt x="13636" y="13279"/>
                  </a:cubicBezTo>
                  <a:cubicBezTo>
                    <a:pt x="14698" y="12319"/>
                    <a:pt x="14698" y="11199"/>
                    <a:pt x="15406" y="10559"/>
                  </a:cubicBezTo>
                  <a:cubicBezTo>
                    <a:pt x="16114" y="9759"/>
                    <a:pt x="16822" y="9599"/>
                    <a:pt x="17531" y="8959"/>
                  </a:cubicBezTo>
                  <a:cubicBezTo>
                    <a:pt x="18947" y="7999"/>
                    <a:pt x="17531" y="6559"/>
                    <a:pt x="17531" y="5279"/>
                  </a:cubicBezTo>
                  <a:cubicBezTo>
                    <a:pt x="17531" y="4319"/>
                    <a:pt x="18239" y="2879"/>
                    <a:pt x="18239" y="1919"/>
                  </a:cubicBezTo>
                  <a:cubicBezTo>
                    <a:pt x="18239" y="959"/>
                    <a:pt x="15406" y="-481"/>
                    <a:pt x="12927" y="159"/>
                  </a:cubicBezTo>
                  <a:cubicBezTo>
                    <a:pt x="11511" y="639"/>
                    <a:pt x="11511" y="1279"/>
                    <a:pt x="11511" y="1919"/>
                  </a:cubicBezTo>
                  <a:cubicBezTo>
                    <a:pt x="9386" y="5599"/>
                    <a:pt x="-2653" y="9919"/>
                    <a:pt x="534" y="13279"/>
                  </a:cubicBezTo>
                </a:path>
              </a:pathLst>
            </a:custGeom>
            <a:solidFill>
              <a:srgbClr val="929292"/>
            </a:solidFill>
            <a:ln w="12700">
              <a:noFill/>
            </a:ln>
          </p:spPr>
          <p:style>
            <a:lnRef idx="0"/>
            <a:fillRef idx="0"/>
            <a:effectRef idx="0"/>
            <a:fontRef idx="minor"/>
          </p:style>
          <p:txBody>
            <a:bodyPr numCol="1" spcCol="0" lIns="45720" rIns="45720" tIns="28080" bIns="28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6" name="Shape 3590"/>
            <p:cNvSpPr/>
            <p:nvPr/>
          </p:nvSpPr>
          <p:spPr>
            <a:xfrm>
              <a:off x="15592680" y="3063600"/>
              <a:ext cx="22680" cy="43560"/>
            </a:xfrm>
            <a:custGeom>
              <a:avLst/>
              <a:gdLst>
                <a:gd name="textAreaLeft" fmla="*/ 0 w 22680"/>
                <a:gd name="textAreaRight" fmla="*/ 23040 w 22680"/>
                <a:gd name="textAreaTop" fmla="*/ 0 h 43560"/>
                <a:gd name="textAreaBottom" fmla="*/ 43920 h 43560"/>
              </a:gdLst>
              <a:ahLst/>
              <a:rect l="textAreaLeft" t="textAreaTop" r="textAreaRight" b="textAreaBottom"/>
              <a:pathLst>
                <a:path w="20331" h="20682">
                  <a:moveTo>
                    <a:pt x="13405" y="19101"/>
                  </a:moveTo>
                  <a:cubicBezTo>
                    <a:pt x="14191" y="19707"/>
                    <a:pt x="14976" y="20514"/>
                    <a:pt x="16547" y="20514"/>
                  </a:cubicBezTo>
                  <a:cubicBezTo>
                    <a:pt x="18118" y="20918"/>
                    <a:pt x="20082" y="20514"/>
                    <a:pt x="20082" y="20111"/>
                  </a:cubicBezTo>
                  <a:cubicBezTo>
                    <a:pt x="20867" y="19101"/>
                    <a:pt x="19689" y="18294"/>
                    <a:pt x="18118" y="17890"/>
                  </a:cubicBezTo>
                  <a:cubicBezTo>
                    <a:pt x="16154" y="17486"/>
                    <a:pt x="14976" y="17082"/>
                    <a:pt x="14191" y="16679"/>
                  </a:cubicBezTo>
                  <a:cubicBezTo>
                    <a:pt x="10656" y="14862"/>
                    <a:pt x="14191" y="11632"/>
                    <a:pt x="11834" y="9411"/>
                  </a:cubicBezTo>
                  <a:cubicBezTo>
                    <a:pt x="10656" y="9008"/>
                    <a:pt x="10656" y="8604"/>
                    <a:pt x="9871" y="8200"/>
                  </a:cubicBezTo>
                  <a:cubicBezTo>
                    <a:pt x="7514" y="4365"/>
                    <a:pt x="16547" y="3154"/>
                    <a:pt x="7514" y="933"/>
                  </a:cubicBezTo>
                  <a:cubicBezTo>
                    <a:pt x="1623" y="-682"/>
                    <a:pt x="838" y="-278"/>
                    <a:pt x="52" y="2750"/>
                  </a:cubicBezTo>
                  <a:cubicBezTo>
                    <a:pt x="-733" y="7797"/>
                    <a:pt x="7514" y="15468"/>
                    <a:pt x="13405" y="19101"/>
                  </a:cubicBezTo>
                </a:path>
              </a:pathLst>
            </a:custGeom>
            <a:solidFill>
              <a:srgbClr val="929292"/>
            </a:solidFill>
            <a:ln w="12700">
              <a:noFill/>
            </a:ln>
          </p:spPr>
          <p:style>
            <a:lnRef idx="0"/>
            <a:fillRef idx="0"/>
            <a:effectRef idx="0"/>
            <a:fontRef idx="minor"/>
          </p:style>
          <p:txBody>
            <a:bodyPr numCol="1" spcCol="0" lIns="45720" rIns="45720" tIns="21960" bIns="21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7" name="Shape 3591"/>
            <p:cNvSpPr/>
            <p:nvPr/>
          </p:nvSpPr>
          <p:spPr>
            <a:xfrm>
              <a:off x="15654600" y="3152520"/>
              <a:ext cx="32040" cy="29880"/>
            </a:xfrm>
            <a:custGeom>
              <a:avLst/>
              <a:gdLst>
                <a:gd name="textAreaLeft" fmla="*/ 0 w 32040"/>
                <a:gd name="textAreaRight" fmla="*/ 32400 w 32040"/>
                <a:gd name="textAreaTop" fmla="*/ 0 h 29880"/>
                <a:gd name="textAreaBottom" fmla="*/ 30240 h 29880"/>
              </a:gdLst>
              <a:ahLst/>
              <a:rect l="textAreaLeft" t="textAreaTop" r="textAreaRight" b="textAreaBottom"/>
              <a:pathLst>
                <a:path w="20495" h="20193">
                  <a:moveTo>
                    <a:pt x="919" y="11809"/>
                  </a:moveTo>
                  <a:cubicBezTo>
                    <a:pt x="919" y="12377"/>
                    <a:pt x="1480" y="13230"/>
                    <a:pt x="2041" y="13230"/>
                  </a:cubicBezTo>
                  <a:cubicBezTo>
                    <a:pt x="3163" y="13798"/>
                    <a:pt x="3724" y="13230"/>
                    <a:pt x="5127" y="13230"/>
                  </a:cubicBezTo>
                  <a:cubicBezTo>
                    <a:pt x="6249" y="13230"/>
                    <a:pt x="7932" y="13798"/>
                    <a:pt x="8493" y="14935"/>
                  </a:cubicBezTo>
                  <a:cubicBezTo>
                    <a:pt x="9615" y="15503"/>
                    <a:pt x="11018" y="16640"/>
                    <a:pt x="12140" y="17209"/>
                  </a:cubicBezTo>
                  <a:cubicBezTo>
                    <a:pt x="13262" y="17777"/>
                    <a:pt x="14945" y="19198"/>
                    <a:pt x="16067" y="19767"/>
                  </a:cubicBezTo>
                  <a:cubicBezTo>
                    <a:pt x="17470" y="20335"/>
                    <a:pt x="18031" y="20335"/>
                    <a:pt x="19153" y="19767"/>
                  </a:cubicBezTo>
                  <a:cubicBezTo>
                    <a:pt x="20275" y="19198"/>
                    <a:pt x="20836" y="17209"/>
                    <a:pt x="20275" y="15503"/>
                  </a:cubicBezTo>
                  <a:cubicBezTo>
                    <a:pt x="19714" y="14367"/>
                    <a:pt x="19153" y="12377"/>
                    <a:pt x="18592" y="11240"/>
                  </a:cubicBezTo>
                  <a:cubicBezTo>
                    <a:pt x="18031" y="10103"/>
                    <a:pt x="18031" y="7830"/>
                    <a:pt x="19714" y="7261"/>
                  </a:cubicBezTo>
                  <a:cubicBezTo>
                    <a:pt x="16628" y="6409"/>
                    <a:pt x="13823" y="4703"/>
                    <a:pt x="12701" y="2430"/>
                  </a:cubicBezTo>
                  <a:cubicBezTo>
                    <a:pt x="12140" y="1861"/>
                    <a:pt x="12140" y="1293"/>
                    <a:pt x="11579" y="724"/>
                  </a:cubicBezTo>
                  <a:cubicBezTo>
                    <a:pt x="9615" y="-1265"/>
                    <a:pt x="3163" y="1293"/>
                    <a:pt x="2041" y="2998"/>
                  </a:cubicBezTo>
                  <a:cubicBezTo>
                    <a:pt x="-764" y="5840"/>
                    <a:pt x="-203" y="8967"/>
                    <a:pt x="919" y="11809"/>
                  </a:cubicBezTo>
                </a:path>
              </a:pathLst>
            </a:custGeom>
            <a:solidFill>
              <a:srgbClr val="929292"/>
            </a:solidFill>
            <a:ln w="12700">
              <a:noFill/>
            </a:ln>
          </p:spPr>
          <p:style>
            <a:lnRef idx="0"/>
            <a:fillRef idx="0"/>
            <a:effectRef idx="0"/>
            <a:fontRef idx="minor"/>
          </p:style>
          <p:txBody>
            <a:bodyPr numCol="1" spcCol="0" lIns="45720" rIns="45720" tIns="15120" bIns="15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8" name="Shape 3592"/>
            <p:cNvSpPr/>
            <p:nvPr/>
          </p:nvSpPr>
          <p:spPr>
            <a:xfrm>
              <a:off x="15561360" y="3421440"/>
              <a:ext cx="27360" cy="35640"/>
            </a:xfrm>
            <a:custGeom>
              <a:avLst/>
              <a:gdLst>
                <a:gd name="textAreaLeft" fmla="*/ 0 w 27360"/>
                <a:gd name="textAreaRight" fmla="*/ 27720 w 27360"/>
                <a:gd name="textAreaTop" fmla="*/ 0 h 35640"/>
                <a:gd name="textAreaBottom" fmla="*/ 36000 h 35640"/>
              </a:gdLst>
              <a:ahLst/>
              <a:rect l="textAreaLeft" t="textAreaTop" r="textAreaRight" b="textAreaBottom"/>
              <a:pathLst>
                <a:path w="21095" h="21600">
                  <a:moveTo>
                    <a:pt x="2743" y="12117"/>
                  </a:moveTo>
                  <a:cubicBezTo>
                    <a:pt x="2743" y="12644"/>
                    <a:pt x="3429" y="13961"/>
                    <a:pt x="3429" y="14488"/>
                  </a:cubicBezTo>
                  <a:cubicBezTo>
                    <a:pt x="3429" y="15015"/>
                    <a:pt x="5829" y="15541"/>
                    <a:pt x="6514" y="15015"/>
                  </a:cubicBezTo>
                  <a:cubicBezTo>
                    <a:pt x="5829" y="16595"/>
                    <a:pt x="6514" y="18966"/>
                    <a:pt x="8571" y="20020"/>
                  </a:cubicBezTo>
                  <a:cubicBezTo>
                    <a:pt x="10629" y="21073"/>
                    <a:pt x="13029" y="21600"/>
                    <a:pt x="15771" y="21600"/>
                  </a:cubicBezTo>
                  <a:cubicBezTo>
                    <a:pt x="16457" y="21600"/>
                    <a:pt x="16457" y="21600"/>
                    <a:pt x="17143" y="21600"/>
                  </a:cubicBezTo>
                  <a:cubicBezTo>
                    <a:pt x="17829" y="21600"/>
                    <a:pt x="17829" y="21073"/>
                    <a:pt x="18514" y="20546"/>
                  </a:cubicBezTo>
                  <a:cubicBezTo>
                    <a:pt x="20229" y="18966"/>
                    <a:pt x="21600" y="17122"/>
                    <a:pt x="20914" y="15015"/>
                  </a:cubicBezTo>
                  <a:cubicBezTo>
                    <a:pt x="20229" y="12644"/>
                    <a:pt x="17829" y="11590"/>
                    <a:pt x="16457" y="10010"/>
                  </a:cubicBezTo>
                  <a:cubicBezTo>
                    <a:pt x="15086" y="7902"/>
                    <a:pt x="15771" y="5532"/>
                    <a:pt x="17143" y="3951"/>
                  </a:cubicBezTo>
                  <a:cubicBezTo>
                    <a:pt x="18514" y="2898"/>
                    <a:pt x="20914" y="1580"/>
                    <a:pt x="20229" y="0"/>
                  </a:cubicBezTo>
                  <a:cubicBezTo>
                    <a:pt x="17143" y="0"/>
                    <a:pt x="14400" y="0"/>
                    <a:pt x="11314" y="0"/>
                  </a:cubicBezTo>
                  <a:cubicBezTo>
                    <a:pt x="9943" y="0"/>
                    <a:pt x="9257" y="0"/>
                    <a:pt x="7886" y="527"/>
                  </a:cubicBezTo>
                  <a:cubicBezTo>
                    <a:pt x="4800" y="1580"/>
                    <a:pt x="3429" y="3951"/>
                    <a:pt x="0" y="3951"/>
                  </a:cubicBezTo>
                  <a:cubicBezTo>
                    <a:pt x="686" y="6585"/>
                    <a:pt x="2057" y="9483"/>
                    <a:pt x="2743" y="12117"/>
                  </a:cubicBezTo>
                </a:path>
              </a:pathLst>
            </a:custGeom>
            <a:solidFill>
              <a:srgbClr val="929292"/>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39" name="Shape 3593"/>
            <p:cNvSpPr/>
            <p:nvPr/>
          </p:nvSpPr>
          <p:spPr>
            <a:xfrm>
              <a:off x="15883200" y="3514680"/>
              <a:ext cx="17280" cy="32040"/>
            </a:xfrm>
            <a:custGeom>
              <a:avLst/>
              <a:gdLst>
                <a:gd name="textAreaLeft" fmla="*/ 0 w 17280"/>
                <a:gd name="textAreaRight" fmla="*/ 17640 w 17280"/>
                <a:gd name="textAreaTop" fmla="*/ 0 h 32040"/>
                <a:gd name="textAreaBottom" fmla="*/ 32400 h 32040"/>
              </a:gdLst>
              <a:ahLst/>
              <a:rect l="textAreaLeft" t="textAreaTop" r="textAreaRight" b="textAreaBottom"/>
              <a:pathLst>
                <a:path w="20420" h="20550">
                  <a:moveTo>
                    <a:pt x="877" y="10707"/>
                  </a:moveTo>
                  <a:cubicBezTo>
                    <a:pt x="1906" y="13407"/>
                    <a:pt x="4477" y="16107"/>
                    <a:pt x="8591" y="18537"/>
                  </a:cubicBezTo>
                  <a:cubicBezTo>
                    <a:pt x="10649" y="19617"/>
                    <a:pt x="14249" y="20967"/>
                    <a:pt x="16306" y="20427"/>
                  </a:cubicBezTo>
                  <a:cubicBezTo>
                    <a:pt x="19391" y="19887"/>
                    <a:pt x="20420" y="17457"/>
                    <a:pt x="20420" y="15297"/>
                  </a:cubicBezTo>
                  <a:cubicBezTo>
                    <a:pt x="20420" y="14217"/>
                    <a:pt x="20420" y="13407"/>
                    <a:pt x="18363" y="12867"/>
                  </a:cubicBezTo>
                  <a:cubicBezTo>
                    <a:pt x="17334" y="12327"/>
                    <a:pt x="16306" y="12327"/>
                    <a:pt x="15277" y="11787"/>
                  </a:cubicBezTo>
                  <a:cubicBezTo>
                    <a:pt x="11677" y="10707"/>
                    <a:pt x="12706" y="8547"/>
                    <a:pt x="14249" y="6657"/>
                  </a:cubicBezTo>
                  <a:cubicBezTo>
                    <a:pt x="15277" y="5037"/>
                    <a:pt x="17334" y="3417"/>
                    <a:pt x="18363" y="1527"/>
                  </a:cubicBezTo>
                  <a:cubicBezTo>
                    <a:pt x="18363" y="447"/>
                    <a:pt x="5506" y="-633"/>
                    <a:pt x="3449" y="447"/>
                  </a:cubicBezTo>
                  <a:cubicBezTo>
                    <a:pt x="-1180" y="2877"/>
                    <a:pt x="-151" y="8547"/>
                    <a:pt x="877" y="10707"/>
                  </a:cubicBezTo>
                </a:path>
              </a:pathLst>
            </a:custGeom>
            <a:solidFill>
              <a:srgbClr val="929292"/>
            </a:solidFill>
            <a:ln w="12700">
              <a:noFill/>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0" name="Shape 3594"/>
            <p:cNvSpPr/>
            <p:nvPr/>
          </p:nvSpPr>
          <p:spPr>
            <a:xfrm>
              <a:off x="15495840" y="2724120"/>
              <a:ext cx="128160" cy="85320"/>
            </a:xfrm>
            <a:custGeom>
              <a:avLst/>
              <a:gdLst>
                <a:gd name="textAreaLeft" fmla="*/ 0 w 128160"/>
                <a:gd name="textAreaRight" fmla="*/ 128520 w 128160"/>
                <a:gd name="textAreaTop" fmla="*/ 0 h 85320"/>
                <a:gd name="textAreaBottom" fmla="*/ 85680 h 85320"/>
              </a:gdLst>
              <a:ahLst/>
              <a:rect l="textAreaLeft" t="textAreaTop" r="textAreaRight" b="textAreaBottom"/>
              <a:pathLst>
                <a:path w="21600" h="19736">
                  <a:moveTo>
                    <a:pt x="0" y="7136"/>
                  </a:moveTo>
                  <a:cubicBezTo>
                    <a:pt x="441" y="7336"/>
                    <a:pt x="882" y="7536"/>
                    <a:pt x="1396" y="7736"/>
                  </a:cubicBezTo>
                  <a:cubicBezTo>
                    <a:pt x="882" y="8636"/>
                    <a:pt x="1543" y="9836"/>
                    <a:pt x="2278" y="10436"/>
                  </a:cubicBezTo>
                  <a:cubicBezTo>
                    <a:pt x="3086" y="10936"/>
                    <a:pt x="3967" y="11136"/>
                    <a:pt x="4482" y="11936"/>
                  </a:cubicBezTo>
                  <a:cubicBezTo>
                    <a:pt x="5510" y="13836"/>
                    <a:pt x="4114" y="16936"/>
                    <a:pt x="5216" y="18836"/>
                  </a:cubicBezTo>
                  <a:cubicBezTo>
                    <a:pt x="5510" y="18636"/>
                    <a:pt x="5878" y="18436"/>
                    <a:pt x="6171" y="18236"/>
                  </a:cubicBezTo>
                  <a:cubicBezTo>
                    <a:pt x="5878" y="18636"/>
                    <a:pt x="6098" y="19736"/>
                    <a:pt x="6759" y="19736"/>
                  </a:cubicBezTo>
                  <a:cubicBezTo>
                    <a:pt x="7347" y="19736"/>
                    <a:pt x="7714" y="19336"/>
                    <a:pt x="8155" y="19036"/>
                  </a:cubicBezTo>
                  <a:cubicBezTo>
                    <a:pt x="9845" y="17636"/>
                    <a:pt x="11682" y="15936"/>
                    <a:pt x="13739" y="16136"/>
                  </a:cubicBezTo>
                  <a:cubicBezTo>
                    <a:pt x="14767" y="16336"/>
                    <a:pt x="15722" y="16936"/>
                    <a:pt x="16751" y="17436"/>
                  </a:cubicBezTo>
                  <a:cubicBezTo>
                    <a:pt x="17706" y="17636"/>
                    <a:pt x="18808" y="17636"/>
                    <a:pt x="19690" y="17236"/>
                  </a:cubicBezTo>
                  <a:cubicBezTo>
                    <a:pt x="20351" y="17836"/>
                    <a:pt x="21086" y="17636"/>
                    <a:pt x="21600" y="16936"/>
                  </a:cubicBezTo>
                  <a:cubicBezTo>
                    <a:pt x="21380" y="16136"/>
                    <a:pt x="20645" y="15736"/>
                    <a:pt x="20057" y="15536"/>
                  </a:cubicBezTo>
                  <a:cubicBezTo>
                    <a:pt x="19396" y="15336"/>
                    <a:pt x="18661" y="14236"/>
                    <a:pt x="19102" y="13636"/>
                  </a:cubicBezTo>
                  <a:cubicBezTo>
                    <a:pt x="19396" y="13636"/>
                    <a:pt x="19690" y="13436"/>
                    <a:pt x="20057" y="13436"/>
                  </a:cubicBezTo>
                  <a:cubicBezTo>
                    <a:pt x="20351" y="12136"/>
                    <a:pt x="19102" y="11336"/>
                    <a:pt x="18147" y="11136"/>
                  </a:cubicBezTo>
                  <a:cubicBezTo>
                    <a:pt x="17412" y="10936"/>
                    <a:pt x="16604" y="10736"/>
                    <a:pt x="15869" y="10236"/>
                  </a:cubicBezTo>
                  <a:cubicBezTo>
                    <a:pt x="15429" y="10036"/>
                    <a:pt x="14914" y="10036"/>
                    <a:pt x="14620" y="9636"/>
                  </a:cubicBezTo>
                  <a:cubicBezTo>
                    <a:pt x="14327" y="9236"/>
                    <a:pt x="14033" y="8636"/>
                    <a:pt x="14180" y="7936"/>
                  </a:cubicBezTo>
                  <a:cubicBezTo>
                    <a:pt x="14327" y="7336"/>
                    <a:pt x="15061" y="7136"/>
                    <a:pt x="15282" y="7736"/>
                  </a:cubicBezTo>
                  <a:cubicBezTo>
                    <a:pt x="15576" y="6536"/>
                    <a:pt x="15061" y="4836"/>
                    <a:pt x="14327" y="4236"/>
                  </a:cubicBezTo>
                  <a:cubicBezTo>
                    <a:pt x="14473" y="3936"/>
                    <a:pt x="14767" y="3536"/>
                    <a:pt x="14914" y="3336"/>
                  </a:cubicBezTo>
                  <a:cubicBezTo>
                    <a:pt x="12490" y="2736"/>
                    <a:pt x="9992" y="3336"/>
                    <a:pt x="7861" y="5236"/>
                  </a:cubicBezTo>
                  <a:cubicBezTo>
                    <a:pt x="7567" y="3736"/>
                    <a:pt x="6759" y="2536"/>
                    <a:pt x="6024" y="1636"/>
                  </a:cubicBezTo>
                  <a:cubicBezTo>
                    <a:pt x="5878" y="1436"/>
                    <a:pt x="5510" y="1236"/>
                    <a:pt x="5363" y="1436"/>
                  </a:cubicBezTo>
                  <a:cubicBezTo>
                    <a:pt x="5216" y="1436"/>
                    <a:pt x="5069" y="1636"/>
                    <a:pt x="4922" y="1836"/>
                  </a:cubicBezTo>
                  <a:cubicBezTo>
                    <a:pt x="3380" y="2936"/>
                    <a:pt x="2792" y="-1864"/>
                    <a:pt x="1396" y="836"/>
                  </a:cubicBezTo>
                  <a:cubicBezTo>
                    <a:pt x="1249" y="636"/>
                    <a:pt x="735" y="7336"/>
                    <a:pt x="0" y="7136"/>
                  </a:cubicBezTo>
                </a:path>
              </a:pathLst>
            </a:custGeom>
            <a:solidFill>
              <a:srgbClr val="929292"/>
            </a:solidFill>
            <a:ln w="12700">
              <a:noFill/>
            </a:ln>
          </p:spPr>
          <p:style>
            <a:lnRef idx="0"/>
            <a:fillRef idx="0"/>
            <a:effectRef idx="0"/>
            <a:fontRef idx="minor"/>
          </p:style>
          <p:txBody>
            <a:bodyPr numCol="1" spcCol="0" lIns="45720" rIns="45720" tIns="42840" bIns="42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1" name="Shape 3595"/>
            <p:cNvSpPr/>
            <p:nvPr/>
          </p:nvSpPr>
          <p:spPr>
            <a:xfrm>
              <a:off x="13663800" y="3686400"/>
              <a:ext cx="63720" cy="76320"/>
            </a:xfrm>
            <a:custGeom>
              <a:avLst/>
              <a:gdLst>
                <a:gd name="textAreaLeft" fmla="*/ 0 w 63720"/>
                <a:gd name="textAreaRight" fmla="*/ 64080 w 63720"/>
                <a:gd name="textAreaTop" fmla="*/ 0 h 76320"/>
                <a:gd name="textAreaBottom" fmla="*/ 76680 h 76320"/>
              </a:gdLst>
              <a:ahLst/>
              <a:rect l="textAreaLeft" t="textAreaTop" r="textAreaRight" b="textAreaBottom"/>
              <a:pathLst>
                <a:path w="21330" h="19710">
                  <a:moveTo>
                    <a:pt x="10003" y="5608"/>
                  </a:moveTo>
                  <a:cubicBezTo>
                    <a:pt x="9713" y="5832"/>
                    <a:pt x="9133" y="6280"/>
                    <a:pt x="8843" y="6504"/>
                  </a:cubicBezTo>
                  <a:cubicBezTo>
                    <a:pt x="8553" y="6728"/>
                    <a:pt x="7828" y="6728"/>
                    <a:pt x="7248" y="6951"/>
                  </a:cubicBezTo>
                  <a:cubicBezTo>
                    <a:pt x="6089" y="7511"/>
                    <a:pt x="5219" y="8630"/>
                    <a:pt x="5799" y="9861"/>
                  </a:cubicBezTo>
                  <a:cubicBezTo>
                    <a:pt x="5219" y="10085"/>
                    <a:pt x="4494" y="10085"/>
                    <a:pt x="4204" y="10309"/>
                  </a:cubicBezTo>
                  <a:cubicBezTo>
                    <a:pt x="3914" y="11988"/>
                    <a:pt x="1885" y="13107"/>
                    <a:pt x="0" y="14002"/>
                  </a:cubicBezTo>
                  <a:cubicBezTo>
                    <a:pt x="870" y="14002"/>
                    <a:pt x="1450" y="14898"/>
                    <a:pt x="1450" y="15905"/>
                  </a:cubicBezTo>
                  <a:cubicBezTo>
                    <a:pt x="1450" y="16800"/>
                    <a:pt x="1160" y="17584"/>
                    <a:pt x="1450" y="18255"/>
                  </a:cubicBezTo>
                  <a:cubicBezTo>
                    <a:pt x="2754" y="19486"/>
                    <a:pt x="5219" y="18479"/>
                    <a:pt x="6958" y="19262"/>
                  </a:cubicBezTo>
                  <a:cubicBezTo>
                    <a:pt x="7248" y="19486"/>
                    <a:pt x="7828" y="19710"/>
                    <a:pt x="8263" y="19710"/>
                  </a:cubicBezTo>
                  <a:cubicBezTo>
                    <a:pt x="8843" y="19710"/>
                    <a:pt x="9423" y="19710"/>
                    <a:pt x="9713" y="19486"/>
                  </a:cubicBezTo>
                  <a:cubicBezTo>
                    <a:pt x="10872" y="18927"/>
                    <a:pt x="12467" y="18255"/>
                    <a:pt x="13047" y="17584"/>
                  </a:cubicBezTo>
                  <a:cubicBezTo>
                    <a:pt x="13917" y="16576"/>
                    <a:pt x="14352" y="15457"/>
                    <a:pt x="13627" y="14562"/>
                  </a:cubicBezTo>
                  <a:cubicBezTo>
                    <a:pt x="15511" y="14786"/>
                    <a:pt x="17976" y="14338"/>
                    <a:pt x="18846" y="12883"/>
                  </a:cubicBezTo>
                  <a:cubicBezTo>
                    <a:pt x="19136" y="12659"/>
                    <a:pt x="19136" y="12435"/>
                    <a:pt x="19136" y="12435"/>
                  </a:cubicBezTo>
                  <a:cubicBezTo>
                    <a:pt x="19136" y="11652"/>
                    <a:pt x="18266" y="11428"/>
                    <a:pt x="17686" y="11204"/>
                  </a:cubicBezTo>
                  <a:cubicBezTo>
                    <a:pt x="16671" y="10757"/>
                    <a:pt x="16091" y="9749"/>
                    <a:pt x="16381" y="8854"/>
                  </a:cubicBezTo>
                  <a:cubicBezTo>
                    <a:pt x="16671" y="7847"/>
                    <a:pt x="17686" y="7287"/>
                    <a:pt x="18556" y="6951"/>
                  </a:cubicBezTo>
                  <a:cubicBezTo>
                    <a:pt x="19136" y="6951"/>
                    <a:pt x="20005" y="6728"/>
                    <a:pt x="20295" y="6504"/>
                  </a:cubicBezTo>
                  <a:cubicBezTo>
                    <a:pt x="21020" y="5608"/>
                    <a:pt x="18556" y="4937"/>
                    <a:pt x="18556" y="3930"/>
                  </a:cubicBezTo>
                  <a:cubicBezTo>
                    <a:pt x="18556" y="2811"/>
                    <a:pt x="21600" y="2811"/>
                    <a:pt x="21310" y="1579"/>
                  </a:cubicBezTo>
                  <a:cubicBezTo>
                    <a:pt x="21310" y="1132"/>
                    <a:pt x="20730" y="908"/>
                    <a:pt x="20005" y="684"/>
                  </a:cubicBezTo>
                  <a:cubicBezTo>
                    <a:pt x="16671" y="-1890"/>
                    <a:pt x="12467" y="3482"/>
                    <a:pt x="10003" y="5608"/>
                  </a:cubicBezTo>
                </a:path>
              </a:pathLst>
            </a:custGeom>
            <a:solidFill>
              <a:srgbClr val="929292"/>
            </a:solidFill>
            <a:ln w="12700">
              <a:noFill/>
            </a:ln>
          </p:spPr>
          <p:style>
            <a:lnRef idx="0"/>
            <a:fillRef idx="0"/>
            <a:effectRef idx="0"/>
            <a:fontRef idx="minor"/>
          </p:style>
          <p:txBody>
            <a:bodyPr numCol="1" spcCol="0" lIns="45720" rIns="45720" tIns="38160" bIns="38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2" name="Shape 3596"/>
            <p:cNvSpPr/>
            <p:nvPr/>
          </p:nvSpPr>
          <p:spPr>
            <a:xfrm>
              <a:off x="13393440" y="3859920"/>
              <a:ext cx="30600" cy="28080"/>
            </a:xfrm>
            <a:custGeom>
              <a:avLst/>
              <a:gdLst>
                <a:gd name="textAreaLeft" fmla="*/ 0 w 30600"/>
                <a:gd name="textAreaRight" fmla="*/ 30960 w 30600"/>
                <a:gd name="textAreaTop" fmla="*/ 0 h 28080"/>
                <a:gd name="textAreaBottom" fmla="*/ 28440 h 28080"/>
              </a:gdLst>
              <a:ahLst/>
              <a:rect l="textAreaLeft" t="textAreaTop" r="textAreaRight" b="textAreaBottom"/>
              <a:pathLst>
                <a:path w="20673" h="21600">
                  <a:moveTo>
                    <a:pt x="4551" y="11298"/>
                  </a:moveTo>
                  <a:cubicBezTo>
                    <a:pt x="1296" y="12628"/>
                    <a:pt x="-479" y="15951"/>
                    <a:pt x="113" y="19606"/>
                  </a:cubicBezTo>
                  <a:cubicBezTo>
                    <a:pt x="1296" y="19606"/>
                    <a:pt x="2480" y="20271"/>
                    <a:pt x="3072" y="21600"/>
                  </a:cubicBezTo>
                  <a:cubicBezTo>
                    <a:pt x="5735" y="18277"/>
                    <a:pt x="8694" y="14622"/>
                    <a:pt x="12540" y="13957"/>
                  </a:cubicBezTo>
                  <a:cubicBezTo>
                    <a:pt x="13724" y="13957"/>
                    <a:pt x="14907" y="13957"/>
                    <a:pt x="16091" y="13292"/>
                  </a:cubicBezTo>
                  <a:cubicBezTo>
                    <a:pt x="19937" y="11963"/>
                    <a:pt x="21121" y="6978"/>
                    <a:pt x="20529" y="1994"/>
                  </a:cubicBezTo>
                  <a:cubicBezTo>
                    <a:pt x="20529" y="1329"/>
                    <a:pt x="20529" y="1329"/>
                    <a:pt x="19937" y="665"/>
                  </a:cubicBezTo>
                  <a:cubicBezTo>
                    <a:pt x="19346" y="0"/>
                    <a:pt x="18754" y="0"/>
                    <a:pt x="18162" y="0"/>
                  </a:cubicBezTo>
                  <a:cubicBezTo>
                    <a:pt x="14316" y="0"/>
                    <a:pt x="10765" y="1329"/>
                    <a:pt x="8102" y="4320"/>
                  </a:cubicBezTo>
                  <a:cubicBezTo>
                    <a:pt x="5735" y="6978"/>
                    <a:pt x="3663" y="9637"/>
                    <a:pt x="1296" y="11963"/>
                  </a:cubicBezTo>
                  <a:lnTo>
                    <a:pt x="4551" y="11298"/>
                  </a:lnTo>
                </a:path>
              </a:pathLst>
            </a:custGeom>
            <a:solidFill>
              <a:srgbClr val="929292"/>
            </a:solidFill>
            <a:ln w="12700">
              <a:noFill/>
            </a:ln>
          </p:spPr>
          <p:style>
            <a:lnRef idx="0"/>
            <a:fillRef idx="0"/>
            <a:effectRef idx="0"/>
            <a:fontRef idx="minor"/>
          </p:style>
          <p:txBody>
            <a:bodyPr numCol="1" spcCol="0" lIns="45720" rIns="45720" tIns="14040" bIns="14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3" name="Shape 3597"/>
            <p:cNvSpPr/>
            <p:nvPr/>
          </p:nvSpPr>
          <p:spPr>
            <a:xfrm>
              <a:off x="14199840" y="3884760"/>
              <a:ext cx="54360" cy="93240"/>
            </a:xfrm>
            <a:custGeom>
              <a:avLst/>
              <a:gdLst>
                <a:gd name="textAreaLeft" fmla="*/ 0 w 54360"/>
                <a:gd name="textAreaRight" fmla="*/ 54720 w 54360"/>
                <a:gd name="textAreaTop" fmla="*/ 0 h 93240"/>
                <a:gd name="textAreaBottom" fmla="*/ 93600 h 93240"/>
              </a:gdLst>
              <a:ahLst/>
              <a:rect l="textAreaLeft" t="textAreaTop" r="textAreaRight" b="textAreaBottom"/>
              <a:pathLst>
                <a:path w="19973" h="20736">
                  <a:moveTo>
                    <a:pt x="4408" y="4032"/>
                  </a:moveTo>
                  <a:cubicBezTo>
                    <a:pt x="4408" y="4608"/>
                    <a:pt x="3931" y="4992"/>
                    <a:pt x="3614" y="5664"/>
                  </a:cubicBezTo>
                  <a:cubicBezTo>
                    <a:pt x="3296" y="7008"/>
                    <a:pt x="5678" y="8256"/>
                    <a:pt x="6314" y="9696"/>
                  </a:cubicBezTo>
                  <a:cubicBezTo>
                    <a:pt x="6631" y="10656"/>
                    <a:pt x="6631" y="11904"/>
                    <a:pt x="7266" y="12672"/>
                  </a:cubicBezTo>
                  <a:cubicBezTo>
                    <a:pt x="8696" y="14112"/>
                    <a:pt x="12031" y="14496"/>
                    <a:pt x="12349" y="15936"/>
                  </a:cubicBezTo>
                  <a:cubicBezTo>
                    <a:pt x="12349" y="16320"/>
                    <a:pt x="12031" y="16896"/>
                    <a:pt x="12349" y="17280"/>
                  </a:cubicBezTo>
                  <a:cubicBezTo>
                    <a:pt x="12666" y="17664"/>
                    <a:pt x="12984" y="17952"/>
                    <a:pt x="13302" y="18144"/>
                  </a:cubicBezTo>
                  <a:cubicBezTo>
                    <a:pt x="14731" y="18912"/>
                    <a:pt x="16002" y="19680"/>
                    <a:pt x="17590" y="20544"/>
                  </a:cubicBezTo>
                  <a:cubicBezTo>
                    <a:pt x="18066" y="20736"/>
                    <a:pt x="18384" y="20736"/>
                    <a:pt x="18702" y="20736"/>
                  </a:cubicBezTo>
                  <a:cubicBezTo>
                    <a:pt x="19337" y="20736"/>
                    <a:pt x="19337" y="20352"/>
                    <a:pt x="19655" y="20160"/>
                  </a:cubicBezTo>
                  <a:cubicBezTo>
                    <a:pt x="19972" y="19104"/>
                    <a:pt x="20290" y="18048"/>
                    <a:pt x="19337" y="17280"/>
                  </a:cubicBezTo>
                  <a:cubicBezTo>
                    <a:pt x="18384" y="16416"/>
                    <a:pt x="16637" y="15936"/>
                    <a:pt x="16002" y="15072"/>
                  </a:cubicBezTo>
                  <a:cubicBezTo>
                    <a:pt x="15366" y="14304"/>
                    <a:pt x="15684" y="13248"/>
                    <a:pt x="16002" y="12288"/>
                  </a:cubicBezTo>
                  <a:cubicBezTo>
                    <a:pt x="16319" y="11424"/>
                    <a:pt x="16319" y="10656"/>
                    <a:pt x="15684" y="10272"/>
                  </a:cubicBezTo>
                  <a:cubicBezTo>
                    <a:pt x="15366" y="10080"/>
                    <a:pt x="15049" y="10080"/>
                    <a:pt x="14731" y="9888"/>
                  </a:cubicBezTo>
                  <a:cubicBezTo>
                    <a:pt x="12666" y="9024"/>
                    <a:pt x="12031" y="7200"/>
                    <a:pt x="12031" y="5856"/>
                  </a:cubicBezTo>
                  <a:cubicBezTo>
                    <a:pt x="12031" y="4416"/>
                    <a:pt x="12984" y="2784"/>
                    <a:pt x="12349" y="1152"/>
                  </a:cubicBezTo>
                  <a:cubicBezTo>
                    <a:pt x="12349" y="576"/>
                    <a:pt x="11714" y="0"/>
                    <a:pt x="10602" y="0"/>
                  </a:cubicBezTo>
                  <a:cubicBezTo>
                    <a:pt x="10284" y="0"/>
                    <a:pt x="9649" y="0"/>
                    <a:pt x="9331" y="192"/>
                  </a:cubicBezTo>
                  <a:cubicBezTo>
                    <a:pt x="6949" y="576"/>
                    <a:pt x="1708" y="-864"/>
                    <a:pt x="278" y="960"/>
                  </a:cubicBezTo>
                  <a:cubicBezTo>
                    <a:pt x="-1310" y="3456"/>
                    <a:pt x="4408" y="2208"/>
                    <a:pt x="4408" y="4032"/>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4" name="Shape 3598"/>
            <p:cNvSpPr/>
            <p:nvPr/>
          </p:nvSpPr>
          <p:spPr>
            <a:xfrm>
              <a:off x="14390640" y="2650680"/>
              <a:ext cx="253080" cy="291240"/>
            </a:xfrm>
            <a:custGeom>
              <a:avLst/>
              <a:gdLst>
                <a:gd name="textAreaLeft" fmla="*/ 0 w 253080"/>
                <a:gd name="textAreaRight" fmla="*/ 253440 w 253080"/>
                <a:gd name="textAreaTop" fmla="*/ 0 h 291240"/>
                <a:gd name="textAreaBottom" fmla="*/ 291600 h 291240"/>
              </a:gdLst>
              <a:ahLst/>
              <a:rect l="textAreaLeft" t="textAreaTop" r="textAreaRight" b="textAreaBottom"/>
              <a:pathLst>
                <a:path w="21600" h="21600">
                  <a:moveTo>
                    <a:pt x="2761" y="4197"/>
                  </a:moveTo>
                  <a:cubicBezTo>
                    <a:pt x="2761" y="4746"/>
                    <a:pt x="3395" y="5424"/>
                    <a:pt x="3842" y="5069"/>
                  </a:cubicBezTo>
                  <a:cubicBezTo>
                    <a:pt x="3619" y="5683"/>
                    <a:pt x="3469" y="6296"/>
                    <a:pt x="3208" y="6909"/>
                  </a:cubicBezTo>
                  <a:cubicBezTo>
                    <a:pt x="2910" y="6845"/>
                    <a:pt x="2537" y="6716"/>
                    <a:pt x="2276" y="6554"/>
                  </a:cubicBezTo>
                  <a:cubicBezTo>
                    <a:pt x="2350" y="7168"/>
                    <a:pt x="2350" y="7781"/>
                    <a:pt x="2462" y="8330"/>
                  </a:cubicBezTo>
                  <a:cubicBezTo>
                    <a:pt x="2462" y="8524"/>
                    <a:pt x="2462" y="8814"/>
                    <a:pt x="2276" y="9008"/>
                  </a:cubicBezTo>
                  <a:cubicBezTo>
                    <a:pt x="2164" y="9137"/>
                    <a:pt x="1977" y="9170"/>
                    <a:pt x="1828" y="9137"/>
                  </a:cubicBezTo>
                  <a:cubicBezTo>
                    <a:pt x="2089" y="9363"/>
                    <a:pt x="2350" y="9589"/>
                    <a:pt x="2686" y="9815"/>
                  </a:cubicBezTo>
                  <a:cubicBezTo>
                    <a:pt x="1753" y="9815"/>
                    <a:pt x="1268" y="10816"/>
                    <a:pt x="1119" y="11656"/>
                  </a:cubicBezTo>
                  <a:cubicBezTo>
                    <a:pt x="709" y="13141"/>
                    <a:pt x="336" y="14561"/>
                    <a:pt x="0" y="16047"/>
                  </a:cubicBezTo>
                  <a:cubicBezTo>
                    <a:pt x="1045" y="15853"/>
                    <a:pt x="2126" y="16789"/>
                    <a:pt x="1903" y="17661"/>
                  </a:cubicBezTo>
                  <a:cubicBezTo>
                    <a:pt x="2537" y="17467"/>
                    <a:pt x="3208" y="17726"/>
                    <a:pt x="3619" y="18145"/>
                  </a:cubicBezTo>
                  <a:cubicBezTo>
                    <a:pt x="3768" y="18339"/>
                    <a:pt x="3917" y="18630"/>
                    <a:pt x="4104" y="18823"/>
                  </a:cubicBezTo>
                  <a:cubicBezTo>
                    <a:pt x="4551" y="19760"/>
                    <a:pt x="5036" y="20664"/>
                    <a:pt x="5484" y="21600"/>
                  </a:cubicBezTo>
                  <a:cubicBezTo>
                    <a:pt x="5894" y="21471"/>
                    <a:pt x="6267" y="21406"/>
                    <a:pt x="6678" y="21277"/>
                  </a:cubicBezTo>
                  <a:cubicBezTo>
                    <a:pt x="7051" y="21116"/>
                    <a:pt x="6827" y="20599"/>
                    <a:pt x="6752" y="20244"/>
                  </a:cubicBezTo>
                  <a:cubicBezTo>
                    <a:pt x="6603" y="19630"/>
                    <a:pt x="7125" y="18888"/>
                    <a:pt x="7834" y="18759"/>
                  </a:cubicBezTo>
                  <a:cubicBezTo>
                    <a:pt x="8618" y="18630"/>
                    <a:pt x="9401" y="19178"/>
                    <a:pt x="9401" y="19824"/>
                  </a:cubicBezTo>
                  <a:cubicBezTo>
                    <a:pt x="10110" y="19566"/>
                    <a:pt x="10893" y="19308"/>
                    <a:pt x="11602" y="18952"/>
                  </a:cubicBezTo>
                  <a:cubicBezTo>
                    <a:pt x="11304" y="18759"/>
                    <a:pt x="10968" y="18630"/>
                    <a:pt x="10669" y="18404"/>
                  </a:cubicBezTo>
                  <a:cubicBezTo>
                    <a:pt x="11117" y="18145"/>
                    <a:pt x="11527" y="17726"/>
                    <a:pt x="11826" y="17338"/>
                  </a:cubicBezTo>
                  <a:cubicBezTo>
                    <a:pt x="10819" y="17048"/>
                    <a:pt x="10334" y="15853"/>
                    <a:pt x="10968" y="15110"/>
                  </a:cubicBezTo>
                  <a:cubicBezTo>
                    <a:pt x="11677" y="15239"/>
                    <a:pt x="12311" y="15369"/>
                    <a:pt x="13020" y="15369"/>
                  </a:cubicBezTo>
                  <a:cubicBezTo>
                    <a:pt x="12460" y="14561"/>
                    <a:pt x="12759" y="13528"/>
                    <a:pt x="13169" y="12721"/>
                  </a:cubicBezTo>
                  <a:cubicBezTo>
                    <a:pt x="13393" y="12721"/>
                    <a:pt x="13617" y="12721"/>
                    <a:pt x="13952" y="12657"/>
                  </a:cubicBezTo>
                  <a:cubicBezTo>
                    <a:pt x="13803" y="11591"/>
                    <a:pt x="14848" y="10622"/>
                    <a:pt x="15967" y="10009"/>
                  </a:cubicBezTo>
                  <a:cubicBezTo>
                    <a:pt x="17049" y="9396"/>
                    <a:pt x="18242" y="8814"/>
                    <a:pt x="18653" y="7717"/>
                  </a:cubicBezTo>
                  <a:cubicBezTo>
                    <a:pt x="18802" y="8201"/>
                    <a:pt x="19660" y="8039"/>
                    <a:pt x="20145" y="7717"/>
                  </a:cubicBezTo>
                  <a:cubicBezTo>
                    <a:pt x="20593" y="7361"/>
                    <a:pt x="21078" y="6974"/>
                    <a:pt x="21600" y="7168"/>
                  </a:cubicBezTo>
                  <a:cubicBezTo>
                    <a:pt x="21451" y="6780"/>
                    <a:pt x="21078" y="6425"/>
                    <a:pt x="20667" y="6167"/>
                  </a:cubicBezTo>
                  <a:cubicBezTo>
                    <a:pt x="21078" y="6296"/>
                    <a:pt x="21376" y="5683"/>
                    <a:pt x="21078" y="5360"/>
                  </a:cubicBezTo>
                  <a:cubicBezTo>
                    <a:pt x="20742" y="5004"/>
                    <a:pt x="20369" y="4746"/>
                    <a:pt x="20294" y="4391"/>
                  </a:cubicBezTo>
                  <a:cubicBezTo>
                    <a:pt x="19585" y="3519"/>
                    <a:pt x="18242" y="2970"/>
                    <a:pt x="17011" y="3100"/>
                  </a:cubicBezTo>
                  <a:cubicBezTo>
                    <a:pt x="16676" y="3100"/>
                    <a:pt x="16377" y="3164"/>
                    <a:pt x="16153" y="3035"/>
                  </a:cubicBezTo>
                  <a:cubicBezTo>
                    <a:pt x="15519" y="2648"/>
                    <a:pt x="16153" y="1550"/>
                    <a:pt x="15445" y="1291"/>
                  </a:cubicBezTo>
                  <a:cubicBezTo>
                    <a:pt x="14512" y="1743"/>
                    <a:pt x="13393" y="1970"/>
                    <a:pt x="12311" y="1743"/>
                  </a:cubicBezTo>
                  <a:cubicBezTo>
                    <a:pt x="11192" y="678"/>
                    <a:pt x="9476" y="0"/>
                    <a:pt x="7834" y="0"/>
                  </a:cubicBezTo>
                  <a:cubicBezTo>
                    <a:pt x="7312" y="0"/>
                    <a:pt x="6678" y="65"/>
                    <a:pt x="6118" y="0"/>
                  </a:cubicBezTo>
                  <a:cubicBezTo>
                    <a:pt x="5670" y="387"/>
                    <a:pt x="4962" y="549"/>
                    <a:pt x="4327" y="323"/>
                  </a:cubicBezTo>
                  <a:cubicBezTo>
                    <a:pt x="3320" y="613"/>
                    <a:pt x="970" y="549"/>
                    <a:pt x="1492" y="1679"/>
                  </a:cubicBezTo>
                  <a:cubicBezTo>
                    <a:pt x="1753" y="2099"/>
                    <a:pt x="2537" y="2163"/>
                    <a:pt x="2761" y="2583"/>
                  </a:cubicBezTo>
                  <a:cubicBezTo>
                    <a:pt x="2984" y="3100"/>
                    <a:pt x="2761" y="3648"/>
                    <a:pt x="2761" y="4197"/>
                  </a:cubicBezTo>
                  <a:close/>
                  <a:moveTo>
                    <a:pt x="1679" y="9008"/>
                  </a:moveTo>
                  <a:cubicBezTo>
                    <a:pt x="1716" y="9040"/>
                    <a:pt x="1753" y="9105"/>
                    <a:pt x="1828" y="9137"/>
                  </a:cubicBezTo>
                  <a:cubicBezTo>
                    <a:pt x="1753" y="9105"/>
                    <a:pt x="1679" y="9073"/>
                    <a:pt x="1679" y="9008"/>
                  </a:cubicBezTo>
                  <a:close/>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5" name="Shape 3599"/>
            <p:cNvSpPr/>
            <p:nvPr/>
          </p:nvSpPr>
          <p:spPr>
            <a:xfrm>
              <a:off x="14957640" y="2682360"/>
              <a:ext cx="154800" cy="239760"/>
            </a:xfrm>
            <a:custGeom>
              <a:avLst/>
              <a:gdLst>
                <a:gd name="textAreaLeft" fmla="*/ 0 w 154800"/>
                <a:gd name="textAreaRight" fmla="*/ 155160 w 154800"/>
                <a:gd name="textAreaTop" fmla="*/ 0 h 239760"/>
                <a:gd name="textAreaBottom" fmla="*/ 240120 h 239760"/>
              </a:gdLst>
              <a:ahLst/>
              <a:rect l="textAreaLeft" t="textAreaTop" r="textAreaRight" b="textAreaBottom"/>
              <a:pathLst>
                <a:path w="21600" h="21457">
                  <a:moveTo>
                    <a:pt x="3933" y="5350"/>
                  </a:moveTo>
                  <a:cubicBezTo>
                    <a:pt x="4175" y="5584"/>
                    <a:pt x="4598" y="5818"/>
                    <a:pt x="5082" y="5818"/>
                  </a:cubicBezTo>
                  <a:cubicBezTo>
                    <a:pt x="5203" y="5974"/>
                    <a:pt x="5203" y="6130"/>
                    <a:pt x="5324" y="6247"/>
                  </a:cubicBezTo>
                  <a:cubicBezTo>
                    <a:pt x="6232" y="6637"/>
                    <a:pt x="6716" y="7456"/>
                    <a:pt x="6595" y="8119"/>
                  </a:cubicBezTo>
                  <a:cubicBezTo>
                    <a:pt x="7261" y="8509"/>
                    <a:pt x="7745" y="8937"/>
                    <a:pt x="8410" y="9249"/>
                  </a:cubicBezTo>
                  <a:cubicBezTo>
                    <a:pt x="8531" y="9327"/>
                    <a:pt x="8531" y="9366"/>
                    <a:pt x="8531" y="9483"/>
                  </a:cubicBezTo>
                  <a:cubicBezTo>
                    <a:pt x="8531" y="9561"/>
                    <a:pt x="8410" y="9678"/>
                    <a:pt x="8229" y="9756"/>
                  </a:cubicBezTo>
                  <a:cubicBezTo>
                    <a:pt x="7382" y="10146"/>
                    <a:pt x="6353" y="10575"/>
                    <a:pt x="5445" y="10965"/>
                  </a:cubicBezTo>
                  <a:cubicBezTo>
                    <a:pt x="4296" y="10809"/>
                    <a:pt x="4296" y="9756"/>
                    <a:pt x="3691" y="9171"/>
                  </a:cubicBezTo>
                  <a:cubicBezTo>
                    <a:pt x="2904" y="8431"/>
                    <a:pt x="787" y="8509"/>
                    <a:pt x="121" y="9327"/>
                  </a:cubicBezTo>
                  <a:cubicBezTo>
                    <a:pt x="0" y="9405"/>
                    <a:pt x="0" y="9600"/>
                    <a:pt x="0" y="9678"/>
                  </a:cubicBezTo>
                  <a:cubicBezTo>
                    <a:pt x="0" y="9756"/>
                    <a:pt x="121" y="9912"/>
                    <a:pt x="242" y="9990"/>
                  </a:cubicBezTo>
                  <a:cubicBezTo>
                    <a:pt x="666" y="10419"/>
                    <a:pt x="545" y="10809"/>
                    <a:pt x="666" y="11238"/>
                  </a:cubicBezTo>
                  <a:cubicBezTo>
                    <a:pt x="1150" y="13109"/>
                    <a:pt x="5324" y="13577"/>
                    <a:pt x="6958" y="15215"/>
                  </a:cubicBezTo>
                  <a:cubicBezTo>
                    <a:pt x="7382" y="15566"/>
                    <a:pt x="7503" y="15956"/>
                    <a:pt x="7987" y="16306"/>
                  </a:cubicBezTo>
                  <a:cubicBezTo>
                    <a:pt x="8410" y="16618"/>
                    <a:pt x="9015" y="16852"/>
                    <a:pt x="9681" y="16774"/>
                  </a:cubicBezTo>
                  <a:cubicBezTo>
                    <a:pt x="9378" y="17125"/>
                    <a:pt x="9499" y="17515"/>
                    <a:pt x="9923" y="17827"/>
                  </a:cubicBezTo>
                  <a:cubicBezTo>
                    <a:pt x="10286" y="18178"/>
                    <a:pt x="10770" y="18334"/>
                    <a:pt x="11193" y="18646"/>
                  </a:cubicBezTo>
                  <a:cubicBezTo>
                    <a:pt x="11677" y="19153"/>
                    <a:pt x="11677" y="19737"/>
                    <a:pt x="11798" y="20205"/>
                  </a:cubicBezTo>
                  <a:cubicBezTo>
                    <a:pt x="11919" y="20790"/>
                    <a:pt x="12464" y="21375"/>
                    <a:pt x="13190" y="21453"/>
                  </a:cubicBezTo>
                  <a:lnTo>
                    <a:pt x="13311" y="21453"/>
                  </a:lnTo>
                  <a:cubicBezTo>
                    <a:pt x="14461" y="21531"/>
                    <a:pt x="15005" y="20478"/>
                    <a:pt x="14703" y="19737"/>
                  </a:cubicBezTo>
                  <a:cubicBezTo>
                    <a:pt x="14461" y="18997"/>
                    <a:pt x="13976" y="18100"/>
                    <a:pt x="14703" y="17515"/>
                  </a:cubicBezTo>
                  <a:cubicBezTo>
                    <a:pt x="15489" y="18022"/>
                    <a:pt x="15973" y="18763"/>
                    <a:pt x="15852" y="19465"/>
                  </a:cubicBezTo>
                  <a:cubicBezTo>
                    <a:pt x="16518" y="19309"/>
                    <a:pt x="17244" y="19231"/>
                    <a:pt x="17909" y="19075"/>
                  </a:cubicBezTo>
                  <a:cubicBezTo>
                    <a:pt x="18151" y="18334"/>
                    <a:pt x="18817" y="17437"/>
                    <a:pt x="19906" y="17515"/>
                  </a:cubicBezTo>
                  <a:cubicBezTo>
                    <a:pt x="20208" y="17515"/>
                    <a:pt x="20329" y="17593"/>
                    <a:pt x="20571" y="17515"/>
                  </a:cubicBezTo>
                  <a:cubicBezTo>
                    <a:pt x="21055" y="17515"/>
                    <a:pt x="21479" y="17125"/>
                    <a:pt x="21479" y="16696"/>
                  </a:cubicBezTo>
                  <a:cubicBezTo>
                    <a:pt x="21479" y="16384"/>
                    <a:pt x="21055" y="16034"/>
                    <a:pt x="20692" y="15800"/>
                  </a:cubicBezTo>
                  <a:cubicBezTo>
                    <a:pt x="21055" y="15137"/>
                    <a:pt x="21358" y="14396"/>
                    <a:pt x="21600" y="13655"/>
                  </a:cubicBezTo>
                  <a:cubicBezTo>
                    <a:pt x="20813" y="13499"/>
                    <a:pt x="20208" y="13031"/>
                    <a:pt x="20329" y="12447"/>
                  </a:cubicBezTo>
                  <a:cubicBezTo>
                    <a:pt x="20329" y="12213"/>
                    <a:pt x="20571" y="11862"/>
                    <a:pt x="20571" y="11628"/>
                  </a:cubicBezTo>
                  <a:cubicBezTo>
                    <a:pt x="20571" y="11043"/>
                    <a:pt x="19785" y="10575"/>
                    <a:pt x="18938" y="10575"/>
                  </a:cubicBezTo>
                  <a:cubicBezTo>
                    <a:pt x="18938" y="9834"/>
                    <a:pt x="18938" y="9171"/>
                    <a:pt x="18938" y="8431"/>
                  </a:cubicBezTo>
                  <a:cubicBezTo>
                    <a:pt x="18514" y="8509"/>
                    <a:pt x="18151" y="8509"/>
                    <a:pt x="17788" y="8587"/>
                  </a:cubicBezTo>
                  <a:cubicBezTo>
                    <a:pt x="18030" y="7690"/>
                    <a:pt x="18030" y="6793"/>
                    <a:pt x="17667" y="5896"/>
                  </a:cubicBezTo>
                  <a:cubicBezTo>
                    <a:pt x="18030" y="5818"/>
                    <a:pt x="18393" y="5740"/>
                    <a:pt x="18817" y="5662"/>
                  </a:cubicBezTo>
                  <a:cubicBezTo>
                    <a:pt x="18514" y="5078"/>
                    <a:pt x="19059" y="4415"/>
                    <a:pt x="19785" y="4181"/>
                  </a:cubicBezTo>
                  <a:cubicBezTo>
                    <a:pt x="19422" y="4103"/>
                    <a:pt x="18938" y="4025"/>
                    <a:pt x="18514" y="3947"/>
                  </a:cubicBezTo>
                  <a:cubicBezTo>
                    <a:pt x="18393" y="3050"/>
                    <a:pt x="18635" y="2153"/>
                    <a:pt x="18151" y="1257"/>
                  </a:cubicBezTo>
                  <a:cubicBezTo>
                    <a:pt x="17788" y="672"/>
                    <a:pt x="16941" y="87"/>
                    <a:pt x="15973" y="9"/>
                  </a:cubicBezTo>
                  <a:cubicBezTo>
                    <a:pt x="14945" y="-69"/>
                    <a:pt x="13855" y="360"/>
                    <a:pt x="13734" y="984"/>
                  </a:cubicBezTo>
                  <a:cubicBezTo>
                    <a:pt x="13190" y="594"/>
                    <a:pt x="12222" y="516"/>
                    <a:pt x="11556" y="828"/>
                  </a:cubicBezTo>
                  <a:cubicBezTo>
                    <a:pt x="11677" y="750"/>
                    <a:pt x="9499" y="672"/>
                    <a:pt x="9136" y="750"/>
                  </a:cubicBezTo>
                  <a:cubicBezTo>
                    <a:pt x="8229" y="984"/>
                    <a:pt x="6837" y="1569"/>
                    <a:pt x="6474" y="2153"/>
                  </a:cubicBezTo>
                  <a:cubicBezTo>
                    <a:pt x="6111" y="2621"/>
                    <a:pt x="6474" y="3128"/>
                    <a:pt x="5990" y="3596"/>
                  </a:cubicBezTo>
                  <a:cubicBezTo>
                    <a:pt x="5445" y="4415"/>
                    <a:pt x="4477" y="4610"/>
                    <a:pt x="3933" y="5350"/>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6" name="Shape 3600"/>
            <p:cNvSpPr/>
            <p:nvPr/>
          </p:nvSpPr>
          <p:spPr>
            <a:xfrm>
              <a:off x="15001560" y="2953440"/>
              <a:ext cx="25560" cy="44640"/>
            </a:xfrm>
            <a:custGeom>
              <a:avLst/>
              <a:gdLst>
                <a:gd name="textAreaLeft" fmla="*/ 0 w 25560"/>
                <a:gd name="textAreaRight" fmla="*/ 25920 w 25560"/>
                <a:gd name="textAreaTop" fmla="*/ 0 h 44640"/>
                <a:gd name="textAreaBottom" fmla="*/ 45000 h 44640"/>
              </a:gdLst>
              <a:ahLst/>
              <a:rect l="textAreaLeft" t="textAreaTop" r="textAreaRight" b="textAreaBottom"/>
              <a:pathLst>
                <a:path w="17341" h="17005">
                  <a:moveTo>
                    <a:pt x="0" y="8900"/>
                  </a:moveTo>
                  <a:cubicBezTo>
                    <a:pt x="3794" y="9232"/>
                    <a:pt x="5546" y="11725"/>
                    <a:pt x="6713" y="13386"/>
                  </a:cubicBezTo>
                  <a:cubicBezTo>
                    <a:pt x="7881" y="15546"/>
                    <a:pt x="11091" y="17540"/>
                    <a:pt x="14010" y="16875"/>
                  </a:cubicBezTo>
                  <a:cubicBezTo>
                    <a:pt x="15178" y="16543"/>
                    <a:pt x="16637" y="15878"/>
                    <a:pt x="17221" y="15214"/>
                  </a:cubicBezTo>
                  <a:cubicBezTo>
                    <a:pt x="17805" y="13718"/>
                    <a:pt x="16054" y="12389"/>
                    <a:pt x="16054" y="10894"/>
                  </a:cubicBezTo>
                  <a:cubicBezTo>
                    <a:pt x="16054" y="9897"/>
                    <a:pt x="16637" y="9232"/>
                    <a:pt x="16054" y="8568"/>
                  </a:cubicBezTo>
                  <a:cubicBezTo>
                    <a:pt x="15178" y="7737"/>
                    <a:pt x="14010" y="7405"/>
                    <a:pt x="13427" y="6740"/>
                  </a:cubicBezTo>
                  <a:cubicBezTo>
                    <a:pt x="12259" y="5411"/>
                    <a:pt x="14010" y="3583"/>
                    <a:pt x="12259" y="2254"/>
                  </a:cubicBezTo>
                  <a:cubicBezTo>
                    <a:pt x="11675" y="1922"/>
                    <a:pt x="9924" y="1589"/>
                    <a:pt x="9048" y="1257"/>
                  </a:cubicBezTo>
                  <a:cubicBezTo>
                    <a:pt x="-3795" y="-4060"/>
                    <a:pt x="4378" y="9232"/>
                    <a:pt x="0" y="8900"/>
                  </a:cubicBezTo>
                </a:path>
              </a:pathLst>
            </a:custGeom>
            <a:solidFill>
              <a:srgbClr val="929292"/>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7" name="Shape 3601"/>
            <p:cNvSpPr/>
            <p:nvPr/>
          </p:nvSpPr>
          <p:spPr>
            <a:xfrm>
              <a:off x="14446080" y="2331000"/>
              <a:ext cx="190800" cy="195840"/>
            </a:xfrm>
            <a:custGeom>
              <a:avLst/>
              <a:gdLst>
                <a:gd name="textAreaLeft" fmla="*/ 0 w 190800"/>
                <a:gd name="textAreaRight" fmla="*/ 191160 w 190800"/>
                <a:gd name="textAreaTop" fmla="*/ 0 h 195840"/>
                <a:gd name="textAreaBottom" fmla="*/ 196200 h 195840"/>
              </a:gdLst>
              <a:ahLst/>
              <a:rect l="textAreaLeft" t="textAreaTop" r="textAreaRight" b="textAreaBottom"/>
              <a:pathLst>
                <a:path w="21322" h="21444">
                  <a:moveTo>
                    <a:pt x="10540" y="4002"/>
                  </a:moveTo>
                  <a:cubicBezTo>
                    <a:pt x="10297" y="4862"/>
                    <a:pt x="10103" y="5865"/>
                    <a:pt x="9909" y="6773"/>
                  </a:cubicBezTo>
                  <a:cubicBezTo>
                    <a:pt x="9521" y="6773"/>
                    <a:pt x="9084" y="6773"/>
                    <a:pt x="8696" y="6773"/>
                  </a:cubicBezTo>
                  <a:cubicBezTo>
                    <a:pt x="8259" y="7203"/>
                    <a:pt x="8404" y="7777"/>
                    <a:pt x="8404" y="8302"/>
                  </a:cubicBezTo>
                  <a:cubicBezTo>
                    <a:pt x="8259" y="8780"/>
                    <a:pt x="7579" y="9306"/>
                    <a:pt x="7240" y="8780"/>
                  </a:cubicBezTo>
                  <a:cubicBezTo>
                    <a:pt x="7142" y="9067"/>
                    <a:pt x="6948" y="9402"/>
                    <a:pt x="6851" y="9784"/>
                  </a:cubicBezTo>
                  <a:cubicBezTo>
                    <a:pt x="6123" y="9497"/>
                    <a:pt x="5541" y="10405"/>
                    <a:pt x="5346" y="11217"/>
                  </a:cubicBezTo>
                  <a:cubicBezTo>
                    <a:pt x="5104" y="11886"/>
                    <a:pt x="4813" y="12890"/>
                    <a:pt x="3987" y="12890"/>
                  </a:cubicBezTo>
                  <a:cubicBezTo>
                    <a:pt x="3987" y="13320"/>
                    <a:pt x="3987" y="13702"/>
                    <a:pt x="4084" y="14085"/>
                  </a:cubicBezTo>
                  <a:cubicBezTo>
                    <a:pt x="2774" y="13416"/>
                    <a:pt x="1269" y="14706"/>
                    <a:pt x="541" y="15996"/>
                  </a:cubicBezTo>
                  <a:cubicBezTo>
                    <a:pt x="347" y="16331"/>
                    <a:pt x="347" y="16904"/>
                    <a:pt x="735" y="16904"/>
                  </a:cubicBezTo>
                  <a:cubicBezTo>
                    <a:pt x="56" y="17621"/>
                    <a:pt x="-187" y="18625"/>
                    <a:pt x="153" y="19532"/>
                  </a:cubicBezTo>
                  <a:cubicBezTo>
                    <a:pt x="735" y="19724"/>
                    <a:pt x="1269" y="20010"/>
                    <a:pt x="1852" y="20202"/>
                  </a:cubicBezTo>
                  <a:cubicBezTo>
                    <a:pt x="2094" y="20297"/>
                    <a:pt x="2289" y="20440"/>
                    <a:pt x="2483" y="20297"/>
                  </a:cubicBezTo>
                  <a:cubicBezTo>
                    <a:pt x="2677" y="20297"/>
                    <a:pt x="2871" y="20106"/>
                    <a:pt x="2968" y="20010"/>
                  </a:cubicBezTo>
                  <a:cubicBezTo>
                    <a:pt x="3599" y="19532"/>
                    <a:pt x="4230" y="19007"/>
                    <a:pt x="4715" y="18433"/>
                  </a:cubicBezTo>
                  <a:cubicBezTo>
                    <a:pt x="5249" y="19437"/>
                    <a:pt x="5735" y="20440"/>
                    <a:pt x="6269" y="21444"/>
                  </a:cubicBezTo>
                  <a:cubicBezTo>
                    <a:pt x="6560" y="21301"/>
                    <a:pt x="6657" y="20823"/>
                    <a:pt x="6657" y="20440"/>
                  </a:cubicBezTo>
                  <a:cubicBezTo>
                    <a:pt x="6560" y="20010"/>
                    <a:pt x="6366" y="19724"/>
                    <a:pt x="6269" y="19437"/>
                  </a:cubicBezTo>
                  <a:cubicBezTo>
                    <a:pt x="5929" y="18529"/>
                    <a:pt x="6269" y="17525"/>
                    <a:pt x="6948" y="16904"/>
                  </a:cubicBezTo>
                  <a:cubicBezTo>
                    <a:pt x="7240" y="17717"/>
                    <a:pt x="7045" y="18625"/>
                    <a:pt x="7142" y="19532"/>
                  </a:cubicBezTo>
                  <a:cubicBezTo>
                    <a:pt x="7240" y="20440"/>
                    <a:pt x="8259" y="21205"/>
                    <a:pt x="8987" y="20632"/>
                  </a:cubicBezTo>
                  <a:cubicBezTo>
                    <a:pt x="9278" y="20106"/>
                    <a:pt x="9424" y="19437"/>
                    <a:pt x="9278" y="18816"/>
                  </a:cubicBezTo>
                  <a:cubicBezTo>
                    <a:pt x="9521" y="18816"/>
                    <a:pt x="9812" y="18720"/>
                    <a:pt x="10006" y="18720"/>
                  </a:cubicBezTo>
                  <a:cubicBezTo>
                    <a:pt x="9521" y="17812"/>
                    <a:pt x="9521" y="16713"/>
                    <a:pt x="10103" y="15901"/>
                  </a:cubicBezTo>
                  <a:cubicBezTo>
                    <a:pt x="10540" y="16426"/>
                    <a:pt x="10734" y="17095"/>
                    <a:pt x="10637" y="17812"/>
                  </a:cubicBezTo>
                  <a:cubicBezTo>
                    <a:pt x="10929" y="17812"/>
                    <a:pt x="11123" y="17908"/>
                    <a:pt x="11414" y="17908"/>
                  </a:cubicBezTo>
                  <a:cubicBezTo>
                    <a:pt x="11317" y="17191"/>
                    <a:pt x="11560" y="16522"/>
                    <a:pt x="11948" y="15996"/>
                  </a:cubicBezTo>
                  <a:cubicBezTo>
                    <a:pt x="11754" y="15709"/>
                    <a:pt x="11657" y="15423"/>
                    <a:pt x="11754" y="15088"/>
                  </a:cubicBezTo>
                  <a:cubicBezTo>
                    <a:pt x="12336" y="15088"/>
                    <a:pt x="12967" y="14802"/>
                    <a:pt x="13258" y="14324"/>
                  </a:cubicBezTo>
                  <a:cubicBezTo>
                    <a:pt x="12773" y="14085"/>
                    <a:pt x="12336" y="13702"/>
                    <a:pt x="12239" y="13225"/>
                  </a:cubicBezTo>
                  <a:cubicBezTo>
                    <a:pt x="13064" y="12699"/>
                    <a:pt x="13453" y="11600"/>
                    <a:pt x="13258" y="10692"/>
                  </a:cubicBezTo>
                  <a:cubicBezTo>
                    <a:pt x="13695" y="10596"/>
                    <a:pt x="13986" y="10309"/>
                    <a:pt x="14181" y="9975"/>
                  </a:cubicBezTo>
                  <a:cubicBezTo>
                    <a:pt x="14617" y="10883"/>
                    <a:pt x="14472" y="12078"/>
                    <a:pt x="13792" y="12890"/>
                  </a:cubicBezTo>
                  <a:cubicBezTo>
                    <a:pt x="14084" y="12986"/>
                    <a:pt x="14375" y="13081"/>
                    <a:pt x="14617" y="13320"/>
                  </a:cubicBezTo>
                  <a:cubicBezTo>
                    <a:pt x="14278" y="13989"/>
                    <a:pt x="13889" y="14706"/>
                    <a:pt x="13598" y="15327"/>
                  </a:cubicBezTo>
                  <a:cubicBezTo>
                    <a:pt x="14181" y="15184"/>
                    <a:pt x="15006" y="15088"/>
                    <a:pt x="15394" y="15614"/>
                  </a:cubicBezTo>
                  <a:cubicBezTo>
                    <a:pt x="15491" y="15805"/>
                    <a:pt x="15637" y="15996"/>
                    <a:pt x="15734" y="16092"/>
                  </a:cubicBezTo>
                  <a:cubicBezTo>
                    <a:pt x="16122" y="16522"/>
                    <a:pt x="16850" y="15996"/>
                    <a:pt x="17239" y="15518"/>
                  </a:cubicBezTo>
                  <a:cubicBezTo>
                    <a:pt x="16753" y="15088"/>
                    <a:pt x="16511" y="14180"/>
                    <a:pt x="16850" y="13607"/>
                  </a:cubicBezTo>
                  <a:cubicBezTo>
                    <a:pt x="16947" y="13416"/>
                    <a:pt x="17142" y="13081"/>
                    <a:pt x="17336" y="12890"/>
                  </a:cubicBezTo>
                  <a:cubicBezTo>
                    <a:pt x="17530" y="12603"/>
                    <a:pt x="17870" y="12317"/>
                    <a:pt x="18064" y="11982"/>
                  </a:cubicBezTo>
                  <a:cubicBezTo>
                    <a:pt x="18452" y="11982"/>
                    <a:pt x="18986" y="11982"/>
                    <a:pt x="19374" y="11886"/>
                  </a:cubicBezTo>
                  <a:cubicBezTo>
                    <a:pt x="19374" y="11409"/>
                    <a:pt x="19374" y="10883"/>
                    <a:pt x="19374" y="10405"/>
                  </a:cubicBezTo>
                  <a:cubicBezTo>
                    <a:pt x="19908" y="10501"/>
                    <a:pt x="20394" y="10309"/>
                    <a:pt x="20685" y="9879"/>
                  </a:cubicBezTo>
                  <a:cubicBezTo>
                    <a:pt x="20200" y="9784"/>
                    <a:pt x="19811" y="9688"/>
                    <a:pt x="19374" y="9306"/>
                  </a:cubicBezTo>
                  <a:cubicBezTo>
                    <a:pt x="19083" y="8971"/>
                    <a:pt x="18889" y="8398"/>
                    <a:pt x="19180" y="7968"/>
                  </a:cubicBezTo>
                  <a:cubicBezTo>
                    <a:pt x="19569" y="8111"/>
                    <a:pt x="20005" y="8207"/>
                    <a:pt x="20297" y="8398"/>
                  </a:cubicBezTo>
                  <a:cubicBezTo>
                    <a:pt x="20102" y="7394"/>
                    <a:pt x="19471" y="6391"/>
                    <a:pt x="18792" y="5674"/>
                  </a:cubicBezTo>
                  <a:cubicBezTo>
                    <a:pt x="18646" y="5579"/>
                    <a:pt x="18452" y="5387"/>
                    <a:pt x="18452" y="5196"/>
                  </a:cubicBezTo>
                  <a:cubicBezTo>
                    <a:pt x="18355" y="4766"/>
                    <a:pt x="18986" y="4479"/>
                    <a:pt x="19471" y="4479"/>
                  </a:cubicBezTo>
                  <a:cubicBezTo>
                    <a:pt x="19908" y="4479"/>
                    <a:pt x="20491" y="4671"/>
                    <a:pt x="20782" y="4384"/>
                  </a:cubicBezTo>
                  <a:cubicBezTo>
                    <a:pt x="20394" y="3858"/>
                    <a:pt x="21413" y="3285"/>
                    <a:pt x="21316" y="2663"/>
                  </a:cubicBezTo>
                  <a:cubicBezTo>
                    <a:pt x="21316" y="2472"/>
                    <a:pt x="21122" y="2281"/>
                    <a:pt x="20928" y="2090"/>
                  </a:cubicBezTo>
                  <a:cubicBezTo>
                    <a:pt x="20200" y="1469"/>
                    <a:pt x="19471" y="848"/>
                    <a:pt x="18646" y="370"/>
                  </a:cubicBezTo>
                  <a:cubicBezTo>
                    <a:pt x="18258" y="179"/>
                    <a:pt x="17724" y="-156"/>
                    <a:pt x="17336" y="83"/>
                  </a:cubicBezTo>
                  <a:cubicBezTo>
                    <a:pt x="16899" y="274"/>
                    <a:pt x="16608" y="752"/>
                    <a:pt x="16753" y="1278"/>
                  </a:cubicBezTo>
                  <a:cubicBezTo>
                    <a:pt x="16753" y="1756"/>
                    <a:pt x="17044" y="2186"/>
                    <a:pt x="17239" y="2568"/>
                  </a:cubicBezTo>
                  <a:cubicBezTo>
                    <a:pt x="16753" y="2998"/>
                    <a:pt x="16122" y="2568"/>
                    <a:pt x="15637" y="2186"/>
                  </a:cubicBezTo>
                  <a:cubicBezTo>
                    <a:pt x="14472" y="1278"/>
                    <a:pt x="11414" y="2759"/>
                    <a:pt x="10540" y="4002"/>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8" name="Shape 3602"/>
            <p:cNvSpPr/>
            <p:nvPr/>
          </p:nvSpPr>
          <p:spPr>
            <a:xfrm>
              <a:off x="14538960" y="2489760"/>
              <a:ext cx="51840" cy="61920"/>
            </a:xfrm>
            <a:custGeom>
              <a:avLst/>
              <a:gdLst>
                <a:gd name="textAreaLeft" fmla="*/ 0 w 51840"/>
                <a:gd name="textAreaRight" fmla="*/ 52200 w 51840"/>
                <a:gd name="textAreaTop" fmla="*/ 0 h 61920"/>
                <a:gd name="textAreaBottom" fmla="*/ 62280 h 61920"/>
              </a:gdLst>
              <a:ahLst/>
              <a:rect l="textAreaLeft" t="textAreaTop" r="textAreaRight" b="textAreaBottom"/>
              <a:pathLst>
                <a:path w="21168" h="21361">
                  <a:moveTo>
                    <a:pt x="10667" y="8342"/>
                  </a:moveTo>
                  <a:cubicBezTo>
                    <a:pt x="10313" y="9969"/>
                    <a:pt x="8897" y="11449"/>
                    <a:pt x="6949" y="10857"/>
                  </a:cubicBezTo>
                  <a:cubicBezTo>
                    <a:pt x="6949" y="13076"/>
                    <a:pt x="4824" y="15147"/>
                    <a:pt x="2523" y="15591"/>
                  </a:cubicBezTo>
                  <a:cubicBezTo>
                    <a:pt x="2169" y="15591"/>
                    <a:pt x="1460" y="15887"/>
                    <a:pt x="1106" y="15887"/>
                  </a:cubicBezTo>
                  <a:cubicBezTo>
                    <a:pt x="752" y="16183"/>
                    <a:pt x="752" y="16479"/>
                    <a:pt x="398" y="16775"/>
                  </a:cubicBezTo>
                  <a:cubicBezTo>
                    <a:pt x="-133" y="17958"/>
                    <a:pt x="-133" y="19586"/>
                    <a:pt x="398" y="20769"/>
                  </a:cubicBezTo>
                  <a:cubicBezTo>
                    <a:pt x="1815" y="20769"/>
                    <a:pt x="2877" y="21065"/>
                    <a:pt x="4470" y="21065"/>
                  </a:cubicBezTo>
                  <a:cubicBezTo>
                    <a:pt x="6241" y="21065"/>
                    <a:pt x="8542" y="21361"/>
                    <a:pt x="10313" y="21361"/>
                  </a:cubicBezTo>
                  <a:cubicBezTo>
                    <a:pt x="11906" y="21361"/>
                    <a:pt x="13677" y="21361"/>
                    <a:pt x="14385" y="20473"/>
                  </a:cubicBezTo>
                  <a:cubicBezTo>
                    <a:pt x="14739" y="19882"/>
                    <a:pt x="15093" y="19290"/>
                    <a:pt x="14739" y="18550"/>
                  </a:cubicBezTo>
                  <a:cubicBezTo>
                    <a:pt x="14385" y="18254"/>
                    <a:pt x="14031" y="17958"/>
                    <a:pt x="13677" y="17958"/>
                  </a:cubicBezTo>
                  <a:cubicBezTo>
                    <a:pt x="12969" y="17366"/>
                    <a:pt x="13323" y="16183"/>
                    <a:pt x="14031" y="15147"/>
                  </a:cubicBezTo>
                  <a:cubicBezTo>
                    <a:pt x="14739" y="14556"/>
                    <a:pt x="15978" y="13964"/>
                    <a:pt x="16687" y="13076"/>
                  </a:cubicBezTo>
                  <a:cubicBezTo>
                    <a:pt x="15978" y="12780"/>
                    <a:pt x="15093" y="12040"/>
                    <a:pt x="15093" y="11153"/>
                  </a:cubicBezTo>
                  <a:cubicBezTo>
                    <a:pt x="15093" y="9969"/>
                    <a:pt x="16333" y="8934"/>
                    <a:pt x="17395" y="8046"/>
                  </a:cubicBezTo>
                  <a:cubicBezTo>
                    <a:pt x="18457" y="7158"/>
                    <a:pt x="19342" y="5531"/>
                    <a:pt x="18103" y="4939"/>
                  </a:cubicBezTo>
                  <a:cubicBezTo>
                    <a:pt x="20051" y="5235"/>
                    <a:pt x="21467" y="3460"/>
                    <a:pt x="21113" y="2128"/>
                  </a:cubicBezTo>
                  <a:cubicBezTo>
                    <a:pt x="20759" y="649"/>
                    <a:pt x="18457" y="-239"/>
                    <a:pt x="16687" y="57"/>
                  </a:cubicBezTo>
                  <a:cubicBezTo>
                    <a:pt x="16333" y="57"/>
                    <a:pt x="15978" y="57"/>
                    <a:pt x="15978" y="353"/>
                  </a:cubicBezTo>
                  <a:cubicBezTo>
                    <a:pt x="15093" y="649"/>
                    <a:pt x="15093" y="1240"/>
                    <a:pt x="15093" y="1832"/>
                  </a:cubicBezTo>
                  <a:cubicBezTo>
                    <a:pt x="15624" y="4939"/>
                    <a:pt x="11906" y="5235"/>
                    <a:pt x="10667" y="8342"/>
                  </a:cubicBezTo>
                </a:path>
              </a:pathLst>
            </a:custGeom>
            <a:solidFill>
              <a:srgbClr val="929292"/>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49" name="Shape 3603"/>
            <p:cNvSpPr/>
            <p:nvPr/>
          </p:nvSpPr>
          <p:spPr>
            <a:xfrm>
              <a:off x="14648400" y="2273400"/>
              <a:ext cx="37440" cy="47160"/>
            </a:xfrm>
            <a:custGeom>
              <a:avLst/>
              <a:gdLst>
                <a:gd name="textAreaLeft" fmla="*/ 0 w 37440"/>
                <a:gd name="textAreaRight" fmla="*/ 37800 w 37440"/>
                <a:gd name="textAreaTop" fmla="*/ 0 h 47160"/>
                <a:gd name="textAreaBottom" fmla="*/ 47520 h 47160"/>
              </a:gdLst>
              <a:ahLst/>
              <a:rect l="textAreaLeft" t="textAreaTop" r="textAreaRight" b="textAreaBottom"/>
              <a:pathLst>
                <a:path w="19452" h="20759">
                  <a:moveTo>
                    <a:pt x="1379" y="10250"/>
                  </a:moveTo>
                  <a:cubicBezTo>
                    <a:pt x="1819" y="10629"/>
                    <a:pt x="2481" y="10629"/>
                    <a:pt x="2921" y="11008"/>
                  </a:cubicBezTo>
                  <a:cubicBezTo>
                    <a:pt x="4244" y="11766"/>
                    <a:pt x="4244" y="13092"/>
                    <a:pt x="4244" y="14229"/>
                  </a:cubicBezTo>
                  <a:cubicBezTo>
                    <a:pt x="5125" y="13850"/>
                    <a:pt x="5787" y="14608"/>
                    <a:pt x="6448" y="15366"/>
                  </a:cubicBezTo>
                  <a:cubicBezTo>
                    <a:pt x="6889" y="16124"/>
                    <a:pt x="7109" y="17071"/>
                    <a:pt x="7991" y="17829"/>
                  </a:cubicBezTo>
                  <a:cubicBezTo>
                    <a:pt x="8872" y="18587"/>
                    <a:pt x="9754" y="19345"/>
                    <a:pt x="11076" y="19724"/>
                  </a:cubicBezTo>
                  <a:cubicBezTo>
                    <a:pt x="12619" y="20103"/>
                    <a:pt x="14162" y="21050"/>
                    <a:pt x="16146" y="20671"/>
                  </a:cubicBezTo>
                  <a:cubicBezTo>
                    <a:pt x="17909" y="20103"/>
                    <a:pt x="19452" y="18587"/>
                    <a:pt x="18570" y="17450"/>
                  </a:cubicBezTo>
                  <a:cubicBezTo>
                    <a:pt x="17689" y="17071"/>
                    <a:pt x="17248" y="15745"/>
                    <a:pt x="17248" y="14608"/>
                  </a:cubicBezTo>
                  <a:cubicBezTo>
                    <a:pt x="17248" y="13471"/>
                    <a:pt x="18570" y="13092"/>
                    <a:pt x="19452" y="12145"/>
                  </a:cubicBezTo>
                  <a:cubicBezTo>
                    <a:pt x="17248" y="11008"/>
                    <a:pt x="15264" y="9113"/>
                    <a:pt x="14383" y="7029"/>
                  </a:cubicBezTo>
                  <a:cubicBezTo>
                    <a:pt x="14383" y="6650"/>
                    <a:pt x="13942" y="5892"/>
                    <a:pt x="13942" y="5513"/>
                  </a:cubicBezTo>
                  <a:cubicBezTo>
                    <a:pt x="13501" y="4755"/>
                    <a:pt x="12619" y="4376"/>
                    <a:pt x="12179" y="3808"/>
                  </a:cubicBezTo>
                  <a:cubicBezTo>
                    <a:pt x="11076" y="3050"/>
                    <a:pt x="10195" y="1913"/>
                    <a:pt x="9313" y="1155"/>
                  </a:cubicBezTo>
                  <a:cubicBezTo>
                    <a:pt x="8432" y="397"/>
                    <a:pt x="6448" y="-550"/>
                    <a:pt x="5125" y="397"/>
                  </a:cubicBezTo>
                  <a:cubicBezTo>
                    <a:pt x="1819" y="776"/>
                    <a:pt x="-2148" y="8734"/>
                    <a:pt x="1379" y="10250"/>
                  </a:cubicBezTo>
                </a:path>
              </a:pathLst>
            </a:custGeom>
            <a:solidFill>
              <a:srgbClr val="929292"/>
            </a:solidFill>
            <a:ln w="12700">
              <a:noFill/>
            </a:ln>
          </p:spPr>
          <p:style>
            <a:lnRef idx="0"/>
            <a:fillRef idx="0"/>
            <a:effectRef idx="0"/>
            <a:fontRef idx="minor"/>
          </p:style>
          <p:txBody>
            <a:bodyPr numCol="1" spcCol="0" lIns="45720" rIns="45720" tIns="23760" bIns="237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0" name="Shape 3604"/>
            <p:cNvSpPr/>
            <p:nvPr/>
          </p:nvSpPr>
          <p:spPr>
            <a:xfrm>
              <a:off x="14652720" y="2412360"/>
              <a:ext cx="39960" cy="21240"/>
            </a:xfrm>
            <a:custGeom>
              <a:avLst/>
              <a:gdLst>
                <a:gd name="textAreaLeft" fmla="*/ 0 w 39960"/>
                <a:gd name="textAreaRight" fmla="*/ 40320 w 39960"/>
                <a:gd name="textAreaTop" fmla="*/ 0 h 21240"/>
                <a:gd name="textAreaBottom" fmla="*/ 21600 h 21240"/>
              </a:gdLst>
              <a:ahLst/>
              <a:rect l="textAreaLeft" t="textAreaTop" r="textAreaRight" b="textAreaBottom"/>
              <a:pathLst>
                <a:path w="20812" h="20704">
                  <a:moveTo>
                    <a:pt x="91" y="8894"/>
                  </a:moveTo>
                  <a:cubicBezTo>
                    <a:pt x="550" y="11859"/>
                    <a:pt x="2388" y="13553"/>
                    <a:pt x="3767" y="14400"/>
                  </a:cubicBezTo>
                  <a:cubicBezTo>
                    <a:pt x="5376" y="14400"/>
                    <a:pt x="6754" y="14400"/>
                    <a:pt x="8133" y="15247"/>
                  </a:cubicBezTo>
                  <a:lnTo>
                    <a:pt x="10201" y="18635"/>
                  </a:lnTo>
                  <a:cubicBezTo>
                    <a:pt x="12040" y="21600"/>
                    <a:pt x="14337" y="20753"/>
                    <a:pt x="16405" y="19906"/>
                  </a:cubicBezTo>
                  <a:cubicBezTo>
                    <a:pt x="17784" y="18635"/>
                    <a:pt x="18703" y="18635"/>
                    <a:pt x="19852" y="16941"/>
                  </a:cubicBezTo>
                  <a:cubicBezTo>
                    <a:pt x="20771" y="15247"/>
                    <a:pt x="21231" y="12706"/>
                    <a:pt x="20312" y="11012"/>
                  </a:cubicBezTo>
                  <a:cubicBezTo>
                    <a:pt x="17325" y="11859"/>
                    <a:pt x="16865" y="847"/>
                    <a:pt x="13418" y="0"/>
                  </a:cubicBezTo>
                  <a:lnTo>
                    <a:pt x="11580" y="0"/>
                  </a:lnTo>
                  <a:cubicBezTo>
                    <a:pt x="9742" y="847"/>
                    <a:pt x="7674" y="0"/>
                    <a:pt x="6295" y="0"/>
                  </a:cubicBezTo>
                  <a:cubicBezTo>
                    <a:pt x="4686" y="0"/>
                    <a:pt x="3308" y="1271"/>
                    <a:pt x="2388" y="3388"/>
                  </a:cubicBezTo>
                  <a:cubicBezTo>
                    <a:pt x="1010" y="2541"/>
                    <a:pt x="-369" y="5929"/>
                    <a:pt x="91" y="8894"/>
                  </a:cubicBezTo>
                </a:path>
              </a:pathLst>
            </a:custGeom>
            <a:solidFill>
              <a:srgbClr val="929292"/>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1" name="Shape 3605"/>
            <p:cNvSpPr/>
            <p:nvPr/>
          </p:nvSpPr>
          <p:spPr>
            <a:xfrm>
              <a:off x="14592240" y="2405880"/>
              <a:ext cx="298080" cy="251640"/>
            </a:xfrm>
            <a:custGeom>
              <a:avLst/>
              <a:gdLst>
                <a:gd name="textAreaLeft" fmla="*/ 0 w 298080"/>
                <a:gd name="textAreaRight" fmla="*/ 298440 w 298080"/>
                <a:gd name="textAreaTop" fmla="*/ 0 h 251640"/>
                <a:gd name="textAreaBottom" fmla="*/ 252000 h 251640"/>
              </a:gdLst>
              <a:ahLst/>
              <a:rect l="textAreaLeft" t="textAreaTop" r="textAreaRight" b="textAreaBottom"/>
              <a:pathLst>
                <a:path w="21530" h="21328">
                  <a:moveTo>
                    <a:pt x="2897" y="6187"/>
                  </a:moveTo>
                  <a:cubicBezTo>
                    <a:pt x="2456" y="6372"/>
                    <a:pt x="1984" y="6520"/>
                    <a:pt x="1669" y="6815"/>
                  </a:cubicBezTo>
                  <a:cubicBezTo>
                    <a:pt x="1322" y="7222"/>
                    <a:pt x="1197" y="7888"/>
                    <a:pt x="1511" y="8295"/>
                  </a:cubicBezTo>
                  <a:cubicBezTo>
                    <a:pt x="1259" y="8517"/>
                    <a:pt x="1008" y="8850"/>
                    <a:pt x="1071" y="9146"/>
                  </a:cubicBezTo>
                  <a:cubicBezTo>
                    <a:pt x="1134" y="9774"/>
                    <a:pt x="1858" y="9774"/>
                    <a:pt x="2393" y="9626"/>
                  </a:cubicBezTo>
                  <a:cubicBezTo>
                    <a:pt x="2897" y="9441"/>
                    <a:pt x="3621" y="9552"/>
                    <a:pt x="3621" y="10144"/>
                  </a:cubicBezTo>
                  <a:cubicBezTo>
                    <a:pt x="2708" y="10218"/>
                    <a:pt x="1795" y="10218"/>
                    <a:pt x="850" y="10329"/>
                  </a:cubicBezTo>
                  <a:cubicBezTo>
                    <a:pt x="693" y="10514"/>
                    <a:pt x="756" y="10958"/>
                    <a:pt x="1008" y="10995"/>
                  </a:cubicBezTo>
                  <a:cubicBezTo>
                    <a:pt x="882" y="11032"/>
                    <a:pt x="756" y="11032"/>
                    <a:pt x="661" y="11106"/>
                  </a:cubicBezTo>
                  <a:cubicBezTo>
                    <a:pt x="724" y="11772"/>
                    <a:pt x="598" y="12548"/>
                    <a:pt x="346" y="13177"/>
                  </a:cubicBezTo>
                  <a:cubicBezTo>
                    <a:pt x="472" y="13325"/>
                    <a:pt x="598" y="13399"/>
                    <a:pt x="724" y="13584"/>
                  </a:cubicBezTo>
                  <a:cubicBezTo>
                    <a:pt x="409" y="14102"/>
                    <a:pt x="126" y="14804"/>
                    <a:pt x="0" y="15433"/>
                  </a:cubicBezTo>
                  <a:cubicBezTo>
                    <a:pt x="1071" y="16062"/>
                    <a:pt x="2110" y="16580"/>
                    <a:pt x="3306" y="16765"/>
                  </a:cubicBezTo>
                  <a:cubicBezTo>
                    <a:pt x="3715" y="16839"/>
                    <a:pt x="4156" y="16765"/>
                    <a:pt x="4566" y="16691"/>
                  </a:cubicBezTo>
                  <a:cubicBezTo>
                    <a:pt x="4692" y="16691"/>
                    <a:pt x="4880" y="16580"/>
                    <a:pt x="5038" y="16691"/>
                  </a:cubicBezTo>
                  <a:cubicBezTo>
                    <a:pt x="5164" y="16765"/>
                    <a:pt x="5227" y="17061"/>
                    <a:pt x="5101" y="17135"/>
                  </a:cubicBezTo>
                  <a:cubicBezTo>
                    <a:pt x="4692" y="16987"/>
                    <a:pt x="4503" y="17652"/>
                    <a:pt x="4692" y="18059"/>
                  </a:cubicBezTo>
                  <a:cubicBezTo>
                    <a:pt x="4880" y="18429"/>
                    <a:pt x="5290" y="18688"/>
                    <a:pt x="5479" y="19095"/>
                  </a:cubicBezTo>
                  <a:cubicBezTo>
                    <a:pt x="5762" y="19539"/>
                    <a:pt x="5762" y="20315"/>
                    <a:pt x="6140" y="20648"/>
                  </a:cubicBezTo>
                  <a:cubicBezTo>
                    <a:pt x="6266" y="20796"/>
                    <a:pt x="6486" y="20870"/>
                    <a:pt x="6675" y="20870"/>
                  </a:cubicBezTo>
                  <a:cubicBezTo>
                    <a:pt x="7085" y="20944"/>
                    <a:pt x="7399" y="21092"/>
                    <a:pt x="7809" y="21166"/>
                  </a:cubicBezTo>
                  <a:cubicBezTo>
                    <a:pt x="8407" y="21314"/>
                    <a:pt x="9037" y="21499"/>
                    <a:pt x="9446" y="21018"/>
                  </a:cubicBezTo>
                  <a:cubicBezTo>
                    <a:pt x="9572" y="20870"/>
                    <a:pt x="9635" y="20722"/>
                    <a:pt x="9792" y="20648"/>
                  </a:cubicBezTo>
                  <a:cubicBezTo>
                    <a:pt x="9918" y="20537"/>
                    <a:pt x="10107" y="20648"/>
                    <a:pt x="10233" y="20648"/>
                  </a:cubicBezTo>
                  <a:cubicBezTo>
                    <a:pt x="10454" y="20537"/>
                    <a:pt x="10580" y="20241"/>
                    <a:pt x="10706" y="20020"/>
                  </a:cubicBezTo>
                  <a:cubicBezTo>
                    <a:pt x="10894" y="19687"/>
                    <a:pt x="11304" y="19539"/>
                    <a:pt x="11619" y="19613"/>
                  </a:cubicBezTo>
                  <a:lnTo>
                    <a:pt x="11619" y="18984"/>
                  </a:lnTo>
                  <a:cubicBezTo>
                    <a:pt x="12154" y="18688"/>
                    <a:pt x="12878" y="18688"/>
                    <a:pt x="13413" y="18984"/>
                  </a:cubicBezTo>
                  <a:cubicBezTo>
                    <a:pt x="13823" y="17837"/>
                    <a:pt x="14988" y="17283"/>
                    <a:pt x="16058" y="16913"/>
                  </a:cubicBezTo>
                  <a:cubicBezTo>
                    <a:pt x="16373" y="16913"/>
                    <a:pt x="16783" y="17061"/>
                    <a:pt x="17034" y="17283"/>
                  </a:cubicBezTo>
                  <a:cubicBezTo>
                    <a:pt x="17097" y="16765"/>
                    <a:pt x="17696" y="16358"/>
                    <a:pt x="18105" y="16580"/>
                  </a:cubicBezTo>
                  <a:cubicBezTo>
                    <a:pt x="18294" y="16691"/>
                    <a:pt x="18420" y="16839"/>
                    <a:pt x="18640" y="16913"/>
                  </a:cubicBezTo>
                  <a:cubicBezTo>
                    <a:pt x="19081" y="17209"/>
                    <a:pt x="19742" y="17061"/>
                    <a:pt x="20089" y="16506"/>
                  </a:cubicBezTo>
                  <a:cubicBezTo>
                    <a:pt x="19900" y="16432"/>
                    <a:pt x="19742" y="16284"/>
                    <a:pt x="19616" y="16136"/>
                  </a:cubicBezTo>
                  <a:cubicBezTo>
                    <a:pt x="19900" y="15803"/>
                    <a:pt x="20152" y="15581"/>
                    <a:pt x="20466" y="15433"/>
                  </a:cubicBezTo>
                  <a:cubicBezTo>
                    <a:pt x="20750" y="14657"/>
                    <a:pt x="21002" y="13954"/>
                    <a:pt x="21285" y="13177"/>
                  </a:cubicBezTo>
                  <a:cubicBezTo>
                    <a:pt x="21348" y="13103"/>
                    <a:pt x="21348" y="12955"/>
                    <a:pt x="21348" y="12807"/>
                  </a:cubicBezTo>
                  <a:cubicBezTo>
                    <a:pt x="21348" y="12733"/>
                    <a:pt x="21191" y="12622"/>
                    <a:pt x="21128" y="12474"/>
                  </a:cubicBezTo>
                  <a:cubicBezTo>
                    <a:pt x="21002" y="12252"/>
                    <a:pt x="21065" y="12031"/>
                    <a:pt x="21128" y="11772"/>
                  </a:cubicBezTo>
                  <a:cubicBezTo>
                    <a:pt x="21285" y="11328"/>
                    <a:pt x="21348" y="10773"/>
                    <a:pt x="21474" y="10329"/>
                  </a:cubicBezTo>
                  <a:cubicBezTo>
                    <a:pt x="21537" y="9922"/>
                    <a:pt x="21600" y="9367"/>
                    <a:pt x="21348" y="9072"/>
                  </a:cubicBezTo>
                  <a:cubicBezTo>
                    <a:pt x="21191" y="8998"/>
                    <a:pt x="21065" y="8924"/>
                    <a:pt x="21002" y="8776"/>
                  </a:cubicBezTo>
                  <a:cubicBezTo>
                    <a:pt x="20939" y="8591"/>
                    <a:pt x="21002" y="8443"/>
                    <a:pt x="21002" y="8295"/>
                  </a:cubicBezTo>
                  <a:cubicBezTo>
                    <a:pt x="20939" y="7999"/>
                    <a:pt x="20687" y="7740"/>
                    <a:pt x="20341" y="7666"/>
                  </a:cubicBezTo>
                  <a:cubicBezTo>
                    <a:pt x="19963" y="7518"/>
                    <a:pt x="19553" y="7370"/>
                    <a:pt x="19144" y="7518"/>
                  </a:cubicBezTo>
                  <a:cubicBezTo>
                    <a:pt x="18766" y="7666"/>
                    <a:pt x="18483" y="8295"/>
                    <a:pt x="18766" y="8665"/>
                  </a:cubicBezTo>
                  <a:lnTo>
                    <a:pt x="17570" y="8665"/>
                  </a:lnTo>
                  <a:cubicBezTo>
                    <a:pt x="17633" y="8517"/>
                    <a:pt x="17696" y="8295"/>
                    <a:pt x="17696" y="8147"/>
                  </a:cubicBezTo>
                  <a:cubicBezTo>
                    <a:pt x="17444" y="7888"/>
                    <a:pt x="17255" y="7518"/>
                    <a:pt x="17318" y="7148"/>
                  </a:cubicBezTo>
                  <a:cubicBezTo>
                    <a:pt x="16971" y="7222"/>
                    <a:pt x="16594" y="7148"/>
                    <a:pt x="16247" y="6889"/>
                  </a:cubicBezTo>
                  <a:cubicBezTo>
                    <a:pt x="16594" y="6815"/>
                    <a:pt x="16562" y="6261"/>
                    <a:pt x="16436" y="5891"/>
                  </a:cubicBezTo>
                  <a:cubicBezTo>
                    <a:pt x="16279" y="5484"/>
                    <a:pt x="16121" y="5114"/>
                    <a:pt x="16310" y="4818"/>
                  </a:cubicBezTo>
                  <a:cubicBezTo>
                    <a:pt x="16121" y="4633"/>
                    <a:pt x="15932" y="4559"/>
                    <a:pt x="15712" y="4411"/>
                  </a:cubicBezTo>
                  <a:cubicBezTo>
                    <a:pt x="15523" y="4115"/>
                    <a:pt x="16121" y="3709"/>
                    <a:pt x="16121" y="3265"/>
                  </a:cubicBezTo>
                  <a:cubicBezTo>
                    <a:pt x="16121" y="3006"/>
                    <a:pt x="15932" y="2858"/>
                    <a:pt x="15869" y="2710"/>
                  </a:cubicBezTo>
                  <a:cubicBezTo>
                    <a:pt x="15712" y="2414"/>
                    <a:pt x="15869" y="1933"/>
                    <a:pt x="15932" y="1526"/>
                  </a:cubicBezTo>
                  <a:cubicBezTo>
                    <a:pt x="15995" y="750"/>
                    <a:pt x="15397" y="-101"/>
                    <a:pt x="14673" y="10"/>
                  </a:cubicBezTo>
                  <a:cubicBezTo>
                    <a:pt x="14610" y="1009"/>
                    <a:pt x="14264" y="2007"/>
                    <a:pt x="13665" y="2710"/>
                  </a:cubicBezTo>
                  <a:cubicBezTo>
                    <a:pt x="13413" y="3006"/>
                    <a:pt x="13162" y="3413"/>
                    <a:pt x="13162" y="3783"/>
                  </a:cubicBezTo>
                  <a:lnTo>
                    <a:pt x="12563" y="3783"/>
                  </a:lnTo>
                  <a:cubicBezTo>
                    <a:pt x="12406" y="4189"/>
                    <a:pt x="12311" y="4633"/>
                    <a:pt x="12406" y="5040"/>
                  </a:cubicBezTo>
                  <a:cubicBezTo>
                    <a:pt x="12469" y="5410"/>
                    <a:pt x="12878" y="5817"/>
                    <a:pt x="13224" y="5743"/>
                  </a:cubicBezTo>
                  <a:lnTo>
                    <a:pt x="13224" y="6372"/>
                  </a:lnTo>
                  <a:cubicBezTo>
                    <a:pt x="13602" y="6520"/>
                    <a:pt x="14012" y="6741"/>
                    <a:pt x="14327" y="7037"/>
                  </a:cubicBezTo>
                  <a:cubicBezTo>
                    <a:pt x="14012" y="7666"/>
                    <a:pt x="13728" y="8221"/>
                    <a:pt x="13413" y="8850"/>
                  </a:cubicBezTo>
                  <a:cubicBezTo>
                    <a:pt x="13665" y="8998"/>
                    <a:pt x="13949" y="9072"/>
                    <a:pt x="14138" y="8998"/>
                  </a:cubicBezTo>
                  <a:cubicBezTo>
                    <a:pt x="14138" y="9294"/>
                    <a:pt x="14138" y="9552"/>
                    <a:pt x="14012" y="9848"/>
                  </a:cubicBezTo>
                  <a:cubicBezTo>
                    <a:pt x="14484" y="9996"/>
                    <a:pt x="14893" y="10292"/>
                    <a:pt x="15114" y="10773"/>
                  </a:cubicBezTo>
                  <a:cubicBezTo>
                    <a:pt x="15303" y="11217"/>
                    <a:pt x="15334" y="11957"/>
                    <a:pt x="14862" y="12252"/>
                  </a:cubicBezTo>
                  <a:cubicBezTo>
                    <a:pt x="14075" y="12807"/>
                    <a:pt x="12941" y="11254"/>
                    <a:pt x="12217" y="11957"/>
                  </a:cubicBezTo>
                  <a:cubicBezTo>
                    <a:pt x="12028" y="12104"/>
                    <a:pt x="11902" y="12400"/>
                    <a:pt x="11682" y="12326"/>
                  </a:cubicBezTo>
                  <a:cubicBezTo>
                    <a:pt x="11556" y="12326"/>
                    <a:pt x="11493" y="12178"/>
                    <a:pt x="11430" y="12104"/>
                  </a:cubicBezTo>
                  <a:cubicBezTo>
                    <a:pt x="11020" y="11550"/>
                    <a:pt x="10643" y="10921"/>
                    <a:pt x="10296" y="10403"/>
                  </a:cubicBezTo>
                  <a:cubicBezTo>
                    <a:pt x="10706" y="9996"/>
                    <a:pt x="10296" y="9294"/>
                    <a:pt x="9918" y="8924"/>
                  </a:cubicBezTo>
                  <a:cubicBezTo>
                    <a:pt x="9572" y="8517"/>
                    <a:pt x="9257" y="8221"/>
                    <a:pt x="8911" y="7814"/>
                  </a:cubicBezTo>
                  <a:cubicBezTo>
                    <a:pt x="8722" y="7666"/>
                    <a:pt x="8533" y="7444"/>
                    <a:pt x="8470" y="7222"/>
                  </a:cubicBezTo>
                  <a:cubicBezTo>
                    <a:pt x="8407" y="7037"/>
                    <a:pt x="8407" y="6815"/>
                    <a:pt x="8313" y="6667"/>
                  </a:cubicBezTo>
                  <a:cubicBezTo>
                    <a:pt x="8187" y="6261"/>
                    <a:pt x="7809" y="6039"/>
                    <a:pt x="7399" y="5965"/>
                  </a:cubicBezTo>
                  <a:cubicBezTo>
                    <a:pt x="6990" y="5891"/>
                    <a:pt x="6675" y="6113"/>
                    <a:pt x="6266" y="6261"/>
                  </a:cubicBezTo>
                  <a:cubicBezTo>
                    <a:pt x="6329" y="5595"/>
                    <a:pt x="6014" y="4818"/>
                    <a:pt x="5479" y="4411"/>
                  </a:cubicBezTo>
                  <a:cubicBezTo>
                    <a:pt x="4880" y="3709"/>
                    <a:pt x="3904" y="3635"/>
                    <a:pt x="3243" y="4189"/>
                  </a:cubicBezTo>
                  <a:cubicBezTo>
                    <a:pt x="2834" y="4485"/>
                    <a:pt x="2645" y="3967"/>
                    <a:pt x="2393" y="4485"/>
                  </a:cubicBezTo>
                  <a:cubicBezTo>
                    <a:pt x="2236" y="5262"/>
                    <a:pt x="2645" y="5965"/>
                    <a:pt x="2897" y="6187"/>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2" name="Shape 3606"/>
            <p:cNvSpPr/>
            <p:nvPr/>
          </p:nvSpPr>
          <p:spPr>
            <a:xfrm>
              <a:off x="14902920" y="2558880"/>
              <a:ext cx="37440" cy="49680"/>
            </a:xfrm>
            <a:custGeom>
              <a:avLst/>
              <a:gdLst>
                <a:gd name="textAreaLeft" fmla="*/ 0 w 37440"/>
                <a:gd name="textAreaRight" fmla="*/ 37800 w 37440"/>
                <a:gd name="textAreaTop" fmla="*/ 0 h 49680"/>
                <a:gd name="textAreaBottom" fmla="*/ 50040 h 49680"/>
              </a:gdLst>
              <a:ahLst/>
              <a:rect l="textAreaLeft" t="textAreaTop" r="textAreaRight" b="textAreaBottom"/>
              <a:pathLst>
                <a:path w="20509" h="20315">
                  <a:moveTo>
                    <a:pt x="3410" y="9426"/>
                  </a:moveTo>
                  <a:cubicBezTo>
                    <a:pt x="2946" y="10675"/>
                    <a:pt x="1552" y="11568"/>
                    <a:pt x="1088" y="12817"/>
                  </a:cubicBezTo>
                  <a:cubicBezTo>
                    <a:pt x="391" y="13889"/>
                    <a:pt x="-538" y="15495"/>
                    <a:pt x="391" y="16209"/>
                  </a:cubicBezTo>
                  <a:cubicBezTo>
                    <a:pt x="1552" y="17280"/>
                    <a:pt x="3875" y="17280"/>
                    <a:pt x="5965" y="17816"/>
                  </a:cubicBezTo>
                  <a:cubicBezTo>
                    <a:pt x="7823" y="17816"/>
                    <a:pt x="10146" y="19244"/>
                    <a:pt x="9681" y="20315"/>
                  </a:cubicBezTo>
                  <a:cubicBezTo>
                    <a:pt x="12236" y="19601"/>
                    <a:pt x="15023" y="20672"/>
                    <a:pt x="16649" y="19244"/>
                  </a:cubicBezTo>
                  <a:cubicBezTo>
                    <a:pt x="18043" y="17280"/>
                    <a:pt x="15023" y="15138"/>
                    <a:pt x="16649" y="13174"/>
                  </a:cubicBezTo>
                  <a:cubicBezTo>
                    <a:pt x="17114" y="12460"/>
                    <a:pt x="18507" y="12103"/>
                    <a:pt x="19436" y="11389"/>
                  </a:cubicBezTo>
                  <a:cubicBezTo>
                    <a:pt x="20365" y="10675"/>
                    <a:pt x="21062" y="9426"/>
                    <a:pt x="19901" y="9069"/>
                  </a:cubicBezTo>
                  <a:cubicBezTo>
                    <a:pt x="18507" y="9426"/>
                    <a:pt x="17114" y="7998"/>
                    <a:pt x="16649" y="6927"/>
                  </a:cubicBezTo>
                  <a:cubicBezTo>
                    <a:pt x="16185" y="5677"/>
                    <a:pt x="16649" y="4249"/>
                    <a:pt x="16185" y="3178"/>
                  </a:cubicBezTo>
                  <a:cubicBezTo>
                    <a:pt x="15488" y="-214"/>
                    <a:pt x="6894" y="-928"/>
                    <a:pt x="3875" y="1214"/>
                  </a:cubicBezTo>
                  <a:cubicBezTo>
                    <a:pt x="-73" y="3535"/>
                    <a:pt x="4804" y="6927"/>
                    <a:pt x="3410" y="9426"/>
                  </a:cubicBezTo>
                </a:path>
              </a:pathLst>
            </a:custGeom>
            <a:solidFill>
              <a:srgbClr val="929292"/>
            </a:solidFill>
            <a:ln w="12700">
              <a:noFill/>
            </a:ln>
          </p:spPr>
          <p:style>
            <a:lnRef idx="0"/>
            <a:fillRef idx="0"/>
            <a:effectRef idx="0"/>
            <a:fontRef idx="minor"/>
          </p:style>
          <p:txBody>
            <a:bodyPr numCol="1" spcCol="0" lIns="45720" rIns="45720" tIns="24840" bIns="248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3" name="Shape 3607"/>
            <p:cNvSpPr/>
            <p:nvPr/>
          </p:nvSpPr>
          <p:spPr>
            <a:xfrm>
              <a:off x="14695560" y="2266200"/>
              <a:ext cx="92880" cy="102240"/>
            </a:xfrm>
            <a:custGeom>
              <a:avLst/>
              <a:gdLst>
                <a:gd name="textAreaLeft" fmla="*/ 0 w 92880"/>
                <a:gd name="textAreaRight" fmla="*/ 93240 w 92880"/>
                <a:gd name="textAreaTop" fmla="*/ 0 h 102240"/>
                <a:gd name="textAreaBottom" fmla="*/ 102600 h 102240"/>
              </a:gdLst>
              <a:ahLst/>
              <a:rect l="textAreaLeft" t="textAreaTop" r="textAreaRight" b="textAreaBottom"/>
              <a:pathLst>
                <a:path w="21043" h="21442">
                  <a:moveTo>
                    <a:pt x="12362" y="368"/>
                  </a:moveTo>
                  <a:cubicBezTo>
                    <a:pt x="12758" y="0"/>
                    <a:pt x="13650" y="0"/>
                    <a:pt x="14244" y="0"/>
                  </a:cubicBezTo>
                  <a:cubicBezTo>
                    <a:pt x="15433" y="0"/>
                    <a:pt x="16721" y="0"/>
                    <a:pt x="18009" y="0"/>
                  </a:cubicBezTo>
                  <a:cubicBezTo>
                    <a:pt x="18802" y="0"/>
                    <a:pt x="19595" y="0"/>
                    <a:pt x="20288" y="368"/>
                  </a:cubicBezTo>
                  <a:cubicBezTo>
                    <a:pt x="20883" y="735"/>
                    <a:pt x="21279" y="1563"/>
                    <a:pt x="20883" y="2298"/>
                  </a:cubicBezTo>
                  <a:cubicBezTo>
                    <a:pt x="20486" y="3033"/>
                    <a:pt x="18802" y="3493"/>
                    <a:pt x="19198" y="4228"/>
                  </a:cubicBezTo>
                  <a:cubicBezTo>
                    <a:pt x="19396" y="4596"/>
                    <a:pt x="19595" y="4596"/>
                    <a:pt x="19793" y="4963"/>
                  </a:cubicBezTo>
                  <a:cubicBezTo>
                    <a:pt x="20288" y="5607"/>
                    <a:pt x="19396" y="6342"/>
                    <a:pt x="19396" y="7077"/>
                  </a:cubicBezTo>
                  <a:cubicBezTo>
                    <a:pt x="19396" y="8089"/>
                    <a:pt x="20685" y="8824"/>
                    <a:pt x="20090" y="9651"/>
                  </a:cubicBezTo>
                  <a:cubicBezTo>
                    <a:pt x="19793" y="9835"/>
                    <a:pt x="19595" y="10019"/>
                    <a:pt x="19396" y="10019"/>
                  </a:cubicBezTo>
                  <a:cubicBezTo>
                    <a:pt x="19000" y="10386"/>
                    <a:pt x="18802" y="10938"/>
                    <a:pt x="18802" y="11581"/>
                  </a:cubicBezTo>
                  <a:cubicBezTo>
                    <a:pt x="18604" y="12868"/>
                    <a:pt x="18406" y="14063"/>
                    <a:pt x="18207" y="15442"/>
                  </a:cubicBezTo>
                  <a:cubicBezTo>
                    <a:pt x="18207" y="15809"/>
                    <a:pt x="18207" y="16361"/>
                    <a:pt x="18604" y="16361"/>
                  </a:cubicBezTo>
                  <a:cubicBezTo>
                    <a:pt x="15631" y="18843"/>
                    <a:pt x="11569" y="19670"/>
                    <a:pt x="7804" y="18475"/>
                  </a:cubicBezTo>
                  <a:cubicBezTo>
                    <a:pt x="7407" y="18843"/>
                    <a:pt x="7407" y="19670"/>
                    <a:pt x="7110" y="20221"/>
                  </a:cubicBezTo>
                  <a:cubicBezTo>
                    <a:pt x="6912" y="20773"/>
                    <a:pt x="6714" y="21600"/>
                    <a:pt x="6119" y="21416"/>
                  </a:cubicBezTo>
                  <a:cubicBezTo>
                    <a:pt x="5723" y="21416"/>
                    <a:pt x="5327" y="20957"/>
                    <a:pt x="5029" y="20405"/>
                  </a:cubicBezTo>
                  <a:cubicBezTo>
                    <a:pt x="4237" y="19026"/>
                    <a:pt x="3246" y="17556"/>
                    <a:pt x="2354" y="16177"/>
                  </a:cubicBezTo>
                  <a:cubicBezTo>
                    <a:pt x="2156" y="15809"/>
                    <a:pt x="1958" y="15442"/>
                    <a:pt x="1562" y="15166"/>
                  </a:cubicBezTo>
                  <a:cubicBezTo>
                    <a:pt x="1165" y="14798"/>
                    <a:pt x="273" y="14798"/>
                    <a:pt x="75" y="14247"/>
                  </a:cubicBezTo>
                  <a:cubicBezTo>
                    <a:pt x="-321" y="13236"/>
                    <a:pt x="967" y="12500"/>
                    <a:pt x="967" y="11581"/>
                  </a:cubicBezTo>
                  <a:cubicBezTo>
                    <a:pt x="967" y="10754"/>
                    <a:pt x="472" y="10203"/>
                    <a:pt x="670" y="9467"/>
                  </a:cubicBezTo>
                  <a:cubicBezTo>
                    <a:pt x="967" y="8824"/>
                    <a:pt x="1562" y="8640"/>
                    <a:pt x="1562" y="8089"/>
                  </a:cubicBezTo>
                  <a:cubicBezTo>
                    <a:pt x="1562" y="7721"/>
                    <a:pt x="1165" y="7261"/>
                    <a:pt x="967" y="6894"/>
                  </a:cubicBezTo>
                  <a:cubicBezTo>
                    <a:pt x="75" y="4780"/>
                    <a:pt x="4435" y="5147"/>
                    <a:pt x="5525" y="4963"/>
                  </a:cubicBezTo>
                  <a:cubicBezTo>
                    <a:pt x="3048" y="919"/>
                    <a:pt x="10677" y="1563"/>
                    <a:pt x="12362" y="368"/>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4" name="Shape 3608"/>
            <p:cNvSpPr/>
            <p:nvPr/>
          </p:nvSpPr>
          <p:spPr>
            <a:xfrm>
              <a:off x="14672880" y="2184120"/>
              <a:ext cx="119880" cy="74520"/>
            </a:xfrm>
            <a:custGeom>
              <a:avLst/>
              <a:gdLst>
                <a:gd name="textAreaLeft" fmla="*/ 0 w 119880"/>
                <a:gd name="textAreaRight" fmla="*/ 120240 w 119880"/>
                <a:gd name="textAreaTop" fmla="*/ 0 h 74520"/>
                <a:gd name="textAreaBottom" fmla="*/ 74880 h 74520"/>
              </a:gdLst>
              <a:ahLst/>
              <a:rect l="textAreaLeft" t="textAreaTop" r="textAreaRight" b="textAreaBottom"/>
              <a:pathLst>
                <a:path w="21213" h="21123">
                  <a:moveTo>
                    <a:pt x="5295" y="20930"/>
                  </a:moveTo>
                  <a:cubicBezTo>
                    <a:pt x="6058" y="20434"/>
                    <a:pt x="6592" y="19317"/>
                    <a:pt x="7203" y="18075"/>
                  </a:cubicBezTo>
                  <a:cubicBezTo>
                    <a:pt x="7813" y="16710"/>
                    <a:pt x="8348" y="15965"/>
                    <a:pt x="9111" y="15717"/>
                  </a:cubicBezTo>
                  <a:cubicBezTo>
                    <a:pt x="10103" y="17455"/>
                    <a:pt x="11859" y="15717"/>
                    <a:pt x="13156" y="16461"/>
                  </a:cubicBezTo>
                  <a:cubicBezTo>
                    <a:pt x="13462" y="16710"/>
                    <a:pt x="13767" y="16958"/>
                    <a:pt x="13919" y="16958"/>
                  </a:cubicBezTo>
                  <a:cubicBezTo>
                    <a:pt x="14225" y="16958"/>
                    <a:pt x="14606" y="16461"/>
                    <a:pt x="14912" y="16213"/>
                  </a:cubicBezTo>
                  <a:cubicBezTo>
                    <a:pt x="15522" y="15965"/>
                    <a:pt x="16209" y="16958"/>
                    <a:pt x="16820" y="17206"/>
                  </a:cubicBezTo>
                  <a:cubicBezTo>
                    <a:pt x="17965" y="17827"/>
                    <a:pt x="19186" y="16461"/>
                    <a:pt x="20178" y="17455"/>
                  </a:cubicBezTo>
                  <a:cubicBezTo>
                    <a:pt x="20331" y="17827"/>
                    <a:pt x="20483" y="17827"/>
                    <a:pt x="20636" y="17827"/>
                  </a:cubicBezTo>
                  <a:cubicBezTo>
                    <a:pt x="21323" y="18075"/>
                    <a:pt x="21323" y="16213"/>
                    <a:pt x="21018" y="15468"/>
                  </a:cubicBezTo>
                  <a:cubicBezTo>
                    <a:pt x="20636" y="14599"/>
                    <a:pt x="20025" y="13855"/>
                    <a:pt x="20178" y="12861"/>
                  </a:cubicBezTo>
                  <a:cubicBezTo>
                    <a:pt x="20331" y="11993"/>
                    <a:pt x="21018" y="11496"/>
                    <a:pt x="21018" y="10751"/>
                  </a:cubicBezTo>
                  <a:cubicBezTo>
                    <a:pt x="21018" y="9386"/>
                    <a:pt x="19415" y="9137"/>
                    <a:pt x="19415" y="7896"/>
                  </a:cubicBezTo>
                  <a:cubicBezTo>
                    <a:pt x="19415" y="7648"/>
                    <a:pt x="19568" y="7151"/>
                    <a:pt x="19568" y="6779"/>
                  </a:cubicBezTo>
                  <a:cubicBezTo>
                    <a:pt x="19720" y="5786"/>
                    <a:pt x="19186" y="5041"/>
                    <a:pt x="18575" y="4544"/>
                  </a:cubicBezTo>
                  <a:cubicBezTo>
                    <a:pt x="18117" y="3924"/>
                    <a:pt x="17430" y="3675"/>
                    <a:pt x="16820" y="3179"/>
                  </a:cubicBezTo>
                  <a:cubicBezTo>
                    <a:pt x="16362" y="2682"/>
                    <a:pt x="15828" y="1813"/>
                    <a:pt x="15370" y="1068"/>
                  </a:cubicBezTo>
                  <a:cubicBezTo>
                    <a:pt x="14912" y="199"/>
                    <a:pt x="14225" y="-173"/>
                    <a:pt x="13614" y="75"/>
                  </a:cubicBezTo>
                  <a:cubicBezTo>
                    <a:pt x="13004" y="324"/>
                    <a:pt x="12469" y="1317"/>
                    <a:pt x="12851" y="2434"/>
                  </a:cubicBezTo>
                  <a:cubicBezTo>
                    <a:pt x="12011" y="2434"/>
                    <a:pt x="11401" y="3924"/>
                    <a:pt x="11553" y="5289"/>
                  </a:cubicBezTo>
                  <a:cubicBezTo>
                    <a:pt x="11553" y="5786"/>
                    <a:pt x="11706" y="6034"/>
                    <a:pt x="11706" y="6530"/>
                  </a:cubicBezTo>
                  <a:cubicBezTo>
                    <a:pt x="11706" y="7896"/>
                    <a:pt x="10561" y="8144"/>
                    <a:pt x="9951" y="7648"/>
                  </a:cubicBezTo>
                  <a:cubicBezTo>
                    <a:pt x="9264" y="7151"/>
                    <a:pt x="8653" y="6282"/>
                    <a:pt x="8042" y="6282"/>
                  </a:cubicBezTo>
                  <a:cubicBezTo>
                    <a:pt x="6592" y="6530"/>
                    <a:pt x="6287" y="10006"/>
                    <a:pt x="4989" y="10999"/>
                  </a:cubicBezTo>
                  <a:cubicBezTo>
                    <a:pt x="4455" y="11496"/>
                    <a:pt x="3692" y="11248"/>
                    <a:pt x="3234" y="10751"/>
                  </a:cubicBezTo>
                  <a:cubicBezTo>
                    <a:pt x="3234" y="10751"/>
                    <a:pt x="3387" y="15717"/>
                    <a:pt x="3539" y="16213"/>
                  </a:cubicBezTo>
                  <a:cubicBezTo>
                    <a:pt x="2394" y="16710"/>
                    <a:pt x="334" y="14351"/>
                    <a:pt x="28" y="17455"/>
                  </a:cubicBezTo>
                  <a:cubicBezTo>
                    <a:pt x="-277" y="20434"/>
                    <a:pt x="1936" y="21179"/>
                    <a:pt x="3081" y="19813"/>
                  </a:cubicBezTo>
                  <a:cubicBezTo>
                    <a:pt x="3539" y="20930"/>
                    <a:pt x="4303" y="21427"/>
                    <a:pt x="5295" y="20930"/>
                  </a:cubicBezTo>
                </a:path>
              </a:pathLst>
            </a:custGeom>
            <a:solidFill>
              <a:srgbClr val="929292"/>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5" name="Shape 3609"/>
            <p:cNvSpPr/>
            <p:nvPr/>
          </p:nvSpPr>
          <p:spPr>
            <a:xfrm>
              <a:off x="14882760" y="2112480"/>
              <a:ext cx="173160" cy="198000"/>
            </a:xfrm>
            <a:custGeom>
              <a:avLst/>
              <a:gdLst>
                <a:gd name="textAreaLeft" fmla="*/ 0 w 173160"/>
                <a:gd name="textAreaRight" fmla="*/ 173520 w 173160"/>
                <a:gd name="textAreaTop" fmla="*/ 0 h 198000"/>
                <a:gd name="textAreaBottom" fmla="*/ 198360 h 198000"/>
              </a:gdLst>
              <a:ahLst/>
              <a:rect l="textAreaLeft" t="textAreaTop" r="textAreaRight" b="textAreaBottom"/>
              <a:pathLst>
                <a:path w="20342" h="21274">
                  <a:moveTo>
                    <a:pt x="2084" y="6263"/>
                  </a:moveTo>
                  <a:cubicBezTo>
                    <a:pt x="2644" y="6497"/>
                    <a:pt x="2950" y="6966"/>
                    <a:pt x="2848" y="7387"/>
                  </a:cubicBezTo>
                  <a:cubicBezTo>
                    <a:pt x="2746" y="7856"/>
                    <a:pt x="1880" y="8043"/>
                    <a:pt x="1676" y="7669"/>
                  </a:cubicBezTo>
                  <a:cubicBezTo>
                    <a:pt x="1574" y="8746"/>
                    <a:pt x="1574" y="9824"/>
                    <a:pt x="1676" y="10808"/>
                  </a:cubicBezTo>
                  <a:cubicBezTo>
                    <a:pt x="1982" y="10808"/>
                    <a:pt x="2186" y="10808"/>
                    <a:pt x="2542" y="10808"/>
                  </a:cubicBezTo>
                  <a:cubicBezTo>
                    <a:pt x="2746" y="11511"/>
                    <a:pt x="2542" y="12401"/>
                    <a:pt x="1880" y="12869"/>
                  </a:cubicBezTo>
                  <a:cubicBezTo>
                    <a:pt x="2950" y="13760"/>
                    <a:pt x="3816" y="14837"/>
                    <a:pt x="4427" y="16009"/>
                  </a:cubicBezTo>
                  <a:cubicBezTo>
                    <a:pt x="5191" y="15540"/>
                    <a:pt x="5497" y="14697"/>
                    <a:pt x="6159" y="14135"/>
                  </a:cubicBezTo>
                  <a:cubicBezTo>
                    <a:pt x="6770" y="13525"/>
                    <a:pt x="8095" y="13572"/>
                    <a:pt x="8299" y="14322"/>
                  </a:cubicBezTo>
                  <a:cubicBezTo>
                    <a:pt x="8401" y="15118"/>
                    <a:pt x="7127" y="15728"/>
                    <a:pt x="7127" y="16524"/>
                  </a:cubicBezTo>
                  <a:cubicBezTo>
                    <a:pt x="8197" y="16290"/>
                    <a:pt x="9165" y="15540"/>
                    <a:pt x="9470" y="14650"/>
                  </a:cubicBezTo>
                  <a:cubicBezTo>
                    <a:pt x="9980" y="14228"/>
                    <a:pt x="10744" y="14650"/>
                    <a:pt x="11304" y="15025"/>
                  </a:cubicBezTo>
                  <a:cubicBezTo>
                    <a:pt x="11610" y="15212"/>
                    <a:pt x="11814" y="15446"/>
                    <a:pt x="12120" y="15634"/>
                  </a:cubicBezTo>
                  <a:cubicBezTo>
                    <a:pt x="12782" y="16102"/>
                    <a:pt x="13648" y="16899"/>
                    <a:pt x="13189" y="17695"/>
                  </a:cubicBezTo>
                  <a:cubicBezTo>
                    <a:pt x="14157" y="17695"/>
                    <a:pt x="14921" y="18586"/>
                    <a:pt x="14820" y="19335"/>
                  </a:cubicBezTo>
                  <a:cubicBezTo>
                    <a:pt x="14820" y="19570"/>
                    <a:pt x="14718" y="19757"/>
                    <a:pt x="14718" y="20038"/>
                  </a:cubicBezTo>
                  <a:cubicBezTo>
                    <a:pt x="14718" y="20319"/>
                    <a:pt x="14921" y="20647"/>
                    <a:pt x="15227" y="20835"/>
                  </a:cubicBezTo>
                  <a:cubicBezTo>
                    <a:pt x="15889" y="21303"/>
                    <a:pt x="16908" y="21397"/>
                    <a:pt x="17672" y="21116"/>
                  </a:cubicBezTo>
                  <a:cubicBezTo>
                    <a:pt x="18386" y="20788"/>
                    <a:pt x="18997" y="19945"/>
                    <a:pt x="18895" y="19148"/>
                  </a:cubicBezTo>
                  <a:cubicBezTo>
                    <a:pt x="19303" y="19335"/>
                    <a:pt x="19710" y="19570"/>
                    <a:pt x="20270" y="19757"/>
                  </a:cubicBezTo>
                  <a:cubicBezTo>
                    <a:pt x="20678" y="19054"/>
                    <a:pt x="19201" y="18258"/>
                    <a:pt x="19404" y="17602"/>
                  </a:cubicBezTo>
                  <a:cubicBezTo>
                    <a:pt x="19506" y="17414"/>
                    <a:pt x="19710" y="17180"/>
                    <a:pt x="19812" y="16899"/>
                  </a:cubicBezTo>
                  <a:cubicBezTo>
                    <a:pt x="20067" y="16430"/>
                    <a:pt x="19404" y="15915"/>
                    <a:pt x="18895" y="15634"/>
                  </a:cubicBezTo>
                  <a:cubicBezTo>
                    <a:pt x="18335" y="15306"/>
                    <a:pt x="17825" y="14744"/>
                    <a:pt x="18233" y="14228"/>
                  </a:cubicBezTo>
                  <a:cubicBezTo>
                    <a:pt x="17825" y="14463"/>
                    <a:pt x="17265" y="14041"/>
                    <a:pt x="17163" y="13666"/>
                  </a:cubicBezTo>
                  <a:cubicBezTo>
                    <a:pt x="17061" y="13244"/>
                    <a:pt x="17061" y="12776"/>
                    <a:pt x="17163" y="12401"/>
                  </a:cubicBezTo>
                  <a:cubicBezTo>
                    <a:pt x="17367" y="10995"/>
                    <a:pt x="17469" y="9355"/>
                    <a:pt x="16093" y="8653"/>
                  </a:cubicBezTo>
                  <a:cubicBezTo>
                    <a:pt x="15533" y="8371"/>
                    <a:pt x="14870" y="8231"/>
                    <a:pt x="14361" y="7950"/>
                  </a:cubicBezTo>
                  <a:cubicBezTo>
                    <a:pt x="13801" y="7669"/>
                    <a:pt x="13648" y="6872"/>
                    <a:pt x="14157" y="6591"/>
                  </a:cubicBezTo>
                  <a:cubicBezTo>
                    <a:pt x="13750" y="6778"/>
                    <a:pt x="13291" y="6450"/>
                    <a:pt x="13087" y="6076"/>
                  </a:cubicBezTo>
                  <a:cubicBezTo>
                    <a:pt x="12884" y="5654"/>
                    <a:pt x="12986" y="5326"/>
                    <a:pt x="12782" y="4904"/>
                  </a:cubicBezTo>
                  <a:cubicBezTo>
                    <a:pt x="12374" y="3920"/>
                    <a:pt x="10642" y="3639"/>
                    <a:pt x="9878" y="4529"/>
                  </a:cubicBezTo>
                  <a:cubicBezTo>
                    <a:pt x="9674" y="4717"/>
                    <a:pt x="9470" y="5092"/>
                    <a:pt x="9165" y="5092"/>
                  </a:cubicBezTo>
                  <a:cubicBezTo>
                    <a:pt x="8706" y="5185"/>
                    <a:pt x="8401" y="4717"/>
                    <a:pt x="8299" y="4201"/>
                  </a:cubicBezTo>
                  <a:cubicBezTo>
                    <a:pt x="8299" y="3827"/>
                    <a:pt x="8299" y="3358"/>
                    <a:pt x="7993" y="2936"/>
                  </a:cubicBezTo>
                  <a:cubicBezTo>
                    <a:pt x="7738" y="2749"/>
                    <a:pt x="7535" y="2749"/>
                    <a:pt x="7331" y="2561"/>
                  </a:cubicBezTo>
                  <a:cubicBezTo>
                    <a:pt x="6923" y="2046"/>
                    <a:pt x="7331" y="1390"/>
                    <a:pt x="6770" y="875"/>
                  </a:cubicBezTo>
                  <a:cubicBezTo>
                    <a:pt x="6363" y="406"/>
                    <a:pt x="5599" y="312"/>
                    <a:pt x="4987" y="172"/>
                  </a:cubicBezTo>
                  <a:cubicBezTo>
                    <a:pt x="3714" y="-16"/>
                    <a:pt x="2186" y="-203"/>
                    <a:pt x="1116" y="500"/>
                  </a:cubicBezTo>
                  <a:cubicBezTo>
                    <a:pt x="-922" y="1765"/>
                    <a:pt x="46" y="6685"/>
                    <a:pt x="2287" y="5092"/>
                  </a:cubicBezTo>
                  <a:cubicBezTo>
                    <a:pt x="2644" y="5607"/>
                    <a:pt x="2542" y="6076"/>
                    <a:pt x="2084" y="626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6" name="Shape 3610"/>
            <p:cNvSpPr/>
            <p:nvPr/>
          </p:nvSpPr>
          <p:spPr>
            <a:xfrm>
              <a:off x="14958360" y="2292480"/>
              <a:ext cx="40680" cy="39600"/>
            </a:xfrm>
            <a:custGeom>
              <a:avLst/>
              <a:gdLst>
                <a:gd name="textAreaLeft" fmla="*/ 0 w 40680"/>
                <a:gd name="textAreaRight" fmla="*/ 41040 w 40680"/>
                <a:gd name="textAreaTop" fmla="*/ 0 h 39600"/>
                <a:gd name="textAreaBottom" fmla="*/ 39960 h 39600"/>
              </a:gdLst>
              <a:ahLst/>
              <a:rect l="textAreaLeft" t="textAreaTop" r="textAreaRight" b="textAreaBottom"/>
              <a:pathLst>
                <a:path w="21191" h="20569">
                  <a:moveTo>
                    <a:pt x="46" y="8396"/>
                  </a:moveTo>
                  <a:cubicBezTo>
                    <a:pt x="46" y="9305"/>
                    <a:pt x="46" y="9987"/>
                    <a:pt x="728" y="10897"/>
                  </a:cubicBezTo>
                  <a:cubicBezTo>
                    <a:pt x="1183" y="11806"/>
                    <a:pt x="2547" y="11806"/>
                    <a:pt x="3456" y="12261"/>
                  </a:cubicBezTo>
                  <a:cubicBezTo>
                    <a:pt x="7322" y="13170"/>
                    <a:pt x="10732" y="15672"/>
                    <a:pt x="12096" y="19309"/>
                  </a:cubicBezTo>
                  <a:cubicBezTo>
                    <a:pt x="12096" y="19992"/>
                    <a:pt x="12551" y="20446"/>
                    <a:pt x="13006" y="20446"/>
                  </a:cubicBezTo>
                  <a:cubicBezTo>
                    <a:pt x="13915" y="20901"/>
                    <a:pt x="14370" y="19992"/>
                    <a:pt x="15507" y="19309"/>
                  </a:cubicBezTo>
                  <a:cubicBezTo>
                    <a:pt x="16871" y="17945"/>
                    <a:pt x="19145" y="17490"/>
                    <a:pt x="21191" y="17945"/>
                  </a:cubicBezTo>
                  <a:cubicBezTo>
                    <a:pt x="21191" y="14762"/>
                    <a:pt x="21191" y="11806"/>
                    <a:pt x="21191" y="8396"/>
                  </a:cubicBezTo>
                  <a:cubicBezTo>
                    <a:pt x="20282" y="8850"/>
                    <a:pt x="18690" y="7941"/>
                    <a:pt x="18235" y="7032"/>
                  </a:cubicBezTo>
                  <a:cubicBezTo>
                    <a:pt x="17780" y="6122"/>
                    <a:pt x="17780" y="5213"/>
                    <a:pt x="17326" y="3621"/>
                  </a:cubicBezTo>
                  <a:cubicBezTo>
                    <a:pt x="15962" y="-699"/>
                    <a:pt x="11642" y="-244"/>
                    <a:pt x="7776" y="438"/>
                  </a:cubicBezTo>
                  <a:cubicBezTo>
                    <a:pt x="2547" y="1802"/>
                    <a:pt x="-409" y="3166"/>
                    <a:pt x="46" y="8396"/>
                  </a:cubicBezTo>
                </a:path>
              </a:pathLst>
            </a:custGeom>
            <a:solidFill>
              <a:srgbClr val="929292"/>
            </a:solidFill>
            <a:ln w="12700">
              <a:noFill/>
            </a:ln>
          </p:spPr>
          <p:style>
            <a:lnRef idx="0"/>
            <a:fillRef idx="0"/>
            <a:effectRef idx="0"/>
            <a:fontRef idx="minor"/>
          </p:style>
          <p:txBody>
            <a:bodyPr numCol="1" spcCol="0" lIns="45720" rIns="45720" tIns="19800" bIns="19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7" name="Shape 3611"/>
            <p:cNvSpPr/>
            <p:nvPr/>
          </p:nvSpPr>
          <p:spPr>
            <a:xfrm>
              <a:off x="14870160" y="2311200"/>
              <a:ext cx="64800" cy="84240"/>
            </a:xfrm>
            <a:custGeom>
              <a:avLst/>
              <a:gdLst>
                <a:gd name="textAreaLeft" fmla="*/ 0 w 64800"/>
                <a:gd name="textAreaRight" fmla="*/ 65160 w 64800"/>
                <a:gd name="textAreaTop" fmla="*/ 0 h 84240"/>
                <a:gd name="textAreaBottom" fmla="*/ 84600 h 84240"/>
              </a:gdLst>
              <a:ahLst/>
              <a:rect l="textAreaLeft" t="textAreaTop" r="textAreaRight" b="textAreaBottom"/>
              <a:pathLst>
                <a:path w="19381" h="20336">
                  <a:moveTo>
                    <a:pt x="10727" y="6795"/>
                  </a:moveTo>
                  <a:cubicBezTo>
                    <a:pt x="10984" y="6795"/>
                    <a:pt x="11498" y="6795"/>
                    <a:pt x="11755" y="7110"/>
                  </a:cubicBezTo>
                  <a:cubicBezTo>
                    <a:pt x="12012" y="7319"/>
                    <a:pt x="12269" y="7529"/>
                    <a:pt x="12269" y="7948"/>
                  </a:cubicBezTo>
                  <a:cubicBezTo>
                    <a:pt x="12269" y="8578"/>
                    <a:pt x="12269" y="9521"/>
                    <a:pt x="12269" y="10150"/>
                  </a:cubicBezTo>
                  <a:cubicBezTo>
                    <a:pt x="12269" y="10780"/>
                    <a:pt x="12527" y="11723"/>
                    <a:pt x="13427" y="12143"/>
                  </a:cubicBezTo>
                  <a:cubicBezTo>
                    <a:pt x="13684" y="12352"/>
                    <a:pt x="14198" y="12352"/>
                    <a:pt x="14455" y="12562"/>
                  </a:cubicBezTo>
                  <a:cubicBezTo>
                    <a:pt x="15227" y="12981"/>
                    <a:pt x="15227" y="13925"/>
                    <a:pt x="15484" y="14554"/>
                  </a:cubicBezTo>
                  <a:cubicBezTo>
                    <a:pt x="15869" y="15813"/>
                    <a:pt x="16641" y="17176"/>
                    <a:pt x="17669" y="18014"/>
                  </a:cubicBezTo>
                  <a:cubicBezTo>
                    <a:pt x="18569" y="18748"/>
                    <a:pt x="19598" y="19378"/>
                    <a:pt x="19341" y="20216"/>
                  </a:cubicBezTo>
                  <a:cubicBezTo>
                    <a:pt x="17412" y="20531"/>
                    <a:pt x="15484" y="20216"/>
                    <a:pt x="13941" y="19378"/>
                  </a:cubicBezTo>
                  <a:cubicBezTo>
                    <a:pt x="13684" y="19168"/>
                    <a:pt x="13427" y="19168"/>
                    <a:pt x="13169" y="18958"/>
                  </a:cubicBezTo>
                  <a:cubicBezTo>
                    <a:pt x="12912" y="18748"/>
                    <a:pt x="12912" y="18329"/>
                    <a:pt x="12912" y="17805"/>
                  </a:cubicBezTo>
                  <a:cubicBezTo>
                    <a:pt x="12912" y="17176"/>
                    <a:pt x="12269" y="16337"/>
                    <a:pt x="11498" y="16127"/>
                  </a:cubicBezTo>
                  <a:cubicBezTo>
                    <a:pt x="10727" y="15813"/>
                    <a:pt x="9569" y="16337"/>
                    <a:pt x="9569" y="16966"/>
                  </a:cubicBezTo>
                  <a:cubicBezTo>
                    <a:pt x="8027" y="15813"/>
                    <a:pt x="5327" y="15393"/>
                    <a:pt x="4812" y="13715"/>
                  </a:cubicBezTo>
                  <a:cubicBezTo>
                    <a:pt x="4427" y="12562"/>
                    <a:pt x="4941" y="11199"/>
                    <a:pt x="4427" y="10360"/>
                  </a:cubicBezTo>
                  <a:cubicBezTo>
                    <a:pt x="3784" y="9521"/>
                    <a:pt x="2627" y="8997"/>
                    <a:pt x="2627" y="8158"/>
                  </a:cubicBezTo>
                  <a:cubicBezTo>
                    <a:pt x="2627" y="7739"/>
                    <a:pt x="3141" y="7319"/>
                    <a:pt x="3141" y="6585"/>
                  </a:cubicBezTo>
                  <a:cubicBezTo>
                    <a:pt x="3398" y="5537"/>
                    <a:pt x="1469" y="4593"/>
                    <a:pt x="1855" y="3335"/>
                  </a:cubicBezTo>
                  <a:cubicBezTo>
                    <a:pt x="1855" y="3125"/>
                    <a:pt x="2112" y="2706"/>
                    <a:pt x="1855" y="2496"/>
                  </a:cubicBezTo>
                  <a:cubicBezTo>
                    <a:pt x="1469" y="2181"/>
                    <a:pt x="1212" y="2181"/>
                    <a:pt x="955" y="1972"/>
                  </a:cubicBezTo>
                  <a:cubicBezTo>
                    <a:pt x="-2002" y="923"/>
                    <a:pt x="2627" y="-1069"/>
                    <a:pt x="5069" y="714"/>
                  </a:cubicBezTo>
                  <a:cubicBezTo>
                    <a:pt x="7127" y="2496"/>
                    <a:pt x="7769" y="6585"/>
                    <a:pt x="10727" y="6795"/>
                  </a:cubicBezTo>
                </a:path>
              </a:pathLst>
            </a:custGeom>
            <a:solidFill>
              <a:srgbClr val="929292"/>
            </a:solidFill>
            <a:ln w="12700">
              <a:noFill/>
            </a:ln>
          </p:spPr>
          <p:style>
            <a:lnRef idx="0"/>
            <a:fillRef idx="0"/>
            <a:effectRef idx="0"/>
            <a:fontRef idx="minor"/>
          </p:style>
          <p:txBody>
            <a:bodyPr numCol="1" spcCol="0" lIns="45720" rIns="45720" tIns="42120" bIns="42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8" name="Shape 3612"/>
            <p:cNvSpPr/>
            <p:nvPr/>
          </p:nvSpPr>
          <p:spPr>
            <a:xfrm>
              <a:off x="14909400" y="2424600"/>
              <a:ext cx="197280" cy="181800"/>
            </a:xfrm>
            <a:custGeom>
              <a:avLst/>
              <a:gdLst>
                <a:gd name="textAreaLeft" fmla="*/ 0 w 197280"/>
                <a:gd name="textAreaRight" fmla="*/ 197640 w 197280"/>
                <a:gd name="textAreaTop" fmla="*/ 0 h 181800"/>
                <a:gd name="textAreaBottom" fmla="*/ 182160 h 181800"/>
              </a:gdLst>
              <a:ahLst/>
              <a:rect l="textAreaLeft" t="textAreaTop" r="textAreaRight" b="textAreaBottom"/>
              <a:pathLst>
                <a:path w="21184" h="21370">
                  <a:moveTo>
                    <a:pt x="334" y="4191"/>
                  </a:moveTo>
                  <a:cubicBezTo>
                    <a:pt x="334" y="4548"/>
                    <a:pt x="334" y="4854"/>
                    <a:pt x="427" y="5159"/>
                  </a:cubicBezTo>
                  <a:cubicBezTo>
                    <a:pt x="662" y="5618"/>
                    <a:pt x="1318" y="5618"/>
                    <a:pt x="1411" y="6025"/>
                  </a:cubicBezTo>
                  <a:cubicBezTo>
                    <a:pt x="1646" y="6687"/>
                    <a:pt x="334" y="7197"/>
                    <a:pt x="662" y="7859"/>
                  </a:cubicBezTo>
                  <a:cubicBezTo>
                    <a:pt x="943" y="7961"/>
                    <a:pt x="1224" y="8063"/>
                    <a:pt x="1505" y="7961"/>
                  </a:cubicBezTo>
                  <a:cubicBezTo>
                    <a:pt x="1505" y="8369"/>
                    <a:pt x="1505" y="8827"/>
                    <a:pt x="1646" y="9235"/>
                  </a:cubicBezTo>
                  <a:cubicBezTo>
                    <a:pt x="2114" y="9133"/>
                    <a:pt x="2911" y="9337"/>
                    <a:pt x="2723" y="9897"/>
                  </a:cubicBezTo>
                  <a:cubicBezTo>
                    <a:pt x="2630" y="10101"/>
                    <a:pt x="2302" y="10203"/>
                    <a:pt x="2114" y="10304"/>
                  </a:cubicBezTo>
                  <a:cubicBezTo>
                    <a:pt x="1927" y="10406"/>
                    <a:pt x="1739" y="10712"/>
                    <a:pt x="1833" y="10967"/>
                  </a:cubicBezTo>
                  <a:cubicBezTo>
                    <a:pt x="2302" y="11374"/>
                    <a:pt x="2817" y="11782"/>
                    <a:pt x="3286" y="12240"/>
                  </a:cubicBezTo>
                  <a:cubicBezTo>
                    <a:pt x="3286" y="12444"/>
                    <a:pt x="3379" y="12648"/>
                    <a:pt x="3379" y="12852"/>
                  </a:cubicBezTo>
                  <a:cubicBezTo>
                    <a:pt x="3707" y="12852"/>
                    <a:pt x="3988" y="12852"/>
                    <a:pt x="4269" y="12852"/>
                  </a:cubicBezTo>
                  <a:cubicBezTo>
                    <a:pt x="4269" y="13616"/>
                    <a:pt x="5253" y="14023"/>
                    <a:pt x="5769" y="13514"/>
                  </a:cubicBezTo>
                  <a:cubicBezTo>
                    <a:pt x="5956" y="13820"/>
                    <a:pt x="6050" y="14125"/>
                    <a:pt x="5956" y="14584"/>
                  </a:cubicBezTo>
                  <a:cubicBezTo>
                    <a:pt x="6331" y="14482"/>
                    <a:pt x="6518" y="14889"/>
                    <a:pt x="6940" y="15093"/>
                  </a:cubicBezTo>
                  <a:cubicBezTo>
                    <a:pt x="7924" y="15755"/>
                    <a:pt x="9283" y="14380"/>
                    <a:pt x="10173" y="15195"/>
                  </a:cubicBezTo>
                  <a:cubicBezTo>
                    <a:pt x="10361" y="16061"/>
                    <a:pt x="10689" y="16825"/>
                    <a:pt x="10876" y="17691"/>
                  </a:cubicBezTo>
                  <a:cubicBezTo>
                    <a:pt x="11157" y="18659"/>
                    <a:pt x="11345" y="19576"/>
                    <a:pt x="11532" y="20544"/>
                  </a:cubicBezTo>
                  <a:cubicBezTo>
                    <a:pt x="12141" y="20544"/>
                    <a:pt x="12516" y="21104"/>
                    <a:pt x="13031" y="21308"/>
                  </a:cubicBezTo>
                  <a:cubicBezTo>
                    <a:pt x="13500" y="21512"/>
                    <a:pt x="14390" y="21206"/>
                    <a:pt x="14203" y="20544"/>
                  </a:cubicBezTo>
                  <a:cubicBezTo>
                    <a:pt x="15280" y="21308"/>
                    <a:pt x="16686" y="21512"/>
                    <a:pt x="17857" y="21104"/>
                  </a:cubicBezTo>
                  <a:cubicBezTo>
                    <a:pt x="18326" y="20340"/>
                    <a:pt x="18513" y="19576"/>
                    <a:pt x="18841" y="18761"/>
                  </a:cubicBezTo>
                  <a:cubicBezTo>
                    <a:pt x="18935" y="18659"/>
                    <a:pt x="18935" y="18404"/>
                    <a:pt x="19029" y="18303"/>
                  </a:cubicBezTo>
                  <a:cubicBezTo>
                    <a:pt x="19122" y="17997"/>
                    <a:pt x="19216" y="17589"/>
                    <a:pt x="19404" y="17233"/>
                  </a:cubicBezTo>
                  <a:cubicBezTo>
                    <a:pt x="19732" y="16418"/>
                    <a:pt x="20387" y="15348"/>
                    <a:pt x="21184" y="15755"/>
                  </a:cubicBezTo>
                  <a:cubicBezTo>
                    <a:pt x="20575" y="14889"/>
                    <a:pt x="19732" y="14125"/>
                    <a:pt x="18841" y="13616"/>
                  </a:cubicBezTo>
                  <a:cubicBezTo>
                    <a:pt x="19029" y="12138"/>
                    <a:pt x="19310" y="10508"/>
                    <a:pt x="19216" y="9031"/>
                  </a:cubicBezTo>
                  <a:cubicBezTo>
                    <a:pt x="19122" y="6891"/>
                    <a:pt x="18420" y="4752"/>
                    <a:pt x="19029" y="2714"/>
                  </a:cubicBezTo>
                  <a:cubicBezTo>
                    <a:pt x="18326" y="2612"/>
                    <a:pt x="17857" y="1950"/>
                    <a:pt x="17248" y="1542"/>
                  </a:cubicBezTo>
                  <a:cubicBezTo>
                    <a:pt x="16873" y="1237"/>
                    <a:pt x="16264" y="1135"/>
                    <a:pt x="15796" y="880"/>
                  </a:cubicBezTo>
                  <a:cubicBezTo>
                    <a:pt x="14999" y="676"/>
                    <a:pt x="14109" y="472"/>
                    <a:pt x="13312" y="167"/>
                  </a:cubicBezTo>
                  <a:cubicBezTo>
                    <a:pt x="12938" y="65"/>
                    <a:pt x="12516" y="-88"/>
                    <a:pt x="12141" y="65"/>
                  </a:cubicBezTo>
                  <a:cubicBezTo>
                    <a:pt x="11954" y="167"/>
                    <a:pt x="11673" y="269"/>
                    <a:pt x="11438" y="269"/>
                  </a:cubicBezTo>
                  <a:cubicBezTo>
                    <a:pt x="10970" y="370"/>
                    <a:pt x="10454" y="65"/>
                    <a:pt x="9986" y="65"/>
                  </a:cubicBezTo>
                  <a:cubicBezTo>
                    <a:pt x="9470" y="65"/>
                    <a:pt x="9002" y="778"/>
                    <a:pt x="9377" y="1135"/>
                  </a:cubicBezTo>
                  <a:cubicBezTo>
                    <a:pt x="8486" y="880"/>
                    <a:pt x="7643" y="1644"/>
                    <a:pt x="7502" y="2612"/>
                  </a:cubicBezTo>
                  <a:cubicBezTo>
                    <a:pt x="7502" y="3121"/>
                    <a:pt x="7737" y="3631"/>
                    <a:pt x="7643" y="4191"/>
                  </a:cubicBezTo>
                  <a:cubicBezTo>
                    <a:pt x="7502" y="4701"/>
                    <a:pt x="7221" y="5363"/>
                    <a:pt x="6753" y="5261"/>
                  </a:cubicBezTo>
                  <a:cubicBezTo>
                    <a:pt x="6846" y="5720"/>
                    <a:pt x="6940" y="6025"/>
                    <a:pt x="7034" y="6331"/>
                  </a:cubicBezTo>
                  <a:cubicBezTo>
                    <a:pt x="6659" y="7095"/>
                    <a:pt x="5956" y="7859"/>
                    <a:pt x="5347" y="7401"/>
                  </a:cubicBezTo>
                  <a:cubicBezTo>
                    <a:pt x="5160" y="7299"/>
                    <a:pt x="5066" y="6993"/>
                    <a:pt x="4972" y="6687"/>
                  </a:cubicBezTo>
                  <a:cubicBezTo>
                    <a:pt x="4691" y="5618"/>
                    <a:pt x="4457" y="4446"/>
                    <a:pt x="4597" y="3376"/>
                  </a:cubicBezTo>
                  <a:cubicBezTo>
                    <a:pt x="3895" y="3682"/>
                    <a:pt x="3098" y="3121"/>
                    <a:pt x="2395" y="2714"/>
                  </a:cubicBezTo>
                  <a:cubicBezTo>
                    <a:pt x="1927" y="2306"/>
                    <a:pt x="1130" y="1338"/>
                    <a:pt x="334" y="1746"/>
                  </a:cubicBezTo>
                  <a:cubicBezTo>
                    <a:pt x="-416" y="2052"/>
                    <a:pt x="334" y="3478"/>
                    <a:pt x="334" y="4191"/>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59" name="Shape 3613"/>
            <p:cNvSpPr/>
            <p:nvPr/>
          </p:nvSpPr>
          <p:spPr>
            <a:xfrm>
              <a:off x="15101280" y="2541960"/>
              <a:ext cx="82440" cy="105840"/>
            </a:xfrm>
            <a:custGeom>
              <a:avLst/>
              <a:gdLst>
                <a:gd name="textAreaLeft" fmla="*/ 0 w 82440"/>
                <a:gd name="textAreaRight" fmla="*/ 82800 w 82440"/>
                <a:gd name="textAreaTop" fmla="*/ 0 h 105840"/>
                <a:gd name="textAreaBottom" fmla="*/ 106200 h 105840"/>
              </a:gdLst>
              <a:ahLst/>
              <a:rect l="textAreaLeft" t="textAreaTop" r="textAreaRight" b="textAreaBottom"/>
              <a:pathLst>
                <a:path w="21256" h="21416">
                  <a:moveTo>
                    <a:pt x="10960" y="518"/>
                  </a:moveTo>
                  <a:cubicBezTo>
                    <a:pt x="11407" y="518"/>
                    <a:pt x="11631" y="343"/>
                    <a:pt x="12191" y="167"/>
                  </a:cubicBezTo>
                  <a:cubicBezTo>
                    <a:pt x="13310" y="-184"/>
                    <a:pt x="14989" y="-8"/>
                    <a:pt x="15660" y="957"/>
                  </a:cubicBezTo>
                  <a:cubicBezTo>
                    <a:pt x="16667" y="1660"/>
                    <a:pt x="16667" y="2977"/>
                    <a:pt x="15884" y="3855"/>
                  </a:cubicBezTo>
                  <a:cubicBezTo>
                    <a:pt x="17563" y="4206"/>
                    <a:pt x="19241" y="5172"/>
                    <a:pt x="19241" y="6314"/>
                  </a:cubicBezTo>
                  <a:cubicBezTo>
                    <a:pt x="19913" y="6050"/>
                    <a:pt x="20584" y="6665"/>
                    <a:pt x="21032" y="7016"/>
                  </a:cubicBezTo>
                  <a:cubicBezTo>
                    <a:pt x="21256" y="7543"/>
                    <a:pt x="21256" y="8070"/>
                    <a:pt x="21256" y="8860"/>
                  </a:cubicBezTo>
                  <a:cubicBezTo>
                    <a:pt x="21256" y="10177"/>
                    <a:pt x="21256" y="11406"/>
                    <a:pt x="21032" y="12899"/>
                  </a:cubicBezTo>
                  <a:cubicBezTo>
                    <a:pt x="21032" y="13075"/>
                    <a:pt x="21032" y="13426"/>
                    <a:pt x="20808" y="13601"/>
                  </a:cubicBezTo>
                  <a:cubicBezTo>
                    <a:pt x="20584" y="13865"/>
                    <a:pt x="20584" y="13865"/>
                    <a:pt x="20361" y="14040"/>
                  </a:cubicBezTo>
                  <a:cubicBezTo>
                    <a:pt x="19689" y="14743"/>
                    <a:pt x="20584" y="15709"/>
                    <a:pt x="20808" y="16587"/>
                  </a:cubicBezTo>
                  <a:cubicBezTo>
                    <a:pt x="21256" y="17465"/>
                    <a:pt x="21032" y="18606"/>
                    <a:pt x="20137" y="19309"/>
                  </a:cubicBezTo>
                  <a:cubicBezTo>
                    <a:pt x="18906" y="19923"/>
                    <a:pt x="17339" y="19923"/>
                    <a:pt x="15660" y="19923"/>
                  </a:cubicBezTo>
                  <a:cubicBezTo>
                    <a:pt x="14317" y="19923"/>
                    <a:pt x="12638" y="20275"/>
                    <a:pt x="11967" y="21416"/>
                  </a:cubicBezTo>
                  <a:cubicBezTo>
                    <a:pt x="10960" y="20977"/>
                    <a:pt x="9840" y="20450"/>
                    <a:pt x="9057" y="19923"/>
                  </a:cubicBezTo>
                  <a:cubicBezTo>
                    <a:pt x="8386" y="19133"/>
                    <a:pt x="7714" y="18255"/>
                    <a:pt x="8162" y="17465"/>
                  </a:cubicBezTo>
                  <a:cubicBezTo>
                    <a:pt x="5811" y="16938"/>
                    <a:pt x="3461" y="16060"/>
                    <a:pt x="1559" y="14743"/>
                  </a:cubicBezTo>
                  <a:cubicBezTo>
                    <a:pt x="1335" y="14567"/>
                    <a:pt x="1335" y="14567"/>
                    <a:pt x="1111" y="14392"/>
                  </a:cubicBezTo>
                  <a:cubicBezTo>
                    <a:pt x="663" y="13865"/>
                    <a:pt x="1782" y="13250"/>
                    <a:pt x="2342" y="12899"/>
                  </a:cubicBezTo>
                  <a:cubicBezTo>
                    <a:pt x="3014" y="12196"/>
                    <a:pt x="2566" y="11406"/>
                    <a:pt x="2566" y="10528"/>
                  </a:cubicBezTo>
                  <a:cubicBezTo>
                    <a:pt x="2342" y="9738"/>
                    <a:pt x="3014" y="8684"/>
                    <a:pt x="3909" y="8684"/>
                  </a:cubicBezTo>
                  <a:cubicBezTo>
                    <a:pt x="2790" y="8509"/>
                    <a:pt x="1559" y="8070"/>
                    <a:pt x="887" y="7543"/>
                  </a:cubicBezTo>
                  <a:cubicBezTo>
                    <a:pt x="-8" y="7016"/>
                    <a:pt x="-344" y="5875"/>
                    <a:pt x="439" y="5172"/>
                  </a:cubicBezTo>
                  <a:cubicBezTo>
                    <a:pt x="663" y="4821"/>
                    <a:pt x="1111" y="4645"/>
                    <a:pt x="1559" y="4470"/>
                  </a:cubicBezTo>
                  <a:cubicBezTo>
                    <a:pt x="2006" y="4031"/>
                    <a:pt x="2006" y="3504"/>
                    <a:pt x="2006" y="3153"/>
                  </a:cubicBezTo>
                  <a:cubicBezTo>
                    <a:pt x="2006" y="2977"/>
                    <a:pt x="2006" y="2977"/>
                    <a:pt x="2006" y="2801"/>
                  </a:cubicBezTo>
                  <a:cubicBezTo>
                    <a:pt x="2006" y="2626"/>
                    <a:pt x="2566" y="2362"/>
                    <a:pt x="2790" y="2187"/>
                  </a:cubicBezTo>
                  <a:cubicBezTo>
                    <a:pt x="5588" y="957"/>
                    <a:pt x="8162" y="343"/>
                    <a:pt x="10960" y="518"/>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60" name="Shape 3614"/>
            <p:cNvSpPr/>
            <p:nvPr/>
          </p:nvSpPr>
          <p:spPr>
            <a:xfrm>
              <a:off x="15096600" y="2390040"/>
              <a:ext cx="437400" cy="270000"/>
            </a:xfrm>
            <a:custGeom>
              <a:avLst/>
              <a:gdLst>
                <a:gd name="textAreaLeft" fmla="*/ 0 w 437400"/>
                <a:gd name="textAreaRight" fmla="*/ 437760 w 437400"/>
                <a:gd name="textAreaTop" fmla="*/ 0 h 270000"/>
                <a:gd name="textAreaBottom" fmla="*/ 270360 h 270000"/>
              </a:gdLst>
              <a:ahLst/>
              <a:rect l="textAreaLeft" t="textAreaTop" r="textAreaRight" b="textAreaBottom"/>
              <a:pathLst>
                <a:path w="21129" h="21281">
                  <a:moveTo>
                    <a:pt x="2607" y="660"/>
                  </a:moveTo>
                  <a:cubicBezTo>
                    <a:pt x="3006" y="866"/>
                    <a:pt x="3405" y="1072"/>
                    <a:pt x="3741" y="1450"/>
                  </a:cubicBezTo>
                  <a:cubicBezTo>
                    <a:pt x="3846" y="1519"/>
                    <a:pt x="3972" y="1656"/>
                    <a:pt x="4014" y="1862"/>
                  </a:cubicBezTo>
                  <a:cubicBezTo>
                    <a:pt x="4056" y="2034"/>
                    <a:pt x="4056" y="2102"/>
                    <a:pt x="4098" y="2240"/>
                  </a:cubicBezTo>
                  <a:cubicBezTo>
                    <a:pt x="4140" y="2308"/>
                    <a:pt x="4182" y="2308"/>
                    <a:pt x="4287" y="2377"/>
                  </a:cubicBezTo>
                  <a:cubicBezTo>
                    <a:pt x="4813" y="2652"/>
                    <a:pt x="5170" y="3545"/>
                    <a:pt x="5107" y="4472"/>
                  </a:cubicBezTo>
                  <a:cubicBezTo>
                    <a:pt x="5863" y="4094"/>
                    <a:pt x="6620" y="3819"/>
                    <a:pt x="7418" y="3682"/>
                  </a:cubicBezTo>
                  <a:cubicBezTo>
                    <a:pt x="7670" y="4403"/>
                    <a:pt x="7944" y="5193"/>
                    <a:pt x="7796" y="5983"/>
                  </a:cubicBezTo>
                  <a:cubicBezTo>
                    <a:pt x="8028" y="5846"/>
                    <a:pt x="8238" y="5983"/>
                    <a:pt x="8469" y="6120"/>
                  </a:cubicBezTo>
                  <a:cubicBezTo>
                    <a:pt x="8784" y="6326"/>
                    <a:pt x="9036" y="6567"/>
                    <a:pt x="9351" y="6704"/>
                  </a:cubicBezTo>
                  <a:cubicBezTo>
                    <a:pt x="9435" y="6773"/>
                    <a:pt x="9519" y="6841"/>
                    <a:pt x="9561" y="6910"/>
                  </a:cubicBezTo>
                  <a:cubicBezTo>
                    <a:pt x="9709" y="7288"/>
                    <a:pt x="9372" y="7631"/>
                    <a:pt x="9162" y="7631"/>
                  </a:cubicBezTo>
                  <a:cubicBezTo>
                    <a:pt x="8931" y="7631"/>
                    <a:pt x="8637" y="7563"/>
                    <a:pt x="8469" y="7940"/>
                  </a:cubicBezTo>
                  <a:cubicBezTo>
                    <a:pt x="8511" y="8078"/>
                    <a:pt x="8595" y="8215"/>
                    <a:pt x="8679" y="8284"/>
                  </a:cubicBezTo>
                  <a:cubicBezTo>
                    <a:pt x="8595" y="8490"/>
                    <a:pt x="8511" y="8730"/>
                    <a:pt x="8385" y="9005"/>
                  </a:cubicBezTo>
                  <a:cubicBezTo>
                    <a:pt x="8511" y="9142"/>
                    <a:pt x="8637" y="9211"/>
                    <a:pt x="8784" y="9211"/>
                  </a:cubicBezTo>
                  <a:cubicBezTo>
                    <a:pt x="8679" y="9726"/>
                    <a:pt x="8994" y="10104"/>
                    <a:pt x="9309" y="10310"/>
                  </a:cubicBezTo>
                  <a:cubicBezTo>
                    <a:pt x="9561" y="10516"/>
                    <a:pt x="9919" y="11031"/>
                    <a:pt x="9751" y="11443"/>
                  </a:cubicBezTo>
                  <a:cubicBezTo>
                    <a:pt x="10003" y="11100"/>
                    <a:pt x="10360" y="11615"/>
                    <a:pt x="10591" y="11958"/>
                  </a:cubicBezTo>
                  <a:cubicBezTo>
                    <a:pt x="10885" y="12336"/>
                    <a:pt x="11242" y="12542"/>
                    <a:pt x="11600" y="12817"/>
                  </a:cubicBezTo>
                  <a:cubicBezTo>
                    <a:pt x="12167" y="13194"/>
                    <a:pt x="12776" y="13538"/>
                    <a:pt x="13365" y="13915"/>
                  </a:cubicBezTo>
                  <a:cubicBezTo>
                    <a:pt x="13449" y="13778"/>
                    <a:pt x="13491" y="13606"/>
                    <a:pt x="13533" y="13469"/>
                  </a:cubicBezTo>
                  <a:cubicBezTo>
                    <a:pt x="14016" y="13057"/>
                    <a:pt x="14499" y="12542"/>
                    <a:pt x="14982" y="12095"/>
                  </a:cubicBezTo>
                  <a:cubicBezTo>
                    <a:pt x="15529" y="11615"/>
                    <a:pt x="16054" y="11100"/>
                    <a:pt x="16663" y="11100"/>
                  </a:cubicBezTo>
                  <a:cubicBezTo>
                    <a:pt x="16789" y="11100"/>
                    <a:pt x="16937" y="11100"/>
                    <a:pt x="17063" y="11100"/>
                  </a:cubicBezTo>
                  <a:cubicBezTo>
                    <a:pt x="17189" y="11100"/>
                    <a:pt x="17336" y="10962"/>
                    <a:pt x="17462" y="10962"/>
                  </a:cubicBezTo>
                  <a:cubicBezTo>
                    <a:pt x="17945" y="10722"/>
                    <a:pt x="18470" y="10722"/>
                    <a:pt x="18954" y="11100"/>
                  </a:cubicBezTo>
                  <a:cubicBezTo>
                    <a:pt x="19143" y="11237"/>
                    <a:pt x="19311" y="11374"/>
                    <a:pt x="19437" y="11546"/>
                  </a:cubicBezTo>
                  <a:cubicBezTo>
                    <a:pt x="19626" y="11683"/>
                    <a:pt x="19794" y="11889"/>
                    <a:pt x="19962" y="12027"/>
                  </a:cubicBezTo>
                  <a:cubicBezTo>
                    <a:pt x="20235" y="12336"/>
                    <a:pt x="20551" y="12679"/>
                    <a:pt x="20509" y="13263"/>
                  </a:cubicBezTo>
                  <a:cubicBezTo>
                    <a:pt x="20635" y="13332"/>
                    <a:pt x="20719" y="13400"/>
                    <a:pt x="20845" y="13469"/>
                  </a:cubicBezTo>
                  <a:cubicBezTo>
                    <a:pt x="20803" y="14259"/>
                    <a:pt x="20803" y="14980"/>
                    <a:pt x="20761" y="15770"/>
                  </a:cubicBezTo>
                  <a:cubicBezTo>
                    <a:pt x="20761" y="15839"/>
                    <a:pt x="20761" y="15839"/>
                    <a:pt x="20761" y="15907"/>
                  </a:cubicBezTo>
                  <a:cubicBezTo>
                    <a:pt x="20803" y="16079"/>
                    <a:pt x="20887" y="16079"/>
                    <a:pt x="20992" y="16148"/>
                  </a:cubicBezTo>
                  <a:cubicBezTo>
                    <a:pt x="21391" y="16560"/>
                    <a:pt x="20761" y="17727"/>
                    <a:pt x="21076" y="18242"/>
                  </a:cubicBezTo>
                  <a:cubicBezTo>
                    <a:pt x="20761" y="17933"/>
                    <a:pt x="20361" y="18277"/>
                    <a:pt x="20235" y="18792"/>
                  </a:cubicBezTo>
                  <a:cubicBezTo>
                    <a:pt x="20109" y="19273"/>
                    <a:pt x="20193" y="19891"/>
                    <a:pt x="20277" y="20474"/>
                  </a:cubicBezTo>
                  <a:cubicBezTo>
                    <a:pt x="19710" y="20543"/>
                    <a:pt x="19143" y="20612"/>
                    <a:pt x="18512" y="20680"/>
                  </a:cubicBezTo>
                  <a:cubicBezTo>
                    <a:pt x="18512" y="20818"/>
                    <a:pt x="18512" y="21024"/>
                    <a:pt x="18512" y="21196"/>
                  </a:cubicBezTo>
                  <a:cubicBezTo>
                    <a:pt x="18113" y="21539"/>
                    <a:pt x="17672" y="20749"/>
                    <a:pt x="17189" y="20612"/>
                  </a:cubicBezTo>
                  <a:cubicBezTo>
                    <a:pt x="16705" y="20474"/>
                    <a:pt x="16180" y="21127"/>
                    <a:pt x="15697" y="20955"/>
                  </a:cubicBezTo>
                  <a:cubicBezTo>
                    <a:pt x="15529" y="20887"/>
                    <a:pt x="15340" y="20749"/>
                    <a:pt x="15172" y="20749"/>
                  </a:cubicBezTo>
                  <a:cubicBezTo>
                    <a:pt x="14940" y="20680"/>
                    <a:pt x="14730" y="20818"/>
                    <a:pt x="14499" y="20887"/>
                  </a:cubicBezTo>
                  <a:cubicBezTo>
                    <a:pt x="14142" y="21024"/>
                    <a:pt x="13806" y="21024"/>
                    <a:pt x="13449" y="21024"/>
                  </a:cubicBezTo>
                  <a:cubicBezTo>
                    <a:pt x="13091" y="21024"/>
                    <a:pt x="12734" y="21024"/>
                    <a:pt x="12398" y="20955"/>
                  </a:cubicBezTo>
                  <a:cubicBezTo>
                    <a:pt x="11999" y="20955"/>
                    <a:pt x="11600" y="20887"/>
                    <a:pt x="11200" y="20818"/>
                  </a:cubicBezTo>
                  <a:cubicBezTo>
                    <a:pt x="10801" y="20749"/>
                    <a:pt x="10360" y="20749"/>
                    <a:pt x="9961" y="20680"/>
                  </a:cubicBezTo>
                  <a:cubicBezTo>
                    <a:pt x="9919" y="20474"/>
                    <a:pt x="9877" y="20303"/>
                    <a:pt x="9835" y="20097"/>
                  </a:cubicBezTo>
                  <a:cubicBezTo>
                    <a:pt x="9435" y="19891"/>
                    <a:pt x="8994" y="20406"/>
                    <a:pt x="8553" y="20303"/>
                  </a:cubicBezTo>
                  <a:cubicBezTo>
                    <a:pt x="8385" y="20234"/>
                    <a:pt x="8196" y="20097"/>
                    <a:pt x="8070" y="19959"/>
                  </a:cubicBezTo>
                  <a:cubicBezTo>
                    <a:pt x="7754" y="19685"/>
                    <a:pt x="7460" y="19307"/>
                    <a:pt x="7187" y="19032"/>
                  </a:cubicBezTo>
                  <a:cubicBezTo>
                    <a:pt x="7103" y="19307"/>
                    <a:pt x="6830" y="19376"/>
                    <a:pt x="6662" y="19307"/>
                  </a:cubicBezTo>
                  <a:cubicBezTo>
                    <a:pt x="6473" y="19238"/>
                    <a:pt x="6305" y="19032"/>
                    <a:pt x="6137" y="18792"/>
                  </a:cubicBezTo>
                  <a:cubicBezTo>
                    <a:pt x="6095" y="18723"/>
                    <a:pt x="5989" y="18654"/>
                    <a:pt x="5989" y="18517"/>
                  </a:cubicBezTo>
                  <a:cubicBezTo>
                    <a:pt x="5989" y="18311"/>
                    <a:pt x="6095" y="18174"/>
                    <a:pt x="6137" y="18002"/>
                  </a:cubicBezTo>
                  <a:cubicBezTo>
                    <a:pt x="6221" y="17727"/>
                    <a:pt x="6095" y="17349"/>
                    <a:pt x="5947" y="17075"/>
                  </a:cubicBezTo>
                  <a:cubicBezTo>
                    <a:pt x="5863" y="16800"/>
                    <a:pt x="5821" y="16354"/>
                    <a:pt x="5989" y="16216"/>
                  </a:cubicBezTo>
                  <a:cubicBezTo>
                    <a:pt x="5737" y="16079"/>
                    <a:pt x="5506" y="15632"/>
                    <a:pt x="5464" y="15117"/>
                  </a:cubicBezTo>
                  <a:cubicBezTo>
                    <a:pt x="5422" y="14705"/>
                    <a:pt x="5422" y="14190"/>
                    <a:pt x="5464" y="13675"/>
                  </a:cubicBezTo>
                  <a:cubicBezTo>
                    <a:pt x="5695" y="13778"/>
                    <a:pt x="5905" y="13469"/>
                    <a:pt x="5905" y="13126"/>
                  </a:cubicBezTo>
                  <a:cubicBezTo>
                    <a:pt x="5905" y="12954"/>
                    <a:pt x="5863" y="12817"/>
                    <a:pt x="5863" y="12679"/>
                  </a:cubicBezTo>
                  <a:cubicBezTo>
                    <a:pt x="5863" y="12542"/>
                    <a:pt x="5926" y="12370"/>
                    <a:pt x="5989" y="12233"/>
                  </a:cubicBezTo>
                  <a:cubicBezTo>
                    <a:pt x="6116" y="11786"/>
                    <a:pt x="6031" y="11374"/>
                    <a:pt x="5989" y="10894"/>
                  </a:cubicBezTo>
                  <a:cubicBezTo>
                    <a:pt x="5863" y="10172"/>
                    <a:pt x="5737" y="9383"/>
                    <a:pt x="5464" y="8730"/>
                  </a:cubicBezTo>
                  <a:cubicBezTo>
                    <a:pt x="5254" y="8215"/>
                    <a:pt x="4939" y="7769"/>
                    <a:pt x="4813" y="7219"/>
                  </a:cubicBezTo>
                  <a:cubicBezTo>
                    <a:pt x="4771" y="6910"/>
                    <a:pt x="4729" y="6704"/>
                    <a:pt x="4624" y="6429"/>
                  </a:cubicBezTo>
                  <a:cubicBezTo>
                    <a:pt x="4540" y="6189"/>
                    <a:pt x="4372" y="5983"/>
                    <a:pt x="4182" y="6120"/>
                  </a:cubicBezTo>
                  <a:cubicBezTo>
                    <a:pt x="3972" y="6258"/>
                    <a:pt x="3972" y="6910"/>
                    <a:pt x="3741" y="7047"/>
                  </a:cubicBezTo>
                  <a:cubicBezTo>
                    <a:pt x="3573" y="7219"/>
                    <a:pt x="3405" y="6910"/>
                    <a:pt x="3174" y="6773"/>
                  </a:cubicBezTo>
                  <a:cubicBezTo>
                    <a:pt x="2817" y="6498"/>
                    <a:pt x="2417" y="6635"/>
                    <a:pt x="2165" y="7150"/>
                  </a:cubicBezTo>
                  <a:cubicBezTo>
                    <a:pt x="2333" y="7356"/>
                    <a:pt x="2249" y="7872"/>
                    <a:pt x="2039" y="7940"/>
                  </a:cubicBezTo>
                  <a:cubicBezTo>
                    <a:pt x="1724" y="7356"/>
                    <a:pt x="1640" y="6498"/>
                    <a:pt x="1808" y="5777"/>
                  </a:cubicBezTo>
                  <a:cubicBezTo>
                    <a:pt x="1325" y="4987"/>
                    <a:pt x="884" y="4025"/>
                    <a:pt x="526" y="3030"/>
                  </a:cubicBezTo>
                  <a:cubicBezTo>
                    <a:pt x="400" y="2583"/>
                    <a:pt x="316" y="2171"/>
                    <a:pt x="442" y="1725"/>
                  </a:cubicBezTo>
                  <a:cubicBezTo>
                    <a:pt x="-83" y="1244"/>
                    <a:pt x="-209" y="214"/>
                    <a:pt x="442" y="8"/>
                  </a:cubicBezTo>
                  <a:cubicBezTo>
                    <a:pt x="1010" y="-61"/>
                    <a:pt x="1934" y="351"/>
                    <a:pt x="2607" y="660"/>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61" name="Shape 3615"/>
            <p:cNvSpPr/>
            <p:nvPr/>
          </p:nvSpPr>
          <p:spPr>
            <a:xfrm>
              <a:off x="15057720" y="2186280"/>
              <a:ext cx="137160" cy="165600"/>
            </a:xfrm>
            <a:custGeom>
              <a:avLst/>
              <a:gdLst>
                <a:gd name="textAreaLeft" fmla="*/ 0 w 137160"/>
                <a:gd name="textAreaRight" fmla="*/ 137520 w 137160"/>
                <a:gd name="textAreaTop" fmla="*/ 0 h 165600"/>
                <a:gd name="textAreaBottom" fmla="*/ 165960 h 165600"/>
              </a:gdLst>
              <a:ahLst/>
              <a:rect l="textAreaLeft" t="textAreaTop" r="textAreaRight" b="textAreaBottom"/>
              <a:pathLst>
                <a:path w="20381" h="21260">
                  <a:moveTo>
                    <a:pt x="7367" y="1693"/>
                  </a:moveTo>
                  <a:cubicBezTo>
                    <a:pt x="8466" y="2476"/>
                    <a:pt x="9565" y="3427"/>
                    <a:pt x="10212" y="4603"/>
                  </a:cubicBezTo>
                  <a:cubicBezTo>
                    <a:pt x="10923" y="4938"/>
                    <a:pt x="11699" y="4379"/>
                    <a:pt x="12540" y="4491"/>
                  </a:cubicBezTo>
                  <a:cubicBezTo>
                    <a:pt x="13510" y="4603"/>
                    <a:pt x="13898" y="5554"/>
                    <a:pt x="14028" y="6393"/>
                  </a:cubicBezTo>
                  <a:cubicBezTo>
                    <a:pt x="14157" y="7177"/>
                    <a:pt x="14674" y="8128"/>
                    <a:pt x="15644" y="8128"/>
                  </a:cubicBezTo>
                  <a:cubicBezTo>
                    <a:pt x="14868" y="9303"/>
                    <a:pt x="14286" y="10702"/>
                    <a:pt x="14416" y="11989"/>
                  </a:cubicBezTo>
                  <a:cubicBezTo>
                    <a:pt x="14674" y="12213"/>
                    <a:pt x="14868" y="12493"/>
                    <a:pt x="15127" y="12605"/>
                  </a:cubicBezTo>
                  <a:cubicBezTo>
                    <a:pt x="14157" y="13052"/>
                    <a:pt x="13058" y="13892"/>
                    <a:pt x="13769" y="14675"/>
                  </a:cubicBezTo>
                  <a:cubicBezTo>
                    <a:pt x="14028" y="15067"/>
                    <a:pt x="14545" y="15179"/>
                    <a:pt x="14998" y="15179"/>
                  </a:cubicBezTo>
                  <a:cubicBezTo>
                    <a:pt x="16356" y="15403"/>
                    <a:pt x="17714" y="15514"/>
                    <a:pt x="19072" y="15738"/>
                  </a:cubicBezTo>
                  <a:cubicBezTo>
                    <a:pt x="19589" y="15850"/>
                    <a:pt x="20107" y="15850"/>
                    <a:pt x="20236" y="16354"/>
                  </a:cubicBezTo>
                  <a:cubicBezTo>
                    <a:pt x="20430" y="16578"/>
                    <a:pt x="20430" y="16801"/>
                    <a:pt x="20236" y="17025"/>
                  </a:cubicBezTo>
                  <a:cubicBezTo>
                    <a:pt x="20107" y="18480"/>
                    <a:pt x="19848" y="19879"/>
                    <a:pt x="19719" y="21166"/>
                  </a:cubicBezTo>
                  <a:cubicBezTo>
                    <a:pt x="17132" y="21502"/>
                    <a:pt x="14545" y="20942"/>
                    <a:pt x="12540" y="19487"/>
                  </a:cubicBezTo>
                  <a:cubicBezTo>
                    <a:pt x="11958" y="20215"/>
                    <a:pt x="10794" y="20551"/>
                    <a:pt x="9824" y="20327"/>
                  </a:cubicBezTo>
                  <a:cubicBezTo>
                    <a:pt x="8854" y="20103"/>
                    <a:pt x="8207" y="19264"/>
                    <a:pt x="8078" y="18312"/>
                  </a:cubicBezTo>
                  <a:cubicBezTo>
                    <a:pt x="8078" y="18200"/>
                    <a:pt x="8078" y="17977"/>
                    <a:pt x="8207" y="17865"/>
                  </a:cubicBezTo>
                  <a:cubicBezTo>
                    <a:pt x="8337" y="17753"/>
                    <a:pt x="8595" y="17753"/>
                    <a:pt x="8725" y="17641"/>
                  </a:cubicBezTo>
                  <a:cubicBezTo>
                    <a:pt x="9565" y="17417"/>
                    <a:pt x="9953" y="16410"/>
                    <a:pt x="9565" y="15850"/>
                  </a:cubicBezTo>
                  <a:cubicBezTo>
                    <a:pt x="9113" y="15235"/>
                    <a:pt x="8078" y="15067"/>
                    <a:pt x="7367" y="15514"/>
                  </a:cubicBezTo>
                  <a:cubicBezTo>
                    <a:pt x="6979" y="15738"/>
                    <a:pt x="6590" y="16354"/>
                    <a:pt x="6138" y="16242"/>
                  </a:cubicBezTo>
                  <a:cubicBezTo>
                    <a:pt x="5750" y="15738"/>
                    <a:pt x="5750" y="15179"/>
                    <a:pt x="6008" y="14563"/>
                  </a:cubicBezTo>
                  <a:cubicBezTo>
                    <a:pt x="5362" y="14339"/>
                    <a:pt x="4650" y="14115"/>
                    <a:pt x="4133" y="14004"/>
                  </a:cubicBezTo>
                  <a:cubicBezTo>
                    <a:pt x="4392" y="13500"/>
                    <a:pt x="3939" y="12940"/>
                    <a:pt x="3422" y="12605"/>
                  </a:cubicBezTo>
                  <a:cubicBezTo>
                    <a:pt x="2840" y="12213"/>
                    <a:pt x="2322" y="11989"/>
                    <a:pt x="2064" y="11429"/>
                  </a:cubicBezTo>
                  <a:cubicBezTo>
                    <a:pt x="1740" y="10814"/>
                    <a:pt x="2193" y="10142"/>
                    <a:pt x="1934" y="9527"/>
                  </a:cubicBezTo>
                  <a:cubicBezTo>
                    <a:pt x="1805" y="9191"/>
                    <a:pt x="1546" y="9079"/>
                    <a:pt x="1287" y="8687"/>
                  </a:cubicBezTo>
                  <a:cubicBezTo>
                    <a:pt x="705" y="7904"/>
                    <a:pt x="1158" y="6953"/>
                    <a:pt x="1287" y="6001"/>
                  </a:cubicBezTo>
                  <a:cubicBezTo>
                    <a:pt x="1287" y="4714"/>
                    <a:pt x="-1170" y="741"/>
                    <a:pt x="705" y="14"/>
                  </a:cubicBezTo>
                  <a:cubicBezTo>
                    <a:pt x="1029" y="-98"/>
                    <a:pt x="3034" y="518"/>
                    <a:pt x="3422" y="629"/>
                  </a:cubicBezTo>
                  <a:cubicBezTo>
                    <a:pt x="5038" y="741"/>
                    <a:pt x="6008" y="741"/>
                    <a:pt x="7367" y="169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62" name="Shape 3616"/>
            <p:cNvSpPr/>
            <p:nvPr/>
          </p:nvSpPr>
          <p:spPr>
            <a:xfrm>
              <a:off x="15010200" y="1990080"/>
              <a:ext cx="54720" cy="91800"/>
            </a:xfrm>
            <a:custGeom>
              <a:avLst/>
              <a:gdLst>
                <a:gd name="textAreaLeft" fmla="*/ 0 w 54720"/>
                <a:gd name="textAreaRight" fmla="*/ 55080 w 54720"/>
                <a:gd name="textAreaTop" fmla="*/ 0 h 91800"/>
                <a:gd name="textAreaBottom" fmla="*/ 92160 h 91800"/>
              </a:gdLst>
              <a:ahLst/>
              <a:rect l="textAreaLeft" t="textAreaTop" r="textAreaRight" b="textAreaBottom"/>
              <a:pathLst>
                <a:path w="20758" h="21264">
                  <a:moveTo>
                    <a:pt x="3109" y="10738"/>
                  </a:moveTo>
                  <a:cubicBezTo>
                    <a:pt x="3437" y="11338"/>
                    <a:pt x="4418" y="12038"/>
                    <a:pt x="5400" y="12038"/>
                  </a:cubicBezTo>
                  <a:cubicBezTo>
                    <a:pt x="5728" y="12038"/>
                    <a:pt x="6546" y="12038"/>
                    <a:pt x="6873" y="12238"/>
                  </a:cubicBezTo>
                  <a:cubicBezTo>
                    <a:pt x="7200" y="12438"/>
                    <a:pt x="6873" y="12838"/>
                    <a:pt x="7200" y="13038"/>
                  </a:cubicBezTo>
                  <a:cubicBezTo>
                    <a:pt x="7528" y="13738"/>
                    <a:pt x="8509" y="13938"/>
                    <a:pt x="9164" y="14138"/>
                  </a:cubicBezTo>
                  <a:cubicBezTo>
                    <a:pt x="10964" y="14738"/>
                    <a:pt x="11946" y="16038"/>
                    <a:pt x="12600" y="17038"/>
                  </a:cubicBezTo>
                  <a:cubicBezTo>
                    <a:pt x="13746" y="18138"/>
                    <a:pt x="14728" y="19338"/>
                    <a:pt x="16855" y="19538"/>
                  </a:cubicBezTo>
                  <a:cubicBezTo>
                    <a:pt x="16364" y="20438"/>
                    <a:pt x="17837" y="21438"/>
                    <a:pt x="19146" y="21238"/>
                  </a:cubicBezTo>
                  <a:cubicBezTo>
                    <a:pt x="20618" y="21038"/>
                    <a:pt x="21273" y="19738"/>
                    <a:pt x="20291" y="19138"/>
                  </a:cubicBezTo>
                  <a:cubicBezTo>
                    <a:pt x="19800" y="18938"/>
                    <a:pt x="19473" y="18738"/>
                    <a:pt x="19146" y="18538"/>
                  </a:cubicBezTo>
                  <a:cubicBezTo>
                    <a:pt x="17509" y="17438"/>
                    <a:pt x="19146" y="15838"/>
                    <a:pt x="18818" y="14338"/>
                  </a:cubicBezTo>
                  <a:cubicBezTo>
                    <a:pt x="18491" y="12838"/>
                    <a:pt x="16855" y="11838"/>
                    <a:pt x="16855" y="10338"/>
                  </a:cubicBezTo>
                  <a:cubicBezTo>
                    <a:pt x="16855" y="9338"/>
                    <a:pt x="18164" y="8438"/>
                    <a:pt x="17509" y="7438"/>
                  </a:cubicBezTo>
                  <a:cubicBezTo>
                    <a:pt x="17182" y="7238"/>
                    <a:pt x="16855" y="6938"/>
                    <a:pt x="16364" y="6538"/>
                  </a:cubicBezTo>
                  <a:cubicBezTo>
                    <a:pt x="14728" y="5138"/>
                    <a:pt x="15709" y="3038"/>
                    <a:pt x="14400" y="1538"/>
                  </a:cubicBezTo>
                  <a:cubicBezTo>
                    <a:pt x="13418" y="438"/>
                    <a:pt x="11291" y="-162"/>
                    <a:pt x="9655" y="38"/>
                  </a:cubicBezTo>
                  <a:cubicBezTo>
                    <a:pt x="7528" y="238"/>
                    <a:pt x="6218" y="1338"/>
                    <a:pt x="5728" y="2538"/>
                  </a:cubicBezTo>
                  <a:cubicBezTo>
                    <a:pt x="5728" y="3038"/>
                    <a:pt x="5728" y="3238"/>
                    <a:pt x="5400" y="3638"/>
                  </a:cubicBezTo>
                  <a:cubicBezTo>
                    <a:pt x="5073" y="4038"/>
                    <a:pt x="4091" y="4238"/>
                    <a:pt x="3437" y="4038"/>
                  </a:cubicBezTo>
                  <a:cubicBezTo>
                    <a:pt x="2782" y="3838"/>
                    <a:pt x="1964" y="3638"/>
                    <a:pt x="1309" y="3238"/>
                  </a:cubicBezTo>
                  <a:cubicBezTo>
                    <a:pt x="0" y="4638"/>
                    <a:pt x="-327" y="6338"/>
                    <a:pt x="328" y="7838"/>
                  </a:cubicBezTo>
                  <a:lnTo>
                    <a:pt x="3109" y="8238"/>
                  </a:lnTo>
                  <a:cubicBezTo>
                    <a:pt x="3437" y="9338"/>
                    <a:pt x="3109" y="10138"/>
                    <a:pt x="3109" y="10738"/>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63" name="Shape 3617"/>
            <p:cNvSpPr/>
            <p:nvPr/>
          </p:nvSpPr>
          <p:spPr>
            <a:xfrm>
              <a:off x="15241680" y="2324520"/>
              <a:ext cx="34200" cy="54360"/>
            </a:xfrm>
            <a:custGeom>
              <a:avLst/>
              <a:gdLst>
                <a:gd name="textAreaLeft" fmla="*/ 0 w 34200"/>
                <a:gd name="textAreaRight" fmla="*/ 34560 w 34200"/>
                <a:gd name="textAreaTop" fmla="*/ 0 h 54360"/>
                <a:gd name="textAreaBottom" fmla="*/ 54720 h 54360"/>
              </a:gdLst>
              <a:ahLst/>
              <a:rect l="textAreaLeft" t="textAreaTop" r="textAreaRight" b="textAreaBottom"/>
              <a:pathLst>
                <a:path w="18727" h="20588">
                  <a:moveTo>
                    <a:pt x="18727" y="14358"/>
                  </a:moveTo>
                  <a:cubicBezTo>
                    <a:pt x="18727" y="16850"/>
                    <a:pt x="17788" y="19509"/>
                    <a:pt x="14970" y="20007"/>
                  </a:cubicBezTo>
                  <a:cubicBezTo>
                    <a:pt x="12857" y="20340"/>
                    <a:pt x="10510" y="19177"/>
                    <a:pt x="8397" y="20007"/>
                  </a:cubicBezTo>
                  <a:cubicBezTo>
                    <a:pt x="7927" y="20007"/>
                    <a:pt x="7927" y="20340"/>
                    <a:pt x="7457" y="20340"/>
                  </a:cubicBezTo>
                  <a:cubicBezTo>
                    <a:pt x="6518" y="20672"/>
                    <a:pt x="5579" y="20672"/>
                    <a:pt x="5110" y="20340"/>
                  </a:cubicBezTo>
                  <a:cubicBezTo>
                    <a:pt x="2997" y="20007"/>
                    <a:pt x="1588" y="18180"/>
                    <a:pt x="1118" y="16850"/>
                  </a:cubicBezTo>
                  <a:cubicBezTo>
                    <a:pt x="1118" y="15355"/>
                    <a:pt x="2057" y="13694"/>
                    <a:pt x="3936" y="13029"/>
                  </a:cubicBezTo>
                  <a:cubicBezTo>
                    <a:pt x="-2873" y="11866"/>
                    <a:pt x="1118" y="8044"/>
                    <a:pt x="1588" y="5220"/>
                  </a:cubicBezTo>
                  <a:cubicBezTo>
                    <a:pt x="1588" y="2561"/>
                    <a:pt x="-1934" y="734"/>
                    <a:pt x="3466" y="69"/>
                  </a:cubicBezTo>
                  <a:cubicBezTo>
                    <a:pt x="12857" y="-928"/>
                    <a:pt x="18727" y="9207"/>
                    <a:pt x="18727" y="14358"/>
                  </a:cubicBezTo>
                </a:path>
              </a:pathLst>
            </a:custGeom>
            <a:solidFill>
              <a:srgbClr val="929292"/>
            </a:solidFill>
            <a:ln w="12700">
              <a:noFill/>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64" name="Shape 3618"/>
            <p:cNvSpPr/>
            <p:nvPr/>
          </p:nvSpPr>
          <p:spPr>
            <a:xfrm>
              <a:off x="15104520" y="1500480"/>
              <a:ext cx="876600" cy="988920"/>
            </a:xfrm>
            <a:custGeom>
              <a:avLst/>
              <a:gdLst>
                <a:gd name="textAreaLeft" fmla="*/ 0 w 876600"/>
                <a:gd name="textAreaRight" fmla="*/ 876960 w 876600"/>
                <a:gd name="textAreaTop" fmla="*/ 0 h 988920"/>
                <a:gd name="textAreaBottom" fmla="*/ 989280 h 988920"/>
              </a:gdLst>
              <a:ahLst/>
              <a:rect l="textAreaLeft" t="textAreaTop" r="textAreaRight" b="textAreaBottom"/>
              <a:pathLst>
                <a:path w="21526" h="21555">
                  <a:moveTo>
                    <a:pt x="1458" y="6701"/>
                  </a:moveTo>
                  <a:lnTo>
                    <a:pt x="1447" y="6701"/>
                  </a:lnTo>
                  <a:lnTo>
                    <a:pt x="1458" y="6701"/>
                  </a:lnTo>
                  <a:close/>
                  <a:moveTo>
                    <a:pt x="1372" y="7574"/>
                  </a:moveTo>
                  <a:cubicBezTo>
                    <a:pt x="1169" y="7555"/>
                    <a:pt x="1051" y="7754"/>
                    <a:pt x="987" y="7934"/>
                  </a:cubicBezTo>
                  <a:cubicBezTo>
                    <a:pt x="923" y="8153"/>
                    <a:pt x="827" y="8352"/>
                    <a:pt x="762" y="8570"/>
                  </a:cubicBezTo>
                  <a:cubicBezTo>
                    <a:pt x="677" y="8751"/>
                    <a:pt x="559" y="8931"/>
                    <a:pt x="473" y="9111"/>
                  </a:cubicBezTo>
                  <a:cubicBezTo>
                    <a:pt x="291" y="9462"/>
                    <a:pt x="88" y="9823"/>
                    <a:pt x="163" y="10222"/>
                  </a:cubicBezTo>
                  <a:cubicBezTo>
                    <a:pt x="184" y="10345"/>
                    <a:pt x="227" y="10459"/>
                    <a:pt x="184" y="10582"/>
                  </a:cubicBezTo>
                  <a:cubicBezTo>
                    <a:pt x="131" y="10725"/>
                    <a:pt x="-19" y="10819"/>
                    <a:pt x="2" y="10962"/>
                  </a:cubicBezTo>
                  <a:cubicBezTo>
                    <a:pt x="24" y="11038"/>
                    <a:pt x="88" y="11095"/>
                    <a:pt x="131" y="11180"/>
                  </a:cubicBezTo>
                  <a:cubicBezTo>
                    <a:pt x="184" y="11275"/>
                    <a:pt x="184" y="11398"/>
                    <a:pt x="163" y="11512"/>
                  </a:cubicBezTo>
                  <a:cubicBezTo>
                    <a:pt x="131" y="11835"/>
                    <a:pt x="163" y="12129"/>
                    <a:pt x="270" y="12433"/>
                  </a:cubicBezTo>
                  <a:cubicBezTo>
                    <a:pt x="452" y="12452"/>
                    <a:pt x="538" y="12632"/>
                    <a:pt x="613" y="12793"/>
                  </a:cubicBezTo>
                  <a:lnTo>
                    <a:pt x="944" y="13629"/>
                  </a:lnTo>
                  <a:cubicBezTo>
                    <a:pt x="1009" y="13610"/>
                    <a:pt x="1083" y="13610"/>
                    <a:pt x="1148" y="13591"/>
                  </a:cubicBezTo>
                  <a:cubicBezTo>
                    <a:pt x="1212" y="13828"/>
                    <a:pt x="1415" y="14027"/>
                    <a:pt x="1554" y="14226"/>
                  </a:cubicBezTo>
                  <a:cubicBezTo>
                    <a:pt x="1704" y="14426"/>
                    <a:pt x="1801" y="14701"/>
                    <a:pt x="1661" y="14919"/>
                  </a:cubicBezTo>
                  <a:cubicBezTo>
                    <a:pt x="1950" y="15223"/>
                    <a:pt x="2132" y="15593"/>
                    <a:pt x="2132" y="15992"/>
                  </a:cubicBezTo>
                  <a:cubicBezTo>
                    <a:pt x="2518" y="15973"/>
                    <a:pt x="2646" y="16476"/>
                    <a:pt x="2989" y="16637"/>
                  </a:cubicBezTo>
                  <a:cubicBezTo>
                    <a:pt x="3321" y="16789"/>
                    <a:pt x="3792" y="16533"/>
                    <a:pt x="4113" y="16713"/>
                  </a:cubicBezTo>
                  <a:cubicBezTo>
                    <a:pt x="4155" y="16590"/>
                    <a:pt x="4177" y="16476"/>
                    <a:pt x="4220" y="16352"/>
                  </a:cubicBezTo>
                  <a:cubicBezTo>
                    <a:pt x="4444" y="16476"/>
                    <a:pt x="4691" y="16571"/>
                    <a:pt x="4937" y="16590"/>
                  </a:cubicBezTo>
                  <a:cubicBezTo>
                    <a:pt x="4894" y="16476"/>
                    <a:pt x="4990" y="16333"/>
                    <a:pt x="5097" y="16276"/>
                  </a:cubicBezTo>
                  <a:cubicBezTo>
                    <a:pt x="5301" y="15479"/>
                    <a:pt x="5772" y="14739"/>
                    <a:pt x="6425" y="14189"/>
                  </a:cubicBezTo>
                  <a:cubicBezTo>
                    <a:pt x="6489" y="14321"/>
                    <a:pt x="6510" y="14483"/>
                    <a:pt x="6467" y="14625"/>
                  </a:cubicBezTo>
                  <a:cubicBezTo>
                    <a:pt x="6307" y="14805"/>
                    <a:pt x="6157" y="14976"/>
                    <a:pt x="6018" y="15157"/>
                  </a:cubicBezTo>
                  <a:cubicBezTo>
                    <a:pt x="5836" y="15375"/>
                    <a:pt x="5633" y="15593"/>
                    <a:pt x="5547" y="15859"/>
                  </a:cubicBezTo>
                  <a:cubicBezTo>
                    <a:pt x="5461" y="16115"/>
                    <a:pt x="5504" y="16438"/>
                    <a:pt x="5729" y="16609"/>
                  </a:cubicBezTo>
                  <a:cubicBezTo>
                    <a:pt x="5954" y="16694"/>
                    <a:pt x="6200" y="16751"/>
                    <a:pt x="6446" y="16751"/>
                  </a:cubicBezTo>
                  <a:cubicBezTo>
                    <a:pt x="6692" y="16751"/>
                    <a:pt x="6938" y="16656"/>
                    <a:pt x="7078" y="16476"/>
                  </a:cubicBezTo>
                  <a:cubicBezTo>
                    <a:pt x="7099" y="16457"/>
                    <a:pt x="7120" y="16409"/>
                    <a:pt x="7142" y="16390"/>
                  </a:cubicBezTo>
                  <a:cubicBezTo>
                    <a:pt x="7163" y="16390"/>
                    <a:pt x="7185" y="16390"/>
                    <a:pt x="7206" y="16409"/>
                  </a:cubicBezTo>
                  <a:cubicBezTo>
                    <a:pt x="7431" y="16533"/>
                    <a:pt x="7452" y="16836"/>
                    <a:pt x="7281" y="16988"/>
                  </a:cubicBezTo>
                  <a:cubicBezTo>
                    <a:pt x="7206" y="17055"/>
                    <a:pt x="7142" y="17074"/>
                    <a:pt x="7078" y="17131"/>
                  </a:cubicBezTo>
                  <a:cubicBezTo>
                    <a:pt x="6874" y="17311"/>
                    <a:pt x="6981" y="17624"/>
                    <a:pt x="7142" y="17852"/>
                  </a:cubicBezTo>
                  <a:cubicBezTo>
                    <a:pt x="7302" y="18070"/>
                    <a:pt x="7527" y="18288"/>
                    <a:pt x="7506" y="18545"/>
                  </a:cubicBezTo>
                  <a:cubicBezTo>
                    <a:pt x="7078" y="18583"/>
                    <a:pt x="6671" y="18165"/>
                    <a:pt x="6778" y="17804"/>
                  </a:cubicBezTo>
                  <a:cubicBezTo>
                    <a:pt x="6328" y="17586"/>
                    <a:pt x="5836" y="17453"/>
                    <a:pt x="5322" y="17387"/>
                  </a:cubicBezTo>
                  <a:cubicBezTo>
                    <a:pt x="5183" y="17529"/>
                    <a:pt x="5290" y="17747"/>
                    <a:pt x="5386" y="17909"/>
                  </a:cubicBezTo>
                  <a:cubicBezTo>
                    <a:pt x="5472" y="18070"/>
                    <a:pt x="5568" y="18307"/>
                    <a:pt x="5386" y="18421"/>
                  </a:cubicBezTo>
                  <a:cubicBezTo>
                    <a:pt x="5568" y="18507"/>
                    <a:pt x="5729" y="18602"/>
                    <a:pt x="5911" y="18687"/>
                  </a:cubicBezTo>
                  <a:cubicBezTo>
                    <a:pt x="5707" y="18725"/>
                    <a:pt x="5525" y="18924"/>
                    <a:pt x="5568" y="19123"/>
                  </a:cubicBezTo>
                  <a:cubicBezTo>
                    <a:pt x="5322" y="19199"/>
                    <a:pt x="5097" y="19256"/>
                    <a:pt x="4851" y="19342"/>
                  </a:cubicBezTo>
                  <a:cubicBezTo>
                    <a:pt x="4830" y="19399"/>
                    <a:pt x="4851" y="19456"/>
                    <a:pt x="4873" y="19522"/>
                  </a:cubicBezTo>
                  <a:cubicBezTo>
                    <a:pt x="4787" y="19560"/>
                    <a:pt x="4691" y="19598"/>
                    <a:pt x="4584" y="19636"/>
                  </a:cubicBezTo>
                  <a:cubicBezTo>
                    <a:pt x="4584" y="19702"/>
                    <a:pt x="4562" y="19778"/>
                    <a:pt x="4562" y="19835"/>
                  </a:cubicBezTo>
                  <a:lnTo>
                    <a:pt x="4016" y="19902"/>
                  </a:lnTo>
                  <a:cubicBezTo>
                    <a:pt x="4016" y="20177"/>
                    <a:pt x="4070" y="20538"/>
                    <a:pt x="4380" y="20613"/>
                  </a:cubicBezTo>
                  <a:cubicBezTo>
                    <a:pt x="4466" y="20632"/>
                    <a:pt x="4562" y="20632"/>
                    <a:pt x="4648" y="20651"/>
                  </a:cubicBezTo>
                  <a:cubicBezTo>
                    <a:pt x="4712" y="20699"/>
                    <a:pt x="4766" y="20756"/>
                    <a:pt x="4808" y="20794"/>
                  </a:cubicBezTo>
                  <a:cubicBezTo>
                    <a:pt x="5076" y="21050"/>
                    <a:pt x="5547" y="20955"/>
                    <a:pt x="5932" y="21012"/>
                  </a:cubicBezTo>
                  <a:cubicBezTo>
                    <a:pt x="6136" y="21050"/>
                    <a:pt x="6328" y="21135"/>
                    <a:pt x="6510" y="21249"/>
                  </a:cubicBezTo>
                  <a:cubicBezTo>
                    <a:pt x="6425" y="21173"/>
                    <a:pt x="6628" y="21088"/>
                    <a:pt x="6735" y="21135"/>
                  </a:cubicBezTo>
                  <a:cubicBezTo>
                    <a:pt x="6981" y="21192"/>
                    <a:pt x="7227" y="21230"/>
                    <a:pt x="7452" y="21287"/>
                  </a:cubicBezTo>
                  <a:cubicBezTo>
                    <a:pt x="7452" y="21211"/>
                    <a:pt x="7431" y="21135"/>
                    <a:pt x="7431" y="21050"/>
                  </a:cubicBezTo>
                  <a:cubicBezTo>
                    <a:pt x="7634" y="20974"/>
                    <a:pt x="7902" y="21069"/>
                    <a:pt x="7977" y="21268"/>
                  </a:cubicBezTo>
                  <a:cubicBezTo>
                    <a:pt x="8201" y="21230"/>
                    <a:pt x="8426" y="21088"/>
                    <a:pt x="8533" y="20917"/>
                  </a:cubicBezTo>
                  <a:cubicBezTo>
                    <a:pt x="8651" y="21069"/>
                    <a:pt x="8897" y="20889"/>
                    <a:pt x="9047" y="20794"/>
                  </a:cubicBezTo>
                  <a:cubicBezTo>
                    <a:pt x="9272" y="20651"/>
                    <a:pt x="9614" y="20670"/>
                    <a:pt x="9818" y="20832"/>
                  </a:cubicBezTo>
                  <a:cubicBezTo>
                    <a:pt x="9796" y="21031"/>
                    <a:pt x="9679" y="21192"/>
                    <a:pt x="9657" y="21392"/>
                  </a:cubicBezTo>
                  <a:lnTo>
                    <a:pt x="9657" y="21487"/>
                  </a:lnTo>
                  <a:cubicBezTo>
                    <a:pt x="9700" y="21572"/>
                    <a:pt x="9860" y="21572"/>
                    <a:pt x="9946" y="21515"/>
                  </a:cubicBezTo>
                  <a:cubicBezTo>
                    <a:pt x="10042" y="21449"/>
                    <a:pt x="10085" y="21354"/>
                    <a:pt x="10149" y="21287"/>
                  </a:cubicBezTo>
                  <a:cubicBezTo>
                    <a:pt x="10235" y="21230"/>
                    <a:pt x="10374" y="21211"/>
                    <a:pt x="10438" y="21287"/>
                  </a:cubicBezTo>
                  <a:cubicBezTo>
                    <a:pt x="10460" y="21230"/>
                    <a:pt x="10492" y="21192"/>
                    <a:pt x="10492" y="21135"/>
                  </a:cubicBezTo>
                  <a:cubicBezTo>
                    <a:pt x="10556" y="21154"/>
                    <a:pt x="10620" y="21192"/>
                    <a:pt x="10717" y="21211"/>
                  </a:cubicBezTo>
                  <a:lnTo>
                    <a:pt x="10642" y="20917"/>
                  </a:lnTo>
                  <a:cubicBezTo>
                    <a:pt x="10738" y="20851"/>
                    <a:pt x="10845" y="20870"/>
                    <a:pt x="10963" y="20917"/>
                  </a:cubicBezTo>
                  <a:cubicBezTo>
                    <a:pt x="11134" y="20955"/>
                    <a:pt x="11338" y="20946"/>
                    <a:pt x="11498" y="20851"/>
                  </a:cubicBezTo>
                  <a:cubicBezTo>
                    <a:pt x="11659" y="20746"/>
                    <a:pt x="11702" y="20538"/>
                    <a:pt x="11562" y="20414"/>
                  </a:cubicBezTo>
                  <a:cubicBezTo>
                    <a:pt x="11520" y="20357"/>
                    <a:pt x="11434" y="20338"/>
                    <a:pt x="11413" y="20272"/>
                  </a:cubicBezTo>
                  <a:cubicBezTo>
                    <a:pt x="11359" y="20120"/>
                    <a:pt x="11702" y="19978"/>
                    <a:pt x="11584" y="19835"/>
                  </a:cubicBezTo>
                  <a:cubicBezTo>
                    <a:pt x="11477" y="19835"/>
                    <a:pt x="11413" y="19740"/>
                    <a:pt x="11380" y="19655"/>
                  </a:cubicBezTo>
                  <a:cubicBezTo>
                    <a:pt x="11359" y="19560"/>
                    <a:pt x="11359" y="19484"/>
                    <a:pt x="11316" y="19380"/>
                  </a:cubicBezTo>
                  <a:cubicBezTo>
                    <a:pt x="11209" y="19161"/>
                    <a:pt x="10888" y="19123"/>
                    <a:pt x="10642" y="19123"/>
                  </a:cubicBezTo>
                  <a:cubicBezTo>
                    <a:pt x="10578" y="19123"/>
                    <a:pt x="10481" y="19123"/>
                    <a:pt x="10417" y="19142"/>
                  </a:cubicBezTo>
                  <a:cubicBezTo>
                    <a:pt x="10342" y="19161"/>
                    <a:pt x="10310" y="19199"/>
                    <a:pt x="10235" y="19199"/>
                  </a:cubicBezTo>
                  <a:cubicBezTo>
                    <a:pt x="10085" y="19218"/>
                    <a:pt x="9925" y="19105"/>
                    <a:pt x="9796" y="19019"/>
                  </a:cubicBezTo>
                  <a:cubicBezTo>
                    <a:pt x="9657" y="18924"/>
                    <a:pt x="9411" y="18886"/>
                    <a:pt x="9347" y="19019"/>
                  </a:cubicBezTo>
                  <a:cubicBezTo>
                    <a:pt x="9250" y="18924"/>
                    <a:pt x="9368" y="18763"/>
                    <a:pt x="9497" y="18706"/>
                  </a:cubicBezTo>
                  <a:cubicBezTo>
                    <a:pt x="9636" y="18668"/>
                    <a:pt x="9786" y="18687"/>
                    <a:pt x="9925" y="18725"/>
                  </a:cubicBezTo>
                  <a:cubicBezTo>
                    <a:pt x="10053" y="18763"/>
                    <a:pt x="10214" y="18801"/>
                    <a:pt x="10353" y="18782"/>
                  </a:cubicBezTo>
                  <a:cubicBezTo>
                    <a:pt x="10492" y="18763"/>
                    <a:pt x="10599" y="18706"/>
                    <a:pt x="10717" y="18706"/>
                  </a:cubicBezTo>
                  <a:cubicBezTo>
                    <a:pt x="10931" y="18706"/>
                    <a:pt x="11091" y="18905"/>
                    <a:pt x="11295" y="18924"/>
                  </a:cubicBezTo>
                  <a:cubicBezTo>
                    <a:pt x="11455" y="18943"/>
                    <a:pt x="11605" y="18839"/>
                    <a:pt x="11744" y="18763"/>
                  </a:cubicBezTo>
                  <a:cubicBezTo>
                    <a:pt x="11969" y="18621"/>
                    <a:pt x="12172" y="18488"/>
                    <a:pt x="12397" y="18326"/>
                  </a:cubicBezTo>
                  <a:cubicBezTo>
                    <a:pt x="12483" y="18269"/>
                    <a:pt x="12579" y="18165"/>
                    <a:pt x="12504" y="18108"/>
                  </a:cubicBezTo>
                  <a:cubicBezTo>
                    <a:pt x="12483" y="18070"/>
                    <a:pt x="12419" y="18070"/>
                    <a:pt x="12376" y="18004"/>
                  </a:cubicBezTo>
                  <a:cubicBezTo>
                    <a:pt x="12354" y="17947"/>
                    <a:pt x="12376" y="17890"/>
                    <a:pt x="12419" y="17852"/>
                  </a:cubicBezTo>
                  <a:cubicBezTo>
                    <a:pt x="12579" y="17624"/>
                    <a:pt x="12643" y="17368"/>
                    <a:pt x="12622" y="17112"/>
                  </a:cubicBezTo>
                  <a:cubicBezTo>
                    <a:pt x="12825" y="17131"/>
                    <a:pt x="13029" y="16950"/>
                    <a:pt x="12997" y="16751"/>
                  </a:cubicBezTo>
                  <a:cubicBezTo>
                    <a:pt x="12975" y="16675"/>
                    <a:pt x="12932" y="16609"/>
                    <a:pt x="12932" y="16552"/>
                  </a:cubicBezTo>
                  <a:cubicBezTo>
                    <a:pt x="12932" y="16476"/>
                    <a:pt x="12975" y="16390"/>
                    <a:pt x="13072" y="16390"/>
                  </a:cubicBezTo>
                  <a:cubicBezTo>
                    <a:pt x="12975" y="16352"/>
                    <a:pt x="12975" y="16248"/>
                    <a:pt x="13029" y="16191"/>
                  </a:cubicBezTo>
                  <a:cubicBezTo>
                    <a:pt x="13072" y="16125"/>
                    <a:pt x="13136" y="16077"/>
                    <a:pt x="13157" y="15992"/>
                  </a:cubicBezTo>
                  <a:cubicBezTo>
                    <a:pt x="13200" y="15878"/>
                    <a:pt x="13114" y="15716"/>
                    <a:pt x="12975" y="15679"/>
                  </a:cubicBezTo>
                  <a:cubicBezTo>
                    <a:pt x="13200" y="15641"/>
                    <a:pt x="13478" y="15536"/>
                    <a:pt x="13478" y="15337"/>
                  </a:cubicBezTo>
                  <a:cubicBezTo>
                    <a:pt x="13478" y="15242"/>
                    <a:pt x="13403" y="15176"/>
                    <a:pt x="13361" y="15081"/>
                  </a:cubicBezTo>
                  <a:cubicBezTo>
                    <a:pt x="13318" y="14976"/>
                    <a:pt x="13318" y="14881"/>
                    <a:pt x="13403" y="14843"/>
                  </a:cubicBezTo>
                  <a:cubicBezTo>
                    <a:pt x="13275" y="14805"/>
                    <a:pt x="13104" y="14758"/>
                    <a:pt x="12997" y="14682"/>
                  </a:cubicBezTo>
                  <a:cubicBezTo>
                    <a:pt x="12879" y="14606"/>
                    <a:pt x="12804" y="14483"/>
                    <a:pt x="12825" y="14340"/>
                  </a:cubicBezTo>
                  <a:cubicBezTo>
                    <a:pt x="12868" y="14407"/>
                    <a:pt x="12975" y="14340"/>
                    <a:pt x="12975" y="14264"/>
                  </a:cubicBezTo>
                  <a:cubicBezTo>
                    <a:pt x="12975" y="14189"/>
                    <a:pt x="12911" y="14141"/>
                    <a:pt x="12868" y="14084"/>
                  </a:cubicBezTo>
                  <a:cubicBezTo>
                    <a:pt x="12750" y="13942"/>
                    <a:pt x="12783" y="13705"/>
                    <a:pt x="12954" y="13667"/>
                  </a:cubicBezTo>
                  <a:cubicBezTo>
                    <a:pt x="13072" y="13629"/>
                    <a:pt x="13179" y="13686"/>
                    <a:pt x="13296" y="13705"/>
                  </a:cubicBezTo>
                  <a:cubicBezTo>
                    <a:pt x="13543" y="13742"/>
                    <a:pt x="13832" y="13610"/>
                    <a:pt x="13896" y="13372"/>
                  </a:cubicBezTo>
                  <a:cubicBezTo>
                    <a:pt x="13949" y="13230"/>
                    <a:pt x="13949" y="13031"/>
                    <a:pt x="14121" y="12993"/>
                  </a:cubicBezTo>
                  <a:cubicBezTo>
                    <a:pt x="14195" y="12974"/>
                    <a:pt x="14238" y="13012"/>
                    <a:pt x="14303" y="13012"/>
                  </a:cubicBezTo>
                  <a:cubicBezTo>
                    <a:pt x="14484" y="13012"/>
                    <a:pt x="14624" y="12888"/>
                    <a:pt x="14731" y="12774"/>
                  </a:cubicBezTo>
                  <a:cubicBezTo>
                    <a:pt x="14709" y="12708"/>
                    <a:pt x="14731" y="12689"/>
                    <a:pt x="14752" y="12632"/>
                  </a:cubicBezTo>
                  <a:cubicBezTo>
                    <a:pt x="15159" y="12509"/>
                    <a:pt x="15544" y="12309"/>
                    <a:pt x="15855" y="12053"/>
                  </a:cubicBezTo>
                  <a:cubicBezTo>
                    <a:pt x="15919" y="11996"/>
                    <a:pt x="16015" y="11892"/>
                    <a:pt x="15962" y="11816"/>
                  </a:cubicBezTo>
                  <a:cubicBezTo>
                    <a:pt x="15940" y="11759"/>
                    <a:pt x="15855" y="11712"/>
                    <a:pt x="15833" y="11655"/>
                  </a:cubicBezTo>
                  <a:cubicBezTo>
                    <a:pt x="15769" y="11512"/>
                    <a:pt x="15962" y="11417"/>
                    <a:pt x="16101" y="11313"/>
                  </a:cubicBezTo>
                  <a:cubicBezTo>
                    <a:pt x="16347" y="11114"/>
                    <a:pt x="16304" y="10744"/>
                    <a:pt x="16550" y="10544"/>
                  </a:cubicBezTo>
                  <a:cubicBezTo>
                    <a:pt x="16593" y="10497"/>
                    <a:pt x="16636" y="10478"/>
                    <a:pt x="16689" y="10421"/>
                  </a:cubicBezTo>
                  <a:cubicBezTo>
                    <a:pt x="16711" y="10364"/>
                    <a:pt x="16689" y="10297"/>
                    <a:pt x="16711" y="10241"/>
                  </a:cubicBezTo>
                  <a:cubicBezTo>
                    <a:pt x="16711" y="10060"/>
                    <a:pt x="16882" y="9946"/>
                    <a:pt x="17043" y="9842"/>
                  </a:cubicBezTo>
                  <a:cubicBezTo>
                    <a:pt x="17182" y="9728"/>
                    <a:pt x="17332" y="9567"/>
                    <a:pt x="17246" y="9405"/>
                  </a:cubicBezTo>
                  <a:cubicBezTo>
                    <a:pt x="17332" y="9263"/>
                    <a:pt x="17428" y="9149"/>
                    <a:pt x="17535" y="9007"/>
                  </a:cubicBezTo>
                  <a:cubicBezTo>
                    <a:pt x="17631" y="8893"/>
                    <a:pt x="17717" y="8770"/>
                    <a:pt x="17781" y="8646"/>
                  </a:cubicBezTo>
                  <a:cubicBezTo>
                    <a:pt x="17899" y="8494"/>
                    <a:pt x="18006" y="8314"/>
                    <a:pt x="18145" y="8153"/>
                  </a:cubicBezTo>
                  <a:cubicBezTo>
                    <a:pt x="18274" y="7972"/>
                    <a:pt x="18413" y="7773"/>
                    <a:pt x="18637" y="7697"/>
                  </a:cubicBezTo>
                  <a:cubicBezTo>
                    <a:pt x="18680" y="7678"/>
                    <a:pt x="18755" y="7650"/>
                    <a:pt x="18777" y="7631"/>
                  </a:cubicBezTo>
                  <a:cubicBezTo>
                    <a:pt x="18841" y="7574"/>
                    <a:pt x="18819" y="7450"/>
                    <a:pt x="18862" y="7355"/>
                  </a:cubicBezTo>
                  <a:cubicBezTo>
                    <a:pt x="18905" y="7280"/>
                    <a:pt x="19012" y="7232"/>
                    <a:pt x="19130" y="7213"/>
                  </a:cubicBezTo>
                  <a:cubicBezTo>
                    <a:pt x="19237" y="7194"/>
                    <a:pt x="19344" y="7175"/>
                    <a:pt x="19419" y="7118"/>
                  </a:cubicBezTo>
                  <a:cubicBezTo>
                    <a:pt x="19483" y="7061"/>
                    <a:pt x="19515" y="6919"/>
                    <a:pt x="19419" y="6881"/>
                  </a:cubicBezTo>
                  <a:cubicBezTo>
                    <a:pt x="19579" y="6919"/>
                    <a:pt x="19719" y="6777"/>
                    <a:pt x="19740" y="6634"/>
                  </a:cubicBezTo>
                  <a:cubicBezTo>
                    <a:pt x="19761" y="6501"/>
                    <a:pt x="19719" y="6359"/>
                    <a:pt x="19761" y="6217"/>
                  </a:cubicBezTo>
                  <a:cubicBezTo>
                    <a:pt x="19804" y="6103"/>
                    <a:pt x="19901" y="6017"/>
                    <a:pt x="19943" y="5922"/>
                  </a:cubicBezTo>
                  <a:cubicBezTo>
                    <a:pt x="19986" y="5818"/>
                    <a:pt x="19965" y="5666"/>
                    <a:pt x="19847" y="5619"/>
                  </a:cubicBezTo>
                  <a:cubicBezTo>
                    <a:pt x="19965" y="5600"/>
                    <a:pt x="20008" y="5486"/>
                    <a:pt x="20029" y="5400"/>
                  </a:cubicBezTo>
                  <a:cubicBezTo>
                    <a:pt x="20050" y="5306"/>
                    <a:pt x="20168" y="5201"/>
                    <a:pt x="20254" y="5268"/>
                  </a:cubicBezTo>
                  <a:cubicBezTo>
                    <a:pt x="20275" y="5201"/>
                    <a:pt x="20254" y="5125"/>
                    <a:pt x="20275" y="5068"/>
                  </a:cubicBezTo>
                  <a:cubicBezTo>
                    <a:pt x="20339" y="5087"/>
                    <a:pt x="20393" y="5106"/>
                    <a:pt x="20457" y="5106"/>
                  </a:cubicBezTo>
                  <a:cubicBezTo>
                    <a:pt x="20500" y="4888"/>
                    <a:pt x="20660" y="4689"/>
                    <a:pt x="20885" y="4584"/>
                  </a:cubicBezTo>
                  <a:cubicBezTo>
                    <a:pt x="20885" y="4470"/>
                    <a:pt x="20885" y="4328"/>
                    <a:pt x="20907" y="4214"/>
                  </a:cubicBezTo>
                  <a:cubicBezTo>
                    <a:pt x="21313" y="4129"/>
                    <a:pt x="21581" y="3749"/>
                    <a:pt x="21517" y="3398"/>
                  </a:cubicBezTo>
                  <a:cubicBezTo>
                    <a:pt x="21442" y="3037"/>
                    <a:pt x="21110" y="2734"/>
                    <a:pt x="20703" y="2658"/>
                  </a:cubicBezTo>
                  <a:cubicBezTo>
                    <a:pt x="20660" y="2734"/>
                    <a:pt x="20618" y="2819"/>
                    <a:pt x="20564" y="2914"/>
                  </a:cubicBezTo>
                  <a:cubicBezTo>
                    <a:pt x="20521" y="2876"/>
                    <a:pt x="20500" y="2819"/>
                    <a:pt x="20457" y="2772"/>
                  </a:cubicBezTo>
                  <a:cubicBezTo>
                    <a:pt x="20393" y="2819"/>
                    <a:pt x="20318" y="2838"/>
                    <a:pt x="20254" y="2876"/>
                  </a:cubicBezTo>
                  <a:cubicBezTo>
                    <a:pt x="20211" y="2753"/>
                    <a:pt x="20275" y="2639"/>
                    <a:pt x="20297" y="2534"/>
                  </a:cubicBezTo>
                  <a:cubicBezTo>
                    <a:pt x="20318" y="2421"/>
                    <a:pt x="20232" y="2259"/>
                    <a:pt x="20115" y="2278"/>
                  </a:cubicBezTo>
                  <a:cubicBezTo>
                    <a:pt x="19965" y="2136"/>
                    <a:pt x="19901" y="1918"/>
                    <a:pt x="19986" y="1737"/>
                  </a:cubicBezTo>
                  <a:cubicBezTo>
                    <a:pt x="20008" y="1680"/>
                    <a:pt x="20050" y="1623"/>
                    <a:pt x="20050" y="1566"/>
                  </a:cubicBezTo>
                  <a:cubicBezTo>
                    <a:pt x="20050" y="1481"/>
                    <a:pt x="19965" y="1405"/>
                    <a:pt x="20008" y="1320"/>
                  </a:cubicBezTo>
                  <a:cubicBezTo>
                    <a:pt x="19783" y="1301"/>
                    <a:pt x="19558" y="1500"/>
                    <a:pt x="19579" y="1699"/>
                  </a:cubicBezTo>
                  <a:cubicBezTo>
                    <a:pt x="19515" y="1623"/>
                    <a:pt x="19494" y="1519"/>
                    <a:pt x="19515" y="1424"/>
                  </a:cubicBezTo>
                  <a:cubicBezTo>
                    <a:pt x="19355" y="1405"/>
                    <a:pt x="19355" y="1215"/>
                    <a:pt x="19355" y="1101"/>
                  </a:cubicBezTo>
                  <a:cubicBezTo>
                    <a:pt x="19355" y="978"/>
                    <a:pt x="19290" y="788"/>
                    <a:pt x="19151" y="826"/>
                  </a:cubicBezTo>
                  <a:cubicBezTo>
                    <a:pt x="19108" y="1139"/>
                    <a:pt x="19087" y="1462"/>
                    <a:pt x="19108" y="1756"/>
                  </a:cubicBezTo>
                  <a:cubicBezTo>
                    <a:pt x="18948" y="1680"/>
                    <a:pt x="18862" y="1500"/>
                    <a:pt x="18905" y="1367"/>
                  </a:cubicBezTo>
                  <a:cubicBezTo>
                    <a:pt x="18755" y="1320"/>
                    <a:pt x="18552" y="1405"/>
                    <a:pt x="18477" y="1538"/>
                  </a:cubicBezTo>
                  <a:cubicBezTo>
                    <a:pt x="18456" y="1585"/>
                    <a:pt x="18456" y="1623"/>
                    <a:pt x="18434" y="1642"/>
                  </a:cubicBezTo>
                  <a:cubicBezTo>
                    <a:pt x="18413" y="1680"/>
                    <a:pt x="18370" y="1699"/>
                    <a:pt x="18327" y="1737"/>
                  </a:cubicBezTo>
                  <a:cubicBezTo>
                    <a:pt x="17942" y="2003"/>
                    <a:pt x="17492" y="2202"/>
                    <a:pt x="17000" y="2259"/>
                  </a:cubicBezTo>
                  <a:cubicBezTo>
                    <a:pt x="16957" y="2136"/>
                    <a:pt x="17085" y="2041"/>
                    <a:pt x="17203" y="1984"/>
                  </a:cubicBezTo>
                  <a:cubicBezTo>
                    <a:pt x="17428" y="1842"/>
                    <a:pt x="17631" y="1718"/>
                    <a:pt x="17856" y="1585"/>
                  </a:cubicBezTo>
                  <a:cubicBezTo>
                    <a:pt x="18027" y="1481"/>
                    <a:pt x="18209" y="1367"/>
                    <a:pt x="18274" y="1168"/>
                  </a:cubicBezTo>
                  <a:cubicBezTo>
                    <a:pt x="18274" y="1139"/>
                    <a:pt x="18306" y="1101"/>
                    <a:pt x="18274" y="1082"/>
                  </a:cubicBezTo>
                  <a:cubicBezTo>
                    <a:pt x="18252" y="1044"/>
                    <a:pt x="18209" y="1025"/>
                    <a:pt x="18145" y="1006"/>
                  </a:cubicBezTo>
                  <a:cubicBezTo>
                    <a:pt x="17856" y="902"/>
                    <a:pt x="17535" y="807"/>
                    <a:pt x="17246" y="722"/>
                  </a:cubicBezTo>
                  <a:cubicBezTo>
                    <a:pt x="17128" y="684"/>
                    <a:pt x="17021" y="665"/>
                    <a:pt x="16914" y="665"/>
                  </a:cubicBezTo>
                  <a:cubicBezTo>
                    <a:pt x="16839" y="684"/>
                    <a:pt x="16775" y="703"/>
                    <a:pt x="16711" y="703"/>
                  </a:cubicBezTo>
                  <a:cubicBezTo>
                    <a:pt x="16529" y="722"/>
                    <a:pt x="16390" y="589"/>
                    <a:pt x="16325" y="428"/>
                  </a:cubicBezTo>
                  <a:cubicBezTo>
                    <a:pt x="16325" y="409"/>
                    <a:pt x="16304" y="371"/>
                    <a:pt x="16283" y="352"/>
                  </a:cubicBezTo>
                  <a:cubicBezTo>
                    <a:pt x="16240" y="323"/>
                    <a:pt x="16186" y="323"/>
                    <a:pt x="16122" y="323"/>
                  </a:cubicBezTo>
                  <a:cubicBezTo>
                    <a:pt x="16015" y="323"/>
                    <a:pt x="15940" y="266"/>
                    <a:pt x="15833" y="228"/>
                  </a:cubicBezTo>
                  <a:cubicBezTo>
                    <a:pt x="15737" y="190"/>
                    <a:pt x="15608" y="190"/>
                    <a:pt x="15566" y="266"/>
                  </a:cubicBezTo>
                  <a:cubicBezTo>
                    <a:pt x="15491" y="371"/>
                    <a:pt x="15608" y="465"/>
                    <a:pt x="15694" y="522"/>
                  </a:cubicBezTo>
                  <a:cubicBezTo>
                    <a:pt x="15790" y="589"/>
                    <a:pt x="15876" y="703"/>
                    <a:pt x="15790" y="788"/>
                  </a:cubicBezTo>
                  <a:cubicBezTo>
                    <a:pt x="15737" y="845"/>
                    <a:pt x="15630" y="826"/>
                    <a:pt x="15566" y="788"/>
                  </a:cubicBezTo>
                  <a:cubicBezTo>
                    <a:pt x="15491" y="750"/>
                    <a:pt x="15469" y="665"/>
                    <a:pt x="15448" y="589"/>
                  </a:cubicBezTo>
                  <a:cubicBezTo>
                    <a:pt x="15405" y="484"/>
                    <a:pt x="15384" y="390"/>
                    <a:pt x="15341" y="266"/>
                  </a:cubicBezTo>
                  <a:cubicBezTo>
                    <a:pt x="15319" y="228"/>
                    <a:pt x="15309" y="190"/>
                    <a:pt x="15266" y="152"/>
                  </a:cubicBezTo>
                  <a:cubicBezTo>
                    <a:pt x="15212" y="105"/>
                    <a:pt x="15180" y="86"/>
                    <a:pt x="15137" y="86"/>
                  </a:cubicBezTo>
                  <a:cubicBezTo>
                    <a:pt x="15095" y="67"/>
                    <a:pt x="15041" y="48"/>
                    <a:pt x="14998" y="48"/>
                  </a:cubicBezTo>
                  <a:cubicBezTo>
                    <a:pt x="14870" y="10"/>
                    <a:pt x="14731" y="-28"/>
                    <a:pt x="14624" y="29"/>
                  </a:cubicBezTo>
                  <a:cubicBezTo>
                    <a:pt x="14506" y="86"/>
                    <a:pt x="14463" y="266"/>
                    <a:pt x="14592" y="304"/>
                  </a:cubicBezTo>
                  <a:cubicBezTo>
                    <a:pt x="14420" y="323"/>
                    <a:pt x="14195" y="409"/>
                    <a:pt x="14238" y="570"/>
                  </a:cubicBezTo>
                  <a:cubicBezTo>
                    <a:pt x="14238" y="608"/>
                    <a:pt x="14260" y="627"/>
                    <a:pt x="14281" y="665"/>
                  </a:cubicBezTo>
                  <a:cubicBezTo>
                    <a:pt x="14463" y="940"/>
                    <a:pt x="14645" y="1244"/>
                    <a:pt x="14816" y="1519"/>
                  </a:cubicBezTo>
                  <a:cubicBezTo>
                    <a:pt x="14506" y="1462"/>
                    <a:pt x="14238" y="1244"/>
                    <a:pt x="14174" y="968"/>
                  </a:cubicBezTo>
                  <a:cubicBezTo>
                    <a:pt x="14121" y="826"/>
                    <a:pt x="14142" y="684"/>
                    <a:pt x="14078" y="570"/>
                  </a:cubicBezTo>
                  <a:cubicBezTo>
                    <a:pt x="13949" y="285"/>
                    <a:pt x="13521" y="190"/>
                    <a:pt x="13254" y="323"/>
                  </a:cubicBezTo>
                  <a:cubicBezTo>
                    <a:pt x="13179" y="171"/>
                    <a:pt x="12911" y="152"/>
                    <a:pt x="12815" y="295"/>
                  </a:cubicBezTo>
                  <a:cubicBezTo>
                    <a:pt x="12815" y="257"/>
                    <a:pt x="12729" y="209"/>
                    <a:pt x="12665" y="228"/>
                  </a:cubicBezTo>
                  <a:cubicBezTo>
                    <a:pt x="12461" y="266"/>
                    <a:pt x="12237" y="304"/>
                    <a:pt x="12033" y="352"/>
                  </a:cubicBezTo>
                  <a:cubicBezTo>
                    <a:pt x="11991" y="352"/>
                    <a:pt x="11969" y="371"/>
                    <a:pt x="11926" y="390"/>
                  </a:cubicBezTo>
                  <a:cubicBezTo>
                    <a:pt x="11862" y="447"/>
                    <a:pt x="11926" y="522"/>
                    <a:pt x="11991" y="589"/>
                  </a:cubicBezTo>
                  <a:lnTo>
                    <a:pt x="12461" y="1063"/>
                  </a:lnTo>
                  <a:cubicBezTo>
                    <a:pt x="12504" y="1101"/>
                    <a:pt x="12558" y="1168"/>
                    <a:pt x="12579" y="1225"/>
                  </a:cubicBezTo>
                  <a:lnTo>
                    <a:pt x="12579" y="1339"/>
                  </a:lnTo>
                  <a:cubicBezTo>
                    <a:pt x="12579" y="1405"/>
                    <a:pt x="12622" y="1462"/>
                    <a:pt x="12665" y="1519"/>
                  </a:cubicBezTo>
                  <a:cubicBezTo>
                    <a:pt x="12783" y="1680"/>
                    <a:pt x="12911" y="1842"/>
                    <a:pt x="12997" y="2022"/>
                  </a:cubicBezTo>
                  <a:cubicBezTo>
                    <a:pt x="13072" y="2202"/>
                    <a:pt x="13093" y="2421"/>
                    <a:pt x="12997" y="2582"/>
                  </a:cubicBezTo>
                  <a:cubicBezTo>
                    <a:pt x="12932" y="2383"/>
                    <a:pt x="12825" y="2202"/>
                    <a:pt x="12665" y="2041"/>
                  </a:cubicBezTo>
                  <a:cubicBezTo>
                    <a:pt x="12579" y="1936"/>
                    <a:pt x="12483" y="1842"/>
                    <a:pt x="12483" y="1718"/>
                  </a:cubicBezTo>
                  <a:cubicBezTo>
                    <a:pt x="12333" y="1443"/>
                    <a:pt x="12172" y="1187"/>
                    <a:pt x="11991" y="921"/>
                  </a:cubicBezTo>
                  <a:cubicBezTo>
                    <a:pt x="11926" y="826"/>
                    <a:pt x="11787" y="703"/>
                    <a:pt x="11659" y="722"/>
                  </a:cubicBezTo>
                  <a:cubicBezTo>
                    <a:pt x="11520" y="769"/>
                    <a:pt x="11477" y="921"/>
                    <a:pt x="11477" y="1063"/>
                  </a:cubicBezTo>
                  <a:cubicBezTo>
                    <a:pt x="11477" y="1244"/>
                    <a:pt x="11477" y="1424"/>
                    <a:pt x="11455" y="1604"/>
                  </a:cubicBezTo>
                  <a:cubicBezTo>
                    <a:pt x="11380" y="1642"/>
                    <a:pt x="11295" y="1538"/>
                    <a:pt x="11273" y="1462"/>
                  </a:cubicBezTo>
                  <a:cubicBezTo>
                    <a:pt x="11209" y="1225"/>
                    <a:pt x="11231" y="987"/>
                    <a:pt x="11338" y="769"/>
                  </a:cubicBezTo>
                  <a:cubicBezTo>
                    <a:pt x="11231" y="665"/>
                    <a:pt x="11038" y="684"/>
                    <a:pt x="10909" y="750"/>
                  </a:cubicBezTo>
                  <a:cubicBezTo>
                    <a:pt x="10770" y="807"/>
                    <a:pt x="10685" y="940"/>
                    <a:pt x="10717" y="1082"/>
                  </a:cubicBezTo>
                  <a:cubicBezTo>
                    <a:pt x="10620" y="1006"/>
                    <a:pt x="10599" y="902"/>
                    <a:pt x="10599" y="807"/>
                  </a:cubicBezTo>
                  <a:cubicBezTo>
                    <a:pt x="10438" y="722"/>
                    <a:pt x="10192" y="684"/>
                    <a:pt x="10128" y="845"/>
                  </a:cubicBezTo>
                  <a:cubicBezTo>
                    <a:pt x="10107" y="940"/>
                    <a:pt x="10171" y="1025"/>
                    <a:pt x="10235" y="1101"/>
                  </a:cubicBezTo>
                  <a:cubicBezTo>
                    <a:pt x="10396" y="1301"/>
                    <a:pt x="10417" y="1566"/>
                    <a:pt x="10310" y="1785"/>
                  </a:cubicBezTo>
                  <a:cubicBezTo>
                    <a:pt x="10289" y="1566"/>
                    <a:pt x="10192" y="1339"/>
                    <a:pt x="9989" y="1225"/>
                  </a:cubicBezTo>
                  <a:cubicBezTo>
                    <a:pt x="9796" y="1101"/>
                    <a:pt x="9475" y="1120"/>
                    <a:pt x="9368" y="1320"/>
                  </a:cubicBezTo>
                  <a:cubicBezTo>
                    <a:pt x="9636" y="1585"/>
                    <a:pt x="9839" y="1918"/>
                    <a:pt x="9903" y="2278"/>
                  </a:cubicBezTo>
                  <a:cubicBezTo>
                    <a:pt x="9743" y="2297"/>
                    <a:pt x="9636" y="2136"/>
                    <a:pt x="9539" y="2022"/>
                  </a:cubicBezTo>
                  <a:cubicBezTo>
                    <a:pt x="9411" y="1861"/>
                    <a:pt x="9186" y="1756"/>
                    <a:pt x="8961" y="1756"/>
                  </a:cubicBezTo>
                  <a:cubicBezTo>
                    <a:pt x="8801" y="2022"/>
                    <a:pt x="8961" y="2383"/>
                    <a:pt x="9272" y="2496"/>
                  </a:cubicBezTo>
                  <a:cubicBezTo>
                    <a:pt x="9143" y="2582"/>
                    <a:pt x="8983" y="2601"/>
                    <a:pt x="8801" y="2582"/>
                  </a:cubicBezTo>
                  <a:cubicBezTo>
                    <a:pt x="8715" y="2658"/>
                    <a:pt x="8672" y="2772"/>
                    <a:pt x="8672" y="2895"/>
                  </a:cubicBezTo>
                  <a:cubicBezTo>
                    <a:pt x="8694" y="3132"/>
                    <a:pt x="8897" y="3313"/>
                    <a:pt x="9090" y="3455"/>
                  </a:cubicBezTo>
                  <a:cubicBezTo>
                    <a:pt x="9432" y="3711"/>
                    <a:pt x="9764" y="3967"/>
                    <a:pt x="10085" y="4233"/>
                  </a:cubicBezTo>
                  <a:cubicBezTo>
                    <a:pt x="10331" y="4432"/>
                    <a:pt x="10599" y="4651"/>
                    <a:pt x="10642" y="4945"/>
                  </a:cubicBezTo>
                  <a:cubicBezTo>
                    <a:pt x="10353" y="4632"/>
                    <a:pt x="9989" y="4385"/>
                    <a:pt x="9571" y="4233"/>
                  </a:cubicBezTo>
                  <a:cubicBezTo>
                    <a:pt x="9593" y="4328"/>
                    <a:pt x="9614" y="4451"/>
                    <a:pt x="9614" y="4565"/>
                  </a:cubicBezTo>
                  <a:cubicBezTo>
                    <a:pt x="9432" y="4451"/>
                    <a:pt x="9272" y="4309"/>
                    <a:pt x="9165" y="4148"/>
                  </a:cubicBezTo>
                  <a:cubicBezTo>
                    <a:pt x="8822" y="4214"/>
                    <a:pt x="8448" y="3967"/>
                    <a:pt x="8426" y="3654"/>
                  </a:cubicBezTo>
                  <a:cubicBezTo>
                    <a:pt x="8105" y="3531"/>
                    <a:pt x="7795" y="3370"/>
                    <a:pt x="7548" y="3170"/>
                  </a:cubicBezTo>
                  <a:cubicBezTo>
                    <a:pt x="7548" y="2933"/>
                    <a:pt x="7281" y="2772"/>
                    <a:pt x="7024" y="2677"/>
                  </a:cubicBezTo>
                  <a:cubicBezTo>
                    <a:pt x="6853" y="2838"/>
                    <a:pt x="7142" y="3132"/>
                    <a:pt x="6981" y="3313"/>
                  </a:cubicBezTo>
                  <a:cubicBezTo>
                    <a:pt x="6938" y="3351"/>
                    <a:pt x="6896" y="3370"/>
                    <a:pt x="6831" y="3398"/>
                  </a:cubicBezTo>
                  <a:cubicBezTo>
                    <a:pt x="6692" y="3436"/>
                    <a:pt x="6553" y="3493"/>
                    <a:pt x="6403" y="3531"/>
                  </a:cubicBezTo>
                  <a:cubicBezTo>
                    <a:pt x="6328" y="3531"/>
                    <a:pt x="6328" y="3616"/>
                    <a:pt x="6382" y="3654"/>
                  </a:cubicBezTo>
                  <a:cubicBezTo>
                    <a:pt x="6425" y="3692"/>
                    <a:pt x="6489" y="3711"/>
                    <a:pt x="6510" y="3768"/>
                  </a:cubicBezTo>
                  <a:cubicBezTo>
                    <a:pt x="6553" y="3854"/>
                    <a:pt x="6425" y="3948"/>
                    <a:pt x="6360" y="3910"/>
                  </a:cubicBezTo>
                  <a:cubicBezTo>
                    <a:pt x="6307" y="4034"/>
                    <a:pt x="6414" y="4148"/>
                    <a:pt x="6553" y="4214"/>
                  </a:cubicBezTo>
                  <a:cubicBezTo>
                    <a:pt x="6681" y="4271"/>
                    <a:pt x="6831" y="4252"/>
                    <a:pt x="6981" y="4271"/>
                  </a:cubicBezTo>
                  <a:cubicBezTo>
                    <a:pt x="7249" y="4309"/>
                    <a:pt x="7506" y="4508"/>
                    <a:pt x="7591" y="4727"/>
                  </a:cubicBezTo>
                  <a:cubicBezTo>
                    <a:pt x="7431" y="4746"/>
                    <a:pt x="7281" y="4746"/>
                    <a:pt x="7120" y="4765"/>
                  </a:cubicBezTo>
                  <a:cubicBezTo>
                    <a:pt x="7120" y="4831"/>
                    <a:pt x="7142" y="4888"/>
                    <a:pt x="7185" y="4926"/>
                  </a:cubicBezTo>
                  <a:cubicBezTo>
                    <a:pt x="7099" y="4983"/>
                    <a:pt x="6981" y="4907"/>
                    <a:pt x="6896" y="4850"/>
                  </a:cubicBezTo>
                  <a:cubicBezTo>
                    <a:pt x="6799" y="4784"/>
                    <a:pt x="6628" y="4784"/>
                    <a:pt x="6628" y="4888"/>
                  </a:cubicBezTo>
                  <a:cubicBezTo>
                    <a:pt x="6532" y="4869"/>
                    <a:pt x="6467" y="4784"/>
                    <a:pt x="6425" y="4708"/>
                  </a:cubicBezTo>
                  <a:cubicBezTo>
                    <a:pt x="6382" y="4632"/>
                    <a:pt x="6264" y="4546"/>
                    <a:pt x="6178" y="4603"/>
                  </a:cubicBezTo>
                  <a:cubicBezTo>
                    <a:pt x="6136" y="4632"/>
                    <a:pt x="6103" y="4689"/>
                    <a:pt x="6082" y="4746"/>
                  </a:cubicBezTo>
                  <a:cubicBezTo>
                    <a:pt x="6039" y="4850"/>
                    <a:pt x="5879" y="4926"/>
                    <a:pt x="5772" y="4888"/>
                  </a:cubicBezTo>
                  <a:cubicBezTo>
                    <a:pt x="5665" y="4850"/>
                    <a:pt x="5611" y="4670"/>
                    <a:pt x="5750" y="4603"/>
                  </a:cubicBezTo>
                  <a:cubicBezTo>
                    <a:pt x="5568" y="4470"/>
                    <a:pt x="5344" y="4366"/>
                    <a:pt x="5119" y="4328"/>
                  </a:cubicBezTo>
                  <a:cubicBezTo>
                    <a:pt x="5097" y="4451"/>
                    <a:pt x="5076" y="4584"/>
                    <a:pt x="5012" y="4708"/>
                  </a:cubicBezTo>
                  <a:cubicBezTo>
                    <a:pt x="4915" y="4803"/>
                    <a:pt x="4766" y="4888"/>
                    <a:pt x="4626" y="4803"/>
                  </a:cubicBezTo>
                  <a:lnTo>
                    <a:pt x="4626" y="5030"/>
                  </a:lnTo>
                  <a:cubicBezTo>
                    <a:pt x="4466" y="5030"/>
                    <a:pt x="4337" y="4964"/>
                    <a:pt x="4241" y="4850"/>
                  </a:cubicBezTo>
                  <a:cubicBezTo>
                    <a:pt x="4241" y="4907"/>
                    <a:pt x="4220" y="4964"/>
                    <a:pt x="4220" y="5030"/>
                  </a:cubicBezTo>
                  <a:cubicBezTo>
                    <a:pt x="4038" y="4926"/>
                    <a:pt x="3792" y="5002"/>
                    <a:pt x="3642" y="5125"/>
                  </a:cubicBezTo>
                  <a:cubicBezTo>
                    <a:pt x="3481" y="5249"/>
                    <a:pt x="3374" y="5419"/>
                    <a:pt x="3214" y="5543"/>
                  </a:cubicBezTo>
                  <a:cubicBezTo>
                    <a:pt x="3117" y="5600"/>
                    <a:pt x="2989" y="5704"/>
                    <a:pt x="3032" y="5799"/>
                  </a:cubicBezTo>
                  <a:cubicBezTo>
                    <a:pt x="3074" y="5922"/>
                    <a:pt x="3321" y="5979"/>
                    <a:pt x="3235" y="6084"/>
                  </a:cubicBezTo>
                  <a:cubicBezTo>
                    <a:pt x="3395" y="6160"/>
                    <a:pt x="3567" y="6255"/>
                    <a:pt x="3727" y="6160"/>
                  </a:cubicBezTo>
                  <a:cubicBezTo>
                    <a:pt x="3888" y="6055"/>
                    <a:pt x="3888" y="5799"/>
                    <a:pt x="4091" y="5761"/>
                  </a:cubicBezTo>
                  <a:cubicBezTo>
                    <a:pt x="4241" y="5884"/>
                    <a:pt x="4402" y="6084"/>
                    <a:pt x="4262" y="6217"/>
                  </a:cubicBezTo>
                  <a:cubicBezTo>
                    <a:pt x="4220" y="6283"/>
                    <a:pt x="4134" y="6302"/>
                    <a:pt x="4091" y="6340"/>
                  </a:cubicBezTo>
                  <a:cubicBezTo>
                    <a:pt x="3973" y="6435"/>
                    <a:pt x="4038" y="6634"/>
                    <a:pt x="4177" y="6701"/>
                  </a:cubicBezTo>
                  <a:cubicBezTo>
                    <a:pt x="4316" y="6758"/>
                    <a:pt x="4487" y="6710"/>
                    <a:pt x="4626" y="6634"/>
                  </a:cubicBezTo>
                  <a:cubicBezTo>
                    <a:pt x="4766" y="6549"/>
                    <a:pt x="4851" y="6435"/>
                    <a:pt x="4937" y="6321"/>
                  </a:cubicBezTo>
                  <a:cubicBezTo>
                    <a:pt x="4894" y="6663"/>
                    <a:pt x="4691" y="6976"/>
                    <a:pt x="4380" y="7156"/>
                  </a:cubicBezTo>
                  <a:cubicBezTo>
                    <a:pt x="4487" y="7213"/>
                    <a:pt x="4584" y="7280"/>
                    <a:pt x="4648" y="7374"/>
                  </a:cubicBezTo>
                  <a:cubicBezTo>
                    <a:pt x="4562" y="7431"/>
                    <a:pt x="4423" y="7450"/>
                    <a:pt x="4337" y="7431"/>
                  </a:cubicBezTo>
                  <a:cubicBezTo>
                    <a:pt x="4359" y="7574"/>
                    <a:pt x="4380" y="7697"/>
                    <a:pt x="4402" y="7830"/>
                  </a:cubicBezTo>
                  <a:cubicBezTo>
                    <a:pt x="4402" y="7877"/>
                    <a:pt x="4423" y="7934"/>
                    <a:pt x="4466" y="7972"/>
                  </a:cubicBezTo>
                  <a:cubicBezTo>
                    <a:pt x="4519" y="7991"/>
                    <a:pt x="4562" y="7991"/>
                    <a:pt x="4605" y="8010"/>
                  </a:cubicBezTo>
                  <a:cubicBezTo>
                    <a:pt x="5097" y="8010"/>
                    <a:pt x="5590" y="8029"/>
                    <a:pt x="6061" y="7934"/>
                  </a:cubicBezTo>
                  <a:cubicBezTo>
                    <a:pt x="6532" y="7830"/>
                    <a:pt x="7003" y="7612"/>
                    <a:pt x="7281" y="7251"/>
                  </a:cubicBezTo>
                  <a:cubicBezTo>
                    <a:pt x="7185" y="7631"/>
                    <a:pt x="6714" y="7849"/>
                    <a:pt x="6307" y="7991"/>
                  </a:cubicBezTo>
                  <a:cubicBezTo>
                    <a:pt x="5932" y="8134"/>
                    <a:pt x="5568" y="8267"/>
                    <a:pt x="5162" y="8295"/>
                  </a:cubicBezTo>
                  <a:cubicBezTo>
                    <a:pt x="5055" y="8295"/>
                    <a:pt x="4937" y="8295"/>
                    <a:pt x="4851" y="8352"/>
                  </a:cubicBezTo>
                  <a:cubicBezTo>
                    <a:pt x="4766" y="8390"/>
                    <a:pt x="4712" y="8523"/>
                    <a:pt x="4787" y="8589"/>
                  </a:cubicBezTo>
                  <a:cubicBezTo>
                    <a:pt x="4873" y="8656"/>
                    <a:pt x="5055" y="8608"/>
                    <a:pt x="5119" y="8713"/>
                  </a:cubicBezTo>
                  <a:cubicBezTo>
                    <a:pt x="5162" y="8751"/>
                    <a:pt x="5140" y="8808"/>
                    <a:pt x="5183" y="8864"/>
                  </a:cubicBezTo>
                  <a:cubicBezTo>
                    <a:pt x="5237" y="8931"/>
                    <a:pt x="5344" y="8931"/>
                    <a:pt x="5440" y="8969"/>
                  </a:cubicBezTo>
                  <a:cubicBezTo>
                    <a:pt x="5525" y="9007"/>
                    <a:pt x="5568" y="9083"/>
                    <a:pt x="5633" y="9149"/>
                  </a:cubicBezTo>
                  <a:cubicBezTo>
                    <a:pt x="5793" y="9263"/>
                    <a:pt x="6039" y="9206"/>
                    <a:pt x="6178" y="9083"/>
                  </a:cubicBezTo>
                  <a:cubicBezTo>
                    <a:pt x="6307" y="8969"/>
                    <a:pt x="6382" y="8789"/>
                    <a:pt x="6425" y="8608"/>
                  </a:cubicBezTo>
                  <a:cubicBezTo>
                    <a:pt x="6553" y="8665"/>
                    <a:pt x="6574" y="8864"/>
                    <a:pt x="6532" y="9007"/>
                  </a:cubicBezTo>
                  <a:cubicBezTo>
                    <a:pt x="6478" y="9149"/>
                    <a:pt x="6403" y="9282"/>
                    <a:pt x="6425" y="9424"/>
                  </a:cubicBezTo>
                  <a:cubicBezTo>
                    <a:pt x="6607" y="9567"/>
                    <a:pt x="6853" y="9586"/>
                    <a:pt x="7099" y="9624"/>
                  </a:cubicBezTo>
                  <a:cubicBezTo>
                    <a:pt x="7506" y="9681"/>
                    <a:pt x="7902" y="9728"/>
                    <a:pt x="8330" y="9709"/>
                  </a:cubicBezTo>
                  <a:cubicBezTo>
                    <a:pt x="8533" y="9681"/>
                    <a:pt x="8758" y="9662"/>
                    <a:pt x="8961" y="9624"/>
                  </a:cubicBezTo>
                  <a:cubicBezTo>
                    <a:pt x="9068" y="9605"/>
                    <a:pt x="9186" y="9586"/>
                    <a:pt x="9293" y="9548"/>
                  </a:cubicBezTo>
                  <a:cubicBezTo>
                    <a:pt x="9454" y="9462"/>
                    <a:pt x="9571" y="9282"/>
                    <a:pt x="9764" y="9263"/>
                  </a:cubicBezTo>
                  <a:cubicBezTo>
                    <a:pt x="9860" y="9244"/>
                    <a:pt x="9946" y="9282"/>
                    <a:pt x="10042" y="9263"/>
                  </a:cubicBezTo>
                  <a:cubicBezTo>
                    <a:pt x="10149" y="9244"/>
                    <a:pt x="10235" y="9149"/>
                    <a:pt x="10310" y="9045"/>
                  </a:cubicBezTo>
                  <a:cubicBezTo>
                    <a:pt x="10513" y="8770"/>
                    <a:pt x="10717" y="8494"/>
                    <a:pt x="10909" y="8229"/>
                  </a:cubicBezTo>
                  <a:cubicBezTo>
                    <a:pt x="10963" y="8172"/>
                    <a:pt x="11006" y="8096"/>
                    <a:pt x="11049" y="8010"/>
                  </a:cubicBezTo>
                  <a:cubicBezTo>
                    <a:pt x="11070" y="7953"/>
                    <a:pt x="11091" y="7877"/>
                    <a:pt x="11113" y="7811"/>
                  </a:cubicBezTo>
                  <a:cubicBezTo>
                    <a:pt x="11156" y="7735"/>
                    <a:pt x="11231" y="7650"/>
                    <a:pt x="11273" y="7593"/>
                  </a:cubicBezTo>
                  <a:cubicBezTo>
                    <a:pt x="11584" y="7251"/>
                    <a:pt x="11905" y="6919"/>
                    <a:pt x="12237" y="6558"/>
                  </a:cubicBezTo>
                  <a:cubicBezTo>
                    <a:pt x="12108" y="6938"/>
                    <a:pt x="11830" y="7280"/>
                    <a:pt x="11520" y="7536"/>
                  </a:cubicBezTo>
                  <a:cubicBezTo>
                    <a:pt x="11434" y="7612"/>
                    <a:pt x="11316" y="7697"/>
                    <a:pt x="11295" y="7811"/>
                  </a:cubicBezTo>
                  <a:cubicBezTo>
                    <a:pt x="11295" y="7896"/>
                    <a:pt x="11316" y="7953"/>
                    <a:pt x="11316" y="8029"/>
                  </a:cubicBezTo>
                  <a:cubicBezTo>
                    <a:pt x="11316" y="8229"/>
                    <a:pt x="11027" y="8390"/>
                    <a:pt x="11070" y="8589"/>
                  </a:cubicBezTo>
                  <a:cubicBezTo>
                    <a:pt x="11134" y="8608"/>
                    <a:pt x="11188" y="8646"/>
                    <a:pt x="11188" y="8713"/>
                  </a:cubicBezTo>
                  <a:cubicBezTo>
                    <a:pt x="11316" y="8608"/>
                    <a:pt x="11520" y="8608"/>
                    <a:pt x="11702" y="8608"/>
                  </a:cubicBezTo>
                  <a:lnTo>
                    <a:pt x="12997" y="8608"/>
                  </a:lnTo>
                  <a:cubicBezTo>
                    <a:pt x="12890" y="8732"/>
                    <a:pt x="12686" y="8789"/>
                    <a:pt x="12504" y="8826"/>
                  </a:cubicBezTo>
                  <a:cubicBezTo>
                    <a:pt x="12033" y="8931"/>
                    <a:pt x="11541" y="9026"/>
                    <a:pt x="11070" y="9130"/>
                  </a:cubicBezTo>
                  <a:cubicBezTo>
                    <a:pt x="10963" y="9149"/>
                    <a:pt x="10824" y="9187"/>
                    <a:pt x="10760" y="9282"/>
                  </a:cubicBezTo>
                  <a:cubicBezTo>
                    <a:pt x="10685" y="9405"/>
                    <a:pt x="10824" y="9548"/>
                    <a:pt x="10963" y="9529"/>
                  </a:cubicBezTo>
                  <a:cubicBezTo>
                    <a:pt x="10802" y="9728"/>
                    <a:pt x="10556" y="9804"/>
                    <a:pt x="10310" y="9880"/>
                  </a:cubicBezTo>
                  <a:cubicBezTo>
                    <a:pt x="9989" y="9984"/>
                    <a:pt x="9657" y="10079"/>
                    <a:pt x="9347" y="10184"/>
                  </a:cubicBezTo>
                  <a:cubicBezTo>
                    <a:pt x="9068" y="10260"/>
                    <a:pt x="8779" y="10364"/>
                    <a:pt x="8490" y="10345"/>
                  </a:cubicBezTo>
                  <a:cubicBezTo>
                    <a:pt x="8844" y="10677"/>
                    <a:pt x="9122" y="11038"/>
                    <a:pt x="9475" y="11379"/>
                  </a:cubicBezTo>
                  <a:cubicBezTo>
                    <a:pt x="9518" y="11417"/>
                    <a:pt x="9571" y="11474"/>
                    <a:pt x="9614" y="11541"/>
                  </a:cubicBezTo>
                  <a:cubicBezTo>
                    <a:pt x="9636" y="11617"/>
                    <a:pt x="9636" y="11693"/>
                    <a:pt x="9636" y="11759"/>
                  </a:cubicBezTo>
                  <a:cubicBezTo>
                    <a:pt x="9636" y="11958"/>
                    <a:pt x="9614" y="12158"/>
                    <a:pt x="9614" y="12376"/>
                  </a:cubicBezTo>
                  <a:cubicBezTo>
                    <a:pt x="9390" y="12376"/>
                    <a:pt x="9411" y="12053"/>
                    <a:pt x="9250" y="11911"/>
                  </a:cubicBezTo>
                  <a:cubicBezTo>
                    <a:pt x="9208" y="11873"/>
                    <a:pt x="9143" y="11854"/>
                    <a:pt x="9068" y="11835"/>
                  </a:cubicBezTo>
                  <a:cubicBezTo>
                    <a:pt x="8865" y="11712"/>
                    <a:pt x="8865" y="11417"/>
                    <a:pt x="8672" y="11294"/>
                  </a:cubicBezTo>
                  <a:lnTo>
                    <a:pt x="8533" y="11237"/>
                  </a:lnTo>
                  <a:cubicBezTo>
                    <a:pt x="8266" y="11095"/>
                    <a:pt x="8244" y="10677"/>
                    <a:pt x="7945" y="10658"/>
                  </a:cubicBezTo>
                  <a:cubicBezTo>
                    <a:pt x="7837" y="10639"/>
                    <a:pt x="7752" y="10696"/>
                    <a:pt x="7634" y="10725"/>
                  </a:cubicBezTo>
                  <a:cubicBezTo>
                    <a:pt x="7388" y="10800"/>
                    <a:pt x="7099" y="10763"/>
                    <a:pt x="6896" y="10620"/>
                  </a:cubicBezTo>
                  <a:cubicBezTo>
                    <a:pt x="6853" y="10601"/>
                    <a:pt x="6799" y="10563"/>
                    <a:pt x="6756" y="10563"/>
                  </a:cubicBezTo>
                  <a:cubicBezTo>
                    <a:pt x="6607" y="10525"/>
                    <a:pt x="6467" y="10677"/>
                    <a:pt x="6467" y="10800"/>
                  </a:cubicBezTo>
                  <a:cubicBezTo>
                    <a:pt x="6467" y="10943"/>
                    <a:pt x="6532" y="11057"/>
                    <a:pt x="6585" y="11199"/>
                  </a:cubicBezTo>
                  <a:cubicBezTo>
                    <a:pt x="6628" y="11341"/>
                    <a:pt x="6607" y="11493"/>
                    <a:pt x="6489" y="11579"/>
                  </a:cubicBezTo>
                  <a:cubicBezTo>
                    <a:pt x="6285" y="11474"/>
                    <a:pt x="6178" y="11256"/>
                    <a:pt x="6082" y="11057"/>
                  </a:cubicBezTo>
                  <a:cubicBezTo>
                    <a:pt x="6039" y="10962"/>
                    <a:pt x="5996" y="10838"/>
                    <a:pt x="5975" y="10725"/>
                  </a:cubicBezTo>
                  <a:cubicBezTo>
                    <a:pt x="5975" y="10601"/>
                    <a:pt x="6018" y="10497"/>
                    <a:pt x="5975" y="10383"/>
                  </a:cubicBezTo>
                  <a:cubicBezTo>
                    <a:pt x="5911" y="10165"/>
                    <a:pt x="5590" y="10098"/>
                    <a:pt x="5322" y="10098"/>
                  </a:cubicBezTo>
                  <a:cubicBezTo>
                    <a:pt x="5301" y="10345"/>
                    <a:pt x="5322" y="10563"/>
                    <a:pt x="5386" y="10781"/>
                  </a:cubicBezTo>
                  <a:cubicBezTo>
                    <a:pt x="5183" y="10838"/>
                    <a:pt x="4958" y="10658"/>
                    <a:pt x="4915" y="10478"/>
                  </a:cubicBezTo>
                  <a:cubicBezTo>
                    <a:pt x="4873" y="10297"/>
                    <a:pt x="4937" y="10098"/>
                    <a:pt x="5012" y="9899"/>
                  </a:cubicBezTo>
                  <a:cubicBezTo>
                    <a:pt x="4626" y="9880"/>
                    <a:pt x="4177" y="9785"/>
                    <a:pt x="4070" y="9462"/>
                  </a:cubicBezTo>
                  <a:cubicBezTo>
                    <a:pt x="4038" y="9405"/>
                    <a:pt x="4038" y="9367"/>
                    <a:pt x="4016" y="9310"/>
                  </a:cubicBezTo>
                  <a:cubicBezTo>
                    <a:pt x="3995" y="9263"/>
                    <a:pt x="3931" y="9225"/>
                    <a:pt x="3888" y="9187"/>
                  </a:cubicBezTo>
                  <a:cubicBezTo>
                    <a:pt x="3620" y="8988"/>
                    <a:pt x="3599" y="8627"/>
                    <a:pt x="3599" y="8314"/>
                  </a:cubicBezTo>
                  <a:cubicBezTo>
                    <a:pt x="3599" y="8210"/>
                    <a:pt x="3588" y="8105"/>
                    <a:pt x="3524" y="8029"/>
                  </a:cubicBezTo>
                  <a:cubicBezTo>
                    <a:pt x="3449" y="7944"/>
                    <a:pt x="3321" y="7915"/>
                    <a:pt x="3235" y="7972"/>
                  </a:cubicBezTo>
                  <a:cubicBezTo>
                    <a:pt x="3235" y="7849"/>
                    <a:pt x="3214" y="7754"/>
                    <a:pt x="3214" y="7631"/>
                  </a:cubicBezTo>
                  <a:cubicBezTo>
                    <a:pt x="3074" y="7450"/>
                    <a:pt x="2946" y="7299"/>
                    <a:pt x="2785" y="7118"/>
                  </a:cubicBezTo>
                  <a:cubicBezTo>
                    <a:pt x="2646" y="6976"/>
                    <a:pt x="2518" y="6862"/>
                    <a:pt x="2314" y="6777"/>
                  </a:cubicBezTo>
                  <a:cubicBezTo>
                    <a:pt x="2132" y="6701"/>
                    <a:pt x="1908" y="6701"/>
                    <a:pt x="1726" y="6796"/>
                  </a:cubicBezTo>
                  <a:cubicBezTo>
                    <a:pt x="1565" y="6729"/>
                    <a:pt x="1490" y="6710"/>
                    <a:pt x="1458" y="6701"/>
                  </a:cubicBezTo>
                  <a:cubicBezTo>
                    <a:pt x="1351" y="6976"/>
                    <a:pt x="1308" y="7280"/>
                    <a:pt x="1372" y="7574"/>
                  </a:cubicBezTo>
                  <a:close/>
                  <a:moveTo>
                    <a:pt x="1447" y="6701"/>
                  </a:moveTo>
                  <a:cubicBezTo>
                    <a:pt x="1437" y="6701"/>
                    <a:pt x="1437" y="6701"/>
                    <a:pt x="1447" y="6701"/>
                  </a:cubicBezTo>
                  <a:close/>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nvGrpSpPr>
            <p:cNvPr id="6265" name="Group 3621"/>
            <p:cNvGrpSpPr/>
            <p:nvPr/>
          </p:nvGrpSpPr>
          <p:grpSpPr>
            <a:xfrm>
              <a:off x="15703920" y="1389600"/>
              <a:ext cx="1524960" cy="2237760"/>
              <a:chOff x="15703920" y="1389600"/>
              <a:chExt cx="1524960" cy="2237760"/>
            </a:xfrm>
          </p:grpSpPr>
          <p:sp>
            <p:nvSpPr>
              <p:cNvPr id="6266" name="Shape 3619"/>
              <p:cNvSpPr/>
              <p:nvPr/>
            </p:nvSpPr>
            <p:spPr>
              <a:xfrm>
                <a:off x="15703920" y="1389600"/>
                <a:ext cx="1524960" cy="2237760"/>
              </a:xfrm>
              <a:custGeom>
                <a:avLst/>
                <a:gdLst>
                  <a:gd name="textAreaLeft" fmla="*/ 0 w 1524960"/>
                  <a:gd name="textAreaRight" fmla="*/ 1525320 w 1524960"/>
                  <a:gd name="textAreaTop" fmla="*/ 0 h 2237760"/>
                  <a:gd name="textAreaBottom" fmla="*/ 2238120 h 2237760"/>
                </a:gdLst>
                <a:ahLst/>
                <a:rect l="textAreaLeft" t="textAreaTop" r="textAreaRight" b="textAreaBottom"/>
                <a:pathLst>
                  <a:path w="21591" h="21592">
                    <a:moveTo>
                      <a:pt x="4094" y="3256"/>
                    </a:moveTo>
                    <a:cubicBezTo>
                      <a:pt x="3964" y="3201"/>
                      <a:pt x="3835" y="3327"/>
                      <a:pt x="3847" y="3424"/>
                    </a:cubicBezTo>
                    <a:cubicBezTo>
                      <a:pt x="3859" y="3521"/>
                      <a:pt x="3952" y="3618"/>
                      <a:pt x="3915" y="3714"/>
                    </a:cubicBezTo>
                    <a:cubicBezTo>
                      <a:pt x="3899" y="3750"/>
                      <a:pt x="3873" y="3783"/>
                      <a:pt x="3848" y="3815"/>
                    </a:cubicBezTo>
                    <a:cubicBezTo>
                      <a:pt x="3822" y="3848"/>
                      <a:pt x="3798" y="3880"/>
                      <a:pt x="3785" y="3916"/>
                    </a:cubicBezTo>
                    <a:cubicBezTo>
                      <a:pt x="3770" y="3950"/>
                      <a:pt x="3788" y="3992"/>
                      <a:pt x="3822" y="4021"/>
                    </a:cubicBezTo>
                    <a:cubicBezTo>
                      <a:pt x="3856" y="4051"/>
                      <a:pt x="3906" y="4068"/>
                      <a:pt x="3952" y="4051"/>
                    </a:cubicBezTo>
                    <a:cubicBezTo>
                      <a:pt x="3875" y="4120"/>
                      <a:pt x="3822" y="4204"/>
                      <a:pt x="3799" y="4293"/>
                    </a:cubicBezTo>
                    <a:cubicBezTo>
                      <a:pt x="3776" y="4382"/>
                      <a:pt x="3782" y="4476"/>
                      <a:pt x="3822" y="4564"/>
                    </a:cubicBezTo>
                    <a:cubicBezTo>
                      <a:pt x="3705" y="4631"/>
                      <a:pt x="3588" y="4438"/>
                      <a:pt x="3434" y="4438"/>
                    </a:cubicBezTo>
                    <a:cubicBezTo>
                      <a:pt x="3372" y="4438"/>
                      <a:pt x="3316" y="4476"/>
                      <a:pt x="3255" y="4492"/>
                    </a:cubicBezTo>
                    <a:cubicBezTo>
                      <a:pt x="3227" y="4505"/>
                      <a:pt x="3187" y="4511"/>
                      <a:pt x="3152" y="4509"/>
                    </a:cubicBezTo>
                    <a:cubicBezTo>
                      <a:pt x="3117" y="4507"/>
                      <a:pt x="3088" y="4497"/>
                      <a:pt x="3082" y="4476"/>
                    </a:cubicBezTo>
                    <a:cubicBezTo>
                      <a:pt x="3057" y="4532"/>
                      <a:pt x="3036" y="4589"/>
                      <a:pt x="3013" y="4646"/>
                    </a:cubicBezTo>
                    <a:cubicBezTo>
                      <a:pt x="2991" y="4703"/>
                      <a:pt x="2968" y="4760"/>
                      <a:pt x="2940" y="4816"/>
                    </a:cubicBezTo>
                    <a:cubicBezTo>
                      <a:pt x="2909" y="4791"/>
                      <a:pt x="2858" y="4780"/>
                      <a:pt x="2804" y="4780"/>
                    </a:cubicBezTo>
                    <a:cubicBezTo>
                      <a:pt x="2749" y="4781"/>
                      <a:pt x="2690" y="4793"/>
                      <a:pt x="2644" y="4816"/>
                    </a:cubicBezTo>
                    <a:cubicBezTo>
                      <a:pt x="2598" y="4837"/>
                      <a:pt x="2565" y="4869"/>
                      <a:pt x="2540" y="4903"/>
                    </a:cubicBezTo>
                    <a:cubicBezTo>
                      <a:pt x="2514" y="4936"/>
                      <a:pt x="2496" y="4972"/>
                      <a:pt x="2477" y="5001"/>
                    </a:cubicBezTo>
                    <a:cubicBezTo>
                      <a:pt x="2450" y="5041"/>
                      <a:pt x="2426" y="5083"/>
                      <a:pt x="2404" y="5126"/>
                    </a:cubicBezTo>
                    <a:cubicBezTo>
                      <a:pt x="2382" y="5168"/>
                      <a:pt x="2360" y="5210"/>
                      <a:pt x="2335" y="5250"/>
                    </a:cubicBezTo>
                    <a:cubicBezTo>
                      <a:pt x="2277" y="5250"/>
                      <a:pt x="2221" y="5250"/>
                      <a:pt x="2166" y="5251"/>
                    </a:cubicBezTo>
                    <a:cubicBezTo>
                      <a:pt x="2110" y="5252"/>
                      <a:pt x="2055" y="5254"/>
                      <a:pt x="1996" y="5258"/>
                    </a:cubicBezTo>
                    <a:cubicBezTo>
                      <a:pt x="2024" y="5321"/>
                      <a:pt x="2008" y="5385"/>
                      <a:pt x="1976" y="5448"/>
                    </a:cubicBezTo>
                    <a:cubicBezTo>
                      <a:pt x="1944" y="5510"/>
                      <a:pt x="1894" y="5571"/>
                      <a:pt x="1854" y="5628"/>
                    </a:cubicBezTo>
                    <a:cubicBezTo>
                      <a:pt x="1817" y="5687"/>
                      <a:pt x="1788" y="5758"/>
                      <a:pt x="1787" y="5823"/>
                    </a:cubicBezTo>
                    <a:cubicBezTo>
                      <a:pt x="1786" y="5889"/>
                      <a:pt x="1814" y="5950"/>
                      <a:pt x="1891" y="5990"/>
                    </a:cubicBezTo>
                    <a:cubicBezTo>
                      <a:pt x="1962" y="5990"/>
                      <a:pt x="2035" y="5995"/>
                      <a:pt x="2106" y="6006"/>
                    </a:cubicBezTo>
                    <a:cubicBezTo>
                      <a:pt x="2177" y="6016"/>
                      <a:pt x="2246" y="6032"/>
                      <a:pt x="2311" y="6053"/>
                    </a:cubicBezTo>
                    <a:cubicBezTo>
                      <a:pt x="2335" y="6036"/>
                      <a:pt x="2360" y="6020"/>
                      <a:pt x="2384" y="6005"/>
                    </a:cubicBezTo>
                    <a:cubicBezTo>
                      <a:pt x="2408" y="5989"/>
                      <a:pt x="2431" y="5973"/>
                      <a:pt x="2453" y="5956"/>
                    </a:cubicBezTo>
                    <a:cubicBezTo>
                      <a:pt x="2554" y="5973"/>
                      <a:pt x="2641" y="6026"/>
                      <a:pt x="2691" y="6092"/>
                    </a:cubicBezTo>
                    <a:cubicBezTo>
                      <a:pt x="2741" y="6158"/>
                      <a:pt x="2755" y="6238"/>
                      <a:pt x="2712" y="6310"/>
                    </a:cubicBezTo>
                    <a:cubicBezTo>
                      <a:pt x="2684" y="6314"/>
                      <a:pt x="2655" y="6318"/>
                      <a:pt x="2625" y="6322"/>
                    </a:cubicBezTo>
                    <a:cubicBezTo>
                      <a:pt x="2596" y="6326"/>
                      <a:pt x="2567" y="6331"/>
                      <a:pt x="2539" y="6335"/>
                    </a:cubicBezTo>
                    <a:cubicBezTo>
                      <a:pt x="2585" y="6362"/>
                      <a:pt x="2632" y="6391"/>
                      <a:pt x="2677" y="6419"/>
                    </a:cubicBezTo>
                    <a:cubicBezTo>
                      <a:pt x="2723" y="6447"/>
                      <a:pt x="2767" y="6476"/>
                      <a:pt x="2811" y="6503"/>
                    </a:cubicBezTo>
                    <a:cubicBezTo>
                      <a:pt x="2761" y="6503"/>
                      <a:pt x="2704" y="6507"/>
                      <a:pt x="2654" y="6520"/>
                    </a:cubicBezTo>
                    <a:cubicBezTo>
                      <a:pt x="2604" y="6534"/>
                      <a:pt x="2561" y="6556"/>
                      <a:pt x="2539" y="6591"/>
                    </a:cubicBezTo>
                    <a:cubicBezTo>
                      <a:pt x="2527" y="6608"/>
                      <a:pt x="2521" y="6626"/>
                      <a:pt x="2517" y="6645"/>
                    </a:cubicBezTo>
                    <a:cubicBezTo>
                      <a:pt x="2514" y="6664"/>
                      <a:pt x="2514" y="6684"/>
                      <a:pt x="2514" y="6705"/>
                    </a:cubicBezTo>
                    <a:cubicBezTo>
                      <a:pt x="2502" y="6865"/>
                      <a:pt x="2379" y="7011"/>
                      <a:pt x="2201" y="7110"/>
                    </a:cubicBezTo>
                    <a:cubicBezTo>
                      <a:pt x="2022" y="7210"/>
                      <a:pt x="1789" y="7262"/>
                      <a:pt x="1558" y="7235"/>
                    </a:cubicBezTo>
                    <a:cubicBezTo>
                      <a:pt x="1546" y="7258"/>
                      <a:pt x="1532" y="7282"/>
                      <a:pt x="1520" y="7307"/>
                    </a:cubicBezTo>
                    <a:cubicBezTo>
                      <a:pt x="1507" y="7331"/>
                      <a:pt x="1496" y="7355"/>
                      <a:pt x="1490" y="7378"/>
                    </a:cubicBezTo>
                    <a:cubicBezTo>
                      <a:pt x="1453" y="7378"/>
                      <a:pt x="1412" y="7374"/>
                      <a:pt x="1370" y="7367"/>
                    </a:cubicBezTo>
                    <a:cubicBezTo>
                      <a:pt x="1328" y="7360"/>
                      <a:pt x="1287" y="7351"/>
                      <a:pt x="1250" y="7340"/>
                    </a:cubicBezTo>
                    <a:cubicBezTo>
                      <a:pt x="1222" y="7408"/>
                      <a:pt x="1182" y="7470"/>
                      <a:pt x="1131" y="7526"/>
                    </a:cubicBezTo>
                    <a:cubicBezTo>
                      <a:pt x="1080" y="7582"/>
                      <a:pt x="1018" y="7633"/>
                      <a:pt x="947" y="7677"/>
                    </a:cubicBezTo>
                    <a:cubicBezTo>
                      <a:pt x="916" y="7673"/>
                      <a:pt x="884" y="7668"/>
                      <a:pt x="853" y="7664"/>
                    </a:cubicBezTo>
                    <a:cubicBezTo>
                      <a:pt x="822" y="7660"/>
                      <a:pt x="793" y="7656"/>
                      <a:pt x="768" y="7651"/>
                    </a:cubicBezTo>
                    <a:cubicBezTo>
                      <a:pt x="651" y="7702"/>
                      <a:pt x="534" y="7765"/>
                      <a:pt x="429" y="7820"/>
                    </a:cubicBezTo>
                    <a:cubicBezTo>
                      <a:pt x="262" y="7908"/>
                      <a:pt x="84" y="7996"/>
                      <a:pt x="16" y="8135"/>
                    </a:cubicBezTo>
                    <a:cubicBezTo>
                      <a:pt x="-9" y="8203"/>
                      <a:pt x="-3" y="8269"/>
                      <a:pt x="18" y="8333"/>
                    </a:cubicBezTo>
                    <a:cubicBezTo>
                      <a:pt x="39" y="8398"/>
                      <a:pt x="74" y="8461"/>
                      <a:pt x="108" y="8522"/>
                    </a:cubicBezTo>
                    <a:cubicBezTo>
                      <a:pt x="145" y="8529"/>
                      <a:pt x="181" y="8534"/>
                      <a:pt x="217" y="8539"/>
                    </a:cubicBezTo>
                    <a:cubicBezTo>
                      <a:pt x="253" y="8543"/>
                      <a:pt x="290" y="8547"/>
                      <a:pt x="330" y="8552"/>
                    </a:cubicBezTo>
                    <a:cubicBezTo>
                      <a:pt x="321" y="8596"/>
                      <a:pt x="307" y="8638"/>
                      <a:pt x="289" y="8678"/>
                    </a:cubicBezTo>
                    <a:cubicBezTo>
                      <a:pt x="272" y="8719"/>
                      <a:pt x="250" y="8758"/>
                      <a:pt x="225" y="8796"/>
                    </a:cubicBezTo>
                    <a:cubicBezTo>
                      <a:pt x="380" y="8840"/>
                      <a:pt x="542" y="8889"/>
                      <a:pt x="681" y="8954"/>
                    </a:cubicBezTo>
                    <a:cubicBezTo>
                      <a:pt x="821" y="9019"/>
                      <a:pt x="938" y="9099"/>
                      <a:pt x="1003" y="9204"/>
                    </a:cubicBezTo>
                    <a:cubicBezTo>
                      <a:pt x="1092" y="9191"/>
                      <a:pt x="1185" y="9177"/>
                      <a:pt x="1278" y="9164"/>
                    </a:cubicBezTo>
                    <a:cubicBezTo>
                      <a:pt x="1371" y="9150"/>
                      <a:pt x="1466" y="9136"/>
                      <a:pt x="1558" y="9124"/>
                    </a:cubicBezTo>
                    <a:cubicBezTo>
                      <a:pt x="1577" y="9107"/>
                      <a:pt x="1600" y="9091"/>
                      <a:pt x="1623" y="9075"/>
                    </a:cubicBezTo>
                    <a:cubicBezTo>
                      <a:pt x="1646" y="9060"/>
                      <a:pt x="1669" y="9044"/>
                      <a:pt x="1688" y="9027"/>
                    </a:cubicBezTo>
                    <a:cubicBezTo>
                      <a:pt x="1811" y="8991"/>
                      <a:pt x="1953" y="8985"/>
                      <a:pt x="2085" y="9005"/>
                    </a:cubicBezTo>
                    <a:cubicBezTo>
                      <a:pt x="2217" y="9025"/>
                      <a:pt x="2339" y="9071"/>
                      <a:pt x="2422" y="9141"/>
                    </a:cubicBezTo>
                    <a:cubicBezTo>
                      <a:pt x="2372" y="9229"/>
                      <a:pt x="2266" y="9303"/>
                      <a:pt x="2138" y="9347"/>
                    </a:cubicBezTo>
                    <a:cubicBezTo>
                      <a:pt x="2010" y="9392"/>
                      <a:pt x="1860" y="9408"/>
                      <a:pt x="1725" y="9380"/>
                    </a:cubicBezTo>
                    <a:cubicBezTo>
                      <a:pt x="1620" y="9364"/>
                      <a:pt x="1521" y="9317"/>
                      <a:pt x="1404" y="9317"/>
                    </a:cubicBezTo>
                    <a:cubicBezTo>
                      <a:pt x="1287" y="9317"/>
                      <a:pt x="1157" y="9372"/>
                      <a:pt x="1182" y="9452"/>
                    </a:cubicBezTo>
                    <a:cubicBezTo>
                      <a:pt x="1077" y="9492"/>
                      <a:pt x="967" y="9520"/>
                      <a:pt x="855" y="9536"/>
                    </a:cubicBezTo>
                    <a:cubicBezTo>
                      <a:pt x="742" y="9553"/>
                      <a:pt x="626" y="9557"/>
                      <a:pt x="509" y="9549"/>
                    </a:cubicBezTo>
                    <a:cubicBezTo>
                      <a:pt x="497" y="9584"/>
                      <a:pt x="488" y="9619"/>
                      <a:pt x="478" y="9653"/>
                    </a:cubicBezTo>
                    <a:cubicBezTo>
                      <a:pt x="468" y="9686"/>
                      <a:pt x="457" y="9719"/>
                      <a:pt x="441" y="9750"/>
                    </a:cubicBezTo>
                    <a:cubicBezTo>
                      <a:pt x="552" y="9786"/>
                      <a:pt x="673" y="9828"/>
                      <a:pt x="770" y="9881"/>
                    </a:cubicBezTo>
                    <a:cubicBezTo>
                      <a:pt x="867" y="9935"/>
                      <a:pt x="941" y="9999"/>
                      <a:pt x="960" y="10079"/>
                    </a:cubicBezTo>
                    <a:cubicBezTo>
                      <a:pt x="1031" y="10047"/>
                      <a:pt x="1115" y="10031"/>
                      <a:pt x="1200" y="10031"/>
                    </a:cubicBezTo>
                    <a:cubicBezTo>
                      <a:pt x="1285" y="10031"/>
                      <a:pt x="1370" y="10047"/>
                      <a:pt x="1441" y="10079"/>
                    </a:cubicBezTo>
                    <a:cubicBezTo>
                      <a:pt x="1388" y="10119"/>
                      <a:pt x="1333" y="10155"/>
                      <a:pt x="1278" y="10192"/>
                    </a:cubicBezTo>
                    <a:cubicBezTo>
                      <a:pt x="1223" y="10229"/>
                      <a:pt x="1169" y="10266"/>
                      <a:pt x="1120" y="10306"/>
                    </a:cubicBezTo>
                    <a:cubicBezTo>
                      <a:pt x="1145" y="10289"/>
                      <a:pt x="1177" y="10293"/>
                      <a:pt x="1205" y="10307"/>
                    </a:cubicBezTo>
                    <a:cubicBezTo>
                      <a:pt x="1233" y="10322"/>
                      <a:pt x="1256" y="10346"/>
                      <a:pt x="1262" y="10369"/>
                    </a:cubicBezTo>
                    <a:cubicBezTo>
                      <a:pt x="1274" y="10411"/>
                      <a:pt x="1250" y="10466"/>
                      <a:pt x="1274" y="10508"/>
                    </a:cubicBezTo>
                    <a:cubicBezTo>
                      <a:pt x="1287" y="10529"/>
                      <a:pt x="1324" y="10546"/>
                      <a:pt x="1348" y="10562"/>
                    </a:cubicBezTo>
                    <a:cubicBezTo>
                      <a:pt x="1512" y="10642"/>
                      <a:pt x="1697" y="10722"/>
                      <a:pt x="1885" y="10765"/>
                    </a:cubicBezTo>
                    <a:cubicBezTo>
                      <a:pt x="2073" y="10808"/>
                      <a:pt x="2265" y="10815"/>
                      <a:pt x="2440" y="10747"/>
                    </a:cubicBezTo>
                    <a:cubicBezTo>
                      <a:pt x="2447" y="10716"/>
                      <a:pt x="2453" y="10683"/>
                      <a:pt x="2459" y="10651"/>
                    </a:cubicBezTo>
                    <a:cubicBezTo>
                      <a:pt x="2465" y="10618"/>
                      <a:pt x="2471" y="10585"/>
                      <a:pt x="2477" y="10554"/>
                    </a:cubicBezTo>
                    <a:cubicBezTo>
                      <a:pt x="2669" y="10520"/>
                      <a:pt x="2798" y="10684"/>
                      <a:pt x="2996" y="10714"/>
                    </a:cubicBezTo>
                    <a:cubicBezTo>
                      <a:pt x="3113" y="10731"/>
                      <a:pt x="3224" y="10676"/>
                      <a:pt x="3341" y="10667"/>
                    </a:cubicBezTo>
                    <a:cubicBezTo>
                      <a:pt x="3412" y="10659"/>
                      <a:pt x="3485" y="10661"/>
                      <a:pt x="3555" y="10669"/>
                    </a:cubicBezTo>
                    <a:cubicBezTo>
                      <a:pt x="3625" y="10677"/>
                      <a:pt x="3693" y="10691"/>
                      <a:pt x="3754" y="10705"/>
                    </a:cubicBezTo>
                    <a:cubicBezTo>
                      <a:pt x="4248" y="10802"/>
                      <a:pt x="4803" y="10916"/>
                      <a:pt x="5050" y="11223"/>
                    </a:cubicBezTo>
                    <a:cubicBezTo>
                      <a:pt x="5192" y="11399"/>
                      <a:pt x="5204" y="11614"/>
                      <a:pt x="5223" y="11807"/>
                    </a:cubicBezTo>
                    <a:cubicBezTo>
                      <a:pt x="5306" y="11833"/>
                      <a:pt x="5377" y="11879"/>
                      <a:pt x="5423" y="11934"/>
                    </a:cubicBezTo>
                    <a:cubicBezTo>
                      <a:pt x="5470" y="11989"/>
                      <a:pt x="5491" y="12054"/>
                      <a:pt x="5476" y="12115"/>
                    </a:cubicBezTo>
                    <a:cubicBezTo>
                      <a:pt x="5463" y="12211"/>
                      <a:pt x="5426" y="12300"/>
                      <a:pt x="5426" y="12396"/>
                    </a:cubicBezTo>
                    <a:cubicBezTo>
                      <a:pt x="5426" y="12426"/>
                      <a:pt x="5426" y="12459"/>
                      <a:pt x="5451" y="12476"/>
                    </a:cubicBezTo>
                    <a:cubicBezTo>
                      <a:pt x="5457" y="12485"/>
                      <a:pt x="5471" y="12494"/>
                      <a:pt x="5485" y="12505"/>
                    </a:cubicBezTo>
                    <a:cubicBezTo>
                      <a:pt x="5499" y="12515"/>
                      <a:pt x="5513" y="12527"/>
                      <a:pt x="5519" y="12539"/>
                    </a:cubicBezTo>
                    <a:cubicBezTo>
                      <a:pt x="5531" y="12560"/>
                      <a:pt x="5524" y="12581"/>
                      <a:pt x="5510" y="12602"/>
                    </a:cubicBezTo>
                    <a:cubicBezTo>
                      <a:pt x="5496" y="12622"/>
                      <a:pt x="5476" y="12642"/>
                      <a:pt x="5463" y="12661"/>
                    </a:cubicBezTo>
                    <a:cubicBezTo>
                      <a:pt x="5430" y="12703"/>
                      <a:pt x="5423" y="12757"/>
                      <a:pt x="5440" y="12808"/>
                    </a:cubicBezTo>
                    <a:cubicBezTo>
                      <a:pt x="5457" y="12858"/>
                      <a:pt x="5497" y="12905"/>
                      <a:pt x="5556" y="12935"/>
                    </a:cubicBezTo>
                    <a:cubicBezTo>
                      <a:pt x="5575" y="12945"/>
                      <a:pt x="5598" y="12955"/>
                      <a:pt x="5619" y="12966"/>
                    </a:cubicBezTo>
                    <a:cubicBezTo>
                      <a:pt x="5641" y="12977"/>
                      <a:pt x="5661" y="12989"/>
                      <a:pt x="5673" y="13006"/>
                    </a:cubicBezTo>
                    <a:cubicBezTo>
                      <a:pt x="5686" y="13032"/>
                      <a:pt x="5686" y="13061"/>
                      <a:pt x="5686" y="13086"/>
                    </a:cubicBezTo>
                    <a:cubicBezTo>
                      <a:pt x="5686" y="13351"/>
                      <a:pt x="5908" y="13608"/>
                      <a:pt x="5828" y="13873"/>
                    </a:cubicBezTo>
                    <a:cubicBezTo>
                      <a:pt x="5803" y="13953"/>
                      <a:pt x="5766" y="14058"/>
                      <a:pt x="5865" y="14100"/>
                    </a:cubicBezTo>
                    <a:cubicBezTo>
                      <a:pt x="5908" y="14117"/>
                      <a:pt x="5969" y="14129"/>
                      <a:pt x="5994" y="14163"/>
                    </a:cubicBezTo>
                    <a:cubicBezTo>
                      <a:pt x="6013" y="14188"/>
                      <a:pt x="5994" y="14218"/>
                      <a:pt x="5994" y="14243"/>
                    </a:cubicBezTo>
                    <a:cubicBezTo>
                      <a:pt x="5957" y="14340"/>
                      <a:pt x="5965" y="14443"/>
                      <a:pt x="6010" y="14538"/>
                    </a:cubicBezTo>
                    <a:cubicBezTo>
                      <a:pt x="6056" y="14634"/>
                      <a:pt x="6139" y="14722"/>
                      <a:pt x="6253" y="14790"/>
                    </a:cubicBezTo>
                    <a:cubicBezTo>
                      <a:pt x="6269" y="14798"/>
                      <a:pt x="6283" y="14805"/>
                      <a:pt x="6297" y="14809"/>
                    </a:cubicBezTo>
                    <a:cubicBezTo>
                      <a:pt x="6312" y="14813"/>
                      <a:pt x="6327" y="14815"/>
                      <a:pt x="6346" y="14815"/>
                    </a:cubicBezTo>
                    <a:cubicBezTo>
                      <a:pt x="6380" y="14819"/>
                      <a:pt x="6409" y="14809"/>
                      <a:pt x="6433" y="14791"/>
                    </a:cubicBezTo>
                    <a:cubicBezTo>
                      <a:pt x="6457" y="14774"/>
                      <a:pt x="6475" y="14750"/>
                      <a:pt x="6488" y="14727"/>
                    </a:cubicBezTo>
                    <a:cubicBezTo>
                      <a:pt x="6494" y="14706"/>
                      <a:pt x="6497" y="14684"/>
                      <a:pt x="6500" y="14660"/>
                    </a:cubicBezTo>
                    <a:cubicBezTo>
                      <a:pt x="6503" y="14637"/>
                      <a:pt x="6506" y="14613"/>
                      <a:pt x="6512" y="14588"/>
                    </a:cubicBezTo>
                    <a:cubicBezTo>
                      <a:pt x="6559" y="14573"/>
                      <a:pt x="6611" y="14584"/>
                      <a:pt x="6647" y="14606"/>
                    </a:cubicBezTo>
                    <a:cubicBezTo>
                      <a:pt x="6684" y="14628"/>
                      <a:pt x="6704" y="14661"/>
                      <a:pt x="6685" y="14693"/>
                    </a:cubicBezTo>
                    <a:cubicBezTo>
                      <a:pt x="6670" y="14714"/>
                      <a:pt x="6640" y="14732"/>
                      <a:pt x="6613" y="14751"/>
                    </a:cubicBezTo>
                    <a:cubicBezTo>
                      <a:pt x="6586" y="14770"/>
                      <a:pt x="6562" y="14790"/>
                      <a:pt x="6556" y="14815"/>
                    </a:cubicBezTo>
                    <a:cubicBezTo>
                      <a:pt x="6525" y="14878"/>
                      <a:pt x="6617" y="14941"/>
                      <a:pt x="6722" y="14941"/>
                    </a:cubicBezTo>
                    <a:cubicBezTo>
                      <a:pt x="6827" y="14941"/>
                      <a:pt x="6901" y="14903"/>
                      <a:pt x="6981" y="14861"/>
                    </a:cubicBezTo>
                    <a:cubicBezTo>
                      <a:pt x="7098" y="14887"/>
                      <a:pt x="7185" y="14953"/>
                      <a:pt x="7230" y="15031"/>
                    </a:cubicBezTo>
                    <a:cubicBezTo>
                      <a:pt x="7274" y="15109"/>
                      <a:pt x="7277" y="15200"/>
                      <a:pt x="7228" y="15274"/>
                    </a:cubicBezTo>
                    <a:cubicBezTo>
                      <a:pt x="7111" y="15261"/>
                      <a:pt x="6997" y="15239"/>
                      <a:pt x="6888" y="15209"/>
                    </a:cubicBezTo>
                    <a:cubicBezTo>
                      <a:pt x="6779" y="15179"/>
                      <a:pt x="6676" y="15141"/>
                      <a:pt x="6580" y="15097"/>
                    </a:cubicBezTo>
                    <a:cubicBezTo>
                      <a:pt x="6451" y="15088"/>
                      <a:pt x="6383" y="15202"/>
                      <a:pt x="6383" y="15290"/>
                    </a:cubicBezTo>
                    <a:cubicBezTo>
                      <a:pt x="6383" y="15379"/>
                      <a:pt x="6426" y="15488"/>
                      <a:pt x="6321" y="15547"/>
                    </a:cubicBezTo>
                    <a:cubicBezTo>
                      <a:pt x="6266" y="15585"/>
                      <a:pt x="6167" y="15602"/>
                      <a:pt x="6167" y="15652"/>
                    </a:cubicBezTo>
                    <a:cubicBezTo>
                      <a:pt x="6167" y="15682"/>
                      <a:pt x="6192" y="15707"/>
                      <a:pt x="6204" y="15724"/>
                    </a:cubicBezTo>
                    <a:cubicBezTo>
                      <a:pt x="6256" y="15772"/>
                      <a:pt x="6295" y="15826"/>
                      <a:pt x="6322" y="15882"/>
                    </a:cubicBezTo>
                    <a:cubicBezTo>
                      <a:pt x="6349" y="15939"/>
                      <a:pt x="6364" y="15999"/>
                      <a:pt x="6370" y="16060"/>
                    </a:cubicBezTo>
                    <a:cubicBezTo>
                      <a:pt x="6370" y="16077"/>
                      <a:pt x="6370" y="16095"/>
                      <a:pt x="6374" y="16112"/>
                    </a:cubicBezTo>
                    <a:cubicBezTo>
                      <a:pt x="6377" y="16128"/>
                      <a:pt x="6383" y="16144"/>
                      <a:pt x="6395" y="16157"/>
                    </a:cubicBezTo>
                    <a:cubicBezTo>
                      <a:pt x="6429" y="16197"/>
                      <a:pt x="6491" y="16213"/>
                      <a:pt x="6560" y="16214"/>
                    </a:cubicBezTo>
                    <a:cubicBezTo>
                      <a:pt x="6630" y="16215"/>
                      <a:pt x="6707" y="16201"/>
                      <a:pt x="6771" y="16182"/>
                    </a:cubicBezTo>
                    <a:cubicBezTo>
                      <a:pt x="6812" y="16174"/>
                      <a:pt x="6850" y="16163"/>
                      <a:pt x="6890" y="16153"/>
                    </a:cubicBezTo>
                    <a:cubicBezTo>
                      <a:pt x="6930" y="16142"/>
                      <a:pt x="6972" y="16132"/>
                      <a:pt x="7018" y="16123"/>
                    </a:cubicBezTo>
                    <a:cubicBezTo>
                      <a:pt x="7037" y="16119"/>
                      <a:pt x="7057" y="16112"/>
                      <a:pt x="7074" y="16102"/>
                    </a:cubicBezTo>
                    <a:cubicBezTo>
                      <a:pt x="7091" y="16093"/>
                      <a:pt x="7105" y="16081"/>
                      <a:pt x="7111" y="16069"/>
                    </a:cubicBezTo>
                    <a:cubicBezTo>
                      <a:pt x="7117" y="16052"/>
                      <a:pt x="7108" y="16034"/>
                      <a:pt x="7100" y="16017"/>
                    </a:cubicBezTo>
                    <a:cubicBezTo>
                      <a:pt x="7092" y="16000"/>
                      <a:pt x="7086" y="15984"/>
                      <a:pt x="7098" y="15972"/>
                    </a:cubicBezTo>
                    <a:cubicBezTo>
                      <a:pt x="7105" y="15963"/>
                      <a:pt x="7114" y="15959"/>
                      <a:pt x="7125" y="15957"/>
                    </a:cubicBezTo>
                    <a:cubicBezTo>
                      <a:pt x="7135" y="15955"/>
                      <a:pt x="7148" y="15955"/>
                      <a:pt x="7160" y="15955"/>
                    </a:cubicBezTo>
                    <a:cubicBezTo>
                      <a:pt x="7206" y="15951"/>
                      <a:pt x="7248" y="15947"/>
                      <a:pt x="7290" y="15942"/>
                    </a:cubicBezTo>
                    <a:cubicBezTo>
                      <a:pt x="7331" y="15937"/>
                      <a:pt x="7373" y="15932"/>
                      <a:pt x="7419" y="15926"/>
                    </a:cubicBezTo>
                    <a:cubicBezTo>
                      <a:pt x="7459" y="15997"/>
                      <a:pt x="7495" y="16077"/>
                      <a:pt x="7501" y="16152"/>
                    </a:cubicBezTo>
                    <a:cubicBezTo>
                      <a:pt x="7507" y="16227"/>
                      <a:pt x="7484" y="16298"/>
                      <a:pt x="7407" y="16350"/>
                    </a:cubicBezTo>
                    <a:cubicBezTo>
                      <a:pt x="7459" y="16342"/>
                      <a:pt x="7498" y="16366"/>
                      <a:pt x="7517" y="16400"/>
                    </a:cubicBezTo>
                    <a:cubicBezTo>
                      <a:pt x="7537" y="16435"/>
                      <a:pt x="7537" y="16479"/>
                      <a:pt x="7512" y="16510"/>
                    </a:cubicBezTo>
                    <a:cubicBezTo>
                      <a:pt x="7484" y="16542"/>
                      <a:pt x="7449" y="16570"/>
                      <a:pt x="7417" y="16600"/>
                    </a:cubicBezTo>
                    <a:cubicBezTo>
                      <a:pt x="7385" y="16629"/>
                      <a:pt x="7358" y="16660"/>
                      <a:pt x="7345" y="16695"/>
                    </a:cubicBezTo>
                    <a:cubicBezTo>
                      <a:pt x="7280" y="16683"/>
                      <a:pt x="7213" y="16669"/>
                      <a:pt x="7145" y="16655"/>
                    </a:cubicBezTo>
                    <a:cubicBezTo>
                      <a:pt x="7077" y="16642"/>
                      <a:pt x="7009" y="16628"/>
                      <a:pt x="6944" y="16615"/>
                    </a:cubicBezTo>
                    <a:cubicBezTo>
                      <a:pt x="6910" y="16611"/>
                      <a:pt x="6876" y="16605"/>
                      <a:pt x="6845" y="16602"/>
                    </a:cubicBezTo>
                    <a:cubicBezTo>
                      <a:pt x="6813" y="16599"/>
                      <a:pt x="6784" y="16599"/>
                      <a:pt x="6759" y="16607"/>
                    </a:cubicBezTo>
                    <a:cubicBezTo>
                      <a:pt x="6731" y="16615"/>
                      <a:pt x="6708" y="16635"/>
                      <a:pt x="6699" y="16656"/>
                    </a:cubicBezTo>
                    <a:cubicBezTo>
                      <a:pt x="6690" y="16677"/>
                      <a:pt x="6694" y="16700"/>
                      <a:pt x="6722" y="16712"/>
                    </a:cubicBezTo>
                    <a:cubicBezTo>
                      <a:pt x="6747" y="16704"/>
                      <a:pt x="6768" y="16710"/>
                      <a:pt x="6782" y="16723"/>
                    </a:cubicBezTo>
                    <a:cubicBezTo>
                      <a:pt x="6796" y="16736"/>
                      <a:pt x="6802" y="16756"/>
                      <a:pt x="6796" y="16775"/>
                    </a:cubicBezTo>
                    <a:cubicBezTo>
                      <a:pt x="6787" y="16792"/>
                      <a:pt x="6775" y="16808"/>
                      <a:pt x="6761" y="16823"/>
                    </a:cubicBezTo>
                    <a:cubicBezTo>
                      <a:pt x="6748" y="16837"/>
                      <a:pt x="6734" y="16851"/>
                      <a:pt x="6722" y="16864"/>
                    </a:cubicBezTo>
                    <a:cubicBezTo>
                      <a:pt x="6676" y="16908"/>
                      <a:pt x="6656" y="16960"/>
                      <a:pt x="6653" y="17015"/>
                    </a:cubicBezTo>
                    <a:cubicBezTo>
                      <a:pt x="6650" y="17070"/>
                      <a:pt x="6663" y="17126"/>
                      <a:pt x="6685" y="17179"/>
                    </a:cubicBezTo>
                    <a:cubicBezTo>
                      <a:pt x="6710" y="17291"/>
                      <a:pt x="6687" y="17410"/>
                      <a:pt x="6669" y="17529"/>
                    </a:cubicBezTo>
                    <a:cubicBezTo>
                      <a:pt x="6651" y="17647"/>
                      <a:pt x="6639" y="17764"/>
                      <a:pt x="6685" y="17869"/>
                    </a:cubicBezTo>
                    <a:cubicBezTo>
                      <a:pt x="6716" y="17957"/>
                      <a:pt x="6767" y="18048"/>
                      <a:pt x="6798" y="18137"/>
                    </a:cubicBezTo>
                    <a:cubicBezTo>
                      <a:pt x="6830" y="18226"/>
                      <a:pt x="6842" y="18315"/>
                      <a:pt x="6796" y="18399"/>
                    </a:cubicBezTo>
                    <a:cubicBezTo>
                      <a:pt x="6824" y="18407"/>
                      <a:pt x="6847" y="18414"/>
                      <a:pt x="6870" y="18420"/>
                    </a:cubicBezTo>
                    <a:cubicBezTo>
                      <a:pt x="6893" y="18426"/>
                      <a:pt x="6916" y="18433"/>
                      <a:pt x="6944" y="18441"/>
                    </a:cubicBezTo>
                    <a:cubicBezTo>
                      <a:pt x="6994" y="18592"/>
                      <a:pt x="7048" y="18741"/>
                      <a:pt x="7102" y="18888"/>
                    </a:cubicBezTo>
                    <a:cubicBezTo>
                      <a:pt x="7157" y="19036"/>
                      <a:pt x="7213" y="19183"/>
                      <a:pt x="7265" y="19333"/>
                    </a:cubicBezTo>
                    <a:cubicBezTo>
                      <a:pt x="7271" y="19352"/>
                      <a:pt x="7277" y="19372"/>
                      <a:pt x="7287" y="19390"/>
                    </a:cubicBezTo>
                    <a:cubicBezTo>
                      <a:pt x="7296" y="19408"/>
                      <a:pt x="7308" y="19425"/>
                      <a:pt x="7327" y="19438"/>
                    </a:cubicBezTo>
                    <a:cubicBezTo>
                      <a:pt x="7342" y="19453"/>
                      <a:pt x="7362" y="19462"/>
                      <a:pt x="7380" y="19472"/>
                    </a:cubicBezTo>
                    <a:cubicBezTo>
                      <a:pt x="7398" y="19482"/>
                      <a:pt x="7413" y="19493"/>
                      <a:pt x="7419" y="19509"/>
                    </a:cubicBezTo>
                    <a:cubicBezTo>
                      <a:pt x="7444" y="19547"/>
                      <a:pt x="7432" y="19581"/>
                      <a:pt x="7432" y="19615"/>
                    </a:cubicBezTo>
                    <a:cubicBezTo>
                      <a:pt x="7432" y="19749"/>
                      <a:pt x="7617" y="19846"/>
                      <a:pt x="7734" y="19959"/>
                    </a:cubicBezTo>
                    <a:cubicBezTo>
                      <a:pt x="7796" y="20023"/>
                      <a:pt x="7837" y="20091"/>
                      <a:pt x="7870" y="20162"/>
                    </a:cubicBezTo>
                    <a:cubicBezTo>
                      <a:pt x="7902" y="20234"/>
                      <a:pt x="7925" y="20309"/>
                      <a:pt x="7950" y="20384"/>
                    </a:cubicBezTo>
                    <a:cubicBezTo>
                      <a:pt x="7984" y="20384"/>
                      <a:pt x="8013" y="20386"/>
                      <a:pt x="8042" y="20389"/>
                    </a:cubicBezTo>
                    <a:cubicBezTo>
                      <a:pt x="8072" y="20391"/>
                      <a:pt x="8101" y="20393"/>
                      <a:pt x="8135" y="20393"/>
                    </a:cubicBezTo>
                    <a:cubicBezTo>
                      <a:pt x="8101" y="20441"/>
                      <a:pt x="8107" y="20492"/>
                      <a:pt x="8133" y="20541"/>
                    </a:cubicBezTo>
                    <a:cubicBezTo>
                      <a:pt x="8158" y="20590"/>
                      <a:pt x="8203" y="20639"/>
                      <a:pt x="8246" y="20683"/>
                    </a:cubicBezTo>
                    <a:cubicBezTo>
                      <a:pt x="8292" y="20723"/>
                      <a:pt x="8339" y="20763"/>
                      <a:pt x="8383" y="20803"/>
                    </a:cubicBezTo>
                    <a:cubicBezTo>
                      <a:pt x="8426" y="20843"/>
                      <a:pt x="8468" y="20883"/>
                      <a:pt x="8505" y="20923"/>
                    </a:cubicBezTo>
                    <a:cubicBezTo>
                      <a:pt x="8564" y="20975"/>
                      <a:pt x="8629" y="21032"/>
                      <a:pt x="8705" y="21077"/>
                    </a:cubicBezTo>
                    <a:cubicBezTo>
                      <a:pt x="8781" y="21122"/>
                      <a:pt x="8869" y="21154"/>
                      <a:pt x="8974" y="21158"/>
                    </a:cubicBezTo>
                    <a:cubicBezTo>
                      <a:pt x="8999" y="21133"/>
                      <a:pt x="9043" y="21127"/>
                      <a:pt x="9092" y="21130"/>
                    </a:cubicBezTo>
                    <a:cubicBezTo>
                      <a:pt x="9141" y="21133"/>
                      <a:pt x="9193" y="21146"/>
                      <a:pt x="9233" y="21158"/>
                    </a:cubicBezTo>
                    <a:cubicBezTo>
                      <a:pt x="9329" y="21194"/>
                      <a:pt x="9429" y="21232"/>
                      <a:pt x="9523" y="21275"/>
                    </a:cubicBezTo>
                    <a:cubicBezTo>
                      <a:pt x="9617" y="21318"/>
                      <a:pt x="9705" y="21367"/>
                      <a:pt x="9776" y="21423"/>
                    </a:cubicBezTo>
                    <a:cubicBezTo>
                      <a:pt x="9869" y="21495"/>
                      <a:pt x="9943" y="21583"/>
                      <a:pt x="10072" y="21592"/>
                    </a:cubicBezTo>
                    <a:cubicBezTo>
                      <a:pt x="10202" y="21600"/>
                      <a:pt x="10313" y="21533"/>
                      <a:pt x="10356" y="21444"/>
                    </a:cubicBezTo>
                    <a:cubicBezTo>
                      <a:pt x="10375" y="21400"/>
                      <a:pt x="10378" y="21356"/>
                      <a:pt x="10373" y="21312"/>
                    </a:cubicBezTo>
                    <a:cubicBezTo>
                      <a:pt x="10368" y="21268"/>
                      <a:pt x="10356" y="21224"/>
                      <a:pt x="10344" y="21179"/>
                    </a:cubicBezTo>
                    <a:cubicBezTo>
                      <a:pt x="10365" y="21175"/>
                      <a:pt x="10385" y="21173"/>
                      <a:pt x="10406" y="21170"/>
                    </a:cubicBezTo>
                    <a:cubicBezTo>
                      <a:pt x="10427" y="21168"/>
                      <a:pt x="10449" y="21165"/>
                      <a:pt x="10473" y="21158"/>
                    </a:cubicBezTo>
                    <a:cubicBezTo>
                      <a:pt x="10479" y="21106"/>
                      <a:pt x="10483" y="21051"/>
                      <a:pt x="10486" y="20996"/>
                    </a:cubicBezTo>
                    <a:cubicBezTo>
                      <a:pt x="10489" y="20942"/>
                      <a:pt x="10492" y="20887"/>
                      <a:pt x="10498" y="20834"/>
                    </a:cubicBezTo>
                    <a:cubicBezTo>
                      <a:pt x="10507" y="20816"/>
                      <a:pt x="10515" y="20796"/>
                      <a:pt x="10522" y="20776"/>
                    </a:cubicBezTo>
                    <a:cubicBezTo>
                      <a:pt x="10529" y="20757"/>
                      <a:pt x="10535" y="20738"/>
                      <a:pt x="10541" y="20721"/>
                    </a:cubicBezTo>
                    <a:cubicBezTo>
                      <a:pt x="10566" y="20637"/>
                      <a:pt x="10587" y="20546"/>
                      <a:pt x="10582" y="20462"/>
                    </a:cubicBezTo>
                    <a:cubicBezTo>
                      <a:pt x="10577" y="20378"/>
                      <a:pt x="10544" y="20300"/>
                      <a:pt x="10461" y="20241"/>
                    </a:cubicBezTo>
                    <a:cubicBezTo>
                      <a:pt x="10479" y="20237"/>
                      <a:pt x="10499" y="20231"/>
                      <a:pt x="10520" y="20224"/>
                    </a:cubicBezTo>
                    <a:cubicBezTo>
                      <a:pt x="10540" y="20218"/>
                      <a:pt x="10560" y="20212"/>
                      <a:pt x="10578" y="20208"/>
                    </a:cubicBezTo>
                    <a:cubicBezTo>
                      <a:pt x="10646" y="20145"/>
                      <a:pt x="10708" y="20086"/>
                      <a:pt x="10769" y="20031"/>
                    </a:cubicBezTo>
                    <a:cubicBezTo>
                      <a:pt x="11047" y="19791"/>
                      <a:pt x="11331" y="19493"/>
                      <a:pt x="11201" y="19202"/>
                    </a:cubicBezTo>
                    <a:cubicBezTo>
                      <a:pt x="11220" y="19207"/>
                      <a:pt x="11238" y="19209"/>
                      <a:pt x="11258" y="19211"/>
                    </a:cubicBezTo>
                    <a:cubicBezTo>
                      <a:pt x="11277" y="19213"/>
                      <a:pt x="11297" y="19215"/>
                      <a:pt x="11319" y="19219"/>
                    </a:cubicBezTo>
                    <a:cubicBezTo>
                      <a:pt x="11312" y="19158"/>
                      <a:pt x="11292" y="19096"/>
                      <a:pt x="11262" y="19037"/>
                    </a:cubicBezTo>
                    <a:cubicBezTo>
                      <a:pt x="11232" y="18978"/>
                      <a:pt x="11192" y="18923"/>
                      <a:pt x="11146" y="18874"/>
                    </a:cubicBezTo>
                    <a:cubicBezTo>
                      <a:pt x="11192" y="18883"/>
                      <a:pt x="11241" y="18892"/>
                      <a:pt x="11290" y="18895"/>
                    </a:cubicBezTo>
                    <a:cubicBezTo>
                      <a:pt x="11339" y="18897"/>
                      <a:pt x="11386" y="18893"/>
                      <a:pt x="11430" y="18874"/>
                    </a:cubicBezTo>
                    <a:cubicBezTo>
                      <a:pt x="11522" y="18838"/>
                      <a:pt x="11554" y="18760"/>
                      <a:pt x="11590" y="18686"/>
                    </a:cubicBezTo>
                    <a:cubicBezTo>
                      <a:pt x="11625" y="18612"/>
                      <a:pt x="11664" y="18544"/>
                      <a:pt x="11769" y="18529"/>
                    </a:cubicBezTo>
                    <a:cubicBezTo>
                      <a:pt x="11794" y="18548"/>
                      <a:pt x="11820" y="18564"/>
                      <a:pt x="11848" y="18577"/>
                    </a:cubicBezTo>
                    <a:cubicBezTo>
                      <a:pt x="11875" y="18590"/>
                      <a:pt x="11905" y="18601"/>
                      <a:pt x="11935" y="18609"/>
                    </a:cubicBezTo>
                    <a:cubicBezTo>
                      <a:pt x="11942" y="18561"/>
                      <a:pt x="11959" y="18515"/>
                      <a:pt x="11983" y="18470"/>
                    </a:cubicBezTo>
                    <a:cubicBezTo>
                      <a:pt x="12008" y="18426"/>
                      <a:pt x="12040" y="18384"/>
                      <a:pt x="12077" y="18344"/>
                    </a:cubicBezTo>
                    <a:cubicBezTo>
                      <a:pt x="12105" y="18384"/>
                      <a:pt x="12125" y="18426"/>
                      <a:pt x="12138" y="18470"/>
                    </a:cubicBezTo>
                    <a:cubicBezTo>
                      <a:pt x="12151" y="18515"/>
                      <a:pt x="12158" y="18561"/>
                      <a:pt x="12158" y="18609"/>
                    </a:cubicBezTo>
                    <a:cubicBezTo>
                      <a:pt x="12176" y="18584"/>
                      <a:pt x="12218" y="18578"/>
                      <a:pt x="12266" y="18578"/>
                    </a:cubicBezTo>
                    <a:cubicBezTo>
                      <a:pt x="12315" y="18578"/>
                      <a:pt x="12370" y="18584"/>
                      <a:pt x="12417" y="18584"/>
                    </a:cubicBezTo>
                    <a:cubicBezTo>
                      <a:pt x="12506" y="18588"/>
                      <a:pt x="12586" y="18555"/>
                      <a:pt x="12637" y="18506"/>
                    </a:cubicBezTo>
                    <a:cubicBezTo>
                      <a:pt x="12687" y="18457"/>
                      <a:pt x="12707" y="18393"/>
                      <a:pt x="12676" y="18336"/>
                    </a:cubicBezTo>
                    <a:cubicBezTo>
                      <a:pt x="12707" y="18327"/>
                      <a:pt x="12745" y="18323"/>
                      <a:pt x="12785" y="18325"/>
                    </a:cubicBezTo>
                    <a:cubicBezTo>
                      <a:pt x="12824" y="18327"/>
                      <a:pt x="12864" y="18336"/>
                      <a:pt x="12898" y="18353"/>
                    </a:cubicBezTo>
                    <a:cubicBezTo>
                      <a:pt x="12935" y="18304"/>
                      <a:pt x="12983" y="18263"/>
                      <a:pt x="13039" y="18229"/>
                    </a:cubicBezTo>
                    <a:cubicBezTo>
                      <a:pt x="13095" y="18194"/>
                      <a:pt x="13160" y="18165"/>
                      <a:pt x="13231" y="18142"/>
                    </a:cubicBezTo>
                    <a:cubicBezTo>
                      <a:pt x="13250" y="18138"/>
                      <a:pt x="13270" y="18132"/>
                      <a:pt x="13288" y="18124"/>
                    </a:cubicBezTo>
                    <a:cubicBezTo>
                      <a:pt x="13307" y="18117"/>
                      <a:pt x="13324" y="18109"/>
                      <a:pt x="13336" y="18100"/>
                    </a:cubicBezTo>
                    <a:cubicBezTo>
                      <a:pt x="13348" y="18090"/>
                      <a:pt x="13358" y="18078"/>
                      <a:pt x="13365" y="18066"/>
                    </a:cubicBezTo>
                    <a:cubicBezTo>
                      <a:pt x="13373" y="18054"/>
                      <a:pt x="13379" y="18041"/>
                      <a:pt x="13385" y="18029"/>
                    </a:cubicBezTo>
                    <a:cubicBezTo>
                      <a:pt x="13441" y="17924"/>
                      <a:pt x="13527" y="17827"/>
                      <a:pt x="13644" y="17755"/>
                    </a:cubicBezTo>
                    <a:cubicBezTo>
                      <a:pt x="13842" y="17638"/>
                      <a:pt x="13959" y="17482"/>
                      <a:pt x="14021" y="17305"/>
                    </a:cubicBezTo>
                    <a:cubicBezTo>
                      <a:pt x="14113" y="17356"/>
                      <a:pt x="14268" y="17288"/>
                      <a:pt x="14280" y="17200"/>
                    </a:cubicBezTo>
                    <a:cubicBezTo>
                      <a:pt x="14292" y="17112"/>
                      <a:pt x="14200" y="17040"/>
                      <a:pt x="14126" y="16969"/>
                    </a:cubicBezTo>
                    <a:cubicBezTo>
                      <a:pt x="14086" y="16933"/>
                      <a:pt x="14047" y="16897"/>
                      <a:pt x="14020" y="16859"/>
                    </a:cubicBezTo>
                    <a:cubicBezTo>
                      <a:pt x="13993" y="16822"/>
                      <a:pt x="13978" y="16782"/>
                      <a:pt x="13984" y="16737"/>
                    </a:cubicBezTo>
                    <a:cubicBezTo>
                      <a:pt x="14002" y="16761"/>
                      <a:pt x="14032" y="16778"/>
                      <a:pt x="14064" y="16789"/>
                    </a:cubicBezTo>
                    <a:cubicBezTo>
                      <a:pt x="14096" y="16800"/>
                      <a:pt x="14132" y="16805"/>
                      <a:pt x="14163" y="16800"/>
                    </a:cubicBezTo>
                    <a:cubicBezTo>
                      <a:pt x="14181" y="16868"/>
                      <a:pt x="14234" y="16930"/>
                      <a:pt x="14305" y="16978"/>
                    </a:cubicBezTo>
                    <a:cubicBezTo>
                      <a:pt x="14377" y="17027"/>
                      <a:pt x="14468" y="17061"/>
                      <a:pt x="14564" y="17074"/>
                    </a:cubicBezTo>
                    <a:cubicBezTo>
                      <a:pt x="14699" y="17049"/>
                      <a:pt x="14832" y="17020"/>
                      <a:pt x="14965" y="16991"/>
                    </a:cubicBezTo>
                    <a:cubicBezTo>
                      <a:pt x="15097" y="16962"/>
                      <a:pt x="15230" y="16933"/>
                      <a:pt x="15366" y="16906"/>
                    </a:cubicBezTo>
                    <a:cubicBezTo>
                      <a:pt x="15390" y="16872"/>
                      <a:pt x="15409" y="16855"/>
                      <a:pt x="15458" y="16855"/>
                    </a:cubicBezTo>
                    <a:cubicBezTo>
                      <a:pt x="15495" y="16855"/>
                      <a:pt x="15532" y="16864"/>
                      <a:pt x="15576" y="16855"/>
                    </a:cubicBezTo>
                    <a:cubicBezTo>
                      <a:pt x="15588" y="16851"/>
                      <a:pt x="15600" y="16847"/>
                      <a:pt x="15613" y="16841"/>
                    </a:cubicBezTo>
                    <a:cubicBezTo>
                      <a:pt x="15625" y="16835"/>
                      <a:pt x="15637" y="16828"/>
                      <a:pt x="15650" y="16817"/>
                    </a:cubicBezTo>
                    <a:cubicBezTo>
                      <a:pt x="15754" y="16756"/>
                      <a:pt x="15869" y="16700"/>
                      <a:pt x="15989" y="16649"/>
                    </a:cubicBezTo>
                    <a:cubicBezTo>
                      <a:pt x="16109" y="16599"/>
                      <a:pt x="16236" y="16554"/>
                      <a:pt x="16365" y="16519"/>
                    </a:cubicBezTo>
                    <a:cubicBezTo>
                      <a:pt x="16390" y="16510"/>
                      <a:pt x="16419" y="16504"/>
                      <a:pt x="16450" y="16501"/>
                    </a:cubicBezTo>
                    <a:cubicBezTo>
                      <a:pt x="16481" y="16498"/>
                      <a:pt x="16513" y="16498"/>
                      <a:pt x="16544" y="16502"/>
                    </a:cubicBezTo>
                    <a:cubicBezTo>
                      <a:pt x="16634" y="16409"/>
                      <a:pt x="16740" y="16323"/>
                      <a:pt x="16858" y="16245"/>
                    </a:cubicBezTo>
                    <a:cubicBezTo>
                      <a:pt x="16976" y="16166"/>
                      <a:pt x="17106" y="16096"/>
                      <a:pt x="17241" y="16035"/>
                    </a:cubicBezTo>
                    <a:cubicBezTo>
                      <a:pt x="17288" y="16016"/>
                      <a:pt x="17334" y="15998"/>
                      <a:pt x="17376" y="15977"/>
                    </a:cubicBezTo>
                    <a:cubicBezTo>
                      <a:pt x="17419" y="15956"/>
                      <a:pt x="17457" y="15932"/>
                      <a:pt x="17488" y="15900"/>
                    </a:cubicBezTo>
                    <a:cubicBezTo>
                      <a:pt x="17510" y="15888"/>
                      <a:pt x="17527" y="15873"/>
                      <a:pt x="17543" y="15859"/>
                    </a:cubicBezTo>
                    <a:cubicBezTo>
                      <a:pt x="17559" y="15845"/>
                      <a:pt x="17575" y="15831"/>
                      <a:pt x="17593" y="15820"/>
                    </a:cubicBezTo>
                    <a:cubicBezTo>
                      <a:pt x="17618" y="15808"/>
                      <a:pt x="17647" y="15799"/>
                      <a:pt x="17678" y="15791"/>
                    </a:cubicBezTo>
                    <a:cubicBezTo>
                      <a:pt x="17709" y="15783"/>
                      <a:pt x="17741" y="15774"/>
                      <a:pt x="17772" y="15761"/>
                    </a:cubicBezTo>
                    <a:cubicBezTo>
                      <a:pt x="17800" y="15747"/>
                      <a:pt x="17826" y="15727"/>
                      <a:pt x="17841" y="15706"/>
                    </a:cubicBezTo>
                    <a:cubicBezTo>
                      <a:pt x="17855" y="15685"/>
                      <a:pt x="17858" y="15663"/>
                      <a:pt x="17840" y="15644"/>
                    </a:cubicBezTo>
                    <a:cubicBezTo>
                      <a:pt x="17661" y="15644"/>
                      <a:pt x="17463" y="15635"/>
                      <a:pt x="17285" y="15635"/>
                    </a:cubicBezTo>
                    <a:cubicBezTo>
                      <a:pt x="17217" y="15635"/>
                      <a:pt x="17155" y="15635"/>
                      <a:pt x="17099" y="15610"/>
                    </a:cubicBezTo>
                    <a:cubicBezTo>
                      <a:pt x="17075" y="15602"/>
                      <a:pt x="17050" y="15586"/>
                      <a:pt x="17033" y="15567"/>
                    </a:cubicBezTo>
                    <a:cubicBezTo>
                      <a:pt x="17016" y="15548"/>
                      <a:pt x="17007" y="15526"/>
                      <a:pt x="17013" y="15505"/>
                    </a:cubicBezTo>
                    <a:cubicBezTo>
                      <a:pt x="16896" y="15492"/>
                      <a:pt x="16772" y="15481"/>
                      <a:pt x="16652" y="15482"/>
                    </a:cubicBezTo>
                    <a:cubicBezTo>
                      <a:pt x="16532" y="15484"/>
                      <a:pt x="16415" y="15499"/>
                      <a:pt x="16310" y="15539"/>
                    </a:cubicBezTo>
                    <a:cubicBezTo>
                      <a:pt x="16267" y="15557"/>
                      <a:pt x="16225" y="15577"/>
                      <a:pt x="16183" y="15598"/>
                    </a:cubicBezTo>
                    <a:cubicBezTo>
                      <a:pt x="16140" y="15620"/>
                      <a:pt x="16097" y="15642"/>
                      <a:pt x="16051" y="15665"/>
                    </a:cubicBezTo>
                    <a:cubicBezTo>
                      <a:pt x="15949" y="15713"/>
                      <a:pt x="15836" y="15748"/>
                      <a:pt x="15718" y="15769"/>
                    </a:cubicBezTo>
                    <a:cubicBezTo>
                      <a:pt x="15600" y="15791"/>
                      <a:pt x="15477" y="15799"/>
                      <a:pt x="15353" y="15795"/>
                    </a:cubicBezTo>
                    <a:cubicBezTo>
                      <a:pt x="15347" y="15795"/>
                      <a:pt x="15341" y="15795"/>
                      <a:pt x="15335" y="15794"/>
                    </a:cubicBezTo>
                    <a:cubicBezTo>
                      <a:pt x="15329" y="15793"/>
                      <a:pt x="15323" y="15791"/>
                      <a:pt x="15316" y="15787"/>
                    </a:cubicBezTo>
                    <a:cubicBezTo>
                      <a:pt x="15289" y="15778"/>
                      <a:pt x="15287" y="15758"/>
                      <a:pt x="15301" y="15737"/>
                    </a:cubicBezTo>
                    <a:cubicBezTo>
                      <a:pt x="15315" y="15716"/>
                      <a:pt x="15344" y="15694"/>
                      <a:pt x="15378" y="15682"/>
                    </a:cubicBezTo>
                    <a:cubicBezTo>
                      <a:pt x="15440" y="15652"/>
                      <a:pt x="15520" y="15635"/>
                      <a:pt x="15600" y="15618"/>
                    </a:cubicBezTo>
                    <a:cubicBezTo>
                      <a:pt x="15680" y="15602"/>
                      <a:pt x="15754" y="15593"/>
                      <a:pt x="15835" y="15564"/>
                    </a:cubicBezTo>
                    <a:cubicBezTo>
                      <a:pt x="15866" y="15551"/>
                      <a:pt x="15895" y="15536"/>
                      <a:pt x="15924" y="15522"/>
                    </a:cubicBezTo>
                    <a:cubicBezTo>
                      <a:pt x="15953" y="15507"/>
                      <a:pt x="15983" y="15492"/>
                      <a:pt x="16014" y="15480"/>
                    </a:cubicBezTo>
                    <a:cubicBezTo>
                      <a:pt x="16143" y="15417"/>
                      <a:pt x="16322" y="15408"/>
                      <a:pt x="16452" y="15345"/>
                    </a:cubicBezTo>
                    <a:cubicBezTo>
                      <a:pt x="16581" y="15282"/>
                      <a:pt x="16698" y="15152"/>
                      <a:pt x="16581" y="15072"/>
                    </a:cubicBezTo>
                    <a:cubicBezTo>
                      <a:pt x="16495" y="15000"/>
                      <a:pt x="16322" y="15030"/>
                      <a:pt x="16193" y="15063"/>
                    </a:cubicBezTo>
                    <a:cubicBezTo>
                      <a:pt x="16063" y="15097"/>
                      <a:pt x="15921" y="15152"/>
                      <a:pt x="15792" y="15114"/>
                    </a:cubicBezTo>
                    <a:cubicBezTo>
                      <a:pt x="15785" y="15080"/>
                      <a:pt x="15818" y="15059"/>
                      <a:pt x="15863" y="15046"/>
                    </a:cubicBezTo>
                    <a:cubicBezTo>
                      <a:pt x="15909" y="15034"/>
                      <a:pt x="15967" y="15030"/>
                      <a:pt x="16014" y="15030"/>
                    </a:cubicBezTo>
                    <a:cubicBezTo>
                      <a:pt x="16085" y="15023"/>
                      <a:pt x="16156" y="15012"/>
                      <a:pt x="16222" y="14994"/>
                    </a:cubicBezTo>
                    <a:cubicBezTo>
                      <a:pt x="16288" y="14976"/>
                      <a:pt x="16350" y="14952"/>
                      <a:pt x="16402" y="14920"/>
                    </a:cubicBezTo>
                    <a:cubicBezTo>
                      <a:pt x="16442" y="14899"/>
                      <a:pt x="16481" y="14869"/>
                      <a:pt x="16502" y="14837"/>
                    </a:cubicBezTo>
                    <a:cubicBezTo>
                      <a:pt x="16523" y="14805"/>
                      <a:pt x="16526" y="14771"/>
                      <a:pt x="16495" y="14744"/>
                    </a:cubicBezTo>
                    <a:cubicBezTo>
                      <a:pt x="16452" y="14710"/>
                      <a:pt x="16378" y="14710"/>
                      <a:pt x="16310" y="14710"/>
                    </a:cubicBezTo>
                    <a:cubicBezTo>
                      <a:pt x="16211" y="14710"/>
                      <a:pt x="16106" y="14710"/>
                      <a:pt x="16001" y="14685"/>
                    </a:cubicBezTo>
                    <a:cubicBezTo>
                      <a:pt x="15955" y="14670"/>
                      <a:pt x="15910" y="14648"/>
                      <a:pt x="15879" y="14620"/>
                    </a:cubicBezTo>
                    <a:cubicBezTo>
                      <a:pt x="15847" y="14593"/>
                      <a:pt x="15829" y="14561"/>
                      <a:pt x="15835" y="14525"/>
                    </a:cubicBezTo>
                    <a:cubicBezTo>
                      <a:pt x="15782" y="14508"/>
                      <a:pt x="15730" y="14490"/>
                      <a:pt x="15681" y="14469"/>
                    </a:cubicBezTo>
                    <a:cubicBezTo>
                      <a:pt x="15633" y="14447"/>
                      <a:pt x="15588" y="14422"/>
                      <a:pt x="15551" y="14390"/>
                    </a:cubicBezTo>
                    <a:cubicBezTo>
                      <a:pt x="15511" y="14361"/>
                      <a:pt x="15488" y="14322"/>
                      <a:pt x="15482" y="14282"/>
                    </a:cubicBezTo>
                    <a:cubicBezTo>
                      <a:pt x="15477" y="14243"/>
                      <a:pt x="15489" y="14203"/>
                      <a:pt x="15520" y="14171"/>
                    </a:cubicBezTo>
                    <a:cubicBezTo>
                      <a:pt x="15591" y="14232"/>
                      <a:pt x="15667" y="14290"/>
                      <a:pt x="15745" y="14346"/>
                    </a:cubicBezTo>
                    <a:cubicBezTo>
                      <a:pt x="15824" y="14402"/>
                      <a:pt x="15906" y="14455"/>
                      <a:pt x="15989" y="14508"/>
                    </a:cubicBezTo>
                    <a:cubicBezTo>
                      <a:pt x="16020" y="14525"/>
                      <a:pt x="16049" y="14543"/>
                      <a:pt x="16080" y="14558"/>
                    </a:cubicBezTo>
                    <a:cubicBezTo>
                      <a:pt x="16111" y="14574"/>
                      <a:pt x="16143" y="14588"/>
                      <a:pt x="16180" y="14596"/>
                    </a:cubicBezTo>
                    <a:cubicBezTo>
                      <a:pt x="16285" y="14622"/>
                      <a:pt x="16402" y="14622"/>
                      <a:pt x="16507" y="14630"/>
                    </a:cubicBezTo>
                    <a:cubicBezTo>
                      <a:pt x="16612" y="14638"/>
                      <a:pt x="16723" y="14676"/>
                      <a:pt x="16766" y="14744"/>
                    </a:cubicBezTo>
                    <a:cubicBezTo>
                      <a:pt x="16772" y="14758"/>
                      <a:pt x="16776" y="14774"/>
                      <a:pt x="16779" y="14789"/>
                    </a:cubicBezTo>
                    <a:cubicBezTo>
                      <a:pt x="16782" y="14805"/>
                      <a:pt x="16785" y="14819"/>
                      <a:pt x="16791" y="14832"/>
                    </a:cubicBezTo>
                    <a:cubicBezTo>
                      <a:pt x="16803" y="14855"/>
                      <a:pt x="16823" y="14875"/>
                      <a:pt x="16845" y="14894"/>
                    </a:cubicBezTo>
                    <a:cubicBezTo>
                      <a:pt x="16867" y="14913"/>
                      <a:pt x="16890" y="14931"/>
                      <a:pt x="16908" y="14950"/>
                    </a:cubicBezTo>
                    <a:cubicBezTo>
                      <a:pt x="16979" y="15002"/>
                      <a:pt x="17041" y="15063"/>
                      <a:pt x="17089" y="15130"/>
                    </a:cubicBezTo>
                    <a:cubicBezTo>
                      <a:pt x="17138" y="15197"/>
                      <a:pt x="17174" y="15269"/>
                      <a:pt x="17192" y="15345"/>
                    </a:cubicBezTo>
                    <a:cubicBezTo>
                      <a:pt x="17217" y="15372"/>
                      <a:pt x="17258" y="15388"/>
                      <a:pt x="17307" y="15396"/>
                    </a:cubicBezTo>
                    <a:cubicBezTo>
                      <a:pt x="17356" y="15404"/>
                      <a:pt x="17411" y="15404"/>
                      <a:pt x="17463" y="15400"/>
                    </a:cubicBezTo>
                    <a:cubicBezTo>
                      <a:pt x="17556" y="15391"/>
                      <a:pt x="17655" y="15362"/>
                      <a:pt x="17747" y="15362"/>
                    </a:cubicBezTo>
                    <a:cubicBezTo>
                      <a:pt x="17834" y="15362"/>
                      <a:pt x="17969" y="15370"/>
                      <a:pt x="17982" y="15311"/>
                    </a:cubicBezTo>
                    <a:cubicBezTo>
                      <a:pt x="17994" y="15271"/>
                      <a:pt x="17949" y="15247"/>
                      <a:pt x="17898" y="15223"/>
                    </a:cubicBezTo>
                    <a:cubicBezTo>
                      <a:pt x="17846" y="15199"/>
                      <a:pt x="17787" y="15175"/>
                      <a:pt x="17772" y="15135"/>
                    </a:cubicBezTo>
                    <a:cubicBezTo>
                      <a:pt x="17753" y="15091"/>
                      <a:pt x="17797" y="15046"/>
                      <a:pt x="17834" y="15004"/>
                    </a:cubicBezTo>
                    <a:cubicBezTo>
                      <a:pt x="17872" y="14962"/>
                      <a:pt x="17905" y="14922"/>
                      <a:pt x="17865" y="14887"/>
                    </a:cubicBezTo>
                    <a:cubicBezTo>
                      <a:pt x="17824" y="14855"/>
                      <a:pt x="17801" y="14813"/>
                      <a:pt x="17797" y="14770"/>
                    </a:cubicBezTo>
                    <a:cubicBezTo>
                      <a:pt x="17792" y="14727"/>
                      <a:pt x="17806" y="14683"/>
                      <a:pt x="17840" y="14647"/>
                    </a:cubicBezTo>
                    <a:cubicBezTo>
                      <a:pt x="17812" y="14651"/>
                      <a:pt x="17789" y="14642"/>
                      <a:pt x="17771" y="14626"/>
                    </a:cubicBezTo>
                    <a:cubicBezTo>
                      <a:pt x="17753" y="14610"/>
                      <a:pt x="17741" y="14588"/>
                      <a:pt x="17735" y="14567"/>
                    </a:cubicBezTo>
                    <a:cubicBezTo>
                      <a:pt x="17729" y="14544"/>
                      <a:pt x="17729" y="14525"/>
                      <a:pt x="17726" y="14507"/>
                    </a:cubicBezTo>
                    <a:cubicBezTo>
                      <a:pt x="17723" y="14489"/>
                      <a:pt x="17716" y="14472"/>
                      <a:pt x="17698" y="14453"/>
                    </a:cubicBezTo>
                    <a:cubicBezTo>
                      <a:pt x="17664" y="14432"/>
                      <a:pt x="17612" y="14430"/>
                      <a:pt x="17563" y="14425"/>
                    </a:cubicBezTo>
                    <a:cubicBezTo>
                      <a:pt x="17514" y="14421"/>
                      <a:pt x="17470" y="14413"/>
                      <a:pt x="17451" y="14382"/>
                    </a:cubicBezTo>
                    <a:cubicBezTo>
                      <a:pt x="17426" y="14357"/>
                      <a:pt x="17451" y="14310"/>
                      <a:pt x="17414" y="14285"/>
                    </a:cubicBezTo>
                    <a:cubicBezTo>
                      <a:pt x="17383" y="14264"/>
                      <a:pt x="17346" y="14277"/>
                      <a:pt x="17322" y="14277"/>
                    </a:cubicBezTo>
                    <a:cubicBezTo>
                      <a:pt x="17155" y="14277"/>
                      <a:pt x="17050" y="14146"/>
                      <a:pt x="16982" y="14028"/>
                    </a:cubicBezTo>
                    <a:cubicBezTo>
                      <a:pt x="16958" y="13986"/>
                      <a:pt x="16933" y="13953"/>
                      <a:pt x="16896" y="13923"/>
                    </a:cubicBezTo>
                    <a:cubicBezTo>
                      <a:pt x="16868" y="13911"/>
                      <a:pt x="16836" y="13904"/>
                      <a:pt x="16805" y="13905"/>
                    </a:cubicBezTo>
                    <a:cubicBezTo>
                      <a:pt x="16774" y="13906"/>
                      <a:pt x="16745" y="13915"/>
                      <a:pt x="16723" y="13932"/>
                    </a:cubicBezTo>
                    <a:cubicBezTo>
                      <a:pt x="16717" y="13942"/>
                      <a:pt x="16711" y="13954"/>
                      <a:pt x="16706" y="13965"/>
                    </a:cubicBezTo>
                    <a:cubicBezTo>
                      <a:pt x="16702" y="13976"/>
                      <a:pt x="16698" y="13986"/>
                      <a:pt x="16698" y="13995"/>
                    </a:cubicBezTo>
                    <a:cubicBezTo>
                      <a:pt x="16692" y="14043"/>
                      <a:pt x="16674" y="14089"/>
                      <a:pt x="16642" y="14130"/>
                    </a:cubicBezTo>
                    <a:cubicBezTo>
                      <a:pt x="16611" y="14171"/>
                      <a:pt x="16566" y="14207"/>
                      <a:pt x="16507" y="14235"/>
                    </a:cubicBezTo>
                    <a:cubicBezTo>
                      <a:pt x="16449" y="14260"/>
                      <a:pt x="16378" y="14272"/>
                      <a:pt x="16308" y="14271"/>
                    </a:cubicBezTo>
                    <a:cubicBezTo>
                      <a:pt x="16239" y="14270"/>
                      <a:pt x="16171" y="14256"/>
                      <a:pt x="16119" y="14226"/>
                    </a:cubicBezTo>
                    <a:cubicBezTo>
                      <a:pt x="16171" y="14195"/>
                      <a:pt x="16222" y="14161"/>
                      <a:pt x="16274" y="14127"/>
                    </a:cubicBezTo>
                    <a:cubicBezTo>
                      <a:pt x="16327" y="14094"/>
                      <a:pt x="16381" y="14060"/>
                      <a:pt x="16439" y="14028"/>
                    </a:cubicBezTo>
                    <a:cubicBezTo>
                      <a:pt x="16452" y="14020"/>
                      <a:pt x="16483" y="14003"/>
                      <a:pt x="16483" y="13986"/>
                    </a:cubicBezTo>
                    <a:cubicBezTo>
                      <a:pt x="16483" y="13970"/>
                      <a:pt x="16427" y="13961"/>
                      <a:pt x="16415" y="13940"/>
                    </a:cubicBezTo>
                    <a:cubicBezTo>
                      <a:pt x="16402" y="13927"/>
                      <a:pt x="16399" y="13913"/>
                      <a:pt x="16402" y="13899"/>
                    </a:cubicBezTo>
                    <a:cubicBezTo>
                      <a:pt x="16405" y="13885"/>
                      <a:pt x="16415" y="13873"/>
                      <a:pt x="16427" y="13864"/>
                    </a:cubicBezTo>
                    <a:cubicBezTo>
                      <a:pt x="16449" y="13854"/>
                      <a:pt x="16469" y="13847"/>
                      <a:pt x="16489" y="13841"/>
                    </a:cubicBezTo>
                    <a:cubicBezTo>
                      <a:pt x="16510" y="13835"/>
                      <a:pt x="16532" y="13831"/>
                      <a:pt x="16557" y="13827"/>
                    </a:cubicBezTo>
                    <a:cubicBezTo>
                      <a:pt x="16609" y="13818"/>
                      <a:pt x="16665" y="13812"/>
                      <a:pt x="16720" y="13805"/>
                    </a:cubicBezTo>
                    <a:cubicBezTo>
                      <a:pt x="16776" y="13799"/>
                      <a:pt x="16831" y="13793"/>
                      <a:pt x="16884" y="13784"/>
                    </a:cubicBezTo>
                    <a:cubicBezTo>
                      <a:pt x="16850" y="13749"/>
                      <a:pt x="16817" y="13715"/>
                      <a:pt x="16785" y="13681"/>
                    </a:cubicBezTo>
                    <a:cubicBezTo>
                      <a:pt x="16752" y="13648"/>
                      <a:pt x="16720" y="13614"/>
                      <a:pt x="16686" y="13578"/>
                    </a:cubicBezTo>
                    <a:cubicBezTo>
                      <a:pt x="16649" y="13585"/>
                      <a:pt x="16614" y="13578"/>
                      <a:pt x="16580" y="13567"/>
                    </a:cubicBezTo>
                    <a:cubicBezTo>
                      <a:pt x="16546" y="13556"/>
                      <a:pt x="16513" y="13540"/>
                      <a:pt x="16483" y="13528"/>
                    </a:cubicBezTo>
                    <a:cubicBezTo>
                      <a:pt x="16449" y="13515"/>
                      <a:pt x="16405" y="13509"/>
                      <a:pt x="16368" y="13511"/>
                    </a:cubicBezTo>
                    <a:cubicBezTo>
                      <a:pt x="16330" y="13513"/>
                      <a:pt x="16297" y="13524"/>
                      <a:pt x="16285" y="13545"/>
                    </a:cubicBezTo>
                    <a:cubicBezTo>
                      <a:pt x="16260" y="13524"/>
                      <a:pt x="16250" y="13494"/>
                      <a:pt x="16253" y="13466"/>
                    </a:cubicBezTo>
                    <a:cubicBezTo>
                      <a:pt x="16257" y="13437"/>
                      <a:pt x="16276" y="13410"/>
                      <a:pt x="16310" y="13393"/>
                    </a:cubicBezTo>
                    <a:cubicBezTo>
                      <a:pt x="16341" y="13374"/>
                      <a:pt x="16384" y="13368"/>
                      <a:pt x="16425" y="13372"/>
                    </a:cubicBezTo>
                    <a:cubicBezTo>
                      <a:pt x="16467" y="13376"/>
                      <a:pt x="16507" y="13391"/>
                      <a:pt x="16532" y="13414"/>
                    </a:cubicBezTo>
                    <a:cubicBezTo>
                      <a:pt x="16550" y="13435"/>
                      <a:pt x="16567" y="13464"/>
                      <a:pt x="16589" y="13485"/>
                    </a:cubicBezTo>
                    <a:cubicBezTo>
                      <a:pt x="16611" y="13506"/>
                      <a:pt x="16637" y="13519"/>
                      <a:pt x="16674" y="13511"/>
                    </a:cubicBezTo>
                    <a:cubicBezTo>
                      <a:pt x="16686" y="13511"/>
                      <a:pt x="16698" y="13504"/>
                      <a:pt x="16712" y="13495"/>
                    </a:cubicBezTo>
                    <a:cubicBezTo>
                      <a:pt x="16725" y="13487"/>
                      <a:pt x="16739" y="13477"/>
                      <a:pt x="16754" y="13473"/>
                    </a:cubicBezTo>
                    <a:cubicBezTo>
                      <a:pt x="16803" y="13456"/>
                      <a:pt x="16853" y="13473"/>
                      <a:pt x="16896" y="13503"/>
                    </a:cubicBezTo>
                    <a:cubicBezTo>
                      <a:pt x="16933" y="13528"/>
                      <a:pt x="16945" y="13562"/>
                      <a:pt x="16945" y="13599"/>
                    </a:cubicBezTo>
                    <a:cubicBezTo>
                      <a:pt x="16964" y="13652"/>
                      <a:pt x="16987" y="13713"/>
                      <a:pt x="17025" y="13763"/>
                    </a:cubicBezTo>
                    <a:cubicBezTo>
                      <a:pt x="17062" y="13814"/>
                      <a:pt x="17115" y="13854"/>
                      <a:pt x="17192" y="13864"/>
                    </a:cubicBezTo>
                    <a:cubicBezTo>
                      <a:pt x="17238" y="13869"/>
                      <a:pt x="17286" y="13861"/>
                      <a:pt x="17334" y="13856"/>
                    </a:cubicBezTo>
                    <a:cubicBezTo>
                      <a:pt x="17382" y="13852"/>
                      <a:pt x="17430" y="13850"/>
                      <a:pt x="17476" y="13864"/>
                    </a:cubicBezTo>
                    <a:cubicBezTo>
                      <a:pt x="17504" y="13873"/>
                      <a:pt x="17527" y="13885"/>
                      <a:pt x="17546" y="13902"/>
                    </a:cubicBezTo>
                    <a:cubicBezTo>
                      <a:pt x="17565" y="13918"/>
                      <a:pt x="17581" y="13938"/>
                      <a:pt x="17593" y="13961"/>
                    </a:cubicBezTo>
                    <a:cubicBezTo>
                      <a:pt x="17605" y="13982"/>
                      <a:pt x="17618" y="14002"/>
                      <a:pt x="17634" y="14019"/>
                    </a:cubicBezTo>
                    <a:cubicBezTo>
                      <a:pt x="17650" y="14036"/>
                      <a:pt x="17670" y="14049"/>
                      <a:pt x="17698" y="14058"/>
                    </a:cubicBezTo>
                    <a:cubicBezTo>
                      <a:pt x="17723" y="14066"/>
                      <a:pt x="17758" y="14066"/>
                      <a:pt x="17787" y="14059"/>
                    </a:cubicBezTo>
                    <a:cubicBezTo>
                      <a:pt x="17817" y="14053"/>
                      <a:pt x="17840" y="14039"/>
                      <a:pt x="17840" y="14020"/>
                    </a:cubicBezTo>
                    <a:cubicBezTo>
                      <a:pt x="17806" y="13991"/>
                      <a:pt x="17767" y="13962"/>
                      <a:pt x="17726" y="13938"/>
                    </a:cubicBezTo>
                    <a:cubicBezTo>
                      <a:pt x="17684" y="13914"/>
                      <a:pt x="17639" y="13894"/>
                      <a:pt x="17593" y="13881"/>
                    </a:cubicBezTo>
                    <a:cubicBezTo>
                      <a:pt x="17618" y="13873"/>
                      <a:pt x="17641" y="13857"/>
                      <a:pt x="17656" y="13838"/>
                    </a:cubicBezTo>
                    <a:cubicBezTo>
                      <a:pt x="17672" y="13819"/>
                      <a:pt x="17679" y="13797"/>
                      <a:pt x="17673" y="13776"/>
                    </a:cubicBezTo>
                    <a:cubicBezTo>
                      <a:pt x="17698" y="13784"/>
                      <a:pt x="17730" y="13784"/>
                      <a:pt x="17758" y="13778"/>
                    </a:cubicBezTo>
                    <a:cubicBezTo>
                      <a:pt x="17786" y="13771"/>
                      <a:pt x="17809" y="13757"/>
                      <a:pt x="17815" y="13738"/>
                    </a:cubicBezTo>
                    <a:cubicBezTo>
                      <a:pt x="17747" y="13768"/>
                      <a:pt x="17661" y="13717"/>
                      <a:pt x="17661" y="13667"/>
                    </a:cubicBezTo>
                    <a:cubicBezTo>
                      <a:pt x="17661" y="13612"/>
                      <a:pt x="17735" y="13570"/>
                      <a:pt x="17815" y="13562"/>
                    </a:cubicBezTo>
                    <a:cubicBezTo>
                      <a:pt x="17716" y="13549"/>
                      <a:pt x="17635" y="13514"/>
                      <a:pt x="17563" y="13470"/>
                    </a:cubicBezTo>
                    <a:cubicBezTo>
                      <a:pt x="17491" y="13425"/>
                      <a:pt x="17430" y="13370"/>
                      <a:pt x="17371" y="13318"/>
                    </a:cubicBezTo>
                    <a:cubicBezTo>
                      <a:pt x="17359" y="13303"/>
                      <a:pt x="17346" y="13289"/>
                      <a:pt x="17339" y="13276"/>
                    </a:cubicBezTo>
                    <a:cubicBezTo>
                      <a:pt x="17331" y="13263"/>
                      <a:pt x="17328" y="13250"/>
                      <a:pt x="17334" y="13238"/>
                    </a:cubicBezTo>
                    <a:cubicBezTo>
                      <a:pt x="17223" y="13246"/>
                      <a:pt x="17123" y="13200"/>
                      <a:pt x="17026" y="13158"/>
                    </a:cubicBezTo>
                    <a:cubicBezTo>
                      <a:pt x="16930" y="13116"/>
                      <a:pt x="16837" y="13078"/>
                      <a:pt x="16742" y="13103"/>
                    </a:cubicBezTo>
                    <a:cubicBezTo>
                      <a:pt x="16708" y="13111"/>
                      <a:pt x="16681" y="13125"/>
                      <a:pt x="16655" y="13139"/>
                    </a:cubicBezTo>
                    <a:cubicBezTo>
                      <a:pt x="16629" y="13152"/>
                      <a:pt x="16603" y="13166"/>
                      <a:pt x="16569" y="13175"/>
                    </a:cubicBezTo>
                    <a:cubicBezTo>
                      <a:pt x="16544" y="13183"/>
                      <a:pt x="16509" y="13187"/>
                      <a:pt x="16476" y="13184"/>
                    </a:cubicBezTo>
                    <a:cubicBezTo>
                      <a:pt x="16444" y="13181"/>
                      <a:pt x="16415" y="13170"/>
                      <a:pt x="16402" y="13149"/>
                    </a:cubicBezTo>
                    <a:cubicBezTo>
                      <a:pt x="16442" y="13126"/>
                      <a:pt x="16481" y="13106"/>
                      <a:pt x="16523" y="13090"/>
                    </a:cubicBezTo>
                    <a:cubicBezTo>
                      <a:pt x="16564" y="13074"/>
                      <a:pt x="16609" y="13061"/>
                      <a:pt x="16661" y="13053"/>
                    </a:cubicBezTo>
                    <a:cubicBezTo>
                      <a:pt x="16686" y="13048"/>
                      <a:pt x="16715" y="13043"/>
                      <a:pt x="16745" y="13037"/>
                    </a:cubicBezTo>
                    <a:cubicBezTo>
                      <a:pt x="16774" y="13030"/>
                      <a:pt x="16803" y="13023"/>
                      <a:pt x="16828" y="13015"/>
                    </a:cubicBezTo>
                    <a:cubicBezTo>
                      <a:pt x="16887" y="12985"/>
                      <a:pt x="16901" y="12928"/>
                      <a:pt x="16916" y="12873"/>
                    </a:cubicBezTo>
                    <a:cubicBezTo>
                      <a:pt x="16931" y="12818"/>
                      <a:pt x="16948" y="12764"/>
                      <a:pt x="17013" y="12741"/>
                    </a:cubicBezTo>
                    <a:cubicBezTo>
                      <a:pt x="17044" y="12741"/>
                      <a:pt x="17062" y="12756"/>
                      <a:pt x="17072" y="12776"/>
                    </a:cubicBezTo>
                    <a:cubicBezTo>
                      <a:pt x="17081" y="12797"/>
                      <a:pt x="17081" y="12823"/>
                      <a:pt x="17075" y="12846"/>
                    </a:cubicBezTo>
                    <a:cubicBezTo>
                      <a:pt x="17062" y="12888"/>
                      <a:pt x="17038" y="12943"/>
                      <a:pt x="17087" y="12973"/>
                    </a:cubicBezTo>
                    <a:cubicBezTo>
                      <a:pt x="17130" y="12998"/>
                      <a:pt x="17192" y="12989"/>
                      <a:pt x="17241" y="13006"/>
                    </a:cubicBezTo>
                    <a:cubicBezTo>
                      <a:pt x="17285" y="13023"/>
                      <a:pt x="17309" y="13061"/>
                      <a:pt x="17334" y="13086"/>
                    </a:cubicBezTo>
                    <a:cubicBezTo>
                      <a:pt x="17359" y="13111"/>
                      <a:pt x="17426" y="13128"/>
                      <a:pt x="17463" y="13103"/>
                    </a:cubicBezTo>
                    <a:cubicBezTo>
                      <a:pt x="17476" y="13141"/>
                      <a:pt x="17488" y="13175"/>
                      <a:pt x="17531" y="13208"/>
                    </a:cubicBezTo>
                    <a:cubicBezTo>
                      <a:pt x="17568" y="13238"/>
                      <a:pt x="17630" y="13254"/>
                      <a:pt x="17673" y="13238"/>
                    </a:cubicBezTo>
                    <a:cubicBezTo>
                      <a:pt x="17692" y="13233"/>
                      <a:pt x="17703" y="13224"/>
                      <a:pt x="17714" y="13214"/>
                    </a:cubicBezTo>
                    <a:cubicBezTo>
                      <a:pt x="17726" y="13205"/>
                      <a:pt x="17738" y="13196"/>
                      <a:pt x="17760" y="13191"/>
                    </a:cubicBezTo>
                    <a:cubicBezTo>
                      <a:pt x="17778" y="13187"/>
                      <a:pt x="17801" y="13191"/>
                      <a:pt x="17826" y="13196"/>
                    </a:cubicBezTo>
                    <a:cubicBezTo>
                      <a:pt x="17851" y="13200"/>
                      <a:pt x="17877" y="13204"/>
                      <a:pt x="17902" y="13200"/>
                    </a:cubicBezTo>
                    <a:cubicBezTo>
                      <a:pt x="17929" y="13196"/>
                      <a:pt x="17946" y="13184"/>
                      <a:pt x="17955" y="13169"/>
                    </a:cubicBezTo>
                    <a:cubicBezTo>
                      <a:pt x="17963" y="13155"/>
                      <a:pt x="17963" y="13137"/>
                      <a:pt x="17957" y="13120"/>
                    </a:cubicBezTo>
                    <a:cubicBezTo>
                      <a:pt x="17951" y="13101"/>
                      <a:pt x="17940" y="13088"/>
                      <a:pt x="17926" y="13077"/>
                    </a:cubicBezTo>
                    <a:cubicBezTo>
                      <a:pt x="17912" y="13066"/>
                      <a:pt x="17895" y="13057"/>
                      <a:pt x="17877" y="13044"/>
                    </a:cubicBezTo>
                    <a:cubicBezTo>
                      <a:pt x="18031" y="13044"/>
                      <a:pt x="18192" y="13032"/>
                      <a:pt x="18333" y="13032"/>
                    </a:cubicBezTo>
                    <a:cubicBezTo>
                      <a:pt x="18358" y="13032"/>
                      <a:pt x="18383" y="13032"/>
                      <a:pt x="18395" y="13023"/>
                    </a:cubicBezTo>
                    <a:cubicBezTo>
                      <a:pt x="18414" y="13015"/>
                      <a:pt x="18420" y="13000"/>
                      <a:pt x="18420" y="12983"/>
                    </a:cubicBezTo>
                    <a:cubicBezTo>
                      <a:pt x="18420" y="12965"/>
                      <a:pt x="18414" y="12945"/>
                      <a:pt x="18407" y="12926"/>
                    </a:cubicBezTo>
                    <a:cubicBezTo>
                      <a:pt x="18401" y="12910"/>
                      <a:pt x="18407" y="12890"/>
                      <a:pt x="18422" y="12876"/>
                    </a:cubicBezTo>
                    <a:cubicBezTo>
                      <a:pt x="18437" y="12863"/>
                      <a:pt x="18460" y="12857"/>
                      <a:pt x="18488" y="12867"/>
                    </a:cubicBezTo>
                    <a:cubicBezTo>
                      <a:pt x="18429" y="12823"/>
                      <a:pt x="18341" y="12808"/>
                      <a:pt x="18253" y="12792"/>
                    </a:cubicBezTo>
                    <a:cubicBezTo>
                      <a:pt x="18165" y="12776"/>
                      <a:pt x="18077" y="12760"/>
                      <a:pt x="18019" y="12716"/>
                    </a:cubicBezTo>
                    <a:cubicBezTo>
                      <a:pt x="17982" y="12693"/>
                      <a:pt x="17956" y="12659"/>
                      <a:pt x="17926" y="12630"/>
                    </a:cubicBezTo>
                    <a:cubicBezTo>
                      <a:pt x="17897" y="12601"/>
                      <a:pt x="17865" y="12577"/>
                      <a:pt x="17815" y="12573"/>
                    </a:cubicBezTo>
                    <a:lnTo>
                      <a:pt x="17710" y="12573"/>
                    </a:lnTo>
                    <a:cubicBezTo>
                      <a:pt x="17670" y="12569"/>
                      <a:pt x="17641" y="12554"/>
                      <a:pt x="17625" y="12534"/>
                    </a:cubicBezTo>
                    <a:cubicBezTo>
                      <a:pt x="17608" y="12513"/>
                      <a:pt x="17605" y="12487"/>
                      <a:pt x="17618" y="12459"/>
                    </a:cubicBezTo>
                    <a:cubicBezTo>
                      <a:pt x="17612" y="12447"/>
                      <a:pt x="17612" y="12436"/>
                      <a:pt x="17615" y="12425"/>
                    </a:cubicBezTo>
                    <a:cubicBezTo>
                      <a:pt x="17618" y="12414"/>
                      <a:pt x="17624" y="12403"/>
                      <a:pt x="17630" y="12388"/>
                    </a:cubicBezTo>
                    <a:cubicBezTo>
                      <a:pt x="17645" y="12392"/>
                      <a:pt x="17662" y="12394"/>
                      <a:pt x="17680" y="12395"/>
                    </a:cubicBezTo>
                    <a:cubicBezTo>
                      <a:pt x="17698" y="12396"/>
                      <a:pt x="17716" y="12396"/>
                      <a:pt x="17735" y="12396"/>
                    </a:cubicBezTo>
                    <a:cubicBezTo>
                      <a:pt x="17741" y="12401"/>
                      <a:pt x="17744" y="12406"/>
                      <a:pt x="17747" y="12411"/>
                    </a:cubicBezTo>
                    <a:cubicBezTo>
                      <a:pt x="17750" y="12416"/>
                      <a:pt x="17753" y="12422"/>
                      <a:pt x="17760" y="12426"/>
                    </a:cubicBezTo>
                    <a:cubicBezTo>
                      <a:pt x="17818" y="12403"/>
                      <a:pt x="17883" y="12405"/>
                      <a:pt x="17945" y="12420"/>
                    </a:cubicBezTo>
                    <a:cubicBezTo>
                      <a:pt x="18006" y="12435"/>
                      <a:pt x="18065" y="12464"/>
                      <a:pt x="18111" y="12493"/>
                    </a:cubicBezTo>
                    <a:cubicBezTo>
                      <a:pt x="18164" y="12525"/>
                      <a:pt x="18216" y="12556"/>
                      <a:pt x="18273" y="12579"/>
                    </a:cubicBezTo>
                    <a:cubicBezTo>
                      <a:pt x="18330" y="12601"/>
                      <a:pt x="18392" y="12615"/>
                      <a:pt x="18463" y="12611"/>
                    </a:cubicBezTo>
                    <a:cubicBezTo>
                      <a:pt x="18441" y="12588"/>
                      <a:pt x="18457" y="12566"/>
                      <a:pt x="18476" y="12544"/>
                    </a:cubicBezTo>
                    <a:cubicBezTo>
                      <a:pt x="18495" y="12521"/>
                      <a:pt x="18519" y="12499"/>
                      <a:pt x="18512" y="12476"/>
                    </a:cubicBezTo>
                    <a:cubicBezTo>
                      <a:pt x="18512" y="12468"/>
                      <a:pt x="18509" y="12462"/>
                      <a:pt x="18505" y="12456"/>
                    </a:cubicBezTo>
                    <a:cubicBezTo>
                      <a:pt x="18500" y="12451"/>
                      <a:pt x="18494" y="12447"/>
                      <a:pt x="18488" y="12443"/>
                    </a:cubicBezTo>
                    <a:cubicBezTo>
                      <a:pt x="18448" y="12403"/>
                      <a:pt x="18409" y="12363"/>
                      <a:pt x="18369" y="12323"/>
                    </a:cubicBezTo>
                    <a:cubicBezTo>
                      <a:pt x="18329" y="12283"/>
                      <a:pt x="18287" y="12243"/>
                      <a:pt x="18241" y="12203"/>
                    </a:cubicBezTo>
                    <a:cubicBezTo>
                      <a:pt x="18272" y="12199"/>
                      <a:pt x="18307" y="12201"/>
                      <a:pt x="18340" y="12210"/>
                    </a:cubicBezTo>
                    <a:cubicBezTo>
                      <a:pt x="18372" y="12219"/>
                      <a:pt x="18401" y="12234"/>
                      <a:pt x="18420" y="12258"/>
                    </a:cubicBezTo>
                    <a:cubicBezTo>
                      <a:pt x="18448" y="12274"/>
                      <a:pt x="18465" y="12294"/>
                      <a:pt x="18478" y="12316"/>
                    </a:cubicBezTo>
                    <a:cubicBezTo>
                      <a:pt x="18491" y="12339"/>
                      <a:pt x="18500" y="12363"/>
                      <a:pt x="18512" y="12388"/>
                    </a:cubicBezTo>
                    <a:cubicBezTo>
                      <a:pt x="18577" y="12344"/>
                      <a:pt x="18642" y="12300"/>
                      <a:pt x="18708" y="12256"/>
                    </a:cubicBezTo>
                    <a:cubicBezTo>
                      <a:pt x="18775" y="12213"/>
                      <a:pt x="18842" y="12171"/>
                      <a:pt x="18913" y="12131"/>
                    </a:cubicBezTo>
                    <a:cubicBezTo>
                      <a:pt x="18953" y="12106"/>
                      <a:pt x="18998" y="12078"/>
                      <a:pt x="19030" y="12047"/>
                    </a:cubicBezTo>
                    <a:cubicBezTo>
                      <a:pt x="19061" y="12016"/>
                      <a:pt x="19080" y="11982"/>
                      <a:pt x="19068" y="11946"/>
                    </a:cubicBezTo>
                    <a:cubicBezTo>
                      <a:pt x="19021" y="11929"/>
                      <a:pt x="18967" y="11927"/>
                      <a:pt x="18920" y="11938"/>
                    </a:cubicBezTo>
                    <a:cubicBezTo>
                      <a:pt x="18872" y="11949"/>
                      <a:pt x="18830" y="11974"/>
                      <a:pt x="18808" y="12009"/>
                    </a:cubicBezTo>
                    <a:cubicBezTo>
                      <a:pt x="18691" y="11967"/>
                      <a:pt x="18642" y="11858"/>
                      <a:pt x="18642" y="11770"/>
                    </a:cubicBezTo>
                    <a:cubicBezTo>
                      <a:pt x="18642" y="11736"/>
                      <a:pt x="18642" y="11698"/>
                      <a:pt x="18630" y="11664"/>
                    </a:cubicBezTo>
                    <a:cubicBezTo>
                      <a:pt x="18623" y="11645"/>
                      <a:pt x="18606" y="11628"/>
                      <a:pt x="18585" y="11616"/>
                    </a:cubicBezTo>
                    <a:cubicBezTo>
                      <a:pt x="18563" y="11604"/>
                      <a:pt x="18537" y="11599"/>
                      <a:pt x="18512" y="11606"/>
                    </a:cubicBezTo>
                    <a:cubicBezTo>
                      <a:pt x="18537" y="11587"/>
                      <a:pt x="18563" y="11567"/>
                      <a:pt x="18589" y="11546"/>
                    </a:cubicBezTo>
                    <a:cubicBezTo>
                      <a:pt x="18616" y="11525"/>
                      <a:pt x="18642" y="11502"/>
                      <a:pt x="18667" y="11479"/>
                    </a:cubicBezTo>
                    <a:cubicBezTo>
                      <a:pt x="18654" y="11475"/>
                      <a:pt x="18639" y="11473"/>
                      <a:pt x="18623" y="11471"/>
                    </a:cubicBezTo>
                    <a:cubicBezTo>
                      <a:pt x="18606" y="11469"/>
                      <a:pt x="18589" y="11467"/>
                      <a:pt x="18574" y="11463"/>
                    </a:cubicBezTo>
                    <a:cubicBezTo>
                      <a:pt x="18633" y="11427"/>
                      <a:pt x="18665" y="11378"/>
                      <a:pt x="18672" y="11328"/>
                    </a:cubicBezTo>
                    <a:cubicBezTo>
                      <a:pt x="18679" y="11277"/>
                      <a:pt x="18660" y="11225"/>
                      <a:pt x="18617" y="11181"/>
                    </a:cubicBezTo>
                    <a:cubicBezTo>
                      <a:pt x="18617" y="11193"/>
                      <a:pt x="18620" y="11204"/>
                      <a:pt x="18623" y="11215"/>
                    </a:cubicBezTo>
                    <a:cubicBezTo>
                      <a:pt x="18626" y="11226"/>
                      <a:pt x="18630" y="11237"/>
                      <a:pt x="18630" y="11252"/>
                    </a:cubicBezTo>
                    <a:cubicBezTo>
                      <a:pt x="18611" y="11229"/>
                      <a:pt x="18588" y="11209"/>
                      <a:pt x="18565" y="11189"/>
                    </a:cubicBezTo>
                    <a:cubicBezTo>
                      <a:pt x="18542" y="11169"/>
                      <a:pt x="18519" y="11149"/>
                      <a:pt x="18500" y="11126"/>
                    </a:cubicBezTo>
                    <a:cubicBezTo>
                      <a:pt x="18525" y="11113"/>
                      <a:pt x="18551" y="11105"/>
                      <a:pt x="18579" y="11100"/>
                    </a:cubicBezTo>
                    <a:cubicBezTo>
                      <a:pt x="18606" y="11094"/>
                      <a:pt x="18636" y="11092"/>
                      <a:pt x="18667" y="11092"/>
                    </a:cubicBezTo>
                    <a:cubicBezTo>
                      <a:pt x="18654" y="11044"/>
                      <a:pt x="18642" y="10996"/>
                      <a:pt x="18631" y="10947"/>
                    </a:cubicBezTo>
                    <a:cubicBezTo>
                      <a:pt x="18620" y="10899"/>
                      <a:pt x="18611" y="10850"/>
                      <a:pt x="18605" y="10802"/>
                    </a:cubicBezTo>
                    <a:cubicBezTo>
                      <a:pt x="18589" y="10754"/>
                      <a:pt x="18576" y="10702"/>
                      <a:pt x="18559" y="10651"/>
                    </a:cubicBezTo>
                    <a:cubicBezTo>
                      <a:pt x="18543" y="10599"/>
                      <a:pt x="18525" y="10548"/>
                      <a:pt x="18500" y="10499"/>
                    </a:cubicBezTo>
                    <a:cubicBezTo>
                      <a:pt x="18488" y="10482"/>
                      <a:pt x="18474" y="10466"/>
                      <a:pt x="18461" y="10448"/>
                    </a:cubicBezTo>
                    <a:cubicBezTo>
                      <a:pt x="18449" y="10431"/>
                      <a:pt x="18438" y="10413"/>
                      <a:pt x="18432" y="10394"/>
                    </a:cubicBezTo>
                    <a:cubicBezTo>
                      <a:pt x="18420" y="10354"/>
                      <a:pt x="18417" y="10306"/>
                      <a:pt x="18402" y="10264"/>
                    </a:cubicBezTo>
                    <a:cubicBezTo>
                      <a:pt x="18387" y="10223"/>
                      <a:pt x="18361" y="10188"/>
                      <a:pt x="18303" y="10175"/>
                    </a:cubicBezTo>
                    <a:cubicBezTo>
                      <a:pt x="18318" y="10140"/>
                      <a:pt x="18323" y="10102"/>
                      <a:pt x="18318" y="10065"/>
                    </a:cubicBezTo>
                    <a:cubicBezTo>
                      <a:pt x="18313" y="10028"/>
                      <a:pt x="18299" y="9992"/>
                      <a:pt x="18278" y="9961"/>
                    </a:cubicBezTo>
                    <a:cubicBezTo>
                      <a:pt x="18303" y="9936"/>
                      <a:pt x="18370" y="9936"/>
                      <a:pt x="18407" y="9952"/>
                    </a:cubicBezTo>
                    <a:cubicBezTo>
                      <a:pt x="18444" y="9969"/>
                      <a:pt x="18475" y="9999"/>
                      <a:pt x="18525" y="10016"/>
                    </a:cubicBezTo>
                    <a:cubicBezTo>
                      <a:pt x="18543" y="10024"/>
                      <a:pt x="18572" y="10024"/>
                      <a:pt x="18597" y="10019"/>
                    </a:cubicBezTo>
                    <a:cubicBezTo>
                      <a:pt x="18622" y="10013"/>
                      <a:pt x="18642" y="10003"/>
                      <a:pt x="18642" y="9990"/>
                    </a:cubicBezTo>
                    <a:cubicBezTo>
                      <a:pt x="18679" y="10121"/>
                      <a:pt x="18722" y="10272"/>
                      <a:pt x="18864" y="10369"/>
                    </a:cubicBezTo>
                    <a:cubicBezTo>
                      <a:pt x="18889" y="10386"/>
                      <a:pt x="18913" y="10394"/>
                      <a:pt x="18913" y="10419"/>
                    </a:cubicBezTo>
                    <a:cubicBezTo>
                      <a:pt x="18913" y="10440"/>
                      <a:pt x="18901" y="10457"/>
                      <a:pt x="18889" y="10474"/>
                    </a:cubicBezTo>
                    <a:cubicBezTo>
                      <a:pt x="18861" y="10522"/>
                      <a:pt x="18896" y="10567"/>
                      <a:pt x="18940" y="10611"/>
                    </a:cubicBezTo>
                    <a:cubicBezTo>
                      <a:pt x="18984" y="10655"/>
                      <a:pt x="19037" y="10699"/>
                      <a:pt x="19043" y="10747"/>
                    </a:cubicBezTo>
                    <a:lnTo>
                      <a:pt x="19043" y="10819"/>
                    </a:lnTo>
                    <a:cubicBezTo>
                      <a:pt x="19049" y="10832"/>
                      <a:pt x="19061" y="10842"/>
                      <a:pt x="19076" y="10847"/>
                    </a:cubicBezTo>
                    <a:cubicBezTo>
                      <a:pt x="19091" y="10853"/>
                      <a:pt x="19108" y="10853"/>
                      <a:pt x="19123" y="10844"/>
                    </a:cubicBezTo>
                    <a:cubicBezTo>
                      <a:pt x="19123" y="10764"/>
                      <a:pt x="19115" y="10685"/>
                      <a:pt x="19102" y="10608"/>
                    </a:cubicBezTo>
                    <a:cubicBezTo>
                      <a:pt x="19088" y="10530"/>
                      <a:pt x="19068" y="10453"/>
                      <a:pt x="19043" y="10377"/>
                    </a:cubicBezTo>
                    <a:cubicBezTo>
                      <a:pt x="19031" y="10341"/>
                      <a:pt x="19014" y="10303"/>
                      <a:pt x="19002" y="10263"/>
                    </a:cubicBezTo>
                    <a:cubicBezTo>
                      <a:pt x="18990" y="10224"/>
                      <a:pt x="18984" y="10184"/>
                      <a:pt x="18994" y="10146"/>
                    </a:cubicBezTo>
                    <a:cubicBezTo>
                      <a:pt x="19000" y="10106"/>
                      <a:pt x="19012" y="10067"/>
                      <a:pt x="19036" y="10033"/>
                    </a:cubicBezTo>
                    <a:cubicBezTo>
                      <a:pt x="19060" y="10000"/>
                      <a:pt x="19095" y="9971"/>
                      <a:pt x="19148" y="9952"/>
                    </a:cubicBezTo>
                    <a:cubicBezTo>
                      <a:pt x="19108" y="9952"/>
                      <a:pt x="19085" y="9932"/>
                      <a:pt x="19075" y="9907"/>
                    </a:cubicBezTo>
                    <a:cubicBezTo>
                      <a:pt x="19065" y="9882"/>
                      <a:pt x="19068" y="9851"/>
                      <a:pt x="19080" y="9830"/>
                    </a:cubicBezTo>
                    <a:cubicBezTo>
                      <a:pt x="19092" y="9807"/>
                      <a:pt x="19115" y="9783"/>
                      <a:pt x="19134" y="9759"/>
                    </a:cubicBezTo>
                    <a:cubicBezTo>
                      <a:pt x="19152" y="9735"/>
                      <a:pt x="19166" y="9711"/>
                      <a:pt x="19160" y="9687"/>
                    </a:cubicBezTo>
                    <a:cubicBezTo>
                      <a:pt x="19148" y="9662"/>
                      <a:pt x="19123" y="9637"/>
                      <a:pt x="19123" y="9607"/>
                    </a:cubicBezTo>
                    <a:cubicBezTo>
                      <a:pt x="19123" y="9574"/>
                      <a:pt x="19160" y="9540"/>
                      <a:pt x="19172" y="9502"/>
                    </a:cubicBezTo>
                    <a:cubicBezTo>
                      <a:pt x="19185" y="9443"/>
                      <a:pt x="19117" y="9385"/>
                      <a:pt x="19055" y="9334"/>
                    </a:cubicBezTo>
                    <a:cubicBezTo>
                      <a:pt x="18987" y="9279"/>
                      <a:pt x="18950" y="9212"/>
                      <a:pt x="19006" y="9157"/>
                    </a:cubicBezTo>
                    <a:cubicBezTo>
                      <a:pt x="18978" y="9157"/>
                      <a:pt x="18958" y="9149"/>
                      <a:pt x="18942" y="9137"/>
                    </a:cubicBezTo>
                    <a:cubicBezTo>
                      <a:pt x="18926" y="9126"/>
                      <a:pt x="18913" y="9111"/>
                      <a:pt x="18901" y="9099"/>
                    </a:cubicBezTo>
                    <a:cubicBezTo>
                      <a:pt x="18867" y="9050"/>
                      <a:pt x="18847" y="8996"/>
                      <a:pt x="18842" y="8943"/>
                    </a:cubicBezTo>
                    <a:cubicBezTo>
                      <a:pt x="18838" y="8889"/>
                      <a:pt x="18849" y="8836"/>
                      <a:pt x="18876" y="8787"/>
                    </a:cubicBezTo>
                    <a:cubicBezTo>
                      <a:pt x="18895" y="8747"/>
                      <a:pt x="18920" y="8710"/>
                      <a:pt x="18948" y="8675"/>
                    </a:cubicBezTo>
                    <a:cubicBezTo>
                      <a:pt x="18977" y="8639"/>
                      <a:pt x="19009" y="8604"/>
                      <a:pt x="19043" y="8568"/>
                    </a:cubicBezTo>
                    <a:cubicBezTo>
                      <a:pt x="19024" y="8533"/>
                      <a:pt x="19018" y="8493"/>
                      <a:pt x="19023" y="8453"/>
                    </a:cubicBezTo>
                    <a:cubicBezTo>
                      <a:pt x="19028" y="8413"/>
                      <a:pt x="19043" y="8373"/>
                      <a:pt x="19068" y="8337"/>
                    </a:cubicBezTo>
                    <a:cubicBezTo>
                      <a:pt x="19037" y="8341"/>
                      <a:pt x="19001" y="8343"/>
                      <a:pt x="18972" y="8339"/>
                    </a:cubicBezTo>
                    <a:cubicBezTo>
                      <a:pt x="18943" y="8335"/>
                      <a:pt x="18920" y="8325"/>
                      <a:pt x="18913" y="8303"/>
                    </a:cubicBezTo>
                    <a:cubicBezTo>
                      <a:pt x="18913" y="8295"/>
                      <a:pt x="18916" y="8289"/>
                      <a:pt x="18921" y="8282"/>
                    </a:cubicBezTo>
                    <a:cubicBezTo>
                      <a:pt x="18926" y="8275"/>
                      <a:pt x="18932" y="8268"/>
                      <a:pt x="18938" y="8257"/>
                    </a:cubicBezTo>
                    <a:cubicBezTo>
                      <a:pt x="18957" y="8228"/>
                      <a:pt x="18941" y="8189"/>
                      <a:pt x="18930" y="8152"/>
                    </a:cubicBezTo>
                    <a:cubicBezTo>
                      <a:pt x="18920" y="8114"/>
                      <a:pt x="18913" y="8078"/>
                      <a:pt x="18950" y="8055"/>
                    </a:cubicBezTo>
                    <a:cubicBezTo>
                      <a:pt x="18963" y="8047"/>
                      <a:pt x="18980" y="8043"/>
                      <a:pt x="18998" y="8040"/>
                    </a:cubicBezTo>
                    <a:cubicBezTo>
                      <a:pt x="19017" y="8036"/>
                      <a:pt x="19037" y="8034"/>
                      <a:pt x="19055" y="8030"/>
                    </a:cubicBezTo>
                    <a:cubicBezTo>
                      <a:pt x="19102" y="8017"/>
                      <a:pt x="19122" y="7989"/>
                      <a:pt x="19126" y="7956"/>
                    </a:cubicBezTo>
                    <a:cubicBezTo>
                      <a:pt x="19131" y="7923"/>
                      <a:pt x="19120" y="7885"/>
                      <a:pt x="19105" y="7853"/>
                    </a:cubicBezTo>
                    <a:cubicBezTo>
                      <a:pt x="19092" y="7822"/>
                      <a:pt x="19083" y="7784"/>
                      <a:pt x="19087" y="7751"/>
                    </a:cubicBezTo>
                    <a:cubicBezTo>
                      <a:pt x="19091" y="7718"/>
                      <a:pt x="19108" y="7689"/>
                      <a:pt x="19148" y="7677"/>
                    </a:cubicBezTo>
                    <a:cubicBezTo>
                      <a:pt x="19160" y="7673"/>
                      <a:pt x="19172" y="7670"/>
                      <a:pt x="19185" y="7668"/>
                    </a:cubicBezTo>
                    <a:cubicBezTo>
                      <a:pt x="19197" y="7666"/>
                      <a:pt x="19210" y="7664"/>
                      <a:pt x="19222" y="7660"/>
                    </a:cubicBezTo>
                    <a:cubicBezTo>
                      <a:pt x="19250" y="7647"/>
                      <a:pt x="19263" y="7629"/>
                      <a:pt x="19272" y="7609"/>
                    </a:cubicBezTo>
                    <a:cubicBezTo>
                      <a:pt x="19280" y="7589"/>
                      <a:pt x="19284" y="7567"/>
                      <a:pt x="19290" y="7546"/>
                    </a:cubicBezTo>
                    <a:cubicBezTo>
                      <a:pt x="19296" y="7502"/>
                      <a:pt x="19314" y="7460"/>
                      <a:pt x="19334" y="7418"/>
                    </a:cubicBezTo>
                    <a:cubicBezTo>
                      <a:pt x="19353" y="7376"/>
                      <a:pt x="19373" y="7334"/>
                      <a:pt x="19382" y="7290"/>
                    </a:cubicBezTo>
                    <a:cubicBezTo>
                      <a:pt x="19388" y="7246"/>
                      <a:pt x="19371" y="7197"/>
                      <a:pt x="19337" y="7160"/>
                    </a:cubicBezTo>
                    <a:cubicBezTo>
                      <a:pt x="19302" y="7123"/>
                      <a:pt x="19250" y="7096"/>
                      <a:pt x="19185" y="7096"/>
                    </a:cubicBezTo>
                    <a:cubicBezTo>
                      <a:pt x="19191" y="7161"/>
                      <a:pt x="19159" y="7230"/>
                      <a:pt x="19101" y="7285"/>
                    </a:cubicBezTo>
                    <a:cubicBezTo>
                      <a:pt x="19043" y="7340"/>
                      <a:pt x="18960" y="7382"/>
                      <a:pt x="18864" y="7395"/>
                    </a:cubicBezTo>
                    <a:cubicBezTo>
                      <a:pt x="18842" y="7342"/>
                      <a:pt x="18839" y="7287"/>
                      <a:pt x="18849" y="7231"/>
                    </a:cubicBezTo>
                    <a:cubicBezTo>
                      <a:pt x="18859" y="7175"/>
                      <a:pt x="18883" y="7119"/>
                      <a:pt x="18913" y="7067"/>
                    </a:cubicBezTo>
                    <a:cubicBezTo>
                      <a:pt x="18873" y="7058"/>
                      <a:pt x="18847" y="7036"/>
                      <a:pt x="18829" y="7009"/>
                    </a:cubicBezTo>
                    <a:cubicBezTo>
                      <a:pt x="18812" y="6982"/>
                      <a:pt x="18802" y="6949"/>
                      <a:pt x="18796" y="6920"/>
                    </a:cubicBezTo>
                    <a:cubicBezTo>
                      <a:pt x="18790" y="6871"/>
                      <a:pt x="18784" y="6820"/>
                      <a:pt x="18776" y="6768"/>
                    </a:cubicBezTo>
                    <a:cubicBezTo>
                      <a:pt x="18768" y="6717"/>
                      <a:pt x="18759" y="6665"/>
                      <a:pt x="18747" y="6617"/>
                    </a:cubicBezTo>
                    <a:cubicBezTo>
                      <a:pt x="18784" y="6503"/>
                      <a:pt x="19031" y="6457"/>
                      <a:pt x="19148" y="6537"/>
                    </a:cubicBezTo>
                    <a:cubicBezTo>
                      <a:pt x="19172" y="6554"/>
                      <a:pt x="19185" y="6583"/>
                      <a:pt x="19222" y="6583"/>
                    </a:cubicBezTo>
                    <a:cubicBezTo>
                      <a:pt x="19222" y="6520"/>
                      <a:pt x="19382" y="6495"/>
                      <a:pt x="19382" y="6432"/>
                    </a:cubicBezTo>
                    <a:cubicBezTo>
                      <a:pt x="19382" y="6415"/>
                      <a:pt x="19364" y="6398"/>
                      <a:pt x="19364" y="6381"/>
                    </a:cubicBezTo>
                    <a:cubicBezTo>
                      <a:pt x="19364" y="6360"/>
                      <a:pt x="19382" y="6335"/>
                      <a:pt x="19395" y="6318"/>
                    </a:cubicBezTo>
                    <a:cubicBezTo>
                      <a:pt x="19444" y="6253"/>
                      <a:pt x="19486" y="6187"/>
                      <a:pt x="19521" y="6119"/>
                    </a:cubicBezTo>
                    <a:cubicBezTo>
                      <a:pt x="19557" y="6051"/>
                      <a:pt x="19586" y="5982"/>
                      <a:pt x="19611" y="5910"/>
                    </a:cubicBezTo>
                    <a:cubicBezTo>
                      <a:pt x="19632" y="5925"/>
                      <a:pt x="19658" y="5925"/>
                      <a:pt x="19682" y="5917"/>
                    </a:cubicBezTo>
                    <a:cubicBezTo>
                      <a:pt x="19706" y="5909"/>
                      <a:pt x="19728" y="5893"/>
                      <a:pt x="19740" y="5876"/>
                    </a:cubicBezTo>
                    <a:cubicBezTo>
                      <a:pt x="19746" y="5860"/>
                      <a:pt x="19749" y="5840"/>
                      <a:pt x="19755" y="5821"/>
                    </a:cubicBezTo>
                    <a:cubicBezTo>
                      <a:pt x="19760" y="5802"/>
                      <a:pt x="19768" y="5784"/>
                      <a:pt x="19783" y="5771"/>
                    </a:cubicBezTo>
                    <a:cubicBezTo>
                      <a:pt x="19796" y="5759"/>
                      <a:pt x="19811" y="5747"/>
                      <a:pt x="19826" y="5737"/>
                    </a:cubicBezTo>
                    <a:cubicBezTo>
                      <a:pt x="19842" y="5726"/>
                      <a:pt x="19857" y="5717"/>
                      <a:pt x="19870" y="5708"/>
                    </a:cubicBezTo>
                    <a:cubicBezTo>
                      <a:pt x="19928" y="5672"/>
                      <a:pt x="19971" y="5628"/>
                      <a:pt x="19998" y="5580"/>
                    </a:cubicBezTo>
                    <a:cubicBezTo>
                      <a:pt x="20024" y="5531"/>
                      <a:pt x="20033" y="5479"/>
                      <a:pt x="20024" y="5426"/>
                    </a:cubicBezTo>
                    <a:cubicBezTo>
                      <a:pt x="19968" y="5418"/>
                      <a:pt x="19917" y="5389"/>
                      <a:pt x="19884" y="5353"/>
                    </a:cubicBezTo>
                    <a:cubicBezTo>
                      <a:pt x="19850" y="5317"/>
                      <a:pt x="19833" y="5273"/>
                      <a:pt x="19845" y="5233"/>
                    </a:cubicBezTo>
                    <a:cubicBezTo>
                      <a:pt x="19879" y="5241"/>
                      <a:pt x="19908" y="5250"/>
                      <a:pt x="19937" y="5259"/>
                    </a:cubicBezTo>
                    <a:cubicBezTo>
                      <a:pt x="19965" y="5267"/>
                      <a:pt x="19993" y="5277"/>
                      <a:pt x="20024" y="5287"/>
                    </a:cubicBezTo>
                    <a:cubicBezTo>
                      <a:pt x="20052" y="5243"/>
                      <a:pt x="20075" y="5199"/>
                      <a:pt x="20097" y="5155"/>
                    </a:cubicBezTo>
                    <a:cubicBezTo>
                      <a:pt x="20120" y="5111"/>
                      <a:pt x="20141" y="5067"/>
                      <a:pt x="20166" y="5022"/>
                    </a:cubicBezTo>
                    <a:cubicBezTo>
                      <a:pt x="20206" y="5039"/>
                      <a:pt x="20255" y="5052"/>
                      <a:pt x="20306" y="5057"/>
                    </a:cubicBezTo>
                    <a:cubicBezTo>
                      <a:pt x="20357" y="5062"/>
                      <a:pt x="20410" y="5060"/>
                      <a:pt x="20456" y="5048"/>
                    </a:cubicBezTo>
                    <a:cubicBezTo>
                      <a:pt x="20450" y="5031"/>
                      <a:pt x="20453" y="5013"/>
                      <a:pt x="20462" y="4997"/>
                    </a:cubicBezTo>
                    <a:cubicBezTo>
                      <a:pt x="20471" y="4981"/>
                      <a:pt x="20487" y="4968"/>
                      <a:pt x="20505" y="4959"/>
                    </a:cubicBezTo>
                    <a:cubicBezTo>
                      <a:pt x="20530" y="4951"/>
                      <a:pt x="20554" y="4943"/>
                      <a:pt x="20554" y="4926"/>
                    </a:cubicBezTo>
                    <a:cubicBezTo>
                      <a:pt x="20554" y="4913"/>
                      <a:pt x="20554" y="4896"/>
                      <a:pt x="20542" y="4888"/>
                    </a:cubicBezTo>
                    <a:cubicBezTo>
                      <a:pt x="20524" y="4867"/>
                      <a:pt x="20505" y="4843"/>
                      <a:pt x="20486" y="4818"/>
                    </a:cubicBezTo>
                    <a:cubicBezTo>
                      <a:pt x="20467" y="4794"/>
                      <a:pt x="20447" y="4770"/>
                      <a:pt x="20425" y="4749"/>
                    </a:cubicBezTo>
                    <a:cubicBezTo>
                      <a:pt x="20459" y="4739"/>
                      <a:pt x="20496" y="4733"/>
                      <a:pt x="20532" y="4734"/>
                    </a:cubicBezTo>
                    <a:cubicBezTo>
                      <a:pt x="20568" y="4735"/>
                      <a:pt x="20604" y="4743"/>
                      <a:pt x="20635" y="4757"/>
                    </a:cubicBezTo>
                    <a:cubicBezTo>
                      <a:pt x="20647" y="4766"/>
                      <a:pt x="20659" y="4774"/>
                      <a:pt x="20674" y="4781"/>
                    </a:cubicBezTo>
                    <a:cubicBezTo>
                      <a:pt x="20689" y="4787"/>
                      <a:pt x="20706" y="4791"/>
                      <a:pt x="20727" y="4791"/>
                    </a:cubicBezTo>
                    <a:cubicBezTo>
                      <a:pt x="20752" y="4795"/>
                      <a:pt x="20774" y="4787"/>
                      <a:pt x="20793" y="4774"/>
                    </a:cubicBezTo>
                    <a:cubicBezTo>
                      <a:pt x="20812" y="4761"/>
                      <a:pt x="20829" y="4743"/>
                      <a:pt x="20844" y="4728"/>
                    </a:cubicBezTo>
                    <a:cubicBezTo>
                      <a:pt x="20863" y="4707"/>
                      <a:pt x="20878" y="4687"/>
                      <a:pt x="20889" y="4667"/>
                    </a:cubicBezTo>
                    <a:cubicBezTo>
                      <a:pt x="20900" y="4647"/>
                      <a:pt x="20906" y="4627"/>
                      <a:pt x="20906" y="4606"/>
                    </a:cubicBezTo>
                    <a:cubicBezTo>
                      <a:pt x="20912" y="4545"/>
                      <a:pt x="20865" y="4487"/>
                      <a:pt x="20821" y="4430"/>
                    </a:cubicBezTo>
                    <a:cubicBezTo>
                      <a:pt x="20778" y="4374"/>
                      <a:pt x="20740" y="4318"/>
                      <a:pt x="20764" y="4261"/>
                    </a:cubicBezTo>
                    <a:cubicBezTo>
                      <a:pt x="20823" y="4293"/>
                      <a:pt x="20881" y="4326"/>
                      <a:pt x="20936" y="4363"/>
                    </a:cubicBezTo>
                    <a:cubicBezTo>
                      <a:pt x="20991" y="4400"/>
                      <a:pt x="21042" y="4440"/>
                      <a:pt x="21085" y="4484"/>
                    </a:cubicBezTo>
                    <a:cubicBezTo>
                      <a:pt x="21125" y="4440"/>
                      <a:pt x="21165" y="4394"/>
                      <a:pt x="21213" y="4355"/>
                    </a:cubicBezTo>
                    <a:cubicBezTo>
                      <a:pt x="21261" y="4316"/>
                      <a:pt x="21316" y="4284"/>
                      <a:pt x="21387" y="4270"/>
                    </a:cubicBezTo>
                    <a:cubicBezTo>
                      <a:pt x="21412" y="4265"/>
                      <a:pt x="21437" y="4261"/>
                      <a:pt x="21459" y="4256"/>
                    </a:cubicBezTo>
                    <a:cubicBezTo>
                      <a:pt x="21481" y="4251"/>
                      <a:pt x="21502" y="4244"/>
                      <a:pt x="21517" y="4236"/>
                    </a:cubicBezTo>
                    <a:cubicBezTo>
                      <a:pt x="21535" y="4223"/>
                      <a:pt x="21542" y="4203"/>
                      <a:pt x="21536" y="4186"/>
                    </a:cubicBezTo>
                    <a:cubicBezTo>
                      <a:pt x="21531" y="4170"/>
                      <a:pt x="21514" y="4156"/>
                      <a:pt x="21486" y="4156"/>
                    </a:cubicBezTo>
                    <a:cubicBezTo>
                      <a:pt x="21566" y="4139"/>
                      <a:pt x="21579" y="4076"/>
                      <a:pt x="21579" y="4026"/>
                    </a:cubicBezTo>
                    <a:cubicBezTo>
                      <a:pt x="21579" y="3971"/>
                      <a:pt x="21554" y="3916"/>
                      <a:pt x="21591" y="3866"/>
                    </a:cubicBezTo>
                    <a:cubicBezTo>
                      <a:pt x="21526" y="3866"/>
                      <a:pt x="21505" y="3826"/>
                      <a:pt x="21486" y="3782"/>
                    </a:cubicBezTo>
                    <a:cubicBezTo>
                      <a:pt x="21468" y="3737"/>
                      <a:pt x="21452" y="3689"/>
                      <a:pt x="21400" y="3672"/>
                    </a:cubicBezTo>
                    <a:cubicBezTo>
                      <a:pt x="21366" y="3657"/>
                      <a:pt x="21324" y="3655"/>
                      <a:pt x="21289" y="3651"/>
                    </a:cubicBezTo>
                    <a:cubicBezTo>
                      <a:pt x="21253" y="3647"/>
                      <a:pt x="21224" y="3641"/>
                      <a:pt x="21215" y="3618"/>
                    </a:cubicBezTo>
                    <a:cubicBezTo>
                      <a:pt x="21184" y="3630"/>
                      <a:pt x="21151" y="3639"/>
                      <a:pt x="21119" y="3644"/>
                    </a:cubicBezTo>
                    <a:cubicBezTo>
                      <a:pt x="21087" y="3649"/>
                      <a:pt x="21054" y="3651"/>
                      <a:pt x="21023" y="3651"/>
                    </a:cubicBezTo>
                    <a:cubicBezTo>
                      <a:pt x="21005" y="3626"/>
                      <a:pt x="20988" y="3598"/>
                      <a:pt x="20969" y="3569"/>
                    </a:cubicBezTo>
                    <a:cubicBezTo>
                      <a:pt x="20951" y="3541"/>
                      <a:pt x="20931" y="3512"/>
                      <a:pt x="20906" y="3487"/>
                    </a:cubicBezTo>
                    <a:cubicBezTo>
                      <a:pt x="20888" y="3460"/>
                      <a:pt x="20861" y="3432"/>
                      <a:pt x="20829" y="3411"/>
                    </a:cubicBezTo>
                    <a:cubicBezTo>
                      <a:pt x="20797" y="3389"/>
                      <a:pt x="20758" y="3374"/>
                      <a:pt x="20715" y="3369"/>
                    </a:cubicBezTo>
                    <a:cubicBezTo>
                      <a:pt x="20669" y="3361"/>
                      <a:pt x="20619" y="3366"/>
                      <a:pt x="20580" y="3381"/>
                    </a:cubicBezTo>
                    <a:cubicBezTo>
                      <a:pt x="20541" y="3396"/>
                      <a:pt x="20511" y="3420"/>
                      <a:pt x="20505" y="3449"/>
                    </a:cubicBezTo>
                    <a:cubicBezTo>
                      <a:pt x="20434" y="3424"/>
                      <a:pt x="20357" y="3402"/>
                      <a:pt x="20278" y="3384"/>
                    </a:cubicBezTo>
                    <a:cubicBezTo>
                      <a:pt x="20200" y="3366"/>
                      <a:pt x="20120" y="3353"/>
                      <a:pt x="20042" y="3344"/>
                    </a:cubicBezTo>
                    <a:cubicBezTo>
                      <a:pt x="20033" y="3361"/>
                      <a:pt x="20016" y="3373"/>
                      <a:pt x="19997" y="3381"/>
                    </a:cubicBezTo>
                    <a:cubicBezTo>
                      <a:pt x="19978" y="3389"/>
                      <a:pt x="19956" y="3395"/>
                      <a:pt x="19938" y="3399"/>
                    </a:cubicBezTo>
                    <a:cubicBezTo>
                      <a:pt x="19916" y="3407"/>
                      <a:pt x="19896" y="3420"/>
                      <a:pt x="19886" y="3433"/>
                    </a:cubicBezTo>
                    <a:cubicBezTo>
                      <a:pt x="19876" y="3447"/>
                      <a:pt x="19876" y="3462"/>
                      <a:pt x="19894" y="3475"/>
                    </a:cubicBezTo>
                    <a:cubicBezTo>
                      <a:pt x="19863" y="3475"/>
                      <a:pt x="19831" y="3478"/>
                      <a:pt x="19800" y="3481"/>
                    </a:cubicBezTo>
                    <a:cubicBezTo>
                      <a:pt x="19769" y="3484"/>
                      <a:pt x="19740" y="3487"/>
                      <a:pt x="19715" y="3487"/>
                    </a:cubicBezTo>
                    <a:cubicBezTo>
                      <a:pt x="19715" y="3504"/>
                      <a:pt x="19719" y="3521"/>
                      <a:pt x="19725" y="3538"/>
                    </a:cubicBezTo>
                    <a:cubicBezTo>
                      <a:pt x="19731" y="3555"/>
                      <a:pt x="19740" y="3573"/>
                      <a:pt x="19752" y="3592"/>
                    </a:cubicBezTo>
                    <a:cubicBezTo>
                      <a:pt x="19740" y="3613"/>
                      <a:pt x="19714" y="3626"/>
                      <a:pt x="19683" y="3631"/>
                    </a:cubicBezTo>
                    <a:cubicBezTo>
                      <a:pt x="19652" y="3636"/>
                      <a:pt x="19617" y="3634"/>
                      <a:pt x="19586" y="3626"/>
                    </a:cubicBezTo>
                    <a:cubicBezTo>
                      <a:pt x="19552" y="3618"/>
                      <a:pt x="19526" y="3605"/>
                      <a:pt x="19505" y="3589"/>
                    </a:cubicBezTo>
                    <a:cubicBezTo>
                      <a:pt x="19484" y="3572"/>
                      <a:pt x="19469" y="3552"/>
                      <a:pt x="19456" y="3529"/>
                    </a:cubicBezTo>
                    <a:cubicBezTo>
                      <a:pt x="19432" y="3512"/>
                      <a:pt x="19419" y="3487"/>
                      <a:pt x="19419" y="3466"/>
                    </a:cubicBezTo>
                    <a:cubicBezTo>
                      <a:pt x="19419" y="3441"/>
                      <a:pt x="19444" y="3407"/>
                      <a:pt x="19432" y="3378"/>
                    </a:cubicBezTo>
                    <a:cubicBezTo>
                      <a:pt x="19425" y="3357"/>
                      <a:pt x="19396" y="3343"/>
                      <a:pt x="19364" y="3339"/>
                    </a:cubicBezTo>
                    <a:cubicBezTo>
                      <a:pt x="19331" y="3336"/>
                      <a:pt x="19296" y="3342"/>
                      <a:pt x="19277" y="3361"/>
                    </a:cubicBezTo>
                    <a:cubicBezTo>
                      <a:pt x="19256" y="3378"/>
                      <a:pt x="19245" y="3400"/>
                      <a:pt x="19245" y="3422"/>
                    </a:cubicBezTo>
                    <a:cubicBezTo>
                      <a:pt x="19245" y="3445"/>
                      <a:pt x="19256" y="3468"/>
                      <a:pt x="19277" y="3487"/>
                    </a:cubicBezTo>
                    <a:cubicBezTo>
                      <a:pt x="19231" y="3496"/>
                      <a:pt x="19193" y="3510"/>
                      <a:pt x="19163" y="3531"/>
                    </a:cubicBezTo>
                    <a:cubicBezTo>
                      <a:pt x="19134" y="3551"/>
                      <a:pt x="19114" y="3578"/>
                      <a:pt x="19105" y="3609"/>
                    </a:cubicBezTo>
                    <a:cubicBezTo>
                      <a:pt x="19092" y="3643"/>
                      <a:pt x="19105" y="3672"/>
                      <a:pt x="19092" y="3706"/>
                    </a:cubicBezTo>
                    <a:cubicBezTo>
                      <a:pt x="19080" y="3740"/>
                      <a:pt x="19043" y="3769"/>
                      <a:pt x="18994" y="3761"/>
                    </a:cubicBezTo>
                    <a:cubicBezTo>
                      <a:pt x="18852" y="3714"/>
                      <a:pt x="18901" y="3512"/>
                      <a:pt x="18747" y="3496"/>
                    </a:cubicBezTo>
                    <a:cubicBezTo>
                      <a:pt x="18667" y="3487"/>
                      <a:pt x="18617" y="3538"/>
                      <a:pt x="18593" y="3592"/>
                    </a:cubicBezTo>
                    <a:cubicBezTo>
                      <a:pt x="18583" y="3618"/>
                      <a:pt x="18583" y="3644"/>
                      <a:pt x="18586" y="3669"/>
                    </a:cubicBezTo>
                    <a:cubicBezTo>
                      <a:pt x="18588" y="3694"/>
                      <a:pt x="18593" y="3718"/>
                      <a:pt x="18593" y="3740"/>
                    </a:cubicBezTo>
                    <a:cubicBezTo>
                      <a:pt x="18583" y="3803"/>
                      <a:pt x="18551" y="3860"/>
                      <a:pt x="18505" y="3914"/>
                    </a:cubicBezTo>
                    <a:cubicBezTo>
                      <a:pt x="18458" y="3967"/>
                      <a:pt x="18398" y="4015"/>
                      <a:pt x="18333" y="4059"/>
                    </a:cubicBezTo>
                    <a:cubicBezTo>
                      <a:pt x="18312" y="4072"/>
                      <a:pt x="18292" y="4085"/>
                      <a:pt x="18274" y="4100"/>
                    </a:cubicBezTo>
                    <a:cubicBezTo>
                      <a:pt x="18256" y="4115"/>
                      <a:pt x="18241" y="4131"/>
                      <a:pt x="18229" y="4148"/>
                    </a:cubicBezTo>
                    <a:cubicBezTo>
                      <a:pt x="18216" y="4160"/>
                      <a:pt x="18210" y="4176"/>
                      <a:pt x="18203" y="4192"/>
                    </a:cubicBezTo>
                    <a:cubicBezTo>
                      <a:pt x="18196" y="4207"/>
                      <a:pt x="18188" y="4223"/>
                      <a:pt x="18173" y="4236"/>
                    </a:cubicBezTo>
                    <a:cubicBezTo>
                      <a:pt x="18161" y="4257"/>
                      <a:pt x="18142" y="4277"/>
                      <a:pt x="18120" y="4296"/>
                    </a:cubicBezTo>
                    <a:cubicBezTo>
                      <a:pt x="18097" y="4315"/>
                      <a:pt x="18071" y="4333"/>
                      <a:pt x="18043" y="4349"/>
                    </a:cubicBezTo>
                    <a:cubicBezTo>
                      <a:pt x="17994" y="4385"/>
                      <a:pt x="17943" y="4421"/>
                      <a:pt x="17892" y="4458"/>
                    </a:cubicBezTo>
                    <a:cubicBezTo>
                      <a:pt x="17840" y="4495"/>
                      <a:pt x="17787" y="4532"/>
                      <a:pt x="17735" y="4572"/>
                    </a:cubicBezTo>
                    <a:cubicBezTo>
                      <a:pt x="17710" y="4589"/>
                      <a:pt x="17686" y="4606"/>
                      <a:pt x="17661" y="4606"/>
                    </a:cubicBezTo>
                    <a:cubicBezTo>
                      <a:pt x="17605" y="4606"/>
                      <a:pt x="17581" y="4560"/>
                      <a:pt x="17593" y="4526"/>
                    </a:cubicBezTo>
                    <a:cubicBezTo>
                      <a:pt x="17599" y="4507"/>
                      <a:pt x="17612" y="4491"/>
                      <a:pt x="17628" y="4478"/>
                    </a:cubicBezTo>
                    <a:cubicBezTo>
                      <a:pt x="17644" y="4465"/>
                      <a:pt x="17664" y="4455"/>
                      <a:pt x="17686" y="4446"/>
                    </a:cubicBezTo>
                    <a:cubicBezTo>
                      <a:pt x="17815" y="4366"/>
                      <a:pt x="17912" y="4267"/>
                      <a:pt x="17985" y="4160"/>
                    </a:cubicBezTo>
                    <a:cubicBezTo>
                      <a:pt x="18057" y="4052"/>
                      <a:pt x="18105" y="3935"/>
                      <a:pt x="18136" y="3819"/>
                    </a:cubicBezTo>
                    <a:cubicBezTo>
                      <a:pt x="18142" y="3803"/>
                      <a:pt x="18145" y="3788"/>
                      <a:pt x="18145" y="3773"/>
                    </a:cubicBezTo>
                    <a:cubicBezTo>
                      <a:pt x="18145" y="3757"/>
                      <a:pt x="18142" y="3742"/>
                      <a:pt x="18136" y="3723"/>
                    </a:cubicBezTo>
                    <a:cubicBezTo>
                      <a:pt x="18130" y="3710"/>
                      <a:pt x="18121" y="3700"/>
                      <a:pt x="18110" y="3689"/>
                    </a:cubicBezTo>
                    <a:cubicBezTo>
                      <a:pt x="18099" y="3677"/>
                      <a:pt x="18087" y="3666"/>
                      <a:pt x="18074" y="3651"/>
                    </a:cubicBezTo>
                    <a:cubicBezTo>
                      <a:pt x="18053" y="3622"/>
                      <a:pt x="18045" y="3589"/>
                      <a:pt x="18051" y="3557"/>
                    </a:cubicBezTo>
                    <a:cubicBezTo>
                      <a:pt x="18057" y="3525"/>
                      <a:pt x="18077" y="3493"/>
                      <a:pt x="18111" y="3466"/>
                    </a:cubicBezTo>
                    <a:cubicBezTo>
                      <a:pt x="18059" y="3449"/>
                      <a:pt x="18010" y="3432"/>
                      <a:pt x="17961" y="3416"/>
                    </a:cubicBezTo>
                    <a:cubicBezTo>
                      <a:pt x="17912" y="3400"/>
                      <a:pt x="17865" y="3384"/>
                      <a:pt x="17815" y="3369"/>
                    </a:cubicBezTo>
                    <a:cubicBezTo>
                      <a:pt x="17809" y="3365"/>
                      <a:pt x="17798" y="3363"/>
                      <a:pt x="17787" y="3361"/>
                    </a:cubicBezTo>
                    <a:cubicBezTo>
                      <a:pt x="17777" y="3359"/>
                      <a:pt x="17766" y="3357"/>
                      <a:pt x="17760" y="3353"/>
                    </a:cubicBezTo>
                    <a:cubicBezTo>
                      <a:pt x="17723" y="3348"/>
                      <a:pt x="17684" y="3355"/>
                      <a:pt x="17650" y="3368"/>
                    </a:cubicBezTo>
                    <a:cubicBezTo>
                      <a:pt x="17616" y="3381"/>
                      <a:pt x="17587" y="3401"/>
                      <a:pt x="17568" y="3424"/>
                    </a:cubicBezTo>
                    <a:cubicBezTo>
                      <a:pt x="17541" y="3445"/>
                      <a:pt x="17517" y="3467"/>
                      <a:pt x="17494" y="3487"/>
                    </a:cubicBezTo>
                    <a:cubicBezTo>
                      <a:pt x="17470" y="3507"/>
                      <a:pt x="17445" y="3525"/>
                      <a:pt x="17414" y="3538"/>
                    </a:cubicBezTo>
                    <a:cubicBezTo>
                      <a:pt x="17386" y="3546"/>
                      <a:pt x="17354" y="3550"/>
                      <a:pt x="17322" y="3553"/>
                    </a:cubicBezTo>
                    <a:cubicBezTo>
                      <a:pt x="17289" y="3557"/>
                      <a:pt x="17257" y="3559"/>
                      <a:pt x="17229" y="3563"/>
                    </a:cubicBezTo>
                    <a:cubicBezTo>
                      <a:pt x="17186" y="3573"/>
                      <a:pt x="17141" y="3591"/>
                      <a:pt x="17104" y="3614"/>
                    </a:cubicBezTo>
                    <a:cubicBezTo>
                      <a:pt x="17067" y="3638"/>
                      <a:pt x="17038" y="3666"/>
                      <a:pt x="17025" y="3697"/>
                    </a:cubicBezTo>
                    <a:cubicBezTo>
                      <a:pt x="17013" y="3681"/>
                      <a:pt x="17007" y="3663"/>
                      <a:pt x="17007" y="3645"/>
                    </a:cubicBezTo>
                    <a:cubicBezTo>
                      <a:pt x="17007" y="3627"/>
                      <a:pt x="17013" y="3609"/>
                      <a:pt x="17025" y="3592"/>
                    </a:cubicBezTo>
                    <a:cubicBezTo>
                      <a:pt x="16973" y="3601"/>
                      <a:pt x="16921" y="3583"/>
                      <a:pt x="16886" y="3555"/>
                    </a:cubicBezTo>
                    <a:cubicBezTo>
                      <a:pt x="16851" y="3527"/>
                      <a:pt x="16834" y="3489"/>
                      <a:pt x="16853" y="3458"/>
                    </a:cubicBezTo>
                    <a:cubicBezTo>
                      <a:pt x="16834" y="3449"/>
                      <a:pt x="16816" y="3443"/>
                      <a:pt x="16795" y="3437"/>
                    </a:cubicBezTo>
                    <a:cubicBezTo>
                      <a:pt x="16774" y="3430"/>
                      <a:pt x="16751" y="3424"/>
                      <a:pt x="16723" y="3416"/>
                    </a:cubicBezTo>
                    <a:cubicBezTo>
                      <a:pt x="16717" y="3411"/>
                      <a:pt x="16722" y="3409"/>
                      <a:pt x="16725" y="3408"/>
                    </a:cubicBezTo>
                    <a:cubicBezTo>
                      <a:pt x="16729" y="3407"/>
                      <a:pt x="16732" y="3407"/>
                      <a:pt x="16723" y="3407"/>
                    </a:cubicBezTo>
                    <a:cubicBezTo>
                      <a:pt x="16692" y="3380"/>
                      <a:pt x="16648" y="3362"/>
                      <a:pt x="16597" y="3354"/>
                    </a:cubicBezTo>
                    <a:cubicBezTo>
                      <a:pt x="16547" y="3346"/>
                      <a:pt x="16492" y="3348"/>
                      <a:pt x="16439" y="3361"/>
                    </a:cubicBezTo>
                    <a:cubicBezTo>
                      <a:pt x="16427" y="3365"/>
                      <a:pt x="16415" y="3369"/>
                      <a:pt x="16402" y="3371"/>
                    </a:cubicBezTo>
                    <a:cubicBezTo>
                      <a:pt x="16390" y="3374"/>
                      <a:pt x="16378" y="3374"/>
                      <a:pt x="16365" y="3369"/>
                    </a:cubicBezTo>
                    <a:cubicBezTo>
                      <a:pt x="16359" y="3369"/>
                      <a:pt x="16348" y="3367"/>
                      <a:pt x="16338" y="3363"/>
                    </a:cubicBezTo>
                    <a:cubicBezTo>
                      <a:pt x="16327" y="3359"/>
                      <a:pt x="16316" y="3353"/>
                      <a:pt x="16310" y="3344"/>
                    </a:cubicBezTo>
                    <a:cubicBezTo>
                      <a:pt x="16285" y="3323"/>
                      <a:pt x="16263" y="3301"/>
                      <a:pt x="16244" y="3277"/>
                    </a:cubicBezTo>
                    <a:cubicBezTo>
                      <a:pt x="16225" y="3254"/>
                      <a:pt x="16208" y="3228"/>
                      <a:pt x="16193" y="3201"/>
                    </a:cubicBezTo>
                    <a:cubicBezTo>
                      <a:pt x="16174" y="3180"/>
                      <a:pt x="16139" y="3170"/>
                      <a:pt x="16098" y="3164"/>
                    </a:cubicBezTo>
                    <a:cubicBezTo>
                      <a:pt x="16058" y="3159"/>
                      <a:pt x="16014" y="3159"/>
                      <a:pt x="15977" y="3159"/>
                    </a:cubicBezTo>
                    <a:cubicBezTo>
                      <a:pt x="15899" y="3163"/>
                      <a:pt x="15825" y="3163"/>
                      <a:pt x="15751" y="3161"/>
                    </a:cubicBezTo>
                    <a:cubicBezTo>
                      <a:pt x="15676" y="3159"/>
                      <a:pt x="15600" y="3155"/>
                      <a:pt x="15520" y="3151"/>
                    </a:cubicBezTo>
                    <a:cubicBezTo>
                      <a:pt x="15483" y="3146"/>
                      <a:pt x="15448" y="3142"/>
                      <a:pt x="15412" y="3141"/>
                    </a:cubicBezTo>
                    <a:cubicBezTo>
                      <a:pt x="15377" y="3140"/>
                      <a:pt x="15341" y="3142"/>
                      <a:pt x="15304" y="3151"/>
                    </a:cubicBezTo>
                    <a:cubicBezTo>
                      <a:pt x="15264" y="3159"/>
                      <a:pt x="15232" y="3175"/>
                      <a:pt x="15211" y="3194"/>
                    </a:cubicBezTo>
                    <a:cubicBezTo>
                      <a:pt x="15190" y="3213"/>
                      <a:pt x="15181" y="3235"/>
                      <a:pt x="15187" y="3256"/>
                    </a:cubicBezTo>
                    <a:cubicBezTo>
                      <a:pt x="15181" y="3243"/>
                      <a:pt x="15171" y="3233"/>
                      <a:pt x="15161" y="3222"/>
                    </a:cubicBezTo>
                    <a:cubicBezTo>
                      <a:pt x="15151" y="3211"/>
                      <a:pt x="15141" y="3199"/>
                      <a:pt x="15131" y="3184"/>
                    </a:cubicBezTo>
                    <a:cubicBezTo>
                      <a:pt x="15011" y="3199"/>
                      <a:pt x="14889" y="3228"/>
                      <a:pt x="14776" y="3269"/>
                    </a:cubicBezTo>
                    <a:cubicBezTo>
                      <a:pt x="14662" y="3310"/>
                      <a:pt x="14558" y="3363"/>
                      <a:pt x="14471" y="3424"/>
                    </a:cubicBezTo>
                    <a:cubicBezTo>
                      <a:pt x="14440" y="3392"/>
                      <a:pt x="14393" y="3379"/>
                      <a:pt x="14338" y="3374"/>
                    </a:cubicBezTo>
                    <a:cubicBezTo>
                      <a:pt x="14283" y="3369"/>
                      <a:pt x="14221" y="3374"/>
                      <a:pt x="14163" y="3378"/>
                    </a:cubicBezTo>
                    <a:cubicBezTo>
                      <a:pt x="14138" y="3384"/>
                      <a:pt x="14112" y="3389"/>
                      <a:pt x="14089" y="3395"/>
                    </a:cubicBezTo>
                    <a:cubicBezTo>
                      <a:pt x="14066" y="3401"/>
                      <a:pt x="14045" y="3407"/>
                      <a:pt x="14033" y="3416"/>
                    </a:cubicBezTo>
                    <a:cubicBezTo>
                      <a:pt x="14021" y="3428"/>
                      <a:pt x="14015" y="3446"/>
                      <a:pt x="14018" y="3462"/>
                    </a:cubicBezTo>
                    <a:cubicBezTo>
                      <a:pt x="14021" y="3478"/>
                      <a:pt x="14033" y="3491"/>
                      <a:pt x="14058" y="3496"/>
                    </a:cubicBezTo>
                    <a:cubicBezTo>
                      <a:pt x="13956" y="3504"/>
                      <a:pt x="13853" y="3521"/>
                      <a:pt x="13754" y="3545"/>
                    </a:cubicBezTo>
                    <a:cubicBezTo>
                      <a:pt x="13655" y="3570"/>
                      <a:pt x="13561" y="3603"/>
                      <a:pt x="13478" y="3643"/>
                    </a:cubicBezTo>
                    <a:cubicBezTo>
                      <a:pt x="13438" y="3630"/>
                      <a:pt x="13412" y="3604"/>
                      <a:pt x="13400" y="3574"/>
                    </a:cubicBezTo>
                    <a:cubicBezTo>
                      <a:pt x="13388" y="3545"/>
                      <a:pt x="13392" y="3512"/>
                      <a:pt x="13410" y="3487"/>
                    </a:cubicBezTo>
                    <a:cubicBezTo>
                      <a:pt x="13432" y="3460"/>
                      <a:pt x="13461" y="3436"/>
                      <a:pt x="13493" y="3414"/>
                    </a:cubicBezTo>
                    <a:cubicBezTo>
                      <a:pt x="13526" y="3391"/>
                      <a:pt x="13561" y="3371"/>
                      <a:pt x="13595" y="3353"/>
                    </a:cubicBezTo>
                    <a:cubicBezTo>
                      <a:pt x="13638" y="3331"/>
                      <a:pt x="13683" y="3309"/>
                      <a:pt x="13730" y="3290"/>
                    </a:cubicBezTo>
                    <a:cubicBezTo>
                      <a:pt x="13777" y="3272"/>
                      <a:pt x="13826" y="3256"/>
                      <a:pt x="13879" y="3247"/>
                    </a:cubicBezTo>
                    <a:cubicBezTo>
                      <a:pt x="13891" y="3247"/>
                      <a:pt x="13907" y="3245"/>
                      <a:pt x="13923" y="3242"/>
                    </a:cubicBezTo>
                    <a:cubicBezTo>
                      <a:pt x="13939" y="3239"/>
                      <a:pt x="13956" y="3235"/>
                      <a:pt x="13971" y="3231"/>
                    </a:cubicBezTo>
                    <a:cubicBezTo>
                      <a:pt x="13990" y="3226"/>
                      <a:pt x="14005" y="3215"/>
                      <a:pt x="14021" y="3202"/>
                    </a:cubicBezTo>
                    <a:cubicBezTo>
                      <a:pt x="14036" y="3190"/>
                      <a:pt x="14052" y="3176"/>
                      <a:pt x="14070" y="3167"/>
                    </a:cubicBezTo>
                    <a:cubicBezTo>
                      <a:pt x="14098" y="3151"/>
                      <a:pt x="14130" y="3135"/>
                      <a:pt x="14164" y="3120"/>
                    </a:cubicBezTo>
                    <a:cubicBezTo>
                      <a:pt x="14198" y="3105"/>
                      <a:pt x="14234" y="3092"/>
                      <a:pt x="14268" y="3079"/>
                    </a:cubicBezTo>
                    <a:lnTo>
                      <a:pt x="14928" y="2839"/>
                    </a:lnTo>
                    <a:cubicBezTo>
                      <a:pt x="14989" y="2814"/>
                      <a:pt x="15057" y="2797"/>
                      <a:pt x="15131" y="2797"/>
                    </a:cubicBezTo>
                    <a:cubicBezTo>
                      <a:pt x="15187" y="2797"/>
                      <a:pt x="15224" y="2814"/>
                      <a:pt x="15279" y="2806"/>
                    </a:cubicBezTo>
                    <a:cubicBezTo>
                      <a:pt x="15298" y="2801"/>
                      <a:pt x="15316" y="2795"/>
                      <a:pt x="15333" y="2789"/>
                    </a:cubicBezTo>
                    <a:cubicBezTo>
                      <a:pt x="15350" y="2783"/>
                      <a:pt x="15366" y="2776"/>
                      <a:pt x="15378" y="2772"/>
                    </a:cubicBezTo>
                    <a:cubicBezTo>
                      <a:pt x="15437" y="2745"/>
                      <a:pt x="15502" y="2729"/>
                      <a:pt x="15568" y="2723"/>
                    </a:cubicBezTo>
                    <a:cubicBezTo>
                      <a:pt x="15634" y="2717"/>
                      <a:pt x="15702" y="2722"/>
                      <a:pt x="15767" y="2734"/>
                    </a:cubicBezTo>
                    <a:cubicBezTo>
                      <a:pt x="15779" y="2738"/>
                      <a:pt x="15796" y="2743"/>
                      <a:pt x="15813" y="2745"/>
                    </a:cubicBezTo>
                    <a:cubicBezTo>
                      <a:pt x="15830" y="2747"/>
                      <a:pt x="15847" y="2747"/>
                      <a:pt x="15859" y="2743"/>
                    </a:cubicBezTo>
                    <a:cubicBezTo>
                      <a:pt x="15896" y="2734"/>
                      <a:pt x="15909" y="2709"/>
                      <a:pt x="15952" y="2692"/>
                    </a:cubicBezTo>
                    <a:cubicBezTo>
                      <a:pt x="16051" y="2654"/>
                      <a:pt x="16143" y="2764"/>
                      <a:pt x="16260" y="2751"/>
                    </a:cubicBezTo>
                    <a:cubicBezTo>
                      <a:pt x="16285" y="2751"/>
                      <a:pt x="16311" y="2745"/>
                      <a:pt x="16336" y="2739"/>
                    </a:cubicBezTo>
                    <a:cubicBezTo>
                      <a:pt x="16361" y="2734"/>
                      <a:pt x="16384" y="2730"/>
                      <a:pt x="16402" y="2734"/>
                    </a:cubicBezTo>
                    <a:cubicBezTo>
                      <a:pt x="16415" y="2738"/>
                      <a:pt x="16424" y="2746"/>
                      <a:pt x="16434" y="2752"/>
                    </a:cubicBezTo>
                    <a:cubicBezTo>
                      <a:pt x="16444" y="2758"/>
                      <a:pt x="16455" y="2764"/>
                      <a:pt x="16470" y="2764"/>
                    </a:cubicBezTo>
                    <a:cubicBezTo>
                      <a:pt x="16495" y="2768"/>
                      <a:pt x="16513" y="2758"/>
                      <a:pt x="16530" y="2745"/>
                    </a:cubicBezTo>
                    <a:cubicBezTo>
                      <a:pt x="16547" y="2731"/>
                      <a:pt x="16563" y="2713"/>
                      <a:pt x="16581" y="2701"/>
                    </a:cubicBezTo>
                    <a:cubicBezTo>
                      <a:pt x="16597" y="2692"/>
                      <a:pt x="16614" y="2686"/>
                      <a:pt x="16631" y="2680"/>
                    </a:cubicBezTo>
                    <a:cubicBezTo>
                      <a:pt x="16649" y="2674"/>
                      <a:pt x="16668" y="2669"/>
                      <a:pt x="16686" y="2663"/>
                    </a:cubicBezTo>
                    <a:cubicBezTo>
                      <a:pt x="16791" y="2642"/>
                      <a:pt x="16894" y="2621"/>
                      <a:pt x="16996" y="2599"/>
                    </a:cubicBezTo>
                    <a:cubicBezTo>
                      <a:pt x="17098" y="2577"/>
                      <a:pt x="17198" y="2555"/>
                      <a:pt x="17297" y="2532"/>
                    </a:cubicBezTo>
                    <a:cubicBezTo>
                      <a:pt x="17328" y="2524"/>
                      <a:pt x="17360" y="2510"/>
                      <a:pt x="17382" y="2494"/>
                    </a:cubicBezTo>
                    <a:cubicBezTo>
                      <a:pt x="17403" y="2479"/>
                      <a:pt x="17414" y="2461"/>
                      <a:pt x="17402" y="2444"/>
                    </a:cubicBezTo>
                    <a:lnTo>
                      <a:pt x="17359" y="2419"/>
                    </a:lnTo>
                    <a:cubicBezTo>
                      <a:pt x="17346" y="2404"/>
                      <a:pt x="17346" y="2388"/>
                      <a:pt x="17352" y="2374"/>
                    </a:cubicBezTo>
                    <a:cubicBezTo>
                      <a:pt x="17359" y="2360"/>
                      <a:pt x="17371" y="2347"/>
                      <a:pt x="17383" y="2339"/>
                    </a:cubicBezTo>
                    <a:cubicBezTo>
                      <a:pt x="17405" y="2330"/>
                      <a:pt x="17425" y="2324"/>
                      <a:pt x="17444" y="2317"/>
                    </a:cubicBezTo>
                    <a:cubicBezTo>
                      <a:pt x="17463" y="2310"/>
                      <a:pt x="17482" y="2303"/>
                      <a:pt x="17501" y="2293"/>
                    </a:cubicBezTo>
                    <a:cubicBezTo>
                      <a:pt x="17581" y="2263"/>
                      <a:pt x="17624" y="2204"/>
                      <a:pt x="17668" y="2148"/>
                    </a:cubicBezTo>
                    <a:cubicBezTo>
                      <a:pt x="17712" y="2092"/>
                      <a:pt x="17757" y="2038"/>
                      <a:pt x="17840" y="2019"/>
                    </a:cubicBezTo>
                    <a:cubicBezTo>
                      <a:pt x="17775" y="2034"/>
                      <a:pt x="17713" y="2023"/>
                      <a:pt x="17658" y="1999"/>
                    </a:cubicBezTo>
                    <a:cubicBezTo>
                      <a:pt x="17602" y="1975"/>
                      <a:pt x="17553" y="1937"/>
                      <a:pt x="17513" y="1897"/>
                    </a:cubicBezTo>
                    <a:cubicBezTo>
                      <a:pt x="17476" y="1861"/>
                      <a:pt x="17437" y="1821"/>
                      <a:pt x="17392" y="1788"/>
                    </a:cubicBezTo>
                    <a:cubicBezTo>
                      <a:pt x="17346" y="1755"/>
                      <a:pt x="17294" y="1729"/>
                      <a:pt x="17229" y="1720"/>
                    </a:cubicBezTo>
                    <a:cubicBezTo>
                      <a:pt x="17223" y="1733"/>
                      <a:pt x="17217" y="1747"/>
                      <a:pt x="17211" y="1761"/>
                    </a:cubicBezTo>
                    <a:cubicBezTo>
                      <a:pt x="17204" y="1776"/>
                      <a:pt x="17198" y="1792"/>
                      <a:pt x="17192" y="1809"/>
                    </a:cubicBezTo>
                    <a:cubicBezTo>
                      <a:pt x="17146" y="1765"/>
                      <a:pt x="17098" y="1725"/>
                      <a:pt x="17045" y="1688"/>
                    </a:cubicBezTo>
                    <a:cubicBezTo>
                      <a:pt x="16993" y="1652"/>
                      <a:pt x="16936" y="1619"/>
                      <a:pt x="16871" y="1590"/>
                    </a:cubicBezTo>
                    <a:cubicBezTo>
                      <a:pt x="16843" y="1615"/>
                      <a:pt x="16820" y="1644"/>
                      <a:pt x="16801" y="1674"/>
                    </a:cubicBezTo>
                    <a:cubicBezTo>
                      <a:pt x="16782" y="1704"/>
                      <a:pt x="16766" y="1735"/>
                      <a:pt x="16754" y="1767"/>
                    </a:cubicBezTo>
                    <a:cubicBezTo>
                      <a:pt x="16739" y="1748"/>
                      <a:pt x="16731" y="1730"/>
                      <a:pt x="16725" y="1712"/>
                    </a:cubicBezTo>
                    <a:cubicBezTo>
                      <a:pt x="16720" y="1694"/>
                      <a:pt x="16717" y="1676"/>
                      <a:pt x="16711" y="1657"/>
                    </a:cubicBezTo>
                    <a:cubicBezTo>
                      <a:pt x="16705" y="1641"/>
                      <a:pt x="16695" y="1624"/>
                      <a:pt x="16681" y="1608"/>
                    </a:cubicBezTo>
                    <a:cubicBezTo>
                      <a:pt x="16668" y="1593"/>
                      <a:pt x="16649" y="1580"/>
                      <a:pt x="16624" y="1569"/>
                    </a:cubicBezTo>
                    <a:cubicBezTo>
                      <a:pt x="16597" y="1565"/>
                      <a:pt x="16567" y="1570"/>
                      <a:pt x="16547" y="1581"/>
                    </a:cubicBezTo>
                    <a:cubicBezTo>
                      <a:pt x="16526" y="1591"/>
                      <a:pt x="16513" y="1607"/>
                      <a:pt x="16520" y="1624"/>
                    </a:cubicBezTo>
                    <a:cubicBezTo>
                      <a:pt x="16507" y="1611"/>
                      <a:pt x="16498" y="1599"/>
                      <a:pt x="16488" y="1588"/>
                    </a:cubicBezTo>
                    <a:cubicBezTo>
                      <a:pt x="16478" y="1576"/>
                      <a:pt x="16467" y="1565"/>
                      <a:pt x="16452" y="1552"/>
                    </a:cubicBezTo>
                    <a:cubicBezTo>
                      <a:pt x="16396" y="1571"/>
                      <a:pt x="16342" y="1593"/>
                      <a:pt x="16290" y="1618"/>
                    </a:cubicBezTo>
                    <a:cubicBezTo>
                      <a:pt x="16239" y="1644"/>
                      <a:pt x="16189" y="1672"/>
                      <a:pt x="16143" y="1704"/>
                    </a:cubicBezTo>
                    <a:cubicBezTo>
                      <a:pt x="16119" y="1655"/>
                      <a:pt x="16183" y="1617"/>
                      <a:pt x="16251" y="1578"/>
                    </a:cubicBezTo>
                    <a:cubicBezTo>
                      <a:pt x="16319" y="1540"/>
                      <a:pt x="16390" y="1500"/>
                      <a:pt x="16378" y="1447"/>
                    </a:cubicBezTo>
                    <a:cubicBezTo>
                      <a:pt x="16365" y="1413"/>
                      <a:pt x="16322" y="1384"/>
                      <a:pt x="16322" y="1359"/>
                    </a:cubicBezTo>
                    <a:cubicBezTo>
                      <a:pt x="16322" y="1296"/>
                      <a:pt x="16483" y="1245"/>
                      <a:pt x="16439" y="1190"/>
                    </a:cubicBezTo>
                    <a:cubicBezTo>
                      <a:pt x="16433" y="1182"/>
                      <a:pt x="16424" y="1178"/>
                      <a:pt x="16415" y="1174"/>
                    </a:cubicBezTo>
                    <a:cubicBezTo>
                      <a:pt x="16405" y="1169"/>
                      <a:pt x="16396" y="1165"/>
                      <a:pt x="16390" y="1157"/>
                    </a:cubicBezTo>
                    <a:cubicBezTo>
                      <a:pt x="16365" y="1138"/>
                      <a:pt x="16362" y="1114"/>
                      <a:pt x="16368" y="1088"/>
                    </a:cubicBezTo>
                    <a:cubicBezTo>
                      <a:pt x="16375" y="1063"/>
                      <a:pt x="16390" y="1037"/>
                      <a:pt x="16402" y="1014"/>
                    </a:cubicBezTo>
                    <a:cubicBezTo>
                      <a:pt x="16338" y="1001"/>
                      <a:pt x="16270" y="1003"/>
                      <a:pt x="16202" y="1013"/>
                    </a:cubicBezTo>
                    <a:cubicBezTo>
                      <a:pt x="16134" y="1023"/>
                      <a:pt x="16066" y="1041"/>
                      <a:pt x="16001" y="1060"/>
                    </a:cubicBezTo>
                    <a:cubicBezTo>
                      <a:pt x="15835" y="1110"/>
                      <a:pt x="15650" y="1174"/>
                      <a:pt x="15471" y="1190"/>
                    </a:cubicBezTo>
                    <a:cubicBezTo>
                      <a:pt x="15378" y="1199"/>
                      <a:pt x="15292" y="1190"/>
                      <a:pt x="15187" y="1190"/>
                    </a:cubicBezTo>
                    <a:cubicBezTo>
                      <a:pt x="15131" y="1190"/>
                      <a:pt x="15070" y="1182"/>
                      <a:pt x="15033" y="1165"/>
                    </a:cubicBezTo>
                    <a:cubicBezTo>
                      <a:pt x="15005" y="1157"/>
                      <a:pt x="14985" y="1145"/>
                      <a:pt x="14966" y="1134"/>
                    </a:cubicBezTo>
                    <a:cubicBezTo>
                      <a:pt x="14946" y="1122"/>
                      <a:pt x="14928" y="1110"/>
                      <a:pt x="14903" y="1102"/>
                    </a:cubicBezTo>
                    <a:cubicBezTo>
                      <a:pt x="14875" y="1094"/>
                      <a:pt x="14846" y="1092"/>
                      <a:pt x="14817" y="1093"/>
                    </a:cubicBezTo>
                    <a:cubicBezTo>
                      <a:pt x="14787" y="1094"/>
                      <a:pt x="14758" y="1098"/>
                      <a:pt x="14730" y="1102"/>
                    </a:cubicBezTo>
                    <a:cubicBezTo>
                      <a:pt x="14653" y="1115"/>
                      <a:pt x="14576" y="1135"/>
                      <a:pt x="14501" y="1159"/>
                    </a:cubicBezTo>
                    <a:cubicBezTo>
                      <a:pt x="14425" y="1184"/>
                      <a:pt x="14351" y="1214"/>
                      <a:pt x="14280" y="1245"/>
                    </a:cubicBezTo>
                    <a:cubicBezTo>
                      <a:pt x="14249" y="1230"/>
                      <a:pt x="14217" y="1221"/>
                      <a:pt x="14182" y="1216"/>
                    </a:cubicBezTo>
                    <a:cubicBezTo>
                      <a:pt x="14147" y="1211"/>
                      <a:pt x="14110" y="1211"/>
                      <a:pt x="14070" y="1216"/>
                    </a:cubicBezTo>
                    <a:cubicBezTo>
                      <a:pt x="13941" y="1239"/>
                      <a:pt x="13870" y="1319"/>
                      <a:pt x="13800" y="1401"/>
                    </a:cubicBezTo>
                    <a:cubicBezTo>
                      <a:pt x="13731" y="1483"/>
                      <a:pt x="13663" y="1567"/>
                      <a:pt x="13540" y="1598"/>
                    </a:cubicBezTo>
                    <a:cubicBezTo>
                      <a:pt x="13555" y="1567"/>
                      <a:pt x="13566" y="1533"/>
                      <a:pt x="13571" y="1500"/>
                    </a:cubicBezTo>
                    <a:cubicBezTo>
                      <a:pt x="13577" y="1467"/>
                      <a:pt x="13577" y="1434"/>
                      <a:pt x="13570" y="1405"/>
                    </a:cubicBezTo>
                    <a:cubicBezTo>
                      <a:pt x="13518" y="1394"/>
                      <a:pt x="13466" y="1389"/>
                      <a:pt x="13415" y="1389"/>
                    </a:cubicBezTo>
                    <a:cubicBezTo>
                      <a:pt x="13364" y="1389"/>
                      <a:pt x="13314" y="1394"/>
                      <a:pt x="13268" y="1405"/>
                    </a:cubicBezTo>
                    <a:cubicBezTo>
                      <a:pt x="13237" y="1470"/>
                      <a:pt x="13199" y="1535"/>
                      <a:pt x="13155" y="1600"/>
                    </a:cubicBezTo>
                    <a:cubicBezTo>
                      <a:pt x="13111" y="1665"/>
                      <a:pt x="13061" y="1729"/>
                      <a:pt x="13009" y="1792"/>
                    </a:cubicBezTo>
                    <a:cubicBezTo>
                      <a:pt x="12990" y="1756"/>
                      <a:pt x="12984" y="1720"/>
                      <a:pt x="12983" y="1684"/>
                    </a:cubicBezTo>
                    <a:cubicBezTo>
                      <a:pt x="12981" y="1647"/>
                      <a:pt x="12984" y="1609"/>
                      <a:pt x="12984" y="1569"/>
                    </a:cubicBezTo>
                    <a:cubicBezTo>
                      <a:pt x="12978" y="1535"/>
                      <a:pt x="12963" y="1499"/>
                      <a:pt x="12937" y="1466"/>
                    </a:cubicBezTo>
                    <a:cubicBezTo>
                      <a:pt x="12912" y="1434"/>
                      <a:pt x="12876" y="1407"/>
                      <a:pt x="12830" y="1392"/>
                    </a:cubicBezTo>
                    <a:cubicBezTo>
                      <a:pt x="12778" y="1455"/>
                      <a:pt x="12725" y="1520"/>
                      <a:pt x="12674" y="1584"/>
                    </a:cubicBezTo>
                    <a:cubicBezTo>
                      <a:pt x="12622" y="1648"/>
                      <a:pt x="12571" y="1712"/>
                      <a:pt x="12522" y="1775"/>
                    </a:cubicBezTo>
                    <a:cubicBezTo>
                      <a:pt x="12481" y="1712"/>
                      <a:pt x="12471" y="1638"/>
                      <a:pt x="12490" y="1571"/>
                    </a:cubicBezTo>
                    <a:cubicBezTo>
                      <a:pt x="12509" y="1504"/>
                      <a:pt x="12559" y="1443"/>
                      <a:pt x="12639" y="1405"/>
                    </a:cubicBezTo>
                    <a:cubicBezTo>
                      <a:pt x="12670" y="1386"/>
                      <a:pt x="12707" y="1372"/>
                      <a:pt x="12746" y="1364"/>
                    </a:cubicBezTo>
                    <a:cubicBezTo>
                      <a:pt x="12785" y="1357"/>
                      <a:pt x="12827" y="1354"/>
                      <a:pt x="12867" y="1359"/>
                    </a:cubicBezTo>
                    <a:cubicBezTo>
                      <a:pt x="12904" y="1363"/>
                      <a:pt x="12947" y="1369"/>
                      <a:pt x="12989" y="1371"/>
                    </a:cubicBezTo>
                    <a:cubicBezTo>
                      <a:pt x="13031" y="1373"/>
                      <a:pt x="13071" y="1371"/>
                      <a:pt x="13102" y="1359"/>
                    </a:cubicBezTo>
                    <a:cubicBezTo>
                      <a:pt x="13120" y="1350"/>
                      <a:pt x="13132" y="1342"/>
                      <a:pt x="13146" y="1333"/>
                    </a:cubicBezTo>
                    <a:cubicBezTo>
                      <a:pt x="13159" y="1324"/>
                      <a:pt x="13172" y="1315"/>
                      <a:pt x="13194" y="1304"/>
                    </a:cubicBezTo>
                    <a:cubicBezTo>
                      <a:pt x="13231" y="1287"/>
                      <a:pt x="13282" y="1283"/>
                      <a:pt x="13329" y="1277"/>
                    </a:cubicBezTo>
                    <a:cubicBezTo>
                      <a:pt x="13376" y="1270"/>
                      <a:pt x="13419" y="1262"/>
                      <a:pt x="13441" y="1237"/>
                    </a:cubicBezTo>
                    <a:cubicBezTo>
                      <a:pt x="13466" y="1205"/>
                      <a:pt x="13455" y="1174"/>
                      <a:pt x="13429" y="1145"/>
                    </a:cubicBezTo>
                    <a:cubicBezTo>
                      <a:pt x="13402" y="1116"/>
                      <a:pt x="13361" y="1089"/>
                      <a:pt x="13324" y="1068"/>
                    </a:cubicBezTo>
                    <a:cubicBezTo>
                      <a:pt x="13361" y="1064"/>
                      <a:pt x="13402" y="1064"/>
                      <a:pt x="13441" y="1071"/>
                    </a:cubicBezTo>
                    <a:cubicBezTo>
                      <a:pt x="13479" y="1077"/>
                      <a:pt x="13515" y="1089"/>
                      <a:pt x="13540" y="1110"/>
                    </a:cubicBezTo>
                    <a:cubicBezTo>
                      <a:pt x="13555" y="1119"/>
                      <a:pt x="13566" y="1128"/>
                      <a:pt x="13577" y="1136"/>
                    </a:cubicBezTo>
                    <a:cubicBezTo>
                      <a:pt x="13589" y="1143"/>
                      <a:pt x="13601" y="1148"/>
                      <a:pt x="13620" y="1148"/>
                    </a:cubicBezTo>
                    <a:cubicBezTo>
                      <a:pt x="13632" y="1153"/>
                      <a:pt x="13648" y="1150"/>
                      <a:pt x="13664" y="1146"/>
                    </a:cubicBezTo>
                    <a:cubicBezTo>
                      <a:pt x="13680" y="1141"/>
                      <a:pt x="13697" y="1134"/>
                      <a:pt x="13712" y="1127"/>
                    </a:cubicBezTo>
                    <a:cubicBezTo>
                      <a:pt x="13777" y="1102"/>
                      <a:pt x="13842" y="1074"/>
                      <a:pt x="13903" y="1043"/>
                    </a:cubicBezTo>
                    <a:cubicBezTo>
                      <a:pt x="13964" y="1012"/>
                      <a:pt x="14021" y="978"/>
                      <a:pt x="14070" y="942"/>
                    </a:cubicBezTo>
                    <a:cubicBezTo>
                      <a:pt x="14058" y="938"/>
                      <a:pt x="14045" y="936"/>
                      <a:pt x="14033" y="934"/>
                    </a:cubicBezTo>
                    <a:cubicBezTo>
                      <a:pt x="14021" y="932"/>
                      <a:pt x="14008" y="930"/>
                      <a:pt x="13996" y="925"/>
                    </a:cubicBezTo>
                    <a:cubicBezTo>
                      <a:pt x="14113" y="934"/>
                      <a:pt x="14226" y="934"/>
                      <a:pt x="14339" y="929"/>
                    </a:cubicBezTo>
                    <a:cubicBezTo>
                      <a:pt x="14451" y="923"/>
                      <a:pt x="14564" y="913"/>
                      <a:pt x="14681" y="900"/>
                    </a:cubicBezTo>
                    <a:cubicBezTo>
                      <a:pt x="14727" y="896"/>
                      <a:pt x="14775" y="892"/>
                      <a:pt x="14820" y="882"/>
                    </a:cubicBezTo>
                    <a:cubicBezTo>
                      <a:pt x="14865" y="872"/>
                      <a:pt x="14906" y="856"/>
                      <a:pt x="14940" y="829"/>
                    </a:cubicBezTo>
                    <a:cubicBezTo>
                      <a:pt x="14986" y="837"/>
                      <a:pt x="15031" y="843"/>
                      <a:pt x="15076" y="845"/>
                    </a:cubicBezTo>
                    <a:cubicBezTo>
                      <a:pt x="15121" y="848"/>
                      <a:pt x="15165" y="845"/>
                      <a:pt x="15212" y="837"/>
                    </a:cubicBezTo>
                    <a:cubicBezTo>
                      <a:pt x="15224" y="875"/>
                      <a:pt x="15279" y="883"/>
                      <a:pt x="15329" y="883"/>
                    </a:cubicBezTo>
                    <a:cubicBezTo>
                      <a:pt x="15378" y="883"/>
                      <a:pt x="15421" y="867"/>
                      <a:pt x="15471" y="854"/>
                    </a:cubicBezTo>
                    <a:cubicBezTo>
                      <a:pt x="15563" y="837"/>
                      <a:pt x="15662" y="875"/>
                      <a:pt x="15754" y="883"/>
                    </a:cubicBezTo>
                    <a:cubicBezTo>
                      <a:pt x="15847" y="892"/>
                      <a:pt x="15977" y="875"/>
                      <a:pt x="15989" y="812"/>
                    </a:cubicBezTo>
                    <a:cubicBezTo>
                      <a:pt x="15955" y="812"/>
                      <a:pt x="15926" y="800"/>
                      <a:pt x="15906" y="783"/>
                    </a:cubicBezTo>
                    <a:cubicBezTo>
                      <a:pt x="15887" y="767"/>
                      <a:pt x="15878" y="745"/>
                      <a:pt x="15884" y="724"/>
                    </a:cubicBezTo>
                    <a:cubicBezTo>
                      <a:pt x="15896" y="677"/>
                      <a:pt x="15977" y="644"/>
                      <a:pt x="15952" y="602"/>
                    </a:cubicBezTo>
                    <a:cubicBezTo>
                      <a:pt x="15940" y="580"/>
                      <a:pt x="15909" y="564"/>
                      <a:pt x="15884" y="555"/>
                    </a:cubicBezTo>
                    <a:lnTo>
                      <a:pt x="15495" y="395"/>
                    </a:lnTo>
                    <a:cubicBezTo>
                      <a:pt x="15452" y="379"/>
                      <a:pt x="15401" y="362"/>
                      <a:pt x="15351" y="355"/>
                    </a:cubicBezTo>
                    <a:cubicBezTo>
                      <a:pt x="15301" y="349"/>
                      <a:pt x="15252" y="353"/>
                      <a:pt x="15212" y="379"/>
                    </a:cubicBezTo>
                    <a:cubicBezTo>
                      <a:pt x="15199" y="391"/>
                      <a:pt x="15190" y="405"/>
                      <a:pt x="15181" y="419"/>
                    </a:cubicBezTo>
                    <a:cubicBezTo>
                      <a:pt x="15171" y="432"/>
                      <a:pt x="15162" y="446"/>
                      <a:pt x="15150" y="459"/>
                    </a:cubicBezTo>
                    <a:cubicBezTo>
                      <a:pt x="15116" y="482"/>
                      <a:pt x="15073" y="482"/>
                      <a:pt x="15029" y="472"/>
                    </a:cubicBezTo>
                    <a:cubicBezTo>
                      <a:pt x="14985" y="462"/>
                      <a:pt x="14940" y="442"/>
                      <a:pt x="14903" y="425"/>
                    </a:cubicBezTo>
                    <a:cubicBezTo>
                      <a:pt x="14897" y="389"/>
                      <a:pt x="14883" y="353"/>
                      <a:pt x="14863" y="319"/>
                    </a:cubicBezTo>
                    <a:cubicBezTo>
                      <a:pt x="14843" y="284"/>
                      <a:pt x="14817" y="250"/>
                      <a:pt x="14786" y="219"/>
                    </a:cubicBezTo>
                    <a:cubicBezTo>
                      <a:pt x="14792" y="242"/>
                      <a:pt x="14760" y="249"/>
                      <a:pt x="14723" y="246"/>
                    </a:cubicBezTo>
                    <a:cubicBezTo>
                      <a:pt x="14686" y="243"/>
                      <a:pt x="14644" y="229"/>
                      <a:pt x="14632" y="210"/>
                    </a:cubicBezTo>
                    <a:cubicBezTo>
                      <a:pt x="14585" y="166"/>
                      <a:pt x="14524" y="120"/>
                      <a:pt x="14456" y="89"/>
                    </a:cubicBezTo>
                    <a:cubicBezTo>
                      <a:pt x="14388" y="59"/>
                      <a:pt x="14314" y="44"/>
                      <a:pt x="14243" y="63"/>
                    </a:cubicBezTo>
                    <a:cubicBezTo>
                      <a:pt x="14221" y="88"/>
                      <a:pt x="14211" y="117"/>
                      <a:pt x="14209" y="145"/>
                    </a:cubicBezTo>
                    <a:cubicBezTo>
                      <a:pt x="14207" y="174"/>
                      <a:pt x="14215" y="202"/>
                      <a:pt x="14231" y="227"/>
                    </a:cubicBezTo>
                    <a:cubicBezTo>
                      <a:pt x="14209" y="215"/>
                      <a:pt x="14183" y="208"/>
                      <a:pt x="14159" y="208"/>
                    </a:cubicBezTo>
                    <a:cubicBezTo>
                      <a:pt x="14135" y="208"/>
                      <a:pt x="14113" y="215"/>
                      <a:pt x="14101" y="227"/>
                    </a:cubicBezTo>
                    <a:cubicBezTo>
                      <a:pt x="14086" y="189"/>
                      <a:pt x="14059" y="148"/>
                      <a:pt x="14022" y="116"/>
                    </a:cubicBezTo>
                    <a:cubicBezTo>
                      <a:pt x="13985" y="83"/>
                      <a:pt x="13938" y="59"/>
                      <a:pt x="13879" y="55"/>
                    </a:cubicBezTo>
                    <a:cubicBezTo>
                      <a:pt x="13820" y="44"/>
                      <a:pt x="13759" y="66"/>
                      <a:pt x="13722" y="99"/>
                    </a:cubicBezTo>
                    <a:cubicBezTo>
                      <a:pt x="13685" y="133"/>
                      <a:pt x="13672" y="177"/>
                      <a:pt x="13712" y="210"/>
                    </a:cubicBezTo>
                    <a:cubicBezTo>
                      <a:pt x="13666" y="185"/>
                      <a:pt x="13628" y="152"/>
                      <a:pt x="13598" y="116"/>
                    </a:cubicBezTo>
                    <a:cubicBezTo>
                      <a:pt x="13569" y="80"/>
                      <a:pt x="13549" y="40"/>
                      <a:pt x="13540" y="0"/>
                    </a:cubicBezTo>
                    <a:cubicBezTo>
                      <a:pt x="13469" y="0"/>
                      <a:pt x="13401" y="4"/>
                      <a:pt x="13334" y="13"/>
                    </a:cubicBezTo>
                    <a:cubicBezTo>
                      <a:pt x="13268" y="22"/>
                      <a:pt x="13203" y="36"/>
                      <a:pt x="13139" y="55"/>
                    </a:cubicBezTo>
                    <a:cubicBezTo>
                      <a:pt x="13126" y="59"/>
                      <a:pt x="13117" y="63"/>
                      <a:pt x="13108" y="67"/>
                    </a:cubicBezTo>
                    <a:cubicBezTo>
                      <a:pt x="13098" y="72"/>
                      <a:pt x="13089" y="76"/>
                      <a:pt x="13077" y="80"/>
                    </a:cubicBezTo>
                    <a:cubicBezTo>
                      <a:pt x="13065" y="88"/>
                      <a:pt x="13061" y="101"/>
                      <a:pt x="13061" y="115"/>
                    </a:cubicBezTo>
                    <a:cubicBezTo>
                      <a:pt x="13061" y="129"/>
                      <a:pt x="13065" y="145"/>
                      <a:pt x="13065" y="160"/>
                    </a:cubicBezTo>
                    <a:cubicBezTo>
                      <a:pt x="13071" y="193"/>
                      <a:pt x="13077" y="228"/>
                      <a:pt x="13085" y="263"/>
                    </a:cubicBezTo>
                    <a:cubicBezTo>
                      <a:pt x="13092" y="299"/>
                      <a:pt x="13102" y="334"/>
                      <a:pt x="13114" y="370"/>
                    </a:cubicBezTo>
                    <a:cubicBezTo>
                      <a:pt x="13083" y="322"/>
                      <a:pt x="13051" y="273"/>
                      <a:pt x="13020" y="225"/>
                    </a:cubicBezTo>
                    <a:cubicBezTo>
                      <a:pt x="12989" y="177"/>
                      <a:pt x="12960" y="128"/>
                      <a:pt x="12935" y="80"/>
                    </a:cubicBezTo>
                    <a:cubicBezTo>
                      <a:pt x="12923" y="67"/>
                      <a:pt x="12909" y="52"/>
                      <a:pt x="12893" y="38"/>
                    </a:cubicBezTo>
                    <a:cubicBezTo>
                      <a:pt x="12878" y="24"/>
                      <a:pt x="12861" y="13"/>
                      <a:pt x="12842" y="8"/>
                    </a:cubicBezTo>
                    <a:cubicBezTo>
                      <a:pt x="12818" y="4"/>
                      <a:pt x="12792" y="13"/>
                      <a:pt x="12770" y="27"/>
                    </a:cubicBezTo>
                    <a:cubicBezTo>
                      <a:pt x="12748" y="41"/>
                      <a:pt x="12731" y="61"/>
                      <a:pt x="12725" y="80"/>
                    </a:cubicBezTo>
                    <a:cubicBezTo>
                      <a:pt x="12704" y="124"/>
                      <a:pt x="12690" y="169"/>
                      <a:pt x="12684" y="214"/>
                    </a:cubicBezTo>
                    <a:cubicBezTo>
                      <a:pt x="12679" y="259"/>
                      <a:pt x="12682" y="303"/>
                      <a:pt x="12694" y="345"/>
                    </a:cubicBezTo>
                    <a:cubicBezTo>
                      <a:pt x="12676" y="318"/>
                      <a:pt x="12648" y="294"/>
                      <a:pt x="12616" y="277"/>
                    </a:cubicBezTo>
                    <a:cubicBezTo>
                      <a:pt x="12583" y="259"/>
                      <a:pt x="12546" y="246"/>
                      <a:pt x="12509" y="240"/>
                    </a:cubicBezTo>
                    <a:cubicBezTo>
                      <a:pt x="12515" y="200"/>
                      <a:pt x="12483" y="162"/>
                      <a:pt x="12438" y="139"/>
                    </a:cubicBezTo>
                    <a:cubicBezTo>
                      <a:pt x="12392" y="117"/>
                      <a:pt x="12333" y="109"/>
                      <a:pt x="12287" y="130"/>
                    </a:cubicBezTo>
                    <a:cubicBezTo>
                      <a:pt x="12235" y="149"/>
                      <a:pt x="12212" y="189"/>
                      <a:pt x="12215" y="228"/>
                    </a:cubicBezTo>
                    <a:cubicBezTo>
                      <a:pt x="12218" y="266"/>
                      <a:pt x="12247" y="303"/>
                      <a:pt x="12299" y="315"/>
                    </a:cubicBezTo>
                    <a:cubicBezTo>
                      <a:pt x="12259" y="343"/>
                      <a:pt x="12236" y="381"/>
                      <a:pt x="12232" y="420"/>
                    </a:cubicBezTo>
                    <a:cubicBezTo>
                      <a:pt x="12227" y="459"/>
                      <a:pt x="12241" y="498"/>
                      <a:pt x="12275" y="530"/>
                    </a:cubicBezTo>
                    <a:cubicBezTo>
                      <a:pt x="12229" y="530"/>
                      <a:pt x="12196" y="511"/>
                      <a:pt x="12171" y="486"/>
                    </a:cubicBezTo>
                    <a:cubicBezTo>
                      <a:pt x="12145" y="461"/>
                      <a:pt x="12127" y="429"/>
                      <a:pt x="12108" y="404"/>
                    </a:cubicBezTo>
                    <a:cubicBezTo>
                      <a:pt x="12087" y="376"/>
                      <a:pt x="12054" y="350"/>
                      <a:pt x="12019" y="335"/>
                    </a:cubicBezTo>
                    <a:cubicBezTo>
                      <a:pt x="11983" y="321"/>
                      <a:pt x="11945" y="318"/>
                      <a:pt x="11911" y="337"/>
                    </a:cubicBezTo>
                    <a:cubicBezTo>
                      <a:pt x="11905" y="341"/>
                      <a:pt x="11898" y="347"/>
                      <a:pt x="11892" y="354"/>
                    </a:cubicBezTo>
                    <a:cubicBezTo>
                      <a:pt x="11886" y="362"/>
                      <a:pt x="11880" y="370"/>
                      <a:pt x="11874" y="379"/>
                    </a:cubicBezTo>
                    <a:cubicBezTo>
                      <a:pt x="11821" y="471"/>
                      <a:pt x="11843" y="575"/>
                      <a:pt x="11914" y="658"/>
                    </a:cubicBezTo>
                    <a:cubicBezTo>
                      <a:pt x="11985" y="741"/>
                      <a:pt x="12105" y="803"/>
                      <a:pt x="12250" y="812"/>
                    </a:cubicBezTo>
                    <a:cubicBezTo>
                      <a:pt x="12269" y="812"/>
                      <a:pt x="12290" y="812"/>
                      <a:pt x="12311" y="814"/>
                    </a:cubicBezTo>
                    <a:cubicBezTo>
                      <a:pt x="12332" y="816"/>
                      <a:pt x="12352" y="820"/>
                      <a:pt x="12367" y="829"/>
                    </a:cubicBezTo>
                    <a:cubicBezTo>
                      <a:pt x="12380" y="837"/>
                      <a:pt x="12392" y="851"/>
                      <a:pt x="12398" y="864"/>
                    </a:cubicBezTo>
                    <a:cubicBezTo>
                      <a:pt x="12404" y="878"/>
                      <a:pt x="12404" y="892"/>
                      <a:pt x="12392" y="900"/>
                    </a:cubicBezTo>
                    <a:cubicBezTo>
                      <a:pt x="12321" y="888"/>
                      <a:pt x="12253" y="874"/>
                      <a:pt x="12185" y="860"/>
                    </a:cubicBezTo>
                    <a:cubicBezTo>
                      <a:pt x="12117" y="847"/>
                      <a:pt x="12050" y="833"/>
                      <a:pt x="11979" y="820"/>
                    </a:cubicBezTo>
                    <a:cubicBezTo>
                      <a:pt x="11957" y="816"/>
                      <a:pt x="11934" y="812"/>
                      <a:pt x="11912" y="807"/>
                    </a:cubicBezTo>
                    <a:cubicBezTo>
                      <a:pt x="11889" y="801"/>
                      <a:pt x="11868" y="795"/>
                      <a:pt x="11849" y="787"/>
                    </a:cubicBezTo>
                    <a:cubicBezTo>
                      <a:pt x="11828" y="772"/>
                      <a:pt x="11811" y="756"/>
                      <a:pt x="11794" y="741"/>
                    </a:cubicBezTo>
                    <a:cubicBezTo>
                      <a:pt x="11778" y="726"/>
                      <a:pt x="11763" y="711"/>
                      <a:pt x="11744" y="698"/>
                    </a:cubicBezTo>
                    <a:cubicBezTo>
                      <a:pt x="11698" y="650"/>
                      <a:pt x="11636" y="608"/>
                      <a:pt x="11564" y="577"/>
                    </a:cubicBezTo>
                    <a:cubicBezTo>
                      <a:pt x="11491" y="546"/>
                      <a:pt x="11408" y="526"/>
                      <a:pt x="11319" y="522"/>
                    </a:cubicBezTo>
                    <a:cubicBezTo>
                      <a:pt x="11303" y="583"/>
                      <a:pt x="11322" y="644"/>
                      <a:pt x="11362" y="698"/>
                    </a:cubicBezTo>
                    <a:cubicBezTo>
                      <a:pt x="11402" y="753"/>
                      <a:pt x="11463" y="801"/>
                      <a:pt x="11534" y="837"/>
                    </a:cubicBezTo>
                    <a:cubicBezTo>
                      <a:pt x="11605" y="877"/>
                      <a:pt x="11687" y="906"/>
                      <a:pt x="11772" y="930"/>
                    </a:cubicBezTo>
                    <a:cubicBezTo>
                      <a:pt x="11857" y="954"/>
                      <a:pt x="11945" y="972"/>
                      <a:pt x="12028" y="989"/>
                    </a:cubicBezTo>
                    <a:cubicBezTo>
                      <a:pt x="11982" y="1020"/>
                      <a:pt x="11937" y="1060"/>
                      <a:pt x="11915" y="1099"/>
                    </a:cubicBezTo>
                    <a:cubicBezTo>
                      <a:pt x="11892" y="1139"/>
                      <a:pt x="11892" y="1178"/>
                      <a:pt x="11935" y="1207"/>
                    </a:cubicBezTo>
                    <a:lnTo>
                      <a:pt x="11898" y="1262"/>
                    </a:lnTo>
                    <a:cubicBezTo>
                      <a:pt x="11905" y="1319"/>
                      <a:pt x="11914" y="1376"/>
                      <a:pt x="11923" y="1433"/>
                    </a:cubicBezTo>
                    <a:cubicBezTo>
                      <a:pt x="11932" y="1490"/>
                      <a:pt x="11942" y="1548"/>
                      <a:pt x="11948" y="1607"/>
                    </a:cubicBezTo>
                    <a:cubicBezTo>
                      <a:pt x="11871" y="1592"/>
                      <a:pt x="11820" y="1552"/>
                      <a:pt x="11787" y="1503"/>
                    </a:cubicBezTo>
                    <a:cubicBezTo>
                      <a:pt x="11753" y="1453"/>
                      <a:pt x="11738" y="1394"/>
                      <a:pt x="11732" y="1342"/>
                    </a:cubicBezTo>
                    <a:cubicBezTo>
                      <a:pt x="11732" y="1289"/>
                      <a:pt x="11732" y="1229"/>
                      <a:pt x="11717" y="1174"/>
                    </a:cubicBezTo>
                    <a:cubicBezTo>
                      <a:pt x="11703" y="1118"/>
                      <a:pt x="11673" y="1066"/>
                      <a:pt x="11615" y="1031"/>
                    </a:cubicBezTo>
                    <a:cubicBezTo>
                      <a:pt x="11587" y="1062"/>
                      <a:pt x="11570" y="1098"/>
                      <a:pt x="11561" y="1135"/>
                    </a:cubicBezTo>
                    <a:cubicBezTo>
                      <a:pt x="11553" y="1171"/>
                      <a:pt x="11553" y="1209"/>
                      <a:pt x="11559" y="1245"/>
                    </a:cubicBezTo>
                    <a:cubicBezTo>
                      <a:pt x="11522" y="1245"/>
                      <a:pt x="11484" y="1247"/>
                      <a:pt x="11445" y="1252"/>
                    </a:cubicBezTo>
                    <a:cubicBezTo>
                      <a:pt x="11406" y="1258"/>
                      <a:pt x="11368" y="1266"/>
                      <a:pt x="11331" y="1279"/>
                    </a:cubicBezTo>
                    <a:cubicBezTo>
                      <a:pt x="11309" y="1310"/>
                      <a:pt x="11315" y="1352"/>
                      <a:pt x="11315" y="1389"/>
                    </a:cubicBezTo>
                    <a:cubicBezTo>
                      <a:pt x="11315" y="1425"/>
                      <a:pt x="11309" y="1455"/>
                      <a:pt x="11263" y="1464"/>
                    </a:cubicBezTo>
                    <a:cubicBezTo>
                      <a:pt x="11232" y="1468"/>
                      <a:pt x="11203" y="1455"/>
                      <a:pt x="11178" y="1437"/>
                    </a:cubicBezTo>
                    <a:cubicBezTo>
                      <a:pt x="11153" y="1419"/>
                      <a:pt x="11133" y="1394"/>
                      <a:pt x="11121" y="1376"/>
                    </a:cubicBezTo>
                    <a:cubicBezTo>
                      <a:pt x="11109" y="1354"/>
                      <a:pt x="11073" y="1334"/>
                      <a:pt x="11038" y="1326"/>
                    </a:cubicBezTo>
                    <a:cubicBezTo>
                      <a:pt x="11002" y="1317"/>
                      <a:pt x="10967" y="1319"/>
                      <a:pt x="10954" y="1342"/>
                    </a:cubicBezTo>
                    <a:cubicBezTo>
                      <a:pt x="10930" y="1304"/>
                      <a:pt x="10967" y="1254"/>
                      <a:pt x="11029" y="1254"/>
                    </a:cubicBezTo>
                    <a:cubicBezTo>
                      <a:pt x="11072" y="1254"/>
                      <a:pt x="11121" y="1270"/>
                      <a:pt x="11146" y="1254"/>
                    </a:cubicBezTo>
                    <a:cubicBezTo>
                      <a:pt x="11158" y="1245"/>
                      <a:pt x="11158" y="1237"/>
                      <a:pt x="11158" y="1216"/>
                    </a:cubicBezTo>
                    <a:cubicBezTo>
                      <a:pt x="11152" y="1182"/>
                      <a:pt x="11149" y="1148"/>
                      <a:pt x="11141" y="1116"/>
                    </a:cubicBezTo>
                    <a:cubicBezTo>
                      <a:pt x="11133" y="1083"/>
                      <a:pt x="11121" y="1052"/>
                      <a:pt x="11096" y="1022"/>
                    </a:cubicBezTo>
                    <a:cubicBezTo>
                      <a:pt x="11072" y="991"/>
                      <a:pt x="11036" y="964"/>
                      <a:pt x="10994" y="948"/>
                    </a:cubicBezTo>
                    <a:cubicBezTo>
                      <a:pt x="10951" y="932"/>
                      <a:pt x="10902" y="925"/>
                      <a:pt x="10850" y="934"/>
                    </a:cubicBezTo>
                    <a:cubicBezTo>
                      <a:pt x="10843" y="949"/>
                      <a:pt x="10837" y="964"/>
                      <a:pt x="10831" y="980"/>
                    </a:cubicBezTo>
                    <a:cubicBezTo>
                      <a:pt x="10825" y="995"/>
                      <a:pt x="10819" y="1010"/>
                      <a:pt x="10813" y="1022"/>
                    </a:cubicBezTo>
                    <a:cubicBezTo>
                      <a:pt x="10760" y="961"/>
                      <a:pt x="10708" y="900"/>
                      <a:pt x="10658" y="839"/>
                    </a:cubicBezTo>
                    <a:cubicBezTo>
                      <a:pt x="10607" y="777"/>
                      <a:pt x="10560" y="715"/>
                      <a:pt x="10516" y="652"/>
                    </a:cubicBezTo>
                    <a:cubicBezTo>
                      <a:pt x="10464" y="665"/>
                      <a:pt x="10424" y="696"/>
                      <a:pt x="10405" y="732"/>
                    </a:cubicBezTo>
                    <a:cubicBezTo>
                      <a:pt x="10387" y="768"/>
                      <a:pt x="10390" y="808"/>
                      <a:pt x="10424" y="837"/>
                    </a:cubicBezTo>
                    <a:cubicBezTo>
                      <a:pt x="10449" y="867"/>
                      <a:pt x="10498" y="883"/>
                      <a:pt x="10529" y="917"/>
                    </a:cubicBezTo>
                    <a:cubicBezTo>
                      <a:pt x="10578" y="972"/>
                      <a:pt x="10578" y="1039"/>
                      <a:pt x="10529" y="1094"/>
                    </a:cubicBezTo>
                    <a:cubicBezTo>
                      <a:pt x="10507" y="1073"/>
                      <a:pt x="10472" y="1059"/>
                      <a:pt x="10435" y="1055"/>
                    </a:cubicBezTo>
                    <a:cubicBezTo>
                      <a:pt x="10398" y="1052"/>
                      <a:pt x="10359" y="1058"/>
                      <a:pt x="10331" y="1077"/>
                    </a:cubicBezTo>
                    <a:cubicBezTo>
                      <a:pt x="10325" y="1050"/>
                      <a:pt x="10319" y="1025"/>
                      <a:pt x="10314" y="1001"/>
                    </a:cubicBezTo>
                    <a:cubicBezTo>
                      <a:pt x="10310" y="977"/>
                      <a:pt x="10307" y="953"/>
                      <a:pt x="10307" y="925"/>
                    </a:cubicBezTo>
                    <a:cubicBezTo>
                      <a:pt x="10202" y="900"/>
                      <a:pt x="10097" y="892"/>
                      <a:pt x="9998" y="892"/>
                    </a:cubicBezTo>
                    <a:cubicBezTo>
                      <a:pt x="9943" y="892"/>
                      <a:pt x="9881" y="900"/>
                      <a:pt x="9869" y="934"/>
                    </a:cubicBezTo>
                    <a:cubicBezTo>
                      <a:pt x="9847" y="974"/>
                      <a:pt x="9895" y="1005"/>
                      <a:pt x="9943" y="1037"/>
                    </a:cubicBezTo>
                    <a:cubicBezTo>
                      <a:pt x="9992" y="1068"/>
                      <a:pt x="10041" y="1100"/>
                      <a:pt x="10023" y="1140"/>
                    </a:cubicBezTo>
                    <a:cubicBezTo>
                      <a:pt x="9989" y="1157"/>
                      <a:pt x="9952" y="1152"/>
                      <a:pt x="9919" y="1137"/>
                    </a:cubicBezTo>
                    <a:cubicBezTo>
                      <a:pt x="9886" y="1122"/>
                      <a:pt x="9856" y="1098"/>
                      <a:pt x="9838" y="1077"/>
                    </a:cubicBezTo>
                    <a:cubicBezTo>
                      <a:pt x="9816" y="1054"/>
                      <a:pt x="9778" y="1036"/>
                      <a:pt x="9741" y="1031"/>
                    </a:cubicBezTo>
                    <a:cubicBezTo>
                      <a:pt x="9705" y="1025"/>
                      <a:pt x="9671" y="1033"/>
                      <a:pt x="9659" y="1060"/>
                    </a:cubicBezTo>
                    <a:cubicBezTo>
                      <a:pt x="9653" y="1073"/>
                      <a:pt x="9656" y="1083"/>
                      <a:pt x="9663" y="1094"/>
                    </a:cubicBezTo>
                    <a:cubicBezTo>
                      <a:pt x="9671" y="1104"/>
                      <a:pt x="9684" y="1115"/>
                      <a:pt x="9696" y="1127"/>
                    </a:cubicBezTo>
                    <a:cubicBezTo>
                      <a:pt x="9730" y="1155"/>
                      <a:pt x="9765" y="1180"/>
                      <a:pt x="9801" y="1205"/>
                    </a:cubicBezTo>
                    <a:cubicBezTo>
                      <a:pt x="9836" y="1229"/>
                      <a:pt x="9872" y="1254"/>
                      <a:pt x="9906" y="1279"/>
                    </a:cubicBezTo>
                    <a:cubicBezTo>
                      <a:pt x="9872" y="1279"/>
                      <a:pt x="9842" y="1272"/>
                      <a:pt x="9820" y="1260"/>
                    </a:cubicBezTo>
                    <a:cubicBezTo>
                      <a:pt x="9798" y="1248"/>
                      <a:pt x="9782" y="1230"/>
                      <a:pt x="9776" y="1207"/>
                    </a:cubicBezTo>
                    <a:cubicBezTo>
                      <a:pt x="9742" y="1226"/>
                      <a:pt x="9704" y="1231"/>
                      <a:pt x="9665" y="1227"/>
                    </a:cubicBezTo>
                    <a:cubicBezTo>
                      <a:pt x="9626" y="1223"/>
                      <a:pt x="9588" y="1209"/>
                      <a:pt x="9554" y="1190"/>
                    </a:cubicBezTo>
                    <a:cubicBezTo>
                      <a:pt x="9529" y="1174"/>
                      <a:pt x="9511" y="1152"/>
                      <a:pt x="9495" y="1127"/>
                    </a:cubicBezTo>
                    <a:cubicBezTo>
                      <a:pt x="9480" y="1103"/>
                      <a:pt x="9468" y="1077"/>
                      <a:pt x="9455" y="1052"/>
                    </a:cubicBezTo>
                    <a:cubicBezTo>
                      <a:pt x="9403" y="1064"/>
                      <a:pt x="9347" y="1077"/>
                      <a:pt x="9290" y="1087"/>
                    </a:cubicBezTo>
                    <a:cubicBezTo>
                      <a:pt x="9233" y="1098"/>
                      <a:pt x="9175" y="1106"/>
                      <a:pt x="9116" y="1110"/>
                    </a:cubicBezTo>
                    <a:cubicBezTo>
                      <a:pt x="9156" y="1150"/>
                      <a:pt x="9195" y="1190"/>
                      <a:pt x="9235" y="1231"/>
                    </a:cubicBezTo>
                    <a:cubicBezTo>
                      <a:pt x="9275" y="1272"/>
                      <a:pt x="9316" y="1315"/>
                      <a:pt x="9363" y="1359"/>
                    </a:cubicBezTo>
                    <a:cubicBezTo>
                      <a:pt x="9381" y="1376"/>
                      <a:pt x="9397" y="1393"/>
                      <a:pt x="9414" y="1409"/>
                    </a:cubicBezTo>
                    <a:cubicBezTo>
                      <a:pt x="9432" y="1425"/>
                      <a:pt x="9452" y="1439"/>
                      <a:pt x="9480" y="1447"/>
                    </a:cubicBezTo>
                    <a:cubicBezTo>
                      <a:pt x="9539" y="1474"/>
                      <a:pt x="9603" y="1481"/>
                      <a:pt x="9670" y="1477"/>
                    </a:cubicBezTo>
                    <a:cubicBezTo>
                      <a:pt x="9736" y="1473"/>
                      <a:pt x="9804" y="1460"/>
                      <a:pt x="9869" y="1447"/>
                    </a:cubicBezTo>
                    <a:cubicBezTo>
                      <a:pt x="9887" y="1455"/>
                      <a:pt x="9906" y="1466"/>
                      <a:pt x="9925" y="1477"/>
                    </a:cubicBezTo>
                    <a:cubicBezTo>
                      <a:pt x="9944" y="1488"/>
                      <a:pt x="9964" y="1500"/>
                      <a:pt x="9986" y="1510"/>
                    </a:cubicBezTo>
                    <a:cubicBezTo>
                      <a:pt x="10106" y="1495"/>
                      <a:pt x="10231" y="1486"/>
                      <a:pt x="10357" y="1481"/>
                    </a:cubicBezTo>
                    <a:cubicBezTo>
                      <a:pt x="10483" y="1476"/>
                      <a:pt x="10609" y="1476"/>
                      <a:pt x="10732" y="1481"/>
                    </a:cubicBezTo>
                    <a:cubicBezTo>
                      <a:pt x="10825" y="1525"/>
                      <a:pt x="10919" y="1567"/>
                      <a:pt x="11015" y="1607"/>
                    </a:cubicBezTo>
                    <a:cubicBezTo>
                      <a:pt x="11110" y="1647"/>
                      <a:pt x="11207" y="1685"/>
                      <a:pt x="11306" y="1720"/>
                    </a:cubicBezTo>
                    <a:cubicBezTo>
                      <a:pt x="11325" y="1704"/>
                      <a:pt x="11340" y="1686"/>
                      <a:pt x="11356" y="1667"/>
                    </a:cubicBezTo>
                    <a:cubicBezTo>
                      <a:pt x="11371" y="1648"/>
                      <a:pt x="11386" y="1628"/>
                      <a:pt x="11405" y="1607"/>
                    </a:cubicBezTo>
                    <a:cubicBezTo>
                      <a:pt x="11417" y="1668"/>
                      <a:pt x="11431" y="1727"/>
                      <a:pt x="11447" y="1786"/>
                    </a:cubicBezTo>
                    <a:cubicBezTo>
                      <a:pt x="11462" y="1846"/>
                      <a:pt x="11479" y="1906"/>
                      <a:pt x="11497" y="1969"/>
                    </a:cubicBezTo>
                    <a:cubicBezTo>
                      <a:pt x="11510" y="2021"/>
                      <a:pt x="11522" y="2076"/>
                      <a:pt x="11530" y="2132"/>
                    </a:cubicBezTo>
                    <a:cubicBezTo>
                      <a:pt x="11538" y="2187"/>
                      <a:pt x="11541" y="2244"/>
                      <a:pt x="11534" y="2301"/>
                    </a:cubicBezTo>
                    <a:cubicBezTo>
                      <a:pt x="11491" y="2236"/>
                      <a:pt x="11443" y="2171"/>
                      <a:pt x="11395" y="2105"/>
                    </a:cubicBezTo>
                    <a:cubicBezTo>
                      <a:pt x="11346" y="2039"/>
                      <a:pt x="11297" y="1973"/>
                      <a:pt x="11251" y="1906"/>
                    </a:cubicBezTo>
                    <a:cubicBezTo>
                      <a:pt x="11238" y="1889"/>
                      <a:pt x="11226" y="1869"/>
                      <a:pt x="11210" y="1849"/>
                    </a:cubicBezTo>
                    <a:cubicBezTo>
                      <a:pt x="11194" y="1829"/>
                      <a:pt x="11174" y="1809"/>
                      <a:pt x="11146" y="1792"/>
                    </a:cubicBezTo>
                    <a:cubicBezTo>
                      <a:pt x="11109" y="1760"/>
                      <a:pt x="11058" y="1736"/>
                      <a:pt x="11002" y="1716"/>
                    </a:cubicBezTo>
                    <a:cubicBezTo>
                      <a:pt x="10945" y="1696"/>
                      <a:pt x="10884" y="1680"/>
                      <a:pt x="10825" y="1666"/>
                    </a:cubicBezTo>
                    <a:cubicBezTo>
                      <a:pt x="10760" y="1653"/>
                      <a:pt x="10698" y="1638"/>
                      <a:pt x="10637" y="1623"/>
                    </a:cubicBezTo>
                    <a:cubicBezTo>
                      <a:pt x="10575" y="1608"/>
                      <a:pt x="10513" y="1592"/>
                      <a:pt x="10449" y="1577"/>
                    </a:cubicBezTo>
                    <a:cubicBezTo>
                      <a:pt x="10399" y="1615"/>
                      <a:pt x="10486" y="1666"/>
                      <a:pt x="10566" y="1687"/>
                    </a:cubicBezTo>
                    <a:cubicBezTo>
                      <a:pt x="10695" y="1720"/>
                      <a:pt x="10800" y="1784"/>
                      <a:pt x="10874" y="1851"/>
                    </a:cubicBezTo>
                    <a:cubicBezTo>
                      <a:pt x="10961" y="1935"/>
                      <a:pt x="11004" y="2035"/>
                      <a:pt x="11023" y="2139"/>
                    </a:cubicBezTo>
                    <a:cubicBezTo>
                      <a:pt x="11042" y="2243"/>
                      <a:pt x="11038" y="2351"/>
                      <a:pt x="11029" y="2452"/>
                    </a:cubicBezTo>
                    <a:cubicBezTo>
                      <a:pt x="10954" y="2444"/>
                      <a:pt x="10899" y="2381"/>
                      <a:pt x="10899" y="2322"/>
                    </a:cubicBezTo>
                    <a:cubicBezTo>
                      <a:pt x="10899" y="2259"/>
                      <a:pt x="10917" y="2204"/>
                      <a:pt x="10887" y="2154"/>
                    </a:cubicBezTo>
                    <a:cubicBezTo>
                      <a:pt x="10874" y="2118"/>
                      <a:pt x="10850" y="2090"/>
                      <a:pt x="10820" y="2063"/>
                    </a:cubicBezTo>
                    <a:cubicBezTo>
                      <a:pt x="10789" y="2037"/>
                      <a:pt x="10754" y="2013"/>
                      <a:pt x="10720" y="1985"/>
                    </a:cubicBezTo>
                    <a:lnTo>
                      <a:pt x="10399" y="1767"/>
                    </a:lnTo>
                    <a:cubicBezTo>
                      <a:pt x="10399" y="1809"/>
                      <a:pt x="10413" y="1850"/>
                      <a:pt x="10432" y="1890"/>
                    </a:cubicBezTo>
                    <a:cubicBezTo>
                      <a:pt x="10452" y="1931"/>
                      <a:pt x="10476" y="1971"/>
                      <a:pt x="10498" y="2011"/>
                    </a:cubicBezTo>
                    <a:cubicBezTo>
                      <a:pt x="10516" y="2051"/>
                      <a:pt x="10530" y="2095"/>
                      <a:pt x="10530" y="2138"/>
                    </a:cubicBezTo>
                    <a:cubicBezTo>
                      <a:pt x="10529" y="2181"/>
                      <a:pt x="10513" y="2223"/>
                      <a:pt x="10473" y="2259"/>
                    </a:cubicBezTo>
                    <a:cubicBezTo>
                      <a:pt x="10408" y="2242"/>
                      <a:pt x="10364" y="2202"/>
                      <a:pt x="10347" y="2156"/>
                    </a:cubicBezTo>
                    <a:cubicBezTo>
                      <a:pt x="10330" y="2111"/>
                      <a:pt x="10341" y="2059"/>
                      <a:pt x="10387" y="2019"/>
                    </a:cubicBezTo>
                    <a:cubicBezTo>
                      <a:pt x="10313" y="1994"/>
                      <a:pt x="10305" y="1933"/>
                      <a:pt x="10298" y="1872"/>
                    </a:cubicBezTo>
                    <a:cubicBezTo>
                      <a:pt x="10291" y="1812"/>
                      <a:pt x="10285" y="1752"/>
                      <a:pt x="10214" y="1729"/>
                    </a:cubicBezTo>
                    <a:cubicBezTo>
                      <a:pt x="10165" y="1712"/>
                      <a:pt x="10097" y="1729"/>
                      <a:pt x="10035" y="1729"/>
                    </a:cubicBezTo>
                    <a:cubicBezTo>
                      <a:pt x="9943" y="1729"/>
                      <a:pt x="9856" y="1704"/>
                      <a:pt x="9764" y="1695"/>
                    </a:cubicBezTo>
                    <a:cubicBezTo>
                      <a:pt x="9671" y="1687"/>
                      <a:pt x="9554" y="1712"/>
                      <a:pt x="9542" y="1775"/>
                    </a:cubicBezTo>
                    <a:cubicBezTo>
                      <a:pt x="9705" y="1853"/>
                      <a:pt x="9844" y="1954"/>
                      <a:pt x="9950" y="2069"/>
                    </a:cubicBezTo>
                    <a:cubicBezTo>
                      <a:pt x="10057" y="2183"/>
                      <a:pt x="10131" y="2311"/>
                      <a:pt x="10165" y="2444"/>
                    </a:cubicBezTo>
                    <a:cubicBezTo>
                      <a:pt x="10242" y="2448"/>
                      <a:pt x="10316" y="2466"/>
                      <a:pt x="10384" y="2493"/>
                    </a:cubicBezTo>
                    <a:cubicBezTo>
                      <a:pt x="10452" y="2520"/>
                      <a:pt x="10513" y="2555"/>
                      <a:pt x="10566" y="2595"/>
                    </a:cubicBezTo>
                    <a:cubicBezTo>
                      <a:pt x="10501" y="2587"/>
                      <a:pt x="10439" y="2575"/>
                      <a:pt x="10381" y="2560"/>
                    </a:cubicBezTo>
                    <a:cubicBezTo>
                      <a:pt x="10322" y="2544"/>
                      <a:pt x="10267" y="2524"/>
                      <a:pt x="10214" y="2499"/>
                    </a:cubicBezTo>
                    <a:cubicBezTo>
                      <a:pt x="10041" y="2419"/>
                      <a:pt x="9920" y="2306"/>
                      <a:pt x="9803" y="2189"/>
                    </a:cubicBezTo>
                    <a:cubicBezTo>
                      <a:pt x="9687" y="2072"/>
                      <a:pt x="9576" y="1950"/>
                      <a:pt x="9424" y="1851"/>
                    </a:cubicBezTo>
                    <a:cubicBezTo>
                      <a:pt x="9387" y="1830"/>
                      <a:pt x="9346" y="1809"/>
                      <a:pt x="9302" y="1796"/>
                    </a:cubicBezTo>
                    <a:cubicBezTo>
                      <a:pt x="9258" y="1784"/>
                      <a:pt x="9212" y="1779"/>
                      <a:pt x="9165" y="1792"/>
                    </a:cubicBezTo>
                    <a:cubicBezTo>
                      <a:pt x="9252" y="1872"/>
                      <a:pt x="9333" y="1949"/>
                      <a:pt x="9414" y="2025"/>
                    </a:cubicBezTo>
                    <a:cubicBezTo>
                      <a:pt x="9495" y="2102"/>
                      <a:pt x="9576" y="2179"/>
                      <a:pt x="9659" y="2259"/>
                    </a:cubicBezTo>
                    <a:cubicBezTo>
                      <a:pt x="9693" y="2290"/>
                      <a:pt x="9725" y="2323"/>
                      <a:pt x="9754" y="2358"/>
                    </a:cubicBezTo>
                    <a:cubicBezTo>
                      <a:pt x="9782" y="2392"/>
                      <a:pt x="9807" y="2429"/>
                      <a:pt x="9825" y="2469"/>
                    </a:cubicBezTo>
                    <a:cubicBezTo>
                      <a:pt x="9841" y="2509"/>
                      <a:pt x="9858" y="2561"/>
                      <a:pt x="9886" y="2600"/>
                    </a:cubicBezTo>
                    <a:cubicBezTo>
                      <a:pt x="9913" y="2638"/>
                      <a:pt x="9952" y="2665"/>
                      <a:pt x="10011" y="2654"/>
                    </a:cubicBezTo>
                    <a:cubicBezTo>
                      <a:pt x="9955" y="2717"/>
                      <a:pt x="9813" y="2679"/>
                      <a:pt x="9739" y="2629"/>
                    </a:cubicBezTo>
                    <a:cubicBezTo>
                      <a:pt x="9437" y="2423"/>
                      <a:pt x="9400" y="2065"/>
                      <a:pt x="9023" y="1931"/>
                    </a:cubicBezTo>
                    <a:cubicBezTo>
                      <a:pt x="8974" y="1967"/>
                      <a:pt x="8965" y="2016"/>
                      <a:pt x="8976" y="2067"/>
                    </a:cubicBezTo>
                    <a:cubicBezTo>
                      <a:pt x="8986" y="2119"/>
                      <a:pt x="9017" y="2173"/>
                      <a:pt x="9048" y="2217"/>
                    </a:cubicBezTo>
                    <a:cubicBezTo>
                      <a:pt x="9070" y="2238"/>
                      <a:pt x="9087" y="2262"/>
                      <a:pt x="9103" y="2286"/>
                    </a:cubicBezTo>
                    <a:cubicBezTo>
                      <a:pt x="9119" y="2310"/>
                      <a:pt x="9134" y="2335"/>
                      <a:pt x="9153" y="2356"/>
                    </a:cubicBezTo>
                    <a:cubicBezTo>
                      <a:pt x="9165" y="2368"/>
                      <a:pt x="9176" y="2382"/>
                      <a:pt x="9187" y="2396"/>
                    </a:cubicBezTo>
                    <a:cubicBezTo>
                      <a:pt x="9198" y="2409"/>
                      <a:pt x="9208" y="2423"/>
                      <a:pt x="9221" y="2436"/>
                    </a:cubicBezTo>
                    <a:cubicBezTo>
                      <a:pt x="9239" y="2457"/>
                      <a:pt x="9266" y="2477"/>
                      <a:pt x="9293" y="2495"/>
                    </a:cubicBezTo>
                    <a:cubicBezTo>
                      <a:pt x="9321" y="2514"/>
                      <a:pt x="9350" y="2532"/>
                      <a:pt x="9375" y="2549"/>
                    </a:cubicBezTo>
                    <a:cubicBezTo>
                      <a:pt x="9597" y="2692"/>
                      <a:pt x="9764" y="2869"/>
                      <a:pt x="9856" y="3062"/>
                    </a:cubicBezTo>
                    <a:cubicBezTo>
                      <a:pt x="9869" y="3088"/>
                      <a:pt x="9881" y="3113"/>
                      <a:pt x="9869" y="3134"/>
                    </a:cubicBezTo>
                    <a:cubicBezTo>
                      <a:pt x="9853" y="3163"/>
                      <a:pt x="9807" y="3174"/>
                      <a:pt x="9757" y="3169"/>
                    </a:cubicBezTo>
                    <a:cubicBezTo>
                      <a:pt x="9707" y="3164"/>
                      <a:pt x="9653" y="3144"/>
                      <a:pt x="9622" y="3113"/>
                    </a:cubicBezTo>
                    <a:cubicBezTo>
                      <a:pt x="9588" y="3132"/>
                      <a:pt x="9552" y="3150"/>
                      <a:pt x="9515" y="3163"/>
                    </a:cubicBezTo>
                    <a:cubicBezTo>
                      <a:pt x="9478" y="3176"/>
                      <a:pt x="9440" y="3184"/>
                      <a:pt x="9400" y="3184"/>
                    </a:cubicBezTo>
                    <a:cubicBezTo>
                      <a:pt x="9316" y="3188"/>
                      <a:pt x="9239" y="3171"/>
                      <a:pt x="9167" y="3142"/>
                    </a:cubicBezTo>
                    <a:cubicBezTo>
                      <a:pt x="9094" y="3114"/>
                      <a:pt x="9026" y="3075"/>
                      <a:pt x="8962" y="3037"/>
                    </a:cubicBezTo>
                    <a:cubicBezTo>
                      <a:pt x="8897" y="2997"/>
                      <a:pt x="8829" y="2955"/>
                      <a:pt x="8761" y="2913"/>
                    </a:cubicBezTo>
                    <a:cubicBezTo>
                      <a:pt x="8693" y="2871"/>
                      <a:pt x="8625" y="2829"/>
                      <a:pt x="8561" y="2789"/>
                    </a:cubicBezTo>
                    <a:cubicBezTo>
                      <a:pt x="8527" y="2766"/>
                      <a:pt x="8494" y="2746"/>
                      <a:pt x="8465" y="2725"/>
                    </a:cubicBezTo>
                    <a:cubicBezTo>
                      <a:pt x="8436" y="2704"/>
                      <a:pt x="8410" y="2682"/>
                      <a:pt x="8388" y="2654"/>
                    </a:cubicBezTo>
                    <a:cubicBezTo>
                      <a:pt x="8376" y="2642"/>
                      <a:pt x="8363" y="2627"/>
                      <a:pt x="8351" y="2612"/>
                    </a:cubicBezTo>
                    <a:cubicBezTo>
                      <a:pt x="8339" y="2596"/>
                      <a:pt x="8326" y="2581"/>
                      <a:pt x="8314" y="2566"/>
                    </a:cubicBezTo>
                    <a:cubicBezTo>
                      <a:pt x="8302" y="2558"/>
                      <a:pt x="8285" y="2549"/>
                      <a:pt x="8268" y="2541"/>
                    </a:cubicBezTo>
                    <a:cubicBezTo>
                      <a:pt x="8251" y="2532"/>
                      <a:pt x="8234" y="2524"/>
                      <a:pt x="8221" y="2515"/>
                    </a:cubicBezTo>
                    <a:cubicBezTo>
                      <a:pt x="8144" y="2475"/>
                      <a:pt x="8079" y="2427"/>
                      <a:pt x="8026" y="2372"/>
                    </a:cubicBezTo>
                    <a:cubicBezTo>
                      <a:pt x="7973" y="2317"/>
                      <a:pt x="7931" y="2255"/>
                      <a:pt x="7901" y="2187"/>
                    </a:cubicBezTo>
                    <a:cubicBezTo>
                      <a:pt x="7860" y="2175"/>
                      <a:pt x="7808" y="2162"/>
                      <a:pt x="7761" y="2160"/>
                    </a:cubicBezTo>
                    <a:cubicBezTo>
                      <a:pt x="7714" y="2158"/>
                      <a:pt x="7672" y="2166"/>
                      <a:pt x="7654" y="2196"/>
                    </a:cubicBezTo>
                    <a:cubicBezTo>
                      <a:pt x="7641" y="2217"/>
                      <a:pt x="7641" y="2234"/>
                      <a:pt x="7641" y="2250"/>
                    </a:cubicBezTo>
                    <a:cubicBezTo>
                      <a:pt x="7641" y="2490"/>
                      <a:pt x="7759" y="2734"/>
                      <a:pt x="7975" y="2928"/>
                    </a:cubicBezTo>
                    <a:cubicBezTo>
                      <a:pt x="8018" y="2966"/>
                      <a:pt x="8067" y="3008"/>
                      <a:pt x="8055" y="3062"/>
                    </a:cubicBezTo>
                    <a:cubicBezTo>
                      <a:pt x="8036" y="3115"/>
                      <a:pt x="7948" y="3133"/>
                      <a:pt x="7860" y="3151"/>
                    </a:cubicBezTo>
                    <a:cubicBezTo>
                      <a:pt x="7772" y="3168"/>
                      <a:pt x="7685" y="3186"/>
                      <a:pt x="7666" y="3239"/>
                    </a:cubicBezTo>
                    <a:cubicBezTo>
                      <a:pt x="7614" y="3203"/>
                      <a:pt x="7546" y="3179"/>
                      <a:pt x="7473" y="3168"/>
                    </a:cubicBezTo>
                    <a:cubicBezTo>
                      <a:pt x="7401" y="3157"/>
                      <a:pt x="7324" y="3159"/>
                      <a:pt x="7253" y="3176"/>
                    </a:cubicBezTo>
                    <a:cubicBezTo>
                      <a:pt x="7234" y="3123"/>
                      <a:pt x="7202" y="3071"/>
                      <a:pt x="7159" y="3021"/>
                    </a:cubicBezTo>
                    <a:cubicBezTo>
                      <a:pt x="7117" y="2972"/>
                      <a:pt x="7065" y="2926"/>
                      <a:pt x="7006" y="2886"/>
                    </a:cubicBezTo>
                    <a:cubicBezTo>
                      <a:pt x="6975" y="2881"/>
                      <a:pt x="6949" y="2894"/>
                      <a:pt x="6932" y="2913"/>
                    </a:cubicBezTo>
                    <a:cubicBezTo>
                      <a:pt x="6915" y="2933"/>
                      <a:pt x="6907" y="2959"/>
                      <a:pt x="6913" y="2982"/>
                    </a:cubicBezTo>
                    <a:cubicBezTo>
                      <a:pt x="6920" y="3003"/>
                      <a:pt x="6937" y="3025"/>
                      <a:pt x="6949" y="3048"/>
                    </a:cubicBezTo>
                    <a:cubicBezTo>
                      <a:pt x="6961" y="3070"/>
                      <a:pt x="6969" y="3092"/>
                      <a:pt x="6957" y="3113"/>
                    </a:cubicBezTo>
                    <a:cubicBezTo>
                      <a:pt x="6929" y="3104"/>
                      <a:pt x="6896" y="3102"/>
                      <a:pt x="6867" y="3107"/>
                    </a:cubicBezTo>
                    <a:cubicBezTo>
                      <a:pt x="6838" y="3112"/>
                      <a:pt x="6812" y="3123"/>
                      <a:pt x="6796" y="3142"/>
                    </a:cubicBezTo>
                    <a:cubicBezTo>
                      <a:pt x="6784" y="3106"/>
                      <a:pt x="6771" y="3073"/>
                      <a:pt x="6758" y="3040"/>
                    </a:cubicBezTo>
                    <a:cubicBezTo>
                      <a:pt x="6744" y="3007"/>
                      <a:pt x="6728" y="2974"/>
                      <a:pt x="6710" y="2940"/>
                    </a:cubicBezTo>
                    <a:cubicBezTo>
                      <a:pt x="6617" y="2928"/>
                      <a:pt x="6568" y="2999"/>
                      <a:pt x="6556" y="3062"/>
                    </a:cubicBezTo>
                    <a:cubicBezTo>
                      <a:pt x="6543" y="3125"/>
                      <a:pt x="6512" y="3201"/>
                      <a:pt x="6426" y="3214"/>
                    </a:cubicBezTo>
                    <a:cubicBezTo>
                      <a:pt x="6386" y="3222"/>
                      <a:pt x="6357" y="3206"/>
                      <a:pt x="6339" y="3182"/>
                    </a:cubicBezTo>
                    <a:cubicBezTo>
                      <a:pt x="6321" y="3157"/>
                      <a:pt x="6315" y="3123"/>
                      <a:pt x="6321" y="3096"/>
                    </a:cubicBezTo>
                    <a:cubicBezTo>
                      <a:pt x="6321" y="3031"/>
                      <a:pt x="6318" y="2967"/>
                      <a:pt x="6313" y="2902"/>
                    </a:cubicBezTo>
                    <a:cubicBezTo>
                      <a:pt x="6309" y="2838"/>
                      <a:pt x="6303" y="2774"/>
                      <a:pt x="6296" y="2709"/>
                    </a:cubicBezTo>
                    <a:cubicBezTo>
                      <a:pt x="6290" y="2673"/>
                      <a:pt x="6270" y="2629"/>
                      <a:pt x="6239" y="2598"/>
                    </a:cubicBezTo>
                    <a:cubicBezTo>
                      <a:pt x="6207" y="2567"/>
                      <a:pt x="6164" y="2549"/>
                      <a:pt x="6111" y="2566"/>
                    </a:cubicBezTo>
                    <a:cubicBezTo>
                      <a:pt x="6117" y="2545"/>
                      <a:pt x="6102" y="2526"/>
                      <a:pt x="6077" y="2513"/>
                    </a:cubicBezTo>
                    <a:cubicBezTo>
                      <a:pt x="6051" y="2501"/>
                      <a:pt x="6016" y="2494"/>
                      <a:pt x="5982" y="2499"/>
                    </a:cubicBezTo>
                    <a:cubicBezTo>
                      <a:pt x="5957" y="2503"/>
                      <a:pt x="5935" y="2515"/>
                      <a:pt x="5919" y="2533"/>
                    </a:cubicBezTo>
                    <a:cubicBezTo>
                      <a:pt x="5902" y="2550"/>
                      <a:pt x="5889" y="2572"/>
                      <a:pt x="5883" y="2595"/>
                    </a:cubicBezTo>
                    <a:cubicBezTo>
                      <a:pt x="5883" y="2612"/>
                      <a:pt x="5863" y="2624"/>
                      <a:pt x="5837" y="2634"/>
                    </a:cubicBezTo>
                    <a:cubicBezTo>
                      <a:pt x="5811" y="2644"/>
                      <a:pt x="5778" y="2652"/>
                      <a:pt x="5753" y="2663"/>
                    </a:cubicBezTo>
                    <a:cubicBezTo>
                      <a:pt x="5726" y="2671"/>
                      <a:pt x="5696" y="2683"/>
                      <a:pt x="5677" y="2697"/>
                    </a:cubicBezTo>
                    <a:cubicBezTo>
                      <a:pt x="5658" y="2712"/>
                      <a:pt x="5649" y="2730"/>
                      <a:pt x="5661" y="2751"/>
                    </a:cubicBezTo>
                    <a:cubicBezTo>
                      <a:pt x="5649" y="2734"/>
                      <a:pt x="5635" y="2719"/>
                      <a:pt x="5619" y="2707"/>
                    </a:cubicBezTo>
                    <a:cubicBezTo>
                      <a:pt x="5604" y="2694"/>
                      <a:pt x="5587" y="2684"/>
                      <a:pt x="5568" y="2675"/>
                    </a:cubicBezTo>
                    <a:cubicBezTo>
                      <a:pt x="5544" y="2665"/>
                      <a:pt x="5514" y="2662"/>
                      <a:pt x="5490" y="2666"/>
                    </a:cubicBezTo>
                    <a:cubicBezTo>
                      <a:pt x="5465" y="2670"/>
                      <a:pt x="5445" y="2682"/>
                      <a:pt x="5439" y="2701"/>
                    </a:cubicBezTo>
                    <a:cubicBezTo>
                      <a:pt x="5433" y="2726"/>
                      <a:pt x="5420" y="2750"/>
                      <a:pt x="5405" y="2773"/>
                    </a:cubicBezTo>
                    <a:cubicBezTo>
                      <a:pt x="5389" y="2796"/>
                      <a:pt x="5371" y="2818"/>
                      <a:pt x="5352" y="2839"/>
                    </a:cubicBezTo>
                    <a:cubicBezTo>
                      <a:pt x="5325" y="2823"/>
                      <a:pt x="5298" y="2808"/>
                      <a:pt x="5272" y="2793"/>
                    </a:cubicBezTo>
                    <a:cubicBezTo>
                      <a:pt x="5246" y="2777"/>
                      <a:pt x="5220" y="2762"/>
                      <a:pt x="5192" y="2743"/>
                    </a:cubicBezTo>
                    <a:cubicBezTo>
                      <a:pt x="5192" y="2780"/>
                      <a:pt x="5124" y="2797"/>
                      <a:pt x="5075" y="2797"/>
                    </a:cubicBezTo>
                    <a:cubicBezTo>
                      <a:pt x="5019" y="2797"/>
                      <a:pt x="4976" y="2789"/>
                      <a:pt x="4921" y="2797"/>
                    </a:cubicBezTo>
                    <a:cubicBezTo>
                      <a:pt x="4890" y="2801"/>
                      <a:pt x="4863" y="2812"/>
                      <a:pt x="4840" y="2826"/>
                    </a:cubicBezTo>
                    <a:cubicBezTo>
                      <a:pt x="4817" y="2840"/>
                      <a:pt x="4797" y="2858"/>
                      <a:pt x="4779" y="2877"/>
                    </a:cubicBezTo>
                    <a:cubicBezTo>
                      <a:pt x="4757" y="2894"/>
                      <a:pt x="4739" y="2918"/>
                      <a:pt x="4733" y="2940"/>
                    </a:cubicBezTo>
                    <a:cubicBezTo>
                      <a:pt x="4728" y="2962"/>
                      <a:pt x="4735" y="2982"/>
                      <a:pt x="4766" y="2991"/>
                    </a:cubicBezTo>
                    <a:cubicBezTo>
                      <a:pt x="4825" y="3010"/>
                      <a:pt x="4877" y="3038"/>
                      <a:pt x="4917" y="3073"/>
                    </a:cubicBezTo>
                    <a:cubicBezTo>
                      <a:pt x="4956" y="3107"/>
                      <a:pt x="4982" y="3149"/>
                      <a:pt x="4988" y="3193"/>
                    </a:cubicBezTo>
                    <a:cubicBezTo>
                      <a:pt x="4936" y="3197"/>
                      <a:pt x="4884" y="3204"/>
                      <a:pt x="4831" y="3212"/>
                    </a:cubicBezTo>
                    <a:cubicBezTo>
                      <a:pt x="4779" y="3219"/>
                      <a:pt x="4726" y="3226"/>
                      <a:pt x="4674" y="3231"/>
                    </a:cubicBezTo>
                    <a:cubicBezTo>
                      <a:pt x="4649" y="3167"/>
                      <a:pt x="4563" y="3125"/>
                      <a:pt x="4470" y="3134"/>
                    </a:cubicBezTo>
                    <a:cubicBezTo>
                      <a:pt x="4378" y="3142"/>
                      <a:pt x="4304" y="3214"/>
                      <a:pt x="4341" y="3264"/>
                    </a:cubicBezTo>
                    <a:cubicBezTo>
                      <a:pt x="4285" y="3281"/>
                      <a:pt x="4248" y="3218"/>
                      <a:pt x="4248" y="3176"/>
                    </a:cubicBezTo>
                    <a:cubicBezTo>
                      <a:pt x="4248" y="3130"/>
                      <a:pt x="4248" y="3079"/>
                      <a:pt x="4186" y="3071"/>
                    </a:cubicBezTo>
                    <a:cubicBezTo>
                      <a:pt x="4186" y="3083"/>
                      <a:pt x="4186" y="3094"/>
                      <a:pt x="4185" y="3105"/>
                    </a:cubicBezTo>
                    <a:cubicBezTo>
                      <a:pt x="4183" y="3116"/>
                      <a:pt x="4180" y="3127"/>
                      <a:pt x="4174" y="3142"/>
                    </a:cubicBezTo>
                    <a:cubicBezTo>
                      <a:pt x="4146" y="3191"/>
                      <a:pt x="4126" y="3219"/>
                      <a:pt x="4113" y="3235"/>
                    </a:cubicBezTo>
                    <a:cubicBezTo>
                      <a:pt x="4100" y="3252"/>
                      <a:pt x="4094" y="3256"/>
                      <a:pt x="4094" y="3256"/>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67" name="Shape 3620"/>
              <p:cNvSpPr/>
              <p:nvPr/>
            </p:nvSpPr>
            <p:spPr>
              <a:xfrm>
                <a:off x="17035200" y="2555280"/>
                <a:ext cx="49680" cy="54360"/>
              </a:xfrm>
              <a:custGeom>
                <a:avLst/>
                <a:gdLst>
                  <a:gd name="textAreaLeft" fmla="*/ 0 w 49680"/>
                  <a:gd name="textAreaRight" fmla="*/ 50040 w 49680"/>
                  <a:gd name="textAreaTop" fmla="*/ 0 h 54360"/>
                  <a:gd name="textAreaBottom" fmla="*/ 54720 h 54360"/>
                </a:gdLst>
                <a:ahLst/>
                <a:rect l="textAreaLeft" t="textAreaTop" r="textAreaRight" b="textAreaBottom"/>
                <a:pathLst>
                  <a:path w="18820" h="20666">
                    <a:moveTo>
                      <a:pt x="1125" y="13957"/>
                    </a:moveTo>
                    <a:cubicBezTo>
                      <a:pt x="1789" y="14622"/>
                      <a:pt x="2454" y="14954"/>
                      <a:pt x="3118" y="15619"/>
                    </a:cubicBezTo>
                    <a:cubicBezTo>
                      <a:pt x="3783" y="16283"/>
                      <a:pt x="4115" y="17446"/>
                      <a:pt x="3451" y="18111"/>
                    </a:cubicBezTo>
                    <a:cubicBezTo>
                      <a:pt x="2952" y="18443"/>
                      <a:pt x="2121" y="18776"/>
                      <a:pt x="2454" y="19108"/>
                    </a:cubicBezTo>
                    <a:cubicBezTo>
                      <a:pt x="2454" y="19440"/>
                      <a:pt x="2454" y="19440"/>
                      <a:pt x="2786" y="19440"/>
                    </a:cubicBezTo>
                    <a:cubicBezTo>
                      <a:pt x="4281" y="21268"/>
                      <a:pt x="6940" y="20770"/>
                      <a:pt x="8768" y="19773"/>
                    </a:cubicBezTo>
                    <a:cubicBezTo>
                      <a:pt x="10429" y="18610"/>
                      <a:pt x="12921" y="18111"/>
                      <a:pt x="15081" y="18776"/>
                    </a:cubicBezTo>
                    <a:cubicBezTo>
                      <a:pt x="15746" y="19108"/>
                      <a:pt x="16078" y="19440"/>
                      <a:pt x="16743" y="19440"/>
                    </a:cubicBezTo>
                    <a:cubicBezTo>
                      <a:pt x="17740" y="19440"/>
                      <a:pt x="18238" y="18443"/>
                      <a:pt x="18571" y="17446"/>
                    </a:cubicBezTo>
                    <a:cubicBezTo>
                      <a:pt x="18903" y="16616"/>
                      <a:pt x="18903" y="15951"/>
                      <a:pt x="18571" y="15286"/>
                    </a:cubicBezTo>
                    <a:cubicBezTo>
                      <a:pt x="18238" y="14954"/>
                      <a:pt x="17740" y="14954"/>
                      <a:pt x="17075" y="14622"/>
                    </a:cubicBezTo>
                    <a:cubicBezTo>
                      <a:pt x="15414" y="13957"/>
                      <a:pt x="15414" y="11465"/>
                      <a:pt x="15746" y="9305"/>
                    </a:cubicBezTo>
                    <a:cubicBezTo>
                      <a:pt x="14251" y="9970"/>
                      <a:pt x="12257" y="8640"/>
                      <a:pt x="12257" y="6979"/>
                    </a:cubicBezTo>
                    <a:cubicBezTo>
                      <a:pt x="12257" y="6148"/>
                      <a:pt x="12589" y="5483"/>
                      <a:pt x="12921" y="4819"/>
                    </a:cubicBezTo>
                    <a:cubicBezTo>
                      <a:pt x="13254" y="3157"/>
                      <a:pt x="12589" y="1330"/>
                      <a:pt x="10761" y="333"/>
                    </a:cubicBezTo>
                    <a:cubicBezTo>
                      <a:pt x="9100" y="-332"/>
                      <a:pt x="7272" y="0"/>
                      <a:pt x="6275" y="1330"/>
                    </a:cubicBezTo>
                    <a:cubicBezTo>
                      <a:pt x="4281" y="4819"/>
                      <a:pt x="-2697" y="8640"/>
                      <a:pt x="1125" y="13957"/>
                    </a:cubicBezTo>
                  </a:path>
                </a:pathLst>
              </a:custGeom>
              <a:solidFill>
                <a:srgbClr val="929292"/>
              </a:solidFill>
              <a:ln w="12700">
                <a:noFill/>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grpSp>
        <p:nvGrpSpPr>
          <p:cNvPr id="6268" name="Group 3635"/>
          <p:cNvGrpSpPr/>
          <p:nvPr/>
        </p:nvGrpSpPr>
        <p:grpSpPr>
          <a:xfrm>
            <a:off x="20326680" y="5559840"/>
            <a:ext cx="1660680" cy="1250640"/>
            <a:chOff x="20326680" y="5559840"/>
            <a:chExt cx="1660680" cy="1250640"/>
          </a:xfrm>
        </p:grpSpPr>
        <p:sp>
          <p:nvSpPr>
            <p:cNvPr id="6269" name="Shape 3623"/>
            <p:cNvSpPr/>
            <p:nvPr/>
          </p:nvSpPr>
          <p:spPr>
            <a:xfrm>
              <a:off x="21194640" y="5592600"/>
              <a:ext cx="119880" cy="73080"/>
            </a:xfrm>
            <a:custGeom>
              <a:avLst/>
              <a:gdLst>
                <a:gd name="textAreaLeft" fmla="*/ 0 w 119880"/>
                <a:gd name="textAreaRight" fmla="*/ 120240 w 119880"/>
                <a:gd name="textAreaTop" fmla="*/ 0 h 73080"/>
                <a:gd name="textAreaBottom" fmla="*/ 73440 h 73080"/>
              </a:gdLst>
              <a:ahLst/>
              <a:rect l="textAreaLeft" t="textAreaTop" r="textAreaRight" b="textAreaBottom"/>
              <a:pathLst>
                <a:path w="20521" h="21260">
                  <a:moveTo>
                    <a:pt x="3066" y="16702"/>
                  </a:moveTo>
                  <a:cubicBezTo>
                    <a:pt x="3215" y="17456"/>
                    <a:pt x="3215" y="18460"/>
                    <a:pt x="3365" y="19340"/>
                  </a:cubicBezTo>
                  <a:cubicBezTo>
                    <a:pt x="3365" y="19591"/>
                    <a:pt x="3365" y="20093"/>
                    <a:pt x="3514" y="20344"/>
                  </a:cubicBezTo>
                  <a:cubicBezTo>
                    <a:pt x="3739" y="20847"/>
                    <a:pt x="4038" y="20847"/>
                    <a:pt x="4337" y="21098"/>
                  </a:cubicBezTo>
                  <a:cubicBezTo>
                    <a:pt x="5308" y="21600"/>
                    <a:pt x="6280" y="20847"/>
                    <a:pt x="7027" y="20093"/>
                  </a:cubicBezTo>
                  <a:cubicBezTo>
                    <a:pt x="7849" y="19340"/>
                    <a:pt x="8373" y="18209"/>
                    <a:pt x="9344" y="17456"/>
                  </a:cubicBezTo>
                  <a:cubicBezTo>
                    <a:pt x="10316" y="16702"/>
                    <a:pt x="11213" y="16074"/>
                    <a:pt x="12334" y="15572"/>
                  </a:cubicBezTo>
                  <a:cubicBezTo>
                    <a:pt x="13231" y="14819"/>
                    <a:pt x="14202" y="14065"/>
                    <a:pt x="14651" y="12181"/>
                  </a:cubicBezTo>
                  <a:cubicBezTo>
                    <a:pt x="15024" y="10800"/>
                    <a:pt x="15024" y="9293"/>
                    <a:pt x="15622" y="8163"/>
                  </a:cubicBezTo>
                  <a:cubicBezTo>
                    <a:pt x="16220" y="7409"/>
                    <a:pt x="17042" y="7912"/>
                    <a:pt x="17790" y="7660"/>
                  </a:cubicBezTo>
                  <a:cubicBezTo>
                    <a:pt x="18911" y="7409"/>
                    <a:pt x="19509" y="5902"/>
                    <a:pt x="20182" y="4270"/>
                  </a:cubicBezTo>
                  <a:cubicBezTo>
                    <a:pt x="20331" y="3767"/>
                    <a:pt x="20630" y="3265"/>
                    <a:pt x="20481" y="2637"/>
                  </a:cubicBezTo>
                  <a:cubicBezTo>
                    <a:pt x="20331" y="1633"/>
                    <a:pt x="19733" y="1381"/>
                    <a:pt x="19060" y="1130"/>
                  </a:cubicBezTo>
                  <a:cubicBezTo>
                    <a:pt x="18164" y="879"/>
                    <a:pt x="17192" y="0"/>
                    <a:pt x="16071" y="0"/>
                  </a:cubicBezTo>
                  <a:cubicBezTo>
                    <a:pt x="15174" y="0"/>
                    <a:pt x="14053" y="1381"/>
                    <a:pt x="14202" y="3014"/>
                  </a:cubicBezTo>
                  <a:cubicBezTo>
                    <a:pt x="14202" y="3767"/>
                    <a:pt x="14651" y="4521"/>
                    <a:pt x="14352" y="5274"/>
                  </a:cubicBezTo>
                  <a:cubicBezTo>
                    <a:pt x="14202" y="5526"/>
                    <a:pt x="14053" y="5902"/>
                    <a:pt x="13903" y="5902"/>
                  </a:cubicBezTo>
                  <a:cubicBezTo>
                    <a:pt x="13231" y="6405"/>
                    <a:pt x="12483" y="6656"/>
                    <a:pt x="11736" y="6656"/>
                  </a:cubicBezTo>
                  <a:cubicBezTo>
                    <a:pt x="11362" y="6656"/>
                    <a:pt x="10914" y="6405"/>
                    <a:pt x="10615" y="6656"/>
                  </a:cubicBezTo>
                  <a:cubicBezTo>
                    <a:pt x="10316" y="7158"/>
                    <a:pt x="10465" y="8163"/>
                    <a:pt x="10615" y="8791"/>
                  </a:cubicBezTo>
                  <a:cubicBezTo>
                    <a:pt x="10764" y="9042"/>
                    <a:pt x="10764" y="9544"/>
                    <a:pt x="10764" y="9795"/>
                  </a:cubicBezTo>
                  <a:cubicBezTo>
                    <a:pt x="10764" y="10047"/>
                    <a:pt x="10615" y="10047"/>
                    <a:pt x="10465" y="10298"/>
                  </a:cubicBezTo>
                  <a:cubicBezTo>
                    <a:pt x="8223" y="11930"/>
                    <a:pt x="5607" y="11930"/>
                    <a:pt x="3365" y="10047"/>
                  </a:cubicBezTo>
                  <a:cubicBezTo>
                    <a:pt x="2917" y="9795"/>
                    <a:pt x="2618" y="9293"/>
                    <a:pt x="2169" y="9042"/>
                  </a:cubicBezTo>
                  <a:cubicBezTo>
                    <a:pt x="600" y="7912"/>
                    <a:pt x="-970" y="10298"/>
                    <a:pt x="749" y="11930"/>
                  </a:cubicBezTo>
                  <a:cubicBezTo>
                    <a:pt x="1347" y="12433"/>
                    <a:pt x="2169" y="12181"/>
                    <a:pt x="2767" y="13186"/>
                  </a:cubicBezTo>
                  <a:cubicBezTo>
                    <a:pt x="2917" y="14316"/>
                    <a:pt x="3066" y="15572"/>
                    <a:pt x="3066" y="16702"/>
                  </a:cubicBezTo>
                </a:path>
              </a:pathLst>
            </a:custGeom>
            <a:solidFill>
              <a:srgbClr val="d6d6d6"/>
            </a:solidFill>
            <a:ln w="12700">
              <a:noFill/>
            </a:ln>
          </p:spPr>
          <p:style>
            <a:lnRef idx="0"/>
            <a:fillRef idx="0"/>
            <a:effectRef idx="0"/>
            <a:fontRef idx="minor"/>
          </p:style>
          <p:txBody>
            <a:bodyPr numCol="1" spcCol="0" lIns="45720" rIns="45720" tIns="36720" bIns="36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0" name="Shape 3624"/>
            <p:cNvSpPr/>
            <p:nvPr/>
          </p:nvSpPr>
          <p:spPr>
            <a:xfrm>
              <a:off x="20326680" y="5772600"/>
              <a:ext cx="990360" cy="786960"/>
            </a:xfrm>
            <a:custGeom>
              <a:avLst/>
              <a:gdLst>
                <a:gd name="textAreaLeft" fmla="*/ 0 w 990360"/>
                <a:gd name="textAreaRight" fmla="*/ 990720 w 990360"/>
                <a:gd name="textAreaTop" fmla="*/ 0 h 786960"/>
                <a:gd name="textAreaBottom" fmla="*/ 787320 h 786960"/>
              </a:gdLst>
              <a:ahLst/>
              <a:rect l="textAreaLeft" t="textAreaTop" r="textAreaRight" b="textAreaBottom"/>
              <a:pathLst>
                <a:path w="21543" h="21539">
                  <a:moveTo>
                    <a:pt x="6764" y="2104"/>
                  </a:moveTo>
                  <a:cubicBezTo>
                    <a:pt x="6584" y="1984"/>
                    <a:pt x="6347" y="2259"/>
                    <a:pt x="6404" y="2509"/>
                  </a:cubicBezTo>
                  <a:cubicBezTo>
                    <a:pt x="6101" y="2509"/>
                    <a:pt x="5911" y="2974"/>
                    <a:pt x="6044" y="3308"/>
                  </a:cubicBezTo>
                  <a:cubicBezTo>
                    <a:pt x="5987" y="3379"/>
                    <a:pt x="5930" y="3427"/>
                    <a:pt x="5864" y="3498"/>
                  </a:cubicBezTo>
                  <a:lnTo>
                    <a:pt x="6167" y="3880"/>
                  </a:lnTo>
                  <a:cubicBezTo>
                    <a:pt x="5949" y="3904"/>
                    <a:pt x="5750" y="3880"/>
                    <a:pt x="5532" y="3832"/>
                  </a:cubicBezTo>
                  <a:cubicBezTo>
                    <a:pt x="5627" y="3999"/>
                    <a:pt x="5608" y="4249"/>
                    <a:pt x="5514" y="4404"/>
                  </a:cubicBezTo>
                  <a:cubicBezTo>
                    <a:pt x="5371" y="4059"/>
                    <a:pt x="5049" y="3808"/>
                    <a:pt x="4737" y="3808"/>
                  </a:cubicBezTo>
                  <a:cubicBezTo>
                    <a:pt x="4737" y="4202"/>
                    <a:pt x="4756" y="4607"/>
                    <a:pt x="4775" y="5024"/>
                  </a:cubicBezTo>
                  <a:cubicBezTo>
                    <a:pt x="4699" y="5024"/>
                    <a:pt x="4614" y="5024"/>
                    <a:pt x="4538" y="5060"/>
                  </a:cubicBezTo>
                  <a:cubicBezTo>
                    <a:pt x="4452" y="5310"/>
                    <a:pt x="4358" y="5561"/>
                    <a:pt x="4272" y="5799"/>
                  </a:cubicBezTo>
                  <a:cubicBezTo>
                    <a:pt x="4197" y="5859"/>
                    <a:pt x="4083" y="5835"/>
                    <a:pt x="3998" y="5751"/>
                  </a:cubicBezTo>
                  <a:cubicBezTo>
                    <a:pt x="3903" y="6026"/>
                    <a:pt x="3657" y="6204"/>
                    <a:pt x="3420" y="6228"/>
                  </a:cubicBezTo>
                  <a:cubicBezTo>
                    <a:pt x="3183" y="6276"/>
                    <a:pt x="2946" y="6228"/>
                    <a:pt x="2709" y="6157"/>
                  </a:cubicBezTo>
                  <a:lnTo>
                    <a:pt x="2643" y="6610"/>
                  </a:lnTo>
                  <a:lnTo>
                    <a:pt x="1752" y="6681"/>
                  </a:lnTo>
                  <a:cubicBezTo>
                    <a:pt x="1658" y="6681"/>
                    <a:pt x="1535" y="6705"/>
                    <a:pt x="1440" y="6729"/>
                  </a:cubicBezTo>
                  <a:cubicBezTo>
                    <a:pt x="1241" y="6824"/>
                    <a:pt x="1061" y="7051"/>
                    <a:pt x="1042" y="7325"/>
                  </a:cubicBezTo>
                  <a:cubicBezTo>
                    <a:pt x="815" y="7408"/>
                    <a:pt x="597" y="7456"/>
                    <a:pt x="360" y="7528"/>
                  </a:cubicBezTo>
                  <a:cubicBezTo>
                    <a:pt x="322" y="7551"/>
                    <a:pt x="265" y="7551"/>
                    <a:pt x="246" y="7611"/>
                  </a:cubicBezTo>
                  <a:cubicBezTo>
                    <a:pt x="199" y="7659"/>
                    <a:pt x="180" y="7730"/>
                    <a:pt x="180" y="7778"/>
                  </a:cubicBezTo>
                  <a:cubicBezTo>
                    <a:pt x="142" y="8004"/>
                    <a:pt x="104" y="8255"/>
                    <a:pt x="66" y="8481"/>
                  </a:cubicBezTo>
                  <a:cubicBezTo>
                    <a:pt x="0" y="8886"/>
                    <a:pt x="-57" y="9328"/>
                    <a:pt x="104" y="9685"/>
                  </a:cubicBezTo>
                  <a:cubicBezTo>
                    <a:pt x="142" y="9781"/>
                    <a:pt x="199" y="9864"/>
                    <a:pt x="199" y="9959"/>
                  </a:cubicBezTo>
                  <a:cubicBezTo>
                    <a:pt x="199" y="10067"/>
                    <a:pt x="142" y="10126"/>
                    <a:pt x="123" y="10210"/>
                  </a:cubicBezTo>
                  <a:cubicBezTo>
                    <a:pt x="66" y="10484"/>
                    <a:pt x="379" y="10782"/>
                    <a:pt x="265" y="11056"/>
                  </a:cubicBezTo>
                  <a:cubicBezTo>
                    <a:pt x="227" y="11128"/>
                    <a:pt x="161" y="11187"/>
                    <a:pt x="123" y="11283"/>
                  </a:cubicBezTo>
                  <a:cubicBezTo>
                    <a:pt x="66" y="11461"/>
                    <a:pt x="170" y="11628"/>
                    <a:pt x="265" y="11807"/>
                  </a:cubicBezTo>
                  <a:cubicBezTo>
                    <a:pt x="369" y="11986"/>
                    <a:pt x="360" y="12260"/>
                    <a:pt x="227" y="12284"/>
                  </a:cubicBezTo>
                  <a:cubicBezTo>
                    <a:pt x="445" y="12308"/>
                    <a:pt x="559" y="12582"/>
                    <a:pt x="644" y="12832"/>
                  </a:cubicBezTo>
                  <a:cubicBezTo>
                    <a:pt x="843" y="13512"/>
                    <a:pt x="957" y="14227"/>
                    <a:pt x="976" y="14978"/>
                  </a:cubicBezTo>
                  <a:cubicBezTo>
                    <a:pt x="1260" y="15335"/>
                    <a:pt x="1260" y="15860"/>
                    <a:pt x="1260" y="16337"/>
                  </a:cubicBezTo>
                  <a:cubicBezTo>
                    <a:pt x="1080" y="16480"/>
                    <a:pt x="900" y="16635"/>
                    <a:pt x="720" y="16814"/>
                  </a:cubicBezTo>
                  <a:cubicBezTo>
                    <a:pt x="1014" y="17255"/>
                    <a:pt x="1392" y="17588"/>
                    <a:pt x="1828" y="17779"/>
                  </a:cubicBezTo>
                  <a:cubicBezTo>
                    <a:pt x="1932" y="17839"/>
                    <a:pt x="2056" y="17863"/>
                    <a:pt x="2150" y="17863"/>
                  </a:cubicBezTo>
                  <a:cubicBezTo>
                    <a:pt x="2510" y="17803"/>
                    <a:pt x="2804" y="17207"/>
                    <a:pt x="3126" y="17433"/>
                  </a:cubicBezTo>
                  <a:cubicBezTo>
                    <a:pt x="3069" y="17255"/>
                    <a:pt x="3221" y="17088"/>
                    <a:pt x="3344" y="17004"/>
                  </a:cubicBezTo>
                  <a:cubicBezTo>
                    <a:pt x="3638" y="16837"/>
                    <a:pt x="3979" y="16814"/>
                    <a:pt x="4272" y="16909"/>
                  </a:cubicBezTo>
                  <a:cubicBezTo>
                    <a:pt x="4538" y="16981"/>
                    <a:pt x="4794" y="17159"/>
                    <a:pt x="5049" y="17088"/>
                  </a:cubicBezTo>
                  <a:cubicBezTo>
                    <a:pt x="5315" y="17028"/>
                    <a:pt x="5532" y="16587"/>
                    <a:pt x="5315" y="16361"/>
                  </a:cubicBezTo>
                  <a:cubicBezTo>
                    <a:pt x="5532" y="15955"/>
                    <a:pt x="5968" y="15812"/>
                    <a:pt x="6300" y="15979"/>
                  </a:cubicBezTo>
                  <a:cubicBezTo>
                    <a:pt x="6423" y="15753"/>
                    <a:pt x="6622" y="15610"/>
                    <a:pt x="6840" y="15562"/>
                  </a:cubicBezTo>
                  <a:cubicBezTo>
                    <a:pt x="7238" y="15538"/>
                    <a:pt x="7617" y="15407"/>
                    <a:pt x="7996" y="15288"/>
                  </a:cubicBezTo>
                  <a:cubicBezTo>
                    <a:pt x="8214" y="15204"/>
                    <a:pt x="8412" y="15157"/>
                    <a:pt x="8611" y="15002"/>
                  </a:cubicBezTo>
                  <a:cubicBezTo>
                    <a:pt x="8649" y="15181"/>
                    <a:pt x="8848" y="15181"/>
                    <a:pt x="8990" y="15157"/>
                  </a:cubicBezTo>
                  <a:cubicBezTo>
                    <a:pt x="9426" y="15085"/>
                    <a:pt x="9881" y="15109"/>
                    <a:pt x="10298" y="15228"/>
                  </a:cubicBezTo>
                  <a:cubicBezTo>
                    <a:pt x="10478" y="15288"/>
                    <a:pt x="10696" y="15431"/>
                    <a:pt x="10639" y="15657"/>
                  </a:cubicBezTo>
                  <a:cubicBezTo>
                    <a:pt x="11037" y="15538"/>
                    <a:pt x="11472" y="16063"/>
                    <a:pt x="11397" y="16563"/>
                  </a:cubicBezTo>
                  <a:cubicBezTo>
                    <a:pt x="11548" y="16587"/>
                    <a:pt x="11652" y="16814"/>
                    <a:pt x="11690" y="17028"/>
                  </a:cubicBezTo>
                  <a:cubicBezTo>
                    <a:pt x="11728" y="17231"/>
                    <a:pt x="11747" y="17493"/>
                    <a:pt x="11889" y="17612"/>
                  </a:cubicBezTo>
                  <a:cubicBezTo>
                    <a:pt x="12031" y="17743"/>
                    <a:pt x="12287" y="17612"/>
                    <a:pt x="12230" y="17410"/>
                  </a:cubicBezTo>
                  <a:cubicBezTo>
                    <a:pt x="12164" y="17004"/>
                    <a:pt x="12505" y="16611"/>
                    <a:pt x="12827" y="16730"/>
                  </a:cubicBezTo>
                  <a:cubicBezTo>
                    <a:pt x="12780" y="16504"/>
                    <a:pt x="12922" y="16230"/>
                    <a:pt x="13121" y="16206"/>
                  </a:cubicBezTo>
                  <a:cubicBezTo>
                    <a:pt x="13263" y="16337"/>
                    <a:pt x="13244" y="16611"/>
                    <a:pt x="13159" y="16778"/>
                  </a:cubicBezTo>
                  <a:cubicBezTo>
                    <a:pt x="13083" y="16957"/>
                    <a:pt x="12960" y="17112"/>
                    <a:pt x="12884" y="17302"/>
                  </a:cubicBezTo>
                  <a:cubicBezTo>
                    <a:pt x="12761" y="17612"/>
                    <a:pt x="12827" y="18006"/>
                    <a:pt x="13026" y="18256"/>
                  </a:cubicBezTo>
                  <a:cubicBezTo>
                    <a:pt x="13083" y="18053"/>
                    <a:pt x="13121" y="17863"/>
                    <a:pt x="13102" y="17660"/>
                  </a:cubicBezTo>
                  <a:cubicBezTo>
                    <a:pt x="13178" y="17636"/>
                    <a:pt x="13263" y="17588"/>
                    <a:pt x="13301" y="17505"/>
                  </a:cubicBezTo>
                  <a:cubicBezTo>
                    <a:pt x="13443" y="17684"/>
                    <a:pt x="13481" y="17982"/>
                    <a:pt x="13377" y="18208"/>
                  </a:cubicBezTo>
                  <a:cubicBezTo>
                    <a:pt x="13538" y="18304"/>
                    <a:pt x="13642" y="18506"/>
                    <a:pt x="13680" y="18733"/>
                  </a:cubicBezTo>
                  <a:cubicBezTo>
                    <a:pt x="13775" y="18804"/>
                    <a:pt x="13812" y="18959"/>
                    <a:pt x="13841" y="19079"/>
                  </a:cubicBezTo>
                  <a:cubicBezTo>
                    <a:pt x="13898" y="19007"/>
                    <a:pt x="14002" y="19067"/>
                    <a:pt x="14040" y="19162"/>
                  </a:cubicBezTo>
                  <a:cubicBezTo>
                    <a:pt x="14087" y="19269"/>
                    <a:pt x="14078" y="19353"/>
                    <a:pt x="14078" y="19460"/>
                  </a:cubicBezTo>
                  <a:cubicBezTo>
                    <a:pt x="14097" y="19710"/>
                    <a:pt x="14191" y="19937"/>
                    <a:pt x="14334" y="20080"/>
                  </a:cubicBezTo>
                  <a:lnTo>
                    <a:pt x="14514" y="20235"/>
                  </a:lnTo>
                  <a:cubicBezTo>
                    <a:pt x="14608" y="20306"/>
                    <a:pt x="14731" y="20390"/>
                    <a:pt x="14826" y="20461"/>
                  </a:cubicBezTo>
                  <a:cubicBezTo>
                    <a:pt x="15110" y="20628"/>
                    <a:pt x="15404" y="20831"/>
                    <a:pt x="15688" y="21010"/>
                  </a:cubicBezTo>
                  <a:cubicBezTo>
                    <a:pt x="15726" y="21033"/>
                    <a:pt x="15764" y="21057"/>
                    <a:pt x="15802" y="21033"/>
                  </a:cubicBezTo>
                  <a:cubicBezTo>
                    <a:pt x="15840" y="21010"/>
                    <a:pt x="15868" y="20986"/>
                    <a:pt x="15906" y="20962"/>
                  </a:cubicBezTo>
                  <a:cubicBezTo>
                    <a:pt x="15982" y="20938"/>
                    <a:pt x="16039" y="21033"/>
                    <a:pt x="16105" y="21105"/>
                  </a:cubicBezTo>
                  <a:cubicBezTo>
                    <a:pt x="16200" y="21212"/>
                    <a:pt x="16380" y="21165"/>
                    <a:pt x="16456" y="21033"/>
                  </a:cubicBezTo>
                  <a:cubicBezTo>
                    <a:pt x="16560" y="20914"/>
                    <a:pt x="16598" y="20735"/>
                    <a:pt x="16636" y="20581"/>
                  </a:cubicBezTo>
                  <a:cubicBezTo>
                    <a:pt x="16939" y="20664"/>
                    <a:pt x="17195" y="20855"/>
                    <a:pt x="17356" y="21188"/>
                  </a:cubicBezTo>
                  <a:cubicBezTo>
                    <a:pt x="17375" y="21129"/>
                    <a:pt x="17412" y="21105"/>
                    <a:pt x="17431" y="21057"/>
                  </a:cubicBezTo>
                  <a:cubicBezTo>
                    <a:pt x="17431" y="21188"/>
                    <a:pt x="17450" y="21284"/>
                    <a:pt x="17498" y="21379"/>
                  </a:cubicBezTo>
                  <a:cubicBezTo>
                    <a:pt x="17536" y="21486"/>
                    <a:pt x="17630" y="21558"/>
                    <a:pt x="17735" y="21534"/>
                  </a:cubicBezTo>
                  <a:cubicBezTo>
                    <a:pt x="17754" y="21379"/>
                    <a:pt x="17791" y="21236"/>
                    <a:pt x="17810" y="21081"/>
                  </a:cubicBezTo>
                  <a:cubicBezTo>
                    <a:pt x="17810" y="21033"/>
                    <a:pt x="17829" y="21010"/>
                    <a:pt x="17829" y="20962"/>
                  </a:cubicBezTo>
                  <a:cubicBezTo>
                    <a:pt x="17886" y="20735"/>
                    <a:pt x="18066" y="20557"/>
                    <a:pt x="18246" y="20485"/>
                  </a:cubicBezTo>
                  <a:cubicBezTo>
                    <a:pt x="18426" y="20390"/>
                    <a:pt x="18625" y="20390"/>
                    <a:pt x="18824" y="20354"/>
                  </a:cubicBezTo>
                  <a:cubicBezTo>
                    <a:pt x="18900" y="20354"/>
                    <a:pt x="18985" y="20330"/>
                    <a:pt x="19061" y="20330"/>
                  </a:cubicBezTo>
                  <a:cubicBezTo>
                    <a:pt x="19203" y="20306"/>
                    <a:pt x="19364" y="20306"/>
                    <a:pt x="19497" y="20283"/>
                  </a:cubicBezTo>
                  <a:cubicBezTo>
                    <a:pt x="19572" y="20092"/>
                    <a:pt x="19648" y="19889"/>
                    <a:pt x="19696" y="19675"/>
                  </a:cubicBezTo>
                  <a:cubicBezTo>
                    <a:pt x="19667" y="19651"/>
                    <a:pt x="19610" y="19341"/>
                    <a:pt x="19544" y="19460"/>
                  </a:cubicBezTo>
                  <a:cubicBezTo>
                    <a:pt x="19478" y="19460"/>
                    <a:pt x="19459" y="19353"/>
                    <a:pt x="19478" y="19281"/>
                  </a:cubicBezTo>
                  <a:cubicBezTo>
                    <a:pt x="19497" y="19233"/>
                    <a:pt x="19544" y="19186"/>
                    <a:pt x="19563" y="19138"/>
                  </a:cubicBezTo>
                  <a:cubicBezTo>
                    <a:pt x="19677" y="18959"/>
                    <a:pt x="19743" y="18733"/>
                    <a:pt x="19781" y="18506"/>
                  </a:cubicBezTo>
                  <a:cubicBezTo>
                    <a:pt x="19781" y="18483"/>
                    <a:pt x="19800" y="18435"/>
                    <a:pt x="19781" y="18411"/>
                  </a:cubicBezTo>
                  <a:cubicBezTo>
                    <a:pt x="19781" y="18387"/>
                    <a:pt x="19762" y="18387"/>
                    <a:pt x="19743" y="18363"/>
                  </a:cubicBezTo>
                  <a:cubicBezTo>
                    <a:pt x="19696" y="18304"/>
                    <a:pt x="19762" y="18208"/>
                    <a:pt x="19800" y="18184"/>
                  </a:cubicBezTo>
                  <a:cubicBezTo>
                    <a:pt x="19838" y="18137"/>
                    <a:pt x="19914" y="18113"/>
                    <a:pt x="19914" y="18030"/>
                  </a:cubicBezTo>
                  <a:lnTo>
                    <a:pt x="19914" y="17910"/>
                  </a:lnTo>
                  <a:cubicBezTo>
                    <a:pt x="19914" y="17803"/>
                    <a:pt x="19999" y="17732"/>
                    <a:pt x="20037" y="17660"/>
                  </a:cubicBezTo>
                  <a:cubicBezTo>
                    <a:pt x="20094" y="17588"/>
                    <a:pt x="20141" y="17481"/>
                    <a:pt x="20094" y="17386"/>
                  </a:cubicBezTo>
                  <a:cubicBezTo>
                    <a:pt x="19980" y="17362"/>
                    <a:pt x="19914" y="17219"/>
                    <a:pt x="19895" y="17088"/>
                  </a:cubicBezTo>
                  <a:cubicBezTo>
                    <a:pt x="19876" y="16969"/>
                    <a:pt x="19914" y="16814"/>
                    <a:pt x="19961" y="16659"/>
                  </a:cubicBezTo>
                  <a:cubicBezTo>
                    <a:pt x="19961" y="16635"/>
                    <a:pt x="19961" y="16635"/>
                    <a:pt x="19980" y="16611"/>
                  </a:cubicBezTo>
                  <a:cubicBezTo>
                    <a:pt x="19999" y="16587"/>
                    <a:pt x="20018" y="16635"/>
                    <a:pt x="20037" y="16659"/>
                  </a:cubicBezTo>
                  <a:cubicBezTo>
                    <a:pt x="20094" y="16730"/>
                    <a:pt x="20179" y="16683"/>
                    <a:pt x="20236" y="16635"/>
                  </a:cubicBezTo>
                  <a:cubicBezTo>
                    <a:pt x="20292" y="16587"/>
                    <a:pt x="20378" y="16504"/>
                    <a:pt x="20435" y="16528"/>
                  </a:cubicBezTo>
                  <a:cubicBezTo>
                    <a:pt x="20472" y="16432"/>
                    <a:pt x="20529" y="16337"/>
                    <a:pt x="20596" y="16230"/>
                  </a:cubicBezTo>
                  <a:cubicBezTo>
                    <a:pt x="20577" y="16134"/>
                    <a:pt x="20491" y="16063"/>
                    <a:pt x="20472" y="15955"/>
                  </a:cubicBezTo>
                  <a:cubicBezTo>
                    <a:pt x="20615" y="15932"/>
                    <a:pt x="20757" y="15884"/>
                    <a:pt x="20870" y="15788"/>
                  </a:cubicBezTo>
                  <a:cubicBezTo>
                    <a:pt x="20994" y="15681"/>
                    <a:pt x="21050" y="15455"/>
                    <a:pt x="20994" y="15312"/>
                  </a:cubicBezTo>
                  <a:cubicBezTo>
                    <a:pt x="21230" y="14954"/>
                    <a:pt x="21069" y="14406"/>
                    <a:pt x="21230" y="13977"/>
                  </a:cubicBezTo>
                  <a:cubicBezTo>
                    <a:pt x="21306" y="13905"/>
                    <a:pt x="21391" y="13857"/>
                    <a:pt x="21467" y="13786"/>
                  </a:cubicBezTo>
                  <a:cubicBezTo>
                    <a:pt x="21410" y="13607"/>
                    <a:pt x="21448" y="13404"/>
                    <a:pt x="21543" y="13285"/>
                  </a:cubicBezTo>
                  <a:cubicBezTo>
                    <a:pt x="21486" y="13130"/>
                    <a:pt x="21467" y="12987"/>
                    <a:pt x="21467" y="12808"/>
                  </a:cubicBezTo>
                  <a:cubicBezTo>
                    <a:pt x="21467" y="12761"/>
                    <a:pt x="21467" y="12677"/>
                    <a:pt x="21448" y="12630"/>
                  </a:cubicBezTo>
                  <a:cubicBezTo>
                    <a:pt x="21429" y="12308"/>
                    <a:pt x="21410" y="12010"/>
                    <a:pt x="21391" y="11676"/>
                  </a:cubicBezTo>
                  <a:cubicBezTo>
                    <a:pt x="21354" y="11628"/>
                    <a:pt x="21287" y="11628"/>
                    <a:pt x="21230" y="11676"/>
                  </a:cubicBezTo>
                  <a:cubicBezTo>
                    <a:pt x="21155" y="11378"/>
                    <a:pt x="21107" y="11056"/>
                    <a:pt x="21126" y="10734"/>
                  </a:cubicBezTo>
                  <a:cubicBezTo>
                    <a:pt x="21126" y="10651"/>
                    <a:pt x="21155" y="10555"/>
                    <a:pt x="21107" y="10484"/>
                  </a:cubicBezTo>
                  <a:cubicBezTo>
                    <a:pt x="21088" y="10436"/>
                    <a:pt x="21031" y="10400"/>
                    <a:pt x="21012" y="10353"/>
                  </a:cubicBezTo>
                  <a:cubicBezTo>
                    <a:pt x="20814" y="10126"/>
                    <a:pt x="20927" y="9602"/>
                    <a:pt x="20709" y="9435"/>
                  </a:cubicBezTo>
                  <a:cubicBezTo>
                    <a:pt x="20652" y="9375"/>
                    <a:pt x="20596" y="9375"/>
                    <a:pt x="20529" y="9351"/>
                  </a:cubicBezTo>
                  <a:cubicBezTo>
                    <a:pt x="20236" y="9256"/>
                    <a:pt x="19999" y="8886"/>
                    <a:pt x="19980" y="8481"/>
                  </a:cubicBezTo>
                  <a:cubicBezTo>
                    <a:pt x="19838" y="8386"/>
                    <a:pt x="19677" y="8279"/>
                    <a:pt x="19544" y="8207"/>
                  </a:cubicBezTo>
                  <a:cubicBezTo>
                    <a:pt x="19364" y="8076"/>
                    <a:pt x="19184" y="7981"/>
                    <a:pt x="19061" y="7778"/>
                  </a:cubicBezTo>
                  <a:cubicBezTo>
                    <a:pt x="18947" y="7575"/>
                    <a:pt x="18881" y="7301"/>
                    <a:pt x="18985" y="7110"/>
                  </a:cubicBezTo>
                  <a:cubicBezTo>
                    <a:pt x="19004" y="7051"/>
                    <a:pt x="19042" y="7003"/>
                    <a:pt x="19042" y="6932"/>
                  </a:cubicBezTo>
                  <a:cubicBezTo>
                    <a:pt x="19042" y="6860"/>
                    <a:pt x="19023" y="6777"/>
                    <a:pt x="18985" y="6729"/>
                  </a:cubicBezTo>
                  <a:cubicBezTo>
                    <a:pt x="18862" y="6526"/>
                    <a:pt x="18682" y="6383"/>
                    <a:pt x="18483" y="6335"/>
                  </a:cubicBezTo>
                  <a:cubicBezTo>
                    <a:pt x="18568" y="6133"/>
                    <a:pt x="18331" y="5978"/>
                    <a:pt x="18170" y="5954"/>
                  </a:cubicBezTo>
                  <a:cubicBezTo>
                    <a:pt x="18009" y="5930"/>
                    <a:pt x="17772" y="5799"/>
                    <a:pt x="17829" y="5608"/>
                  </a:cubicBezTo>
                  <a:cubicBezTo>
                    <a:pt x="17517" y="5477"/>
                    <a:pt x="17375" y="5000"/>
                    <a:pt x="17270" y="4607"/>
                  </a:cubicBezTo>
                  <a:cubicBezTo>
                    <a:pt x="17138" y="3999"/>
                    <a:pt x="16996" y="3284"/>
                    <a:pt x="17299" y="2759"/>
                  </a:cubicBezTo>
                  <a:cubicBezTo>
                    <a:pt x="17214" y="2807"/>
                    <a:pt x="17138" y="2700"/>
                    <a:pt x="17119" y="2604"/>
                  </a:cubicBezTo>
                  <a:cubicBezTo>
                    <a:pt x="17100" y="2509"/>
                    <a:pt x="17071" y="2378"/>
                    <a:pt x="17015" y="2330"/>
                  </a:cubicBezTo>
                  <a:cubicBezTo>
                    <a:pt x="16977" y="2306"/>
                    <a:pt x="16920" y="2283"/>
                    <a:pt x="16882" y="2283"/>
                  </a:cubicBezTo>
                  <a:cubicBezTo>
                    <a:pt x="16702" y="2259"/>
                    <a:pt x="16522" y="2235"/>
                    <a:pt x="16361" y="2199"/>
                  </a:cubicBezTo>
                  <a:cubicBezTo>
                    <a:pt x="16124" y="1627"/>
                    <a:pt x="15982" y="983"/>
                    <a:pt x="16001" y="328"/>
                  </a:cubicBezTo>
                  <a:cubicBezTo>
                    <a:pt x="15906" y="208"/>
                    <a:pt x="15783" y="101"/>
                    <a:pt x="15669" y="53"/>
                  </a:cubicBezTo>
                  <a:cubicBezTo>
                    <a:pt x="15527" y="6"/>
                    <a:pt x="15366" y="53"/>
                    <a:pt x="15290" y="173"/>
                  </a:cubicBezTo>
                  <a:cubicBezTo>
                    <a:pt x="15148" y="423"/>
                    <a:pt x="15347" y="852"/>
                    <a:pt x="15186" y="1102"/>
                  </a:cubicBezTo>
                  <a:cubicBezTo>
                    <a:pt x="15129" y="1198"/>
                    <a:pt x="15025" y="1281"/>
                    <a:pt x="15054" y="1377"/>
                  </a:cubicBezTo>
                  <a:cubicBezTo>
                    <a:pt x="15054" y="1448"/>
                    <a:pt x="15110" y="1484"/>
                    <a:pt x="15129" y="1555"/>
                  </a:cubicBezTo>
                  <a:cubicBezTo>
                    <a:pt x="15186" y="1675"/>
                    <a:pt x="15110" y="1830"/>
                    <a:pt x="15091" y="1949"/>
                  </a:cubicBezTo>
                  <a:cubicBezTo>
                    <a:pt x="15054" y="2080"/>
                    <a:pt x="15110" y="2283"/>
                    <a:pt x="15205" y="2259"/>
                  </a:cubicBezTo>
                  <a:cubicBezTo>
                    <a:pt x="15025" y="2533"/>
                    <a:pt x="14949" y="2902"/>
                    <a:pt x="15006" y="3224"/>
                  </a:cubicBezTo>
                  <a:cubicBezTo>
                    <a:pt x="15110" y="3260"/>
                    <a:pt x="15091" y="3451"/>
                    <a:pt x="15054" y="3582"/>
                  </a:cubicBezTo>
                  <a:cubicBezTo>
                    <a:pt x="14949" y="3856"/>
                    <a:pt x="14855" y="4130"/>
                    <a:pt x="14769" y="4404"/>
                  </a:cubicBezTo>
                  <a:cubicBezTo>
                    <a:pt x="14731" y="4524"/>
                    <a:pt x="14675" y="4679"/>
                    <a:pt x="14570" y="4750"/>
                  </a:cubicBezTo>
                  <a:cubicBezTo>
                    <a:pt x="14428" y="4881"/>
                    <a:pt x="14220" y="4810"/>
                    <a:pt x="14097" y="4655"/>
                  </a:cubicBezTo>
                  <a:cubicBezTo>
                    <a:pt x="13983" y="4500"/>
                    <a:pt x="13917" y="4285"/>
                    <a:pt x="13917" y="4059"/>
                  </a:cubicBezTo>
                  <a:cubicBezTo>
                    <a:pt x="13860" y="3928"/>
                    <a:pt x="13699" y="3904"/>
                    <a:pt x="13576" y="3951"/>
                  </a:cubicBezTo>
                  <a:cubicBezTo>
                    <a:pt x="13462" y="3975"/>
                    <a:pt x="13320" y="4059"/>
                    <a:pt x="13197" y="3999"/>
                  </a:cubicBezTo>
                  <a:cubicBezTo>
                    <a:pt x="13083" y="3951"/>
                    <a:pt x="13026" y="3701"/>
                    <a:pt x="13140" y="3630"/>
                  </a:cubicBezTo>
                  <a:cubicBezTo>
                    <a:pt x="13064" y="3475"/>
                    <a:pt x="12922" y="3403"/>
                    <a:pt x="12761" y="3427"/>
                  </a:cubicBezTo>
                  <a:cubicBezTo>
                    <a:pt x="12685" y="3403"/>
                    <a:pt x="12562" y="3332"/>
                    <a:pt x="12543" y="3224"/>
                  </a:cubicBezTo>
                  <a:cubicBezTo>
                    <a:pt x="12505" y="3332"/>
                    <a:pt x="12382" y="3332"/>
                    <a:pt x="12287" y="3284"/>
                  </a:cubicBezTo>
                  <a:cubicBezTo>
                    <a:pt x="11965" y="3105"/>
                    <a:pt x="11728" y="2724"/>
                    <a:pt x="11652" y="2306"/>
                  </a:cubicBezTo>
                  <a:cubicBezTo>
                    <a:pt x="11766" y="2104"/>
                    <a:pt x="12012" y="2128"/>
                    <a:pt x="12183" y="2199"/>
                  </a:cubicBezTo>
                  <a:cubicBezTo>
                    <a:pt x="12363" y="2283"/>
                    <a:pt x="12581" y="2378"/>
                    <a:pt x="12761" y="2283"/>
                  </a:cubicBezTo>
                  <a:cubicBezTo>
                    <a:pt x="12704" y="2151"/>
                    <a:pt x="12581" y="2080"/>
                    <a:pt x="12467" y="2104"/>
                  </a:cubicBezTo>
                  <a:cubicBezTo>
                    <a:pt x="12429" y="1949"/>
                    <a:pt x="12401" y="1806"/>
                    <a:pt x="12363" y="1627"/>
                  </a:cubicBezTo>
                  <a:cubicBezTo>
                    <a:pt x="12363" y="1579"/>
                    <a:pt x="12344" y="1532"/>
                    <a:pt x="12363" y="1508"/>
                  </a:cubicBezTo>
                  <a:cubicBezTo>
                    <a:pt x="12382" y="1448"/>
                    <a:pt x="12448" y="1424"/>
                    <a:pt x="12486" y="1377"/>
                  </a:cubicBezTo>
                  <a:cubicBezTo>
                    <a:pt x="12562" y="1281"/>
                    <a:pt x="12543" y="1126"/>
                    <a:pt x="12505" y="983"/>
                  </a:cubicBezTo>
                  <a:cubicBezTo>
                    <a:pt x="12429" y="757"/>
                    <a:pt x="12363" y="530"/>
                    <a:pt x="12287" y="304"/>
                  </a:cubicBezTo>
                  <a:cubicBezTo>
                    <a:pt x="12268" y="256"/>
                    <a:pt x="12268" y="232"/>
                    <a:pt x="12230" y="208"/>
                  </a:cubicBezTo>
                  <a:cubicBezTo>
                    <a:pt x="12183" y="173"/>
                    <a:pt x="12145" y="173"/>
                    <a:pt x="12107" y="208"/>
                  </a:cubicBezTo>
                  <a:cubicBezTo>
                    <a:pt x="11908" y="280"/>
                    <a:pt x="11728" y="459"/>
                    <a:pt x="11652" y="709"/>
                  </a:cubicBezTo>
                  <a:cubicBezTo>
                    <a:pt x="11634" y="757"/>
                    <a:pt x="11615" y="828"/>
                    <a:pt x="11567" y="852"/>
                  </a:cubicBezTo>
                  <a:cubicBezTo>
                    <a:pt x="11529" y="876"/>
                    <a:pt x="11472" y="852"/>
                    <a:pt x="11435" y="852"/>
                  </a:cubicBezTo>
                  <a:cubicBezTo>
                    <a:pt x="11150" y="733"/>
                    <a:pt x="10914" y="554"/>
                    <a:pt x="10677" y="328"/>
                  </a:cubicBezTo>
                  <a:cubicBezTo>
                    <a:pt x="10535" y="208"/>
                    <a:pt x="10336" y="53"/>
                    <a:pt x="10241" y="232"/>
                  </a:cubicBezTo>
                  <a:cubicBezTo>
                    <a:pt x="10080" y="-42"/>
                    <a:pt x="9739" y="-18"/>
                    <a:pt x="9483" y="30"/>
                  </a:cubicBezTo>
                  <a:cubicBezTo>
                    <a:pt x="9426" y="53"/>
                    <a:pt x="9341" y="53"/>
                    <a:pt x="9284" y="101"/>
                  </a:cubicBezTo>
                  <a:cubicBezTo>
                    <a:pt x="9227" y="149"/>
                    <a:pt x="9208" y="256"/>
                    <a:pt x="9227" y="328"/>
                  </a:cubicBezTo>
                  <a:cubicBezTo>
                    <a:pt x="9388" y="304"/>
                    <a:pt x="9540" y="304"/>
                    <a:pt x="9682" y="351"/>
                  </a:cubicBezTo>
                  <a:cubicBezTo>
                    <a:pt x="9824" y="423"/>
                    <a:pt x="9938" y="602"/>
                    <a:pt x="9919" y="804"/>
                  </a:cubicBezTo>
                  <a:cubicBezTo>
                    <a:pt x="9701" y="804"/>
                    <a:pt x="9464" y="828"/>
                    <a:pt x="9246" y="828"/>
                  </a:cubicBezTo>
                  <a:cubicBezTo>
                    <a:pt x="9208" y="828"/>
                    <a:pt x="9142" y="828"/>
                    <a:pt x="9104" y="852"/>
                  </a:cubicBezTo>
                  <a:cubicBezTo>
                    <a:pt x="8990" y="924"/>
                    <a:pt x="8971" y="1114"/>
                    <a:pt x="8905" y="1233"/>
                  </a:cubicBezTo>
                  <a:cubicBezTo>
                    <a:pt x="8848" y="1365"/>
                    <a:pt x="8649" y="1424"/>
                    <a:pt x="8611" y="1281"/>
                  </a:cubicBezTo>
                  <a:cubicBezTo>
                    <a:pt x="8574" y="1305"/>
                    <a:pt x="8574" y="1377"/>
                    <a:pt x="8611" y="1424"/>
                  </a:cubicBezTo>
                  <a:cubicBezTo>
                    <a:pt x="8649" y="1484"/>
                    <a:pt x="8687" y="1508"/>
                    <a:pt x="8706" y="1555"/>
                  </a:cubicBezTo>
                  <a:cubicBezTo>
                    <a:pt x="8744" y="1675"/>
                    <a:pt x="8574" y="1734"/>
                    <a:pt x="8507" y="1830"/>
                  </a:cubicBezTo>
                  <a:cubicBezTo>
                    <a:pt x="8412" y="2008"/>
                    <a:pt x="8574" y="2283"/>
                    <a:pt x="8469" y="2449"/>
                  </a:cubicBezTo>
                  <a:cubicBezTo>
                    <a:pt x="8431" y="2533"/>
                    <a:pt x="8356" y="2533"/>
                    <a:pt x="8270" y="2581"/>
                  </a:cubicBezTo>
                  <a:cubicBezTo>
                    <a:pt x="8214" y="2628"/>
                    <a:pt x="8157" y="2700"/>
                    <a:pt x="8195" y="2783"/>
                  </a:cubicBezTo>
                  <a:cubicBezTo>
                    <a:pt x="8052" y="2879"/>
                    <a:pt x="7910" y="2652"/>
                    <a:pt x="7816" y="2473"/>
                  </a:cubicBezTo>
                  <a:cubicBezTo>
                    <a:pt x="7598" y="2128"/>
                    <a:pt x="7200" y="2032"/>
                    <a:pt x="6859" y="1949"/>
                  </a:cubicBezTo>
                  <a:cubicBezTo>
                    <a:pt x="7020" y="2008"/>
                    <a:pt x="6840" y="2151"/>
                    <a:pt x="6764" y="2104"/>
                  </a:cubicBezTo>
                  <a:close/>
                  <a:moveTo>
                    <a:pt x="19696" y="19639"/>
                  </a:moveTo>
                  <a:cubicBezTo>
                    <a:pt x="19696" y="19663"/>
                    <a:pt x="19696" y="19675"/>
                    <a:pt x="19696" y="19675"/>
                  </a:cubicBezTo>
                  <a:cubicBezTo>
                    <a:pt x="19696" y="19663"/>
                    <a:pt x="19696" y="19651"/>
                    <a:pt x="19696" y="19639"/>
                  </a:cubicBezTo>
                  <a:close/>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1" name="Shape 3625"/>
            <p:cNvSpPr/>
            <p:nvPr/>
          </p:nvSpPr>
          <p:spPr>
            <a:xfrm>
              <a:off x="21179160" y="6563160"/>
              <a:ext cx="20880" cy="30960"/>
            </a:xfrm>
            <a:custGeom>
              <a:avLst/>
              <a:gdLst>
                <a:gd name="textAreaLeft" fmla="*/ 0 w 20880"/>
                <a:gd name="textAreaRight" fmla="*/ 21240 w 20880"/>
                <a:gd name="textAreaTop" fmla="*/ 0 h 30960"/>
                <a:gd name="textAreaBottom" fmla="*/ 31320 h 30960"/>
              </a:gdLst>
              <a:ahLst/>
              <a:rect l="textAreaLeft" t="textAreaTop" r="textAreaRight" b="textAreaBottom"/>
              <a:pathLst>
                <a:path w="18696" h="21098">
                  <a:moveTo>
                    <a:pt x="496" y="15470"/>
                  </a:moveTo>
                  <a:cubicBezTo>
                    <a:pt x="2012" y="18973"/>
                    <a:pt x="7317" y="21600"/>
                    <a:pt x="12243" y="21016"/>
                  </a:cubicBezTo>
                  <a:cubicBezTo>
                    <a:pt x="17169" y="19557"/>
                    <a:pt x="20201" y="15470"/>
                    <a:pt x="17927" y="11676"/>
                  </a:cubicBezTo>
                  <a:cubicBezTo>
                    <a:pt x="14517" y="9341"/>
                    <a:pt x="9212" y="9924"/>
                    <a:pt x="5801" y="7297"/>
                  </a:cubicBezTo>
                  <a:cubicBezTo>
                    <a:pt x="3527" y="5546"/>
                    <a:pt x="4285" y="2627"/>
                    <a:pt x="4285" y="0"/>
                  </a:cubicBezTo>
                  <a:cubicBezTo>
                    <a:pt x="-1020" y="1751"/>
                    <a:pt x="-1399" y="8465"/>
                    <a:pt x="3148" y="10800"/>
                  </a:cubicBezTo>
                  <a:cubicBezTo>
                    <a:pt x="2012" y="11968"/>
                    <a:pt x="1254" y="13719"/>
                    <a:pt x="496" y="15470"/>
                  </a:cubicBezTo>
                </a:path>
              </a:pathLst>
            </a:custGeom>
            <a:solidFill>
              <a:srgbClr val="a9a9a9"/>
            </a:solidFill>
            <a:ln w="12700">
              <a:noFill/>
            </a:ln>
          </p:spPr>
          <p:style>
            <a:lnRef idx="0"/>
            <a:fillRef idx="0"/>
            <a:effectRef idx="0"/>
            <a:fontRef idx="minor"/>
          </p:style>
          <p:txBody>
            <a:bodyPr numCol="1" spcCol="0" lIns="45720" rIns="45720" tIns="15480" bIns="15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2" name="Shape 3626"/>
            <p:cNvSpPr/>
            <p:nvPr/>
          </p:nvSpPr>
          <p:spPr>
            <a:xfrm>
              <a:off x="21095640" y="6597720"/>
              <a:ext cx="101520" cy="110880"/>
            </a:xfrm>
            <a:custGeom>
              <a:avLst/>
              <a:gdLst>
                <a:gd name="textAreaLeft" fmla="*/ 0 w 101520"/>
                <a:gd name="textAreaRight" fmla="*/ 101880 w 101520"/>
                <a:gd name="textAreaTop" fmla="*/ 0 h 110880"/>
                <a:gd name="textAreaBottom" fmla="*/ 111240 h 110880"/>
              </a:gdLst>
              <a:ahLst/>
              <a:rect l="textAreaLeft" t="textAreaTop" r="textAreaRight" b="textAreaBottom"/>
              <a:pathLst>
                <a:path w="21253" h="21600">
                  <a:moveTo>
                    <a:pt x="3578" y="844"/>
                  </a:moveTo>
                  <a:cubicBezTo>
                    <a:pt x="3031" y="506"/>
                    <a:pt x="2302" y="0"/>
                    <a:pt x="1482" y="0"/>
                  </a:cubicBezTo>
                  <a:cubicBezTo>
                    <a:pt x="752" y="0"/>
                    <a:pt x="-159" y="506"/>
                    <a:pt x="23" y="1266"/>
                  </a:cubicBezTo>
                  <a:cubicBezTo>
                    <a:pt x="206" y="2109"/>
                    <a:pt x="1482" y="2616"/>
                    <a:pt x="1299" y="3544"/>
                  </a:cubicBezTo>
                  <a:cubicBezTo>
                    <a:pt x="1937" y="3375"/>
                    <a:pt x="2666" y="3881"/>
                    <a:pt x="2849" y="4387"/>
                  </a:cubicBezTo>
                  <a:cubicBezTo>
                    <a:pt x="3031" y="4978"/>
                    <a:pt x="2666" y="5653"/>
                    <a:pt x="2119" y="5991"/>
                  </a:cubicBezTo>
                  <a:cubicBezTo>
                    <a:pt x="3851" y="9028"/>
                    <a:pt x="4945" y="12572"/>
                    <a:pt x="5127" y="16116"/>
                  </a:cubicBezTo>
                  <a:cubicBezTo>
                    <a:pt x="5947" y="15356"/>
                    <a:pt x="7314" y="15947"/>
                    <a:pt x="7861" y="16791"/>
                  </a:cubicBezTo>
                  <a:cubicBezTo>
                    <a:pt x="8499" y="17719"/>
                    <a:pt x="8408" y="18816"/>
                    <a:pt x="8590" y="19659"/>
                  </a:cubicBezTo>
                  <a:cubicBezTo>
                    <a:pt x="8773" y="20587"/>
                    <a:pt x="9775" y="21600"/>
                    <a:pt x="10869" y="21600"/>
                  </a:cubicBezTo>
                  <a:cubicBezTo>
                    <a:pt x="11416" y="21600"/>
                    <a:pt x="12054" y="21262"/>
                    <a:pt x="12418" y="20841"/>
                  </a:cubicBezTo>
                  <a:cubicBezTo>
                    <a:pt x="13603" y="20166"/>
                    <a:pt x="14697" y="19237"/>
                    <a:pt x="15699" y="18563"/>
                  </a:cubicBezTo>
                  <a:cubicBezTo>
                    <a:pt x="17431" y="17297"/>
                    <a:pt x="19254" y="15947"/>
                    <a:pt x="20074" y="14006"/>
                  </a:cubicBezTo>
                  <a:cubicBezTo>
                    <a:pt x="20985" y="11644"/>
                    <a:pt x="19892" y="8859"/>
                    <a:pt x="20803" y="6497"/>
                  </a:cubicBezTo>
                  <a:cubicBezTo>
                    <a:pt x="20985" y="5822"/>
                    <a:pt x="21441" y="5147"/>
                    <a:pt x="21168" y="4387"/>
                  </a:cubicBezTo>
                  <a:cubicBezTo>
                    <a:pt x="20803" y="3713"/>
                    <a:pt x="19892" y="3375"/>
                    <a:pt x="18889" y="3206"/>
                  </a:cubicBezTo>
                  <a:cubicBezTo>
                    <a:pt x="17157" y="2784"/>
                    <a:pt x="15517" y="2447"/>
                    <a:pt x="13968" y="2278"/>
                  </a:cubicBezTo>
                  <a:cubicBezTo>
                    <a:pt x="13785" y="2278"/>
                    <a:pt x="13330" y="2109"/>
                    <a:pt x="13147" y="2278"/>
                  </a:cubicBezTo>
                  <a:cubicBezTo>
                    <a:pt x="12418" y="2447"/>
                    <a:pt x="12054" y="3544"/>
                    <a:pt x="11233" y="3713"/>
                  </a:cubicBezTo>
                  <a:cubicBezTo>
                    <a:pt x="10322" y="4050"/>
                    <a:pt x="9593" y="2953"/>
                    <a:pt x="8773" y="2447"/>
                  </a:cubicBezTo>
                  <a:cubicBezTo>
                    <a:pt x="7223" y="1434"/>
                    <a:pt x="5309" y="1941"/>
                    <a:pt x="3578" y="844"/>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3" name="Shape 3627"/>
            <p:cNvSpPr/>
            <p:nvPr/>
          </p:nvSpPr>
          <p:spPr>
            <a:xfrm>
              <a:off x="21800520" y="6415920"/>
              <a:ext cx="147240" cy="236160"/>
            </a:xfrm>
            <a:custGeom>
              <a:avLst/>
              <a:gdLst>
                <a:gd name="textAreaLeft" fmla="*/ 0 w 147240"/>
                <a:gd name="textAreaRight" fmla="*/ 147600 w 147240"/>
                <a:gd name="textAreaTop" fmla="*/ 0 h 236160"/>
                <a:gd name="textAreaBottom" fmla="*/ 236520 h 236160"/>
              </a:gdLst>
              <a:ahLst/>
              <a:rect l="textAreaLeft" t="textAreaTop" r="textAreaRight" b="textAreaBottom"/>
              <a:pathLst>
                <a:path w="21322" h="20788">
                  <a:moveTo>
                    <a:pt x="4926" y="3921"/>
                  </a:moveTo>
                  <a:cubicBezTo>
                    <a:pt x="4926" y="4190"/>
                    <a:pt x="4926" y="4497"/>
                    <a:pt x="5305" y="4651"/>
                  </a:cubicBezTo>
                  <a:cubicBezTo>
                    <a:pt x="5558" y="4728"/>
                    <a:pt x="5811" y="4728"/>
                    <a:pt x="5937" y="4882"/>
                  </a:cubicBezTo>
                  <a:cubicBezTo>
                    <a:pt x="6253" y="5074"/>
                    <a:pt x="6253" y="5228"/>
                    <a:pt x="6253" y="5381"/>
                  </a:cubicBezTo>
                  <a:cubicBezTo>
                    <a:pt x="6379" y="5881"/>
                    <a:pt x="6884" y="6304"/>
                    <a:pt x="7011" y="6765"/>
                  </a:cubicBezTo>
                  <a:cubicBezTo>
                    <a:pt x="7137" y="7265"/>
                    <a:pt x="7263" y="7803"/>
                    <a:pt x="6632" y="8110"/>
                  </a:cubicBezTo>
                  <a:cubicBezTo>
                    <a:pt x="7705" y="8110"/>
                    <a:pt x="7958" y="8994"/>
                    <a:pt x="7832" y="9571"/>
                  </a:cubicBezTo>
                  <a:cubicBezTo>
                    <a:pt x="7705" y="10224"/>
                    <a:pt x="7579" y="10801"/>
                    <a:pt x="7389" y="11339"/>
                  </a:cubicBezTo>
                  <a:cubicBezTo>
                    <a:pt x="6632" y="11108"/>
                    <a:pt x="5558" y="11492"/>
                    <a:pt x="5305" y="12069"/>
                  </a:cubicBezTo>
                  <a:cubicBezTo>
                    <a:pt x="5053" y="12645"/>
                    <a:pt x="5179" y="13183"/>
                    <a:pt x="5305" y="13760"/>
                  </a:cubicBezTo>
                  <a:cubicBezTo>
                    <a:pt x="6758" y="13683"/>
                    <a:pt x="8211" y="14260"/>
                    <a:pt x="8716" y="15067"/>
                  </a:cubicBezTo>
                  <a:cubicBezTo>
                    <a:pt x="9411" y="15874"/>
                    <a:pt x="9284" y="16835"/>
                    <a:pt x="8589" y="17642"/>
                  </a:cubicBezTo>
                  <a:cubicBezTo>
                    <a:pt x="8211" y="18295"/>
                    <a:pt x="7389" y="18833"/>
                    <a:pt x="7389" y="19564"/>
                  </a:cubicBezTo>
                  <a:cubicBezTo>
                    <a:pt x="7389" y="20294"/>
                    <a:pt x="8463" y="21024"/>
                    <a:pt x="9537" y="20717"/>
                  </a:cubicBezTo>
                  <a:cubicBezTo>
                    <a:pt x="10989" y="20217"/>
                    <a:pt x="9789" y="18526"/>
                    <a:pt x="11116" y="18026"/>
                  </a:cubicBezTo>
                  <a:cubicBezTo>
                    <a:pt x="11684" y="18218"/>
                    <a:pt x="12316" y="17911"/>
                    <a:pt x="12442" y="17565"/>
                  </a:cubicBezTo>
                  <a:cubicBezTo>
                    <a:pt x="12568" y="17257"/>
                    <a:pt x="12442" y="16835"/>
                    <a:pt x="12442" y="16527"/>
                  </a:cubicBezTo>
                  <a:cubicBezTo>
                    <a:pt x="13516" y="16604"/>
                    <a:pt x="14716" y="16297"/>
                    <a:pt x="15347" y="15797"/>
                  </a:cubicBezTo>
                  <a:cubicBezTo>
                    <a:pt x="16042" y="15336"/>
                    <a:pt x="15916" y="14413"/>
                    <a:pt x="15095" y="13991"/>
                  </a:cubicBezTo>
                  <a:cubicBezTo>
                    <a:pt x="14716" y="13760"/>
                    <a:pt x="14021" y="13452"/>
                    <a:pt x="14274" y="13183"/>
                  </a:cubicBezTo>
                  <a:cubicBezTo>
                    <a:pt x="14589" y="13030"/>
                    <a:pt x="14968" y="13107"/>
                    <a:pt x="15347" y="13030"/>
                  </a:cubicBezTo>
                  <a:cubicBezTo>
                    <a:pt x="16295" y="12953"/>
                    <a:pt x="16674" y="12146"/>
                    <a:pt x="17495" y="12223"/>
                  </a:cubicBezTo>
                  <a:cubicBezTo>
                    <a:pt x="17747" y="12223"/>
                    <a:pt x="18000" y="12415"/>
                    <a:pt x="18253" y="12415"/>
                  </a:cubicBezTo>
                  <a:cubicBezTo>
                    <a:pt x="19200" y="12492"/>
                    <a:pt x="19768" y="11838"/>
                    <a:pt x="19895" y="11262"/>
                  </a:cubicBezTo>
                  <a:cubicBezTo>
                    <a:pt x="19579" y="11185"/>
                    <a:pt x="19326" y="11185"/>
                    <a:pt x="19074" y="11108"/>
                  </a:cubicBezTo>
                  <a:cubicBezTo>
                    <a:pt x="18695" y="10801"/>
                    <a:pt x="19516" y="10378"/>
                    <a:pt x="20147" y="10224"/>
                  </a:cubicBezTo>
                  <a:cubicBezTo>
                    <a:pt x="20842" y="10070"/>
                    <a:pt x="21600" y="9647"/>
                    <a:pt x="21221" y="9340"/>
                  </a:cubicBezTo>
                  <a:cubicBezTo>
                    <a:pt x="21032" y="9263"/>
                    <a:pt x="20779" y="9186"/>
                    <a:pt x="20653" y="8994"/>
                  </a:cubicBezTo>
                  <a:cubicBezTo>
                    <a:pt x="20400" y="8764"/>
                    <a:pt x="20653" y="8379"/>
                    <a:pt x="20526" y="8110"/>
                  </a:cubicBezTo>
                  <a:cubicBezTo>
                    <a:pt x="20274" y="7572"/>
                    <a:pt x="18821" y="7726"/>
                    <a:pt x="18126" y="8187"/>
                  </a:cubicBezTo>
                  <a:cubicBezTo>
                    <a:pt x="17621" y="8687"/>
                    <a:pt x="17495" y="9340"/>
                    <a:pt x="16800" y="9724"/>
                  </a:cubicBezTo>
                  <a:cubicBezTo>
                    <a:pt x="16674" y="9801"/>
                    <a:pt x="16421" y="9878"/>
                    <a:pt x="16168" y="9878"/>
                  </a:cubicBezTo>
                  <a:cubicBezTo>
                    <a:pt x="15600" y="9878"/>
                    <a:pt x="15347" y="9494"/>
                    <a:pt x="14842" y="9263"/>
                  </a:cubicBezTo>
                  <a:cubicBezTo>
                    <a:pt x="14463" y="9109"/>
                    <a:pt x="13895" y="9109"/>
                    <a:pt x="13516" y="8994"/>
                  </a:cubicBezTo>
                  <a:cubicBezTo>
                    <a:pt x="13137" y="8917"/>
                    <a:pt x="12695" y="8456"/>
                    <a:pt x="13137" y="8379"/>
                  </a:cubicBezTo>
                  <a:cubicBezTo>
                    <a:pt x="12316" y="8187"/>
                    <a:pt x="11937" y="7649"/>
                    <a:pt x="11937" y="7149"/>
                  </a:cubicBezTo>
                  <a:cubicBezTo>
                    <a:pt x="11937" y="6688"/>
                    <a:pt x="12063" y="6112"/>
                    <a:pt x="11684" y="5612"/>
                  </a:cubicBezTo>
                  <a:cubicBezTo>
                    <a:pt x="11368" y="5151"/>
                    <a:pt x="10358" y="4805"/>
                    <a:pt x="9663" y="5151"/>
                  </a:cubicBezTo>
                  <a:cubicBezTo>
                    <a:pt x="9916" y="5535"/>
                    <a:pt x="9789" y="5958"/>
                    <a:pt x="9411" y="6265"/>
                  </a:cubicBezTo>
                  <a:cubicBezTo>
                    <a:pt x="8589" y="5766"/>
                    <a:pt x="8084" y="5074"/>
                    <a:pt x="8084" y="4420"/>
                  </a:cubicBezTo>
                  <a:cubicBezTo>
                    <a:pt x="8084" y="4190"/>
                    <a:pt x="8084" y="3921"/>
                    <a:pt x="7832" y="3844"/>
                  </a:cubicBezTo>
                  <a:cubicBezTo>
                    <a:pt x="7705" y="3767"/>
                    <a:pt x="7579" y="3767"/>
                    <a:pt x="7389" y="3690"/>
                  </a:cubicBezTo>
                  <a:cubicBezTo>
                    <a:pt x="6253" y="3383"/>
                    <a:pt x="6253" y="2383"/>
                    <a:pt x="6379" y="1576"/>
                  </a:cubicBezTo>
                  <a:cubicBezTo>
                    <a:pt x="6253" y="2076"/>
                    <a:pt x="2526" y="884"/>
                    <a:pt x="2274" y="769"/>
                  </a:cubicBezTo>
                  <a:cubicBezTo>
                    <a:pt x="1705" y="539"/>
                    <a:pt x="505" y="-576"/>
                    <a:pt x="0" y="385"/>
                  </a:cubicBezTo>
                  <a:cubicBezTo>
                    <a:pt x="0" y="1499"/>
                    <a:pt x="4611" y="2729"/>
                    <a:pt x="4926" y="3921"/>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4" name="Shape 3628"/>
            <p:cNvSpPr/>
            <p:nvPr/>
          </p:nvSpPr>
          <p:spPr>
            <a:xfrm>
              <a:off x="21648600" y="6603840"/>
              <a:ext cx="203040" cy="206640"/>
            </a:xfrm>
            <a:custGeom>
              <a:avLst/>
              <a:gdLst>
                <a:gd name="textAreaLeft" fmla="*/ 0 w 203040"/>
                <a:gd name="textAreaRight" fmla="*/ 203400 w 203040"/>
                <a:gd name="textAreaTop" fmla="*/ 0 h 206640"/>
                <a:gd name="textAreaBottom" fmla="*/ 207000 h 206640"/>
              </a:gdLst>
              <a:ahLst/>
              <a:rect l="textAreaLeft" t="textAreaTop" r="textAreaRight" b="textAreaBottom"/>
              <a:pathLst>
                <a:path w="21600" h="20435">
                  <a:moveTo>
                    <a:pt x="14786" y="2923"/>
                  </a:moveTo>
                  <a:cubicBezTo>
                    <a:pt x="14786" y="3095"/>
                    <a:pt x="14786" y="3353"/>
                    <a:pt x="14694" y="3568"/>
                  </a:cubicBezTo>
                  <a:cubicBezTo>
                    <a:pt x="14369" y="3740"/>
                    <a:pt x="13998" y="3654"/>
                    <a:pt x="13720" y="3740"/>
                  </a:cubicBezTo>
                  <a:cubicBezTo>
                    <a:pt x="13118" y="3998"/>
                    <a:pt x="13488" y="4816"/>
                    <a:pt x="13488" y="5332"/>
                  </a:cubicBezTo>
                  <a:cubicBezTo>
                    <a:pt x="13488" y="6537"/>
                    <a:pt x="11681" y="6881"/>
                    <a:pt x="10985" y="7871"/>
                  </a:cubicBezTo>
                  <a:cubicBezTo>
                    <a:pt x="10707" y="8258"/>
                    <a:pt x="10568" y="8688"/>
                    <a:pt x="10290" y="8947"/>
                  </a:cubicBezTo>
                  <a:cubicBezTo>
                    <a:pt x="10012" y="9248"/>
                    <a:pt x="9224" y="9248"/>
                    <a:pt x="9224" y="8774"/>
                  </a:cubicBezTo>
                  <a:cubicBezTo>
                    <a:pt x="8065" y="9678"/>
                    <a:pt x="6814" y="10582"/>
                    <a:pt x="5330" y="11055"/>
                  </a:cubicBezTo>
                  <a:cubicBezTo>
                    <a:pt x="5052" y="11141"/>
                    <a:pt x="4867" y="11227"/>
                    <a:pt x="4635" y="11313"/>
                  </a:cubicBezTo>
                  <a:cubicBezTo>
                    <a:pt x="4357" y="11485"/>
                    <a:pt x="4264" y="11872"/>
                    <a:pt x="4172" y="12131"/>
                  </a:cubicBezTo>
                  <a:cubicBezTo>
                    <a:pt x="3708" y="13034"/>
                    <a:pt x="2827" y="13766"/>
                    <a:pt x="1761" y="14024"/>
                  </a:cubicBezTo>
                  <a:cubicBezTo>
                    <a:pt x="1530" y="14669"/>
                    <a:pt x="1159" y="15186"/>
                    <a:pt x="788" y="15831"/>
                  </a:cubicBezTo>
                  <a:cubicBezTo>
                    <a:pt x="371" y="16347"/>
                    <a:pt x="93" y="16993"/>
                    <a:pt x="0" y="17724"/>
                  </a:cubicBezTo>
                  <a:cubicBezTo>
                    <a:pt x="0" y="18370"/>
                    <a:pt x="371" y="19101"/>
                    <a:pt x="1066" y="19359"/>
                  </a:cubicBezTo>
                  <a:cubicBezTo>
                    <a:pt x="1761" y="19660"/>
                    <a:pt x="2596" y="18886"/>
                    <a:pt x="2410" y="18241"/>
                  </a:cubicBezTo>
                  <a:cubicBezTo>
                    <a:pt x="2827" y="18068"/>
                    <a:pt x="3384" y="18542"/>
                    <a:pt x="3291" y="18886"/>
                  </a:cubicBezTo>
                  <a:cubicBezTo>
                    <a:pt x="3569" y="18628"/>
                    <a:pt x="4079" y="18800"/>
                    <a:pt x="4264" y="19058"/>
                  </a:cubicBezTo>
                  <a:cubicBezTo>
                    <a:pt x="4542" y="19359"/>
                    <a:pt x="4635" y="19617"/>
                    <a:pt x="4960" y="19876"/>
                  </a:cubicBezTo>
                  <a:cubicBezTo>
                    <a:pt x="5516" y="20349"/>
                    <a:pt x="6489" y="20048"/>
                    <a:pt x="6814" y="19445"/>
                  </a:cubicBezTo>
                  <a:cubicBezTo>
                    <a:pt x="7185" y="20048"/>
                    <a:pt x="8065" y="20435"/>
                    <a:pt x="8853" y="20435"/>
                  </a:cubicBezTo>
                  <a:cubicBezTo>
                    <a:pt x="9039" y="20048"/>
                    <a:pt x="8946" y="19617"/>
                    <a:pt x="8761" y="19273"/>
                  </a:cubicBezTo>
                  <a:cubicBezTo>
                    <a:pt x="9224" y="19273"/>
                    <a:pt x="9734" y="19273"/>
                    <a:pt x="10105" y="18972"/>
                  </a:cubicBezTo>
                  <a:cubicBezTo>
                    <a:pt x="10476" y="18714"/>
                    <a:pt x="10800" y="18155"/>
                    <a:pt x="10476" y="17810"/>
                  </a:cubicBezTo>
                  <a:cubicBezTo>
                    <a:pt x="11078" y="17724"/>
                    <a:pt x="11681" y="17337"/>
                    <a:pt x="11959" y="16907"/>
                  </a:cubicBezTo>
                  <a:cubicBezTo>
                    <a:pt x="11542" y="16993"/>
                    <a:pt x="11356" y="16476"/>
                    <a:pt x="11681" y="16089"/>
                  </a:cubicBezTo>
                  <a:cubicBezTo>
                    <a:pt x="11866" y="15831"/>
                    <a:pt x="12330" y="15659"/>
                    <a:pt x="12515" y="15272"/>
                  </a:cubicBezTo>
                  <a:cubicBezTo>
                    <a:pt x="12839" y="14755"/>
                    <a:pt x="12515" y="13852"/>
                    <a:pt x="13210" y="13766"/>
                  </a:cubicBezTo>
                  <a:cubicBezTo>
                    <a:pt x="12839" y="13766"/>
                    <a:pt x="12654" y="13206"/>
                    <a:pt x="12839" y="12948"/>
                  </a:cubicBezTo>
                  <a:cubicBezTo>
                    <a:pt x="13025" y="12561"/>
                    <a:pt x="13303" y="12303"/>
                    <a:pt x="13488" y="12045"/>
                  </a:cubicBezTo>
                  <a:cubicBezTo>
                    <a:pt x="13720" y="11571"/>
                    <a:pt x="13720" y="10754"/>
                    <a:pt x="14276" y="10754"/>
                  </a:cubicBezTo>
                  <a:cubicBezTo>
                    <a:pt x="14462" y="10754"/>
                    <a:pt x="14694" y="10969"/>
                    <a:pt x="14879" y="11055"/>
                  </a:cubicBezTo>
                  <a:cubicBezTo>
                    <a:pt x="15435" y="11399"/>
                    <a:pt x="16316" y="11227"/>
                    <a:pt x="16733" y="10668"/>
                  </a:cubicBezTo>
                  <a:cubicBezTo>
                    <a:pt x="17104" y="10840"/>
                    <a:pt x="17382" y="11055"/>
                    <a:pt x="17799" y="11141"/>
                  </a:cubicBezTo>
                  <a:cubicBezTo>
                    <a:pt x="17706" y="10582"/>
                    <a:pt x="17197" y="10151"/>
                    <a:pt x="16640" y="9936"/>
                  </a:cubicBezTo>
                  <a:cubicBezTo>
                    <a:pt x="17011" y="9678"/>
                    <a:pt x="17382" y="9506"/>
                    <a:pt x="17799" y="9248"/>
                  </a:cubicBezTo>
                  <a:cubicBezTo>
                    <a:pt x="17892" y="9162"/>
                    <a:pt x="18077" y="9033"/>
                    <a:pt x="18077" y="8947"/>
                  </a:cubicBezTo>
                  <a:cubicBezTo>
                    <a:pt x="18170" y="8774"/>
                    <a:pt x="18170" y="8602"/>
                    <a:pt x="18170" y="8430"/>
                  </a:cubicBezTo>
                  <a:cubicBezTo>
                    <a:pt x="18170" y="7441"/>
                    <a:pt x="18773" y="6451"/>
                    <a:pt x="19653" y="5978"/>
                  </a:cubicBezTo>
                  <a:cubicBezTo>
                    <a:pt x="19236" y="5806"/>
                    <a:pt x="19143" y="5246"/>
                    <a:pt x="19421" y="4902"/>
                  </a:cubicBezTo>
                  <a:cubicBezTo>
                    <a:pt x="19514" y="4730"/>
                    <a:pt x="19839" y="4644"/>
                    <a:pt x="19931" y="4429"/>
                  </a:cubicBezTo>
                  <a:cubicBezTo>
                    <a:pt x="20024" y="4257"/>
                    <a:pt x="20117" y="3998"/>
                    <a:pt x="20117" y="3826"/>
                  </a:cubicBezTo>
                  <a:cubicBezTo>
                    <a:pt x="20302" y="3009"/>
                    <a:pt x="20905" y="2277"/>
                    <a:pt x="21600" y="1933"/>
                  </a:cubicBezTo>
                  <a:cubicBezTo>
                    <a:pt x="21368" y="1546"/>
                    <a:pt x="21090" y="1202"/>
                    <a:pt x="20719" y="943"/>
                  </a:cubicBezTo>
                  <a:cubicBezTo>
                    <a:pt x="20719" y="642"/>
                    <a:pt x="20812" y="298"/>
                    <a:pt x="20812" y="40"/>
                  </a:cubicBezTo>
                  <a:cubicBezTo>
                    <a:pt x="19746" y="126"/>
                    <a:pt x="18680" y="1029"/>
                    <a:pt x="18541" y="2019"/>
                  </a:cubicBezTo>
                  <a:cubicBezTo>
                    <a:pt x="18541" y="2191"/>
                    <a:pt x="18541" y="2363"/>
                    <a:pt x="18355" y="2535"/>
                  </a:cubicBezTo>
                  <a:cubicBezTo>
                    <a:pt x="17985" y="3009"/>
                    <a:pt x="17104" y="2664"/>
                    <a:pt x="16918" y="3095"/>
                  </a:cubicBezTo>
                  <a:cubicBezTo>
                    <a:pt x="16733" y="2191"/>
                    <a:pt x="17289" y="1374"/>
                    <a:pt x="18077" y="1029"/>
                  </a:cubicBezTo>
                  <a:cubicBezTo>
                    <a:pt x="15528" y="-1165"/>
                    <a:pt x="14369" y="470"/>
                    <a:pt x="14786" y="2923"/>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5" name="Shape 3629"/>
            <p:cNvSpPr/>
            <p:nvPr/>
          </p:nvSpPr>
          <p:spPr>
            <a:xfrm>
              <a:off x="21576960" y="5989320"/>
              <a:ext cx="83520" cy="88560"/>
            </a:xfrm>
            <a:custGeom>
              <a:avLst/>
              <a:gdLst>
                <a:gd name="textAreaLeft" fmla="*/ 0 w 83520"/>
                <a:gd name="textAreaRight" fmla="*/ 83880 w 83520"/>
                <a:gd name="textAreaTop" fmla="*/ 0 h 88560"/>
                <a:gd name="textAreaBottom" fmla="*/ 88920 h 88560"/>
              </a:gdLst>
              <a:ahLst/>
              <a:rect l="textAreaLeft" t="textAreaTop" r="textAreaRight" b="textAreaBottom"/>
              <a:pathLst>
                <a:path w="21074" h="21401">
                  <a:moveTo>
                    <a:pt x="8985" y="10966"/>
                  </a:moveTo>
                  <a:cubicBezTo>
                    <a:pt x="9419" y="10966"/>
                    <a:pt x="9636" y="10758"/>
                    <a:pt x="9853" y="10966"/>
                  </a:cubicBezTo>
                  <a:cubicBezTo>
                    <a:pt x="10070" y="11175"/>
                    <a:pt x="10287" y="11592"/>
                    <a:pt x="10287" y="11801"/>
                  </a:cubicBezTo>
                  <a:cubicBezTo>
                    <a:pt x="11481" y="15975"/>
                    <a:pt x="17668" y="17331"/>
                    <a:pt x="18536" y="21401"/>
                  </a:cubicBezTo>
                  <a:cubicBezTo>
                    <a:pt x="19622" y="21401"/>
                    <a:pt x="20816" y="20566"/>
                    <a:pt x="21033" y="19418"/>
                  </a:cubicBezTo>
                  <a:cubicBezTo>
                    <a:pt x="21250" y="18375"/>
                    <a:pt x="20599" y="17018"/>
                    <a:pt x="19622" y="16601"/>
                  </a:cubicBezTo>
                  <a:cubicBezTo>
                    <a:pt x="19188" y="16392"/>
                    <a:pt x="18536" y="16392"/>
                    <a:pt x="18319" y="15975"/>
                  </a:cubicBezTo>
                  <a:cubicBezTo>
                    <a:pt x="18102" y="15558"/>
                    <a:pt x="18102" y="15140"/>
                    <a:pt x="18102" y="14827"/>
                  </a:cubicBezTo>
                  <a:cubicBezTo>
                    <a:pt x="17885" y="14410"/>
                    <a:pt x="17342" y="13992"/>
                    <a:pt x="16908" y="13784"/>
                  </a:cubicBezTo>
                  <a:cubicBezTo>
                    <a:pt x="16257" y="13366"/>
                    <a:pt x="15606" y="13158"/>
                    <a:pt x="14846" y="12636"/>
                  </a:cubicBezTo>
                  <a:cubicBezTo>
                    <a:pt x="14412" y="12427"/>
                    <a:pt x="13978" y="12218"/>
                    <a:pt x="13761" y="11801"/>
                  </a:cubicBezTo>
                  <a:cubicBezTo>
                    <a:pt x="13543" y="11384"/>
                    <a:pt x="13761" y="10966"/>
                    <a:pt x="13543" y="10444"/>
                  </a:cubicBezTo>
                  <a:cubicBezTo>
                    <a:pt x="13109" y="8984"/>
                    <a:pt x="10287" y="9610"/>
                    <a:pt x="9419" y="8253"/>
                  </a:cubicBezTo>
                  <a:cubicBezTo>
                    <a:pt x="9202" y="8044"/>
                    <a:pt x="8985" y="7627"/>
                    <a:pt x="8768" y="7418"/>
                  </a:cubicBezTo>
                  <a:cubicBezTo>
                    <a:pt x="8008" y="7001"/>
                    <a:pt x="7139" y="7627"/>
                    <a:pt x="6488" y="7210"/>
                  </a:cubicBezTo>
                  <a:cubicBezTo>
                    <a:pt x="5294" y="6792"/>
                    <a:pt x="6054" y="5227"/>
                    <a:pt x="5837" y="4184"/>
                  </a:cubicBezTo>
                  <a:cubicBezTo>
                    <a:pt x="5511" y="3036"/>
                    <a:pt x="2364" y="-199"/>
                    <a:pt x="953" y="10"/>
                  </a:cubicBezTo>
                  <a:cubicBezTo>
                    <a:pt x="-350" y="427"/>
                    <a:pt x="-133" y="3349"/>
                    <a:pt x="518" y="4184"/>
                  </a:cubicBezTo>
                  <a:cubicBezTo>
                    <a:pt x="1278" y="5123"/>
                    <a:pt x="2146" y="4601"/>
                    <a:pt x="2798" y="5436"/>
                  </a:cubicBezTo>
                  <a:cubicBezTo>
                    <a:pt x="3558" y="6166"/>
                    <a:pt x="3232" y="7210"/>
                    <a:pt x="3775" y="8044"/>
                  </a:cubicBezTo>
                  <a:cubicBezTo>
                    <a:pt x="5077" y="9818"/>
                    <a:pt x="6922" y="11175"/>
                    <a:pt x="8985" y="10966"/>
                  </a:cubicBezTo>
                </a:path>
              </a:pathLst>
            </a:custGeom>
            <a:solidFill>
              <a:srgbClr val="d6d6d6"/>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6" name="Shape 3630"/>
            <p:cNvSpPr/>
            <p:nvPr/>
          </p:nvSpPr>
          <p:spPr>
            <a:xfrm>
              <a:off x="21911760" y="5932800"/>
              <a:ext cx="45360" cy="32400"/>
            </a:xfrm>
            <a:custGeom>
              <a:avLst/>
              <a:gdLst>
                <a:gd name="textAreaLeft" fmla="*/ 0 w 45360"/>
                <a:gd name="textAreaRight" fmla="*/ 45720 w 45360"/>
                <a:gd name="textAreaTop" fmla="*/ 0 h 32400"/>
                <a:gd name="textAreaBottom" fmla="*/ 32760 h 32400"/>
              </a:gdLst>
              <a:ahLst/>
              <a:rect l="textAreaLeft" t="textAreaTop" r="textAreaRight" b="textAreaBottom"/>
              <a:pathLst>
                <a:path w="20742" h="20804">
                  <a:moveTo>
                    <a:pt x="2919" y="4648"/>
                  </a:moveTo>
                  <a:cubicBezTo>
                    <a:pt x="2724" y="4648"/>
                    <a:pt x="2724" y="4922"/>
                    <a:pt x="2724" y="5195"/>
                  </a:cubicBezTo>
                  <a:cubicBezTo>
                    <a:pt x="1751" y="5468"/>
                    <a:pt x="778" y="5195"/>
                    <a:pt x="0" y="4648"/>
                  </a:cubicBezTo>
                  <a:cubicBezTo>
                    <a:pt x="778" y="3828"/>
                    <a:pt x="1946" y="3828"/>
                    <a:pt x="2919" y="3281"/>
                  </a:cubicBezTo>
                  <a:lnTo>
                    <a:pt x="2919" y="4648"/>
                  </a:lnTo>
                  <a:close/>
                  <a:moveTo>
                    <a:pt x="3697" y="13124"/>
                  </a:moveTo>
                  <a:cubicBezTo>
                    <a:pt x="5254" y="14765"/>
                    <a:pt x="7784" y="14218"/>
                    <a:pt x="8562" y="16678"/>
                  </a:cubicBezTo>
                  <a:cubicBezTo>
                    <a:pt x="8951" y="17772"/>
                    <a:pt x="8562" y="19413"/>
                    <a:pt x="9341" y="20506"/>
                  </a:cubicBezTo>
                  <a:cubicBezTo>
                    <a:pt x="10508" y="21600"/>
                    <a:pt x="11481" y="19413"/>
                    <a:pt x="12649" y="18319"/>
                  </a:cubicBezTo>
                  <a:cubicBezTo>
                    <a:pt x="13816" y="17225"/>
                    <a:pt x="14984" y="17225"/>
                    <a:pt x="16735" y="16678"/>
                  </a:cubicBezTo>
                  <a:cubicBezTo>
                    <a:pt x="17903" y="16678"/>
                    <a:pt x="19654" y="15858"/>
                    <a:pt x="20432" y="14218"/>
                  </a:cubicBezTo>
                  <a:cubicBezTo>
                    <a:pt x="21211" y="12577"/>
                    <a:pt x="20432" y="9570"/>
                    <a:pt x="19070" y="10116"/>
                  </a:cubicBezTo>
                  <a:cubicBezTo>
                    <a:pt x="18292" y="7929"/>
                    <a:pt x="21600" y="5195"/>
                    <a:pt x="20432" y="2734"/>
                  </a:cubicBezTo>
                  <a:cubicBezTo>
                    <a:pt x="20043" y="2734"/>
                    <a:pt x="20043" y="2187"/>
                    <a:pt x="19654" y="2187"/>
                  </a:cubicBezTo>
                  <a:cubicBezTo>
                    <a:pt x="16735" y="1094"/>
                    <a:pt x="13816" y="547"/>
                    <a:pt x="11092" y="0"/>
                  </a:cubicBezTo>
                  <a:cubicBezTo>
                    <a:pt x="10119" y="0"/>
                    <a:pt x="9341" y="0"/>
                    <a:pt x="8562" y="547"/>
                  </a:cubicBezTo>
                  <a:cubicBezTo>
                    <a:pt x="7784" y="1094"/>
                    <a:pt x="7395" y="1641"/>
                    <a:pt x="7005" y="2734"/>
                  </a:cubicBezTo>
                  <a:cubicBezTo>
                    <a:pt x="5838" y="4101"/>
                    <a:pt x="4281" y="5195"/>
                    <a:pt x="2724" y="5195"/>
                  </a:cubicBezTo>
                  <a:cubicBezTo>
                    <a:pt x="2335" y="7929"/>
                    <a:pt x="2141" y="10937"/>
                    <a:pt x="3697" y="13124"/>
                  </a:cubicBezTo>
                  <a:close/>
                </a:path>
              </a:pathLst>
            </a:custGeom>
            <a:solidFill>
              <a:srgbClr val="d6d6d6"/>
            </a:solidFill>
            <a:ln w="12700">
              <a:noFill/>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7" name="Shape 3631"/>
            <p:cNvSpPr/>
            <p:nvPr/>
          </p:nvSpPr>
          <p:spPr>
            <a:xfrm>
              <a:off x="21957840" y="5900760"/>
              <a:ext cx="29520" cy="26640"/>
            </a:xfrm>
            <a:custGeom>
              <a:avLst/>
              <a:gdLst>
                <a:gd name="textAreaLeft" fmla="*/ 0 w 29520"/>
                <a:gd name="textAreaRight" fmla="*/ 29880 w 29520"/>
                <a:gd name="textAreaTop" fmla="*/ 0 h 26640"/>
                <a:gd name="textAreaBottom" fmla="*/ 27000 h 26640"/>
              </a:gdLst>
              <a:ahLst/>
              <a:rect l="textAreaLeft" t="textAreaTop" r="textAreaRight" b="textAreaBottom"/>
              <a:pathLst>
                <a:path w="16947" h="20589">
                  <a:moveTo>
                    <a:pt x="7324" y="20419"/>
                  </a:moveTo>
                  <a:cubicBezTo>
                    <a:pt x="9585" y="21084"/>
                    <a:pt x="12097" y="19755"/>
                    <a:pt x="13101" y="17096"/>
                  </a:cubicBezTo>
                  <a:cubicBezTo>
                    <a:pt x="13604" y="15102"/>
                    <a:pt x="13604" y="12776"/>
                    <a:pt x="14106" y="10782"/>
                  </a:cubicBezTo>
                  <a:cubicBezTo>
                    <a:pt x="14608" y="8789"/>
                    <a:pt x="16366" y="8124"/>
                    <a:pt x="16869" y="5798"/>
                  </a:cubicBezTo>
                  <a:cubicBezTo>
                    <a:pt x="17371" y="3139"/>
                    <a:pt x="15362" y="1146"/>
                    <a:pt x="13604" y="149"/>
                  </a:cubicBezTo>
                  <a:cubicBezTo>
                    <a:pt x="11594" y="-516"/>
                    <a:pt x="9585" y="1146"/>
                    <a:pt x="7827" y="3139"/>
                  </a:cubicBezTo>
                  <a:cubicBezTo>
                    <a:pt x="6822" y="3804"/>
                    <a:pt x="6320" y="5133"/>
                    <a:pt x="5315" y="5133"/>
                  </a:cubicBezTo>
                  <a:cubicBezTo>
                    <a:pt x="4813" y="5798"/>
                    <a:pt x="3557" y="5798"/>
                    <a:pt x="2552" y="5798"/>
                  </a:cubicBezTo>
                  <a:cubicBezTo>
                    <a:pt x="-4229" y="6462"/>
                    <a:pt x="4311" y="19090"/>
                    <a:pt x="7324" y="20419"/>
                  </a:cubicBezTo>
                </a:path>
              </a:pathLst>
            </a:custGeom>
            <a:solidFill>
              <a:srgbClr val="a9a9a9"/>
            </a:solidFill>
            <a:ln w="12700">
              <a:noFill/>
            </a:ln>
          </p:spPr>
          <p:style>
            <a:lnRef idx="0"/>
            <a:fillRef idx="0"/>
            <a:effectRef idx="0"/>
            <a:fontRef idx="minor"/>
          </p:style>
          <p:txBody>
            <a:bodyPr numCol="1" spcCol="0" lIns="45720" rIns="45720" tIns="13320" bIns="13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8" name="Shape 3632"/>
            <p:cNvSpPr/>
            <p:nvPr/>
          </p:nvSpPr>
          <p:spPr>
            <a:xfrm>
              <a:off x="21967560" y="5946120"/>
              <a:ext cx="18000" cy="21600"/>
            </a:xfrm>
            <a:custGeom>
              <a:avLst/>
              <a:gdLst>
                <a:gd name="textAreaLeft" fmla="*/ 0 w 18000"/>
                <a:gd name="textAreaRight" fmla="*/ 18360 w 18000"/>
                <a:gd name="textAreaTop" fmla="*/ 0 h 21600"/>
                <a:gd name="textAreaBottom" fmla="*/ 21960 h 21600"/>
              </a:gdLst>
              <a:ahLst/>
              <a:rect l="textAreaLeft" t="textAreaTop" r="textAreaRight" b="textAreaBottom"/>
              <a:pathLst>
                <a:path w="21247" h="20869">
                  <a:moveTo>
                    <a:pt x="0" y="12226"/>
                  </a:moveTo>
                  <a:cubicBezTo>
                    <a:pt x="0" y="16302"/>
                    <a:pt x="4114" y="21600"/>
                    <a:pt x="9771" y="20785"/>
                  </a:cubicBezTo>
                  <a:cubicBezTo>
                    <a:pt x="15943" y="19970"/>
                    <a:pt x="19543" y="13857"/>
                    <a:pt x="20571" y="7743"/>
                  </a:cubicBezTo>
                  <a:cubicBezTo>
                    <a:pt x="21600" y="5298"/>
                    <a:pt x="21600" y="2853"/>
                    <a:pt x="19543" y="815"/>
                  </a:cubicBezTo>
                  <a:cubicBezTo>
                    <a:pt x="15429" y="408"/>
                    <a:pt x="11829" y="0"/>
                    <a:pt x="7714" y="0"/>
                  </a:cubicBezTo>
                  <a:cubicBezTo>
                    <a:pt x="3086" y="3668"/>
                    <a:pt x="0" y="6928"/>
                    <a:pt x="0" y="12226"/>
                  </a:cubicBezTo>
                </a:path>
              </a:pathLst>
            </a:custGeom>
            <a:solidFill>
              <a:srgbClr val="d6d6d6"/>
            </a:solidFill>
            <a:ln w="12700">
              <a:noFill/>
            </a:ln>
          </p:spPr>
          <p:style>
            <a:lnRef idx="0"/>
            <a:fillRef idx="0"/>
            <a:effectRef idx="0"/>
            <a:fontRef idx="minor"/>
          </p:style>
          <p:txBody>
            <a:bodyPr numCol="1" spcCol="0" lIns="45720" rIns="45720" tIns="10800" bIns="10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79" name="Shape 3633"/>
            <p:cNvSpPr/>
            <p:nvPr/>
          </p:nvSpPr>
          <p:spPr>
            <a:xfrm>
              <a:off x="21642480" y="5865840"/>
              <a:ext cx="43560" cy="48240"/>
            </a:xfrm>
            <a:custGeom>
              <a:avLst/>
              <a:gdLst>
                <a:gd name="textAreaLeft" fmla="*/ 0 w 43560"/>
                <a:gd name="textAreaRight" fmla="*/ 43920 w 43560"/>
                <a:gd name="textAreaTop" fmla="*/ 0 h 48240"/>
                <a:gd name="textAreaBottom" fmla="*/ 48600 h 48240"/>
              </a:gdLst>
              <a:ahLst/>
              <a:rect l="textAreaLeft" t="textAreaTop" r="textAreaRight" b="textAreaBottom"/>
              <a:pathLst>
                <a:path w="20835" h="19596">
                  <a:moveTo>
                    <a:pt x="8043" y="9462"/>
                  </a:moveTo>
                  <a:cubicBezTo>
                    <a:pt x="8462" y="9816"/>
                    <a:pt x="8462" y="10170"/>
                    <a:pt x="8462" y="10524"/>
                  </a:cubicBezTo>
                  <a:cubicBezTo>
                    <a:pt x="9301" y="12826"/>
                    <a:pt x="10140" y="15128"/>
                    <a:pt x="11608" y="16898"/>
                  </a:cubicBezTo>
                  <a:cubicBezTo>
                    <a:pt x="12447" y="17960"/>
                    <a:pt x="13285" y="19200"/>
                    <a:pt x="14544" y="19554"/>
                  </a:cubicBezTo>
                  <a:cubicBezTo>
                    <a:pt x="16851" y="19908"/>
                    <a:pt x="18528" y="17960"/>
                    <a:pt x="19996" y="16190"/>
                  </a:cubicBezTo>
                  <a:cubicBezTo>
                    <a:pt x="20416" y="15482"/>
                    <a:pt x="20835" y="14597"/>
                    <a:pt x="20835" y="13888"/>
                  </a:cubicBezTo>
                  <a:cubicBezTo>
                    <a:pt x="20835" y="13534"/>
                    <a:pt x="20416" y="13180"/>
                    <a:pt x="19577" y="12826"/>
                  </a:cubicBezTo>
                  <a:cubicBezTo>
                    <a:pt x="16851" y="11410"/>
                    <a:pt x="13705" y="10524"/>
                    <a:pt x="11608" y="8400"/>
                  </a:cubicBezTo>
                  <a:cubicBezTo>
                    <a:pt x="9720" y="6452"/>
                    <a:pt x="9301" y="3974"/>
                    <a:pt x="10769" y="1672"/>
                  </a:cubicBezTo>
                  <a:cubicBezTo>
                    <a:pt x="7204" y="256"/>
                    <a:pt x="1332" y="-1692"/>
                    <a:pt x="74" y="2734"/>
                  </a:cubicBezTo>
                  <a:cubicBezTo>
                    <a:pt x="-765" y="7692"/>
                    <a:pt x="5736" y="7692"/>
                    <a:pt x="8043" y="9462"/>
                  </a:cubicBezTo>
                </a:path>
              </a:pathLst>
            </a:custGeom>
            <a:solidFill>
              <a:srgbClr val="d6d6d6"/>
            </a:solidFill>
            <a:ln w="12700">
              <a:noFill/>
            </a:ln>
          </p:spPr>
          <p:style>
            <a:lnRef idx="0"/>
            <a:fillRef idx="0"/>
            <a:effectRef idx="0"/>
            <a:fontRef idx="minor"/>
          </p:style>
          <p:txBody>
            <a:bodyPr numCol="1" spcCol="0" lIns="45720" rIns="45720" tIns="24120" bIns="241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80" name="Shape 3634"/>
            <p:cNvSpPr/>
            <p:nvPr/>
          </p:nvSpPr>
          <p:spPr>
            <a:xfrm>
              <a:off x="21024360" y="5559840"/>
              <a:ext cx="223560" cy="209520"/>
            </a:xfrm>
            <a:custGeom>
              <a:avLst/>
              <a:gdLst>
                <a:gd name="textAreaLeft" fmla="*/ 0 w 223560"/>
                <a:gd name="textAreaRight" fmla="*/ 223920 w 223560"/>
                <a:gd name="textAreaTop" fmla="*/ 0 h 209520"/>
                <a:gd name="textAreaBottom" fmla="*/ 209880 h 209520"/>
              </a:gdLst>
              <a:ahLst/>
              <a:rect l="textAreaLeft" t="textAreaTop" r="textAreaRight" b="textAreaBottom"/>
              <a:pathLst>
                <a:path w="21379" h="21489">
                  <a:moveTo>
                    <a:pt x="19862" y="18482"/>
                  </a:moveTo>
                  <a:cubicBezTo>
                    <a:pt x="18824" y="17458"/>
                    <a:pt x="17619" y="16523"/>
                    <a:pt x="16373" y="15677"/>
                  </a:cubicBezTo>
                  <a:cubicBezTo>
                    <a:pt x="15875" y="15320"/>
                    <a:pt x="15252" y="15053"/>
                    <a:pt x="15086" y="14385"/>
                  </a:cubicBezTo>
                  <a:cubicBezTo>
                    <a:pt x="14919" y="14029"/>
                    <a:pt x="15002" y="13539"/>
                    <a:pt x="14836" y="13183"/>
                  </a:cubicBezTo>
                  <a:cubicBezTo>
                    <a:pt x="14546" y="12604"/>
                    <a:pt x="13798" y="12470"/>
                    <a:pt x="13258" y="12158"/>
                  </a:cubicBezTo>
                  <a:cubicBezTo>
                    <a:pt x="12759" y="11891"/>
                    <a:pt x="12219" y="11000"/>
                    <a:pt x="12635" y="10555"/>
                  </a:cubicBezTo>
                  <a:cubicBezTo>
                    <a:pt x="13175" y="10065"/>
                    <a:pt x="14213" y="10555"/>
                    <a:pt x="14462" y="9887"/>
                  </a:cubicBezTo>
                  <a:cubicBezTo>
                    <a:pt x="14546" y="9709"/>
                    <a:pt x="14462" y="9531"/>
                    <a:pt x="14462" y="9442"/>
                  </a:cubicBezTo>
                  <a:cubicBezTo>
                    <a:pt x="14379" y="8863"/>
                    <a:pt x="14047" y="8417"/>
                    <a:pt x="13590" y="8016"/>
                  </a:cubicBezTo>
                  <a:cubicBezTo>
                    <a:pt x="13009" y="7571"/>
                    <a:pt x="12136" y="7571"/>
                    <a:pt x="11430" y="7482"/>
                  </a:cubicBezTo>
                  <a:cubicBezTo>
                    <a:pt x="10641" y="7304"/>
                    <a:pt x="9852" y="6992"/>
                    <a:pt x="9602" y="6146"/>
                  </a:cubicBezTo>
                  <a:cubicBezTo>
                    <a:pt x="9312" y="5522"/>
                    <a:pt x="9602" y="4676"/>
                    <a:pt x="9312" y="4008"/>
                  </a:cubicBezTo>
                  <a:cubicBezTo>
                    <a:pt x="9062" y="3474"/>
                    <a:pt x="8356" y="3162"/>
                    <a:pt x="7775" y="3073"/>
                  </a:cubicBezTo>
                  <a:cubicBezTo>
                    <a:pt x="7152" y="2984"/>
                    <a:pt x="6529" y="3073"/>
                    <a:pt x="5947" y="2984"/>
                  </a:cubicBezTo>
                  <a:cubicBezTo>
                    <a:pt x="5324" y="2806"/>
                    <a:pt x="4867" y="2405"/>
                    <a:pt x="4369" y="2049"/>
                  </a:cubicBezTo>
                  <a:cubicBezTo>
                    <a:pt x="3164" y="1202"/>
                    <a:pt x="1752" y="445"/>
                    <a:pt x="256" y="0"/>
                  </a:cubicBezTo>
                  <a:cubicBezTo>
                    <a:pt x="256" y="445"/>
                    <a:pt x="173" y="935"/>
                    <a:pt x="173" y="1381"/>
                  </a:cubicBezTo>
                  <a:cubicBezTo>
                    <a:pt x="7" y="6547"/>
                    <a:pt x="-76" y="11579"/>
                    <a:pt x="90" y="16701"/>
                  </a:cubicBezTo>
                  <a:cubicBezTo>
                    <a:pt x="796" y="16835"/>
                    <a:pt x="1419" y="16835"/>
                    <a:pt x="2084" y="16835"/>
                  </a:cubicBezTo>
                  <a:cubicBezTo>
                    <a:pt x="2458" y="16835"/>
                    <a:pt x="2873" y="16835"/>
                    <a:pt x="3247" y="16523"/>
                  </a:cubicBezTo>
                  <a:cubicBezTo>
                    <a:pt x="3413" y="16345"/>
                    <a:pt x="3496" y="15988"/>
                    <a:pt x="3579" y="15677"/>
                  </a:cubicBezTo>
                  <a:cubicBezTo>
                    <a:pt x="3662" y="15142"/>
                    <a:pt x="3746" y="14652"/>
                    <a:pt x="3912" y="14118"/>
                  </a:cubicBezTo>
                  <a:cubicBezTo>
                    <a:pt x="4286" y="12336"/>
                    <a:pt x="6736" y="11668"/>
                    <a:pt x="8273" y="12247"/>
                  </a:cubicBezTo>
                  <a:cubicBezTo>
                    <a:pt x="9062" y="12515"/>
                    <a:pt x="9769" y="13183"/>
                    <a:pt x="10392" y="13717"/>
                  </a:cubicBezTo>
                  <a:cubicBezTo>
                    <a:pt x="11430" y="14652"/>
                    <a:pt x="12386" y="15677"/>
                    <a:pt x="13175" y="16835"/>
                  </a:cubicBezTo>
                  <a:cubicBezTo>
                    <a:pt x="13590" y="17547"/>
                    <a:pt x="14130" y="18304"/>
                    <a:pt x="14919" y="18572"/>
                  </a:cubicBezTo>
                  <a:cubicBezTo>
                    <a:pt x="15335" y="18661"/>
                    <a:pt x="15709" y="18661"/>
                    <a:pt x="16124" y="18661"/>
                  </a:cubicBezTo>
                  <a:cubicBezTo>
                    <a:pt x="17619" y="18794"/>
                    <a:pt x="19073" y="19418"/>
                    <a:pt x="20029" y="20665"/>
                  </a:cubicBezTo>
                  <a:cubicBezTo>
                    <a:pt x="20402" y="21110"/>
                    <a:pt x="20818" y="21600"/>
                    <a:pt x="21358" y="21466"/>
                  </a:cubicBezTo>
                  <a:cubicBezTo>
                    <a:pt x="21524" y="20442"/>
                    <a:pt x="20652" y="19329"/>
                    <a:pt x="19862" y="18482"/>
                  </a:cubicBezTo>
                </a:path>
              </a:pathLst>
            </a:custGeom>
            <a:solidFill>
              <a:srgbClr val="d6d6d6"/>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281" name="Group 3678"/>
          <p:cNvGrpSpPr/>
          <p:nvPr/>
        </p:nvGrpSpPr>
        <p:grpSpPr>
          <a:xfrm>
            <a:off x="18143640" y="1833120"/>
            <a:ext cx="4119120" cy="3913560"/>
            <a:chOff x="18143640" y="1833120"/>
            <a:chExt cx="4119120" cy="3913560"/>
          </a:xfrm>
        </p:grpSpPr>
        <p:sp>
          <p:nvSpPr>
            <p:cNvPr id="6282" name="Shape 3636"/>
            <p:cNvSpPr/>
            <p:nvPr/>
          </p:nvSpPr>
          <p:spPr>
            <a:xfrm>
              <a:off x="19476720" y="5249160"/>
              <a:ext cx="64080" cy="95040"/>
            </a:xfrm>
            <a:custGeom>
              <a:avLst/>
              <a:gdLst>
                <a:gd name="textAreaLeft" fmla="*/ 0 w 64080"/>
                <a:gd name="textAreaRight" fmla="*/ 64440 w 64080"/>
                <a:gd name="textAreaTop" fmla="*/ 0 h 95040"/>
                <a:gd name="textAreaBottom" fmla="*/ 95400 h 95040"/>
              </a:gdLst>
              <a:ahLst/>
              <a:rect l="textAreaLeft" t="textAreaTop" r="textAreaRight" b="textAreaBottom"/>
              <a:pathLst>
                <a:path w="21390" h="21082">
                  <a:moveTo>
                    <a:pt x="3290" y="5702"/>
                  </a:moveTo>
                  <a:cubicBezTo>
                    <a:pt x="2432" y="5702"/>
                    <a:pt x="1574" y="5702"/>
                    <a:pt x="1001" y="5702"/>
                  </a:cubicBezTo>
                  <a:cubicBezTo>
                    <a:pt x="715" y="5702"/>
                    <a:pt x="715" y="5702"/>
                    <a:pt x="286" y="5702"/>
                  </a:cubicBezTo>
                  <a:cubicBezTo>
                    <a:pt x="0" y="5894"/>
                    <a:pt x="0" y="6086"/>
                    <a:pt x="0" y="6278"/>
                  </a:cubicBezTo>
                  <a:cubicBezTo>
                    <a:pt x="286" y="7718"/>
                    <a:pt x="286" y="8966"/>
                    <a:pt x="715" y="10310"/>
                  </a:cubicBezTo>
                  <a:cubicBezTo>
                    <a:pt x="715" y="10790"/>
                    <a:pt x="715" y="10982"/>
                    <a:pt x="1001" y="11366"/>
                  </a:cubicBezTo>
                  <a:cubicBezTo>
                    <a:pt x="1001" y="11750"/>
                    <a:pt x="1287" y="11942"/>
                    <a:pt x="1574" y="12326"/>
                  </a:cubicBezTo>
                  <a:cubicBezTo>
                    <a:pt x="3004" y="14726"/>
                    <a:pt x="2718" y="17414"/>
                    <a:pt x="3004" y="19814"/>
                  </a:cubicBezTo>
                  <a:cubicBezTo>
                    <a:pt x="3004" y="20006"/>
                    <a:pt x="3004" y="20006"/>
                    <a:pt x="3004" y="20198"/>
                  </a:cubicBezTo>
                  <a:cubicBezTo>
                    <a:pt x="3290" y="20774"/>
                    <a:pt x="4577" y="21062"/>
                    <a:pt x="5436" y="20774"/>
                  </a:cubicBezTo>
                  <a:cubicBezTo>
                    <a:pt x="6294" y="20582"/>
                    <a:pt x="7295" y="20390"/>
                    <a:pt x="8154" y="20198"/>
                  </a:cubicBezTo>
                  <a:cubicBezTo>
                    <a:pt x="9584" y="20006"/>
                    <a:pt x="11444" y="20582"/>
                    <a:pt x="13017" y="20774"/>
                  </a:cubicBezTo>
                  <a:cubicBezTo>
                    <a:pt x="14448" y="21254"/>
                    <a:pt x="16593" y="21254"/>
                    <a:pt x="17452" y="20198"/>
                  </a:cubicBezTo>
                  <a:cubicBezTo>
                    <a:pt x="18024" y="19622"/>
                    <a:pt x="18024" y="19046"/>
                    <a:pt x="18310" y="18374"/>
                  </a:cubicBezTo>
                  <a:cubicBezTo>
                    <a:pt x="18882" y="17798"/>
                    <a:pt x="19597" y="17414"/>
                    <a:pt x="20456" y="17030"/>
                  </a:cubicBezTo>
                  <a:cubicBezTo>
                    <a:pt x="21028" y="16550"/>
                    <a:pt x="21600" y="16070"/>
                    <a:pt x="21314" y="15398"/>
                  </a:cubicBezTo>
                  <a:cubicBezTo>
                    <a:pt x="21028" y="14822"/>
                    <a:pt x="19597" y="14342"/>
                    <a:pt x="19883" y="13574"/>
                  </a:cubicBezTo>
                  <a:cubicBezTo>
                    <a:pt x="19883" y="13190"/>
                    <a:pt x="20456" y="12998"/>
                    <a:pt x="20742" y="12518"/>
                  </a:cubicBezTo>
                  <a:cubicBezTo>
                    <a:pt x="21600" y="11558"/>
                    <a:pt x="20742" y="10118"/>
                    <a:pt x="19597" y="9158"/>
                  </a:cubicBezTo>
                  <a:cubicBezTo>
                    <a:pt x="18024" y="7718"/>
                    <a:pt x="16307" y="6470"/>
                    <a:pt x="15592" y="4934"/>
                  </a:cubicBezTo>
                  <a:cubicBezTo>
                    <a:pt x="15592" y="4454"/>
                    <a:pt x="15306" y="4070"/>
                    <a:pt x="15306" y="3878"/>
                  </a:cubicBezTo>
                  <a:cubicBezTo>
                    <a:pt x="14734" y="3110"/>
                    <a:pt x="13303" y="2726"/>
                    <a:pt x="11730" y="2534"/>
                  </a:cubicBezTo>
                  <a:cubicBezTo>
                    <a:pt x="11444" y="2534"/>
                    <a:pt x="10872" y="2534"/>
                    <a:pt x="10585" y="2246"/>
                  </a:cubicBezTo>
                  <a:cubicBezTo>
                    <a:pt x="10299" y="2054"/>
                    <a:pt x="10013" y="1670"/>
                    <a:pt x="10013" y="1286"/>
                  </a:cubicBezTo>
                  <a:cubicBezTo>
                    <a:pt x="9012" y="-154"/>
                    <a:pt x="6008" y="-346"/>
                    <a:pt x="4291" y="518"/>
                  </a:cubicBezTo>
                  <a:cubicBezTo>
                    <a:pt x="2718" y="1670"/>
                    <a:pt x="3290" y="4262"/>
                    <a:pt x="3290" y="5702"/>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83" name="Shape 3637"/>
            <p:cNvSpPr/>
            <p:nvPr/>
          </p:nvSpPr>
          <p:spPr>
            <a:xfrm>
              <a:off x="19875240" y="5343120"/>
              <a:ext cx="256680" cy="286560"/>
            </a:xfrm>
            <a:custGeom>
              <a:avLst/>
              <a:gdLst>
                <a:gd name="textAreaLeft" fmla="*/ 0 w 256680"/>
                <a:gd name="textAreaRight" fmla="*/ 257040 w 256680"/>
                <a:gd name="textAreaTop" fmla="*/ 0 h 286560"/>
                <a:gd name="textAreaBottom" fmla="*/ 286920 h 286560"/>
              </a:gdLst>
              <a:ahLst/>
              <a:rect l="textAreaLeft" t="textAreaTop" r="textAreaRight" b="textAreaBottom"/>
              <a:pathLst>
                <a:path w="21103" h="21107">
                  <a:moveTo>
                    <a:pt x="719" y="1304"/>
                  </a:moveTo>
                  <a:cubicBezTo>
                    <a:pt x="790" y="1657"/>
                    <a:pt x="397" y="1978"/>
                    <a:pt x="719" y="2267"/>
                  </a:cubicBezTo>
                  <a:cubicBezTo>
                    <a:pt x="790" y="2331"/>
                    <a:pt x="933" y="2395"/>
                    <a:pt x="1077" y="2395"/>
                  </a:cubicBezTo>
                  <a:cubicBezTo>
                    <a:pt x="2364" y="2588"/>
                    <a:pt x="3651" y="3133"/>
                    <a:pt x="4152" y="4128"/>
                  </a:cubicBezTo>
                  <a:cubicBezTo>
                    <a:pt x="4545" y="4899"/>
                    <a:pt x="4617" y="5894"/>
                    <a:pt x="5368" y="6311"/>
                  </a:cubicBezTo>
                  <a:cubicBezTo>
                    <a:pt x="5511" y="6150"/>
                    <a:pt x="5797" y="6311"/>
                    <a:pt x="5869" y="6439"/>
                  </a:cubicBezTo>
                  <a:cubicBezTo>
                    <a:pt x="6047" y="6568"/>
                    <a:pt x="6047" y="6824"/>
                    <a:pt x="6119" y="6985"/>
                  </a:cubicBezTo>
                  <a:cubicBezTo>
                    <a:pt x="6333" y="7434"/>
                    <a:pt x="6870" y="7723"/>
                    <a:pt x="7084" y="8172"/>
                  </a:cubicBezTo>
                  <a:cubicBezTo>
                    <a:pt x="7371" y="8718"/>
                    <a:pt x="7335" y="9456"/>
                    <a:pt x="7692" y="9938"/>
                  </a:cubicBezTo>
                  <a:cubicBezTo>
                    <a:pt x="8086" y="10419"/>
                    <a:pt x="8801" y="10547"/>
                    <a:pt x="9051" y="11093"/>
                  </a:cubicBezTo>
                  <a:cubicBezTo>
                    <a:pt x="9194" y="11350"/>
                    <a:pt x="9123" y="11606"/>
                    <a:pt x="9266" y="11831"/>
                  </a:cubicBezTo>
                  <a:cubicBezTo>
                    <a:pt x="9480" y="12345"/>
                    <a:pt x="10231" y="12569"/>
                    <a:pt x="10553" y="13083"/>
                  </a:cubicBezTo>
                  <a:cubicBezTo>
                    <a:pt x="10696" y="13308"/>
                    <a:pt x="10696" y="13564"/>
                    <a:pt x="10839" y="13853"/>
                  </a:cubicBezTo>
                  <a:cubicBezTo>
                    <a:pt x="11447" y="15458"/>
                    <a:pt x="13915" y="16003"/>
                    <a:pt x="14809" y="17480"/>
                  </a:cubicBezTo>
                  <a:cubicBezTo>
                    <a:pt x="14952" y="17801"/>
                    <a:pt x="15131" y="18154"/>
                    <a:pt x="15345" y="18411"/>
                  </a:cubicBezTo>
                  <a:cubicBezTo>
                    <a:pt x="15703" y="18828"/>
                    <a:pt x="16239" y="19020"/>
                    <a:pt x="16704" y="19277"/>
                  </a:cubicBezTo>
                  <a:cubicBezTo>
                    <a:pt x="17205" y="19630"/>
                    <a:pt x="17598" y="20176"/>
                    <a:pt x="18099" y="20561"/>
                  </a:cubicBezTo>
                  <a:cubicBezTo>
                    <a:pt x="18635" y="20978"/>
                    <a:pt x="19315" y="21235"/>
                    <a:pt x="19923" y="21042"/>
                  </a:cubicBezTo>
                  <a:cubicBezTo>
                    <a:pt x="20424" y="20850"/>
                    <a:pt x="20745" y="20368"/>
                    <a:pt x="20888" y="19887"/>
                  </a:cubicBezTo>
                  <a:cubicBezTo>
                    <a:pt x="21031" y="19438"/>
                    <a:pt x="20960" y="18892"/>
                    <a:pt x="21031" y="18411"/>
                  </a:cubicBezTo>
                  <a:cubicBezTo>
                    <a:pt x="21031" y="18218"/>
                    <a:pt x="21103" y="17961"/>
                    <a:pt x="21103" y="17737"/>
                  </a:cubicBezTo>
                  <a:cubicBezTo>
                    <a:pt x="21031" y="17351"/>
                    <a:pt x="20745" y="16998"/>
                    <a:pt x="20674" y="16517"/>
                  </a:cubicBezTo>
                  <a:cubicBezTo>
                    <a:pt x="20674" y="16324"/>
                    <a:pt x="20674" y="16132"/>
                    <a:pt x="20745" y="15939"/>
                  </a:cubicBezTo>
                  <a:cubicBezTo>
                    <a:pt x="20817" y="15201"/>
                    <a:pt x="20209" y="14431"/>
                    <a:pt x="19386" y="14302"/>
                  </a:cubicBezTo>
                  <a:cubicBezTo>
                    <a:pt x="19243" y="14238"/>
                    <a:pt x="19029" y="14238"/>
                    <a:pt x="18850" y="14174"/>
                  </a:cubicBezTo>
                  <a:cubicBezTo>
                    <a:pt x="18492" y="14046"/>
                    <a:pt x="18349" y="13628"/>
                    <a:pt x="18206" y="13308"/>
                  </a:cubicBezTo>
                  <a:cubicBezTo>
                    <a:pt x="18028" y="12826"/>
                    <a:pt x="17741" y="12280"/>
                    <a:pt x="17205" y="12280"/>
                  </a:cubicBezTo>
                  <a:cubicBezTo>
                    <a:pt x="17062" y="12280"/>
                    <a:pt x="16919" y="12280"/>
                    <a:pt x="16776" y="12280"/>
                  </a:cubicBezTo>
                  <a:cubicBezTo>
                    <a:pt x="16382" y="12280"/>
                    <a:pt x="16061" y="12024"/>
                    <a:pt x="15953" y="11671"/>
                  </a:cubicBezTo>
                  <a:cubicBezTo>
                    <a:pt x="15882" y="11350"/>
                    <a:pt x="16096" y="10997"/>
                    <a:pt x="16454" y="10868"/>
                  </a:cubicBezTo>
                  <a:cubicBezTo>
                    <a:pt x="16597" y="10804"/>
                    <a:pt x="16847" y="10804"/>
                    <a:pt x="16990" y="10740"/>
                  </a:cubicBezTo>
                  <a:cubicBezTo>
                    <a:pt x="17133" y="10676"/>
                    <a:pt x="17205" y="10483"/>
                    <a:pt x="17062" y="10323"/>
                  </a:cubicBezTo>
                  <a:cubicBezTo>
                    <a:pt x="16704" y="9873"/>
                    <a:pt x="16239" y="9392"/>
                    <a:pt x="15631" y="9199"/>
                  </a:cubicBezTo>
                  <a:cubicBezTo>
                    <a:pt x="15488" y="9135"/>
                    <a:pt x="15274" y="9135"/>
                    <a:pt x="15131" y="9007"/>
                  </a:cubicBezTo>
                  <a:cubicBezTo>
                    <a:pt x="14880" y="8782"/>
                    <a:pt x="14880" y="8525"/>
                    <a:pt x="14737" y="8236"/>
                  </a:cubicBezTo>
                  <a:cubicBezTo>
                    <a:pt x="14380" y="7498"/>
                    <a:pt x="13092" y="7691"/>
                    <a:pt x="12413" y="7049"/>
                  </a:cubicBezTo>
                  <a:cubicBezTo>
                    <a:pt x="12055" y="6728"/>
                    <a:pt x="11733" y="6086"/>
                    <a:pt x="11197" y="6150"/>
                  </a:cubicBezTo>
                  <a:cubicBezTo>
                    <a:pt x="11054" y="6150"/>
                    <a:pt x="10839" y="6311"/>
                    <a:pt x="10696" y="6375"/>
                  </a:cubicBezTo>
                  <a:cubicBezTo>
                    <a:pt x="10160" y="6503"/>
                    <a:pt x="9695" y="5958"/>
                    <a:pt x="9552" y="5476"/>
                  </a:cubicBezTo>
                  <a:cubicBezTo>
                    <a:pt x="9337" y="5027"/>
                    <a:pt x="9051" y="4481"/>
                    <a:pt x="8515" y="4481"/>
                  </a:cubicBezTo>
                  <a:cubicBezTo>
                    <a:pt x="8300" y="4481"/>
                    <a:pt x="8122" y="4546"/>
                    <a:pt x="7907" y="4610"/>
                  </a:cubicBezTo>
                  <a:cubicBezTo>
                    <a:pt x="7228" y="4738"/>
                    <a:pt x="6620" y="4289"/>
                    <a:pt x="6119" y="3872"/>
                  </a:cubicBezTo>
                  <a:cubicBezTo>
                    <a:pt x="6333" y="3936"/>
                    <a:pt x="6477" y="3615"/>
                    <a:pt x="6405" y="3390"/>
                  </a:cubicBezTo>
                  <a:cubicBezTo>
                    <a:pt x="6333" y="3198"/>
                    <a:pt x="6190" y="3101"/>
                    <a:pt x="6119" y="2877"/>
                  </a:cubicBezTo>
                  <a:cubicBezTo>
                    <a:pt x="6047" y="2684"/>
                    <a:pt x="6083" y="2427"/>
                    <a:pt x="5976" y="2138"/>
                  </a:cubicBezTo>
                  <a:cubicBezTo>
                    <a:pt x="5904" y="1882"/>
                    <a:pt x="5726" y="1657"/>
                    <a:pt x="5511" y="1593"/>
                  </a:cubicBezTo>
                  <a:cubicBezTo>
                    <a:pt x="5153" y="1529"/>
                    <a:pt x="4688" y="1785"/>
                    <a:pt x="4545" y="1529"/>
                  </a:cubicBezTo>
                  <a:cubicBezTo>
                    <a:pt x="4474" y="1368"/>
                    <a:pt x="4474" y="1240"/>
                    <a:pt x="4474" y="1111"/>
                  </a:cubicBezTo>
                  <a:cubicBezTo>
                    <a:pt x="4295" y="790"/>
                    <a:pt x="3794" y="790"/>
                    <a:pt x="3401" y="855"/>
                  </a:cubicBezTo>
                  <a:cubicBezTo>
                    <a:pt x="3043" y="919"/>
                    <a:pt x="2507" y="1047"/>
                    <a:pt x="2292" y="790"/>
                  </a:cubicBezTo>
                  <a:cubicBezTo>
                    <a:pt x="2221" y="694"/>
                    <a:pt x="2149" y="566"/>
                    <a:pt x="2042" y="502"/>
                  </a:cubicBezTo>
                  <a:cubicBezTo>
                    <a:pt x="1899" y="437"/>
                    <a:pt x="1756" y="502"/>
                    <a:pt x="1684" y="502"/>
                  </a:cubicBezTo>
                  <a:cubicBezTo>
                    <a:pt x="1148" y="502"/>
                    <a:pt x="719" y="-365"/>
                    <a:pt x="254" y="181"/>
                  </a:cubicBezTo>
                  <a:cubicBezTo>
                    <a:pt x="-497" y="790"/>
                    <a:pt x="647" y="919"/>
                    <a:pt x="719" y="130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84" name="Shape 3638"/>
            <p:cNvSpPr/>
            <p:nvPr/>
          </p:nvSpPr>
          <p:spPr>
            <a:xfrm>
              <a:off x="20118240" y="5517000"/>
              <a:ext cx="32400" cy="43200"/>
            </a:xfrm>
            <a:custGeom>
              <a:avLst/>
              <a:gdLst>
                <a:gd name="textAreaLeft" fmla="*/ 0 w 32400"/>
                <a:gd name="textAreaRight" fmla="*/ 32760 w 32400"/>
                <a:gd name="textAreaTop" fmla="*/ 0 h 43200"/>
                <a:gd name="textAreaBottom" fmla="*/ 43560 h 43200"/>
              </a:gdLst>
              <a:ahLst/>
              <a:rect l="textAreaLeft" t="textAreaTop" r="textAreaRight" b="textAreaBottom"/>
              <a:pathLst>
                <a:path w="18705" h="21493">
                  <a:moveTo>
                    <a:pt x="787" y="6523"/>
                  </a:moveTo>
                  <a:cubicBezTo>
                    <a:pt x="2260" y="8875"/>
                    <a:pt x="6432" y="8020"/>
                    <a:pt x="7905" y="9731"/>
                  </a:cubicBezTo>
                  <a:cubicBezTo>
                    <a:pt x="9132" y="11014"/>
                    <a:pt x="8396" y="12511"/>
                    <a:pt x="9132" y="13794"/>
                  </a:cubicBezTo>
                  <a:cubicBezTo>
                    <a:pt x="9623" y="14222"/>
                    <a:pt x="9623" y="14649"/>
                    <a:pt x="10114" y="15505"/>
                  </a:cubicBezTo>
                  <a:cubicBezTo>
                    <a:pt x="11587" y="17430"/>
                    <a:pt x="13550" y="19141"/>
                    <a:pt x="15269" y="20424"/>
                  </a:cubicBezTo>
                  <a:cubicBezTo>
                    <a:pt x="15760" y="21065"/>
                    <a:pt x="16250" y="21493"/>
                    <a:pt x="16741" y="21493"/>
                  </a:cubicBezTo>
                  <a:cubicBezTo>
                    <a:pt x="17232" y="21493"/>
                    <a:pt x="18214" y="21493"/>
                    <a:pt x="18705" y="21065"/>
                  </a:cubicBezTo>
                  <a:cubicBezTo>
                    <a:pt x="18705" y="20424"/>
                    <a:pt x="18705" y="19996"/>
                    <a:pt x="18705" y="19996"/>
                  </a:cubicBezTo>
                  <a:cubicBezTo>
                    <a:pt x="18705" y="18285"/>
                    <a:pt x="18214" y="17002"/>
                    <a:pt x="18214" y="15077"/>
                  </a:cubicBezTo>
                  <a:cubicBezTo>
                    <a:pt x="18214" y="14649"/>
                    <a:pt x="18214" y="14649"/>
                    <a:pt x="18214" y="14222"/>
                  </a:cubicBezTo>
                  <a:cubicBezTo>
                    <a:pt x="17723" y="13366"/>
                    <a:pt x="16250" y="13366"/>
                    <a:pt x="15269" y="12939"/>
                  </a:cubicBezTo>
                  <a:cubicBezTo>
                    <a:pt x="14287" y="12511"/>
                    <a:pt x="14287" y="11655"/>
                    <a:pt x="14287" y="10586"/>
                  </a:cubicBezTo>
                  <a:cubicBezTo>
                    <a:pt x="14287" y="9731"/>
                    <a:pt x="14778" y="8875"/>
                    <a:pt x="14778" y="8020"/>
                  </a:cubicBezTo>
                  <a:cubicBezTo>
                    <a:pt x="15269" y="5667"/>
                    <a:pt x="14778" y="3101"/>
                    <a:pt x="13060" y="1176"/>
                  </a:cubicBezTo>
                  <a:cubicBezTo>
                    <a:pt x="12569" y="748"/>
                    <a:pt x="12569" y="321"/>
                    <a:pt x="12078" y="321"/>
                  </a:cubicBezTo>
                  <a:cubicBezTo>
                    <a:pt x="11096" y="-107"/>
                    <a:pt x="10605" y="-107"/>
                    <a:pt x="9623" y="321"/>
                  </a:cubicBezTo>
                  <a:cubicBezTo>
                    <a:pt x="7414" y="-107"/>
                    <a:pt x="-2895" y="1604"/>
                    <a:pt x="787" y="6523"/>
                  </a:cubicBezTo>
                </a:path>
              </a:pathLst>
            </a:custGeom>
            <a:solidFill>
              <a:srgbClr val="919191"/>
            </a:solidFill>
            <a:ln w="12700">
              <a:noFill/>
            </a:ln>
          </p:spPr>
          <p:style>
            <a:lnRef idx="0"/>
            <a:fillRef idx="0"/>
            <a:effectRef idx="0"/>
            <a:fontRef idx="minor"/>
          </p:style>
          <p:txBody>
            <a:bodyPr numCol="1" spcCol="0" lIns="45720" rIns="45720" tIns="21600" bIns="21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85" name="Shape 3639"/>
            <p:cNvSpPr/>
            <p:nvPr/>
          </p:nvSpPr>
          <p:spPr>
            <a:xfrm>
              <a:off x="20174040" y="5549400"/>
              <a:ext cx="25200" cy="15120"/>
            </a:xfrm>
            <a:custGeom>
              <a:avLst/>
              <a:gdLst>
                <a:gd name="textAreaLeft" fmla="*/ 0 w 25200"/>
                <a:gd name="textAreaRight" fmla="*/ 25560 w 25200"/>
                <a:gd name="textAreaTop" fmla="*/ 0 h 15120"/>
                <a:gd name="textAreaBottom" fmla="*/ 15480 h 15120"/>
              </a:gdLst>
              <a:ahLst/>
              <a:rect l="textAreaLeft" t="textAreaTop" r="textAreaRight" b="textAreaBottom"/>
              <a:pathLst>
                <a:path w="19528" h="21600">
                  <a:moveTo>
                    <a:pt x="1123" y="17788"/>
                  </a:moveTo>
                  <a:cubicBezTo>
                    <a:pt x="1809" y="19059"/>
                    <a:pt x="3180" y="20329"/>
                    <a:pt x="4552" y="20329"/>
                  </a:cubicBezTo>
                  <a:cubicBezTo>
                    <a:pt x="6266" y="20329"/>
                    <a:pt x="7637" y="21600"/>
                    <a:pt x="9009" y="21600"/>
                  </a:cubicBezTo>
                  <a:cubicBezTo>
                    <a:pt x="9695" y="21600"/>
                    <a:pt x="10380" y="21600"/>
                    <a:pt x="11066" y="21600"/>
                  </a:cubicBezTo>
                  <a:cubicBezTo>
                    <a:pt x="11752" y="21600"/>
                    <a:pt x="12780" y="20329"/>
                    <a:pt x="13466" y="20329"/>
                  </a:cubicBezTo>
                  <a:cubicBezTo>
                    <a:pt x="14152" y="20329"/>
                    <a:pt x="14837" y="20329"/>
                    <a:pt x="15523" y="20329"/>
                  </a:cubicBezTo>
                  <a:cubicBezTo>
                    <a:pt x="18266" y="19059"/>
                    <a:pt x="20666" y="12071"/>
                    <a:pt x="18952" y="6988"/>
                  </a:cubicBezTo>
                  <a:cubicBezTo>
                    <a:pt x="18266" y="3176"/>
                    <a:pt x="15866" y="635"/>
                    <a:pt x="13466" y="1906"/>
                  </a:cubicBezTo>
                  <a:cubicBezTo>
                    <a:pt x="11409" y="3812"/>
                    <a:pt x="10380" y="5718"/>
                    <a:pt x="8323" y="4447"/>
                  </a:cubicBezTo>
                  <a:cubicBezTo>
                    <a:pt x="6952" y="4447"/>
                    <a:pt x="5580" y="0"/>
                    <a:pt x="3866" y="0"/>
                  </a:cubicBezTo>
                  <a:cubicBezTo>
                    <a:pt x="-248" y="1906"/>
                    <a:pt x="-934" y="13341"/>
                    <a:pt x="1123" y="17788"/>
                  </a:cubicBezTo>
                </a:path>
              </a:pathLst>
            </a:custGeom>
            <a:solidFill>
              <a:srgbClr val="919191"/>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86" name="Shape 3640"/>
            <p:cNvSpPr/>
            <p:nvPr/>
          </p:nvSpPr>
          <p:spPr>
            <a:xfrm>
              <a:off x="20209680" y="5300280"/>
              <a:ext cx="261360" cy="282240"/>
            </a:xfrm>
            <a:custGeom>
              <a:avLst/>
              <a:gdLst>
                <a:gd name="textAreaLeft" fmla="*/ 0 w 261360"/>
                <a:gd name="textAreaRight" fmla="*/ 261720 w 261360"/>
                <a:gd name="textAreaTop" fmla="*/ 0 h 282240"/>
                <a:gd name="textAreaBottom" fmla="*/ 282600 h 282240"/>
              </a:gdLst>
              <a:ahLst/>
              <a:rect l="textAreaLeft" t="textAreaTop" r="textAreaRight" b="textAreaBottom"/>
              <a:pathLst>
                <a:path w="21494" h="21476">
                  <a:moveTo>
                    <a:pt x="101" y="11872"/>
                  </a:moveTo>
                  <a:cubicBezTo>
                    <a:pt x="30" y="12005"/>
                    <a:pt x="-42" y="12204"/>
                    <a:pt x="30" y="12337"/>
                  </a:cubicBezTo>
                  <a:cubicBezTo>
                    <a:pt x="101" y="12470"/>
                    <a:pt x="316" y="12570"/>
                    <a:pt x="387" y="12703"/>
                  </a:cubicBezTo>
                  <a:cubicBezTo>
                    <a:pt x="924" y="13268"/>
                    <a:pt x="-42" y="14165"/>
                    <a:pt x="316" y="14863"/>
                  </a:cubicBezTo>
                  <a:cubicBezTo>
                    <a:pt x="530" y="15195"/>
                    <a:pt x="995" y="15261"/>
                    <a:pt x="1281" y="15560"/>
                  </a:cubicBezTo>
                  <a:cubicBezTo>
                    <a:pt x="2032" y="16192"/>
                    <a:pt x="1818" y="17421"/>
                    <a:pt x="2640" y="17986"/>
                  </a:cubicBezTo>
                  <a:cubicBezTo>
                    <a:pt x="2712" y="18053"/>
                    <a:pt x="2855" y="18119"/>
                    <a:pt x="2926" y="18186"/>
                  </a:cubicBezTo>
                  <a:cubicBezTo>
                    <a:pt x="3105" y="18352"/>
                    <a:pt x="3033" y="18618"/>
                    <a:pt x="3105" y="18751"/>
                  </a:cubicBezTo>
                  <a:cubicBezTo>
                    <a:pt x="3177" y="19448"/>
                    <a:pt x="4214" y="19880"/>
                    <a:pt x="4822" y="19448"/>
                  </a:cubicBezTo>
                  <a:cubicBezTo>
                    <a:pt x="5036" y="19316"/>
                    <a:pt x="5179" y="19116"/>
                    <a:pt x="5501" y="19050"/>
                  </a:cubicBezTo>
                  <a:cubicBezTo>
                    <a:pt x="5930" y="18983"/>
                    <a:pt x="6181" y="19382"/>
                    <a:pt x="6395" y="19748"/>
                  </a:cubicBezTo>
                  <a:cubicBezTo>
                    <a:pt x="6610" y="20080"/>
                    <a:pt x="7146" y="20346"/>
                    <a:pt x="7432" y="20080"/>
                  </a:cubicBezTo>
                  <a:cubicBezTo>
                    <a:pt x="7504" y="20013"/>
                    <a:pt x="7611" y="19814"/>
                    <a:pt x="7683" y="19748"/>
                  </a:cubicBezTo>
                  <a:cubicBezTo>
                    <a:pt x="7826" y="19648"/>
                    <a:pt x="7969" y="19648"/>
                    <a:pt x="8112" y="19648"/>
                  </a:cubicBezTo>
                  <a:cubicBezTo>
                    <a:pt x="8577" y="19748"/>
                    <a:pt x="9077" y="19814"/>
                    <a:pt x="9542" y="19880"/>
                  </a:cubicBezTo>
                  <a:cubicBezTo>
                    <a:pt x="10150" y="19947"/>
                    <a:pt x="10686" y="20013"/>
                    <a:pt x="11187" y="20279"/>
                  </a:cubicBezTo>
                  <a:cubicBezTo>
                    <a:pt x="11724" y="20512"/>
                    <a:pt x="12153" y="20977"/>
                    <a:pt x="12260" y="21476"/>
                  </a:cubicBezTo>
                  <a:cubicBezTo>
                    <a:pt x="12403" y="21044"/>
                    <a:pt x="13083" y="21077"/>
                    <a:pt x="13512" y="21210"/>
                  </a:cubicBezTo>
                  <a:cubicBezTo>
                    <a:pt x="13977" y="21376"/>
                    <a:pt x="14513" y="21542"/>
                    <a:pt x="14871" y="21343"/>
                  </a:cubicBezTo>
                  <a:cubicBezTo>
                    <a:pt x="15335" y="21143"/>
                    <a:pt x="15407" y="20645"/>
                    <a:pt x="15479" y="20146"/>
                  </a:cubicBezTo>
                  <a:cubicBezTo>
                    <a:pt x="15550" y="19880"/>
                    <a:pt x="15550" y="19448"/>
                    <a:pt x="15264" y="19316"/>
                  </a:cubicBezTo>
                  <a:cubicBezTo>
                    <a:pt x="15157" y="19249"/>
                    <a:pt x="15014" y="19249"/>
                    <a:pt x="14942" y="19183"/>
                  </a:cubicBezTo>
                  <a:cubicBezTo>
                    <a:pt x="14728" y="18983"/>
                    <a:pt x="14942" y="18618"/>
                    <a:pt x="15157" y="18485"/>
                  </a:cubicBezTo>
                  <a:cubicBezTo>
                    <a:pt x="15407" y="18285"/>
                    <a:pt x="15622" y="18053"/>
                    <a:pt x="15622" y="17787"/>
                  </a:cubicBezTo>
                  <a:cubicBezTo>
                    <a:pt x="15622" y="17421"/>
                    <a:pt x="15085" y="17288"/>
                    <a:pt x="14656" y="17222"/>
                  </a:cubicBezTo>
                  <a:cubicBezTo>
                    <a:pt x="15157" y="16724"/>
                    <a:pt x="15836" y="16391"/>
                    <a:pt x="16516" y="16192"/>
                  </a:cubicBezTo>
                  <a:cubicBezTo>
                    <a:pt x="16981" y="16026"/>
                    <a:pt x="17588" y="15959"/>
                    <a:pt x="17732" y="15560"/>
                  </a:cubicBezTo>
                  <a:cubicBezTo>
                    <a:pt x="18018" y="14863"/>
                    <a:pt x="17052" y="14231"/>
                    <a:pt x="17124" y="13533"/>
                  </a:cubicBezTo>
                  <a:cubicBezTo>
                    <a:pt x="17195" y="13168"/>
                    <a:pt x="17481" y="12902"/>
                    <a:pt x="17732" y="12570"/>
                  </a:cubicBezTo>
                  <a:cubicBezTo>
                    <a:pt x="17946" y="12271"/>
                    <a:pt x="18089" y="11772"/>
                    <a:pt x="17803" y="11506"/>
                  </a:cubicBezTo>
                  <a:cubicBezTo>
                    <a:pt x="18483" y="11307"/>
                    <a:pt x="18983" y="12005"/>
                    <a:pt x="19448" y="12404"/>
                  </a:cubicBezTo>
                  <a:cubicBezTo>
                    <a:pt x="19520" y="12470"/>
                    <a:pt x="19591" y="12570"/>
                    <a:pt x="19734" y="12570"/>
                  </a:cubicBezTo>
                  <a:cubicBezTo>
                    <a:pt x="19984" y="12636"/>
                    <a:pt x="20199" y="12404"/>
                    <a:pt x="20199" y="12204"/>
                  </a:cubicBezTo>
                  <a:cubicBezTo>
                    <a:pt x="20414" y="11639"/>
                    <a:pt x="19984" y="10875"/>
                    <a:pt x="19305" y="10808"/>
                  </a:cubicBezTo>
                  <a:cubicBezTo>
                    <a:pt x="19162" y="10808"/>
                    <a:pt x="18912" y="10808"/>
                    <a:pt x="18769" y="10676"/>
                  </a:cubicBezTo>
                  <a:cubicBezTo>
                    <a:pt x="18339" y="10376"/>
                    <a:pt x="18769" y="9712"/>
                    <a:pt x="18626" y="9213"/>
                  </a:cubicBezTo>
                  <a:cubicBezTo>
                    <a:pt x="18554" y="8781"/>
                    <a:pt x="18053" y="8582"/>
                    <a:pt x="17660" y="8449"/>
                  </a:cubicBezTo>
                  <a:cubicBezTo>
                    <a:pt x="17302" y="8316"/>
                    <a:pt x="16730" y="7951"/>
                    <a:pt x="16837" y="7519"/>
                  </a:cubicBezTo>
                  <a:cubicBezTo>
                    <a:pt x="16837" y="6920"/>
                    <a:pt x="17803" y="6754"/>
                    <a:pt x="18232" y="6356"/>
                  </a:cubicBezTo>
                  <a:cubicBezTo>
                    <a:pt x="18912" y="5791"/>
                    <a:pt x="18769" y="4528"/>
                    <a:pt x="19591" y="4262"/>
                  </a:cubicBezTo>
                  <a:cubicBezTo>
                    <a:pt x="19984" y="4129"/>
                    <a:pt x="20378" y="4262"/>
                    <a:pt x="20735" y="4262"/>
                  </a:cubicBezTo>
                  <a:cubicBezTo>
                    <a:pt x="21129" y="4262"/>
                    <a:pt x="21558" y="4063"/>
                    <a:pt x="21486" y="3697"/>
                  </a:cubicBezTo>
                  <a:cubicBezTo>
                    <a:pt x="21415" y="3298"/>
                    <a:pt x="20807" y="3232"/>
                    <a:pt x="20342" y="3298"/>
                  </a:cubicBezTo>
                  <a:cubicBezTo>
                    <a:pt x="19913" y="3398"/>
                    <a:pt x="19448" y="3365"/>
                    <a:pt x="18983" y="3132"/>
                  </a:cubicBezTo>
                  <a:cubicBezTo>
                    <a:pt x="18554" y="2999"/>
                    <a:pt x="18232" y="2667"/>
                    <a:pt x="18161" y="2235"/>
                  </a:cubicBezTo>
                  <a:cubicBezTo>
                    <a:pt x="18161" y="2036"/>
                    <a:pt x="18161" y="1903"/>
                    <a:pt x="18161" y="1670"/>
                  </a:cubicBezTo>
                  <a:cubicBezTo>
                    <a:pt x="18089" y="1105"/>
                    <a:pt x="17588" y="640"/>
                    <a:pt x="17124" y="274"/>
                  </a:cubicBezTo>
                  <a:cubicBezTo>
                    <a:pt x="16981" y="141"/>
                    <a:pt x="16837" y="75"/>
                    <a:pt x="16659" y="8"/>
                  </a:cubicBezTo>
                  <a:cubicBezTo>
                    <a:pt x="16230" y="-58"/>
                    <a:pt x="15836" y="274"/>
                    <a:pt x="15693" y="706"/>
                  </a:cubicBezTo>
                  <a:cubicBezTo>
                    <a:pt x="15335" y="1471"/>
                    <a:pt x="15157" y="2434"/>
                    <a:pt x="14334" y="2800"/>
                  </a:cubicBezTo>
                  <a:cubicBezTo>
                    <a:pt x="14191" y="2866"/>
                    <a:pt x="14048" y="2866"/>
                    <a:pt x="13905" y="2999"/>
                  </a:cubicBezTo>
                  <a:cubicBezTo>
                    <a:pt x="13762" y="3066"/>
                    <a:pt x="13655" y="3298"/>
                    <a:pt x="13583" y="3431"/>
                  </a:cubicBezTo>
                  <a:cubicBezTo>
                    <a:pt x="13297" y="3963"/>
                    <a:pt x="13154" y="4594"/>
                    <a:pt x="13083" y="5226"/>
                  </a:cubicBezTo>
                  <a:cubicBezTo>
                    <a:pt x="12689" y="5093"/>
                    <a:pt x="12725" y="4528"/>
                    <a:pt x="12403" y="4395"/>
                  </a:cubicBezTo>
                  <a:cubicBezTo>
                    <a:pt x="12117" y="4262"/>
                    <a:pt x="11724" y="4395"/>
                    <a:pt x="11652" y="4661"/>
                  </a:cubicBezTo>
                  <a:cubicBezTo>
                    <a:pt x="11509" y="4960"/>
                    <a:pt x="11581" y="5226"/>
                    <a:pt x="11581" y="5525"/>
                  </a:cubicBezTo>
                  <a:cubicBezTo>
                    <a:pt x="11330" y="5724"/>
                    <a:pt x="11116" y="5292"/>
                    <a:pt x="10830" y="5159"/>
                  </a:cubicBezTo>
                  <a:cubicBezTo>
                    <a:pt x="10436" y="4960"/>
                    <a:pt x="10007" y="5359"/>
                    <a:pt x="9828" y="5791"/>
                  </a:cubicBezTo>
                  <a:cubicBezTo>
                    <a:pt x="9757" y="6223"/>
                    <a:pt x="9757" y="6688"/>
                    <a:pt x="9471" y="6987"/>
                  </a:cubicBezTo>
                  <a:cubicBezTo>
                    <a:pt x="9256" y="7186"/>
                    <a:pt x="8934" y="7253"/>
                    <a:pt x="8720" y="7452"/>
                  </a:cubicBezTo>
                  <a:cubicBezTo>
                    <a:pt x="8505" y="7618"/>
                    <a:pt x="8255" y="7951"/>
                    <a:pt x="8433" y="8150"/>
                  </a:cubicBezTo>
                  <a:cubicBezTo>
                    <a:pt x="7969" y="8449"/>
                    <a:pt x="7468" y="8449"/>
                    <a:pt x="6932" y="8383"/>
                  </a:cubicBezTo>
                  <a:cubicBezTo>
                    <a:pt x="6431" y="8316"/>
                    <a:pt x="5894" y="8250"/>
                    <a:pt x="5358" y="8383"/>
                  </a:cubicBezTo>
                  <a:cubicBezTo>
                    <a:pt x="4857" y="8549"/>
                    <a:pt x="4428" y="9014"/>
                    <a:pt x="4607" y="9413"/>
                  </a:cubicBezTo>
                  <a:cubicBezTo>
                    <a:pt x="4679" y="9612"/>
                    <a:pt x="4822" y="9778"/>
                    <a:pt x="4893" y="9911"/>
                  </a:cubicBezTo>
                  <a:cubicBezTo>
                    <a:pt x="5036" y="10376"/>
                    <a:pt x="4607" y="10742"/>
                    <a:pt x="4142" y="11074"/>
                  </a:cubicBezTo>
                  <a:cubicBezTo>
                    <a:pt x="3999" y="11174"/>
                    <a:pt x="3928" y="11240"/>
                    <a:pt x="3784" y="11240"/>
                  </a:cubicBezTo>
                  <a:cubicBezTo>
                    <a:pt x="3463" y="11240"/>
                    <a:pt x="3320" y="10875"/>
                    <a:pt x="3177" y="10676"/>
                  </a:cubicBezTo>
                  <a:cubicBezTo>
                    <a:pt x="2783" y="10244"/>
                    <a:pt x="2032" y="10177"/>
                    <a:pt x="1603" y="10543"/>
                  </a:cubicBezTo>
                  <a:cubicBezTo>
                    <a:pt x="1675" y="10476"/>
                    <a:pt x="1460" y="9280"/>
                    <a:pt x="995" y="9978"/>
                  </a:cubicBezTo>
                  <a:cubicBezTo>
                    <a:pt x="602" y="10875"/>
                    <a:pt x="387" y="11373"/>
                    <a:pt x="101" y="11872"/>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87" name="Shape 3641"/>
            <p:cNvSpPr/>
            <p:nvPr/>
          </p:nvSpPr>
          <p:spPr>
            <a:xfrm>
              <a:off x="20138760" y="5627160"/>
              <a:ext cx="235080" cy="74520"/>
            </a:xfrm>
            <a:custGeom>
              <a:avLst/>
              <a:gdLst>
                <a:gd name="textAreaLeft" fmla="*/ 0 w 235080"/>
                <a:gd name="textAreaRight" fmla="*/ 235440 w 235080"/>
                <a:gd name="textAreaTop" fmla="*/ 0 h 74520"/>
                <a:gd name="textAreaBottom" fmla="*/ 74880 h 74520"/>
              </a:gdLst>
              <a:ahLst/>
              <a:rect l="textAreaLeft" t="textAreaTop" r="textAreaRight" b="textAreaBottom"/>
              <a:pathLst>
                <a:path w="21363" h="21176">
                  <a:moveTo>
                    <a:pt x="80" y="6444"/>
                  </a:moveTo>
                  <a:cubicBezTo>
                    <a:pt x="80" y="6690"/>
                    <a:pt x="1" y="6935"/>
                    <a:pt x="80" y="7549"/>
                  </a:cubicBezTo>
                  <a:cubicBezTo>
                    <a:pt x="80" y="8040"/>
                    <a:pt x="239" y="8285"/>
                    <a:pt x="357" y="8776"/>
                  </a:cubicBezTo>
                  <a:cubicBezTo>
                    <a:pt x="675" y="9512"/>
                    <a:pt x="912" y="10372"/>
                    <a:pt x="1269" y="11108"/>
                  </a:cubicBezTo>
                  <a:cubicBezTo>
                    <a:pt x="1665" y="12090"/>
                    <a:pt x="2181" y="13440"/>
                    <a:pt x="2735" y="13440"/>
                  </a:cubicBezTo>
                  <a:cubicBezTo>
                    <a:pt x="3092" y="13440"/>
                    <a:pt x="3409" y="13194"/>
                    <a:pt x="3647" y="13194"/>
                  </a:cubicBezTo>
                  <a:cubicBezTo>
                    <a:pt x="4400" y="13194"/>
                    <a:pt x="5074" y="14912"/>
                    <a:pt x="5827" y="15281"/>
                  </a:cubicBezTo>
                  <a:cubicBezTo>
                    <a:pt x="6501" y="15526"/>
                    <a:pt x="7254" y="14422"/>
                    <a:pt x="7888" y="14667"/>
                  </a:cubicBezTo>
                  <a:cubicBezTo>
                    <a:pt x="8244" y="14912"/>
                    <a:pt x="8641" y="15526"/>
                    <a:pt x="8918" y="16017"/>
                  </a:cubicBezTo>
                  <a:cubicBezTo>
                    <a:pt x="9473" y="16999"/>
                    <a:pt x="9988" y="17735"/>
                    <a:pt x="10583" y="18840"/>
                  </a:cubicBezTo>
                  <a:cubicBezTo>
                    <a:pt x="10821" y="19331"/>
                    <a:pt x="11058" y="19576"/>
                    <a:pt x="11415" y="19822"/>
                  </a:cubicBezTo>
                  <a:cubicBezTo>
                    <a:pt x="11811" y="20067"/>
                    <a:pt x="12129" y="20067"/>
                    <a:pt x="12564" y="20067"/>
                  </a:cubicBezTo>
                  <a:cubicBezTo>
                    <a:pt x="12961" y="20312"/>
                    <a:pt x="13397" y="20681"/>
                    <a:pt x="13793" y="20926"/>
                  </a:cubicBezTo>
                  <a:cubicBezTo>
                    <a:pt x="14546" y="21417"/>
                    <a:pt x="15378" y="21172"/>
                    <a:pt x="16211" y="20312"/>
                  </a:cubicBezTo>
                  <a:cubicBezTo>
                    <a:pt x="16726" y="19822"/>
                    <a:pt x="17281" y="19085"/>
                    <a:pt x="17796" y="19085"/>
                  </a:cubicBezTo>
                  <a:cubicBezTo>
                    <a:pt x="18034" y="19085"/>
                    <a:pt x="18391" y="19331"/>
                    <a:pt x="18628" y="19331"/>
                  </a:cubicBezTo>
                  <a:cubicBezTo>
                    <a:pt x="19302" y="19822"/>
                    <a:pt x="20055" y="20067"/>
                    <a:pt x="20808" y="20067"/>
                  </a:cubicBezTo>
                  <a:cubicBezTo>
                    <a:pt x="21046" y="20067"/>
                    <a:pt x="21363" y="19822"/>
                    <a:pt x="21363" y="19085"/>
                  </a:cubicBezTo>
                  <a:cubicBezTo>
                    <a:pt x="21363" y="18840"/>
                    <a:pt x="21284" y="18594"/>
                    <a:pt x="21284" y="18349"/>
                  </a:cubicBezTo>
                  <a:cubicBezTo>
                    <a:pt x="20887" y="16753"/>
                    <a:pt x="20134" y="17490"/>
                    <a:pt x="19540" y="17244"/>
                  </a:cubicBezTo>
                  <a:cubicBezTo>
                    <a:pt x="18866" y="16999"/>
                    <a:pt x="18391" y="15772"/>
                    <a:pt x="17875" y="14422"/>
                  </a:cubicBezTo>
                  <a:cubicBezTo>
                    <a:pt x="17717" y="13931"/>
                    <a:pt x="17479" y="13440"/>
                    <a:pt x="17479" y="12335"/>
                  </a:cubicBezTo>
                  <a:cubicBezTo>
                    <a:pt x="17479" y="11599"/>
                    <a:pt x="17717" y="11108"/>
                    <a:pt x="17875" y="11108"/>
                  </a:cubicBezTo>
                  <a:cubicBezTo>
                    <a:pt x="18034" y="11108"/>
                    <a:pt x="18311" y="11108"/>
                    <a:pt x="18549" y="11108"/>
                  </a:cubicBezTo>
                  <a:cubicBezTo>
                    <a:pt x="18628" y="9758"/>
                    <a:pt x="18153" y="8531"/>
                    <a:pt x="17717" y="8285"/>
                  </a:cubicBezTo>
                  <a:cubicBezTo>
                    <a:pt x="17320" y="8040"/>
                    <a:pt x="16805" y="8531"/>
                    <a:pt x="16369" y="8776"/>
                  </a:cubicBezTo>
                  <a:cubicBezTo>
                    <a:pt x="15973" y="9022"/>
                    <a:pt x="15458" y="9267"/>
                    <a:pt x="15061" y="8531"/>
                  </a:cubicBezTo>
                  <a:cubicBezTo>
                    <a:pt x="14546" y="7549"/>
                    <a:pt x="14388" y="5462"/>
                    <a:pt x="13872" y="4603"/>
                  </a:cubicBezTo>
                  <a:cubicBezTo>
                    <a:pt x="13397" y="3867"/>
                    <a:pt x="12882" y="4358"/>
                    <a:pt x="12406" y="5217"/>
                  </a:cubicBezTo>
                  <a:cubicBezTo>
                    <a:pt x="11891" y="5953"/>
                    <a:pt x="11415" y="6690"/>
                    <a:pt x="10900" y="6444"/>
                  </a:cubicBezTo>
                  <a:cubicBezTo>
                    <a:pt x="10464" y="6199"/>
                    <a:pt x="9988" y="5462"/>
                    <a:pt x="9751" y="6444"/>
                  </a:cubicBezTo>
                  <a:cubicBezTo>
                    <a:pt x="9552" y="7181"/>
                    <a:pt x="9632" y="8531"/>
                    <a:pt x="9394" y="8776"/>
                  </a:cubicBezTo>
                  <a:cubicBezTo>
                    <a:pt x="9315" y="9022"/>
                    <a:pt x="9156" y="9022"/>
                    <a:pt x="9077" y="8776"/>
                  </a:cubicBezTo>
                  <a:cubicBezTo>
                    <a:pt x="8086" y="8285"/>
                    <a:pt x="6976" y="8040"/>
                    <a:pt x="5985" y="9267"/>
                  </a:cubicBezTo>
                  <a:cubicBezTo>
                    <a:pt x="5906" y="9512"/>
                    <a:pt x="5827" y="9512"/>
                    <a:pt x="5668" y="9512"/>
                  </a:cubicBezTo>
                  <a:cubicBezTo>
                    <a:pt x="5312" y="9512"/>
                    <a:pt x="5232" y="8653"/>
                    <a:pt x="5232" y="7549"/>
                  </a:cubicBezTo>
                  <a:cubicBezTo>
                    <a:pt x="5232" y="6567"/>
                    <a:pt x="5312" y="5708"/>
                    <a:pt x="5074" y="4972"/>
                  </a:cubicBezTo>
                  <a:cubicBezTo>
                    <a:pt x="4915" y="4358"/>
                    <a:pt x="4677" y="4112"/>
                    <a:pt x="4479" y="3622"/>
                  </a:cubicBezTo>
                  <a:cubicBezTo>
                    <a:pt x="4321" y="3131"/>
                    <a:pt x="4321" y="2149"/>
                    <a:pt x="4242" y="1290"/>
                  </a:cubicBezTo>
                  <a:cubicBezTo>
                    <a:pt x="4083" y="308"/>
                    <a:pt x="3568" y="-183"/>
                    <a:pt x="3251" y="62"/>
                  </a:cubicBezTo>
                  <a:cubicBezTo>
                    <a:pt x="2815" y="308"/>
                    <a:pt x="2498" y="1044"/>
                    <a:pt x="2181" y="1781"/>
                  </a:cubicBezTo>
                  <a:cubicBezTo>
                    <a:pt x="1982" y="2394"/>
                    <a:pt x="1665" y="2885"/>
                    <a:pt x="1507" y="2394"/>
                  </a:cubicBezTo>
                  <a:cubicBezTo>
                    <a:pt x="1071" y="1781"/>
                    <a:pt x="754" y="62"/>
                    <a:pt x="239" y="1044"/>
                  </a:cubicBezTo>
                  <a:cubicBezTo>
                    <a:pt x="-237" y="2640"/>
                    <a:pt x="159" y="4972"/>
                    <a:pt x="80" y="6444"/>
                  </a:cubicBezTo>
                </a:path>
              </a:pathLst>
            </a:custGeom>
            <a:solidFill>
              <a:srgbClr val="919191"/>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88" name="Shape 3642"/>
            <p:cNvSpPr/>
            <p:nvPr/>
          </p:nvSpPr>
          <p:spPr>
            <a:xfrm>
              <a:off x="20395800" y="5690520"/>
              <a:ext cx="68400" cy="16200"/>
            </a:xfrm>
            <a:custGeom>
              <a:avLst/>
              <a:gdLst>
                <a:gd name="textAreaLeft" fmla="*/ 0 w 68400"/>
                <a:gd name="textAreaRight" fmla="*/ 68760 w 68400"/>
                <a:gd name="textAreaTop" fmla="*/ 0 h 16200"/>
                <a:gd name="textAreaBottom" fmla="*/ 16560 h 16200"/>
              </a:gdLst>
              <a:ahLst/>
              <a:rect l="textAreaLeft" t="textAreaTop" r="textAreaRight" b="textAreaBottom"/>
              <a:pathLst>
                <a:path w="20983" h="15763">
                  <a:moveTo>
                    <a:pt x="7888" y="15133"/>
                  </a:moveTo>
                  <a:cubicBezTo>
                    <a:pt x="9103" y="14318"/>
                    <a:pt x="9913" y="11873"/>
                    <a:pt x="10723" y="11058"/>
                  </a:cubicBezTo>
                  <a:cubicBezTo>
                    <a:pt x="13018" y="7390"/>
                    <a:pt x="15853" y="9428"/>
                    <a:pt x="18418" y="9428"/>
                  </a:cubicBezTo>
                  <a:cubicBezTo>
                    <a:pt x="19228" y="9428"/>
                    <a:pt x="20443" y="9428"/>
                    <a:pt x="20983" y="6575"/>
                  </a:cubicBezTo>
                  <a:cubicBezTo>
                    <a:pt x="19768" y="4945"/>
                    <a:pt x="18688" y="4129"/>
                    <a:pt x="17608" y="3314"/>
                  </a:cubicBezTo>
                  <a:cubicBezTo>
                    <a:pt x="15853" y="2499"/>
                    <a:pt x="14503" y="1684"/>
                    <a:pt x="12748" y="869"/>
                  </a:cubicBezTo>
                  <a:cubicBezTo>
                    <a:pt x="10723" y="54"/>
                    <a:pt x="8833" y="-1169"/>
                    <a:pt x="7348" y="2499"/>
                  </a:cubicBezTo>
                  <a:cubicBezTo>
                    <a:pt x="6808" y="3314"/>
                    <a:pt x="6538" y="4945"/>
                    <a:pt x="5998" y="5760"/>
                  </a:cubicBezTo>
                  <a:cubicBezTo>
                    <a:pt x="4783" y="6575"/>
                    <a:pt x="-617" y="-4429"/>
                    <a:pt x="58" y="5760"/>
                  </a:cubicBezTo>
                  <a:cubicBezTo>
                    <a:pt x="328" y="14318"/>
                    <a:pt x="5998" y="17171"/>
                    <a:pt x="7888" y="15133"/>
                  </a:cubicBezTo>
                </a:path>
              </a:pathLst>
            </a:custGeom>
            <a:solidFill>
              <a:srgbClr val="919191"/>
            </a:solidFill>
            <a:ln w="12700">
              <a:noFill/>
            </a:ln>
          </p:spPr>
          <p:style>
            <a:lnRef idx="0"/>
            <a:fillRef idx="0"/>
            <a:effectRef idx="0"/>
            <a:fontRef idx="minor"/>
          </p:style>
          <p:txBody>
            <a:bodyPr numCol="1" spcCol="0" lIns="45720" rIns="45720" tIns="8280" bIns="8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89" name="Shape 3643"/>
            <p:cNvSpPr/>
            <p:nvPr/>
          </p:nvSpPr>
          <p:spPr>
            <a:xfrm>
              <a:off x="20466000" y="5712480"/>
              <a:ext cx="46080" cy="34200"/>
            </a:xfrm>
            <a:custGeom>
              <a:avLst/>
              <a:gdLst>
                <a:gd name="textAreaLeft" fmla="*/ 0 w 46080"/>
                <a:gd name="textAreaRight" fmla="*/ 46440 w 46080"/>
                <a:gd name="textAreaTop" fmla="*/ 0 h 34200"/>
                <a:gd name="textAreaBottom" fmla="*/ 34560 h 34200"/>
              </a:gdLst>
              <a:ahLst/>
              <a:rect l="textAreaLeft" t="textAreaTop" r="textAreaRight" b="textAreaBottom"/>
              <a:pathLst>
                <a:path w="20256" h="19603">
                  <a:moveTo>
                    <a:pt x="8978" y="12570"/>
                  </a:moveTo>
                  <a:cubicBezTo>
                    <a:pt x="9743" y="13826"/>
                    <a:pt x="9743" y="15333"/>
                    <a:pt x="10698" y="16338"/>
                  </a:cubicBezTo>
                  <a:cubicBezTo>
                    <a:pt x="11845" y="19101"/>
                    <a:pt x="14713" y="19603"/>
                    <a:pt x="17006" y="19603"/>
                  </a:cubicBezTo>
                  <a:cubicBezTo>
                    <a:pt x="17771" y="19603"/>
                    <a:pt x="19109" y="19603"/>
                    <a:pt x="19874" y="18347"/>
                  </a:cubicBezTo>
                  <a:cubicBezTo>
                    <a:pt x="20256" y="17343"/>
                    <a:pt x="20256" y="16338"/>
                    <a:pt x="20256" y="15333"/>
                  </a:cubicBezTo>
                  <a:cubicBezTo>
                    <a:pt x="19874" y="14329"/>
                    <a:pt x="19491" y="13826"/>
                    <a:pt x="18727" y="12570"/>
                  </a:cubicBezTo>
                  <a:cubicBezTo>
                    <a:pt x="17771" y="11566"/>
                    <a:pt x="17006" y="11063"/>
                    <a:pt x="15860" y="10059"/>
                  </a:cubicBezTo>
                  <a:cubicBezTo>
                    <a:pt x="14713" y="9054"/>
                    <a:pt x="12610" y="7798"/>
                    <a:pt x="12610" y="5789"/>
                  </a:cubicBezTo>
                  <a:cubicBezTo>
                    <a:pt x="12610" y="4784"/>
                    <a:pt x="12992" y="4282"/>
                    <a:pt x="12610" y="3277"/>
                  </a:cubicBezTo>
                  <a:cubicBezTo>
                    <a:pt x="12610" y="2775"/>
                    <a:pt x="12228" y="2775"/>
                    <a:pt x="11845" y="2022"/>
                  </a:cubicBezTo>
                  <a:cubicBezTo>
                    <a:pt x="9360" y="515"/>
                    <a:pt x="1332" y="-1997"/>
                    <a:pt x="185" y="2775"/>
                  </a:cubicBezTo>
                  <a:cubicBezTo>
                    <a:pt x="-1344" y="9556"/>
                    <a:pt x="7067" y="9556"/>
                    <a:pt x="8978" y="12570"/>
                  </a:cubicBezTo>
                </a:path>
              </a:pathLst>
            </a:custGeom>
            <a:solidFill>
              <a:srgbClr val="919191"/>
            </a:solidFill>
            <a:ln w="12700">
              <a:noFill/>
            </a:ln>
          </p:spPr>
          <p:style>
            <a:lnRef idx="0"/>
            <a:fillRef idx="0"/>
            <a:effectRef idx="0"/>
            <a:fontRef idx="minor"/>
          </p:style>
          <p:txBody>
            <a:bodyPr numCol="1" spcCol="0" lIns="45720" rIns="45720" tIns="17280" bIns="17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0" name="Shape 3644"/>
            <p:cNvSpPr/>
            <p:nvPr/>
          </p:nvSpPr>
          <p:spPr>
            <a:xfrm>
              <a:off x="20476440" y="5684040"/>
              <a:ext cx="128160" cy="26280"/>
            </a:xfrm>
            <a:custGeom>
              <a:avLst/>
              <a:gdLst>
                <a:gd name="textAreaLeft" fmla="*/ 0 w 128160"/>
                <a:gd name="textAreaRight" fmla="*/ 128520 w 128160"/>
                <a:gd name="textAreaTop" fmla="*/ 0 h 26280"/>
                <a:gd name="textAreaBottom" fmla="*/ 26640 h 26280"/>
              </a:gdLst>
              <a:ahLst/>
              <a:rect l="textAreaLeft" t="textAreaTop" r="textAreaRight" b="textAreaBottom"/>
              <a:pathLst>
                <a:path w="21600" h="21600">
                  <a:moveTo>
                    <a:pt x="3065" y="16841"/>
                  </a:moveTo>
                  <a:cubicBezTo>
                    <a:pt x="3868" y="17573"/>
                    <a:pt x="4451" y="21600"/>
                    <a:pt x="5254" y="21600"/>
                  </a:cubicBezTo>
                  <a:cubicBezTo>
                    <a:pt x="5838" y="21600"/>
                    <a:pt x="6422" y="19769"/>
                    <a:pt x="6932" y="19037"/>
                  </a:cubicBezTo>
                  <a:cubicBezTo>
                    <a:pt x="7662" y="18305"/>
                    <a:pt x="8611" y="19769"/>
                    <a:pt x="9341" y="19769"/>
                  </a:cubicBezTo>
                  <a:cubicBezTo>
                    <a:pt x="10581" y="19769"/>
                    <a:pt x="11530" y="16108"/>
                    <a:pt x="12697" y="14644"/>
                  </a:cubicBezTo>
                  <a:cubicBezTo>
                    <a:pt x="13646" y="13912"/>
                    <a:pt x="14595" y="14644"/>
                    <a:pt x="15324" y="12081"/>
                  </a:cubicBezTo>
                  <a:cubicBezTo>
                    <a:pt x="15762" y="11349"/>
                    <a:pt x="16054" y="9885"/>
                    <a:pt x="16565" y="9153"/>
                  </a:cubicBezTo>
                  <a:cubicBezTo>
                    <a:pt x="16857" y="9153"/>
                    <a:pt x="17149" y="9153"/>
                    <a:pt x="17295" y="9153"/>
                  </a:cubicBezTo>
                  <a:cubicBezTo>
                    <a:pt x="18827" y="10617"/>
                    <a:pt x="20359" y="9153"/>
                    <a:pt x="21600" y="6224"/>
                  </a:cubicBezTo>
                  <a:cubicBezTo>
                    <a:pt x="20505" y="1464"/>
                    <a:pt x="19192" y="0"/>
                    <a:pt x="17805" y="0"/>
                  </a:cubicBezTo>
                  <a:cubicBezTo>
                    <a:pt x="16492" y="0"/>
                    <a:pt x="15032" y="1464"/>
                    <a:pt x="13792" y="4393"/>
                  </a:cubicBezTo>
                  <a:cubicBezTo>
                    <a:pt x="12551" y="6956"/>
                    <a:pt x="11311" y="9885"/>
                    <a:pt x="9997" y="11349"/>
                  </a:cubicBezTo>
                  <a:cubicBezTo>
                    <a:pt x="7808" y="14644"/>
                    <a:pt x="5546" y="13912"/>
                    <a:pt x="3211" y="13180"/>
                  </a:cubicBezTo>
                  <a:cubicBezTo>
                    <a:pt x="2189" y="13180"/>
                    <a:pt x="949" y="11349"/>
                    <a:pt x="0" y="11349"/>
                  </a:cubicBezTo>
                  <a:cubicBezTo>
                    <a:pt x="292" y="19037"/>
                    <a:pt x="2189" y="16108"/>
                    <a:pt x="3065" y="16841"/>
                  </a:cubicBezTo>
                </a:path>
              </a:pathLst>
            </a:custGeom>
            <a:solidFill>
              <a:srgbClr val="919191"/>
            </a:solidFill>
            <a:ln w="12700">
              <a:noFill/>
            </a:ln>
          </p:spPr>
          <p:style>
            <a:lnRef idx="0"/>
            <a:fillRef idx="0"/>
            <a:effectRef idx="0"/>
            <a:fontRef idx="minor"/>
          </p:style>
          <p:txBody>
            <a:bodyPr numCol="1" spcCol="0" lIns="45720" rIns="45720" tIns="13320" bIns="13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1" name="Shape 3645"/>
            <p:cNvSpPr/>
            <p:nvPr/>
          </p:nvSpPr>
          <p:spPr>
            <a:xfrm>
              <a:off x="20581560" y="5691240"/>
              <a:ext cx="93600" cy="46080"/>
            </a:xfrm>
            <a:custGeom>
              <a:avLst/>
              <a:gdLst>
                <a:gd name="textAreaLeft" fmla="*/ 0 w 93600"/>
                <a:gd name="textAreaRight" fmla="*/ 93960 w 93600"/>
                <a:gd name="textAreaTop" fmla="*/ 0 h 46080"/>
                <a:gd name="textAreaBottom" fmla="*/ 46440 h 46080"/>
              </a:gdLst>
              <a:ahLst/>
              <a:rect l="textAreaLeft" t="textAreaTop" r="textAreaRight" b="textAreaBottom"/>
              <a:pathLst>
                <a:path w="21230" h="18799">
                  <a:moveTo>
                    <a:pt x="11173" y="12193"/>
                  </a:moveTo>
                  <a:cubicBezTo>
                    <a:pt x="11965" y="11845"/>
                    <a:pt x="12758" y="11496"/>
                    <a:pt x="13650" y="10800"/>
                  </a:cubicBezTo>
                  <a:cubicBezTo>
                    <a:pt x="14442" y="9929"/>
                    <a:pt x="15136" y="8883"/>
                    <a:pt x="15929" y="8187"/>
                  </a:cubicBezTo>
                  <a:cubicBezTo>
                    <a:pt x="16721" y="7490"/>
                    <a:pt x="17811" y="7141"/>
                    <a:pt x="18802" y="6271"/>
                  </a:cubicBezTo>
                  <a:cubicBezTo>
                    <a:pt x="19892" y="5574"/>
                    <a:pt x="20685" y="4877"/>
                    <a:pt x="21081" y="3135"/>
                  </a:cubicBezTo>
                  <a:cubicBezTo>
                    <a:pt x="21279" y="2612"/>
                    <a:pt x="21279" y="1916"/>
                    <a:pt x="21081" y="1567"/>
                  </a:cubicBezTo>
                  <a:cubicBezTo>
                    <a:pt x="21081" y="1219"/>
                    <a:pt x="20883" y="1219"/>
                    <a:pt x="20685" y="871"/>
                  </a:cubicBezTo>
                  <a:cubicBezTo>
                    <a:pt x="17811" y="-1394"/>
                    <a:pt x="14442" y="1219"/>
                    <a:pt x="11569" y="3483"/>
                  </a:cubicBezTo>
                  <a:cubicBezTo>
                    <a:pt x="11173" y="3832"/>
                    <a:pt x="10677" y="4180"/>
                    <a:pt x="10083" y="3832"/>
                  </a:cubicBezTo>
                  <a:cubicBezTo>
                    <a:pt x="9686" y="3832"/>
                    <a:pt x="9488" y="3135"/>
                    <a:pt x="9092" y="2612"/>
                  </a:cubicBezTo>
                  <a:cubicBezTo>
                    <a:pt x="8002" y="1916"/>
                    <a:pt x="6813" y="3135"/>
                    <a:pt x="5723" y="4180"/>
                  </a:cubicBezTo>
                  <a:cubicBezTo>
                    <a:pt x="4039" y="5922"/>
                    <a:pt x="1363" y="8187"/>
                    <a:pt x="571" y="11148"/>
                  </a:cubicBezTo>
                  <a:cubicBezTo>
                    <a:pt x="75" y="12890"/>
                    <a:pt x="-321" y="16548"/>
                    <a:pt x="373" y="18116"/>
                  </a:cubicBezTo>
                  <a:cubicBezTo>
                    <a:pt x="1363" y="20206"/>
                    <a:pt x="3246" y="16896"/>
                    <a:pt x="4237" y="16200"/>
                  </a:cubicBezTo>
                  <a:cubicBezTo>
                    <a:pt x="6516" y="14806"/>
                    <a:pt x="8894" y="13238"/>
                    <a:pt x="11173" y="12193"/>
                  </a:cubicBezTo>
                </a:path>
              </a:pathLst>
            </a:custGeom>
            <a:solidFill>
              <a:srgbClr val="919191"/>
            </a:solidFill>
            <a:ln w="12700">
              <a:noFill/>
            </a:ln>
          </p:spPr>
          <p:style>
            <a:lnRef idx="0"/>
            <a:fillRef idx="0"/>
            <a:effectRef idx="0"/>
            <a:fontRef idx="minor"/>
          </p:style>
          <p:txBody>
            <a:bodyPr numCol="1" spcCol="0" lIns="45720" rIns="45720" tIns="23040" bIns="230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2" name="Shape 3646"/>
            <p:cNvSpPr/>
            <p:nvPr/>
          </p:nvSpPr>
          <p:spPr>
            <a:xfrm>
              <a:off x="20460960" y="5490360"/>
              <a:ext cx="119520" cy="134640"/>
            </a:xfrm>
            <a:custGeom>
              <a:avLst/>
              <a:gdLst>
                <a:gd name="textAreaLeft" fmla="*/ 0 w 119520"/>
                <a:gd name="textAreaRight" fmla="*/ 119880 w 119520"/>
                <a:gd name="textAreaTop" fmla="*/ 0 h 134640"/>
                <a:gd name="textAreaBottom" fmla="*/ 135000 h 134640"/>
              </a:gdLst>
              <a:ahLst/>
              <a:rect l="textAreaLeft" t="textAreaTop" r="textAreaRight" b="textAreaBottom"/>
              <a:pathLst>
                <a:path w="21462" h="21449">
                  <a:moveTo>
                    <a:pt x="5729" y="13737"/>
                  </a:moveTo>
                  <a:cubicBezTo>
                    <a:pt x="5884" y="13876"/>
                    <a:pt x="6039" y="14084"/>
                    <a:pt x="6194" y="14223"/>
                  </a:cubicBezTo>
                  <a:cubicBezTo>
                    <a:pt x="6348" y="14362"/>
                    <a:pt x="6348" y="14501"/>
                    <a:pt x="6348" y="14779"/>
                  </a:cubicBezTo>
                  <a:cubicBezTo>
                    <a:pt x="6348" y="15543"/>
                    <a:pt x="6503" y="16238"/>
                    <a:pt x="6348" y="16793"/>
                  </a:cubicBezTo>
                  <a:cubicBezTo>
                    <a:pt x="6194" y="17557"/>
                    <a:pt x="5729" y="18113"/>
                    <a:pt x="5032" y="18391"/>
                  </a:cubicBezTo>
                  <a:cubicBezTo>
                    <a:pt x="4877" y="18599"/>
                    <a:pt x="4568" y="18599"/>
                    <a:pt x="4568" y="18877"/>
                  </a:cubicBezTo>
                  <a:cubicBezTo>
                    <a:pt x="4568" y="19155"/>
                    <a:pt x="4877" y="19293"/>
                    <a:pt x="5032" y="19432"/>
                  </a:cubicBezTo>
                  <a:cubicBezTo>
                    <a:pt x="5574" y="20057"/>
                    <a:pt x="5265" y="20891"/>
                    <a:pt x="4413" y="21169"/>
                  </a:cubicBezTo>
                  <a:cubicBezTo>
                    <a:pt x="3794" y="21516"/>
                    <a:pt x="2787" y="21516"/>
                    <a:pt x="2013" y="21308"/>
                  </a:cubicBezTo>
                  <a:cubicBezTo>
                    <a:pt x="1161" y="20057"/>
                    <a:pt x="1316" y="18252"/>
                    <a:pt x="2323" y="17002"/>
                  </a:cubicBezTo>
                  <a:cubicBezTo>
                    <a:pt x="2632" y="16515"/>
                    <a:pt x="3097" y="15960"/>
                    <a:pt x="2942" y="15335"/>
                  </a:cubicBezTo>
                  <a:cubicBezTo>
                    <a:pt x="2787" y="15057"/>
                    <a:pt x="2632" y="14918"/>
                    <a:pt x="2323" y="14779"/>
                  </a:cubicBezTo>
                  <a:cubicBezTo>
                    <a:pt x="852" y="13598"/>
                    <a:pt x="0" y="12001"/>
                    <a:pt x="0" y="10265"/>
                  </a:cubicBezTo>
                  <a:cubicBezTo>
                    <a:pt x="0" y="9709"/>
                    <a:pt x="232" y="9084"/>
                    <a:pt x="542" y="8667"/>
                  </a:cubicBezTo>
                  <a:cubicBezTo>
                    <a:pt x="852" y="8389"/>
                    <a:pt x="1161" y="8250"/>
                    <a:pt x="1471" y="7903"/>
                  </a:cubicBezTo>
                  <a:cubicBezTo>
                    <a:pt x="2632" y="7070"/>
                    <a:pt x="2632" y="5472"/>
                    <a:pt x="2632" y="4153"/>
                  </a:cubicBezTo>
                  <a:cubicBezTo>
                    <a:pt x="2632" y="3250"/>
                    <a:pt x="2787" y="2277"/>
                    <a:pt x="2787" y="1375"/>
                  </a:cubicBezTo>
                  <a:cubicBezTo>
                    <a:pt x="2787" y="1097"/>
                    <a:pt x="2942" y="680"/>
                    <a:pt x="3097" y="333"/>
                  </a:cubicBezTo>
                  <a:cubicBezTo>
                    <a:pt x="3252" y="55"/>
                    <a:pt x="3794" y="-84"/>
                    <a:pt x="4258" y="55"/>
                  </a:cubicBezTo>
                  <a:cubicBezTo>
                    <a:pt x="4413" y="194"/>
                    <a:pt x="4568" y="194"/>
                    <a:pt x="4568" y="333"/>
                  </a:cubicBezTo>
                  <a:cubicBezTo>
                    <a:pt x="5265" y="1236"/>
                    <a:pt x="5884" y="2277"/>
                    <a:pt x="6194" y="3250"/>
                  </a:cubicBezTo>
                  <a:cubicBezTo>
                    <a:pt x="6348" y="3597"/>
                    <a:pt x="6348" y="4014"/>
                    <a:pt x="6503" y="4153"/>
                  </a:cubicBezTo>
                  <a:cubicBezTo>
                    <a:pt x="7045" y="4847"/>
                    <a:pt x="8284" y="4847"/>
                    <a:pt x="9290" y="4708"/>
                  </a:cubicBezTo>
                  <a:cubicBezTo>
                    <a:pt x="9755" y="4708"/>
                    <a:pt x="10297" y="4569"/>
                    <a:pt x="10916" y="4569"/>
                  </a:cubicBezTo>
                  <a:cubicBezTo>
                    <a:pt x="11690" y="4430"/>
                    <a:pt x="12542" y="4430"/>
                    <a:pt x="13006" y="3875"/>
                  </a:cubicBezTo>
                  <a:cubicBezTo>
                    <a:pt x="13548" y="3389"/>
                    <a:pt x="13703" y="2833"/>
                    <a:pt x="14168" y="2277"/>
                  </a:cubicBezTo>
                  <a:cubicBezTo>
                    <a:pt x="14787" y="1513"/>
                    <a:pt x="15948" y="1375"/>
                    <a:pt x="16955" y="1236"/>
                  </a:cubicBezTo>
                  <a:cubicBezTo>
                    <a:pt x="17884" y="1236"/>
                    <a:pt x="19045" y="1236"/>
                    <a:pt x="19974" y="1097"/>
                  </a:cubicBezTo>
                  <a:cubicBezTo>
                    <a:pt x="19819" y="2139"/>
                    <a:pt x="18890" y="2833"/>
                    <a:pt x="17884" y="3250"/>
                  </a:cubicBezTo>
                  <a:cubicBezTo>
                    <a:pt x="16955" y="3736"/>
                    <a:pt x="15794" y="4014"/>
                    <a:pt x="14942" y="4569"/>
                  </a:cubicBezTo>
                  <a:cubicBezTo>
                    <a:pt x="14168" y="5194"/>
                    <a:pt x="13548" y="6028"/>
                    <a:pt x="12852" y="6792"/>
                  </a:cubicBezTo>
                  <a:cubicBezTo>
                    <a:pt x="12387" y="7209"/>
                    <a:pt x="11923" y="7486"/>
                    <a:pt x="11535" y="7903"/>
                  </a:cubicBezTo>
                  <a:cubicBezTo>
                    <a:pt x="11226" y="8389"/>
                    <a:pt x="11071" y="9084"/>
                    <a:pt x="11535" y="9570"/>
                  </a:cubicBezTo>
                  <a:cubicBezTo>
                    <a:pt x="12387" y="9223"/>
                    <a:pt x="13239" y="9848"/>
                    <a:pt x="13703" y="10403"/>
                  </a:cubicBezTo>
                  <a:cubicBezTo>
                    <a:pt x="14245" y="10959"/>
                    <a:pt x="14477" y="11723"/>
                    <a:pt x="15174" y="12001"/>
                  </a:cubicBezTo>
                  <a:cubicBezTo>
                    <a:pt x="15794" y="12418"/>
                    <a:pt x="16568" y="12626"/>
                    <a:pt x="17110" y="13182"/>
                  </a:cubicBezTo>
                  <a:cubicBezTo>
                    <a:pt x="17265" y="13459"/>
                    <a:pt x="17265" y="13737"/>
                    <a:pt x="17574" y="14084"/>
                  </a:cubicBezTo>
                  <a:cubicBezTo>
                    <a:pt x="17884" y="14501"/>
                    <a:pt x="18581" y="14501"/>
                    <a:pt x="19200" y="14640"/>
                  </a:cubicBezTo>
                  <a:cubicBezTo>
                    <a:pt x="19974" y="14918"/>
                    <a:pt x="20516" y="15821"/>
                    <a:pt x="20206" y="16515"/>
                  </a:cubicBezTo>
                  <a:cubicBezTo>
                    <a:pt x="19974" y="16793"/>
                    <a:pt x="19819" y="17279"/>
                    <a:pt x="19819" y="17557"/>
                  </a:cubicBezTo>
                  <a:cubicBezTo>
                    <a:pt x="19974" y="18252"/>
                    <a:pt x="21290" y="18599"/>
                    <a:pt x="21445" y="19293"/>
                  </a:cubicBezTo>
                  <a:cubicBezTo>
                    <a:pt x="21600" y="20057"/>
                    <a:pt x="20671" y="20474"/>
                    <a:pt x="19819" y="20752"/>
                  </a:cubicBezTo>
                  <a:cubicBezTo>
                    <a:pt x="18890" y="21030"/>
                    <a:pt x="17729" y="21308"/>
                    <a:pt x="16568" y="21169"/>
                  </a:cubicBezTo>
                  <a:cubicBezTo>
                    <a:pt x="15484" y="21030"/>
                    <a:pt x="14477" y="20613"/>
                    <a:pt x="14013" y="19710"/>
                  </a:cubicBezTo>
                  <a:cubicBezTo>
                    <a:pt x="13703" y="19155"/>
                    <a:pt x="13703" y="18599"/>
                    <a:pt x="13316" y="17974"/>
                  </a:cubicBezTo>
                  <a:cubicBezTo>
                    <a:pt x="13161" y="17696"/>
                    <a:pt x="12852" y="17418"/>
                    <a:pt x="12697" y="17002"/>
                  </a:cubicBezTo>
                  <a:cubicBezTo>
                    <a:pt x="12387" y="16376"/>
                    <a:pt x="12697" y="15682"/>
                    <a:pt x="12852" y="14918"/>
                  </a:cubicBezTo>
                  <a:cubicBezTo>
                    <a:pt x="13006" y="13598"/>
                    <a:pt x="12077" y="12279"/>
                    <a:pt x="10761" y="12001"/>
                  </a:cubicBezTo>
                  <a:cubicBezTo>
                    <a:pt x="10452" y="11862"/>
                    <a:pt x="9910" y="11862"/>
                    <a:pt x="9600" y="11584"/>
                  </a:cubicBezTo>
                  <a:cubicBezTo>
                    <a:pt x="9445" y="11445"/>
                    <a:pt x="9290" y="11167"/>
                    <a:pt x="9135" y="10820"/>
                  </a:cubicBezTo>
                  <a:cubicBezTo>
                    <a:pt x="8671" y="9848"/>
                    <a:pt x="6503" y="8945"/>
                    <a:pt x="5419" y="9709"/>
                  </a:cubicBezTo>
                  <a:cubicBezTo>
                    <a:pt x="4103" y="10959"/>
                    <a:pt x="4723" y="13043"/>
                    <a:pt x="5729" y="13737"/>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3" name="Shape 3647"/>
            <p:cNvSpPr/>
            <p:nvPr/>
          </p:nvSpPr>
          <p:spPr>
            <a:xfrm>
              <a:off x="20498400" y="5432400"/>
              <a:ext cx="123840" cy="50400"/>
            </a:xfrm>
            <a:custGeom>
              <a:avLst/>
              <a:gdLst>
                <a:gd name="textAreaLeft" fmla="*/ 0 w 123840"/>
                <a:gd name="textAreaRight" fmla="*/ 124200 w 123840"/>
                <a:gd name="textAreaTop" fmla="*/ 0 h 50400"/>
                <a:gd name="textAreaBottom" fmla="*/ 50760 h 50400"/>
              </a:gdLst>
              <a:ahLst/>
              <a:rect l="textAreaLeft" t="textAreaTop" r="textAreaRight" b="textAreaBottom"/>
              <a:pathLst>
                <a:path w="21247" h="21347">
                  <a:moveTo>
                    <a:pt x="19" y="13477"/>
                  </a:moveTo>
                  <a:cubicBezTo>
                    <a:pt x="394" y="15508"/>
                    <a:pt x="1144" y="17354"/>
                    <a:pt x="1969" y="17354"/>
                  </a:cubicBezTo>
                  <a:cubicBezTo>
                    <a:pt x="2569" y="17354"/>
                    <a:pt x="3394" y="16985"/>
                    <a:pt x="3994" y="16615"/>
                  </a:cubicBezTo>
                  <a:cubicBezTo>
                    <a:pt x="5869" y="15877"/>
                    <a:pt x="7594" y="17723"/>
                    <a:pt x="9469" y="18277"/>
                  </a:cubicBezTo>
                  <a:cubicBezTo>
                    <a:pt x="10294" y="18277"/>
                    <a:pt x="11044" y="18277"/>
                    <a:pt x="12019" y="18277"/>
                  </a:cubicBezTo>
                  <a:cubicBezTo>
                    <a:pt x="12319" y="18277"/>
                    <a:pt x="12844" y="18277"/>
                    <a:pt x="13144" y="18646"/>
                  </a:cubicBezTo>
                  <a:cubicBezTo>
                    <a:pt x="13519" y="19015"/>
                    <a:pt x="13594" y="19385"/>
                    <a:pt x="13894" y="20123"/>
                  </a:cubicBezTo>
                  <a:cubicBezTo>
                    <a:pt x="14719" y="21600"/>
                    <a:pt x="15844" y="21600"/>
                    <a:pt x="16744" y="20862"/>
                  </a:cubicBezTo>
                  <a:cubicBezTo>
                    <a:pt x="17719" y="20123"/>
                    <a:pt x="18469" y="18277"/>
                    <a:pt x="19219" y="16615"/>
                  </a:cubicBezTo>
                  <a:cubicBezTo>
                    <a:pt x="19594" y="15877"/>
                    <a:pt x="20044" y="15138"/>
                    <a:pt x="20044" y="13846"/>
                  </a:cubicBezTo>
                  <a:cubicBezTo>
                    <a:pt x="20194" y="12000"/>
                    <a:pt x="19369" y="10523"/>
                    <a:pt x="19594" y="8862"/>
                  </a:cubicBezTo>
                  <a:cubicBezTo>
                    <a:pt x="19744" y="7015"/>
                    <a:pt x="20794" y="6092"/>
                    <a:pt x="21169" y="3877"/>
                  </a:cubicBezTo>
                  <a:cubicBezTo>
                    <a:pt x="21469" y="2215"/>
                    <a:pt x="20869" y="0"/>
                    <a:pt x="20044" y="0"/>
                  </a:cubicBezTo>
                  <a:cubicBezTo>
                    <a:pt x="19294" y="0"/>
                    <a:pt x="18619" y="369"/>
                    <a:pt x="18019" y="1846"/>
                  </a:cubicBezTo>
                  <a:cubicBezTo>
                    <a:pt x="17494" y="3138"/>
                    <a:pt x="17044" y="4985"/>
                    <a:pt x="16744" y="6646"/>
                  </a:cubicBezTo>
                  <a:cubicBezTo>
                    <a:pt x="15769" y="10523"/>
                    <a:pt x="14494" y="14400"/>
                    <a:pt x="12619" y="14400"/>
                  </a:cubicBezTo>
                  <a:cubicBezTo>
                    <a:pt x="11869" y="14400"/>
                    <a:pt x="11044" y="13477"/>
                    <a:pt x="10294" y="13108"/>
                  </a:cubicBezTo>
                  <a:cubicBezTo>
                    <a:pt x="9019" y="12369"/>
                    <a:pt x="7744" y="12000"/>
                    <a:pt x="6469" y="12000"/>
                  </a:cubicBezTo>
                  <a:cubicBezTo>
                    <a:pt x="5869" y="12000"/>
                    <a:pt x="5419" y="12369"/>
                    <a:pt x="4744" y="12000"/>
                  </a:cubicBezTo>
                  <a:cubicBezTo>
                    <a:pt x="4294" y="11631"/>
                    <a:pt x="3994" y="10892"/>
                    <a:pt x="3544" y="10523"/>
                  </a:cubicBezTo>
                  <a:cubicBezTo>
                    <a:pt x="2569" y="9231"/>
                    <a:pt x="1294" y="8492"/>
                    <a:pt x="19" y="8492"/>
                  </a:cubicBezTo>
                  <a:cubicBezTo>
                    <a:pt x="694" y="9231"/>
                    <a:pt x="-131" y="12000"/>
                    <a:pt x="19" y="13477"/>
                  </a:cubicBezTo>
                </a:path>
              </a:pathLst>
            </a:custGeom>
            <a:solidFill>
              <a:srgbClr val="919191"/>
            </a:solidFill>
            <a:ln w="12700">
              <a:noFill/>
            </a:ln>
          </p:spPr>
          <p:style>
            <a:lnRef idx="0"/>
            <a:fillRef idx="0"/>
            <a:effectRef idx="0"/>
            <a:fontRef idx="minor"/>
          </p:style>
          <p:txBody>
            <a:bodyPr numCol="1" spcCol="0" lIns="45720" rIns="45720" tIns="25200" bIns="25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4" name="Shape 3648"/>
            <p:cNvSpPr/>
            <p:nvPr/>
          </p:nvSpPr>
          <p:spPr>
            <a:xfrm>
              <a:off x="20638440" y="5555160"/>
              <a:ext cx="25920" cy="39600"/>
            </a:xfrm>
            <a:custGeom>
              <a:avLst/>
              <a:gdLst>
                <a:gd name="textAreaLeft" fmla="*/ 0 w 25920"/>
                <a:gd name="textAreaRight" fmla="*/ 26280 w 25920"/>
                <a:gd name="textAreaTop" fmla="*/ 0 h 39600"/>
                <a:gd name="textAreaBottom" fmla="*/ 39960 h 39600"/>
              </a:gdLst>
              <a:ahLst/>
              <a:rect l="textAreaLeft" t="textAreaTop" r="textAreaRight" b="textAreaBottom"/>
              <a:pathLst>
                <a:path w="19882" h="20543">
                  <a:moveTo>
                    <a:pt x="1937" y="10306"/>
                  </a:moveTo>
                  <a:cubicBezTo>
                    <a:pt x="2602" y="11656"/>
                    <a:pt x="3931" y="13231"/>
                    <a:pt x="5925" y="14131"/>
                  </a:cubicBezTo>
                  <a:cubicBezTo>
                    <a:pt x="7254" y="14581"/>
                    <a:pt x="8916" y="14581"/>
                    <a:pt x="10245" y="15481"/>
                  </a:cubicBezTo>
                  <a:cubicBezTo>
                    <a:pt x="12239" y="16381"/>
                    <a:pt x="13568" y="17956"/>
                    <a:pt x="14233" y="19306"/>
                  </a:cubicBezTo>
                  <a:cubicBezTo>
                    <a:pt x="14233" y="19756"/>
                    <a:pt x="14233" y="20206"/>
                    <a:pt x="14897" y="20206"/>
                  </a:cubicBezTo>
                  <a:cubicBezTo>
                    <a:pt x="15894" y="20656"/>
                    <a:pt x="17224" y="20656"/>
                    <a:pt x="17888" y="20206"/>
                  </a:cubicBezTo>
                  <a:cubicBezTo>
                    <a:pt x="19882" y="19306"/>
                    <a:pt x="19882" y="17506"/>
                    <a:pt x="19217" y="15931"/>
                  </a:cubicBezTo>
                  <a:cubicBezTo>
                    <a:pt x="18553" y="14581"/>
                    <a:pt x="17224" y="13231"/>
                    <a:pt x="16559" y="11656"/>
                  </a:cubicBezTo>
                  <a:cubicBezTo>
                    <a:pt x="15894" y="10306"/>
                    <a:pt x="15894" y="8506"/>
                    <a:pt x="17224" y="7606"/>
                  </a:cubicBezTo>
                  <a:cubicBezTo>
                    <a:pt x="18553" y="6481"/>
                    <a:pt x="19882" y="6031"/>
                    <a:pt x="19882" y="5131"/>
                  </a:cubicBezTo>
                  <a:cubicBezTo>
                    <a:pt x="19882" y="4681"/>
                    <a:pt x="19217" y="4231"/>
                    <a:pt x="18553" y="3781"/>
                  </a:cubicBezTo>
                  <a:cubicBezTo>
                    <a:pt x="14897" y="1306"/>
                    <a:pt x="7254" y="-944"/>
                    <a:pt x="2602" y="406"/>
                  </a:cubicBezTo>
                  <a:cubicBezTo>
                    <a:pt x="-1718" y="1756"/>
                    <a:pt x="276" y="6931"/>
                    <a:pt x="1937" y="10306"/>
                  </a:cubicBezTo>
                </a:path>
              </a:pathLst>
            </a:custGeom>
            <a:solidFill>
              <a:srgbClr val="919191"/>
            </a:solidFill>
            <a:ln w="12700">
              <a:noFill/>
            </a:ln>
          </p:spPr>
          <p:style>
            <a:lnRef idx="0"/>
            <a:fillRef idx="0"/>
            <a:effectRef idx="0"/>
            <a:fontRef idx="minor"/>
          </p:style>
          <p:txBody>
            <a:bodyPr numCol="1" spcCol="0" lIns="45720" rIns="45720" tIns="19800" bIns="19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5" name="Shape 3649"/>
            <p:cNvSpPr/>
            <p:nvPr/>
          </p:nvSpPr>
          <p:spPr>
            <a:xfrm>
              <a:off x="20681280" y="5550840"/>
              <a:ext cx="82800" cy="42120"/>
            </a:xfrm>
            <a:custGeom>
              <a:avLst/>
              <a:gdLst>
                <a:gd name="textAreaLeft" fmla="*/ 0 w 82800"/>
                <a:gd name="textAreaRight" fmla="*/ 83160 w 82800"/>
                <a:gd name="textAreaTop" fmla="*/ 0 h 42120"/>
                <a:gd name="textAreaBottom" fmla="*/ 42480 h 42120"/>
              </a:gdLst>
              <a:ahLst/>
              <a:rect l="textAreaLeft" t="textAreaTop" r="textAreaRight" b="textAreaBottom"/>
              <a:pathLst>
                <a:path w="20834" h="20952">
                  <a:moveTo>
                    <a:pt x="353" y="6048"/>
                  </a:moveTo>
                  <a:cubicBezTo>
                    <a:pt x="-302" y="8208"/>
                    <a:pt x="-84" y="11448"/>
                    <a:pt x="1334" y="12744"/>
                  </a:cubicBezTo>
                  <a:cubicBezTo>
                    <a:pt x="1989" y="13392"/>
                    <a:pt x="2425" y="13392"/>
                    <a:pt x="3080" y="13392"/>
                  </a:cubicBezTo>
                  <a:cubicBezTo>
                    <a:pt x="4716" y="13824"/>
                    <a:pt x="6134" y="15552"/>
                    <a:pt x="7443" y="16416"/>
                  </a:cubicBezTo>
                  <a:cubicBezTo>
                    <a:pt x="9298" y="17280"/>
                    <a:pt x="11153" y="16848"/>
                    <a:pt x="13225" y="16848"/>
                  </a:cubicBezTo>
                  <a:cubicBezTo>
                    <a:pt x="14971" y="16848"/>
                    <a:pt x="17043" y="17928"/>
                    <a:pt x="18462" y="20088"/>
                  </a:cubicBezTo>
                  <a:cubicBezTo>
                    <a:pt x="18680" y="20520"/>
                    <a:pt x="18898" y="20952"/>
                    <a:pt x="19116" y="20952"/>
                  </a:cubicBezTo>
                  <a:cubicBezTo>
                    <a:pt x="19334" y="20952"/>
                    <a:pt x="19553" y="20952"/>
                    <a:pt x="19553" y="20520"/>
                  </a:cubicBezTo>
                  <a:cubicBezTo>
                    <a:pt x="20971" y="18792"/>
                    <a:pt x="21298" y="13824"/>
                    <a:pt x="20098" y="11448"/>
                  </a:cubicBezTo>
                  <a:cubicBezTo>
                    <a:pt x="19443" y="10152"/>
                    <a:pt x="18462" y="9288"/>
                    <a:pt x="17589" y="8856"/>
                  </a:cubicBezTo>
                  <a:cubicBezTo>
                    <a:pt x="16389" y="7776"/>
                    <a:pt x="15298" y="6480"/>
                    <a:pt x="14316" y="4752"/>
                  </a:cubicBezTo>
                  <a:cubicBezTo>
                    <a:pt x="13662" y="3672"/>
                    <a:pt x="13225" y="2376"/>
                    <a:pt x="12462" y="1512"/>
                  </a:cubicBezTo>
                  <a:cubicBezTo>
                    <a:pt x="10716" y="-648"/>
                    <a:pt x="8425" y="-216"/>
                    <a:pt x="6571" y="1080"/>
                  </a:cubicBezTo>
                  <a:cubicBezTo>
                    <a:pt x="5153" y="1944"/>
                    <a:pt x="4280" y="-216"/>
                    <a:pt x="2862" y="648"/>
                  </a:cubicBezTo>
                  <a:cubicBezTo>
                    <a:pt x="1989" y="1080"/>
                    <a:pt x="789" y="4320"/>
                    <a:pt x="353" y="6048"/>
                  </a:cubicBezTo>
                </a:path>
              </a:pathLst>
            </a:custGeom>
            <a:solidFill>
              <a:srgbClr val="919191"/>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6" name="Shape 3650"/>
            <p:cNvSpPr/>
            <p:nvPr/>
          </p:nvSpPr>
          <p:spPr>
            <a:xfrm>
              <a:off x="20755800" y="5661360"/>
              <a:ext cx="33120" cy="38520"/>
            </a:xfrm>
            <a:custGeom>
              <a:avLst/>
              <a:gdLst>
                <a:gd name="textAreaLeft" fmla="*/ 0 w 33120"/>
                <a:gd name="textAreaRight" fmla="*/ 33480 w 33120"/>
                <a:gd name="textAreaTop" fmla="*/ 0 h 38520"/>
                <a:gd name="textAreaBottom" fmla="*/ 38880 h 38520"/>
              </a:gdLst>
              <a:ahLst/>
              <a:rect l="textAreaLeft" t="textAreaTop" r="textAreaRight" b="textAreaBottom"/>
              <a:pathLst>
                <a:path w="21272" h="19208">
                  <a:moveTo>
                    <a:pt x="6962" y="1577"/>
                  </a:moveTo>
                  <a:cubicBezTo>
                    <a:pt x="4802" y="3759"/>
                    <a:pt x="2372" y="6813"/>
                    <a:pt x="1292" y="9432"/>
                  </a:cubicBezTo>
                  <a:cubicBezTo>
                    <a:pt x="212" y="12268"/>
                    <a:pt x="-328" y="15323"/>
                    <a:pt x="212" y="17941"/>
                  </a:cubicBezTo>
                  <a:cubicBezTo>
                    <a:pt x="212" y="18377"/>
                    <a:pt x="752" y="19032"/>
                    <a:pt x="752" y="19032"/>
                  </a:cubicBezTo>
                  <a:cubicBezTo>
                    <a:pt x="1832" y="19468"/>
                    <a:pt x="3182" y="19032"/>
                    <a:pt x="3722" y="18377"/>
                  </a:cubicBezTo>
                  <a:cubicBezTo>
                    <a:pt x="6422" y="16195"/>
                    <a:pt x="9392" y="14450"/>
                    <a:pt x="12632" y="12050"/>
                  </a:cubicBezTo>
                  <a:cubicBezTo>
                    <a:pt x="15062" y="10304"/>
                    <a:pt x="17762" y="8341"/>
                    <a:pt x="19922" y="6595"/>
                  </a:cubicBezTo>
                  <a:cubicBezTo>
                    <a:pt x="20732" y="6159"/>
                    <a:pt x="20732" y="6159"/>
                    <a:pt x="21272" y="5723"/>
                  </a:cubicBezTo>
                  <a:cubicBezTo>
                    <a:pt x="21272" y="4850"/>
                    <a:pt x="20732" y="4195"/>
                    <a:pt x="19922" y="3759"/>
                  </a:cubicBezTo>
                  <a:cubicBezTo>
                    <a:pt x="17222" y="1577"/>
                    <a:pt x="10472" y="-2132"/>
                    <a:pt x="6962" y="1577"/>
                  </a:cubicBezTo>
                </a:path>
              </a:pathLst>
            </a:custGeom>
            <a:solidFill>
              <a:srgbClr val="919191"/>
            </a:solidFill>
            <a:ln w="12700">
              <a:noFill/>
            </a:ln>
          </p:spPr>
          <p:style>
            <a:lnRef idx="0"/>
            <a:fillRef idx="0"/>
            <a:effectRef idx="0"/>
            <a:fontRef idx="minor"/>
          </p:style>
          <p:txBody>
            <a:bodyPr numCol="1" spcCol="0" lIns="45720" rIns="45720" tIns="19440" bIns="19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7" name="Shape 3651"/>
            <p:cNvSpPr/>
            <p:nvPr/>
          </p:nvSpPr>
          <p:spPr>
            <a:xfrm>
              <a:off x="20800440" y="5614920"/>
              <a:ext cx="22320" cy="25560"/>
            </a:xfrm>
            <a:custGeom>
              <a:avLst/>
              <a:gdLst>
                <a:gd name="textAreaLeft" fmla="*/ 0 w 22320"/>
                <a:gd name="textAreaRight" fmla="*/ 22680 w 22320"/>
                <a:gd name="textAreaTop" fmla="*/ 0 h 25560"/>
                <a:gd name="textAreaBottom" fmla="*/ 25920 h 25560"/>
              </a:gdLst>
              <a:ahLst/>
              <a:rect l="textAreaLeft" t="textAreaTop" r="textAreaRight" b="textAreaBottom"/>
              <a:pathLst>
                <a:path w="17259" h="21089">
                  <a:moveTo>
                    <a:pt x="4746" y="16026"/>
                  </a:moveTo>
                  <a:cubicBezTo>
                    <a:pt x="7072" y="16723"/>
                    <a:pt x="8401" y="18813"/>
                    <a:pt x="7736" y="20903"/>
                  </a:cubicBezTo>
                  <a:cubicBezTo>
                    <a:pt x="9066" y="21600"/>
                    <a:pt x="10395" y="20206"/>
                    <a:pt x="11724" y="18813"/>
                  </a:cubicBezTo>
                  <a:cubicBezTo>
                    <a:pt x="13386" y="17419"/>
                    <a:pt x="14050" y="16026"/>
                    <a:pt x="15380" y="14632"/>
                  </a:cubicBezTo>
                  <a:cubicBezTo>
                    <a:pt x="16709" y="12194"/>
                    <a:pt x="18038" y="10103"/>
                    <a:pt x="16709" y="8013"/>
                  </a:cubicBezTo>
                  <a:cubicBezTo>
                    <a:pt x="16044" y="6271"/>
                    <a:pt x="14715" y="5574"/>
                    <a:pt x="13386" y="5574"/>
                  </a:cubicBezTo>
                  <a:cubicBezTo>
                    <a:pt x="10395" y="4181"/>
                    <a:pt x="7072" y="3484"/>
                    <a:pt x="4746" y="0"/>
                  </a:cubicBezTo>
                  <a:cubicBezTo>
                    <a:pt x="758" y="4877"/>
                    <a:pt x="-3562" y="13587"/>
                    <a:pt x="4746" y="16026"/>
                  </a:cubicBezTo>
                </a:path>
              </a:pathLst>
            </a:custGeom>
            <a:solidFill>
              <a:srgbClr val="919191"/>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8" name="Shape 3652"/>
            <p:cNvSpPr/>
            <p:nvPr/>
          </p:nvSpPr>
          <p:spPr>
            <a:xfrm>
              <a:off x="20839680" y="5621400"/>
              <a:ext cx="21600" cy="37440"/>
            </a:xfrm>
            <a:custGeom>
              <a:avLst/>
              <a:gdLst>
                <a:gd name="textAreaLeft" fmla="*/ 0 w 21600"/>
                <a:gd name="textAreaRight" fmla="*/ 21960 w 21600"/>
                <a:gd name="textAreaTop" fmla="*/ 0 h 37440"/>
                <a:gd name="textAreaBottom" fmla="*/ 37800 h 37440"/>
              </a:gdLst>
              <a:ahLst/>
              <a:rect l="textAreaLeft" t="textAreaTop" r="textAreaRight" b="textAreaBottom"/>
              <a:pathLst>
                <a:path w="21013" h="18701">
                  <a:moveTo>
                    <a:pt x="2400" y="5136"/>
                  </a:moveTo>
                  <a:cubicBezTo>
                    <a:pt x="2400" y="7042"/>
                    <a:pt x="2400" y="9159"/>
                    <a:pt x="800" y="11065"/>
                  </a:cubicBezTo>
                  <a:cubicBezTo>
                    <a:pt x="800" y="11489"/>
                    <a:pt x="0" y="11489"/>
                    <a:pt x="0" y="11912"/>
                  </a:cubicBezTo>
                  <a:cubicBezTo>
                    <a:pt x="0" y="12336"/>
                    <a:pt x="0" y="12336"/>
                    <a:pt x="800" y="12759"/>
                  </a:cubicBezTo>
                  <a:cubicBezTo>
                    <a:pt x="1600" y="13606"/>
                    <a:pt x="1600" y="14877"/>
                    <a:pt x="800" y="15936"/>
                  </a:cubicBezTo>
                  <a:cubicBezTo>
                    <a:pt x="800" y="16359"/>
                    <a:pt x="0" y="16783"/>
                    <a:pt x="0" y="17206"/>
                  </a:cubicBezTo>
                  <a:cubicBezTo>
                    <a:pt x="0" y="17630"/>
                    <a:pt x="800" y="17630"/>
                    <a:pt x="800" y="18053"/>
                  </a:cubicBezTo>
                  <a:cubicBezTo>
                    <a:pt x="3200" y="19324"/>
                    <a:pt x="6800" y="18477"/>
                    <a:pt x="9200" y="17630"/>
                  </a:cubicBezTo>
                  <a:cubicBezTo>
                    <a:pt x="11600" y="16359"/>
                    <a:pt x="12400" y="14453"/>
                    <a:pt x="13600" y="13183"/>
                  </a:cubicBezTo>
                  <a:cubicBezTo>
                    <a:pt x="15200" y="11489"/>
                    <a:pt x="16800" y="9583"/>
                    <a:pt x="18400" y="7889"/>
                  </a:cubicBezTo>
                  <a:cubicBezTo>
                    <a:pt x="20000" y="7042"/>
                    <a:pt x="21600" y="5559"/>
                    <a:pt x="20800" y="4289"/>
                  </a:cubicBezTo>
                  <a:cubicBezTo>
                    <a:pt x="20800" y="3865"/>
                    <a:pt x="20000" y="3442"/>
                    <a:pt x="19200" y="3442"/>
                  </a:cubicBezTo>
                  <a:cubicBezTo>
                    <a:pt x="10800" y="-582"/>
                    <a:pt x="3200" y="-2276"/>
                    <a:pt x="2400" y="5136"/>
                  </a:cubicBezTo>
                </a:path>
              </a:pathLst>
            </a:custGeom>
            <a:solidFill>
              <a:srgbClr val="919191"/>
            </a:solidFill>
            <a:ln w="12700">
              <a:noFill/>
            </a:ln>
          </p:spPr>
          <p:style>
            <a:lnRef idx="0"/>
            <a:fillRef idx="0"/>
            <a:effectRef idx="0"/>
            <a:fontRef idx="minor"/>
          </p:style>
          <p:txBody>
            <a:bodyPr numCol="1" spcCol="0" lIns="45720" rIns="45720" tIns="18720" bIns="18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299" name="Shape 3653"/>
            <p:cNvSpPr/>
            <p:nvPr/>
          </p:nvSpPr>
          <p:spPr>
            <a:xfrm>
              <a:off x="20668680" y="5433120"/>
              <a:ext cx="41400" cy="74880"/>
            </a:xfrm>
            <a:custGeom>
              <a:avLst/>
              <a:gdLst>
                <a:gd name="textAreaLeft" fmla="*/ 0 w 41400"/>
                <a:gd name="textAreaRight" fmla="*/ 41760 w 41400"/>
                <a:gd name="textAreaTop" fmla="*/ 0 h 74880"/>
                <a:gd name="textAreaBottom" fmla="*/ 75240 h 74880"/>
              </a:gdLst>
              <a:ahLst/>
              <a:rect l="textAreaLeft" t="textAreaTop" r="textAreaRight" b="textAreaBottom"/>
              <a:pathLst>
                <a:path w="21488" h="20782">
                  <a:moveTo>
                    <a:pt x="0" y="7608"/>
                  </a:moveTo>
                  <a:cubicBezTo>
                    <a:pt x="0" y="7846"/>
                    <a:pt x="0" y="8083"/>
                    <a:pt x="0" y="8083"/>
                  </a:cubicBezTo>
                  <a:cubicBezTo>
                    <a:pt x="450" y="8320"/>
                    <a:pt x="1350" y="8320"/>
                    <a:pt x="1800" y="8320"/>
                  </a:cubicBezTo>
                  <a:cubicBezTo>
                    <a:pt x="2700" y="8677"/>
                    <a:pt x="3150" y="9151"/>
                    <a:pt x="3150" y="9626"/>
                  </a:cubicBezTo>
                  <a:cubicBezTo>
                    <a:pt x="4275" y="11644"/>
                    <a:pt x="4725" y="13898"/>
                    <a:pt x="3150" y="15560"/>
                  </a:cubicBezTo>
                  <a:cubicBezTo>
                    <a:pt x="2700" y="16035"/>
                    <a:pt x="2250" y="16628"/>
                    <a:pt x="1800" y="17103"/>
                  </a:cubicBezTo>
                  <a:cubicBezTo>
                    <a:pt x="900" y="18883"/>
                    <a:pt x="4275" y="20782"/>
                    <a:pt x="7875" y="20782"/>
                  </a:cubicBezTo>
                  <a:cubicBezTo>
                    <a:pt x="9000" y="20782"/>
                    <a:pt x="10350" y="20545"/>
                    <a:pt x="10800" y="20070"/>
                  </a:cubicBezTo>
                  <a:cubicBezTo>
                    <a:pt x="11700" y="19358"/>
                    <a:pt x="10800" y="18290"/>
                    <a:pt x="9900" y="17815"/>
                  </a:cubicBezTo>
                  <a:cubicBezTo>
                    <a:pt x="9000" y="17103"/>
                    <a:pt x="7425" y="16866"/>
                    <a:pt x="6525" y="16035"/>
                  </a:cubicBezTo>
                  <a:cubicBezTo>
                    <a:pt x="4725" y="14611"/>
                    <a:pt x="6075" y="12593"/>
                    <a:pt x="7425" y="11169"/>
                  </a:cubicBezTo>
                  <a:cubicBezTo>
                    <a:pt x="8325" y="10101"/>
                    <a:pt x="9000" y="9389"/>
                    <a:pt x="9900" y="8320"/>
                  </a:cubicBezTo>
                  <a:cubicBezTo>
                    <a:pt x="10350" y="8083"/>
                    <a:pt x="10350" y="7608"/>
                    <a:pt x="10800" y="7371"/>
                  </a:cubicBezTo>
                  <a:cubicBezTo>
                    <a:pt x="11700" y="6896"/>
                    <a:pt x="13050" y="6896"/>
                    <a:pt x="14175" y="6422"/>
                  </a:cubicBezTo>
                  <a:cubicBezTo>
                    <a:pt x="16875" y="5591"/>
                    <a:pt x="17325" y="3336"/>
                    <a:pt x="20250" y="3098"/>
                  </a:cubicBezTo>
                  <a:cubicBezTo>
                    <a:pt x="20700" y="3098"/>
                    <a:pt x="21150" y="3098"/>
                    <a:pt x="21150" y="2861"/>
                  </a:cubicBezTo>
                  <a:cubicBezTo>
                    <a:pt x="21600" y="2624"/>
                    <a:pt x="21600" y="2149"/>
                    <a:pt x="21150" y="1912"/>
                  </a:cubicBezTo>
                  <a:cubicBezTo>
                    <a:pt x="20700" y="1674"/>
                    <a:pt x="20250" y="1437"/>
                    <a:pt x="19350" y="1437"/>
                  </a:cubicBezTo>
                  <a:cubicBezTo>
                    <a:pt x="15525" y="606"/>
                    <a:pt x="9000" y="-818"/>
                    <a:pt x="5175" y="606"/>
                  </a:cubicBezTo>
                  <a:cubicBezTo>
                    <a:pt x="3150" y="2149"/>
                    <a:pt x="900" y="5116"/>
                    <a:pt x="0" y="7608"/>
                  </a:cubicBezTo>
                </a:path>
              </a:pathLst>
            </a:custGeom>
            <a:solidFill>
              <a:srgbClr val="919191"/>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0" name="Shape 3654"/>
            <p:cNvSpPr/>
            <p:nvPr/>
          </p:nvSpPr>
          <p:spPr>
            <a:xfrm>
              <a:off x="20742480" y="5479920"/>
              <a:ext cx="29160" cy="36000"/>
            </a:xfrm>
            <a:custGeom>
              <a:avLst/>
              <a:gdLst>
                <a:gd name="textAreaLeft" fmla="*/ 0 w 29160"/>
                <a:gd name="textAreaRight" fmla="*/ 29520 w 29160"/>
                <a:gd name="textAreaTop" fmla="*/ 0 h 36000"/>
                <a:gd name="textAreaBottom" fmla="*/ 36360 h 36000"/>
              </a:gdLst>
              <a:ahLst/>
              <a:rect l="textAreaLeft" t="textAreaTop" r="textAreaRight" b="textAreaBottom"/>
              <a:pathLst>
                <a:path w="19782" h="20679">
                  <a:moveTo>
                    <a:pt x="15282" y="20679"/>
                  </a:moveTo>
                  <a:cubicBezTo>
                    <a:pt x="17082" y="20177"/>
                    <a:pt x="18282" y="18670"/>
                    <a:pt x="19182" y="16912"/>
                  </a:cubicBezTo>
                  <a:cubicBezTo>
                    <a:pt x="19782" y="15405"/>
                    <a:pt x="19782" y="13898"/>
                    <a:pt x="19782" y="12139"/>
                  </a:cubicBezTo>
                  <a:cubicBezTo>
                    <a:pt x="19782" y="11637"/>
                    <a:pt x="19782" y="10632"/>
                    <a:pt x="19182" y="10130"/>
                  </a:cubicBezTo>
                  <a:cubicBezTo>
                    <a:pt x="16482" y="8121"/>
                    <a:pt x="16482" y="9126"/>
                    <a:pt x="15282" y="5860"/>
                  </a:cubicBezTo>
                  <a:cubicBezTo>
                    <a:pt x="14082" y="3851"/>
                    <a:pt x="14082" y="2093"/>
                    <a:pt x="10782" y="586"/>
                  </a:cubicBezTo>
                  <a:cubicBezTo>
                    <a:pt x="7182" y="-921"/>
                    <a:pt x="2682" y="586"/>
                    <a:pt x="882" y="3851"/>
                  </a:cubicBezTo>
                  <a:cubicBezTo>
                    <a:pt x="-1818" y="8623"/>
                    <a:pt x="2082" y="10632"/>
                    <a:pt x="7182" y="11637"/>
                  </a:cubicBezTo>
                  <a:cubicBezTo>
                    <a:pt x="9582" y="12139"/>
                    <a:pt x="11982" y="12139"/>
                    <a:pt x="14082" y="14400"/>
                  </a:cubicBezTo>
                  <a:cubicBezTo>
                    <a:pt x="13482" y="15405"/>
                    <a:pt x="16482" y="20177"/>
                    <a:pt x="15282" y="20679"/>
                  </a:cubicBezTo>
                </a:path>
              </a:pathLst>
            </a:custGeom>
            <a:solidFill>
              <a:srgbClr val="919191"/>
            </a:solidFill>
            <a:ln w="12700">
              <a:noFill/>
            </a:ln>
          </p:spPr>
          <p:style>
            <a:lnRef idx="0"/>
            <a:fillRef idx="0"/>
            <a:effectRef idx="0"/>
            <a:fontRef idx="minor"/>
          </p:style>
          <p:txBody>
            <a:bodyPr numCol="1" spcCol="0" lIns="45720" rIns="45720" tIns="18000" bIns="180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1" name="Shape 3655"/>
            <p:cNvSpPr/>
            <p:nvPr/>
          </p:nvSpPr>
          <p:spPr>
            <a:xfrm>
              <a:off x="20491920" y="4831560"/>
              <a:ext cx="40320" cy="88200"/>
            </a:xfrm>
            <a:custGeom>
              <a:avLst/>
              <a:gdLst>
                <a:gd name="textAreaLeft" fmla="*/ 0 w 40320"/>
                <a:gd name="textAreaRight" fmla="*/ 40680 w 40320"/>
                <a:gd name="textAreaTop" fmla="*/ 0 h 88200"/>
                <a:gd name="textAreaBottom" fmla="*/ 88560 h 88200"/>
              </a:gdLst>
              <a:ahLst/>
              <a:rect l="textAreaLeft" t="textAreaTop" r="textAreaRight" b="textAreaBottom"/>
              <a:pathLst>
                <a:path w="19286" h="20836">
                  <a:moveTo>
                    <a:pt x="14194" y="18379"/>
                  </a:moveTo>
                  <a:cubicBezTo>
                    <a:pt x="14194" y="18584"/>
                    <a:pt x="14194" y="18996"/>
                    <a:pt x="14194" y="19201"/>
                  </a:cubicBezTo>
                  <a:cubicBezTo>
                    <a:pt x="13783" y="19407"/>
                    <a:pt x="13371" y="19716"/>
                    <a:pt x="12960" y="19716"/>
                  </a:cubicBezTo>
                  <a:cubicBezTo>
                    <a:pt x="10286" y="20127"/>
                    <a:pt x="8229" y="20333"/>
                    <a:pt x="5554" y="20744"/>
                  </a:cubicBezTo>
                  <a:cubicBezTo>
                    <a:pt x="4731" y="20744"/>
                    <a:pt x="4320" y="20950"/>
                    <a:pt x="3291" y="20744"/>
                  </a:cubicBezTo>
                  <a:cubicBezTo>
                    <a:pt x="2469" y="20539"/>
                    <a:pt x="2469" y="20127"/>
                    <a:pt x="2057" y="19716"/>
                  </a:cubicBezTo>
                  <a:cubicBezTo>
                    <a:pt x="1234" y="18173"/>
                    <a:pt x="411" y="16424"/>
                    <a:pt x="0" y="14881"/>
                  </a:cubicBezTo>
                  <a:cubicBezTo>
                    <a:pt x="0" y="14470"/>
                    <a:pt x="0" y="14264"/>
                    <a:pt x="0" y="13853"/>
                  </a:cubicBezTo>
                  <a:cubicBezTo>
                    <a:pt x="411" y="13441"/>
                    <a:pt x="1646" y="13030"/>
                    <a:pt x="2057" y="12516"/>
                  </a:cubicBezTo>
                  <a:cubicBezTo>
                    <a:pt x="2469" y="12104"/>
                    <a:pt x="2469" y="11693"/>
                    <a:pt x="2469" y="11076"/>
                  </a:cubicBezTo>
                  <a:cubicBezTo>
                    <a:pt x="2469" y="9533"/>
                    <a:pt x="3909" y="7990"/>
                    <a:pt x="4731" y="6550"/>
                  </a:cubicBezTo>
                  <a:cubicBezTo>
                    <a:pt x="5143" y="6036"/>
                    <a:pt x="5554" y="5419"/>
                    <a:pt x="5966" y="5007"/>
                  </a:cubicBezTo>
                  <a:cubicBezTo>
                    <a:pt x="6377" y="4801"/>
                    <a:pt x="6377" y="4596"/>
                    <a:pt x="6789" y="4184"/>
                  </a:cubicBezTo>
                  <a:cubicBezTo>
                    <a:pt x="8640" y="2436"/>
                    <a:pt x="11109" y="687"/>
                    <a:pt x="15017" y="276"/>
                  </a:cubicBezTo>
                  <a:cubicBezTo>
                    <a:pt x="21600" y="-650"/>
                    <a:pt x="18926" y="893"/>
                    <a:pt x="17691" y="2847"/>
                  </a:cubicBezTo>
                  <a:cubicBezTo>
                    <a:pt x="13783" y="7784"/>
                    <a:pt x="12549" y="13236"/>
                    <a:pt x="14194" y="18379"/>
                  </a:cubicBezTo>
                </a:path>
              </a:pathLst>
            </a:custGeom>
            <a:solidFill>
              <a:srgbClr val="919191"/>
            </a:solidFill>
            <a:ln w="12700">
              <a:noFill/>
            </a:ln>
          </p:spPr>
          <p:style>
            <a:lnRef idx="0"/>
            <a:fillRef idx="0"/>
            <a:effectRef idx="0"/>
            <a:fontRef idx="minor"/>
          </p:style>
          <p:txBody>
            <a:bodyPr numCol="1" spcCol="0" lIns="45720" rIns="45720" tIns="44280" bIns="44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2" name="Shape 3656"/>
            <p:cNvSpPr/>
            <p:nvPr/>
          </p:nvSpPr>
          <p:spPr>
            <a:xfrm>
              <a:off x="20481480" y="5003640"/>
              <a:ext cx="71280" cy="176040"/>
            </a:xfrm>
            <a:custGeom>
              <a:avLst/>
              <a:gdLst>
                <a:gd name="textAreaLeft" fmla="*/ 0 w 71280"/>
                <a:gd name="textAreaRight" fmla="*/ 71640 w 71280"/>
                <a:gd name="textAreaTop" fmla="*/ 0 h 176040"/>
                <a:gd name="textAreaBottom" fmla="*/ 176400 h 176040"/>
              </a:gdLst>
              <a:ahLst/>
              <a:rect l="textAreaLeft" t="textAreaTop" r="textAreaRight" b="textAreaBottom"/>
              <a:pathLst>
                <a:path w="21310" h="21600">
                  <a:moveTo>
                    <a:pt x="7303" y="1126"/>
                  </a:moveTo>
                  <a:cubicBezTo>
                    <a:pt x="7041" y="1447"/>
                    <a:pt x="7303" y="1930"/>
                    <a:pt x="7826" y="2251"/>
                  </a:cubicBezTo>
                  <a:cubicBezTo>
                    <a:pt x="8219" y="2573"/>
                    <a:pt x="8743" y="2948"/>
                    <a:pt x="9005" y="3269"/>
                  </a:cubicBezTo>
                  <a:cubicBezTo>
                    <a:pt x="8219" y="3055"/>
                    <a:pt x="6779" y="3377"/>
                    <a:pt x="6255" y="3805"/>
                  </a:cubicBezTo>
                  <a:cubicBezTo>
                    <a:pt x="5994" y="4288"/>
                    <a:pt x="6255" y="4717"/>
                    <a:pt x="6517" y="5199"/>
                  </a:cubicBezTo>
                  <a:cubicBezTo>
                    <a:pt x="7303" y="6539"/>
                    <a:pt x="7565" y="7986"/>
                    <a:pt x="7041" y="9326"/>
                  </a:cubicBezTo>
                  <a:cubicBezTo>
                    <a:pt x="4554" y="9540"/>
                    <a:pt x="2066" y="9219"/>
                    <a:pt x="495" y="8415"/>
                  </a:cubicBezTo>
                  <a:cubicBezTo>
                    <a:pt x="-28" y="9112"/>
                    <a:pt x="-290" y="9808"/>
                    <a:pt x="495" y="10344"/>
                  </a:cubicBezTo>
                  <a:cubicBezTo>
                    <a:pt x="1019" y="10559"/>
                    <a:pt x="1543" y="10827"/>
                    <a:pt x="2066" y="11041"/>
                  </a:cubicBezTo>
                  <a:cubicBezTo>
                    <a:pt x="2721" y="11309"/>
                    <a:pt x="3245" y="11470"/>
                    <a:pt x="3506" y="11792"/>
                  </a:cubicBezTo>
                  <a:cubicBezTo>
                    <a:pt x="3506" y="12167"/>
                    <a:pt x="2983" y="12488"/>
                    <a:pt x="2066" y="12381"/>
                  </a:cubicBezTo>
                  <a:cubicBezTo>
                    <a:pt x="2328" y="12703"/>
                    <a:pt x="2721" y="13132"/>
                    <a:pt x="3245" y="13507"/>
                  </a:cubicBezTo>
                  <a:cubicBezTo>
                    <a:pt x="3768" y="13828"/>
                    <a:pt x="5077" y="13935"/>
                    <a:pt x="5994" y="13721"/>
                  </a:cubicBezTo>
                  <a:cubicBezTo>
                    <a:pt x="6255" y="13614"/>
                    <a:pt x="6517" y="13614"/>
                    <a:pt x="6779" y="13614"/>
                  </a:cubicBezTo>
                  <a:cubicBezTo>
                    <a:pt x="7041" y="13614"/>
                    <a:pt x="7041" y="13721"/>
                    <a:pt x="7303" y="13828"/>
                  </a:cubicBezTo>
                  <a:cubicBezTo>
                    <a:pt x="8219" y="14525"/>
                    <a:pt x="9005" y="15275"/>
                    <a:pt x="9528" y="16079"/>
                  </a:cubicBezTo>
                  <a:cubicBezTo>
                    <a:pt x="9790" y="16294"/>
                    <a:pt x="9790" y="16508"/>
                    <a:pt x="9266" y="16669"/>
                  </a:cubicBezTo>
                  <a:cubicBezTo>
                    <a:pt x="9005" y="16776"/>
                    <a:pt x="8481" y="16669"/>
                    <a:pt x="8219" y="16669"/>
                  </a:cubicBezTo>
                  <a:cubicBezTo>
                    <a:pt x="7303" y="16776"/>
                    <a:pt x="7303" y="17098"/>
                    <a:pt x="7303" y="17419"/>
                  </a:cubicBezTo>
                  <a:cubicBezTo>
                    <a:pt x="7565" y="18331"/>
                    <a:pt x="8219" y="19456"/>
                    <a:pt x="10314" y="19778"/>
                  </a:cubicBezTo>
                  <a:cubicBezTo>
                    <a:pt x="10968" y="19992"/>
                    <a:pt x="10575" y="20474"/>
                    <a:pt x="10575" y="20796"/>
                  </a:cubicBezTo>
                  <a:cubicBezTo>
                    <a:pt x="10575" y="21118"/>
                    <a:pt x="10968" y="21600"/>
                    <a:pt x="11754" y="21600"/>
                  </a:cubicBezTo>
                  <a:cubicBezTo>
                    <a:pt x="12539" y="21600"/>
                    <a:pt x="12801" y="21278"/>
                    <a:pt x="12801" y="20903"/>
                  </a:cubicBezTo>
                  <a:cubicBezTo>
                    <a:pt x="13063" y="19885"/>
                    <a:pt x="12539" y="18867"/>
                    <a:pt x="11230" y="18116"/>
                  </a:cubicBezTo>
                  <a:cubicBezTo>
                    <a:pt x="11230" y="18009"/>
                    <a:pt x="10968" y="18063"/>
                    <a:pt x="10968" y="17902"/>
                  </a:cubicBezTo>
                  <a:cubicBezTo>
                    <a:pt x="10968" y="17795"/>
                    <a:pt x="10968" y="17741"/>
                    <a:pt x="11230" y="17634"/>
                  </a:cubicBezTo>
                  <a:cubicBezTo>
                    <a:pt x="11754" y="17312"/>
                    <a:pt x="12539" y="17044"/>
                    <a:pt x="13063" y="16669"/>
                  </a:cubicBezTo>
                  <a:cubicBezTo>
                    <a:pt x="13586" y="16347"/>
                    <a:pt x="13979" y="15865"/>
                    <a:pt x="13325" y="15543"/>
                  </a:cubicBezTo>
                  <a:cubicBezTo>
                    <a:pt x="14241" y="15543"/>
                    <a:pt x="14503" y="14954"/>
                    <a:pt x="13979" y="14739"/>
                  </a:cubicBezTo>
                  <a:cubicBezTo>
                    <a:pt x="13325" y="14525"/>
                    <a:pt x="12539" y="14257"/>
                    <a:pt x="12277" y="14043"/>
                  </a:cubicBezTo>
                  <a:cubicBezTo>
                    <a:pt x="11754" y="13828"/>
                    <a:pt x="11754" y="13507"/>
                    <a:pt x="11754" y="13132"/>
                  </a:cubicBezTo>
                  <a:cubicBezTo>
                    <a:pt x="11492" y="12488"/>
                    <a:pt x="11492" y="11684"/>
                    <a:pt x="12539" y="11148"/>
                  </a:cubicBezTo>
                  <a:cubicBezTo>
                    <a:pt x="13325" y="10559"/>
                    <a:pt x="15288" y="10344"/>
                    <a:pt x="16728" y="10130"/>
                  </a:cubicBezTo>
                  <a:cubicBezTo>
                    <a:pt x="18037" y="9916"/>
                    <a:pt x="19477" y="9540"/>
                    <a:pt x="20525" y="9112"/>
                  </a:cubicBezTo>
                  <a:cubicBezTo>
                    <a:pt x="21048" y="9004"/>
                    <a:pt x="21310" y="8790"/>
                    <a:pt x="21310" y="8522"/>
                  </a:cubicBezTo>
                  <a:cubicBezTo>
                    <a:pt x="21310" y="8200"/>
                    <a:pt x="20525" y="7879"/>
                    <a:pt x="20001" y="7665"/>
                  </a:cubicBezTo>
                  <a:cubicBezTo>
                    <a:pt x="18299" y="6968"/>
                    <a:pt x="18561" y="5842"/>
                    <a:pt x="18823" y="4824"/>
                  </a:cubicBezTo>
                  <a:cubicBezTo>
                    <a:pt x="19085" y="3805"/>
                    <a:pt x="18823" y="2680"/>
                    <a:pt x="16990" y="2251"/>
                  </a:cubicBezTo>
                  <a:cubicBezTo>
                    <a:pt x="16074" y="2037"/>
                    <a:pt x="15288" y="2037"/>
                    <a:pt x="14765" y="2251"/>
                  </a:cubicBezTo>
                  <a:cubicBezTo>
                    <a:pt x="15026" y="2144"/>
                    <a:pt x="10314" y="214"/>
                    <a:pt x="9790" y="0"/>
                  </a:cubicBezTo>
                  <a:cubicBezTo>
                    <a:pt x="9266" y="804"/>
                    <a:pt x="7565" y="697"/>
                    <a:pt x="7303" y="112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3" name="Shape 3657"/>
            <p:cNvSpPr/>
            <p:nvPr/>
          </p:nvSpPr>
          <p:spPr>
            <a:xfrm>
              <a:off x="20536200" y="5120640"/>
              <a:ext cx="49320" cy="35280"/>
            </a:xfrm>
            <a:custGeom>
              <a:avLst/>
              <a:gdLst>
                <a:gd name="textAreaLeft" fmla="*/ 0 w 49320"/>
                <a:gd name="textAreaRight" fmla="*/ 49680 w 49320"/>
                <a:gd name="textAreaTop" fmla="*/ 0 h 35280"/>
                <a:gd name="textAreaBottom" fmla="*/ 35640 h 35280"/>
              </a:gdLst>
              <a:ahLst/>
              <a:rect l="textAreaLeft" t="textAreaTop" r="textAreaRight" b="textAreaBottom"/>
              <a:pathLst>
                <a:path w="21600" h="21417">
                  <a:moveTo>
                    <a:pt x="3005" y="11733"/>
                  </a:moveTo>
                  <a:cubicBezTo>
                    <a:pt x="4320" y="12800"/>
                    <a:pt x="5447" y="13867"/>
                    <a:pt x="6950" y="12800"/>
                  </a:cubicBezTo>
                  <a:cubicBezTo>
                    <a:pt x="7325" y="12267"/>
                    <a:pt x="7889" y="12267"/>
                    <a:pt x="8264" y="11733"/>
                  </a:cubicBezTo>
                  <a:lnTo>
                    <a:pt x="9767" y="11733"/>
                  </a:lnTo>
                  <a:cubicBezTo>
                    <a:pt x="10518" y="11733"/>
                    <a:pt x="11270" y="12267"/>
                    <a:pt x="12209" y="12267"/>
                  </a:cubicBezTo>
                  <a:cubicBezTo>
                    <a:pt x="12584" y="12267"/>
                    <a:pt x="12960" y="12800"/>
                    <a:pt x="13336" y="12800"/>
                  </a:cubicBezTo>
                  <a:cubicBezTo>
                    <a:pt x="14087" y="13333"/>
                    <a:pt x="14087" y="14400"/>
                    <a:pt x="14463" y="14933"/>
                  </a:cubicBezTo>
                  <a:cubicBezTo>
                    <a:pt x="14838" y="16000"/>
                    <a:pt x="15214" y="17333"/>
                    <a:pt x="15590" y="18933"/>
                  </a:cubicBezTo>
                  <a:cubicBezTo>
                    <a:pt x="16153" y="19467"/>
                    <a:pt x="16153" y="20533"/>
                    <a:pt x="16904" y="21067"/>
                  </a:cubicBezTo>
                  <a:cubicBezTo>
                    <a:pt x="17656" y="21600"/>
                    <a:pt x="18407" y="21600"/>
                    <a:pt x="19158" y="20533"/>
                  </a:cubicBezTo>
                  <a:lnTo>
                    <a:pt x="20849" y="18400"/>
                  </a:lnTo>
                  <a:cubicBezTo>
                    <a:pt x="21224" y="17867"/>
                    <a:pt x="21600" y="16533"/>
                    <a:pt x="21600" y="16000"/>
                  </a:cubicBezTo>
                  <a:cubicBezTo>
                    <a:pt x="21600" y="14933"/>
                    <a:pt x="21224" y="13867"/>
                    <a:pt x="20849" y="12800"/>
                  </a:cubicBezTo>
                  <a:cubicBezTo>
                    <a:pt x="20473" y="11733"/>
                    <a:pt x="20097" y="11200"/>
                    <a:pt x="19534" y="9867"/>
                  </a:cubicBezTo>
                  <a:cubicBezTo>
                    <a:pt x="18783" y="9333"/>
                    <a:pt x="18031" y="8800"/>
                    <a:pt x="16904" y="8800"/>
                  </a:cubicBezTo>
                  <a:cubicBezTo>
                    <a:pt x="13711" y="8267"/>
                    <a:pt x="10518" y="7200"/>
                    <a:pt x="9016" y="3200"/>
                  </a:cubicBezTo>
                  <a:cubicBezTo>
                    <a:pt x="8640" y="2667"/>
                    <a:pt x="8640" y="1600"/>
                    <a:pt x="8264" y="1067"/>
                  </a:cubicBezTo>
                  <a:cubicBezTo>
                    <a:pt x="7889" y="533"/>
                    <a:pt x="6950" y="0"/>
                    <a:pt x="6198" y="0"/>
                  </a:cubicBezTo>
                  <a:cubicBezTo>
                    <a:pt x="5447" y="0"/>
                    <a:pt x="5071" y="0"/>
                    <a:pt x="4696" y="533"/>
                  </a:cubicBezTo>
                  <a:cubicBezTo>
                    <a:pt x="4320" y="1067"/>
                    <a:pt x="3944" y="1867"/>
                    <a:pt x="4132" y="2400"/>
                  </a:cubicBezTo>
                  <a:cubicBezTo>
                    <a:pt x="3569" y="1600"/>
                    <a:pt x="751" y="1067"/>
                    <a:pt x="0" y="1600"/>
                  </a:cubicBezTo>
                  <a:cubicBezTo>
                    <a:pt x="1127" y="5600"/>
                    <a:pt x="1127" y="8800"/>
                    <a:pt x="3005" y="11733"/>
                  </a:cubicBezTo>
                </a:path>
              </a:pathLst>
            </a:custGeom>
            <a:solidFill>
              <a:srgbClr val="919191"/>
            </a:solidFill>
            <a:ln w="12700">
              <a:noFill/>
            </a:ln>
          </p:spPr>
          <p:style>
            <a:lnRef idx="0"/>
            <a:fillRef idx="0"/>
            <a:effectRef idx="0"/>
            <a:fontRef idx="minor"/>
          </p:style>
          <p:txBody>
            <a:bodyPr numCol="1" spcCol="0" lIns="45720" rIns="45720" tIns="17640" bIns="176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4" name="Shape 3658"/>
            <p:cNvSpPr/>
            <p:nvPr/>
          </p:nvSpPr>
          <p:spPr>
            <a:xfrm>
              <a:off x="20534400" y="5180400"/>
              <a:ext cx="28800" cy="40680"/>
            </a:xfrm>
            <a:custGeom>
              <a:avLst/>
              <a:gdLst>
                <a:gd name="textAreaLeft" fmla="*/ 0 w 28800"/>
                <a:gd name="textAreaRight" fmla="*/ 29160 w 28800"/>
                <a:gd name="textAreaTop" fmla="*/ 0 h 40680"/>
                <a:gd name="textAreaBottom" fmla="*/ 41040 h 40680"/>
              </a:gdLst>
              <a:ahLst/>
              <a:rect l="textAreaLeft" t="textAreaTop" r="textAreaRight" b="textAreaBottom"/>
              <a:pathLst>
                <a:path w="20774" h="21234">
                  <a:moveTo>
                    <a:pt x="113" y="891"/>
                  </a:moveTo>
                  <a:cubicBezTo>
                    <a:pt x="113" y="445"/>
                    <a:pt x="1052" y="445"/>
                    <a:pt x="113" y="891"/>
                  </a:cubicBezTo>
                  <a:cubicBezTo>
                    <a:pt x="739" y="891"/>
                    <a:pt x="1052" y="891"/>
                    <a:pt x="1052" y="1336"/>
                  </a:cubicBezTo>
                  <a:cubicBezTo>
                    <a:pt x="739" y="1336"/>
                    <a:pt x="426" y="1559"/>
                    <a:pt x="113" y="1781"/>
                  </a:cubicBezTo>
                  <a:cubicBezTo>
                    <a:pt x="-200" y="2672"/>
                    <a:pt x="113" y="4008"/>
                    <a:pt x="1365" y="4454"/>
                  </a:cubicBezTo>
                  <a:cubicBezTo>
                    <a:pt x="1365" y="5567"/>
                    <a:pt x="1678" y="6680"/>
                    <a:pt x="1678" y="7571"/>
                  </a:cubicBezTo>
                  <a:cubicBezTo>
                    <a:pt x="2304" y="11134"/>
                    <a:pt x="3557" y="14920"/>
                    <a:pt x="6687" y="17814"/>
                  </a:cubicBezTo>
                  <a:cubicBezTo>
                    <a:pt x="8878" y="19151"/>
                    <a:pt x="11383" y="20041"/>
                    <a:pt x="14200" y="19596"/>
                  </a:cubicBezTo>
                  <a:cubicBezTo>
                    <a:pt x="15452" y="19151"/>
                    <a:pt x="16704" y="18705"/>
                    <a:pt x="17330" y="19596"/>
                  </a:cubicBezTo>
                  <a:cubicBezTo>
                    <a:pt x="17957" y="20041"/>
                    <a:pt x="17957" y="21600"/>
                    <a:pt x="18583" y="21155"/>
                  </a:cubicBezTo>
                  <a:cubicBezTo>
                    <a:pt x="20774" y="19151"/>
                    <a:pt x="21400" y="16478"/>
                    <a:pt x="19835" y="14474"/>
                  </a:cubicBezTo>
                  <a:cubicBezTo>
                    <a:pt x="19209" y="13584"/>
                    <a:pt x="18583" y="12693"/>
                    <a:pt x="17957" y="11134"/>
                  </a:cubicBezTo>
                  <a:cubicBezTo>
                    <a:pt x="17330" y="8907"/>
                    <a:pt x="19835" y="6458"/>
                    <a:pt x="20774" y="4231"/>
                  </a:cubicBezTo>
                  <a:lnTo>
                    <a:pt x="20774" y="2895"/>
                  </a:lnTo>
                  <a:cubicBezTo>
                    <a:pt x="20774" y="2449"/>
                    <a:pt x="19835" y="1781"/>
                    <a:pt x="19209" y="1781"/>
                  </a:cubicBezTo>
                  <a:cubicBezTo>
                    <a:pt x="15452" y="0"/>
                    <a:pt x="11383" y="0"/>
                    <a:pt x="6687" y="0"/>
                  </a:cubicBezTo>
                  <a:lnTo>
                    <a:pt x="3557" y="0"/>
                  </a:lnTo>
                  <a:cubicBezTo>
                    <a:pt x="2617" y="445"/>
                    <a:pt x="1678" y="668"/>
                    <a:pt x="1052" y="1336"/>
                  </a:cubicBezTo>
                  <a:cubicBezTo>
                    <a:pt x="1052" y="2449"/>
                    <a:pt x="1052" y="3563"/>
                    <a:pt x="1365" y="4454"/>
                  </a:cubicBezTo>
                  <a:cubicBezTo>
                    <a:pt x="1365" y="4676"/>
                    <a:pt x="1365" y="4676"/>
                    <a:pt x="1678" y="4676"/>
                  </a:cubicBezTo>
                  <a:lnTo>
                    <a:pt x="113" y="891"/>
                  </a:lnTo>
                </a:path>
              </a:pathLst>
            </a:custGeom>
            <a:solidFill>
              <a:srgbClr val="919191"/>
            </a:solidFill>
            <a:ln w="12700">
              <a:noFill/>
            </a:ln>
          </p:spPr>
          <p:style>
            <a:lnRef idx="0"/>
            <a:fillRef idx="0"/>
            <a:effectRef idx="0"/>
            <a:fontRef idx="minor"/>
          </p:style>
          <p:txBody>
            <a:bodyPr numCol="1" spcCol="0" lIns="45720" rIns="45720" tIns="20520" bIns="20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5" name="Shape 3659"/>
            <p:cNvSpPr/>
            <p:nvPr/>
          </p:nvSpPr>
          <p:spPr>
            <a:xfrm>
              <a:off x="20548080" y="5209920"/>
              <a:ext cx="47880" cy="48600"/>
            </a:xfrm>
            <a:custGeom>
              <a:avLst/>
              <a:gdLst>
                <a:gd name="textAreaLeft" fmla="*/ 0 w 47880"/>
                <a:gd name="textAreaRight" fmla="*/ 48240 w 47880"/>
                <a:gd name="textAreaTop" fmla="*/ 0 h 48600"/>
                <a:gd name="textAreaBottom" fmla="*/ 48960 h 48600"/>
              </a:gdLst>
              <a:ahLst/>
              <a:rect l="textAreaLeft" t="textAreaTop" r="textAreaRight" b="textAreaBottom"/>
              <a:pathLst>
                <a:path w="21069" h="20474">
                  <a:moveTo>
                    <a:pt x="7631" y="18629"/>
                  </a:moveTo>
                  <a:cubicBezTo>
                    <a:pt x="8006" y="17909"/>
                    <a:pt x="8006" y="16829"/>
                    <a:pt x="8382" y="15929"/>
                  </a:cubicBezTo>
                  <a:cubicBezTo>
                    <a:pt x="9133" y="13409"/>
                    <a:pt x="12326" y="11429"/>
                    <a:pt x="12702" y="8729"/>
                  </a:cubicBezTo>
                  <a:cubicBezTo>
                    <a:pt x="13829" y="8369"/>
                    <a:pt x="14768" y="9629"/>
                    <a:pt x="15144" y="10349"/>
                  </a:cubicBezTo>
                  <a:cubicBezTo>
                    <a:pt x="15707" y="11069"/>
                    <a:pt x="16646" y="11789"/>
                    <a:pt x="17773" y="11429"/>
                  </a:cubicBezTo>
                  <a:cubicBezTo>
                    <a:pt x="18149" y="11429"/>
                    <a:pt x="18149" y="11069"/>
                    <a:pt x="18525" y="10709"/>
                  </a:cubicBezTo>
                  <a:cubicBezTo>
                    <a:pt x="19088" y="9989"/>
                    <a:pt x="19464" y="9629"/>
                    <a:pt x="19839" y="8729"/>
                  </a:cubicBezTo>
                  <a:cubicBezTo>
                    <a:pt x="20215" y="8009"/>
                    <a:pt x="20966" y="7289"/>
                    <a:pt x="20966" y="6569"/>
                  </a:cubicBezTo>
                  <a:cubicBezTo>
                    <a:pt x="21342" y="5489"/>
                    <a:pt x="20591" y="3869"/>
                    <a:pt x="20215" y="3149"/>
                  </a:cubicBezTo>
                  <a:cubicBezTo>
                    <a:pt x="19464" y="1709"/>
                    <a:pt x="17773" y="449"/>
                    <a:pt x="16271" y="89"/>
                  </a:cubicBezTo>
                  <a:cubicBezTo>
                    <a:pt x="14580" y="-271"/>
                    <a:pt x="12326" y="449"/>
                    <a:pt x="11951" y="2429"/>
                  </a:cubicBezTo>
                  <a:cubicBezTo>
                    <a:pt x="11199" y="6209"/>
                    <a:pt x="9133" y="7289"/>
                    <a:pt x="5189" y="8729"/>
                  </a:cubicBezTo>
                  <a:cubicBezTo>
                    <a:pt x="3311" y="9629"/>
                    <a:pt x="1245" y="10349"/>
                    <a:pt x="493" y="12149"/>
                  </a:cubicBezTo>
                  <a:cubicBezTo>
                    <a:pt x="-258" y="14129"/>
                    <a:pt x="-258" y="17549"/>
                    <a:pt x="1245" y="19349"/>
                  </a:cubicBezTo>
                  <a:cubicBezTo>
                    <a:pt x="2372" y="20609"/>
                    <a:pt x="5940" y="21329"/>
                    <a:pt x="7631" y="18629"/>
                  </a:cubicBezTo>
                </a:path>
              </a:pathLst>
            </a:custGeom>
            <a:solidFill>
              <a:srgbClr val="919191"/>
            </a:solidFill>
            <a:ln w="12700">
              <a:noFill/>
            </a:ln>
          </p:spPr>
          <p:style>
            <a:lnRef idx="0"/>
            <a:fillRef idx="0"/>
            <a:effectRef idx="0"/>
            <a:fontRef idx="minor"/>
          </p:style>
          <p:txBody>
            <a:bodyPr numCol="1" spcCol="0" lIns="45720" rIns="45720" tIns="24480" bIns="244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6" name="Shape 3660"/>
            <p:cNvSpPr/>
            <p:nvPr/>
          </p:nvSpPr>
          <p:spPr>
            <a:xfrm>
              <a:off x="20576880" y="5163480"/>
              <a:ext cx="44280" cy="68760"/>
            </a:xfrm>
            <a:custGeom>
              <a:avLst/>
              <a:gdLst>
                <a:gd name="textAreaLeft" fmla="*/ 0 w 44280"/>
                <a:gd name="textAreaRight" fmla="*/ 44640 w 44280"/>
                <a:gd name="textAreaTop" fmla="*/ 0 h 68760"/>
                <a:gd name="textAreaBottom" fmla="*/ 69120 h 68760"/>
              </a:gdLst>
              <a:ahLst/>
              <a:rect l="textAreaLeft" t="textAreaTop" r="textAreaRight" b="textAreaBottom"/>
              <a:pathLst>
                <a:path w="19513" h="21112">
                  <a:moveTo>
                    <a:pt x="6924" y="5624"/>
                  </a:moveTo>
                  <a:cubicBezTo>
                    <a:pt x="7675" y="5888"/>
                    <a:pt x="8426" y="6151"/>
                    <a:pt x="9178" y="6546"/>
                  </a:cubicBezTo>
                  <a:cubicBezTo>
                    <a:pt x="9553" y="6809"/>
                    <a:pt x="9929" y="7336"/>
                    <a:pt x="10492" y="7600"/>
                  </a:cubicBezTo>
                  <a:cubicBezTo>
                    <a:pt x="11995" y="9575"/>
                    <a:pt x="12746" y="11683"/>
                    <a:pt x="13498" y="13922"/>
                  </a:cubicBezTo>
                  <a:cubicBezTo>
                    <a:pt x="13873" y="14844"/>
                    <a:pt x="13873" y="15370"/>
                    <a:pt x="13873" y="16161"/>
                  </a:cubicBezTo>
                  <a:cubicBezTo>
                    <a:pt x="13873" y="16951"/>
                    <a:pt x="13498" y="17873"/>
                    <a:pt x="13498" y="18663"/>
                  </a:cubicBezTo>
                  <a:cubicBezTo>
                    <a:pt x="13498" y="19453"/>
                    <a:pt x="13873" y="20244"/>
                    <a:pt x="15188" y="20902"/>
                  </a:cubicBezTo>
                  <a:cubicBezTo>
                    <a:pt x="16315" y="21429"/>
                    <a:pt x="17818" y="20902"/>
                    <a:pt x="18757" y="19980"/>
                  </a:cubicBezTo>
                  <a:cubicBezTo>
                    <a:pt x="19508" y="19190"/>
                    <a:pt x="19508" y="18400"/>
                    <a:pt x="19132" y="17609"/>
                  </a:cubicBezTo>
                  <a:cubicBezTo>
                    <a:pt x="18757" y="16951"/>
                    <a:pt x="18193" y="16161"/>
                    <a:pt x="18193" y="15634"/>
                  </a:cubicBezTo>
                  <a:cubicBezTo>
                    <a:pt x="18193" y="14844"/>
                    <a:pt x="18757" y="13922"/>
                    <a:pt x="19132" y="13131"/>
                  </a:cubicBezTo>
                  <a:cubicBezTo>
                    <a:pt x="20635" y="9312"/>
                    <a:pt x="17442" y="5097"/>
                    <a:pt x="13873" y="1805"/>
                  </a:cubicBezTo>
                  <a:cubicBezTo>
                    <a:pt x="13498" y="1541"/>
                    <a:pt x="13122" y="1014"/>
                    <a:pt x="12746" y="751"/>
                  </a:cubicBezTo>
                  <a:cubicBezTo>
                    <a:pt x="11619" y="-171"/>
                    <a:pt x="9553" y="-171"/>
                    <a:pt x="8051" y="356"/>
                  </a:cubicBezTo>
                  <a:cubicBezTo>
                    <a:pt x="6548" y="1014"/>
                    <a:pt x="5609" y="2068"/>
                    <a:pt x="5609" y="3122"/>
                  </a:cubicBezTo>
                  <a:cubicBezTo>
                    <a:pt x="4106" y="2595"/>
                    <a:pt x="-965" y="92"/>
                    <a:pt x="162" y="2858"/>
                  </a:cubicBezTo>
                  <a:cubicBezTo>
                    <a:pt x="913" y="4307"/>
                    <a:pt x="4858" y="5361"/>
                    <a:pt x="6924" y="5624"/>
                  </a:cubicBezTo>
                </a:path>
              </a:pathLst>
            </a:custGeom>
            <a:solidFill>
              <a:srgbClr val="919191"/>
            </a:solidFill>
            <a:ln w="12700">
              <a:noFill/>
            </a:ln>
          </p:spPr>
          <p:style>
            <a:lnRef idx="0"/>
            <a:fillRef idx="0"/>
            <a:effectRef idx="0"/>
            <a:fontRef idx="minor"/>
          </p:style>
          <p:txBody>
            <a:bodyPr numCol="1" spcCol="0" lIns="45720" rIns="45720" tIns="34560" bIns="34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7" name="Shape 3661"/>
            <p:cNvSpPr/>
            <p:nvPr/>
          </p:nvSpPr>
          <p:spPr>
            <a:xfrm>
              <a:off x="20534760" y="5251680"/>
              <a:ext cx="122760" cy="95400"/>
            </a:xfrm>
            <a:custGeom>
              <a:avLst/>
              <a:gdLst>
                <a:gd name="textAreaLeft" fmla="*/ 0 w 122760"/>
                <a:gd name="textAreaRight" fmla="*/ 123120 w 122760"/>
                <a:gd name="textAreaTop" fmla="*/ 0 h 95400"/>
                <a:gd name="textAreaBottom" fmla="*/ 95760 h 95400"/>
              </a:gdLst>
              <a:ahLst/>
              <a:rect l="textAreaLeft" t="textAreaTop" r="textAreaRight" b="textAreaBottom"/>
              <a:pathLst>
                <a:path w="21359" h="21600">
                  <a:moveTo>
                    <a:pt x="5766" y="8836"/>
                  </a:moveTo>
                  <a:cubicBezTo>
                    <a:pt x="5917" y="8836"/>
                    <a:pt x="6219" y="9033"/>
                    <a:pt x="6370" y="9229"/>
                  </a:cubicBezTo>
                  <a:cubicBezTo>
                    <a:pt x="6521" y="9425"/>
                    <a:pt x="6748" y="9818"/>
                    <a:pt x="6899" y="10015"/>
                  </a:cubicBezTo>
                  <a:cubicBezTo>
                    <a:pt x="7352" y="10505"/>
                    <a:pt x="7956" y="10015"/>
                    <a:pt x="8334" y="9425"/>
                  </a:cubicBezTo>
                  <a:cubicBezTo>
                    <a:pt x="8636" y="8836"/>
                    <a:pt x="8938" y="8247"/>
                    <a:pt x="9391" y="7953"/>
                  </a:cubicBezTo>
                  <a:cubicBezTo>
                    <a:pt x="10071" y="7756"/>
                    <a:pt x="10675" y="8836"/>
                    <a:pt x="10675" y="9622"/>
                  </a:cubicBezTo>
                  <a:cubicBezTo>
                    <a:pt x="10675" y="10505"/>
                    <a:pt x="10222" y="11291"/>
                    <a:pt x="9920" y="12076"/>
                  </a:cubicBezTo>
                  <a:cubicBezTo>
                    <a:pt x="9542" y="12764"/>
                    <a:pt x="9089" y="13353"/>
                    <a:pt x="8787" y="14138"/>
                  </a:cubicBezTo>
                  <a:cubicBezTo>
                    <a:pt x="8485" y="14629"/>
                    <a:pt x="8334" y="15218"/>
                    <a:pt x="8334" y="15611"/>
                  </a:cubicBezTo>
                  <a:cubicBezTo>
                    <a:pt x="8334" y="16396"/>
                    <a:pt x="8938" y="17084"/>
                    <a:pt x="9542" y="16887"/>
                  </a:cubicBezTo>
                  <a:cubicBezTo>
                    <a:pt x="9693" y="16887"/>
                    <a:pt x="9920" y="16691"/>
                    <a:pt x="10071" y="16691"/>
                  </a:cubicBezTo>
                  <a:cubicBezTo>
                    <a:pt x="10222" y="16691"/>
                    <a:pt x="10373" y="17084"/>
                    <a:pt x="10524" y="17280"/>
                  </a:cubicBezTo>
                  <a:cubicBezTo>
                    <a:pt x="10977" y="18458"/>
                    <a:pt x="11657" y="19735"/>
                    <a:pt x="12563" y="20324"/>
                  </a:cubicBezTo>
                  <a:cubicBezTo>
                    <a:pt x="13394" y="20815"/>
                    <a:pt x="14149" y="20520"/>
                    <a:pt x="14980" y="21011"/>
                  </a:cubicBezTo>
                  <a:cubicBezTo>
                    <a:pt x="15433" y="21207"/>
                    <a:pt x="16113" y="21600"/>
                    <a:pt x="16566" y="21600"/>
                  </a:cubicBezTo>
                  <a:cubicBezTo>
                    <a:pt x="17095" y="21600"/>
                    <a:pt x="17774" y="21011"/>
                    <a:pt x="17623" y="20324"/>
                  </a:cubicBezTo>
                  <a:cubicBezTo>
                    <a:pt x="17472" y="19342"/>
                    <a:pt x="16415" y="19538"/>
                    <a:pt x="15886" y="18753"/>
                  </a:cubicBezTo>
                  <a:cubicBezTo>
                    <a:pt x="15282" y="17869"/>
                    <a:pt x="15886" y="16396"/>
                    <a:pt x="16566" y="15415"/>
                  </a:cubicBezTo>
                  <a:cubicBezTo>
                    <a:pt x="15886" y="15218"/>
                    <a:pt x="15282" y="14825"/>
                    <a:pt x="14602" y="14629"/>
                  </a:cubicBezTo>
                  <a:cubicBezTo>
                    <a:pt x="14451" y="14629"/>
                    <a:pt x="14149" y="14335"/>
                    <a:pt x="14149" y="14138"/>
                  </a:cubicBezTo>
                  <a:cubicBezTo>
                    <a:pt x="14149" y="13942"/>
                    <a:pt x="14300" y="13745"/>
                    <a:pt x="14451" y="13549"/>
                  </a:cubicBezTo>
                  <a:cubicBezTo>
                    <a:pt x="15282" y="12764"/>
                    <a:pt x="16415" y="12371"/>
                    <a:pt x="17321" y="12076"/>
                  </a:cubicBezTo>
                  <a:cubicBezTo>
                    <a:pt x="17623" y="12371"/>
                    <a:pt x="17472" y="12960"/>
                    <a:pt x="17472" y="13353"/>
                  </a:cubicBezTo>
                  <a:cubicBezTo>
                    <a:pt x="17623" y="13942"/>
                    <a:pt x="18001" y="14236"/>
                    <a:pt x="18303" y="14629"/>
                  </a:cubicBezTo>
                  <a:cubicBezTo>
                    <a:pt x="18605" y="15120"/>
                    <a:pt x="18907" y="15415"/>
                    <a:pt x="18756" y="16004"/>
                  </a:cubicBezTo>
                  <a:cubicBezTo>
                    <a:pt x="19587" y="16004"/>
                    <a:pt x="20342" y="15611"/>
                    <a:pt x="20946" y="15218"/>
                  </a:cubicBezTo>
                  <a:cubicBezTo>
                    <a:pt x="21097" y="15218"/>
                    <a:pt x="21324" y="15022"/>
                    <a:pt x="21324" y="14825"/>
                  </a:cubicBezTo>
                  <a:cubicBezTo>
                    <a:pt x="21475" y="14335"/>
                    <a:pt x="21097" y="13745"/>
                    <a:pt x="20795" y="13549"/>
                  </a:cubicBezTo>
                  <a:cubicBezTo>
                    <a:pt x="20493" y="13353"/>
                    <a:pt x="20040" y="13353"/>
                    <a:pt x="19738" y="12960"/>
                  </a:cubicBezTo>
                  <a:cubicBezTo>
                    <a:pt x="18907" y="12371"/>
                    <a:pt x="19058" y="10702"/>
                    <a:pt x="19360" y="9622"/>
                  </a:cubicBezTo>
                  <a:cubicBezTo>
                    <a:pt x="19738" y="8640"/>
                    <a:pt x="20040" y="7167"/>
                    <a:pt x="19587" y="6185"/>
                  </a:cubicBezTo>
                  <a:cubicBezTo>
                    <a:pt x="19209" y="5498"/>
                    <a:pt x="18454" y="5302"/>
                    <a:pt x="18001" y="5695"/>
                  </a:cubicBezTo>
                  <a:cubicBezTo>
                    <a:pt x="17774" y="4713"/>
                    <a:pt x="18001" y="3436"/>
                    <a:pt x="18454" y="2455"/>
                  </a:cubicBezTo>
                  <a:cubicBezTo>
                    <a:pt x="18605" y="2062"/>
                    <a:pt x="18756" y="1571"/>
                    <a:pt x="18605" y="1178"/>
                  </a:cubicBezTo>
                  <a:cubicBezTo>
                    <a:pt x="18454" y="982"/>
                    <a:pt x="18303" y="785"/>
                    <a:pt x="18152" y="785"/>
                  </a:cubicBezTo>
                  <a:cubicBezTo>
                    <a:pt x="17321" y="393"/>
                    <a:pt x="16566" y="0"/>
                    <a:pt x="15584" y="0"/>
                  </a:cubicBezTo>
                  <a:cubicBezTo>
                    <a:pt x="14602" y="0"/>
                    <a:pt x="13847" y="785"/>
                    <a:pt x="13696" y="1865"/>
                  </a:cubicBezTo>
                  <a:cubicBezTo>
                    <a:pt x="13696" y="2062"/>
                    <a:pt x="13696" y="2258"/>
                    <a:pt x="13696" y="2455"/>
                  </a:cubicBezTo>
                  <a:cubicBezTo>
                    <a:pt x="13847" y="2651"/>
                    <a:pt x="13998" y="2847"/>
                    <a:pt x="14149" y="3044"/>
                  </a:cubicBezTo>
                  <a:cubicBezTo>
                    <a:pt x="14602" y="3633"/>
                    <a:pt x="14149" y="4909"/>
                    <a:pt x="13696" y="5498"/>
                  </a:cubicBezTo>
                  <a:cubicBezTo>
                    <a:pt x="13545" y="5695"/>
                    <a:pt x="13243" y="6185"/>
                    <a:pt x="13016" y="6185"/>
                  </a:cubicBezTo>
                  <a:cubicBezTo>
                    <a:pt x="12563" y="6382"/>
                    <a:pt x="12261" y="5891"/>
                    <a:pt x="11808" y="5498"/>
                  </a:cubicBezTo>
                  <a:cubicBezTo>
                    <a:pt x="11128" y="4909"/>
                    <a:pt x="10373" y="4516"/>
                    <a:pt x="9542" y="4713"/>
                  </a:cubicBezTo>
                  <a:cubicBezTo>
                    <a:pt x="8787" y="4713"/>
                    <a:pt x="7956" y="5302"/>
                    <a:pt x="7654" y="6185"/>
                  </a:cubicBezTo>
                  <a:cubicBezTo>
                    <a:pt x="6899" y="5498"/>
                    <a:pt x="7050" y="3436"/>
                    <a:pt x="6068" y="3436"/>
                  </a:cubicBezTo>
                  <a:cubicBezTo>
                    <a:pt x="5917" y="3436"/>
                    <a:pt x="5766" y="3436"/>
                    <a:pt x="5615" y="3633"/>
                  </a:cubicBezTo>
                  <a:cubicBezTo>
                    <a:pt x="4633" y="4320"/>
                    <a:pt x="4029" y="5498"/>
                    <a:pt x="2896" y="5891"/>
                  </a:cubicBezTo>
                  <a:cubicBezTo>
                    <a:pt x="2443" y="6185"/>
                    <a:pt x="1839" y="6185"/>
                    <a:pt x="1310" y="6382"/>
                  </a:cubicBezTo>
                  <a:cubicBezTo>
                    <a:pt x="857" y="6578"/>
                    <a:pt x="253" y="6971"/>
                    <a:pt x="26" y="7560"/>
                  </a:cubicBezTo>
                  <a:cubicBezTo>
                    <a:pt x="-125" y="8247"/>
                    <a:pt x="404" y="8836"/>
                    <a:pt x="857" y="8836"/>
                  </a:cubicBezTo>
                  <a:cubicBezTo>
                    <a:pt x="1159" y="10702"/>
                    <a:pt x="1461" y="10015"/>
                    <a:pt x="2594" y="9229"/>
                  </a:cubicBezTo>
                  <a:cubicBezTo>
                    <a:pt x="3727" y="8836"/>
                    <a:pt x="4784" y="8640"/>
                    <a:pt x="5766" y="883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8" name="Shape 3662"/>
            <p:cNvSpPr/>
            <p:nvPr/>
          </p:nvSpPr>
          <p:spPr>
            <a:xfrm>
              <a:off x="22186080" y="3408840"/>
              <a:ext cx="76680" cy="46800"/>
            </a:xfrm>
            <a:custGeom>
              <a:avLst/>
              <a:gdLst>
                <a:gd name="textAreaLeft" fmla="*/ 0 w 76680"/>
                <a:gd name="textAreaRight" fmla="*/ 77040 w 76680"/>
                <a:gd name="textAreaTop" fmla="*/ 0 h 46800"/>
                <a:gd name="textAreaBottom" fmla="*/ 47160 h 46800"/>
              </a:gdLst>
              <a:ahLst/>
              <a:rect l="textAreaLeft" t="textAreaTop" r="textAreaRight" b="textAreaBottom"/>
              <a:pathLst>
                <a:path w="20746" h="19746">
                  <a:moveTo>
                    <a:pt x="2693" y="8974"/>
                  </a:moveTo>
                  <a:cubicBezTo>
                    <a:pt x="3163" y="8974"/>
                    <a:pt x="3398" y="8608"/>
                    <a:pt x="3985" y="8608"/>
                  </a:cubicBezTo>
                  <a:cubicBezTo>
                    <a:pt x="4219" y="8608"/>
                    <a:pt x="4454" y="8974"/>
                    <a:pt x="4689" y="8974"/>
                  </a:cubicBezTo>
                  <a:cubicBezTo>
                    <a:pt x="4924" y="8974"/>
                    <a:pt x="5159" y="8608"/>
                    <a:pt x="5159" y="8608"/>
                  </a:cubicBezTo>
                  <a:cubicBezTo>
                    <a:pt x="6685" y="6960"/>
                    <a:pt x="8915" y="8425"/>
                    <a:pt x="9854" y="10438"/>
                  </a:cubicBezTo>
                  <a:cubicBezTo>
                    <a:pt x="10793" y="12269"/>
                    <a:pt x="11615" y="15381"/>
                    <a:pt x="11615" y="18126"/>
                  </a:cubicBezTo>
                  <a:cubicBezTo>
                    <a:pt x="12789" y="17028"/>
                    <a:pt x="14315" y="20506"/>
                    <a:pt x="15489" y="19591"/>
                  </a:cubicBezTo>
                  <a:cubicBezTo>
                    <a:pt x="15959" y="19225"/>
                    <a:pt x="16193" y="18492"/>
                    <a:pt x="15959" y="17760"/>
                  </a:cubicBezTo>
                  <a:cubicBezTo>
                    <a:pt x="15724" y="17028"/>
                    <a:pt x="15254" y="16662"/>
                    <a:pt x="14785" y="16662"/>
                  </a:cubicBezTo>
                  <a:cubicBezTo>
                    <a:pt x="14785" y="15381"/>
                    <a:pt x="15489" y="14648"/>
                    <a:pt x="16546" y="14282"/>
                  </a:cubicBezTo>
                  <a:cubicBezTo>
                    <a:pt x="17250" y="14282"/>
                    <a:pt x="17954" y="14648"/>
                    <a:pt x="18659" y="14648"/>
                  </a:cubicBezTo>
                  <a:cubicBezTo>
                    <a:pt x="19480" y="14648"/>
                    <a:pt x="20419" y="14648"/>
                    <a:pt x="20654" y="13550"/>
                  </a:cubicBezTo>
                  <a:cubicBezTo>
                    <a:pt x="20889" y="12452"/>
                    <a:pt x="20654" y="11170"/>
                    <a:pt x="20185" y="10438"/>
                  </a:cubicBezTo>
                  <a:cubicBezTo>
                    <a:pt x="19715" y="9706"/>
                    <a:pt x="19011" y="9340"/>
                    <a:pt x="18189" y="8974"/>
                  </a:cubicBezTo>
                  <a:cubicBezTo>
                    <a:pt x="17485" y="8608"/>
                    <a:pt x="17015" y="8242"/>
                    <a:pt x="16193" y="7692"/>
                  </a:cubicBezTo>
                  <a:cubicBezTo>
                    <a:pt x="15959" y="7692"/>
                    <a:pt x="15489" y="7326"/>
                    <a:pt x="15019" y="7326"/>
                  </a:cubicBezTo>
                  <a:cubicBezTo>
                    <a:pt x="14550" y="7326"/>
                    <a:pt x="14315" y="8242"/>
                    <a:pt x="14080" y="8608"/>
                  </a:cubicBezTo>
                  <a:cubicBezTo>
                    <a:pt x="13259" y="9340"/>
                    <a:pt x="12319" y="8608"/>
                    <a:pt x="11850" y="7326"/>
                  </a:cubicBezTo>
                  <a:cubicBezTo>
                    <a:pt x="11380" y="6228"/>
                    <a:pt x="11028" y="5130"/>
                    <a:pt x="10559" y="3848"/>
                  </a:cubicBezTo>
                  <a:cubicBezTo>
                    <a:pt x="10089" y="2750"/>
                    <a:pt x="9385" y="1652"/>
                    <a:pt x="8328" y="1652"/>
                  </a:cubicBezTo>
                  <a:cubicBezTo>
                    <a:pt x="8093" y="1652"/>
                    <a:pt x="7624" y="2018"/>
                    <a:pt x="7389" y="1652"/>
                  </a:cubicBezTo>
                  <a:cubicBezTo>
                    <a:pt x="6919" y="1652"/>
                    <a:pt x="6450" y="920"/>
                    <a:pt x="6098" y="553"/>
                  </a:cubicBezTo>
                  <a:cubicBezTo>
                    <a:pt x="4219" y="-1094"/>
                    <a:pt x="1989" y="1286"/>
                    <a:pt x="463" y="3116"/>
                  </a:cubicBezTo>
                  <a:cubicBezTo>
                    <a:pt x="-711" y="5496"/>
                    <a:pt x="463" y="9706"/>
                    <a:pt x="2693" y="8974"/>
                  </a:cubicBezTo>
                </a:path>
              </a:pathLst>
            </a:custGeom>
            <a:solidFill>
              <a:srgbClr val="919191"/>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09" name="Shape 3663"/>
            <p:cNvSpPr/>
            <p:nvPr/>
          </p:nvSpPr>
          <p:spPr>
            <a:xfrm>
              <a:off x="21943800" y="2883240"/>
              <a:ext cx="111600" cy="68400"/>
            </a:xfrm>
            <a:custGeom>
              <a:avLst/>
              <a:gdLst>
                <a:gd name="textAreaLeft" fmla="*/ 0 w 111600"/>
                <a:gd name="textAreaRight" fmla="*/ 111960 w 111600"/>
                <a:gd name="textAreaTop" fmla="*/ 0 h 68400"/>
                <a:gd name="textAreaBottom" fmla="*/ 68760 h 68400"/>
              </a:gdLst>
              <a:ahLst/>
              <a:rect l="textAreaLeft" t="textAreaTop" r="textAreaRight" b="textAreaBottom"/>
              <a:pathLst>
                <a:path w="21391" h="21600">
                  <a:moveTo>
                    <a:pt x="193" y="15311"/>
                  </a:moveTo>
                  <a:cubicBezTo>
                    <a:pt x="25" y="15858"/>
                    <a:pt x="-142" y="16678"/>
                    <a:pt x="193" y="17225"/>
                  </a:cubicBezTo>
                  <a:cubicBezTo>
                    <a:pt x="360" y="17772"/>
                    <a:pt x="863" y="18182"/>
                    <a:pt x="1281" y="18729"/>
                  </a:cubicBezTo>
                  <a:cubicBezTo>
                    <a:pt x="1449" y="19276"/>
                    <a:pt x="1616" y="19823"/>
                    <a:pt x="1784" y="20370"/>
                  </a:cubicBezTo>
                  <a:cubicBezTo>
                    <a:pt x="1951" y="21053"/>
                    <a:pt x="2286" y="21600"/>
                    <a:pt x="2621" y="21600"/>
                  </a:cubicBezTo>
                  <a:cubicBezTo>
                    <a:pt x="2872" y="21600"/>
                    <a:pt x="3039" y="21327"/>
                    <a:pt x="3039" y="21053"/>
                  </a:cubicBezTo>
                  <a:cubicBezTo>
                    <a:pt x="3542" y="20096"/>
                    <a:pt x="3709" y="19003"/>
                    <a:pt x="4211" y="18182"/>
                  </a:cubicBezTo>
                  <a:cubicBezTo>
                    <a:pt x="4798" y="17225"/>
                    <a:pt x="5635" y="16678"/>
                    <a:pt x="6137" y="17225"/>
                  </a:cubicBezTo>
                  <a:cubicBezTo>
                    <a:pt x="6388" y="17499"/>
                    <a:pt x="6556" y="18182"/>
                    <a:pt x="6723" y="18456"/>
                  </a:cubicBezTo>
                  <a:cubicBezTo>
                    <a:pt x="7225" y="19276"/>
                    <a:pt x="8063" y="18182"/>
                    <a:pt x="8649" y="17225"/>
                  </a:cubicBezTo>
                  <a:cubicBezTo>
                    <a:pt x="9151" y="16405"/>
                    <a:pt x="10072" y="15585"/>
                    <a:pt x="10574" y="16132"/>
                  </a:cubicBezTo>
                  <a:cubicBezTo>
                    <a:pt x="10742" y="16405"/>
                    <a:pt x="10909" y="16952"/>
                    <a:pt x="11077" y="17225"/>
                  </a:cubicBezTo>
                  <a:cubicBezTo>
                    <a:pt x="11579" y="18182"/>
                    <a:pt x="12667" y="17772"/>
                    <a:pt x="13337" y="17225"/>
                  </a:cubicBezTo>
                  <a:cubicBezTo>
                    <a:pt x="14091" y="16952"/>
                    <a:pt x="15095" y="16678"/>
                    <a:pt x="15681" y="17772"/>
                  </a:cubicBezTo>
                  <a:cubicBezTo>
                    <a:pt x="16518" y="15311"/>
                    <a:pt x="18444" y="13808"/>
                    <a:pt x="20202" y="14628"/>
                  </a:cubicBezTo>
                  <a:cubicBezTo>
                    <a:pt x="20370" y="14628"/>
                    <a:pt x="20788" y="15038"/>
                    <a:pt x="20956" y="14628"/>
                  </a:cubicBezTo>
                  <a:cubicBezTo>
                    <a:pt x="21458" y="14354"/>
                    <a:pt x="21458" y="13261"/>
                    <a:pt x="21291" y="12441"/>
                  </a:cubicBezTo>
                  <a:cubicBezTo>
                    <a:pt x="20956" y="11757"/>
                    <a:pt x="20370" y="11210"/>
                    <a:pt x="19867" y="10937"/>
                  </a:cubicBezTo>
                  <a:cubicBezTo>
                    <a:pt x="19365" y="10663"/>
                    <a:pt x="18779" y="10116"/>
                    <a:pt x="18779" y="9296"/>
                  </a:cubicBezTo>
                  <a:cubicBezTo>
                    <a:pt x="18611" y="7792"/>
                    <a:pt x="19532" y="6699"/>
                    <a:pt x="19700" y="5195"/>
                  </a:cubicBezTo>
                  <a:cubicBezTo>
                    <a:pt x="19867" y="3554"/>
                    <a:pt x="18779" y="2051"/>
                    <a:pt x="17942" y="1504"/>
                  </a:cubicBezTo>
                  <a:cubicBezTo>
                    <a:pt x="16853" y="957"/>
                    <a:pt x="15849" y="957"/>
                    <a:pt x="14928" y="410"/>
                  </a:cubicBezTo>
                  <a:cubicBezTo>
                    <a:pt x="14760" y="410"/>
                    <a:pt x="14760" y="0"/>
                    <a:pt x="14593" y="0"/>
                  </a:cubicBezTo>
                  <a:cubicBezTo>
                    <a:pt x="14258" y="0"/>
                    <a:pt x="14091" y="957"/>
                    <a:pt x="13923" y="1230"/>
                  </a:cubicBezTo>
                  <a:cubicBezTo>
                    <a:pt x="13337" y="2324"/>
                    <a:pt x="12500" y="2051"/>
                    <a:pt x="11579" y="1777"/>
                  </a:cubicBezTo>
                  <a:cubicBezTo>
                    <a:pt x="10909" y="1230"/>
                    <a:pt x="10072" y="684"/>
                    <a:pt x="9318" y="684"/>
                  </a:cubicBezTo>
                  <a:cubicBezTo>
                    <a:pt x="8063" y="684"/>
                    <a:pt x="7058" y="3281"/>
                    <a:pt x="7560" y="5195"/>
                  </a:cubicBezTo>
                  <a:cubicBezTo>
                    <a:pt x="7393" y="4922"/>
                    <a:pt x="5132" y="5195"/>
                    <a:pt x="4965" y="5468"/>
                  </a:cubicBezTo>
                  <a:cubicBezTo>
                    <a:pt x="4044" y="5742"/>
                    <a:pt x="3877" y="6425"/>
                    <a:pt x="3374" y="7519"/>
                  </a:cubicBezTo>
                  <a:cubicBezTo>
                    <a:pt x="1784" y="10116"/>
                    <a:pt x="863" y="12714"/>
                    <a:pt x="193" y="15311"/>
                  </a:cubicBezTo>
                </a:path>
              </a:pathLst>
            </a:custGeom>
            <a:solidFill>
              <a:srgbClr val="919191"/>
            </a:solidFill>
            <a:ln w="12700">
              <a:noFill/>
            </a:ln>
          </p:spPr>
          <p:style>
            <a:lnRef idx="0"/>
            <a:fillRef idx="0"/>
            <a:effectRef idx="0"/>
            <a:fontRef idx="minor"/>
          </p:style>
          <p:txBody>
            <a:bodyPr numCol="1" spcCol="0" lIns="45720" rIns="45720" tIns="34200" bIns="34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0" name="Shape 3664"/>
            <p:cNvSpPr/>
            <p:nvPr/>
          </p:nvSpPr>
          <p:spPr>
            <a:xfrm>
              <a:off x="20987280" y="2654280"/>
              <a:ext cx="95040" cy="96840"/>
            </a:xfrm>
            <a:custGeom>
              <a:avLst/>
              <a:gdLst>
                <a:gd name="textAreaLeft" fmla="*/ 0 w 95040"/>
                <a:gd name="textAreaRight" fmla="*/ 95400 w 95040"/>
                <a:gd name="textAreaTop" fmla="*/ 0 h 96840"/>
                <a:gd name="textAreaBottom" fmla="*/ 97200 h 96840"/>
              </a:gdLst>
              <a:ahLst/>
              <a:rect l="textAreaLeft" t="textAreaTop" r="textAreaRight" b="textAreaBottom"/>
              <a:pathLst>
                <a:path w="21133" h="21094">
                  <a:moveTo>
                    <a:pt x="865" y="4516"/>
                  </a:moveTo>
                  <a:cubicBezTo>
                    <a:pt x="1254" y="5080"/>
                    <a:pt x="865" y="5925"/>
                    <a:pt x="1059" y="6489"/>
                  </a:cubicBezTo>
                  <a:cubicBezTo>
                    <a:pt x="1059" y="6864"/>
                    <a:pt x="1546" y="7240"/>
                    <a:pt x="2129" y="7522"/>
                  </a:cubicBezTo>
                  <a:cubicBezTo>
                    <a:pt x="2324" y="7522"/>
                    <a:pt x="2519" y="7522"/>
                    <a:pt x="2713" y="7522"/>
                  </a:cubicBezTo>
                  <a:cubicBezTo>
                    <a:pt x="3102" y="7522"/>
                    <a:pt x="3589" y="7897"/>
                    <a:pt x="3783" y="8273"/>
                  </a:cubicBezTo>
                  <a:cubicBezTo>
                    <a:pt x="4562" y="9682"/>
                    <a:pt x="3978" y="11654"/>
                    <a:pt x="2519" y="12217"/>
                  </a:cubicBezTo>
                  <a:cubicBezTo>
                    <a:pt x="2129" y="12405"/>
                    <a:pt x="1546" y="12593"/>
                    <a:pt x="1546" y="12969"/>
                  </a:cubicBezTo>
                  <a:cubicBezTo>
                    <a:pt x="1546" y="13156"/>
                    <a:pt x="1546" y="13438"/>
                    <a:pt x="1546" y="13626"/>
                  </a:cubicBezTo>
                  <a:cubicBezTo>
                    <a:pt x="1740" y="14190"/>
                    <a:pt x="1935" y="14659"/>
                    <a:pt x="2324" y="15129"/>
                  </a:cubicBezTo>
                  <a:cubicBezTo>
                    <a:pt x="2713" y="15504"/>
                    <a:pt x="3589" y="15786"/>
                    <a:pt x="3978" y="15598"/>
                  </a:cubicBezTo>
                  <a:cubicBezTo>
                    <a:pt x="3589" y="16350"/>
                    <a:pt x="3978" y="17289"/>
                    <a:pt x="4173" y="17946"/>
                  </a:cubicBezTo>
                  <a:cubicBezTo>
                    <a:pt x="4562" y="18697"/>
                    <a:pt x="4951" y="19543"/>
                    <a:pt x="5146" y="20294"/>
                  </a:cubicBezTo>
                  <a:cubicBezTo>
                    <a:pt x="5146" y="20482"/>
                    <a:pt x="5146" y="20670"/>
                    <a:pt x="5340" y="20670"/>
                  </a:cubicBezTo>
                  <a:lnTo>
                    <a:pt x="5632" y="20857"/>
                  </a:lnTo>
                  <a:cubicBezTo>
                    <a:pt x="6800" y="21233"/>
                    <a:pt x="8065" y="20857"/>
                    <a:pt x="9038" y="20670"/>
                  </a:cubicBezTo>
                  <a:cubicBezTo>
                    <a:pt x="10108" y="20482"/>
                    <a:pt x="11081" y="20482"/>
                    <a:pt x="12151" y="20294"/>
                  </a:cubicBezTo>
                  <a:cubicBezTo>
                    <a:pt x="13319" y="20294"/>
                    <a:pt x="14778" y="20294"/>
                    <a:pt x="16043" y="20482"/>
                  </a:cubicBezTo>
                  <a:cubicBezTo>
                    <a:pt x="16238" y="20482"/>
                    <a:pt x="16627" y="20482"/>
                    <a:pt x="16821" y="20670"/>
                  </a:cubicBezTo>
                  <a:cubicBezTo>
                    <a:pt x="17016" y="20670"/>
                    <a:pt x="17016" y="20857"/>
                    <a:pt x="17211" y="21045"/>
                  </a:cubicBezTo>
                  <a:cubicBezTo>
                    <a:pt x="17600" y="21233"/>
                    <a:pt x="18281" y="20857"/>
                    <a:pt x="18475" y="20294"/>
                  </a:cubicBezTo>
                  <a:cubicBezTo>
                    <a:pt x="18670" y="19918"/>
                    <a:pt x="18865" y="19261"/>
                    <a:pt x="19254" y="18885"/>
                  </a:cubicBezTo>
                  <a:cubicBezTo>
                    <a:pt x="18670" y="18885"/>
                    <a:pt x="18086" y="18134"/>
                    <a:pt x="18475" y="17570"/>
                  </a:cubicBezTo>
                  <a:cubicBezTo>
                    <a:pt x="18962" y="16913"/>
                    <a:pt x="19254" y="16537"/>
                    <a:pt x="20032" y="16537"/>
                  </a:cubicBezTo>
                  <a:cubicBezTo>
                    <a:pt x="20519" y="16537"/>
                    <a:pt x="21297" y="16350"/>
                    <a:pt x="21102" y="15974"/>
                  </a:cubicBezTo>
                  <a:cubicBezTo>
                    <a:pt x="21102" y="15786"/>
                    <a:pt x="20908" y="15786"/>
                    <a:pt x="20908" y="15598"/>
                  </a:cubicBezTo>
                  <a:cubicBezTo>
                    <a:pt x="20324" y="14941"/>
                    <a:pt x="19643" y="14565"/>
                    <a:pt x="19059" y="14002"/>
                  </a:cubicBezTo>
                  <a:cubicBezTo>
                    <a:pt x="18475" y="13438"/>
                    <a:pt x="17794" y="12781"/>
                    <a:pt x="17405" y="12030"/>
                  </a:cubicBezTo>
                  <a:cubicBezTo>
                    <a:pt x="16821" y="10996"/>
                    <a:pt x="16238" y="9682"/>
                    <a:pt x="14973" y="9494"/>
                  </a:cubicBezTo>
                  <a:cubicBezTo>
                    <a:pt x="14194" y="9212"/>
                    <a:pt x="13319" y="9682"/>
                    <a:pt x="12735" y="9212"/>
                  </a:cubicBezTo>
                  <a:cubicBezTo>
                    <a:pt x="12346" y="8836"/>
                    <a:pt x="11956" y="8273"/>
                    <a:pt x="11470" y="8085"/>
                  </a:cubicBezTo>
                  <a:cubicBezTo>
                    <a:pt x="10692" y="7522"/>
                    <a:pt x="9232" y="8085"/>
                    <a:pt x="8843" y="7240"/>
                  </a:cubicBezTo>
                  <a:cubicBezTo>
                    <a:pt x="8648" y="7052"/>
                    <a:pt x="8648" y="6676"/>
                    <a:pt x="8454" y="6676"/>
                  </a:cubicBezTo>
                  <a:cubicBezTo>
                    <a:pt x="8065" y="6301"/>
                    <a:pt x="7383" y="6676"/>
                    <a:pt x="6994" y="6864"/>
                  </a:cubicBezTo>
                  <a:cubicBezTo>
                    <a:pt x="6216" y="7052"/>
                    <a:pt x="5146" y="6489"/>
                    <a:pt x="4951" y="5737"/>
                  </a:cubicBezTo>
                  <a:cubicBezTo>
                    <a:pt x="4756" y="4892"/>
                    <a:pt x="5340" y="3953"/>
                    <a:pt x="6021" y="3577"/>
                  </a:cubicBezTo>
                  <a:cubicBezTo>
                    <a:pt x="6411" y="3390"/>
                    <a:pt x="6605" y="3296"/>
                    <a:pt x="6994" y="3108"/>
                  </a:cubicBezTo>
                  <a:cubicBezTo>
                    <a:pt x="7383" y="2826"/>
                    <a:pt x="7383" y="2544"/>
                    <a:pt x="7189" y="2169"/>
                  </a:cubicBezTo>
                  <a:cubicBezTo>
                    <a:pt x="6994" y="1981"/>
                    <a:pt x="6800" y="1981"/>
                    <a:pt x="6605" y="1981"/>
                  </a:cubicBezTo>
                  <a:cubicBezTo>
                    <a:pt x="5827" y="1793"/>
                    <a:pt x="4756" y="1417"/>
                    <a:pt x="4173" y="760"/>
                  </a:cubicBezTo>
                  <a:cubicBezTo>
                    <a:pt x="3978" y="572"/>
                    <a:pt x="3783" y="384"/>
                    <a:pt x="3589" y="196"/>
                  </a:cubicBezTo>
                  <a:cubicBezTo>
                    <a:pt x="2519" y="-367"/>
                    <a:pt x="865" y="384"/>
                    <a:pt x="281" y="1136"/>
                  </a:cubicBezTo>
                  <a:cubicBezTo>
                    <a:pt x="-303" y="2544"/>
                    <a:pt x="86" y="3577"/>
                    <a:pt x="865" y="4516"/>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1" name="Shape 3665"/>
            <p:cNvSpPr/>
            <p:nvPr/>
          </p:nvSpPr>
          <p:spPr>
            <a:xfrm>
              <a:off x="20907720" y="2469240"/>
              <a:ext cx="212040" cy="145800"/>
            </a:xfrm>
            <a:custGeom>
              <a:avLst/>
              <a:gdLst>
                <a:gd name="textAreaLeft" fmla="*/ 0 w 212040"/>
                <a:gd name="textAreaRight" fmla="*/ 212400 w 212040"/>
                <a:gd name="textAreaTop" fmla="*/ 0 h 145800"/>
                <a:gd name="textAreaBottom" fmla="*/ 146160 h 145800"/>
              </a:gdLst>
              <a:ahLst/>
              <a:rect l="textAreaLeft" t="textAreaTop" r="textAreaRight" b="textAreaBottom"/>
              <a:pathLst>
                <a:path w="21548" h="21415">
                  <a:moveTo>
                    <a:pt x="3851" y="454"/>
                  </a:moveTo>
                  <a:cubicBezTo>
                    <a:pt x="3319" y="1285"/>
                    <a:pt x="3319" y="2499"/>
                    <a:pt x="3408" y="3713"/>
                  </a:cubicBezTo>
                  <a:lnTo>
                    <a:pt x="3408" y="4097"/>
                  </a:lnTo>
                  <a:lnTo>
                    <a:pt x="2476" y="2755"/>
                  </a:lnTo>
                  <a:cubicBezTo>
                    <a:pt x="1900" y="3138"/>
                    <a:pt x="1456" y="3841"/>
                    <a:pt x="1279" y="4800"/>
                  </a:cubicBezTo>
                  <a:cubicBezTo>
                    <a:pt x="1190" y="5183"/>
                    <a:pt x="1190" y="5566"/>
                    <a:pt x="968" y="5822"/>
                  </a:cubicBezTo>
                  <a:cubicBezTo>
                    <a:pt x="791" y="6142"/>
                    <a:pt x="525" y="6397"/>
                    <a:pt x="702" y="6653"/>
                  </a:cubicBezTo>
                  <a:cubicBezTo>
                    <a:pt x="879" y="6525"/>
                    <a:pt x="1057" y="6845"/>
                    <a:pt x="968" y="7164"/>
                  </a:cubicBezTo>
                  <a:cubicBezTo>
                    <a:pt x="879" y="7420"/>
                    <a:pt x="613" y="7611"/>
                    <a:pt x="436" y="7611"/>
                  </a:cubicBezTo>
                  <a:cubicBezTo>
                    <a:pt x="258" y="8251"/>
                    <a:pt x="347" y="9081"/>
                    <a:pt x="702" y="9593"/>
                  </a:cubicBezTo>
                  <a:cubicBezTo>
                    <a:pt x="879" y="9848"/>
                    <a:pt x="1057" y="9976"/>
                    <a:pt x="1190" y="10295"/>
                  </a:cubicBezTo>
                  <a:cubicBezTo>
                    <a:pt x="1279" y="10679"/>
                    <a:pt x="1190" y="11062"/>
                    <a:pt x="1367" y="11446"/>
                  </a:cubicBezTo>
                  <a:cubicBezTo>
                    <a:pt x="1545" y="11765"/>
                    <a:pt x="1811" y="12021"/>
                    <a:pt x="1722" y="12404"/>
                  </a:cubicBezTo>
                  <a:cubicBezTo>
                    <a:pt x="1722" y="12532"/>
                    <a:pt x="1633" y="12660"/>
                    <a:pt x="1545" y="12660"/>
                  </a:cubicBezTo>
                  <a:cubicBezTo>
                    <a:pt x="1057" y="13107"/>
                    <a:pt x="525" y="13363"/>
                    <a:pt x="37" y="13363"/>
                  </a:cubicBezTo>
                  <a:cubicBezTo>
                    <a:pt x="-52" y="13619"/>
                    <a:pt x="37" y="13874"/>
                    <a:pt x="125" y="14002"/>
                  </a:cubicBezTo>
                  <a:cubicBezTo>
                    <a:pt x="258" y="14130"/>
                    <a:pt x="436" y="14258"/>
                    <a:pt x="525" y="14577"/>
                  </a:cubicBezTo>
                  <a:cubicBezTo>
                    <a:pt x="702" y="14961"/>
                    <a:pt x="613" y="15472"/>
                    <a:pt x="702" y="15919"/>
                  </a:cubicBezTo>
                  <a:cubicBezTo>
                    <a:pt x="791" y="16175"/>
                    <a:pt x="879" y="16303"/>
                    <a:pt x="968" y="16558"/>
                  </a:cubicBezTo>
                  <a:cubicBezTo>
                    <a:pt x="1633" y="17645"/>
                    <a:pt x="2121" y="18859"/>
                    <a:pt x="2476" y="20073"/>
                  </a:cubicBezTo>
                  <a:cubicBezTo>
                    <a:pt x="2565" y="20329"/>
                    <a:pt x="2565" y="20584"/>
                    <a:pt x="2742" y="20712"/>
                  </a:cubicBezTo>
                  <a:cubicBezTo>
                    <a:pt x="3053" y="21287"/>
                    <a:pt x="3629" y="21223"/>
                    <a:pt x="4073" y="21095"/>
                  </a:cubicBezTo>
                  <a:cubicBezTo>
                    <a:pt x="4561" y="20904"/>
                    <a:pt x="5004" y="20840"/>
                    <a:pt x="5359" y="20968"/>
                  </a:cubicBezTo>
                  <a:cubicBezTo>
                    <a:pt x="5537" y="21095"/>
                    <a:pt x="5625" y="21287"/>
                    <a:pt x="5803" y="21287"/>
                  </a:cubicBezTo>
                  <a:cubicBezTo>
                    <a:pt x="6202" y="21415"/>
                    <a:pt x="6734" y="21095"/>
                    <a:pt x="7133" y="21415"/>
                  </a:cubicBezTo>
                  <a:cubicBezTo>
                    <a:pt x="7222" y="20712"/>
                    <a:pt x="7799" y="20456"/>
                    <a:pt x="8242" y="20456"/>
                  </a:cubicBezTo>
                  <a:cubicBezTo>
                    <a:pt x="8730" y="20456"/>
                    <a:pt x="9173" y="20712"/>
                    <a:pt x="9528" y="20329"/>
                  </a:cubicBezTo>
                  <a:cubicBezTo>
                    <a:pt x="9839" y="20073"/>
                    <a:pt x="10016" y="19498"/>
                    <a:pt x="10282" y="19498"/>
                  </a:cubicBezTo>
                  <a:lnTo>
                    <a:pt x="10859" y="19498"/>
                  </a:lnTo>
                  <a:cubicBezTo>
                    <a:pt x="11214" y="19370"/>
                    <a:pt x="11391" y="18731"/>
                    <a:pt x="11790" y="18731"/>
                  </a:cubicBezTo>
                  <a:cubicBezTo>
                    <a:pt x="11968" y="18731"/>
                    <a:pt x="12145" y="18859"/>
                    <a:pt x="12234" y="18987"/>
                  </a:cubicBezTo>
                  <a:cubicBezTo>
                    <a:pt x="12722" y="19498"/>
                    <a:pt x="13077" y="20201"/>
                    <a:pt x="13431" y="20840"/>
                  </a:cubicBezTo>
                  <a:cubicBezTo>
                    <a:pt x="13564" y="20968"/>
                    <a:pt x="13564" y="21287"/>
                    <a:pt x="13742" y="21287"/>
                  </a:cubicBezTo>
                  <a:lnTo>
                    <a:pt x="14008" y="21287"/>
                  </a:lnTo>
                  <a:cubicBezTo>
                    <a:pt x="14585" y="21095"/>
                    <a:pt x="15117" y="20456"/>
                    <a:pt x="15205" y="19626"/>
                  </a:cubicBezTo>
                  <a:cubicBezTo>
                    <a:pt x="15782" y="19817"/>
                    <a:pt x="16314" y="19817"/>
                    <a:pt x="16980" y="19945"/>
                  </a:cubicBezTo>
                  <a:cubicBezTo>
                    <a:pt x="16802" y="19753"/>
                    <a:pt x="16714" y="19370"/>
                    <a:pt x="16802" y="19114"/>
                  </a:cubicBezTo>
                  <a:lnTo>
                    <a:pt x="17068" y="18284"/>
                  </a:lnTo>
                  <a:cubicBezTo>
                    <a:pt x="17246" y="18028"/>
                    <a:pt x="17468" y="17772"/>
                    <a:pt x="17556" y="17389"/>
                  </a:cubicBezTo>
                  <a:cubicBezTo>
                    <a:pt x="17645" y="17261"/>
                    <a:pt x="17645" y="17133"/>
                    <a:pt x="17734" y="17133"/>
                  </a:cubicBezTo>
                  <a:cubicBezTo>
                    <a:pt x="17911" y="16942"/>
                    <a:pt x="18177" y="16942"/>
                    <a:pt x="18399" y="16942"/>
                  </a:cubicBezTo>
                  <a:cubicBezTo>
                    <a:pt x="19020" y="16814"/>
                    <a:pt x="19508" y="15919"/>
                    <a:pt x="19863" y="14961"/>
                  </a:cubicBezTo>
                  <a:cubicBezTo>
                    <a:pt x="19596" y="14705"/>
                    <a:pt x="19419" y="14258"/>
                    <a:pt x="19242" y="13874"/>
                  </a:cubicBezTo>
                  <a:cubicBezTo>
                    <a:pt x="19109" y="13491"/>
                    <a:pt x="19109" y="12979"/>
                    <a:pt x="19330" y="12660"/>
                  </a:cubicBezTo>
                  <a:cubicBezTo>
                    <a:pt x="19508" y="12532"/>
                    <a:pt x="19685" y="12404"/>
                    <a:pt x="19774" y="12277"/>
                  </a:cubicBezTo>
                  <a:cubicBezTo>
                    <a:pt x="19951" y="12149"/>
                    <a:pt x="19951" y="11765"/>
                    <a:pt x="19863" y="11637"/>
                  </a:cubicBezTo>
                  <a:cubicBezTo>
                    <a:pt x="19774" y="11637"/>
                    <a:pt x="19685" y="11637"/>
                    <a:pt x="19685" y="11446"/>
                  </a:cubicBezTo>
                  <a:cubicBezTo>
                    <a:pt x="19419" y="11318"/>
                    <a:pt x="19508" y="10551"/>
                    <a:pt x="19863" y="10423"/>
                  </a:cubicBezTo>
                  <a:cubicBezTo>
                    <a:pt x="20262" y="10295"/>
                    <a:pt x="20528" y="10551"/>
                    <a:pt x="20794" y="10551"/>
                  </a:cubicBezTo>
                  <a:cubicBezTo>
                    <a:pt x="21193" y="10679"/>
                    <a:pt x="21548" y="10423"/>
                    <a:pt x="21548" y="9976"/>
                  </a:cubicBezTo>
                  <a:cubicBezTo>
                    <a:pt x="21548" y="9848"/>
                    <a:pt x="21548" y="9720"/>
                    <a:pt x="21459" y="9593"/>
                  </a:cubicBezTo>
                  <a:cubicBezTo>
                    <a:pt x="21371" y="9465"/>
                    <a:pt x="21193" y="9337"/>
                    <a:pt x="20971" y="9209"/>
                  </a:cubicBezTo>
                  <a:cubicBezTo>
                    <a:pt x="20705" y="8953"/>
                    <a:pt x="20528" y="8506"/>
                    <a:pt x="20350" y="8123"/>
                  </a:cubicBezTo>
                  <a:cubicBezTo>
                    <a:pt x="20129" y="7611"/>
                    <a:pt x="19951" y="6908"/>
                    <a:pt x="19685" y="6397"/>
                  </a:cubicBezTo>
                  <a:cubicBezTo>
                    <a:pt x="19508" y="5822"/>
                    <a:pt x="19242" y="5311"/>
                    <a:pt x="18842" y="5439"/>
                  </a:cubicBezTo>
                  <a:cubicBezTo>
                    <a:pt x="18665" y="5566"/>
                    <a:pt x="18576" y="5694"/>
                    <a:pt x="18488" y="5694"/>
                  </a:cubicBezTo>
                  <a:cubicBezTo>
                    <a:pt x="18310" y="5822"/>
                    <a:pt x="18177" y="5694"/>
                    <a:pt x="18000" y="5694"/>
                  </a:cubicBezTo>
                  <a:cubicBezTo>
                    <a:pt x="17468" y="5439"/>
                    <a:pt x="16891" y="5439"/>
                    <a:pt x="16314" y="5439"/>
                  </a:cubicBezTo>
                  <a:cubicBezTo>
                    <a:pt x="16137" y="5439"/>
                    <a:pt x="15959" y="5439"/>
                    <a:pt x="15782" y="5566"/>
                  </a:cubicBezTo>
                  <a:cubicBezTo>
                    <a:pt x="15516" y="5822"/>
                    <a:pt x="15294" y="6525"/>
                    <a:pt x="14939" y="6397"/>
                  </a:cubicBezTo>
                  <a:cubicBezTo>
                    <a:pt x="14762" y="6397"/>
                    <a:pt x="14673" y="6142"/>
                    <a:pt x="14496" y="5950"/>
                  </a:cubicBezTo>
                  <a:cubicBezTo>
                    <a:pt x="14185" y="5694"/>
                    <a:pt x="13831" y="5950"/>
                    <a:pt x="13564" y="5694"/>
                  </a:cubicBezTo>
                  <a:cubicBezTo>
                    <a:pt x="13343" y="5439"/>
                    <a:pt x="13343" y="5055"/>
                    <a:pt x="13343" y="4608"/>
                  </a:cubicBezTo>
                  <a:cubicBezTo>
                    <a:pt x="13431" y="3969"/>
                    <a:pt x="13564" y="3010"/>
                    <a:pt x="14008" y="2755"/>
                  </a:cubicBezTo>
                  <a:cubicBezTo>
                    <a:pt x="13254" y="2499"/>
                    <a:pt x="12500" y="2243"/>
                    <a:pt x="12145" y="1285"/>
                  </a:cubicBezTo>
                  <a:lnTo>
                    <a:pt x="11879" y="454"/>
                  </a:lnTo>
                  <a:cubicBezTo>
                    <a:pt x="11613" y="-57"/>
                    <a:pt x="11036" y="-57"/>
                    <a:pt x="10681" y="71"/>
                  </a:cubicBezTo>
                  <a:cubicBezTo>
                    <a:pt x="10371" y="71"/>
                    <a:pt x="10105" y="135"/>
                    <a:pt x="9927" y="454"/>
                  </a:cubicBezTo>
                  <a:cubicBezTo>
                    <a:pt x="9750" y="710"/>
                    <a:pt x="9839" y="1413"/>
                    <a:pt x="10105" y="1413"/>
                  </a:cubicBezTo>
                  <a:cubicBezTo>
                    <a:pt x="9528" y="2371"/>
                    <a:pt x="10371" y="3969"/>
                    <a:pt x="9839" y="4800"/>
                  </a:cubicBezTo>
                  <a:cubicBezTo>
                    <a:pt x="9750" y="4927"/>
                    <a:pt x="9528" y="5055"/>
                    <a:pt x="9528" y="5183"/>
                  </a:cubicBezTo>
                  <a:cubicBezTo>
                    <a:pt x="9440" y="5439"/>
                    <a:pt x="9750" y="5694"/>
                    <a:pt x="9839" y="5822"/>
                  </a:cubicBezTo>
                  <a:cubicBezTo>
                    <a:pt x="10194" y="6397"/>
                    <a:pt x="10105" y="7484"/>
                    <a:pt x="9927" y="8251"/>
                  </a:cubicBezTo>
                  <a:cubicBezTo>
                    <a:pt x="9440" y="8251"/>
                    <a:pt x="9085" y="7611"/>
                    <a:pt x="8907" y="7036"/>
                  </a:cubicBezTo>
                  <a:cubicBezTo>
                    <a:pt x="8597" y="6525"/>
                    <a:pt x="8419" y="5822"/>
                    <a:pt x="8153" y="5439"/>
                  </a:cubicBezTo>
                  <a:cubicBezTo>
                    <a:pt x="8065" y="5311"/>
                    <a:pt x="8065" y="5311"/>
                    <a:pt x="7976" y="5311"/>
                  </a:cubicBezTo>
                  <a:cubicBezTo>
                    <a:pt x="7887" y="5311"/>
                    <a:pt x="7754" y="5439"/>
                    <a:pt x="7754" y="5439"/>
                  </a:cubicBezTo>
                  <a:cubicBezTo>
                    <a:pt x="7577" y="5566"/>
                    <a:pt x="7399" y="5055"/>
                    <a:pt x="7577" y="4608"/>
                  </a:cubicBezTo>
                  <a:cubicBezTo>
                    <a:pt x="7665" y="4352"/>
                    <a:pt x="7887" y="3969"/>
                    <a:pt x="7887" y="3713"/>
                  </a:cubicBezTo>
                  <a:cubicBezTo>
                    <a:pt x="7577" y="3713"/>
                    <a:pt x="7311" y="3585"/>
                    <a:pt x="7133" y="3458"/>
                  </a:cubicBezTo>
                  <a:cubicBezTo>
                    <a:pt x="6956" y="3266"/>
                    <a:pt x="6734" y="2882"/>
                    <a:pt x="6867" y="2499"/>
                  </a:cubicBezTo>
                  <a:cubicBezTo>
                    <a:pt x="6424" y="2627"/>
                    <a:pt x="6024" y="1796"/>
                    <a:pt x="6335" y="1349"/>
                  </a:cubicBezTo>
                  <a:cubicBezTo>
                    <a:pt x="5891" y="1860"/>
                    <a:pt x="5537" y="454"/>
                    <a:pt x="5359" y="198"/>
                  </a:cubicBezTo>
                  <a:cubicBezTo>
                    <a:pt x="4871" y="-185"/>
                    <a:pt x="4250" y="71"/>
                    <a:pt x="3851" y="454"/>
                  </a:cubicBezTo>
                  <a:close/>
                  <a:moveTo>
                    <a:pt x="6379" y="1285"/>
                  </a:moveTo>
                  <a:lnTo>
                    <a:pt x="6335" y="1349"/>
                  </a:lnTo>
                  <a:lnTo>
                    <a:pt x="6379" y="1285"/>
                  </a:ln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2" name="Shape 3666"/>
            <p:cNvSpPr/>
            <p:nvPr/>
          </p:nvSpPr>
          <p:spPr>
            <a:xfrm>
              <a:off x="20868480" y="2504880"/>
              <a:ext cx="27360" cy="61920"/>
            </a:xfrm>
            <a:custGeom>
              <a:avLst/>
              <a:gdLst>
                <a:gd name="textAreaLeft" fmla="*/ 0 w 27360"/>
                <a:gd name="textAreaRight" fmla="*/ 27720 w 27360"/>
                <a:gd name="textAreaTop" fmla="*/ 0 h 61920"/>
                <a:gd name="textAreaBottom" fmla="*/ 62280 h 61920"/>
              </a:gdLst>
              <a:ahLst/>
              <a:rect l="textAreaLeft" t="textAreaTop" r="textAreaRight" b="textAreaBottom"/>
              <a:pathLst>
                <a:path w="21097" h="20737">
                  <a:moveTo>
                    <a:pt x="1371" y="4959"/>
                  </a:moveTo>
                  <a:cubicBezTo>
                    <a:pt x="1371" y="5397"/>
                    <a:pt x="1371" y="5397"/>
                    <a:pt x="2057" y="5689"/>
                  </a:cubicBezTo>
                  <a:lnTo>
                    <a:pt x="3086" y="5689"/>
                  </a:lnTo>
                  <a:cubicBezTo>
                    <a:pt x="5143" y="5689"/>
                    <a:pt x="7200" y="7148"/>
                    <a:pt x="5829" y="8024"/>
                  </a:cubicBezTo>
                  <a:cubicBezTo>
                    <a:pt x="5143" y="9045"/>
                    <a:pt x="2057" y="9629"/>
                    <a:pt x="3086" y="10505"/>
                  </a:cubicBezTo>
                  <a:cubicBezTo>
                    <a:pt x="3086" y="10797"/>
                    <a:pt x="3771" y="11089"/>
                    <a:pt x="4457" y="11381"/>
                  </a:cubicBezTo>
                  <a:cubicBezTo>
                    <a:pt x="6514" y="12694"/>
                    <a:pt x="5143" y="14153"/>
                    <a:pt x="3771" y="15759"/>
                  </a:cubicBezTo>
                  <a:cubicBezTo>
                    <a:pt x="2057" y="16926"/>
                    <a:pt x="0" y="18532"/>
                    <a:pt x="0" y="19699"/>
                  </a:cubicBezTo>
                  <a:cubicBezTo>
                    <a:pt x="0" y="19991"/>
                    <a:pt x="0" y="19991"/>
                    <a:pt x="686" y="20283"/>
                  </a:cubicBezTo>
                  <a:cubicBezTo>
                    <a:pt x="1371" y="20575"/>
                    <a:pt x="2057" y="20575"/>
                    <a:pt x="2057" y="20575"/>
                  </a:cubicBezTo>
                  <a:cubicBezTo>
                    <a:pt x="5143" y="20867"/>
                    <a:pt x="9257" y="20867"/>
                    <a:pt x="10971" y="19699"/>
                  </a:cubicBezTo>
                  <a:cubicBezTo>
                    <a:pt x="11657" y="18824"/>
                    <a:pt x="11314" y="17802"/>
                    <a:pt x="10286" y="16926"/>
                  </a:cubicBezTo>
                  <a:cubicBezTo>
                    <a:pt x="9600" y="15905"/>
                    <a:pt x="10971" y="14883"/>
                    <a:pt x="13029" y="15175"/>
                  </a:cubicBezTo>
                  <a:cubicBezTo>
                    <a:pt x="13714" y="15175"/>
                    <a:pt x="13714" y="15175"/>
                    <a:pt x="14400" y="15175"/>
                  </a:cubicBezTo>
                  <a:cubicBezTo>
                    <a:pt x="15086" y="15175"/>
                    <a:pt x="15771" y="14883"/>
                    <a:pt x="15771" y="14445"/>
                  </a:cubicBezTo>
                  <a:cubicBezTo>
                    <a:pt x="16457" y="13862"/>
                    <a:pt x="16457" y="12986"/>
                    <a:pt x="16457" y="12402"/>
                  </a:cubicBezTo>
                  <a:cubicBezTo>
                    <a:pt x="18171" y="12402"/>
                    <a:pt x="18857" y="12110"/>
                    <a:pt x="20229" y="12110"/>
                  </a:cubicBezTo>
                  <a:cubicBezTo>
                    <a:pt x="20229" y="12110"/>
                    <a:pt x="20914" y="12110"/>
                    <a:pt x="20914" y="11818"/>
                  </a:cubicBezTo>
                  <a:cubicBezTo>
                    <a:pt x="21600" y="11089"/>
                    <a:pt x="20229" y="10797"/>
                    <a:pt x="18857" y="10505"/>
                  </a:cubicBezTo>
                  <a:cubicBezTo>
                    <a:pt x="16457" y="9921"/>
                    <a:pt x="15086" y="8316"/>
                    <a:pt x="16457" y="7440"/>
                  </a:cubicBezTo>
                  <a:cubicBezTo>
                    <a:pt x="17486" y="6856"/>
                    <a:pt x="18857" y="6272"/>
                    <a:pt x="18171" y="5689"/>
                  </a:cubicBezTo>
                  <a:cubicBezTo>
                    <a:pt x="18171" y="5397"/>
                    <a:pt x="16457" y="4959"/>
                    <a:pt x="16457" y="4667"/>
                  </a:cubicBezTo>
                  <a:cubicBezTo>
                    <a:pt x="11657" y="2624"/>
                    <a:pt x="18171" y="-733"/>
                    <a:pt x="7886" y="143"/>
                  </a:cubicBezTo>
                  <a:cubicBezTo>
                    <a:pt x="1371" y="726"/>
                    <a:pt x="686" y="2624"/>
                    <a:pt x="1371" y="4959"/>
                  </a:cubicBezTo>
                </a:path>
              </a:pathLst>
            </a:custGeom>
            <a:solidFill>
              <a:srgbClr val="919191"/>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3" name="Shape 3667"/>
            <p:cNvSpPr/>
            <p:nvPr/>
          </p:nvSpPr>
          <p:spPr>
            <a:xfrm>
              <a:off x="21137760" y="2525400"/>
              <a:ext cx="125640" cy="87480"/>
            </a:xfrm>
            <a:custGeom>
              <a:avLst/>
              <a:gdLst>
                <a:gd name="textAreaLeft" fmla="*/ 0 w 125640"/>
                <a:gd name="textAreaRight" fmla="*/ 126000 w 125640"/>
                <a:gd name="textAreaTop" fmla="*/ 0 h 87480"/>
                <a:gd name="textAreaBottom" fmla="*/ 87840 h 87480"/>
              </a:gdLst>
              <a:ahLst/>
              <a:rect l="textAreaLeft" t="textAreaTop" r="textAreaRight" b="textAreaBottom"/>
              <a:pathLst>
                <a:path w="21181" h="21059">
                  <a:moveTo>
                    <a:pt x="289" y="5252"/>
                  </a:moveTo>
                  <a:cubicBezTo>
                    <a:pt x="141" y="6394"/>
                    <a:pt x="1100" y="7432"/>
                    <a:pt x="731" y="8782"/>
                  </a:cubicBezTo>
                  <a:cubicBezTo>
                    <a:pt x="584" y="9198"/>
                    <a:pt x="436" y="9406"/>
                    <a:pt x="436" y="9821"/>
                  </a:cubicBezTo>
                  <a:cubicBezTo>
                    <a:pt x="436" y="10132"/>
                    <a:pt x="584" y="10548"/>
                    <a:pt x="584" y="10756"/>
                  </a:cubicBezTo>
                  <a:cubicBezTo>
                    <a:pt x="731" y="11171"/>
                    <a:pt x="1100" y="11586"/>
                    <a:pt x="1247" y="12002"/>
                  </a:cubicBezTo>
                  <a:cubicBezTo>
                    <a:pt x="1395" y="12313"/>
                    <a:pt x="1395" y="12521"/>
                    <a:pt x="1542" y="12521"/>
                  </a:cubicBezTo>
                  <a:cubicBezTo>
                    <a:pt x="1689" y="12521"/>
                    <a:pt x="1689" y="12313"/>
                    <a:pt x="1837" y="12313"/>
                  </a:cubicBezTo>
                  <a:cubicBezTo>
                    <a:pt x="2132" y="12313"/>
                    <a:pt x="2279" y="12729"/>
                    <a:pt x="2427" y="12936"/>
                  </a:cubicBezTo>
                  <a:cubicBezTo>
                    <a:pt x="2648" y="13144"/>
                    <a:pt x="2943" y="12936"/>
                    <a:pt x="3090" y="12936"/>
                  </a:cubicBezTo>
                  <a:cubicBezTo>
                    <a:pt x="3680" y="12936"/>
                    <a:pt x="3827" y="13975"/>
                    <a:pt x="4196" y="14702"/>
                  </a:cubicBezTo>
                  <a:cubicBezTo>
                    <a:pt x="4343" y="14909"/>
                    <a:pt x="4638" y="15117"/>
                    <a:pt x="4786" y="15117"/>
                  </a:cubicBezTo>
                  <a:cubicBezTo>
                    <a:pt x="5523" y="15532"/>
                    <a:pt x="6334" y="16363"/>
                    <a:pt x="6776" y="17506"/>
                  </a:cubicBezTo>
                  <a:cubicBezTo>
                    <a:pt x="6924" y="17921"/>
                    <a:pt x="7292" y="18232"/>
                    <a:pt x="7587" y="18544"/>
                  </a:cubicBezTo>
                  <a:cubicBezTo>
                    <a:pt x="7882" y="18752"/>
                    <a:pt x="8177" y="18856"/>
                    <a:pt x="8472" y="19063"/>
                  </a:cubicBezTo>
                  <a:cubicBezTo>
                    <a:pt x="8619" y="19271"/>
                    <a:pt x="8619" y="19686"/>
                    <a:pt x="8988" y="19686"/>
                  </a:cubicBezTo>
                  <a:cubicBezTo>
                    <a:pt x="9430" y="20102"/>
                    <a:pt x="9725" y="19063"/>
                    <a:pt x="10315" y="19063"/>
                  </a:cubicBezTo>
                  <a:cubicBezTo>
                    <a:pt x="10831" y="19063"/>
                    <a:pt x="11126" y="19686"/>
                    <a:pt x="11421" y="19894"/>
                  </a:cubicBezTo>
                  <a:cubicBezTo>
                    <a:pt x="11863" y="20102"/>
                    <a:pt x="12526" y="19894"/>
                    <a:pt x="12969" y="20309"/>
                  </a:cubicBezTo>
                  <a:cubicBezTo>
                    <a:pt x="13116" y="20517"/>
                    <a:pt x="13264" y="20725"/>
                    <a:pt x="13411" y="20932"/>
                  </a:cubicBezTo>
                  <a:cubicBezTo>
                    <a:pt x="13780" y="21244"/>
                    <a:pt x="14222" y="20932"/>
                    <a:pt x="14517" y="20517"/>
                  </a:cubicBezTo>
                  <a:cubicBezTo>
                    <a:pt x="14812" y="20102"/>
                    <a:pt x="15180" y="19894"/>
                    <a:pt x="15475" y="19686"/>
                  </a:cubicBezTo>
                  <a:cubicBezTo>
                    <a:pt x="16360" y="19271"/>
                    <a:pt x="17318" y="20932"/>
                    <a:pt x="18203" y="20932"/>
                  </a:cubicBezTo>
                  <a:cubicBezTo>
                    <a:pt x="17908" y="20517"/>
                    <a:pt x="17613" y="19894"/>
                    <a:pt x="17466" y="19271"/>
                  </a:cubicBezTo>
                  <a:cubicBezTo>
                    <a:pt x="18571" y="18544"/>
                    <a:pt x="19603" y="17921"/>
                    <a:pt x="20562" y="16882"/>
                  </a:cubicBezTo>
                  <a:cubicBezTo>
                    <a:pt x="20267" y="16675"/>
                    <a:pt x="19972" y="16363"/>
                    <a:pt x="19751" y="16156"/>
                  </a:cubicBezTo>
                  <a:cubicBezTo>
                    <a:pt x="19603" y="15948"/>
                    <a:pt x="19456" y="15325"/>
                    <a:pt x="19603" y="14909"/>
                  </a:cubicBezTo>
                  <a:cubicBezTo>
                    <a:pt x="19751" y="14494"/>
                    <a:pt x="20267" y="14182"/>
                    <a:pt x="20562" y="14182"/>
                  </a:cubicBezTo>
                  <a:cubicBezTo>
                    <a:pt x="20857" y="14182"/>
                    <a:pt x="21299" y="13559"/>
                    <a:pt x="21152" y="13144"/>
                  </a:cubicBezTo>
                  <a:cubicBezTo>
                    <a:pt x="21004" y="12936"/>
                    <a:pt x="20857" y="12729"/>
                    <a:pt x="20709" y="12729"/>
                  </a:cubicBezTo>
                  <a:cubicBezTo>
                    <a:pt x="19309" y="12002"/>
                    <a:pt x="17760" y="11586"/>
                    <a:pt x="16655" y="10340"/>
                  </a:cubicBezTo>
                  <a:cubicBezTo>
                    <a:pt x="16507" y="10132"/>
                    <a:pt x="16212" y="9613"/>
                    <a:pt x="15917" y="9406"/>
                  </a:cubicBezTo>
                  <a:cubicBezTo>
                    <a:pt x="15623" y="9198"/>
                    <a:pt x="15328" y="9198"/>
                    <a:pt x="14959" y="9406"/>
                  </a:cubicBezTo>
                  <a:cubicBezTo>
                    <a:pt x="14812" y="9613"/>
                    <a:pt x="14812" y="9821"/>
                    <a:pt x="14664" y="9821"/>
                  </a:cubicBezTo>
                  <a:cubicBezTo>
                    <a:pt x="14517" y="10132"/>
                    <a:pt x="14222" y="9821"/>
                    <a:pt x="13927" y="9613"/>
                  </a:cubicBezTo>
                  <a:cubicBezTo>
                    <a:pt x="13411" y="9406"/>
                    <a:pt x="12969" y="9198"/>
                    <a:pt x="12379" y="8990"/>
                  </a:cubicBezTo>
                  <a:cubicBezTo>
                    <a:pt x="12084" y="8990"/>
                    <a:pt x="11568" y="8990"/>
                    <a:pt x="11421" y="9406"/>
                  </a:cubicBezTo>
                  <a:cubicBezTo>
                    <a:pt x="11273" y="9821"/>
                    <a:pt x="11273" y="10548"/>
                    <a:pt x="11568" y="10548"/>
                  </a:cubicBezTo>
                  <a:cubicBezTo>
                    <a:pt x="11273" y="10756"/>
                    <a:pt x="10831" y="10963"/>
                    <a:pt x="10315" y="10963"/>
                  </a:cubicBezTo>
                  <a:cubicBezTo>
                    <a:pt x="10020" y="10963"/>
                    <a:pt x="9725" y="10756"/>
                    <a:pt x="9430" y="10548"/>
                  </a:cubicBezTo>
                  <a:cubicBezTo>
                    <a:pt x="9283" y="10132"/>
                    <a:pt x="9135" y="9613"/>
                    <a:pt x="9430" y="9198"/>
                  </a:cubicBezTo>
                  <a:cubicBezTo>
                    <a:pt x="9577" y="8990"/>
                    <a:pt x="9872" y="8990"/>
                    <a:pt x="10020" y="8575"/>
                  </a:cubicBezTo>
                  <a:cubicBezTo>
                    <a:pt x="10536" y="7952"/>
                    <a:pt x="9577" y="6602"/>
                    <a:pt x="9872" y="5979"/>
                  </a:cubicBezTo>
                  <a:cubicBezTo>
                    <a:pt x="10020" y="5771"/>
                    <a:pt x="10388" y="5771"/>
                    <a:pt x="10683" y="5771"/>
                  </a:cubicBezTo>
                  <a:cubicBezTo>
                    <a:pt x="11052" y="5771"/>
                    <a:pt x="11273" y="5563"/>
                    <a:pt x="11273" y="5044"/>
                  </a:cubicBezTo>
                  <a:cubicBezTo>
                    <a:pt x="11273" y="4836"/>
                    <a:pt x="11126" y="4629"/>
                    <a:pt x="10978" y="4421"/>
                  </a:cubicBezTo>
                  <a:cubicBezTo>
                    <a:pt x="10167" y="3798"/>
                    <a:pt x="9283" y="3798"/>
                    <a:pt x="8324" y="3798"/>
                  </a:cubicBezTo>
                  <a:cubicBezTo>
                    <a:pt x="8177" y="3798"/>
                    <a:pt x="7882" y="3798"/>
                    <a:pt x="7734" y="4006"/>
                  </a:cubicBezTo>
                  <a:cubicBezTo>
                    <a:pt x="7587" y="4213"/>
                    <a:pt x="7440" y="4421"/>
                    <a:pt x="7587" y="4836"/>
                  </a:cubicBezTo>
                  <a:cubicBezTo>
                    <a:pt x="6924" y="4421"/>
                    <a:pt x="6186" y="4836"/>
                    <a:pt x="6039" y="5771"/>
                  </a:cubicBezTo>
                  <a:cubicBezTo>
                    <a:pt x="6039" y="5979"/>
                    <a:pt x="6039" y="6394"/>
                    <a:pt x="5891" y="6602"/>
                  </a:cubicBezTo>
                  <a:cubicBezTo>
                    <a:pt x="5744" y="7744"/>
                    <a:pt x="4786" y="7952"/>
                    <a:pt x="3975" y="7744"/>
                  </a:cubicBezTo>
                  <a:cubicBezTo>
                    <a:pt x="3827" y="7744"/>
                    <a:pt x="3532" y="7432"/>
                    <a:pt x="3385" y="7225"/>
                  </a:cubicBezTo>
                  <a:cubicBezTo>
                    <a:pt x="3238" y="7017"/>
                    <a:pt x="3238" y="6602"/>
                    <a:pt x="3238" y="6394"/>
                  </a:cubicBezTo>
                  <a:cubicBezTo>
                    <a:pt x="3385" y="6186"/>
                    <a:pt x="3532" y="6186"/>
                    <a:pt x="3532" y="5979"/>
                  </a:cubicBezTo>
                  <a:cubicBezTo>
                    <a:pt x="3680" y="5771"/>
                    <a:pt x="3532" y="5044"/>
                    <a:pt x="3238" y="4836"/>
                  </a:cubicBezTo>
                  <a:cubicBezTo>
                    <a:pt x="2943" y="4629"/>
                    <a:pt x="2795" y="4629"/>
                    <a:pt x="2427" y="4213"/>
                  </a:cubicBezTo>
                  <a:cubicBezTo>
                    <a:pt x="2132" y="3798"/>
                    <a:pt x="2132" y="3071"/>
                    <a:pt x="2279" y="2656"/>
                  </a:cubicBezTo>
                  <a:cubicBezTo>
                    <a:pt x="2427" y="2240"/>
                    <a:pt x="2795" y="1825"/>
                    <a:pt x="3090" y="1409"/>
                  </a:cubicBezTo>
                  <a:cubicBezTo>
                    <a:pt x="3238" y="1202"/>
                    <a:pt x="3385" y="1202"/>
                    <a:pt x="3385" y="890"/>
                  </a:cubicBezTo>
                  <a:cubicBezTo>
                    <a:pt x="3532" y="-148"/>
                    <a:pt x="584" y="-356"/>
                    <a:pt x="141" y="682"/>
                  </a:cubicBezTo>
                  <a:cubicBezTo>
                    <a:pt x="-301" y="1825"/>
                    <a:pt x="436" y="2448"/>
                    <a:pt x="436" y="3382"/>
                  </a:cubicBezTo>
                  <a:cubicBezTo>
                    <a:pt x="1247" y="4213"/>
                    <a:pt x="289" y="4629"/>
                    <a:pt x="289" y="5252"/>
                  </a:cubicBezTo>
                </a:path>
              </a:pathLst>
            </a:custGeom>
            <a:solidFill>
              <a:srgbClr val="919191"/>
            </a:solidFill>
            <a:ln w="12700">
              <a:noFill/>
            </a:ln>
          </p:spPr>
          <p:style>
            <a:lnRef idx="0"/>
            <a:fillRef idx="0"/>
            <a:effectRef idx="0"/>
            <a:fontRef idx="minor"/>
          </p:style>
          <p:txBody>
            <a:bodyPr numCol="1" spcCol="0" lIns="45720" rIns="45720" tIns="43920" bIns="43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4" name="Shape 3668"/>
            <p:cNvSpPr/>
            <p:nvPr/>
          </p:nvSpPr>
          <p:spPr>
            <a:xfrm>
              <a:off x="19454400" y="2734560"/>
              <a:ext cx="27360" cy="61200"/>
            </a:xfrm>
            <a:custGeom>
              <a:avLst/>
              <a:gdLst>
                <a:gd name="textAreaLeft" fmla="*/ 0 w 27360"/>
                <a:gd name="textAreaRight" fmla="*/ 27720 w 27360"/>
                <a:gd name="textAreaTop" fmla="*/ 0 h 61200"/>
                <a:gd name="textAreaBottom" fmla="*/ 61560 h 61200"/>
              </a:gdLst>
              <a:ahLst/>
              <a:rect l="textAreaLeft" t="textAreaTop" r="textAreaRight" b="textAreaBottom"/>
              <a:pathLst>
                <a:path w="21127" h="21058">
                  <a:moveTo>
                    <a:pt x="4040" y="16840"/>
                  </a:moveTo>
                  <a:lnTo>
                    <a:pt x="4040" y="17138"/>
                  </a:lnTo>
                  <a:cubicBezTo>
                    <a:pt x="4040" y="17138"/>
                    <a:pt x="4685" y="17138"/>
                    <a:pt x="5652" y="17138"/>
                  </a:cubicBezTo>
                  <a:cubicBezTo>
                    <a:pt x="6942" y="17138"/>
                    <a:pt x="7587" y="17883"/>
                    <a:pt x="6942" y="18628"/>
                  </a:cubicBezTo>
                  <a:cubicBezTo>
                    <a:pt x="6297" y="19223"/>
                    <a:pt x="6297" y="19968"/>
                    <a:pt x="6942" y="20564"/>
                  </a:cubicBezTo>
                  <a:cubicBezTo>
                    <a:pt x="7587" y="21160"/>
                    <a:pt x="10166" y="21160"/>
                    <a:pt x="11455" y="20862"/>
                  </a:cubicBezTo>
                  <a:cubicBezTo>
                    <a:pt x="13067" y="20564"/>
                    <a:pt x="15002" y="20266"/>
                    <a:pt x="16291" y="19968"/>
                  </a:cubicBezTo>
                  <a:cubicBezTo>
                    <a:pt x="16936" y="19968"/>
                    <a:pt x="17581" y="19670"/>
                    <a:pt x="17581" y="19670"/>
                  </a:cubicBezTo>
                  <a:cubicBezTo>
                    <a:pt x="19837" y="19372"/>
                    <a:pt x="21127" y="18330"/>
                    <a:pt x="21127" y="17436"/>
                  </a:cubicBezTo>
                  <a:cubicBezTo>
                    <a:pt x="21127" y="16840"/>
                    <a:pt x="21127" y="16542"/>
                    <a:pt x="20482" y="15797"/>
                  </a:cubicBezTo>
                  <a:cubicBezTo>
                    <a:pt x="19837" y="15499"/>
                    <a:pt x="19837" y="15201"/>
                    <a:pt x="19193" y="14903"/>
                  </a:cubicBezTo>
                  <a:cubicBezTo>
                    <a:pt x="17581" y="13712"/>
                    <a:pt x="16936" y="11775"/>
                    <a:pt x="18226" y="10583"/>
                  </a:cubicBezTo>
                  <a:cubicBezTo>
                    <a:pt x="16291" y="10881"/>
                    <a:pt x="15002" y="9541"/>
                    <a:pt x="15002" y="8647"/>
                  </a:cubicBezTo>
                  <a:cubicBezTo>
                    <a:pt x="15002" y="7604"/>
                    <a:pt x="16291" y="6859"/>
                    <a:pt x="16936" y="5817"/>
                  </a:cubicBezTo>
                  <a:cubicBezTo>
                    <a:pt x="16936" y="4923"/>
                    <a:pt x="16291" y="4029"/>
                    <a:pt x="14357" y="3433"/>
                  </a:cubicBezTo>
                  <a:cubicBezTo>
                    <a:pt x="13712" y="2986"/>
                    <a:pt x="13067" y="2986"/>
                    <a:pt x="12423" y="3433"/>
                  </a:cubicBezTo>
                  <a:cubicBezTo>
                    <a:pt x="13067" y="2092"/>
                    <a:pt x="11455" y="901"/>
                    <a:pt x="9521" y="305"/>
                  </a:cubicBezTo>
                  <a:cubicBezTo>
                    <a:pt x="7587" y="-440"/>
                    <a:pt x="3396" y="305"/>
                    <a:pt x="2751" y="1199"/>
                  </a:cubicBezTo>
                  <a:cubicBezTo>
                    <a:pt x="2751" y="1794"/>
                    <a:pt x="2751" y="2390"/>
                    <a:pt x="3396" y="2390"/>
                  </a:cubicBezTo>
                  <a:cubicBezTo>
                    <a:pt x="4040" y="2688"/>
                    <a:pt x="5652" y="2390"/>
                    <a:pt x="6942" y="2688"/>
                  </a:cubicBezTo>
                  <a:cubicBezTo>
                    <a:pt x="8231" y="2986"/>
                    <a:pt x="7909" y="4029"/>
                    <a:pt x="6297" y="4327"/>
                  </a:cubicBezTo>
                  <a:cubicBezTo>
                    <a:pt x="5008" y="4625"/>
                    <a:pt x="3396" y="4625"/>
                    <a:pt x="2106" y="4625"/>
                  </a:cubicBezTo>
                  <a:cubicBezTo>
                    <a:pt x="817" y="4923"/>
                    <a:pt x="-473" y="5519"/>
                    <a:pt x="172" y="5817"/>
                  </a:cubicBezTo>
                  <a:cubicBezTo>
                    <a:pt x="817" y="6114"/>
                    <a:pt x="1461" y="6561"/>
                    <a:pt x="2751" y="6561"/>
                  </a:cubicBezTo>
                  <a:cubicBezTo>
                    <a:pt x="817" y="7157"/>
                    <a:pt x="1461" y="8349"/>
                    <a:pt x="2751" y="9243"/>
                  </a:cubicBezTo>
                  <a:cubicBezTo>
                    <a:pt x="6942" y="11477"/>
                    <a:pt x="4040" y="14308"/>
                    <a:pt x="4040" y="16840"/>
                  </a:cubicBezTo>
                </a:path>
              </a:pathLst>
            </a:custGeom>
            <a:solidFill>
              <a:srgbClr val="919191"/>
            </a:solidFill>
            <a:ln w="12700">
              <a:noFill/>
            </a:ln>
          </p:spPr>
          <p:style>
            <a:lnRef idx="0"/>
            <a:fillRef idx="0"/>
            <a:effectRef idx="0"/>
            <a:fontRef idx="minor"/>
          </p:style>
          <p:txBody>
            <a:bodyPr numCol="1" spcCol="0" lIns="45720" rIns="45720" tIns="30600" bIns="30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5" name="Shape 3669"/>
            <p:cNvSpPr/>
            <p:nvPr/>
          </p:nvSpPr>
          <p:spPr>
            <a:xfrm>
              <a:off x="18304920" y="4540320"/>
              <a:ext cx="50040" cy="22320"/>
            </a:xfrm>
            <a:custGeom>
              <a:avLst/>
              <a:gdLst>
                <a:gd name="textAreaLeft" fmla="*/ 0 w 50040"/>
                <a:gd name="textAreaRight" fmla="*/ 50400 w 50040"/>
                <a:gd name="textAreaTop" fmla="*/ 0 h 22320"/>
                <a:gd name="textAreaBottom" fmla="*/ 22680 h 22320"/>
              </a:gdLst>
              <a:ahLst/>
              <a:rect l="textAreaLeft" t="textAreaTop" r="textAreaRight" b="textAreaBottom"/>
              <a:pathLst>
                <a:path w="21107" h="21600">
                  <a:moveTo>
                    <a:pt x="461" y="19938"/>
                  </a:moveTo>
                  <a:lnTo>
                    <a:pt x="461" y="20769"/>
                  </a:lnTo>
                  <a:cubicBezTo>
                    <a:pt x="461" y="21600"/>
                    <a:pt x="1200" y="21600"/>
                    <a:pt x="1569" y="21600"/>
                  </a:cubicBezTo>
                  <a:cubicBezTo>
                    <a:pt x="1938" y="21600"/>
                    <a:pt x="2308" y="20769"/>
                    <a:pt x="2861" y="20769"/>
                  </a:cubicBezTo>
                  <a:cubicBezTo>
                    <a:pt x="3600" y="20769"/>
                    <a:pt x="3969" y="21600"/>
                    <a:pt x="4708" y="21600"/>
                  </a:cubicBezTo>
                  <a:cubicBezTo>
                    <a:pt x="5446" y="21600"/>
                    <a:pt x="5815" y="20769"/>
                    <a:pt x="6554" y="19938"/>
                  </a:cubicBezTo>
                  <a:cubicBezTo>
                    <a:pt x="7477" y="19938"/>
                    <a:pt x="8215" y="20769"/>
                    <a:pt x="7846" y="21600"/>
                  </a:cubicBezTo>
                  <a:cubicBezTo>
                    <a:pt x="9323" y="21600"/>
                    <a:pt x="10985" y="21600"/>
                    <a:pt x="11723" y="19108"/>
                  </a:cubicBezTo>
                  <a:cubicBezTo>
                    <a:pt x="12461" y="17446"/>
                    <a:pt x="13200" y="13708"/>
                    <a:pt x="14308" y="13708"/>
                  </a:cubicBezTo>
                  <a:cubicBezTo>
                    <a:pt x="14861" y="13708"/>
                    <a:pt x="15231" y="13708"/>
                    <a:pt x="15231" y="13708"/>
                  </a:cubicBezTo>
                  <a:cubicBezTo>
                    <a:pt x="17077" y="13708"/>
                    <a:pt x="19108" y="11215"/>
                    <a:pt x="20585" y="8723"/>
                  </a:cubicBezTo>
                  <a:cubicBezTo>
                    <a:pt x="20954" y="7892"/>
                    <a:pt x="21323" y="6646"/>
                    <a:pt x="20954" y="5815"/>
                  </a:cubicBezTo>
                  <a:cubicBezTo>
                    <a:pt x="20954" y="5815"/>
                    <a:pt x="20954" y="4985"/>
                    <a:pt x="20585" y="4985"/>
                  </a:cubicBezTo>
                  <a:cubicBezTo>
                    <a:pt x="19108" y="2492"/>
                    <a:pt x="16338" y="4985"/>
                    <a:pt x="15231" y="1662"/>
                  </a:cubicBezTo>
                  <a:cubicBezTo>
                    <a:pt x="14861" y="831"/>
                    <a:pt x="14861" y="831"/>
                    <a:pt x="14308" y="0"/>
                  </a:cubicBezTo>
                  <a:cubicBezTo>
                    <a:pt x="13938" y="0"/>
                    <a:pt x="13569" y="0"/>
                    <a:pt x="13569" y="0"/>
                  </a:cubicBezTo>
                  <a:cubicBezTo>
                    <a:pt x="12092" y="831"/>
                    <a:pt x="10061" y="2492"/>
                    <a:pt x="8585" y="3323"/>
                  </a:cubicBezTo>
                  <a:cubicBezTo>
                    <a:pt x="7477" y="4154"/>
                    <a:pt x="6185" y="4154"/>
                    <a:pt x="5077" y="3323"/>
                  </a:cubicBezTo>
                  <a:cubicBezTo>
                    <a:pt x="4338" y="2492"/>
                    <a:pt x="3600" y="0"/>
                    <a:pt x="2308" y="0"/>
                  </a:cubicBezTo>
                  <a:cubicBezTo>
                    <a:pt x="461" y="0"/>
                    <a:pt x="-277" y="4985"/>
                    <a:pt x="92" y="8723"/>
                  </a:cubicBezTo>
                  <a:cubicBezTo>
                    <a:pt x="461" y="8723"/>
                    <a:pt x="831" y="8723"/>
                    <a:pt x="831" y="8723"/>
                  </a:cubicBezTo>
                  <a:cubicBezTo>
                    <a:pt x="1200" y="13708"/>
                    <a:pt x="831" y="16615"/>
                    <a:pt x="461" y="19938"/>
                  </a:cubicBezTo>
                </a:path>
              </a:pathLst>
            </a:custGeom>
            <a:solidFill>
              <a:srgbClr val="919191"/>
            </a:solidFill>
            <a:ln w="12700">
              <a:noFill/>
            </a:ln>
          </p:spPr>
          <p:style>
            <a:lnRef idx="0"/>
            <a:fillRef idx="0"/>
            <a:effectRef idx="0"/>
            <a:fontRef idx="minor"/>
          </p:style>
          <p:txBody>
            <a:bodyPr numCol="1" spcCol="0" lIns="45720" rIns="45720" tIns="11160" bIns="11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6" name="Shape 3670"/>
            <p:cNvSpPr/>
            <p:nvPr/>
          </p:nvSpPr>
          <p:spPr>
            <a:xfrm>
              <a:off x="21022560" y="3857760"/>
              <a:ext cx="66600" cy="340200"/>
            </a:xfrm>
            <a:custGeom>
              <a:avLst/>
              <a:gdLst>
                <a:gd name="textAreaLeft" fmla="*/ 0 w 66600"/>
                <a:gd name="textAreaRight" fmla="*/ 66960 w 66600"/>
                <a:gd name="textAreaTop" fmla="*/ 0 h 340200"/>
                <a:gd name="textAreaBottom" fmla="*/ 340560 h 340200"/>
              </a:gdLst>
              <a:ahLst/>
              <a:rect l="textAreaLeft" t="textAreaTop" r="textAreaRight" b="textAreaBottom"/>
              <a:pathLst>
                <a:path w="21005" h="21288">
                  <a:moveTo>
                    <a:pt x="3439" y="3040"/>
                  </a:moveTo>
                  <a:cubicBezTo>
                    <a:pt x="3439" y="3149"/>
                    <a:pt x="3164" y="3313"/>
                    <a:pt x="3715" y="3368"/>
                  </a:cubicBezTo>
                  <a:cubicBezTo>
                    <a:pt x="3990" y="3422"/>
                    <a:pt x="4265" y="3422"/>
                    <a:pt x="4540" y="3477"/>
                  </a:cubicBezTo>
                  <a:cubicBezTo>
                    <a:pt x="5778" y="3723"/>
                    <a:pt x="3990" y="3996"/>
                    <a:pt x="3164" y="4241"/>
                  </a:cubicBezTo>
                  <a:cubicBezTo>
                    <a:pt x="1376" y="4624"/>
                    <a:pt x="1651" y="5388"/>
                    <a:pt x="4265" y="5552"/>
                  </a:cubicBezTo>
                  <a:cubicBezTo>
                    <a:pt x="4265" y="5907"/>
                    <a:pt x="1926" y="6071"/>
                    <a:pt x="0" y="6126"/>
                  </a:cubicBezTo>
                  <a:cubicBezTo>
                    <a:pt x="1376" y="6399"/>
                    <a:pt x="1376" y="6917"/>
                    <a:pt x="275" y="7272"/>
                  </a:cubicBezTo>
                  <a:cubicBezTo>
                    <a:pt x="1926" y="7327"/>
                    <a:pt x="3439" y="7682"/>
                    <a:pt x="3990" y="8064"/>
                  </a:cubicBezTo>
                  <a:cubicBezTo>
                    <a:pt x="4540" y="8419"/>
                    <a:pt x="4265" y="8829"/>
                    <a:pt x="4265" y="9157"/>
                  </a:cubicBezTo>
                  <a:cubicBezTo>
                    <a:pt x="5366" y="8938"/>
                    <a:pt x="7704" y="9211"/>
                    <a:pt x="7980" y="9512"/>
                  </a:cubicBezTo>
                  <a:cubicBezTo>
                    <a:pt x="8255" y="9839"/>
                    <a:pt x="7154" y="10140"/>
                    <a:pt x="6329" y="10413"/>
                  </a:cubicBezTo>
                  <a:cubicBezTo>
                    <a:pt x="5366" y="10713"/>
                    <a:pt x="4265" y="10986"/>
                    <a:pt x="4540" y="11341"/>
                  </a:cubicBezTo>
                  <a:cubicBezTo>
                    <a:pt x="4540" y="11505"/>
                    <a:pt x="5090" y="11669"/>
                    <a:pt x="5366" y="11915"/>
                  </a:cubicBezTo>
                  <a:cubicBezTo>
                    <a:pt x="6329" y="12434"/>
                    <a:pt x="5778" y="13062"/>
                    <a:pt x="3990" y="13526"/>
                  </a:cubicBezTo>
                  <a:cubicBezTo>
                    <a:pt x="5778" y="13580"/>
                    <a:pt x="5366" y="14099"/>
                    <a:pt x="4815" y="14427"/>
                  </a:cubicBezTo>
                  <a:cubicBezTo>
                    <a:pt x="3715" y="15164"/>
                    <a:pt x="3990" y="16038"/>
                    <a:pt x="5778" y="16721"/>
                  </a:cubicBezTo>
                  <a:cubicBezTo>
                    <a:pt x="6054" y="16830"/>
                    <a:pt x="6329" y="16939"/>
                    <a:pt x="6329" y="17076"/>
                  </a:cubicBezTo>
                  <a:cubicBezTo>
                    <a:pt x="6329" y="17294"/>
                    <a:pt x="5366" y="17458"/>
                    <a:pt x="5090" y="17649"/>
                  </a:cubicBezTo>
                  <a:cubicBezTo>
                    <a:pt x="3990" y="18141"/>
                    <a:pt x="5366" y="18796"/>
                    <a:pt x="4540" y="19288"/>
                  </a:cubicBezTo>
                  <a:cubicBezTo>
                    <a:pt x="3990" y="19588"/>
                    <a:pt x="2889" y="19943"/>
                    <a:pt x="3715" y="20161"/>
                  </a:cubicBezTo>
                  <a:cubicBezTo>
                    <a:pt x="4265" y="20161"/>
                    <a:pt x="4815" y="20216"/>
                    <a:pt x="5366" y="20216"/>
                  </a:cubicBezTo>
                  <a:cubicBezTo>
                    <a:pt x="4815" y="20435"/>
                    <a:pt x="4540" y="20735"/>
                    <a:pt x="4815" y="20953"/>
                  </a:cubicBezTo>
                  <a:cubicBezTo>
                    <a:pt x="5090" y="21199"/>
                    <a:pt x="6879" y="21363"/>
                    <a:pt x="7704" y="21254"/>
                  </a:cubicBezTo>
                  <a:cubicBezTo>
                    <a:pt x="6879" y="20790"/>
                    <a:pt x="6604" y="20271"/>
                    <a:pt x="7429" y="19861"/>
                  </a:cubicBezTo>
                  <a:cubicBezTo>
                    <a:pt x="7704" y="19752"/>
                    <a:pt x="7980" y="19643"/>
                    <a:pt x="7980" y="19533"/>
                  </a:cubicBezTo>
                  <a:cubicBezTo>
                    <a:pt x="7980" y="19424"/>
                    <a:pt x="7704" y="19370"/>
                    <a:pt x="7704" y="19233"/>
                  </a:cubicBezTo>
                  <a:cubicBezTo>
                    <a:pt x="7429" y="18851"/>
                    <a:pt x="8943" y="18496"/>
                    <a:pt x="9493" y="18086"/>
                  </a:cubicBezTo>
                  <a:cubicBezTo>
                    <a:pt x="10318" y="17458"/>
                    <a:pt x="7980" y="16775"/>
                    <a:pt x="9493" y="16202"/>
                  </a:cubicBezTo>
                  <a:cubicBezTo>
                    <a:pt x="10043" y="15929"/>
                    <a:pt x="11144" y="15574"/>
                    <a:pt x="10043" y="15410"/>
                  </a:cubicBezTo>
                  <a:cubicBezTo>
                    <a:pt x="11144" y="14591"/>
                    <a:pt x="12382" y="13799"/>
                    <a:pt x="12657" y="12952"/>
                  </a:cubicBezTo>
                  <a:cubicBezTo>
                    <a:pt x="13483" y="12870"/>
                    <a:pt x="14308" y="12952"/>
                    <a:pt x="15271" y="13007"/>
                  </a:cubicBezTo>
                  <a:cubicBezTo>
                    <a:pt x="15271" y="12761"/>
                    <a:pt x="17335" y="12679"/>
                    <a:pt x="18161" y="12870"/>
                  </a:cubicBezTo>
                  <a:cubicBezTo>
                    <a:pt x="19124" y="13034"/>
                    <a:pt x="18986" y="13335"/>
                    <a:pt x="18711" y="13580"/>
                  </a:cubicBezTo>
                  <a:cubicBezTo>
                    <a:pt x="19261" y="13690"/>
                    <a:pt x="20499" y="13444"/>
                    <a:pt x="20087" y="13280"/>
                  </a:cubicBezTo>
                  <a:cubicBezTo>
                    <a:pt x="19811" y="13116"/>
                    <a:pt x="19261" y="12952"/>
                    <a:pt x="19536" y="12761"/>
                  </a:cubicBezTo>
                  <a:cubicBezTo>
                    <a:pt x="19536" y="12652"/>
                    <a:pt x="20087" y="12597"/>
                    <a:pt x="20499" y="12488"/>
                  </a:cubicBezTo>
                  <a:cubicBezTo>
                    <a:pt x="21600" y="12079"/>
                    <a:pt x="20775" y="11478"/>
                    <a:pt x="19261" y="11095"/>
                  </a:cubicBezTo>
                  <a:cubicBezTo>
                    <a:pt x="17885" y="10686"/>
                    <a:pt x="16372" y="10304"/>
                    <a:pt x="16372" y="9785"/>
                  </a:cubicBezTo>
                  <a:cubicBezTo>
                    <a:pt x="16372" y="9566"/>
                    <a:pt x="16922" y="9321"/>
                    <a:pt x="16647" y="9102"/>
                  </a:cubicBezTo>
                  <a:cubicBezTo>
                    <a:pt x="16647" y="8829"/>
                    <a:pt x="15822" y="8529"/>
                    <a:pt x="15271" y="8256"/>
                  </a:cubicBezTo>
                  <a:cubicBezTo>
                    <a:pt x="14721" y="7955"/>
                    <a:pt x="14996" y="7600"/>
                    <a:pt x="16097" y="7436"/>
                  </a:cubicBezTo>
                  <a:cubicBezTo>
                    <a:pt x="14308" y="6972"/>
                    <a:pt x="13758" y="6399"/>
                    <a:pt x="13758" y="5825"/>
                  </a:cubicBezTo>
                  <a:cubicBezTo>
                    <a:pt x="14033" y="5252"/>
                    <a:pt x="14996" y="4706"/>
                    <a:pt x="15546" y="4187"/>
                  </a:cubicBezTo>
                  <a:cubicBezTo>
                    <a:pt x="13758" y="4187"/>
                    <a:pt x="13208" y="3777"/>
                    <a:pt x="13483" y="3422"/>
                  </a:cubicBezTo>
                  <a:cubicBezTo>
                    <a:pt x="13758" y="3094"/>
                    <a:pt x="14308" y="2739"/>
                    <a:pt x="13208" y="2466"/>
                  </a:cubicBezTo>
                  <a:cubicBezTo>
                    <a:pt x="12107" y="2221"/>
                    <a:pt x="10043" y="2221"/>
                    <a:pt x="9493" y="1948"/>
                  </a:cubicBezTo>
                  <a:cubicBezTo>
                    <a:pt x="9218" y="1729"/>
                    <a:pt x="10181" y="1456"/>
                    <a:pt x="11557" y="1374"/>
                  </a:cubicBezTo>
                  <a:cubicBezTo>
                    <a:pt x="10731" y="1374"/>
                    <a:pt x="11832" y="500"/>
                    <a:pt x="12107" y="391"/>
                  </a:cubicBezTo>
                  <a:cubicBezTo>
                    <a:pt x="9218" y="-237"/>
                    <a:pt x="4265" y="-128"/>
                    <a:pt x="6054" y="855"/>
                  </a:cubicBezTo>
                  <a:cubicBezTo>
                    <a:pt x="6329" y="965"/>
                    <a:pt x="7429" y="1210"/>
                    <a:pt x="7429" y="1320"/>
                  </a:cubicBezTo>
                  <a:cubicBezTo>
                    <a:pt x="7704" y="1647"/>
                    <a:pt x="7154" y="1483"/>
                    <a:pt x="6329" y="1702"/>
                  </a:cubicBezTo>
                  <a:cubicBezTo>
                    <a:pt x="4540" y="2275"/>
                    <a:pt x="3715" y="2521"/>
                    <a:pt x="3439" y="3040"/>
                  </a:cubicBezTo>
                  <a:close/>
                  <a:moveTo>
                    <a:pt x="11832" y="1374"/>
                  </a:moveTo>
                  <a:cubicBezTo>
                    <a:pt x="11694" y="1374"/>
                    <a:pt x="11694" y="1374"/>
                    <a:pt x="11557" y="1374"/>
                  </a:cubicBezTo>
                  <a:cubicBezTo>
                    <a:pt x="11694" y="1374"/>
                    <a:pt x="11694" y="1374"/>
                    <a:pt x="11832" y="1374"/>
                  </a:cubicBez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7" name="Shape 3671"/>
            <p:cNvSpPr/>
            <p:nvPr/>
          </p:nvSpPr>
          <p:spPr>
            <a:xfrm>
              <a:off x="20980800" y="4215240"/>
              <a:ext cx="145440" cy="145080"/>
            </a:xfrm>
            <a:custGeom>
              <a:avLst/>
              <a:gdLst>
                <a:gd name="textAreaLeft" fmla="*/ 0 w 145440"/>
                <a:gd name="textAreaRight" fmla="*/ 145800 w 145440"/>
                <a:gd name="textAreaTop" fmla="*/ 0 h 145080"/>
                <a:gd name="textAreaBottom" fmla="*/ 145440 h 145080"/>
              </a:gdLst>
              <a:ahLst/>
              <a:rect l="textAreaLeft" t="textAreaTop" r="textAreaRight" b="textAreaBottom"/>
              <a:pathLst>
                <a:path w="21082" h="20724">
                  <a:moveTo>
                    <a:pt x="6890" y="4819"/>
                  </a:moveTo>
                  <a:cubicBezTo>
                    <a:pt x="5563" y="6122"/>
                    <a:pt x="5311" y="8171"/>
                    <a:pt x="6384" y="9722"/>
                  </a:cubicBezTo>
                  <a:cubicBezTo>
                    <a:pt x="5816" y="9971"/>
                    <a:pt x="5563" y="10778"/>
                    <a:pt x="5942" y="11150"/>
                  </a:cubicBezTo>
                  <a:cubicBezTo>
                    <a:pt x="5437" y="11522"/>
                    <a:pt x="4490" y="11150"/>
                    <a:pt x="3984" y="10778"/>
                  </a:cubicBezTo>
                  <a:cubicBezTo>
                    <a:pt x="3479" y="10219"/>
                    <a:pt x="2911" y="9722"/>
                    <a:pt x="2279" y="9598"/>
                  </a:cubicBezTo>
                  <a:cubicBezTo>
                    <a:pt x="2279" y="10529"/>
                    <a:pt x="2279" y="11522"/>
                    <a:pt x="1963" y="12453"/>
                  </a:cubicBezTo>
                  <a:cubicBezTo>
                    <a:pt x="1458" y="12578"/>
                    <a:pt x="826" y="12826"/>
                    <a:pt x="384" y="13260"/>
                  </a:cubicBezTo>
                  <a:cubicBezTo>
                    <a:pt x="5" y="13633"/>
                    <a:pt x="-121" y="14440"/>
                    <a:pt x="132" y="14812"/>
                  </a:cubicBezTo>
                  <a:cubicBezTo>
                    <a:pt x="258" y="15060"/>
                    <a:pt x="511" y="15060"/>
                    <a:pt x="826" y="15309"/>
                  </a:cubicBezTo>
                  <a:cubicBezTo>
                    <a:pt x="953" y="15557"/>
                    <a:pt x="1079" y="15867"/>
                    <a:pt x="1205" y="16115"/>
                  </a:cubicBezTo>
                  <a:cubicBezTo>
                    <a:pt x="1584" y="17543"/>
                    <a:pt x="1837" y="18971"/>
                    <a:pt x="1584" y="20274"/>
                  </a:cubicBezTo>
                  <a:cubicBezTo>
                    <a:pt x="2784" y="21081"/>
                    <a:pt x="4616" y="20771"/>
                    <a:pt x="5437" y="19591"/>
                  </a:cubicBezTo>
                  <a:cubicBezTo>
                    <a:pt x="4932" y="18971"/>
                    <a:pt x="3732" y="18971"/>
                    <a:pt x="3858" y="18164"/>
                  </a:cubicBezTo>
                  <a:cubicBezTo>
                    <a:pt x="3858" y="17667"/>
                    <a:pt x="4490" y="17419"/>
                    <a:pt x="4490" y="16860"/>
                  </a:cubicBezTo>
                  <a:cubicBezTo>
                    <a:pt x="4490" y="16115"/>
                    <a:pt x="2911" y="16115"/>
                    <a:pt x="2658" y="15309"/>
                  </a:cubicBezTo>
                  <a:cubicBezTo>
                    <a:pt x="2405" y="14564"/>
                    <a:pt x="3479" y="14005"/>
                    <a:pt x="4237" y="14005"/>
                  </a:cubicBezTo>
                  <a:cubicBezTo>
                    <a:pt x="5058" y="14005"/>
                    <a:pt x="6132" y="13757"/>
                    <a:pt x="6258" y="13012"/>
                  </a:cubicBezTo>
                  <a:cubicBezTo>
                    <a:pt x="7584" y="13384"/>
                    <a:pt x="8595" y="14440"/>
                    <a:pt x="9037" y="15557"/>
                  </a:cubicBezTo>
                  <a:cubicBezTo>
                    <a:pt x="9795" y="15991"/>
                    <a:pt x="10742" y="16240"/>
                    <a:pt x="11563" y="16115"/>
                  </a:cubicBezTo>
                  <a:cubicBezTo>
                    <a:pt x="11942" y="16115"/>
                    <a:pt x="12321" y="15867"/>
                    <a:pt x="12700" y="15991"/>
                  </a:cubicBezTo>
                  <a:cubicBezTo>
                    <a:pt x="13142" y="16115"/>
                    <a:pt x="13521" y="16364"/>
                    <a:pt x="13395" y="16736"/>
                  </a:cubicBezTo>
                  <a:cubicBezTo>
                    <a:pt x="13774" y="16364"/>
                    <a:pt x="14153" y="15557"/>
                    <a:pt x="13774" y="15060"/>
                  </a:cubicBezTo>
                  <a:cubicBezTo>
                    <a:pt x="13647" y="14812"/>
                    <a:pt x="13395" y="14688"/>
                    <a:pt x="13268" y="14564"/>
                  </a:cubicBezTo>
                  <a:cubicBezTo>
                    <a:pt x="12700" y="14005"/>
                    <a:pt x="12700" y="13384"/>
                    <a:pt x="12574" y="12702"/>
                  </a:cubicBezTo>
                  <a:cubicBezTo>
                    <a:pt x="12447" y="11957"/>
                    <a:pt x="12637" y="10902"/>
                    <a:pt x="13395" y="10778"/>
                  </a:cubicBezTo>
                  <a:cubicBezTo>
                    <a:pt x="14216" y="10653"/>
                    <a:pt x="14721" y="11709"/>
                    <a:pt x="15479" y="11833"/>
                  </a:cubicBezTo>
                  <a:cubicBezTo>
                    <a:pt x="16300" y="11957"/>
                    <a:pt x="16805" y="11150"/>
                    <a:pt x="17626" y="11150"/>
                  </a:cubicBezTo>
                  <a:cubicBezTo>
                    <a:pt x="18700" y="11026"/>
                    <a:pt x="20026" y="12205"/>
                    <a:pt x="20784" y="11398"/>
                  </a:cubicBezTo>
                  <a:cubicBezTo>
                    <a:pt x="21479" y="10778"/>
                    <a:pt x="20847" y="9784"/>
                    <a:pt x="20026" y="9350"/>
                  </a:cubicBezTo>
                  <a:cubicBezTo>
                    <a:pt x="19268" y="8978"/>
                    <a:pt x="18321" y="8915"/>
                    <a:pt x="17626" y="8419"/>
                  </a:cubicBezTo>
                  <a:cubicBezTo>
                    <a:pt x="17247" y="8171"/>
                    <a:pt x="17121" y="7798"/>
                    <a:pt x="16805" y="7426"/>
                  </a:cubicBezTo>
                  <a:cubicBezTo>
                    <a:pt x="16174" y="6681"/>
                    <a:pt x="15226" y="6122"/>
                    <a:pt x="14468" y="5626"/>
                  </a:cubicBezTo>
                  <a:cubicBezTo>
                    <a:pt x="13521" y="5129"/>
                    <a:pt x="12447" y="4571"/>
                    <a:pt x="11563" y="5129"/>
                  </a:cubicBezTo>
                  <a:cubicBezTo>
                    <a:pt x="11816" y="4943"/>
                    <a:pt x="9037" y="-519"/>
                    <a:pt x="8090" y="40"/>
                  </a:cubicBezTo>
                  <a:cubicBezTo>
                    <a:pt x="8090" y="40"/>
                    <a:pt x="7142" y="2212"/>
                    <a:pt x="7142" y="2336"/>
                  </a:cubicBezTo>
                  <a:cubicBezTo>
                    <a:pt x="6890" y="3515"/>
                    <a:pt x="8090" y="3826"/>
                    <a:pt x="6890" y="4819"/>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8" name="Shape 3672"/>
            <p:cNvSpPr/>
            <p:nvPr/>
          </p:nvSpPr>
          <p:spPr>
            <a:xfrm>
              <a:off x="20722680" y="4364640"/>
              <a:ext cx="314280" cy="300960"/>
            </a:xfrm>
            <a:custGeom>
              <a:avLst/>
              <a:gdLst>
                <a:gd name="textAreaLeft" fmla="*/ 0 w 314280"/>
                <a:gd name="textAreaRight" fmla="*/ 314640 w 314280"/>
                <a:gd name="textAreaTop" fmla="*/ 0 h 300960"/>
                <a:gd name="textAreaBottom" fmla="*/ 301320 h 300960"/>
              </a:gdLst>
              <a:ahLst/>
              <a:rect l="textAreaLeft" t="textAreaTop" r="textAreaRight" b="textAreaBottom"/>
              <a:pathLst>
                <a:path w="21458" h="21203">
                  <a:moveTo>
                    <a:pt x="17946" y="865"/>
                  </a:moveTo>
                  <a:cubicBezTo>
                    <a:pt x="18064" y="1048"/>
                    <a:pt x="18005" y="1385"/>
                    <a:pt x="17797" y="1508"/>
                  </a:cubicBezTo>
                  <a:cubicBezTo>
                    <a:pt x="18064" y="1630"/>
                    <a:pt x="18183" y="2029"/>
                    <a:pt x="18064" y="2335"/>
                  </a:cubicBezTo>
                  <a:cubicBezTo>
                    <a:pt x="18005" y="2672"/>
                    <a:pt x="17797" y="2917"/>
                    <a:pt x="17797" y="3254"/>
                  </a:cubicBezTo>
                  <a:cubicBezTo>
                    <a:pt x="17738" y="3622"/>
                    <a:pt x="18005" y="4082"/>
                    <a:pt x="18302" y="4327"/>
                  </a:cubicBezTo>
                  <a:cubicBezTo>
                    <a:pt x="18183" y="4327"/>
                    <a:pt x="18124" y="4327"/>
                    <a:pt x="18005" y="4327"/>
                  </a:cubicBezTo>
                  <a:cubicBezTo>
                    <a:pt x="17619" y="4664"/>
                    <a:pt x="17322" y="5093"/>
                    <a:pt x="17262" y="5613"/>
                  </a:cubicBezTo>
                  <a:cubicBezTo>
                    <a:pt x="17054" y="5889"/>
                    <a:pt x="16876" y="6196"/>
                    <a:pt x="16757" y="6471"/>
                  </a:cubicBezTo>
                  <a:cubicBezTo>
                    <a:pt x="16579" y="6778"/>
                    <a:pt x="16371" y="7237"/>
                    <a:pt x="16638" y="7482"/>
                  </a:cubicBezTo>
                  <a:cubicBezTo>
                    <a:pt x="16490" y="7482"/>
                    <a:pt x="16311" y="7421"/>
                    <a:pt x="16193" y="7421"/>
                  </a:cubicBezTo>
                  <a:cubicBezTo>
                    <a:pt x="16014" y="7881"/>
                    <a:pt x="15628" y="8126"/>
                    <a:pt x="15182" y="8310"/>
                  </a:cubicBezTo>
                  <a:cubicBezTo>
                    <a:pt x="14707" y="8647"/>
                    <a:pt x="14261" y="8892"/>
                    <a:pt x="13756" y="9229"/>
                  </a:cubicBezTo>
                  <a:cubicBezTo>
                    <a:pt x="13756" y="8830"/>
                    <a:pt x="13519" y="8524"/>
                    <a:pt x="13192" y="8371"/>
                  </a:cubicBezTo>
                  <a:cubicBezTo>
                    <a:pt x="12895" y="8248"/>
                    <a:pt x="12449" y="8463"/>
                    <a:pt x="12330" y="8769"/>
                  </a:cubicBezTo>
                  <a:cubicBezTo>
                    <a:pt x="12211" y="9106"/>
                    <a:pt x="12390" y="9474"/>
                    <a:pt x="12568" y="9811"/>
                  </a:cubicBezTo>
                  <a:cubicBezTo>
                    <a:pt x="11706" y="10056"/>
                    <a:pt x="11023" y="10761"/>
                    <a:pt x="10755" y="11588"/>
                  </a:cubicBezTo>
                  <a:cubicBezTo>
                    <a:pt x="10131" y="11802"/>
                    <a:pt x="9508" y="11925"/>
                    <a:pt x="8824" y="11986"/>
                  </a:cubicBezTo>
                  <a:cubicBezTo>
                    <a:pt x="8646" y="11986"/>
                    <a:pt x="8527" y="11986"/>
                    <a:pt x="8349" y="12048"/>
                  </a:cubicBezTo>
                  <a:cubicBezTo>
                    <a:pt x="7844" y="12048"/>
                    <a:pt x="7398" y="12109"/>
                    <a:pt x="6893" y="12109"/>
                  </a:cubicBezTo>
                  <a:cubicBezTo>
                    <a:pt x="6715" y="12109"/>
                    <a:pt x="6477" y="12109"/>
                    <a:pt x="6328" y="12231"/>
                  </a:cubicBezTo>
                  <a:cubicBezTo>
                    <a:pt x="6210" y="12293"/>
                    <a:pt x="6091" y="12385"/>
                    <a:pt x="6031" y="12446"/>
                  </a:cubicBezTo>
                  <a:cubicBezTo>
                    <a:pt x="5734" y="12691"/>
                    <a:pt x="5348" y="12936"/>
                    <a:pt x="5021" y="13212"/>
                  </a:cubicBezTo>
                  <a:cubicBezTo>
                    <a:pt x="4724" y="13457"/>
                    <a:pt x="4278" y="13671"/>
                    <a:pt x="3981" y="13457"/>
                  </a:cubicBezTo>
                  <a:cubicBezTo>
                    <a:pt x="4100" y="13671"/>
                    <a:pt x="3922" y="13916"/>
                    <a:pt x="3714" y="14100"/>
                  </a:cubicBezTo>
                  <a:cubicBezTo>
                    <a:pt x="3417" y="14376"/>
                    <a:pt x="3031" y="14560"/>
                    <a:pt x="2733" y="14682"/>
                  </a:cubicBezTo>
                  <a:cubicBezTo>
                    <a:pt x="2288" y="14866"/>
                    <a:pt x="1783" y="15142"/>
                    <a:pt x="1723" y="15571"/>
                  </a:cubicBezTo>
                  <a:cubicBezTo>
                    <a:pt x="1723" y="15785"/>
                    <a:pt x="1723" y="15969"/>
                    <a:pt x="1842" y="16092"/>
                  </a:cubicBezTo>
                  <a:cubicBezTo>
                    <a:pt x="1159" y="16030"/>
                    <a:pt x="475" y="16214"/>
                    <a:pt x="0" y="16674"/>
                  </a:cubicBezTo>
                  <a:cubicBezTo>
                    <a:pt x="297" y="16735"/>
                    <a:pt x="802" y="17011"/>
                    <a:pt x="594" y="17317"/>
                  </a:cubicBezTo>
                  <a:cubicBezTo>
                    <a:pt x="535" y="17440"/>
                    <a:pt x="416" y="17501"/>
                    <a:pt x="357" y="17562"/>
                  </a:cubicBezTo>
                  <a:cubicBezTo>
                    <a:pt x="178" y="17777"/>
                    <a:pt x="178" y="18083"/>
                    <a:pt x="357" y="18206"/>
                  </a:cubicBezTo>
                  <a:cubicBezTo>
                    <a:pt x="475" y="18298"/>
                    <a:pt x="535" y="18359"/>
                    <a:pt x="683" y="18420"/>
                  </a:cubicBezTo>
                  <a:cubicBezTo>
                    <a:pt x="1159" y="18727"/>
                    <a:pt x="1099" y="19431"/>
                    <a:pt x="1040" y="20013"/>
                  </a:cubicBezTo>
                  <a:cubicBezTo>
                    <a:pt x="1545" y="20412"/>
                    <a:pt x="2109" y="20718"/>
                    <a:pt x="2615" y="21116"/>
                  </a:cubicBezTo>
                  <a:cubicBezTo>
                    <a:pt x="2674" y="21178"/>
                    <a:pt x="2733" y="21239"/>
                    <a:pt x="2852" y="21178"/>
                  </a:cubicBezTo>
                  <a:cubicBezTo>
                    <a:pt x="3031" y="21178"/>
                    <a:pt x="3031" y="20933"/>
                    <a:pt x="3090" y="20779"/>
                  </a:cubicBezTo>
                  <a:cubicBezTo>
                    <a:pt x="3179" y="20289"/>
                    <a:pt x="3239" y="19768"/>
                    <a:pt x="3298" y="19309"/>
                  </a:cubicBezTo>
                  <a:cubicBezTo>
                    <a:pt x="3298" y="19125"/>
                    <a:pt x="3357" y="18941"/>
                    <a:pt x="3476" y="18788"/>
                  </a:cubicBezTo>
                  <a:cubicBezTo>
                    <a:pt x="3654" y="18604"/>
                    <a:pt x="3981" y="18604"/>
                    <a:pt x="4219" y="18543"/>
                  </a:cubicBezTo>
                  <a:cubicBezTo>
                    <a:pt x="4486" y="18482"/>
                    <a:pt x="4783" y="18359"/>
                    <a:pt x="4783" y="18083"/>
                  </a:cubicBezTo>
                  <a:cubicBezTo>
                    <a:pt x="4843" y="17654"/>
                    <a:pt x="4041" y="17256"/>
                    <a:pt x="4278" y="16919"/>
                  </a:cubicBezTo>
                  <a:cubicBezTo>
                    <a:pt x="4546" y="16613"/>
                    <a:pt x="4962" y="16919"/>
                    <a:pt x="5110" y="17317"/>
                  </a:cubicBezTo>
                  <a:cubicBezTo>
                    <a:pt x="5229" y="17654"/>
                    <a:pt x="5289" y="18083"/>
                    <a:pt x="5586" y="18298"/>
                  </a:cubicBezTo>
                  <a:cubicBezTo>
                    <a:pt x="5972" y="18022"/>
                    <a:pt x="5972" y="17501"/>
                    <a:pt x="6210" y="17133"/>
                  </a:cubicBezTo>
                  <a:cubicBezTo>
                    <a:pt x="6655" y="16490"/>
                    <a:pt x="7576" y="16551"/>
                    <a:pt x="8349" y="16674"/>
                  </a:cubicBezTo>
                  <a:cubicBezTo>
                    <a:pt x="8587" y="16551"/>
                    <a:pt x="8200" y="16153"/>
                    <a:pt x="8289" y="15908"/>
                  </a:cubicBezTo>
                  <a:cubicBezTo>
                    <a:pt x="8289" y="15785"/>
                    <a:pt x="8408" y="15724"/>
                    <a:pt x="8468" y="15571"/>
                  </a:cubicBezTo>
                  <a:cubicBezTo>
                    <a:pt x="8646" y="15387"/>
                    <a:pt x="8765" y="15081"/>
                    <a:pt x="8765" y="14744"/>
                  </a:cubicBezTo>
                  <a:cubicBezTo>
                    <a:pt x="9092" y="15019"/>
                    <a:pt x="9508" y="14560"/>
                    <a:pt x="9894" y="14682"/>
                  </a:cubicBezTo>
                  <a:cubicBezTo>
                    <a:pt x="10339" y="14805"/>
                    <a:pt x="10280" y="15448"/>
                    <a:pt x="10131" y="15908"/>
                  </a:cubicBezTo>
                  <a:cubicBezTo>
                    <a:pt x="10339" y="16092"/>
                    <a:pt x="10458" y="16306"/>
                    <a:pt x="10696" y="16368"/>
                  </a:cubicBezTo>
                  <a:cubicBezTo>
                    <a:pt x="10963" y="16429"/>
                    <a:pt x="11201" y="16429"/>
                    <a:pt x="11320" y="16214"/>
                  </a:cubicBezTo>
                  <a:cubicBezTo>
                    <a:pt x="11528" y="15908"/>
                    <a:pt x="11261" y="15448"/>
                    <a:pt x="11587" y="15203"/>
                  </a:cubicBezTo>
                  <a:cubicBezTo>
                    <a:pt x="11766" y="15019"/>
                    <a:pt x="12152" y="15203"/>
                    <a:pt x="12390" y="15019"/>
                  </a:cubicBezTo>
                  <a:cubicBezTo>
                    <a:pt x="12687" y="14866"/>
                    <a:pt x="12627" y="14376"/>
                    <a:pt x="12449" y="14162"/>
                  </a:cubicBezTo>
                  <a:cubicBezTo>
                    <a:pt x="12211" y="13916"/>
                    <a:pt x="11884" y="13855"/>
                    <a:pt x="11587" y="13794"/>
                  </a:cubicBezTo>
                  <a:cubicBezTo>
                    <a:pt x="11944" y="13579"/>
                    <a:pt x="12330" y="13396"/>
                    <a:pt x="12627" y="13150"/>
                  </a:cubicBezTo>
                  <a:cubicBezTo>
                    <a:pt x="12835" y="13334"/>
                    <a:pt x="13073" y="13518"/>
                    <a:pt x="13311" y="13671"/>
                  </a:cubicBezTo>
                  <a:cubicBezTo>
                    <a:pt x="13578" y="13794"/>
                    <a:pt x="13875" y="13733"/>
                    <a:pt x="14143" y="13518"/>
                  </a:cubicBezTo>
                  <a:cubicBezTo>
                    <a:pt x="14648" y="13334"/>
                    <a:pt x="15182" y="13089"/>
                    <a:pt x="15687" y="12875"/>
                  </a:cubicBezTo>
                  <a:cubicBezTo>
                    <a:pt x="15866" y="12813"/>
                    <a:pt x="16133" y="12691"/>
                    <a:pt x="16311" y="12813"/>
                  </a:cubicBezTo>
                  <a:cubicBezTo>
                    <a:pt x="16430" y="12875"/>
                    <a:pt x="16490" y="12936"/>
                    <a:pt x="16638" y="13028"/>
                  </a:cubicBezTo>
                  <a:cubicBezTo>
                    <a:pt x="16876" y="13150"/>
                    <a:pt x="17203" y="13089"/>
                    <a:pt x="17440" y="12936"/>
                  </a:cubicBezTo>
                  <a:cubicBezTo>
                    <a:pt x="17619" y="12875"/>
                    <a:pt x="17797" y="12844"/>
                    <a:pt x="17946" y="12691"/>
                  </a:cubicBezTo>
                  <a:cubicBezTo>
                    <a:pt x="18064" y="12599"/>
                    <a:pt x="18064" y="12231"/>
                    <a:pt x="17886" y="12170"/>
                  </a:cubicBezTo>
                  <a:cubicBezTo>
                    <a:pt x="18243" y="11925"/>
                    <a:pt x="18926" y="12170"/>
                    <a:pt x="18985" y="11741"/>
                  </a:cubicBezTo>
                  <a:cubicBezTo>
                    <a:pt x="19134" y="11282"/>
                    <a:pt x="18243" y="11098"/>
                    <a:pt x="18302" y="10577"/>
                  </a:cubicBezTo>
                  <a:cubicBezTo>
                    <a:pt x="18361" y="10056"/>
                    <a:pt x="19372" y="10056"/>
                    <a:pt x="19372" y="9535"/>
                  </a:cubicBezTo>
                  <a:cubicBezTo>
                    <a:pt x="19372" y="9351"/>
                    <a:pt x="19253" y="9229"/>
                    <a:pt x="19134" y="9014"/>
                  </a:cubicBezTo>
                  <a:cubicBezTo>
                    <a:pt x="18867" y="8647"/>
                    <a:pt x="19134" y="8003"/>
                    <a:pt x="19550" y="7881"/>
                  </a:cubicBezTo>
                  <a:cubicBezTo>
                    <a:pt x="19193" y="7666"/>
                    <a:pt x="18867" y="7421"/>
                    <a:pt x="18629" y="7115"/>
                  </a:cubicBezTo>
                  <a:cubicBezTo>
                    <a:pt x="19193" y="6716"/>
                    <a:pt x="19817" y="6471"/>
                    <a:pt x="20441" y="6318"/>
                  </a:cubicBezTo>
                  <a:cubicBezTo>
                    <a:pt x="20679" y="6257"/>
                    <a:pt x="21065" y="6134"/>
                    <a:pt x="20976" y="5828"/>
                  </a:cubicBezTo>
                  <a:cubicBezTo>
                    <a:pt x="20917" y="5675"/>
                    <a:pt x="20857" y="5613"/>
                    <a:pt x="20798" y="5552"/>
                  </a:cubicBezTo>
                  <a:cubicBezTo>
                    <a:pt x="20560" y="5246"/>
                    <a:pt x="20679" y="4725"/>
                    <a:pt x="20976" y="4541"/>
                  </a:cubicBezTo>
                  <a:cubicBezTo>
                    <a:pt x="21125" y="4480"/>
                    <a:pt x="21303" y="4480"/>
                    <a:pt x="21422" y="4327"/>
                  </a:cubicBezTo>
                  <a:cubicBezTo>
                    <a:pt x="21600" y="4020"/>
                    <a:pt x="21065" y="3714"/>
                    <a:pt x="20976" y="3377"/>
                  </a:cubicBezTo>
                  <a:cubicBezTo>
                    <a:pt x="20917" y="3070"/>
                    <a:pt x="21303" y="2733"/>
                    <a:pt x="21243" y="2396"/>
                  </a:cubicBezTo>
                  <a:cubicBezTo>
                    <a:pt x="21184" y="2090"/>
                    <a:pt x="20857" y="1968"/>
                    <a:pt x="20620" y="1845"/>
                  </a:cubicBezTo>
                  <a:cubicBezTo>
                    <a:pt x="20114" y="1447"/>
                    <a:pt x="19877" y="742"/>
                    <a:pt x="20174" y="160"/>
                  </a:cubicBezTo>
                  <a:cubicBezTo>
                    <a:pt x="19609" y="37"/>
                    <a:pt x="17262" y="-361"/>
                    <a:pt x="17946" y="865"/>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19" name="Shape 3673"/>
            <p:cNvSpPr/>
            <p:nvPr/>
          </p:nvSpPr>
          <p:spPr>
            <a:xfrm>
              <a:off x="19776240" y="1833120"/>
              <a:ext cx="144000" cy="177480"/>
            </a:xfrm>
            <a:custGeom>
              <a:avLst/>
              <a:gdLst>
                <a:gd name="textAreaLeft" fmla="*/ 0 w 144000"/>
                <a:gd name="textAreaRight" fmla="*/ 144360 w 144000"/>
                <a:gd name="textAreaTop" fmla="*/ 0 h 177480"/>
                <a:gd name="textAreaBottom" fmla="*/ 177840 h 177480"/>
              </a:gdLst>
              <a:ahLst/>
              <a:rect l="textAreaLeft" t="textAreaTop" r="textAreaRight" b="textAreaBottom"/>
              <a:pathLst>
                <a:path w="21406" h="21329">
                  <a:moveTo>
                    <a:pt x="6117" y="3513"/>
                  </a:moveTo>
                  <a:cubicBezTo>
                    <a:pt x="5661" y="3826"/>
                    <a:pt x="5531" y="4294"/>
                    <a:pt x="5271" y="4606"/>
                  </a:cubicBezTo>
                  <a:cubicBezTo>
                    <a:pt x="4490" y="6012"/>
                    <a:pt x="3514" y="7365"/>
                    <a:pt x="2278" y="8562"/>
                  </a:cubicBezTo>
                  <a:cubicBezTo>
                    <a:pt x="2929" y="8666"/>
                    <a:pt x="3384" y="9187"/>
                    <a:pt x="3254" y="9759"/>
                  </a:cubicBezTo>
                  <a:cubicBezTo>
                    <a:pt x="3514" y="9759"/>
                    <a:pt x="3905" y="9759"/>
                    <a:pt x="4165" y="9863"/>
                  </a:cubicBezTo>
                  <a:cubicBezTo>
                    <a:pt x="4165" y="11945"/>
                    <a:pt x="2539" y="13871"/>
                    <a:pt x="196" y="14756"/>
                  </a:cubicBezTo>
                  <a:cubicBezTo>
                    <a:pt x="-194" y="15068"/>
                    <a:pt x="66" y="15745"/>
                    <a:pt x="392" y="16161"/>
                  </a:cubicBezTo>
                  <a:cubicBezTo>
                    <a:pt x="782" y="16630"/>
                    <a:pt x="1302" y="16838"/>
                    <a:pt x="1758" y="17254"/>
                  </a:cubicBezTo>
                  <a:cubicBezTo>
                    <a:pt x="2278" y="17931"/>
                    <a:pt x="2539" y="18659"/>
                    <a:pt x="2929" y="19336"/>
                  </a:cubicBezTo>
                  <a:cubicBezTo>
                    <a:pt x="3384" y="19961"/>
                    <a:pt x="4490" y="20637"/>
                    <a:pt x="5271" y="20221"/>
                  </a:cubicBezTo>
                  <a:cubicBezTo>
                    <a:pt x="5401" y="20533"/>
                    <a:pt x="5661" y="21002"/>
                    <a:pt x="5857" y="21314"/>
                  </a:cubicBezTo>
                  <a:cubicBezTo>
                    <a:pt x="7028" y="21418"/>
                    <a:pt x="8394" y="21002"/>
                    <a:pt x="8979" y="20117"/>
                  </a:cubicBezTo>
                  <a:cubicBezTo>
                    <a:pt x="9240" y="19805"/>
                    <a:pt x="9370" y="19440"/>
                    <a:pt x="9760" y="19128"/>
                  </a:cubicBezTo>
                  <a:cubicBezTo>
                    <a:pt x="10086" y="18920"/>
                    <a:pt x="10476" y="18816"/>
                    <a:pt x="10866" y="18711"/>
                  </a:cubicBezTo>
                  <a:cubicBezTo>
                    <a:pt x="13208" y="18139"/>
                    <a:pt x="15681" y="17618"/>
                    <a:pt x="18088" y="17931"/>
                  </a:cubicBezTo>
                  <a:cubicBezTo>
                    <a:pt x="18804" y="18035"/>
                    <a:pt x="19910" y="17827"/>
                    <a:pt x="19454" y="17254"/>
                  </a:cubicBezTo>
                  <a:cubicBezTo>
                    <a:pt x="17698" y="16630"/>
                    <a:pt x="17177" y="14756"/>
                    <a:pt x="17828" y="13351"/>
                  </a:cubicBezTo>
                  <a:cubicBezTo>
                    <a:pt x="18543" y="11945"/>
                    <a:pt x="20040" y="10852"/>
                    <a:pt x="21406" y="9863"/>
                  </a:cubicBezTo>
                  <a:cubicBezTo>
                    <a:pt x="20951" y="8874"/>
                    <a:pt x="19910" y="7990"/>
                    <a:pt x="18673" y="7573"/>
                  </a:cubicBezTo>
                  <a:cubicBezTo>
                    <a:pt x="18218" y="7469"/>
                    <a:pt x="17828" y="7365"/>
                    <a:pt x="17437" y="7105"/>
                  </a:cubicBezTo>
                  <a:cubicBezTo>
                    <a:pt x="16592" y="6584"/>
                    <a:pt x="16722" y="5491"/>
                    <a:pt x="17567" y="5023"/>
                  </a:cubicBezTo>
                  <a:cubicBezTo>
                    <a:pt x="15355" y="4711"/>
                    <a:pt x="15941" y="443"/>
                    <a:pt x="12623" y="26"/>
                  </a:cubicBezTo>
                  <a:cubicBezTo>
                    <a:pt x="10736" y="-182"/>
                    <a:pt x="10736" y="911"/>
                    <a:pt x="9500" y="1796"/>
                  </a:cubicBezTo>
                  <a:cubicBezTo>
                    <a:pt x="8719" y="2420"/>
                    <a:pt x="7028" y="2629"/>
                    <a:pt x="6117" y="351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20" name="Shape 3674"/>
            <p:cNvSpPr/>
            <p:nvPr/>
          </p:nvSpPr>
          <p:spPr>
            <a:xfrm>
              <a:off x="19755720" y="1988640"/>
              <a:ext cx="228240" cy="193680"/>
            </a:xfrm>
            <a:custGeom>
              <a:avLst/>
              <a:gdLst>
                <a:gd name="textAreaLeft" fmla="*/ 0 w 228240"/>
                <a:gd name="textAreaRight" fmla="*/ 228600 w 228240"/>
                <a:gd name="textAreaTop" fmla="*/ 0 h 193680"/>
                <a:gd name="textAreaBottom" fmla="*/ 194040 h 193680"/>
              </a:gdLst>
              <a:ahLst/>
              <a:rect l="textAreaLeft" t="textAreaTop" r="textAreaRight" b="textAreaBottom"/>
              <a:pathLst>
                <a:path w="21436" h="21411">
                  <a:moveTo>
                    <a:pt x="0" y="2433"/>
                  </a:moveTo>
                  <a:cubicBezTo>
                    <a:pt x="164" y="3347"/>
                    <a:pt x="246" y="4261"/>
                    <a:pt x="411" y="5271"/>
                  </a:cubicBezTo>
                  <a:cubicBezTo>
                    <a:pt x="944" y="5367"/>
                    <a:pt x="1478" y="5367"/>
                    <a:pt x="1971" y="5463"/>
                  </a:cubicBezTo>
                  <a:cubicBezTo>
                    <a:pt x="2053" y="5463"/>
                    <a:pt x="2217" y="5463"/>
                    <a:pt x="2341" y="5560"/>
                  </a:cubicBezTo>
                  <a:cubicBezTo>
                    <a:pt x="2751" y="5848"/>
                    <a:pt x="2217" y="6570"/>
                    <a:pt x="1725" y="6570"/>
                  </a:cubicBezTo>
                  <a:cubicBezTo>
                    <a:pt x="1273" y="6570"/>
                    <a:pt x="780" y="6281"/>
                    <a:pt x="329" y="6474"/>
                  </a:cubicBezTo>
                  <a:cubicBezTo>
                    <a:pt x="0" y="6762"/>
                    <a:pt x="329" y="7484"/>
                    <a:pt x="698" y="7676"/>
                  </a:cubicBezTo>
                  <a:cubicBezTo>
                    <a:pt x="1109" y="7869"/>
                    <a:pt x="1560" y="7773"/>
                    <a:pt x="1971" y="7869"/>
                  </a:cubicBezTo>
                  <a:cubicBezTo>
                    <a:pt x="2423" y="7965"/>
                    <a:pt x="2833" y="8494"/>
                    <a:pt x="2669" y="8975"/>
                  </a:cubicBezTo>
                  <a:cubicBezTo>
                    <a:pt x="2587" y="9312"/>
                    <a:pt x="2135" y="9504"/>
                    <a:pt x="1889" y="9504"/>
                  </a:cubicBezTo>
                  <a:cubicBezTo>
                    <a:pt x="1396" y="9601"/>
                    <a:pt x="862" y="9504"/>
                    <a:pt x="329" y="9312"/>
                  </a:cubicBezTo>
                  <a:cubicBezTo>
                    <a:pt x="164" y="9889"/>
                    <a:pt x="452" y="10611"/>
                    <a:pt x="862" y="10899"/>
                  </a:cubicBezTo>
                  <a:cubicBezTo>
                    <a:pt x="1314" y="11188"/>
                    <a:pt x="1807" y="11429"/>
                    <a:pt x="2341" y="11621"/>
                  </a:cubicBezTo>
                  <a:cubicBezTo>
                    <a:pt x="3080" y="11814"/>
                    <a:pt x="3860" y="12006"/>
                    <a:pt x="4558" y="12343"/>
                  </a:cubicBezTo>
                  <a:cubicBezTo>
                    <a:pt x="5010" y="11621"/>
                    <a:pt x="5585" y="10996"/>
                    <a:pt x="6201" y="10611"/>
                  </a:cubicBezTo>
                  <a:cubicBezTo>
                    <a:pt x="6899" y="10899"/>
                    <a:pt x="7227" y="11814"/>
                    <a:pt x="7310" y="12631"/>
                  </a:cubicBezTo>
                  <a:cubicBezTo>
                    <a:pt x="7392" y="13449"/>
                    <a:pt x="7392" y="14315"/>
                    <a:pt x="7761" y="15037"/>
                  </a:cubicBezTo>
                  <a:cubicBezTo>
                    <a:pt x="8008" y="15854"/>
                    <a:pt x="8788" y="16480"/>
                    <a:pt x="9486" y="16143"/>
                  </a:cubicBezTo>
                  <a:cubicBezTo>
                    <a:pt x="9486" y="16769"/>
                    <a:pt x="9486" y="17490"/>
                    <a:pt x="9732" y="17971"/>
                  </a:cubicBezTo>
                  <a:cubicBezTo>
                    <a:pt x="9979" y="18452"/>
                    <a:pt x="10595" y="18885"/>
                    <a:pt x="11129" y="18693"/>
                  </a:cubicBezTo>
                  <a:cubicBezTo>
                    <a:pt x="11457" y="18452"/>
                    <a:pt x="11621" y="18067"/>
                    <a:pt x="11991" y="17971"/>
                  </a:cubicBezTo>
                  <a:cubicBezTo>
                    <a:pt x="13264" y="17346"/>
                    <a:pt x="13962" y="20810"/>
                    <a:pt x="15235" y="20280"/>
                  </a:cubicBezTo>
                  <a:cubicBezTo>
                    <a:pt x="15071" y="20713"/>
                    <a:pt x="15317" y="21194"/>
                    <a:pt x="15687" y="21291"/>
                  </a:cubicBezTo>
                  <a:cubicBezTo>
                    <a:pt x="16015" y="21483"/>
                    <a:pt x="16467" y="21387"/>
                    <a:pt x="16795" y="21387"/>
                  </a:cubicBezTo>
                  <a:cubicBezTo>
                    <a:pt x="17576" y="21291"/>
                    <a:pt x="18438" y="21194"/>
                    <a:pt x="19218" y="21098"/>
                  </a:cubicBezTo>
                  <a:cubicBezTo>
                    <a:pt x="19629" y="21002"/>
                    <a:pt x="20081" y="21002"/>
                    <a:pt x="20327" y="20713"/>
                  </a:cubicBezTo>
                  <a:cubicBezTo>
                    <a:pt x="21107" y="19895"/>
                    <a:pt x="20327" y="18067"/>
                    <a:pt x="21025" y="17153"/>
                  </a:cubicBezTo>
                  <a:cubicBezTo>
                    <a:pt x="20409" y="16961"/>
                    <a:pt x="20081" y="15951"/>
                    <a:pt x="20409" y="15325"/>
                  </a:cubicBezTo>
                  <a:cubicBezTo>
                    <a:pt x="20491" y="15133"/>
                    <a:pt x="20656" y="14940"/>
                    <a:pt x="20656" y="14748"/>
                  </a:cubicBezTo>
                  <a:cubicBezTo>
                    <a:pt x="20656" y="14459"/>
                    <a:pt x="20573" y="14219"/>
                    <a:pt x="20491" y="13930"/>
                  </a:cubicBezTo>
                  <a:cubicBezTo>
                    <a:pt x="20327" y="13449"/>
                    <a:pt x="20327" y="12728"/>
                    <a:pt x="20573" y="12198"/>
                  </a:cubicBezTo>
                  <a:cubicBezTo>
                    <a:pt x="20779" y="12535"/>
                    <a:pt x="21025" y="12631"/>
                    <a:pt x="21271" y="12728"/>
                  </a:cubicBezTo>
                  <a:cubicBezTo>
                    <a:pt x="21600" y="12343"/>
                    <a:pt x="21395" y="11717"/>
                    <a:pt x="21025" y="11332"/>
                  </a:cubicBezTo>
                  <a:cubicBezTo>
                    <a:pt x="20697" y="10899"/>
                    <a:pt x="20245" y="10515"/>
                    <a:pt x="20327" y="9985"/>
                  </a:cubicBezTo>
                  <a:cubicBezTo>
                    <a:pt x="20327" y="9697"/>
                    <a:pt x="20491" y="9408"/>
                    <a:pt x="20656" y="9071"/>
                  </a:cubicBezTo>
                  <a:cubicBezTo>
                    <a:pt x="21354" y="7773"/>
                    <a:pt x="21436" y="6185"/>
                    <a:pt x="21436" y="4646"/>
                  </a:cubicBezTo>
                  <a:cubicBezTo>
                    <a:pt x="21436" y="4453"/>
                    <a:pt x="21436" y="4357"/>
                    <a:pt x="21436" y="4165"/>
                  </a:cubicBezTo>
                  <a:cubicBezTo>
                    <a:pt x="21354" y="3732"/>
                    <a:pt x="20943" y="3539"/>
                    <a:pt x="20656" y="3250"/>
                  </a:cubicBezTo>
                  <a:cubicBezTo>
                    <a:pt x="20245" y="2818"/>
                    <a:pt x="19998" y="2144"/>
                    <a:pt x="19547" y="1615"/>
                  </a:cubicBezTo>
                  <a:cubicBezTo>
                    <a:pt x="19218" y="1134"/>
                    <a:pt x="18684" y="605"/>
                    <a:pt x="18068" y="701"/>
                  </a:cubicBezTo>
                  <a:cubicBezTo>
                    <a:pt x="17494" y="797"/>
                    <a:pt x="17124" y="1807"/>
                    <a:pt x="17576" y="2240"/>
                  </a:cubicBezTo>
                  <a:cubicBezTo>
                    <a:pt x="17411" y="2625"/>
                    <a:pt x="16878" y="2529"/>
                    <a:pt x="16631" y="2336"/>
                  </a:cubicBezTo>
                  <a:cubicBezTo>
                    <a:pt x="16385" y="2144"/>
                    <a:pt x="16262" y="1615"/>
                    <a:pt x="16097" y="1230"/>
                  </a:cubicBezTo>
                  <a:cubicBezTo>
                    <a:pt x="15605" y="316"/>
                    <a:pt x="14537" y="-117"/>
                    <a:pt x="13592" y="27"/>
                  </a:cubicBezTo>
                  <a:cubicBezTo>
                    <a:pt x="12648" y="124"/>
                    <a:pt x="11703" y="508"/>
                    <a:pt x="10759" y="701"/>
                  </a:cubicBezTo>
                  <a:cubicBezTo>
                    <a:pt x="9979" y="893"/>
                    <a:pt x="9116" y="893"/>
                    <a:pt x="8541" y="1615"/>
                  </a:cubicBezTo>
                  <a:cubicBezTo>
                    <a:pt x="8008" y="2240"/>
                    <a:pt x="7761" y="3347"/>
                    <a:pt x="7063" y="3732"/>
                  </a:cubicBezTo>
                  <a:cubicBezTo>
                    <a:pt x="6037" y="4357"/>
                    <a:pt x="4805" y="3058"/>
                    <a:pt x="3696" y="3058"/>
                  </a:cubicBezTo>
                  <a:cubicBezTo>
                    <a:pt x="3696" y="2914"/>
                    <a:pt x="3696" y="2818"/>
                    <a:pt x="3696" y="2721"/>
                  </a:cubicBezTo>
                  <a:cubicBezTo>
                    <a:pt x="3532" y="2336"/>
                    <a:pt x="0" y="2336"/>
                    <a:pt x="0" y="243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21" name="Shape 3675"/>
            <p:cNvSpPr/>
            <p:nvPr/>
          </p:nvSpPr>
          <p:spPr>
            <a:xfrm>
              <a:off x="19963080" y="2088360"/>
              <a:ext cx="151200" cy="194040"/>
            </a:xfrm>
            <a:custGeom>
              <a:avLst/>
              <a:gdLst>
                <a:gd name="textAreaLeft" fmla="*/ 0 w 151200"/>
                <a:gd name="textAreaRight" fmla="*/ 151560 w 151200"/>
                <a:gd name="textAreaTop" fmla="*/ 0 h 194040"/>
                <a:gd name="textAreaBottom" fmla="*/ 194400 h 194040"/>
              </a:gdLst>
              <a:ahLst/>
              <a:rect l="textAreaLeft" t="textAreaTop" r="textAreaRight" b="textAreaBottom"/>
              <a:pathLst>
                <a:path w="21600" h="21251">
                  <a:moveTo>
                    <a:pt x="4370" y="9164"/>
                  </a:moveTo>
                  <a:cubicBezTo>
                    <a:pt x="3558" y="9686"/>
                    <a:pt x="3184" y="10588"/>
                    <a:pt x="3309" y="11348"/>
                  </a:cubicBezTo>
                  <a:cubicBezTo>
                    <a:pt x="3309" y="11680"/>
                    <a:pt x="3434" y="11965"/>
                    <a:pt x="3309" y="12250"/>
                  </a:cubicBezTo>
                  <a:cubicBezTo>
                    <a:pt x="3184" y="12582"/>
                    <a:pt x="2747" y="12677"/>
                    <a:pt x="2372" y="12867"/>
                  </a:cubicBezTo>
                  <a:cubicBezTo>
                    <a:pt x="2123" y="13057"/>
                    <a:pt x="1998" y="13484"/>
                    <a:pt x="2372" y="13579"/>
                  </a:cubicBezTo>
                  <a:cubicBezTo>
                    <a:pt x="1623" y="15763"/>
                    <a:pt x="812" y="18042"/>
                    <a:pt x="0" y="20225"/>
                  </a:cubicBezTo>
                  <a:cubicBezTo>
                    <a:pt x="687" y="21317"/>
                    <a:pt x="2747" y="21507"/>
                    <a:pt x="4058" y="20937"/>
                  </a:cubicBezTo>
                  <a:cubicBezTo>
                    <a:pt x="4620" y="20747"/>
                    <a:pt x="4994" y="20415"/>
                    <a:pt x="5119" y="20035"/>
                  </a:cubicBezTo>
                  <a:cubicBezTo>
                    <a:pt x="5681" y="19228"/>
                    <a:pt x="5119" y="18136"/>
                    <a:pt x="4058" y="17757"/>
                  </a:cubicBezTo>
                  <a:cubicBezTo>
                    <a:pt x="4495" y="17045"/>
                    <a:pt x="6055" y="17757"/>
                    <a:pt x="6680" y="17140"/>
                  </a:cubicBezTo>
                  <a:cubicBezTo>
                    <a:pt x="6992" y="16950"/>
                    <a:pt x="6992" y="16570"/>
                    <a:pt x="7117" y="16332"/>
                  </a:cubicBezTo>
                  <a:cubicBezTo>
                    <a:pt x="7366" y="16048"/>
                    <a:pt x="7741" y="15953"/>
                    <a:pt x="8116" y="15763"/>
                  </a:cubicBezTo>
                  <a:cubicBezTo>
                    <a:pt x="9177" y="15431"/>
                    <a:pt x="10488" y="15051"/>
                    <a:pt x="11424" y="15668"/>
                  </a:cubicBezTo>
                  <a:cubicBezTo>
                    <a:pt x="12361" y="16143"/>
                    <a:pt x="12486" y="17234"/>
                    <a:pt x="13484" y="17424"/>
                  </a:cubicBezTo>
                  <a:cubicBezTo>
                    <a:pt x="14421" y="17234"/>
                    <a:pt x="15108" y="16760"/>
                    <a:pt x="15607" y="16143"/>
                  </a:cubicBezTo>
                  <a:cubicBezTo>
                    <a:pt x="15857" y="15953"/>
                    <a:pt x="15982" y="15668"/>
                    <a:pt x="16231" y="15431"/>
                  </a:cubicBezTo>
                  <a:cubicBezTo>
                    <a:pt x="16918" y="15146"/>
                    <a:pt x="17729" y="15336"/>
                    <a:pt x="18354" y="15336"/>
                  </a:cubicBezTo>
                  <a:cubicBezTo>
                    <a:pt x="20164" y="15336"/>
                    <a:pt x="21475" y="13342"/>
                    <a:pt x="20476" y="12250"/>
                  </a:cubicBezTo>
                  <a:cubicBezTo>
                    <a:pt x="20351" y="12060"/>
                    <a:pt x="20039" y="11965"/>
                    <a:pt x="20039" y="11680"/>
                  </a:cubicBezTo>
                  <a:cubicBezTo>
                    <a:pt x="19790" y="11063"/>
                    <a:pt x="20851" y="10588"/>
                    <a:pt x="21600" y="10398"/>
                  </a:cubicBezTo>
                  <a:cubicBezTo>
                    <a:pt x="20601" y="10066"/>
                    <a:pt x="20039" y="9069"/>
                    <a:pt x="20476" y="8262"/>
                  </a:cubicBezTo>
                  <a:cubicBezTo>
                    <a:pt x="19040" y="7787"/>
                    <a:pt x="17292" y="7075"/>
                    <a:pt x="16918" y="5794"/>
                  </a:cubicBezTo>
                  <a:cubicBezTo>
                    <a:pt x="16793" y="5509"/>
                    <a:pt x="16793" y="5082"/>
                    <a:pt x="16418" y="4987"/>
                  </a:cubicBezTo>
                  <a:cubicBezTo>
                    <a:pt x="16106" y="4892"/>
                    <a:pt x="15732" y="4987"/>
                    <a:pt x="15357" y="4987"/>
                  </a:cubicBezTo>
                  <a:cubicBezTo>
                    <a:pt x="14546" y="4987"/>
                    <a:pt x="13797" y="4512"/>
                    <a:pt x="13672" y="3895"/>
                  </a:cubicBezTo>
                  <a:cubicBezTo>
                    <a:pt x="13484" y="3325"/>
                    <a:pt x="13672" y="2613"/>
                    <a:pt x="13921" y="1996"/>
                  </a:cubicBezTo>
                  <a:cubicBezTo>
                    <a:pt x="12610" y="1426"/>
                    <a:pt x="11299" y="809"/>
                    <a:pt x="9988" y="239"/>
                  </a:cubicBezTo>
                  <a:cubicBezTo>
                    <a:pt x="9739" y="97"/>
                    <a:pt x="9427" y="2"/>
                    <a:pt x="9177" y="2"/>
                  </a:cubicBezTo>
                  <a:cubicBezTo>
                    <a:pt x="7616" y="-93"/>
                    <a:pt x="6805" y="2803"/>
                    <a:pt x="6430" y="3610"/>
                  </a:cubicBezTo>
                  <a:cubicBezTo>
                    <a:pt x="5931" y="4512"/>
                    <a:pt x="5494" y="5509"/>
                    <a:pt x="5119" y="6506"/>
                  </a:cubicBezTo>
                  <a:cubicBezTo>
                    <a:pt x="5119" y="6980"/>
                    <a:pt x="4869" y="8784"/>
                    <a:pt x="4370" y="9164"/>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22" name="Shape 3676"/>
            <p:cNvSpPr/>
            <p:nvPr/>
          </p:nvSpPr>
          <p:spPr>
            <a:xfrm>
              <a:off x="20773080" y="5499000"/>
              <a:ext cx="258120" cy="218880"/>
            </a:xfrm>
            <a:custGeom>
              <a:avLst/>
              <a:gdLst>
                <a:gd name="textAreaLeft" fmla="*/ 0 w 258120"/>
                <a:gd name="textAreaRight" fmla="*/ 258480 w 258120"/>
                <a:gd name="textAreaTop" fmla="*/ 0 h 218880"/>
                <a:gd name="textAreaBottom" fmla="*/ 219240 h 218880"/>
              </a:gdLst>
              <a:ahLst/>
              <a:rect l="textAreaLeft" t="textAreaTop" r="textAreaRight" b="textAreaBottom"/>
              <a:pathLst>
                <a:path w="21560" h="21455">
                  <a:moveTo>
                    <a:pt x="21341" y="6913"/>
                  </a:moveTo>
                  <a:cubicBezTo>
                    <a:pt x="21341" y="6446"/>
                    <a:pt x="21414" y="6020"/>
                    <a:pt x="21414" y="5553"/>
                  </a:cubicBezTo>
                  <a:cubicBezTo>
                    <a:pt x="20285" y="5127"/>
                    <a:pt x="19047" y="4830"/>
                    <a:pt x="17845" y="4745"/>
                  </a:cubicBezTo>
                  <a:cubicBezTo>
                    <a:pt x="17517" y="4745"/>
                    <a:pt x="17153" y="4745"/>
                    <a:pt x="16898" y="4575"/>
                  </a:cubicBezTo>
                  <a:cubicBezTo>
                    <a:pt x="16679" y="4490"/>
                    <a:pt x="16533" y="4235"/>
                    <a:pt x="16388" y="4022"/>
                  </a:cubicBezTo>
                  <a:cubicBezTo>
                    <a:pt x="15550" y="3129"/>
                    <a:pt x="14457" y="2534"/>
                    <a:pt x="13328" y="2236"/>
                  </a:cubicBezTo>
                  <a:cubicBezTo>
                    <a:pt x="12563" y="2066"/>
                    <a:pt x="11470" y="2364"/>
                    <a:pt x="11397" y="3257"/>
                  </a:cubicBezTo>
                  <a:cubicBezTo>
                    <a:pt x="11397" y="3427"/>
                    <a:pt x="11397" y="3682"/>
                    <a:pt x="11397" y="3852"/>
                  </a:cubicBezTo>
                  <a:cubicBezTo>
                    <a:pt x="11179" y="4830"/>
                    <a:pt x="9722" y="4235"/>
                    <a:pt x="9212" y="5042"/>
                  </a:cubicBezTo>
                  <a:cubicBezTo>
                    <a:pt x="8738" y="5638"/>
                    <a:pt x="9030" y="6998"/>
                    <a:pt x="8338" y="7168"/>
                  </a:cubicBezTo>
                  <a:cubicBezTo>
                    <a:pt x="8192" y="7168"/>
                    <a:pt x="8046" y="7168"/>
                    <a:pt x="7901" y="7083"/>
                  </a:cubicBezTo>
                  <a:cubicBezTo>
                    <a:pt x="7500" y="6913"/>
                    <a:pt x="7063" y="6786"/>
                    <a:pt x="6844" y="6446"/>
                  </a:cubicBezTo>
                  <a:cubicBezTo>
                    <a:pt x="6516" y="6105"/>
                    <a:pt x="6444" y="5468"/>
                    <a:pt x="6844" y="5127"/>
                  </a:cubicBezTo>
                  <a:cubicBezTo>
                    <a:pt x="6444" y="5042"/>
                    <a:pt x="5970" y="4830"/>
                    <a:pt x="5679" y="4490"/>
                  </a:cubicBezTo>
                  <a:cubicBezTo>
                    <a:pt x="5752" y="3852"/>
                    <a:pt x="5897" y="3257"/>
                    <a:pt x="6225" y="2789"/>
                  </a:cubicBezTo>
                  <a:cubicBezTo>
                    <a:pt x="5824" y="2704"/>
                    <a:pt x="6152" y="2066"/>
                    <a:pt x="6371" y="1811"/>
                  </a:cubicBezTo>
                  <a:cubicBezTo>
                    <a:pt x="4768" y="578"/>
                    <a:pt x="2692" y="-145"/>
                    <a:pt x="798" y="25"/>
                  </a:cubicBezTo>
                  <a:cubicBezTo>
                    <a:pt x="397" y="280"/>
                    <a:pt x="179" y="833"/>
                    <a:pt x="33" y="1258"/>
                  </a:cubicBezTo>
                  <a:cubicBezTo>
                    <a:pt x="33" y="1471"/>
                    <a:pt x="-40" y="1556"/>
                    <a:pt x="33" y="1726"/>
                  </a:cubicBezTo>
                  <a:cubicBezTo>
                    <a:pt x="251" y="2236"/>
                    <a:pt x="1235" y="1811"/>
                    <a:pt x="1490" y="2364"/>
                  </a:cubicBezTo>
                  <a:cubicBezTo>
                    <a:pt x="1563" y="2534"/>
                    <a:pt x="1490" y="2789"/>
                    <a:pt x="1490" y="2959"/>
                  </a:cubicBezTo>
                  <a:cubicBezTo>
                    <a:pt x="1417" y="3512"/>
                    <a:pt x="1781" y="4022"/>
                    <a:pt x="2255" y="4235"/>
                  </a:cubicBezTo>
                  <a:cubicBezTo>
                    <a:pt x="2692" y="4405"/>
                    <a:pt x="3165" y="4320"/>
                    <a:pt x="3602" y="4149"/>
                  </a:cubicBezTo>
                  <a:cubicBezTo>
                    <a:pt x="3785" y="4022"/>
                    <a:pt x="3930" y="4022"/>
                    <a:pt x="4076" y="4149"/>
                  </a:cubicBezTo>
                  <a:cubicBezTo>
                    <a:pt x="4149" y="4235"/>
                    <a:pt x="4149" y="4405"/>
                    <a:pt x="4076" y="4490"/>
                  </a:cubicBezTo>
                  <a:cubicBezTo>
                    <a:pt x="3857" y="5127"/>
                    <a:pt x="3165" y="5553"/>
                    <a:pt x="2546" y="5298"/>
                  </a:cubicBezTo>
                  <a:cubicBezTo>
                    <a:pt x="2400" y="5212"/>
                    <a:pt x="2255" y="5127"/>
                    <a:pt x="2073" y="5127"/>
                  </a:cubicBezTo>
                  <a:cubicBezTo>
                    <a:pt x="1927" y="5127"/>
                    <a:pt x="1708" y="5212"/>
                    <a:pt x="1708" y="5468"/>
                  </a:cubicBezTo>
                  <a:cubicBezTo>
                    <a:pt x="1708" y="5553"/>
                    <a:pt x="1708" y="5553"/>
                    <a:pt x="1781" y="5638"/>
                  </a:cubicBezTo>
                  <a:cubicBezTo>
                    <a:pt x="2073" y="6275"/>
                    <a:pt x="2473" y="6998"/>
                    <a:pt x="3093" y="7338"/>
                  </a:cubicBezTo>
                  <a:cubicBezTo>
                    <a:pt x="3311" y="7424"/>
                    <a:pt x="3602" y="7509"/>
                    <a:pt x="3857" y="7594"/>
                  </a:cubicBezTo>
                  <a:cubicBezTo>
                    <a:pt x="4768" y="7806"/>
                    <a:pt x="5679" y="8061"/>
                    <a:pt x="6589" y="8401"/>
                  </a:cubicBezTo>
                  <a:cubicBezTo>
                    <a:pt x="7755" y="8869"/>
                    <a:pt x="8884" y="9294"/>
                    <a:pt x="10050" y="9847"/>
                  </a:cubicBezTo>
                  <a:cubicBezTo>
                    <a:pt x="10560" y="10102"/>
                    <a:pt x="11106" y="10357"/>
                    <a:pt x="11652" y="10570"/>
                  </a:cubicBezTo>
                  <a:cubicBezTo>
                    <a:pt x="13182" y="11250"/>
                    <a:pt x="14785" y="12228"/>
                    <a:pt x="15222" y="14099"/>
                  </a:cubicBezTo>
                  <a:cubicBezTo>
                    <a:pt x="15368" y="14907"/>
                    <a:pt x="15295" y="15800"/>
                    <a:pt x="14712" y="16268"/>
                  </a:cubicBezTo>
                  <a:cubicBezTo>
                    <a:pt x="14530" y="16438"/>
                    <a:pt x="14311" y="16438"/>
                    <a:pt x="14166" y="16608"/>
                  </a:cubicBezTo>
                  <a:cubicBezTo>
                    <a:pt x="13692" y="16990"/>
                    <a:pt x="13401" y="17671"/>
                    <a:pt x="13474" y="18309"/>
                  </a:cubicBezTo>
                  <a:cubicBezTo>
                    <a:pt x="13547" y="18946"/>
                    <a:pt x="14020" y="19542"/>
                    <a:pt x="14530" y="19669"/>
                  </a:cubicBezTo>
                  <a:cubicBezTo>
                    <a:pt x="14931" y="19754"/>
                    <a:pt x="15368" y="19669"/>
                    <a:pt x="15841" y="19542"/>
                  </a:cubicBezTo>
                  <a:cubicBezTo>
                    <a:pt x="16242" y="19372"/>
                    <a:pt x="16715" y="19244"/>
                    <a:pt x="17007" y="18861"/>
                  </a:cubicBezTo>
                  <a:cubicBezTo>
                    <a:pt x="17189" y="18691"/>
                    <a:pt x="17225" y="18479"/>
                    <a:pt x="17371" y="18394"/>
                  </a:cubicBezTo>
                  <a:cubicBezTo>
                    <a:pt x="17735" y="18138"/>
                    <a:pt x="18209" y="18309"/>
                    <a:pt x="18500" y="18564"/>
                  </a:cubicBezTo>
                  <a:cubicBezTo>
                    <a:pt x="19192" y="19031"/>
                    <a:pt x="19739" y="19754"/>
                    <a:pt x="20139" y="20647"/>
                  </a:cubicBezTo>
                  <a:cubicBezTo>
                    <a:pt x="20212" y="20817"/>
                    <a:pt x="20285" y="21072"/>
                    <a:pt x="20431" y="21157"/>
                  </a:cubicBezTo>
                  <a:cubicBezTo>
                    <a:pt x="20577" y="21242"/>
                    <a:pt x="20722" y="21327"/>
                    <a:pt x="20977" y="21327"/>
                  </a:cubicBezTo>
                  <a:cubicBezTo>
                    <a:pt x="21196" y="21327"/>
                    <a:pt x="21414" y="21455"/>
                    <a:pt x="21560" y="21455"/>
                  </a:cubicBezTo>
                  <a:cubicBezTo>
                    <a:pt x="21196" y="16608"/>
                    <a:pt x="21196" y="11718"/>
                    <a:pt x="21341" y="6913"/>
                  </a:cubicBezTo>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23" name="Shape 3677"/>
            <p:cNvSpPr/>
            <p:nvPr/>
          </p:nvSpPr>
          <p:spPr>
            <a:xfrm>
              <a:off x="18143640" y="2302560"/>
              <a:ext cx="4092480" cy="3184560"/>
            </a:xfrm>
            <a:custGeom>
              <a:avLst/>
              <a:gdLst>
                <a:gd name="textAreaLeft" fmla="*/ 0 w 4092480"/>
                <a:gd name="textAreaRight" fmla="*/ 4092840 w 4092480"/>
                <a:gd name="textAreaTop" fmla="*/ 0 h 3184560"/>
                <a:gd name="textAreaBottom" fmla="*/ 3184920 h 3184560"/>
              </a:gdLst>
              <a:ahLst/>
              <a:rect l="textAreaLeft" t="textAreaTop" r="textAreaRight" b="textAreaBottom"/>
              <a:pathLst>
                <a:path w="21594" h="21600">
                  <a:moveTo>
                    <a:pt x="21591" y="6525"/>
                  </a:moveTo>
                  <a:cubicBezTo>
                    <a:pt x="21573" y="6489"/>
                    <a:pt x="21543" y="6463"/>
                    <a:pt x="21511" y="6457"/>
                  </a:cubicBezTo>
                  <a:cubicBezTo>
                    <a:pt x="21499" y="6457"/>
                    <a:pt x="21495" y="6451"/>
                    <a:pt x="21486" y="6451"/>
                  </a:cubicBezTo>
                  <a:cubicBezTo>
                    <a:pt x="21451" y="6427"/>
                    <a:pt x="21481" y="6345"/>
                    <a:pt x="21446" y="6321"/>
                  </a:cubicBezTo>
                  <a:cubicBezTo>
                    <a:pt x="21437" y="6315"/>
                    <a:pt x="21433" y="6315"/>
                    <a:pt x="21423" y="6309"/>
                  </a:cubicBezTo>
                  <a:cubicBezTo>
                    <a:pt x="21403" y="6303"/>
                    <a:pt x="21389" y="6283"/>
                    <a:pt x="21384" y="6265"/>
                  </a:cubicBezTo>
                  <a:cubicBezTo>
                    <a:pt x="21380" y="6247"/>
                    <a:pt x="21380" y="6235"/>
                    <a:pt x="21375" y="6215"/>
                  </a:cubicBezTo>
                  <a:cubicBezTo>
                    <a:pt x="21371" y="6191"/>
                    <a:pt x="21354" y="6179"/>
                    <a:pt x="21341" y="6158"/>
                  </a:cubicBezTo>
                  <a:cubicBezTo>
                    <a:pt x="21322" y="6135"/>
                    <a:pt x="21292" y="6117"/>
                    <a:pt x="21279" y="6135"/>
                  </a:cubicBezTo>
                  <a:cubicBezTo>
                    <a:pt x="21269" y="6147"/>
                    <a:pt x="21269" y="6173"/>
                    <a:pt x="21265" y="6185"/>
                  </a:cubicBezTo>
                  <a:cubicBezTo>
                    <a:pt x="21253" y="6215"/>
                    <a:pt x="21216" y="6226"/>
                    <a:pt x="21191" y="6209"/>
                  </a:cubicBezTo>
                  <a:cubicBezTo>
                    <a:pt x="21168" y="6191"/>
                    <a:pt x="21157" y="6152"/>
                    <a:pt x="21157" y="6117"/>
                  </a:cubicBezTo>
                  <a:cubicBezTo>
                    <a:pt x="21120" y="6135"/>
                    <a:pt x="21072" y="6084"/>
                    <a:pt x="21032" y="6102"/>
                  </a:cubicBezTo>
                  <a:cubicBezTo>
                    <a:pt x="21014" y="6111"/>
                    <a:pt x="21003" y="6135"/>
                    <a:pt x="21003" y="6158"/>
                  </a:cubicBezTo>
                  <a:cubicBezTo>
                    <a:pt x="21019" y="6185"/>
                    <a:pt x="21032" y="6215"/>
                    <a:pt x="21037" y="6247"/>
                  </a:cubicBezTo>
                  <a:lnTo>
                    <a:pt x="21037" y="6265"/>
                  </a:lnTo>
                  <a:cubicBezTo>
                    <a:pt x="21037" y="6271"/>
                    <a:pt x="21028" y="6277"/>
                    <a:pt x="21028" y="6283"/>
                  </a:cubicBezTo>
                  <a:cubicBezTo>
                    <a:pt x="21014" y="6309"/>
                    <a:pt x="21055" y="6345"/>
                    <a:pt x="21037" y="6371"/>
                  </a:cubicBezTo>
                  <a:cubicBezTo>
                    <a:pt x="21032" y="6377"/>
                    <a:pt x="21028" y="6377"/>
                    <a:pt x="21023" y="6377"/>
                  </a:cubicBezTo>
                  <a:cubicBezTo>
                    <a:pt x="20993" y="6383"/>
                    <a:pt x="20959" y="6365"/>
                    <a:pt x="20945" y="6327"/>
                  </a:cubicBezTo>
                  <a:cubicBezTo>
                    <a:pt x="20940" y="6277"/>
                    <a:pt x="20984" y="6220"/>
                    <a:pt x="20966" y="6173"/>
                  </a:cubicBezTo>
                  <a:cubicBezTo>
                    <a:pt x="20954" y="6147"/>
                    <a:pt x="20936" y="6135"/>
                    <a:pt x="20927" y="6111"/>
                  </a:cubicBezTo>
                  <a:cubicBezTo>
                    <a:pt x="20906" y="6067"/>
                    <a:pt x="20927" y="6016"/>
                    <a:pt x="20917" y="5972"/>
                  </a:cubicBezTo>
                  <a:cubicBezTo>
                    <a:pt x="20911" y="5954"/>
                    <a:pt x="20901" y="5937"/>
                    <a:pt x="20892" y="5925"/>
                  </a:cubicBezTo>
                  <a:cubicBezTo>
                    <a:pt x="20878" y="5898"/>
                    <a:pt x="20853" y="5869"/>
                    <a:pt x="20830" y="5886"/>
                  </a:cubicBezTo>
                  <a:cubicBezTo>
                    <a:pt x="20835" y="5869"/>
                    <a:pt x="20825" y="5848"/>
                    <a:pt x="20816" y="5836"/>
                  </a:cubicBezTo>
                  <a:cubicBezTo>
                    <a:pt x="20800" y="5824"/>
                    <a:pt x="20786" y="5818"/>
                    <a:pt x="20773" y="5812"/>
                  </a:cubicBezTo>
                  <a:cubicBezTo>
                    <a:pt x="20747" y="5795"/>
                    <a:pt x="20729" y="5762"/>
                    <a:pt x="20724" y="5724"/>
                  </a:cubicBezTo>
                  <a:cubicBezTo>
                    <a:pt x="20681" y="5700"/>
                    <a:pt x="20641" y="5644"/>
                    <a:pt x="20618" y="5588"/>
                  </a:cubicBezTo>
                  <a:cubicBezTo>
                    <a:pt x="20602" y="5558"/>
                    <a:pt x="20584" y="5514"/>
                    <a:pt x="20554" y="5520"/>
                  </a:cubicBezTo>
                  <a:cubicBezTo>
                    <a:pt x="20545" y="5520"/>
                    <a:pt x="20536" y="5526"/>
                    <a:pt x="20526" y="5526"/>
                  </a:cubicBezTo>
                  <a:cubicBezTo>
                    <a:pt x="20510" y="5526"/>
                    <a:pt x="20497" y="5508"/>
                    <a:pt x="20487" y="5496"/>
                  </a:cubicBezTo>
                  <a:cubicBezTo>
                    <a:pt x="20453" y="5446"/>
                    <a:pt x="20409" y="5396"/>
                    <a:pt x="20365" y="5360"/>
                  </a:cubicBezTo>
                  <a:cubicBezTo>
                    <a:pt x="20342" y="5333"/>
                    <a:pt x="20317" y="5304"/>
                    <a:pt x="20290" y="5277"/>
                  </a:cubicBezTo>
                  <a:cubicBezTo>
                    <a:pt x="20241" y="5230"/>
                    <a:pt x="20193" y="5180"/>
                    <a:pt x="20149" y="5129"/>
                  </a:cubicBezTo>
                  <a:cubicBezTo>
                    <a:pt x="20145" y="5129"/>
                    <a:pt x="20145" y="5124"/>
                    <a:pt x="20140" y="5124"/>
                  </a:cubicBezTo>
                  <a:cubicBezTo>
                    <a:pt x="20131" y="5124"/>
                    <a:pt x="20126" y="5129"/>
                    <a:pt x="20115" y="5129"/>
                  </a:cubicBezTo>
                  <a:cubicBezTo>
                    <a:pt x="20087" y="5147"/>
                    <a:pt x="20053" y="5124"/>
                    <a:pt x="20025" y="5100"/>
                  </a:cubicBezTo>
                  <a:cubicBezTo>
                    <a:pt x="20000" y="5073"/>
                    <a:pt x="19977" y="5038"/>
                    <a:pt x="19951" y="5005"/>
                  </a:cubicBezTo>
                  <a:cubicBezTo>
                    <a:pt x="19942" y="4988"/>
                    <a:pt x="19917" y="4961"/>
                    <a:pt x="19903" y="4982"/>
                  </a:cubicBezTo>
                  <a:cubicBezTo>
                    <a:pt x="19899" y="4949"/>
                    <a:pt x="19859" y="4937"/>
                    <a:pt x="19850" y="4970"/>
                  </a:cubicBezTo>
                  <a:cubicBezTo>
                    <a:pt x="19855" y="4943"/>
                    <a:pt x="19836" y="4925"/>
                    <a:pt x="19816" y="4920"/>
                  </a:cubicBezTo>
                  <a:cubicBezTo>
                    <a:pt x="19797" y="4914"/>
                    <a:pt x="19779" y="4920"/>
                    <a:pt x="19763" y="4908"/>
                  </a:cubicBezTo>
                  <a:cubicBezTo>
                    <a:pt x="19754" y="4899"/>
                    <a:pt x="19744" y="4887"/>
                    <a:pt x="19735" y="4875"/>
                  </a:cubicBezTo>
                  <a:cubicBezTo>
                    <a:pt x="19724" y="4869"/>
                    <a:pt x="19705" y="4869"/>
                    <a:pt x="19705" y="4881"/>
                  </a:cubicBezTo>
                  <a:cubicBezTo>
                    <a:pt x="19701" y="4857"/>
                    <a:pt x="19675" y="4846"/>
                    <a:pt x="19657" y="4852"/>
                  </a:cubicBezTo>
                  <a:cubicBezTo>
                    <a:pt x="19639" y="4857"/>
                    <a:pt x="19618" y="4869"/>
                    <a:pt x="19600" y="4875"/>
                  </a:cubicBezTo>
                  <a:cubicBezTo>
                    <a:pt x="19581" y="4881"/>
                    <a:pt x="19556" y="4875"/>
                    <a:pt x="19547" y="4857"/>
                  </a:cubicBezTo>
                  <a:cubicBezTo>
                    <a:pt x="19508" y="4881"/>
                    <a:pt x="19468" y="4881"/>
                    <a:pt x="19429" y="4875"/>
                  </a:cubicBezTo>
                  <a:cubicBezTo>
                    <a:pt x="19406" y="4819"/>
                    <a:pt x="19324" y="4875"/>
                    <a:pt x="19296" y="4825"/>
                  </a:cubicBezTo>
                  <a:cubicBezTo>
                    <a:pt x="19291" y="4819"/>
                    <a:pt x="19287" y="4807"/>
                    <a:pt x="19280" y="4795"/>
                  </a:cubicBezTo>
                  <a:cubicBezTo>
                    <a:pt x="19261" y="4769"/>
                    <a:pt x="19227" y="4789"/>
                    <a:pt x="19199" y="4795"/>
                  </a:cubicBezTo>
                  <a:cubicBezTo>
                    <a:pt x="19160" y="4801"/>
                    <a:pt x="19133" y="4763"/>
                    <a:pt x="19098" y="4745"/>
                  </a:cubicBezTo>
                  <a:cubicBezTo>
                    <a:pt x="19066" y="4727"/>
                    <a:pt x="19015" y="4733"/>
                    <a:pt x="19002" y="4778"/>
                  </a:cubicBezTo>
                  <a:cubicBezTo>
                    <a:pt x="19015" y="4778"/>
                    <a:pt x="19011" y="4807"/>
                    <a:pt x="19006" y="4825"/>
                  </a:cubicBezTo>
                  <a:cubicBezTo>
                    <a:pt x="18997" y="4863"/>
                    <a:pt x="19006" y="4914"/>
                    <a:pt x="19034" y="4937"/>
                  </a:cubicBezTo>
                  <a:cubicBezTo>
                    <a:pt x="19029" y="4955"/>
                    <a:pt x="19020" y="4976"/>
                    <a:pt x="19020" y="4993"/>
                  </a:cubicBezTo>
                  <a:cubicBezTo>
                    <a:pt x="19020" y="5011"/>
                    <a:pt x="19025" y="5038"/>
                    <a:pt x="19034" y="5050"/>
                  </a:cubicBezTo>
                  <a:cubicBezTo>
                    <a:pt x="19041" y="5056"/>
                    <a:pt x="19050" y="5056"/>
                    <a:pt x="19050" y="5067"/>
                  </a:cubicBezTo>
                  <a:cubicBezTo>
                    <a:pt x="19054" y="5079"/>
                    <a:pt x="19045" y="5094"/>
                    <a:pt x="19041" y="5106"/>
                  </a:cubicBezTo>
                  <a:cubicBezTo>
                    <a:pt x="19041" y="5124"/>
                    <a:pt x="19054" y="5141"/>
                    <a:pt x="19059" y="5162"/>
                  </a:cubicBezTo>
                  <a:cubicBezTo>
                    <a:pt x="19064" y="5186"/>
                    <a:pt x="19054" y="5209"/>
                    <a:pt x="19045" y="5236"/>
                  </a:cubicBezTo>
                  <a:cubicBezTo>
                    <a:pt x="19041" y="5242"/>
                    <a:pt x="19041" y="5254"/>
                    <a:pt x="19034" y="5260"/>
                  </a:cubicBezTo>
                  <a:cubicBezTo>
                    <a:pt x="19020" y="5292"/>
                    <a:pt x="18992" y="5304"/>
                    <a:pt x="18962" y="5304"/>
                  </a:cubicBezTo>
                  <a:cubicBezTo>
                    <a:pt x="18967" y="5316"/>
                    <a:pt x="18967" y="5328"/>
                    <a:pt x="18967" y="5339"/>
                  </a:cubicBezTo>
                  <a:cubicBezTo>
                    <a:pt x="18967" y="5354"/>
                    <a:pt x="18962" y="5366"/>
                    <a:pt x="18953" y="5372"/>
                  </a:cubicBezTo>
                  <a:cubicBezTo>
                    <a:pt x="18949" y="5378"/>
                    <a:pt x="18937" y="5372"/>
                    <a:pt x="18928" y="5372"/>
                  </a:cubicBezTo>
                  <a:cubicBezTo>
                    <a:pt x="18905" y="5360"/>
                    <a:pt x="18875" y="5354"/>
                    <a:pt x="18852" y="5339"/>
                  </a:cubicBezTo>
                  <a:cubicBezTo>
                    <a:pt x="18843" y="5333"/>
                    <a:pt x="18827" y="5328"/>
                    <a:pt x="18822" y="5316"/>
                  </a:cubicBezTo>
                  <a:cubicBezTo>
                    <a:pt x="18818" y="5292"/>
                    <a:pt x="18836" y="5271"/>
                    <a:pt x="18836" y="5248"/>
                  </a:cubicBezTo>
                  <a:cubicBezTo>
                    <a:pt x="18836" y="5230"/>
                    <a:pt x="18822" y="5209"/>
                    <a:pt x="18808" y="5203"/>
                  </a:cubicBezTo>
                  <a:lnTo>
                    <a:pt x="18765" y="5186"/>
                  </a:lnTo>
                  <a:cubicBezTo>
                    <a:pt x="18730" y="5168"/>
                    <a:pt x="18716" y="5112"/>
                    <a:pt x="18730" y="5073"/>
                  </a:cubicBezTo>
                  <a:cubicBezTo>
                    <a:pt x="18712" y="5079"/>
                    <a:pt x="18698" y="5061"/>
                    <a:pt x="18686" y="5044"/>
                  </a:cubicBezTo>
                  <a:cubicBezTo>
                    <a:pt x="18677" y="5023"/>
                    <a:pt x="18677" y="4999"/>
                    <a:pt x="18682" y="4976"/>
                  </a:cubicBezTo>
                  <a:cubicBezTo>
                    <a:pt x="18707" y="4970"/>
                    <a:pt x="18730" y="4955"/>
                    <a:pt x="18751" y="4970"/>
                  </a:cubicBezTo>
                  <a:cubicBezTo>
                    <a:pt x="18774" y="4976"/>
                    <a:pt x="18788" y="5011"/>
                    <a:pt x="18774" y="5038"/>
                  </a:cubicBezTo>
                  <a:cubicBezTo>
                    <a:pt x="18778" y="5050"/>
                    <a:pt x="18788" y="5050"/>
                    <a:pt x="18799" y="5044"/>
                  </a:cubicBezTo>
                  <a:cubicBezTo>
                    <a:pt x="18808" y="5038"/>
                    <a:pt x="18813" y="5032"/>
                    <a:pt x="18818" y="5017"/>
                  </a:cubicBezTo>
                  <a:cubicBezTo>
                    <a:pt x="18831" y="4993"/>
                    <a:pt x="18847" y="4976"/>
                    <a:pt x="18857" y="4943"/>
                  </a:cubicBezTo>
                  <a:cubicBezTo>
                    <a:pt x="18847" y="4937"/>
                    <a:pt x="18843" y="4920"/>
                    <a:pt x="18847" y="4908"/>
                  </a:cubicBezTo>
                  <a:cubicBezTo>
                    <a:pt x="18852" y="4893"/>
                    <a:pt x="18861" y="4881"/>
                    <a:pt x="18861" y="4863"/>
                  </a:cubicBezTo>
                  <a:cubicBezTo>
                    <a:pt x="18870" y="4831"/>
                    <a:pt x="18852" y="4795"/>
                    <a:pt x="18827" y="4789"/>
                  </a:cubicBezTo>
                  <a:cubicBezTo>
                    <a:pt x="18818" y="4784"/>
                    <a:pt x="18808" y="4789"/>
                    <a:pt x="18799" y="4784"/>
                  </a:cubicBezTo>
                  <a:cubicBezTo>
                    <a:pt x="18788" y="4784"/>
                    <a:pt x="18778" y="4778"/>
                    <a:pt x="18769" y="4769"/>
                  </a:cubicBezTo>
                  <a:cubicBezTo>
                    <a:pt x="18739" y="4757"/>
                    <a:pt x="18707" y="4739"/>
                    <a:pt x="18677" y="4727"/>
                  </a:cubicBezTo>
                  <a:cubicBezTo>
                    <a:pt x="18668" y="4721"/>
                    <a:pt x="18661" y="4721"/>
                    <a:pt x="18650" y="4721"/>
                  </a:cubicBezTo>
                  <a:cubicBezTo>
                    <a:pt x="18640" y="4721"/>
                    <a:pt x="18629" y="4727"/>
                    <a:pt x="18624" y="4739"/>
                  </a:cubicBezTo>
                  <a:cubicBezTo>
                    <a:pt x="18620" y="4751"/>
                    <a:pt x="18624" y="4763"/>
                    <a:pt x="18629" y="4778"/>
                  </a:cubicBezTo>
                  <a:cubicBezTo>
                    <a:pt x="18634" y="4787"/>
                    <a:pt x="18631" y="4804"/>
                    <a:pt x="18622" y="4813"/>
                  </a:cubicBezTo>
                  <a:cubicBezTo>
                    <a:pt x="18627" y="4810"/>
                    <a:pt x="18629" y="4822"/>
                    <a:pt x="18629" y="4831"/>
                  </a:cubicBezTo>
                  <a:cubicBezTo>
                    <a:pt x="18624" y="4840"/>
                    <a:pt x="18620" y="4846"/>
                    <a:pt x="18615" y="4846"/>
                  </a:cubicBezTo>
                  <a:cubicBezTo>
                    <a:pt x="18611" y="4846"/>
                    <a:pt x="18601" y="4846"/>
                    <a:pt x="18597" y="4852"/>
                  </a:cubicBezTo>
                  <a:cubicBezTo>
                    <a:pt x="18581" y="4857"/>
                    <a:pt x="18581" y="4887"/>
                    <a:pt x="18581" y="4908"/>
                  </a:cubicBezTo>
                  <a:cubicBezTo>
                    <a:pt x="18581" y="4943"/>
                    <a:pt x="18576" y="4976"/>
                    <a:pt x="18567" y="5005"/>
                  </a:cubicBezTo>
                  <a:cubicBezTo>
                    <a:pt x="18553" y="4993"/>
                    <a:pt x="18532" y="4982"/>
                    <a:pt x="18518" y="4970"/>
                  </a:cubicBezTo>
                  <a:cubicBezTo>
                    <a:pt x="18509" y="4993"/>
                    <a:pt x="18493" y="5017"/>
                    <a:pt x="18470" y="5023"/>
                  </a:cubicBezTo>
                  <a:cubicBezTo>
                    <a:pt x="18456" y="5032"/>
                    <a:pt x="18440" y="5023"/>
                    <a:pt x="18431" y="5017"/>
                  </a:cubicBezTo>
                  <a:cubicBezTo>
                    <a:pt x="18383" y="4999"/>
                    <a:pt x="18334" y="4976"/>
                    <a:pt x="18291" y="4943"/>
                  </a:cubicBezTo>
                  <a:cubicBezTo>
                    <a:pt x="18282" y="4970"/>
                    <a:pt x="18268" y="4988"/>
                    <a:pt x="18249" y="4999"/>
                  </a:cubicBezTo>
                  <a:cubicBezTo>
                    <a:pt x="18233" y="5005"/>
                    <a:pt x="18219" y="4999"/>
                    <a:pt x="18201" y="4993"/>
                  </a:cubicBezTo>
                  <a:cubicBezTo>
                    <a:pt x="18176" y="4982"/>
                    <a:pt x="18153" y="4976"/>
                    <a:pt x="18127" y="4961"/>
                  </a:cubicBezTo>
                  <a:cubicBezTo>
                    <a:pt x="18123" y="4937"/>
                    <a:pt x="18098" y="4937"/>
                    <a:pt x="18079" y="4943"/>
                  </a:cubicBezTo>
                  <a:cubicBezTo>
                    <a:pt x="18061" y="4949"/>
                    <a:pt x="18040" y="4961"/>
                    <a:pt x="18026" y="4955"/>
                  </a:cubicBezTo>
                  <a:cubicBezTo>
                    <a:pt x="18017" y="4949"/>
                    <a:pt x="18015" y="4943"/>
                    <a:pt x="18003" y="4943"/>
                  </a:cubicBezTo>
                  <a:cubicBezTo>
                    <a:pt x="17994" y="4943"/>
                    <a:pt x="17987" y="4943"/>
                    <a:pt x="17978" y="4949"/>
                  </a:cubicBezTo>
                  <a:cubicBezTo>
                    <a:pt x="17948" y="4961"/>
                    <a:pt x="17916" y="4961"/>
                    <a:pt x="17881" y="4961"/>
                  </a:cubicBezTo>
                  <a:cubicBezTo>
                    <a:pt x="17872" y="4961"/>
                    <a:pt x="17863" y="4961"/>
                    <a:pt x="17851" y="4955"/>
                  </a:cubicBezTo>
                  <a:cubicBezTo>
                    <a:pt x="17847" y="4949"/>
                    <a:pt x="17838" y="4949"/>
                    <a:pt x="17833" y="4943"/>
                  </a:cubicBezTo>
                  <a:cubicBezTo>
                    <a:pt x="17810" y="4925"/>
                    <a:pt x="17776" y="4937"/>
                    <a:pt x="17757" y="4970"/>
                  </a:cubicBezTo>
                  <a:cubicBezTo>
                    <a:pt x="17750" y="4976"/>
                    <a:pt x="17750" y="4982"/>
                    <a:pt x="17746" y="4982"/>
                  </a:cubicBezTo>
                  <a:cubicBezTo>
                    <a:pt x="17732" y="4993"/>
                    <a:pt x="17718" y="4970"/>
                    <a:pt x="17702" y="4961"/>
                  </a:cubicBezTo>
                  <a:cubicBezTo>
                    <a:pt x="17684" y="4949"/>
                    <a:pt x="17665" y="4961"/>
                    <a:pt x="17644" y="4970"/>
                  </a:cubicBezTo>
                  <a:cubicBezTo>
                    <a:pt x="17626" y="4970"/>
                    <a:pt x="17596" y="4955"/>
                    <a:pt x="17601" y="4931"/>
                  </a:cubicBezTo>
                  <a:cubicBezTo>
                    <a:pt x="17592" y="4937"/>
                    <a:pt x="17578" y="4931"/>
                    <a:pt x="17573" y="4914"/>
                  </a:cubicBezTo>
                  <a:cubicBezTo>
                    <a:pt x="17569" y="4893"/>
                    <a:pt x="17578" y="4881"/>
                    <a:pt x="17587" y="4869"/>
                  </a:cubicBezTo>
                  <a:cubicBezTo>
                    <a:pt x="17596" y="4857"/>
                    <a:pt x="17612" y="4857"/>
                    <a:pt x="17621" y="4846"/>
                  </a:cubicBezTo>
                  <a:cubicBezTo>
                    <a:pt x="17631" y="4840"/>
                    <a:pt x="17640" y="4819"/>
                    <a:pt x="17635" y="4801"/>
                  </a:cubicBezTo>
                  <a:cubicBezTo>
                    <a:pt x="17631" y="4784"/>
                    <a:pt x="17619" y="4781"/>
                    <a:pt x="17608" y="4763"/>
                  </a:cubicBezTo>
                  <a:cubicBezTo>
                    <a:pt x="17598" y="4742"/>
                    <a:pt x="17608" y="4727"/>
                    <a:pt x="17617" y="4707"/>
                  </a:cubicBezTo>
                  <a:cubicBezTo>
                    <a:pt x="17626" y="4695"/>
                    <a:pt x="17640" y="4677"/>
                    <a:pt x="17640" y="4659"/>
                  </a:cubicBezTo>
                  <a:lnTo>
                    <a:pt x="17640" y="4645"/>
                  </a:lnTo>
                  <a:cubicBezTo>
                    <a:pt x="17640" y="4639"/>
                    <a:pt x="17635" y="4639"/>
                    <a:pt x="17631" y="4633"/>
                  </a:cubicBezTo>
                  <a:cubicBezTo>
                    <a:pt x="17617" y="4627"/>
                    <a:pt x="17601" y="4615"/>
                    <a:pt x="17601" y="4597"/>
                  </a:cubicBezTo>
                  <a:cubicBezTo>
                    <a:pt x="17601" y="4585"/>
                    <a:pt x="17608" y="4571"/>
                    <a:pt x="17612" y="4559"/>
                  </a:cubicBezTo>
                  <a:cubicBezTo>
                    <a:pt x="17621" y="4529"/>
                    <a:pt x="17628" y="4491"/>
                    <a:pt x="17612" y="4467"/>
                  </a:cubicBezTo>
                  <a:cubicBezTo>
                    <a:pt x="17598" y="4441"/>
                    <a:pt x="17564" y="4429"/>
                    <a:pt x="17543" y="4452"/>
                  </a:cubicBezTo>
                  <a:cubicBezTo>
                    <a:pt x="17539" y="4423"/>
                    <a:pt x="17529" y="4390"/>
                    <a:pt x="17525" y="4361"/>
                  </a:cubicBezTo>
                  <a:cubicBezTo>
                    <a:pt x="17520" y="4343"/>
                    <a:pt x="17516" y="4322"/>
                    <a:pt x="17500" y="4328"/>
                  </a:cubicBezTo>
                  <a:cubicBezTo>
                    <a:pt x="17490" y="4328"/>
                    <a:pt x="17486" y="4343"/>
                    <a:pt x="17477" y="4343"/>
                  </a:cubicBezTo>
                  <a:cubicBezTo>
                    <a:pt x="17472" y="4343"/>
                    <a:pt x="17467" y="4328"/>
                    <a:pt x="17467" y="4322"/>
                  </a:cubicBezTo>
                  <a:cubicBezTo>
                    <a:pt x="17456" y="4305"/>
                    <a:pt x="17440" y="4299"/>
                    <a:pt x="17424" y="4293"/>
                  </a:cubicBezTo>
                  <a:cubicBezTo>
                    <a:pt x="17410" y="4287"/>
                    <a:pt x="17391" y="4293"/>
                    <a:pt x="17371" y="4281"/>
                  </a:cubicBezTo>
                  <a:cubicBezTo>
                    <a:pt x="17352" y="4269"/>
                    <a:pt x="17341" y="4248"/>
                    <a:pt x="17327" y="4231"/>
                  </a:cubicBezTo>
                  <a:cubicBezTo>
                    <a:pt x="17313" y="4213"/>
                    <a:pt x="17297" y="4192"/>
                    <a:pt x="17279" y="4186"/>
                  </a:cubicBezTo>
                  <a:cubicBezTo>
                    <a:pt x="17258" y="4180"/>
                    <a:pt x="17235" y="4207"/>
                    <a:pt x="17240" y="4231"/>
                  </a:cubicBezTo>
                  <a:cubicBezTo>
                    <a:pt x="17230" y="4248"/>
                    <a:pt x="17205" y="4237"/>
                    <a:pt x="17187" y="4231"/>
                  </a:cubicBezTo>
                  <a:cubicBezTo>
                    <a:pt x="17164" y="4225"/>
                    <a:pt x="17134" y="4231"/>
                    <a:pt x="17109" y="4243"/>
                  </a:cubicBezTo>
                  <a:lnTo>
                    <a:pt x="17095" y="4207"/>
                  </a:lnTo>
                  <a:cubicBezTo>
                    <a:pt x="17095" y="4225"/>
                    <a:pt x="17076" y="4237"/>
                    <a:pt x="17060" y="4237"/>
                  </a:cubicBezTo>
                  <a:cubicBezTo>
                    <a:pt x="17046" y="4237"/>
                    <a:pt x="17028" y="4231"/>
                    <a:pt x="17012" y="4231"/>
                  </a:cubicBezTo>
                  <a:cubicBezTo>
                    <a:pt x="16984" y="4237"/>
                    <a:pt x="16954" y="4269"/>
                    <a:pt x="16927" y="4269"/>
                  </a:cubicBezTo>
                  <a:cubicBezTo>
                    <a:pt x="16911" y="4269"/>
                    <a:pt x="16897" y="4254"/>
                    <a:pt x="16888" y="4260"/>
                  </a:cubicBezTo>
                  <a:cubicBezTo>
                    <a:pt x="16883" y="4260"/>
                    <a:pt x="16879" y="4269"/>
                    <a:pt x="16874" y="4275"/>
                  </a:cubicBezTo>
                  <a:cubicBezTo>
                    <a:pt x="16858" y="4293"/>
                    <a:pt x="16844" y="4322"/>
                    <a:pt x="16839" y="4349"/>
                  </a:cubicBezTo>
                  <a:cubicBezTo>
                    <a:pt x="16805" y="4343"/>
                    <a:pt x="16773" y="4343"/>
                    <a:pt x="16743" y="4361"/>
                  </a:cubicBezTo>
                  <a:lnTo>
                    <a:pt x="16713" y="4379"/>
                  </a:lnTo>
                  <a:cubicBezTo>
                    <a:pt x="16699" y="4384"/>
                    <a:pt x="16685" y="4379"/>
                    <a:pt x="16672" y="4379"/>
                  </a:cubicBezTo>
                  <a:cubicBezTo>
                    <a:pt x="16665" y="4379"/>
                    <a:pt x="16655" y="4373"/>
                    <a:pt x="16651" y="4373"/>
                  </a:cubicBezTo>
                  <a:cubicBezTo>
                    <a:pt x="16632" y="4367"/>
                    <a:pt x="16616" y="4367"/>
                    <a:pt x="16598" y="4361"/>
                  </a:cubicBezTo>
                  <a:cubicBezTo>
                    <a:pt x="16584" y="4355"/>
                    <a:pt x="16559" y="4346"/>
                    <a:pt x="16554" y="4328"/>
                  </a:cubicBezTo>
                  <a:cubicBezTo>
                    <a:pt x="16550" y="4308"/>
                    <a:pt x="16559" y="4293"/>
                    <a:pt x="16568" y="4281"/>
                  </a:cubicBezTo>
                  <a:cubicBezTo>
                    <a:pt x="16580" y="4260"/>
                    <a:pt x="16584" y="4243"/>
                    <a:pt x="16575" y="4231"/>
                  </a:cubicBezTo>
                  <a:cubicBezTo>
                    <a:pt x="16563" y="4219"/>
                    <a:pt x="16550" y="4219"/>
                    <a:pt x="16540" y="4207"/>
                  </a:cubicBezTo>
                  <a:cubicBezTo>
                    <a:pt x="16531" y="4192"/>
                    <a:pt x="16540" y="4169"/>
                    <a:pt x="16540" y="4151"/>
                  </a:cubicBezTo>
                  <a:cubicBezTo>
                    <a:pt x="16545" y="4118"/>
                    <a:pt x="16540" y="4083"/>
                    <a:pt x="16531" y="4050"/>
                  </a:cubicBezTo>
                  <a:cubicBezTo>
                    <a:pt x="16531" y="4044"/>
                    <a:pt x="16527" y="4039"/>
                    <a:pt x="16527" y="4033"/>
                  </a:cubicBezTo>
                  <a:cubicBezTo>
                    <a:pt x="16515" y="4021"/>
                    <a:pt x="16506" y="4027"/>
                    <a:pt x="16492" y="4027"/>
                  </a:cubicBezTo>
                  <a:cubicBezTo>
                    <a:pt x="16474" y="4027"/>
                    <a:pt x="16453" y="4015"/>
                    <a:pt x="16435" y="4000"/>
                  </a:cubicBezTo>
                  <a:cubicBezTo>
                    <a:pt x="16419" y="3994"/>
                    <a:pt x="16409" y="3982"/>
                    <a:pt x="16396" y="3976"/>
                  </a:cubicBezTo>
                  <a:cubicBezTo>
                    <a:pt x="16386" y="3971"/>
                    <a:pt x="16377" y="3965"/>
                    <a:pt x="16370" y="3953"/>
                  </a:cubicBezTo>
                  <a:cubicBezTo>
                    <a:pt x="16366" y="3938"/>
                    <a:pt x="16361" y="3926"/>
                    <a:pt x="16366" y="3914"/>
                  </a:cubicBezTo>
                  <a:cubicBezTo>
                    <a:pt x="16343" y="3903"/>
                    <a:pt x="16329" y="3870"/>
                    <a:pt x="16329" y="3840"/>
                  </a:cubicBezTo>
                  <a:cubicBezTo>
                    <a:pt x="16329" y="3802"/>
                    <a:pt x="16317" y="3772"/>
                    <a:pt x="16304" y="3746"/>
                  </a:cubicBezTo>
                  <a:cubicBezTo>
                    <a:pt x="16294" y="3734"/>
                    <a:pt x="16283" y="3728"/>
                    <a:pt x="16276" y="3710"/>
                  </a:cubicBezTo>
                  <a:cubicBezTo>
                    <a:pt x="16271" y="3690"/>
                    <a:pt x="16285" y="3666"/>
                    <a:pt x="16281" y="3648"/>
                  </a:cubicBezTo>
                  <a:cubicBezTo>
                    <a:pt x="16281" y="3642"/>
                    <a:pt x="16269" y="3628"/>
                    <a:pt x="16264" y="3622"/>
                  </a:cubicBezTo>
                  <a:cubicBezTo>
                    <a:pt x="16255" y="3610"/>
                    <a:pt x="16246" y="3598"/>
                    <a:pt x="16232" y="3592"/>
                  </a:cubicBezTo>
                  <a:cubicBezTo>
                    <a:pt x="16216" y="3586"/>
                    <a:pt x="16200" y="3592"/>
                    <a:pt x="16179" y="3592"/>
                  </a:cubicBezTo>
                  <a:cubicBezTo>
                    <a:pt x="16161" y="3592"/>
                    <a:pt x="16143" y="3592"/>
                    <a:pt x="16131" y="3580"/>
                  </a:cubicBezTo>
                  <a:cubicBezTo>
                    <a:pt x="16122" y="3566"/>
                    <a:pt x="16115" y="3542"/>
                    <a:pt x="16101" y="3542"/>
                  </a:cubicBezTo>
                  <a:cubicBezTo>
                    <a:pt x="16097" y="3542"/>
                    <a:pt x="16092" y="3548"/>
                    <a:pt x="16083" y="3548"/>
                  </a:cubicBezTo>
                  <a:cubicBezTo>
                    <a:pt x="16044" y="3574"/>
                    <a:pt x="15991" y="3536"/>
                    <a:pt x="15952" y="3554"/>
                  </a:cubicBezTo>
                  <a:cubicBezTo>
                    <a:pt x="15947" y="3554"/>
                    <a:pt x="15938" y="3560"/>
                    <a:pt x="15933" y="3560"/>
                  </a:cubicBezTo>
                  <a:cubicBezTo>
                    <a:pt x="15922" y="3560"/>
                    <a:pt x="15917" y="3548"/>
                    <a:pt x="15913" y="3536"/>
                  </a:cubicBezTo>
                  <a:cubicBezTo>
                    <a:pt x="15894" y="3512"/>
                    <a:pt x="15864" y="3524"/>
                    <a:pt x="15841" y="3524"/>
                  </a:cubicBezTo>
                  <a:cubicBezTo>
                    <a:pt x="15832" y="3524"/>
                    <a:pt x="15821" y="3524"/>
                    <a:pt x="15816" y="3518"/>
                  </a:cubicBezTo>
                  <a:cubicBezTo>
                    <a:pt x="15793" y="3492"/>
                    <a:pt x="15821" y="3430"/>
                    <a:pt x="15798" y="3406"/>
                  </a:cubicBezTo>
                  <a:cubicBezTo>
                    <a:pt x="15793" y="3400"/>
                    <a:pt x="15784" y="3400"/>
                    <a:pt x="15777" y="3394"/>
                  </a:cubicBezTo>
                  <a:cubicBezTo>
                    <a:pt x="15754" y="3382"/>
                    <a:pt x="15735" y="3350"/>
                    <a:pt x="15710" y="3362"/>
                  </a:cubicBezTo>
                  <a:cubicBezTo>
                    <a:pt x="15701" y="3362"/>
                    <a:pt x="15696" y="3373"/>
                    <a:pt x="15692" y="3373"/>
                  </a:cubicBezTo>
                  <a:cubicBezTo>
                    <a:pt x="15671" y="3388"/>
                    <a:pt x="15648" y="3382"/>
                    <a:pt x="15639" y="3362"/>
                  </a:cubicBezTo>
                  <a:cubicBezTo>
                    <a:pt x="15614" y="3332"/>
                    <a:pt x="15565" y="3382"/>
                    <a:pt x="15531" y="3362"/>
                  </a:cubicBezTo>
                  <a:cubicBezTo>
                    <a:pt x="15522" y="3356"/>
                    <a:pt x="15517" y="3350"/>
                    <a:pt x="15508" y="3344"/>
                  </a:cubicBezTo>
                  <a:cubicBezTo>
                    <a:pt x="15464" y="3311"/>
                    <a:pt x="15411" y="3344"/>
                    <a:pt x="15363" y="3326"/>
                  </a:cubicBezTo>
                  <a:cubicBezTo>
                    <a:pt x="15333" y="3311"/>
                    <a:pt x="15314" y="3288"/>
                    <a:pt x="15285" y="3276"/>
                  </a:cubicBezTo>
                  <a:cubicBezTo>
                    <a:pt x="15271" y="3270"/>
                    <a:pt x="15259" y="3276"/>
                    <a:pt x="15243" y="3270"/>
                  </a:cubicBezTo>
                  <a:cubicBezTo>
                    <a:pt x="15229" y="3264"/>
                    <a:pt x="15218" y="3243"/>
                    <a:pt x="15204" y="3243"/>
                  </a:cubicBezTo>
                  <a:cubicBezTo>
                    <a:pt x="15183" y="3237"/>
                    <a:pt x="15172" y="3258"/>
                    <a:pt x="15151" y="3258"/>
                  </a:cubicBezTo>
                  <a:cubicBezTo>
                    <a:pt x="15133" y="3258"/>
                    <a:pt x="15112" y="3226"/>
                    <a:pt x="15094" y="3237"/>
                  </a:cubicBezTo>
                  <a:cubicBezTo>
                    <a:pt x="15078" y="3243"/>
                    <a:pt x="15078" y="3270"/>
                    <a:pt x="15087" y="3288"/>
                  </a:cubicBezTo>
                  <a:cubicBezTo>
                    <a:pt x="15098" y="3299"/>
                    <a:pt x="15107" y="3311"/>
                    <a:pt x="15121" y="3320"/>
                  </a:cubicBezTo>
                  <a:cubicBezTo>
                    <a:pt x="15151" y="3338"/>
                    <a:pt x="15179" y="3367"/>
                    <a:pt x="15179" y="3412"/>
                  </a:cubicBezTo>
                  <a:cubicBezTo>
                    <a:pt x="15151" y="3462"/>
                    <a:pt x="15103" y="3492"/>
                    <a:pt x="15059" y="3486"/>
                  </a:cubicBezTo>
                  <a:cubicBezTo>
                    <a:pt x="15034" y="3486"/>
                    <a:pt x="15015" y="3474"/>
                    <a:pt x="14990" y="3468"/>
                  </a:cubicBezTo>
                  <a:cubicBezTo>
                    <a:pt x="14967" y="3462"/>
                    <a:pt x="14944" y="3462"/>
                    <a:pt x="14923" y="3480"/>
                  </a:cubicBezTo>
                  <a:cubicBezTo>
                    <a:pt x="14905" y="3492"/>
                    <a:pt x="14896" y="3527"/>
                    <a:pt x="14905" y="3554"/>
                  </a:cubicBezTo>
                  <a:cubicBezTo>
                    <a:pt x="14914" y="3577"/>
                    <a:pt x="14937" y="3586"/>
                    <a:pt x="14953" y="3592"/>
                  </a:cubicBezTo>
                  <a:cubicBezTo>
                    <a:pt x="14990" y="3610"/>
                    <a:pt x="15025" y="3660"/>
                    <a:pt x="15038" y="3710"/>
                  </a:cubicBezTo>
                  <a:cubicBezTo>
                    <a:pt x="15011" y="3710"/>
                    <a:pt x="14981" y="3728"/>
                    <a:pt x="14967" y="3752"/>
                  </a:cubicBezTo>
                  <a:cubicBezTo>
                    <a:pt x="14949" y="3784"/>
                    <a:pt x="14944" y="3820"/>
                    <a:pt x="14953" y="3858"/>
                  </a:cubicBezTo>
                  <a:cubicBezTo>
                    <a:pt x="14958" y="3876"/>
                    <a:pt x="14963" y="3891"/>
                    <a:pt x="14967" y="3908"/>
                  </a:cubicBezTo>
                  <a:cubicBezTo>
                    <a:pt x="14972" y="3926"/>
                    <a:pt x="14967" y="3944"/>
                    <a:pt x="14953" y="3959"/>
                  </a:cubicBezTo>
                  <a:cubicBezTo>
                    <a:pt x="14949" y="3965"/>
                    <a:pt x="14937" y="3965"/>
                    <a:pt x="14933" y="3965"/>
                  </a:cubicBezTo>
                  <a:cubicBezTo>
                    <a:pt x="14914" y="3965"/>
                    <a:pt x="14896" y="3959"/>
                    <a:pt x="14880" y="3938"/>
                  </a:cubicBezTo>
                  <a:cubicBezTo>
                    <a:pt x="14875" y="3926"/>
                    <a:pt x="14871" y="3914"/>
                    <a:pt x="14871" y="3903"/>
                  </a:cubicBezTo>
                  <a:cubicBezTo>
                    <a:pt x="14861" y="3864"/>
                    <a:pt x="14848" y="3835"/>
                    <a:pt x="14822" y="3814"/>
                  </a:cubicBezTo>
                  <a:cubicBezTo>
                    <a:pt x="14799" y="3796"/>
                    <a:pt x="14760" y="3808"/>
                    <a:pt x="14751" y="3846"/>
                  </a:cubicBezTo>
                  <a:cubicBezTo>
                    <a:pt x="14739" y="3876"/>
                    <a:pt x="14760" y="3908"/>
                    <a:pt x="14774" y="3938"/>
                  </a:cubicBezTo>
                  <a:cubicBezTo>
                    <a:pt x="14756" y="3953"/>
                    <a:pt x="14730" y="3959"/>
                    <a:pt x="14707" y="3944"/>
                  </a:cubicBezTo>
                  <a:cubicBezTo>
                    <a:pt x="14703" y="3944"/>
                    <a:pt x="14691" y="3938"/>
                    <a:pt x="14687" y="3944"/>
                  </a:cubicBezTo>
                  <a:cubicBezTo>
                    <a:pt x="14677" y="3953"/>
                    <a:pt x="14677" y="3959"/>
                    <a:pt x="14673" y="3971"/>
                  </a:cubicBezTo>
                  <a:cubicBezTo>
                    <a:pt x="14659" y="4000"/>
                    <a:pt x="14620" y="3982"/>
                    <a:pt x="14595" y="3971"/>
                  </a:cubicBezTo>
                  <a:cubicBezTo>
                    <a:pt x="14542" y="3944"/>
                    <a:pt x="14480" y="3938"/>
                    <a:pt x="14422" y="3938"/>
                  </a:cubicBezTo>
                  <a:cubicBezTo>
                    <a:pt x="14404" y="3938"/>
                    <a:pt x="14378" y="3938"/>
                    <a:pt x="14365" y="3965"/>
                  </a:cubicBezTo>
                  <a:cubicBezTo>
                    <a:pt x="14365" y="3959"/>
                    <a:pt x="14369" y="3953"/>
                    <a:pt x="14369" y="3944"/>
                  </a:cubicBezTo>
                  <a:cubicBezTo>
                    <a:pt x="14355" y="3953"/>
                    <a:pt x="14335" y="3982"/>
                    <a:pt x="14335" y="4000"/>
                  </a:cubicBezTo>
                  <a:cubicBezTo>
                    <a:pt x="14335" y="4021"/>
                    <a:pt x="14339" y="4039"/>
                    <a:pt x="14344" y="4056"/>
                  </a:cubicBezTo>
                  <a:cubicBezTo>
                    <a:pt x="14335" y="4050"/>
                    <a:pt x="14325" y="4059"/>
                    <a:pt x="14325" y="4074"/>
                  </a:cubicBezTo>
                  <a:cubicBezTo>
                    <a:pt x="14325" y="4086"/>
                    <a:pt x="14325" y="4101"/>
                    <a:pt x="14321" y="4112"/>
                  </a:cubicBezTo>
                  <a:cubicBezTo>
                    <a:pt x="14312" y="4130"/>
                    <a:pt x="14286" y="4118"/>
                    <a:pt x="14277" y="4101"/>
                  </a:cubicBezTo>
                  <a:cubicBezTo>
                    <a:pt x="14259" y="4083"/>
                    <a:pt x="14238" y="4062"/>
                    <a:pt x="14224" y="4044"/>
                  </a:cubicBezTo>
                  <a:cubicBezTo>
                    <a:pt x="14220" y="4039"/>
                    <a:pt x="14215" y="4039"/>
                    <a:pt x="14215" y="4039"/>
                  </a:cubicBezTo>
                  <a:cubicBezTo>
                    <a:pt x="14210" y="4039"/>
                    <a:pt x="14206" y="4044"/>
                    <a:pt x="14199" y="4056"/>
                  </a:cubicBezTo>
                  <a:cubicBezTo>
                    <a:pt x="14185" y="4074"/>
                    <a:pt x="14162" y="4068"/>
                    <a:pt x="14146" y="4050"/>
                  </a:cubicBezTo>
                  <a:cubicBezTo>
                    <a:pt x="14132" y="4033"/>
                    <a:pt x="14128" y="4006"/>
                    <a:pt x="14128" y="3976"/>
                  </a:cubicBezTo>
                  <a:cubicBezTo>
                    <a:pt x="14128" y="3965"/>
                    <a:pt x="14132" y="3944"/>
                    <a:pt x="14123" y="3932"/>
                  </a:cubicBezTo>
                  <a:cubicBezTo>
                    <a:pt x="14118" y="3926"/>
                    <a:pt x="14114" y="3920"/>
                    <a:pt x="14114" y="3914"/>
                  </a:cubicBezTo>
                  <a:cubicBezTo>
                    <a:pt x="14098" y="3897"/>
                    <a:pt x="14109" y="3858"/>
                    <a:pt x="14123" y="3840"/>
                  </a:cubicBezTo>
                  <a:cubicBezTo>
                    <a:pt x="14132" y="3829"/>
                    <a:pt x="14141" y="3814"/>
                    <a:pt x="14137" y="3802"/>
                  </a:cubicBezTo>
                  <a:cubicBezTo>
                    <a:pt x="14137" y="3796"/>
                    <a:pt x="14132" y="3796"/>
                    <a:pt x="14132" y="3796"/>
                  </a:cubicBezTo>
                  <a:cubicBezTo>
                    <a:pt x="14128" y="3790"/>
                    <a:pt x="14123" y="3784"/>
                    <a:pt x="14118" y="3784"/>
                  </a:cubicBezTo>
                  <a:cubicBezTo>
                    <a:pt x="14098" y="3767"/>
                    <a:pt x="14079" y="3752"/>
                    <a:pt x="14061" y="3746"/>
                  </a:cubicBezTo>
                  <a:cubicBezTo>
                    <a:pt x="14036" y="3746"/>
                    <a:pt x="14013" y="3767"/>
                    <a:pt x="14017" y="3796"/>
                  </a:cubicBezTo>
                  <a:cubicBezTo>
                    <a:pt x="14017" y="3808"/>
                    <a:pt x="14022" y="3820"/>
                    <a:pt x="14031" y="3829"/>
                  </a:cubicBezTo>
                  <a:cubicBezTo>
                    <a:pt x="14036" y="3835"/>
                    <a:pt x="14040" y="3835"/>
                    <a:pt x="14040" y="3840"/>
                  </a:cubicBezTo>
                  <a:cubicBezTo>
                    <a:pt x="14040" y="3846"/>
                    <a:pt x="14036" y="3846"/>
                    <a:pt x="14031" y="3852"/>
                  </a:cubicBezTo>
                  <a:cubicBezTo>
                    <a:pt x="14022" y="3858"/>
                    <a:pt x="14008" y="3858"/>
                    <a:pt x="13992" y="3858"/>
                  </a:cubicBezTo>
                  <a:cubicBezTo>
                    <a:pt x="13983" y="3864"/>
                    <a:pt x="13969" y="3870"/>
                    <a:pt x="13969" y="3891"/>
                  </a:cubicBezTo>
                  <a:cubicBezTo>
                    <a:pt x="13969" y="3914"/>
                    <a:pt x="13992" y="3920"/>
                    <a:pt x="13997" y="3944"/>
                  </a:cubicBezTo>
                  <a:cubicBezTo>
                    <a:pt x="14001" y="3965"/>
                    <a:pt x="13992" y="3982"/>
                    <a:pt x="13983" y="3994"/>
                  </a:cubicBezTo>
                  <a:cubicBezTo>
                    <a:pt x="13974" y="4006"/>
                    <a:pt x="13960" y="4021"/>
                    <a:pt x="13953" y="4039"/>
                  </a:cubicBezTo>
                  <a:cubicBezTo>
                    <a:pt x="13948" y="4050"/>
                    <a:pt x="13953" y="4068"/>
                    <a:pt x="13953" y="4089"/>
                  </a:cubicBezTo>
                  <a:cubicBezTo>
                    <a:pt x="13948" y="4118"/>
                    <a:pt x="13925" y="4151"/>
                    <a:pt x="13930" y="4180"/>
                  </a:cubicBezTo>
                  <a:cubicBezTo>
                    <a:pt x="13930" y="4207"/>
                    <a:pt x="13948" y="4231"/>
                    <a:pt x="13939" y="4254"/>
                  </a:cubicBezTo>
                  <a:cubicBezTo>
                    <a:pt x="13934" y="4269"/>
                    <a:pt x="13930" y="4275"/>
                    <a:pt x="13930" y="4287"/>
                  </a:cubicBezTo>
                  <a:cubicBezTo>
                    <a:pt x="13934" y="4299"/>
                    <a:pt x="13948" y="4299"/>
                    <a:pt x="13960" y="4311"/>
                  </a:cubicBezTo>
                  <a:cubicBezTo>
                    <a:pt x="13974" y="4322"/>
                    <a:pt x="13974" y="4349"/>
                    <a:pt x="13964" y="4367"/>
                  </a:cubicBezTo>
                  <a:cubicBezTo>
                    <a:pt x="13953" y="4384"/>
                    <a:pt x="13939" y="4390"/>
                    <a:pt x="13925" y="4405"/>
                  </a:cubicBezTo>
                  <a:cubicBezTo>
                    <a:pt x="13921" y="4405"/>
                    <a:pt x="13916" y="4411"/>
                    <a:pt x="13916" y="4417"/>
                  </a:cubicBezTo>
                  <a:cubicBezTo>
                    <a:pt x="13916" y="4423"/>
                    <a:pt x="13921" y="4435"/>
                    <a:pt x="13921" y="4441"/>
                  </a:cubicBezTo>
                  <a:cubicBezTo>
                    <a:pt x="13921" y="4452"/>
                    <a:pt x="13916" y="4467"/>
                    <a:pt x="13905" y="4467"/>
                  </a:cubicBezTo>
                  <a:cubicBezTo>
                    <a:pt x="13895" y="4467"/>
                    <a:pt x="13886" y="4461"/>
                    <a:pt x="13877" y="4452"/>
                  </a:cubicBezTo>
                  <a:cubicBezTo>
                    <a:pt x="13852" y="4429"/>
                    <a:pt x="13838" y="4384"/>
                    <a:pt x="13833" y="4349"/>
                  </a:cubicBezTo>
                  <a:cubicBezTo>
                    <a:pt x="13833" y="4343"/>
                    <a:pt x="13833" y="4328"/>
                    <a:pt x="13829" y="4322"/>
                  </a:cubicBezTo>
                  <a:cubicBezTo>
                    <a:pt x="13819" y="4311"/>
                    <a:pt x="13810" y="4316"/>
                    <a:pt x="13799" y="4316"/>
                  </a:cubicBezTo>
                  <a:cubicBezTo>
                    <a:pt x="13776" y="4316"/>
                    <a:pt x="13755" y="4299"/>
                    <a:pt x="13732" y="4281"/>
                  </a:cubicBezTo>
                  <a:cubicBezTo>
                    <a:pt x="13723" y="4269"/>
                    <a:pt x="13707" y="4254"/>
                    <a:pt x="13698" y="4243"/>
                  </a:cubicBezTo>
                  <a:cubicBezTo>
                    <a:pt x="13688" y="4225"/>
                    <a:pt x="13688" y="4207"/>
                    <a:pt x="13698" y="4186"/>
                  </a:cubicBezTo>
                  <a:cubicBezTo>
                    <a:pt x="13665" y="4180"/>
                    <a:pt x="13626" y="4169"/>
                    <a:pt x="13617" y="4124"/>
                  </a:cubicBezTo>
                  <a:cubicBezTo>
                    <a:pt x="13606" y="4101"/>
                    <a:pt x="13612" y="4074"/>
                    <a:pt x="13606" y="4050"/>
                  </a:cubicBezTo>
                  <a:cubicBezTo>
                    <a:pt x="13601" y="4039"/>
                    <a:pt x="13592" y="4027"/>
                    <a:pt x="13592" y="4006"/>
                  </a:cubicBezTo>
                  <a:cubicBezTo>
                    <a:pt x="13592" y="3994"/>
                    <a:pt x="13601" y="3982"/>
                    <a:pt x="13606" y="3971"/>
                  </a:cubicBezTo>
                  <a:cubicBezTo>
                    <a:pt x="13612" y="3953"/>
                    <a:pt x="13606" y="3926"/>
                    <a:pt x="13587" y="3914"/>
                  </a:cubicBezTo>
                  <a:cubicBezTo>
                    <a:pt x="13583" y="3914"/>
                    <a:pt x="13578" y="3908"/>
                    <a:pt x="13573" y="3903"/>
                  </a:cubicBezTo>
                  <a:lnTo>
                    <a:pt x="13573" y="3891"/>
                  </a:lnTo>
                  <a:cubicBezTo>
                    <a:pt x="13587" y="3846"/>
                    <a:pt x="13626" y="3802"/>
                    <a:pt x="13622" y="3752"/>
                  </a:cubicBezTo>
                  <a:cubicBezTo>
                    <a:pt x="13622" y="3716"/>
                    <a:pt x="13596" y="3678"/>
                    <a:pt x="13612" y="3648"/>
                  </a:cubicBezTo>
                  <a:cubicBezTo>
                    <a:pt x="13617" y="3642"/>
                    <a:pt x="13617" y="3634"/>
                    <a:pt x="13617" y="3628"/>
                  </a:cubicBezTo>
                  <a:cubicBezTo>
                    <a:pt x="13617" y="3619"/>
                    <a:pt x="13606" y="3616"/>
                    <a:pt x="13601" y="3604"/>
                  </a:cubicBezTo>
                  <a:cubicBezTo>
                    <a:pt x="13596" y="3592"/>
                    <a:pt x="13601" y="3571"/>
                    <a:pt x="13606" y="3560"/>
                  </a:cubicBezTo>
                  <a:cubicBezTo>
                    <a:pt x="13612" y="3545"/>
                    <a:pt x="13622" y="3536"/>
                    <a:pt x="13622" y="3518"/>
                  </a:cubicBezTo>
                  <a:cubicBezTo>
                    <a:pt x="13622" y="3498"/>
                    <a:pt x="13612" y="3486"/>
                    <a:pt x="13601" y="3474"/>
                  </a:cubicBezTo>
                  <a:cubicBezTo>
                    <a:pt x="13596" y="3462"/>
                    <a:pt x="13592" y="3435"/>
                    <a:pt x="13606" y="3430"/>
                  </a:cubicBezTo>
                  <a:cubicBezTo>
                    <a:pt x="13617" y="3412"/>
                    <a:pt x="13596" y="3382"/>
                    <a:pt x="13596" y="3356"/>
                  </a:cubicBezTo>
                  <a:cubicBezTo>
                    <a:pt x="13596" y="3344"/>
                    <a:pt x="13601" y="3338"/>
                    <a:pt x="13606" y="3332"/>
                  </a:cubicBezTo>
                  <a:cubicBezTo>
                    <a:pt x="13617" y="3311"/>
                    <a:pt x="13622" y="3282"/>
                    <a:pt x="13617" y="3258"/>
                  </a:cubicBezTo>
                  <a:cubicBezTo>
                    <a:pt x="13606" y="3226"/>
                    <a:pt x="13587" y="3208"/>
                    <a:pt x="13583" y="3175"/>
                  </a:cubicBezTo>
                  <a:cubicBezTo>
                    <a:pt x="13583" y="3152"/>
                    <a:pt x="13592" y="3134"/>
                    <a:pt x="13592" y="3113"/>
                  </a:cubicBezTo>
                  <a:cubicBezTo>
                    <a:pt x="13592" y="3084"/>
                    <a:pt x="13578" y="3057"/>
                    <a:pt x="13557" y="3039"/>
                  </a:cubicBezTo>
                  <a:cubicBezTo>
                    <a:pt x="13553" y="3033"/>
                    <a:pt x="13553" y="3033"/>
                    <a:pt x="13548" y="3033"/>
                  </a:cubicBezTo>
                  <a:cubicBezTo>
                    <a:pt x="13543" y="3033"/>
                    <a:pt x="13539" y="3039"/>
                    <a:pt x="13534" y="3039"/>
                  </a:cubicBezTo>
                  <a:cubicBezTo>
                    <a:pt x="13520" y="3045"/>
                    <a:pt x="13500" y="3033"/>
                    <a:pt x="13491" y="3016"/>
                  </a:cubicBezTo>
                  <a:cubicBezTo>
                    <a:pt x="13481" y="2995"/>
                    <a:pt x="13477" y="2977"/>
                    <a:pt x="13461" y="2965"/>
                  </a:cubicBezTo>
                  <a:lnTo>
                    <a:pt x="13433" y="2948"/>
                  </a:lnTo>
                  <a:cubicBezTo>
                    <a:pt x="13403" y="2927"/>
                    <a:pt x="13399" y="2874"/>
                    <a:pt x="13376" y="2853"/>
                  </a:cubicBezTo>
                  <a:cubicBezTo>
                    <a:pt x="13355" y="2841"/>
                    <a:pt x="13332" y="2847"/>
                    <a:pt x="13307" y="2841"/>
                  </a:cubicBezTo>
                  <a:cubicBezTo>
                    <a:pt x="13293" y="2835"/>
                    <a:pt x="13279" y="2823"/>
                    <a:pt x="13263" y="2823"/>
                  </a:cubicBezTo>
                  <a:cubicBezTo>
                    <a:pt x="13249" y="2823"/>
                    <a:pt x="13235" y="2847"/>
                    <a:pt x="13244" y="2859"/>
                  </a:cubicBezTo>
                  <a:cubicBezTo>
                    <a:pt x="13221" y="2874"/>
                    <a:pt x="13201" y="2841"/>
                    <a:pt x="13178" y="2835"/>
                  </a:cubicBezTo>
                  <a:cubicBezTo>
                    <a:pt x="13162" y="2829"/>
                    <a:pt x="13146" y="2835"/>
                    <a:pt x="13129" y="2829"/>
                  </a:cubicBezTo>
                  <a:cubicBezTo>
                    <a:pt x="13116" y="2823"/>
                    <a:pt x="13104" y="2818"/>
                    <a:pt x="13090" y="2812"/>
                  </a:cubicBezTo>
                  <a:cubicBezTo>
                    <a:pt x="13077" y="2803"/>
                    <a:pt x="13060" y="2803"/>
                    <a:pt x="13051" y="2823"/>
                  </a:cubicBezTo>
                  <a:cubicBezTo>
                    <a:pt x="13042" y="2785"/>
                    <a:pt x="13037" y="2755"/>
                    <a:pt x="13028" y="2717"/>
                  </a:cubicBezTo>
                  <a:cubicBezTo>
                    <a:pt x="13028" y="2705"/>
                    <a:pt x="13024" y="2699"/>
                    <a:pt x="13028" y="2687"/>
                  </a:cubicBezTo>
                  <a:cubicBezTo>
                    <a:pt x="13033" y="2667"/>
                    <a:pt x="13051" y="2661"/>
                    <a:pt x="13060" y="2643"/>
                  </a:cubicBezTo>
                  <a:cubicBezTo>
                    <a:pt x="13072" y="2625"/>
                    <a:pt x="13056" y="2599"/>
                    <a:pt x="13042" y="2587"/>
                  </a:cubicBezTo>
                  <a:cubicBezTo>
                    <a:pt x="13017" y="2569"/>
                    <a:pt x="12985" y="2575"/>
                    <a:pt x="12955" y="2575"/>
                  </a:cubicBezTo>
                  <a:cubicBezTo>
                    <a:pt x="12950" y="2575"/>
                    <a:pt x="12941" y="2575"/>
                    <a:pt x="12936" y="2581"/>
                  </a:cubicBezTo>
                  <a:cubicBezTo>
                    <a:pt x="12922" y="2593"/>
                    <a:pt x="12922" y="2616"/>
                    <a:pt x="12911" y="2631"/>
                  </a:cubicBezTo>
                  <a:cubicBezTo>
                    <a:pt x="12906" y="2637"/>
                    <a:pt x="12897" y="2637"/>
                    <a:pt x="12893" y="2637"/>
                  </a:cubicBezTo>
                  <a:cubicBezTo>
                    <a:pt x="12867" y="2643"/>
                    <a:pt x="12858" y="2679"/>
                    <a:pt x="12867" y="2705"/>
                  </a:cubicBezTo>
                  <a:cubicBezTo>
                    <a:pt x="12840" y="2693"/>
                    <a:pt x="12805" y="2679"/>
                    <a:pt x="12778" y="2667"/>
                  </a:cubicBezTo>
                  <a:cubicBezTo>
                    <a:pt x="12766" y="2655"/>
                    <a:pt x="12778" y="2631"/>
                    <a:pt x="12782" y="2611"/>
                  </a:cubicBezTo>
                  <a:cubicBezTo>
                    <a:pt x="12787" y="2593"/>
                    <a:pt x="12787" y="2563"/>
                    <a:pt x="12773" y="2563"/>
                  </a:cubicBezTo>
                  <a:cubicBezTo>
                    <a:pt x="12757" y="2563"/>
                    <a:pt x="12752" y="2581"/>
                    <a:pt x="12752" y="2599"/>
                  </a:cubicBezTo>
                  <a:cubicBezTo>
                    <a:pt x="12748" y="2637"/>
                    <a:pt x="12748" y="2679"/>
                    <a:pt x="12761" y="2711"/>
                  </a:cubicBezTo>
                  <a:cubicBezTo>
                    <a:pt x="12766" y="2717"/>
                    <a:pt x="12773" y="2729"/>
                    <a:pt x="12778" y="2735"/>
                  </a:cubicBezTo>
                  <a:cubicBezTo>
                    <a:pt x="12787" y="2773"/>
                    <a:pt x="12766" y="2812"/>
                    <a:pt x="12766" y="2847"/>
                  </a:cubicBezTo>
                  <a:cubicBezTo>
                    <a:pt x="12766" y="2853"/>
                    <a:pt x="12766" y="2859"/>
                    <a:pt x="12773" y="2859"/>
                  </a:cubicBezTo>
                  <a:cubicBezTo>
                    <a:pt x="12773" y="2865"/>
                    <a:pt x="12778" y="2874"/>
                    <a:pt x="12782" y="2874"/>
                  </a:cubicBezTo>
                  <a:cubicBezTo>
                    <a:pt x="12805" y="2915"/>
                    <a:pt x="12787" y="2983"/>
                    <a:pt x="12810" y="3027"/>
                  </a:cubicBezTo>
                  <a:cubicBezTo>
                    <a:pt x="12826" y="3051"/>
                    <a:pt x="12849" y="3039"/>
                    <a:pt x="12874" y="3039"/>
                  </a:cubicBezTo>
                  <a:cubicBezTo>
                    <a:pt x="12879" y="3084"/>
                    <a:pt x="12856" y="3128"/>
                    <a:pt x="12826" y="3146"/>
                  </a:cubicBezTo>
                  <a:cubicBezTo>
                    <a:pt x="12798" y="3163"/>
                    <a:pt x="12761" y="3169"/>
                    <a:pt x="12729" y="3175"/>
                  </a:cubicBezTo>
                  <a:cubicBezTo>
                    <a:pt x="12729" y="3134"/>
                    <a:pt x="12690" y="3107"/>
                    <a:pt x="12656" y="3107"/>
                  </a:cubicBezTo>
                  <a:cubicBezTo>
                    <a:pt x="12621" y="3107"/>
                    <a:pt x="12589" y="3119"/>
                    <a:pt x="12554" y="3119"/>
                  </a:cubicBezTo>
                  <a:cubicBezTo>
                    <a:pt x="12515" y="3119"/>
                    <a:pt x="12483" y="3095"/>
                    <a:pt x="12453" y="3066"/>
                  </a:cubicBezTo>
                  <a:cubicBezTo>
                    <a:pt x="12435" y="3051"/>
                    <a:pt x="12419" y="3033"/>
                    <a:pt x="12396" y="3033"/>
                  </a:cubicBezTo>
                  <a:cubicBezTo>
                    <a:pt x="12387" y="3033"/>
                    <a:pt x="12382" y="3039"/>
                    <a:pt x="12370" y="3039"/>
                  </a:cubicBezTo>
                  <a:lnTo>
                    <a:pt x="12343" y="3039"/>
                  </a:lnTo>
                  <a:cubicBezTo>
                    <a:pt x="12294" y="3039"/>
                    <a:pt x="12246" y="3033"/>
                    <a:pt x="12202" y="3004"/>
                  </a:cubicBezTo>
                  <a:cubicBezTo>
                    <a:pt x="12193" y="2995"/>
                    <a:pt x="12184" y="2989"/>
                    <a:pt x="12177" y="2971"/>
                  </a:cubicBezTo>
                  <a:cubicBezTo>
                    <a:pt x="12173" y="2959"/>
                    <a:pt x="12175" y="2939"/>
                    <a:pt x="12184" y="2933"/>
                  </a:cubicBezTo>
                  <a:cubicBezTo>
                    <a:pt x="12196" y="2924"/>
                    <a:pt x="12207" y="2933"/>
                    <a:pt x="12216" y="2933"/>
                  </a:cubicBezTo>
                  <a:cubicBezTo>
                    <a:pt x="12242" y="2942"/>
                    <a:pt x="12265" y="2927"/>
                    <a:pt x="12285" y="2915"/>
                  </a:cubicBezTo>
                  <a:cubicBezTo>
                    <a:pt x="12290" y="2915"/>
                    <a:pt x="12294" y="2909"/>
                    <a:pt x="12299" y="2903"/>
                  </a:cubicBezTo>
                  <a:cubicBezTo>
                    <a:pt x="12304" y="2891"/>
                    <a:pt x="12304" y="2880"/>
                    <a:pt x="12299" y="2874"/>
                  </a:cubicBezTo>
                  <a:cubicBezTo>
                    <a:pt x="12285" y="2841"/>
                    <a:pt x="12260" y="2823"/>
                    <a:pt x="12232" y="2812"/>
                  </a:cubicBezTo>
                  <a:cubicBezTo>
                    <a:pt x="12202" y="2803"/>
                    <a:pt x="12173" y="2803"/>
                    <a:pt x="12145" y="2812"/>
                  </a:cubicBezTo>
                  <a:cubicBezTo>
                    <a:pt x="12120" y="2818"/>
                    <a:pt x="12097" y="2818"/>
                    <a:pt x="12083" y="2791"/>
                  </a:cubicBezTo>
                  <a:cubicBezTo>
                    <a:pt x="12076" y="2785"/>
                    <a:pt x="12076" y="2773"/>
                    <a:pt x="12071" y="2767"/>
                  </a:cubicBezTo>
                  <a:cubicBezTo>
                    <a:pt x="12058" y="2741"/>
                    <a:pt x="12028" y="2767"/>
                    <a:pt x="12005" y="2773"/>
                  </a:cubicBezTo>
                  <a:cubicBezTo>
                    <a:pt x="11956" y="2785"/>
                    <a:pt x="11917" y="2723"/>
                    <a:pt x="11874" y="2711"/>
                  </a:cubicBezTo>
                  <a:cubicBezTo>
                    <a:pt x="11851" y="2705"/>
                    <a:pt x="11821" y="2717"/>
                    <a:pt x="11802" y="2735"/>
                  </a:cubicBezTo>
                  <a:cubicBezTo>
                    <a:pt x="11798" y="2741"/>
                    <a:pt x="11793" y="2741"/>
                    <a:pt x="11788" y="2741"/>
                  </a:cubicBezTo>
                  <a:cubicBezTo>
                    <a:pt x="11782" y="2741"/>
                    <a:pt x="11782" y="2735"/>
                    <a:pt x="11777" y="2729"/>
                  </a:cubicBezTo>
                  <a:cubicBezTo>
                    <a:pt x="11763" y="2711"/>
                    <a:pt x="11733" y="2723"/>
                    <a:pt x="11715" y="2729"/>
                  </a:cubicBezTo>
                  <a:cubicBezTo>
                    <a:pt x="11680" y="2741"/>
                    <a:pt x="11648" y="2741"/>
                    <a:pt x="11609" y="2755"/>
                  </a:cubicBezTo>
                  <a:cubicBezTo>
                    <a:pt x="11575" y="2761"/>
                    <a:pt x="11535" y="2779"/>
                    <a:pt x="11517" y="2823"/>
                  </a:cubicBezTo>
                  <a:cubicBezTo>
                    <a:pt x="11512" y="2767"/>
                    <a:pt x="11503" y="2699"/>
                    <a:pt x="11460" y="2679"/>
                  </a:cubicBezTo>
                  <a:cubicBezTo>
                    <a:pt x="11455" y="2673"/>
                    <a:pt x="11446" y="2673"/>
                    <a:pt x="11446" y="2667"/>
                  </a:cubicBezTo>
                  <a:cubicBezTo>
                    <a:pt x="11446" y="2661"/>
                    <a:pt x="11441" y="2655"/>
                    <a:pt x="11441" y="2655"/>
                  </a:cubicBezTo>
                  <a:cubicBezTo>
                    <a:pt x="11430" y="2625"/>
                    <a:pt x="11397" y="2625"/>
                    <a:pt x="11368" y="2631"/>
                  </a:cubicBezTo>
                  <a:cubicBezTo>
                    <a:pt x="11372" y="2605"/>
                    <a:pt x="11377" y="2587"/>
                    <a:pt x="11386" y="2569"/>
                  </a:cubicBezTo>
                  <a:cubicBezTo>
                    <a:pt x="11397" y="2548"/>
                    <a:pt x="11416" y="2537"/>
                    <a:pt x="11434" y="2543"/>
                  </a:cubicBezTo>
                  <a:cubicBezTo>
                    <a:pt x="11446" y="2543"/>
                    <a:pt x="11455" y="2557"/>
                    <a:pt x="11464" y="2548"/>
                  </a:cubicBezTo>
                  <a:cubicBezTo>
                    <a:pt x="11483" y="2537"/>
                    <a:pt x="11478" y="2495"/>
                    <a:pt x="11499" y="2501"/>
                  </a:cubicBezTo>
                  <a:cubicBezTo>
                    <a:pt x="11508" y="2486"/>
                    <a:pt x="11508" y="2463"/>
                    <a:pt x="11503" y="2445"/>
                  </a:cubicBezTo>
                  <a:cubicBezTo>
                    <a:pt x="11503" y="2439"/>
                    <a:pt x="11499" y="2433"/>
                    <a:pt x="11499" y="2424"/>
                  </a:cubicBezTo>
                  <a:cubicBezTo>
                    <a:pt x="11499" y="2407"/>
                    <a:pt x="11512" y="2389"/>
                    <a:pt x="11522" y="2371"/>
                  </a:cubicBezTo>
                  <a:cubicBezTo>
                    <a:pt x="11531" y="2350"/>
                    <a:pt x="11526" y="2321"/>
                    <a:pt x="11517" y="2303"/>
                  </a:cubicBezTo>
                  <a:cubicBezTo>
                    <a:pt x="11508" y="2282"/>
                    <a:pt x="11494" y="2271"/>
                    <a:pt x="11473" y="2259"/>
                  </a:cubicBezTo>
                  <a:cubicBezTo>
                    <a:pt x="11460" y="2253"/>
                    <a:pt x="11446" y="2247"/>
                    <a:pt x="11430" y="2253"/>
                  </a:cubicBezTo>
                  <a:cubicBezTo>
                    <a:pt x="11425" y="2259"/>
                    <a:pt x="11416" y="2259"/>
                    <a:pt x="11411" y="2265"/>
                  </a:cubicBezTo>
                  <a:cubicBezTo>
                    <a:pt x="11393" y="2271"/>
                    <a:pt x="11372" y="2247"/>
                    <a:pt x="11349" y="2241"/>
                  </a:cubicBezTo>
                  <a:cubicBezTo>
                    <a:pt x="11333" y="2232"/>
                    <a:pt x="11315" y="2241"/>
                    <a:pt x="11301" y="2241"/>
                  </a:cubicBezTo>
                  <a:cubicBezTo>
                    <a:pt x="11285" y="2247"/>
                    <a:pt x="11269" y="2247"/>
                    <a:pt x="11253" y="2241"/>
                  </a:cubicBezTo>
                  <a:cubicBezTo>
                    <a:pt x="11239" y="2232"/>
                    <a:pt x="11223" y="2208"/>
                    <a:pt x="11232" y="2191"/>
                  </a:cubicBezTo>
                  <a:cubicBezTo>
                    <a:pt x="11236" y="2185"/>
                    <a:pt x="11243" y="2179"/>
                    <a:pt x="11248" y="2164"/>
                  </a:cubicBezTo>
                  <a:cubicBezTo>
                    <a:pt x="11257" y="2146"/>
                    <a:pt x="11266" y="2123"/>
                    <a:pt x="11262" y="2102"/>
                  </a:cubicBezTo>
                  <a:cubicBezTo>
                    <a:pt x="11276" y="2090"/>
                    <a:pt x="11301" y="2117"/>
                    <a:pt x="11319" y="2102"/>
                  </a:cubicBezTo>
                  <a:lnTo>
                    <a:pt x="11333" y="2084"/>
                  </a:lnTo>
                  <a:cubicBezTo>
                    <a:pt x="11354" y="2049"/>
                    <a:pt x="11368" y="2004"/>
                    <a:pt x="11372" y="1960"/>
                  </a:cubicBezTo>
                  <a:cubicBezTo>
                    <a:pt x="11386" y="1972"/>
                    <a:pt x="11407" y="1978"/>
                    <a:pt x="11420" y="1972"/>
                  </a:cubicBezTo>
                  <a:cubicBezTo>
                    <a:pt x="11434" y="1966"/>
                    <a:pt x="11450" y="1942"/>
                    <a:pt x="11450" y="1925"/>
                  </a:cubicBezTo>
                  <a:cubicBezTo>
                    <a:pt x="11450" y="1892"/>
                    <a:pt x="11441" y="1863"/>
                    <a:pt x="11455" y="1842"/>
                  </a:cubicBezTo>
                  <a:cubicBezTo>
                    <a:pt x="11464" y="1824"/>
                    <a:pt x="11494" y="1830"/>
                    <a:pt x="11499" y="1848"/>
                  </a:cubicBezTo>
                  <a:cubicBezTo>
                    <a:pt x="11526" y="1830"/>
                    <a:pt x="11542" y="1780"/>
                    <a:pt x="11531" y="1738"/>
                  </a:cubicBezTo>
                  <a:cubicBezTo>
                    <a:pt x="11556" y="1732"/>
                    <a:pt x="11579" y="1706"/>
                    <a:pt x="11584" y="1676"/>
                  </a:cubicBezTo>
                  <a:cubicBezTo>
                    <a:pt x="11575" y="1656"/>
                    <a:pt x="11547" y="1688"/>
                    <a:pt x="11542" y="1670"/>
                  </a:cubicBezTo>
                  <a:cubicBezTo>
                    <a:pt x="11535" y="1662"/>
                    <a:pt x="11542" y="1650"/>
                    <a:pt x="11547" y="1644"/>
                  </a:cubicBezTo>
                  <a:cubicBezTo>
                    <a:pt x="11556" y="1626"/>
                    <a:pt x="11570" y="1599"/>
                    <a:pt x="11570" y="1576"/>
                  </a:cubicBezTo>
                  <a:cubicBezTo>
                    <a:pt x="11570" y="1552"/>
                    <a:pt x="11561" y="1520"/>
                    <a:pt x="11542" y="1520"/>
                  </a:cubicBezTo>
                  <a:lnTo>
                    <a:pt x="11531" y="1520"/>
                  </a:lnTo>
                  <a:cubicBezTo>
                    <a:pt x="11526" y="1514"/>
                    <a:pt x="11526" y="1502"/>
                    <a:pt x="11531" y="1496"/>
                  </a:cubicBezTo>
                  <a:cubicBezTo>
                    <a:pt x="11542" y="1484"/>
                    <a:pt x="11556" y="1469"/>
                    <a:pt x="11565" y="1458"/>
                  </a:cubicBezTo>
                  <a:cubicBezTo>
                    <a:pt x="11575" y="1446"/>
                    <a:pt x="11584" y="1422"/>
                    <a:pt x="11575" y="1407"/>
                  </a:cubicBezTo>
                  <a:cubicBezTo>
                    <a:pt x="11570" y="1401"/>
                    <a:pt x="11561" y="1395"/>
                    <a:pt x="11556" y="1390"/>
                  </a:cubicBezTo>
                  <a:cubicBezTo>
                    <a:pt x="11552" y="1384"/>
                    <a:pt x="11552" y="1372"/>
                    <a:pt x="11552" y="1360"/>
                  </a:cubicBezTo>
                  <a:cubicBezTo>
                    <a:pt x="11552" y="1333"/>
                    <a:pt x="11556" y="1316"/>
                    <a:pt x="11556" y="1292"/>
                  </a:cubicBezTo>
                  <a:cubicBezTo>
                    <a:pt x="11556" y="1265"/>
                    <a:pt x="11561" y="1230"/>
                    <a:pt x="11579" y="1218"/>
                  </a:cubicBezTo>
                  <a:cubicBezTo>
                    <a:pt x="11575" y="1215"/>
                    <a:pt x="11570" y="1209"/>
                    <a:pt x="11570" y="1203"/>
                  </a:cubicBezTo>
                  <a:lnTo>
                    <a:pt x="11570" y="1135"/>
                  </a:lnTo>
                  <a:cubicBezTo>
                    <a:pt x="11570" y="1129"/>
                    <a:pt x="11570" y="1118"/>
                    <a:pt x="11565" y="1112"/>
                  </a:cubicBezTo>
                  <a:cubicBezTo>
                    <a:pt x="11561" y="1106"/>
                    <a:pt x="11556" y="1106"/>
                    <a:pt x="11552" y="1100"/>
                  </a:cubicBezTo>
                  <a:cubicBezTo>
                    <a:pt x="11535" y="1091"/>
                    <a:pt x="11519" y="1091"/>
                    <a:pt x="11503" y="1079"/>
                  </a:cubicBezTo>
                  <a:cubicBezTo>
                    <a:pt x="11489" y="1067"/>
                    <a:pt x="11473" y="1050"/>
                    <a:pt x="11483" y="1023"/>
                  </a:cubicBezTo>
                  <a:cubicBezTo>
                    <a:pt x="11487" y="1011"/>
                    <a:pt x="11503" y="999"/>
                    <a:pt x="11499" y="982"/>
                  </a:cubicBezTo>
                  <a:cubicBezTo>
                    <a:pt x="11499" y="976"/>
                    <a:pt x="11494" y="967"/>
                    <a:pt x="11494" y="967"/>
                  </a:cubicBezTo>
                  <a:cubicBezTo>
                    <a:pt x="11494" y="961"/>
                    <a:pt x="11494" y="955"/>
                    <a:pt x="11499" y="955"/>
                  </a:cubicBezTo>
                  <a:cubicBezTo>
                    <a:pt x="11508" y="943"/>
                    <a:pt x="11487" y="914"/>
                    <a:pt x="11478" y="908"/>
                  </a:cubicBezTo>
                  <a:cubicBezTo>
                    <a:pt x="11464" y="899"/>
                    <a:pt x="11450" y="899"/>
                    <a:pt x="11441" y="887"/>
                  </a:cubicBezTo>
                  <a:cubicBezTo>
                    <a:pt x="11434" y="881"/>
                    <a:pt x="11430" y="869"/>
                    <a:pt x="11425" y="857"/>
                  </a:cubicBezTo>
                  <a:cubicBezTo>
                    <a:pt x="11420" y="851"/>
                    <a:pt x="11414" y="843"/>
                    <a:pt x="11402" y="837"/>
                  </a:cubicBezTo>
                  <a:cubicBezTo>
                    <a:pt x="11384" y="822"/>
                    <a:pt x="11354" y="813"/>
                    <a:pt x="11338" y="837"/>
                  </a:cubicBezTo>
                  <a:cubicBezTo>
                    <a:pt x="11328" y="813"/>
                    <a:pt x="11324" y="789"/>
                    <a:pt x="11315" y="763"/>
                  </a:cubicBezTo>
                  <a:cubicBezTo>
                    <a:pt x="11315" y="757"/>
                    <a:pt x="11310" y="751"/>
                    <a:pt x="11310" y="751"/>
                  </a:cubicBezTo>
                  <a:cubicBezTo>
                    <a:pt x="11305" y="745"/>
                    <a:pt x="11296" y="751"/>
                    <a:pt x="11289" y="751"/>
                  </a:cubicBezTo>
                  <a:cubicBezTo>
                    <a:pt x="11266" y="751"/>
                    <a:pt x="11248" y="701"/>
                    <a:pt x="11223" y="707"/>
                  </a:cubicBezTo>
                  <a:cubicBezTo>
                    <a:pt x="11218" y="707"/>
                    <a:pt x="11213" y="713"/>
                    <a:pt x="11209" y="713"/>
                  </a:cubicBezTo>
                  <a:cubicBezTo>
                    <a:pt x="11184" y="727"/>
                    <a:pt x="11161" y="695"/>
                    <a:pt x="11135" y="701"/>
                  </a:cubicBezTo>
                  <a:cubicBezTo>
                    <a:pt x="11131" y="713"/>
                    <a:pt x="11126" y="721"/>
                    <a:pt x="11121" y="733"/>
                  </a:cubicBezTo>
                  <a:cubicBezTo>
                    <a:pt x="11108" y="707"/>
                    <a:pt x="11082" y="689"/>
                    <a:pt x="11059" y="683"/>
                  </a:cubicBezTo>
                  <a:lnTo>
                    <a:pt x="11043" y="683"/>
                  </a:lnTo>
                  <a:cubicBezTo>
                    <a:pt x="11039" y="689"/>
                    <a:pt x="11039" y="689"/>
                    <a:pt x="11039" y="695"/>
                  </a:cubicBezTo>
                  <a:cubicBezTo>
                    <a:pt x="11034" y="721"/>
                    <a:pt x="11034" y="745"/>
                    <a:pt x="11039" y="769"/>
                  </a:cubicBezTo>
                  <a:cubicBezTo>
                    <a:pt x="11011" y="739"/>
                    <a:pt x="10977" y="701"/>
                    <a:pt x="10942" y="701"/>
                  </a:cubicBezTo>
                  <a:lnTo>
                    <a:pt x="10914" y="701"/>
                  </a:lnTo>
                  <a:cubicBezTo>
                    <a:pt x="10901" y="695"/>
                    <a:pt x="10889" y="677"/>
                    <a:pt x="10880" y="659"/>
                  </a:cubicBezTo>
                  <a:cubicBezTo>
                    <a:pt x="10875" y="683"/>
                    <a:pt x="10852" y="689"/>
                    <a:pt x="10836" y="689"/>
                  </a:cubicBezTo>
                  <a:cubicBezTo>
                    <a:pt x="10818" y="695"/>
                    <a:pt x="10799" y="707"/>
                    <a:pt x="10799" y="733"/>
                  </a:cubicBezTo>
                  <a:cubicBezTo>
                    <a:pt x="10799" y="745"/>
                    <a:pt x="10809" y="757"/>
                    <a:pt x="10804" y="769"/>
                  </a:cubicBezTo>
                  <a:cubicBezTo>
                    <a:pt x="10788" y="769"/>
                    <a:pt x="10774" y="775"/>
                    <a:pt x="10765" y="789"/>
                  </a:cubicBezTo>
                  <a:cubicBezTo>
                    <a:pt x="10756" y="801"/>
                    <a:pt x="10751" y="819"/>
                    <a:pt x="10760" y="831"/>
                  </a:cubicBezTo>
                  <a:cubicBezTo>
                    <a:pt x="10770" y="846"/>
                    <a:pt x="10783" y="851"/>
                    <a:pt x="10779" y="863"/>
                  </a:cubicBezTo>
                  <a:cubicBezTo>
                    <a:pt x="10751" y="869"/>
                    <a:pt x="10717" y="869"/>
                    <a:pt x="10687" y="863"/>
                  </a:cubicBezTo>
                  <a:cubicBezTo>
                    <a:pt x="10682" y="863"/>
                    <a:pt x="10673" y="863"/>
                    <a:pt x="10668" y="857"/>
                  </a:cubicBezTo>
                  <a:cubicBezTo>
                    <a:pt x="10664" y="851"/>
                    <a:pt x="10659" y="837"/>
                    <a:pt x="10655" y="831"/>
                  </a:cubicBezTo>
                  <a:cubicBezTo>
                    <a:pt x="10643" y="801"/>
                    <a:pt x="10629" y="763"/>
                    <a:pt x="10648" y="733"/>
                  </a:cubicBezTo>
                  <a:cubicBezTo>
                    <a:pt x="10668" y="707"/>
                    <a:pt x="10707" y="701"/>
                    <a:pt x="10712" y="665"/>
                  </a:cubicBezTo>
                  <a:cubicBezTo>
                    <a:pt x="10712" y="650"/>
                    <a:pt x="10707" y="639"/>
                    <a:pt x="10712" y="627"/>
                  </a:cubicBezTo>
                  <a:cubicBezTo>
                    <a:pt x="10717" y="615"/>
                    <a:pt x="10730" y="609"/>
                    <a:pt x="10740" y="603"/>
                  </a:cubicBezTo>
                  <a:cubicBezTo>
                    <a:pt x="10751" y="597"/>
                    <a:pt x="10765" y="582"/>
                    <a:pt x="10760" y="571"/>
                  </a:cubicBezTo>
                  <a:cubicBezTo>
                    <a:pt x="10760" y="559"/>
                    <a:pt x="10751" y="559"/>
                    <a:pt x="10744" y="553"/>
                  </a:cubicBezTo>
                  <a:cubicBezTo>
                    <a:pt x="10721" y="535"/>
                    <a:pt x="10691" y="520"/>
                    <a:pt x="10668" y="503"/>
                  </a:cubicBezTo>
                  <a:cubicBezTo>
                    <a:pt x="10664" y="497"/>
                    <a:pt x="10655" y="497"/>
                    <a:pt x="10648" y="497"/>
                  </a:cubicBezTo>
                  <a:cubicBezTo>
                    <a:pt x="10638" y="497"/>
                    <a:pt x="10629" y="509"/>
                    <a:pt x="10615" y="514"/>
                  </a:cubicBezTo>
                  <a:cubicBezTo>
                    <a:pt x="10606" y="520"/>
                    <a:pt x="10590" y="514"/>
                    <a:pt x="10576" y="514"/>
                  </a:cubicBezTo>
                  <a:cubicBezTo>
                    <a:pt x="10563" y="514"/>
                    <a:pt x="10546" y="514"/>
                    <a:pt x="10542" y="535"/>
                  </a:cubicBezTo>
                  <a:cubicBezTo>
                    <a:pt x="10542" y="509"/>
                    <a:pt x="10537" y="485"/>
                    <a:pt x="10523" y="473"/>
                  </a:cubicBezTo>
                  <a:cubicBezTo>
                    <a:pt x="10510" y="452"/>
                    <a:pt x="10489" y="452"/>
                    <a:pt x="10475" y="467"/>
                  </a:cubicBezTo>
                  <a:cubicBezTo>
                    <a:pt x="10461" y="441"/>
                    <a:pt x="10471" y="405"/>
                    <a:pt x="10484" y="378"/>
                  </a:cubicBezTo>
                  <a:cubicBezTo>
                    <a:pt x="10498" y="355"/>
                    <a:pt x="10523" y="343"/>
                    <a:pt x="10542" y="322"/>
                  </a:cubicBezTo>
                  <a:cubicBezTo>
                    <a:pt x="10563" y="310"/>
                    <a:pt x="10586" y="305"/>
                    <a:pt x="10595" y="322"/>
                  </a:cubicBezTo>
                  <a:cubicBezTo>
                    <a:pt x="10599" y="328"/>
                    <a:pt x="10599" y="337"/>
                    <a:pt x="10606" y="337"/>
                  </a:cubicBezTo>
                  <a:cubicBezTo>
                    <a:pt x="10615" y="337"/>
                    <a:pt x="10615" y="322"/>
                    <a:pt x="10615" y="310"/>
                  </a:cubicBezTo>
                  <a:cubicBezTo>
                    <a:pt x="10611" y="299"/>
                    <a:pt x="10599" y="293"/>
                    <a:pt x="10599" y="287"/>
                  </a:cubicBezTo>
                  <a:cubicBezTo>
                    <a:pt x="10595" y="260"/>
                    <a:pt x="10620" y="242"/>
                    <a:pt x="10638" y="248"/>
                  </a:cubicBezTo>
                  <a:cubicBezTo>
                    <a:pt x="10659" y="254"/>
                    <a:pt x="10678" y="266"/>
                    <a:pt x="10696" y="266"/>
                  </a:cubicBezTo>
                  <a:cubicBezTo>
                    <a:pt x="10696" y="248"/>
                    <a:pt x="10682" y="231"/>
                    <a:pt x="10664" y="231"/>
                  </a:cubicBezTo>
                  <a:cubicBezTo>
                    <a:pt x="10648" y="225"/>
                    <a:pt x="10629" y="231"/>
                    <a:pt x="10615" y="225"/>
                  </a:cubicBezTo>
                  <a:cubicBezTo>
                    <a:pt x="10563" y="204"/>
                    <a:pt x="10537" y="118"/>
                    <a:pt x="10484" y="112"/>
                  </a:cubicBezTo>
                  <a:cubicBezTo>
                    <a:pt x="10475" y="112"/>
                    <a:pt x="10471" y="101"/>
                    <a:pt x="10466" y="95"/>
                  </a:cubicBezTo>
                  <a:cubicBezTo>
                    <a:pt x="10450" y="68"/>
                    <a:pt x="10427" y="74"/>
                    <a:pt x="10402" y="62"/>
                  </a:cubicBezTo>
                  <a:cubicBezTo>
                    <a:pt x="10388" y="56"/>
                    <a:pt x="10379" y="38"/>
                    <a:pt x="10369" y="27"/>
                  </a:cubicBezTo>
                  <a:cubicBezTo>
                    <a:pt x="10360" y="12"/>
                    <a:pt x="10344" y="0"/>
                    <a:pt x="10330" y="0"/>
                  </a:cubicBezTo>
                  <a:cubicBezTo>
                    <a:pt x="10316" y="0"/>
                    <a:pt x="10296" y="6"/>
                    <a:pt x="10296" y="27"/>
                  </a:cubicBezTo>
                  <a:cubicBezTo>
                    <a:pt x="10287" y="6"/>
                    <a:pt x="10264" y="12"/>
                    <a:pt x="10247" y="33"/>
                  </a:cubicBezTo>
                  <a:cubicBezTo>
                    <a:pt x="10234" y="50"/>
                    <a:pt x="10224" y="68"/>
                    <a:pt x="10204" y="68"/>
                  </a:cubicBezTo>
                  <a:cubicBezTo>
                    <a:pt x="10190" y="68"/>
                    <a:pt x="10172" y="56"/>
                    <a:pt x="10162" y="68"/>
                  </a:cubicBezTo>
                  <a:cubicBezTo>
                    <a:pt x="10155" y="74"/>
                    <a:pt x="10155" y="74"/>
                    <a:pt x="10155" y="80"/>
                  </a:cubicBezTo>
                  <a:cubicBezTo>
                    <a:pt x="10146" y="106"/>
                    <a:pt x="10146" y="136"/>
                    <a:pt x="10146" y="163"/>
                  </a:cubicBezTo>
                  <a:lnTo>
                    <a:pt x="10146" y="174"/>
                  </a:lnTo>
                  <a:cubicBezTo>
                    <a:pt x="10142" y="180"/>
                    <a:pt x="10137" y="180"/>
                    <a:pt x="10132" y="180"/>
                  </a:cubicBezTo>
                  <a:cubicBezTo>
                    <a:pt x="10084" y="169"/>
                    <a:pt x="10031" y="180"/>
                    <a:pt x="10001" y="231"/>
                  </a:cubicBezTo>
                  <a:cubicBezTo>
                    <a:pt x="10013" y="225"/>
                    <a:pt x="10022" y="242"/>
                    <a:pt x="10017" y="254"/>
                  </a:cubicBezTo>
                  <a:cubicBezTo>
                    <a:pt x="10013" y="266"/>
                    <a:pt x="10001" y="266"/>
                    <a:pt x="9992" y="275"/>
                  </a:cubicBezTo>
                  <a:cubicBezTo>
                    <a:pt x="9983" y="281"/>
                    <a:pt x="9974" y="287"/>
                    <a:pt x="9969" y="299"/>
                  </a:cubicBezTo>
                  <a:cubicBezTo>
                    <a:pt x="9969" y="322"/>
                    <a:pt x="9997" y="337"/>
                    <a:pt x="9988" y="361"/>
                  </a:cubicBezTo>
                  <a:cubicBezTo>
                    <a:pt x="9988" y="367"/>
                    <a:pt x="9983" y="367"/>
                    <a:pt x="9978" y="373"/>
                  </a:cubicBezTo>
                  <a:cubicBezTo>
                    <a:pt x="9969" y="384"/>
                    <a:pt x="9958" y="396"/>
                    <a:pt x="9953" y="417"/>
                  </a:cubicBezTo>
                  <a:cubicBezTo>
                    <a:pt x="9953" y="423"/>
                    <a:pt x="9953" y="429"/>
                    <a:pt x="9948" y="435"/>
                  </a:cubicBezTo>
                  <a:cubicBezTo>
                    <a:pt x="9944" y="441"/>
                    <a:pt x="9939" y="441"/>
                    <a:pt x="9939" y="446"/>
                  </a:cubicBezTo>
                  <a:cubicBezTo>
                    <a:pt x="9925" y="458"/>
                    <a:pt x="9921" y="479"/>
                    <a:pt x="9925" y="497"/>
                  </a:cubicBezTo>
                  <a:cubicBezTo>
                    <a:pt x="9930" y="514"/>
                    <a:pt x="9948" y="529"/>
                    <a:pt x="9965" y="520"/>
                  </a:cubicBezTo>
                  <a:cubicBezTo>
                    <a:pt x="9958" y="553"/>
                    <a:pt x="9935" y="571"/>
                    <a:pt x="9930" y="597"/>
                  </a:cubicBezTo>
                  <a:cubicBezTo>
                    <a:pt x="9921" y="627"/>
                    <a:pt x="9930" y="650"/>
                    <a:pt x="9939" y="683"/>
                  </a:cubicBezTo>
                  <a:cubicBezTo>
                    <a:pt x="9948" y="713"/>
                    <a:pt x="9953" y="745"/>
                    <a:pt x="9939" y="769"/>
                  </a:cubicBezTo>
                  <a:cubicBezTo>
                    <a:pt x="9944" y="783"/>
                    <a:pt x="9974" y="775"/>
                    <a:pt x="9974" y="789"/>
                  </a:cubicBezTo>
                  <a:cubicBezTo>
                    <a:pt x="9974" y="795"/>
                    <a:pt x="9969" y="801"/>
                    <a:pt x="9969" y="801"/>
                  </a:cubicBezTo>
                  <a:cubicBezTo>
                    <a:pt x="9948" y="825"/>
                    <a:pt x="9944" y="869"/>
                    <a:pt x="9958" y="908"/>
                  </a:cubicBezTo>
                  <a:cubicBezTo>
                    <a:pt x="9939" y="919"/>
                    <a:pt x="9916" y="914"/>
                    <a:pt x="9891" y="908"/>
                  </a:cubicBezTo>
                  <a:cubicBezTo>
                    <a:pt x="9868" y="899"/>
                    <a:pt x="9852" y="881"/>
                    <a:pt x="9829" y="875"/>
                  </a:cubicBezTo>
                  <a:cubicBezTo>
                    <a:pt x="9815" y="869"/>
                    <a:pt x="9799" y="869"/>
                    <a:pt x="9785" y="875"/>
                  </a:cubicBezTo>
                  <a:cubicBezTo>
                    <a:pt x="9776" y="875"/>
                    <a:pt x="9767" y="875"/>
                    <a:pt x="9760" y="887"/>
                  </a:cubicBezTo>
                  <a:cubicBezTo>
                    <a:pt x="9758" y="896"/>
                    <a:pt x="9760" y="908"/>
                    <a:pt x="9762" y="911"/>
                  </a:cubicBezTo>
                  <a:cubicBezTo>
                    <a:pt x="9721" y="905"/>
                    <a:pt x="9668" y="902"/>
                    <a:pt x="9640" y="943"/>
                  </a:cubicBezTo>
                  <a:cubicBezTo>
                    <a:pt x="9631" y="961"/>
                    <a:pt x="9631" y="987"/>
                    <a:pt x="9645" y="1005"/>
                  </a:cubicBezTo>
                  <a:cubicBezTo>
                    <a:pt x="9659" y="1017"/>
                    <a:pt x="9675" y="1029"/>
                    <a:pt x="9684" y="1050"/>
                  </a:cubicBezTo>
                  <a:cubicBezTo>
                    <a:pt x="9679" y="1061"/>
                    <a:pt x="9670" y="1067"/>
                    <a:pt x="9659" y="1073"/>
                  </a:cubicBezTo>
                  <a:cubicBezTo>
                    <a:pt x="9670" y="1085"/>
                    <a:pt x="9675" y="1106"/>
                    <a:pt x="9670" y="1123"/>
                  </a:cubicBezTo>
                  <a:cubicBezTo>
                    <a:pt x="9666" y="1141"/>
                    <a:pt x="9645" y="1147"/>
                    <a:pt x="9636" y="1141"/>
                  </a:cubicBezTo>
                  <a:cubicBezTo>
                    <a:pt x="9631" y="1141"/>
                    <a:pt x="9622" y="1129"/>
                    <a:pt x="9617" y="1129"/>
                  </a:cubicBezTo>
                  <a:cubicBezTo>
                    <a:pt x="9592" y="1123"/>
                    <a:pt x="9574" y="1153"/>
                    <a:pt x="9548" y="1162"/>
                  </a:cubicBezTo>
                  <a:cubicBezTo>
                    <a:pt x="9553" y="1174"/>
                    <a:pt x="9557" y="1186"/>
                    <a:pt x="9569" y="1197"/>
                  </a:cubicBezTo>
                  <a:cubicBezTo>
                    <a:pt x="9553" y="1221"/>
                    <a:pt x="9514" y="1197"/>
                    <a:pt x="9500" y="1230"/>
                  </a:cubicBezTo>
                  <a:cubicBezTo>
                    <a:pt x="9491" y="1248"/>
                    <a:pt x="9495" y="1277"/>
                    <a:pt x="9482" y="1283"/>
                  </a:cubicBezTo>
                  <a:cubicBezTo>
                    <a:pt x="9472" y="1292"/>
                    <a:pt x="9461" y="1283"/>
                    <a:pt x="9452" y="1283"/>
                  </a:cubicBezTo>
                  <a:cubicBezTo>
                    <a:pt x="9442" y="1283"/>
                    <a:pt x="9433" y="1298"/>
                    <a:pt x="9424" y="1310"/>
                  </a:cubicBezTo>
                  <a:cubicBezTo>
                    <a:pt x="9424" y="1292"/>
                    <a:pt x="9408" y="1277"/>
                    <a:pt x="9399" y="1271"/>
                  </a:cubicBezTo>
                  <a:cubicBezTo>
                    <a:pt x="9385" y="1265"/>
                    <a:pt x="9371" y="1271"/>
                    <a:pt x="9355" y="1271"/>
                  </a:cubicBezTo>
                  <a:cubicBezTo>
                    <a:pt x="9316" y="1283"/>
                    <a:pt x="9284" y="1304"/>
                    <a:pt x="9249" y="1322"/>
                  </a:cubicBezTo>
                  <a:cubicBezTo>
                    <a:pt x="9235" y="1310"/>
                    <a:pt x="9235" y="1283"/>
                    <a:pt x="9240" y="1265"/>
                  </a:cubicBezTo>
                  <a:cubicBezTo>
                    <a:pt x="9249" y="1221"/>
                    <a:pt x="9275" y="1191"/>
                    <a:pt x="9307" y="1180"/>
                  </a:cubicBezTo>
                  <a:cubicBezTo>
                    <a:pt x="9327" y="1174"/>
                    <a:pt x="9346" y="1174"/>
                    <a:pt x="9364" y="1168"/>
                  </a:cubicBezTo>
                  <a:cubicBezTo>
                    <a:pt x="9394" y="1153"/>
                    <a:pt x="9408" y="1112"/>
                    <a:pt x="9419" y="1073"/>
                  </a:cubicBezTo>
                  <a:cubicBezTo>
                    <a:pt x="9408" y="1073"/>
                    <a:pt x="9403" y="1061"/>
                    <a:pt x="9403" y="1050"/>
                  </a:cubicBezTo>
                  <a:cubicBezTo>
                    <a:pt x="9403" y="1038"/>
                    <a:pt x="9408" y="1029"/>
                    <a:pt x="9408" y="1017"/>
                  </a:cubicBezTo>
                  <a:cubicBezTo>
                    <a:pt x="9408" y="987"/>
                    <a:pt x="9380" y="967"/>
                    <a:pt x="9355" y="967"/>
                  </a:cubicBezTo>
                  <a:cubicBezTo>
                    <a:pt x="9332" y="967"/>
                    <a:pt x="9302" y="967"/>
                    <a:pt x="9288" y="943"/>
                  </a:cubicBezTo>
                  <a:cubicBezTo>
                    <a:pt x="9284" y="931"/>
                    <a:pt x="9279" y="919"/>
                    <a:pt x="9268" y="914"/>
                  </a:cubicBezTo>
                  <a:lnTo>
                    <a:pt x="9258" y="914"/>
                  </a:lnTo>
                  <a:cubicBezTo>
                    <a:pt x="9235" y="925"/>
                    <a:pt x="9210" y="955"/>
                    <a:pt x="9210" y="987"/>
                  </a:cubicBezTo>
                  <a:cubicBezTo>
                    <a:pt x="9210" y="1011"/>
                    <a:pt x="9215" y="1029"/>
                    <a:pt x="9210" y="1055"/>
                  </a:cubicBezTo>
                  <a:cubicBezTo>
                    <a:pt x="9210" y="1079"/>
                    <a:pt x="9201" y="1106"/>
                    <a:pt x="9182" y="1112"/>
                  </a:cubicBezTo>
                  <a:cubicBezTo>
                    <a:pt x="9192" y="1129"/>
                    <a:pt x="9192" y="1153"/>
                    <a:pt x="9182" y="1174"/>
                  </a:cubicBezTo>
                  <a:cubicBezTo>
                    <a:pt x="9173" y="1191"/>
                    <a:pt x="9153" y="1197"/>
                    <a:pt x="9134" y="1191"/>
                  </a:cubicBezTo>
                  <a:cubicBezTo>
                    <a:pt x="9118" y="1191"/>
                    <a:pt x="9100" y="1180"/>
                    <a:pt x="9086" y="1180"/>
                  </a:cubicBezTo>
                  <a:cubicBezTo>
                    <a:pt x="9056" y="1168"/>
                    <a:pt x="9024" y="1168"/>
                    <a:pt x="8998" y="1191"/>
                  </a:cubicBezTo>
                  <a:cubicBezTo>
                    <a:pt x="8989" y="1197"/>
                    <a:pt x="8985" y="1209"/>
                    <a:pt x="8975" y="1221"/>
                  </a:cubicBezTo>
                  <a:cubicBezTo>
                    <a:pt x="8964" y="1230"/>
                    <a:pt x="8950" y="1236"/>
                    <a:pt x="8941" y="1221"/>
                  </a:cubicBezTo>
                  <a:cubicBezTo>
                    <a:pt x="8932" y="1215"/>
                    <a:pt x="8932" y="1197"/>
                    <a:pt x="8920" y="1197"/>
                  </a:cubicBezTo>
                  <a:cubicBezTo>
                    <a:pt x="8916" y="1197"/>
                    <a:pt x="8911" y="1203"/>
                    <a:pt x="8906" y="1203"/>
                  </a:cubicBezTo>
                  <a:cubicBezTo>
                    <a:pt x="8897" y="1215"/>
                    <a:pt x="8883" y="1230"/>
                    <a:pt x="8879" y="1248"/>
                  </a:cubicBezTo>
                  <a:cubicBezTo>
                    <a:pt x="8883" y="1259"/>
                    <a:pt x="8883" y="1271"/>
                    <a:pt x="8888" y="1283"/>
                  </a:cubicBezTo>
                  <a:cubicBezTo>
                    <a:pt x="8867" y="1283"/>
                    <a:pt x="8854" y="1292"/>
                    <a:pt x="8835" y="1298"/>
                  </a:cubicBezTo>
                  <a:cubicBezTo>
                    <a:pt x="8819" y="1304"/>
                    <a:pt x="8805" y="1322"/>
                    <a:pt x="8801" y="1345"/>
                  </a:cubicBezTo>
                  <a:lnTo>
                    <a:pt x="8801" y="1372"/>
                  </a:lnTo>
                  <a:cubicBezTo>
                    <a:pt x="8805" y="1378"/>
                    <a:pt x="8810" y="1384"/>
                    <a:pt x="8819" y="1384"/>
                  </a:cubicBezTo>
                  <a:cubicBezTo>
                    <a:pt x="8826" y="1390"/>
                    <a:pt x="8831" y="1395"/>
                    <a:pt x="8831" y="1407"/>
                  </a:cubicBezTo>
                  <a:cubicBezTo>
                    <a:pt x="8831" y="1395"/>
                    <a:pt x="8814" y="1390"/>
                    <a:pt x="8805" y="1395"/>
                  </a:cubicBezTo>
                  <a:cubicBezTo>
                    <a:pt x="8796" y="1401"/>
                    <a:pt x="8791" y="1416"/>
                    <a:pt x="8791" y="1428"/>
                  </a:cubicBezTo>
                  <a:cubicBezTo>
                    <a:pt x="8787" y="1440"/>
                    <a:pt x="8787" y="1452"/>
                    <a:pt x="8778" y="1458"/>
                  </a:cubicBezTo>
                  <a:lnTo>
                    <a:pt x="8743" y="1416"/>
                  </a:lnTo>
                  <a:cubicBezTo>
                    <a:pt x="8729" y="1422"/>
                    <a:pt x="8718" y="1434"/>
                    <a:pt x="8709" y="1446"/>
                  </a:cubicBezTo>
                  <a:cubicBezTo>
                    <a:pt x="8699" y="1458"/>
                    <a:pt x="8699" y="1484"/>
                    <a:pt x="8709" y="1496"/>
                  </a:cubicBezTo>
                  <a:cubicBezTo>
                    <a:pt x="8699" y="1508"/>
                    <a:pt x="8686" y="1514"/>
                    <a:pt x="8670" y="1508"/>
                  </a:cubicBezTo>
                  <a:cubicBezTo>
                    <a:pt x="8656" y="1537"/>
                    <a:pt x="8621" y="1546"/>
                    <a:pt x="8603" y="1520"/>
                  </a:cubicBezTo>
                  <a:cubicBezTo>
                    <a:pt x="8594" y="1508"/>
                    <a:pt x="8580" y="1508"/>
                    <a:pt x="8564" y="1502"/>
                  </a:cubicBezTo>
                  <a:cubicBezTo>
                    <a:pt x="8555" y="1514"/>
                    <a:pt x="8555" y="1526"/>
                    <a:pt x="8555" y="1546"/>
                  </a:cubicBezTo>
                  <a:cubicBezTo>
                    <a:pt x="8555" y="1537"/>
                    <a:pt x="8545" y="1531"/>
                    <a:pt x="8536" y="1537"/>
                  </a:cubicBezTo>
                  <a:cubicBezTo>
                    <a:pt x="8515" y="1537"/>
                    <a:pt x="8497" y="1546"/>
                    <a:pt x="8483" y="1564"/>
                  </a:cubicBezTo>
                  <a:cubicBezTo>
                    <a:pt x="8467" y="1582"/>
                    <a:pt x="8458" y="1614"/>
                    <a:pt x="8472" y="1632"/>
                  </a:cubicBezTo>
                  <a:cubicBezTo>
                    <a:pt x="8453" y="1644"/>
                    <a:pt x="8428" y="1626"/>
                    <a:pt x="8410" y="1626"/>
                  </a:cubicBezTo>
                  <a:cubicBezTo>
                    <a:pt x="8391" y="1620"/>
                    <a:pt x="8361" y="1626"/>
                    <a:pt x="8357" y="1650"/>
                  </a:cubicBezTo>
                  <a:cubicBezTo>
                    <a:pt x="8352" y="1632"/>
                    <a:pt x="8343" y="1608"/>
                    <a:pt x="8327" y="1599"/>
                  </a:cubicBezTo>
                  <a:cubicBezTo>
                    <a:pt x="8313" y="1588"/>
                    <a:pt x="8290" y="1599"/>
                    <a:pt x="8290" y="1626"/>
                  </a:cubicBezTo>
                  <a:cubicBezTo>
                    <a:pt x="8290" y="1638"/>
                    <a:pt x="8295" y="1644"/>
                    <a:pt x="8299" y="1656"/>
                  </a:cubicBezTo>
                  <a:cubicBezTo>
                    <a:pt x="8308" y="1682"/>
                    <a:pt x="8308" y="1718"/>
                    <a:pt x="8290" y="1744"/>
                  </a:cubicBezTo>
                  <a:lnTo>
                    <a:pt x="8304" y="1762"/>
                  </a:lnTo>
                  <a:cubicBezTo>
                    <a:pt x="8274" y="1768"/>
                    <a:pt x="8242" y="1780"/>
                    <a:pt x="8242" y="1818"/>
                  </a:cubicBezTo>
                  <a:cubicBezTo>
                    <a:pt x="8242" y="1830"/>
                    <a:pt x="8246" y="1842"/>
                    <a:pt x="8237" y="1848"/>
                  </a:cubicBezTo>
                  <a:cubicBezTo>
                    <a:pt x="8226" y="1863"/>
                    <a:pt x="8212" y="1836"/>
                    <a:pt x="8198" y="1836"/>
                  </a:cubicBezTo>
                  <a:cubicBezTo>
                    <a:pt x="8189" y="1836"/>
                    <a:pt x="8182" y="1854"/>
                    <a:pt x="8173" y="1868"/>
                  </a:cubicBezTo>
                  <a:cubicBezTo>
                    <a:pt x="8154" y="1892"/>
                    <a:pt x="8124" y="1868"/>
                    <a:pt x="8106" y="1848"/>
                  </a:cubicBezTo>
                  <a:cubicBezTo>
                    <a:pt x="8092" y="1880"/>
                    <a:pt x="8076" y="1916"/>
                    <a:pt x="8062" y="1948"/>
                  </a:cubicBezTo>
                  <a:cubicBezTo>
                    <a:pt x="8058" y="1954"/>
                    <a:pt x="8053" y="1966"/>
                    <a:pt x="8049" y="1966"/>
                  </a:cubicBezTo>
                  <a:cubicBezTo>
                    <a:pt x="8039" y="1972"/>
                    <a:pt x="8028" y="1960"/>
                    <a:pt x="8019" y="1960"/>
                  </a:cubicBezTo>
                  <a:cubicBezTo>
                    <a:pt x="8005" y="1960"/>
                    <a:pt x="7996" y="1987"/>
                    <a:pt x="7980" y="1978"/>
                  </a:cubicBezTo>
                  <a:cubicBezTo>
                    <a:pt x="7970" y="1972"/>
                    <a:pt x="7966" y="1948"/>
                    <a:pt x="7952" y="1948"/>
                  </a:cubicBezTo>
                  <a:cubicBezTo>
                    <a:pt x="7947" y="1948"/>
                    <a:pt x="7943" y="1954"/>
                    <a:pt x="7938" y="1954"/>
                  </a:cubicBezTo>
                  <a:cubicBezTo>
                    <a:pt x="7913" y="1978"/>
                    <a:pt x="7894" y="1999"/>
                    <a:pt x="7869" y="2022"/>
                  </a:cubicBezTo>
                  <a:cubicBezTo>
                    <a:pt x="7865" y="2010"/>
                    <a:pt x="7848" y="2010"/>
                    <a:pt x="7842" y="2022"/>
                  </a:cubicBezTo>
                  <a:cubicBezTo>
                    <a:pt x="7837" y="2034"/>
                    <a:pt x="7842" y="2055"/>
                    <a:pt x="7851" y="2067"/>
                  </a:cubicBezTo>
                  <a:cubicBezTo>
                    <a:pt x="7860" y="2078"/>
                    <a:pt x="7874" y="2078"/>
                    <a:pt x="7883" y="2078"/>
                  </a:cubicBezTo>
                  <a:cubicBezTo>
                    <a:pt x="7899" y="2078"/>
                    <a:pt x="7913" y="2078"/>
                    <a:pt x="7922" y="2072"/>
                  </a:cubicBezTo>
                  <a:cubicBezTo>
                    <a:pt x="7922" y="2096"/>
                    <a:pt x="7922" y="2123"/>
                    <a:pt x="7908" y="2129"/>
                  </a:cubicBezTo>
                  <a:lnTo>
                    <a:pt x="7890" y="2129"/>
                  </a:lnTo>
                  <a:cubicBezTo>
                    <a:pt x="7851" y="2129"/>
                    <a:pt x="7821" y="2185"/>
                    <a:pt x="7807" y="2226"/>
                  </a:cubicBezTo>
                  <a:lnTo>
                    <a:pt x="7768" y="2276"/>
                  </a:lnTo>
                  <a:cubicBezTo>
                    <a:pt x="7759" y="2288"/>
                    <a:pt x="7754" y="2303"/>
                    <a:pt x="7754" y="2315"/>
                  </a:cubicBezTo>
                  <a:cubicBezTo>
                    <a:pt x="7754" y="2333"/>
                    <a:pt x="7768" y="2339"/>
                    <a:pt x="7782" y="2339"/>
                  </a:cubicBezTo>
                  <a:cubicBezTo>
                    <a:pt x="7830" y="2344"/>
                    <a:pt x="7883" y="2282"/>
                    <a:pt x="7931" y="2321"/>
                  </a:cubicBezTo>
                  <a:cubicBezTo>
                    <a:pt x="7952" y="2303"/>
                    <a:pt x="7975" y="2282"/>
                    <a:pt x="7996" y="2265"/>
                  </a:cubicBezTo>
                  <a:cubicBezTo>
                    <a:pt x="8000" y="2259"/>
                    <a:pt x="8005" y="2259"/>
                    <a:pt x="8009" y="2259"/>
                  </a:cubicBezTo>
                  <a:cubicBezTo>
                    <a:pt x="8014" y="2259"/>
                    <a:pt x="8019" y="2271"/>
                    <a:pt x="8019" y="2276"/>
                  </a:cubicBezTo>
                  <a:cubicBezTo>
                    <a:pt x="8023" y="2309"/>
                    <a:pt x="8014" y="2344"/>
                    <a:pt x="8005" y="2377"/>
                  </a:cubicBezTo>
                  <a:cubicBezTo>
                    <a:pt x="8014" y="2395"/>
                    <a:pt x="8028" y="2395"/>
                    <a:pt x="8044" y="2407"/>
                  </a:cubicBezTo>
                  <a:cubicBezTo>
                    <a:pt x="8058" y="2412"/>
                    <a:pt x="8072" y="2433"/>
                    <a:pt x="8067" y="2451"/>
                  </a:cubicBezTo>
                  <a:cubicBezTo>
                    <a:pt x="8067" y="2457"/>
                    <a:pt x="8062" y="2469"/>
                    <a:pt x="8062" y="2475"/>
                  </a:cubicBezTo>
                  <a:cubicBezTo>
                    <a:pt x="8058" y="2495"/>
                    <a:pt x="8067" y="2519"/>
                    <a:pt x="8081" y="2537"/>
                  </a:cubicBezTo>
                  <a:cubicBezTo>
                    <a:pt x="8044" y="2531"/>
                    <a:pt x="8009" y="2537"/>
                    <a:pt x="7975" y="2548"/>
                  </a:cubicBezTo>
                  <a:cubicBezTo>
                    <a:pt x="7970" y="2548"/>
                    <a:pt x="7970" y="2557"/>
                    <a:pt x="7966" y="2557"/>
                  </a:cubicBezTo>
                  <a:cubicBezTo>
                    <a:pt x="7957" y="2569"/>
                    <a:pt x="7980" y="2581"/>
                    <a:pt x="7984" y="2599"/>
                  </a:cubicBezTo>
                  <a:cubicBezTo>
                    <a:pt x="7991" y="2611"/>
                    <a:pt x="7980" y="2631"/>
                    <a:pt x="7966" y="2637"/>
                  </a:cubicBezTo>
                  <a:cubicBezTo>
                    <a:pt x="7952" y="2637"/>
                    <a:pt x="7943" y="2631"/>
                    <a:pt x="7927" y="2625"/>
                  </a:cubicBezTo>
                  <a:cubicBezTo>
                    <a:pt x="7931" y="2649"/>
                    <a:pt x="7908" y="2667"/>
                    <a:pt x="7890" y="2679"/>
                  </a:cubicBezTo>
                  <a:cubicBezTo>
                    <a:pt x="7869" y="2687"/>
                    <a:pt x="7846" y="2711"/>
                    <a:pt x="7851" y="2735"/>
                  </a:cubicBezTo>
                  <a:cubicBezTo>
                    <a:pt x="7816" y="2735"/>
                    <a:pt x="7782" y="2705"/>
                    <a:pt x="7777" y="2661"/>
                  </a:cubicBezTo>
                  <a:cubicBezTo>
                    <a:pt x="7750" y="2661"/>
                    <a:pt x="7720" y="2631"/>
                    <a:pt x="7715" y="2593"/>
                  </a:cubicBezTo>
                  <a:cubicBezTo>
                    <a:pt x="7715" y="2581"/>
                    <a:pt x="7715" y="2575"/>
                    <a:pt x="7710" y="2563"/>
                  </a:cubicBezTo>
                  <a:cubicBezTo>
                    <a:pt x="7706" y="2557"/>
                    <a:pt x="7701" y="2548"/>
                    <a:pt x="7692" y="2543"/>
                  </a:cubicBezTo>
                  <a:cubicBezTo>
                    <a:pt x="7648" y="2519"/>
                    <a:pt x="7605" y="2507"/>
                    <a:pt x="7561" y="2501"/>
                  </a:cubicBezTo>
                  <a:cubicBezTo>
                    <a:pt x="7552" y="2501"/>
                    <a:pt x="7547" y="2501"/>
                    <a:pt x="7536" y="2507"/>
                  </a:cubicBezTo>
                  <a:cubicBezTo>
                    <a:pt x="7526" y="2519"/>
                    <a:pt x="7531" y="2528"/>
                    <a:pt x="7536" y="2543"/>
                  </a:cubicBezTo>
                  <a:cubicBezTo>
                    <a:pt x="7540" y="2554"/>
                    <a:pt x="7556" y="2557"/>
                    <a:pt x="7566" y="2563"/>
                  </a:cubicBezTo>
                  <a:cubicBezTo>
                    <a:pt x="7589" y="2575"/>
                    <a:pt x="7618" y="2581"/>
                    <a:pt x="7637" y="2599"/>
                  </a:cubicBezTo>
                  <a:cubicBezTo>
                    <a:pt x="7658" y="2616"/>
                    <a:pt x="7676" y="2649"/>
                    <a:pt x="7676" y="2687"/>
                  </a:cubicBezTo>
                  <a:cubicBezTo>
                    <a:pt x="7667" y="2679"/>
                    <a:pt x="7658" y="2673"/>
                    <a:pt x="7648" y="2673"/>
                  </a:cubicBezTo>
                  <a:cubicBezTo>
                    <a:pt x="7658" y="2705"/>
                    <a:pt x="7632" y="2741"/>
                    <a:pt x="7609" y="2741"/>
                  </a:cubicBezTo>
                  <a:cubicBezTo>
                    <a:pt x="7600" y="2741"/>
                    <a:pt x="7584" y="2729"/>
                    <a:pt x="7575" y="2729"/>
                  </a:cubicBezTo>
                  <a:cubicBezTo>
                    <a:pt x="7566" y="2729"/>
                    <a:pt x="7552" y="2729"/>
                    <a:pt x="7540" y="2735"/>
                  </a:cubicBezTo>
                  <a:cubicBezTo>
                    <a:pt x="7517" y="2741"/>
                    <a:pt x="7494" y="2755"/>
                    <a:pt x="7464" y="2761"/>
                  </a:cubicBezTo>
                  <a:cubicBezTo>
                    <a:pt x="7421" y="2773"/>
                    <a:pt x="7377" y="2785"/>
                    <a:pt x="7333" y="2767"/>
                  </a:cubicBezTo>
                  <a:cubicBezTo>
                    <a:pt x="7333" y="2779"/>
                    <a:pt x="7333" y="2797"/>
                    <a:pt x="7329" y="2812"/>
                  </a:cubicBezTo>
                  <a:lnTo>
                    <a:pt x="7280" y="2812"/>
                  </a:lnTo>
                  <a:cubicBezTo>
                    <a:pt x="7262" y="2812"/>
                    <a:pt x="7237" y="2812"/>
                    <a:pt x="7218" y="2823"/>
                  </a:cubicBezTo>
                  <a:cubicBezTo>
                    <a:pt x="7200" y="2841"/>
                    <a:pt x="7188" y="2874"/>
                    <a:pt x="7193" y="2897"/>
                  </a:cubicBezTo>
                  <a:cubicBezTo>
                    <a:pt x="7193" y="2903"/>
                    <a:pt x="7200" y="2915"/>
                    <a:pt x="7204" y="2921"/>
                  </a:cubicBezTo>
                  <a:cubicBezTo>
                    <a:pt x="7209" y="2927"/>
                    <a:pt x="7214" y="2927"/>
                    <a:pt x="7218" y="2933"/>
                  </a:cubicBezTo>
                  <a:cubicBezTo>
                    <a:pt x="7232" y="2948"/>
                    <a:pt x="7237" y="2965"/>
                    <a:pt x="7237" y="2983"/>
                  </a:cubicBezTo>
                  <a:lnTo>
                    <a:pt x="7237" y="3039"/>
                  </a:lnTo>
                  <a:cubicBezTo>
                    <a:pt x="7237" y="3057"/>
                    <a:pt x="7241" y="3078"/>
                    <a:pt x="7248" y="3101"/>
                  </a:cubicBezTo>
                  <a:cubicBezTo>
                    <a:pt x="7248" y="3113"/>
                    <a:pt x="7253" y="3128"/>
                    <a:pt x="7257" y="3134"/>
                  </a:cubicBezTo>
                  <a:cubicBezTo>
                    <a:pt x="7257" y="3140"/>
                    <a:pt x="7262" y="3140"/>
                    <a:pt x="7267" y="3146"/>
                  </a:cubicBezTo>
                  <a:cubicBezTo>
                    <a:pt x="7276" y="3163"/>
                    <a:pt x="7262" y="3181"/>
                    <a:pt x="7253" y="3202"/>
                  </a:cubicBezTo>
                  <a:cubicBezTo>
                    <a:pt x="7237" y="3220"/>
                    <a:pt x="7232" y="3249"/>
                    <a:pt x="7232" y="3276"/>
                  </a:cubicBezTo>
                  <a:cubicBezTo>
                    <a:pt x="7232" y="3282"/>
                    <a:pt x="7232" y="3294"/>
                    <a:pt x="7237" y="3299"/>
                  </a:cubicBezTo>
                  <a:lnTo>
                    <a:pt x="7248" y="3311"/>
                  </a:lnTo>
                  <a:cubicBezTo>
                    <a:pt x="7262" y="3326"/>
                    <a:pt x="7267" y="3350"/>
                    <a:pt x="7257" y="3367"/>
                  </a:cubicBezTo>
                  <a:cubicBezTo>
                    <a:pt x="7253" y="3373"/>
                    <a:pt x="7248" y="3382"/>
                    <a:pt x="7248" y="3394"/>
                  </a:cubicBezTo>
                  <a:cubicBezTo>
                    <a:pt x="7248" y="3400"/>
                    <a:pt x="7253" y="3406"/>
                    <a:pt x="7253" y="3412"/>
                  </a:cubicBezTo>
                  <a:cubicBezTo>
                    <a:pt x="7267" y="3444"/>
                    <a:pt x="7262" y="3486"/>
                    <a:pt x="7248" y="3512"/>
                  </a:cubicBezTo>
                  <a:cubicBezTo>
                    <a:pt x="7267" y="3512"/>
                    <a:pt x="7280" y="3524"/>
                    <a:pt x="7290" y="3542"/>
                  </a:cubicBezTo>
                  <a:cubicBezTo>
                    <a:pt x="7290" y="3548"/>
                    <a:pt x="7294" y="3554"/>
                    <a:pt x="7301" y="3554"/>
                  </a:cubicBezTo>
                  <a:lnTo>
                    <a:pt x="7310" y="3554"/>
                  </a:lnTo>
                  <a:cubicBezTo>
                    <a:pt x="7324" y="3548"/>
                    <a:pt x="7333" y="3542"/>
                    <a:pt x="7342" y="3542"/>
                  </a:cubicBezTo>
                  <a:cubicBezTo>
                    <a:pt x="7359" y="3542"/>
                    <a:pt x="7372" y="3542"/>
                    <a:pt x="7377" y="3554"/>
                  </a:cubicBezTo>
                  <a:cubicBezTo>
                    <a:pt x="7377" y="3560"/>
                    <a:pt x="7382" y="3566"/>
                    <a:pt x="7382" y="3566"/>
                  </a:cubicBezTo>
                  <a:cubicBezTo>
                    <a:pt x="7386" y="3574"/>
                    <a:pt x="7391" y="3566"/>
                    <a:pt x="7398" y="3566"/>
                  </a:cubicBezTo>
                  <a:cubicBezTo>
                    <a:pt x="7416" y="3560"/>
                    <a:pt x="7434" y="3580"/>
                    <a:pt x="7439" y="3604"/>
                  </a:cubicBezTo>
                  <a:cubicBezTo>
                    <a:pt x="7439" y="3610"/>
                    <a:pt x="7439" y="3610"/>
                    <a:pt x="7446" y="3616"/>
                  </a:cubicBezTo>
                  <a:cubicBezTo>
                    <a:pt x="7455" y="3636"/>
                    <a:pt x="7474" y="3604"/>
                    <a:pt x="7487" y="3610"/>
                  </a:cubicBezTo>
                  <a:cubicBezTo>
                    <a:pt x="7483" y="3642"/>
                    <a:pt x="7483" y="3672"/>
                    <a:pt x="7478" y="3704"/>
                  </a:cubicBezTo>
                  <a:lnTo>
                    <a:pt x="7478" y="3722"/>
                  </a:lnTo>
                  <a:lnTo>
                    <a:pt x="7483" y="3728"/>
                  </a:lnTo>
                  <a:cubicBezTo>
                    <a:pt x="7487" y="3734"/>
                    <a:pt x="7494" y="3734"/>
                    <a:pt x="7499" y="3740"/>
                  </a:cubicBezTo>
                  <a:cubicBezTo>
                    <a:pt x="7513" y="3752"/>
                    <a:pt x="7526" y="3772"/>
                    <a:pt x="7547" y="3784"/>
                  </a:cubicBezTo>
                  <a:cubicBezTo>
                    <a:pt x="7547" y="3778"/>
                    <a:pt x="7547" y="3772"/>
                    <a:pt x="7552" y="3758"/>
                  </a:cubicBezTo>
                  <a:cubicBezTo>
                    <a:pt x="7575" y="3767"/>
                    <a:pt x="7566" y="3814"/>
                    <a:pt x="7584" y="3829"/>
                  </a:cubicBezTo>
                  <a:cubicBezTo>
                    <a:pt x="7595" y="3835"/>
                    <a:pt x="7605" y="3835"/>
                    <a:pt x="7609" y="3846"/>
                  </a:cubicBezTo>
                  <a:lnTo>
                    <a:pt x="7609" y="3858"/>
                  </a:lnTo>
                  <a:cubicBezTo>
                    <a:pt x="7609" y="3897"/>
                    <a:pt x="7605" y="3932"/>
                    <a:pt x="7595" y="3971"/>
                  </a:cubicBezTo>
                  <a:cubicBezTo>
                    <a:pt x="7589" y="3982"/>
                    <a:pt x="7589" y="4000"/>
                    <a:pt x="7584" y="4015"/>
                  </a:cubicBezTo>
                  <a:cubicBezTo>
                    <a:pt x="7584" y="4033"/>
                    <a:pt x="7589" y="4050"/>
                    <a:pt x="7589" y="4068"/>
                  </a:cubicBezTo>
                  <a:cubicBezTo>
                    <a:pt x="7589" y="4095"/>
                    <a:pt x="7575" y="4118"/>
                    <a:pt x="7579" y="4145"/>
                  </a:cubicBezTo>
                  <a:cubicBezTo>
                    <a:pt x="7584" y="4169"/>
                    <a:pt x="7609" y="4192"/>
                    <a:pt x="7600" y="4213"/>
                  </a:cubicBezTo>
                  <a:cubicBezTo>
                    <a:pt x="7595" y="4225"/>
                    <a:pt x="7579" y="4225"/>
                    <a:pt x="7575" y="4237"/>
                  </a:cubicBezTo>
                  <a:cubicBezTo>
                    <a:pt x="7566" y="4248"/>
                    <a:pt x="7566" y="4269"/>
                    <a:pt x="7575" y="4281"/>
                  </a:cubicBezTo>
                  <a:cubicBezTo>
                    <a:pt x="7552" y="4287"/>
                    <a:pt x="7522" y="4293"/>
                    <a:pt x="7499" y="4287"/>
                  </a:cubicBezTo>
                  <a:cubicBezTo>
                    <a:pt x="7474" y="4281"/>
                    <a:pt x="7451" y="4248"/>
                    <a:pt x="7455" y="4219"/>
                  </a:cubicBezTo>
                  <a:cubicBezTo>
                    <a:pt x="7455" y="4207"/>
                    <a:pt x="7460" y="4198"/>
                    <a:pt x="7460" y="4186"/>
                  </a:cubicBezTo>
                  <a:cubicBezTo>
                    <a:pt x="7460" y="4175"/>
                    <a:pt x="7455" y="4163"/>
                    <a:pt x="7446" y="4163"/>
                  </a:cubicBezTo>
                  <a:lnTo>
                    <a:pt x="7434" y="4163"/>
                  </a:lnTo>
                  <a:lnTo>
                    <a:pt x="7434" y="4151"/>
                  </a:lnTo>
                  <a:cubicBezTo>
                    <a:pt x="7451" y="4101"/>
                    <a:pt x="7508" y="4101"/>
                    <a:pt x="7526" y="4056"/>
                  </a:cubicBezTo>
                  <a:cubicBezTo>
                    <a:pt x="7531" y="4044"/>
                    <a:pt x="7531" y="4033"/>
                    <a:pt x="7536" y="4021"/>
                  </a:cubicBezTo>
                  <a:cubicBezTo>
                    <a:pt x="7540" y="4006"/>
                    <a:pt x="7552" y="3994"/>
                    <a:pt x="7556" y="3982"/>
                  </a:cubicBezTo>
                  <a:cubicBezTo>
                    <a:pt x="7575" y="3953"/>
                    <a:pt x="7579" y="3914"/>
                    <a:pt x="7579" y="3876"/>
                  </a:cubicBezTo>
                  <a:cubicBezTo>
                    <a:pt x="7579" y="3858"/>
                    <a:pt x="7575" y="3835"/>
                    <a:pt x="7561" y="3820"/>
                  </a:cubicBezTo>
                  <a:cubicBezTo>
                    <a:pt x="7547" y="3802"/>
                    <a:pt x="7522" y="3808"/>
                    <a:pt x="7508" y="3820"/>
                  </a:cubicBezTo>
                  <a:cubicBezTo>
                    <a:pt x="7494" y="3840"/>
                    <a:pt x="7487" y="3864"/>
                    <a:pt x="7499" y="3891"/>
                  </a:cubicBezTo>
                  <a:cubicBezTo>
                    <a:pt x="7469" y="3903"/>
                    <a:pt x="7446" y="3914"/>
                    <a:pt x="7416" y="3926"/>
                  </a:cubicBezTo>
                  <a:lnTo>
                    <a:pt x="7407" y="3926"/>
                  </a:lnTo>
                  <a:cubicBezTo>
                    <a:pt x="7402" y="3926"/>
                    <a:pt x="7398" y="3920"/>
                    <a:pt x="7398" y="3920"/>
                  </a:cubicBezTo>
                  <a:cubicBezTo>
                    <a:pt x="7386" y="3914"/>
                    <a:pt x="7377" y="3920"/>
                    <a:pt x="7368" y="3926"/>
                  </a:cubicBezTo>
                  <a:cubicBezTo>
                    <a:pt x="7363" y="3891"/>
                    <a:pt x="7349" y="3852"/>
                    <a:pt x="7329" y="3829"/>
                  </a:cubicBezTo>
                  <a:cubicBezTo>
                    <a:pt x="7324" y="3820"/>
                    <a:pt x="7319" y="3814"/>
                    <a:pt x="7319" y="3808"/>
                  </a:cubicBezTo>
                  <a:cubicBezTo>
                    <a:pt x="7315" y="3790"/>
                    <a:pt x="7333" y="3784"/>
                    <a:pt x="7333" y="3767"/>
                  </a:cubicBezTo>
                  <a:cubicBezTo>
                    <a:pt x="7333" y="3752"/>
                    <a:pt x="7324" y="3740"/>
                    <a:pt x="7310" y="3740"/>
                  </a:cubicBezTo>
                  <a:lnTo>
                    <a:pt x="7276" y="3740"/>
                  </a:lnTo>
                  <a:cubicBezTo>
                    <a:pt x="7248" y="3734"/>
                    <a:pt x="7237" y="3690"/>
                    <a:pt x="7209" y="3672"/>
                  </a:cubicBezTo>
                  <a:cubicBezTo>
                    <a:pt x="7204" y="3666"/>
                    <a:pt x="7193" y="3666"/>
                    <a:pt x="7184" y="3660"/>
                  </a:cubicBezTo>
                  <a:cubicBezTo>
                    <a:pt x="7170" y="3648"/>
                    <a:pt x="7165" y="3636"/>
                    <a:pt x="7156" y="3616"/>
                  </a:cubicBezTo>
                  <a:cubicBezTo>
                    <a:pt x="7145" y="3604"/>
                    <a:pt x="7131" y="3592"/>
                    <a:pt x="7117" y="3598"/>
                  </a:cubicBezTo>
                  <a:cubicBezTo>
                    <a:pt x="7103" y="3560"/>
                    <a:pt x="7050" y="3560"/>
                    <a:pt x="7034" y="3530"/>
                  </a:cubicBezTo>
                  <a:cubicBezTo>
                    <a:pt x="7030" y="3524"/>
                    <a:pt x="7030" y="3518"/>
                    <a:pt x="7025" y="3512"/>
                  </a:cubicBezTo>
                  <a:cubicBezTo>
                    <a:pt x="7011" y="3492"/>
                    <a:pt x="6986" y="3530"/>
                    <a:pt x="6968" y="3518"/>
                  </a:cubicBezTo>
                  <a:cubicBezTo>
                    <a:pt x="6958" y="3512"/>
                    <a:pt x="6954" y="3492"/>
                    <a:pt x="6947" y="3486"/>
                  </a:cubicBezTo>
                  <a:cubicBezTo>
                    <a:pt x="6942" y="3480"/>
                    <a:pt x="6933" y="3480"/>
                    <a:pt x="6924" y="3474"/>
                  </a:cubicBezTo>
                  <a:cubicBezTo>
                    <a:pt x="6894" y="3456"/>
                    <a:pt x="6889" y="3400"/>
                    <a:pt x="6862" y="3382"/>
                  </a:cubicBezTo>
                  <a:cubicBezTo>
                    <a:pt x="6846" y="3367"/>
                    <a:pt x="6823" y="3373"/>
                    <a:pt x="6809" y="3394"/>
                  </a:cubicBezTo>
                  <a:cubicBezTo>
                    <a:pt x="6797" y="3406"/>
                    <a:pt x="6788" y="3424"/>
                    <a:pt x="6784" y="3444"/>
                  </a:cubicBezTo>
                  <a:cubicBezTo>
                    <a:pt x="6779" y="3462"/>
                    <a:pt x="6788" y="3486"/>
                    <a:pt x="6804" y="3486"/>
                  </a:cubicBezTo>
                  <a:cubicBezTo>
                    <a:pt x="6793" y="3503"/>
                    <a:pt x="6774" y="3512"/>
                    <a:pt x="6756" y="3518"/>
                  </a:cubicBezTo>
                  <a:cubicBezTo>
                    <a:pt x="6740" y="3524"/>
                    <a:pt x="6721" y="3548"/>
                    <a:pt x="6731" y="3574"/>
                  </a:cubicBezTo>
                  <a:cubicBezTo>
                    <a:pt x="6740" y="3598"/>
                    <a:pt x="6770" y="3598"/>
                    <a:pt x="6779" y="3622"/>
                  </a:cubicBezTo>
                  <a:cubicBezTo>
                    <a:pt x="6784" y="3636"/>
                    <a:pt x="6784" y="3648"/>
                    <a:pt x="6788" y="3660"/>
                  </a:cubicBezTo>
                  <a:cubicBezTo>
                    <a:pt x="6793" y="3666"/>
                    <a:pt x="6797" y="3666"/>
                    <a:pt x="6804" y="3672"/>
                  </a:cubicBezTo>
                  <a:cubicBezTo>
                    <a:pt x="6809" y="3678"/>
                    <a:pt x="6813" y="3684"/>
                    <a:pt x="6813" y="3699"/>
                  </a:cubicBezTo>
                  <a:cubicBezTo>
                    <a:pt x="6818" y="3716"/>
                    <a:pt x="6823" y="3740"/>
                    <a:pt x="6827" y="3758"/>
                  </a:cubicBezTo>
                  <a:lnTo>
                    <a:pt x="6827" y="3772"/>
                  </a:lnTo>
                  <a:cubicBezTo>
                    <a:pt x="6823" y="3784"/>
                    <a:pt x="6809" y="3784"/>
                    <a:pt x="6797" y="3784"/>
                  </a:cubicBezTo>
                  <a:cubicBezTo>
                    <a:pt x="6770" y="3772"/>
                    <a:pt x="6740" y="3758"/>
                    <a:pt x="6731" y="3722"/>
                  </a:cubicBezTo>
                  <a:cubicBezTo>
                    <a:pt x="6726" y="3710"/>
                    <a:pt x="6726" y="3699"/>
                    <a:pt x="6721" y="3690"/>
                  </a:cubicBezTo>
                  <a:cubicBezTo>
                    <a:pt x="6708" y="3672"/>
                    <a:pt x="6687" y="3690"/>
                    <a:pt x="6673" y="3704"/>
                  </a:cubicBezTo>
                  <a:cubicBezTo>
                    <a:pt x="6659" y="3716"/>
                    <a:pt x="6634" y="3728"/>
                    <a:pt x="6625" y="3704"/>
                  </a:cubicBezTo>
                  <a:cubicBezTo>
                    <a:pt x="6629" y="3746"/>
                    <a:pt x="6625" y="3790"/>
                    <a:pt x="6620" y="3829"/>
                  </a:cubicBezTo>
                  <a:cubicBezTo>
                    <a:pt x="6620" y="3835"/>
                    <a:pt x="6616" y="3840"/>
                    <a:pt x="6620" y="3846"/>
                  </a:cubicBezTo>
                  <a:cubicBezTo>
                    <a:pt x="6625" y="3870"/>
                    <a:pt x="6648" y="3870"/>
                    <a:pt x="6664" y="3864"/>
                  </a:cubicBezTo>
                  <a:cubicBezTo>
                    <a:pt x="6648" y="3908"/>
                    <a:pt x="6669" y="3971"/>
                    <a:pt x="6701" y="3982"/>
                  </a:cubicBezTo>
                  <a:cubicBezTo>
                    <a:pt x="6712" y="3988"/>
                    <a:pt x="6726" y="3988"/>
                    <a:pt x="6735" y="3994"/>
                  </a:cubicBezTo>
                  <a:cubicBezTo>
                    <a:pt x="6744" y="4000"/>
                    <a:pt x="6756" y="4021"/>
                    <a:pt x="6744" y="4033"/>
                  </a:cubicBezTo>
                  <a:cubicBezTo>
                    <a:pt x="6770" y="4015"/>
                    <a:pt x="6797" y="4033"/>
                    <a:pt x="6823" y="4044"/>
                  </a:cubicBezTo>
                  <a:cubicBezTo>
                    <a:pt x="6836" y="4050"/>
                    <a:pt x="6853" y="4062"/>
                    <a:pt x="6857" y="4083"/>
                  </a:cubicBezTo>
                  <a:cubicBezTo>
                    <a:pt x="6857" y="4089"/>
                    <a:pt x="6862" y="4101"/>
                    <a:pt x="6866" y="4107"/>
                  </a:cubicBezTo>
                  <a:cubicBezTo>
                    <a:pt x="6871" y="4112"/>
                    <a:pt x="6876" y="4112"/>
                    <a:pt x="6880" y="4118"/>
                  </a:cubicBezTo>
                  <a:cubicBezTo>
                    <a:pt x="6885" y="4124"/>
                    <a:pt x="6889" y="4130"/>
                    <a:pt x="6885" y="4136"/>
                  </a:cubicBezTo>
                  <a:cubicBezTo>
                    <a:pt x="6880" y="4136"/>
                    <a:pt x="6876" y="4145"/>
                    <a:pt x="6871" y="4145"/>
                  </a:cubicBezTo>
                  <a:cubicBezTo>
                    <a:pt x="6876" y="4175"/>
                    <a:pt x="6885" y="4207"/>
                    <a:pt x="6889" y="4231"/>
                  </a:cubicBezTo>
                  <a:cubicBezTo>
                    <a:pt x="6866" y="4231"/>
                    <a:pt x="6841" y="4213"/>
                    <a:pt x="6827" y="4192"/>
                  </a:cubicBezTo>
                  <a:cubicBezTo>
                    <a:pt x="6823" y="4186"/>
                    <a:pt x="6818" y="4180"/>
                    <a:pt x="6809" y="4175"/>
                  </a:cubicBezTo>
                  <a:lnTo>
                    <a:pt x="6788" y="4175"/>
                  </a:lnTo>
                  <a:cubicBezTo>
                    <a:pt x="6774" y="4180"/>
                    <a:pt x="6756" y="4175"/>
                    <a:pt x="6744" y="4163"/>
                  </a:cubicBezTo>
                  <a:cubicBezTo>
                    <a:pt x="6735" y="4151"/>
                    <a:pt x="6731" y="4118"/>
                    <a:pt x="6744" y="4107"/>
                  </a:cubicBezTo>
                  <a:cubicBezTo>
                    <a:pt x="6731" y="4095"/>
                    <a:pt x="6708" y="4101"/>
                    <a:pt x="6692" y="4112"/>
                  </a:cubicBezTo>
                  <a:cubicBezTo>
                    <a:pt x="6673" y="4124"/>
                    <a:pt x="6659" y="4136"/>
                    <a:pt x="6639" y="4136"/>
                  </a:cubicBezTo>
                  <a:cubicBezTo>
                    <a:pt x="6620" y="4136"/>
                    <a:pt x="6600" y="4107"/>
                    <a:pt x="6616" y="4089"/>
                  </a:cubicBezTo>
                  <a:cubicBezTo>
                    <a:pt x="6606" y="4083"/>
                    <a:pt x="6595" y="4083"/>
                    <a:pt x="6586" y="4083"/>
                  </a:cubicBezTo>
                  <a:cubicBezTo>
                    <a:pt x="6581" y="4074"/>
                    <a:pt x="6581" y="4062"/>
                    <a:pt x="6581" y="4056"/>
                  </a:cubicBezTo>
                  <a:cubicBezTo>
                    <a:pt x="6567" y="4050"/>
                    <a:pt x="6558" y="4044"/>
                    <a:pt x="6542" y="4039"/>
                  </a:cubicBezTo>
                  <a:cubicBezTo>
                    <a:pt x="6537" y="4039"/>
                    <a:pt x="6528" y="4033"/>
                    <a:pt x="6533" y="4021"/>
                  </a:cubicBezTo>
                  <a:cubicBezTo>
                    <a:pt x="6533" y="4015"/>
                    <a:pt x="6537" y="4015"/>
                    <a:pt x="6537" y="4015"/>
                  </a:cubicBezTo>
                  <a:lnTo>
                    <a:pt x="6567" y="3994"/>
                  </a:lnTo>
                  <a:cubicBezTo>
                    <a:pt x="6558" y="3982"/>
                    <a:pt x="6551" y="3971"/>
                    <a:pt x="6551" y="3953"/>
                  </a:cubicBezTo>
                  <a:lnTo>
                    <a:pt x="6551" y="3920"/>
                  </a:lnTo>
                  <a:cubicBezTo>
                    <a:pt x="6551" y="3908"/>
                    <a:pt x="6542" y="3897"/>
                    <a:pt x="6542" y="3882"/>
                  </a:cubicBezTo>
                  <a:cubicBezTo>
                    <a:pt x="6542" y="3873"/>
                    <a:pt x="6549" y="3858"/>
                    <a:pt x="6556" y="3861"/>
                  </a:cubicBezTo>
                  <a:cubicBezTo>
                    <a:pt x="6547" y="3849"/>
                    <a:pt x="6544" y="3826"/>
                    <a:pt x="6551" y="3808"/>
                  </a:cubicBezTo>
                  <a:cubicBezTo>
                    <a:pt x="6558" y="3790"/>
                    <a:pt x="6572" y="3772"/>
                    <a:pt x="6581" y="3752"/>
                  </a:cubicBezTo>
                  <a:cubicBezTo>
                    <a:pt x="6590" y="3734"/>
                    <a:pt x="6595" y="3710"/>
                    <a:pt x="6586" y="3690"/>
                  </a:cubicBezTo>
                  <a:cubicBezTo>
                    <a:pt x="6581" y="3678"/>
                    <a:pt x="6572" y="3672"/>
                    <a:pt x="6572" y="3666"/>
                  </a:cubicBezTo>
                  <a:cubicBezTo>
                    <a:pt x="6567" y="3648"/>
                    <a:pt x="6577" y="3622"/>
                    <a:pt x="6590" y="3610"/>
                  </a:cubicBezTo>
                  <a:cubicBezTo>
                    <a:pt x="6606" y="3598"/>
                    <a:pt x="6616" y="3577"/>
                    <a:pt x="6616" y="3560"/>
                  </a:cubicBezTo>
                  <a:cubicBezTo>
                    <a:pt x="6616" y="3539"/>
                    <a:pt x="6595" y="3530"/>
                    <a:pt x="6586" y="3512"/>
                  </a:cubicBezTo>
                  <a:cubicBezTo>
                    <a:pt x="6563" y="3474"/>
                    <a:pt x="6572" y="3418"/>
                    <a:pt x="6558" y="3367"/>
                  </a:cubicBezTo>
                  <a:cubicBezTo>
                    <a:pt x="6547" y="3332"/>
                    <a:pt x="6519" y="3305"/>
                    <a:pt x="6514" y="3270"/>
                  </a:cubicBezTo>
                  <a:cubicBezTo>
                    <a:pt x="6514" y="3258"/>
                    <a:pt x="6517" y="3237"/>
                    <a:pt x="6510" y="3226"/>
                  </a:cubicBezTo>
                  <a:cubicBezTo>
                    <a:pt x="6505" y="3214"/>
                    <a:pt x="6489" y="3202"/>
                    <a:pt x="6480" y="3208"/>
                  </a:cubicBezTo>
                  <a:cubicBezTo>
                    <a:pt x="6480" y="3140"/>
                    <a:pt x="6422" y="3078"/>
                    <a:pt x="6370" y="3090"/>
                  </a:cubicBezTo>
                  <a:cubicBezTo>
                    <a:pt x="6365" y="3090"/>
                    <a:pt x="6360" y="3090"/>
                    <a:pt x="6360" y="3095"/>
                  </a:cubicBezTo>
                  <a:cubicBezTo>
                    <a:pt x="6353" y="3101"/>
                    <a:pt x="6360" y="3113"/>
                    <a:pt x="6365" y="3119"/>
                  </a:cubicBezTo>
                  <a:cubicBezTo>
                    <a:pt x="6370" y="3128"/>
                    <a:pt x="6379" y="3128"/>
                    <a:pt x="6388" y="3119"/>
                  </a:cubicBezTo>
                  <a:cubicBezTo>
                    <a:pt x="6379" y="3134"/>
                    <a:pt x="6374" y="3152"/>
                    <a:pt x="6374" y="3169"/>
                  </a:cubicBezTo>
                  <a:cubicBezTo>
                    <a:pt x="6374" y="3187"/>
                    <a:pt x="6383" y="3208"/>
                    <a:pt x="6397" y="3208"/>
                  </a:cubicBezTo>
                  <a:cubicBezTo>
                    <a:pt x="6402" y="3231"/>
                    <a:pt x="6393" y="3258"/>
                    <a:pt x="6409" y="3276"/>
                  </a:cubicBezTo>
                  <a:cubicBezTo>
                    <a:pt x="6413" y="3282"/>
                    <a:pt x="6418" y="3282"/>
                    <a:pt x="6422" y="3288"/>
                  </a:cubicBezTo>
                  <a:cubicBezTo>
                    <a:pt x="6445" y="3299"/>
                    <a:pt x="6462" y="3338"/>
                    <a:pt x="6471" y="3367"/>
                  </a:cubicBezTo>
                  <a:cubicBezTo>
                    <a:pt x="6475" y="3382"/>
                    <a:pt x="6480" y="3388"/>
                    <a:pt x="6480" y="3400"/>
                  </a:cubicBezTo>
                  <a:cubicBezTo>
                    <a:pt x="6480" y="3412"/>
                    <a:pt x="6475" y="3424"/>
                    <a:pt x="6466" y="3424"/>
                  </a:cubicBezTo>
                  <a:lnTo>
                    <a:pt x="6445" y="3424"/>
                  </a:lnTo>
                  <a:cubicBezTo>
                    <a:pt x="6436" y="3430"/>
                    <a:pt x="6436" y="3444"/>
                    <a:pt x="6441" y="3456"/>
                  </a:cubicBezTo>
                  <a:cubicBezTo>
                    <a:pt x="6445" y="3468"/>
                    <a:pt x="6450" y="3474"/>
                    <a:pt x="6450" y="3486"/>
                  </a:cubicBezTo>
                  <a:cubicBezTo>
                    <a:pt x="6450" y="3498"/>
                    <a:pt x="6445" y="3512"/>
                    <a:pt x="6455" y="3524"/>
                  </a:cubicBezTo>
                  <a:cubicBezTo>
                    <a:pt x="6462" y="3530"/>
                    <a:pt x="6466" y="3530"/>
                    <a:pt x="6471" y="3536"/>
                  </a:cubicBezTo>
                  <a:cubicBezTo>
                    <a:pt x="6475" y="3542"/>
                    <a:pt x="6480" y="3551"/>
                    <a:pt x="6475" y="3566"/>
                  </a:cubicBezTo>
                  <a:cubicBezTo>
                    <a:pt x="6471" y="3577"/>
                    <a:pt x="6462" y="3586"/>
                    <a:pt x="6450" y="3580"/>
                  </a:cubicBezTo>
                  <a:cubicBezTo>
                    <a:pt x="6455" y="3604"/>
                    <a:pt x="6455" y="3642"/>
                    <a:pt x="6436" y="3654"/>
                  </a:cubicBezTo>
                  <a:cubicBezTo>
                    <a:pt x="6427" y="3660"/>
                    <a:pt x="6413" y="3666"/>
                    <a:pt x="6418" y="3678"/>
                  </a:cubicBezTo>
                  <a:cubicBezTo>
                    <a:pt x="6422" y="3690"/>
                    <a:pt x="6436" y="3690"/>
                    <a:pt x="6432" y="3699"/>
                  </a:cubicBezTo>
                  <a:cubicBezTo>
                    <a:pt x="6418" y="3710"/>
                    <a:pt x="6397" y="3710"/>
                    <a:pt x="6383" y="3716"/>
                  </a:cubicBezTo>
                  <a:cubicBezTo>
                    <a:pt x="6370" y="3722"/>
                    <a:pt x="6353" y="3746"/>
                    <a:pt x="6365" y="3767"/>
                  </a:cubicBezTo>
                  <a:cubicBezTo>
                    <a:pt x="6349" y="3772"/>
                    <a:pt x="6335" y="3772"/>
                    <a:pt x="6317" y="3772"/>
                  </a:cubicBezTo>
                  <a:cubicBezTo>
                    <a:pt x="6301" y="3778"/>
                    <a:pt x="6287" y="3802"/>
                    <a:pt x="6296" y="3814"/>
                  </a:cubicBezTo>
                  <a:cubicBezTo>
                    <a:pt x="6291" y="3814"/>
                    <a:pt x="6287" y="3814"/>
                    <a:pt x="6287" y="3820"/>
                  </a:cubicBezTo>
                  <a:cubicBezTo>
                    <a:pt x="6282" y="3829"/>
                    <a:pt x="6282" y="3829"/>
                    <a:pt x="6278" y="3829"/>
                  </a:cubicBezTo>
                  <a:cubicBezTo>
                    <a:pt x="6273" y="3829"/>
                    <a:pt x="6273" y="3814"/>
                    <a:pt x="6278" y="3814"/>
                  </a:cubicBezTo>
                  <a:cubicBezTo>
                    <a:pt x="6273" y="3814"/>
                    <a:pt x="6264" y="3814"/>
                    <a:pt x="6257" y="3829"/>
                  </a:cubicBezTo>
                  <a:cubicBezTo>
                    <a:pt x="6252" y="3835"/>
                    <a:pt x="6257" y="3846"/>
                    <a:pt x="6257" y="3852"/>
                  </a:cubicBezTo>
                  <a:lnTo>
                    <a:pt x="6257" y="3864"/>
                  </a:lnTo>
                  <a:cubicBezTo>
                    <a:pt x="6257" y="3864"/>
                    <a:pt x="6264" y="3870"/>
                    <a:pt x="6268" y="3870"/>
                  </a:cubicBezTo>
                  <a:cubicBezTo>
                    <a:pt x="6278" y="3876"/>
                    <a:pt x="6282" y="3891"/>
                    <a:pt x="6278" y="3903"/>
                  </a:cubicBezTo>
                  <a:cubicBezTo>
                    <a:pt x="6273" y="3914"/>
                    <a:pt x="6268" y="3926"/>
                    <a:pt x="6257" y="3932"/>
                  </a:cubicBezTo>
                  <a:cubicBezTo>
                    <a:pt x="6252" y="3932"/>
                    <a:pt x="6252" y="3932"/>
                    <a:pt x="6248" y="3938"/>
                  </a:cubicBezTo>
                  <a:cubicBezTo>
                    <a:pt x="6248" y="3938"/>
                    <a:pt x="6243" y="3944"/>
                    <a:pt x="6243" y="3953"/>
                  </a:cubicBezTo>
                  <a:lnTo>
                    <a:pt x="6243" y="3994"/>
                  </a:lnTo>
                  <a:cubicBezTo>
                    <a:pt x="6243" y="4000"/>
                    <a:pt x="6238" y="4000"/>
                    <a:pt x="6238" y="4006"/>
                  </a:cubicBezTo>
                  <a:cubicBezTo>
                    <a:pt x="6234" y="4021"/>
                    <a:pt x="6229" y="4027"/>
                    <a:pt x="6225" y="4039"/>
                  </a:cubicBezTo>
                  <a:cubicBezTo>
                    <a:pt x="6243" y="4050"/>
                    <a:pt x="6264" y="4068"/>
                    <a:pt x="6278" y="4095"/>
                  </a:cubicBezTo>
                  <a:cubicBezTo>
                    <a:pt x="6291" y="4118"/>
                    <a:pt x="6301" y="4145"/>
                    <a:pt x="6317" y="4169"/>
                  </a:cubicBezTo>
                  <a:lnTo>
                    <a:pt x="6317" y="4219"/>
                  </a:lnTo>
                  <a:cubicBezTo>
                    <a:pt x="6335" y="4219"/>
                    <a:pt x="6344" y="4248"/>
                    <a:pt x="6344" y="4281"/>
                  </a:cubicBezTo>
                  <a:lnTo>
                    <a:pt x="6344" y="4355"/>
                  </a:lnTo>
                  <a:cubicBezTo>
                    <a:pt x="6344" y="4361"/>
                    <a:pt x="6344" y="4367"/>
                    <a:pt x="6349" y="4373"/>
                  </a:cubicBezTo>
                  <a:cubicBezTo>
                    <a:pt x="6353" y="4379"/>
                    <a:pt x="6360" y="4379"/>
                    <a:pt x="6365" y="4384"/>
                  </a:cubicBezTo>
                  <a:cubicBezTo>
                    <a:pt x="6379" y="4399"/>
                    <a:pt x="6379" y="4423"/>
                    <a:pt x="6379" y="4441"/>
                  </a:cubicBezTo>
                  <a:cubicBezTo>
                    <a:pt x="6379" y="4461"/>
                    <a:pt x="6383" y="4491"/>
                    <a:pt x="6397" y="4491"/>
                  </a:cubicBezTo>
                  <a:cubicBezTo>
                    <a:pt x="6383" y="4497"/>
                    <a:pt x="6383" y="4529"/>
                    <a:pt x="6388" y="4547"/>
                  </a:cubicBezTo>
                  <a:cubicBezTo>
                    <a:pt x="6393" y="4565"/>
                    <a:pt x="6393" y="4597"/>
                    <a:pt x="6379" y="4603"/>
                  </a:cubicBezTo>
                  <a:cubicBezTo>
                    <a:pt x="6370" y="4609"/>
                    <a:pt x="6360" y="4603"/>
                    <a:pt x="6353" y="4609"/>
                  </a:cubicBezTo>
                  <a:cubicBezTo>
                    <a:pt x="6349" y="4609"/>
                    <a:pt x="6349" y="4615"/>
                    <a:pt x="6344" y="4621"/>
                  </a:cubicBezTo>
                  <a:cubicBezTo>
                    <a:pt x="6335" y="4653"/>
                    <a:pt x="6326" y="4683"/>
                    <a:pt x="6330" y="4721"/>
                  </a:cubicBezTo>
                  <a:lnTo>
                    <a:pt x="6296" y="4721"/>
                  </a:lnTo>
                  <a:lnTo>
                    <a:pt x="6296" y="4846"/>
                  </a:lnTo>
                  <a:cubicBezTo>
                    <a:pt x="6296" y="4869"/>
                    <a:pt x="6291" y="4893"/>
                    <a:pt x="6278" y="4899"/>
                  </a:cubicBezTo>
                  <a:cubicBezTo>
                    <a:pt x="6291" y="4899"/>
                    <a:pt x="6305" y="4920"/>
                    <a:pt x="6305" y="4943"/>
                  </a:cubicBezTo>
                  <a:cubicBezTo>
                    <a:pt x="6312" y="4961"/>
                    <a:pt x="6307" y="4988"/>
                    <a:pt x="6312" y="5005"/>
                  </a:cubicBezTo>
                  <a:cubicBezTo>
                    <a:pt x="6319" y="5023"/>
                    <a:pt x="6321" y="5038"/>
                    <a:pt x="6326" y="5056"/>
                  </a:cubicBezTo>
                  <a:cubicBezTo>
                    <a:pt x="6335" y="5085"/>
                    <a:pt x="6335" y="5118"/>
                    <a:pt x="6330" y="5153"/>
                  </a:cubicBezTo>
                  <a:cubicBezTo>
                    <a:pt x="6326" y="5168"/>
                    <a:pt x="6326" y="5174"/>
                    <a:pt x="6321" y="5186"/>
                  </a:cubicBezTo>
                  <a:cubicBezTo>
                    <a:pt x="6321" y="5209"/>
                    <a:pt x="6326" y="5236"/>
                    <a:pt x="6344" y="5248"/>
                  </a:cubicBezTo>
                  <a:cubicBezTo>
                    <a:pt x="6349" y="5254"/>
                    <a:pt x="6360" y="5254"/>
                    <a:pt x="6365" y="5254"/>
                  </a:cubicBezTo>
                  <a:lnTo>
                    <a:pt x="6374" y="5242"/>
                  </a:lnTo>
                  <a:cubicBezTo>
                    <a:pt x="6383" y="5230"/>
                    <a:pt x="6397" y="5248"/>
                    <a:pt x="6413" y="5254"/>
                  </a:cubicBezTo>
                  <a:cubicBezTo>
                    <a:pt x="6427" y="5265"/>
                    <a:pt x="6445" y="5260"/>
                    <a:pt x="6445" y="5242"/>
                  </a:cubicBezTo>
                  <a:cubicBezTo>
                    <a:pt x="6466" y="5248"/>
                    <a:pt x="6491" y="5242"/>
                    <a:pt x="6510" y="5230"/>
                  </a:cubicBezTo>
                  <a:cubicBezTo>
                    <a:pt x="6540" y="5209"/>
                    <a:pt x="6563" y="5174"/>
                    <a:pt x="6595" y="5180"/>
                  </a:cubicBezTo>
                  <a:cubicBezTo>
                    <a:pt x="6606" y="5209"/>
                    <a:pt x="6639" y="5197"/>
                    <a:pt x="6664" y="5197"/>
                  </a:cubicBezTo>
                  <a:cubicBezTo>
                    <a:pt x="6673" y="5197"/>
                    <a:pt x="6687" y="5209"/>
                    <a:pt x="6696" y="5215"/>
                  </a:cubicBezTo>
                  <a:cubicBezTo>
                    <a:pt x="6721" y="5236"/>
                    <a:pt x="6749" y="5260"/>
                    <a:pt x="6774" y="5277"/>
                  </a:cubicBezTo>
                  <a:cubicBezTo>
                    <a:pt x="6788" y="5292"/>
                    <a:pt x="6800" y="5298"/>
                    <a:pt x="6809" y="5316"/>
                  </a:cubicBezTo>
                  <a:cubicBezTo>
                    <a:pt x="6820" y="5333"/>
                    <a:pt x="6818" y="5354"/>
                    <a:pt x="6813" y="5372"/>
                  </a:cubicBezTo>
                  <a:cubicBezTo>
                    <a:pt x="6832" y="5378"/>
                    <a:pt x="6846" y="5396"/>
                    <a:pt x="6857" y="5422"/>
                  </a:cubicBezTo>
                  <a:cubicBezTo>
                    <a:pt x="6866" y="5446"/>
                    <a:pt x="6866" y="5469"/>
                    <a:pt x="6871" y="5496"/>
                  </a:cubicBezTo>
                  <a:cubicBezTo>
                    <a:pt x="6876" y="5540"/>
                    <a:pt x="6880" y="5582"/>
                    <a:pt x="6866" y="5626"/>
                  </a:cubicBezTo>
                  <a:cubicBezTo>
                    <a:pt x="6862" y="5638"/>
                    <a:pt x="6857" y="5641"/>
                    <a:pt x="6857" y="5656"/>
                  </a:cubicBezTo>
                  <a:cubicBezTo>
                    <a:pt x="6857" y="5668"/>
                    <a:pt x="6857" y="5682"/>
                    <a:pt x="6853" y="5694"/>
                  </a:cubicBezTo>
                  <a:cubicBezTo>
                    <a:pt x="6846" y="5718"/>
                    <a:pt x="6827" y="5739"/>
                    <a:pt x="6813" y="5739"/>
                  </a:cubicBezTo>
                  <a:lnTo>
                    <a:pt x="6813" y="5774"/>
                  </a:lnTo>
                  <a:cubicBezTo>
                    <a:pt x="6804" y="5780"/>
                    <a:pt x="6793" y="5768"/>
                    <a:pt x="6788" y="5756"/>
                  </a:cubicBezTo>
                  <a:cubicBezTo>
                    <a:pt x="6784" y="5744"/>
                    <a:pt x="6788" y="5733"/>
                    <a:pt x="6788" y="5718"/>
                  </a:cubicBezTo>
                  <a:cubicBezTo>
                    <a:pt x="6793" y="5665"/>
                    <a:pt x="6793" y="5603"/>
                    <a:pt x="6784" y="5546"/>
                  </a:cubicBezTo>
                  <a:cubicBezTo>
                    <a:pt x="6788" y="5520"/>
                    <a:pt x="6761" y="5514"/>
                    <a:pt x="6756" y="5496"/>
                  </a:cubicBezTo>
                  <a:lnTo>
                    <a:pt x="6756" y="5464"/>
                  </a:lnTo>
                  <a:cubicBezTo>
                    <a:pt x="6756" y="5446"/>
                    <a:pt x="6735" y="5434"/>
                    <a:pt x="6726" y="5422"/>
                  </a:cubicBezTo>
                  <a:cubicBezTo>
                    <a:pt x="6701" y="5401"/>
                    <a:pt x="6682" y="5372"/>
                    <a:pt x="6669" y="5333"/>
                  </a:cubicBezTo>
                  <a:cubicBezTo>
                    <a:pt x="6648" y="5328"/>
                    <a:pt x="6625" y="5328"/>
                    <a:pt x="6606" y="5348"/>
                  </a:cubicBezTo>
                  <a:cubicBezTo>
                    <a:pt x="6590" y="5360"/>
                    <a:pt x="6577" y="5384"/>
                    <a:pt x="6558" y="5372"/>
                  </a:cubicBezTo>
                  <a:cubicBezTo>
                    <a:pt x="6547" y="5366"/>
                    <a:pt x="6537" y="5354"/>
                    <a:pt x="6528" y="5360"/>
                  </a:cubicBezTo>
                  <a:cubicBezTo>
                    <a:pt x="6519" y="5360"/>
                    <a:pt x="6519" y="5372"/>
                    <a:pt x="6514" y="5378"/>
                  </a:cubicBezTo>
                  <a:cubicBezTo>
                    <a:pt x="6503" y="5390"/>
                    <a:pt x="6489" y="5390"/>
                    <a:pt x="6480" y="5390"/>
                  </a:cubicBezTo>
                  <a:cubicBezTo>
                    <a:pt x="6436" y="5390"/>
                    <a:pt x="6388" y="5396"/>
                    <a:pt x="6360" y="5440"/>
                  </a:cubicBezTo>
                  <a:cubicBezTo>
                    <a:pt x="6379" y="5458"/>
                    <a:pt x="6402" y="5464"/>
                    <a:pt x="6422" y="5458"/>
                  </a:cubicBezTo>
                  <a:cubicBezTo>
                    <a:pt x="6427" y="5478"/>
                    <a:pt x="6427" y="5496"/>
                    <a:pt x="6413" y="5514"/>
                  </a:cubicBezTo>
                  <a:cubicBezTo>
                    <a:pt x="6397" y="5540"/>
                    <a:pt x="6418" y="5564"/>
                    <a:pt x="6422" y="5594"/>
                  </a:cubicBezTo>
                  <a:cubicBezTo>
                    <a:pt x="6427" y="5620"/>
                    <a:pt x="6427" y="5644"/>
                    <a:pt x="6418" y="5665"/>
                  </a:cubicBezTo>
                  <a:cubicBezTo>
                    <a:pt x="6441" y="5665"/>
                    <a:pt x="6450" y="5700"/>
                    <a:pt x="6455" y="5733"/>
                  </a:cubicBezTo>
                  <a:cubicBezTo>
                    <a:pt x="6462" y="5750"/>
                    <a:pt x="6462" y="5768"/>
                    <a:pt x="6455" y="5786"/>
                  </a:cubicBezTo>
                  <a:lnTo>
                    <a:pt x="6441" y="5824"/>
                  </a:lnTo>
                  <a:cubicBezTo>
                    <a:pt x="6436" y="5857"/>
                    <a:pt x="6455" y="5880"/>
                    <a:pt x="6450" y="5910"/>
                  </a:cubicBezTo>
                  <a:lnTo>
                    <a:pt x="6432" y="5910"/>
                  </a:lnTo>
                  <a:cubicBezTo>
                    <a:pt x="6436" y="5931"/>
                    <a:pt x="6422" y="5943"/>
                    <a:pt x="6409" y="5937"/>
                  </a:cubicBezTo>
                  <a:cubicBezTo>
                    <a:pt x="6402" y="5937"/>
                    <a:pt x="6397" y="5931"/>
                    <a:pt x="6393" y="5925"/>
                  </a:cubicBezTo>
                  <a:cubicBezTo>
                    <a:pt x="6379" y="5919"/>
                    <a:pt x="6365" y="5931"/>
                    <a:pt x="6360" y="5948"/>
                  </a:cubicBezTo>
                  <a:cubicBezTo>
                    <a:pt x="6353" y="5966"/>
                    <a:pt x="6365" y="5987"/>
                    <a:pt x="6374" y="6005"/>
                  </a:cubicBezTo>
                  <a:cubicBezTo>
                    <a:pt x="6365" y="5993"/>
                    <a:pt x="6349" y="6008"/>
                    <a:pt x="6344" y="6028"/>
                  </a:cubicBezTo>
                  <a:cubicBezTo>
                    <a:pt x="6340" y="6046"/>
                    <a:pt x="6326" y="6067"/>
                    <a:pt x="6317" y="6055"/>
                  </a:cubicBezTo>
                  <a:cubicBezTo>
                    <a:pt x="6312" y="6079"/>
                    <a:pt x="6330" y="6096"/>
                    <a:pt x="6344" y="6111"/>
                  </a:cubicBezTo>
                  <a:cubicBezTo>
                    <a:pt x="6360" y="6129"/>
                    <a:pt x="6365" y="6158"/>
                    <a:pt x="6349" y="6173"/>
                  </a:cubicBezTo>
                  <a:cubicBezTo>
                    <a:pt x="6344" y="6179"/>
                    <a:pt x="6340" y="6173"/>
                    <a:pt x="6330" y="6179"/>
                  </a:cubicBezTo>
                  <a:cubicBezTo>
                    <a:pt x="6317" y="6179"/>
                    <a:pt x="6301" y="6191"/>
                    <a:pt x="6291" y="6203"/>
                  </a:cubicBezTo>
                  <a:cubicBezTo>
                    <a:pt x="6282" y="6209"/>
                    <a:pt x="6278" y="6212"/>
                    <a:pt x="6273" y="6226"/>
                  </a:cubicBezTo>
                  <a:cubicBezTo>
                    <a:pt x="6268" y="6238"/>
                    <a:pt x="6273" y="6253"/>
                    <a:pt x="6282" y="6259"/>
                  </a:cubicBezTo>
                  <a:lnTo>
                    <a:pt x="6264" y="6259"/>
                  </a:lnTo>
                  <a:cubicBezTo>
                    <a:pt x="6252" y="6283"/>
                    <a:pt x="6234" y="6303"/>
                    <a:pt x="6215" y="6327"/>
                  </a:cubicBezTo>
                  <a:cubicBezTo>
                    <a:pt x="6209" y="6333"/>
                    <a:pt x="6204" y="6339"/>
                    <a:pt x="6199" y="6339"/>
                  </a:cubicBezTo>
                  <a:cubicBezTo>
                    <a:pt x="6190" y="6339"/>
                    <a:pt x="6186" y="6339"/>
                    <a:pt x="6181" y="6345"/>
                  </a:cubicBezTo>
                  <a:cubicBezTo>
                    <a:pt x="6172" y="6365"/>
                    <a:pt x="6204" y="6383"/>
                    <a:pt x="6195" y="6401"/>
                  </a:cubicBezTo>
                  <a:lnTo>
                    <a:pt x="6137" y="6401"/>
                  </a:lnTo>
                  <a:lnTo>
                    <a:pt x="6137" y="6419"/>
                  </a:lnTo>
                  <a:lnTo>
                    <a:pt x="6123" y="6419"/>
                  </a:lnTo>
                  <a:cubicBezTo>
                    <a:pt x="6123" y="6433"/>
                    <a:pt x="6123" y="6445"/>
                    <a:pt x="6128" y="6457"/>
                  </a:cubicBezTo>
                  <a:cubicBezTo>
                    <a:pt x="6114" y="6463"/>
                    <a:pt x="6098" y="6463"/>
                    <a:pt x="6089" y="6463"/>
                  </a:cubicBezTo>
                  <a:cubicBezTo>
                    <a:pt x="6084" y="6475"/>
                    <a:pt x="6089" y="6489"/>
                    <a:pt x="6093" y="6501"/>
                  </a:cubicBezTo>
                  <a:cubicBezTo>
                    <a:pt x="6080" y="6501"/>
                    <a:pt x="6066" y="6501"/>
                    <a:pt x="6054" y="6489"/>
                  </a:cubicBezTo>
                  <a:cubicBezTo>
                    <a:pt x="6045" y="6475"/>
                    <a:pt x="6041" y="6451"/>
                    <a:pt x="6050" y="6445"/>
                  </a:cubicBezTo>
                  <a:cubicBezTo>
                    <a:pt x="6054" y="6439"/>
                    <a:pt x="6059" y="6439"/>
                    <a:pt x="6066" y="6433"/>
                  </a:cubicBezTo>
                  <a:cubicBezTo>
                    <a:pt x="6066" y="6427"/>
                    <a:pt x="6066" y="6419"/>
                    <a:pt x="6059" y="6419"/>
                  </a:cubicBezTo>
                  <a:cubicBezTo>
                    <a:pt x="6050" y="6401"/>
                    <a:pt x="6041" y="6377"/>
                    <a:pt x="6031" y="6356"/>
                  </a:cubicBezTo>
                  <a:cubicBezTo>
                    <a:pt x="6045" y="6356"/>
                    <a:pt x="6054" y="6345"/>
                    <a:pt x="6054" y="6327"/>
                  </a:cubicBezTo>
                  <a:cubicBezTo>
                    <a:pt x="6054" y="6309"/>
                    <a:pt x="6045" y="6294"/>
                    <a:pt x="6036" y="6288"/>
                  </a:cubicBezTo>
                  <a:lnTo>
                    <a:pt x="6080" y="6271"/>
                  </a:lnTo>
                  <a:cubicBezTo>
                    <a:pt x="6080" y="6247"/>
                    <a:pt x="6084" y="6220"/>
                    <a:pt x="6093" y="6203"/>
                  </a:cubicBezTo>
                  <a:cubicBezTo>
                    <a:pt x="6089" y="6197"/>
                    <a:pt x="6080" y="6191"/>
                    <a:pt x="6075" y="6185"/>
                  </a:cubicBezTo>
                  <a:cubicBezTo>
                    <a:pt x="6103" y="6185"/>
                    <a:pt x="6119" y="6147"/>
                    <a:pt x="6123" y="6111"/>
                  </a:cubicBezTo>
                  <a:cubicBezTo>
                    <a:pt x="6128" y="6079"/>
                    <a:pt x="6137" y="6049"/>
                    <a:pt x="6142" y="6011"/>
                  </a:cubicBezTo>
                  <a:cubicBezTo>
                    <a:pt x="6146" y="5993"/>
                    <a:pt x="6146" y="5972"/>
                    <a:pt x="6156" y="5954"/>
                  </a:cubicBezTo>
                  <a:cubicBezTo>
                    <a:pt x="6165" y="5943"/>
                    <a:pt x="6183" y="5937"/>
                    <a:pt x="6195" y="5954"/>
                  </a:cubicBezTo>
                  <a:cubicBezTo>
                    <a:pt x="6192" y="5948"/>
                    <a:pt x="6199" y="5943"/>
                    <a:pt x="6204" y="5943"/>
                  </a:cubicBezTo>
                  <a:cubicBezTo>
                    <a:pt x="6209" y="5943"/>
                    <a:pt x="6215" y="5948"/>
                    <a:pt x="6220" y="5954"/>
                  </a:cubicBezTo>
                  <a:cubicBezTo>
                    <a:pt x="6229" y="5954"/>
                    <a:pt x="6234" y="5937"/>
                    <a:pt x="6229" y="5925"/>
                  </a:cubicBezTo>
                  <a:cubicBezTo>
                    <a:pt x="6225" y="5910"/>
                    <a:pt x="6215" y="5898"/>
                    <a:pt x="6215" y="5886"/>
                  </a:cubicBezTo>
                  <a:cubicBezTo>
                    <a:pt x="6215" y="5875"/>
                    <a:pt x="6225" y="5857"/>
                    <a:pt x="6234" y="5869"/>
                  </a:cubicBezTo>
                  <a:cubicBezTo>
                    <a:pt x="6229" y="5836"/>
                    <a:pt x="6225" y="5812"/>
                    <a:pt x="6225" y="5780"/>
                  </a:cubicBezTo>
                  <a:lnTo>
                    <a:pt x="6225" y="5762"/>
                  </a:lnTo>
                  <a:cubicBezTo>
                    <a:pt x="6225" y="5750"/>
                    <a:pt x="6229" y="5744"/>
                    <a:pt x="6234" y="5733"/>
                  </a:cubicBezTo>
                  <a:cubicBezTo>
                    <a:pt x="6243" y="5706"/>
                    <a:pt x="6243" y="5676"/>
                    <a:pt x="6238" y="5650"/>
                  </a:cubicBezTo>
                  <a:cubicBezTo>
                    <a:pt x="6234" y="5632"/>
                    <a:pt x="6229" y="5614"/>
                    <a:pt x="6229" y="5603"/>
                  </a:cubicBezTo>
                  <a:cubicBezTo>
                    <a:pt x="6234" y="5582"/>
                    <a:pt x="6252" y="5576"/>
                    <a:pt x="6257" y="5588"/>
                  </a:cubicBezTo>
                  <a:cubicBezTo>
                    <a:pt x="6273" y="5570"/>
                    <a:pt x="6282" y="5552"/>
                    <a:pt x="6296" y="5532"/>
                  </a:cubicBezTo>
                  <a:cubicBezTo>
                    <a:pt x="6282" y="5514"/>
                    <a:pt x="6278" y="5490"/>
                    <a:pt x="6282" y="5464"/>
                  </a:cubicBezTo>
                  <a:cubicBezTo>
                    <a:pt x="6257" y="5464"/>
                    <a:pt x="6238" y="5458"/>
                    <a:pt x="6220" y="5440"/>
                  </a:cubicBezTo>
                  <a:cubicBezTo>
                    <a:pt x="6215" y="5452"/>
                    <a:pt x="6195" y="5446"/>
                    <a:pt x="6195" y="5434"/>
                  </a:cubicBezTo>
                  <a:cubicBezTo>
                    <a:pt x="6186" y="5396"/>
                    <a:pt x="6162" y="5366"/>
                    <a:pt x="6142" y="5339"/>
                  </a:cubicBezTo>
                  <a:cubicBezTo>
                    <a:pt x="6137" y="5333"/>
                    <a:pt x="6137" y="5328"/>
                    <a:pt x="6137" y="5322"/>
                  </a:cubicBezTo>
                  <a:cubicBezTo>
                    <a:pt x="6137" y="5310"/>
                    <a:pt x="6158" y="5310"/>
                    <a:pt x="6162" y="5298"/>
                  </a:cubicBezTo>
                  <a:cubicBezTo>
                    <a:pt x="6169" y="5286"/>
                    <a:pt x="6156" y="5271"/>
                    <a:pt x="6146" y="5260"/>
                  </a:cubicBezTo>
                  <a:cubicBezTo>
                    <a:pt x="6137" y="5248"/>
                    <a:pt x="6137" y="5227"/>
                    <a:pt x="6149" y="5227"/>
                  </a:cubicBezTo>
                  <a:cubicBezTo>
                    <a:pt x="6139" y="5224"/>
                    <a:pt x="6133" y="5209"/>
                    <a:pt x="6133" y="5197"/>
                  </a:cubicBezTo>
                  <a:cubicBezTo>
                    <a:pt x="6133" y="5186"/>
                    <a:pt x="6137" y="5174"/>
                    <a:pt x="6142" y="5162"/>
                  </a:cubicBezTo>
                  <a:cubicBezTo>
                    <a:pt x="6151" y="5124"/>
                    <a:pt x="6156" y="5085"/>
                    <a:pt x="6146" y="5050"/>
                  </a:cubicBezTo>
                  <a:cubicBezTo>
                    <a:pt x="6156" y="5044"/>
                    <a:pt x="6162" y="5044"/>
                    <a:pt x="6172" y="5038"/>
                  </a:cubicBezTo>
                  <a:cubicBezTo>
                    <a:pt x="6176" y="5017"/>
                    <a:pt x="6156" y="4999"/>
                    <a:pt x="6162" y="4982"/>
                  </a:cubicBezTo>
                  <a:cubicBezTo>
                    <a:pt x="6162" y="4976"/>
                    <a:pt x="6172" y="4970"/>
                    <a:pt x="6172" y="4961"/>
                  </a:cubicBezTo>
                  <a:cubicBezTo>
                    <a:pt x="6176" y="4949"/>
                    <a:pt x="6167" y="4937"/>
                    <a:pt x="6156" y="4931"/>
                  </a:cubicBezTo>
                  <a:cubicBezTo>
                    <a:pt x="6146" y="4925"/>
                    <a:pt x="6137" y="4920"/>
                    <a:pt x="6133" y="4908"/>
                  </a:cubicBezTo>
                  <a:cubicBezTo>
                    <a:pt x="6123" y="4875"/>
                    <a:pt x="6167" y="4846"/>
                    <a:pt x="6151" y="4807"/>
                  </a:cubicBezTo>
                  <a:cubicBezTo>
                    <a:pt x="6146" y="4795"/>
                    <a:pt x="6133" y="4784"/>
                    <a:pt x="6133" y="4769"/>
                  </a:cubicBezTo>
                  <a:cubicBezTo>
                    <a:pt x="6142" y="4757"/>
                    <a:pt x="6156" y="4745"/>
                    <a:pt x="6172" y="4739"/>
                  </a:cubicBezTo>
                  <a:lnTo>
                    <a:pt x="6156" y="4721"/>
                  </a:lnTo>
                  <a:cubicBezTo>
                    <a:pt x="6162" y="4721"/>
                    <a:pt x="6167" y="4716"/>
                    <a:pt x="6172" y="4716"/>
                  </a:cubicBezTo>
                  <a:cubicBezTo>
                    <a:pt x="6167" y="4689"/>
                    <a:pt x="6167" y="4659"/>
                    <a:pt x="6172" y="4633"/>
                  </a:cubicBezTo>
                  <a:cubicBezTo>
                    <a:pt x="6176" y="4609"/>
                    <a:pt x="6190" y="4591"/>
                    <a:pt x="6190" y="4565"/>
                  </a:cubicBezTo>
                  <a:cubicBezTo>
                    <a:pt x="6190" y="4541"/>
                    <a:pt x="6176" y="4515"/>
                    <a:pt x="6156" y="4523"/>
                  </a:cubicBezTo>
                  <a:cubicBezTo>
                    <a:pt x="6162" y="4509"/>
                    <a:pt x="6167" y="4497"/>
                    <a:pt x="6176" y="4485"/>
                  </a:cubicBezTo>
                  <a:cubicBezTo>
                    <a:pt x="6162" y="4479"/>
                    <a:pt x="6151" y="4464"/>
                    <a:pt x="6146" y="4447"/>
                  </a:cubicBezTo>
                  <a:cubicBezTo>
                    <a:pt x="6142" y="4426"/>
                    <a:pt x="6146" y="4411"/>
                    <a:pt x="6146" y="4390"/>
                  </a:cubicBezTo>
                  <a:cubicBezTo>
                    <a:pt x="6146" y="4379"/>
                    <a:pt x="6151" y="4367"/>
                    <a:pt x="6156" y="4355"/>
                  </a:cubicBezTo>
                  <a:cubicBezTo>
                    <a:pt x="6162" y="4349"/>
                    <a:pt x="6167" y="4349"/>
                    <a:pt x="6167" y="4343"/>
                  </a:cubicBezTo>
                  <a:cubicBezTo>
                    <a:pt x="6167" y="4337"/>
                    <a:pt x="6167" y="4328"/>
                    <a:pt x="6162" y="4328"/>
                  </a:cubicBezTo>
                  <a:cubicBezTo>
                    <a:pt x="6151" y="4299"/>
                    <a:pt x="6133" y="4275"/>
                    <a:pt x="6114" y="4254"/>
                  </a:cubicBezTo>
                  <a:cubicBezTo>
                    <a:pt x="6114" y="4243"/>
                    <a:pt x="6123" y="4237"/>
                    <a:pt x="6123" y="4225"/>
                  </a:cubicBezTo>
                  <a:cubicBezTo>
                    <a:pt x="6133" y="4180"/>
                    <a:pt x="6070" y="4163"/>
                    <a:pt x="6080" y="4118"/>
                  </a:cubicBezTo>
                  <a:cubicBezTo>
                    <a:pt x="6089" y="4124"/>
                    <a:pt x="6098" y="4101"/>
                    <a:pt x="6093" y="4089"/>
                  </a:cubicBezTo>
                  <a:cubicBezTo>
                    <a:pt x="6089" y="4074"/>
                    <a:pt x="6084" y="4056"/>
                    <a:pt x="6093" y="4044"/>
                  </a:cubicBezTo>
                  <a:cubicBezTo>
                    <a:pt x="6084" y="4027"/>
                    <a:pt x="6093" y="3994"/>
                    <a:pt x="6098" y="3976"/>
                  </a:cubicBezTo>
                  <a:cubicBezTo>
                    <a:pt x="6103" y="3959"/>
                    <a:pt x="6103" y="3926"/>
                    <a:pt x="6089" y="3920"/>
                  </a:cubicBezTo>
                  <a:cubicBezTo>
                    <a:pt x="6107" y="3908"/>
                    <a:pt x="6128" y="3882"/>
                    <a:pt x="6137" y="3858"/>
                  </a:cubicBezTo>
                  <a:cubicBezTo>
                    <a:pt x="6146" y="3835"/>
                    <a:pt x="6151" y="3802"/>
                    <a:pt x="6172" y="3802"/>
                  </a:cubicBezTo>
                  <a:cubicBezTo>
                    <a:pt x="6146" y="3767"/>
                    <a:pt x="6156" y="3704"/>
                    <a:pt x="6181" y="3672"/>
                  </a:cubicBezTo>
                  <a:cubicBezTo>
                    <a:pt x="6162" y="3636"/>
                    <a:pt x="6146" y="3586"/>
                    <a:pt x="6151" y="3542"/>
                  </a:cubicBezTo>
                  <a:cubicBezTo>
                    <a:pt x="6142" y="3536"/>
                    <a:pt x="6133" y="3536"/>
                    <a:pt x="6123" y="3536"/>
                  </a:cubicBezTo>
                  <a:cubicBezTo>
                    <a:pt x="6146" y="3518"/>
                    <a:pt x="6167" y="3498"/>
                    <a:pt x="6190" y="3474"/>
                  </a:cubicBezTo>
                  <a:cubicBezTo>
                    <a:pt x="6195" y="3468"/>
                    <a:pt x="6199" y="3468"/>
                    <a:pt x="6199" y="3462"/>
                  </a:cubicBezTo>
                  <a:cubicBezTo>
                    <a:pt x="6204" y="3450"/>
                    <a:pt x="6195" y="3435"/>
                    <a:pt x="6190" y="3424"/>
                  </a:cubicBezTo>
                  <a:cubicBezTo>
                    <a:pt x="6176" y="3400"/>
                    <a:pt x="6156" y="3382"/>
                    <a:pt x="6142" y="3356"/>
                  </a:cubicBezTo>
                  <a:cubicBezTo>
                    <a:pt x="6137" y="3350"/>
                    <a:pt x="6133" y="3344"/>
                    <a:pt x="6128" y="3344"/>
                  </a:cubicBezTo>
                  <a:cubicBezTo>
                    <a:pt x="6119" y="3338"/>
                    <a:pt x="6107" y="3350"/>
                    <a:pt x="6098" y="3344"/>
                  </a:cubicBezTo>
                  <a:cubicBezTo>
                    <a:pt x="6089" y="3344"/>
                    <a:pt x="6084" y="3332"/>
                    <a:pt x="6080" y="3332"/>
                  </a:cubicBezTo>
                  <a:cubicBezTo>
                    <a:pt x="6070" y="3326"/>
                    <a:pt x="6054" y="3326"/>
                    <a:pt x="6041" y="3320"/>
                  </a:cubicBezTo>
                  <a:cubicBezTo>
                    <a:pt x="6027" y="3311"/>
                    <a:pt x="6018" y="3299"/>
                    <a:pt x="6018" y="3282"/>
                  </a:cubicBezTo>
                  <a:cubicBezTo>
                    <a:pt x="6001" y="3288"/>
                    <a:pt x="5988" y="3294"/>
                    <a:pt x="5978" y="3288"/>
                  </a:cubicBezTo>
                  <a:cubicBezTo>
                    <a:pt x="5965" y="3282"/>
                    <a:pt x="5953" y="3264"/>
                    <a:pt x="5965" y="3243"/>
                  </a:cubicBezTo>
                  <a:cubicBezTo>
                    <a:pt x="5974" y="3214"/>
                    <a:pt x="6022" y="3226"/>
                    <a:pt x="6027" y="3187"/>
                  </a:cubicBezTo>
                  <a:cubicBezTo>
                    <a:pt x="6031" y="3175"/>
                    <a:pt x="6022" y="3158"/>
                    <a:pt x="6022" y="3146"/>
                  </a:cubicBezTo>
                  <a:cubicBezTo>
                    <a:pt x="6022" y="3134"/>
                    <a:pt x="6027" y="3119"/>
                    <a:pt x="6027" y="3107"/>
                  </a:cubicBezTo>
                  <a:cubicBezTo>
                    <a:pt x="6031" y="3072"/>
                    <a:pt x="6022" y="3033"/>
                    <a:pt x="6011" y="2995"/>
                  </a:cubicBezTo>
                  <a:cubicBezTo>
                    <a:pt x="6011" y="2989"/>
                    <a:pt x="6006" y="2983"/>
                    <a:pt x="6001" y="2977"/>
                  </a:cubicBezTo>
                  <a:cubicBezTo>
                    <a:pt x="5997" y="2971"/>
                    <a:pt x="5988" y="2971"/>
                    <a:pt x="5983" y="2971"/>
                  </a:cubicBezTo>
                  <a:cubicBezTo>
                    <a:pt x="5974" y="2965"/>
                    <a:pt x="5965" y="2954"/>
                    <a:pt x="5953" y="2948"/>
                  </a:cubicBezTo>
                  <a:cubicBezTo>
                    <a:pt x="5944" y="2942"/>
                    <a:pt x="5930" y="2942"/>
                    <a:pt x="5926" y="2954"/>
                  </a:cubicBezTo>
                  <a:cubicBezTo>
                    <a:pt x="5909" y="2933"/>
                    <a:pt x="5898" y="2921"/>
                    <a:pt x="5877" y="2915"/>
                  </a:cubicBezTo>
                  <a:cubicBezTo>
                    <a:pt x="5859" y="2909"/>
                    <a:pt x="5834" y="2915"/>
                    <a:pt x="5824" y="2933"/>
                  </a:cubicBezTo>
                  <a:cubicBezTo>
                    <a:pt x="5808" y="2959"/>
                    <a:pt x="5820" y="2989"/>
                    <a:pt x="5829" y="3022"/>
                  </a:cubicBezTo>
                  <a:cubicBezTo>
                    <a:pt x="5813" y="3022"/>
                    <a:pt x="5804" y="3039"/>
                    <a:pt x="5804" y="3051"/>
                  </a:cubicBezTo>
                  <a:cubicBezTo>
                    <a:pt x="5804" y="3072"/>
                    <a:pt x="5813" y="3084"/>
                    <a:pt x="5824" y="3090"/>
                  </a:cubicBezTo>
                  <a:cubicBezTo>
                    <a:pt x="5804" y="3113"/>
                    <a:pt x="5790" y="3140"/>
                    <a:pt x="5781" y="3175"/>
                  </a:cubicBezTo>
                  <a:cubicBezTo>
                    <a:pt x="5776" y="3187"/>
                    <a:pt x="5781" y="3214"/>
                    <a:pt x="5790" y="3208"/>
                  </a:cubicBezTo>
                  <a:cubicBezTo>
                    <a:pt x="5790" y="3220"/>
                    <a:pt x="5776" y="3231"/>
                    <a:pt x="5765" y="3231"/>
                  </a:cubicBezTo>
                  <a:lnTo>
                    <a:pt x="5732" y="3231"/>
                  </a:lnTo>
                  <a:cubicBezTo>
                    <a:pt x="5719" y="3237"/>
                    <a:pt x="5707" y="3258"/>
                    <a:pt x="5702" y="3282"/>
                  </a:cubicBezTo>
                  <a:cubicBezTo>
                    <a:pt x="5702" y="3299"/>
                    <a:pt x="5707" y="3326"/>
                    <a:pt x="5712" y="3344"/>
                  </a:cubicBezTo>
                  <a:cubicBezTo>
                    <a:pt x="5719" y="3362"/>
                    <a:pt x="5723" y="3394"/>
                    <a:pt x="5707" y="3400"/>
                  </a:cubicBezTo>
                  <a:cubicBezTo>
                    <a:pt x="5698" y="3406"/>
                    <a:pt x="5684" y="3400"/>
                    <a:pt x="5679" y="3412"/>
                  </a:cubicBezTo>
                  <a:cubicBezTo>
                    <a:pt x="5675" y="3424"/>
                    <a:pt x="5684" y="3430"/>
                    <a:pt x="5684" y="3444"/>
                  </a:cubicBezTo>
                  <a:cubicBezTo>
                    <a:pt x="5684" y="3456"/>
                    <a:pt x="5675" y="3462"/>
                    <a:pt x="5670" y="3474"/>
                  </a:cubicBezTo>
                  <a:cubicBezTo>
                    <a:pt x="5663" y="3486"/>
                    <a:pt x="5675" y="3498"/>
                    <a:pt x="5684" y="3512"/>
                  </a:cubicBezTo>
                  <a:cubicBezTo>
                    <a:pt x="5693" y="3536"/>
                    <a:pt x="5689" y="3560"/>
                    <a:pt x="5689" y="3586"/>
                  </a:cubicBezTo>
                  <a:cubicBezTo>
                    <a:pt x="5684" y="3622"/>
                    <a:pt x="5679" y="3654"/>
                    <a:pt x="5663" y="3684"/>
                  </a:cubicBezTo>
                  <a:cubicBezTo>
                    <a:pt x="5659" y="3699"/>
                    <a:pt x="5654" y="3710"/>
                    <a:pt x="5654" y="3722"/>
                  </a:cubicBezTo>
                  <a:cubicBezTo>
                    <a:pt x="5654" y="3728"/>
                    <a:pt x="5659" y="3734"/>
                    <a:pt x="5659" y="3740"/>
                  </a:cubicBezTo>
                  <a:cubicBezTo>
                    <a:pt x="5670" y="3772"/>
                    <a:pt x="5654" y="3814"/>
                    <a:pt x="5631" y="3820"/>
                  </a:cubicBezTo>
                  <a:cubicBezTo>
                    <a:pt x="5645" y="3820"/>
                    <a:pt x="5650" y="3846"/>
                    <a:pt x="5645" y="3864"/>
                  </a:cubicBezTo>
                  <a:cubicBezTo>
                    <a:pt x="5640" y="3882"/>
                    <a:pt x="5631" y="3897"/>
                    <a:pt x="5636" y="3914"/>
                  </a:cubicBezTo>
                  <a:cubicBezTo>
                    <a:pt x="5622" y="3920"/>
                    <a:pt x="5601" y="3926"/>
                    <a:pt x="5587" y="3932"/>
                  </a:cubicBezTo>
                  <a:cubicBezTo>
                    <a:pt x="5597" y="3944"/>
                    <a:pt x="5592" y="3965"/>
                    <a:pt x="5583" y="3976"/>
                  </a:cubicBezTo>
                  <a:cubicBezTo>
                    <a:pt x="5574" y="3988"/>
                    <a:pt x="5558" y="3994"/>
                    <a:pt x="5553" y="4000"/>
                  </a:cubicBezTo>
                  <a:cubicBezTo>
                    <a:pt x="5544" y="4015"/>
                    <a:pt x="5544" y="4039"/>
                    <a:pt x="5553" y="4044"/>
                  </a:cubicBezTo>
                  <a:cubicBezTo>
                    <a:pt x="5544" y="4068"/>
                    <a:pt x="5525" y="4095"/>
                    <a:pt x="5500" y="4089"/>
                  </a:cubicBezTo>
                  <a:cubicBezTo>
                    <a:pt x="5495" y="4089"/>
                    <a:pt x="5491" y="4083"/>
                    <a:pt x="5486" y="4083"/>
                  </a:cubicBezTo>
                  <a:cubicBezTo>
                    <a:pt x="5477" y="4083"/>
                    <a:pt x="5472" y="4095"/>
                    <a:pt x="5466" y="4107"/>
                  </a:cubicBezTo>
                  <a:cubicBezTo>
                    <a:pt x="5452" y="4130"/>
                    <a:pt x="5433" y="4151"/>
                    <a:pt x="5408" y="4157"/>
                  </a:cubicBezTo>
                  <a:cubicBezTo>
                    <a:pt x="5394" y="4157"/>
                    <a:pt x="5376" y="4157"/>
                    <a:pt x="5376" y="4175"/>
                  </a:cubicBezTo>
                  <a:cubicBezTo>
                    <a:pt x="5376" y="4192"/>
                    <a:pt x="5403" y="4198"/>
                    <a:pt x="5403" y="4225"/>
                  </a:cubicBezTo>
                  <a:cubicBezTo>
                    <a:pt x="5403" y="4231"/>
                    <a:pt x="5399" y="4231"/>
                    <a:pt x="5399" y="4237"/>
                  </a:cubicBezTo>
                  <a:cubicBezTo>
                    <a:pt x="5364" y="4287"/>
                    <a:pt x="5394" y="4373"/>
                    <a:pt x="5360" y="4423"/>
                  </a:cubicBezTo>
                  <a:cubicBezTo>
                    <a:pt x="5376" y="4447"/>
                    <a:pt x="5380" y="4485"/>
                    <a:pt x="5376" y="4515"/>
                  </a:cubicBezTo>
                  <a:cubicBezTo>
                    <a:pt x="5369" y="4541"/>
                    <a:pt x="5380" y="4559"/>
                    <a:pt x="5376" y="4591"/>
                  </a:cubicBezTo>
                  <a:cubicBezTo>
                    <a:pt x="5376" y="4603"/>
                    <a:pt x="5369" y="4609"/>
                    <a:pt x="5364" y="4621"/>
                  </a:cubicBezTo>
                  <a:cubicBezTo>
                    <a:pt x="5364" y="4633"/>
                    <a:pt x="5364" y="4645"/>
                    <a:pt x="5376" y="4645"/>
                  </a:cubicBezTo>
                  <a:cubicBezTo>
                    <a:pt x="5380" y="4639"/>
                    <a:pt x="5390" y="4639"/>
                    <a:pt x="5394" y="4633"/>
                  </a:cubicBezTo>
                  <a:cubicBezTo>
                    <a:pt x="5390" y="4665"/>
                    <a:pt x="5413" y="4689"/>
                    <a:pt x="5417" y="4716"/>
                  </a:cubicBezTo>
                  <a:cubicBezTo>
                    <a:pt x="5433" y="4769"/>
                    <a:pt x="5385" y="4840"/>
                    <a:pt x="5408" y="4887"/>
                  </a:cubicBezTo>
                  <a:cubicBezTo>
                    <a:pt x="5394" y="4925"/>
                    <a:pt x="5385" y="4976"/>
                    <a:pt x="5408" y="4999"/>
                  </a:cubicBezTo>
                  <a:cubicBezTo>
                    <a:pt x="5417" y="5011"/>
                    <a:pt x="5433" y="5011"/>
                    <a:pt x="5443" y="5011"/>
                  </a:cubicBezTo>
                  <a:cubicBezTo>
                    <a:pt x="5466" y="5017"/>
                    <a:pt x="5491" y="5017"/>
                    <a:pt x="5514" y="5023"/>
                  </a:cubicBezTo>
                  <a:cubicBezTo>
                    <a:pt x="5521" y="5023"/>
                    <a:pt x="5525" y="5023"/>
                    <a:pt x="5525" y="5032"/>
                  </a:cubicBezTo>
                  <a:cubicBezTo>
                    <a:pt x="5530" y="5038"/>
                    <a:pt x="5525" y="5044"/>
                    <a:pt x="5530" y="5050"/>
                  </a:cubicBezTo>
                  <a:cubicBezTo>
                    <a:pt x="5535" y="5067"/>
                    <a:pt x="5553" y="5079"/>
                    <a:pt x="5553" y="5100"/>
                  </a:cubicBezTo>
                  <a:cubicBezTo>
                    <a:pt x="5553" y="5106"/>
                    <a:pt x="5548" y="5112"/>
                    <a:pt x="5548" y="5118"/>
                  </a:cubicBezTo>
                  <a:cubicBezTo>
                    <a:pt x="5544" y="5141"/>
                    <a:pt x="5562" y="5162"/>
                    <a:pt x="5583" y="5180"/>
                  </a:cubicBezTo>
                  <a:cubicBezTo>
                    <a:pt x="5597" y="5192"/>
                    <a:pt x="5615" y="5215"/>
                    <a:pt x="5606" y="5242"/>
                  </a:cubicBezTo>
                  <a:cubicBezTo>
                    <a:pt x="5606" y="5248"/>
                    <a:pt x="5601" y="5248"/>
                    <a:pt x="5601" y="5254"/>
                  </a:cubicBezTo>
                  <a:cubicBezTo>
                    <a:pt x="5601" y="5260"/>
                    <a:pt x="5606" y="5265"/>
                    <a:pt x="5606" y="5271"/>
                  </a:cubicBezTo>
                  <a:cubicBezTo>
                    <a:pt x="5615" y="5292"/>
                    <a:pt x="5615" y="5316"/>
                    <a:pt x="5601" y="5328"/>
                  </a:cubicBezTo>
                  <a:cubicBezTo>
                    <a:pt x="5606" y="5339"/>
                    <a:pt x="5622" y="5333"/>
                    <a:pt x="5627" y="5339"/>
                  </a:cubicBezTo>
                  <a:cubicBezTo>
                    <a:pt x="5631" y="5348"/>
                    <a:pt x="5636" y="5354"/>
                    <a:pt x="5636" y="5366"/>
                  </a:cubicBezTo>
                  <a:cubicBezTo>
                    <a:pt x="5645" y="5401"/>
                    <a:pt x="5654" y="5446"/>
                    <a:pt x="5663" y="5484"/>
                  </a:cubicBezTo>
                  <a:cubicBezTo>
                    <a:pt x="5640" y="5496"/>
                    <a:pt x="5650" y="5546"/>
                    <a:pt x="5640" y="5582"/>
                  </a:cubicBezTo>
                  <a:cubicBezTo>
                    <a:pt x="5636" y="5603"/>
                    <a:pt x="5615" y="5614"/>
                    <a:pt x="5601" y="5626"/>
                  </a:cubicBezTo>
                  <a:cubicBezTo>
                    <a:pt x="5592" y="5632"/>
                    <a:pt x="5583" y="5638"/>
                    <a:pt x="5574" y="5638"/>
                  </a:cubicBezTo>
                  <a:cubicBezTo>
                    <a:pt x="5558" y="5638"/>
                    <a:pt x="5553" y="5620"/>
                    <a:pt x="5548" y="5603"/>
                  </a:cubicBezTo>
                  <a:cubicBezTo>
                    <a:pt x="5544" y="5582"/>
                    <a:pt x="5544" y="5564"/>
                    <a:pt x="5539" y="5552"/>
                  </a:cubicBezTo>
                  <a:cubicBezTo>
                    <a:pt x="5535" y="5540"/>
                    <a:pt x="5514" y="5526"/>
                    <a:pt x="5505" y="5540"/>
                  </a:cubicBezTo>
                  <a:cubicBezTo>
                    <a:pt x="5495" y="5502"/>
                    <a:pt x="5482" y="5464"/>
                    <a:pt x="5456" y="5440"/>
                  </a:cubicBezTo>
                  <a:cubicBezTo>
                    <a:pt x="5447" y="5428"/>
                    <a:pt x="5440" y="5422"/>
                    <a:pt x="5429" y="5422"/>
                  </a:cubicBezTo>
                  <a:cubicBezTo>
                    <a:pt x="5420" y="5422"/>
                    <a:pt x="5403" y="5428"/>
                    <a:pt x="5399" y="5440"/>
                  </a:cubicBezTo>
                  <a:cubicBezTo>
                    <a:pt x="5385" y="5422"/>
                    <a:pt x="5369" y="5410"/>
                    <a:pt x="5355" y="5390"/>
                  </a:cubicBezTo>
                  <a:cubicBezTo>
                    <a:pt x="5337" y="5366"/>
                    <a:pt x="5316" y="5348"/>
                    <a:pt x="5293" y="5322"/>
                  </a:cubicBezTo>
                  <a:lnTo>
                    <a:pt x="5219" y="5265"/>
                  </a:lnTo>
                  <a:cubicBezTo>
                    <a:pt x="5206" y="5260"/>
                    <a:pt x="5187" y="5248"/>
                    <a:pt x="5171" y="5230"/>
                  </a:cubicBezTo>
                  <a:cubicBezTo>
                    <a:pt x="5167" y="5215"/>
                    <a:pt x="5162" y="5203"/>
                    <a:pt x="5153" y="5192"/>
                  </a:cubicBezTo>
                  <a:cubicBezTo>
                    <a:pt x="5148" y="5180"/>
                    <a:pt x="5134" y="5174"/>
                    <a:pt x="5123" y="5180"/>
                  </a:cubicBezTo>
                  <a:cubicBezTo>
                    <a:pt x="5104" y="5141"/>
                    <a:pt x="5081" y="5112"/>
                    <a:pt x="5052" y="5085"/>
                  </a:cubicBezTo>
                  <a:cubicBezTo>
                    <a:pt x="5047" y="5079"/>
                    <a:pt x="5042" y="5079"/>
                    <a:pt x="5033" y="5073"/>
                  </a:cubicBezTo>
                  <a:lnTo>
                    <a:pt x="5017" y="5073"/>
                  </a:lnTo>
                  <a:cubicBezTo>
                    <a:pt x="5008" y="5073"/>
                    <a:pt x="5003" y="5067"/>
                    <a:pt x="4994" y="5061"/>
                  </a:cubicBezTo>
                  <a:cubicBezTo>
                    <a:pt x="4985" y="5056"/>
                    <a:pt x="4980" y="5050"/>
                    <a:pt x="4969" y="5044"/>
                  </a:cubicBezTo>
                  <a:cubicBezTo>
                    <a:pt x="4969" y="5248"/>
                    <a:pt x="5017" y="5458"/>
                    <a:pt x="5104" y="5632"/>
                  </a:cubicBezTo>
                  <a:cubicBezTo>
                    <a:pt x="5144" y="5706"/>
                    <a:pt x="5192" y="5780"/>
                    <a:pt x="5192" y="5875"/>
                  </a:cubicBezTo>
                  <a:cubicBezTo>
                    <a:pt x="5192" y="5972"/>
                    <a:pt x="5134" y="6061"/>
                    <a:pt x="5081" y="6129"/>
                  </a:cubicBezTo>
                  <a:cubicBezTo>
                    <a:pt x="4985" y="6247"/>
                    <a:pt x="4872" y="6351"/>
                    <a:pt x="4757" y="6433"/>
                  </a:cubicBezTo>
                  <a:lnTo>
                    <a:pt x="4771" y="6824"/>
                  </a:lnTo>
                  <a:cubicBezTo>
                    <a:pt x="4743" y="6865"/>
                    <a:pt x="4695" y="6886"/>
                    <a:pt x="4651" y="6880"/>
                  </a:cubicBezTo>
                  <a:cubicBezTo>
                    <a:pt x="4656" y="6915"/>
                    <a:pt x="4661" y="6960"/>
                    <a:pt x="4670" y="6998"/>
                  </a:cubicBezTo>
                  <a:cubicBezTo>
                    <a:pt x="4603" y="7039"/>
                    <a:pt x="4523" y="7010"/>
                    <a:pt x="4444" y="6998"/>
                  </a:cubicBezTo>
                  <a:cubicBezTo>
                    <a:pt x="4368" y="6983"/>
                    <a:pt x="4274" y="7004"/>
                    <a:pt x="4242" y="7090"/>
                  </a:cubicBezTo>
                  <a:cubicBezTo>
                    <a:pt x="4221" y="7140"/>
                    <a:pt x="4230" y="7196"/>
                    <a:pt x="4235" y="7243"/>
                  </a:cubicBezTo>
                  <a:cubicBezTo>
                    <a:pt x="4260" y="7412"/>
                    <a:pt x="4279" y="7580"/>
                    <a:pt x="4304" y="7752"/>
                  </a:cubicBezTo>
                  <a:cubicBezTo>
                    <a:pt x="4313" y="7814"/>
                    <a:pt x="4318" y="7885"/>
                    <a:pt x="4299" y="7938"/>
                  </a:cubicBezTo>
                  <a:cubicBezTo>
                    <a:pt x="4283" y="7977"/>
                    <a:pt x="4256" y="8006"/>
                    <a:pt x="4247" y="8050"/>
                  </a:cubicBezTo>
                  <a:cubicBezTo>
                    <a:pt x="4235" y="8107"/>
                    <a:pt x="4260" y="8163"/>
                    <a:pt x="4274" y="8213"/>
                  </a:cubicBezTo>
                  <a:cubicBezTo>
                    <a:pt x="4304" y="8343"/>
                    <a:pt x="4260" y="8479"/>
                    <a:pt x="4242" y="8615"/>
                  </a:cubicBezTo>
                  <a:cubicBezTo>
                    <a:pt x="4212" y="8846"/>
                    <a:pt x="4265" y="9088"/>
                    <a:pt x="4221" y="9310"/>
                  </a:cubicBezTo>
                  <a:cubicBezTo>
                    <a:pt x="4207" y="9390"/>
                    <a:pt x="4178" y="9464"/>
                    <a:pt x="4159" y="9541"/>
                  </a:cubicBezTo>
                  <a:cubicBezTo>
                    <a:pt x="4106" y="9762"/>
                    <a:pt x="4129" y="10005"/>
                    <a:pt x="4155" y="10235"/>
                  </a:cubicBezTo>
                  <a:cubicBezTo>
                    <a:pt x="4164" y="10321"/>
                    <a:pt x="4173" y="10401"/>
                    <a:pt x="4182" y="10490"/>
                  </a:cubicBezTo>
                  <a:cubicBezTo>
                    <a:pt x="4203" y="10676"/>
                    <a:pt x="4226" y="10874"/>
                    <a:pt x="4304" y="11034"/>
                  </a:cubicBezTo>
                  <a:cubicBezTo>
                    <a:pt x="4357" y="11146"/>
                    <a:pt x="4428" y="11246"/>
                    <a:pt x="4472" y="11362"/>
                  </a:cubicBezTo>
                  <a:cubicBezTo>
                    <a:pt x="4516" y="11480"/>
                    <a:pt x="4516" y="11643"/>
                    <a:pt x="4440" y="11728"/>
                  </a:cubicBezTo>
                  <a:cubicBezTo>
                    <a:pt x="4102" y="11672"/>
                    <a:pt x="3764" y="11616"/>
                    <a:pt x="3425" y="11569"/>
                  </a:cubicBezTo>
                  <a:cubicBezTo>
                    <a:pt x="3324" y="11548"/>
                    <a:pt x="3218" y="11536"/>
                    <a:pt x="3122" y="11581"/>
                  </a:cubicBezTo>
                  <a:cubicBezTo>
                    <a:pt x="3074" y="11604"/>
                    <a:pt x="3030" y="11643"/>
                    <a:pt x="2991" y="11672"/>
                  </a:cubicBezTo>
                  <a:cubicBezTo>
                    <a:pt x="2968" y="11699"/>
                    <a:pt x="2938" y="11717"/>
                    <a:pt x="2915" y="11740"/>
                  </a:cubicBezTo>
                  <a:cubicBezTo>
                    <a:pt x="2889" y="11761"/>
                    <a:pt x="2866" y="11785"/>
                    <a:pt x="2841" y="11802"/>
                  </a:cubicBezTo>
                  <a:cubicBezTo>
                    <a:pt x="2653" y="11989"/>
                    <a:pt x="2577" y="12367"/>
                    <a:pt x="2717" y="12609"/>
                  </a:cubicBezTo>
                  <a:cubicBezTo>
                    <a:pt x="2784" y="12728"/>
                    <a:pt x="2903" y="12813"/>
                    <a:pt x="2924" y="12958"/>
                  </a:cubicBezTo>
                  <a:cubicBezTo>
                    <a:pt x="2814" y="13000"/>
                    <a:pt x="2731" y="13156"/>
                    <a:pt x="2740" y="13304"/>
                  </a:cubicBezTo>
                  <a:cubicBezTo>
                    <a:pt x="2745" y="13375"/>
                    <a:pt x="2770" y="13443"/>
                    <a:pt x="2788" y="13511"/>
                  </a:cubicBezTo>
                  <a:cubicBezTo>
                    <a:pt x="2818" y="13618"/>
                    <a:pt x="2837" y="13730"/>
                    <a:pt x="2837" y="13842"/>
                  </a:cubicBezTo>
                  <a:cubicBezTo>
                    <a:pt x="2837" y="13872"/>
                    <a:pt x="2837" y="13901"/>
                    <a:pt x="2823" y="13928"/>
                  </a:cubicBezTo>
                  <a:cubicBezTo>
                    <a:pt x="2788" y="13990"/>
                    <a:pt x="2712" y="13940"/>
                    <a:pt x="2669" y="13890"/>
                  </a:cubicBezTo>
                  <a:cubicBezTo>
                    <a:pt x="2489" y="13691"/>
                    <a:pt x="2273" y="13464"/>
                    <a:pt x="2041" y="13538"/>
                  </a:cubicBezTo>
                  <a:cubicBezTo>
                    <a:pt x="2036" y="13538"/>
                    <a:pt x="2032" y="13544"/>
                    <a:pt x="2027" y="13544"/>
                  </a:cubicBezTo>
                  <a:cubicBezTo>
                    <a:pt x="2032" y="13544"/>
                    <a:pt x="2036" y="13550"/>
                    <a:pt x="2041" y="13550"/>
                  </a:cubicBezTo>
                  <a:cubicBezTo>
                    <a:pt x="2064" y="13567"/>
                    <a:pt x="2075" y="13606"/>
                    <a:pt x="2075" y="13641"/>
                  </a:cubicBezTo>
                  <a:cubicBezTo>
                    <a:pt x="2080" y="13736"/>
                    <a:pt x="2050" y="13822"/>
                    <a:pt x="2027" y="13901"/>
                  </a:cubicBezTo>
                  <a:cubicBezTo>
                    <a:pt x="2022" y="13922"/>
                    <a:pt x="2018" y="13940"/>
                    <a:pt x="2006" y="13952"/>
                  </a:cubicBezTo>
                  <a:cubicBezTo>
                    <a:pt x="2002" y="13972"/>
                    <a:pt x="1992" y="13996"/>
                    <a:pt x="1983" y="14008"/>
                  </a:cubicBezTo>
                  <a:cubicBezTo>
                    <a:pt x="1958" y="14040"/>
                    <a:pt x="1921" y="14046"/>
                    <a:pt x="1882" y="14040"/>
                  </a:cubicBezTo>
                  <a:cubicBezTo>
                    <a:pt x="1848" y="14034"/>
                    <a:pt x="1813" y="14014"/>
                    <a:pt x="1776" y="14014"/>
                  </a:cubicBezTo>
                  <a:cubicBezTo>
                    <a:pt x="1716" y="14008"/>
                    <a:pt x="1659" y="14040"/>
                    <a:pt x="1601" y="14020"/>
                  </a:cubicBezTo>
                  <a:cubicBezTo>
                    <a:pt x="1578" y="14014"/>
                    <a:pt x="1558" y="13996"/>
                    <a:pt x="1535" y="13984"/>
                  </a:cubicBezTo>
                  <a:cubicBezTo>
                    <a:pt x="1452" y="13928"/>
                    <a:pt x="1365" y="13872"/>
                    <a:pt x="1273" y="13854"/>
                  </a:cubicBezTo>
                  <a:cubicBezTo>
                    <a:pt x="1254" y="13848"/>
                    <a:pt x="1236" y="13848"/>
                    <a:pt x="1220" y="13827"/>
                  </a:cubicBezTo>
                  <a:cubicBezTo>
                    <a:pt x="1206" y="13816"/>
                    <a:pt x="1201" y="13792"/>
                    <a:pt x="1192" y="13771"/>
                  </a:cubicBezTo>
                  <a:cubicBezTo>
                    <a:pt x="1167" y="13730"/>
                    <a:pt x="1121" y="13736"/>
                    <a:pt x="1082" y="13754"/>
                  </a:cubicBezTo>
                  <a:cubicBezTo>
                    <a:pt x="1045" y="13771"/>
                    <a:pt x="1008" y="13804"/>
                    <a:pt x="964" y="13804"/>
                  </a:cubicBezTo>
                  <a:cubicBezTo>
                    <a:pt x="921" y="13804"/>
                    <a:pt x="863" y="13786"/>
                    <a:pt x="849" y="13833"/>
                  </a:cubicBezTo>
                  <a:cubicBezTo>
                    <a:pt x="845" y="13854"/>
                    <a:pt x="845" y="13872"/>
                    <a:pt x="836" y="13884"/>
                  </a:cubicBezTo>
                  <a:cubicBezTo>
                    <a:pt x="819" y="13901"/>
                    <a:pt x="801" y="13895"/>
                    <a:pt x="780" y="13901"/>
                  </a:cubicBezTo>
                  <a:cubicBezTo>
                    <a:pt x="748" y="13916"/>
                    <a:pt x="744" y="13978"/>
                    <a:pt x="714" y="14002"/>
                  </a:cubicBezTo>
                  <a:cubicBezTo>
                    <a:pt x="686" y="14026"/>
                    <a:pt x="642" y="14008"/>
                    <a:pt x="608" y="13996"/>
                  </a:cubicBezTo>
                  <a:cubicBezTo>
                    <a:pt x="589" y="14002"/>
                    <a:pt x="560" y="13996"/>
                    <a:pt x="541" y="13990"/>
                  </a:cubicBezTo>
                  <a:cubicBezTo>
                    <a:pt x="534" y="13996"/>
                    <a:pt x="534" y="14002"/>
                    <a:pt x="530" y="14014"/>
                  </a:cubicBezTo>
                  <a:cubicBezTo>
                    <a:pt x="507" y="14008"/>
                    <a:pt x="481" y="14008"/>
                    <a:pt x="458" y="14002"/>
                  </a:cubicBezTo>
                  <a:cubicBezTo>
                    <a:pt x="458" y="14020"/>
                    <a:pt x="458" y="14040"/>
                    <a:pt x="454" y="14052"/>
                  </a:cubicBezTo>
                  <a:cubicBezTo>
                    <a:pt x="449" y="14070"/>
                    <a:pt x="428" y="14076"/>
                    <a:pt x="419" y="14070"/>
                  </a:cubicBezTo>
                  <a:cubicBezTo>
                    <a:pt x="396" y="14102"/>
                    <a:pt x="366" y="14132"/>
                    <a:pt x="336" y="14150"/>
                  </a:cubicBezTo>
                  <a:cubicBezTo>
                    <a:pt x="327" y="14159"/>
                    <a:pt x="313" y="14164"/>
                    <a:pt x="304" y="14164"/>
                  </a:cubicBezTo>
                  <a:cubicBezTo>
                    <a:pt x="295" y="14164"/>
                    <a:pt x="288" y="14159"/>
                    <a:pt x="279" y="14150"/>
                  </a:cubicBezTo>
                  <a:cubicBezTo>
                    <a:pt x="251" y="14144"/>
                    <a:pt x="226" y="14176"/>
                    <a:pt x="203" y="14176"/>
                  </a:cubicBezTo>
                  <a:cubicBezTo>
                    <a:pt x="182" y="14176"/>
                    <a:pt x="164" y="14164"/>
                    <a:pt x="139" y="14164"/>
                  </a:cubicBezTo>
                  <a:cubicBezTo>
                    <a:pt x="120" y="14159"/>
                    <a:pt x="90" y="14176"/>
                    <a:pt x="90" y="14200"/>
                  </a:cubicBezTo>
                  <a:cubicBezTo>
                    <a:pt x="72" y="14188"/>
                    <a:pt x="54" y="14206"/>
                    <a:pt x="37" y="14227"/>
                  </a:cubicBezTo>
                  <a:cubicBezTo>
                    <a:pt x="19" y="14250"/>
                    <a:pt x="-4" y="14280"/>
                    <a:pt x="1" y="14318"/>
                  </a:cubicBezTo>
                  <a:lnTo>
                    <a:pt x="28" y="14318"/>
                  </a:lnTo>
                  <a:cubicBezTo>
                    <a:pt x="28" y="14330"/>
                    <a:pt x="28" y="14342"/>
                    <a:pt x="24" y="14357"/>
                  </a:cubicBezTo>
                  <a:cubicBezTo>
                    <a:pt x="44" y="14342"/>
                    <a:pt x="72" y="14368"/>
                    <a:pt x="72" y="14398"/>
                  </a:cubicBezTo>
                  <a:cubicBezTo>
                    <a:pt x="77" y="14431"/>
                    <a:pt x="58" y="14454"/>
                    <a:pt x="37" y="14466"/>
                  </a:cubicBezTo>
                  <a:cubicBezTo>
                    <a:pt x="37" y="14481"/>
                    <a:pt x="37" y="14499"/>
                    <a:pt x="28" y="14510"/>
                  </a:cubicBezTo>
                  <a:cubicBezTo>
                    <a:pt x="44" y="14516"/>
                    <a:pt x="54" y="14522"/>
                    <a:pt x="67" y="14528"/>
                  </a:cubicBezTo>
                  <a:cubicBezTo>
                    <a:pt x="63" y="14555"/>
                    <a:pt x="58" y="14590"/>
                    <a:pt x="33" y="14596"/>
                  </a:cubicBezTo>
                  <a:cubicBezTo>
                    <a:pt x="44" y="14617"/>
                    <a:pt x="58" y="14629"/>
                    <a:pt x="72" y="14640"/>
                  </a:cubicBezTo>
                  <a:cubicBezTo>
                    <a:pt x="72" y="14646"/>
                    <a:pt x="65" y="14658"/>
                    <a:pt x="58" y="14658"/>
                  </a:cubicBezTo>
                  <a:cubicBezTo>
                    <a:pt x="83" y="14655"/>
                    <a:pt x="102" y="14691"/>
                    <a:pt x="106" y="14729"/>
                  </a:cubicBezTo>
                  <a:cubicBezTo>
                    <a:pt x="111" y="14759"/>
                    <a:pt x="106" y="14797"/>
                    <a:pt x="125" y="14821"/>
                  </a:cubicBezTo>
                  <a:cubicBezTo>
                    <a:pt x="134" y="14833"/>
                    <a:pt x="146" y="14839"/>
                    <a:pt x="155" y="14850"/>
                  </a:cubicBezTo>
                  <a:lnTo>
                    <a:pt x="178" y="14883"/>
                  </a:lnTo>
                  <a:lnTo>
                    <a:pt x="221" y="14957"/>
                  </a:lnTo>
                  <a:cubicBezTo>
                    <a:pt x="256" y="14975"/>
                    <a:pt x="300" y="14963"/>
                    <a:pt x="327" y="14927"/>
                  </a:cubicBezTo>
                  <a:lnTo>
                    <a:pt x="343" y="14945"/>
                  </a:lnTo>
                  <a:cubicBezTo>
                    <a:pt x="362" y="14933"/>
                    <a:pt x="385" y="14933"/>
                    <a:pt x="405" y="14939"/>
                  </a:cubicBezTo>
                  <a:cubicBezTo>
                    <a:pt x="410" y="14939"/>
                    <a:pt x="415" y="14945"/>
                    <a:pt x="415" y="14945"/>
                  </a:cubicBezTo>
                  <a:cubicBezTo>
                    <a:pt x="424" y="14957"/>
                    <a:pt x="401" y="14975"/>
                    <a:pt x="405" y="14995"/>
                  </a:cubicBezTo>
                  <a:cubicBezTo>
                    <a:pt x="424" y="15001"/>
                    <a:pt x="433" y="15025"/>
                    <a:pt x="433" y="15051"/>
                  </a:cubicBezTo>
                  <a:cubicBezTo>
                    <a:pt x="463" y="15025"/>
                    <a:pt x="507" y="15093"/>
                    <a:pt x="530" y="15057"/>
                  </a:cubicBezTo>
                  <a:cubicBezTo>
                    <a:pt x="534" y="15051"/>
                    <a:pt x="534" y="15043"/>
                    <a:pt x="541" y="15037"/>
                  </a:cubicBezTo>
                  <a:cubicBezTo>
                    <a:pt x="546" y="15031"/>
                    <a:pt x="555" y="15031"/>
                    <a:pt x="560" y="15031"/>
                  </a:cubicBezTo>
                  <a:cubicBezTo>
                    <a:pt x="564" y="15031"/>
                    <a:pt x="569" y="15019"/>
                    <a:pt x="569" y="15013"/>
                  </a:cubicBezTo>
                  <a:cubicBezTo>
                    <a:pt x="555" y="15013"/>
                    <a:pt x="546" y="14983"/>
                    <a:pt x="555" y="14969"/>
                  </a:cubicBezTo>
                  <a:cubicBezTo>
                    <a:pt x="560" y="14951"/>
                    <a:pt x="578" y="14945"/>
                    <a:pt x="594" y="14933"/>
                  </a:cubicBezTo>
                  <a:cubicBezTo>
                    <a:pt x="622" y="14945"/>
                    <a:pt x="652" y="14957"/>
                    <a:pt x="679" y="14963"/>
                  </a:cubicBezTo>
                  <a:cubicBezTo>
                    <a:pt x="686" y="14963"/>
                    <a:pt x="691" y="14969"/>
                    <a:pt x="695" y="14963"/>
                  </a:cubicBezTo>
                  <a:cubicBezTo>
                    <a:pt x="700" y="14963"/>
                    <a:pt x="704" y="14957"/>
                    <a:pt x="709" y="14951"/>
                  </a:cubicBezTo>
                  <a:cubicBezTo>
                    <a:pt x="718" y="14939"/>
                    <a:pt x="727" y="14933"/>
                    <a:pt x="744" y="14939"/>
                  </a:cubicBezTo>
                  <a:cubicBezTo>
                    <a:pt x="771" y="14939"/>
                    <a:pt x="792" y="14983"/>
                    <a:pt x="810" y="15013"/>
                  </a:cubicBezTo>
                  <a:cubicBezTo>
                    <a:pt x="819" y="15031"/>
                    <a:pt x="829" y="15057"/>
                    <a:pt x="840" y="15075"/>
                  </a:cubicBezTo>
                  <a:cubicBezTo>
                    <a:pt x="868" y="15075"/>
                    <a:pt x="893" y="15051"/>
                    <a:pt x="902" y="15019"/>
                  </a:cubicBezTo>
                  <a:lnTo>
                    <a:pt x="960" y="15019"/>
                  </a:lnTo>
                  <a:cubicBezTo>
                    <a:pt x="994" y="15019"/>
                    <a:pt x="1036" y="15016"/>
                    <a:pt x="1056" y="14983"/>
                  </a:cubicBezTo>
                  <a:cubicBezTo>
                    <a:pt x="1068" y="14972"/>
                    <a:pt x="1070" y="14951"/>
                    <a:pt x="1086" y="14945"/>
                  </a:cubicBezTo>
                  <a:lnTo>
                    <a:pt x="1105" y="14945"/>
                  </a:lnTo>
                  <a:cubicBezTo>
                    <a:pt x="1153" y="14957"/>
                    <a:pt x="1201" y="14945"/>
                    <a:pt x="1245" y="14921"/>
                  </a:cubicBezTo>
                  <a:cubicBezTo>
                    <a:pt x="1268" y="14921"/>
                    <a:pt x="1293" y="14927"/>
                    <a:pt x="1312" y="14939"/>
                  </a:cubicBezTo>
                  <a:cubicBezTo>
                    <a:pt x="1321" y="14927"/>
                    <a:pt x="1337" y="14933"/>
                    <a:pt x="1351" y="14939"/>
                  </a:cubicBezTo>
                  <a:cubicBezTo>
                    <a:pt x="1360" y="14951"/>
                    <a:pt x="1369" y="14963"/>
                    <a:pt x="1374" y="14983"/>
                  </a:cubicBezTo>
                  <a:cubicBezTo>
                    <a:pt x="1381" y="14995"/>
                    <a:pt x="1385" y="15001"/>
                    <a:pt x="1390" y="15013"/>
                  </a:cubicBezTo>
                  <a:cubicBezTo>
                    <a:pt x="1369" y="15051"/>
                    <a:pt x="1312" y="15037"/>
                    <a:pt x="1307" y="15081"/>
                  </a:cubicBezTo>
                  <a:cubicBezTo>
                    <a:pt x="1316" y="15099"/>
                    <a:pt x="1284" y="15119"/>
                    <a:pt x="1284" y="15137"/>
                  </a:cubicBezTo>
                  <a:cubicBezTo>
                    <a:pt x="1284" y="15143"/>
                    <a:pt x="1289" y="15149"/>
                    <a:pt x="1289" y="15161"/>
                  </a:cubicBezTo>
                  <a:cubicBezTo>
                    <a:pt x="1302" y="15199"/>
                    <a:pt x="1298" y="15244"/>
                    <a:pt x="1273" y="15267"/>
                  </a:cubicBezTo>
                  <a:cubicBezTo>
                    <a:pt x="1289" y="15267"/>
                    <a:pt x="1293" y="15300"/>
                    <a:pt x="1284" y="15312"/>
                  </a:cubicBezTo>
                  <a:cubicBezTo>
                    <a:pt x="1298" y="15317"/>
                    <a:pt x="1298" y="15347"/>
                    <a:pt x="1298" y="15368"/>
                  </a:cubicBezTo>
                  <a:cubicBezTo>
                    <a:pt x="1293" y="15385"/>
                    <a:pt x="1289" y="15409"/>
                    <a:pt x="1293" y="15430"/>
                  </a:cubicBezTo>
                  <a:cubicBezTo>
                    <a:pt x="1259" y="15409"/>
                    <a:pt x="1210" y="15442"/>
                    <a:pt x="1210" y="15492"/>
                  </a:cubicBezTo>
                  <a:cubicBezTo>
                    <a:pt x="1210" y="15510"/>
                    <a:pt x="1220" y="15527"/>
                    <a:pt x="1231" y="15545"/>
                  </a:cubicBezTo>
                  <a:cubicBezTo>
                    <a:pt x="1236" y="15560"/>
                    <a:pt x="1245" y="15566"/>
                    <a:pt x="1240" y="15578"/>
                  </a:cubicBezTo>
                  <a:cubicBezTo>
                    <a:pt x="1240" y="15589"/>
                    <a:pt x="1231" y="15601"/>
                    <a:pt x="1231" y="15613"/>
                  </a:cubicBezTo>
                  <a:cubicBezTo>
                    <a:pt x="1231" y="15628"/>
                    <a:pt x="1236" y="15640"/>
                    <a:pt x="1231" y="15652"/>
                  </a:cubicBezTo>
                  <a:cubicBezTo>
                    <a:pt x="1224" y="15675"/>
                    <a:pt x="1201" y="15675"/>
                    <a:pt x="1183" y="15669"/>
                  </a:cubicBezTo>
                  <a:cubicBezTo>
                    <a:pt x="1171" y="15696"/>
                    <a:pt x="1171" y="15725"/>
                    <a:pt x="1183" y="15752"/>
                  </a:cubicBezTo>
                  <a:cubicBezTo>
                    <a:pt x="1183" y="15758"/>
                    <a:pt x="1187" y="15764"/>
                    <a:pt x="1183" y="15770"/>
                  </a:cubicBezTo>
                  <a:cubicBezTo>
                    <a:pt x="1183" y="15776"/>
                    <a:pt x="1171" y="15776"/>
                    <a:pt x="1167" y="15782"/>
                  </a:cubicBezTo>
                  <a:cubicBezTo>
                    <a:pt x="1153" y="15793"/>
                    <a:pt x="1158" y="15820"/>
                    <a:pt x="1162" y="15838"/>
                  </a:cubicBezTo>
                  <a:cubicBezTo>
                    <a:pt x="1162" y="15870"/>
                    <a:pt x="1144" y="15906"/>
                    <a:pt x="1114" y="15906"/>
                  </a:cubicBezTo>
                  <a:cubicBezTo>
                    <a:pt x="1114" y="15924"/>
                    <a:pt x="1118" y="15938"/>
                    <a:pt x="1114" y="15956"/>
                  </a:cubicBezTo>
                  <a:cubicBezTo>
                    <a:pt x="1109" y="15968"/>
                    <a:pt x="1091" y="15974"/>
                    <a:pt x="1086" y="15962"/>
                  </a:cubicBezTo>
                  <a:cubicBezTo>
                    <a:pt x="1082" y="16000"/>
                    <a:pt x="1070" y="16030"/>
                    <a:pt x="1066" y="16068"/>
                  </a:cubicBezTo>
                  <a:cubicBezTo>
                    <a:pt x="1026" y="16068"/>
                    <a:pt x="985" y="16068"/>
                    <a:pt x="946" y="16063"/>
                  </a:cubicBezTo>
                  <a:lnTo>
                    <a:pt x="946" y="16104"/>
                  </a:lnTo>
                  <a:cubicBezTo>
                    <a:pt x="921" y="16104"/>
                    <a:pt x="893" y="16098"/>
                    <a:pt x="872" y="16092"/>
                  </a:cubicBezTo>
                  <a:cubicBezTo>
                    <a:pt x="859" y="16092"/>
                    <a:pt x="845" y="16092"/>
                    <a:pt x="840" y="16104"/>
                  </a:cubicBezTo>
                  <a:cubicBezTo>
                    <a:pt x="836" y="16110"/>
                    <a:pt x="836" y="16116"/>
                    <a:pt x="836" y="16125"/>
                  </a:cubicBezTo>
                  <a:cubicBezTo>
                    <a:pt x="836" y="16154"/>
                    <a:pt x="845" y="16187"/>
                    <a:pt x="859" y="16204"/>
                  </a:cubicBezTo>
                  <a:cubicBezTo>
                    <a:pt x="863" y="16213"/>
                    <a:pt x="868" y="16216"/>
                    <a:pt x="872" y="16228"/>
                  </a:cubicBezTo>
                  <a:cubicBezTo>
                    <a:pt x="884" y="16255"/>
                    <a:pt x="863" y="16284"/>
                    <a:pt x="868" y="16308"/>
                  </a:cubicBezTo>
                  <a:cubicBezTo>
                    <a:pt x="872" y="16329"/>
                    <a:pt x="893" y="16340"/>
                    <a:pt x="902" y="16358"/>
                  </a:cubicBezTo>
                  <a:cubicBezTo>
                    <a:pt x="911" y="16385"/>
                    <a:pt x="898" y="16414"/>
                    <a:pt x="907" y="16438"/>
                  </a:cubicBezTo>
                  <a:cubicBezTo>
                    <a:pt x="911" y="16459"/>
                    <a:pt x="932" y="16465"/>
                    <a:pt x="941" y="16476"/>
                  </a:cubicBezTo>
                  <a:cubicBezTo>
                    <a:pt x="957" y="16494"/>
                    <a:pt x="955" y="16533"/>
                    <a:pt x="955" y="16562"/>
                  </a:cubicBezTo>
                  <a:lnTo>
                    <a:pt x="955" y="16589"/>
                  </a:lnTo>
                  <a:cubicBezTo>
                    <a:pt x="960" y="16607"/>
                    <a:pt x="974" y="16612"/>
                    <a:pt x="990" y="16618"/>
                  </a:cubicBezTo>
                  <a:cubicBezTo>
                    <a:pt x="1022" y="16639"/>
                    <a:pt x="1052" y="16663"/>
                    <a:pt x="1075" y="16701"/>
                  </a:cubicBezTo>
                  <a:cubicBezTo>
                    <a:pt x="1082" y="16713"/>
                    <a:pt x="1091" y="16725"/>
                    <a:pt x="1095" y="16731"/>
                  </a:cubicBezTo>
                  <a:cubicBezTo>
                    <a:pt x="1105" y="16737"/>
                    <a:pt x="1114" y="16743"/>
                    <a:pt x="1123" y="16737"/>
                  </a:cubicBezTo>
                  <a:cubicBezTo>
                    <a:pt x="1135" y="16731"/>
                    <a:pt x="1139" y="16713"/>
                    <a:pt x="1139" y="16695"/>
                  </a:cubicBezTo>
                  <a:cubicBezTo>
                    <a:pt x="1139" y="16675"/>
                    <a:pt x="1135" y="16663"/>
                    <a:pt x="1135" y="16651"/>
                  </a:cubicBezTo>
                  <a:cubicBezTo>
                    <a:pt x="1139" y="16624"/>
                    <a:pt x="1148" y="16612"/>
                    <a:pt x="1153" y="16589"/>
                  </a:cubicBezTo>
                  <a:cubicBezTo>
                    <a:pt x="1162" y="16562"/>
                    <a:pt x="1158" y="16539"/>
                    <a:pt x="1158" y="16509"/>
                  </a:cubicBezTo>
                  <a:cubicBezTo>
                    <a:pt x="1158" y="16482"/>
                    <a:pt x="1167" y="16453"/>
                    <a:pt x="1187" y="16438"/>
                  </a:cubicBezTo>
                  <a:cubicBezTo>
                    <a:pt x="1183" y="16482"/>
                    <a:pt x="1183" y="16521"/>
                    <a:pt x="1176" y="16562"/>
                  </a:cubicBezTo>
                  <a:cubicBezTo>
                    <a:pt x="1176" y="16583"/>
                    <a:pt x="1171" y="16595"/>
                    <a:pt x="1171" y="16612"/>
                  </a:cubicBezTo>
                  <a:cubicBezTo>
                    <a:pt x="1167" y="16624"/>
                    <a:pt x="1162" y="16639"/>
                    <a:pt x="1162" y="16651"/>
                  </a:cubicBezTo>
                  <a:cubicBezTo>
                    <a:pt x="1162" y="16680"/>
                    <a:pt x="1192" y="16695"/>
                    <a:pt x="1210" y="16707"/>
                  </a:cubicBezTo>
                  <a:cubicBezTo>
                    <a:pt x="1259" y="16737"/>
                    <a:pt x="1284" y="16805"/>
                    <a:pt x="1307" y="16867"/>
                  </a:cubicBezTo>
                  <a:cubicBezTo>
                    <a:pt x="1307" y="16873"/>
                    <a:pt x="1307" y="16873"/>
                    <a:pt x="1302" y="16879"/>
                  </a:cubicBezTo>
                  <a:cubicBezTo>
                    <a:pt x="1346" y="16911"/>
                    <a:pt x="1374" y="16967"/>
                    <a:pt x="1394" y="17023"/>
                  </a:cubicBezTo>
                  <a:cubicBezTo>
                    <a:pt x="1399" y="17041"/>
                    <a:pt x="1404" y="17059"/>
                    <a:pt x="1408" y="17071"/>
                  </a:cubicBezTo>
                  <a:cubicBezTo>
                    <a:pt x="1422" y="17103"/>
                    <a:pt x="1452" y="17127"/>
                    <a:pt x="1461" y="17165"/>
                  </a:cubicBezTo>
                  <a:cubicBezTo>
                    <a:pt x="1461" y="17177"/>
                    <a:pt x="1461" y="17189"/>
                    <a:pt x="1466" y="17195"/>
                  </a:cubicBezTo>
                  <a:cubicBezTo>
                    <a:pt x="1470" y="17210"/>
                    <a:pt x="1477" y="17216"/>
                    <a:pt x="1486" y="17227"/>
                  </a:cubicBezTo>
                  <a:cubicBezTo>
                    <a:pt x="1514" y="17272"/>
                    <a:pt x="1491" y="17352"/>
                    <a:pt x="1519" y="17396"/>
                  </a:cubicBezTo>
                  <a:cubicBezTo>
                    <a:pt x="1539" y="17420"/>
                    <a:pt x="1562" y="17425"/>
                    <a:pt x="1592" y="17431"/>
                  </a:cubicBezTo>
                  <a:cubicBezTo>
                    <a:pt x="1659" y="17464"/>
                    <a:pt x="1707" y="17550"/>
                    <a:pt x="1723" y="17641"/>
                  </a:cubicBezTo>
                  <a:cubicBezTo>
                    <a:pt x="1733" y="17686"/>
                    <a:pt x="1733" y="17730"/>
                    <a:pt x="1733" y="17765"/>
                  </a:cubicBezTo>
                  <a:cubicBezTo>
                    <a:pt x="1733" y="17786"/>
                    <a:pt x="1728" y="17798"/>
                    <a:pt x="1733" y="17816"/>
                  </a:cubicBezTo>
                  <a:cubicBezTo>
                    <a:pt x="1737" y="17828"/>
                    <a:pt x="1742" y="17848"/>
                    <a:pt x="1746" y="17860"/>
                  </a:cubicBezTo>
                  <a:cubicBezTo>
                    <a:pt x="1760" y="17904"/>
                    <a:pt x="1765" y="17946"/>
                    <a:pt x="1776" y="17996"/>
                  </a:cubicBezTo>
                  <a:cubicBezTo>
                    <a:pt x="1785" y="18040"/>
                    <a:pt x="1799" y="18091"/>
                    <a:pt x="1829" y="18114"/>
                  </a:cubicBezTo>
                  <a:cubicBezTo>
                    <a:pt x="1861" y="18144"/>
                    <a:pt x="1914" y="18144"/>
                    <a:pt x="1949" y="18182"/>
                  </a:cubicBezTo>
                  <a:cubicBezTo>
                    <a:pt x="1979" y="18212"/>
                    <a:pt x="1983" y="18262"/>
                    <a:pt x="1992" y="18306"/>
                  </a:cubicBezTo>
                  <a:cubicBezTo>
                    <a:pt x="2002" y="18351"/>
                    <a:pt x="2022" y="18398"/>
                    <a:pt x="2055" y="18413"/>
                  </a:cubicBezTo>
                  <a:cubicBezTo>
                    <a:pt x="2045" y="18448"/>
                    <a:pt x="2089" y="18481"/>
                    <a:pt x="2089" y="18522"/>
                  </a:cubicBezTo>
                  <a:cubicBezTo>
                    <a:pt x="2089" y="18537"/>
                    <a:pt x="2089" y="18549"/>
                    <a:pt x="2094" y="18555"/>
                  </a:cubicBezTo>
                  <a:cubicBezTo>
                    <a:pt x="2098" y="18561"/>
                    <a:pt x="2103" y="18567"/>
                    <a:pt x="2107" y="18567"/>
                  </a:cubicBezTo>
                  <a:cubicBezTo>
                    <a:pt x="2160" y="18599"/>
                    <a:pt x="2195" y="18667"/>
                    <a:pt x="2199" y="18741"/>
                  </a:cubicBezTo>
                  <a:cubicBezTo>
                    <a:pt x="2199" y="18759"/>
                    <a:pt x="2199" y="18777"/>
                    <a:pt x="2204" y="18797"/>
                  </a:cubicBezTo>
                  <a:cubicBezTo>
                    <a:pt x="2209" y="18809"/>
                    <a:pt x="2220" y="18815"/>
                    <a:pt x="2225" y="18827"/>
                  </a:cubicBezTo>
                  <a:cubicBezTo>
                    <a:pt x="2239" y="18853"/>
                    <a:pt x="2239" y="18877"/>
                    <a:pt x="2243" y="18907"/>
                  </a:cubicBezTo>
                  <a:cubicBezTo>
                    <a:pt x="2248" y="18984"/>
                    <a:pt x="2257" y="19057"/>
                    <a:pt x="2252" y="19137"/>
                  </a:cubicBezTo>
                  <a:cubicBezTo>
                    <a:pt x="2252" y="19155"/>
                    <a:pt x="2248" y="19182"/>
                    <a:pt x="2257" y="19193"/>
                  </a:cubicBezTo>
                  <a:cubicBezTo>
                    <a:pt x="2262" y="19199"/>
                    <a:pt x="2273" y="19205"/>
                    <a:pt x="2278" y="19211"/>
                  </a:cubicBezTo>
                  <a:cubicBezTo>
                    <a:pt x="2305" y="19244"/>
                    <a:pt x="2296" y="19291"/>
                    <a:pt x="2296" y="19335"/>
                  </a:cubicBezTo>
                  <a:cubicBezTo>
                    <a:pt x="2296" y="19380"/>
                    <a:pt x="2305" y="19415"/>
                    <a:pt x="2321" y="19454"/>
                  </a:cubicBezTo>
                  <a:cubicBezTo>
                    <a:pt x="2326" y="19460"/>
                    <a:pt x="2326" y="19465"/>
                    <a:pt x="2331" y="19471"/>
                  </a:cubicBezTo>
                  <a:cubicBezTo>
                    <a:pt x="2335" y="19477"/>
                    <a:pt x="2340" y="19477"/>
                    <a:pt x="2344" y="19477"/>
                  </a:cubicBezTo>
                  <a:cubicBezTo>
                    <a:pt x="2388" y="19492"/>
                    <a:pt x="2436" y="19492"/>
                    <a:pt x="2480" y="19471"/>
                  </a:cubicBezTo>
                  <a:cubicBezTo>
                    <a:pt x="2489" y="19465"/>
                    <a:pt x="2498" y="19460"/>
                    <a:pt x="2508" y="19465"/>
                  </a:cubicBezTo>
                  <a:cubicBezTo>
                    <a:pt x="2515" y="19465"/>
                    <a:pt x="2519" y="19471"/>
                    <a:pt x="2524" y="19471"/>
                  </a:cubicBezTo>
                  <a:cubicBezTo>
                    <a:pt x="2538" y="19471"/>
                    <a:pt x="2542" y="19454"/>
                    <a:pt x="2542" y="19442"/>
                  </a:cubicBezTo>
                  <a:cubicBezTo>
                    <a:pt x="2542" y="19424"/>
                    <a:pt x="2533" y="19409"/>
                    <a:pt x="2524" y="19397"/>
                  </a:cubicBezTo>
                  <a:cubicBezTo>
                    <a:pt x="2538" y="19368"/>
                    <a:pt x="2581" y="19392"/>
                    <a:pt x="2595" y="19368"/>
                  </a:cubicBezTo>
                  <a:cubicBezTo>
                    <a:pt x="2600" y="19353"/>
                    <a:pt x="2600" y="19335"/>
                    <a:pt x="2604" y="19324"/>
                  </a:cubicBezTo>
                  <a:cubicBezTo>
                    <a:pt x="2611" y="19312"/>
                    <a:pt x="2625" y="19312"/>
                    <a:pt x="2634" y="19318"/>
                  </a:cubicBezTo>
                  <a:cubicBezTo>
                    <a:pt x="2664" y="19324"/>
                    <a:pt x="2694" y="19335"/>
                    <a:pt x="2722" y="19335"/>
                  </a:cubicBezTo>
                  <a:cubicBezTo>
                    <a:pt x="2751" y="19335"/>
                    <a:pt x="2779" y="19335"/>
                    <a:pt x="2802" y="19318"/>
                  </a:cubicBezTo>
                  <a:cubicBezTo>
                    <a:pt x="2818" y="19306"/>
                    <a:pt x="2827" y="19285"/>
                    <a:pt x="2841" y="19273"/>
                  </a:cubicBezTo>
                  <a:cubicBezTo>
                    <a:pt x="2871" y="19244"/>
                    <a:pt x="2915" y="19250"/>
                    <a:pt x="2952" y="19244"/>
                  </a:cubicBezTo>
                  <a:cubicBezTo>
                    <a:pt x="2991" y="19244"/>
                    <a:pt x="3034" y="19232"/>
                    <a:pt x="3055" y="19193"/>
                  </a:cubicBezTo>
                  <a:cubicBezTo>
                    <a:pt x="3048" y="19188"/>
                    <a:pt x="3044" y="19182"/>
                    <a:pt x="3039" y="19182"/>
                  </a:cubicBezTo>
                  <a:cubicBezTo>
                    <a:pt x="3074" y="19131"/>
                    <a:pt x="3122" y="19093"/>
                    <a:pt x="3170" y="19087"/>
                  </a:cubicBezTo>
                  <a:cubicBezTo>
                    <a:pt x="3184" y="19087"/>
                    <a:pt x="3205" y="19081"/>
                    <a:pt x="3209" y="19063"/>
                  </a:cubicBezTo>
                  <a:cubicBezTo>
                    <a:pt x="3214" y="19063"/>
                    <a:pt x="3218" y="19057"/>
                    <a:pt x="3223" y="19057"/>
                  </a:cubicBezTo>
                  <a:lnTo>
                    <a:pt x="3396" y="19019"/>
                  </a:lnTo>
                  <a:cubicBezTo>
                    <a:pt x="3421" y="19013"/>
                    <a:pt x="3444" y="19007"/>
                    <a:pt x="3455" y="18984"/>
                  </a:cubicBezTo>
                  <a:cubicBezTo>
                    <a:pt x="3469" y="18957"/>
                    <a:pt x="3460" y="18921"/>
                    <a:pt x="3460" y="18889"/>
                  </a:cubicBezTo>
                  <a:cubicBezTo>
                    <a:pt x="3460" y="18827"/>
                    <a:pt x="3504" y="18777"/>
                    <a:pt x="3552" y="18777"/>
                  </a:cubicBezTo>
                  <a:cubicBezTo>
                    <a:pt x="3575" y="18777"/>
                    <a:pt x="3593" y="18791"/>
                    <a:pt x="3619" y="18777"/>
                  </a:cubicBezTo>
                  <a:cubicBezTo>
                    <a:pt x="3628" y="18771"/>
                    <a:pt x="3632" y="18765"/>
                    <a:pt x="3642" y="18759"/>
                  </a:cubicBezTo>
                  <a:cubicBezTo>
                    <a:pt x="3672" y="18735"/>
                    <a:pt x="3711" y="18720"/>
                    <a:pt x="3750" y="18729"/>
                  </a:cubicBezTo>
                  <a:cubicBezTo>
                    <a:pt x="3777" y="18735"/>
                    <a:pt x="3803" y="18753"/>
                    <a:pt x="3830" y="18759"/>
                  </a:cubicBezTo>
                  <a:cubicBezTo>
                    <a:pt x="3860" y="18759"/>
                    <a:pt x="3895" y="18735"/>
                    <a:pt x="3888" y="18697"/>
                  </a:cubicBezTo>
                  <a:cubicBezTo>
                    <a:pt x="3888" y="18667"/>
                    <a:pt x="3856" y="18641"/>
                    <a:pt x="3856" y="18605"/>
                  </a:cubicBezTo>
                  <a:cubicBezTo>
                    <a:pt x="3856" y="18578"/>
                    <a:pt x="3874" y="18561"/>
                    <a:pt x="3895" y="18549"/>
                  </a:cubicBezTo>
                  <a:cubicBezTo>
                    <a:pt x="3927" y="18522"/>
                    <a:pt x="3961" y="18499"/>
                    <a:pt x="3996" y="18516"/>
                  </a:cubicBezTo>
                  <a:cubicBezTo>
                    <a:pt x="4005" y="18522"/>
                    <a:pt x="4010" y="18528"/>
                    <a:pt x="4019" y="18528"/>
                  </a:cubicBezTo>
                  <a:cubicBezTo>
                    <a:pt x="4037" y="18528"/>
                    <a:pt x="4053" y="18499"/>
                    <a:pt x="4049" y="18466"/>
                  </a:cubicBezTo>
                  <a:cubicBezTo>
                    <a:pt x="4044" y="18442"/>
                    <a:pt x="4033" y="18413"/>
                    <a:pt x="4033" y="18386"/>
                  </a:cubicBezTo>
                  <a:cubicBezTo>
                    <a:pt x="4086" y="18374"/>
                    <a:pt x="4134" y="18357"/>
                    <a:pt x="4189" y="18345"/>
                  </a:cubicBezTo>
                  <a:cubicBezTo>
                    <a:pt x="4194" y="18345"/>
                    <a:pt x="4203" y="18336"/>
                    <a:pt x="4203" y="18330"/>
                  </a:cubicBezTo>
                  <a:cubicBezTo>
                    <a:pt x="4212" y="18318"/>
                    <a:pt x="4203" y="18295"/>
                    <a:pt x="4198" y="18283"/>
                  </a:cubicBezTo>
                  <a:cubicBezTo>
                    <a:pt x="4182" y="18244"/>
                    <a:pt x="4178" y="18200"/>
                    <a:pt x="4189" y="18159"/>
                  </a:cubicBezTo>
                  <a:lnTo>
                    <a:pt x="4217" y="18159"/>
                  </a:lnTo>
                  <a:cubicBezTo>
                    <a:pt x="4217" y="18132"/>
                    <a:pt x="4212" y="18114"/>
                    <a:pt x="4203" y="18091"/>
                  </a:cubicBezTo>
                  <a:cubicBezTo>
                    <a:pt x="4217" y="18097"/>
                    <a:pt x="4235" y="18076"/>
                    <a:pt x="4235" y="18058"/>
                  </a:cubicBezTo>
                  <a:cubicBezTo>
                    <a:pt x="4256" y="18064"/>
                    <a:pt x="4274" y="18091"/>
                    <a:pt x="4274" y="18114"/>
                  </a:cubicBezTo>
                  <a:cubicBezTo>
                    <a:pt x="4304" y="18097"/>
                    <a:pt x="4318" y="18046"/>
                    <a:pt x="4309" y="18008"/>
                  </a:cubicBezTo>
                  <a:cubicBezTo>
                    <a:pt x="4304" y="17996"/>
                    <a:pt x="4304" y="17990"/>
                    <a:pt x="4304" y="17978"/>
                  </a:cubicBezTo>
                  <a:cubicBezTo>
                    <a:pt x="4304" y="17952"/>
                    <a:pt x="4334" y="17946"/>
                    <a:pt x="4352" y="17940"/>
                  </a:cubicBezTo>
                  <a:cubicBezTo>
                    <a:pt x="4373" y="17934"/>
                    <a:pt x="4396" y="17910"/>
                    <a:pt x="4380" y="17890"/>
                  </a:cubicBezTo>
                  <a:cubicBezTo>
                    <a:pt x="4401" y="17896"/>
                    <a:pt x="4424" y="17890"/>
                    <a:pt x="4440" y="17872"/>
                  </a:cubicBezTo>
                  <a:cubicBezTo>
                    <a:pt x="4454" y="17854"/>
                    <a:pt x="4449" y="17816"/>
                    <a:pt x="4428" y="17810"/>
                  </a:cubicBezTo>
                  <a:cubicBezTo>
                    <a:pt x="4454" y="17810"/>
                    <a:pt x="4488" y="17798"/>
                    <a:pt x="4497" y="17765"/>
                  </a:cubicBezTo>
                  <a:cubicBezTo>
                    <a:pt x="4502" y="17742"/>
                    <a:pt x="4493" y="17718"/>
                    <a:pt x="4472" y="17703"/>
                  </a:cubicBezTo>
                  <a:cubicBezTo>
                    <a:pt x="4458" y="17692"/>
                    <a:pt x="4440" y="17686"/>
                    <a:pt x="4419" y="17686"/>
                  </a:cubicBezTo>
                  <a:cubicBezTo>
                    <a:pt x="4410" y="17686"/>
                    <a:pt x="4396" y="17686"/>
                    <a:pt x="4391" y="17674"/>
                  </a:cubicBezTo>
                  <a:cubicBezTo>
                    <a:pt x="4387" y="17668"/>
                    <a:pt x="4387" y="17662"/>
                    <a:pt x="4380" y="17656"/>
                  </a:cubicBezTo>
                  <a:cubicBezTo>
                    <a:pt x="4366" y="17612"/>
                    <a:pt x="4352" y="17550"/>
                    <a:pt x="4313" y="17550"/>
                  </a:cubicBezTo>
                  <a:cubicBezTo>
                    <a:pt x="4304" y="17550"/>
                    <a:pt x="4290" y="17556"/>
                    <a:pt x="4279" y="17556"/>
                  </a:cubicBezTo>
                  <a:cubicBezTo>
                    <a:pt x="4265" y="17556"/>
                    <a:pt x="4251" y="17550"/>
                    <a:pt x="4235" y="17544"/>
                  </a:cubicBezTo>
                  <a:cubicBezTo>
                    <a:pt x="4178" y="17520"/>
                    <a:pt x="4115" y="17488"/>
                    <a:pt x="4058" y="17464"/>
                  </a:cubicBezTo>
                  <a:cubicBezTo>
                    <a:pt x="4053" y="17464"/>
                    <a:pt x="4049" y="17458"/>
                    <a:pt x="4044" y="17449"/>
                  </a:cubicBezTo>
                  <a:cubicBezTo>
                    <a:pt x="4037" y="17443"/>
                    <a:pt x="4037" y="17437"/>
                    <a:pt x="4037" y="17431"/>
                  </a:cubicBezTo>
                  <a:lnTo>
                    <a:pt x="4037" y="17307"/>
                  </a:lnTo>
                  <a:cubicBezTo>
                    <a:pt x="3991" y="17266"/>
                    <a:pt x="3971" y="17171"/>
                    <a:pt x="3996" y="17097"/>
                  </a:cubicBezTo>
                  <a:cubicBezTo>
                    <a:pt x="4000" y="17091"/>
                    <a:pt x="4000" y="17080"/>
                    <a:pt x="4000" y="17065"/>
                  </a:cubicBezTo>
                  <a:cubicBezTo>
                    <a:pt x="3996" y="17053"/>
                    <a:pt x="3980" y="17047"/>
                    <a:pt x="3971" y="17059"/>
                  </a:cubicBezTo>
                  <a:cubicBezTo>
                    <a:pt x="3961" y="17071"/>
                    <a:pt x="3957" y="17085"/>
                    <a:pt x="3957" y="17103"/>
                  </a:cubicBezTo>
                  <a:cubicBezTo>
                    <a:pt x="3952" y="17115"/>
                    <a:pt x="3952" y="17133"/>
                    <a:pt x="3943" y="17148"/>
                  </a:cubicBezTo>
                  <a:cubicBezTo>
                    <a:pt x="3931" y="17159"/>
                    <a:pt x="3913" y="17165"/>
                    <a:pt x="3899" y="17165"/>
                  </a:cubicBezTo>
                  <a:cubicBezTo>
                    <a:pt x="3883" y="17171"/>
                    <a:pt x="3865" y="17183"/>
                    <a:pt x="3869" y="17210"/>
                  </a:cubicBezTo>
                  <a:cubicBezTo>
                    <a:pt x="3869" y="17216"/>
                    <a:pt x="3874" y="17221"/>
                    <a:pt x="3874" y="17227"/>
                  </a:cubicBezTo>
                  <a:cubicBezTo>
                    <a:pt x="3874" y="17245"/>
                    <a:pt x="3869" y="17257"/>
                    <a:pt x="3860" y="17266"/>
                  </a:cubicBezTo>
                  <a:cubicBezTo>
                    <a:pt x="3851" y="17278"/>
                    <a:pt x="3835" y="17278"/>
                    <a:pt x="3826" y="17289"/>
                  </a:cubicBezTo>
                  <a:cubicBezTo>
                    <a:pt x="3782" y="17319"/>
                    <a:pt x="3764" y="17402"/>
                    <a:pt x="3715" y="17414"/>
                  </a:cubicBezTo>
                  <a:cubicBezTo>
                    <a:pt x="3706" y="17420"/>
                    <a:pt x="3690" y="17420"/>
                    <a:pt x="3685" y="17431"/>
                  </a:cubicBezTo>
                  <a:cubicBezTo>
                    <a:pt x="3681" y="17437"/>
                    <a:pt x="3681" y="17452"/>
                    <a:pt x="3676" y="17458"/>
                  </a:cubicBezTo>
                  <a:cubicBezTo>
                    <a:pt x="3672" y="17467"/>
                    <a:pt x="3667" y="17464"/>
                    <a:pt x="3658" y="17464"/>
                  </a:cubicBezTo>
                  <a:cubicBezTo>
                    <a:pt x="3609" y="17470"/>
                    <a:pt x="3561" y="17464"/>
                    <a:pt x="3513" y="17458"/>
                  </a:cubicBezTo>
                  <a:cubicBezTo>
                    <a:pt x="3492" y="17449"/>
                    <a:pt x="3469" y="17443"/>
                    <a:pt x="3455" y="17425"/>
                  </a:cubicBezTo>
                  <a:lnTo>
                    <a:pt x="3439" y="17408"/>
                  </a:lnTo>
                  <a:cubicBezTo>
                    <a:pt x="3430" y="17396"/>
                    <a:pt x="3412" y="17402"/>
                    <a:pt x="3396" y="17402"/>
                  </a:cubicBezTo>
                  <a:cubicBezTo>
                    <a:pt x="3382" y="17402"/>
                    <a:pt x="3363" y="17396"/>
                    <a:pt x="3359" y="17375"/>
                  </a:cubicBezTo>
                  <a:cubicBezTo>
                    <a:pt x="3359" y="17369"/>
                    <a:pt x="3359" y="17357"/>
                    <a:pt x="3363" y="17352"/>
                  </a:cubicBezTo>
                  <a:cubicBezTo>
                    <a:pt x="3373" y="17325"/>
                    <a:pt x="3382" y="17295"/>
                    <a:pt x="3396" y="17278"/>
                  </a:cubicBezTo>
                  <a:cubicBezTo>
                    <a:pt x="3402" y="17272"/>
                    <a:pt x="3402" y="17266"/>
                    <a:pt x="3407" y="17266"/>
                  </a:cubicBezTo>
                  <a:cubicBezTo>
                    <a:pt x="3412" y="17245"/>
                    <a:pt x="3391" y="17233"/>
                    <a:pt x="3382" y="17221"/>
                  </a:cubicBezTo>
                  <a:cubicBezTo>
                    <a:pt x="3363" y="17189"/>
                    <a:pt x="3391" y="17133"/>
                    <a:pt x="3368" y="17103"/>
                  </a:cubicBezTo>
                  <a:cubicBezTo>
                    <a:pt x="3363" y="17097"/>
                    <a:pt x="3359" y="17097"/>
                    <a:pt x="3359" y="17091"/>
                  </a:cubicBezTo>
                  <a:cubicBezTo>
                    <a:pt x="3354" y="17085"/>
                    <a:pt x="3354" y="17071"/>
                    <a:pt x="3354" y="17065"/>
                  </a:cubicBezTo>
                  <a:cubicBezTo>
                    <a:pt x="3354" y="17047"/>
                    <a:pt x="3347" y="17029"/>
                    <a:pt x="3338" y="17023"/>
                  </a:cubicBezTo>
                  <a:cubicBezTo>
                    <a:pt x="3324" y="17009"/>
                    <a:pt x="3306" y="17023"/>
                    <a:pt x="3301" y="17041"/>
                  </a:cubicBezTo>
                  <a:cubicBezTo>
                    <a:pt x="3290" y="17059"/>
                    <a:pt x="3294" y="17085"/>
                    <a:pt x="3294" y="17103"/>
                  </a:cubicBezTo>
                  <a:cubicBezTo>
                    <a:pt x="3301" y="17165"/>
                    <a:pt x="3294" y="17227"/>
                    <a:pt x="3294" y="17284"/>
                  </a:cubicBezTo>
                  <a:cubicBezTo>
                    <a:pt x="3285" y="17289"/>
                    <a:pt x="3276" y="17284"/>
                    <a:pt x="3267" y="17272"/>
                  </a:cubicBezTo>
                  <a:cubicBezTo>
                    <a:pt x="3262" y="17257"/>
                    <a:pt x="3258" y="17245"/>
                    <a:pt x="3258" y="17233"/>
                  </a:cubicBezTo>
                  <a:cubicBezTo>
                    <a:pt x="3253" y="17195"/>
                    <a:pt x="3253" y="17165"/>
                    <a:pt x="3258" y="17127"/>
                  </a:cubicBezTo>
                  <a:lnTo>
                    <a:pt x="3237" y="17127"/>
                  </a:lnTo>
                  <a:cubicBezTo>
                    <a:pt x="3241" y="17091"/>
                    <a:pt x="3258" y="17047"/>
                    <a:pt x="3281" y="17023"/>
                  </a:cubicBezTo>
                  <a:cubicBezTo>
                    <a:pt x="3262" y="16991"/>
                    <a:pt x="3237" y="16967"/>
                    <a:pt x="3214" y="16949"/>
                  </a:cubicBezTo>
                  <a:cubicBezTo>
                    <a:pt x="3209" y="16941"/>
                    <a:pt x="3198" y="16941"/>
                    <a:pt x="3193" y="16935"/>
                  </a:cubicBezTo>
                  <a:cubicBezTo>
                    <a:pt x="3184" y="16929"/>
                    <a:pt x="3184" y="16911"/>
                    <a:pt x="3184" y="16899"/>
                  </a:cubicBezTo>
                  <a:cubicBezTo>
                    <a:pt x="3170" y="16899"/>
                    <a:pt x="3161" y="16899"/>
                    <a:pt x="3145" y="16893"/>
                  </a:cubicBezTo>
                  <a:cubicBezTo>
                    <a:pt x="3122" y="16849"/>
                    <a:pt x="3092" y="16811"/>
                    <a:pt x="3069" y="16769"/>
                  </a:cubicBezTo>
                  <a:cubicBezTo>
                    <a:pt x="3064" y="16763"/>
                    <a:pt x="3060" y="16754"/>
                    <a:pt x="3055" y="16743"/>
                  </a:cubicBezTo>
                  <a:cubicBezTo>
                    <a:pt x="3044" y="16731"/>
                    <a:pt x="3034" y="16725"/>
                    <a:pt x="3025" y="16719"/>
                  </a:cubicBezTo>
                  <a:cubicBezTo>
                    <a:pt x="3016" y="16675"/>
                    <a:pt x="3007" y="16624"/>
                    <a:pt x="2977" y="16595"/>
                  </a:cubicBezTo>
                  <a:cubicBezTo>
                    <a:pt x="2963" y="16577"/>
                    <a:pt x="2938" y="16556"/>
                    <a:pt x="2938" y="16527"/>
                  </a:cubicBezTo>
                  <a:cubicBezTo>
                    <a:pt x="2938" y="16509"/>
                    <a:pt x="2942" y="16494"/>
                    <a:pt x="2942" y="16476"/>
                  </a:cubicBezTo>
                  <a:cubicBezTo>
                    <a:pt x="2938" y="16453"/>
                    <a:pt x="2915" y="16438"/>
                    <a:pt x="2894" y="16432"/>
                  </a:cubicBezTo>
                  <a:cubicBezTo>
                    <a:pt x="2894" y="16408"/>
                    <a:pt x="2915" y="16385"/>
                    <a:pt x="2933" y="16391"/>
                  </a:cubicBezTo>
                  <a:cubicBezTo>
                    <a:pt x="2938" y="16391"/>
                    <a:pt x="2947" y="16397"/>
                    <a:pt x="2952" y="16397"/>
                  </a:cubicBezTo>
                  <a:cubicBezTo>
                    <a:pt x="2972" y="16397"/>
                    <a:pt x="2977" y="16358"/>
                    <a:pt x="2972" y="16335"/>
                  </a:cubicBezTo>
                  <a:lnTo>
                    <a:pt x="3074" y="16278"/>
                  </a:lnTo>
                  <a:cubicBezTo>
                    <a:pt x="3083" y="16272"/>
                    <a:pt x="3087" y="16272"/>
                    <a:pt x="3097" y="16272"/>
                  </a:cubicBezTo>
                  <a:cubicBezTo>
                    <a:pt x="3108" y="16272"/>
                    <a:pt x="3117" y="16278"/>
                    <a:pt x="3126" y="16278"/>
                  </a:cubicBezTo>
                  <a:cubicBezTo>
                    <a:pt x="3140" y="16278"/>
                    <a:pt x="3149" y="16246"/>
                    <a:pt x="3170" y="16246"/>
                  </a:cubicBezTo>
                  <a:cubicBezTo>
                    <a:pt x="3179" y="16246"/>
                    <a:pt x="3184" y="16261"/>
                    <a:pt x="3189" y="16267"/>
                  </a:cubicBezTo>
                  <a:cubicBezTo>
                    <a:pt x="3228" y="16329"/>
                    <a:pt x="3262" y="16391"/>
                    <a:pt x="3294" y="16453"/>
                  </a:cubicBezTo>
                  <a:cubicBezTo>
                    <a:pt x="3301" y="16459"/>
                    <a:pt x="3306" y="16471"/>
                    <a:pt x="3306" y="16482"/>
                  </a:cubicBezTo>
                  <a:cubicBezTo>
                    <a:pt x="3310" y="16500"/>
                    <a:pt x="3301" y="16515"/>
                    <a:pt x="3301" y="16533"/>
                  </a:cubicBezTo>
                  <a:cubicBezTo>
                    <a:pt x="3301" y="16589"/>
                    <a:pt x="3363" y="16618"/>
                    <a:pt x="3373" y="16675"/>
                  </a:cubicBezTo>
                  <a:cubicBezTo>
                    <a:pt x="3373" y="16695"/>
                    <a:pt x="3373" y="16713"/>
                    <a:pt x="3382" y="16719"/>
                  </a:cubicBezTo>
                  <a:cubicBezTo>
                    <a:pt x="3396" y="16731"/>
                    <a:pt x="3416" y="16713"/>
                    <a:pt x="3435" y="16713"/>
                  </a:cubicBezTo>
                  <a:cubicBezTo>
                    <a:pt x="3474" y="16713"/>
                    <a:pt x="3483" y="16787"/>
                    <a:pt x="3522" y="16799"/>
                  </a:cubicBezTo>
                  <a:cubicBezTo>
                    <a:pt x="3531" y="16805"/>
                    <a:pt x="3540" y="16799"/>
                    <a:pt x="3557" y="16805"/>
                  </a:cubicBezTo>
                  <a:cubicBezTo>
                    <a:pt x="3575" y="16811"/>
                    <a:pt x="3586" y="16837"/>
                    <a:pt x="3600" y="16849"/>
                  </a:cubicBezTo>
                  <a:cubicBezTo>
                    <a:pt x="3616" y="16861"/>
                    <a:pt x="3637" y="16879"/>
                    <a:pt x="3653" y="16861"/>
                  </a:cubicBezTo>
                  <a:cubicBezTo>
                    <a:pt x="3658" y="16887"/>
                    <a:pt x="3658" y="16905"/>
                    <a:pt x="3662" y="16929"/>
                  </a:cubicBezTo>
                  <a:cubicBezTo>
                    <a:pt x="3697" y="16911"/>
                    <a:pt x="3736" y="16911"/>
                    <a:pt x="3764" y="16929"/>
                  </a:cubicBezTo>
                  <a:cubicBezTo>
                    <a:pt x="3793" y="16949"/>
                    <a:pt x="3821" y="16973"/>
                    <a:pt x="3846" y="16961"/>
                  </a:cubicBezTo>
                  <a:cubicBezTo>
                    <a:pt x="3856" y="16955"/>
                    <a:pt x="3860" y="16941"/>
                    <a:pt x="3869" y="16935"/>
                  </a:cubicBezTo>
                  <a:cubicBezTo>
                    <a:pt x="3883" y="16923"/>
                    <a:pt x="3899" y="16923"/>
                    <a:pt x="3913" y="16917"/>
                  </a:cubicBezTo>
                  <a:cubicBezTo>
                    <a:pt x="3927" y="16911"/>
                    <a:pt x="3936" y="16887"/>
                    <a:pt x="3927" y="16867"/>
                  </a:cubicBezTo>
                  <a:cubicBezTo>
                    <a:pt x="3966" y="16867"/>
                    <a:pt x="4000" y="16861"/>
                    <a:pt x="4037" y="16861"/>
                  </a:cubicBezTo>
                  <a:cubicBezTo>
                    <a:pt x="4049" y="16861"/>
                    <a:pt x="4058" y="16861"/>
                    <a:pt x="4067" y="16867"/>
                  </a:cubicBezTo>
                  <a:cubicBezTo>
                    <a:pt x="4086" y="16879"/>
                    <a:pt x="4092" y="16911"/>
                    <a:pt x="4102" y="16935"/>
                  </a:cubicBezTo>
                  <a:cubicBezTo>
                    <a:pt x="4111" y="16961"/>
                    <a:pt x="4129" y="16973"/>
                    <a:pt x="4141" y="16997"/>
                  </a:cubicBezTo>
                  <a:cubicBezTo>
                    <a:pt x="4145" y="17023"/>
                    <a:pt x="4145" y="17047"/>
                    <a:pt x="4150" y="17071"/>
                  </a:cubicBezTo>
                  <a:cubicBezTo>
                    <a:pt x="4155" y="17097"/>
                    <a:pt x="4173" y="17115"/>
                    <a:pt x="4189" y="17103"/>
                  </a:cubicBezTo>
                  <a:cubicBezTo>
                    <a:pt x="4235" y="17142"/>
                    <a:pt x="4295" y="17115"/>
                    <a:pt x="4352" y="17121"/>
                  </a:cubicBezTo>
                  <a:cubicBezTo>
                    <a:pt x="4396" y="17127"/>
                    <a:pt x="4435" y="17159"/>
                    <a:pt x="4481" y="17159"/>
                  </a:cubicBezTo>
                  <a:cubicBezTo>
                    <a:pt x="4511" y="17159"/>
                    <a:pt x="4541" y="17153"/>
                    <a:pt x="4569" y="17159"/>
                  </a:cubicBezTo>
                  <a:cubicBezTo>
                    <a:pt x="4603" y="17171"/>
                    <a:pt x="4633" y="17204"/>
                    <a:pt x="4665" y="17210"/>
                  </a:cubicBezTo>
                  <a:cubicBezTo>
                    <a:pt x="4690" y="17216"/>
                    <a:pt x="4713" y="17210"/>
                    <a:pt x="4734" y="17195"/>
                  </a:cubicBezTo>
                  <a:cubicBezTo>
                    <a:pt x="4792" y="17177"/>
                    <a:pt x="4849" y="17171"/>
                    <a:pt x="4907" y="17165"/>
                  </a:cubicBezTo>
                  <a:cubicBezTo>
                    <a:pt x="4916" y="17165"/>
                    <a:pt x="4925" y="17165"/>
                    <a:pt x="4932" y="17171"/>
                  </a:cubicBezTo>
                  <a:lnTo>
                    <a:pt x="4950" y="17195"/>
                  </a:lnTo>
                  <a:cubicBezTo>
                    <a:pt x="4973" y="17227"/>
                    <a:pt x="5012" y="17210"/>
                    <a:pt x="5042" y="17195"/>
                  </a:cubicBezTo>
                  <a:cubicBezTo>
                    <a:pt x="5081" y="17183"/>
                    <a:pt x="5123" y="17183"/>
                    <a:pt x="5162" y="17195"/>
                  </a:cubicBezTo>
                  <a:cubicBezTo>
                    <a:pt x="5178" y="17204"/>
                    <a:pt x="5192" y="17210"/>
                    <a:pt x="5206" y="17195"/>
                  </a:cubicBezTo>
                  <a:cubicBezTo>
                    <a:pt x="5215" y="17189"/>
                    <a:pt x="5219" y="17171"/>
                    <a:pt x="5231" y="17165"/>
                  </a:cubicBezTo>
                  <a:cubicBezTo>
                    <a:pt x="5245" y="17153"/>
                    <a:pt x="5263" y="17153"/>
                    <a:pt x="5279" y="17159"/>
                  </a:cubicBezTo>
                  <a:cubicBezTo>
                    <a:pt x="5337" y="17177"/>
                    <a:pt x="5390" y="17204"/>
                    <a:pt x="5438" y="17245"/>
                  </a:cubicBezTo>
                  <a:cubicBezTo>
                    <a:pt x="5447" y="17257"/>
                    <a:pt x="5461" y="17272"/>
                    <a:pt x="5466" y="17284"/>
                  </a:cubicBezTo>
                  <a:cubicBezTo>
                    <a:pt x="5472" y="17295"/>
                    <a:pt x="5472" y="17307"/>
                    <a:pt x="5477" y="17319"/>
                  </a:cubicBezTo>
                  <a:cubicBezTo>
                    <a:pt x="5486" y="17357"/>
                    <a:pt x="5525" y="17381"/>
                    <a:pt x="5514" y="17425"/>
                  </a:cubicBezTo>
                  <a:cubicBezTo>
                    <a:pt x="5514" y="17437"/>
                    <a:pt x="5505" y="17449"/>
                    <a:pt x="5509" y="17464"/>
                  </a:cubicBezTo>
                  <a:cubicBezTo>
                    <a:pt x="5514" y="17482"/>
                    <a:pt x="5535" y="17482"/>
                    <a:pt x="5553" y="17482"/>
                  </a:cubicBezTo>
                  <a:cubicBezTo>
                    <a:pt x="5592" y="17488"/>
                    <a:pt x="5606" y="17544"/>
                    <a:pt x="5631" y="17579"/>
                  </a:cubicBezTo>
                  <a:cubicBezTo>
                    <a:pt x="5670" y="17629"/>
                    <a:pt x="5728" y="17629"/>
                    <a:pt x="5781" y="17641"/>
                  </a:cubicBezTo>
                  <a:cubicBezTo>
                    <a:pt x="5799" y="17641"/>
                    <a:pt x="5820" y="17656"/>
                    <a:pt x="5820" y="17680"/>
                  </a:cubicBezTo>
                  <a:cubicBezTo>
                    <a:pt x="5820" y="17703"/>
                    <a:pt x="5794" y="17718"/>
                    <a:pt x="5776" y="17718"/>
                  </a:cubicBezTo>
                  <a:cubicBezTo>
                    <a:pt x="5746" y="17724"/>
                    <a:pt x="5719" y="17724"/>
                    <a:pt x="5684" y="17730"/>
                  </a:cubicBezTo>
                  <a:cubicBezTo>
                    <a:pt x="5679" y="17730"/>
                    <a:pt x="5675" y="17730"/>
                    <a:pt x="5675" y="17736"/>
                  </a:cubicBezTo>
                  <a:cubicBezTo>
                    <a:pt x="5663" y="17742"/>
                    <a:pt x="5670" y="17768"/>
                    <a:pt x="5679" y="17780"/>
                  </a:cubicBezTo>
                  <a:cubicBezTo>
                    <a:pt x="5689" y="17795"/>
                    <a:pt x="5702" y="17792"/>
                    <a:pt x="5712" y="17804"/>
                  </a:cubicBezTo>
                  <a:cubicBezTo>
                    <a:pt x="5723" y="17816"/>
                    <a:pt x="5723" y="17842"/>
                    <a:pt x="5707" y="17842"/>
                  </a:cubicBezTo>
                  <a:cubicBezTo>
                    <a:pt x="5719" y="17860"/>
                    <a:pt x="5723" y="17866"/>
                    <a:pt x="5737" y="17872"/>
                  </a:cubicBezTo>
                  <a:cubicBezTo>
                    <a:pt x="5746" y="17878"/>
                    <a:pt x="5751" y="17878"/>
                    <a:pt x="5760" y="17878"/>
                  </a:cubicBezTo>
                  <a:cubicBezTo>
                    <a:pt x="5804" y="17896"/>
                    <a:pt x="5829" y="17958"/>
                    <a:pt x="5873" y="17990"/>
                  </a:cubicBezTo>
                  <a:cubicBezTo>
                    <a:pt x="5900" y="18014"/>
                    <a:pt x="5935" y="18020"/>
                    <a:pt x="5969" y="18029"/>
                  </a:cubicBezTo>
                  <a:cubicBezTo>
                    <a:pt x="5978" y="18029"/>
                    <a:pt x="5988" y="18034"/>
                    <a:pt x="5997" y="18029"/>
                  </a:cubicBezTo>
                  <a:cubicBezTo>
                    <a:pt x="6011" y="18020"/>
                    <a:pt x="6018" y="18008"/>
                    <a:pt x="6031" y="17996"/>
                  </a:cubicBezTo>
                  <a:cubicBezTo>
                    <a:pt x="6045" y="17984"/>
                    <a:pt x="6068" y="17987"/>
                    <a:pt x="6080" y="17966"/>
                  </a:cubicBezTo>
                  <a:cubicBezTo>
                    <a:pt x="6091" y="17955"/>
                    <a:pt x="6084" y="17934"/>
                    <a:pt x="6089" y="17916"/>
                  </a:cubicBezTo>
                  <a:cubicBezTo>
                    <a:pt x="6089" y="17878"/>
                    <a:pt x="6107" y="17848"/>
                    <a:pt x="6128" y="17822"/>
                  </a:cubicBezTo>
                  <a:cubicBezTo>
                    <a:pt x="6133" y="17822"/>
                    <a:pt x="6133" y="17816"/>
                    <a:pt x="6137" y="17816"/>
                  </a:cubicBezTo>
                  <a:cubicBezTo>
                    <a:pt x="6142" y="17816"/>
                    <a:pt x="6146" y="17822"/>
                    <a:pt x="6146" y="17822"/>
                  </a:cubicBezTo>
                  <a:cubicBezTo>
                    <a:pt x="6176" y="17866"/>
                    <a:pt x="6190" y="17928"/>
                    <a:pt x="6186" y="17990"/>
                  </a:cubicBezTo>
                  <a:cubicBezTo>
                    <a:pt x="6186" y="18002"/>
                    <a:pt x="6181" y="18014"/>
                    <a:pt x="6186" y="18034"/>
                  </a:cubicBezTo>
                  <a:cubicBezTo>
                    <a:pt x="6190" y="18052"/>
                    <a:pt x="6199" y="18064"/>
                    <a:pt x="6209" y="18076"/>
                  </a:cubicBezTo>
                  <a:cubicBezTo>
                    <a:pt x="6229" y="18114"/>
                    <a:pt x="6234" y="18159"/>
                    <a:pt x="6234" y="18194"/>
                  </a:cubicBezTo>
                  <a:cubicBezTo>
                    <a:pt x="6234" y="18238"/>
                    <a:pt x="6229" y="18283"/>
                    <a:pt x="6220" y="18318"/>
                  </a:cubicBezTo>
                  <a:cubicBezTo>
                    <a:pt x="6220" y="18336"/>
                    <a:pt x="6215" y="18357"/>
                    <a:pt x="6220" y="18374"/>
                  </a:cubicBezTo>
                  <a:cubicBezTo>
                    <a:pt x="6225" y="18425"/>
                    <a:pt x="6264" y="18460"/>
                    <a:pt x="6252" y="18505"/>
                  </a:cubicBezTo>
                  <a:cubicBezTo>
                    <a:pt x="6248" y="18522"/>
                    <a:pt x="6238" y="18543"/>
                    <a:pt x="6234" y="18561"/>
                  </a:cubicBezTo>
                  <a:cubicBezTo>
                    <a:pt x="6234" y="18573"/>
                    <a:pt x="6234" y="18590"/>
                    <a:pt x="6238" y="18605"/>
                  </a:cubicBezTo>
                  <a:cubicBezTo>
                    <a:pt x="6248" y="18646"/>
                    <a:pt x="6268" y="18697"/>
                    <a:pt x="6287" y="18735"/>
                  </a:cubicBezTo>
                  <a:cubicBezTo>
                    <a:pt x="6296" y="18759"/>
                    <a:pt x="6312" y="18782"/>
                    <a:pt x="6301" y="18809"/>
                  </a:cubicBezTo>
                  <a:cubicBezTo>
                    <a:pt x="6326" y="18821"/>
                    <a:pt x="6340" y="18853"/>
                    <a:pt x="6349" y="18883"/>
                  </a:cubicBezTo>
                  <a:cubicBezTo>
                    <a:pt x="6353" y="18901"/>
                    <a:pt x="6360" y="18927"/>
                    <a:pt x="6360" y="18951"/>
                  </a:cubicBezTo>
                  <a:cubicBezTo>
                    <a:pt x="6370" y="19025"/>
                    <a:pt x="6402" y="19087"/>
                    <a:pt x="6436" y="19143"/>
                  </a:cubicBezTo>
                  <a:cubicBezTo>
                    <a:pt x="6445" y="19155"/>
                    <a:pt x="6450" y="19170"/>
                    <a:pt x="6450" y="19188"/>
                  </a:cubicBezTo>
                  <a:cubicBezTo>
                    <a:pt x="6450" y="19205"/>
                    <a:pt x="6436" y="19232"/>
                    <a:pt x="6441" y="19250"/>
                  </a:cubicBezTo>
                  <a:cubicBezTo>
                    <a:pt x="6450" y="19285"/>
                    <a:pt x="6503" y="19267"/>
                    <a:pt x="6519" y="19306"/>
                  </a:cubicBezTo>
                  <a:cubicBezTo>
                    <a:pt x="6528" y="19329"/>
                    <a:pt x="6514" y="19353"/>
                    <a:pt x="6510" y="19380"/>
                  </a:cubicBezTo>
                  <a:cubicBezTo>
                    <a:pt x="6503" y="19409"/>
                    <a:pt x="6514" y="19436"/>
                    <a:pt x="6519" y="19465"/>
                  </a:cubicBezTo>
                  <a:cubicBezTo>
                    <a:pt x="6533" y="19528"/>
                    <a:pt x="6551" y="19596"/>
                    <a:pt x="6595" y="19640"/>
                  </a:cubicBezTo>
                  <a:cubicBezTo>
                    <a:pt x="6606" y="19646"/>
                    <a:pt x="6616" y="19658"/>
                    <a:pt x="6616" y="19669"/>
                  </a:cubicBezTo>
                  <a:cubicBezTo>
                    <a:pt x="6620" y="19684"/>
                    <a:pt x="6616" y="19702"/>
                    <a:pt x="6616" y="19714"/>
                  </a:cubicBezTo>
                  <a:cubicBezTo>
                    <a:pt x="6606" y="19776"/>
                    <a:pt x="6616" y="19838"/>
                    <a:pt x="6625" y="19900"/>
                  </a:cubicBezTo>
                  <a:cubicBezTo>
                    <a:pt x="6629" y="19933"/>
                    <a:pt x="6634" y="19956"/>
                    <a:pt x="6639" y="19986"/>
                  </a:cubicBezTo>
                  <a:cubicBezTo>
                    <a:pt x="6648" y="20036"/>
                    <a:pt x="6652" y="20086"/>
                    <a:pt x="6682" y="20125"/>
                  </a:cubicBezTo>
                  <a:cubicBezTo>
                    <a:pt x="6701" y="20148"/>
                    <a:pt x="6721" y="20160"/>
                    <a:pt x="6744" y="20166"/>
                  </a:cubicBezTo>
                  <a:cubicBezTo>
                    <a:pt x="6779" y="20178"/>
                    <a:pt x="6818" y="20187"/>
                    <a:pt x="6853" y="20178"/>
                  </a:cubicBezTo>
                  <a:cubicBezTo>
                    <a:pt x="6862" y="20178"/>
                    <a:pt x="6871" y="20178"/>
                    <a:pt x="6880" y="20166"/>
                  </a:cubicBezTo>
                  <a:cubicBezTo>
                    <a:pt x="6899" y="20148"/>
                    <a:pt x="6896" y="20113"/>
                    <a:pt x="6910" y="20092"/>
                  </a:cubicBezTo>
                  <a:cubicBezTo>
                    <a:pt x="6926" y="20077"/>
                    <a:pt x="6954" y="20080"/>
                    <a:pt x="6968" y="20057"/>
                  </a:cubicBezTo>
                  <a:cubicBezTo>
                    <a:pt x="6977" y="20036"/>
                    <a:pt x="6972" y="20012"/>
                    <a:pt x="6972" y="19986"/>
                  </a:cubicBezTo>
                  <a:cubicBezTo>
                    <a:pt x="6977" y="19933"/>
                    <a:pt x="7030" y="19912"/>
                    <a:pt x="7060" y="19870"/>
                  </a:cubicBezTo>
                  <a:cubicBezTo>
                    <a:pt x="7096" y="19820"/>
                    <a:pt x="7103" y="19746"/>
                    <a:pt x="7117" y="19678"/>
                  </a:cubicBezTo>
                  <a:cubicBezTo>
                    <a:pt x="7122" y="19664"/>
                    <a:pt x="7122" y="19646"/>
                    <a:pt x="7126" y="19634"/>
                  </a:cubicBezTo>
                  <a:cubicBezTo>
                    <a:pt x="7135" y="19607"/>
                    <a:pt x="7152" y="19584"/>
                    <a:pt x="7165" y="19566"/>
                  </a:cubicBezTo>
                  <a:cubicBezTo>
                    <a:pt x="7184" y="19539"/>
                    <a:pt x="7204" y="19510"/>
                    <a:pt x="7218" y="19471"/>
                  </a:cubicBezTo>
                  <a:cubicBezTo>
                    <a:pt x="7227" y="19436"/>
                    <a:pt x="7232" y="19392"/>
                    <a:pt x="7214" y="19368"/>
                  </a:cubicBezTo>
                  <a:cubicBezTo>
                    <a:pt x="7204" y="19347"/>
                    <a:pt x="7184" y="19335"/>
                    <a:pt x="7175" y="19318"/>
                  </a:cubicBezTo>
                  <a:cubicBezTo>
                    <a:pt x="7152" y="19273"/>
                    <a:pt x="7165" y="19205"/>
                    <a:pt x="7156" y="19149"/>
                  </a:cubicBezTo>
                  <a:cubicBezTo>
                    <a:pt x="7156" y="19137"/>
                    <a:pt x="7140" y="19131"/>
                    <a:pt x="7140" y="19143"/>
                  </a:cubicBezTo>
                  <a:cubicBezTo>
                    <a:pt x="7126" y="19114"/>
                    <a:pt x="7126" y="19069"/>
                    <a:pt x="7140" y="19046"/>
                  </a:cubicBezTo>
                  <a:cubicBezTo>
                    <a:pt x="7152" y="19025"/>
                    <a:pt x="7170" y="19001"/>
                    <a:pt x="7161" y="18984"/>
                  </a:cubicBezTo>
                  <a:cubicBezTo>
                    <a:pt x="7161" y="18975"/>
                    <a:pt x="7156" y="18969"/>
                    <a:pt x="7152" y="18963"/>
                  </a:cubicBezTo>
                  <a:cubicBezTo>
                    <a:pt x="7145" y="18945"/>
                    <a:pt x="7165" y="18927"/>
                    <a:pt x="7179" y="18916"/>
                  </a:cubicBezTo>
                  <a:cubicBezTo>
                    <a:pt x="7227" y="18889"/>
                    <a:pt x="7280" y="18877"/>
                    <a:pt x="7324" y="18839"/>
                  </a:cubicBezTo>
                  <a:cubicBezTo>
                    <a:pt x="7333" y="18833"/>
                    <a:pt x="7338" y="18827"/>
                    <a:pt x="7349" y="18821"/>
                  </a:cubicBezTo>
                  <a:cubicBezTo>
                    <a:pt x="7354" y="18809"/>
                    <a:pt x="7359" y="18791"/>
                    <a:pt x="7363" y="18777"/>
                  </a:cubicBezTo>
                  <a:cubicBezTo>
                    <a:pt x="7372" y="18759"/>
                    <a:pt x="7391" y="18747"/>
                    <a:pt x="7402" y="18729"/>
                  </a:cubicBezTo>
                  <a:cubicBezTo>
                    <a:pt x="7407" y="18720"/>
                    <a:pt x="7407" y="18709"/>
                    <a:pt x="7411" y="18697"/>
                  </a:cubicBezTo>
                  <a:cubicBezTo>
                    <a:pt x="7416" y="18679"/>
                    <a:pt x="7430" y="18667"/>
                    <a:pt x="7446" y="18661"/>
                  </a:cubicBezTo>
                  <a:cubicBezTo>
                    <a:pt x="7460" y="18652"/>
                    <a:pt x="7478" y="18667"/>
                    <a:pt x="7487" y="18685"/>
                  </a:cubicBezTo>
                  <a:cubicBezTo>
                    <a:pt x="7487" y="18691"/>
                    <a:pt x="7494" y="18697"/>
                    <a:pt x="7499" y="18697"/>
                  </a:cubicBezTo>
                  <a:cubicBezTo>
                    <a:pt x="7503" y="18697"/>
                    <a:pt x="7503" y="18691"/>
                    <a:pt x="7508" y="18691"/>
                  </a:cubicBezTo>
                  <a:cubicBezTo>
                    <a:pt x="7536" y="18641"/>
                    <a:pt x="7561" y="18578"/>
                    <a:pt x="7600" y="18543"/>
                  </a:cubicBezTo>
                  <a:cubicBezTo>
                    <a:pt x="7614" y="18528"/>
                    <a:pt x="7628" y="18516"/>
                    <a:pt x="7637" y="18505"/>
                  </a:cubicBezTo>
                  <a:cubicBezTo>
                    <a:pt x="7648" y="18493"/>
                    <a:pt x="7658" y="18466"/>
                    <a:pt x="7658" y="18448"/>
                  </a:cubicBezTo>
                  <a:cubicBezTo>
                    <a:pt x="7658" y="18437"/>
                    <a:pt x="7653" y="18431"/>
                    <a:pt x="7653" y="18419"/>
                  </a:cubicBezTo>
                  <a:cubicBezTo>
                    <a:pt x="7653" y="18392"/>
                    <a:pt x="7667" y="18380"/>
                    <a:pt x="7681" y="18369"/>
                  </a:cubicBezTo>
                  <a:cubicBezTo>
                    <a:pt x="7701" y="18351"/>
                    <a:pt x="7715" y="18336"/>
                    <a:pt x="7733" y="18318"/>
                  </a:cubicBezTo>
                  <a:cubicBezTo>
                    <a:pt x="7733" y="18283"/>
                    <a:pt x="7768" y="18256"/>
                    <a:pt x="7798" y="18256"/>
                  </a:cubicBezTo>
                  <a:cubicBezTo>
                    <a:pt x="7825" y="18256"/>
                    <a:pt x="7865" y="18256"/>
                    <a:pt x="7883" y="18233"/>
                  </a:cubicBezTo>
                  <a:cubicBezTo>
                    <a:pt x="7899" y="18212"/>
                    <a:pt x="7906" y="18179"/>
                    <a:pt x="7917" y="18159"/>
                  </a:cubicBezTo>
                  <a:cubicBezTo>
                    <a:pt x="7934" y="18141"/>
                    <a:pt x="7952" y="18138"/>
                    <a:pt x="7966" y="18120"/>
                  </a:cubicBezTo>
                  <a:cubicBezTo>
                    <a:pt x="7980" y="18108"/>
                    <a:pt x="7984" y="18091"/>
                    <a:pt x="7991" y="18070"/>
                  </a:cubicBezTo>
                  <a:cubicBezTo>
                    <a:pt x="8000" y="18034"/>
                    <a:pt x="8014" y="18002"/>
                    <a:pt x="8023" y="17966"/>
                  </a:cubicBezTo>
                  <a:cubicBezTo>
                    <a:pt x="8023" y="17958"/>
                    <a:pt x="8028" y="17952"/>
                    <a:pt x="8023" y="17946"/>
                  </a:cubicBezTo>
                  <a:cubicBezTo>
                    <a:pt x="8023" y="17940"/>
                    <a:pt x="8014" y="17940"/>
                    <a:pt x="8014" y="17934"/>
                  </a:cubicBezTo>
                  <a:cubicBezTo>
                    <a:pt x="8005" y="17922"/>
                    <a:pt x="8000" y="17904"/>
                    <a:pt x="8009" y="17884"/>
                  </a:cubicBezTo>
                  <a:cubicBezTo>
                    <a:pt x="8014" y="17866"/>
                    <a:pt x="8023" y="17857"/>
                    <a:pt x="8032" y="17842"/>
                  </a:cubicBezTo>
                  <a:cubicBezTo>
                    <a:pt x="8044" y="17830"/>
                    <a:pt x="8049" y="17822"/>
                    <a:pt x="8058" y="17816"/>
                  </a:cubicBezTo>
                  <a:cubicBezTo>
                    <a:pt x="8072" y="17810"/>
                    <a:pt x="8088" y="17810"/>
                    <a:pt x="8101" y="17810"/>
                  </a:cubicBezTo>
                  <a:cubicBezTo>
                    <a:pt x="8145" y="17816"/>
                    <a:pt x="8189" y="17816"/>
                    <a:pt x="8230" y="17822"/>
                  </a:cubicBezTo>
                  <a:cubicBezTo>
                    <a:pt x="8260" y="17822"/>
                    <a:pt x="8290" y="17828"/>
                    <a:pt x="8318" y="17816"/>
                  </a:cubicBezTo>
                  <a:cubicBezTo>
                    <a:pt x="8334" y="17810"/>
                    <a:pt x="8348" y="17798"/>
                    <a:pt x="8361" y="17798"/>
                  </a:cubicBezTo>
                  <a:cubicBezTo>
                    <a:pt x="8382" y="17792"/>
                    <a:pt x="8405" y="17798"/>
                    <a:pt x="8423" y="17804"/>
                  </a:cubicBezTo>
                  <a:cubicBezTo>
                    <a:pt x="8444" y="17810"/>
                    <a:pt x="8467" y="17810"/>
                    <a:pt x="8488" y="17804"/>
                  </a:cubicBezTo>
                  <a:cubicBezTo>
                    <a:pt x="8502" y="17804"/>
                    <a:pt x="8511" y="17798"/>
                    <a:pt x="8520" y="17792"/>
                  </a:cubicBezTo>
                  <a:cubicBezTo>
                    <a:pt x="8532" y="17780"/>
                    <a:pt x="8532" y="17760"/>
                    <a:pt x="8536" y="17748"/>
                  </a:cubicBezTo>
                  <a:cubicBezTo>
                    <a:pt x="8550" y="17712"/>
                    <a:pt x="8589" y="17697"/>
                    <a:pt x="8617" y="17697"/>
                  </a:cubicBezTo>
                  <a:cubicBezTo>
                    <a:pt x="8633" y="17697"/>
                    <a:pt x="8647" y="17692"/>
                    <a:pt x="8656" y="17703"/>
                  </a:cubicBezTo>
                  <a:cubicBezTo>
                    <a:pt x="8665" y="17712"/>
                    <a:pt x="8670" y="17718"/>
                    <a:pt x="8674" y="17730"/>
                  </a:cubicBezTo>
                  <a:cubicBezTo>
                    <a:pt x="8695" y="17760"/>
                    <a:pt x="8709" y="17792"/>
                    <a:pt x="8718" y="17822"/>
                  </a:cubicBezTo>
                  <a:cubicBezTo>
                    <a:pt x="8722" y="17836"/>
                    <a:pt x="8729" y="17854"/>
                    <a:pt x="8718" y="17866"/>
                  </a:cubicBezTo>
                  <a:cubicBezTo>
                    <a:pt x="8713" y="17872"/>
                    <a:pt x="8704" y="17878"/>
                    <a:pt x="8695" y="17884"/>
                  </a:cubicBezTo>
                  <a:cubicBezTo>
                    <a:pt x="8656" y="17910"/>
                    <a:pt x="8656" y="17990"/>
                    <a:pt x="8690" y="18014"/>
                  </a:cubicBezTo>
                  <a:cubicBezTo>
                    <a:pt x="8704" y="18029"/>
                    <a:pt x="8722" y="18029"/>
                    <a:pt x="8739" y="18034"/>
                  </a:cubicBezTo>
                  <a:cubicBezTo>
                    <a:pt x="8766" y="18046"/>
                    <a:pt x="8787" y="18082"/>
                    <a:pt x="8791" y="18120"/>
                  </a:cubicBezTo>
                  <a:cubicBezTo>
                    <a:pt x="8791" y="18138"/>
                    <a:pt x="8791" y="18150"/>
                    <a:pt x="8801" y="18165"/>
                  </a:cubicBezTo>
                  <a:cubicBezTo>
                    <a:pt x="8810" y="18188"/>
                    <a:pt x="8840" y="18188"/>
                    <a:pt x="8858" y="18200"/>
                  </a:cubicBezTo>
                  <a:cubicBezTo>
                    <a:pt x="8911" y="18233"/>
                    <a:pt x="8893" y="18345"/>
                    <a:pt x="8941" y="18386"/>
                  </a:cubicBezTo>
                  <a:cubicBezTo>
                    <a:pt x="8959" y="18407"/>
                    <a:pt x="8989" y="18407"/>
                    <a:pt x="9008" y="18431"/>
                  </a:cubicBezTo>
                  <a:cubicBezTo>
                    <a:pt x="9028" y="18454"/>
                    <a:pt x="9028" y="18499"/>
                    <a:pt x="9024" y="18537"/>
                  </a:cubicBezTo>
                  <a:cubicBezTo>
                    <a:pt x="9012" y="18573"/>
                    <a:pt x="9003" y="18605"/>
                    <a:pt x="8998" y="18641"/>
                  </a:cubicBezTo>
                  <a:lnTo>
                    <a:pt x="8998" y="18691"/>
                  </a:lnTo>
                  <a:cubicBezTo>
                    <a:pt x="8994" y="18709"/>
                    <a:pt x="8985" y="18720"/>
                    <a:pt x="8969" y="18720"/>
                  </a:cubicBezTo>
                  <a:cubicBezTo>
                    <a:pt x="8964" y="18729"/>
                    <a:pt x="8959" y="18720"/>
                    <a:pt x="8959" y="18729"/>
                  </a:cubicBezTo>
                  <a:cubicBezTo>
                    <a:pt x="8955" y="18765"/>
                    <a:pt x="8950" y="18803"/>
                    <a:pt x="8955" y="18833"/>
                  </a:cubicBezTo>
                  <a:cubicBezTo>
                    <a:pt x="8959" y="18871"/>
                    <a:pt x="8980" y="18901"/>
                    <a:pt x="9003" y="18916"/>
                  </a:cubicBezTo>
                  <a:cubicBezTo>
                    <a:pt x="9017" y="18921"/>
                    <a:pt x="9033" y="18927"/>
                    <a:pt x="9047" y="18927"/>
                  </a:cubicBezTo>
                  <a:cubicBezTo>
                    <a:pt x="9077" y="18933"/>
                    <a:pt x="9104" y="18933"/>
                    <a:pt x="9134" y="18939"/>
                  </a:cubicBezTo>
                  <a:cubicBezTo>
                    <a:pt x="9143" y="18907"/>
                    <a:pt x="9153" y="18877"/>
                    <a:pt x="9162" y="18853"/>
                  </a:cubicBezTo>
                  <a:cubicBezTo>
                    <a:pt x="9166" y="18845"/>
                    <a:pt x="9166" y="18833"/>
                    <a:pt x="9166" y="18827"/>
                  </a:cubicBezTo>
                  <a:cubicBezTo>
                    <a:pt x="9166" y="18815"/>
                    <a:pt x="9162" y="18803"/>
                    <a:pt x="9162" y="18791"/>
                  </a:cubicBezTo>
                  <a:cubicBezTo>
                    <a:pt x="9166" y="18777"/>
                    <a:pt x="9182" y="18771"/>
                    <a:pt x="9192" y="18771"/>
                  </a:cubicBezTo>
                  <a:cubicBezTo>
                    <a:pt x="9215" y="18771"/>
                    <a:pt x="9240" y="18777"/>
                    <a:pt x="9263" y="18771"/>
                  </a:cubicBezTo>
                  <a:cubicBezTo>
                    <a:pt x="9279" y="18765"/>
                    <a:pt x="9298" y="18753"/>
                    <a:pt x="9311" y="18753"/>
                  </a:cubicBezTo>
                  <a:cubicBezTo>
                    <a:pt x="9327" y="18747"/>
                    <a:pt x="9341" y="18753"/>
                    <a:pt x="9355" y="18753"/>
                  </a:cubicBezTo>
                  <a:cubicBezTo>
                    <a:pt x="9385" y="18753"/>
                    <a:pt x="9419" y="18759"/>
                    <a:pt x="9447" y="18759"/>
                  </a:cubicBezTo>
                  <a:cubicBezTo>
                    <a:pt x="9461" y="18791"/>
                    <a:pt x="9452" y="18833"/>
                    <a:pt x="9438" y="18865"/>
                  </a:cubicBezTo>
                  <a:cubicBezTo>
                    <a:pt x="9429" y="18901"/>
                    <a:pt x="9413" y="18939"/>
                    <a:pt x="9429" y="18969"/>
                  </a:cubicBezTo>
                  <a:cubicBezTo>
                    <a:pt x="9433" y="18984"/>
                    <a:pt x="9438" y="18989"/>
                    <a:pt x="9447" y="19001"/>
                  </a:cubicBezTo>
                  <a:cubicBezTo>
                    <a:pt x="9482" y="19063"/>
                    <a:pt x="9472" y="19155"/>
                    <a:pt x="9509" y="19211"/>
                  </a:cubicBezTo>
                  <a:cubicBezTo>
                    <a:pt x="9530" y="19238"/>
                    <a:pt x="9553" y="19256"/>
                    <a:pt x="9557" y="19285"/>
                  </a:cubicBezTo>
                  <a:cubicBezTo>
                    <a:pt x="9562" y="19329"/>
                    <a:pt x="9530" y="19362"/>
                    <a:pt x="9525" y="19403"/>
                  </a:cubicBezTo>
                  <a:lnTo>
                    <a:pt x="9525" y="19448"/>
                  </a:lnTo>
                  <a:cubicBezTo>
                    <a:pt x="9525" y="19460"/>
                    <a:pt x="9521" y="19477"/>
                    <a:pt x="9509" y="19486"/>
                  </a:cubicBezTo>
                  <a:cubicBezTo>
                    <a:pt x="9500" y="19492"/>
                    <a:pt x="9482" y="19477"/>
                    <a:pt x="9472" y="19492"/>
                  </a:cubicBezTo>
                  <a:cubicBezTo>
                    <a:pt x="9468" y="19498"/>
                    <a:pt x="9468" y="19510"/>
                    <a:pt x="9468" y="19522"/>
                  </a:cubicBezTo>
                  <a:cubicBezTo>
                    <a:pt x="9472" y="19560"/>
                    <a:pt x="9482" y="19596"/>
                    <a:pt x="9486" y="19634"/>
                  </a:cubicBezTo>
                  <a:cubicBezTo>
                    <a:pt x="9491" y="19658"/>
                    <a:pt x="9495" y="19684"/>
                    <a:pt x="9509" y="19696"/>
                  </a:cubicBezTo>
                  <a:cubicBezTo>
                    <a:pt x="9525" y="19708"/>
                    <a:pt x="9553" y="19702"/>
                    <a:pt x="9553" y="19678"/>
                  </a:cubicBezTo>
                  <a:cubicBezTo>
                    <a:pt x="9569" y="19708"/>
                    <a:pt x="9557" y="19758"/>
                    <a:pt x="9530" y="19770"/>
                  </a:cubicBezTo>
                  <a:cubicBezTo>
                    <a:pt x="9500" y="19838"/>
                    <a:pt x="9525" y="19933"/>
                    <a:pt x="9521" y="20012"/>
                  </a:cubicBezTo>
                  <a:cubicBezTo>
                    <a:pt x="9521" y="20048"/>
                    <a:pt x="9509" y="20086"/>
                    <a:pt x="9530" y="20110"/>
                  </a:cubicBezTo>
                  <a:cubicBezTo>
                    <a:pt x="9534" y="20116"/>
                    <a:pt x="9539" y="20125"/>
                    <a:pt x="9539" y="20131"/>
                  </a:cubicBezTo>
                  <a:cubicBezTo>
                    <a:pt x="9548" y="20148"/>
                    <a:pt x="9539" y="20175"/>
                    <a:pt x="9539" y="20193"/>
                  </a:cubicBezTo>
                  <a:cubicBezTo>
                    <a:pt x="9539" y="20213"/>
                    <a:pt x="9548" y="20222"/>
                    <a:pt x="9557" y="20240"/>
                  </a:cubicBezTo>
                  <a:cubicBezTo>
                    <a:pt x="9574" y="20273"/>
                    <a:pt x="9592" y="20302"/>
                    <a:pt x="9606" y="20335"/>
                  </a:cubicBezTo>
                  <a:cubicBezTo>
                    <a:pt x="9617" y="20352"/>
                    <a:pt x="9631" y="20382"/>
                    <a:pt x="9645" y="20397"/>
                  </a:cubicBezTo>
                  <a:cubicBezTo>
                    <a:pt x="9675" y="20435"/>
                    <a:pt x="9718" y="20459"/>
                    <a:pt x="9728" y="20515"/>
                  </a:cubicBezTo>
                  <a:cubicBezTo>
                    <a:pt x="9728" y="20521"/>
                    <a:pt x="9728" y="20533"/>
                    <a:pt x="9732" y="20539"/>
                  </a:cubicBezTo>
                  <a:cubicBezTo>
                    <a:pt x="9741" y="20556"/>
                    <a:pt x="9760" y="20550"/>
                    <a:pt x="9776" y="20556"/>
                  </a:cubicBezTo>
                  <a:cubicBezTo>
                    <a:pt x="9808" y="20565"/>
                    <a:pt x="9829" y="20613"/>
                    <a:pt x="9833" y="20657"/>
                  </a:cubicBezTo>
                  <a:cubicBezTo>
                    <a:pt x="9838" y="20701"/>
                    <a:pt x="9829" y="20743"/>
                    <a:pt x="9824" y="20787"/>
                  </a:cubicBezTo>
                  <a:cubicBezTo>
                    <a:pt x="9820" y="20831"/>
                    <a:pt x="9829" y="20882"/>
                    <a:pt x="9852" y="20905"/>
                  </a:cubicBezTo>
                  <a:cubicBezTo>
                    <a:pt x="9873" y="20923"/>
                    <a:pt x="9896" y="20929"/>
                    <a:pt x="9912" y="20961"/>
                  </a:cubicBezTo>
                  <a:cubicBezTo>
                    <a:pt x="9935" y="21003"/>
                    <a:pt x="9902" y="21080"/>
                    <a:pt x="9930" y="21115"/>
                  </a:cubicBezTo>
                  <a:cubicBezTo>
                    <a:pt x="9946" y="21136"/>
                    <a:pt x="9965" y="21136"/>
                    <a:pt x="9978" y="21142"/>
                  </a:cubicBezTo>
                  <a:cubicBezTo>
                    <a:pt x="10036" y="21159"/>
                    <a:pt x="10080" y="21222"/>
                    <a:pt x="10119" y="21278"/>
                  </a:cubicBezTo>
                  <a:cubicBezTo>
                    <a:pt x="10119" y="21295"/>
                    <a:pt x="10123" y="21307"/>
                    <a:pt x="10142" y="21319"/>
                  </a:cubicBezTo>
                  <a:cubicBezTo>
                    <a:pt x="10146" y="21328"/>
                    <a:pt x="10158" y="21328"/>
                    <a:pt x="10162" y="21334"/>
                  </a:cubicBezTo>
                  <a:cubicBezTo>
                    <a:pt x="10169" y="21340"/>
                    <a:pt x="10167" y="21346"/>
                    <a:pt x="10172" y="21352"/>
                  </a:cubicBezTo>
                  <a:cubicBezTo>
                    <a:pt x="10195" y="21402"/>
                    <a:pt x="10247" y="21426"/>
                    <a:pt x="10264" y="21482"/>
                  </a:cubicBezTo>
                  <a:cubicBezTo>
                    <a:pt x="10268" y="21499"/>
                    <a:pt x="10268" y="21520"/>
                    <a:pt x="10268" y="21532"/>
                  </a:cubicBezTo>
                  <a:cubicBezTo>
                    <a:pt x="10273" y="21567"/>
                    <a:pt x="10300" y="21594"/>
                    <a:pt x="10330" y="21600"/>
                  </a:cubicBezTo>
                  <a:cubicBezTo>
                    <a:pt x="10321" y="21562"/>
                    <a:pt x="10312" y="21526"/>
                    <a:pt x="10296" y="21482"/>
                  </a:cubicBezTo>
                  <a:cubicBezTo>
                    <a:pt x="10291" y="21470"/>
                    <a:pt x="10287" y="21452"/>
                    <a:pt x="10287" y="21437"/>
                  </a:cubicBezTo>
                  <a:cubicBezTo>
                    <a:pt x="10282" y="21408"/>
                    <a:pt x="10287" y="21375"/>
                    <a:pt x="10277" y="21346"/>
                  </a:cubicBezTo>
                  <a:cubicBezTo>
                    <a:pt x="10273" y="21328"/>
                    <a:pt x="10259" y="21313"/>
                    <a:pt x="10252" y="21295"/>
                  </a:cubicBezTo>
                  <a:cubicBezTo>
                    <a:pt x="10238" y="21266"/>
                    <a:pt x="10234" y="21222"/>
                    <a:pt x="10211" y="21204"/>
                  </a:cubicBezTo>
                  <a:cubicBezTo>
                    <a:pt x="10199" y="21198"/>
                    <a:pt x="10190" y="21189"/>
                    <a:pt x="10185" y="21177"/>
                  </a:cubicBezTo>
                  <a:cubicBezTo>
                    <a:pt x="10181" y="21171"/>
                    <a:pt x="10181" y="21159"/>
                    <a:pt x="10181" y="21154"/>
                  </a:cubicBezTo>
                  <a:cubicBezTo>
                    <a:pt x="10176" y="21121"/>
                    <a:pt x="10176" y="21086"/>
                    <a:pt x="10172" y="21053"/>
                  </a:cubicBezTo>
                  <a:cubicBezTo>
                    <a:pt x="10167" y="20985"/>
                    <a:pt x="10162" y="20905"/>
                    <a:pt x="10190" y="20849"/>
                  </a:cubicBezTo>
                  <a:cubicBezTo>
                    <a:pt x="10199" y="20831"/>
                    <a:pt x="10211" y="20808"/>
                    <a:pt x="10199" y="20793"/>
                  </a:cubicBezTo>
                  <a:cubicBezTo>
                    <a:pt x="10195" y="20790"/>
                    <a:pt x="10190" y="20787"/>
                    <a:pt x="10185" y="20787"/>
                  </a:cubicBezTo>
                  <a:cubicBezTo>
                    <a:pt x="10137" y="20769"/>
                    <a:pt x="10119" y="20707"/>
                    <a:pt x="10084" y="20657"/>
                  </a:cubicBezTo>
                  <a:cubicBezTo>
                    <a:pt x="10050" y="20613"/>
                    <a:pt x="10006" y="20583"/>
                    <a:pt x="9965" y="20571"/>
                  </a:cubicBezTo>
                  <a:cubicBezTo>
                    <a:pt x="9953" y="20571"/>
                    <a:pt x="9944" y="20565"/>
                    <a:pt x="9935" y="20556"/>
                  </a:cubicBezTo>
                  <a:cubicBezTo>
                    <a:pt x="9925" y="20550"/>
                    <a:pt x="9921" y="20539"/>
                    <a:pt x="9912" y="20533"/>
                  </a:cubicBezTo>
                  <a:cubicBezTo>
                    <a:pt x="9886" y="20503"/>
                    <a:pt x="9856" y="20482"/>
                    <a:pt x="9829" y="20465"/>
                  </a:cubicBezTo>
                  <a:cubicBezTo>
                    <a:pt x="9804" y="20453"/>
                    <a:pt x="9781" y="20447"/>
                    <a:pt x="9760" y="20426"/>
                  </a:cubicBezTo>
                  <a:cubicBezTo>
                    <a:pt x="9746" y="20409"/>
                    <a:pt x="9737" y="20379"/>
                    <a:pt x="9732" y="20352"/>
                  </a:cubicBezTo>
                  <a:cubicBezTo>
                    <a:pt x="9723" y="20317"/>
                    <a:pt x="9702" y="20273"/>
                    <a:pt x="9707" y="20228"/>
                  </a:cubicBezTo>
                  <a:cubicBezTo>
                    <a:pt x="9712" y="20199"/>
                    <a:pt x="9723" y="20166"/>
                    <a:pt x="9718" y="20131"/>
                  </a:cubicBezTo>
                  <a:cubicBezTo>
                    <a:pt x="9718" y="20098"/>
                    <a:pt x="9689" y="20063"/>
                    <a:pt x="9666" y="20074"/>
                  </a:cubicBezTo>
                  <a:cubicBezTo>
                    <a:pt x="9654" y="20080"/>
                    <a:pt x="9649" y="20086"/>
                    <a:pt x="9640" y="20080"/>
                  </a:cubicBezTo>
                  <a:cubicBezTo>
                    <a:pt x="9636" y="20080"/>
                    <a:pt x="9631" y="20069"/>
                    <a:pt x="9631" y="20063"/>
                  </a:cubicBezTo>
                  <a:cubicBezTo>
                    <a:pt x="9610" y="19995"/>
                    <a:pt x="9626" y="19912"/>
                    <a:pt x="9670" y="19862"/>
                  </a:cubicBezTo>
                  <a:cubicBezTo>
                    <a:pt x="9679" y="19856"/>
                    <a:pt x="9689" y="19844"/>
                    <a:pt x="9684" y="19832"/>
                  </a:cubicBezTo>
                  <a:cubicBezTo>
                    <a:pt x="9684" y="19820"/>
                    <a:pt x="9670" y="19814"/>
                    <a:pt x="9666" y="19802"/>
                  </a:cubicBezTo>
                  <a:cubicBezTo>
                    <a:pt x="9626" y="19764"/>
                    <a:pt x="9626" y="19684"/>
                    <a:pt x="9666" y="19652"/>
                  </a:cubicBezTo>
                  <a:cubicBezTo>
                    <a:pt x="9675" y="19646"/>
                    <a:pt x="9684" y="19640"/>
                    <a:pt x="9689" y="19628"/>
                  </a:cubicBezTo>
                  <a:cubicBezTo>
                    <a:pt x="9702" y="19596"/>
                    <a:pt x="9666" y="19539"/>
                    <a:pt x="9689" y="19522"/>
                  </a:cubicBezTo>
                  <a:cubicBezTo>
                    <a:pt x="9670" y="19533"/>
                    <a:pt x="9645" y="19498"/>
                    <a:pt x="9654" y="19471"/>
                  </a:cubicBezTo>
                  <a:cubicBezTo>
                    <a:pt x="9659" y="19442"/>
                    <a:pt x="9679" y="19424"/>
                    <a:pt x="9698" y="19403"/>
                  </a:cubicBezTo>
                  <a:cubicBezTo>
                    <a:pt x="9737" y="19362"/>
                    <a:pt x="9767" y="19306"/>
                    <a:pt x="9760" y="19244"/>
                  </a:cubicBezTo>
                  <a:cubicBezTo>
                    <a:pt x="9785" y="19267"/>
                    <a:pt x="9820" y="19279"/>
                    <a:pt x="9847" y="19285"/>
                  </a:cubicBezTo>
                  <a:cubicBezTo>
                    <a:pt x="9843" y="19341"/>
                    <a:pt x="9886" y="19380"/>
                    <a:pt x="9925" y="19409"/>
                  </a:cubicBezTo>
                  <a:cubicBezTo>
                    <a:pt x="9965" y="19436"/>
                    <a:pt x="10006" y="19477"/>
                    <a:pt x="10001" y="19533"/>
                  </a:cubicBezTo>
                  <a:cubicBezTo>
                    <a:pt x="10027" y="19510"/>
                    <a:pt x="10066" y="19539"/>
                    <a:pt x="10080" y="19578"/>
                  </a:cubicBezTo>
                  <a:cubicBezTo>
                    <a:pt x="10093" y="19613"/>
                    <a:pt x="10098" y="19655"/>
                    <a:pt x="10121" y="19687"/>
                  </a:cubicBezTo>
                  <a:cubicBezTo>
                    <a:pt x="10119" y="19678"/>
                    <a:pt x="10135" y="19658"/>
                    <a:pt x="10142" y="19658"/>
                  </a:cubicBezTo>
                  <a:cubicBezTo>
                    <a:pt x="10151" y="19652"/>
                    <a:pt x="10162" y="19658"/>
                    <a:pt x="10172" y="19664"/>
                  </a:cubicBezTo>
                  <a:cubicBezTo>
                    <a:pt x="10190" y="19678"/>
                    <a:pt x="10220" y="19696"/>
                    <a:pt x="10211" y="19726"/>
                  </a:cubicBezTo>
                  <a:cubicBezTo>
                    <a:pt x="10204" y="19752"/>
                    <a:pt x="10176" y="19770"/>
                    <a:pt x="10185" y="19794"/>
                  </a:cubicBezTo>
                  <a:cubicBezTo>
                    <a:pt x="10190" y="19814"/>
                    <a:pt x="10215" y="19808"/>
                    <a:pt x="10229" y="19808"/>
                  </a:cubicBezTo>
                  <a:cubicBezTo>
                    <a:pt x="10268" y="19808"/>
                    <a:pt x="10296" y="19862"/>
                    <a:pt x="10282" y="19912"/>
                  </a:cubicBezTo>
                  <a:cubicBezTo>
                    <a:pt x="10316" y="19912"/>
                    <a:pt x="10349" y="19912"/>
                    <a:pt x="10379" y="19900"/>
                  </a:cubicBezTo>
                  <a:cubicBezTo>
                    <a:pt x="10397" y="19938"/>
                    <a:pt x="10392" y="19989"/>
                    <a:pt x="10369" y="20018"/>
                  </a:cubicBezTo>
                  <a:cubicBezTo>
                    <a:pt x="10360" y="20033"/>
                    <a:pt x="10356" y="20036"/>
                    <a:pt x="10349" y="20048"/>
                  </a:cubicBezTo>
                  <a:cubicBezTo>
                    <a:pt x="10339" y="20074"/>
                    <a:pt x="10360" y="20098"/>
                    <a:pt x="10379" y="20110"/>
                  </a:cubicBezTo>
                  <a:cubicBezTo>
                    <a:pt x="10397" y="20125"/>
                    <a:pt x="10418" y="20142"/>
                    <a:pt x="10418" y="20166"/>
                  </a:cubicBezTo>
                  <a:cubicBezTo>
                    <a:pt x="10418" y="20178"/>
                    <a:pt x="10418" y="20187"/>
                    <a:pt x="10422" y="20199"/>
                  </a:cubicBezTo>
                  <a:cubicBezTo>
                    <a:pt x="10431" y="20216"/>
                    <a:pt x="10457" y="20205"/>
                    <a:pt x="10461" y="20187"/>
                  </a:cubicBezTo>
                  <a:cubicBezTo>
                    <a:pt x="10466" y="20166"/>
                    <a:pt x="10466" y="20142"/>
                    <a:pt x="10475" y="20125"/>
                  </a:cubicBezTo>
                  <a:cubicBezTo>
                    <a:pt x="10489" y="20086"/>
                    <a:pt x="10528" y="20092"/>
                    <a:pt x="10563" y="20092"/>
                  </a:cubicBezTo>
                  <a:cubicBezTo>
                    <a:pt x="10595" y="20092"/>
                    <a:pt x="10634" y="20074"/>
                    <a:pt x="10634" y="20036"/>
                  </a:cubicBezTo>
                  <a:cubicBezTo>
                    <a:pt x="10634" y="20012"/>
                    <a:pt x="10615" y="19986"/>
                    <a:pt x="10615" y="19962"/>
                  </a:cubicBezTo>
                  <a:cubicBezTo>
                    <a:pt x="10615" y="19944"/>
                    <a:pt x="10629" y="19924"/>
                    <a:pt x="10638" y="19912"/>
                  </a:cubicBezTo>
                  <a:cubicBezTo>
                    <a:pt x="10668" y="19882"/>
                    <a:pt x="10696" y="19844"/>
                    <a:pt x="10735" y="19844"/>
                  </a:cubicBezTo>
                  <a:cubicBezTo>
                    <a:pt x="10744" y="19844"/>
                    <a:pt x="10760" y="19844"/>
                    <a:pt x="10770" y="19838"/>
                  </a:cubicBezTo>
                  <a:cubicBezTo>
                    <a:pt x="10788" y="19826"/>
                    <a:pt x="10793" y="19776"/>
                    <a:pt x="10818" y="19770"/>
                  </a:cubicBezTo>
                  <a:cubicBezTo>
                    <a:pt x="10832" y="19764"/>
                    <a:pt x="10852" y="19782"/>
                    <a:pt x="10871" y="19776"/>
                  </a:cubicBezTo>
                  <a:cubicBezTo>
                    <a:pt x="10901" y="19770"/>
                    <a:pt x="10905" y="19723"/>
                    <a:pt x="10928" y="19696"/>
                  </a:cubicBezTo>
                  <a:cubicBezTo>
                    <a:pt x="10954" y="19672"/>
                    <a:pt x="11002" y="19684"/>
                    <a:pt x="11006" y="19646"/>
                  </a:cubicBezTo>
                  <a:cubicBezTo>
                    <a:pt x="11016" y="19601"/>
                    <a:pt x="10954" y="19590"/>
                    <a:pt x="10942" y="19545"/>
                  </a:cubicBezTo>
                  <a:cubicBezTo>
                    <a:pt x="10937" y="19533"/>
                    <a:pt x="10937" y="19522"/>
                    <a:pt x="10942" y="19504"/>
                  </a:cubicBezTo>
                  <a:cubicBezTo>
                    <a:pt x="10949" y="19442"/>
                    <a:pt x="10954" y="19374"/>
                    <a:pt x="10981" y="19324"/>
                  </a:cubicBezTo>
                  <a:cubicBezTo>
                    <a:pt x="10986" y="19318"/>
                    <a:pt x="10990" y="19306"/>
                    <a:pt x="10997" y="19300"/>
                  </a:cubicBezTo>
                  <a:cubicBezTo>
                    <a:pt x="11002" y="19267"/>
                    <a:pt x="10977" y="19244"/>
                    <a:pt x="10963" y="19223"/>
                  </a:cubicBezTo>
                  <a:cubicBezTo>
                    <a:pt x="10928" y="19170"/>
                    <a:pt x="10949" y="19087"/>
                    <a:pt x="10914" y="19031"/>
                  </a:cubicBezTo>
                  <a:lnTo>
                    <a:pt x="10901" y="19013"/>
                  </a:lnTo>
                  <a:cubicBezTo>
                    <a:pt x="10894" y="19007"/>
                    <a:pt x="10885" y="19007"/>
                    <a:pt x="10880" y="19007"/>
                  </a:cubicBezTo>
                  <a:cubicBezTo>
                    <a:pt x="10866" y="19001"/>
                    <a:pt x="10857" y="18984"/>
                    <a:pt x="10852" y="18969"/>
                  </a:cubicBezTo>
                  <a:cubicBezTo>
                    <a:pt x="10804" y="18877"/>
                    <a:pt x="10751" y="18797"/>
                    <a:pt x="10696" y="18714"/>
                  </a:cubicBezTo>
                  <a:lnTo>
                    <a:pt x="10668" y="18679"/>
                  </a:lnTo>
                  <a:cubicBezTo>
                    <a:pt x="10648" y="18667"/>
                    <a:pt x="10629" y="18667"/>
                    <a:pt x="10611" y="18652"/>
                  </a:cubicBezTo>
                  <a:cubicBezTo>
                    <a:pt x="10581" y="18635"/>
                    <a:pt x="10572" y="18584"/>
                    <a:pt x="10567" y="18543"/>
                  </a:cubicBezTo>
                  <a:cubicBezTo>
                    <a:pt x="10563" y="18499"/>
                    <a:pt x="10546" y="18454"/>
                    <a:pt x="10514" y="18442"/>
                  </a:cubicBezTo>
                  <a:cubicBezTo>
                    <a:pt x="10505" y="18442"/>
                    <a:pt x="10498" y="18442"/>
                    <a:pt x="10489" y="18437"/>
                  </a:cubicBezTo>
                  <a:cubicBezTo>
                    <a:pt x="10480" y="18425"/>
                    <a:pt x="10484" y="18407"/>
                    <a:pt x="10489" y="18392"/>
                  </a:cubicBezTo>
                  <a:cubicBezTo>
                    <a:pt x="10505" y="18345"/>
                    <a:pt x="10519" y="18289"/>
                    <a:pt x="10533" y="18238"/>
                  </a:cubicBezTo>
                  <a:cubicBezTo>
                    <a:pt x="10542" y="18212"/>
                    <a:pt x="10553" y="18182"/>
                    <a:pt x="10572" y="18170"/>
                  </a:cubicBezTo>
                  <a:cubicBezTo>
                    <a:pt x="10581" y="18165"/>
                    <a:pt x="10595" y="18170"/>
                    <a:pt x="10606" y="18165"/>
                  </a:cubicBezTo>
                  <a:cubicBezTo>
                    <a:pt x="10638" y="18150"/>
                    <a:pt x="10643" y="18097"/>
                    <a:pt x="10643" y="18052"/>
                  </a:cubicBezTo>
                  <a:cubicBezTo>
                    <a:pt x="10678" y="18034"/>
                    <a:pt x="10717" y="18014"/>
                    <a:pt x="10751" y="18002"/>
                  </a:cubicBezTo>
                  <a:cubicBezTo>
                    <a:pt x="10793" y="17984"/>
                    <a:pt x="10836" y="17958"/>
                    <a:pt x="10880" y="17940"/>
                  </a:cubicBezTo>
                  <a:cubicBezTo>
                    <a:pt x="10885" y="17940"/>
                    <a:pt x="10889" y="17934"/>
                    <a:pt x="10901" y="17934"/>
                  </a:cubicBezTo>
                  <a:cubicBezTo>
                    <a:pt x="10914" y="17940"/>
                    <a:pt x="10919" y="17972"/>
                    <a:pt x="10937" y="17972"/>
                  </a:cubicBezTo>
                  <a:cubicBezTo>
                    <a:pt x="10958" y="17978"/>
                    <a:pt x="10967" y="17940"/>
                    <a:pt x="10986" y="17940"/>
                  </a:cubicBezTo>
                  <a:cubicBezTo>
                    <a:pt x="10990" y="17940"/>
                    <a:pt x="10997" y="17940"/>
                    <a:pt x="11002" y="17946"/>
                  </a:cubicBezTo>
                  <a:cubicBezTo>
                    <a:pt x="11043" y="17978"/>
                    <a:pt x="11055" y="18064"/>
                    <a:pt x="11016" y="18102"/>
                  </a:cubicBezTo>
                  <a:cubicBezTo>
                    <a:pt x="11029" y="18126"/>
                    <a:pt x="11050" y="18159"/>
                    <a:pt x="11064" y="18182"/>
                  </a:cubicBezTo>
                  <a:cubicBezTo>
                    <a:pt x="11039" y="18212"/>
                    <a:pt x="11002" y="18227"/>
                    <a:pt x="10963" y="18238"/>
                  </a:cubicBezTo>
                  <a:cubicBezTo>
                    <a:pt x="10928" y="18250"/>
                    <a:pt x="10889" y="18283"/>
                    <a:pt x="10885" y="18330"/>
                  </a:cubicBezTo>
                  <a:cubicBezTo>
                    <a:pt x="10885" y="18351"/>
                    <a:pt x="10889" y="18374"/>
                    <a:pt x="10885" y="18392"/>
                  </a:cubicBezTo>
                  <a:cubicBezTo>
                    <a:pt x="10880" y="18413"/>
                    <a:pt x="10875" y="18425"/>
                    <a:pt x="10871" y="18437"/>
                  </a:cubicBezTo>
                  <a:cubicBezTo>
                    <a:pt x="10866" y="18454"/>
                    <a:pt x="10871" y="18475"/>
                    <a:pt x="10880" y="18481"/>
                  </a:cubicBezTo>
                  <a:cubicBezTo>
                    <a:pt x="10894" y="18487"/>
                    <a:pt x="10910" y="18466"/>
                    <a:pt x="10928" y="18460"/>
                  </a:cubicBezTo>
                  <a:cubicBezTo>
                    <a:pt x="10954" y="18454"/>
                    <a:pt x="10977" y="18487"/>
                    <a:pt x="11002" y="18487"/>
                  </a:cubicBezTo>
                  <a:cubicBezTo>
                    <a:pt x="11055" y="18487"/>
                    <a:pt x="11064" y="18374"/>
                    <a:pt x="11112" y="18357"/>
                  </a:cubicBezTo>
                  <a:cubicBezTo>
                    <a:pt x="11131" y="18351"/>
                    <a:pt x="11151" y="18357"/>
                    <a:pt x="11170" y="18351"/>
                  </a:cubicBezTo>
                  <a:cubicBezTo>
                    <a:pt x="11209" y="18330"/>
                    <a:pt x="11209" y="18262"/>
                    <a:pt x="11188" y="18221"/>
                  </a:cubicBezTo>
                  <a:cubicBezTo>
                    <a:pt x="11174" y="18176"/>
                    <a:pt x="11147" y="18126"/>
                    <a:pt x="11151" y="18076"/>
                  </a:cubicBezTo>
                  <a:cubicBezTo>
                    <a:pt x="11151" y="18058"/>
                    <a:pt x="11161" y="18034"/>
                    <a:pt x="11179" y="18029"/>
                  </a:cubicBezTo>
                  <a:cubicBezTo>
                    <a:pt x="11188" y="18020"/>
                    <a:pt x="11204" y="18029"/>
                    <a:pt x="11209" y="18014"/>
                  </a:cubicBezTo>
                  <a:cubicBezTo>
                    <a:pt x="11218" y="17996"/>
                    <a:pt x="11188" y="17966"/>
                    <a:pt x="11200" y="17946"/>
                  </a:cubicBezTo>
                  <a:cubicBezTo>
                    <a:pt x="11204" y="17934"/>
                    <a:pt x="11213" y="17934"/>
                    <a:pt x="11223" y="17928"/>
                  </a:cubicBezTo>
                  <a:cubicBezTo>
                    <a:pt x="11271" y="17916"/>
                    <a:pt x="11324" y="17910"/>
                    <a:pt x="11372" y="17904"/>
                  </a:cubicBezTo>
                  <a:cubicBezTo>
                    <a:pt x="11407" y="17896"/>
                    <a:pt x="11430" y="17872"/>
                    <a:pt x="11464" y="17854"/>
                  </a:cubicBezTo>
                  <a:cubicBezTo>
                    <a:pt x="11473" y="17848"/>
                    <a:pt x="11478" y="17848"/>
                    <a:pt x="11487" y="17842"/>
                  </a:cubicBezTo>
                  <a:cubicBezTo>
                    <a:pt x="11503" y="17836"/>
                    <a:pt x="11522" y="17822"/>
                    <a:pt x="11535" y="17816"/>
                  </a:cubicBezTo>
                  <a:cubicBezTo>
                    <a:pt x="11570" y="17792"/>
                    <a:pt x="11600" y="17748"/>
                    <a:pt x="11627" y="17718"/>
                  </a:cubicBezTo>
                  <a:cubicBezTo>
                    <a:pt x="11662" y="17686"/>
                    <a:pt x="11706" y="17668"/>
                    <a:pt x="11740" y="17692"/>
                  </a:cubicBezTo>
                  <a:cubicBezTo>
                    <a:pt x="11749" y="17697"/>
                    <a:pt x="11754" y="17712"/>
                    <a:pt x="11763" y="17712"/>
                  </a:cubicBezTo>
                  <a:cubicBezTo>
                    <a:pt x="11772" y="17718"/>
                    <a:pt x="11788" y="17712"/>
                    <a:pt x="11802" y="17712"/>
                  </a:cubicBezTo>
                  <a:cubicBezTo>
                    <a:pt x="11837" y="17703"/>
                    <a:pt x="11869" y="17686"/>
                    <a:pt x="11899" y="17668"/>
                  </a:cubicBezTo>
                  <a:cubicBezTo>
                    <a:pt x="11917" y="17656"/>
                    <a:pt x="11938" y="17641"/>
                    <a:pt x="11938" y="17618"/>
                  </a:cubicBezTo>
                  <a:cubicBezTo>
                    <a:pt x="11938" y="17606"/>
                    <a:pt x="11931" y="17594"/>
                    <a:pt x="11938" y="17579"/>
                  </a:cubicBezTo>
                  <a:cubicBezTo>
                    <a:pt x="11943" y="17556"/>
                    <a:pt x="11966" y="17544"/>
                    <a:pt x="11986" y="17538"/>
                  </a:cubicBezTo>
                  <a:cubicBezTo>
                    <a:pt x="12053" y="17511"/>
                    <a:pt x="12117" y="17467"/>
                    <a:pt x="12163" y="17402"/>
                  </a:cubicBezTo>
                  <a:cubicBezTo>
                    <a:pt x="12175" y="17390"/>
                    <a:pt x="12184" y="17375"/>
                    <a:pt x="12184" y="17363"/>
                  </a:cubicBezTo>
                  <a:cubicBezTo>
                    <a:pt x="12184" y="17352"/>
                    <a:pt x="12177" y="17340"/>
                    <a:pt x="12184" y="17334"/>
                  </a:cubicBezTo>
                  <a:cubicBezTo>
                    <a:pt x="12189" y="17319"/>
                    <a:pt x="12198" y="17313"/>
                    <a:pt x="12202" y="17307"/>
                  </a:cubicBezTo>
                  <a:cubicBezTo>
                    <a:pt x="12237" y="17284"/>
                    <a:pt x="12274" y="17257"/>
                    <a:pt x="12313" y="17239"/>
                  </a:cubicBezTo>
                  <a:cubicBezTo>
                    <a:pt x="12329" y="17233"/>
                    <a:pt x="12347" y="17221"/>
                    <a:pt x="12357" y="17204"/>
                  </a:cubicBezTo>
                  <a:cubicBezTo>
                    <a:pt x="12366" y="17183"/>
                    <a:pt x="12366" y="17153"/>
                    <a:pt x="12347" y="17148"/>
                  </a:cubicBezTo>
                  <a:cubicBezTo>
                    <a:pt x="12343" y="17148"/>
                    <a:pt x="12338" y="17142"/>
                    <a:pt x="12334" y="17142"/>
                  </a:cubicBezTo>
                  <a:cubicBezTo>
                    <a:pt x="12329" y="17133"/>
                    <a:pt x="12329" y="17115"/>
                    <a:pt x="12334" y="17103"/>
                  </a:cubicBezTo>
                  <a:cubicBezTo>
                    <a:pt x="12343" y="17071"/>
                    <a:pt x="12352" y="17041"/>
                    <a:pt x="12375" y="17023"/>
                  </a:cubicBezTo>
                  <a:cubicBezTo>
                    <a:pt x="12391" y="17003"/>
                    <a:pt x="12410" y="16997"/>
                    <a:pt x="12423" y="16979"/>
                  </a:cubicBezTo>
                  <a:cubicBezTo>
                    <a:pt x="12453" y="16935"/>
                    <a:pt x="12435" y="16849"/>
                    <a:pt x="12472" y="16811"/>
                  </a:cubicBezTo>
                  <a:cubicBezTo>
                    <a:pt x="12492" y="16793"/>
                    <a:pt x="12518" y="16799"/>
                    <a:pt x="12536" y="16793"/>
                  </a:cubicBezTo>
                  <a:cubicBezTo>
                    <a:pt x="12557" y="16787"/>
                    <a:pt x="12584" y="16781"/>
                    <a:pt x="12589" y="16748"/>
                  </a:cubicBezTo>
                  <a:cubicBezTo>
                    <a:pt x="12594" y="16737"/>
                    <a:pt x="12589" y="16719"/>
                    <a:pt x="12589" y="16701"/>
                  </a:cubicBezTo>
                  <a:cubicBezTo>
                    <a:pt x="12594" y="16651"/>
                    <a:pt x="12651" y="16618"/>
                    <a:pt x="12651" y="16562"/>
                  </a:cubicBezTo>
                  <a:cubicBezTo>
                    <a:pt x="12651" y="16539"/>
                    <a:pt x="12633" y="16509"/>
                    <a:pt x="12642" y="16482"/>
                  </a:cubicBezTo>
                  <a:cubicBezTo>
                    <a:pt x="12646" y="16471"/>
                    <a:pt x="12656" y="16459"/>
                    <a:pt x="12660" y="16453"/>
                  </a:cubicBezTo>
                  <a:cubicBezTo>
                    <a:pt x="12690" y="16408"/>
                    <a:pt x="12686" y="16340"/>
                    <a:pt x="12676" y="16284"/>
                  </a:cubicBezTo>
                  <a:cubicBezTo>
                    <a:pt x="12676" y="16272"/>
                    <a:pt x="12669" y="16264"/>
                    <a:pt x="12665" y="16255"/>
                  </a:cubicBezTo>
                  <a:cubicBezTo>
                    <a:pt x="12660" y="16249"/>
                    <a:pt x="12651" y="16246"/>
                    <a:pt x="12646" y="16246"/>
                  </a:cubicBezTo>
                  <a:cubicBezTo>
                    <a:pt x="12637" y="16240"/>
                    <a:pt x="12633" y="16222"/>
                    <a:pt x="12633" y="16210"/>
                  </a:cubicBezTo>
                  <a:cubicBezTo>
                    <a:pt x="12633" y="16160"/>
                    <a:pt x="12665" y="16116"/>
                    <a:pt x="12676" y="16068"/>
                  </a:cubicBezTo>
                  <a:cubicBezTo>
                    <a:pt x="12690" y="15992"/>
                    <a:pt x="12646" y="15924"/>
                    <a:pt x="12603" y="15876"/>
                  </a:cubicBezTo>
                  <a:cubicBezTo>
                    <a:pt x="12603" y="15826"/>
                    <a:pt x="12545" y="15814"/>
                    <a:pt x="12531" y="15770"/>
                  </a:cubicBezTo>
                  <a:cubicBezTo>
                    <a:pt x="12527" y="15752"/>
                    <a:pt x="12527" y="15731"/>
                    <a:pt x="12520" y="15708"/>
                  </a:cubicBezTo>
                  <a:cubicBezTo>
                    <a:pt x="12511" y="15640"/>
                    <a:pt x="12458" y="15595"/>
                    <a:pt x="12453" y="15527"/>
                  </a:cubicBezTo>
                  <a:cubicBezTo>
                    <a:pt x="12453" y="15510"/>
                    <a:pt x="12458" y="15492"/>
                    <a:pt x="12453" y="15477"/>
                  </a:cubicBezTo>
                  <a:cubicBezTo>
                    <a:pt x="12444" y="15442"/>
                    <a:pt x="12396" y="15448"/>
                    <a:pt x="12366" y="15436"/>
                  </a:cubicBezTo>
                  <a:cubicBezTo>
                    <a:pt x="12329" y="15421"/>
                    <a:pt x="12299" y="15385"/>
                    <a:pt x="12290" y="15335"/>
                  </a:cubicBezTo>
                  <a:cubicBezTo>
                    <a:pt x="12285" y="15285"/>
                    <a:pt x="12304" y="15238"/>
                    <a:pt x="12338" y="15211"/>
                  </a:cubicBezTo>
                  <a:cubicBezTo>
                    <a:pt x="12366" y="15193"/>
                    <a:pt x="12410" y="15181"/>
                    <a:pt x="12410" y="15137"/>
                  </a:cubicBezTo>
                  <a:cubicBezTo>
                    <a:pt x="12410" y="15125"/>
                    <a:pt x="12405" y="15113"/>
                    <a:pt x="12410" y="15099"/>
                  </a:cubicBezTo>
                  <a:cubicBezTo>
                    <a:pt x="12414" y="15087"/>
                    <a:pt x="12423" y="15081"/>
                    <a:pt x="12435" y="15081"/>
                  </a:cubicBezTo>
                  <a:cubicBezTo>
                    <a:pt x="12449" y="15075"/>
                    <a:pt x="12462" y="15069"/>
                    <a:pt x="12483" y="15069"/>
                  </a:cubicBezTo>
                  <a:cubicBezTo>
                    <a:pt x="12492" y="15063"/>
                    <a:pt x="12506" y="15063"/>
                    <a:pt x="12515" y="15051"/>
                  </a:cubicBezTo>
                  <a:cubicBezTo>
                    <a:pt x="12527" y="15037"/>
                    <a:pt x="12531" y="15019"/>
                    <a:pt x="12536" y="15007"/>
                  </a:cubicBezTo>
                  <a:cubicBezTo>
                    <a:pt x="12554" y="14963"/>
                    <a:pt x="12603" y="14951"/>
                    <a:pt x="12642" y="14957"/>
                  </a:cubicBezTo>
                  <a:cubicBezTo>
                    <a:pt x="12660" y="14963"/>
                    <a:pt x="12681" y="14969"/>
                    <a:pt x="12699" y="14963"/>
                  </a:cubicBezTo>
                  <a:cubicBezTo>
                    <a:pt x="12718" y="14963"/>
                    <a:pt x="12738" y="14951"/>
                    <a:pt x="12748" y="14927"/>
                  </a:cubicBezTo>
                  <a:cubicBezTo>
                    <a:pt x="12752" y="14901"/>
                    <a:pt x="12738" y="14871"/>
                    <a:pt x="12718" y="14877"/>
                  </a:cubicBezTo>
                  <a:cubicBezTo>
                    <a:pt x="12729" y="14850"/>
                    <a:pt x="12743" y="14833"/>
                    <a:pt x="12752" y="14809"/>
                  </a:cubicBezTo>
                  <a:cubicBezTo>
                    <a:pt x="12718" y="14771"/>
                    <a:pt x="12669" y="14765"/>
                    <a:pt x="12633" y="14782"/>
                  </a:cubicBezTo>
                  <a:cubicBezTo>
                    <a:pt x="12617" y="14788"/>
                    <a:pt x="12603" y="14803"/>
                    <a:pt x="12589" y="14797"/>
                  </a:cubicBezTo>
                  <a:cubicBezTo>
                    <a:pt x="12568" y="14788"/>
                    <a:pt x="12554" y="14765"/>
                    <a:pt x="12541" y="14741"/>
                  </a:cubicBezTo>
                  <a:cubicBezTo>
                    <a:pt x="12515" y="14708"/>
                    <a:pt x="12479" y="14697"/>
                    <a:pt x="12449" y="14714"/>
                  </a:cubicBezTo>
                  <a:cubicBezTo>
                    <a:pt x="12419" y="14735"/>
                    <a:pt x="12396" y="14776"/>
                    <a:pt x="12400" y="14821"/>
                  </a:cubicBezTo>
                  <a:cubicBezTo>
                    <a:pt x="12375" y="14844"/>
                    <a:pt x="12347" y="14865"/>
                    <a:pt x="12317" y="14865"/>
                  </a:cubicBezTo>
                  <a:cubicBezTo>
                    <a:pt x="12290" y="14865"/>
                    <a:pt x="12255" y="14827"/>
                    <a:pt x="12265" y="14788"/>
                  </a:cubicBezTo>
                  <a:cubicBezTo>
                    <a:pt x="12290" y="14815"/>
                    <a:pt x="12334" y="14776"/>
                    <a:pt x="12329" y="14735"/>
                  </a:cubicBezTo>
                  <a:cubicBezTo>
                    <a:pt x="12317" y="14697"/>
                    <a:pt x="12269" y="14685"/>
                    <a:pt x="12251" y="14714"/>
                  </a:cubicBezTo>
                  <a:cubicBezTo>
                    <a:pt x="12242" y="14697"/>
                    <a:pt x="12242" y="14673"/>
                    <a:pt x="12242" y="14646"/>
                  </a:cubicBezTo>
                  <a:cubicBezTo>
                    <a:pt x="12216" y="14652"/>
                    <a:pt x="12193" y="14652"/>
                    <a:pt x="12173" y="14635"/>
                  </a:cubicBezTo>
                  <a:cubicBezTo>
                    <a:pt x="12154" y="14617"/>
                    <a:pt x="12150" y="14578"/>
                    <a:pt x="12163" y="14555"/>
                  </a:cubicBezTo>
                  <a:cubicBezTo>
                    <a:pt x="12140" y="14549"/>
                    <a:pt x="12110" y="14534"/>
                    <a:pt x="12101" y="14504"/>
                  </a:cubicBezTo>
                  <a:cubicBezTo>
                    <a:pt x="12097" y="14466"/>
                    <a:pt x="12124" y="14436"/>
                    <a:pt x="12154" y="14436"/>
                  </a:cubicBezTo>
                  <a:cubicBezTo>
                    <a:pt x="12184" y="14436"/>
                    <a:pt x="12212" y="14448"/>
                    <a:pt x="12242" y="14448"/>
                  </a:cubicBezTo>
                  <a:cubicBezTo>
                    <a:pt x="12269" y="14448"/>
                    <a:pt x="12304" y="14425"/>
                    <a:pt x="12299" y="14386"/>
                  </a:cubicBezTo>
                  <a:cubicBezTo>
                    <a:pt x="12299" y="14368"/>
                    <a:pt x="12285" y="14351"/>
                    <a:pt x="12294" y="14330"/>
                  </a:cubicBezTo>
                  <a:cubicBezTo>
                    <a:pt x="12299" y="14318"/>
                    <a:pt x="12304" y="14318"/>
                    <a:pt x="12313" y="14312"/>
                  </a:cubicBezTo>
                  <a:cubicBezTo>
                    <a:pt x="12343" y="14295"/>
                    <a:pt x="12370" y="14289"/>
                    <a:pt x="12396" y="14268"/>
                  </a:cubicBezTo>
                  <a:cubicBezTo>
                    <a:pt x="12423" y="14250"/>
                    <a:pt x="12449" y="14218"/>
                    <a:pt x="12449" y="14182"/>
                  </a:cubicBezTo>
                  <a:cubicBezTo>
                    <a:pt x="12449" y="14170"/>
                    <a:pt x="12449" y="14150"/>
                    <a:pt x="12453" y="14144"/>
                  </a:cubicBezTo>
                  <a:cubicBezTo>
                    <a:pt x="12467" y="14120"/>
                    <a:pt x="12497" y="14132"/>
                    <a:pt x="12520" y="14126"/>
                  </a:cubicBezTo>
                  <a:cubicBezTo>
                    <a:pt x="12541" y="14120"/>
                    <a:pt x="12550" y="14096"/>
                    <a:pt x="12559" y="14082"/>
                  </a:cubicBezTo>
                  <a:cubicBezTo>
                    <a:pt x="12573" y="14064"/>
                    <a:pt x="12594" y="14052"/>
                    <a:pt x="12607" y="14064"/>
                  </a:cubicBezTo>
                  <a:lnTo>
                    <a:pt x="12621" y="14082"/>
                  </a:lnTo>
                  <a:cubicBezTo>
                    <a:pt x="12633" y="14108"/>
                    <a:pt x="12646" y="14132"/>
                    <a:pt x="12646" y="14159"/>
                  </a:cubicBezTo>
                  <a:cubicBezTo>
                    <a:pt x="12646" y="14182"/>
                    <a:pt x="12628" y="14212"/>
                    <a:pt x="12607" y="14200"/>
                  </a:cubicBezTo>
                  <a:cubicBezTo>
                    <a:pt x="12598" y="14218"/>
                    <a:pt x="12628" y="14232"/>
                    <a:pt x="12633" y="14250"/>
                  </a:cubicBezTo>
                  <a:cubicBezTo>
                    <a:pt x="12637" y="14268"/>
                    <a:pt x="12621" y="14274"/>
                    <a:pt x="12612" y="14289"/>
                  </a:cubicBezTo>
                  <a:cubicBezTo>
                    <a:pt x="12584" y="14318"/>
                    <a:pt x="12568" y="14380"/>
                    <a:pt x="12584" y="14425"/>
                  </a:cubicBezTo>
                  <a:cubicBezTo>
                    <a:pt x="12589" y="14436"/>
                    <a:pt x="12594" y="14448"/>
                    <a:pt x="12589" y="14460"/>
                  </a:cubicBezTo>
                  <a:cubicBezTo>
                    <a:pt x="12584" y="14466"/>
                    <a:pt x="12580" y="14472"/>
                    <a:pt x="12580" y="14481"/>
                  </a:cubicBezTo>
                  <a:cubicBezTo>
                    <a:pt x="12573" y="14504"/>
                    <a:pt x="12603" y="14510"/>
                    <a:pt x="12617" y="14499"/>
                  </a:cubicBezTo>
                  <a:cubicBezTo>
                    <a:pt x="12676" y="14472"/>
                    <a:pt x="12725" y="14425"/>
                    <a:pt x="12766" y="14368"/>
                  </a:cubicBezTo>
                  <a:cubicBezTo>
                    <a:pt x="12778" y="14357"/>
                    <a:pt x="12787" y="14336"/>
                    <a:pt x="12805" y="14330"/>
                  </a:cubicBezTo>
                  <a:cubicBezTo>
                    <a:pt x="12835" y="14318"/>
                    <a:pt x="12874" y="14342"/>
                    <a:pt x="12902" y="14324"/>
                  </a:cubicBezTo>
                  <a:cubicBezTo>
                    <a:pt x="12916" y="14318"/>
                    <a:pt x="12922" y="14300"/>
                    <a:pt x="12936" y="14289"/>
                  </a:cubicBezTo>
                  <a:cubicBezTo>
                    <a:pt x="12959" y="14262"/>
                    <a:pt x="12994" y="14268"/>
                    <a:pt x="13024" y="14274"/>
                  </a:cubicBezTo>
                  <a:cubicBezTo>
                    <a:pt x="13033" y="14274"/>
                    <a:pt x="13042" y="14274"/>
                    <a:pt x="13047" y="14289"/>
                  </a:cubicBezTo>
                  <a:cubicBezTo>
                    <a:pt x="13051" y="14295"/>
                    <a:pt x="13056" y="14300"/>
                    <a:pt x="13056" y="14312"/>
                  </a:cubicBezTo>
                  <a:cubicBezTo>
                    <a:pt x="13072" y="14363"/>
                    <a:pt x="13081" y="14413"/>
                    <a:pt x="13095" y="14460"/>
                  </a:cubicBezTo>
                  <a:cubicBezTo>
                    <a:pt x="13100" y="14466"/>
                    <a:pt x="13100" y="14481"/>
                    <a:pt x="13095" y="14493"/>
                  </a:cubicBezTo>
                  <a:cubicBezTo>
                    <a:pt x="13090" y="14510"/>
                    <a:pt x="13065" y="14499"/>
                    <a:pt x="13056" y="14510"/>
                  </a:cubicBezTo>
                  <a:cubicBezTo>
                    <a:pt x="13042" y="14516"/>
                    <a:pt x="13042" y="14543"/>
                    <a:pt x="13042" y="14561"/>
                  </a:cubicBezTo>
                  <a:cubicBezTo>
                    <a:pt x="13042" y="14611"/>
                    <a:pt x="13042" y="14658"/>
                    <a:pt x="13065" y="14697"/>
                  </a:cubicBezTo>
                  <a:cubicBezTo>
                    <a:pt x="13090" y="14735"/>
                    <a:pt x="13148" y="14735"/>
                    <a:pt x="13157" y="14691"/>
                  </a:cubicBezTo>
                  <a:cubicBezTo>
                    <a:pt x="13173" y="14720"/>
                    <a:pt x="13196" y="14741"/>
                    <a:pt x="13226" y="14741"/>
                  </a:cubicBezTo>
                  <a:cubicBezTo>
                    <a:pt x="13210" y="14821"/>
                    <a:pt x="13221" y="14912"/>
                    <a:pt x="13254" y="14983"/>
                  </a:cubicBezTo>
                  <a:cubicBezTo>
                    <a:pt x="13263" y="15001"/>
                    <a:pt x="13274" y="15019"/>
                    <a:pt x="13274" y="15037"/>
                  </a:cubicBezTo>
                  <a:cubicBezTo>
                    <a:pt x="13274" y="15057"/>
                    <a:pt x="13270" y="15081"/>
                    <a:pt x="13274" y="15099"/>
                  </a:cubicBezTo>
                  <a:cubicBezTo>
                    <a:pt x="13279" y="15113"/>
                    <a:pt x="13288" y="15125"/>
                    <a:pt x="13288" y="15137"/>
                  </a:cubicBezTo>
                  <a:cubicBezTo>
                    <a:pt x="13297" y="15167"/>
                    <a:pt x="13274" y="15199"/>
                    <a:pt x="13254" y="15211"/>
                  </a:cubicBezTo>
                  <a:cubicBezTo>
                    <a:pt x="13231" y="15223"/>
                    <a:pt x="13205" y="15229"/>
                    <a:pt x="13187" y="15255"/>
                  </a:cubicBezTo>
                  <a:cubicBezTo>
                    <a:pt x="13157" y="15291"/>
                    <a:pt x="13169" y="15374"/>
                    <a:pt x="13125" y="15391"/>
                  </a:cubicBezTo>
                  <a:cubicBezTo>
                    <a:pt x="13169" y="15409"/>
                    <a:pt x="13205" y="15436"/>
                    <a:pt x="13249" y="15453"/>
                  </a:cubicBezTo>
                  <a:cubicBezTo>
                    <a:pt x="13263" y="15459"/>
                    <a:pt x="13279" y="15465"/>
                    <a:pt x="13293" y="15465"/>
                  </a:cubicBezTo>
                  <a:cubicBezTo>
                    <a:pt x="13318" y="15465"/>
                    <a:pt x="13341" y="15442"/>
                    <a:pt x="13366" y="15448"/>
                  </a:cubicBezTo>
                  <a:cubicBezTo>
                    <a:pt x="13376" y="15448"/>
                    <a:pt x="13385" y="15453"/>
                    <a:pt x="13394" y="15453"/>
                  </a:cubicBezTo>
                  <a:cubicBezTo>
                    <a:pt x="13424" y="15453"/>
                    <a:pt x="13433" y="15403"/>
                    <a:pt x="13451" y="15374"/>
                  </a:cubicBezTo>
                  <a:cubicBezTo>
                    <a:pt x="13477" y="15335"/>
                    <a:pt x="13520" y="15341"/>
                    <a:pt x="13557" y="15329"/>
                  </a:cubicBezTo>
                  <a:cubicBezTo>
                    <a:pt x="13596" y="15317"/>
                    <a:pt x="13635" y="15273"/>
                    <a:pt x="13617" y="15229"/>
                  </a:cubicBezTo>
                  <a:cubicBezTo>
                    <a:pt x="13612" y="15217"/>
                    <a:pt x="13601" y="15211"/>
                    <a:pt x="13596" y="15199"/>
                  </a:cubicBezTo>
                  <a:cubicBezTo>
                    <a:pt x="13587" y="15167"/>
                    <a:pt x="13612" y="15137"/>
                    <a:pt x="13626" y="15105"/>
                  </a:cubicBezTo>
                  <a:cubicBezTo>
                    <a:pt x="13654" y="15057"/>
                    <a:pt x="13658" y="14995"/>
                    <a:pt x="13649" y="14939"/>
                  </a:cubicBezTo>
                  <a:cubicBezTo>
                    <a:pt x="13640" y="14883"/>
                    <a:pt x="13626" y="14827"/>
                    <a:pt x="13606" y="14771"/>
                  </a:cubicBezTo>
                  <a:cubicBezTo>
                    <a:pt x="13592" y="14729"/>
                    <a:pt x="13573" y="14679"/>
                    <a:pt x="13539" y="14652"/>
                  </a:cubicBezTo>
                  <a:cubicBezTo>
                    <a:pt x="13525" y="14646"/>
                    <a:pt x="13509" y="14640"/>
                    <a:pt x="13500" y="14623"/>
                  </a:cubicBezTo>
                  <a:cubicBezTo>
                    <a:pt x="13477" y="14590"/>
                    <a:pt x="13500" y="14528"/>
                    <a:pt x="13477" y="14493"/>
                  </a:cubicBezTo>
                  <a:cubicBezTo>
                    <a:pt x="13461" y="14466"/>
                    <a:pt x="13433" y="14466"/>
                    <a:pt x="13419" y="14442"/>
                  </a:cubicBezTo>
                  <a:cubicBezTo>
                    <a:pt x="13403" y="14419"/>
                    <a:pt x="13403" y="14386"/>
                    <a:pt x="13389" y="14368"/>
                  </a:cubicBezTo>
                  <a:cubicBezTo>
                    <a:pt x="13385" y="14363"/>
                    <a:pt x="13376" y="14357"/>
                    <a:pt x="13371" y="14351"/>
                  </a:cubicBezTo>
                  <a:cubicBezTo>
                    <a:pt x="13359" y="14330"/>
                    <a:pt x="13371" y="14312"/>
                    <a:pt x="13380" y="14300"/>
                  </a:cubicBezTo>
                  <a:cubicBezTo>
                    <a:pt x="13394" y="14274"/>
                    <a:pt x="13415" y="14250"/>
                    <a:pt x="13438" y="14250"/>
                  </a:cubicBezTo>
                  <a:cubicBezTo>
                    <a:pt x="13447" y="14250"/>
                    <a:pt x="13461" y="14256"/>
                    <a:pt x="13472" y="14262"/>
                  </a:cubicBezTo>
                  <a:cubicBezTo>
                    <a:pt x="13520" y="14274"/>
                    <a:pt x="13564" y="14232"/>
                    <a:pt x="13596" y="14194"/>
                  </a:cubicBezTo>
                  <a:cubicBezTo>
                    <a:pt x="13606" y="14182"/>
                    <a:pt x="13596" y="14159"/>
                    <a:pt x="13587" y="14144"/>
                  </a:cubicBezTo>
                  <a:cubicBezTo>
                    <a:pt x="13583" y="14132"/>
                    <a:pt x="13578" y="14108"/>
                    <a:pt x="13587" y="14102"/>
                  </a:cubicBezTo>
                  <a:cubicBezTo>
                    <a:pt x="13596" y="14096"/>
                    <a:pt x="13608" y="14105"/>
                    <a:pt x="13612" y="14096"/>
                  </a:cubicBezTo>
                  <a:cubicBezTo>
                    <a:pt x="13619" y="14091"/>
                    <a:pt x="13622" y="14082"/>
                    <a:pt x="13622" y="14076"/>
                  </a:cubicBezTo>
                  <a:cubicBezTo>
                    <a:pt x="13658" y="13972"/>
                    <a:pt x="13675" y="13833"/>
                    <a:pt x="13746" y="13765"/>
                  </a:cubicBezTo>
                  <a:cubicBezTo>
                    <a:pt x="13750" y="13759"/>
                    <a:pt x="13755" y="13759"/>
                    <a:pt x="13755" y="13759"/>
                  </a:cubicBezTo>
                  <a:cubicBezTo>
                    <a:pt x="13762" y="13759"/>
                    <a:pt x="13767" y="13765"/>
                    <a:pt x="13767" y="13765"/>
                  </a:cubicBezTo>
                  <a:cubicBezTo>
                    <a:pt x="13785" y="13780"/>
                    <a:pt x="13810" y="13748"/>
                    <a:pt x="13819" y="13724"/>
                  </a:cubicBezTo>
                  <a:cubicBezTo>
                    <a:pt x="13847" y="13668"/>
                    <a:pt x="13882" y="13618"/>
                    <a:pt x="13925" y="13579"/>
                  </a:cubicBezTo>
                  <a:cubicBezTo>
                    <a:pt x="13944" y="13567"/>
                    <a:pt x="13964" y="13555"/>
                    <a:pt x="13983" y="13555"/>
                  </a:cubicBezTo>
                  <a:cubicBezTo>
                    <a:pt x="14001" y="13561"/>
                    <a:pt x="14022" y="13594"/>
                    <a:pt x="14013" y="13612"/>
                  </a:cubicBezTo>
                  <a:cubicBezTo>
                    <a:pt x="14008" y="13618"/>
                    <a:pt x="14008" y="13623"/>
                    <a:pt x="14001" y="13629"/>
                  </a:cubicBezTo>
                  <a:cubicBezTo>
                    <a:pt x="13992" y="13656"/>
                    <a:pt x="14013" y="13686"/>
                    <a:pt x="14031" y="13697"/>
                  </a:cubicBezTo>
                  <a:cubicBezTo>
                    <a:pt x="14066" y="13718"/>
                    <a:pt x="14098" y="13718"/>
                    <a:pt x="14132" y="13697"/>
                  </a:cubicBezTo>
                  <a:cubicBezTo>
                    <a:pt x="14146" y="13691"/>
                    <a:pt x="14162" y="13680"/>
                    <a:pt x="14176" y="13674"/>
                  </a:cubicBezTo>
                  <a:cubicBezTo>
                    <a:pt x="14210" y="13662"/>
                    <a:pt x="14247" y="13674"/>
                    <a:pt x="14277" y="13656"/>
                  </a:cubicBezTo>
                  <a:cubicBezTo>
                    <a:pt x="14312" y="13635"/>
                    <a:pt x="14330" y="13579"/>
                    <a:pt x="14339" y="13538"/>
                  </a:cubicBezTo>
                  <a:cubicBezTo>
                    <a:pt x="14348" y="13487"/>
                    <a:pt x="14360" y="13437"/>
                    <a:pt x="14388" y="13408"/>
                  </a:cubicBezTo>
                  <a:cubicBezTo>
                    <a:pt x="14397" y="13402"/>
                    <a:pt x="14404" y="13387"/>
                    <a:pt x="14404" y="13375"/>
                  </a:cubicBezTo>
                  <a:cubicBezTo>
                    <a:pt x="14404" y="13369"/>
                    <a:pt x="14397" y="13369"/>
                    <a:pt x="14397" y="13363"/>
                  </a:cubicBezTo>
                  <a:cubicBezTo>
                    <a:pt x="14392" y="13346"/>
                    <a:pt x="14399" y="13322"/>
                    <a:pt x="14408" y="13304"/>
                  </a:cubicBezTo>
                  <a:cubicBezTo>
                    <a:pt x="14420" y="13283"/>
                    <a:pt x="14431" y="13280"/>
                    <a:pt x="14445" y="13266"/>
                  </a:cubicBezTo>
                  <a:cubicBezTo>
                    <a:pt x="14519" y="13218"/>
                    <a:pt x="14590" y="13136"/>
                    <a:pt x="14606" y="13032"/>
                  </a:cubicBezTo>
                  <a:cubicBezTo>
                    <a:pt x="14668" y="12949"/>
                    <a:pt x="14726" y="12858"/>
                    <a:pt x="14788" y="12772"/>
                  </a:cubicBezTo>
                  <a:cubicBezTo>
                    <a:pt x="14799" y="12757"/>
                    <a:pt x="14804" y="12745"/>
                    <a:pt x="14804" y="12734"/>
                  </a:cubicBezTo>
                  <a:cubicBezTo>
                    <a:pt x="14804" y="12722"/>
                    <a:pt x="14799" y="12710"/>
                    <a:pt x="14792" y="12689"/>
                  </a:cubicBezTo>
                  <a:cubicBezTo>
                    <a:pt x="14783" y="12648"/>
                    <a:pt x="14804" y="12595"/>
                    <a:pt x="14827" y="12565"/>
                  </a:cubicBezTo>
                  <a:cubicBezTo>
                    <a:pt x="14852" y="12532"/>
                    <a:pt x="14884" y="12509"/>
                    <a:pt x="14914" y="12485"/>
                  </a:cubicBezTo>
                  <a:cubicBezTo>
                    <a:pt x="14923" y="12473"/>
                    <a:pt x="14933" y="12467"/>
                    <a:pt x="14937" y="12456"/>
                  </a:cubicBezTo>
                  <a:cubicBezTo>
                    <a:pt x="14953" y="12423"/>
                    <a:pt x="14944" y="12388"/>
                    <a:pt x="14953" y="12355"/>
                  </a:cubicBezTo>
                  <a:cubicBezTo>
                    <a:pt x="14967" y="12287"/>
                    <a:pt x="15045" y="12255"/>
                    <a:pt x="15059" y="12187"/>
                  </a:cubicBezTo>
                  <a:cubicBezTo>
                    <a:pt x="15064" y="12157"/>
                    <a:pt x="15055" y="12119"/>
                    <a:pt x="15050" y="12083"/>
                  </a:cubicBezTo>
                  <a:cubicBezTo>
                    <a:pt x="15034" y="11965"/>
                    <a:pt x="15094" y="11853"/>
                    <a:pt x="15078" y="11734"/>
                  </a:cubicBezTo>
                  <a:cubicBezTo>
                    <a:pt x="15073" y="11711"/>
                    <a:pt x="15068" y="11684"/>
                    <a:pt x="15073" y="11660"/>
                  </a:cubicBezTo>
                  <a:cubicBezTo>
                    <a:pt x="15078" y="11631"/>
                    <a:pt x="15098" y="11598"/>
                    <a:pt x="15087" y="11569"/>
                  </a:cubicBezTo>
                  <a:cubicBezTo>
                    <a:pt x="15082" y="11554"/>
                    <a:pt x="15078" y="11542"/>
                    <a:pt x="15073" y="11524"/>
                  </a:cubicBezTo>
                  <a:cubicBezTo>
                    <a:pt x="15068" y="11492"/>
                    <a:pt x="15087" y="11468"/>
                    <a:pt x="15107" y="11445"/>
                  </a:cubicBezTo>
                  <a:cubicBezTo>
                    <a:pt x="15126" y="11424"/>
                    <a:pt x="15142" y="11388"/>
                    <a:pt x="15130" y="11362"/>
                  </a:cubicBezTo>
                  <a:cubicBezTo>
                    <a:pt x="15126" y="11356"/>
                    <a:pt x="15121" y="11344"/>
                    <a:pt x="15117" y="11338"/>
                  </a:cubicBezTo>
                  <a:cubicBezTo>
                    <a:pt x="15107" y="11314"/>
                    <a:pt x="15130" y="11288"/>
                    <a:pt x="15147" y="11264"/>
                  </a:cubicBezTo>
                  <a:cubicBezTo>
                    <a:pt x="15170" y="11220"/>
                    <a:pt x="15156" y="11158"/>
                    <a:pt x="15160" y="11107"/>
                  </a:cubicBezTo>
                  <a:cubicBezTo>
                    <a:pt x="15165" y="11060"/>
                    <a:pt x="15183" y="11016"/>
                    <a:pt x="15204" y="10977"/>
                  </a:cubicBezTo>
                  <a:cubicBezTo>
                    <a:pt x="15174" y="10966"/>
                    <a:pt x="15170" y="10915"/>
                    <a:pt x="15156" y="10880"/>
                  </a:cubicBezTo>
                  <a:cubicBezTo>
                    <a:pt x="15135" y="10830"/>
                    <a:pt x="15098" y="10791"/>
                    <a:pt x="15059" y="10762"/>
                  </a:cubicBezTo>
                  <a:cubicBezTo>
                    <a:pt x="15029" y="10738"/>
                    <a:pt x="14981" y="10711"/>
                    <a:pt x="14958" y="10744"/>
                  </a:cubicBezTo>
                  <a:cubicBezTo>
                    <a:pt x="14958" y="10717"/>
                    <a:pt x="14944" y="10705"/>
                    <a:pt x="14923" y="10699"/>
                  </a:cubicBezTo>
                  <a:cubicBezTo>
                    <a:pt x="14905" y="10694"/>
                    <a:pt x="14889" y="10699"/>
                    <a:pt x="14871" y="10705"/>
                  </a:cubicBezTo>
                  <a:cubicBezTo>
                    <a:pt x="14848" y="10717"/>
                    <a:pt x="14818" y="10738"/>
                    <a:pt x="14804" y="10762"/>
                  </a:cubicBezTo>
                  <a:cubicBezTo>
                    <a:pt x="14792" y="10785"/>
                    <a:pt x="14788" y="10812"/>
                    <a:pt x="14779" y="10835"/>
                  </a:cubicBezTo>
                  <a:cubicBezTo>
                    <a:pt x="14774" y="10859"/>
                    <a:pt x="14760" y="10886"/>
                    <a:pt x="14739" y="10898"/>
                  </a:cubicBezTo>
                  <a:cubicBezTo>
                    <a:pt x="14721" y="10909"/>
                    <a:pt x="14691" y="10903"/>
                    <a:pt x="14687" y="10874"/>
                  </a:cubicBezTo>
                  <a:cubicBezTo>
                    <a:pt x="14682" y="10847"/>
                    <a:pt x="14698" y="10830"/>
                    <a:pt x="14707" y="10806"/>
                  </a:cubicBezTo>
                  <a:cubicBezTo>
                    <a:pt x="14716" y="10785"/>
                    <a:pt x="14721" y="10750"/>
                    <a:pt x="14703" y="10744"/>
                  </a:cubicBezTo>
                  <a:cubicBezTo>
                    <a:pt x="14721" y="10699"/>
                    <a:pt x="14673" y="10637"/>
                    <a:pt x="14638" y="10643"/>
                  </a:cubicBezTo>
                  <a:cubicBezTo>
                    <a:pt x="14634" y="10655"/>
                    <a:pt x="14634" y="10667"/>
                    <a:pt x="14629" y="10688"/>
                  </a:cubicBezTo>
                  <a:cubicBezTo>
                    <a:pt x="14606" y="10682"/>
                    <a:pt x="14615" y="10631"/>
                    <a:pt x="14601" y="10605"/>
                  </a:cubicBezTo>
                  <a:cubicBezTo>
                    <a:pt x="14590" y="10593"/>
                    <a:pt x="14576" y="10587"/>
                    <a:pt x="14562" y="10587"/>
                  </a:cubicBezTo>
                  <a:cubicBezTo>
                    <a:pt x="14519" y="10581"/>
                    <a:pt x="14475" y="10575"/>
                    <a:pt x="14431" y="10575"/>
                  </a:cubicBezTo>
                  <a:cubicBezTo>
                    <a:pt x="14408" y="10575"/>
                    <a:pt x="14378" y="10569"/>
                    <a:pt x="14365" y="10543"/>
                  </a:cubicBezTo>
                  <a:cubicBezTo>
                    <a:pt x="14344" y="10513"/>
                    <a:pt x="14355" y="10457"/>
                    <a:pt x="14383" y="10439"/>
                  </a:cubicBezTo>
                  <a:cubicBezTo>
                    <a:pt x="14408" y="10413"/>
                    <a:pt x="14445" y="10413"/>
                    <a:pt x="14475" y="10427"/>
                  </a:cubicBezTo>
                  <a:cubicBezTo>
                    <a:pt x="14480" y="10413"/>
                    <a:pt x="14484" y="10395"/>
                    <a:pt x="14489" y="10383"/>
                  </a:cubicBezTo>
                  <a:cubicBezTo>
                    <a:pt x="14470" y="10389"/>
                    <a:pt x="14457" y="10351"/>
                    <a:pt x="14461" y="10327"/>
                  </a:cubicBezTo>
                  <a:cubicBezTo>
                    <a:pt x="14470" y="10303"/>
                    <a:pt x="14493" y="10289"/>
                    <a:pt x="14514" y="10289"/>
                  </a:cubicBezTo>
                  <a:cubicBezTo>
                    <a:pt x="14532" y="10283"/>
                    <a:pt x="14558" y="10289"/>
                    <a:pt x="14576" y="10283"/>
                  </a:cubicBezTo>
                  <a:cubicBezTo>
                    <a:pt x="14638" y="10265"/>
                    <a:pt x="14664" y="10167"/>
                    <a:pt x="14682" y="10085"/>
                  </a:cubicBezTo>
                  <a:cubicBezTo>
                    <a:pt x="14707" y="10105"/>
                    <a:pt x="14737" y="10090"/>
                    <a:pt x="14756" y="10073"/>
                  </a:cubicBezTo>
                  <a:cubicBezTo>
                    <a:pt x="14776" y="10055"/>
                    <a:pt x="14783" y="10017"/>
                    <a:pt x="14792" y="9987"/>
                  </a:cubicBezTo>
                  <a:cubicBezTo>
                    <a:pt x="14804" y="9960"/>
                    <a:pt x="14813" y="9931"/>
                    <a:pt x="14822" y="9904"/>
                  </a:cubicBezTo>
                  <a:cubicBezTo>
                    <a:pt x="14827" y="9898"/>
                    <a:pt x="14827" y="9886"/>
                    <a:pt x="14831" y="9886"/>
                  </a:cubicBezTo>
                  <a:cubicBezTo>
                    <a:pt x="14848" y="9875"/>
                    <a:pt x="14861" y="9881"/>
                    <a:pt x="14875" y="9881"/>
                  </a:cubicBezTo>
                  <a:cubicBezTo>
                    <a:pt x="14910" y="9881"/>
                    <a:pt x="14933" y="9818"/>
                    <a:pt x="14910" y="9789"/>
                  </a:cubicBezTo>
                  <a:cubicBezTo>
                    <a:pt x="14944" y="9789"/>
                    <a:pt x="14981" y="9789"/>
                    <a:pt x="15006" y="9750"/>
                  </a:cubicBezTo>
                  <a:cubicBezTo>
                    <a:pt x="15025" y="9727"/>
                    <a:pt x="15029" y="9694"/>
                    <a:pt x="15038" y="9665"/>
                  </a:cubicBezTo>
                  <a:cubicBezTo>
                    <a:pt x="15050" y="9632"/>
                    <a:pt x="15068" y="9603"/>
                    <a:pt x="15094" y="9603"/>
                  </a:cubicBezTo>
                  <a:cubicBezTo>
                    <a:pt x="15103" y="9603"/>
                    <a:pt x="15107" y="9603"/>
                    <a:pt x="15117" y="9597"/>
                  </a:cubicBezTo>
                  <a:cubicBezTo>
                    <a:pt x="15126" y="9582"/>
                    <a:pt x="15121" y="9564"/>
                    <a:pt x="15112" y="9552"/>
                  </a:cubicBezTo>
                  <a:cubicBezTo>
                    <a:pt x="15103" y="9541"/>
                    <a:pt x="15087" y="9541"/>
                    <a:pt x="15078" y="9520"/>
                  </a:cubicBezTo>
                  <a:cubicBezTo>
                    <a:pt x="15064" y="9496"/>
                    <a:pt x="15078" y="9458"/>
                    <a:pt x="15098" y="9446"/>
                  </a:cubicBezTo>
                  <a:cubicBezTo>
                    <a:pt x="15121" y="9428"/>
                    <a:pt x="15151" y="9422"/>
                    <a:pt x="15174" y="9434"/>
                  </a:cubicBezTo>
                  <a:cubicBezTo>
                    <a:pt x="15183" y="9440"/>
                    <a:pt x="15190" y="9440"/>
                    <a:pt x="15199" y="9440"/>
                  </a:cubicBezTo>
                  <a:cubicBezTo>
                    <a:pt x="15222" y="9440"/>
                    <a:pt x="15243" y="9410"/>
                    <a:pt x="15232" y="9378"/>
                  </a:cubicBezTo>
                  <a:cubicBezTo>
                    <a:pt x="15227" y="9366"/>
                    <a:pt x="15218" y="9354"/>
                    <a:pt x="15213" y="9342"/>
                  </a:cubicBezTo>
                  <a:cubicBezTo>
                    <a:pt x="15209" y="9316"/>
                    <a:pt x="15225" y="9283"/>
                    <a:pt x="15243" y="9266"/>
                  </a:cubicBezTo>
                  <a:cubicBezTo>
                    <a:pt x="15264" y="9245"/>
                    <a:pt x="15282" y="9233"/>
                    <a:pt x="15291" y="9204"/>
                  </a:cubicBezTo>
                  <a:cubicBezTo>
                    <a:pt x="15303" y="9171"/>
                    <a:pt x="15291" y="9130"/>
                    <a:pt x="15310" y="9118"/>
                  </a:cubicBezTo>
                  <a:cubicBezTo>
                    <a:pt x="15319" y="9112"/>
                    <a:pt x="15328" y="9112"/>
                    <a:pt x="15340" y="9112"/>
                  </a:cubicBezTo>
                  <a:lnTo>
                    <a:pt x="15469" y="9112"/>
                  </a:lnTo>
                  <a:cubicBezTo>
                    <a:pt x="15499" y="9112"/>
                    <a:pt x="15526" y="9112"/>
                    <a:pt x="15547" y="9079"/>
                  </a:cubicBezTo>
                  <a:cubicBezTo>
                    <a:pt x="15561" y="9106"/>
                    <a:pt x="15591" y="9100"/>
                    <a:pt x="15614" y="9094"/>
                  </a:cubicBezTo>
                  <a:cubicBezTo>
                    <a:pt x="15639" y="9079"/>
                    <a:pt x="15662" y="9068"/>
                    <a:pt x="15687" y="9079"/>
                  </a:cubicBezTo>
                  <a:cubicBezTo>
                    <a:pt x="15696" y="9088"/>
                    <a:pt x="15706" y="9100"/>
                    <a:pt x="15715" y="9106"/>
                  </a:cubicBezTo>
                  <a:cubicBezTo>
                    <a:pt x="15735" y="9118"/>
                    <a:pt x="15758" y="9112"/>
                    <a:pt x="15777" y="9124"/>
                  </a:cubicBezTo>
                  <a:cubicBezTo>
                    <a:pt x="15798" y="9136"/>
                    <a:pt x="15807" y="9174"/>
                    <a:pt x="15788" y="9186"/>
                  </a:cubicBezTo>
                  <a:cubicBezTo>
                    <a:pt x="15788" y="9209"/>
                    <a:pt x="15816" y="9209"/>
                    <a:pt x="15832" y="9198"/>
                  </a:cubicBezTo>
                  <a:cubicBezTo>
                    <a:pt x="15846" y="9180"/>
                    <a:pt x="15850" y="9153"/>
                    <a:pt x="15860" y="9141"/>
                  </a:cubicBezTo>
                  <a:cubicBezTo>
                    <a:pt x="15869" y="9127"/>
                    <a:pt x="15878" y="9124"/>
                    <a:pt x="15894" y="9124"/>
                  </a:cubicBezTo>
                  <a:cubicBezTo>
                    <a:pt x="15933" y="9112"/>
                    <a:pt x="15975" y="9106"/>
                    <a:pt x="16018" y="9124"/>
                  </a:cubicBezTo>
                  <a:cubicBezTo>
                    <a:pt x="16044" y="9130"/>
                    <a:pt x="16062" y="9156"/>
                    <a:pt x="16076" y="9180"/>
                  </a:cubicBezTo>
                  <a:cubicBezTo>
                    <a:pt x="16092" y="9147"/>
                    <a:pt x="16131" y="9136"/>
                    <a:pt x="16154" y="9162"/>
                  </a:cubicBezTo>
                  <a:cubicBezTo>
                    <a:pt x="16163" y="9168"/>
                    <a:pt x="16168" y="9180"/>
                    <a:pt x="16179" y="9180"/>
                  </a:cubicBezTo>
                  <a:cubicBezTo>
                    <a:pt x="16198" y="9180"/>
                    <a:pt x="16202" y="9147"/>
                    <a:pt x="16202" y="9130"/>
                  </a:cubicBezTo>
                  <a:cubicBezTo>
                    <a:pt x="16198" y="9106"/>
                    <a:pt x="16189" y="9088"/>
                    <a:pt x="16189" y="9062"/>
                  </a:cubicBezTo>
                  <a:cubicBezTo>
                    <a:pt x="16193" y="9032"/>
                    <a:pt x="16216" y="9011"/>
                    <a:pt x="16241" y="9005"/>
                  </a:cubicBezTo>
                  <a:cubicBezTo>
                    <a:pt x="16251" y="9000"/>
                    <a:pt x="16255" y="9000"/>
                    <a:pt x="16264" y="9000"/>
                  </a:cubicBezTo>
                  <a:cubicBezTo>
                    <a:pt x="16269" y="9000"/>
                    <a:pt x="16276" y="9005"/>
                    <a:pt x="16285" y="9011"/>
                  </a:cubicBezTo>
                  <a:cubicBezTo>
                    <a:pt x="16333" y="9044"/>
                    <a:pt x="16400" y="9017"/>
                    <a:pt x="16435" y="9068"/>
                  </a:cubicBezTo>
                  <a:cubicBezTo>
                    <a:pt x="16444" y="9088"/>
                    <a:pt x="16448" y="9106"/>
                    <a:pt x="16462" y="9118"/>
                  </a:cubicBezTo>
                  <a:cubicBezTo>
                    <a:pt x="16474" y="9130"/>
                    <a:pt x="16488" y="9130"/>
                    <a:pt x="16501" y="9141"/>
                  </a:cubicBezTo>
                  <a:cubicBezTo>
                    <a:pt x="16511" y="9156"/>
                    <a:pt x="16520" y="9180"/>
                    <a:pt x="16506" y="9186"/>
                  </a:cubicBezTo>
                  <a:cubicBezTo>
                    <a:pt x="16497" y="9192"/>
                    <a:pt x="16488" y="9186"/>
                    <a:pt x="16478" y="9186"/>
                  </a:cubicBezTo>
                  <a:cubicBezTo>
                    <a:pt x="16458" y="9186"/>
                    <a:pt x="16444" y="9218"/>
                    <a:pt x="16448" y="9242"/>
                  </a:cubicBezTo>
                  <a:cubicBezTo>
                    <a:pt x="16448" y="9266"/>
                    <a:pt x="16462" y="9286"/>
                    <a:pt x="16474" y="9310"/>
                  </a:cubicBezTo>
                  <a:cubicBezTo>
                    <a:pt x="16515" y="9310"/>
                    <a:pt x="16559" y="9304"/>
                    <a:pt x="16603" y="9304"/>
                  </a:cubicBezTo>
                  <a:cubicBezTo>
                    <a:pt x="16607" y="9304"/>
                    <a:pt x="16616" y="9304"/>
                    <a:pt x="16623" y="9298"/>
                  </a:cubicBezTo>
                  <a:lnTo>
                    <a:pt x="16637" y="9280"/>
                  </a:lnTo>
                  <a:cubicBezTo>
                    <a:pt x="16655" y="9260"/>
                    <a:pt x="16681" y="9292"/>
                    <a:pt x="16699" y="9292"/>
                  </a:cubicBezTo>
                  <a:cubicBezTo>
                    <a:pt x="16738" y="9286"/>
                    <a:pt x="16738" y="9192"/>
                    <a:pt x="16782" y="9192"/>
                  </a:cubicBezTo>
                  <a:cubicBezTo>
                    <a:pt x="16800" y="9192"/>
                    <a:pt x="16814" y="9224"/>
                    <a:pt x="16839" y="9230"/>
                  </a:cubicBezTo>
                  <a:cubicBezTo>
                    <a:pt x="16853" y="9236"/>
                    <a:pt x="16869" y="9230"/>
                    <a:pt x="16879" y="9242"/>
                  </a:cubicBezTo>
                  <a:cubicBezTo>
                    <a:pt x="16888" y="9254"/>
                    <a:pt x="16883" y="9272"/>
                    <a:pt x="16892" y="9280"/>
                  </a:cubicBezTo>
                  <a:cubicBezTo>
                    <a:pt x="16902" y="9286"/>
                    <a:pt x="16911" y="9286"/>
                    <a:pt x="16922" y="9280"/>
                  </a:cubicBezTo>
                  <a:cubicBezTo>
                    <a:pt x="16950" y="9266"/>
                    <a:pt x="16980" y="9254"/>
                    <a:pt x="17003" y="9242"/>
                  </a:cubicBezTo>
                  <a:cubicBezTo>
                    <a:pt x="17042" y="9224"/>
                    <a:pt x="17081" y="9198"/>
                    <a:pt x="17090" y="9147"/>
                  </a:cubicBezTo>
                  <a:cubicBezTo>
                    <a:pt x="17033" y="9147"/>
                    <a:pt x="16975" y="9112"/>
                    <a:pt x="16941" y="9050"/>
                  </a:cubicBezTo>
                  <a:cubicBezTo>
                    <a:pt x="16936" y="9044"/>
                    <a:pt x="16931" y="9032"/>
                    <a:pt x="16927" y="9026"/>
                  </a:cubicBezTo>
                  <a:cubicBezTo>
                    <a:pt x="16906" y="9011"/>
                    <a:pt x="16879" y="9038"/>
                    <a:pt x="16862" y="9017"/>
                  </a:cubicBezTo>
                  <a:cubicBezTo>
                    <a:pt x="16849" y="9005"/>
                    <a:pt x="16853" y="8976"/>
                    <a:pt x="16869" y="8964"/>
                  </a:cubicBezTo>
                  <a:cubicBezTo>
                    <a:pt x="16883" y="8949"/>
                    <a:pt x="16902" y="8943"/>
                    <a:pt x="16918" y="8932"/>
                  </a:cubicBezTo>
                  <a:cubicBezTo>
                    <a:pt x="16945" y="8914"/>
                    <a:pt x="16964" y="8875"/>
                    <a:pt x="16971" y="8831"/>
                  </a:cubicBezTo>
                  <a:cubicBezTo>
                    <a:pt x="16971" y="8819"/>
                    <a:pt x="16971" y="8807"/>
                    <a:pt x="16975" y="8796"/>
                  </a:cubicBezTo>
                  <a:cubicBezTo>
                    <a:pt x="16984" y="8772"/>
                    <a:pt x="17012" y="8772"/>
                    <a:pt x="17037" y="8784"/>
                  </a:cubicBezTo>
                  <a:cubicBezTo>
                    <a:pt x="17056" y="8790"/>
                    <a:pt x="17086" y="8801"/>
                    <a:pt x="17099" y="8778"/>
                  </a:cubicBezTo>
                  <a:cubicBezTo>
                    <a:pt x="17120" y="8745"/>
                    <a:pt x="17095" y="8689"/>
                    <a:pt x="17125" y="8665"/>
                  </a:cubicBezTo>
                  <a:cubicBezTo>
                    <a:pt x="17129" y="8660"/>
                    <a:pt x="17138" y="8660"/>
                    <a:pt x="17143" y="8654"/>
                  </a:cubicBezTo>
                  <a:cubicBezTo>
                    <a:pt x="17152" y="8639"/>
                    <a:pt x="17152" y="8621"/>
                    <a:pt x="17143" y="8609"/>
                  </a:cubicBezTo>
                  <a:cubicBezTo>
                    <a:pt x="17138" y="8603"/>
                    <a:pt x="17134" y="8603"/>
                    <a:pt x="17134" y="8597"/>
                  </a:cubicBezTo>
                  <a:cubicBezTo>
                    <a:pt x="17125" y="8586"/>
                    <a:pt x="17134" y="8559"/>
                    <a:pt x="17148" y="8547"/>
                  </a:cubicBezTo>
                  <a:cubicBezTo>
                    <a:pt x="17164" y="8541"/>
                    <a:pt x="17178" y="8547"/>
                    <a:pt x="17191" y="8547"/>
                  </a:cubicBezTo>
                  <a:cubicBezTo>
                    <a:pt x="17205" y="8547"/>
                    <a:pt x="17226" y="8541"/>
                    <a:pt x="17230" y="8524"/>
                  </a:cubicBezTo>
                  <a:cubicBezTo>
                    <a:pt x="17235" y="8509"/>
                    <a:pt x="17230" y="8491"/>
                    <a:pt x="17230" y="8479"/>
                  </a:cubicBezTo>
                  <a:cubicBezTo>
                    <a:pt x="17226" y="8461"/>
                    <a:pt x="17221" y="8435"/>
                    <a:pt x="17217" y="8417"/>
                  </a:cubicBezTo>
                  <a:cubicBezTo>
                    <a:pt x="17217" y="8411"/>
                    <a:pt x="17210" y="8399"/>
                    <a:pt x="17217" y="8393"/>
                  </a:cubicBezTo>
                  <a:cubicBezTo>
                    <a:pt x="17221" y="8379"/>
                    <a:pt x="17235" y="8385"/>
                    <a:pt x="17244" y="8385"/>
                  </a:cubicBezTo>
                  <a:cubicBezTo>
                    <a:pt x="17283" y="8385"/>
                    <a:pt x="17306" y="8311"/>
                    <a:pt x="17350" y="8311"/>
                  </a:cubicBezTo>
                  <a:cubicBezTo>
                    <a:pt x="17355" y="8299"/>
                    <a:pt x="17375" y="8299"/>
                    <a:pt x="17385" y="8305"/>
                  </a:cubicBezTo>
                  <a:cubicBezTo>
                    <a:pt x="17394" y="8311"/>
                    <a:pt x="17403" y="8317"/>
                    <a:pt x="17414" y="8311"/>
                  </a:cubicBezTo>
                  <a:cubicBezTo>
                    <a:pt x="17424" y="8311"/>
                    <a:pt x="17428" y="8299"/>
                    <a:pt x="17433" y="8293"/>
                  </a:cubicBezTo>
                  <a:cubicBezTo>
                    <a:pt x="17463" y="8260"/>
                    <a:pt x="17516" y="8293"/>
                    <a:pt x="17552" y="8275"/>
                  </a:cubicBezTo>
                  <a:cubicBezTo>
                    <a:pt x="17559" y="8293"/>
                    <a:pt x="17573" y="8305"/>
                    <a:pt x="17587" y="8305"/>
                  </a:cubicBezTo>
                  <a:cubicBezTo>
                    <a:pt x="17601" y="8305"/>
                    <a:pt x="17617" y="8305"/>
                    <a:pt x="17631" y="8299"/>
                  </a:cubicBezTo>
                  <a:cubicBezTo>
                    <a:pt x="17670" y="8355"/>
                    <a:pt x="17679" y="8429"/>
                    <a:pt x="17665" y="8503"/>
                  </a:cubicBezTo>
                  <a:cubicBezTo>
                    <a:pt x="17661" y="8535"/>
                    <a:pt x="17649" y="8571"/>
                    <a:pt x="17670" y="8592"/>
                  </a:cubicBezTo>
                  <a:cubicBezTo>
                    <a:pt x="17674" y="8597"/>
                    <a:pt x="17679" y="8597"/>
                    <a:pt x="17684" y="8603"/>
                  </a:cubicBezTo>
                  <a:cubicBezTo>
                    <a:pt x="17693" y="8615"/>
                    <a:pt x="17693" y="8639"/>
                    <a:pt x="17688" y="8660"/>
                  </a:cubicBezTo>
                  <a:cubicBezTo>
                    <a:pt x="17684" y="8677"/>
                    <a:pt x="17674" y="8695"/>
                    <a:pt x="17674" y="8716"/>
                  </a:cubicBezTo>
                  <a:cubicBezTo>
                    <a:pt x="17697" y="8701"/>
                    <a:pt x="17727" y="8728"/>
                    <a:pt x="17750" y="8716"/>
                  </a:cubicBezTo>
                  <a:cubicBezTo>
                    <a:pt x="17771" y="8701"/>
                    <a:pt x="17776" y="8671"/>
                    <a:pt x="17776" y="8648"/>
                  </a:cubicBezTo>
                  <a:cubicBezTo>
                    <a:pt x="17780" y="8621"/>
                    <a:pt x="17785" y="8586"/>
                    <a:pt x="17805" y="8586"/>
                  </a:cubicBezTo>
                  <a:lnTo>
                    <a:pt x="17828" y="8586"/>
                  </a:lnTo>
                  <a:cubicBezTo>
                    <a:pt x="17851" y="8577"/>
                    <a:pt x="17868" y="8547"/>
                    <a:pt x="17872" y="8524"/>
                  </a:cubicBezTo>
                  <a:cubicBezTo>
                    <a:pt x="17881" y="8491"/>
                    <a:pt x="17886" y="8461"/>
                    <a:pt x="17907" y="8441"/>
                  </a:cubicBezTo>
                  <a:cubicBezTo>
                    <a:pt x="17920" y="8429"/>
                    <a:pt x="17941" y="8429"/>
                    <a:pt x="17960" y="8423"/>
                  </a:cubicBezTo>
                  <a:cubicBezTo>
                    <a:pt x="17980" y="8417"/>
                    <a:pt x="17996" y="8411"/>
                    <a:pt x="18008" y="8385"/>
                  </a:cubicBezTo>
                  <a:cubicBezTo>
                    <a:pt x="18022" y="8417"/>
                    <a:pt x="18056" y="8423"/>
                    <a:pt x="18075" y="8393"/>
                  </a:cubicBezTo>
                  <a:cubicBezTo>
                    <a:pt x="18093" y="8367"/>
                    <a:pt x="18084" y="8322"/>
                    <a:pt x="18065" y="8293"/>
                  </a:cubicBezTo>
                  <a:cubicBezTo>
                    <a:pt x="18061" y="8287"/>
                    <a:pt x="18056" y="8281"/>
                    <a:pt x="18056" y="8275"/>
                  </a:cubicBezTo>
                  <a:cubicBezTo>
                    <a:pt x="18049" y="8249"/>
                    <a:pt x="18070" y="8231"/>
                    <a:pt x="18084" y="8219"/>
                  </a:cubicBezTo>
                  <a:cubicBezTo>
                    <a:pt x="18098" y="8207"/>
                    <a:pt x="18114" y="8175"/>
                    <a:pt x="18098" y="8163"/>
                  </a:cubicBezTo>
                  <a:cubicBezTo>
                    <a:pt x="18093" y="8157"/>
                    <a:pt x="18084" y="8157"/>
                    <a:pt x="18079" y="8145"/>
                  </a:cubicBezTo>
                  <a:cubicBezTo>
                    <a:pt x="18070" y="8124"/>
                    <a:pt x="18084" y="8107"/>
                    <a:pt x="18093" y="8095"/>
                  </a:cubicBezTo>
                  <a:cubicBezTo>
                    <a:pt x="18114" y="8077"/>
                    <a:pt x="18127" y="8050"/>
                    <a:pt x="18137" y="8021"/>
                  </a:cubicBezTo>
                  <a:cubicBezTo>
                    <a:pt x="18141" y="8015"/>
                    <a:pt x="18141" y="8000"/>
                    <a:pt x="18146" y="7994"/>
                  </a:cubicBezTo>
                  <a:cubicBezTo>
                    <a:pt x="18153" y="7988"/>
                    <a:pt x="18157" y="7988"/>
                    <a:pt x="18162" y="7988"/>
                  </a:cubicBezTo>
                  <a:cubicBezTo>
                    <a:pt x="18201" y="7988"/>
                    <a:pt x="18233" y="8015"/>
                    <a:pt x="18259" y="8045"/>
                  </a:cubicBezTo>
                  <a:lnTo>
                    <a:pt x="18263" y="8050"/>
                  </a:lnTo>
                  <a:cubicBezTo>
                    <a:pt x="18268" y="8068"/>
                    <a:pt x="18249" y="8077"/>
                    <a:pt x="18233" y="8077"/>
                  </a:cubicBezTo>
                  <a:cubicBezTo>
                    <a:pt x="18215" y="8083"/>
                    <a:pt x="18201" y="8107"/>
                    <a:pt x="18190" y="8124"/>
                  </a:cubicBezTo>
                  <a:cubicBezTo>
                    <a:pt x="18180" y="8151"/>
                    <a:pt x="18180" y="8175"/>
                    <a:pt x="18180" y="8201"/>
                  </a:cubicBezTo>
                  <a:cubicBezTo>
                    <a:pt x="18180" y="8225"/>
                    <a:pt x="18180" y="8254"/>
                    <a:pt x="18176" y="8281"/>
                  </a:cubicBezTo>
                  <a:cubicBezTo>
                    <a:pt x="18176" y="8299"/>
                    <a:pt x="18176" y="8317"/>
                    <a:pt x="18185" y="8337"/>
                  </a:cubicBezTo>
                  <a:cubicBezTo>
                    <a:pt x="18190" y="8343"/>
                    <a:pt x="18194" y="8349"/>
                    <a:pt x="18194" y="8355"/>
                  </a:cubicBezTo>
                  <a:cubicBezTo>
                    <a:pt x="18194" y="8367"/>
                    <a:pt x="18190" y="8373"/>
                    <a:pt x="18180" y="8373"/>
                  </a:cubicBezTo>
                  <a:lnTo>
                    <a:pt x="18157" y="8373"/>
                  </a:lnTo>
                  <a:cubicBezTo>
                    <a:pt x="18137" y="8373"/>
                    <a:pt x="18118" y="8399"/>
                    <a:pt x="18114" y="8423"/>
                  </a:cubicBezTo>
                  <a:cubicBezTo>
                    <a:pt x="18109" y="8447"/>
                    <a:pt x="18109" y="8473"/>
                    <a:pt x="18114" y="8503"/>
                  </a:cubicBezTo>
                  <a:cubicBezTo>
                    <a:pt x="18114" y="8529"/>
                    <a:pt x="18118" y="8553"/>
                    <a:pt x="18118" y="8571"/>
                  </a:cubicBezTo>
                  <a:lnTo>
                    <a:pt x="18118" y="8592"/>
                  </a:lnTo>
                  <a:cubicBezTo>
                    <a:pt x="18114" y="8597"/>
                    <a:pt x="18109" y="8603"/>
                    <a:pt x="18104" y="8603"/>
                  </a:cubicBezTo>
                  <a:cubicBezTo>
                    <a:pt x="18079" y="8615"/>
                    <a:pt x="18049" y="8621"/>
                    <a:pt x="18026" y="8633"/>
                  </a:cubicBezTo>
                  <a:cubicBezTo>
                    <a:pt x="18012" y="8639"/>
                    <a:pt x="17996" y="8648"/>
                    <a:pt x="17987" y="8665"/>
                  </a:cubicBezTo>
                  <a:cubicBezTo>
                    <a:pt x="17978" y="8683"/>
                    <a:pt x="17978" y="8710"/>
                    <a:pt x="17992" y="8716"/>
                  </a:cubicBezTo>
                  <a:cubicBezTo>
                    <a:pt x="17964" y="8745"/>
                    <a:pt x="17911" y="8716"/>
                    <a:pt x="17881" y="8757"/>
                  </a:cubicBezTo>
                  <a:cubicBezTo>
                    <a:pt x="17868" y="8784"/>
                    <a:pt x="17872" y="8819"/>
                    <a:pt x="17863" y="8846"/>
                  </a:cubicBezTo>
                  <a:cubicBezTo>
                    <a:pt x="17851" y="8869"/>
                    <a:pt x="17833" y="8887"/>
                    <a:pt x="17833" y="8914"/>
                  </a:cubicBezTo>
                  <a:lnTo>
                    <a:pt x="17833" y="8932"/>
                  </a:lnTo>
                  <a:cubicBezTo>
                    <a:pt x="17833" y="8943"/>
                    <a:pt x="17819" y="8949"/>
                    <a:pt x="17805" y="8949"/>
                  </a:cubicBezTo>
                  <a:cubicBezTo>
                    <a:pt x="17794" y="8949"/>
                    <a:pt x="17780" y="8943"/>
                    <a:pt x="17771" y="8943"/>
                  </a:cubicBezTo>
                  <a:cubicBezTo>
                    <a:pt x="17741" y="8949"/>
                    <a:pt x="17736" y="9000"/>
                    <a:pt x="17723" y="9032"/>
                  </a:cubicBezTo>
                  <a:cubicBezTo>
                    <a:pt x="17702" y="9068"/>
                    <a:pt x="17670" y="9094"/>
                    <a:pt x="17674" y="9130"/>
                  </a:cubicBezTo>
                  <a:cubicBezTo>
                    <a:pt x="17654" y="9130"/>
                    <a:pt x="17661" y="9168"/>
                    <a:pt x="17649" y="9186"/>
                  </a:cubicBezTo>
                  <a:cubicBezTo>
                    <a:pt x="17640" y="9209"/>
                    <a:pt x="17617" y="9218"/>
                    <a:pt x="17601" y="9198"/>
                  </a:cubicBezTo>
                  <a:cubicBezTo>
                    <a:pt x="17612" y="9242"/>
                    <a:pt x="17578" y="9280"/>
                    <a:pt x="17564" y="9316"/>
                  </a:cubicBezTo>
                  <a:cubicBezTo>
                    <a:pt x="17559" y="9334"/>
                    <a:pt x="17559" y="9348"/>
                    <a:pt x="17552" y="9366"/>
                  </a:cubicBezTo>
                  <a:cubicBezTo>
                    <a:pt x="17543" y="9410"/>
                    <a:pt x="17520" y="9440"/>
                    <a:pt x="17495" y="9473"/>
                  </a:cubicBezTo>
                  <a:cubicBezTo>
                    <a:pt x="17490" y="9478"/>
                    <a:pt x="17486" y="9484"/>
                    <a:pt x="17477" y="9490"/>
                  </a:cubicBezTo>
                  <a:cubicBezTo>
                    <a:pt x="17463" y="9496"/>
                    <a:pt x="17447" y="9490"/>
                    <a:pt x="17428" y="9490"/>
                  </a:cubicBezTo>
                  <a:cubicBezTo>
                    <a:pt x="17389" y="9496"/>
                    <a:pt x="17380" y="9570"/>
                    <a:pt x="17345" y="9588"/>
                  </a:cubicBezTo>
                  <a:cubicBezTo>
                    <a:pt x="17327" y="9597"/>
                    <a:pt x="17306" y="9588"/>
                    <a:pt x="17288" y="9597"/>
                  </a:cubicBezTo>
                  <a:cubicBezTo>
                    <a:pt x="17270" y="9597"/>
                    <a:pt x="17249" y="9620"/>
                    <a:pt x="17253" y="9638"/>
                  </a:cubicBezTo>
                  <a:cubicBezTo>
                    <a:pt x="17253" y="9650"/>
                    <a:pt x="17265" y="9659"/>
                    <a:pt x="17258" y="9665"/>
                  </a:cubicBezTo>
                  <a:cubicBezTo>
                    <a:pt x="17258" y="9671"/>
                    <a:pt x="17253" y="9671"/>
                    <a:pt x="17249" y="9671"/>
                  </a:cubicBezTo>
                  <a:cubicBezTo>
                    <a:pt x="17230" y="9682"/>
                    <a:pt x="17205" y="9694"/>
                    <a:pt x="17187" y="9706"/>
                  </a:cubicBezTo>
                  <a:cubicBezTo>
                    <a:pt x="17178" y="9712"/>
                    <a:pt x="17168" y="9718"/>
                    <a:pt x="17164" y="9733"/>
                  </a:cubicBezTo>
                  <a:cubicBezTo>
                    <a:pt x="17157" y="9756"/>
                    <a:pt x="17187" y="9762"/>
                    <a:pt x="17201" y="9780"/>
                  </a:cubicBezTo>
                  <a:cubicBezTo>
                    <a:pt x="17221" y="9807"/>
                    <a:pt x="17201" y="9851"/>
                    <a:pt x="17178" y="9875"/>
                  </a:cubicBezTo>
                  <a:cubicBezTo>
                    <a:pt x="17152" y="9892"/>
                    <a:pt x="17125" y="9904"/>
                    <a:pt x="17109" y="9937"/>
                  </a:cubicBezTo>
                  <a:cubicBezTo>
                    <a:pt x="17104" y="9943"/>
                    <a:pt x="17104" y="9949"/>
                    <a:pt x="17104" y="9954"/>
                  </a:cubicBezTo>
                  <a:cubicBezTo>
                    <a:pt x="17109" y="9972"/>
                    <a:pt x="17125" y="9972"/>
                    <a:pt x="17134" y="9987"/>
                  </a:cubicBezTo>
                  <a:cubicBezTo>
                    <a:pt x="17143" y="9999"/>
                    <a:pt x="17134" y="10022"/>
                    <a:pt x="17125" y="10034"/>
                  </a:cubicBezTo>
                  <a:lnTo>
                    <a:pt x="17095" y="10073"/>
                  </a:lnTo>
                  <a:cubicBezTo>
                    <a:pt x="17086" y="10096"/>
                    <a:pt x="17095" y="10129"/>
                    <a:pt x="17090" y="10158"/>
                  </a:cubicBezTo>
                  <a:cubicBezTo>
                    <a:pt x="17086" y="10173"/>
                    <a:pt x="17081" y="10185"/>
                    <a:pt x="17076" y="10203"/>
                  </a:cubicBezTo>
                  <a:cubicBezTo>
                    <a:pt x="17072" y="10229"/>
                    <a:pt x="17081" y="10259"/>
                    <a:pt x="17076" y="10283"/>
                  </a:cubicBezTo>
                  <a:cubicBezTo>
                    <a:pt x="17076" y="10297"/>
                    <a:pt x="17067" y="10309"/>
                    <a:pt x="17067" y="10327"/>
                  </a:cubicBezTo>
                  <a:cubicBezTo>
                    <a:pt x="17067" y="10351"/>
                    <a:pt x="17086" y="10377"/>
                    <a:pt x="17081" y="10401"/>
                  </a:cubicBezTo>
                  <a:cubicBezTo>
                    <a:pt x="17081" y="10427"/>
                    <a:pt x="17060" y="10457"/>
                    <a:pt x="17076" y="10475"/>
                  </a:cubicBezTo>
                  <a:lnTo>
                    <a:pt x="17086" y="10490"/>
                  </a:lnTo>
                  <a:cubicBezTo>
                    <a:pt x="17095" y="10501"/>
                    <a:pt x="17081" y="10519"/>
                    <a:pt x="17072" y="10537"/>
                  </a:cubicBezTo>
                  <a:cubicBezTo>
                    <a:pt x="17056" y="10558"/>
                    <a:pt x="17051" y="10593"/>
                    <a:pt x="17072" y="10599"/>
                  </a:cubicBezTo>
                  <a:cubicBezTo>
                    <a:pt x="17090" y="10614"/>
                    <a:pt x="17090" y="10655"/>
                    <a:pt x="17086" y="10688"/>
                  </a:cubicBezTo>
                  <a:cubicBezTo>
                    <a:pt x="17086" y="10694"/>
                    <a:pt x="17081" y="10705"/>
                    <a:pt x="17081" y="10711"/>
                  </a:cubicBezTo>
                  <a:cubicBezTo>
                    <a:pt x="17081" y="10729"/>
                    <a:pt x="17104" y="10744"/>
                    <a:pt x="17115" y="10756"/>
                  </a:cubicBezTo>
                  <a:cubicBezTo>
                    <a:pt x="17120" y="10767"/>
                    <a:pt x="17120" y="10785"/>
                    <a:pt x="17120" y="10797"/>
                  </a:cubicBezTo>
                  <a:cubicBezTo>
                    <a:pt x="17120" y="10824"/>
                    <a:pt x="17115" y="10841"/>
                    <a:pt x="17109" y="10868"/>
                  </a:cubicBezTo>
                  <a:cubicBezTo>
                    <a:pt x="17109" y="10874"/>
                    <a:pt x="17104" y="10880"/>
                    <a:pt x="17109" y="10886"/>
                  </a:cubicBezTo>
                  <a:cubicBezTo>
                    <a:pt x="17109" y="10898"/>
                    <a:pt x="17120" y="10903"/>
                    <a:pt x="17120" y="10909"/>
                  </a:cubicBezTo>
                  <a:cubicBezTo>
                    <a:pt x="17125" y="10930"/>
                    <a:pt x="17115" y="10948"/>
                    <a:pt x="17109" y="10966"/>
                  </a:cubicBezTo>
                  <a:cubicBezTo>
                    <a:pt x="17099" y="10983"/>
                    <a:pt x="17095" y="11010"/>
                    <a:pt x="17104" y="11022"/>
                  </a:cubicBezTo>
                  <a:cubicBezTo>
                    <a:pt x="17109" y="11028"/>
                    <a:pt x="17115" y="11028"/>
                    <a:pt x="17120" y="11034"/>
                  </a:cubicBezTo>
                  <a:cubicBezTo>
                    <a:pt x="17143" y="11054"/>
                    <a:pt x="17148" y="11096"/>
                    <a:pt x="17138" y="11128"/>
                  </a:cubicBezTo>
                  <a:cubicBezTo>
                    <a:pt x="17134" y="11134"/>
                    <a:pt x="17129" y="11146"/>
                    <a:pt x="17129" y="11152"/>
                  </a:cubicBezTo>
                  <a:cubicBezTo>
                    <a:pt x="17125" y="11175"/>
                    <a:pt x="17138" y="11214"/>
                    <a:pt x="17125" y="11232"/>
                  </a:cubicBezTo>
                  <a:lnTo>
                    <a:pt x="17115" y="11246"/>
                  </a:lnTo>
                  <a:cubicBezTo>
                    <a:pt x="17109" y="11252"/>
                    <a:pt x="17115" y="11264"/>
                    <a:pt x="17120" y="11276"/>
                  </a:cubicBezTo>
                  <a:cubicBezTo>
                    <a:pt x="17125" y="11282"/>
                    <a:pt x="17134" y="11288"/>
                    <a:pt x="17138" y="11300"/>
                  </a:cubicBezTo>
                  <a:cubicBezTo>
                    <a:pt x="17152" y="11332"/>
                    <a:pt x="17138" y="11368"/>
                    <a:pt x="17152" y="11400"/>
                  </a:cubicBezTo>
                  <a:cubicBezTo>
                    <a:pt x="17157" y="11418"/>
                    <a:pt x="17173" y="11430"/>
                    <a:pt x="17173" y="11450"/>
                  </a:cubicBezTo>
                  <a:cubicBezTo>
                    <a:pt x="17173" y="11468"/>
                    <a:pt x="17164" y="11474"/>
                    <a:pt x="17157" y="11492"/>
                  </a:cubicBezTo>
                  <a:cubicBezTo>
                    <a:pt x="17148" y="11518"/>
                    <a:pt x="17152" y="11542"/>
                    <a:pt x="17157" y="11569"/>
                  </a:cubicBezTo>
                  <a:cubicBezTo>
                    <a:pt x="17164" y="11586"/>
                    <a:pt x="17134" y="11592"/>
                    <a:pt x="17138" y="11610"/>
                  </a:cubicBezTo>
                  <a:cubicBezTo>
                    <a:pt x="17138" y="11616"/>
                    <a:pt x="17143" y="11616"/>
                    <a:pt x="17143" y="11625"/>
                  </a:cubicBezTo>
                  <a:cubicBezTo>
                    <a:pt x="17152" y="11637"/>
                    <a:pt x="17152" y="11660"/>
                    <a:pt x="17143" y="11678"/>
                  </a:cubicBezTo>
                  <a:cubicBezTo>
                    <a:pt x="17152" y="11684"/>
                    <a:pt x="17168" y="11672"/>
                    <a:pt x="17173" y="11660"/>
                  </a:cubicBezTo>
                  <a:lnTo>
                    <a:pt x="17187" y="11625"/>
                  </a:lnTo>
                  <a:lnTo>
                    <a:pt x="17201" y="11604"/>
                  </a:lnTo>
                  <a:cubicBezTo>
                    <a:pt x="17235" y="11569"/>
                    <a:pt x="17274" y="11524"/>
                    <a:pt x="17306" y="11480"/>
                  </a:cubicBezTo>
                  <a:cubicBezTo>
                    <a:pt x="17313" y="11474"/>
                    <a:pt x="17318" y="11468"/>
                    <a:pt x="17318" y="11456"/>
                  </a:cubicBezTo>
                  <a:cubicBezTo>
                    <a:pt x="17318" y="11450"/>
                    <a:pt x="17313" y="11450"/>
                    <a:pt x="17313" y="11445"/>
                  </a:cubicBezTo>
                  <a:cubicBezTo>
                    <a:pt x="17306" y="11424"/>
                    <a:pt x="17318" y="11406"/>
                    <a:pt x="17327" y="11394"/>
                  </a:cubicBezTo>
                  <a:cubicBezTo>
                    <a:pt x="17345" y="11377"/>
                    <a:pt x="17375" y="11368"/>
                    <a:pt x="17394" y="11350"/>
                  </a:cubicBezTo>
                  <a:cubicBezTo>
                    <a:pt x="17419" y="11332"/>
                    <a:pt x="17433" y="11309"/>
                    <a:pt x="17442" y="11276"/>
                  </a:cubicBezTo>
                  <a:cubicBezTo>
                    <a:pt x="17442" y="11270"/>
                    <a:pt x="17447" y="11264"/>
                    <a:pt x="17442" y="11258"/>
                  </a:cubicBezTo>
                  <a:cubicBezTo>
                    <a:pt x="17442" y="11252"/>
                    <a:pt x="17437" y="11246"/>
                    <a:pt x="17437" y="11238"/>
                  </a:cubicBezTo>
                  <a:cubicBezTo>
                    <a:pt x="17424" y="11208"/>
                    <a:pt x="17424" y="11164"/>
                    <a:pt x="17424" y="11128"/>
                  </a:cubicBezTo>
                  <a:cubicBezTo>
                    <a:pt x="17424" y="11107"/>
                    <a:pt x="17424" y="11096"/>
                    <a:pt x="17428" y="11078"/>
                  </a:cubicBezTo>
                  <a:cubicBezTo>
                    <a:pt x="17437" y="11054"/>
                    <a:pt x="17456" y="11039"/>
                    <a:pt x="17477" y="11034"/>
                  </a:cubicBezTo>
                  <a:cubicBezTo>
                    <a:pt x="17495" y="11028"/>
                    <a:pt x="17516" y="11028"/>
                    <a:pt x="17534" y="11016"/>
                  </a:cubicBezTo>
                  <a:cubicBezTo>
                    <a:pt x="17582" y="10998"/>
                    <a:pt x="17612" y="10930"/>
                    <a:pt x="17608" y="10868"/>
                  </a:cubicBezTo>
                  <a:cubicBezTo>
                    <a:pt x="17601" y="10835"/>
                    <a:pt x="17601" y="10806"/>
                    <a:pt x="17601" y="10773"/>
                  </a:cubicBezTo>
                  <a:cubicBezTo>
                    <a:pt x="17601" y="10762"/>
                    <a:pt x="17601" y="10750"/>
                    <a:pt x="17608" y="10744"/>
                  </a:cubicBezTo>
                  <a:cubicBezTo>
                    <a:pt x="17612" y="10729"/>
                    <a:pt x="17621" y="10729"/>
                    <a:pt x="17631" y="10738"/>
                  </a:cubicBezTo>
                  <a:cubicBezTo>
                    <a:pt x="17635" y="10717"/>
                    <a:pt x="17656" y="10705"/>
                    <a:pt x="17670" y="10694"/>
                  </a:cubicBezTo>
                  <a:cubicBezTo>
                    <a:pt x="17686" y="10682"/>
                    <a:pt x="17697" y="10655"/>
                    <a:pt x="17688" y="10637"/>
                  </a:cubicBezTo>
                  <a:cubicBezTo>
                    <a:pt x="17684" y="10631"/>
                    <a:pt x="17679" y="10626"/>
                    <a:pt x="17679" y="10614"/>
                  </a:cubicBezTo>
                  <a:cubicBezTo>
                    <a:pt x="17679" y="10599"/>
                    <a:pt x="17674" y="10593"/>
                    <a:pt x="17684" y="10587"/>
                  </a:cubicBezTo>
                  <a:lnTo>
                    <a:pt x="17693" y="10587"/>
                  </a:lnTo>
                  <a:cubicBezTo>
                    <a:pt x="17713" y="10587"/>
                    <a:pt x="17732" y="10593"/>
                    <a:pt x="17750" y="10593"/>
                  </a:cubicBezTo>
                  <a:cubicBezTo>
                    <a:pt x="17771" y="10593"/>
                    <a:pt x="17789" y="10581"/>
                    <a:pt x="17799" y="10563"/>
                  </a:cubicBezTo>
                  <a:cubicBezTo>
                    <a:pt x="17838" y="10605"/>
                    <a:pt x="17891" y="10637"/>
                    <a:pt x="17939" y="10649"/>
                  </a:cubicBezTo>
                  <a:cubicBezTo>
                    <a:pt x="17948" y="10649"/>
                    <a:pt x="17960" y="10649"/>
                    <a:pt x="17969" y="10643"/>
                  </a:cubicBezTo>
                  <a:cubicBezTo>
                    <a:pt x="17978" y="10626"/>
                    <a:pt x="17964" y="10605"/>
                    <a:pt x="17948" y="10593"/>
                  </a:cubicBezTo>
                  <a:cubicBezTo>
                    <a:pt x="17920" y="10569"/>
                    <a:pt x="17891" y="10537"/>
                    <a:pt x="17872" y="10495"/>
                  </a:cubicBezTo>
                  <a:cubicBezTo>
                    <a:pt x="17863" y="10484"/>
                    <a:pt x="17858" y="10457"/>
                    <a:pt x="17863" y="10445"/>
                  </a:cubicBezTo>
                  <a:cubicBezTo>
                    <a:pt x="17868" y="10439"/>
                    <a:pt x="17872" y="10433"/>
                    <a:pt x="17872" y="10422"/>
                  </a:cubicBezTo>
                  <a:cubicBezTo>
                    <a:pt x="17872" y="10413"/>
                    <a:pt x="17868" y="10404"/>
                    <a:pt x="17863" y="10401"/>
                  </a:cubicBezTo>
                  <a:cubicBezTo>
                    <a:pt x="17842" y="10374"/>
                    <a:pt x="17833" y="10333"/>
                    <a:pt x="17838" y="10303"/>
                  </a:cubicBezTo>
                  <a:cubicBezTo>
                    <a:pt x="17858" y="10309"/>
                    <a:pt x="17872" y="10289"/>
                    <a:pt x="17881" y="10265"/>
                  </a:cubicBezTo>
                  <a:cubicBezTo>
                    <a:pt x="17900" y="10221"/>
                    <a:pt x="17916" y="10167"/>
                    <a:pt x="17916" y="10111"/>
                  </a:cubicBezTo>
                  <a:cubicBezTo>
                    <a:pt x="17930" y="10105"/>
                    <a:pt x="17939" y="10096"/>
                    <a:pt x="17955" y="10085"/>
                  </a:cubicBezTo>
                  <a:cubicBezTo>
                    <a:pt x="17969" y="10111"/>
                    <a:pt x="17978" y="10135"/>
                    <a:pt x="17983" y="10158"/>
                  </a:cubicBezTo>
                  <a:cubicBezTo>
                    <a:pt x="17987" y="10179"/>
                    <a:pt x="17992" y="10197"/>
                    <a:pt x="18008" y="10203"/>
                  </a:cubicBezTo>
                  <a:cubicBezTo>
                    <a:pt x="18022" y="10209"/>
                    <a:pt x="18035" y="10197"/>
                    <a:pt x="18040" y="10185"/>
                  </a:cubicBezTo>
                  <a:cubicBezTo>
                    <a:pt x="18049" y="10173"/>
                    <a:pt x="18049" y="10153"/>
                    <a:pt x="18049" y="10135"/>
                  </a:cubicBezTo>
                  <a:cubicBezTo>
                    <a:pt x="18049" y="10123"/>
                    <a:pt x="18049" y="10111"/>
                    <a:pt x="18045" y="10096"/>
                  </a:cubicBezTo>
                  <a:lnTo>
                    <a:pt x="18031" y="10079"/>
                  </a:lnTo>
                  <a:cubicBezTo>
                    <a:pt x="18012" y="10049"/>
                    <a:pt x="18049" y="9999"/>
                    <a:pt x="18040" y="9960"/>
                  </a:cubicBezTo>
                  <a:cubicBezTo>
                    <a:pt x="18035" y="9937"/>
                    <a:pt x="18012" y="9925"/>
                    <a:pt x="17996" y="9925"/>
                  </a:cubicBezTo>
                  <a:cubicBezTo>
                    <a:pt x="17992" y="9925"/>
                    <a:pt x="17987" y="9925"/>
                    <a:pt x="17983" y="9919"/>
                  </a:cubicBezTo>
                  <a:cubicBezTo>
                    <a:pt x="17978" y="9919"/>
                    <a:pt x="17978" y="9913"/>
                    <a:pt x="17973" y="9904"/>
                  </a:cubicBezTo>
                  <a:cubicBezTo>
                    <a:pt x="17955" y="9857"/>
                    <a:pt x="18008" y="9801"/>
                    <a:pt x="17987" y="9750"/>
                  </a:cubicBezTo>
                  <a:cubicBezTo>
                    <a:pt x="18003" y="9750"/>
                    <a:pt x="18022" y="9750"/>
                    <a:pt x="18031" y="9739"/>
                  </a:cubicBezTo>
                  <a:cubicBezTo>
                    <a:pt x="18045" y="9727"/>
                    <a:pt x="18049" y="9700"/>
                    <a:pt x="18040" y="9688"/>
                  </a:cubicBezTo>
                  <a:cubicBezTo>
                    <a:pt x="18035" y="9677"/>
                    <a:pt x="18022" y="9671"/>
                    <a:pt x="18017" y="9659"/>
                  </a:cubicBezTo>
                  <a:cubicBezTo>
                    <a:pt x="18008" y="9632"/>
                    <a:pt x="18035" y="9603"/>
                    <a:pt x="18031" y="9570"/>
                  </a:cubicBezTo>
                  <a:cubicBezTo>
                    <a:pt x="18031" y="9564"/>
                    <a:pt x="18026" y="9552"/>
                    <a:pt x="18022" y="9546"/>
                  </a:cubicBezTo>
                  <a:cubicBezTo>
                    <a:pt x="18003" y="9520"/>
                    <a:pt x="17973" y="9520"/>
                    <a:pt x="17948" y="9535"/>
                  </a:cubicBezTo>
                  <a:cubicBezTo>
                    <a:pt x="17934" y="9541"/>
                    <a:pt x="17925" y="9558"/>
                    <a:pt x="17911" y="9552"/>
                  </a:cubicBezTo>
                  <a:cubicBezTo>
                    <a:pt x="17886" y="9546"/>
                    <a:pt x="17886" y="9496"/>
                    <a:pt x="17863" y="9478"/>
                  </a:cubicBezTo>
                  <a:cubicBezTo>
                    <a:pt x="17858" y="9473"/>
                    <a:pt x="17847" y="9473"/>
                    <a:pt x="17847" y="9464"/>
                  </a:cubicBezTo>
                  <a:cubicBezTo>
                    <a:pt x="17842" y="9452"/>
                    <a:pt x="17842" y="9440"/>
                    <a:pt x="17847" y="9428"/>
                  </a:cubicBezTo>
                  <a:cubicBezTo>
                    <a:pt x="17851" y="9410"/>
                    <a:pt x="17863" y="9390"/>
                    <a:pt x="17877" y="9372"/>
                  </a:cubicBezTo>
                  <a:cubicBezTo>
                    <a:pt x="17886" y="9360"/>
                    <a:pt x="17900" y="9348"/>
                    <a:pt x="17900" y="9328"/>
                  </a:cubicBezTo>
                  <a:lnTo>
                    <a:pt x="17900" y="9304"/>
                  </a:lnTo>
                  <a:cubicBezTo>
                    <a:pt x="17900" y="9286"/>
                    <a:pt x="17920" y="9280"/>
                    <a:pt x="17930" y="9280"/>
                  </a:cubicBezTo>
                  <a:cubicBezTo>
                    <a:pt x="17943" y="9280"/>
                    <a:pt x="17960" y="9286"/>
                    <a:pt x="17969" y="9286"/>
                  </a:cubicBezTo>
                  <a:cubicBezTo>
                    <a:pt x="17992" y="9286"/>
                    <a:pt x="18022" y="9266"/>
                    <a:pt x="18031" y="9236"/>
                  </a:cubicBezTo>
                  <a:cubicBezTo>
                    <a:pt x="18045" y="9198"/>
                    <a:pt x="18017" y="9147"/>
                    <a:pt x="18031" y="9118"/>
                  </a:cubicBezTo>
                  <a:cubicBezTo>
                    <a:pt x="18035" y="9112"/>
                    <a:pt x="18035" y="9106"/>
                    <a:pt x="18040" y="9100"/>
                  </a:cubicBezTo>
                  <a:lnTo>
                    <a:pt x="18040" y="9073"/>
                  </a:lnTo>
                  <a:cubicBezTo>
                    <a:pt x="18031" y="9032"/>
                    <a:pt x="18026" y="8988"/>
                    <a:pt x="18017" y="8943"/>
                  </a:cubicBezTo>
                  <a:cubicBezTo>
                    <a:pt x="18049" y="8914"/>
                    <a:pt x="18084" y="8875"/>
                    <a:pt x="18118" y="8846"/>
                  </a:cubicBezTo>
                  <a:cubicBezTo>
                    <a:pt x="18123" y="8840"/>
                    <a:pt x="18127" y="8831"/>
                    <a:pt x="18137" y="8840"/>
                  </a:cubicBezTo>
                  <a:cubicBezTo>
                    <a:pt x="18141" y="8840"/>
                    <a:pt x="18141" y="8846"/>
                    <a:pt x="18146" y="8852"/>
                  </a:cubicBezTo>
                  <a:cubicBezTo>
                    <a:pt x="18153" y="8852"/>
                    <a:pt x="18157" y="8852"/>
                    <a:pt x="18162" y="8846"/>
                  </a:cubicBezTo>
                  <a:lnTo>
                    <a:pt x="18206" y="8807"/>
                  </a:lnTo>
                  <a:cubicBezTo>
                    <a:pt x="18219" y="8852"/>
                    <a:pt x="18238" y="8893"/>
                    <a:pt x="18268" y="8932"/>
                  </a:cubicBezTo>
                  <a:cubicBezTo>
                    <a:pt x="18295" y="8914"/>
                    <a:pt x="18311" y="8869"/>
                    <a:pt x="18311" y="8825"/>
                  </a:cubicBezTo>
                  <a:cubicBezTo>
                    <a:pt x="18334" y="8801"/>
                    <a:pt x="18369" y="8784"/>
                    <a:pt x="18403" y="8778"/>
                  </a:cubicBezTo>
                  <a:cubicBezTo>
                    <a:pt x="18403" y="8790"/>
                    <a:pt x="18413" y="8790"/>
                    <a:pt x="18422" y="8790"/>
                  </a:cubicBezTo>
                  <a:cubicBezTo>
                    <a:pt x="18431" y="8784"/>
                    <a:pt x="18436" y="8784"/>
                    <a:pt x="18447" y="8784"/>
                  </a:cubicBezTo>
                  <a:cubicBezTo>
                    <a:pt x="18452" y="8790"/>
                    <a:pt x="18456" y="8796"/>
                    <a:pt x="18456" y="8801"/>
                  </a:cubicBezTo>
                  <a:cubicBezTo>
                    <a:pt x="18466" y="8825"/>
                    <a:pt x="18475" y="8852"/>
                    <a:pt x="18493" y="8864"/>
                  </a:cubicBezTo>
                  <a:cubicBezTo>
                    <a:pt x="18514" y="8875"/>
                    <a:pt x="18537" y="8869"/>
                    <a:pt x="18548" y="8852"/>
                  </a:cubicBezTo>
                  <a:cubicBezTo>
                    <a:pt x="18553" y="8846"/>
                    <a:pt x="18553" y="8831"/>
                    <a:pt x="18558" y="8825"/>
                  </a:cubicBezTo>
                  <a:cubicBezTo>
                    <a:pt x="18562" y="8807"/>
                    <a:pt x="18571" y="8796"/>
                    <a:pt x="18581" y="8784"/>
                  </a:cubicBezTo>
                  <a:cubicBezTo>
                    <a:pt x="18606" y="8751"/>
                    <a:pt x="18638" y="8739"/>
                    <a:pt x="18663" y="8710"/>
                  </a:cubicBezTo>
                  <a:cubicBezTo>
                    <a:pt x="18682" y="8689"/>
                    <a:pt x="18693" y="8657"/>
                    <a:pt x="18712" y="8639"/>
                  </a:cubicBezTo>
                  <a:cubicBezTo>
                    <a:pt x="18730" y="8618"/>
                    <a:pt x="18760" y="8609"/>
                    <a:pt x="18778" y="8627"/>
                  </a:cubicBezTo>
                  <a:cubicBezTo>
                    <a:pt x="18788" y="8639"/>
                    <a:pt x="18795" y="8654"/>
                    <a:pt x="18804" y="8665"/>
                  </a:cubicBezTo>
                  <a:cubicBezTo>
                    <a:pt x="18818" y="8683"/>
                    <a:pt x="18836" y="8689"/>
                    <a:pt x="18857" y="8683"/>
                  </a:cubicBezTo>
                  <a:cubicBezTo>
                    <a:pt x="18852" y="8701"/>
                    <a:pt x="18843" y="8722"/>
                    <a:pt x="18836" y="8739"/>
                  </a:cubicBezTo>
                  <a:cubicBezTo>
                    <a:pt x="18836" y="8745"/>
                    <a:pt x="18831" y="8751"/>
                    <a:pt x="18836" y="8757"/>
                  </a:cubicBezTo>
                  <a:cubicBezTo>
                    <a:pt x="18843" y="8763"/>
                    <a:pt x="18847" y="8763"/>
                    <a:pt x="18857" y="8763"/>
                  </a:cubicBezTo>
                  <a:cubicBezTo>
                    <a:pt x="18891" y="8772"/>
                    <a:pt x="18923" y="8807"/>
                    <a:pt x="18923" y="8858"/>
                  </a:cubicBezTo>
                  <a:cubicBezTo>
                    <a:pt x="18923" y="8887"/>
                    <a:pt x="18914" y="8926"/>
                    <a:pt x="18933" y="8943"/>
                  </a:cubicBezTo>
                  <a:cubicBezTo>
                    <a:pt x="18949" y="8955"/>
                    <a:pt x="18972" y="8943"/>
                    <a:pt x="18985" y="8926"/>
                  </a:cubicBezTo>
                  <a:cubicBezTo>
                    <a:pt x="18976" y="8943"/>
                    <a:pt x="18985" y="8964"/>
                    <a:pt x="19002" y="8970"/>
                  </a:cubicBezTo>
                  <a:cubicBezTo>
                    <a:pt x="19015" y="8976"/>
                    <a:pt x="19029" y="8964"/>
                    <a:pt x="19041" y="8949"/>
                  </a:cubicBezTo>
                  <a:cubicBezTo>
                    <a:pt x="19050" y="8937"/>
                    <a:pt x="19054" y="8914"/>
                    <a:pt x="19054" y="8902"/>
                  </a:cubicBezTo>
                  <a:cubicBezTo>
                    <a:pt x="19064" y="8852"/>
                    <a:pt x="19068" y="8807"/>
                    <a:pt x="19073" y="8757"/>
                  </a:cubicBezTo>
                  <a:cubicBezTo>
                    <a:pt x="19073" y="8739"/>
                    <a:pt x="19077" y="8713"/>
                    <a:pt x="19082" y="8695"/>
                  </a:cubicBezTo>
                  <a:cubicBezTo>
                    <a:pt x="19089" y="8674"/>
                    <a:pt x="19107" y="8660"/>
                    <a:pt x="19121" y="8660"/>
                  </a:cubicBezTo>
                  <a:lnTo>
                    <a:pt x="19142" y="8660"/>
                  </a:lnTo>
                  <a:cubicBezTo>
                    <a:pt x="19151" y="8648"/>
                    <a:pt x="19151" y="8615"/>
                    <a:pt x="19160" y="8615"/>
                  </a:cubicBezTo>
                  <a:cubicBezTo>
                    <a:pt x="19160" y="8597"/>
                    <a:pt x="19165" y="8571"/>
                    <a:pt x="19165" y="8553"/>
                  </a:cubicBezTo>
                  <a:cubicBezTo>
                    <a:pt x="19195" y="8553"/>
                    <a:pt x="19227" y="8547"/>
                    <a:pt x="19248" y="8509"/>
                  </a:cubicBezTo>
                  <a:cubicBezTo>
                    <a:pt x="19252" y="8497"/>
                    <a:pt x="19257" y="8479"/>
                    <a:pt x="19261" y="8467"/>
                  </a:cubicBezTo>
                  <a:cubicBezTo>
                    <a:pt x="19266" y="8456"/>
                    <a:pt x="19275" y="8441"/>
                    <a:pt x="19291" y="8441"/>
                  </a:cubicBezTo>
                  <a:cubicBezTo>
                    <a:pt x="19296" y="8441"/>
                    <a:pt x="19301" y="8447"/>
                    <a:pt x="19305" y="8447"/>
                  </a:cubicBezTo>
                  <a:cubicBezTo>
                    <a:pt x="19319" y="8447"/>
                    <a:pt x="19328" y="8435"/>
                    <a:pt x="19335" y="8423"/>
                  </a:cubicBezTo>
                  <a:cubicBezTo>
                    <a:pt x="19340" y="8405"/>
                    <a:pt x="19340" y="8393"/>
                    <a:pt x="19340" y="8373"/>
                  </a:cubicBezTo>
                  <a:cubicBezTo>
                    <a:pt x="19353" y="8349"/>
                    <a:pt x="19381" y="8337"/>
                    <a:pt x="19406" y="8331"/>
                  </a:cubicBezTo>
                  <a:cubicBezTo>
                    <a:pt x="19420" y="8322"/>
                    <a:pt x="19436" y="8317"/>
                    <a:pt x="19455" y="8317"/>
                  </a:cubicBezTo>
                  <a:cubicBezTo>
                    <a:pt x="19468" y="8311"/>
                    <a:pt x="19489" y="8311"/>
                    <a:pt x="19498" y="8322"/>
                  </a:cubicBezTo>
                  <a:cubicBezTo>
                    <a:pt x="19526" y="8281"/>
                    <a:pt x="19560" y="8237"/>
                    <a:pt x="19600" y="8207"/>
                  </a:cubicBezTo>
                  <a:cubicBezTo>
                    <a:pt x="19618" y="8192"/>
                    <a:pt x="19634" y="8181"/>
                    <a:pt x="19648" y="8169"/>
                  </a:cubicBezTo>
                  <a:cubicBezTo>
                    <a:pt x="19666" y="8151"/>
                    <a:pt x="19682" y="8118"/>
                    <a:pt x="19701" y="8095"/>
                  </a:cubicBezTo>
                  <a:cubicBezTo>
                    <a:pt x="19705" y="8089"/>
                    <a:pt x="19710" y="8083"/>
                    <a:pt x="19715" y="8083"/>
                  </a:cubicBezTo>
                  <a:cubicBezTo>
                    <a:pt x="19724" y="8083"/>
                    <a:pt x="19731" y="8083"/>
                    <a:pt x="19740" y="8089"/>
                  </a:cubicBezTo>
                  <a:cubicBezTo>
                    <a:pt x="19772" y="8101"/>
                    <a:pt x="19811" y="8068"/>
                    <a:pt x="19816" y="8027"/>
                  </a:cubicBezTo>
                  <a:cubicBezTo>
                    <a:pt x="19816" y="8021"/>
                    <a:pt x="19816" y="8006"/>
                    <a:pt x="19820" y="8000"/>
                  </a:cubicBezTo>
                  <a:cubicBezTo>
                    <a:pt x="19825" y="7994"/>
                    <a:pt x="19832" y="7988"/>
                    <a:pt x="19836" y="7988"/>
                  </a:cubicBezTo>
                  <a:cubicBezTo>
                    <a:pt x="19855" y="7982"/>
                    <a:pt x="19873" y="7971"/>
                    <a:pt x="19894" y="7971"/>
                  </a:cubicBezTo>
                  <a:cubicBezTo>
                    <a:pt x="19912" y="7971"/>
                    <a:pt x="19933" y="7977"/>
                    <a:pt x="19947" y="8000"/>
                  </a:cubicBezTo>
                  <a:cubicBezTo>
                    <a:pt x="19951" y="8006"/>
                    <a:pt x="19951" y="8015"/>
                    <a:pt x="19956" y="8021"/>
                  </a:cubicBezTo>
                  <a:cubicBezTo>
                    <a:pt x="19970" y="8033"/>
                    <a:pt x="20000" y="8015"/>
                    <a:pt x="20009" y="8033"/>
                  </a:cubicBezTo>
                  <a:cubicBezTo>
                    <a:pt x="20014" y="8039"/>
                    <a:pt x="20014" y="8045"/>
                    <a:pt x="20014" y="8050"/>
                  </a:cubicBezTo>
                  <a:cubicBezTo>
                    <a:pt x="20018" y="8077"/>
                    <a:pt x="20048" y="8083"/>
                    <a:pt x="20066" y="8083"/>
                  </a:cubicBezTo>
                  <a:cubicBezTo>
                    <a:pt x="20092" y="8083"/>
                    <a:pt x="20115" y="8083"/>
                    <a:pt x="20140" y="8077"/>
                  </a:cubicBezTo>
                  <a:cubicBezTo>
                    <a:pt x="20149" y="8077"/>
                    <a:pt x="20158" y="8068"/>
                    <a:pt x="20163" y="8077"/>
                  </a:cubicBezTo>
                  <a:cubicBezTo>
                    <a:pt x="20179" y="8083"/>
                    <a:pt x="20188" y="8101"/>
                    <a:pt x="20202" y="8101"/>
                  </a:cubicBezTo>
                  <a:cubicBezTo>
                    <a:pt x="20223" y="8062"/>
                    <a:pt x="20223" y="8015"/>
                    <a:pt x="20211" y="7977"/>
                  </a:cubicBezTo>
                  <a:cubicBezTo>
                    <a:pt x="20193" y="7914"/>
                    <a:pt x="20149" y="7870"/>
                    <a:pt x="20154" y="7808"/>
                  </a:cubicBezTo>
                  <a:cubicBezTo>
                    <a:pt x="20154" y="7796"/>
                    <a:pt x="20158" y="7784"/>
                    <a:pt x="20158" y="7773"/>
                  </a:cubicBezTo>
                  <a:cubicBezTo>
                    <a:pt x="20158" y="7752"/>
                    <a:pt x="20154" y="7734"/>
                    <a:pt x="20145" y="7722"/>
                  </a:cubicBezTo>
                  <a:cubicBezTo>
                    <a:pt x="20135" y="7710"/>
                    <a:pt x="20115" y="7705"/>
                    <a:pt x="20106" y="7690"/>
                  </a:cubicBezTo>
                  <a:cubicBezTo>
                    <a:pt x="20092" y="7678"/>
                    <a:pt x="20083" y="7660"/>
                    <a:pt x="20083" y="7642"/>
                  </a:cubicBezTo>
                  <a:cubicBezTo>
                    <a:pt x="20083" y="7637"/>
                    <a:pt x="20087" y="7631"/>
                    <a:pt x="20087" y="7616"/>
                  </a:cubicBezTo>
                  <a:cubicBezTo>
                    <a:pt x="20087" y="7610"/>
                    <a:pt x="20083" y="7598"/>
                    <a:pt x="20078" y="7604"/>
                  </a:cubicBezTo>
                  <a:cubicBezTo>
                    <a:pt x="20083" y="7569"/>
                    <a:pt x="20083" y="7512"/>
                    <a:pt x="20062" y="7486"/>
                  </a:cubicBezTo>
                  <a:cubicBezTo>
                    <a:pt x="20053" y="7474"/>
                    <a:pt x="20039" y="7462"/>
                    <a:pt x="20034" y="7450"/>
                  </a:cubicBezTo>
                  <a:cubicBezTo>
                    <a:pt x="20018" y="7418"/>
                    <a:pt x="20034" y="7382"/>
                    <a:pt x="20048" y="7350"/>
                  </a:cubicBezTo>
                  <a:cubicBezTo>
                    <a:pt x="20030" y="7344"/>
                    <a:pt x="20014" y="7338"/>
                    <a:pt x="19995" y="7332"/>
                  </a:cubicBezTo>
                  <a:cubicBezTo>
                    <a:pt x="19991" y="7332"/>
                    <a:pt x="19986" y="7326"/>
                    <a:pt x="19981" y="7320"/>
                  </a:cubicBezTo>
                  <a:cubicBezTo>
                    <a:pt x="19981" y="7314"/>
                    <a:pt x="19981" y="7314"/>
                    <a:pt x="19986" y="7305"/>
                  </a:cubicBezTo>
                  <a:cubicBezTo>
                    <a:pt x="20000" y="7282"/>
                    <a:pt x="20009" y="7258"/>
                    <a:pt x="20023" y="7232"/>
                  </a:cubicBezTo>
                  <a:cubicBezTo>
                    <a:pt x="20030" y="7226"/>
                    <a:pt x="20030" y="7220"/>
                    <a:pt x="20034" y="7220"/>
                  </a:cubicBezTo>
                  <a:cubicBezTo>
                    <a:pt x="20039" y="7214"/>
                    <a:pt x="20048" y="7220"/>
                    <a:pt x="20053" y="7220"/>
                  </a:cubicBezTo>
                  <a:cubicBezTo>
                    <a:pt x="20083" y="7226"/>
                    <a:pt x="20106" y="7202"/>
                    <a:pt x="20119" y="7169"/>
                  </a:cubicBezTo>
                  <a:cubicBezTo>
                    <a:pt x="20140" y="7146"/>
                    <a:pt x="20158" y="7113"/>
                    <a:pt x="20184" y="7107"/>
                  </a:cubicBezTo>
                  <a:cubicBezTo>
                    <a:pt x="20202" y="7101"/>
                    <a:pt x="20223" y="7107"/>
                    <a:pt x="20241" y="7107"/>
                  </a:cubicBezTo>
                  <a:cubicBezTo>
                    <a:pt x="20260" y="7107"/>
                    <a:pt x="20285" y="7101"/>
                    <a:pt x="20290" y="7078"/>
                  </a:cubicBezTo>
                  <a:cubicBezTo>
                    <a:pt x="20299" y="7045"/>
                    <a:pt x="20280" y="7010"/>
                    <a:pt x="20280" y="6977"/>
                  </a:cubicBezTo>
                  <a:cubicBezTo>
                    <a:pt x="20280" y="6936"/>
                    <a:pt x="20317" y="6903"/>
                    <a:pt x="20352" y="6886"/>
                  </a:cubicBezTo>
                  <a:cubicBezTo>
                    <a:pt x="20338" y="6847"/>
                    <a:pt x="20299" y="6841"/>
                    <a:pt x="20285" y="6812"/>
                  </a:cubicBezTo>
                  <a:cubicBezTo>
                    <a:pt x="20276" y="6785"/>
                    <a:pt x="20280" y="6756"/>
                    <a:pt x="20276" y="6729"/>
                  </a:cubicBezTo>
                  <a:cubicBezTo>
                    <a:pt x="20269" y="6699"/>
                    <a:pt x="20246" y="6667"/>
                    <a:pt x="20246" y="6637"/>
                  </a:cubicBezTo>
                  <a:cubicBezTo>
                    <a:pt x="20246" y="6593"/>
                    <a:pt x="20280" y="6557"/>
                    <a:pt x="20313" y="6575"/>
                  </a:cubicBezTo>
                  <a:cubicBezTo>
                    <a:pt x="20317" y="6581"/>
                    <a:pt x="20329" y="6581"/>
                    <a:pt x="20333" y="6581"/>
                  </a:cubicBezTo>
                  <a:cubicBezTo>
                    <a:pt x="20342" y="6581"/>
                    <a:pt x="20352" y="6569"/>
                    <a:pt x="20361" y="6557"/>
                  </a:cubicBezTo>
                  <a:cubicBezTo>
                    <a:pt x="20372" y="6543"/>
                    <a:pt x="20382" y="6537"/>
                    <a:pt x="20391" y="6552"/>
                  </a:cubicBezTo>
                  <a:cubicBezTo>
                    <a:pt x="20395" y="6557"/>
                    <a:pt x="20395" y="6557"/>
                    <a:pt x="20395" y="6563"/>
                  </a:cubicBezTo>
                  <a:cubicBezTo>
                    <a:pt x="20409" y="6605"/>
                    <a:pt x="20421" y="6655"/>
                    <a:pt x="20391" y="6688"/>
                  </a:cubicBezTo>
                  <a:cubicBezTo>
                    <a:pt x="20382" y="6699"/>
                    <a:pt x="20372" y="6705"/>
                    <a:pt x="20365" y="6717"/>
                  </a:cubicBezTo>
                  <a:cubicBezTo>
                    <a:pt x="20361" y="6735"/>
                    <a:pt x="20377" y="6756"/>
                    <a:pt x="20391" y="6761"/>
                  </a:cubicBezTo>
                  <a:cubicBezTo>
                    <a:pt x="20405" y="6767"/>
                    <a:pt x="20421" y="6773"/>
                    <a:pt x="20430" y="6785"/>
                  </a:cubicBezTo>
                  <a:cubicBezTo>
                    <a:pt x="20439" y="6806"/>
                    <a:pt x="20430" y="6832"/>
                    <a:pt x="20414" y="6853"/>
                  </a:cubicBezTo>
                  <a:cubicBezTo>
                    <a:pt x="20400" y="6871"/>
                    <a:pt x="20386" y="6892"/>
                    <a:pt x="20386" y="6915"/>
                  </a:cubicBezTo>
                  <a:cubicBezTo>
                    <a:pt x="20400" y="6909"/>
                    <a:pt x="20409" y="6909"/>
                    <a:pt x="20425" y="6903"/>
                  </a:cubicBezTo>
                  <a:cubicBezTo>
                    <a:pt x="20453" y="6897"/>
                    <a:pt x="20487" y="6892"/>
                    <a:pt x="20515" y="6897"/>
                  </a:cubicBezTo>
                  <a:cubicBezTo>
                    <a:pt x="20531" y="6903"/>
                    <a:pt x="20545" y="6909"/>
                    <a:pt x="20559" y="6909"/>
                  </a:cubicBezTo>
                  <a:cubicBezTo>
                    <a:pt x="20575" y="6909"/>
                    <a:pt x="20589" y="6892"/>
                    <a:pt x="20584" y="6880"/>
                  </a:cubicBezTo>
                  <a:cubicBezTo>
                    <a:pt x="20584" y="6874"/>
                    <a:pt x="20579" y="6859"/>
                    <a:pt x="20579" y="6853"/>
                  </a:cubicBezTo>
                  <a:cubicBezTo>
                    <a:pt x="20579" y="6835"/>
                    <a:pt x="20598" y="6835"/>
                    <a:pt x="20612" y="6835"/>
                  </a:cubicBezTo>
                  <a:cubicBezTo>
                    <a:pt x="20646" y="6841"/>
                    <a:pt x="20681" y="6859"/>
                    <a:pt x="20713" y="6874"/>
                  </a:cubicBezTo>
                  <a:cubicBezTo>
                    <a:pt x="20724" y="6880"/>
                    <a:pt x="20729" y="6880"/>
                    <a:pt x="20733" y="6886"/>
                  </a:cubicBezTo>
                  <a:cubicBezTo>
                    <a:pt x="20738" y="6892"/>
                    <a:pt x="20738" y="6897"/>
                    <a:pt x="20743" y="6903"/>
                  </a:cubicBezTo>
                  <a:cubicBezTo>
                    <a:pt x="20752" y="6921"/>
                    <a:pt x="20777" y="6927"/>
                    <a:pt x="20791" y="6915"/>
                  </a:cubicBezTo>
                  <a:cubicBezTo>
                    <a:pt x="20805" y="6948"/>
                    <a:pt x="20796" y="6989"/>
                    <a:pt x="20791" y="7033"/>
                  </a:cubicBezTo>
                  <a:cubicBezTo>
                    <a:pt x="20791" y="7066"/>
                    <a:pt x="20796" y="7096"/>
                    <a:pt x="20805" y="7128"/>
                  </a:cubicBezTo>
                  <a:cubicBezTo>
                    <a:pt x="20816" y="7152"/>
                    <a:pt x="20835" y="7175"/>
                    <a:pt x="20858" y="7181"/>
                  </a:cubicBezTo>
                  <a:cubicBezTo>
                    <a:pt x="20878" y="7190"/>
                    <a:pt x="20901" y="7169"/>
                    <a:pt x="20911" y="7146"/>
                  </a:cubicBezTo>
                  <a:cubicBezTo>
                    <a:pt x="20966" y="7214"/>
                    <a:pt x="21019" y="7288"/>
                    <a:pt x="21067" y="7356"/>
                  </a:cubicBezTo>
                  <a:cubicBezTo>
                    <a:pt x="21072" y="7362"/>
                    <a:pt x="21076" y="7368"/>
                    <a:pt x="21085" y="7376"/>
                  </a:cubicBezTo>
                  <a:cubicBezTo>
                    <a:pt x="21099" y="7382"/>
                    <a:pt x="21115" y="7376"/>
                    <a:pt x="21124" y="7368"/>
                  </a:cubicBezTo>
                  <a:cubicBezTo>
                    <a:pt x="21124" y="7394"/>
                    <a:pt x="21150" y="7418"/>
                    <a:pt x="21168" y="7406"/>
                  </a:cubicBezTo>
                  <a:cubicBezTo>
                    <a:pt x="21189" y="7394"/>
                    <a:pt x="21177" y="7350"/>
                    <a:pt x="21157" y="7344"/>
                  </a:cubicBezTo>
                  <a:cubicBezTo>
                    <a:pt x="21191" y="7344"/>
                    <a:pt x="21226" y="7344"/>
                    <a:pt x="21253" y="7332"/>
                  </a:cubicBezTo>
                  <a:cubicBezTo>
                    <a:pt x="21260" y="7305"/>
                    <a:pt x="21244" y="7282"/>
                    <a:pt x="21226" y="7276"/>
                  </a:cubicBezTo>
                  <a:cubicBezTo>
                    <a:pt x="21205" y="7264"/>
                    <a:pt x="21187" y="7258"/>
                    <a:pt x="21173" y="7237"/>
                  </a:cubicBezTo>
                  <a:cubicBezTo>
                    <a:pt x="21168" y="7232"/>
                    <a:pt x="21168" y="7226"/>
                    <a:pt x="21168" y="7226"/>
                  </a:cubicBezTo>
                  <a:cubicBezTo>
                    <a:pt x="21168" y="7220"/>
                    <a:pt x="21173" y="7214"/>
                    <a:pt x="21182" y="7214"/>
                  </a:cubicBezTo>
                  <a:cubicBezTo>
                    <a:pt x="21212" y="7202"/>
                    <a:pt x="21239" y="7181"/>
                    <a:pt x="21269" y="7169"/>
                  </a:cubicBezTo>
                  <a:cubicBezTo>
                    <a:pt x="21279" y="7134"/>
                    <a:pt x="21249" y="7096"/>
                    <a:pt x="21221" y="7101"/>
                  </a:cubicBezTo>
                  <a:cubicBezTo>
                    <a:pt x="21216" y="7090"/>
                    <a:pt x="21212" y="7066"/>
                    <a:pt x="21212" y="7051"/>
                  </a:cubicBezTo>
                  <a:cubicBezTo>
                    <a:pt x="21230" y="7060"/>
                    <a:pt x="21249" y="7022"/>
                    <a:pt x="21239" y="6998"/>
                  </a:cubicBezTo>
                  <a:cubicBezTo>
                    <a:pt x="21235" y="6983"/>
                    <a:pt x="21226" y="6977"/>
                    <a:pt x="21226" y="6965"/>
                  </a:cubicBezTo>
                  <a:cubicBezTo>
                    <a:pt x="21226" y="6954"/>
                    <a:pt x="21239" y="6948"/>
                    <a:pt x="21244" y="6927"/>
                  </a:cubicBezTo>
                  <a:cubicBezTo>
                    <a:pt x="21253" y="6897"/>
                    <a:pt x="21212" y="6886"/>
                    <a:pt x="21205" y="6853"/>
                  </a:cubicBezTo>
                  <a:cubicBezTo>
                    <a:pt x="21200" y="6829"/>
                    <a:pt x="21230" y="6818"/>
                    <a:pt x="21249" y="6824"/>
                  </a:cubicBezTo>
                  <a:cubicBezTo>
                    <a:pt x="21269" y="6835"/>
                    <a:pt x="21283" y="6853"/>
                    <a:pt x="21297" y="6865"/>
                  </a:cubicBezTo>
                  <a:cubicBezTo>
                    <a:pt x="21318" y="6880"/>
                    <a:pt x="21345" y="6877"/>
                    <a:pt x="21350" y="6853"/>
                  </a:cubicBezTo>
                  <a:cubicBezTo>
                    <a:pt x="21354" y="6826"/>
                    <a:pt x="21336" y="6797"/>
                    <a:pt x="21341" y="6773"/>
                  </a:cubicBezTo>
                  <a:cubicBezTo>
                    <a:pt x="21354" y="6761"/>
                    <a:pt x="21371" y="6779"/>
                    <a:pt x="21380" y="6791"/>
                  </a:cubicBezTo>
                  <a:cubicBezTo>
                    <a:pt x="21398" y="6812"/>
                    <a:pt x="21419" y="6829"/>
                    <a:pt x="21442" y="6835"/>
                  </a:cubicBezTo>
                  <a:cubicBezTo>
                    <a:pt x="21467" y="6785"/>
                    <a:pt x="21490" y="6735"/>
                    <a:pt x="21486" y="6682"/>
                  </a:cubicBezTo>
                  <a:cubicBezTo>
                    <a:pt x="21515" y="6673"/>
                    <a:pt x="21543" y="6649"/>
                    <a:pt x="21564" y="6625"/>
                  </a:cubicBezTo>
                  <a:lnTo>
                    <a:pt x="21568" y="6620"/>
                  </a:lnTo>
                  <a:cubicBezTo>
                    <a:pt x="21596" y="6537"/>
                    <a:pt x="21596" y="6531"/>
                    <a:pt x="21591" y="6525"/>
                  </a:cubicBezTo>
                  <a:close/>
                  <a:moveTo>
                    <a:pt x="18620" y="4813"/>
                  </a:moveTo>
                  <a:lnTo>
                    <a:pt x="18622" y="4813"/>
                  </a:lnTo>
                  <a:lnTo>
                    <a:pt x="18620" y="4813"/>
                  </a:lnTo>
                  <a:close/>
                  <a:moveTo>
                    <a:pt x="11579" y="1215"/>
                  </a:moveTo>
                  <a:cubicBezTo>
                    <a:pt x="11579" y="1218"/>
                    <a:pt x="11579" y="1218"/>
                    <a:pt x="11579" y="1218"/>
                  </a:cubicBezTo>
                  <a:cubicBezTo>
                    <a:pt x="11579" y="1218"/>
                    <a:pt x="11579" y="1218"/>
                    <a:pt x="11579" y="1215"/>
                  </a:cubicBezTo>
                  <a:close/>
                  <a:moveTo>
                    <a:pt x="6563" y="3864"/>
                  </a:moveTo>
                  <a:cubicBezTo>
                    <a:pt x="6560" y="3864"/>
                    <a:pt x="6558" y="3861"/>
                    <a:pt x="6556" y="3861"/>
                  </a:cubicBezTo>
                  <a:cubicBezTo>
                    <a:pt x="6558" y="3861"/>
                    <a:pt x="6560" y="3861"/>
                    <a:pt x="6563" y="3864"/>
                  </a:cubicBezTo>
                  <a:close/>
                  <a:moveTo>
                    <a:pt x="6195" y="5954"/>
                  </a:moveTo>
                  <a:moveTo>
                    <a:pt x="6151" y="5230"/>
                  </a:moveTo>
                  <a:cubicBezTo>
                    <a:pt x="6151" y="5230"/>
                    <a:pt x="6149" y="5230"/>
                    <a:pt x="6149" y="5227"/>
                  </a:cubicBezTo>
                  <a:cubicBezTo>
                    <a:pt x="6149" y="5227"/>
                    <a:pt x="6151" y="5227"/>
                    <a:pt x="6151" y="5230"/>
                  </a:cubicBezTo>
                  <a:close/>
                  <a:moveTo>
                    <a:pt x="58" y="14658"/>
                  </a:moveTo>
                  <a:moveTo>
                    <a:pt x="10123" y="19690"/>
                  </a:moveTo>
                  <a:cubicBezTo>
                    <a:pt x="10121" y="19687"/>
                    <a:pt x="10121" y="19687"/>
                    <a:pt x="10121" y="19687"/>
                  </a:cubicBezTo>
                  <a:cubicBezTo>
                    <a:pt x="10121" y="19687"/>
                    <a:pt x="10121" y="19687"/>
                    <a:pt x="10123" y="19690"/>
                  </a:cubicBezTo>
                  <a:close/>
                </a:path>
              </a:pathLst>
            </a:custGeom>
            <a:solidFill>
              <a:srgbClr val="919191"/>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6324" name="Group 3713"/>
          <p:cNvGrpSpPr/>
          <p:nvPr/>
        </p:nvGrpSpPr>
        <p:grpSpPr>
          <a:xfrm>
            <a:off x="16899120" y="1729800"/>
            <a:ext cx="2315880" cy="3053520"/>
            <a:chOff x="16899120" y="1729800"/>
            <a:chExt cx="2315880" cy="3053520"/>
          </a:xfrm>
        </p:grpSpPr>
        <p:sp>
          <p:nvSpPr>
            <p:cNvPr id="6325" name="Shape 3679"/>
            <p:cNvSpPr/>
            <p:nvPr/>
          </p:nvSpPr>
          <p:spPr>
            <a:xfrm>
              <a:off x="17160840" y="4729320"/>
              <a:ext cx="16920" cy="15120"/>
            </a:xfrm>
            <a:custGeom>
              <a:avLst/>
              <a:gdLst>
                <a:gd name="textAreaLeft" fmla="*/ 0 w 16920"/>
                <a:gd name="textAreaRight" fmla="*/ 17280 w 16920"/>
                <a:gd name="textAreaTop" fmla="*/ 0 h 15120"/>
                <a:gd name="textAreaBottom" fmla="*/ 15480 h 15120"/>
              </a:gdLst>
              <a:ahLst/>
              <a:rect l="textAreaLeft" t="textAreaTop" r="textAreaRight" b="textAreaBottom"/>
              <a:pathLst>
                <a:path w="20029" h="21600">
                  <a:moveTo>
                    <a:pt x="4730" y="1350"/>
                  </a:moveTo>
                  <a:cubicBezTo>
                    <a:pt x="4730" y="0"/>
                    <a:pt x="2673" y="0"/>
                    <a:pt x="1644" y="0"/>
                  </a:cubicBezTo>
                  <a:cubicBezTo>
                    <a:pt x="2673" y="2700"/>
                    <a:pt x="1644" y="7425"/>
                    <a:pt x="616" y="10125"/>
                  </a:cubicBezTo>
                  <a:cubicBezTo>
                    <a:pt x="-413" y="12825"/>
                    <a:pt x="-413" y="18225"/>
                    <a:pt x="2673" y="20250"/>
                  </a:cubicBezTo>
                  <a:cubicBezTo>
                    <a:pt x="4730" y="20250"/>
                    <a:pt x="5758" y="18225"/>
                    <a:pt x="8330" y="16875"/>
                  </a:cubicBezTo>
                  <a:cubicBezTo>
                    <a:pt x="11416" y="15525"/>
                    <a:pt x="14501" y="16875"/>
                    <a:pt x="16558" y="21600"/>
                  </a:cubicBezTo>
                  <a:cubicBezTo>
                    <a:pt x="21187" y="20250"/>
                    <a:pt x="21187" y="10800"/>
                    <a:pt x="16558" y="7425"/>
                  </a:cubicBezTo>
                  <a:cubicBezTo>
                    <a:pt x="14501" y="6750"/>
                    <a:pt x="13473" y="7425"/>
                    <a:pt x="11416" y="7425"/>
                  </a:cubicBezTo>
                  <a:cubicBezTo>
                    <a:pt x="9358" y="7425"/>
                    <a:pt x="12444" y="2700"/>
                    <a:pt x="11416" y="1350"/>
                  </a:cubicBezTo>
                  <a:cubicBezTo>
                    <a:pt x="10387" y="6075"/>
                    <a:pt x="5758" y="1350"/>
                    <a:pt x="5758" y="7425"/>
                  </a:cubicBezTo>
                  <a:cubicBezTo>
                    <a:pt x="5758" y="4725"/>
                    <a:pt x="5758" y="1350"/>
                    <a:pt x="4730" y="1350"/>
                  </a:cubicBezTo>
                </a:path>
              </a:pathLst>
            </a:custGeom>
            <a:solidFill>
              <a:srgbClr val="c0c0c0"/>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26" name="Shape 3680"/>
            <p:cNvSpPr/>
            <p:nvPr/>
          </p:nvSpPr>
          <p:spPr>
            <a:xfrm>
              <a:off x="17089560" y="4753800"/>
              <a:ext cx="16200" cy="19440"/>
            </a:xfrm>
            <a:custGeom>
              <a:avLst/>
              <a:gdLst>
                <a:gd name="textAreaLeft" fmla="*/ 0 w 16200"/>
                <a:gd name="textAreaRight" fmla="*/ 16560 w 16200"/>
                <a:gd name="textAreaTop" fmla="*/ 0 h 19440"/>
                <a:gd name="textAreaBottom" fmla="*/ 19800 h 19440"/>
              </a:gdLst>
              <a:ahLst/>
              <a:rect l="textAreaLeft" t="textAreaTop" r="textAreaRight" b="textAreaBottom"/>
              <a:pathLst>
                <a:path w="21210" h="20842">
                  <a:moveTo>
                    <a:pt x="5863" y="3757"/>
                  </a:moveTo>
                  <a:cubicBezTo>
                    <a:pt x="4726" y="3757"/>
                    <a:pt x="3589" y="3757"/>
                    <a:pt x="1884" y="3757"/>
                  </a:cubicBezTo>
                  <a:cubicBezTo>
                    <a:pt x="-390" y="7983"/>
                    <a:pt x="-390" y="11739"/>
                    <a:pt x="747" y="14557"/>
                  </a:cubicBezTo>
                  <a:cubicBezTo>
                    <a:pt x="1884" y="18783"/>
                    <a:pt x="6431" y="21600"/>
                    <a:pt x="11547" y="20661"/>
                  </a:cubicBezTo>
                  <a:cubicBezTo>
                    <a:pt x="16094" y="19722"/>
                    <a:pt x="20073" y="15496"/>
                    <a:pt x="17799" y="11739"/>
                  </a:cubicBezTo>
                  <a:cubicBezTo>
                    <a:pt x="15526" y="8922"/>
                    <a:pt x="10410" y="6574"/>
                    <a:pt x="11547" y="3757"/>
                  </a:cubicBezTo>
                  <a:cubicBezTo>
                    <a:pt x="15526" y="3757"/>
                    <a:pt x="18936" y="4696"/>
                    <a:pt x="21210" y="6574"/>
                  </a:cubicBezTo>
                  <a:cubicBezTo>
                    <a:pt x="20073" y="5635"/>
                    <a:pt x="21210" y="4696"/>
                    <a:pt x="20073" y="3757"/>
                  </a:cubicBezTo>
                  <a:cubicBezTo>
                    <a:pt x="20073" y="2817"/>
                    <a:pt x="18936" y="2817"/>
                    <a:pt x="17799" y="1878"/>
                  </a:cubicBezTo>
                  <a:cubicBezTo>
                    <a:pt x="16663" y="939"/>
                    <a:pt x="13821" y="0"/>
                    <a:pt x="12684" y="0"/>
                  </a:cubicBezTo>
                  <a:cubicBezTo>
                    <a:pt x="11547" y="0"/>
                    <a:pt x="11547" y="0"/>
                    <a:pt x="10410" y="0"/>
                  </a:cubicBezTo>
                  <a:cubicBezTo>
                    <a:pt x="10410" y="939"/>
                    <a:pt x="8136" y="1878"/>
                    <a:pt x="5863" y="3757"/>
                  </a:cubicBezTo>
                </a:path>
              </a:pathLst>
            </a:custGeom>
            <a:solidFill>
              <a:srgbClr val="c0c0c0"/>
            </a:solidFill>
            <a:ln w="12700">
              <a:noFill/>
            </a:ln>
          </p:spPr>
          <p:style>
            <a:lnRef idx="0"/>
            <a:fillRef idx="0"/>
            <a:effectRef idx="0"/>
            <a:fontRef idx="minor"/>
          </p:style>
          <p:txBody>
            <a:bodyPr numCol="1" spcCol="0"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27" name="Shape 3681"/>
            <p:cNvSpPr/>
            <p:nvPr/>
          </p:nvSpPr>
          <p:spPr>
            <a:xfrm>
              <a:off x="17111880" y="4764240"/>
              <a:ext cx="17280" cy="19080"/>
            </a:xfrm>
            <a:custGeom>
              <a:avLst/>
              <a:gdLst>
                <a:gd name="textAreaLeft" fmla="*/ 0 w 17280"/>
                <a:gd name="textAreaRight" fmla="*/ 17640 w 17280"/>
                <a:gd name="textAreaTop" fmla="*/ 0 h 19080"/>
                <a:gd name="textAreaBottom" fmla="*/ 19440 h 19080"/>
              </a:gdLst>
              <a:ahLst/>
              <a:rect l="textAreaLeft" t="textAreaTop" r="textAreaRight" b="textAreaBottom"/>
              <a:pathLst>
                <a:path w="20282" h="20177">
                  <a:moveTo>
                    <a:pt x="225" y="9964"/>
                  </a:moveTo>
                  <a:cubicBezTo>
                    <a:pt x="-1318" y="4799"/>
                    <a:pt x="5368" y="-836"/>
                    <a:pt x="11025" y="103"/>
                  </a:cubicBezTo>
                  <a:cubicBezTo>
                    <a:pt x="8453" y="103"/>
                    <a:pt x="7425" y="2921"/>
                    <a:pt x="8453" y="4799"/>
                  </a:cubicBezTo>
                  <a:cubicBezTo>
                    <a:pt x="9482" y="7147"/>
                    <a:pt x="12053" y="8086"/>
                    <a:pt x="14111" y="8086"/>
                  </a:cubicBezTo>
                  <a:cubicBezTo>
                    <a:pt x="16168" y="8086"/>
                    <a:pt x="18225" y="9025"/>
                    <a:pt x="20282" y="10903"/>
                  </a:cubicBezTo>
                  <a:cubicBezTo>
                    <a:pt x="17196" y="12781"/>
                    <a:pt x="17196" y="17947"/>
                    <a:pt x="14111" y="19825"/>
                  </a:cubicBezTo>
                  <a:cubicBezTo>
                    <a:pt x="12053" y="20764"/>
                    <a:pt x="7425" y="19825"/>
                    <a:pt x="6396" y="17007"/>
                  </a:cubicBezTo>
                  <a:cubicBezTo>
                    <a:pt x="5368" y="14660"/>
                    <a:pt x="5368" y="11842"/>
                    <a:pt x="5368" y="9025"/>
                  </a:cubicBezTo>
                  <a:cubicBezTo>
                    <a:pt x="4339" y="9025"/>
                    <a:pt x="2282" y="9025"/>
                    <a:pt x="225" y="9964"/>
                  </a:cubicBezTo>
                </a:path>
              </a:pathLst>
            </a:custGeom>
            <a:solidFill>
              <a:srgbClr val="c0c0c0"/>
            </a:solidFill>
            <a:ln w="12700">
              <a:noFill/>
            </a:ln>
          </p:spPr>
          <p:style>
            <a:lnRef idx="0"/>
            <a:fillRef idx="0"/>
            <a:effectRef idx="0"/>
            <a:fontRef idx="minor"/>
          </p:style>
          <p:txBody>
            <a:bodyPr numCol="1" spcCol="0" lIns="45720" rIns="45720" tIns="9720" bIns="9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28" name="Shape 3682"/>
            <p:cNvSpPr/>
            <p:nvPr/>
          </p:nvSpPr>
          <p:spPr>
            <a:xfrm>
              <a:off x="17162640" y="4671000"/>
              <a:ext cx="19080" cy="16560"/>
            </a:xfrm>
            <a:custGeom>
              <a:avLst/>
              <a:gdLst>
                <a:gd name="textAreaLeft" fmla="*/ 0 w 19080"/>
                <a:gd name="textAreaRight" fmla="*/ 19440 w 19080"/>
                <a:gd name="textAreaTop" fmla="*/ 0 h 16560"/>
                <a:gd name="textAreaBottom" fmla="*/ 16920 h 16560"/>
              </a:gdLst>
              <a:ahLst/>
              <a:rect l="textAreaLeft" t="textAreaTop" r="textAreaRight" b="textAreaBottom"/>
              <a:pathLst>
                <a:path w="20236" h="21600">
                  <a:moveTo>
                    <a:pt x="0" y="0"/>
                  </a:moveTo>
                  <a:cubicBezTo>
                    <a:pt x="0" y="4547"/>
                    <a:pt x="0" y="8526"/>
                    <a:pt x="0" y="13074"/>
                  </a:cubicBezTo>
                  <a:cubicBezTo>
                    <a:pt x="0" y="14211"/>
                    <a:pt x="0" y="15347"/>
                    <a:pt x="0" y="15347"/>
                  </a:cubicBezTo>
                  <a:cubicBezTo>
                    <a:pt x="0" y="16484"/>
                    <a:pt x="900" y="16484"/>
                    <a:pt x="1800" y="16484"/>
                  </a:cubicBezTo>
                  <a:cubicBezTo>
                    <a:pt x="4500" y="17621"/>
                    <a:pt x="7650" y="19326"/>
                    <a:pt x="10350" y="21600"/>
                  </a:cubicBezTo>
                  <a:cubicBezTo>
                    <a:pt x="10350" y="19326"/>
                    <a:pt x="12600" y="16484"/>
                    <a:pt x="14850" y="16484"/>
                  </a:cubicBezTo>
                  <a:cubicBezTo>
                    <a:pt x="16650" y="16484"/>
                    <a:pt x="18900" y="19326"/>
                    <a:pt x="18900" y="21600"/>
                  </a:cubicBezTo>
                  <a:cubicBezTo>
                    <a:pt x="21600" y="17621"/>
                    <a:pt x="19800" y="10800"/>
                    <a:pt x="17100" y="7389"/>
                  </a:cubicBezTo>
                  <a:cubicBezTo>
                    <a:pt x="16200" y="4547"/>
                    <a:pt x="13950" y="2274"/>
                    <a:pt x="11250" y="1137"/>
                  </a:cubicBezTo>
                  <a:cubicBezTo>
                    <a:pt x="9450" y="1137"/>
                    <a:pt x="6750" y="3411"/>
                    <a:pt x="7650" y="5684"/>
                  </a:cubicBezTo>
                  <a:cubicBezTo>
                    <a:pt x="5850" y="3411"/>
                    <a:pt x="2700" y="2274"/>
                    <a:pt x="0" y="0"/>
                  </a:cubicBezTo>
                </a:path>
              </a:pathLst>
            </a:custGeom>
            <a:solidFill>
              <a:srgbClr val="c0c0c0"/>
            </a:solidFill>
            <a:ln w="12700">
              <a:noFill/>
            </a:ln>
          </p:spPr>
          <p:style>
            <a:lnRef idx="0"/>
            <a:fillRef idx="0"/>
            <a:effectRef idx="0"/>
            <a:fontRef idx="minor"/>
          </p:style>
          <p:txBody>
            <a:bodyPr numCol="1" spcCol="0" lIns="45720" rIns="45720" tIns="8280" bIns="82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29" name="Shape 3683"/>
            <p:cNvSpPr/>
            <p:nvPr/>
          </p:nvSpPr>
          <p:spPr>
            <a:xfrm>
              <a:off x="17743320" y="338724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9600" h="16200">
                  <a:moveTo>
                    <a:pt x="0" y="0"/>
                  </a:moveTo>
                  <a:cubicBezTo>
                    <a:pt x="0" y="21600"/>
                    <a:pt x="21600" y="21600"/>
                    <a:pt x="0" y="0"/>
                  </a:cubicBezTo>
                </a:path>
              </a:pathLst>
            </a:custGeom>
            <a:solidFill>
              <a:srgbClr val="c0c0c0"/>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0" name="Shape 3684"/>
            <p:cNvSpPr/>
            <p:nvPr/>
          </p:nvSpPr>
          <p:spPr>
            <a:xfrm>
              <a:off x="18707760" y="3049920"/>
              <a:ext cx="65520" cy="69120"/>
            </a:xfrm>
            <a:custGeom>
              <a:avLst/>
              <a:gdLst>
                <a:gd name="textAreaLeft" fmla="*/ 0 w 65520"/>
                <a:gd name="textAreaRight" fmla="*/ 65880 w 65520"/>
                <a:gd name="textAreaTop" fmla="*/ 0 h 69120"/>
                <a:gd name="textAreaBottom" fmla="*/ 69480 h 69120"/>
              </a:gdLst>
              <a:ahLst/>
              <a:rect l="textAreaLeft" t="textAreaTop" r="textAreaRight" b="textAreaBottom"/>
              <a:pathLst>
                <a:path w="20183" h="21233">
                  <a:moveTo>
                    <a:pt x="596" y="21233"/>
                  </a:moveTo>
                  <a:cubicBezTo>
                    <a:pt x="1663" y="20033"/>
                    <a:pt x="2730" y="18966"/>
                    <a:pt x="3663" y="17633"/>
                  </a:cubicBezTo>
                  <a:cubicBezTo>
                    <a:pt x="4463" y="18433"/>
                    <a:pt x="4996" y="19233"/>
                    <a:pt x="4996" y="20433"/>
                  </a:cubicBezTo>
                  <a:cubicBezTo>
                    <a:pt x="6730" y="20433"/>
                    <a:pt x="8330" y="20033"/>
                    <a:pt x="10063" y="20033"/>
                  </a:cubicBezTo>
                  <a:cubicBezTo>
                    <a:pt x="10596" y="20033"/>
                    <a:pt x="11396" y="20033"/>
                    <a:pt x="12063" y="19500"/>
                  </a:cubicBezTo>
                  <a:cubicBezTo>
                    <a:pt x="13130" y="18700"/>
                    <a:pt x="13130" y="16966"/>
                    <a:pt x="14196" y="16166"/>
                  </a:cubicBezTo>
                  <a:cubicBezTo>
                    <a:pt x="15130" y="15366"/>
                    <a:pt x="16463" y="15366"/>
                    <a:pt x="17663" y="15100"/>
                  </a:cubicBezTo>
                  <a:cubicBezTo>
                    <a:pt x="18730" y="14833"/>
                    <a:pt x="20063" y="14166"/>
                    <a:pt x="20063" y="13100"/>
                  </a:cubicBezTo>
                  <a:cubicBezTo>
                    <a:pt x="20063" y="12300"/>
                    <a:pt x="19530" y="11633"/>
                    <a:pt x="19530" y="10833"/>
                  </a:cubicBezTo>
                  <a:cubicBezTo>
                    <a:pt x="19530" y="10033"/>
                    <a:pt x="20063" y="9500"/>
                    <a:pt x="20063" y="8566"/>
                  </a:cubicBezTo>
                  <a:cubicBezTo>
                    <a:pt x="20463" y="7766"/>
                    <a:pt x="19796" y="6700"/>
                    <a:pt x="18996" y="6966"/>
                  </a:cubicBezTo>
                  <a:cubicBezTo>
                    <a:pt x="18730" y="6966"/>
                    <a:pt x="18463" y="7233"/>
                    <a:pt x="18196" y="7233"/>
                  </a:cubicBezTo>
                  <a:cubicBezTo>
                    <a:pt x="17263" y="7500"/>
                    <a:pt x="16463" y="6300"/>
                    <a:pt x="16463" y="5500"/>
                  </a:cubicBezTo>
                  <a:cubicBezTo>
                    <a:pt x="16463" y="4566"/>
                    <a:pt x="16196" y="3633"/>
                    <a:pt x="15396" y="3366"/>
                  </a:cubicBezTo>
                  <a:cubicBezTo>
                    <a:pt x="14863" y="2966"/>
                    <a:pt x="13930" y="3366"/>
                    <a:pt x="13396" y="3633"/>
                  </a:cubicBezTo>
                  <a:cubicBezTo>
                    <a:pt x="13663" y="2966"/>
                    <a:pt x="13130" y="2433"/>
                    <a:pt x="12596" y="2166"/>
                  </a:cubicBezTo>
                  <a:cubicBezTo>
                    <a:pt x="12063" y="1900"/>
                    <a:pt x="11396" y="1900"/>
                    <a:pt x="10863" y="1900"/>
                  </a:cubicBezTo>
                  <a:cubicBezTo>
                    <a:pt x="10330" y="1633"/>
                    <a:pt x="10063" y="1366"/>
                    <a:pt x="9530" y="1100"/>
                  </a:cubicBezTo>
                  <a:cubicBezTo>
                    <a:pt x="7530" y="-367"/>
                    <a:pt x="4463" y="-367"/>
                    <a:pt x="2463" y="1100"/>
                  </a:cubicBezTo>
                  <a:cubicBezTo>
                    <a:pt x="6730" y="1633"/>
                    <a:pt x="-1137" y="6700"/>
                    <a:pt x="2463" y="7233"/>
                  </a:cubicBezTo>
                  <a:cubicBezTo>
                    <a:pt x="2196" y="8300"/>
                    <a:pt x="1130" y="8566"/>
                    <a:pt x="863" y="9500"/>
                  </a:cubicBezTo>
                  <a:cubicBezTo>
                    <a:pt x="-70" y="10566"/>
                    <a:pt x="596" y="11633"/>
                    <a:pt x="596" y="13100"/>
                  </a:cubicBezTo>
                  <a:cubicBezTo>
                    <a:pt x="863" y="15900"/>
                    <a:pt x="-870" y="18700"/>
                    <a:pt x="596" y="21233"/>
                  </a:cubicBezTo>
                </a:path>
              </a:pathLst>
            </a:custGeom>
            <a:solidFill>
              <a:srgbClr val="c0c0c0"/>
            </a:solidFill>
            <a:ln w="12700">
              <a:noFill/>
            </a:ln>
          </p:spPr>
          <p:style>
            <a:lnRef idx="0"/>
            <a:fillRef idx="0"/>
            <a:effectRef idx="0"/>
            <a:fontRef idx="minor"/>
          </p:style>
          <p:txBody>
            <a:bodyPr numCol="1" spcCol="0" lIns="45720" rIns="45720" tIns="34560" bIns="34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1" name="Shape 3685"/>
            <p:cNvSpPr/>
            <p:nvPr/>
          </p:nvSpPr>
          <p:spPr>
            <a:xfrm>
              <a:off x="17961480" y="3715560"/>
              <a:ext cx="33840" cy="60480"/>
            </a:xfrm>
            <a:custGeom>
              <a:avLst/>
              <a:gdLst>
                <a:gd name="textAreaLeft" fmla="*/ 0 w 33840"/>
                <a:gd name="textAreaRight" fmla="*/ 34200 w 33840"/>
                <a:gd name="textAreaTop" fmla="*/ 0 h 60480"/>
                <a:gd name="textAreaBottom" fmla="*/ 60840 h 60480"/>
              </a:gdLst>
              <a:ahLst/>
              <a:rect l="textAreaLeft" t="textAreaTop" r="textAreaRight" b="textAreaBottom"/>
              <a:pathLst>
                <a:path w="20532" h="21496">
                  <a:moveTo>
                    <a:pt x="12644" y="11104"/>
                  </a:moveTo>
                  <a:cubicBezTo>
                    <a:pt x="12644" y="11408"/>
                    <a:pt x="13171" y="11713"/>
                    <a:pt x="13171" y="12017"/>
                  </a:cubicBezTo>
                  <a:cubicBezTo>
                    <a:pt x="13698" y="13386"/>
                    <a:pt x="11590" y="14299"/>
                    <a:pt x="9747" y="15211"/>
                  </a:cubicBezTo>
                  <a:cubicBezTo>
                    <a:pt x="7639" y="16580"/>
                    <a:pt x="6586" y="18710"/>
                    <a:pt x="7639" y="20383"/>
                  </a:cubicBezTo>
                  <a:lnTo>
                    <a:pt x="7639" y="20687"/>
                  </a:lnTo>
                  <a:cubicBezTo>
                    <a:pt x="7639" y="20687"/>
                    <a:pt x="7112" y="20687"/>
                    <a:pt x="7112" y="20992"/>
                  </a:cubicBezTo>
                  <a:cubicBezTo>
                    <a:pt x="6059" y="20992"/>
                    <a:pt x="5532" y="21296"/>
                    <a:pt x="4215" y="21296"/>
                  </a:cubicBezTo>
                  <a:cubicBezTo>
                    <a:pt x="3161" y="21600"/>
                    <a:pt x="1054" y="21600"/>
                    <a:pt x="527" y="20992"/>
                  </a:cubicBezTo>
                  <a:cubicBezTo>
                    <a:pt x="-790" y="20079"/>
                    <a:pt x="3161" y="19166"/>
                    <a:pt x="2634" y="17797"/>
                  </a:cubicBezTo>
                  <a:cubicBezTo>
                    <a:pt x="2634" y="17189"/>
                    <a:pt x="1054" y="16580"/>
                    <a:pt x="527" y="15972"/>
                  </a:cubicBezTo>
                  <a:cubicBezTo>
                    <a:pt x="0" y="15211"/>
                    <a:pt x="527" y="14299"/>
                    <a:pt x="527" y="13690"/>
                  </a:cubicBezTo>
                  <a:cubicBezTo>
                    <a:pt x="1054" y="13082"/>
                    <a:pt x="1054" y="12017"/>
                    <a:pt x="0" y="11408"/>
                  </a:cubicBezTo>
                  <a:cubicBezTo>
                    <a:pt x="1054" y="11104"/>
                    <a:pt x="2108" y="10800"/>
                    <a:pt x="2108" y="10192"/>
                  </a:cubicBezTo>
                  <a:cubicBezTo>
                    <a:pt x="2108" y="9887"/>
                    <a:pt x="2108" y="9583"/>
                    <a:pt x="1581" y="9279"/>
                  </a:cubicBezTo>
                  <a:cubicBezTo>
                    <a:pt x="1581" y="8823"/>
                    <a:pt x="1581" y="8214"/>
                    <a:pt x="1581" y="7910"/>
                  </a:cubicBezTo>
                  <a:cubicBezTo>
                    <a:pt x="2634" y="4107"/>
                    <a:pt x="8693" y="608"/>
                    <a:pt x="15278" y="0"/>
                  </a:cubicBezTo>
                  <a:cubicBezTo>
                    <a:pt x="17122" y="304"/>
                    <a:pt x="18703" y="608"/>
                    <a:pt x="20283" y="608"/>
                  </a:cubicBezTo>
                  <a:cubicBezTo>
                    <a:pt x="20810" y="608"/>
                    <a:pt x="20810" y="3803"/>
                    <a:pt x="17122" y="3194"/>
                  </a:cubicBezTo>
                  <a:cubicBezTo>
                    <a:pt x="15278" y="5324"/>
                    <a:pt x="10273" y="7606"/>
                    <a:pt x="12644" y="11104"/>
                  </a:cubicBezTo>
                </a:path>
              </a:pathLst>
            </a:custGeom>
            <a:solidFill>
              <a:srgbClr val="c0c0c0"/>
            </a:solidFill>
            <a:ln w="12700">
              <a:noFill/>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2" name="Shape 3686"/>
            <p:cNvSpPr/>
            <p:nvPr/>
          </p:nvSpPr>
          <p:spPr>
            <a:xfrm>
              <a:off x="17790120" y="3805200"/>
              <a:ext cx="41040" cy="61560"/>
            </a:xfrm>
            <a:custGeom>
              <a:avLst/>
              <a:gdLst>
                <a:gd name="textAreaLeft" fmla="*/ 0 w 41040"/>
                <a:gd name="textAreaRight" fmla="*/ 41400 w 41040"/>
                <a:gd name="textAreaTop" fmla="*/ 0 h 61560"/>
                <a:gd name="textAreaBottom" fmla="*/ 61920 h 61560"/>
              </a:gdLst>
              <a:ahLst/>
              <a:rect l="textAreaLeft" t="textAreaTop" r="textAreaRight" b="textAreaBottom"/>
              <a:pathLst>
                <a:path w="20435" h="21189">
                  <a:moveTo>
                    <a:pt x="733" y="8080"/>
                  </a:moveTo>
                  <a:cubicBezTo>
                    <a:pt x="2016" y="9272"/>
                    <a:pt x="4155" y="12400"/>
                    <a:pt x="4155" y="6441"/>
                  </a:cubicBezTo>
                  <a:cubicBezTo>
                    <a:pt x="4583" y="7186"/>
                    <a:pt x="5010" y="8974"/>
                    <a:pt x="5438" y="9570"/>
                  </a:cubicBezTo>
                  <a:cubicBezTo>
                    <a:pt x="5866" y="10166"/>
                    <a:pt x="7363" y="9570"/>
                    <a:pt x="6935" y="10166"/>
                  </a:cubicBezTo>
                  <a:cubicBezTo>
                    <a:pt x="6507" y="10612"/>
                    <a:pt x="5866" y="10910"/>
                    <a:pt x="5438" y="11208"/>
                  </a:cubicBezTo>
                  <a:cubicBezTo>
                    <a:pt x="4155" y="12102"/>
                    <a:pt x="2872" y="12996"/>
                    <a:pt x="2444" y="14635"/>
                  </a:cubicBezTo>
                  <a:cubicBezTo>
                    <a:pt x="2872" y="14337"/>
                    <a:pt x="4155" y="14635"/>
                    <a:pt x="4155" y="15230"/>
                  </a:cubicBezTo>
                  <a:cubicBezTo>
                    <a:pt x="4155" y="15826"/>
                    <a:pt x="3727" y="16422"/>
                    <a:pt x="3300" y="17167"/>
                  </a:cubicBezTo>
                  <a:cubicBezTo>
                    <a:pt x="2872" y="17763"/>
                    <a:pt x="2444" y="18061"/>
                    <a:pt x="2872" y="18657"/>
                  </a:cubicBezTo>
                  <a:cubicBezTo>
                    <a:pt x="3300" y="19252"/>
                    <a:pt x="3300" y="19997"/>
                    <a:pt x="4155" y="19997"/>
                  </a:cubicBezTo>
                  <a:cubicBezTo>
                    <a:pt x="4583" y="19997"/>
                    <a:pt x="5438" y="19997"/>
                    <a:pt x="5438" y="20295"/>
                  </a:cubicBezTo>
                  <a:cubicBezTo>
                    <a:pt x="5866" y="20295"/>
                    <a:pt x="5866" y="20593"/>
                    <a:pt x="5866" y="20891"/>
                  </a:cubicBezTo>
                  <a:cubicBezTo>
                    <a:pt x="6507" y="21189"/>
                    <a:pt x="7363" y="21189"/>
                    <a:pt x="7791" y="21189"/>
                  </a:cubicBezTo>
                  <a:cubicBezTo>
                    <a:pt x="8218" y="20891"/>
                    <a:pt x="8646" y="20593"/>
                    <a:pt x="9074" y="20295"/>
                  </a:cubicBezTo>
                  <a:cubicBezTo>
                    <a:pt x="9501" y="19550"/>
                    <a:pt x="10357" y="19252"/>
                    <a:pt x="10999" y="18657"/>
                  </a:cubicBezTo>
                  <a:cubicBezTo>
                    <a:pt x="11426" y="18359"/>
                    <a:pt x="11854" y="17763"/>
                    <a:pt x="11854" y="17465"/>
                  </a:cubicBezTo>
                  <a:cubicBezTo>
                    <a:pt x="12282" y="16422"/>
                    <a:pt x="10999" y="15230"/>
                    <a:pt x="11426" y="14337"/>
                  </a:cubicBezTo>
                  <a:cubicBezTo>
                    <a:pt x="11854" y="13294"/>
                    <a:pt x="13565" y="12996"/>
                    <a:pt x="14848" y="12698"/>
                  </a:cubicBezTo>
                  <a:cubicBezTo>
                    <a:pt x="16345" y="12400"/>
                    <a:pt x="17628" y="11208"/>
                    <a:pt x="17200" y="10612"/>
                  </a:cubicBezTo>
                  <a:cubicBezTo>
                    <a:pt x="16773" y="10166"/>
                    <a:pt x="16345" y="9868"/>
                    <a:pt x="15917" y="9868"/>
                  </a:cubicBezTo>
                  <a:cubicBezTo>
                    <a:pt x="14848" y="9272"/>
                    <a:pt x="14848" y="8080"/>
                    <a:pt x="15490" y="7484"/>
                  </a:cubicBezTo>
                  <a:cubicBezTo>
                    <a:pt x="15917" y="6441"/>
                    <a:pt x="17200" y="6143"/>
                    <a:pt x="18484" y="5548"/>
                  </a:cubicBezTo>
                  <a:cubicBezTo>
                    <a:pt x="18911" y="5548"/>
                    <a:pt x="19339" y="5250"/>
                    <a:pt x="19339" y="4952"/>
                  </a:cubicBezTo>
                  <a:cubicBezTo>
                    <a:pt x="19981" y="4356"/>
                    <a:pt x="21050" y="3015"/>
                    <a:pt x="19981" y="3015"/>
                  </a:cubicBezTo>
                  <a:cubicBezTo>
                    <a:pt x="19125" y="3015"/>
                    <a:pt x="16773" y="3313"/>
                    <a:pt x="16345" y="2717"/>
                  </a:cubicBezTo>
                  <a:cubicBezTo>
                    <a:pt x="18484" y="483"/>
                    <a:pt x="14420" y="2121"/>
                    <a:pt x="13137" y="1823"/>
                  </a:cubicBezTo>
                  <a:cubicBezTo>
                    <a:pt x="12282" y="1526"/>
                    <a:pt x="11854" y="483"/>
                    <a:pt x="10357" y="185"/>
                  </a:cubicBezTo>
                  <a:cubicBezTo>
                    <a:pt x="8646" y="-411"/>
                    <a:pt x="6507" y="483"/>
                    <a:pt x="6507" y="2121"/>
                  </a:cubicBezTo>
                  <a:cubicBezTo>
                    <a:pt x="6507" y="2419"/>
                    <a:pt x="6507" y="2717"/>
                    <a:pt x="6507" y="2717"/>
                  </a:cubicBezTo>
                  <a:cubicBezTo>
                    <a:pt x="6507" y="3015"/>
                    <a:pt x="5866" y="3015"/>
                    <a:pt x="5438" y="3313"/>
                  </a:cubicBezTo>
                  <a:cubicBezTo>
                    <a:pt x="5010" y="3313"/>
                    <a:pt x="4583" y="3313"/>
                    <a:pt x="3727" y="3313"/>
                  </a:cubicBezTo>
                  <a:cubicBezTo>
                    <a:pt x="2872" y="3313"/>
                    <a:pt x="2444" y="3015"/>
                    <a:pt x="1802" y="3015"/>
                  </a:cubicBezTo>
                  <a:cubicBezTo>
                    <a:pt x="-122" y="1823"/>
                    <a:pt x="-550" y="6441"/>
                    <a:pt x="733" y="8080"/>
                  </a:cubicBezTo>
                </a:path>
              </a:pathLst>
            </a:custGeom>
            <a:solidFill>
              <a:srgbClr val="c0c0c0"/>
            </a:solidFill>
            <a:ln w="12700">
              <a:noFill/>
            </a:ln>
          </p:spPr>
          <p:style>
            <a:lnRef idx="0"/>
            <a:fillRef idx="0"/>
            <a:effectRef idx="0"/>
            <a:fontRef idx="minor"/>
          </p:style>
          <p:txBody>
            <a:bodyPr numCol="1" spcCol="0" lIns="45720" rIns="45720" tIns="30960" bIns="30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3" name="Shape 3687"/>
            <p:cNvSpPr/>
            <p:nvPr/>
          </p:nvSpPr>
          <p:spPr>
            <a:xfrm>
              <a:off x="17795520" y="3763800"/>
              <a:ext cx="15120" cy="22320"/>
            </a:xfrm>
            <a:custGeom>
              <a:avLst/>
              <a:gdLst>
                <a:gd name="textAreaLeft" fmla="*/ 0 w 15120"/>
                <a:gd name="textAreaRight" fmla="*/ 15480 w 15120"/>
                <a:gd name="textAreaTop" fmla="*/ 0 h 22320"/>
                <a:gd name="textAreaBottom" fmla="*/ 22680 h 22320"/>
              </a:gdLst>
              <a:ahLst/>
              <a:rect l="textAreaLeft" t="textAreaTop" r="textAreaRight" b="textAreaBottom"/>
              <a:pathLst>
                <a:path w="21600" h="21600">
                  <a:moveTo>
                    <a:pt x="0" y="12046"/>
                  </a:moveTo>
                  <a:lnTo>
                    <a:pt x="0" y="13708"/>
                  </a:lnTo>
                  <a:cubicBezTo>
                    <a:pt x="0" y="14538"/>
                    <a:pt x="1394" y="14538"/>
                    <a:pt x="2787" y="14538"/>
                  </a:cubicBezTo>
                  <a:cubicBezTo>
                    <a:pt x="5574" y="15785"/>
                    <a:pt x="5574" y="18277"/>
                    <a:pt x="4181" y="19938"/>
                  </a:cubicBezTo>
                  <a:cubicBezTo>
                    <a:pt x="5574" y="19938"/>
                    <a:pt x="6968" y="20769"/>
                    <a:pt x="6968" y="21600"/>
                  </a:cubicBezTo>
                  <a:cubicBezTo>
                    <a:pt x="16026" y="21600"/>
                    <a:pt x="21600" y="16615"/>
                    <a:pt x="21600" y="12046"/>
                  </a:cubicBezTo>
                  <a:cubicBezTo>
                    <a:pt x="20206" y="12046"/>
                    <a:pt x="18813" y="11215"/>
                    <a:pt x="17419" y="9554"/>
                  </a:cubicBezTo>
                  <a:cubicBezTo>
                    <a:pt x="17419" y="8723"/>
                    <a:pt x="16026" y="7062"/>
                    <a:pt x="14632" y="7062"/>
                  </a:cubicBezTo>
                  <a:lnTo>
                    <a:pt x="11845" y="7062"/>
                  </a:lnTo>
                  <a:cubicBezTo>
                    <a:pt x="10452" y="5815"/>
                    <a:pt x="10452" y="4154"/>
                    <a:pt x="11845" y="3323"/>
                  </a:cubicBezTo>
                  <a:cubicBezTo>
                    <a:pt x="11845" y="2492"/>
                    <a:pt x="11845" y="0"/>
                    <a:pt x="10452" y="0"/>
                  </a:cubicBezTo>
                  <a:cubicBezTo>
                    <a:pt x="10452" y="0"/>
                    <a:pt x="8361" y="0"/>
                    <a:pt x="8361" y="831"/>
                  </a:cubicBezTo>
                  <a:cubicBezTo>
                    <a:pt x="4181" y="2492"/>
                    <a:pt x="1394" y="4154"/>
                    <a:pt x="1394" y="7062"/>
                  </a:cubicBezTo>
                  <a:cubicBezTo>
                    <a:pt x="0" y="8723"/>
                    <a:pt x="0" y="10385"/>
                    <a:pt x="0" y="12046"/>
                  </a:cubicBezTo>
                </a:path>
              </a:pathLst>
            </a:custGeom>
            <a:solidFill>
              <a:srgbClr val="c0c0c0"/>
            </a:solidFill>
            <a:ln w="12700">
              <a:noFill/>
            </a:ln>
          </p:spPr>
          <p:style>
            <a:lnRef idx="0"/>
            <a:fillRef idx="0"/>
            <a:effectRef idx="0"/>
            <a:fontRef idx="minor"/>
          </p:style>
          <p:txBody>
            <a:bodyPr numCol="1" spcCol="0" lIns="45720" rIns="45720" tIns="11160" bIns="11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4" name="Shape 3688"/>
            <p:cNvSpPr/>
            <p:nvPr/>
          </p:nvSpPr>
          <p:spPr>
            <a:xfrm>
              <a:off x="17727840" y="4302720"/>
              <a:ext cx="25200" cy="69480"/>
            </a:xfrm>
            <a:custGeom>
              <a:avLst/>
              <a:gdLst>
                <a:gd name="textAreaLeft" fmla="*/ 0 w 25200"/>
                <a:gd name="textAreaRight" fmla="*/ 25560 w 25200"/>
                <a:gd name="textAreaTop" fmla="*/ 0 h 69480"/>
                <a:gd name="textAreaBottom" fmla="*/ 69840 h 69480"/>
              </a:gdLst>
              <a:ahLst/>
              <a:rect l="textAreaLeft" t="textAreaTop" r="textAreaRight" b="textAreaBottom"/>
              <a:pathLst>
                <a:path w="20888" h="21376">
                  <a:moveTo>
                    <a:pt x="6431" y="2824"/>
                  </a:moveTo>
                  <a:cubicBezTo>
                    <a:pt x="5369" y="2824"/>
                    <a:pt x="5014" y="3354"/>
                    <a:pt x="5014" y="3751"/>
                  </a:cubicBezTo>
                  <a:cubicBezTo>
                    <a:pt x="4660" y="4149"/>
                    <a:pt x="3952" y="4547"/>
                    <a:pt x="3598" y="4944"/>
                  </a:cubicBezTo>
                  <a:lnTo>
                    <a:pt x="6431" y="2824"/>
                  </a:lnTo>
                  <a:close/>
                  <a:moveTo>
                    <a:pt x="5014" y="4149"/>
                  </a:moveTo>
                  <a:cubicBezTo>
                    <a:pt x="5014" y="4679"/>
                    <a:pt x="5723" y="5607"/>
                    <a:pt x="4306" y="5607"/>
                  </a:cubicBezTo>
                  <a:cubicBezTo>
                    <a:pt x="2890" y="5872"/>
                    <a:pt x="1473" y="5342"/>
                    <a:pt x="765" y="5607"/>
                  </a:cubicBezTo>
                  <a:cubicBezTo>
                    <a:pt x="-297" y="6004"/>
                    <a:pt x="57" y="6137"/>
                    <a:pt x="57" y="6402"/>
                  </a:cubicBezTo>
                  <a:lnTo>
                    <a:pt x="57" y="9715"/>
                  </a:lnTo>
                  <a:cubicBezTo>
                    <a:pt x="57" y="10245"/>
                    <a:pt x="57" y="10775"/>
                    <a:pt x="765" y="11437"/>
                  </a:cubicBezTo>
                  <a:cubicBezTo>
                    <a:pt x="1473" y="12232"/>
                    <a:pt x="2890" y="12763"/>
                    <a:pt x="3598" y="13293"/>
                  </a:cubicBezTo>
                  <a:cubicBezTo>
                    <a:pt x="4306" y="13823"/>
                    <a:pt x="5014" y="14750"/>
                    <a:pt x="4306" y="15545"/>
                  </a:cubicBezTo>
                  <a:cubicBezTo>
                    <a:pt x="5723" y="15545"/>
                    <a:pt x="7493" y="16075"/>
                    <a:pt x="8201" y="17003"/>
                  </a:cubicBezTo>
                  <a:lnTo>
                    <a:pt x="8201" y="18858"/>
                  </a:lnTo>
                  <a:cubicBezTo>
                    <a:pt x="8201" y="19653"/>
                    <a:pt x="9618" y="20581"/>
                    <a:pt x="11742" y="21111"/>
                  </a:cubicBezTo>
                  <a:cubicBezTo>
                    <a:pt x="12451" y="21376"/>
                    <a:pt x="13867" y="21376"/>
                    <a:pt x="14929" y="21376"/>
                  </a:cubicBezTo>
                  <a:cubicBezTo>
                    <a:pt x="15637" y="21376"/>
                    <a:pt x="17054" y="20846"/>
                    <a:pt x="17054" y="20581"/>
                  </a:cubicBezTo>
                  <a:cubicBezTo>
                    <a:pt x="17054" y="20051"/>
                    <a:pt x="15283" y="19653"/>
                    <a:pt x="13867" y="19388"/>
                  </a:cubicBezTo>
                  <a:cubicBezTo>
                    <a:pt x="12096" y="19123"/>
                    <a:pt x="11742" y="18328"/>
                    <a:pt x="13159" y="18063"/>
                  </a:cubicBezTo>
                  <a:cubicBezTo>
                    <a:pt x="13867" y="17798"/>
                    <a:pt x="14929" y="18063"/>
                    <a:pt x="14929" y="17798"/>
                  </a:cubicBezTo>
                  <a:cubicBezTo>
                    <a:pt x="16346" y="17268"/>
                    <a:pt x="13867" y="16738"/>
                    <a:pt x="14929" y="15810"/>
                  </a:cubicBezTo>
                  <a:cubicBezTo>
                    <a:pt x="15637" y="15015"/>
                    <a:pt x="19887" y="15545"/>
                    <a:pt x="20595" y="14750"/>
                  </a:cubicBezTo>
                  <a:cubicBezTo>
                    <a:pt x="21303" y="14485"/>
                    <a:pt x="20595" y="13823"/>
                    <a:pt x="19887" y="13558"/>
                  </a:cubicBezTo>
                  <a:cubicBezTo>
                    <a:pt x="18470" y="13028"/>
                    <a:pt x="17762" y="12232"/>
                    <a:pt x="16346" y="11702"/>
                  </a:cubicBezTo>
                  <a:cubicBezTo>
                    <a:pt x="14929" y="10775"/>
                    <a:pt x="13867" y="9980"/>
                    <a:pt x="15637" y="9185"/>
                  </a:cubicBezTo>
                  <a:cubicBezTo>
                    <a:pt x="16346" y="8920"/>
                    <a:pt x="17054" y="8655"/>
                    <a:pt x="17054" y="8257"/>
                  </a:cubicBezTo>
                  <a:cubicBezTo>
                    <a:pt x="17054" y="7992"/>
                    <a:pt x="16346" y="7992"/>
                    <a:pt x="16346" y="7727"/>
                  </a:cubicBezTo>
                  <a:cubicBezTo>
                    <a:pt x="13867" y="6932"/>
                    <a:pt x="14929" y="5872"/>
                    <a:pt x="15637" y="4944"/>
                  </a:cubicBezTo>
                  <a:cubicBezTo>
                    <a:pt x="16346" y="3884"/>
                    <a:pt x="17054" y="2426"/>
                    <a:pt x="17762" y="1366"/>
                  </a:cubicBezTo>
                  <a:lnTo>
                    <a:pt x="17762" y="836"/>
                  </a:lnTo>
                  <a:cubicBezTo>
                    <a:pt x="17762" y="571"/>
                    <a:pt x="17054" y="571"/>
                    <a:pt x="16346" y="306"/>
                  </a:cubicBezTo>
                  <a:cubicBezTo>
                    <a:pt x="13867" y="41"/>
                    <a:pt x="11742" y="-224"/>
                    <a:pt x="10326" y="306"/>
                  </a:cubicBezTo>
                  <a:cubicBezTo>
                    <a:pt x="9618" y="704"/>
                    <a:pt x="9618" y="836"/>
                    <a:pt x="8910" y="1101"/>
                  </a:cubicBezTo>
                  <a:cubicBezTo>
                    <a:pt x="7847" y="2029"/>
                    <a:pt x="6431" y="2956"/>
                    <a:pt x="5014" y="3751"/>
                  </a:cubicBezTo>
                  <a:cubicBezTo>
                    <a:pt x="5014" y="3884"/>
                    <a:pt x="5014" y="4016"/>
                    <a:pt x="5014" y="4149"/>
                  </a:cubicBezTo>
                  <a:close/>
                </a:path>
              </a:pathLst>
            </a:custGeom>
            <a:solidFill>
              <a:srgbClr val="c0c0c0"/>
            </a:solidFill>
            <a:ln w="12700">
              <a:noFill/>
            </a:ln>
          </p:spPr>
          <p:style>
            <a:lnRef idx="0"/>
            <a:fillRef idx="0"/>
            <a:effectRef idx="0"/>
            <a:fontRef idx="minor"/>
          </p:style>
          <p:txBody>
            <a:bodyPr numCol="1" spcCol="0" lIns="45720" rIns="45720" tIns="34920" bIns="349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5" name="Shape 3689"/>
            <p:cNvSpPr/>
            <p:nvPr/>
          </p:nvSpPr>
          <p:spPr>
            <a:xfrm>
              <a:off x="17715960" y="4376880"/>
              <a:ext cx="41400" cy="74160"/>
            </a:xfrm>
            <a:custGeom>
              <a:avLst/>
              <a:gdLst>
                <a:gd name="textAreaLeft" fmla="*/ 0 w 41400"/>
                <a:gd name="textAreaRight" fmla="*/ 41760 w 41400"/>
                <a:gd name="textAreaTop" fmla="*/ 0 h 74160"/>
                <a:gd name="textAreaBottom" fmla="*/ 74520 h 74160"/>
              </a:gdLst>
              <a:ahLst/>
              <a:rect l="textAreaLeft" t="textAreaTop" r="textAreaRight" b="textAreaBottom"/>
              <a:pathLst>
                <a:path w="21600" h="21600">
                  <a:moveTo>
                    <a:pt x="2956" y="879"/>
                  </a:moveTo>
                  <a:cubicBezTo>
                    <a:pt x="2956" y="879"/>
                    <a:pt x="2956" y="1005"/>
                    <a:pt x="2956" y="1130"/>
                  </a:cubicBezTo>
                  <a:cubicBezTo>
                    <a:pt x="2956" y="1130"/>
                    <a:pt x="2956" y="1256"/>
                    <a:pt x="2956" y="1381"/>
                  </a:cubicBezTo>
                  <a:cubicBezTo>
                    <a:pt x="2046" y="1381"/>
                    <a:pt x="909" y="1130"/>
                    <a:pt x="0" y="1130"/>
                  </a:cubicBezTo>
                  <a:lnTo>
                    <a:pt x="2956" y="879"/>
                  </a:lnTo>
                  <a:close/>
                  <a:moveTo>
                    <a:pt x="4320" y="2135"/>
                  </a:moveTo>
                  <a:cubicBezTo>
                    <a:pt x="5229" y="3014"/>
                    <a:pt x="4775" y="4019"/>
                    <a:pt x="4320" y="5023"/>
                  </a:cubicBezTo>
                  <a:cubicBezTo>
                    <a:pt x="3865" y="6153"/>
                    <a:pt x="2956" y="6907"/>
                    <a:pt x="2956" y="7912"/>
                  </a:cubicBezTo>
                  <a:cubicBezTo>
                    <a:pt x="2956" y="9544"/>
                    <a:pt x="5684" y="10800"/>
                    <a:pt x="5684" y="12181"/>
                  </a:cubicBezTo>
                  <a:cubicBezTo>
                    <a:pt x="6366" y="14065"/>
                    <a:pt x="2501" y="16074"/>
                    <a:pt x="3865" y="17958"/>
                  </a:cubicBezTo>
                  <a:cubicBezTo>
                    <a:pt x="4775" y="17958"/>
                    <a:pt x="5229" y="18712"/>
                    <a:pt x="4775" y="19088"/>
                  </a:cubicBezTo>
                  <a:cubicBezTo>
                    <a:pt x="4775" y="19591"/>
                    <a:pt x="4320" y="20093"/>
                    <a:pt x="4775" y="20344"/>
                  </a:cubicBezTo>
                  <a:cubicBezTo>
                    <a:pt x="4775" y="21098"/>
                    <a:pt x="6366" y="21600"/>
                    <a:pt x="7276" y="21600"/>
                  </a:cubicBezTo>
                  <a:cubicBezTo>
                    <a:pt x="8640" y="21600"/>
                    <a:pt x="9549" y="21098"/>
                    <a:pt x="10004" y="20344"/>
                  </a:cubicBezTo>
                  <a:cubicBezTo>
                    <a:pt x="10459" y="19591"/>
                    <a:pt x="9549" y="18460"/>
                    <a:pt x="11141" y="18209"/>
                  </a:cubicBezTo>
                  <a:lnTo>
                    <a:pt x="12960" y="18209"/>
                  </a:lnTo>
                  <a:cubicBezTo>
                    <a:pt x="14324" y="18460"/>
                    <a:pt x="16825" y="18084"/>
                    <a:pt x="16825" y="16953"/>
                  </a:cubicBezTo>
                  <a:cubicBezTo>
                    <a:pt x="16825" y="15949"/>
                    <a:pt x="12960" y="15321"/>
                    <a:pt x="12960" y="14316"/>
                  </a:cubicBezTo>
                  <a:cubicBezTo>
                    <a:pt x="12960" y="13814"/>
                    <a:pt x="13642" y="13186"/>
                    <a:pt x="14779" y="13186"/>
                  </a:cubicBezTo>
                  <a:cubicBezTo>
                    <a:pt x="15688" y="13186"/>
                    <a:pt x="16598" y="13312"/>
                    <a:pt x="17735" y="13814"/>
                  </a:cubicBezTo>
                  <a:cubicBezTo>
                    <a:pt x="17962" y="14191"/>
                    <a:pt x="18644" y="14065"/>
                    <a:pt x="19099" y="14065"/>
                  </a:cubicBezTo>
                  <a:cubicBezTo>
                    <a:pt x="20008" y="14065"/>
                    <a:pt x="20463" y="13437"/>
                    <a:pt x="20463" y="12935"/>
                  </a:cubicBezTo>
                  <a:cubicBezTo>
                    <a:pt x="21145" y="11679"/>
                    <a:pt x="21145" y="10047"/>
                    <a:pt x="20008" y="8791"/>
                  </a:cubicBezTo>
                  <a:cubicBezTo>
                    <a:pt x="20008" y="8540"/>
                    <a:pt x="19554" y="8288"/>
                    <a:pt x="19554" y="7912"/>
                  </a:cubicBezTo>
                  <a:cubicBezTo>
                    <a:pt x="19554" y="7409"/>
                    <a:pt x="20008" y="7158"/>
                    <a:pt x="20008" y="6656"/>
                  </a:cubicBezTo>
                  <a:cubicBezTo>
                    <a:pt x="21145" y="5274"/>
                    <a:pt x="21145" y="4019"/>
                    <a:pt x="21600" y="2637"/>
                  </a:cubicBezTo>
                  <a:cubicBezTo>
                    <a:pt x="21600" y="1884"/>
                    <a:pt x="21600" y="879"/>
                    <a:pt x="20008" y="628"/>
                  </a:cubicBezTo>
                  <a:cubicBezTo>
                    <a:pt x="19554" y="377"/>
                    <a:pt x="19099" y="377"/>
                    <a:pt x="18644" y="377"/>
                  </a:cubicBezTo>
                  <a:cubicBezTo>
                    <a:pt x="14324" y="377"/>
                    <a:pt x="10004" y="377"/>
                    <a:pt x="5684" y="0"/>
                  </a:cubicBezTo>
                  <a:cubicBezTo>
                    <a:pt x="5229" y="0"/>
                    <a:pt x="4320" y="0"/>
                    <a:pt x="3865" y="377"/>
                  </a:cubicBezTo>
                  <a:cubicBezTo>
                    <a:pt x="3411" y="502"/>
                    <a:pt x="3183" y="753"/>
                    <a:pt x="2956" y="1130"/>
                  </a:cubicBezTo>
                  <a:cubicBezTo>
                    <a:pt x="3183" y="1507"/>
                    <a:pt x="3865" y="1758"/>
                    <a:pt x="4320" y="2135"/>
                  </a:cubicBezTo>
                  <a:close/>
                </a:path>
              </a:pathLst>
            </a:custGeom>
            <a:solidFill>
              <a:srgbClr val="c0c0c0"/>
            </a:solidFill>
            <a:ln w="12700">
              <a:noFill/>
            </a:ln>
          </p:spPr>
          <p:style>
            <a:lnRef idx="0"/>
            <a:fillRef idx="0"/>
            <a:effectRef idx="0"/>
            <a:fontRef idx="minor"/>
          </p:style>
          <p:txBody>
            <a:bodyPr numCol="1" spcCol="0" lIns="45720" rIns="45720" tIns="37080" bIns="37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6" name="Shape 3690"/>
            <p:cNvSpPr/>
            <p:nvPr/>
          </p:nvSpPr>
          <p:spPr>
            <a:xfrm>
              <a:off x="17576280" y="4411800"/>
              <a:ext cx="28800" cy="25920"/>
            </a:xfrm>
            <a:custGeom>
              <a:avLst/>
              <a:gdLst>
                <a:gd name="textAreaLeft" fmla="*/ 0 w 28800"/>
                <a:gd name="textAreaRight" fmla="*/ 29160 w 28800"/>
                <a:gd name="textAreaTop" fmla="*/ 0 h 25920"/>
                <a:gd name="textAreaBottom" fmla="*/ 26280 h 25920"/>
              </a:gdLst>
              <a:ahLst/>
              <a:rect l="textAreaLeft" t="textAreaTop" r="textAreaRight" b="textAreaBottom"/>
              <a:pathLst>
                <a:path w="20723" h="20022">
                  <a:moveTo>
                    <a:pt x="4903" y="4936"/>
                  </a:moveTo>
                  <a:cubicBezTo>
                    <a:pt x="4903" y="4936"/>
                    <a:pt x="4286" y="4936"/>
                    <a:pt x="4286" y="5622"/>
                  </a:cubicBezTo>
                  <a:cubicBezTo>
                    <a:pt x="3668" y="5622"/>
                    <a:pt x="3668" y="6308"/>
                    <a:pt x="3668" y="6308"/>
                  </a:cubicBezTo>
                  <a:cubicBezTo>
                    <a:pt x="2434" y="8365"/>
                    <a:pt x="1817" y="10765"/>
                    <a:pt x="274" y="12822"/>
                  </a:cubicBezTo>
                  <a:cubicBezTo>
                    <a:pt x="274" y="12822"/>
                    <a:pt x="-343" y="13508"/>
                    <a:pt x="274" y="14193"/>
                  </a:cubicBezTo>
                  <a:cubicBezTo>
                    <a:pt x="274" y="14193"/>
                    <a:pt x="274" y="14879"/>
                    <a:pt x="1200" y="14879"/>
                  </a:cubicBezTo>
                  <a:cubicBezTo>
                    <a:pt x="2434" y="15565"/>
                    <a:pt x="3668" y="15565"/>
                    <a:pt x="4903" y="14193"/>
                  </a:cubicBezTo>
                  <a:cubicBezTo>
                    <a:pt x="5520" y="13508"/>
                    <a:pt x="5520" y="13508"/>
                    <a:pt x="6137" y="13508"/>
                  </a:cubicBezTo>
                  <a:cubicBezTo>
                    <a:pt x="6754" y="13508"/>
                    <a:pt x="7371" y="14879"/>
                    <a:pt x="7371" y="15565"/>
                  </a:cubicBezTo>
                  <a:cubicBezTo>
                    <a:pt x="8297" y="17279"/>
                    <a:pt x="8914" y="17965"/>
                    <a:pt x="9531" y="18651"/>
                  </a:cubicBezTo>
                  <a:cubicBezTo>
                    <a:pt x="10148" y="19336"/>
                    <a:pt x="10766" y="20022"/>
                    <a:pt x="12000" y="20022"/>
                  </a:cubicBezTo>
                  <a:cubicBezTo>
                    <a:pt x="12617" y="20022"/>
                    <a:pt x="13851" y="20022"/>
                    <a:pt x="14777" y="18651"/>
                  </a:cubicBezTo>
                  <a:cubicBezTo>
                    <a:pt x="14777" y="18651"/>
                    <a:pt x="14777" y="17965"/>
                    <a:pt x="15394" y="17279"/>
                  </a:cubicBezTo>
                  <a:cubicBezTo>
                    <a:pt x="15394" y="16251"/>
                    <a:pt x="16011" y="15565"/>
                    <a:pt x="16011" y="14879"/>
                  </a:cubicBezTo>
                  <a:cubicBezTo>
                    <a:pt x="16011" y="14193"/>
                    <a:pt x="16628" y="12822"/>
                    <a:pt x="17246" y="12136"/>
                  </a:cubicBezTo>
                  <a:cubicBezTo>
                    <a:pt x="17863" y="11451"/>
                    <a:pt x="19097" y="11108"/>
                    <a:pt x="19714" y="10079"/>
                  </a:cubicBezTo>
                  <a:cubicBezTo>
                    <a:pt x="20331" y="9393"/>
                    <a:pt x="21257" y="7679"/>
                    <a:pt x="20331" y="6993"/>
                  </a:cubicBezTo>
                  <a:cubicBezTo>
                    <a:pt x="19714" y="6993"/>
                    <a:pt x="19714" y="6308"/>
                    <a:pt x="19714" y="6308"/>
                  </a:cubicBezTo>
                  <a:cubicBezTo>
                    <a:pt x="17863" y="6308"/>
                    <a:pt x="15394" y="6308"/>
                    <a:pt x="13234" y="4936"/>
                  </a:cubicBezTo>
                  <a:cubicBezTo>
                    <a:pt x="12617" y="4936"/>
                    <a:pt x="12000" y="4251"/>
                    <a:pt x="12000" y="3565"/>
                  </a:cubicBezTo>
                  <a:cubicBezTo>
                    <a:pt x="12000" y="3565"/>
                    <a:pt x="12617" y="3565"/>
                    <a:pt x="12617" y="2879"/>
                  </a:cubicBezTo>
                  <a:cubicBezTo>
                    <a:pt x="13234" y="1851"/>
                    <a:pt x="13234" y="1165"/>
                    <a:pt x="13234" y="479"/>
                  </a:cubicBezTo>
                  <a:cubicBezTo>
                    <a:pt x="6754" y="-1578"/>
                    <a:pt x="8297" y="3565"/>
                    <a:pt x="4903" y="4936"/>
                  </a:cubicBezTo>
                </a:path>
              </a:pathLst>
            </a:custGeom>
            <a:solidFill>
              <a:srgbClr val="c0c0c0"/>
            </a:solidFill>
            <a:ln w="12700">
              <a:noFill/>
            </a:ln>
          </p:spPr>
          <p:style>
            <a:lnRef idx="0"/>
            <a:fillRef idx="0"/>
            <a:effectRef idx="0"/>
            <a:fontRef idx="minor"/>
          </p:style>
          <p:txBody>
            <a:bodyPr numCol="1" spcCol="0" lIns="45720" rIns="45720" tIns="12960" bIns="129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7" name="Shape 3691"/>
            <p:cNvSpPr/>
            <p:nvPr/>
          </p:nvSpPr>
          <p:spPr>
            <a:xfrm>
              <a:off x="17601120" y="440568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0517" h="19807">
                  <a:moveTo>
                    <a:pt x="6075" y="11917"/>
                  </a:moveTo>
                  <a:cubicBezTo>
                    <a:pt x="7425" y="13151"/>
                    <a:pt x="8775" y="15620"/>
                    <a:pt x="11475" y="16854"/>
                  </a:cubicBezTo>
                  <a:cubicBezTo>
                    <a:pt x="12825" y="19323"/>
                    <a:pt x="16875" y="20557"/>
                    <a:pt x="18225" y="19323"/>
                  </a:cubicBezTo>
                  <a:cubicBezTo>
                    <a:pt x="20250" y="18088"/>
                    <a:pt x="20250" y="16854"/>
                    <a:pt x="20250" y="15620"/>
                  </a:cubicBezTo>
                  <a:cubicBezTo>
                    <a:pt x="20250" y="13151"/>
                    <a:pt x="21600" y="10066"/>
                    <a:pt x="18225" y="10066"/>
                  </a:cubicBezTo>
                  <a:cubicBezTo>
                    <a:pt x="18225" y="10066"/>
                    <a:pt x="16875" y="10066"/>
                    <a:pt x="16875" y="8831"/>
                  </a:cubicBezTo>
                  <a:cubicBezTo>
                    <a:pt x="15525" y="7597"/>
                    <a:pt x="15525" y="6363"/>
                    <a:pt x="15525" y="5128"/>
                  </a:cubicBezTo>
                  <a:cubicBezTo>
                    <a:pt x="15525" y="2660"/>
                    <a:pt x="12825" y="1426"/>
                    <a:pt x="11475" y="1426"/>
                  </a:cubicBezTo>
                  <a:cubicBezTo>
                    <a:pt x="8775" y="191"/>
                    <a:pt x="1350" y="-1043"/>
                    <a:pt x="0" y="1426"/>
                  </a:cubicBezTo>
                  <a:cubicBezTo>
                    <a:pt x="0" y="3894"/>
                    <a:pt x="4050" y="10066"/>
                    <a:pt x="6075" y="11917"/>
                  </a:cubicBezTo>
                </a:path>
              </a:pathLst>
            </a:custGeom>
            <a:solidFill>
              <a:srgbClr val="c0c0c0"/>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8" name="Shape 3692"/>
            <p:cNvSpPr/>
            <p:nvPr/>
          </p:nvSpPr>
          <p:spPr>
            <a:xfrm>
              <a:off x="17564040" y="443844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20965" h="20720">
                  <a:moveTo>
                    <a:pt x="0" y="20720"/>
                  </a:moveTo>
                  <a:cubicBezTo>
                    <a:pt x="6353" y="18020"/>
                    <a:pt x="8894" y="18020"/>
                    <a:pt x="13976" y="15320"/>
                  </a:cubicBezTo>
                  <a:cubicBezTo>
                    <a:pt x="16518" y="15320"/>
                    <a:pt x="19059" y="12620"/>
                    <a:pt x="19059" y="12620"/>
                  </a:cubicBezTo>
                  <a:cubicBezTo>
                    <a:pt x="21600" y="9920"/>
                    <a:pt x="21600" y="4520"/>
                    <a:pt x="19059" y="470"/>
                  </a:cubicBezTo>
                  <a:cubicBezTo>
                    <a:pt x="11435" y="-880"/>
                    <a:pt x="5082" y="470"/>
                    <a:pt x="1271" y="7220"/>
                  </a:cubicBezTo>
                  <a:cubicBezTo>
                    <a:pt x="2541" y="7220"/>
                    <a:pt x="3812" y="7220"/>
                    <a:pt x="3812" y="7220"/>
                  </a:cubicBezTo>
                  <a:cubicBezTo>
                    <a:pt x="3812" y="12620"/>
                    <a:pt x="3812" y="15320"/>
                    <a:pt x="0" y="20720"/>
                  </a:cubicBezTo>
                  <a:close/>
                  <a:moveTo>
                    <a:pt x="0" y="9920"/>
                  </a:moveTo>
                  <a:cubicBezTo>
                    <a:pt x="0" y="8570"/>
                    <a:pt x="1271" y="7220"/>
                    <a:pt x="1271" y="7220"/>
                  </a:cubicBezTo>
                  <a:cubicBezTo>
                    <a:pt x="1271" y="8570"/>
                    <a:pt x="1271" y="8570"/>
                    <a:pt x="0" y="9920"/>
                  </a:cubicBezTo>
                  <a:close/>
                </a:path>
              </a:pathLst>
            </a:custGeom>
            <a:solidFill>
              <a:srgbClr val="c0c0c0"/>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39" name="Shape 3693"/>
            <p:cNvSpPr/>
            <p:nvPr/>
          </p:nvSpPr>
          <p:spPr>
            <a:xfrm>
              <a:off x="17327160" y="3655440"/>
              <a:ext cx="229320" cy="410400"/>
            </a:xfrm>
            <a:custGeom>
              <a:avLst/>
              <a:gdLst>
                <a:gd name="textAreaLeft" fmla="*/ 0 w 229320"/>
                <a:gd name="textAreaRight" fmla="*/ 229680 w 229320"/>
                <a:gd name="textAreaTop" fmla="*/ 0 h 410400"/>
                <a:gd name="textAreaBottom" fmla="*/ 410760 h 410400"/>
              </a:gdLst>
              <a:ahLst/>
              <a:rect l="textAreaLeft" t="textAreaTop" r="textAreaRight" b="textAreaBottom"/>
              <a:pathLst>
                <a:path w="21371" h="21496">
                  <a:moveTo>
                    <a:pt x="11660" y="6603"/>
                  </a:moveTo>
                  <a:cubicBezTo>
                    <a:pt x="11334" y="6649"/>
                    <a:pt x="10887" y="6740"/>
                    <a:pt x="10724" y="6923"/>
                  </a:cubicBezTo>
                  <a:cubicBezTo>
                    <a:pt x="10561" y="7128"/>
                    <a:pt x="10805" y="7402"/>
                    <a:pt x="11131" y="7357"/>
                  </a:cubicBezTo>
                  <a:cubicBezTo>
                    <a:pt x="10805" y="7562"/>
                    <a:pt x="10724" y="7836"/>
                    <a:pt x="10805" y="8087"/>
                  </a:cubicBezTo>
                  <a:cubicBezTo>
                    <a:pt x="11212" y="8087"/>
                    <a:pt x="11660" y="8087"/>
                    <a:pt x="12066" y="8042"/>
                  </a:cubicBezTo>
                  <a:cubicBezTo>
                    <a:pt x="12188" y="8087"/>
                    <a:pt x="12188" y="8179"/>
                    <a:pt x="12188" y="8270"/>
                  </a:cubicBezTo>
                  <a:cubicBezTo>
                    <a:pt x="12270" y="8270"/>
                    <a:pt x="12351" y="8224"/>
                    <a:pt x="12432" y="8224"/>
                  </a:cubicBezTo>
                  <a:cubicBezTo>
                    <a:pt x="12595" y="8521"/>
                    <a:pt x="12758" y="8750"/>
                    <a:pt x="13002" y="9046"/>
                  </a:cubicBezTo>
                  <a:cubicBezTo>
                    <a:pt x="13124" y="9138"/>
                    <a:pt x="13124" y="9229"/>
                    <a:pt x="12921" y="9320"/>
                  </a:cubicBezTo>
                  <a:cubicBezTo>
                    <a:pt x="13205" y="9320"/>
                    <a:pt x="13449" y="9320"/>
                    <a:pt x="13694" y="9366"/>
                  </a:cubicBezTo>
                  <a:cubicBezTo>
                    <a:pt x="13856" y="9480"/>
                    <a:pt x="13978" y="9663"/>
                    <a:pt x="13775" y="9754"/>
                  </a:cubicBezTo>
                  <a:cubicBezTo>
                    <a:pt x="14141" y="9800"/>
                    <a:pt x="14141" y="10142"/>
                    <a:pt x="13856" y="10234"/>
                  </a:cubicBezTo>
                  <a:cubicBezTo>
                    <a:pt x="14141" y="10325"/>
                    <a:pt x="14304" y="10576"/>
                    <a:pt x="14222" y="10759"/>
                  </a:cubicBezTo>
                  <a:cubicBezTo>
                    <a:pt x="14222" y="10919"/>
                    <a:pt x="14141" y="11147"/>
                    <a:pt x="13856" y="11193"/>
                  </a:cubicBezTo>
                  <a:cubicBezTo>
                    <a:pt x="13775" y="11238"/>
                    <a:pt x="13612" y="11193"/>
                    <a:pt x="13531" y="11238"/>
                  </a:cubicBezTo>
                  <a:cubicBezTo>
                    <a:pt x="13287" y="11284"/>
                    <a:pt x="13205" y="11489"/>
                    <a:pt x="13368" y="11626"/>
                  </a:cubicBezTo>
                  <a:cubicBezTo>
                    <a:pt x="13449" y="11763"/>
                    <a:pt x="13694" y="11878"/>
                    <a:pt x="13978" y="11923"/>
                  </a:cubicBezTo>
                  <a:cubicBezTo>
                    <a:pt x="14222" y="11626"/>
                    <a:pt x="14873" y="11535"/>
                    <a:pt x="15483" y="11581"/>
                  </a:cubicBezTo>
                  <a:cubicBezTo>
                    <a:pt x="16053" y="11626"/>
                    <a:pt x="16622" y="11878"/>
                    <a:pt x="17029" y="12060"/>
                  </a:cubicBezTo>
                  <a:cubicBezTo>
                    <a:pt x="16866" y="12243"/>
                    <a:pt x="16622" y="12403"/>
                    <a:pt x="16338" y="12494"/>
                  </a:cubicBezTo>
                  <a:cubicBezTo>
                    <a:pt x="16622" y="12540"/>
                    <a:pt x="16866" y="12585"/>
                    <a:pt x="17029" y="12585"/>
                  </a:cubicBezTo>
                  <a:lnTo>
                    <a:pt x="17029" y="12768"/>
                  </a:lnTo>
                  <a:cubicBezTo>
                    <a:pt x="17558" y="12837"/>
                    <a:pt x="17721" y="13248"/>
                    <a:pt x="17273" y="13407"/>
                  </a:cubicBezTo>
                  <a:cubicBezTo>
                    <a:pt x="17477" y="13590"/>
                    <a:pt x="17558" y="13727"/>
                    <a:pt x="17721" y="13933"/>
                  </a:cubicBezTo>
                  <a:cubicBezTo>
                    <a:pt x="17802" y="13978"/>
                    <a:pt x="17802" y="14070"/>
                    <a:pt x="17802" y="14161"/>
                  </a:cubicBezTo>
                  <a:cubicBezTo>
                    <a:pt x="17802" y="14412"/>
                    <a:pt x="17477" y="14549"/>
                    <a:pt x="17355" y="14800"/>
                  </a:cubicBezTo>
                  <a:cubicBezTo>
                    <a:pt x="17273" y="15074"/>
                    <a:pt x="17965" y="15325"/>
                    <a:pt x="18412" y="15166"/>
                  </a:cubicBezTo>
                  <a:cubicBezTo>
                    <a:pt x="18575" y="15120"/>
                    <a:pt x="18656" y="15029"/>
                    <a:pt x="18819" y="14983"/>
                  </a:cubicBezTo>
                  <a:cubicBezTo>
                    <a:pt x="19266" y="14846"/>
                    <a:pt x="19836" y="14937"/>
                    <a:pt x="20039" y="15166"/>
                  </a:cubicBezTo>
                  <a:cubicBezTo>
                    <a:pt x="20202" y="15166"/>
                    <a:pt x="20365" y="15120"/>
                    <a:pt x="20446" y="15029"/>
                  </a:cubicBezTo>
                  <a:cubicBezTo>
                    <a:pt x="20446" y="15120"/>
                    <a:pt x="20446" y="15211"/>
                    <a:pt x="20527" y="15325"/>
                  </a:cubicBezTo>
                  <a:cubicBezTo>
                    <a:pt x="20771" y="15325"/>
                    <a:pt x="21056" y="15371"/>
                    <a:pt x="21219" y="15417"/>
                  </a:cubicBezTo>
                  <a:cubicBezTo>
                    <a:pt x="21382" y="15508"/>
                    <a:pt x="21422" y="15622"/>
                    <a:pt x="21300" y="15736"/>
                  </a:cubicBezTo>
                  <a:cubicBezTo>
                    <a:pt x="21178" y="15782"/>
                    <a:pt x="21138" y="15805"/>
                    <a:pt x="21056" y="15851"/>
                  </a:cubicBezTo>
                  <a:cubicBezTo>
                    <a:pt x="20975" y="15942"/>
                    <a:pt x="21219" y="16033"/>
                    <a:pt x="21300" y="16125"/>
                  </a:cubicBezTo>
                  <a:cubicBezTo>
                    <a:pt x="21463" y="16376"/>
                    <a:pt x="20771" y="16558"/>
                    <a:pt x="20853" y="16810"/>
                  </a:cubicBezTo>
                  <a:lnTo>
                    <a:pt x="20121" y="16810"/>
                  </a:lnTo>
                  <a:lnTo>
                    <a:pt x="20121" y="17335"/>
                  </a:lnTo>
                  <a:cubicBezTo>
                    <a:pt x="19917" y="17563"/>
                    <a:pt x="19429" y="17700"/>
                    <a:pt x="18982" y="17700"/>
                  </a:cubicBezTo>
                  <a:cubicBezTo>
                    <a:pt x="18819" y="17700"/>
                    <a:pt x="18656" y="17700"/>
                    <a:pt x="18575" y="17769"/>
                  </a:cubicBezTo>
                  <a:cubicBezTo>
                    <a:pt x="18331" y="17860"/>
                    <a:pt x="18575" y="18088"/>
                    <a:pt x="18819" y="18180"/>
                  </a:cubicBezTo>
                  <a:cubicBezTo>
                    <a:pt x="19266" y="18294"/>
                    <a:pt x="19673" y="18339"/>
                    <a:pt x="20121" y="18431"/>
                  </a:cubicBezTo>
                  <a:cubicBezTo>
                    <a:pt x="20527" y="18522"/>
                    <a:pt x="20975" y="18773"/>
                    <a:pt x="20853" y="19002"/>
                  </a:cubicBezTo>
                  <a:cubicBezTo>
                    <a:pt x="20609" y="19093"/>
                    <a:pt x="20202" y="19047"/>
                    <a:pt x="19917" y="19047"/>
                  </a:cubicBezTo>
                  <a:cubicBezTo>
                    <a:pt x="19592" y="19093"/>
                    <a:pt x="19348" y="19344"/>
                    <a:pt x="19510" y="19435"/>
                  </a:cubicBezTo>
                  <a:lnTo>
                    <a:pt x="18819" y="19435"/>
                  </a:lnTo>
                  <a:cubicBezTo>
                    <a:pt x="18575" y="19572"/>
                    <a:pt x="18331" y="19778"/>
                    <a:pt x="18127" y="19915"/>
                  </a:cubicBezTo>
                  <a:cubicBezTo>
                    <a:pt x="17273" y="19687"/>
                    <a:pt x="16338" y="19572"/>
                    <a:pt x="15402" y="19572"/>
                  </a:cubicBezTo>
                  <a:cubicBezTo>
                    <a:pt x="15402" y="19778"/>
                    <a:pt x="15077" y="19915"/>
                    <a:pt x="14629" y="19961"/>
                  </a:cubicBezTo>
                  <a:cubicBezTo>
                    <a:pt x="14304" y="19961"/>
                    <a:pt x="13978" y="19869"/>
                    <a:pt x="13612" y="19778"/>
                  </a:cubicBezTo>
                  <a:cubicBezTo>
                    <a:pt x="13612" y="19824"/>
                    <a:pt x="13531" y="19915"/>
                    <a:pt x="13531" y="19961"/>
                  </a:cubicBezTo>
                  <a:cubicBezTo>
                    <a:pt x="13124" y="19778"/>
                    <a:pt x="12432" y="19732"/>
                    <a:pt x="11985" y="19915"/>
                  </a:cubicBezTo>
                  <a:cubicBezTo>
                    <a:pt x="11660" y="19687"/>
                    <a:pt x="10805" y="19778"/>
                    <a:pt x="10643" y="20052"/>
                  </a:cubicBezTo>
                  <a:cubicBezTo>
                    <a:pt x="10358" y="19824"/>
                    <a:pt x="9707" y="19915"/>
                    <a:pt x="9178" y="20052"/>
                  </a:cubicBezTo>
                  <a:cubicBezTo>
                    <a:pt x="9016" y="20098"/>
                    <a:pt x="8771" y="20212"/>
                    <a:pt x="8649" y="20303"/>
                  </a:cubicBezTo>
                  <a:cubicBezTo>
                    <a:pt x="8609" y="20394"/>
                    <a:pt x="8812" y="20554"/>
                    <a:pt x="8975" y="20554"/>
                  </a:cubicBezTo>
                  <a:cubicBezTo>
                    <a:pt x="8649" y="20600"/>
                    <a:pt x="8487" y="20783"/>
                    <a:pt x="8487" y="20965"/>
                  </a:cubicBezTo>
                  <a:cubicBezTo>
                    <a:pt x="8080" y="20828"/>
                    <a:pt x="7551" y="20874"/>
                    <a:pt x="7063" y="20965"/>
                  </a:cubicBezTo>
                  <a:cubicBezTo>
                    <a:pt x="6982" y="20965"/>
                    <a:pt x="6778" y="21011"/>
                    <a:pt x="6697" y="21011"/>
                  </a:cubicBezTo>
                  <a:cubicBezTo>
                    <a:pt x="6371" y="21057"/>
                    <a:pt x="6005" y="21171"/>
                    <a:pt x="5680" y="21262"/>
                  </a:cubicBezTo>
                  <a:cubicBezTo>
                    <a:pt x="5436" y="21353"/>
                    <a:pt x="5151" y="21445"/>
                    <a:pt x="4907" y="21490"/>
                  </a:cubicBezTo>
                  <a:cubicBezTo>
                    <a:pt x="4500" y="21536"/>
                    <a:pt x="4053" y="21331"/>
                    <a:pt x="3971" y="21102"/>
                  </a:cubicBezTo>
                  <a:cubicBezTo>
                    <a:pt x="3890" y="20851"/>
                    <a:pt x="4216" y="20623"/>
                    <a:pt x="4744" y="20577"/>
                  </a:cubicBezTo>
                  <a:cubicBezTo>
                    <a:pt x="4988" y="20577"/>
                    <a:pt x="5273" y="20623"/>
                    <a:pt x="5517" y="20531"/>
                  </a:cubicBezTo>
                  <a:cubicBezTo>
                    <a:pt x="5843" y="20440"/>
                    <a:pt x="5843" y="20212"/>
                    <a:pt x="5761" y="19961"/>
                  </a:cubicBezTo>
                  <a:cubicBezTo>
                    <a:pt x="5924" y="20006"/>
                    <a:pt x="6127" y="19961"/>
                    <a:pt x="6209" y="19869"/>
                  </a:cubicBezTo>
                  <a:cubicBezTo>
                    <a:pt x="6290" y="19778"/>
                    <a:pt x="6290" y="19687"/>
                    <a:pt x="6371" y="19572"/>
                  </a:cubicBezTo>
                  <a:cubicBezTo>
                    <a:pt x="6697" y="19207"/>
                    <a:pt x="7836" y="19253"/>
                    <a:pt x="8243" y="18910"/>
                  </a:cubicBezTo>
                  <a:cubicBezTo>
                    <a:pt x="8934" y="19093"/>
                    <a:pt x="9951" y="18773"/>
                    <a:pt x="9870" y="18339"/>
                  </a:cubicBezTo>
                  <a:cubicBezTo>
                    <a:pt x="10114" y="18339"/>
                    <a:pt x="10480" y="18385"/>
                    <a:pt x="10724" y="18385"/>
                  </a:cubicBezTo>
                  <a:cubicBezTo>
                    <a:pt x="10968" y="18385"/>
                    <a:pt x="11334" y="18248"/>
                    <a:pt x="11131" y="18088"/>
                  </a:cubicBezTo>
                  <a:cubicBezTo>
                    <a:pt x="11049" y="18043"/>
                    <a:pt x="11049" y="17997"/>
                    <a:pt x="10968" y="17997"/>
                  </a:cubicBezTo>
                  <a:cubicBezTo>
                    <a:pt x="10643" y="17906"/>
                    <a:pt x="10277" y="17769"/>
                    <a:pt x="9951" y="17860"/>
                  </a:cubicBezTo>
                  <a:cubicBezTo>
                    <a:pt x="9788" y="17906"/>
                    <a:pt x="9626" y="17951"/>
                    <a:pt x="9504" y="17997"/>
                  </a:cubicBezTo>
                  <a:cubicBezTo>
                    <a:pt x="9097" y="18088"/>
                    <a:pt x="8649" y="18088"/>
                    <a:pt x="8243" y="18088"/>
                  </a:cubicBezTo>
                  <a:cubicBezTo>
                    <a:pt x="7836" y="18088"/>
                    <a:pt x="7388" y="18088"/>
                    <a:pt x="6982" y="18043"/>
                  </a:cubicBezTo>
                  <a:cubicBezTo>
                    <a:pt x="6209" y="18180"/>
                    <a:pt x="5273" y="18088"/>
                    <a:pt x="4582" y="17860"/>
                  </a:cubicBezTo>
                  <a:cubicBezTo>
                    <a:pt x="4744" y="17814"/>
                    <a:pt x="4826" y="17814"/>
                    <a:pt x="4988" y="17814"/>
                  </a:cubicBezTo>
                  <a:cubicBezTo>
                    <a:pt x="5070" y="17609"/>
                    <a:pt x="5151" y="17380"/>
                    <a:pt x="5436" y="17243"/>
                  </a:cubicBezTo>
                  <a:cubicBezTo>
                    <a:pt x="5680" y="17084"/>
                    <a:pt x="6127" y="16992"/>
                    <a:pt x="6371" y="17129"/>
                  </a:cubicBezTo>
                  <a:cubicBezTo>
                    <a:pt x="6371" y="16855"/>
                    <a:pt x="6941" y="16695"/>
                    <a:pt x="7470" y="16695"/>
                  </a:cubicBezTo>
                  <a:cubicBezTo>
                    <a:pt x="7958" y="16695"/>
                    <a:pt x="8487" y="16764"/>
                    <a:pt x="8934" y="16604"/>
                  </a:cubicBezTo>
                  <a:cubicBezTo>
                    <a:pt x="9016" y="16558"/>
                    <a:pt x="9097" y="16558"/>
                    <a:pt x="9097" y="16513"/>
                  </a:cubicBezTo>
                  <a:cubicBezTo>
                    <a:pt x="9178" y="16376"/>
                    <a:pt x="8853" y="16284"/>
                    <a:pt x="8568" y="16170"/>
                  </a:cubicBezTo>
                  <a:cubicBezTo>
                    <a:pt x="8161" y="16079"/>
                    <a:pt x="7917" y="15851"/>
                    <a:pt x="7836" y="15599"/>
                  </a:cubicBezTo>
                  <a:cubicBezTo>
                    <a:pt x="7470" y="15554"/>
                    <a:pt x="7063" y="15554"/>
                    <a:pt x="6778" y="15645"/>
                  </a:cubicBezTo>
                  <a:cubicBezTo>
                    <a:pt x="6697" y="15691"/>
                    <a:pt x="6616" y="15691"/>
                    <a:pt x="6534" y="15691"/>
                  </a:cubicBezTo>
                  <a:cubicBezTo>
                    <a:pt x="6290" y="15691"/>
                    <a:pt x="6290" y="15462"/>
                    <a:pt x="6453" y="15371"/>
                  </a:cubicBezTo>
                  <a:cubicBezTo>
                    <a:pt x="6616" y="15280"/>
                    <a:pt x="6778" y="15166"/>
                    <a:pt x="6778" y="15029"/>
                  </a:cubicBezTo>
                  <a:cubicBezTo>
                    <a:pt x="6778" y="14937"/>
                    <a:pt x="6697" y="14892"/>
                    <a:pt x="6778" y="14800"/>
                  </a:cubicBezTo>
                  <a:cubicBezTo>
                    <a:pt x="6860" y="14732"/>
                    <a:pt x="7063" y="14732"/>
                    <a:pt x="7144" y="14732"/>
                  </a:cubicBezTo>
                  <a:cubicBezTo>
                    <a:pt x="7470" y="14732"/>
                    <a:pt x="7836" y="14549"/>
                    <a:pt x="7714" y="14366"/>
                  </a:cubicBezTo>
                  <a:cubicBezTo>
                    <a:pt x="7999" y="14366"/>
                    <a:pt x="8324" y="14412"/>
                    <a:pt x="8568" y="14412"/>
                  </a:cubicBezTo>
                  <a:cubicBezTo>
                    <a:pt x="9178" y="14458"/>
                    <a:pt x="9788" y="14458"/>
                    <a:pt x="10480" y="14503"/>
                  </a:cubicBezTo>
                  <a:cubicBezTo>
                    <a:pt x="10805" y="14503"/>
                    <a:pt x="11334" y="14458"/>
                    <a:pt x="11334" y="14252"/>
                  </a:cubicBezTo>
                  <a:cubicBezTo>
                    <a:pt x="10968" y="14252"/>
                    <a:pt x="10805" y="14115"/>
                    <a:pt x="10724" y="13933"/>
                  </a:cubicBezTo>
                  <a:cubicBezTo>
                    <a:pt x="10724" y="13727"/>
                    <a:pt x="10805" y="13590"/>
                    <a:pt x="10805" y="13407"/>
                  </a:cubicBezTo>
                  <a:cubicBezTo>
                    <a:pt x="10968" y="13019"/>
                    <a:pt x="10805" y="12631"/>
                    <a:pt x="10561" y="12243"/>
                  </a:cubicBezTo>
                  <a:cubicBezTo>
                    <a:pt x="10480" y="12197"/>
                    <a:pt x="10358" y="12106"/>
                    <a:pt x="10277" y="12106"/>
                  </a:cubicBezTo>
                  <a:cubicBezTo>
                    <a:pt x="10195" y="12106"/>
                    <a:pt x="10114" y="12060"/>
                    <a:pt x="10032" y="12060"/>
                  </a:cubicBezTo>
                  <a:cubicBezTo>
                    <a:pt x="9178" y="11969"/>
                    <a:pt x="9219" y="11101"/>
                    <a:pt x="8405" y="10919"/>
                  </a:cubicBezTo>
                  <a:cubicBezTo>
                    <a:pt x="7958" y="10804"/>
                    <a:pt x="7388" y="10964"/>
                    <a:pt x="6982" y="11101"/>
                  </a:cubicBezTo>
                  <a:cubicBezTo>
                    <a:pt x="6778" y="11010"/>
                    <a:pt x="6616" y="10919"/>
                    <a:pt x="6534" y="10804"/>
                  </a:cubicBezTo>
                  <a:cubicBezTo>
                    <a:pt x="6290" y="11010"/>
                    <a:pt x="6005" y="11238"/>
                    <a:pt x="5843" y="11489"/>
                  </a:cubicBezTo>
                  <a:cubicBezTo>
                    <a:pt x="5599" y="11193"/>
                    <a:pt x="5436" y="10873"/>
                    <a:pt x="5273" y="10531"/>
                  </a:cubicBezTo>
                  <a:cubicBezTo>
                    <a:pt x="5599" y="10439"/>
                    <a:pt x="5924" y="10234"/>
                    <a:pt x="5924" y="10005"/>
                  </a:cubicBezTo>
                  <a:cubicBezTo>
                    <a:pt x="5924" y="9960"/>
                    <a:pt x="5924" y="9846"/>
                    <a:pt x="6005" y="9800"/>
                  </a:cubicBezTo>
                  <a:cubicBezTo>
                    <a:pt x="6127" y="9754"/>
                    <a:pt x="6290" y="9754"/>
                    <a:pt x="6371" y="9709"/>
                  </a:cubicBezTo>
                  <a:cubicBezTo>
                    <a:pt x="6982" y="9617"/>
                    <a:pt x="6982" y="9138"/>
                    <a:pt x="6778" y="8795"/>
                  </a:cubicBezTo>
                  <a:cubicBezTo>
                    <a:pt x="6616" y="8841"/>
                    <a:pt x="6453" y="8955"/>
                    <a:pt x="6290" y="9001"/>
                  </a:cubicBezTo>
                  <a:cubicBezTo>
                    <a:pt x="6005" y="8795"/>
                    <a:pt x="5517" y="8795"/>
                    <a:pt x="5273" y="8955"/>
                  </a:cubicBezTo>
                  <a:cubicBezTo>
                    <a:pt x="4907" y="9092"/>
                    <a:pt x="4744" y="9275"/>
                    <a:pt x="4582" y="9480"/>
                  </a:cubicBezTo>
                  <a:cubicBezTo>
                    <a:pt x="4419" y="9663"/>
                    <a:pt x="4134" y="9846"/>
                    <a:pt x="3727" y="9914"/>
                  </a:cubicBezTo>
                  <a:cubicBezTo>
                    <a:pt x="3727" y="9800"/>
                    <a:pt x="3646" y="9709"/>
                    <a:pt x="3646" y="9617"/>
                  </a:cubicBezTo>
                  <a:cubicBezTo>
                    <a:pt x="3565" y="9366"/>
                    <a:pt x="3199" y="9092"/>
                    <a:pt x="3483" y="8841"/>
                  </a:cubicBezTo>
                  <a:cubicBezTo>
                    <a:pt x="3565" y="8795"/>
                    <a:pt x="3565" y="8750"/>
                    <a:pt x="3646" y="8704"/>
                  </a:cubicBezTo>
                  <a:cubicBezTo>
                    <a:pt x="3727" y="8567"/>
                    <a:pt x="3361" y="8476"/>
                    <a:pt x="3199" y="8567"/>
                  </a:cubicBezTo>
                  <a:cubicBezTo>
                    <a:pt x="3117" y="8613"/>
                    <a:pt x="3117" y="8658"/>
                    <a:pt x="3036" y="8704"/>
                  </a:cubicBezTo>
                  <a:cubicBezTo>
                    <a:pt x="2629" y="8750"/>
                    <a:pt x="2263" y="8430"/>
                    <a:pt x="2629" y="8270"/>
                  </a:cubicBezTo>
                  <a:cubicBezTo>
                    <a:pt x="2629" y="8224"/>
                    <a:pt x="2710" y="8224"/>
                    <a:pt x="2710" y="8179"/>
                  </a:cubicBezTo>
                  <a:cubicBezTo>
                    <a:pt x="2792" y="8087"/>
                    <a:pt x="2588" y="8042"/>
                    <a:pt x="2426" y="7950"/>
                  </a:cubicBezTo>
                  <a:cubicBezTo>
                    <a:pt x="2141" y="7791"/>
                    <a:pt x="2182" y="7562"/>
                    <a:pt x="2344" y="7402"/>
                  </a:cubicBezTo>
                  <a:cubicBezTo>
                    <a:pt x="2182" y="7357"/>
                    <a:pt x="2019" y="7311"/>
                    <a:pt x="1938" y="7220"/>
                  </a:cubicBezTo>
                  <a:cubicBezTo>
                    <a:pt x="1856" y="7128"/>
                    <a:pt x="1775" y="7037"/>
                    <a:pt x="1938" y="6923"/>
                  </a:cubicBezTo>
                  <a:cubicBezTo>
                    <a:pt x="2019" y="6877"/>
                    <a:pt x="2100" y="6877"/>
                    <a:pt x="2182" y="6832"/>
                  </a:cubicBezTo>
                  <a:cubicBezTo>
                    <a:pt x="2710" y="6649"/>
                    <a:pt x="2629" y="6169"/>
                    <a:pt x="3036" y="5987"/>
                  </a:cubicBezTo>
                  <a:cubicBezTo>
                    <a:pt x="2426" y="5781"/>
                    <a:pt x="2507" y="5210"/>
                    <a:pt x="1938" y="4914"/>
                  </a:cubicBezTo>
                  <a:cubicBezTo>
                    <a:pt x="1856" y="4868"/>
                    <a:pt x="1653" y="4822"/>
                    <a:pt x="1571" y="4731"/>
                  </a:cubicBezTo>
                  <a:cubicBezTo>
                    <a:pt x="1490" y="4685"/>
                    <a:pt x="1490" y="4640"/>
                    <a:pt x="1490" y="4548"/>
                  </a:cubicBezTo>
                  <a:cubicBezTo>
                    <a:pt x="1327" y="4388"/>
                    <a:pt x="1002" y="4434"/>
                    <a:pt x="839" y="4594"/>
                  </a:cubicBezTo>
                  <a:cubicBezTo>
                    <a:pt x="636" y="4685"/>
                    <a:pt x="636" y="4868"/>
                    <a:pt x="555" y="5028"/>
                  </a:cubicBezTo>
                  <a:cubicBezTo>
                    <a:pt x="555" y="5165"/>
                    <a:pt x="473" y="5347"/>
                    <a:pt x="310" y="5439"/>
                  </a:cubicBezTo>
                  <a:cubicBezTo>
                    <a:pt x="-137" y="5347"/>
                    <a:pt x="-15" y="4959"/>
                    <a:pt x="148" y="4731"/>
                  </a:cubicBezTo>
                  <a:cubicBezTo>
                    <a:pt x="310" y="4503"/>
                    <a:pt x="392" y="4206"/>
                    <a:pt x="555" y="3955"/>
                  </a:cubicBezTo>
                  <a:cubicBezTo>
                    <a:pt x="555" y="3909"/>
                    <a:pt x="636" y="3863"/>
                    <a:pt x="717" y="3818"/>
                  </a:cubicBezTo>
                  <a:cubicBezTo>
                    <a:pt x="839" y="3772"/>
                    <a:pt x="1002" y="3772"/>
                    <a:pt x="1083" y="3726"/>
                  </a:cubicBezTo>
                  <a:cubicBezTo>
                    <a:pt x="1246" y="3635"/>
                    <a:pt x="1165" y="3475"/>
                    <a:pt x="1165" y="3338"/>
                  </a:cubicBezTo>
                  <a:cubicBezTo>
                    <a:pt x="1246" y="3201"/>
                    <a:pt x="1409" y="3110"/>
                    <a:pt x="1571" y="2950"/>
                  </a:cubicBezTo>
                  <a:cubicBezTo>
                    <a:pt x="1938" y="2767"/>
                    <a:pt x="2182" y="2516"/>
                    <a:pt x="2263" y="2242"/>
                  </a:cubicBezTo>
                  <a:cubicBezTo>
                    <a:pt x="2629" y="2516"/>
                    <a:pt x="2629" y="2950"/>
                    <a:pt x="2263" y="3247"/>
                  </a:cubicBezTo>
                  <a:cubicBezTo>
                    <a:pt x="2263" y="3292"/>
                    <a:pt x="2182" y="3292"/>
                    <a:pt x="2182" y="3338"/>
                  </a:cubicBezTo>
                  <a:cubicBezTo>
                    <a:pt x="2182" y="3384"/>
                    <a:pt x="2222" y="3475"/>
                    <a:pt x="2344" y="3544"/>
                  </a:cubicBezTo>
                  <a:cubicBezTo>
                    <a:pt x="2588" y="3681"/>
                    <a:pt x="2710" y="3909"/>
                    <a:pt x="2629" y="4114"/>
                  </a:cubicBezTo>
                  <a:cubicBezTo>
                    <a:pt x="3036" y="4114"/>
                    <a:pt x="3483" y="4297"/>
                    <a:pt x="3646" y="4548"/>
                  </a:cubicBezTo>
                  <a:cubicBezTo>
                    <a:pt x="3971" y="4434"/>
                    <a:pt x="4216" y="4251"/>
                    <a:pt x="4338" y="4069"/>
                  </a:cubicBezTo>
                  <a:cubicBezTo>
                    <a:pt x="4419" y="3909"/>
                    <a:pt x="4338" y="3772"/>
                    <a:pt x="4338" y="3681"/>
                  </a:cubicBezTo>
                  <a:cubicBezTo>
                    <a:pt x="4338" y="3384"/>
                    <a:pt x="4419" y="3064"/>
                    <a:pt x="4500" y="2767"/>
                  </a:cubicBezTo>
                  <a:lnTo>
                    <a:pt x="4744" y="2059"/>
                  </a:lnTo>
                  <a:cubicBezTo>
                    <a:pt x="4744" y="1945"/>
                    <a:pt x="4826" y="1854"/>
                    <a:pt x="4988" y="1763"/>
                  </a:cubicBezTo>
                  <a:cubicBezTo>
                    <a:pt x="5151" y="1671"/>
                    <a:pt x="5436" y="1717"/>
                    <a:pt x="5680" y="1717"/>
                  </a:cubicBezTo>
                  <a:cubicBezTo>
                    <a:pt x="5924" y="1717"/>
                    <a:pt x="6209" y="1671"/>
                    <a:pt x="6290" y="1580"/>
                  </a:cubicBezTo>
                  <a:cubicBezTo>
                    <a:pt x="6371" y="1671"/>
                    <a:pt x="6616" y="1717"/>
                    <a:pt x="6778" y="1671"/>
                  </a:cubicBezTo>
                  <a:cubicBezTo>
                    <a:pt x="6982" y="1626"/>
                    <a:pt x="7144" y="1580"/>
                    <a:pt x="7307" y="1466"/>
                  </a:cubicBezTo>
                  <a:cubicBezTo>
                    <a:pt x="7388" y="1626"/>
                    <a:pt x="7714" y="1671"/>
                    <a:pt x="7999" y="1671"/>
                  </a:cubicBezTo>
                  <a:cubicBezTo>
                    <a:pt x="8243" y="1671"/>
                    <a:pt x="8568" y="1626"/>
                    <a:pt x="8853" y="1671"/>
                  </a:cubicBezTo>
                  <a:lnTo>
                    <a:pt x="9341" y="1808"/>
                  </a:lnTo>
                  <a:cubicBezTo>
                    <a:pt x="9504" y="1854"/>
                    <a:pt x="9788" y="1808"/>
                    <a:pt x="9788" y="1671"/>
                  </a:cubicBezTo>
                  <a:cubicBezTo>
                    <a:pt x="9788" y="1626"/>
                    <a:pt x="9788" y="1580"/>
                    <a:pt x="9707" y="1511"/>
                  </a:cubicBezTo>
                  <a:cubicBezTo>
                    <a:pt x="9422" y="1237"/>
                    <a:pt x="9422" y="849"/>
                    <a:pt x="9707" y="552"/>
                  </a:cubicBezTo>
                  <a:cubicBezTo>
                    <a:pt x="10032" y="552"/>
                    <a:pt x="10195" y="370"/>
                    <a:pt x="10480" y="233"/>
                  </a:cubicBezTo>
                  <a:cubicBezTo>
                    <a:pt x="10643" y="96"/>
                    <a:pt x="10968" y="-64"/>
                    <a:pt x="11334" y="27"/>
                  </a:cubicBezTo>
                  <a:cubicBezTo>
                    <a:pt x="11416" y="96"/>
                    <a:pt x="11497" y="141"/>
                    <a:pt x="11578" y="233"/>
                  </a:cubicBezTo>
                  <a:cubicBezTo>
                    <a:pt x="11334" y="552"/>
                    <a:pt x="10968" y="895"/>
                    <a:pt x="10724" y="1237"/>
                  </a:cubicBezTo>
                  <a:cubicBezTo>
                    <a:pt x="10643" y="1329"/>
                    <a:pt x="10561" y="1511"/>
                    <a:pt x="10805" y="1511"/>
                  </a:cubicBezTo>
                  <a:cubicBezTo>
                    <a:pt x="10561" y="1671"/>
                    <a:pt x="10521" y="1900"/>
                    <a:pt x="10805" y="2059"/>
                  </a:cubicBezTo>
                  <a:cubicBezTo>
                    <a:pt x="10846" y="2105"/>
                    <a:pt x="11049" y="2151"/>
                    <a:pt x="11049" y="2242"/>
                  </a:cubicBezTo>
                  <a:cubicBezTo>
                    <a:pt x="11049" y="2379"/>
                    <a:pt x="10724" y="2470"/>
                    <a:pt x="10480" y="2470"/>
                  </a:cubicBezTo>
                  <a:cubicBezTo>
                    <a:pt x="9870" y="2516"/>
                    <a:pt x="9341" y="2722"/>
                    <a:pt x="8934" y="2904"/>
                  </a:cubicBezTo>
                  <a:cubicBezTo>
                    <a:pt x="9178" y="2950"/>
                    <a:pt x="9260" y="3110"/>
                    <a:pt x="9097" y="3201"/>
                  </a:cubicBezTo>
                  <a:cubicBezTo>
                    <a:pt x="9016" y="3247"/>
                    <a:pt x="8934" y="3292"/>
                    <a:pt x="8771" y="3338"/>
                  </a:cubicBezTo>
                  <a:cubicBezTo>
                    <a:pt x="8487" y="3475"/>
                    <a:pt x="8405" y="3726"/>
                    <a:pt x="8649" y="3909"/>
                  </a:cubicBezTo>
                  <a:cubicBezTo>
                    <a:pt x="8934" y="4069"/>
                    <a:pt x="9422" y="4069"/>
                    <a:pt x="9707" y="3863"/>
                  </a:cubicBezTo>
                  <a:cubicBezTo>
                    <a:pt x="9707" y="3955"/>
                    <a:pt x="9951" y="4069"/>
                    <a:pt x="10114" y="4069"/>
                  </a:cubicBezTo>
                  <a:cubicBezTo>
                    <a:pt x="10277" y="4069"/>
                    <a:pt x="10480" y="4023"/>
                    <a:pt x="10643" y="3955"/>
                  </a:cubicBezTo>
                  <a:cubicBezTo>
                    <a:pt x="11416" y="3772"/>
                    <a:pt x="12432" y="4023"/>
                    <a:pt x="12758" y="4503"/>
                  </a:cubicBezTo>
                  <a:cubicBezTo>
                    <a:pt x="12432" y="4548"/>
                    <a:pt x="12188" y="4685"/>
                    <a:pt x="12066" y="4868"/>
                  </a:cubicBezTo>
                  <a:cubicBezTo>
                    <a:pt x="12270" y="4914"/>
                    <a:pt x="12432" y="5028"/>
                    <a:pt x="12595" y="5119"/>
                  </a:cubicBezTo>
                  <a:cubicBezTo>
                    <a:pt x="12758" y="5210"/>
                    <a:pt x="12677" y="5347"/>
                    <a:pt x="12595" y="5439"/>
                  </a:cubicBezTo>
                  <a:cubicBezTo>
                    <a:pt x="12514" y="5507"/>
                    <a:pt x="12351" y="5553"/>
                    <a:pt x="12351" y="5599"/>
                  </a:cubicBezTo>
                  <a:cubicBezTo>
                    <a:pt x="12270" y="5736"/>
                    <a:pt x="12595" y="5873"/>
                    <a:pt x="12514" y="6032"/>
                  </a:cubicBezTo>
                  <a:lnTo>
                    <a:pt x="12270" y="6169"/>
                  </a:lnTo>
                  <a:cubicBezTo>
                    <a:pt x="12066" y="6261"/>
                    <a:pt x="12066" y="6352"/>
                    <a:pt x="11985" y="6512"/>
                  </a:cubicBezTo>
                  <a:cubicBezTo>
                    <a:pt x="11985" y="6558"/>
                    <a:pt x="11822" y="6649"/>
                    <a:pt x="11660" y="6603"/>
                  </a:cubicBezTo>
                  <a:close/>
                  <a:moveTo>
                    <a:pt x="9016" y="20531"/>
                  </a:moveTo>
                  <a:cubicBezTo>
                    <a:pt x="9016" y="20531"/>
                    <a:pt x="8975" y="20531"/>
                    <a:pt x="8975" y="20554"/>
                  </a:cubicBezTo>
                  <a:lnTo>
                    <a:pt x="9016" y="20531"/>
                  </a:ln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0" name="Shape 3694"/>
            <p:cNvSpPr/>
            <p:nvPr/>
          </p:nvSpPr>
          <p:spPr>
            <a:xfrm>
              <a:off x="17256600" y="3840840"/>
              <a:ext cx="119520" cy="163080"/>
            </a:xfrm>
            <a:custGeom>
              <a:avLst/>
              <a:gdLst>
                <a:gd name="textAreaLeft" fmla="*/ 0 w 119520"/>
                <a:gd name="textAreaRight" fmla="*/ 119880 w 119520"/>
                <a:gd name="textAreaTop" fmla="*/ 0 h 163080"/>
                <a:gd name="textAreaBottom" fmla="*/ 163440 h 163080"/>
              </a:gdLst>
              <a:ahLst/>
              <a:rect l="textAreaLeft" t="textAreaTop" r="textAreaRight" b="textAreaBottom"/>
              <a:pathLst>
                <a:path w="21444" h="21392">
                  <a:moveTo>
                    <a:pt x="8500" y="2692"/>
                  </a:moveTo>
                  <a:cubicBezTo>
                    <a:pt x="8656" y="3435"/>
                    <a:pt x="8500" y="4120"/>
                    <a:pt x="7876" y="4749"/>
                  </a:cubicBezTo>
                  <a:cubicBezTo>
                    <a:pt x="8344" y="4978"/>
                    <a:pt x="8032" y="5606"/>
                    <a:pt x="7564" y="5720"/>
                  </a:cubicBezTo>
                  <a:cubicBezTo>
                    <a:pt x="7018" y="5835"/>
                    <a:pt x="6238" y="5720"/>
                    <a:pt x="5770" y="5949"/>
                  </a:cubicBezTo>
                  <a:cubicBezTo>
                    <a:pt x="5536" y="6063"/>
                    <a:pt x="5381" y="6178"/>
                    <a:pt x="5069" y="6178"/>
                  </a:cubicBezTo>
                  <a:cubicBezTo>
                    <a:pt x="4601" y="6178"/>
                    <a:pt x="4289" y="5720"/>
                    <a:pt x="3743" y="5606"/>
                  </a:cubicBezTo>
                  <a:cubicBezTo>
                    <a:pt x="2963" y="5320"/>
                    <a:pt x="2261" y="6063"/>
                    <a:pt x="1638" y="6406"/>
                  </a:cubicBezTo>
                  <a:cubicBezTo>
                    <a:pt x="1482" y="6406"/>
                    <a:pt x="1326" y="6520"/>
                    <a:pt x="1326" y="6692"/>
                  </a:cubicBezTo>
                  <a:cubicBezTo>
                    <a:pt x="1326" y="6806"/>
                    <a:pt x="1170" y="6806"/>
                    <a:pt x="1170" y="6920"/>
                  </a:cubicBezTo>
                  <a:cubicBezTo>
                    <a:pt x="1014" y="7606"/>
                    <a:pt x="624" y="8235"/>
                    <a:pt x="468" y="8920"/>
                  </a:cubicBezTo>
                  <a:cubicBezTo>
                    <a:pt x="1014" y="8920"/>
                    <a:pt x="1482" y="9435"/>
                    <a:pt x="1326" y="9778"/>
                  </a:cubicBezTo>
                  <a:cubicBezTo>
                    <a:pt x="1326" y="9892"/>
                    <a:pt x="1170" y="10006"/>
                    <a:pt x="1170" y="10120"/>
                  </a:cubicBezTo>
                  <a:cubicBezTo>
                    <a:pt x="1170" y="10235"/>
                    <a:pt x="1326" y="10406"/>
                    <a:pt x="1326" y="10406"/>
                  </a:cubicBezTo>
                  <a:cubicBezTo>
                    <a:pt x="1794" y="10863"/>
                    <a:pt x="2495" y="11206"/>
                    <a:pt x="2963" y="11720"/>
                  </a:cubicBezTo>
                  <a:cubicBezTo>
                    <a:pt x="3119" y="11949"/>
                    <a:pt x="2651" y="12235"/>
                    <a:pt x="2651" y="12635"/>
                  </a:cubicBezTo>
                  <a:cubicBezTo>
                    <a:pt x="2651" y="12978"/>
                    <a:pt x="3275" y="13378"/>
                    <a:pt x="3431" y="13720"/>
                  </a:cubicBezTo>
                  <a:cubicBezTo>
                    <a:pt x="3743" y="14463"/>
                    <a:pt x="2261" y="14806"/>
                    <a:pt x="1949" y="15549"/>
                  </a:cubicBezTo>
                  <a:cubicBezTo>
                    <a:pt x="1794" y="15778"/>
                    <a:pt x="1794" y="16006"/>
                    <a:pt x="1638" y="16235"/>
                  </a:cubicBezTo>
                  <a:cubicBezTo>
                    <a:pt x="1482" y="16520"/>
                    <a:pt x="1170" y="16635"/>
                    <a:pt x="858" y="16520"/>
                  </a:cubicBezTo>
                  <a:cubicBezTo>
                    <a:pt x="468" y="17206"/>
                    <a:pt x="312" y="17835"/>
                    <a:pt x="0" y="18520"/>
                  </a:cubicBezTo>
                  <a:cubicBezTo>
                    <a:pt x="468" y="18406"/>
                    <a:pt x="858" y="18749"/>
                    <a:pt x="1014" y="19149"/>
                  </a:cubicBezTo>
                  <a:cubicBezTo>
                    <a:pt x="1170" y="19492"/>
                    <a:pt x="1170" y="19835"/>
                    <a:pt x="1326" y="20235"/>
                  </a:cubicBezTo>
                  <a:cubicBezTo>
                    <a:pt x="1482" y="20578"/>
                    <a:pt x="1794" y="20692"/>
                    <a:pt x="2261" y="20920"/>
                  </a:cubicBezTo>
                  <a:cubicBezTo>
                    <a:pt x="3587" y="21549"/>
                    <a:pt x="5536" y="21549"/>
                    <a:pt x="6862" y="20920"/>
                  </a:cubicBezTo>
                  <a:cubicBezTo>
                    <a:pt x="7876" y="20463"/>
                    <a:pt x="8656" y="19606"/>
                    <a:pt x="9513" y="19035"/>
                  </a:cubicBezTo>
                  <a:cubicBezTo>
                    <a:pt x="9981" y="18635"/>
                    <a:pt x="10839" y="18406"/>
                    <a:pt x="11307" y="18749"/>
                  </a:cubicBezTo>
                  <a:cubicBezTo>
                    <a:pt x="11775" y="18406"/>
                    <a:pt x="12243" y="18063"/>
                    <a:pt x="12788" y="17835"/>
                  </a:cubicBezTo>
                  <a:cubicBezTo>
                    <a:pt x="12944" y="17720"/>
                    <a:pt x="13256" y="17549"/>
                    <a:pt x="13412" y="17549"/>
                  </a:cubicBezTo>
                  <a:cubicBezTo>
                    <a:pt x="13568" y="17549"/>
                    <a:pt x="13724" y="17720"/>
                    <a:pt x="13880" y="17835"/>
                  </a:cubicBezTo>
                  <a:cubicBezTo>
                    <a:pt x="14270" y="17949"/>
                    <a:pt x="14582" y="17835"/>
                    <a:pt x="14738" y="17720"/>
                  </a:cubicBezTo>
                  <a:cubicBezTo>
                    <a:pt x="15518" y="17435"/>
                    <a:pt x="16531" y="17320"/>
                    <a:pt x="17311" y="17320"/>
                  </a:cubicBezTo>
                  <a:cubicBezTo>
                    <a:pt x="17701" y="17320"/>
                    <a:pt x="18013" y="17320"/>
                    <a:pt x="18325" y="17206"/>
                  </a:cubicBezTo>
                  <a:cubicBezTo>
                    <a:pt x="18637" y="17092"/>
                    <a:pt x="18793" y="16749"/>
                    <a:pt x="18793" y="16520"/>
                  </a:cubicBezTo>
                  <a:cubicBezTo>
                    <a:pt x="18949" y="16235"/>
                    <a:pt x="19339" y="15892"/>
                    <a:pt x="19806" y="16006"/>
                  </a:cubicBezTo>
                  <a:cubicBezTo>
                    <a:pt x="19495" y="15549"/>
                    <a:pt x="18325" y="15435"/>
                    <a:pt x="18325" y="14920"/>
                  </a:cubicBezTo>
                  <a:cubicBezTo>
                    <a:pt x="18325" y="14349"/>
                    <a:pt x="19417" y="13835"/>
                    <a:pt x="18949" y="13492"/>
                  </a:cubicBezTo>
                  <a:cubicBezTo>
                    <a:pt x="18715" y="13378"/>
                    <a:pt x="18637" y="13378"/>
                    <a:pt x="18481" y="13263"/>
                  </a:cubicBezTo>
                  <a:cubicBezTo>
                    <a:pt x="18013" y="13035"/>
                    <a:pt x="18169" y="12520"/>
                    <a:pt x="18325" y="12063"/>
                  </a:cubicBezTo>
                  <a:cubicBezTo>
                    <a:pt x="18481" y="11720"/>
                    <a:pt x="18793" y="11206"/>
                    <a:pt x="18481" y="10863"/>
                  </a:cubicBezTo>
                  <a:cubicBezTo>
                    <a:pt x="18325" y="10635"/>
                    <a:pt x="18169" y="10520"/>
                    <a:pt x="18013" y="10406"/>
                  </a:cubicBezTo>
                  <a:cubicBezTo>
                    <a:pt x="17701" y="9892"/>
                    <a:pt x="18325" y="9320"/>
                    <a:pt x="18637" y="8806"/>
                  </a:cubicBezTo>
                  <a:cubicBezTo>
                    <a:pt x="18949" y="8349"/>
                    <a:pt x="18793" y="7606"/>
                    <a:pt x="19495" y="7263"/>
                  </a:cubicBezTo>
                  <a:cubicBezTo>
                    <a:pt x="19962" y="7035"/>
                    <a:pt x="20586" y="7149"/>
                    <a:pt x="20976" y="6920"/>
                  </a:cubicBezTo>
                  <a:cubicBezTo>
                    <a:pt x="21600" y="6520"/>
                    <a:pt x="21132" y="5949"/>
                    <a:pt x="20976" y="5320"/>
                  </a:cubicBezTo>
                  <a:cubicBezTo>
                    <a:pt x="20820" y="4635"/>
                    <a:pt x="21132" y="3778"/>
                    <a:pt x="21444" y="2978"/>
                  </a:cubicBezTo>
                  <a:cubicBezTo>
                    <a:pt x="21444" y="2806"/>
                    <a:pt x="21444" y="2692"/>
                    <a:pt x="21444" y="2578"/>
                  </a:cubicBezTo>
                  <a:cubicBezTo>
                    <a:pt x="21444" y="2463"/>
                    <a:pt x="21288" y="2349"/>
                    <a:pt x="21132" y="2349"/>
                  </a:cubicBezTo>
                  <a:cubicBezTo>
                    <a:pt x="20430" y="2006"/>
                    <a:pt x="19806" y="1606"/>
                    <a:pt x="19183" y="1263"/>
                  </a:cubicBezTo>
                  <a:cubicBezTo>
                    <a:pt x="18793" y="1035"/>
                    <a:pt x="18481" y="692"/>
                    <a:pt x="18481" y="406"/>
                  </a:cubicBezTo>
                  <a:cubicBezTo>
                    <a:pt x="17857" y="-51"/>
                    <a:pt x="16687" y="-51"/>
                    <a:pt x="15908" y="63"/>
                  </a:cubicBezTo>
                  <a:cubicBezTo>
                    <a:pt x="14894" y="178"/>
                    <a:pt x="13724" y="178"/>
                    <a:pt x="12788" y="292"/>
                  </a:cubicBezTo>
                  <a:cubicBezTo>
                    <a:pt x="11619" y="406"/>
                    <a:pt x="10839" y="578"/>
                    <a:pt x="9981" y="806"/>
                  </a:cubicBezTo>
                  <a:cubicBezTo>
                    <a:pt x="9513" y="920"/>
                    <a:pt x="8656" y="806"/>
                    <a:pt x="8344" y="1035"/>
                  </a:cubicBezTo>
                  <a:cubicBezTo>
                    <a:pt x="7720" y="1149"/>
                    <a:pt x="8344" y="2235"/>
                    <a:pt x="8500" y="2692"/>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1" name="Shape 3695"/>
            <p:cNvSpPr/>
            <p:nvPr/>
          </p:nvSpPr>
          <p:spPr>
            <a:xfrm>
              <a:off x="17818560" y="4466880"/>
              <a:ext cx="79200" cy="57960"/>
            </a:xfrm>
            <a:custGeom>
              <a:avLst/>
              <a:gdLst>
                <a:gd name="textAreaLeft" fmla="*/ 0 w 79200"/>
                <a:gd name="textAreaRight" fmla="*/ 79560 w 79200"/>
                <a:gd name="textAreaTop" fmla="*/ 0 h 57960"/>
                <a:gd name="textAreaBottom" fmla="*/ 58320 h 57960"/>
              </a:gdLst>
              <a:ahLst/>
              <a:rect l="textAreaLeft" t="textAreaTop" r="textAreaRight" b="textAreaBottom"/>
              <a:pathLst>
                <a:path w="21430" h="20629">
                  <a:moveTo>
                    <a:pt x="6719" y="9257"/>
                  </a:moveTo>
                  <a:cubicBezTo>
                    <a:pt x="8704" y="10509"/>
                    <a:pt x="10338" y="11918"/>
                    <a:pt x="12323" y="13483"/>
                  </a:cubicBezTo>
                  <a:cubicBezTo>
                    <a:pt x="12790" y="13796"/>
                    <a:pt x="13607" y="14579"/>
                    <a:pt x="14074" y="15205"/>
                  </a:cubicBezTo>
                  <a:cubicBezTo>
                    <a:pt x="14541" y="15987"/>
                    <a:pt x="14775" y="16457"/>
                    <a:pt x="15008" y="16770"/>
                  </a:cubicBezTo>
                  <a:cubicBezTo>
                    <a:pt x="15475" y="17396"/>
                    <a:pt x="16059" y="17709"/>
                    <a:pt x="16526" y="18179"/>
                  </a:cubicBezTo>
                  <a:cubicBezTo>
                    <a:pt x="17227" y="18805"/>
                    <a:pt x="17694" y="19118"/>
                    <a:pt x="18511" y="19744"/>
                  </a:cubicBezTo>
                  <a:cubicBezTo>
                    <a:pt x="19445" y="20370"/>
                    <a:pt x="20613" y="20996"/>
                    <a:pt x="21430" y="20370"/>
                  </a:cubicBezTo>
                  <a:cubicBezTo>
                    <a:pt x="20613" y="20057"/>
                    <a:pt x="20146" y="19118"/>
                    <a:pt x="20146" y="18179"/>
                  </a:cubicBezTo>
                  <a:cubicBezTo>
                    <a:pt x="20146" y="17083"/>
                    <a:pt x="20379" y="15831"/>
                    <a:pt x="19912" y="14892"/>
                  </a:cubicBezTo>
                  <a:cubicBezTo>
                    <a:pt x="19679" y="14109"/>
                    <a:pt x="19212" y="13796"/>
                    <a:pt x="19445" y="13170"/>
                  </a:cubicBezTo>
                  <a:cubicBezTo>
                    <a:pt x="19679" y="12857"/>
                    <a:pt x="19912" y="12857"/>
                    <a:pt x="19912" y="12544"/>
                  </a:cubicBezTo>
                  <a:cubicBezTo>
                    <a:pt x="20146" y="12231"/>
                    <a:pt x="20146" y="11605"/>
                    <a:pt x="19912" y="11135"/>
                  </a:cubicBezTo>
                  <a:cubicBezTo>
                    <a:pt x="19679" y="10822"/>
                    <a:pt x="19445" y="10509"/>
                    <a:pt x="19212" y="9883"/>
                  </a:cubicBezTo>
                  <a:cubicBezTo>
                    <a:pt x="18161" y="7535"/>
                    <a:pt x="20963" y="5031"/>
                    <a:pt x="19912" y="2683"/>
                  </a:cubicBezTo>
                  <a:cubicBezTo>
                    <a:pt x="19912" y="2370"/>
                    <a:pt x="19679" y="2370"/>
                    <a:pt x="19679" y="2057"/>
                  </a:cubicBezTo>
                  <a:cubicBezTo>
                    <a:pt x="19212" y="961"/>
                    <a:pt x="17927" y="22"/>
                    <a:pt x="17227" y="648"/>
                  </a:cubicBezTo>
                  <a:cubicBezTo>
                    <a:pt x="16526" y="961"/>
                    <a:pt x="16409" y="2370"/>
                    <a:pt x="16059" y="2996"/>
                  </a:cubicBezTo>
                  <a:cubicBezTo>
                    <a:pt x="15826" y="3622"/>
                    <a:pt x="15242" y="4718"/>
                    <a:pt x="14775" y="5031"/>
                  </a:cubicBezTo>
                  <a:cubicBezTo>
                    <a:pt x="14541" y="5344"/>
                    <a:pt x="14541" y="5344"/>
                    <a:pt x="14308" y="5344"/>
                  </a:cubicBezTo>
                  <a:cubicBezTo>
                    <a:pt x="14074" y="5344"/>
                    <a:pt x="13841" y="5031"/>
                    <a:pt x="13607" y="4718"/>
                  </a:cubicBezTo>
                  <a:cubicBezTo>
                    <a:pt x="12790" y="3935"/>
                    <a:pt x="11856" y="3935"/>
                    <a:pt x="11389" y="4718"/>
                  </a:cubicBezTo>
                  <a:cubicBezTo>
                    <a:pt x="10572" y="2996"/>
                    <a:pt x="8704" y="4718"/>
                    <a:pt x="7419" y="3309"/>
                  </a:cubicBezTo>
                  <a:cubicBezTo>
                    <a:pt x="7186" y="2996"/>
                    <a:pt x="6952" y="2370"/>
                    <a:pt x="6485" y="2370"/>
                  </a:cubicBezTo>
                  <a:cubicBezTo>
                    <a:pt x="6252" y="2370"/>
                    <a:pt x="5668" y="2683"/>
                    <a:pt x="5434" y="2683"/>
                  </a:cubicBezTo>
                  <a:cubicBezTo>
                    <a:pt x="4734" y="2683"/>
                    <a:pt x="4267" y="2057"/>
                    <a:pt x="3800" y="1431"/>
                  </a:cubicBezTo>
                  <a:cubicBezTo>
                    <a:pt x="2982" y="648"/>
                    <a:pt x="1348" y="-604"/>
                    <a:pt x="531" y="335"/>
                  </a:cubicBezTo>
                  <a:cubicBezTo>
                    <a:pt x="297" y="648"/>
                    <a:pt x="-170" y="3309"/>
                    <a:pt x="64" y="3935"/>
                  </a:cubicBezTo>
                  <a:cubicBezTo>
                    <a:pt x="297" y="5344"/>
                    <a:pt x="1815" y="5657"/>
                    <a:pt x="2515" y="5970"/>
                  </a:cubicBezTo>
                  <a:cubicBezTo>
                    <a:pt x="4267" y="7535"/>
                    <a:pt x="5434" y="8318"/>
                    <a:pt x="6719" y="9257"/>
                  </a:cubicBezTo>
                </a:path>
              </a:pathLst>
            </a:custGeom>
            <a:solidFill>
              <a:srgbClr val="c0c0c0"/>
            </a:solidFill>
            <a:ln w="12700">
              <a:noFill/>
            </a:ln>
          </p:spPr>
          <p:style>
            <a:lnRef idx="0"/>
            <a:fillRef idx="0"/>
            <a:effectRef idx="0"/>
            <a:fontRef idx="minor"/>
          </p:style>
          <p:txBody>
            <a:bodyPr numCol="1" spcCol="0" lIns="45720" rIns="45720" tIns="29160" bIns="291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2" name="Shape 3696"/>
            <p:cNvSpPr/>
            <p:nvPr/>
          </p:nvSpPr>
          <p:spPr>
            <a:xfrm>
              <a:off x="18101520" y="4552200"/>
              <a:ext cx="76680" cy="24840"/>
            </a:xfrm>
            <a:custGeom>
              <a:avLst/>
              <a:gdLst>
                <a:gd name="textAreaLeft" fmla="*/ 0 w 76680"/>
                <a:gd name="textAreaRight" fmla="*/ 77040 w 76680"/>
                <a:gd name="textAreaTop" fmla="*/ 0 h 24840"/>
                <a:gd name="textAreaBottom" fmla="*/ 25200 h 24840"/>
              </a:gdLst>
              <a:ahLst/>
              <a:rect l="textAreaLeft" t="textAreaTop" r="textAreaRight" b="textAreaBottom"/>
              <a:pathLst>
                <a:path w="21213" h="19201">
                  <a:moveTo>
                    <a:pt x="58" y="4371"/>
                  </a:moveTo>
                  <a:cubicBezTo>
                    <a:pt x="1023" y="3727"/>
                    <a:pt x="1989" y="5661"/>
                    <a:pt x="1989" y="8240"/>
                  </a:cubicBezTo>
                  <a:cubicBezTo>
                    <a:pt x="1989" y="9852"/>
                    <a:pt x="1989" y="10497"/>
                    <a:pt x="2230" y="11142"/>
                  </a:cubicBezTo>
                  <a:cubicBezTo>
                    <a:pt x="2592" y="11786"/>
                    <a:pt x="3075" y="11786"/>
                    <a:pt x="3557" y="11786"/>
                  </a:cubicBezTo>
                  <a:cubicBezTo>
                    <a:pt x="4281" y="12431"/>
                    <a:pt x="4523" y="14365"/>
                    <a:pt x="5126" y="15977"/>
                  </a:cubicBezTo>
                  <a:cubicBezTo>
                    <a:pt x="6092" y="18556"/>
                    <a:pt x="7902" y="19201"/>
                    <a:pt x="9108" y="17267"/>
                  </a:cubicBezTo>
                  <a:cubicBezTo>
                    <a:pt x="9350" y="16622"/>
                    <a:pt x="9591" y="16622"/>
                    <a:pt x="9832" y="16622"/>
                  </a:cubicBezTo>
                  <a:cubicBezTo>
                    <a:pt x="10074" y="16622"/>
                    <a:pt x="10436" y="17912"/>
                    <a:pt x="10677" y="18556"/>
                  </a:cubicBezTo>
                  <a:cubicBezTo>
                    <a:pt x="11401" y="19846"/>
                    <a:pt x="12970" y="17267"/>
                    <a:pt x="13452" y="19201"/>
                  </a:cubicBezTo>
                  <a:cubicBezTo>
                    <a:pt x="14176" y="17267"/>
                    <a:pt x="15745" y="16945"/>
                    <a:pt x="16952" y="15977"/>
                  </a:cubicBezTo>
                  <a:cubicBezTo>
                    <a:pt x="18279" y="15333"/>
                    <a:pt x="19486" y="13721"/>
                    <a:pt x="19969" y="11142"/>
                  </a:cubicBezTo>
                  <a:cubicBezTo>
                    <a:pt x="19727" y="10497"/>
                    <a:pt x="19727" y="10174"/>
                    <a:pt x="19969" y="9207"/>
                  </a:cubicBezTo>
                  <a:cubicBezTo>
                    <a:pt x="20210" y="8562"/>
                    <a:pt x="20451" y="8240"/>
                    <a:pt x="20813" y="7595"/>
                  </a:cubicBezTo>
                  <a:cubicBezTo>
                    <a:pt x="21296" y="6306"/>
                    <a:pt x="21296" y="4694"/>
                    <a:pt x="21055" y="3082"/>
                  </a:cubicBezTo>
                  <a:cubicBezTo>
                    <a:pt x="20813" y="1792"/>
                    <a:pt x="19969" y="825"/>
                    <a:pt x="19245" y="1470"/>
                  </a:cubicBezTo>
                  <a:cubicBezTo>
                    <a:pt x="19003" y="2437"/>
                    <a:pt x="18762" y="2437"/>
                    <a:pt x="18521" y="3082"/>
                  </a:cubicBezTo>
                  <a:cubicBezTo>
                    <a:pt x="16469" y="6306"/>
                    <a:pt x="13694" y="-1754"/>
                    <a:pt x="11642" y="1470"/>
                  </a:cubicBezTo>
                  <a:cubicBezTo>
                    <a:pt x="11401" y="2437"/>
                    <a:pt x="10918" y="3082"/>
                    <a:pt x="10677" y="3727"/>
                  </a:cubicBezTo>
                  <a:cubicBezTo>
                    <a:pt x="10074" y="3727"/>
                    <a:pt x="9832" y="3727"/>
                    <a:pt x="9350" y="3727"/>
                  </a:cubicBezTo>
                  <a:cubicBezTo>
                    <a:pt x="7540" y="2437"/>
                    <a:pt x="5609" y="1470"/>
                    <a:pt x="3557" y="825"/>
                  </a:cubicBezTo>
                  <a:cubicBezTo>
                    <a:pt x="3075" y="825"/>
                    <a:pt x="1023" y="-464"/>
                    <a:pt x="782" y="180"/>
                  </a:cubicBezTo>
                  <a:cubicBezTo>
                    <a:pt x="-304" y="-464"/>
                    <a:pt x="58" y="4371"/>
                    <a:pt x="58" y="4371"/>
                  </a:cubicBezTo>
                </a:path>
              </a:pathLst>
            </a:custGeom>
            <a:solidFill>
              <a:srgbClr val="c0c0c0"/>
            </a:solidFill>
            <a:ln w="12700">
              <a:noFill/>
            </a:ln>
          </p:spPr>
          <p:style>
            <a:lnRef idx="0"/>
            <a:fillRef idx="0"/>
            <a:effectRef idx="0"/>
            <a:fontRef idx="minor"/>
          </p:style>
          <p:txBody>
            <a:bodyPr numCol="1" spcCol="0" lIns="45720" rIns="45720" tIns="12600" bIns="12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3" name="Shape 3697"/>
            <p:cNvSpPr/>
            <p:nvPr/>
          </p:nvSpPr>
          <p:spPr>
            <a:xfrm>
              <a:off x="17472600" y="3567960"/>
              <a:ext cx="28080" cy="60480"/>
            </a:xfrm>
            <a:custGeom>
              <a:avLst/>
              <a:gdLst>
                <a:gd name="textAreaLeft" fmla="*/ 0 w 28080"/>
                <a:gd name="textAreaRight" fmla="*/ 28440 w 28080"/>
                <a:gd name="textAreaTop" fmla="*/ 0 h 60480"/>
                <a:gd name="textAreaBottom" fmla="*/ 60840 h 60480"/>
              </a:gdLst>
              <a:ahLst/>
              <a:rect l="textAreaLeft" t="textAreaTop" r="textAreaRight" b="textAreaBottom"/>
              <a:pathLst>
                <a:path w="19093" h="20871">
                  <a:moveTo>
                    <a:pt x="1728" y="9321"/>
                  </a:moveTo>
                  <a:cubicBezTo>
                    <a:pt x="1152" y="9021"/>
                    <a:pt x="0" y="9621"/>
                    <a:pt x="576" y="10221"/>
                  </a:cubicBezTo>
                  <a:cubicBezTo>
                    <a:pt x="1152" y="10821"/>
                    <a:pt x="1728" y="11121"/>
                    <a:pt x="1728" y="11421"/>
                  </a:cubicBezTo>
                  <a:cubicBezTo>
                    <a:pt x="1728" y="12471"/>
                    <a:pt x="0" y="12921"/>
                    <a:pt x="0" y="13971"/>
                  </a:cubicBezTo>
                  <a:cubicBezTo>
                    <a:pt x="0" y="14871"/>
                    <a:pt x="1152" y="15621"/>
                    <a:pt x="3168" y="15921"/>
                  </a:cubicBezTo>
                  <a:cubicBezTo>
                    <a:pt x="4320" y="16221"/>
                    <a:pt x="6048" y="16521"/>
                    <a:pt x="7200" y="17121"/>
                  </a:cubicBezTo>
                  <a:cubicBezTo>
                    <a:pt x="8640" y="18471"/>
                    <a:pt x="7200" y="19971"/>
                    <a:pt x="8640" y="20871"/>
                  </a:cubicBezTo>
                  <a:cubicBezTo>
                    <a:pt x="10368" y="19371"/>
                    <a:pt x="10944" y="17421"/>
                    <a:pt x="9792" y="15921"/>
                  </a:cubicBezTo>
                  <a:cubicBezTo>
                    <a:pt x="9792" y="15621"/>
                    <a:pt x="9216" y="15021"/>
                    <a:pt x="9792" y="14571"/>
                  </a:cubicBezTo>
                  <a:cubicBezTo>
                    <a:pt x="10368" y="14271"/>
                    <a:pt x="10944" y="13971"/>
                    <a:pt x="12096" y="13671"/>
                  </a:cubicBezTo>
                  <a:cubicBezTo>
                    <a:pt x="15264" y="12471"/>
                    <a:pt x="12096" y="9321"/>
                    <a:pt x="15264" y="8271"/>
                  </a:cubicBezTo>
                  <a:cubicBezTo>
                    <a:pt x="12672" y="7071"/>
                    <a:pt x="12672" y="4521"/>
                    <a:pt x="15840" y="3621"/>
                  </a:cubicBezTo>
                  <a:cubicBezTo>
                    <a:pt x="16992" y="3321"/>
                    <a:pt x="18144" y="3021"/>
                    <a:pt x="18720" y="2721"/>
                  </a:cubicBezTo>
                  <a:cubicBezTo>
                    <a:pt x="19872" y="1671"/>
                    <a:pt x="18144" y="471"/>
                    <a:pt x="16416" y="171"/>
                  </a:cubicBezTo>
                  <a:cubicBezTo>
                    <a:pt x="9216" y="-729"/>
                    <a:pt x="9216" y="2121"/>
                    <a:pt x="6624" y="3921"/>
                  </a:cubicBezTo>
                  <a:cubicBezTo>
                    <a:pt x="4896" y="5121"/>
                    <a:pt x="-1728" y="7371"/>
                    <a:pt x="1728" y="9321"/>
                  </a:cubicBezTo>
                </a:path>
              </a:pathLst>
            </a:custGeom>
            <a:solidFill>
              <a:srgbClr val="c0c0c0"/>
            </a:solidFill>
            <a:ln w="12700">
              <a:noFill/>
            </a:ln>
          </p:spPr>
          <p:style>
            <a:lnRef idx="0"/>
            <a:fillRef idx="0"/>
            <a:effectRef idx="0"/>
            <a:fontRef idx="minor"/>
          </p:style>
          <p:txBody>
            <a:bodyPr numCol="1" spcCol="0" lIns="45720" rIns="45720" tIns="30240" bIns="302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4" name="Shape 3698"/>
            <p:cNvSpPr/>
            <p:nvPr/>
          </p:nvSpPr>
          <p:spPr>
            <a:xfrm>
              <a:off x="17322480" y="3484800"/>
              <a:ext cx="37800" cy="39240"/>
            </a:xfrm>
            <a:custGeom>
              <a:avLst/>
              <a:gdLst>
                <a:gd name="textAreaLeft" fmla="*/ 0 w 37800"/>
                <a:gd name="textAreaRight" fmla="*/ 38160 w 37800"/>
                <a:gd name="textAreaTop" fmla="*/ 0 h 39240"/>
                <a:gd name="textAreaBottom" fmla="*/ 39600 h 39240"/>
              </a:gdLst>
              <a:ahLst/>
              <a:rect l="textAreaLeft" t="textAreaTop" r="textAreaRight" b="textAreaBottom"/>
              <a:pathLst>
                <a:path w="18001" h="21325">
                  <a:moveTo>
                    <a:pt x="7694" y="16670"/>
                  </a:moveTo>
                  <a:cubicBezTo>
                    <a:pt x="7694" y="18313"/>
                    <a:pt x="7694" y="19722"/>
                    <a:pt x="7694" y="21130"/>
                  </a:cubicBezTo>
                  <a:cubicBezTo>
                    <a:pt x="8905" y="21600"/>
                    <a:pt x="10116" y="21130"/>
                    <a:pt x="11530" y="20661"/>
                  </a:cubicBezTo>
                  <a:cubicBezTo>
                    <a:pt x="11126" y="20191"/>
                    <a:pt x="10722" y="18783"/>
                    <a:pt x="11530" y="18313"/>
                  </a:cubicBezTo>
                  <a:cubicBezTo>
                    <a:pt x="12337" y="17843"/>
                    <a:pt x="13145" y="17374"/>
                    <a:pt x="13548" y="17843"/>
                  </a:cubicBezTo>
                  <a:cubicBezTo>
                    <a:pt x="13952" y="18313"/>
                    <a:pt x="14356" y="18783"/>
                    <a:pt x="14961" y="19252"/>
                  </a:cubicBezTo>
                  <a:cubicBezTo>
                    <a:pt x="15365" y="19722"/>
                    <a:pt x="16173" y="19252"/>
                    <a:pt x="16576" y="18783"/>
                  </a:cubicBezTo>
                  <a:cubicBezTo>
                    <a:pt x="16980" y="18313"/>
                    <a:pt x="16980" y="17374"/>
                    <a:pt x="16980" y="16200"/>
                  </a:cubicBezTo>
                  <a:cubicBezTo>
                    <a:pt x="16980" y="15730"/>
                    <a:pt x="16980" y="15261"/>
                    <a:pt x="16980" y="15261"/>
                  </a:cubicBezTo>
                  <a:cubicBezTo>
                    <a:pt x="16980" y="14791"/>
                    <a:pt x="16576" y="14791"/>
                    <a:pt x="16173" y="14791"/>
                  </a:cubicBezTo>
                  <a:cubicBezTo>
                    <a:pt x="15365" y="13852"/>
                    <a:pt x="16173" y="12209"/>
                    <a:pt x="16980" y="11270"/>
                  </a:cubicBezTo>
                  <a:cubicBezTo>
                    <a:pt x="17788" y="10096"/>
                    <a:pt x="18595" y="8452"/>
                    <a:pt x="17384" y="7983"/>
                  </a:cubicBezTo>
                  <a:cubicBezTo>
                    <a:pt x="16980" y="7983"/>
                    <a:pt x="16980" y="7983"/>
                    <a:pt x="16576" y="7513"/>
                  </a:cubicBezTo>
                  <a:cubicBezTo>
                    <a:pt x="15769" y="6809"/>
                    <a:pt x="15365" y="5400"/>
                    <a:pt x="14961" y="4461"/>
                  </a:cubicBezTo>
                  <a:cubicBezTo>
                    <a:pt x="13952" y="2583"/>
                    <a:pt x="12337" y="470"/>
                    <a:pt x="10116" y="0"/>
                  </a:cubicBezTo>
                  <a:cubicBezTo>
                    <a:pt x="9713" y="0"/>
                    <a:pt x="9309" y="0"/>
                    <a:pt x="8905" y="0"/>
                  </a:cubicBezTo>
                  <a:cubicBezTo>
                    <a:pt x="8098" y="470"/>
                    <a:pt x="8502" y="2113"/>
                    <a:pt x="8098" y="3522"/>
                  </a:cubicBezTo>
                  <a:cubicBezTo>
                    <a:pt x="7290" y="6809"/>
                    <a:pt x="2244" y="8452"/>
                    <a:pt x="831" y="11739"/>
                  </a:cubicBezTo>
                  <a:cubicBezTo>
                    <a:pt x="-3005" y="19722"/>
                    <a:pt x="7694" y="15730"/>
                    <a:pt x="7694" y="16670"/>
                  </a:cubicBezTo>
                </a:path>
              </a:pathLst>
            </a:custGeom>
            <a:solidFill>
              <a:srgbClr val="c0c0c0"/>
            </a:solidFill>
            <a:ln w="12700">
              <a:noFill/>
            </a:ln>
          </p:spPr>
          <p:style>
            <a:lnRef idx="0"/>
            <a:fillRef idx="0"/>
            <a:effectRef idx="0"/>
            <a:fontRef idx="minor"/>
          </p:style>
          <p:txBody>
            <a:bodyPr numCol="1" spcCol="0" lIns="45720" rIns="45720" tIns="19800" bIns="198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5" name="Shape 3699"/>
            <p:cNvSpPr/>
            <p:nvPr/>
          </p:nvSpPr>
          <p:spPr>
            <a:xfrm>
              <a:off x="16899120" y="3257640"/>
              <a:ext cx="277200" cy="179640"/>
            </a:xfrm>
            <a:custGeom>
              <a:avLst/>
              <a:gdLst>
                <a:gd name="textAreaLeft" fmla="*/ 0 w 277200"/>
                <a:gd name="textAreaRight" fmla="*/ 277560 w 277200"/>
                <a:gd name="textAreaTop" fmla="*/ 0 h 179640"/>
                <a:gd name="textAreaBottom" fmla="*/ 180000 h 179640"/>
              </a:gdLst>
              <a:ahLst/>
              <a:rect l="textAreaLeft" t="textAreaTop" r="textAreaRight" b="textAreaBottom"/>
              <a:pathLst>
                <a:path w="21543" h="21105">
                  <a:moveTo>
                    <a:pt x="8952" y="3515"/>
                  </a:moveTo>
                  <a:cubicBezTo>
                    <a:pt x="9155" y="3617"/>
                    <a:pt x="9528" y="3617"/>
                    <a:pt x="9664" y="3311"/>
                  </a:cubicBezTo>
                  <a:cubicBezTo>
                    <a:pt x="9868" y="4024"/>
                    <a:pt x="10444" y="4585"/>
                    <a:pt x="11020" y="4483"/>
                  </a:cubicBezTo>
                  <a:cubicBezTo>
                    <a:pt x="11156" y="4024"/>
                    <a:pt x="11224" y="3515"/>
                    <a:pt x="11156" y="2955"/>
                  </a:cubicBezTo>
                  <a:cubicBezTo>
                    <a:pt x="11529" y="3056"/>
                    <a:pt x="11936" y="2751"/>
                    <a:pt x="12072" y="2241"/>
                  </a:cubicBezTo>
                  <a:lnTo>
                    <a:pt x="12309" y="2853"/>
                  </a:lnTo>
                  <a:cubicBezTo>
                    <a:pt x="12377" y="2649"/>
                    <a:pt x="12512" y="2445"/>
                    <a:pt x="12580" y="2241"/>
                  </a:cubicBezTo>
                  <a:cubicBezTo>
                    <a:pt x="12716" y="2445"/>
                    <a:pt x="12851" y="2649"/>
                    <a:pt x="13089" y="2649"/>
                  </a:cubicBezTo>
                  <a:cubicBezTo>
                    <a:pt x="13292" y="2649"/>
                    <a:pt x="13801" y="2751"/>
                    <a:pt x="13801" y="2445"/>
                  </a:cubicBezTo>
                  <a:cubicBezTo>
                    <a:pt x="14208" y="2955"/>
                    <a:pt x="15056" y="3209"/>
                    <a:pt x="15429" y="2547"/>
                  </a:cubicBezTo>
                  <a:cubicBezTo>
                    <a:pt x="15293" y="2751"/>
                    <a:pt x="15293" y="2241"/>
                    <a:pt x="15361" y="1885"/>
                  </a:cubicBezTo>
                  <a:cubicBezTo>
                    <a:pt x="15429" y="1579"/>
                    <a:pt x="14988" y="1579"/>
                    <a:pt x="15225" y="1477"/>
                  </a:cubicBezTo>
                  <a:cubicBezTo>
                    <a:pt x="15429" y="1375"/>
                    <a:pt x="15700" y="1477"/>
                    <a:pt x="15768" y="1273"/>
                  </a:cubicBezTo>
                  <a:cubicBezTo>
                    <a:pt x="15632" y="917"/>
                    <a:pt x="16073" y="509"/>
                    <a:pt x="15768" y="305"/>
                  </a:cubicBezTo>
                  <a:cubicBezTo>
                    <a:pt x="16141" y="-153"/>
                    <a:pt x="16480" y="204"/>
                    <a:pt x="17124" y="0"/>
                  </a:cubicBezTo>
                  <a:cubicBezTo>
                    <a:pt x="17192" y="815"/>
                    <a:pt x="18141" y="1273"/>
                    <a:pt x="18480" y="509"/>
                  </a:cubicBezTo>
                  <a:cubicBezTo>
                    <a:pt x="18616" y="1070"/>
                    <a:pt x="18548" y="1681"/>
                    <a:pt x="18277" y="1987"/>
                  </a:cubicBezTo>
                  <a:cubicBezTo>
                    <a:pt x="18209" y="2139"/>
                    <a:pt x="18141" y="2241"/>
                    <a:pt x="18141" y="2343"/>
                  </a:cubicBezTo>
                  <a:cubicBezTo>
                    <a:pt x="18141" y="2547"/>
                    <a:pt x="18345" y="2649"/>
                    <a:pt x="18480" y="2751"/>
                  </a:cubicBezTo>
                  <a:cubicBezTo>
                    <a:pt x="18853" y="2955"/>
                    <a:pt x="19057" y="3719"/>
                    <a:pt x="18921" y="4228"/>
                  </a:cubicBezTo>
                  <a:cubicBezTo>
                    <a:pt x="19125" y="4483"/>
                    <a:pt x="19396" y="4687"/>
                    <a:pt x="19565" y="4992"/>
                  </a:cubicBezTo>
                  <a:cubicBezTo>
                    <a:pt x="19701" y="5298"/>
                    <a:pt x="19769" y="5858"/>
                    <a:pt x="19565" y="6164"/>
                  </a:cubicBezTo>
                  <a:cubicBezTo>
                    <a:pt x="19905" y="6724"/>
                    <a:pt x="20481" y="6928"/>
                    <a:pt x="20990" y="6724"/>
                  </a:cubicBezTo>
                  <a:cubicBezTo>
                    <a:pt x="21261" y="7030"/>
                    <a:pt x="21397" y="7438"/>
                    <a:pt x="21532" y="7896"/>
                  </a:cubicBezTo>
                  <a:cubicBezTo>
                    <a:pt x="21125" y="7794"/>
                    <a:pt x="20752" y="8609"/>
                    <a:pt x="20990" y="9170"/>
                  </a:cubicBezTo>
                  <a:cubicBezTo>
                    <a:pt x="21329" y="9068"/>
                    <a:pt x="21600" y="9577"/>
                    <a:pt x="21532" y="10036"/>
                  </a:cubicBezTo>
                  <a:cubicBezTo>
                    <a:pt x="21329" y="10341"/>
                    <a:pt x="20922" y="9832"/>
                    <a:pt x="20617" y="10036"/>
                  </a:cubicBezTo>
                  <a:cubicBezTo>
                    <a:pt x="20481" y="10138"/>
                    <a:pt x="20413" y="10239"/>
                    <a:pt x="20345" y="10443"/>
                  </a:cubicBezTo>
                  <a:cubicBezTo>
                    <a:pt x="20210" y="10749"/>
                    <a:pt x="20108" y="11004"/>
                    <a:pt x="19972" y="11309"/>
                  </a:cubicBezTo>
                  <a:lnTo>
                    <a:pt x="19769" y="11972"/>
                  </a:lnTo>
                  <a:cubicBezTo>
                    <a:pt x="19769" y="12175"/>
                    <a:pt x="19905" y="12481"/>
                    <a:pt x="20040" y="12481"/>
                  </a:cubicBezTo>
                  <a:cubicBezTo>
                    <a:pt x="19769" y="12481"/>
                    <a:pt x="19837" y="13041"/>
                    <a:pt x="19837" y="13449"/>
                  </a:cubicBezTo>
                  <a:cubicBezTo>
                    <a:pt x="19905" y="14060"/>
                    <a:pt x="19735" y="14672"/>
                    <a:pt x="19396" y="15130"/>
                  </a:cubicBezTo>
                  <a:cubicBezTo>
                    <a:pt x="19023" y="15538"/>
                    <a:pt x="18548" y="15589"/>
                    <a:pt x="18209" y="15130"/>
                  </a:cubicBezTo>
                  <a:cubicBezTo>
                    <a:pt x="18141" y="15487"/>
                    <a:pt x="18141" y="15894"/>
                    <a:pt x="18073" y="16200"/>
                  </a:cubicBezTo>
                  <a:cubicBezTo>
                    <a:pt x="17768" y="16353"/>
                    <a:pt x="17497" y="15996"/>
                    <a:pt x="17192" y="15894"/>
                  </a:cubicBezTo>
                  <a:cubicBezTo>
                    <a:pt x="16921" y="15690"/>
                    <a:pt x="16581" y="15690"/>
                    <a:pt x="16344" y="15894"/>
                  </a:cubicBezTo>
                  <a:cubicBezTo>
                    <a:pt x="16208" y="16149"/>
                    <a:pt x="16242" y="16556"/>
                    <a:pt x="16344" y="16709"/>
                  </a:cubicBezTo>
                  <a:cubicBezTo>
                    <a:pt x="16141" y="16760"/>
                    <a:pt x="15971" y="16964"/>
                    <a:pt x="15869" y="17168"/>
                  </a:cubicBezTo>
                  <a:cubicBezTo>
                    <a:pt x="15700" y="17626"/>
                    <a:pt x="15869" y="18034"/>
                    <a:pt x="16141" y="18238"/>
                  </a:cubicBezTo>
                  <a:cubicBezTo>
                    <a:pt x="15768" y="18798"/>
                    <a:pt x="15225" y="19002"/>
                    <a:pt x="14716" y="18798"/>
                  </a:cubicBezTo>
                  <a:cubicBezTo>
                    <a:pt x="14445" y="18696"/>
                    <a:pt x="14140" y="18339"/>
                    <a:pt x="13869" y="18339"/>
                  </a:cubicBezTo>
                  <a:cubicBezTo>
                    <a:pt x="13564" y="18339"/>
                    <a:pt x="13292" y="18900"/>
                    <a:pt x="13496" y="19205"/>
                  </a:cubicBezTo>
                  <a:cubicBezTo>
                    <a:pt x="13089" y="19002"/>
                    <a:pt x="12648" y="19664"/>
                    <a:pt x="12716" y="20275"/>
                  </a:cubicBezTo>
                  <a:cubicBezTo>
                    <a:pt x="12004" y="21447"/>
                    <a:pt x="10580" y="21345"/>
                    <a:pt x="9868" y="20173"/>
                  </a:cubicBezTo>
                  <a:cubicBezTo>
                    <a:pt x="9664" y="20581"/>
                    <a:pt x="9223" y="20734"/>
                    <a:pt x="8884" y="20581"/>
                  </a:cubicBezTo>
                  <a:cubicBezTo>
                    <a:pt x="8240" y="20275"/>
                    <a:pt x="7969" y="18900"/>
                    <a:pt x="7324" y="18594"/>
                  </a:cubicBezTo>
                  <a:cubicBezTo>
                    <a:pt x="6951" y="18339"/>
                    <a:pt x="6612" y="18441"/>
                    <a:pt x="6239" y="18441"/>
                  </a:cubicBezTo>
                  <a:cubicBezTo>
                    <a:pt x="5765" y="18441"/>
                    <a:pt x="5188" y="18238"/>
                    <a:pt x="4747" y="17932"/>
                  </a:cubicBezTo>
                  <a:cubicBezTo>
                    <a:pt x="4612" y="17830"/>
                    <a:pt x="4544" y="17728"/>
                    <a:pt x="4476" y="17524"/>
                  </a:cubicBezTo>
                  <a:cubicBezTo>
                    <a:pt x="4408" y="16964"/>
                    <a:pt x="5052" y="16862"/>
                    <a:pt x="5120" y="16353"/>
                  </a:cubicBezTo>
                  <a:cubicBezTo>
                    <a:pt x="5188" y="15792"/>
                    <a:pt x="4612" y="15487"/>
                    <a:pt x="4612" y="14926"/>
                  </a:cubicBezTo>
                  <a:cubicBezTo>
                    <a:pt x="4612" y="14722"/>
                    <a:pt x="4679" y="14417"/>
                    <a:pt x="4612" y="14213"/>
                  </a:cubicBezTo>
                  <a:cubicBezTo>
                    <a:pt x="4476" y="13856"/>
                    <a:pt x="4103" y="13856"/>
                    <a:pt x="3967" y="13653"/>
                  </a:cubicBezTo>
                  <a:cubicBezTo>
                    <a:pt x="3900" y="13449"/>
                    <a:pt x="3900" y="13245"/>
                    <a:pt x="3832" y="13041"/>
                  </a:cubicBezTo>
                  <a:cubicBezTo>
                    <a:pt x="3764" y="12583"/>
                    <a:pt x="3391" y="12277"/>
                    <a:pt x="3120" y="12175"/>
                  </a:cubicBezTo>
                  <a:cubicBezTo>
                    <a:pt x="2781" y="12073"/>
                    <a:pt x="2475" y="12175"/>
                    <a:pt x="2136" y="12277"/>
                  </a:cubicBezTo>
                  <a:cubicBezTo>
                    <a:pt x="1967" y="12277"/>
                    <a:pt x="1763" y="12379"/>
                    <a:pt x="1628" y="12277"/>
                  </a:cubicBezTo>
                  <a:cubicBezTo>
                    <a:pt x="1289" y="11972"/>
                    <a:pt x="1492" y="11105"/>
                    <a:pt x="1424" y="10443"/>
                  </a:cubicBezTo>
                  <a:cubicBezTo>
                    <a:pt x="2068" y="11105"/>
                    <a:pt x="3120" y="9832"/>
                    <a:pt x="3628" y="10749"/>
                  </a:cubicBezTo>
                  <a:cubicBezTo>
                    <a:pt x="3764" y="10545"/>
                    <a:pt x="3900" y="10341"/>
                    <a:pt x="4103" y="10138"/>
                  </a:cubicBezTo>
                  <a:cubicBezTo>
                    <a:pt x="4103" y="9832"/>
                    <a:pt x="4035" y="9475"/>
                    <a:pt x="3900" y="9272"/>
                  </a:cubicBezTo>
                  <a:lnTo>
                    <a:pt x="4815" y="9272"/>
                  </a:lnTo>
                  <a:cubicBezTo>
                    <a:pt x="4917" y="8762"/>
                    <a:pt x="4679" y="8100"/>
                    <a:pt x="4340" y="7794"/>
                  </a:cubicBezTo>
                  <a:cubicBezTo>
                    <a:pt x="3967" y="7438"/>
                    <a:pt x="3493" y="7692"/>
                    <a:pt x="3255" y="8202"/>
                  </a:cubicBezTo>
                  <a:cubicBezTo>
                    <a:pt x="2340" y="7998"/>
                    <a:pt x="1424" y="7998"/>
                    <a:pt x="576" y="8202"/>
                  </a:cubicBezTo>
                  <a:cubicBezTo>
                    <a:pt x="339" y="8202"/>
                    <a:pt x="136" y="7998"/>
                    <a:pt x="0" y="7692"/>
                  </a:cubicBezTo>
                  <a:lnTo>
                    <a:pt x="848" y="6062"/>
                  </a:lnTo>
                  <a:cubicBezTo>
                    <a:pt x="712" y="5858"/>
                    <a:pt x="576" y="6062"/>
                    <a:pt x="407" y="5858"/>
                  </a:cubicBezTo>
                  <a:cubicBezTo>
                    <a:pt x="644" y="5553"/>
                    <a:pt x="1356" y="5858"/>
                    <a:pt x="1356" y="5298"/>
                  </a:cubicBezTo>
                  <a:cubicBezTo>
                    <a:pt x="1356" y="5094"/>
                    <a:pt x="1289" y="4992"/>
                    <a:pt x="1187" y="4789"/>
                  </a:cubicBezTo>
                  <a:cubicBezTo>
                    <a:pt x="1051" y="4126"/>
                    <a:pt x="1187" y="3311"/>
                    <a:pt x="1628" y="3209"/>
                  </a:cubicBezTo>
                  <a:lnTo>
                    <a:pt x="1967" y="3209"/>
                  </a:lnTo>
                  <a:cubicBezTo>
                    <a:pt x="2340" y="2955"/>
                    <a:pt x="2068" y="1987"/>
                    <a:pt x="2340" y="1681"/>
                  </a:cubicBezTo>
                  <a:cubicBezTo>
                    <a:pt x="2781" y="1375"/>
                    <a:pt x="3052" y="917"/>
                    <a:pt x="3255" y="305"/>
                  </a:cubicBezTo>
                  <a:cubicBezTo>
                    <a:pt x="3493" y="407"/>
                    <a:pt x="3696" y="407"/>
                    <a:pt x="3832" y="509"/>
                  </a:cubicBezTo>
                  <a:cubicBezTo>
                    <a:pt x="3696" y="815"/>
                    <a:pt x="4035" y="1273"/>
                    <a:pt x="4273" y="1273"/>
                  </a:cubicBezTo>
                  <a:cubicBezTo>
                    <a:pt x="4476" y="1273"/>
                    <a:pt x="4917" y="1273"/>
                    <a:pt x="4985" y="1681"/>
                  </a:cubicBezTo>
                  <a:lnTo>
                    <a:pt x="4985" y="2139"/>
                  </a:lnTo>
                  <a:cubicBezTo>
                    <a:pt x="5052" y="2547"/>
                    <a:pt x="5392" y="2649"/>
                    <a:pt x="5697" y="2547"/>
                  </a:cubicBezTo>
                  <a:cubicBezTo>
                    <a:pt x="5595" y="2751"/>
                    <a:pt x="5459" y="2955"/>
                    <a:pt x="5392" y="3209"/>
                  </a:cubicBezTo>
                  <a:cubicBezTo>
                    <a:pt x="5832" y="3056"/>
                    <a:pt x="6477" y="3209"/>
                    <a:pt x="6544" y="3821"/>
                  </a:cubicBezTo>
                  <a:cubicBezTo>
                    <a:pt x="6544" y="4126"/>
                    <a:pt x="6477" y="4381"/>
                    <a:pt x="6477" y="4687"/>
                  </a:cubicBezTo>
                  <a:cubicBezTo>
                    <a:pt x="6477" y="4992"/>
                    <a:pt x="6544" y="5298"/>
                    <a:pt x="6748" y="5298"/>
                  </a:cubicBezTo>
                  <a:cubicBezTo>
                    <a:pt x="6544" y="5655"/>
                    <a:pt x="6307" y="5960"/>
                    <a:pt x="6171" y="6266"/>
                  </a:cubicBezTo>
                  <a:cubicBezTo>
                    <a:pt x="6477" y="6062"/>
                    <a:pt x="6816" y="6368"/>
                    <a:pt x="6951" y="6724"/>
                  </a:cubicBezTo>
                  <a:cubicBezTo>
                    <a:pt x="7189" y="7030"/>
                    <a:pt x="7257" y="7590"/>
                    <a:pt x="7528" y="7896"/>
                  </a:cubicBezTo>
                  <a:cubicBezTo>
                    <a:pt x="7731" y="8202"/>
                    <a:pt x="8172" y="8304"/>
                    <a:pt x="8376" y="7896"/>
                  </a:cubicBezTo>
                  <a:cubicBezTo>
                    <a:pt x="8104" y="7692"/>
                    <a:pt x="7969" y="7234"/>
                    <a:pt x="7969" y="6826"/>
                  </a:cubicBezTo>
                  <a:cubicBezTo>
                    <a:pt x="8613" y="6622"/>
                    <a:pt x="8613" y="6622"/>
                    <a:pt x="8681" y="5858"/>
                  </a:cubicBezTo>
                  <a:cubicBezTo>
                    <a:pt x="8816" y="5756"/>
                    <a:pt x="8816" y="3413"/>
                    <a:pt x="8952" y="3515"/>
                  </a:cubicBezTo>
                  <a:close/>
                  <a:moveTo>
                    <a:pt x="16581" y="16760"/>
                  </a:moveTo>
                  <a:cubicBezTo>
                    <a:pt x="16480" y="16709"/>
                    <a:pt x="16412" y="16709"/>
                    <a:pt x="16344" y="16709"/>
                  </a:cubicBezTo>
                  <a:cubicBezTo>
                    <a:pt x="16412" y="16811"/>
                    <a:pt x="16480" y="16811"/>
                    <a:pt x="16581" y="16760"/>
                  </a:cubicBez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6" name="Shape 3700"/>
            <p:cNvSpPr/>
            <p:nvPr/>
          </p:nvSpPr>
          <p:spPr>
            <a:xfrm>
              <a:off x="17772120" y="2026440"/>
              <a:ext cx="339120" cy="414000"/>
            </a:xfrm>
            <a:custGeom>
              <a:avLst/>
              <a:gdLst>
                <a:gd name="textAreaLeft" fmla="*/ 0 w 339120"/>
                <a:gd name="textAreaRight" fmla="*/ 339480 w 339120"/>
                <a:gd name="textAreaTop" fmla="*/ 0 h 414000"/>
                <a:gd name="textAreaBottom" fmla="*/ 414360 h 414000"/>
              </a:gdLst>
              <a:ahLst/>
              <a:rect l="textAreaLeft" t="textAreaTop" r="textAreaRight" b="textAreaBottom"/>
              <a:pathLst>
                <a:path w="19594" h="21186">
                  <a:moveTo>
                    <a:pt x="735" y="2535"/>
                  </a:moveTo>
                  <a:cubicBezTo>
                    <a:pt x="157" y="2825"/>
                    <a:pt x="182" y="3584"/>
                    <a:pt x="458" y="4143"/>
                  </a:cubicBezTo>
                  <a:cubicBezTo>
                    <a:pt x="710" y="4701"/>
                    <a:pt x="1087" y="5260"/>
                    <a:pt x="835" y="5818"/>
                  </a:cubicBezTo>
                  <a:cubicBezTo>
                    <a:pt x="1338" y="5818"/>
                    <a:pt x="1766" y="5304"/>
                    <a:pt x="1590" y="4880"/>
                  </a:cubicBezTo>
                  <a:cubicBezTo>
                    <a:pt x="1917" y="5550"/>
                    <a:pt x="2168" y="6198"/>
                    <a:pt x="2495" y="6913"/>
                  </a:cubicBezTo>
                  <a:cubicBezTo>
                    <a:pt x="2646" y="7181"/>
                    <a:pt x="2696" y="7605"/>
                    <a:pt x="2445" y="7784"/>
                  </a:cubicBezTo>
                  <a:cubicBezTo>
                    <a:pt x="1967" y="8074"/>
                    <a:pt x="1238" y="7426"/>
                    <a:pt x="886" y="7784"/>
                  </a:cubicBezTo>
                  <a:cubicBezTo>
                    <a:pt x="735" y="7985"/>
                    <a:pt x="861" y="8253"/>
                    <a:pt x="1087" y="8409"/>
                  </a:cubicBezTo>
                  <a:cubicBezTo>
                    <a:pt x="1288" y="8543"/>
                    <a:pt x="1590" y="8588"/>
                    <a:pt x="1816" y="8677"/>
                  </a:cubicBezTo>
                  <a:cubicBezTo>
                    <a:pt x="2696" y="9102"/>
                    <a:pt x="2872" y="10174"/>
                    <a:pt x="2872" y="11112"/>
                  </a:cubicBezTo>
                  <a:cubicBezTo>
                    <a:pt x="3023" y="11157"/>
                    <a:pt x="3224" y="11157"/>
                    <a:pt x="3400" y="11201"/>
                  </a:cubicBezTo>
                  <a:cubicBezTo>
                    <a:pt x="3174" y="11536"/>
                    <a:pt x="3652" y="11916"/>
                    <a:pt x="4079" y="11871"/>
                  </a:cubicBezTo>
                  <a:cubicBezTo>
                    <a:pt x="4507" y="11782"/>
                    <a:pt x="4758" y="11447"/>
                    <a:pt x="4984" y="11112"/>
                  </a:cubicBezTo>
                  <a:cubicBezTo>
                    <a:pt x="5236" y="10688"/>
                    <a:pt x="5336" y="10084"/>
                    <a:pt x="4859" y="9861"/>
                  </a:cubicBezTo>
                  <a:cubicBezTo>
                    <a:pt x="5286" y="9705"/>
                    <a:pt x="5663" y="9571"/>
                    <a:pt x="6091" y="9392"/>
                  </a:cubicBezTo>
                  <a:cubicBezTo>
                    <a:pt x="6015" y="9571"/>
                    <a:pt x="6242" y="9816"/>
                    <a:pt x="6443" y="9816"/>
                  </a:cubicBezTo>
                  <a:cubicBezTo>
                    <a:pt x="7147" y="9906"/>
                    <a:pt x="7826" y="9749"/>
                    <a:pt x="8404" y="9392"/>
                  </a:cubicBezTo>
                  <a:cubicBezTo>
                    <a:pt x="8781" y="9816"/>
                    <a:pt x="9033" y="10375"/>
                    <a:pt x="8983" y="10933"/>
                  </a:cubicBezTo>
                  <a:cubicBezTo>
                    <a:pt x="8354" y="10643"/>
                    <a:pt x="7549" y="11023"/>
                    <a:pt x="7348" y="11581"/>
                  </a:cubicBezTo>
                  <a:cubicBezTo>
                    <a:pt x="7298" y="11737"/>
                    <a:pt x="7298" y="11916"/>
                    <a:pt x="7197" y="12005"/>
                  </a:cubicBezTo>
                  <a:cubicBezTo>
                    <a:pt x="6971" y="12206"/>
                    <a:pt x="6669" y="12206"/>
                    <a:pt x="6342" y="12139"/>
                  </a:cubicBezTo>
                  <a:cubicBezTo>
                    <a:pt x="5437" y="12095"/>
                    <a:pt x="4557" y="12430"/>
                    <a:pt x="3979" y="13033"/>
                  </a:cubicBezTo>
                  <a:cubicBezTo>
                    <a:pt x="4557" y="13279"/>
                    <a:pt x="4859" y="13882"/>
                    <a:pt x="4708" y="14396"/>
                  </a:cubicBezTo>
                  <a:cubicBezTo>
                    <a:pt x="4859" y="14641"/>
                    <a:pt x="5336" y="14485"/>
                    <a:pt x="5563" y="14261"/>
                  </a:cubicBezTo>
                  <a:cubicBezTo>
                    <a:pt x="5764" y="14060"/>
                    <a:pt x="6091" y="13792"/>
                    <a:pt x="6393" y="13926"/>
                  </a:cubicBezTo>
                  <a:cubicBezTo>
                    <a:pt x="6493" y="13971"/>
                    <a:pt x="6543" y="14060"/>
                    <a:pt x="6619" y="14127"/>
                  </a:cubicBezTo>
                  <a:cubicBezTo>
                    <a:pt x="6921" y="14530"/>
                    <a:pt x="7021" y="15066"/>
                    <a:pt x="7021" y="15579"/>
                  </a:cubicBezTo>
                  <a:cubicBezTo>
                    <a:pt x="7398" y="15512"/>
                    <a:pt x="7826" y="15847"/>
                    <a:pt x="7826" y="16182"/>
                  </a:cubicBezTo>
                  <a:cubicBezTo>
                    <a:pt x="6870" y="16272"/>
                    <a:pt x="5865" y="16182"/>
                    <a:pt x="4984" y="15937"/>
                  </a:cubicBezTo>
                  <a:cubicBezTo>
                    <a:pt x="5286" y="16451"/>
                    <a:pt x="5613" y="17031"/>
                    <a:pt x="5865" y="17545"/>
                  </a:cubicBezTo>
                  <a:cubicBezTo>
                    <a:pt x="6493" y="17724"/>
                    <a:pt x="6870" y="18439"/>
                    <a:pt x="6719" y="18997"/>
                  </a:cubicBezTo>
                  <a:cubicBezTo>
                    <a:pt x="7021" y="18841"/>
                    <a:pt x="7398" y="19042"/>
                    <a:pt x="7600" y="19310"/>
                  </a:cubicBezTo>
                  <a:cubicBezTo>
                    <a:pt x="7826" y="19555"/>
                    <a:pt x="7926" y="19890"/>
                    <a:pt x="8077" y="20158"/>
                  </a:cubicBezTo>
                  <a:cubicBezTo>
                    <a:pt x="8404" y="20672"/>
                    <a:pt x="8932" y="21052"/>
                    <a:pt x="9511" y="21186"/>
                  </a:cubicBezTo>
                  <a:cubicBezTo>
                    <a:pt x="9662" y="20918"/>
                    <a:pt x="9511" y="20628"/>
                    <a:pt x="9460" y="20293"/>
                  </a:cubicBezTo>
                  <a:cubicBezTo>
                    <a:pt x="9033" y="18707"/>
                    <a:pt x="10240" y="17076"/>
                    <a:pt x="9838" y="15512"/>
                  </a:cubicBezTo>
                  <a:cubicBezTo>
                    <a:pt x="10039" y="15624"/>
                    <a:pt x="10190" y="15669"/>
                    <a:pt x="10416" y="15758"/>
                  </a:cubicBezTo>
                  <a:cubicBezTo>
                    <a:pt x="10667" y="15713"/>
                    <a:pt x="10718" y="15468"/>
                    <a:pt x="10768" y="15244"/>
                  </a:cubicBezTo>
                  <a:cubicBezTo>
                    <a:pt x="10869" y="14440"/>
                    <a:pt x="10869" y="13658"/>
                    <a:pt x="10818" y="12854"/>
                  </a:cubicBezTo>
                  <a:cubicBezTo>
                    <a:pt x="11573" y="12720"/>
                    <a:pt x="12000" y="11961"/>
                    <a:pt x="11723" y="11358"/>
                  </a:cubicBezTo>
                  <a:cubicBezTo>
                    <a:pt x="11623" y="11157"/>
                    <a:pt x="11522" y="11023"/>
                    <a:pt x="11472" y="10799"/>
                  </a:cubicBezTo>
                  <a:cubicBezTo>
                    <a:pt x="11296" y="10174"/>
                    <a:pt x="12101" y="9615"/>
                    <a:pt x="12000" y="9012"/>
                  </a:cubicBezTo>
                  <a:cubicBezTo>
                    <a:pt x="12252" y="9057"/>
                    <a:pt x="12528" y="9102"/>
                    <a:pt x="12729" y="9146"/>
                  </a:cubicBezTo>
                  <a:cubicBezTo>
                    <a:pt x="13106" y="8364"/>
                    <a:pt x="14615" y="8297"/>
                    <a:pt x="14992" y="9102"/>
                  </a:cubicBezTo>
                  <a:cubicBezTo>
                    <a:pt x="14515" y="9146"/>
                    <a:pt x="13936" y="9392"/>
                    <a:pt x="14037" y="9816"/>
                  </a:cubicBezTo>
                  <a:cubicBezTo>
                    <a:pt x="14087" y="9950"/>
                    <a:pt x="14213" y="10040"/>
                    <a:pt x="14313" y="10174"/>
                  </a:cubicBezTo>
                  <a:cubicBezTo>
                    <a:pt x="14565" y="10509"/>
                    <a:pt x="14515" y="10978"/>
                    <a:pt x="14263" y="11313"/>
                  </a:cubicBezTo>
                  <a:cubicBezTo>
                    <a:pt x="14892" y="11782"/>
                    <a:pt x="15420" y="12340"/>
                    <a:pt x="15847" y="12988"/>
                  </a:cubicBezTo>
                  <a:cubicBezTo>
                    <a:pt x="15898" y="13078"/>
                    <a:pt x="15948" y="13189"/>
                    <a:pt x="15948" y="13279"/>
                  </a:cubicBezTo>
                  <a:cubicBezTo>
                    <a:pt x="15948" y="13502"/>
                    <a:pt x="15722" y="13658"/>
                    <a:pt x="15621" y="13837"/>
                  </a:cubicBezTo>
                  <a:cubicBezTo>
                    <a:pt x="15520" y="14016"/>
                    <a:pt x="15621" y="14351"/>
                    <a:pt x="15847" y="14261"/>
                  </a:cubicBezTo>
                  <a:cubicBezTo>
                    <a:pt x="15621" y="14485"/>
                    <a:pt x="15420" y="14686"/>
                    <a:pt x="15143" y="14909"/>
                  </a:cubicBezTo>
                  <a:cubicBezTo>
                    <a:pt x="14791" y="15289"/>
                    <a:pt x="14414" y="15892"/>
                    <a:pt x="14841" y="16227"/>
                  </a:cubicBezTo>
                  <a:cubicBezTo>
                    <a:pt x="15093" y="16406"/>
                    <a:pt x="15470" y="16361"/>
                    <a:pt x="15722" y="16182"/>
                  </a:cubicBezTo>
                  <a:cubicBezTo>
                    <a:pt x="15998" y="15981"/>
                    <a:pt x="16149" y="15758"/>
                    <a:pt x="16250" y="15468"/>
                  </a:cubicBezTo>
                  <a:cubicBezTo>
                    <a:pt x="16577" y="15758"/>
                    <a:pt x="16727" y="16182"/>
                    <a:pt x="16577" y="16562"/>
                  </a:cubicBezTo>
                  <a:cubicBezTo>
                    <a:pt x="16727" y="16406"/>
                    <a:pt x="17054" y="16518"/>
                    <a:pt x="17205" y="16696"/>
                  </a:cubicBezTo>
                  <a:cubicBezTo>
                    <a:pt x="17381" y="16875"/>
                    <a:pt x="17431" y="17076"/>
                    <a:pt x="17633" y="17210"/>
                  </a:cubicBezTo>
                  <a:cubicBezTo>
                    <a:pt x="18060" y="17545"/>
                    <a:pt x="18689" y="17210"/>
                    <a:pt x="18890" y="16741"/>
                  </a:cubicBezTo>
                  <a:cubicBezTo>
                    <a:pt x="19116" y="16317"/>
                    <a:pt x="19016" y="15803"/>
                    <a:pt x="18940" y="15334"/>
                  </a:cubicBezTo>
                  <a:cubicBezTo>
                    <a:pt x="18940" y="14865"/>
                    <a:pt x="19116" y="14306"/>
                    <a:pt x="19594" y="14127"/>
                  </a:cubicBezTo>
                  <a:cubicBezTo>
                    <a:pt x="18689" y="13971"/>
                    <a:pt x="18110" y="13234"/>
                    <a:pt x="17683" y="12564"/>
                  </a:cubicBezTo>
                  <a:cubicBezTo>
                    <a:pt x="17482" y="12251"/>
                    <a:pt x="17255" y="11871"/>
                    <a:pt x="17381" y="11536"/>
                  </a:cubicBezTo>
                  <a:cubicBezTo>
                    <a:pt x="16903" y="11536"/>
                    <a:pt x="16551" y="11157"/>
                    <a:pt x="16375" y="10755"/>
                  </a:cubicBezTo>
                  <a:cubicBezTo>
                    <a:pt x="16225" y="10330"/>
                    <a:pt x="16199" y="9906"/>
                    <a:pt x="16149" y="9481"/>
                  </a:cubicBezTo>
                  <a:cubicBezTo>
                    <a:pt x="15998" y="8543"/>
                    <a:pt x="15420" y="7694"/>
                    <a:pt x="14615" y="7091"/>
                  </a:cubicBezTo>
                  <a:cubicBezTo>
                    <a:pt x="14213" y="6756"/>
                    <a:pt x="13735" y="6578"/>
                    <a:pt x="13308" y="6242"/>
                  </a:cubicBezTo>
                  <a:cubicBezTo>
                    <a:pt x="12880" y="5907"/>
                    <a:pt x="12578" y="5438"/>
                    <a:pt x="12679" y="4969"/>
                  </a:cubicBezTo>
                  <a:cubicBezTo>
                    <a:pt x="12402" y="4969"/>
                    <a:pt x="12201" y="5036"/>
                    <a:pt x="11925" y="5036"/>
                  </a:cubicBezTo>
                  <a:cubicBezTo>
                    <a:pt x="12050" y="3986"/>
                    <a:pt x="11472" y="2959"/>
                    <a:pt x="10516" y="2400"/>
                  </a:cubicBezTo>
                  <a:cubicBezTo>
                    <a:pt x="10567" y="1083"/>
                    <a:pt x="9083" y="-124"/>
                    <a:pt x="7600" y="10"/>
                  </a:cubicBezTo>
                  <a:cubicBezTo>
                    <a:pt x="7499" y="1194"/>
                    <a:pt x="7499" y="2356"/>
                    <a:pt x="7725" y="3473"/>
                  </a:cubicBezTo>
                  <a:cubicBezTo>
                    <a:pt x="7826" y="4187"/>
                    <a:pt x="8027" y="4969"/>
                    <a:pt x="8656" y="5394"/>
                  </a:cubicBezTo>
                  <a:cubicBezTo>
                    <a:pt x="8781" y="5505"/>
                    <a:pt x="8932" y="5595"/>
                    <a:pt x="8983" y="5684"/>
                  </a:cubicBezTo>
                  <a:cubicBezTo>
                    <a:pt x="9083" y="5974"/>
                    <a:pt x="8832" y="6242"/>
                    <a:pt x="8505" y="6376"/>
                  </a:cubicBezTo>
                  <a:cubicBezTo>
                    <a:pt x="8354" y="6488"/>
                    <a:pt x="8128" y="6578"/>
                    <a:pt x="7977" y="6533"/>
                  </a:cubicBezTo>
                  <a:cubicBezTo>
                    <a:pt x="7876" y="6488"/>
                    <a:pt x="7826" y="6376"/>
                    <a:pt x="7776" y="6332"/>
                  </a:cubicBezTo>
                  <a:cubicBezTo>
                    <a:pt x="6971" y="5081"/>
                    <a:pt x="6292" y="3674"/>
                    <a:pt x="6543" y="2266"/>
                  </a:cubicBezTo>
                  <a:cubicBezTo>
                    <a:pt x="6015" y="1887"/>
                    <a:pt x="5437" y="1552"/>
                    <a:pt x="4859" y="1239"/>
                  </a:cubicBezTo>
                  <a:cubicBezTo>
                    <a:pt x="4658" y="1753"/>
                    <a:pt x="4658" y="2356"/>
                    <a:pt x="4909" y="2870"/>
                  </a:cubicBezTo>
                  <a:cubicBezTo>
                    <a:pt x="4557" y="3249"/>
                    <a:pt x="3803" y="2780"/>
                    <a:pt x="3752" y="2311"/>
                  </a:cubicBezTo>
                  <a:cubicBezTo>
                    <a:pt x="3702" y="1820"/>
                    <a:pt x="4104" y="1418"/>
                    <a:pt x="4456" y="1083"/>
                  </a:cubicBezTo>
                  <a:cubicBezTo>
                    <a:pt x="3752" y="1552"/>
                    <a:pt x="-2006" y="-414"/>
                    <a:pt x="735" y="2535"/>
                  </a:cubicBezTo>
                  <a:close/>
                  <a:moveTo>
                    <a:pt x="4507" y="1038"/>
                  </a:moveTo>
                  <a:cubicBezTo>
                    <a:pt x="4482" y="1060"/>
                    <a:pt x="4482" y="1083"/>
                    <a:pt x="4456" y="1083"/>
                  </a:cubicBezTo>
                  <a:cubicBezTo>
                    <a:pt x="4456" y="1083"/>
                    <a:pt x="4482" y="1060"/>
                    <a:pt x="4507" y="1038"/>
                  </a:cubicBez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7" name="Shape 3701"/>
            <p:cNvSpPr/>
            <p:nvPr/>
          </p:nvSpPr>
          <p:spPr>
            <a:xfrm>
              <a:off x="17962560" y="1903680"/>
              <a:ext cx="231480" cy="232200"/>
            </a:xfrm>
            <a:custGeom>
              <a:avLst/>
              <a:gdLst>
                <a:gd name="textAreaLeft" fmla="*/ 0 w 231480"/>
                <a:gd name="textAreaRight" fmla="*/ 231840 w 231480"/>
                <a:gd name="textAreaTop" fmla="*/ 0 h 232200"/>
                <a:gd name="textAreaBottom" fmla="*/ 232560 h 232200"/>
              </a:gdLst>
              <a:ahLst/>
              <a:rect l="textAreaLeft" t="textAreaTop" r="textAreaRight" b="textAreaBottom"/>
              <a:pathLst>
                <a:path w="20881" h="21458">
                  <a:moveTo>
                    <a:pt x="7236" y="19226"/>
                  </a:moveTo>
                  <a:cubicBezTo>
                    <a:pt x="7589" y="19064"/>
                    <a:pt x="7902" y="18822"/>
                    <a:pt x="8215" y="18822"/>
                  </a:cubicBezTo>
                  <a:cubicBezTo>
                    <a:pt x="8958" y="18903"/>
                    <a:pt x="9232" y="20235"/>
                    <a:pt x="10054" y="20154"/>
                  </a:cubicBezTo>
                  <a:cubicBezTo>
                    <a:pt x="9780" y="20598"/>
                    <a:pt x="10054" y="21164"/>
                    <a:pt x="10523" y="21366"/>
                  </a:cubicBezTo>
                  <a:cubicBezTo>
                    <a:pt x="11032" y="21527"/>
                    <a:pt x="11541" y="21446"/>
                    <a:pt x="11932" y="21366"/>
                  </a:cubicBezTo>
                  <a:cubicBezTo>
                    <a:pt x="12363" y="21244"/>
                    <a:pt x="12676" y="21164"/>
                    <a:pt x="12989" y="20921"/>
                  </a:cubicBezTo>
                  <a:cubicBezTo>
                    <a:pt x="13223" y="20679"/>
                    <a:pt x="13341" y="20397"/>
                    <a:pt x="13497" y="20154"/>
                  </a:cubicBezTo>
                  <a:cubicBezTo>
                    <a:pt x="14045" y="19226"/>
                    <a:pt x="15376" y="18983"/>
                    <a:pt x="16276" y="19589"/>
                  </a:cubicBezTo>
                  <a:cubicBezTo>
                    <a:pt x="15963" y="18216"/>
                    <a:pt x="15767" y="16359"/>
                    <a:pt x="17019" y="15673"/>
                  </a:cubicBezTo>
                  <a:cubicBezTo>
                    <a:pt x="17528" y="15431"/>
                    <a:pt x="17997" y="15511"/>
                    <a:pt x="18428" y="15148"/>
                  </a:cubicBezTo>
                  <a:cubicBezTo>
                    <a:pt x="18976" y="14744"/>
                    <a:pt x="19132" y="13816"/>
                    <a:pt x="19719" y="13573"/>
                  </a:cubicBezTo>
                  <a:cubicBezTo>
                    <a:pt x="20071" y="13371"/>
                    <a:pt x="20384" y="13452"/>
                    <a:pt x="20619" y="13291"/>
                  </a:cubicBezTo>
                  <a:cubicBezTo>
                    <a:pt x="21206" y="12887"/>
                    <a:pt x="20697" y="11878"/>
                    <a:pt x="20149" y="11514"/>
                  </a:cubicBezTo>
                  <a:cubicBezTo>
                    <a:pt x="19484" y="11191"/>
                    <a:pt x="18663" y="11030"/>
                    <a:pt x="18349" y="10424"/>
                  </a:cubicBezTo>
                  <a:cubicBezTo>
                    <a:pt x="18154" y="10182"/>
                    <a:pt x="18076" y="9819"/>
                    <a:pt x="17997" y="9576"/>
                  </a:cubicBezTo>
                  <a:cubicBezTo>
                    <a:pt x="17332" y="8204"/>
                    <a:pt x="15141" y="8123"/>
                    <a:pt x="14397" y="9496"/>
                  </a:cubicBezTo>
                  <a:cubicBezTo>
                    <a:pt x="14397" y="8809"/>
                    <a:pt x="14319" y="8042"/>
                    <a:pt x="14045" y="7477"/>
                  </a:cubicBezTo>
                  <a:cubicBezTo>
                    <a:pt x="13810" y="6871"/>
                    <a:pt x="13067" y="6346"/>
                    <a:pt x="12402" y="6629"/>
                  </a:cubicBezTo>
                  <a:cubicBezTo>
                    <a:pt x="10876" y="7114"/>
                    <a:pt x="11776" y="10343"/>
                    <a:pt x="10210" y="10828"/>
                  </a:cubicBezTo>
                  <a:cubicBezTo>
                    <a:pt x="9310" y="11111"/>
                    <a:pt x="8410" y="9657"/>
                    <a:pt x="9154" y="8971"/>
                  </a:cubicBezTo>
                  <a:cubicBezTo>
                    <a:pt x="8723" y="8890"/>
                    <a:pt x="8332" y="9132"/>
                    <a:pt x="8136" y="9576"/>
                  </a:cubicBezTo>
                  <a:cubicBezTo>
                    <a:pt x="8136" y="8971"/>
                    <a:pt x="7667" y="8567"/>
                    <a:pt x="7158" y="8325"/>
                  </a:cubicBezTo>
                  <a:cubicBezTo>
                    <a:pt x="6689" y="8042"/>
                    <a:pt x="6102" y="7961"/>
                    <a:pt x="5671" y="7558"/>
                  </a:cubicBezTo>
                  <a:cubicBezTo>
                    <a:pt x="5280" y="7114"/>
                    <a:pt x="5280" y="6266"/>
                    <a:pt x="5867" y="6104"/>
                  </a:cubicBezTo>
                  <a:cubicBezTo>
                    <a:pt x="5358" y="6023"/>
                    <a:pt x="4849" y="5862"/>
                    <a:pt x="4536" y="5418"/>
                  </a:cubicBezTo>
                  <a:cubicBezTo>
                    <a:pt x="4145" y="4812"/>
                    <a:pt x="4458" y="4005"/>
                    <a:pt x="4849" y="3480"/>
                  </a:cubicBezTo>
                  <a:cubicBezTo>
                    <a:pt x="5280" y="2874"/>
                    <a:pt x="5867" y="2471"/>
                    <a:pt x="6180" y="1784"/>
                  </a:cubicBezTo>
                  <a:cubicBezTo>
                    <a:pt x="6415" y="1098"/>
                    <a:pt x="6258" y="169"/>
                    <a:pt x="5515" y="8"/>
                  </a:cubicBezTo>
                  <a:cubicBezTo>
                    <a:pt x="4849" y="-73"/>
                    <a:pt x="4380" y="533"/>
                    <a:pt x="4223" y="1179"/>
                  </a:cubicBezTo>
                  <a:cubicBezTo>
                    <a:pt x="4028" y="1784"/>
                    <a:pt x="4028" y="2551"/>
                    <a:pt x="3636" y="3036"/>
                  </a:cubicBezTo>
                  <a:cubicBezTo>
                    <a:pt x="3402" y="3399"/>
                    <a:pt x="3049" y="3561"/>
                    <a:pt x="2815" y="3884"/>
                  </a:cubicBezTo>
                  <a:cubicBezTo>
                    <a:pt x="1836" y="5095"/>
                    <a:pt x="2228" y="6952"/>
                    <a:pt x="2658" y="8486"/>
                  </a:cubicBezTo>
                  <a:cubicBezTo>
                    <a:pt x="1993" y="8406"/>
                    <a:pt x="1328" y="8325"/>
                    <a:pt x="780" y="8325"/>
                  </a:cubicBezTo>
                  <a:cubicBezTo>
                    <a:pt x="349" y="8567"/>
                    <a:pt x="428" y="9132"/>
                    <a:pt x="663" y="9576"/>
                  </a:cubicBezTo>
                  <a:cubicBezTo>
                    <a:pt x="858" y="9980"/>
                    <a:pt x="1171" y="10424"/>
                    <a:pt x="1093" y="10949"/>
                  </a:cubicBezTo>
                  <a:cubicBezTo>
                    <a:pt x="1015" y="11434"/>
                    <a:pt x="271" y="11676"/>
                    <a:pt x="115" y="11272"/>
                  </a:cubicBezTo>
                  <a:cubicBezTo>
                    <a:pt x="-394" y="12806"/>
                    <a:pt x="858" y="14663"/>
                    <a:pt x="2423" y="14744"/>
                  </a:cubicBezTo>
                  <a:cubicBezTo>
                    <a:pt x="2893" y="14744"/>
                    <a:pt x="3480" y="14663"/>
                    <a:pt x="3949" y="14502"/>
                  </a:cubicBezTo>
                  <a:cubicBezTo>
                    <a:pt x="5515" y="14058"/>
                    <a:pt x="7002" y="13735"/>
                    <a:pt x="8567" y="13291"/>
                  </a:cubicBezTo>
                  <a:cubicBezTo>
                    <a:pt x="8645" y="14663"/>
                    <a:pt x="7236" y="15834"/>
                    <a:pt x="5945" y="15592"/>
                  </a:cubicBezTo>
                  <a:cubicBezTo>
                    <a:pt x="5945" y="18741"/>
                    <a:pt x="3128" y="15148"/>
                    <a:pt x="3636" y="17530"/>
                  </a:cubicBezTo>
                  <a:cubicBezTo>
                    <a:pt x="3715" y="18620"/>
                    <a:pt x="6102" y="19831"/>
                    <a:pt x="7236" y="19226"/>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8" name="Shape 3702"/>
            <p:cNvSpPr/>
            <p:nvPr/>
          </p:nvSpPr>
          <p:spPr>
            <a:xfrm>
              <a:off x="18796320" y="2401200"/>
              <a:ext cx="418680" cy="585000"/>
            </a:xfrm>
            <a:custGeom>
              <a:avLst/>
              <a:gdLst>
                <a:gd name="textAreaLeft" fmla="*/ 0 w 418680"/>
                <a:gd name="textAreaRight" fmla="*/ 419040 w 418680"/>
                <a:gd name="textAreaTop" fmla="*/ 0 h 585000"/>
                <a:gd name="textAreaBottom" fmla="*/ 585360 h 585000"/>
              </a:gdLst>
              <a:ahLst/>
              <a:rect l="textAreaLeft" t="textAreaTop" r="textAreaRight" b="textAreaBottom"/>
              <a:pathLst>
                <a:path w="21418" h="20892">
                  <a:moveTo>
                    <a:pt x="20662" y="2548"/>
                  </a:moveTo>
                  <a:cubicBezTo>
                    <a:pt x="19947" y="3233"/>
                    <a:pt x="18540" y="3420"/>
                    <a:pt x="17981" y="4152"/>
                  </a:cubicBezTo>
                  <a:cubicBezTo>
                    <a:pt x="17892" y="4246"/>
                    <a:pt x="17847" y="4370"/>
                    <a:pt x="17669" y="4433"/>
                  </a:cubicBezTo>
                  <a:cubicBezTo>
                    <a:pt x="17468" y="4510"/>
                    <a:pt x="17289" y="4433"/>
                    <a:pt x="17088" y="4433"/>
                  </a:cubicBezTo>
                  <a:cubicBezTo>
                    <a:pt x="16440" y="4401"/>
                    <a:pt x="15971" y="4837"/>
                    <a:pt x="15413" y="5055"/>
                  </a:cubicBezTo>
                  <a:cubicBezTo>
                    <a:pt x="14944" y="5289"/>
                    <a:pt x="14340" y="5383"/>
                    <a:pt x="13827" y="5585"/>
                  </a:cubicBezTo>
                  <a:cubicBezTo>
                    <a:pt x="12687" y="5943"/>
                    <a:pt x="11749" y="6628"/>
                    <a:pt x="11325" y="7485"/>
                  </a:cubicBezTo>
                  <a:cubicBezTo>
                    <a:pt x="11280" y="7609"/>
                    <a:pt x="11191" y="7734"/>
                    <a:pt x="11102" y="7812"/>
                  </a:cubicBezTo>
                  <a:cubicBezTo>
                    <a:pt x="10632" y="8092"/>
                    <a:pt x="9694" y="7765"/>
                    <a:pt x="9404" y="8170"/>
                  </a:cubicBezTo>
                  <a:cubicBezTo>
                    <a:pt x="9784" y="8450"/>
                    <a:pt x="9516" y="8886"/>
                    <a:pt x="9225" y="9214"/>
                  </a:cubicBezTo>
                  <a:cubicBezTo>
                    <a:pt x="8622" y="9992"/>
                    <a:pt x="8108" y="10802"/>
                    <a:pt x="7684" y="11627"/>
                  </a:cubicBezTo>
                  <a:cubicBezTo>
                    <a:pt x="7126" y="11861"/>
                    <a:pt x="6790" y="12344"/>
                    <a:pt x="6880" y="12764"/>
                  </a:cubicBezTo>
                  <a:cubicBezTo>
                    <a:pt x="6701" y="12795"/>
                    <a:pt x="6500" y="12842"/>
                    <a:pt x="6321" y="12873"/>
                  </a:cubicBezTo>
                  <a:cubicBezTo>
                    <a:pt x="6500" y="13091"/>
                    <a:pt x="6187" y="13418"/>
                    <a:pt x="5808" y="13387"/>
                  </a:cubicBezTo>
                  <a:cubicBezTo>
                    <a:pt x="6143" y="13683"/>
                    <a:pt x="5473" y="14041"/>
                    <a:pt x="5249" y="14368"/>
                  </a:cubicBezTo>
                  <a:cubicBezTo>
                    <a:pt x="5093" y="14571"/>
                    <a:pt x="5048" y="14789"/>
                    <a:pt x="5004" y="14991"/>
                  </a:cubicBezTo>
                  <a:cubicBezTo>
                    <a:pt x="4869" y="15972"/>
                    <a:pt x="4735" y="16953"/>
                    <a:pt x="4624" y="17934"/>
                  </a:cubicBezTo>
                  <a:cubicBezTo>
                    <a:pt x="4624" y="18168"/>
                    <a:pt x="4579" y="18386"/>
                    <a:pt x="4780" y="18589"/>
                  </a:cubicBezTo>
                  <a:cubicBezTo>
                    <a:pt x="4914" y="18744"/>
                    <a:pt x="5205" y="18853"/>
                    <a:pt x="5473" y="18947"/>
                  </a:cubicBezTo>
                  <a:cubicBezTo>
                    <a:pt x="6143" y="19211"/>
                    <a:pt x="6701" y="19632"/>
                    <a:pt x="6969" y="20115"/>
                  </a:cubicBezTo>
                  <a:cubicBezTo>
                    <a:pt x="7059" y="20255"/>
                    <a:pt x="7126" y="20411"/>
                    <a:pt x="7059" y="20551"/>
                  </a:cubicBezTo>
                  <a:cubicBezTo>
                    <a:pt x="7014" y="20644"/>
                    <a:pt x="6925" y="20738"/>
                    <a:pt x="6790" y="20800"/>
                  </a:cubicBezTo>
                  <a:cubicBezTo>
                    <a:pt x="5808" y="21236"/>
                    <a:pt x="4490" y="19959"/>
                    <a:pt x="3507" y="20411"/>
                  </a:cubicBezTo>
                  <a:cubicBezTo>
                    <a:pt x="3127" y="20317"/>
                    <a:pt x="2770" y="20224"/>
                    <a:pt x="2524" y="20021"/>
                  </a:cubicBezTo>
                  <a:cubicBezTo>
                    <a:pt x="2301" y="19819"/>
                    <a:pt x="2189" y="19507"/>
                    <a:pt x="2479" y="19305"/>
                  </a:cubicBezTo>
                  <a:cubicBezTo>
                    <a:pt x="1832" y="19336"/>
                    <a:pt x="1206" y="18947"/>
                    <a:pt x="1206" y="18480"/>
                  </a:cubicBezTo>
                  <a:cubicBezTo>
                    <a:pt x="648" y="18448"/>
                    <a:pt x="179" y="18121"/>
                    <a:pt x="45" y="17732"/>
                  </a:cubicBezTo>
                  <a:cubicBezTo>
                    <a:pt x="0" y="17607"/>
                    <a:pt x="0" y="17467"/>
                    <a:pt x="0" y="17343"/>
                  </a:cubicBezTo>
                  <a:cubicBezTo>
                    <a:pt x="0" y="16922"/>
                    <a:pt x="0" y="16502"/>
                    <a:pt x="45" y="16066"/>
                  </a:cubicBezTo>
                  <a:cubicBezTo>
                    <a:pt x="268" y="16175"/>
                    <a:pt x="603" y="16066"/>
                    <a:pt x="737" y="15910"/>
                  </a:cubicBezTo>
                  <a:cubicBezTo>
                    <a:pt x="893" y="15739"/>
                    <a:pt x="938" y="15552"/>
                    <a:pt x="938" y="15349"/>
                  </a:cubicBezTo>
                  <a:cubicBezTo>
                    <a:pt x="983" y="14898"/>
                    <a:pt x="1028" y="14399"/>
                    <a:pt x="1028" y="13948"/>
                  </a:cubicBezTo>
                  <a:cubicBezTo>
                    <a:pt x="1296" y="13917"/>
                    <a:pt x="1586" y="13854"/>
                    <a:pt x="1832" y="13808"/>
                  </a:cubicBezTo>
                  <a:cubicBezTo>
                    <a:pt x="2010" y="13590"/>
                    <a:pt x="1363" y="13387"/>
                    <a:pt x="1452" y="13169"/>
                  </a:cubicBezTo>
                  <a:cubicBezTo>
                    <a:pt x="1497" y="12998"/>
                    <a:pt x="1876" y="12998"/>
                    <a:pt x="2144" y="12935"/>
                  </a:cubicBezTo>
                  <a:cubicBezTo>
                    <a:pt x="2278" y="12904"/>
                    <a:pt x="2390" y="12795"/>
                    <a:pt x="2479" y="12733"/>
                  </a:cubicBezTo>
                  <a:cubicBezTo>
                    <a:pt x="2569" y="12640"/>
                    <a:pt x="2703" y="12577"/>
                    <a:pt x="2814" y="12468"/>
                  </a:cubicBezTo>
                  <a:cubicBezTo>
                    <a:pt x="3217" y="12157"/>
                    <a:pt x="3641" y="11752"/>
                    <a:pt x="3686" y="11331"/>
                  </a:cubicBezTo>
                  <a:cubicBezTo>
                    <a:pt x="3373" y="11394"/>
                    <a:pt x="3038" y="11503"/>
                    <a:pt x="2703" y="11565"/>
                  </a:cubicBezTo>
                  <a:cubicBezTo>
                    <a:pt x="2524" y="11129"/>
                    <a:pt x="3127" y="10771"/>
                    <a:pt x="3641" y="10522"/>
                  </a:cubicBezTo>
                  <a:cubicBezTo>
                    <a:pt x="4155" y="10257"/>
                    <a:pt x="4668" y="9727"/>
                    <a:pt x="4266" y="9400"/>
                  </a:cubicBezTo>
                  <a:cubicBezTo>
                    <a:pt x="4579" y="9307"/>
                    <a:pt x="4869" y="9214"/>
                    <a:pt x="5205" y="9104"/>
                  </a:cubicBezTo>
                  <a:cubicBezTo>
                    <a:pt x="5048" y="8886"/>
                    <a:pt x="5249" y="8559"/>
                    <a:pt x="5607" y="8450"/>
                  </a:cubicBezTo>
                  <a:cubicBezTo>
                    <a:pt x="5383" y="8497"/>
                    <a:pt x="5093" y="8388"/>
                    <a:pt x="5004" y="8232"/>
                  </a:cubicBezTo>
                  <a:cubicBezTo>
                    <a:pt x="5249" y="8123"/>
                    <a:pt x="5562" y="8061"/>
                    <a:pt x="5852" y="8123"/>
                  </a:cubicBezTo>
                  <a:cubicBezTo>
                    <a:pt x="5383" y="7703"/>
                    <a:pt x="5138" y="7189"/>
                    <a:pt x="5093" y="6660"/>
                  </a:cubicBezTo>
                  <a:cubicBezTo>
                    <a:pt x="5473" y="6784"/>
                    <a:pt x="5942" y="6597"/>
                    <a:pt x="5986" y="6301"/>
                  </a:cubicBezTo>
                  <a:cubicBezTo>
                    <a:pt x="6366" y="6426"/>
                    <a:pt x="6880" y="6146"/>
                    <a:pt x="6790" y="5850"/>
                  </a:cubicBezTo>
                  <a:cubicBezTo>
                    <a:pt x="6969" y="5943"/>
                    <a:pt x="7215" y="6068"/>
                    <a:pt x="7394" y="6177"/>
                  </a:cubicBezTo>
                  <a:cubicBezTo>
                    <a:pt x="7639" y="5772"/>
                    <a:pt x="7863" y="5351"/>
                    <a:pt x="8153" y="4962"/>
                  </a:cubicBezTo>
                  <a:cubicBezTo>
                    <a:pt x="8510" y="4931"/>
                    <a:pt x="8846" y="4635"/>
                    <a:pt x="8756" y="4370"/>
                  </a:cubicBezTo>
                  <a:cubicBezTo>
                    <a:pt x="8980" y="4401"/>
                    <a:pt x="9270" y="4433"/>
                    <a:pt x="9516" y="4479"/>
                  </a:cubicBezTo>
                  <a:cubicBezTo>
                    <a:pt x="9516" y="4246"/>
                    <a:pt x="9918" y="4183"/>
                    <a:pt x="10208" y="4106"/>
                  </a:cubicBezTo>
                  <a:cubicBezTo>
                    <a:pt x="10543" y="4074"/>
                    <a:pt x="10856" y="3825"/>
                    <a:pt x="10632" y="3654"/>
                  </a:cubicBezTo>
                  <a:cubicBezTo>
                    <a:pt x="11057" y="3685"/>
                    <a:pt x="11526" y="3654"/>
                    <a:pt x="11906" y="3560"/>
                  </a:cubicBezTo>
                  <a:cubicBezTo>
                    <a:pt x="11526" y="3420"/>
                    <a:pt x="11437" y="2953"/>
                    <a:pt x="11749" y="2766"/>
                  </a:cubicBezTo>
                  <a:cubicBezTo>
                    <a:pt x="12084" y="2564"/>
                    <a:pt x="12687" y="2642"/>
                    <a:pt x="12889" y="2938"/>
                  </a:cubicBezTo>
                  <a:cubicBezTo>
                    <a:pt x="13581" y="3000"/>
                    <a:pt x="14296" y="2875"/>
                    <a:pt x="14854" y="2610"/>
                  </a:cubicBezTo>
                  <a:cubicBezTo>
                    <a:pt x="15167" y="2813"/>
                    <a:pt x="15681" y="2673"/>
                    <a:pt x="16060" y="2517"/>
                  </a:cubicBezTo>
                  <a:cubicBezTo>
                    <a:pt x="16686" y="2283"/>
                    <a:pt x="17334" y="2019"/>
                    <a:pt x="17937" y="1801"/>
                  </a:cubicBezTo>
                  <a:cubicBezTo>
                    <a:pt x="18071" y="1723"/>
                    <a:pt x="18272" y="1661"/>
                    <a:pt x="18316" y="1536"/>
                  </a:cubicBezTo>
                  <a:cubicBezTo>
                    <a:pt x="18361" y="1396"/>
                    <a:pt x="18272" y="1240"/>
                    <a:pt x="18071" y="1271"/>
                  </a:cubicBezTo>
                  <a:cubicBezTo>
                    <a:pt x="18495" y="1100"/>
                    <a:pt x="18786" y="820"/>
                    <a:pt x="19121" y="555"/>
                  </a:cubicBezTo>
                  <a:cubicBezTo>
                    <a:pt x="19679" y="88"/>
                    <a:pt x="20997" y="-364"/>
                    <a:pt x="21354" y="446"/>
                  </a:cubicBezTo>
                  <a:cubicBezTo>
                    <a:pt x="21600" y="944"/>
                    <a:pt x="21086" y="2112"/>
                    <a:pt x="20662" y="2548"/>
                  </a:cubicBezTo>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49" name="Shape 3703"/>
            <p:cNvSpPr/>
            <p:nvPr/>
          </p:nvSpPr>
          <p:spPr>
            <a:xfrm>
              <a:off x="18984960" y="1902960"/>
              <a:ext cx="58680" cy="64440"/>
            </a:xfrm>
            <a:custGeom>
              <a:avLst/>
              <a:gdLst>
                <a:gd name="textAreaLeft" fmla="*/ 0 w 58680"/>
                <a:gd name="textAreaRight" fmla="*/ 59040 w 58680"/>
                <a:gd name="textAreaTop" fmla="*/ 0 h 64440"/>
                <a:gd name="textAreaBottom" fmla="*/ 64800 h 64440"/>
              </a:gdLst>
              <a:ahLst/>
              <a:rect l="textAreaLeft" t="textAreaTop" r="textAreaRight" b="textAreaBottom"/>
              <a:pathLst>
                <a:path w="21600" h="21528">
                  <a:moveTo>
                    <a:pt x="19988" y="9423"/>
                  </a:moveTo>
                  <a:cubicBezTo>
                    <a:pt x="20633" y="9423"/>
                    <a:pt x="21278" y="9423"/>
                    <a:pt x="21600" y="10003"/>
                  </a:cubicBezTo>
                  <a:cubicBezTo>
                    <a:pt x="20633" y="11887"/>
                    <a:pt x="20955" y="13627"/>
                    <a:pt x="20310" y="15801"/>
                  </a:cubicBezTo>
                  <a:cubicBezTo>
                    <a:pt x="19666" y="17541"/>
                    <a:pt x="17570" y="19426"/>
                    <a:pt x="15958" y="18846"/>
                  </a:cubicBezTo>
                  <a:cubicBezTo>
                    <a:pt x="16603" y="19426"/>
                    <a:pt x="16281" y="21020"/>
                    <a:pt x="15152" y="21310"/>
                  </a:cubicBezTo>
                  <a:cubicBezTo>
                    <a:pt x="14185" y="21600"/>
                    <a:pt x="13218" y="21600"/>
                    <a:pt x="11767" y="21310"/>
                  </a:cubicBezTo>
                  <a:cubicBezTo>
                    <a:pt x="9188" y="20585"/>
                    <a:pt x="6770" y="20295"/>
                    <a:pt x="4030" y="19715"/>
                  </a:cubicBezTo>
                  <a:cubicBezTo>
                    <a:pt x="3385" y="19715"/>
                    <a:pt x="2740" y="19426"/>
                    <a:pt x="2418" y="19136"/>
                  </a:cubicBezTo>
                  <a:cubicBezTo>
                    <a:pt x="2096" y="18846"/>
                    <a:pt x="1612" y="18266"/>
                    <a:pt x="1290" y="17541"/>
                  </a:cubicBezTo>
                  <a:cubicBezTo>
                    <a:pt x="322" y="14932"/>
                    <a:pt x="0" y="12177"/>
                    <a:pt x="0" y="9423"/>
                  </a:cubicBezTo>
                  <a:cubicBezTo>
                    <a:pt x="0" y="7828"/>
                    <a:pt x="322" y="5799"/>
                    <a:pt x="2096" y="5509"/>
                  </a:cubicBezTo>
                  <a:cubicBezTo>
                    <a:pt x="3385" y="4784"/>
                    <a:pt x="4675" y="5799"/>
                    <a:pt x="6448" y="5799"/>
                  </a:cubicBezTo>
                  <a:cubicBezTo>
                    <a:pt x="7737" y="6089"/>
                    <a:pt x="9833" y="5074"/>
                    <a:pt x="9510" y="3914"/>
                  </a:cubicBezTo>
                  <a:cubicBezTo>
                    <a:pt x="11445" y="3914"/>
                    <a:pt x="13540" y="3624"/>
                    <a:pt x="15475" y="3624"/>
                  </a:cubicBezTo>
                  <a:cubicBezTo>
                    <a:pt x="14507" y="3624"/>
                    <a:pt x="16603" y="0"/>
                    <a:pt x="19343" y="0"/>
                  </a:cubicBezTo>
                  <a:cubicBezTo>
                    <a:pt x="18215" y="2754"/>
                    <a:pt x="20633" y="6379"/>
                    <a:pt x="19988" y="9423"/>
                  </a:cubicBezTo>
                </a:path>
              </a:pathLst>
            </a:custGeom>
            <a:solidFill>
              <a:srgbClr val="c0c0c0"/>
            </a:solidFill>
            <a:ln w="12700">
              <a:noFill/>
            </a:ln>
          </p:spPr>
          <p:style>
            <a:lnRef idx="0"/>
            <a:fillRef idx="0"/>
            <a:effectRef idx="0"/>
            <a:fontRef idx="minor"/>
          </p:style>
          <p:txBody>
            <a:bodyPr numCol="1" spcCol="0" lIns="45720" rIns="45720" tIns="32400" bIns="32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0" name="Shape 3704"/>
            <p:cNvSpPr/>
            <p:nvPr/>
          </p:nvSpPr>
          <p:spPr>
            <a:xfrm>
              <a:off x="19063080" y="1848960"/>
              <a:ext cx="58680" cy="80280"/>
            </a:xfrm>
            <a:custGeom>
              <a:avLst/>
              <a:gdLst>
                <a:gd name="textAreaLeft" fmla="*/ 0 w 58680"/>
                <a:gd name="textAreaRight" fmla="*/ 59040 w 58680"/>
                <a:gd name="textAreaTop" fmla="*/ 0 h 80280"/>
                <a:gd name="textAreaBottom" fmla="*/ 80640 h 80280"/>
              </a:gdLst>
              <a:ahLst/>
              <a:rect l="textAreaLeft" t="textAreaTop" r="textAreaRight" b="textAreaBottom"/>
              <a:pathLst>
                <a:path w="20823" h="21232">
                  <a:moveTo>
                    <a:pt x="13131" y="21138"/>
                  </a:moveTo>
                  <a:cubicBezTo>
                    <a:pt x="16083" y="20560"/>
                    <a:pt x="18103" y="18712"/>
                    <a:pt x="19036" y="16749"/>
                  </a:cubicBezTo>
                  <a:cubicBezTo>
                    <a:pt x="20434" y="14323"/>
                    <a:pt x="20745" y="11435"/>
                    <a:pt x="20745" y="8779"/>
                  </a:cubicBezTo>
                  <a:cubicBezTo>
                    <a:pt x="20745" y="6815"/>
                    <a:pt x="21056" y="4620"/>
                    <a:pt x="20434" y="2657"/>
                  </a:cubicBezTo>
                  <a:cubicBezTo>
                    <a:pt x="19968" y="1502"/>
                    <a:pt x="18725" y="0"/>
                    <a:pt x="17171" y="0"/>
                  </a:cubicBezTo>
                  <a:cubicBezTo>
                    <a:pt x="14840" y="0"/>
                    <a:pt x="13908" y="2426"/>
                    <a:pt x="14219" y="4158"/>
                  </a:cubicBezTo>
                  <a:cubicBezTo>
                    <a:pt x="14529" y="9241"/>
                    <a:pt x="8624" y="9010"/>
                    <a:pt x="4429" y="12128"/>
                  </a:cubicBezTo>
                  <a:cubicBezTo>
                    <a:pt x="2719" y="13399"/>
                    <a:pt x="-544" y="15016"/>
                    <a:pt x="78" y="16980"/>
                  </a:cubicBezTo>
                  <a:cubicBezTo>
                    <a:pt x="1165" y="19174"/>
                    <a:pt x="4739" y="19174"/>
                    <a:pt x="6915" y="17904"/>
                  </a:cubicBezTo>
                  <a:cubicBezTo>
                    <a:pt x="7692" y="20329"/>
                    <a:pt x="10178" y="21600"/>
                    <a:pt x="13131" y="21138"/>
                  </a:cubicBezTo>
                </a:path>
              </a:pathLst>
            </a:custGeom>
            <a:solidFill>
              <a:srgbClr val="c0c0c0"/>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1" name="Shape 3705"/>
            <p:cNvSpPr/>
            <p:nvPr/>
          </p:nvSpPr>
          <p:spPr>
            <a:xfrm>
              <a:off x="19003680" y="1866240"/>
              <a:ext cx="31320" cy="23400"/>
            </a:xfrm>
            <a:custGeom>
              <a:avLst/>
              <a:gdLst>
                <a:gd name="textAreaLeft" fmla="*/ 0 w 31320"/>
                <a:gd name="textAreaRight" fmla="*/ 31680 w 31320"/>
                <a:gd name="textAreaTop" fmla="*/ 0 h 23400"/>
                <a:gd name="textAreaBottom" fmla="*/ 23760 h 23400"/>
              </a:gdLst>
              <a:ahLst/>
              <a:rect l="textAreaLeft" t="textAreaTop" r="textAreaRight" b="textAreaBottom"/>
              <a:pathLst>
                <a:path w="20046" h="21043">
                  <a:moveTo>
                    <a:pt x="2319" y="7200"/>
                  </a:moveTo>
                  <a:cubicBezTo>
                    <a:pt x="-1047" y="8716"/>
                    <a:pt x="-486" y="15916"/>
                    <a:pt x="2319" y="18947"/>
                  </a:cubicBezTo>
                  <a:cubicBezTo>
                    <a:pt x="5405" y="21600"/>
                    <a:pt x="9613" y="21600"/>
                    <a:pt x="12979" y="19705"/>
                  </a:cubicBezTo>
                  <a:cubicBezTo>
                    <a:pt x="16065" y="18947"/>
                    <a:pt x="19431" y="16674"/>
                    <a:pt x="19992" y="12884"/>
                  </a:cubicBezTo>
                  <a:cubicBezTo>
                    <a:pt x="20553" y="7200"/>
                    <a:pt x="16626" y="3032"/>
                    <a:pt x="12979" y="758"/>
                  </a:cubicBezTo>
                  <a:cubicBezTo>
                    <a:pt x="12418" y="758"/>
                    <a:pt x="11857" y="0"/>
                    <a:pt x="11296" y="0"/>
                  </a:cubicBezTo>
                  <a:cubicBezTo>
                    <a:pt x="10174" y="0"/>
                    <a:pt x="9613" y="0"/>
                    <a:pt x="8771" y="758"/>
                  </a:cubicBezTo>
                  <a:cubicBezTo>
                    <a:pt x="5966" y="2274"/>
                    <a:pt x="3722" y="3789"/>
                    <a:pt x="636" y="5684"/>
                  </a:cubicBezTo>
                  <a:cubicBezTo>
                    <a:pt x="-486" y="6442"/>
                    <a:pt x="2319" y="7200"/>
                    <a:pt x="2319" y="7200"/>
                  </a:cubicBezTo>
                </a:path>
              </a:pathLst>
            </a:custGeom>
            <a:solidFill>
              <a:srgbClr val="c0c0c0"/>
            </a:solidFill>
            <a:ln w="12700">
              <a:noFill/>
            </a:ln>
          </p:spPr>
          <p:style>
            <a:lnRef idx="0"/>
            <a:fillRef idx="0"/>
            <a:effectRef idx="0"/>
            <a:fontRef idx="minor"/>
          </p:style>
          <p:txBody>
            <a:bodyPr numCol="1" spcCol="0" lIns="45720" rIns="45720" tIns="11880" bIns="11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2" name="Shape 3706"/>
            <p:cNvSpPr/>
            <p:nvPr/>
          </p:nvSpPr>
          <p:spPr>
            <a:xfrm>
              <a:off x="18902160" y="1956600"/>
              <a:ext cx="60120" cy="55080"/>
            </a:xfrm>
            <a:custGeom>
              <a:avLst/>
              <a:gdLst>
                <a:gd name="textAreaLeft" fmla="*/ 0 w 60120"/>
                <a:gd name="textAreaRight" fmla="*/ 60480 w 60120"/>
                <a:gd name="textAreaTop" fmla="*/ 0 h 55080"/>
                <a:gd name="textAreaBottom" fmla="*/ 55440 h 55080"/>
              </a:gdLst>
              <a:ahLst/>
              <a:rect l="textAreaLeft" t="textAreaTop" r="textAreaRight" b="textAreaBottom"/>
              <a:pathLst>
                <a:path w="21341" h="20939">
                  <a:moveTo>
                    <a:pt x="9651" y="1473"/>
                  </a:moveTo>
                  <a:cubicBezTo>
                    <a:pt x="9345" y="2127"/>
                    <a:pt x="9345" y="9000"/>
                    <a:pt x="9957" y="9000"/>
                  </a:cubicBezTo>
                  <a:cubicBezTo>
                    <a:pt x="5515" y="8018"/>
                    <a:pt x="306" y="12109"/>
                    <a:pt x="0" y="17182"/>
                  </a:cubicBezTo>
                  <a:cubicBezTo>
                    <a:pt x="1685" y="20291"/>
                    <a:pt x="5515" y="21600"/>
                    <a:pt x="8732" y="20618"/>
                  </a:cubicBezTo>
                  <a:cubicBezTo>
                    <a:pt x="11949" y="19473"/>
                    <a:pt x="14094" y="15873"/>
                    <a:pt x="13481" y="12436"/>
                  </a:cubicBezTo>
                  <a:cubicBezTo>
                    <a:pt x="15166" y="12764"/>
                    <a:pt x="17157" y="13091"/>
                    <a:pt x="18689" y="12436"/>
                  </a:cubicBezTo>
                  <a:cubicBezTo>
                    <a:pt x="20374" y="11782"/>
                    <a:pt x="21600" y="9982"/>
                    <a:pt x="21294" y="8345"/>
                  </a:cubicBezTo>
                  <a:cubicBezTo>
                    <a:pt x="18996" y="8345"/>
                    <a:pt x="17004" y="6218"/>
                    <a:pt x="16698" y="4255"/>
                  </a:cubicBezTo>
                  <a:cubicBezTo>
                    <a:pt x="15166" y="4582"/>
                    <a:pt x="13634" y="4582"/>
                    <a:pt x="12255" y="3927"/>
                  </a:cubicBezTo>
                  <a:cubicBezTo>
                    <a:pt x="11030" y="3109"/>
                    <a:pt x="9651" y="1473"/>
                    <a:pt x="10264" y="0"/>
                  </a:cubicBezTo>
                  <a:cubicBezTo>
                    <a:pt x="9957" y="0"/>
                    <a:pt x="9345" y="1473"/>
                    <a:pt x="9651" y="1473"/>
                  </a:cubicBezTo>
                </a:path>
              </a:pathLst>
            </a:custGeom>
            <a:solidFill>
              <a:srgbClr val="c0c0c0"/>
            </a:solidFill>
            <a:ln w="12700">
              <a:noFill/>
            </a:ln>
          </p:spPr>
          <p:style>
            <a:lnRef idx="0"/>
            <a:fillRef idx="0"/>
            <a:effectRef idx="0"/>
            <a:fontRef idx="minor"/>
          </p:style>
          <p:txBody>
            <a:bodyPr numCol="1" spcCol="0" lIns="45720" rIns="45720" tIns="27720" bIns="27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3" name="Shape 3707"/>
            <p:cNvSpPr/>
            <p:nvPr/>
          </p:nvSpPr>
          <p:spPr>
            <a:xfrm>
              <a:off x="18892440" y="1895760"/>
              <a:ext cx="63000" cy="38160"/>
            </a:xfrm>
            <a:custGeom>
              <a:avLst/>
              <a:gdLst>
                <a:gd name="textAreaLeft" fmla="*/ 0 w 63000"/>
                <a:gd name="textAreaRight" fmla="*/ 63360 w 63000"/>
                <a:gd name="textAreaTop" fmla="*/ 0 h 38160"/>
                <a:gd name="textAreaBottom" fmla="*/ 38520 h 38160"/>
              </a:gdLst>
              <a:ahLst/>
              <a:rect l="textAreaLeft" t="textAreaTop" r="textAreaRight" b="textAreaBottom"/>
              <a:pathLst>
                <a:path w="15934" h="20795">
                  <a:moveTo>
                    <a:pt x="3584" y="20785"/>
                  </a:moveTo>
                  <a:cubicBezTo>
                    <a:pt x="4886" y="20785"/>
                    <a:pt x="6297" y="18907"/>
                    <a:pt x="6731" y="15855"/>
                  </a:cubicBezTo>
                  <a:cubicBezTo>
                    <a:pt x="6948" y="14446"/>
                    <a:pt x="6948" y="13038"/>
                    <a:pt x="7382" y="11864"/>
                  </a:cubicBezTo>
                  <a:cubicBezTo>
                    <a:pt x="7600" y="10455"/>
                    <a:pt x="8359" y="9516"/>
                    <a:pt x="9011" y="9985"/>
                  </a:cubicBezTo>
                  <a:cubicBezTo>
                    <a:pt x="9445" y="9985"/>
                    <a:pt x="9662" y="10925"/>
                    <a:pt x="9879" y="10925"/>
                  </a:cubicBezTo>
                  <a:cubicBezTo>
                    <a:pt x="11507" y="13507"/>
                    <a:pt x="13787" y="9985"/>
                    <a:pt x="15198" y="7168"/>
                  </a:cubicBezTo>
                  <a:cubicBezTo>
                    <a:pt x="15415" y="6464"/>
                    <a:pt x="15632" y="5994"/>
                    <a:pt x="15849" y="5525"/>
                  </a:cubicBezTo>
                  <a:cubicBezTo>
                    <a:pt x="16283" y="3177"/>
                    <a:pt x="14980" y="1533"/>
                    <a:pt x="13787" y="1533"/>
                  </a:cubicBezTo>
                  <a:cubicBezTo>
                    <a:pt x="12701" y="1533"/>
                    <a:pt x="11507" y="2707"/>
                    <a:pt x="10639" y="1533"/>
                  </a:cubicBezTo>
                  <a:cubicBezTo>
                    <a:pt x="10205" y="1064"/>
                    <a:pt x="9879" y="594"/>
                    <a:pt x="9445" y="125"/>
                  </a:cubicBezTo>
                  <a:cubicBezTo>
                    <a:pt x="8794" y="-345"/>
                    <a:pt x="7925" y="594"/>
                    <a:pt x="7165" y="1533"/>
                  </a:cubicBezTo>
                  <a:cubicBezTo>
                    <a:pt x="4886" y="4585"/>
                    <a:pt x="-5317" y="21255"/>
                    <a:pt x="3584" y="20785"/>
                  </a:cubicBezTo>
                </a:path>
              </a:pathLst>
            </a:custGeom>
            <a:solidFill>
              <a:srgbClr val="c0c0c0"/>
            </a:solidFill>
            <a:ln w="12700">
              <a:noFill/>
            </a:ln>
          </p:spPr>
          <p:style>
            <a:lnRef idx="0"/>
            <a:fillRef idx="0"/>
            <a:effectRef idx="0"/>
            <a:fontRef idx="minor"/>
          </p:style>
          <p:txBody>
            <a:bodyPr numCol="1" spcCol="0" lIns="45720" rIns="45720" tIns="19080" bIns="190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4" name="Shape 3708"/>
            <p:cNvSpPr/>
            <p:nvPr/>
          </p:nvSpPr>
          <p:spPr>
            <a:xfrm>
              <a:off x="18876240" y="1868400"/>
              <a:ext cx="36000" cy="22680"/>
            </a:xfrm>
            <a:custGeom>
              <a:avLst/>
              <a:gdLst>
                <a:gd name="textAreaLeft" fmla="*/ 0 w 36000"/>
                <a:gd name="textAreaRight" fmla="*/ 36360 w 36000"/>
                <a:gd name="textAreaTop" fmla="*/ 0 h 22680"/>
                <a:gd name="textAreaBottom" fmla="*/ 23040 h 22680"/>
              </a:gdLst>
              <a:ahLst/>
              <a:rect l="textAreaLeft" t="textAreaTop" r="textAreaRight" b="textAreaBottom"/>
              <a:pathLst>
                <a:path w="20721" h="20357">
                  <a:moveTo>
                    <a:pt x="401" y="6676"/>
                  </a:moveTo>
                  <a:cubicBezTo>
                    <a:pt x="-581" y="9033"/>
                    <a:pt x="401" y="13353"/>
                    <a:pt x="1628" y="14924"/>
                  </a:cubicBezTo>
                  <a:cubicBezTo>
                    <a:pt x="3101" y="17280"/>
                    <a:pt x="5064" y="18065"/>
                    <a:pt x="6783" y="18851"/>
                  </a:cubicBezTo>
                  <a:cubicBezTo>
                    <a:pt x="10219" y="20815"/>
                    <a:pt x="15374" y="21600"/>
                    <a:pt x="17583" y="16495"/>
                  </a:cubicBezTo>
                  <a:cubicBezTo>
                    <a:pt x="18074" y="14924"/>
                    <a:pt x="18074" y="13353"/>
                    <a:pt x="19055" y="12567"/>
                  </a:cubicBezTo>
                  <a:cubicBezTo>
                    <a:pt x="19546" y="11782"/>
                    <a:pt x="20037" y="11782"/>
                    <a:pt x="20528" y="10604"/>
                  </a:cubicBezTo>
                  <a:cubicBezTo>
                    <a:pt x="21019" y="9818"/>
                    <a:pt x="20528" y="8247"/>
                    <a:pt x="19546" y="7462"/>
                  </a:cubicBezTo>
                  <a:cubicBezTo>
                    <a:pt x="15864" y="3535"/>
                    <a:pt x="11446" y="1571"/>
                    <a:pt x="7274" y="2356"/>
                  </a:cubicBezTo>
                  <a:cubicBezTo>
                    <a:pt x="4819" y="3142"/>
                    <a:pt x="1874" y="3927"/>
                    <a:pt x="1137" y="785"/>
                  </a:cubicBezTo>
                  <a:cubicBezTo>
                    <a:pt x="1137" y="2356"/>
                    <a:pt x="401" y="5891"/>
                    <a:pt x="401" y="6676"/>
                  </a:cubicBezTo>
                  <a:close/>
                  <a:moveTo>
                    <a:pt x="1137" y="0"/>
                  </a:moveTo>
                  <a:cubicBezTo>
                    <a:pt x="1137" y="393"/>
                    <a:pt x="1137" y="393"/>
                    <a:pt x="1137" y="785"/>
                  </a:cubicBezTo>
                  <a:cubicBezTo>
                    <a:pt x="1137" y="785"/>
                    <a:pt x="1137" y="393"/>
                    <a:pt x="1137" y="0"/>
                  </a:cubicBezTo>
                  <a:close/>
                </a:path>
              </a:pathLst>
            </a:custGeom>
            <a:solidFill>
              <a:srgbClr val="c0c0c0"/>
            </a:solidFill>
            <a:ln w="12700">
              <a:noFill/>
            </a:ln>
          </p:spPr>
          <p:style>
            <a:lnRef idx="0"/>
            <a:fillRef idx="0"/>
            <a:effectRef idx="0"/>
            <a:fontRef idx="minor"/>
          </p:style>
          <p:txBody>
            <a:bodyPr numCol="1" spcCol="0" lIns="45720" rIns="45720" tIns="11520" bIns="11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5" name="Shape 3709"/>
            <p:cNvSpPr/>
            <p:nvPr/>
          </p:nvSpPr>
          <p:spPr>
            <a:xfrm>
              <a:off x="18928440" y="1779840"/>
              <a:ext cx="34920" cy="32040"/>
            </a:xfrm>
            <a:custGeom>
              <a:avLst/>
              <a:gdLst>
                <a:gd name="textAreaLeft" fmla="*/ 0 w 34920"/>
                <a:gd name="textAreaRight" fmla="*/ 35280 w 34920"/>
                <a:gd name="textAreaTop" fmla="*/ 0 h 32040"/>
                <a:gd name="textAreaBottom" fmla="*/ 32400 h 32040"/>
              </a:gdLst>
              <a:ahLst/>
              <a:rect l="textAreaLeft" t="textAreaTop" r="textAreaRight" b="textAreaBottom"/>
              <a:pathLst>
                <a:path w="20106" h="21600">
                  <a:moveTo>
                    <a:pt x="260" y="8352"/>
                  </a:moveTo>
                  <a:cubicBezTo>
                    <a:pt x="-745" y="12672"/>
                    <a:pt x="1264" y="16704"/>
                    <a:pt x="4529" y="19296"/>
                  </a:cubicBezTo>
                  <a:cubicBezTo>
                    <a:pt x="7543" y="21024"/>
                    <a:pt x="11813" y="21600"/>
                    <a:pt x="15581" y="21600"/>
                  </a:cubicBezTo>
                  <a:cubicBezTo>
                    <a:pt x="16083" y="21600"/>
                    <a:pt x="17088" y="21600"/>
                    <a:pt x="17590" y="21600"/>
                  </a:cubicBezTo>
                  <a:cubicBezTo>
                    <a:pt x="20855" y="20448"/>
                    <a:pt x="20855" y="14400"/>
                    <a:pt x="18092" y="12096"/>
                  </a:cubicBezTo>
                  <a:cubicBezTo>
                    <a:pt x="15581" y="9504"/>
                    <a:pt x="12064" y="8928"/>
                    <a:pt x="8799" y="7776"/>
                  </a:cubicBezTo>
                  <a:cubicBezTo>
                    <a:pt x="5785" y="6624"/>
                    <a:pt x="1767" y="4032"/>
                    <a:pt x="1767" y="0"/>
                  </a:cubicBezTo>
                  <a:lnTo>
                    <a:pt x="260" y="8352"/>
                  </a:lnTo>
                </a:path>
              </a:pathLst>
            </a:custGeom>
            <a:solidFill>
              <a:srgbClr val="c0c0c0"/>
            </a:solidFill>
            <a:ln w="12700">
              <a:noFill/>
            </a:ln>
          </p:spPr>
          <p:style>
            <a:lnRef idx="0"/>
            <a:fillRef idx="0"/>
            <a:effectRef idx="0"/>
            <a:fontRef idx="minor"/>
          </p:style>
          <p:txBody>
            <a:bodyPr numCol="1" spcCol="0" lIns="45720" rIns="45720" tIns="16200" bIns="162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6" name="Shape 3710"/>
            <p:cNvSpPr/>
            <p:nvPr/>
          </p:nvSpPr>
          <p:spPr>
            <a:xfrm>
              <a:off x="18945000" y="1729800"/>
              <a:ext cx="26640" cy="27360"/>
            </a:xfrm>
            <a:custGeom>
              <a:avLst/>
              <a:gdLst>
                <a:gd name="textAreaLeft" fmla="*/ 0 w 26640"/>
                <a:gd name="textAreaRight" fmla="*/ 27000 w 26640"/>
                <a:gd name="textAreaTop" fmla="*/ 0 h 27360"/>
                <a:gd name="textAreaBottom" fmla="*/ 27720 h 27360"/>
              </a:gdLst>
              <a:ahLst/>
              <a:rect l="textAreaLeft" t="textAreaTop" r="textAreaRight" b="textAreaBottom"/>
              <a:pathLst>
                <a:path w="20550" h="21086">
                  <a:moveTo>
                    <a:pt x="20447" y="8914"/>
                  </a:moveTo>
                  <a:cubicBezTo>
                    <a:pt x="21112" y="13029"/>
                    <a:pt x="18454" y="17486"/>
                    <a:pt x="14798" y="19543"/>
                  </a:cubicBezTo>
                  <a:cubicBezTo>
                    <a:pt x="11475" y="21600"/>
                    <a:pt x="6490" y="21600"/>
                    <a:pt x="2835" y="19543"/>
                  </a:cubicBezTo>
                  <a:cubicBezTo>
                    <a:pt x="1506" y="18857"/>
                    <a:pt x="177" y="17486"/>
                    <a:pt x="177" y="15771"/>
                  </a:cubicBezTo>
                  <a:cubicBezTo>
                    <a:pt x="-488" y="13714"/>
                    <a:pt x="841" y="11657"/>
                    <a:pt x="2170" y="9600"/>
                  </a:cubicBezTo>
                  <a:cubicBezTo>
                    <a:pt x="4829" y="5829"/>
                    <a:pt x="7820" y="3086"/>
                    <a:pt x="10478" y="0"/>
                  </a:cubicBezTo>
                  <a:cubicBezTo>
                    <a:pt x="10478" y="2057"/>
                    <a:pt x="10478" y="4114"/>
                    <a:pt x="10146" y="5829"/>
                  </a:cubicBezTo>
                  <a:cubicBezTo>
                    <a:pt x="13469" y="5829"/>
                    <a:pt x="17124" y="6857"/>
                    <a:pt x="20447" y="8914"/>
                  </a:cubicBezTo>
                </a:path>
              </a:pathLst>
            </a:custGeom>
            <a:solidFill>
              <a:srgbClr val="c0c0c0"/>
            </a:solidFill>
            <a:ln w="12700">
              <a:noFill/>
            </a:ln>
          </p:spPr>
          <p:style>
            <a:lnRef idx="0"/>
            <a:fillRef idx="0"/>
            <a:effectRef idx="0"/>
            <a:fontRef idx="minor"/>
          </p:style>
          <p:txBody>
            <a:bodyPr numCol="1" spcCol="0" lIns="45720" rIns="45720" tIns="13680" bIns="136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7" name="Shape 3711"/>
            <p:cNvSpPr/>
            <p:nvPr/>
          </p:nvSpPr>
          <p:spPr>
            <a:xfrm>
              <a:off x="18921600" y="1776600"/>
              <a:ext cx="15120" cy="15120"/>
            </a:xfrm>
            <a:custGeom>
              <a:avLst/>
              <a:gdLst>
                <a:gd name="textAreaLeft" fmla="*/ 0 w 15120"/>
                <a:gd name="textAreaRight" fmla="*/ 15480 w 15120"/>
                <a:gd name="textAreaTop" fmla="*/ 0 h 15120"/>
                <a:gd name="textAreaBottom" fmla="*/ 15480 h 15120"/>
              </a:gdLst>
              <a:ahLst/>
              <a:rect l="textAreaLeft" t="textAreaTop" r="textAreaRight" b="textAreaBottom"/>
              <a:pathLst>
                <a:path w="18138" h="19713">
                  <a:moveTo>
                    <a:pt x="18138" y="513"/>
                  </a:moveTo>
                  <a:cubicBezTo>
                    <a:pt x="9498" y="-1887"/>
                    <a:pt x="-3462" y="4713"/>
                    <a:pt x="858" y="8313"/>
                  </a:cubicBezTo>
                  <a:cubicBezTo>
                    <a:pt x="5178" y="11913"/>
                    <a:pt x="13818" y="16113"/>
                    <a:pt x="5178" y="19713"/>
                  </a:cubicBezTo>
                  <a:lnTo>
                    <a:pt x="18138" y="513"/>
                  </a:lnTo>
                </a:path>
              </a:pathLst>
            </a:custGeom>
            <a:solidFill>
              <a:srgbClr val="c0c0c0"/>
            </a:solidFill>
            <a:ln w="12700">
              <a:noFill/>
            </a:ln>
          </p:spPr>
          <p:style>
            <a:lnRef idx="0"/>
            <a:fillRef idx="0"/>
            <a:effectRef idx="0"/>
            <a:fontRef idx="minor"/>
          </p:style>
          <p:txBody>
            <a:bodyPr numCol="1" spcCol="0" lIns="45720" rIns="45720" tIns="7560" bIns="756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6358" name="Shape 3712"/>
            <p:cNvSpPr/>
            <p:nvPr/>
          </p:nvSpPr>
          <p:spPr>
            <a:xfrm>
              <a:off x="17277120" y="2937600"/>
              <a:ext cx="1865520" cy="1604880"/>
            </a:xfrm>
            <a:custGeom>
              <a:avLst/>
              <a:gdLst>
                <a:gd name="textAreaLeft" fmla="*/ 0 w 1865520"/>
                <a:gd name="textAreaRight" fmla="*/ 1865880 w 1865520"/>
                <a:gd name="textAreaTop" fmla="*/ 0 h 1604880"/>
                <a:gd name="textAreaBottom" fmla="*/ 1605240 h 1604880"/>
              </a:gdLst>
              <a:ahLst/>
              <a:rect l="textAreaLeft" t="textAreaTop" r="textAreaRight" b="textAreaBottom"/>
              <a:pathLst>
                <a:path w="21576" h="21582">
                  <a:moveTo>
                    <a:pt x="16044" y="19102"/>
                  </a:moveTo>
                  <a:cubicBezTo>
                    <a:pt x="16140" y="19196"/>
                    <a:pt x="16306" y="19295"/>
                    <a:pt x="16382" y="19172"/>
                  </a:cubicBezTo>
                  <a:cubicBezTo>
                    <a:pt x="16412" y="19126"/>
                    <a:pt x="16412" y="19061"/>
                    <a:pt x="16412" y="19003"/>
                  </a:cubicBezTo>
                  <a:cubicBezTo>
                    <a:pt x="16402" y="18780"/>
                    <a:pt x="16372" y="18557"/>
                    <a:pt x="16306" y="18352"/>
                  </a:cubicBezTo>
                  <a:cubicBezTo>
                    <a:pt x="16266" y="18212"/>
                    <a:pt x="16210" y="18083"/>
                    <a:pt x="16200" y="17936"/>
                  </a:cubicBezTo>
                  <a:cubicBezTo>
                    <a:pt x="16170" y="17643"/>
                    <a:pt x="16351" y="17333"/>
                    <a:pt x="16603" y="17251"/>
                  </a:cubicBezTo>
                  <a:cubicBezTo>
                    <a:pt x="16558" y="16970"/>
                    <a:pt x="16306" y="16794"/>
                    <a:pt x="16150" y="16560"/>
                  </a:cubicBezTo>
                  <a:cubicBezTo>
                    <a:pt x="15832" y="16079"/>
                    <a:pt x="16009" y="15329"/>
                    <a:pt x="16422" y="14966"/>
                  </a:cubicBezTo>
                  <a:cubicBezTo>
                    <a:pt x="16477" y="14913"/>
                    <a:pt x="16528" y="14878"/>
                    <a:pt x="16583" y="14843"/>
                  </a:cubicBezTo>
                  <a:cubicBezTo>
                    <a:pt x="16634" y="14790"/>
                    <a:pt x="16699" y="14755"/>
                    <a:pt x="16750" y="14708"/>
                  </a:cubicBezTo>
                  <a:cubicBezTo>
                    <a:pt x="16846" y="14632"/>
                    <a:pt x="16931" y="14556"/>
                    <a:pt x="17037" y="14521"/>
                  </a:cubicBezTo>
                  <a:cubicBezTo>
                    <a:pt x="17249" y="14433"/>
                    <a:pt x="17481" y="14462"/>
                    <a:pt x="17703" y="14497"/>
                  </a:cubicBezTo>
                  <a:cubicBezTo>
                    <a:pt x="18444" y="14609"/>
                    <a:pt x="19185" y="14720"/>
                    <a:pt x="19926" y="14814"/>
                  </a:cubicBezTo>
                  <a:cubicBezTo>
                    <a:pt x="20103" y="14656"/>
                    <a:pt x="20093" y="14339"/>
                    <a:pt x="19997" y="14093"/>
                  </a:cubicBezTo>
                  <a:cubicBezTo>
                    <a:pt x="19901" y="13859"/>
                    <a:pt x="19745" y="13660"/>
                    <a:pt x="19629" y="13437"/>
                  </a:cubicBezTo>
                  <a:cubicBezTo>
                    <a:pt x="19467" y="13109"/>
                    <a:pt x="19417" y="12728"/>
                    <a:pt x="19361" y="12359"/>
                  </a:cubicBezTo>
                  <a:cubicBezTo>
                    <a:pt x="19341" y="12183"/>
                    <a:pt x="19321" y="12025"/>
                    <a:pt x="19301" y="11855"/>
                  </a:cubicBezTo>
                  <a:cubicBezTo>
                    <a:pt x="19246" y="11398"/>
                    <a:pt x="19185" y="10918"/>
                    <a:pt x="19311" y="10479"/>
                  </a:cubicBezTo>
                  <a:cubicBezTo>
                    <a:pt x="19351" y="10320"/>
                    <a:pt x="19417" y="10186"/>
                    <a:pt x="19447" y="10022"/>
                  </a:cubicBezTo>
                  <a:cubicBezTo>
                    <a:pt x="19553" y="9582"/>
                    <a:pt x="19427" y="9102"/>
                    <a:pt x="19493" y="8645"/>
                  </a:cubicBezTo>
                  <a:cubicBezTo>
                    <a:pt x="19533" y="8375"/>
                    <a:pt x="19629" y="8106"/>
                    <a:pt x="19563" y="7848"/>
                  </a:cubicBezTo>
                  <a:cubicBezTo>
                    <a:pt x="19533" y="7737"/>
                    <a:pt x="19477" y="7626"/>
                    <a:pt x="19503" y="7526"/>
                  </a:cubicBezTo>
                  <a:cubicBezTo>
                    <a:pt x="19523" y="7444"/>
                    <a:pt x="19573" y="7379"/>
                    <a:pt x="19619" y="7309"/>
                  </a:cubicBezTo>
                  <a:cubicBezTo>
                    <a:pt x="19669" y="7198"/>
                    <a:pt x="19649" y="7063"/>
                    <a:pt x="19629" y="6940"/>
                  </a:cubicBezTo>
                  <a:cubicBezTo>
                    <a:pt x="19573" y="6606"/>
                    <a:pt x="19533" y="6272"/>
                    <a:pt x="19477" y="5932"/>
                  </a:cubicBezTo>
                  <a:cubicBezTo>
                    <a:pt x="19467" y="5833"/>
                    <a:pt x="19447" y="5722"/>
                    <a:pt x="19493" y="5622"/>
                  </a:cubicBezTo>
                  <a:cubicBezTo>
                    <a:pt x="19563" y="5452"/>
                    <a:pt x="19770" y="5417"/>
                    <a:pt x="19936" y="5440"/>
                  </a:cubicBezTo>
                  <a:cubicBezTo>
                    <a:pt x="20108" y="5464"/>
                    <a:pt x="20274" y="5522"/>
                    <a:pt x="20430" y="5440"/>
                  </a:cubicBezTo>
                  <a:cubicBezTo>
                    <a:pt x="20420" y="5364"/>
                    <a:pt x="20410" y="5276"/>
                    <a:pt x="20390" y="5206"/>
                  </a:cubicBezTo>
                  <a:cubicBezTo>
                    <a:pt x="20486" y="5229"/>
                    <a:pt x="20592" y="5183"/>
                    <a:pt x="20652" y="5095"/>
                  </a:cubicBezTo>
                  <a:lnTo>
                    <a:pt x="20622" y="4321"/>
                  </a:lnTo>
                  <a:cubicBezTo>
                    <a:pt x="20874" y="4146"/>
                    <a:pt x="21121" y="3952"/>
                    <a:pt x="21333" y="3718"/>
                  </a:cubicBezTo>
                  <a:cubicBezTo>
                    <a:pt x="21459" y="3583"/>
                    <a:pt x="21585" y="3413"/>
                    <a:pt x="21575" y="3214"/>
                  </a:cubicBezTo>
                  <a:cubicBezTo>
                    <a:pt x="21575" y="3044"/>
                    <a:pt x="21469" y="2880"/>
                    <a:pt x="21383" y="2734"/>
                  </a:cubicBezTo>
                  <a:cubicBezTo>
                    <a:pt x="21192" y="2394"/>
                    <a:pt x="21086" y="1984"/>
                    <a:pt x="21086" y="1568"/>
                  </a:cubicBezTo>
                  <a:cubicBezTo>
                    <a:pt x="21046" y="1533"/>
                    <a:pt x="20990" y="1492"/>
                    <a:pt x="20950" y="1468"/>
                  </a:cubicBezTo>
                  <a:cubicBezTo>
                    <a:pt x="20919" y="1480"/>
                    <a:pt x="20884" y="1492"/>
                    <a:pt x="20844" y="1503"/>
                  </a:cubicBezTo>
                  <a:cubicBezTo>
                    <a:pt x="20854" y="1480"/>
                    <a:pt x="20854" y="1468"/>
                    <a:pt x="20864" y="1445"/>
                  </a:cubicBezTo>
                  <a:cubicBezTo>
                    <a:pt x="20793" y="1445"/>
                    <a:pt x="20718" y="1421"/>
                    <a:pt x="20652" y="1398"/>
                  </a:cubicBezTo>
                  <a:cubicBezTo>
                    <a:pt x="20602" y="1421"/>
                    <a:pt x="20546" y="1410"/>
                    <a:pt x="20506" y="1357"/>
                  </a:cubicBezTo>
                  <a:cubicBezTo>
                    <a:pt x="20486" y="1380"/>
                    <a:pt x="20451" y="1421"/>
                    <a:pt x="20420" y="1433"/>
                  </a:cubicBezTo>
                  <a:cubicBezTo>
                    <a:pt x="20390" y="1445"/>
                    <a:pt x="20350" y="1445"/>
                    <a:pt x="20324" y="1410"/>
                  </a:cubicBezTo>
                  <a:cubicBezTo>
                    <a:pt x="20314" y="1380"/>
                    <a:pt x="20304" y="1357"/>
                    <a:pt x="20294" y="1345"/>
                  </a:cubicBezTo>
                  <a:cubicBezTo>
                    <a:pt x="20274" y="1334"/>
                    <a:pt x="20244" y="1334"/>
                    <a:pt x="20219" y="1345"/>
                  </a:cubicBezTo>
                  <a:cubicBezTo>
                    <a:pt x="20188" y="1345"/>
                    <a:pt x="20158" y="1322"/>
                    <a:pt x="20168" y="1298"/>
                  </a:cubicBezTo>
                  <a:cubicBezTo>
                    <a:pt x="20219" y="1175"/>
                    <a:pt x="20082" y="1029"/>
                    <a:pt x="19997" y="918"/>
                  </a:cubicBezTo>
                  <a:cubicBezTo>
                    <a:pt x="19977" y="894"/>
                    <a:pt x="19956" y="853"/>
                    <a:pt x="19926" y="841"/>
                  </a:cubicBezTo>
                  <a:cubicBezTo>
                    <a:pt x="19916" y="841"/>
                    <a:pt x="19901" y="830"/>
                    <a:pt x="19891" y="818"/>
                  </a:cubicBezTo>
                  <a:cubicBezTo>
                    <a:pt x="19881" y="806"/>
                    <a:pt x="19871" y="795"/>
                    <a:pt x="19861" y="771"/>
                  </a:cubicBezTo>
                  <a:cubicBezTo>
                    <a:pt x="19840" y="718"/>
                    <a:pt x="19810" y="683"/>
                    <a:pt x="19765" y="660"/>
                  </a:cubicBezTo>
                  <a:cubicBezTo>
                    <a:pt x="19745" y="648"/>
                    <a:pt x="19724" y="636"/>
                    <a:pt x="19689" y="648"/>
                  </a:cubicBezTo>
                  <a:cubicBezTo>
                    <a:pt x="19674" y="654"/>
                    <a:pt x="19664" y="683"/>
                    <a:pt x="19674" y="707"/>
                  </a:cubicBezTo>
                  <a:cubicBezTo>
                    <a:pt x="19669" y="707"/>
                    <a:pt x="19664" y="707"/>
                    <a:pt x="19659" y="707"/>
                  </a:cubicBezTo>
                  <a:cubicBezTo>
                    <a:pt x="19609" y="730"/>
                    <a:pt x="19659" y="824"/>
                    <a:pt x="19619" y="877"/>
                  </a:cubicBezTo>
                  <a:cubicBezTo>
                    <a:pt x="19609" y="888"/>
                    <a:pt x="19573" y="906"/>
                    <a:pt x="19573" y="929"/>
                  </a:cubicBezTo>
                  <a:cubicBezTo>
                    <a:pt x="19573" y="941"/>
                    <a:pt x="19573" y="941"/>
                    <a:pt x="19583" y="953"/>
                  </a:cubicBezTo>
                  <a:lnTo>
                    <a:pt x="19679" y="1140"/>
                  </a:lnTo>
                  <a:cubicBezTo>
                    <a:pt x="19689" y="1152"/>
                    <a:pt x="19704" y="1175"/>
                    <a:pt x="19714" y="1187"/>
                  </a:cubicBezTo>
                  <a:cubicBezTo>
                    <a:pt x="19735" y="1199"/>
                    <a:pt x="19755" y="1199"/>
                    <a:pt x="19765" y="1211"/>
                  </a:cubicBezTo>
                  <a:cubicBezTo>
                    <a:pt x="19795" y="1234"/>
                    <a:pt x="19810" y="1298"/>
                    <a:pt x="19820" y="1334"/>
                  </a:cubicBezTo>
                  <a:cubicBezTo>
                    <a:pt x="19840" y="1380"/>
                    <a:pt x="19901" y="1410"/>
                    <a:pt x="19946" y="1398"/>
                  </a:cubicBezTo>
                  <a:cubicBezTo>
                    <a:pt x="19987" y="1457"/>
                    <a:pt x="20032" y="1521"/>
                    <a:pt x="20062" y="1591"/>
                  </a:cubicBezTo>
                  <a:cubicBezTo>
                    <a:pt x="20072" y="1603"/>
                    <a:pt x="20072" y="1627"/>
                    <a:pt x="20072" y="1644"/>
                  </a:cubicBezTo>
                  <a:cubicBezTo>
                    <a:pt x="20072" y="1679"/>
                    <a:pt x="20052" y="1703"/>
                    <a:pt x="20052" y="1726"/>
                  </a:cubicBezTo>
                  <a:cubicBezTo>
                    <a:pt x="20052" y="1779"/>
                    <a:pt x="20103" y="1814"/>
                    <a:pt x="20093" y="1849"/>
                  </a:cubicBezTo>
                  <a:cubicBezTo>
                    <a:pt x="20123" y="1873"/>
                    <a:pt x="20168" y="1902"/>
                    <a:pt x="20198" y="1925"/>
                  </a:cubicBezTo>
                  <a:cubicBezTo>
                    <a:pt x="20219" y="1960"/>
                    <a:pt x="20198" y="2007"/>
                    <a:pt x="20168" y="2037"/>
                  </a:cubicBezTo>
                  <a:cubicBezTo>
                    <a:pt x="20178" y="2095"/>
                    <a:pt x="20158" y="2171"/>
                    <a:pt x="20103" y="2206"/>
                  </a:cubicBezTo>
                  <a:cubicBezTo>
                    <a:pt x="20123" y="2206"/>
                    <a:pt x="20138" y="2230"/>
                    <a:pt x="20138" y="2242"/>
                  </a:cubicBezTo>
                  <a:cubicBezTo>
                    <a:pt x="20138" y="2271"/>
                    <a:pt x="20113" y="2283"/>
                    <a:pt x="20103" y="2294"/>
                  </a:cubicBezTo>
                  <a:cubicBezTo>
                    <a:pt x="20062" y="2330"/>
                    <a:pt x="20017" y="2353"/>
                    <a:pt x="19977" y="2330"/>
                  </a:cubicBezTo>
                  <a:cubicBezTo>
                    <a:pt x="19901" y="2294"/>
                    <a:pt x="19916" y="2130"/>
                    <a:pt x="19830" y="2095"/>
                  </a:cubicBezTo>
                  <a:cubicBezTo>
                    <a:pt x="19795" y="2119"/>
                    <a:pt x="19755" y="2119"/>
                    <a:pt x="19724" y="2083"/>
                  </a:cubicBezTo>
                  <a:cubicBezTo>
                    <a:pt x="19704" y="2119"/>
                    <a:pt x="19679" y="2160"/>
                    <a:pt x="19649" y="2171"/>
                  </a:cubicBezTo>
                  <a:cubicBezTo>
                    <a:pt x="19619" y="2195"/>
                    <a:pt x="19573" y="2195"/>
                    <a:pt x="19553" y="2171"/>
                  </a:cubicBezTo>
                  <a:cubicBezTo>
                    <a:pt x="19553" y="2230"/>
                    <a:pt x="19493" y="2253"/>
                    <a:pt x="19437" y="2283"/>
                  </a:cubicBezTo>
                  <a:cubicBezTo>
                    <a:pt x="19407" y="2294"/>
                    <a:pt x="19377" y="2306"/>
                    <a:pt x="19361" y="2341"/>
                  </a:cubicBezTo>
                  <a:cubicBezTo>
                    <a:pt x="19341" y="2283"/>
                    <a:pt x="19246" y="2283"/>
                    <a:pt x="19225" y="2353"/>
                  </a:cubicBezTo>
                  <a:cubicBezTo>
                    <a:pt x="19165" y="2253"/>
                    <a:pt x="19059" y="2195"/>
                    <a:pt x="18953" y="2183"/>
                  </a:cubicBezTo>
                  <a:cubicBezTo>
                    <a:pt x="18918" y="2107"/>
                    <a:pt x="18837" y="2060"/>
                    <a:pt x="18761" y="2072"/>
                  </a:cubicBezTo>
                  <a:cubicBezTo>
                    <a:pt x="18761" y="2119"/>
                    <a:pt x="18716" y="2160"/>
                    <a:pt x="18676" y="2148"/>
                  </a:cubicBezTo>
                  <a:cubicBezTo>
                    <a:pt x="18635" y="2148"/>
                    <a:pt x="18600" y="2107"/>
                    <a:pt x="18570" y="2072"/>
                  </a:cubicBezTo>
                  <a:cubicBezTo>
                    <a:pt x="18540" y="2107"/>
                    <a:pt x="18484" y="2095"/>
                    <a:pt x="18464" y="2072"/>
                  </a:cubicBezTo>
                  <a:cubicBezTo>
                    <a:pt x="18454" y="2083"/>
                    <a:pt x="18454" y="2107"/>
                    <a:pt x="18444" y="2119"/>
                  </a:cubicBezTo>
                  <a:cubicBezTo>
                    <a:pt x="18368" y="2107"/>
                    <a:pt x="18308" y="2095"/>
                    <a:pt x="18232" y="2095"/>
                  </a:cubicBezTo>
                  <a:cubicBezTo>
                    <a:pt x="18202" y="2095"/>
                    <a:pt x="18156" y="2095"/>
                    <a:pt x="18136" y="2130"/>
                  </a:cubicBezTo>
                  <a:cubicBezTo>
                    <a:pt x="18167" y="2130"/>
                    <a:pt x="18192" y="2148"/>
                    <a:pt x="18222" y="2148"/>
                  </a:cubicBezTo>
                  <a:cubicBezTo>
                    <a:pt x="18232" y="2183"/>
                    <a:pt x="18192" y="2195"/>
                    <a:pt x="18167" y="2195"/>
                  </a:cubicBezTo>
                  <a:cubicBezTo>
                    <a:pt x="18136" y="2195"/>
                    <a:pt x="18106" y="2183"/>
                    <a:pt x="18086" y="2206"/>
                  </a:cubicBezTo>
                  <a:cubicBezTo>
                    <a:pt x="18071" y="2218"/>
                    <a:pt x="18071" y="2230"/>
                    <a:pt x="18061" y="2242"/>
                  </a:cubicBezTo>
                  <a:cubicBezTo>
                    <a:pt x="18030" y="2306"/>
                    <a:pt x="17955" y="2283"/>
                    <a:pt x="17904" y="2271"/>
                  </a:cubicBezTo>
                  <a:cubicBezTo>
                    <a:pt x="17864" y="2294"/>
                    <a:pt x="17819" y="2365"/>
                    <a:pt x="17849" y="2406"/>
                  </a:cubicBezTo>
                  <a:cubicBezTo>
                    <a:pt x="17798" y="2417"/>
                    <a:pt x="17743" y="2464"/>
                    <a:pt x="17733" y="2529"/>
                  </a:cubicBezTo>
                  <a:cubicBezTo>
                    <a:pt x="17723" y="2488"/>
                    <a:pt x="17682" y="2499"/>
                    <a:pt x="17652" y="2511"/>
                  </a:cubicBezTo>
                  <a:cubicBezTo>
                    <a:pt x="17617" y="2529"/>
                    <a:pt x="17597" y="2552"/>
                    <a:pt x="17567" y="2564"/>
                  </a:cubicBezTo>
                  <a:cubicBezTo>
                    <a:pt x="17531" y="2564"/>
                    <a:pt x="17511" y="2552"/>
                    <a:pt x="17481" y="2552"/>
                  </a:cubicBezTo>
                  <a:cubicBezTo>
                    <a:pt x="17451" y="2552"/>
                    <a:pt x="17430" y="2587"/>
                    <a:pt x="17440" y="2611"/>
                  </a:cubicBezTo>
                  <a:cubicBezTo>
                    <a:pt x="17395" y="2587"/>
                    <a:pt x="17335" y="2634"/>
                    <a:pt x="17335" y="2687"/>
                  </a:cubicBezTo>
                  <a:cubicBezTo>
                    <a:pt x="17299" y="2675"/>
                    <a:pt x="17269" y="2663"/>
                    <a:pt x="17249" y="2699"/>
                  </a:cubicBezTo>
                  <a:cubicBezTo>
                    <a:pt x="17239" y="2710"/>
                    <a:pt x="17239" y="2722"/>
                    <a:pt x="17249" y="2745"/>
                  </a:cubicBezTo>
                  <a:cubicBezTo>
                    <a:pt x="17249" y="2786"/>
                    <a:pt x="17249" y="2822"/>
                    <a:pt x="17259" y="2857"/>
                  </a:cubicBezTo>
                  <a:cubicBezTo>
                    <a:pt x="17183" y="2845"/>
                    <a:pt x="17123" y="2898"/>
                    <a:pt x="17067" y="2945"/>
                  </a:cubicBezTo>
                  <a:cubicBezTo>
                    <a:pt x="17052" y="2962"/>
                    <a:pt x="17027" y="2992"/>
                    <a:pt x="17037" y="3015"/>
                  </a:cubicBezTo>
                  <a:cubicBezTo>
                    <a:pt x="17007" y="2992"/>
                    <a:pt x="16951" y="3027"/>
                    <a:pt x="16931" y="3068"/>
                  </a:cubicBezTo>
                  <a:cubicBezTo>
                    <a:pt x="16901" y="3115"/>
                    <a:pt x="16846" y="3167"/>
                    <a:pt x="16815" y="3126"/>
                  </a:cubicBezTo>
                  <a:cubicBezTo>
                    <a:pt x="16770" y="3191"/>
                    <a:pt x="16740" y="3249"/>
                    <a:pt x="16719" y="3325"/>
                  </a:cubicBezTo>
                  <a:cubicBezTo>
                    <a:pt x="16644" y="3302"/>
                    <a:pt x="16573" y="3302"/>
                    <a:pt x="16508" y="3349"/>
                  </a:cubicBezTo>
                  <a:cubicBezTo>
                    <a:pt x="16488" y="3361"/>
                    <a:pt x="16477" y="3384"/>
                    <a:pt x="16477" y="3413"/>
                  </a:cubicBezTo>
                  <a:cubicBezTo>
                    <a:pt x="16488" y="3437"/>
                    <a:pt x="16518" y="3448"/>
                    <a:pt x="16518" y="3472"/>
                  </a:cubicBezTo>
                  <a:cubicBezTo>
                    <a:pt x="16518" y="3507"/>
                    <a:pt x="16493" y="3525"/>
                    <a:pt x="16467" y="3548"/>
                  </a:cubicBezTo>
                  <a:cubicBezTo>
                    <a:pt x="16427" y="3595"/>
                    <a:pt x="16442" y="3683"/>
                    <a:pt x="16467" y="3753"/>
                  </a:cubicBezTo>
                  <a:cubicBezTo>
                    <a:pt x="16488" y="3818"/>
                    <a:pt x="16498" y="3888"/>
                    <a:pt x="16488" y="3952"/>
                  </a:cubicBezTo>
                  <a:cubicBezTo>
                    <a:pt x="16488" y="3987"/>
                    <a:pt x="16493" y="4028"/>
                    <a:pt x="16467" y="4052"/>
                  </a:cubicBezTo>
                  <a:cubicBezTo>
                    <a:pt x="16447" y="4075"/>
                    <a:pt x="16402" y="4075"/>
                    <a:pt x="16392" y="4040"/>
                  </a:cubicBezTo>
                  <a:cubicBezTo>
                    <a:pt x="16306" y="4110"/>
                    <a:pt x="16200" y="4122"/>
                    <a:pt x="16094" y="4087"/>
                  </a:cubicBezTo>
                  <a:cubicBezTo>
                    <a:pt x="16064" y="4075"/>
                    <a:pt x="16034" y="4052"/>
                    <a:pt x="16009" y="4011"/>
                  </a:cubicBezTo>
                  <a:cubicBezTo>
                    <a:pt x="15998" y="3987"/>
                    <a:pt x="15998" y="3976"/>
                    <a:pt x="15988" y="3952"/>
                  </a:cubicBezTo>
                  <a:cubicBezTo>
                    <a:pt x="15968" y="3905"/>
                    <a:pt x="15903" y="3888"/>
                    <a:pt x="15893" y="3841"/>
                  </a:cubicBezTo>
                  <a:lnTo>
                    <a:pt x="15893" y="3782"/>
                  </a:lnTo>
                  <a:cubicBezTo>
                    <a:pt x="15882" y="3741"/>
                    <a:pt x="15842" y="3730"/>
                    <a:pt x="15812" y="3706"/>
                  </a:cubicBezTo>
                  <a:cubicBezTo>
                    <a:pt x="15756" y="3671"/>
                    <a:pt x="15746" y="3595"/>
                    <a:pt x="15756" y="3525"/>
                  </a:cubicBezTo>
                  <a:cubicBezTo>
                    <a:pt x="15767" y="3460"/>
                    <a:pt x="15797" y="3402"/>
                    <a:pt x="15832" y="3337"/>
                  </a:cubicBezTo>
                  <a:lnTo>
                    <a:pt x="15862" y="3302"/>
                  </a:lnTo>
                  <a:cubicBezTo>
                    <a:pt x="15872" y="3290"/>
                    <a:pt x="15893" y="3290"/>
                    <a:pt x="15903" y="3302"/>
                  </a:cubicBezTo>
                  <a:cubicBezTo>
                    <a:pt x="15968" y="3302"/>
                    <a:pt x="16044" y="3314"/>
                    <a:pt x="16104" y="3337"/>
                  </a:cubicBezTo>
                  <a:cubicBezTo>
                    <a:pt x="16140" y="3349"/>
                    <a:pt x="16180" y="3349"/>
                    <a:pt x="16190" y="3314"/>
                  </a:cubicBezTo>
                  <a:cubicBezTo>
                    <a:pt x="16200" y="3261"/>
                    <a:pt x="16124" y="3238"/>
                    <a:pt x="16114" y="3191"/>
                  </a:cubicBezTo>
                  <a:cubicBezTo>
                    <a:pt x="16104" y="3138"/>
                    <a:pt x="16170" y="3091"/>
                    <a:pt x="16170" y="3044"/>
                  </a:cubicBezTo>
                  <a:cubicBezTo>
                    <a:pt x="16170" y="2980"/>
                    <a:pt x="16104" y="2968"/>
                    <a:pt x="16074" y="2933"/>
                  </a:cubicBezTo>
                  <a:cubicBezTo>
                    <a:pt x="16034" y="2880"/>
                    <a:pt x="16024" y="2804"/>
                    <a:pt x="15998" y="2734"/>
                  </a:cubicBezTo>
                  <a:cubicBezTo>
                    <a:pt x="15978" y="2658"/>
                    <a:pt x="15928" y="2587"/>
                    <a:pt x="15862" y="2611"/>
                  </a:cubicBezTo>
                  <a:cubicBezTo>
                    <a:pt x="15872" y="2576"/>
                    <a:pt x="15857" y="2523"/>
                    <a:pt x="15822" y="2499"/>
                  </a:cubicBezTo>
                  <a:cubicBezTo>
                    <a:pt x="15792" y="2470"/>
                    <a:pt x="15756" y="2464"/>
                    <a:pt x="15716" y="2453"/>
                  </a:cubicBezTo>
                  <a:cubicBezTo>
                    <a:pt x="15640" y="2429"/>
                    <a:pt x="15555" y="2417"/>
                    <a:pt x="15494" y="2453"/>
                  </a:cubicBezTo>
                  <a:cubicBezTo>
                    <a:pt x="15459" y="2394"/>
                    <a:pt x="15398" y="2353"/>
                    <a:pt x="15333" y="2365"/>
                  </a:cubicBezTo>
                  <a:cubicBezTo>
                    <a:pt x="15272" y="2376"/>
                    <a:pt x="15217" y="2429"/>
                    <a:pt x="15197" y="2499"/>
                  </a:cubicBezTo>
                  <a:cubicBezTo>
                    <a:pt x="15187" y="2529"/>
                    <a:pt x="15187" y="2564"/>
                    <a:pt x="15207" y="2587"/>
                  </a:cubicBezTo>
                  <a:cubicBezTo>
                    <a:pt x="15227" y="2622"/>
                    <a:pt x="15282" y="2611"/>
                    <a:pt x="15303" y="2634"/>
                  </a:cubicBezTo>
                  <a:cubicBezTo>
                    <a:pt x="15333" y="2663"/>
                    <a:pt x="15333" y="2710"/>
                    <a:pt x="15343" y="2745"/>
                  </a:cubicBezTo>
                  <a:cubicBezTo>
                    <a:pt x="15353" y="2786"/>
                    <a:pt x="15388" y="2822"/>
                    <a:pt x="15419" y="2810"/>
                  </a:cubicBezTo>
                  <a:cubicBezTo>
                    <a:pt x="15388" y="2868"/>
                    <a:pt x="15459" y="2933"/>
                    <a:pt x="15469" y="3003"/>
                  </a:cubicBezTo>
                  <a:cubicBezTo>
                    <a:pt x="15484" y="3068"/>
                    <a:pt x="15439" y="3126"/>
                    <a:pt x="15419" y="3191"/>
                  </a:cubicBezTo>
                  <a:cubicBezTo>
                    <a:pt x="15398" y="3249"/>
                    <a:pt x="15409" y="3325"/>
                    <a:pt x="15439" y="3372"/>
                  </a:cubicBezTo>
                  <a:cubicBezTo>
                    <a:pt x="15409" y="3349"/>
                    <a:pt x="15378" y="3413"/>
                    <a:pt x="15388" y="3460"/>
                  </a:cubicBezTo>
                  <a:cubicBezTo>
                    <a:pt x="15398" y="3495"/>
                    <a:pt x="15419" y="3548"/>
                    <a:pt x="15398" y="3583"/>
                  </a:cubicBezTo>
                  <a:lnTo>
                    <a:pt x="15363" y="3618"/>
                  </a:lnTo>
                  <a:cubicBezTo>
                    <a:pt x="15323" y="3671"/>
                    <a:pt x="15353" y="3765"/>
                    <a:pt x="15419" y="3765"/>
                  </a:cubicBezTo>
                  <a:cubicBezTo>
                    <a:pt x="15398" y="3806"/>
                    <a:pt x="15388" y="3829"/>
                    <a:pt x="15363" y="3864"/>
                  </a:cubicBezTo>
                  <a:cubicBezTo>
                    <a:pt x="15439" y="3888"/>
                    <a:pt x="15484" y="3999"/>
                    <a:pt x="15439" y="4075"/>
                  </a:cubicBezTo>
                  <a:cubicBezTo>
                    <a:pt x="15484" y="4134"/>
                    <a:pt x="15494" y="4210"/>
                    <a:pt x="15469" y="4286"/>
                  </a:cubicBezTo>
                  <a:cubicBezTo>
                    <a:pt x="15449" y="4357"/>
                    <a:pt x="15398" y="4409"/>
                    <a:pt x="15333" y="4433"/>
                  </a:cubicBezTo>
                  <a:cubicBezTo>
                    <a:pt x="15343" y="4456"/>
                    <a:pt x="15333" y="4503"/>
                    <a:pt x="15303" y="4515"/>
                  </a:cubicBezTo>
                  <a:cubicBezTo>
                    <a:pt x="15272" y="4532"/>
                    <a:pt x="15237" y="4515"/>
                    <a:pt x="15217" y="4503"/>
                  </a:cubicBezTo>
                  <a:cubicBezTo>
                    <a:pt x="15197" y="4491"/>
                    <a:pt x="15187" y="4468"/>
                    <a:pt x="15177" y="4456"/>
                  </a:cubicBezTo>
                  <a:cubicBezTo>
                    <a:pt x="15111" y="4392"/>
                    <a:pt x="15035" y="4357"/>
                    <a:pt x="14955" y="4368"/>
                  </a:cubicBezTo>
                  <a:cubicBezTo>
                    <a:pt x="14945" y="4392"/>
                    <a:pt x="14945" y="4421"/>
                    <a:pt x="14930" y="4444"/>
                  </a:cubicBezTo>
                  <a:cubicBezTo>
                    <a:pt x="14839" y="4444"/>
                    <a:pt x="14743" y="4532"/>
                    <a:pt x="14708" y="4626"/>
                  </a:cubicBezTo>
                  <a:cubicBezTo>
                    <a:pt x="14647" y="4614"/>
                    <a:pt x="14602" y="4749"/>
                    <a:pt x="14541" y="4749"/>
                  </a:cubicBezTo>
                  <a:lnTo>
                    <a:pt x="14496" y="4749"/>
                  </a:lnTo>
                  <a:cubicBezTo>
                    <a:pt x="14476" y="4749"/>
                    <a:pt x="14466" y="4761"/>
                    <a:pt x="14446" y="4761"/>
                  </a:cubicBezTo>
                  <a:cubicBezTo>
                    <a:pt x="14299" y="4837"/>
                    <a:pt x="14193" y="4995"/>
                    <a:pt x="14138" y="5165"/>
                  </a:cubicBezTo>
                  <a:cubicBezTo>
                    <a:pt x="14153" y="5130"/>
                    <a:pt x="14193" y="5159"/>
                    <a:pt x="14203" y="5194"/>
                  </a:cubicBezTo>
                  <a:cubicBezTo>
                    <a:pt x="14203" y="5229"/>
                    <a:pt x="14193" y="5253"/>
                    <a:pt x="14178" y="5294"/>
                  </a:cubicBezTo>
                  <a:cubicBezTo>
                    <a:pt x="14158" y="5388"/>
                    <a:pt x="14254" y="5487"/>
                    <a:pt x="14234" y="5587"/>
                  </a:cubicBezTo>
                  <a:cubicBezTo>
                    <a:pt x="14234" y="5610"/>
                    <a:pt x="14224" y="5634"/>
                    <a:pt x="14224" y="5645"/>
                  </a:cubicBezTo>
                  <a:cubicBezTo>
                    <a:pt x="14234" y="5686"/>
                    <a:pt x="14274" y="5686"/>
                    <a:pt x="14299" y="5710"/>
                  </a:cubicBezTo>
                  <a:cubicBezTo>
                    <a:pt x="14319" y="5745"/>
                    <a:pt x="14284" y="5798"/>
                    <a:pt x="14254" y="5809"/>
                  </a:cubicBezTo>
                  <a:cubicBezTo>
                    <a:pt x="14224" y="5821"/>
                    <a:pt x="14178" y="5809"/>
                    <a:pt x="14148" y="5821"/>
                  </a:cubicBezTo>
                  <a:cubicBezTo>
                    <a:pt x="14118" y="5821"/>
                    <a:pt x="14077" y="5845"/>
                    <a:pt x="14062" y="5891"/>
                  </a:cubicBezTo>
                  <a:cubicBezTo>
                    <a:pt x="14012" y="5798"/>
                    <a:pt x="13916" y="5733"/>
                    <a:pt x="13830" y="5686"/>
                  </a:cubicBezTo>
                  <a:cubicBezTo>
                    <a:pt x="13760" y="5645"/>
                    <a:pt x="13684" y="5599"/>
                    <a:pt x="13609" y="5563"/>
                  </a:cubicBezTo>
                  <a:lnTo>
                    <a:pt x="13356" y="5417"/>
                  </a:lnTo>
                  <a:cubicBezTo>
                    <a:pt x="13336" y="5475"/>
                    <a:pt x="13301" y="5540"/>
                    <a:pt x="13281" y="5599"/>
                  </a:cubicBezTo>
                  <a:cubicBezTo>
                    <a:pt x="13261" y="5634"/>
                    <a:pt x="13251" y="5686"/>
                    <a:pt x="13251" y="5733"/>
                  </a:cubicBezTo>
                  <a:cubicBezTo>
                    <a:pt x="13251" y="5786"/>
                    <a:pt x="13271" y="5833"/>
                    <a:pt x="13311" y="5845"/>
                  </a:cubicBezTo>
                  <a:cubicBezTo>
                    <a:pt x="13336" y="5845"/>
                    <a:pt x="13367" y="5845"/>
                    <a:pt x="13377" y="5856"/>
                  </a:cubicBezTo>
                  <a:cubicBezTo>
                    <a:pt x="13397" y="5880"/>
                    <a:pt x="13387" y="5921"/>
                    <a:pt x="13397" y="5944"/>
                  </a:cubicBezTo>
                  <a:cubicBezTo>
                    <a:pt x="13407" y="6003"/>
                    <a:pt x="13472" y="6014"/>
                    <a:pt x="13513" y="6044"/>
                  </a:cubicBezTo>
                  <a:cubicBezTo>
                    <a:pt x="13609" y="6091"/>
                    <a:pt x="13664" y="6225"/>
                    <a:pt x="13629" y="6337"/>
                  </a:cubicBezTo>
                  <a:cubicBezTo>
                    <a:pt x="13609" y="6337"/>
                    <a:pt x="13598" y="6325"/>
                    <a:pt x="13578" y="6325"/>
                  </a:cubicBezTo>
                  <a:cubicBezTo>
                    <a:pt x="13588" y="6360"/>
                    <a:pt x="13558" y="6407"/>
                    <a:pt x="13523" y="6425"/>
                  </a:cubicBezTo>
                  <a:cubicBezTo>
                    <a:pt x="13493" y="6436"/>
                    <a:pt x="13452" y="6436"/>
                    <a:pt x="13417" y="6425"/>
                  </a:cubicBezTo>
                  <a:cubicBezTo>
                    <a:pt x="13397" y="6425"/>
                    <a:pt x="13387" y="6425"/>
                    <a:pt x="13367" y="6407"/>
                  </a:cubicBezTo>
                  <a:lnTo>
                    <a:pt x="13336" y="6372"/>
                  </a:lnTo>
                  <a:cubicBezTo>
                    <a:pt x="13261" y="6237"/>
                    <a:pt x="13089" y="6214"/>
                    <a:pt x="12998" y="6102"/>
                  </a:cubicBezTo>
                  <a:cubicBezTo>
                    <a:pt x="12983" y="6091"/>
                    <a:pt x="12973" y="6067"/>
                    <a:pt x="12973" y="6044"/>
                  </a:cubicBezTo>
                  <a:cubicBezTo>
                    <a:pt x="12973" y="6026"/>
                    <a:pt x="12983" y="6014"/>
                    <a:pt x="12983" y="6003"/>
                  </a:cubicBezTo>
                  <a:cubicBezTo>
                    <a:pt x="12983" y="5979"/>
                    <a:pt x="12953" y="5968"/>
                    <a:pt x="12933" y="5956"/>
                  </a:cubicBezTo>
                  <a:cubicBezTo>
                    <a:pt x="12893" y="5944"/>
                    <a:pt x="12837" y="5891"/>
                    <a:pt x="12827" y="5845"/>
                  </a:cubicBezTo>
                  <a:cubicBezTo>
                    <a:pt x="12807" y="5798"/>
                    <a:pt x="12827" y="5722"/>
                    <a:pt x="12867" y="5698"/>
                  </a:cubicBezTo>
                  <a:cubicBezTo>
                    <a:pt x="12817" y="5675"/>
                    <a:pt x="12772" y="5587"/>
                    <a:pt x="12807" y="5522"/>
                  </a:cubicBezTo>
                  <a:cubicBezTo>
                    <a:pt x="12751" y="5499"/>
                    <a:pt x="12701" y="5452"/>
                    <a:pt x="12721" y="5399"/>
                  </a:cubicBezTo>
                  <a:lnTo>
                    <a:pt x="12751" y="5364"/>
                  </a:lnTo>
                  <a:cubicBezTo>
                    <a:pt x="12772" y="5329"/>
                    <a:pt x="12772" y="5276"/>
                    <a:pt x="12751" y="5253"/>
                  </a:cubicBezTo>
                  <a:cubicBezTo>
                    <a:pt x="12807" y="5206"/>
                    <a:pt x="12827" y="5101"/>
                    <a:pt x="12807" y="5019"/>
                  </a:cubicBezTo>
                  <a:cubicBezTo>
                    <a:pt x="12787" y="4931"/>
                    <a:pt x="12741" y="4872"/>
                    <a:pt x="12701" y="4802"/>
                  </a:cubicBezTo>
                  <a:cubicBezTo>
                    <a:pt x="12681" y="4772"/>
                    <a:pt x="12656" y="4737"/>
                    <a:pt x="12625" y="4726"/>
                  </a:cubicBezTo>
                  <a:cubicBezTo>
                    <a:pt x="12615" y="4726"/>
                    <a:pt x="12595" y="4726"/>
                    <a:pt x="12585" y="4714"/>
                  </a:cubicBezTo>
                  <a:cubicBezTo>
                    <a:pt x="12540" y="4690"/>
                    <a:pt x="12575" y="4591"/>
                    <a:pt x="12530" y="4567"/>
                  </a:cubicBezTo>
                  <a:cubicBezTo>
                    <a:pt x="12509" y="4556"/>
                    <a:pt x="12489" y="4556"/>
                    <a:pt x="12469" y="4544"/>
                  </a:cubicBezTo>
                  <a:cubicBezTo>
                    <a:pt x="12459" y="4532"/>
                    <a:pt x="12459" y="4503"/>
                    <a:pt x="12434" y="4491"/>
                  </a:cubicBezTo>
                  <a:cubicBezTo>
                    <a:pt x="12424" y="4480"/>
                    <a:pt x="12403" y="4480"/>
                    <a:pt x="12383" y="4480"/>
                  </a:cubicBezTo>
                  <a:cubicBezTo>
                    <a:pt x="12308" y="4468"/>
                    <a:pt x="12277" y="4368"/>
                    <a:pt x="12257" y="4298"/>
                  </a:cubicBezTo>
                  <a:cubicBezTo>
                    <a:pt x="12338" y="4286"/>
                    <a:pt x="12424" y="4269"/>
                    <a:pt x="12499" y="4245"/>
                  </a:cubicBezTo>
                  <a:cubicBezTo>
                    <a:pt x="12530" y="4245"/>
                    <a:pt x="12565" y="4233"/>
                    <a:pt x="12595" y="4245"/>
                  </a:cubicBezTo>
                  <a:cubicBezTo>
                    <a:pt x="12635" y="4257"/>
                    <a:pt x="12671" y="4310"/>
                    <a:pt x="12701" y="4333"/>
                  </a:cubicBezTo>
                  <a:cubicBezTo>
                    <a:pt x="12731" y="4368"/>
                    <a:pt x="12772" y="4392"/>
                    <a:pt x="12817" y="4368"/>
                  </a:cubicBezTo>
                  <a:lnTo>
                    <a:pt x="12817" y="4491"/>
                  </a:lnTo>
                  <a:cubicBezTo>
                    <a:pt x="12847" y="4456"/>
                    <a:pt x="12903" y="4468"/>
                    <a:pt x="12943" y="4491"/>
                  </a:cubicBezTo>
                  <a:cubicBezTo>
                    <a:pt x="12998" y="4515"/>
                    <a:pt x="13049" y="4544"/>
                    <a:pt x="13114" y="4567"/>
                  </a:cubicBezTo>
                  <a:cubicBezTo>
                    <a:pt x="13165" y="4591"/>
                    <a:pt x="13205" y="4614"/>
                    <a:pt x="13261" y="4603"/>
                  </a:cubicBezTo>
                  <a:cubicBezTo>
                    <a:pt x="13291" y="4603"/>
                    <a:pt x="13326" y="4579"/>
                    <a:pt x="13356" y="4591"/>
                  </a:cubicBezTo>
                  <a:cubicBezTo>
                    <a:pt x="13387" y="4591"/>
                    <a:pt x="13432" y="4626"/>
                    <a:pt x="13407" y="4667"/>
                  </a:cubicBezTo>
                  <a:cubicBezTo>
                    <a:pt x="13548" y="4702"/>
                    <a:pt x="13684" y="4726"/>
                    <a:pt x="13820" y="4726"/>
                  </a:cubicBezTo>
                  <a:cubicBezTo>
                    <a:pt x="13800" y="4726"/>
                    <a:pt x="13790" y="4714"/>
                    <a:pt x="13770" y="4714"/>
                  </a:cubicBezTo>
                  <a:cubicBezTo>
                    <a:pt x="13840" y="4702"/>
                    <a:pt x="13926" y="4690"/>
                    <a:pt x="14002" y="4679"/>
                  </a:cubicBezTo>
                  <a:cubicBezTo>
                    <a:pt x="14002" y="4655"/>
                    <a:pt x="14002" y="4626"/>
                    <a:pt x="13992" y="4603"/>
                  </a:cubicBezTo>
                  <a:cubicBezTo>
                    <a:pt x="14052" y="4603"/>
                    <a:pt x="14128" y="4603"/>
                    <a:pt x="14193" y="4579"/>
                  </a:cubicBezTo>
                  <a:cubicBezTo>
                    <a:pt x="14234" y="4556"/>
                    <a:pt x="14274" y="4515"/>
                    <a:pt x="14319" y="4468"/>
                  </a:cubicBezTo>
                  <a:cubicBezTo>
                    <a:pt x="14360" y="4421"/>
                    <a:pt x="14415" y="4368"/>
                    <a:pt x="14456" y="4321"/>
                  </a:cubicBezTo>
                  <a:lnTo>
                    <a:pt x="14425" y="4286"/>
                  </a:lnTo>
                  <a:cubicBezTo>
                    <a:pt x="14486" y="4245"/>
                    <a:pt x="14531" y="4146"/>
                    <a:pt x="14496" y="4064"/>
                  </a:cubicBezTo>
                  <a:cubicBezTo>
                    <a:pt x="14486" y="4064"/>
                    <a:pt x="14476" y="4040"/>
                    <a:pt x="14486" y="4028"/>
                  </a:cubicBezTo>
                  <a:cubicBezTo>
                    <a:pt x="14496" y="4011"/>
                    <a:pt x="14521" y="4011"/>
                    <a:pt x="14531" y="3999"/>
                  </a:cubicBezTo>
                  <a:cubicBezTo>
                    <a:pt x="14561" y="3987"/>
                    <a:pt x="14561" y="3941"/>
                    <a:pt x="14561" y="3888"/>
                  </a:cubicBezTo>
                  <a:lnTo>
                    <a:pt x="14531" y="3782"/>
                  </a:lnTo>
                  <a:cubicBezTo>
                    <a:pt x="14531" y="3741"/>
                    <a:pt x="14541" y="3706"/>
                    <a:pt x="14521" y="3683"/>
                  </a:cubicBezTo>
                  <a:cubicBezTo>
                    <a:pt x="14511" y="3659"/>
                    <a:pt x="14486" y="3642"/>
                    <a:pt x="14476" y="3630"/>
                  </a:cubicBezTo>
                  <a:cubicBezTo>
                    <a:pt x="14456" y="3583"/>
                    <a:pt x="14511" y="3548"/>
                    <a:pt x="14511" y="3495"/>
                  </a:cubicBezTo>
                  <a:cubicBezTo>
                    <a:pt x="14511" y="3448"/>
                    <a:pt x="14456" y="3413"/>
                    <a:pt x="14425" y="3437"/>
                  </a:cubicBezTo>
                  <a:cubicBezTo>
                    <a:pt x="14446" y="3402"/>
                    <a:pt x="14440" y="3349"/>
                    <a:pt x="14415" y="3314"/>
                  </a:cubicBezTo>
                  <a:cubicBezTo>
                    <a:pt x="14395" y="3279"/>
                    <a:pt x="14360" y="3249"/>
                    <a:pt x="14330" y="3226"/>
                  </a:cubicBezTo>
                  <a:cubicBezTo>
                    <a:pt x="14284" y="3167"/>
                    <a:pt x="14264" y="3068"/>
                    <a:pt x="14203" y="3068"/>
                  </a:cubicBezTo>
                  <a:cubicBezTo>
                    <a:pt x="14193" y="3003"/>
                    <a:pt x="14108" y="2980"/>
                    <a:pt x="14052" y="2956"/>
                  </a:cubicBezTo>
                  <a:cubicBezTo>
                    <a:pt x="13982" y="2921"/>
                    <a:pt x="13916" y="2845"/>
                    <a:pt x="13866" y="2775"/>
                  </a:cubicBezTo>
                  <a:cubicBezTo>
                    <a:pt x="13830" y="2722"/>
                    <a:pt x="13800" y="2652"/>
                    <a:pt x="13745" y="2652"/>
                  </a:cubicBezTo>
                  <a:cubicBezTo>
                    <a:pt x="13745" y="2587"/>
                    <a:pt x="13714" y="2540"/>
                    <a:pt x="13664" y="2529"/>
                  </a:cubicBezTo>
                  <a:cubicBezTo>
                    <a:pt x="13629" y="2529"/>
                    <a:pt x="13598" y="2540"/>
                    <a:pt x="13578" y="2511"/>
                  </a:cubicBezTo>
                  <a:cubicBezTo>
                    <a:pt x="13568" y="2499"/>
                    <a:pt x="13558" y="2476"/>
                    <a:pt x="13558" y="2464"/>
                  </a:cubicBezTo>
                  <a:cubicBezTo>
                    <a:pt x="13513" y="2353"/>
                    <a:pt x="13367" y="2330"/>
                    <a:pt x="13326" y="2218"/>
                  </a:cubicBezTo>
                  <a:lnTo>
                    <a:pt x="13104" y="2072"/>
                  </a:lnTo>
                  <a:cubicBezTo>
                    <a:pt x="13079" y="2060"/>
                    <a:pt x="13049" y="2031"/>
                    <a:pt x="13039" y="2007"/>
                  </a:cubicBezTo>
                  <a:cubicBezTo>
                    <a:pt x="13029" y="1978"/>
                    <a:pt x="13019" y="1960"/>
                    <a:pt x="12998" y="1949"/>
                  </a:cubicBezTo>
                  <a:cubicBezTo>
                    <a:pt x="12963" y="1925"/>
                    <a:pt x="12923" y="1925"/>
                    <a:pt x="12877" y="1925"/>
                  </a:cubicBezTo>
                  <a:cubicBezTo>
                    <a:pt x="12837" y="1925"/>
                    <a:pt x="12797" y="1902"/>
                    <a:pt x="12741" y="1884"/>
                  </a:cubicBezTo>
                  <a:cubicBezTo>
                    <a:pt x="12701" y="1873"/>
                    <a:pt x="12646" y="1884"/>
                    <a:pt x="12615" y="1925"/>
                  </a:cubicBezTo>
                  <a:cubicBezTo>
                    <a:pt x="12605" y="1861"/>
                    <a:pt x="12540" y="1849"/>
                    <a:pt x="12489" y="1861"/>
                  </a:cubicBezTo>
                  <a:cubicBezTo>
                    <a:pt x="12414" y="1861"/>
                    <a:pt x="12338" y="1884"/>
                    <a:pt x="12267" y="1914"/>
                  </a:cubicBezTo>
                  <a:cubicBezTo>
                    <a:pt x="12222" y="1884"/>
                    <a:pt x="12212" y="1814"/>
                    <a:pt x="12232" y="1767"/>
                  </a:cubicBezTo>
                  <a:cubicBezTo>
                    <a:pt x="12257" y="1714"/>
                    <a:pt x="12288" y="1679"/>
                    <a:pt x="12318" y="1644"/>
                  </a:cubicBezTo>
                  <a:cubicBezTo>
                    <a:pt x="12288" y="1627"/>
                    <a:pt x="12257" y="1627"/>
                    <a:pt x="12212" y="1615"/>
                  </a:cubicBezTo>
                  <a:cubicBezTo>
                    <a:pt x="12202" y="1615"/>
                    <a:pt x="12202" y="1615"/>
                    <a:pt x="12192" y="1603"/>
                  </a:cubicBezTo>
                  <a:cubicBezTo>
                    <a:pt x="12172" y="1591"/>
                    <a:pt x="12182" y="1556"/>
                    <a:pt x="12202" y="1533"/>
                  </a:cubicBezTo>
                  <a:cubicBezTo>
                    <a:pt x="12212" y="1503"/>
                    <a:pt x="12222" y="1468"/>
                    <a:pt x="12202" y="1457"/>
                  </a:cubicBezTo>
                  <a:cubicBezTo>
                    <a:pt x="12212" y="1398"/>
                    <a:pt x="12131" y="1357"/>
                    <a:pt x="12076" y="1334"/>
                  </a:cubicBezTo>
                  <a:cubicBezTo>
                    <a:pt x="12035" y="1310"/>
                    <a:pt x="11985" y="1298"/>
                    <a:pt x="11940" y="1275"/>
                  </a:cubicBezTo>
                  <a:cubicBezTo>
                    <a:pt x="11899" y="1246"/>
                    <a:pt x="11834" y="1234"/>
                    <a:pt x="11788" y="1263"/>
                  </a:cubicBezTo>
                  <a:cubicBezTo>
                    <a:pt x="11748" y="1287"/>
                    <a:pt x="11748" y="1380"/>
                    <a:pt x="11788" y="1398"/>
                  </a:cubicBezTo>
                  <a:cubicBezTo>
                    <a:pt x="11768" y="1421"/>
                    <a:pt x="11738" y="1445"/>
                    <a:pt x="11718" y="1468"/>
                  </a:cubicBezTo>
                  <a:cubicBezTo>
                    <a:pt x="11738" y="1492"/>
                    <a:pt x="11748" y="1521"/>
                    <a:pt x="11768" y="1544"/>
                  </a:cubicBezTo>
                  <a:cubicBezTo>
                    <a:pt x="11698" y="1568"/>
                    <a:pt x="11612" y="1544"/>
                    <a:pt x="11536" y="1492"/>
                  </a:cubicBezTo>
                  <a:cubicBezTo>
                    <a:pt x="11536" y="1468"/>
                    <a:pt x="11546" y="1433"/>
                    <a:pt x="11567" y="1421"/>
                  </a:cubicBezTo>
                  <a:cubicBezTo>
                    <a:pt x="11461" y="1398"/>
                    <a:pt x="11355" y="1357"/>
                    <a:pt x="11249" y="1298"/>
                  </a:cubicBezTo>
                  <a:cubicBezTo>
                    <a:pt x="11229" y="1263"/>
                    <a:pt x="11219" y="1222"/>
                    <a:pt x="11219" y="1175"/>
                  </a:cubicBezTo>
                  <a:cubicBezTo>
                    <a:pt x="11274" y="1175"/>
                    <a:pt x="11324" y="1111"/>
                    <a:pt x="11314" y="1052"/>
                  </a:cubicBezTo>
                  <a:cubicBezTo>
                    <a:pt x="11365" y="1029"/>
                    <a:pt x="11420" y="1017"/>
                    <a:pt x="11486" y="1017"/>
                  </a:cubicBezTo>
                  <a:cubicBezTo>
                    <a:pt x="11516" y="1017"/>
                    <a:pt x="11561" y="1011"/>
                    <a:pt x="11592" y="1000"/>
                  </a:cubicBezTo>
                  <a:cubicBezTo>
                    <a:pt x="11627" y="982"/>
                    <a:pt x="11652" y="953"/>
                    <a:pt x="11652" y="918"/>
                  </a:cubicBezTo>
                  <a:cubicBezTo>
                    <a:pt x="11652" y="841"/>
                    <a:pt x="11567" y="818"/>
                    <a:pt x="11536" y="759"/>
                  </a:cubicBezTo>
                  <a:cubicBezTo>
                    <a:pt x="11516" y="718"/>
                    <a:pt x="11516" y="683"/>
                    <a:pt x="11496" y="648"/>
                  </a:cubicBezTo>
                  <a:cubicBezTo>
                    <a:pt x="11461" y="607"/>
                    <a:pt x="11410" y="607"/>
                    <a:pt x="11365" y="595"/>
                  </a:cubicBezTo>
                  <a:cubicBezTo>
                    <a:pt x="11324" y="584"/>
                    <a:pt x="11274" y="549"/>
                    <a:pt x="11284" y="496"/>
                  </a:cubicBezTo>
                  <a:cubicBezTo>
                    <a:pt x="11249" y="513"/>
                    <a:pt x="11209" y="537"/>
                    <a:pt x="11178" y="549"/>
                  </a:cubicBezTo>
                  <a:cubicBezTo>
                    <a:pt x="11168" y="484"/>
                    <a:pt x="11143" y="437"/>
                    <a:pt x="11103" y="414"/>
                  </a:cubicBezTo>
                  <a:cubicBezTo>
                    <a:pt x="11082" y="402"/>
                    <a:pt x="11062" y="373"/>
                    <a:pt x="11037" y="361"/>
                  </a:cubicBezTo>
                  <a:cubicBezTo>
                    <a:pt x="11017" y="338"/>
                    <a:pt x="11007" y="302"/>
                    <a:pt x="11027" y="279"/>
                  </a:cubicBezTo>
                  <a:cubicBezTo>
                    <a:pt x="10987" y="314"/>
                    <a:pt x="10921" y="279"/>
                    <a:pt x="10891" y="238"/>
                  </a:cubicBezTo>
                  <a:cubicBezTo>
                    <a:pt x="10861" y="191"/>
                    <a:pt x="10840" y="133"/>
                    <a:pt x="10785" y="103"/>
                  </a:cubicBezTo>
                  <a:cubicBezTo>
                    <a:pt x="10745" y="80"/>
                    <a:pt x="10689" y="92"/>
                    <a:pt x="10649" y="103"/>
                  </a:cubicBezTo>
                  <a:cubicBezTo>
                    <a:pt x="10583" y="115"/>
                    <a:pt x="10533" y="144"/>
                    <a:pt x="10467" y="168"/>
                  </a:cubicBezTo>
                  <a:cubicBezTo>
                    <a:pt x="10488" y="250"/>
                    <a:pt x="10498" y="349"/>
                    <a:pt x="10498" y="449"/>
                  </a:cubicBezTo>
                  <a:cubicBezTo>
                    <a:pt x="10447" y="484"/>
                    <a:pt x="10417" y="560"/>
                    <a:pt x="10417" y="636"/>
                  </a:cubicBezTo>
                  <a:cubicBezTo>
                    <a:pt x="10341" y="560"/>
                    <a:pt x="10256" y="449"/>
                    <a:pt x="10301" y="338"/>
                  </a:cubicBezTo>
                  <a:cubicBezTo>
                    <a:pt x="10311" y="302"/>
                    <a:pt x="10331" y="267"/>
                    <a:pt x="10311" y="238"/>
                  </a:cubicBezTo>
                  <a:cubicBezTo>
                    <a:pt x="10291" y="215"/>
                    <a:pt x="10256" y="226"/>
                    <a:pt x="10235" y="215"/>
                  </a:cubicBezTo>
                  <a:cubicBezTo>
                    <a:pt x="10195" y="191"/>
                    <a:pt x="10205" y="133"/>
                    <a:pt x="10195" y="80"/>
                  </a:cubicBezTo>
                  <a:cubicBezTo>
                    <a:pt x="10160" y="-8"/>
                    <a:pt x="10054" y="-8"/>
                    <a:pt x="9983" y="10"/>
                  </a:cubicBezTo>
                  <a:cubicBezTo>
                    <a:pt x="9958" y="56"/>
                    <a:pt x="9948" y="133"/>
                    <a:pt x="9973" y="179"/>
                  </a:cubicBezTo>
                  <a:cubicBezTo>
                    <a:pt x="9938" y="191"/>
                    <a:pt x="9918" y="215"/>
                    <a:pt x="9898" y="238"/>
                  </a:cubicBezTo>
                  <a:cubicBezTo>
                    <a:pt x="9877" y="215"/>
                    <a:pt x="9852" y="203"/>
                    <a:pt x="9832" y="179"/>
                  </a:cubicBezTo>
                  <a:cubicBezTo>
                    <a:pt x="9802" y="156"/>
                    <a:pt x="9772" y="115"/>
                    <a:pt x="9726" y="103"/>
                  </a:cubicBezTo>
                  <a:cubicBezTo>
                    <a:pt x="9686" y="92"/>
                    <a:pt x="9646" y="115"/>
                    <a:pt x="9630" y="168"/>
                  </a:cubicBezTo>
                  <a:cubicBezTo>
                    <a:pt x="9630" y="203"/>
                    <a:pt x="9656" y="250"/>
                    <a:pt x="9676" y="279"/>
                  </a:cubicBezTo>
                  <a:cubicBezTo>
                    <a:pt x="9630" y="250"/>
                    <a:pt x="9600" y="226"/>
                    <a:pt x="9550" y="226"/>
                  </a:cubicBezTo>
                  <a:cubicBezTo>
                    <a:pt x="9504" y="226"/>
                    <a:pt x="9454" y="267"/>
                    <a:pt x="9464" y="326"/>
                  </a:cubicBezTo>
                  <a:cubicBezTo>
                    <a:pt x="9464" y="361"/>
                    <a:pt x="9494" y="390"/>
                    <a:pt x="9504" y="426"/>
                  </a:cubicBezTo>
                  <a:cubicBezTo>
                    <a:pt x="9514" y="461"/>
                    <a:pt x="9504" y="513"/>
                    <a:pt x="9474" y="496"/>
                  </a:cubicBezTo>
                  <a:cubicBezTo>
                    <a:pt x="9409" y="402"/>
                    <a:pt x="9282" y="361"/>
                    <a:pt x="9187" y="414"/>
                  </a:cubicBezTo>
                  <a:cubicBezTo>
                    <a:pt x="9187" y="437"/>
                    <a:pt x="9197" y="461"/>
                    <a:pt x="9197" y="484"/>
                  </a:cubicBezTo>
                  <a:cubicBezTo>
                    <a:pt x="9167" y="496"/>
                    <a:pt x="9136" y="513"/>
                    <a:pt x="9106" y="537"/>
                  </a:cubicBezTo>
                  <a:cubicBezTo>
                    <a:pt x="9081" y="560"/>
                    <a:pt x="9071" y="607"/>
                    <a:pt x="9091" y="648"/>
                  </a:cubicBezTo>
                  <a:cubicBezTo>
                    <a:pt x="9061" y="595"/>
                    <a:pt x="8985" y="619"/>
                    <a:pt x="8975" y="672"/>
                  </a:cubicBezTo>
                  <a:cubicBezTo>
                    <a:pt x="8955" y="730"/>
                    <a:pt x="8985" y="795"/>
                    <a:pt x="9040" y="818"/>
                  </a:cubicBezTo>
                  <a:cubicBezTo>
                    <a:pt x="9010" y="818"/>
                    <a:pt x="8985" y="841"/>
                    <a:pt x="8975" y="865"/>
                  </a:cubicBezTo>
                  <a:cubicBezTo>
                    <a:pt x="8935" y="841"/>
                    <a:pt x="8894" y="830"/>
                    <a:pt x="8839" y="830"/>
                  </a:cubicBezTo>
                  <a:cubicBezTo>
                    <a:pt x="8798" y="841"/>
                    <a:pt x="8753" y="877"/>
                    <a:pt x="8743" y="929"/>
                  </a:cubicBezTo>
                  <a:lnTo>
                    <a:pt x="8743" y="964"/>
                  </a:lnTo>
                  <a:cubicBezTo>
                    <a:pt x="8723" y="1000"/>
                    <a:pt x="8682" y="941"/>
                    <a:pt x="8647" y="929"/>
                  </a:cubicBezTo>
                  <a:cubicBezTo>
                    <a:pt x="8607" y="918"/>
                    <a:pt x="8577" y="964"/>
                    <a:pt x="8531" y="964"/>
                  </a:cubicBezTo>
                  <a:cubicBezTo>
                    <a:pt x="8491" y="964"/>
                    <a:pt x="8461" y="894"/>
                    <a:pt x="8491" y="853"/>
                  </a:cubicBezTo>
                  <a:cubicBezTo>
                    <a:pt x="8425" y="841"/>
                    <a:pt x="8365" y="865"/>
                    <a:pt x="8299" y="894"/>
                  </a:cubicBezTo>
                  <a:cubicBezTo>
                    <a:pt x="8259" y="853"/>
                    <a:pt x="8188" y="865"/>
                    <a:pt x="8153" y="894"/>
                  </a:cubicBezTo>
                  <a:cubicBezTo>
                    <a:pt x="8123" y="918"/>
                    <a:pt x="8098" y="964"/>
                    <a:pt x="8077" y="1017"/>
                  </a:cubicBezTo>
                  <a:cubicBezTo>
                    <a:pt x="8047" y="1088"/>
                    <a:pt x="7992" y="1152"/>
                    <a:pt x="7931" y="1187"/>
                  </a:cubicBezTo>
                  <a:cubicBezTo>
                    <a:pt x="7951" y="1187"/>
                    <a:pt x="7961" y="1199"/>
                    <a:pt x="7982" y="1222"/>
                  </a:cubicBezTo>
                  <a:cubicBezTo>
                    <a:pt x="7992" y="1234"/>
                    <a:pt x="7992" y="1246"/>
                    <a:pt x="7992" y="1263"/>
                  </a:cubicBezTo>
                  <a:cubicBezTo>
                    <a:pt x="8012" y="1334"/>
                    <a:pt x="7961" y="1410"/>
                    <a:pt x="7906" y="1457"/>
                  </a:cubicBezTo>
                  <a:cubicBezTo>
                    <a:pt x="7856" y="1503"/>
                    <a:pt x="7805" y="1568"/>
                    <a:pt x="7805" y="1644"/>
                  </a:cubicBezTo>
                  <a:cubicBezTo>
                    <a:pt x="7730" y="1627"/>
                    <a:pt x="7659" y="1650"/>
                    <a:pt x="7603" y="1714"/>
                  </a:cubicBezTo>
                  <a:cubicBezTo>
                    <a:pt x="7553" y="1773"/>
                    <a:pt x="7528" y="1873"/>
                    <a:pt x="7548" y="1949"/>
                  </a:cubicBezTo>
                  <a:cubicBezTo>
                    <a:pt x="7528" y="1972"/>
                    <a:pt x="7518" y="2007"/>
                    <a:pt x="7498" y="2037"/>
                  </a:cubicBezTo>
                  <a:cubicBezTo>
                    <a:pt x="7472" y="2072"/>
                    <a:pt x="7452" y="2107"/>
                    <a:pt x="7412" y="2119"/>
                  </a:cubicBezTo>
                  <a:cubicBezTo>
                    <a:pt x="7382" y="2130"/>
                    <a:pt x="7356" y="2119"/>
                    <a:pt x="7326" y="2107"/>
                  </a:cubicBezTo>
                  <a:cubicBezTo>
                    <a:pt x="7296" y="2107"/>
                    <a:pt x="7266" y="2119"/>
                    <a:pt x="7251" y="2148"/>
                  </a:cubicBezTo>
                  <a:cubicBezTo>
                    <a:pt x="7240" y="2095"/>
                    <a:pt x="7190" y="2083"/>
                    <a:pt x="7135" y="2083"/>
                  </a:cubicBezTo>
                  <a:cubicBezTo>
                    <a:pt x="7074" y="2095"/>
                    <a:pt x="7019" y="2130"/>
                    <a:pt x="6978" y="2183"/>
                  </a:cubicBezTo>
                  <a:cubicBezTo>
                    <a:pt x="6948" y="2218"/>
                    <a:pt x="6913" y="2271"/>
                    <a:pt x="6872" y="2271"/>
                  </a:cubicBezTo>
                  <a:lnTo>
                    <a:pt x="6832" y="2271"/>
                  </a:lnTo>
                  <a:cubicBezTo>
                    <a:pt x="6787" y="2294"/>
                    <a:pt x="6807" y="2376"/>
                    <a:pt x="6787" y="2429"/>
                  </a:cubicBezTo>
                  <a:cubicBezTo>
                    <a:pt x="6817" y="2429"/>
                    <a:pt x="6852" y="2453"/>
                    <a:pt x="6852" y="2488"/>
                  </a:cubicBezTo>
                  <a:cubicBezTo>
                    <a:pt x="6852" y="2499"/>
                    <a:pt x="6842" y="2529"/>
                    <a:pt x="6842" y="2540"/>
                  </a:cubicBezTo>
                  <a:cubicBezTo>
                    <a:pt x="6832" y="2587"/>
                    <a:pt x="6852" y="2652"/>
                    <a:pt x="6882" y="2675"/>
                  </a:cubicBezTo>
                  <a:cubicBezTo>
                    <a:pt x="6787" y="2699"/>
                    <a:pt x="6691" y="2734"/>
                    <a:pt x="6595" y="2757"/>
                  </a:cubicBezTo>
                  <a:cubicBezTo>
                    <a:pt x="6575" y="2775"/>
                    <a:pt x="6555" y="2775"/>
                    <a:pt x="6535" y="2786"/>
                  </a:cubicBezTo>
                  <a:cubicBezTo>
                    <a:pt x="6524" y="2798"/>
                    <a:pt x="6514" y="2822"/>
                    <a:pt x="6499" y="2845"/>
                  </a:cubicBezTo>
                  <a:cubicBezTo>
                    <a:pt x="6469" y="2909"/>
                    <a:pt x="6449" y="2968"/>
                    <a:pt x="6419" y="3015"/>
                  </a:cubicBezTo>
                  <a:cubicBezTo>
                    <a:pt x="6439" y="3056"/>
                    <a:pt x="6489" y="3044"/>
                    <a:pt x="6535" y="3033"/>
                  </a:cubicBezTo>
                  <a:cubicBezTo>
                    <a:pt x="6605" y="2992"/>
                    <a:pt x="6671" y="2956"/>
                    <a:pt x="6736" y="2909"/>
                  </a:cubicBezTo>
                  <a:lnTo>
                    <a:pt x="6797" y="2868"/>
                  </a:lnTo>
                  <a:cubicBezTo>
                    <a:pt x="6832" y="2868"/>
                    <a:pt x="6862" y="2880"/>
                    <a:pt x="6893" y="2880"/>
                  </a:cubicBezTo>
                  <a:cubicBezTo>
                    <a:pt x="6923" y="2880"/>
                    <a:pt x="6933" y="2857"/>
                    <a:pt x="6958" y="2833"/>
                  </a:cubicBezTo>
                  <a:cubicBezTo>
                    <a:pt x="6998" y="2798"/>
                    <a:pt x="7064" y="2775"/>
                    <a:pt x="7124" y="2786"/>
                  </a:cubicBezTo>
                  <a:cubicBezTo>
                    <a:pt x="7170" y="2880"/>
                    <a:pt x="7124" y="3015"/>
                    <a:pt x="7039" y="3056"/>
                  </a:cubicBezTo>
                  <a:cubicBezTo>
                    <a:pt x="7009" y="3068"/>
                    <a:pt x="6978" y="3068"/>
                    <a:pt x="6958" y="3091"/>
                  </a:cubicBezTo>
                  <a:cubicBezTo>
                    <a:pt x="6948" y="3103"/>
                    <a:pt x="6933" y="3115"/>
                    <a:pt x="6923" y="3138"/>
                  </a:cubicBezTo>
                  <a:cubicBezTo>
                    <a:pt x="6882" y="3226"/>
                    <a:pt x="6862" y="3337"/>
                    <a:pt x="6862" y="3437"/>
                  </a:cubicBezTo>
                  <a:cubicBezTo>
                    <a:pt x="6862" y="3460"/>
                    <a:pt x="6862" y="3484"/>
                    <a:pt x="6852" y="3507"/>
                  </a:cubicBezTo>
                  <a:cubicBezTo>
                    <a:pt x="6832" y="3583"/>
                    <a:pt x="6736" y="3583"/>
                    <a:pt x="6701" y="3525"/>
                  </a:cubicBezTo>
                  <a:cubicBezTo>
                    <a:pt x="6681" y="3607"/>
                    <a:pt x="6585" y="3642"/>
                    <a:pt x="6555" y="3718"/>
                  </a:cubicBezTo>
                  <a:cubicBezTo>
                    <a:pt x="6535" y="3782"/>
                    <a:pt x="6555" y="3841"/>
                    <a:pt x="6575" y="3905"/>
                  </a:cubicBezTo>
                  <a:cubicBezTo>
                    <a:pt x="6524" y="3941"/>
                    <a:pt x="6449" y="3929"/>
                    <a:pt x="6409" y="3888"/>
                  </a:cubicBezTo>
                  <a:cubicBezTo>
                    <a:pt x="6383" y="3941"/>
                    <a:pt x="6363" y="3987"/>
                    <a:pt x="6343" y="4028"/>
                  </a:cubicBezTo>
                  <a:cubicBezTo>
                    <a:pt x="6333" y="4064"/>
                    <a:pt x="6318" y="4099"/>
                    <a:pt x="6293" y="4122"/>
                  </a:cubicBezTo>
                  <a:cubicBezTo>
                    <a:pt x="6272" y="4146"/>
                    <a:pt x="6227" y="4163"/>
                    <a:pt x="6197" y="4134"/>
                  </a:cubicBezTo>
                  <a:cubicBezTo>
                    <a:pt x="6207" y="4187"/>
                    <a:pt x="6187" y="4233"/>
                    <a:pt x="6151" y="4257"/>
                  </a:cubicBezTo>
                  <a:cubicBezTo>
                    <a:pt x="6141" y="4269"/>
                    <a:pt x="6131" y="4269"/>
                    <a:pt x="6121" y="4286"/>
                  </a:cubicBezTo>
                  <a:cubicBezTo>
                    <a:pt x="6111" y="4298"/>
                    <a:pt x="6121" y="4321"/>
                    <a:pt x="6131" y="4333"/>
                  </a:cubicBezTo>
                  <a:cubicBezTo>
                    <a:pt x="6161" y="4380"/>
                    <a:pt x="6197" y="4433"/>
                    <a:pt x="6217" y="4468"/>
                  </a:cubicBezTo>
                  <a:cubicBezTo>
                    <a:pt x="6187" y="4491"/>
                    <a:pt x="6141" y="4515"/>
                    <a:pt x="6131" y="4556"/>
                  </a:cubicBezTo>
                  <a:cubicBezTo>
                    <a:pt x="6111" y="4591"/>
                    <a:pt x="6121" y="4655"/>
                    <a:pt x="6161" y="4667"/>
                  </a:cubicBezTo>
                  <a:cubicBezTo>
                    <a:pt x="6131" y="4690"/>
                    <a:pt x="6111" y="4726"/>
                    <a:pt x="6101" y="4761"/>
                  </a:cubicBezTo>
                  <a:cubicBezTo>
                    <a:pt x="6025" y="4813"/>
                    <a:pt x="5955" y="4895"/>
                    <a:pt x="5924" y="4995"/>
                  </a:cubicBezTo>
                  <a:cubicBezTo>
                    <a:pt x="5945" y="4972"/>
                    <a:pt x="5990" y="4995"/>
                    <a:pt x="5975" y="5036"/>
                  </a:cubicBezTo>
                  <a:cubicBezTo>
                    <a:pt x="5965" y="5071"/>
                    <a:pt x="5945" y="5095"/>
                    <a:pt x="5914" y="5095"/>
                  </a:cubicBezTo>
                  <a:cubicBezTo>
                    <a:pt x="5924" y="5130"/>
                    <a:pt x="5970" y="5171"/>
                    <a:pt x="6005" y="5159"/>
                  </a:cubicBezTo>
                  <a:cubicBezTo>
                    <a:pt x="5995" y="5241"/>
                    <a:pt x="5995" y="5317"/>
                    <a:pt x="5995" y="5399"/>
                  </a:cubicBezTo>
                  <a:cubicBezTo>
                    <a:pt x="5995" y="5376"/>
                    <a:pt x="5975" y="5364"/>
                    <a:pt x="5955" y="5364"/>
                  </a:cubicBezTo>
                  <a:cubicBezTo>
                    <a:pt x="5930" y="5364"/>
                    <a:pt x="5924" y="5388"/>
                    <a:pt x="5904" y="5399"/>
                  </a:cubicBezTo>
                  <a:cubicBezTo>
                    <a:pt x="5864" y="5452"/>
                    <a:pt x="5819" y="5511"/>
                    <a:pt x="5788" y="5563"/>
                  </a:cubicBezTo>
                  <a:cubicBezTo>
                    <a:pt x="5758" y="5511"/>
                    <a:pt x="5743" y="5440"/>
                    <a:pt x="5768" y="5376"/>
                  </a:cubicBezTo>
                  <a:cubicBezTo>
                    <a:pt x="5723" y="5388"/>
                    <a:pt x="5682" y="5417"/>
                    <a:pt x="5672" y="5452"/>
                  </a:cubicBezTo>
                  <a:cubicBezTo>
                    <a:pt x="5662" y="5499"/>
                    <a:pt x="5693" y="5552"/>
                    <a:pt x="5733" y="5540"/>
                  </a:cubicBezTo>
                  <a:cubicBezTo>
                    <a:pt x="5703" y="5575"/>
                    <a:pt x="5682" y="5622"/>
                    <a:pt x="5682" y="5675"/>
                  </a:cubicBezTo>
                  <a:cubicBezTo>
                    <a:pt x="5682" y="5722"/>
                    <a:pt x="5723" y="5786"/>
                    <a:pt x="5768" y="5757"/>
                  </a:cubicBezTo>
                  <a:cubicBezTo>
                    <a:pt x="5788" y="5798"/>
                    <a:pt x="5763" y="5833"/>
                    <a:pt x="5743" y="5868"/>
                  </a:cubicBezTo>
                  <a:cubicBezTo>
                    <a:pt x="5718" y="5903"/>
                    <a:pt x="5693" y="5932"/>
                    <a:pt x="5703" y="5968"/>
                  </a:cubicBezTo>
                  <a:cubicBezTo>
                    <a:pt x="5682" y="5944"/>
                    <a:pt x="5652" y="5956"/>
                    <a:pt x="5637" y="5968"/>
                  </a:cubicBezTo>
                  <a:cubicBezTo>
                    <a:pt x="5617" y="5979"/>
                    <a:pt x="5607" y="6014"/>
                    <a:pt x="5597" y="6044"/>
                  </a:cubicBezTo>
                  <a:cubicBezTo>
                    <a:pt x="5607" y="6067"/>
                    <a:pt x="5607" y="6079"/>
                    <a:pt x="5617" y="6102"/>
                  </a:cubicBezTo>
                  <a:cubicBezTo>
                    <a:pt x="5567" y="6149"/>
                    <a:pt x="5481" y="6167"/>
                    <a:pt x="5415" y="6126"/>
                  </a:cubicBezTo>
                  <a:lnTo>
                    <a:pt x="5415" y="6137"/>
                  </a:lnTo>
                  <a:cubicBezTo>
                    <a:pt x="5415" y="6149"/>
                    <a:pt x="5405" y="6149"/>
                    <a:pt x="5395" y="6149"/>
                  </a:cubicBezTo>
                  <a:cubicBezTo>
                    <a:pt x="5375" y="6167"/>
                    <a:pt x="5375" y="6202"/>
                    <a:pt x="5385" y="6237"/>
                  </a:cubicBezTo>
                  <a:cubicBezTo>
                    <a:pt x="5395" y="6261"/>
                    <a:pt x="5415" y="6302"/>
                    <a:pt x="5405" y="6325"/>
                  </a:cubicBezTo>
                  <a:cubicBezTo>
                    <a:pt x="5405" y="6337"/>
                    <a:pt x="5395" y="6360"/>
                    <a:pt x="5395" y="6372"/>
                  </a:cubicBezTo>
                  <a:cubicBezTo>
                    <a:pt x="5395" y="6407"/>
                    <a:pt x="5440" y="6436"/>
                    <a:pt x="5440" y="6471"/>
                  </a:cubicBezTo>
                  <a:cubicBezTo>
                    <a:pt x="5440" y="6483"/>
                    <a:pt x="5440" y="6507"/>
                    <a:pt x="5430" y="6518"/>
                  </a:cubicBezTo>
                  <a:cubicBezTo>
                    <a:pt x="5405" y="6571"/>
                    <a:pt x="5385" y="6618"/>
                    <a:pt x="5335" y="6630"/>
                  </a:cubicBezTo>
                  <a:cubicBezTo>
                    <a:pt x="5279" y="6641"/>
                    <a:pt x="5229" y="6571"/>
                    <a:pt x="5239" y="6507"/>
                  </a:cubicBezTo>
                  <a:cubicBezTo>
                    <a:pt x="5239" y="6448"/>
                    <a:pt x="5279" y="6384"/>
                    <a:pt x="5335" y="6360"/>
                  </a:cubicBezTo>
                  <a:cubicBezTo>
                    <a:pt x="5299" y="6325"/>
                    <a:pt x="5249" y="6313"/>
                    <a:pt x="5203" y="6337"/>
                  </a:cubicBezTo>
                  <a:cubicBezTo>
                    <a:pt x="5183" y="6348"/>
                    <a:pt x="5163" y="6395"/>
                    <a:pt x="5183" y="6407"/>
                  </a:cubicBezTo>
                  <a:cubicBezTo>
                    <a:pt x="5133" y="6384"/>
                    <a:pt x="5077" y="6407"/>
                    <a:pt x="5037" y="6448"/>
                  </a:cubicBezTo>
                  <a:cubicBezTo>
                    <a:pt x="5057" y="6507"/>
                    <a:pt x="5088" y="6571"/>
                    <a:pt x="5113" y="6630"/>
                  </a:cubicBezTo>
                  <a:cubicBezTo>
                    <a:pt x="5123" y="6641"/>
                    <a:pt x="5123" y="6653"/>
                    <a:pt x="5123" y="6682"/>
                  </a:cubicBezTo>
                  <a:cubicBezTo>
                    <a:pt x="5123" y="6694"/>
                    <a:pt x="5113" y="6706"/>
                    <a:pt x="5113" y="6717"/>
                  </a:cubicBezTo>
                  <a:cubicBezTo>
                    <a:pt x="5077" y="6753"/>
                    <a:pt x="5027" y="6764"/>
                    <a:pt x="4997" y="6741"/>
                  </a:cubicBezTo>
                  <a:cubicBezTo>
                    <a:pt x="5007" y="6753"/>
                    <a:pt x="5007" y="6764"/>
                    <a:pt x="4997" y="6764"/>
                  </a:cubicBezTo>
                  <a:cubicBezTo>
                    <a:pt x="4982" y="6776"/>
                    <a:pt x="4961" y="6764"/>
                    <a:pt x="4951" y="6764"/>
                  </a:cubicBezTo>
                  <a:cubicBezTo>
                    <a:pt x="4941" y="6753"/>
                    <a:pt x="4931" y="6741"/>
                    <a:pt x="4921" y="6741"/>
                  </a:cubicBezTo>
                  <a:cubicBezTo>
                    <a:pt x="4891" y="6729"/>
                    <a:pt x="4856" y="6764"/>
                    <a:pt x="4866" y="6805"/>
                  </a:cubicBezTo>
                  <a:cubicBezTo>
                    <a:pt x="4866" y="6840"/>
                    <a:pt x="4901" y="6852"/>
                    <a:pt x="4911" y="6887"/>
                  </a:cubicBezTo>
                  <a:cubicBezTo>
                    <a:pt x="4921" y="6940"/>
                    <a:pt x="4866" y="6975"/>
                    <a:pt x="4825" y="6987"/>
                  </a:cubicBezTo>
                  <a:cubicBezTo>
                    <a:pt x="4785" y="6999"/>
                    <a:pt x="4740" y="7051"/>
                    <a:pt x="4760" y="7098"/>
                  </a:cubicBezTo>
                  <a:cubicBezTo>
                    <a:pt x="4730" y="7063"/>
                    <a:pt x="4674" y="7063"/>
                    <a:pt x="4644" y="7098"/>
                  </a:cubicBezTo>
                  <a:cubicBezTo>
                    <a:pt x="4609" y="7133"/>
                    <a:pt x="4593" y="7186"/>
                    <a:pt x="4583" y="7233"/>
                  </a:cubicBezTo>
                  <a:cubicBezTo>
                    <a:pt x="4538" y="7256"/>
                    <a:pt x="4508" y="7309"/>
                    <a:pt x="4477" y="7344"/>
                  </a:cubicBezTo>
                  <a:cubicBezTo>
                    <a:pt x="4442" y="7379"/>
                    <a:pt x="4392" y="7420"/>
                    <a:pt x="4351" y="7403"/>
                  </a:cubicBezTo>
                  <a:cubicBezTo>
                    <a:pt x="4372" y="7444"/>
                    <a:pt x="4346" y="7497"/>
                    <a:pt x="4326" y="7526"/>
                  </a:cubicBezTo>
                  <a:cubicBezTo>
                    <a:pt x="4291" y="7561"/>
                    <a:pt x="4266" y="7590"/>
                    <a:pt x="4246" y="7626"/>
                  </a:cubicBezTo>
                  <a:cubicBezTo>
                    <a:pt x="4230" y="7649"/>
                    <a:pt x="4230" y="7661"/>
                    <a:pt x="4220" y="7690"/>
                  </a:cubicBezTo>
                  <a:cubicBezTo>
                    <a:pt x="4200" y="7725"/>
                    <a:pt x="4160" y="7731"/>
                    <a:pt x="4140" y="7772"/>
                  </a:cubicBezTo>
                  <a:cubicBezTo>
                    <a:pt x="4114" y="7807"/>
                    <a:pt x="4124" y="7860"/>
                    <a:pt x="4124" y="7907"/>
                  </a:cubicBezTo>
                  <a:cubicBezTo>
                    <a:pt x="4124" y="7983"/>
                    <a:pt x="4084" y="8041"/>
                    <a:pt x="4064" y="8118"/>
                  </a:cubicBezTo>
                  <a:cubicBezTo>
                    <a:pt x="4044" y="8194"/>
                    <a:pt x="4024" y="8264"/>
                    <a:pt x="4064" y="8329"/>
                  </a:cubicBezTo>
                  <a:cubicBezTo>
                    <a:pt x="4094" y="8329"/>
                    <a:pt x="4104" y="8364"/>
                    <a:pt x="4104" y="8399"/>
                  </a:cubicBezTo>
                  <a:lnTo>
                    <a:pt x="4104" y="8598"/>
                  </a:lnTo>
                  <a:cubicBezTo>
                    <a:pt x="4104" y="8645"/>
                    <a:pt x="4104" y="8709"/>
                    <a:pt x="4140" y="8733"/>
                  </a:cubicBezTo>
                  <a:cubicBezTo>
                    <a:pt x="4150" y="8733"/>
                    <a:pt x="4150" y="8733"/>
                    <a:pt x="4160" y="8744"/>
                  </a:cubicBezTo>
                  <a:lnTo>
                    <a:pt x="4160" y="8756"/>
                  </a:lnTo>
                  <a:cubicBezTo>
                    <a:pt x="4150" y="8809"/>
                    <a:pt x="4150" y="8856"/>
                    <a:pt x="4140" y="8903"/>
                  </a:cubicBezTo>
                  <a:cubicBezTo>
                    <a:pt x="4140" y="8944"/>
                    <a:pt x="4150" y="8991"/>
                    <a:pt x="4180" y="8991"/>
                  </a:cubicBezTo>
                  <a:cubicBezTo>
                    <a:pt x="4180" y="9067"/>
                    <a:pt x="4170" y="9125"/>
                    <a:pt x="4160" y="9201"/>
                  </a:cubicBezTo>
                  <a:cubicBezTo>
                    <a:pt x="4200" y="9248"/>
                    <a:pt x="4200" y="9336"/>
                    <a:pt x="4160" y="9395"/>
                  </a:cubicBezTo>
                  <a:cubicBezTo>
                    <a:pt x="4230" y="9436"/>
                    <a:pt x="4256" y="9541"/>
                    <a:pt x="4210" y="9617"/>
                  </a:cubicBezTo>
                  <a:cubicBezTo>
                    <a:pt x="4246" y="9641"/>
                    <a:pt x="4286" y="9664"/>
                    <a:pt x="4306" y="9717"/>
                  </a:cubicBezTo>
                  <a:cubicBezTo>
                    <a:pt x="4326" y="9764"/>
                    <a:pt x="4316" y="9828"/>
                    <a:pt x="4276" y="9840"/>
                  </a:cubicBezTo>
                  <a:cubicBezTo>
                    <a:pt x="4336" y="9922"/>
                    <a:pt x="4361" y="10033"/>
                    <a:pt x="4336" y="10145"/>
                  </a:cubicBezTo>
                  <a:cubicBezTo>
                    <a:pt x="4372" y="10145"/>
                    <a:pt x="4392" y="10168"/>
                    <a:pt x="4402" y="10209"/>
                  </a:cubicBezTo>
                  <a:cubicBezTo>
                    <a:pt x="4412" y="10244"/>
                    <a:pt x="4422" y="10268"/>
                    <a:pt x="4442" y="10291"/>
                  </a:cubicBezTo>
                  <a:cubicBezTo>
                    <a:pt x="4477" y="10320"/>
                    <a:pt x="4508" y="10332"/>
                    <a:pt x="4548" y="10344"/>
                  </a:cubicBezTo>
                  <a:cubicBezTo>
                    <a:pt x="4624" y="10367"/>
                    <a:pt x="4664" y="10426"/>
                    <a:pt x="4730" y="10490"/>
                  </a:cubicBezTo>
                  <a:cubicBezTo>
                    <a:pt x="4785" y="10537"/>
                    <a:pt x="4856" y="10590"/>
                    <a:pt x="4931" y="10566"/>
                  </a:cubicBezTo>
                  <a:cubicBezTo>
                    <a:pt x="4982" y="10537"/>
                    <a:pt x="5027" y="10479"/>
                    <a:pt x="5077" y="10455"/>
                  </a:cubicBezTo>
                  <a:cubicBezTo>
                    <a:pt x="5113" y="10426"/>
                    <a:pt x="5153" y="10426"/>
                    <a:pt x="5193" y="10414"/>
                  </a:cubicBezTo>
                  <a:cubicBezTo>
                    <a:pt x="5239" y="10402"/>
                    <a:pt x="5269" y="10367"/>
                    <a:pt x="5259" y="10320"/>
                  </a:cubicBezTo>
                  <a:cubicBezTo>
                    <a:pt x="5259" y="10303"/>
                    <a:pt x="5249" y="10279"/>
                    <a:pt x="5249" y="10268"/>
                  </a:cubicBezTo>
                  <a:cubicBezTo>
                    <a:pt x="5249" y="10233"/>
                    <a:pt x="5274" y="10221"/>
                    <a:pt x="5299" y="10209"/>
                  </a:cubicBezTo>
                  <a:cubicBezTo>
                    <a:pt x="5319" y="10197"/>
                    <a:pt x="5355" y="10197"/>
                    <a:pt x="5375" y="10186"/>
                  </a:cubicBezTo>
                  <a:cubicBezTo>
                    <a:pt x="5405" y="10156"/>
                    <a:pt x="5430" y="10121"/>
                    <a:pt x="5451" y="10086"/>
                  </a:cubicBezTo>
                  <a:cubicBezTo>
                    <a:pt x="5481" y="10033"/>
                    <a:pt x="5531" y="10010"/>
                    <a:pt x="5587" y="9986"/>
                  </a:cubicBezTo>
                  <a:cubicBezTo>
                    <a:pt x="5672" y="9951"/>
                    <a:pt x="5768" y="9899"/>
                    <a:pt x="5849" y="9951"/>
                  </a:cubicBezTo>
                  <a:cubicBezTo>
                    <a:pt x="5884" y="9975"/>
                    <a:pt x="5914" y="10010"/>
                    <a:pt x="5894" y="10045"/>
                  </a:cubicBezTo>
                  <a:cubicBezTo>
                    <a:pt x="5955" y="10121"/>
                    <a:pt x="5995" y="10221"/>
                    <a:pt x="5995" y="10320"/>
                  </a:cubicBezTo>
                  <a:cubicBezTo>
                    <a:pt x="5995" y="10379"/>
                    <a:pt x="5995" y="10455"/>
                    <a:pt x="6046" y="10479"/>
                  </a:cubicBezTo>
                  <a:cubicBezTo>
                    <a:pt x="6005" y="10502"/>
                    <a:pt x="6015" y="10590"/>
                    <a:pt x="6046" y="10625"/>
                  </a:cubicBezTo>
                  <a:cubicBezTo>
                    <a:pt x="6081" y="10660"/>
                    <a:pt x="6111" y="10725"/>
                    <a:pt x="6091" y="10760"/>
                  </a:cubicBezTo>
                  <a:lnTo>
                    <a:pt x="6343" y="11129"/>
                  </a:lnTo>
                  <a:cubicBezTo>
                    <a:pt x="6353" y="11141"/>
                    <a:pt x="6363" y="11164"/>
                    <a:pt x="6373" y="11193"/>
                  </a:cubicBezTo>
                  <a:cubicBezTo>
                    <a:pt x="6373" y="11205"/>
                    <a:pt x="6373" y="11228"/>
                    <a:pt x="6383" y="11240"/>
                  </a:cubicBezTo>
                  <a:cubicBezTo>
                    <a:pt x="6398" y="11275"/>
                    <a:pt x="6449" y="11287"/>
                    <a:pt x="6439" y="11328"/>
                  </a:cubicBezTo>
                  <a:cubicBezTo>
                    <a:pt x="6429" y="11340"/>
                    <a:pt x="6419" y="11340"/>
                    <a:pt x="6398" y="11351"/>
                  </a:cubicBezTo>
                  <a:cubicBezTo>
                    <a:pt x="6429" y="11398"/>
                    <a:pt x="6383" y="11463"/>
                    <a:pt x="6333" y="11498"/>
                  </a:cubicBezTo>
                  <a:cubicBezTo>
                    <a:pt x="6293" y="11533"/>
                    <a:pt x="6237" y="11586"/>
                    <a:pt x="6257" y="11633"/>
                  </a:cubicBezTo>
                  <a:cubicBezTo>
                    <a:pt x="6333" y="11697"/>
                    <a:pt x="6409" y="11721"/>
                    <a:pt x="6489" y="11732"/>
                  </a:cubicBezTo>
                  <a:cubicBezTo>
                    <a:pt x="6514" y="11767"/>
                    <a:pt x="6514" y="11803"/>
                    <a:pt x="6514" y="11844"/>
                  </a:cubicBezTo>
                  <a:cubicBezTo>
                    <a:pt x="6535" y="11832"/>
                    <a:pt x="6565" y="11855"/>
                    <a:pt x="6555" y="11890"/>
                  </a:cubicBezTo>
                  <a:cubicBezTo>
                    <a:pt x="6555" y="11914"/>
                    <a:pt x="6535" y="11943"/>
                    <a:pt x="6514" y="11967"/>
                  </a:cubicBezTo>
                  <a:cubicBezTo>
                    <a:pt x="6585" y="12025"/>
                    <a:pt x="6671" y="12060"/>
                    <a:pt x="6767" y="12060"/>
                  </a:cubicBezTo>
                  <a:cubicBezTo>
                    <a:pt x="6736" y="12037"/>
                    <a:pt x="6746" y="11978"/>
                    <a:pt x="6767" y="11926"/>
                  </a:cubicBezTo>
                  <a:cubicBezTo>
                    <a:pt x="6787" y="11890"/>
                    <a:pt x="6817" y="11844"/>
                    <a:pt x="6807" y="11791"/>
                  </a:cubicBezTo>
                  <a:cubicBezTo>
                    <a:pt x="6807" y="11779"/>
                    <a:pt x="6797" y="11767"/>
                    <a:pt x="6807" y="11756"/>
                  </a:cubicBezTo>
                  <a:cubicBezTo>
                    <a:pt x="6807" y="11732"/>
                    <a:pt x="6832" y="11721"/>
                    <a:pt x="6842" y="11721"/>
                  </a:cubicBezTo>
                  <a:cubicBezTo>
                    <a:pt x="6978" y="11621"/>
                    <a:pt x="7160" y="11621"/>
                    <a:pt x="7296" y="11709"/>
                  </a:cubicBezTo>
                  <a:cubicBezTo>
                    <a:pt x="7286" y="11668"/>
                    <a:pt x="7316" y="11633"/>
                    <a:pt x="7346" y="11609"/>
                  </a:cubicBezTo>
                  <a:cubicBezTo>
                    <a:pt x="7382" y="11598"/>
                    <a:pt x="7422" y="11586"/>
                    <a:pt x="7442" y="11545"/>
                  </a:cubicBezTo>
                  <a:cubicBezTo>
                    <a:pt x="7462" y="11510"/>
                    <a:pt x="7462" y="11475"/>
                    <a:pt x="7472" y="11433"/>
                  </a:cubicBezTo>
                  <a:cubicBezTo>
                    <a:pt x="7488" y="11398"/>
                    <a:pt x="7528" y="11363"/>
                    <a:pt x="7558" y="11398"/>
                  </a:cubicBezTo>
                  <a:cubicBezTo>
                    <a:pt x="7548" y="11340"/>
                    <a:pt x="7538" y="11252"/>
                    <a:pt x="7578" y="11217"/>
                  </a:cubicBezTo>
                  <a:cubicBezTo>
                    <a:pt x="7548" y="11205"/>
                    <a:pt x="7508" y="11176"/>
                    <a:pt x="7518" y="11141"/>
                  </a:cubicBezTo>
                  <a:cubicBezTo>
                    <a:pt x="7518" y="11129"/>
                    <a:pt x="7528" y="11117"/>
                    <a:pt x="7538" y="11105"/>
                  </a:cubicBezTo>
                  <a:cubicBezTo>
                    <a:pt x="7578" y="11029"/>
                    <a:pt x="7578" y="10930"/>
                    <a:pt x="7538" y="10859"/>
                  </a:cubicBezTo>
                  <a:cubicBezTo>
                    <a:pt x="7518" y="10848"/>
                    <a:pt x="7548" y="10824"/>
                    <a:pt x="7558" y="10795"/>
                  </a:cubicBezTo>
                  <a:cubicBezTo>
                    <a:pt x="7614" y="10713"/>
                    <a:pt x="7452" y="10602"/>
                    <a:pt x="7498" y="10514"/>
                  </a:cubicBezTo>
                  <a:cubicBezTo>
                    <a:pt x="7508" y="10502"/>
                    <a:pt x="7528" y="10490"/>
                    <a:pt x="7538" y="10479"/>
                  </a:cubicBezTo>
                  <a:cubicBezTo>
                    <a:pt x="7593" y="10426"/>
                    <a:pt x="7624" y="10344"/>
                    <a:pt x="7603" y="10268"/>
                  </a:cubicBezTo>
                  <a:cubicBezTo>
                    <a:pt x="7593" y="10244"/>
                    <a:pt x="7593" y="10233"/>
                    <a:pt x="7578" y="10209"/>
                  </a:cubicBezTo>
                  <a:cubicBezTo>
                    <a:pt x="7578" y="10121"/>
                    <a:pt x="7664" y="10098"/>
                    <a:pt x="7740" y="10074"/>
                  </a:cubicBezTo>
                  <a:cubicBezTo>
                    <a:pt x="7825" y="10045"/>
                    <a:pt x="7896" y="10010"/>
                    <a:pt x="7972" y="9963"/>
                  </a:cubicBezTo>
                  <a:cubicBezTo>
                    <a:pt x="8027" y="9922"/>
                    <a:pt x="8077" y="9887"/>
                    <a:pt x="8133" y="9840"/>
                  </a:cubicBezTo>
                  <a:cubicBezTo>
                    <a:pt x="8098" y="9828"/>
                    <a:pt x="8098" y="9776"/>
                    <a:pt x="8118" y="9752"/>
                  </a:cubicBezTo>
                  <a:cubicBezTo>
                    <a:pt x="8143" y="9729"/>
                    <a:pt x="8173" y="9717"/>
                    <a:pt x="8193" y="9694"/>
                  </a:cubicBezTo>
                  <a:cubicBezTo>
                    <a:pt x="8259" y="9653"/>
                    <a:pt x="8319" y="9559"/>
                    <a:pt x="8279" y="9494"/>
                  </a:cubicBezTo>
                  <a:cubicBezTo>
                    <a:pt x="8269" y="9483"/>
                    <a:pt x="8259" y="9471"/>
                    <a:pt x="8259" y="9459"/>
                  </a:cubicBezTo>
                  <a:cubicBezTo>
                    <a:pt x="8249" y="9436"/>
                    <a:pt x="8279" y="9406"/>
                    <a:pt x="8289" y="9371"/>
                  </a:cubicBezTo>
                  <a:cubicBezTo>
                    <a:pt x="8309" y="9295"/>
                    <a:pt x="8183" y="9260"/>
                    <a:pt x="8183" y="9172"/>
                  </a:cubicBezTo>
                  <a:cubicBezTo>
                    <a:pt x="8239" y="9149"/>
                    <a:pt x="8214" y="9067"/>
                    <a:pt x="8183" y="9002"/>
                  </a:cubicBezTo>
                  <a:cubicBezTo>
                    <a:pt x="8163" y="8967"/>
                    <a:pt x="8133" y="8914"/>
                    <a:pt x="8088" y="8903"/>
                  </a:cubicBezTo>
                  <a:cubicBezTo>
                    <a:pt x="8047" y="8879"/>
                    <a:pt x="7992" y="8891"/>
                    <a:pt x="7972" y="8944"/>
                  </a:cubicBezTo>
                  <a:cubicBezTo>
                    <a:pt x="7931" y="8879"/>
                    <a:pt x="7866" y="8832"/>
                    <a:pt x="7790" y="8821"/>
                  </a:cubicBezTo>
                  <a:cubicBezTo>
                    <a:pt x="7770" y="8821"/>
                    <a:pt x="7750" y="8809"/>
                    <a:pt x="7730" y="8791"/>
                  </a:cubicBezTo>
                  <a:cubicBezTo>
                    <a:pt x="7674" y="8756"/>
                    <a:pt x="7699" y="8645"/>
                    <a:pt x="7750" y="8633"/>
                  </a:cubicBezTo>
                  <a:cubicBezTo>
                    <a:pt x="7709" y="8633"/>
                    <a:pt x="7674" y="8586"/>
                    <a:pt x="7664" y="8534"/>
                  </a:cubicBezTo>
                  <a:cubicBezTo>
                    <a:pt x="7654" y="8487"/>
                    <a:pt x="7654" y="8428"/>
                    <a:pt x="7634" y="8387"/>
                  </a:cubicBezTo>
                  <a:cubicBezTo>
                    <a:pt x="7664" y="8399"/>
                    <a:pt x="7699" y="8364"/>
                    <a:pt x="7699" y="8329"/>
                  </a:cubicBezTo>
                  <a:cubicBezTo>
                    <a:pt x="7699" y="8288"/>
                    <a:pt x="7684" y="8252"/>
                    <a:pt x="7664" y="8217"/>
                  </a:cubicBezTo>
                  <a:cubicBezTo>
                    <a:pt x="7654" y="8182"/>
                    <a:pt x="7644" y="8141"/>
                    <a:pt x="7664" y="8106"/>
                  </a:cubicBezTo>
                  <a:lnTo>
                    <a:pt x="7740" y="8106"/>
                  </a:lnTo>
                  <a:cubicBezTo>
                    <a:pt x="7740" y="8059"/>
                    <a:pt x="7740" y="7995"/>
                    <a:pt x="7760" y="7948"/>
                  </a:cubicBezTo>
                  <a:cubicBezTo>
                    <a:pt x="7730" y="7883"/>
                    <a:pt x="7825" y="7813"/>
                    <a:pt x="7815" y="7737"/>
                  </a:cubicBezTo>
                  <a:cubicBezTo>
                    <a:pt x="7815" y="7713"/>
                    <a:pt x="7805" y="7702"/>
                    <a:pt x="7790" y="7690"/>
                  </a:cubicBezTo>
                  <a:cubicBezTo>
                    <a:pt x="7770" y="7649"/>
                    <a:pt x="7770" y="7590"/>
                    <a:pt x="7780" y="7555"/>
                  </a:cubicBezTo>
                  <a:cubicBezTo>
                    <a:pt x="7815" y="7567"/>
                    <a:pt x="7825" y="7514"/>
                    <a:pt x="7835" y="7479"/>
                  </a:cubicBezTo>
                  <a:cubicBezTo>
                    <a:pt x="7856" y="7420"/>
                    <a:pt x="7906" y="7391"/>
                    <a:pt x="7961" y="7356"/>
                  </a:cubicBezTo>
                  <a:cubicBezTo>
                    <a:pt x="8002" y="7321"/>
                    <a:pt x="8047" y="7245"/>
                    <a:pt x="8012" y="7198"/>
                  </a:cubicBezTo>
                  <a:cubicBezTo>
                    <a:pt x="8077" y="7210"/>
                    <a:pt x="8143" y="7122"/>
                    <a:pt x="8133" y="7051"/>
                  </a:cubicBezTo>
                  <a:cubicBezTo>
                    <a:pt x="8259" y="7034"/>
                    <a:pt x="8330" y="6876"/>
                    <a:pt x="8375" y="6741"/>
                  </a:cubicBezTo>
                  <a:cubicBezTo>
                    <a:pt x="8385" y="6794"/>
                    <a:pt x="8461" y="6764"/>
                    <a:pt x="8491" y="6717"/>
                  </a:cubicBezTo>
                  <a:lnTo>
                    <a:pt x="8551" y="6641"/>
                  </a:lnTo>
                  <a:cubicBezTo>
                    <a:pt x="8577" y="6618"/>
                    <a:pt x="8607" y="6583"/>
                    <a:pt x="8637" y="6583"/>
                  </a:cubicBezTo>
                  <a:cubicBezTo>
                    <a:pt x="8672" y="6583"/>
                    <a:pt x="8703" y="6618"/>
                    <a:pt x="8693" y="6653"/>
                  </a:cubicBezTo>
                  <a:cubicBezTo>
                    <a:pt x="8713" y="6682"/>
                    <a:pt x="8753" y="6630"/>
                    <a:pt x="8743" y="6594"/>
                  </a:cubicBezTo>
                  <a:cubicBezTo>
                    <a:pt x="8743" y="6559"/>
                    <a:pt x="8723" y="6518"/>
                    <a:pt x="8723" y="6483"/>
                  </a:cubicBezTo>
                  <a:cubicBezTo>
                    <a:pt x="8723" y="6425"/>
                    <a:pt x="8778" y="6395"/>
                    <a:pt x="8809" y="6360"/>
                  </a:cubicBezTo>
                  <a:cubicBezTo>
                    <a:pt x="8839" y="6325"/>
                    <a:pt x="8839" y="6225"/>
                    <a:pt x="8788" y="6237"/>
                  </a:cubicBezTo>
                  <a:cubicBezTo>
                    <a:pt x="8809" y="6178"/>
                    <a:pt x="8904" y="6225"/>
                    <a:pt x="8935" y="6178"/>
                  </a:cubicBezTo>
                  <a:cubicBezTo>
                    <a:pt x="8955" y="6137"/>
                    <a:pt x="8955" y="6079"/>
                    <a:pt x="8985" y="6079"/>
                  </a:cubicBezTo>
                  <a:cubicBezTo>
                    <a:pt x="8985" y="6044"/>
                    <a:pt x="8945" y="6026"/>
                    <a:pt x="8924" y="6003"/>
                  </a:cubicBezTo>
                  <a:cubicBezTo>
                    <a:pt x="8894" y="5968"/>
                    <a:pt x="8894" y="5921"/>
                    <a:pt x="8894" y="5868"/>
                  </a:cubicBezTo>
                  <a:cubicBezTo>
                    <a:pt x="8894" y="5821"/>
                    <a:pt x="8859" y="5768"/>
                    <a:pt x="8819" y="5768"/>
                  </a:cubicBezTo>
                  <a:lnTo>
                    <a:pt x="8924" y="5645"/>
                  </a:lnTo>
                  <a:cubicBezTo>
                    <a:pt x="8955" y="5610"/>
                    <a:pt x="9000" y="5563"/>
                    <a:pt x="9020" y="5511"/>
                  </a:cubicBezTo>
                  <a:cubicBezTo>
                    <a:pt x="9040" y="5464"/>
                    <a:pt x="9040" y="5388"/>
                    <a:pt x="9010" y="5341"/>
                  </a:cubicBezTo>
                  <a:cubicBezTo>
                    <a:pt x="9040" y="5352"/>
                    <a:pt x="9081" y="5317"/>
                    <a:pt x="9081" y="5276"/>
                  </a:cubicBezTo>
                  <a:cubicBezTo>
                    <a:pt x="9091" y="5276"/>
                    <a:pt x="9116" y="5294"/>
                    <a:pt x="9126" y="5294"/>
                  </a:cubicBezTo>
                  <a:cubicBezTo>
                    <a:pt x="9146" y="5241"/>
                    <a:pt x="9177" y="5206"/>
                    <a:pt x="9212" y="5183"/>
                  </a:cubicBezTo>
                  <a:cubicBezTo>
                    <a:pt x="9232" y="5194"/>
                    <a:pt x="9242" y="5206"/>
                    <a:pt x="9262" y="5218"/>
                  </a:cubicBezTo>
                  <a:cubicBezTo>
                    <a:pt x="9303" y="5171"/>
                    <a:pt x="9303" y="5095"/>
                    <a:pt x="9272" y="5048"/>
                  </a:cubicBezTo>
                  <a:cubicBezTo>
                    <a:pt x="9434" y="5036"/>
                    <a:pt x="9590" y="5019"/>
                    <a:pt x="9751" y="5036"/>
                  </a:cubicBezTo>
                  <a:cubicBezTo>
                    <a:pt x="9782" y="5071"/>
                    <a:pt x="9822" y="5095"/>
                    <a:pt x="9852" y="5130"/>
                  </a:cubicBezTo>
                  <a:lnTo>
                    <a:pt x="9908" y="5130"/>
                  </a:lnTo>
                  <a:cubicBezTo>
                    <a:pt x="9852" y="5194"/>
                    <a:pt x="9918" y="5294"/>
                    <a:pt x="9973" y="5352"/>
                  </a:cubicBezTo>
                  <a:cubicBezTo>
                    <a:pt x="9938" y="5364"/>
                    <a:pt x="9918" y="5429"/>
                    <a:pt x="9928" y="5464"/>
                  </a:cubicBezTo>
                  <a:cubicBezTo>
                    <a:pt x="9938" y="5487"/>
                    <a:pt x="9948" y="5511"/>
                    <a:pt x="9948" y="5522"/>
                  </a:cubicBezTo>
                  <a:cubicBezTo>
                    <a:pt x="9938" y="5563"/>
                    <a:pt x="9898" y="5552"/>
                    <a:pt x="9877" y="5540"/>
                  </a:cubicBezTo>
                  <a:cubicBezTo>
                    <a:pt x="9852" y="5511"/>
                    <a:pt x="9832" y="5487"/>
                    <a:pt x="9802" y="5487"/>
                  </a:cubicBezTo>
                  <a:cubicBezTo>
                    <a:pt x="9782" y="5563"/>
                    <a:pt x="9792" y="5663"/>
                    <a:pt x="9832" y="5722"/>
                  </a:cubicBezTo>
                  <a:cubicBezTo>
                    <a:pt x="9782" y="5722"/>
                    <a:pt x="9736" y="5757"/>
                    <a:pt x="9706" y="5798"/>
                  </a:cubicBezTo>
                  <a:cubicBezTo>
                    <a:pt x="9686" y="5821"/>
                    <a:pt x="9666" y="5845"/>
                    <a:pt x="9656" y="5868"/>
                  </a:cubicBezTo>
                  <a:cubicBezTo>
                    <a:pt x="9646" y="5891"/>
                    <a:pt x="9646" y="5944"/>
                    <a:pt x="9666" y="5956"/>
                  </a:cubicBezTo>
                  <a:lnTo>
                    <a:pt x="9600" y="6026"/>
                  </a:lnTo>
                  <a:cubicBezTo>
                    <a:pt x="9610" y="6055"/>
                    <a:pt x="9630" y="6067"/>
                    <a:pt x="9646" y="6091"/>
                  </a:cubicBezTo>
                  <a:cubicBezTo>
                    <a:pt x="9550" y="6126"/>
                    <a:pt x="9474" y="6225"/>
                    <a:pt x="9454" y="6337"/>
                  </a:cubicBezTo>
                  <a:cubicBezTo>
                    <a:pt x="9398" y="6360"/>
                    <a:pt x="9348" y="6395"/>
                    <a:pt x="9303" y="6460"/>
                  </a:cubicBezTo>
                  <a:cubicBezTo>
                    <a:pt x="9303" y="6425"/>
                    <a:pt x="9262" y="6407"/>
                    <a:pt x="9232" y="6436"/>
                  </a:cubicBezTo>
                  <a:cubicBezTo>
                    <a:pt x="9212" y="6460"/>
                    <a:pt x="9197" y="6483"/>
                    <a:pt x="9187" y="6518"/>
                  </a:cubicBezTo>
                  <a:cubicBezTo>
                    <a:pt x="9167" y="6583"/>
                    <a:pt x="9156" y="6641"/>
                    <a:pt x="9136" y="6706"/>
                  </a:cubicBezTo>
                  <a:cubicBezTo>
                    <a:pt x="9071" y="6829"/>
                    <a:pt x="8914" y="6864"/>
                    <a:pt x="8809" y="6794"/>
                  </a:cubicBezTo>
                  <a:cubicBezTo>
                    <a:pt x="8788" y="6805"/>
                    <a:pt x="8763" y="6840"/>
                    <a:pt x="8778" y="6864"/>
                  </a:cubicBezTo>
                  <a:cubicBezTo>
                    <a:pt x="8788" y="6887"/>
                    <a:pt x="8819" y="6917"/>
                    <a:pt x="8839" y="6899"/>
                  </a:cubicBezTo>
                  <a:cubicBezTo>
                    <a:pt x="8849" y="6928"/>
                    <a:pt x="8829" y="6952"/>
                    <a:pt x="8809" y="6964"/>
                  </a:cubicBezTo>
                  <a:cubicBezTo>
                    <a:pt x="8788" y="6964"/>
                    <a:pt x="8753" y="6952"/>
                    <a:pt x="8733" y="6964"/>
                  </a:cubicBezTo>
                  <a:cubicBezTo>
                    <a:pt x="8703" y="6975"/>
                    <a:pt x="8682" y="6993"/>
                    <a:pt x="8682" y="7034"/>
                  </a:cubicBezTo>
                  <a:cubicBezTo>
                    <a:pt x="8682" y="7069"/>
                    <a:pt x="8713" y="7098"/>
                    <a:pt x="8733" y="7110"/>
                  </a:cubicBezTo>
                  <a:cubicBezTo>
                    <a:pt x="8693" y="7157"/>
                    <a:pt x="8693" y="7233"/>
                    <a:pt x="8713" y="7280"/>
                  </a:cubicBezTo>
                  <a:cubicBezTo>
                    <a:pt x="8723" y="7309"/>
                    <a:pt x="8733" y="7321"/>
                    <a:pt x="8743" y="7333"/>
                  </a:cubicBezTo>
                  <a:cubicBezTo>
                    <a:pt x="8763" y="7368"/>
                    <a:pt x="8753" y="7432"/>
                    <a:pt x="8753" y="7479"/>
                  </a:cubicBezTo>
                  <a:cubicBezTo>
                    <a:pt x="8753" y="7526"/>
                    <a:pt x="8788" y="7579"/>
                    <a:pt x="8829" y="7579"/>
                  </a:cubicBezTo>
                  <a:cubicBezTo>
                    <a:pt x="8798" y="7626"/>
                    <a:pt x="8809" y="7690"/>
                    <a:pt x="8839" y="7725"/>
                  </a:cubicBezTo>
                  <a:cubicBezTo>
                    <a:pt x="8819" y="7737"/>
                    <a:pt x="8798" y="7760"/>
                    <a:pt x="8778" y="7772"/>
                  </a:cubicBezTo>
                  <a:cubicBezTo>
                    <a:pt x="8859" y="7860"/>
                    <a:pt x="8904" y="8006"/>
                    <a:pt x="8849" y="8129"/>
                  </a:cubicBezTo>
                  <a:cubicBezTo>
                    <a:pt x="8839" y="8153"/>
                    <a:pt x="8819" y="8194"/>
                    <a:pt x="8829" y="8217"/>
                  </a:cubicBezTo>
                  <a:cubicBezTo>
                    <a:pt x="8829" y="8241"/>
                    <a:pt x="8849" y="8264"/>
                    <a:pt x="8849" y="8276"/>
                  </a:cubicBezTo>
                  <a:cubicBezTo>
                    <a:pt x="8859" y="8329"/>
                    <a:pt x="8839" y="8375"/>
                    <a:pt x="8819" y="8428"/>
                  </a:cubicBezTo>
                  <a:cubicBezTo>
                    <a:pt x="8798" y="8475"/>
                    <a:pt x="8798" y="8551"/>
                    <a:pt x="8849" y="8563"/>
                  </a:cubicBezTo>
                  <a:cubicBezTo>
                    <a:pt x="8788" y="8633"/>
                    <a:pt x="8733" y="8721"/>
                    <a:pt x="8693" y="8809"/>
                  </a:cubicBezTo>
                  <a:cubicBezTo>
                    <a:pt x="8682" y="8791"/>
                    <a:pt x="8657" y="8791"/>
                    <a:pt x="8647" y="8780"/>
                  </a:cubicBezTo>
                  <a:cubicBezTo>
                    <a:pt x="8627" y="8791"/>
                    <a:pt x="8627" y="8821"/>
                    <a:pt x="8627" y="8844"/>
                  </a:cubicBezTo>
                  <a:cubicBezTo>
                    <a:pt x="8567" y="8879"/>
                    <a:pt x="8481" y="8868"/>
                    <a:pt x="8415" y="8832"/>
                  </a:cubicBezTo>
                  <a:cubicBezTo>
                    <a:pt x="8395" y="8809"/>
                    <a:pt x="8355" y="8844"/>
                    <a:pt x="8355" y="8891"/>
                  </a:cubicBezTo>
                  <a:cubicBezTo>
                    <a:pt x="8355" y="8932"/>
                    <a:pt x="8375" y="8979"/>
                    <a:pt x="8355" y="9014"/>
                  </a:cubicBezTo>
                  <a:cubicBezTo>
                    <a:pt x="8345" y="9037"/>
                    <a:pt x="8319" y="9067"/>
                    <a:pt x="8330" y="9090"/>
                  </a:cubicBezTo>
                  <a:cubicBezTo>
                    <a:pt x="8345" y="9102"/>
                    <a:pt x="8355" y="9102"/>
                    <a:pt x="8365" y="9102"/>
                  </a:cubicBezTo>
                  <a:cubicBezTo>
                    <a:pt x="8395" y="9125"/>
                    <a:pt x="8355" y="9190"/>
                    <a:pt x="8375" y="9225"/>
                  </a:cubicBezTo>
                  <a:cubicBezTo>
                    <a:pt x="8385" y="9237"/>
                    <a:pt x="8395" y="9237"/>
                    <a:pt x="8405" y="9248"/>
                  </a:cubicBezTo>
                  <a:cubicBezTo>
                    <a:pt x="8446" y="9260"/>
                    <a:pt x="8491" y="9272"/>
                    <a:pt x="8521" y="9283"/>
                  </a:cubicBezTo>
                  <a:cubicBezTo>
                    <a:pt x="8541" y="9283"/>
                    <a:pt x="8551" y="9295"/>
                    <a:pt x="8577" y="9283"/>
                  </a:cubicBezTo>
                  <a:cubicBezTo>
                    <a:pt x="8587" y="9272"/>
                    <a:pt x="8607" y="9260"/>
                    <a:pt x="8617" y="9260"/>
                  </a:cubicBezTo>
                  <a:cubicBezTo>
                    <a:pt x="8637" y="9248"/>
                    <a:pt x="8672" y="9272"/>
                    <a:pt x="8693" y="9283"/>
                  </a:cubicBezTo>
                  <a:cubicBezTo>
                    <a:pt x="8788" y="9348"/>
                    <a:pt x="8894" y="9324"/>
                    <a:pt x="9000" y="9313"/>
                  </a:cubicBezTo>
                  <a:cubicBezTo>
                    <a:pt x="9071" y="9295"/>
                    <a:pt x="9136" y="9283"/>
                    <a:pt x="9212" y="9272"/>
                  </a:cubicBezTo>
                  <a:cubicBezTo>
                    <a:pt x="9303" y="9260"/>
                    <a:pt x="9419" y="9295"/>
                    <a:pt x="9484" y="9225"/>
                  </a:cubicBezTo>
                  <a:cubicBezTo>
                    <a:pt x="9494" y="9213"/>
                    <a:pt x="9504" y="9201"/>
                    <a:pt x="9524" y="9190"/>
                  </a:cubicBezTo>
                  <a:cubicBezTo>
                    <a:pt x="9560" y="9160"/>
                    <a:pt x="9590" y="9160"/>
                    <a:pt x="9630" y="9160"/>
                  </a:cubicBezTo>
                  <a:lnTo>
                    <a:pt x="9736" y="9160"/>
                  </a:lnTo>
                  <a:cubicBezTo>
                    <a:pt x="9792" y="9160"/>
                    <a:pt x="9852" y="9160"/>
                    <a:pt x="9898" y="9125"/>
                  </a:cubicBezTo>
                  <a:cubicBezTo>
                    <a:pt x="9918" y="9102"/>
                    <a:pt x="9943" y="9067"/>
                    <a:pt x="9958" y="9055"/>
                  </a:cubicBezTo>
                  <a:cubicBezTo>
                    <a:pt x="10009" y="9026"/>
                    <a:pt x="10044" y="9067"/>
                    <a:pt x="10099" y="9067"/>
                  </a:cubicBezTo>
                  <a:cubicBezTo>
                    <a:pt x="10170" y="9078"/>
                    <a:pt x="10256" y="9037"/>
                    <a:pt x="10321" y="8991"/>
                  </a:cubicBezTo>
                  <a:cubicBezTo>
                    <a:pt x="10321" y="9014"/>
                    <a:pt x="10351" y="9002"/>
                    <a:pt x="10361" y="9002"/>
                  </a:cubicBezTo>
                  <a:cubicBezTo>
                    <a:pt x="10392" y="8979"/>
                    <a:pt x="10437" y="8955"/>
                    <a:pt x="10467" y="8944"/>
                  </a:cubicBezTo>
                  <a:cubicBezTo>
                    <a:pt x="10513" y="8944"/>
                    <a:pt x="10553" y="8967"/>
                    <a:pt x="10553" y="9014"/>
                  </a:cubicBezTo>
                  <a:cubicBezTo>
                    <a:pt x="10593" y="9014"/>
                    <a:pt x="10629" y="8991"/>
                    <a:pt x="10649" y="8955"/>
                  </a:cubicBezTo>
                  <a:cubicBezTo>
                    <a:pt x="10659" y="8944"/>
                    <a:pt x="10659" y="8932"/>
                    <a:pt x="10669" y="8932"/>
                  </a:cubicBezTo>
                  <a:cubicBezTo>
                    <a:pt x="10679" y="8914"/>
                    <a:pt x="10689" y="8932"/>
                    <a:pt x="10699" y="8932"/>
                  </a:cubicBezTo>
                  <a:cubicBezTo>
                    <a:pt x="10745" y="8944"/>
                    <a:pt x="10775" y="8944"/>
                    <a:pt x="10815" y="8955"/>
                  </a:cubicBezTo>
                  <a:cubicBezTo>
                    <a:pt x="10911" y="8955"/>
                    <a:pt x="10987" y="9037"/>
                    <a:pt x="11052" y="9114"/>
                  </a:cubicBezTo>
                  <a:cubicBezTo>
                    <a:pt x="11052" y="9160"/>
                    <a:pt x="11027" y="9225"/>
                    <a:pt x="10977" y="9237"/>
                  </a:cubicBezTo>
                  <a:lnTo>
                    <a:pt x="10911" y="9237"/>
                  </a:lnTo>
                  <a:cubicBezTo>
                    <a:pt x="10840" y="9237"/>
                    <a:pt x="10765" y="9336"/>
                    <a:pt x="10785" y="9418"/>
                  </a:cubicBezTo>
                  <a:cubicBezTo>
                    <a:pt x="10724" y="9436"/>
                    <a:pt x="10669" y="9506"/>
                    <a:pt x="10603" y="9506"/>
                  </a:cubicBezTo>
                  <a:cubicBezTo>
                    <a:pt x="10573" y="9506"/>
                    <a:pt x="10553" y="9483"/>
                    <a:pt x="10533" y="9483"/>
                  </a:cubicBezTo>
                  <a:cubicBezTo>
                    <a:pt x="10513" y="9471"/>
                    <a:pt x="10477" y="9483"/>
                    <a:pt x="10457" y="9506"/>
                  </a:cubicBezTo>
                  <a:cubicBezTo>
                    <a:pt x="10407" y="9459"/>
                    <a:pt x="10331" y="9447"/>
                    <a:pt x="10266" y="9436"/>
                  </a:cubicBezTo>
                  <a:lnTo>
                    <a:pt x="10014" y="9395"/>
                  </a:lnTo>
                  <a:lnTo>
                    <a:pt x="10014" y="9459"/>
                  </a:lnTo>
                  <a:cubicBezTo>
                    <a:pt x="9958" y="9471"/>
                    <a:pt x="9898" y="9459"/>
                    <a:pt x="9842" y="9436"/>
                  </a:cubicBezTo>
                  <a:cubicBezTo>
                    <a:pt x="9716" y="9530"/>
                    <a:pt x="9550" y="9571"/>
                    <a:pt x="9464" y="9717"/>
                  </a:cubicBezTo>
                  <a:cubicBezTo>
                    <a:pt x="9484" y="9729"/>
                    <a:pt x="9474" y="9752"/>
                    <a:pt x="9464" y="9764"/>
                  </a:cubicBezTo>
                  <a:cubicBezTo>
                    <a:pt x="9454" y="9776"/>
                    <a:pt x="9434" y="9776"/>
                    <a:pt x="9409" y="9764"/>
                  </a:cubicBezTo>
                  <a:cubicBezTo>
                    <a:pt x="9348" y="9752"/>
                    <a:pt x="9282" y="9740"/>
                    <a:pt x="9212" y="9729"/>
                  </a:cubicBezTo>
                  <a:cubicBezTo>
                    <a:pt x="9212" y="9740"/>
                    <a:pt x="9197" y="9752"/>
                    <a:pt x="9197" y="9776"/>
                  </a:cubicBezTo>
                  <a:cubicBezTo>
                    <a:pt x="9177" y="9776"/>
                    <a:pt x="9156" y="9764"/>
                    <a:pt x="9146" y="9776"/>
                  </a:cubicBezTo>
                  <a:cubicBezTo>
                    <a:pt x="9136" y="9787"/>
                    <a:pt x="9116" y="9799"/>
                    <a:pt x="9116" y="9828"/>
                  </a:cubicBezTo>
                  <a:cubicBezTo>
                    <a:pt x="9071" y="9828"/>
                    <a:pt x="9040" y="9828"/>
                    <a:pt x="9010" y="9863"/>
                  </a:cubicBezTo>
                  <a:cubicBezTo>
                    <a:pt x="8975" y="9887"/>
                    <a:pt x="8975" y="9963"/>
                    <a:pt x="9020" y="9975"/>
                  </a:cubicBezTo>
                  <a:cubicBezTo>
                    <a:pt x="9040" y="9986"/>
                    <a:pt x="9061" y="9975"/>
                    <a:pt x="9071" y="9986"/>
                  </a:cubicBezTo>
                  <a:cubicBezTo>
                    <a:pt x="9106" y="9998"/>
                    <a:pt x="9106" y="10063"/>
                    <a:pt x="9071" y="10086"/>
                  </a:cubicBezTo>
                  <a:cubicBezTo>
                    <a:pt x="9051" y="10109"/>
                    <a:pt x="9020" y="10121"/>
                    <a:pt x="8985" y="10133"/>
                  </a:cubicBezTo>
                  <a:cubicBezTo>
                    <a:pt x="8955" y="10145"/>
                    <a:pt x="8924" y="10168"/>
                    <a:pt x="8914" y="10209"/>
                  </a:cubicBezTo>
                  <a:cubicBezTo>
                    <a:pt x="8924" y="10221"/>
                    <a:pt x="8945" y="10221"/>
                    <a:pt x="8965" y="10221"/>
                  </a:cubicBezTo>
                  <a:cubicBezTo>
                    <a:pt x="8965" y="10244"/>
                    <a:pt x="8945" y="10256"/>
                    <a:pt x="8945" y="10279"/>
                  </a:cubicBezTo>
                  <a:cubicBezTo>
                    <a:pt x="8924" y="10344"/>
                    <a:pt x="9020" y="10402"/>
                    <a:pt x="8985" y="10455"/>
                  </a:cubicBezTo>
                  <a:cubicBezTo>
                    <a:pt x="9010" y="10426"/>
                    <a:pt x="9030" y="10490"/>
                    <a:pt x="9061" y="10490"/>
                  </a:cubicBezTo>
                  <a:cubicBezTo>
                    <a:pt x="9081" y="10490"/>
                    <a:pt x="9096" y="10467"/>
                    <a:pt x="9106" y="10443"/>
                  </a:cubicBezTo>
                  <a:cubicBezTo>
                    <a:pt x="9121" y="10414"/>
                    <a:pt x="9126" y="10391"/>
                    <a:pt x="9146" y="10391"/>
                  </a:cubicBezTo>
                  <a:cubicBezTo>
                    <a:pt x="9156" y="10391"/>
                    <a:pt x="9156" y="10402"/>
                    <a:pt x="9167" y="10414"/>
                  </a:cubicBezTo>
                  <a:cubicBezTo>
                    <a:pt x="9187" y="10426"/>
                    <a:pt x="9212" y="10391"/>
                    <a:pt x="9222" y="10367"/>
                  </a:cubicBezTo>
                  <a:cubicBezTo>
                    <a:pt x="9252" y="10320"/>
                    <a:pt x="9318" y="10303"/>
                    <a:pt x="9358" y="10344"/>
                  </a:cubicBezTo>
                  <a:cubicBezTo>
                    <a:pt x="9358" y="10303"/>
                    <a:pt x="9388" y="10291"/>
                    <a:pt x="9419" y="10291"/>
                  </a:cubicBezTo>
                  <a:cubicBezTo>
                    <a:pt x="9454" y="10291"/>
                    <a:pt x="9484" y="10303"/>
                    <a:pt x="9504" y="10279"/>
                  </a:cubicBezTo>
                  <a:cubicBezTo>
                    <a:pt x="9514" y="10268"/>
                    <a:pt x="9514" y="10268"/>
                    <a:pt x="9524" y="10268"/>
                  </a:cubicBezTo>
                  <a:cubicBezTo>
                    <a:pt x="9540" y="10268"/>
                    <a:pt x="9540" y="10268"/>
                    <a:pt x="9550" y="10279"/>
                  </a:cubicBezTo>
                  <a:cubicBezTo>
                    <a:pt x="9600" y="10320"/>
                    <a:pt x="9630" y="10402"/>
                    <a:pt x="9610" y="10479"/>
                  </a:cubicBezTo>
                  <a:cubicBezTo>
                    <a:pt x="9610" y="10502"/>
                    <a:pt x="9600" y="10514"/>
                    <a:pt x="9600" y="10537"/>
                  </a:cubicBezTo>
                  <a:cubicBezTo>
                    <a:pt x="9600" y="10549"/>
                    <a:pt x="9610" y="10578"/>
                    <a:pt x="9620" y="10590"/>
                  </a:cubicBezTo>
                  <a:cubicBezTo>
                    <a:pt x="9676" y="10672"/>
                    <a:pt x="9696" y="10783"/>
                    <a:pt x="9676" y="10883"/>
                  </a:cubicBezTo>
                  <a:cubicBezTo>
                    <a:pt x="9676" y="10906"/>
                    <a:pt x="9666" y="10930"/>
                    <a:pt x="9676" y="10947"/>
                  </a:cubicBezTo>
                  <a:cubicBezTo>
                    <a:pt x="9686" y="10971"/>
                    <a:pt x="9706" y="10982"/>
                    <a:pt x="9716" y="10971"/>
                  </a:cubicBezTo>
                  <a:cubicBezTo>
                    <a:pt x="9716" y="11006"/>
                    <a:pt x="9686" y="11029"/>
                    <a:pt x="9666" y="11018"/>
                  </a:cubicBezTo>
                  <a:cubicBezTo>
                    <a:pt x="9686" y="11094"/>
                    <a:pt x="9600" y="11164"/>
                    <a:pt x="9540" y="11152"/>
                  </a:cubicBezTo>
                  <a:cubicBezTo>
                    <a:pt x="9474" y="11141"/>
                    <a:pt x="9419" y="11082"/>
                    <a:pt x="9388" y="11006"/>
                  </a:cubicBezTo>
                  <a:cubicBezTo>
                    <a:pt x="9398" y="11006"/>
                    <a:pt x="9409" y="10994"/>
                    <a:pt x="9419" y="10982"/>
                  </a:cubicBezTo>
                  <a:cubicBezTo>
                    <a:pt x="9368" y="10930"/>
                    <a:pt x="9318" y="10883"/>
                    <a:pt x="9252" y="10824"/>
                  </a:cubicBezTo>
                  <a:cubicBezTo>
                    <a:pt x="9242" y="10813"/>
                    <a:pt x="9232" y="10795"/>
                    <a:pt x="9222" y="10771"/>
                  </a:cubicBezTo>
                  <a:cubicBezTo>
                    <a:pt x="9212" y="10748"/>
                    <a:pt x="9222" y="10725"/>
                    <a:pt x="9222" y="10701"/>
                  </a:cubicBezTo>
                  <a:cubicBezTo>
                    <a:pt x="9222" y="10660"/>
                    <a:pt x="9197" y="10613"/>
                    <a:pt x="9167" y="10602"/>
                  </a:cubicBezTo>
                  <a:cubicBezTo>
                    <a:pt x="9156" y="10625"/>
                    <a:pt x="9156" y="10648"/>
                    <a:pt x="9156" y="10689"/>
                  </a:cubicBezTo>
                  <a:cubicBezTo>
                    <a:pt x="9156" y="10713"/>
                    <a:pt x="9136" y="10748"/>
                    <a:pt x="9116" y="10748"/>
                  </a:cubicBezTo>
                  <a:cubicBezTo>
                    <a:pt x="9106" y="10748"/>
                    <a:pt x="9091" y="10736"/>
                    <a:pt x="9071" y="10736"/>
                  </a:cubicBezTo>
                  <a:cubicBezTo>
                    <a:pt x="9010" y="10713"/>
                    <a:pt x="8924" y="10748"/>
                    <a:pt x="8894" y="10836"/>
                  </a:cubicBezTo>
                  <a:cubicBezTo>
                    <a:pt x="8904" y="10848"/>
                    <a:pt x="8914" y="10848"/>
                    <a:pt x="8924" y="10859"/>
                  </a:cubicBezTo>
                  <a:cubicBezTo>
                    <a:pt x="8914" y="10883"/>
                    <a:pt x="8879" y="10895"/>
                    <a:pt x="8859" y="10906"/>
                  </a:cubicBezTo>
                  <a:cubicBezTo>
                    <a:pt x="8839" y="10918"/>
                    <a:pt x="8809" y="10930"/>
                    <a:pt x="8798" y="10959"/>
                  </a:cubicBezTo>
                  <a:cubicBezTo>
                    <a:pt x="8788" y="10982"/>
                    <a:pt x="8819" y="11029"/>
                    <a:pt x="8839" y="11006"/>
                  </a:cubicBezTo>
                  <a:cubicBezTo>
                    <a:pt x="8829" y="11041"/>
                    <a:pt x="8829" y="11094"/>
                    <a:pt x="8839" y="11129"/>
                  </a:cubicBezTo>
                  <a:cubicBezTo>
                    <a:pt x="8798" y="11193"/>
                    <a:pt x="8753" y="11252"/>
                    <a:pt x="8723" y="11299"/>
                  </a:cubicBezTo>
                  <a:cubicBezTo>
                    <a:pt x="8703" y="11340"/>
                    <a:pt x="8693" y="11387"/>
                    <a:pt x="8693" y="11422"/>
                  </a:cubicBezTo>
                  <a:cubicBezTo>
                    <a:pt x="8693" y="11498"/>
                    <a:pt x="8723" y="11557"/>
                    <a:pt x="8733" y="11621"/>
                  </a:cubicBezTo>
                  <a:cubicBezTo>
                    <a:pt x="8743" y="11680"/>
                    <a:pt x="8723" y="11767"/>
                    <a:pt x="8657" y="11779"/>
                  </a:cubicBezTo>
                  <a:cubicBezTo>
                    <a:pt x="8703" y="11890"/>
                    <a:pt x="8723" y="12013"/>
                    <a:pt x="8713" y="12137"/>
                  </a:cubicBezTo>
                  <a:cubicBezTo>
                    <a:pt x="8713" y="12148"/>
                    <a:pt x="8713" y="12160"/>
                    <a:pt x="8703" y="12172"/>
                  </a:cubicBezTo>
                  <a:cubicBezTo>
                    <a:pt x="8693" y="12201"/>
                    <a:pt x="8657" y="12201"/>
                    <a:pt x="8627" y="12213"/>
                  </a:cubicBezTo>
                  <a:cubicBezTo>
                    <a:pt x="8577" y="12224"/>
                    <a:pt x="8521" y="12283"/>
                    <a:pt x="8521" y="12359"/>
                  </a:cubicBezTo>
                  <a:cubicBezTo>
                    <a:pt x="8521" y="12371"/>
                    <a:pt x="8521" y="12394"/>
                    <a:pt x="8511" y="12394"/>
                  </a:cubicBezTo>
                  <a:cubicBezTo>
                    <a:pt x="8501" y="12418"/>
                    <a:pt x="8476" y="12394"/>
                    <a:pt x="8461" y="12371"/>
                  </a:cubicBezTo>
                  <a:cubicBezTo>
                    <a:pt x="8451" y="12347"/>
                    <a:pt x="8435" y="12324"/>
                    <a:pt x="8415" y="12306"/>
                  </a:cubicBezTo>
                  <a:cubicBezTo>
                    <a:pt x="8405" y="12371"/>
                    <a:pt x="8395" y="12429"/>
                    <a:pt x="8405" y="12482"/>
                  </a:cubicBezTo>
                  <a:cubicBezTo>
                    <a:pt x="8355" y="12470"/>
                    <a:pt x="8309" y="12552"/>
                    <a:pt x="8279" y="12605"/>
                  </a:cubicBezTo>
                  <a:cubicBezTo>
                    <a:pt x="8269" y="12617"/>
                    <a:pt x="8259" y="12640"/>
                    <a:pt x="8239" y="12640"/>
                  </a:cubicBezTo>
                  <a:cubicBezTo>
                    <a:pt x="8193" y="12664"/>
                    <a:pt x="8153" y="12664"/>
                    <a:pt x="8108" y="12629"/>
                  </a:cubicBezTo>
                  <a:cubicBezTo>
                    <a:pt x="8077" y="12593"/>
                    <a:pt x="8057" y="12541"/>
                    <a:pt x="8067" y="12494"/>
                  </a:cubicBezTo>
                  <a:cubicBezTo>
                    <a:pt x="8037" y="12482"/>
                    <a:pt x="8002" y="12470"/>
                    <a:pt x="7961" y="12459"/>
                  </a:cubicBezTo>
                  <a:lnTo>
                    <a:pt x="7961" y="12406"/>
                  </a:lnTo>
                  <a:cubicBezTo>
                    <a:pt x="7896" y="12347"/>
                    <a:pt x="7805" y="12347"/>
                    <a:pt x="7740" y="12394"/>
                  </a:cubicBezTo>
                  <a:cubicBezTo>
                    <a:pt x="7719" y="12406"/>
                    <a:pt x="7699" y="12429"/>
                    <a:pt x="7674" y="12429"/>
                  </a:cubicBezTo>
                  <a:cubicBezTo>
                    <a:pt x="7664" y="12429"/>
                    <a:pt x="7644" y="12418"/>
                    <a:pt x="7634" y="12418"/>
                  </a:cubicBezTo>
                  <a:cubicBezTo>
                    <a:pt x="7568" y="12394"/>
                    <a:pt x="7498" y="12429"/>
                    <a:pt x="7472" y="12506"/>
                  </a:cubicBezTo>
                  <a:cubicBezTo>
                    <a:pt x="7442" y="12482"/>
                    <a:pt x="7402" y="12494"/>
                    <a:pt x="7372" y="12517"/>
                  </a:cubicBezTo>
                  <a:cubicBezTo>
                    <a:pt x="7336" y="12541"/>
                    <a:pt x="7316" y="12593"/>
                    <a:pt x="7296" y="12617"/>
                  </a:cubicBezTo>
                  <a:cubicBezTo>
                    <a:pt x="7210" y="12740"/>
                    <a:pt x="7094" y="12828"/>
                    <a:pt x="6958" y="12851"/>
                  </a:cubicBezTo>
                  <a:cubicBezTo>
                    <a:pt x="6903" y="12863"/>
                    <a:pt x="6842" y="12851"/>
                    <a:pt x="6832" y="12787"/>
                  </a:cubicBezTo>
                  <a:lnTo>
                    <a:pt x="6671" y="12787"/>
                  </a:lnTo>
                  <a:cubicBezTo>
                    <a:pt x="6661" y="12787"/>
                    <a:pt x="6640" y="12787"/>
                    <a:pt x="6630" y="12775"/>
                  </a:cubicBezTo>
                  <a:cubicBezTo>
                    <a:pt x="6595" y="12752"/>
                    <a:pt x="6630" y="12705"/>
                    <a:pt x="6651" y="12664"/>
                  </a:cubicBezTo>
                  <a:cubicBezTo>
                    <a:pt x="6585" y="12675"/>
                    <a:pt x="6545" y="12582"/>
                    <a:pt x="6575" y="12517"/>
                  </a:cubicBezTo>
                  <a:cubicBezTo>
                    <a:pt x="6535" y="12506"/>
                    <a:pt x="6489" y="12494"/>
                    <a:pt x="6459" y="12494"/>
                  </a:cubicBezTo>
                  <a:cubicBezTo>
                    <a:pt x="6429" y="12494"/>
                    <a:pt x="6398" y="12494"/>
                    <a:pt x="6373" y="12517"/>
                  </a:cubicBezTo>
                  <a:cubicBezTo>
                    <a:pt x="6353" y="12541"/>
                    <a:pt x="6343" y="12582"/>
                    <a:pt x="6353" y="12617"/>
                  </a:cubicBezTo>
                  <a:cubicBezTo>
                    <a:pt x="6313" y="12640"/>
                    <a:pt x="6247" y="12629"/>
                    <a:pt x="6207" y="12593"/>
                  </a:cubicBezTo>
                  <a:cubicBezTo>
                    <a:pt x="6161" y="12728"/>
                    <a:pt x="6015" y="12787"/>
                    <a:pt x="5894" y="12810"/>
                  </a:cubicBezTo>
                  <a:cubicBezTo>
                    <a:pt x="5874" y="12799"/>
                    <a:pt x="5849" y="12787"/>
                    <a:pt x="5829" y="12763"/>
                  </a:cubicBezTo>
                  <a:cubicBezTo>
                    <a:pt x="5819" y="12740"/>
                    <a:pt x="5819" y="12705"/>
                    <a:pt x="5839" y="12687"/>
                  </a:cubicBezTo>
                  <a:cubicBezTo>
                    <a:pt x="5829" y="12652"/>
                    <a:pt x="5788" y="12617"/>
                    <a:pt x="5758" y="12629"/>
                  </a:cubicBezTo>
                  <a:cubicBezTo>
                    <a:pt x="5723" y="12640"/>
                    <a:pt x="5733" y="12775"/>
                    <a:pt x="5627" y="12640"/>
                  </a:cubicBezTo>
                  <a:cubicBezTo>
                    <a:pt x="5617" y="12629"/>
                    <a:pt x="5587" y="12605"/>
                    <a:pt x="5577" y="12582"/>
                  </a:cubicBezTo>
                  <a:cubicBezTo>
                    <a:pt x="5567" y="12552"/>
                    <a:pt x="5577" y="12494"/>
                    <a:pt x="5567" y="12470"/>
                  </a:cubicBezTo>
                  <a:cubicBezTo>
                    <a:pt x="5556" y="12447"/>
                    <a:pt x="5546" y="12406"/>
                    <a:pt x="5567" y="12383"/>
                  </a:cubicBezTo>
                  <a:cubicBezTo>
                    <a:pt x="5556" y="12336"/>
                    <a:pt x="5521" y="12213"/>
                    <a:pt x="5617" y="12324"/>
                  </a:cubicBezTo>
                  <a:cubicBezTo>
                    <a:pt x="5637" y="12347"/>
                    <a:pt x="5637" y="12271"/>
                    <a:pt x="5672" y="12260"/>
                  </a:cubicBezTo>
                  <a:cubicBezTo>
                    <a:pt x="5693" y="12248"/>
                    <a:pt x="5743" y="12248"/>
                    <a:pt x="5758" y="12224"/>
                  </a:cubicBezTo>
                  <a:cubicBezTo>
                    <a:pt x="5778" y="12183"/>
                    <a:pt x="5809" y="12224"/>
                    <a:pt x="5839" y="12201"/>
                  </a:cubicBezTo>
                  <a:cubicBezTo>
                    <a:pt x="5935" y="12125"/>
                    <a:pt x="5924" y="12049"/>
                    <a:pt x="5894" y="12037"/>
                  </a:cubicBezTo>
                  <a:cubicBezTo>
                    <a:pt x="5839" y="12025"/>
                    <a:pt x="5809" y="11967"/>
                    <a:pt x="5743" y="12060"/>
                  </a:cubicBezTo>
                  <a:cubicBezTo>
                    <a:pt x="5723" y="12090"/>
                    <a:pt x="5682" y="12025"/>
                    <a:pt x="5703" y="11990"/>
                  </a:cubicBezTo>
                  <a:cubicBezTo>
                    <a:pt x="5713" y="11978"/>
                    <a:pt x="5723" y="11967"/>
                    <a:pt x="5723" y="11955"/>
                  </a:cubicBezTo>
                  <a:cubicBezTo>
                    <a:pt x="5713" y="11914"/>
                    <a:pt x="5733" y="11955"/>
                    <a:pt x="5617" y="11943"/>
                  </a:cubicBezTo>
                  <a:cubicBezTo>
                    <a:pt x="5597" y="11943"/>
                    <a:pt x="5567" y="11879"/>
                    <a:pt x="5577" y="11855"/>
                  </a:cubicBezTo>
                  <a:cubicBezTo>
                    <a:pt x="5587" y="11832"/>
                    <a:pt x="5652" y="11820"/>
                    <a:pt x="5662" y="11779"/>
                  </a:cubicBezTo>
                  <a:cubicBezTo>
                    <a:pt x="5637" y="11791"/>
                    <a:pt x="5607" y="11756"/>
                    <a:pt x="5617" y="11732"/>
                  </a:cubicBezTo>
                  <a:cubicBezTo>
                    <a:pt x="5627" y="11709"/>
                    <a:pt x="5652" y="11697"/>
                    <a:pt x="5672" y="11680"/>
                  </a:cubicBezTo>
                  <a:lnTo>
                    <a:pt x="5743" y="11680"/>
                  </a:lnTo>
                  <a:cubicBezTo>
                    <a:pt x="5768" y="11680"/>
                    <a:pt x="5798" y="11656"/>
                    <a:pt x="5798" y="11633"/>
                  </a:cubicBezTo>
                  <a:cubicBezTo>
                    <a:pt x="5798" y="11609"/>
                    <a:pt x="5788" y="11586"/>
                    <a:pt x="5768" y="11574"/>
                  </a:cubicBezTo>
                  <a:lnTo>
                    <a:pt x="5864" y="11498"/>
                  </a:lnTo>
                  <a:cubicBezTo>
                    <a:pt x="5839" y="11475"/>
                    <a:pt x="5809" y="11463"/>
                    <a:pt x="5778" y="11463"/>
                  </a:cubicBezTo>
                  <a:cubicBezTo>
                    <a:pt x="5788" y="11433"/>
                    <a:pt x="5798" y="11410"/>
                    <a:pt x="5798" y="11387"/>
                  </a:cubicBezTo>
                  <a:cubicBezTo>
                    <a:pt x="5733" y="11398"/>
                    <a:pt x="5672" y="11316"/>
                    <a:pt x="5682" y="11240"/>
                  </a:cubicBezTo>
                  <a:cubicBezTo>
                    <a:pt x="5652" y="11252"/>
                    <a:pt x="5622" y="11199"/>
                    <a:pt x="5637" y="11164"/>
                  </a:cubicBezTo>
                  <a:cubicBezTo>
                    <a:pt x="5647" y="11123"/>
                    <a:pt x="5682" y="11117"/>
                    <a:pt x="5713" y="11094"/>
                  </a:cubicBezTo>
                  <a:cubicBezTo>
                    <a:pt x="5733" y="11070"/>
                    <a:pt x="5758" y="11029"/>
                    <a:pt x="5743" y="11006"/>
                  </a:cubicBezTo>
                  <a:cubicBezTo>
                    <a:pt x="5733" y="10994"/>
                    <a:pt x="5723" y="10982"/>
                    <a:pt x="5723" y="10959"/>
                  </a:cubicBezTo>
                  <a:cubicBezTo>
                    <a:pt x="5723" y="10947"/>
                    <a:pt x="5743" y="10930"/>
                    <a:pt x="5758" y="10930"/>
                  </a:cubicBezTo>
                  <a:cubicBezTo>
                    <a:pt x="5798" y="10918"/>
                    <a:pt x="5839" y="10930"/>
                    <a:pt x="5884" y="10971"/>
                  </a:cubicBezTo>
                  <a:cubicBezTo>
                    <a:pt x="5904" y="10918"/>
                    <a:pt x="5864" y="10871"/>
                    <a:pt x="5819" y="10848"/>
                  </a:cubicBezTo>
                  <a:cubicBezTo>
                    <a:pt x="5778" y="10824"/>
                    <a:pt x="5723" y="10795"/>
                    <a:pt x="5723" y="10736"/>
                  </a:cubicBezTo>
                  <a:cubicBezTo>
                    <a:pt x="5723" y="10713"/>
                    <a:pt x="5733" y="10701"/>
                    <a:pt x="5723" y="10689"/>
                  </a:cubicBezTo>
                  <a:cubicBezTo>
                    <a:pt x="5713" y="10648"/>
                    <a:pt x="5682" y="10637"/>
                    <a:pt x="5652" y="10625"/>
                  </a:cubicBezTo>
                  <a:cubicBezTo>
                    <a:pt x="5597" y="10613"/>
                    <a:pt x="5541" y="10596"/>
                    <a:pt x="5501" y="10648"/>
                  </a:cubicBezTo>
                  <a:cubicBezTo>
                    <a:pt x="5476" y="10666"/>
                    <a:pt x="5481" y="10701"/>
                    <a:pt x="5471" y="10725"/>
                  </a:cubicBezTo>
                  <a:cubicBezTo>
                    <a:pt x="5461" y="10771"/>
                    <a:pt x="5440" y="10824"/>
                    <a:pt x="5430" y="10871"/>
                  </a:cubicBezTo>
                  <a:cubicBezTo>
                    <a:pt x="5430" y="10883"/>
                    <a:pt x="5415" y="10906"/>
                    <a:pt x="5405" y="10918"/>
                  </a:cubicBezTo>
                  <a:cubicBezTo>
                    <a:pt x="5385" y="10930"/>
                    <a:pt x="5375" y="10918"/>
                    <a:pt x="5355" y="10918"/>
                  </a:cubicBezTo>
                  <a:cubicBezTo>
                    <a:pt x="5335" y="10930"/>
                    <a:pt x="5324" y="10947"/>
                    <a:pt x="5309" y="10971"/>
                  </a:cubicBezTo>
                  <a:cubicBezTo>
                    <a:pt x="5279" y="11006"/>
                    <a:pt x="5224" y="10982"/>
                    <a:pt x="5183" y="10971"/>
                  </a:cubicBezTo>
                  <a:cubicBezTo>
                    <a:pt x="5138" y="10959"/>
                    <a:pt x="5077" y="10982"/>
                    <a:pt x="5077" y="11029"/>
                  </a:cubicBezTo>
                  <a:cubicBezTo>
                    <a:pt x="5077" y="11053"/>
                    <a:pt x="5098" y="11082"/>
                    <a:pt x="5098" y="11105"/>
                  </a:cubicBezTo>
                  <a:cubicBezTo>
                    <a:pt x="5098" y="11152"/>
                    <a:pt x="5057" y="11176"/>
                    <a:pt x="5037" y="11228"/>
                  </a:cubicBezTo>
                  <a:cubicBezTo>
                    <a:pt x="5017" y="11275"/>
                    <a:pt x="5037" y="11340"/>
                    <a:pt x="5027" y="11387"/>
                  </a:cubicBezTo>
                  <a:cubicBezTo>
                    <a:pt x="5007" y="11451"/>
                    <a:pt x="4941" y="11498"/>
                    <a:pt x="4951" y="11574"/>
                  </a:cubicBezTo>
                  <a:cubicBezTo>
                    <a:pt x="4972" y="11574"/>
                    <a:pt x="4997" y="11586"/>
                    <a:pt x="5017" y="11586"/>
                  </a:cubicBezTo>
                  <a:cubicBezTo>
                    <a:pt x="4982" y="11680"/>
                    <a:pt x="5017" y="11791"/>
                    <a:pt x="5047" y="11902"/>
                  </a:cubicBezTo>
                  <a:cubicBezTo>
                    <a:pt x="5077" y="12002"/>
                    <a:pt x="5098" y="12125"/>
                    <a:pt x="5057" y="12213"/>
                  </a:cubicBezTo>
                  <a:cubicBezTo>
                    <a:pt x="5088" y="12224"/>
                    <a:pt x="5123" y="12224"/>
                    <a:pt x="5153" y="12236"/>
                  </a:cubicBezTo>
                  <a:cubicBezTo>
                    <a:pt x="5133" y="12306"/>
                    <a:pt x="5123" y="12394"/>
                    <a:pt x="5143" y="12470"/>
                  </a:cubicBezTo>
                  <a:cubicBezTo>
                    <a:pt x="5143" y="12482"/>
                    <a:pt x="5153" y="12494"/>
                    <a:pt x="5143" y="12506"/>
                  </a:cubicBezTo>
                  <a:cubicBezTo>
                    <a:pt x="5133" y="12529"/>
                    <a:pt x="5113" y="12541"/>
                    <a:pt x="5088" y="12564"/>
                  </a:cubicBezTo>
                  <a:cubicBezTo>
                    <a:pt x="5067" y="12605"/>
                    <a:pt x="5098" y="12640"/>
                    <a:pt x="5113" y="12675"/>
                  </a:cubicBezTo>
                  <a:cubicBezTo>
                    <a:pt x="5153" y="12775"/>
                    <a:pt x="5133" y="12910"/>
                    <a:pt x="5047" y="12986"/>
                  </a:cubicBezTo>
                  <a:cubicBezTo>
                    <a:pt x="5007" y="12963"/>
                    <a:pt x="4941" y="12922"/>
                    <a:pt x="4901" y="12974"/>
                  </a:cubicBezTo>
                  <a:lnTo>
                    <a:pt x="4866" y="13009"/>
                  </a:lnTo>
                  <a:cubicBezTo>
                    <a:pt x="4835" y="13045"/>
                    <a:pt x="4770" y="13009"/>
                    <a:pt x="4740" y="13033"/>
                  </a:cubicBezTo>
                  <a:cubicBezTo>
                    <a:pt x="4719" y="13021"/>
                    <a:pt x="4740" y="13021"/>
                    <a:pt x="4730" y="13009"/>
                  </a:cubicBezTo>
                  <a:cubicBezTo>
                    <a:pt x="4699" y="12986"/>
                    <a:pt x="4699" y="12974"/>
                    <a:pt x="4679" y="13009"/>
                  </a:cubicBezTo>
                  <a:cubicBezTo>
                    <a:pt x="4679" y="13021"/>
                    <a:pt x="4664" y="13033"/>
                    <a:pt x="4664" y="13045"/>
                  </a:cubicBezTo>
                  <a:cubicBezTo>
                    <a:pt x="4654" y="13056"/>
                    <a:pt x="4644" y="13056"/>
                    <a:pt x="4644" y="13056"/>
                  </a:cubicBezTo>
                  <a:cubicBezTo>
                    <a:pt x="4573" y="13086"/>
                    <a:pt x="4488" y="13109"/>
                    <a:pt x="4412" y="13132"/>
                  </a:cubicBezTo>
                  <a:cubicBezTo>
                    <a:pt x="4402" y="13132"/>
                    <a:pt x="4392" y="13144"/>
                    <a:pt x="4382" y="13156"/>
                  </a:cubicBezTo>
                  <a:cubicBezTo>
                    <a:pt x="4372" y="13168"/>
                    <a:pt x="4372" y="13185"/>
                    <a:pt x="4377" y="13191"/>
                  </a:cubicBezTo>
                  <a:cubicBezTo>
                    <a:pt x="4336" y="13173"/>
                    <a:pt x="4296" y="13197"/>
                    <a:pt x="4266" y="13232"/>
                  </a:cubicBezTo>
                  <a:cubicBezTo>
                    <a:pt x="4230" y="13267"/>
                    <a:pt x="4200" y="13302"/>
                    <a:pt x="4160" y="13314"/>
                  </a:cubicBezTo>
                  <a:lnTo>
                    <a:pt x="4190" y="13355"/>
                  </a:lnTo>
                  <a:cubicBezTo>
                    <a:pt x="4160" y="13367"/>
                    <a:pt x="4124" y="13367"/>
                    <a:pt x="4094" y="13378"/>
                  </a:cubicBezTo>
                  <a:cubicBezTo>
                    <a:pt x="4084" y="13378"/>
                    <a:pt x="4074" y="13378"/>
                    <a:pt x="4074" y="13390"/>
                  </a:cubicBezTo>
                  <a:lnTo>
                    <a:pt x="4074" y="13414"/>
                  </a:lnTo>
                  <a:cubicBezTo>
                    <a:pt x="4074" y="13437"/>
                    <a:pt x="4074" y="13466"/>
                    <a:pt x="4084" y="13490"/>
                  </a:cubicBezTo>
                  <a:lnTo>
                    <a:pt x="4009" y="13490"/>
                  </a:lnTo>
                  <a:cubicBezTo>
                    <a:pt x="3998" y="13490"/>
                    <a:pt x="3988" y="13490"/>
                    <a:pt x="3988" y="13502"/>
                  </a:cubicBezTo>
                  <a:lnTo>
                    <a:pt x="3988" y="13513"/>
                  </a:lnTo>
                  <a:cubicBezTo>
                    <a:pt x="3998" y="13537"/>
                    <a:pt x="4024" y="13548"/>
                    <a:pt x="4034" y="13578"/>
                  </a:cubicBezTo>
                  <a:cubicBezTo>
                    <a:pt x="4054" y="13589"/>
                    <a:pt x="4064" y="13613"/>
                    <a:pt x="4054" y="13636"/>
                  </a:cubicBezTo>
                  <a:cubicBezTo>
                    <a:pt x="4044" y="13660"/>
                    <a:pt x="4019" y="13660"/>
                    <a:pt x="3998" y="13671"/>
                  </a:cubicBezTo>
                  <a:cubicBezTo>
                    <a:pt x="3973" y="13683"/>
                    <a:pt x="3948" y="13695"/>
                    <a:pt x="3938" y="13724"/>
                  </a:cubicBezTo>
                  <a:cubicBezTo>
                    <a:pt x="3928" y="13748"/>
                    <a:pt x="3938" y="13783"/>
                    <a:pt x="3968" y="13794"/>
                  </a:cubicBezTo>
                  <a:cubicBezTo>
                    <a:pt x="3938" y="13818"/>
                    <a:pt x="3938" y="13882"/>
                    <a:pt x="3958" y="13917"/>
                  </a:cubicBezTo>
                  <a:cubicBezTo>
                    <a:pt x="3928" y="13917"/>
                    <a:pt x="3893" y="13941"/>
                    <a:pt x="3882" y="13982"/>
                  </a:cubicBezTo>
                  <a:cubicBezTo>
                    <a:pt x="3882" y="13994"/>
                    <a:pt x="3882" y="14005"/>
                    <a:pt x="3872" y="14017"/>
                  </a:cubicBezTo>
                  <a:cubicBezTo>
                    <a:pt x="3872" y="14029"/>
                    <a:pt x="3852" y="14029"/>
                    <a:pt x="3852" y="14029"/>
                  </a:cubicBezTo>
                  <a:lnTo>
                    <a:pt x="3852" y="14064"/>
                  </a:lnTo>
                  <a:lnTo>
                    <a:pt x="3777" y="14064"/>
                  </a:lnTo>
                  <a:cubicBezTo>
                    <a:pt x="3787" y="14093"/>
                    <a:pt x="3777" y="14128"/>
                    <a:pt x="3767" y="14140"/>
                  </a:cubicBezTo>
                  <a:cubicBezTo>
                    <a:pt x="3746" y="14164"/>
                    <a:pt x="3726" y="14164"/>
                    <a:pt x="3691" y="14152"/>
                  </a:cubicBezTo>
                  <a:cubicBezTo>
                    <a:pt x="3681" y="14140"/>
                    <a:pt x="3671" y="14140"/>
                    <a:pt x="3661" y="14140"/>
                  </a:cubicBezTo>
                  <a:lnTo>
                    <a:pt x="3651" y="14152"/>
                  </a:lnTo>
                  <a:cubicBezTo>
                    <a:pt x="3651" y="14175"/>
                    <a:pt x="3651" y="14216"/>
                    <a:pt x="3661" y="14240"/>
                  </a:cubicBezTo>
                  <a:cubicBezTo>
                    <a:pt x="3651" y="14275"/>
                    <a:pt x="3585" y="14240"/>
                    <a:pt x="3565" y="14275"/>
                  </a:cubicBezTo>
                  <a:lnTo>
                    <a:pt x="3565" y="14298"/>
                  </a:lnTo>
                  <a:cubicBezTo>
                    <a:pt x="3565" y="14339"/>
                    <a:pt x="3585" y="14374"/>
                    <a:pt x="3610" y="14398"/>
                  </a:cubicBezTo>
                  <a:cubicBezTo>
                    <a:pt x="3545" y="14445"/>
                    <a:pt x="3469" y="14486"/>
                    <a:pt x="3388" y="14474"/>
                  </a:cubicBezTo>
                  <a:lnTo>
                    <a:pt x="3333" y="14474"/>
                  </a:lnTo>
                  <a:cubicBezTo>
                    <a:pt x="3303" y="14486"/>
                    <a:pt x="3313" y="14533"/>
                    <a:pt x="3313" y="14568"/>
                  </a:cubicBezTo>
                  <a:lnTo>
                    <a:pt x="3272" y="14568"/>
                  </a:lnTo>
                  <a:cubicBezTo>
                    <a:pt x="3257" y="14609"/>
                    <a:pt x="3237" y="14656"/>
                    <a:pt x="3227" y="14691"/>
                  </a:cubicBezTo>
                  <a:cubicBezTo>
                    <a:pt x="3217" y="14744"/>
                    <a:pt x="3187" y="14779"/>
                    <a:pt x="3151" y="14790"/>
                  </a:cubicBezTo>
                  <a:cubicBezTo>
                    <a:pt x="3141" y="14802"/>
                    <a:pt x="3131" y="14802"/>
                    <a:pt x="3121" y="14814"/>
                  </a:cubicBezTo>
                  <a:lnTo>
                    <a:pt x="3121" y="14843"/>
                  </a:lnTo>
                  <a:cubicBezTo>
                    <a:pt x="3131" y="14867"/>
                    <a:pt x="3141" y="14902"/>
                    <a:pt x="3141" y="14925"/>
                  </a:cubicBezTo>
                  <a:cubicBezTo>
                    <a:pt x="3071" y="14925"/>
                    <a:pt x="2995" y="14990"/>
                    <a:pt x="2975" y="15060"/>
                  </a:cubicBezTo>
                  <a:cubicBezTo>
                    <a:pt x="2965" y="15089"/>
                    <a:pt x="2965" y="15124"/>
                    <a:pt x="2930" y="15124"/>
                  </a:cubicBezTo>
                  <a:cubicBezTo>
                    <a:pt x="2919" y="15124"/>
                    <a:pt x="2919" y="15124"/>
                    <a:pt x="2909" y="15113"/>
                  </a:cubicBezTo>
                  <a:cubicBezTo>
                    <a:pt x="2859" y="15089"/>
                    <a:pt x="2793" y="15113"/>
                    <a:pt x="2743" y="15148"/>
                  </a:cubicBezTo>
                  <a:cubicBezTo>
                    <a:pt x="2708" y="15171"/>
                    <a:pt x="2677" y="15183"/>
                    <a:pt x="2657" y="15224"/>
                  </a:cubicBezTo>
                  <a:cubicBezTo>
                    <a:pt x="2637" y="15259"/>
                    <a:pt x="2647" y="15306"/>
                    <a:pt x="2677" y="15329"/>
                  </a:cubicBezTo>
                  <a:cubicBezTo>
                    <a:pt x="2657" y="15382"/>
                    <a:pt x="2592" y="15406"/>
                    <a:pt x="2541" y="15382"/>
                  </a:cubicBezTo>
                  <a:cubicBezTo>
                    <a:pt x="2486" y="15370"/>
                    <a:pt x="2446" y="15318"/>
                    <a:pt x="2405" y="15294"/>
                  </a:cubicBezTo>
                  <a:cubicBezTo>
                    <a:pt x="2274" y="15195"/>
                    <a:pt x="2128" y="15159"/>
                    <a:pt x="1992" y="15195"/>
                  </a:cubicBezTo>
                  <a:cubicBezTo>
                    <a:pt x="1992" y="15236"/>
                    <a:pt x="2017" y="15259"/>
                    <a:pt x="2052" y="15271"/>
                  </a:cubicBezTo>
                  <a:cubicBezTo>
                    <a:pt x="2082" y="15282"/>
                    <a:pt x="2118" y="15282"/>
                    <a:pt x="2148" y="15294"/>
                  </a:cubicBezTo>
                  <a:cubicBezTo>
                    <a:pt x="2203" y="15318"/>
                    <a:pt x="2234" y="15382"/>
                    <a:pt x="2234" y="15441"/>
                  </a:cubicBezTo>
                  <a:cubicBezTo>
                    <a:pt x="2234" y="15470"/>
                    <a:pt x="2224" y="15493"/>
                    <a:pt x="2234" y="15529"/>
                  </a:cubicBezTo>
                  <a:cubicBezTo>
                    <a:pt x="2244" y="15575"/>
                    <a:pt x="2284" y="15616"/>
                    <a:pt x="2284" y="15663"/>
                  </a:cubicBezTo>
                  <a:cubicBezTo>
                    <a:pt x="2234" y="15698"/>
                    <a:pt x="2178" y="15640"/>
                    <a:pt x="2118" y="15628"/>
                  </a:cubicBezTo>
                  <a:cubicBezTo>
                    <a:pt x="2042" y="15616"/>
                    <a:pt x="1956" y="15687"/>
                    <a:pt x="1886" y="15652"/>
                  </a:cubicBezTo>
                  <a:cubicBezTo>
                    <a:pt x="1866" y="15640"/>
                    <a:pt x="1851" y="15616"/>
                    <a:pt x="1820" y="15605"/>
                  </a:cubicBezTo>
                  <a:cubicBezTo>
                    <a:pt x="1780" y="15575"/>
                    <a:pt x="1735" y="15616"/>
                    <a:pt x="1694" y="15628"/>
                  </a:cubicBezTo>
                  <a:cubicBezTo>
                    <a:pt x="1664" y="15628"/>
                    <a:pt x="1629" y="15616"/>
                    <a:pt x="1598" y="15616"/>
                  </a:cubicBezTo>
                  <a:cubicBezTo>
                    <a:pt x="1568" y="15616"/>
                    <a:pt x="1538" y="15616"/>
                    <a:pt x="1513" y="15640"/>
                  </a:cubicBezTo>
                  <a:cubicBezTo>
                    <a:pt x="1452" y="15652"/>
                    <a:pt x="1397" y="15675"/>
                    <a:pt x="1346" y="15728"/>
                  </a:cubicBezTo>
                  <a:cubicBezTo>
                    <a:pt x="1326" y="15751"/>
                    <a:pt x="1301" y="15769"/>
                    <a:pt x="1291" y="15810"/>
                  </a:cubicBezTo>
                  <a:cubicBezTo>
                    <a:pt x="1281" y="15845"/>
                    <a:pt x="1291" y="15886"/>
                    <a:pt x="1326" y="15909"/>
                  </a:cubicBezTo>
                  <a:cubicBezTo>
                    <a:pt x="1356" y="15921"/>
                    <a:pt x="1397" y="15909"/>
                    <a:pt x="1407" y="15944"/>
                  </a:cubicBezTo>
                  <a:cubicBezTo>
                    <a:pt x="1432" y="15985"/>
                    <a:pt x="1382" y="16026"/>
                    <a:pt x="1407" y="16068"/>
                  </a:cubicBezTo>
                  <a:cubicBezTo>
                    <a:pt x="1427" y="16103"/>
                    <a:pt x="1482" y="16079"/>
                    <a:pt x="1513" y="16097"/>
                  </a:cubicBezTo>
                  <a:cubicBezTo>
                    <a:pt x="1558" y="16109"/>
                    <a:pt x="1578" y="16155"/>
                    <a:pt x="1609" y="16167"/>
                  </a:cubicBezTo>
                  <a:cubicBezTo>
                    <a:pt x="1629" y="16179"/>
                    <a:pt x="1664" y="16155"/>
                    <a:pt x="1684" y="16167"/>
                  </a:cubicBezTo>
                  <a:cubicBezTo>
                    <a:pt x="1724" y="16179"/>
                    <a:pt x="1724" y="16243"/>
                    <a:pt x="1745" y="16278"/>
                  </a:cubicBezTo>
                  <a:cubicBezTo>
                    <a:pt x="1780" y="16343"/>
                    <a:pt x="1866" y="16343"/>
                    <a:pt x="1896" y="16278"/>
                  </a:cubicBezTo>
                  <a:cubicBezTo>
                    <a:pt x="1926" y="16355"/>
                    <a:pt x="1936" y="16425"/>
                    <a:pt x="1926" y="16513"/>
                  </a:cubicBezTo>
                  <a:lnTo>
                    <a:pt x="1926" y="16548"/>
                  </a:lnTo>
                  <a:cubicBezTo>
                    <a:pt x="1936" y="16571"/>
                    <a:pt x="1946" y="16571"/>
                    <a:pt x="1972" y="16583"/>
                  </a:cubicBezTo>
                  <a:cubicBezTo>
                    <a:pt x="2032" y="16612"/>
                    <a:pt x="2098" y="16659"/>
                    <a:pt x="2148" y="16706"/>
                  </a:cubicBezTo>
                  <a:lnTo>
                    <a:pt x="2193" y="16759"/>
                  </a:lnTo>
                  <a:cubicBezTo>
                    <a:pt x="2203" y="16771"/>
                    <a:pt x="2224" y="16771"/>
                    <a:pt x="2234" y="16782"/>
                  </a:cubicBezTo>
                  <a:cubicBezTo>
                    <a:pt x="2264" y="16806"/>
                    <a:pt x="2274" y="16847"/>
                    <a:pt x="2274" y="16882"/>
                  </a:cubicBezTo>
                  <a:cubicBezTo>
                    <a:pt x="2254" y="16905"/>
                    <a:pt x="2254" y="16940"/>
                    <a:pt x="2254" y="16981"/>
                  </a:cubicBezTo>
                  <a:cubicBezTo>
                    <a:pt x="2264" y="16993"/>
                    <a:pt x="2274" y="16993"/>
                    <a:pt x="2299" y="17005"/>
                  </a:cubicBezTo>
                  <a:cubicBezTo>
                    <a:pt x="2284" y="17017"/>
                    <a:pt x="2284" y="17040"/>
                    <a:pt x="2284" y="17052"/>
                  </a:cubicBezTo>
                  <a:lnTo>
                    <a:pt x="2284" y="17239"/>
                  </a:lnTo>
                  <a:cubicBezTo>
                    <a:pt x="2284" y="17351"/>
                    <a:pt x="2284" y="17456"/>
                    <a:pt x="2330" y="17556"/>
                  </a:cubicBezTo>
                  <a:cubicBezTo>
                    <a:pt x="2299" y="17579"/>
                    <a:pt x="2284" y="17632"/>
                    <a:pt x="2299" y="17679"/>
                  </a:cubicBezTo>
                  <a:cubicBezTo>
                    <a:pt x="2274" y="17679"/>
                    <a:pt x="2234" y="17679"/>
                    <a:pt x="2234" y="17714"/>
                  </a:cubicBezTo>
                  <a:cubicBezTo>
                    <a:pt x="2234" y="17731"/>
                    <a:pt x="2234" y="17743"/>
                    <a:pt x="2244" y="17755"/>
                  </a:cubicBezTo>
                  <a:cubicBezTo>
                    <a:pt x="2319" y="17925"/>
                    <a:pt x="2274" y="18153"/>
                    <a:pt x="2138" y="18264"/>
                  </a:cubicBezTo>
                  <a:cubicBezTo>
                    <a:pt x="2128" y="18264"/>
                    <a:pt x="2118" y="18253"/>
                    <a:pt x="2108" y="18253"/>
                  </a:cubicBezTo>
                  <a:cubicBezTo>
                    <a:pt x="2077" y="18264"/>
                    <a:pt x="2032" y="18288"/>
                    <a:pt x="2012" y="18323"/>
                  </a:cubicBezTo>
                  <a:cubicBezTo>
                    <a:pt x="1936" y="18323"/>
                    <a:pt x="1866" y="18300"/>
                    <a:pt x="1800" y="18241"/>
                  </a:cubicBezTo>
                  <a:cubicBezTo>
                    <a:pt x="1790" y="18253"/>
                    <a:pt x="1780" y="18264"/>
                    <a:pt x="1770" y="18288"/>
                  </a:cubicBezTo>
                  <a:cubicBezTo>
                    <a:pt x="1684" y="18276"/>
                    <a:pt x="1598" y="18264"/>
                    <a:pt x="1523" y="18241"/>
                  </a:cubicBezTo>
                  <a:cubicBezTo>
                    <a:pt x="1493" y="18241"/>
                    <a:pt x="1462" y="18229"/>
                    <a:pt x="1432" y="18241"/>
                  </a:cubicBezTo>
                  <a:cubicBezTo>
                    <a:pt x="1377" y="18177"/>
                    <a:pt x="1301" y="18212"/>
                    <a:pt x="1240" y="18253"/>
                  </a:cubicBezTo>
                  <a:cubicBezTo>
                    <a:pt x="1230" y="18229"/>
                    <a:pt x="1195" y="18212"/>
                    <a:pt x="1175" y="18212"/>
                  </a:cubicBezTo>
                  <a:cubicBezTo>
                    <a:pt x="1155" y="18212"/>
                    <a:pt x="1124" y="18229"/>
                    <a:pt x="1104" y="18229"/>
                  </a:cubicBezTo>
                  <a:cubicBezTo>
                    <a:pt x="1039" y="18229"/>
                    <a:pt x="983" y="18153"/>
                    <a:pt x="923" y="18141"/>
                  </a:cubicBezTo>
                  <a:cubicBezTo>
                    <a:pt x="847" y="18130"/>
                    <a:pt x="787" y="18188"/>
                    <a:pt x="711" y="18177"/>
                  </a:cubicBezTo>
                  <a:cubicBezTo>
                    <a:pt x="681" y="18177"/>
                    <a:pt x="646" y="18153"/>
                    <a:pt x="625" y="18165"/>
                  </a:cubicBezTo>
                  <a:cubicBezTo>
                    <a:pt x="615" y="18165"/>
                    <a:pt x="605" y="18177"/>
                    <a:pt x="595" y="18177"/>
                  </a:cubicBezTo>
                  <a:cubicBezTo>
                    <a:pt x="585" y="18177"/>
                    <a:pt x="575" y="18159"/>
                    <a:pt x="565" y="18141"/>
                  </a:cubicBezTo>
                  <a:cubicBezTo>
                    <a:pt x="550" y="18130"/>
                    <a:pt x="530" y="18130"/>
                    <a:pt x="509" y="18118"/>
                  </a:cubicBezTo>
                  <a:cubicBezTo>
                    <a:pt x="459" y="18106"/>
                    <a:pt x="403" y="18106"/>
                    <a:pt x="353" y="18100"/>
                  </a:cubicBezTo>
                  <a:lnTo>
                    <a:pt x="328" y="18100"/>
                  </a:lnTo>
                  <a:cubicBezTo>
                    <a:pt x="308" y="18106"/>
                    <a:pt x="308" y="18141"/>
                    <a:pt x="308" y="18165"/>
                  </a:cubicBezTo>
                  <a:cubicBezTo>
                    <a:pt x="298" y="18212"/>
                    <a:pt x="267" y="18253"/>
                    <a:pt x="222" y="18253"/>
                  </a:cubicBezTo>
                  <a:lnTo>
                    <a:pt x="192" y="18253"/>
                  </a:lnTo>
                  <a:cubicBezTo>
                    <a:pt x="172" y="18264"/>
                    <a:pt x="172" y="18300"/>
                    <a:pt x="182" y="18311"/>
                  </a:cubicBezTo>
                  <a:cubicBezTo>
                    <a:pt x="192" y="18335"/>
                    <a:pt x="212" y="18352"/>
                    <a:pt x="232" y="18364"/>
                  </a:cubicBezTo>
                  <a:lnTo>
                    <a:pt x="96" y="18364"/>
                  </a:lnTo>
                  <a:cubicBezTo>
                    <a:pt x="66" y="18364"/>
                    <a:pt x="30" y="18364"/>
                    <a:pt x="10" y="18387"/>
                  </a:cubicBezTo>
                  <a:cubicBezTo>
                    <a:pt x="-15" y="18417"/>
                    <a:pt x="10" y="18475"/>
                    <a:pt x="35" y="18458"/>
                  </a:cubicBezTo>
                  <a:cubicBezTo>
                    <a:pt x="25" y="18499"/>
                    <a:pt x="25" y="18522"/>
                    <a:pt x="10" y="18557"/>
                  </a:cubicBezTo>
                  <a:cubicBezTo>
                    <a:pt x="46" y="18557"/>
                    <a:pt x="66" y="18598"/>
                    <a:pt x="66" y="18633"/>
                  </a:cubicBezTo>
                  <a:cubicBezTo>
                    <a:pt x="66" y="18669"/>
                    <a:pt x="56" y="18704"/>
                    <a:pt x="56" y="18745"/>
                  </a:cubicBezTo>
                  <a:cubicBezTo>
                    <a:pt x="56" y="18780"/>
                    <a:pt x="56" y="18815"/>
                    <a:pt x="86" y="18827"/>
                  </a:cubicBezTo>
                  <a:cubicBezTo>
                    <a:pt x="96" y="18827"/>
                    <a:pt x="106" y="18827"/>
                    <a:pt x="116" y="18839"/>
                  </a:cubicBezTo>
                  <a:cubicBezTo>
                    <a:pt x="151" y="18868"/>
                    <a:pt x="131" y="18926"/>
                    <a:pt x="106" y="18962"/>
                  </a:cubicBezTo>
                  <a:cubicBezTo>
                    <a:pt x="116" y="19014"/>
                    <a:pt x="202" y="18979"/>
                    <a:pt x="222" y="19014"/>
                  </a:cubicBezTo>
                  <a:cubicBezTo>
                    <a:pt x="232" y="19026"/>
                    <a:pt x="222" y="19049"/>
                    <a:pt x="232" y="19061"/>
                  </a:cubicBezTo>
                  <a:cubicBezTo>
                    <a:pt x="232" y="19085"/>
                    <a:pt x="257" y="19102"/>
                    <a:pt x="267" y="19114"/>
                  </a:cubicBezTo>
                  <a:cubicBezTo>
                    <a:pt x="308" y="19196"/>
                    <a:pt x="202" y="19307"/>
                    <a:pt x="257" y="19395"/>
                  </a:cubicBezTo>
                  <a:cubicBezTo>
                    <a:pt x="222" y="19395"/>
                    <a:pt x="202" y="19442"/>
                    <a:pt x="222" y="19483"/>
                  </a:cubicBezTo>
                  <a:cubicBezTo>
                    <a:pt x="192" y="19565"/>
                    <a:pt x="141" y="19653"/>
                    <a:pt x="106" y="19741"/>
                  </a:cubicBezTo>
                  <a:cubicBezTo>
                    <a:pt x="141" y="19729"/>
                    <a:pt x="151" y="19788"/>
                    <a:pt x="141" y="19811"/>
                  </a:cubicBezTo>
                  <a:cubicBezTo>
                    <a:pt x="131" y="19846"/>
                    <a:pt x="96" y="19864"/>
                    <a:pt x="86" y="19899"/>
                  </a:cubicBezTo>
                  <a:cubicBezTo>
                    <a:pt x="76" y="19934"/>
                    <a:pt x="86" y="19975"/>
                    <a:pt x="86" y="20010"/>
                  </a:cubicBezTo>
                  <a:cubicBezTo>
                    <a:pt x="86" y="20051"/>
                    <a:pt x="76" y="20081"/>
                    <a:pt x="56" y="20110"/>
                  </a:cubicBezTo>
                  <a:cubicBezTo>
                    <a:pt x="96" y="20110"/>
                    <a:pt x="96" y="20168"/>
                    <a:pt x="86" y="20215"/>
                  </a:cubicBezTo>
                  <a:cubicBezTo>
                    <a:pt x="76" y="20315"/>
                    <a:pt x="86" y="20414"/>
                    <a:pt x="116" y="20502"/>
                  </a:cubicBezTo>
                  <a:cubicBezTo>
                    <a:pt x="131" y="20514"/>
                    <a:pt x="131" y="20537"/>
                    <a:pt x="141" y="20537"/>
                  </a:cubicBezTo>
                  <a:cubicBezTo>
                    <a:pt x="151" y="20549"/>
                    <a:pt x="172" y="20549"/>
                    <a:pt x="182" y="20549"/>
                  </a:cubicBezTo>
                  <a:cubicBezTo>
                    <a:pt x="247" y="20561"/>
                    <a:pt x="277" y="20637"/>
                    <a:pt x="298" y="20696"/>
                  </a:cubicBezTo>
                  <a:cubicBezTo>
                    <a:pt x="308" y="20737"/>
                    <a:pt x="318" y="20784"/>
                    <a:pt x="328" y="20819"/>
                  </a:cubicBezTo>
                  <a:cubicBezTo>
                    <a:pt x="338" y="20860"/>
                    <a:pt x="353" y="20895"/>
                    <a:pt x="373" y="20918"/>
                  </a:cubicBezTo>
                  <a:cubicBezTo>
                    <a:pt x="393" y="20942"/>
                    <a:pt x="434" y="20942"/>
                    <a:pt x="459" y="20918"/>
                  </a:cubicBezTo>
                  <a:cubicBezTo>
                    <a:pt x="489" y="20953"/>
                    <a:pt x="519" y="20977"/>
                    <a:pt x="565" y="20994"/>
                  </a:cubicBezTo>
                  <a:cubicBezTo>
                    <a:pt x="635" y="21018"/>
                    <a:pt x="721" y="21006"/>
                    <a:pt x="807" y="21030"/>
                  </a:cubicBezTo>
                  <a:cubicBezTo>
                    <a:pt x="837" y="21041"/>
                    <a:pt x="857" y="21053"/>
                    <a:pt x="867" y="21076"/>
                  </a:cubicBezTo>
                  <a:cubicBezTo>
                    <a:pt x="893" y="21117"/>
                    <a:pt x="857" y="21176"/>
                    <a:pt x="893" y="21211"/>
                  </a:cubicBezTo>
                  <a:cubicBezTo>
                    <a:pt x="903" y="21240"/>
                    <a:pt x="933" y="21240"/>
                    <a:pt x="943" y="21264"/>
                  </a:cubicBezTo>
                  <a:cubicBezTo>
                    <a:pt x="953" y="21287"/>
                    <a:pt x="943" y="21323"/>
                    <a:pt x="953" y="21364"/>
                  </a:cubicBezTo>
                  <a:cubicBezTo>
                    <a:pt x="963" y="21387"/>
                    <a:pt x="998" y="21399"/>
                    <a:pt x="1019" y="21422"/>
                  </a:cubicBezTo>
                  <a:cubicBezTo>
                    <a:pt x="1039" y="21446"/>
                    <a:pt x="1029" y="21487"/>
                    <a:pt x="1029" y="21522"/>
                  </a:cubicBezTo>
                  <a:cubicBezTo>
                    <a:pt x="1029" y="21563"/>
                    <a:pt x="1059" y="21592"/>
                    <a:pt x="1079" y="21580"/>
                  </a:cubicBezTo>
                  <a:cubicBezTo>
                    <a:pt x="1114" y="21569"/>
                    <a:pt x="1089" y="21498"/>
                    <a:pt x="1124" y="21457"/>
                  </a:cubicBezTo>
                  <a:cubicBezTo>
                    <a:pt x="1135" y="21434"/>
                    <a:pt x="1175" y="21434"/>
                    <a:pt x="1185" y="21410"/>
                  </a:cubicBezTo>
                  <a:cubicBezTo>
                    <a:pt x="1195" y="21387"/>
                    <a:pt x="1195" y="21364"/>
                    <a:pt x="1195" y="21346"/>
                  </a:cubicBezTo>
                  <a:cubicBezTo>
                    <a:pt x="1205" y="21276"/>
                    <a:pt x="1261" y="21223"/>
                    <a:pt x="1326" y="21199"/>
                  </a:cubicBezTo>
                  <a:cubicBezTo>
                    <a:pt x="1387" y="21176"/>
                    <a:pt x="1452" y="21176"/>
                    <a:pt x="1513" y="21153"/>
                  </a:cubicBezTo>
                  <a:cubicBezTo>
                    <a:pt x="1523" y="21153"/>
                    <a:pt x="1548" y="21141"/>
                    <a:pt x="1558" y="21141"/>
                  </a:cubicBezTo>
                  <a:cubicBezTo>
                    <a:pt x="1578" y="21141"/>
                    <a:pt x="1588" y="21153"/>
                    <a:pt x="1609" y="21153"/>
                  </a:cubicBezTo>
                  <a:lnTo>
                    <a:pt x="1704" y="21188"/>
                  </a:lnTo>
                  <a:cubicBezTo>
                    <a:pt x="1770" y="21199"/>
                    <a:pt x="1840" y="21188"/>
                    <a:pt x="1886" y="21141"/>
                  </a:cubicBezTo>
                  <a:cubicBezTo>
                    <a:pt x="1896" y="21211"/>
                    <a:pt x="1992" y="21211"/>
                    <a:pt x="2052" y="21199"/>
                  </a:cubicBezTo>
                  <a:cubicBezTo>
                    <a:pt x="2042" y="21176"/>
                    <a:pt x="2032" y="21153"/>
                    <a:pt x="2012" y="21153"/>
                  </a:cubicBezTo>
                  <a:cubicBezTo>
                    <a:pt x="2077" y="21129"/>
                    <a:pt x="2138" y="21088"/>
                    <a:pt x="2168" y="21018"/>
                  </a:cubicBezTo>
                  <a:cubicBezTo>
                    <a:pt x="2193" y="20977"/>
                    <a:pt x="2193" y="20930"/>
                    <a:pt x="2224" y="20895"/>
                  </a:cubicBezTo>
                  <a:cubicBezTo>
                    <a:pt x="2254" y="20860"/>
                    <a:pt x="2309" y="20842"/>
                    <a:pt x="2319" y="20883"/>
                  </a:cubicBezTo>
                  <a:cubicBezTo>
                    <a:pt x="2350" y="20842"/>
                    <a:pt x="2390" y="20819"/>
                    <a:pt x="2435" y="20830"/>
                  </a:cubicBezTo>
                  <a:cubicBezTo>
                    <a:pt x="2456" y="20830"/>
                    <a:pt x="2476" y="20842"/>
                    <a:pt x="2496" y="20830"/>
                  </a:cubicBezTo>
                  <a:cubicBezTo>
                    <a:pt x="2531" y="20819"/>
                    <a:pt x="2551" y="20784"/>
                    <a:pt x="2551" y="20748"/>
                  </a:cubicBezTo>
                  <a:cubicBezTo>
                    <a:pt x="2551" y="20707"/>
                    <a:pt x="2541" y="20672"/>
                    <a:pt x="2531" y="20637"/>
                  </a:cubicBezTo>
                  <a:cubicBezTo>
                    <a:pt x="2561" y="20661"/>
                    <a:pt x="2602" y="20625"/>
                    <a:pt x="2612" y="20573"/>
                  </a:cubicBezTo>
                  <a:cubicBezTo>
                    <a:pt x="2627" y="20537"/>
                    <a:pt x="2602" y="20491"/>
                    <a:pt x="2582" y="20450"/>
                  </a:cubicBezTo>
                  <a:cubicBezTo>
                    <a:pt x="2627" y="20461"/>
                    <a:pt x="2657" y="20414"/>
                    <a:pt x="2657" y="20368"/>
                  </a:cubicBezTo>
                  <a:cubicBezTo>
                    <a:pt x="2657" y="20315"/>
                    <a:pt x="2647" y="20280"/>
                    <a:pt x="2637" y="20233"/>
                  </a:cubicBezTo>
                  <a:cubicBezTo>
                    <a:pt x="2627" y="20168"/>
                    <a:pt x="2647" y="20092"/>
                    <a:pt x="2688" y="20045"/>
                  </a:cubicBezTo>
                  <a:cubicBezTo>
                    <a:pt x="2688" y="19969"/>
                    <a:pt x="2677" y="19911"/>
                    <a:pt x="2647" y="19846"/>
                  </a:cubicBezTo>
                  <a:cubicBezTo>
                    <a:pt x="2647" y="19776"/>
                    <a:pt x="2667" y="19700"/>
                    <a:pt x="2708" y="19653"/>
                  </a:cubicBezTo>
                  <a:cubicBezTo>
                    <a:pt x="2708" y="19618"/>
                    <a:pt x="2718" y="19577"/>
                    <a:pt x="2718" y="19542"/>
                  </a:cubicBezTo>
                  <a:cubicBezTo>
                    <a:pt x="2763" y="19565"/>
                    <a:pt x="2814" y="19588"/>
                    <a:pt x="2869" y="19588"/>
                  </a:cubicBezTo>
                  <a:cubicBezTo>
                    <a:pt x="2879" y="19588"/>
                    <a:pt x="2899" y="19588"/>
                    <a:pt x="2909" y="19577"/>
                  </a:cubicBezTo>
                  <a:cubicBezTo>
                    <a:pt x="2919" y="19553"/>
                    <a:pt x="2889" y="19530"/>
                    <a:pt x="2889" y="19506"/>
                  </a:cubicBezTo>
                  <a:cubicBezTo>
                    <a:pt x="2889" y="19495"/>
                    <a:pt x="2899" y="19483"/>
                    <a:pt x="2909" y="19465"/>
                  </a:cubicBezTo>
                  <a:cubicBezTo>
                    <a:pt x="2965" y="19407"/>
                    <a:pt x="3015" y="19342"/>
                    <a:pt x="3091" y="19360"/>
                  </a:cubicBezTo>
                  <a:cubicBezTo>
                    <a:pt x="3071" y="19307"/>
                    <a:pt x="3106" y="19249"/>
                    <a:pt x="3141" y="19208"/>
                  </a:cubicBezTo>
                  <a:cubicBezTo>
                    <a:pt x="3172" y="19172"/>
                    <a:pt x="3217" y="19161"/>
                    <a:pt x="3247" y="19126"/>
                  </a:cubicBezTo>
                  <a:lnTo>
                    <a:pt x="3282" y="19085"/>
                  </a:lnTo>
                  <a:cubicBezTo>
                    <a:pt x="3313" y="19049"/>
                    <a:pt x="3353" y="19049"/>
                    <a:pt x="3388" y="19049"/>
                  </a:cubicBezTo>
                  <a:cubicBezTo>
                    <a:pt x="3429" y="19038"/>
                    <a:pt x="3469" y="19026"/>
                    <a:pt x="3469" y="18979"/>
                  </a:cubicBezTo>
                  <a:lnTo>
                    <a:pt x="3469" y="18938"/>
                  </a:lnTo>
                  <a:cubicBezTo>
                    <a:pt x="3484" y="18915"/>
                    <a:pt x="3504" y="18891"/>
                    <a:pt x="3504" y="18868"/>
                  </a:cubicBezTo>
                  <a:cubicBezTo>
                    <a:pt x="3504" y="18856"/>
                    <a:pt x="3504" y="18839"/>
                    <a:pt x="3494" y="18827"/>
                  </a:cubicBezTo>
                  <a:cubicBezTo>
                    <a:pt x="3484" y="18792"/>
                    <a:pt x="3484" y="18745"/>
                    <a:pt x="3494" y="18692"/>
                  </a:cubicBezTo>
                  <a:lnTo>
                    <a:pt x="3494" y="18645"/>
                  </a:lnTo>
                  <a:cubicBezTo>
                    <a:pt x="3504" y="18581"/>
                    <a:pt x="3504" y="18522"/>
                    <a:pt x="3514" y="18446"/>
                  </a:cubicBezTo>
                  <a:cubicBezTo>
                    <a:pt x="3514" y="18411"/>
                    <a:pt x="3524" y="18364"/>
                    <a:pt x="3524" y="18323"/>
                  </a:cubicBezTo>
                  <a:cubicBezTo>
                    <a:pt x="3524" y="18300"/>
                    <a:pt x="3524" y="18276"/>
                    <a:pt x="3545" y="18264"/>
                  </a:cubicBezTo>
                  <a:cubicBezTo>
                    <a:pt x="3555" y="18253"/>
                    <a:pt x="3585" y="18253"/>
                    <a:pt x="3585" y="18276"/>
                  </a:cubicBezTo>
                  <a:cubicBezTo>
                    <a:pt x="3585" y="18253"/>
                    <a:pt x="3585" y="18212"/>
                    <a:pt x="3600" y="18200"/>
                  </a:cubicBezTo>
                  <a:cubicBezTo>
                    <a:pt x="3610" y="18177"/>
                    <a:pt x="3640" y="18177"/>
                    <a:pt x="3661" y="18188"/>
                  </a:cubicBezTo>
                  <a:cubicBezTo>
                    <a:pt x="3681" y="18177"/>
                    <a:pt x="3706" y="18153"/>
                    <a:pt x="3726" y="18141"/>
                  </a:cubicBezTo>
                  <a:cubicBezTo>
                    <a:pt x="3756" y="18153"/>
                    <a:pt x="3787" y="18153"/>
                    <a:pt x="3822" y="18141"/>
                  </a:cubicBezTo>
                  <a:cubicBezTo>
                    <a:pt x="3893" y="18118"/>
                    <a:pt x="3968" y="18100"/>
                    <a:pt x="4044" y="18059"/>
                  </a:cubicBezTo>
                  <a:cubicBezTo>
                    <a:pt x="4044" y="18083"/>
                    <a:pt x="4054" y="18106"/>
                    <a:pt x="4054" y="18130"/>
                  </a:cubicBezTo>
                  <a:cubicBezTo>
                    <a:pt x="4084" y="18130"/>
                    <a:pt x="4124" y="18130"/>
                    <a:pt x="4150" y="18165"/>
                  </a:cubicBezTo>
                  <a:cubicBezTo>
                    <a:pt x="4150" y="18177"/>
                    <a:pt x="4150" y="18188"/>
                    <a:pt x="4160" y="18200"/>
                  </a:cubicBezTo>
                  <a:cubicBezTo>
                    <a:pt x="4170" y="18241"/>
                    <a:pt x="4200" y="18276"/>
                    <a:pt x="4230" y="18276"/>
                  </a:cubicBezTo>
                  <a:cubicBezTo>
                    <a:pt x="4266" y="18288"/>
                    <a:pt x="4306" y="18276"/>
                    <a:pt x="4336" y="18276"/>
                  </a:cubicBezTo>
                  <a:cubicBezTo>
                    <a:pt x="4316" y="18335"/>
                    <a:pt x="4392" y="18399"/>
                    <a:pt x="4442" y="18364"/>
                  </a:cubicBezTo>
                  <a:cubicBezTo>
                    <a:pt x="4488" y="18411"/>
                    <a:pt x="4573" y="18387"/>
                    <a:pt x="4583" y="18311"/>
                  </a:cubicBezTo>
                  <a:cubicBezTo>
                    <a:pt x="4593" y="18288"/>
                    <a:pt x="4593" y="18276"/>
                    <a:pt x="4603" y="18253"/>
                  </a:cubicBezTo>
                  <a:cubicBezTo>
                    <a:pt x="4634" y="18200"/>
                    <a:pt x="4699" y="18241"/>
                    <a:pt x="4750" y="18200"/>
                  </a:cubicBezTo>
                  <a:cubicBezTo>
                    <a:pt x="4730" y="18188"/>
                    <a:pt x="4730" y="18141"/>
                    <a:pt x="4740" y="18118"/>
                  </a:cubicBezTo>
                  <a:cubicBezTo>
                    <a:pt x="4750" y="18100"/>
                    <a:pt x="4785" y="18083"/>
                    <a:pt x="4815" y="18083"/>
                  </a:cubicBezTo>
                  <a:cubicBezTo>
                    <a:pt x="4846" y="18083"/>
                    <a:pt x="4901" y="18100"/>
                    <a:pt x="4901" y="18059"/>
                  </a:cubicBezTo>
                  <a:lnTo>
                    <a:pt x="4866" y="17989"/>
                  </a:lnTo>
                  <a:cubicBezTo>
                    <a:pt x="4901" y="18001"/>
                    <a:pt x="4931" y="17977"/>
                    <a:pt x="4951" y="17936"/>
                  </a:cubicBezTo>
                  <a:cubicBezTo>
                    <a:pt x="4997" y="17878"/>
                    <a:pt x="5037" y="17825"/>
                    <a:pt x="5077" y="17766"/>
                  </a:cubicBezTo>
                  <a:cubicBezTo>
                    <a:pt x="5143" y="17778"/>
                    <a:pt x="5203" y="17743"/>
                    <a:pt x="5229" y="17679"/>
                  </a:cubicBezTo>
                  <a:cubicBezTo>
                    <a:pt x="5269" y="17714"/>
                    <a:pt x="5335" y="17714"/>
                    <a:pt x="5385" y="17679"/>
                  </a:cubicBezTo>
                  <a:cubicBezTo>
                    <a:pt x="5405" y="17714"/>
                    <a:pt x="5415" y="17755"/>
                    <a:pt x="5405" y="17790"/>
                  </a:cubicBezTo>
                  <a:cubicBezTo>
                    <a:pt x="5451" y="17802"/>
                    <a:pt x="5481" y="17837"/>
                    <a:pt x="5511" y="17866"/>
                  </a:cubicBezTo>
                  <a:cubicBezTo>
                    <a:pt x="5546" y="17889"/>
                    <a:pt x="5597" y="17901"/>
                    <a:pt x="5627" y="17878"/>
                  </a:cubicBezTo>
                  <a:cubicBezTo>
                    <a:pt x="5637" y="17901"/>
                    <a:pt x="5637" y="17936"/>
                    <a:pt x="5627" y="17960"/>
                  </a:cubicBezTo>
                  <a:cubicBezTo>
                    <a:pt x="5703" y="17989"/>
                    <a:pt x="5758" y="18095"/>
                    <a:pt x="5723" y="18165"/>
                  </a:cubicBezTo>
                  <a:cubicBezTo>
                    <a:pt x="5713" y="18177"/>
                    <a:pt x="5713" y="18200"/>
                    <a:pt x="5713" y="18212"/>
                  </a:cubicBezTo>
                  <a:cubicBezTo>
                    <a:pt x="5723" y="18241"/>
                    <a:pt x="5758" y="18241"/>
                    <a:pt x="5768" y="18276"/>
                  </a:cubicBezTo>
                  <a:lnTo>
                    <a:pt x="5768" y="18311"/>
                  </a:lnTo>
                  <a:cubicBezTo>
                    <a:pt x="5768" y="18376"/>
                    <a:pt x="5758" y="18434"/>
                    <a:pt x="5758" y="18499"/>
                  </a:cubicBezTo>
                  <a:cubicBezTo>
                    <a:pt x="5788" y="18510"/>
                    <a:pt x="5819" y="18522"/>
                    <a:pt x="5864" y="18546"/>
                  </a:cubicBezTo>
                  <a:cubicBezTo>
                    <a:pt x="5874" y="18534"/>
                    <a:pt x="5894" y="18534"/>
                    <a:pt x="5904" y="18522"/>
                  </a:cubicBezTo>
                  <a:cubicBezTo>
                    <a:pt x="5904" y="18581"/>
                    <a:pt x="5995" y="18546"/>
                    <a:pt x="6015" y="18598"/>
                  </a:cubicBezTo>
                  <a:cubicBezTo>
                    <a:pt x="6025" y="18622"/>
                    <a:pt x="6015" y="18645"/>
                    <a:pt x="6025" y="18669"/>
                  </a:cubicBezTo>
                  <a:cubicBezTo>
                    <a:pt x="6035" y="18704"/>
                    <a:pt x="6101" y="18704"/>
                    <a:pt x="6131" y="18733"/>
                  </a:cubicBezTo>
                  <a:cubicBezTo>
                    <a:pt x="6141" y="18745"/>
                    <a:pt x="6151" y="18768"/>
                    <a:pt x="6161" y="18780"/>
                  </a:cubicBezTo>
                  <a:cubicBezTo>
                    <a:pt x="6187" y="18815"/>
                    <a:pt x="6227" y="18856"/>
                    <a:pt x="6257" y="18880"/>
                  </a:cubicBezTo>
                  <a:cubicBezTo>
                    <a:pt x="6303" y="18903"/>
                    <a:pt x="6343" y="18938"/>
                    <a:pt x="6373" y="18962"/>
                  </a:cubicBezTo>
                  <a:cubicBezTo>
                    <a:pt x="6419" y="19003"/>
                    <a:pt x="6469" y="19026"/>
                    <a:pt x="6514" y="19061"/>
                  </a:cubicBezTo>
                  <a:cubicBezTo>
                    <a:pt x="6545" y="19126"/>
                    <a:pt x="6605" y="19161"/>
                    <a:pt x="6671" y="19149"/>
                  </a:cubicBezTo>
                  <a:cubicBezTo>
                    <a:pt x="6671" y="19219"/>
                    <a:pt x="6736" y="19272"/>
                    <a:pt x="6787" y="19319"/>
                  </a:cubicBezTo>
                  <a:cubicBezTo>
                    <a:pt x="6852" y="19360"/>
                    <a:pt x="6903" y="19407"/>
                    <a:pt x="6968" y="19442"/>
                  </a:cubicBezTo>
                  <a:cubicBezTo>
                    <a:pt x="6958" y="19506"/>
                    <a:pt x="7009" y="19542"/>
                    <a:pt x="7064" y="19565"/>
                  </a:cubicBezTo>
                  <a:cubicBezTo>
                    <a:pt x="7104" y="19588"/>
                    <a:pt x="7170" y="19606"/>
                    <a:pt x="7180" y="19665"/>
                  </a:cubicBezTo>
                  <a:cubicBezTo>
                    <a:pt x="7190" y="19729"/>
                    <a:pt x="7160" y="19811"/>
                    <a:pt x="7200" y="19834"/>
                  </a:cubicBezTo>
                  <a:cubicBezTo>
                    <a:pt x="7210" y="19846"/>
                    <a:pt x="7230" y="19846"/>
                    <a:pt x="7230" y="19864"/>
                  </a:cubicBezTo>
                  <a:cubicBezTo>
                    <a:pt x="7240" y="19875"/>
                    <a:pt x="7230" y="19887"/>
                    <a:pt x="7230" y="19911"/>
                  </a:cubicBezTo>
                  <a:cubicBezTo>
                    <a:pt x="7230" y="19946"/>
                    <a:pt x="7256" y="19975"/>
                    <a:pt x="7266" y="19999"/>
                  </a:cubicBezTo>
                  <a:cubicBezTo>
                    <a:pt x="7281" y="20028"/>
                    <a:pt x="7276" y="20069"/>
                    <a:pt x="7251" y="20081"/>
                  </a:cubicBezTo>
                  <a:cubicBezTo>
                    <a:pt x="7306" y="20092"/>
                    <a:pt x="7336" y="20157"/>
                    <a:pt x="7326" y="20215"/>
                  </a:cubicBezTo>
                  <a:cubicBezTo>
                    <a:pt x="7316" y="20291"/>
                    <a:pt x="7240" y="20327"/>
                    <a:pt x="7200" y="20391"/>
                  </a:cubicBezTo>
                  <a:cubicBezTo>
                    <a:pt x="7180" y="20426"/>
                    <a:pt x="7170" y="20473"/>
                    <a:pt x="7170" y="20526"/>
                  </a:cubicBezTo>
                  <a:cubicBezTo>
                    <a:pt x="7170" y="20537"/>
                    <a:pt x="7170" y="20549"/>
                    <a:pt x="7180" y="20561"/>
                  </a:cubicBezTo>
                  <a:cubicBezTo>
                    <a:pt x="7190" y="20573"/>
                    <a:pt x="7200" y="20573"/>
                    <a:pt x="7210" y="20573"/>
                  </a:cubicBezTo>
                  <a:cubicBezTo>
                    <a:pt x="7240" y="20596"/>
                    <a:pt x="7240" y="20661"/>
                    <a:pt x="7286" y="20672"/>
                  </a:cubicBezTo>
                  <a:cubicBezTo>
                    <a:pt x="7296" y="20672"/>
                    <a:pt x="7316" y="20661"/>
                    <a:pt x="7326" y="20672"/>
                  </a:cubicBezTo>
                  <a:cubicBezTo>
                    <a:pt x="7336" y="20672"/>
                    <a:pt x="7346" y="20684"/>
                    <a:pt x="7372" y="20684"/>
                  </a:cubicBezTo>
                  <a:cubicBezTo>
                    <a:pt x="7412" y="20696"/>
                    <a:pt x="7442" y="20637"/>
                    <a:pt x="7452" y="20596"/>
                  </a:cubicBezTo>
                  <a:cubicBezTo>
                    <a:pt x="7462" y="20549"/>
                    <a:pt x="7472" y="20502"/>
                    <a:pt x="7508" y="20461"/>
                  </a:cubicBezTo>
                  <a:cubicBezTo>
                    <a:pt x="7538" y="20438"/>
                    <a:pt x="7578" y="20438"/>
                    <a:pt x="7593" y="20403"/>
                  </a:cubicBezTo>
                  <a:cubicBezTo>
                    <a:pt x="7593" y="20379"/>
                    <a:pt x="7568" y="20379"/>
                    <a:pt x="7558" y="20368"/>
                  </a:cubicBezTo>
                  <a:cubicBezTo>
                    <a:pt x="7538" y="20350"/>
                    <a:pt x="7558" y="20315"/>
                    <a:pt x="7568" y="20291"/>
                  </a:cubicBezTo>
                  <a:cubicBezTo>
                    <a:pt x="7578" y="20268"/>
                    <a:pt x="7614" y="20268"/>
                    <a:pt x="7624" y="20245"/>
                  </a:cubicBezTo>
                  <a:cubicBezTo>
                    <a:pt x="7634" y="20215"/>
                    <a:pt x="7614" y="20192"/>
                    <a:pt x="7614" y="20180"/>
                  </a:cubicBezTo>
                  <a:cubicBezTo>
                    <a:pt x="7578" y="20110"/>
                    <a:pt x="7568" y="20022"/>
                    <a:pt x="7578" y="19946"/>
                  </a:cubicBezTo>
                  <a:cubicBezTo>
                    <a:pt x="7548" y="19946"/>
                    <a:pt x="7548" y="19899"/>
                    <a:pt x="7548" y="19864"/>
                  </a:cubicBezTo>
                  <a:cubicBezTo>
                    <a:pt x="7568" y="19764"/>
                    <a:pt x="7593" y="19676"/>
                    <a:pt x="7644" y="19606"/>
                  </a:cubicBezTo>
                  <a:lnTo>
                    <a:pt x="7770" y="19641"/>
                  </a:lnTo>
                  <a:cubicBezTo>
                    <a:pt x="7790" y="19641"/>
                    <a:pt x="7805" y="19653"/>
                    <a:pt x="7825" y="19665"/>
                  </a:cubicBezTo>
                  <a:cubicBezTo>
                    <a:pt x="7835" y="19676"/>
                    <a:pt x="7846" y="19688"/>
                    <a:pt x="7846" y="19700"/>
                  </a:cubicBezTo>
                  <a:cubicBezTo>
                    <a:pt x="7876" y="19776"/>
                    <a:pt x="7921" y="19834"/>
                    <a:pt x="7951" y="19911"/>
                  </a:cubicBezTo>
                  <a:cubicBezTo>
                    <a:pt x="8002" y="19911"/>
                    <a:pt x="8057" y="19834"/>
                    <a:pt x="8037" y="19776"/>
                  </a:cubicBezTo>
                  <a:cubicBezTo>
                    <a:pt x="8057" y="19764"/>
                    <a:pt x="8067" y="19752"/>
                    <a:pt x="8088" y="19741"/>
                  </a:cubicBezTo>
                  <a:cubicBezTo>
                    <a:pt x="8057" y="19729"/>
                    <a:pt x="8037" y="19688"/>
                    <a:pt x="8027" y="19641"/>
                  </a:cubicBezTo>
                  <a:cubicBezTo>
                    <a:pt x="8012" y="19606"/>
                    <a:pt x="8027" y="19553"/>
                    <a:pt x="8012" y="19518"/>
                  </a:cubicBezTo>
                  <a:cubicBezTo>
                    <a:pt x="7992" y="19419"/>
                    <a:pt x="7896" y="19372"/>
                    <a:pt x="7805" y="19342"/>
                  </a:cubicBezTo>
                  <a:cubicBezTo>
                    <a:pt x="7719" y="19331"/>
                    <a:pt x="7634" y="19331"/>
                    <a:pt x="7558" y="19284"/>
                  </a:cubicBezTo>
                  <a:lnTo>
                    <a:pt x="7558" y="19196"/>
                  </a:lnTo>
                  <a:cubicBezTo>
                    <a:pt x="7452" y="19184"/>
                    <a:pt x="7372" y="19085"/>
                    <a:pt x="7336" y="18979"/>
                  </a:cubicBezTo>
                  <a:cubicBezTo>
                    <a:pt x="7306" y="18950"/>
                    <a:pt x="7276" y="18962"/>
                    <a:pt x="7240" y="18962"/>
                  </a:cubicBezTo>
                  <a:cubicBezTo>
                    <a:pt x="7210" y="18962"/>
                    <a:pt x="7170" y="18938"/>
                    <a:pt x="7180" y="18903"/>
                  </a:cubicBezTo>
                  <a:cubicBezTo>
                    <a:pt x="7124" y="18891"/>
                    <a:pt x="7074" y="18856"/>
                    <a:pt x="7029" y="18815"/>
                  </a:cubicBezTo>
                  <a:cubicBezTo>
                    <a:pt x="6988" y="18780"/>
                    <a:pt x="6933" y="18733"/>
                    <a:pt x="6893" y="18757"/>
                  </a:cubicBezTo>
                  <a:cubicBezTo>
                    <a:pt x="6807" y="18692"/>
                    <a:pt x="6746" y="18610"/>
                    <a:pt x="6711" y="18510"/>
                  </a:cubicBezTo>
                  <a:cubicBezTo>
                    <a:pt x="6691" y="18446"/>
                    <a:pt x="6681" y="18376"/>
                    <a:pt x="6671" y="18300"/>
                  </a:cubicBezTo>
                  <a:cubicBezTo>
                    <a:pt x="6651" y="18253"/>
                    <a:pt x="6620" y="18200"/>
                    <a:pt x="6585" y="18165"/>
                  </a:cubicBezTo>
                  <a:cubicBezTo>
                    <a:pt x="6535" y="18095"/>
                    <a:pt x="6459" y="18036"/>
                    <a:pt x="6383" y="17977"/>
                  </a:cubicBezTo>
                  <a:cubicBezTo>
                    <a:pt x="6398" y="17936"/>
                    <a:pt x="6363" y="17889"/>
                    <a:pt x="6333" y="17889"/>
                  </a:cubicBezTo>
                  <a:cubicBezTo>
                    <a:pt x="6343" y="17854"/>
                    <a:pt x="6343" y="17802"/>
                    <a:pt x="6333" y="17766"/>
                  </a:cubicBezTo>
                  <a:cubicBezTo>
                    <a:pt x="6323" y="17778"/>
                    <a:pt x="6313" y="17802"/>
                    <a:pt x="6303" y="17813"/>
                  </a:cubicBezTo>
                  <a:cubicBezTo>
                    <a:pt x="6277" y="17755"/>
                    <a:pt x="6267" y="17690"/>
                    <a:pt x="6293" y="17632"/>
                  </a:cubicBezTo>
                  <a:lnTo>
                    <a:pt x="6257" y="17632"/>
                  </a:lnTo>
                  <a:cubicBezTo>
                    <a:pt x="6267" y="17591"/>
                    <a:pt x="6293" y="17567"/>
                    <a:pt x="6313" y="17532"/>
                  </a:cubicBezTo>
                  <a:cubicBezTo>
                    <a:pt x="6257" y="17497"/>
                    <a:pt x="6217" y="17421"/>
                    <a:pt x="6217" y="17351"/>
                  </a:cubicBezTo>
                  <a:cubicBezTo>
                    <a:pt x="6227" y="17362"/>
                    <a:pt x="6247" y="17351"/>
                    <a:pt x="6257" y="17333"/>
                  </a:cubicBezTo>
                  <a:cubicBezTo>
                    <a:pt x="6267" y="17321"/>
                    <a:pt x="6267" y="17298"/>
                    <a:pt x="6277" y="17286"/>
                  </a:cubicBezTo>
                  <a:cubicBezTo>
                    <a:pt x="6293" y="17263"/>
                    <a:pt x="6313" y="17263"/>
                    <a:pt x="6333" y="17251"/>
                  </a:cubicBezTo>
                  <a:cubicBezTo>
                    <a:pt x="6398" y="17227"/>
                    <a:pt x="6449" y="17186"/>
                    <a:pt x="6499" y="17140"/>
                  </a:cubicBezTo>
                  <a:cubicBezTo>
                    <a:pt x="6514" y="17163"/>
                    <a:pt x="6545" y="17163"/>
                    <a:pt x="6555" y="17151"/>
                  </a:cubicBezTo>
                  <a:cubicBezTo>
                    <a:pt x="6605" y="17186"/>
                    <a:pt x="6630" y="17251"/>
                    <a:pt x="6620" y="17309"/>
                  </a:cubicBezTo>
                  <a:cubicBezTo>
                    <a:pt x="6651" y="17298"/>
                    <a:pt x="6691" y="17321"/>
                    <a:pt x="6701" y="17362"/>
                  </a:cubicBezTo>
                  <a:cubicBezTo>
                    <a:pt x="6711" y="17397"/>
                    <a:pt x="6711" y="17433"/>
                    <a:pt x="6726" y="17485"/>
                  </a:cubicBezTo>
                  <a:cubicBezTo>
                    <a:pt x="6746" y="17474"/>
                    <a:pt x="6767" y="17456"/>
                    <a:pt x="6787" y="17485"/>
                  </a:cubicBezTo>
                  <a:cubicBezTo>
                    <a:pt x="6807" y="17497"/>
                    <a:pt x="6807" y="17532"/>
                    <a:pt x="6807" y="17556"/>
                  </a:cubicBezTo>
                  <a:cubicBezTo>
                    <a:pt x="6817" y="17556"/>
                    <a:pt x="6832" y="17556"/>
                    <a:pt x="6842" y="17544"/>
                  </a:cubicBezTo>
                  <a:lnTo>
                    <a:pt x="6842" y="17591"/>
                  </a:lnTo>
                  <a:cubicBezTo>
                    <a:pt x="6862" y="17579"/>
                    <a:pt x="6872" y="17579"/>
                    <a:pt x="6893" y="17567"/>
                  </a:cubicBezTo>
                  <a:cubicBezTo>
                    <a:pt x="6893" y="17591"/>
                    <a:pt x="6903" y="17608"/>
                    <a:pt x="6903" y="17632"/>
                  </a:cubicBezTo>
                  <a:cubicBezTo>
                    <a:pt x="6933" y="17632"/>
                    <a:pt x="6968" y="17643"/>
                    <a:pt x="6978" y="17679"/>
                  </a:cubicBezTo>
                  <a:cubicBezTo>
                    <a:pt x="6988" y="17702"/>
                    <a:pt x="6988" y="17755"/>
                    <a:pt x="6968" y="17778"/>
                  </a:cubicBezTo>
                  <a:cubicBezTo>
                    <a:pt x="6988" y="17778"/>
                    <a:pt x="6998" y="17790"/>
                    <a:pt x="7019" y="17790"/>
                  </a:cubicBezTo>
                  <a:lnTo>
                    <a:pt x="7054" y="17866"/>
                  </a:lnTo>
                  <a:cubicBezTo>
                    <a:pt x="7054" y="17878"/>
                    <a:pt x="7074" y="17889"/>
                    <a:pt x="7074" y="17878"/>
                  </a:cubicBezTo>
                  <a:lnTo>
                    <a:pt x="7074" y="17913"/>
                  </a:lnTo>
                  <a:cubicBezTo>
                    <a:pt x="7104" y="17913"/>
                    <a:pt x="7124" y="17960"/>
                    <a:pt x="7114" y="18001"/>
                  </a:cubicBezTo>
                  <a:cubicBezTo>
                    <a:pt x="7135" y="18001"/>
                    <a:pt x="7145" y="18024"/>
                    <a:pt x="7160" y="18048"/>
                  </a:cubicBezTo>
                  <a:cubicBezTo>
                    <a:pt x="7190" y="18048"/>
                    <a:pt x="7220" y="18059"/>
                    <a:pt x="7251" y="18071"/>
                  </a:cubicBezTo>
                  <a:cubicBezTo>
                    <a:pt x="7240" y="18106"/>
                    <a:pt x="7230" y="18130"/>
                    <a:pt x="7230" y="18165"/>
                  </a:cubicBezTo>
                  <a:cubicBezTo>
                    <a:pt x="7240" y="18165"/>
                    <a:pt x="7266" y="18177"/>
                    <a:pt x="7266" y="18188"/>
                  </a:cubicBezTo>
                  <a:cubicBezTo>
                    <a:pt x="7276" y="18188"/>
                    <a:pt x="7286" y="18188"/>
                    <a:pt x="7286" y="18177"/>
                  </a:cubicBezTo>
                  <a:cubicBezTo>
                    <a:pt x="7286" y="18188"/>
                    <a:pt x="7296" y="18200"/>
                    <a:pt x="7306" y="18200"/>
                  </a:cubicBezTo>
                  <a:cubicBezTo>
                    <a:pt x="7316" y="18188"/>
                    <a:pt x="7336" y="18177"/>
                    <a:pt x="7346" y="18153"/>
                  </a:cubicBezTo>
                  <a:cubicBezTo>
                    <a:pt x="7372" y="18188"/>
                    <a:pt x="7392" y="18229"/>
                    <a:pt x="7402" y="18264"/>
                  </a:cubicBezTo>
                  <a:cubicBezTo>
                    <a:pt x="7432" y="18288"/>
                    <a:pt x="7462" y="18288"/>
                    <a:pt x="7498" y="18264"/>
                  </a:cubicBezTo>
                  <a:cubicBezTo>
                    <a:pt x="7548" y="18352"/>
                    <a:pt x="7634" y="18399"/>
                    <a:pt x="7730" y="18376"/>
                  </a:cubicBezTo>
                  <a:cubicBezTo>
                    <a:pt x="7719" y="18411"/>
                    <a:pt x="7750" y="18434"/>
                    <a:pt x="7780" y="18446"/>
                  </a:cubicBezTo>
                  <a:cubicBezTo>
                    <a:pt x="7815" y="18458"/>
                    <a:pt x="7846" y="18487"/>
                    <a:pt x="7846" y="18522"/>
                  </a:cubicBezTo>
                  <a:cubicBezTo>
                    <a:pt x="7846" y="18546"/>
                    <a:pt x="7846" y="18569"/>
                    <a:pt x="7856" y="18581"/>
                  </a:cubicBezTo>
                  <a:cubicBezTo>
                    <a:pt x="7866" y="18598"/>
                    <a:pt x="7876" y="18598"/>
                    <a:pt x="7896" y="18610"/>
                  </a:cubicBezTo>
                  <a:cubicBezTo>
                    <a:pt x="7951" y="18622"/>
                    <a:pt x="8002" y="18645"/>
                    <a:pt x="8047" y="18692"/>
                  </a:cubicBezTo>
                  <a:cubicBezTo>
                    <a:pt x="8067" y="18669"/>
                    <a:pt x="8108" y="18704"/>
                    <a:pt x="8108" y="18745"/>
                  </a:cubicBezTo>
                  <a:cubicBezTo>
                    <a:pt x="8143" y="18745"/>
                    <a:pt x="8183" y="18757"/>
                    <a:pt x="8214" y="18757"/>
                  </a:cubicBezTo>
                  <a:cubicBezTo>
                    <a:pt x="8224" y="18757"/>
                    <a:pt x="8229" y="18757"/>
                    <a:pt x="8239" y="18768"/>
                  </a:cubicBezTo>
                  <a:cubicBezTo>
                    <a:pt x="8254" y="18786"/>
                    <a:pt x="8249" y="18792"/>
                    <a:pt x="8249" y="18803"/>
                  </a:cubicBezTo>
                  <a:cubicBezTo>
                    <a:pt x="8259" y="18880"/>
                    <a:pt x="8345" y="18938"/>
                    <a:pt x="8405" y="18903"/>
                  </a:cubicBezTo>
                  <a:cubicBezTo>
                    <a:pt x="8435" y="18926"/>
                    <a:pt x="8395" y="18991"/>
                    <a:pt x="8405" y="19026"/>
                  </a:cubicBezTo>
                  <a:cubicBezTo>
                    <a:pt x="8405" y="19038"/>
                    <a:pt x="8415" y="19049"/>
                    <a:pt x="8425" y="19061"/>
                  </a:cubicBezTo>
                  <a:cubicBezTo>
                    <a:pt x="8446" y="19114"/>
                    <a:pt x="8415" y="19172"/>
                    <a:pt x="8446" y="19219"/>
                  </a:cubicBezTo>
                  <a:cubicBezTo>
                    <a:pt x="8425" y="19208"/>
                    <a:pt x="8395" y="19219"/>
                    <a:pt x="8395" y="19260"/>
                  </a:cubicBezTo>
                  <a:cubicBezTo>
                    <a:pt x="8385" y="19284"/>
                    <a:pt x="8405" y="19319"/>
                    <a:pt x="8415" y="19331"/>
                  </a:cubicBezTo>
                  <a:cubicBezTo>
                    <a:pt x="8375" y="19319"/>
                    <a:pt x="8330" y="19360"/>
                    <a:pt x="8319" y="19407"/>
                  </a:cubicBezTo>
                  <a:cubicBezTo>
                    <a:pt x="8355" y="19419"/>
                    <a:pt x="8385" y="19430"/>
                    <a:pt x="8375" y="19465"/>
                  </a:cubicBezTo>
                  <a:cubicBezTo>
                    <a:pt x="8375" y="19483"/>
                    <a:pt x="8365" y="19483"/>
                    <a:pt x="8365" y="19495"/>
                  </a:cubicBezTo>
                  <a:cubicBezTo>
                    <a:pt x="8355" y="19530"/>
                    <a:pt x="8395" y="19565"/>
                    <a:pt x="8425" y="19577"/>
                  </a:cubicBezTo>
                  <a:cubicBezTo>
                    <a:pt x="8415" y="19606"/>
                    <a:pt x="8425" y="19641"/>
                    <a:pt x="8435" y="19665"/>
                  </a:cubicBezTo>
                  <a:cubicBezTo>
                    <a:pt x="8446" y="19676"/>
                    <a:pt x="8461" y="19700"/>
                    <a:pt x="8471" y="19711"/>
                  </a:cubicBezTo>
                  <a:cubicBezTo>
                    <a:pt x="8471" y="19741"/>
                    <a:pt x="8446" y="19776"/>
                    <a:pt x="8471" y="19799"/>
                  </a:cubicBezTo>
                  <a:cubicBezTo>
                    <a:pt x="8481" y="19823"/>
                    <a:pt x="8511" y="19823"/>
                    <a:pt x="8511" y="19846"/>
                  </a:cubicBezTo>
                  <a:cubicBezTo>
                    <a:pt x="8511" y="19864"/>
                    <a:pt x="8501" y="19887"/>
                    <a:pt x="8501" y="19899"/>
                  </a:cubicBezTo>
                  <a:cubicBezTo>
                    <a:pt x="8491" y="19934"/>
                    <a:pt x="8511" y="19969"/>
                    <a:pt x="8531" y="19999"/>
                  </a:cubicBezTo>
                  <a:cubicBezTo>
                    <a:pt x="8541" y="19999"/>
                    <a:pt x="8551" y="19987"/>
                    <a:pt x="8567" y="19987"/>
                  </a:cubicBezTo>
                  <a:cubicBezTo>
                    <a:pt x="8587" y="20022"/>
                    <a:pt x="8607" y="20069"/>
                    <a:pt x="8617" y="20110"/>
                  </a:cubicBezTo>
                  <a:cubicBezTo>
                    <a:pt x="8637" y="20092"/>
                    <a:pt x="8652" y="20122"/>
                    <a:pt x="8672" y="20133"/>
                  </a:cubicBezTo>
                  <a:cubicBezTo>
                    <a:pt x="8698" y="20145"/>
                    <a:pt x="8713" y="20145"/>
                    <a:pt x="8723" y="20133"/>
                  </a:cubicBezTo>
                  <a:cubicBezTo>
                    <a:pt x="8723" y="20157"/>
                    <a:pt x="8733" y="20168"/>
                    <a:pt x="8753" y="20180"/>
                  </a:cubicBezTo>
                  <a:cubicBezTo>
                    <a:pt x="8763" y="20192"/>
                    <a:pt x="8778" y="20215"/>
                    <a:pt x="8763" y="20233"/>
                  </a:cubicBezTo>
                  <a:cubicBezTo>
                    <a:pt x="8763" y="20233"/>
                    <a:pt x="8753" y="20233"/>
                    <a:pt x="8753" y="20245"/>
                  </a:cubicBezTo>
                  <a:cubicBezTo>
                    <a:pt x="8733" y="20256"/>
                    <a:pt x="8743" y="20291"/>
                    <a:pt x="8763" y="20315"/>
                  </a:cubicBezTo>
                  <a:cubicBezTo>
                    <a:pt x="8778" y="20338"/>
                    <a:pt x="8798" y="20379"/>
                    <a:pt x="8778" y="20391"/>
                  </a:cubicBezTo>
                  <a:cubicBezTo>
                    <a:pt x="8778" y="20414"/>
                    <a:pt x="8753" y="20450"/>
                    <a:pt x="8753" y="20473"/>
                  </a:cubicBezTo>
                  <a:cubicBezTo>
                    <a:pt x="8743" y="20461"/>
                    <a:pt x="8723" y="20473"/>
                    <a:pt x="8713" y="20491"/>
                  </a:cubicBezTo>
                  <a:cubicBezTo>
                    <a:pt x="8733" y="20491"/>
                    <a:pt x="8733" y="20526"/>
                    <a:pt x="8713" y="20537"/>
                  </a:cubicBezTo>
                  <a:cubicBezTo>
                    <a:pt x="8703" y="20549"/>
                    <a:pt x="8682" y="20549"/>
                    <a:pt x="8657" y="20549"/>
                  </a:cubicBezTo>
                  <a:cubicBezTo>
                    <a:pt x="8637" y="20549"/>
                    <a:pt x="8617" y="20561"/>
                    <a:pt x="8617" y="20584"/>
                  </a:cubicBezTo>
                  <a:cubicBezTo>
                    <a:pt x="8617" y="20596"/>
                    <a:pt x="8627" y="20614"/>
                    <a:pt x="8627" y="20614"/>
                  </a:cubicBezTo>
                  <a:cubicBezTo>
                    <a:pt x="8637" y="20637"/>
                    <a:pt x="8627" y="20672"/>
                    <a:pt x="8607" y="20684"/>
                  </a:cubicBezTo>
                  <a:cubicBezTo>
                    <a:pt x="8713" y="20684"/>
                    <a:pt x="8809" y="20696"/>
                    <a:pt x="8904" y="20737"/>
                  </a:cubicBezTo>
                  <a:cubicBezTo>
                    <a:pt x="8914" y="20737"/>
                    <a:pt x="8914" y="20737"/>
                    <a:pt x="8914" y="20748"/>
                  </a:cubicBezTo>
                  <a:cubicBezTo>
                    <a:pt x="8914" y="20748"/>
                    <a:pt x="8924" y="20760"/>
                    <a:pt x="8924" y="20772"/>
                  </a:cubicBezTo>
                  <a:cubicBezTo>
                    <a:pt x="8924" y="20795"/>
                    <a:pt x="8935" y="20819"/>
                    <a:pt x="8935" y="20842"/>
                  </a:cubicBezTo>
                  <a:cubicBezTo>
                    <a:pt x="8955" y="20860"/>
                    <a:pt x="8965" y="20883"/>
                    <a:pt x="8955" y="20907"/>
                  </a:cubicBezTo>
                  <a:cubicBezTo>
                    <a:pt x="8975" y="20895"/>
                    <a:pt x="9010" y="20918"/>
                    <a:pt x="9020" y="20942"/>
                  </a:cubicBezTo>
                  <a:cubicBezTo>
                    <a:pt x="9030" y="20965"/>
                    <a:pt x="9040" y="21006"/>
                    <a:pt x="9051" y="21030"/>
                  </a:cubicBezTo>
                  <a:cubicBezTo>
                    <a:pt x="9071" y="21088"/>
                    <a:pt x="9106" y="21153"/>
                    <a:pt x="9146" y="21199"/>
                  </a:cubicBezTo>
                  <a:lnTo>
                    <a:pt x="9156" y="21188"/>
                  </a:lnTo>
                  <a:cubicBezTo>
                    <a:pt x="9167" y="21199"/>
                    <a:pt x="9187" y="21211"/>
                    <a:pt x="9212" y="21211"/>
                  </a:cubicBezTo>
                  <a:cubicBezTo>
                    <a:pt x="9222" y="21199"/>
                    <a:pt x="9222" y="21188"/>
                    <a:pt x="9222" y="21164"/>
                  </a:cubicBezTo>
                  <a:cubicBezTo>
                    <a:pt x="9252" y="21188"/>
                    <a:pt x="9293" y="21188"/>
                    <a:pt x="9328" y="21176"/>
                  </a:cubicBezTo>
                  <a:cubicBezTo>
                    <a:pt x="9338" y="21188"/>
                    <a:pt x="9338" y="21199"/>
                    <a:pt x="9348" y="21199"/>
                  </a:cubicBezTo>
                  <a:cubicBezTo>
                    <a:pt x="9368" y="21188"/>
                    <a:pt x="9388" y="21176"/>
                    <a:pt x="9398" y="21153"/>
                  </a:cubicBezTo>
                  <a:lnTo>
                    <a:pt x="9409" y="21141"/>
                  </a:lnTo>
                  <a:cubicBezTo>
                    <a:pt x="9409" y="21129"/>
                    <a:pt x="9398" y="21117"/>
                    <a:pt x="9398" y="21117"/>
                  </a:cubicBezTo>
                  <a:cubicBezTo>
                    <a:pt x="9378" y="21100"/>
                    <a:pt x="9358" y="21076"/>
                    <a:pt x="9348" y="21065"/>
                  </a:cubicBezTo>
                  <a:cubicBezTo>
                    <a:pt x="9368" y="21041"/>
                    <a:pt x="9368" y="21006"/>
                    <a:pt x="9368" y="20977"/>
                  </a:cubicBezTo>
                  <a:cubicBezTo>
                    <a:pt x="9348" y="20977"/>
                    <a:pt x="9328" y="20965"/>
                    <a:pt x="9303" y="20965"/>
                  </a:cubicBezTo>
                  <a:cubicBezTo>
                    <a:pt x="9328" y="20953"/>
                    <a:pt x="9338" y="20942"/>
                    <a:pt x="9358" y="20942"/>
                  </a:cubicBezTo>
                  <a:cubicBezTo>
                    <a:pt x="9348" y="20930"/>
                    <a:pt x="9338" y="20907"/>
                    <a:pt x="9318" y="20895"/>
                  </a:cubicBezTo>
                  <a:cubicBezTo>
                    <a:pt x="9328" y="20895"/>
                    <a:pt x="9338" y="20883"/>
                    <a:pt x="9348" y="20883"/>
                  </a:cubicBezTo>
                  <a:cubicBezTo>
                    <a:pt x="9348" y="20860"/>
                    <a:pt x="9338" y="20830"/>
                    <a:pt x="9318" y="20819"/>
                  </a:cubicBezTo>
                  <a:cubicBezTo>
                    <a:pt x="9328" y="20819"/>
                    <a:pt x="9348" y="20807"/>
                    <a:pt x="9358" y="20807"/>
                  </a:cubicBezTo>
                  <a:cubicBezTo>
                    <a:pt x="9368" y="20830"/>
                    <a:pt x="9388" y="20860"/>
                    <a:pt x="9398" y="20883"/>
                  </a:cubicBezTo>
                  <a:lnTo>
                    <a:pt x="9434" y="20842"/>
                  </a:lnTo>
                  <a:cubicBezTo>
                    <a:pt x="9444" y="20860"/>
                    <a:pt x="9444" y="20883"/>
                    <a:pt x="9454" y="20895"/>
                  </a:cubicBezTo>
                  <a:cubicBezTo>
                    <a:pt x="9464" y="20907"/>
                    <a:pt x="9474" y="20930"/>
                    <a:pt x="9494" y="20918"/>
                  </a:cubicBezTo>
                  <a:cubicBezTo>
                    <a:pt x="9504" y="20907"/>
                    <a:pt x="9504" y="20883"/>
                    <a:pt x="9514" y="20871"/>
                  </a:cubicBezTo>
                  <a:cubicBezTo>
                    <a:pt x="9524" y="20848"/>
                    <a:pt x="9560" y="20842"/>
                    <a:pt x="9575" y="20860"/>
                  </a:cubicBezTo>
                  <a:cubicBezTo>
                    <a:pt x="9560" y="20836"/>
                    <a:pt x="9570" y="20795"/>
                    <a:pt x="9590" y="20784"/>
                  </a:cubicBezTo>
                  <a:cubicBezTo>
                    <a:pt x="9610" y="20772"/>
                    <a:pt x="9656" y="20772"/>
                    <a:pt x="9676" y="20784"/>
                  </a:cubicBezTo>
                  <a:cubicBezTo>
                    <a:pt x="9696" y="20748"/>
                    <a:pt x="9676" y="20696"/>
                    <a:pt x="9646" y="20672"/>
                  </a:cubicBezTo>
                  <a:cubicBezTo>
                    <a:pt x="9676" y="20672"/>
                    <a:pt x="9716" y="20661"/>
                    <a:pt x="9716" y="20625"/>
                  </a:cubicBezTo>
                  <a:cubicBezTo>
                    <a:pt x="9716" y="20596"/>
                    <a:pt x="9696" y="20584"/>
                    <a:pt x="9676" y="20584"/>
                  </a:cubicBezTo>
                  <a:cubicBezTo>
                    <a:pt x="9656" y="20584"/>
                    <a:pt x="9630" y="20584"/>
                    <a:pt x="9620" y="20573"/>
                  </a:cubicBezTo>
                  <a:cubicBezTo>
                    <a:pt x="9600" y="20561"/>
                    <a:pt x="9600" y="20537"/>
                    <a:pt x="9610" y="20526"/>
                  </a:cubicBezTo>
                  <a:cubicBezTo>
                    <a:pt x="9580" y="20526"/>
                    <a:pt x="9550" y="20502"/>
                    <a:pt x="9560" y="20461"/>
                  </a:cubicBezTo>
                  <a:cubicBezTo>
                    <a:pt x="9540" y="20473"/>
                    <a:pt x="9514" y="20491"/>
                    <a:pt x="9494" y="20514"/>
                  </a:cubicBezTo>
                  <a:cubicBezTo>
                    <a:pt x="9494" y="20491"/>
                    <a:pt x="9484" y="20473"/>
                    <a:pt x="9484" y="20450"/>
                  </a:cubicBezTo>
                  <a:lnTo>
                    <a:pt x="9514" y="20450"/>
                  </a:lnTo>
                  <a:cubicBezTo>
                    <a:pt x="9550" y="20438"/>
                    <a:pt x="9524" y="20379"/>
                    <a:pt x="9504" y="20368"/>
                  </a:cubicBezTo>
                  <a:cubicBezTo>
                    <a:pt x="9474" y="20350"/>
                    <a:pt x="9444" y="20368"/>
                    <a:pt x="9419" y="20379"/>
                  </a:cubicBezTo>
                  <a:lnTo>
                    <a:pt x="9419" y="20338"/>
                  </a:lnTo>
                  <a:cubicBezTo>
                    <a:pt x="9378" y="20350"/>
                    <a:pt x="9338" y="20350"/>
                    <a:pt x="9293" y="20350"/>
                  </a:cubicBezTo>
                  <a:cubicBezTo>
                    <a:pt x="9272" y="20315"/>
                    <a:pt x="9252" y="20291"/>
                    <a:pt x="9242" y="20256"/>
                  </a:cubicBezTo>
                  <a:cubicBezTo>
                    <a:pt x="9293" y="20291"/>
                    <a:pt x="9368" y="20268"/>
                    <a:pt x="9398" y="20204"/>
                  </a:cubicBezTo>
                  <a:cubicBezTo>
                    <a:pt x="9409" y="20180"/>
                    <a:pt x="9409" y="20157"/>
                    <a:pt x="9398" y="20133"/>
                  </a:cubicBezTo>
                  <a:cubicBezTo>
                    <a:pt x="9388" y="20122"/>
                    <a:pt x="9378" y="20122"/>
                    <a:pt x="9378" y="20110"/>
                  </a:cubicBezTo>
                  <a:cubicBezTo>
                    <a:pt x="9368" y="20081"/>
                    <a:pt x="9388" y="20069"/>
                    <a:pt x="9409" y="20069"/>
                  </a:cubicBezTo>
                  <a:cubicBezTo>
                    <a:pt x="9388" y="20069"/>
                    <a:pt x="9388" y="20045"/>
                    <a:pt x="9388" y="20034"/>
                  </a:cubicBezTo>
                  <a:cubicBezTo>
                    <a:pt x="9388" y="20010"/>
                    <a:pt x="9388" y="19987"/>
                    <a:pt x="9368" y="19987"/>
                  </a:cubicBezTo>
                  <a:cubicBezTo>
                    <a:pt x="9368" y="19957"/>
                    <a:pt x="9368" y="19946"/>
                    <a:pt x="9378" y="19922"/>
                  </a:cubicBezTo>
                  <a:cubicBezTo>
                    <a:pt x="9348" y="19934"/>
                    <a:pt x="9303" y="19899"/>
                    <a:pt x="9303" y="19846"/>
                  </a:cubicBezTo>
                  <a:cubicBezTo>
                    <a:pt x="9293" y="19823"/>
                    <a:pt x="9272" y="19811"/>
                    <a:pt x="9262" y="19788"/>
                  </a:cubicBezTo>
                  <a:cubicBezTo>
                    <a:pt x="9242" y="19764"/>
                    <a:pt x="9232" y="19729"/>
                    <a:pt x="9232" y="19700"/>
                  </a:cubicBezTo>
                  <a:cubicBezTo>
                    <a:pt x="9242" y="19653"/>
                    <a:pt x="9303" y="19629"/>
                    <a:pt x="9282" y="19577"/>
                  </a:cubicBezTo>
                  <a:cubicBezTo>
                    <a:pt x="9303" y="19565"/>
                    <a:pt x="9338" y="19565"/>
                    <a:pt x="9358" y="19553"/>
                  </a:cubicBezTo>
                  <a:cubicBezTo>
                    <a:pt x="9378" y="19588"/>
                    <a:pt x="9388" y="19641"/>
                    <a:pt x="9388" y="19688"/>
                  </a:cubicBezTo>
                  <a:cubicBezTo>
                    <a:pt x="9398" y="19688"/>
                    <a:pt x="9409" y="19676"/>
                    <a:pt x="9419" y="19665"/>
                  </a:cubicBezTo>
                  <a:cubicBezTo>
                    <a:pt x="9464" y="19700"/>
                    <a:pt x="9514" y="19711"/>
                    <a:pt x="9570" y="19700"/>
                  </a:cubicBezTo>
                  <a:cubicBezTo>
                    <a:pt x="9580" y="19700"/>
                    <a:pt x="9600" y="19688"/>
                    <a:pt x="9610" y="19676"/>
                  </a:cubicBezTo>
                  <a:cubicBezTo>
                    <a:pt x="9620" y="19665"/>
                    <a:pt x="9620" y="19641"/>
                    <a:pt x="9610" y="19629"/>
                  </a:cubicBezTo>
                  <a:cubicBezTo>
                    <a:pt x="9600" y="19618"/>
                    <a:pt x="9590" y="19618"/>
                    <a:pt x="9580" y="19606"/>
                  </a:cubicBezTo>
                  <a:cubicBezTo>
                    <a:pt x="9570" y="19577"/>
                    <a:pt x="9600" y="19565"/>
                    <a:pt x="9610" y="19553"/>
                  </a:cubicBezTo>
                  <a:cubicBezTo>
                    <a:pt x="9646" y="19530"/>
                    <a:pt x="9666" y="19495"/>
                    <a:pt x="9656" y="19454"/>
                  </a:cubicBezTo>
                  <a:cubicBezTo>
                    <a:pt x="9686" y="19465"/>
                    <a:pt x="9716" y="19407"/>
                    <a:pt x="9761" y="19407"/>
                  </a:cubicBezTo>
                  <a:cubicBezTo>
                    <a:pt x="9772" y="19407"/>
                    <a:pt x="9792" y="19419"/>
                    <a:pt x="9802" y="19419"/>
                  </a:cubicBezTo>
                  <a:cubicBezTo>
                    <a:pt x="9812" y="19419"/>
                    <a:pt x="9822" y="19407"/>
                    <a:pt x="9832" y="19407"/>
                  </a:cubicBezTo>
                  <a:cubicBezTo>
                    <a:pt x="9852" y="19395"/>
                    <a:pt x="9888" y="19395"/>
                    <a:pt x="9908" y="19395"/>
                  </a:cubicBezTo>
                  <a:cubicBezTo>
                    <a:pt x="9973" y="19395"/>
                    <a:pt x="10024" y="19360"/>
                    <a:pt x="10079" y="19331"/>
                  </a:cubicBezTo>
                  <a:cubicBezTo>
                    <a:pt x="10140" y="19319"/>
                    <a:pt x="10225" y="19331"/>
                    <a:pt x="10246" y="19395"/>
                  </a:cubicBezTo>
                  <a:lnTo>
                    <a:pt x="10256" y="19395"/>
                  </a:lnTo>
                  <a:lnTo>
                    <a:pt x="10215" y="19530"/>
                  </a:lnTo>
                  <a:cubicBezTo>
                    <a:pt x="10235" y="19553"/>
                    <a:pt x="10256" y="19577"/>
                    <a:pt x="10291" y="19588"/>
                  </a:cubicBezTo>
                  <a:cubicBezTo>
                    <a:pt x="10321" y="19653"/>
                    <a:pt x="10392" y="19629"/>
                    <a:pt x="10457" y="19606"/>
                  </a:cubicBezTo>
                  <a:cubicBezTo>
                    <a:pt x="10513" y="19565"/>
                    <a:pt x="10593" y="19553"/>
                    <a:pt x="10629" y="19618"/>
                  </a:cubicBezTo>
                  <a:cubicBezTo>
                    <a:pt x="10593" y="19530"/>
                    <a:pt x="10639" y="19430"/>
                    <a:pt x="10709" y="19395"/>
                  </a:cubicBezTo>
                  <a:cubicBezTo>
                    <a:pt x="10785" y="19360"/>
                    <a:pt x="10861" y="19360"/>
                    <a:pt x="10946" y="19372"/>
                  </a:cubicBezTo>
                  <a:cubicBezTo>
                    <a:pt x="11017" y="19383"/>
                    <a:pt x="11103" y="19395"/>
                    <a:pt x="11178" y="19372"/>
                  </a:cubicBezTo>
                  <a:cubicBezTo>
                    <a:pt x="11158" y="19260"/>
                    <a:pt x="11052" y="19184"/>
                    <a:pt x="10967" y="19219"/>
                  </a:cubicBezTo>
                  <a:cubicBezTo>
                    <a:pt x="10931" y="19237"/>
                    <a:pt x="10911" y="19249"/>
                    <a:pt x="10881" y="19249"/>
                  </a:cubicBezTo>
                  <a:cubicBezTo>
                    <a:pt x="10840" y="19237"/>
                    <a:pt x="10815" y="19184"/>
                    <a:pt x="10815" y="19149"/>
                  </a:cubicBezTo>
                  <a:cubicBezTo>
                    <a:pt x="10815" y="19102"/>
                    <a:pt x="10840" y="19061"/>
                    <a:pt x="10851" y="19026"/>
                  </a:cubicBezTo>
                  <a:cubicBezTo>
                    <a:pt x="10805" y="19026"/>
                    <a:pt x="10785" y="18962"/>
                    <a:pt x="10795" y="18915"/>
                  </a:cubicBezTo>
                  <a:cubicBezTo>
                    <a:pt x="10805" y="18868"/>
                    <a:pt x="10825" y="18815"/>
                    <a:pt x="10815" y="18780"/>
                  </a:cubicBezTo>
                  <a:cubicBezTo>
                    <a:pt x="10805" y="18745"/>
                    <a:pt x="10785" y="18704"/>
                    <a:pt x="10775" y="18669"/>
                  </a:cubicBezTo>
                  <a:cubicBezTo>
                    <a:pt x="10775" y="18645"/>
                    <a:pt x="10775" y="18622"/>
                    <a:pt x="10785" y="18598"/>
                  </a:cubicBezTo>
                  <a:cubicBezTo>
                    <a:pt x="10815" y="18458"/>
                    <a:pt x="10861" y="18335"/>
                    <a:pt x="10911" y="18212"/>
                  </a:cubicBezTo>
                  <a:cubicBezTo>
                    <a:pt x="10977" y="18229"/>
                    <a:pt x="11017" y="18130"/>
                    <a:pt x="11007" y="18059"/>
                  </a:cubicBezTo>
                  <a:cubicBezTo>
                    <a:pt x="10997" y="17983"/>
                    <a:pt x="10967" y="17913"/>
                    <a:pt x="10997" y="17837"/>
                  </a:cubicBezTo>
                  <a:cubicBezTo>
                    <a:pt x="11027" y="17755"/>
                    <a:pt x="11143" y="17743"/>
                    <a:pt x="11198" y="17667"/>
                  </a:cubicBezTo>
                  <a:cubicBezTo>
                    <a:pt x="11274" y="17567"/>
                    <a:pt x="11219" y="17409"/>
                    <a:pt x="11294" y="17309"/>
                  </a:cubicBezTo>
                  <a:cubicBezTo>
                    <a:pt x="11324" y="17274"/>
                    <a:pt x="11355" y="17251"/>
                    <a:pt x="11390" y="17227"/>
                  </a:cubicBezTo>
                  <a:cubicBezTo>
                    <a:pt x="11420" y="17186"/>
                    <a:pt x="11440" y="17140"/>
                    <a:pt x="11420" y="17104"/>
                  </a:cubicBezTo>
                  <a:cubicBezTo>
                    <a:pt x="11506" y="17104"/>
                    <a:pt x="11592" y="17028"/>
                    <a:pt x="11622" y="16929"/>
                  </a:cubicBezTo>
                  <a:cubicBezTo>
                    <a:pt x="11632" y="16905"/>
                    <a:pt x="11632" y="16870"/>
                    <a:pt x="11652" y="16847"/>
                  </a:cubicBezTo>
                  <a:cubicBezTo>
                    <a:pt x="11672" y="16806"/>
                    <a:pt x="11708" y="16782"/>
                    <a:pt x="11748" y="16759"/>
                  </a:cubicBezTo>
                  <a:cubicBezTo>
                    <a:pt x="11778" y="16747"/>
                    <a:pt x="11814" y="16724"/>
                    <a:pt x="11844" y="16724"/>
                  </a:cubicBezTo>
                  <a:cubicBezTo>
                    <a:pt x="11874" y="16724"/>
                    <a:pt x="11904" y="16759"/>
                    <a:pt x="11904" y="16794"/>
                  </a:cubicBezTo>
                  <a:cubicBezTo>
                    <a:pt x="11904" y="16817"/>
                    <a:pt x="11894" y="16829"/>
                    <a:pt x="11884" y="16858"/>
                  </a:cubicBezTo>
                  <a:cubicBezTo>
                    <a:pt x="11854" y="16952"/>
                    <a:pt x="11955" y="17040"/>
                    <a:pt x="12035" y="17040"/>
                  </a:cubicBezTo>
                  <a:cubicBezTo>
                    <a:pt x="12121" y="17040"/>
                    <a:pt x="12202" y="16993"/>
                    <a:pt x="12288" y="16993"/>
                  </a:cubicBezTo>
                  <a:cubicBezTo>
                    <a:pt x="12373" y="16993"/>
                    <a:pt x="12479" y="17052"/>
                    <a:pt x="12469" y="17151"/>
                  </a:cubicBezTo>
                  <a:cubicBezTo>
                    <a:pt x="12328" y="17175"/>
                    <a:pt x="12192" y="17239"/>
                    <a:pt x="12076" y="17351"/>
                  </a:cubicBezTo>
                  <a:cubicBezTo>
                    <a:pt x="12106" y="17497"/>
                    <a:pt x="12353" y="17386"/>
                    <a:pt x="12414" y="17520"/>
                  </a:cubicBezTo>
                  <a:cubicBezTo>
                    <a:pt x="12469" y="17632"/>
                    <a:pt x="12328" y="17802"/>
                    <a:pt x="12403" y="17901"/>
                  </a:cubicBezTo>
                  <a:cubicBezTo>
                    <a:pt x="12444" y="17960"/>
                    <a:pt x="12530" y="17936"/>
                    <a:pt x="12595" y="17913"/>
                  </a:cubicBezTo>
                  <a:cubicBezTo>
                    <a:pt x="12635" y="17901"/>
                    <a:pt x="12681" y="17878"/>
                    <a:pt x="12711" y="17837"/>
                  </a:cubicBezTo>
                  <a:cubicBezTo>
                    <a:pt x="12721" y="17813"/>
                    <a:pt x="12731" y="17790"/>
                    <a:pt x="12751" y="17766"/>
                  </a:cubicBezTo>
                  <a:cubicBezTo>
                    <a:pt x="12787" y="17731"/>
                    <a:pt x="12837" y="17714"/>
                    <a:pt x="12867" y="17679"/>
                  </a:cubicBezTo>
                  <a:cubicBezTo>
                    <a:pt x="12903" y="17643"/>
                    <a:pt x="12903" y="17556"/>
                    <a:pt x="12847" y="17567"/>
                  </a:cubicBezTo>
                  <a:cubicBezTo>
                    <a:pt x="12933" y="17433"/>
                    <a:pt x="13135" y="17591"/>
                    <a:pt x="13251" y="17509"/>
                  </a:cubicBezTo>
                  <a:cubicBezTo>
                    <a:pt x="13271" y="17497"/>
                    <a:pt x="13291" y="17474"/>
                    <a:pt x="13291" y="17433"/>
                  </a:cubicBezTo>
                  <a:cubicBezTo>
                    <a:pt x="13291" y="17374"/>
                    <a:pt x="13230" y="17333"/>
                    <a:pt x="13175" y="17351"/>
                  </a:cubicBezTo>
                  <a:cubicBezTo>
                    <a:pt x="13124" y="17362"/>
                    <a:pt x="13079" y="17397"/>
                    <a:pt x="13029" y="17421"/>
                  </a:cubicBezTo>
                  <a:cubicBezTo>
                    <a:pt x="12973" y="17444"/>
                    <a:pt x="12913" y="17421"/>
                    <a:pt x="12893" y="17374"/>
                  </a:cubicBezTo>
                  <a:cubicBezTo>
                    <a:pt x="12877" y="17351"/>
                    <a:pt x="12893" y="17309"/>
                    <a:pt x="12877" y="17286"/>
                  </a:cubicBezTo>
                  <a:cubicBezTo>
                    <a:pt x="12867" y="17257"/>
                    <a:pt x="12847" y="17239"/>
                    <a:pt x="12837" y="17210"/>
                  </a:cubicBezTo>
                  <a:cubicBezTo>
                    <a:pt x="12827" y="17186"/>
                    <a:pt x="12827" y="17140"/>
                    <a:pt x="12857" y="17140"/>
                  </a:cubicBezTo>
                  <a:cubicBezTo>
                    <a:pt x="12847" y="17116"/>
                    <a:pt x="12827" y="17104"/>
                    <a:pt x="12817" y="17075"/>
                  </a:cubicBezTo>
                  <a:cubicBezTo>
                    <a:pt x="12893" y="16952"/>
                    <a:pt x="13009" y="16894"/>
                    <a:pt x="13124" y="16829"/>
                  </a:cubicBezTo>
                  <a:cubicBezTo>
                    <a:pt x="13251" y="16771"/>
                    <a:pt x="13387" y="16694"/>
                    <a:pt x="13513" y="16636"/>
                  </a:cubicBezTo>
                  <a:cubicBezTo>
                    <a:pt x="13654" y="16560"/>
                    <a:pt x="13830" y="16501"/>
                    <a:pt x="13956" y="16612"/>
                  </a:cubicBezTo>
                  <a:cubicBezTo>
                    <a:pt x="13936" y="16683"/>
                    <a:pt x="13830" y="16636"/>
                    <a:pt x="13770" y="16671"/>
                  </a:cubicBezTo>
                  <a:cubicBezTo>
                    <a:pt x="13714" y="16694"/>
                    <a:pt x="13694" y="16782"/>
                    <a:pt x="13704" y="16847"/>
                  </a:cubicBezTo>
                  <a:cubicBezTo>
                    <a:pt x="13714" y="16905"/>
                    <a:pt x="13760" y="16970"/>
                    <a:pt x="13800" y="17017"/>
                  </a:cubicBezTo>
                  <a:cubicBezTo>
                    <a:pt x="13694" y="17028"/>
                    <a:pt x="13619" y="17175"/>
                    <a:pt x="13664" y="17298"/>
                  </a:cubicBezTo>
                  <a:cubicBezTo>
                    <a:pt x="13674" y="17333"/>
                    <a:pt x="13694" y="17374"/>
                    <a:pt x="13674" y="17409"/>
                  </a:cubicBezTo>
                  <a:cubicBezTo>
                    <a:pt x="13664" y="17421"/>
                    <a:pt x="13644" y="17433"/>
                    <a:pt x="13619" y="17433"/>
                  </a:cubicBezTo>
                  <a:cubicBezTo>
                    <a:pt x="13523" y="17444"/>
                    <a:pt x="13432" y="17444"/>
                    <a:pt x="13346" y="17421"/>
                  </a:cubicBezTo>
                  <a:cubicBezTo>
                    <a:pt x="13326" y="17456"/>
                    <a:pt x="13291" y="17509"/>
                    <a:pt x="13271" y="17544"/>
                  </a:cubicBezTo>
                  <a:lnTo>
                    <a:pt x="13493" y="17544"/>
                  </a:lnTo>
                  <a:cubicBezTo>
                    <a:pt x="13548" y="17544"/>
                    <a:pt x="13598" y="17544"/>
                    <a:pt x="13629" y="17591"/>
                  </a:cubicBezTo>
                  <a:cubicBezTo>
                    <a:pt x="13654" y="17620"/>
                    <a:pt x="13654" y="17643"/>
                    <a:pt x="13664" y="17679"/>
                  </a:cubicBezTo>
                  <a:cubicBezTo>
                    <a:pt x="13704" y="17802"/>
                    <a:pt x="13800" y="17889"/>
                    <a:pt x="13906" y="17901"/>
                  </a:cubicBezTo>
                  <a:cubicBezTo>
                    <a:pt x="13956" y="17913"/>
                    <a:pt x="14002" y="17901"/>
                    <a:pt x="14052" y="17925"/>
                  </a:cubicBezTo>
                  <a:cubicBezTo>
                    <a:pt x="14128" y="17948"/>
                    <a:pt x="14178" y="18048"/>
                    <a:pt x="14203" y="18130"/>
                  </a:cubicBezTo>
                  <a:cubicBezTo>
                    <a:pt x="14224" y="18229"/>
                    <a:pt x="14214" y="18311"/>
                    <a:pt x="14203" y="18411"/>
                  </a:cubicBezTo>
                  <a:cubicBezTo>
                    <a:pt x="14340" y="18423"/>
                    <a:pt x="14476" y="18446"/>
                    <a:pt x="14617" y="18458"/>
                  </a:cubicBezTo>
                  <a:cubicBezTo>
                    <a:pt x="14627" y="18458"/>
                    <a:pt x="14647" y="18458"/>
                    <a:pt x="14657" y="18475"/>
                  </a:cubicBezTo>
                  <a:cubicBezTo>
                    <a:pt x="14667" y="18475"/>
                    <a:pt x="14677" y="18458"/>
                    <a:pt x="14688" y="18458"/>
                  </a:cubicBezTo>
                  <a:cubicBezTo>
                    <a:pt x="15167" y="18253"/>
                    <a:pt x="15640" y="18704"/>
                    <a:pt x="16044" y="19102"/>
                  </a:cubicBezTo>
                  <a:close/>
                  <a:moveTo>
                    <a:pt x="9580" y="20871"/>
                  </a:moveTo>
                  <a:cubicBezTo>
                    <a:pt x="9580" y="20866"/>
                    <a:pt x="9575" y="20866"/>
                    <a:pt x="9575" y="20860"/>
                  </a:cubicBezTo>
                  <a:cubicBezTo>
                    <a:pt x="9575" y="20866"/>
                    <a:pt x="9580" y="20866"/>
                    <a:pt x="9580" y="20871"/>
                  </a:cubicBezTo>
                  <a:close/>
                </a:path>
              </a:pathLst>
            </a:custGeom>
            <a:solidFill>
              <a:srgbClr val="c0c0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6359" name="Shape 3714"/>
          <p:cNvSpPr/>
          <p:nvPr/>
        </p:nvSpPr>
        <p:spPr>
          <a:xfrm>
            <a:off x="2043720" y="1835280"/>
            <a:ext cx="7610400" cy="20361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Editable Elements</a:t>
            </a:r>
            <a:endParaRPr b="0" lang="en-US" sz="4800" spc="-1" strike="noStrike">
              <a:solidFill>
                <a:srgbClr val="000000"/>
              </a:solidFill>
              <a:latin typeface="Arial"/>
            </a:endParaRPr>
          </a:p>
        </p:txBody>
      </p:sp>
      <p:sp>
        <p:nvSpPr>
          <p:cNvPr id="6360" name="Shape 3715"/>
          <p:cNvSpPr/>
          <p:nvPr/>
        </p:nvSpPr>
        <p:spPr>
          <a:xfrm>
            <a:off x="2035080" y="3427920"/>
            <a:ext cx="7111800" cy="176040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 and make your next cool and fresh Presentation</a:t>
            </a:r>
            <a:endParaRPr b="0" lang="en-US" sz="3000" spc="-1" strike="noStrike">
              <a:solidFill>
                <a:srgbClr val="000000"/>
              </a:solidFill>
              <a:latin typeface="Arial"/>
            </a:endParaRPr>
          </a:p>
        </p:txBody>
      </p:sp>
      <p:sp>
        <p:nvSpPr>
          <p:cNvPr id="6361" name="PlaceHolder 1"/>
          <p:cNvSpPr>
            <a:spLocks noGrp="1"/>
          </p:cNvSpPr>
          <p:nvPr>
            <p:ph type="sldNum" idx="125"/>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5197D90B-79A6-4F07-ABCB-69A7CA0B5966}" type="slidenum">
              <a:rPr b="0" lang="en-US" sz="2800" spc="-1" strike="noStrike">
                <a:solidFill>
                  <a:srgbClr val="797979"/>
                </a:solidFill>
                <a:latin typeface="Helvetica Light"/>
                <a:ea typeface="Helvetica Light"/>
              </a:rPr>
              <a:t>126</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2" name="Shape 3718"/>
          <p:cNvSpPr/>
          <p:nvPr/>
        </p:nvSpPr>
        <p:spPr>
          <a:xfrm>
            <a:off x="228924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63" name="Shape 3719"/>
          <p:cNvSpPr/>
          <p:nvPr/>
        </p:nvSpPr>
        <p:spPr>
          <a:xfrm>
            <a:off x="348300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64" name="Shape 3720"/>
          <p:cNvSpPr/>
          <p:nvPr/>
        </p:nvSpPr>
        <p:spPr>
          <a:xfrm>
            <a:off x="587052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65" name="Shape 3721"/>
          <p:cNvSpPr/>
          <p:nvPr/>
        </p:nvSpPr>
        <p:spPr>
          <a:xfrm>
            <a:off x="467676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66" name="Shape 3722"/>
          <p:cNvSpPr/>
          <p:nvPr/>
        </p:nvSpPr>
        <p:spPr>
          <a:xfrm>
            <a:off x="706428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67" name="Shape 3723"/>
          <p:cNvSpPr/>
          <p:nvPr/>
        </p:nvSpPr>
        <p:spPr>
          <a:xfrm>
            <a:off x="825804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68" name="Shape 3724"/>
          <p:cNvSpPr/>
          <p:nvPr/>
        </p:nvSpPr>
        <p:spPr>
          <a:xfrm>
            <a:off x="1064556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69" name="Shape 3725"/>
          <p:cNvSpPr/>
          <p:nvPr/>
        </p:nvSpPr>
        <p:spPr>
          <a:xfrm>
            <a:off x="945180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0" name="Shape 3726"/>
          <p:cNvSpPr/>
          <p:nvPr/>
        </p:nvSpPr>
        <p:spPr>
          <a:xfrm>
            <a:off x="1183932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1" name="Shape 3727"/>
          <p:cNvSpPr/>
          <p:nvPr/>
        </p:nvSpPr>
        <p:spPr>
          <a:xfrm>
            <a:off x="1303344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2" name="Shape 3728"/>
          <p:cNvSpPr/>
          <p:nvPr/>
        </p:nvSpPr>
        <p:spPr>
          <a:xfrm>
            <a:off x="1542096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3" name="Shape 3729"/>
          <p:cNvSpPr/>
          <p:nvPr/>
        </p:nvSpPr>
        <p:spPr>
          <a:xfrm>
            <a:off x="1422720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4" name="Shape 3730"/>
          <p:cNvSpPr/>
          <p:nvPr/>
        </p:nvSpPr>
        <p:spPr>
          <a:xfrm>
            <a:off x="1661472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5" name="Shape 3731"/>
          <p:cNvSpPr/>
          <p:nvPr/>
        </p:nvSpPr>
        <p:spPr>
          <a:xfrm>
            <a:off x="1780848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6" name="Shape 3732"/>
          <p:cNvSpPr/>
          <p:nvPr/>
        </p:nvSpPr>
        <p:spPr>
          <a:xfrm>
            <a:off x="2019600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7" name="Shape 3733"/>
          <p:cNvSpPr/>
          <p:nvPr/>
        </p:nvSpPr>
        <p:spPr>
          <a:xfrm>
            <a:off x="1900224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8" name="Shape 3734"/>
          <p:cNvSpPr/>
          <p:nvPr/>
        </p:nvSpPr>
        <p:spPr>
          <a:xfrm>
            <a:off x="21389760" y="4819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79" name="Shape 3735"/>
          <p:cNvSpPr/>
          <p:nvPr/>
        </p:nvSpPr>
        <p:spPr>
          <a:xfrm>
            <a:off x="228924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380" name="Shape 3736"/>
          <p:cNvSpPr/>
          <p:nvPr/>
        </p:nvSpPr>
        <p:spPr>
          <a:xfrm>
            <a:off x="348300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381" name="Shape 3737"/>
          <p:cNvSpPr/>
          <p:nvPr/>
        </p:nvSpPr>
        <p:spPr>
          <a:xfrm>
            <a:off x="587052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82" name="Shape 3738"/>
          <p:cNvSpPr/>
          <p:nvPr/>
        </p:nvSpPr>
        <p:spPr>
          <a:xfrm>
            <a:off x="467676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83" name="Shape 3739"/>
          <p:cNvSpPr/>
          <p:nvPr/>
        </p:nvSpPr>
        <p:spPr>
          <a:xfrm>
            <a:off x="706428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84" name="Shape 3740"/>
          <p:cNvSpPr/>
          <p:nvPr/>
        </p:nvSpPr>
        <p:spPr>
          <a:xfrm>
            <a:off x="825804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385" name="Shape 3741"/>
          <p:cNvSpPr/>
          <p:nvPr/>
        </p:nvSpPr>
        <p:spPr>
          <a:xfrm>
            <a:off x="1064556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86" name="Shape 3742"/>
          <p:cNvSpPr/>
          <p:nvPr/>
        </p:nvSpPr>
        <p:spPr>
          <a:xfrm>
            <a:off x="945180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87" name="Shape 3743"/>
          <p:cNvSpPr/>
          <p:nvPr/>
        </p:nvSpPr>
        <p:spPr>
          <a:xfrm>
            <a:off x="1183932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88" name="Shape 3744"/>
          <p:cNvSpPr/>
          <p:nvPr/>
        </p:nvSpPr>
        <p:spPr>
          <a:xfrm>
            <a:off x="1303344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89" name="Shape 3745"/>
          <p:cNvSpPr/>
          <p:nvPr/>
        </p:nvSpPr>
        <p:spPr>
          <a:xfrm>
            <a:off x="1542096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0" name="Shape 3746"/>
          <p:cNvSpPr/>
          <p:nvPr/>
        </p:nvSpPr>
        <p:spPr>
          <a:xfrm>
            <a:off x="1422720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1" name="Shape 3747"/>
          <p:cNvSpPr/>
          <p:nvPr/>
        </p:nvSpPr>
        <p:spPr>
          <a:xfrm>
            <a:off x="1661472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2" name="Shape 3748"/>
          <p:cNvSpPr/>
          <p:nvPr/>
        </p:nvSpPr>
        <p:spPr>
          <a:xfrm>
            <a:off x="1780848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3" name="Shape 3749"/>
          <p:cNvSpPr/>
          <p:nvPr/>
        </p:nvSpPr>
        <p:spPr>
          <a:xfrm>
            <a:off x="2019600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4" name="Shape 3750"/>
          <p:cNvSpPr/>
          <p:nvPr/>
        </p:nvSpPr>
        <p:spPr>
          <a:xfrm>
            <a:off x="1900224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5" name="Shape 3751"/>
          <p:cNvSpPr/>
          <p:nvPr/>
        </p:nvSpPr>
        <p:spPr>
          <a:xfrm>
            <a:off x="21389760" y="6013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6" name="Shape 3752"/>
          <p:cNvSpPr/>
          <p:nvPr/>
        </p:nvSpPr>
        <p:spPr>
          <a:xfrm>
            <a:off x="228924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7" name="Shape 3753"/>
          <p:cNvSpPr/>
          <p:nvPr/>
        </p:nvSpPr>
        <p:spPr>
          <a:xfrm>
            <a:off x="348300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8" name="Shape 3754"/>
          <p:cNvSpPr/>
          <p:nvPr/>
        </p:nvSpPr>
        <p:spPr>
          <a:xfrm>
            <a:off x="587052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399" name="Shape 3755"/>
          <p:cNvSpPr/>
          <p:nvPr/>
        </p:nvSpPr>
        <p:spPr>
          <a:xfrm>
            <a:off x="467676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0" name="Shape 3756"/>
          <p:cNvSpPr/>
          <p:nvPr/>
        </p:nvSpPr>
        <p:spPr>
          <a:xfrm>
            <a:off x="706428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1" name="Shape 3757"/>
          <p:cNvSpPr/>
          <p:nvPr/>
        </p:nvSpPr>
        <p:spPr>
          <a:xfrm>
            <a:off x="825804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2" name="Shape 3758"/>
          <p:cNvSpPr/>
          <p:nvPr/>
        </p:nvSpPr>
        <p:spPr>
          <a:xfrm>
            <a:off x="1064556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3" name="Shape 3759"/>
          <p:cNvSpPr/>
          <p:nvPr/>
        </p:nvSpPr>
        <p:spPr>
          <a:xfrm>
            <a:off x="945180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4" name="Shape 3760"/>
          <p:cNvSpPr/>
          <p:nvPr/>
        </p:nvSpPr>
        <p:spPr>
          <a:xfrm>
            <a:off x="1183932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5" name="Shape 3761"/>
          <p:cNvSpPr/>
          <p:nvPr/>
        </p:nvSpPr>
        <p:spPr>
          <a:xfrm>
            <a:off x="1303344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6" name="Shape 3762"/>
          <p:cNvSpPr/>
          <p:nvPr/>
        </p:nvSpPr>
        <p:spPr>
          <a:xfrm>
            <a:off x="1542096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7" name="Shape 3763"/>
          <p:cNvSpPr/>
          <p:nvPr/>
        </p:nvSpPr>
        <p:spPr>
          <a:xfrm>
            <a:off x="1422720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8" name="Shape 3764"/>
          <p:cNvSpPr/>
          <p:nvPr/>
        </p:nvSpPr>
        <p:spPr>
          <a:xfrm>
            <a:off x="1661472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09" name="Shape 3765"/>
          <p:cNvSpPr/>
          <p:nvPr/>
        </p:nvSpPr>
        <p:spPr>
          <a:xfrm>
            <a:off x="1780848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0" name="Shape 3766"/>
          <p:cNvSpPr/>
          <p:nvPr/>
        </p:nvSpPr>
        <p:spPr>
          <a:xfrm>
            <a:off x="2019600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1" name="Shape 3767"/>
          <p:cNvSpPr/>
          <p:nvPr/>
        </p:nvSpPr>
        <p:spPr>
          <a:xfrm>
            <a:off x="1900224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2" name="Shape 3768"/>
          <p:cNvSpPr/>
          <p:nvPr/>
        </p:nvSpPr>
        <p:spPr>
          <a:xfrm>
            <a:off x="21389760" y="72075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3" name="Shape 3769"/>
          <p:cNvSpPr/>
          <p:nvPr/>
        </p:nvSpPr>
        <p:spPr>
          <a:xfrm>
            <a:off x="228924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4" name="Shape 3770"/>
          <p:cNvSpPr/>
          <p:nvPr/>
        </p:nvSpPr>
        <p:spPr>
          <a:xfrm>
            <a:off x="348300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5" name="Shape 3771"/>
          <p:cNvSpPr/>
          <p:nvPr/>
        </p:nvSpPr>
        <p:spPr>
          <a:xfrm>
            <a:off x="587052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6" name="Shape 3772"/>
          <p:cNvSpPr/>
          <p:nvPr/>
        </p:nvSpPr>
        <p:spPr>
          <a:xfrm>
            <a:off x="467676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7" name="Shape 3773"/>
          <p:cNvSpPr/>
          <p:nvPr/>
        </p:nvSpPr>
        <p:spPr>
          <a:xfrm>
            <a:off x="706428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418" name="Shape 3774"/>
          <p:cNvSpPr/>
          <p:nvPr/>
        </p:nvSpPr>
        <p:spPr>
          <a:xfrm>
            <a:off x="825804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19" name="Shape 3775"/>
          <p:cNvSpPr/>
          <p:nvPr/>
        </p:nvSpPr>
        <p:spPr>
          <a:xfrm>
            <a:off x="1064556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0" name="Shape 3776"/>
          <p:cNvSpPr/>
          <p:nvPr/>
        </p:nvSpPr>
        <p:spPr>
          <a:xfrm>
            <a:off x="945180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1" name="Shape 3777"/>
          <p:cNvSpPr/>
          <p:nvPr/>
        </p:nvSpPr>
        <p:spPr>
          <a:xfrm>
            <a:off x="1183932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2" name="Shape 3778"/>
          <p:cNvSpPr/>
          <p:nvPr/>
        </p:nvSpPr>
        <p:spPr>
          <a:xfrm>
            <a:off x="1303344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3" name="Shape 3779"/>
          <p:cNvSpPr/>
          <p:nvPr/>
        </p:nvSpPr>
        <p:spPr>
          <a:xfrm>
            <a:off x="1542096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4" name="Shape 3780"/>
          <p:cNvSpPr/>
          <p:nvPr/>
        </p:nvSpPr>
        <p:spPr>
          <a:xfrm>
            <a:off x="1422720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5" name="Shape 3781"/>
          <p:cNvSpPr/>
          <p:nvPr/>
        </p:nvSpPr>
        <p:spPr>
          <a:xfrm>
            <a:off x="1661472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6" name="Shape 3782"/>
          <p:cNvSpPr/>
          <p:nvPr/>
        </p:nvSpPr>
        <p:spPr>
          <a:xfrm>
            <a:off x="1780848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7" name="Shape 3783"/>
          <p:cNvSpPr/>
          <p:nvPr/>
        </p:nvSpPr>
        <p:spPr>
          <a:xfrm>
            <a:off x="2019600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8" name="Shape 3784"/>
          <p:cNvSpPr/>
          <p:nvPr/>
        </p:nvSpPr>
        <p:spPr>
          <a:xfrm>
            <a:off x="1900224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29" name="Shape 3785"/>
          <p:cNvSpPr/>
          <p:nvPr/>
        </p:nvSpPr>
        <p:spPr>
          <a:xfrm>
            <a:off x="21389760" y="84013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0" name="Shape 3786"/>
          <p:cNvSpPr/>
          <p:nvPr/>
        </p:nvSpPr>
        <p:spPr>
          <a:xfrm>
            <a:off x="228924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1" name="Shape 3787"/>
          <p:cNvSpPr/>
          <p:nvPr/>
        </p:nvSpPr>
        <p:spPr>
          <a:xfrm>
            <a:off x="348300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2" name="Shape 3788"/>
          <p:cNvSpPr/>
          <p:nvPr/>
        </p:nvSpPr>
        <p:spPr>
          <a:xfrm>
            <a:off x="587052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3" name="Shape 3789"/>
          <p:cNvSpPr/>
          <p:nvPr/>
        </p:nvSpPr>
        <p:spPr>
          <a:xfrm>
            <a:off x="467676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4" name="Shape 3790"/>
          <p:cNvSpPr/>
          <p:nvPr/>
        </p:nvSpPr>
        <p:spPr>
          <a:xfrm>
            <a:off x="706428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5" name="Shape 3791"/>
          <p:cNvSpPr/>
          <p:nvPr/>
        </p:nvSpPr>
        <p:spPr>
          <a:xfrm>
            <a:off x="825804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6" name="Shape 3792"/>
          <p:cNvSpPr/>
          <p:nvPr/>
        </p:nvSpPr>
        <p:spPr>
          <a:xfrm>
            <a:off x="1064556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7" name="Shape 3793"/>
          <p:cNvSpPr/>
          <p:nvPr/>
        </p:nvSpPr>
        <p:spPr>
          <a:xfrm>
            <a:off x="945180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8" name="Shape 3794"/>
          <p:cNvSpPr/>
          <p:nvPr/>
        </p:nvSpPr>
        <p:spPr>
          <a:xfrm>
            <a:off x="1183932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39" name="Shape 3795"/>
          <p:cNvSpPr/>
          <p:nvPr/>
        </p:nvSpPr>
        <p:spPr>
          <a:xfrm>
            <a:off x="1303344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0" name="Shape 3796"/>
          <p:cNvSpPr/>
          <p:nvPr/>
        </p:nvSpPr>
        <p:spPr>
          <a:xfrm>
            <a:off x="1542096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1" name="Shape 3797"/>
          <p:cNvSpPr/>
          <p:nvPr/>
        </p:nvSpPr>
        <p:spPr>
          <a:xfrm>
            <a:off x="1422720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2" name="Shape 3798"/>
          <p:cNvSpPr/>
          <p:nvPr/>
        </p:nvSpPr>
        <p:spPr>
          <a:xfrm>
            <a:off x="1661472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3" name="Shape 3799"/>
          <p:cNvSpPr/>
          <p:nvPr/>
        </p:nvSpPr>
        <p:spPr>
          <a:xfrm>
            <a:off x="1780848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4" name="Shape 3800"/>
          <p:cNvSpPr/>
          <p:nvPr/>
        </p:nvSpPr>
        <p:spPr>
          <a:xfrm>
            <a:off x="2019600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5" name="Shape 3801"/>
          <p:cNvSpPr/>
          <p:nvPr/>
        </p:nvSpPr>
        <p:spPr>
          <a:xfrm>
            <a:off x="1900224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6" name="Shape 3802"/>
          <p:cNvSpPr/>
          <p:nvPr/>
        </p:nvSpPr>
        <p:spPr>
          <a:xfrm>
            <a:off x="21389760" y="95950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7" name="Shape 3803"/>
          <p:cNvSpPr/>
          <p:nvPr/>
        </p:nvSpPr>
        <p:spPr>
          <a:xfrm>
            <a:off x="228924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8" name="Shape 3804"/>
          <p:cNvSpPr/>
          <p:nvPr/>
        </p:nvSpPr>
        <p:spPr>
          <a:xfrm>
            <a:off x="348300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49" name="Shape 3805"/>
          <p:cNvSpPr/>
          <p:nvPr/>
        </p:nvSpPr>
        <p:spPr>
          <a:xfrm>
            <a:off x="587052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0" name="Shape 3806"/>
          <p:cNvSpPr/>
          <p:nvPr/>
        </p:nvSpPr>
        <p:spPr>
          <a:xfrm>
            <a:off x="467676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1" name="Shape 3807"/>
          <p:cNvSpPr/>
          <p:nvPr/>
        </p:nvSpPr>
        <p:spPr>
          <a:xfrm>
            <a:off x="706428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2" name="Shape 3808"/>
          <p:cNvSpPr/>
          <p:nvPr/>
        </p:nvSpPr>
        <p:spPr>
          <a:xfrm>
            <a:off x="825804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3" name="Shape 3809"/>
          <p:cNvSpPr/>
          <p:nvPr/>
        </p:nvSpPr>
        <p:spPr>
          <a:xfrm>
            <a:off x="1064556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4" name="Shape 3810"/>
          <p:cNvSpPr/>
          <p:nvPr/>
        </p:nvSpPr>
        <p:spPr>
          <a:xfrm>
            <a:off x="945180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5" name="Shape 3811"/>
          <p:cNvSpPr/>
          <p:nvPr/>
        </p:nvSpPr>
        <p:spPr>
          <a:xfrm>
            <a:off x="1183932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6" name="Shape 3812"/>
          <p:cNvSpPr/>
          <p:nvPr/>
        </p:nvSpPr>
        <p:spPr>
          <a:xfrm>
            <a:off x="1303344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7" name="Shape 3813"/>
          <p:cNvSpPr/>
          <p:nvPr/>
        </p:nvSpPr>
        <p:spPr>
          <a:xfrm>
            <a:off x="1542096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8" name="Shape 3814"/>
          <p:cNvSpPr/>
          <p:nvPr/>
        </p:nvSpPr>
        <p:spPr>
          <a:xfrm>
            <a:off x="1422720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59" name="Shape 3815"/>
          <p:cNvSpPr/>
          <p:nvPr/>
        </p:nvSpPr>
        <p:spPr>
          <a:xfrm>
            <a:off x="1661472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60" name="Shape 3816"/>
          <p:cNvSpPr/>
          <p:nvPr/>
        </p:nvSpPr>
        <p:spPr>
          <a:xfrm>
            <a:off x="1780848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61" name="Shape 3817"/>
          <p:cNvSpPr/>
          <p:nvPr/>
        </p:nvSpPr>
        <p:spPr>
          <a:xfrm>
            <a:off x="2019600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62" name="Shape 3818"/>
          <p:cNvSpPr/>
          <p:nvPr/>
        </p:nvSpPr>
        <p:spPr>
          <a:xfrm>
            <a:off x="1900224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63" name="Shape 3819"/>
          <p:cNvSpPr/>
          <p:nvPr/>
        </p:nvSpPr>
        <p:spPr>
          <a:xfrm>
            <a:off x="21389760" y="107888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64" name="Shape 3820"/>
          <p:cNvSpPr/>
          <p:nvPr/>
        </p:nvSpPr>
        <p:spPr>
          <a:xfrm>
            <a:off x="2031840" y="2021040"/>
            <a:ext cx="10159560" cy="81252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Font Awesome Icons</a:t>
            </a:r>
            <a:endParaRPr b="0" lang="en-US" sz="4800" spc="-1" strike="noStrike">
              <a:solidFill>
                <a:srgbClr val="000000"/>
              </a:solidFill>
              <a:latin typeface="Arial"/>
            </a:endParaRPr>
          </a:p>
        </p:txBody>
      </p:sp>
      <p:sp>
        <p:nvSpPr>
          <p:cNvPr id="6465" name="Shape 3821"/>
          <p:cNvSpPr/>
          <p:nvPr/>
        </p:nvSpPr>
        <p:spPr>
          <a:xfrm>
            <a:off x="2027160" y="3051720"/>
            <a:ext cx="21250080" cy="96588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Easy to use - only copy and past in your slides. Change size and color with one click.</a:t>
            </a:r>
            <a:endParaRPr b="0" lang="en-US" sz="3000" spc="-1" strike="noStrike">
              <a:solidFill>
                <a:srgbClr val="000000"/>
              </a:solidFill>
              <a:latin typeface="Arial"/>
            </a:endParaRPr>
          </a:p>
        </p:txBody>
      </p:sp>
      <p:sp>
        <p:nvSpPr>
          <p:cNvPr id="6466" name="PlaceHolder 1"/>
          <p:cNvSpPr>
            <a:spLocks noGrp="1"/>
          </p:cNvSpPr>
          <p:nvPr>
            <p:ph type="sldNum" idx="126"/>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8F3AD0CB-CDBF-4CFB-AB45-14125F53A0AF}"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7" name="Shape 3824"/>
          <p:cNvSpPr/>
          <p:nvPr/>
        </p:nvSpPr>
        <p:spPr>
          <a:xfrm>
            <a:off x="22892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68" name="Shape 3825"/>
          <p:cNvSpPr/>
          <p:nvPr/>
        </p:nvSpPr>
        <p:spPr>
          <a:xfrm>
            <a:off x="34830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69" name="Shape 3826"/>
          <p:cNvSpPr/>
          <p:nvPr/>
        </p:nvSpPr>
        <p:spPr>
          <a:xfrm>
            <a:off x="587052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0" name="Shape 3827"/>
          <p:cNvSpPr/>
          <p:nvPr/>
        </p:nvSpPr>
        <p:spPr>
          <a:xfrm>
            <a:off x="46767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1" name="Shape 3828"/>
          <p:cNvSpPr/>
          <p:nvPr/>
        </p:nvSpPr>
        <p:spPr>
          <a:xfrm>
            <a:off x="706428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2" name="Shape 3829"/>
          <p:cNvSpPr/>
          <p:nvPr/>
        </p:nvSpPr>
        <p:spPr>
          <a:xfrm>
            <a:off x="82580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3" name="Shape 3830"/>
          <p:cNvSpPr/>
          <p:nvPr/>
        </p:nvSpPr>
        <p:spPr>
          <a:xfrm>
            <a:off x="106455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4" name="Shape 3831"/>
          <p:cNvSpPr/>
          <p:nvPr/>
        </p:nvSpPr>
        <p:spPr>
          <a:xfrm>
            <a:off x="94518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5" name="Shape 3832"/>
          <p:cNvSpPr/>
          <p:nvPr/>
        </p:nvSpPr>
        <p:spPr>
          <a:xfrm>
            <a:off x="1183932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6" name="Shape 3833"/>
          <p:cNvSpPr/>
          <p:nvPr/>
        </p:nvSpPr>
        <p:spPr>
          <a:xfrm>
            <a:off x="130334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7" name="Shape 3834"/>
          <p:cNvSpPr/>
          <p:nvPr/>
        </p:nvSpPr>
        <p:spPr>
          <a:xfrm>
            <a:off x="154209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8" name="Shape 3835"/>
          <p:cNvSpPr/>
          <p:nvPr/>
        </p:nvSpPr>
        <p:spPr>
          <a:xfrm>
            <a:off x="142272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79" name="Shape 3836"/>
          <p:cNvSpPr/>
          <p:nvPr/>
        </p:nvSpPr>
        <p:spPr>
          <a:xfrm>
            <a:off x="1661472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0" name="Shape 3837"/>
          <p:cNvSpPr/>
          <p:nvPr/>
        </p:nvSpPr>
        <p:spPr>
          <a:xfrm>
            <a:off x="1780848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1" name="Shape 3838"/>
          <p:cNvSpPr/>
          <p:nvPr/>
        </p:nvSpPr>
        <p:spPr>
          <a:xfrm>
            <a:off x="201960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2" name="Shape 3839"/>
          <p:cNvSpPr/>
          <p:nvPr/>
        </p:nvSpPr>
        <p:spPr>
          <a:xfrm>
            <a:off x="190022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3" name="Shape 3840"/>
          <p:cNvSpPr/>
          <p:nvPr/>
        </p:nvSpPr>
        <p:spPr>
          <a:xfrm>
            <a:off x="213897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4" name="Shape 3841"/>
          <p:cNvSpPr/>
          <p:nvPr/>
        </p:nvSpPr>
        <p:spPr>
          <a:xfrm>
            <a:off x="22892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5" name="Shape 3842"/>
          <p:cNvSpPr/>
          <p:nvPr/>
        </p:nvSpPr>
        <p:spPr>
          <a:xfrm>
            <a:off x="34830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6" name="Shape 3843"/>
          <p:cNvSpPr/>
          <p:nvPr/>
        </p:nvSpPr>
        <p:spPr>
          <a:xfrm>
            <a:off x="58705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7" name="Shape 3844"/>
          <p:cNvSpPr/>
          <p:nvPr/>
        </p:nvSpPr>
        <p:spPr>
          <a:xfrm>
            <a:off x="46767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8" name="Shape 3845"/>
          <p:cNvSpPr/>
          <p:nvPr/>
        </p:nvSpPr>
        <p:spPr>
          <a:xfrm>
            <a:off x="706428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89" name="Shape 3846"/>
          <p:cNvSpPr/>
          <p:nvPr/>
        </p:nvSpPr>
        <p:spPr>
          <a:xfrm>
            <a:off x="82580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90" name="Shape 3847"/>
          <p:cNvSpPr/>
          <p:nvPr/>
        </p:nvSpPr>
        <p:spPr>
          <a:xfrm>
            <a:off x="106455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91" name="Shape 3848"/>
          <p:cNvSpPr/>
          <p:nvPr/>
        </p:nvSpPr>
        <p:spPr>
          <a:xfrm>
            <a:off x="94518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92" name="Shape 3849"/>
          <p:cNvSpPr/>
          <p:nvPr/>
        </p:nvSpPr>
        <p:spPr>
          <a:xfrm>
            <a:off x="118393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93" name="Shape 3850"/>
          <p:cNvSpPr/>
          <p:nvPr/>
        </p:nvSpPr>
        <p:spPr>
          <a:xfrm>
            <a:off x="130334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94" name="Shape 3851"/>
          <p:cNvSpPr/>
          <p:nvPr/>
        </p:nvSpPr>
        <p:spPr>
          <a:xfrm>
            <a:off x="154209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95" name="Shape 3852"/>
          <p:cNvSpPr/>
          <p:nvPr/>
        </p:nvSpPr>
        <p:spPr>
          <a:xfrm>
            <a:off x="142272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496" name="Shape 3853"/>
          <p:cNvSpPr/>
          <p:nvPr/>
        </p:nvSpPr>
        <p:spPr>
          <a:xfrm>
            <a:off x="166147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97" name="Shape 3854"/>
          <p:cNvSpPr/>
          <p:nvPr/>
        </p:nvSpPr>
        <p:spPr>
          <a:xfrm>
            <a:off x="1780848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498" name="Shape 3855"/>
          <p:cNvSpPr/>
          <p:nvPr/>
        </p:nvSpPr>
        <p:spPr>
          <a:xfrm>
            <a:off x="201960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499" name="Shape 3856"/>
          <p:cNvSpPr/>
          <p:nvPr/>
        </p:nvSpPr>
        <p:spPr>
          <a:xfrm>
            <a:off x="190022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0" name="Shape 3857"/>
          <p:cNvSpPr/>
          <p:nvPr/>
        </p:nvSpPr>
        <p:spPr>
          <a:xfrm>
            <a:off x="213897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1" name="Shape 3858"/>
          <p:cNvSpPr/>
          <p:nvPr/>
        </p:nvSpPr>
        <p:spPr>
          <a:xfrm>
            <a:off x="22892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502" name="Shape 3859"/>
          <p:cNvSpPr/>
          <p:nvPr/>
        </p:nvSpPr>
        <p:spPr>
          <a:xfrm>
            <a:off x="34830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3" name="Shape 3860"/>
          <p:cNvSpPr/>
          <p:nvPr/>
        </p:nvSpPr>
        <p:spPr>
          <a:xfrm>
            <a:off x="58705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4" name="Shape 3861"/>
          <p:cNvSpPr/>
          <p:nvPr/>
        </p:nvSpPr>
        <p:spPr>
          <a:xfrm>
            <a:off x="46767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5" name="Shape 3862"/>
          <p:cNvSpPr/>
          <p:nvPr/>
        </p:nvSpPr>
        <p:spPr>
          <a:xfrm>
            <a:off x="706428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6" name="Shape 3863"/>
          <p:cNvSpPr/>
          <p:nvPr/>
        </p:nvSpPr>
        <p:spPr>
          <a:xfrm>
            <a:off x="82580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7" name="Shape 3864"/>
          <p:cNvSpPr/>
          <p:nvPr/>
        </p:nvSpPr>
        <p:spPr>
          <a:xfrm>
            <a:off x="106455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8" name="Shape 3865"/>
          <p:cNvSpPr/>
          <p:nvPr/>
        </p:nvSpPr>
        <p:spPr>
          <a:xfrm>
            <a:off x="94518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09" name="Shape 3866"/>
          <p:cNvSpPr/>
          <p:nvPr/>
        </p:nvSpPr>
        <p:spPr>
          <a:xfrm>
            <a:off x="118393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0" name="Shape 3867"/>
          <p:cNvSpPr/>
          <p:nvPr/>
        </p:nvSpPr>
        <p:spPr>
          <a:xfrm>
            <a:off x="130334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1" name="Shape 3868"/>
          <p:cNvSpPr/>
          <p:nvPr/>
        </p:nvSpPr>
        <p:spPr>
          <a:xfrm>
            <a:off x="154209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2" name="Shape 3869"/>
          <p:cNvSpPr/>
          <p:nvPr/>
        </p:nvSpPr>
        <p:spPr>
          <a:xfrm>
            <a:off x="142272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3" name="Shape 3870"/>
          <p:cNvSpPr/>
          <p:nvPr/>
        </p:nvSpPr>
        <p:spPr>
          <a:xfrm>
            <a:off x="166147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4" name="Shape 3871"/>
          <p:cNvSpPr/>
          <p:nvPr/>
        </p:nvSpPr>
        <p:spPr>
          <a:xfrm>
            <a:off x="1780848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5" name="Shape 3872"/>
          <p:cNvSpPr/>
          <p:nvPr/>
        </p:nvSpPr>
        <p:spPr>
          <a:xfrm>
            <a:off x="201960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6" name="Shape 3873"/>
          <p:cNvSpPr/>
          <p:nvPr/>
        </p:nvSpPr>
        <p:spPr>
          <a:xfrm>
            <a:off x="190022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7" name="Shape 3874"/>
          <p:cNvSpPr/>
          <p:nvPr/>
        </p:nvSpPr>
        <p:spPr>
          <a:xfrm>
            <a:off x="213897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8" name="Shape 3875"/>
          <p:cNvSpPr/>
          <p:nvPr/>
        </p:nvSpPr>
        <p:spPr>
          <a:xfrm>
            <a:off x="22892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19" name="Shape 3876"/>
          <p:cNvSpPr/>
          <p:nvPr/>
        </p:nvSpPr>
        <p:spPr>
          <a:xfrm>
            <a:off x="34830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20" name="Shape 3877"/>
          <p:cNvSpPr/>
          <p:nvPr/>
        </p:nvSpPr>
        <p:spPr>
          <a:xfrm>
            <a:off x="58705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21" name="Shape 3878"/>
          <p:cNvSpPr/>
          <p:nvPr/>
        </p:nvSpPr>
        <p:spPr>
          <a:xfrm>
            <a:off x="46767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522" name="Shape 3879"/>
          <p:cNvSpPr/>
          <p:nvPr/>
        </p:nvSpPr>
        <p:spPr>
          <a:xfrm>
            <a:off x="706428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23" name="Shape 3880"/>
          <p:cNvSpPr/>
          <p:nvPr/>
        </p:nvSpPr>
        <p:spPr>
          <a:xfrm>
            <a:off x="82580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24" name="Shape 3881"/>
          <p:cNvSpPr/>
          <p:nvPr/>
        </p:nvSpPr>
        <p:spPr>
          <a:xfrm>
            <a:off x="106455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525" name="Shape 3882"/>
          <p:cNvSpPr/>
          <p:nvPr/>
        </p:nvSpPr>
        <p:spPr>
          <a:xfrm>
            <a:off x="94518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26" name="Shape 3883"/>
          <p:cNvSpPr/>
          <p:nvPr/>
        </p:nvSpPr>
        <p:spPr>
          <a:xfrm>
            <a:off x="118393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27" name="Shape 3884"/>
          <p:cNvSpPr/>
          <p:nvPr/>
        </p:nvSpPr>
        <p:spPr>
          <a:xfrm>
            <a:off x="130334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528" name="Shape 3885"/>
          <p:cNvSpPr/>
          <p:nvPr/>
        </p:nvSpPr>
        <p:spPr>
          <a:xfrm>
            <a:off x="154209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29" name="Shape 3886"/>
          <p:cNvSpPr/>
          <p:nvPr/>
        </p:nvSpPr>
        <p:spPr>
          <a:xfrm>
            <a:off x="142272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0" name="Shape 3887"/>
          <p:cNvSpPr/>
          <p:nvPr/>
        </p:nvSpPr>
        <p:spPr>
          <a:xfrm>
            <a:off x="166147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1" name="Shape 3888"/>
          <p:cNvSpPr/>
          <p:nvPr/>
        </p:nvSpPr>
        <p:spPr>
          <a:xfrm>
            <a:off x="1780848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2" name="Shape 3889"/>
          <p:cNvSpPr/>
          <p:nvPr/>
        </p:nvSpPr>
        <p:spPr>
          <a:xfrm>
            <a:off x="201960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3" name="Shape 3890"/>
          <p:cNvSpPr/>
          <p:nvPr/>
        </p:nvSpPr>
        <p:spPr>
          <a:xfrm>
            <a:off x="190022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4" name="Shape 3891"/>
          <p:cNvSpPr/>
          <p:nvPr/>
        </p:nvSpPr>
        <p:spPr>
          <a:xfrm>
            <a:off x="213897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5" name="Shape 3892"/>
          <p:cNvSpPr/>
          <p:nvPr/>
        </p:nvSpPr>
        <p:spPr>
          <a:xfrm>
            <a:off x="22892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6" name="Shape 3893"/>
          <p:cNvSpPr/>
          <p:nvPr/>
        </p:nvSpPr>
        <p:spPr>
          <a:xfrm>
            <a:off x="34830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7" name="Shape 3894"/>
          <p:cNvSpPr/>
          <p:nvPr/>
        </p:nvSpPr>
        <p:spPr>
          <a:xfrm>
            <a:off x="58705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8" name="Shape 3895"/>
          <p:cNvSpPr/>
          <p:nvPr/>
        </p:nvSpPr>
        <p:spPr>
          <a:xfrm>
            <a:off x="46767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39" name="Shape 3896"/>
          <p:cNvSpPr/>
          <p:nvPr/>
        </p:nvSpPr>
        <p:spPr>
          <a:xfrm>
            <a:off x="706428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0" name="Shape 3897"/>
          <p:cNvSpPr/>
          <p:nvPr/>
        </p:nvSpPr>
        <p:spPr>
          <a:xfrm>
            <a:off x="82580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1" name="Shape 3898"/>
          <p:cNvSpPr/>
          <p:nvPr/>
        </p:nvSpPr>
        <p:spPr>
          <a:xfrm>
            <a:off x="106455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2" name="Shape 3899"/>
          <p:cNvSpPr/>
          <p:nvPr/>
        </p:nvSpPr>
        <p:spPr>
          <a:xfrm>
            <a:off x="94518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3" name="Shape 3900"/>
          <p:cNvSpPr/>
          <p:nvPr/>
        </p:nvSpPr>
        <p:spPr>
          <a:xfrm>
            <a:off x="118393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544" name="Shape 3901"/>
          <p:cNvSpPr/>
          <p:nvPr/>
        </p:nvSpPr>
        <p:spPr>
          <a:xfrm>
            <a:off x="130334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5" name="Shape 3902"/>
          <p:cNvSpPr/>
          <p:nvPr/>
        </p:nvSpPr>
        <p:spPr>
          <a:xfrm>
            <a:off x="154209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6" name="Shape 3903"/>
          <p:cNvSpPr/>
          <p:nvPr/>
        </p:nvSpPr>
        <p:spPr>
          <a:xfrm>
            <a:off x="142272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7" name="Shape 3904"/>
          <p:cNvSpPr/>
          <p:nvPr/>
        </p:nvSpPr>
        <p:spPr>
          <a:xfrm>
            <a:off x="166147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8" name="Shape 3905"/>
          <p:cNvSpPr/>
          <p:nvPr/>
        </p:nvSpPr>
        <p:spPr>
          <a:xfrm>
            <a:off x="1780848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49" name="Shape 3906"/>
          <p:cNvSpPr/>
          <p:nvPr/>
        </p:nvSpPr>
        <p:spPr>
          <a:xfrm>
            <a:off x="201960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0" name="Shape 3907"/>
          <p:cNvSpPr/>
          <p:nvPr/>
        </p:nvSpPr>
        <p:spPr>
          <a:xfrm>
            <a:off x="190022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1" name="Shape 3908"/>
          <p:cNvSpPr/>
          <p:nvPr/>
        </p:nvSpPr>
        <p:spPr>
          <a:xfrm>
            <a:off x="213897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2" name="Shape 3909"/>
          <p:cNvSpPr/>
          <p:nvPr/>
        </p:nvSpPr>
        <p:spPr>
          <a:xfrm>
            <a:off x="22892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3" name="Shape 3910"/>
          <p:cNvSpPr/>
          <p:nvPr/>
        </p:nvSpPr>
        <p:spPr>
          <a:xfrm>
            <a:off x="34830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4" name="Shape 3911"/>
          <p:cNvSpPr/>
          <p:nvPr/>
        </p:nvSpPr>
        <p:spPr>
          <a:xfrm>
            <a:off x="58705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5" name="Shape 3912"/>
          <p:cNvSpPr/>
          <p:nvPr/>
        </p:nvSpPr>
        <p:spPr>
          <a:xfrm>
            <a:off x="46767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6" name="Shape 3913"/>
          <p:cNvSpPr/>
          <p:nvPr/>
        </p:nvSpPr>
        <p:spPr>
          <a:xfrm>
            <a:off x="706428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7" name="Shape 3914"/>
          <p:cNvSpPr/>
          <p:nvPr/>
        </p:nvSpPr>
        <p:spPr>
          <a:xfrm>
            <a:off x="82580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8" name="Shape 3915"/>
          <p:cNvSpPr/>
          <p:nvPr/>
        </p:nvSpPr>
        <p:spPr>
          <a:xfrm>
            <a:off x="106455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59" name="Shape 3916"/>
          <p:cNvSpPr/>
          <p:nvPr/>
        </p:nvSpPr>
        <p:spPr>
          <a:xfrm>
            <a:off x="94518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0" name="Shape 3917"/>
          <p:cNvSpPr/>
          <p:nvPr/>
        </p:nvSpPr>
        <p:spPr>
          <a:xfrm>
            <a:off x="118393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1" name="Shape 3918"/>
          <p:cNvSpPr/>
          <p:nvPr/>
        </p:nvSpPr>
        <p:spPr>
          <a:xfrm>
            <a:off x="130334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2" name="Shape 3919"/>
          <p:cNvSpPr/>
          <p:nvPr/>
        </p:nvSpPr>
        <p:spPr>
          <a:xfrm>
            <a:off x="154209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3" name="Shape 3920"/>
          <p:cNvSpPr/>
          <p:nvPr/>
        </p:nvSpPr>
        <p:spPr>
          <a:xfrm>
            <a:off x="142272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4" name="Shape 3921"/>
          <p:cNvSpPr/>
          <p:nvPr/>
        </p:nvSpPr>
        <p:spPr>
          <a:xfrm>
            <a:off x="166147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5" name="Shape 3922"/>
          <p:cNvSpPr/>
          <p:nvPr/>
        </p:nvSpPr>
        <p:spPr>
          <a:xfrm>
            <a:off x="1780848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6" name="Shape 3923"/>
          <p:cNvSpPr/>
          <p:nvPr/>
        </p:nvSpPr>
        <p:spPr>
          <a:xfrm>
            <a:off x="201960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7" name="Shape 3924"/>
          <p:cNvSpPr/>
          <p:nvPr/>
        </p:nvSpPr>
        <p:spPr>
          <a:xfrm>
            <a:off x="190022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8" name="Shape 3925"/>
          <p:cNvSpPr/>
          <p:nvPr/>
        </p:nvSpPr>
        <p:spPr>
          <a:xfrm>
            <a:off x="213897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69" name="Shape 3926"/>
          <p:cNvSpPr/>
          <p:nvPr/>
        </p:nvSpPr>
        <p:spPr>
          <a:xfrm>
            <a:off x="22892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0" name="Shape 3927"/>
          <p:cNvSpPr/>
          <p:nvPr/>
        </p:nvSpPr>
        <p:spPr>
          <a:xfrm>
            <a:off x="34830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1" name="Shape 3928"/>
          <p:cNvSpPr/>
          <p:nvPr/>
        </p:nvSpPr>
        <p:spPr>
          <a:xfrm>
            <a:off x="587052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2" name="Shape 3929"/>
          <p:cNvSpPr/>
          <p:nvPr/>
        </p:nvSpPr>
        <p:spPr>
          <a:xfrm>
            <a:off x="46767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3" name="Shape 3930"/>
          <p:cNvSpPr/>
          <p:nvPr/>
        </p:nvSpPr>
        <p:spPr>
          <a:xfrm>
            <a:off x="706428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4" name="Shape 3931"/>
          <p:cNvSpPr/>
          <p:nvPr/>
        </p:nvSpPr>
        <p:spPr>
          <a:xfrm>
            <a:off x="82580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5" name="Shape 3932"/>
          <p:cNvSpPr/>
          <p:nvPr/>
        </p:nvSpPr>
        <p:spPr>
          <a:xfrm>
            <a:off x="106455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576" name="Shape 3933"/>
          <p:cNvSpPr/>
          <p:nvPr/>
        </p:nvSpPr>
        <p:spPr>
          <a:xfrm>
            <a:off x="94518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7" name="Shape 3934"/>
          <p:cNvSpPr/>
          <p:nvPr/>
        </p:nvSpPr>
        <p:spPr>
          <a:xfrm>
            <a:off x="1183932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8" name="Shape 3935"/>
          <p:cNvSpPr/>
          <p:nvPr/>
        </p:nvSpPr>
        <p:spPr>
          <a:xfrm>
            <a:off x="130334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79" name="Shape 3936"/>
          <p:cNvSpPr/>
          <p:nvPr/>
        </p:nvSpPr>
        <p:spPr>
          <a:xfrm>
            <a:off x="154209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0" name="Shape 3937"/>
          <p:cNvSpPr/>
          <p:nvPr/>
        </p:nvSpPr>
        <p:spPr>
          <a:xfrm>
            <a:off x="142272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1" name="Shape 3938"/>
          <p:cNvSpPr/>
          <p:nvPr/>
        </p:nvSpPr>
        <p:spPr>
          <a:xfrm>
            <a:off x="1661472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582" name="Shape 3939"/>
          <p:cNvSpPr/>
          <p:nvPr/>
        </p:nvSpPr>
        <p:spPr>
          <a:xfrm>
            <a:off x="1780848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3" name="Shape 3940"/>
          <p:cNvSpPr/>
          <p:nvPr/>
        </p:nvSpPr>
        <p:spPr>
          <a:xfrm>
            <a:off x="201960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4" name="Shape 3941"/>
          <p:cNvSpPr/>
          <p:nvPr/>
        </p:nvSpPr>
        <p:spPr>
          <a:xfrm>
            <a:off x="190022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5" name="Shape 3942"/>
          <p:cNvSpPr/>
          <p:nvPr/>
        </p:nvSpPr>
        <p:spPr>
          <a:xfrm>
            <a:off x="213897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6" name="Shape 3943"/>
          <p:cNvSpPr/>
          <p:nvPr/>
        </p:nvSpPr>
        <p:spPr>
          <a:xfrm>
            <a:off x="22892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7" name="Shape 3944"/>
          <p:cNvSpPr/>
          <p:nvPr/>
        </p:nvSpPr>
        <p:spPr>
          <a:xfrm>
            <a:off x="34830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8" name="Shape 3945"/>
          <p:cNvSpPr/>
          <p:nvPr/>
        </p:nvSpPr>
        <p:spPr>
          <a:xfrm>
            <a:off x="587052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89" name="Shape 3946"/>
          <p:cNvSpPr/>
          <p:nvPr/>
        </p:nvSpPr>
        <p:spPr>
          <a:xfrm>
            <a:off x="46767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0" name="Shape 3947"/>
          <p:cNvSpPr/>
          <p:nvPr/>
        </p:nvSpPr>
        <p:spPr>
          <a:xfrm>
            <a:off x="706428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1" name="Shape 3948"/>
          <p:cNvSpPr/>
          <p:nvPr/>
        </p:nvSpPr>
        <p:spPr>
          <a:xfrm>
            <a:off x="82580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2" name="Shape 3949"/>
          <p:cNvSpPr/>
          <p:nvPr/>
        </p:nvSpPr>
        <p:spPr>
          <a:xfrm>
            <a:off x="106455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3" name="Shape 3950"/>
          <p:cNvSpPr/>
          <p:nvPr/>
        </p:nvSpPr>
        <p:spPr>
          <a:xfrm>
            <a:off x="94518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4" name="Shape 3951"/>
          <p:cNvSpPr/>
          <p:nvPr/>
        </p:nvSpPr>
        <p:spPr>
          <a:xfrm>
            <a:off x="1183932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5" name="Shape 3952"/>
          <p:cNvSpPr/>
          <p:nvPr/>
        </p:nvSpPr>
        <p:spPr>
          <a:xfrm>
            <a:off x="130334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6" name="Shape 3953"/>
          <p:cNvSpPr/>
          <p:nvPr/>
        </p:nvSpPr>
        <p:spPr>
          <a:xfrm>
            <a:off x="154209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7" name="Shape 3954"/>
          <p:cNvSpPr/>
          <p:nvPr/>
        </p:nvSpPr>
        <p:spPr>
          <a:xfrm>
            <a:off x="142272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8" name="Shape 3955"/>
          <p:cNvSpPr/>
          <p:nvPr/>
        </p:nvSpPr>
        <p:spPr>
          <a:xfrm>
            <a:off x="1661472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599" name="Shape 3956"/>
          <p:cNvSpPr/>
          <p:nvPr/>
        </p:nvSpPr>
        <p:spPr>
          <a:xfrm>
            <a:off x="1780848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600" name="Shape 3957"/>
          <p:cNvSpPr/>
          <p:nvPr/>
        </p:nvSpPr>
        <p:spPr>
          <a:xfrm>
            <a:off x="201960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01" name="Shape 3958"/>
          <p:cNvSpPr/>
          <p:nvPr/>
        </p:nvSpPr>
        <p:spPr>
          <a:xfrm>
            <a:off x="190022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02" name="Shape 3959"/>
          <p:cNvSpPr/>
          <p:nvPr/>
        </p:nvSpPr>
        <p:spPr>
          <a:xfrm>
            <a:off x="213897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03" name="Shape 3960"/>
          <p:cNvSpPr/>
          <p:nvPr/>
        </p:nvSpPr>
        <p:spPr>
          <a:xfrm>
            <a:off x="22892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04" name="Shape 3961"/>
          <p:cNvSpPr/>
          <p:nvPr/>
        </p:nvSpPr>
        <p:spPr>
          <a:xfrm>
            <a:off x="34830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05" name="Shape 3962"/>
          <p:cNvSpPr/>
          <p:nvPr/>
        </p:nvSpPr>
        <p:spPr>
          <a:xfrm>
            <a:off x="58705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606" name="Shape 3963"/>
          <p:cNvSpPr/>
          <p:nvPr/>
        </p:nvSpPr>
        <p:spPr>
          <a:xfrm>
            <a:off x="46767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07" name="Shape 3964"/>
          <p:cNvSpPr/>
          <p:nvPr/>
        </p:nvSpPr>
        <p:spPr>
          <a:xfrm>
            <a:off x="706428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08" name="Shape 3965"/>
          <p:cNvSpPr/>
          <p:nvPr/>
        </p:nvSpPr>
        <p:spPr>
          <a:xfrm>
            <a:off x="82580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09" name="Shape 3966"/>
          <p:cNvSpPr/>
          <p:nvPr/>
        </p:nvSpPr>
        <p:spPr>
          <a:xfrm>
            <a:off x="106455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0" name="Shape 3967"/>
          <p:cNvSpPr/>
          <p:nvPr/>
        </p:nvSpPr>
        <p:spPr>
          <a:xfrm>
            <a:off x="94518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1" name="Shape 3968"/>
          <p:cNvSpPr/>
          <p:nvPr/>
        </p:nvSpPr>
        <p:spPr>
          <a:xfrm>
            <a:off x="118393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2" name="Shape 3969"/>
          <p:cNvSpPr/>
          <p:nvPr/>
        </p:nvSpPr>
        <p:spPr>
          <a:xfrm>
            <a:off x="130334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3" name="Shape 3970"/>
          <p:cNvSpPr/>
          <p:nvPr/>
        </p:nvSpPr>
        <p:spPr>
          <a:xfrm>
            <a:off x="154209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4" name="Shape 3971"/>
          <p:cNvSpPr/>
          <p:nvPr/>
        </p:nvSpPr>
        <p:spPr>
          <a:xfrm>
            <a:off x="142272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5" name="Shape 3972"/>
          <p:cNvSpPr/>
          <p:nvPr/>
        </p:nvSpPr>
        <p:spPr>
          <a:xfrm>
            <a:off x="166147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6" name="Shape 3973"/>
          <p:cNvSpPr/>
          <p:nvPr/>
        </p:nvSpPr>
        <p:spPr>
          <a:xfrm>
            <a:off x="1780848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617" name="Shape 3974"/>
          <p:cNvSpPr/>
          <p:nvPr/>
        </p:nvSpPr>
        <p:spPr>
          <a:xfrm>
            <a:off x="201960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8" name="Shape 3975"/>
          <p:cNvSpPr/>
          <p:nvPr/>
        </p:nvSpPr>
        <p:spPr>
          <a:xfrm>
            <a:off x="190022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19" name="Shape 3976"/>
          <p:cNvSpPr/>
          <p:nvPr/>
        </p:nvSpPr>
        <p:spPr>
          <a:xfrm>
            <a:off x="213897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620" name="PlaceHolder 1"/>
          <p:cNvSpPr>
            <a:spLocks noGrp="1"/>
          </p:cNvSpPr>
          <p:nvPr>
            <p:ph type="sldNum" idx="127"/>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9E887115-587B-4DF3-A80D-7ADD10501DAD}"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53" name="Group 1148"/>
          <p:cNvGrpSpPr/>
          <p:nvPr/>
        </p:nvGrpSpPr>
        <p:grpSpPr>
          <a:xfrm>
            <a:off x="1908000" y="2033640"/>
            <a:ext cx="6837480" cy="9648720"/>
            <a:chOff x="1908000" y="2033640"/>
            <a:chExt cx="6837480" cy="9648720"/>
          </a:xfrm>
        </p:grpSpPr>
        <p:sp>
          <p:nvSpPr>
            <p:cNvPr id="4254" name="Shape 1133"/>
            <p:cNvSpPr/>
            <p:nvPr/>
          </p:nvSpPr>
          <p:spPr>
            <a:xfrm>
              <a:off x="1908000" y="2033640"/>
              <a:ext cx="6837480" cy="9648720"/>
            </a:xfrm>
            <a:custGeom>
              <a:avLst/>
              <a:gdLst>
                <a:gd name="textAreaLeft" fmla="*/ 0 w 6837480"/>
                <a:gd name="textAreaRight" fmla="*/ 6837840 w 6837480"/>
                <a:gd name="textAreaTop" fmla="*/ 0 h 9648720"/>
                <a:gd name="textAreaBottom" fmla="*/ 9649080 h 964872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5" name="Shape 1134"/>
            <p:cNvSpPr/>
            <p:nvPr/>
          </p:nvSpPr>
          <p:spPr>
            <a:xfrm>
              <a:off x="1949400" y="2079720"/>
              <a:ext cx="6750000" cy="9561240"/>
            </a:xfrm>
            <a:custGeom>
              <a:avLst/>
              <a:gdLst>
                <a:gd name="textAreaLeft" fmla="*/ 0 w 6750000"/>
                <a:gd name="textAreaRight" fmla="*/ 6750360 w 6750000"/>
                <a:gd name="textAreaTop" fmla="*/ 0 h 9561240"/>
                <a:gd name="textAreaBottom" fmla="*/ 9561600 h 956124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6" name="Shape 1135"/>
            <p:cNvSpPr/>
            <p:nvPr/>
          </p:nvSpPr>
          <p:spPr>
            <a:xfrm>
              <a:off x="2299680" y="2849040"/>
              <a:ext cx="6049440" cy="8021880"/>
            </a:xfrm>
            <a:custGeom>
              <a:avLst/>
              <a:gdLst>
                <a:gd name="textAreaLeft" fmla="*/ 0 w 6049440"/>
                <a:gd name="textAreaRight" fmla="*/ 6049800 w 6049440"/>
                <a:gd name="textAreaTop" fmla="*/ 0 h 8021880"/>
                <a:gd name="textAreaBottom" fmla="*/ 8022240 h 802188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7" name="Shape 1136"/>
            <p:cNvSpPr/>
            <p:nvPr/>
          </p:nvSpPr>
          <p:spPr>
            <a:xfrm>
              <a:off x="2322720" y="2867760"/>
              <a:ext cx="6008040" cy="7980480"/>
            </a:xfrm>
            <a:custGeom>
              <a:avLst/>
              <a:gdLst>
                <a:gd name="textAreaLeft" fmla="*/ 0 w 6008040"/>
                <a:gd name="textAreaRight" fmla="*/ 6008400 w 6008040"/>
                <a:gd name="textAreaTop" fmla="*/ 0 h 7980480"/>
                <a:gd name="textAreaBottom" fmla="*/ 7980840 h 79804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8" name="Shape 1137"/>
            <p:cNvSpPr/>
            <p:nvPr/>
          </p:nvSpPr>
          <p:spPr>
            <a:xfrm>
              <a:off x="5272920" y="2415960"/>
              <a:ext cx="108360" cy="108360"/>
            </a:xfrm>
            <a:custGeom>
              <a:avLst/>
              <a:gdLst>
                <a:gd name="textAreaLeft" fmla="*/ 0 w 108360"/>
                <a:gd name="textAreaRight" fmla="*/ 108720 w 108360"/>
                <a:gd name="textAreaTop" fmla="*/ 0 h 108360"/>
                <a:gd name="textAreaBottom" fmla="*/ 108720 h 10836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59" name="Shape 1138"/>
            <p:cNvSpPr/>
            <p:nvPr/>
          </p:nvSpPr>
          <p:spPr>
            <a:xfrm>
              <a:off x="5286600" y="2430360"/>
              <a:ext cx="80280" cy="80280"/>
            </a:xfrm>
            <a:custGeom>
              <a:avLst/>
              <a:gdLst>
                <a:gd name="textAreaLeft" fmla="*/ 0 w 80280"/>
                <a:gd name="textAreaRight" fmla="*/ 80640 w 80280"/>
                <a:gd name="textAreaTop" fmla="*/ 0 h 80280"/>
                <a:gd name="textAreaBottom" fmla="*/ 80640 h 8028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0" name="Shape 1139"/>
            <p:cNvSpPr/>
            <p:nvPr/>
          </p:nvSpPr>
          <p:spPr>
            <a:xfrm>
              <a:off x="5304600" y="24483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1" name="Shape 1140"/>
            <p:cNvSpPr/>
            <p:nvPr/>
          </p:nvSpPr>
          <p:spPr>
            <a:xfrm>
              <a:off x="5109480" y="11078280"/>
              <a:ext cx="421200" cy="421920"/>
            </a:xfrm>
            <a:custGeom>
              <a:avLst/>
              <a:gdLst>
                <a:gd name="textAreaLeft" fmla="*/ 0 w 421200"/>
                <a:gd name="textAreaRight" fmla="*/ 421560 w 421200"/>
                <a:gd name="textAreaTop" fmla="*/ 0 h 421920"/>
                <a:gd name="textAreaBottom" fmla="*/ 422280 h 42192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2" name="Shape 1141"/>
            <p:cNvSpPr/>
            <p:nvPr/>
          </p:nvSpPr>
          <p:spPr>
            <a:xfrm>
              <a:off x="5106240" y="11081880"/>
              <a:ext cx="201240" cy="217800"/>
            </a:xfrm>
            <a:custGeom>
              <a:avLst/>
              <a:gdLst>
                <a:gd name="textAreaLeft" fmla="*/ 0 w 201240"/>
                <a:gd name="textAreaRight" fmla="*/ 201600 w 201240"/>
                <a:gd name="textAreaTop" fmla="*/ 0 h 217800"/>
                <a:gd name="textAreaBottom" fmla="*/ 218160 h 21780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3" name="Shape 1142"/>
            <p:cNvSpPr/>
            <p:nvPr/>
          </p:nvSpPr>
          <p:spPr>
            <a:xfrm>
              <a:off x="5143320" y="1108224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4" name="Shape 1143"/>
            <p:cNvSpPr/>
            <p:nvPr/>
          </p:nvSpPr>
          <p:spPr>
            <a:xfrm>
              <a:off x="5221440" y="11082600"/>
              <a:ext cx="284400" cy="212400"/>
            </a:xfrm>
            <a:custGeom>
              <a:avLst/>
              <a:gdLst>
                <a:gd name="textAreaLeft" fmla="*/ 0 w 284400"/>
                <a:gd name="textAreaRight" fmla="*/ 284760 w 284400"/>
                <a:gd name="textAreaTop" fmla="*/ 0 h 212400"/>
                <a:gd name="textAreaBottom" fmla="*/ 212760 h 21240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5" name="Shape 1144"/>
            <p:cNvSpPr/>
            <p:nvPr/>
          </p:nvSpPr>
          <p:spPr>
            <a:xfrm>
              <a:off x="5332320" y="11282760"/>
              <a:ext cx="196920" cy="219960"/>
            </a:xfrm>
            <a:custGeom>
              <a:avLst/>
              <a:gdLst>
                <a:gd name="textAreaLeft" fmla="*/ 0 w 196920"/>
                <a:gd name="textAreaRight" fmla="*/ 197280 w 196920"/>
                <a:gd name="textAreaTop" fmla="*/ 0 h 219960"/>
                <a:gd name="textAreaBottom" fmla="*/ 220320 h 21996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6" name="Shape 1145"/>
            <p:cNvSpPr/>
            <p:nvPr/>
          </p:nvSpPr>
          <p:spPr>
            <a:xfrm>
              <a:off x="5198400" y="1128708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7" name="Shape 1146"/>
            <p:cNvSpPr/>
            <p:nvPr/>
          </p:nvSpPr>
          <p:spPr>
            <a:xfrm>
              <a:off x="5129280" y="11287080"/>
              <a:ext cx="284400" cy="212040"/>
            </a:xfrm>
            <a:custGeom>
              <a:avLst/>
              <a:gdLst>
                <a:gd name="textAreaLeft" fmla="*/ 0 w 284400"/>
                <a:gd name="textAreaRight" fmla="*/ 284760 w 284400"/>
                <a:gd name="textAreaTop" fmla="*/ 0 h 212040"/>
                <a:gd name="textAreaBottom" fmla="*/ 212400 h 21204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68" name="Shape 1147"/>
            <p:cNvSpPr/>
            <p:nvPr/>
          </p:nvSpPr>
          <p:spPr>
            <a:xfrm>
              <a:off x="5133600" y="11103480"/>
              <a:ext cx="372240" cy="371520"/>
            </a:xfrm>
            <a:custGeom>
              <a:avLst/>
              <a:gdLst>
                <a:gd name="textAreaLeft" fmla="*/ 0 w 372240"/>
                <a:gd name="textAreaRight" fmla="*/ 372600 w 372240"/>
                <a:gd name="textAreaTop" fmla="*/ 0 h 371520"/>
                <a:gd name="textAreaBottom" fmla="*/ 371880 h 37152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4269" name="Group 1155"/>
          <p:cNvGrpSpPr/>
          <p:nvPr/>
        </p:nvGrpSpPr>
        <p:grpSpPr>
          <a:xfrm>
            <a:off x="8453880" y="7423920"/>
            <a:ext cx="2361960" cy="4258080"/>
            <a:chOff x="8453880" y="7423920"/>
            <a:chExt cx="2361960" cy="4258080"/>
          </a:xfrm>
        </p:grpSpPr>
        <p:sp>
          <p:nvSpPr>
            <p:cNvPr id="4270" name="Shape 1149"/>
            <p:cNvSpPr/>
            <p:nvPr/>
          </p:nvSpPr>
          <p:spPr>
            <a:xfrm>
              <a:off x="10641960" y="8857440"/>
              <a:ext cx="173880" cy="449640"/>
            </a:xfrm>
            <a:custGeom>
              <a:avLst/>
              <a:gdLst>
                <a:gd name="textAreaLeft" fmla="*/ 0 w 173880"/>
                <a:gd name="textAreaRight" fmla="*/ 174240 w 173880"/>
                <a:gd name="textAreaTop" fmla="*/ 0 h 449640"/>
                <a:gd name="textAreaBottom" fmla="*/ 450000 h 44964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271" name="Shape 1150"/>
            <p:cNvSpPr/>
            <p:nvPr/>
          </p:nvSpPr>
          <p:spPr>
            <a:xfrm>
              <a:off x="10681200" y="9627840"/>
              <a:ext cx="68760" cy="672840"/>
            </a:xfrm>
            <a:custGeom>
              <a:avLst/>
              <a:gdLst>
                <a:gd name="textAreaLeft" fmla="*/ 0 w 68760"/>
                <a:gd name="textAreaRight" fmla="*/ 69120 w 68760"/>
                <a:gd name="textAreaTop" fmla="*/ 0 h 672840"/>
                <a:gd name="textAreaBottom" fmla="*/ 673200 h 67284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2" name="Shape 1151"/>
            <p:cNvSpPr/>
            <p:nvPr/>
          </p:nvSpPr>
          <p:spPr>
            <a:xfrm>
              <a:off x="8682120" y="10805040"/>
              <a:ext cx="1793160" cy="876960"/>
            </a:xfrm>
            <a:custGeom>
              <a:avLst/>
              <a:gdLst>
                <a:gd name="textAreaLeft" fmla="*/ 0 w 1793160"/>
                <a:gd name="textAreaRight" fmla="*/ 1793520 w 1793160"/>
                <a:gd name="textAreaTop" fmla="*/ 0 h 876960"/>
                <a:gd name="textAreaBottom" fmla="*/ 877320 h 87696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c8cc2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3" name="Shape 1152"/>
            <p:cNvSpPr/>
            <p:nvPr/>
          </p:nvSpPr>
          <p:spPr>
            <a:xfrm>
              <a:off x="8682120" y="7423920"/>
              <a:ext cx="1793160" cy="876240"/>
            </a:xfrm>
            <a:custGeom>
              <a:avLst/>
              <a:gdLst>
                <a:gd name="textAreaLeft" fmla="*/ 0 w 1793160"/>
                <a:gd name="textAreaRight" fmla="*/ 1793520 w 1793160"/>
                <a:gd name="textAreaTop" fmla="*/ 0 h 876240"/>
                <a:gd name="textAreaBottom" fmla="*/ 876600 h 87624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c8cc2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4" name="Shape 1153"/>
            <p:cNvSpPr/>
            <p:nvPr/>
          </p:nvSpPr>
          <p:spPr>
            <a:xfrm>
              <a:off x="8453880" y="8233560"/>
              <a:ext cx="2249280" cy="2653560"/>
            </a:xfrm>
            <a:custGeom>
              <a:avLst/>
              <a:gdLst>
                <a:gd name="textAreaLeft" fmla="*/ 0 w 2249280"/>
                <a:gd name="textAreaRight" fmla="*/ 2249640 w 2249280"/>
                <a:gd name="textAreaTop" fmla="*/ 0 h 2653560"/>
                <a:gd name="textAreaBottom" fmla="*/ 2653920 h 2653560"/>
              </a:gdLst>
              <a:ahLst/>
              <a:rect l="textAreaLeft" t="textAreaTop" r="textAreaRight" b="textAreaBottom"/>
              <a:pathLst>
                <a:path w="21553" h="21560">
                  <a:moveTo>
                    <a:pt x="17154" y="21560"/>
                  </a:moveTo>
                  <a:lnTo>
                    <a:pt x="4267" y="21511"/>
                  </a:lnTo>
                  <a:cubicBezTo>
                    <a:pt x="1893" y="21495"/>
                    <a:pt x="-19" y="19844"/>
                    <a:pt x="0" y="17778"/>
                  </a:cubicBezTo>
                  <a:lnTo>
                    <a:pt x="75" y="3684"/>
                  </a:lnTo>
                  <a:cubicBezTo>
                    <a:pt x="94" y="1635"/>
                    <a:pt x="2016" y="-16"/>
                    <a:pt x="4408" y="0"/>
                  </a:cubicBezTo>
                  <a:lnTo>
                    <a:pt x="17285" y="49"/>
                  </a:lnTo>
                  <a:cubicBezTo>
                    <a:pt x="19659" y="65"/>
                    <a:pt x="21581" y="1724"/>
                    <a:pt x="21553" y="3790"/>
                  </a:cubicBezTo>
                  <a:lnTo>
                    <a:pt x="21477" y="17876"/>
                  </a:lnTo>
                  <a:cubicBezTo>
                    <a:pt x="21459" y="19925"/>
                    <a:pt x="19518" y="21584"/>
                    <a:pt x="17154" y="2156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275" name="Shape 1154"/>
            <p:cNvSpPr/>
            <p:nvPr/>
          </p:nvSpPr>
          <p:spPr>
            <a:xfrm>
              <a:off x="8550000" y="8340480"/>
              <a:ext cx="2057400" cy="2439000"/>
            </a:xfrm>
            <a:custGeom>
              <a:avLst/>
              <a:gdLst>
                <a:gd name="textAreaLeft" fmla="*/ 0 w 2057400"/>
                <a:gd name="textAreaRight" fmla="*/ 2057760 w 2057400"/>
                <a:gd name="textAreaTop" fmla="*/ 0 h 2439000"/>
                <a:gd name="textAreaBottom" fmla="*/ 2439360 h 2439000"/>
              </a:gdLst>
              <a:ahLst/>
              <a:rect l="textAreaLeft" t="textAreaTop" r="textAreaRight" b="textAreaBottom"/>
              <a:pathLst>
                <a:path w="21559" h="21583">
                  <a:moveTo>
                    <a:pt x="18125" y="21583"/>
                  </a:moveTo>
                  <a:lnTo>
                    <a:pt x="3308" y="21530"/>
                  </a:lnTo>
                  <a:cubicBezTo>
                    <a:pt x="1471" y="21530"/>
                    <a:pt x="-21" y="20256"/>
                    <a:pt x="0" y="18709"/>
                  </a:cubicBezTo>
                  <a:lnTo>
                    <a:pt x="83" y="2786"/>
                  </a:lnTo>
                  <a:cubicBezTo>
                    <a:pt x="83" y="1231"/>
                    <a:pt x="1596" y="-17"/>
                    <a:pt x="3433" y="1"/>
                  </a:cubicBezTo>
                  <a:lnTo>
                    <a:pt x="18261" y="53"/>
                  </a:lnTo>
                  <a:cubicBezTo>
                    <a:pt x="20097" y="53"/>
                    <a:pt x="21579" y="1328"/>
                    <a:pt x="21558" y="2874"/>
                  </a:cubicBezTo>
                  <a:lnTo>
                    <a:pt x="21475" y="18806"/>
                  </a:lnTo>
                  <a:cubicBezTo>
                    <a:pt x="21454" y="20335"/>
                    <a:pt x="19962" y="21583"/>
                    <a:pt x="18125" y="215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276" name="Shape 1158"/>
          <p:cNvSpPr/>
          <p:nvPr/>
        </p:nvSpPr>
        <p:spPr>
          <a:xfrm>
            <a:off x="12195720" y="1712160"/>
            <a:ext cx="10161000" cy="51386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Mockup</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ablet &amp; Watch</a:t>
            </a:r>
            <a:endParaRPr b="0" lang="en-US" sz="11200" spc="-1" strike="noStrike">
              <a:solidFill>
                <a:srgbClr val="000000"/>
              </a:solidFill>
              <a:latin typeface="Arial"/>
            </a:endParaRPr>
          </a:p>
        </p:txBody>
      </p:sp>
      <p:sp>
        <p:nvSpPr>
          <p:cNvPr id="4277" name="Shape 1159"/>
          <p:cNvSpPr/>
          <p:nvPr/>
        </p:nvSpPr>
        <p:spPr>
          <a:xfrm>
            <a:off x="12192120" y="805284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278" name="Shape 1160"/>
          <p:cNvSpPr/>
          <p:nvPr/>
        </p:nvSpPr>
        <p:spPr>
          <a:xfrm>
            <a:off x="12192120" y="729072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TABLET MOCKUP</a:t>
            </a:r>
            <a:endParaRPr b="0" lang="en-US" sz="3000" spc="-1" strike="noStrike">
              <a:solidFill>
                <a:srgbClr val="000000"/>
              </a:solidFill>
              <a:latin typeface="Arial"/>
            </a:endParaRPr>
          </a:p>
        </p:txBody>
      </p:sp>
      <p:sp>
        <p:nvSpPr>
          <p:cNvPr id="4279" name="Shape 1161"/>
          <p:cNvSpPr/>
          <p:nvPr/>
        </p:nvSpPr>
        <p:spPr>
          <a:xfrm>
            <a:off x="17718120" y="7290720"/>
            <a:ext cx="462564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WATCH MOCKUP</a:t>
            </a:r>
            <a:endParaRPr b="0" lang="en-US" sz="3000" spc="-1" strike="noStrike">
              <a:solidFill>
                <a:srgbClr val="000000"/>
              </a:solidFill>
              <a:latin typeface="Arial"/>
            </a:endParaRPr>
          </a:p>
        </p:txBody>
      </p:sp>
      <p:sp>
        <p:nvSpPr>
          <p:cNvPr id="4280" name="Shape 1162"/>
          <p:cNvSpPr/>
          <p:nvPr/>
        </p:nvSpPr>
        <p:spPr>
          <a:xfrm>
            <a:off x="17718120" y="805284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1" name="Shape 3979"/>
          <p:cNvSpPr/>
          <p:nvPr/>
        </p:nvSpPr>
        <p:spPr>
          <a:xfrm>
            <a:off x="22892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22" name="Shape 3980"/>
          <p:cNvSpPr/>
          <p:nvPr/>
        </p:nvSpPr>
        <p:spPr>
          <a:xfrm>
            <a:off x="34830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23" name="Shape 3981"/>
          <p:cNvSpPr/>
          <p:nvPr/>
        </p:nvSpPr>
        <p:spPr>
          <a:xfrm>
            <a:off x="587052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24" name="Shape 3982"/>
          <p:cNvSpPr/>
          <p:nvPr/>
        </p:nvSpPr>
        <p:spPr>
          <a:xfrm>
            <a:off x="46767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25" name="Shape 3983"/>
          <p:cNvSpPr/>
          <p:nvPr/>
        </p:nvSpPr>
        <p:spPr>
          <a:xfrm>
            <a:off x="706428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26" name="Shape 3984"/>
          <p:cNvSpPr/>
          <p:nvPr/>
        </p:nvSpPr>
        <p:spPr>
          <a:xfrm>
            <a:off x="82580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27" name="Shape 3985"/>
          <p:cNvSpPr/>
          <p:nvPr/>
        </p:nvSpPr>
        <p:spPr>
          <a:xfrm>
            <a:off x="106455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28" name="Shape 3986"/>
          <p:cNvSpPr/>
          <p:nvPr/>
        </p:nvSpPr>
        <p:spPr>
          <a:xfrm>
            <a:off x="94518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29" name="Shape 3987"/>
          <p:cNvSpPr/>
          <p:nvPr/>
        </p:nvSpPr>
        <p:spPr>
          <a:xfrm>
            <a:off x="1183932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0" name="Shape 3988"/>
          <p:cNvSpPr/>
          <p:nvPr/>
        </p:nvSpPr>
        <p:spPr>
          <a:xfrm>
            <a:off x="130334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1" name="Shape 3989"/>
          <p:cNvSpPr/>
          <p:nvPr/>
        </p:nvSpPr>
        <p:spPr>
          <a:xfrm>
            <a:off x="154209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2" name="Shape 3990"/>
          <p:cNvSpPr/>
          <p:nvPr/>
        </p:nvSpPr>
        <p:spPr>
          <a:xfrm>
            <a:off x="142272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3" name="Shape 3991"/>
          <p:cNvSpPr/>
          <p:nvPr/>
        </p:nvSpPr>
        <p:spPr>
          <a:xfrm>
            <a:off x="1661472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4" name="Shape 3992"/>
          <p:cNvSpPr/>
          <p:nvPr/>
        </p:nvSpPr>
        <p:spPr>
          <a:xfrm>
            <a:off x="1780848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5" name="Shape 3993"/>
          <p:cNvSpPr/>
          <p:nvPr/>
        </p:nvSpPr>
        <p:spPr>
          <a:xfrm>
            <a:off x="201960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6" name="Shape 3994"/>
          <p:cNvSpPr/>
          <p:nvPr/>
        </p:nvSpPr>
        <p:spPr>
          <a:xfrm>
            <a:off x="190022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7" name="Shape 3995"/>
          <p:cNvSpPr/>
          <p:nvPr/>
        </p:nvSpPr>
        <p:spPr>
          <a:xfrm>
            <a:off x="213897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8" name="Shape 3996"/>
          <p:cNvSpPr/>
          <p:nvPr/>
        </p:nvSpPr>
        <p:spPr>
          <a:xfrm>
            <a:off x="22892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39" name="Shape 3997"/>
          <p:cNvSpPr/>
          <p:nvPr/>
        </p:nvSpPr>
        <p:spPr>
          <a:xfrm>
            <a:off x="34830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0" name="Shape 3998"/>
          <p:cNvSpPr/>
          <p:nvPr/>
        </p:nvSpPr>
        <p:spPr>
          <a:xfrm>
            <a:off x="58705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1" name="Shape 3999"/>
          <p:cNvSpPr/>
          <p:nvPr/>
        </p:nvSpPr>
        <p:spPr>
          <a:xfrm>
            <a:off x="46767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2" name="Shape 4000"/>
          <p:cNvSpPr/>
          <p:nvPr/>
        </p:nvSpPr>
        <p:spPr>
          <a:xfrm>
            <a:off x="706428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3" name="Shape 4001"/>
          <p:cNvSpPr/>
          <p:nvPr/>
        </p:nvSpPr>
        <p:spPr>
          <a:xfrm>
            <a:off x="82580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4" name="Shape 4002"/>
          <p:cNvSpPr/>
          <p:nvPr/>
        </p:nvSpPr>
        <p:spPr>
          <a:xfrm>
            <a:off x="106455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5" name="Shape 4003"/>
          <p:cNvSpPr/>
          <p:nvPr/>
        </p:nvSpPr>
        <p:spPr>
          <a:xfrm>
            <a:off x="94518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6" name="Shape 4004"/>
          <p:cNvSpPr/>
          <p:nvPr/>
        </p:nvSpPr>
        <p:spPr>
          <a:xfrm>
            <a:off x="118393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7" name="Shape 4005"/>
          <p:cNvSpPr/>
          <p:nvPr/>
        </p:nvSpPr>
        <p:spPr>
          <a:xfrm>
            <a:off x="130334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8" name="Shape 4006"/>
          <p:cNvSpPr/>
          <p:nvPr/>
        </p:nvSpPr>
        <p:spPr>
          <a:xfrm>
            <a:off x="154209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49" name="Shape 4007"/>
          <p:cNvSpPr/>
          <p:nvPr/>
        </p:nvSpPr>
        <p:spPr>
          <a:xfrm>
            <a:off x="142272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0" name="Shape 4008"/>
          <p:cNvSpPr/>
          <p:nvPr/>
        </p:nvSpPr>
        <p:spPr>
          <a:xfrm>
            <a:off x="166147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1" name="Shape 4009"/>
          <p:cNvSpPr/>
          <p:nvPr/>
        </p:nvSpPr>
        <p:spPr>
          <a:xfrm>
            <a:off x="1780848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2" name="Shape 4010"/>
          <p:cNvSpPr/>
          <p:nvPr/>
        </p:nvSpPr>
        <p:spPr>
          <a:xfrm>
            <a:off x="201960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3" name="Shape 4011"/>
          <p:cNvSpPr/>
          <p:nvPr/>
        </p:nvSpPr>
        <p:spPr>
          <a:xfrm>
            <a:off x="190022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4" name="Shape 4012"/>
          <p:cNvSpPr/>
          <p:nvPr/>
        </p:nvSpPr>
        <p:spPr>
          <a:xfrm>
            <a:off x="213897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5" name="Shape 4013"/>
          <p:cNvSpPr/>
          <p:nvPr/>
        </p:nvSpPr>
        <p:spPr>
          <a:xfrm>
            <a:off x="22892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6" name="Shape 4014"/>
          <p:cNvSpPr/>
          <p:nvPr/>
        </p:nvSpPr>
        <p:spPr>
          <a:xfrm>
            <a:off x="34830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7" name="Shape 4015"/>
          <p:cNvSpPr/>
          <p:nvPr/>
        </p:nvSpPr>
        <p:spPr>
          <a:xfrm>
            <a:off x="58705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8" name="Shape 4016"/>
          <p:cNvSpPr/>
          <p:nvPr/>
        </p:nvSpPr>
        <p:spPr>
          <a:xfrm>
            <a:off x="46767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59" name="Shape 4017"/>
          <p:cNvSpPr/>
          <p:nvPr/>
        </p:nvSpPr>
        <p:spPr>
          <a:xfrm>
            <a:off x="706428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0" name="Shape 4018"/>
          <p:cNvSpPr/>
          <p:nvPr/>
        </p:nvSpPr>
        <p:spPr>
          <a:xfrm>
            <a:off x="82580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1" name="Shape 4019"/>
          <p:cNvSpPr/>
          <p:nvPr/>
        </p:nvSpPr>
        <p:spPr>
          <a:xfrm>
            <a:off x="106455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2" name="Shape 4020"/>
          <p:cNvSpPr/>
          <p:nvPr/>
        </p:nvSpPr>
        <p:spPr>
          <a:xfrm>
            <a:off x="94518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3" name="Shape 4021"/>
          <p:cNvSpPr/>
          <p:nvPr/>
        </p:nvSpPr>
        <p:spPr>
          <a:xfrm>
            <a:off x="118393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4" name="Shape 4022"/>
          <p:cNvSpPr/>
          <p:nvPr/>
        </p:nvSpPr>
        <p:spPr>
          <a:xfrm>
            <a:off x="130334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5" name="Shape 4023"/>
          <p:cNvSpPr/>
          <p:nvPr/>
        </p:nvSpPr>
        <p:spPr>
          <a:xfrm>
            <a:off x="154209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6" name="Shape 4024"/>
          <p:cNvSpPr/>
          <p:nvPr/>
        </p:nvSpPr>
        <p:spPr>
          <a:xfrm>
            <a:off x="142272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7" name="Shape 4025"/>
          <p:cNvSpPr/>
          <p:nvPr/>
        </p:nvSpPr>
        <p:spPr>
          <a:xfrm>
            <a:off x="166147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8" name="Shape 4026"/>
          <p:cNvSpPr/>
          <p:nvPr/>
        </p:nvSpPr>
        <p:spPr>
          <a:xfrm>
            <a:off x="1780848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69" name="Shape 4027"/>
          <p:cNvSpPr/>
          <p:nvPr/>
        </p:nvSpPr>
        <p:spPr>
          <a:xfrm>
            <a:off x="201960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0" name="Shape 4028"/>
          <p:cNvSpPr/>
          <p:nvPr/>
        </p:nvSpPr>
        <p:spPr>
          <a:xfrm>
            <a:off x="190022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1" name="Shape 4029"/>
          <p:cNvSpPr/>
          <p:nvPr/>
        </p:nvSpPr>
        <p:spPr>
          <a:xfrm>
            <a:off x="213897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2" name="Shape 4030"/>
          <p:cNvSpPr/>
          <p:nvPr/>
        </p:nvSpPr>
        <p:spPr>
          <a:xfrm>
            <a:off x="22892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3" name="Shape 4031"/>
          <p:cNvSpPr/>
          <p:nvPr/>
        </p:nvSpPr>
        <p:spPr>
          <a:xfrm>
            <a:off x="34830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4" name="Shape 4032"/>
          <p:cNvSpPr/>
          <p:nvPr/>
        </p:nvSpPr>
        <p:spPr>
          <a:xfrm>
            <a:off x="58705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5" name="Shape 4033"/>
          <p:cNvSpPr/>
          <p:nvPr/>
        </p:nvSpPr>
        <p:spPr>
          <a:xfrm>
            <a:off x="46767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6" name="Shape 4034"/>
          <p:cNvSpPr/>
          <p:nvPr/>
        </p:nvSpPr>
        <p:spPr>
          <a:xfrm>
            <a:off x="706428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7" name="Shape 4035"/>
          <p:cNvSpPr/>
          <p:nvPr/>
        </p:nvSpPr>
        <p:spPr>
          <a:xfrm>
            <a:off x="82580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8" name="Shape 4036"/>
          <p:cNvSpPr/>
          <p:nvPr/>
        </p:nvSpPr>
        <p:spPr>
          <a:xfrm>
            <a:off x="106455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79" name="Shape 4037"/>
          <p:cNvSpPr/>
          <p:nvPr/>
        </p:nvSpPr>
        <p:spPr>
          <a:xfrm>
            <a:off x="94518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0" name="Shape 4038"/>
          <p:cNvSpPr/>
          <p:nvPr/>
        </p:nvSpPr>
        <p:spPr>
          <a:xfrm>
            <a:off x="118393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1" name="Shape 4039"/>
          <p:cNvSpPr/>
          <p:nvPr/>
        </p:nvSpPr>
        <p:spPr>
          <a:xfrm>
            <a:off x="130334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2" name="Shape 4040"/>
          <p:cNvSpPr/>
          <p:nvPr/>
        </p:nvSpPr>
        <p:spPr>
          <a:xfrm>
            <a:off x="154209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3" name="Shape 4041"/>
          <p:cNvSpPr/>
          <p:nvPr/>
        </p:nvSpPr>
        <p:spPr>
          <a:xfrm>
            <a:off x="142272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4" name="Shape 4042"/>
          <p:cNvSpPr/>
          <p:nvPr/>
        </p:nvSpPr>
        <p:spPr>
          <a:xfrm>
            <a:off x="166147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5" name="Shape 4043"/>
          <p:cNvSpPr/>
          <p:nvPr/>
        </p:nvSpPr>
        <p:spPr>
          <a:xfrm>
            <a:off x="1780848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6" name="Shape 4044"/>
          <p:cNvSpPr/>
          <p:nvPr/>
        </p:nvSpPr>
        <p:spPr>
          <a:xfrm>
            <a:off x="201960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7" name="Shape 4045"/>
          <p:cNvSpPr/>
          <p:nvPr/>
        </p:nvSpPr>
        <p:spPr>
          <a:xfrm>
            <a:off x="190022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8" name="Shape 4046"/>
          <p:cNvSpPr/>
          <p:nvPr/>
        </p:nvSpPr>
        <p:spPr>
          <a:xfrm>
            <a:off x="213897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89" name="Shape 4047"/>
          <p:cNvSpPr/>
          <p:nvPr/>
        </p:nvSpPr>
        <p:spPr>
          <a:xfrm>
            <a:off x="22892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690" name="Shape 4048"/>
          <p:cNvSpPr/>
          <p:nvPr/>
        </p:nvSpPr>
        <p:spPr>
          <a:xfrm>
            <a:off x="34830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91" name="Shape 4049"/>
          <p:cNvSpPr/>
          <p:nvPr/>
        </p:nvSpPr>
        <p:spPr>
          <a:xfrm>
            <a:off x="58705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92" name="Shape 4050"/>
          <p:cNvSpPr/>
          <p:nvPr/>
        </p:nvSpPr>
        <p:spPr>
          <a:xfrm>
            <a:off x="46767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93" name="Shape 4051"/>
          <p:cNvSpPr/>
          <p:nvPr/>
        </p:nvSpPr>
        <p:spPr>
          <a:xfrm>
            <a:off x="706428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94" name="Shape 4052"/>
          <p:cNvSpPr/>
          <p:nvPr/>
        </p:nvSpPr>
        <p:spPr>
          <a:xfrm>
            <a:off x="82580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95" name="Shape 4053"/>
          <p:cNvSpPr/>
          <p:nvPr/>
        </p:nvSpPr>
        <p:spPr>
          <a:xfrm>
            <a:off x="106455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96" name="Shape 4054"/>
          <p:cNvSpPr/>
          <p:nvPr/>
        </p:nvSpPr>
        <p:spPr>
          <a:xfrm>
            <a:off x="94518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97" name="Shape 4055"/>
          <p:cNvSpPr/>
          <p:nvPr/>
        </p:nvSpPr>
        <p:spPr>
          <a:xfrm>
            <a:off x="118393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698" name="Shape 4056"/>
          <p:cNvSpPr/>
          <p:nvPr/>
        </p:nvSpPr>
        <p:spPr>
          <a:xfrm>
            <a:off x="130334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699" name="Shape 4057"/>
          <p:cNvSpPr/>
          <p:nvPr/>
        </p:nvSpPr>
        <p:spPr>
          <a:xfrm>
            <a:off x="154209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0" name="Shape 4058"/>
          <p:cNvSpPr/>
          <p:nvPr/>
        </p:nvSpPr>
        <p:spPr>
          <a:xfrm>
            <a:off x="142272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1" name="Shape 4059"/>
          <p:cNvSpPr/>
          <p:nvPr/>
        </p:nvSpPr>
        <p:spPr>
          <a:xfrm>
            <a:off x="166147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2" name="Shape 4060"/>
          <p:cNvSpPr/>
          <p:nvPr/>
        </p:nvSpPr>
        <p:spPr>
          <a:xfrm>
            <a:off x="1780848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3" name="Shape 4061"/>
          <p:cNvSpPr/>
          <p:nvPr/>
        </p:nvSpPr>
        <p:spPr>
          <a:xfrm>
            <a:off x="201960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4" name="Shape 4062"/>
          <p:cNvSpPr/>
          <p:nvPr/>
        </p:nvSpPr>
        <p:spPr>
          <a:xfrm>
            <a:off x="190022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5" name="Shape 4063"/>
          <p:cNvSpPr/>
          <p:nvPr/>
        </p:nvSpPr>
        <p:spPr>
          <a:xfrm>
            <a:off x="213897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6" name="Shape 4064"/>
          <p:cNvSpPr/>
          <p:nvPr/>
        </p:nvSpPr>
        <p:spPr>
          <a:xfrm>
            <a:off x="22892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7" name="Shape 4065"/>
          <p:cNvSpPr/>
          <p:nvPr/>
        </p:nvSpPr>
        <p:spPr>
          <a:xfrm>
            <a:off x="34830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8" name="Shape 4066"/>
          <p:cNvSpPr/>
          <p:nvPr/>
        </p:nvSpPr>
        <p:spPr>
          <a:xfrm>
            <a:off x="58705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09" name="Shape 4067"/>
          <p:cNvSpPr/>
          <p:nvPr/>
        </p:nvSpPr>
        <p:spPr>
          <a:xfrm>
            <a:off x="46767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0" name="Shape 4068"/>
          <p:cNvSpPr/>
          <p:nvPr/>
        </p:nvSpPr>
        <p:spPr>
          <a:xfrm>
            <a:off x="706428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1" name="Shape 4069"/>
          <p:cNvSpPr/>
          <p:nvPr/>
        </p:nvSpPr>
        <p:spPr>
          <a:xfrm>
            <a:off x="82580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2" name="Shape 4070"/>
          <p:cNvSpPr/>
          <p:nvPr/>
        </p:nvSpPr>
        <p:spPr>
          <a:xfrm>
            <a:off x="106455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3" name="Shape 4071"/>
          <p:cNvSpPr/>
          <p:nvPr/>
        </p:nvSpPr>
        <p:spPr>
          <a:xfrm>
            <a:off x="94518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4" name="Shape 4072"/>
          <p:cNvSpPr/>
          <p:nvPr/>
        </p:nvSpPr>
        <p:spPr>
          <a:xfrm>
            <a:off x="118393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5" name="Shape 4073"/>
          <p:cNvSpPr/>
          <p:nvPr/>
        </p:nvSpPr>
        <p:spPr>
          <a:xfrm>
            <a:off x="130334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6" name="Shape 4074"/>
          <p:cNvSpPr/>
          <p:nvPr/>
        </p:nvSpPr>
        <p:spPr>
          <a:xfrm>
            <a:off x="154209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7" name="Shape 4075"/>
          <p:cNvSpPr/>
          <p:nvPr/>
        </p:nvSpPr>
        <p:spPr>
          <a:xfrm>
            <a:off x="142272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8" name="Shape 4076"/>
          <p:cNvSpPr/>
          <p:nvPr/>
        </p:nvSpPr>
        <p:spPr>
          <a:xfrm>
            <a:off x="166147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19" name="Shape 4077"/>
          <p:cNvSpPr/>
          <p:nvPr/>
        </p:nvSpPr>
        <p:spPr>
          <a:xfrm>
            <a:off x="1780848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0" name="Shape 4078"/>
          <p:cNvSpPr/>
          <p:nvPr/>
        </p:nvSpPr>
        <p:spPr>
          <a:xfrm>
            <a:off x="201960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1" name="Shape 4079"/>
          <p:cNvSpPr/>
          <p:nvPr/>
        </p:nvSpPr>
        <p:spPr>
          <a:xfrm>
            <a:off x="190022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2" name="Shape 4080"/>
          <p:cNvSpPr/>
          <p:nvPr/>
        </p:nvSpPr>
        <p:spPr>
          <a:xfrm>
            <a:off x="213897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3" name="Shape 4081"/>
          <p:cNvSpPr/>
          <p:nvPr/>
        </p:nvSpPr>
        <p:spPr>
          <a:xfrm>
            <a:off x="22892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4" name="Shape 4082"/>
          <p:cNvSpPr/>
          <p:nvPr/>
        </p:nvSpPr>
        <p:spPr>
          <a:xfrm>
            <a:off x="34830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5" name="Shape 4083"/>
          <p:cNvSpPr/>
          <p:nvPr/>
        </p:nvSpPr>
        <p:spPr>
          <a:xfrm>
            <a:off x="587052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6" name="Shape 4084"/>
          <p:cNvSpPr/>
          <p:nvPr/>
        </p:nvSpPr>
        <p:spPr>
          <a:xfrm>
            <a:off x="46767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7" name="Shape 4085"/>
          <p:cNvSpPr/>
          <p:nvPr/>
        </p:nvSpPr>
        <p:spPr>
          <a:xfrm>
            <a:off x="706428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728" name="Shape 4086"/>
          <p:cNvSpPr/>
          <p:nvPr/>
        </p:nvSpPr>
        <p:spPr>
          <a:xfrm>
            <a:off x="82580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29" name="Shape 4087"/>
          <p:cNvSpPr/>
          <p:nvPr/>
        </p:nvSpPr>
        <p:spPr>
          <a:xfrm>
            <a:off x="106455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0" name="Shape 4088"/>
          <p:cNvSpPr/>
          <p:nvPr/>
        </p:nvSpPr>
        <p:spPr>
          <a:xfrm>
            <a:off x="94518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1" name="Shape 4089"/>
          <p:cNvSpPr/>
          <p:nvPr/>
        </p:nvSpPr>
        <p:spPr>
          <a:xfrm>
            <a:off x="130334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2" name="Shape 4090"/>
          <p:cNvSpPr/>
          <p:nvPr/>
        </p:nvSpPr>
        <p:spPr>
          <a:xfrm>
            <a:off x="154209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3" name="Shape 4091"/>
          <p:cNvSpPr/>
          <p:nvPr/>
        </p:nvSpPr>
        <p:spPr>
          <a:xfrm>
            <a:off x="142272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4" name="Shape 4092"/>
          <p:cNvSpPr/>
          <p:nvPr/>
        </p:nvSpPr>
        <p:spPr>
          <a:xfrm>
            <a:off x="1661472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5" name="Shape 4093"/>
          <p:cNvSpPr/>
          <p:nvPr/>
        </p:nvSpPr>
        <p:spPr>
          <a:xfrm>
            <a:off x="1780848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6" name="Shape 4094"/>
          <p:cNvSpPr/>
          <p:nvPr/>
        </p:nvSpPr>
        <p:spPr>
          <a:xfrm>
            <a:off x="201960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7" name="Shape 4095"/>
          <p:cNvSpPr/>
          <p:nvPr/>
        </p:nvSpPr>
        <p:spPr>
          <a:xfrm>
            <a:off x="190022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8" name="Shape 4096"/>
          <p:cNvSpPr/>
          <p:nvPr/>
        </p:nvSpPr>
        <p:spPr>
          <a:xfrm>
            <a:off x="213897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39" name="Shape 4097"/>
          <p:cNvSpPr/>
          <p:nvPr/>
        </p:nvSpPr>
        <p:spPr>
          <a:xfrm>
            <a:off x="22892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40" name="Shape 4098"/>
          <p:cNvSpPr/>
          <p:nvPr/>
        </p:nvSpPr>
        <p:spPr>
          <a:xfrm>
            <a:off x="34830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41" name="Shape 4099"/>
          <p:cNvSpPr/>
          <p:nvPr/>
        </p:nvSpPr>
        <p:spPr>
          <a:xfrm>
            <a:off x="587052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42" name="Shape 4100"/>
          <p:cNvSpPr/>
          <p:nvPr/>
        </p:nvSpPr>
        <p:spPr>
          <a:xfrm>
            <a:off x="46767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43" name="Shape 4101"/>
          <p:cNvSpPr/>
          <p:nvPr/>
        </p:nvSpPr>
        <p:spPr>
          <a:xfrm>
            <a:off x="706428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44" name="Shape 4102"/>
          <p:cNvSpPr/>
          <p:nvPr/>
        </p:nvSpPr>
        <p:spPr>
          <a:xfrm>
            <a:off x="82580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745" name="Shape 4103"/>
          <p:cNvSpPr/>
          <p:nvPr/>
        </p:nvSpPr>
        <p:spPr>
          <a:xfrm>
            <a:off x="106455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46" name="Shape 4104"/>
          <p:cNvSpPr/>
          <p:nvPr/>
        </p:nvSpPr>
        <p:spPr>
          <a:xfrm>
            <a:off x="94518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747" name="Shape 4105"/>
          <p:cNvSpPr/>
          <p:nvPr/>
        </p:nvSpPr>
        <p:spPr>
          <a:xfrm>
            <a:off x="11839320" y="10111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48" name="Shape 4106"/>
          <p:cNvSpPr/>
          <p:nvPr/>
        </p:nvSpPr>
        <p:spPr>
          <a:xfrm>
            <a:off x="130334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49" name="Shape 4107"/>
          <p:cNvSpPr/>
          <p:nvPr/>
        </p:nvSpPr>
        <p:spPr>
          <a:xfrm>
            <a:off x="154209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0" name="Shape 4108"/>
          <p:cNvSpPr/>
          <p:nvPr/>
        </p:nvSpPr>
        <p:spPr>
          <a:xfrm>
            <a:off x="142272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1" name="Shape 4109"/>
          <p:cNvSpPr/>
          <p:nvPr/>
        </p:nvSpPr>
        <p:spPr>
          <a:xfrm>
            <a:off x="1661472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2" name="Shape 4110"/>
          <p:cNvSpPr/>
          <p:nvPr/>
        </p:nvSpPr>
        <p:spPr>
          <a:xfrm>
            <a:off x="1780848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3" name="Shape 4111"/>
          <p:cNvSpPr/>
          <p:nvPr/>
        </p:nvSpPr>
        <p:spPr>
          <a:xfrm>
            <a:off x="201960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4" name="Shape 4112"/>
          <p:cNvSpPr/>
          <p:nvPr/>
        </p:nvSpPr>
        <p:spPr>
          <a:xfrm>
            <a:off x="190022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5" name="Shape 4113"/>
          <p:cNvSpPr/>
          <p:nvPr/>
        </p:nvSpPr>
        <p:spPr>
          <a:xfrm>
            <a:off x="213897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6" name="Shape 4114"/>
          <p:cNvSpPr/>
          <p:nvPr/>
        </p:nvSpPr>
        <p:spPr>
          <a:xfrm>
            <a:off x="22892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7" name="Shape 4115"/>
          <p:cNvSpPr/>
          <p:nvPr/>
        </p:nvSpPr>
        <p:spPr>
          <a:xfrm>
            <a:off x="34830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8" name="Shape 4116"/>
          <p:cNvSpPr/>
          <p:nvPr/>
        </p:nvSpPr>
        <p:spPr>
          <a:xfrm>
            <a:off x="58705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59" name="Shape 4117"/>
          <p:cNvSpPr/>
          <p:nvPr/>
        </p:nvSpPr>
        <p:spPr>
          <a:xfrm>
            <a:off x="46767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0" name="Shape 4118"/>
          <p:cNvSpPr/>
          <p:nvPr/>
        </p:nvSpPr>
        <p:spPr>
          <a:xfrm>
            <a:off x="706428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1" name="Shape 4119"/>
          <p:cNvSpPr/>
          <p:nvPr/>
        </p:nvSpPr>
        <p:spPr>
          <a:xfrm>
            <a:off x="82580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2" name="Shape 4120"/>
          <p:cNvSpPr/>
          <p:nvPr/>
        </p:nvSpPr>
        <p:spPr>
          <a:xfrm>
            <a:off x="106455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3" name="Shape 4121"/>
          <p:cNvSpPr/>
          <p:nvPr/>
        </p:nvSpPr>
        <p:spPr>
          <a:xfrm>
            <a:off x="94518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764" name="Shape 4122"/>
          <p:cNvSpPr/>
          <p:nvPr/>
        </p:nvSpPr>
        <p:spPr>
          <a:xfrm>
            <a:off x="118393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5" name="Shape 4123"/>
          <p:cNvSpPr/>
          <p:nvPr/>
        </p:nvSpPr>
        <p:spPr>
          <a:xfrm>
            <a:off x="130334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6" name="Shape 4124"/>
          <p:cNvSpPr/>
          <p:nvPr/>
        </p:nvSpPr>
        <p:spPr>
          <a:xfrm>
            <a:off x="154209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7" name="Shape 4125"/>
          <p:cNvSpPr/>
          <p:nvPr/>
        </p:nvSpPr>
        <p:spPr>
          <a:xfrm>
            <a:off x="142272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8" name="Shape 4126"/>
          <p:cNvSpPr/>
          <p:nvPr/>
        </p:nvSpPr>
        <p:spPr>
          <a:xfrm>
            <a:off x="166147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69" name="Shape 4127"/>
          <p:cNvSpPr/>
          <p:nvPr/>
        </p:nvSpPr>
        <p:spPr>
          <a:xfrm>
            <a:off x="1780848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0" name="Shape 4128"/>
          <p:cNvSpPr/>
          <p:nvPr/>
        </p:nvSpPr>
        <p:spPr>
          <a:xfrm>
            <a:off x="201960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1" name="Shape 4129"/>
          <p:cNvSpPr/>
          <p:nvPr/>
        </p:nvSpPr>
        <p:spPr>
          <a:xfrm>
            <a:off x="190022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2" name="Shape 4130"/>
          <p:cNvSpPr/>
          <p:nvPr/>
        </p:nvSpPr>
        <p:spPr>
          <a:xfrm>
            <a:off x="213897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3" name="Shape 4131"/>
          <p:cNvSpPr/>
          <p:nvPr/>
        </p:nvSpPr>
        <p:spPr>
          <a:xfrm>
            <a:off x="11785680" y="89006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4" name="PlaceHolder 1"/>
          <p:cNvSpPr>
            <a:spLocks noGrp="1"/>
          </p:cNvSpPr>
          <p:nvPr>
            <p:ph type="sldNum" idx="128"/>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5C5D6212-1B24-496C-8EB0-9DCD0D01A07F}"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5" name="Shape 4134"/>
          <p:cNvSpPr/>
          <p:nvPr/>
        </p:nvSpPr>
        <p:spPr>
          <a:xfrm>
            <a:off x="22892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6" name="Shape 4135"/>
          <p:cNvSpPr/>
          <p:nvPr/>
        </p:nvSpPr>
        <p:spPr>
          <a:xfrm>
            <a:off x="34830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7" name="Shape 4136"/>
          <p:cNvSpPr/>
          <p:nvPr/>
        </p:nvSpPr>
        <p:spPr>
          <a:xfrm>
            <a:off x="587052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8" name="Shape 4137"/>
          <p:cNvSpPr/>
          <p:nvPr/>
        </p:nvSpPr>
        <p:spPr>
          <a:xfrm>
            <a:off x="46767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79" name="Shape 4138"/>
          <p:cNvSpPr/>
          <p:nvPr/>
        </p:nvSpPr>
        <p:spPr>
          <a:xfrm>
            <a:off x="706428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0" name="Shape 4139"/>
          <p:cNvSpPr/>
          <p:nvPr/>
        </p:nvSpPr>
        <p:spPr>
          <a:xfrm>
            <a:off x="82580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1" name="Shape 4140"/>
          <p:cNvSpPr/>
          <p:nvPr/>
        </p:nvSpPr>
        <p:spPr>
          <a:xfrm>
            <a:off x="106455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2" name="Shape 4141"/>
          <p:cNvSpPr/>
          <p:nvPr/>
        </p:nvSpPr>
        <p:spPr>
          <a:xfrm>
            <a:off x="94518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3" name="Shape 4142"/>
          <p:cNvSpPr/>
          <p:nvPr/>
        </p:nvSpPr>
        <p:spPr>
          <a:xfrm>
            <a:off x="11839320" y="17550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4" name="Shape 4143"/>
          <p:cNvSpPr/>
          <p:nvPr/>
        </p:nvSpPr>
        <p:spPr>
          <a:xfrm>
            <a:off x="130334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5" name="Shape 4144"/>
          <p:cNvSpPr/>
          <p:nvPr/>
        </p:nvSpPr>
        <p:spPr>
          <a:xfrm>
            <a:off x="154209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6" name="Shape 4145"/>
          <p:cNvSpPr/>
          <p:nvPr/>
        </p:nvSpPr>
        <p:spPr>
          <a:xfrm>
            <a:off x="142272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7" name="Shape 4146"/>
          <p:cNvSpPr/>
          <p:nvPr/>
        </p:nvSpPr>
        <p:spPr>
          <a:xfrm>
            <a:off x="1661472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8" name="Shape 4147"/>
          <p:cNvSpPr/>
          <p:nvPr/>
        </p:nvSpPr>
        <p:spPr>
          <a:xfrm>
            <a:off x="1780848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89" name="Shape 4148"/>
          <p:cNvSpPr/>
          <p:nvPr/>
        </p:nvSpPr>
        <p:spPr>
          <a:xfrm>
            <a:off x="2019600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0" name="Shape 4149"/>
          <p:cNvSpPr/>
          <p:nvPr/>
        </p:nvSpPr>
        <p:spPr>
          <a:xfrm>
            <a:off x="1900224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1" name="Shape 4150"/>
          <p:cNvSpPr/>
          <p:nvPr/>
        </p:nvSpPr>
        <p:spPr>
          <a:xfrm>
            <a:off x="21389760" y="1771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2" name="Shape 4151"/>
          <p:cNvSpPr/>
          <p:nvPr/>
        </p:nvSpPr>
        <p:spPr>
          <a:xfrm>
            <a:off x="22892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3" name="Shape 4152"/>
          <p:cNvSpPr/>
          <p:nvPr/>
        </p:nvSpPr>
        <p:spPr>
          <a:xfrm>
            <a:off x="34830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4" name="Shape 4153"/>
          <p:cNvSpPr/>
          <p:nvPr/>
        </p:nvSpPr>
        <p:spPr>
          <a:xfrm>
            <a:off x="58705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795" name="Shape 4154"/>
          <p:cNvSpPr/>
          <p:nvPr/>
        </p:nvSpPr>
        <p:spPr>
          <a:xfrm>
            <a:off x="46767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6" name="Shape 4155"/>
          <p:cNvSpPr/>
          <p:nvPr/>
        </p:nvSpPr>
        <p:spPr>
          <a:xfrm>
            <a:off x="706428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7" name="Shape 4156"/>
          <p:cNvSpPr/>
          <p:nvPr/>
        </p:nvSpPr>
        <p:spPr>
          <a:xfrm>
            <a:off x="82580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8" name="Shape 4157"/>
          <p:cNvSpPr/>
          <p:nvPr/>
        </p:nvSpPr>
        <p:spPr>
          <a:xfrm>
            <a:off x="106455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799" name="Shape 4158"/>
          <p:cNvSpPr/>
          <p:nvPr/>
        </p:nvSpPr>
        <p:spPr>
          <a:xfrm>
            <a:off x="94518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0" name="Shape 4159"/>
          <p:cNvSpPr/>
          <p:nvPr/>
        </p:nvSpPr>
        <p:spPr>
          <a:xfrm>
            <a:off x="118393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1" name="Shape 4160"/>
          <p:cNvSpPr/>
          <p:nvPr/>
        </p:nvSpPr>
        <p:spPr>
          <a:xfrm>
            <a:off x="130334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2" name="Shape 4161"/>
          <p:cNvSpPr/>
          <p:nvPr/>
        </p:nvSpPr>
        <p:spPr>
          <a:xfrm>
            <a:off x="154209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3" name="Shape 4162"/>
          <p:cNvSpPr/>
          <p:nvPr/>
        </p:nvSpPr>
        <p:spPr>
          <a:xfrm>
            <a:off x="142272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04" name="Shape 4163"/>
          <p:cNvSpPr/>
          <p:nvPr/>
        </p:nvSpPr>
        <p:spPr>
          <a:xfrm>
            <a:off x="1661472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5" name="Shape 4164"/>
          <p:cNvSpPr/>
          <p:nvPr/>
        </p:nvSpPr>
        <p:spPr>
          <a:xfrm>
            <a:off x="1780848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6" name="Shape 4165"/>
          <p:cNvSpPr/>
          <p:nvPr/>
        </p:nvSpPr>
        <p:spPr>
          <a:xfrm>
            <a:off x="2019600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7" name="Shape 4166"/>
          <p:cNvSpPr/>
          <p:nvPr/>
        </p:nvSpPr>
        <p:spPr>
          <a:xfrm>
            <a:off x="1900224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8" name="Shape 4167"/>
          <p:cNvSpPr/>
          <p:nvPr/>
        </p:nvSpPr>
        <p:spPr>
          <a:xfrm>
            <a:off x="21389760" y="29656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09" name="Shape 4168"/>
          <p:cNvSpPr/>
          <p:nvPr/>
        </p:nvSpPr>
        <p:spPr>
          <a:xfrm>
            <a:off x="22892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0" name="Shape 4169"/>
          <p:cNvSpPr/>
          <p:nvPr/>
        </p:nvSpPr>
        <p:spPr>
          <a:xfrm>
            <a:off x="34830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1" name="Shape 4170"/>
          <p:cNvSpPr/>
          <p:nvPr/>
        </p:nvSpPr>
        <p:spPr>
          <a:xfrm>
            <a:off x="58705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2" name="Shape 4171"/>
          <p:cNvSpPr/>
          <p:nvPr/>
        </p:nvSpPr>
        <p:spPr>
          <a:xfrm>
            <a:off x="46767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3" name="Shape 4172"/>
          <p:cNvSpPr/>
          <p:nvPr/>
        </p:nvSpPr>
        <p:spPr>
          <a:xfrm>
            <a:off x="706428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4" name="Shape 4173"/>
          <p:cNvSpPr/>
          <p:nvPr/>
        </p:nvSpPr>
        <p:spPr>
          <a:xfrm>
            <a:off x="82580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5" name="Shape 4174"/>
          <p:cNvSpPr/>
          <p:nvPr/>
        </p:nvSpPr>
        <p:spPr>
          <a:xfrm>
            <a:off x="106455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6" name="Shape 4175"/>
          <p:cNvSpPr/>
          <p:nvPr/>
        </p:nvSpPr>
        <p:spPr>
          <a:xfrm>
            <a:off x="94518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7" name="Shape 4176"/>
          <p:cNvSpPr/>
          <p:nvPr/>
        </p:nvSpPr>
        <p:spPr>
          <a:xfrm>
            <a:off x="118393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18" name="Shape 4177"/>
          <p:cNvSpPr/>
          <p:nvPr/>
        </p:nvSpPr>
        <p:spPr>
          <a:xfrm>
            <a:off x="130334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19" name="Shape 4178"/>
          <p:cNvSpPr/>
          <p:nvPr/>
        </p:nvSpPr>
        <p:spPr>
          <a:xfrm>
            <a:off x="154209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20" name="Shape 4179"/>
          <p:cNvSpPr/>
          <p:nvPr/>
        </p:nvSpPr>
        <p:spPr>
          <a:xfrm>
            <a:off x="142272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21" name="Shape 4180"/>
          <p:cNvSpPr/>
          <p:nvPr/>
        </p:nvSpPr>
        <p:spPr>
          <a:xfrm>
            <a:off x="1661472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22" name="Shape 4181"/>
          <p:cNvSpPr/>
          <p:nvPr/>
        </p:nvSpPr>
        <p:spPr>
          <a:xfrm>
            <a:off x="1780848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23" name="Shape 4182"/>
          <p:cNvSpPr/>
          <p:nvPr/>
        </p:nvSpPr>
        <p:spPr>
          <a:xfrm>
            <a:off x="2019600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24" name="Shape 4183"/>
          <p:cNvSpPr/>
          <p:nvPr/>
        </p:nvSpPr>
        <p:spPr>
          <a:xfrm>
            <a:off x="1900224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25" name="Shape 4184"/>
          <p:cNvSpPr/>
          <p:nvPr/>
        </p:nvSpPr>
        <p:spPr>
          <a:xfrm>
            <a:off x="21389760" y="41594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26" name="Shape 4185"/>
          <p:cNvSpPr/>
          <p:nvPr/>
        </p:nvSpPr>
        <p:spPr>
          <a:xfrm>
            <a:off x="22892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27" name="Shape 4186"/>
          <p:cNvSpPr/>
          <p:nvPr/>
        </p:nvSpPr>
        <p:spPr>
          <a:xfrm>
            <a:off x="34830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28" name="Shape 4187"/>
          <p:cNvSpPr/>
          <p:nvPr/>
        </p:nvSpPr>
        <p:spPr>
          <a:xfrm>
            <a:off x="58705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29" name="Shape 4188"/>
          <p:cNvSpPr/>
          <p:nvPr/>
        </p:nvSpPr>
        <p:spPr>
          <a:xfrm>
            <a:off x="46767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0" name="Shape 4189"/>
          <p:cNvSpPr/>
          <p:nvPr/>
        </p:nvSpPr>
        <p:spPr>
          <a:xfrm>
            <a:off x="706428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1" name="Shape 4190"/>
          <p:cNvSpPr/>
          <p:nvPr/>
        </p:nvSpPr>
        <p:spPr>
          <a:xfrm>
            <a:off x="82580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2" name="Shape 4191"/>
          <p:cNvSpPr/>
          <p:nvPr/>
        </p:nvSpPr>
        <p:spPr>
          <a:xfrm>
            <a:off x="106455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3" name="Shape 4192"/>
          <p:cNvSpPr/>
          <p:nvPr/>
        </p:nvSpPr>
        <p:spPr>
          <a:xfrm>
            <a:off x="94518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4" name="Shape 4193"/>
          <p:cNvSpPr/>
          <p:nvPr/>
        </p:nvSpPr>
        <p:spPr>
          <a:xfrm>
            <a:off x="118393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5" name="Shape 4194"/>
          <p:cNvSpPr/>
          <p:nvPr/>
        </p:nvSpPr>
        <p:spPr>
          <a:xfrm>
            <a:off x="130334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6" name="Shape 4195"/>
          <p:cNvSpPr/>
          <p:nvPr/>
        </p:nvSpPr>
        <p:spPr>
          <a:xfrm>
            <a:off x="154209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7" name="Shape 4196"/>
          <p:cNvSpPr/>
          <p:nvPr/>
        </p:nvSpPr>
        <p:spPr>
          <a:xfrm>
            <a:off x="142272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8" name="Shape 4197"/>
          <p:cNvSpPr/>
          <p:nvPr/>
        </p:nvSpPr>
        <p:spPr>
          <a:xfrm>
            <a:off x="1661472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39" name="Shape 4198"/>
          <p:cNvSpPr/>
          <p:nvPr/>
        </p:nvSpPr>
        <p:spPr>
          <a:xfrm>
            <a:off x="1780848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0" name="Shape 4199"/>
          <p:cNvSpPr/>
          <p:nvPr/>
        </p:nvSpPr>
        <p:spPr>
          <a:xfrm>
            <a:off x="2019600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1" name="Shape 4200"/>
          <p:cNvSpPr/>
          <p:nvPr/>
        </p:nvSpPr>
        <p:spPr>
          <a:xfrm>
            <a:off x="1900224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2" name="Shape 4201"/>
          <p:cNvSpPr/>
          <p:nvPr/>
        </p:nvSpPr>
        <p:spPr>
          <a:xfrm>
            <a:off x="21389760" y="5353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3" name="Shape 4202"/>
          <p:cNvSpPr/>
          <p:nvPr/>
        </p:nvSpPr>
        <p:spPr>
          <a:xfrm>
            <a:off x="22892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4" name="Shape 4203"/>
          <p:cNvSpPr/>
          <p:nvPr/>
        </p:nvSpPr>
        <p:spPr>
          <a:xfrm>
            <a:off x="34830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5" name="Shape 4204"/>
          <p:cNvSpPr/>
          <p:nvPr/>
        </p:nvSpPr>
        <p:spPr>
          <a:xfrm>
            <a:off x="58705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46" name="Shape 4205"/>
          <p:cNvSpPr/>
          <p:nvPr/>
        </p:nvSpPr>
        <p:spPr>
          <a:xfrm>
            <a:off x="46767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7" name="Shape 4206"/>
          <p:cNvSpPr/>
          <p:nvPr/>
        </p:nvSpPr>
        <p:spPr>
          <a:xfrm>
            <a:off x="706428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8" name="Shape 4207"/>
          <p:cNvSpPr/>
          <p:nvPr/>
        </p:nvSpPr>
        <p:spPr>
          <a:xfrm>
            <a:off x="82580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49" name="Shape 4208"/>
          <p:cNvSpPr/>
          <p:nvPr/>
        </p:nvSpPr>
        <p:spPr>
          <a:xfrm>
            <a:off x="106455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0" name="Shape 4209"/>
          <p:cNvSpPr/>
          <p:nvPr/>
        </p:nvSpPr>
        <p:spPr>
          <a:xfrm>
            <a:off x="94518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1" name="Shape 4210"/>
          <p:cNvSpPr/>
          <p:nvPr/>
        </p:nvSpPr>
        <p:spPr>
          <a:xfrm>
            <a:off x="118393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2" name="Shape 4211"/>
          <p:cNvSpPr/>
          <p:nvPr/>
        </p:nvSpPr>
        <p:spPr>
          <a:xfrm>
            <a:off x="130334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3" name="Shape 4212"/>
          <p:cNvSpPr/>
          <p:nvPr/>
        </p:nvSpPr>
        <p:spPr>
          <a:xfrm>
            <a:off x="154209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4" name="Shape 4213"/>
          <p:cNvSpPr/>
          <p:nvPr/>
        </p:nvSpPr>
        <p:spPr>
          <a:xfrm>
            <a:off x="142272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5" name="Shape 4214"/>
          <p:cNvSpPr/>
          <p:nvPr/>
        </p:nvSpPr>
        <p:spPr>
          <a:xfrm>
            <a:off x="1661472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6" name="Shape 4215"/>
          <p:cNvSpPr/>
          <p:nvPr/>
        </p:nvSpPr>
        <p:spPr>
          <a:xfrm>
            <a:off x="1780848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7" name="Shape 4216"/>
          <p:cNvSpPr/>
          <p:nvPr/>
        </p:nvSpPr>
        <p:spPr>
          <a:xfrm>
            <a:off x="2019600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8" name="Shape 4217"/>
          <p:cNvSpPr/>
          <p:nvPr/>
        </p:nvSpPr>
        <p:spPr>
          <a:xfrm>
            <a:off x="1900224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59" name="Shape 4218"/>
          <p:cNvSpPr/>
          <p:nvPr/>
        </p:nvSpPr>
        <p:spPr>
          <a:xfrm>
            <a:off x="21389760" y="65469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0" name="Shape 4219"/>
          <p:cNvSpPr/>
          <p:nvPr/>
        </p:nvSpPr>
        <p:spPr>
          <a:xfrm>
            <a:off x="22892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1" name="Shape 4220"/>
          <p:cNvSpPr/>
          <p:nvPr/>
        </p:nvSpPr>
        <p:spPr>
          <a:xfrm>
            <a:off x="34830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2" name="Shape 4221"/>
          <p:cNvSpPr/>
          <p:nvPr/>
        </p:nvSpPr>
        <p:spPr>
          <a:xfrm>
            <a:off x="58705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3" name="Shape 4222"/>
          <p:cNvSpPr/>
          <p:nvPr/>
        </p:nvSpPr>
        <p:spPr>
          <a:xfrm>
            <a:off x="46767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4" name="Shape 4223"/>
          <p:cNvSpPr/>
          <p:nvPr/>
        </p:nvSpPr>
        <p:spPr>
          <a:xfrm>
            <a:off x="706428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5" name="Shape 4224"/>
          <p:cNvSpPr/>
          <p:nvPr/>
        </p:nvSpPr>
        <p:spPr>
          <a:xfrm>
            <a:off x="82580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6" name="Shape 4225"/>
          <p:cNvSpPr/>
          <p:nvPr/>
        </p:nvSpPr>
        <p:spPr>
          <a:xfrm>
            <a:off x="106455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7" name="Shape 4226"/>
          <p:cNvSpPr/>
          <p:nvPr/>
        </p:nvSpPr>
        <p:spPr>
          <a:xfrm>
            <a:off x="94518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68" name="Shape 4227"/>
          <p:cNvSpPr/>
          <p:nvPr/>
        </p:nvSpPr>
        <p:spPr>
          <a:xfrm>
            <a:off x="118393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69" name="Shape 4228"/>
          <p:cNvSpPr/>
          <p:nvPr/>
        </p:nvSpPr>
        <p:spPr>
          <a:xfrm>
            <a:off x="130334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0" name="Shape 4229"/>
          <p:cNvSpPr/>
          <p:nvPr/>
        </p:nvSpPr>
        <p:spPr>
          <a:xfrm>
            <a:off x="154209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1" name="Shape 4230"/>
          <p:cNvSpPr/>
          <p:nvPr/>
        </p:nvSpPr>
        <p:spPr>
          <a:xfrm>
            <a:off x="142272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2" name="Shape 4231"/>
          <p:cNvSpPr/>
          <p:nvPr/>
        </p:nvSpPr>
        <p:spPr>
          <a:xfrm>
            <a:off x="1661472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3" name="Shape 4232"/>
          <p:cNvSpPr/>
          <p:nvPr/>
        </p:nvSpPr>
        <p:spPr>
          <a:xfrm>
            <a:off x="1780848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4" name="Shape 4233"/>
          <p:cNvSpPr/>
          <p:nvPr/>
        </p:nvSpPr>
        <p:spPr>
          <a:xfrm>
            <a:off x="2019600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5" name="Shape 4234"/>
          <p:cNvSpPr/>
          <p:nvPr/>
        </p:nvSpPr>
        <p:spPr>
          <a:xfrm>
            <a:off x="1900224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6" name="Shape 4235"/>
          <p:cNvSpPr/>
          <p:nvPr/>
        </p:nvSpPr>
        <p:spPr>
          <a:xfrm>
            <a:off x="21389760" y="77407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7" name="Shape 4236"/>
          <p:cNvSpPr/>
          <p:nvPr/>
        </p:nvSpPr>
        <p:spPr>
          <a:xfrm>
            <a:off x="22892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8" name="Shape 4237"/>
          <p:cNvSpPr/>
          <p:nvPr/>
        </p:nvSpPr>
        <p:spPr>
          <a:xfrm>
            <a:off x="34830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79" name="Shape 4238"/>
          <p:cNvSpPr/>
          <p:nvPr/>
        </p:nvSpPr>
        <p:spPr>
          <a:xfrm>
            <a:off x="587052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80" name="Shape 4239"/>
          <p:cNvSpPr/>
          <p:nvPr/>
        </p:nvSpPr>
        <p:spPr>
          <a:xfrm>
            <a:off x="46767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1" name="Shape 4240"/>
          <p:cNvSpPr/>
          <p:nvPr/>
        </p:nvSpPr>
        <p:spPr>
          <a:xfrm>
            <a:off x="706428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2" name="Shape 4241"/>
          <p:cNvSpPr/>
          <p:nvPr/>
        </p:nvSpPr>
        <p:spPr>
          <a:xfrm>
            <a:off x="82580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3" name="Shape 4242"/>
          <p:cNvSpPr/>
          <p:nvPr/>
        </p:nvSpPr>
        <p:spPr>
          <a:xfrm>
            <a:off x="106455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4" name="Shape 4243"/>
          <p:cNvSpPr/>
          <p:nvPr/>
        </p:nvSpPr>
        <p:spPr>
          <a:xfrm>
            <a:off x="94518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5" name="Shape 4244"/>
          <p:cNvSpPr/>
          <p:nvPr/>
        </p:nvSpPr>
        <p:spPr>
          <a:xfrm>
            <a:off x="1183932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6" name="Shape 4245"/>
          <p:cNvSpPr/>
          <p:nvPr/>
        </p:nvSpPr>
        <p:spPr>
          <a:xfrm>
            <a:off x="130334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7" name="Shape 4246"/>
          <p:cNvSpPr/>
          <p:nvPr/>
        </p:nvSpPr>
        <p:spPr>
          <a:xfrm>
            <a:off x="154209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8" name="Shape 4247"/>
          <p:cNvSpPr/>
          <p:nvPr/>
        </p:nvSpPr>
        <p:spPr>
          <a:xfrm>
            <a:off x="142272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89" name="Shape 4248"/>
          <p:cNvSpPr/>
          <p:nvPr/>
        </p:nvSpPr>
        <p:spPr>
          <a:xfrm>
            <a:off x="1661472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90" name="Shape 4249"/>
          <p:cNvSpPr/>
          <p:nvPr/>
        </p:nvSpPr>
        <p:spPr>
          <a:xfrm>
            <a:off x="1780848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91" name="Shape 4250"/>
          <p:cNvSpPr/>
          <p:nvPr/>
        </p:nvSpPr>
        <p:spPr>
          <a:xfrm>
            <a:off x="2019600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92" name="Shape 4251"/>
          <p:cNvSpPr/>
          <p:nvPr/>
        </p:nvSpPr>
        <p:spPr>
          <a:xfrm>
            <a:off x="1900224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93" name="Shape 4252"/>
          <p:cNvSpPr/>
          <p:nvPr/>
        </p:nvSpPr>
        <p:spPr>
          <a:xfrm>
            <a:off x="21389760" y="89344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894" name="Shape 4253"/>
          <p:cNvSpPr/>
          <p:nvPr/>
        </p:nvSpPr>
        <p:spPr>
          <a:xfrm>
            <a:off x="22892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95" name="Shape 4254"/>
          <p:cNvSpPr/>
          <p:nvPr/>
        </p:nvSpPr>
        <p:spPr>
          <a:xfrm>
            <a:off x="34830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96" name="Shape 4255"/>
          <p:cNvSpPr/>
          <p:nvPr/>
        </p:nvSpPr>
        <p:spPr>
          <a:xfrm>
            <a:off x="587052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97" name="Shape 4256"/>
          <p:cNvSpPr/>
          <p:nvPr/>
        </p:nvSpPr>
        <p:spPr>
          <a:xfrm>
            <a:off x="46767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98" name="Shape 4257"/>
          <p:cNvSpPr/>
          <p:nvPr/>
        </p:nvSpPr>
        <p:spPr>
          <a:xfrm>
            <a:off x="706428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899" name="Shape 4258"/>
          <p:cNvSpPr/>
          <p:nvPr/>
        </p:nvSpPr>
        <p:spPr>
          <a:xfrm>
            <a:off x="82580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0" name="Shape 4259"/>
          <p:cNvSpPr/>
          <p:nvPr/>
        </p:nvSpPr>
        <p:spPr>
          <a:xfrm>
            <a:off x="106455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1" name="Shape 4260"/>
          <p:cNvSpPr/>
          <p:nvPr/>
        </p:nvSpPr>
        <p:spPr>
          <a:xfrm>
            <a:off x="94518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902" name="Shape 4261"/>
          <p:cNvSpPr/>
          <p:nvPr/>
        </p:nvSpPr>
        <p:spPr>
          <a:xfrm>
            <a:off x="1183932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3" name="Shape 4262"/>
          <p:cNvSpPr/>
          <p:nvPr/>
        </p:nvSpPr>
        <p:spPr>
          <a:xfrm>
            <a:off x="130334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4" name="Shape 4263"/>
          <p:cNvSpPr/>
          <p:nvPr/>
        </p:nvSpPr>
        <p:spPr>
          <a:xfrm>
            <a:off x="154209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5" name="Shape 4264"/>
          <p:cNvSpPr/>
          <p:nvPr/>
        </p:nvSpPr>
        <p:spPr>
          <a:xfrm>
            <a:off x="142272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6" name="Shape 4265"/>
          <p:cNvSpPr/>
          <p:nvPr/>
        </p:nvSpPr>
        <p:spPr>
          <a:xfrm>
            <a:off x="1661472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7" name="Shape 4266"/>
          <p:cNvSpPr/>
          <p:nvPr/>
        </p:nvSpPr>
        <p:spPr>
          <a:xfrm>
            <a:off x="1780848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8" name="Shape 4267"/>
          <p:cNvSpPr/>
          <p:nvPr/>
        </p:nvSpPr>
        <p:spPr>
          <a:xfrm>
            <a:off x="2019600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09" name="Shape 4268"/>
          <p:cNvSpPr/>
          <p:nvPr/>
        </p:nvSpPr>
        <p:spPr>
          <a:xfrm>
            <a:off x="1900224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0" name="Shape 4269"/>
          <p:cNvSpPr/>
          <p:nvPr/>
        </p:nvSpPr>
        <p:spPr>
          <a:xfrm>
            <a:off x="21389760" y="101286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1" name="Shape 4270"/>
          <p:cNvSpPr/>
          <p:nvPr/>
        </p:nvSpPr>
        <p:spPr>
          <a:xfrm>
            <a:off x="22892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2" name="Shape 4271"/>
          <p:cNvSpPr/>
          <p:nvPr/>
        </p:nvSpPr>
        <p:spPr>
          <a:xfrm>
            <a:off x="34830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3" name="Shape 4272"/>
          <p:cNvSpPr/>
          <p:nvPr/>
        </p:nvSpPr>
        <p:spPr>
          <a:xfrm>
            <a:off x="58705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4" name="Shape 4273"/>
          <p:cNvSpPr/>
          <p:nvPr/>
        </p:nvSpPr>
        <p:spPr>
          <a:xfrm>
            <a:off x="46767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5" name="Shape 4274"/>
          <p:cNvSpPr/>
          <p:nvPr/>
        </p:nvSpPr>
        <p:spPr>
          <a:xfrm>
            <a:off x="706428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6" name="Shape 4275"/>
          <p:cNvSpPr/>
          <p:nvPr/>
        </p:nvSpPr>
        <p:spPr>
          <a:xfrm>
            <a:off x="82580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7" name="Shape 4276"/>
          <p:cNvSpPr/>
          <p:nvPr/>
        </p:nvSpPr>
        <p:spPr>
          <a:xfrm>
            <a:off x="106455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8" name="Shape 4277"/>
          <p:cNvSpPr/>
          <p:nvPr/>
        </p:nvSpPr>
        <p:spPr>
          <a:xfrm>
            <a:off x="94518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19" name="Shape 4278"/>
          <p:cNvSpPr/>
          <p:nvPr/>
        </p:nvSpPr>
        <p:spPr>
          <a:xfrm>
            <a:off x="118393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20" name="Shape 4279"/>
          <p:cNvSpPr/>
          <p:nvPr/>
        </p:nvSpPr>
        <p:spPr>
          <a:xfrm>
            <a:off x="130334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21" name="Shape 4280"/>
          <p:cNvSpPr/>
          <p:nvPr/>
        </p:nvSpPr>
        <p:spPr>
          <a:xfrm>
            <a:off x="154209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22" name="Shape 4281"/>
          <p:cNvSpPr/>
          <p:nvPr/>
        </p:nvSpPr>
        <p:spPr>
          <a:xfrm>
            <a:off x="142272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23" name="Shape 4282"/>
          <p:cNvSpPr/>
          <p:nvPr/>
        </p:nvSpPr>
        <p:spPr>
          <a:xfrm>
            <a:off x="1661472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24" name="Shape 4283"/>
          <p:cNvSpPr/>
          <p:nvPr/>
        </p:nvSpPr>
        <p:spPr>
          <a:xfrm>
            <a:off x="2019600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25" name="Shape 4284"/>
          <p:cNvSpPr/>
          <p:nvPr/>
        </p:nvSpPr>
        <p:spPr>
          <a:xfrm>
            <a:off x="1900224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26" name="Shape 4285"/>
          <p:cNvSpPr/>
          <p:nvPr/>
        </p:nvSpPr>
        <p:spPr>
          <a:xfrm>
            <a:off x="21389760" y="113223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212121"/>
                </a:solidFill>
                <a:latin typeface="FontAwesome"/>
                <a:ea typeface="FontAwesome"/>
              </a:rPr>
              <a:t></a:t>
            </a:r>
            <a:endParaRPr b="0" lang="en-US" sz="3200" spc="-1" strike="noStrike">
              <a:solidFill>
                <a:srgbClr val="000000"/>
              </a:solidFill>
              <a:latin typeface="Arial"/>
            </a:endParaRPr>
          </a:p>
        </p:txBody>
      </p:sp>
      <p:sp>
        <p:nvSpPr>
          <p:cNvPr id="6927" name="Shape 4286"/>
          <p:cNvSpPr/>
          <p:nvPr/>
        </p:nvSpPr>
        <p:spPr>
          <a:xfrm>
            <a:off x="17808480" y="1127628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3200" spc="-1" strike="noStrike">
                <a:solidFill>
                  <a:srgbClr val="323333"/>
                </a:solidFill>
                <a:latin typeface="FontAwesome"/>
                <a:ea typeface="FontAwesome"/>
              </a:rPr>
              <a:t></a:t>
            </a:r>
            <a:endParaRPr b="0" lang="en-US" sz="3200" spc="-1" strike="noStrike">
              <a:solidFill>
                <a:srgbClr val="000000"/>
              </a:solidFill>
              <a:latin typeface="Arial"/>
            </a:endParaRPr>
          </a:p>
        </p:txBody>
      </p:sp>
      <p:sp>
        <p:nvSpPr>
          <p:cNvPr id="6928" name="PlaceHolder 1"/>
          <p:cNvSpPr>
            <a:spLocks noGrp="1"/>
          </p:cNvSpPr>
          <p:nvPr>
            <p:ph type="sldNum" idx="129"/>
          </p:nvPr>
        </p:nvSpPr>
        <p:spPr>
          <a:xfrm>
            <a:off x="21849120" y="12318840"/>
            <a:ext cx="70704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6F3C6118-2B2F-4A55-A50A-60D48955BC5C}" type="slidenum">
              <a:rPr b="0" lang="en-US" sz="2800" spc="-1" strike="noStrike">
                <a:solidFill>
                  <a:srgbClr val="797979"/>
                </a:solidFill>
                <a:latin typeface="Helvetica Light"/>
                <a:ea typeface="Helvetica Light"/>
              </a:rPr>
              <a:t>&lt;number&gt;</a:t>
            </a:fld>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1" name="Shape 1167"/>
          <p:cNvSpPr/>
          <p:nvPr/>
        </p:nvSpPr>
        <p:spPr>
          <a:xfrm>
            <a:off x="6095880" y="6864120"/>
            <a:ext cx="4572000" cy="360"/>
          </a:xfrm>
          <a:prstGeom prst="line">
            <a:avLst/>
          </a:prstGeom>
          <a:ln w="38100">
            <a:solidFill>
              <a:srgbClr val="d6d6d6"/>
            </a:solidFill>
            <a:custDash>
              <a:ds d="200000" sp="200000"/>
            </a:custDash>
            <a:miter/>
          </a:ln>
        </p:spPr>
        <p:style>
          <a:lnRef idx="0"/>
          <a:fillRef idx="0"/>
          <a:effectRef idx="0"/>
          <a:fontRef idx="minor"/>
        </p:style>
        <p:txBody>
          <a:bodyPr lIns="50760" rIns="50760" tIns="0" bIns="0" anchor="ctr" anchorCtr="1">
            <a:noAutofit/>
          </a:bodyPr>
          <a:p>
            <a:endParaRPr b="0" lang="en-US" sz="1200" spc="-1" strike="noStrike">
              <a:solidFill>
                <a:srgbClr val="000000"/>
              </a:solidFill>
              <a:latin typeface="Arial"/>
              <a:ea typeface="Arial"/>
            </a:endParaRPr>
          </a:p>
        </p:txBody>
      </p:sp>
      <p:sp>
        <p:nvSpPr>
          <p:cNvPr id="4282" name="Shape 1168"/>
          <p:cNvSpPr/>
          <p:nvPr/>
        </p:nvSpPr>
        <p:spPr>
          <a:xfrm>
            <a:off x="13716000" y="6858000"/>
            <a:ext cx="4572000" cy="360"/>
          </a:xfrm>
          <a:prstGeom prst="line">
            <a:avLst/>
          </a:prstGeom>
          <a:ln w="38100">
            <a:solidFill>
              <a:srgbClr val="d6d6d6"/>
            </a:solidFill>
            <a:custDash>
              <a:ds d="200000" sp="200000"/>
            </a:custDash>
            <a:miter/>
          </a:ln>
        </p:spPr>
        <p:style>
          <a:lnRef idx="0"/>
          <a:fillRef idx="0"/>
          <a:effectRef idx="0"/>
          <a:fontRef idx="minor"/>
        </p:style>
        <p:txBody>
          <a:bodyPr lIns="50760" rIns="50760" tIns="0" bIns="0" anchor="ctr" anchorCtr="1">
            <a:noAutofit/>
          </a:bodyPr>
          <a:p>
            <a:endParaRPr b="0" lang="en-US" sz="1200" spc="-1" strike="noStrike">
              <a:solidFill>
                <a:srgbClr val="000000"/>
              </a:solidFill>
              <a:latin typeface="Arial"/>
              <a:ea typeface="Arial"/>
            </a:endParaRPr>
          </a:p>
        </p:txBody>
      </p:sp>
      <p:sp>
        <p:nvSpPr>
          <p:cNvPr id="4283" name="Shape 1169"/>
          <p:cNvSpPr/>
          <p:nvPr/>
        </p:nvSpPr>
        <p:spPr>
          <a:xfrm>
            <a:off x="21335760" y="6858000"/>
            <a:ext cx="3048120" cy="360"/>
          </a:xfrm>
          <a:prstGeom prst="line">
            <a:avLst/>
          </a:prstGeom>
          <a:ln w="38100">
            <a:solidFill>
              <a:srgbClr val="d6d6d6"/>
            </a:solidFill>
            <a:custDash>
              <a:ds d="200000" sp="200000"/>
            </a:custDash>
            <a:miter/>
          </a:ln>
        </p:spPr>
        <p:style>
          <a:lnRef idx="0"/>
          <a:fillRef idx="0"/>
          <a:effectRef idx="0"/>
          <a:fontRef idx="minor"/>
        </p:style>
        <p:txBody>
          <a:bodyPr lIns="50760" rIns="50760" tIns="0" bIns="0" anchor="ctr" anchorCtr="1">
            <a:noAutofit/>
          </a:bodyPr>
          <a:p>
            <a:endParaRPr b="0" lang="en-US" sz="1200" spc="-1" strike="noStrike">
              <a:solidFill>
                <a:srgbClr val="000000"/>
              </a:solidFill>
              <a:latin typeface="Arial"/>
              <a:ea typeface="Arial"/>
            </a:endParaRPr>
          </a:p>
        </p:txBody>
      </p:sp>
      <p:sp>
        <p:nvSpPr>
          <p:cNvPr id="4284" name="Shape 1170"/>
          <p:cNvSpPr/>
          <p:nvPr/>
        </p:nvSpPr>
        <p:spPr>
          <a:xfrm>
            <a:off x="2031840" y="1708200"/>
            <a:ext cx="9145080" cy="19080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Timeline</a:t>
            </a:r>
            <a:endParaRPr b="0" lang="en-US" sz="11200" spc="-1" strike="noStrike">
              <a:solidFill>
                <a:srgbClr val="000000"/>
              </a:solidFill>
              <a:latin typeface="Arial"/>
            </a:endParaRPr>
          </a:p>
        </p:txBody>
      </p:sp>
      <p:sp>
        <p:nvSpPr>
          <p:cNvPr id="4285" name="Shape 1171"/>
          <p:cNvSpPr/>
          <p:nvPr/>
        </p:nvSpPr>
        <p:spPr>
          <a:xfrm>
            <a:off x="2031840" y="10021680"/>
            <a:ext cx="5079600" cy="190800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dos gurgren, nosotra seao.</a:t>
            </a:r>
            <a:endParaRPr b="0" lang="en-US" sz="3000" spc="-1" strike="noStrike">
              <a:solidFill>
                <a:srgbClr val="000000"/>
              </a:solidFill>
              <a:latin typeface="Arial"/>
            </a:endParaRPr>
          </a:p>
        </p:txBody>
      </p:sp>
      <p:sp>
        <p:nvSpPr>
          <p:cNvPr id="4286" name="Shape 1172"/>
          <p:cNvSpPr/>
          <p:nvPr/>
        </p:nvSpPr>
        <p:spPr>
          <a:xfrm>
            <a:off x="2034000" y="8935200"/>
            <a:ext cx="5075640" cy="76176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START IN 2013</a:t>
            </a:r>
            <a:endParaRPr b="0" lang="en-US" sz="3200" spc="-1" strike="noStrike">
              <a:solidFill>
                <a:srgbClr val="000000"/>
              </a:solidFill>
              <a:latin typeface="Arial"/>
            </a:endParaRPr>
          </a:p>
        </p:txBody>
      </p:sp>
      <p:sp>
        <p:nvSpPr>
          <p:cNvPr id="4287" name="Shape 1173"/>
          <p:cNvSpPr/>
          <p:nvPr/>
        </p:nvSpPr>
        <p:spPr>
          <a:xfrm>
            <a:off x="9651960" y="10021680"/>
            <a:ext cx="5079600" cy="190800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dos gurgren, nosotra seao.</a:t>
            </a:r>
            <a:endParaRPr b="0" lang="en-US" sz="3000" spc="-1" strike="noStrike">
              <a:solidFill>
                <a:srgbClr val="000000"/>
              </a:solidFill>
              <a:latin typeface="Arial"/>
            </a:endParaRPr>
          </a:p>
        </p:txBody>
      </p:sp>
      <p:sp>
        <p:nvSpPr>
          <p:cNvPr id="4288" name="Shape 1174"/>
          <p:cNvSpPr/>
          <p:nvPr/>
        </p:nvSpPr>
        <p:spPr>
          <a:xfrm>
            <a:off x="9654120" y="8935200"/>
            <a:ext cx="5075640" cy="76176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2014</a:t>
            </a:r>
            <a:endParaRPr b="0" lang="en-US" sz="3200" spc="-1" strike="noStrike">
              <a:solidFill>
                <a:srgbClr val="000000"/>
              </a:solidFill>
              <a:latin typeface="Arial"/>
            </a:endParaRPr>
          </a:p>
        </p:txBody>
      </p:sp>
      <p:sp>
        <p:nvSpPr>
          <p:cNvPr id="4289" name="Shape 1175"/>
          <p:cNvSpPr/>
          <p:nvPr/>
        </p:nvSpPr>
        <p:spPr>
          <a:xfrm>
            <a:off x="17277120" y="10021680"/>
            <a:ext cx="5079600" cy="190800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dos gurgren, nosotra seao.</a:t>
            </a:r>
            <a:endParaRPr b="0" lang="en-US" sz="3000" spc="-1" strike="noStrike">
              <a:solidFill>
                <a:srgbClr val="000000"/>
              </a:solidFill>
              <a:latin typeface="Arial"/>
            </a:endParaRPr>
          </a:p>
        </p:txBody>
      </p:sp>
      <p:sp>
        <p:nvSpPr>
          <p:cNvPr id="4290" name="Shape 1176"/>
          <p:cNvSpPr/>
          <p:nvPr/>
        </p:nvSpPr>
        <p:spPr>
          <a:xfrm>
            <a:off x="17278920" y="8935200"/>
            <a:ext cx="5075640" cy="76176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2015</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1" name="Shape 1181"/>
          <p:cNvSpPr/>
          <p:nvPr/>
        </p:nvSpPr>
        <p:spPr>
          <a:xfrm>
            <a:off x="-2520" y="6858000"/>
            <a:ext cx="3304440" cy="360"/>
          </a:xfrm>
          <a:prstGeom prst="line">
            <a:avLst/>
          </a:prstGeom>
          <a:ln w="38100">
            <a:solidFill>
              <a:srgbClr val="d6d6d6"/>
            </a:solidFill>
            <a:custDash>
              <a:ds d="200000" sp="200000"/>
            </a:custDash>
            <a:miter/>
          </a:ln>
        </p:spPr>
        <p:style>
          <a:lnRef idx="0"/>
          <a:fillRef idx="0"/>
          <a:effectRef idx="0"/>
          <a:fontRef idx="minor"/>
        </p:style>
        <p:txBody>
          <a:bodyPr lIns="50760" rIns="50760" tIns="0" bIns="0" anchor="ctr" anchorCtr="1">
            <a:noAutofit/>
          </a:bodyPr>
          <a:p>
            <a:endParaRPr b="0" lang="en-US" sz="1200" spc="-1" strike="noStrike">
              <a:solidFill>
                <a:srgbClr val="000000"/>
              </a:solidFill>
              <a:latin typeface="Arial"/>
              <a:ea typeface="Arial"/>
            </a:endParaRPr>
          </a:p>
        </p:txBody>
      </p:sp>
      <p:sp>
        <p:nvSpPr>
          <p:cNvPr id="4292" name="Shape 1180"/>
          <p:cNvSpPr/>
          <p:nvPr/>
        </p:nvSpPr>
        <p:spPr>
          <a:xfrm>
            <a:off x="5659200" y="6858000"/>
            <a:ext cx="3992760" cy="360"/>
          </a:xfrm>
          <a:prstGeom prst="line">
            <a:avLst/>
          </a:prstGeom>
          <a:ln w="38100">
            <a:solidFill>
              <a:srgbClr val="d6d6d6"/>
            </a:solidFill>
            <a:custDash>
              <a:ds d="200000" sp="200000"/>
            </a:custDash>
            <a:miter/>
          </a:ln>
        </p:spPr>
        <p:style>
          <a:lnRef idx="0"/>
          <a:fillRef idx="0"/>
          <a:effectRef idx="0"/>
          <a:fontRef idx="minor"/>
        </p:style>
        <p:txBody>
          <a:bodyPr lIns="50760" rIns="50760" tIns="0" bIns="0" anchor="ctr" anchorCtr="1">
            <a:noAutofit/>
          </a:bodyPr>
          <a:p>
            <a:endParaRPr b="0" lang="en-US" sz="1200" spc="-1" strike="noStrike">
              <a:solidFill>
                <a:srgbClr val="000000"/>
              </a:solidFill>
              <a:latin typeface="Arial"/>
              <a:ea typeface="Arial"/>
            </a:endParaRPr>
          </a:p>
        </p:txBody>
      </p:sp>
      <p:sp>
        <p:nvSpPr>
          <p:cNvPr id="4293" name="Shape 1183"/>
          <p:cNvSpPr/>
          <p:nvPr/>
        </p:nvSpPr>
        <p:spPr>
          <a:xfrm>
            <a:off x="2031840" y="10021680"/>
            <a:ext cx="5079600" cy="190800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dos gurgren, nosotra seao.</a:t>
            </a:r>
            <a:endParaRPr b="0" lang="en-US" sz="3000" spc="-1" strike="noStrike">
              <a:solidFill>
                <a:srgbClr val="000000"/>
              </a:solidFill>
              <a:latin typeface="Arial"/>
            </a:endParaRPr>
          </a:p>
        </p:txBody>
      </p:sp>
      <p:sp>
        <p:nvSpPr>
          <p:cNvPr id="4294" name="Shape 1184"/>
          <p:cNvSpPr/>
          <p:nvPr/>
        </p:nvSpPr>
        <p:spPr>
          <a:xfrm>
            <a:off x="2034000" y="8935200"/>
            <a:ext cx="5075640" cy="76176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2016</a:t>
            </a:r>
            <a:endParaRPr b="0" lang="en-US" sz="3200" spc="-1" strike="noStrike">
              <a:solidFill>
                <a:srgbClr val="000000"/>
              </a:solidFill>
              <a:latin typeface="Arial"/>
            </a:endParaRPr>
          </a:p>
        </p:txBody>
      </p:sp>
      <p:sp>
        <p:nvSpPr>
          <p:cNvPr id="4295" name="Shape 1185"/>
          <p:cNvSpPr/>
          <p:nvPr/>
        </p:nvSpPr>
        <p:spPr>
          <a:xfrm>
            <a:off x="17274960" y="6858000"/>
            <a:ext cx="5079600" cy="36594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onet grosn clita kuasd gubergren, nosotra dra seao takimata sanctus tipsum dolor sit amet. Lorem eso ipsum ptroga neslo dolor sit amet.</a:t>
            </a:r>
            <a:endParaRPr b="0" lang="en-US" sz="3000" spc="-1" strike="noStrike">
              <a:solidFill>
                <a:srgbClr val="000000"/>
              </a:solidFill>
              <a:latin typeface="Arial"/>
            </a:endParaRPr>
          </a:p>
        </p:txBody>
      </p:sp>
      <p:sp>
        <p:nvSpPr>
          <p:cNvPr id="4296" name="Shape 1186"/>
          <p:cNvSpPr/>
          <p:nvPr/>
        </p:nvSpPr>
        <p:spPr>
          <a:xfrm>
            <a:off x="17274960" y="10920600"/>
            <a:ext cx="5079600" cy="7617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a:t>
            </a:r>
            <a:endParaRPr b="0" lang="en-US" sz="3000" spc="-1" strike="noStrike">
              <a:solidFill>
                <a:srgbClr val="000000"/>
              </a:solidFill>
              <a:latin typeface="Arial"/>
            </a:endParaRPr>
          </a:p>
        </p:txBody>
      </p:sp>
      <p:sp>
        <p:nvSpPr>
          <p:cNvPr id="4297" name="Shape 1187"/>
          <p:cNvSpPr/>
          <p:nvPr/>
        </p:nvSpPr>
        <p:spPr>
          <a:xfrm>
            <a:off x="17274960" y="1708200"/>
            <a:ext cx="5079600" cy="514944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212121"/>
                </a:solidFill>
                <a:latin typeface="Montserrat Semi Bold"/>
                <a:ea typeface="Montserrat Semi Bold"/>
              </a:rPr>
              <a:t>Now</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212121"/>
                </a:solidFill>
                <a:latin typeface="Montserrat Semi Bold"/>
                <a:ea typeface="Montserrat Semi Bold"/>
              </a:rPr>
              <a:t>is</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212121"/>
                </a:solidFill>
                <a:latin typeface="Montserrat Semi Bold"/>
                <a:ea typeface="Montserrat Semi Bold"/>
              </a:rPr>
              <a:t>2017</a:t>
            </a:r>
            <a:endParaRPr b="0" lang="en-US" sz="1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98" name="Group 1195"/>
          <p:cNvGrpSpPr/>
          <p:nvPr/>
        </p:nvGrpSpPr>
        <p:grpSpPr>
          <a:xfrm>
            <a:off x="7162920" y="2033640"/>
            <a:ext cx="5351760" cy="9648720"/>
            <a:chOff x="7162920" y="2033640"/>
            <a:chExt cx="5351760" cy="9648720"/>
          </a:xfrm>
        </p:grpSpPr>
        <p:sp>
          <p:nvSpPr>
            <p:cNvPr id="4299" name="Shape 1189"/>
            <p:cNvSpPr/>
            <p:nvPr/>
          </p:nvSpPr>
          <p:spPr>
            <a:xfrm>
              <a:off x="12120480" y="5281200"/>
              <a:ext cx="394200" cy="1018800"/>
            </a:xfrm>
            <a:custGeom>
              <a:avLst/>
              <a:gdLst>
                <a:gd name="textAreaLeft" fmla="*/ 0 w 394200"/>
                <a:gd name="textAreaRight" fmla="*/ 394560 w 394200"/>
                <a:gd name="textAreaTop" fmla="*/ 0 h 1018800"/>
                <a:gd name="textAreaBottom" fmla="*/ 1019160 h 10188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300" name="Shape 1190"/>
            <p:cNvSpPr/>
            <p:nvPr/>
          </p:nvSpPr>
          <p:spPr>
            <a:xfrm>
              <a:off x="12209760" y="7026840"/>
              <a:ext cx="155880" cy="1524600"/>
            </a:xfrm>
            <a:custGeom>
              <a:avLst/>
              <a:gdLst>
                <a:gd name="textAreaLeft" fmla="*/ 0 w 155880"/>
                <a:gd name="textAreaRight" fmla="*/ 156240 w 155880"/>
                <a:gd name="textAreaTop" fmla="*/ 0 h 1524600"/>
                <a:gd name="textAreaBottom" fmla="*/ 1524960 h 15246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1" name="Shape 1191"/>
            <p:cNvSpPr/>
            <p:nvPr/>
          </p:nvSpPr>
          <p:spPr>
            <a:xfrm>
              <a:off x="7679880" y="9694440"/>
              <a:ext cx="4063320" cy="1987920"/>
            </a:xfrm>
            <a:custGeom>
              <a:avLst/>
              <a:gdLst>
                <a:gd name="textAreaLeft" fmla="*/ 0 w 4063320"/>
                <a:gd name="textAreaRight" fmla="*/ 4063680 w 4063320"/>
                <a:gd name="textAreaTop" fmla="*/ 0 h 1987920"/>
                <a:gd name="textAreaBottom" fmla="*/ 1988280 h 198792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4450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2" name="Shape 1192"/>
            <p:cNvSpPr/>
            <p:nvPr/>
          </p:nvSpPr>
          <p:spPr>
            <a:xfrm>
              <a:off x="7679880" y="2033640"/>
              <a:ext cx="4063320" cy="1985760"/>
            </a:xfrm>
            <a:custGeom>
              <a:avLst/>
              <a:gdLst>
                <a:gd name="textAreaLeft" fmla="*/ 0 w 4063320"/>
                <a:gd name="textAreaRight" fmla="*/ 4063680 w 4063320"/>
                <a:gd name="textAreaTop" fmla="*/ 0 h 1985760"/>
                <a:gd name="textAreaBottom" fmla="*/ 1986120 h 198576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4450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3" name="Shape 1193"/>
            <p:cNvSpPr/>
            <p:nvPr/>
          </p:nvSpPr>
          <p:spPr>
            <a:xfrm>
              <a:off x="7162920" y="3867480"/>
              <a:ext cx="5096880" cy="6012720"/>
            </a:xfrm>
            <a:custGeom>
              <a:avLst/>
              <a:gdLst>
                <a:gd name="textAreaLeft" fmla="*/ 0 w 5096880"/>
                <a:gd name="textAreaRight" fmla="*/ 5097240 w 5096880"/>
                <a:gd name="textAreaTop" fmla="*/ 0 h 6012720"/>
                <a:gd name="textAreaBottom" fmla="*/ 6013080 h 6012720"/>
              </a:gdLst>
              <a:ahLst/>
              <a:rect l="textAreaLeft" t="textAreaTop" r="textAreaRight" b="textAreaBottom"/>
              <a:pathLst>
                <a:path w="21553" h="21560">
                  <a:moveTo>
                    <a:pt x="17154" y="21560"/>
                  </a:moveTo>
                  <a:lnTo>
                    <a:pt x="4267" y="21511"/>
                  </a:lnTo>
                  <a:cubicBezTo>
                    <a:pt x="1893" y="21495"/>
                    <a:pt x="-19" y="19844"/>
                    <a:pt x="0" y="17778"/>
                  </a:cubicBezTo>
                  <a:lnTo>
                    <a:pt x="75" y="3684"/>
                  </a:lnTo>
                  <a:cubicBezTo>
                    <a:pt x="94" y="1635"/>
                    <a:pt x="2016" y="-16"/>
                    <a:pt x="4408" y="0"/>
                  </a:cubicBezTo>
                  <a:lnTo>
                    <a:pt x="17285" y="49"/>
                  </a:lnTo>
                  <a:cubicBezTo>
                    <a:pt x="19659" y="65"/>
                    <a:pt x="21581" y="1724"/>
                    <a:pt x="21553" y="3790"/>
                  </a:cubicBezTo>
                  <a:lnTo>
                    <a:pt x="21477" y="17876"/>
                  </a:lnTo>
                  <a:cubicBezTo>
                    <a:pt x="21459" y="19925"/>
                    <a:pt x="19518" y="21584"/>
                    <a:pt x="17154" y="2156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04" name="Shape 1194"/>
            <p:cNvSpPr/>
            <p:nvPr/>
          </p:nvSpPr>
          <p:spPr>
            <a:xfrm>
              <a:off x="7380360" y="4110480"/>
              <a:ext cx="4662360" cy="5526720"/>
            </a:xfrm>
            <a:custGeom>
              <a:avLst/>
              <a:gdLst>
                <a:gd name="textAreaLeft" fmla="*/ 0 w 4662360"/>
                <a:gd name="textAreaRight" fmla="*/ 4662720 w 4662360"/>
                <a:gd name="textAreaTop" fmla="*/ 0 h 5526720"/>
                <a:gd name="textAreaBottom" fmla="*/ 5527080 h 5526720"/>
              </a:gdLst>
              <a:ahLst/>
              <a:rect l="textAreaLeft" t="textAreaTop" r="textAreaRight" b="textAreaBottom"/>
              <a:pathLst>
                <a:path w="21559" h="21583">
                  <a:moveTo>
                    <a:pt x="18125" y="21583"/>
                  </a:moveTo>
                  <a:lnTo>
                    <a:pt x="3308" y="21530"/>
                  </a:lnTo>
                  <a:cubicBezTo>
                    <a:pt x="1471" y="21530"/>
                    <a:pt x="-21" y="20256"/>
                    <a:pt x="0" y="18709"/>
                  </a:cubicBezTo>
                  <a:lnTo>
                    <a:pt x="83" y="2786"/>
                  </a:lnTo>
                  <a:cubicBezTo>
                    <a:pt x="83" y="1231"/>
                    <a:pt x="1596" y="-17"/>
                    <a:pt x="3433" y="1"/>
                  </a:cubicBezTo>
                  <a:lnTo>
                    <a:pt x="18261" y="53"/>
                  </a:lnTo>
                  <a:cubicBezTo>
                    <a:pt x="20097" y="53"/>
                    <a:pt x="21579" y="1328"/>
                    <a:pt x="21558" y="2874"/>
                  </a:cubicBezTo>
                  <a:lnTo>
                    <a:pt x="21475" y="18806"/>
                  </a:lnTo>
                  <a:cubicBezTo>
                    <a:pt x="21454" y="20335"/>
                    <a:pt x="19962" y="21583"/>
                    <a:pt x="18125" y="215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pic>
        <p:nvPicPr>
          <p:cNvPr id="4305" name="Bildplatzhalter 1" descr=""/>
          <p:cNvPicPr/>
          <p:nvPr/>
        </p:nvPicPr>
        <p:blipFill>
          <a:blip r:embed="rId1"/>
          <a:srcRect l="-180161" t="-284132" r="-180161" b="-284132"/>
          <a:stretch/>
        </p:blipFill>
        <p:spPr>
          <a:xfrm>
            <a:off x="7765920" y="4661640"/>
            <a:ext cx="3900960" cy="4518000"/>
          </a:xfrm>
          <a:prstGeom prst="rect">
            <a:avLst/>
          </a:prstGeom>
          <a:ln w="0">
            <a:noFill/>
          </a:ln>
        </p:spPr>
      </p:pic>
      <p:sp>
        <p:nvSpPr>
          <p:cNvPr id="4306" name="Shape 1197"/>
          <p:cNvSpPr/>
          <p:nvPr/>
        </p:nvSpPr>
        <p:spPr>
          <a:xfrm>
            <a:off x="2031840" y="1708200"/>
            <a:ext cx="303804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it-IT" sz="11200" spc="559" strike="noStrike">
                <a:solidFill>
                  <a:srgbClr val="ffffff"/>
                </a:solidFill>
                <a:latin typeface="Montserrat Semi Bold"/>
                <a:ea typeface="Montserrat Semi Bold"/>
              </a:rPr>
              <a:t>Be.</a:t>
            </a:r>
            <a:endParaRPr b="0" lang="en-US" sz="11200" spc="-1" strike="noStrike">
              <a:solidFill>
                <a:srgbClr val="000000"/>
              </a:solidFill>
              <a:latin typeface="Arial"/>
            </a:endParaRPr>
          </a:p>
        </p:txBody>
      </p:sp>
      <p:sp>
        <p:nvSpPr>
          <p:cNvPr id="4307" name="Shape 1198"/>
          <p:cNvSpPr/>
          <p:nvPr/>
        </p:nvSpPr>
        <p:spPr>
          <a:xfrm>
            <a:off x="14607360" y="2033640"/>
            <a:ext cx="774936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Nors fransto on dreso nade lesdiacw sids.</a:t>
            </a:r>
            <a:endParaRPr b="0" lang="en-US" sz="4800" spc="-1" strike="noStrike">
              <a:solidFill>
                <a:srgbClr val="000000"/>
              </a:solidFill>
              <a:latin typeface="Arial"/>
            </a:endParaRPr>
          </a:p>
        </p:txBody>
      </p:sp>
      <p:sp>
        <p:nvSpPr>
          <p:cNvPr id="4308" name="Shape 1199"/>
          <p:cNvSpPr/>
          <p:nvPr/>
        </p:nvSpPr>
        <p:spPr>
          <a:xfrm>
            <a:off x="16260840" y="5134320"/>
            <a:ext cx="609552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309" name="Shape 1200"/>
          <p:cNvSpPr/>
          <p:nvPr/>
        </p:nvSpPr>
        <p:spPr>
          <a:xfrm>
            <a:off x="16260840" y="437256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310" name="Shape 1201"/>
          <p:cNvSpPr/>
          <p:nvPr/>
        </p:nvSpPr>
        <p:spPr>
          <a:xfrm>
            <a:off x="16260840" y="708336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311" name="Shape 1202"/>
          <p:cNvSpPr/>
          <p:nvPr/>
        </p:nvSpPr>
        <p:spPr>
          <a:xfrm>
            <a:off x="16260840" y="979416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312" name="Shape 1203"/>
          <p:cNvSpPr/>
          <p:nvPr/>
        </p:nvSpPr>
        <p:spPr>
          <a:xfrm>
            <a:off x="16260840" y="784512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osan  granss rebum.</a:t>
            </a:r>
            <a:endParaRPr b="0" lang="en-US" sz="3000" spc="-1" strike="noStrike">
              <a:solidFill>
                <a:srgbClr val="000000"/>
              </a:solidFill>
              <a:latin typeface="Arial"/>
            </a:endParaRPr>
          </a:p>
        </p:txBody>
      </p:sp>
      <p:sp>
        <p:nvSpPr>
          <p:cNvPr id="4313" name="Shape 1204"/>
          <p:cNvSpPr/>
          <p:nvPr/>
        </p:nvSpPr>
        <p:spPr>
          <a:xfrm>
            <a:off x="16260840" y="1055628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roteto clita kuasd gubergren, nosotra seao itrado. </a:t>
            </a:r>
            <a:endParaRPr b="0" lang="en-US" sz="3000" spc="-1" strike="noStrike">
              <a:solidFill>
                <a:srgbClr val="000000"/>
              </a:solidFill>
              <a:latin typeface="Arial"/>
            </a:endParaRPr>
          </a:p>
        </p:txBody>
      </p:sp>
      <p:sp>
        <p:nvSpPr>
          <p:cNvPr id="4314" name="Shape 1205"/>
          <p:cNvSpPr/>
          <p:nvPr/>
        </p:nvSpPr>
        <p:spPr>
          <a:xfrm>
            <a:off x="14607360" y="398664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1</a:t>
            </a:r>
            <a:endParaRPr b="0" lang="en-US" sz="12000" spc="-1" strike="noStrike">
              <a:solidFill>
                <a:srgbClr val="000000"/>
              </a:solidFill>
              <a:latin typeface="Arial"/>
            </a:endParaRPr>
          </a:p>
        </p:txBody>
      </p:sp>
      <p:sp>
        <p:nvSpPr>
          <p:cNvPr id="4315" name="Shape 1206"/>
          <p:cNvSpPr/>
          <p:nvPr/>
        </p:nvSpPr>
        <p:spPr>
          <a:xfrm>
            <a:off x="14607360" y="670392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2</a:t>
            </a:r>
            <a:endParaRPr b="0" lang="en-US" sz="12000" spc="-1" strike="noStrike">
              <a:solidFill>
                <a:srgbClr val="000000"/>
              </a:solidFill>
              <a:latin typeface="Arial"/>
            </a:endParaRPr>
          </a:p>
        </p:txBody>
      </p:sp>
      <p:sp>
        <p:nvSpPr>
          <p:cNvPr id="4316" name="Shape 1207"/>
          <p:cNvSpPr/>
          <p:nvPr/>
        </p:nvSpPr>
        <p:spPr>
          <a:xfrm>
            <a:off x="14607360" y="942120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a:t>
            </a:r>
            <a:endParaRPr b="0" lang="en-US" sz="12000" spc="-1" strike="noStrike">
              <a:solidFill>
                <a:srgbClr val="000000"/>
              </a:solidFill>
              <a:latin typeface="Arial"/>
            </a:endParaRPr>
          </a:p>
        </p:txBody>
      </p:sp>
      <p:sp>
        <p:nvSpPr>
          <p:cNvPr id="4317" name="Shape 1208"/>
          <p:cNvSpPr/>
          <p:nvPr/>
        </p:nvSpPr>
        <p:spPr>
          <a:xfrm>
            <a:off x="2032200" y="6313680"/>
            <a:ext cx="2945880" cy="332172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ffffff"/>
                </a:solidFill>
                <a:latin typeface="Montserrat"/>
                <a:ea typeface="Montserrat"/>
              </a:rPr>
              <a:t>Watch Mockupfor your</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Work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18" name="Bildplatzhalter 1" descr=""/>
          <p:cNvPicPr/>
          <p:nvPr/>
        </p:nvPicPr>
        <p:blipFill>
          <a:blip r:embed="rId1"/>
          <a:srcRect l="-733050" t="-964377" r="-733050" b="-964377"/>
          <a:stretch/>
        </p:blipFill>
        <p:spPr>
          <a:xfrm>
            <a:off x="11179800" y="0"/>
            <a:ext cx="13271400" cy="13715640"/>
          </a:xfrm>
          <a:prstGeom prst="rect">
            <a:avLst/>
          </a:prstGeom>
          <a:ln w="0">
            <a:noFill/>
          </a:ln>
        </p:spPr>
      </p:pic>
      <p:sp>
        <p:nvSpPr>
          <p:cNvPr id="4319" name="Shape 1211"/>
          <p:cNvSpPr/>
          <p:nvPr/>
        </p:nvSpPr>
        <p:spPr>
          <a:xfrm>
            <a:off x="2031840" y="1708200"/>
            <a:ext cx="810252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Creative</a:t>
            </a:r>
            <a:endParaRPr b="0" lang="en-US" sz="11200" spc="-1" strike="noStrike">
              <a:solidFill>
                <a:srgbClr val="000000"/>
              </a:solidFill>
              <a:latin typeface="Arial"/>
            </a:endParaRPr>
          </a:p>
        </p:txBody>
      </p:sp>
      <p:sp>
        <p:nvSpPr>
          <p:cNvPr id="4320" name="Shape 1212"/>
          <p:cNvSpPr/>
          <p:nvPr/>
        </p:nvSpPr>
        <p:spPr>
          <a:xfrm>
            <a:off x="2032200" y="5966640"/>
            <a:ext cx="8102160" cy="293868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with a clean &amp; modern</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Keynote Present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1" name="Shape 1214"/>
          <p:cNvSpPr/>
          <p:nvPr/>
        </p:nvSpPr>
        <p:spPr>
          <a:xfrm>
            <a:off x="4477320" y="7119720"/>
            <a:ext cx="19879560" cy="0"/>
          </a:xfrm>
          <a:prstGeom prst="line">
            <a:avLst/>
          </a:prstGeom>
          <a:ln cap="rnd" w="38100">
            <a:solidFill>
              <a:srgbClr val="d6d6d6"/>
            </a:solidFill>
            <a:custDash>
              <a:ds d="100000" sp="200000"/>
            </a:custDash>
            <a:round/>
          </a:ln>
        </p:spPr>
        <p:style>
          <a:lnRef idx="0"/>
          <a:fillRef idx="0"/>
          <a:effectRef idx="0"/>
          <a:fontRef idx="minor"/>
        </p:style>
        <p:txBody>
          <a:bodyPr lIns="50760" rIns="50760" tIns="0" bIns="0" anchor="ctr" anchorCtr="1">
            <a:noAutofit/>
          </a:bodyPr>
          <a:p>
            <a:endParaRPr b="0" lang="en-US" sz="1200" spc="-1" strike="noStrike">
              <a:solidFill>
                <a:srgbClr val="000000"/>
              </a:solidFill>
              <a:latin typeface="Arial"/>
              <a:ea typeface="Arial"/>
            </a:endParaRPr>
          </a:p>
        </p:txBody>
      </p:sp>
      <p:sp>
        <p:nvSpPr>
          <p:cNvPr id="4322" name="Shape 1215"/>
          <p:cNvSpPr/>
          <p:nvPr/>
        </p:nvSpPr>
        <p:spPr>
          <a:xfrm>
            <a:off x="2031840" y="1708200"/>
            <a:ext cx="9145080" cy="1908000"/>
          </a:xfrm>
          <a:prstGeom prst="rect">
            <a:avLst/>
          </a:prstGeom>
          <a:noFill/>
          <a:ln w="0">
            <a:noFill/>
          </a:ln>
        </p:spPr>
        <p:style>
          <a:lnRef idx="0"/>
          <a:fillRef idx="0"/>
          <a:effectRef idx="0"/>
          <a:fontRef idx="minor"/>
        </p:style>
        <p:txBody>
          <a:bodyPr lIns="90000" rIns="90000" tIns="45000" bIns="45000" anchor="t">
            <a:noAutofit/>
          </a:bodyPr>
          <a:p>
            <a:pPr>
              <a:lnSpc>
                <a:spcPct val="80000"/>
              </a:lnSpc>
              <a:tabLst>
                <a:tab algn="l" pos="0"/>
              </a:tabLst>
            </a:pPr>
            <a:r>
              <a:rPr b="0" lang="de-DE" sz="11200" spc="559" strike="noStrike">
                <a:solidFill>
                  <a:srgbClr val="212121"/>
                </a:solidFill>
                <a:latin typeface="Montserrat Semi Bold"/>
                <a:ea typeface="Montserrat Semi Bold"/>
              </a:rPr>
              <a:t>Timeline</a:t>
            </a:r>
            <a:endParaRPr b="0" lang="en-US" sz="11200" spc="-1" strike="noStrike">
              <a:solidFill>
                <a:srgbClr val="000000"/>
              </a:solidFill>
              <a:latin typeface="Arial"/>
            </a:endParaRPr>
          </a:p>
        </p:txBody>
      </p:sp>
      <p:sp>
        <p:nvSpPr>
          <p:cNvPr id="4323" name="Shape 1216"/>
          <p:cNvSpPr/>
          <p:nvPr/>
        </p:nvSpPr>
        <p:spPr>
          <a:xfrm>
            <a:off x="2031840" y="10021680"/>
            <a:ext cx="5079600" cy="190800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dos gurgren, nosotra seao.</a:t>
            </a:r>
            <a:endParaRPr b="0" lang="en-US" sz="3000" spc="-1" strike="noStrike">
              <a:solidFill>
                <a:srgbClr val="000000"/>
              </a:solidFill>
              <a:latin typeface="Arial"/>
            </a:endParaRPr>
          </a:p>
        </p:txBody>
      </p:sp>
      <p:sp>
        <p:nvSpPr>
          <p:cNvPr id="4324" name="Shape 1217"/>
          <p:cNvSpPr/>
          <p:nvPr/>
        </p:nvSpPr>
        <p:spPr>
          <a:xfrm>
            <a:off x="2034000" y="8935200"/>
            <a:ext cx="507564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START IN 2012</a:t>
            </a:r>
            <a:endParaRPr b="0" lang="en-US" sz="3200" spc="-1" strike="noStrike">
              <a:solidFill>
                <a:srgbClr val="000000"/>
              </a:solidFill>
              <a:latin typeface="Arial"/>
            </a:endParaRPr>
          </a:p>
        </p:txBody>
      </p:sp>
      <p:sp>
        <p:nvSpPr>
          <p:cNvPr id="4325" name="Shape 1221"/>
          <p:cNvSpPr/>
          <p:nvPr/>
        </p:nvSpPr>
        <p:spPr>
          <a:xfrm>
            <a:off x="13186440" y="1834200"/>
            <a:ext cx="9169920" cy="1782360"/>
          </a:xfrm>
          <a:prstGeom prst="rect">
            <a:avLst/>
          </a:prstGeom>
          <a:noFill/>
          <a:ln w="12700">
            <a:noFill/>
          </a:ln>
        </p:spPr>
        <p:style>
          <a:lnRef idx="0"/>
          <a:fillRef idx="0"/>
          <a:effectRef idx="0"/>
          <a:fontRef idx="minor"/>
        </p:style>
        <p:txBody>
          <a:bodyPr lIns="50760" rIns="50760" tIns="50760" bIns="50760" anchor="ctr">
            <a:noAutofit/>
          </a:bodyPr>
          <a:p>
            <a:pPr algn="r">
              <a:lnSpc>
                <a:spcPct val="120000"/>
              </a:lnSpc>
              <a:tabLst>
                <a:tab algn="l" pos="0"/>
              </a:tabLst>
            </a:pPr>
            <a:r>
              <a:rPr b="0" lang="en-US" sz="4800" spc="-1" strike="noStrike">
                <a:solidFill>
                  <a:srgbClr val="212121"/>
                </a:solidFill>
                <a:latin typeface="Montserrat"/>
                <a:ea typeface="Montserrat"/>
              </a:rPr>
              <a:t>Morsa imona les deso</a:t>
            </a:r>
            <a:endParaRPr b="0" lang="en-US" sz="4800" spc="-1" strike="noStrike">
              <a:solidFill>
                <a:srgbClr val="000000"/>
              </a:solidFill>
              <a:latin typeface="Arial"/>
            </a:endParaRPr>
          </a:p>
          <a:p>
            <a:pPr algn="r">
              <a:lnSpc>
                <a:spcPct val="120000"/>
              </a:lnSpc>
              <a:tabLst>
                <a:tab algn="l" pos="0"/>
              </a:tabLst>
            </a:pPr>
            <a:r>
              <a:rPr b="0" lang="en-US" sz="4800" spc="-1" strike="noStrike">
                <a:solidFill>
                  <a:srgbClr val="212121"/>
                </a:solidFill>
                <a:latin typeface="Montserrat"/>
                <a:ea typeface="Montserrat"/>
              </a:rPr>
              <a:t>in diam fron idoms.</a:t>
            </a:r>
            <a:endParaRPr b="0" lang="en-US" sz="4800" spc="-1" strike="noStrike">
              <a:solidFill>
                <a:srgbClr val="000000"/>
              </a:solidFill>
              <a:latin typeface="Arial"/>
            </a:endParaRPr>
          </a:p>
        </p:txBody>
      </p:sp>
      <p:sp>
        <p:nvSpPr>
          <p:cNvPr id="4326" name="Shape 1222"/>
          <p:cNvSpPr/>
          <p:nvPr/>
        </p:nvSpPr>
        <p:spPr>
          <a:xfrm>
            <a:off x="9651960" y="10021680"/>
            <a:ext cx="5079600" cy="190800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dos gurgren, nosotra seao.</a:t>
            </a:r>
            <a:endParaRPr b="0" lang="en-US" sz="3000" spc="-1" strike="noStrike">
              <a:solidFill>
                <a:srgbClr val="000000"/>
              </a:solidFill>
              <a:latin typeface="Arial"/>
            </a:endParaRPr>
          </a:p>
        </p:txBody>
      </p:sp>
      <p:sp>
        <p:nvSpPr>
          <p:cNvPr id="4327" name="Shape 1223"/>
          <p:cNvSpPr/>
          <p:nvPr/>
        </p:nvSpPr>
        <p:spPr>
          <a:xfrm>
            <a:off x="9654120" y="8935200"/>
            <a:ext cx="507564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2013</a:t>
            </a:r>
            <a:endParaRPr b="0" lang="en-US" sz="3200" spc="-1" strike="noStrike">
              <a:solidFill>
                <a:srgbClr val="000000"/>
              </a:solidFill>
              <a:latin typeface="Arial"/>
            </a:endParaRPr>
          </a:p>
        </p:txBody>
      </p:sp>
      <p:sp>
        <p:nvSpPr>
          <p:cNvPr id="4328" name="Shape 1224"/>
          <p:cNvSpPr/>
          <p:nvPr/>
        </p:nvSpPr>
        <p:spPr>
          <a:xfrm>
            <a:off x="17277120" y="10021680"/>
            <a:ext cx="5079600" cy="190800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dos gurgren, nosotra seao.</a:t>
            </a:r>
            <a:endParaRPr b="0" lang="en-US" sz="3000" spc="-1" strike="noStrike">
              <a:solidFill>
                <a:srgbClr val="000000"/>
              </a:solidFill>
              <a:latin typeface="Arial"/>
            </a:endParaRPr>
          </a:p>
        </p:txBody>
      </p:sp>
      <p:sp>
        <p:nvSpPr>
          <p:cNvPr id="4329" name="Shape 1225"/>
          <p:cNvSpPr/>
          <p:nvPr/>
        </p:nvSpPr>
        <p:spPr>
          <a:xfrm>
            <a:off x="17278920" y="8935200"/>
            <a:ext cx="507564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2014</a:t>
            </a:r>
            <a:endParaRPr b="0" lang="en-US" sz="3200" spc="-1" strike="noStrike">
              <a:solidFill>
                <a:srgbClr val="000000"/>
              </a:solidFill>
              <a:latin typeface="Arial"/>
            </a:endParaRPr>
          </a:p>
        </p:txBody>
      </p:sp>
      <p:sp>
        <p:nvSpPr>
          <p:cNvPr id="4330" name="Shape 1226"/>
          <p:cNvSpPr/>
          <p:nvPr/>
        </p:nvSpPr>
        <p:spPr>
          <a:xfrm>
            <a:off x="2031840" y="3515400"/>
            <a:ext cx="9169920" cy="90864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48" strike="noStrike">
                <a:solidFill>
                  <a:srgbClr val="212121"/>
                </a:solidFill>
                <a:latin typeface="Montserrat"/>
                <a:ea typeface="Montserrat"/>
              </a:rPr>
              <a:t>Image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1" name="Shape 1246"/>
          <p:cNvSpPr/>
          <p:nvPr/>
        </p:nvSpPr>
        <p:spPr>
          <a:xfrm>
            <a:off x="-5400" y="7119720"/>
            <a:ext cx="12170160" cy="0"/>
          </a:xfrm>
          <a:prstGeom prst="line">
            <a:avLst/>
          </a:prstGeom>
          <a:ln cap="rnd" w="38100">
            <a:solidFill>
              <a:srgbClr val="d6d6d6"/>
            </a:solidFill>
            <a:custDash>
              <a:ds d="100000" sp="200000"/>
            </a:custDash>
            <a:round/>
          </a:ln>
        </p:spPr>
        <p:style>
          <a:lnRef idx="0"/>
          <a:fillRef idx="0"/>
          <a:effectRef idx="0"/>
          <a:fontRef idx="minor"/>
        </p:style>
        <p:txBody>
          <a:bodyPr lIns="50760" rIns="50760" tIns="0" bIns="0" anchor="ctr" anchorCtr="1">
            <a:noAutofit/>
          </a:bodyPr>
          <a:p>
            <a:endParaRPr b="0" lang="en-US" sz="1200" spc="-1" strike="noStrike">
              <a:solidFill>
                <a:srgbClr val="000000"/>
              </a:solidFill>
              <a:latin typeface="Arial"/>
              <a:ea typeface="Arial"/>
            </a:endParaRPr>
          </a:p>
        </p:txBody>
      </p:sp>
      <p:sp>
        <p:nvSpPr>
          <p:cNvPr id="4332" name="Shape 1247"/>
          <p:cNvSpPr/>
          <p:nvPr/>
        </p:nvSpPr>
        <p:spPr>
          <a:xfrm>
            <a:off x="2031840" y="10021680"/>
            <a:ext cx="5079600" cy="190800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dos gurgren, nosotra seao.</a:t>
            </a:r>
            <a:endParaRPr b="0" lang="en-US" sz="3000" spc="-1" strike="noStrike">
              <a:solidFill>
                <a:srgbClr val="000000"/>
              </a:solidFill>
              <a:latin typeface="Arial"/>
            </a:endParaRPr>
          </a:p>
        </p:txBody>
      </p:sp>
      <p:sp>
        <p:nvSpPr>
          <p:cNvPr id="4333" name="Shape 1248"/>
          <p:cNvSpPr/>
          <p:nvPr/>
        </p:nvSpPr>
        <p:spPr>
          <a:xfrm>
            <a:off x="2034000" y="8935200"/>
            <a:ext cx="5075640" cy="761760"/>
          </a:xfrm>
          <a:prstGeom prst="rect">
            <a:avLst/>
          </a:prstGeom>
          <a:noFill/>
          <a:ln w="12700">
            <a:noFill/>
          </a:ln>
        </p:spPr>
        <p:style>
          <a:lnRef idx="0"/>
          <a:fillRef idx="0"/>
          <a:effectRef idx="0"/>
          <a:fontRef idx="minor"/>
        </p:style>
        <p:txBody>
          <a:bodyPr lIns="48600" rIns="48600" tIns="48600" bIns="48600" anchor="ctr">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2015</a:t>
            </a:r>
            <a:endParaRPr b="0" lang="en-US" sz="3200" spc="-1" strike="noStrike">
              <a:solidFill>
                <a:srgbClr val="000000"/>
              </a:solidFill>
              <a:latin typeface="Arial"/>
            </a:endParaRPr>
          </a:p>
        </p:txBody>
      </p:sp>
      <p:sp>
        <p:nvSpPr>
          <p:cNvPr id="4334" name="Shape 1251"/>
          <p:cNvSpPr/>
          <p:nvPr/>
        </p:nvSpPr>
        <p:spPr>
          <a:xfrm>
            <a:off x="15626160" y="1708200"/>
            <a:ext cx="6728400" cy="5149440"/>
          </a:xfrm>
          <a:prstGeom prst="rect">
            <a:avLst/>
          </a:prstGeom>
          <a:noFill/>
          <a:ln w="0">
            <a:noFill/>
          </a:ln>
        </p:spPr>
        <p:style>
          <a:lnRef idx="0"/>
          <a:fillRef idx="0"/>
          <a:effectRef idx="0"/>
          <a:fontRef idx="minor"/>
        </p:style>
        <p:txBody>
          <a:bodyPr lIns="90000" rIns="90000" tIns="45000" bIns="45000" anchor="t">
            <a:noAutofit/>
          </a:bodyPr>
          <a:p>
            <a:pPr>
              <a:lnSpc>
                <a:spcPct val="80000"/>
              </a:lnSpc>
              <a:tabLst>
                <a:tab algn="l" pos="0"/>
              </a:tabLst>
            </a:pPr>
            <a:r>
              <a:rPr b="0" lang="de-DE" sz="11200" spc="559" strike="noStrike">
                <a:solidFill>
                  <a:srgbClr val="212121"/>
                </a:solidFill>
                <a:latin typeface="Montserrat Semi Bold"/>
                <a:ea typeface="Montserrat Semi Bold"/>
              </a:rPr>
              <a:t>Now</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in Year</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2016</a:t>
            </a:r>
            <a:endParaRPr b="0" lang="en-US" sz="11200" spc="-1" strike="noStrike">
              <a:solidFill>
                <a:srgbClr val="000000"/>
              </a:solidFill>
              <a:latin typeface="Arial"/>
            </a:endParaRPr>
          </a:p>
        </p:txBody>
      </p:sp>
      <p:sp>
        <p:nvSpPr>
          <p:cNvPr id="4335" name="Shape 1252"/>
          <p:cNvSpPr/>
          <p:nvPr/>
        </p:nvSpPr>
        <p:spPr>
          <a:xfrm>
            <a:off x="15626160" y="7105320"/>
            <a:ext cx="6728400" cy="48247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onet grosn clita kuasd gubergren, nosotra dra seao takimata sanctus tipsum dolor sit amet. Lorem eso ipsum ptroga neslo dolor sit amet.</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Medos diam nie nonumy eirmod tempor invidunt ubore eto ogna al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9" name="Shape 1059"/>
          <p:cNvSpPr/>
          <p:nvPr/>
        </p:nvSpPr>
        <p:spPr>
          <a:xfrm>
            <a:off x="2031840" y="1708200"/>
            <a:ext cx="1015992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it-IT"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p:txBody>
      </p:sp>
      <p:sp>
        <p:nvSpPr>
          <p:cNvPr id="4200" name="Shape 1060"/>
          <p:cNvSpPr/>
          <p:nvPr/>
        </p:nvSpPr>
        <p:spPr>
          <a:xfrm>
            <a:off x="2031840" y="5388480"/>
            <a:ext cx="5567040" cy="1469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with a clean &amp; modern Keynote Presentation.</a:t>
            </a:r>
            <a:endParaRPr b="0" lang="en-US" sz="3000" spc="-1" strike="noStrike">
              <a:solidFill>
                <a:srgbClr val="000000"/>
              </a:solidFill>
              <a:latin typeface="Arial"/>
            </a:endParaRPr>
          </a:p>
        </p:txBody>
      </p:sp>
      <p:sp>
        <p:nvSpPr>
          <p:cNvPr id="4201" name="Shape 1061"/>
          <p:cNvSpPr/>
          <p:nvPr/>
        </p:nvSpPr>
        <p:spPr>
          <a:xfrm>
            <a:off x="2032200" y="3363840"/>
            <a:ext cx="9147240" cy="101232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Creativ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6" name="Shape 1265"/>
          <p:cNvSpPr/>
          <p:nvPr/>
        </p:nvSpPr>
        <p:spPr>
          <a:xfrm flipV="1">
            <a:off x="12192120" y="3270600"/>
            <a:ext cx="0" cy="10445400"/>
          </a:xfrm>
          <a:prstGeom prst="line">
            <a:avLst/>
          </a:prstGeom>
          <a:ln w="25400">
            <a:solidFill>
              <a:srgbClr val="d6d6d6"/>
            </a:solidFill>
            <a:miter/>
          </a:ln>
        </p:spPr>
        <p:style>
          <a:lnRef idx="0"/>
          <a:fillRef idx="0"/>
          <a:effectRef idx="0"/>
          <a:fontRef idx="minor"/>
        </p:style>
        <p:txBody>
          <a:bodyPr lIns="50760" rIns="50760" tIns="50760" bIns="50760" anchor="ctr" anchorCtr="1">
            <a:noAutofit/>
          </a:bodyPr>
          <a:p>
            <a:endParaRPr b="0" lang="en-US" sz="1200" spc="-1" strike="noStrike">
              <a:solidFill>
                <a:srgbClr val="000000"/>
              </a:solidFill>
              <a:latin typeface="Arial"/>
              <a:ea typeface="Arial"/>
            </a:endParaRPr>
          </a:p>
        </p:txBody>
      </p:sp>
      <p:sp>
        <p:nvSpPr>
          <p:cNvPr id="4337" name="Shape 1269"/>
          <p:cNvSpPr/>
          <p:nvPr/>
        </p:nvSpPr>
        <p:spPr>
          <a:xfrm>
            <a:off x="2031840" y="1708200"/>
            <a:ext cx="746856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Timelin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Images</a:t>
            </a:r>
            <a:endParaRPr b="0" lang="en-US" sz="11200" spc="-1" strike="noStrike">
              <a:solidFill>
                <a:srgbClr val="000000"/>
              </a:solidFill>
              <a:latin typeface="Arial"/>
            </a:endParaRPr>
          </a:p>
        </p:txBody>
      </p:sp>
      <p:sp>
        <p:nvSpPr>
          <p:cNvPr id="4338" name="Shape 1270"/>
          <p:cNvSpPr/>
          <p:nvPr/>
        </p:nvSpPr>
        <p:spPr>
          <a:xfrm>
            <a:off x="13846680" y="316872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gurgren, nosotra seao. </a:t>
            </a:r>
            <a:endParaRPr b="0" lang="en-US" sz="3000" spc="-1" strike="noStrike">
              <a:solidFill>
                <a:srgbClr val="000000"/>
              </a:solidFill>
              <a:latin typeface="Arial"/>
            </a:endParaRPr>
          </a:p>
        </p:txBody>
      </p:sp>
      <p:sp>
        <p:nvSpPr>
          <p:cNvPr id="4339" name="Shape 1271"/>
          <p:cNvSpPr/>
          <p:nvPr/>
        </p:nvSpPr>
        <p:spPr>
          <a:xfrm>
            <a:off x="13846680" y="240696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2011</a:t>
            </a:r>
            <a:endParaRPr b="0" lang="en-US" sz="3000" spc="-1" strike="noStrike">
              <a:solidFill>
                <a:srgbClr val="000000"/>
              </a:solidFill>
              <a:latin typeface="Arial"/>
            </a:endParaRPr>
          </a:p>
        </p:txBody>
      </p:sp>
      <p:sp>
        <p:nvSpPr>
          <p:cNvPr id="4340" name="Shape 1272"/>
          <p:cNvSpPr/>
          <p:nvPr/>
        </p:nvSpPr>
        <p:spPr>
          <a:xfrm>
            <a:off x="13838400" y="709920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Clita kuasd gubergren, nosot seao. </a:t>
            </a:r>
            <a:endParaRPr b="0" lang="en-US" sz="3000" spc="-1" strike="noStrike">
              <a:solidFill>
                <a:srgbClr val="000000"/>
              </a:solidFill>
              <a:latin typeface="Arial"/>
            </a:endParaRPr>
          </a:p>
        </p:txBody>
      </p:sp>
      <p:sp>
        <p:nvSpPr>
          <p:cNvPr id="4341" name="Shape 1273"/>
          <p:cNvSpPr/>
          <p:nvPr/>
        </p:nvSpPr>
        <p:spPr>
          <a:xfrm>
            <a:off x="13838400" y="633744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2012</a:t>
            </a:r>
            <a:endParaRPr b="0" lang="en-US" sz="3000" spc="-1" strike="noStrike">
              <a:solidFill>
                <a:srgbClr val="000000"/>
              </a:solidFill>
              <a:latin typeface="Arial"/>
            </a:endParaRPr>
          </a:p>
        </p:txBody>
      </p:sp>
      <p:sp>
        <p:nvSpPr>
          <p:cNvPr id="4342" name="Shape 1274"/>
          <p:cNvSpPr/>
          <p:nvPr/>
        </p:nvSpPr>
        <p:spPr>
          <a:xfrm>
            <a:off x="13846680" y="1079640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Etoa jam rebum. Steto clita kuasd gubergren, nosotra seao morada.. </a:t>
            </a:r>
            <a:endParaRPr b="0" lang="en-US" sz="3000" spc="-1" strike="noStrike">
              <a:solidFill>
                <a:srgbClr val="000000"/>
              </a:solidFill>
              <a:latin typeface="Arial"/>
            </a:endParaRPr>
          </a:p>
        </p:txBody>
      </p:sp>
      <p:sp>
        <p:nvSpPr>
          <p:cNvPr id="4343" name="Shape 1275"/>
          <p:cNvSpPr/>
          <p:nvPr/>
        </p:nvSpPr>
        <p:spPr>
          <a:xfrm>
            <a:off x="13846680" y="1003428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2013</a:t>
            </a:r>
            <a:endParaRPr b="0" lang="en-US" sz="3000" spc="-1" strike="noStrike">
              <a:solidFill>
                <a:srgbClr val="000000"/>
              </a:solidFill>
              <a:latin typeface="Arial"/>
            </a:endParaRPr>
          </a:p>
        </p:txBody>
      </p:sp>
      <p:sp>
        <p:nvSpPr>
          <p:cNvPr id="4344" name="Shape 1276"/>
          <p:cNvSpPr/>
          <p:nvPr/>
        </p:nvSpPr>
        <p:spPr>
          <a:xfrm>
            <a:off x="2031840" y="5892840"/>
            <a:ext cx="9169920" cy="17823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Osa imona les d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m fron idoms.</a:t>
            </a:r>
            <a:endParaRPr b="0" lang="en-US" sz="4800" spc="-1" strike="noStrike">
              <a:solidFill>
                <a:srgbClr val="000000"/>
              </a:solidFill>
              <a:latin typeface="Arial"/>
            </a:endParaRPr>
          </a:p>
        </p:txBody>
      </p:sp>
      <p:sp>
        <p:nvSpPr>
          <p:cNvPr id="4345" name="Shape 1277"/>
          <p:cNvSpPr/>
          <p:nvPr/>
        </p:nvSpPr>
        <p:spPr>
          <a:xfrm>
            <a:off x="2019600" y="8595720"/>
            <a:ext cx="7111800" cy="25419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nsa justo fosduo dolores etoa jam rebum. Stet clita kuasd gubergren, nosotr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6" name="Shape 1279"/>
          <p:cNvSpPr/>
          <p:nvPr/>
        </p:nvSpPr>
        <p:spPr>
          <a:xfrm flipV="1">
            <a:off x="12192120" y="-30960"/>
            <a:ext cx="0" cy="10444680"/>
          </a:xfrm>
          <a:prstGeom prst="line">
            <a:avLst/>
          </a:prstGeom>
          <a:ln w="25400">
            <a:solidFill>
              <a:srgbClr val="d6d6d6"/>
            </a:solidFill>
            <a:miter/>
          </a:ln>
        </p:spPr>
        <p:style>
          <a:lnRef idx="0"/>
          <a:fillRef idx="0"/>
          <a:effectRef idx="0"/>
          <a:fontRef idx="minor"/>
        </p:style>
        <p:txBody>
          <a:bodyPr lIns="50760" rIns="50760" tIns="50760" bIns="50760" anchor="ctr" anchorCtr="1">
            <a:noAutofit/>
          </a:bodyPr>
          <a:p>
            <a:endParaRPr b="0" lang="en-US" sz="1200" spc="-1" strike="noStrike">
              <a:solidFill>
                <a:srgbClr val="000000"/>
              </a:solidFill>
              <a:latin typeface="Arial"/>
              <a:ea typeface="Arial"/>
            </a:endParaRPr>
          </a:p>
        </p:txBody>
      </p:sp>
      <p:sp>
        <p:nvSpPr>
          <p:cNvPr id="4347" name="Shape 1283"/>
          <p:cNvSpPr/>
          <p:nvPr/>
        </p:nvSpPr>
        <p:spPr>
          <a:xfrm>
            <a:off x="13846680" y="316872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gurgren, nosotra seao. </a:t>
            </a:r>
            <a:endParaRPr b="0" lang="en-US" sz="3000" spc="-1" strike="noStrike">
              <a:solidFill>
                <a:srgbClr val="000000"/>
              </a:solidFill>
              <a:latin typeface="Arial"/>
            </a:endParaRPr>
          </a:p>
        </p:txBody>
      </p:sp>
      <p:sp>
        <p:nvSpPr>
          <p:cNvPr id="4348" name="Shape 1284"/>
          <p:cNvSpPr/>
          <p:nvPr/>
        </p:nvSpPr>
        <p:spPr>
          <a:xfrm>
            <a:off x="13846680" y="240696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2014</a:t>
            </a:r>
            <a:endParaRPr b="0" lang="en-US" sz="3000" spc="-1" strike="noStrike">
              <a:solidFill>
                <a:srgbClr val="000000"/>
              </a:solidFill>
              <a:latin typeface="Arial"/>
            </a:endParaRPr>
          </a:p>
        </p:txBody>
      </p:sp>
      <p:sp>
        <p:nvSpPr>
          <p:cNvPr id="4349" name="Shape 1285"/>
          <p:cNvSpPr/>
          <p:nvPr/>
        </p:nvSpPr>
        <p:spPr>
          <a:xfrm>
            <a:off x="13838400" y="709920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Clita kuasd gubergren, nosot seao. </a:t>
            </a:r>
            <a:endParaRPr b="0" lang="en-US" sz="3000" spc="-1" strike="noStrike">
              <a:solidFill>
                <a:srgbClr val="000000"/>
              </a:solidFill>
              <a:latin typeface="Arial"/>
            </a:endParaRPr>
          </a:p>
        </p:txBody>
      </p:sp>
      <p:sp>
        <p:nvSpPr>
          <p:cNvPr id="4350" name="Shape 1286"/>
          <p:cNvSpPr/>
          <p:nvPr/>
        </p:nvSpPr>
        <p:spPr>
          <a:xfrm>
            <a:off x="13838400" y="633744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2015</a:t>
            </a:r>
            <a:endParaRPr b="0" lang="en-US" sz="3000" spc="-1" strike="noStrike">
              <a:solidFill>
                <a:srgbClr val="000000"/>
              </a:solidFill>
              <a:latin typeface="Arial"/>
            </a:endParaRPr>
          </a:p>
        </p:txBody>
      </p:sp>
      <p:sp>
        <p:nvSpPr>
          <p:cNvPr id="4351" name="Shape 1287"/>
          <p:cNvSpPr/>
          <p:nvPr/>
        </p:nvSpPr>
        <p:spPr>
          <a:xfrm>
            <a:off x="13846680" y="1079640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Etoa jam rebum. Steto clita kuasd gubergren, nosotra seao morada.. </a:t>
            </a:r>
            <a:endParaRPr b="0" lang="en-US" sz="3000" spc="-1" strike="noStrike">
              <a:solidFill>
                <a:srgbClr val="000000"/>
              </a:solidFill>
              <a:latin typeface="Arial"/>
            </a:endParaRPr>
          </a:p>
        </p:txBody>
      </p:sp>
      <p:sp>
        <p:nvSpPr>
          <p:cNvPr id="4352" name="Shape 1288"/>
          <p:cNvSpPr/>
          <p:nvPr/>
        </p:nvSpPr>
        <p:spPr>
          <a:xfrm>
            <a:off x="13846680" y="1003428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NOW IN 2016</a:t>
            </a:r>
            <a:endParaRPr b="0" lang="en-US" sz="3000" spc="-1" strike="noStrike">
              <a:solidFill>
                <a:srgbClr val="000000"/>
              </a:solidFill>
              <a:latin typeface="Arial"/>
            </a:endParaRPr>
          </a:p>
        </p:txBody>
      </p:sp>
      <p:sp>
        <p:nvSpPr>
          <p:cNvPr id="4353" name="Shape 1289"/>
          <p:cNvSpPr/>
          <p:nvPr/>
        </p:nvSpPr>
        <p:spPr>
          <a:xfrm>
            <a:off x="2035080" y="1835280"/>
            <a:ext cx="7111800" cy="20361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mago ona leso damer.</a:t>
            </a:r>
            <a:endParaRPr b="0" lang="en-US" sz="4800" spc="-1" strike="noStrike">
              <a:solidFill>
                <a:srgbClr val="000000"/>
              </a:solidFill>
              <a:latin typeface="Arial"/>
            </a:endParaRPr>
          </a:p>
        </p:txBody>
      </p:sp>
      <p:sp>
        <p:nvSpPr>
          <p:cNvPr id="4354" name="Shape 1290"/>
          <p:cNvSpPr/>
          <p:nvPr/>
        </p:nvSpPr>
        <p:spPr>
          <a:xfrm>
            <a:off x="2035080" y="4407120"/>
            <a:ext cx="7111800" cy="38293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nsa justo fosduo dolores etoa jam rebum. Stet clita kuasd gubergren, nosotra seam takimata sanctus Lorem ipsum dolor sit amet. Lorem eso ipsum dolor sito amet, deras consetetur asdips.</a:t>
            </a:r>
            <a:endParaRPr b="0" lang="en-US" sz="3000" spc="-1" strike="noStrike">
              <a:solidFill>
                <a:srgbClr val="000000"/>
              </a:solidFill>
              <a:latin typeface="Arial"/>
            </a:endParaRPr>
          </a:p>
        </p:txBody>
      </p:sp>
      <p:sp>
        <p:nvSpPr>
          <p:cNvPr id="4355" name="Shape 1291"/>
          <p:cNvSpPr/>
          <p:nvPr/>
        </p:nvSpPr>
        <p:spPr>
          <a:xfrm>
            <a:off x="2035080" y="8772120"/>
            <a:ext cx="7111800" cy="7617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6" name="Shape 1294"/>
          <p:cNvSpPr/>
          <p:nvPr/>
        </p:nvSpPr>
        <p:spPr>
          <a:xfrm rot="5400000">
            <a:off x="-760680" y="762480"/>
            <a:ext cx="13715640" cy="12190320"/>
          </a:xfrm>
          <a:custGeom>
            <a:avLst/>
            <a:gdLst>
              <a:gd name="textAreaLeft" fmla="*/ 0 w 13715640"/>
              <a:gd name="textAreaRight" fmla="*/ 13716000 w 13715640"/>
              <a:gd name="textAreaTop" fmla="*/ 0 h 12190320"/>
              <a:gd name="textAreaBottom" fmla="*/ 12190680 h 12190320"/>
            </a:gdLst>
            <a:ahLst/>
            <a:rect l="textAreaLeft" t="textAreaTop" r="textAreaRight" b="textAreaBottom"/>
            <a:pathLst>
              <a:path w="21600" h="21600">
                <a:moveTo>
                  <a:pt x="0" y="0"/>
                </a:moveTo>
                <a:lnTo>
                  <a:pt x="0" y="21600"/>
                </a:lnTo>
                <a:lnTo>
                  <a:pt x="21600" y="21599"/>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57" name="Shape 1294"/>
          <p:cNvSpPr/>
          <p:nvPr/>
        </p:nvSpPr>
        <p:spPr>
          <a:xfrm rot="5400000">
            <a:off x="-762120" y="762480"/>
            <a:ext cx="13715640" cy="12190320"/>
          </a:xfrm>
          <a:custGeom>
            <a:avLst/>
            <a:gdLst>
              <a:gd name="textAreaLeft" fmla="*/ 0 w 13715640"/>
              <a:gd name="textAreaRight" fmla="*/ 13716000 w 13715640"/>
              <a:gd name="textAreaTop" fmla="*/ 0 h 12190320"/>
              <a:gd name="textAreaBottom" fmla="*/ 12190680 h 12190320"/>
            </a:gdLst>
            <a:ahLst/>
            <a:rect l="textAreaLeft" t="textAreaTop" r="textAreaRight" b="textAreaBottom"/>
            <a:pathLst>
              <a:path w="21600" h="21600">
                <a:moveTo>
                  <a:pt x="0" y="0"/>
                </a:moveTo>
                <a:lnTo>
                  <a:pt x="0" y="21600"/>
                </a:lnTo>
                <a:lnTo>
                  <a:pt x="21600" y="21599"/>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58" name="Shape 1295"/>
          <p:cNvSpPr/>
          <p:nvPr/>
        </p:nvSpPr>
        <p:spPr>
          <a:xfrm>
            <a:off x="2031840" y="1708200"/>
            <a:ext cx="1015992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p:txBody>
      </p:sp>
      <p:sp>
        <p:nvSpPr>
          <p:cNvPr id="4359" name="Shape 1296"/>
          <p:cNvSpPr/>
          <p:nvPr/>
        </p:nvSpPr>
        <p:spPr>
          <a:xfrm>
            <a:off x="2032200" y="4317840"/>
            <a:ext cx="9144720" cy="253980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creative with a clean and modern Keynote Present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0" name="Shape 1298"/>
          <p:cNvSpPr/>
          <p:nvPr/>
        </p:nvSpPr>
        <p:spPr>
          <a:xfrm flipV="1">
            <a:off x="12192120" y="3270600"/>
            <a:ext cx="0" cy="11423160"/>
          </a:xfrm>
          <a:prstGeom prst="line">
            <a:avLst/>
          </a:prstGeom>
          <a:ln w="25400">
            <a:solidFill>
              <a:srgbClr val="a9a9a9"/>
            </a:solidFill>
            <a:miter/>
          </a:ln>
        </p:spPr>
        <p:style>
          <a:lnRef idx="0"/>
          <a:fillRef idx="0"/>
          <a:effectRef idx="0"/>
          <a:fontRef idx="minor"/>
        </p:style>
        <p:txBody>
          <a:bodyPr lIns="50760" rIns="50760" tIns="50760" bIns="50760" anchor="ctr" anchorCtr="1">
            <a:noAutofit/>
          </a:bodyPr>
          <a:p>
            <a:endParaRPr b="0" lang="en-US" sz="1200" spc="-1" strike="noStrike">
              <a:solidFill>
                <a:srgbClr val="000000"/>
              </a:solidFill>
              <a:latin typeface="Arial"/>
              <a:ea typeface="Arial"/>
            </a:endParaRPr>
          </a:p>
        </p:txBody>
      </p:sp>
      <p:sp>
        <p:nvSpPr>
          <p:cNvPr id="4361" name="PlaceHolder 1"/>
          <p:cNvSpPr>
            <a:spLocks noGrp="1"/>
          </p:cNvSpPr>
          <p:nvPr>
            <p:ph type="sldNum" idx="101"/>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F750C057-F921-4AFE-BD4E-31DD2D3D09BB}" type="slidenum">
              <a:rPr b="0" lang="en-US" sz="2800" spc="-1" strike="noStrike">
                <a:solidFill>
                  <a:srgbClr val="797979"/>
                </a:solidFill>
                <a:latin typeface="Helvetica Light"/>
                <a:ea typeface="Helvetica Light"/>
              </a:rPr>
              <a:t>22</a:t>
            </a:fld>
            <a:endParaRPr b="0" lang="en-US" sz="2800" spc="-1" strike="noStrike">
              <a:solidFill>
                <a:srgbClr val="000000"/>
              </a:solidFill>
              <a:latin typeface="Times New Roman"/>
            </a:endParaRPr>
          </a:p>
        </p:txBody>
      </p:sp>
      <p:sp>
        <p:nvSpPr>
          <p:cNvPr id="4362" name="PlaceHolder 2"/>
          <p:cNvSpPr>
            <a:spLocks noGrp="1"/>
          </p:cNvSpPr>
          <p:nvPr>
            <p:ph type="title"/>
          </p:nvPr>
        </p:nvSpPr>
        <p:spPr>
          <a:xfrm>
            <a:off x="2031840" y="1708200"/>
            <a:ext cx="8740080" cy="21078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Timeline</a:t>
            </a:r>
            <a:endParaRPr b="0" lang="en-US" sz="11200" spc="-1" strike="noStrike">
              <a:solidFill>
                <a:srgbClr val="009193"/>
              </a:solidFill>
              <a:latin typeface="Helvetica Light"/>
            </a:endParaRPr>
          </a:p>
        </p:txBody>
      </p:sp>
      <p:sp>
        <p:nvSpPr>
          <p:cNvPr id="4363" name="Shape 1301"/>
          <p:cNvSpPr/>
          <p:nvPr/>
        </p:nvSpPr>
        <p:spPr>
          <a:xfrm>
            <a:off x="11423880" y="202572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64" name="Shape 1302"/>
          <p:cNvSpPr/>
          <p:nvPr/>
        </p:nvSpPr>
        <p:spPr>
          <a:xfrm>
            <a:off x="13592880" y="316872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gurgren, nosotra seao. </a:t>
            </a:r>
            <a:endParaRPr b="0" lang="en-US" sz="3000" spc="-1" strike="noStrike">
              <a:solidFill>
                <a:srgbClr val="000000"/>
              </a:solidFill>
              <a:latin typeface="Arial"/>
            </a:endParaRPr>
          </a:p>
        </p:txBody>
      </p:sp>
      <p:sp>
        <p:nvSpPr>
          <p:cNvPr id="4365" name="Shape 1303"/>
          <p:cNvSpPr/>
          <p:nvPr/>
        </p:nvSpPr>
        <p:spPr>
          <a:xfrm>
            <a:off x="13592880" y="240696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2011</a:t>
            </a:r>
            <a:endParaRPr b="0" lang="en-US" sz="3000" spc="-1" strike="noStrike">
              <a:solidFill>
                <a:srgbClr val="000000"/>
              </a:solidFill>
              <a:latin typeface="Arial"/>
            </a:endParaRPr>
          </a:p>
        </p:txBody>
      </p:sp>
      <p:sp>
        <p:nvSpPr>
          <p:cNvPr id="4366" name="Shape 1304"/>
          <p:cNvSpPr/>
          <p:nvPr/>
        </p:nvSpPr>
        <p:spPr>
          <a:xfrm>
            <a:off x="11442960" y="566424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67" name="Shape 1305"/>
          <p:cNvSpPr/>
          <p:nvPr/>
        </p:nvSpPr>
        <p:spPr>
          <a:xfrm>
            <a:off x="4262760" y="678168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Clita kuasd gubergren, nosot seao. </a:t>
            </a:r>
            <a:endParaRPr b="0" lang="en-US" sz="3000" spc="-1" strike="noStrike">
              <a:solidFill>
                <a:srgbClr val="000000"/>
              </a:solidFill>
              <a:latin typeface="Arial"/>
            </a:endParaRPr>
          </a:p>
        </p:txBody>
      </p:sp>
      <p:sp>
        <p:nvSpPr>
          <p:cNvPr id="4368" name="Shape 1306"/>
          <p:cNvSpPr/>
          <p:nvPr/>
        </p:nvSpPr>
        <p:spPr>
          <a:xfrm>
            <a:off x="4262760" y="6019920"/>
            <a:ext cx="6528600" cy="761760"/>
          </a:xfrm>
          <a:prstGeom prst="rect">
            <a:avLst/>
          </a:prstGeom>
          <a:noFill/>
          <a:ln w="12700">
            <a:noFill/>
          </a:ln>
        </p:spPr>
        <p:style>
          <a:lnRef idx="0"/>
          <a:fillRef idx="0"/>
          <a:effectRef idx="0"/>
          <a:fontRef idx="minor"/>
        </p:style>
        <p:txBody>
          <a:bodyPr lIns="48600" rIns="48600" tIns="48600" bIns="48600" anchor="t">
            <a:noAutofit/>
          </a:bodyPr>
          <a:p>
            <a:pPr algn="r">
              <a:lnSpc>
                <a:spcPct val="120000"/>
              </a:lnSpc>
              <a:spcBef>
                <a:spcPts val="5899"/>
              </a:spcBef>
              <a:tabLst>
                <a:tab algn="l" pos="0"/>
              </a:tabLst>
            </a:pPr>
            <a:r>
              <a:rPr b="0" lang="en-US" sz="3000" spc="148" strike="noStrike">
                <a:solidFill>
                  <a:srgbClr val="212121"/>
                </a:solidFill>
                <a:latin typeface="Montserrat"/>
                <a:ea typeface="Montserrat"/>
              </a:rPr>
              <a:t>2012</a:t>
            </a:r>
            <a:endParaRPr b="0" lang="en-US" sz="3000" spc="-1" strike="noStrike">
              <a:solidFill>
                <a:srgbClr val="000000"/>
              </a:solidFill>
              <a:latin typeface="Arial"/>
            </a:endParaRPr>
          </a:p>
        </p:txBody>
      </p:sp>
      <p:sp>
        <p:nvSpPr>
          <p:cNvPr id="4369" name="Shape 1307"/>
          <p:cNvSpPr/>
          <p:nvPr/>
        </p:nvSpPr>
        <p:spPr>
          <a:xfrm>
            <a:off x="11423880" y="935352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70" name="Shape 1308"/>
          <p:cNvSpPr/>
          <p:nvPr/>
        </p:nvSpPr>
        <p:spPr>
          <a:xfrm>
            <a:off x="13592880" y="1047888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Etoa jam rebum. Steto clita kuasd gubergren, nosotra seao morada.. </a:t>
            </a:r>
            <a:endParaRPr b="0" lang="en-US" sz="3000" spc="-1" strike="noStrike">
              <a:solidFill>
                <a:srgbClr val="000000"/>
              </a:solidFill>
              <a:latin typeface="Arial"/>
            </a:endParaRPr>
          </a:p>
        </p:txBody>
      </p:sp>
      <p:sp>
        <p:nvSpPr>
          <p:cNvPr id="4371" name="Shape 1309"/>
          <p:cNvSpPr/>
          <p:nvPr/>
        </p:nvSpPr>
        <p:spPr>
          <a:xfrm>
            <a:off x="13592880" y="971676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2013</a:t>
            </a:r>
            <a:endParaRPr b="0" lang="en-US" sz="3000" spc="-1" strike="noStrike">
              <a:solidFill>
                <a:srgbClr val="000000"/>
              </a:solidFill>
              <a:latin typeface="Arial"/>
            </a:endParaRPr>
          </a:p>
        </p:txBody>
      </p:sp>
      <p:sp>
        <p:nvSpPr>
          <p:cNvPr id="4372" name="Shape 1310"/>
          <p:cNvSpPr/>
          <p:nvPr/>
        </p:nvSpPr>
        <p:spPr>
          <a:xfrm>
            <a:off x="11817720" y="60199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373" name="Shape 1311"/>
          <p:cNvSpPr/>
          <p:nvPr/>
        </p:nvSpPr>
        <p:spPr>
          <a:xfrm>
            <a:off x="11798640" y="23562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374" name="Shape 1312"/>
          <p:cNvSpPr/>
          <p:nvPr/>
        </p:nvSpPr>
        <p:spPr>
          <a:xfrm>
            <a:off x="11773080" y="97167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5" name="Shape 1314"/>
          <p:cNvSpPr/>
          <p:nvPr/>
        </p:nvSpPr>
        <p:spPr>
          <a:xfrm flipV="1">
            <a:off x="12192120" y="-30960"/>
            <a:ext cx="0" cy="10146240"/>
          </a:xfrm>
          <a:prstGeom prst="line">
            <a:avLst/>
          </a:prstGeom>
          <a:ln w="25400">
            <a:solidFill>
              <a:srgbClr val="a9a9a9"/>
            </a:solidFill>
            <a:miter/>
          </a:ln>
        </p:spPr>
        <p:style>
          <a:lnRef idx="0"/>
          <a:fillRef idx="0"/>
          <a:effectRef idx="0"/>
          <a:fontRef idx="minor"/>
        </p:style>
        <p:txBody>
          <a:bodyPr lIns="50760" rIns="50760" tIns="50760" bIns="50760" anchor="ctr" anchorCtr="1">
            <a:noAutofit/>
          </a:bodyPr>
          <a:p>
            <a:endParaRPr b="0" lang="en-US" sz="1200" spc="-1" strike="noStrike">
              <a:solidFill>
                <a:srgbClr val="000000"/>
              </a:solidFill>
              <a:latin typeface="Arial"/>
              <a:ea typeface="Arial"/>
            </a:endParaRPr>
          </a:p>
        </p:txBody>
      </p:sp>
      <p:sp>
        <p:nvSpPr>
          <p:cNvPr id="4376" name="PlaceHolder 1"/>
          <p:cNvSpPr>
            <a:spLocks noGrp="1"/>
          </p:cNvSpPr>
          <p:nvPr>
            <p:ph type="sldNum" idx="102"/>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033898F8-D438-4B93-AD7E-ED38C6E116D5}" type="slidenum">
              <a:rPr b="0" lang="en-US" sz="2800" spc="-1" strike="noStrike">
                <a:solidFill>
                  <a:srgbClr val="797979"/>
                </a:solidFill>
                <a:latin typeface="Helvetica Light"/>
                <a:ea typeface="Helvetica Light"/>
              </a:rPr>
              <a:t>22</a:t>
            </a:fld>
            <a:endParaRPr b="0" lang="en-US" sz="2800" spc="-1" strike="noStrike">
              <a:solidFill>
                <a:srgbClr val="000000"/>
              </a:solidFill>
              <a:latin typeface="Times New Roman"/>
            </a:endParaRPr>
          </a:p>
        </p:txBody>
      </p:sp>
      <p:sp>
        <p:nvSpPr>
          <p:cNvPr id="4377" name="Shape 1316"/>
          <p:cNvSpPr/>
          <p:nvPr/>
        </p:nvSpPr>
        <p:spPr>
          <a:xfrm>
            <a:off x="11423880" y="202572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78" name="Shape 1317"/>
          <p:cNvSpPr/>
          <p:nvPr/>
        </p:nvSpPr>
        <p:spPr>
          <a:xfrm>
            <a:off x="13592880" y="316872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gurgren, nosotra seao. </a:t>
            </a:r>
            <a:endParaRPr b="0" lang="en-US" sz="3000" spc="-1" strike="noStrike">
              <a:solidFill>
                <a:srgbClr val="000000"/>
              </a:solidFill>
              <a:latin typeface="Arial"/>
            </a:endParaRPr>
          </a:p>
        </p:txBody>
      </p:sp>
      <p:sp>
        <p:nvSpPr>
          <p:cNvPr id="4379" name="Shape 1318"/>
          <p:cNvSpPr/>
          <p:nvPr/>
        </p:nvSpPr>
        <p:spPr>
          <a:xfrm>
            <a:off x="13592880" y="240696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2014</a:t>
            </a:r>
            <a:endParaRPr b="0" lang="en-US" sz="3000" spc="-1" strike="noStrike">
              <a:solidFill>
                <a:srgbClr val="000000"/>
              </a:solidFill>
              <a:latin typeface="Arial"/>
            </a:endParaRPr>
          </a:p>
        </p:txBody>
      </p:sp>
      <p:sp>
        <p:nvSpPr>
          <p:cNvPr id="4380" name="Shape 1319"/>
          <p:cNvSpPr/>
          <p:nvPr/>
        </p:nvSpPr>
        <p:spPr>
          <a:xfrm>
            <a:off x="11442960" y="568944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81" name="Shape 1320"/>
          <p:cNvSpPr/>
          <p:nvPr/>
        </p:nvSpPr>
        <p:spPr>
          <a:xfrm>
            <a:off x="4267440" y="701820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Clita kuasd gubergren, nosot seao. </a:t>
            </a:r>
            <a:endParaRPr b="0" lang="en-US" sz="3000" spc="-1" strike="noStrike">
              <a:solidFill>
                <a:srgbClr val="000000"/>
              </a:solidFill>
              <a:latin typeface="Arial"/>
            </a:endParaRPr>
          </a:p>
        </p:txBody>
      </p:sp>
      <p:sp>
        <p:nvSpPr>
          <p:cNvPr id="4382" name="Shape 1321"/>
          <p:cNvSpPr/>
          <p:nvPr/>
        </p:nvSpPr>
        <p:spPr>
          <a:xfrm>
            <a:off x="4267440" y="6256080"/>
            <a:ext cx="6528600" cy="761760"/>
          </a:xfrm>
          <a:prstGeom prst="rect">
            <a:avLst/>
          </a:prstGeom>
          <a:noFill/>
          <a:ln w="12700">
            <a:noFill/>
          </a:ln>
        </p:spPr>
        <p:style>
          <a:lnRef idx="0"/>
          <a:fillRef idx="0"/>
          <a:effectRef idx="0"/>
          <a:fontRef idx="minor"/>
        </p:style>
        <p:txBody>
          <a:bodyPr lIns="48600" rIns="48600" tIns="48600" bIns="48600" anchor="t">
            <a:noAutofit/>
          </a:bodyPr>
          <a:p>
            <a:pPr algn="r">
              <a:lnSpc>
                <a:spcPct val="120000"/>
              </a:lnSpc>
              <a:spcBef>
                <a:spcPts val="5899"/>
              </a:spcBef>
              <a:tabLst>
                <a:tab algn="l" pos="0"/>
              </a:tabLst>
            </a:pPr>
            <a:r>
              <a:rPr b="0" lang="en-US" sz="3000" spc="148" strike="noStrike">
                <a:solidFill>
                  <a:srgbClr val="212121"/>
                </a:solidFill>
                <a:latin typeface="Montserrat"/>
                <a:ea typeface="Montserrat"/>
              </a:rPr>
              <a:t>2015</a:t>
            </a:r>
            <a:endParaRPr b="0" lang="en-US" sz="3000" spc="-1" strike="noStrike">
              <a:solidFill>
                <a:srgbClr val="000000"/>
              </a:solidFill>
              <a:latin typeface="Arial"/>
            </a:endParaRPr>
          </a:p>
        </p:txBody>
      </p:sp>
      <p:sp>
        <p:nvSpPr>
          <p:cNvPr id="4383" name="Shape 1322"/>
          <p:cNvSpPr/>
          <p:nvPr/>
        </p:nvSpPr>
        <p:spPr>
          <a:xfrm>
            <a:off x="11423880" y="935352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384" name="Shape 1323"/>
          <p:cNvSpPr/>
          <p:nvPr/>
        </p:nvSpPr>
        <p:spPr>
          <a:xfrm>
            <a:off x="13592880" y="10529640"/>
            <a:ext cx="6528600" cy="1152360"/>
          </a:xfrm>
          <a:prstGeom prst="rect">
            <a:avLst/>
          </a:prstGeom>
          <a:noFill/>
          <a:ln w="12700">
            <a:noFill/>
          </a:ln>
        </p:spPr>
        <p:style>
          <a:lnRef idx="0"/>
          <a:fillRef idx="0"/>
          <a:effectRef idx="0"/>
          <a:fontRef idx="minor"/>
        </p:style>
        <p:txBody>
          <a:bodyPr lIns="48600" rIns="48600" tIns="48600" bIns="4860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Etoa jam rebum. Steto clita kuasd gubergren, nosotra seao morada.. </a:t>
            </a:r>
            <a:endParaRPr b="0" lang="en-US" sz="3000" spc="-1" strike="noStrike">
              <a:solidFill>
                <a:srgbClr val="000000"/>
              </a:solidFill>
              <a:latin typeface="Arial"/>
            </a:endParaRPr>
          </a:p>
        </p:txBody>
      </p:sp>
      <p:sp>
        <p:nvSpPr>
          <p:cNvPr id="4385" name="Shape 1324"/>
          <p:cNvSpPr/>
          <p:nvPr/>
        </p:nvSpPr>
        <p:spPr>
          <a:xfrm>
            <a:off x="13592880" y="976752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NOW IN 2016</a:t>
            </a:r>
            <a:endParaRPr b="0" lang="en-US" sz="3000" spc="-1" strike="noStrike">
              <a:solidFill>
                <a:srgbClr val="000000"/>
              </a:solidFill>
              <a:latin typeface="Arial"/>
            </a:endParaRPr>
          </a:p>
        </p:txBody>
      </p:sp>
      <p:sp>
        <p:nvSpPr>
          <p:cNvPr id="4386" name="Shape 1325"/>
          <p:cNvSpPr/>
          <p:nvPr/>
        </p:nvSpPr>
        <p:spPr>
          <a:xfrm>
            <a:off x="2035080" y="2025720"/>
            <a:ext cx="6341400" cy="20361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mago ona leso damer.</a:t>
            </a:r>
            <a:endParaRPr b="0" lang="en-US" sz="4800" spc="-1" strike="noStrike">
              <a:solidFill>
                <a:srgbClr val="000000"/>
              </a:solidFill>
              <a:latin typeface="Arial"/>
            </a:endParaRPr>
          </a:p>
        </p:txBody>
      </p:sp>
      <p:sp>
        <p:nvSpPr>
          <p:cNvPr id="4387" name="Shape 1326"/>
          <p:cNvSpPr/>
          <p:nvPr/>
        </p:nvSpPr>
        <p:spPr>
          <a:xfrm>
            <a:off x="11782440" y="97167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388" name="Shape 1327"/>
          <p:cNvSpPr/>
          <p:nvPr/>
        </p:nvSpPr>
        <p:spPr>
          <a:xfrm>
            <a:off x="11707920" y="2306880"/>
            <a:ext cx="961560" cy="96156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389" name="Shape 1328"/>
          <p:cNvSpPr/>
          <p:nvPr/>
        </p:nvSpPr>
        <p:spPr>
          <a:xfrm>
            <a:off x="11801520" y="6045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390" name="Group 1339"/>
          <p:cNvGrpSpPr/>
          <p:nvPr/>
        </p:nvGrpSpPr>
        <p:grpSpPr>
          <a:xfrm>
            <a:off x="-6325200" y="2026800"/>
            <a:ext cx="16620480" cy="9648720"/>
            <a:chOff x="-6325200" y="2026800"/>
            <a:chExt cx="16620480" cy="9648720"/>
          </a:xfrm>
        </p:grpSpPr>
        <p:sp>
          <p:nvSpPr>
            <p:cNvPr id="4391" name="Shape 1330"/>
            <p:cNvSpPr/>
            <p:nvPr/>
          </p:nvSpPr>
          <p:spPr>
            <a:xfrm>
              <a:off x="-4811040" y="2073240"/>
              <a:ext cx="13527360" cy="9162000"/>
            </a:xfrm>
            <a:custGeom>
              <a:avLst/>
              <a:gdLst>
                <a:gd name="textAreaLeft" fmla="*/ 0 w 13527360"/>
                <a:gd name="textAreaRight" fmla="*/ 13527720 w 13527360"/>
                <a:gd name="textAreaTop" fmla="*/ 0 h 9162000"/>
                <a:gd name="textAreaBottom" fmla="*/ 9162360 h 9162000"/>
              </a:gdLst>
              <a:ahLst/>
              <a:rect l="textAreaLeft" t="textAreaTop" r="textAreaRight" b="textAreaBottom"/>
              <a:pathLst>
                <a:path w="21600" h="21600">
                  <a:moveTo>
                    <a:pt x="0" y="21077"/>
                  </a:moveTo>
                  <a:lnTo>
                    <a:pt x="0" y="869"/>
                  </a:lnTo>
                  <a:cubicBezTo>
                    <a:pt x="0" y="388"/>
                    <a:pt x="263" y="0"/>
                    <a:pt x="589" y="0"/>
                  </a:cubicBezTo>
                  <a:lnTo>
                    <a:pt x="21013" y="0"/>
                  </a:lnTo>
                  <a:cubicBezTo>
                    <a:pt x="21335" y="0"/>
                    <a:pt x="21600" y="388"/>
                    <a:pt x="21600" y="869"/>
                  </a:cubicBezTo>
                  <a:lnTo>
                    <a:pt x="21600" y="21077"/>
                  </a:lnTo>
                  <a:cubicBezTo>
                    <a:pt x="21600" y="21363"/>
                    <a:pt x="21441" y="21600"/>
                    <a:pt x="21247" y="21600"/>
                  </a:cubicBezTo>
                  <a:lnTo>
                    <a:pt x="354" y="21600"/>
                  </a:lnTo>
                  <a:cubicBezTo>
                    <a:pt x="157" y="21600"/>
                    <a:pt x="0" y="21371"/>
                    <a:pt x="0" y="21077"/>
                  </a:cubicBezTo>
                </a:path>
              </a:pathLst>
            </a:custGeom>
            <a:solidFill>
              <a:srgbClr val="33333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92" name="Shape 1331"/>
            <p:cNvSpPr/>
            <p:nvPr/>
          </p:nvSpPr>
          <p:spPr>
            <a:xfrm>
              <a:off x="-4839120" y="2026800"/>
              <a:ext cx="13583160" cy="9241200"/>
            </a:xfrm>
            <a:custGeom>
              <a:avLst/>
              <a:gdLst>
                <a:gd name="textAreaLeft" fmla="*/ 0 w 13583160"/>
                <a:gd name="textAreaRight" fmla="*/ 13583520 w 13583160"/>
                <a:gd name="textAreaTop" fmla="*/ 0 h 9241200"/>
                <a:gd name="textAreaBottom" fmla="*/ 9241560 h 9241200"/>
              </a:gdLst>
              <a:ahLst/>
              <a:rect l="textAreaLeft" t="textAreaTop" r="textAreaRight" b="textAreaBottom"/>
              <a:pathLst>
                <a:path w="21600" h="21600">
                  <a:moveTo>
                    <a:pt x="21212" y="21600"/>
                  </a:moveTo>
                  <a:lnTo>
                    <a:pt x="388" y="21600"/>
                  </a:lnTo>
                  <a:cubicBezTo>
                    <a:pt x="193" y="21600"/>
                    <a:pt x="0" y="21316"/>
                    <a:pt x="0" y="21030"/>
                  </a:cubicBezTo>
                  <a:lnTo>
                    <a:pt x="0" y="872"/>
                  </a:lnTo>
                  <a:cubicBezTo>
                    <a:pt x="0" y="390"/>
                    <a:pt x="299" y="0"/>
                    <a:pt x="627" y="0"/>
                  </a:cubicBezTo>
                  <a:lnTo>
                    <a:pt x="20972" y="0"/>
                  </a:lnTo>
                  <a:cubicBezTo>
                    <a:pt x="21299" y="0"/>
                    <a:pt x="21600" y="390"/>
                    <a:pt x="21600" y="872"/>
                  </a:cubicBezTo>
                  <a:lnTo>
                    <a:pt x="21600" y="21030"/>
                  </a:lnTo>
                  <a:cubicBezTo>
                    <a:pt x="21600" y="21316"/>
                    <a:pt x="21409" y="21600"/>
                    <a:pt x="21212" y="21600"/>
                  </a:cubicBezTo>
                  <a:close/>
                  <a:moveTo>
                    <a:pt x="405" y="21523"/>
                  </a:moveTo>
                  <a:lnTo>
                    <a:pt x="21193" y="21523"/>
                  </a:lnTo>
                  <a:cubicBezTo>
                    <a:pt x="21388" y="21523"/>
                    <a:pt x="21546" y="21289"/>
                    <a:pt x="21546" y="21005"/>
                  </a:cubicBezTo>
                  <a:lnTo>
                    <a:pt x="21546" y="975"/>
                  </a:lnTo>
                  <a:cubicBezTo>
                    <a:pt x="21546" y="509"/>
                    <a:pt x="21289" y="131"/>
                    <a:pt x="20972" y="131"/>
                  </a:cubicBezTo>
                  <a:lnTo>
                    <a:pt x="627" y="131"/>
                  </a:lnTo>
                  <a:cubicBezTo>
                    <a:pt x="311" y="131"/>
                    <a:pt x="54" y="509"/>
                    <a:pt x="54" y="975"/>
                  </a:cubicBezTo>
                  <a:lnTo>
                    <a:pt x="54" y="21005"/>
                  </a:lnTo>
                  <a:cubicBezTo>
                    <a:pt x="54" y="21289"/>
                    <a:pt x="212" y="21523"/>
                    <a:pt x="405" y="21523"/>
                  </a:cubicBezTo>
                  <a:close/>
                </a:path>
              </a:pathLst>
            </a:custGeom>
            <a:solidFill>
              <a:srgbClr val="b4b3b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93" name="Shape 1332"/>
            <p:cNvSpPr/>
            <p:nvPr/>
          </p:nvSpPr>
          <p:spPr>
            <a:xfrm>
              <a:off x="-4769280" y="2120040"/>
              <a:ext cx="13441320" cy="8896680"/>
            </a:xfrm>
            <a:custGeom>
              <a:avLst/>
              <a:gdLst>
                <a:gd name="textAreaLeft" fmla="*/ 0 w 13441320"/>
                <a:gd name="textAreaRight" fmla="*/ 13441680 w 13441320"/>
                <a:gd name="textAreaTop" fmla="*/ 0 h 8896680"/>
                <a:gd name="textAreaBottom" fmla="*/ 8897040 h 8896680"/>
              </a:gdLst>
              <a:ahLst/>
              <a:rect l="textAreaLeft" t="textAreaTop" r="textAreaRight" b="textAreaBottom"/>
              <a:pathLst>
                <a:path w="21597" h="21600">
                  <a:moveTo>
                    <a:pt x="21081" y="0"/>
                  </a:moveTo>
                  <a:lnTo>
                    <a:pt x="519" y="0"/>
                  </a:lnTo>
                  <a:cubicBezTo>
                    <a:pt x="236" y="0"/>
                    <a:pt x="0" y="351"/>
                    <a:pt x="0" y="787"/>
                  </a:cubicBezTo>
                  <a:lnTo>
                    <a:pt x="0" y="21061"/>
                  </a:lnTo>
                  <a:cubicBezTo>
                    <a:pt x="0" y="21359"/>
                    <a:pt x="161" y="21600"/>
                    <a:pt x="356" y="21600"/>
                  </a:cubicBezTo>
                  <a:lnTo>
                    <a:pt x="21242" y="21600"/>
                  </a:lnTo>
                  <a:cubicBezTo>
                    <a:pt x="21437" y="21600"/>
                    <a:pt x="21597" y="21359"/>
                    <a:pt x="21597" y="21061"/>
                  </a:cubicBezTo>
                  <a:lnTo>
                    <a:pt x="21597" y="782"/>
                  </a:lnTo>
                  <a:cubicBezTo>
                    <a:pt x="21600" y="351"/>
                    <a:pt x="21366" y="0"/>
                    <a:pt x="21081" y="0"/>
                  </a:cubicBezTo>
                </a:path>
              </a:pathLst>
            </a:custGeom>
            <a:solidFill>
              <a:srgbClr val="181a1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94" name="Shape 1333"/>
            <p:cNvSpPr/>
            <p:nvPr/>
          </p:nvSpPr>
          <p:spPr>
            <a:xfrm>
              <a:off x="-4340520" y="2702160"/>
              <a:ext cx="12581640" cy="7927560"/>
            </a:xfrm>
            <a:custGeom>
              <a:avLst/>
              <a:gdLst>
                <a:gd name="textAreaLeft" fmla="*/ 0 w 12581640"/>
                <a:gd name="textAreaRight" fmla="*/ 12582000 w 12581640"/>
                <a:gd name="textAreaTop" fmla="*/ 0 h 7927560"/>
                <a:gd name="textAreaBottom" fmla="*/ 7927920 h 7927560"/>
              </a:gdLst>
              <a:ahLst/>
              <a:rect l="textAreaLeft" t="textAreaTop" r="textAreaRight" b="textAreaBottom"/>
              <a:pathLst>
                <a:path w="21600" h="21600">
                  <a:moveTo>
                    <a:pt x="10802" y="21600"/>
                  </a:moveTo>
                  <a:lnTo>
                    <a:pt x="0" y="21600"/>
                  </a:lnTo>
                  <a:lnTo>
                    <a:pt x="0" y="0"/>
                  </a:lnTo>
                  <a:lnTo>
                    <a:pt x="21600" y="0"/>
                  </a:lnTo>
                  <a:lnTo>
                    <a:pt x="21600" y="21600"/>
                  </a:lnTo>
                  <a:lnTo>
                    <a:pt x="10802" y="21600"/>
                  </a:lnTo>
                </a:path>
              </a:pathLst>
            </a:custGeom>
            <a:solidFill>
              <a:srgbClr val="3d3d3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95" name="Shape 1334"/>
            <p:cNvSpPr/>
            <p:nvPr/>
          </p:nvSpPr>
          <p:spPr>
            <a:xfrm>
              <a:off x="1901880" y="2446200"/>
              <a:ext cx="105840" cy="105840"/>
            </a:xfrm>
            <a:custGeom>
              <a:avLst/>
              <a:gdLst>
                <a:gd name="textAreaLeft" fmla="*/ 0 w 105840"/>
                <a:gd name="textAreaRight" fmla="*/ 106200 w 105840"/>
                <a:gd name="textAreaTop" fmla="*/ 0 h 105840"/>
                <a:gd name="textAreaBottom" fmla="*/ 106200 h 105840"/>
              </a:gdLst>
              <a:ahLst/>
              <a:rect l="textAreaLeft" t="textAreaTop" r="textAreaRight" b="textAreaBottom"/>
              <a:pathLst>
                <a:path w="21600" h="21600">
                  <a:moveTo>
                    <a:pt x="21600" y="10693"/>
                  </a:moveTo>
                  <a:cubicBezTo>
                    <a:pt x="21600" y="12618"/>
                    <a:pt x="21168" y="14329"/>
                    <a:pt x="20088" y="16040"/>
                  </a:cubicBezTo>
                  <a:cubicBezTo>
                    <a:pt x="19224" y="17750"/>
                    <a:pt x="18144" y="19034"/>
                    <a:pt x="16416" y="20103"/>
                  </a:cubicBezTo>
                  <a:cubicBezTo>
                    <a:pt x="14472" y="20958"/>
                    <a:pt x="12960" y="21600"/>
                    <a:pt x="11016" y="21600"/>
                  </a:cubicBezTo>
                  <a:cubicBezTo>
                    <a:pt x="9072" y="21600"/>
                    <a:pt x="7344" y="20958"/>
                    <a:pt x="5616" y="20103"/>
                  </a:cubicBezTo>
                  <a:cubicBezTo>
                    <a:pt x="3672" y="19034"/>
                    <a:pt x="2376" y="17750"/>
                    <a:pt x="1512" y="16040"/>
                  </a:cubicBezTo>
                  <a:cubicBezTo>
                    <a:pt x="432" y="14329"/>
                    <a:pt x="0" y="12618"/>
                    <a:pt x="0" y="10693"/>
                  </a:cubicBezTo>
                  <a:cubicBezTo>
                    <a:pt x="0" y="8768"/>
                    <a:pt x="432" y="7057"/>
                    <a:pt x="1512" y="5347"/>
                  </a:cubicBezTo>
                  <a:cubicBezTo>
                    <a:pt x="2376" y="3636"/>
                    <a:pt x="3672" y="2352"/>
                    <a:pt x="5616" y="1497"/>
                  </a:cubicBezTo>
                  <a:cubicBezTo>
                    <a:pt x="7344" y="428"/>
                    <a:pt x="9072" y="0"/>
                    <a:pt x="11016" y="0"/>
                  </a:cubicBezTo>
                  <a:cubicBezTo>
                    <a:pt x="12960" y="0"/>
                    <a:pt x="14472" y="428"/>
                    <a:pt x="16416" y="1497"/>
                  </a:cubicBezTo>
                  <a:cubicBezTo>
                    <a:pt x="18144" y="2352"/>
                    <a:pt x="19224" y="3636"/>
                    <a:pt x="20088" y="5347"/>
                  </a:cubicBezTo>
                  <a:cubicBezTo>
                    <a:pt x="21168" y="7057"/>
                    <a:pt x="21600" y="8768"/>
                    <a:pt x="21600" y="10693"/>
                  </a:cubicBezTo>
                </a:path>
              </a:pathLst>
            </a:custGeom>
            <a:solidFill>
              <a:srgbClr val="4c4d4b"/>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96" name="Shape 1335"/>
            <p:cNvSpPr/>
            <p:nvPr/>
          </p:nvSpPr>
          <p:spPr>
            <a:xfrm>
              <a:off x="1901880" y="2448000"/>
              <a:ext cx="82440" cy="80280"/>
            </a:xfrm>
            <a:custGeom>
              <a:avLst/>
              <a:gdLst>
                <a:gd name="textAreaLeft" fmla="*/ 0 w 82440"/>
                <a:gd name="textAreaRight" fmla="*/ 82800 w 82440"/>
                <a:gd name="textAreaTop" fmla="*/ 0 h 80280"/>
                <a:gd name="textAreaBottom" fmla="*/ 80640 h 80280"/>
              </a:gdLst>
              <a:ahLst/>
              <a:rect l="textAreaLeft" t="textAreaTop" r="textAreaRight" b="textAreaBottom"/>
              <a:pathLst>
                <a:path w="21600" h="21076">
                  <a:moveTo>
                    <a:pt x="0" y="12380"/>
                  </a:moveTo>
                  <a:cubicBezTo>
                    <a:pt x="0" y="13502"/>
                    <a:pt x="0" y="14624"/>
                    <a:pt x="831" y="16588"/>
                  </a:cubicBezTo>
                  <a:cubicBezTo>
                    <a:pt x="3046" y="19393"/>
                    <a:pt x="6646" y="21076"/>
                    <a:pt x="9969" y="21076"/>
                  </a:cubicBezTo>
                  <a:cubicBezTo>
                    <a:pt x="16338" y="21076"/>
                    <a:pt x="21600" y="16027"/>
                    <a:pt x="21600" y="10136"/>
                  </a:cubicBezTo>
                  <a:cubicBezTo>
                    <a:pt x="21600" y="5928"/>
                    <a:pt x="19385" y="1720"/>
                    <a:pt x="15785" y="37"/>
                  </a:cubicBezTo>
                  <a:cubicBezTo>
                    <a:pt x="15231" y="37"/>
                    <a:pt x="14123" y="37"/>
                    <a:pt x="13569" y="37"/>
                  </a:cubicBezTo>
                  <a:cubicBezTo>
                    <a:pt x="5815" y="-524"/>
                    <a:pt x="0" y="5367"/>
                    <a:pt x="0" y="12380"/>
                  </a:cubicBezTo>
                </a:path>
              </a:pathLst>
            </a:custGeom>
            <a:solidFill>
              <a:srgbClr val="0e0d0c"/>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97" name="Shape 1336"/>
            <p:cNvSpPr/>
            <p:nvPr/>
          </p:nvSpPr>
          <p:spPr>
            <a:xfrm>
              <a:off x="-6324480" y="11453400"/>
              <a:ext cx="16619400" cy="222120"/>
            </a:xfrm>
            <a:custGeom>
              <a:avLst/>
              <a:gdLst>
                <a:gd name="textAreaLeft" fmla="*/ 0 w 16619400"/>
                <a:gd name="textAreaRight" fmla="*/ 16619760 w 16619400"/>
                <a:gd name="textAreaTop" fmla="*/ 0 h 222120"/>
                <a:gd name="textAreaBottom" fmla="*/ 222480 h 222120"/>
              </a:gdLst>
              <a:ahLst/>
              <a:rect l="textAreaLeft" t="textAreaTop" r="textAreaRight" b="textAreaBottom"/>
              <a:pathLst>
                <a:path w="21598" h="21600">
                  <a:moveTo>
                    <a:pt x="20352" y="21600"/>
                  </a:moveTo>
                  <a:cubicBezTo>
                    <a:pt x="13789" y="21600"/>
                    <a:pt x="7801" y="21600"/>
                    <a:pt x="1239" y="21600"/>
                  </a:cubicBezTo>
                  <a:cubicBezTo>
                    <a:pt x="815" y="17280"/>
                    <a:pt x="193" y="5451"/>
                    <a:pt x="3" y="720"/>
                  </a:cubicBezTo>
                  <a:cubicBezTo>
                    <a:pt x="-1" y="720"/>
                    <a:pt x="-1" y="0"/>
                    <a:pt x="3" y="0"/>
                  </a:cubicBezTo>
                  <a:cubicBezTo>
                    <a:pt x="7200" y="0"/>
                    <a:pt x="14398" y="0"/>
                    <a:pt x="21596" y="0"/>
                  </a:cubicBezTo>
                  <a:cubicBezTo>
                    <a:pt x="21599" y="0"/>
                    <a:pt x="21599" y="411"/>
                    <a:pt x="21596" y="720"/>
                  </a:cubicBezTo>
                  <a:cubicBezTo>
                    <a:pt x="21510" y="4114"/>
                    <a:pt x="20891" y="19851"/>
                    <a:pt x="20352" y="21600"/>
                  </a:cubicBezTo>
                </a:path>
              </a:pathLst>
            </a:custGeom>
            <a:solidFill>
              <a:srgbClr val="afba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98" name="Shape 1337"/>
            <p:cNvSpPr/>
            <p:nvPr/>
          </p:nvSpPr>
          <p:spPr>
            <a:xfrm>
              <a:off x="-6325200" y="11194920"/>
              <a:ext cx="16620480" cy="264240"/>
            </a:xfrm>
            <a:custGeom>
              <a:avLst/>
              <a:gdLst>
                <a:gd name="textAreaLeft" fmla="*/ 0 w 16620480"/>
                <a:gd name="textAreaRight" fmla="*/ 16620840 w 16620480"/>
                <a:gd name="textAreaTop" fmla="*/ 0 h 264240"/>
                <a:gd name="textAreaBottom" fmla="*/ 264600 h 264240"/>
              </a:gdLst>
              <a:ahLst/>
              <a:rect l="textAreaLeft" t="textAreaTop" r="textAreaRight" b="textAreaBottom"/>
              <a:pathLst>
                <a:path w="21600" h="21600">
                  <a:moveTo>
                    <a:pt x="21597" y="21600"/>
                  </a:moveTo>
                  <a:lnTo>
                    <a:pt x="4" y="21600"/>
                  </a:lnTo>
                  <a:cubicBezTo>
                    <a:pt x="0" y="21600"/>
                    <a:pt x="0" y="21600"/>
                    <a:pt x="0" y="21429"/>
                  </a:cubicBezTo>
                  <a:lnTo>
                    <a:pt x="0" y="3600"/>
                  </a:lnTo>
                  <a:cubicBezTo>
                    <a:pt x="0" y="1629"/>
                    <a:pt x="26" y="0"/>
                    <a:pt x="58" y="0"/>
                  </a:cubicBezTo>
                  <a:lnTo>
                    <a:pt x="21542" y="0"/>
                  </a:lnTo>
                  <a:cubicBezTo>
                    <a:pt x="21574" y="0"/>
                    <a:pt x="21600" y="1629"/>
                    <a:pt x="21600" y="3600"/>
                  </a:cubicBezTo>
                  <a:cubicBezTo>
                    <a:pt x="21600" y="3600"/>
                    <a:pt x="21600" y="21600"/>
                    <a:pt x="21597" y="21600"/>
                  </a:cubicBezTo>
                </a:path>
              </a:pathLst>
            </a:custGeom>
            <a:solidFill>
              <a:srgbClr val="e7e7e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399" name="Shape 1338"/>
            <p:cNvSpPr/>
            <p:nvPr/>
          </p:nvSpPr>
          <p:spPr>
            <a:xfrm>
              <a:off x="853560" y="11194920"/>
              <a:ext cx="2257920" cy="133560"/>
            </a:xfrm>
            <a:custGeom>
              <a:avLst/>
              <a:gdLst>
                <a:gd name="textAreaLeft" fmla="*/ 0 w 2257920"/>
                <a:gd name="textAreaRight" fmla="*/ 2258280 w 2257920"/>
                <a:gd name="textAreaTop" fmla="*/ 0 h 133560"/>
                <a:gd name="textAreaBottom" fmla="*/ 133920 h 133560"/>
              </a:gdLst>
              <a:ahLst/>
              <a:rect l="textAreaLeft" t="textAreaTop" r="textAreaRight" b="textAreaBottom"/>
              <a:pathLst>
                <a:path w="21600" h="21600">
                  <a:moveTo>
                    <a:pt x="0" y="0"/>
                  </a:moveTo>
                  <a:lnTo>
                    <a:pt x="0" y="10800"/>
                  </a:lnTo>
                  <a:cubicBezTo>
                    <a:pt x="0" y="16971"/>
                    <a:pt x="384" y="21600"/>
                    <a:pt x="828" y="21600"/>
                  </a:cubicBezTo>
                  <a:lnTo>
                    <a:pt x="20772" y="21600"/>
                  </a:lnTo>
                  <a:cubicBezTo>
                    <a:pt x="21236" y="21600"/>
                    <a:pt x="21600" y="16971"/>
                    <a:pt x="21600" y="10800"/>
                  </a:cubicBezTo>
                  <a:lnTo>
                    <a:pt x="21600" y="0"/>
                  </a:lnTo>
                  <a:lnTo>
                    <a:pt x="0" y="0"/>
                  </a:lnTo>
                </a:path>
              </a:pathLst>
            </a:custGeom>
            <a:solidFill>
              <a:srgbClr val="afbac0"/>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pic>
        <p:nvPicPr>
          <p:cNvPr id="4400" name="Bildplatzhalter 1" descr=""/>
          <p:cNvPicPr/>
          <p:nvPr/>
        </p:nvPicPr>
        <p:blipFill>
          <a:blip r:embed="rId1"/>
          <a:srcRect l="-692014" t="-536102" r="-692014" b="-536102"/>
          <a:stretch/>
        </p:blipFill>
        <p:spPr>
          <a:xfrm>
            <a:off x="-4303080" y="2715840"/>
            <a:ext cx="12576240" cy="7924680"/>
          </a:xfrm>
          <a:prstGeom prst="rect">
            <a:avLst/>
          </a:prstGeom>
          <a:ln w="0">
            <a:noFill/>
          </a:ln>
        </p:spPr>
      </p:pic>
      <p:sp>
        <p:nvSpPr>
          <p:cNvPr id="4401" name="Shape 1341"/>
          <p:cNvSpPr/>
          <p:nvPr/>
        </p:nvSpPr>
        <p:spPr>
          <a:xfrm>
            <a:off x="12195720" y="1712160"/>
            <a:ext cx="10161000" cy="368352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Notebook</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Mockup</a:t>
            </a:r>
            <a:endParaRPr b="0" lang="en-US" sz="11200" spc="-1" strike="noStrike">
              <a:solidFill>
                <a:srgbClr val="000000"/>
              </a:solidFill>
              <a:latin typeface="Arial"/>
            </a:endParaRPr>
          </a:p>
        </p:txBody>
      </p:sp>
      <p:sp>
        <p:nvSpPr>
          <p:cNvPr id="4402" name="Shape 1342"/>
          <p:cNvSpPr/>
          <p:nvPr/>
        </p:nvSpPr>
        <p:spPr>
          <a:xfrm>
            <a:off x="12192120" y="5833080"/>
            <a:ext cx="9145080" cy="20361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mago ona leso damer prier ersade.</a:t>
            </a:r>
            <a:endParaRPr b="0" lang="en-US" sz="4800" spc="-1" strike="noStrike">
              <a:solidFill>
                <a:srgbClr val="000000"/>
              </a:solidFill>
              <a:latin typeface="Arial"/>
            </a:endParaRPr>
          </a:p>
        </p:txBody>
      </p:sp>
      <p:sp>
        <p:nvSpPr>
          <p:cNvPr id="4403" name="Shape 1343"/>
          <p:cNvSpPr/>
          <p:nvPr/>
        </p:nvSpPr>
        <p:spPr>
          <a:xfrm>
            <a:off x="12192120" y="906876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404" name="Shape 1344"/>
          <p:cNvSpPr/>
          <p:nvPr/>
        </p:nvSpPr>
        <p:spPr>
          <a:xfrm>
            <a:off x="12192120" y="830664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405" name="Shape 1345"/>
          <p:cNvSpPr/>
          <p:nvPr/>
        </p:nvSpPr>
        <p:spPr>
          <a:xfrm>
            <a:off x="17718120" y="8306640"/>
            <a:ext cx="462564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406" name="Shape 1346"/>
          <p:cNvSpPr/>
          <p:nvPr/>
        </p:nvSpPr>
        <p:spPr>
          <a:xfrm>
            <a:off x="17718120" y="906876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7" name="Shape 1351"/>
          <p:cNvSpPr/>
          <p:nvPr/>
        </p:nvSpPr>
        <p:spPr>
          <a:xfrm>
            <a:off x="2031840" y="1708200"/>
            <a:ext cx="4825800" cy="45932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Meet</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h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eam</a:t>
            </a:r>
            <a:endParaRPr b="0" lang="en-US" sz="11200" spc="-1" strike="noStrike">
              <a:solidFill>
                <a:srgbClr val="000000"/>
              </a:solidFill>
              <a:latin typeface="Arial"/>
            </a:endParaRPr>
          </a:p>
        </p:txBody>
      </p:sp>
      <p:sp>
        <p:nvSpPr>
          <p:cNvPr id="4408" name="Shape 1352"/>
          <p:cNvSpPr/>
          <p:nvPr/>
        </p:nvSpPr>
        <p:spPr>
          <a:xfrm>
            <a:off x="7365960" y="9391680"/>
            <a:ext cx="4825800" cy="5878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TOM MILLER</a:t>
            </a:r>
            <a:endParaRPr b="0" lang="en-US" sz="3000" spc="-1" strike="noStrike">
              <a:solidFill>
                <a:srgbClr val="000000"/>
              </a:solidFill>
              <a:latin typeface="Arial"/>
            </a:endParaRPr>
          </a:p>
        </p:txBody>
      </p:sp>
      <p:sp>
        <p:nvSpPr>
          <p:cNvPr id="4409" name="Shape 1353"/>
          <p:cNvSpPr/>
          <p:nvPr/>
        </p:nvSpPr>
        <p:spPr>
          <a:xfrm>
            <a:off x="7365960" y="9985320"/>
            <a:ext cx="4825800" cy="533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Ceo - Creative</a:t>
            </a:r>
            <a:endParaRPr b="0" lang="en-US" sz="3000" spc="-1" strike="noStrike">
              <a:solidFill>
                <a:srgbClr val="000000"/>
              </a:solidFill>
              <a:latin typeface="Arial"/>
            </a:endParaRPr>
          </a:p>
        </p:txBody>
      </p:sp>
      <p:sp>
        <p:nvSpPr>
          <p:cNvPr id="4410" name="Shape 1354"/>
          <p:cNvSpPr/>
          <p:nvPr/>
        </p:nvSpPr>
        <p:spPr>
          <a:xfrm>
            <a:off x="12450960" y="9391680"/>
            <a:ext cx="4825800" cy="5878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JENA SMITH</a:t>
            </a:r>
            <a:endParaRPr b="0" lang="en-US" sz="3000" spc="-1" strike="noStrike">
              <a:solidFill>
                <a:srgbClr val="000000"/>
              </a:solidFill>
              <a:latin typeface="Arial"/>
            </a:endParaRPr>
          </a:p>
        </p:txBody>
      </p:sp>
      <p:sp>
        <p:nvSpPr>
          <p:cNvPr id="4411" name="Shape 1355"/>
          <p:cNvSpPr/>
          <p:nvPr/>
        </p:nvSpPr>
        <p:spPr>
          <a:xfrm>
            <a:off x="12450960" y="9985320"/>
            <a:ext cx="4825800" cy="533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upport - Design</a:t>
            </a:r>
            <a:endParaRPr b="0" lang="en-US" sz="3000" spc="-1" strike="noStrike">
              <a:solidFill>
                <a:srgbClr val="000000"/>
              </a:solidFill>
              <a:latin typeface="Arial"/>
            </a:endParaRPr>
          </a:p>
        </p:txBody>
      </p:sp>
      <p:sp>
        <p:nvSpPr>
          <p:cNvPr id="4412" name="Shape 1356"/>
          <p:cNvSpPr/>
          <p:nvPr/>
        </p:nvSpPr>
        <p:spPr>
          <a:xfrm>
            <a:off x="17530920" y="9391680"/>
            <a:ext cx="4825800" cy="5878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IKE FORMS</a:t>
            </a:r>
            <a:endParaRPr b="0" lang="en-US" sz="3000" spc="-1" strike="noStrike">
              <a:solidFill>
                <a:srgbClr val="000000"/>
              </a:solidFill>
              <a:latin typeface="Arial"/>
            </a:endParaRPr>
          </a:p>
        </p:txBody>
      </p:sp>
      <p:sp>
        <p:nvSpPr>
          <p:cNvPr id="4413" name="Shape 1357"/>
          <p:cNvSpPr/>
          <p:nvPr/>
        </p:nvSpPr>
        <p:spPr>
          <a:xfrm>
            <a:off x="17530920" y="9985320"/>
            <a:ext cx="4825800" cy="533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pp Development</a:t>
            </a:r>
            <a:endParaRPr b="0" lang="en-US" sz="3000" spc="-1" strike="noStrike">
              <a:solidFill>
                <a:srgbClr val="000000"/>
              </a:solidFill>
              <a:latin typeface="Arial"/>
            </a:endParaRPr>
          </a:p>
        </p:txBody>
      </p:sp>
      <p:sp>
        <p:nvSpPr>
          <p:cNvPr id="4414" name="Shape 1358"/>
          <p:cNvSpPr/>
          <p:nvPr/>
        </p:nvSpPr>
        <p:spPr>
          <a:xfrm>
            <a:off x="2031840" y="6858000"/>
            <a:ext cx="4571640" cy="5177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ed diam diotur niema nonumy eirmod tempor invidunt ubore eto ogna aliquyam erat desando greadon.</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Lorem ipsum dolor sitos amet. Lorem eso ipsum dolor sit 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5" name="Shape 1363"/>
          <p:cNvSpPr/>
          <p:nvPr/>
        </p:nvSpPr>
        <p:spPr>
          <a:xfrm>
            <a:off x="2696760" y="865188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16" name="Shape 1364"/>
          <p:cNvSpPr/>
          <p:nvPr/>
        </p:nvSpPr>
        <p:spPr>
          <a:xfrm>
            <a:off x="2681280" y="924552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17" name="Shape 1365"/>
          <p:cNvSpPr/>
          <p:nvPr/>
        </p:nvSpPr>
        <p:spPr>
          <a:xfrm>
            <a:off x="2047680" y="10159920"/>
            <a:ext cx="5838480" cy="126828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a:t>
            </a:r>
            <a:endParaRPr b="0" lang="en-US" sz="3000" spc="-1" strike="noStrike">
              <a:solidFill>
                <a:srgbClr val="000000"/>
              </a:solidFill>
              <a:latin typeface="Arial"/>
            </a:endParaRPr>
          </a:p>
        </p:txBody>
      </p:sp>
      <p:sp>
        <p:nvSpPr>
          <p:cNvPr id="4418" name="Shape 1366"/>
          <p:cNvSpPr/>
          <p:nvPr/>
        </p:nvSpPr>
        <p:spPr>
          <a:xfrm>
            <a:off x="9916200" y="865188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19" name="Shape 1367"/>
          <p:cNvSpPr/>
          <p:nvPr/>
        </p:nvSpPr>
        <p:spPr>
          <a:xfrm>
            <a:off x="9916200" y="924552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20" name="Shape 1368"/>
          <p:cNvSpPr/>
          <p:nvPr/>
        </p:nvSpPr>
        <p:spPr>
          <a:xfrm>
            <a:off x="17151480" y="865188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21" name="Shape 1369"/>
          <p:cNvSpPr/>
          <p:nvPr/>
        </p:nvSpPr>
        <p:spPr>
          <a:xfrm>
            <a:off x="17151480" y="924552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22" name="Shape 1370"/>
          <p:cNvSpPr/>
          <p:nvPr/>
        </p:nvSpPr>
        <p:spPr>
          <a:xfrm>
            <a:off x="9282960" y="10159920"/>
            <a:ext cx="5838480" cy="126828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a:t>
            </a:r>
            <a:endParaRPr b="0" lang="en-US" sz="3000" spc="-1" strike="noStrike">
              <a:solidFill>
                <a:srgbClr val="000000"/>
              </a:solidFill>
              <a:latin typeface="Arial"/>
            </a:endParaRPr>
          </a:p>
        </p:txBody>
      </p:sp>
      <p:sp>
        <p:nvSpPr>
          <p:cNvPr id="4423" name="Shape 1371"/>
          <p:cNvSpPr/>
          <p:nvPr/>
        </p:nvSpPr>
        <p:spPr>
          <a:xfrm>
            <a:off x="16518240" y="10159920"/>
            <a:ext cx="5838480" cy="126828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a:t>
            </a:r>
            <a:endParaRPr b="0" lang="en-US" sz="3000" spc="-1" strike="noStrike">
              <a:solidFill>
                <a:srgbClr val="000000"/>
              </a:solidFill>
              <a:latin typeface="Arial"/>
            </a:endParaRPr>
          </a:p>
        </p:txBody>
      </p:sp>
      <p:sp>
        <p:nvSpPr>
          <p:cNvPr id="4424" name="Shape 1372"/>
          <p:cNvSpPr/>
          <p:nvPr/>
        </p:nvSpPr>
        <p:spPr>
          <a:xfrm>
            <a:off x="2047680" y="1806840"/>
            <a:ext cx="9144720" cy="19047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Dreso nade mer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5" name="Shape 1378"/>
          <p:cNvSpPr/>
          <p:nvPr/>
        </p:nvSpPr>
        <p:spPr>
          <a:xfrm>
            <a:off x="2031840" y="1708200"/>
            <a:ext cx="914364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We ar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h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eam</a:t>
            </a:r>
            <a:endParaRPr b="0" lang="en-US" sz="11200" spc="-1" strike="noStrike">
              <a:solidFill>
                <a:srgbClr val="000000"/>
              </a:solidFill>
              <a:latin typeface="Arial"/>
            </a:endParaRPr>
          </a:p>
        </p:txBody>
      </p:sp>
      <p:sp>
        <p:nvSpPr>
          <p:cNvPr id="4426" name="Shape 1379"/>
          <p:cNvSpPr/>
          <p:nvPr/>
        </p:nvSpPr>
        <p:spPr>
          <a:xfrm>
            <a:off x="17785080" y="517212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27" name="Shape 1380"/>
          <p:cNvSpPr/>
          <p:nvPr/>
        </p:nvSpPr>
        <p:spPr>
          <a:xfrm>
            <a:off x="17785080" y="576576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28" name="Shape 1381"/>
          <p:cNvSpPr/>
          <p:nvPr/>
        </p:nvSpPr>
        <p:spPr>
          <a:xfrm>
            <a:off x="12192120" y="517212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29" name="Shape 1382"/>
          <p:cNvSpPr/>
          <p:nvPr/>
        </p:nvSpPr>
        <p:spPr>
          <a:xfrm>
            <a:off x="12192120" y="576576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30" name="Shape 1383"/>
          <p:cNvSpPr/>
          <p:nvPr/>
        </p:nvSpPr>
        <p:spPr>
          <a:xfrm>
            <a:off x="12192120" y="1072044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31" name="Shape 1384"/>
          <p:cNvSpPr/>
          <p:nvPr/>
        </p:nvSpPr>
        <p:spPr>
          <a:xfrm>
            <a:off x="12192120" y="1131408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32" name="Shape 1385"/>
          <p:cNvSpPr/>
          <p:nvPr/>
        </p:nvSpPr>
        <p:spPr>
          <a:xfrm>
            <a:off x="17772120" y="1068696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33" name="Shape 1386"/>
          <p:cNvSpPr/>
          <p:nvPr/>
        </p:nvSpPr>
        <p:spPr>
          <a:xfrm>
            <a:off x="17772120" y="1128060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34" name="Shape 1387"/>
          <p:cNvSpPr/>
          <p:nvPr/>
        </p:nvSpPr>
        <p:spPr>
          <a:xfrm>
            <a:off x="2039760" y="7302600"/>
            <a:ext cx="9143640" cy="36781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ed diam diotur niema nonumy eirmod tempor invidunt ubore eto ogna aliquyam erat desando ereson greadon.</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Lorem ipsum dolor sitos amet. Lorem eso ipsum dolor sit rutras 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5" name="Shape 1390"/>
          <p:cNvSpPr/>
          <p:nvPr/>
        </p:nvSpPr>
        <p:spPr>
          <a:xfrm>
            <a:off x="2035080" y="1708200"/>
            <a:ext cx="571176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Meet</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Mik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Forms</a:t>
            </a:r>
            <a:endParaRPr b="0" lang="en-US" sz="11200" spc="-1" strike="noStrike">
              <a:solidFill>
                <a:srgbClr val="000000"/>
              </a:solidFill>
              <a:latin typeface="Arial"/>
            </a:endParaRPr>
          </a:p>
        </p:txBody>
      </p:sp>
      <p:sp>
        <p:nvSpPr>
          <p:cNvPr id="4436" name="Shape 1391"/>
          <p:cNvSpPr/>
          <p:nvPr/>
        </p:nvSpPr>
        <p:spPr>
          <a:xfrm>
            <a:off x="9786600" y="10687320"/>
            <a:ext cx="482580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37" name="Shape 1392"/>
          <p:cNvSpPr/>
          <p:nvPr/>
        </p:nvSpPr>
        <p:spPr>
          <a:xfrm>
            <a:off x="9786600" y="11280600"/>
            <a:ext cx="482580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38" name="Shape 1393"/>
          <p:cNvSpPr/>
          <p:nvPr/>
        </p:nvSpPr>
        <p:spPr>
          <a:xfrm>
            <a:off x="2035080" y="7215120"/>
            <a:ext cx="482580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esd diam diotur niema nonumy eirmod tempor invidunt ubore eto ogna aliquyam erate desando greadon.</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Lorem ipsum dolor sitos amen orem eso.</a:t>
            </a:r>
            <a:endParaRPr b="0" lang="en-US" sz="3000" spc="-1" strike="noStrike">
              <a:solidFill>
                <a:srgbClr val="000000"/>
              </a:solidFill>
              <a:latin typeface="Arial"/>
            </a:endParaRPr>
          </a:p>
        </p:txBody>
      </p:sp>
      <p:sp>
        <p:nvSpPr>
          <p:cNvPr id="4439" name="Shape 1394"/>
          <p:cNvSpPr/>
          <p:nvPr/>
        </p:nvSpPr>
        <p:spPr>
          <a:xfrm>
            <a:off x="17718120" y="1830600"/>
            <a:ext cx="462564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BOUT</a:t>
            </a:r>
            <a:endParaRPr b="0" lang="en-US" sz="3000" spc="-1" strike="noStrike">
              <a:solidFill>
                <a:srgbClr val="000000"/>
              </a:solidFill>
              <a:latin typeface="Arial"/>
            </a:endParaRPr>
          </a:p>
        </p:txBody>
      </p:sp>
      <p:sp>
        <p:nvSpPr>
          <p:cNvPr id="4440" name="Shape 1395"/>
          <p:cNvSpPr/>
          <p:nvPr/>
        </p:nvSpPr>
        <p:spPr>
          <a:xfrm>
            <a:off x="17715960" y="56142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STORY</a:t>
            </a:r>
            <a:endParaRPr b="0" lang="en-US" sz="3000" spc="-1" strike="noStrike">
              <a:solidFill>
                <a:srgbClr val="000000"/>
              </a:solidFill>
              <a:latin typeface="Arial"/>
            </a:endParaRPr>
          </a:p>
        </p:txBody>
      </p:sp>
      <p:sp>
        <p:nvSpPr>
          <p:cNvPr id="4441" name="Shape 1396"/>
          <p:cNvSpPr/>
          <p:nvPr/>
        </p:nvSpPr>
        <p:spPr>
          <a:xfrm>
            <a:off x="17718120" y="259236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442" name="Shape 1397"/>
          <p:cNvSpPr/>
          <p:nvPr/>
        </p:nvSpPr>
        <p:spPr>
          <a:xfrm>
            <a:off x="17715960" y="63763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443" name="Shape 1398"/>
          <p:cNvSpPr/>
          <p:nvPr/>
        </p:nvSpPr>
        <p:spPr>
          <a:xfrm>
            <a:off x="17715960" y="93981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WHAT I DO</a:t>
            </a:r>
            <a:endParaRPr b="0" lang="en-US" sz="3000" spc="-1" strike="noStrike">
              <a:solidFill>
                <a:srgbClr val="000000"/>
              </a:solidFill>
              <a:latin typeface="Arial"/>
            </a:endParaRPr>
          </a:p>
        </p:txBody>
      </p:sp>
      <p:sp>
        <p:nvSpPr>
          <p:cNvPr id="4444" name="Shape 1399"/>
          <p:cNvSpPr/>
          <p:nvPr/>
        </p:nvSpPr>
        <p:spPr>
          <a:xfrm>
            <a:off x="17715960" y="101599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2" name="Shape 1064"/>
          <p:cNvSpPr/>
          <p:nvPr/>
        </p:nvSpPr>
        <p:spPr>
          <a:xfrm>
            <a:off x="2031840" y="1733040"/>
            <a:ext cx="1015992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About</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Be Agency</a:t>
            </a:r>
            <a:endParaRPr b="0" lang="en-US" sz="11200" spc="-1" strike="noStrike">
              <a:solidFill>
                <a:srgbClr val="000000"/>
              </a:solidFill>
              <a:latin typeface="Arial"/>
            </a:endParaRPr>
          </a:p>
        </p:txBody>
      </p:sp>
      <p:sp>
        <p:nvSpPr>
          <p:cNvPr id="4203" name="Shape 1065"/>
          <p:cNvSpPr/>
          <p:nvPr/>
        </p:nvSpPr>
        <p:spPr>
          <a:xfrm>
            <a:off x="13208400" y="8501760"/>
            <a:ext cx="9144720" cy="34027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eot clita kuasd gubergren, nosotra sea fronds takimata sanctus est Lorem ero psusit druamet. Lorem eso ipsum dolor sit amet, deras gradaso consetetur sadipscing elitromas. Sed diam dnie nonumy eirmod tempor invidunt utony labore etodre dolor noradsa mirda.</a:t>
            </a:r>
            <a:endParaRPr b="0" lang="en-US" sz="3000" spc="-1" strike="noStrike">
              <a:solidFill>
                <a:srgbClr val="000000"/>
              </a:solidFill>
              <a:latin typeface="Arial"/>
            </a:endParaRPr>
          </a:p>
        </p:txBody>
      </p:sp>
      <p:sp>
        <p:nvSpPr>
          <p:cNvPr id="4204" name="Shape 1066"/>
          <p:cNvSpPr/>
          <p:nvPr/>
        </p:nvSpPr>
        <p:spPr>
          <a:xfrm>
            <a:off x="13208400" y="1923480"/>
            <a:ext cx="9144720" cy="57729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wetoma jam rebum. Stet clita kuasd gubergren, nosotra seansa takimata sanctus est Lorem ipsum dolor sit amet. Lorem eso ipsum dolor sit amet, deras consetetur sadipscing idas brotas geras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5" name="Shape 1404"/>
          <p:cNvSpPr/>
          <p:nvPr/>
        </p:nvSpPr>
        <p:spPr>
          <a:xfrm>
            <a:off x="2655720" y="843624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46" name="Shape 1405"/>
          <p:cNvSpPr/>
          <p:nvPr/>
        </p:nvSpPr>
        <p:spPr>
          <a:xfrm>
            <a:off x="2655720" y="902952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47" name="Shape 1406"/>
          <p:cNvSpPr/>
          <p:nvPr/>
        </p:nvSpPr>
        <p:spPr>
          <a:xfrm>
            <a:off x="2022480" y="9943920"/>
            <a:ext cx="5838480" cy="126828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a:t>
            </a:r>
            <a:endParaRPr b="0" lang="en-US" sz="3000" spc="-1" strike="noStrike">
              <a:solidFill>
                <a:srgbClr val="000000"/>
              </a:solidFill>
              <a:latin typeface="Arial"/>
            </a:endParaRPr>
          </a:p>
        </p:txBody>
      </p:sp>
      <p:sp>
        <p:nvSpPr>
          <p:cNvPr id="4448" name="Shape 1407"/>
          <p:cNvSpPr/>
          <p:nvPr/>
        </p:nvSpPr>
        <p:spPr>
          <a:xfrm>
            <a:off x="9891000" y="843624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49" name="Shape 1408"/>
          <p:cNvSpPr/>
          <p:nvPr/>
        </p:nvSpPr>
        <p:spPr>
          <a:xfrm>
            <a:off x="9891000" y="902952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50" name="Shape 1409"/>
          <p:cNvSpPr/>
          <p:nvPr/>
        </p:nvSpPr>
        <p:spPr>
          <a:xfrm>
            <a:off x="17126280" y="843624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451" name="Shape 1410"/>
          <p:cNvSpPr/>
          <p:nvPr/>
        </p:nvSpPr>
        <p:spPr>
          <a:xfrm>
            <a:off x="17126280" y="902952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App - Development</a:t>
            </a:r>
            <a:endParaRPr b="0" lang="en-US" sz="3000" spc="-1" strike="noStrike">
              <a:solidFill>
                <a:srgbClr val="000000"/>
              </a:solidFill>
              <a:latin typeface="Arial"/>
            </a:endParaRPr>
          </a:p>
        </p:txBody>
      </p:sp>
      <p:sp>
        <p:nvSpPr>
          <p:cNvPr id="4452" name="Shape 1411"/>
          <p:cNvSpPr/>
          <p:nvPr/>
        </p:nvSpPr>
        <p:spPr>
          <a:xfrm>
            <a:off x="9257400" y="9943920"/>
            <a:ext cx="5838480" cy="126828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a:t>
            </a:r>
            <a:endParaRPr b="0" lang="en-US" sz="3000" spc="-1" strike="noStrike">
              <a:solidFill>
                <a:srgbClr val="000000"/>
              </a:solidFill>
              <a:latin typeface="Arial"/>
            </a:endParaRPr>
          </a:p>
        </p:txBody>
      </p:sp>
      <p:sp>
        <p:nvSpPr>
          <p:cNvPr id="4453" name="Shape 1412"/>
          <p:cNvSpPr/>
          <p:nvPr/>
        </p:nvSpPr>
        <p:spPr>
          <a:xfrm>
            <a:off x="16492680" y="9943920"/>
            <a:ext cx="5838480" cy="1268280"/>
          </a:xfrm>
          <a:prstGeom prst="rect">
            <a:avLst/>
          </a:prstGeom>
          <a:noFill/>
          <a:ln w="12700">
            <a:noFill/>
          </a:ln>
        </p:spPr>
        <p:style>
          <a:lnRef idx="0"/>
          <a:fillRef idx="0"/>
          <a:effectRef idx="0"/>
          <a:fontRef idx="minor"/>
        </p:style>
        <p:txBody>
          <a:bodyPr lIns="48600" rIns="48600" tIns="48600" bIns="4860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a:t>
            </a:r>
            <a:endParaRPr b="0" lang="en-US" sz="3000" spc="-1" strike="noStrike">
              <a:solidFill>
                <a:srgbClr val="000000"/>
              </a:solidFill>
              <a:latin typeface="Arial"/>
            </a:endParaRPr>
          </a:p>
        </p:txBody>
      </p:sp>
      <p:sp>
        <p:nvSpPr>
          <p:cNvPr id="4454" name="Shape 1413"/>
          <p:cNvSpPr/>
          <p:nvPr/>
        </p:nvSpPr>
        <p:spPr>
          <a:xfrm>
            <a:off x="2032200" y="1806840"/>
            <a:ext cx="9144720" cy="19047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Team oreso nade mero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5" name="Shape 1416"/>
          <p:cNvSpPr/>
          <p:nvPr/>
        </p:nvSpPr>
        <p:spPr>
          <a:xfrm>
            <a:off x="2031840" y="1708200"/>
            <a:ext cx="10159560" cy="17942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Jona Miller</a:t>
            </a:r>
            <a:endParaRPr b="0" lang="en-US" sz="11200" spc="-1" strike="noStrike">
              <a:solidFill>
                <a:srgbClr val="000000"/>
              </a:solidFill>
              <a:latin typeface="Arial"/>
            </a:endParaRPr>
          </a:p>
        </p:txBody>
      </p:sp>
      <p:sp>
        <p:nvSpPr>
          <p:cNvPr id="4456" name="Shape 1417"/>
          <p:cNvSpPr/>
          <p:nvPr/>
        </p:nvSpPr>
        <p:spPr>
          <a:xfrm>
            <a:off x="4138200" y="733104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457" name="Shape 1418"/>
          <p:cNvSpPr/>
          <p:nvPr/>
        </p:nvSpPr>
        <p:spPr>
          <a:xfrm>
            <a:off x="4138200" y="997056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PHOTOGRAPY</a:t>
            </a:r>
            <a:endParaRPr b="0" lang="en-US" sz="3000" spc="-1" strike="noStrike">
              <a:solidFill>
                <a:srgbClr val="000000"/>
              </a:solidFill>
              <a:latin typeface="Arial"/>
            </a:endParaRPr>
          </a:p>
        </p:txBody>
      </p:sp>
      <p:sp>
        <p:nvSpPr>
          <p:cNvPr id="4458" name="Shape 1419"/>
          <p:cNvSpPr/>
          <p:nvPr/>
        </p:nvSpPr>
        <p:spPr>
          <a:xfrm>
            <a:off x="4138200" y="809316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459" name="Shape 1420"/>
          <p:cNvSpPr/>
          <p:nvPr/>
        </p:nvSpPr>
        <p:spPr>
          <a:xfrm>
            <a:off x="4138200" y="1073268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460" name="Shape 1421"/>
          <p:cNvSpPr/>
          <p:nvPr/>
        </p:nvSpPr>
        <p:spPr>
          <a:xfrm>
            <a:off x="2028240" y="7399440"/>
            <a:ext cx="1523520" cy="1076400"/>
          </a:xfrm>
          <a:prstGeom prst="rect">
            <a:avLst/>
          </a:prstGeom>
          <a:noFill/>
          <a:ln w="12700">
            <a:noFill/>
          </a:ln>
        </p:spPr>
        <p:style>
          <a:lnRef idx="0"/>
          <a:fillRef idx="0"/>
          <a:effectRef idx="0"/>
          <a:fontRef idx="minor"/>
        </p:style>
        <p:txBody>
          <a:bodyPr lIns="50760" rIns="50760" tIns="50760" bIns="50760" anchor="t">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461" name="Shape 1422"/>
          <p:cNvSpPr/>
          <p:nvPr/>
        </p:nvSpPr>
        <p:spPr>
          <a:xfrm>
            <a:off x="2028240" y="10038960"/>
            <a:ext cx="1523520" cy="1076400"/>
          </a:xfrm>
          <a:prstGeom prst="rect">
            <a:avLst/>
          </a:prstGeom>
          <a:noFill/>
          <a:ln w="12700">
            <a:noFill/>
          </a:ln>
        </p:spPr>
        <p:style>
          <a:lnRef idx="0"/>
          <a:fillRef idx="0"/>
          <a:effectRef idx="0"/>
          <a:fontRef idx="minor"/>
        </p:style>
        <p:txBody>
          <a:bodyPr lIns="50760" rIns="50760" tIns="50760" bIns="50760" anchor="t">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462" name="Shape 1423"/>
          <p:cNvSpPr/>
          <p:nvPr/>
        </p:nvSpPr>
        <p:spPr>
          <a:xfrm>
            <a:off x="2028240" y="4452840"/>
            <a:ext cx="9148680" cy="1928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esd diam diotur niema nonumy trindas eirmod tempor invidunt ubore eto ogna aliquyam erate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3" name="Shape 1426"/>
          <p:cNvSpPr/>
          <p:nvPr/>
        </p:nvSpPr>
        <p:spPr>
          <a:xfrm>
            <a:off x="2035080" y="1716840"/>
            <a:ext cx="4825800" cy="4322880"/>
          </a:xfrm>
          <a:prstGeom prst="rect">
            <a:avLst/>
          </a:prstGeom>
          <a:noFill/>
          <a:ln w="12700">
            <a:noFill/>
          </a:ln>
        </p:spPr>
        <p:style>
          <a:lnRef idx="0"/>
          <a:fillRef idx="0"/>
          <a:effectRef idx="0"/>
          <a:fontRef idx="minor"/>
        </p:style>
        <p:txBody>
          <a:bodyPr lIns="0" rIns="0" tIns="0" bIns="0" anchor="t">
            <a:normAutofit/>
          </a:bodyPr>
          <a:p>
            <a:pPr>
              <a:lnSpc>
                <a:spcPct val="100000"/>
              </a:lnSpc>
              <a:tabLst>
                <a:tab algn="l" pos="0"/>
              </a:tabLst>
            </a:pPr>
            <a:r>
              <a:rPr b="0" lang="de-DE" sz="8400" spc="-1" strike="noStrike">
                <a:solidFill>
                  <a:srgbClr val="ffffff"/>
                </a:solidFill>
                <a:latin typeface="Montserrat"/>
                <a:ea typeface="Montserrat"/>
              </a:rPr>
              <a:t>Meet</a:t>
            </a:r>
            <a:endParaRPr b="0" lang="en-US" sz="8400" spc="-1" strike="noStrike">
              <a:solidFill>
                <a:srgbClr val="000000"/>
              </a:solidFill>
              <a:latin typeface="Arial"/>
            </a:endParaRPr>
          </a:p>
          <a:p>
            <a:pPr>
              <a:lnSpc>
                <a:spcPct val="100000"/>
              </a:lnSpc>
              <a:tabLst>
                <a:tab algn="l" pos="0"/>
              </a:tabLst>
            </a:pPr>
            <a:r>
              <a:rPr b="0" lang="de-DE" sz="8400" spc="-1" strike="noStrike">
                <a:solidFill>
                  <a:srgbClr val="ffffff"/>
                </a:solidFill>
                <a:latin typeface="Montserrat"/>
                <a:ea typeface="Montserrat"/>
              </a:rPr>
              <a:t>Tom</a:t>
            </a:r>
            <a:endParaRPr b="0" lang="en-US" sz="8400" spc="-1" strike="noStrike">
              <a:solidFill>
                <a:srgbClr val="000000"/>
              </a:solidFill>
              <a:latin typeface="Arial"/>
            </a:endParaRPr>
          </a:p>
          <a:p>
            <a:pPr>
              <a:lnSpc>
                <a:spcPct val="100000"/>
              </a:lnSpc>
              <a:tabLst>
                <a:tab algn="l" pos="0"/>
              </a:tabLst>
            </a:pPr>
            <a:r>
              <a:rPr b="0" lang="de-DE" sz="8400" spc="-1" strike="noStrike">
                <a:solidFill>
                  <a:srgbClr val="ffffff"/>
                </a:solidFill>
                <a:latin typeface="Montserrat"/>
                <a:ea typeface="Montserrat"/>
              </a:rPr>
              <a:t>Miller</a:t>
            </a:r>
            <a:endParaRPr b="0" lang="en-US" sz="8400" spc="-1" strike="noStrike">
              <a:solidFill>
                <a:srgbClr val="000000"/>
              </a:solidFill>
              <a:latin typeface="Arial"/>
            </a:endParaRPr>
          </a:p>
        </p:txBody>
      </p:sp>
      <p:sp>
        <p:nvSpPr>
          <p:cNvPr id="4464" name="Shape 1427"/>
          <p:cNvSpPr/>
          <p:nvPr/>
        </p:nvSpPr>
        <p:spPr>
          <a:xfrm>
            <a:off x="14729400" y="2793960"/>
            <a:ext cx="7618680" cy="38080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esd diam diotur niema drosa nonumy eirmod tempor invidunt ubore eto ogna aliquyam erate desando greadon.</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Lorem ipsum dolor sitos amen oremfra fradns gradado mira eso.</a:t>
            </a:r>
            <a:endParaRPr b="0" lang="en-US" sz="3000" spc="-1" strike="noStrike">
              <a:solidFill>
                <a:srgbClr val="000000"/>
              </a:solidFill>
              <a:latin typeface="Arial"/>
            </a:endParaRPr>
          </a:p>
        </p:txBody>
      </p:sp>
      <p:sp>
        <p:nvSpPr>
          <p:cNvPr id="4465" name="Shape 1428"/>
          <p:cNvSpPr/>
          <p:nvPr/>
        </p:nvSpPr>
        <p:spPr>
          <a:xfrm>
            <a:off x="14729400" y="7365240"/>
            <a:ext cx="462564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BOUT</a:t>
            </a:r>
            <a:endParaRPr b="0" lang="en-US" sz="3000" spc="-1" strike="noStrike">
              <a:solidFill>
                <a:srgbClr val="000000"/>
              </a:solidFill>
              <a:latin typeface="Arial"/>
            </a:endParaRPr>
          </a:p>
        </p:txBody>
      </p:sp>
      <p:sp>
        <p:nvSpPr>
          <p:cNvPr id="4466" name="Shape 1429"/>
          <p:cNvSpPr/>
          <p:nvPr/>
        </p:nvSpPr>
        <p:spPr>
          <a:xfrm>
            <a:off x="14729400" y="17802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STORY</a:t>
            </a:r>
            <a:endParaRPr b="0" lang="en-US" sz="3000" spc="-1" strike="noStrike">
              <a:solidFill>
                <a:srgbClr val="000000"/>
              </a:solidFill>
              <a:latin typeface="Arial"/>
            </a:endParaRPr>
          </a:p>
        </p:txBody>
      </p:sp>
      <p:sp>
        <p:nvSpPr>
          <p:cNvPr id="4467" name="Shape 1430"/>
          <p:cNvSpPr/>
          <p:nvPr/>
        </p:nvSpPr>
        <p:spPr>
          <a:xfrm>
            <a:off x="14729400" y="8523360"/>
            <a:ext cx="7618680" cy="19047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Mires diam diotur niema drosa nonumy eirmod tempor invidunt ubore eto ogna aliquyam erate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8" name="Shape 1433"/>
          <p:cNvSpPr/>
          <p:nvPr/>
        </p:nvSpPr>
        <p:spPr>
          <a:xfrm>
            <a:off x="2031840" y="1708200"/>
            <a:ext cx="761976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ffffff"/>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ffffff"/>
                </a:solidFill>
                <a:latin typeface="Montserrat Semi Bold"/>
                <a:ea typeface="Montserrat Semi Bold"/>
              </a:rPr>
              <a:t>Creative</a:t>
            </a:r>
            <a:endParaRPr b="0" lang="en-US" sz="11200" spc="-1" strike="noStrike">
              <a:solidFill>
                <a:srgbClr val="000000"/>
              </a:solidFill>
              <a:latin typeface="Arial"/>
            </a:endParaRPr>
          </a:p>
        </p:txBody>
      </p:sp>
      <p:sp>
        <p:nvSpPr>
          <p:cNvPr id="4469" name="Shape 1434"/>
          <p:cNvSpPr/>
          <p:nvPr/>
        </p:nvSpPr>
        <p:spPr>
          <a:xfrm>
            <a:off x="2031840" y="5928120"/>
            <a:ext cx="7619760" cy="292284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At vero eos et accusam eto justo fosduo dolores etoma jam rebum. Steot clita dro kuasd gubergren, nosotra sea take mata sanctus est Lorem ipsusit drmet. Lorem eso ipsum dolor sit ameto.</a:t>
            </a:r>
            <a:endParaRPr b="0" lang="en-US" sz="3000" spc="-1" strike="noStrike">
              <a:solidFill>
                <a:srgbClr val="000000"/>
              </a:solidFill>
              <a:latin typeface="Arial"/>
            </a:endParaRPr>
          </a:p>
        </p:txBody>
      </p:sp>
      <p:sp>
        <p:nvSpPr>
          <p:cNvPr id="4470" name="Shape 1435"/>
          <p:cNvSpPr/>
          <p:nvPr/>
        </p:nvSpPr>
        <p:spPr>
          <a:xfrm>
            <a:off x="2034360" y="10707840"/>
            <a:ext cx="7619760" cy="127512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Fosduo dolores etoa jasom rebum. Steto clita kuasd gubogren, nosotra drs frone. </a:t>
            </a:r>
            <a:endParaRPr b="0" lang="en-US" sz="3000" spc="-1" strike="noStrike">
              <a:solidFill>
                <a:srgbClr val="000000"/>
              </a:solidFill>
              <a:latin typeface="Arial"/>
            </a:endParaRPr>
          </a:p>
        </p:txBody>
      </p:sp>
      <p:sp>
        <p:nvSpPr>
          <p:cNvPr id="4471" name="Shape 1436"/>
          <p:cNvSpPr/>
          <p:nvPr/>
        </p:nvSpPr>
        <p:spPr>
          <a:xfrm>
            <a:off x="2034360" y="994572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BE CREA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2" name="Shape 1439"/>
          <p:cNvSpPr/>
          <p:nvPr/>
        </p:nvSpPr>
        <p:spPr>
          <a:xfrm>
            <a:off x="2035080" y="1708200"/>
            <a:ext cx="9141840" cy="3773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Design</a:t>
            </a:r>
            <a:endParaRPr b="0" lang="en-US" sz="11200" spc="-1" strike="noStrike">
              <a:solidFill>
                <a:srgbClr val="000000"/>
              </a:solidFill>
              <a:latin typeface="Arial"/>
            </a:endParaRPr>
          </a:p>
        </p:txBody>
      </p:sp>
      <p:sp>
        <p:nvSpPr>
          <p:cNvPr id="4473" name="Shape 1440"/>
          <p:cNvSpPr/>
          <p:nvPr/>
        </p:nvSpPr>
        <p:spPr>
          <a:xfrm>
            <a:off x="2035080" y="721836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474" name="Shape 1441"/>
          <p:cNvSpPr/>
          <p:nvPr/>
        </p:nvSpPr>
        <p:spPr>
          <a:xfrm>
            <a:off x="2035080" y="642744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475" name="Shape 1442"/>
          <p:cNvSpPr/>
          <p:nvPr/>
        </p:nvSpPr>
        <p:spPr>
          <a:xfrm>
            <a:off x="2035080" y="526068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476" name="Shape 1443"/>
          <p:cNvSpPr/>
          <p:nvPr/>
        </p:nvSpPr>
        <p:spPr>
          <a:xfrm>
            <a:off x="6235920" y="526068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477" name="Shape 1444"/>
          <p:cNvSpPr/>
          <p:nvPr/>
        </p:nvSpPr>
        <p:spPr>
          <a:xfrm>
            <a:off x="10436760" y="526068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478" name="Shape 1445"/>
          <p:cNvSpPr/>
          <p:nvPr/>
        </p:nvSpPr>
        <p:spPr>
          <a:xfrm>
            <a:off x="6224040" y="721836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479" name="Shape 1446"/>
          <p:cNvSpPr/>
          <p:nvPr/>
        </p:nvSpPr>
        <p:spPr>
          <a:xfrm>
            <a:off x="6224040" y="642744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ESH</a:t>
            </a:r>
            <a:endParaRPr b="0" lang="en-US" sz="3000" spc="-1" strike="noStrike">
              <a:solidFill>
                <a:srgbClr val="000000"/>
              </a:solidFill>
              <a:latin typeface="Arial"/>
            </a:endParaRPr>
          </a:p>
        </p:txBody>
      </p:sp>
      <p:sp>
        <p:nvSpPr>
          <p:cNvPr id="4480" name="Shape 1447"/>
          <p:cNvSpPr/>
          <p:nvPr/>
        </p:nvSpPr>
        <p:spPr>
          <a:xfrm>
            <a:off x="10413000" y="721836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481" name="Shape 1448"/>
          <p:cNvSpPr/>
          <p:nvPr/>
        </p:nvSpPr>
        <p:spPr>
          <a:xfrm>
            <a:off x="10413000" y="642744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ODERN</a:t>
            </a:r>
            <a:endParaRPr b="0" lang="en-US" sz="3000" spc="-1" strike="noStrike">
              <a:solidFill>
                <a:srgbClr val="000000"/>
              </a:solidFill>
              <a:latin typeface="Arial"/>
            </a:endParaRPr>
          </a:p>
        </p:txBody>
      </p:sp>
      <p:sp>
        <p:nvSpPr>
          <p:cNvPr id="4482" name="Shape 1449"/>
          <p:cNvSpPr/>
          <p:nvPr/>
        </p:nvSpPr>
        <p:spPr>
          <a:xfrm>
            <a:off x="14614200" y="526068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483" name="Shape 1450"/>
          <p:cNvSpPr/>
          <p:nvPr/>
        </p:nvSpPr>
        <p:spPr>
          <a:xfrm>
            <a:off x="14602320" y="721836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484" name="Shape 1451"/>
          <p:cNvSpPr/>
          <p:nvPr/>
        </p:nvSpPr>
        <p:spPr>
          <a:xfrm>
            <a:off x="14602320" y="642744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ESH</a:t>
            </a:r>
            <a:endParaRPr b="0" lang="en-US" sz="3000" spc="-1" strike="noStrike">
              <a:solidFill>
                <a:srgbClr val="000000"/>
              </a:solidFill>
              <a:latin typeface="Arial"/>
            </a:endParaRPr>
          </a:p>
        </p:txBody>
      </p:sp>
      <p:sp>
        <p:nvSpPr>
          <p:cNvPr id="4485" name="Shape 1452"/>
          <p:cNvSpPr/>
          <p:nvPr/>
        </p:nvSpPr>
        <p:spPr>
          <a:xfrm>
            <a:off x="18791280" y="721836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486" name="Shape 1453"/>
          <p:cNvSpPr/>
          <p:nvPr/>
        </p:nvSpPr>
        <p:spPr>
          <a:xfrm>
            <a:off x="18791280" y="642744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487" name="Shape 1454"/>
          <p:cNvSpPr/>
          <p:nvPr/>
        </p:nvSpPr>
        <p:spPr>
          <a:xfrm>
            <a:off x="18791280" y="526068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488" name="Group 1462"/>
          <p:cNvGrpSpPr/>
          <p:nvPr/>
        </p:nvGrpSpPr>
        <p:grpSpPr>
          <a:xfrm>
            <a:off x="14568480" y="3553920"/>
            <a:ext cx="3809880" cy="6869160"/>
            <a:chOff x="14568480" y="3553920"/>
            <a:chExt cx="3809880" cy="6869160"/>
          </a:xfrm>
        </p:grpSpPr>
        <p:sp>
          <p:nvSpPr>
            <p:cNvPr id="4489" name="Shape 1456"/>
            <p:cNvSpPr/>
            <p:nvPr/>
          </p:nvSpPr>
          <p:spPr>
            <a:xfrm>
              <a:off x="18097920" y="5866200"/>
              <a:ext cx="280440" cy="725400"/>
            </a:xfrm>
            <a:custGeom>
              <a:avLst/>
              <a:gdLst>
                <a:gd name="textAreaLeft" fmla="*/ 0 w 280440"/>
                <a:gd name="textAreaRight" fmla="*/ 280800 w 280440"/>
                <a:gd name="textAreaTop" fmla="*/ 0 h 725400"/>
                <a:gd name="textAreaBottom" fmla="*/ 725760 h 7254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490" name="Shape 1457"/>
            <p:cNvSpPr/>
            <p:nvPr/>
          </p:nvSpPr>
          <p:spPr>
            <a:xfrm>
              <a:off x="18161280" y="7108920"/>
              <a:ext cx="110880" cy="1085400"/>
            </a:xfrm>
            <a:custGeom>
              <a:avLst/>
              <a:gdLst>
                <a:gd name="textAreaLeft" fmla="*/ 0 w 110880"/>
                <a:gd name="textAreaRight" fmla="*/ 111240 w 110880"/>
                <a:gd name="textAreaTop" fmla="*/ 0 h 1085400"/>
                <a:gd name="textAreaBottom" fmla="*/ 1085760 h 10854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91" name="Shape 1458"/>
            <p:cNvSpPr/>
            <p:nvPr/>
          </p:nvSpPr>
          <p:spPr>
            <a:xfrm>
              <a:off x="14936400" y="9007920"/>
              <a:ext cx="2892600" cy="1415160"/>
            </a:xfrm>
            <a:custGeom>
              <a:avLst/>
              <a:gdLst>
                <a:gd name="textAreaLeft" fmla="*/ 0 w 2892600"/>
                <a:gd name="textAreaRight" fmla="*/ 2892960 w 2892600"/>
                <a:gd name="textAreaTop" fmla="*/ 0 h 1415160"/>
                <a:gd name="textAreaBottom" fmla="*/ 1415520 h 141516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4450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92" name="Shape 1459"/>
            <p:cNvSpPr/>
            <p:nvPr/>
          </p:nvSpPr>
          <p:spPr>
            <a:xfrm>
              <a:off x="14936400" y="3553920"/>
              <a:ext cx="2892600" cy="1413720"/>
            </a:xfrm>
            <a:custGeom>
              <a:avLst/>
              <a:gdLst>
                <a:gd name="textAreaLeft" fmla="*/ 0 w 2892600"/>
                <a:gd name="textAreaRight" fmla="*/ 2892960 w 2892600"/>
                <a:gd name="textAreaTop" fmla="*/ 0 h 1413720"/>
                <a:gd name="textAreaBottom" fmla="*/ 1414080 h 141372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44506d"/>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93" name="Shape 1460"/>
            <p:cNvSpPr/>
            <p:nvPr/>
          </p:nvSpPr>
          <p:spPr>
            <a:xfrm>
              <a:off x="14568480" y="4859640"/>
              <a:ext cx="3628440" cy="4280400"/>
            </a:xfrm>
            <a:custGeom>
              <a:avLst/>
              <a:gdLst>
                <a:gd name="textAreaLeft" fmla="*/ 0 w 3628440"/>
                <a:gd name="textAreaRight" fmla="*/ 3628800 w 3628440"/>
                <a:gd name="textAreaTop" fmla="*/ 0 h 4280400"/>
                <a:gd name="textAreaBottom" fmla="*/ 4280760 h 4280400"/>
              </a:gdLst>
              <a:ahLst/>
              <a:rect l="textAreaLeft" t="textAreaTop" r="textAreaRight" b="textAreaBottom"/>
              <a:pathLst>
                <a:path w="21553" h="21560">
                  <a:moveTo>
                    <a:pt x="17154" y="21560"/>
                  </a:moveTo>
                  <a:lnTo>
                    <a:pt x="4267" y="21511"/>
                  </a:lnTo>
                  <a:cubicBezTo>
                    <a:pt x="1893" y="21495"/>
                    <a:pt x="-19" y="19844"/>
                    <a:pt x="0" y="17778"/>
                  </a:cubicBezTo>
                  <a:lnTo>
                    <a:pt x="75" y="3684"/>
                  </a:lnTo>
                  <a:cubicBezTo>
                    <a:pt x="94" y="1635"/>
                    <a:pt x="2016" y="-16"/>
                    <a:pt x="4408" y="0"/>
                  </a:cubicBezTo>
                  <a:lnTo>
                    <a:pt x="17285" y="49"/>
                  </a:lnTo>
                  <a:cubicBezTo>
                    <a:pt x="19659" y="65"/>
                    <a:pt x="21581" y="1724"/>
                    <a:pt x="21553" y="3790"/>
                  </a:cubicBezTo>
                  <a:lnTo>
                    <a:pt x="21477" y="17876"/>
                  </a:lnTo>
                  <a:cubicBezTo>
                    <a:pt x="21459" y="19925"/>
                    <a:pt x="19518" y="21584"/>
                    <a:pt x="17154" y="2156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94" name="Shape 1461"/>
            <p:cNvSpPr/>
            <p:nvPr/>
          </p:nvSpPr>
          <p:spPr>
            <a:xfrm>
              <a:off x="14723280" y="5032800"/>
              <a:ext cx="3318840" cy="3934440"/>
            </a:xfrm>
            <a:custGeom>
              <a:avLst/>
              <a:gdLst>
                <a:gd name="textAreaLeft" fmla="*/ 0 w 3318840"/>
                <a:gd name="textAreaRight" fmla="*/ 3319200 w 3318840"/>
                <a:gd name="textAreaTop" fmla="*/ 0 h 3934440"/>
                <a:gd name="textAreaBottom" fmla="*/ 3934800 h 3934440"/>
              </a:gdLst>
              <a:ahLst/>
              <a:rect l="textAreaLeft" t="textAreaTop" r="textAreaRight" b="textAreaBottom"/>
              <a:pathLst>
                <a:path w="21559" h="21583">
                  <a:moveTo>
                    <a:pt x="18125" y="21583"/>
                  </a:moveTo>
                  <a:lnTo>
                    <a:pt x="3308" y="21530"/>
                  </a:lnTo>
                  <a:cubicBezTo>
                    <a:pt x="1471" y="21530"/>
                    <a:pt x="-21" y="20256"/>
                    <a:pt x="0" y="18709"/>
                  </a:cubicBezTo>
                  <a:lnTo>
                    <a:pt x="83" y="2786"/>
                  </a:lnTo>
                  <a:cubicBezTo>
                    <a:pt x="83" y="1231"/>
                    <a:pt x="1596" y="-17"/>
                    <a:pt x="3433" y="1"/>
                  </a:cubicBezTo>
                  <a:lnTo>
                    <a:pt x="18261" y="53"/>
                  </a:lnTo>
                  <a:cubicBezTo>
                    <a:pt x="20097" y="53"/>
                    <a:pt x="21579" y="1328"/>
                    <a:pt x="21558" y="2874"/>
                  </a:cubicBezTo>
                  <a:lnTo>
                    <a:pt x="21475" y="18806"/>
                  </a:lnTo>
                  <a:cubicBezTo>
                    <a:pt x="21454" y="20335"/>
                    <a:pt x="19962" y="21583"/>
                    <a:pt x="18125" y="215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4495" name="Group 1469"/>
          <p:cNvGrpSpPr/>
          <p:nvPr/>
        </p:nvGrpSpPr>
        <p:grpSpPr>
          <a:xfrm>
            <a:off x="18546840" y="3553920"/>
            <a:ext cx="3809880" cy="6869160"/>
            <a:chOff x="18546840" y="3553920"/>
            <a:chExt cx="3809880" cy="6869160"/>
          </a:xfrm>
        </p:grpSpPr>
        <p:sp>
          <p:nvSpPr>
            <p:cNvPr id="4496" name="Shape 1463"/>
            <p:cNvSpPr/>
            <p:nvPr/>
          </p:nvSpPr>
          <p:spPr>
            <a:xfrm>
              <a:off x="22076280" y="5866200"/>
              <a:ext cx="280440" cy="725400"/>
            </a:xfrm>
            <a:custGeom>
              <a:avLst/>
              <a:gdLst>
                <a:gd name="textAreaLeft" fmla="*/ 0 w 280440"/>
                <a:gd name="textAreaRight" fmla="*/ 280800 w 280440"/>
                <a:gd name="textAreaTop" fmla="*/ 0 h 725400"/>
                <a:gd name="textAreaBottom" fmla="*/ 725760 h 725400"/>
              </a:gdLst>
              <a:ahLst/>
              <a:rect l="textAreaLeft" t="textAreaTop" r="textAreaRight" b="textAreaBottom"/>
              <a:pathLst>
                <a:path w="21600" h="21600">
                  <a:moveTo>
                    <a:pt x="11669" y="21600"/>
                  </a:moveTo>
                  <a:cubicBezTo>
                    <a:pt x="5214" y="21600"/>
                    <a:pt x="0" y="17928"/>
                    <a:pt x="0" y="15401"/>
                  </a:cubicBezTo>
                  <a:lnTo>
                    <a:pt x="0" y="6199"/>
                  </a:lnTo>
                  <a:cubicBezTo>
                    <a:pt x="0" y="3719"/>
                    <a:pt x="5214" y="0"/>
                    <a:pt x="11669" y="0"/>
                  </a:cubicBezTo>
                  <a:cubicBezTo>
                    <a:pt x="17131" y="0"/>
                    <a:pt x="21600" y="1717"/>
                    <a:pt x="21600" y="3815"/>
                  </a:cubicBezTo>
                  <a:lnTo>
                    <a:pt x="21600" y="17785"/>
                  </a:lnTo>
                  <a:cubicBezTo>
                    <a:pt x="21600" y="19931"/>
                    <a:pt x="17131" y="21600"/>
                    <a:pt x="11669"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r>
                <a:rPr b="0" lang="en-US" sz="1800" spc="-1" strike="noStrike">
                  <a:solidFill>
                    <a:srgbClr val="000000"/>
                  </a:solidFill>
                  <a:latin typeface="Arial"/>
                  <a:ea typeface="Arial"/>
                </a:rPr>
                <a:t> </a:t>
              </a:r>
              <a:endParaRPr b="0" lang="en-US" sz="1800" spc="-1" strike="noStrike">
                <a:solidFill>
                  <a:srgbClr val="000000"/>
                </a:solidFill>
                <a:latin typeface="Arial"/>
              </a:endParaRPr>
            </a:p>
          </p:txBody>
        </p:sp>
        <p:sp>
          <p:nvSpPr>
            <p:cNvPr id="4497" name="Shape 1464"/>
            <p:cNvSpPr/>
            <p:nvPr/>
          </p:nvSpPr>
          <p:spPr>
            <a:xfrm>
              <a:off x="22139640" y="7108920"/>
              <a:ext cx="110880" cy="1085400"/>
            </a:xfrm>
            <a:custGeom>
              <a:avLst/>
              <a:gdLst>
                <a:gd name="textAreaLeft" fmla="*/ 0 w 110880"/>
                <a:gd name="textAreaRight" fmla="*/ 111240 w 110880"/>
                <a:gd name="textAreaTop" fmla="*/ 0 h 1085400"/>
                <a:gd name="textAreaBottom" fmla="*/ 1085760 h 1085400"/>
              </a:gdLst>
              <a:ahLst/>
              <a:rect l="textAreaLeft" t="textAreaTop" r="textAreaRight" b="textAreaBottom"/>
              <a:pathLst>
                <a:path w="21600" h="21600">
                  <a:moveTo>
                    <a:pt x="13976" y="21600"/>
                  </a:moveTo>
                  <a:lnTo>
                    <a:pt x="0" y="21600"/>
                  </a:lnTo>
                  <a:lnTo>
                    <a:pt x="0" y="0"/>
                  </a:lnTo>
                  <a:lnTo>
                    <a:pt x="13976" y="0"/>
                  </a:lnTo>
                  <a:cubicBezTo>
                    <a:pt x="18106" y="0"/>
                    <a:pt x="21600" y="349"/>
                    <a:pt x="21600" y="731"/>
                  </a:cubicBezTo>
                  <a:lnTo>
                    <a:pt x="21600" y="20869"/>
                  </a:lnTo>
                  <a:cubicBezTo>
                    <a:pt x="21600" y="21251"/>
                    <a:pt x="18106" y="21600"/>
                    <a:pt x="13976" y="21600"/>
                  </a:cubicBezTo>
                </a:path>
              </a:pathLst>
            </a:custGeom>
            <a:solidFill>
              <a:srgbClr val="c6c5c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98" name="Shape 1465"/>
            <p:cNvSpPr/>
            <p:nvPr/>
          </p:nvSpPr>
          <p:spPr>
            <a:xfrm>
              <a:off x="18914760" y="9007920"/>
              <a:ext cx="2892600" cy="1415160"/>
            </a:xfrm>
            <a:custGeom>
              <a:avLst/>
              <a:gdLst>
                <a:gd name="textAreaLeft" fmla="*/ 0 w 2892600"/>
                <a:gd name="textAreaRight" fmla="*/ 2892960 w 2892600"/>
                <a:gd name="textAreaTop" fmla="*/ 0 h 1415160"/>
                <a:gd name="textAreaBottom" fmla="*/ 1415520 h 1415160"/>
              </a:gdLst>
              <a:ahLst/>
              <a:rect l="textAreaLeft" t="textAreaTop" r="textAreaRight" b="textAreaBottom"/>
              <a:pathLst>
                <a:path w="21600" h="21461">
                  <a:moveTo>
                    <a:pt x="2724" y="17883"/>
                  </a:moveTo>
                  <a:cubicBezTo>
                    <a:pt x="2903" y="19000"/>
                    <a:pt x="2975" y="21236"/>
                    <a:pt x="10752" y="21454"/>
                  </a:cubicBezTo>
                  <a:cubicBezTo>
                    <a:pt x="18362" y="21600"/>
                    <a:pt x="18446" y="19267"/>
                    <a:pt x="18637" y="18028"/>
                  </a:cubicBezTo>
                  <a:cubicBezTo>
                    <a:pt x="18864" y="16716"/>
                    <a:pt x="18745" y="2600"/>
                    <a:pt x="21600" y="194"/>
                  </a:cubicBezTo>
                  <a:cubicBezTo>
                    <a:pt x="16738" y="146"/>
                    <a:pt x="10776" y="97"/>
                    <a:pt x="10776" y="97"/>
                  </a:cubicBezTo>
                  <a:cubicBezTo>
                    <a:pt x="4982" y="49"/>
                    <a:pt x="5137" y="49"/>
                    <a:pt x="0" y="0"/>
                  </a:cubicBezTo>
                  <a:cubicBezTo>
                    <a:pt x="2604" y="1919"/>
                    <a:pt x="2557" y="16813"/>
                    <a:pt x="2724" y="17883"/>
                  </a:cubicBezTo>
                </a:path>
              </a:pathLst>
            </a:custGeom>
            <a:solidFill>
              <a:srgbClr val="c8cc2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499" name="Shape 1466"/>
            <p:cNvSpPr/>
            <p:nvPr/>
          </p:nvSpPr>
          <p:spPr>
            <a:xfrm>
              <a:off x="18914760" y="3553920"/>
              <a:ext cx="2892600" cy="1413720"/>
            </a:xfrm>
            <a:custGeom>
              <a:avLst/>
              <a:gdLst>
                <a:gd name="textAreaLeft" fmla="*/ 0 w 2892600"/>
                <a:gd name="textAreaRight" fmla="*/ 2892960 w 2892600"/>
                <a:gd name="textAreaTop" fmla="*/ 0 h 1413720"/>
                <a:gd name="textAreaBottom" fmla="*/ 1414080 h 1413720"/>
              </a:gdLst>
              <a:ahLst/>
              <a:rect l="textAreaLeft" t="textAreaTop" r="textAreaRight" b="textAreaBottom"/>
              <a:pathLst>
                <a:path w="21600" h="21439">
                  <a:moveTo>
                    <a:pt x="18876" y="3577"/>
                  </a:moveTo>
                  <a:cubicBezTo>
                    <a:pt x="18697" y="2436"/>
                    <a:pt x="18625" y="203"/>
                    <a:pt x="10848" y="9"/>
                  </a:cubicBezTo>
                  <a:cubicBezTo>
                    <a:pt x="3238" y="-161"/>
                    <a:pt x="3154" y="2193"/>
                    <a:pt x="2963" y="3407"/>
                  </a:cubicBezTo>
                  <a:cubicBezTo>
                    <a:pt x="2736" y="4741"/>
                    <a:pt x="2855" y="18842"/>
                    <a:pt x="0" y="21221"/>
                  </a:cubicBezTo>
                  <a:cubicBezTo>
                    <a:pt x="4862" y="21293"/>
                    <a:pt x="10824" y="21342"/>
                    <a:pt x="10824" y="21342"/>
                  </a:cubicBezTo>
                  <a:cubicBezTo>
                    <a:pt x="16618" y="21390"/>
                    <a:pt x="16463" y="21390"/>
                    <a:pt x="21600" y="21439"/>
                  </a:cubicBezTo>
                  <a:cubicBezTo>
                    <a:pt x="18996" y="19497"/>
                    <a:pt x="19043" y="4644"/>
                    <a:pt x="18876" y="3577"/>
                  </a:cubicBezTo>
                </a:path>
              </a:pathLst>
            </a:custGeom>
            <a:solidFill>
              <a:srgbClr val="c8cc29"/>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00" name="Shape 1467"/>
            <p:cNvSpPr/>
            <p:nvPr/>
          </p:nvSpPr>
          <p:spPr>
            <a:xfrm>
              <a:off x="18546840" y="4859640"/>
              <a:ext cx="3628440" cy="4280400"/>
            </a:xfrm>
            <a:custGeom>
              <a:avLst/>
              <a:gdLst>
                <a:gd name="textAreaLeft" fmla="*/ 0 w 3628440"/>
                <a:gd name="textAreaRight" fmla="*/ 3628800 w 3628440"/>
                <a:gd name="textAreaTop" fmla="*/ 0 h 4280400"/>
                <a:gd name="textAreaBottom" fmla="*/ 4280760 h 4280400"/>
              </a:gdLst>
              <a:ahLst/>
              <a:rect l="textAreaLeft" t="textAreaTop" r="textAreaRight" b="textAreaBottom"/>
              <a:pathLst>
                <a:path w="21553" h="21560">
                  <a:moveTo>
                    <a:pt x="17154" y="21560"/>
                  </a:moveTo>
                  <a:lnTo>
                    <a:pt x="4267" y="21511"/>
                  </a:lnTo>
                  <a:cubicBezTo>
                    <a:pt x="1893" y="21495"/>
                    <a:pt x="-19" y="19844"/>
                    <a:pt x="0" y="17778"/>
                  </a:cubicBezTo>
                  <a:lnTo>
                    <a:pt x="75" y="3684"/>
                  </a:lnTo>
                  <a:cubicBezTo>
                    <a:pt x="94" y="1635"/>
                    <a:pt x="2016" y="-16"/>
                    <a:pt x="4408" y="0"/>
                  </a:cubicBezTo>
                  <a:lnTo>
                    <a:pt x="17285" y="49"/>
                  </a:lnTo>
                  <a:cubicBezTo>
                    <a:pt x="19659" y="65"/>
                    <a:pt x="21581" y="1724"/>
                    <a:pt x="21553" y="3790"/>
                  </a:cubicBezTo>
                  <a:lnTo>
                    <a:pt x="21477" y="17876"/>
                  </a:lnTo>
                  <a:cubicBezTo>
                    <a:pt x="21459" y="19925"/>
                    <a:pt x="19518" y="21584"/>
                    <a:pt x="17154" y="2156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01" name="Shape 1468"/>
            <p:cNvSpPr/>
            <p:nvPr/>
          </p:nvSpPr>
          <p:spPr>
            <a:xfrm>
              <a:off x="18701640" y="5032800"/>
              <a:ext cx="3318840" cy="3934440"/>
            </a:xfrm>
            <a:custGeom>
              <a:avLst/>
              <a:gdLst>
                <a:gd name="textAreaLeft" fmla="*/ 0 w 3318840"/>
                <a:gd name="textAreaRight" fmla="*/ 3319200 w 3318840"/>
                <a:gd name="textAreaTop" fmla="*/ 0 h 3934440"/>
                <a:gd name="textAreaBottom" fmla="*/ 3934800 h 3934440"/>
              </a:gdLst>
              <a:ahLst/>
              <a:rect l="textAreaLeft" t="textAreaTop" r="textAreaRight" b="textAreaBottom"/>
              <a:pathLst>
                <a:path w="21559" h="21583">
                  <a:moveTo>
                    <a:pt x="18125" y="21583"/>
                  </a:moveTo>
                  <a:lnTo>
                    <a:pt x="3308" y="21530"/>
                  </a:lnTo>
                  <a:cubicBezTo>
                    <a:pt x="1471" y="21530"/>
                    <a:pt x="-21" y="20256"/>
                    <a:pt x="0" y="18709"/>
                  </a:cubicBezTo>
                  <a:lnTo>
                    <a:pt x="83" y="2786"/>
                  </a:lnTo>
                  <a:cubicBezTo>
                    <a:pt x="83" y="1231"/>
                    <a:pt x="1596" y="-17"/>
                    <a:pt x="3433" y="1"/>
                  </a:cubicBezTo>
                  <a:lnTo>
                    <a:pt x="18261" y="53"/>
                  </a:lnTo>
                  <a:cubicBezTo>
                    <a:pt x="20097" y="53"/>
                    <a:pt x="21579" y="1328"/>
                    <a:pt x="21558" y="2874"/>
                  </a:cubicBezTo>
                  <a:lnTo>
                    <a:pt x="21475" y="18806"/>
                  </a:lnTo>
                  <a:cubicBezTo>
                    <a:pt x="21454" y="20335"/>
                    <a:pt x="19962" y="21583"/>
                    <a:pt x="18125" y="21583"/>
                  </a:cubicBezTo>
                </a:path>
              </a:pathLst>
            </a:custGeom>
            <a:solidFill>
              <a:srgbClr val="92929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502" name="Shape 1472"/>
          <p:cNvSpPr/>
          <p:nvPr/>
        </p:nvSpPr>
        <p:spPr>
          <a:xfrm>
            <a:off x="2035800" y="1712160"/>
            <a:ext cx="10161000" cy="474912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Colorful</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Watches</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Mockup</a:t>
            </a:r>
            <a:endParaRPr b="0" lang="en-US" sz="11200" spc="-1" strike="noStrike">
              <a:solidFill>
                <a:srgbClr val="000000"/>
              </a:solidFill>
              <a:latin typeface="Arial"/>
            </a:endParaRPr>
          </a:p>
        </p:txBody>
      </p:sp>
      <p:sp>
        <p:nvSpPr>
          <p:cNvPr id="4503" name="Shape 1473"/>
          <p:cNvSpPr/>
          <p:nvPr/>
        </p:nvSpPr>
        <p:spPr>
          <a:xfrm>
            <a:off x="2035800" y="7115760"/>
            <a:ext cx="9145080" cy="16552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mago ona leso damer prier ersade.</a:t>
            </a:r>
            <a:endParaRPr b="0" lang="en-US" sz="4800" spc="-1" strike="noStrike">
              <a:solidFill>
                <a:srgbClr val="000000"/>
              </a:solidFill>
              <a:latin typeface="Arial"/>
            </a:endParaRPr>
          </a:p>
        </p:txBody>
      </p:sp>
      <p:sp>
        <p:nvSpPr>
          <p:cNvPr id="4504" name="Shape 1474"/>
          <p:cNvSpPr/>
          <p:nvPr/>
        </p:nvSpPr>
        <p:spPr>
          <a:xfrm>
            <a:off x="2035800" y="10679040"/>
            <a:ext cx="4827960" cy="126972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a:t>
            </a:r>
            <a:endParaRPr b="0" lang="en-US" sz="3000" spc="-1" strike="noStrike">
              <a:solidFill>
                <a:srgbClr val="000000"/>
              </a:solidFill>
              <a:latin typeface="Arial"/>
            </a:endParaRPr>
          </a:p>
        </p:txBody>
      </p:sp>
      <p:sp>
        <p:nvSpPr>
          <p:cNvPr id="4505" name="Shape 1475"/>
          <p:cNvSpPr/>
          <p:nvPr/>
        </p:nvSpPr>
        <p:spPr>
          <a:xfrm>
            <a:off x="2035800" y="991728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WATCHES MOCKUP</a:t>
            </a:r>
            <a:endParaRPr b="0" lang="en-US" sz="3000" spc="-1" strike="noStrike">
              <a:solidFill>
                <a:srgbClr val="000000"/>
              </a:solidFill>
              <a:latin typeface="Arial"/>
            </a:endParaRPr>
          </a:p>
        </p:txBody>
      </p:sp>
      <p:sp>
        <p:nvSpPr>
          <p:cNvPr id="4506" name="Shape 1476"/>
          <p:cNvSpPr/>
          <p:nvPr/>
        </p:nvSpPr>
        <p:spPr>
          <a:xfrm>
            <a:off x="7561800" y="9917280"/>
            <a:ext cx="48258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507" name="Shape 1477"/>
          <p:cNvSpPr/>
          <p:nvPr/>
        </p:nvSpPr>
        <p:spPr>
          <a:xfrm>
            <a:off x="7561800" y="10679040"/>
            <a:ext cx="4825800" cy="1263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8" name="Shape 1481"/>
          <p:cNvSpPr/>
          <p:nvPr/>
        </p:nvSpPr>
        <p:spPr>
          <a:xfrm>
            <a:off x="2032200" y="10094400"/>
            <a:ext cx="9144720" cy="158760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4509" name="Shape 1482"/>
          <p:cNvSpPr/>
          <p:nvPr/>
        </p:nvSpPr>
        <p:spPr>
          <a:xfrm>
            <a:off x="12192120" y="10157760"/>
            <a:ext cx="10164600" cy="2027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ot clita kuasd gubergren, nosotra sea takimata sanctus est Lorem ipsusit druamet dolor sit amet, deras consetetur sadipscing elitro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0" name="PlaceHolder 1"/>
          <p:cNvSpPr>
            <a:spLocks noGrp="1"/>
          </p:cNvSpPr>
          <p:nvPr>
            <p:ph type="sldNum" idx="103"/>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67521FA6-34EF-4DC2-937A-B8FE97B3F515}" type="slidenum">
              <a:rPr b="0" lang="en-US" sz="2800" spc="-1" strike="noStrike">
                <a:solidFill>
                  <a:srgbClr val="797979"/>
                </a:solidFill>
                <a:latin typeface="Helvetica Light"/>
                <a:ea typeface="Helvetica Light"/>
              </a:rPr>
              <a:t>35</a:t>
            </a:fld>
            <a:endParaRPr b="0" lang="en-US" sz="2800" spc="-1" strike="noStrike">
              <a:solidFill>
                <a:srgbClr val="000000"/>
              </a:solidFill>
              <a:latin typeface="Times New Roman"/>
            </a:endParaRPr>
          </a:p>
        </p:txBody>
      </p:sp>
      <p:pic>
        <p:nvPicPr>
          <p:cNvPr id="4511" name="client_01.png" descr=""/>
          <p:cNvPicPr/>
          <p:nvPr/>
        </p:nvPicPr>
        <p:blipFill>
          <a:blip r:embed="rId1"/>
          <a:stretch/>
        </p:blipFill>
        <p:spPr>
          <a:xfrm>
            <a:off x="7539120" y="8451720"/>
            <a:ext cx="3809520" cy="2539800"/>
          </a:xfrm>
          <a:prstGeom prst="rect">
            <a:avLst/>
          </a:prstGeom>
          <a:ln w="12700">
            <a:noFill/>
          </a:ln>
        </p:spPr>
      </p:pic>
      <p:pic>
        <p:nvPicPr>
          <p:cNvPr id="4512" name="client_04.png" descr=""/>
          <p:cNvPicPr/>
          <p:nvPr/>
        </p:nvPicPr>
        <p:blipFill>
          <a:blip r:embed="rId2"/>
          <a:stretch/>
        </p:blipFill>
        <p:spPr>
          <a:xfrm>
            <a:off x="2035080" y="8451720"/>
            <a:ext cx="3809520" cy="2539800"/>
          </a:xfrm>
          <a:prstGeom prst="rect">
            <a:avLst/>
          </a:prstGeom>
          <a:ln w="12700">
            <a:noFill/>
          </a:ln>
        </p:spPr>
      </p:pic>
      <p:pic>
        <p:nvPicPr>
          <p:cNvPr id="4513" name="client_05.png" descr=""/>
          <p:cNvPicPr/>
          <p:nvPr/>
        </p:nvPicPr>
        <p:blipFill>
          <a:blip r:embed="rId3"/>
          <a:stretch/>
        </p:blipFill>
        <p:spPr>
          <a:xfrm>
            <a:off x="18546840" y="8451720"/>
            <a:ext cx="3809520" cy="2539800"/>
          </a:xfrm>
          <a:prstGeom prst="rect">
            <a:avLst/>
          </a:prstGeom>
          <a:ln w="12700">
            <a:noFill/>
          </a:ln>
        </p:spPr>
      </p:pic>
      <p:pic>
        <p:nvPicPr>
          <p:cNvPr id="4514" name="client_06.png" descr=""/>
          <p:cNvPicPr/>
          <p:nvPr/>
        </p:nvPicPr>
        <p:blipFill>
          <a:blip r:embed="rId4"/>
          <a:stretch/>
        </p:blipFill>
        <p:spPr>
          <a:xfrm>
            <a:off x="13043160" y="8451720"/>
            <a:ext cx="3809520" cy="2539800"/>
          </a:xfrm>
          <a:prstGeom prst="rect">
            <a:avLst/>
          </a:prstGeom>
          <a:ln w="12700">
            <a:noFill/>
          </a:ln>
        </p:spPr>
      </p:pic>
      <p:sp>
        <p:nvSpPr>
          <p:cNvPr id="4515" name="PlaceHolder 2"/>
          <p:cNvSpPr>
            <a:spLocks noGrp="1"/>
          </p:cNvSpPr>
          <p:nvPr>
            <p:ph type="title"/>
          </p:nvPr>
        </p:nvSpPr>
        <p:spPr>
          <a:xfrm>
            <a:off x="2035080" y="1708200"/>
            <a:ext cx="9141840" cy="67428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Trusted</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by top</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companies</a:t>
            </a:r>
            <a:endParaRPr b="0" lang="en-US" sz="11200" spc="-1" strike="noStrike">
              <a:solidFill>
                <a:srgbClr val="009193"/>
              </a:solidFill>
              <a:latin typeface="Helvetica Light"/>
            </a:endParaRPr>
          </a:p>
        </p:txBody>
      </p:sp>
      <p:sp>
        <p:nvSpPr>
          <p:cNvPr id="4516" name="Shape 1490"/>
          <p:cNvSpPr/>
          <p:nvPr/>
        </p:nvSpPr>
        <p:spPr>
          <a:xfrm>
            <a:off x="13211640" y="1799640"/>
            <a:ext cx="914472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4517" name="Shape 1491"/>
          <p:cNvSpPr/>
          <p:nvPr/>
        </p:nvSpPr>
        <p:spPr>
          <a:xfrm>
            <a:off x="13211640" y="4445640"/>
            <a:ext cx="9144720" cy="42595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n teot clita kuasd gubergren, nosotra seond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8" name="PlaceHolder 1"/>
          <p:cNvSpPr>
            <a:spLocks noGrp="1"/>
          </p:cNvSpPr>
          <p:nvPr>
            <p:ph type="sldNum" idx="104"/>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CB7CF5F0-7727-4CC6-B083-867D1B6A9E92}" type="slidenum">
              <a:rPr b="0" lang="en-US" sz="2800" spc="-1" strike="noStrike">
                <a:solidFill>
                  <a:srgbClr val="797979"/>
                </a:solidFill>
                <a:latin typeface="Helvetica Light"/>
                <a:ea typeface="Helvetica Light"/>
              </a:rPr>
              <a:t>35</a:t>
            </a:fld>
            <a:endParaRPr b="0" lang="en-US" sz="2800" spc="-1" strike="noStrike">
              <a:solidFill>
                <a:srgbClr val="000000"/>
              </a:solidFill>
              <a:latin typeface="Times New Roman"/>
            </a:endParaRPr>
          </a:p>
        </p:txBody>
      </p:sp>
      <p:pic>
        <p:nvPicPr>
          <p:cNvPr id="4519" name="client_01.png" descr=""/>
          <p:cNvPicPr/>
          <p:nvPr/>
        </p:nvPicPr>
        <p:blipFill>
          <a:blip r:embed="rId1"/>
          <a:stretch/>
        </p:blipFill>
        <p:spPr>
          <a:xfrm>
            <a:off x="2035080" y="2025720"/>
            <a:ext cx="3809520" cy="2539800"/>
          </a:xfrm>
          <a:prstGeom prst="rect">
            <a:avLst/>
          </a:prstGeom>
          <a:ln w="12700">
            <a:noFill/>
          </a:ln>
        </p:spPr>
      </p:pic>
      <p:pic>
        <p:nvPicPr>
          <p:cNvPr id="4520" name="client_02.png" descr=""/>
          <p:cNvPicPr/>
          <p:nvPr/>
        </p:nvPicPr>
        <p:blipFill>
          <a:blip r:embed="rId2"/>
          <a:stretch/>
        </p:blipFill>
        <p:spPr>
          <a:xfrm>
            <a:off x="7367400" y="9142560"/>
            <a:ext cx="3809520" cy="2539800"/>
          </a:xfrm>
          <a:prstGeom prst="rect">
            <a:avLst/>
          </a:prstGeom>
          <a:ln w="12700">
            <a:noFill/>
          </a:ln>
        </p:spPr>
      </p:pic>
      <p:pic>
        <p:nvPicPr>
          <p:cNvPr id="4521" name="client_03.png" descr=""/>
          <p:cNvPicPr/>
          <p:nvPr/>
        </p:nvPicPr>
        <p:blipFill>
          <a:blip r:embed="rId3"/>
          <a:stretch/>
        </p:blipFill>
        <p:spPr>
          <a:xfrm>
            <a:off x="2035080" y="5587920"/>
            <a:ext cx="3809520" cy="2539800"/>
          </a:xfrm>
          <a:prstGeom prst="rect">
            <a:avLst/>
          </a:prstGeom>
          <a:ln w="12700">
            <a:noFill/>
          </a:ln>
        </p:spPr>
      </p:pic>
      <p:pic>
        <p:nvPicPr>
          <p:cNvPr id="4522" name="client_04.png" descr=""/>
          <p:cNvPicPr/>
          <p:nvPr/>
        </p:nvPicPr>
        <p:blipFill>
          <a:blip r:embed="rId4"/>
          <a:stretch/>
        </p:blipFill>
        <p:spPr>
          <a:xfrm>
            <a:off x="7367400" y="2025720"/>
            <a:ext cx="3809520" cy="2539800"/>
          </a:xfrm>
          <a:prstGeom prst="rect">
            <a:avLst/>
          </a:prstGeom>
          <a:ln w="12700">
            <a:noFill/>
          </a:ln>
        </p:spPr>
      </p:pic>
      <p:pic>
        <p:nvPicPr>
          <p:cNvPr id="4523" name="client_05.png" descr=""/>
          <p:cNvPicPr/>
          <p:nvPr/>
        </p:nvPicPr>
        <p:blipFill>
          <a:blip r:embed="rId5"/>
          <a:stretch/>
        </p:blipFill>
        <p:spPr>
          <a:xfrm>
            <a:off x="2035080" y="9142560"/>
            <a:ext cx="3809520" cy="2539800"/>
          </a:xfrm>
          <a:prstGeom prst="rect">
            <a:avLst/>
          </a:prstGeom>
          <a:ln w="12700">
            <a:noFill/>
          </a:ln>
        </p:spPr>
      </p:pic>
      <p:pic>
        <p:nvPicPr>
          <p:cNvPr id="4524" name="client_06.png" descr=""/>
          <p:cNvPicPr/>
          <p:nvPr/>
        </p:nvPicPr>
        <p:blipFill>
          <a:blip r:embed="rId6"/>
          <a:stretch/>
        </p:blipFill>
        <p:spPr>
          <a:xfrm>
            <a:off x="7367400" y="5587920"/>
            <a:ext cx="3809520" cy="2539800"/>
          </a:xfrm>
          <a:prstGeom prst="rect">
            <a:avLst/>
          </a:prstGeom>
          <a:ln w="12700">
            <a:noFill/>
          </a:ln>
        </p:spPr>
      </p:pic>
      <p:sp>
        <p:nvSpPr>
          <p:cNvPr id="4525" name="PlaceHolder 2"/>
          <p:cNvSpPr>
            <a:spLocks noGrp="1"/>
          </p:cNvSpPr>
          <p:nvPr>
            <p:ph type="title"/>
          </p:nvPr>
        </p:nvSpPr>
        <p:spPr>
          <a:xfrm>
            <a:off x="13201920" y="1708200"/>
            <a:ext cx="9141840" cy="514944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Trusted</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by top</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companies</a:t>
            </a:r>
            <a:endParaRPr b="0" lang="en-US" sz="11200" spc="-1" strike="noStrike">
              <a:solidFill>
                <a:srgbClr val="009193"/>
              </a:solidFill>
              <a:latin typeface="Helvetica Light"/>
            </a:endParaRPr>
          </a:p>
        </p:txBody>
      </p:sp>
      <p:sp>
        <p:nvSpPr>
          <p:cNvPr id="4526" name="Shape 1501"/>
          <p:cNvSpPr/>
          <p:nvPr/>
        </p:nvSpPr>
        <p:spPr>
          <a:xfrm>
            <a:off x="13211640" y="6983640"/>
            <a:ext cx="9144720" cy="185220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4527" name="Shape 1502"/>
          <p:cNvSpPr/>
          <p:nvPr/>
        </p:nvSpPr>
        <p:spPr>
          <a:xfrm>
            <a:off x="13211640" y="9409680"/>
            <a:ext cx="9144720" cy="22726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ras steot clita kuasd gubergren, nosotra sea takimata sanctus est Lorem ipsusit druamet. Lorem eso ipsum dolor sit amet, deras frudnas consetetur sadipscing des elitro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8" name="Shape 1505"/>
          <p:cNvSpPr/>
          <p:nvPr/>
        </p:nvSpPr>
        <p:spPr>
          <a:xfrm>
            <a:off x="15754320" y="6351120"/>
            <a:ext cx="4655880" cy="4064040"/>
          </a:xfrm>
          <a:prstGeom prst="rect">
            <a:avLst/>
          </a:prstGeom>
          <a:noFill/>
          <a:ln w="12700">
            <a:noFill/>
          </a:ln>
        </p:spPr>
        <p:style>
          <a:lnRef idx="0"/>
          <a:fillRef idx="0"/>
          <a:effectRef idx="0"/>
          <a:fontRef idx="minor"/>
        </p:style>
        <p:txBody>
          <a:bodyPr lIns="50760" rIns="50760" tIns="50760" bIns="5076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Sonet grosn clita kuasd gubergren, nosotra dra seao takimata sanctus tipsum dolor sit amet. Lorem ekodos ipsum ptroga neslo dolor sit amet iras forn.</a:t>
            </a:r>
            <a:endParaRPr b="0" lang="en-US" sz="3000" spc="-1" strike="noStrike">
              <a:solidFill>
                <a:srgbClr val="000000"/>
              </a:solidFill>
              <a:latin typeface="Arial"/>
            </a:endParaRPr>
          </a:p>
        </p:txBody>
      </p:sp>
      <p:sp>
        <p:nvSpPr>
          <p:cNvPr id="4529" name="Shape 1506"/>
          <p:cNvSpPr/>
          <p:nvPr/>
        </p:nvSpPr>
        <p:spPr>
          <a:xfrm>
            <a:off x="2032200" y="1644840"/>
            <a:ext cx="7519320" cy="316800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ffffff"/>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ffffff"/>
                </a:solidFill>
                <a:latin typeface="Montserrat Semi Bold"/>
                <a:ea typeface="Montserrat Semi Bold"/>
              </a:rPr>
              <a:t>Creative</a:t>
            </a:r>
            <a:endParaRPr b="0" lang="en-US" sz="11200" spc="-1" strike="noStrike">
              <a:solidFill>
                <a:srgbClr val="000000"/>
              </a:solidFill>
              <a:latin typeface="Arial"/>
            </a:endParaRPr>
          </a:p>
        </p:txBody>
      </p:sp>
      <p:sp>
        <p:nvSpPr>
          <p:cNvPr id="4530" name="Shape 1507"/>
          <p:cNvSpPr/>
          <p:nvPr/>
        </p:nvSpPr>
        <p:spPr>
          <a:xfrm>
            <a:off x="15754320" y="1835280"/>
            <a:ext cx="4655880" cy="367560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drs</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mago ona leso damer dons la as frans.</a:t>
            </a:r>
            <a:endParaRPr b="0" lang="en-US" sz="4800" spc="-1" strike="noStrike">
              <a:solidFill>
                <a:srgbClr val="000000"/>
              </a:solidFill>
              <a:latin typeface="Arial"/>
            </a:endParaRPr>
          </a:p>
        </p:txBody>
      </p:sp>
      <p:sp>
        <p:nvSpPr>
          <p:cNvPr id="4531" name="Shape 1508"/>
          <p:cNvSpPr/>
          <p:nvPr/>
        </p:nvSpPr>
        <p:spPr>
          <a:xfrm>
            <a:off x="15754320" y="11149200"/>
            <a:ext cx="46605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5" name="Shape 1068"/>
          <p:cNvSpPr/>
          <p:nvPr/>
        </p:nvSpPr>
        <p:spPr>
          <a:xfrm>
            <a:off x="12192120" y="1835280"/>
            <a:ext cx="10159560" cy="27795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A clean and modern Keynote Presentation for your next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creative great work.</a:t>
            </a:r>
            <a:endParaRPr b="0" lang="en-US" sz="4800" spc="-1" strike="noStrike">
              <a:solidFill>
                <a:srgbClr val="000000"/>
              </a:solidFill>
              <a:latin typeface="Arial"/>
            </a:endParaRPr>
          </a:p>
        </p:txBody>
      </p:sp>
      <p:sp>
        <p:nvSpPr>
          <p:cNvPr id="4206" name="Shape 1069"/>
          <p:cNvSpPr/>
          <p:nvPr/>
        </p:nvSpPr>
        <p:spPr>
          <a:xfrm>
            <a:off x="12187080" y="5588640"/>
            <a:ext cx="10164600" cy="54331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wetoma jam rebum. Stet clita kuasd gubergren, nosotra seansa takimata sanctus est Lorem ipsum dolor sit amet. Lorem eso ipsum dolor sit amet, deras consetetur sadipscing idas brotas geras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
        <p:nvSpPr>
          <p:cNvPr id="4207" name="Shape 1070"/>
          <p:cNvSpPr/>
          <p:nvPr/>
        </p:nvSpPr>
        <p:spPr>
          <a:xfrm>
            <a:off x="2031840" y="1714680"/>
            <a:ext cx="8127720" cy="340200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ffffff"/>
                </a:solidFill>
                <a:latin typeface="Montserrat Semi Bold"/>
                <a:ea typeface="Montserrat Semi Bold"/>
              </a:rPr>
              <a:t>Welcome</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ffffff"/>
                </a:solidFill>
                <a:latin typeface="Montserrat Semi Bold"/>
                <a:ea typeface="Montserrat Semi Bold"/>
              </a:rPr>
              <a:t>to Be.</a:t>
            </a:r>
            <a:endParaRPr b="0" lang="en-US" sz="1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32" name="Group 1525"/>
          <p:cNvGrpSpPr/>
          <p:nvPr/>
        </p:nvGrpSpPr>
        <p:grpSpPr>
          <a:xfrm>
            <a:off x="15488280" y="2033640"/>
            <a:ext cx="6837480" cy="9648720"/>
            <a:chOff x="15488280" y="2033640"/>
            <a:chExt cx="6837480" cy="9648720"/>
          </a:xfrm>
        </p:grpSpPr>
        <p:sp>
          <p:nvSpPr>
            <p:cNvPr id="4533" name="Shape 1510"/>
            <p:cNvSpPr/>
            <p:nvPr/>
          </p:nvSpPr>
          <p:spPr>
            <a:xfrm>
              <a:off x="15488280" y="2033640"/>
              <a:ext cx="6837480" cy="9648720"/>
            </a:xfrm>
            <a:custGeom>
              <a:avLst/>
              <a:gdLst>
                <a:gd name="textAreaLeft" fmla="*/ 0 w 6837480"/>
                <a:gd name="textAreaRight" fmla="*/ 6837840 w 6837480"/>
                <a:gd name="textAreaTop" fmla="*/ 0 h 9648720"/>
                <a:gd name="textAreaBottom" fmla="*/ 9649080 h 964872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34" name="Shape 1511"/>
            <p:cNvSpPr/>
            <p:nvPr/>
          </p:nvSpPr>
          <p:spPr>
            <a:xfrm>
              <a:off x="15529680" y="2079720"/>
              <a:ext cx="6750000" cy="9561240"/>
            </a:xfrm>
            <a:custGeom>
              <a:avLst/>
              <a:gdLst>
                <a:gd name="textAreaLeft" fmla="*/ 0 w 6750000"/>
                <a:gd name="textAreaRight" fmla="*/ 6750360 w 6750000"/>
                <a:gd name="textAreaTop" fmla="*/ 0 h 9561240"/>
                <a:gd name="textAreaBottom" fmla="*/ 9561600 h 956124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35" name="Shape 1512"/>
            <p:cNvSpPr/>
            <p:nvPr/>
          </p:nvSpPr>
          <p:spPr>
            <a:xfrm>
              <a:off x="15879960" y="2849040"/>
              <a:ext cx="6049440" cy="8021880"/>
            </a:xfrm>
            <a:custGeom>
              <a:avLst/>
              <a:gdLst>
                <a:gd name="textAreaLeft" fmla="*/ 0 w 6049440"/>
                <a:gd name="textAreaRight" fmla="*/ 6049800 w 6049440"/>
                <a:gd name="textAreaTop" fmla="*/ 0 h 8021880"/>
                <a:gd name="textAreaBottom" fmla="*/ 8022240 h 802188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36" name="Shape 1513"/>
            <p:cNvSpPr/>
            <p:nvPr/>
          </p:nvSpPr>
          <p:spPr>
            <a:xfrm>
              <a:off x="15903000" y="2867760"/>
              <a:ext cx="6008040" cy="7980480"/>
            </a:xfrm>
            <a:custGeom>
              <a:avLst/>
              <a:gdLst>
                <a:gd name="textAreaLeft" fmla="*/ 0 w 6008040"/>
                <a:gd name="textAreaRight" fmla="*/ 6008400 w 6008040"/>
                <a:gd name="textAreaTop" fmla="*/ 0 h 7980480"/>
                <a:gd name="textAreaBottom" fmla="*/ 7980840 h 79804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37" name="Shape 1514"/>
            <p:cNvSpPr/>
            <p:nvPr/>
          </p:nvSpPr>
          <p:spPr>
            <a:xfrm>
              <a:off x="18853200" y="2415960"/>
              <a:ext cx="108360" cy="108360"/>
            </a:xfrm>
            <a:custGeom>
              <a:avLst/>
              <a:gdLst>
                <a:gd name="textAreaLeft" fmla="*/ 0 w 108360"/>
                <a:gd name="textAreaRight" fmla="*/ 108720 w 108360"/>
                <a:gd name="textAreaTop" fmla="*/ 0 h 108360"/>
                <a:gd name="textAreaBottom" fmla="*/ 108720 h 10836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38" name="Shape 1515"/>
            <p:cNvSpPr/>
            <p:nvPr/>
          </p:nvSpPr>
          <p:spPr>
            <a:xfrm>
              <a:off x="18866880" y="2430360"/>
              <a:ext cx="80280" cy="80280"/>
            </a:xfrm>
            <a:custGeom>
              <a:avLst/>
              <a:gdLst>
                <a:gd name="textAreaLeft" fmla="*/ 0 w 80280"/>
                <a:gd name="textAreaRight" fmla="*/ 80640 w 80280"/>
                <a:gd name="textAreaTop" fmla="*/ 0 h 80280"/>
                <a:gd name="textAreaBottom" fmla="*/ 80640 h 8028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39" name="Shape 1516"/>
            <p:cNvSpPr/>
            <p:nvPr/>
          </p:nvSpPr>
          <p:spPr>
            <a:xfrm>
              <a:off x="18884520" y="24483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40" name="Shape 1517"/>
            <p:cNvSpPr/>
            <p:nvPr/>
          </p:nvSpPr>
          <p:spPr>
            <a:xfrm>
              <a:off x="18689400" y="11078280"/>
              <a:ext cx="421200" cy="421920"/>
            </a:xfrm>
            <a:custGeom>
              <a:avLst/>
              <a:gdLst>
                <a:gd name="textAreaLeft" fmla="*/ 0 w 421200"/>
                <a:gd name="textAreaRight" fmla="*/ 421560 w 421200"/>
                <a:gd name="textAreaTop" fmla="*/ 0 h 421920"/>
                <a:gd name="textAreaBottom" fmla="*/ 422280 h 42192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41" name="Shape 1518"/>
            <p:cNvSpPr/>
            <p:nvPr/>
          </p:nvSpPr>
          <p:spPr>
            <a:xfrm>
              <a:off x="18686520" y="11081880"/>
              <a:ext cx="201240" cy="217800"/>
            </a:xfrm>
            <a:custGeom>
              <a:avLst/>
              <a:gdLst>
                <a:gd name="textAreaLeft" fmla="*/ 0 w 201240"/>
                <a:gd name="textAreaRight" fmla="*/ 201600 w 201240"/>
                <a:gd name="textAreaTop" fmla="*/ 0 h 217800"/>
                <a:gd name="textAreaBottom" fmla="*/ 218160 h 21780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42" name="Shape 1519"/>
            <p:cNvSpPr/>
            <p:nvPr/>
          </p:nvSpPr>
          <p:spPr>
            <a:xfrm>
              <a:off x="18723240" y="1108224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43" name="Shape 1520"/>
            <p:cNvSpPr/>
            <p:nvPr/>
          </p:nvSpPr>
          <p:spPr>
            <a:xfrm>
              <a:off x="18801720" y="11082600"/>
              <a:ext cx="284400" cy="212400"/>
            </a:xfrm>
            <a:custGeom>
              <a:avLst/>
              <a:gdLst>
                <a:gd name="textAreaLeft" fmla="*/ 0 w 284400"/>
                <a:gd name="textAreaRight" fmla="*/ 284760 w 284400"/>
                <a:gd name="textAreaTop" fmla="*/ 0 h 212400"/>
                <a:gd name="textAreaBottom" fmla="*/ 212760 h 21240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44" name="Shape 1521"/>
            <p:cNvSpPr/>
            <p:nvPr/>
          </p:nvSpPr>
          <p:spPr>
            <a:xfrm>
              <a:off x="18912240" y="11282760"/>
              <a:ext cx="196920" cy="219960"/>
            </a:xfrm>
            <a:custGeom>
              <a:avLst/>
              <a:gdLst>
                <a:gd name="textAreaLeft" fmla="*/ 0 w 196920"/>
                <a:gd name="textAreaRight" fmla="*/ 197280 w 196920"/>
                <a:gd name="textAreaTop" fmla="*/ 0 h 219960"/>
                <a:gd name="textAreaBottom" fmla="*/ 220320 h 21996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45" name="Shape 1522"/>
            <p:cNvSpPr/>
            <p:nvPr/>
          </p:nvSpPr>
          <p:spPr>
            <a:xfrm>
              <a:off x="18778680" y="1128708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46" name="Shape 1523"/>
            <p:cNvSpPr/>
            <p:nvPr/>
          </p:nvSpPr>
          <p:spPr>
            <a:xfrm>
              <a:off x="18709560" y="11287080"/>
              <a:ext cx="284400" cy="212040"/>
            </a:xfrm>
            <a:custGeom>
              <a:avLst/>
              <a:gdLst>
                <a:gd name="textAreaLeft" fmla="*/ 0 w 284400"/>
                <a:gd name="textAreaRight" fmla="*/ 284760 w 284400"/>
                <a:gd name="textAreaTop" fmla="*/ 0 h 212040"/>
                <a:gd name="textAreaBottom" fmla="*/ 212400 h 21204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47" name="Shape 1524"/>
            <p:cNvSpPr/>
            <p:nvPr/>
          </p:nvSpPr>
          <p:spPr>
            <a:xfrm>
              <a:off x="18713520" y="11103480"/>
              <a:ext cx="372240" cy="371520"/>
            </a:xfrm>
            <a:custGeom>
              <a:avLst/>
              <a:gdLst>
                <a:gd name="textAreaLeft" fmla="*/ 0 w 372240"/>
                <a:gd name="textAreaRight" fmla="*/ 372600 w 372240"/>
                <a:gd name="textAreaTop" fmla="*/ 0 h 371520"/>
                <a:gd name="textAreaBottom" fmla="*/ 371880 h 37152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548" name="Shape 1527"/>
          <p:cNvSpPr/>
          <p:nvPr/>
        </p:nvSpPr>
        <p:spPr>
          <a:xfrm>
            <a:off x="2035080" y="1708200"/>
            <a:ext cx="6322320" cy="33926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Design</a:t>
            </a:r>
            <a:endParaRPr b="0" lang="en-US" sz="11200" spc="-1" strike="noStrike">
              <a:solidFill>
                <a:srgbClr val="000000"/>
              </a:solidFill>
              <a:latin typeface="Arial"/>
            </a:endParaRPr>
          </a:p>
        </p:txBody>
      </p:sp>
      <p:sp>
        <p:nvSpPr>
          <p:cNvPr id="4549" name="Shape 1528"/>
          <p:cNvSpPr/>
          <p:nvPr/>
        </p:nvSpPr>
        <p:spPr>
          <a:xfrm>
            <a:off x="2035080" y="6413400"/>
            <a:ext cx="9144720" cy="2027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oma.</a:t>
            </a:r>
            <a:endParaRPr b="0" lang="en-US" sz="3000" spc="-1" strike="noStrike">
              <a:solidFill>
                <a:srgbClr val="000000"/>
              </a:solidFill>
              <a:latin typeface="Arial"/>
            </a:endParaRPr>
          </a:p>
        </p:txBody>
      </p:sp>
      <p:sp>
        <p:nvSpPr>
          <p:cNvPr id="4550" name="Shape 1529"/>
          <p:cNvSpPr/>
          <p:nvPr/>
        </p:nvSpPr>
        <p:spPr>
          <a:xfrm>
            <a:off x="2035080" y="1110456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551" name="Shape 1530"/>
          <p:cNvSpPr/>
          <p:nvPr/>
        </p:nvSpPr>
        <p:spPr>
          <a:xfrm>
            <a:off x="2035080" y="1031364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552" name="Shape 1531"/>
          <p:cNvSpPr/>
          <p:nvPr/>
        </p:nvSpPr>
        <p:spPr>
          <a:xfrm>
            <a:off x="2035080" y="914688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553" name="Shape 1532"/>
          <p:cNvSpPr/>
          <p:nvPr/>
        </p:nvSpPr>
        <p:spPr>
          <a:xfrm>
            <a:off x="6235920" y="914688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554" name="Shape 1533"/>
          <p:cNvSpPr/>
          <p:nvPr/>
        </p:nvSpPr>
        <p:spPr>
          <a:xfrm>
            <a:off x="10436760" y="914688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555" name="Shape 1534"/>
          <p:cNvSpPr/>
          <p:nvPr/>
        </p:nvSpPr>
        <p:spPr>
          <a:xfrm>
            <a:off x="6224040" y="1110456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556" name="Shape 1535"/>
          <p:cNvSpPr/>
          <p:nvPr/>
        </p:nvSpPr>
        <p:spPr>
          <a:xfrm>
            <a:off x="6224040" y="1031364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ESH</a:t>
            </a:r>
            <a:endParaRPr b="0" lang="en-US" sz="3000" spc="-1" strike="noStrike">
              <a:solidFill>
                <a:srgbClr val="000000"/>
              </a:solidFill>
              <a:latin typeface="Arial"/>
            </a:endParaRPr>
          </a:p>
        </p:txBody>
      </p:sp>
      <p:sp>
        <p:nvSpPr>
          <p:cNvPr id="4557" name="Shape 1536"/>
          <p:cNvSpPr/>
          <p:nvPr/>
        </p:nvSpPr>
        <p:spPr>
          <a:xfrm>
            <a:off x="10413000" y="1110456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558" name="Shape 1537"/>
          <p:cNvSpPr/>
          <p:nvPr/>
        </p:nvSpPr>
        <p:spPr>
          <a:xfrm>
            <a:off x="10413000" y="1031364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OD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59" name="Group 1560"/>
          <p:cNvGrpSpPr/>
          <p:nvPr/>
        </p:nvGrpSpPr>
        <p:grpSpPr>
          <a:xfrm>
            <a:off x="17998920" y="3877920"/>
            <a:ext cx="3122280" cy="6349680"/>
            <a:chOff x="17998920" y="3877920"/>
            <a:chExt cx="3122280" cy="6349680"/>
          </a:xfrm>
        </p:grpSpPr>
        <p:sp>
          <p:nvSpPr>
            <p:cNvPr id="4560" name="Shape 1539"/>
            <p:cNvSpPr/>
            <p:nvPr/>
          </p:nvSpPr>
          <p:spPr>
            <a:xfrm>
              <a:off x="17998920" y="4690800"/>
              <a:ext cx="78480" cy="245880"/>
            </a:xfrm>
            <a:custGeom>
              <a:avLst/>
              <a:gdLst>
                <a:gd name="textAreaLeft" fmla="*/ 0 w 78480"/>
                <a:gd name="textAreaRight" fmla="*/ 78840 w 78480"/>
                <a:gd name="textAreaTop" fmla="*/ 0 h 245880"/>
                <a:gd name="textAreaBottom" fmla="*/ 246240 h 245880"/>
              </a:gdLst>
              <a:ahLst/>
              <a:rect l="textAreaLeft" t="textAreaTop" r="textAreaRight" b="textAreaBottom"/>
              <a:pathLst>
                <a:path w="21600" h="21600">
                  <a:moveTo>
                    <a:pt x="21600" y="21600"/>
                  </a:moveTo>
                  <a:lnTo>
                    <a:pt x="5274" y="21600"/>
                  </a:lnTo>
                  <a:cubicBezTo>
                    <a:pt x="2260" y="21600"/>
                    <a:pt x="0" y="20883"/>
                    <a:pt x="0" y="19926"/>
                  </a:cubicBezTo>
                  <a:lnTo>
                    <a:pt x="0" y="1674"/>
                  </a:lnTo>
                  <a:cubicBezTo>
                    <a:pt x="0" y="717"/>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1" name="Shape 1540"/>
            <p:cNvSpPr/>
            <p:nvPr/>
          </p:nvSpPr>
          <p:spPr>
            <a:xfrm>
              <a:off x="17998920" y="5228640"/>
              <a:ext cx="94320" cy="456840"/>
            </a:xfrm>
            <a:custGeom>
              <a:avLst/>
              <a:gdLst>
                <a:gd name="textAreaLeft" fmla="*/ 0 w 94320"/>
                <a:gd name="textAreaRight" fmla="*/ 94680 w 94320"/>
                <a:gd name="textAreaTop" fmla="*/ 0 h 456840"/>
                <a:gd name="textAreaBottom" fmla="*/ 457200 h 456840"/>
              </a:gdLst>
              <a:ahLst/>
              <a:rect l="textAreaLeft" t="textAreaTop" r="textAreaRight" b="textAreaBottom"/>
              <a:pathLst>
                <a:path w="21600" h="21600">
                  <a:moveTo>
                    <a:pt x="21600" y="21600"/>
                  </a:moveTo>
                  <a:lnTo>
                    <a:pt x="4404" y="21600"/>
                  </a:lnTo>
                  <a:cubicBezTo>
                    <a:pt x="1887" y="21600"/>
                    <a:pt x="0" y="21216"/>
                    <a:pt x="0" y="20704"/>
                  </a:cubicBezTo>
                  <a:lnTo>
                    <a:pt x="0" y="896"/>
                  </a:lnTo>
                  <a:cubicBezTo>
                    <a:pt x="0" y="342"/>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2" name="Shape 1541"/>
            <p:cNvSpPr/>
            <p:nvPr/>
          </p:nvSpPr>
          <p:spPr>
            <a:xfrm>
              <a:off x="17998920" y="5814360"/>
              <a:ext cx="78480" cy="444960"/>
            </a:xfrm>
            <a:custGeom>
              <a:avLst/>
              <a:gdLst>
                <a:gd name="textAreaLeft" fmla="*/ 0 w 78480"/>
                <a:gd name="textAreaRight" fmla="*/ 78840 w 78480"/>
                <a:gd name="textAreaTop" fmla="*/ 0 h 444960"/>
                <a:gd name="textAreaBottom" fmla="*/ 445320 h 44496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3" name="Shape 1542"/>
            <p:cNvSpPr/>
            <p:nvPr/>
          </p:nvSpPr>
          <p:spPr>
            <a:xfrm>
              <a:off x="21054600" y="5228640"/>
              <a:ext cx="66600" cy="473040"/>
            </a:xfrm>
            <a:custGeom>
              <a:avLst/>
              <a:gdLst>
                <a:gd name="textAreaLeft" fmla="*/ 0 w 66600"/>
                <a:gd name="textAreaRight" fmla="*/ 66960 w 66600"/>
                <a:gd name="textAreaTop" fmla="*/ 0 h 473040"/>
                <a:gd name="textAreaBottom" fmla="*/ 473400 h 473040"/>
              </a:gdLst>
              <a:ahLst/>
              <a:rect l="textAreaLeft" t="textAreaTop" r="textAreaRight" b="textAreaBottom"/>
              <a:pathLst>
                <a:path w="21600" h="21600">
                  <a:moveTo>
                    <a:pt x="15386" y="21600"/>
                  </a:moveTo>
                  <a:lnTo>
                    <a:pt x="0" y="21600"/>
                  </a:lnTo>
                  <a:lnTo>
                    <a:pt x="0" y="0"/>
                  </a:lnTo>
                  <a:lnTo>
                    <a:pt x="15386" y="0"/>
                  </a:lnTo>
                  <a:cubicBezTo>
                    <a:pt x="19233" y="0"/>
                    <a:pt x="21600" y="331"/>
                    <a:pt x="21600" y="869"/>
                  </a:cubicBezTo>
                  <a:lnTo>
                    <a:pt x="21600" y="20731"/>
                  </a:lnTo>
                  <a:cubicBezTo>
                    <a:pt x="21600" y="2118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4" name="Shape 1543"/>
            <p:cNvSpPr/>
            <p:nvPr/>
          </p:nvSpPr>
          <p:spPr>
            <a:xfrm>
              <a:off x="18030600" y="3877920"/>
              <a:ext cx="3054600" cy="6349680"/>
            </a:xfrm>
            <a:custGeom>
              <a:avLst/>
              <a:gdLst>
                <a:gd name="textAreaLeft" fmla="*/ 0 w 3054600"/>
                <a:gd name="textAreaRight" fmla="*/ 3054960 w 3054600"/>
                <a:gd name="textAreaTop" fmla="*/ 0 h 6349680"/>
                <a:gd name="textAreaBottom" fmla="*/ 6350040 h 6349680"/>
              </a:gdLst>
              <a:ahLst/>
              <a:rect l="textAreaLeft" t="textAreaTop" r="textAreaRight" b="textAreaBottom"/>
              <a:pathLst>
                <a:path w="21600" h="21600">
                  <a:moveTo>
                    <a:pt x="17562" y="21600"/>
                  </a:moveTo>
                  <a:lnTo>
                    <a:pt x="4018" y="21600"/>
                  </a:lnTo>
                  <a:cubicBezTo>
                    <a:pt x="1795" y="21600"/>
                    <a:pt x="0" y="20736"/>
                    <a:pt x="0" y="19667"/>
                  </a:cubicBezTo>
                  <a:lnTo>
                    <a:pt x="0" y="1936"/>
                  </a:lnTo>
                  <a:cubicBezTo>
                    <a:pt x="0" y="864"/>
                    <a:pt x="1795" y="0"/>
                    <a:pt x="4018" y="0"/>
                  </a:cubicBezTo>
                  <a:lnTo>
                    <a:pt x="17575" y="0"/>
                  </a:lnTo>
                  <a:cubicBezTo>
                    <a:pt x="19798" y="0"/>
                    <a:pt x="21600" y="864"/>
                    <a:pt x="21600" y="1936"/>
                  </a:cubicBezTo>
                  <a:lnTo>
                    <a:pt x="21600" y="19673"/>
                  </a:lnTo>
                  <a:cubicBezTo>
                    <a:pt x="21581" y="20736"/>
                    <a:pt x="19786" y="21600"/>
                    <a:pt x="1756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5" name="Shape 1544"/>
            <p:cNvSpPr/>
            <p:nvPr/>
          </p:nvSpPr>
          <p:spPr>
            <a:xfrm>
              <a:off x="18058680" y="3909960"/>
              <a:ext cx="2994840" cy="6289920"/>
            </a:xfrm>
            <a:custGeom>
              <a:avLst/>
              <a:gdLst>
                <a:gd name="textAreaLeft" fmla="*/ 0 w 2994840"/>
                <a:gd name="textAreaRight" fmla="*/ 2995200 w 2994840"/>
                <a:gd name="textAreaTop" fmla="*/ 0 h 6289920"/>
                <a:gd name="textAreaBottom" fmla="*/ 6290280 h 6289920"/>
              </a:gdLst>
              <a:ahLst/>
              <a:rect l="textAreaLeft" t="textAreaTop" r="textAreaRight" b="textAreaBottom"/>
              <a:pathLst>
                <a:path w="21600" h="21600">
                  <a:moveTo>
                    <a:pt x="17637" y="21600"/>
                  </a:moveTo>
                  <a:lnTo>
                    <a:pt x="3969" y="21600"/>
                  </a:lnTo>
                  <a:cubicBezTo>
                    <a:pt x="1779" y="21600"/>
                    <a:pt x="0" y="20756"/>
                    <a:pt x="0" y="19713"/>
                  </a:cubicBezTo>
                  <a:lnTo>
                    <a:pt x="0" y="1887"/>
                  </a:lnTo>
                  <a:cubicBezTo>
                    <a:pt x="0" y="847"/>
                    <a:pt x="1779" y="0"/>
                    <a:pt x="3969" y="0"/>
                  </a:cubicBezTo>
                  <a:lnTo>
                    <a:pt x="17637" y="0"/>
                  </a:lnTo>
                  <a:cubicBezTo>
                    <a:pt x="19821" y="0"/>
                    <a:pt x="21600" y="847"/>
                    <a:pt x="21600" y="1887"/>
                  </a:cubicBezTo>
                  <a:lnTo>
                    <a:pt x="21600" y="19719"/>
                  </a:lnTo>
                  <a:cubicBezTo>
                    <a:pt x="21600" y="20762"/>
                    <a:pt x="19821" y="21600"/>
                    <a:pt x="1763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6" name="Shape 1545"/>
            <p:cNvSpPr/>
            <p:nvPr/>
          </p:nvSpPr>
          <p:spPr>
            <a:xfrm>
              <a:off x="18182160" y="4642920"/>
              <a:ext cx="2751840" cy="4839480"/>
            </a:xfrm>
            <a:custGeom>
              <a:avLst/>
              <a:gdLst>
                <a:gd name="textAreaLeft" fmla="*/ 0 w 2751840"/>
                <a:gd name="textAreaRight" fmla="*/ 2752200 w 2751840"/>
                <a:gd name="textAreaTop" fmla="*/ 0 h 4839480"/>
                <a:gd name="textAreaBottom" fmla="*/ 4839840 h 4839480"/>
              </a:gdLst>
              <a:ahLst/>
              <a:rect l="textAreaLeft" t="textAreaTop" r="textAreaRight" b="textAreaBottom"/>
              <a:pathLst>
                <a:path w="21600" h="21600">
                  <a:moveTo>
                    <a:pt x="21302" y="21600"/>
                  </a:moveTo>
                  <a:lnTo>
                    <a:pt x="298" y="21600"/>
                  </a:lnTo>
                  <a:cubicBezTo>
                    <a:pt x="135" y="21600"/>
                    <a:pt x="0" y="21523"/>
                    <a:pt x="0" y="21431"/>
                  </a:cubicBezTo>
                  <a:lnTo>
                    <a:pt x="0" y="169"/>
                  </a:lnTo>
                  <a:cubicBezTo>
                    <a:pt x="0" y="77"/>
                    <a:pt x="135" y="0"/>
                    <a:pt x="298" y="0"/>
                  </a:cubicBezTo>
                  <a:lnTo>
                    <a:pt x="21302" y="0"/>
                  </a:lnTo>
                  <a:cubicBezTo>
                    <a:pt x="21465" y="0"/>
                    <a:pt x="21600" y="77"/>
                    <a:pt x="21600" y="169"/>
                  </a:cubicBezTo>
                  <a:lnTo>
                    <a:pt x="21600" y="21431"/>
                  </a:lnTo>
                  <a:cubicBezTo>
                    <a:pt x="21600" y="21523"/>
                    <a:pt x="21465" y="21600"/>
                    <a:pt x="21302" y="21600"/>
                  </a:cubicBezTo>
                </a:path>
              </a:pathLst>
            </a:custGeom>
            <a:solidFill>
              <a:srgbClr val="f7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7" name="Shape 1546"/>
            <p:cNvSpPr/>
            <p:nvPr/>
          </p:nvSpPr>
          <p:spPr>
            <a:xfrm>
              <a:off x="18198000" y="4658760"/>
              <a:ext cx="2720160" cy="4807800"/>
            </a:xfrm>
            <a:custGeom>
              <a:avLst/>
              <a:gdLst>
                <a:gd name="textAreaLeft" fmla="*/ 0 w 2720160"/>
                <a:gd name="textAreaRight" fmla="*/ 2720520 w 2720160"/>
                <a:gd name="textAreaTop" fmla="*/ 0 h 4807800"/>
                <a:gd name="textAreaBottom" fmla="*/ 4808160 h 4807800"/>
              </a:gdLst>
              <a:ahLst/>
              <a:rect l="textAreaLeft" t="textAreaTop" r="textAreaRight" b="textAreaBottom"/>
              <a:pathLst>
                <a:path w="21600" h="21600">
                  <a:moveTo>
                    <a:pt x="21299" y="21600"/>
                  </a:moveTo>
                  <a:lnTo>
                    <a:pt x="301" y="21600"/>
                  </a:lnTo>
                  <a:cubicBezTo>
                    <a:pt x="136" y="21600"/>
                    <a:pt x="0" y="21523"/>
                    <a:pt x="0" y="21430"/>
                  </a:cubicBezTo>
                  <a:lnTo>
                    <a:pt x="0" y="170"/>
                  </a:lnTo>
                  <a:cubicBezTo>
                    <a:pt x="0" y="77"/>
                    <a:pt x="136" y="0"/>
                    <a:pt x="301" y="0"/>
                  </a:cubicBezTo>
                  <a:lnTo>
                    <a:pt x="21299" y="0"/>
                  </a:lnTo>
                  <a:cubicBezTo>
                    <a:pt x="21464" y="0"/>
                    <a:pt x="21600" y="77"/>
                    <a:pt x="21600" y="170"/>
                  </a:cubicBezTo>
                  <a:lnTo>
                    <a:pt x="21600" y="21430"/>
                  </a:lnTo>
                  <a:cubicBezTo>
                    <a:pt x="21600" y="21523"/>
                    <a:pt x="21464" y="21600"/>
                    <a:pt x="21299"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8" name="Shape 1547"/>
            <p:cNvSpPr/>
            <p:nvPr/>
          </p:nvSpPr>
          <p:spPr>
            <a:xfrm>
              <a:off x="19312560" y="9586440"/>
              <a:ext cx="495000" cy="495000"/>
            </a:xfrm>
            <a:custGeom>
              <a:avLst/>
              <a:gdLst>
                <a:gd name="textAreaLeft" fmla="*/ 0 w 495000"/>
                <a:gd name="textAreaRight" fmla="*/ 495360 w 495000"/>
                <a:gd name="textAreaTop" fmla="*/ 0 h 495000"/>
                <a:gd name="textAreaBottom" fmla="*/ 495360 h 495000"/>
              </a:gdLst>
              <a:ahLst/>
              <a:rect l="textAreaLeft" t="textAreaTop" r="textAreaRight" b="textAreaBottom"/>
              <a:pathLst>
                <a:path w="21346" h="21346">
                  <a:moveTo>
                    <a:pt x="18192" y="3154"/>
                  </a:moveTo>
                  <a:cubicBezTo>
                    <a:pt x="19598" y="4521"/>
                    <a:pt x="20457" y="6005"/>
                    <a:pt x="20965" y="7919"/>
                  </a:cubicBezTo>
                  <a:cubicBezTo>
                    <a:pt x="21473" y="9794"/>
                    <a:pt x="21473" y="11513"/>
                    <a:pt x="20965" y="13427"/>
                  </a:cubicBezTo>
                  <a:cubicBezTo>
                    <a:pt x="20457" y="15302"/>
                    <a:pt x="19559" y="16786"/>
                    <a:pt x="18192" y="18192"/>
                  </a:cubicBezTo>
                  <a:cubicBezTo>
                    <a:pt x="16786" y="19559"/>
                    <a:pt x="15302" y="20457"/>
                    <a:pt x="13427" y="20965"/>
                  </a:cubicBezTo>
                  <a:cubicBezTo>
                    <a:pt x="11513" y="21473"/>
                    <a:pt x="9794" y="21473"/>
                    <a:pt x="7919" y="20965"/>
                  </a:cubicBezTo>
                  <a:cubicBezTo>
                    <a:pt x="6005" y="20457"/>
                    <a:pt x="4482" y="19559"/>
                    <a:pt x="3115" y="18192"/>
                  </a:cubicBezTo>
                  <a:cubicBezTo>
                    <a:pt x="1709" y="16786"/>
                    <a:pt x="889" y="15302"/>
                    <a:pt x="381" y="13427"/>
                  </a:cubicBezTo>
                  <a:cubicBezTo>
                    <a:pt x="-127" y="11513"/>
                    <a:pt x="-127" y="9794"/>
                    <a:pt x="381" y="7919"/>
                  </a:cubicBezTo>
                  <a:cubicBezTo>
                    <a:pt x="889" y="6005"/>
                    <a:pt x="1709" y="4482"/>
                    <a:pt x="3115" y="3115"/>
                  </a:cubicBezTo>
                  <a:cubicBezTo>
                    <a:pt x="4482" y="1709"/>
                    <a:pt x="6005" y="889"/>
                    <a:pt x="7919" y="381"/>
                  </a:cubicBezTo>
                  <a:cubicBezTo>
                    <a:pt x="9794" y="-127"/>
                    <a:pt x="11513" y="-127"/>
                    <a:pt x="13427" y="381"/>
                  </a:cubicBezTo>
                  <a:cubicBezTo>
                    <a:pt x="15302" y="889"/>
                    <a:pt x="16825" y="1748"/>
                    <a:pt x="18192" y="3154"/>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69" name="Shape 1548"/>
            <p:cNvSpPr/>
            <p:nvPr/>
          </p:nvSpPr>
          <p:spPr>
            <a:xfrm>
              <a:off x="19309680" y="9587520"/>
              <a:ext cx="233640" cy="253800"/>
            </a:xfrm>
            <a:custGeom>
              <a:avLst/>
              <a:gdLst>
                <a:gd name="textAreaLeft" fmla="*/ 0 w 233640"/>
                <a:gd name="textAreaRight" fmla="*/ 234000 w 233640"/>
                <a:gd name="textAreaTop" fmla="*/ 0 h 253800"/>
                <a:gd name="textAreaBottom" fmla="*/ 254160 h 25380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366"/>
                    <a:pt x="6065" y="64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0" name="Shape 1549"/>
            <p:cNvSpPr/>
            <p:nvPr/>
          </p:nvSpPr>
          <p:spPr>
            <a:xfrm>
              <a:off x="19353600" y="9584280"/>
              <a:ext cx="341280" cy="244800"/>
            </a:xfrm>
            <a:custGeom>
              <a:avLst/>
              <a:gdLst>
                <a:gd name="textAreaLeft" fmla="*/ 0 w 341280"/>
                <a:gd name="textAreaRight" fmla="*/ 341640 w 341280"/>
                <a:gd name="textAreaTop" fmla="*/ 0 h 244800"/>
                <a:gd name="textAreaBottom" fmla="*/ 245160 h 244800"/>
              </a:gdLst>
              <a:ahLst/>
              <a:rect l="textAreaLeft" t="textAreaTop" r="textAreaRight" b="textAreaBottom"/>
              <a:pathLst>
                <a:path w="21600" h="20845">
                  <a:moveTo>
                    <a:pt x="10004" y="390"/>
                  </a:moveTo>
                  <a:cubicBezTo>
                    <a:pt x="5855" y="1382"/>
                    <a:pt x="2274" y="4740"/>
                    <a:pt x="0" y="9015"/>
                  </a:cubicBezTo>
                  <a:lnTo>
                    <a:pt x="12789" y="20845"/>
                  </a:lnTo>
                  <a:lnTo>
                    <a:pt x="21600" y="3748"/>
                  </a:lnTo>
                  <a:cubicBezTo>
                    <a:pt x="18360" y="695"/>
                    <a:pt x="14211" y="-755"/>
                    <a:pt x="10004" y="39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1" name="Shape 1550"/>
            <p:cNvSpPr/>
            <p:nvPr/>
          </p:nvSpPr>
          <p:spPr>
            <a:xfrm>
              <a:off x="19445040" y="9584640"/>
              <a:ext cx="329400" cy="244800"/>
            </a:xfrm>
            <a:custGeom>
              <a:avLst/>
              <a:gdLst>
                <a:gd name="textAreaLeft" fmla="*/ 0 w 329400"/>
                <a:gd name="textAreaRight" fmla="*/ 329760 w 329400"/>
                <a:gd name="textAreaTop" fmla="*/ 0 h 244800"/>
                <a:gd name="textAreaBottom" fmla="*/ 245160 h 244800"/>
              </a:gdLst>
              <a:ahLst/>
              <a:rect l="textAreaLeft" t="textAreaTop" r="textAreaRight" b="textAreaBottom"/>
              <a:pathLst>
                <a:path w="21600" h="20830">
                  <a:moveTo>
                    <a:pt x="12242" y="985"/>
                  </a:moveTo>
                  <a:cubicBezTo>
                    <a:pt x="8004" y="-770"/>
                    <a:pt x="3590" y="-83"/>
                    <a:pt x="0" y="2283"/>
                  </a:cubicBezTo>
                  <a:lnTo>
                    <a:pt x="7298" y="20830"/>
                  </a:lnTo>
                  <a:lnTo>
                    <a:pt x="21600" y="11442"/>
                  </a:lnTo>
                  <a:cubicBezTo>
                    <a:pt x="19775" y="6634"/>
                    <a:pt x="16421" y="2741"/>
                    <a:pt x="12242" y="985"/>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2" name="Shape 1551"/>
            <p:cNvSpPr/>
            <p:nvPr/>
          </p:nvSpPr>
          <p:spPr>
            <a:xfrm>
              <a:off x="19568520" y="9822600"/>
              <a:ext cx="233640" cy="253800"/>
            </a:xfrm>
            <a:custGeom>
              <a:avLst/>
              <a:gdLst>
                <a:gd name="textAreaLeft" fmla="*/ 0 w 233640"/>
                <a:gd name="textAreaRight" fmla="*/ 234000 w 233640"/>
                <a:gd name="textAreaTop" fmla="*/ 0 h 253800"/>
                <a:gd name="textAreaBottom" fmla="*/ 254160 h 253800"/>
              </a:gdLst>
              <a:ahLst/>
              <a:rect l="textAreaLeft" t="textAreaTop" r="textAreaRight" b="textAreaBottom"/>
              <a:pathLst>
                <a:path w="21600" h="21600">
                  <a:moveTo>
                    <a:pt x="15535" y="15189"/>
                  </a:moveTo>
                  <a:cubicBezTo>
                    <a:pt x="19855" y="11220"/>
                    <a:pt x="21600" y="6411"/>
                    <a:pt x="21600" y="0"/>
                  </a:cubicBezTo>
                  <a:lnTo>
                    <a:pt x="0" y="0"/>
                  </a:lnTo>
                  <a:lnTo>
                    <a:pt x="0" y="21600"/>
                  </a:lnTo>
                  <a:cubicBezTo>
                    <a:pt x="4735" y="21600"/>
                    <a:pt x="10966" y="19234"/>
                    <a:pt x="15535" y="15189"/>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3" name="Shape 1552"/>
            <p:cNvSpPr/>
            <p:nvPr/>
          </p:nvSpPr>
          <p:spPr>
            <a:xfrm>
              <a:off x="19417320" y="9830520"/>
              <a:ext cx="341280" cy="248760"/>
            </a:xfrm>
            <a:custGeom>
              <a:avLst/>
              <a:gdLst>
                <a:gd name="textAreaLeft" fmla="*/ 0 w 341280"/>
                <a:gd name="textAreaRight" fmla="*/ 341640 w 341280"/>
                <a:gd name="textAreaTop" fmla="*/ 0 h 248760"/>
                <a:gd name="textAreaBottom" fmla="*/ 249120 h 248760"/>
              </a:gdLst>
              <a:ahLst/>
              <a:rect l="textAreaLeft" t="textAreaTop" r="textAreaRight" b="textAreaBottom"/>
              <a:pathLst>
                <a:path w="21600" h="20848">
                  <a:moveTo>
                    <a:pt x="11596" y="20459"/>
                  </a:moveTo>
                  <a:cubicBezTo>
                    <a:pt x="15745" y="19470"/>
                    <a:pt x="19326" y="16124"/>
                    <a:pt x="21600" y="11865"/>
                  </a:cubicBezTo>
                  <a:lnTo>
                    <a:pt x="8867" y="0"/>
                  </a:lnTo>
                  <a:lnTo>
                    <a:pt x="0" y="17113"/>
                  </a:lnTo>
                  <a:cubicBezTo>
                    <a:pt x="3240" y="20155"/>
                    <a:pt x="7389" y="21600"/>
                    <a:pt x="11596" y="20459"/>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4" name="Shape 1553"/>
            <p:cNvSpPr/>
            <p:nvPr/>
          </p:nvSpPr>
          <p:spPr>
            <a:xfrm>
              <a:off x="19337400" y="9830520"/>
              <a:ext cx="329400" cy="248400"/>
            </a:xfrm>
            <a:custGeom>
              <a:avLst/>
              <a:gdLst>
                <a:gd name="textAreaLeft" fmla="*/ 0 w 329400"/>
                <a:gd name="textAreaRight" fmla="*/ 329760 w 329400"/>
                <a:gd name="textAreaTop" fmla="*/ 0 h 248400"/>
                <a:gd name="textAreaBottom" fmla="*/ 248760 h 248400"/>
              </a:gdLst>
              <a:ahLst/>
              <a:rect l="textAreaLeft" t="textAreaTop" r="textAreaRight" b="textAreaBottom"/>
              <a:pathLst>
                <a:path w="21600" h="20832">
                  <a:moveTo>
                    <a:pt x="9417" y="19851"/>
                  </a:moveTo>
                  <a:cubicBezTo>
                    <a:pt x="13596" y="21600"/>
                    <a:pt x="18069" y="20915"/>
                    <a:pt x="21600" y="18558"/>
                  </a:cubicBezTo>
                  <a:lnTo>
                    <a:pt x="14361" y="0"/>
                  </a:lnTo>
                  <a:lnTo>
                    <a:pt x="0" y="9431"/>
                  </a:lnTo>
                  <a:cubicBezTo>
                    <a:pt x="1883" y="14223"/>
                    <a:pt x="5179" y="18101"/>
                    <a:pt x="9417"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5" name="Shape 1554"/>
            <p:cNvSpPr/>
            <p:nvPr/>
          </p:nvSpPr>
          <p:spPr>
            <a:xfrm>
              <a:off x="19340640" y="9614520"/>
              <a:ext cx="435600" cy="435600"/>
            </a:xfrm>
            <a:custGeom>
              <a:avLst/>
              <a:gdLst>
                <a:gd name="textAreaLeft" fmla="*/ 0 w 435600"/>
                <a:gd name="textAreaRight" fmla="*/ 435960 w 435600"/>
                <a:gd name="textAreaTop" fmla="*/ 0 h 435600"/>
                <a:gd name="textAreaBottom" fmla="*/ 435960 h 435600"/>
              </a:gdLst>
              <a:ahLst/>
              <a:rect l="textAreaLeft" t="textAreaTop" r="textAreaRight" b="textAreaBottom"/>
              <a:pathLst>
                <a:path w="21330" h="21330">
                  <a:moveTo>
                    <a:pt x="18226" y="3157"/>
                  </a:moveTo>
                  <a:cubicBezTo>
                    <a:pt x="19596" y="4524"/>
                    <a:pt x="20435" y="6022"/>
                    <a:pt x="20965" y="7918"/>
                  </a:cubicBezTo>
                  <a:cubicBezTo>
                    <a:pt x="21451" y="9813"/>
                    <a:pt x="21451" y="11533"/>
                    <a:pt x="20965" y="13428"/>
                  </a:cubicBezTo>
                  <a:cubicBezTo>
                    <a:pt x="20435" y="15324"/>
                    <a:pt x="19596" y="16822"/>
                    <a:pt x="18226" y="18189"/>
                  </a:cubicBezTo>
                  <a:cubicBezTo>
                    <a:pt x="16857" y="19555"/>
                    <a:pt x="15355" y="20437"/>
                    <a:pt x="13456" y="20966"/>
                  </a:cubicBezTo>
                  <a:cubicBezTo>
                    <a:pt x="11557" y="21451"/>
                    <a:pt x="9834" y="21451"/>
                    <a:pt x="7934" y="20966"/>
                  </a:cubicBezTo>
                  <a:cubicBezTo>
                    <a:pt x="6035" y="20437"/>
                    <a:pt x="4533" y="19555"/>
                    <a:pt x="3164" y="18189"/>
                  </a:cubicBezTo>
                  <a:cubicBezTo>
                    <a:pt x="1750" y="16822"/>
                    <a:pt x="867" y="15324"/>
                    <a:pt x="381" y="13428"/>
                  </a:cubicBezTo>
                  <a:cubicBezTo>
                    <a:pt x="-149" y="11533"/>
                    <a:pt x="-105" y="9813"/>
                    <a:pt x="381" y="7918"/>
                  </a:cubicBezTo>
                  <a:cubicBezTo>
                    <a:pt x="911" y="6022"/>
                    <a:pt x="1750" y="4524"/>
                    <a:pt x="3164" y="3157"/>
                  </a:cubicBezTo>
                  <a:cubicBezTo>
                    <a:pt x="4533" y="1791"/>
                    <a:pt x="6035" y="865"/>
                    <a:pt x="7934" y="380"/>
                  </a:cubicBezTo>
                  <a:cubicBezTo>
                    <a:pt x="9834" y="-149"/>
                    <a:pt x="11557" y="-105"/>
                    <a:pt x="13456" y="380"/>
                  </a:cubicBezTo>
                  <a:cubicBezTo>
                    <a:pt x="15355" y="909"/>
                    <a:pt x="16857" y="1791"/>
                    <a:pt x="18226" y="3157"/>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6" name="Shape 1555"/>
            <p:cNvSpPr/>
            <p:nvPr/>
          </p:nvSpPr>
          <p:spPr>
            <a:xfrm>
              <a:off x="19325520" y="4272480"/>
              <a:ext cx="452880" cy="46440"/>
            </a:xfrm>
            <a:custGeom>
              <a:avLst/>
              <a:gdLst>
                <a:gd name="textAreaLeft" fmla="*/ 0 w 452880"/>
                <a:gd name="textAreaRight" fmla="*/ 453240 w 452880"/>
                <a:gd name="textAreaTop" fmla="*/ 0 h 46440"/>
                <a:gd name="textAreaBottom" fmla="*/ 46800 h 46440"/>
              </a:gdLst>
              <a:ahLst/>
              <a:rect l="textAreaLeft" t="textAreaTop" r="textAreaRight" b="textAreaBottom"/>
              <a:pathLst>
                <a:path w="21600" h="21600">
                  <a:moveTo>
                    <a:pt x="20522" y="21600"/>
                  </a:moveTo>
                  <a:lnTo>
                    <a:pt x="1078" y="21600"/>
                  </a:lnTo>
                  <a:cubicBezTo>
                    <a:pt x="431" y="21600"/>
                    <a:pt x="0" y="16848"/>
                    <a:pt x="0" y="10800"/>
                  </a:cubicBezTo>
                  <a:cubicBezTo>
                    <a:pt x="0" y="4320"/>
                    <a:pt x="431" y="0"/>
                    <a:pt x="1078" y="0"/>
                  </a:cubicBezTo>
                  <a:lnTo>
                    <a:pt x="20522" y="0"/>
                  </a:lnTo>
                  <a:cubicBezTo>
                    <a:pt x="21126" y="0"/>
                    <a:pt x="21600" y="4320"/>
                    <a:pt x="21600" y="10800"/>
                  </a:cubicBezTo>
                  <a:cubicBezTo>
                    <a:pt x="21600" y="15984"/>
                    <a:pt x="21126" y="21600"/>
                    <a:pt x="20522" y="21600"/>
                  </a:cubicBezTo>
                </a:path>
              </a:pathLst>
            </a:custGeom>
            <a:solidFill>
              <a:srgbClr val="545454"/>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7" name="Shape 1556"/>
            <p:cNvSpPr/>
            <p:nvPr/>
          </p:nvSpPr>
          <p:spPr>
            <a:xfrm>
              <a:off x="19504800" y="404136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1600" h="21600">
                  <a:moveTo>
                    <a:pt x="21600" y="10930"/>
                  </a:moveTo>
                  <a:cubicBezTo>
                    <a:pt x="21600" y="12752"/>
                    <a:pt x="21086" y="14573"/>
                    <a:pt x="20057" y="16395"/>
                  </a:cubicBezTo>
                  <a:cubicBezTo>
                    <a:pt x="19029" y="17957"/>
                    <a:pt x="18000" y="19258"/>
                    <a:pt x="16200" y="20299"/>
                  </a:cubicBezTo>
                  <a:cubicBezTo>
                    <a:pt x="14400" y="21340"/>
                    <a:pt x="12857" y="21600"/>
                    <a:pt x="10800" y="21600"/>
                  </a:cubicBezTo>
                  <a:cubicBezTo>
                    <a:pt x="8743" y="21600"/>
                    <a:pt x="7200" y="21340"/>
                    <a:pt x="5400" y="20299"/>
                  </a:cubicBezTo>
                  <a:cubicBezTo>
                    <a:pt x="3600" y="19258"/>
                    <a:pt x="2314" y="17957"/>
                    <a:pt x="1543" y="16395"/>
                  </a:cubicBezTo>
                  <a:cubicBezTo>
                    <a:pt x="514" y="14573"/>
                    <a:pt x="0" y="12752"/>
                    <a:pt x="0" y="10930"/>
                  </a:cubicBezTo>
                  <a:cubicBezTo>
                    <a:pt x="0" y="8848"/>
                    <a:pt x="514" y="7027"/>
                    <a:pt x="1543" y="5465"/>
                  </a:cubicBezTo>
                  <a:cubicBezTo>
                    <a:pt x="2314" y="3643"/>
                    <a:pt x="3600" y="2342"/>
                    <a:pt x="5400" y="1301"/>
                  </a:cubicBezTo>
                  <a:cubicBezTo>
                    <a:pt x="7200" y="260"/>
                    <a:pt x="8743" y="0"/>
                    <a:pt x="10800" y="0"/>
                  </a:cubicBezTo>
                  <a:cubicBezTo>
                    <a:pt x="12857" y="0"/>
                    <a:pt x="14400" y="260"/>
                    <a:pt x="16200" y="1301"/>
                  </a:cubicBezTo>
                  <a:cubicBezTo>
                    <a:pt x="18000" y="2342"/>
                    <a:pt x="19029" y="3643"/>
                    <a:pt x="20057" y="5465"/>
                  </a:cubicBezTo>
                  <a:cubicBezTo>
                    <a:pt x="21086" y="7027"/>
                    <a:pt x="21600" y="8848"/>
                    <a:pt x="21600" y="10930"/>
                  </a:cubicBezTo>
                </a:path>
              </a:pathLst>
            </a:custGeom>
            <a:solidFill>
              <a:srgbClr val="545454"/>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8" name="Shape 1557"/>
            <p:cNvSpPr/>
            <p:nvPr/>
          </p:nvSpPr>
          <p:spPr>
            <a:xfrm>
              <a:off x="19011600" y="4241160"/>
              <a:ext cx="105120" cy="105120"/>
            </a:xfrm>
            <a:custGeom>
              <a:avLst/>
              <a:gdLst>
                <a:gd name="textAreaLeft" fmla="*/ 0 w 105120"/>
                <a:gd name="textAreaRight" fmla="*/ 105480 w 105120"/>
                <a:gd name="textAreaTop" fmla="*/ 0 h 105120"/>
                <a:gd name="textAreaBottom" fmla="*/ 105480 h 105120"/>
              </a:gdLst>
              <a:ahLst/>
              <a:rect l="textAreaLeft" t="textAreaTop" r="textAreaRight" b="textAreaBottom"/>
              <a:pathLst>
                <a:path w="21328" h="21346">
                  <a:moveTo>
                    <a:pt x="11481" y="64"/>
                  </a:moveTo>
                  <a:cubicBezTo>
                    <a:pt x="13296" y="64"/>
                    <a:pt x="14930" y="608"/>
                    <a:pt x="16563" y="1879"/>
                  </a:cubicBezTo>
                  <a:cubicBezTo>
                    <a:pt x="18197" y="2968"/>
                    <a:pt x="19286" y="4057"/>
                    <a:pt x="20193" y="5872"/>
                  </a:cubicBezTo>
                  <a:cubicBezTo>
                    <a:pt x="21101" y="7506"/>
                    <a:pt x="21464" y="9321"/>
                    <a:pt x="21282" y="11317"/>
                  </a:cubicBezTo>
                  <a:cubicBezTo>
                    <a:pt x="21101" y="13132"/>
                    <a:pt x="20556" y="14948"/>
                    <a:pt x="19467" y="16581"/>
                  </a:cubicBezTo>
                  <a:cubicBezTo>
                    <a:pt x="18378" y="18215"/>
                    <a:pt x="17108" y="19304"/>
                    <a:pt x="15293" y="20211"/>
                  </a:cubicBezTo>
                  <a:cubicBezTo>
                    <a:pt x="13477" y="21119"/>
                    <a:pt x="11844" y="21482"/>
                    <a:pt x="9847" y="21300"/>
                  </a:cubicBezTo>
                  <a:cubicBezTo>
                    <a:pt x="7851" y="21119"/>
                    <a:pt x="6217" y="20574"/>
                    <a:pt x="4583" y="19485"/>
                  </a:cubicBezTo>
                  <a:cubicBezTo>
                    <a:pt x="2950" y="18396"/>
                    <a:pt x="1861" y="17126"/>
                    <a:pt x="1135" y="15311"/>
                  </a:cubicBezTo>
                  <a:cubicBezTo>
                    <a:pt x="227" y="13495"/>
                    <a:pt x="-136" y="11862"/>
                    <a:pt x="46" y="9865"/>
                  </a:cubicBezTo>
                  <a:cubicBezTo>
                    <a:pt x="227" y="7869"/>
                    <a:pt x="772" y="6235"/>
                    <a:pt x="1861" y="4601"/>
                  </a:cubicBezTo>
                  <a:cubicBezTo>
                    <a:pt x="2950" y="2968"/>
                    <a:pt x="4220" y="1697"/>
                    <a:pt x="6035" y="971"/>
                  </a:cubicBezTo>
                  <a:cubicBezTo>
                    <a:pt x="7669" y="64"/>
                    <a:pt x="9484" y="-118"/>
                    <a:pt x="11481" y="64"/>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79" name="Shape 1558"/>
            <p:cNvSpPr/>
            <p:nvPr/>
          </p:nvSpPr>
          <p:spPr>
            <a:xfrm>
              <a:off x="19023480" y="4257000"/>
              <a:ext cx="77400" cy="77400"/>
            </a:xfrm>
            <a:custGeom>
              <a:avLst/>
              <a:gdLst>
                <a:gd name="textAreaLeft" fmla="*/ 0 w 77400"/>
                <a:gd name="textAreaRight" fmla="*/ 77760 w 77400"/>
                <a:gd name="textAreaTop" fmla="*/ 0 h 77400"/>
                <a:gd name="textAreaBottom" fmla="*/ 77760 h 77400"/>
              </a:gdLst>
              <a:ahLst/>
              <a:rect l="textAreaLeft" t="textAreaTop" r="textAreaRight" b="textAreaBottom"/>
              <a:pathLst>
                <a:path w="21282" h="21282">
                  <a:moveTo>
                    <a:pt x="17121" y="2128"/>
                  </a:moveTo>
                  <a:cubicBezTo>
                    <a:pt x="18646" y="3399"/>
                    <a:pt x="19662" y="4669"/>
                    <a:pt x="20425" y="6448"/>
                  </a:cubicBezTo>
                  <a:cubicBezTo>
                    <a:pt x="21187" y="8227"/>
                    <a:pt x="21441" y="10006"/>
                    <a:pt x="21187" y="12039"/>
                  </a:cubicBezTo>
                  <a:cubicBezTo>
                    <a:pt x="20933" y="13817"/>
                    <a:pt x="20170" y="15342"/>
                    <a:pt x="19154" y="17121"/>
                  </a:cubicBezTo>
                  <a:cubicBezTo>
                    <a:pt x="17883" y="18646"/>
                    <a:pt x="16613" y="19662"/>
                    <a:pt x="14834" y="20425"/>
                  </a:cubicBezTo>
                  <a:cubicBezTo>
                    <a:pt x="13055" y="21187"/>
                    <a:pt x="11276" y="21441"/>
                    <a:pt x="9497" y="21187"/>
                  </a:cubicBezTo>
                  <a:cubicBezTo>
                    <a:pt x="7465" y="20933"/>
                    <a:pt x="5686" y="20170"/>
                    <a:pt x="4161" y="19154"/>
                  </a:cubicBezTo>
                  <a:cubicBezTo>
                    <a:pt x="2382" y="17883"/>
                    <a:pt x="1620" y="16613"/>
                    <a:pt x="857" y="14834"/>
                  </a:cubicBezTo>
                  <a:cubicBezTo>
                    <a:pt x="95" y="12801"/>
                    <a:pt x="-159" y="11276"/>
                    <a:pt x="95" y="9243"/>
                  </a:cubicBezTo>
                  <a:cubicBezTo>
                    <a:pt x="349" y="7210"/>
                    <a:pt x="857" y="5686"/>
                    <a:pt x="2128" y="4161"/>
                  </a:cubicBezTo>
                  <a:cubicBezTo>
                    <a:pt x="3145" y="2636"/>
                    <a:pt x="4669" y="1620"/>
                    <a:pt x="6702" y="857"/>
                  </a:cubicBezTo>
                  <a:cubicBezTo>
                    <a:pt x="8481" y="95"/>
                    <a:pt x="10006" y="-159"/>
                    <a:pt x="12039" y="95"/>
                  </a:cubicBezTo>
                  <a:cubicBezTo>
                    <a:pt x="14072" y="349"/>
                    <a:pt x="15596" y="857"/>
                    <a:pt x="17121" y="2128"/>
                  </a:cubicBezTo>
                </a:path>
              </a:pathLst>
            </a:custGeom>
            <a:solidFill>
              <a:srgbClr val="7f7f7f"/>
            </a:solidFill>
            <a:ln w="12700">
              <a:noFill/>
            </a:ln>
          </p:spPr>
          <p:style>
            <a:lnRef idx="0"/>
            <a:fillRef idx="0"/>
            <a:effectRef idx="0"/>
            <a:fontRef idx="minor"/>
          </p:style>
          <p:txBody>
            <a:bodyPr numCol="1" spcCol="0" lIns="45720" rIns="45720" tIns="38880" bIns="3888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80" name="Shape 1559"/>
            <p:cNvSpPr/>
            <p:nvPr/>
          </p:nvSpPr>
          <p:spPr>
            <a:xfrm>
              <a:off x="19042560" y="4272480"/>
              <a:ext cx="42480" cy="42480"/>
            </a:xfrm>
            <a:custGeom>
              <a:avLst/>
              <a:gdLst>
                <a:gd name="textAreaLeft" fmla="*/ 0 w 42480"/>
                <a:gd name="textAreaRight" fmla="*/ 42840 w 42480"/>
                <a:gd name="textAreaTop" fmla="*/ 0 h 42480"/>
                <a:gd name="textAreaBottom" fmla="*/ 42840 h 42480"/>
              </a:gdLst>
              <a:ahLst/>
              <a:rect l="textAreaLeft" t="textAreaTop" r="textAreaRight" b="textAreaBottom"/>
              <a:pathLst>
                <a:path w="21600" h="21600">
                  <a:moveTo>
                    <a:pt x="20191" y="4696"/>
                  </a:moveTo>
                  <a:cubicBezTo>
                    <a:pt x="21130" y="6574"/>
                    <a:pt x="21130" y="8452"/>
                    <a:pt x="21600" y="10330"/>
                  </a:cubicBezTo>
                  <a:cubicBezTo>
                    <a:pt x="21600" y="12209"/>
                    <a:pt x="21600" y="13617"/>
                    <a:pt x="20661" y="15496"/>
                  </a:cubicBezTo>
                  <a:cubicBezTo>
                    <a:pt x="19722" y="16904"/>
                    <a:pt x="18313" y="18313"/>
                    <a:pt x="16904" y="19722"/>
                  </a:cubicBezTo>
                  <a:cubicBezTo>
                    <a:pt x="15026" y="20661"/>
                    <a:pt x="13617" y="21600"/>
                    <a:pt x="11270" y="21600"/>
                  </a:cubicBezTo>
                  <a:cubicBezTo>
                    <a:pt x="9391" y="21600"/>
                    <a:pt x="7983" y="21130"/>
                    <a:pt x="6104" y="20191"/>
                  </a:cubicBezTo>
                  <a:cubicBezTo>
                    <a:pt x="4226" y="19252"/>
                    <a:pt x="2817" y="17843"/>
                    <a:pt x="1878" y="16435"/>
                  </a:cubicBezTo>
                  <a:cubicBezTo>
                    <a:pt x="939" y="14557"/>
                    <a:pt x="470" y="13148"/>
                    <a:pt x="0" y="11270"/>
                  </a:cubicBezTo>
                  <a:cubicBezTo>
                    <a:pt x="0" y="8922"/>
                    <a:pt x="470" y="7513"/>
                    <a:pt x="1409" y="5635"/>
                  </a:cubicBezTo>
                  <a:cubicBezTo>
                    <a:pt x="2348" y="3757"/>
                    <a:pt x="3287" y="2348"/>
                    <a:pt x="5165" y="1409"/>
                  </a:cubicBezTo>
                  <a:cubicBezTo>
                    <a:pt x="7043" y="0"/>
                    <a:pt x="8452" y="0"/>
                    <a:pt x="10330" y="0"/>
                  </a:cubicBezTo>
                  <a:cubicBezTo>
                    <a:pt x="12678" y="0"/>
                    <a:pt x="14087" y="0"/>
                    <a:pt x="15965" y="939"/>
                  </a:cubicBezTo>
                  <a:cubicBezTo>
                    <a:pt x="17843" y="1878"/>
                    <a:pt x="19252" y="3287"/>
                    <a:pt x="20191" y="4696"/>
                  </a:cubicBezTo>
                </a:path>
              </a:pathLst>
            </a:custGeom>
            <a:solidFill>
              <a:srgbClr val="545454"/>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581" name="Shape 1562"/>
          <p:cNvSpPr/>
          <p:nvPr/>
        </p:nvSpPr>
        <p:spPr>
          <a:xfrm>
            <a:off x="2035080" y="5969880"/>
            <a:ext cx="494676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582" name="Shape 1563"/>
          <p:cNvSpPr/>
          <p:nvPr/>
        </p:nvSpPr>
        <p:spPr>
          <a:xfrm>
            <a:off x="2035080" y="5208120"/>
            <a:ext cx="49467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583" name="Shape 1564"/>
          <p:cNvSpPr/>
          <p:nvPr/>
        </p:nvSpPr>
        <p:spPr>
          <a:xfrm>
            <a:off x="8264880" y="5208120"/>
            <a:ext cx="49467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584" name="Shape 1565"/>
          <p:cNvSpPr/>
          <p:nvPr/>
        </p:nvSpPr>
        <p:spPr>
          <a:xfrm>
            <a:off x="2035080" y="9754920"/>
            <a:ext cx="44910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585" name="Shape 1566"/>
          <p:cNvSpPr/>
          <p:nvPr/>
        </p:nvSpPr>
        <p:spPr>
          <a:xfrm>
            <a:off x="8264880" y="9813600"/>
            <a:ext cx="49467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PHOTOGRAPY</a:t>
            </a:r>
            <a:endParaRPr b="0" lang="en-US" sz="3000" spc="-1" strike="noStrike">
              <a:solidFill>
                <a:srgbClr val="000000"/>
              </a:solidFill>
              <a:latin typeface="Arial"/>
            </a:endParaRPr>
          </a:p>
        </p:txBody>
      </p:sp>
      <p:sp>
        <p:nvSpPr>
          <p:cNvPr id="4586" name="Shape 1567"/>
          <p:cNvSpPr/>
          <p:nvPr/>
        </p:nvSpPr>
        <p:spPr>
          <a:xfrm>
            <a:off x="8264880" y="5969880"/>
            <a:ext cx="494676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osan  granss rebum.</a:t>
            </a:r>
            <a:endParaRPr b="0" lang="en-US" sz="3000" spc="-1" strike="noStrike">
              <a:solidFill>
                <a:srgbClr val="000000"/>
              </a:solidFill>
              <a:latin typeface="Arial"/>
            </a:endParaRPr>
          </a:p>
        </p:txBody>
      </p:sp>
      <p:sp>
        <p:nvSpPr>
          <p:cNvPr id="4587" name="Shape 1568"/>
          <p:cNvSpPr/>
          <p:nvPr/>
        </p:nvSpPr>
        <p:spPr>
          <a:xfrm>
            <a:off x="2035080" y="10517040"/>
            <a:ext cx="4946760" cy="116532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roteto clita kuasdren, nosotra seao itrado. </a:t>
            </a:r>
            <a:endParaRPr b="0" lang="en-US" sz="3000" spc="-1" strike="noStrike">
              <a:solidFill>
                <a:srgbClr val="000000"/>
              </a:solidFill>
              <a:latin typeface="Arial"/>
            </a:endParaRPr>
          </a:p>
        </p:txBody>
      </p:sp>
      <p:sp>
        <p:nvSpPr>
          <p:cNvPr id="4588" name="Shape 1569"/>
          <p:cNvSpPr/>
          <p:nvPr/>
        </p:nvSpPr>
        <p:spPr>
          <a:xfrm>
            <a:off x="8264880" y="10575360"/>
            <a:ext cx="494676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Lores etoa jam rebum guberen, nosotra seao. </a:t>
            </a:r>
            <a:endParaRPr b="0" lang="en-US" sz="3000" spc="-1" strike="noStrike">
              <a:solidFill>
                <a:srgbClr val="000000"/>
              </a:solidFill>
              <a:latin typeface="Arial"/>
            </a:endParaRPr>
          </a:p>
        </p:txBody>
      </p:sp>
      <p:sp>
        <p:nvSpPr>
          <p:cNvPr id="4589" name="Shape 1570"/>
          <p:cNvSpPr/>
          <p:nvPr/>
        </p:nvSpPr>
        <p:spPr>
          <a:xfrm>
            <a:off x="2035080" y="3175920"/>
            <a:ext cx="1653120" cy="203148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1</a:t>
            </a:r>
            <a:endParaRPr b="0" lang="en-US" sz="12000" spc="-1" strike="noStrike">
              <a:solidFill>
                <a:srgbClr val="000000"/>
              </a:solidFill>
              <a:latin typeface="Arial"/>
            </a:endParaRPr>
          </a:p>
        </p:txBody>
      </p:sp>
      <p:sp>
        <p:nvSpPr>
          <p:cNvPr id="4590" name="Shape 1571"/>
          <p:cNvSpPr/>
          <p:nvPr/>
        </p:nvSpPr>
        <p:spPr>
          <a:xfrm>
            <a:off x="8264880" y="3175920"/>
            <a:ext cx="1653120" cy="203148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2</a:t>
            </a:r>
            <a:endParaRPr b="0" lang="en-US" sz="12000" spc="-1" strike="noStrike">
              <a:solidFill>
                <a:srgbClr val="000000"/>
              </a:solidFill>
              <a:latin typeface="Arial"/>
            </a:endParaRPr>
          </a:p>
        </p:txBody>
      </p:sp>
      <p:sp>
        <p:nvSpPr>
          <p:cNvPr id="4591" name="Shape 1572"/>
          <p:cNvSpPr/>
          <p:nvPr/>
        </p:nvSpPr>
        <p:spPr>
          <a:xfrm>
            <a:off x="2035080" y="7723080"/>
            <a:ext cx="1653120" cy="203148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a:t>
            </a:r>
            <a:endParaRPr b="0" lang="en-US" sz="12000" spc="-1" strike="noStrike">
              <a:solidFill>
                <a:srgbClr val="000000"/>
              </a:solidFill>
              <a:latin typeface="Arial"/>
            </a:endParaRPr>
          </a:p>
        </p:txBody>
      </p:sp>
      <p:sp>
        <p:nvSpPr>
          <p:cNvPr id="4592" name="Shape 1573"/>
          <p:cNvSpPr/>
          <p:nvPr/>
        </p:nvSpPr>
        <p:spPr>
          <a:xfrm>
            <a:off x="8264880" y="7781400"/>
            <a:ext cx="1653120" cy="203148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4</a:t>
            </a:r>
            <a:endParaRPr b="0" lang="en-US" sz="12000" spc="-1" strike="noStrike">
              <a:solidFill>
                <a:srgbClr val="000000"/>
              </a:solidFill>
              <a:latin typeface="Arial"/>
            </a:endParaRPr>
          </a:p>
        </p:txBody>
      </p:sp>
      <p:sp>
        <p:nvSpPr>
          <p:cNvPr id="4593" name="Shape 1574"/>
          <p:cNvSpPr/>
          <p:nvPr/>
        </p:nvSpPr>
        <p:spPr>
          <a:xfrm>
            <a:off x="2035080" y="1841400"/>
            <a:ext cx="9145080" cy="20361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mago ona.</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594" name="Group 3433"/>
          <p:cNvGrpSpPr/>
          <p:nvPr/>
        </p:nvGrpSpPr>
        <p:grpSpPr>
          <a:xfrm>
            <a:off x="2020680" y="2013120"/>
            <a:ext cx="6860160" cy="9676080"/>
            <a:chOff x="2020680" y="2013120"/>
            <a:chExt cx="6860160" cy="9676080"/>
          </a:xfrm>
        </p:grpSpPr>
        <p:sp>
          <p:nvSpPr>
            <p:cNvPr id="4595" name="Shape 3418"/>
            <p:cNvSpPr/>
            <p:nvPr/>
          </p:nvSpPr>
          <p:spPr>
            <a:xfrm>
              <a:off x="2020680" y="2013120"/>
              <a:ext cx="6860160" cy="9676080"/>
            </a:xfrm>
            <a:custGeom>
              <a:avLst/>
              <a:gdLst>
                <a:gd name="textAreaLeft" fmla="*/ 0 w 6860160"/>
                <a:gd name="textAreaRight" fmla="*/ 6860520 w 6860160"/>
                <a:gd name="textAreaTop" fmla="*/ 0 h 9676080"/>
                <a:gd name="textAreaBottom" fmla="*/ 9676440 h 9676080"/>
              </a:gdLst>
              <a:ahLst/>
              <a:rect l="textAreaLeft" t="textAreaTop" r="textAreaRight" b="textAreaBottom"/>
              <a:pathLst>
                <a:path w="21600" h="21600">
                  <a:moveTo>
                    <a:pt x="20422" y="21600"/>
                  </a:moveTo>
                  <a:lnTo>
                    <a:pt x="1178" y="21600"/>
                  </a:lnTo>
                  <a:cubicBezTo>
                    <a:pt x="525" y="21600"/>
                    <a:pt x="0" y="21228"/>
                    <a:pt x="0" y="20767"/>
                  </a:cubicBezTo>
                  <a:lnTo>
                    <a:pt x="0" y="835"/>
                  </a:lnTo>
                  <a:cubicBezTo>
                    <a:pt x="0" y="372"/>
                    <a:pt x="525" y="0"/>
                    <a:pt x="1178" y="0"/>
                  </a:cubicBezTo>
                  <a:lnTo>
                    <a:pt x="20422" y="0"/>
                  </a:lnTo>
                  <a:cubicBezTo>
                    <a:pt x="21075" y="0"/>
                    <a:pt x="21600" y="372"/>
                    <a:pt x="21600" y="835"/>
                  </a:cubicBezTo>
                  <a:lnTo>
                    <a:pt x="21600" y="20767"/>
                  </a:lnTo>
                  <a:cubicBezTo>
                    <a:pt x="21600" y="21228"/>
                    <a:pt x="21075" y="21600"/>
                    <a:pt x="20422"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96" name="Shape 3419"/>
            <p:cNvSpPr/>
            <p:nvPr/>
          </p:nvSpPr>
          <p:spPr>
            <a:xfrm>
              <a:off x="2062080" y="2054880"/>
              <a:ext cx="6772320" cy="9588240"/>
            </a:xfrm>
            <a:custGeom>
              <a:avLst/>
              <a:gdLst>
                <a:gd name="textAreaLeft" fmla="*/ 0 w 6772320"/>
                <a:gd name="textAreaRight" fmla="*/ 6772680 w 6772320"/>
                <a:gd name="textAreaTop" fmla="*/ 0 h 9588240"/>
                <a:gd name="textAreaBottom" fmla="*/ 9588600 h 9588240"/>
              </a:gdLst>
              <a:ahLst/>
              <a:rect l="textAreaLeft" t="textAreaTop" r="textAreaRight" b="textAreaBottom"/>
              <a:pathLst>
                <a:path w="21600" h="21600">
                  <a:moveTo>
                    <a:pt x="20547" y="21600"/>
                  </a:moveTo>
                  <a:lnTo>
                    <a:pt x="1053" y="21600"/>
                  </a:lnTo>
                  <a:cubicBezTo>
                    <a:pt x="468" y="21600"/>
                    <a:pt x="0" y="21269"/>
                    <a:pt x="0" y="20858"/>
                  </a:cubicBezTo>
                  <a:lnTo>
                    <a:pt x="0" y="744"/>
                  </a:lnTo>
                  <a:cubicBezTo>
                    <a:pt x="0" y="331"/>
                    <a:pt x="468" y="0"/>
                    <a:pt x="1053" y="0"/>
                  </a:cubicBezTo>
                  <a:lnTo>
                    <a:pt x="20547" y="0"/>
                  </a:lnTo>
                  <a:cubicBezTo>
                    <a:pt x="21132" y="0"/>
                    <a:pt x="21600" y="331"/>
                    <a:pt x="21600" y="744"/>
                  </a:cubicBezTo>
                  <a:lnTo>
                    <a:pt x="21600" y="20858"/>
                  </a:lnTo>
                  <a:cubicBezTo>
                    <a:pt x="21600" y="21269"/>
                    <a:pt x="21132" y="21600"/>
                    <a:pt x="20547"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97" name="Shape 3420"/>
            <p:cNvSpPr/>
            <p:nvPr/>
          </p:nvSpPr>
          <p:spPr>
            <a:xfrm>
              <a:off x="2413440" y="2827080"/>
              <a:ext cx="6069600" cy="8048520"/>
            </a:xfrm>
            <a:custGeom>
              <a:avLst/>
              <a:gdLst>
                <a:gd name="textAreaLeft" fmla="*/ 0 w 6069600"/>
                <a:gd name="textAreaRight" fmla="*/ 6069960 w 6069600"/>
                <a:gd name="textAreaTop" fmla="*/ 0 h 8048520"/>
                <a:gd name="textAreaBottom" fmla="*/ 8048880 h 804852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424242"/>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98" name="Shape 3421"/>
            <p:cNvSpPr/>
            <p:nvPr/>
          </p:nvSpPr>
          <p:spPr>
            <a:xfrm>
              <a:off x="2436840" y="2845440"/>
              <a:ext cx="6027840" cy="8006760"/>
            </a:xfrm>
            <a:custGeom>
              <a:avLst/>
              <a:gdLst>
                <a:gd name="textAreaLeft" fmla="*/ 0 w 6027840"/>
                <a:gd name="textAreaRight" fmla="*/ 6028200 w 6027840"/>
                <a:gd name="textAreaTop" fmla="*/ 0 h 8006760"/>
                <a:gd name="textAreaBottom" fmla="*/ 8007120 h 800676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599" name="Shape 3422"/>
            <p:cNvSpPr/>
            <p:nvPr/>
          </p:nvSpPr>
          <p:spPr>
            <a:xfrm>
              <a:off x="5396760" y="2392920"/>
              <a:ext cx="108720" cy="108000"/>
            </a:xfrm>
            <a:custGeom>
              <a:avLst/>
              <a:gdLst>
                <a:gd name="textAreaLeft" fmla="*/ 0 w 108720"/>
                <a:gd name="textAreaRight" fmla="*/ 109080 w 108720"/>
                <a:gd name="textAreaTop" fmla="*/ 0 h 108000"/>
                <a:gd name="textAreaBottom" fmla="*/ 108360 h 108000"/>
              </a:gdLst>
              <a:ahLst/>
              <a:rect l="textAreaLeft" t="textAreaTop" r="textAreaRight" b="textAreaBottom"/>
              <a:pathLst>
                <a:path w="21448" h="21296">
                  <a:moveTo>
                    <a:pt x="11463" y="52"/>
                  </a:moveTo>
                  <a:cubicBezTo>
                    <a:pt x="13501" y="52"/>
                    <a:pt x="15131" y="663"/>
                    <a:pt x="16761" y="1682"/>
                  </a:cubicBezTo>
                  <a:cubicBezTo>
                    <a:pt x="18391" y="2905"/>
                    <a:pt x="19206" y="4127"/>
                    <a:pt x="20225" y="5961"/>
                  </a:cubicBezTo>
                  <a:cubicBezTo>
                    <a:pt x="21040" y="7795"/>
                    <a:pt x="21448" y="9629"/>
                    <a:pt x="21448" y="11463"/>
                  </a:cubicBezTo>
                  <a:cubicBezTo>
                    <a:pt x="21244" y="13501"/>
                    <a:pt x="20633" y="14927"/>
                    <a:pt x="19614" y="16557"/>
                  </a:cubicBezTo>
                  <a:cubicBezTo>
                    <a:pt x="18391" y="18188"/>
                    <a:pt x="17169" y="19410"/>
                    <a:pt x="15335" y="20225"/>
                  </a:cubicBezTo>
                  <a:cubicBezTo>
                    <a:pt x="13501" y="21040"/>
                    <a:pt x="11667" y="21448"/>
                    <a:pt x="9833" y="21244"/>
                  </a:cubicBezTo>
                  <a:cubicBezTo>
                    <a:pt x="7795" y="21244"/>
                    <a:pt x="6369" y="20633"/>
                    <a:pt x="4739" y="19410"/>
                  </a:cubicBezTo>
                  <a:cubicBezTo>
                    <a:pt x="3108" y="18391"/>
                    <a:pt x="1886" y="17169"/>
                    <a:pt x="1071" y="15335"/>
                  </a:cubicBezTo>
                  <a:cubicBezTo>
                    <a:pt x="256" y="13501"/>
                    <a:pt x="-152" y="11871"/>
                    <a:pt x="52" y="9833"/>
                  </a:cubicBezTo>
                  <a:cubicBezTo>
                    <a:pt x="256" y="7999"/>
                    <a:pt x="663" y="6369"/>
                    <a:pt x="1886" y="4739"/>
                  </a:cubicBezTo>
                  <a:cubicBezTo>
                    <a:pt x="2905" y="3108"/>
                    <a:pt x="4127" y="1886"/>
                    <a:pt x="5961" y="1071"/>
                  </a:cubicBezTo>
                  <a:cubicBezTo>
                    <a:pt x="7591" y="256"/>
                    <a:pt x="9425" y="-152"/>
                    <a:pt x="11463" y="52"/>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0" name="Shape 3423"/>
            <p:cNvSpPr/>
            <p:nvPr/>
          </p:nvSpPr>
          <p:spPr>
            <a:xfrm>
              <a:off x="5409720" y="2411280"/>
              <a:ext cx="77040" cy="80640"/>
            </a:xfrm>
            <a:custGeom>
              <a:avLst/>
              <a:gdLst>
                <a:gd name="textAreaLeft" fmla="*/ 0 w 77040"/>
                <a:gd name="textAreaRight" fmla="*/ 77400 w 77040"/>
                <a:gd name="textAreaTop" fmla="*/ 0 h 80640"/>
                <a:gd name="textAreaBottom" fmla="*/ 81000 h 80640"/>
              </a:gdLst>
              <a:ahLst/>
              <a:rect l="textAreaLeft" t="textAreaTop" r="textAreaRight" b="textAreaBottom"/>
              <a:pathLst>
                <a:path w="21600" h="21254">
                  <a:moveTo>
                    <a:pt x="17568" y="2074"/>
                  </a:moveTo>
                  <a:cubicBezTo>
                    <a:pt x="19008" y="3196"/>
                    <a:pt x="20160" y="4879"/>
                    <a:pt x="21024" y="6562"/>
                  </a:cubicBezTo>
                  <a:cubicBezTo>
                    <a:pt x="21600" y="8526"/>
                    <a:pt x="21600" y="9929"/>
                    <a:pt x="21600" y="11892"/>
                  </a:cubicBezTo>
                  <a:cubicBezTo>
                    <a:pt x="21312" y="13856"/>
                    <a:pt x="20736" y="15539"/>
                    <a:pt x="19584" y="16942"/>
                  </a:cubicBezTo>
                  <a:cubicBezTo>
                    <a:pt x="18432" y="18625"/>
                    <a:pt x="16992" y="19466"/>
                    <a:pt x="15264" y="20308"/>
                  </a:cubicBezTo>
                  <a:cubicBezTo>
                    <a:pt x="13248" y="21149"/>
                    <a:pt x="11520" y="21430"/>
                    <a:pt x="9504" y="21149"/>
                  </a:cubicBezTo>
                  <a:cubicBezTo>
                    <a:pt x="7488" y="20869"/>
                    <a:pt x="5760" y="20308"/>
                    <a:pt x="4320" y="18905"/>
                  </a:cubicBezTo>
                  <a:cubicBezTo>
                    <a:pt x="2592" y="17783"/>
                    <a:pt x="1728" y="16381"/>
                    <a:pt x="864" y="14698"/>
                  </a:cubicBezTo>
                  <a:cubicBezTo>
                    <a:pt x="0" y="13014"/>
                    <a:pt x="0" y="11051"/>
                    <a:pt x="0" y="9368"/>
                  </a:cubicBezTo>
                  <a:cubicBezTo>
                    <a:pt x="288" y="7404"/>
                    <a:pt x="1152" y="5721"/>
                    <a:pt x="2304" y="4038"/>
                  </a:cubicBezTo>
                  <a:cubicBezTo>
                    <a:pt x="3456" y="2635"/>
                    <a:pt x="4608" y="1513"/>
                    <a:pt x="6624" y="672"/>
                  </a:cubicBezTo>
                  <a:cubicBezTo>
                    <a:pt x="8352" y="111"/>
                    <a:pt x="10368" y="-170"/>
                    <a:pt x="12384" y="111"/>
                  </a:cubicBezTo>
                  <a:cubicBezTo>
                    <a:pt x="14400" y="391"/>
                    <a:pt x="15840" y="952"/>
                    <a:pt x="17568" y="2074"/>
                  </a:cubicBezTo>
                </a:path>
              </a:pathLst>
            </a:custGeom>
            <a:solidFill>
              <a:srgbClr val="7f7f7f"/>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1" name="Shape 3424"/>
            <p:cNvSpPr/>
            <p:nvPr/>
          </p:nvSpPr>
          <p:spPr>
            <a:xfrm>
              <a:off x="5428080" y="242928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1600" h="21600">
                  <a:moveTo>
                    <a:pt x="19543" y="5143"/>
                  </a:moveTo>
                  <a:cubicBezTo>
                    <a:pt x="20571" y="6686"/>
                    <a:pt x="21086" y="8229"/>
                    <a:pt x="21600" y="10286"/>
                  </a:cubicBezTo>
                  <a:cubicBezTo>
                    <a:pt x="21600" y="12857"/>
                    <a:pt x="21086" y="14400"/>
                    <a:pt x="20057" y="15943"/>
                  </a:cubicBezTo>
                  <a:cubicBezTo>
                    <a:pt x="19029" y="18000"/>
                    <a:pt x="18000" y="19029"/>
                    <a:pt x="16457" y="20057"/>
                  </a:cubicBezTo>
                  <a:cubicBezTo>
                    <a:pt x="14914" y="21086"/>
                    <a:pt x="12857" y="21600"/>
                    <a:pt x="11314" y="21600"/>
                  </a:cubicBezTo>
                  <a:cubicBezTo>
                    <a:pt x="9257" y="21600"/>
                    <a:pt x="7200" y="21086"/>
                    <a:pt x="5657" y="20057"/>
                  </a:cubicBezTo>
                  <a:cubicBezTo>
                    <a:pt x="4114" y="19543"/>
                    <a:pt x="2571" y="18000"/>
                    <a:pt x="1543" y="16457"/>
                  </a:cubicBezTo>
                  <a:cubicBezTo>
                    <a:pt x="514" y="14914"/>
                    <a:pt x="0" y="13371"/>
                    <a:pt x="0" y="11314"/>
                  </a:cubicBezTo>
                  <a:cubicBezTo>
                    <a:pt x="0" y="9257"/>
                    <a:pt x="0" y="7714"/>
                    <a:pt x="1029" y="5657"/>
                  </a:cubicBezTo>
                  <a:cubicBezTo>
                    <a:pt x="2057" y="4114"/>
                    <a:pt x="2571" y="2571"/>
                    <a:pt x="4629" y="1543"/>
                  </a:cubicBezTo>
                  <a:cubicBezTo>
                    <a:pt x="6171" y="514"/>
                    <a:pt x="8229" y="0"/>
                    <a:pt x="10286" y="0"/>
                  </a:cubicBezTo>
                  <a:cubicBezTo>
                    <a:pt x="12343" y="0"/>
                    <a:pt x="13886" y="514"/>
                    <a:pt x="15429" y="1029"/>
                  </a:cubicBezTo>
                  <a:cubicBezTo>
                    <a:pt x="17486" y="2057"/>
                    <a:pt x="18514" y="3086"/>
                    <a:pt x="19543" y="5143"/>
                  </a:cubicBezTo>
                </a:path>
              </a:pathLst>
            </a:custGeom>
            <a:solidFill>
              <a:srgbClr val="545454"/>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2" name="Shape 3425"/>
            <p:cNvSpPr/>
            <p:nvPr/>
          </p:nvSpPr>
          <p:spPr>
            <a:xfrm>
              <a:off x="5236920" y="11088000"/>
              <a:ext cx="423360" cy="423000"/>
            </a:xfrm>
            <a:custGeom>
              <a:avLst/>
              <a:gdLst>
                <a:gd name="textAreaLeft" fmla="*/ 0 w 423360"/>
                <a:gd name="textAreaRight" fmla="*/ 423720 w 423360"/>
                <a:gd name="textAreaTop" fmla="*/ 0 h 423000"/>
                <a:gd name="textAreaBottom" fmla="*/ 423360 h 423000"/>
              </a:gdLst>
              <a:ahLst/>
              <a:rect l="textAreaLeft" t="textAreaTop" r="textAreaRight" b="textAreaBottom"/>
              <a:pathLst>
                <a:path w="21329" h="21316">
                  <a:moveTo>
                    <a:pt x="18219" y="3122"/>
                  </a:moveTo>
                  <a:cubicBezTo>
                    <a:pt x="19595" y="4495"/>
                    <a:pt x="20442" y="5974"/>
                    <a:pt x="20972" y="7875"/>
                  </a:cubicBezTo>
                  <a:cubicBezTo>
                    <a:pt x="21448" y="9777"/>
                    <a:pt x="21448" y="11467"/>
                    <a:pt x="20972" y="13368"/>
                  </a:cubicBezTo>
                  <a:cubicBezTo>
                    <a:pt x="20442" y="15269"/>
                    <a:pt x="19595" y="16801"/>
                    <a:pt x="18219" y="18174"/>
                  </a:cubicBezTo>
                  <a:cubicBezTo>
                    <a:pt x="16842" y="19600"/>
                    <a:pt x="15360" y="20445"/>
                    <a:pt x="13454" y="20920"/>
                  </a:cubicBezTo>
                  <a:cubicBezTo>
                    <a:pt x="11548" y="21448"/>
                    <a:pt x="9801" y="21448"/>
                    <a:pt x="7948" y="20920"/>
                  </a:cubicBezTo>
                  <a:cubicBezTo>
                    <a:pt x="6042" y="20445"/>
                    <a:pt x="4507" y="19547"/>
                    <a:pt x="3130" y="18121"/>
                  </a:cubicBezTo>
                  <a:cubicBezTo>
                    <a:pt x="1701" y="16748"/>
                    <a:pt x="854" y="15269"/>
                    <a:pt x="377" y="13368"/>
                  </a:cubicBezTo>
                  <a:cubicBezTo>
                    <a:pt x="-152" y="11467"/>
                    <a:pt x="-99" y="9777"/>
                    <a:pt x="377" y="7875"/>
                  </a:cubicBezTo>
                  <a:cubicBezTo>
                    <a:pt x="907" y="5974"/>
                    <a:pt x="1701" y="4548"/>
                    <a:pt x="3130" y="3122"/>
                  </a:cubicBezTo>
                  <a:cubicBezTo>
                    <a:pt x="4507" y="1749"/>
                    <a:pt x="6042" y="904"/>
                    <a:pt x="7948" y="376"/>
                  </a:cubicBezTo>
                  <a:cubicBezTo>
                    <a:pt x="9801" y="-99"/>
                    <a:pt x="11548" y="-152"/>
                    <a:pt x="13454" y="376"/>
                  </a:cubicBezTo>
                  <a:cubicBezTo>
                    <a:pt x="15360" y="851"/>
                    <a:pt x="16842" y="1696"/>
                    <a:pt x="18219" y="3122"/>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3" name="Shape 3426"/>
            <p:cNvSpPr/>
            <p:nvPr/>
          </p:nvSpPr>
          <p:spPr>
            <a:xfrm>
              <a:off x="5234040" y="11089440"/>
              <a:ext cx="201960" cy="220680"/>
            </a:xfrm>
            <a:custGeom>
              <a:avLst/>
              <a:gdLst>
                <a:gd name="textAreaLeft" fmla="*/ 0 w 201960"/>
                <a:gd name="textAreaRight" fmla="*/ 202320 w 201960"/>
                <a:gd name="textAreaTop" fmla="*/ 0 h 220680"/>
                <a:gd name="textAreaBottom" fmla="*/ 221040 h 220680"/>
              </a:gdLst>
              <a:ahLst/>
              <a:rect l="textAreaLeft" t="textAreaTop" r="textAreaRight" b="textAreaBottom"/>
              <a:pathLst>
                <a:path w="21600" h="21600">
                  <a:moveTo>
                    <a:pt x="6107" y="6408"/>
                  </a:moveTo>
                  <a:cubicBezTo>
                    <a:pt x="1696" y="10542"/>
                    <a:pt x="0" y="15089"/>
                    <a:pt x="0" y="21600"/>
                  </a:cubicBezTo>
                  <a:lnTo>
                    <a:pt x="21600" y="21600"/>
                  </a:lnTo>
                  <a:lnTo>
                    <a:pt x="21600" y="0"/>
                  </a:lnTo>
                  <a:cubicBezTo>
                    <a:pt x="16850" y="0"/>
                    <a:pt x="10404" y="2377"/>
                    <a:pt x="6107" y="6408"/>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4" name="Shape 3427"/>
            <p:cNvSpPr/>
            <p:nvPr/>
          </p:nvSpPr>
          <p:spPr>
            <a:xfrm>
              <a:off x="5271120" y="11087640"/>
              <a:ext cx="294480" cy="213120"/>
            </a:xfrm>
            <a:custGeom>
              <a:avLst/>
              <a:gdLst>
                <a:gd name="textAreaLeft" fmla="*/ 0 w 294480"/>
                <a:gd name="textAreaRight" fmla="*/ 294840 w 294480"/>
                <a:gd name="textAreaTop" fmla="*/ 0 h 213120"/>
                <a:gd name="textAreaBottom" fmla="*/ 213480 h 213120"/>
              </a:gdLst>
              <a:ahLst/>
              <a:rect l="textAreaLeft" t="textAreaTop" r="textAreaRight" b="textAreaBottom"/>
              <a:pathLst>
                <a:path w="21600" h="20865">
                  <a:moveTo>
                    <a:pt x="10034" y="396"/>
                  </a:moveTo>
                  <a:cubicBezTo>
                    <a:pt x="5821" y="1425"/>
                    <a:pt x="2298" y="4716"/>
                    <a:pt x="0" y="9036"/>
                  </a:cubicBezTo>
                  <a:lnTo>
                    <a:pt x="12715" y="20865"/>
                  </a:lnTo>
                  <a:lnTo>
                    <a:pt x="21600" y="3791"/>
                  </a:lnTo>
                  <a:cubicBezTo>
                    <a:pt x="18383" y="602"/>
                    <a:pt x="14170" y="-735"/>
                    <a:pt x="10034" y="396"/>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5" name="Shape 3428"/>
            <p:cNvSpPr/>
            <p:nvPr/>
          </p:nvSpPr>
          <p:spPr>
            <a:xfrm>
              <a:off x="5349600" y="11088360"/>
              <a:ext cx="285120" cy="212400"/>
            </a:xfrm>
            <a:custGeom>
              <a:avLst/>
              <a:gdLst>
                <a:gd name="textAreaLeft" fmla="*/ 0 w 285120"/>
                <a:gd name="textAreaRight" fmla="*/ 285480 w 285120"/>
                <a:gd name="textAreaTop" fmla="*/ 0 h 212400"/>
                <a:gd name="textAreaBottom" fmla="*/ 212760 h 212400"/>
              </a:gdLst>
              <a:ahLst/>
              <a:rect l="textAreaLeft" t="textAreaTop" r="textAreaRight" b="textAreaBottom"/>
              <a:pathLst>
                <a:path w="21600" h="20821">
                  <a:moveTo>
                    <a:pt x="12105" y="970"/>
                  </a:moveTo>
                  <a:cubicBezTo>
                    <a:pt x="7991" y="-779"/>
                    <a:pt x="3640" y="-59"/>
                    <a:pt x="0" y="2307"/>
                  </a:cubicBezTo>
                  <a:lnTo>
                    <a:pt x="7279" y="20821"/>
                  </a:lnTo>
                  <a:lnTo>
                    <a:pt x="21600" y="11358"/>
                  </a:lnTo>
                  <a:cubicBezTo>
                    <a:pt x="19622" y="6318"/>
                    <a:pt x="16299" y="2718"/>
                    <a:pt x="12105" y="970"/>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6" name="Shape 3429"/>
            <p:cNvSpPr/>
            <p:nvPr/>
          </p:nvSpPr>
          <p:spPr>
            <a:xfrm>
              <a:off x="5455800" y="11292840"/>
              <a:ext cx="201960" cy="220680"/>
            </a:xfrm>
            <a:custGeom>
              <a:avLst/>
              <a:gdLst>
                <a:gd name="textAreaLeft" fmla="*/ 0 w 201960"/>
                <a:gd name="textAreaRight" fmla="*/ 202320 w 201960"/>
                <a:gd name="textAreaTop" fmla="*/ 0 h 220680"/>
                <a:gd name="textAreaBottom" fmla="*/ 221040 h 220680"/>
              </a:gdLst>
              <a:ahLst/>
              <a:rect l="textAreaLeft" t="textAreaTop" r="textAreaRight" b="textAreaBottom"/>
              <a:pathLst>
                <a:path w="21600" h="21600">
                  <a:moveTo>
                    <a:pt x="15380" y="15089"/>
                  </a:moveTo>
                  <a:cubicBezTo>
                    <a:pt x="19904" y="11058"/>
                    <a:pt x="21600" y="6408"/>
                    <a:pt x="21600" y="0"/>
                  </a:cubicBezTo>
                  <a:lnTo>
                    <a:pt x="0" y="0"/>
                  </a:lnTo>
                  <a:lnTo>
                    <a:pt x="0" y="21600"/>
                  </a:lnTo>
                  <a:cubicBezTo>
                    <a:pt x="4750" y="21600"/>
                    <a:pt x="11083" y="19223"/>
                    <a:pt x="15380" y="15089"/>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7" name="Shape 3430"/>
            <p:cNvSpPr/>
            <p:nvPr/>
          </p:nvSpPr>
          <p:spPr>
            <a:xfrm>
              <a:off x="5326560" y="11302200"/>
              <a:ext cx="294480" cy="209520"/>
            </a:xfrm>
            <a:custGeom>
              <a:avLst/>
              <a:gdLst>
                <a:gd name="textAreaLeft" fmla="*/ 0 w 294480"/>
                <a:gd name="textAreaRight" fmla="*/ 294840 w 294480"/>
                <a:gd name="textAreaTop" fmla="*/ 0 h 209520"/>
                <a:gd name="textAreaBottom" fmla="*/ 209880 h 209520"/>
              </a:gdLst>
              <a:ahLst/>
              <a:rect l="textAreaLeft" t="textAreaTop" r="textAreaRight" b="textAreaBottom"/>
              <a:pathLst>
                <a:path w="21600" h="20958">
                  <a:moveTo>
                    <a:pt x="11607" y="20665"/>
                  </a:moveTo>
                  <a:cubicBezTo>
                    <a:pt x="15758" y="19627"/>
                    <a:pt x="19371" y="16304"/>
                    <a:pt x="21600" y="11942"/>
                  </a:cubicBezTo>
                  <a:lnTo>
                    <a:pt x="8840" y="0"/>
                  </a:lnTo>
                  <a:lnTo>
                    <a:pt x="0" y="17238"/>
                  </a:lnTo>
                  <a:cubicBezTo>
                    <a:pt x="3228" y="20250"/>
                    <a:pt x="7379" y="21600"/>
                    <a:pt x="11607" y="20665"/>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8" name="Shape 3431"/>
            <p:cNvSpPr/>
            <p:nvPr/>
          </p:nvSpPr>
          <p:spPr>
            <a:xfrm>
              <a:off x="5257080" y="11302200"/>
              <a:ext cx="285120" cy="212400"/>
            </a:xfrm>
            <a:custGeom>
              <a:avLst/>
              <a:gdLst>
                <a:gd name="textAreaLeft" fmla="*/ 0 w 285120"/>
                <a:gd name="textAreaRight" fmla="*/ 285480 w 285120"/>
                <a:gd name="textAreaTop" fmla="*/ 0 h 212400"/>
                <a:gd name="textAreaBottom" fmla="*/ 212760 h 212400"/>
              </a:gdLst>
              <a:ahLst/>
              <a:rect l="textAreaLeft" t="textAreaTop" r="textAreaRight" b="textAreaBottom"/>
              <a:pathLst>
                <a:path w="21600" h="20821">
                  <a:moveTo>
                    <a:pt x="9450" y="19851"/>
                  </a:moveTo>
                  <a:cubicBezTo>
                    <a:pt x="13659" y="21600"/>
                    <a:pt x="17947" y="20880"/>
                    <a:pt x="21600" y="18514"/>
                  </a:cubicBezTo>
                  <a:lnTo>
                    <a:pt x="14294" y="0"/>
                  </a:lnTo>
                  <a:lnTo>
                    <a:pt x="0" y="9463"/>
                  </a:lnTo>
                  <a:cubicBezTo>
                    <a:pt x="1985" y="14194"/>
                    <a:pt x="5321" y="17897"/>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09" name="Shape 3432"/>
            <p:cNvSpPr/>
            <p:nvPr/>
          </p:nvSpPr>
          <p:spPr>
            <a:xfrm>
              <a:off x="5259600" y="11114640"/>
              <a:ext cx="373320" cy="372960"/>
            </a:xfrm>
            <a:custGeom>
              <a:avLst/>
              <a:gdLst>
                <a:gd name="textAreaLeft" fmla="*/ 0 w 373320"/>
                <a:gd name="textAreaRight" fmla="*/ 373680 w 373320"/>
                <a:gd name="textAreaTop" fmla="*/ 0 h 372960"/>
                <a:gd name="textAreaBottom" fmla="*/ 373320 h 372960"/>
              </a:gdLst>
              <a:ahLst/>
              <a:rect l="textAreaLeft" t="textAreaTop" r="textAreaRight" b="textAreaBottom"/>
              <a:pathLst>
                <a:path w="21346" h="21324">
                  <a:moveTo>
                    <a:pt x="18234" y="3103"/>
                  </a:moveTo>
                  <a:cubicBezTo>
                    <a:pt x="19610" y="4535"/>
                    <a:pt x="20448" y="6027"/>
                    <a:pt x="20986" y="7877"/>
                  </a:cubicBezTo>
                  <a:cubicBezTo>
                    <a:pt x="21465" y="9786"/>
                    <a:pt x="21465" y="11576"/>
                    <a:pt x="20986" y="13426"/>
                  </a:cubicBezTo>
                  <a:cubicBezTo>
                    <a:pt x="20448" y="15335"/>
                    <a:pt x="19610" y="16827"/>
                    <a:pt x="18234" y="18199"/>
                  </a:cubicBezTo>
                  <a:cubicBezTo>
                    <a:pt x="16858" y="19631"/>
                    <a:pt x="15302" y="20467"/>
                    <a:pt x="13447" y="20944"/>
                  </a:cubicBezTo>
                  <a:cubicBezTo>
                    <a:pt x="11533" y="21481"/>
                    <a:pt x="9857" y="21421"/>
                    <a:pt x="7943" y="20944"/>
                  </a:cubicBezTo>
                  <a:cubicBezTo>
                    <a:pt x="6028" y="20407"/>
                    <a:pt x="4532" y="19631"/>
                    <a:pt x="3156" y="18199"/>
                  </a:cubicBezTo>
                  <a:cubicBezTo>
                    <a:pt x="1780" y="16827"/>
                    <a:pt x="882" y="15275"/>
                    <a:pt x="404" y="13426"/>
                  </a:cubicBezTo>
                  <a:cubicBezTo>
                    <a:pt x="-135" y="11516"/>
                    <a:pt x="-135" y="9786"/>
                    <a:pt x="404" y="7877"/>
                  </a:cubicBezTo>
                  <a:cubicBezTo>
                    <a:pt x="882" y="6027"/>
                    <a:pt x="1780" y="4535"/>
                    <a:pt x="3156" y="3103"/>
                  </a:cubicBezTo>
                  <a:cubicBezTo>
                    <a:pt x="4532" y="1731"/>
                    <a:pt x="6028" y="895"/>
                    <a:pt x="7943" y="358"/>
                  </a:cubicBezTo>
                  <a:cubicBezTo>
                    <a:pt x="9857" y="-119"/>
                    <a:pt x="11592" y="-119"/>
                    <a:pt x="13447" y="358"/>
                  </a:cubicBezTo>
                  <a:cubicBezTo>
                    <a:pt x="15362" y="895"/>
                    <a:pt x="16858" y="1731"/>
                    <a:pt x="18234" y="310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610" name="Shape 1577"/>
          <p:cNvSpPr/>
          <p:nvPr/>
        </p:nvSpPr>
        <p:spPr>
          <a:xfrm>
            <a:off x="12195720" y="1712160"/>
            <a:ext cx="10161000" cy="368352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lack Tablet</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Mockup</a:t>
            </a:r>
            <a:endParaRPr b="0" lang="en-US" sz="11200" spc="-1" strike="noStrike">
              <a:solidFill>
                <a:srgbClr val="000000"/>
              </a:solidFill>
              <a:latin typeface="Arial"/>
            </a:endParaRPr>
          </a:p>
        </p:txBody>
      </p:sp>
      <p:sp>
        <p:nvSpPr>
          <p:cNvPr id="4611" name="Shape 1578"/>
          <p:cNvSpPr/>
          <p:nvPr/>
        </p:nvSpPr>
        <p:spPr>
          <a:xfrm>
            <a:off x="12192120" y="5833080"/>
            <a:ext cx="9145080" cy="20361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mago ona leso damer prier ersade.</a:t>
            </a:r>
            <a:endParaRPr b="0" lang="en-US" sz="4800" spc="-1" strike="noStrike">
              <a:solidFill>
                <a:srgbClr val="000000"/>
              </a:solidFill>
              <a:latin typeface="Arial"/>
            </a:endParaRPr>
          </a:p>
        </p:txBody>
      </p:sp>
      <p:sp>
        <p:nvSpPr>
          <p:cNvPr id="4612" name="Shape 1579"/>
          <p:cNvSpPr/>
          <p:nvPr/>
        </p:nvSpPr>
        <p:spPr>
          <a:xfrm>
            <a:off x="12192120" y="906876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613" name="Shape 1580"/>
          <p:cNvSpPr/>
          <p:nvPr/>
        </p:nvSpPr>
        <p:spPr>
          <a:xfrm>
            <a:off x="12192120" y="830664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614" name="Shape 1581"/>
          <p:cNvSpPr/>
          <p:nvPr/>
        </p:nvSpPr>
        <p:spPr>
          <a:xfrm>
            <a:off x="17718120" y="8306640"/>
            <a:ext cx="462564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615" name="Shape 1582"/>
          <p:cNvSpPr/>
          <p:nvPr/>
        </p:nvSpPr>
        <p:spPr>
          <a:xfrm>
            <a:off x="17718120" y="906876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6" name="Shape 1585"/>
          <p:cNvSpPr/>
          <p:nvPr/>
        </p:nvSpPr>
        <p:spPr>
          <a:xfrm>
            <a:off x="2035080" y="1708200"/>
            <a:ext cx="914184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Creativ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Designer</a:t>
            </a:r>
            <a:endParaRPr b="0" lang="en-US" sz="11200" spc="-1" strike="noStrike">
              <a:solidFill>
                <a:srgbClr val="000000"/>
              </a:solidFill>
              <a:latin typeface="Arial"/>
            </a:endParaRPr>
          </a:p>
        </p:txBody>
      </p:sp>
      <p:sp>
        <p:nvSpPr>
          <p:cNvPr id="4617" name="Shape 1586"/>
          <p:cNvSpPr/>
          <p:nvPr/>
        </p:nvSpPr>
        <p:spPr>
          <a:xfrm>
            <a:off x="12192120" y="2025720"/>
            <a:ext cx="10164600" cy="46972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wetoma jam rebum. Stet clita kuasd gubergren, nosotra seansa takimata sanctus est Lorem ipsum dolor sit amet. Lorem eso ipsum dolor sit amet, deras consetetur sadipscing idas brotas geras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8" name="Shape 1589"/>
          <p:cNvSpPr/>
          <p:nvPr/>
        </p:nvSpPr>
        <p:spPr>
          <a:xfrm>
            <a:off x="0" y="0"/>
            <a:ext cx="13211280" cy="13715640"/>
          </a:xfrm>
          <a:prstGeom prst="rect">
            <a:avLst/>
          </a:prstGeom>
          <a:solidFill>
            <a:srgbClr val="212121">
              <a:alpha val="75000"/>
            </a:srgbClr>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619" name="Shape 1590"/>
          <p:cNvSpPr/>
          <p:nvPr/>
        </p:nvSpPr>
        <p:spPr>
          <a:xfrm>
            <a:off x="2031840" y="1708200"/>
            <a:ext cx="1015992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ffffff"/>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ffffff"/>
                </a:solidFill>
                <a:latin typeface="Montserrat Semi Bold"/>
                <a:ea typeface="Montserrat Semi Bold"/>
              </a:rPr>
              <a:t>Creative</a:t>
            </a:r>
            <a:endParaRPr b="0" lang="en-US" sz="11200" spc="-1" strike="noStrike">
              <a:solidFill>
                <a:srgbClr val="000000"/>
              </a:solidFill>
              <a:latin typeface="Arial"/>
            </a:endParaRPr>
          </a:p>
        </p:txBody>
      </p:sp>
      <p:sp>
        <p:nvSpPr>
          <p:cNvPr id="4620" name="Shape 1591"/>
          <p:cNvSpPr/>
          <p:nvPr/>
        </p:nvSpPr>
        <p:spPr>
          <a:xfrm>
            <a:off x="2032200" y="5966640"/>
            <a:ext cx="9147240" cy="29386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ffffff"/>
                </a:solidFill>
                <a:latin typeface="Montserrat"/>
                <a:ea typeface="Montserrat"/>
              </a:rPr>
              <a:t>Creative with a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clean &amp; modern</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Keynote Presentation.</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21" name="Group 1608"/>
          <p:cNvGrpSpPr/>
          <p:nvPr/>
        </p:nvGrpSpPr>
        <p:grpSpPr>
          <a:xfrm>
            <a:off x="1908000" y="2033640"/>
            <a:ext cx="6837480" cy="9648720"/>
            <a:chOff x="1908000" y="2033640"/>
            <a:chExt cx="6837480" cy="9648720"/>
          </a:xfrm>
        </p:grpSpPr>
        <p:sp>
          <p:nvSpPr>
            <p:cNvPr id="4622" name="Shape 1593"/>
            <p:cNvSpPr/>
            <p:nvPr/>
          </p:nvSpPr>
          <p:spPr>
            <a:xfrm>
              <a:off x="1908000" y="2033640"/>
              <a:ext cx="6837480" cy="9648720"/>
            </a:xfrm>
            <a:custGeom>
              <a:avLst/>
              <a:gdLst>
                <a:gd name="textAreaLeft" fmla="*/ 0 w 6837480"/>
                <a:gd name="textAreaRight" fmla="*/ 6837840 w 6837480"/>
                <a:gd name="textAreaTop" fmla="*/ 0 h 9648720"/>
                <a:gd name="textAreaBottom" fmla="*/ 9649080 h 964872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3" name="Shape 1594"/>
            <p:cNvSpPr/>
            <p:nvPr/>
          </p:nvSpPr>
          <p:spPr>
            <a:xfrm>
              <a:off x="1949400" y="2079720"/>
              <a:ext cx="6750000" cy="9561240"/>
            </a:xfrm>
            <a:custGeom>
              <a:avLst/>
              <a:gdLst>
                <a:gd name="textAreaLeft" fmla="*/ 0 w 6750000"/>
                <a:gd name="textAreaRight" fmla="*/ 6750360 w 6750000"/>
                <a:gd name="textAreaTop" fmla="*/ 0 h 9561240"/>
                <a:gd name="textAreaBottom" fmla="*/ 9561600 h 956124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4" name="Shape 1595"/>
            <p:cNvSpPr/>
            <p:nvPr/>
          </p:nvSpPr>
          <p:spPr>
            <a:xfrm>
              <a:off x="2299680" y="2849040"/>
              <a:ext cx="6049440" cy="8021880"/>
            </a:xfrm>
            <a:custGeom>
              <a:avLst/>
              <a:gdLst>
                <a:gd name="textAreaLeft" fmla="*/ 0 w 6049440"/>
                <a:gd name="textAreaRight" fmla="*/ 6049800 w 6049440"/>
                <a:gd name="textAreaTop" fmla="*/ 0 h 8021880"/>
                <a:gd name="textAreaBottom" fmla="*/ 8022240 h 802188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5" name="Shape 1596"/>
            <p:cNvSpPr/>
            <p:nvPr/>
          </p:nvSpPr>
          <p:spPr>
            <a:xfrm>
              <a:off x="2322720" y="2867760"/>
              <a:ext cx="6008040" cy="7980480"/>
            </a:xfrm>
            <a:custGeom>
              <a:avLst/>
              <a:gdLst>
                <a:gd name="textAreaLeft" fmla="*/ 0 w 6008040"/>
                <a:gd name="textAreaRight" fmla="*/ 6008400 w 6008040"/>
                <a:gd name="textAreaTop" fmla="*/ 0 h 7980480"/>
                <a:gd name="textAreaBottom" fmla="*/ 7980840 h 79804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6" name="Shape 1597"/>
            <p:cNvSpPr/>
            <p:nvPr/>
          </p:nvSpPr>
          <p:spPr>
            <a:xfrm>
              <a:off x="5272920" y="2415960"/>
              <a:ext cx="108360" cy="108360"/>
            </a:xfrm>
            <a:custGeom>
              <a:avLst/>
              <a:gdLst>
                <a:gd name="textAreaLeft" fmla="*/ 0 w 108360"/>
                <a:gd name="textAreaRight" fmla="*/ 108720 w 108360"/>
                <a:gd name="textAreaTop" fmla="*/ 0 h 108360"/>
                <a:gd name="textAreaBottom" fmla="*/ 108720 h 10836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7" name="Shape 1598"/>
            <p:cNvSpPr/>
            <p:nvPr/>
          </p:nvSpPr>
          <p:spPr>
            <a:xfrm>
              <a:off x="5286600" y="2430360"/>
              <a:ext cx="80280" cy="80280"/>
            </a:xfrm>
            <a:custGeom>
              <a:avLst/>
              <a:gdLst>
                <a:gd name="textAreaLeft" fmla="*/ 0 w 80280"/>
                <a:gd name="textAreaRight" fmla="*/ 80640 w 80280"/>
                <a:gd name="textAreaTop" fmla="*/ 0 h 80280"/>
                <a:gd name="textAreaBottom" fmla="*/ 80640 h 8028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8" name="Shape 1599"/>
            <p:cNvSpPr/>
            <p:nvPr/>
          </p:nvSpPr>
          <p:spPr>
            <a:xfrm>
              <a:off x="5304600" y="24483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29" name="Shape 1600"/>
            <p:cNvSpPr/>
            <p:nvPr/>
          </p:nvSpPr>
          <p:spPr>
            <a:xfrm>
              <a:off x="5109480" y="11078280"/>
              <a:ext cx="421200" cy="421920"/>
            </a:xfrm>
            <a:custGeom>
              <a:avLst/>
              <a:gdLst>
                <a:gd name="textAreaLeft" fmla="*/ 0 w 421200"/>
                <a:gd name="textAreaRight" fmla="*/ 421560 w 421200"/>
                <a:gd name="textAreaTop" fmla="*/ 0 h 421920"/>
                <a:gd name="textAreaBottom" fmla="*/ 422280 h 42192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0" name="Shape 1601"/>
            <p:cNvSpPr/>
            <p:nvPr/>
          </p:nvSpPr>
          <p:spPr>
            <a:xfrm>
              <a:off x="5106240" y="11081880"/>
              <a:ext cx="201240" cy="217800"/>
            </a:xfrm>
            <a:custGeom>
              <a:avLst/>
              <a:gdLst>
                <a:gd name="textAreaLeft" fmla="*/ 0 w 201240"/>
                <a:gd name="textAreaRight" fmla="*/ 201600 w 201240"/>
                <a:gd name="textAreaTop" fmla="*/ 0 h 217800"/>
                <a:gd name="textAreaBottom" fmla="*/ 218160 h 21780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1" name="Shape 1602"/>
            <p:cNvSpPr/>
            <p:nvPr/>
          </p:nvSpPr>
          <p:spPr>
            <a:xfrm>
              <a:off x="5143320" y="1108224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2" name="Shape 1603"/>
            <p:cNvSpPr/>
            <p:nvPr/>
          </p:nvSpPr>
          <p:spPr>
            <a:xfrm>
              <a:off x="5221440" y="11082600"/>
              <a:ext cx="284400" cy="212400"/>
            </a:xfrm>
            <a:custGeom>
              <a:avLst/>
              <a:gdLst>
                <a:gd name="textAreaLeft" fmla="*/ 0 w 284400"/>
                <a:gd name="textAreaRight" fmla="*/ 284760 w 284400"/>
                <a:gd name="textAreaTop" fmla="*/ 0 h 212400"/>
                <a:gd name="textAreaBottom" fmla="*/ 212760 h 21240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3" name="Shape 1604"/>
            <p:cNvSpPr/>
            <p:nvPr/>
          </p:nvSpPr>
          <p:spPr>
            <a:xfrm>
              <a:off x="5332320" y="11282760"/>
              <a:ext cx="196920" cy="219960"/>
            </a:xfrm>
            <a:custGeom>
              <a:avLst/>
              <a:gdLst>
                <a:gd name="textAreaLeft" fmla="*/ 0 w 196920"/>
                <a:gd name="textAreaRight" fmla="*/ 197280 w 196920"/>
                <a:gd name="textAreaTop" fmla="*/ 0 h 219960"/>
                <a:gd name="textAreaBottom" fmla="*/ 220320 h 21996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4" name="Shape 1605"/>
            <p:cNvSpPr/>
            <p:nvPr/>
          </p:nvSpPr>
          <p:spPr>
            <a:xfrm>
              <a:off x="5198400" y="1128708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5" name="Shape 1606"/>
            <p:cNvSpPr/>
            <p:nvPr/>
          </p:nvSpPr>
          <p:spPr>
            <a:xfrm>
              <a:off x="5129280" y="11287080"/>
              <a:ext cx="284400" cy="212040"/>
            </a:xfrm>
            <a:custGeom>
              <a:avLst/>
              <a:gdLst>
                <a:gd name="textAreaLeft" fmla="*/ 0 w 284400"/>
                <a:gd name="textAreaRight" fmla="*/ 284760 w 284400"/>
                <a:gd name="textAreaTop" fmla="*/ 0 h 212040"/>
                <a:gd name="textAreaBottom" fmla="*/ 212400 h 21204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6" name="Shape 1607"/>
            <p:cNvSpPr/>
            <p:nvPr/>
          </p:nvSpPr>
          <p:spPr>
            <a:xfrm>
              <a:off x="5133600" y="11103480"/>
              <a:ext cx="372240" cy="371520"/>
            </a:xfrm>
            <a:custGeom>
              <a:avLst/>
              <a:gdLst>
                <a:gd name="textAreaLeft" fmla="*/ 0 w 372240"/>
                <a:gd name="textAreaRight" fmla="*/ 372600 w 372240"/>
                <a:gd name="textAreaTop" fmla="*/ 0 h 371520"/>
                <a:gd name="textAreaBottom" fmla="*/ 371880 h 37152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grpSp>
        <p:nvGrpSpPr>
          <p:cNvPr id="4637" name="Group 1630"/>
          <p:cNvGrpSpPr/>
          <p:nvPr/>
        </p:nvGrpSpPr>
        <p:grpSpPr>
          <a:xfrm>
            <a:off x="8885880" y="5349600"/>
            <a:ext cx="3120120" cy="6345360"/>
            <a:chOff x="8885880" y="5349600"/>
            <a:chExt cx="3120120" cy="6345360"/>
          </a:xfrm>
        </p:grpSpPr>
        <p:sp>
          <p:nvSpPr>
            <p:cNvPr id="4638" name="Shape 1609"/>
            <p:cNvSpPr/>
            <p:nvPr/>
          </p:nvSpPr>
          <p:spPr>
            <a:xfrm>
              <a:off x="8885880" y="6161760"/>
              <a:ext cx="78480" cy="245520"/>
            </a:xfrm>
            <a:custGeom>
              <a:avLst/>
              <a:gdLst>
                <a:gd name="textAreaLeft" fmla="*/ 0 w 78480"/>
                <a:gd name="textAreaRight" fmla="*/ 78840 w 78480"/>
                <a:gd name="textAreaTop" fmla="*/ 0 h 245520"/>
                <a:gd name="textAreaBottom" fmla="*/ 245880 h 245520"/>
              </a:gdLst>
              <a:ahLst/>
              <a:rect l="textAreaLeft" t="textAreaTop" r="textAreaRight" b="textAreaBottom"/>
              <a:pathLst>
                <a:path w="21600" h="21600">
                  <a:moveTo>
                    <a:pt x="21600" y="21600"/>
                  </a:moveTo>
                  <a:lnTo>
                    <a:pt x="5274" y="21600"/>
                  </a:lnTo>
                  <a:cubicBezTo>
                    <a:pt x="2260" y="21600"/>
                    <a:pt x="0" y="20883"/>
                    <a:pt x="0" y="19926"/>
                  </a:cubicBezTo>
                  <a:lnTo>
                    <a:pt x="0" y="1674"/>
                  </a:lnTo>
                  <a:cubicBezTo>
                    <a:pt x="0" y="717"/>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39" name="Shape 1610"/>
            <p:cNvSpPr/>
            <p:nvPr/>
          </p:nvSpPr>
          <p:spPr>
            <a:xfrm>
              <a:off x="8885880" y="6699240"/>
              <a:ext cx="94320" cy="456480"/>
            </a:xfrm>
            <a:custGeom>
              <a:avLst/>
              <a:gdLst>
                <a:gd name="textAreaLeft" fmla="*/ 0 w 94320"/>
                <a:gd name="textAreaRight" fmla="*/ 94680 w 94320"/>
                <a:gd name="textAreaTop" fmla="*/ 0 h 456480"/>
                <a:gd name="textAreaBottom" fmla="*/ 456840 h 456480"/>
              </a:gdLst>
              <a:ahLst/>
              <a:rect l="textAreaLeft" t="textAreaTop" r="textAreaRight" b="textAreaBottom"/>
              <a:pathLst>
                <a:path w="21600" h="21600">
                  <a:moveTo>
                    <a:pt x="21600" y="21600"/>
                  </a:moveTo>
                  <a:lnTo>
                    <a:pt x="4404" y="21600"/>
                  </a:lnTo>
                  <a:cubicBezTo>
                    <a:pt x="1887" y="21600"/>
                    <a:pt x="0" y="21216"/>
                    <a:pt x="0" y="20704"/>
                  </a:cubicBezTo>
                  <a:lnTo>
                    <a:pt x="0" y="896"/>
                  </a:lnTo>
                  <a:cubicBezTo>
                    <a:pt x="0" y="342"/>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0" name="Shape 1611"/>
            <p:cNvSpPr/>
            <p:nvPr/>
          </p:nvSpPr>
          <p:spPr>
            <a:xfrm>
              <a:off x="8885880" y="7284600"/>
              <a:ext cx="78480" cy="444600"/>
            </a:xfrm>
            <a:custGeom>
              <a:avLst/>
              <a:gdLst>
                <a:gd name="textAreaLeft" fmla="*/ 0 w 78480"/>
                <a:gd name="textAreaRight" fmla="*/ 78840 w 78480"/>
                <a:gd name="textAreaTop" fmla="*/ 0 h 444600"/>
                <a:gd name="textAreaBottom" fmla="*/ 444960 h 44460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1" name="Shape 1612"/>
            <p:cNvSpPr/>
            <p:nvPr/>
          </p:nvSpPr>
          <p:spPr>
            <a:xfrm>
              <a:off x="11939760" y="6699240"/>
              <a:ext cx="66240" cy="472680"/>
            </a:xfrm>
            <a:custGeom>
              <a:avLst/>
              <a:gdLst>
                <a:gd name="textAreaLeft" fmla="*/ 0 w 66240"/>
                <a:gd name="textAreaRight" fmla="*/ 66600 w 66240"/>
                <a:gd name="textAreaTop" fmla="*/ 0 h 472680"/>
                <a:gd name="textAreaBottom" fmla="*/ 473040 h 472680"/>
              </a:gdLst>
              <a:ahLst/>
              <a:rect l="textAreaLeft" t="textAreaTop" r="textAreaRight" b="textAreaBottom"/>
              <a:pathLst>
                <a:path w="21600" h="21600">
                  <a:moveTo>
                    <a:pt x="15386" y="21600"/>
                  </a:moveTo>
                  <a:lnTo>
                    <a:pt x="0" y="21600"/>
                  </a:lnTo>
                  <a:lnTo>
                    <a:pt x="0" y="0"/>
                  </a:lnTo>
                  <a:lnTo>
                    <a:pt x="15386" y="0"/>
                  </a:lnTo>
                  <a:cubicBezTo>
                    <a:pt x="19233" y="0"/>
                    <a:pt x="21600" y="331"/>
                    <a:pt x="21600" y="869"/>
                  </a:cubicBezTo>
                  <a:lnTo>
                    <a:pt x="21600" y="20731"/>
                  </a:lnTo>
                  <a:cubicBezTo>
                    <a:pt x="21600" y="2118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2" name="Shape 1613"/>
            <p:cNvSpPr/>
            <p:nvPr/>
          </p:nvSpPr>
          <p:spPr>
            <a:xfrm>
              <a:off x="8917920" y="5349600"/>
              <a:ext cx="3052440" cy="6345360"/>
            </a:xfrm>
            <a:custGeom>
              <a:avLst/>
              <a:gdLst>
                <a:gd name="textAreaLeft" fmla="*/ 0 w 3052440"/>
                <a:gd name="textAreaRight" fmla="*/ 3052800 w 3052440"/>
                <a:gd name="textAreaTop" fmla="*/ 0 h 6345360"/>
                <a:gd name="textAreaBottom" fmla="*/ 6345720 h 6345360"/>
              </a:gdLst>
              <a:ahLst/>
              <a:rect l="textAreaLeft" t="textAreaTop" r="textAreaRight" b="textAreaBottom"/>
              <a:pathLst>
                <a:path w="21600" h="21600">
                  <a:moveTo>
                    <a:pt x="17562" y="21600"/>
                  </a:moveTo>
                  <a:lnTo>
                    <a:pt x="4018" y="21600"/>
                  </a:lnTo>
                  <a:cubicBezTo>
                    <a:pt x="1795" y="21600"/>
                    <a:pt x="0" y="20736"/>
                    <a:pt x="0" y="19667"/>
                  </a:cubicBezTo>
                  <a:lnTo>
                    <a:pt x="0" y="1936"/>
                  </a:lnTo>
                  <a:cubicBezTo>
                    <a:pt x="0" y="864"/>
                    <a:pt x="1795" y="0"/>
                    <a:pt x="4018" y="0"/>
                  </a:cubicBezTo>
                  <a:lnTo>
                    <a:pt x="17575" y="0"/>
                  </a:lnTo>
                  <a:cubicBezTo>
                    <a:pt x="19798" y="0"/>
                    <a:pt x="21600" y="864"/>
                    <a:pt x="21600" y="1936"/>
                  </a:cubicBezTo>
                  <a:lnTo>
                    <a:pt x="21600" y="19673"/>
                  </a:lnTo>
                  <a:cubicBezTo>
                    <a:pt x="21581" y="20736"/>
                    <a:pt x="19786" y="21600"/>
                    <a:pt x="1756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3" name="Shape 1614"/>
            <p:cNvSpPr/>
            <p:nvPr/>
          </p:nvSpPr>
          <p:spPr>
            <a:xfrm>
              <a:off x="8945640" y="5381280"/>
              <a:ext cx="2992680" cy="6285600"/>
            </a:xfrm>
            <a:custGeom>
              <a:avLst/>
              <a:gdLst>
                <a:gd name="textAreaLeft" fmla="*/ 0 w 2992680"/>
                <a:gd name="textAreaRight" fmla="*/ 2993040 w 2992680"/>
                <a:gd name="textAreaTop" fmla="*/ 0 h 6285600"/>
                <a:gd name="textAreaBottom" fmla="*/ 6285960 h 6285600"/>
              </a:gdLst>
              <a:ahLst/>
              <a:rect l="textAreaLeft" t="textAreaTop" r="textAreaRight" b="textAreaBottom"/>
              <a:pathLst>
                <a:path w="21600" h="21600">
                  <a:moveTo>
                    <a:pt x="17637" y="21600"/>
                  </a:moveTo>
                  <a:lnTo>
                    <a:pt x="3969" y="21600"/>
                  </a:lnTo>
                  <a:cubicBezTo>
                    <a:pt x="1779" y="21600"/>
                    <a:pt x="0" y="20756"/>
                    <a:pt x="0" y="19713"/>
                  </a:cubicBezTo>
                  <a:lnTo>
                    <a:pt x="0" y="1887"/>
                  </a:lnTo>
                  <a:cubicBezTo>
                    <a:pt x="0" y="847"/>
                    <a:pt x="1779" y="0"/>
                    <a:pt x="3969" y="0"/>
                  </a:cubicBezTo>
                  <a:lnTo>
                    <a:pt x="17637" y="0"/>
                  </a:lnTo>
                  <a:cubicBezTo>
                    <a:pt x="19821" y="0"/>
                    <a:pt x="21600" y="847"/>
                    <a:pt x="21600" y="1887"/>
                  </a:cubicBezTo>
                  <a:lnTo>
                    <a:pt x="21600" y="19719"/>
                  </a:lnTo>
                  <a:cubicBezTo>
                    <a:pt x="21600" y="20762"/>
                    <a:pt x="19821" y="21600"/>
                    <a:pt x="1763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4" name="Shape 1615"/>
            <p:cNvSpPr/>
            <p:nvPr/>
          </p:nvSpPr>
          <p:spPr>
            <a:xfrm>
              <a:off x="9069120" y="6113880"/>
              <a:ext cx="2750040" cy="4836240"/>
            </a:xfrm>
            <a:custGeom>
              <a:avLst/>
              <a:gdLst>
                <a:gd name="textAreaLeft" fmla="*/ 0 w 2750040"/>
                <a:gd name="textAreaRight" fmla="*/ 2750400 w 2750040"/>
                <a:gd name="textAreaTop" fmla="*/ 0 h 4836240"/>
                <a:gd name="textAreaBottom" fmla="*/ 4836600 h 4836240"/>
              </a:gdLst>
              <a:ahLst/>
              <a:rect l="textAreaLeft" t="textAreaTop" r="textAreaRight" b="textAreaBottom"/>
              <a:pathLst>
                <a:path w="21600" h="21600">
                  <a:moveTo>
                    <a:pt x="21302" y="21600"/>
                  </a:moveTo>
                  <a:lnTo>
                    <a:pt x="298" y="21600"/>
                  </a:lnTo>
                  <a:cubicBezTo>
                    <a:pt x="135" y="21600"/>
                    <a:pt x="0" y="21523"/>
                    <a:pt x="0" y="21431"/>
                  </a:cubicBezTo>
                  <a:lnTo>
                    <a:pt x="0" y="169"/>
                  </a:lnTo>
                  <a:cubicBezTo>
                    <a:pt x="0" y="77"/>
                    <a:pt x="135" y="0"/>
                    <a:pt x="298" y="0"/>
                  </a:cubicBezTo>
                  <a:lnTo>
                    <a:pt x="21302" y="0"/>
                  </a:lnTo>
                  <a:cubicBezTo>
                    <a:pt x="21465" y="0"/>
                    <a:pt x="21600" y="77"/>
                    <a:pt x="21600" y="169"/>
                  </a:cubicBezTo>
                  <a:lnTo>
                    <a:pt x="21600" y="21431"/>
                  </a:lnTo>
                  <a:cubicBezTo>
                    <a:pt x="21600" y="21523"/>
                    <a:pt x="21465" y="21600"/>
                    <a:pt x="21302" y="21600"/>
                  </a:cubicBezTo>
                </a:path>
              </a:pathLst>
            </a:custGeom>
            <a:solidFill>
              <a:srgbClr val="f7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5" name="Shape 1616"/>
            <p:cNvSpPr/>
            <p:nvPr/>
          </p:nvSpPr>
          <p:spPr>
            <a:xfrm>
              <a:off x="9084960" y="6130080"/>
              <a:ext cx="2718000" cy="4804560"/>
            </a:xfrm>
            <a:custGeom>
              <a:avLst/>
              <a:gdLst>
                <a:gd name="textAreaLeft" fmla="*/ 0 w 2718000"/>
                <a:gd name="textAreaRight" fmla="*/ 2718360 w 2718000"/>
                <a:gd name="textAreaTop" fmla="*/ 0 h 4804560"/>
                <a:gd name="textAreaBottom" fmla="*/ 4804920 h 4804560"/>
              </a:gdLst>
              <a:ahLst/>
              <a:rect l="textAreaLeft" t="textAreaTop" r="textAreaRight" b="textAreaBottom"/>
              <a:pathLst>
                <a:path w="21600" h="21600">
                  <a:moveTo>
                    <a:pt x="21299" y="21600"/>
                  </a:moveTo>
                  <a:lnTo>
                    <a:pt x="301" y="21600"/>
                  </a:lnTo>
                  <a:cubicBezTo>
                    <a:pt x="136" y="21600"/>
                    <a:pt x="0" y="21523"/>
                    <a:pt x="0" y="21430"/>
                  </a:cubicBezTo>
                  <a:lnTo>
                    <a:pt x="0" y="170"/>
                  </a:lnTo>
                  <a:cubicBezTo>
                    <a:pt x="0" y="77"/>
                    <a:pt x="136" y="0"/>
                    <a:pt x="301" y="0"/>
                  </a:cubicBezTo>
                  <a:lnTo>
                    <a:pt x="21299" y="0"/>
                  </a:lnTo>
                  <a:cubicBezTo>
                    <a:pt x="21464" y="0"/>
                    <a:pt x="21600" y="77"/>
                    <a:pt x="21600" y="170"/>
                  </a:cubicBezTo>
                  <a:lnTo>
                    <a:pt x="21600" y="21430"/>
                  </a:lnTo>
                  <a:cubicBezTo>
                    <a:pt x="21600" y="21523"/>
                    <a:pt x="21464" y="21600"/>
                    <a:pt x="21299"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6" name="Shape 1617"/>
            <p:cNvSpPr/>
            <p:nvPr/>
          </p:nvSpPr>
          <p:spPr>
            <a:xfrm>
              <a:off x="10198800" y="11054160"/>
              <a:ext cx="494640" cy="494640"/>
            </a:xfrm>
            <a:custGeom>
              <a:avLst/>
              <a:gdLst>
                <a:gd name="textAreaLeft" fmla="*/ 0 w 494640"/>
                <a:gd name="textAreaRight" fmla="*/ 495000 w 494640"/>
                <a:gd name="textAreaTop" fmla="*/ 0 h 494640"/>
                <a:gd name="textAreaBottom" fmla="*/ 495000 h 494640"/>
              </a:gdLst>
              <a:ahLst/>
              <a:rect l="textAreaLeft" t="textAreaTop" r="textAreaRight" b="textAreaBottom"/>
              <a:pathLst>
                <a:path w="21346" h="21346">
                  <a:moveTo>
                    <a:pt x="18192" y="3154"/>
                  </a:moveTo>
                  <a:cubicBezTo>
                    <a:pt x="19598" y="4521"/>
                    <a:pt x="20457" y="6005"/>
                    <a:pt x="20965" y="7919"/>
                  </a:cubicBezTo>
                  <a:cubicBezTo>
                    <a:pt x="21473" y="9794"/>
                    <a:pt x="21473" y="11513"/>
                    <a:pt x="20965" y="13427"/>
                  </a:cubicBezTo>
                  <a:cubicBezTo>
                    <a:pt x="20457" y="15302"/>
                    <a:pt x="19559" y="16786"/>
                    <a:pt x="18192" y="18192"/>
                  </a:cubicBezTo>
                  <a:cubicBezTo>
                    <a:pt x="16786" y="19559"/>
                    <a:pt x="15302" y="20457"/>
                    <a:pt x="13427" y="20965"/>
                  </a:cubicBezTo>
                  <a:cubicBezTo>
                    <a:pt x="11513" y="21473"/>
                    <a:pt x="9794" y="21473"/>
                    <a:pt x="7919" y="20965"/>
                  </a:cubicBezTo>
                  <a:cubicBezTo>
                    <a:pt x="6005" y="20457"/>
                    <a:pt x="4482" y="19559"/>
                    <a:pt x="3115" y="18192"/>
                  </a:cubicBezTo>
                  <a:cubicBezTo>
                    <a:pt x="1709" y="16786"/>
                    <a:pt x="889" y="15302"/>
                    <a:pt x="381" y="13427"/>
                  </a:cubicBezTo>
                  <a:cubicBezTo>
                    <a:pt x="-127" y="11513"/>
                    <a:pt x="-127" y="9794"/>
                    <a:pt x="381" y="7919"/>
                  </a:cubicBezTo>
                  <a:cubicBezTo>
                    <a:pt x="889" y="6005"/>
                    <a:pt x="1709" y="4482"/>
                    <a:pt x="3115" y="3115"/>
                  </a:cubicBezTo>
                  <a:cubicBezTo>
                    <a:pt x="4482" y="1709"/>
                    <a:pt x="6005" y="889"/>
                    <a:pt x="7919" y="381"/>
                  </a:cubicBezTo>
                  <a:cubicBezTo>
                    <a:pt x="9794" y="-127"/>
                    <a:pt x="11513" y="-127"/>
                    <a:pt x="13427" y="381"/>
                  </a:cubicBezTo>
                  <a:cubicBezTo>
                    <a:pt x="15302" y="889"/>
                    <a:pt x="16825" y="1748"/>
                    <a:pt x="18192" y="3154"/>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7" name="Shape 1618"/>
            <p:cNvSpPr/>
            <p:nvPr/>
          </p:nvSpPr>
          <p:spPr>
            <a:xfrm>
              <a:off x="10195920" y="11055240"/>
              <a:ext cx="233640" cy="253440"/>
            </a:xfrm>
            <a:custGeom>
              <a:avLst/>
              <a:gdLst>
                <a:gd name="textAreaLeft" fmla="*/ 0 w 233640"/>
                <a:gd name="textAreaRight" fmla="*/ 234000 w 233640"/>
                <a:gd name="textAreaTop" fmla="*/ 0 h 253440"/>
                <a:gd name="textAreaBottom" fmla="*/ 253800 h 25344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366"/>
                    <a:pt x="6065" y="64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8" name="Shape 1619"/>
            <p:cNvSpPr/>
            <p:nvPr/>
          </p:nvSpPr>
          <p:spPr>
            <a:xfrm>
              <a:off x="10239480" y="11052000"/>
              <a:ext cx="341280" cy="244800"/>
            </a:xfrm>
            <a:custGeom>
              <a:avLst/>
              <a:gdLst>
                <a:gd name="textAreaLeft" fmla="*/ 0 w 341280"/>
                <a:gd name="textAreaRight" fmla="*/ 341640 w 341280"/>
                <a:gd name="textAreaTop" fmla="*/ 0 h 244800"/>
                <a:gd name="textAreaBottom" fmla="*/ 245160 h 244800"/>
              </a:gdLst>
              <a:ahLst/>
              <a:rect l="textAreaLeft" t="textAreaTop" r="textAreaRight" b="textAreaBottom"/>
              <a:pathLst>
                <a:path w="21600" h="20845">
                  <a:moveTo>
                    <a:pt x="10004" y="390"/>
                  </a:moveTo>
                  <a:cubicBezTo>
                    <a:pt x="5855" y="1382"/>
                    <a:pt x="2274" y="4740"/>
                    <a:pt x="0" y="9015"/>
                  </a:cubicBezTo>
                  <a:lnTo>
                    <a:pt x="12789" y="20845"/>
                  </a:lnTo>
                  <a:lnTo>
                    <a:pt x="21600" y="3748"/>
                  </a:lnTo>
                  <a:cubicBezTo>
                    <a:pt x="18360" y="695"/>
                    <a:pt x="14211" y="-755"/>
                    <a:pt x="10004" y="39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49" name="Shape 1620"/>
            <p:cNvSpPr/>
            <p:nvPr/>
          </p:nvSpPr>
          <p:spPr>
            <a:xfrm>
              <a:off x="10331280" y="11052360"/>
              <a:ext cx="329040" cy="244440"/>
            </a:xfrm>
            <a:custGeom>
              <a:avLst/>
              <a:gdLst>
                <a:gd name="textAreaLeft" fmla="*/ 0 w 329040"/>
                <a:gd name="textAreaRight" fmla="*/ 329400 w 329040"/>
                <a:gd name="textAreaTop" fmla="*/ 0 h 244440"/>
                <a:gd name="textAreaBottom" fmla="*/ 244800 h 244440"/>
              </a:gdLst>
              <a:ahLst/>
              <a:rect l="textAreaLeft" t="textAreaTop" r="textAreaRight" b="textAreaBottom"/>
              <a:pathLst>
                <a:path w="21600" h="20830">
                  <a:moveTo>
                    <a:pt x="12242" y="985"/>
                  </a:moveTo>
                  <a:cubicBezTo>
                    <a:pt x="8004" y="-770"/>
                    <a:pt x="3590" y="-83"/>
                    <a:pt x="0" y="2283"/>
                  </a:cubicBezTo>
                  <a:lnTo>
                    <a:pt x="7298" y="20830"/>
                  </a:lnTo>
                  <a:lnTo>
                    <a:pt x="21600" y="11442"/>
                  </a:lnTo>
                  <a:cubicBezTo>
                    <a:pt x="19775" y="6634"/>
                    <a:pt x="16421" y="2741"/>
                    <a:pt x="12242" y="985"/>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0" name="Shape 1621"/>
            <p:cNvSpPr/>
            <p:nvPr/>
          </p:nvSpPr>
          <p:spPr>
            <a:xfrm>
              <a:off x="10454760" y="11289960"/>
              <a:ext cx="233640" cy="253440"/>
            </a:xfrm>
            <a:custGeom>
              <a:avLst/>
              <a:gdLst>
                <a:gd name="textAreaLeft" fmla="*/ 0 w 233640"/>
                <a:gd name="textAreaRight" fmla="*/ 234000 w 233640"/>
                <a:gd name="textAreaTop" fmla="*/ 0 h 253440"/>
                <a:gd name="textAreaBottom" fmla="*/ 253800 h 253440"/>
              </a:gdLst>
              <a:ahLst/>
              <a:rect l="textAreaLeft" t="textAreaTop" r="textAreaRight" b="textAreaBottom"/>
              <a:pathLst>
                <a:path w="21600" h="21600">
                  <a:moveTo>
                    <a:pt x="15535" y="15189"/>
                  </a:moveTo>
                  <a:cubicBezTo>
                    <a:pt x="19855" y="11220"/>
                    <a:pt x="21600" y="6411"/>
                    <a:pt x="21600" y="0"/>
                  </a:cubicBezTo>
                  <a:lnTo>
                    <a:pt x="0" y="0"/>
                  </a:lnTo>
                  <a:lnTo>
                    <a:pt x="0" y="21600"/>
                  </a:lnTo>
                  <a:cubicBezTo>
                    <a:pt x="4735" y="21600"/>
                    <a:pt x="10966" y="19234"/>
                    <a:pt x="15535" y="15189"/>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1" name="Shape 1622"/>
            <p:cNvSpPr/>
            <p:nvPr/>
          </p:nvSpPr>
          <p:spPr>
            <a:xfrm>
              <a:off x="10303200" y="11297880"/>
              <a:ext cx="341280" cy="248400"/>
            </a:xfrm>
            <a:custGeom>
              <a:avLst/>
              <a:gdLst>
                <a:gd name="textAreaLeft" fmla="*/ 0 w 341280"/>
                <a:gd name="textAreaRight" fmla="*/ 341640 w 341280"/>
                <a:gd name="textAreaTop" fmla="*/ 0 h 248400"/>
                <a:gd name="textAreaBottom" fmla="*/ 248760 h 248400"/>
              </a:gdLst>
              <a:ahLst/>
              <a:rect l="textAreaLeft" t="textAreaTop" r="textAreaRight" b="textAreaBottom"/>
              <a:pathLst>
                <a:path w="21600" h="20848">
                  <a:moveTo>
                    <a:pt x="11596" y="20459"/>
                  </a:moveTo>
                  <a:cubicBezTo>
                    <a:pt x="15745" y="19470"/>
                    <a:pt x="19326" y="16124"/>
                    <a:pt x="21600" y="11865"/>
                  </a:cubicBezTo>
                  <a:lnTo>
                    <a:pt x="8867" y="0"/>
                  </a:lnTo>
                  <a:lnTo>
                    <a:pt x="0" y="17113"/>
                  </a:lnTo>
                  <a:cubicBezTo>
                    <a:pt x="3240" y="20155"/>
                    <a:pt x="7389" y="21600"/>
                    <a:pt x="11596" y="20459"/>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2" name="Shape 1623"/>
            <p:cNvSpPr/>
            <p:nvPr/>
          </p:nvSpPr>
          <p:spPr>
            <a:xfrm>
              <a:off x="10223640" y="11297880"/>
              <a:ext cx="329040" cy="248400"/>
            </a:xfrm>
            <a:custGeom>
              <a:avLst/>
              <a:gdLst>
                <a:gd name="textAreaLeft" fmla="*/ 0 w 329040"/>
                <a:gd name="textAreaRight" fmla="*/ 329400 w 329040"/>
                <a:gd name="textAreaTop" fmla="*/ 0 h 248400"/>
                <a:gd name="textAreaBottom" fmla="*/ 248760 h 248400"/>
              </a:gdLst>
              <a:ahLst/>
              <a:rect l="textAreaLeft" t="textAreaTop" r="textAreaRight" b="textAreaBottom"/>
              <a:pathLst>
                <a:path w="21600" h="20832">
                  <a:moveTo>
                    <a:pt x="9417" y="19851"/>
                  </a:moveTo>
                  <a:cubicBezTo>
                    <a:pt x="13596" y="21600"/>
                    <a:pt x="18069" y="20915"/>
                    <a:pt x="21600" y="18558"/>
                  </a:cubicBezTo>
                  <a:lnTo>
                    <a:pt x="14361" y="0"/>
                  </a:lnTo>
                  <a:lnTo>
                    <a:pt x="0" y="9431"/>
                  </a:lnTo>
                  <a:cubicBezTo>
                    <a:pt x="1883" y="14223"/>
                    <a:pt x="5179" y="18101"/>
                    <a:pt x="9417"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3" name="Shape 1624"/>
            <p:cNvSpPr/>
            <p:nvPr/>
          </p:nvSpPr>
          <p:spPr>
            <a:xfrm>
              <a:off x="10226880" y="11081880"/>
              <a:ext cx="435240" cy="435240"/>
            </a:xfrm>
            <a:custGeom>
              <a:avLst/>
              <a:gdLst>
                <a:gd name="textAreaLeft" fmla="*/ 0 w 435240"/>
                <a:gd name="textAreaRight" fmla="*/ 435600 w 435240"/>
                <a:gd name="textAreaTop" fmla="*/ 0 h 435240"/>
                <a:gd name="textAreaBottom" fmla="*/ 435600 h 435240"/>
              </a:gdLst>
              <a:ahLst/>
              <a:rect l="textAreaLeft" t="textAreaTop" r="textAreaRight" b="textAreaBottom"/>
              <a:pathLst>
                <a:path w="21330" h="21330">
                  <a:moveTo>
                    <a:pt x="18226" y="3157"/>
                  </a:moveTo>
                  <a:cubicBezTo>
                    <a:pt x="19596" y="4524"/>
                    <a:pt x="20435" y="6022"/>
                    <a:pt x="20965" y="7918"/>
                  </a:cubicBezTo>
                  <a:cubicBezTo>
                    <a:pt x="21451" y="9813"/>
                    <a:pt x="21451" y="11533"/>
                    <a:pt x="20965" y="13428"/>
                  </a:cubicBezTo>
                  <a:cubicBezTo>
                    <a:pt x="20435" y="15324"/>
                    <a:pt x="19596" y="16822"/>
                    <a:pt x="18226" y="18189"/>
                  </a:cubicBezTo>
                  <a:cubicBezTo>
                    <a:pt x="16857" y="19555"/>
                    <a:pt x="15355" y="20437"/>
                    <a:pt x="13456" y="20966"/>
                  </a:cubicBezTo>
                  <a:cubicBezTo>
                    <a:pt x="11557" y="21451"/>
                    <a:pt x="9834" y="21451"/>
                    <a:pt x="7934" y="20966"/>
                  </a:cubicBezTo>
                  <a:cubicBezTo>
                    <a:pt x="6035" y="20437"/>
                    <a:pt x="4533" y="19555"/>
                    <a:pt x="3164" y="18189"/>
                  </a:cubicBezTo>
                  <a:cubicBezTo>
                    <a:pt x="1750" y="16822"/>
                    <a:pt x="867" y="15324"/>
                    <a:pt x="381" y="13428"/>
                  </a:cubicBezTo>
                  <a:cubicBezTo>
                    <a:pt x="-149" y="11533"/>
                    <a:pt x="-105" y="9813"/>
                    <a:pt x="381" y="7918"/>
                  </a:cubicBezTo>
                  <a:cubicBezTo>
                    <a:pt x="911" y="6022"/>
                    <a:pt x="1750" y="4524"/>
                    <a:pt x="3164" y="3157"/>
                  </a:cubicBezTo>
                  <a:cubicBezTo>
                    <a:pt x="4533" y="1791"/>
                    <a:pt x="6035" y="865"/>
                    <a:pt x="7934" y="380"/>
                  </a:cubicBezTo>
                  <a:cubicBezTo>
                    <a:pt x="9834" y="-149"/>
                    <a:pt x="11557" y="-105"/>
                    <a:pt x="13456" y="380"/>
                  </a:cubicBezTo>
                  <a:cubicBezTo>
                    <a:pt x="15355" y="909"/>
                    <a:pt x="16857" y="1791"/>
                    <a:pt x="18226" y="3157"/>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4" name="Shape 1625"/>
            <p:cNvSpPr/>
            <p:nvPr/>
          </p:nvSpPr>
          <p:spPr>
            <a:xfrm>
              <a:off x="10211760" y="5743800"/>
              <a:ext cx="452520" cy="46440"/>
            </a:xfrm>
            <a:custGeom>
              <a:avLst/>
              <a:gdLst>
                <a:gd name="textAreaLeft" fmla="*/ 0 w 452520"/>
                <a:gd name="textAreaRight" fmla="*/ 452880 w 452520"/>
                <a:gd name="textAreaTop" fmla="*/ 0 h 46440"/>
                <a:gd name="textAreaBottom" fmla="*/ 46800 h 46440"/>
              </a:gdLst>
              <a:ahLst/>
              <a:rect l="textAreaLeft" t="textAreaTop" r="textAreaRight" b="textAreaBottom"/>
              <a:pathLst>
                <a:path w="21600" h="21600">
                  <a:moveTo>
                    <a:pt x="20522" y="21600"/>
                  </a:moveTo>
                  <a:lnTo>
                    <a:pt x="1078" y="21600"/>
                  </a:lnTo>
                  <a:cubicBezTo>
                    <a:pt x="431" y="21600"/>
                    <a:pt x="0" y="16848"/>
                    <a:pt x="0" y="10800"/>
                  </a:cubicBezTo>
                  <a:cubicBezTo>
                    <a:pt x="0" y="4320"/>
                    <a:pt x="431" y="0"/>
                    <a:pt x="1078" y="0"/>
                  </a:cubicBezTo>
                  <a:lnTo>
                    <a:pt x="20522" y="0"/>
                  </a:lnTo>
                  <a:cubicBezTo>
                    <a:pt x="21126" y="0"/>
                    <a:pt x="21600" y="4320"/>
                    <a:pt x="21600" y="10800"/>
                  </a:cubicBezTo>
                  <a:cubicBezTo>
                    <a:pt x="21600" y="15984"/>
                    <a:pt x="21126" y="21600"/>
                    <a:pt x="20522" y="21600"/>
                  </a:cubicBezTo>
                </a:path>
              </a:pathLst>
            </a:custGeom>
            <a:solidFill>
              <a:srgbClr val="545454"/>
            </a:solidFill>
            <a:ln w="12700">
              <a:noFill/>
            </a:ln>
          </p:spPr>
          <p:style>
            <a:lnRef idx="0"/>
            <a:fillRef idx="0"/>
            <a:effectRef idx="0"/>
            <a:fontRef idx="minor"/>
          </p:style>
          <p:txBody>
            <a:bodyPr numCol="1" spcCol="0" lIns="45720" rIns="45720" tIns="23400" bIns="234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5" name="Shape 1626"/>
            <p:cNvSpPr/>
            <p:nvPr/>
          </p:nvSpPr>
          <p:spPr>
            <a:xfrm>
              <a:off x="10391040" y="5512680"/>
              <a:ext cx="74520" cy="74520"/>
            </a:xfrm>
            <a:custGeom>
              <a:avLst/>
              <a:gdLst>
                <a:gd name="textAreaLeft" fmla="*/ 0 w 74520"/>
                <a:gd name="textAreaRight" fmla="*/ 74880 w 74520"/>
                <a:gd name="textAreaTop" fmla="*/ 0 h 74520"/>
                <a:gd name="textAreaBottom" fmla="*/ 74880 h 74520"/>
              </a:gdLst>
              <a:ahLst/>
              <a:rect l="textAreaLeft" t="textAreaTop" r="textAreaRight" b="textAreaBottom"/>
              <a:pathLst>
                <a:path w="21600" h="21600">
                  <a:moveTo>
                    <a:pt x="21600" y="10930"/>
                  </a:moveTo>
                  <a:cubicBezTo>
                    <a:pt x="21600" y="12752"/>
                    <a:pt x="21086" y="14573"/>
                    <a:pt x="20057" y="16395"/>
                  </a:cubicBezTo>
                  <a:cubicBezTo>
                    <a:pt x="19029" y="17957"/>
                    <a:pt x="18000" y="19258"/>
                    <a:pt x="16200" y="20299"/>
                  </a:cubicBezTo>
                  <a:cubicBezTo>
                    <a:pt x="14400" y="21340"/>
                    <a:pt x="12857" y="21600"/>
                    <a:pt x="10800" y="21600"/>
                  </a:cubicBezTo>
                  <a:cubicBezTo>
                    <a:pt x="8743" y="21600"/>
                    <a:pt x="7200" y="21340"/>
                    <a:pt x="5400" y="20299"/>
                  </a:cubicBezTo>
                  <a:cubicBezTo>
                    <a:pt x="3600" y="19258"/>
                    <a:pt x="2314" y="17957"/>
                    <a:pt x="1543" y="16395"/>
                  </a:cubicBezTo>
                  <a:cubicBezTo>
                    <a:pt x="514" y="14573"/>
                    <a:pt x="0" y="12752"/>
                    <a:pt x="0" y="10930"/>
                  </a:cubicBezTo>
                  <a:cubicBezTo>
                    <a:pt x="0" y="8848"/>
                    <a:pt x="514" y="7027"/>
                    <a:pt x="1543" y="5465"/>
                  </a:cubicBezTo>
                  <a:cubicBezTo>
                    <a:pt x="2314" y="3643"/>
                    <a:pt x="3600" y="2342"/>
                    <a:pt x="5400" y="1301"/>
                  </a:cubicBezTo>
                  <a:cubicBezTo>
                    <a:pt x="7200" y="260"/>
                    <a:pt x="8743" y="0"/>
                    <a:pt x="10800" y="0"/>
                  </a:cubicBezTo>
                  <a:cubicBezTo>
                    <a:pt x="12857" y="0"/>
                    <a:pt x="14400" y="260"/>
                    <a:pt x="16200" y="1301"/>
                  </a:cubicBezTo>
                  <a:cubicBezTo>
                    <a:pt x="18000" y="2342"/>
                    <a:pt x="19029" y="3643"/>
                    <a:pt x="20057" y="5465"/>
                  </a:cubicBezTo>
                  <a:cubicBezTo>
                    <a:pt x="21086" y="7027"/>
                    <a:pt x="21600" y="8848"/>
                    <a:pt x="21600" y="10930"/>
                  </a:cubicBezTo>
                </a:path>
              </a:pathLst>
            </a:custGeom>
            <a:solidFill>
              <a:srgbClr val="545454"/>
            </a:solidFill>
            <a:ln w="12700">
              <a:noFill/>
            </a:ln>
          </p:spPr>
          <p:style>
            <a:lnRef idx="0"/>
            <a:fillRef idx="0"/>
            <a:effectRef idx="0"/>
            <a:fontRef idx="minor"/>
          </p:style>
          <p:txBody>
            <a:bodyPr numCol="1" spcCol="0" lIns="45720" rIns="45720" tIns="37440" bIns="3744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6" name="Shape 1627"/>
            <p:cNvSpPr/>
            <p:nvPr/>
          </p:nvSpPr>
          <p:spPr>
            <a:xfrm>
              <a:off x="9897840" y="5712480"/>
              <a:ext cx="104760" cy="105120"/>
            </a:xfrm>
            <a:custGeom>
              <a:avLst/>
              <a:gdLst>
                <a:gd name="textAreaLeft" fmla="*/ 0 w 104760"/>
                <a:gd name="textAreaRight" fmla="*/ 105120 w 104760"/>
                <a:gd name="textAreaTop" fmla="*/ 0 h 105120"/>
                <a:gd name="textAreaBottom" fmla="*/ 105480 h 105120"/>
              </a:gdLst>
              <a:ahLst/>
              <a:rect l="textAreaLeft" t="textAreaTop" r="textAreaRight" b="textAreaBottom"/>
              <a:pathLst>
                <a:path w="21328" h="21346">
                  <a:moveTo>
                    <a:pt x="11481" y="64"/>
                  </a:moveTo>
                  <a:cubicBezTo>
                    <a:pt x="13296" y="64"/>
                    <a:pt x="14930" y="608"/>
                    <a:pt x="16563" y="1879"/>
                  </a:cubicBezTo>
                  <a:cubicBezTo>
                    <a:pt x="18197" y="2968"/>
                    <a:pt x="19286" y="4057"/>
                    <a:pt x="20193" y="5872"/>
                  </a:cubicBezTo>
                  <a:cubicBezTo>
                    <a:pt x="21101" y="7506"/>
                    <a:pt x="21464" y="9321"/>
                    <a:pt x="21282" y="11317"/>
                  </a:cubicBezTo>
                  <a:cubicBezTo>
                    <a:pt x="21101" y="13132"/>
                    <a:pt x="20556" y="14948"/>
                    <a:pt x="19467" y="16581"/>
                  </a:cubicBezTo>
                  <a:cubicBezTo>
                    <a:pt x="18378" y="18215"/>
                    <a:pt x="17108" y="19304"/>
                    <a:pt x="15293" y="20211"/>
                  </a:cubicBezTo>
                  <a:cubicBezTo>
                    <a:pt x="13477" y="21119"/>
                    <a:pt x="11844" y="21482"/>
                    <a:pt x="9847" y="21300"/>
                  </a:cubicBezTo>
                  <a:cubicBezTo>
                    <a:pt x="7851" y="21119"/>
                    <a:pt x="6217" y="20574"/>
                    <a:pt x="4583" y="19485"/>
                  </a:cubicBezTo>
                  <a:cubicBezTo>
                    <a:pt x="2950" y="18396"/>
                    <a:pt x="1861" y="17126"/>
                    <a:pt x="1135" y="15311"/>
                  </a:cubicBezTo>
                  <a:cubicBezTo>
                    <a:pt x="227" y="13495"/>
                    <a:pt x="-136" y="11862"/>
                    <a:pt x="46" y="9865"/>
                  </a:cubicBezTo>
                  <a:cubicBezTo>
                    <a:pt x="227" y="7869"/>
                    <a:pt x="772" y="6235"/>
                    <a:pt x="1861" y="4601"/>
                  </a:cubicBezTo>
                  <a:cubicBezTo>
                    <a:pt x="2950" y="2968"/>
                    <a:pt x="4220" y="1697"/>
                    <a:pt x="6035" y="971"/>
                  </a:cubicBezTo>
                  <a:cubicBezTo>
                    <a:pt x="7669" y="64"/>
                    <a:pt x="9484" y="-118"/>
                    <a:pt x="11481" y="64"/>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7" name="Shape 1628"/>
            <p:cNvSpPr/>
            <p:nvPr/>
          </p:nvSpPr>
          <p:spPr>
            <a:xfrm>
              <a:off x="9909720" y="5728320"/>
              <a:ext cx="77040" cy="77040"/>
            </a:xfrm>
            <a:custGeom>
              <a:avLst/>
              <a:gdLst>
                <a:gd name="textAreaLeft" fmla="*/ 0 w 77040"/>
                <a:gd name="textAreaRight" fmla="*/ 77400 w 77040"/>
                <a:gd name="textAreaTop" fmla="*/ 0 h 77040"/>
                <a:gd name="textAreaBottom" fmla="*/ 77400 h 77040"/>
              </a:gdLst>
              <a:ahLst/>
              <a:rect l="textAreaLeft" t="textAreaTop" r="textAreaRight" b="textAreaBottom"/>
              <a:pathLst>
                <a:path w="21282" h="21282">
                  <a:moveTo>
                    <a:pt x="17121" y="2128"/>
                  </a:moveTo>
                  <a:cubicBezTo>
                    <a:pt x="18646" y="3399"/>
                    <a:pt x="19662" y="4669"/>
                    <a:pt x="20425" y="6448"/>
                  </a:cubicBezTo>
                  <a:cubicBezTo>
                    <a:pt x="21187" y="8227"/>
                    <a:pt x="21441" y="10006"/>
                    <a:pt x="21187" y="12039"/>
                  </a:cubicBezTo>
                  <a:cubicBezTo>
                    <a:pt x="20933" y="13817"/>
                    <a:pt x="20170" y="15342"/>
                    <a:pt x="19154" y="17121"/>
                  </a:cubicBezTo>
                  <a:cubicBezTo>
                    <a:pt x="17883" y="18646"/>
                    <a:pt x="16613" y="19662"/>
                    <a:pt x="14834" y="20425"/>
                  </a:cubicBezTo>
                  <a:cubicBezTo>
                    <a:pt x="13055" y="21187"/>
                    <a:pt x="11276" y="21441"/>
                    <a:pt x="9497" y="21187"/>
                  </a:cubicBezTo>
                  <a:cubicBezTo>
                    <a:pt x="7465" y="20933"/>
                    <a:pt x="5686" y="20170"/>
                    <a:pt x="4161" y="19154"/>
                  </a:cubicBezTo>
                  <a:cubicBezTo>
                    <a:pt x="2382" y="17883"/>
                    <a:pt x="1620" y="16613"/>
                    <a:pt x="857" y="14834"/>
                  </a:cubicBezTo>
                  <a:cubicBezTo>
                    <a:pt x="95" y="12801"/>
                    <a:pt x="-159" y="11276"/>
                    <a:pt x="95" y="9243"/>
                  </a:cubicBezTo>
                  <a:cubicBezTo>
                    <a:pt x="349" y="7210"/>
                    <a:pt x="857" y="5686"/>
                    <a:pt x="2128" y="4161"/>
                  </a:cubicBezTo>
                  <a:cubicBezTo>
                    <a:pt x="3145" y="2636"/>
                    <a:pt x="4669" y="1620"/>
                    <a:pt x="6702" y="857"/>
                  </a:cubicBezTo>
                  <a:cubicBezTo>
                    <a:pt x="8481" y="95"/>
                    <a:pt x="10006" y="-159"/>
                    <a:pt x="12039" y="95"/>
                  </a:cubicBezTo>
                  <a:cubicBezTo>
                    <a:pt x="14072" y="349"/>
                    <a:pt x="15596" y="857"/>
                    <a:pt x="17121" y="2128"/>
                  </a:cubicBezTo>
                </a:path>
              </a:pathLst>
            </a:custGeom>
            <a:solidFill>
              <a:srgbClr val="7f7f7f"/>
            </a:solidFill>
            <a:ln w="12700">
              <a:noFill/>
            </a:ln>
          </p:spPr>
          <p:style>
            <a:lnRef idx="0"/>
            <a:fillRef idx="0"/>
            <a:effectRef idx="0"/>
            <a:fontRef idx="minor"/>
          </p:style>
          <p:txBody>
            <a:bodyPr numCol="1" spcCol="0" lIns="45720" rIns="45720" tIns="38520" bIns="385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58" name="Shape 1629"/>
            <p:cNvSpPr/>
            <p:nvPr/>
          </p:nvSpPr>
          <p:spPr>
            <a:xfrm>
              <a:off x="9929160" y="5743800"/>
              <a:ext cx="42480" cy="42480"/>
            </a:xfrm>
            <a:custGeom>
              <a:avLst/>
              <a:gdLst>
                <a:gd name="textAreaLeft" fmla="*/ 0 w 42480"/>
                <a:gd name="textAreaRight" fmla="*/ 42840 w 42480"/>
                <a:gd name="textAreaTop" fmla="*/ 0 h 42480"/>
                <a:gd name="textAreaBottom" fmla="*/ 42840 h 42480"/>
              </a:gdLst>
              <a:ahLst/>
              <a:rect l="textAreaLeft" t="textAreaTop" r="textAreaRight" b="textAreaBottom"/>
              <a:pathLst>
                <a:path w="21600" h="21600">
                  <a:moveTo>
                    <a:pt x="20191" y="4696"/>
                  </a:moveTo>
                  <a:cubicBezTo>
                    <a:pt x="21130" y="6574"/>
                    <a:pt x="21130" y="8452"/>
                    <a:pt x="21600" y="10330"/>
                  </a:cubicBezTo>
                  <a:cubicBezTo>
                    <a:pt x="21600" y="12209"/>
                    <a:pt x="21600" y="13617"/>
                    <a:pt x="20661" y="15496"/>
                  </a:cubicBezTo>
                  <a:cubicBezTo>
                    <a:pt x="19722" y="16904"/>
                    <a:pt x="18313" y="18313"/>
                    <a:pt x="16904" y="19722"/>
                  </a:cubicBezTo>
                  <a:cubicBezTo>
                    <a:pt x="15026" y="20661"/>
                    <a:pt x="13617" y="21600"/>
                    <a:pt x="11270" y="21600"/>
                  </a:cubicBezTo>
                  <a:cubicBezTo>
                    <a:pt x="9391" y="21600"/>
                    <a:pt x="7983" y="21130"/>
                    <a:pt x="6104" y="20191"/>
                  </a:cubicBezTo>
                  <a:cubicBezTo>
                    <a:pt x="4226" y="19252"/>
                    <a:pt x="2817" y="17843"/>
                    <a:pt x="1878" y="16435"/>
                  </a:cubicBezTo>
                  <a:cubicBezTo>
                    <a:pt x="939" y="14557"/>
                    <a:pt x="470" y="13148"/>
                    <a:pt x="0" y="11270"/>
                  </a:cubicBezTo>
                  <a:cubicBezTo>
                    <a:pt x="0" y="8922"/>
                    <a:pt x="470" y="7513"/>
                    <a:pt x="1409" y="5635"/>
                  </a:cubicBezTo>
                  <a:cubicBezTo>
                    <a:pt x="2348" y="3757"/>
                    <a:pt x="3287" y="2348"/>
                    <a:pt x="5165" y="1409"/>
                  </a:cubicBezTo>
                  <a:cubicBezTo>
                    <a:pt x="7043" y="0"/>
                    <a:pt x="8452" y="0"/>
                    <a:pt x="10330" y="0"/>
                  </a:cubicBezTo>
                  <a:cubicBezTo>
                    <a:pt x="12678" y="0"/>
                    <a:pt x="14087" y="0"/>
                    <a:pt x="15965" y="939"/>
                  </a:cubicBezTo>
                  <a:cubicBezTo>
                    <a:pt x="17843" y="1878"/>
                    <a:pt x="19252" y="3287"/>
                    <a:pt x="20191" y="4696"/>
                  </a:cubicBezTo>
                </a:path>
              </a:pathLst>
            </a:custGeom>
            <a:solidFill>
              <a:srgbClr val="545454"/>
            </a:solidFill>
            <a:ln w="12700">
              <a:noFill/>
            </a:ln>
          </p:spPr>
          <p:style>
            <a:lnRef idx="0"/>
            <a:fillRef idx="0"/>
            <a:effectRef idx="0"/>
            <a:fontRef idx="minor"/>
          </p:style>
          <p:txBody>
            <a:bodyPr numCol="1" spcCol="0" lIns="45720" rIns="45720" tIns="21240" bIns="2124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659" name="Shape 1633"/>
          <p:cNvSpPr/>
          <p:nvPr/>
        </p:nvSpPr>
        <p:spPr>
          <a:xfrm>
            <a:off x="13211640" y="480564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660" name="Shape 1634"/>
          <p:cNvSpPr/>
          <p:nvPr/>
        </p:nvSpPr>
        <p:spPr>
          <a:xfrm>
            <a:off x="15828120" y="5373720"/>
            <a:ext cx="652860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lores etoa jam rebum. Stetom clita kuasd gurgren, nosotra seao. </a:t>
            </a:r>
            <a:endParaRPr b="0" lang="en-US" sz="3000" spc="-1" strike="noStrike">
              <a:solidFill>
                <a:srgbClr val="000000"/>
              </a:solidFill>
              <a:latin typeface="Arial"/>
            </a:endParaRPr>
          </a:p>
        </p:txBody>
      </p:sp>
      <p:sp>
        <p:nvSpPr>
          <p:cNvPr id="4661" name="Shape 1636"/>
          <p:cNvSpPr/>
          <p:nvPr/>
        </p:nvSpPr>
        <p:spPr>
          <a:xfrm>
            <a:off x="13211640" y="745848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662" name="Shape 1637"/>
          <p:cNvSpPr/>
          <p:nvPr/>
        </p:nvSpPr>
        <p:spPr>
          <a:xfrm>
            <a:off x="15828120" y="8050320"/>
            <a:ext cx="652860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Clita kuasd gubergren, nosot seao. </a:t>
            </a:r>
            <a:endParaRPr b="0" lang="en-US" sz="3000" spc="-1" strike="noStrike">
              <a:solidFill>
                <a:srgbClr val="000000"/>
              </a:solidFill>
              <a:latin typeface="Arial"/>
            </a:endParaRPr>
          </a:p>
        </p:txBody>
      </p:sp>
      <p:sp>
        <p:nvSpPr>
          <p:cNvPr id="4663" name="Shape 1638"/>
          <p:cNvSpPr/>
          <p:nvPr/>
        </p:nvSpPr>
        <p:spPr>
          <a:xfrm>
            <a:off x="15828120" y="728856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IPHONE MOCKUP</a:t>
            </a:r>
            <a:endParaRPr b="0" lang="en-US" sz="3000" spc="-1" strike="noStrike">
              <a:solidFill>
                <a:srgbClr val="000000"/>
              </a:solidFill>
              <a:latin typeface="Arial"/>
            </a:endParaRPr>
          </a:p>
        </p:txBody>
      </p:sp>
      <p:sp>
        <p:nvSpPr>
          <p:cNvPr id="4664" name="Shape 1639"/>
          <p:cNvSpPr/>
          <p:nvPr/>
        </p:nvSpPr>
        <p:spPr>
          <a:xfrm>
            <a:off x="13211640" y="10111320"/>
            <a:ext cx="1523520" cy="152352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665" name="Shape 1640"/>
          <p:cNvSpPr/>
          <p:nvPr/>
        </p:nvSpPr>
        <p:spPr>
          <a:xfrm>
            <a:off x="15828120" y="10727280"/>
            <a:ext cx="652860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Etoa jam rebum. Steto clita kuasd gubergren, nosotra seao morada.. </a:t>
            </a:r>
            <a:endParaRPr b="0" lang="en-US" sz="3000" spc="-1" strike="noStrike">
              <a:solidFill>
                <a:srgbClr val="000000"/>
              </a:solidFill>
              <a:latin typeface="Arial"/>
            </a:endParaRPr>
          </a:p>
        </p:txBody>
      </p:sp>
      <p:sp>
        <p:nvSpPr>
          <p:cNvPr id="4666" name="Shape 1641"/>
          <p:cNvSpPr/>
          <p:nvPr/>
        </p:nvSpPr>
        <p:spPr>
          <a:xfrm>
            <a:off x="15828120" y="9965160"/>
            <a:ext cx="652860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CBOOK MOCKUP</a:t>
            </a:r>
            <a:endParaRPr b="0" lang="en-US" sz="3000" spc="-1" strike="noStrike">
              <a:solidFill>
                <a:srgbClr val="000000"/>
              </a:solidFill>
              <a:latin typeface="Arial"/>
            </a:endParaRPr>
          </a:p>
        </p:txBody>
      </p:sp>
      <p:sp>
        <p:nvSpPr>
          <p:cNvPr id="4667" name="Shape 1642"/>
          <p:cNvSpPr/>
          <p:nvPr/>
        </p:nvSpPr>
        <p:spPr>
          <a:xfrm>
            <a:off x="13211640" y="1799640"/>
            <a:ext cx="914472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ake Creative Things</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with the Devices Mockups</a:t>
            </a:r>
            <a:endParaRPr b="0" lang="en-US" sz="4800" spc="-1" strike="noStrike">
              <a:solidFill>
                <a:srgbClr val="000000"/>
              </a:solidFill>
              <a:latin typeface="Arial"/>
            </a:endParaRPr>
          </a:p>
        </p:txBody>
      </p:sp>
      <p:sp>
        <p:nvSpPr>
          <p:cNvPr id="4668" name="Shape 1643"/>
          <p:cNvSpPr/>
          <p:nvPr/>
        </p:nvSpPr>
        <p:spPr>
          <a:xfrm>
            <a:off x="13492800" y="10380960"/>
            <a:ext cx="961560" cy="96156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669" name="Shape 1644"/>
          <p:cNvSpPr/>
          <p:nvPr/>
        </p:nvSpPr>
        <p:spPr>
          <a:xfrm>
            <a:off x="13567320" y="51865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670" name="Shape 1645"/>
          <p:cNvSpPr/>
          <p:nvPr/>
        </p:nvSpPr>
        <p:spPr>
          <a:xfrm>
            <a:off x="13567320" y="781416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1" name="Shape 1651"/>
          <p:cNvSpPr/>
          <p:nvPr/>
        </p:nvSpPr>
        <p:spPr>
          <a:xfrm>
            <a:off x="2035080" y="1708200"/>
            <a:ext cx="914184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This is</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clean</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Design</a:t>
            </a:r>
            <a:endParaRPr b="0" lang="en-US" sz="11200" spc="-1" strike="noStrike">
              <a:solidFill>
                <a:srgbClr val="000000"/>
              </a:solidFill>
              <a:latin typeface="Arial"/>
            </a:endParaRPr>
          </a:p>
        </p:txBody>
      </p:sp>
      <p:sp>
        <p:nvSpPr>
          <p:cNvPr id="4672" name="Shape 1652"/>
          <p:cNvSpPr/>
          <p:nvPr/>
        </p:nvSpPr>
        <p:spPr>
          <a:xfrm>
            <a:off x="13211640" y="1799640"/>
            <a:ext cx="914472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4673" name="Shape 1653"/>
          <p:cNvSpPr/>
          <p:nvPr/>
        </p:nvSpPr>
        <p:spPr>
          <a:xfrm>
            <a:off x="13211640" y="4445640"/>
            <a:ext cx="9144720" cy="31759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674" name="Group 1670"/>
          <p:cNvGrpSpPr/>
          <p:nvPr/>
        </p:nvGrpSpPr>
        <p:grpSpPr>
          <a:xfrm>
            <a:off x="15488280" y="2033640"/>
            <a:ext cx="6837480" cy="9648720"/>
            <a:chOff x="15488280" y="2033640"/>
            <a:chExt cx="6837480" cy="9648720"/>
          </a:xfrm>
        </p:grpSpPr>
        <p:sp>
          <p:nvSpPr>
            <p:cNvPr id="4675" name="Shape 1655"/>
            <p:cNvSpPr/>
            <p:nvPr/>
          </p:nvSpPr>
          <p:spPr>
            <a:xfrm>
              <a:off x="15488280" y="2033640"/>
              <a:ext cx="6837480" cy="9648720"/>
            </a:xfrm>
            <a:custGeom>
              <a:avLst/>
              <a:gdLst>
                <a:gd name="textAreaLeft" fmla="*/ 0 w 6837480"/>
                <a:gd name="textAreaRight" fmla="*/ 6837840 w 6837480"/>
                <a:gd name="textAreaTop" fmla="*/ 0 h 9648720"/>
                <a:gd name="textAreaBottom" fmla="*/ 9649080 h 964872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6" name="Shape 1656"/>
            <p:cNvSpPr/>
            <p:nvPr/>
          </p:nvSpPr>
          <p:spPr>
            <a:xfrm>
              <a:off x="15529680" y="2079720"/>
              <a:ext cx="6750000" cy="9561240"/>
            </a:xfrm>
            <a:custGeom>
              <a:avLst/>
              <a:gdLst>
                <a:gd name="textAreaLeft" fmla="*/ 0 w 6750000"/>
                <a:gd name="textAreaRight" fmla="*/ 6750360 w 6750000"/>
                <a:gd name="textAreaTop" fmla="*/ 0 h 9561240"/>
                <a:gd name="textAreaBottom" fmla="*/ 9561600 h 956124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7" name="Shape 1657"/>
            <p:cNvSpPr/>
            <p:nvPr/>
          </p:nvSpPr>
          <p:spPr>
            <a:xfrm>
              <a:off x="15879960" y="2849040"/>
              <a:ext cx="6049440" cy="8021880"/>
            </a:xfrm>
            <a:custGeom>
              <a:avLst/>
              <a:gdLst>
                <a:gd name="textAreaLeft" fmla="*/ 0 w 6049440"/>
                <a:gd name="textAreaRight" fmla="*/ 6049800 w 6049440"/>
                <a:gd name="textAreaTop" fmla="*/ 0 h 8021880"/>
                <a:gd name="textAreaBottom" fmla="*/ 8022240 h 802188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8" name="Shape 1658"/>
            <p:cNvSpPr/>
            <p:nvPr/>
          </p:nvSpPr>
          <p:spPr>
            <a:xfrm>
              <a:off x="15903000" y="2867760"/>
              <a:ext cx="6008040" cy="7980480"/>
            </a:xfrm>
            <a:custGeom>
              <a:avLst/>
              <a:gdLst>
                <a:gd name="textAreaLeft" fmla="*/ 0 w 6008040"/>
                <a:gd name="textAreaRight" fmla="*/ 6008400 w 6008040"/>
                <a:gd name="textAreaTop" fmla="*/ 0 h 7980480"/>
                <a:gd name="textAreaBottom" fmla="*/ 7980840 h 79804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79" name="Shape 1659"/>
            <p:cNvSpPr/>
            <p:nvPr/>
          </p:nvSpPr>
          <p:spPr>
            <a:xfrm>
              <a:off x="18853200" y="2415960"/>
              <a:ext cx="108360" cy="108360"/>
            </a:xfrm>
            <a:custGeom>
              <a:avLst/>
              <a:gdLst>
                <a:gd name="textAreaLeft" fmla="*/ 0 w 108360"/>
                <a:gd name="textAreaRight" fmla="*/ 108720 w 108360"/>
                <a:gd name="textAreaTop" fmla="*/ 0 h 108360"/>
                <a:gd name="textAreaBottom" fmla="*/ 108720 h 10836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0" name="Shape 1660"/>
            <p:cNvSpPr/>
            <p:nvPr/>
          </p:nvSpPr>
          <p:spPr>
            <a:xfrm>
              <a:off x="18866880" y="2430360"/>
              <a:ext cx="80280" cy="80280"/>
            </a:xfrm>
            <a:custGeom>
              <a:avLst/>
              <a:gdLst>
                <a:gd name="textAreaLeft" fmla="*/ 0 w 80280"/>
                <a:gd name="textAreaRight" fmla="*/ 80640 w 80280"/>
                <a:gd name="textAreaTop" fmla="*/ 0 h 80280"/>
                <a:gd name="textAreaBottom" fmla="*/ 80640 h 8028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1" name="Shape 1661"/>
            <p:cNvSpPr/>
            <p:nvPr/>
          </p:nvSpPr>
          <p:spPr>
            <a:xfrm>
              <a:off x="18884520" y="24483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2" name="Shape 1662"/>
            <p:cNvSpPr/>
            <p:nvPr/>
          </p:nvSpPr>
          <p:spPr>
            <a:xfrm>
              <a:off x="18689400" y="11078280"/>
              <a:ext cx="421200" cy="421920"/>
            </a:xfrm>
            <a:custGeom>
              <a:avLst/>
              <a:gdLst>
                <a:gd name="textAreaLeft" fmla="*/ 0 w 421200"/>
                <a:gd name="textAreaRight" fmla="*/ 421560 w 421200"/>
                <a:gd name="textAreaTop" fmla="*/ 0 h 421920"/>
                <a:gd name="textAreaBottom" fmla="*/ 422280 h 42192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3" name="Shape 1663"/>
            <p:cNvSpPr/>
            <p:nvPr/>
          </p:nvSpPr>
          <p:spPr>
            <a:xfrm>
              <a:off x="18686520" y="11081880"/>
              <a:ext cx="201240" cy="217800"/>
            </a:xfrm>
            <a:custGeom>
              <a:avLst/>
              <a:gdLst>
                <a:gd name="textAreaLeft" fmla="*/ 0 w 201240"/>
                <a:gd name="textAreaRight" fmla="*/ 201600 w 201240"/>
                <a:gd name="textAreaTop" fmla="*/ 0 h 217800"/>
                <a:gd name="textAreaBottom" fmla="*/ 218160 h 21780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4" name="Shape 1664"/>
            <p:cNvSpPr/>
            <p:nvPr/>
          </p:nvSpPr>
          <p:spPr>
            <a:xfrm>
              <a:off x="18723240" y="1108224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5" name="Shape 1665"/>
            <p:cNvSpPr/>
            <p:nvPr/>
          </p:nvSpPr>
          <p:spPr>
            <a:xfrm>
              <a:off x="18801720" y="11082600"/>
              <a:ext cx="284400" cy="212400"/>
            </a:xfrm>
            <a:custGeom>
              <a:avLst/>
              <a:gdLst>
                <a:gd name="textAreaLeft" fmla="*/ 0 w 284400"/>
                <a:gd name="textAreaRight" fmla="*/ 284760 w 284400"/>
                <a:gd name="textAreaTop" fmla="*/ 0 h 212400"/>
                <a:gd name="textAreaBottom" fmla="*/ 212760 h 21240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6" name="Shape 1666"/>
            <p:cNvSpPr/>
            <p:nvPr/>
          </p:nvSpPr>
          <p:spPr>
            <a:xfrm>
              <a:off x="18912240" y="11282760"/>
              <a:ext cx="196920" cy="219960"/>
            </a:xfrm>
            <a:custGeom>
              <a:avLst/>
              <a:gdLst>
                <a:gd name="textAreaLeft" fmla="*/ 0 w 196920"/>
                <a:gd name="textAreaRight" fmla="*/ 197280 w 196920"/>
                <a:gd name="textAreaTop" fmla="*/ 0 h 219960"/>
                <a:gd name="textAreaBottom" fmla="*/ 220320 h 21996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7" name="Shape 1667"/>
            <p:cNvSpPr/>
            <p:nvPr/>
          </p:nvSpPr>
          <p:spPr>
            <a:xfrm>
              <a:off x="18778680" y="1128708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8" name="Shape 1668"/>
            <p:cNvSpPr/>
            <p:nvPr/>
          </p:nvSpPr>
          <p:spPr>
            <a:xfrm>
              <a:off x="18709560" y="11287080"/>
              <a:ext cx="284400" cy="212040"/>
            </a:xfrm>
            <a:custGeom>
              <a:avLst/>
              <a:gdLst>
                <a:gd name="textAreaLeft" fmla="*/ 0 w 284400"/>
                <a:gd name="textAreaRight" fmla="*/ 284760 w 284400"/>
                <a:gd name="textAreaTop" fmla="*/ 0 h 212040"/>
                <a:gd name="textAreaBottom" fmla="*/ 212400 h 21204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689" name="Shape 1669"/>
            <p:cNvSpPr/>
            <p:nvPr/>
          </p:nvSpPr>
          <p:spPr>
            <a:xfrm>
              <a:off x="18713520" y="11103480"/>
              <a:ext cx="372240" cy="371520"/>
            </a:xfrm>
            <a:custGeom>
              <a:avLst/>
              <a:gdLst>
                <a:gd name="textAreaLeft" fmla="*/ 0 w 372240"/>
                <a:gd name="textAreaRight" fmla="*/ 372600 w 372240"/>
                <a:gd name="textAreaTop" fmla="*/ 0 h 371520"/>
                <a:gd name="textAreaBottom" fmla="*/ 371880 h 37152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690" name="Shape 1672"/>
          <p:cNvSpPr/>
          <p:nvPr/>
        </p:nvSpPr>
        <p:spPr>
          <a:xfrm>
            <a:off x="2035080" y="1708200"/>
            <a:ext cx="9141840" cy="3773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Design</a:t>
            </a:r>
            <a:endParaRPr b="0" lang="en-US" sz="11200" spc="-1" strike="noStrike">
              <a:solidFill>
                <a:srgbClr val="000000"/>
              </a:solidFill>
              <a:latin typeface="Arial"/>
            </a:endParaRPr>
          </a:p>
        </p:txBody>
      </p:sp>
      <p:sp>
        <p:nvSpPr>
          <p:cNvPr id="4691" name="Shape 1673"/>
          <p:cNvSpPr/>
          <p:nvPr/>
        </p:nvSpPr>
        <p:spPr>
          <a:xfrm>
            <a:off x="2032200" y="10152000"/>
            <a:ext cx="9144720" cy="2027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oma.</a:t>
            </a:r>
            <a:endParaRPr b="0" lang="en-US" sz="3000" spc="-1" strike="noStrike">
              <a:solidFill>
                <a:srgbClr val="000000"/>
              </a:solidFill>
              <a:latin typeface="Arial"/>
            </a:endParaRPr>
          </a:p>
        </p:txBody>
      </p:sp>
      <p:sp>
        <p:nvSpPr>
          <p:cNvPr id="4692" name="Shape 1674"/>
          <p:cNvSpPr/>
          <p:nvPr/>
        </p:nvSpPr>
        <p:spPr>
          <a:xfrm>
            <a:off x="2035080" y="798048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693" name="Shape 1675"/>
          <p:cNvSpPr/>
          <p:nvPr/>
        </p:nvSpPr>
        <p:spPr>
          <a:xfrm>
            <a:off x="2035080" y="718956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694" name="Shape 1676"/>
          <p:cNvSpPr/>
          <p:nvPr/>
        </p:nvSpPr>
        <p:spPr>
          <a:xfrm>
            <a:off x="2035080" y="6022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695" name="Shape 1677"/>
          <p:cNvSpPr/>
          <p:nvPr/>
        </p:nvSpPr>
        <p:spPr>
          <a:xfrm>
            <a:off x="6235920" y="6022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696" name="Shape 1678"/>
          <p:cNvSpPr/>
          <p:nvPr/>
        </p:nvSpPr>
        <p:spPr>
          <a:xfrm>
            <a:off x="6224040" y="798048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697" name="Shape 1679"/>
          <p:cNvSpPr/>
          <p:nvPr/>
        </p:nvSpPr>
        <p:spPr>
          <a:xfrm>
            <a:off x="6224040" y="718956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ESH</a:t>
            </a:r>
            <a:endParaRPr b="0" lang="en-US" sz="3000" spc="-1" strike="noStrike">
              <a:solidFill>
                <a:srgbClr val="000000"/>
              </a:solidFill>
              <a:latin typeface="Arial"/>
            </a:endParaRPr>
          </a:p>
        </p:txBody>
      </p:sp>
      <p:sp>
        <p:nvSpPr>
          <p:cNvPr id="4698" name="Shape 1680"/>
          <p:cNvSpPr/>
          <p:nvPr/>
        </p:nvSpPr>
        <p:spPr>
          <a:xfrm>
            <a:off x="10436760" y="602280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699" name="Shape 1681"/>
          <p:cNvSpPr/>
          <p:nvPr/>
        </p:nvSpPr>
        <p:spPr>
          <a:xfrm>
            <a:off x="10413000" y="798048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00" name="Shape 1682"/>
          <p:cNvSpPr/>
          <p:nvPr/>
        </p:nvSpPr>
        <p:spPr>
          <a:xfrm>
            <a:off x="10413000" y="718956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ODE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1" name="PlaceHolder 1"/>
          <p:cNvSpPr>
            <a:spLocks noGrp="1"/>
          </p:cNvSpPr>
          <p:nvPr>
            <p:ph type="title"/>
          </p:nvPr>
        </p:nvSpPr>
        <p:spPr>
          <a:xfrm>
            <a:off x="2035080" y="1708200"/>
            <a:ext cx="9141840" cy="377388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Be</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Design</a:t>
            </a:r>
            <a:endParaRPr b="0" lang="en-US" sz="11200" spc="-1" strike="noStrike">
              <a:solidFill>
                <a:srgbClr val="009193"/>
              </a:solidFill>
              <a:latin typeface="Helvetica Light"/>
            </a:endParaRPr>
          </a:p>
        </p:txBody>
      </p:sp>
      <p:sp>
        <p:nvSpPr>
          <p:cNvPr id="4702" name="Shape 1685"/>
          <p:cNvSpPr/>
          <p:nvPr/>
        </p:nvSpPr>
        <p:spPr>
          <a:xfrm>
            <a:off x="203040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03" name="Shape 1686"/>
          <p:cNvSpPr/>
          <p:nvPr/>
        </p:nvSpPr>
        <p:spPr>
          <a:xfrm>
            <a:off x="203040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704" name="Shape 1687"/>
          <p:cNvSpPr/>
          <p:nvPr/>
        </p:nvSpPr>
        <p:spPr>
          <a:xfrm>
            <a:off x="203040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05" name="Shape 1688"/>
          <p:cNvSpPr/>
          <p:nvPr/>
        </p:nvSpPr>
        <p:spPr>
          <a:xfrm>
            <a:off x="623124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06" name="Shape 1689"/>
          <p:cNvSpPr/>
          <p:nvPr/>
        </p:nvSpPr>
        <p:spPr>
          <a:xfrm>
            <a:off x="1043208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07" name="Shape 1690"/>
          <p:cNvSpPr/>
          <p:nvPr/>
        </p:nvSpPr>
        <p:spPr>
          <a:xfrm>
            <a:off x="621936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08" name="Shape 1691"/>
          <p:cNvSpPr/>
          <p:nvPr/>
        </p:nvSpPr>
        <p:spPr>
          <a:xfrm>
            <a:off x="621936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ESH</a:t>
            </a:r>
            <a:endParaRPr b="0" lang="en-US" sz="3000" spc="-1" strike="noStrike">
              <a:solidFill>
                <a:srgbClr val="000000"/>
              </a:solidFill>
              <a:latin typeface="Arial"/>
            </a:endParaRPr>
          </a:p>
        </p:txBody>
      </p:sp>
      <p:sp>
        <p:nvSpPr>
          <p:cNvPr id="4709" name="Shape 1692"/>
          <p:cNvSpPr/>
          <p:nvPr/>
        </p:nvSpPr>
        <p:spPr>
          <a:xfrm>
            <a:off x="1040832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10" name="Shape 1693"/>
          <p:cNvSpPr/>
          <p:nvPr/>
        </p:nvSpPr>
        <p:spPr>
          <a:xfrm>
            <a:off x="1040832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ODERN</a:t>
            </a:r>
            <a:endParaRPr b="0" lang="en-US" sz="3000" spc="-1" strike="noStrike">
              <a:solidFill>
                <a:srgbClr val="000000"/>
              </a:solidFill>
              <a:latin typeface="Arial"/>
            </a:endParaRPr>
          </a:p>
        </p:txBody>
      </p:sp>
      <p:sp>
        <p:nvSpPr>
          <p:cNvPr id="4711" name="Shape 1694"/>
          <p:cNvSpPr/>
          <p:nvPr/>
        </p:nvSpPr>
        <p:spPr>
          <a:xfrm>
            <a:off x="1460952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12" name="Shape 1695"/>
          <p:cNvSpPr/>
          <p:nvPr/>
        </p:nvSpPr>
        <p:spPr>
          <a:xfrm>
            <a:off x="1459764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13" name="Shape 1696"/>
          <p:cNvSpPr/>
          <p:nvPr/>
        </p:nvSpPr>
        <p:spPr>
          <a:xfrm>
            <a:off x="1459764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ESH</a:t>
            </a:r>
            <a:endParaRPr b="0" lang="en-US" sz="3000" spc="-1" strike="noStrike">
              <a:solidFill>
                <a:srgbClr val="000000"/>
              </a:solidFill>
              <a:latin typeface="Arial"/>
            </a:endParaRPr>
          </a:p>
        </p:txBody>
      </p:sp>
      <p:sp>
        <p:nvSpPr>
          <p:cNvPr id="4714" name="Shape 1697"/>
          <p:cNvSpPr/>
          <p:nvPr/>
        </p:nvSpPr>
        <p:spPr>
          <a:xfrm>
            <a:off x="1878660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15" name="Shape 1698"/>
          <p:cNvSpPr/>
          <p:nvPr/>
        </p:nvSpPr>
        <p:spPr>
          <a:xfrm>
            <a:off x="1878660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716" name="Shape 1699"/>
          <p:cNvSpPr/>
          <p:nvPr/>
        </p:nvSpPr>
        <p:spPr>
          <a:xfrm>
            <a:off x="1878660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17" name="Shape 1700"/>
          <p:cNvSpPr/>
          <p:nvPr/>
        </p:nvSpPr>
        <p:spPr>
          <a:xfrm>
            <a:off x="2043000" y="10409040"/>
            <a:ext cx="15250320" cy="12733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from druids idran esto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8" name="Shape 1703"/>
          <p:cNvSpPr/>
          <p:nvPr/>
        </p:nvSpPr>
        <p:spPr>
          <a:xfrm>
            <a:off x="2035080" y="1708200"/>
            <a:ext cx="9141840" cy="3773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Design</a:t>
            </a:r>
            <a:endParaRPr b="0" lang="en-US" sz="11200" spc="-1" strike="noStrike">
              <a:solidFill>
                <a:srgbClr val="000000"/>
              </a:solidFill>
              <a:latin typeface="Arial"/>
            </a:endParaRPr>
          </a:p>
        </p:txBody>
      </p:sp>
      <p:sp>
        <p:nvSpPr>
          <p:cNvPr id="4719" name="Shape 1704"/>
          <p:cNvSpPr/>
          <p:nvPr/>
        </p:nvSpPr>
        <p:spPr>
          <a:xfrm>
            <a:off x="203040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20" name="Shape 1705"/>
          <p:cNvSpPr/>
          <p:nvPr/>
        </p:nvSpPr>
        <p:spPr>
          <a:xfrm>
            <a:off x="203040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721" name="Shape 1706"/>
          <p:cNvSpPr/>
          <p:nvPr/>
        </p:nvSpPr>
        <p:spPr>
          <a:xfrm>
            <a:off x="203040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22" name="Shape 1707"/>
          <p:cNvSpPr/>
          <p:nvPr/>
        </p:nvSpPr>
        <p:spPr>
          <a:xfrm>
            <a:off x="623124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23" name="Shape 1708"/>
          <p:cNvSpPr/>
          <p:nvPr/>
        </p:nvSpPr>
        <p:spPr>
          <a:xfrm>
            <a:off x="1043208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24" name="Shape 1709"/>
          <p:cNvSpPr/>
          <p:nvPr/>
        </p:nvSpPr>
        <p:spPr>
          <a:xfrm>
            <a:off x="621936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25" name="Shape 1710"/>
          <p:cNvSpPr/>
          <p:nvPr/>
        </p:nvSpPr>
        <p:spPr>
          <a:xfrm>
            <a:off x="621936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ESH</a:t>
            </a:r>
            <a:endParaRPr b="0" lang="en-US" sz="3000" spc="-1" strike="noStrike">
              <a:solidFill>
                <a:srgbClr val="000000"/>
              </a:solidFill>
              <a:latin typeface="Arial"/>
            </a:endParaRPr>
          </a:p>
        </p:txBody>
      </p:sp>
      <p:sp>
        <p:nvSpPr>
          <p:cNvPr id="4726" name="Shape 1711"/>
          <p:cNvSpPr/>
          <p:nvPr/>
        </p:nvSpPr>
        <p:spPr>
          <a:xfrm>
            <a:off x="1040832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27" name="Shape 1712"/>
          <p:cNvSpPr/>
          <p:nvPr/>
        </p:nvSpPr>
        <p:spPr>
          <a:xfrm>
            <a:off x="1040832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ODERN</a:t>
            </a:r>
            <a:endParaRPr b="0" lang="en-US" sz="3000" spc="-1" strike="noStrike">
              <a:solidFill>
                <a:srgbClr val="000000"/>
              </a:solidFill>
              <a:latin typeface="Arial"/>
            </a:endParaRPr>
          </a:p>
        </p:txBody>
      </p:sp>
      <p:sp>
        <p:nvSpPr>
          <p:cNvPr id="4728" name="Shape 1713"/>
          <p:cNvSpPr/>
          <p:nvPr/>
        </p:nvSpPr>
        <p:spPr>
          <a:xfrm>
            <a:off x="1460952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29" name="Shape 1714"/>
          <p:cNvSpPr/>
          <p:nvPr/>
        </p:nvSpPr>
        <p:spPr>
          <a:xfrm>
            <a:off x="1459764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30" name="Shape 1715"/>
          <p:cNvSpPr/>
          <p:nvPr/>
        </p:nvSpPr>
        <p:spPr>
          <a:xfrm>
            <a:off x="1459764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FRESH</a:t>
            </a:r>
            <a:endParaRPr b="0" lang="en-US" sz="3000" spc="-1" strike="noStrike">
              <a:solidFill>
                <a:srgbClr val="000000"/>
              </a:solidFill>
              <a:latin typeface="Arial"/>
            </a:endParaRPr>
          </a:p>
        </p:txBody>
      </p:sp>
      <p:sp>
        <p:nvSpPr>
          <p:cNvPr id="4731" name="Shape 1716"/>
          <p:cNvSpPr/>
          <p:nvPr/>
        </p:nvSpPr>
        <p:spPr>
          <a:xfrm>
            <a:off x="18786600" y="8056800"/>
            <a:ext cx="35571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a:t>
            </a:r>
            <a:endParaRPr b="0" lang="en-US" sz="3000" spc="-1" strike="noStrike">
              <a:solidFill>
                <a:srgbClr val="000000"/>
              </a:solidFill>
              <a:latin typeface="Arial"/>
            </a:endParaRPr>
          </a:p>
        </p:txBody>
      </p:sp>
      <p:sp>
        <p:nvSpPr>
          <p:cNvPr id="4732" name="Shape 1717"/>
          <p:cNvSpPr/>
          <p:nvPr/>
        </p:nvSpPr>
        <p:spPr>
          <a:xfrm>
            <a:off x="18786600" y="7265880"/>
            <a:ext cx="3555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733" name="Shape 1718"/>
          <p:cNvSpPr/>
          <p:nvPr/>
        </p:nvSpPr>
        <p:spPr>
          <a:xfrm>
            <a:off x="18786600" y="609912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34" name="Shape 1719"/>
          <p:cNvSpPr/>
          <p:nvPr/>
        </p:nvSpPr>
        <p:spPr>
          <a:xfrm>
            <a:off x="2043000" y="10409040"/>
            <a:ext cx="15250320" cy="12733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from druids idran estom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8" name="Shape 1073"/>
          <p:cNvSpPr/>
          <p:nvPr/>
        </p:nvSpPr>
        <p:spPr>
          <a:xfrm>
            <a:off x="2031840" y="1708200"/>
            <a:ext cx="1015992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Welcom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Message</a:t>
            </a:r>
            <a:endParaRPr b="0" lang="en-US" sz="11200" spc="-1" strike="noStrike">
              <a:solidFill>
                <a:srgbClr val="000000"/>
              </a:solidFill>
              <a:latin typeface="Arial"/>
            </a:endParaRPr>
          </a:p>
        </p:txBody>
      </p:sp>
      <p:sp>
        <p:nvSpPr>
          <p:cNvPr id="4209" name="Shape 1074"/>
          <p:cNvSpPr/>
          <p:nvPr/>
        </p:nvSpPr>
        <p:spPr>
          <a:xfrm>
            <a:off x="15495120" y="6384960"/>
            <a:ext cx="4571640" cy="58788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200" spc="318" strike="noStrike">
                <a:solidFill>
                  <a:srgbClr val="212121"/>
                </a:solidFill>
                <a:latin typeface="Montserrat"/>
                <a:ea typeface="Montserrat"/>
              </a:rPr>
              <a:t>MIKE FORMS</a:t>
            </a:r>
            <a:endParaRPr b="0" lang="en-US" sz="3200" spc="-1" strike="noStrike">
              <a:solidFill>
                <a:srgbClr val="000000"/>
              </a:solidFill>
              <a:latin typeface="Arial"/>
            </a:endParaRPr>
          </a:p>
        </p:txBody>
      </p:sp>
      <p:sp>
        <p:nvSpPr>
          <p:cNvPr id="4210" name="Shape 1075"/>
          <p:cNvSpPr/>
          <p:nvPr/>
        </p:nvSpPr>
        <p:spPr>
          <a:xfrm>
            <a:off x="15495120" y="6978600"/>
            <a:ext cx="4571640" cy="533160"/>
          </a:xfrm>
          <a:prstGeom prst="rect">
            <a:avLst/>
          </a:prstGeom>
          <a:noFill/>
          <a:ln w="12700">
            <a:noFill/>
          </a:ln>
        </p:spPr>
        <p:style>
          <a:lnRef idx="0"/>
          <a:fillRef idx="0"/>
          <a:effectRef idx="0"/>
          <a:fontRef idx="minor"/>
        </p:style>
        <p:txBody>
          <a:bodyPr lIns="50760" rIns="50760" tIns="50760" bIns="50760" anchor="t">
            <a:noAutofit/>
          </a:bodyPr>
          <a:p>
            <a:pPr algn="ctr">
              <a:lnSpc>
                <a:spcPct val="120000"/>
              </a:lnSpc>
              <a:spcBef>
                <a:spcPts val="5899"/>
              </a:spcBef>
              <a:tabLst>
                <a:tab algn="l" pos="0"/>
              </a:tabLst>
            </a:pPr>
            <a:r>
              <a:rPr b="0" lang="en-US" sz="3000" spc="-1" strike="noStrike">
                <a:solidFill>
                  <a:srgbClr val="5e5e5e"/>
                </a:solidFill>
                <a:latin typeface="Montserrat Light"/>
                <a:ea typeface="Montserrat Light"/>
              </a:rPr>
              <a:t>Leo - Be Creative</a:t>
            </a:r>
            <a:endParaRPr b="0" lang="en-US" sz="3000" spc="-1" strike="noStrike">
              <a:solidFill>
                <a:srgbClr val="000000"/>
              </a:solidFill>
              <a:latin typeface="Arial"/>
            </a:endParaRPr>
          </a:p>
        </p:txBody>
      </p:sp>
      <p:sp>
        <p:nvSpPr>
          <p:cNvPr id="4211" name="Shape 1076"/>
          <p:cNvSpPr/>
          <p:nvPr/>
        </p:nvSpPr>
        <p:spPr>
          <a:xfrm>
            <a:off x="13208400" y="8501760"/>
            <a:ext cx="9144720" cy="34027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eot clita kuasd gubergren, nosotra sea fronds takimata sanctus est Lorem ero psusit druamet. Lorem eso ipsum dolor sit amet, deras gradaso consetetur sadipscing elitromas. Sed diam dnie nonumy eirmod tempor invidunt utony labore etodre dolor noradsa mirda.</a:t>
            </a:r>
            <a:endParaRPr b="0" lang="en-US" sz="3000" spc="-1" strike="noStrike">
              <a:solidFill>
                <a:srgbClr val="000000"/>
              </a:solidFill>
              <a:latin typeface="Arial"/>
            </a:endParaRPr>
          </a:p>
        </p:txBody>
      </p:sp>
      <p:sp>
        <p:nvSpPr>
          <p:cNvPr id="4212" name="Shape 1077"/>
          <p:cNvSpPr/>
          <p:nvPr/>
        </p:nvSpPr>
        <p:spPr>
          <a:xfrm>
            <a:off x="2031840" y="7620120"/>
            <a:ext cx="7144920" cy="176328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som rebum. Steto clita kuasd gubergren, nosotra frone drunda for vroada seao. </a:t>
            </a:r>
            <a:endParaRPr b="0" lang="en-US" sz="3000" spc="-1" strike="noStrike">
              <a:solidFill>
                <a:srgbClr val="000000"/>
              </a:solidFill>
              <a:latin typeface="Arial"/>
            </a:endParaRPr>
          </a:p>
        </p:txBody>
      </p:sp>
      <p:sp>
        <p:nvSpPr>
          <p:cNvPr id="4213" name="Shape 1078"/>
          <p:cNvSpPr/>
          <p:nvPr/>
        </p:nvSpPr>
        <p:spPr>
          <a:xfrm>
            <a:off x="2031840" y="68580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5" name="PlaceHolder 1"/>
          <p:cNvSpPr>
            <a:spLocks noGrp="1"/>
          </p:cNvSpPr>
          <p:nvPr>
            <p:ph type="title"/>
          </p:nvPr>
        </p:nvSpPr>
        <p:spPr>
          <a:xfrm>
            <a:off x="2035080" y="1708200"/>
            <a:ext cx="9141840" cy="355284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Company</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Skills</a:t>
            </a:r>
            <a:endParaRPr b="0" lang="en-US" sz="11200" spc="-1" strike="noStrike">
              <a:solidFill>
                <a:srgbClr val="009193"/>
              </a:solidFill>
              <a:latin typeface="Helvetica Light"/>
            </a:endParaRPr>
          </a:p>
        </p:txBody>
      </p:sp>
      <p:sp>
        <p:nvSpPr>
          <p:cNvPr id="4736" name="Shape 1722"/>
          <p:cNvSpPr/>
          <p:nvPr/>
        </p:nvSpPr>
        <p:spPr>
          <a:xfrm>
            <a:off x="2027160" y="59396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37" name="Shape 1723"/>
          <p:cNvSpPr/>
          <p:nvPr/>
        </p:nvSpPr>
        <p:spPr>
          <a:xfrm>
            <a:off x="9718560" y="59072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38" name="Shape 1724"/>
          <p:cNvSpPr/>
          <p:nvPr/>
        </p:nvSpPr>
        <p:spPr>
          <a:xfrm>
            <a:off x="2035080" y="9959760"/>
            <a:ext cx="494676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739" name="Shape 1725"/>
          <p:cNvSpPr/>
          <p:nvPr/>
        </p:nvSpPr>
        <p:spPr>
          <a:xfrm>
            <a:off x="2035080" y="9070920"/>
            <a:ext cx="49467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PROJECTS</a:t>
            </a:r>
            <a:endParaRPr b="0" lang="en-US" sz="3000" spc="-1" strike="noStrike">
              <a:solidFill>
                <a:srgbClr val="000000"/>
              </a:solidFill>
              <a:latin typeface="Arial"/>
            </a:endParaRPr>
          </a:p>
        </p:txBody>
      </p:sp>
      <p:sp>
        <p:nvSpPr>
          <p:cNvPr id="4740" name="Shape 1726"/>
          <p:cNvSpPr/>
          <p:nvPr/>
        </p:nvSpPr>
        <p:spPr>
          <a:xfrm>
            <a:off x="2035080" y="687960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534+</a:t>
            </a:r>
            <a:endParaRPr b="0" lang="en-US" sz="12000" spc="-1" strike="noStrike">
              <a:solidFill>
                <a:srgbClr val="000000"/>
              </a:solidFill>
              <a:latin typeface="Arial"/>
            </a:endParaRPr>
          </a:p>
        </p:txBody>
      </p:sp>
      <p:sp>
        <p:nvSpPr>
          <p:cNvPr id="4741" name="Shape 1727"/>
          <p:cNvSpPr/>
          <p:nvPr/>
        </p:nvSpPr>
        <p:spPr>
          <a:xfrm>
            <a:off x="17409960" y="9959760"/>
            <a:ext cx="494676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742" name="Shape 1728"/>
          <p:cNvSpPr/>
          <p:nvPr/>
        </p:nvSpPr>
        <p:spPr>
          <a:xfrm>
            <a:off x="17409960" y="9070920"/>
            <a:ext cx="49467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HAPPY CLIENTS</a:t>
            </a:r>
            <a:endParaRPr b="0" lang="en-US" sz="3000" spc="-1" strike="noStrike">
              <a:solidFill>
                <a:srgbClr val="000000"/>
              </a:solidFill>
              <a:latin typeface="Arial"/>
            </a:endParaRPr>
          </a:p>
        </p:txBody>
      </p:sp>
      <p:sp>
        <p:nvSpPr>
          <p:cNvPr id="4743" name="Shape 1729"/>
          <p:cNvSpPr/>
          <p:nvPr/>
        </p:nvSpPr>
        <p:spPr>
          <a:xfrm>
            <a:off x="17409960" y="687960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6745+</a:t>
            </a:r>
            <a:endParaRPr b="0" lang="en-US" sz="12000" spc="-1" strike="noStrike">
              <a:solidFill>
                <a:srgbClr val="000000"/>
              </a:solidFill>
              <a:latin typeface="Arial"/>
            </a:endParaRPr>
          </a:p>
        </p:txBody>
      </p:sp>
      <p:sp>
        <p:nvSpPr>
          <p:cNvPr id="4744" name="Shape 1730"/>
          <p:cNvSpPr/>
          <p:nvPr/>
        </p:nvSpPr>
        <p:spPr>
          <a:xfrm>
            <a:off x="9718560" y="9959760"/>
            <a:ext cx="494676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745" name="Shape 1731"/>
          <p:cNvSpPr/>
          <p:nvPr/>
        </p:nvSpPr>
        <p:spPr>
          <a:xfrm>
            <a:off x="9718560" y="9070920"/>
            <a:ext cx="49467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DESIGNER</a:t>
            </a:r>
            <a:endParaRPr b="0" lang="en-US" sz="3000" spc="-1" strike="noStrike">
              <a:solidFill>
                <a:srgbClr val="000000"/>
              </a:solidFill>
              <a:latin typeface="Arial"/>
            </a:endParaRPr>
          </a:p>
        </p:txBody>
      </p:sp>
      <p:sp>
        <p:nvSpPr>
          <p:cNvPr id="4746" name="Shape 1732"/>
          <p:cNvSpPr/>
          <p:nvPr/>
        </p:nvSpPr>
        <p:spPr>
          <a:xfrm>
            <a:off x="9718560" y="6879600"/>
            <a:ext cx="4946760" cy="203148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4+</a:t>
            </a:r>
            <a:endParaRPr b="0" lang="en-US" sz="12000" spc="-1" strike="noStrike">
              <a:solidFill>
                <a:srgbClr val="000000"/>
              </a:solidFill>
              <a:latin typeface="Arial"/>
            </a:endParaRPr>
          </a:p>
        </p:txBody>
      </p:sp>
      <p:sp>
        <p:nvSpPr>
          <p:cNvPr id="4747" name="Shape 1733"/>
          <p:cNvSpPr/>
          <p:nvPr/>
        </p:nvSpPr>
        <p:spPr>
          <a:xfrm>
            <a:off x="17409960" y="5907240"/>
            <a:ext cx="812520" cy="812520"/>
          </a:xfrm>
          <a:prstGeom prst="rect">
            <a:avLst/>
          </a:prstGeom>
          <a:noFill/>
          <a:ln w="12700">
            <a:noFill/>
          </a:ln>
        </p:spPr>
        <p:style>
          <a:lnRef idx="0"/>
          <a:fillRef idx="0"/>
          <a:effectRef idx="0"/>
          <a:fontRef idx="minor"/>
        </p:style>
        <p:txBody>
          <a:bodyPr lIns="0" rIns="0" tIns="0" bIns="0" anchor="ctr">
            <a:noAutofit/>
          </a:bodyPr>
          <a:p>
            <a:pPr algn="ctr">
              <a:lnSpc>
                <a:spcPct val="100000"/>
              </a:lnSpc>
              <a:tabLst>
                <a:tab algn="l" pos="0"/>
              </a:tabLst>
            </a:pPr>
            <a:r>
              <a:rPr b="0" lang="en-US" sz="4800" spc="-1" strike="noStrike">
                <a:solidFill>
                  <a:srgbClr val="212121"/>
                </a:solidFill>
                <a:latin typeface="FontAwesome"/>
                <a:ea typeface="FontAwesome"/>
              </a:rPr>
              <a:t></a:t>
            </a:r>
            <a:endParaRPr b="0" lang="en-US" sz="4800" spc="-1" strike="noStrike">
              <a:solidFill>
                <a:srgbClr val="000000"/>
              </a:solidFill>
              <a:latin typeface="Arial"/>
            </a:endParaRPr>
          </a:p>
        </p:txBody>
      </p:sp>
      <p:sp>
        <p:nvSpPr>
          <p:cNvPr id="4748" name="PlaceHolder 2"/>
          <p:cNvSpPr>
            <a:spLocks noGrp="1"/>
          </p:cNvSpPr>
          <p:nvPr>
            <p:ph type="sldNum" idx="105"/>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7396EC48-2CC7-4CE4-8FA5-B044F4FF7D85}" type="slidenum">
              <a:rPr b="0" lang="en-US" sz="2800" spc="-1" strike="noStrike">
                <a:solidFill>
                  <a:srgbClr val="797979"/>
                </a:solidFill>
                <a:latin typeface="Helvetica Light"/>
                <a:ea typeface="Helvetica Light"/>
              </a:rPr>
              <a:t>49</a:t>
            </a:fld>
            <a:endParaRPr b="0" lang="en-US" sz="2800" spc="-1" strike="noStrike">
              <a:solidFill>
                <a:srgbClr val="000000"/>
              </a:solidFill>
              <a:latin typeface="Times New Roman"/>
            </a:endParaRPr>
          </a:p>
        </p:txBody>
      </p:sp>
      <p:sp>
        <p:nvSpPr>
          <p:cNvPr id="4749" name="Shape 1735"/>
          <p:cNvSpPr/>
          <p:nvPr/>
        </p:nvSpPr>
        <p:spPr>
          <a:xfrm>
            <a:off x="14607360" y="2033640"/>
            <a:ext cx="7749360" cy="180540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Nors fransto onS dreso nade lesdiacw fo sid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50" name="Group 1786"/>
          <p:cNvGrpSpPr/>
          <p:nvPr/>
        </p:nvGrpSpPr>
        <p:grpSpPr>
          <a:xfrm>
            <a:off x="2676960" y="2033640"/>
            <a:ext cx="6837480" cy="9648720"/>
            <a:chOff x="2676960" y="2033640"/>
            <a:chExt cx="6837480" cy="9648720"/>
          </a:xfrm>
        </p:grpSpPr>
        <p:sp>
          <p:nvSpPr>
            <p:cNvPr id="4751" name="Shape 1771"/>
            <p:cNvSpPr/>
            <p:nvPr/>
          </p:nvSpPr>
          <p:spPr>
            <a:xfrm>
              <a:off x="2676960" y="2033640"/>
              <a:ext cx="6837480" cy="9648720"/>
            </a:xfrm>
            <a:custGeom>
              <a:avLst/>
              <a:gdLst>
                <a:gd name="textAreaLeft" fmla="*/ 0 w 6837480"/>
                <a:gd name="textAreaRight" fmla="*/ 6837840 w 6837480"/>
                <a:gd name="textAreaTop" fmla="*/ 0 h 9648720"/>
                <a:gd name="textAreaBottom" fmla="*/ 9649080 h 964872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2" name="Shape 1772"/>
            <p:cNvSpPr/>
            <p:nvPr/>
          </p:nvSpPr>
          <p:spPr>
            <a:xfrm>
              <a:off x="2718360" y="2079720"/>
              <a:ext cx="6750000" cy="9561240"/>
            </a:xfrm>
            <a:custGeom>
              <a:avLst/>
              <a:gdLst>
                <a:gd name="textAreaLeft" fmla="*/ 0 w 6750000"/>
                <a:gd name="textAreaRight" fmla="*/ 6750360 w 6750000"/>
                <a:gd name="textAreaTop" fmla="*/ 0 h 9561240"/>
                <a:gd name="textAreaBottom" fmla="*/ 9561600 h 956124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3" name="Shape 1773"/>
            <p:cNvSpPr/>
            <p:nvPr/>
          </p:nvSpPr>
          <p:spPr>
            <a:xfrm>
              <a:off x="3068640" y="2849040"/>
              <a:ext cx="6049440" cy="8021880"/>
            </a:xfrm>
            <a:custGeom>
              <a:avLst/>
              <a:gdLst>
                <a:gd name="textAreaLeft" fmla="*/ 0 w 6049440"/>
                <a:gd name="textAreaRight" fmla="*/ 6049800 w 6049440"/>
                <a:gd name="textAreaTop" fmla="*/ 0 h 8021880"/>
                <a:gd name="textAreaBottom" fmla="*/ 8022240 h 802188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4" name="Shape 1774"/>
            <p:cNvSpPr/>
            <p:nvPr/>
          </p:nvSpPr>
          <p:spPr>
            <a:xfrm>
              <a:off x="3091680" y="2867760"/>
              <a:ext cx="6008040" cy="7980480"/>
            </a:xfrm>
            <a:custGeom>
              <a:avLst/>
              <a:gdLst>
                <a:gd name="textAreaLeft" fmla="*/ 0 w 6008040"/>
                <a:gd name="textAreaRight" fmla="*/ 6008400 w 6008040"/>
                <a:gd name="textAreaTop" fmla="*/ 0 h 7980480"/>
                <a:gd name="textAreaBottom" fmla="*/ 7980840 h 79804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5" name="Shape 1775"/>
            <p:cNvSpPr/>
            <p:nvPr/>
          </p:nvSpPr>
          <p:spPr>
            <a:xfrm>
              <a:off x="6041880" y="2415960"/>
              <a:ext cx="108360" cy="108360"/>
            </a:xfrm>
            <a:custGeom>
              <a:avLst/>
              <a:gdLst>
                <a:gd name="textAreaLeft" fmla="*/ 0 w 108360"/>
                <a:gd name="textAreaRight" fmla="*/ 108720 w 108360"/>
                <a:gd name="textAreaTop" fmla="*/ 0 h 108360"/>
                <a:gd name="textAreaBottom" fmla="*/ 108720 h 10836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6" name="Shape 1776"/>
            <p:cNvSpPr/>
            <p:nvPr/>
          </p:nvSpPr>
          <p:spPr>
            <a:xfrm>
              <a:off x="6055560" y="2430360"/>
              <a:ext cx="80280" cy="80280"/>
            </a:xfrm>
            <a:custGeom>
              <a:avLst/>
              <a:gdLst>
                <a:gd name="textAreaLeft" fmla="*/ 0 w 80280"/>
                <a:gd name="textAreaRight" fmla="*/ 80640 w 80280"/>
                <a:gd name="textAreaTop" fmla="*/ 0 h 80280"/>
                <a:gd name="textAreaBottom" fmla="*/ 80640 h 8028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7" name="Shape 1777"/>
            <p:cNvSpPr/>
            <p:nvPr/>
          </p:nvSpPr>
          <p:spPr>
            <a:xfrm>
              <a:off x="6073560" y="24483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8" name="Shape 1778"/>
            <p:cNvSpPr/>
            <p:nvPr/>
          </p:nvSpPr>
          <p:spPr>
            <a:xfrm>
              <a:off x="5878440" y="11078280"/>
              <a:ext cx="421200" cy="421920"/>
            </a:xfrm>
            <a:custGeom>
              <a:avLst/>
              <a:gdLst>
                <a:gd name="textAreaLeft" fmla="*/ 0 w 421200"/>
                <a:gd name="textAreaRight" fmla="*/ 421560 w 421200"/>
                <a:gd name="textAreaTop" fmla="*/ 0 h 421920"/>
                <a:gd name="textAreaBottom" fmla="*/ 422280 h 42192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59" name="Shape 1779"/>
            <p:cNvSpPr/>
            <p:nvPr/>
          </p:nvSpPr>
          <p:spPr>
            <a:xfrm>
              <a:off x="5875200" y="11081880"/>
              <a:ext cx="201240" cy="217800"/>
            </a:xfrm>
            <a:custGeom>
              <a:avLst/>
              <a:gdLst>
                <a:gd name="textAreaLeft" fmla="*/ 0 w 201240"/>
                <a:gd name="textAreaRight" fmla="*/ 201600 w 201240"/>
                <a:gd name="textAreaTop" fmla="*/ 0 h 217800"/>
                <a:gd name="textAreaBottom" fmla="*/ 218160 h 21780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60" name="Shape 1780"/>
            <p:cNvSpPr/>
            <p:nvPr/>
          </p:nvSpPr>
          <p:spPr>
            <a:xfrm>
              <a:off x="5912280" y="1108224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61" name="Shape 1781"/>
            <p:cNvSpPr/>
            <p:nvPr/>
          </p:nvSpPr>
          <p:spPr>
            <a:xfrm>
              <a:off x="5990400" y="11082600"/>
              <a:ext cx="284400" cy="212400"/>
            </a:xfrm>
            <a:custGeom>
              <a:avLst/>
              <a:gdLst>
                <a:gd name="textAreaLeft" fmla="*/ 0 w 284400"/>
                <a:gd name="textAreaRight" fmla="*/ 284760 w 284400"/>
                <a:gd name="textAreaTop" fmla="*/ 0 h 212400"/>
                <a:gd name="textAreaBottom" fmla="*/ 212760 h 21240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62" name="Shape 1782"/>
            <p:cNvSpPr/>
            <p:nvPr/>
          </p:nvSpPr>
          <p:spPr>
            <a:xfrm>
              <a:off x="6101280" y="11282760"/>
              <a:ext cx="196920" cy="219960"/>
            </a:xfrm>
            <a:custGeom>
              <a:avLst/>
              <a:gdLst>
                <a:gd name="textAreaLeft" fmla="*/ 0 w 196920"/>
                <a:gd name="textAreaRight" fmla="*/ 197280 w 196920"/>
                <a:gd name="textAreaTop" fmla="*/ 0 h 219960"/>
                <a:gd name="textAreaBottom" fmla="*/ 220320 h 21996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63" name="Shape 1783"/>
            <p:cNvSpPr/>
            <p:nvPr/>
          </p:nvSpPr>
          <p:spPr>
            <a:xfrm>
              <a:off x="5967360" y="1128708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64" name="Shape 1784"/>
            <p:cNvSpPr/>
            <p:nvPr/>
          </p:nvSpPr>
          <p:spPr>
            <a:xfrm>
              <a:off x="5898240" y="11287080"/>
              <a:ext cx="284400" cy="212040"/>
            </a:xfrm>
            <a:custGeom>
              <a:avLst/>
              <a:gdLst>
                <a:gd name="textAreaLeft" fmla="*/ 0 w 284400"/>
                <a:gd name="textAreaRight" fmla="*/ 284760 w 284400"/>
                <a:gd name="textAreaTop" fmla="*/ 0 h 212040"/>
                <a:gd name="textAreaBottom" fmla="*/ 212400 h 21204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65" name="Shape 1785"/>
            <p:cNvSpPr/>
            <p:nvPr/>
          </p:nvSpPr>
          <p:spPr>
            <a:xfrm>
              <a:off x="5902560" y="11103480"/>
              <a:ext cx="372240" cy="371520"/>
            </a:xfrm>
            <a:custGeom>
              <a:avLst/>
              <a:gdLst>
                <a:gd name="textAreaLeft" fmla="*/ 0 w 372240"/>
                <a:gd name="textAreaRight" fmla="*/ 372600 w 372240"/>
                <a:gd name="textAreaTop" fmla="*/ 0 h 371520"/>
                <a:gd name="textAreaBottom" fmla="*/ 371880 h 37152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766" name="Shape 1788"/>
          <p:cNvSpPr/>
          <p:nvPr/>
        </p:nvSpPr>
        <p:spPr>
          <a:xfrm>
            <a:off x="15318000" y="259236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67" name="Shape 1789"/>
          <p:cNvSpPr/>
          <p:nvPr/>
        </p:nvSpPr>
        <p:spPr>
          <a:xfrm>
            <a:off x="15318000" y="183060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768" name="Shape 1790"/>
          <p:cNvSpPr/>
          <p:nvPr/>
        </p:nvSpPr>
        <p:spPr>
          <a:xfrm>
            <a:off x="15318000" y="454140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769" name="Shape 1791"/>
          <p:cNvSpPr/>
          <p:nvPr/>
        </p:nvSpPr>
        <p:spPr>
          <a:xfrm>
            <a:off x="15318000" y="725220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770" name="Shape 1792"/>
          <p:cNvSpPr/>
          <p:nvPr/>
        </p:nvSpPr>
        <p:spPr>
          <a:xfrm>
            <a:off x="15318000" y="996300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PHOTOGRAPY</a:t>
            </a:r>
            <a:endParaRPr b="0" lang="en-US" sz="3000" spc="-1" strike="noStrike">
              <a:solidFill>
                <a:srgbClr val="000000"/>
              </a:solidFill>
              <a:latin typeface="Arial"/>
            </a:endParaRPr>
          </a:p>
        </p:txBody>
      </p:sp>
      <p:sp>
        <p:nvSpPr>
          <p:cNvPr id="4771" name="Shape 1793"/>
          <p:cNvSpPr/>
          <p:nvPr/>
        </p:nvSpPr>
        <p:spPr>
          <a:xfrm>
            <a:off x="15318000" y="530316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72" name="Shape 1794"/>
          <p:cNvSpPr/>
          <p:nvPr/>
        </p:nvSpPr>
        <p:spPr>
          <a:xfrm>
            <a:off x="15318000" y="801432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73" name="Shape 1795"/>
          <p:cNvSpPr/>
          <p:nvPr/>
        </p:nvSpPr>
        <p:spPr>
          <a:xfrm>
            <a:off x="15318000" y="1072512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74" name="Shape 1796"/>
          <p:cNvSpPr/>
          <p:nvPr/>
        </p:nvSpPr>
        <p:spPr>
          <a:xfrm>
            <a:off x="13208040" y="1766880"/>
            <a:ext cx="1523520" cy="10760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775" name="Shape 1797"/>
          <p:cNvSpPr/>
          <p:nvPr/>
        </p:nvSpPr>
        <p:spPr>
          <a:xfrm>
            <a:off x="13208040" y="4465080"/>
            <a:ext cx="1523520" cy="10760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776" name="Shape 1798"/>
          <p:cNvSpPr/>
          <p:nvPr/>
        </p:nvSpPr>
        <p:spPr>
          <a:xfrm>
            <a:off x="13208040" y="7176240"/>
            <a:ext cx="1523520" cy="10760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777" name="Shape 1799"/>
          <p:cNvSpPr/>
          <p:nvPr/>
        </p:nvSpPr>
        <p:spPr>
          <a:xfrm>
            <a:off x="13208040" y="9887040"/>
            <a:ext cx="1523520" cy="10760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8" name="Shape 1807"/>
          <p:cNvSpPr/>
          <p:nvPr/>
        </p:nvSpPr>
        <p:spPr>
          <a:xfrm>
            <a:off x="6729840" y="171432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79" name="Shape 1808"/>
          <p:cNvSpPr/>
          <p:nvPr/>
        </p:nvSpPr>
        <p:spPr>
          <a:xfrm>
            <a:off x="6729840" y="9525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a:t>
            </a:r>
            <a:endParaRPr b="0" lang="en-US" sz="3000" spc="-1" strike="noStrike">
              <a:solidFill>
                <a:srgbClr val="000000"/>
              </a:solidFill>
              <a:latin typeface="Arial"/>
            </a:endParaRPr>
          </a:p>
        </p:txBody>
      </p:sp>
      <p:sp>
        <p:nvSpPr>
          <p:cNvPr id="4780" name="Shape 1809"/>
          <p:cNvSpPr/>
          <p:nvPr/>
        </p:nvSpPr>
        <p:spPr>
          <a:xfrm>
            <a:off x="18921960" y="171432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81" name="Shape 1810"/>
          <p:cNvSpPr/>
          <p:nvPr/>
        </p:nvSpPr>
        <p:spPr>
          <a:xfrm>
            <a:off x="18921960" y="9525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DESIGN</a:t>
            </a:r>
            <a:endParaRPr b="0" lang="en-US" sz="3000" spc="-1" strike="noStrike">
              <a:solidFill>
                <a:srgbClr val="000000"/>
              </a:solidFill>
              <a:latin typeface="Arial"/>
            </a:endParaRPr>
          </a:p>
        </p:txBody>
      </p:sp>
      <p:sp>
        <p:nvSpPr>
          <p:cNvPr id="4782" name="Shape 1811"/>
          <p:cNvSpPr/>
          <p:nvPr/>
        </p:nvSpPr>
        <p:spPr>
          <a:xfrm>
            <a:off x="633960" y="628668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83" name="Shape 1812"/>
          <p:cNvSpPr/>
          <p:nvPr/>
        </p:nvSpPr>
        <p:spPr>
          <a:xfrm>
            <a:off x="633960" y="55245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PRODUCTS</a:t>
            </a:r>
            <a:endParaRPr b="0" lang="en-US" sz="3000" spc="-1" strike="noStrike">
              <a:solidFill>
                <a:srgbClr val="000000"/>
              </a:solidFill>
              <a:latin typeface="Arial"/>
            </a:endParaRPr>
          </a:p>
        </p:txBody>
      </p:sp>
      <p:sp>
        <p:nvSpPr>
          <p:cNvPr id="4784" name="Shape 1813"/>
          <p:cNvSpPr/>
          <p:nvPr/>
        </p:nvSpPr>
        <p:spPr>
          <a:xfrm>
            <a:off x="6729840" y="1085832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85" name="Shape 1814"/>
          <p:cNvSpPr/>
          <p:nvPr/>
        </p:nvSpPr>
        <p:spPr>
          <a:xfrm>
            <a:off x="6729840" y="100965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786" name="Shape 1815"/>
          <p:cNvSpPr/>
          <p:nvPr/>
        </p:nvSpPr>
        <p:spPr>
          <a:xfrm>
            <a:off x="12823560" y="628668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87" name="Shape 1816"/>
          <p:cNvSpPr/>
          <p:nvPr/>
        </p:nvSpPr>
        <p:spPr>
          <a:xfrm>
            <a:off x="12823560" y="55245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RANDING</a:t>
            </a:r>
            <a:endParaRPr b="0" lang="en-US" sz="3000" spc="-1" strike="noStrike">
              <a:solidFill>
                <a:srgbClr val="000000"/>
              </a:solidFill>
              <a:latin typeface="Arial"/>
            </a:endParaRPr>
          </a:p>
        </p:txBody>
      </p:sp>
      <p:sp>
        <p:nvSpPr>
          <p:cNvPr id="4788" name="Shape 1817"/>
          <p:cNvSpPr/>
          <p:nvPr/>
        </p:nvSpPr>
        <p:spPr>
          <a:xfrm>
            <a:off x="18921960" y="1085832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789" name="Shape 1818"/>
          <p:cNvSpPr/>
          <p:nvPr/>
        </p:nvSpPr>
        <p:spPr>
          <a:xfrm>
            <a:off x="18921960" y="100965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DEVELOPMEN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0" name="Shape 1821"/>
          <p:cNvSpPr/>
          <p:nvPr/>
        </p:nvSpPr>
        <p:spPr>
          <a:xfrm>
            <a:off x="12192120" y="1708200"/>
            <a:ext cx="1015992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it-IT"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p:txBody>
      </p:sp>
      <p:sp>
        <p:nvSpPr>
          <p:cNvPr id="4791" name="Shape 1822"/>
          <p:cNvSpPr/>
          <p:nvPr/>
        </p:nvSpPr>
        <p:spPr>
          <a:xfrm>
            <a:off x="12192120" y="4317840"/>
            <a:ext cx="10159560" cy="17823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Dolore osa magmona l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m idom volupo.</a:t>
            </a:r>
            <a:endParaRPr b="0" lang="en-US" sz="4800" spc="-1" strike="noStrike">
              <a:solidFill>
                <a:srgbClr val="000000"/>
              </a:solidFill>
              <a:latin typeface="Arial"/>
            </a:endParaRPr>
          </a:p>
        </p:txBody>
      </p:sp>
      <p:sp>
        <p:nvSpPr>
          <p:cNvPr id="4792" name="Shape 1823"/>
          <p:cNvSpPr/>
          <p:nvPr/>
        </p:nvSpPr>
        <p:spPr>
          <a:xfrm>
            <a:off x="12192120" y="6858000"/>
            <a:ext cx="1016460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ma jam rebum. Stet clita kuasd gubergren, nosotra sea takimata sanctus est Lorem ipsum dolor sit amet. Lorem eso ipsum dolor sit amet, deras consetetur sadipscing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793" name="Group 1872"/>
          <p:cNvGrpSpPr/>
          <p:nvPr/>
        </p:nvGrpSpPr>
        <p:grpSpPr>
          <a:xfrm>
            <a:off x="6373800" y="2033640"/>
            <a:ext cx="6837480" cy="9648720"/>
            <a:chOff x="6373800" y="2033640"/>
            <a:chExt cx="6837480" cy="9648720"/>
          </a:xfrm>
        </p:grpSpPr>
        <p:sp>
          <p:nvSpPr>
            <p:cNvPr id="4794" name="Shape 1857"/>
            <p:cNvSpPr/>
            <p:nvPr/>
          </p:nvSpPr>
          <p:spPr>
            <a:xfrm>
              <a:off x="6373800" y="2033640"/>
              <a:ext cx="6837480" cy="9648720"/>
            </a:xfrm>
            <a:custGeom>
              <a:avLst/>
              <a:gdLst>
                <a:gd name="textAreaLeft" fmla="*/ 0 w 6837480"/>
                <a:gd name="textAreaRight" fmla="*/ 6837840 w 6837480"/>
                <a:gd name="textAreaTop" fmla="*/ 0 h 9648720"/>
                <a:gd name="textAreaBottom" fmla="*/ 9649080 h 9648720"/>
              </a:gdLst>
              <a:ahLst/>
              <a:rect l="textAreaLeft" t="textAreaTop" r="textAreaRight" b="textAreaBottom"/>
              <a:pathLst>
                <a:path w="21600" h="21600">
                  <a:moveTo>
                    <a:pt x="20422" y="21600"/>
                  </a:moveTo>
                  <a:lnTo>
                    <a:pt x="1178" y="21600"/>
                  </a:lnTo>
                  <a:cubicBezTo>
                    <a:pt x="525" y="21600"/>
                    <a:pt x="0" y="21226"/>
                    <a:pt x="0" y="20765"/>
                  </a:cubicBezTo>
                  <a:lnTo>
                    <a:pt x="0" y="835"/>
                  </a:lnTo>
                  <a:cubicBezTo>
                    <a:pt x="0" y="374"/>
                    <a:pt x="525" y="0"/>
                    <a:pt x="1178" y="0"/>
                  </a:cubicBezTo>
                  <a:lnTo>
                    <a:pt x="20422" y="0"/>
                  </a:lnTo>
                  <a:cubicBezTo>
                    <a:pt x="21075" y="0"/>
                    <a:pt x="21600" y="374"/>
                    <a:pt x="21600" y="835"/>
                  </a:cubicBezTo>
                  <a:lnTo>
                    <a:pt x="21600" y="20765"/>
                  </a:lnTo>
                  <a:cubicBezTo>
                    <a:pt x="21600" y="21226"/>
                    <a:pt x="21075" y="21600"/>
                    <a:pt x="20422"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5" name="Shape 1858"/>
            <p:cNvSpPr/>
            <p:nvPr/>
          </p:nvSpPr>
          <p:spPr>
            <a:xfrm>
              <a:off x="6415200" y="2079720"/>
              <a:ext cx="6750000" cy="9561240"/>
            </a:xfrm>
            <a:custGeom>
              <a:avLst/>
              <a:gdLst>
                <a:gd name="textAreaLeft" fmla="*/ 0 w 6750000"/>
                <a:gd name="textAreaRight" fmla="*/ 6750360 w 6750000"/>
                <a:gd name="textAreaTop" fmla="*/ 0 h 9561240"/>
                <a:gd name="textAreaBottom" fmla="*/ 9561600 h 9561240"/>
              </a:gdLst>
              <a:ahLst/>
              <a:rect l="textAreaLeft" t="textAreaTop" r="textAreaRight" b="textAreaBottom"/>
              <a:pathLst>
                <a:path w="21600" h="21600">
                  <a:moveTo>
                    <a:pt x="20547" y="21600"/>
                  </a:moveTo>
                  <a:lnTo>
                    <a:pt x="1053" y="21600"/>
                  </a:lnTo>
                  <a:cubicBezTo>
                    <a:pt x="468" y="21600"/>
                    <a:pt x="0" y="21267"/>
                    <a:pt x="0" y="20856"/>
                  </a:cubicBezTo>
                  <a:lnTo>
                    <a:pt x="0" y="744"/>
                  </a:lnTo>
                  <a:cubicBezTo>
                    <a:pt x="0" y="333"/>
                    <a:pt x="468" y="0"/>
                    <a:pt x="1053" y="0"/>
                  </a:cubicBezTo>
                  <a:lnTo>
                    <a:pt x="20547" y="0"/>
                  </a:lnTo>
                  <a:cubicBezTo>
                    <a:pt x="21132" y="0"/>
                    <a:pt x="21600" y="333"/>
                    <a:pt x="21600" y="744"/>
                  </a:cubicBezTo>
                  <a:lnTo>
                    <a:pt x="21600" y="20856"/>
                  </a:lnTo>
                  <a:cubicBezTo>
                    <a:pt x="21600" y="21267"/>
                    <a:pt x="21132" y="21600"/>
                    <a:pt x="20547" y="21600"/>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6" name="Shape 1859"/>
            <p:cNvSpPr/>
            <p:nvPr/>
          </p:nvSpPr>
          <p:spPr>
            <a:xfrm>
              <a:off x="6765480" y="2849040"/>
              <a:ext cx="6049440" cy="8021880"/>
            </a:xfrm>
            <a:custGeom>
              <a:avLst/>
              <a:gdLst>
                <a:gd name="textAreaLeft" fmla="*/ 0 w 6049440"/>
                <a:gd name="textAreaRight" fmla="*/ 6049800 w 6049440"/>
                <a:gd name="textAreaTop" fmla="*/ 0 h 8021880"/>
                <a:gd name="textAreaBottom" fmla="*/ 8022240 h 8021880"/>
              </a:gdLst>
              <a:ahLst/>
              <a:rect l="textAreaLeft" t="textAreaTop" r="textAreaRight" b="textAreaBottom"/>
              <a:pathLst>
                <a:path w="21600" h="21600">
                  <a:moveTo>
                    <a:pt x="21443" y="21600"/>
                  </a:moveTo>
                  <a:lnTo>
                    <a:pt x="157" y="21600"/>
                  </a:lnTo>
                  <a:cubicBezTo>
                    <a:pt x="71" y="21600"/>
                    <a:pt x="0" y="21547"/>
                    <a:pt x="0" y="21482"/>
                  </a:cubicBezTo>
                  <a:lnTo>
                    <a:pt x="0" y="118"/>
                  </a:lnTo>
                  <a:cubicBezTo>
                    <a:pt x="0" y="53"/>
                    <a:pt x="71" y="0"/>
                    <a:pt x="157" y="0"/>
                  </a:cubicBezTo>
                  <a:lnTo>
                    <a:pt x="21443" y="0"/>
                  </a:lnTo>
                  <a:cubicBezTo>
                    <a:pt x="21533" y="0"/>
                    <a:pt x="21600" y="53"/>
                    <a:pt x="21600" y="118"/>
                  </a:cubicBezTo>
                  <a:lnTo>
                    <a:pt x="21600" y="21482"/>
                  </a:lnTo>
                  <a:cubicBezTo>
                    <a:pt x="21600" y="21547"/>
                    <a:pt x="21533" y="21600"/>
                    <a:pt x="21443"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7" name="Shape 1860"/>
            <p:cNvSpPr/>
            <p:nvPr/>
          </p:nvSpPr>
          <p:spPr>
            <a:xfrm>
              <a:off x="6788520" y="2867760"/>
              <a:ext cx="6008040" cy="7980480"/>
            </a:xfrm>
            <a:custGeom>
              <a:avLst/>
              <a:gdLst>
                <a:gd name="textAreaLeft" fmla="*/ 0 w 6008040"/>
                <a:gd name="textAreaRight" fmla="*/ 6008400 w 6008040"/>
                <a:gd name="textAreaTop" fmla="*/ 0 h 7980480"/>
                <a:gd name="textAreaBottom" fmla="*/ 7980840 h 7980480"/>
              </a:gdLst>
              <a:ahLst/>
              <a:rect l="textAreaLeft" t="textAreaTop" r="textAreaRight" b="textAreaBottom"/>
              <a:pathLst>
                <a:path w="21600" h="21600">
                  <a:moveTo>
                    <a:pt x="21442" y="21600"/>
                  </a:moveTo>
                  <a:lnTo>
                    <a:pt x="158" y="21600"/>
                  </a:lnTo>
                  <a:cubicBezTo>
                    <a:pt x="71" y="21600"/>
                    <a:pt x="0" y="21546"/>
                    <a:pt x="0" y="21481"/>
                  </a:cubicBezTo>
                  <a:lnTo>
                    <a:pt x="0" y="119"/>
                  </a:lnTo>
                  <a:cubicBezTo>
                    <a:pt x="0" y="54"/>
                    <a:pt x="71" y="0"/>
                    <a:pt x="158" y="0"/>
                  </a:cubicBezTo>
                  <a:lnTo>
                    <a:pt x="21442" y="0"/>
                  </a:lnTo>
                  <a:cubicBezTo>
                    <a:pt x="21532" y="0"/>
                    <a:pt x="21600" y="54"/>
                    <a:pt x="21600" y="119"/>
                  </a:cubicBezTo>
                  <a:lnTo>
                    <a:pt x="21600" y="21481"/>
                  </a:lnTo>
                  <a:cubicBezTo>
                    <a:pt x="21600" y="21546"/>
                    <a:pt x="21532" y="21600"/>
                    <a:pt x="21442" y="21600"/>
                  </a:cubicBezTo>
                </a:path>
              </a:pathLst>
            </a:custGeom>
            <a:solidFill>
              <a:srgbClr val="d3d3d3"/>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8" name="Shape 1861"/>
            <p:cNvSpPr/>
            <p:nvPr/>
          </p:nvSpPr>
          <p:spPr>
            <a:xfrm>
              <a:off x="9738720" y="2415960"/>
              <a:ext cx="108360" cy="108360"/>
            </a:xfrm>
            <a:custGeom>
              <a:avLst/>
              <a:gdLst>
                <a:gd name="textAreaLeft" fmla="*/ 0 w 108360"/>
                <a:gd name="textAreaRight" fmla="*/ 108720 w 108360"/>
                <a:gd name="textAreaTop" fmla="*/ 0 h 108360"/>
                <a:gd name="textAreaBottom" fmla="*/ 108720 h 108360"/>
              </a:gdLst>
              <a:ahLst/>
              <a:rect l="textAreaLeft" t="textAreaTop" r="textAreaRight" b="textAreaBottom"/>
              <a:pathLst>
                <a:path w="21447" h="21448">
                  <a:moveTo>
                    <a:pt x="11573" y="0"/>
                  </a:moveTo>
                  <a:cubicBezTo>
                    <a:pt x="13630" y="204"/>
                    <a:pt x="15276" y="611"/>
                    <a:pt x="16921" y="1834"/>
                  </a:cubicBezTo>
                  <a:cubicBezTo>
                    <a:pt x="18567" y="2853"/>
                    <a:pt x="19390" y="4279"/>
                    <a:pt x="20418" y="6113"/>
                  </a:cubicBezTo>
                  <a:cubicBezTo>
                    <a:pt x="21241" y="7743"/>
                    <a:pt x="21447" y="9374"/>
                    <a:pt x="21447" y="11411"/>
                  </a:cubicBezTo>
                  <a:cubicBezTo>
                    <a:pt x="21241" y="13245"/>
                    <a:pt x="20830" y="15079"/>
                    <a:pt x="19801" y="16709"/>
                  </a:cubicBezTo>
                  <a:cubicBezTo>
                    <a:pt x="18567" y="18340"/>
                    <a:pt x="17333" y="19562"/>
                    <a:pt x="15481" y="20377"/>
                  </a:cubicBezTo>
                  <a:cubicBezTo>
                    <a:pt x="13630" y="21192"/>
                    <a:pt x="11778" y="21600"/>
                    <a:pt x="9927" y="21396"/>
                  </a:cubicBezTo>
                  <a:cubicBezTo>
                    <a:pt x="7870" y="21192"/>
                    <a:pt x="6430" y="20581"/>
                    <a:pt x="4784" y="19562"/>
                  </a:cubicBezTo>
                  <a:cubicBezTo>
                    <a:pt x="3138" y="18340"/>
                    <a:pt x="1904" y="17117"/>
                    <a:pt x="1081" y="15487"/>
                  </a:cubicBezTo>
                  <a:cubicBezTo>
                    <a:pt x="258" y="13653"/>
                    <a:pt x="-153" y="12023"/>
                    <a:pt x="53" y="9985"/>
                  </a:cubicBezTo>
                  <a:cubicBezTo>
                    <a:pt x="258" y="7947"/>
                    <a:pt x="670" y="6317"/>
                    <a:pt x="1904" y="4687"/>
                  </a:cubicBezTo>
                  <a:cubicBezTo>
                    <a:pt x="2933" y="3057"/>
                    <a:pt x="4167" y="2038"/>
                    <a:pt x="6018" y="1223"/>
                  </a:cubicBezTo>
                  <a:cubicBezTo>
                    <a:pt x="7664" y="204"/>
                    <a:pt x="9516" y="0"/>
                    <a:pt x="11573" y="0"/>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799" name="Shape 1862"/>
            <p:cNvSpPr/>
            <p:nvPr/>
          </p:nvSpPr>
          <p:spPr>
            <a:xfrm>
              <a:off x="9752400" y="2430360"/>
              <a:ext cx="80280" cy="80280"/>
            </a:xfrm>
            <a:custGeom>
              <a:avLst/>
              <a:gdLst>
                <a:gd name="textAreaLeft" fmla="*/ 0 w 80280"/>
                <a:gd name="textAreaRight" fmla="*/ 80640 w 80280"/>
                <a:gd name="textAreaTop" fmla="*/ 0 h 80280"/>
                <a:gd name="textAreaBottom" fmla="*/ 80640 h 80280"/>
              </a:gdLst>
              <a:ahLst/>
              <a:rect l="textAreaLeft" t="textAreaTop" r="textAreaRight" b="textAreaBottom"/>
              <a:pathLst>
                <a:path w="21254" h="21254">
                  <a:moveTo>
                    <a:pt x="17217" y="2350"/>
                  </a:moveTo>
                  <a:cubicBezTo>
                    <a:pt x="18620" y="3472"/>
                    <a:pt x="19742" y="4594"/>
                    <a:pt x="20583" y="6557"/>
                  </a:cubicBezTo>
                  <a:cubicBezTo>
                    <a:pt x="21144" y="8241"/>
                    <a:pt x="21425" y="9924"/>
                    <a:pt x="21144" y="11887"/>
                  </a:cubicBezTo>
                  <a:cubicBezTo>
                    <a:pt x="20864" y="13570"/>
                    <a:pt x="20303" y="15534"/>
                    <a:pt x="19181" y="17217"/>
                  </a:cubicBezTo>
                  <a:cubicBezTo>
                    <a:pt x="18059" y="18620"/>
                    <a:pt x="16376" y="19742"/>
                    <a:pt x="14693" y="20583"/>
                  </a:cubicBezTo>
                  <a:cubicBezTo>
                    <a:pt x="12729" y="21144"/>
                    <a:pt x="11326" y="21425"/>
                    <a:pt x="9363" y="21144"/>
                  </a:cubicBezTo>
                  <a:cubicBezTo>
                    <a:pt x="7399" y="20864"/>
                    <a:pt x="5996" y="20303"/>
                    <a:pt x="4313" y="19181"/>
                  </a:cubicBezTo>
                  <a:cubicBezTo>
                    <a:pt x="2630" y="18059"/>
                    <a:pt x="1789" y="16376"/>
                    <a:pt x="947" y="14693"/>
                  </a:cubicBezTo>
                  <a:cubicBezTo>
                    <a:pt x="106" y="12729"/>
                    <a:pt x="-175" y="11326"/>
                    <a:pt x="106" y="9363"/>
                  </a:cubicBezTo>
                  <a:cubicBezTo>
                    <a:pt x="386" y="7399"/>
                    <a:pt x="1228" y="5716"/>
                    <a:pt x="2350" y="4313"/>
                  </a:cubicBezTo>
                  <a:cubicBezTo>
                    <a:pt x="3472" y="2630"/>
                    <a:pt x="4594" y="1789"/>
                    <a:pt x="6557" y="947"/>
                  </a:cubicBezTo>
                  <a:cubicBezTo>
                    <a:pt x="8241" y="106"/>
                    <a:pt x="10204" y="-175"/>
                    <a:pt x="12168" y="106"/>
                  </a:cubicBezTo>
                  <a:cubicBezTo>
                    <a:pt x="13851" y="386"/>
                    <a:pt x="15534" y="947"/>
                    <a:pt x="17217" y="2350"/>
                  </a:cubicBezTo>
                </a:path>
              </a:pathLst>
            </a:custGeom>
            <a:solidFill>
              <a:srgbClr val="7f7f7f"/>
            </a:solidFill>
            <a:ln w="12700">
              <a:noFill/>
            </a:ln>
          </p:spPr>
          <p:style>
            <a:lnRef idx="0"/>
            <a:fillRef idx="0"/>
            <a:effectRef idx="0"/>
            <a:fontRef idx="minor"/>
          </p:style>
          <p:txBody>
            <a:bodyPr numCol="1" spcCol="0" lIns="45720" rIns="45720" tIns="40320" bIns="40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0" name="Shape 1863"/>
            <p:cNvSpPr/>
            <p:nvPr/>
          </p:nvSpPr>
          <p:spPr>
            <a:xfrm>
              <a:off x="9770400" y="2448360"/>
              <a:ext cx="44640" cy="44640"/>
            </a:xfrm>
            <a:custGeom>
              <a:avLst/>
              <a:gdLst>
                <a:gd name="textAreaLeft" fmla="*/ 0 w 44640"/>
                <a:gd name="textAreaRight" fmla="*/ 45000 w 44640"/>
                <a:gd name="textAreaTop" fmla="*/ 0 h 44640"/>
                <a:gd name="textAreaBottom" fmla="*/ 45000 h 44640"/>
              </a:gdLst>
              <a:ahLst/>
              <a:rect l="textAreaLeft" t="textAreaTop" r="textAreaRight" b="textAreaBottom"/>
              <a:pathLst>
                <a:path w="21600" h="21600">
                  <a:moveTo>
                    <a:pt x="20057" y="5143"/>
                  </a:moveTo>
                  <a:cubicBezTo>
                    <a:pt x="21086" y="6686"/>
                    <a:pt x="21600" y="8229"/>
                    <a:pt x="21600" y="10286"/>
                  </a:cubicBezTo>
                  <a:cubicBezTo>
                    <a:pt x="21600" y="12343"/>
                    <a:pt x="21086" y="13886"/>
                    <a:pt x="20571" y="15943"/>
                  </a:cubicBezTo>
                  <a:cubicBezTo>
                    <a:pt x="19543" y="18000"/>
                    <a:pt x="18000" y="19029"/>
                    <a:pt x="16457" y="20057"/>
                  </a:cubicBezTo>
                  <a:cubicBezTo>
                    <a:pt x="14400" y="21086"/>
                    <a:pt x="13371" y="21600"/>
                    <a:pt x="11314" y="21600"/>
                  </a:cubicBezTo>
                  <a:cubicBezTo>
                    <a:pt x="9257" y="21600"/>
                    <a:pt x="7200" y="20571"/>
                    <a:pt x="5657" y="20057"/>
                  </a:cubicBezTo>
                  <a:cubicBezTo>
                    <a:pt x="3600" y="19029"/>
                    <a:pt x="2571" y="18000"/>
                    <a:pt x="1543" y="16457"/>
                  </a:cubicBezTo>
                  <a:cubicBezTo>
                    <a:pt x="514" y="14914"/>
                    <a:pt x="0" y="13371"/>
                    <a:pt x="0" y="11314"/>
                  </a:cubicBezTo>
                  <a:cubicBezTo>
                    <a:pt x="0" y="9257"/>
                    <a:pt x="514" y="7714"/>
                    <a:pt x="1029" y="5657"/>
                  </a:cubicBezTo>
                  <a:cubicBezTo>
                    <a:pt x="2057" y="4114"/>
                    <a:pt x="3600" y="2571"/>
                    <a:pt x="5143" y="1543"/>
                  </a:cubicBezTo>
                  <a:cubicBezTo>
                    <a:pt x="6686" y="514"/>
                    <a:pt x="8229" y="0"/>
                    <a:pt x="10286" y="0"/>
                  </a:cubicBezTo>
                  <a:cubicBezTo>
                    <a:pt x="12343" y="0"/>
                    <a:pt x="13886" y="0"/>
                    <a:pt x="15943" y="1029"/>
                  </a:cubicBezTo>
                  <a:cubicBezTo>
                    <a:pt x="17486" y="2057"/>
                    <a:pt x="19029" y="3086"/>
                    <a:pt x="20057" y="5143"/>
                  </a:cubicBezTo>
                </a:path>
              </a:pathLst>
            </a:custGeom>
            <a:solidFill>
              <a:srgbClr val="545454"/>
            </a:solidFill>
            <a:ln w="12700">
              <a:noFill/>
            </a:ln>
          </p:spPr>
          <p:style>
            <a:lnRef idx="0"/>
            <a:fillRef idx="0"/>
            <a:effectRef idx="0"/>
            <a:fontRef idx="minor"/>
          </p:style>
          <p:txBody>
            <a:bodyPr numCol="1" spcCol="0" lIns="45720" rIns="45720" tIns="22320" bIns="223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1" name="Shape 1864"/>
            <p:cNvSpPr/>
            <p:nvPr/>
          </p:nvSpPr>
          <p:spPr>
            <a:xfrm>
              <a:off x="9575280" y="11078280"/>
              <a:ext cx="421200" cy="421920"/>
            </a:xfrm>
            <a:custGeom>
              <a:avLst/>
              <a:gdLst>
                <a:gd name="textAreaLeft" fmla="*/ 0 w 421200"/>
                <a:gd name="textAreaRight" fmla="*/ 421560 w 421200"/>
                <a:gd name="textAreaTop" fmla="*/ 0 h 421920"/>
                <a:gd name="textAreaBottom" fmla="*/ 422280 h 421920"/>
              </a:gdLst>
              <a:ahLst/>
              <a:rect l="textAreaLeft" t="textAreaTop" r="textAreaRight" b="textAreaBottom"/>
              <a:pathLst>
                <a:path w="21304" h="21330">
                  <a:moveTo>
                    <a:pt x="18174" y="3175"/>
                  </a:moveTo>
                  <a:cubicBezTo>
                    <a:pt x="19600" y="4548"/>
                    <a:pt x="20445" y="6027"/>
                    <a:pt x="20973" y="7928"/>
                  </a:cubicBezTo>
                  <a:cubicBezTo>
                    <a:pt x="21448" y="9829"/>
                    <a:pt x="21395" y="11519"/>
                    <a:pt x="20920" y="13421"/>
                  </a:cubicBezTo>
                  <a:cubicBezTo>
                    <a:pt x="20392" y="15322"/>
                    <a:pt x="19547" y="16748"/>
                    <a:pt x="18174" y="18174"/>
                  </a:cubicBezTo>
                  <a:cubicBezTo>
                    <a:pt x="16748" y="19547"/>
                    <a:pt x="15322" y="20445"/>
                    <a:pt x="13421" y="20973"/>
                  </a:cubicBezTo>
                  <a:cubicBezTo>
                    <a:pt x="11519" y="21448"/>
                    <a:pt x="9829" y="21448"/>
                    <a:pt x="7928" y="20973"/>
                  </a:cubicBezTo>
                  <a:cubicBezTo>
                    <a:pt x="6027" y="20445"/>
                    <a:pt x="4548" y="19547"/>
                    <a:pt x="3175" y="18174"/>
                  </a:cubicBezTo>
                  <a:cubicBezTo>
                    <a:pt x="1749" y="16748"/>
                    <a:pt x="851" y="15322"/>
                    <a:pt x="376" y="13421"/>
                  </a:cubicBezTo>
                  <a:cubicBezTo>
                    <a:pt x="-152" y="11519"/>
                    <a:pt x="-99" y="9829"/>
                    <a:pt x="376" y="7928"/>
                  </a:cubicBezTo>
                  <a:cubicBezTo>
                    <a:pt x="904" y="6027"/>
                    <a:pt x="1749" y="4548"/>
                    <a:pt x="3175" y="3175"/>
                  </a:cubicBezTo>
                  <a:cubicBezTo>
                    <a:pt x="4548" y="1749"/>
                    <a:pt x="6027" y="851"/>
                    <a:pt x="7928" y="376"/>
                  </a:cubicBezTo>
                  <a:cubicBezTo>
                    <a:pt x="9829" y="-152"/>
                    <a:pt x="11519" y="-99"/>
                    <a:pt x="13421" y="376"/>
                  </a:cubicBezTo>
                  <a:cubicBezTo>
                    <a:pt x="15322" y="904"/>
                    <a:pt x="16801" y="1749"/>
                    <a:pt x="18174" y="317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2" name="Shape 1865"/>
            <p:cNvSpPr/>
            <p:nvPr/>
          </p:nvSpPr>
          <p:spPr>
            <a:xfrm>
              <a:off x="9572040" y="11081880"/>
              <a:ext cx="201240" cy="217800"/>
            </a:xfrm>
            <a:custGeom>
              <a:avLst/>
              <a:gdLst>
                <a:gd name="textAreaLeft" fmla="*/ 0 w 201240"/>
                <a:gd name="textAreaRight" fmla="*/ 201600 w 201240"/>
                <a:gd name="textAreaTop" fmla="*/ 0 h 217800"/>
                <a:gd name="textAreaBottom" fmla="*/ 218160 h 217800"/>
              </a:gdLst>
              <a:ahLst/>
              <a:rect l="textAreaLeft" t="textAreaTop" r="textAreaRight" b="textAreaBottom"/>
              <a:pathLst>
                <a:path w="21600" h="21408">
                  <a:moveTo>
                    <a:pt x="6107" y="6431"/>
                  </a:moveTo>
                  <a:cubicBezTo>
                    <a:pt x="1583" y="10506"/>
                    <a:pt x="0" y="14989"/>
                    <a:pt x="0" y="21408"/>
                  </a:cubicBezTo>
                  <a:lnTo>
                    <a:pt x="21600" y="21408"/>
                  </a:lnTo>
                  <a:lnTo>
                    <a:pt x="21600" y="12"/>
                  </a:lnTo>
                  <a:cubicBezTo>
                    <a:pt x="17076" y="-192"/>
                    <a:pt x="10630" y="2355"/>
                    <a:pt x="6107" y="643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3" name="Shape 1866"/>
            <p:cNvSpPr/>
            <p:nvPr/>
          </p:nvSpPr>
          <p:spPr>
            <a:xfrm>
              <a:off x="9609120" y="1108224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897">
                  <a:moveTo>
                    <a:pt x="9993" y="330"/>
                  </a:moveTo>
                  <a:cubicBezTo>
                    <a:pt x="5842" y="1467"/>
                    <a:pt x="2306" y="4671"/>
                    <a:pt x="0" y="9012"/>
                  </a:cubicBezTo>
                  <a:lnTo>
                    <a:pt x="12760" y="20897"/>
                  </a:lnTo>
                  <a:lnTo>
                    <a:pt x="21600" y="3844"/>
                  </a:lnTo>
                  <a:cubicBezTo>
                    <a:pt x="18372" y="744"/>
                    <a:pt x="14374" y="-703"/>
                    <a:pt x="9993" y="330"/>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4" name="Shape 1867"/>
            <p:cNvSpPr/>
            <p:nvPr/>
          </p:nvSpPr>
          <p:spPr>
            <a:xfrm>
              <a:off x="9687240" y="11082600"/>
              <a:ext cx="284400" cy="212400"/>
            </a:xfrm>
            <a:custGeom>
              <a:avLst/>
              <a:gdLst>
                <a:gd name="textAreaLeft" fmla="*/ 0 w 284400"/>
                <a:gd name="textAreaRight" fmla="*/ 284760 w 284400"/>
                <a:gd name="textAreaTop" fmla="*/ 0 h 212400"/>
                <a:gd name="textAreaBottom" fmla="*/ 212760 h 212400"/>
              </a:gdLst>
              <a:ahLst/>
              <a:rect l="textAreaLeft" t="textAreaTop" r="textAreaRight" b="textAreaBottom"/>
              <a:pathLst>
                <a:path w="21600" h="20875">
                  <a:moveTo>
                    <a:pt x="12150" y="929"/>
                  </a:moveTo>
                  <a:cubicBezTo>
                    <a:pt x="7941" y="-725"/>
                    <a:pt x="3653" y="-105"/>
                    <a:pt x="0" y="2272"/>
                  </a:cubicBezTo>
                  <a:lnTo>
                    <a:pt x="7306" y="20875"/>
                  </a:lnTo>
                  <a:lnTo>
                    <a:pt x="21600" y="11367"/>
                  </a:lnTo>
                  <a:cubicBezTo>
                    <a:pt x="19615" y="6613"/>
                    <a:pt x="16279" y="2686"/>
                    <a:pt x="12150" y="929"/>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5" name="Shape 1868"/>
            <p:cNvSpPr/>
            <p:nvPr/>
          </p:nvSpPr>
          <p:spPr>
            <a:xfrm>
              <a:off x="9798120" y="11282760"/>
              <a:ext cx="196920" cy="219960"/>
            </a:xfrm>
            <a:custGeom>
              <a:avLst/>
              <a:gdLst>
                <a:gd name="textAreaLeft" fmla="*/ 0 w 196920"/>
                <a:gd name="textAreaRight" fmla="*/ 197280 w 196920"/>
                <a:gd name="textAreaTop" fmla="*/ 0 h 219960"/>
                <a:gd name="textAreaBottom" fmla="*/ 220320 h 219960"/>
              </a:gdLst>
              <a:ahLst/>
              <a:rect l="textAreaLeft" t="textAreaTop" r="textAreaRight" b="textAreaBottom"/>
              <a:pathLst>
                <a:path w="21600" h="21600">
                  <a:moveTo>
                    <a:pt x="15461" y="15120"/>
                  </a:moveTo>
                  <a:cubicBezTo>
                    <a:pt x="20008" y="11006"/>
                    <a:pt x="21600" y="6480"/>
                    <a:pt x="21600" y="0"/>
                  </a:cubicBezTo>
                  <a:lnTo>
                    <a:pt x="0" y="0"/>
                  </a:lnTo>
                  <a:lnTo>
                    <a:pt x="0" y="21600"/>
                  </a:lnTo>
                  <a:cubicBezTo>
                    <a:pt x="4434" y="21600"/>
                    <a:pt x="10914" y="19029"/>
                    <a:pt x="15461" y="15120"/>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6" name="Shape 1869"/>
            <p:cNvSpPr/>
            <p:nvPr/>
          </p:nvSpPr>
          <p:spPr>
            <a:xfrm>
              <a:off x="9664200" y="11287080"/>
              <a:ext cx="293400" cy="212760"/>
            </a:xfrm>
            <a:custGeom>
              <a:avLst/>
              <a:gdLst>
                <a:gd name="textAreaLeft" fmla="*/ 0 w 293400"/>
                <a:gd name="textAreaRight" fmla="*/ 293760 w 293400"/>
                <a:gd name="textAreaTop" fmla="*/ 0 h 212760"/>
                <a:gd name="textAreaBottom" fmla="*/ 213120 h 212760"/>
              </a:gdLst>
              <a:ahLst/>
              <a:rect l="textAreaLeft" t="textAreaTop" r="textAreaRight" b="textAreaBottom"/>
              <a:pathLst>
                <a:path w="21600" h="20912">
                  <a:moveTo>
                    <a:pt x="11607" y="20571"/>
                  </a:moveTo>
                  <a:cubicBezTo>
                    <a:pt x="15758" y="19440"/>
                    <a:pt x="19294" y="16251"/>
                    <a:pt x="21600" y="11931"/>
                  </a:cubicBezTo>
                  <a:lnTo>
                    <a:pt x="8840" y="0"/>
                  </a:lnTo>
                  <a:lnTo>
                    <a:pt x="0" y="17074"/>
                  </a:lnTo>
                  <a:cubicBezTo>
                    <a:pt x="3228" y="20263"/>
                    <a:pt x="7379" y="21600"/>
                    <a:pt x="11607" y="2057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7" name="Shape 1870"/>
            <p:cNvSpPr/>
            <p:nvPr/>
          </p:nvSpPr>
          <p:spPr>
            <a:xfrm>
              <a:off x="9595080" y="11287080"/>
              <a:ext cx="284400" cy="212040"/>
            </a:xfrm>
            <a:custGeom>
              <a:avLst/>
              <a:gdLst>
                <a:gd name="textAreaLeft" fmla="*/ 0 w 284400"/>
                <a:gd name="textAreaRight" fmla="*/ 284760 w 284400"/>
                <a:gd name="textAreaTop" fmla="*/ 0 h 212040"/>
                <a:gd name="textAreaBottom" fmla="*/ 212400 h 212040"/>
              </a:gdLst>
              <a:ahLst/>
              <a:rect l="textAreaLeft" t="textAreaTop" r="textAreaRight" b="textAreaBottom"/>
              <a:pathLst>
                <a:path w="21600" h="20854">
                  <a:moveTo>
                    <a:pt x="9450" y="19851"/>
                  </a:moveTo>
                  <a:cubicBezTo>
                    <a:pt x="13659" y="21600"/>
                    <a:pt x="17947" y="20983"/>
                    <a:pt x="21600" y="18617"/>
                  </a:cubicBezTo>
                  <a:lnTo>
                    <a:pt x="14294" y="0"/>
                  </a:lnTo>
                  <a:lnTo>
                    <a:pt x="0" y="9566"/>
                  </a:lnTo>
                  <a:cubicBezTo>
                    <a:pt x="1985" y="14297"/>
                    <a:pt x="5321" y="18206"/>
                    <a:pt x="9450" y="19851"/>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808" name="Shape 1871"/>
            <p:cNvSpPr/>
            <p:nvPr/>
          </p:nvSpPr>
          <p:spPr>
            <a:xfrm>
              <a:off x="9599400" y="11103480"/>
              <a:ext cx="372240" cy="371520"/>
            </a:xfrm>
            <a:custGeom>
              <a:avLst/>
              <a:gdLst>
                <a:gd name="textAreaLeft" fmla="*/ 0 w 372240"/>
                <a:gd name="textAreaRight" fmla="*/ 372600 w 372240"/>
                <a:gd name="textAreaTop" fmla="*/ 0 h 371520"/>
                <a:gd name="textAreaBottom" fmla="*/ 371880 h 371520"/>
              </a:gdLst>
              <a:ahLst/>
              <a:rect l="textAreaLeft" t="textAreaTop" r="textAreaRight" b="textAreaBottom"/>
              <a:pathLst>
                <a:path w="21361" h="21324">
                  <a:moveTo>
                    <a:pt x="18189" y="3126"/>
                  </a:moveTo>
                  <a:cubicBezTo>
                    <a:pt x="19625" y="4558"/>
                    <a:pt x="20463" y="5990"/>
                    <a:pt x="21001" y="7899"/>
                  </a:cubicBezTo>
                  <a:cubicBezTo>
                    <a:pt x="21480" y="9749"/>
                    <a:pt x="21480" y="11539"/>
                    <a:pt x="21001" y="13448"/>
                  </a:cubicBezTo>
                  <a:cubicBezTo>
                    <a:pt x="20463" y="15298"/>
                    <a:pt x="19565" y="16730"/>
                    <a:pt x="18189" y="18162"/>
                  </a:cubicBezTo>
                  <a:cubicBezTo>
                    <a:pt x="16753" y="19535"/>
                    <a:pt x="15257" y="20430"/>
                    <a:pt x="13402" y="20967"/>
                  </a:cubicBezTo>
                  <a:cubicBezTo>
                    <a:pt x="11488" y="21444"/>
                    <a:pt x="9812" y="21444"/>
                    <a:pt x="7898" y="20967"/>
                  </a:cubicBezTo>
                  <a:cubicBezTo>
                    <a:pt x="5983" y="20430"/>
                    <a:pt x="4487" y="19535"/>
                    <a:pt x="3111" y="18162"/>
                  </a:cubicBezTo>
                  <a:cubicBezTo>
                    <a:pt x="1735" y="16730"/>
                    <a:pt x="897" y="15298"/>
                    <a:pt x="359" y="13448"/>
                  </a:cubicBezTo>
                  <a:cubicBezTo>
                    <a:pt x="-120" y="11539"/>
                    <a:pt x="-120" y="9809"/>
                    <a:pt x="359" y="7899"/>
                  </a:cubicBezTo>
                  <a:cubicBezTo>
                    <a:pt x="897" y="6050"/>
                    <a:pt x="1735" y="4498"/>
                    <a:pt x="3111" y="3126"/>
                  </a:cubicBezTo>
                  <a:cubicBezTo>
                    <a:pt x="4487" y="1694"/>
                    <a:pt x="5983" y="858"/>
                    <a:pt x="7898" y="381"/>
                  </a:cubicBezTo>
                  <a:cubicBezTo>
                    <a:pt x="9812" y="-156"/>
                    <a:pt x="11548" y="-96"/>
                    <a:pt x="13402" y="381"/>
                  </a:cubicBezTo>
                  <a:cubicBezTo>
                    <a:pt x="15317" y="918"/>
                    <a:pt x="16813" y="1753"/>
                    <a:pt x="18189" y="3126"/>
                  </a:cubicBezTo>
                </a:path>
              </a:pathLst>
            </a:custGeom>
            <a:solidFill>
              <a:srgbClr val="f8f8f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809" name="Shape 1874"/>
          <p:cNvSpPr/>
          <p:nvPr/>
        </p:nvSpPr>
        <p:spPr>
          <a:xfrm>
            <a:off x="2031840" y="1708200"/>
            <a:ext cx="378432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it-IT" sz="11200" spc="559" strike="noStrike">
                <a:solidFill>
                  <a:srgbClr val="ffffff"/>
                </a:solidFill>
                <a:latin typeface="Montserrat Semi Bold"/>
                <a:ea typeface="Montserrat Semi Bold"/>
              </a:rPr>
              <a:t>Be.</a:t>
            </a:r>
            <a:endParaRPr b="0" lang="en-US" sz="11200" spc="-1" strike="noStrike">
              <a:solidFill>
                <a:srgbClr val="000000"/>
              </a:solidFill>
              <a:latin typeface="Arial"/>
            </a:endParaRPr>
          </a:p>
        </p:txBody>
      </p:sp>
      <p:sp>
        <p:nvSpPr>
          <p:cNvPr id="4810" name="Shape 1875"/>
          <p:cNvSpPr/>
          <p:nvPr/>
        </p:nvSpPr>
        <p:spPr>
          <a:xfrm>
            <a:off x="2032200" y="5537160"/>
            <a:ext cx="2945880" cy="39099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ffffff"/>
                </a:solidFill>
                <a:latin typeface="Montserrat"/>
                <a:ea typeface="Montserrat"/>
              </a:rPr>
              <a:t>White</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Tablet Mockupfor your</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Works</a:t>
            </a:r>
            <a:endParaRPr b="0" lang="en-US" sz="4800" spc="-1" strike="noStrike">
              <a:solidFill>
                <a:srgbClr val="000000"/>
              </a:solidFill>
              <a:latin typeface="Arial"/>
            </a:endParaRPr>
          </a:p>
        </p:txBody>
      </p:sp>
      <p:sp>
        <p:nvSpPr>
          <p:cNvPr id="4811" name="Shape 1876"/>
          <p:cNvSpPr/>
          <p:nvPr/>
        </p:nvSpPr>
        <p:spPr>
          <a:xfrm>
            <a:off x="14607360" y="1838880"/>
            <a:ext cx="774936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Nors fransto on dreso nade lesdiacw sids.</a:t>
            </a:r>
            <a:endParaRPr b="0" lang="en-US" sz="4800" spc="-1" strike="noStrike">
              <a:solidFill>
                <a:srgbClr val="000000"/>
              </a:solidFill>
              <a:latin typeface="Arial"/>
            </a:endParaRPr>
          </a:p>
        </p:txBody>
      </p:sp>
      <p:sp>
        <p:nvSpPr>
          <p:cNvPr id="4812" name="Shape 1877"/>
          <p:cNvSpPr/>
          <p:nvPr/>
        </p:nvSpPr>
        <p:spPr>
          <a:xfrm>
            <a:off x="16260840" y="5134320"/>
            <a:ext cx="6095520" cy="1139760"/>
          </a:xfrm>
          <a:prstGeom prst="rect">
            <a:avLst/>
          </a:prstGeom>
          <a:noFill/>
          <a:ln w="12700">
            <a:noFill/>
          </a:ln>
        </p:spPr>
        <p:style>
          <a:lnRef idx="0"/>
          <a:fillRef idx="0"/>
          <a:effectRef idx="0"/>
          <a:fontRef idx="minor"/>
        </p:style>
        <p:txBody>
          <a:bodyPr lIns="48600" rIns="48600" tIns="48600" bIns="4860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813" name="Shape 1878"/>
          <p:cNvSpPr/>
          <p:nvPr/>
        </p:nvSpPr>
        <p:spPr>
          <a:xfrm>
            <a:off x="16260840" y="437256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814" name="Shape 1879"/>
          <p:cNvSpPr/>
          <p:nvPr/>
        </p:nvSpPr>
        <p:spPr>
          <a:xfrm>
            <a:off x="16260840" y="708336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815" name="Shape 1880"/>
          <p:cNvSpPr/>
          <p:nvPr/>
        </p:nvSpPr>
        <p:spPr>
          <a:xfrm>
            <a:off x="16260840" y="979416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816" name="Shape 1881"/>
          <p:cNvSpPr/>
          <p:nvPr/>
        </p:nvSpPr>
        <p:spPr>
          <a:xfrm>
            <a:off x="16260840" y="784512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osan  granss rebum.</a:t>
            </a:r>
            <a:endParaRPr b="0" lang="en-US" sz="3000" spc="-1" strike="noStrike">
              <a:solidFill>
                <a:srgbClr val="000000"/>
              </a:solidFill>
              <a:latin typeface="Arial"/>
            </a:endParaRPr>
          </a:p>
        </p:txBody>
      </p:sp>
      <p:sp>
        <p:nvSpPr>
          <p:cNvPr id="4817" name="Shape 1882"/>
          <p:cNvSpPr/>
          <p:nvPr/>
        </p:nvSpPr>
        <p:spPr>
          <a:xfrm>
            <a:off x="16260840" y="1055628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roteto clita kuasd gubergren, nosotra seao itrado. </a:t>
            </a:r>
            <a:endParaRPr b="0" lang="en-US" sz="3000" spc="-1" strike="noStrike">
              <a:solidFill>
                <a:srgbClr val="000000"/>
              </a:solidFill>
              <a:latin typeface="Arial"/>
            </a:endParaRPr>
          </a:p>
        </p:txBody>
      </p:sp>
      <p:sp>
        <p:nvSpPr>
          <p:cNvPr id="4818" name="Shape 1883"/>
          <p:cNvSpPr/>
          <p:nvPr/>
        </p:nvSpPr>
        <p:spPr>
          <a:xfrm>
            <a:off x="14607360" y="398664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1</a:t>
            </a:r>
            <a:endParaRPr b="0" lang="en-US" sz="12000" spc="-1" strike="noStrike">
              <a:solidFill>
                <a:srgbClr val="000000"/>
              </a:solidFill>
              <a:latin typeface="Arial"/>
            </a:endParaRPr>
          </a:p>
        </p:txBody>
      </p:sp>
      <p:sp>
        <p:nvSpPr>
          <p:cNvPr id="4819" name="Shape 1884"/>
          <p:cNvSpPr/>
          <p:nvPr/>
        </p:nvSpPr>
        <p:spPr>
          <a:xfrm>
            <a:off x="14607360" y="670392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2</a:t>
            </a:r>
            <a:endParaRPr b="0" lang="en-US" sz="12000" spc="-1" strike="noStrike">
              <a:solidFill>
                <a:srgbClr val="000000"/>
              </a:solidFill>
              <a:latin typeface="Arial"/>
            </a:endParaRPr>
          </a:p>
        </p:txBody>
      </p:sp>
      <p:sp>
        <p:nvSpPr>
          <p:cNvPr id="4820" name="Shape 1885"/>
          <p:cNvSpPr/>
          <p:nvPr/>
        </p:nvSpPr>
        <p:spPr>
          <a:xfrm>
            <a:off x="14607360" y="942120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1" name="Shape 1888"/>
          <p:cNvSpPr/>
          <p:nvPr/>
        </p:nvSpPr>
        <p:spPr>
          <a:xfrm>
            <a:off x="13211640" y="1708200"/>
            <a:ext cx="914508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Your Great</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itel goes</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here</a:t>
            </a:r>
            <a:endParaRPr b="0" lang="en-US" sz="11200" spc="-1" strike="noStrike">
              <a:solidFill>
                <a:srgbClr val="000000"/>
              </a:solidFill>
              <a:latin typeface="Arial"/>
            </a:endParaRPr>
          </a:p>
        </p:txBody>
      </p:sp>
      <p:sp>
        <p:nvSpPr>
          <p:cNvPr id="4822" name="Shape 1889"/>
          <p:cNvSpPr/>
          <p:nvPr/>
        </p:nvSpPr>
        <p:spPr>
          <a:xfrm>
            <a:off x="13211640" y="6858000"/>
            <a:ext cx="9145080" cy="431604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a jam rebum. Stet clita kuasd gubergren, nosotra seao takimata sanctus Lorem ipsum dolor sit amet. Lorem eso ipsum dolor sit amet.</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bore eto o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3" name="Shape 1900"/>
          <p:cNvSpPr/>
          <p:nvPr/>
        </p:nvSpPr>
        <p:spPr>
          <a:xfrm>
            <a:off x="13211640" y="3803760"/>
            <a:ext cx="9144720" cy="2154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teot clita kuasd gubergren, nosotra eso seam takimata sanctus est Lorem ipsusit os druamet. Lorem eso ipsum dolor sit amet, deras contetur sadipscing elitroman cros,</a:t>
            </a:r>
            <a:endParaRPr b="0" lang="en-US" sz="3000" spc="-1" strike="noStrike">
              <a:solidFill>
                <a:srgbClr val="000000"/>
              </a:solidFill>
              <a:latin typeface="Arial"/>
            </a:endParaRPr>
          </a:p>
        </p:txBody>
      </p:sp>
      <p:sp>
        <p:nvSpPr>
          <p:cNvPr id="4824" name="Shape 1901"/>
          <p:cNvSpPr/>
          <p:nvPr/>
        </p:nvSpPr>
        <p:spPr>
          <a:xfrm>
            <a:off x="13211640" y="1899000"/>
            <a:ext cx="9144720" cy="19047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m danars vreso nade osf lesdiac sidorac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5" name="PlaceHolder 1"/>
          <p:cNvSpPr>
            <a:spLocks noGrp="1"/>
          </p:cNvSpPr>
          <p:nvPr>
            <p:ph type="sldNum" idx="106"/>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FE3F45B2-1123-4B45-8229-60A965FD3054}" type="slidenum">
              <a:rPr b="0" lang="en-US" sz="2800" spc="-1" strike="noStrike">
                <a:solidFill>
                  <a:srgbClr val="797979"/>
                </a:solidFill>
                <a:latin typeface="Helvetica Light"/>
                <a:ea typeface="Helvetica Light"/>
              </a:rPr>
              <a:t>55</a:t>
            </a:fld>
            <a:endParaRPr b="0" lang="en-US" sz="2800" spc="-1" strike="noStrike">
              <a:solidFill>
                <a:srgbClr val="000000"/>
              </a:solidFill>
              <a:latin typeface="Times New Roman"/>
            </a:endParaRPr>
          </a:p>
        </p:txBody>
      </p:sp>
      <p:sp>
        <p:nvSpPr>
          <p:cNvPr id="4826" name="Shape 1904"/>
          <p:cNvSpPr/>
          <p:nvPr/>
        </p:nvSpPr>
        <p:spPr>
          <a:xfrm>
            <a:off x="12192120" y="259236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27" name="Shape 1905"/>
          <p:cNvSpPr/>
          <p:nvPr/>
        </p:nvSpPr>
        <p:spPr>
          <a:xfrm>
            <a:off x="12192120" y="18306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828" name="Shape 1906"/>
          <p:cNvSpPr/>
          <p:nvPr/>
        </p:nvSpPr>
        <p:spPr>
          <a:xfrm>
            <a:off x="17718120" y="1830600"/>
            <a:ext cx="462564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829" name="Shape 1907"/>
          <p:cNvSpPr/>
          <p:nvPr/>
        </p:nvSpPr>
        <p:spPr>
          <a:xfrm>
            <a:off x="12189960" y="56142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830" name="Shape 1908"/>
          <p:cNvSpPr/>
          <p:nvPr/>
        </p:nvSpPr>
        <p:spPr>
          <a:xfrm>
            <a:off x="17715960" y="56142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PHOTOGRAPY</a:t>
            </a:r>
            <a:endParaRPr b="0" lang="en-US" sz="3000" spc="-1" strike="noStrike">
              <a:solidFill>
                <a:srgbClr val="000000"/>
              </a:solidFill>
              <a:latin typeface="Arial"/>
            </a:endParaRPr>
          </a:p>
        </p:txBody>
      </p:sp>
      <p:sp>
        <p:nvSpPr>
          <p:cNvPr id="4831" name="Shape 1909"/>
          <p:cNvSpPr/>
          <p:nvPr/>
        </p:nvSpPr>
        <p:spPr>
          <a:xfrm>
            <a:off x="17718120" y="259236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32" name="Shape 1910"/>
          <p:cNvSpPr/>
          <p:nvPr/>
        </p:nvSpPr>
        <p:spPr>
          <a:xfrm>
            <a:off x="12189960" y="63763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33" name="Shape 1911"/>
          <p:cNvSpPr/>
          <p:nvPr/>
        </p:nvSpPr>
        <p:spPr>
          <a:xfrm>
            <a:off x="17715960" y="63763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34" name="Shape 1912"/>
          <p:cNvSpPr/>
          <p:nvPr/>
        </p:nvSpPr>
        <p:spPr>
          <a:xfrm>
            <a:off x="2031840" y="1708200"/>
            <a:ext cx="7417800" cy="621468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212121"/>
                </a:solidFill>
                <a:latin typeface="Montserrat Semi Bold"/>
                <a:ea typeface="Montserrat Semi Bold"/>
              </a:rPr>
              <a:t>Creative</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212121"/>
                </a:solidFill>
                <a:latin typeface="Montserrat Semi Bold"/>
                <a:ea typeface="Montserrat Semi Bold"/>
              </a:rPr>
              <a:t>with</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212121"/>
                </a:solidFill>
                <a:latin typeface="Montserrat Semi Bold"/>
                <a:ea typeface="Montserrat Semi Bold"/>
              </a:rPr>
              <a:t>Design</a:t>
            </a:r>
            <a:endParaRPr b="0" lang="en-US" sz="11200" spc="-1" strike="noStrike">
              <a:solidFill>
                <a:srgbClr val="000000"/>
              </a:solidFill>
              <a:latin typeface="Arial"/>
            </a:endParaRPr>
          </a:p>
          <a:p>
            <a:pPr>
              <a:lnSpc>
                <a:spcPct val="80000"/>
              </a:lnSpc>
              <a:tabLst>
                <a:tab algn="l" pos="0"/>
              </a:tabLst>
            </a:pPr>
            <a:endParaRPr b="0" lang="en-US" sz="11200" spc="-1" strike="noStrike">
              <a:solidFill>
                <a:srgbClr val="000000"/>
              </a:solidFill>
              <a:latin typeface="Arial"/>
            </a:endParaRPr>
          </a:p>
        </p:txBody>
      </p:sp>
      <p:sp>
        <p:nvSpPr>
          <p:cNvPr id="4835" name="Shape 1913"/>
          <p:cNvSpPr/>
          <p:nvPr/>
        </p:nvSpPr>
        <p:spPr>
          <a:xfrm>
            <a:off x="12192120" y="93981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SUPPORT</a:t>
            </a:r>
            <a:endParaRPr b="0" lang="en-US" sz="3000" spc="-1" strike="noStrike">
              <a:solidFill>
                <a:srgbClr val="000000"/>
              </a:solidFill>
              <a:latin typeface="Arial"/>
            </a:endParaRPr>
          </a:p>
        </p:txBody>
      </p:sp>
      <p:sp>
        <p:nvSpPr>
          <p:cNvPr id="4836" name="Shape 1914"/>
          <p:cNvSpPr/>
          <p:nvPr/>
        </p:nvSpPr>
        <p:spPr>
          <a:xfrm>
            <a:off x="17715960" y="93981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RANDING</a:t>
            </a:r>
            <a:endParaRPr b="0" lang="en-US" sz="3000" spc="-1" strike="noStrike">
              <a:solidFill>
                <a:srgbClr val="000000"/>
              </a:solidFill>
              <a:latin typeface="Arial"/>
            </a:endParaRPr>
          </a:p>
        </p:txBody>
      </p:sp>
      <p:sp>
        <p:nvSpPr>
          <p:cNvPr id="4837" name="Shape 1915"/>
          <p:cNvSpPr/>
          <p:nvPr/>
        </p:nvSpPr>
        <p:spPr>
          <a:xfrm>
            <a:off x="12192120" y="101599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38" name="Shape 1916"/>
          <p:cNvSpPr/>
          <p:nvPr/>
        </p:nvSpPr>
        <p:spPr>
          <a:xfrm>
            <a:off x="17715960" y="101599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9" name="Shape 1919"/>
          <p:cNvSpPr/>
          <p:nvPr/>
        </p:nvSpPr>
        <p:spPr>
          <a:xfrm>
            <a:off x="2031840" y="1708200"/>
            <a:ext cx="1015992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it-IT"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p:txBody>
      </p:sp>
      <p:sp>
        <p:nvSpPr>
          <p:cNvPr id="4840" name="Shape 1920"/>
          <p:cNvSpPr/>
          <p:nvPr/>
        </p:nvSpPr>
        <p:spPr>
          <a:xfrm>
            <a:off x="2032200" y="4317840"/>
            <a:ext cx="10159560" cy="17823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Dolore osa magmona l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m idom volupo.</a:t>
            </a:r>
            <a:endParaRPr b="0" lang="en-US" sz="4800" spc="-1" strike="noStrike">
              <a:solidFill>
                <a:srgbClr val="000000"/>
              </a:solidFill>
              <a:latin typeface="Arial"/>
            </a:endParaRPr>
          </a:p>
        </p:txBody>
      </p:sp>
      <p:sp>
        <p:nvSpPr>
          <p:cNvPr id="4841" name="Shape 1921"/>
          <p:cNvSpPr/>
          <p:nvPr/>
        </p:nvSpPr>
        <p:spPr>
          <a:xfrm>
            <a:off x="2032200" y="6858000"/>
            <a:ext cx="1016460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ma jam rebum. Stet clita kuasd gubergren, nosotra sea takimata sanctus est Lorem ipsum dolor sit amet. Lorem eso ipsum dolor sit amet, deras consetetur sadipscing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4" name="Shape 1081"/>
          <p:cNvSpPr/>
          <p:nvPr/>
        </p:nvSpPr>
        <p:spPr>
          <a:xfrm>
            <a:off x="2031840" y="1708200"/>
            <a:ext cx="10159920" cy="312480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Welcom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Message</a:t>
            </a:r>
            <a:endParaRPr b="0" lang="en-US" sz="11200" spc="-1" strike="noStrike">
              <a:solidFill>
                <a:srgbClr val="000000"/>
              </a:solidFill>
              <a:latin typeface="Arial"/>
            </a:endParaRPr>
          </a:p>
        </p:txBody>
      </p:sp>
      <p:sp>
        <p:nvSpPr>
          <p:cNvPr id="4215" name="Shape 1082"/>
          <p:cNvSpPr/>
          <p:nvPr/>
        </p:nvSpPr>
        <p:spPr>
          <a:xfrm>
            <a:off x="2031840" y="6858000"/>
            <a:ext cx="914472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s. Sed diam dnie nonumy eirmod tempor invidunt utony labore etodre dolore magna aliquyam desando frond iron lares greadon.</a:t>
            </a:r>
            <a:endParaRPr b="0" lang="en-US" sz="3000" spc="-1" strike="noStrike">
              <a:solidFill>
                <a:srgbClr val="000000"/>
              </a:solidFill>
              <a:latin typeface="Arial"/>
            </a:endParaRPr>
          </a:p>
        </p:txBody>
      </p:sp>
      <p:sp>
        <p:nvSpPr>
          <p:cNvPr id="4216" name="Shape 1083"/>
          <p:cNvSpPr/>
          <p:nvPr/>
        </p:nvSpPr>
        <p:spPr>
          <a:xfrm>
            <a:off x="13212360" y="6858000"/>
            <a:ext cx="4571640" cy="5878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IKE FORMS</a:t>
            </a:r>
            <a:endParaRPr b="0" lang="en-US" sz="3000" spc="-1" strike="noStrike">
              <a:solidFill>
                <a:srgbClr val="000000"/>
              </a:solidFill>
              <a:latin typeface="Arial"/>
            </a:endParaRPr>
          </a:p>
        </p:txBody>
      </p:sp>
      <p:sp>
        <p:nvSpPr>
          <p:cNvPr id="4217" name="Shape 1084"/>
          <p:cNvSpPr/>
          <p:nvPr/>
        </p:nvSpPr>
        <p:spPr>
          <a:xfrm>
            <a:off x="13212360" y="7451640"/>
            <a:ext cx="4571640" cy="533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Ceo - Be Crea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2" name="Shape 1924"/>
          <p:cNvSpPr/>
          <p:nvPr/>
        </p:nvSpPr>
        <p:spPr>
          <a:xfrm>
            <a:off x="2031840" y="1708200"/>
            <a:ext cx="10159920" cy="2036160"/>
          </a:xfrm>
          <a:prstGeom prst="rect">
            <a:avLst/>
          </a:prstGeom>
          <a:noFill/>
          <a:ln w="0">
            <a:noFill/>
          </a:ln>
        </p:spPr>
        <p:style>
          <a:lnRef idx="0"/>
          <a:fillRef idx="0"/>
          <a:effectRef idx="0"/>
          <a:fontRef idx="minor"/>
        </p:style>
        <p:txBody>
          <a:bodyPr lIns="90000" rIns="90000" tIns="45000" bIns="45000" anchor="t">
            <a:noAutofit/>
          </a:bodyPr>
          <a:p>
            <a:pPr>
              <a:lnSpc>
                <a:spcPct val="80000"/>
              </a:lnSpc>
              <a:tabLst>
                <a:tab algn="l" pos="0"/>
              </a:tabLst>
            </a:pPr>
            <a:r>
              <a:rPr b="0" lang="it-IT"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p:txBody>
      </p:sp>
      <p:sp>
        <p:nvSpPr>
          <p:cNvPr id="4843" name="Shape 1925"/>
          <p:cNvSpPr/>
          <p:nvPr/>
        </p:nvSpPr>
        <p:spPr>
          <a:xfrm>
            <a:off x="2032200" y="4317840"/>
            <a:ext cx="10159560" cy="17823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Dolore osa magmona l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m idom volupo.</a:t>
            </a:r>
            <a:endParaRPr b="0" lang="en-US" sz="4800" spc="-1" strike="noStrike">
              <a:solidFill>
                <a:srgbClr val="000000"/>
              </a:solidFill>
              <a:latin typeface="Arial"/>
            </a:endParaRPr>
          </a:p>
        </p:txBody>
      </p:sp>
      <p:sp>
        <p:nvSpPr>
          <p:cNvPr id="4844" name="Shape 1926"/>
          <p:cNvSpPr/>
          <p:nvPr/>
        </p:nvSpPr>
        <p:spPr>
          <a:xfrm>
            <a:off x="2032200" y="6858000"/>
            <a:ext cx="9115920" cy="53575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a jam rebum. Stet clita kuasd gubergren, nosotra sea takimata sanctus Lorem ipsum dolor sit amet. Lorem eso ipsum dolor sit amet, deras consetetur asdips cing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bore eto o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5" name="Shape 1965"/>
          <p:cNvSpPr/>
          <p:nvPr/>
        </p:nvSpPr>
        <p:spPr>
          <a:xfrm>
            <a:off x="2031840" y="1708200"/>
            <a:ext cx="955008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ffffff"/>
                </a:solidFill>
                <a:latin typeface="Montserrat Semi Bold"/>
                <a:ea typeface="Montserrat Semi Bold"/>
              </a:rPr>
              <a:t>Your Great</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ffffff"/>
                </a:solidFill>
                <a:latin typeface="Montserrat Semi Bold"/>
                <a:ea typeface="Montserrat Semi Bold"/>
              </a:rPr>
              <a:t>Titel goes</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ffffff"/>
                </a:solidFill>
                <a:latin typeface="Montserrat Semi Bold"/>
                <a:ea typeface="Montserrat Semi Bold"/>
              </a:rPr>
              <a:t>here</a:t>
            </a:r>
            <a:endParaRPr b="0" lang="en-US" sz="11200" spc="-1" strike="noStrike">
              <a:solidFill>
                <a:srgbClr val="000000"/>
              </a:solidFill>
              <a:latin typeface="Arial"/>
            </a:endParaRPr>
          </a:p>
        </p:txBody>
      </p:sp>
      <p:sp>
        <p:nvSpPr>
          <p:cNvPr id="4846" name="Shape 1966"/>
          <p:cNvSpPr/>
          <p:nvPr/>
        </p:nvSpPr>
        <p:spPr>
          <a:xfrm>
            <a:off x="2031840" y="7188120"/>
            <a:ext cx="762588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At vero eos et accusam et justo fosduo dolores etoa jam rebum. Stet clita drin kuasd gubergren, nosotra seao takmata sanctus Lorem ipsum os dolor sit amet. Lorem eso ipsum dolor sit afradn.</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ffffff"/>
                </a:solidFill>
                <a:latin typeface="Montserrat Light"/>
                <a:ea typeface="Montserrat Light"/>
              </a:rPr>
              <a:t>Sed diam nie nonumy eirmod tempor invidunt ubore eto ogna aliquyam.</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7" name="Shape 1969"/>
          <p:cNvSpPr/>
          <p:nvPr/>
        </p:nvSpPr>
        <p:spPr>
          <a:xfrm>
            <a:off x="5803200" y="1710000"/>
            <a:ext cx="465588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Writ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itel</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here</a:t>
            </a:r>
            <a:endParaRPr b="0" lang="en-US" sz="11200" spc="-1" strike="noStrike">
              <a:solidFill>
                <a:srgbClr val="000000"/>
              </a:solidFill>
              <a:latin typeface="Arial"/>
            </a:endParaRPr>
          </a:p>
        </p:txBody>
      </p:sp>
      <p:sp>
        <p:nvSpPr>
          <p:cNvPr id="4848" name="Shape 1970"/>
          <p:cNvSpPr/>
          <p:nvPr/>
        </p:nvSpPr>
        <p:spPr>
          <a:xfrm>
            <a:off x="5803200" y="7392600"/>
            <a:ext cx="4655880" cy="4064040"/>
          </a:xfrm>
          <a:prstGeom prst="rect">
            <a:avLst/>
          </a:prstGeom>
          <a:noFill/>
          <a:ln w="12700">
            <a:noFill/>
          </a:ln>
        </p:spPr>
        <p:style>
          <a:lnRef idx="0"/>
          <a:fillRef idx="0"/>
          <a:effectRef idx="0"/>
          <a:fontRef idx="minor"/>
        </p:style>
        <p:txBody>
          <a:bodyPr lIns="50760" rIns="50760" tIns="50760" bIns="50760" anchor="t">
            <a:noAutofit/>
          </a:bodyPr>
          <a:p>
            <a:pPr algn="just">
              <a:lnSpc>
                <a:spcPct val="120000"/>
              </a:lnSpc>
              <a:spcBef>
                <a:spcPts val="5899"/>
              </a:spcBef>
              <a:tabLst>
                <a:tab algn="l" pos="0"/>
              </a:tabLst>
            </a:pPr>
            <a:r>
              <a:rPr b="0" lang="en-US" sz="3000" spc="-1" strike="noStrike">
                <a:solidFill>
                  <a:srgbClr val="5e5e5e"/>
                </a:solidFill>
                <a:latin typeface="Montserrat Light"/>
                <a:ea typeface="Montserrat Light"/>
              </a:rPr>
              <a:t>Sonet grosn clita kuasd gubergren, nosotra dra seao takimata sanctus tipsum dolor sit amet. Lorem ekodos ipsum ptroga neslo dolor sit amet iras for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9" name="Shape 1978"/>
          <p:cNvSpPr/>
          <p:nvPr/>
        </p:nvSpPr>
        <p:spPr>
          <a:xfrm>
            <a:off x="2031840" y="1708200"/>
            <a:ext cx="507960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Style</a:t>
            </a:r>
            <a:endParaRPr b="0" lang="en-US" sz="11200" spc="-1" strike="noStrike">
              <a:solidFill>
                <a:srgbClr val="000000"/>
              </a:solidFill>
              <a:latin typeface="Arial"/>
            </a:endParaRPr>
          </a:p>
        </p:txBody>
      </p:sp>
      <p:sp>
        <p:nvSpPr>
          <p:cNvPr id="4850" name="Shape 1979"/>
          <p:cNvSpPr/>
          <p:nvPr/>
        </p:nvSpPr>
        <p:spPr>
          <a:xfrm>
            <a:off x="2032200" y="4381560"/>
            <a:ext cx="5079600" cy="20361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da osa mago ona leso dame.</a:t>
            </a:r>
            <a:endParaRPr b="0" lang="en-US" sz="4800" spc="-1" strike="noStrike">
              <a:solidFill>
                <a:srgbClr val="000000"/>
              </a:solidFill>
              <a:latin typeface="Arial"/>
            </a:endParaRPr>
          </a:p>
        </p:txBody>
      </p:sp>
      <p:sp>
        <p:nvSpPr>
          <p:cNvPr id="4851" name="Shape 1980"/>
          <p:cNvSpPr/>
          <p:nvPr/>
        </p:nvSpPr>
        <p:spPr>
          <a:xfrm>
            <a:off x="2031840" y="6858000"/>
            <a:ext cx="5079600" cy="50788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a jam rebum. Stet clita kuasd gubergren, nosotra sea takimata sanctus Lorem ipsum dolor sit amet. Lorem eso ipsum dolor sit amet, deras consetetu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2" name="Shape 1988"/>
          <p:cNvSpPr/>
          <p:nvPr/>
        </p:nvSpPr>
        <p:spPr>
          <a:xfrm>
            <a:off x="17259480" y="1708200"/>
            <a:ext cx="507960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Style</a:t>
            </a:r>
            <a:endParaRPr b="0" lang="en-US" sz="11200" spc="-1" strike="noStrike">
              <a:solidFill>
                <a:srgbClr val="000000"/>
              </a:solidFill>
              <a:latin typeface="Arial"/>
            </a:endParaRPr>
          </a:p>
        </p:txBody>
      </p:sp>
      <p:sp>
        <p:nvSpPr>
          <p:cNvPr id="4853" name="Shape 1989"/>
          <p:cNvSpPr/>
          <p:nvPr/>
        </p:nvSpPr>
        <p:spPr>
          <a:xfrm>
            <a:off x="17259480" y="4317840"/>
            <a:ext cx="5079600" cy="20361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ada osa mago ona leso damer.</a:t>
            </a:r>
            <a:endParaRPr b="0" lang="en-US" sz="4800" spc="-1" strike="noStrike">
              <a:solidFill>
                <a:srgbClr val="000000"/>
              </a:solidFill>
              <a:latin typeface="Arial"/>
            </a:endParaRPr>
          </a:p>
        </p:txBody>
      </p:sp>
      <p:sp>
        <p:nvSpPr>
          <p:cNvPr id="4854" name="Shape 1990"/>
          <p:cNvSpPr/>
          <p:nvPr/>
        </p:nvSpPr>
        <p:spPr>
          <a:xfrm>
            <a:off x="17259480" y="6858000"/>
            <a:ext cx="507960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a jam rebum. Stet clita kuasd gubergren, nosotra sea takimata sanctus Lorem ipsum dolor sit amet. Lorem eso ipsum dolor sit amet, deras consetetur.</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5" name="Shape 1993"/>
          <p:cNvSpPr/>
          <p:nvPr/>
        </p:nvSpPr>
        <p:spPr>
          <a:xfrm>
            <a:off x="2031840" y="1708200"/>
            <a:ext cx="1015992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Your Great</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itel goes</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here</a:t>
            </a:r>
            <a:endParaRPr b="0" lang="en-US" sz="11200" spc="-1" strike="noStrike">
              <a:solidFill>
                <a:srgbClr val="000000"/>
              </a:solidFill>
              <a:latin typeface="Arial"/>
            </a:endParaRPr>
          </a:p>
        </p:txBody>
      </p:sp>
      <p:sp>
        <p:nvSpPr>
          <p:cNvPr id="4856" name="Shape 1994"/>
          <p:cNvSpPr/>
          <p:nvPr/>
        </p:nvSpPr>
        <p:spPr>
          <a:xfrm>
            <a:off x="2031840" y="6858000"/>
            <a:ext cx="9145080" cy="431604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a jam rebum. Stet clita kuasd gubergren, nosotra seao takimata sanctus Lorem ipsum dolor sit amet. Lorem eso ipsum dolor sit amet.</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bore eto o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7" name="Shape 1998"/>
          <p:cNvSpPr/>
          <p:nvPr/>
        </p:nvSpPr>
        <p:spPr>
          <a:xfrm>
            <a:off x="2031840" y="1708200"/>
            <a:ext cx="8686800" cy="3574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Your Titel goes here</a:t>
            </a:r>
            <a:endParaRPr b="0" lang="en-US" sz="11200" spc="-1" strike="noStrike">
              <a:solidFill>
                <a:srgbClr val="000000"/>
              </a:solidFill>
              <a:latin typeface="Arial"/>
            </a:endParaRPr>
          </a:p>
        </p:txBody>
      </p:sp>
      <p:sp>
        <p:nvSpPr>
          <p:cNvPr id="4858" name="Shape 1999"/>
          <p:cNvSpPr/>
          <p:nvPr/>
        </p:nvSpPr>
        <p:spPr>
          <a:xfrm>
            <a:off x="13211640" y="8319960"/>
            <a:ext cx="9145080" cy="37062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a jam rebum. Stet clita kuasd gubergren, dolor sit amet. Lorem eso ipsum dolor sit amet.</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bore eto o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9" name="Shape 2004"/>
          <p:cNvSpPr/>
          <p:nvPr/>
        </p:nvSpPr>
        <p:spPr>
          <a:xfrm>
            <a:off x="15626160" y="1708200"/>
            <a:ext cx="6728400" cy="514944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Writ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itel</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here</a:t>
            </a:r>
            <a:endParaRPr b="0" lang="en-US" sz="11200" spc="-1" strike="noStrike">
              <a:solidFill>
                <a:srgbClr val="000000"/>
              </a:solidFill>
              <a:latin typeface="Arial"/>
            </a:endParaRPr>
          </a:p>
        </p:txBody>
      </p:sp>
      <p:sp>
        <p:nvSpPr>
          <p:cNvPr id="4860" name="Shape 2005"/>
          <p:cNvSpPr/>
          <p:nvPr/>
        </p:nvSpPr>
        <p:spPr>
          <a:xfrm>
            <a:off x="15624360" y="6858000"/>
            <a:ext cx="6728400" cy="48247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onet grosn clita kuasd gubergren, nosotra dra seao takimata sanctus tipsum dolor sit amet. Lorem eso ipsum ptroga neslo dolor sit amet.</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Medos diam nie nonumy eirmod tempor invidunt ubore eto ogna al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1" name="Shape 2016"/>
          <p:cNvSpPr/>
          <p:nvPr/>
        </p:nvSpPr>
        <p:spPr>
          <a:xfrm>
            <a:off x="0" y="0"/>
            <a:ext cx="9102240" cy="13715640"/>
          </a:xfrm>
          <a:prstGeom prst="rect">
            <a:avLst/>
          </a:prstGeom>
          <a:solidFill>
            <a:srgbClr val="212121"/>
          </a:solidFill>
          <a:ln w="12700">
            <a:noFill/>
          </a:ln>
          <a:effectLst>
            <a:outerShdw blurRad="38160" dir="5400000" dist="25560" rotWithShape="0">
              <a:srgbClr val="000000">
                <a:alpha val="50000"/>
              </a:srgbClr>
            </a:outerShdw>
          </a:effectLst>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862" name="PlaceHolder 1"/>
          <p:cNvSpPr>
            <a:spLocks noGrp="1"/>
          </p:cNvSpPr>
          <p:nvPr>
            <p:ph type="sldNum" idx="107"/>
          </p:nvPr>
        </p:nvSpPr>
        <p:spPr>
          <a:xfrm>
            <a:off x="21849120" y="12318840"/>
            <a:ext cx="50940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FF38D7E7-4F6C-4421-AA3F-A0732107447F}" type="slidenum">
              <a:rPr b="0" lang="en-US" sz="2800" spc="-1" strike="noStrike">
                <a:solidFill>
                  <a:srgbClr val="797979"/>
                </a:solidFill>
                <a:latin typeface="Helvetica Light"/>
                <a:ea typeface="Helvetica Light"/>
              </a:rPr>
              <a:t>67</a:t>
            </a:fld>
            <a:endParaRPr b="0" lang="en-US" sz="2800" spc="-1" strike="noStrike">
              <a:solidFill>
                <a:srgbClr val="000000"/>
              </a:solidFill>
              <a:latin typeface="Times New Roman"/>
            </a:endParaRPr>
          </a:p>
        </p:txBody>
      </p:sp>
      <p:sp>
        <p:nvSpPr>
          <p:cNvPr id="4863" name="PlaceHolder 2"/>
          <p:cNvSpPr>
            <a:spLocks noGrp="1"/>
          </p:cNvSpPr>
          <p:nvPr>
            <p:ph type="title"/>
          </p:nvPr>
        </p:nvSpPr>
        <p:spPr>
          <a:xfrm>
            <a:off x="2031840" y="1835280"/>
            <a:ext cx="4566600" cy="1714320"/>
          </a:xfrm>
          <a:prstGeom prst="rect">
            <a:avLst/>
          </a:prstGeom>
          <a:noFill/>
          <a:ln w="12600">
            <a:noFill/>
          </a:ln>
        </p:spPr>
        <p:txBody>
          <a:bodyPr lIns="0" rIns="0" tIns="0" bIns="0" anchor="t">
            <a:noAutofit/>
          </a:bodyPr>
          <a:p>
            <a:pPr indent="0">
              <a:lnSpc>
                <a:spcPct val="100000"/>
              </a:lnSpc>
              <a:buNone/>
              <a:tabLst>
                <a:tab algn="l" pos="0"/>
              </a:tabLst>
            </a:pPr>
            <a:r>
              <a:rPr b="0" lang="en-US" sz="4800" spc="239" strike="noStrike">
                <a:solidFill>
                  <a:srgbClr val="ffffff"/>
                </a:solidFill>
                <a:latin typeface="Montserrat"/>
                <a:ea typeface="Montserrat"/>
              </a:rPr>
              <a:t>Our</a:t>
            </a:r>
            <a:endParaRPr b="0" lang="en-US" sz="4800" spc="-1" strike="noStrike">
              <a:solidFill>
                <a:srgbClr val="009193"/>
              </a:solidFill>
              <a:latin typeface="Helvetica Light"/>
            </a:endParaRPr>
          </a:p>
          <a:p>
            <a:pPr indent="0">
              <a:lnSpc>
                <a:spcPct val="100000"/>
              </a:lnSpc>
              <a:buNone/>
              <a:tabLst>
                <a:tab algn="l" pos="0"/>
              </a:tabLst>
            </a:pPr>
            <a:r>
              <a:rPr b="0" lang="en-US" sz="4800" spc="239" strike="noStrike">
                <a:solidFill>
                  <a:srgbClr val="ffffff"/>
                </a:solidFill>
                <a:latin typeface="Montserrat"/>
                <a:ea typeface="Montserrat"/>
              </a:rPr>
              <a:t>Services</a:t>
            </a:r>
            <a:endParaRPr b="0" lang="en-US" sz="4800" spc="-1" strike="noStrike">
              <a:solidFill>
                <a:srgbClr val="009193"/>
              </a:solidFill>
              <a:latin typeface="Helvetica Light"/>
            </a:endParaRPr>
          </a:p>
        </p:txBody>
      </p:sp>
      <p:sp>
        <p:nvSpPr>
          <p:cNvPr id="4864" name="Shape 2019"/>
          <p:cNvSpPr/>
          <p:nvPr/>
        </p:nvSpPr>
        <p:spPr>
          <a:xfrm>
            <a:off x="11308680" y="1899000"/>
            <a:ext cx="1777680" cy="177768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865" name="Shape 2020"/>
          <p:cNvSpPr/>
          <p:nvPr/>
        </p:nvSpPr>
        <p:spPr>
          <a:xfrm>
            <a:off x="11302920" y="4631400"/>
            <a:ext cx="1777680" cy="177768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866" name="Shape 2021"/>
          <p:cNvSpPr/>
          <p:nvPr/>
        </p:nvSpPr>
        <p:spPr>
          <a:xfrm>
            <a:off x="11302920" y="10031400"/>
            <a:ext cx="1777680" cy="177768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867" name="Shape 2022"/>
          <p:cNvSpPr/>
          <p:nvPr/>
        </p:nvSpPr>
        <p:spPr>
          <a:xfrm>
            <a:off x="11302920" y="7363800"/>
            <a:ext cx="1777680" cy="1777680"/>
          </a:xfrm>
          <a:prstGeom prst="ellipse">
            <a:avLst/>
          </a:prstGeom>
          <a:solidFill>
            <a:srgbClr val="ebebeb"/>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868" name="Shape 2023"/>
          <p:cNvSpPr/>
          <p:nvPr/>
        </p:nvSpPr>
        <p:spPr>
          <a:xfrm>
            <a:off x="2031840" y="4419720"/>
            <a:ext cx="4566600" cy="75798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At vero eos et accusam et justo fosduo dolores etoa jam rebum. Stet on clita kuasd gubergren, nosotra seao takimata sianctus Lorem ipsum dolor sifon amet. Lorem eso ipsum dolor sit amet. Sed diam nie nonumy dros eirmod tempor invidunt ubore eto ogna aliquyam eratosda desando greadon.</a:t>
            </a:r>
            <a:endParaRPr b="0" lang="en-US" sz="3000" spc="-1" strike="noStrike">
              <a:solidFill>
                <a:srgbClr val="000000"/>
              </a:solidFill>
              <a:latin typeface="Arial"/>
            </a:endParaRPr>
          </a:p>
        </p:txBody>
      </p:sp>
      <p:sp>
        <p:nvSpPr>
          <p:cNvPr id="4869" name="Shape 2024"/>
          <p:cNvSpPr/>
          <p:nvPr/>
        </p:nvSpPr>
        <p:spPr>
          <a:xfrm>
            <a:off x="15318000" y="259236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70" name="Shape 2025"/>
          <p:cNvSpPr/>
          <p:nvPr/>
        </p:nvSpPr>
        <p:spPr>
          <a:xfrm>
            <a:off x="15318000" y="183060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01. CREATIVE DESIGN</a:t>
            </a:r>
            <a:endParaRPr b="0" lang="en-US" sz="3000" spc="-1" strike="noStrike">
              <a:solidFill>
                <a:srgbClr val="000000"/>
              </a:solidFill>
              <a:latin typeface="Arial"/>
            </a:endParaRPr>
          </a:p>
        </p:txBody>
      </p:sp>
      <p:sp>
        <p:nvSpPr>
          <p:cNvPr id="4871" name="Shape 2026"/>
          <p:cNvSpPr/>
          <p:nvPr/>
        </p:nvSpPr>
        <p:spPr>
          <a:xfrm>
            <a:off x="15318000" y="454140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02. APP DEVELOPMENT</a:t>
            </a:r>
            <a:endParaRPr b="0" lang="en-US" sz="3000" spc="-1" strike="noStrike">
              <a:solidFill>
                <a:srgbClr val="000000"/>
              </a:solidFill>
              <a:latin typeface="Arial"/>
            </a:endParaRPr>
          </a:p>
        </p:txBody>
      </p:sp>
      <p:sp>
        <p:nvSpPr>
          <p:cNvPr id="4872" name="Shape 2027"/>
          <p:cNvSpPr/>
          <p:nvPr/>
        </p:nvSpPr>
        <p:spPr>
          <a:xfrm>
            <a:off x="15318000" y="725220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03. MARKETING</a:t>
            </a:r>
            <a:endParaRPr b="0" lang="en-US" sz="3000" spc="-1" strike="noStrike">
              <a:solidFill>
                <a:srgbClr val="000000"/>
              </a:solidFill>
              <a:latin typeface="Arial"/>
            </a:endParaRPr>
          </a:p>
        </p:txBody>
      </p:sp>
      <p:sp>
        <p:nvSpPr>
          <p:cNvPr id="4873" name="Shape 2028"/>
          <p:cNvSpPr/>
          <p:nvPr/>
        </p:nvSpPr>
        <p:spPr>
          <a:xfrm>
            <a:off x="15318000" y="9963000"/>
            <a:ext cx="70387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04. PHOTOGRAPY</a:t>
            </a:r>
            <a:endParaRPr b="0" lang="en-US" sz="3000" spc="-1" strike="noStrike">
              <a:solidFill>
                <a:srgbClr val="000000"/>
              </a:solidFill>
              <a:latin typeface="Arial"/>
            </a:endParaRPr>
          </a:p>
        </p:txBody>
      </p:sp>
      <p:sp>
        <p:nvSpPr>
          <p:cNvPr id="4874" name="Shape 2029"/>
          <p:cNvSpPr/>
          <p:nvPr/>
        </p:nvSpPr>
        <p:spPr>
          <a:xfrm>
            <a:off x="15318000" y="530316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75" name="Shape 2030"/>
          <p:cNvSpPr/>
          <p:nvPr/>
        </p:nvSpPr>
        <p:spPr>
          <a:xfrm>
            <a:off x="15318000" y="801432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76" name="Shape 2031"/>
          <p:cNvSpPr/>
          <p:nvPr/>
        </p:nvSpPr>
        <p:spPr>
          <a:xfrm>
            <a:off x="15318000" y="10725120"/>
            <a:ext cx="70387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877" name="Shape 2032"/>
          <p:cNvSpPr/>
          <p:nvPr/>
        </p:nvSpPr>
        <p:spPr>
          <a:xfrm>
            <a:off x="11430000" y="2262240"/>
            <a:ext cx="1523520" cy="10760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878" name="Shape 2033"/>
          <p:cNvSpPr/>
          <p:nvPr/>
        </p:nvSpPr>
        <p:spPr>
          <a:xfrm>
            <a:off x="11430000" y="4960440"/>
            <a:ext cx="1523520" cy="10760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879" name="Shape 2034"/>
          <p:cNvSpPr/>
          <p:nvPr/>
        </p:nvSpPr>
        <p:spPr>
          <a:xfrm>
            <a:off x="11430000" y="7671600"/>
            <a:ext cx="1523520" cy="10760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
        <p:nvSpPr>
          <p:cNvPr id="4880" name="Shape 2035"/>
          <p:cNvSpPr/>
          <p:nvPr/>
        </p:nvSpPr>
        <p:spPr>
          <a:xfrm>
            <a:off x="11430000" y="10382400"/>
            <a:ext cx="1523520" cy="1076040"/>
          </a:xfrm>
          <a:prstGeom prst="rect">
            <a:avLst/>
          </a:prstGeom>
          <a:noFill/>
          <a:ln w="12700">
            <a:noFill/>
          </a:ln>
        </p:spPr>
        <p:style>
          <a:lnRef idx="0"/>
          <a:fillRef idx="0"/>
          <a:effectRef idx="0"/>
          <a:fontRef idx="minor"/>
        </p:style>
        <p:txBody>
          <a:bodyPr lIns="50760" rIns="50760" tIns="50760" bIns="50760" anchor="ctr">
            <a:sp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8" name="Shape 1087"/>
          <p:cNvSpPr/>
          <p:nvPr/>
        </p:nvSpPr>
        <p:spPr>
          <a:xfrm>
            <a:off x="2031840" y="1708200"/>
            <a:ext cx="9145080" cy="321732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ffffff"/>
                </a:solidFill>
                <a:latin typeface="Montserrat Semi Bold"/>
                <a:ea typeface="Montserrat Semi Bold"/>
              </a:rPr>
              <a:t>History of </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ffffff"/>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endParaRPr b="0" lang="en-US" sz="11200" spc="-1" strike="noStrike">
              <a:solidFill>
                <a:srgbClr val="000000"/>
              </a:solidFill>
              <a:latin typeface="Arial"/>
            </a:endParaRPr>
          </a:p>
          <a:p>
            <a:pPr>
              <a:lnSpc>
                <a:spcPct val="80000"/>
              </a:lnSpc>
              <a:tabLst>
                <a:tab algn="l" pos="0"/>
              </a:tabLst>
            </a:pPr>
            <a:endParaRPr b="0" lang="en-US" sz="11200" spc="-1" strike="noStrike">
              <a:solidFill>
                <a:srgbClr val="000000"/>
              </a:solidFill>
              <a:latin typeface="Arial"/>
            </a:endParaRPr>
          </a:p>
        </p:txBody>
      </p:sp>
      <p:sp>
        <p:nvSpPr>
          <p:cNvPr id="4219" name="Shape 1088"/>
          <p:cNvSpPr/>
          <p:nvPr/>
        </p:nvSpPr>
        <p:spPr>
          <a:xfrm>
            <a:off x="13211640" y="1799640"/>
            <a:ext cx="914472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4220" name="Shape 1089"/>
          <p:cNvSpPr/>
          <p:nvPr/>
        </p:nvSpPr>
        <p:spPr>
          <a:xfrm>
            <a:off x="13211640" y="4445640"/>
            <a:ext cx="914472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s. Sed diam dnie nonumy eirmod tempor invidunt utony labore etodre dolore magna aliquyam desando frond iron lares greadon.</a:t>
            </a:r>
            <a:endParaRPr b="0" lang="en-US" sz="3000" spc="-1" strike="noStrike">
              <a:solidFill>
                <a:srgbClr val="000000"/>
              </a:solidFill>
              <a:latin typeface="Arial"/>
            </a:endParaRPr>
          </a:p>
        </p:txBody>
      </p:sp>
      <p:sp>
        <p:nvSpPr>
          <p:cNvPr id="4221" name="Shape 1090"/>
          <p:cNvSpPr/>
          <p:nvPr/>
        </p:nvSpPr>
        <p:spPr>
          <a:xfrm>
            <a:off x="13211640" y="10669680"/>
            <a:ext cx="9144720" cy="127512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som rebum. Steto clita kuasd gubergren, nosotra frone seao. </a:t>
            </a:r>
            <a:endParaRPr b="0" lang="en-US" sz="3000" spc="-1" strike="noStrike">
              <a:solidFill>
                <a:srgbClr val="000000"/>
              </a:solidFill>
              <a:latin typeface="Arial"/>
            </a:endParaRPr>
          </a:p>
        </p:txBody>
      </p:sp>
      <p:sp>
        <p:nvSpPr>
          <p:cNvPr id="4222" name="Shape 1091"/>
          <p:cNvSpPr/>
          <p:nvPr/>
        </p:nvSpPr>
        <p:spPr>
          <a:xfrm>
            <a:off x="13211640" y="99075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1" name="Shape 2038"/>
          <p:cNvSpPr/>
          <p:nvPr/>
        </p:nvSpPr>
        <p:spPr>
          <a:xfrm>
            <a:off x="8003520" y="1835280"/>
            <a:ext cx="4566960" cy="1714320"/>
          </a:xfrm>
          <a:prstGeom prst="rect">
            <a:avLst/>
          </a:prstGeom>
          <a:noFill/>
          <a:ln w="12700">
            <a:noFill/>
          </a:ln>
        </p:spPr>
        <p:style>
          <a:lnRef idx="0"/>
          <a:fillRef idx="0"/>
          <a:effectRef idx="0"/>
          <a:fontRef idx="minor"/>
        </p:style>
        <p:txBody>
          <a:bodyPr lIns="0" rIns="0" tIns="0" bIns="0" anchor="t">
            <a:normAutofit/>
          </a:bodyPr>
          <a:p>
            <a:pPr>
              <a:lnSpc>
                <a:spcPct val="100000"/>
              </a:lnSpc>
              <a:tabLst>
                <a:tab algn="l" pos="0"/>
              </a:tabLst>
            </a:pPr>
            <a:r>
              <a:rPr b="0" lang="de-DE" sz="4800" spc="239" strike="noStrike">
                <a:solidFill>
                  <a:srgbClr val="ffffff"/>
                </a:solidFill>
                <a:latin typeface="Montserrat"/>
                <a:ea typeface="Montserrat"/>
              </a:rPr>
              <a:t>Write here</a:t>
            </a:r>
            <a:endParaRPr b="0" lang="en-US" sz="4800" spc="-1" strike="noStrike">
              <a:solidFill>
                <a:srgbClr val="000000"/>
              </a:solidFill>
              <a:latin typeface="Arial"/>
            </a:endParaRPr>
          </a:p>
          <a:p>
            <a:pPr>
              <a:lnSpc>
                <a:spcPct val="100000"/>
              </a:lnSpc>
              <a:tabLst>
                <a:tab algn="l" pos="0"/>
              </a:tabLst>
            </a:pPr>
            <a:r>
              <a:rPr b="0" lang="de-DE" sz="4800" spc="239" strike="noStrike">
                <a:solidFill>
                  <a:srgbClr val="ffffff"/>
                </a:solidFill>
                <a:latin typeface="Montserrat"/>
                <a:ea typeface="Montserrat"/>
              </a:rPr>
              <a:t>your title</a:t>
            </a:r>
            <a:endParaRPr b="0" lang="en-US" sz="4800" spc="-1" strike="noStrike">
              <a:solidFill>
                <a:srgbClr val="000000"/>
              </a:solidFill>
              <a:latin typeface="Arial"/>
            </a:endParaRPr>
          </a:p>
        </p:txBody>
      </p:sp>
      <p:sp>
        <p:nvSpPr>
          <p:cNvPr id="4882" name="Shape 2039"/>
          <p:cNvSpPr/>
          <p:nvPr/>
        </p:nvSpPr>
        <p:spPr>
          <a:xfrm>
            <a:off x="8003520" y="4298040"/>
            <a:ext cx="4566960" cy="75798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At vero eos eto accusam et justo fosdiuo dolores etoa jam rebum. Stet on clita kuasd gubergren, nosotra seado takimata sianctus Lorem ipsum dolor sifon amet. Lorem eso ipsum dolor onro sit amet. Sed diam niemo nonumy driosta eirmod tempor invidunt ubore etom is ogna aliquyam eratosda desando greadon.</a:t>
            </a:r>
            <a:endParaRPr b="0" lang="en-US" sz="3000" spc="-1" strike="noStrike">
              <a:solidFill>
                <a:srgbClr val="000000"/>
              </a:solidFill>
              <a:latin typeface="Arial"/>
            </a:endParaRPr>
          </a:p>
        </p:txBody>
      </p:sp>
      <p:sp>
        <p:nvSpPr>
          <p:cNvPr id="4883" name="Shape 2040"/>
          <p:cNvSpPr/>
          <p:nvPr/>
        </p:nvSpPr>
        <p:spPr>
          <a:xfrm>
            <a:off x="16588080" y="2592360"/>
            <a:ext cx="609552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884" name="Shape 2041"/>
          <p:cNvSpPr/>
          <p:nvPr/>
        </p:nvSpPr>
        <p:spPr>
          <a:xfrm>
            <a:off x="16588080" y="18306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885" name="Shape 2042"/>
          <p:cNvSpPr/>
          <p:nvPr/>
        </p:nvSpPr>
        <p:spPr>
          <a:xfrm>
            <a:off x="16588080" y="45414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886" name="Shape 2043"/>
          <p:cNvSpPr/>
          <p:nvPr/>
        </p:nvSpPr>
        <p:spPr>
          <a:xfrm>
            <a:off x="16587720" y="72522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887" name="Shape 2044"/>
          <p:cNvSpPr/>
          <p:nvPr/>
        </p:nvSpPr>
        <p:spPr>
          <a:xfrm>
            <a:off x="16587720" y="99630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PHOTOGRAPY</a:t>
            </a:r>
            <a:endParaRPr b="0" lang="en-US" sz="3000" spc="-1" strike="noStrike">
              <a:solidFill>
                <a:srgbClr val="000000"/>
              </a:solidFill>
              <a:latin typeface="Arial"/>
            </a:endParaRPr>
          </a:p>
        </p:txBody>
      </p:sp>
      <p:sp>
        <p:nvSpPr>
          <p:cNvPr id="4888" name="Shape 2045"/>
          <p:cNvSpPr/>
          <p:nvPr/>
        </p:nvSpPr>
        <p:spPr>
          <a:xfrm>
            <a:off x="16588080" y="530316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osan  granss rebum.</a:t>
            </a:r>
            <a:endParaRPr b="0" lang="en-US" sz="3000" spc="-1" strike="noStrike">
              <a:solidFill>
                <a:srgbClr val="000000"/>
              </a:solidFill>
              <a:latin typeface="Arial"/>
            </a:endParaRPr>
          </a:p>
        </p:txBody>
      </p:sp>
      <p:sp>
        <p:nvSpPr>
          <p:cNvPr id="4889" name="Shape 2046"/>
          <p:cNvSpPr/>
          <p:nvPr/>
        </p:nvSpPr>
        <p:spPr>
          <a:xfrm>
            <a:off x="16588080" y="801432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roteto clita kuasd gubergren, nosotra seao itrado. </a:t>
            </a:r>
            <a:endParaRPr b="0" lang="en-US" sz="3000" spc="-1" strike="noStrike">
              <a:solidFill>
                <a:srgbClr val="000000"/>
              </a:solidFill>
              <a:latin typeface="Arial"/>
            </a:endParaRPr>
          </a:p>
        </p:txBody>
      </p:sp>
      <p:sp>
        <p:nvSpPr>
          <p:cNvPr id="4890" name="Shape 2047"/>
          <p:cNvSpPr/>
          <p:nvPr/>
        </p:nvSpPr>
        <p:spPr>
          <a:xfrm>
            <a:off x="16588080" y="1072512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Lores etoa jam rebum kuasd gubergren, nosotra seao. </a:t>
            </a:r>
            <a:endParaRPr b="0" lang="en-US" sz="3000" spc="-1" strike="noStrike">
              <a:solidFill>
                <a:srgbClr val="000000"/>
              </a:solidFill>
              <a:latin typeface="Arial"/>
            </a:endParaRPr>
          </a:p>
        </p:txBody>
      </p:sp>
      <p:sp>
        <p:nvSpPr>
          <p:cNvPr id="4891" name="Shape 2048"/>
          <p:cNvSpPr/>
          <p:nvPr/>
        </p:nvSpPr>
        <p:spPr>
          <a:xfrm>
            <a:off x="14934240" y="144468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1</a:t>
            </a:r>
            <a:endParaRPr b="0" lang="en-US" sz="12000" spc="-1" strike="noStrike">
              <a:solidFill>
                <a:srgbClr val="000000"/>
              </a:solidFill>
              <a:latin typeface="Arial"/>
            </a:endParaRPr>
          </a:p>
        </p:txBody>
      </p:sp>
      <p:sp>
        <p:nvSpPr>
          <p:cNvPr id="4892" name="Shape 2049"/>
          <p:cNvSpPr/>
          <p:nvPr/>
        </p:nvSpPr>
        <p:spPr>
          <a:xfrm>
            <a:off x="14934240" y="416196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2</a:t>
            </a:r>
            <a:endParaRPr b="0" lang="en-US" sz="12000" spc="-1" strike="noStrike">
              <a:solidFill>
                <a:srgbClr val="000000"/>
              </a:solidFill>
              <a:latin typeface="Arial"/>
            </a:endParaRPr>
          </a:p>
        </p:txBody>
      </p:sp>
      <p:sp>
        <p:nvSpPr>
          <p:cNvPr id="4893" name="Shape 2050"/>
          <p:cNvSpPr/>
          <p:nvPr/>
        </p:nvSpPr>
        <p:spPr>
          <a:xfrm>
            <a:off x="14934240" y="687924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a:t>
            </a:r>
            <a:endParaRPr b="0" lang="en-US" sz="12000" spc="-1" strike="noStrike">
              <a:solidFill>
                <a:srgbClr val="000000"/>
              </a:solidFill>
              <a:latin typeface="Arial"/>
            </a:endParaRPr>
          </a:p>
        </p:txBody>
      </p:sp>
      <p:sp>
        <p:nvSpPr>
          <p:cNvPr id="4894" name="Shape 2051"/>
          <p:cNvSpPr/>
          <p:nvPr/>
        </p:nvSpPr>
        <p:spPr>
          <a:xfrm>
            <a:off x="14934240" y="959004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4</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5" name="Shape 2054"/>
          <p:cNvSpPr/>
          <p:nvPr/>
        </p:nvSpPr>
        <p:spPr>
          <a:xfrm>
            <a:off x="18671400" y="1835280"/>
            <a:ext cx="4566960" cy="1714320"/>
          </a:xfrm>
          <a:prstGeom prst="rect">
            <a:avLst/>
          </a:prstGeom>
          <a:noFill/>
          <a:ln w="12700">
            <a:noFill/>
          </a:ln>
        </p:spPr>
        <p:style>
          <a:lnRef idx="0"/>
          <a:fillRef idx="0"/>
          <a:effectRef idx="0"/>
          <a:fontRef idx="minor"/>
        </p:style>
        <p:txBody>
          <a:bodyPr lIns="0" rIns="0" tIns="0" bIns="0" anchor="t">
            <a:normAutofit/>
          </a:bodyPr>
          <a:p>
            <a:pPr>
              <a:lnSpc>
                <a:spcPct val="100000"/>
              </a:lnSpc>
              <a:tabLst>
                <a:tab algn="l" pos="0"/>
              </a:tabLst>
            </a:pPr>
            <a:r>
              <a:rPr b="0" lang="de-DE" sz="4800" spc="239" strike="noStrike">
                <a:solidFill>
                  <a:srgbClr val="ffffff"/>
                </a:solidFill>
                <a:latin typeface="Montserrat"/>
                <a:ea typeface="Montserrat"/>
              </a:rPr>
              <a:t>Write here</a:t>
            </a:r>
            <a:endParaRPr b="0" lang="en-US" sz="4800" spc="-1" strike="noStrike">
              <a:solidFill>
                <a:srgbClr val="000000"/>
              </a:solidFill>
              <a:latin typeface="Arial"/>
            </a:endParaRPr>
          </a:p>
          <a:p>
            <a:pPr>
              <a:lnSpc>
                <a:spcPct val="100000"/>
              </a:lnSpc>
              <a:tabLst>
                <a:tab algn="l" pos="0"/>
              </a:tabLst>
            </a:pPr>
            <a:r>
              <a:rPr b="0" lang="de-DE" sz="4800" spc="239" strike="noStrike">
                <a:solidFill>
                  <a:srgbClr val="ffffff"/>
                </a:solidFill>
                <a:latin typeface="Montserrat"/>
                <a:ea typeface="Montserrat"/>
              </a:rPr>
              <a:t>your title</a:t>
            </a:r>
            <a:endParaRPr b="0" lang="en-US" sz="4800" spc="-1" strike="noStrike">
              <a:solidFill>
                <a:srgbClr val="000000"/>
              </a:solidFill>
              <a:latin typeface="Arial"/>
            </a:endParaRPr>
          </a:p>
        </p:txBody>
      </p:sp>
      <p:sp>
        <p:nvSpPr>
          <p:cNvPr id="4896" name="Shape 2055"/>
          <p:cNvSpPr/>
          <p:nvPr/>
        </p:nvSpPr>
        <p:spPr>
          <a:xfrm>
            <a:off x="18671400" y="4298040"/>
            <a:ext cx="3685320" cy="70030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At vero eos beton accusam et justo fosdiuo it dolores etoa jam rebum. Stet on clita kuasd gubergren, nosotra seado tan kimata sianct nus Dorems ipsum dolor sifon amet. Lorem esos ipsum dolor onro sit amet.</a:t>
            </a:r>
            <a:endParaRPr b="0" lang="en-US" sz="3000" spc="-1" strike="noStrike">
              <a:solidFill>
                <a:srgbClr val="000000"/>
              </a:solidFill>
              <a:latin typeface="Arial"/>
            </a:endParaRPr>
          </a:p>
        </p:txBody>
      </p:sp>
      <p:sp>
        <p:nvSpPr>
          <p:cNvPr id="4897" name="Shape 2056"/>
          <p:cNvSpPr/>
          <p:nvPr/>
        </p:nvSpPr>
        <p:spPr>
          <a:xfrm>
            <a:off x="3570480" y="2592360"/>
            <a:ext cx="609552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898" name="Shape 2057"/>
          <p:cNvSpPr/>
          <p:nvPr/>
        </p:nvSpPr>
        <p:spPr>
          <a:xfrm>
            <a:off x="3570480" y="18306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899" name="Shape 2058"/>
          <p:cNvSpPr/>
          <p:nvPr/>
        </p:nvSpPr>
        <p:spPr>
          <a:xfrm>
            <a:off x="3570480" y="45414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900" name="Shape 2059"/>
          <p:cNvSpPr/>
          <p:nvPr/>
        </p:nvSpPr>
        <p:spPr>
          <a:xfrm>
            <a:off x="3570480" y="72522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901" name="Shape 2060"/>
          <p:cNvSpPr/>
          <p:nvPr/>
        </p:nvSpPr>
        <p:spPr>
          <a:xfrm>
            <a:off x="3570480" y="99630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PHOTOGRAPY</a:t>
            </a:r>
            <a:endParaRPr b="0" lang="en-US" sz="3000" spc="-1" strike="noStrike">
              <a:solidFill>
                <a:srgbClr val="000000"/>
              </a:solidFill>
              <a:latin typeface="Arial"/>
            </a:endParaRPr>
          </a:p>
        </p:txBody>
      </p:sp>
      <p:sp>
        <p:nvSpPr>
          <p:cNvPr id="4902" name="Shape 2061"/>
          <p:cNvSpPr/>
          <p:nvPr/>
        </p:nvSpPr>
        <p:spPr>
          <a:xfrm>
            <a:off x="3570480" y="530316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osan  granss rebum.</a:t>
            </a:r>
            <a:endParaRPr b="0" lang="en-US" sz="3000" spc="-1" strike="noStrike">
              <a:solidFill>
                <a:srgbClr val="000000"/>
              </a:solidFill>
              <a:latin typeface="Arial"/>
            </a:endParaRPr>
          </a:p>
        </p:txBody>
      </p:sp>
      <p:sp>
        <p:nvSpPr>
          <p:cNvPr id="4903" name="Shape 2062"/>
          <p:cNvSpPr/>
          <p:nvPr/>
        </p:nvSpPr>
        <p:spPr>
          <a:xfrm>
            <a:off x="3570480" y="801432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roteto clita kuasd gubergren, nosotra seao itrado. </a:t>
            </a:r>
            <a:endParaRPr b="0" lang="en-US" sz="3000" spc="-1" strike="noStrike">
              <a:solidFill>
                <a:srgbClr val="000000"/>
              </a:solidFill>
              <a:latin typeface="Arial"/>
            </a:endParaRPr>
          </a:p>
        </p:txBody>
      </p:sp>
      <p:sp>
        <p:nvSpPr>
          <p:cNvPr id="4904" name="Shape 2063"/>
          <p:cNvSpPr/>
          <p:nvPr/>
        </p:nvSpPr>
        <p:spPr>
          <a:xfrm>
            <a:off x="3570480" y="1072512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Lores etoa jam rebum kuasd gubergren, nosotra seao. </a:t>
            </a:r>
            <a:endParaRPr b="0" lang="en-US" sz="3000" spc="-1" strike="noStrike">
              <a:solidFill>
                <a:srgbClr val="000000"/>
              </a:solidFill>
              <a:latin typeface="Arial"/>
            </a:endParaRPr>
          </a:p>
        </p:txBody>
      </p:sp>
      <p:sp>
        <p:nvSpPr>
          <p:cNvPr id="4905" name="Shape 2064"/>
          <p:cNvSpPr/>
          <p:nvPr/>
        </p:nvSpPr>
        <p:spPr>
          <a:xfrm>
            <a:off x="1917000" y="144468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1</a:t>
            </a:r>
            <a:endParaRPr b="0" lang="en-US" sz="12000" spc="-1" strike="noStrike">
              <a:solidFill>
                <a:srgbClr val="000000"/>
              </a:solidFill>
              <a:latin typeface="Arial"/>
            </a:endParaRPr>
          </a:p>
        </p:txBody>
      </p:sp>
      <p:sp>
        <p:nvSpPr>
          <p:cNvPr id="4906" name="Shape 2065"/>
          <p:cNvSpPr/>
          <p:nvPr/>
        </p:nvSpPr>
        <p:spPr>
          <a:xfrm>
            <a:off x="1917000" y="416196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2</a:t>
            </a:r>
            <a:endParaRPr b="0" lang="en-US" sz="12000" spc="-1" strike="noStrike">
              <a:solidFill>
                <a:srgbClr val="000000"/>
              </a:solidFill>
              <a:latin typeface="Arial"/>
            </a:endParaRPr>
          </a:p>
        </p:txBody>
      </p:sp>
      <p:sp>
        <p:nvSpPr>
          <p:cNvPr id="4907" name="Shape 2066"/>
          <p:cNvSpPr/>
          <p:nvPr/>
        </p:nvSpPr>
        <p:spPr>
          <a:xfrm>
            <a:off x="1917000" y="687924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a:t>
            </a:r>
            <a:endParaRPr b="0" lang="en-US" sz="12000" spc="-1" strike="noStrike">
              <a:solidFill>
                <a:srgbClr val="000000"/>
              </a:solidFill>
              <a:latin typeface="Arial"/>
            </a:endParaRPr>
          </a:p>
        </p:txBody>
      </p:sp>
      <p:sp>
        <p:nvSpPr>
          <p:cNvPr id="4908" name="Shape 2067"/>
          <p:cNvSpPr/>
          <p:nvPr/>
        </p:nvSpPr>
        <p:spPr>
          <a:xfrm>
            <a:off x="1917000" y="959004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4</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9" name="Shape 2075"/>
          <p:cNvSpPr/>
          <p:nvPr/>
        </p:nvSpPr>
        <p:spPr>
          <a:xfrm>
            <a:off x="2035080" y="1708200"/>
            <a:ext cx="914184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Portfolio</a:t>
            </a:r>
            <a:endParaRPr b="0" lang="en-US" sz="11200" spc="-1" strike="noStrike">
              <a:solidFill>
                <a:srgbClr val="000000"/>
              </a:solidFill>
              <a:latin typeface="Arial"/>
            </a:endParaRPr>
          </a:p>
        </p:txBody>
      </p:sp>
      <p:sp>
        <p:nvSpPr>
          <p:cNvPr id="4910" name="Shape 2076"/>
          <p:cNvSpPr/>
          <p:nvPr/>
        </p:nvSpPr>
        <p:spPr>
          <a:xfrm>
            <a:off x="2035080" y="4317840"/>
            <a:ext cx="7614360" cy="253980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Dolore osa magona leso diam es idom volupo dros.</a:t>
            </a:r>
            <a:endParaRPr b="0" lang="en-US" sz="4800" spc="-1" strike="noStrike">
              <a:solidFill>
                <a:srgbClr val="000000"/>
              </a:solidFill>
              <a:latin typeface="Arial"/>
            </a:endParaRPr>
          </a:p>
        </p:txBody>
      </p:sp>
      <p:sp>
        <p:nvSpPr>
          <p:cNvPr id="4911" name="Shape 2077"/>
          <p:cNvSpPr/>
          <p:nvPr/>
        </p:nvSpPr>
        <p:spPr>
          <a:xfrm>
            <a:off x="12192120" y="1905480"/>
            <a:ext cx="10164600" cy="16545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onet grosn clita kuasd gubergren, nosotra dra seao takimata sanctus tipsum dolor sitcom es 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2" name="Shape 2083"/>
          <p:cNvSpPr/>
          <p:nvPr/>
        </p:nvSpPr>
        <p:spPr>
          <a:xfrm>
            <a:off x="2035080" y="6858000"/>
            <a:ext cx="9144720" cy="41374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ffffff"/>
                </a:solidFill>
                <a:latin typeface="Montserrat"/>
                <a:ea typeface="Montserrat"/>
              </a:rPr>
              <a:t>Mese magmona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dreso nade les</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diacw sidom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bring volumes</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esonds.</a:t>
            </a:r>
            <a:endParaRPr b="0" lang="en-US" sz="4800" spc="-1" strike="noStrike">
              <a:solidFill>
                <a:srgbClr val="000000"/>
              </a:solidFill>
              <a:latin typeface="Arial"/>
            </a:endParaRPr>
          </a:p>
        </p:txBody>
      </p:sp>
      <p:sp>
        <p:nvSpPr>
          <p:cNvPr id="4913" name="Shape 2084"/>
          <p:cNvSpPr/>
          <p:nvPr/>
        </p:nvSpPr>
        <p:spPr>
          <a:xfrm>
            <a:off x="13211640" y="6858000"/>
            <a:ext cx="914472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s. Sed diam dnie nonumy eirmod tempor invidunt utony labore etodre dolore magna aliquyam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4" name="Shape 2091"/>
          <p:cNvSpPr/>
          <p:nvPr/>
        </p:nvSpPr>
        <p:spPr>
          <a:xfrm>
            <a:off x="2035080" y="1841400"/>
            <a:ext cx="9144720" cy="4070160"/>
          </a:xfrm>
          <a:prstGeom prst="rect">
            <a:avLst/>
          </a:prstGeom>
          <a:noFill/>
          <a:ln w="12700">
            <a:noFill/>
          </a:ln>
        </p:spPr>
        <p:style>
          <a:lnRef idx="0"/>
          <a:fillRef idx="0"/>
          <a:effectRef idx="0"/>
          <a:fontRef idx="minor"/>
        </p:style>
        <p:txBody>
          <a:bodyPr lIns="50760" rIns="50760" tIns="50760" bIns="50760" anchor="ctr">
            <a:noAutofit/>
          </a:bodyPr>
          <a:p>
            <a:pPr>
              <a:lnSpc>
                <a:spcPct val="100000"/>
              </a:lnSpc>
              <a:tabLst>
                <a:tab algn="l" pos="0"/>
              </a:tabLst>
            </a:pPr>
            <a:r>
              <a:rPr b="0" lang="en-US" sz="4800" spc="239" strike="noStrike">
                <a:solidFill>
                  <a:srgbClr val="212121"/>
                </a:solidFill>
                <a:latin typeface="Montserrat"/>
                <a:ea typeface="Montserrat"/>
              </a:rPr>
              <a:t>Be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Creative</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and make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something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new.</a:t>
            </a:r>
            <a:endParaRPr b="0" lang="en-US" sz="4800" spc="-1" strike="noStrike">
              <a:solidFill>
                <a:srgbClr val="000000"/>
              </a:solidFill>
              <a:latin typeface="Arial"/>
            </a:endParaRPr>
          </a:p>
        </p:txBody>
      </p:sp>
      <p:sp>
        <p:nvSpPr>
          <p:cNvPr id="4915" name="Shape 2092"/>
          <p:cNvSpPr/>
          <p:nvPr/>
        </p:nvSpPr>
        <p:spPr>
          <a:xfrm>
            <a:off x="13211640" y="1892160"/>
            <a:ext cx="9144720" cy="396828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ma jam rebum. Stet clita kuasd gubergren, nosotra sea takimata sanctus est Lorem ipsum dolor sit amet. Lorem eso ipsum dolor sit amet, deras consetetur sadipscing elitromas. invidunt ut labore eto dolore magn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6" name="Shape 2108"/>
          <p:cNvSpPr/>
          <p:nvPr/>
        </p:nvSpPr>
        <p:spPr>
          <a:xfrm>
            <a:off x="2035080" y="1708200"/>
            <a:ext cx="9141840" cy="3773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Design</a:t>
            </a:r>
            <a:endParaRPr b="0" lang="en-US" sz="11200" spc="-1" strike="noStrike">
              <a:solidFill>
                <a:srgbClr val="000000"/>
              </a:solidFill>
              <a:latin typeface="Arial"/>
            </a:endParaRPr>
          </a:p>
        </p:txBody>
      </p:sp>
      <p:sp>
        <p:nvSpPr>
          <p:cNvPr id="4917" name="Shape 2109"/>
          <p:cNvSpPr/>
          <p:nvPr/>
        </p:nvSpPr>
        <p:spPr>
          <a:xfrm>
            <a:off x="2032200" y="6222960"/>
            <a:ext cx="914472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4918" name="Shape 2110"/>
          <p:cNvSpPr/>
          <p:nvPr/>
        </p:nvSpPr>
        <p:spPr>
          <a:xfrm>
            <a:off x="2035080" y="9059760"/>
            <a:ext cx="9144720" cy="31759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9" name="Shape 2115"/>
          <p:cNvSpPr/>
          <p:nvPr/>
        </p:nvSpPr>
        <p:spPr>
          <a:xfrm>
            <a:off x="11179080" y="1708200"/>
            <a:ext cx="9141840" cy="3773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Creative</a:t>
            </a:r>
            <a:endParaRPr b="0" lang="en-US" sz="11200" spc="-1" strike="noStrike">
              <a:solidFill>
                <a:srgbClr val="000000"/>
              </a:solidFill>
              <a:latin typeface="Arial"/>
            </a:endParaRPr>
          </a:p>
        </p:txBody>
      </p:sp>
      <p:sp>
        <p:nvSpPr>
          <p:cNvPr id="4920" name="Shape 2116"/>
          <p:cNvSpPr/>
          <p:nvPr/>
        </p:nvSpPr>
        <p:spPr>
          <a:xfrm>
            <a:off x="16009200" y="6642000"/>
            <a:ext cx="634680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From danars vreso nade osf lesdiacw sidoraco.</a:t>
            </a:r>
            <a:endParaRPr b="0" lang="en-US" sz="4800" spc="-1" strike="noStrike">
              <a:solidFill>
                <a:srgbClr val="000000"/>
              </a:solidFill>
              <a:latin typeface="Arial"/>
            </a:endParaRPr>
          </a:p>
        </p:txBody>
      </p:sp>
      <p:sp>
        <p:nvSpPr>
          <p:cNvPr id="4921" name="Shape 2117"/>
          <p:cNvSpPr/>
          <p:nvPr/>
        </p:nvSpPr>
        <p:spPr>
          <a:xfrm>
            <a:off x="16009200" y="9605880"/>
            <a:ext cx="6346800" cy="24148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Nosotra sea takimata sanctus est Lorem ipsusit druamet. Lorem eso ipsum dolor sit amet, deras consetetur sadipscing elitro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2" name="Shape 2125"/>
          <p:cNvSpPr/>
          <p:nvPr/>
        </p:nvSpPr>
        <p:spPr>
          <a:xfrm>
            <a:off x="2035080" y="1708200"/>
            <a:ext cx="5900760" cy="63489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Mak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it cool and</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clean</a:t>
            </a:r>
            <a:endParaRPr b="0" lang="en-US" sz="11200" spc="-1" strike="noStrike">
              <a:solidFill>
                <a:srgbClr val="000000"/>
              </a:solidFill>
              <a:latin typeface="Arial"/>
            </a:endParaRPr>
          </a:p>
        </p:txBody>
      </p:sp>
      <p:sp>
        <p:nvSpPr>
          <p:cNvPr id="4923" name="Shape 2126"/>
          <p:cNvSpPr/>
          <p:nvPr/>
        </p:nvSpPr>
        <p:spPr>
          <a:xfrm>
            <a:off x="2035080" y="9610200"/>
            <a:ext cx="9144720" cy="2412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oteot clita kuasd gubergren, nosotra seam takimata sanctus est Lorem ipsusit druamet. Lorem eso ipsum dolor sit amet, deras consetetur sadipscing elitro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4" name="PlaceHolder 1"/>
          <p:cNvSpPr>
            <a:spLocks noGrp="1"/>
          </p:cNvSpPr>
          <p:nvPr>
            <p:ph type="sldNum" idx="108"/>
          </p:nvPr>
        </p:nvSpPr>
        <p:spPr>
          <a:xfrm>
            <a:off x="21849120" y="12318840"/>
            <a:ext cx="509400" cy="533160"/>
          </a:xfrm>
          <a:prstGeom prst="rect">
            <a:avLst/>
          </a:prstGeom>
          <a:noFill/>
          <a:ln w="12600">
            <a:noFill/>
          </a:ln>
        </p:spPr>
        <p:txBody>
          <a:bodyPr lIns="50760" rIns="50760" tIns="50760" bIns="50760" anchor="t">
            <a:noAutofit/>
          </a:bodyPr>
          <a:lstStyle>
            <a:lvl1pPr indent="0" algn="ctr">
              <a:lnSpc>
                <a:spcPct val="100000"/>
              </a:lnSpc>
              <a:buNone/>
              <a:tabLst>
                <a:tab algn="l" pos="0"/>
              </a:tabLst>
              <a:defRPr b="0" lang="en-US" sz="2400" spc="-1" strike="noStrike">
                <a:solidFill>
                  <a:srgbClr val="000000"/>
                </a:solidFill>
                <a:latin typeface="Helvetica Light"/>
                <a:ea typeface="Helvetica Light"/>
              </a:defRPr>
            </a:lvl1pPr>
          </a:lstStyle>
          <a:p>
            <a:pPr indent="0" algn="ctr">
              <a:lnSpc>
                <a:spcPct val="100000"/>
              </a:lnSpc>
              <a:buNone/>
              <a:tabLst>
                <a:tab algn="l" pos="0"/>
              </a:tabLst>
            </a:pPr>
            <a:fld id="{1A4C2AE2-8A5D-495F-B1E7-C13F39D9065E}" type="slidenum">
              <a:rPr b="0" lang="en-US" sz="2400" spc="-1" strike="noStrike">
                <a:solidFill>
                  <a:srgbClr val="000000"/>
                </a:solidFill>
                <a:latin typeface="Helvetica Light"/>
                <a:ea typeface="Helvetica Light"/>
              </a:rPr>
              <a:t>77</a:t>
            </a:fld>
            <a:endParaRPr b="0" lang="en-US" sz="2400" spc="-1" strike="noStrike">
              <a:solidFill>
                <a:srgbClr val="000000"/>
              </a:solidFill>
              <a:latin typeface="Times New Roman"/>
            </a:endParaRPr>
          </a:p>
        </p:txBody>
      </p:sp>
      <p:sp>
        <p:nvSpPr>
          <p:cNvPr id="4925" name="Shape 2129"/>
          <p:cNvSpPr/>
          <p:nvPr/>
        </p:nvSpPr>
        <p:spPr>
          <a:xfrm>
            <a:off x="13211640" y="1784160"/>
            <a:ext cx="9144720" cy="292068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r>
              <a:rPr b="1" lang="de-DE" sz="8400" spc="-1" strike="noStrike">
                <a:solidFill>
                  <a:srgbClr val="212121"/>
                </a:solidFill>
                <a:latin typeface="Arial"/>
                <a:ea typeface="Arial"/>
              </a:rPr>
              <a:t>Image</a:t>
            </a:r>
            <a:endParaRPr b="0" lang="en-US" sz="8400" spc="-1" strike="noStrike">
              <a:solidFill>
                <a:srgbClr val="000000"/>
              </a:solidFill>
              <a:latin typeface="Arial"/>
            </a:endParaRPr>
          </a:p>
          <a:p>
            <a:pPr>
              <a:lnSpc>
                <a:spcPct val="100000"/>
              </a:lnSpc>
              <a:tabLst>
                <a:tab algn="l" pos="0"/>
              </a:tabLst>
            </a:pPr>
            <a:r>
              <a:rPr b="1" lang="de-DE" sz="8400" spc="-1" strike="noStrike">
                <a:solidFill>
                  <a:srgbClr val="212121"/>
                </a:solidFill>
                <a:latin typeface="Arial"/>
                <a:ea typeface="Arial"/>
              </a:rPr>
              <a:t>Layout</a:t>
            </a:r>
            <a:endParaRPr b="0" lang="en-US" sz="8400" spc="-1" strike="noStrike">
              <a:solidFill>
                <a:srgbClr val="000000"/>
              </a:solidFill>
              <a:latin typeface="Arial"/>
            </a:endParaRPr>
          </a:p>
        </p:txBody>
      </p:sp>
      <p:sp>
        <p:nvSpPr>
          <p:cNvPr id="4926" name="Shape 2130"/>
          <p:cNvSpPr/>
          <p:nvPr/>
        </p:nvSpPr>
        <p:spPr>
          <a:xfrm>
            <a:off x="13201920" y="5207040"/>
            <a:ext cx="9164160" cy="450324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e justo fosduo esodra dolores etoma jam rebum. Stet clita inm kuasd gubergren, nosotra sea takimata sanctus estos Lorem ipsusit druamet. Lorem eso ipsum dolor siter amet, deras consetetur sadipscing drpasa elitromas. Sed diam dodsnie nonumy eirmod tempor invidunt utum labore.</a:t>
            </a:r>
            <a:endParaRPr b="0" lang="en-US" sz="3000" spc="-1" strike="noStrike">
              <a:solidFill>
                <a:srgbClr val="000000"/>
              </a:solidFill>
              <a:latin typeface="Arial"/>
            </a:endParaRPr>
          </a:p>
        </p:txBody>
      </p:sp>
      <p:sp>
        <p:nvSpPr>
          <p:cNvPr id="4927" name="Shape 2131"/>
          <p:cNvSpPr/>
          <p:nvPr/>
        </p:nvSpPr>
        <p:spPr>
          <a:xfrm>
            <a:off x="13211640" y="9646560"/>
            <a:ext cx="9144720" cy="227592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Orem eso ipsum dolor sit amet, Farna mro deras consetetur sadipscing elitromas. Sed diam dnie nonumy eirmod tempor invidunt ut labore etodre dolore fon magna aliquyam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8" name="Shape 2141"/>
          <p:cNvSpPr/>
          <p:nvPr/>
        </p:nvSpPr>
        <p:spPr>
          <a:xfrm rot="5400000">
            <a:off x="5065560" y="3757320"/>
            <a:ext cx="4892760" cy="15023520"/>
          </a:xfrm>
          <a:custGeom>
            <a:avLst/>
            <a:gdLst>
              <a:gd name="textAreaLeft" fmla="*/ 0 w 4892760"/>
              <a:gd name="textAreaRight" fmla="*/ 4893120 w 4892760"/>
              <a:gd name="textAreaTop" fmla="*/ 0 h 15023520"/>
              <a:gd name="textAreaBottom" fmla="*/ 15023880 h 15023520"/>
            </a:gdLst>
            <a:ahLst/>
            <a:rect l="textAreaLeft" t="textAreaTop" r="textAreaRight" b="textAreaBottom"/>
            <a:pathLst>
              <a:path w="21600" h="21600">
                <a:moveTo>
                  <a:pt x="0" y="2605"/>
                </a:moveTo>
                <a:lnTo>
                  <a:pt x="21600" y="0"/>
                </a:lnTo>
                <a:lnTo>
                  <a:pt x="21600" y="21600"/>
                </a:lnTo>
                <a:lnTo>
                  <a:pt x="21600" y="21600"/>
                </a:lnTo>
                <a:lnTo>
                  <a:pt x="0" y="2605"/>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29" name="Shape 2142"/>
          <p:cNvSpPr/>
          <p:nvPr/>
        </p:nvSpPr>
        <p:spPr>
          <a:xfrm>
            <a:off x="19303920" y="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30" name="Shape 2143"/>
          <p:cNvSpPr/>
          <p:nvPr/>
        </p:nvSpPr>
        <p:spPr>
          <a:xfrm rot="16200000">
            <a:off x="4159080" y="-4158720"/>
            <a:ext cx="4892760" cy="13211280"/>
          </a:xfrm>
          <a:custGeom>
            <a:avLst/>
            <a:gdLst>
              <a:gd name="textAreaLeft" fmla="*/ 0 w 4892760"/>
              <a:gd name="textAreaRight" fmla="*/ 4893120 w 4892760"/>
              <a:gd name="textAreaTop" fmla="*/ 0 h 13211280"/>
              <a:gd name="textAreaBottom" fmla="*/ 13211640 h 1321128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31" name="Shape 2144"/>
          <p:cNvSpPr/>
          <p:nvPr/>
        </p:nvSpPr>
        <p:spPr>
          <a:xfrm>
            <a:off x="14473800" y="1701720"/>
            <a:ext cx="7877880" cy="2036160"/>
          </a:xfrm>
          <a:prstGeom prst="rect">
            <a:avLst/>
          </a:prstGeom>
          <a:noFill/>
          <a:ln w="12700">
            <a:noFill/>
          </a:ln>
        </p:spPr>
        <p:style>
          <a:lnRef idx="0"/>
          <a:fillRef idx="0"/>
          <a:effectRef idx="0"/>
          <a:fontRef idx="minor"/>
        </p:style>
        <p:txBody>
          <a:bodyPr lIns="0" rIns="0" tIns="0" bIns="0" anchor="t">
            <a:normAutofit/>
          </a:bodyPr>
          <a:p>
            <a:pPr algn="r">
              <a:lnSpc>
                <a:spcPct val="80000"/>
              </a:lnSpc>
              <a:tabLst>
                <a:tab algn="l" pos="0"/>
              </a:tabLst>
            </a:pPr>
            <a:r>
              <a:rPr b="0" lang="de-DE" sz="11200" spc="-1" strike="noStrike">
                <a:solidFill>
                  <a:srgbClr val="212121"/>
                </a:solidFill>
                <a:latin typeface="Montserrat Semi Bold"/>
                <a:ea typeface="Montserrat Semi Bold"/>
              </a:rPr>
              <a:t>Creative</a:t>
            </a:r>
            <a:endParaRPr b="0" lang="en-US" sz="11200" spc="-1" strike="noStrike">
              <a:solidFill>
                <a:srgbClr val="000000"/>
              </a:solidFill>
              <a:latin typeface="Arial"/>
            </a:endParaRPr>
          </a:p>
        </p:txBody>
      </p:sp>
      <p:sp>
        <p:nvSpPr>
          <p:cNvPr id="4932" name="Shape 2145"/>
          <p:cNvSpPr/>
          <p:nvPr/>
        </p:nvSpPr>
        <p:spPr>
          <a:xfrm>
            <a:off x="15352560" y="4444920"/>
            <a:ext cx="6999120" cy="2036160"/>
          </a:xfrm>
          <a:prstGeom prst="rect">
            <a:avLst/>
          </a:prstGeom>
          <a:noFill/>
          <a:ln w="12700">
            <a:noFill/>
          </a:ln>
        </p:spPr>
        <p:style>
          <a:lnRef idx="0"/>
          <a:fillRef idx="0"/>
          <a:effectRef idx="0"/>
          <a:fontRef idx="minor"/>
        </p:style>
        <p:txBody>
          <a:bodyPr lIns="50760" rIns="50760" tIns="50760" bIns="50760" anchor="t">
            <a:noAutofit/>
          </a:bodyPr>
          <a:p>
            <a:pPr algn="r">
              <a:lnSpc>
                <a:spcPct val="120000"/>
              </a:lnSpc>
              <a:tabLst>
                <a:tab algn="l" pos="0"/>
              </a:tabLst>
            </a:pPr>
            <a:r>
              <a:rPr b="0" lang="en-US" sz="4800" spc="-1" strike="noStrike">
                <a:solidFill>
                  <a:srgbClr val="212121"/>
                </a:solidFill>
                <a:latin typeface="Montserrat"/>
                <a:ea typeface="Montserrat"/>
              </a:rPr>
              <a:t>Mona dreone me lem idom bring volupo.</a:t>
            </a:r>
            <a:endParaRPr b="0" lang="en-US" sz="4800" spc="-1" strike="noStrike">
              <a:solidFill>
                <a:srgbClr val="000000"/>
              </a:solidFill>
              <a:latin typeface="Arial"/>
            </a:endParaRPr>
          </a:p>
        </p:txBody>
      </p:sp>
      <p:sp>
        <p:nvSpPr>
          <p:cNvPr id="4933" name="Shape 2146"/>
          <p:cNvSpPr/>
          <p:nvPr/>
        </p:nvSpPr>
        <p:spPr>
          <a:xfrm>
            <a:off x="15352560" y="7619760"/>
            <a:ext cx="6999120" cy="4062240"/>
          </a:xfrm>
          <a:prstGeom prst="rect">
            <a:avLst/>
          </a:prstGeom>
          <a:noFill/>
          <a:ln w="12700">
            <a:noFill/>
          </a:ln>
        </p:spPr>
        <p:style>
          <a:lnRef idx="0"/>
          <a:fillRef idx="0"/>
          <a:effectRef idx="0"/>
          <a:fontRef idx="minor"/>
        </p:style>
        <p:txBody>
          <a:bodyPr lIns="50760" rIns="50760" tIns="50760" bIns="50760" anchor="t">
            <a:noAutofit/>
          </a:bodyPr>
          <a:p>
            <a:pPr algn="r">
              <a:lnSpc>
                <a:spcPct val="120000"/>
              </a:lnSpc>
              <a:spcBef>
                <a:spcPts val="5899"/>
              </a:spcBef>
              <a:tabLst>
                <a:tab algn="l" pos="0"/>
              </a:tabLst>
            </a:pPr>
            <a:r>
              <a:rPr b="0" lang="en-US" sz="3000" spc="-1" strike="noStrike">
                <a:solidFill>
                  <a:srgbClr val="5e5e5e"/>
                </a:solidFill>
                <a:latin typeface="Montserrat Light"/>
                <a:ea typeface="Montserrat Light"/>
              </a:rPr>
              <a:t>Steto clita kuasd nosotra sea takiomata sanctus est Lorem sito  amet. Lorem eso ipsum dosplor sit amet, dera  selitr Sed diam nie nonumy eiod por invidunt ut labore eto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3" name="PlaceHolder 1"/>
          <p:cNvSpPr>
            <a:spLocks noGrp="1"/>
          </p:cNvSpPr>
          <p:nvPr>
            <p:ph type="sldNum" idx="98"/>
          </p:nvPr>
        </p:nvSpPr>
        <p:spPr>
          <a:xfrm>
            <a:off x="21849120" y="12318840"/>
            <a:ext cx="31176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E427BEBB-F990-4B7D-893A-F766BC0FD056}" type="slidenum">
              <a:rPr b="0" lang="en-US" sz="2800" spc="-1" strike="noStrike">
                <a:solidFill>
                  <a:srgbClr val="797979"/>
                </a:solidFill>
                <a:latin typeface="Helvetica Light"/>
                <a:ea typeface="Helvetica Light"/>
              </a:rPr>
              <a:t>6</a:t>
            </a:fld>
            <a:endParaRPr b="0" lang="en-US" sz="2800" spc="-1" strike="noStrike">
              <a:solidFill>
                <a:srgbClr val="000000"/>
              </a:solidFill>
              <a:latin typeface="Times New Roman"/>
            </a:endParaRPr>
          </a:p>
        </p:txBody>
      </p:sp>
      <p:sp>
        <p:nvSpPr>
          <p:cNvPr id="4224" name="Shape 1094"/>
          <p:cNvSpPr/>
          <p:nvPr/>
        </p:nvSpPr>
        <p:spPr>
          <a:xfrm>
            <a:off x="2032200" y="6350040"/>
            <a:ext cx="9144720" cy="571464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eot clita kuasd gubergren, nosotra sea fronds takimata sanctus est Lorem ero psusit druamet. Lorem eso ipsum dolor sit amet, deras gradaso consetetur sadipscing elitromas. Sed diam dnie nonumy eirmod tempor invidunt utony labore etodre dolor noradsa mirda. Stet clita kuasd gubergren, nosotra seansa takimata sanctus est Lorem ipsum dolor sit amet. Lorem eso ipsum dolor sit amet, deras consetetur sadipscing idas brotas geras elitromas.</a:t>
            </a:r>
            <a:endParaRPr b="0" lang="en-US" sz="3000" spc="-1" strike="noStrike">
              <a:solidFill>
                <a:srgbClr val="000000"/>
              </a:solidFill>
              <a:latin typeface="Arial"/>
            </a:endParaRPr>
          </a:p>
        </p:txBody>
      </p:sp>
      <p:sp>
        <p:nvSpPr>
          <p:cNvPr id="4225" name="PlaceHolder 2"/>
          <p:cNvSpPr>
            <a:spLocks noGrp="1"/>
          </p:cNvSpPr>
          <p:nvPr>
            <p:ph type="title"/>
          </p:nvPr>
        </p:nvSpPr>
        <p:spPr>
          <a:xfrm>
            <a:off x="2031840" y="1708200"/>
            <a:ext cx="10159920" cy="31248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Text</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2 Columns</a:t>
            </a:r>
            <a:endParaRPr b="0" lang="en-US" sz="11200" spc="-1" strike="noStrike">
              <a:solidFill>
                <a:srgbClr val="009193"/>
              </a:solidFill>
              <a:latin typeface="Helvetica Light"/>
            </a:endParaRPr>
          </a:p>
        </p:txBody>
      </p:sp>
      <p:sp>
        <p:nvSpPr>
          <p:cNvPr id="4226" name="Shape 1096"/>
          <p:cNvSpPr/>
          <p:nvPr/>
        </p:nvSpPr>
        <p:spPr>
          <a:xfrm>
            <a:off x="13211640" y="2025720"/>
            <a:ext cx="9144720" cy="57729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wetoma jam rebum. Stet clita kuasd gubergren, nosotra seansa takimata sanctus est Lorem ipsum dolor sit amet. Lorem eso ipsum dolor sit amet, deras consetetur sadipscing idas brotas geras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
        <p:nvSpPr>
          <p:cNvPr id="4227" name="Shape 1097"/>
          <p:cNvSpPr/>
          <p:nvPr/>
        </p:nvSpPr>
        <p:spPr>
          <a:xfrm>
            <a:off x="13211640" y="8508960"/>
            <a:ext cx="9144720" cy="35301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eot clita kuasd gubergren, nosotra sea fronds takimata sanctus est Lorem ero psusit druamet. Lorem eso ipsum dolor sit amet, deras gradaso consetetur sadipscing elitromas. Sed diam dnie nonumy eirmod tempor invidunt utony labore etodre dolor noradsa mirda. Stet clita kuas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934" name="Group 2168"/>
          <p:cNvGrpSpPr/>
          <p:nvPr/>
        </p:nvGrpSpPr>
        <p:grpSpPr>
          <a:xfrm>
            <a:off x="11564280" y="2720880"/>
            <a:ext cx="4063680" cy="8274240"/>
            <a:chOff x="11564280" y="2720880"/>
            <a:chExt cx="4063680" cy="8274240"/>
          </a:xfrm>
        </p:grpSpPr>
        <p:sp>
          <p:nvSpPr>
            <p:cNvPr id="4935" name="Shape 2148"/>
            <p:cNvSpPr/>
            <p:nvPr/>
          </p:nvSpPr>
          <p:spPr>
            <a:xfrm>
              <a:off x="11564280" y="3780000"/>
              <a:ext cx="102240" cy="315000"/>
            </a:xfrm>
            <a:custGeom>
              <a:avLst/>
              <a:gdLst>
                <a:gd name="textAreaLeft" fmla="*/ 0 w 102240"/>
                <a:gd name="textAreaRight" fmla="*/ 102600 w 102240"/>
                <a:gd name="textAreaTop" fmla="*/ 0 h 315000"/>
                <a:gd name="textAreaBottom" fmla="*/ 315360 h 315000"/>
              </a:gdLst>
              <a:ahLst/>
              <a:rect l="textAreaLeft" t="textAreaTop" r="textAreaRight" b="textAreaBottom"/>
              <a:pathLst>
                <a:path w="21600" h="21600">
                  <a:moveTo>
                    <a:pt x="21600" y="21600"/>
                  </a:moveTo>
                  <a:lnTo>
                    <a:pt x="5274" y="21600"/>
                  </a:lnTo>
                  <a:cubicBezTo>
                    <a:pt x="2260" y="21600"/>
                    <a:pt x="0" y="20960"/>
                    <a:pt x="0" y="19920"/>
                  </a:cubicBezTo>
                  <a:lnTo>
                    <a:pt x="0" y="1680"/>
                  </a:lnTo>
                  <a:cubicBezTo>
                    <a:pt x="0" y="640"/>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36" name="Shape 2149"/>
            <p:cNvSpPr/>
            <p:nvPr/>
          </p:nvSpPr>
          <p:spPr>
            <a:xfrm>
              <a:off x="11564280" y="4480560"/>
              <a:ext cx="123120" cy="595440"/>
            </a:xfrm>
            <a:custGeom>
              <a:avLst/>
              <a:gdLst>
                <a:gd name="textAreaLeft" fmla="*/ 0 w 123120"/>
                <a:gd name="textAreaRight" fmla="*/ 123480 w 123120"/>
                <a:gd name="textAreaTop" fmla="*/ 0 h 595440"/>
                <a:gd name="textAreaBottom" fmla="*/ 595800 h 595440"/>
              </a:gdLst>
              <a:ahLst/>
              <a:rect l="textAreaLeft" t="textAreaTop" r="textAreaRight" b="textAreaBottom"/>
              <a:pathLst>
                <a:path w="21600" h="21600">
                  <a:moveTo>
                    <a:pt x="21600" y="21600"/>
                  </a:moveTo>
                  <a:lnTo>
                    <a:pt x="4404" y="21600"/>
                  </a:lnTo>
                  <a:cubicBezTo>
                    <a:pt x="1887" y="21600"/>
                    <a:pt x="0" y="21258"/>
                    <a:pt x="0" y="20704"/>
                  </a:cubicBezTo>
                  <a:lnTo>
                    <a:pt x="0" y="896"/>
                  </a:lnTo>
                  <a:cubicBezTo>
                    <a:pt x="0" y="384"/>
                    <a:pt x="1887" y="0"/>
                    <a:pt x="440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37" name="Shape 2150"/>
            <p:cNvSpPr/>
            <p:nvPr/>
          </p:nvSpPr>
          <p:spPr>
            <a:xfrm>
              <a:off x="11564280" y="5238720"/>
              <a:ext cx="102240" cy="579960"/>
            </a:xfrm>
            <a:custGeom>
              <a:avLst/>
              <a:gdLst>
                <a:gd name="textAreaLeft" fmla="*/ 0 w 102240"/>
                <a:gd name="textAreaRight" fmla="*/ 102600 w 102240"/>
                <a:gd name="textAreaTop" fmla="*/ 0 h 579960"/>
                <a:gd name="textAreaBottom" fmla="*/ 580320 h 579960"/>
              </a:gdLst>
              <a:ahLst/>
              <a:rect l="textAreaLeft" t="textAreaTop" r="textAreaRight" b="textAreaBottom"/>
              <a:pathLst>
                <a:path w="21600" h="21600">
                  <a:moveTo>
                    <a:pt x="21600" y="21600"/>
                  </a:moveTo>
                  <a:lnTo>
                    <a:pt x="5274" y="21600"/>
                  </a:lnTo>
                  <a:cubicBezTo>
                    <a:pt x="2260" y="21600"/>
                    <a:pt x="0" y="21249"/>
                    <a:pt x="0" y="20680"/>
                  </a:cubicBezTo>
                  <a:lnTo>
                    <a:pt x="0" y="920"/>
                  </a:lnTo>
                  <a:cubicBezTo>
                    <a:pt x="0" y="394"/>
                    <a:pt x="2260" y="0"/>
                    <a:pt x="5274" y="0"/>
                  </a:cubicBezTo>
                  <a:lnTo>
                    <a:pt x="21600" y="0"/>
                  </a:lnTo>
                  <a:lnTo>
                    <a:pt x="21600" y="21600"/>
                  </a:ln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38" name="Shape 2151"/>
            <p:cNvSpPr/>
            <p:nvPr/>
          </p:nvSpPr>
          <p:spPr>
            <a:xfrm>
              <a:off x="15541200" y="4475520"/>
              <a:ext cx="86760" cy="616320"/>
            </a:xfrm>
            <a:custGeom>
              <a:avLst/>
              <a:gdLst>
                <a:gd name="textAreaLeft" fmla="*/ 0 w 86760"/>
                <a:gd name="textAreaRight" fmla="*/ 87120 w 86760"/>
                <a:gd name="textAreaTop" fmla="*/ 0 h 616320"/>
                <a:gd name="textAreaBottom" fmla="*/ 616680 h 616320"/>
              </a:gdLst>
              <a:ahLst/>
              <a:rect l="textAreaLeft" t="textAreaTop" r="textAreaRight" b="textAreaBottom"/>
              <a:pathLst>
                <a:path w="21600" h="21600">
                  <a:moveTo>
                    <a:pt x="15386" y="21600"/>
                  </a:moveTo>
                  <a:lnTo>
                    <a:pt x="0" y="21600"/>
                  </a:lnTo>
                  <a:lnTo>
                    <a:pt x="0" y="0"/>
                  </a:lnTo>
                  <a:lnTo>
                    <a:pt x="15386" y="0"/>
                  </a:lnTo>
                  <a:cubicBezTo>
                    <a:pt x="19233" y="0"/>
                    <a:pt x="21600" y="372"/>
                    <a:pt x="21600" y="867"/>
                  </a:cubicBezTo>
                  <a:lnTo>
                    <a:pt x="21600" y="20733"/>
                  </a:lnTo>
                  <a:cubicBezTo>
                    <a:pt x="21600" y="21146"/>
                    <a:pt x="18641" y="21600"/>
                    <a:pt x="15386" y="21600"/>
                  </a:cubicBezTo>
                </a:path>
              </a:pathLst>
            </a:custGeom>
            <a:solidFill>
              <a:srgbClr val="d6d6da"/>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39" name="Shape 2152"/>
            <p:cNvSpPr/>
            <p:nvPr/>
          </p:nvSpPr>
          <p:spPr>
            <a:xfrm>
              <a:off x="11605680" y="2720880"/>
              <a:ext cx="3980520" cy="8274240"/>
            </a:xfrm>
            <a:custGeom>
              <a:avLst/>
              <a:gdLst>
                <a:gd name="textAreaLeft" fmla="*/ 0 w 3980520"/>
                <a:gd name="textAreaRight" fmla="*/ 3980880 w 3980520"/>
                <a:gd name="textAreaTop" fmla="*/ 0 h 8274240"/>
                <a:gd name="textAreaBottom" fmla="*/ 8274600 h 8274240"/>
              </a:gdLst>
              <a:ahLst/>
              <a:rect l="textAreaLeft" t="textAreaTop" r="textAreaRight" b="textAreaBottom"/>
              <a:pathLst>
                <a:path w="21600" h="21600">
                  <a:moveTo>
                    <a:pt x="17568" y="21600"/>
                  </a:moveTo>
                  <a:lnTo>
                    <a:pt x="4020" y="21600"/>
                  </a:lnTo>
                  <a:cubicBezTo>
                    <a:pt x="1796" y="21600"/>
                    <a:pt x="0" y="20736"/>
                    <a:pt x="0" y="19667"/>
                  </a:cubicBezTo>
                  <a:lnTo>
                    <a:pt x="0" y="1933"/>
                  </a:lnTo>
                  <a:cubicBezTo>
                    <a:pt x="0" y="864"/>
                    <a:pt x="1796" y="0"/>
                    <a:pt x="4020" y="0"/>
                  </a:cubicBezTo>
                  <a:lnTo>
                    <a:pt x="17580" y="0"/>
                  </a:lnTo>
                  <a:cubicBezTo>
                    <a:pt x="19804" y="0"/>
                    <a:pt x="21600" y="864"/>
                    <a:pt x="21600" y="1933"/>
                  </a:cubicBezTo>
                  <a:lnTo>
                    <a:pt x="21600" y="19673"/>
                  </a:lnTo>
                  <a:cubicBezTo>
                    <a:pt x="21587" y="20736"/>
                    <a:pt x="19791" y="21600"/>
                    <a:pt x="17568" y="21600"/>
                  </a:cubicBezTo>
                </a:path>
              </a:pathLst>
            </a:custGeom>
            <a:solidFill>
              <a:srgbClr val="b7b7b7"/>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0" name="Shape 2153"/>
            <p:cNvSpPr/>
            <p:nvPr/>
          </p:nvSpPr>
          <p:spPr>
            <a:xfrm>
              <a:off x="11642040" y="2756880"/>
              <a:ext cx="3902760" cy="8196480"/>
            </a:xfrm>
            <a:custGeom>
              <a:avLst/>
              <a:gdLst>
                <a:gd name="textAreaLeft" fmla="*/ 0 w 3902760"/>
                <a:gd name="textAreaRight" fmla="*/ 3903120 w 3902760"/>
                <a:gd name="textAreaTop" fmla="*/ 0 h 8196480"/>
                <a:gd name="textAreaBottom" fmla="*/ 8196840 h 8196480"/>
              </a:gdLst>
              <a:ahLst/>
              <a:rect l="textAreaLeft" t="textAreaTop" r="textAreaRight" b="textAreaBottom"/>
              <a:pathLst>
                <a:path w="21600" h="21600">
                  <a:moveTo>
                    <a:pt x="17631" y="21600"/>
                  </a:moveTo>
                  <a:lnTo>
                    <a:pt x="3969" y="21600"/>
                  </a:lnTo>
                  <a:cubicBezTo>
                    <a:pt x="1779" y="21600"/>
                    <a:pt x="0" y="20753"/>
                    <a:pt x="0" y="19710"/>
                  </a:cubicBezTo>
                  <a:lnTo>
                    <a:pt x="0" y="1890"/>
                  </a:lnTo>
                  <a:cubicBezTo>
                    <a:pt x="0" y="847"/>
                    <a:pt x="1779" y="0"/>
                    <a:pt x="3969" y="0"/>
                  </a:cubicBezTo>
                  <a:lnTo>
                    <a:pt x="17631" y="0"/>
                  </a:lnTo>
                  <a:cubicBezTo>
                    <a:pt x="19821" y="0"/>
                    <a:pt x="21600" y="847"/>
                    <a:pt x="21600" y="1890"/>
                  </a:cubicBezTo>
                  <a:lnTo>
                    <a:pt x="21600" y="19716"/>
                  </a:lnTo>
                  <a:cubicBezTo>
                    <a:pt x="21600" y="20759"/>
                    <a:pt x="19821" y="21600"/>
                    <a:pt x="17631" y="21600"/>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1" name="Shape 2154"/>
            <p:cNvSpPr/>
            <p:nvPr/>
          </p:nvSpPr>
          <p:spPr>
            <a:xfrm>
              <a:off x="11776680" y="3718080"/>
              <a:ext cx="3550320" cy="6279480"/>
            </a:xfrm>
            <a:custGeom>
              <a:avLst/>
              <a:gdLst>
                <a:gd name="textAreaLeft" fmla="*/ 0 w 3550320"/>
                <a:gd name="textAreaRight" fmla="*/ 3550680 w 3550320"/>
                <a:gd name="textAreaTop" fmla="*/ 0 h 6279480"/>
                <a:gd name="textAreaBottom" fmla="*/ 6279840 h 6279480"/>
              </a:gdLst>
              <a:ahLst/>
              <a:rect l="textAreaLeft" t="textAreaTop" r="textAreaRight" b="textAreaBottom"/>
              <a:pathLst>
                <a:path w="21600" h="21600">
                  <a:moveTo>
                    <a:pt x="21302" y="21600"/>
                  </a:moveTo>
                  <a:lnTo>
                    <a:pt x="291" y="21600"/>
                  </a:lnTo>
                  <a:cubicBezTo>
                    <a:pt x="128" y="21600"/>
                    <a:pt x="0" y="21523"/>
                    <a:pt x="0" y="21431"/>
                  </a:cubicBezTo>
                  <a:lnTo>
                    <a:pt x="0" y="169"/>
                  </a:lnTo>
                  <a:cubicBezTo>
                    <a:pt x="0" y="77"/>
                    <a:pt x="128" y="0"/>
                    <a:pt x="291" y="0"/>
                  </a:cubicBezTo>
                  <a:lnTo>
                    <a:pt x="21302" y="0"/>
                  </a:lnTo>
                  <a:cubicBezTo>
                    <a:pt x="21465" y="0"/>
                    <a:pt x="21600" y="77"/>
                    <a:pt x="21600" y="169"/>
                  </a:cubicBezTo>
                  <a:lnTo>
                    <a:pt x="21600" y="21431"/>
                  </a:lnTo>
                  <a:cubicBezTo>
                    <a:pt x="21600" y="21523"/>
                    <a:pt x="21465" y="21600"/>
                    <a:pt x="21302" y="21600"/>
                  </a:cubicBezTo>
                </a:path>
              </a:pathLst>
            </a:custGeom>
            <a:solidFill>
              <a:srgbClr val="5e5e5e"/>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2" name="Shape 2155"/>
            <p:cNvSpPr/>
            <p:nvPr/>
          </p:nvSpPr>
          <p:spPr>
            <a:xfrm>
              <a:off x="13271040" y="10154160"/>
              <a:ext cx="645120" cy="645120"/>
            </a:xfrm>
            <a:custGeom>
              <a:avLst/>
              <a:gdLst>
                <a:gd name="textAreaLeft" fmla="*/ 0 w 645120"/>
                <a:gd name="textAreaRight" fmla="*/ 645480 w 645120"/>
                <a:gd name="textAreaTop" fmla="*/ 0 h 645120"/>
                <a:gd name="textAreaBottom" fmla="*/ 645480 h 645120"/>
              </a:gdLst>
              <a:ahLst/>
              <a:rect l="textAreaLeft" t="textAreaTop" r="textAreaRight" b="textAreaBottom"/>
              <a:pathLst>
                <a:path w="21346" h="21346">
                  <a:moveTo>
                    <a:pt x="18192" y="3115"/>
                  </a:moveTo>
                  <a:cubicBezTo>
                    <a:pt x="19598" y="4521"/>
                    <a:pt x="20457" y="6044"/>
                    <a:pt x="20965" y="7919"/>
                  </a:cubicBezTo>
                  <a:cubicBezTo>
                    <a:pt x="21473" y="9833"/>
                    <a:pt x="21473" y="11552"/>
                    <a:pt x="20965" y="13427"/>
                  </a:cubicBezTo>
                  <a:cubicBezTo>
                    <a:pt x="20457" y="15341"/>
                    <a:pt x="19559" y="16825"/>
                    <a:pt x="18192" y="18192"/>
                  </a:cubicBezTo>
                  <a:cubicBezTo>
                    <a:pt x="16786" y="19598"/>
                    <a:pt x="15302" y="20457"/>
                    <a:pt x="13427" y="20965"/>
                  </a:cubicBezTo>
                  <a:cubicBezTo>
                    <a:pt x="11513" y="21473"/>
                    <a:pt x="9794" y="21473"/>
                    <a:pt x="7919" y="20965"/>
                  </a:cubicBezTo>
                  <a:cubicBezTo>
                    <a:pt x="6005" y="20457"/>
                    <a:pt x="4521" y="19598"/>
                    <a:pt x="3154" y="18192"/>
                  </a:cubicBezTo>
                  <a:cubicBezTo>
                    <a:pt x="1748" y="16786"/>
                    <a:pt x="889" y="15302"/>
                    <a:pt x="381" y="13427"/>
                  </a:cubicBezTo>
                  <a:cubicBezTo>
                    <a:pt x="-127" y="11513"/>
                    <a:pt x="-127" y="9794"/>
                    <a:pt x="381" y="7919"/>
                  </a:cubicBezTo>
                  <a:cubicBezTo>
                    <a:pt x="889" y="6005"/>
                    <a:pt x="1748" y="4521"/>
                    <a:pt x="3154" y="3115"/>
                  </a:cubicBezTo>
                  <a:cubicBezTo>
                    <a:pt x="4521" y="1748"/>
                    <a:pt x="6005" y="889"/>
                    <a:pt x="7919" y="381"/>
                  </a:cubicBezTo>
                  <a:cubicBezTo>
                    <a:pt x="9794" y="-127"/>
                    <a:pt x="11552" y="-127"/>
                    <a:pt x="13427" y="381"/>
                  </a:cubicBezTo>
                  <a:cubicBezTo>
                    <a:pt x="15341" y="889"/>
                    <a:pt x="16825" y="1748"/>
                    <a:pt x="18192" y="3115"/>
                  </a:cubicBezTo>
                </a:path>
              </a:pathLst>
            </a:custGeom>
            <a:solidFill>
              <a:srgbClr val="eaeaea">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3" name="Shape 2156"/>
            <p:cNvSpPr/>
            <p:nvPr/>
          </p:nvSpPr>
          <p:spPr>
            <a:xfrm>
              <a:off x="13272480" y="10155240"/>
              <a:ext cx="304920" cy="330840"/>
            </a:xfrm>
            <a:custGeom>
              <a:avLst/>
              <a:gdLst>
                <a:gd name="textAreaLeft" fmla="*/ 0 w 304920"/>
                <a:gd name="textAreaRight" fmla="*/ 305280 w 304920"/>
                <a:gd name="textAreaTop" fmla="*/ 0 h 330840"/>
                <a:gd name="textAreaBottom" fmla="*/ 331200 h 330840"/>
              </a:gdLst>
              <a:ahLst/>
              <a:rect l="textAreaLeft" t="textAreaTop" r="textAreaRight" b="textAreaBottom"/>
              <a:pathLst>
                <a:path w="21600" h="21600">
                  <a:moveTo>
                    <a:pt x="6065" y="6411"/>
                  </a:moveTo>
                  <a:cubicBezTo>
                    <a:pt x="1745" y="10380"/>
                    <a:pt x="0" y="15189"/>
                    <a:pt x="0" y="21600"/>
                  </a:cubicBezTo>
                  <a:lnTo>
                    <a:pt x="21600" y="21600"/>
                  </a:lnTo>
                  <a:lnTo>
                    <a:pt x="21600" y="0"/>
                  </a:lnTo>
                  <a:cubicBezTo>
                    <a:pt x="16865" y="0"/>
                    <a:pt x="10468" y="2442"/>
                    <a:pt x="6065" y="64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4" name="Shape 2157"/>
            <p:cNvSpPr/>
            <p:nvPr/>
          </p:nvSpPr>
          <p:spPr>
            <a:xfrm>
              <a:off x="13329360" y="10155960"/>
              <a:ext cx="444960" cy="319680"/>
            </a:xfrm>
            <a:custGeom>
              <a:avLst/>
              <a:gdLst>
                <a:gd name="textAreaLeft" fmla="*/ 0 w 444960"/>
                <a:gd name="textAreaRight" fmla="*/ 445320 w 444960"/>
                <a:gd name="textAreaTop" fmla="*/ 0 h 319680"/>
                <a:gd name="textAreaBottom" fmla="*/ 320040 h 319680"/>
              </a:gdLst>
              <a:ahLst/>
              <a:rect l="textAreaLeft" t="textAreaTop" r="textAreaRight" b="textAreaBottom"/>
              <a:pathLst>
                <a:path w="21600" h="20882">
                  <a:moveTo>
                    <a:pt x="10004" y="351"/>
                  </a:moveTo>
                  <a:cubicBezTo>
                    <a:pt x="5855" y="1343"/>
                    <a:pt x="2274" y="4701"/>
                    <a:pt x="0" y="9052"/>
                  </a:cubicBezTo>
                  <a:lnTo>
                    <a:pt x="12789" y="20882"/>
                  </a:lnTo>
                  <a:lnTo>
                    <a:pt x="21600" y="3709"/>
                  </a:lnTo>
                  <a:cubicBezTo>
                    <a:pt x="18360" y="732"/>
                    <a:pt x="14211" y="-718"/>
                    <a:pt x="10004" y="351"/>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5" name="Shape 2158"/>
            <p:cNvSpPr/>
            <p:nvPr/>
          </p:nvSpPr>
          <p:spPr>
            <a:xfrm>
              <a:off x="13448880" y="10156320"/>
              <a:ext cx="429480" cy="319320"/>
            </a:xfrm>
            <a:custGeom>
              <a:avLst/>
              <a:gdLst>
                <a:gd name="textAreaLeft" fmla="*/ 0 w 429480"/>
                <a:gd name="textAreaRight" fmla="*/ 429840 w 429480"/>
                <a:gd name="textAreaTop" fmla="*/ 0 h 319320"/>
                <a:gd name="textAreaBottom" fmla="*/ 319680 h 319320"/>
              </a:gdLst>
              <a:ahLst/>
              <a:rect l="textAreaLeft" t="textAreaTop" r="textAreaRight" b="textAreaBottom"/>
              <a:pathLst>
                <a:path w="21600" h="20855">
                  <a:moveTo>
                    <a:pt x="12183" y="1010"/>
                  </a:moveTo>
                  <a:cubicBezTo>
                    <a:pt x="8004" y="-745"/>
                    <a:pt x="3590" y="-134"/>
                    <a:pt x="0" y="2232"/>
                  </a:cubicBezTo>
                  <a:lnTo>
                    <a:pt x="7298" y="20855"/>
                  </a:lnTo>
                  <a:lnTo>
                    <a:pt x="21600" y="11391"/>
                  </a:lnTo>
                  <a:cubicBezTo>
                    <a:pt x="19717" y="6582"/>
                    <a:pt x="16421" y="2766"/>
                    <a:pt x="12183" y="1010"/>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6" name="Shape 2159"/>
            <p:cNvSpPr/>
            <p:nvPr/>
          </p:nvSpPr>
          <p:spPr>
            <a:xfrm>
              <a:off x="13609800" y="10461600"/>
              <a:ext cx="304920" cy="335880"/>
            </a:xfrm>
            <a:custGeom>
              <a:avLst/>
              <a:gdLst>
                <a:gd name="textAreaLeft" fmla="*/ 0 w 304920"/>
                <a:gd name="textAreaRight" fmla="*/ 305280 w 304920"/>
                <a:gd name="textAreaTop" fmla="*/ 0 h 335880"/>
                <a:gd name="textAreaBottom" fmla="*/ 336240 h 335880"/>
              </a:gdLst>
              <a:ahLst/>
              <a:rect l="textAreaLeft" t="textAreaTop" r="textAreaRight" b="textAreaBottom"/>
              <a:pathLst>
                <a:path w="21600" h="21600">
                  <a:moveTo>
                    <a:pt x="15535" y="15211"/>
                  </a:moveTo>
                  <a:cubicBezTo>
                    <a:pt x="19855" y="11180"/>
                    <a:pt x="21600" y="6389"/>
                    <a:pt x="21600" y="0"/>
                  </a:cubicBezTo>
                  <a:lnTo>
                    <a:pt x="0" y="0"/>
                  </a:lnTo>
                  <a:lnTo>
                    <a:pt x="0" y="21600"/>
                  </a:lnTo>
                  <a:cubicBezTo>
                    <a:pt x="4735" y="21600"/>
                    <a:pt x="10966" y="19166"/>
                    <a:pt x="15535" y="15211"/>
                  </a:cubicBezTo>
                </a:path>
              </a:pathLst>
            </a:custGeom>
            <a:solidFill>
              <a:srgbClr val="9e9e9e">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7" name="Shape 2160"/>
            <p:cNvSpPr/>
            <p:nvPr/>
          </p:nvSpPr>
          <p:spPr>
            <a:xfrm>
              <a:off x="13407120" y="10477440"/>
              <a:ext cx="444960" cy="319320"/>
            </a:xfrm>
            <a:custGeom>
              <a:avLst/>
              <a:gdLst>
                <a:gd name="textAreaLeft" fmla="*/ 0 w 444960"/>
                <a:gd name="textAreaRight" fmla="*/ 445320 w 444960"/>
                <a:gd name="textAreaTop" fmla="*/ 0 h 319320"/>
                <a:gd name="textAreaBottom" fmla="*/ 319680 h 319320"/>
              </a:gdLst>
              <a:ahLst/>
              <a:rect l="textAreaLeft" t="textAreaTop" r="textAreaRight" b="textAreaBottom"/>
              <a:pathLst>
                <a:path w="21600" h="20845">
                  <a:moveTo>
                    <a:pt x="11596" y="20455"/>
                  </a:moveTo>
                  <a:cubicBezTo>
                    <a:pt x="15745" y="19539"/>
                    <a:pt x="19326" y="16181"/>
                    <a:pt x="21600" y="11830"/>
                  </a:cubicBezTo>
                  <a:lnTo>
                    <a:pt x="8867" y="0"/>
                  </a:lnTo>
                  <a:lnTo>
                    <a:pt x="0" y="17097"/>
                  </a:lnTo>
                  <a:cubicBezTo>
                    <a:pt x="3240" y="20150"/>
                    <a:pt x="7389" y="21600"/>
                    <a:pt x="11596" y="20455"/>
                  </a:cubicBezTo>
                </a:path>
              </a:pathLst>
            </a:custGeom>
            <a:solidFill>
              <a:srgbClr val="b5b5b5">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8" name="Shape 2161"/>
            <p:cNvSpPr/>
            <p:nvPr/>
          </p:nvSpPr>
          <p:spPr>
            <a:xfrm>
              <a:off x="13308480" y="10477440"/>
              <a:ext cx="429480" cy="319320"/>
            </a:xfrm>
            <a:custGeom>
              <a:avLst/>
              <a:gdLst>
                <a:gd name="textAreaLeft" fmla="*/ 0 w 429480"/>
                <a:gd name="textAreaRight" fmla="*/ 429840 w 429480"/>
                <a:gd name="textAreaTop" fmla="*/ 0 h 319320"/>
                <a:gd name="textAreaBottom" fmla="*/ 319680 h 319320"/>
              </a:gdLst>
              <a:ahLst/>
              <a:rect l="textAreaLeft" t="textAreaTop" r="textAreaRight" b="textAreaBottom"/>
              <a:pathLst>
                <a:path w="21600" h="20851">
                  <a:moveTo>
                    <a:pt x="9417" y="19845"/>
                  </a:moveTo>
                  <a:cubicBezTo>
                    <a:pt x="13596" y="21600"/>
                    <a:pt x="18010" y="20989"/>
                    <a:pt x="21600" y="18547"/>
                  </a:cubicBezTo>
                  <a:lnTo>
                    <a:pt x="14361" y="0"/>
                  </a:lnTo>
                  <a:lnTo>
                    <a:pt x="0" y="9464"/>
                  </a:lnTo>
                  <a:cubicBezTo>
                    <a:pt x="1883" y="14273"/>
                    <a:pt x="5179" y="18089"/>
                    <a:pt x="9417" y="19845"/>
                  </a:cubicBezTo>
                </a:path>
              </a:pathLst>
            </a:custGeom>
            <a:solidFill>
              <a:srgbClr val="d3d3d3">
                <a:alpha val="50000"/>
              </a:srgbClr>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49" name="Shape 2162"/>
            <p:cNvSpPr/>
            <p:nvPr/>
          </p:nvSpPr>
          <p:spPr>
            <a:xfrm>
              <a:off x="13312440" y="10190520"/>
              <a:ext cx="567720" cy="567360"/>
            </a:xfrm>
            <a:custGeom>
              <a:avLst/>
              <a:gdLst>
                <a:gd name="textAreaLeft" fmla="*/ 0 w 567720"/>
                <a:gd name="textAreaRight" fmla="*/ 568080 w 567720"/>
                <a:gd name="textAreaTop" fmla="*/ 0 h 567360"/>
                <a:gd name="textAreaBottom" fmla="*/ 567720 h 567360"/>
              </a:gdLst>
              <a:ahLst/>
              <a:rect l="textAreaLeft" t="textAreaTop" r="textAreaRight" b="textAreaBottom"/>
              <a:pathLst>
                <a:path w="21330" h="21319">
                  <a:moveTo>
                    <a:pt x="18226" y="3113"/>
                  </a:moveTo>
                  <a:cubicBezTo>
                    <a:pt x="19596" y="4524"/>
                    <a:pt x="20435" y="5978"/>
                    <a:pt x="20965" y="7874"/>
                  </a:cubicBezTo>
                  <a:cubicBezTo>
                    <a:pt x="21451" y="9769"/>
                    <a:pt x="21451" y="11489"/>
                    <a:pt x="20965" y="13384"/>
                  </a:cubicBezTo>
                  <a:cubicBezTo>
                    <a:pt x="20435" y="15280"/>
                    <a:pt x="19596" y="16778"/>
                    <a:pt x="18226" y="18145"/>
                  </a:cubicBezTo>
                  <a:cubicBezTo>
                    <a:pt x="16813" y="19555"/>
                    <a:pt x="15355" y="20437"/>
                    <a:pt x="13456" y="20922"/>
                  </a:cubicBezTo>
                  <a:cubicBezTo>
                    <a:pt x="11557" y="21451"/>
                    <a:pt x="9834" y="21451"/>
                    <a:pt x="7934" y="20922"/>
                  </a:cubicBezTo>
                  <a:cubicBezTo>
                    <a:pt x="6035" y="20437"/>
                    <a:pt x="4533" y="19555"/>
                    <a:pt x="3164" y="18145"/>
                  </a:cubicBezTo>
                  <a:cubicBezTo>
                    <a:pt x="1750" y="16778"/>
                    <a:pt x="867" y="15280"/>
                    <a:pt x="381" y="13384"/>
                  </a:cubicBezTo>
                  <a:cubicBezTo>
                    <a:pt x="-149" y="11489"/>
                    <a:pt x="-105" y="9769"/>
                    <a:pt x="381" y="7874"/>
                  </a:cubicBezTo>
                  <a:cubicBezTo>
                    <a:pt x="911" y="5978"/>
                    <a:pt x="1750" y="4524"/>
                    <a:pt x="3164" y="3113"/>
                  </a:cubicBezTo>
                  <a:cubicBezTo>
                    <a:pt x="4533" y="1747"/>
                    <a:pt x="6035" y="909"/>
                    <a:pt x="7934" y="380"/>
                  </a:cubicBezTo>
                  <a:cubicBezTo>
                    <a:pt x="9834" y="-105"/>
                    <a:pt x="11557" y="-149"/>
                    <a:pt x="13456" y="380"/>
                  </a:cubicBezTo>
                  <a:cubicBezTo>
                    <a:pt x="15355" y="865"/>
                    <a:pt x="16813" y="1747"/>
                    <a:pt x="18226" y="3113"/>
                  </a:cubicBezTo>
                </a:path>
              </a:pathLst>
            </a:custGeom>
            <a:solidFill>
              <a:srgbClr val="080808"/>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50" name="Shape 2163"/>
            <p:cNvSpPr/>
            <p:nvPr/>
          </p:nvSpPr>
          <p:spPr>
            <a:xfrm>
              <a:off x="13287960" y="3229560"/>
              <a:ext cx="590400" cy="60840"/>
            </a:xfrm>
            <a:custGeom>
              <a:avLst/>
              <a:gdLst>
                <a:gd name="textAreaLeft" fmla="*/ 0 w 590400"/>
                <a:gd name="textAreaRight" fmla="*/ 590760 w 590400"/>
                <a:gd name="textAreaTop" fmla="*/ 0 h 60840"/>
                <a:gd name="textAreaBottom" fmla="*/ 61200 h 60840"/>
              </a:gdLst>
              <a:ahLst/>
              <a:rect l="textAreaLeft" t="textAreaTop" r="textAreaRight" b="textAreaBottom"/>
              <a:pathLst>
                <a:path w="21600" h="21600">
                  <a:moveTo>
                    <a:pt x="20524" y="21600"/>
                  </a:moveTo>
                  <a:lnTo>
                    <a:pt x="1119" y="21600"/>
                  </a:lnTo>
                  <a:cubicBezTo>
                    <a:pt x="473" y="21600"/>
                    <a:pt x="0" y="17280"/>
                    <a:pt x="0" y="10800"/>
                  </a:cubicBezTo>
                  <a:cubicBezTo>
                    <a:pt x="0" y="4320"/>
                    <a:pt x="473" y="0"/>
                    <a:pt x="1119" y="0"/>
                  </a:cubicBezTo>
                  <a:lnTo>
                    <a:pt x="20524" y="0"/>
                  </a:lnTo>
                  <a:cubicBezTo>
                    <a:pt x="21127" y="0"/>
                    <a:pt x="21600" y="4320"/>
                    <a:pt x="21600" y="10800"/>
                  </a:cubicBezTo>
                  <a:cubicBezTo>
                    <a:pt x="21600" y="16416"/>
                    <a:pt x="21127" y="21600"/>
                    <a:pt x="20524" y="21600"/>
                  </a:cubicBezTo>
                </a:path>
              </a:pathLst>
            </a:custGeom>
            <a:solidFill>
              <a:srgbClr val="545454"/>
            </a:solidFill>
            <a:ln w="12700">
              <a:noFill/>
            </a:ln>
          </p:spPr>
          <p:style>
            <a:lnRef idx="0"/>
            <a:fillRef idx="0"/>
            <a:effectRef idx="0"/>
            <a:fontRef idx="minor"/>
          </p:style>
          <p:txBody>
            <a:bodyPr numCol="1" spcCol="0" lIns="45720" rIns="45720" tIns="30600" bIns="3060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51" name="Shape 2164"/>
            <p:cNvSpPr/>
            <p:nvPr/>
          </p:nvSpPr>
          <p:spPr>
            <a:xfrm>
              <a:off x="13526640" y="2928240"/>
              <a:ext cx="97200" cy="97200"/>
            </a:xfrm>
            <a:custGeom>
              <a:avLst/>
              <a:gdLst>
                <a:gd name="textAreaLeft" fmla="*/ 0 w 97200"/>
                <a:gd name="textAreaRight" fmla="*/ 97560 w 97200"/>
                <a:gd name="textAreaTop" fmla="*/ 0 h 97200"/>
                <a:gd name="textAreaBottom" fmla="*/ 97560 h 97200"/>
              </a:gdLst>
              <a:ahLst/>
              <a:rect l="textAreaLeft" t="textAreaTop" r="textAreaRight" b="textAreaBottom"/>
              <a:pathLst>
                <a:path w="21600" h="21600">
                  <a:moveTo>
                    <a:pt x="21600" y="10800"/>
                  </a:moveTo>
                  <a:cubicBezTo>
                    <a:pt x="21600" y="12857"/>
                    <a:pt x="21086" y="14400"/>
                    <a:pt x="20057" y="16200"/>
                  </a:cubicBezTo>
                  <a:cubicBezTo>
                    <a:pt x="19029" y="18000"/>
                    <a:pt x="17743" y="19029"/>
                    <a:pt x="16200" y="20057"/>
                  </a:cubicBezTo>
                  <a:cubicBezTo>
                    <a:pt x="14400" y="21086"/>
                    <a:pt x="12857" y="21600"/>
                    <a:pt x="10800" y="21600"/>
                  </a:cubicBezTo>
                  <a:cubicBezTo>
                    <a:pt x="8743" y="21600"/>
                    <a:pt x="7200" y="21086"/>
                    <a:pt x="5400" y="20057"/>
                  </a:cubicBezTo>
                  <a:cubicBezTo>
                    <a:pt x="3600" y="19029"/>
                    <a:pt x="2057" y="18000"/>
                    <a:pt x="1286" y="16200"/>
                  </a:cubicBezTo>
                  <a:cubicBezTo>
                    <a:pt x="257" y="14400"/>
                    <a:pt x="0" y="12857"/>
                    <a:pt x="0" y="10800"/>
                  </a:cubicBezTo>
                  <a:cubicBezTo>
                    <a:pt x="0" y="8743"/>
                    <a:pt x="257" y="7200"/>
                    <a:pt x="1286" y="5400"/>
                  </a:cubicBezTo>
                  <a:cubicBezTo>
                    <a:pt x="2057" y="3600"/>
                    <a:pt x="3600" y="2571"/>
                    <a:pt x="5400" y="1543"/>
                  </a:cubicBezTo>
                  <a:cubicBezTo>
                    <a:pt x="7200" y="771"/>
                    <a:pt x="8743" y="0"/>
                    <a:pt x="10800" y="0"/>
                  </a:cubicBezTo>
                  <a:cubicBezTo>
                    <a:pt x="12857" y="0"/>
                    <a:pt x="14400" y="771"/>
                    <a:pt x="16200" y="1543"/>
                  </a:cubicBezTo>
                  <a:cubicBezTo>
                    <a:pt x="17743" y="2571"/>
                    <a:pt x="19029" y="3600"/>
                    <a:pt x="20057" y="5400"/>
                  </a:cubicBezTo>
                  <a:cubicBezTo>
                    <a:pt x="21086" y="7200"/>
                    <a:pt x="21600" y="8743"/>
                    <a:pt x="21600" y="10800"/>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52" name="Shape 2165"/>
            <p:cNvSpPr/>
            <p:nvPr/>
          </p:nvSpPr>
          <p:spPr>
            <a:xfrm>
              <a:off x="12878640" y="3188880"/>
              <a:ext cx="136800" cy="136800"/>
            </a:xfrm>
            <a:custGeom>
              <a:avLst/>
              <a:gdLst>
                <a:gd name="textAreaLeft" fmla="*/ 0 w 136800"/>
                <a:gd name="textAreaRight" fmla="*/ 137160 w 136800"/>
                <a:gd name="textAreaTop" fmla="*/ 0 h 136800"/>
                <a:gd name="textAreaBottom" fmla="*/ 137160 h 136800"/>
              </a:gdLst>
              <a:ahLst/>
              <a:rect l="textAreaLeft" t="textAreaTop" r="textAreaRight" b="textAreaBottom"/>
              <a:pathLst>
                <a:path w="21318" h="21318">
                  <a:moveTo>
                    <a:pt x="11481" y="36"/>
                  </a:moveTo>
                  <a:cubicBezTo>
                    <a:pt x="13477" y="217"/>
                    <a:pt x="14930" y="762"/>
                    <a:pt x="16563" y="1851"/>
                  </a:cubicBezTo>
                  <a:cubicBezTo>
                    <a:pt x="18015" y="2940"/>
                    <a:pt x="19286" y="4210"/>
                    <a:pt x="20193" y="6025"/>
                  </a:cubicBezTo>
                  <a:cubicBezTo>
                    <a:pt x="20919" y="7841"/>
                    <a:pt x="21464" y="9656"/>
                    <a:pt x="21282" y="11471"/>
                  </a:cubicBezTo>
                  <a:cubicBezTo>
                    <a:pt x="21101" y="13467"/>
                    <a:pt x="20556" y="14920"/>
                    <a:pt x="19467" y="16553"/>
                  </a:cubicBezTo>
                  <a:cubicBezTo>
                    <a:pt x="18378" y="18187"/>
                    <a:pt x="16926" y="19457"/>
                    <a:pt x="15293" y="20183"/>
                  </a:cubicBezTo>
                  <a:cubicBezTo>
                    <a:pt x="13477" y="21091"/>
                    <a:pt x="11662" y="21454"/>
                    <a:pt x="9847" y="21272"/>
                  </a:cubicBezTo>
                  <a:cubicBezTo>
                    <a:pt x="7851" y="21091"/>
                    <a:pt x="6398" y="20546"/>
                    <a:pt x="4765" y="19457"/>
                  </a:cubicBezTo>
                  <a:cubicBezTo>
                    <a:pt x="3131" y="18368"/>
                    <a:pt x="1861" y="17098"/>
                    <a:pt x="1135" y="15283"/>
                  </a:cubicBezTo>
                  <a:cubicBezTo>
                    <a:pt x="227" y="13467"/>
                    <a:pt x="-136" y="11834"/>
                    <a:pt x="46" y="9837"/>
                  </a:cubicBezTo>
                  <a:cubicBezTo>
                    <a:pt x="227" y="8022"/>
                    <a:pt x="772" y="6388"/>
                    <a:pt x="1861" y="4755"/>
                  </a:cubicBezTo>
                  <a:cubicBezTo>
                    <a:pt x="2950" y="3121"/>
                    <a:pt x="4220" y="2032"/>
                    <a:pt x="6035" y="1125"/>
                  </a:cubicBezTo>
                  <a:cubicBezTo>
                    <a:pt x="7851" y="399"/>
                    <a:pt x="9484" y="-146"/>
                    <a:pt x="11481" y="36"/>
                  </a:cubicBezTo>
                </a:path>
              </a:pathLst>
            </a:custGeom>
            <a:solidFill>
              <a:srgbClr val="545454"/>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53" name="Shape 2166"/>
            <p:cNvSpPr/>
            <p:nvPr/>
          </p:nvSpPr>
          <p:spPr>
            <a:xfrm>
              <a:off x="12899160" y="3209400"/>
              <a:ext cx="100800" cy="101160"/>
            </a:xfrm>
            <a:custGeom>
              <a:avLst/>
              <a:gdLst>
                <a:gd name="textAreaLeft" fmla="*/ 0 w 100800"/>
                <a:gd name="textAreaRight" fmla="*/ 101160 w 100800"/>
                <a:gd name="textAreaTop" fmla="*/ 0 h 101160"/>
                <a:gd name="textAreaBottom" fmla="*/ 101520 h 101160"/>
              </a:gdLst>
              <a:ahLst/>
              <a:rect l="textAreaLeft" t="textAreaTop" r="textAreaRight" b="textAreaBottom"/>
              <a:pathLst>
                <a:path w="21282" h="21339">
                  <a:moveTo>
                    <a:pt x="17121" y="2185"/>
                  </a:moveTo>
                  <a:cubicBezTo>
                    <a:pt x="18646" y="3202"/>
                    <a:pt x="19662" y="4726"/>
                    <a:pt x="20425" y="6505"/>
                  </a:cubicBezTo>
                  <a:cubicBezTo>
                    <a:pt x="21187" y="8284"/>
                    <a:pt x="21441" y="10063"/>
                    <a:pt x="21187" y="11842"/>
                  </a:cubicBezTo>
                  <a:cubicBezTo>
                    <a:pt x="20933" y="13874"/>
                    <a:pt x="20425" y="15399"/>
                    <a:pt x="19154" y="16924"/>
                  </a:cubicBezTo>
                  <a:cubicBezTo>
                    <a:pt x="17883" y="18703"/>
                    <a:pt x="16613" y="19719"/>
                    <a:pt x="14834" y="20482"/>
                  </a:cubicBezTo>
                  <a:cubicBezTo>
                    <a:pt x="13055" y="21244"/>
                    <a:pt x="11276" y="21498"/>
                    <a:pt x="9243" y="21244"/>
                  </a:cubicBezTo>
                  <a:cubicBezTo>
                    <a:pt x="7465" y="20990"/>
                    <a:pt x="5686" y="20482"/>
                    <a:pt x="4161" y="19211"/>
                  </a:cubicBezTo>
                  <a:cubicBezTo>
                    <a:pt x="2636" y="18194"/>
                    <a:pt x="1620" y="16670"/>
                    <a:pt x="857" y="14637"/>
                  </a:cubicBezTo>
                  <a:cubicBezTo>
                    <a:pt x="95" y="12858"/>
                    <a:pt x="-159" y="11333"/>
                    <a:pt x="95" y="9300"/>
                  </a:cubicBezTo>
                  <a:cubicBezTo>
                    <a:pt x="349" y="7267"/>
                    <a:pt x="857" y="5743"/>
                    <a:pt x="2128" y="4218"/>
                  </a:cubicBezTo>
                  <a:cubicBezTo>
                    <a:pt x="3399" y="2693"/>
                    <a:pt x="4669" y="1423"/>
                    <a:pt x="6448" y="660"/>
                  </a:cubicBezTo>
                  <a:cubicBezTo>
                    <a:pt x="8227" y="-102"/>
                    <a:pt x="10006" y="-102"/>
                    <a:pt x="12039" y="152"/>
                  </a:cubicBezTo>
                  <a:cubicBezTo>
                    <a:pt x="13817" y="152"/>
                    <a:pt x="15596" y="914"/>
                    <a:pt x="17121" y="2185"/>
                  </a:cubicBezTo>
                </a:path>
              </a:pathLst>
            </a:custGeom>
            <a:solidFill>
              <a:srgbClr val="7f7f7f"/>
            </a:solidFill>
            <a:ln w="12700">
              <a:noFill/>
            </a:ln>
          </p:spPr>
          <p:style>
            <a:lnRef idx="0"/>
            <a:fillRef idx="0"/>
            <a:effectRef idx="0"/>
            <a:fontRef idx="minor"/>
          </p:style>
          <p:txBody>
            <a:bodyPr numCol="1" spcCol="0" lIns="45720" rIns="45720" anchor="ctr">
              <a:noAutofit/>
            </a:bodyPr>
            <a:p>
              <a:pPr>
                <a:lnSpc>
                  <a:spcPct val="93000"/>
                </a:lnSpc>
                <a:tabLst>
                  <a:tab algn="l" pos="0"/>
                </a:tabLst>
              </a:pPr>
              <a:endParaRPr b="0" lang="en-US" sz="1800" spc="-1" strike="noStrike">
                <a:solidFill>
                  <a:srgbClr val="000000"/>
                </a:solidFill>
                <a:latin typeface="Arial"/>
                <a:ea typeface="Arial"/>
              </a:endParaRPr>
            </a:p>
          </p:txBody>
        </p:sp>
        <p:sp>
          <p:nvSpPr>
            <p:cNvPr id="4954" name="Shape 2167"/>
            <p:cNvSpPr/>
            <p:nvPr/>
          </p:nvSpPr>
          <p:spPr>
            <a:xfrm>
              <a:off x="12919320" y="3229560"/>
              <a:ext cx="55440" cy="54720"/>
            </a:xfrm>
            <a:custGeom>
              <a:avLst/>
              <a:gdLst>
                <a:gd name="textAreaLeft" fmla="*/ 0 w 55440"/>
                <a:gd name="textAreaRight" fmla="*/ 55800 w 55440"/>
                <a:gd name="textAreaTop" fmla="*/ 0 h 54720"/>
                <a:gd name="textAreaBottom" fmla="*/ 55080 h 54720"/>
              </a:gdLst>
              <a:ahLst/>
              <a:rect l="textAreaLeft" t="textAreaTop" r="textAreaRight" b="textAreaBottom"/>
              <a:pathLst>
                <a:path w="21600" h="21321">
                  <a:moveTo>
                    <a:pt x="19722" y="5055"/>
                  </a:moveTo>
                  <a:cubicBezTo>
                    <a:pt x="21130" y="6894"/>
                    <a:pt x="21600" y="8272"/>
                    <a:pt x="21600" y="10111"/>
                  </a:cubicBezTo>
                  <a:cubicBezTo>
                    <a:pt x="21600" y="12409"/>
                    <a:pt x="21130" y="13787"/>
                    <a:pt x="20191" y="15626"/>
                  </a:cubicBezTo>
                  <a:cubicBezTo>
                    <a:pt x="19252" y="17464"/>
                    <a:pt x="17843" y="18843"/>
                    <a:pt x="16435" y="19762"/>
                  </a:cubicBezTo>
                  <a:cubicBezTo>
                    <a:pt x="14557" y="20681"/>
                    <a:pt x="13148" y="21140"/>
                    <a:pt x="11270" y="21140"/>
                  </a:cubicBezTo>
                  <a:cubicBezTo>
                    <a:pt x="9391" y="21600"/>
                    <a:pt x="7513" y="21140"/>
                    <a:pt x="5635" y="20221"/>
                  </a:cubicBezTo>
                  <a:cubicBezTo>
                    <a:pt x="3757" y="19302"/>
                    <a:pt x="2348" y="18383"/>
                    <a:pt x="1409" y="16545"/>
                  </a:cubicBezTo>
                  <a:cubicBezTo>
                    <a:pt x="0" y="15166"/>
                    <a:pt x="0" y="13328"/>
                    <a:pt x="0" y="11030"/>
                  </a:cubicBezTo>
                  <a:cubicBezTo>
                    <a:pt x="0" y="9191"/>
                    <a:pt x="0" y="7353"/>
                    <a:pt x="939" y="5974"/>
                  </a:cubicBezTo>
                  <a:cubicBezTo>
                    <a:pt x="1878" y="4136"/>
                    <a:pt x="2817" y="2757"/>
                    <a:pt x="4696" y="1838"/>
                  </a:cubicBezTo>
                  <a:cubicBezTo>
                    <a:pt x="6104" y="919"/>
                    <a:pt x="8452" y="0"/>
                    <a:pt x="10330" y="0"/>
                  </a:cubicBezTo>
                  <a:cubicBezTo>
                    <a:pt x="12209" y="0"/>
                    <a:pt x="14087" y="460"/>
                    <a:pt x="15965" y="1379"/>
                  </a:cubicBezTo>
                  <a:cubicBezTo>
                    <a:pt x="17374" y="2298"/>
                    <a:pt x="18783" y="3217"/>
                    <a:pt x="19722" y="5055"/>
                  </a:cubicBezTo>
                </a:path>
              </a:pathLst>
            </a:custGeom>
            <a:solidFill>
              <a:srgbClr val="545454"/>
            </a:solidFill>
            <a:ln w="12700">
              <a:noFill/>
            </a:ln>
          </p:spPr>
          <p:style>
            <a:lnRef idx="0"/>
            <a:fillRef idx="0"/>
            <a:effectRef idx="0"/>
            <a:fontRef idx="minor"/>
          </p:style>
          <p:txBody>
            <a:bodyPr numCol="1" spcCol="0" lIns="45720" rIns="45720" tIns="27360" bIns="27360" anchor="ctr">
              <a:noAutofit/>
            </a:bodyPr>
            <a:p>
              <a:pPr>
                <a:lnSpc>
                  <a:spcPct val="93000"/>
                </a:lnSpc>
                <a:tabLst>
                  <a:tab algn="l" pos="0"/>
                </a:tabLst>
              </a:pPr>
              <a:endParaRPr b="0" lang="en-US" sz="1800" spc="-1" strike="noStrike">
                <a:solidFill>
                  <a:srgbClr val="000000"/>
                </a:solidFill>
                <a:latin typeface="Arial"/>
                <a:ea typeface="Arial"/>
              </a:endParaRPr>
            </a:p>
          </p:txBody>
        </p:sp>
      </p:grpSp>
      <p:sp>
        <p:nvSpPr>
          <p:cNvPr id="4955" name="Shape 2170"/>
          <p:cNvSpPr/>
          <p:nvPr/>
        </p:nvSpPr>
        <p:spPr>
          <a:xfrm>
            <a:off x="18671400" y="1835280"/>
            <a:ext cx="4566960" cy="1714320"/>
          </a:xfrm>
          <a:prstGeom prst="rect">
            <a:avLst/>
          </a:prstGeom>
          <a:noFill/>
          <a:ln w="12700">
            <a:noFill/>
          </a:ln>
        </p:spPr>
        <p:style>
          <a:lnRef idx="0"/>
          <a:fillRef idx="0"/>
          <a:effectRef idx="0"/>
          <a:fontRef idx="minor"/>
        </p:style>
        <p:txBody>
          <a:bodyPr lIns="0" rIns="0" tIns="0" bIns="0" anchor="t">
            <a:normAutofit/>
          </a:bodyPr>
          <a:p>
            <a:pPr>
              <a:lnSpc>
                <a:spcPct val="100000"/>
              </a:lnSpc>
              <a:tabLst>
                <a:tab algn="l" pos="0"/>
              </a:tabLst>
            </a:pPr>
            <a:r>
              <a:rPr b="0" lang="de-DE" sz="4800" spc="239" strike="noStrike">
                <a:solidFill>
                  <a:srgbClr val="ffffff"/>
                </a:solidFill>
                <a:latin typeface="Montserrat"/>
                <a:ea typeface="Montserrat"/>
              </a:rPr>
              <a:t>App</a:t>
            </a:r>
            <a:endParaRPr b="0" lang="en-US" sz="4800" spc="-1" strike="noStrike">
              <a:solidFill>
                <a:srgbClr val="000000"/>
              </a:solidFill>
              <a:latin typeface="Arial"/>
            </a:endParaRPr>
          </a:p>
          <a:p>
            <a:pPr>
              <a:lnSpc>
                <a:spcPct val="100000"/>
              </a:lnSpc>
              <a:tabLst>
                <a:tab algn="l" pos="0"/>
              </a:tabLst>
            </a:pPr>
            <a:r>
              <a:rPr b="0" lang="de-DE" sz="4800" spc="239" strike="noStrike">
                <a:solidFill>
                  <a:srgbClr val="ffffff"/>
                </a:solidFill>
                <a:latin typeface="Montserrat"/>
                <a:ea typeface="Montserrat"/>
              </a:rPr>
              <a:t>Design</a:t>
            </a:r>
            <a:endParaRPr b="0" lang="en-US" sz="4800" spc="-1" strike="noStrike">
              <a:solidFill>
                <a:srgbClr val="000000"/>
              </a:solidFill>
              <a:latin typeface="Arial"/>
            </a:endParaRPr>
          </a:p>
        </p:txBody>
      </p:sp>
      <p:sp>
        <p:nvSpPr>
          <p:cNvPr id="4956" name="Shape 2171"/>
          <p:cNvSpPr/>
          <p:nvPr/>
        </p:nvSpPr>
        <p:spPr>
          <a:xfrm>
            <a:off x="18671400" y="4298040"/>
            <a:ext cx="3685320" cy="75798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At vero eos beton accusam et justo fosdiuo it dolores etoa jam rebum. Stet on clita kuasd gubergren, nosotra seado tan kimata sianct nus Dorems ipsum dolor sifon amet. Lorem esos ipsum dolor onro sit amet.</a:t>
            </a:r>
            <a:endParaRPr b="0" lang="en-US" sz="3000" spc="-1" strike="noStrike">
              <a:solidFill>
                <a:srgbClr val="000000"/>
              </a:solidFill>
              <a:latin typeface="Arial"/>
            </a:endParaRPr>
          </a:p>
        </p:txBody>
      </p:sp>
      <p:sp>
        <p:nvSpPr>
          <p:cNvPr id="4957" name="Shape 2172"/>
          <p:cNvSpPr/>
          <p:nvPr/>
        </p:nvSpPr>
        <p:spPr>
          <a:xfrm>
            <a:off x="3570480" y="2592360"/>
            <a:ext cx="6095520" cy="1139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a:t>
            </a:r>
            <a:endParaRPr b="0" lang="en-US" sz="3000" spc="-1" strike="noStrike">
              <a:solidFill>
                <a:srgbClr val="000000"/>
              </a:solidFill>
              <a:latin typeface="Arial"/>
            </a:endParaRPr>
          </a:p>
        </p:txBody>
      </p:sp>
      <p:sp>
        <p:nvSpPr>
          <p:cNvPr id="4958" name="Shape 2173"/>
          <p:cNvSpPr/>
          <p:nvPr/>
        </p:nvSpPr>
        <p:spPr>
          <a:xfrm>
            <a:off x="3570480" y="18306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IDEAS</a:t>
            </a:r>
            <a:endParaRPr b="0" lang="en-US" sz="3000" spc="-1" strike="noStrike">
              <a:solidFill>
                <a:srgbClr val="000000"/>
              </a:solidFill>
              <a:latin typeface="Arial"/>
            </a:endParaRPr>
          </a:p>
        </p:txBody>
      </p:sp>
      <p:sp>
        <p:nvSpPr>
          <p:cNvPr id="4959" name="Shape 2174"/>
          <p:cNvSpPr/>
          <p:nvPr/>
        </p:nvSpPr>
        <p:spPr>
          <a:xfrm>
            <a:off x="3570480" y="45414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960" name="Shape 2175"/>
          <p:cNvSpPr/>
          <p:nvPr/>
        </p:nvSpPr>
        <p:spPr>
          <a:xfrm>
            <a:off x="3570480" y="72522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961" name="Shape 2176"/>
          <p:cNvSpPr/>
          <p:nvPr/>
        </p:nvSpPr>
        <p:spPr>
          <a:xfrm>
            <a:off x="3570480" y="9963000"/>
            <a:ext cx="609552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962" name="Shape 2177"/>
          <p:cNvSpPr/>
          <p:nvPr/>
        </p:nvSpPr>
        <p:spPr>
          <a:xfrm>
            <a:off x="3570480" y="530316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osan  granss rebum.</a:t>
            </a:r>
            <a:endParaRPr b="0" lang="en-US" sz="3000" spc="-1" strike="noStrike">
              <a:solidFill>
                <a:srgbClr val="000000"/>
              </a:solidFill>
              <a:latin typeface="Arial"/>
            </a:endParaRPr>
          </a:p>
        </p:txBody>
      </p:sp>
      <p:sp>
        <p:nvSpPr>
          <p:cNvPr id="4963" name="Shape 2178"/>
          <p:cNvSpPr/>
          <p:nvPr/>
        </p:nvSpPr>
        <p:spPr>
          <a:xfrm>
            <a:off x="3570480" y="801432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roteto clita kuasd gubergren, nosotra seao itrado. </a:t>
            </a:r>
            <a:endParaRPr b="0" lang="en-US" sz="3000" spc="-1" strike="noStrike">
              <a:solidFill>
                <a:srgbClr val="000000"/>
              </a:solidFill>
              <a:latin typeface="Arial"/>
            </a:endParaRPr>
          </a:p>
        </p:txBody>
      </p:sp>
      <p:sp>
        <p:nvSpPr>
          <p:cNvPr id="4964" name="Shape 2179"/>
          <p:cNvSpPr/>
          <p:nvPr/>
        </p:nvSpPr>
        <p:spPr>
          <a:xfrm>
            <a:off x="3570480" y="10725120"/>
            <a:ext cx="6095520" cy="11523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Lores etoa jam rebum kuasd gubergren, nosotra seao. </a:t>
            </a:r>
            <a:endParaRPr b="0" lang="en-US" sz="3000" spc="-1" strike="noStrike">
              <a:solidFill>
                <a:srgbClr val="000000"/>
              </a:solidFill>
              <a:latin typeface="Arial"/>
            </a:endParaRPr>
          </a:p>
        </p:txBody>
      </p:sp>
      <p:sp>
        <p:nvSpPr>
          <p:cNvPr id="4965" name="Shape 2180"/>
          <p:cNvSpPr/>
          <p:nvPr/>
        </p:nvSpPr>
        <p:spPr>
          <a:xfrm>
            <a:off x="1917000" y="144468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1</a:t>
            </a:r>
            <a:endParaRPr b="0" lang="en-US" sz="12000" spc="-1" strike="noStrike">
              <a:solidFill>
                <a:srgbClr val="000000"/>
              </a:solidFill>
              <a:latin typeface="Arial"/>
            </a:endParaRPr>
          </a:p>
        </p:txBody>
      </p:sp>
      <p:sp>
        <p:nvSpPr>
          <p:cNvPr id="4966" name="Shape 2181"/>
          <p:cNvSpPr/>
          <p:nvPr/>
        </p:nvSpPr>
        <p:spPr>
          <a:xfrm>
            <a:off x="1917000" y="416196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2</a:t>
            </a:r>
            <a:endParaRPr b="0" lang="en-US" sz="12000" spc="-1" strike="noStrike">
              <a:solidFill>
                <a:srgbClr val="000000"/>
              </a:solidFill>
              <a:latin typeface="Arial"/>
            </a:endParaRPr>
          </a:p>
        </p:txBody>
      </p:sp>
      <p:sp>
        <p:nvSpPr>
          <p:cNvPr id="4967" name="Shape 2182"/>
          <p:cNvSpPr/>
          <p:nvPr/>
        </p:nvSpPr>
        <p:spPr>
          <a:xfrm>
            <a:off x="1917000" y="687924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a:t>
            </a:r>
            <a:endParaRPr b="0" lang="en-US" sz="12000" spc="-1" strike="noStrike">
              <a:solidFill>
                <a:srgbClr val="000000"/>
              </a:solidFill>
              <a:latin typeface="Arial"/>
            </a:endParaRPr>
          </a:p>
        </p:txBody>
      </p:sp>
      <p:sp>
        <p:nvSpPr>
          <p:cNvPr id="4968" name="Shape 2183"/>
          <p:cNvSpPr/>
          <p:nvPr/>
        </p:nvSpPr>
        <p:spPr>
          <a:xfrm>
            <a:off x="1917000" y="9590040"/>
            <a:ext cx="1653120" cy="25416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4</a:t>
            </a:r>
            <a:endParaRPr b="0" lang="en-US" sz="1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9" name="Shape 2196"/>
          <p:cNvSpPr/>
          <p:nvPr/>
        </p:nvSpPr>
        <p:spPr>
          <a:xfrm>
            <a:off x="13213440" y="2129760"/>
            <a:ext cx="9144720" cy="3388320"/>
          </a:xfrm>
          <a:prstGeom prst="rect">
            <a:avLst/>
          </a:prstGeom>
          <a:noFill/>
          <a:ln w="12700">
            <a:noFill/>
          </a:ln>
        </p:spPr>
        <p:style>
          <a:lnRef idx="0"/>
          <a:fillRef idx="0"/>
          <a:effectRef idx="0"/>
          <a:fontRef idx="minor"/>
        </p:style>
        <p:txBody>
          <a:bodyPr lIns="50760" rIns="50760" tIns="50760" bIns="50760" anchor="ctr">
            <a:spAutoFit/>
          </a:bodyPr>
          <a:p>
            <a:pPr>
              <a:lnSpc>
                <a:spcPct val="120000"/>
              </a:lnSpc>
              <a:spcBef>
                <a:spcPts val="5899"/>
              </a:spcBef>
              <a:tabLst>
                <a:tab algn="l" pos="0"/>
              </a:tabLst>
            </a:pPr>
            <a:r>
              <a:rPr b="0" lang="en-US" sz="3000" spc="-1" strike="noStrike">
                <a:solidFill>
                  <a:srgbClr val="424242"/>
                </a:solidFill>
                <a:latin typeface="Montserrat Light"/>
                <a:ea typeface="Montserrat Light"/>
              </a:rPr>
              <a:t>At vero eos et accusam et justo duo dolores et eaomasn rebum. Stet clita kasd gubergren, no sea norn takimata sanctus est Lorem ipsum dolor sit amet. Lorem osipsum dolor sit amet, consetetur sadipscing elitr, seldom diam nonumy eirmod tempor invidunt ut labore erutad dolore magna.</a:t>
            </a:r>
            <a:endParaRPr b="0" lang="en-US" sz="3000" spc="-1" strike="noStrike">
              <a:solidFill>
                <a:srgbClr val="000000"/>
              </a:solidFill>
              <a:latin typeface="Arial"/>
            </a:endParaRPr>
          </a:p>
        </p:txBody>
      </p:sp>
      <p:sp>
        <p:nvSpPr>
          <p:cNvPr id="4970" name="Shape 2197"/>
          <p:cNvSpPr/>
          <p:nvPr/>
        </p:nvSpPr>
        <p:spPr>
          <a:xfrm>
            <a:off x="2035080" y="8822160"/>
            <a:ext cx="9141840" cy="1855440"/>
          </a:xfrm>
          <a:prstGeom prst="rect">
            <a:avLst/>
          </a:prstGeom>
          <a:noFill/>
          <a:ln w="12700">
            <a:noFill/>
          </a:ln>
        </p:spPr>
        <p:style>
          <a:lnRef idx="0"/>
          <a:fillRef idx="0"/>
          <a:effectRef idx="0"/>
          <a:fontRef idx="minor"/>
        </p:style>
        <p:txBody>
          <a:bodyPr lIns="50760" rIns="50760" tIns="50760" bIns="50760" anchor="ctr">
            <a:spAutoFit/>
          </a:bodyPr>
          <a:p>
            <a:pPr>
              <a:lnSpc>
                <a:spcPct val="120000"/>
              </a:lnSpc>
              <a:tabLst>
                <a:tab algn="l" pos="0"/>
              </a:tabLst>
            </a:pPr>
            <a:r>
              <a:rPr b="0" lang="en-US" sz="4800" spc="-1" strike="noStrike">
                <a:solidFill>
                  <a:srgbClr val="212121"/>
                </a:solidFill>
                <a:latin typeface="Arial"/>
                <a:ea typeface="Arial"/>
              </a:rPr>
              <a:t>Labore et dolore dm magmona deum eot, sed diam volup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1" name="Shape 2205"/>
          <p:cNvSpPr/>
          <p:nvPr/>
        </p:nvSpPr>
        <p:spPr>
          <a:xfrm>
            <a:off x="2032200" y="9654840"/>
            <a:ext cx="9144720" cy="126540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o clita kuasd gubergren, nosotra seao. Fosduo dolores etoa jamorda rebum.  </a:t>
            </a:r>
            <a:endParaRPr b="0" lang="en-US" sz="3000" spc="-1" strike="noStrike">
              <a:solidFill>
                <a:srgbClr val="000000"/>
              </a:solidFill>
              <a:latin typeface="Arial"/>
            </a:endParaRPr>
          </a:p>
        </p:txBody>
      </p:sp>
      <p:sp>
        <p:nvSpPr>
          <p:cNvPr id="4972" name="Shape 2206"/>
          <p:cNvSpPr/>
          <p:nvPr/>
        </p:nvSpPr>
        <p:spPr>
          <a:xfrm>
            <a:off x="2032200" y="7749720"/>
            <a:ext cx="9144720" cy="19047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a:t>
            </a:r>
            <a:endParaRPr b="0" lang="en-US" sz="4800" spc="-1" strike="noStrike">
              <a:solidFill>
                <a:srgbClr val="000000"/>
              </a:solidFill>
              <a:latin typeface="Arial"/>
            </a:endParaRPr>
          </a:p>
        </p:txBody>
      </p:sp>
      <p:sp>
        <p:nvSpPr>
          <p:cNvPr id="4973" name="Shape 2207"/>
          <p:cNvSpPr/>
          <p:nvPr/>
        </p:nvSpPr>
        <p:spPr>
          <a:xfrm>
            <a:off x="13211640" y="7872480"/>
            <a:ext cx="8379720" cy="30477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Lorem ipsum dolor sifon amet. Lorem eso ipsum dolor sit amet. Sed diam otron nios nonumy drosda eirmod tempor invidunt ubore eto ogna alioyam eratosda desando greadon vero eos etosda.</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4" name="Shape 2210"/>
          <p:cNvSpPr/>
          <p:nvPr/>
        </p:nvSpPr>
        <p:spPr>
          <a:xfrm>
            <a:off x="12192120" y="2592360"/>
            <a:ext cx="482796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975" name="Shape 2211"/>
          <p:cNvSpPr/>
          <p:nvPr/>
        </p:nvSpPr>
        <p:spPr>
          <a:xfrm>
            <a:off x="12192120" y="18306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CREATIVE DESIGN</a:t>
            </a:r>
            <a:endParaRPr b="0" lang="en-US" sz="3000" spc="-1" strike="noStrike">
              <a:solidFill>
                <a:srgbClr val="000000"/>
              </a:solidFill>
              <a:latin typeface="Arial"/>
            </a:endParaRPr>
          </a:p>
        </p:txBody>
      </p:sp>
      <p:sp>
        <p:nvSpPr>
          <p:cNvPr id="4976" name="Shape 2212"/>
          <p:cNvSpPr/>
          <p:nvPr/>
        </p:nvSpPr>
        <p:spPr>
          <a:xfrm>
            <a:off x="17718120" y="1830600"/>
            <a:ext cx="462564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APP DEVELOPMENT</a:t>
            </a:r>
            <a:endParaRPr b="0" lang="en-US" sz="3000" spc="-1" strike="noStrike">
              <a:solidFill>
                <a:srgbClr val="000000"/>
              </a:solidFill>
              <a:latin typeface="Arial"/>
            </a:endParaRPr>
          </a:p>
        </p:txBody>
      </p:sp>
      <p:sp>
        <p:nvSpPr>
          <p:cNvPr id="4977" name="Shape 2213"/>
          <p:cNvSpPr/>
          <p:nvPr/>
        </p:nvSpPr>
        <p:spPr>
          <a:xfrm>
            <a:off x="12189960" y="56142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MARKETING</a:t>
            </a:r>
            <a:endParaRPr b="0" lang="en-US" sz="3000" spc="-1" strike="noStrike">
              <a:solidFill>
                <a:srgbClr val="000000"/>
              </a:solidFill>
              <a:latin typeface="Arial"/>
            </a:endParaRPr>
          </a:p>
        </p:txBody>
      </p:sp>
      <p:sp>
        <p:nvSpPr>
          <p:cNvPr id="4978" name="Shape 2214"/>
          <p:cNvSpPr/>
          <p:nvPr/>
        </p:nvSpPr>
        <p:spPr>
          <a:xfrm>
            <a:off x="17715960" y="56142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PHOTOGRAPY</a:t>
            </a:r>
            <a:endParaRPr b="0" lang="en-US" sz="3000" spc="-1" strike="noStrike">
              <a:solidFill>
                <a:srgbClr val="000000"/>
              </a:solidFill>
              <a:latin typeface="Arial"/>
            </a:endParaRPr>
          </a:p>
        </p:txBody>
      </p:sp>
      <p:sp>
        <p:nvSpPr>
          <p:cNvPr id="4979" name="Shape 2215"/>
          <p:cNvSpPr/>
          <p:nvPr/>
        </p:nvSpPr>
        <p:spPr>
          <a:xfrm>
            <a:off x="17718120" y="259236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980" name="Shape 2216"/>
          <p:cNvSpPr/>
          <p:nvPr/>
        </p:nvSpPr>
        <p:spPr>
          <a:xfrm>
            <a:off x="12189960" y="63763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981" name="Shape 2217"/>
          <p:cNvSpPr/>
          <p:nvPr/>
        </p:nvSpPr>
        <p:spPr>
          <a:xfrm>
            <a:off x="17715960" y="63763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982" name="Shape 2218"/>
          <p:cNvSpPr/>
          <p:nvPr/>
        </p:nvSpPr>
        <p:spPr>
          <a:xfrm>
            <a:off x="2031840" y="1581480"/>
            <a:ext cx="9145080" cy="446184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ffffff"/>
                </a:solidFill>
                <a:latin typeface="Montserrat Semi Bold"/>
                <a:ea typeface="Montserrat Semi Bold"/>
              </a:rPr>
              <a:t>A Great</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ffffff"/>
                </a:solidFill>
                <a:latin typeface="Montserrat Semi Bold"/>
                <a:ea typeface="Montserrat Semi Bold"/>
              </a:rPr>
              <a:t>Titel goes</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ffffff"/>
                </a:solidFill>
                <a:latin typeface="Montserrat Semi Bold"/>
                <a:ea typeface="Montserrat Semi Bold"/>
              </a:rPr>
              <a:t>here</a:t>
            </a:r>
            <a:endParaRPr b="0" lang="en-US" sz="11200" spc="-1" strike="noStrike">
              <a:solidFill>
                <a:srgbClr val="000000"/>
              </a:solidFill>
              <a:latin typeface="Arial"/>
            </a:endParaRPr>
          </a:p>
        </p:txBody>
      </p:sp>
      <p:sp>
        <p:nvSpPr>
          <p:cNvPr id="4983" name="Shape 2219"/>
          <p:cNvSpPr/>
          <p:nvPr/>
        </p:nvSpPr>
        <p:spPr>
          <a:xfrm>
            <a:off x="12192120" y="93981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SUPPORT</a:t>
            </a:r>
            <a:endParaRPr b="0" lang="en-US" sz="3000" spc="-1" strike="noStrike">
              <a:solidFill>
                <a:srgbClr val="000000"/>
              </a:solidFill>
              <a:latin typeface="Arial"/>
            </a:endParaRPr>
          </a:p>
        </p:txBody>
      </p:sp>
      <p:sp>
        <p:nvSpPr>
          <p:cNvPr id="4984" name="Shape 2220"/>
          <p:cNvSpPr/>
          <p:nvPr/>
        </p:nvSpPr>
        <p:spPr>
          <a:xfrm>
            <a:off x="17715960" y="939816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RANDING</a:t>
            </a:r>
            <a:endParaRPr b="0" lang="en-US" sz="3000" spc="-1" strike="noStrike">
              <a:solidFill>
                <a:srgbClr val="000000"/>
              </a:solidFill>
              <a:latin typeface="Arial"/>
            </a:endParaRPr>
          </a:p>
        </p:txBody>
      </p:sp>
      <p:sp>
        <p:nvSpPr>
          <p:cNvPr id="4985" name="Shape 2221"/>
          <p:cNvSpPr/>
          <p:nvPr/>
        </p:nvSpPr>
        <p:spPr>
          <a:xfrm>
            <a:off x="12192120" y="101599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
        <p:nvSpPr>
          <p:cNvPr id="4986" name="Shape 2222"/>
          <p:cNvSpPr/>
          <p:nvPr/>
        </p:nvSpPr>
        <p:spPr>
          <a:xfrm>
            <a:off x="17715960" y="10159920"/>
            <a:ext cx="4825800" cy="1904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Fosduo dolores etoa jam rebum. Steto clita kuasd gubergren, nosotra seao. </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7" name="Shape 2225"/>
          <p:cNvSpPr/>
          <p:nvPr/>
        </p:nvSpPr>
        <p:spPr>
          <a:xfrm>
            <a:off x="13211640" y="1708200"/>
            <a:ext cx="7061760" cy="334440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ffffff"/>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en-US" sz="11200" spc="559" strike="noStrike">
                <a:solidFill>
                  <a:srgbClr val="ffffff"/>
                </a:solidFill>
                <a:latin typeface="Montserrat Semi Bold"/>
                <a:ea typeface="Montserrat Semi Bold"/>
              </a:rPr>
              <a:t>Creative</a:t>
            </a:r>
            <a:endParaRPr b="0" lang="en-US" sz="11200" spc="-1" strike="noStrike">
              <a:solidFill>
                <a:srgbClr val="000000"/>
              </a:solidFill>
              <a:latin typeface="Arial"/>
            </a:endParaRPr>
          </a:p>
        </p:txBody>
      </p:sp>
      <p:sp>
        <p:nvSpPr>
          <p:cNvPr id="4988" name="Shape 2226"/>
          <p:cNvSpPr/>
          <p:nvPr/>
        </p:nvSpPr>
        <p:spPr>
          <a:xfrm>
            <a:off x="2035800" y="1799640"/>
            <a:ext cx="9144720" cy="41374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reso nade les</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cw sidom </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bring volumes</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esonds.</a:t>
            </a:r>
            <a:endParaRPr b="0" lang="en-US" sz="4800" spc="-1" strike="noStrike">
              <a:solidFill>
                <a:srgbClr val="000000"/>
              </a:solidFill>
              <a:latin typeface="Arial"/>
            </a:endParaRPr>
          </a:p>
        </p:txBody>
      </p:sp>
      <p:sp>
        <p:nvSpPr>
          <p:cNvPr id="4989" name="Shape 2227"/>
          <p:cNvSpPr/>
          <p:nvPr/>
        </p:nvSpPr>
        <p:spPr>
          <a:xfrm>
            <a:off x="2035800" y="6695280"/>
            <a:ext cx="914472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s. Sed diam dnie nonumy eirmod tempor invidunt utony labore etodre dolore magna aliquyam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0" name="Shape 2230"/>
          <p:cNvSpPr/>
          <p:nvPr/>
        </p:nvSpPr>
        <p:spPr>
          <a:xfrm>
            <a:off x="7136640" y="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91" name="Shape 2231"/>
          <p:cNvSpPr/>
          <p:nvPr/>
        </p:nvSpPr>
        <p:spPr>
          <a:xfrm>
            <a:off x="13208040" y="1708200"/>
            <a:ext cx="9245160" cy="5149440"/>
          </a:xfrm>
          <a:prstGeom prst="rect">
            <a:avLst/>
          </a:prstGeom>
          <a:noFill/>
          <a:ln w="12700">
            <a:noFill/>
          </a:ln>
        </p:spPr>
        <p:style>
          <a:lnRef idx="0"/>
          <a:fillRef idx="0"/>
          <a:effectRef idx="0"/>
          <a:fontRef idx="minor"/>
        </p:style>
        <p:txBody>
          <a:bodyPr lIns="0" rIns="0" tIns="0" bIns="0" anchor="t">
            <a:normAutofit/>
          </a:bodyPr>
          <a:p>
            <a:pPr algn="r">
              <a:lnSpc>
                <a:spcPct val="80000"/>
              </a:lnSpc>
              <a:tabLst>
                <a:tab algn="l" pos="0"/>
              </a:tabLst>
            </a:pPr>
            <a:r>
              <a:rPr b="0" lang="de-DE" sz="11200" spc="-1" strike="noStrike">
                <a:solidFill>
                  <a:srgbClr val="212121"/>
                </a:solidFill>
                <a:latin typeface="Montserrat Semi Bold"/>
                <a:ea typeface="Montserrat Semi Bold"/>
              </a:rPr>
              <a:t>Put Your</a:t>
            </a:r>
            <a:endParaRPr b="0" lang="en-US" sz="11200" spc="-1" strike="noStrike">
              <a:solidFill>
                <a:srgbClr val="000000"/>
              </a:solidFill>
              <a:latin typeface="Arial"/>
            </a:endParaRPr>
          </a:p>
          <a:p>
            <a:pPr algn="r">
              <a:lnSpc>
                <a:spcPct val="80000"/>
              </a:lnSpc>
              <a:tabLst>
                <a:tab algn="l" pos="0"/>
              </a:tabLst>
            </a:pPr>
            <a:r>
              <a:rPr b="0" lang="de-DE" sz="11200" spc="-1" strike="noStrike">
                <a:solidFill>
                  <a:srgbClr val="212121"/>
                </a:solidFill>
                <a:latin typeface="Montserrat Semi Bold"/>
                <a:ea typeface="Montserrat Semi Bold"/>
              </a:rPr>
              <a:t>Titel</a:t>
            </a:r>
            <a:endParaRPr b="0" lang="en-US" sz="11200" spc="-1" strike="noStrike">
              <a:solidFill>
                <a:srgbClr val="000000"/>
              </a:solidFill>
              <a:latin typeface="Arial"/>
            </a:endParaRPr>
          </a:p>
          <a:p>
            <a:pPr algn="r">
              <a:lnSpc>
                <a:spcPct val="80000"/>
              </a:lnSpc>
              <a:tabLst>
                <a:tab algn="l" pos="0"/>
              </a:tabLst>
            </a:pPr>
            <a:r>
              <a:rPr b="0" lang="de-DE" sz="11200" spc="-1" strike="noStrike">
                <a:solidFill>
                  <a:srgbClr val="212121"/>
                </a:solidFill>
                <a:latin typeface="Montserrat Semi Bold"/>
                <a:ea typeface="Montserrat Semi Bold"/>
              </a:rPr>
              <a:t>here</a:t>
            </a:r>
            <a:endParaRPr b="0" lang="en-US" sz="11200" spc="-1" strike="noStrike">
              <a:solidFill>
                <a:srgbClr val="000000"/>
              </a:solidFill>
              <a:latin typeface="Arial"/>
            </a:endParaRPr>
          </a:p>
        </p:txBody>
      </p:sp>
      <p:sp>
        <p:nvSpPr>
          <p:cNvPr id="4992" name="Shape 2232"/>
          <p:cNvSpPr/>
          <p:nvPr/>
        </p:nvSpPr>
        <p:spPr>
          <a:xfrm>
            <a:off x="13208040" y="6858000"/>
            <a:ext cx="9145080" cy="4316040"/>
          </a:xfrm>
          <a:prstGeom prst="rect">
            <a:avLst/>
          </a:prstGeom>
          <a:noFill/>
          <a:ln w="12700">
            <a:noFill/>
          </a:ln>
        </p:spPr>
        <p:style>
          <a:lnRef idx="0"/>
          <a:fillRef idx="0"/>
          <a:effectRef idx="0"/>
          <a:fontRef idx="minor"/>
        </p:style>
        <p:txBody>
          <a:bodyPr lIns="50760" rIns="50760" tIns="50760" bIns="50760" anchor="t">
            <a:noAutofit/>
          </a:bodyPr>
          <a:p>
            <a:pPr algn="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a jam rebum. Stet clita kuasd gubergren, nosotra seao takimata sanctus Lorem ipsum dolor sit amet. Lorem eso ipsum dolor sit amet.</a:t>
            </a:r>
            <a:endParaRPr b="0" lang="en-US" sz="3000" spc="-1" strike="noStrike">
              <a:solidFill>
                <a:srgbClr val="000000"/>
              </a:solidFill>
              <a:latin typeface="Arial"/>
            </a:endParaRPr>
          </a:p>
          <a:p>
            <a:pPr algn="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bore eto o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3" name="Shape 2235"/>
          <p:cNvSpPr/>
          <p:nvPr/>
        </p:nvSpPr>
        <p:spPr>
          <a:xfrm rot="10800000">
            <a:off x="12192480" y="36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94" name="Shape 2236"/>
          <p:cNvSpPr/>
          <p:nvPr/>
        </p:nvSpPr>
        <p:spPr>
          <a:xfrm>
            <a:off x="17296560" y="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95" name="Shape 2237"/>
          <p:cNvSpPr/>
          <p:nvPr/>
        </p:nvSpPr>
        <p:spPr>
          <a:xfrm>
            <a:off x="1981440" y="1714680"/>
            <a:ext cx="1028664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Long Skew</a:t>
            </a:r>
            <a:endParaRPr b="0" lang="en-US" sz="11200" spc="-1" strike="noStrike">
              <a:solidFill>
                <a:srgbClr val="000000"/>
              </a:solidFill>
              <a:latin typeface="Arial"/>
            </a:endParaRPr>
          </a:p>
        </p:txBody>
      </p:sp>
      <p:sp>
        <p:nvSpPr>
          <p:cNvPr id="4996" name="Shape 2238"/>
          <p:cNvSpPr/>
          <p:nvPr/>
        </p:nvSpPr>
        <p:spPr>
          <a:xfrm>
            <a:off x="2032200" y="4451400"/>
            <a:ext cx="9144720" cy="17823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Osa mage onade me l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m idom bring volupo.</a:t>
            </a:r>
            <a:endParaRPr b="0" lang="en-US" sz="4800" spc="-1" strike="noStrike">
              <a:solidFill>
                <a:srgbClr val="000000"/>
              </a:solidFill>
              <a:latin typeface="Arial"/>
            </a:endParaRPr>
          </a:p>
        </p:txBody>
      </p:sp>
      <p:sp>
        <p:nvSpPr>
          <p:cNvPr id="4997" name="Shape 2239"/>
          <p:cNvSpPr/>
          <p:nvPr/>
        </p:nvSpPr>
        <p:spPr>
          <a:xfrm>
            <a:off x="2032200" y="7238880"/>
            <a:ext cx="914472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Etoma jam rebum. Stet clita kuasd gubergren, nosotra sea takimata sanctus est Lorem ipsum dolor sit amet. Lorem eso ipsum dolor sit amet, deras consetetur sadipscing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8" name="Shape 2242"/>
          <p:cNvSpPr/>
          <p:nvPr/>
        </p:nvSpPr>
        <p:spPr>
          <a:xfrm>
            <a:off x="18312840" y="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4999" name="Shape 2243"/>
          <p:cNvSpPr/>
          <p:nvPr/>
        </p:nvSpPr>
        <p:spPr>
          <a:xfrm>
            <a:off x="1968480" y="1714680"/>
            <a:ext cx="927180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Long Skew</a:t>
            </a:r>
            <a:endParaRPr b="0" lang="en-US" sz="11200" spc="-1" strike="noStrike">
              <a:solidFill>
                <a:srgbClr val="000000"/>
              </a:solidFill>
              <a:latin typeface="Arial"/>
            </a:endParaRPr>
          </a:p>
        </p:txBody>
      </p:sp>
      <p:sp>
        <p:nvSpPr>
          <p:cNvPr id="5000" name="Shape 2244"/>
          <p:cNvSpPr/>
          <p:nvPr/>
        </p:nvSpPr>
        <p:spPr>
          <a:xfrm>
            <a:off x="2032200" y="4444920"/>
            <a:ext cx="9144720" cy="17823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 magmona dreonade l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m idom bring volupo.</a:t>
            </a:r>
            <a:endParaRPr b="0" lang="en-US" sz="4800" spc="-1" strike="noStrike">
              <a:solidFill>
                <a:srgbClr val="000000"/>
              </a:solidFill>
              <a:latin typeface="Arial"/>
            </a:endParaRPr>
          </a:p>
        </p:txBody>
      </p:sp>
      <p:sp>
        <p:nvSpPr>
          <p:cNvPr id="5001" name="Shape 2245"/>
          <p:cNvSpPr/>
          <p:nvPr/>
        </p:nvSpPr>
        <p:spPr>
          <a:xfrm>
            <a:off x="2032200" y="7365960"/>
            <a:ext cx="914472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ma jam rebum. Stet clita kuasd gubergren, nosotra sea takimata sanctus est Lorem ipsusit druamet. Lorem eso ipsum dolor sit amet, deras consetetur sadipscing elitromas. Sed diam dnie nonumy eirmod tempor invidunt ut labore etodre dolore magna aliquyam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2" name="Shape 2248"/>
          <p:cNvSpPr/>
          <p:nvPr/>
        </p:nvSpPr>
        <p:spPr>
          <a:xfrm>
            <a:off x="1968480" y="1778040"/>
            <a:ext cx="10222920" cy="323856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Lst>
            </a:pPr>
            <a:r>
              <a:rPr b="1" lang="de-DE" sz="8400" spc="-1" strike="noStrike">
                <a:solidFill>
                  <a:srgbClr val="212121"/>
                </a:solidFill>
                <a:latin typeface="Arial"/>
                <a:ea typeface="Arial"/>
              </a:rPr>
              <a:t>Image Placeholder</a:t>
            </a:r>
            <a:endParaRPr b="0" lang="en-US" sz="8400" spc="-1" strike="noStrike">
              <a:solidFill>
                <a:srgbClr val="000000"/>
              </a:solidFill>
              <a:latin typeface="Arial"/>
            </a:endParaRPr>
          </a:p>
          <a:p>
            <a:pPr>
              <a:lnSpc>
                <a:spcPct val="100000"/>
              </a:lnSpc>
              <a:tabLst>
                <a:tab algn="l" pos="0"/>
              </a:tabLst>
            </a:pPr>
            <a:r>
              <a:rPr b="1" lang="de-DE" sz="8400" spc="-1" strike="noStrike">
                <a:solidFill>
                  <a:srgbClr val="212121"/>
                </a:solidFill>
                <a:latin typeface="Arial"/>
                <a:ea typeface="Arial"/>
              </a:rPr>
              <a:t>Circle Layout</a:t>
            </a:r>
            <a:endParaRPr b="0" lang="en-US" sz="8400" spc="-1" strike="noStrike">
              <a:solidFill>
                <a:srgbClr val="000000"/>
              </a:solidFill>
              <a:latin typeface="Arial"/>
            </a:endParaRPr>
          </a:p>
        </p:txBody>
      </p:sp>
      <p:sp>
        <p:nvSpPr>
          <p:cNvPr id="5003" name="Shape 2249"/>
          <p:cNvSpPr/>
          <p:nvPr/>
        </p:nvSpPr>
        <p:spPr>
          <a:xfrm>
            <a:off x="2035080" y="5521320"/>
            <a:ext cx="9141840" cy="4824000"/>
          </a:xfrm>
          <a:prstGeom prst="rect">
            <a:avLst/>
          </a:prstGeom>
          <a:noFill/>
          <a:ln w="12700">
            <a:noFill/>
          </a:ln>
        </p:spPr>
        <p:style>
          <a:lnRef idx="0"/>
          <a:fillRef idx="0"/>
          <a:effectRef idx="0"/>
          <a:fontRef idx="minor"/>
        </p:style>
        <p:txBody>
          <a:bodyPr lIns="50760" rIns="50760" tIns="50760" bIns="50760" anchor="ctr">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ma jam rebum. Stet clita kuasd gubergren, nosotra sea takimata sanctus est Lorem ipsusit druamet. Lorem eso ipsum dolor sit amet, deras consetetur sadipscing elitromas. Sed diam dnie nonumy eirmod tempor invidunt ut labore etodre dolore magna aliquyam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4" name="Shape 2267"/>
          <p:cNvSpPr/>
          <p:nvPr/>
        </p:nvSpPr>
        <p:spPr>
          <a:xfrm rot="10800000">
            <a:off x="360" y="36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05" name="Shape 2268"/>
          <p:cNvSpPr/>
          <p:nvPr/>
        </p:nvSpPr>
        <p:spPr>
          <a:xfrm>
            <a:off x="19305720" y="0"/>
            <a:ext cx="5079600" cy="13715640"/>
          </a:xfrm>
          <a:custGeom>
            <a:avLst/>
            <a:gdLst>
              <a:gd name="textAreaLeft" fmla="*/ 0 w 5079600"/>
              <a:gd name="textAreaRight" fmla="*/ 5079960 w 5079600"/>
              <a:gd name="textAreaTop" fmla="*/ 0 h 13715640"/>
              <a:gd name="textAreaBottom" fmla="*/ 13716000 h 1371564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06" name="Shape 2269"/>
          <p:cNvSpPr/>
          <p:nvPr/>
        </p:nvSpPr>
        <p:spPr>
          <a:xfrm>
            <a:off x="14473800" y="1701720"/>
            <a:ext cx="7877880" cy="2036160"/>
          </a:xfrm>
          <a:prstGeom prst="rect">
            <a:avLst/>
          </a:prstGeom>
          <a:noFill/>
          <a:ln w="12700">
            <a:noFill/>
          </a:ln>
        </p:spPr>
        <p:style>
          <a:lnRef idx="0"/>
          <a:fillRef idx="0"/>
          <a:effectRef idx="0"/>
          <a:fontRef idx="minor"/>
        </p:style>
        <p:txBody>
          <a:bodyPr lIns="0" rIns="0" tIns="0" bIns="0" anchor="t">
            <a:normAutofit/>
          </a:bodyPr>
          <a:p>
            <a:pPr algn="r">
              <a:lnSpc>
                <a:spcPct val="80000"/>
              </a:lnSpc>
              <a:tabLst>
                <a:tab algn="l" pos="0"/>
              </a:tabLst>
            </a:pPr>
            <a:r>
              <a:rPr b="0" lang="de-DE" sz="11200" spc="-1" strike="noStrike">
                <a:solidFill>
                  <a:srgbClr val="212121"/>
                </a:solidFill>
                <a:latin typeface="Montserrat Semi Bold"/>
                <a:ea typeface="Montserrat Semi Bold"/>
              </a:rPr>
              <a:t>Big Skew</a:t>
            </a:r>
            <a:endParaRPr b="0" lang="en-US" sz="11200" spc="-1" strike="noStrike">
              <a:solidFill>
                <a:srgbClr val="000000"/>
              </a:solidFill>
              <a:latin typeface="Arial"/>
            </a:endParaRPr>
          </a:p>
        </p:txBody>
      </p:sp>
      <p:sp>
        <p:nvSpPr>
          <p:cNvPr id="5007" name="Shape 2270"/>
          <p:cNvSpPr/>
          <p:nvPr/>
        </p:nvSpPr>
        <p:spPr>
          <a:xfrm>
            <a:off x="14473800" y="4444920"/>
            <a:ext cx="7877880" cy="1782360"/>
          </a:xfrm>
          <a:prstGeom prst="rect">
            <a:avLst/>
          </a:prstGeom>
          <a:noFill/>
          <a:ln w="12700">
            <a:noFill/>
          </a:ln>
        </p:spPr>
        <p:style>
          <a:lnRef idx="0"/>
          <a:fillRef idx="0"/>
          <a:effectRef idx="0"/>
          <a:fontRef idx="minor"/>
        </p:style>
        <p:txBody>
          <a:bodyPr lIns="50760" rIns="50760" tIns="50760" bIns="50760" anchor="t">
            <a:noAutofit/>
          </a:bodyPr>
          <a:p>
            <a:pPr algn="r">
              <a:lnSpc>
                <a:spcPct val="120000"/>
              </a:lnSpc>
              <a:tabLst>
                <a:tab algn="l" pos="0"/>
              </a:tabLst>
            </a:pPr>
            <a:r>
              <a:rPr b="0" lang="en-US" sz="4800" spc="-1" strike="noStrike">
                <a:solidFill>
                  <a:srgbClr val="212121"/>
                </a:solidFill>
                <a:latin typeface="Montserrat"/>
                <a:ea typeface="Montserrat"/>
              </a:rPr>
              <a:t>Magmona dreone me leso</a:t>
            </a:r>
            <a:endParaRPr b="0" lang="en-US" sz="4800" spc="-1" strike="noStrike">
              <a:solidFill>
                <a:srgbClr val="000000"/>
              </a:solidFill>
              <a:latin typeface="Arial"/>
            </a:endParaRPr>
          </a:p>
          <a:p>
            <a:pPr algn="r">
              <a:lnSpc>
                <a:spcPct val="120000"/>
              </a:lnSpc>
              <a:tabLst>
                <a:tab algn="l" pos="0"/>
              </a:tabLst>
            </a:pPr>
            <a:r>
              <a:rPr b="0" lang="en-US" sz="4800" spc="-1" strike="noStrike">
                <a:solidFill>
                  <a:srgbClr val="212121"/>
                </a:solidFill>
                <a:latin typeface="Montserrat"/>
                <a:ea typeface="Montserrat"/>
              </a:rPr>
              <a:t>diam idom bring volupo.</a:t>
            </a:r>
            <a:endParaRPr b="0" lang="en-US" sz="4800" spc="-1" strike="noStrike">
              <a:solidFill>
                <a:srgbClr val="000000"/>
              </a:solidFill>
              <a:latin typeface="Arial"/>
            </a:endParaRPr>
          </a:p>
        </p:txBody>
      </p:sp>
      <p:sp>
        <p:nvSpPr>
          <p:cNvPr id="5008" name="Shape 2271"/>
          <p:cNvSpPr/>
          <p:nvPr/>
        </p:nvSpPr>
        <p:spPr>
          <a:xfrm>
            <a:off x="14041080" y="7619760"/>
            <a:ext cx="8310600" cy="4062240"/>
          </a:xfrm>
          <a:prstGeom prst="rect">
            <a:avLst/>
          </a:prstGeom>
          <a:noFill/>
          <a:ln w="12700">
            <a:noFill/>
          </a:ln>
        </p:spPr>
        <p:style>
          <a:lnRef idx="0"/>
          <a:fillRef idx="0"/>
          <a:effectRef idx="0"/>
          <a:fontRef idx="minor"/>
        </p:style>
        <p:txBody>
          <a:bodyPr lIns="50760" rIns="50760" tIns="50760" bIns="50760" anchor="t">
            <a:noAutofit/>
          </a:bodyPr>
          <a:p>
            <a:pPr algn="r">
              <a:lnSpc>
                <a:spcPct val="120000"/>
              </a:lnSpc>
              <a:spcBef>
                <a:spcPts val="5899"/>
              </a:spcBef>
              <a:tabLst>
                <a:tab algn="l" pos="0"/>
              </a:tabLst>
            </a:pPr>
            <a:r>
              <a:rPr b="0" lang="en-US" sz="3000" spc="-1" strike="noStrike">
                <a:solidFill>
                  <a:srgbClr val="5e5e5e"/>
                </a:solidFill>
                <a:latin typeface="Montserrat Light"/>
                <a:ea typeface="Montserrat Light"/>
              </a:rPr>
              <a:t>Steto clita kuasd nosotra sea takiomata sanctus est Lorem sito  amet. Lorem eso ipsum dosplor sit amet, dera  selitr Sed diam nie nonumy eiod por invidunt ut labore eto magna aliquyam erat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8" name="PlaceHolder 1"/>
          <p:cNvSpPr>
            <a:spLocks noGrp="1"/>
          </p:cNvSpPr>
          <p:nvPr>
            <p:ph type="sldNum" idx="99"/>
          </p:nvPr>
        </p:nvSpPr>
        <p:spPr>
          <a:xfrm>
            <a:off x="21849120" y="12318840"/>
            <a:ext cx="311760" cy="533160"/>
          </a:xfrm>
          <a:prstGeom prst="rect">
            <a:avLst/>
          </a:prstGeom>
          <a:noFill/>
          <a:ln w="12600">
            <a:noFill/>
          </a:ln>
        </p:spPr>
        <p:txBody>
          <a:bodyPr lIns="50760" rIns="50760" tIns="50760" bIns="50760" anchor="t">
            <a:noAutofit/>
          </a:bodyPr>
          <a:lstStyle>
            <a:lvl1pPr indent="0">
              <a:lnSpc>
                <a:spcPct val="120000"/>
              </a:lnSpc>
              <a:spcBef>
                <a:spcPts val="4501"/>
              </a:spcBef>
              <a:buNone/>
              <a:tabLst>
                <a:tab algn="l" pos="0"/>
              </a:tabLst>
              <a:defRPr b="0" lang="en-US" sz="2800" spc="-1" strike="noStrike">
                <a:solidFill>
                  <a:srgbClr val="797979"/>
                </a:solidFill>
                <a:latin typeface="Helvetica Light"/>
                <a:ea typeface="Helvetica Light"/>
              </a:defRPr>
            </a:lvl1pPr>
          </a:lstStyle>
          <a:p>
            <a:pPr indent="0">
              <a:lnSpc>
                <a:spcPct val="120000"/>
              </a:lnSpc>
              <a:spcBef>
                <a:spcPts val="4501"/>
              </a:spcBef>
              <a:buNone/>
              <a:tabLst>
                <a:tab algn="l" pos="0"/>
              </a:tabLst>
            </a:pPr>
            <a:fld id="{19E85CA1-6E4C-4AA1-8BD0-9D79EFC6484E}" type="slidenum">
              <a:rPr b="0" lang="en-US" sz="2800" spc="-1" strike="noStrike">
                <a:solidFill>
                  <a:srgbClr val="797979"/>
                </a:solidFill>
                <a:latin typeface="Helvetica Light"/>
                <a:ea typeface="Helvetica Light"/>
              </a:rPr>
              <a:t>6</a:t>
            </a:fld>
            <a:endParaRPr b="0" lang="en-US" sz="2800" spc="-1" strike="noStrike">
              <a:solidFill>
                <a:srgbClr val="000000"/>
              </a:solidFill>
              <a:latin typeface="Times New Roman"/>
            </a:endParaRPr>
          </a:p>
        </p:txBody>
      </p:sp>
      <p:sp>
        <p:nvSpPr>
          <p:cNvPr id="4229" name="Shape 1100"/>
          <p:cNvSpPr/>
          <p:nvPr/>
        </p:nvSpPr>
        <p:spPr>
          <a:xfrm>
            <a:off x="13208400" y="8501760"/>
            <a:ext cx="9144720" cy="34027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eot clita kuasd gubergren, nosotra sea fronds takimata sanctus est Lorem ero psusit druamet. Lorem eso ipsum dolor sit amet, deras gradaso consetetur sadipscing elitromas. Sed diam dnie nonumy eirmod tempor invidunt utony labore etodre dolor noradsa mirda.</a:t>
            </a:r>
            <a:endParaRPr b="0" lang="en-US" sz="3000" spc="-1" strike="noStrike">
              <a:solidFill>
                <a:srgbClr val="000000"/>
              </a:solidFill>
              <a:latin typeface="Arial"/>
            </a:endParaRPr>
          </a:p>
        </p:txBody>
      </p:sp>
      <p:sp>
        <p:nvSpPr>
          <p:cNvPr id="4230" name="PlaceHolder 2"/>
          <p:cNvSpPr>
            <a:spLocks noGrp="1"/>
          </p:cNvSpPr>
          <p:nvPr>
            <p:ph type="title"/>
          </p:nvPr>
        </p:nvSpPr>
        <p:spPr>
          <a:xfrm>
            <a:off x="2031840" y="1708200"/>
            <a:ext cx="10159920" cy="3124800"/>
          </a:xfrm>
          <a:prstGeom prst="rect">
            <a:avLst/>
          </a:prstGeom>
          <a:noFill/>
          <a:ln w="12600">
            <a:noFill/>
          </a:ln>
        </p:spPr>
        <p:txBody>
          <a:bodyPr lIns="0" rIns="0" tIns="0" bIns="0" anchor="t">
            <a:noAutofit/>
          </a:bodyPr>
          <a:p>
            <a:pPr indent="0">
              <a:lnSpc>
                <a:spcPct val="80000"/>
              </a:lnSpc>
              <a:buNone/>
              <a:tabLst>
                <a:tab algn="l" pos="0"/>
              </a:tabLst>
            </a:pPr>
            <a:r>
              <a:rPr b="0" lang="en-US" sz="11200" spc="559" strike="noStrike">
                <a:solidFill>
                  <a:srgbClr val="212121"/>
                </a:solidFill>
                <a:latin typeface="Montserrat Semi Bold"/>
                <a:ea typeface="Montserrat Semi Bold"/>
              </a:rPr>
              <a:t>Text</a:t>
            </a:r>
            <a:endParaRPr b="0" lang="en-US" sz="11200" spc="-1" strike="noStrike">
              <a:solidFill>
                <a:srgbClr val="009193"/>
              </a:solidFill>
              <a:latin typeface="Helvetica Light"/>
            </a:endParaRPr>
          </a:p>
          <a:p>
            <a:pPr indent="0">
              <a:lnSpc>
                <a:spcPct val="80000"/>
              </a:lnSpc>
              <a:buNone/>
              <a:tabLst>
                <a:tab algn="l" pos="0"/>
              </a:tabLst>
            </a:pPr>
            <a:r>
              <a:rPr b="0" lang="en-US" sz="11200" spc="559" strike="noStrike">
                <a:solidFill>
                  <a:srgbClr val="212121"/>
                </a:solidFill>
                <a:latin typeface="Montserrat Semi Bold"/>
                <a:ea typeface="Montserrat Semi Bold"/>
              </a:rPr>
              <a:t>1 Column</a:t>
            </a:r>
            <a:endParaRPr b="0" lang="en-US" sz="11200" spc="-1" strike="noStrike">
              <a:solidFill>
                <a:srgbClr val="009193"/>
              </a:solidFill>
              <a:latin typeface="Helvetica Light"/>
            </a:endParaRPr>
          </a:p>
        </p:txBody>
      </p:sp>
      <p:sp>
        <p:nvSpPr>
          <p:cNvPr id="4231" name="Shape 1102"/>
          <p:cNvSpPr/>
          <p:nvPr/>
        </p:nvSpPr>
        <p:spPr>
          <a:xfrm>
            <a:off x="13208400" y="1899000"/>
            <a:ext cx="9144720" cy="57729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wetoma jam rebum. Stet clita kuasd gubergren, nosotra seansa takimata sanctus est Lorem ipsum dolor sit amet. Lorem eso ipsum dolor sit amet, deras consetetur sadipscing idas brotas geras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
        <p:nvSpPr>
          <p:cNvPr id="4232" name="Shape 1103"/>
          <p:cNvSpPr/>
          <p:nvPr/>
        </p:nvSpPr>
        <p:spPr>
          <a:xfrm>
            <a:off x="2031840" y="11174400"/>
            <a:ext cx="4827960" cy="76176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3000" spc="148" strike="noStrike">
                <a:solidFill>
                  <a:srgbClr val="212121"/>
                </a:solidFill>
                <a:latin typeface="Montserrat"/>
                <a:ea typeface="Montserrat"/>
              </a:rPr>
              <a:t>BE CREATIV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9" name="Shape 2281"/>
          <p:cNvSpPr/>
          <p:nvPr/>
        </p:nvSpPr>
        <p:spPr>
          <a:xfrm>
            <a:off x="15352560" y="1701720"/>
            <a:ext cx="6999120" cy="2036160"/>
          </a:xfrm>
          <a:prstGeom prst="rect">
            <a:avLst/>
          </a:prstGeom>
          <a:noFill/>
          <a:ln w="12700">
            <a:noFill/>
          </a:ln>
        </p:spPr>
        <p:style>
          <a:lnRef idx="0"/>
          <a:fillRef idx="0"/>
          <a:effectRef idx="0"/>
          <a:fontRef idx="minor"/>
        </p:style>
        <p:txBody>
          <a:bodyPr lIns="0" rIns="0" tIns="0" bIns="0" anchor="t">
            <a:normAutofit/>
          </a:bodyPr>
          <a:p>
            <a:pPr algn="r">
              <a:lnSpc>
                <a:spcPct val="80000"/>
              </a:lnSpc>
              <a:tabLst>
                <a:tab algn="l" pos="0"/>
              </a:tabLst>
            </a:pPr>
            <a:r>
              <a:rPr b="0" lang="de-DE" sz="11200" spc="-1" strike="noStrike">
                <a:solidFill>
                  <a:srgbClr val="212121"/>
                </a:solidFill>
                <a:latin typeface="Montserrat Semi Bold"/>
                <a:ea typeface="Montserrat Semi Bold"/>
              </a:rPr>
              <a:t>Creative</a:t>
            </a:r>
            <a:endParaRPr b="0" lang="en-US" sz="11200" spc="-1" strike="noStrike">
              <a:solidFill>
                <a:srgbClr val="000000"/>
              </a:solidFill>
              <a:latin typeface="Arial"/>
            </a:endParaRPr>
          </a:p>
        </p:txBody>
      </p:sp>
      <p:sp>
        <p:nvSpPr>
          <p:cNvPr id="5010" name="Shape 2282"/>
          <p:cNvSpPr/>
          <p:nvPr/>
        </p:nvSpPr>
        <p:spPr>
          <a:xfrm>
            <a:off x="15352560" y="4444920"/>
            <a:ext cx="6999120" cy="2036160"/>
          </a:xfrm>
          <a:prstGeom prst="rect">
            <a:avLst/>
          </a:prstGeom>
          <a:noFill/>
          <a:ln w="12700">
            <a:noFill/>
          </a:ln>
        </p:spPr>
        <p:style>
          <a:lnRef idx="0"/>
          <a:fillRef idx="0"/>
          <a:effectRef idx="0"/>
          <a:fontRef idx="minor"/>
        </p:style>
        <p:txBody>
          <a:bodyPr lIns="50760" rIns="50760" tIns="50760" bIns="50760" anchor="t">
            <a:noAutofit/>
          </a:bodyPr>
          <a:p>
            <a:pPr algn="r">
              <a:lnSpc>
                <a:spcPct val="120000"/>
              </a:lnSpc>
              <a:tabLst>
                <a:tab algn="l" pos="0"/>
              </a:tabLst>
            </a:pPr>
            <a:r>
              <a:rPr b="0" lang="en-US" sz="4800" spc="-1" strike="noStrike">
                <a:solidFill>
                  <a:srgbClr val="212121"/>
                </a:solidFill>
                <a:latin typeface="Montserrat"/>
                <a:ea typeface="Montserrat"/>
              </a:rPr>
              <a:t>Mona dreone me lem idom bring volupo.</a:t>
            </a:r>
            <a:endParaRPr b="0" lang="en-US" sz="4800" spc="-1" strike="noStrike">
              <a:solidFill>
                <a:srgbClr val="000000"/>
              </a:solidFill>
              <a:latin typeface="Arial"/>
            </a:endParaRPr>
          </a:p>
        </p:txBody>
      </p:sp>
      <p:sp>
        <p:nvSpPr>
          <p:cNvPr id="5011" name="Shape 2283"/>
          <p:cNvSpPr/>
          <p:nvPr/>
        </p:nvSpPr>
        <p:spPr>
          <a:xfrm>
            <a:off x="15352560" y="7619760"/>
            <a:ext cx="6999120" cy="4062240"/>
          </a:xfrm>
          <a:prstGeom prst="rect">
            <a:avLst/>
          </a:prstGeom>
          <a:noFill/>
          <a:ln w="12700">
            <a:noFill/>
          </a:ln>
        </p:spPr>
        <p:style>
          <a:lnRef idx="0"/>
          <a:fillRef idx="0"/>
          <a:effectRef idx="0"/>
          <a:fontRef idx="minor"/>
        </p:style>
        <p:txBody>
          <a:bodyPr lIns="50760" rIns="50760" tIns="50760" bIns="50760" anchor="t">
            <a:noAutofit/>
          </a:bodyPr>
          <a:p>
            <a:pPr algn="r">
              <a:lnSpc>
                <a:spcPct val="120000"/>
              </a:lnSpc>
              <a:spcBef>
                <a:spcPts val="5899"/>
              </a:spcBef>
              <a:tabLst>
                <a:tab algn="l" pos="0"/>
              </a:tabLst>
            </a:pPr>
            <a:r>
              <a:rPr b="0" lang="en-US" sz="3000" spc="-1" strike="noStrike">
                <a:solidFill>
                  <a:srgbClr val="5e5e5e"/>
                </a:solidFill>
                <a:latin typeface="Montserrat Light"/>
                <a:ea typeface="Montserrat Light"/>
              </a:rPr>
              <a:t>Steto clita kuasd nosotra sea takiomata santus est Lorem sito  amet. Lorem eso ipsum dosplor sit amet, dera  selitr Sed diam drnie nonumy eiod por invidunt ut labore resto feeto magna aliquyam erat desando kroasnd loras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2" name="Shape 2286"/>
          <p:cNvSpPr/>
          <p:nvPr/>
        </p:nvSpPr>
        <p:spPr>
          <a:xfrm flipH="1" rot="10800000">
            <a:off x="18803880" y="2053080"/>
            <a:ext cx="3577320" cy="9659520"/>
          </a:xfrm>
          <a:custGeom>
            <a:avLst/>
            <a:gdLst>
              <a:gd name="textAreaLeft" fmla="*/ -360 w 3577320"/>
              <a:gd name="textAreaRight" fmla="*/ 3577320 w 3577320"/>
              <a:gd name="textAreaTop" fmla="*/ 0 h 9659520"/>
              <a:gd name="textAreaBottom" fmla="*/ 9659880 h 965952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13" name="Shape 2287"/>
          <p:cNvSpPr/>
          <p:nvPr/>
        </p:nvSpPr>
        <p:spPr>
          <a:xfrm flipH="1">
            <a:off x="14587560" y="2027880"/>
            <a:ext cx="3577320" cy="9659520"/>
          </a:xfrm>
          <a:custGeom>
            <a:avLst/>
            <a:gdLst>
              <a:gd name="textAreaLeft" fmla="*/ -360 w 3577320"/>
              <a:gd name="textAreaRight" fmla="*/ 3577320 w 3577320"/>
              <a:gd name="textAreaTop" fmla="*/ 0 h 9659520"/>
              <a:gd name="textAreaBottom" fmla="*/ 9659880 h 965952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14" name="Shape 2288"/>
          <p:cNvSpPr/>
          <p:nvPr/>
        </p:nvSpPr>
        <p:spPr>
          <a:xfrm>
            <a:off x="2035080" y="1708200"/>
            <a:ext cx="9141840" cy="3773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Taglin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goes here</a:t>
            </a:r>
            <a:endParaRPr b="0" lang="en-US" sz="11200" spc="-1" strike="noStrike">
              <a:solidFill>
                <a:srgbClr val="000000"/>
              </a:solidFill>
              <a:latin typeface="Arial"/>
            </a:endParaRPr>
          </a:p>
        </p:txBody>
      </p:sp>
      <p:sp>
        <p:nvSpPr>
          <p:cNvPr id="5015" name="Shape 2289"/>
          <p:cNvSpPr/>
          <p:nvPr/>
        </p:nvSpPr>
        <p:spPr>
          <a:xfrm>
            <a:off x="2032200" y="6063480"/>
            <a:ext cx="914472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5016" name="Shape 2290"/>
          <p:cNvSpPr/>
          <p:nvPr/>
        </p:nvSpPr>
        <p:spPr>
          <a:xfrm>
            <a:off x="2035080" y="8894520"/>
            <a:ext cx="9144720" cy="31759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teot clita kuasd gubergren, nosotra sea takimata sanctus est Lorem ipsusit druamet. Lorem eso ipsum dolor sit amet, deras consetetur sadipscing elitromas</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7" name="Shape 2293"/>
          <p:cNvSpPr/>
          <p:nvPr/>
        </p:nvSpPr>
        <p:spPr>
          <a:xfrm>
            <a:off x="13110120" y="1662480"/>
            <a:ext cx="9144720" cy="17949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p:txBody>
      </p:sp>
      <p:sp>
        <p:nvSpPr>
          <p:cNvPr id="5018" name="Shape 2294"/>
          <p:cNvSpPr/>
          <p:nvPr/>
        </p:nvSpPr>
        <p:spPr>
          <a:xfrm>
            <a:off x="13213440" y="6855480"/>
            <a:ext cx="9144720" cy="5032440"/>
          </a:xfrm>
          <a:prstGeom prst="rect">
            <a:avLst/>
          </a:prstGeom>
          <a:noFill/>
          <a:ln w="12700">
            <a:noFill/>
          </a:ln>
        </p:spPr>
        <p:style>
          <a:lnRef idx="0"/>
          <a:fillRef idx="0"/>
          <a:effectRef idx="0"/>
          <a:fontRef idx="minor"/>
        </p:style>
        <p:txBody>
          <a:bodyPr lIns="50760" rIns="50760" tIns="50760" bIns="50760" anchor="t">
            <a:spAutoFit/>
          </a:bodyPr>
          <a:p>
            <a:pPr>
              <a:lnSpc>
                <a:spcPct val="120000"/>
              </a:lnSpc>
              <a:spcBef>
                <a:spcPts val="5899"/>
              </a:spcBef>
              <a:tabLst>
                <a:tab algn="l" pos="0"/>
              </a:tabLst>
            </a:pPr>
            <a:r>
              <a:rPr b="0" lang="en-US" sz="3000" spc="-1" strike="noStrike">
                <a:solidFill>
                  <a:srgbClr val="53585f"/>
                </a:solidFill>
                <a:latin typeface="Montserrat Light"/>
                <a:ea typeface="Montserrat Light"/>
              </a:rPr>
              <a:t>At vero eos et accusam et justo duo dolores etm ea rebum. Stet clita kasd gubergren, nostu sea takimata sanctus est Lorem ipsum dolor situm amet. Lorem ipsum dolor sit amet, consetetur sadipscing elitr, sed diam nonumy tros eirmod tempor invidunt ut labore et dolore enti magna aliquyam erat, sed diam voluptua. At vero eos et accusam et justo duo dolores et ea rebum. Stet clita kasd gubergren, no sea takimata.</a:t>
            </a:r>
            <a:endParaRPr b="0" lang="en-US" sz="3000" spc="-1" strike="noStrike">
              <a:solidFill>
                <a:srgbClr val="000000"/>
              </a:solidFill>
              <a:latin typeface="Arial"/>
            </a:endParaRPr>
          </a:p>
        </p:txBody>
      </p:sp>
      <p:sp>
        <p:nvSpPr>
          <p:cNvPr id="5019" name="Shape 2295"/>
          <p:cNvSpPr/>
          <p:nvPr/>
        </p:nvSpPr>
        <p:spPr>
          <a:xfrm>
            <a:off x="13211640" y="4061520"/>
            <a:ext cx="9144720" cy="185580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4800" spc="-1" strike="noStrike">
                <a:solidFill>
                  <a:srgbClr val="212121"/>
                </a:solidFill>
                <a:latin typeface="Helvetica Light"/>
                <a:ea typeface="Helvetica Light"/>
              </a:rPr>
              <a:t>Labore et dolore magmona deum erat, sed diam volupo.</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0" name="Shape 2298"/>
          <p:cNvSpPr/>
          <p:nvPr/>
        </p:nvSpPr>
        <p:spPr>
          <a:xfrm>
            <a:off x="2032200" y="4451400"/>
            <a:ext cx="9144720" cy="17823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ffffff"/>
                </a:solidFill>
                <a:latin typeface="Montserrat"/>
                <a:ea typeface="Montserrat"/>
              </a:rPr>
              <a:t>Osa mage onade me l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ffffff"/>
                </a:solidFill>
                <a:latin typeface="Montserrat"/>
                <a:ea typeface="Montserrat"/>
              </a:rPr>
              <a:t>diam idom bring volupo.</a:t>
            </a:r>
            <a:endParaRPr b="0" lang="en-US" sz="4800" spc="-1" strike="noStrike">
              <a:solidFill>
                <a:srgbClr val="000000"/>
              </a:solidFill>
              <a:latin typeface="Arial"/>
            </a:endParaRPr>
          </a:p>
        </p:txBody>
      </p:sp>
      <p:sp>
        <p:nvSpPr>
          <p:cNvPr id="5021" name="Shape 2299"/>
          <p:cNvSpPr/>
          <p:nvPr/>
        </p:nvSpPr>
        <p:spPr>
          <a:xfrm>
            <a:off x="2032200" y="7238880"/>
            <a:ext cx="914472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ffffff"/>
                </a:solidFill>
                <a:latin typeface="Montserrat Light"/>
                <a:ea typeface="Montserrat Light"/>
              </a:rPr>
              <a:t>Etoma jam rebum. Stet clita kuasd gubergren, nosotra sea takimata sanctus est Lorem ipsum dolor sit amet. Lorem eso ipsum dolor sit amet, deras consetetur sadipscing elitromas.</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ffffff"/>
                </a:solidFill>
                <a:latin typeface="Montserrat Light"/>
                <a:ea typeface="Montserrat Light"/>
              </a:rPr>
              <a:t>Sed diam nie nonumy eirmod tempor invidunt ut labore eto dolore magna aliquyam erat desando greadon.</a:t>
            </a:r>
            <a:endParaRPr b="0" lang="en-US" sz="3000" spc="-1" strike="noStrike">
              <a:solidFill>
                <a:srgbClr val="000000"/>
              </a:solidFill>
              <a:latin typeface="Arial"/>
            </a:endParaRPr>
          </a:p>
        </p:txBody>
      </p:sp>
      <p:sp>
        <p:nvSpPr>
          <p:cNvPr id="5022" name="Shape 2300"/>
          <p:cNvSpPr/>
          <p:nvPr/>
        </p:nvSpPr>
        <p:spPr>
          <a:xfrm>
            <a:off x="1981440" y="1714680"/>
            <a:ext cx="9195480" cy="2036160"/>
          </a:xfrm>
          <a:prstGeom prst="rect">
            <a:avLst/>
          </a:prstGeom>
          <a:noFill/>
          <a:ln w="12700">
            <a:noFill/>
          </a:ln>
        </p:spPr>
        <p:style>
          <a:lnRef idx="0"/>
          <a:fillRef idx="0"/>
          <a:effectRef idx="0"/>
          <a:fontRef idx="minor"/>
        </p:style>
        <p:txBody>
          <a:bodyPr lIns="0" rIns="0" tIns="0" bIns="0" anchor="t">
            <a:noAutofit/>
          </a:bodyPr>
          <a:p>
            <a:pPr>
              <a:lnSpc>
                <a:spcPct val="80000"/>
              </a:lnSpc>
              <a:tabLst>
                <a:tab algn="l" pos="0"/>
              </a:tabLst>
            </a:pPr>
            <a:r>
              <a:rPr b="0" lang="en-US" sz="11200" spc="559" strike="noStrike">
                <a:solidFill>
                  <a:srgbClr val="ffffff"/>
                </a:solidFill>
                <a:latin typeface="Montserrat Semi Bold"/>
                <a:ea typeface="Montserrat Semi Bold"/>
              </a:rPr>
              <a:t>Tagline</a:t>
            </a:r>
            <a:endParaRPr b="0" lang="en-US" sz="1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3" name="Shape 2303"/>
          <p:cNvSpPr/>
          <p:nvPr/>
        </p:nvSpPr>
        <p:spPr>
          <a:xfrm>
            <a:off x="12056040" y="1624320"/>
            <a:ext cx="10300680" cy="17949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Tagline here</a:t>
            </a:r>
            <a:endParaRPr b="0" lang="en-US" sz="11200" spc="-1" strike="noStrike">
              <a:solidFill>
                <a:srgbClr val="000000"/>
              </a:solidFill>
              <a:latin typeface="Arial"/>
            </a:endParaRPr>
          </a:p>
        </p:txBody>
      </p:sp>
      <p:sp>
        <p:nvSpPr>
          <p:cNvPr id="5024" name="Shape 2304"/>
          <p:cNvSpPr/>
          <p:nvPr/>
        </p:nvSpPr>
        <p:spPr>
          <a:xfrm>
            <a:off x="12183120" y="4053240"/>
            <a:ext cx="10161000" cy="1855800"/>
          </a:xfrm>
          <a:prstGeom prst="rect">
            <a:avLst/>
          </a:prstGeom>
          <a:noFill/>
          <a:ln w="12700">
            <a:noFill/>
          </a:ln>
        </p:spPr>
        <p:style>
          <a:lnRef idx="0"/>
          <a:fillRef idx="0"/>
          <a:effectRef idx="0"/>
          <a:fontRef idx="minor"/>
        </p:style>
        <p:txBody>
          <a:bodyPr lIns="50760" rIns="50760" tIns="50760" bIns="50760" anchor="t">
            <a:spAutoFit/>
          </a:bodyPr>
          <a:p>
            <a:pPr>
              <a:lnSpc>
                <a:spcPct val="120000"/>
              </a:lnSpc>
              <a:tabLst>
                <a:tab algn="l" pos="0"/>
              </a:tabLst>
            </a:pPr>
            <a:r>
              <a:rPr b="0" lang="en-US" sz="4800" spc="239" strike="noStrike">
                <a:solidFill>
                  <a:srgbClr val="212121"/>
                </a:solidFill>
                <a:latin typeface="Montserrat"/>
                <a:ea typeface="Montserrat"/>
              </a:rPr>
              <a:t>Labore et dolore magmona deum erat, sed diam volupo.</a:t>
            </a:r>
            <a:endParaRPr b="0" lang="en-US" sz="4800" spc="-1" strike="noStrike">
              <a:solidFill>
                <a:srgbClr val="000000"/>
              </a:solidFill>
              <a:latin typeface="Arial"/>
            </a:endParaRPr>
          </a:p>
        </p:txBody>
      </p:sp>
      <p:sp>
        <p:nvSpPr>
          <p:cNvPr id="5025" name="Shape 2305"/>
          <p:cNvSpPr/>
          <p:nvPr/>
        </p:nvSpPr>
        <p:spPr>
          <a:xfrm>
            <a:off x="12192120" y="6621120"/>
            <a:ext cx="10364040" cy="482400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ma jam rebum. Stet clita kuasd gubergren, nosotra sea takimata sanctus est Lorem ipsusit druamet. Lorem eso ipsum dolor sit amet, deras consetetur sadipscing elitromas. Sed diam dnie nonumy eirmod tempor invidunt ut labore etodre dolore magna aliquyam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6" name="Shape 2308"/>
          <p:cNvSpPr/>
          <p:nvPr/>
        </p:nvSpPr>
        <p:spPr>
          <a:xfrm>
            <a:off x="2035080" y="8521560"/>
            <a:ext cx="9141840" cy="360504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 clita kuasd gubergren, nosotra sea takimata sanctus est Lorem ipsusit druamet. Lorem eso ipsum dolor sit amet, deras consetetur sadipscing elitromas. Sed diam dnie nonumy eirmod tempor invidunt ut labore etodre dolore magna aliquyam desando greadon.</a:t>
            </a:r>
            <a:endParaRPr b="0" lang="en-US" sz="3000" spc="-1" strike="noStrike">
              <a:solidFill>
                <a:srgbClr val="000000"/>
              </a:solidFill>
              <a:latin typeface="Arial"/>
            </a:endParaRPr>
          </a:p>
        </p:txBody>
      </p:sp>
      <p:sp>
        <p:nvSpPr>
          <p:cNvPr id="5027" name="Shape 2309"/>
          <p:cNvSpPr/>
          <p:nvPr/>
        </p:nvSpPr>
        <p:spPr>
          <a:xfrm>
            <a:off x="13414320" y="8521560"/>
            <a:ext cx="9141840" cy="360504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 clita kuasd gubergren, nosotra sea takimata sanctus est Lorem ipsusit druamet. Lorem eso ipsum dolor sit amet, deras consetetur sadipscing elitromas. Sed diam dnie nonumy eirmod tempor invidunt ut labore etodre dolore magna aliquyam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8" name="Shape 2312"/>
          <p:cNvSpPr/>
          <p:nvPr/>
        </p:nvSpPr>
        <p:spPr>
          <a:xfrm>
            <a:off x="2032200" y="1674720"/>
            <a:ext cx="9144720" cy="2660400"/>
          </a:xfrm>
          <a:prstGeom prst="rect">
            <a:avLst/>
          </a:prstGeom>
          <a:noFill/>
          <a:ln w="12700">
            <a:noFill/>
          </a:ln>
        </p:spPr>
        <p:style>
          <a:lnRef idx="0"/>
          <a:fillRef idx="0"/>
          <a:effectRef idx="0"/>
          <a:fontRef idx="minor"/>
        </p:style>
        <p:txBody>
          <a:bodyPr lIns="50760" rIns="50760" tIns="50760" bIns="50760" anchor="ctr">
            <a:spAutoFit/>
          </a:bodyPr>
          <a:p>
            <a:pPr>
              <a:lnSpc>
                <a:spcPct val="100000"/>
              </a:lnSpc>
              <a:tabLst>
                <a:tab algn="l" pos="0"/>
              </a:tabLst>
            </a:pPr>
            <a:r>
              <a:rPr b="0" lang="en-US" sz="8400" spc="-1" strike="noStrike">
                <a:solidFill>
                  <a:srgbClr val="ffffff"/>
                </a:solidFill>
                <a:latin typeface="Montserrat"/>
                <a:ea typeface="Montserrat"/>
              </a:rPr>
              <a:t>Labore et dolore os mona volupo.</a:t>
            </a:r>
            <a:endParaRPr b="0" lang="en-US" sz="8400" spc="-1" strike="noStrike">
              <a:solidFill>
                <a:srgbClr val="000000"/>
              </a:solidFill>
              <a:latin typeface="Arial"/>
            </a:endParaRPr>
          </a:p>
        </p:txBody>
      </p:sp>
      <p:sp>
        <p:nvSpPr>
          <p:cNvPr id="5029" name="Shape 2313"/>
          <p:cNvSpPr/>
          <p:nvPr/>
        </p:nvSpPr>
        <p:spPr>
          <a:xfrm>
            <a:off x="2035080" y="8512560"/>
            <a:ext cx="20521080" cy="21513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Stet clita kuasd gubergren, nosotra sea takimata sanctus est Lorem ipsusit druamet. Lorem eso ipsum dolor sit amet, deras consetetur sadipscing elitromas. Sed diam dnie nonumy eirmod tempor invidunt ut labore etodre dolore magna aliquyam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30" name="Group 2327"/>
          <p:cNvGrpSpPr/>
          <p:nvPr/>
        </p:nvGrpSpPr>
        <p:grpSpPr>
          <a:xfrm>
            <a:off x="-9720" y="441000"/>
            <a:ext cx="12670200" cy="12848400"/>
            <a:chOff x="-9720" y="441000"/>
            <a:chExt cx="12670200" cy="12848400"/>
          </a:xfrm>
        </p:grpSpPr>
        <p:sp>
          <p:nvSpPr>
            <p:cNvPr id="5031" name="Shape 2319"/>
            <p:cNvSpPr/>
            <p:nvPr/>
          </p:nvSpPr>
          <p:spPr>
            <a:xfrm flipH="1" rot="10800000">
              <a:off x="5150880" y="451080"/>
              <a:ext cx="2372760" cy="6406920"/>
            </a:xfrm>
            <a:custGeom>
              <a:avLst/>
              <a:gdLst>
                <a:gd name="textAreaLeft" fmla="*/ -360 w 2372760"/>
                <a:gd name="textAreaRight" fmla="*/ 2372760 w 2372760"/>
                <a:gd name="textAreaTop" fmla="*/ 0 h 6406920"/>
                <a:gd name="textAreaBottom" fmla="*/ 6407280 h 640692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32" name="Shape 2320"/>
            <p:cNvSpPr/>
            <p:nvPr/>
          </p:nvSpPr>
          <p:spPr>
            <a:xfrm flipH="1">
              <a:off x="2362680" y="441000"/>
              <a:ext cx="2372760" cy="6406560"/>
            </a:xfrm>
            <a:custGeom>
              <a:avLst/>
              <a:gdLst>
                <a:gd name="textAreaLeft" fmla="*/ -360 w 2372760"/>
                <a:gd name="textAreaRight" fmla="*/ 2372760 w 2372760"/>
                <a:gd name="textAreaTop" fmla="*/ 0 h 6406560"/>
                <a:gd name="textAreaBottom" fmla="*/ 6406920 h 640656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33" name="Shape 2321"/>
            <p:cNvSpPr/>
            <p:nvPr/>
          </p:nvSpPr>
          <p:spPr>
            <a:xfrm flipH="1" rot="10800000">
              <a:off x="10287360" y="451080"/>
              <a:ext cx="2372760" cy="6406920"/>
            </a:xfrm>
            <a:custGeom>
              <a:avLst/>
              <a:gdLst>
                <a:gd name="textAreaLeft" fmla="*/ -360 w 2372760"/>
                <a:gd name="textAreaRight" fmla="*/ 2372760 w 2372760"/>
                <a:gd name="textAreaTop" fmla="*/ 0 h 6406920"/>
                <a:gd name="textAreaBottom" fmla="*/ 6407280 h 640692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34" name="Shape 2322"/>
            <p:cNvSpPr/>
            <p:nvPr/>
          </p:nvSpPr>
          <p:spPr>
            <a:xfrm flipH="1">
              <a:off x="7523640" y="441000"/>
              <a:ext cx="2372760" cy="6406560"/>
            </a:xfrm>
            <a:custGeom>
              <a:avLst/>
              <a:gdLst>
                <a:gd name="textAreaLeft" fmla="*/ -360 w 2372760"/>
                <a:gd name="textAreaRight" fmla="*/ 2372760 w 2372760"/>
                <a:gd name="textAreaTop" fmla="*/ 0 h 6406560"/>
                <a:gd name="textAreaBottom" fmla="*/ 6406920 h 640656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35" name="Shape 2323"/>
            <p:cNvSpPr/>
            <p:nvPr/>
          </p:nvSpPr>
          <p:spPr>
            <a:xfrm flipH="1" rot="10800000">
              <a:off x="2788920" y="6882840"/>
              <a:ext cx="2372760" cy="6406560"/>
            </a:xfrm>
            <a:custGeom>
              <a:avLst/>
              <a:gdLst>
                <a:gd name="textAreaLeft" fmla="*/ -360 w 2372760"/>
                <a:gd name="textAreaRight" fmla="*/ 2372760 w 2372760"/>
                <a:gd name="textAreaTop" fmla="*/ 0 h 6406560"/>
                <a:gd name="textAreaBottom" fmla="*/ 6406920 h 640656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36" name="Shape 2324"/>
            <p:cNvSpPr/>
            <p:nvPr/>
          </p:nvSpPr>
          <p:spPr>
            <a:xfrm flipH="1">
              <a:off x="-10080" y="6858000"/>
              <a:ext cx="2372760" cy="6406560"/>
            </a:xfrm>
            <a:custGeom>
              <a:avLst/>
              <a:gdLst>
                <a:gd name="textAreaLeft" fmla="*/ -360 w 2372760"/>
                <a:gd name="textAreaRight" fmla="*/ 2372760 w 2372760"/>
                <a:gd name="textAreaTop" fmla="*/ 0 h 6406560"/>
                <a:gd name="textAreaBottom" fmla="*/ 6406920 h 640656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37" name="Shape 2325"/>
            <p:cNvSpPr/>
            <p:nvPr/>
          </p:nvSpPr>
          <p:spPr>
            <a:xfrm flipH="1" rot="10800000">
              <a:off x="7925400" y="6882840"/>
              <a:ext cx="2372760" cy="6406560"/>
            </a:xfrm>
            <a:custGeom>
              <a:avLst/>
              <a:gdLst>
                <a:gd name="textAreaLeft" fmla="*/ -360 w 2372760"/>
                <a:gd name="textAreaRight" fmla="*/ 2372760 w 2372760"/>
                <a:gd name="textAreaTop" fmla="*/ 0 h 6406560"/>
                <a:gd name="textAreaBottom" fmla="*/ 6406920 h 640656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38" name="Shape 2326"/>
            <p:cNvSpPr/>
            <p:nvPr/>
          </p:nvSpPr>
          <p:spPr>
            <a:xfrm flipH="1">
              <a:off x="5150880" y="6847920"/>
              <a:ext cx="2372760" cy="6396480"/>
            </a:xfrm>
            <a:custGeom>
              <a:avLst/>
              <a:gdLst>
                <a:gd name="textAreaLeft" fmla="*/ -360 w 2372760"/>
                <a:gd name="textAreaRight" fmla="*/ 2372760 w 2372760"/>
                <a:gd name="textAreaTop" fmla="*/ 0 h 6396480"/>
                <a:gd name="textAreaBottom" fmla="*/ 6396840 h 639648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sp>
        <p:nvSpPr>
          <p:cNvPr id="5039" name="Shape 2328"/>
          <p:cNvSpPr/>
          <p:nvPr/>
        </p:nvSpPr>
        <p:spPr>
          <a:xfrm>
            <a:off x="13208040" y="1708200"/>
            <a:ext cx="9150480" cy="203616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Portfolio</a:t>
            </a:r>
            <a:endParaRPr b="0" lang="en-US" sz="11200" spc="-1" strike="noStrike">
              <a:solidFill>
                <a:srgbClr val="000000"/>
              </a:solidFill>
              <a:latin typeface="Arial"/>
            </a:endParaRPr>
          </a:p>
        </p:txBody>
      </p:sp>
      <p:sp>
        <p:nvSpPr>
          <p:cNvPr id="5040" name="Shape 2329"/>
          <p:cNvSpPr/>
          <p:nvPr/>
        </p:nvSpPr>
        <p:spPr>
          <a:xfrm>
            <a:off x="15054120" y="9647280"/>
            <a:ext cx="4946760" cy="2031480"/>
          </a:xfrm>
          <a:prstGeom prst="rect">
            <a:avLst/>
          </a:prstGeom>
          <a:noFill/>
          <a:ln w="12700">
            <a:noFill/>
          </a:ln>
        </p:spPr>
        <p:style>
          <a:lnRef idx="0"/>
          <a:fillRef idx="0"/>
          <a:effectRef idx="0"/>
          <a:fontRef idx="minor"/>
        </p:style>
        <p:txBody>
          <a:bodyPr lIns="48600" rIns="48600" tIns="48600" bIns="48600" anchor="t">
            <a:noAutofit/>
          </a:bodyPr>
          <a:p>
            <a:pPr>
              <a:lnSpc>
                <a:spcPct val="120000"/>
              </a:lnSpc>
              <a:spcBef>
                <a:spcPts val="5899"/>
              </a:spcBef>
              <a:tabLst>
                <a:tab algn="l" pos="0"/>
              </a:tabLst>
            </a:pPr>
            <a:r>
              <a:rPr b="0" lang="en-US" sz="12000" spc="599" strike="noStrike">
                <a:solidFill>
                  <a:srgbClr val="ebebeb"/>
                </a:solidFill>
                <a:latin typeface="Montserrat Light"/>
                <a:ea typeface="Montserrat Light"/>
              </a:rPr>
              <a:t>3627+</a:t>
            </a:r>
            <a:endParaRPr b="0" lang="en-US" sz="12000" spc="-1" strike="noStrike">
              <a:solidFill>
                <a:srgbClr val="000000"/>
              </a:solidFill>
              <a:latin typeface="Arial"/>
            </a:endParaRPr>
          </a:p>
        </p:txBody>
      </p:sp>
      <p:sp>
        <p:nvSpPr>
          <p:cNvPr id="5041" name="Shape 2330"/>
          <p:cNvSpPr/>
          <p:nvPr/>
        </p:nvSpPr>
        <p:spPr>
          <a:xfrm>
            <a:off x="13208040" y="4317840"/>
            <a:ext cx="10159560" cy="178236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Dolore osa magmona leso</a:t>
            </a:r>
            <a:endParaRPr b="0" lang="en-US" sz="4800" spc="-1" strike="noStrike">
              <a:solidFill>
                <a:srgbClr val="000000"/>
              </a:solidFill>
              <a:latin typeface="Arial"/>
            </a:endParaRPr>
          </a:p>
          <a:p>
            <a:pPr>
              <a:lnSpc>
                <a:spcPct val="100000"/>
              </a:lnSpc>
              <a:tabLst>
                <a:tab algn="l" pos="0"/>
              </a:tabLst>
            </a:pPr>
            <a:r>
              <a:rPr b="0" lang="en-US" sz="4800" spc="239" strike="noStrike">
                <a:solidFill>
                  <a:srgbClr val="212121"/>
                </a:solidFill>
                <a:latin typeface="Montserrat"/>
                <a:ea typeface="Montserrat"/>
              </a:rPr>
              <a:t>diam idom volupo.</a:t>
            </a:r>
            <a:endParaRPr b="0" lang="en-US" sz="4800" spc="-1" strike="noStrike">
              <a:solidFill>
                <a:srgbClr val="000000"/>
              </a:solidFill>
              <a:latin typeface="Arial"/>
            </a:endParaRPr>
          </a:p>
        </p:txBody>
      </p:sp>
      <p:sp>
        <p:nvSpPr>
          <p:cNvPr id="5042" name="Shape 2331"/>
          <p:cNvSpPr/>
          <p:nvPr/>
        </p:nvSpPr>
        <p:spPr>
          <a:xfrm>
            <a:off x="13225320" y="6858000"/>
            <a:ext cx="9115920" cy="203148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 justo fosduo dolores etoa jam rebum. Stet clita kuasd es gubergren, nosotra sea takimata sanctus Lorem ipsumord.</a:t>
            </a:r>
            <a:endParaRPr b="0" lang="en-US" sz="3000" spc="-1" strike="noStrike">
              <a:solidFill>
                <a:srgbClr val="000000"/>
              </a:solidFill>
              <a:latin typeface="Arial"/>
            </a:endParaRPr>
          </a:p>
        </p:txBody>
      </p:sp>
      <p:sp>
        <p:nvSpPr>
          <p:cNvPr id="5043" name="Shape 2332"/>
          <p:cNvSpPr/>
          <p:nvPr/>
        </p:nvSpPr>
        <p:spPr>
          <a:xfrm>
            <a:off x="13250520" y="10087920"/>
            <a:ext cx="812520" cy="812520"/>
          </a:xfrm>
          <a:prstGeom prst="rect">
            <a:avLst/>
          </a:prstGeom>
          <a:noFill/>
          <a:ln w="12700">
            <a:noFill/>
          </a:ln>
        </p:spPr>
        <p:style>
          <a:lnRef idx="0"/>
          <a:fillRef idx="0"/>
          <a:effectRef idx="0"/>
          <a:fontRef idx="minor"/>
        </p:style>
        <p:txBody>
          <a:bodyPr lIns="0" rIns="0" tIns="0" bIns="0" anchor="t">
            <a:noAutofit/>
          </a:bodyPr>
          <a:p>
            <a:pPr algn="ctr">
              <a:lnSpc>
                <a:spcPct val="100000"/>
              </a:lnSpc>
              <a:tabLst>
                <a:tab algn="l" pos="0"/>
              </a:tabLst>
            </a:pPr>
            <a:r>
              <a:rPr b="0" lang="en-US" sz="6400" spc="-1" strike="noStrike">
                <a:solidFill>
                  <a:srgbClr val="212121"/>
                </a:solidFill>
                <a:latin typeface="FontAwesome"/>
                <a:ea typeface="FontAwesome"/>
              </a:rPr>
              <a:t></a:t>
            </a:r>
            <a:endParaRPr b="0" lang="en-US" sz="6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044" name="Group 2340"/>
          <p:cNvGrpSpPr/>
          <p:nvPr/>
        </p:nvGrpSpPr>
        <p:grpSpPr>
          <a:xfrm>
            <a:off x="10978200" y="2015280"/>
            <a:ext cx="11862000" cy="9699120"/>
            <a:chOff x="10978200" y="2015280"/>
            <a:chExt cx="11862000" cy="9699120"/>
          </a:xfrm>
        </p:grpSpPr>
        <p:sp>
          <p:nvSpPr>
            <p:cNvPr id="5045" name="Shape 2336"/>
            <p:cNvSpPr/>
            <p:nvPr/>
          </p:nvSpPr>
          <p:spPr>
            <a:xfrm flipH="1" rot="10800000">
              <a:off x="19262520" y="2054880"/>
              <a:ext cx="3577320" cy="9659520"/>
            </a:xfrm>
            <a:custGeom>
              <a:avLst/>
              <a:gdLst>
                <a:gd name="textAreaLeft" fmla="*/ -360 w 3577320"/>
                <a:gd name="textAreaRight" fmla="*/ 3577320 w 3577320"/>
                <a:gd name="textAreaTop" fmla="*/ 0 h 9659520"/>
                <a:gd name="textAreaBottom" fmla="*/ 9659880 h 965952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46" name="Shape 2337"/>
            <p:cNvSpPr/>
            <p:nvPr/>
          </p:nvSpPr>
          <p:spPr>
            <a:xfrm flipH="1">
              <a:off x="15070680" y="2015280"/>
              <a:ext cx="3577320" cy="9674280"/>
            </a:xfrm>
            <a:custGeom>
              <a:avLst/>
              <a:gdLst>
                <a:gd name="textAreaLeft" fmla="*/ -360 w 3577320"/>
                <a:gd name="textAreaRight" fmla="*/ 3577320 w 3577320"/>
                <a:gd name="textAreaTop" fmla="*/ 0 h 9674280"/>
                <a:gd name="textAreaBottom" fmla="*/ 9674640 h 967428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47" name="Shape 2338"/>
            <p:cNvSpPr/>
            <p:nvPr/>
          </p:nvSpPr>
          <p:spPr>
            <a:xfrm flipH="1" rot="10800000">
              <a:off x="13205160" y="6609600"/>
              <a:ext cx="1890360" cy="5104800"/>
            </a:xfrm>
            <a:custGeom>
              <a:avLst/>
              <a:gdLst>
                <a:gd name="textAreaLeft" fmla="*/ -360 w 1890360"/>
                <a:gd name="textAreaRight" fmla="*/ 1890360 w 1890360"/>
                <a:gd name="textAreaTop" fmla="*/ 0 h 5104800"/>
                <a:gd name="textAreaBottom" fmla="*/ 5105160 h 510480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sp>
          <p:nvSpPr>
            <p:cNvPr id="5048" name="Shape 2339"/>
            <p:cNvSpPr/>
            <p:nvPr/>
          </p:nvSpPr>
          <p:spPr>
            <a:xfrm flipH="1">
              <a:off x="10977840" y="6584760"/>
              <a:ext cx="1890360" cy="5104800"/>
            </a:xfrm>
            <a:custGeom>
              <a:avLst/>
              <a:gdLst>
                <a:gd name="textAreaLeft" fmla="*/ -360 w 1890360"/>
                <a:gd name="textAreaRight" fmla="*/ 1890360 w 1890360"/>
                <a:gd name="textAreaTop" fmla="*/ 0 h 5104800"/>
                <a:gd name="textAreaBottom" fmla="*/ 5105160 h 5104800"/>
              </a:gdLst>
              <a:ahLst/>
              <a:rect l="textAreaLeft" t="textAreaTop" r="textAreaRight" b="textAreaBottom"/>
              <a:pathLst>
                <a:path w="21600" h="21600">
                  <a:moveTo>
                    <a:pt x="0" y="0"/>
                  </a:moveTo>
                  <a:lnTo>
                    <a:pt x="21600" y="0"/>
                  </a:lnTo>
                  <a:lnTo>
                    <a:pt x="21600" y="21600"/>
                  </a:lnTo>
                  <a:lnTo>
                    <a:pt x="21600" y="21600"/>
                  </a:lnTo>
                  <a:lnTo>
                    <a:pt x="0" y="0"/>
                  </a:lnTo>
                  <a:close/>
                </a:path>
              </a:pathLst>
            </a:custGeom>
            <a:solidFill>
              <a:srgbClr val="ffffff"/>
            </a:solidFill>
            <a:ln w="12700">
              <a:noFill/>
            </a:ln>
          </p:spPr>
          <p:style>
            <a:lnRef idx="0"/>
            <a:fillRef idx="0"/>
            <a:effectRef idx="0"/>
            <a:fontRef idx="minor"/>
          </p:style>
          <p:txBody>
            <a:bodyPr numCol="1" spcCol="0" lIns="50760" rIns="50760" tIns="50760" bIns="50760" anchor="ctr">
              <a:noAutofit/>
            </a:bodyPr>
            <a:p>
              <a:pPr algn="ctr">
                <a:lnSpc>
                  <a:spcPct val="100000"/>
                </a:lnSpc>
                <a:tabLst>
                  <a:tab algn="l" pos="0"/>
                </a:tabLst>
              </a:pPr>
              <a:endParaRPr b="0" lang="en-US" sz="3200" spc="-1" strike="noStrike">
                <a:solidFill>
                  <a:srgbClr val="ffffff"/>
                </a:solidFill>
                <a:latin typeface="Helvetica Light"/>
                <a:ea typeface="Helvetica Light"/>
              </a:endParaRPr>
            </a:p>
          </p:txBody>
        </p:sp>
      </p:grpSp>
      <p:sp>
        <p:nvSpPr>
          <p:cNvPr id="5049" name="Shape 2341"/>
          <p:cNvSpPr/>
          <p:nvPr/>
        </p:nvSpPr>
        <p:spPr>
          <a:xfrm>
            <a:off x="2035080" y="1708200"/>
            <a:ext cx="9141840" cy="37738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Be</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Creative</a:t>
            </a:r>
            <a:endParaRPr b="0" lang="en-US" sz="11200" spc="-1" strike="noStrike">
              <a:solidFill>
                <a:srgbClr val="000000"/>
              </a:solidFill>
              <a:latin typeface="Arial"/>
            </a:endParaRPr>
          </a:p>
        </p:txBody>
      </p:sp>
      <p:sp>
        <p:nvSpPr>
          <p:cNvPr id="5050" name="Shape 2342"/>
          <p:cNvSpPr/>
          <p:nvPr/>
        </p:nvSpPr>
        <p:spPr>
          <a:xfrm>
            <a:off x="2032200" y="6044400"/>
            <a:ext cx="9144720" cy="2414880"/>
          </a:xfrm>
          <a:prstGeom prst="rect">
            <a:avLst/>
          </a:prstGeom>
          <a:noFill/>
          <a:ln w="12700">
            <a:noFill/>
          </a:ln>
        </p:spPr>
        <p:style>
          <a:lnRef idx="0"/>
          <a:fillRef idx="0"/>
          <a:effectRef idx="0"/>
          <a:fontRef idx="minor"/>
        </p:style>
        <p:txBody>
          <a:bodyPr lIns="50760" rIns="50760" tIns="50760" bIns="50760" anchor="t">
            <a:noAutofit/>
          </a:bodyPr>
          <a:p>
            <a:pPr>
              <a:lnSpc>
                <a:spcPct val="100000"/>
              </a:lnSpc>
              <a:tabLst>
                <a:tab algn="l" pos="0"/>
              </a:tabLst>
            </a:pPr>
            <a:r>
              <a:rPr b="0" lang="en-US" sz="4800" spc="239" strike="noStrike">
                <a:solidFill>
                  <a:srgbClr val="212121"/>
                </a:solidFill>
                <a:latin typeface="Montserrat"/>
                <a:ea typeface="Montserrat"/>
              </a:rPr>
              <a:t>Mese magmona dreso nade lesdiacw sids.</a:t>
            </a:r>
            <a:endParaRPr b="0" lang="en-US" sz="4800" spc="-1" strike="noStrike">
              <a:solidFill>
                <a:srgbClr val="000000"/>
              </a:solidFill>
              <a:latin typeface="Arial"/>
            </a:endParaRPr>
          </a:p>
        </p:txBody>
      </p:sp>
      <p:sp>
        <p:nvSpPr>
          <p:cNvPr id="5051" name="Shape 2343"/>
          <p:cNvSpPr/>
          <p:nvPr/>
        </p:nvSpPr>
        <p:spPr>
          <a:xfrm>
            <a:off x="2035080" y="9021600"/>
            <a:ext cx="7810200" cy="317592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At vero eos et accusam eto justo fosduo dolores etoma jam rebum. Soteot clita kuasd gubergren, nosotra sea takimata sanctus est Lorem ipsusit idos druamet. Lorem eso ipsum dolor sit amet.</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2" name="Shape 2349"/>
          <p:cNvSpPr/>
          <p:nvPr/>
        </p:nvSpPr>
        <p:spPr>
          <a:xfrm>
            <a:off x="2031840" y="1708200"/>
            <a:ext cx="8661240" cy="4774680"/>
          </a:xfrm>
          <a:prstGeom prst="rect">
            <a:avLst/>
          </a:prstGeom>
          <a:noFill/>
          <a:ln w="12700">
            <a:noFill/>
          </a:ln>
        </p:spPr>
        <p:style>
          <a:lnRef idx="0"/>
          <a:fillRef idx="0"/>
          <a:effectRef idx="0"/>
          <a:fontRef idx="minor"/>
        </p:style>
        <p:txBody>
          <a:bodyPr lIns="0" rIns="0" tIns="0" bIns="0" anchor="t">
            <a:normAutofit/>
          </a:bodyPr>
          <a:p>
            <a:pPr>
              <a:lnSpc>
                <a:spcPct val="80000"/>
              </a:lnSpc>
              <a:tabLst>
                <a:tab algn="l" pos="0"/>
              </a:tabLst>
            </a:pPr>
            <a:r>
              <a:rPr b="0" lang="de-DE" sz="11200" spc="559" strike="noStrike">
                <a:solidFill>
                  <a:srgbClr val="212121"/>
                </a:solidFill>
                <a:latin typeface="Montserrat Semi Bold"/>
                <a:ea typeface="Montserrat Semi Bold"/>
              </a:rPr>
              <a:t>Your Great</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Titel goes</a:t>
            </a:r>
            <a:endParaRPr b="0" lang="en-US" sz="11200" spc="-1" strike="noStrike">
              <a:solidFill>
                <a:srgbClr val="000000"/>
              </a:solidFill>
              <a:latin typeface="Arial"/>
            </a:endParaRPr>
          </a:p>
          <a:p>
            <a:pPr>
              <a:lnSpc>
                <a:spcPct val="80000"/>
              </a:lnSpc>
              <a:tabLst>
                <a:tab algn="l" pos="0"/>
              </a:tabLst>
            </a:pPr>
            <a:r>
              <a:rPr b="0" lang="de-DE" sz="11200" spc="559" strike="noStrike">
                <a:solidFill>
                  <a:srgbClr val="212121"/>
                </a:solidFill>
                <a:latin typeface="Montserrat Semi Bold"/>
                <a:ea typeface="Montserrat Semi Bold"/>
              </a:rPr>
              <a:t>here</a:t>
            </a:r>
            <a:endParaRPr b="0" lang="en-US" sz="11200" spc="-1" strike="noStrike">
              <a:solidFill>
                <a:srgbClr val="000000"/>
              </a:solidFill>
              <a:latin typeface="Arial"/>
            </a:endParaRPr>
          </a:p>
        </p:txBody>
      </p:sp>
      <p:sp>
        <p:nvSpPr>
          <p:cNvPr id="5053" name="Shape 2350"/>
          <p:cNvSpPr/>
          <p:nvPr/>
        </p:nvSpPr>
        <p:spPr>
          <a:xfrm>
            <a:off x="2031840" y="7137360"/>
            <a:ext cx="7935840" cy="4836960"/>
          </a:xfrm>
          <a:prstGeom prst="rect">
            <a:avLst/>
          </a:prstGeom>
          <a:noFill/>
          <a:ln w="12700">
            <a:noFill/>
          </a:ln>
        </p:spPr>
        <p:style>
          <a:lnRef idx="0"/>
          <a:fillRef idx="0"/>
          <a:effectRef idx="0"/>
          <a:fontRef idx="minor"/>
        </p:style>
        <p:txBody>
          <a:bodyPr lIns="50760" rIns="50760" tIns="50760" bIns="50760" anchor="t">
            <a:noAutofit/>
          </a:bodyPr>
          <a:p>
            <a:pPr>
              <a:lnSpc>
                <a:spcPct val="120000"/>
              </a:lnSpc>
              <a:spcBef>
                <a:spcPts val="5899"/>
              </a:spcBef>
              <a:tabLst>
                <a:tab algn="l" pos="0"/>
              </a:tabLst>
            </a:pPr>
            <a:r>
              <a:rPr b="0" lang="en-US" sz="3000" spc="-1" strike="noStrike">
                <a:solidFill>
                  <a:srgbClr val="5e5e5e"/>
                </a:solidFill>
                <a:latin typeface="Montserrat Light"/>
                <a:ea typeface="Montserrat Light"/>
              </a:rPr>
              <a:t>Dusto fosduo dolores etoa jamo rebum. Stet clita kuasd gubergren, nosotra seao takimata sanctus Lorem ipsum dolor sit amet. Lorem eso ipsum dolor siet amet.</a:t>
            </a:r>
            <a:endParaRPr b="0" lang="en-US" sz="3000" spc="-1" strike="noStrike">
              <a:solidFill>
                <a:srgbClr val="000000"/>
              </a:solidFill>
              <a:latin typeface="Arial"/>
            </a:endParaRPr>
          </a:p>
          <a:p>
            <a:pPr>
              <a:lnSpc>
                <a:spcPct val="120000"/>
              </a:lnSpc>
              <a:spcBef>
                <a:spcPts val="5899"/>
              </a:spcBef>
              <a:tabLst>
                <a:tab algn="l" pos="0"/>
              </a:tabLst>
            </a:pPr>
            <a:r>
              <a:rPr b="0" lang="en-US" sz="3000" spc="-1" strike="noStrike">
                <a:solidFill>
                  <a:srgbClr val="5e5e5e"/>
                </a:solidFill>
                <a:latin typeface="Montserrat Light"/>
                <a:ea typeface="Montserrat Light"/>
              </a:rPr>
              <a:t>Sed diam nie nonumy eirs mod tempor invidunt ubore eto ogna aliquyam erato desando gread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8.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0.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1.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2.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3.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4.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5.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6.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7.xml><?xml version="1.0" encoding="utf-8"?>
<a:theme xmlns:a="http://schemas.openxmlformats.org/drawingml/2006/main" name="White">
  <a:themeElements>
    <a:clrScheme name="White">
      <a:dk1>
        <a:srgbClr val="939393"/>
      </a:dk1>
      <a:lt1>
        <a:srgbClr val="009193"/>
      </a:lt1>
      <a:dk2>
        <a:srgbClr val="53585f"/>
      </a:dk2>
      <a:lt2>
        <a:srgbClr val="dcdee0"/>
      </a:lt2>
      <a:accent1>
        <a:srgbClr val="0365c0"/>
      </a:accent1>
      <a:accent2>
        <a:srgbClr val="00882b"/>
      </a:accent2>
      <a:accent3>
        <a:srgbClr val="dcbd23"/>
      </a:accent3>
      <a:accent4>
        <a:srgbClr val="de6a10"/>
      </a:accent4>
      <a:accent5>
        <a:srgbClr val="c82506"/>
      </a:accent5>
      <a:accent6>
        <a:srgbClr val="773f9b"/>
      </a:accent6>
      <a:hlink>
        <a:srgbClr val="0000ff"/>
      </a:hlink>
      <a:folHlink>
        <a:srgbClr val="ff00ff"/>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Words>7438</Words>
  <Paragraphs>1513</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rius K.</cp:lastModifiedBy>
  <dcterms:modified xsi:type="dcterms:W3CDTF">2018-03-23T08:37:08Z</dcterms:modified>
  <cp:revision>21</cp:revision>
  <dc:subject/>
  <dc:title>PowerPoint-Prä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Benutzerdefiniert</vt:lpwstr>
  </property>
  <property fmtid="{D5CDD505-2E9C-101B-9397-08002B2CF9AE}" pid="3" name="Slides">
    <vt:r8>131</vt:r8>
  </property>
</Properties>
</file>