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14.png" ContentType="image/png"/>
  <Override PartName="/ppt/media/image62.png" ContentType="image/png"/>
  <Override PartName="/ppt/media/image25.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0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0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0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0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0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0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1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2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3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3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3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3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3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4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4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4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5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5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5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6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6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7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7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7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7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8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8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8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8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9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9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9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39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9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0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0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0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0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0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0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0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4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4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4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4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5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5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5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5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5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6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6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6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6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6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7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7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8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8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8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9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9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9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9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9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0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0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0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0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0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0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1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1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1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1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1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1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1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1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2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2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3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3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4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4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4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4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4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4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4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4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5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5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5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5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5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5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6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6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6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6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7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8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8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9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9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9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9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0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1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1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1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1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1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2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2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2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2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2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2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2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3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3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5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3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3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3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3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4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4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5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6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6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6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6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6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7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7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7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7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7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8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8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9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9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0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0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0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0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1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1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1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2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2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2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2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6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2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2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3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3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3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3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3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3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4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4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4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4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4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5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5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5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5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5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6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6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7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7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7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7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7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8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8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8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8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8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9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9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79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0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0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0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0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0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0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4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4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7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5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6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6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6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6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7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7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7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7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7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7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7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8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8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8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9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0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0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0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1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1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1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1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1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1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1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1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2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2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2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2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3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3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3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4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4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4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4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4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4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4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4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5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5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5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5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5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5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6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6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6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6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6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8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7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7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7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7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7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8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8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8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8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8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8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8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8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9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9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9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9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9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9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0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0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00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0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0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0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1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01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1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0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1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2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02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2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2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2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2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2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9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0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0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1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1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2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2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3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3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4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4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4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4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4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4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4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5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5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5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6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6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7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7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7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7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7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7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8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8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8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8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2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2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2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2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3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3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4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4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4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5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5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6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6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7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7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8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8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8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8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8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9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9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9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9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
        <p:nvSpPr>
          <p:cNvPr id="29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9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Montserrat Black"/>
            </a:endParaRPr>
          </a:p>
        </p:txBody>
      </p:sp>
      <p:sp>
        <p:nvSpPr>
          <p:cNvPr id="29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Robo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1"/>
          <p:cNvSpPr/>
          <p:nvPr/>
        </p:nvSpPr>
        <p:spPr>
          <a:xfrm>
            <a:off x="6978600" y="2583000"/>
            <a:ext cx="2822760" cy="4275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1"/>
          <p:cNvSpPr/>
          <p:nvPr/>
        </p:nvSpPr>
        <p:spPr>
          <a:xfrm>
            <a:off x="561960" y="0"/>
            <a:ext cx="463536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
          <p:cNvSpPr/>
          <p:nvPr/>
        </p:nvSpPr>
        <p:spPr>
          <a:xfrm>
            <a:off x="7924680" y="2502000"/>
            <a:ext cx="3619800" cy="4356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1"/>
          <p:cNvSpPr/>
          <p:nvPr/>
        </p:nvSpPr>
        <p:spPr>
          <a:xfrm>
            <a:off x="2470320" y="0"/>
            <a:ext cx="362556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ectangle 1"/>
          <p:cNvSpPr/>
          <p:nvPr/>
        </p:nvSpPr>
        <p:spPr>
          <a:xfrm>
            <a:off x="8854920" y="0"/>
            <a:ext cx="3337200" cy="52452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1"/>
          <p:cNvSpPr/>
          <p:nvPr/>
        </p:nvSpPr>
        <p:spPr>
          <a:xfrm>
            <a:off x="6994440" y="0"/>
            <a:ext cx="519768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Rectangle 1"/>
          <p:cNvSpPr/>
          <p:nvPr/>
        </p:nvSpPr>
        <p:spPr>
          <a:xfrm>
            <a:off x="8431200" y="0"/>
            <a:ext cx="376092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Rectangle 1"/>
          <p:cNvSpPr/>
          <p:nvPr/>
        </p:nvSpPr>
        <p:spPr>
          <a:xfrm>
            <a:off x="6095880" y="0"/>
            <a:ext cx="609624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4" name="Picture 1" descr=""/>
          <p:cNvPicPr/>
          <p:nvPr/>
        </p:nvPicPr>
        <p:blipFill>
          <a:blip r:embed="rId2"/>
          <a:stretch/>
        </p:blipFill>
        <p:spPr>
          <a:xfrm>
            <a:off x="6381720" y="1173240"/>
            <a:ext cx="5362560" cy="536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 descr=""/>
          <p:cNvPicPr/>
          <p:nvPr/>
        </p:nvPicPr>
        <p:blipFill>
          <a:blip r:embed="rId2"/>
          <a:stretch/>
        </p:blipFill>
        <p:spPr>
          <a:xfrm>
            <a:off x="6114960" y="2170080"/>
            <a:ext cx="5684760" cy="343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Picture 1" descr=""/>
          <p:cNvPicPr/>
          <p:nvPr/>
        </p:nvPicPr>
        <p:blipFill>
          <a:blip r:embed="rId2"/>
          <a:stretch/>
        </p:blipFill>
        <p:spPr>
          <a:xfrm>
            <a:off x="766800" y="765000"/>
            <a:ext cx="5329080" cy="532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Rectangle 1"/>
          <p:cNvSpPr/>
          <p:nvPr/>
        </p:nvSpPr>
        <p:spPr>
          <a:xfrm>
            <a:off x="7029360" y="0"/>
            <a:ext cx="516276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Montserrat Black"/>
              </a:rPr>
              <a:t>Click to edit the title text format</a:t>
            </a:r>
            <a:endParaRPr b="0" lang="en-US" sz="4400" spc="-1" strike="noStrike">
              <a:solidFill>
                <a:srgbClr val="3f3f3f"/>
              </a:solidFill>
              <a:latin typeface="Montserrat Black"/>
            </a:endParaRPr>
          </a:p>
        </p:txBody>
      </p:sp>
      <p:sp>
        <p:nvSpPr>
          <p:cNvPr id="955"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Roboto"/>
              </a:rPr>
              <a:t>Click to edit the outline text format</a:t>
            </a:r>
            <a:endParaRPr b="0" lang="en-US" sz="2800" spc="-1" strike="noStrike">
              <a:solidFill>
                <a:srgbClr val="3f3f3f"/>
              </a:solidFill>
              <a:latin typeface="Roboto"/>
            </a:endParaRPr>
          </a:p>
          <a:p>
            <a:pPr lvl="1" marL="685800" indent="-228600">
              <a:lnSpc>
                <a:spcPct val="90000"/>
              </a:lnSpc>
              <a:spcBef>
                <a:spcPts val="499"/>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Roboto"/>
              </a:rPr>
              <a:t>Second Outline Level</a:t>
            </a:r>
            <a:endParaRPr b="0" lang="en-US" sz="2400" spc="-1" strike="noStrike">
              <a:solidFill>
                <a:srgbClr val="3f3f3f"/>
              </a:solidFill>
              <a:latin typeface="Roboto"/>
            </a:endParaRPr>
          </a:p>
          <a:p>
            <a:pPr lvl="2" marL="1143000" indent="-228600">
              <a:lnSpc>
                <a:spcPct val="90000"/>
              </a:lnSpc>
              <a:spcBef>
                <a:spcPts val="499"/>
              </a:spcBef>
              <a:buClr>
                <a:srgbClr val="3f3f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Roboto"/>
              </a:rPr>
              <a:t>Third Outline Level</a:t>
            </a:r>
            <a:endParaRPr b="0" lang="en-US" sz="2000" spc="-1" strike="noStrike">
              <a:solidFill>
                <a:srgbClr val="3f3f3f"/>
              </a:solidFill>
              <a:latin typeface="Roboto"/>
            </a:endParaRPr>
          </a:p>
          <a:p>
            <a:pPr lvl="3" marL="1600200" indent="-228600">
              <a:lnSpc>
                <a:spcPct val="90000"/>
              </a:lnSpc>
              <a:spcBef>
                <a:spcPts val="499"/>
              </a:spcBef>
              <a:buClr>
                <a:srgbClr val="3f3f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Roboto"/>
              </a:rPr>
              <a:t>Fourth Outline Level</a:t>
            </a:r>
            <a:endParaRPr b="0" lang="en-US" sz="1800" spc="-1" strike="noStrike">
              <a:solidFill>
                <a:srgbClr val="3f3f3f"/>
              </a:solidFill>
              <a:latin typeface="Roboto"/>
            </a:endParaRPr>
          </a:p>
          <a:p>
            <a:pPr lvl="4" marL="2057400" indent="-228600">
              <a:lnSpc>
                <a:spcPct val="90000"/>
              </a:lnSpc>
              <a:spcBef>
                <a:spcPts val="499"/>
              </a:spcBef>
              <a:buClr>
                <a:srgbClr val="3f3f3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Roboto"/>
              </a:rPr>
              <a:t>Fifth Outline Level</a:t>
            </a:r>
            <a:endParaRPr b="0" lang="en-US" sz="1800" spc="-1" strike="noStrike">
              <a:solidFill>
                <a:srgbClr val="3f3f3f"/>
              </a:solidFill>
              <a:latin typeface="Roboto"/>
            </a:endParaRPr>
          </a:p>
          <a:p>
            <a:pPr lvl="5" marL="2057400" indent="-228600">
              <a:spcBef>
                <a:spcPts val="45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Roboto"/>
              </a:rPr>
              <a:t>Sixth Outline Level</a:t>
            </a:r>
            <a:endParaRPr b="0" lang="en-US" sz="1800" spc="-1" strike="noStrike">
              <a:solidFill>
                <a:srgbClr val="3f3f3f"/>
              </a:solidFill>
              <a:latin typeface="Roboto"/>
            </a:endParaRPr>
          </a:p>
          <a:p>
            <a:pPr lvl="6" marL="2057400" indent="-228600">
              <a:spcBef>
                <a:spcPts val="45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Roboto"/>
              </a:rPr>
              <a:t>Seventh Outline Level</a:t>
            </a: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
          <p:cNvSpPr/>
          <p:nvPr/>
        </p:nvSpPr>
        <p:spPr>
          <a:xfrm>
            <a:off x="0" y="0"/>
            <a:ext cx="337176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
          <p:cNvSpPr/>
          <p:nvPr/>
        </p:nvSpPr>
        <p:spPr>
          <a:xfrm>
            <a:off x="7908840" y="0"/>
            <a:ext cx="428328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
          <p:cNvSpPr/>
          <p:nvPr/>
        </p:nvSpPr>
        <p:spPr>
          <a:xfrm>
            <a:off x="0" y="0"/>
            <a:ext cx="337176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1"/>
          <p:cNvSpPr/>
          <p:nvPr/>
        </p:nvSpPr>
        <p:spPr>
          <a:xfrm>
            <a:off x="0" y="4010040"/>
            <a:ext cx="12192120" cy="284796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7893000" y="0"/>
            <a:ext cx="434016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
          <p:cNvSpPr/>
          <p:nvPr/>
        </p:nvSpPr>
        <p:spPr>
          <a:xfrm>
            <a:off x="0" y="0"/>
            <a:ext cx="3714840" cy="6858000"/>
          </a:xfrm>
          <a:prstGeom prst="rect">
            <a:avLst/>
          </a:prstGeom>
          <a:solidFill>
            <a:srgbClr val="f9f9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2.png"/><Relationship Id="rId3" Type="http://schemas.openxmlformats.org/officeDocument/2006/relationships/image" Target="../media/image22.png"/><Relationship Id="rId4"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6.png"/><Relationship Id="rId3" Type="http://schemas.openxmlformats.org/officeDocument/2006/relationships/image" Target="../media/image26.png"/><Relationship Id="rId4"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2.png"/><Relationship Id="rId3" Type="http://schemas.openxmlformats.org/officeDocument/2006/relationships/image" Target="../media/image28.png"/><Relationship Id="rId4"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6.png"/><Relationship Id="rId3" Type="http://schemas.openxmlformats.org/officeDocument/2006/relationships/image" Target="../media/image30.png"/><Relationship Id="rId4"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6.png"/><Relationship Id="rId3" Type="http://schemas.openxmlformats.org/officeDocument/2006/relationships/image" Target="../media/image32.png"/><Relationship Id="rId4" Type="http://schemas.openxmlformats.org/officeDocument/2006/relationships/slideLayout" Target="../slideLayouts/slideLayout30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2.png"/><Relationship Id="rId3" Type="http://schemas.openxmlformats.org/officeDocument/2006/relationships/image" Target="../media/image35.png"/><Relationship Id="rId4"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6.png"/><Relationship Id="rId3" Type="http://schemas.openxmlformats.org/officeDocument/2006/relationships/image" Target="../media/image37.png"/><Relationship Id="rId4"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12.png"/><Relationship Id="rId3" Type="http://schemas.openxmlformats.org/officeDocument/2006/relationships/image" Target="../media/image35.png"/><Relationship Id="rId4"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6.png"/><Relationship Id="rId3" Type="http://schemas.openxmlformats.org/officeDocument/2006/relationships/image" Target="../media/image40.png"/><Relationship Id="rId4"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png"/><Relationship Id="rId3" Type="http://schemas.openxmlformats.org/officeDocument/2006/relationships/image" Target="../media/image42.png"/><Relationship Id="rId4" Type="http://schemas.openxmlformats.org/officeDocument/2006/relationships/slideLayout" Target="../slideLayouts/slideLayout289.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2.png"/><Relationship Id="rId3" Type="http://schemas.openxmlformats.org/officeDocument/2006/relationships/image" Target="../media/image44.png"/><Relationship Id="rId4" Type="http://schemas.openxmlformats.org/officeDocument/2006/relationships/slideLayout" Target="../slideLayouts/slideLayout277.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6.png"/><Relationship Id="rId3" Type="http://schemas.openxmlformats.org/officeDocument/2006/relationships/image" Target="../media/image37.png"/><Relationship Id="rId4" Type="http://schemas.openxmlformats.org/officeDocument/2006/relationships/slideLayout" Target="../slideLayouts/slideLayout265.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12.png"/><Relationship Id="rId4" Type="http://schemas.openxmlformats.org/officeDocument/2006/relationships/image" Target="../media/image48.png"/><Relationship Id="rId5" Type="http://schemas.openxmlformats.org/officeDocument/2006/relationships/slideLayout" Target="../slideLayouts/slideLayout253.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6.png"/><Relationship Id="rId3" Type="http://schemas.openxmlformats.org/officeDocument/2006/relationships/image" Target="../media/image50.png"/><Relationship Id="rId4" Type="http://schemas.openxmlformats.org/officeDocument/2006/relationships/slideLayout" Target="../slideLayouts/slideLayout24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2.png"/><Relationship Id="rId5" Type="http://schemas.openxmlformats.org/officeDocument/2006/relationships/image" Target="../media/image19.png"/><Relationship Id="rId6" Type="http://schemas.openxmlformats.org/officeDocument/2006/relationships/slideLayout" Target="../slideLayouts/slideLayout325.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2.png"/><Relationship Id="rId5" Type="http://schemas.openxmlformats.org/officeDocument/2006/relationships/image" Target="../media/image19.png"/><Relationship Id="rId6" Type="http://schemas.openxmlformats.org/officeDocument/2006/relationships/slideLayout" Target="../slideLayouts/slideLayout325.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2.png"/><Relationship Id="rId5" Type="http://schemas.openxmlformats.org/officeDocument/2006/relationships/image" Target="../media/image19.png"/><Relationship Id="rId6" Type="http://schemas.openxmlformats.org/officeDocument/2006/relationships/slideLayout" Target="../slideLayouts/slideLayout325.xml"/>
</Relationships>
</file>

<file path=ppt/slides/_rels/slide2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Layout" Target="../slideLayouts/slideLayout229.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7.png"/><Relationship Id="rId5" Type="http://schemas.openxmlformats.org/officeDocument/2006/relationships/image" Target="../media/image62.png"/><Relationship Id="rId6" Type="http://schemas.openxmlformats.org/officeDocument/2006/relationships/slideLayout" Target="../slideLayouts/slideLayout31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2.png"/><Relationship Id="rId3" Type="http://schemas.openxmlformats.org/officeDocument/2006/relationships/image" Target="../media/image22.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8" name="" descr=""/>
          <p:cNvPicPr/>
          <p:nvPr/>
        </p:nvPicPr>
        <p:blipFill>
          <a:blip r:embed="rId1"/>
          <a:stretch/>
        </p:blipFill>
        <p:spPr>
          <a:xfrm>
            <a:off x="-360" y="0"/>
            <a:ext cx="12192120" cy="6858000"/>
          </a:xfrm>
          <a:prstGeom prst="rect">
            <a:avLst/>
          </a:prstGeom>
          <a:ln w="0">
            <a:noFill/>
          </a:ln>
        </p:spPr>
      </p:pic>
      <p:sp>
        <p:nvSpPr>
          <p:cNvPr id="1029" name="Isosceles Triangle 9"/>
          <p:cNvSpPr/>
          <p:nvPr/>
        </p:nvSpPr>
        <p:spPr>
          <a:xfrm>
            <a:off x="4173480" y="1562040"/>
            <a:ext cx="3845160" cy="3314880"/>
          </a:xfrm>
          <a:prstGeom prst="triangle">
            <a:avLst>
              <a:gd name="adj" fmla="val 50000"/>
            </a:avLst>
          </a:prstGeom>
          <a:noFill/>
          <a:ln w="28440">
            <a:solidFill>
              <a:srgbClr val="686868">
                <a:alpha val="35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nvGrpSpPr>
          <p:cNvPr id="1030" name="Group 1"/>
          <p:cNvGrpSpPr/>
          <p:nvPr/>
        </p:nvGrpSpPr>
        <p:grpSpPr>
          <a:xfrm>
            <a:off x="587520" y="552600"/>
            <a:ext cx="631800" cy="325080"/>
            <a:chOff x="587520" y="552600"/>
            <a:chExt cx="631800" cy="325080"/>
          </a:xfrm>
        </p:grpSpPr>
        <p:sp>
          <p:nvSpPr>
            <p:cNvPr id="1031" name="Isosceles Triangle 2"/>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32" name="Isosceles Triangle 3"/>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33" name="Rectangle 4"/>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34" name="Rectangle 5"/>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035" name="TextBox 6" descr=""/>
          <p:cNvPicPr/>
          <p:nvPr/>
        </p:nvPicPr>
        <p:blipFill>
          <a:blip r:embed="rId2"/>
          <a:stretch/>
        </p:blipFill>
        <p:spPr>
          <a:xfrm>
            <a:off x="506520" y="5888160"/>
            <a:ext cx="536400" cy="500040"/>
          </a:xfrm>
          <a:prstGeom prst="rect">
            <a:avLst/>
          </a:prstGeom>
          <a:ln w="0">
            <a:noFill/>
          </a:ln>
        </p:spPr>
      </p:pic>
      <p:pic>
        <p:nvPicPr>
          <p:cNvPr id="1036" name="TextBox 7" descr=""/>
          <p:cNvPicPr/>
          <p:nvPr/>
        </p:nvPicPr>
        <p:blipFill>
          <a:blip r:embed="rId3"/>
          <a:stretch/>
        </p:blipFill>
        <p:spPr>
          <a:xfrm>
            <a:off x="927000" y="5888160"/>
            <a:ext cx="2565360" cy="500040"/>
          </a:xfrm>
          <a:prstGeom prst="rect">
            <a:avLst/>
          </a:prstGeom>
          <a:ln w="0">
            <a:noFill/>
          </a:ln>
        </p:spPr>
      </p:pic>
      <p:sp>
        <p:nvSpPr>
          <p:cNvPr id="1037" name="TextBox 8"/>
          <p:cNvSpPr/>
          <p:nvPr/>
        </p:nvSpPr>
        <p:spPr>
          <a:xfrm>
            <a:off x="3067200" y="2513160"/>
            <a:ext cx="6057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800" spc="-1" strike="noStrike">
                <a:solidFill>
                  <a:srgbClr val="f2f2f2"/>
                </a:solidFill>
                <a:latin typeface="Montserrat Black"/>
              </a:rPr>
              <a:t>ANTERRA</a:t>
            </a:r>
            <a:endParaRPr b="0" lang="en-US" sz="8800" spc="-1" strike="noStrike">
              <a:solidFill>
                <a:srgbClr val="3f3f3f"/>
              </a:solidFill>
              <a:latin typeface="Roboto"/>
            </a:endParaRPr>
          </a:p>
        </p:txBody>
      </p:sp>
      <p:grpSp>
        <p:nvGrpSpPr>
          <p:cNvPr id="1038" name="Group 27"/>
          <p:cNvGrpSpPr/>
          <p:nvPr/>
        </p:nvGrpSpPr>
        <p:grpSpPr>
          <a:xfrm>
            <a:off x="522360" y="2664000"/>
            <a:ext cx="276120" cy="1796760"/>
            <a:chOff x="522360" y="2664000"/>
            <a:chExt cx="276120" cy="1796760"/>
          </a:xfrm>
        </p:grpSpPr>
        <p:pic>
          <p:nvPicPr>
            <p:cNvPr id="1039" name="TextBox 25" descr=""/>
            <p:cNvPicPr/>
            <p:nvPr/>
          </p:nvPicPr>
          <p:blipFill>
            <a:blip r:embed="rId4"/>
            <a:stretch/>
          </p:blipFill>
          <p:spPr>
            <a:xfrm>
              <a:off x="522360" y="2664000"/>
              <a:ext cx="276120" cy="1359000"/>
            </a:xfrm>
            <a:prstGeom prst="rect">
              <a:avLst/>
            </a:prstGeom>
            <a:ln w="0">
              <a:noFill/>
            </a:ln>
          </p:spPr>
        </p:pic>
        <p:sp>
          <p:nvSpPr>
            <p:cNvPr id="1040" name="Rectangle 26"/>
            <p:cNvSpPr/>
            <p:nvPr/>
          </p:nvSpPr>
          <p:spPr>
            <a:xfrm>
              <a:off x="637200" y="4047840"/>
              <a:ext cx="23040" cy="412920"/>
            </a:xfrm>
            <a:prstGeom prst="rect">
              <a:avLst/>
            </a:prstGeom>
            <a:solidFill>
              <a:srgbClr val="646464">
                <a:alpha val="5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sp>
        <p:nvSpPr>
          <p:cNvPr id="1041" name="Rectangle 28"/>
          <p:cNvSpPr/>
          <p:nvPr/>
        </p:nvSpPr>
        <p:spPr>
          <a:xfrm>
            <a:off x="7769160" y="619200"/>
            <a:ext cx="99072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e8e8e"/>
                </a:solidFill>
                <a:latin typeface="Roboto"/>
              </a:rPr>
              <a:t>Home</a:t>
            </a:r>
            <a:endParaRPr b="0" lang="en-US" sz="1100" spc="-1" strike="noStrike">
              <a:solidFill>
                <a:srgbClr val="3f3f3f"/>
              </a:solidFill>
              <a:latin typeface="Roboto"/>
            </a:endParaRPr>
          </a:p>
        </p:txBody>
      </p:sp>
      <p:sp>
        <p:nvSpPr>
          <p:cNvPr id="1042" name="Rectangle 29"/>
          <p:cNvSpPr/>
          <p:nvPr/>
        </p:nvSpPr>
        <p:spPr>
          <a:xfrm>
            <a:off x="8601120" y="619200"/>
            <a:ext cx="99072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e8e8e"/>
                </a:solidFill>
                <a:latin typeface="Roboto"/>
              </a:rPr>
              <a:t>About</a:t>
            </a:r>
            <a:endParaRPr b="0" lang="en-US" sz="1100" spc="-1" strike="noStrike">
              <a:solidFill>
                <a:srgbClr val="3f3f3f"/>
              </a:solidFill>
              <a:latin typeface="Roboto"/>
            </a:endParaRPr>
          </a:p>
        </p:txBody>
      </p:sp>
      <p:sp>
        <p:nvSpPr>
          <p:cNvPr id="1043" name="Rectangle 30"/>
          <p:cNvSpPr/>
          <p:nvPr/>
        </p:nvSpPr>
        <p:spPr>
          <a:xfrm>
            <a:off x="9462960" y="619200"/>
            <a:ext cx="99072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e8e8e"/>
                </a:solidFill>
                <a:latin typeface="Roboto"/>
              </a:rPr>
              <a:t>Contact</a:t>
            </a:r>
            <a:endParaRPr b="0" lang="en-US" sz="1100" spc="-1" strike="noStrike">
              <a:solidFill>
                <a:srgbClr val="3f3f3f"/>
              </a:solidFill>
              <a:latin typeface="Roboto"/>
            </a:endParaRPr>
          </a:p>
        </p:txBody>
      </p:sp>
      <p:sp>
        <p:nvSpPr>
          <p:cNvPr id="1044" name="Freeform 1018"/>
          <p:cNvSpPr/>
          <p:nvPr/>
        </p:nvSpPr>
        <p:spPr>
          <a:xfrm>
            <a:off x="11299680" y="592200"/>
            <a:ext cx="249480" cy="258840"/>
          </a:xfrm>
          <a:custGeom>
            <a:avLst/>
            <a:gdLst/>
            <a:ahLst/>
            <a:rect l="l" t="t" r="r" b="b"/>
            <a:pathLst>
              <a:path w="3186" h="3299">
                <a:moveTo>
                  <a:pt x="1333" y="347"/>
                </a:moveTo>
                <a:lnTo>
                  <a:pt x="1252" y="350"/>
                </a:lnTo>
                <a:lnTo>
                  <a:pt x="1173" y="361"/>
                </a:lnTo>
                <a:lnTo>
                  <a:pt x="1096" y="376"/>
                </a:lnTo>
                <a:lnTo>
                  <a:pt x="1022" y="398"/>
                </a:lnTo>
                <a:lnTo>
                  <a:pt x="950" y="425"/>
                </a:lnTo>
                <a:lnTo>
                  <a:pt x="881" y="458"/>
                </a:lnTo>
                <a:lnTo>
                  <a:pt x="815" y="495"/>
                </a:lnTo>
                <a:lnTo>
                  <a:pt x="752" y="538"/>
                </a:lnTo>
                <a:lnTo>
                  <a:pt x="692" y="584"/>
                </a:lnTo>
                <a:lnTo>
                  <a:pt x="636" y="636"/>
                </a:lnTo>
                <a:lnTo>
                  <a:pt x="586" y="692"/>
                </a:lnTo>
                <a:lnTo>
                  <a:pt x="538" y="750"/>
                </a:lnTo>
                <a:lnTo>
                  <a:pt x="496" y="813"/>
                </a:lnTo>
                <a:lnTo>
                  <a:pt x="458" y="879"/>
                </a:lnTo>
                <a:lnTo>
                  <a:pt x="426" y="949"/>
                </a:lnTo>
                <a:lnTo>
                  <a:pt x="398" y="1021"/>
                </a:lnTo>
                <a:lnTo>
                  <a:pt x="376" y="1096"/>
                </a:lnTo>
                <a:lnTo>
                  <a:pt x="361" y="1172"/>
                </a:lnTo>
                <a:lnTo>
                  <a:pt x="352" y="1251"/>
                </a:lnTo>
                <a:lnTo>
                  <a:pt x="348" y="1332"/>
                </a:lnTo>
                <a:lnTo>
                  <a:pt x="352" y="1412"/>
                </a:lnTo>
                <a:lnTo>
                  <a:pt x="361" y="1492"/>
                </a:lnTo>
                <a:lnTo>
                  <a:pt x="376" y="1568"/>
                </a:lnTo>
                <a:lnTo>
                  <a:pt x="398" y="1642"/>
                </a:lnTo>
                <a:lnTo>
                  <a:pt x="426" y="1714"/>
                </a:lnTo>
                <a:lnTo>
                  <a:pt x="458" y="1783"/>
                </a:lnTo>
                <a:lnTo>
                  <a:pt x="496" y="1849"/>
                </a:lnTo>
                <a:lnTo>
                  <a:pt x="538" y="1912"/>
                </a:lnTo>
                <a:lnTo>
                  <a:pt x="586" y="1972"/>
                </a:lnTo>
                <a:lnTo>
                  <a:pt x="636" y="2028"/>
                </a:lnTo>
                <a:lnTo>
                  <a:pt x="692" y="2079"/>
                </a:lnTo>
                <a:lnTo>
                  <a:pt x="752" y="2126"/>
                </a:lnTo>
                <a:lnTo>
                  <a:pt x="815" y="2169"/>
                </a:lnTo>
                <a:lnTo>
                  <a:pt x="881" y="2206"/>
                </a:lnTo>
                <a:lnTo>
                  <a:pt x="950" y="2239"/>
                </a:lnTo>
                <a:lnTo>
                  <a:pt x="1022" y="2266"/>
                </a:lnTo>
                <a:lnTo>
                  <a:pt x="1096" y="2288"/>
                </a:lnTo>
                <a:lnTo>
                  <a:pt x="1173" y="2303"/>
                </a:lnTo>
                <a:lnTo>
                  <a:pt x="1252" y="2313"/>
                </a:lnTo>
                <a:lnTo>
                  <a:pt x="1333" y="2316"/>
                </a:lnTo>
                <a:lnTo>
                  <a:pt x="1413" y="2313"/>
                </a:lnTo>
                <a:lnTo>
                  <a:pt x="1492" y="2303"/>
                </a:lnTo>
                <a:lnTo>
                  <a:pt x="1569" y="2288"/>
                </a:lnTo>
                <a:lnTo>
                  <a:pt x="1644" y="2266"/>
                </a:lnTo>
                <a:lnTo>
                  <a:pt x="1715" y="2239"/>
                </a:lnTo>
                <a:lnTo>
                  <a:pt x="1785" y="2206"/>
                </a:lnTo>
                <a:lnTo>
                  <a:pt x="1851" y="2169"/>
                </a:lnTo>
                <a:lnTo>
                  <a:pt x="1914" y="2126"/>
                </a:lnTo>
                <a:lnTo>
                  <a:pt x="1973" y="2079"/>
                </a:lnTo>
                <a:lnTo>
                  <a:pt x="2029" y="2028"/>
                </a:lnTo>
                <a:lnTo>
                  <a:pt x="2080" y="1972"/>
                </a:lnTo>
                <a:lnTo>
                  <a:pt x="2128" y="1912"/>
                </a:lnTo>
                <a:lnTo>
                  <a:pt x="2170" y="1849"/>
                </a:lnTo>
                <a:lnTo>
                  <a:pt x="2207" y="1783"/>
                </a:lnTo>
                <a:lnTo>
                  <a:pt x="2240" y="1714"/>
                </a:lnTo>
                <a:lnTo>
                  <a:pt x="2267" y="1642"/>
                </a:lnTo>
                <a:lnTo>
                  <a:pt x="2289" y="1568"/>
                </a:lnTo>
                <a:lnTo>
                  <a:pt x="2305" y="1492"/>
                </a:lnTo>
                <a:lnTo>
                  <a:pt x="2314" y="1412"/>
                </a:lnTo>
                <a:lnTo>
                  <a:pt x="2318" y="1332"/>
                </a:lnTo>
                <a:lnTo>
                  <a:pt x="2314" y="1251"/>
                </a:lnTo>
                <a:lnTo>
                  <a:pt x="2305" y="1172"/>
                </a:lnTo>
                <a:lnTo>
                  <a:pt x="2289" y="1096"/>
                </a:lnTo>
                <a:lnTo>
                  <a:pt x="2267" y="1021"/>
                </a:lnTo>
                <a:lnTo>
                  <a:pt x="2240" y="949"/>
                </a:lnTo>
                <a:lnTo>
                  <a:pt x="2207" y="879"/>
                </a:lnTo>
                <a:lnTo>
                  <a:pt x="2170" y="813"/>
                </a:lnTo>
                <a:lnTo>
                  <a:pt x="2128" y="750"/>
                </a:lnTo>
                <a:lnTo>
                  <a:pt x="2080" y="692"/>
                </a:lnTo>
                <a:lnTo>
                  <a:pt x="2029" y="636"/>
                </a:lnTo>
                <a:lnTo>
                  <a:pt x="1973" y="584"/>
                </a:lnTo>
                <a:lnTo>
                  <a:pt x="1914" y="538"/>
                </a:lnTo>
                <a:lnTo>
                  <a:pt x="1851" y="495"/>
                </a:lnTo>
                <a:lnTo>
                  <a:pt x="1785" y="458"/>
                </a:lnTo>
                <a:lnTo>
                  <a:pt x="1715" y="425"/>
                </a:lnTo>
                <a:lnTo>
                  <a:pt x="1644" y="398"/>
                </a:lnTo>
                <a:lnTo>
                  <a:pt x="1569" y="376"/>
                </a:lnTo>
                <a:lnTo>
                  <a:pt x="1492" y="361"/>
                </a:lnTo>
                <a:lnTo>
                  <a:pt x="1413" y="350"/>
                </a:lnTo>
                <a:lnTo>
                  <a:pt x="1333" y="347"/>
                </a:lnTo>
                <a:close/>
                <a:moveTo>
                  <a:pt x="1333" y="0"/>
                </a:moveTo>
                <a:lnTo>
                  <a:pt x="1423" y="3"/>
                </a:lnTo>
                <a:lnTo>
                  <a:pt x="1513" y="12"/>
                </a:lnTo>
                <a:lnTo>
                  <a:pt x="1601" y="27"/>
                </a:lnTo>
                <a:lnTo>
                  <a:pt x="1686" y="47"/>
                </a:lnTo>
                <a:lnTo>
                  <a:pt x="1770" y="73"/>
                </a:lnTo>
                <a:lnTo>
                  <a:pt x="1851" y="105"/>
                </a:lnTo>
                <a:lnTo>
                  <a:pt x="1930" y="141"/>
                </a:lnTo>
                <a:lnTo>
                  <a:pt x="2005" y="182"/>
                </a:lnTo>
                <a:lnTo>
                  <a:pt x="2077" y="228"/>
                </a:lnTo>
                <a:lnTo>
                  <a:pt x="2146" y="278"/>
                </a:lnTo>
                <a:lnTo>
                  <a:pt x="2212" y="332"/>
                </a:lnTo>
                <a:lnTo>
                  <a:pt x="2274" y="391"/>
                </a:lnTo>
                <a:lnTo>
                  <a:pt x="2333" y="452"/>
                </a:lnTo>
                <a:lnTo>
                  <a:pt x="2388" y="518"/>
                </a:lnTo>
                <a:lnTo>
                  <a:pt x="2437" y="588"/>
                </a:lnTo>
                <a:lnTo>
                  <a:pt x="2484" y="660"/>
                </a:lnTo>
                <a:lnTo>
                  <a:pt x="2524" y="736"/>
                </a:lnTo>
                <a:lnTo>
                  <a:pt x="2561" y="813"/>
                </a:lnTo>
                <a:lnTo>
                  <a:pt x="2592" y="895"/>
                </a:lnTo>
                <a:lnTo>
                  <a:pt x="2618" y="978"/>
                </a:lnTo>
                <a:lnTo>
                  <a:pt x="2638" y="1064"/>
                </a:lnTo>
                <a:lnTo>
                  <a:pt x="2653" y="1151"/>
                </a:lnTo>
                <a:lnTo>
                  <a:pt x="2662" y="1241"/>
                </a:lnTo>
                <a:lnTo>
                  <a:pt x="2665" y="1332"/>
                </a:lnTo>
                <a:lnTo>
                  <a:pt x="2663" y="1417"/>
                </a:lnTo>
                <a:lnTo>
                  <a:pt x="2655" y="1502"/>
                </a:lnTo>
                <a:lnTo>
                  <a:pt x="2641" y="1585"/>
                </a:lnTo>
                <a:lnTo>
                  <a:pt x="2623" y="1667"/>
                </a:lnTo>
                <a:lnTo>
                  <a:pt x="2598" y="1748"/>
                </a:lnTo>
                <a:lnTo>
                  <a:pt x="2570" y="1827"/>
                </a:lnTo>
                <a:lnTo>
                  <a:pt x="2536" y="1904"/>
                </a:lnTo>
                <a:lnTo>
                  <a:pt x="2497" y="1979"/>
                </a:lnTo>
                <a:lnTo>
                  <a:pt x="2454" y="2051"/>
                </a:lnTo>
                <a:lnTo>
                  <a:pt x="2405" y="2122"/>
                </a:lnTo>
                <a:lnTo>
                  <a:pt x="2353" y="2189"/>
                </a:lnTo>
                <a:lnTo>
                  <a:pt x="3137" y="3004"/>
                </a:lnTo>
                <a:lnTo>
                  <a:pt x="3158" y="3029"/>
                </a:lnTo>
                <a:lnTo>
                  <a:pt x="3173" y="3056"/>
                </a:lnTo>
                <a:lnTo>
                  <a:pt x="3182" y="3084"/>
                </a:lnTo>
                <a:lnTo>
                  <a:pt x="3186" y="3113"/>
                </a:lnTo>
                <a:lnTo>
                  <a:pt x="3186" y="3143"/>
                </a:lnTo>
                <a:lnTo>
                  <a:pt x="3180" y="3172"/>
                </a:lnTo>
                <a:lnTo>
                  <a:pt x="3169" y="3200"/>
                </a:lnTo>
                <a:lnTo>
                  <a:pt x="3154" y="3227"/>
                </a:lnTo>
                <a:lnTo>
                  <a:pt x="3133" y="3250"/>
                </a:lnTo>
                <a:lnTo>
                  <a:pt x="3113" y="3267"/>
                </a:lnTo>
                <a:lnTo>
                  <a:pt x="3090" y="3280"/>
                </a:lnTo>
                <a:lnTo>
                  <a:pt x="3065" y="3291"/>
                </a:lnTo>
                <a:lnTo>
                  <a:pt x="3040" y="3297"/>
                </a:lnTo>
                <a:lnTo>
                  <a:pt x="3013" y="3299"/>
                </a:lnTo>
                <a:lnTo>
                  <a:pt x="2985" y="3297"/>
                </a:lnTo>
                <a:lnTo>
                  <a:pt x="2958" y="3290"/>
                </a:lnTo>
                <a:lnTo>
                  <a:pt x="2932" y="3279"/>
                </a:lnTo>
                <a:lnTo>
                  <a:pt x="2909" y="3264"/>
                </a:lnTo>
                <a:lnTo>
                  <a:pt x="2888" y="3245"/>
                </a:lnTo>
                <a:lnTo>
                  <a:pt x="2096" y="2423"/>
                </a:lnTo>
                <a:lnTo>
                  <a:pt x="2028" y="2468"/>
                </a:lnTo>
                <a:lnTo>
                  <a:pt x="1957" y="2508"/>
                </a:lnTo>
                <a:lnTo>
                  <a:pt x="1884" y="2544"/>
                </a:lnTo>
                <a:lnTo>
                  <a:pt x="1810" y="2576"/>
                </a:lnTo>
                <a:lnTo>
                  <a:pt x="1734" y="2602"/>
                </a:lnTo>
                <a:lnTo>
                  <a:pt x="1655" y="2625"/>
                </a:lnTo>
                <a:lnTo>
                  <a:pt x="1577" y="2641"/>
                </a:lnTo>
                <a:lnTo>
                  <a:pt x="1497" y="2653"/>
                </a:lnTo>
                <a:lnTo>
                  <a:pt x="1415" y="2661"/>
                </a:lnTo>
                <a:lnTo>
                  <a:pt x="1333" y="2664"/>
                </a:lnTo>
                <a:lnTo>
                  <a:pt x="1242" y="2661"/>
                </a:lnTo>
                <a:lnTo>
                  <a:pt x="1152" y="2651"/>
                </a:lnTo>
                <a:lnTo>
                  <a:pt x="1064" y="2637"/>
                </a:lnTo>
                <a:lnTo>
                  <a:pt x="979" y="2616"/>
                </a:lnTo>
                <a:lnTo>
                  <a:pt x="895" y="2590"/>
                </a:lnTo>
                <a:lnTo>
                  <a:pt x="815" y="2559"/>
                </a:lnTo>
                <a:lnTo>
                  <a:pt x="736" y="2523"/>
                </a:lnTo>
                <a:lnTo>
                  <a:pt x="661" y="2481"/>
                </a:lnTo>
                <a:lnTo>
                  <a:pt x="588" y="2436"/>
                </a:lnTo>
                <a:lnTo>
                  <a:pt x="519" y="2385"/>
                </a:lnTo>
                <a:lnTo>
                  <a:pt x="453" y="2332"/>
                </a:lnTo>
                <a:lnTo>
                  <a:pt x="391" y="2273"/>
                </a:lnTo>
                <a:lnTo>
                  <a:pt x="333" y="2211"/>
                </a:lnTo>
                <a:lnTo>
                  <a:pt x="278" y="2145"/>
                </a:lnTo>
                <a:lnTo>
                  <a:pt x="228" y="2076"/>
                </a:lnTo>
                <a:lnTo>
                  <a:pt x="183" y="2003"/>
                </a:lnTo>
                <a:lnTo>
                  <a:pt x="141" y="1928"/>
                </a:lnTo>
                <a:lnTo>
                  <a:pt x="105" y="1849"/>
                </a:lnTo>
                <a:lnTo>
                  <a:pt x="74" y="1769"/>
                </a:lnTo>
                <a:lnTo>
                  <a:pt x="48" y="1685"/>
                </a:lnTo>
                <a:lnTo>
                  <a:pt x="28" y="1600"/>
                </a:lnTo>
                <a:lnTo>
                  <a:pt x="12" y="1512"/>
                </a:lnTo>
                <a:lnTo>
                  <a:pt x="3" y="1423"/>
                </a:lnTo>
                <a:lnTo>
                  <a:pt x="0" y="1332"/>
                </a:lnTo>
                <a:lnTo>
                  <a:pt x="3" y="1241"/>
                </a:lnTo>
                <a:lnTo>
                  <a:pt x="12" y="1151"/>
                </a:lnTo>
                <a:lnTo>
                  <a:pt x="28" y="1064"/>
                </a:lnTo>
                <a:lnTo>
                  <a:pt x="48" y="978"/>
                </a:lnTo>
                <a:lnTo>
                  <a:pt x="74" y="895"/>
                </a:lnTo>
                <a:lnTo>
                  <a:pt x="105" y="813"/>
                </a:lnTo>
                <a:lnTo>
                  <a:pt x="141" y="736"/>
                </a:lnTo>
                <a:lnTo>
                  <a:pt x="183" y="660"/>
                </a:lnTo>
                <a:lnTo>
                  <a:pt x="228" y="588"/>
                </a:lnTo>
                <a:lnTo>
                  <a:pt x="278" y="518"/>
                </a:lnTo>
                <a:lnTo>
                  <a:pt x="333" y="452"/>
                </a:lnTo>
                <a:lnTo>
                  <a:pt x="391" y="391"/>
                </a:lnTo>
                <a:lnTo>
                  <a:pt x="453" y="332"/>
                </a:lnTo>
                <a:lnTo>
                  <a:pt x="519" y="278"/>
                </a:lnTo>
                <a:lnTo>
                  <a:pt x="588" y="228"/>
                </a:lnTo>
                <a:lnTo>
                  <a:pt x="661" y="182"/>
                </a:lnTo>
                <a:lnTo>
                  <a:pt x="736" y="141"/>
                </a:lnTo>
                <a:lnTo>
                  <a:pt x="815" y="105"/>
                </a:lnTo>
                <a:lnTo>
                  <a:pt x="895" y="73"/>
                </a:lnTo>
                <a:lnTo>
                  <a:pt x="979" y="47"/>
                </a:lnTo>
                <a:lnTo>
                  <a:pt x="1064" y="27"/>
                </a:lnTo>
                <a:lnTo>
                  <a:pt x="1152" y="12"/>
                </a:lnTo>
                <a:lnTo>
                  <a:pt x="1242" y="3"/>
                </a:lnTo>
                <a:lnTo>
                  <a:pt x="1333" y="0"/>
                </a:lnTo>
                <a:close/>
              </a:path>
            </a:pathLst>
          </a:custGeom>
          <a:solidFill>
            <a:srgbClr val="646464"/>
          </a:solidFill>
          <a:ln w="0">
            <a:noFill/>
          </a:ln>
        </p:spPr>
        <p:style>
          <a:lnRef idx="0"/>
          <a:fillRef idx="0"/>
          <a:effectRef idx="0"/>
          <a:fontRef idx="minor"/>
        </p:style>
        <p:txBody>
          <a:bodyPr anchor="t">
            <a:noAutofit/>
          </a:bodyPr>
          <a:p>
            <a:endParaRPr b="0" lang="en-US" sz="1800" spc="-1" strike="noStrike">
              <a:solidFill>
                <a:srgbClr val="3f3f3f"/>
              </a:solidFill>
              <a:latin typeface="Roboto"/>
            </a:endParaRPr>
          </a:p>
        </p:txBody>
      </p:sp>
      <p:sp>
        <p:nvSpPr>
          <p:cNvPr id="1045" name="Rectangle 33"/>
          <p:cNvSpPr/>
          <p:nvPr/>
        </p:nvSpPr>
        <p:spPr>
          <a:xfrm>
            <a:off x="10342440" y="619200"/>
            <a:ext cx="99072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8e8e8e"/>
                </a:solidFill>
                <a:latin typeface="Roboto"/>
              </a:rPr>
              <a:t>Services</a:t>
            </a:r>
            <a:endParaRPr b="0" lang="en-US" sz="1100" spc="-1" strike="noStrike">
              <a:solidFill>
                <a:srgbClr val="3f3f3f"/>
              </a:solidFill>
              <a:latin typeface="Roboto"/>
            </a:endParaRPr>
          </a:p>
        </p:txBody>
      </p:sp>
      <p:pic>
        <p:nvPicPr>
          <p:cNvPr id="1046" name="Group 34" descr=""/>
          <p:cNvPicPr/>
          <p:nvPr/>
        </p:nvPicPr>
        <p:blipFill>
          <a:blip r:embed="rId5"/>
          <a:stretch/>
        </p:blipFill>
        <p:spPr>
          <a:xfrm>
            <a:off x="10723680" y="5827680"/>
            <a:ext cx="882360" cy="407880"/>
          </a:xfrm>
          <a:prstGeom prst="rect">
            <a:avLst/>
          </a:prstGeom>
          <a:ln w="0">
            <a:noFill/>
          </a:ln>
        </p:spPr>
      </p:pic>
      <p:sp>
        <p:nvSpPr>
          <p:cNvPr id="1047" name="TextBox 55"/>
          <p:cNvSpPr/>
          <p:nvPr/>
        </p:nvSpPr>
        <p:spPr>
          <a:xfrm>
            <a:off x="3392640" y="3751200"/>
            <a:ext cx="540684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2000" spc="-1" strike="noStrike">
                <a:solidFill>
                  <a:srgbClr val="ffffff"/>
                </a:solidFill>
                <a:latin typeface="Roboto"/>
                <a:ea typeface="Times New Roman"/>
              </a:rPr>
              <a:t>Minimalism Presentation Template</a:t>
            </a:r>
            <a:endParaRPr b="0" lang="en-US" sz="20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3" name="Group 10"/>
          <p:cNvGrpSpPr/>
          <p:nvPr/>
        </p:nvGrpSpPr>
        <p:grpSpPr>
          <a:xfrm>
            <a:off x="10961640" y="552600"/>
            <a:ext cx="631800" cy="325080"/>
            <a:chOff x="10961640" y="552600"/>
            <a:chExt cx="631800" cy="325080"/>
          </a:xfrm>
        </p:grpSpPr>
        <p:sp>
          <p:nvSpPr>
            <p:cNvPr id="1154" name="Isosceles Triangle 11"/>
            <p:cNvSpPr/>
            <p:nvPr/>
          </p:nvSpPr>
          <p:spPr>
            <a:xfrm>
              <a:off x="1102500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55" name="Isosceles Triangle 12"/>
            <p:cNvSpPr/>
            <p:nvPr/>
          </p:nvSpPr>
          <p:spPr>
            <a:xfrm flipV="1">
              <a:off x="1124136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56" name="Rectangle 13"/>
            <p:cNvSpPr/>
            <p:nvPr/>
          </p:nvSpPr>
          <p:spPr>
            <a:xfrm>
              <a:off x="1096164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57" name="Rectangle 14"/>
            <p:cNvSpPr/>
            <p:nvPr/>
          </p:nvSpPr>
          <p:spPr>
            <a:xfrm>
              <a:off x="1115028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158" name="TextBox 15" descr=""/>
          <p:cNvPicPr/>
          <p:nvPr/>
        </p:nvPicPr>
        <p:blipFill>
          <a:blip r:embed="rId1"/>
          <a:stretch/>
        </p:blipFill>
        <p:spPr>
          <a:xfrm>
            <a:off x="8766000" y="5888160"/>
            <a:ext cx="543240" cy="500040"/>
          </a:xfrm>
          <a:prstGeom prst="rect">
            <a:avLst/>
          </a:prstGeom>
          <a:ln w="0">
            <a:noFill/>
          </a:ln>
        </p:spPr>
      </p:pic>
      <p:pic>
        <p:nvPicPr>
          <p:cNvPr id="1159" name="TextBox 16" descr=""/>
          <p:cNvPicPr/>
          <p:nvPr/>
        </p:nvPicPr>
        <p:blipFill>
          <a:blip r:embed="rId2"/>
          <a:stretch/>
        </p:blipFill>
        <p:spPr>
          <a:xfrm>
            <a:off x="9186840" y="5888160"/>
            <a:ext cx="2567160" cy="500040"/>
          </a:xfrm>
          <a:prstGeom prst="rect">
            <a:avLst/>
          </a:prstGeom>
          <a:ln w="0">
            <a:noFill/>
          </a:ln>
        </p:spPr>
      </p:pic>
      <p:sp>
        <p:nvSpPr>
          <p:cNvPr id="1160" name="Rectangle 17"/>
          <p:cNvSpPr/>
          <p:nvPr/>
        </p:nvSpPr>
        <p:spPr>
          <a:xfrm>
            <a:off x="6005520" y="3538440"/>
            <a:ext cx="4705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646464"/>
                </a:solidFill>
                <a:latin typeface="Roboto"/>
              </a:rPr>
              <a:t>Lorem ipsum dolor sit amet, consectetur adipiscing elit.</a:t>
            </a:r>
            <a:r>
              <a:rPr b="0" lang="en-US" sz="1200" spc="-1" strike="noStrike">
                <a:solidFill>
                  <a:srgbClr val="646464"/>
                </a:solidFill>
                <a:latin typeface="Roboto"/>
              </a:rPr>
              <a:t> </a:t>
            </a:r>
            <a:r>
              <a:rPr b="0" lang="id-ID" sz="1200" spc="-1" strike="noStrike">
                <a:solidFill>
                  <a:srgbClr val="646464"/>
                </a:solidFill>
                <a:latin typeface="Roboto"/>
              </a:rPr>
              <a:t>Proin sed libero in magna ultrices gravida sit ametat diam.</a:t>
            </a:r>
            <a:r>
              <a:rPr b="0" lang="en-US" sz="1200" spc="-1" strike="noStrike">
                <a:solidFill>
                  <a:srgbClr val="646464"/>
                </a:solidFill>
                <a:latin typeface="Roboto"/>
              </a:rPr>
              <a:t> </a:t>
            </a:r>
            <a:r>
              <a:rPr b="0" lang="id-ID" sz="1200" spc="-1" strike="noStrike">
                <a:solidFill>
                  <a:srgbClr val="646464"/>
                </a:solidFill>
                <a:latin typeface="Roboto"/>
              </a:rPr>
              <a:t>Suspen disse plac</a:t>
            </a:r>
            <a:endParaRPr b="0" lang="en-US" sz="1200" spc="-1" strike="noStrike">
              <a:solidFill>
                <a:srgbClr val="3f3f3f"/>
              </a:solidFill>
              <a:latin typeface="Roboto"/>
            </a:endParaRPr>
          </a:p>
        </p:txBody>
      </p:sp>
      <p:sp>
        <p:nvSpPr>
          <p:cNvPr id="1161" name="Rectangle 18"/>
          <p:cNvSpPr/>
          <p:nvPr/>
        </p:nvSpPr>
        <p:spPr>
          <a:xfrm>
            <a:off x="6097680" y="4735440"/>
            <a:ext cx="4024080" cy="92160"/>
          </a:xfrm>
          <a:prstGeom prst="rect">
            <a:avLst/>
          </a:prstGeom>
          <a:solidFill>
            <a:srgbClr val="f2f2f2"/>
          </a:solidFill>
          <a:ln w="0">
            <a:noFill/>
          </a:ln>
        </p:spPr>
        <p:style>
          <a:lnRef idx="0"/>
          <a:fillRef idx="0"/>
          <a:effectRef idx="0"/>
          <a:fontRef idx="minor"/>
        </p:style>
        <p:txBody>
          <a:bodyPr lIns="90000" rIns="90000" tIns="45360" bIns="45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62" name="Rectangle 19"/>
          <p:cNvSpPr/>
          <p:nvPr/>
        </p:nvSpPr>
        <p:spPr>
          <a:xfrm>
            <a:off x="6097680" y="4735440"/>
            <a:ext cx="3566880" cy="92160"/>
          </a:xfrm>
          <a:prstGeom prst="rect">
            <a:avLst/>
          </a:prstGeom>
          <a:solidFill>
            <a:srgbClr val="686868"/>
          </a:solidFill>
          <a:ln w="0">
            <a:noFill/>
          </a:ln>
        </p:spPr>
        <p:style>
          <a:lnRef idx="0"/>
          <a:fillRef idx="0"/>
          <a:effectRef idx="0"/>
          <a:fontRef idx="minor"/>
        </p:style>
        <p:txBody>
          <a:bodyPr lIns="90000" rIns="90000" tIns="45360" bIns="45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63" name="TextBox 20"/>
          <p:cNvSpPr/>
          <p:nvPr/>
        </p:nvSpPr>
        <p:spPr>
          <a:xfrm flipH="1">
            <a:off x="10348920" y="4616280"/>
            <a:ext cx="45720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646464"/>
                </a:solidFill>
                <a:latin typeface="Roboto"/>
                <a:ea typeface="Lato Medium"/>
              </a:rPr>
              <a:t>90%</a:t>
            </a:r>
            <a:endParaRPr b="0" lang="en-US" sz="1200" spc="-1" strike="noStrike">
              <a:solidFill>
                <a:srgbClr val="3f3f3f"/>
              </a:solidFill>
              <a:latin typeface="Roboto"/>
            </a:endParaRPr>
          </a:p>
        </p:txBody>
      </p:sp>
      <p:sp>
        <p:nvSpPr>
          <p:cNvPr id="1164" name="TextBox 21"/>
          <p:cNvSpPr/>
          <p:nvPr/>
        </p:nvSpPr>
        <p:spPr>
          <a:xfrm flipH="1">
            <a:off x="6102360" y="4413240"/>
            <a:ext cx="1922400" cy="2739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200" spc="-1" strike="noStrike">
                <a:solidFill>
                  <a:srgbClr val="646464"/>
                </a:solidFill>
                <a:latin typeface="Roboto"/>
                <a:ea typeface="Lato Medium"/>
              </a:rPr>
              <a:t>Type Your Skill Here</a:t>
            </a:r>
            <a:endParaRPr b="0" lang="en-US" sz="1200" spc="-1" strike="noStrike">
              <a:solidFill>
                <a:srgbClr val="3f3f3f"/>
              </a:solidFill>
              <a:latin typeface="Roboto"/>
            </a:endParaRPr>
          </a:p>
        </p:txBody>
      </p:sp>
      <p:sp>
        <p:nvSpPr>
          <p:cNvPr id="1165" name="Rectangle 22"/>
          <p:cNvSpPr/>
          <p:nvPr/>
        </p:nvSpPr>
        <p:spPr>
          <a:xfrm>
            <a:off x="6097680" y="5315040"/>
            <a:ext cx="4024080" cy="90360"/>
          </a:xfrm>
          <a:prstGeom prst="rect">
            <a:avLst/>
          </a:prstGeom>
          <a:solidFill>
            <a:srgbClr val="f2f2f2"/>
          </a:solidFill>
          <a:ln w="0">
            <a:noFill/>
          </a:ln>
        </p:spPr>
        <p:style>
          <a:lnRef idx="0"/>
          <a:fillRef idx="0"/>
          <a:effectRef idx="0"/>
          <a:fontRef idx="minor"/>
        </p:style>
        <p:txBody>
          <a:bodyPr lIns="90000" rIns="90000" tIns="43560" bIns="43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66" name="Rectangle 23"/>
          <p:cNvSpPr/>
          <p:nvPr/>
        </p:nvSpPr>
        <p:spPr>
          <a:xfrm>
            <a:off x="6097680" y="5315040"/>
            <a:ext cx="3292560" cy="90360"/>
          </a:xfrm>
          <a:prstGeom prst="rect">
            <a:avLst/>
          </a:prstGeom>
          <a:solidFill>
            <a:srgbClr val="686868"/>
          </a:solidFill>
          <a:ln w="0">
            <a:noFill/>
          </a:ln>
        </p:spPr>
        <p:style>
          <a:lnRef idx="0"/>
          <a:fillRef idx="0"/>
          <a:effectRef idx="0"/>
          <a:fontRef idx="minor"/>
        </p:style>
        <p:txBody>
          <a:bodyPr lIns="90000" rIns="90000" tIns="43560" bIns="43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67" name="TextBox 24"/>
          <p:cNvSpPr/>
          <p:nvPr/>
        </p:nvSpPr>
        <p:spPr>
          <a:xfrm flipH="1">
            <a:off x="10348920" y="5194440"/>
            <a:ext cx="45720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646464"/>
                </a:solidFill>
                <a:latin typeface="Roboto"/>
                <a:ea typeface="Lato Medium"/>
              </a:rPr>
              <a:t>80</a:t>
            </a:r>
            <a:r>
              <a:rPr b="0" lang="en-ID" sz="1200" spc="-1" strike="noStrike">
                <a:solidFill>
                  <a:srgbClr val="646464"/>
                </a:solidFill>
                <a:latin typeface="Roboto"/>
                <a:ea typeface="Lato Medium"/>
              </a:rPr>
              <a:t>%</a:t>
            </a:r>
            <a:endParaRPr b="0" lang="en-US" sz="1200" spc="-1" strike="noStrike">
              <a:solidFill>
                <a:srgbClr val="3f3f3f"/>
              </a:solidFill>
              <a:latin typeface="Roboto"/>
            </a:endParaRPr>
          </a:p>
        </p:txBody>
      </p:sp>
      <p:sp>
        <p:nvSpPr>
          <p:cNvPr id="1168" name="TextBox 25"/>
          <p:cNvSpPr/>
          <p:nvPr/>
        </p:nvSpPr>
        <p:spPr>
          <a:xfrm flipH="1">
            <a:off x="6102360" y="4991040"/>
            <a:ext cx="1922400" cy="2739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200" spc="-1" strike="noStrike">
                <a:solidFill>
                  <a:srgbClr val="646464"/>
                </a:solidFill>
                <a:latin typeface="Roboto"/>
                <a:ea typeface="Lato Medium"/>
              </a:rPr>
              <a:t>Type Your Skill Here</a:t>
            </a:r>
            <a:endParaRPr b="0" lang="en-US" sz="1200" spc="-1" strike="noStrike">
              <a:solidFill>
                <a:srgbClr val="3f3f3f"/>
              </a:solidFill>
              <a:latin typeface="Roboto"/>
            </a:endParaRPr>
          </a:p>
        </p:txBody>
      </p:sp>
      <p:sp>
        <p:nvSpPr>
          <p:cNvPr id="1169" name="Rectangle 26"/>
          <p:cNvSpPr/>
          <p:nvPr/>
        </p:nvSpPr>
        <p:spPr>
          <a:xfrm>
            <a:off x="5986440" y="2954160"/>
            <a:ext cx="18050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rPr>
              <a:t>Fabio Juniko</a:t>
            </a:r>
            <a:endParaRPr b="0" lang="en-US" sz="1600" spc="-1" strike="noStrike">
              <a:solidFill>
                <a:srgbClr val="3f3f3f"/>
              </a:solidFill>
              <a:latin typeface="Roboto"/>
            </a:endParaRPr>
          </a:p>
        </p:txBody>
      </p:sp>
      <p:sp>
        <p:nvSpPr>
          <p:cNvPr id="1170" name="Rectangle 27"/>
          <p:cNvSpPr/>
          <p:nvPr/>
        </p:nvSpPr>
        <p:spPr>
          <a:xfrm>
            <a:off x="6005520" y="3254400"/>
            <a:ext cx="2141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d-ID" sz="1200" spc="-1" strike="noStrike">
                <a:solidFill>
                  <a:srgbClr val="646464"/>
                </a:solidFill>
                <a:latin typeface="Roboto"/>
              </a:rPr>
              <a:t>The Anterra Designer</a:t>
            </a:r>
            <a:endParaRPr b="0" lang="en-US" sz="1200" spc="-1" strike="noStrike">
              <a:solidFill>
                <a:srgbClr val="3f3f3f"/>
              </a:solidFill>
              <a:latin typeface="Roboto"/>
            </a:endParaRPr>
          </a:p>
        </p:txBody>
      </p:sp>
      <p:sp>
        <p:nvSpPr>
          <p:cNvPr id="1171" name="TextBox 28"/>
          <p:cNvSpPr/>
          <p:nvPr/>
        </p:nvSpPr>
        <p:spPr>
          <a:xfrm>
            <a:off x="5999040" y="1506600"/>
            <a:ext cx="450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OUR DESIGNER</a:t>
            </a:r>
            <a:endParaRPr b="0" lang="en-US" sz="3200" spc="-1" strike="noStrike">
              <a:solidFill>
                <a:srgbClr val="3f3f3f"/>
              </a:solidFill>
              <a:latin typeface="Roboto"/>
            </a:endParaRPr>
          </a:p>
        </p:txBody>
      </p:sp>
      <p:pic>
        <p:nvPicPr>
          <p:cNvPr id="1172" name="TextBox 29" descr=""/>
          <p:cNvPicPr/>
          <p:nvPr/>
        </p:nvPicPr>
        <p:blipFill>
          <a:blip r:embed="rId3"/>
          <a:stretch/>
        </p:blipFill>
        <p:spPr>
          <a:xfrm>
            <a:off x="5999040" y="1981080"/>
            <a:ext cx="2743200" cy="36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3" name="Group 6"/>
          <p:cNvGrpSpPr/>
          <p:nvPr/>
        </p:nvGrpSpPr>
        <p:grpSpPr>
          <a:xfrm>
            <a:off x="587520" y="552600"/>
            <a:ext cx="631800" cy="325080"/>
            <a:chOff x="587520" y="552600"/>
            <a:chExt cx="631800" cy="325080"/>
          </a:xfrm>
        </p:grpSpPr>
        <p:sp>
          <p:nvSpPr>
            <p:cNvPr id="1174" name="Isosceles Triangle 7"/>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75" name="Isosceles Triangle 8"/>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76" name="Rectangle 9"/>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77" name="Rectangle 10"/>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178" name="TextBox 11" descr=""/>
          <p:cNvPicPr/>
          <p:nvPr/>
        </p:nvPicPr>
        <p:blipFill>
          <a:blip r:embed="rId1"/>
          <a:stretch/>
        </p:blipFill>
        <p:spPr>
          <a:xfrm>
            <a:off x="506520" y="5888160"/>
            <a:ext cx="536400" cy="500040"/>
          </a:xfrm>
          <a:prstGeom prst="rect">
            <a:avLst/>
          </a:prstGeom>
          <a:ln w="0">
            <a:noFill/>
          </a:ln>
        </p:spPr>
      </p:pic>
      <p:pic>
        <p:nvPicPr>
          <p:cNvPr id="1179" name="TextBox 12" descr=""/>
          <p:cNvPicPr/>
          <p:nvPr/>
        </p:nvPicPr>
        <p:blipFill>
          <a:blip r:embed="rId2"/>
          <a:stretch/>
        </p:blipFill>
        <p:spPr>
          <a:xfrm>
            <a:off x="927000" y="5888160"/>
            <a:ext cx="2565360" cy="500040"/>
          </a:xfrm>
          <a:prstGeom prst="rect">
            <a:avLst/>
          </a:prstGeom>
          <a:ln w="0">
            <a:noFill/>
          </a:ln>
        </p:spPr>
      </p:pic>
      <p:sp>
        <p:nvSpPr>
          <p:cNvPr id="1180" name="TextBox 13"/>
          <p:cNvSpPr/>
          <p:nvPr/>
        </p:nvSpPr>
        <p:spPr>
          <a:xfrm>
            <a:off x="1442880" y="1673280"/>
            <a:ext cx="401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CEO &amp; FOUNDER</a:t>
            </a:r>
            <a:endParaRPr b="0" lang="en-US" sz="3200" spc="-1" strike="noStrike">
              <a:solidFill>
                <a:srgbClr val="3f3f3f"/>
              </a:solidFill>
              <a:latin typeface="Roboto"/>
            </a:endParaRPr>
          </a:p>
        </p:txBody>
      </p:sp>
      <p:pic>
        <p:nvPicPr>
          <p:cNvPr id="1181" name="TextBox 14" descr=""/>
          <p:cNvPicPr/>
          <p:nvPr/>
        </p:nvPicPr>
        <p:blipFill>
          <a:blip r:embed="rId3"/>
          <a:stretch/>
        </p:blipFill>
        <p:spPr>
          <a:xfrm>
            <a:off x="1444680" y="2146320"/>
            <a:ext cx="2743200" cy="358920"/>
          </a:xfrm>
          <a:prstGeom prst="rect">
            <a:avLst/>
          </a:prstGeom>
          <a:ln w="0">
            <a:noFill/>
          </a:ln>
        </p:spPr>
      </p:pic>
      <p:sp>
        <p:nvSpPr>
          <p:cNvPr id="1182" name="Rectangle 16"/>
          <p:cNvSpPr/>
          <p:nvPr/>
        </p:nvSpPr>
        <p:spPr>
          <a:xfrm>
            <a:off x="1422360" y="3309840"/>
            <a:ext cx="40323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646464"/>
                </a:solidFill>
                <a:latin typeface="Roboto"/>
                <a:ea typeface="Times New Roman"/>
              </a:rPr>
              <a:t>Lorem ipsum dolor sit amet, consectetur adipiscing elit, sed do eiusmod tempor incididunt ut labore et dolore magna aliqua. Lacus sed viverra tellusin</a:t>
            </a:r>
            <a:endParaRPr b="0" lang="en-US" sz="1200" spc="-1" strike="noStrike">
              <a:solidFill>
                <a:srgbClr val="3f3f3f"/>
              </a:solidFill>
              <a:latin typeface="Roboto"/>
            </a:endParaRPr>
          </a:p>
        </p:txBody>
      </p:sp>
      <p:sp>
        <p:nvSpPr>
          <p:cNvPr id="1183" name="Rectangle 17"/>
          <p:cNvSpPr/>
          <p:nvPr/>
        </p:nvSpPr>
        <p:spPr>
          <a:xfrm>
            <a:off x="1514520" y="4735440"/>
            <a:ext cx="3382920" cy="92160"/>
          </a:xfrm>
          <a:prstGeom prst="rect">
            <a:avLst/>
          </a:prstGeom>
          <a:solidFill>
            <a:srgbClr val="f2f2f2"/>
          </a:solidFill>
          <a:ln w="0">
            <a:noFill/>
          </a:ln>
        </p:spPr>
        <p:style>
          <a:lnRef idx="0"/>
          <a:fillRef idx="0"/>
          <a:effectRef idx="0"/>
          <a:fontRef idx="minor"/>
        </p:style>
        <p:txBody>
          <a:bodyPr lIns="90000" rIns="90000" tIns="45360" bIns="45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84" name="Rectangle 18"/>
          <p:cNvSpPr/>
          <p:nvPr/>
        </p:nvSpPr>
        <p:spPr>
          <a:xfrm>
            <a:off x="1514520" y="4735440"/>
            <a:ext cx="2835360" cy="92160"/>
          </a:xfrm>
          <a:prstGeom prst="rect">
            <a:avLst/>
          </a:prstGeom>
          <a:solidFill>
            <a:srgbClr val="686868"/>
          </a:solidFill>
          <a:ln w="0">
            <a:noFill/>
          </a:ln>
        </p:spPr>
        <p:style>
          <a:lnRef idx="0"/>
          <a:fillRef idx="0"/>
          <a:effectRef idx="0"/>
          <a:fontRef idx="minor"/>
        </p:style>
        <p:txBody>
          <a:bodyPr lIns="90000" rIns="90000" tIns="45360" bIns="45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85" name="TextBox 19"/>
          <p:cNvSpPr/>
          <p:nvPr/>
        </p:nvSpPr>
        <p:spPr>
          <a:xfrm flipH="1">
            <a:off x="5091120" y="4616280"/>
            <a:ext cx="45720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646464"/>
                </a:solidFill>
                <a:latin typeface="Roboto"/>
                <a:ea typeface="Lato Medium"/>
              </a:rPr>
              <a:t>90%</a:t>
            </a:r>
            <a:endParaRPr b="0" lang="en-US" sz="1200" spc="-1" strike="noStrike">
              <a:solidFill>
                <a:srgbClr val="3f3f3f"/>
              </a:solidFill>
              <a:latin typeface="Roboto"/>
            </a:endParaRPr>
          </a:p>
        </p:txBody>
      </p:sp>
      <p:sp>
        <p:nvSpPr>
          <p:cNvPr id="1186" name="TextBox 20"/>
          <p:cNvSpPr/>
          <p:nvPr/>
        </p:nvSpPr>
        <p:spPr>
          <a:xfrm flipH="1">
            <a:off x="1517760" y="4413240"/>
            <a:ext cx="1923840" cy="2739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200" spc="-1" strike="noStrike">
                <a:solidFill>
                  <a:srgbClr val="646464"/>
                </a:solidFill>
                <a:latin typeface="Roboto"/>
                <a:ea typeface="Lato Medium"/>
              </a:rPr>
              <a:t>Type Your Skill Here</a:t>
            </a:r>
            <a:endParaRPr b="0" lang="en-US" sz="1200" spc="-1" strike="noStrike">
              <a:solidFill>
                <a:srgbClr val="3f3f3f"/>
              </a:solidFill>
              <a:latin typeface="Roboto"/>
            </a:endParaRPr>
          </a:p>
        </p:txBody>
      </p:sp>
      <p:sp>
        <p:nvSpPr>
          <p:cNvPr id="1187" name="Rectangle 21"/>
          <p:cNvSpPr/>
          <p:nvPr/>
        </p:nvSpPr>
        <p:spPr>
          <a:xfrm>
            <a:off x="1514520" y="5315040"/>
            <a:ext cx="3382920" cy="90360"/>
          </a:xfrm>
          <a:prstGeom prst="rect">
            <a:avLst/>
          </a:prstGeom>
          <a:solidFill>
            <a:srgbClr val="f2f2f2"/>
          </a:solidFill>
          <a:ln w="0">
            <a:noFill/>
          </a:ln>
        </p:spPr>
        <p:style>
          <a:lnRef idx="0"/>
          <a:fillRef idx="0"/>
          <a:effectRef idx="0"/>
          <a:fontRef idx="minor"/>
        </p:style>
        <p:txBody>
          <a:bodyPr lIns="90000" rIns="90000" tIns="43560" bIns="43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88" name="Rectangle 22"/>
          <p:cNvSpPr/>
          <p:nvPr/>
        </p:nvSpPr>
        <p:spPr>
          <a:xfrm>
            <a:off x="1514520" y="5315040"/>
            <a:ext cx="2743200" cy="90360"/>
          </a:xfrm>
          <a:prstGeom prst="rect">
            <a:avLst/>
          </a:prstGeom>
          <a:solidFill>
            <a:srgbClr val="686868"/>
          </a:solidFill>
          <a:ln w="0">
            <a:noFill/>
          </a:ln>
        </p:spPr>
        <p:style>
          <a:lnRef idx="0"/>
          <a:fillRef idx="0"/>
          <a:effectRef idx="0"/>
          <a:fontRef idx="minor"/>
        </p:style>
        <p:txBody>
          <a:bodyPr lIns="90000" rIns="90000" tIns="43560" bIns="43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89" name="TextBox 23"/>
          <p:cNvSpPr/>
          <p:nvPr/>
        </p:nvSpPr>
        <p:spPr>
          <a:xfrm flipH="1">
            <a:off x="5091120" y="5194440"/>
            <a:ext cx="45720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646464"/>
                </a:solidFill>
                <a:latin typeface="Roboto"/>
                <a:ea typeface="Lato Medium"/>
              </a:rPr>
              <a:t>80</a:t>
            </a:r>
            <a:r>
              <a:rPr b="0" lang="en-ID" sz="1200" spc="-1" strike="noStrike">
                <a:solidFill>
                  <a:srgbClr val="646464"/>
                </a:solidFill>
                <a:latin typeface="Roboto"/>
                <a:ea typeface="Lato Medium"/>
              </a:rPr>
              <a:t>%</a:t>
            </a:r>
            <a:endParaRPr b="0" lang="en-US" sz="1200" spc="-1" strike="noStrike">
              <a:solidFill>
                <a:srgbClr val="3f3f3f"/>
              </a:solidFill>
              <a:latin typeface="Roboto"/>
            </a:endParaRPr>
          </a:p>
        </p:txBody>
      </p:sp>
      <p:sp>
        <p:nvSpPr>
          <p:cNvPr id="1190" name="TextBox 24"/>
          <p:cNvSpPr/>
          <p:nvPr/>
        </p:nvSpPr>
        <p:spPr>
          <a:xfrm flipH="1">
            <a:off x="1517760" y="4991040"/>
            <a:ext cx="1923840" cy="2739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200" spc="-1" strike="noStrike">
                <a:solidFill>
                  <a:srgbClr val="646464"/>
                </a:solidFill>
                <a:latin typeface="Roboto"/>
                <a:ea typeface="Lato Medium"/>
              </a:rPr>
              <a:t>Type Your Skill Here</a:t>
            </a:r>
            <a:endParaRPr b="0" lang="en-US" sz="1200" spc="-1" strike="noStrike">
              <a:solidFill>
                <a:srgbClr val="3f3f3f"/>
              </a:solidFill>
              <a:latin typeface="Roboto"/>
            </a:endParaRPr>
          </a:p>
        </p:txBody>
      </p:sp>
      <p:sp>
        <p:nvSpPr>
          <p:cNvPr id="1191" name="Rectangle 26"/>
          <p:cNvSpPr/>
          <p:nvPr/>
        </p:nvSpPr>
        <p:spPr>
          <a:xfrm>
            <a:off x="7672320" y="5172120"/>
            <a:ext cx="3932280" cy="46080"/>
          </a:xfrm>
          <a:prstGeom prst="rect">
            <a:avLst/>
          </a:prstGeom>
          <a:solidFill>
            <a:srgbClr val="686868"/>
          </a:solidFill>
          <a:ln w="0">
            <a:noFill/>
          </a:ln>
        </p:spPr>
        <p:style>
          <a:lnRef idx="0"/>
          <a:fillRef idx="0"/>
          <a:effectRef idx="0"/>
          <a:fontRef idx="minor"/>
        </p:style>
        <p:txBody>
          <a:bodyPr lIns="90000" rIns="90000" tIns="-720" bIns="-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92" name="Rectangle 27"/>
          <p:cNvSpPr/>
          <p:nvPr/>
        </p:nvSpPr>
        <p:spPr>
          <a:xfrm>
            <a:off x="9875880" y="4398840"/>
            <a:ext cx="180504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rPr>
              <a:t>Robert Juniko</a:t>
            </a:r>
            <a:endParaRPr b="0" lang="en-US" sz="1600" spc="-1" strike="noStrike">
              <a:solidFill>
                <a:srgbClr val="3f3f3f"/>
              </a:solidFill>
              <a:latin typeface="Roboto"/>
            </a:endParaRPr>
          </a:p>
        </p:txBody>
      </p:sp>
      <p:sp>
        <p:nvSpPr>
          <p:cNvPr id="1193" name="Rectangle 28"/>
          <p:cNvSpPr/>
          <p:nvPr/>
        </p:nvSpPr>
        <p:spPr>
          <a:xfrm>
            <a:off x="9280440" y="4699080"/>
            <a:ext cx="240048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d-ID" sz="1200" spc="-1" strike="noStrike">
                <a:solidFill>
                  <a:srgbClr val="646464"/>
                </a:solidFill>
                <a:latin typeface="Roboto"/>
              </a:rPr>
              <a:t>The Anterra CEO &amp; Founder</a:t>
            </a:r>
            <a:endParaRPr b="0" lang="en-US" sz="12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4" name="Group 4"/>
          <p:cNvGrpSpPr/>
          <p:nvPr/>
        </p:nvGrpSpPr>
        <p:grpSpPr>
          <a:xfrm>
            <a:off x="10961640" y="552600"/>
            <a:ext cx="631800" cy="325080"/>
            <a:chOff x="10961640" y="552600"/>
            <a:chExt cx="631800" cy="325080"/>
          </a:xfrm>
        </p:grpSpPr>
        <p:sp>
          <p:nvSpPr>
            <p:cNvPr id="1195" name="Isosceles Triangle 5"/>
            <p:cNvSpPr/>
            <p:nvPr/>
          </p:nvSpPr>
          <p:spPr>
            <a:xfrm>
              <a:off x="1102500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96" name="Isosceles Triangle 6"/>
            <p:cNvSpPr/>
            <p:nvPr/>
          </p:nvSpPr>
          <p:spPr>
            <a:xfrm flipV="1">
              <a:off x="1124136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97" name="Rectangle 7"/>
            <p:cNvSpPr/>
            <p:nvPr/>
          </p:nvSpPr>
          <p:spPr>
            <a:xfrm>
              <a:off x="1096164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98" name="Rectangle 8"/>
            <p:cNvSpPr/>
            <p:nvPr/>
          </p:nvSpPr>
          <p:spPr>
            <a:xfrm>
              <a:off x="1115028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199" name="TextBox 9" descr=""/>
          <p:cNvPicPr/>
          <p:nvPr/>
        </p:nvPicPr>
        <p:blipFill>
          <a:blip r:embed="rId1"/>
          <a:stretch/>
        </p:blipFill>
        <p:spPr>
          <a:xfrm>
            <a:off x="8766000" y="5888160"/>
            <a:ext cx="536760" cy="500040"/>
          </a:xfrm>
          <a:prstGeom prst="rect">
            <a:avLst/>
          </a:prstGeom>
          <a:ln w="0">
            <a:noFill/>
          </a:ln>
        </p:spPr>
      </p:pic>
      <p:pic>
        <p:nvPicPr>
          <p:cNvPr id="1200" name="TextBox 10" descr=""/>
          <p:cNvPicPr/>
          <p:nvPr/>
        </p:nvPicPr>
        <p:blipFill>
          <a:blip r:embed="rId2"/>
          <a:stretch/>
        </p:blipFill>
        <p:spPr>
          <a:xfrm>
            <a:off x="9186840" y="5888160"/>
            <a:ext cx="2567160" cy="500040"/>
          </a:xfrm>
          <a:prstGeom prst="rect">
            <a:avLst/>
          </a:prstGeom>
          <a:ln w="0">
            <a:noFill/>
          </a:ln>
        </p:spPr>
      </p:pic>
      <p:sp>
        <p:nvSpPr>
          <p:cNvPr id="1201" name="Rectangle 11"/>
          <p:cNvSpPr/>
          <p:nvPr/>
        </p:nvSpPr>
        <p:spPr>
          <a:xfrm>
            <a:off x="6021360" y="3490920"/>
            <a:ext cx="47052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646464"/>
                </a:solidFill>
                <a:latin typeface="Roboto"/>
              </a:rPr>
              <a:t>Lorem ipsum dolor sit amet, consectetur adipiscing elit.</a:t>
            </a:r>
            <a:r>
              <a:rPr b="0" lang="en-US" sz="1200" spc="-1" strike="noStrike">
                <a:solidFill>
                  <a:srgbClr val="646464"/>
                </a:solidFill>
                <a:latin typeface="Roboto"/>
              </a:rPr>
              <a:t> </a:t>
            </a:r>
            <a:r>
              <a:rPr b="0" lang="id-ID" sz="1200" spc="-1" strike="noStrike">
                <a:solidFill>
                  <a:srgbClr val="646464"/>
                </a:solidFill>
                <a:latin typeface="Roboto"/>
              </a:rPr>
              <a:t>Proin sed libero in magna ultrices gravida sit ametat diam.</a:t>
            </a:r>
            <a:r>
              <a:rPr b="0" lang="en-US" sz="1200" spc="-1" strike="noStrike">
                <a:solidFill>
                  <a:srgbClr val="646464"/>
                </a:solidFill>
                <a:latin typeface="Roboto"/>
              </a:rPr>
              <a:t> </a:t>
            </a:r>
            <a:r>
              <a:rPr b="0" lang="id-ID" sz="1200" spc="-1" strike="noStrike">
                <a:solidFill>
                  <a:srgbClr val="646464"/>
                </a:solidFill>
                <a:latin typeface="Roboto"/>
              </a:rPr>
              <a:t>Suspen disse plac</a:t>
            </a:r>
            <a:endParaRPr b="0" lang="en-US" sz="1200" spc="-1" strike="noStrike">
              <a:solidFill>
                <a:srgbClr val="3f3f3f"/>
              </a:solidFill>
              <a:latin typeface="Roboto"/>
            </a:endParaRPr>
          </a:p>
        </p:txBody>
      </p:sp>
      <p:sp>
        <p:nvSpPr>
          <p:cNvPr id="1202" name="Rectangle 12"/>
          <p:cNvSpPr/>
          <p:nvPr/>
        </p:nvSpPr>
        <p:spPr>
          <a:xfrm>
            <a:off x="6113520" y="4687920"/>
            <a:ext cx="4024080" cy="92160"/>
          </a:xfrm>
          <a:prstGeom prst="rect">
            <a:avLst/>
          </a:prstGeom>
          <a:solidFill>
            <a:srgbClr val="f2f2f2"/>
          </a:solidFill>
          <a:ln w="0">
            <a:noFill/>
          </a:ln>
        </p:spPr>
        <p:style>
          <a:lnRef idx="0"/>
          <a:fillRef idx="0"/>
          <a:effectRef idx="0"/>
          <a:fontRef idx="minor"/>
        </p:style>
        <p:txBody>
          <a:bodyPr lIns="90000" rIns="90000" tIns="45360" bIns="45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03" name="Rectangle 13"/>
          <p:cNvSpPr/>
          <p:nvPr/>
        </p:nvSpPr>
        <p:spPr>
          <a:xfrm>
            <a:off x="6113520" y="4687920"/>
            <a:ext cx="3566880" cy="92160"/>
          </a:xfrm>
          <a:prstGeom prst="rect">
            <a:avLst/>
          </a:prstGeom>
          <a:solidFill>
            <a:srgbClr val="686868"/>
          </a:solidFill>
          <a:ln w="0">
            <a:noFill/>
          </a:ln>
        </p:spPr>
        <p:style>
          <a:lnRef idx="0"/>
          <a:fillRef idx="0"/>
          <a:effectRef idx="0"/>
          <a:fontRef idx="minor"/>
        </p:style>
        <p:txBody>
          <a:bodyPr lIns="90000" rIns="90000" tIns="45360" bIns="45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04" name="TextBox 14"/>
          <p:cNvSpPr/>
          <p:nvPr/>
        </p:nvSpPr>
        <p:spPr>
          <a:xfrm flipH="1">
            <a:off x="10364760" y="4568760"/>
            <a:ext cx="45720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646464"/>
                </a:solidFill>
                <a:latin typeface="Roboto"/>
                <a:ea typeface="Lato Medium"/>
              </a:rPr>
              <a:t>90%</a:t>
            </a:r>
            <a:endParaRPr b="0" lang="en-US" sz="1200" spc="-1" strike="noStrike">
              <a:solidFill>
                <a:srgbClr val="3f3f3f"/>
              </a:solidFill>
              <a:latin typeface="Roboto"/>
            </a:endParaRPr>
          </a:p>
        </p:txBody>
      </p:sp>
      <p:sp>
        <p:nvSpPr>
          <p:cNvPr id="1205" name="TextBox 15"/>
          <p:cNvSpPr/>
          <p:nvPr/>
        </p:nvSpPr>
        <p:spPr>
          <a:xfrm flipH="1">
            <a:off x="6118200" y="4363920"/>
            <a:ext cx="1922400" cy="2739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200" spc="-1" strike="noStrike">
                <a:solidFill>
                  <a:srgbClr val="646464"/>
                </a:solidFill>
                <a:latin typeface="Roboto"/>
                <a:ea typeface="Lato Medium"/>
              </a:rPr>
              <a:t>Type Your Skill Here</a:t>
            </a:r>
            <a:endParaRPr b="0" lang="en-US" sz="1200" spc="-1" strike="noStrike">
              <a:solidFill>
                <a:srgbClr val="3f3f3f"/>
              </a:solidFill>
              <a:latin typeface="Roboto"/>
            </a:endParaRPr>
          </a:p>
        </p:txBody>
      </p:sp>
      <p:sp>
        <p:nvSpPr>
          <p:cNvPr id="1206" name="Rectangle 16"/>
          <p:cNvSpPr/>
          <p:nvPr/>
        </p:nvSpPr>
        <p:spPr>
          <a:xfrm>
            <a:off x="6113520" y="5265720"/>
            <a:ext cx="4024080" cy="92160"/>
          </a:xfrm>
          <a:prstGeom prst="rect">
            <a:avLst/>
          </a:prstGeom>
          <a:solidFill>
            <a:srgbClr val="f2f2f2"/>
          </a:solidFill>
          <a:ln w="0">
            <a:noFill/>
          </a:ln>
        </p:spPr>
        <p:style>
          <a:lnRef idx="0"/>
          <a:fillRef idx="0"/>
          <a:effectRef idx="0"/>
          <a:fontRef idx="minor"/>
        </p:style>
        <p:txBody>
          <a:bodyPr lIns="90000" rIns="90000" tIns="45360" bIns="45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07" name="Rectangle 17"/>
          <p:cNvSpPr/>
          <p:nvPr/>
        </p:nvSpPr>
        <p:spPr>
          <a:xfrm>
            <a:off x="6113520" y="5265720"/>
            <a:ext cx="3292560" cy="92160"/>
          </a:xfrm>
          <a:prstGeom prst="rect">
            <a:avLst/>
          </a:prstGeom>
          <a:solidFill>
            <a:srgbClr val="686868"/>
          </a:solidFill>
          <a:ln w="0">
            <a:noFill/>
          </a:ln>
        </p:spPr>
        <p:style>
          <a:lnRef idx="0"/>
          <a:fillRef idx="0"/>
          <a:effectRef idx="0"/>
          <a:fontRef idx="minor"/>
        </p:style>
        <p:txBody>
          <a:bodyPr lIns="90000" rIns="90000" tIns="45360" bIns="45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08" name="TextBox 18"/>
          <p:cNvSpPr/>
          <p:nvPr/>
        </p:nvSpPr>
        <p:spPr>
          <a:xfrm flipH="1">
            <a:off x="10364760" y="5146560"/>
            <a:ext cx="45720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646464"/>
                </a:solidFill>
                <a:latin typeface="Roboto"/>
                <a:ea typeface="Lato Medium"/>
              </a:rPr>
              <a:t>80</a:t>
            </a:r>
            <a:r>
              <a:rPr b="0" lang="en-ID" sz="1200" spc="-1" strike="noStrike">
                <a:solidFill>
                  <a:srgbClr val="646464"/>
                </a:solidFill>
                <a:latin typeface="Roboto"/>
                <a:ea typeface="Lato Medium"/>
              </a:rPr>
              <a:t>%</a:t>
            </a:r>
            <a:endParaRPr b="0" lang="en-US" sz="1200" spc="-1" strike="noStrike">
              <a:solidFill>
                <a:srgbClr val="3f3f3f"/>
              </a:solidFill>
              <a:latin typeface="Roboto"/>
            </a:endParaRPr>
          </a:p>
        </p:txBody>
      </p:sp>
      <p:sp>
        <p:nvSpPr>
          <p:cNvPr id="1209" name="TextBox 19"/>
          <p:cNvSpPr/>
          <p:nvPr/>
        </p:nvSpPr>
        <p:spPr>
          <a:xfrm flipH="1">
            <a:off x="6118200" y="4943520"/>
            <a:ext cx="1922400" cy="2739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200" spc="-1" strike="noStrike">
                <a:solidFill>
                  <a:srgbClr val="646464"/>
                </a:solidFill>
                <a:latin typeface="Roboto"/>
                <a:ea typeface="Lato Medium"/>
              </a:rPr>
              <a:t>Type Your Skill Here</a:t>
            </a:r>
            <a:endParaRPr b="0" lang="en-US" sz="1200" spc="-1" strike="noStrike">
              <a:solidFill>
                <a:srgbClr val="3f3f3f"/>
              </a:solidFill>
              <a:latin typeface="Roboto"/>
            </a:endParaRPr>
          </a:p>
        </p:txBody>
      </p:sp>
      <p:sp>
        <p:nvSpPr>
          <p:cNvPr id="1210" name="Rectangle 20"/>
          <p:cNvSpPr/>
          <p:nvPr/>
        </p:nvSpPr>
        <p:spPr>
          <a:xfrm>
            <a:off x="6018120" y="2906640"/>
            <a:ext cx="18050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rPr>
              <a:t>Albert Juniko</a:t>
            </a:r>
            <a:endParaRPr b="0" lang="en-US" sz="1600" spc="-1" strike="noStrike">
              <a:solidFill>
                <a:srgbClr val="3f3f3f"/>
              </a:solidFill>
              <a:latin typeface="Roboto"/>
            </a:endParaRPr>
          </a:p>
        </p:txBody>
      </p:sp>
      <p:sp>
        <p:nvSpPr>
          <p:cNvPr id="1211" name="Rectangle 21"/>
          <p:cNvSpPr/>
          <p:nvPr/>
        </p:nvSpPr>
        <p:spPr>
          <a:xfrm>
            <a:off x="6021360" y="3206880"/>
            <a:ext cx="24004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d-ID" sz="1200" spc="-1" strike="noStrike">
                <a:solidFill>
                  <a:srgbClr val="646464"/>
                </a:solidFill>
                <a:latin typeface="Roboto"/>
              </a:rPr>
              <a:t>The Anterra Product Manager</a:t>
            </a:r>
            <a:endParaRPr b="0" lang="en-US" sz="1200" spc="-1" strike="noStrike">
              <a:solidFill>
                <a:srgbClr val="3f3f3f"/>
              </a:solidFill>
              <a:latin typeface="Roboto"/>
            </a:endParaRPr>
          </a:p>
        </p:txBody>
      </p:sp>
      <p:sp>
        <p:nvSpPr>
          <p:cNvPr id="1212" name="TextBox 22"/>
          <p:cNvSpPr/>
          <p:nvPr/>
        </p:nvSpPr>
        <p:spPr>
          <a:xfrm>
            <a:off x="5999040" y="1673280"/>
            <a:ext cx="482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PRODUCT MANAGER</a:t>
            </a:r>
            <a:endParaRPr b="0" lang="en-US" sz="3200" spc="-1" strike="noStrike">
              <a:solidFill>
                <a:srgbClr val="3f3f3f"/>
              </a:solidFill>
              <a:latin typeface="Roboto"/>
            </a:endParaRPr>
          </a:p>
        </p:txBody>
      </p:sp>
      <p:pic>
        <p:nvPicPr>
          <p:cNvPr id="1213" name="TextBox 23" descr=""/>
          <p:cNvPicPr/>
          <p:nvPr/>
        </p:nvPicPr>
        <p:blipFill>
          <a:blip r:embed="rId3"/>
          <a:stretch/>
        </p:blipFill>
        <p:spPr>
          <a:xfrm>
            <a:off x="5999040" y="2146320"/>
            <a:ext cx="2743200" cy="358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4" name="Group 7"/>
          <p:cNvGrpSpPr/>
          <p:nvPr/>
        </p:nvGrpSpPr>
        <p:grpSpPr>
          <a:xfrm>
            <a:off x="587520" y="552600"/>
            <a:ext cx="631800" cy="325080"/>
            <a:chOff x="587520" y="552600"/>
            <a:chExt cx="631800" cy="325080"/>
          </a:xfrm>
        </p:grpSpPr>
        <p:sp>
          <p:nvSpPr>
            <p:cNvPr id="1215" name="Isosceles Triangle 8"/>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16" name="Isosceles Triangle 9"/>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17" name="Rectangle 10"/>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18" name="Rectangle 11"/>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219" name="TextBox 12" descr=""/>
          <p:cNvPicPr/>
          <p:nvPr/>
        </p:nvPicPr>
        <p:blipFill>
          <a:blip r:embed="rId1"/>
          <a:stretch/>
        </p:blipFill>
        <p:spPr>
          <a:xfrm>
            <a:off x="506520" y="5888160"/>
            <a:ext cx="536400" cy="500040"/>
          </a:xfrm>
          <a:prstGeom prst="rect">
            <a:avLst/>
          </a:prstGeom>
          <a:ln w="0">
            <a:noFill/>
          </a:ln>
        </p:spPr>
      </p:pic>
      <p:pic>
        <p:nvPicPr>
          <p:cNvPr id="1220" name="TextBox 13" descr=""/>
          <p:cNvPicPr/>
          <p:nvPr/>
        </p:nvPicPr>
        <p:blipFill>
          <a:blip r:embed="rId2"/>
          <a:stretch/>
        </p:blipFill>
        <p:spPr>
          <a:xfrm>
            <a:off x="927000" y="5888160"/>
            <a:ext cx="2565360" cy="500040"/>
          </a:xfrm>
          <a:prstGeom prst="rect">
            <a:avLst/>
          </a:prstGeom>
          <a:ln w="0">
            <a:noFill/>
          </a:ln>
        </p:spPr>
      </p:pic>
      <p:sp>
        <p:nvSpPr>
          <p:cNvPr id="1221" name="Rectangle 28"/>
          <p:cNvSpPr/>
          <p:nvPr/>
        </p:nvSpPr>
        <p:spPr>
          <a:xfrm>
            <a:off x="1514520" y="4575240"/>
            <a:ext cx="4389480" cy="92160"/>
          </a:xfrm>
          <a:prstGeom prst="rect">
            <a:avLst/>
          </a:prstGeom>
          <a:solidFill>
            <a:srgbClr val="f2f2f2"/>
          </a:solidFill>
          <a:ln w="0">
            <a:noFill/>
          </a:ln>
        </p:spPr>
        <p:style>
          <a:lnRef idx="0"/>
          <a:fillRef idx="0"/>
          <a:effectRef idx="0"/>
          <a:fontRef idx="minor"/>
        </p:style>
        <p:txBody>
          <a:bodyPr lIns="90000" rIns="90000" tIns="45360" bIns="45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22" name="Rectangle 29"/>
          <p:cNvSpPr/>
          <p:nvPr/>
        </p:nvSpPr>
        <p:spPr>
          <a:xfrm>
            <a:off x="1514520" y="4575240"/>
            <a:ext cx="3932280" cy="92160"/>
          </a:xfrm>
          <a:prstGeom prst="rect">
            <a:avLst/>
          </a:prstGeom>
          <a:solidFill>
            <a:srgbClr val="686868"/>
          </a:solidFill>
          <a:ln w="0">
            <a:noFill/>
          </a:ln>
        </p:spPr>
        <p:style>
          <a:lnRef idx="0"/>
          <a:fillRef idx="0"/>
          <a:effectRef idx="0"/>
          <a:fontRef idx="minor"/>
        </p:style>
        <p:txBody>
          <a:bodyPr lIns="90000" rIns="90000" tIns="45360" bIns="45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23" name="TextBox 30"/>
          <p:cNvSpPr/>
          <p:nvPr/>
        </p:nvSpPr>
        <p:spPr>
          <a:xfrm flipH="1">
            <a:off x="6100920" y="4456080"/>
            <a:ext cx="45720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646464"/>
                </a:solidFill>
                <a:latin typeface="Roboto"/>
                <a:ea typeface="Lato Medium"/>
              </a:rPr>
              <a:t>90%</a:t>
            </a:r>
            <a:endParaRPr b="0" lang="en-US" sz="1200" spc="-1" strike="noStrike">
              <a:solidFill>
                <a:srgbClr val="3f3f3f"/>
              </a:solidFill>
              <a:latin typeface="Roboto"/>
            </a:endParaRPr>
          </a:p>
        </p:txBody>
      </p:sp>
      <p:sp>
        <p:nvSpPr>
          <p:cNvPr id="1224" name="TextBox 31"/>
          <p:cNvSpPr/>
          <p:nvPr/>
        </p:nvSpPr>
        <p:spPr>
          <a:xfrm flipH="1">
            <a:off x="1517760" y="4251240"/>
            <a:ext cx="1923840" cy="2739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200" spc="-1" strike="noStrike">
                <a:solidFill>
                  <a:srgbClr val="646464"/>
                </a:solidFill>
                <a:latin typeface="Roboto"/>
                <a:ea typeface="Lato Medium"/>
              </a:rPr>
              <a:t>Type Your Skill Here</a:t>
            </a:r>
            <a:endParaRPr b="0" lang="en-US" sz="1200" spc="-1" strike="noStrike">
              <a:solidFill>
                <a:srgbClr val="3f3f3f"/>
              </a:solidFill>
              <a:latin typeface="Roboto"/>
            </a:endParaRPr>
          </a:p>
        </p:txBody>
      </p:sp>
      <p:sp>
        <p:nvSpPr>
          <p:cNvPr id="1225" name="Rectangle 32"/>
          <p:cNvSpPr/>
          <p:nvPr/>
        </p:nvSpPr>
        <p:spPr>
          <a:xfrm>
            <a:off x="1514520" y="5154480"/>
            <a:ext cx="4389480" cy="90720"/>
          </a:xfrm>
          <a:prstGeom prst="rect">
            <a:avLst/>
          </a:prstGeom>
          <a:solidFill>
            <a:srgbClr val="f2f2f2"/>
          </a:solidFill>
          <a:ln w="0">
            <a:noFill/>
          </a:ln>
        </p:spPr>
        <p:style>
          <a:lnRef idx="0"/>
          <a:fillRef idx="0"/>
          <a:effectRef idx="0"/>
          <a:fontRef idx="minor"/>
        </p:style>
        <p:txBody>
          <a:bodyPr lIns="90000" rIns="90000" tIns="43920" bIns="439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26" name="Rectangle 33"/>
          <p:cNvSpPr/>
          <p:nvPr/>
        </p:nvSpPr>
        <p:spPr>
          <a:xfrm>
            <a:off x="1514520" y="5154480"/>
            <a:ext cx="3475080" cy="90720"/>
          </a:xfrm>
          <a:prstGeom prst="rect">
            <a:avLst/>
          </a:prstGeom>
          <a:solidFill>
            <a:srgbClr val="686868"/>
          </a:solidFill>
          <a:ln w="0">
            <a:noFill/>
          </a:ln>
        </p:spPr>
        <p:style>
          <a:lnRef idx="0"/>
          <a:fillRef idx="0"/>
          <a:effectRef idx="0"/>
          <a:fontRef idx="minor"/>
        </p:style>
        <p:txBody>
          <a:bodyPr lIns="90000" rIns="90000" tIns="43920" bIns="439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27" name="TextBox 34"/>
          <p:cNvSpPr/>
          <p:nvPr/>
        </p:nvSpPr>
        <p:spPr>
          <a:xfrm flipH="1">
            <a:off x="6100920" y="5033880"/>
            <a:ext cx="45720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646464"/>
                </a:solidFill>
                <a:latin typeface="Roboto"/>
                <a:ea typeface="Lato Medium"/>
              </a:rPr>
              <a:t>80</a:t>
            </a:r>
            <a:r>
              <a:rPr b="0" lang="en-ID" sz="1200" spc="-1" strike="noStrike">
                <a:solidFill>
                  <a:srgbClr val="646464"/>
                </a:solidFill>
                <a:latin typeface="Roboto"/>
                <a:ea typeface="Lato Medium"/>
              </a:rPr>
              <a:t>%</a:t>
            </a:r>
            <a:endParaRPr b="0" lang="en-US" sz="1200" spc="-1" strike="noStrike">
              <a:solidFill>
                <a:srgbClr val="3f3f3f"/>
              </a:solidFill>
              <a:latin typeface="Roboto"/>
            </a:endParaRPr>
          </a:p>
        </p:txBody>
      </p:sp>
      <p:sp>
        <p:nvSpPr>
          <p:cNvPr id="1228" name="TextBox 35"/>
          <p:cNvSpPr/>
          <p:nvPr/>
        </p:nvSpPr>
        <p:spPr>
          <a:xfrm flipH="1">
            <a:off x="1517760" y="4830840"/>
            <a:ext cx="1923840" cy="2739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200" spc="-1" strike="noStrike">
                <a:solidFill>
                  <a:srgbClr val="646464"/>
                </a:solidFill>
                <a:latin typeface="Roboto"/>
                <a:ea typeface="Lato Medium"/>
              </a:rPr>
              <a:t>Type Your Skill Here</a:t>
            </a:r>
            <a:endParaRPr b="0" lang="en-US" sz="1200" spc="-1" strike="noStrike">
              <a:solidFill>
                <a:srgbClr val="3f3f3f"/>
              </a:solidFill>
              <a:latin typeface="Roboto"/>
            </a:endParaRPr>
          </a:p>
        </p:txBody>
      </p:sp>
      <p:sp>
        <p:nvSpPr>
          <p:cNvPr id="1229" name="Rectangle 36"/>
          <p:cNvSpPr/>
          <p:nvPr/>
        </p:nvSpPr>
        <p:spPr>
          <a:xfrm>
            <a:off x="1422360" y="3386160"/>
            <a:ext cx="24750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646464"/>
                </a:solidFill>
                <a:latin typeface="Roboto"/>
              </a:rPr>
              <a:t>Lorem ipsum dolor sit amet conta setur adipiscing elit.</a:t>
            </a:r>
            <a:r>
              <a:rPr b="0" lang="en-US" sz="1200" spc="-1" strike="noStrike">
                <a:solidFill>
                  <a:srgbClr val="646464"/>
                </a:solidFill>
                <a:latin typeface="Roboto"/>
              </a:rPr>
              <a:t> </a:t>
            </a:r>
            <a:r>
              <a:rPr b="0" lang="id-ID" sz="1200" spc="-1" strike="noStrike">
                <a:solidFill>
                  <a:srgbClr val="646464"/>
                </a:solidFill>
                <a:latin typeface="Roboto"/>
              </a:rPr>
              <a:t>Proinsed alai</a:t>
            </a:r>
            <a:endParaRPr b="0" lang="en-US" sz="1200" spc="-1" strike="noStrike">
              <a:solidFill>
                <a:srgbClr val="3f3f3f"/>
              </a:solidFill>
              <a:latin typeface="Roboto"/>
            </a:endParaRPr>
          </a:p>
        </p:txBody>
      </p:sp>
      <p:sp>
        <p:nvSpPr>
          <p:cNvPr id="1230" name="Rectangle 37"/>
          <p:cNvSpPr/>
          <p:nvPr/>
        </p:nvSpPr>
        <p:spPr>
          <a:xfrm>
            <a:off x="1420920" y="2800440"/>
            <a:ext cx="18050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rPr>
              <a:t>Benera Juniko</a:t>
            </a:r>
            <a:endParaRPr b="0" lang="en-US" sz="1600" spc="-1" strike="noStrike">
              <a:solidFill>
                <a:srgbClr val="3f3f3f"/>
              </a:solidFill>
              <a:latin typeface="Roboto"/>
            </a:endParaRPr>
          </a:p>
        </p:txBody>
      </p:sp>
      <p:sp>
        <p:nvSpPr>
          <p:cNvPr id="1231" name="Rectangle 38"/>
          <p:cNvSpPr/>
          <p:nvPr/>
        </p:nvSpPr>
        <p:spPr>
          <a:xfrm>
            <a:off x="1422360" y="3100320"/>
            <a:ext cx="16462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d-ID" sz="1200" spc="-1" strike="noStrike">
                <a:solidFill>
                  <a:srgbClr val="646464"/>
                </a:solidFill>
                <a:latin typeface="Roboto"/>
              </a:rPr>
              <a:t>Marketing Manager</a:t>
            </a:r>
            <a:endParaRPr b="0" lang="en-US" sz="1200" spc="-1" strike="noStrike">
              <a:solidFill>
                <a:srgbClr val="3f3f3f"/>
              </a:solidFill>
              <a:latin typeface="Roboto"/>
            </a:endParaRPr>
          </a:p>
        </p:txBody>
      </p:sp>
      <p:sp>
        <p:nvSpPr>
          <p:cNvPr id="1232" name="Rectangle 41"/>
          <p:cNvSpPr/>
          <p:nvPr/>
        </p:nvSpPr>
        <p:spPr>
          <a:xfrm>
            <a:off x="4084560" y="3386160"/>
            <a:ext cx="24735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646464"/>
                </a:solidFill>
                <a:latin typeface="Roboto"/>
              </a:rPr>
              <a:t>Lorem ipsum dolor sit amet conta setur adipiscing elit.</a:t>
            </a:r>
            <a:r>
              <a:rPr b="0" lang="en-US" sz="1200" spc="-1" strike="noStrike">
                <a:solidFill>
                  <a:srgbClr val="646464"/>
                </a:solidFill>
                <a:latin typeface="Roboto"/>
              </a:rPr>
              <a:t> </a:t>
            </a:r>
            <a:r>
              <a:rPr b="0" lang="id-ID" sz="1200" spc="-1" strike="noStrike">
                <a:solidFill>
                  <a:srgbClr val="646464"/>
                </a:solidFill>
                <a:latin typeface="Roboto"/>
              </a:rPr>
              <a:t>Proinsed alai</a:t>
            </a:r>
            <a:endParaRPr b="0" lang="en-US" sz="1200" spc="-1" strike="noStrike">
              <a:solidFill>
                <a:srgbClr val="3f3f3f"/>
              </a:solidFill>
              <a:latin typeface="Roboto"/>
            </a:endParaRPr>
          </a:p>
        </p:txBody>
      </p:sp>
      <p:sp>
        <p:nvSpPr>
          <p:cNvPr id="1233" name="Rectangle 42"/>
          <p:cNvSpPr/>
          <p:nvPr/>
        </p:nvSpPr>
        <p:spPr>
          <a:xfrm>
            <a:off x="4081320" y="2800440"/>
            <a:ext cx="18050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rPr>
              <a:t>Lalako Juniko</a:t>
            </a:r>
            <a:endParaRPr b="0" lang="en-US" sz="1600" spc="-1" strike="noStrike">
              <a:solidFill>
                <a:srgbClr val="3f3f3f"/>
              </a:solidFill>
              <a:latin typeface="Roboto"/>
            </a:endParaRPr>
          </a:p>
        </p:txBody>
      </p:sp>
      <p:sp>
        <p:nvSpPr>
          <p:cNvPr id="1234" name="Rectangle 43"/>
          <p:cNvSpPr/>
          <p:nvPr/>
        </p:nvSpPr>
        <p:spPr>
          <a:xfrm>
            <a:off x="4084560" y="3100320"/>
            <a:ext cx="16462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d-ID" sz="1200" spc="-1" strike="noStrike">
                <a:solidFill>
                  <a:srgbClr val="646464"/>
                </a:solidFill>
                <a:latin typeface="Roboto"/>
              </a:rPr>
              <a:t>Marketing Manager</a:t>
            </a:r>
            <a:endParaRPr b="0" lang="en-US" sz="1200" spc="-1" strike="noStrike">
              <a:solidFill>
                <a:srgbClr val="3f3f3f"/>
              </a:solidFill>
              <a:latin typeface="Roboto"/>
            </a:endParaRPr>
          </a:p>
        </p:txBody>
      </p:sp>
      <p:sp>
        <p:nvSpPr>
          <p:cNvPr id="1235" name="TextBox 44"/>
          <p:cNvSpPr/>
          <p:nvPr/>
        </p:nvSpPr>
        <p:spPr>
          <a:xfrm>
            <a:off x="1442880" y="1481040"/>
            <a:ext cx="438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MARKETING TEAM</a:t>
            </a:r>
            <a:endParaRPr b="0" lang="en-US" sz="3200" spc="-1" strike="noStrike">
              <a:solidFill>
                <a:srgbClr val="3f3f3f"/>
              </a:solidFill>
              <a:latin typeface="Roboto"/>
            </a:endParaRPr>
          </a:p>
        </p:txBody>
      </p:sp>
      <p:pic>
        <p:nvPicPr>
          <p:cNvPr id="1236" name="TextBox 45" descr=""/>
          <p:cNvPicPr/>
          <p:nvPr/>
        </p:nvPicPr>
        <p:blipFill>
          <a:blip r:embed="rId3"/>
          <a:stretch/>
        </p:blipFill>
        <p:spPr>
          <a:xfrm>
            <a:off x="1444680" y="1957320"/>
            <a:ext cx="2743200" cy="35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7" name="Group 1"/>
          <p:cNvGrpSpPr/>
          <p:nvPr/>
        </p:nvGrpSpPr>
        <p:grpSpPr>
          <a:xfrm>
            <a:off x="587520" y="552600"/>
            <a:ext cx="631800" cy="325080"/>
            <a:chOff x="587520" y="552600"/>
            <a:chExt cx="631800" cy="325080"/>
          </a:xfrm>
        </p:grpSpPr>
        <p:sp>
          <p:nvSpPr>
            <p:cNvPr id="1238" name="Isosceles Triangle 2"/>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39" name="Isosceles Triangle 3"/>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40" name="Rectangle 4"/>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41" name="Rectangle 5"/>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242" name="TextBox 6" descr=""/>
          <p:cNvPicPr/>
          <p:nvPr/>
        </p:nvPicPr>
        <p:blipFill>
          <a:blip r:embed="rId1"/>
          <a:stretch/>
        </p:blipFill>
        <p:spPr>
          <a:xfrm>
            <a:off x="506520" y="5888160"/>
            <a:ext cx="547560" cy="500040"/>
          </a:xfrm>
          <a:prstGeom prst="rect">
            <a:avLst/>
          </a:prstGeom>
          <a:ln w="0">
            <a:noFill/>
          </a:ln>
        </p:spPr>
      </p:pic>
      <p:pic>
        <p:nvPicPr>
          <p:cNvPr id="1243" name="TextBox 7" descr=""/>
          <p:cNvPicPr/>
          <p:nvPr/>
        </p:nvPicPr>
        <p:blipFill>
          <a:blip r:embed="rId2"/>
          <a:stretch/>
        </p:blipFill>
        <p:spPr>
          <a:xfrm>
            <a:off x="927000" y="5888160"/>
            <a:ext cx="2565360" cy="500040"/>
          </a:xfrm>
          <a:prstGeom prst="rect">
            <a:avLst/>
          </a:prstGeom>
          <a:ln w="0">
            <a:noFill/>
          </a:ln>
        </p:spPr>
      </p:pic>
      <p:sp>
        <p:nvSpPr>
          <p:cNvPr id="1244" name="Rectangle 10"/>
          <p:cNvSpPr/>
          <p:nvPr/>
        </p:nvSpPr>
        <p:spPr>
          <a:xfrm>
            <a:off x="6048360" y="1652760"/>
            <a:ext cx="2557440" cy="27558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45" name="Rectangle 11"/>
          <p:cNvSpPr/>
          <p:nvPr/>
        </p:nvSpPr>
        <p:spPr>
          <a:xfrm>
            <a:off x="6048360" y="1077840"/>
            <a:ext cx="2557440" cy="80820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46" name="Rectangle 12"/>
          <p:cNvSpPr/>
          <p:nvPr/>
        </p:nvSpPr>
        <p:spPr>
          <a:xfrm>
            <a:off x="6292800" y="1123920"/>
            <a:ext cx="2067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2000" spc="-1" strike="noStrike">
                <a:solidFill>
                  <a:srgbClr val="f9f9f9"/>
                </a:solidFill>
                <a:latin typeface="Roboto"/>
              </a:rPr>
              <a:t>Silver Pack</a:t>
            </a:r>
            <a:endParaRPr b="0" lang="en-US" sz="2000" spc="-1" strike="noStrike">
              <a:solidFill>
                <a:srgbClr val="3f3f3f"/>
              </a:solidFill>
              <a:latin typeface="Roboto"/>
            </a:endParaRPr>
          </a:p>
        </p:txBody>
      </p:sp>
      <p:sp>
        <p:nvSpPr>
          <p:cNvPr id="1247" name="Rectangle 13"/>
          <p:cNvSpPr/>
          <p:nvPr/>
        </p:nvSpPr>
        <p:spPr>
          <a:xfrm>
            <a:off x="6707160" y="1457280"/>
            <a:ext cx="123840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9f9f9"/>
                </a:solidFill>
                <a:latin typeface="Roboto"/>
              </a:rPr>
              <a:t>Monthly Plan</a:t>
            </a:r>
            <a:endParaRPr b="0" lang="en-US" sz="1200" spc="-1" strike="noStrike">
              <a:solidFill>
                <a:srgbClr val="3f3f3f"/>
              </a:solidFill>
              <a:latin typeface="Roboto"/>
            </a:endParaRPr>
          </a:p>
        </p:txBody>
      </p:sp>
      <p:sp>
        <p:nvSpPr>
          <p:cNvPr id="1248" name="TextBox 15"/>
          <p:cNvSpPr/>
          <p:nvPr/>
        </p:nvSpPr>
        <p:spPr>
          <a:xfrm>
            <a:off x="6735240" y="2413080"/>
            <a:ext cx="1183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baseline="30000">
                <a:solidFill>
                  <a:srgbClr val="595959"/>
                </a:solidFill>
                <a:latin typeface="Roboto"/>
              </a:rPr>
              <a:t>$</a:t>
            </a:r>
            <a:r>
              <a:rPr b="1" lang="id-ID" sz="4000" spc="-1" strike="noStrike">
                <a:solidFill>
                  <a:srgbClr val="595959"/>
                </a:solidFill>
                <a:latin typeface="Roboto"/>
              </a:rPr>
              <a:t>2</a:t>
            </a:r>
            <a:r>
              <a:rPr b="1" lang="en-US" sz="4000" spc="-1" strike="noStrike">
                <a:solidFill>
                  <a:srgbClr val="595959"/>
                </a:solidFill>
                <a:latin typeface="Roboto"/>
              </a:rPr>
              <a:t>99</a:t>
            </a:r>
            <a:endParaRPr b="0" lang="en-US" sz="4000" spc="-1" strike="noStrike">
              <a:solidFill>
                <a:srgbClr val="3f3f3f"/>
              </a:solidFill>
              <a:latin typeface="Roboto"/>
            </a:endParaRPr>
          </a:p>
        </p:txBody>
      </p:sp>
      <p:sp>
        <p:nvSpPr>
          <p:cNvPr id="1249" name="Rectangle 16"/>
          <p:cNvSpPr/>
          <p:nvPr/>
        </p:nvSpPr>
        <p:spPr>
          <a:xfrm>
            <a:off x="6048360" y="3075120"/>
            <a:ext cx="25574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646464"/>
                </a:solidFill>
                <a:latin typeface="Roboto"/>
              </a:rPr>
              <a:t>Lorem ipsum dolor sit amet, cons</a:t>
            </a:r>
            <a:endParaRPr b="0" lang="en-US" sz="1000" spc="-1" strike="noStrike">
              <a:solidFill>
                <a:srgbClr val="3f3f3f"/>
              </a:solidFill>
              <a:latin typeface="Roboto"/>
            </a:endParaRPr>
          </a:p>
        </p:txBody>
      </p:sp>
      <p:sp>
        <p:nvSpPr>
          <p:cNvPr id="1250" name="Rectangle 17"/>
          <p:cNvSpPr/>
          <p:nvPr/>
        </p:nvSpPr>
        <p:spPr>
          <a:xfrm>
            <a:off x="6048360" y="3409920"/>
            <a:ext cx="25574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646464"/>
                </a:solidFill>
                <a:latin typeface="Roboto"/>
              </a:rPr>
              <a:t>Lorem ipsum dolor sit amet, cons</a:t>
            </a:r>
            <a:endParaRPr b="0" lang="en-US" sz="1000" spc="-1" strike="noStrike">
              <a:solidFill>
                <a:srgbClr val="3f3f3f"/>
              </a:solidFill>
              <a:latin typeface="Roboto"/>
            </a:endParaRPr>
          </a:p>
        </p:txBody>
      </p:sp>
      <p:sp>
        <p:nvSpPr>
          <p:cNvPr id="1251" name="Rectangle 18"/>
          <p:cNvSpPr/>
          <p:nvPr/>
        </p:nvSpPr>
        <p:spPr>
          <a:xfrm>
            <a:off x="6611760" y="2006640"/>
            <a:ext cx="142884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800" spc="-1" strike="noStrike">
                <a:solidFill>
                  <a:srgbClr val="595959"/>
                </a:solidFill>
                <a:latin typeface="Roboto"/>
              </a:rPr>
              <a:t>Start From</a:t>
            </a:r>
            <a:endParaRPr b="0" lang="en-US" sz="1800" spc="-1" strike="noStrike">
              <a:solidFill>
                <a:srgbClr val="3f3f3f"/>
              </a:solidFill>
              <a:latin typeface="Roboto"/>
            </a:endParaRPr>
          </a:p>
        </p:txBody>
      </p:sp>
      <p:sp>
        <p:nvSpPr>
          <p:cNvPr id="1252" name="Rectangle 19"/>
          <p:cNvSpPr/>
          <p:nvPr/>
        </p:nvSpPr>
        <p:spPr>
          <a:xfrm>
            <a:off x="6800760" y="3889440"/>
            <a:ext cx="1052640" cy="24120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9f9f9"/>
                </a:solidFill>
                <a:latin typeface="Roboto"/>
              </a:rPr>
              <a:t>Get It Now</a:t>
            </a:r>
            <a:endParaRPr b="0" lang="en-US" sz="1000" spc="-1" strike="noStrike">
              <a:solidFill>
                <a:srgbClr val="3f3f3f"/>
              </a:solidFill>
              <a:latin typeface="Roboto"/>
            </a:endParaRPr>
          </a:p>
        </p:txBody>
      </p:sp>
      <p:sp>
        <p:nvSpPr>
          <p:cNvPr id="1253" name="Rectangle 47"/>
          <p:cNvSpPr/>
          <p:nvPr/>
        </p:nvSpPr>
        <p:spPr>
          <a:xfrm>
            <a:off x="9013680" y="1652760"/>
            <a:ext cx="2557440" cy="27558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54" name="Rectangle 48"/>
          <p:cNvSpPr/>
          <p:nvPr/>
        </p:nvSpPr>
        <p:spPr>
          <a:xfrm>
            <a:off x="9013680" y="1077840"/>
            <a:ext cx="2557440" cy="80820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55" name="Rectangle 49"/>
          <p:cNvSpPr/>
          <p:nvPr/>
        </p:nvSpPr>
        <p:spPr>
          <a:xfrm>
            <a:off x="9258480" y="1123920"/>
            <a:ext cx="2068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2000" spc="-1" strike="noStrike">
                <a:solidFill>
                  <a:srgbClr val="f9f9f9"/>
                </a:solidFill>
                <a:latin typeface="Roboto"/>
              </a:rPr>
              <a:t>Gold Pack</a:t>
            </a:r>
            <a:endParaRPr b="0" lang="en-US" sz="2000" spc="-1" strike="noStrike">
              <a:solidFill>
                <a:srgbClr val="3f3f3f"/>
              </a:solidFill>
              <a:latin typeface="Roboto"/>
            </a:endParaRPr>
          </a:p>
        </p:txBody>
      </p:sp>
      <p:sp>
        <p:nvSpPr>
          <p:cNvPr id="1256" name="Rectangle 50"/>
          <p:cNvSpPr/>
          <p:nvPr/>
        </p:nvSpPr>
        <p:spPr>
          <a:xfrm>
            <a:off x="9674280" y="1457280"/>
            <a:ext cx="123804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9f9f9"/>
                </a:solidFill>
                <a:latin typeface="Roboto"/>
              </a:rPr>
              <a:t>Monthly Plan</a:t>
            </a:r>
            <a:endParaRPr b="0" lang="en-US" sz="1200" spc="-1" strike="noStrike">
              <a:solidFill>
                <a:srgbClr val="3f3f3f"/>
              </a:solidFill>
              <a:latin typeface="Roboto"/>
            </a:endParaRPr>
          </a:p>
        </p:txBody>
      </p:sp>
      <p:sp>
        <p:nvSpPr>
          <p:cNvPr id="1257" name="TextBox 51"/>
          <p:cNvSpPr/>
          <p:nvPr/>
        </p:nvSpPr>
        <p:spPr>
          <a:xfrm>
            <a:off x="9700560" y="2413080"/>
            <a:ext cx="1183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baseline="30000">
                <a:solidFill>
                  <a:srgbClr val="595959"/>
                </a:solidFill>
                <a:latin typeface="Roboto"/>
              </a:rPr>
              <a:t>$</a:t>
            </a:r>
            <a:r>
              <a:rPr b="1" lang="id-ID" sz="4000" spc="-1" strike="noStrike">
                <a:solidFill>
                  <a:srgbClr val="595959"/>
                </a:solidFill>
                <a:latin typeface="Roboto"/>
              </a:rPr>
              <a:t>5</a:t>
            </a:r>
            <a:r>
              <a:rPr b="1" lang="en-US" sz="4000" spc="-1" strike="noStrike">
                <a:solidFill>
                  <a:srgbClr val="595959"/>
                </a:solidFill>
                <a:latin typeface="Roboto"/>
              </a:rPr>
              <a:t>99</a:t>
            </a:r>
            <a:endParaRPr b="0" lang="en-US" sz="4000" spc="-1" strike="noStrike">
              <a:solidFill>
                <a:srgbClr val="3f3f3f"/>
              </a:solidFill>
              <a:latin typeface="Roboto"/>
            </a:endParaRPr>
          </a:p>
        </p:txBody>
      </p:sp>
      <p:sp>
        <p:nvSpPr>
          <p:cNvPr id="1258" name="Rectangle 52"/>
          <p:cNvSpPr/>
          <p:nvPr/>
        </p:nvSpPr>
        <p:spPr>
          <a:xfrm>
            <a:off x="9013680" y="3075120"/>
            <a:ext cx="25574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646464"/>
                </a:solidFill>
                <a:latin typeface="Roboto"/>
              </a:rPr>
              <a:t>Lorem ipsum dolor sit amet, cons</a:t>
            </a:r>
            <a:endParaRPr b="0" lang="en-US" sz="1000" spc="-1" strike="noStrike">
              <a:solidFill>
                <a:srgbClr val="3f3f3f"/>
              </a:solidFill>
              <a:latin typeface="Roboto"/>
            </a:endParaRPr>
          </a:p>
        </p:txBody>
      </p:sp>
      <p:sp>
        <p:nvSpPr>
          <p:cNvPr id="1259" name="Rectangle 53"/>
          <p:cNvSpPr/>
          <p:nvPr/>
        </p:nvSpPr>
        <p:spPr>
          <a:xfrm>
            <a:off x="9013680" y="3409920"/>
            <a:ext cx="25574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646464"/>
                </a:solidFill>
                <a:latin typeface="Roboto"/>
              </a:rPr>
              <a:t>Lorem ipsum dolor sit amet, cons</a:t>
            </a:r>
            <a:endParaRPr b="0" lang="en-US" sz="1000" spc="-1" strike="noStrike">
              <a:solidFill>
                <a:srgbClr val="3f3f3f"/>
              </a:solidFill>
              <a:latin typeface="Roboto"/>
            </a:endParaRPr>
          </a:p>
        </p:txBody>
      </p:sp>
      <p:sp>
        <p:nvSpPr>
          <p:cNvPr id="1260" name="Rectangle 54"/>
          <p:cNvSpPr/>
          <p:nvPr/>
        </p:nvSpPr>
        <p:spPr>
          <a:xfrm>
            <a:off x="9577440" y="2006640"/>
            <a:ext cx="14302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800" spc="-1" strike="noStrike">
                <a:solidFill>
                  <a:srgbClr val="595959"/>
                </a:solidFill>
                <a:latin typeface="Roboto"/>
              </a:rPr>
              <a:t>Start From</a:t>
            </a:r>
            <a:endParaRPr b="0" lang="en-US" sz="1800" spc="-1" strike="noStrike">
              <a:solidFill>
                <a:srgbClr val="3f3f3f"/>
              </a:solidFill>
              <a:latin typeface="Roboto"/>
            </a:endParaRPr>
          </a:p>
        </p:txBody>
      </p:sp>
      <p:sp>
        <p:nvSpPr>
          <p:cNvPr id="1261" name="Rectangle 55"/>
          <p:cNvSpPr/>
          <p:nvPr/>
        </p:nvSpPr>
        <p:spPr>
          <a:xfrm>
            <a:off x="9766440" y="3889440"/>
            <a:ext cx="1052280" cy="24120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f9f9f9"/>
                </a:solidFill>
                <a:latin typeface="Roboto"/>
              </a:rPr>
              <a:t>Get It Now</a:t>
            </a:r>
            <a:endParaRPr b="0" lang="en-US" sz="1000" spc="-1" strike="noStrike">
              <a:solidFill>
                <a:srgbClr val="3f3f3f"/>
              </a:solidFill>
              <a:latin typeface="Roboto"/>
            </a:endParaRPr>
          </a:p>
        </p:txBody>
      </p:sp>
      <p:sp>
        <p:nvSpPr>
          <p:cNvPr id="1262" name="TextBox 58"/>
          <p:cNvSpPr/>
          <p:nvPr/>
        </p:nvSpPr>
        <p:spPr>
          <a:xfrm>
            <a:off x="1433520" y="1492200"/>
            <a:ext cx="416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PRICING TABLES</a:t>
            </a:r>
            <a:endParaRPr b="0" lang="en-US" sz="3200" spc="-1" strike="noStrike">
              <a:solidFill>
                <a:srgbClr val="3f3f3f"/>
              </a:solidFill>
              <a:latin typeface="Roboto"/>
            </a:endParaRPr>
          </a:p>
        </p:txBody>
      </p:sp>
      <p:sp>
        <p:nvSpPr>
          <p:cNvPr id="1263" name="TextBox 59"/>
          <p:cNvSpPr/>
          <p:nvPr/>
        </p:nvSpPr>
        <p:spPr>
          <a:xfrm>
            <a:off x="1447920" y="3070080"/>
            <a:ext cx="41529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 Rutrum tellus pellentesque eu tincidunt tortor</a:t>
            </a:r>
            <a:endParaRPr b="0" lang="en-US" sz="1100" spc="-1" strike="noStrike">
              <a:solidFill>
                <a:srgbClr val="3f3f3f"/>
              </a:solidFill>
              <a:latin typeface="Roboto"/>
            </a:endParaRPr>
          </a:p>
        </p:txBody>
      </p:sp>
      <p:sp>
        <p:nvSpPr>
          <p:cNvPr id="1264" name="TextBox 60"/>
          <p:cNvSpPr/>
          <p:nvPr/>
        </p:nvSpPr>
        <p:spPr>
          <a:xfrm>
            <a:off x="1447920" y="4414680"/>
            <a:ext cx="41529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pic>
        <p:nvPicPr>
          <p:cNvPr id="1265" name="TextBox 61" descr=""/>
          <p:cNvPicPr/>
          <p:nvPr/>
        </p:nvPicPr>
        <p:blipFill>
          <a:blip r:embed="rId3"/>
          <a:stretch/>
        </p:blipFill>
        <p:spPr>
          <a:xfrm>
            <a:off x="1432080" y="1968480"/>
            <a:ext cx="2743200" cy="36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6" name="Group 12"/>
          <p:cNvGrpSpPr/>
          <p:nvPr/>
        </p:nvGrpSpPr>
        <p:grpSpPr>
          <a:xfrm>
            <a:off x="587520" y="552600"/>
            <a:ext cx="631800" cy="325080"/>
            <a:chOff x="587520" y="552600"/>
            <a:chExt cx="631800" cy="325080"/>
          </a:xfrm>
        </p:grpSpPr>
        <p:sp>
          <p:nvSpPr>
            <p:cNvPr id="1267" name="Isosceles Triangle 13"/>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68" name="Isosceles Triangle 14"/>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69" name="Rectangle 15"/>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70" name="Rectangle 16"/>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271" name="TextBox 17" descr=""/>
          <p:cNvPicPr/>
          <p:nvPr/>
        </p:nvPicPr>
        <p:blipFill>
          <a:blip r:embed="rId1"/>
          <a:stretch/>
        </p:blipFill>
        <p:spPr>
          <a:xfrm>
            <a:off x="506520" y="5888160"/>
            <a:ext cx="536400" cy="500040"/>
          </a:xfrm>
          <a:prstGeom prst="rect">
            <a:avLst/>
          </a:prstGeom>
          <a:ln w="0">
            <a:noFill/>
          </a:ln>
        </p:spPr>
      </p:pic>
      <p:pic>
        <p:nvPicPr>
          <p:cNvPr id="1272" name="TextBox 18" descr=""/>
          <p:cNvPicPr/>
          <p:nvPr/>
        </p:nvPicPr>
        <p:blipFill>
          <a:blip r:embed="rId2"/>
          <a:stretch/>
        </p:blipFill>
        <p:spPr>
          <a:xfrm>
            <a:off x="927000" y="5888160"/>
            <a:ext cx="2565360" cy="500040"/>
          </a:xfrm>
          <a:prstGeom prst="rect">
            <a:avLst/>
          </a:prstGeom>
          <a:ln w="0">
            <a:noFill/>
          </a:ln>
        </p:spPr>
      </p:pic>
      <p:sp>
        <p:nvSpPr>
          <p:cNvPr id="1273" name="TextBox 20"/>
          <p:cNvSpPr/>
          <p:nvPr/>
        </p:nvSpPr>
        <p:spPr>
          <a:xfrm>
            <a:off x="1433520" y="1506600"/>
            <a:ext cx="450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CREATIVE ART</a:t>
            </a:r>
            <a:endParaRPr b="0" lang="en-US" sz="3200" spc="-1" strike="noStrike">
              <a:solidFill>
                <a:srgbClr val="3f3f3f"/>
              </a:solidFill>
              <a:latin typeface="Roboto"/>
            </a:endParaRPr>
          </a:p>
        </p:txBody>
      </p:sp>
      <p:pic>
        <p:nvPicPr>
          <p:cNvPr id="1274" name="TextBox 21" descr=""/>
          <p:cNvPicPr/>
          <p:nvPr/>
        </p:nvPicPr>
        <p:blipFill>
          <a:blip r:embed="rId3"/>
          <a:stretch/>
        </p:blipFill>
        <p:spPr>
          <a:xfrm>
            <a:off x="1432080" y="1981080"/>
            <a:ext cx="2743200" cy="360360"/>
          </a:xfrm>
          <a:prstGeom prst="rect">
            <a:avLst/>
          </a:prstGeom>
          <a:ln w="0">
            <a:noFill/>
          </a:ln>
        </p:spPr>
      </p:pic>
      <p:sp>
        <p:nvSpPr>
          <p:cNvPr id="1275" name="TextBox 22"/>
          <p:cNvSpPr/>
          <p:nvPr/>
        </p:nvSpPr>
        <p:spPr>
          <a:xfrm>
            <a:off x="1447920" y="3294000"/>
            <a:ext cx="4340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 Rutrum tellus pellentesque eu tincidunt tortor</a:t>
            </a:r>
            <a:endParaRPr b="0" lang="en-US" sz="1100" spc="-1" strike="noStrike">
              <a:solidFill>
                <a:srgbClr val="3f3f3f"/>
              </a:solidFill>
              <a:latin typeface="Roboto"/>
            </a:endParaRPr>
          </a:p>
        </p:txBody>
      </p:sp>
      <p:sp>
        <p:nvSpPr>
          <p:cNvPr id="1276" name="TextBox 23"/>
          <p:cNvSpPr/>
          <p:nvPr/>
        </p:nvSpPr>
        <p:spPr>
          <a:xfrm>
            <a:off x="1415880" y="5027760"/>
            <a:ext cx="2475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otal Achievement</a:t>
            </a:r>
            <a:endParaRPr b="0" lang="en-US" sz="1600" spc="-1" strike="noStrike">
              <a:solidFill>
                <a:srgbClr val="3f3f3f"/>
              </a:solidFill>
              <a:latin typeface="Roboto"/>
            </a:endParaRPr>
          </a:p>
        </p:txBody>
      </p:sp>
      <p:sp>
        <p:nvSpPr>
          <p:cNvPr id="1277" name="TextBox 24"/>
          <p:cNvSpPr/>
          <p:nvPr/>
        </p:nvSpPr>
        <p:spPr>
          <a:xfrm>
            <a:off x="1415880" y="4486320"/>
            <a:ext cx="2475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800" spc="-1" strike="noStrike">
                <a:solidFill>
                  <a:srgbClr val="595959"/>
                </a:solidFill>
                <a:latin typeface="Roboto"/>
                <a:ea typeface="Times New Roman"/>
              </a:rPr>
              <a:t>502+</a:t>
            </a:r>
            <a:endParaRPr b="0" lang="en-US" sz="2800" spc="-1" strike="noStrike">
              <a:solidFill>
                <a:srgbClr val="3f3f3f"/>
              </a:solidFill>
              <a:latin typeface="Roboto"/>
            </a:endParaRPr>
          </a:p>
        </p:txBody>
      </p:sp>
      <p:sp>
        <p:nvSpPr>
          <p:cNvPr id="1278" name="TextBox 25"/>
          <p:cNvSpPr/>
          <p:nvPr/>
        </p:nvSpPr>
        <p:spPr>
          <a:xfrm>
            <a:off x="7234200" y="5156280"/>
            <a:ext cx="23115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 ectetur adipiscing elit, sed do eius mod tempor incididun</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9" name="Group 7"/>
          <p:cNvGrpSpPr/>
          <p:nvPr/>
        </p:nvGrpSpPr>
        <p:grpSpPr>
          <a:xfrm>
            <a:off x="10961640" y="552600"/>
            <a:ext cx="631800" cy="325080"/>
            <a:chOff x="10961640" y="552600"/>
            <a:chExt cx="631800" cy="325080"/>
          </a:xfrm>
        </p:grpSpPr>
        <p:sp>
          <p:nvSpPr>
            <p:cNvPr id="1280" name="Isosceles Triangle 8"/>
            <p:cNvSpPr/>
            <p:nvPr/>
          </p:nvSpPr>
          <p:spPr>
            <a:xfrm>
              <a:off x="1102500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81" name="Isosceles Triangle 9"/>
            <p:cNvSpPr/>
            <p:nvPr/>
          </p:nvSpPr>
          <p:spPr>
            <a:xfrm flipV="1">
              <a:off x="1124136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82" name="Rectangle 10"/>
            <p:cNvSpPr/>
            <p:nvPr/>
          </p:nvSpPr>
          <p:spPr>
            <a:xfrm>
              <a:off x="1096164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83" name="Rectangle 11"/>
            <p:cNvSpPr/>
            <p:nvPr/>
          </p:nvSpPr>
          <p:spPr>
            <a:xfrm>
              <a:off x="1115028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284" name="TextBox 12" descr=""/>
          <p:cNvPicPr/>
          <p:nvPr/>
        </p:nvPicPr>
        <p:blipFill>
          <a:blip r:embed="rId1"/>
          <a:stretch/>
        </p:blipFill>
        <p:spPr>
          <a:xfrm>
            <a:off x="8766000" y="5888160"/>
            <a:ext cx="536760" cy="500040"/>
          </a:xfrm>
          <a:prstGeom prst="rect">
            <a:avLst/>
          </a:prstGeom>
          <a:ln w="0">
            <a:noFill/>
          </a:ln>
        </p:spPr>
      </p:pic>
      <p:pic>
        <p:nvPicPr>
          <p:cNvPr id="1285" name="TextBox 13" descr=""/>
          <p:cNvPicPr/>
          <p:nvPr/>
        </p:nvPicPr>
        <p:blipFill>
          <a:blip r:embed="rId2"/>
          <a:stretch/>
        </p:blipFill>
        <p:spPr>
          <a:xfrm>
            <a:off x="9186840" y="5888160"/>
            <a:ext cx="2567160" cy="500040"/>
          </a:xfrm>
          <a:prstGeom prst="rect">
            <a:avLst/>
          </a:prstGeom>
          <a:ln w="0">
            <a:noFill/>
          </a:ln>
        </p:spPr>
      </p:pic>
      <p:sp>
        <p:nvSpPr>
          <p:cNvPr id="1286" name="TextBox 14"/>
          <p:cNvSpPr/>
          <p:nvPr/>
        </p:nvSpPr>
        <p:spPr>
          <a:xfrm>
            <a:off x="6566040" y="1506600"/>
            <a:ext cx="418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OUT OF THE BOX</a:t>
            </a:r>
            <a:endParaRPr b="0" lang="en-US" sz="3200" spc="-1" strike="noStrike">
              <a:solidFill>
                <a:srgbClr val="3f3f3f"/>
              </a:solidFill>
              <a:latin typeface="Roboto"/>
            </a:endParaRPr>
          </a:p>
        </p:txBody>
      </p:sp>
      <p:pic>
        <p:nvPicPr>
          <p:cNvPr id="1287" name="TextBox 15" descr=""/>
          <p:cNvPicPr/>
          <p:nvPr/>
        </p:nvPicPr>
        <p:blipFill>
          <a:blip r:embed="rId3"/>
          <a:stretch/>
        </p:blipFill>
        <p:spPr>
          <a:xfrm>
            <a:off x="6566040" y="1981080"/>
            <a:ext cx="2743200" cy="360360"/>
          </a:xfrm>
          <a:prstGeom prst="rect">
            <a:avLst/>
          </a:prstGeom>
          <a:ln w="0">
            <a:noFill/>
          </a:ln>
        </p:spPr>
      </p:pic>
      <p:sp>
        <p:nvSpPr>
          <p:cNvPr id="1288" name="TextBox 16"/>
          <p:cNvSpPr/>
          <p:nvPr/>
        </p:nvSpPr>
        <p:spPr>
          <a:xfrm>
            <a:off x="6581880" y="3063960"/>
            <a:ext cx="41702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289" name="TextBox 17"/>
          <p:cNvSpPr/>
          <p:nvPr/>
        </p:nvSpPr>
        <p:spPr>
          <a:xfrm>
            <a:off x="6566040" y="2685960"/>
            <a:ext cx="2736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Always Creative Thinking</a:t>
            </a:r>
            <a:endParaRPr b="0" lang="en-US" sz="1600" spc="-1" strike="noStrike">
              <a:solidFill>
                <a:srgbClr val="3f3f3f"/>
              </a:solidFill>
              <a:latin typeface="Roboto"/>
            </a:endParaRPr>
          </a:p>
        </p:txBody>
      </p:sp>
      <p:sp>
        <p:nvSpPr>
          <p:cNvPr id="1290" name="TextBox 18"/>
          <p:cNvSpPr/>
          <p:nvPr/>
        </p:nvSpPr>
        <p:spPr>
          <a:xfrm>
            <a:off x="6581880" y="4495680"/>
            <a:ext cx="41702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291" name="TextBox 19"/>
          <p:cNvSpPr/>
          <p:nvPr/>
        </p:nvSpPr>
        <p:spPr>
          <a:xfrm>
            <a:off x="6566040" y="4118040"/>
            <a:ext cx="24732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More Effort For Future</a:t>
            </a:r>
            <a:endParaRPr b="0" lang="en-US" sz="1600" spc="-1" strike="noStrike">
              <a:solidFill>
                <a:srgbClr val="3f3f3f"/>
              </a:solidFill>
              <a:latin typeface="Roboto"/>
            </a:endParaRPr>
          </a:p>
        </p:txBody>
      </p:sp>
      <p:sp>
        <p:nvSpPr>
          <p:cNvPr id="1292" name="TextBox 21"/>
          <p:cNvSpPr/>
          <p:nvPr/>
        </p:nvSpPr>
        <p:spPr>
          <a:xfrm>
            <a:off x="1447920" y="4545000"/>
            <a:ext cx="340344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3" name="Group 5"/>
          <p:cNvGrpSpPr/>
          <p:nvPr/>
        </p:nvGrpSpPr>
        <p:grpSpPr>
          <a:xfrm>
            <a:off x="587520" y="552600"/>
            <a:ext cx="631800" cy="325080"/>
            <a:chOff x="587520" y="552600"/>
            <a:chExt cx="631800" cy="325080"/>
          </a:xfrm>
        </p:grpSpPr>
        <p:sp>
          <p:nvSpPr>
            <p:cNvPr id="1294" name="Isosceles Triangle 6"/>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95" name="Isosceles Triangle 7"/>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96" name="Rectangle 8"/>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297" name="Rectangle 9"/>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298" name="TextBox 10" descr=""/>
          <p:cNvPicPr/>
          <p:nvPr/>
        </p:nvPicPr>
        <p:blipFill>
          <a:blip r:embed="rId1"/>
          <a:stretch/>
        </p:blipFill>
        <p:spPr>
          <a:xfrm>
            <a:off x="506520" y="5888160"/>
            <a:ext cx="536400" cy="500040"/>
          </a:xfrm>
          <a:prstGeom prst="rect">
            <a:avLst/>
          </a:prstGeom>
          <a:ln w="0">
            <a:noFill/>
          </a:ln>
        </p:spPr>
      </p:pic>
      <p:pic>
        <p:nvPicPr>
          <p:cNvPr id="1299" name="TextBox 11" descr=""/>
          <p:cNvPicPr/>
          <p:nvPr/>
        </p:nvPicPr>
        <p:blipFill>
          <a:blip r:embed="rId2"/>
          <a:stretch/>
        </p:blipFill>
        <p:spPr>
          <a:xfrm>
            <a:off x="927000" y="5888160"/>
            <a:ext cx="2565360" cy="500040"/>
          </a:xfrm>
          <a:prstGeom prst="rect">
            <a:avLst/>
          </a:prstGeom>
          <a:ln w="0">
            <a:noFill/>
          </a:ln>
        </p:spPr>
      </p:pic>
      <p:sp>
        <p:nvSpPr>
          <p:cNvPr id="1300" name="TextBox 12"/>
          <p:cNvSpPr/>
          <p:nvPr/>
        </p:nvSpPr>
        <p:spPr>
          <a:xfrm>
            <a:off x="1433520" y="1427040"/>
            <a:ext cx="435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FUTURISTIC STYLE</a:t>
            </a:r>
            <a:endParaRPr b="0" lang="en-US" sz="3200" spc="-1" strike="noStrike">
              <a:solidFill>
                <a:srgbClr val="3f3f3f"/>
              </a:solidFill>
              <a:latin typeface="Roboto"/>
            </a:endParaRPr>
          </a:p>
        </p:txBody>
      </p:sp>
      <p:pic>
        <p:nvPicPr>
          <p:cNvPr id="1301" name="TextBox 13" descr=""/>
          <p:cNvPicPr/>
          <p:nvPr/>
        </p:nvPicPr>
        <p:blipFill>
          <a:blip r:embed="rId3"/>
          <a:stretch/>
        </p:blipFill>
        <p:spPr>
          <a:xfrm>
            <a:off x="1432080" y="1901880"/>
            <a:ext cx="2743200" cy="360360"/>
          </a:xfrm>
          <a:prstGeom prst="rect">
            <a:avLst/>
          </a:prstGeom>
          <a:ln w="0">
            <a:noFill/>
          </a:ln>
        </p:spPr>
      </p:pic>
      <p:sp>
        <p:nvSpPr>
          <p:cNvPr id="1302" name="TextBox 15"/>
          <p:cNvSpPr/>
          <p:nvPr/>
        </p:nvSpPr>
        <p:spPr>
          <a:xfrm>
            <a:off x="1447920" y="2644920"/>
            <a:ext cx="43401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303" name="TextBox 16"/>
          <p:cNvSpPr/>
          <p:nvPr/>
        </p:nvSpPr>
        <p:spPr>
          <a:xfrm>
            <a:off x="1433520" y="3643200"/>
            <a:ext cx="43387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304" name="TextBox 17"/>
          <p:cNvSpPr/>
          <p:nvPr/>
        </p:nvSpPr>
        <p:spPr>
          <a:xfrm>
            <a:off x="1447920" y="4643280"/>
            <a:ext cx="43401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5" name="Group 4"/>
          <p:cNvGrpSpPr/>
          <p:nvPr/>
        </p:nvGrpSpPr>
        <p:grpSpPr>
          <a:xfrm>
            <a:off x="10961640" y="552600"/>
            <a:ext cx="631800" cy="325080"/>
            <a:chOff x="10961640" y="552600"/>
            <a:chExt cx="631800" cy="325080"/>
          </a:xfrm>
        </p:grpSpPr>
        <p:sp>
          <p:nvSpPr>
            <p:cNvPr id="1306" name="Isosceles Triangle 5"/>
            <p:cNvSpPr/>
            <p:nvPr/>
          </p:nvSpPr>
          <p:spPr>
            <a:xfrm>
              <a:off x="1102500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07" name="Isosceles Triangle 6"/>
            <p:cNvSpPr/>
            <p:nvPr/>
          </p:nvSpPr>
          <p:spPr>
            <a:xfrm flipV="1">
              <a:off x="1124136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08" name="Rectangle 7"/>
            <p:cNvSpPr/>
            <p:nvPr/>
          </p:nvSpPr>
          <p:spPr>
            <a:xfrm>
              <a:off x="1096164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09" name="Rectangle 8"/>
            <p:cNvSpPr/>
            <p:nvPr/>
          </p:nvSpPr>
          <p:spPr>
            <a:xfrm>
              <a:off x="1115028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310" name="TextBox 9" descr=""/>
          <p:cNvPicPr/>
          <p:nvPr/>
        </p:nvPicPr>
        <p:blipFill>
          <a:blip r:embed="rId1"/>
          <a:stretch/>
        </p:blipFill>
        <p:spPr>
          <a:xfrm>
            <a:off x="8766000" y="5888160"/>
            <a:ext cx="543240" cy="500040"/>
          </a:xfrm>
          <a:prstGeom prst="rect">
            <a:avLst/>
          </a:prstGeom>
          <a:ln w="0">
            <a:noFill/>
          </a:ln>
        </p:spPr>
      </p:pic>
      <p:pic>
        <p:nvPicPr>
          <p:cNvPr id="1311" name="TextBox 10" descr=""/>
          <p:cNvPicPr/>
          <p:nvPr/>
        </p:nvPicPr>
        <p:blipFill>
          <a:blip r:embed="rId2"/>
          <a:stretch/>
        </p:blipFill>
        <p:spPr>
          <a:xfrm>
            <a:off x="9186840" y="5888160"/>
            <a:ext cx="2567160" cy="500040"/>
          </a:xfrm>
          <a:prstGeom prst="rect">
            <a:avLst/>
          </a:prstGeom>
          <a:ln w="0">
            <a:noFill/>
          </a:ln>
        </p:spPr>
      </p:pic>
      <p:sp>
        <p:nvSpPr>
          <p:cNvPr id="1312" name="TextBox 11"/>
          <p:cNvSpPr/>
          <p:nvPr/>
        </p:nvSpPr>
        <p:spPr>
          <a:xfrm>
            <a:off x="6566040" y="1506600"/>
            <a:ext cx="418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LATEST PROJECT</a:t>
            </a:r>
            <a:endParaRPr b="0" lang="en-US" sz="3200" spc="-1" strike="noStrike">
              <a:solidFill>
                <a:srgbClr val="3f3f3f"/>
              </a:solidFill>
              <a:latin typeface="Roboto"/>
            </a:endParaRPr>
          </a:p>
        </p:txBody>
      </p:sp>
      <p:pic>
        <p:nvPicPr>
          <p:cNvPr id="1313" name="TextBox 12" descr=""/>
          <p:cNvPicPr/>
          <p:nvPr/>
        </p:nvPicPr>
        <p:blipFill>
          <a:blip r:embed="rId3"/>
          <a:stretch/>
        </p:blipFill>
        <p:spPr>
          <a:xfrm>
            <a:off x="6566040" y="1981080"/>
            <a:ext cx="2743200" cy="360360"/>
          </a:xfrm>
          <a:prstGeom prst="rect">
            <a:avLst/>
          </a:prstGeom>
          <a:ln w="0">
            <a:noFill/>
          </a:ln>
        </p:spPr>
      </p:pic>
      <p:sp>
        <p:nvSpPr>
          <p:cNvPr id="1314" name="TextBox 13"/>
          <p:cNvSpPr/>
          <p:nvPr/>
        </p:nvSpPr>
        <p:spPr>
          <a:xfrm>
            <a:off x="6581880" y="3063960"/>
            <a:ext cx="41702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315" name="TextBox 14"/>
          <p:cNvSpPr/>
          <p:nvPr/>
        </p:nvSpPr>
        <p:spPr>
          <a:xfrm>
            <a:off x="6566040" y="2685960"/>
            <a:ext cx="273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Project, 25 Jan 2020</a:t>
            </a:r>
            <a:endParaRPr b="0" lang="en-US" sz="1600" spc="-1" strike="noStrike">
              <a:solidFill>
                <a:srgbClr val="3f3f3f"/>
              </a:solidFill>
              <a:latin typeface="Roboto"/>
            </a:endParaRPr>
          </a:p>
        </p:txBody>
      </p:sp>
      <p:sp>
        <p:nvSpPr>
          <p:cNvPr id="1316" name="TextBox 15"/>
          <p:cNvSpPr/>
          <p:nvPr/>
        </p:nvSpPr>
        <p:spPr>
          <a:xfrm>
            <a:off x="6581880" y="4495680"/>
            <a:ext cx="41702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317" name="TextBox 16"/>
          <p:cNvSpPr/>
          <p:nvPr/>
        </p:nvSpPr>
        <p:spPr>
          <a:xfrm>
            <a:off x="6566040" y="4118040"/>
            <a:ext cx="24732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Project, 01 Mar 2020</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8" name="Group 6"/>
          <p:cNvGrpSpPr/>
          <p:nvPr/>
        </p:nvGrpSpPr>
        <p:grpSpPr>
          <a:xfrm>
            <a:off x="587520" y="552600"/>
            <a:ext cx="631800" cy="325080"/>
            <a:chOff x="587520" y="552600"/>
            <a:chExt cx="631800" cy="325080"/>
          </a:xfrm>
        </p:grpSpPr>
        <p:sp>
          <p:nvSpPr>
            <p:cNvPr id="1319" name="Isosceles Triangle 7"/>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20" name="Isosceles Triangle 8"/>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21" name="Rectangle 9"/>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22" name="Rectangle 10"/>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323" name="TextBox 11" descr=""/>
          <p:cNvPicPr/>
          <p:nvPr/>
        </p:nvPicPr>
        <p:blipFill>
          <a:blip r:embed="rId1"/>
          <a:stretch/>
        </p:blipFill>
        <p:spPr>
          <a:xfrm>
            <a:off x="506520" y="5888160"/>
            <a:ext cx="536400" cy="500040"/>
          </a:xfrm>
          <a:prstGeom prst="rect">
            <a:avLst/>
          </a:prstGeom>
          <a:ln w="0">
            <a:noFill/>
          </a:ln>
        </p:spPr>
      </p:pic>
      <p:pic>
        <p:nvPicPr>
          <p:cNvPr id="1324" name="TextBox 12" descr=""/>
          <p:cNvPicPr/>
          <p:nvPr/>
        </p:nvPicPr>
        <p:blipFill>
          <a:blip r:embed="rId2"/>
          <a:stretch/>
        </p:blipFill>
        <p:spPr>
          <a:xfrm>
            <a:off x="927000" y="5888160"/>
            <a:ext cx="2565360" cy="500040"/>
          </a:xfrm>
          <a:prstGeom prst="rect">
            <a:avLst/>
          </a:prstGeom>
          <a:ln w="0">
            <a:noFill/>
          </a:ln>
        </p:spPr>
      </p:pic>
      <p:sp>
        <p:nvSpPr>
          <p:cNvPr id="1325" name="TextBox 13"/>
          <p:cNvSpPr/>
          <p:nvPr/>
        </p:nvSpPr>
        <p:spPr>
          <a:xfrm>
            <a:off x="1432080" y="1506600"/>
            <a:ext cx="466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NEWEST PROJECT</a:t>
            </a:r>
            <a:endParaRPr b="0" lang="en-US" sz="3200" spc="-1" strike="noStrike">
              <a:solidFill>
                <a:srgbClr val="3f3f3f"/>
              </a:solidFill>
              <a:latin typeface="Roboto"/>
            </a:endParaRPr>
          </a:p>
        </p:txBody>
      </p:sp>
      <p:pic>
        <p:nvPicPr>
          <p:cNvPr id="1326" name="TextBox 14" descr=""/>
          <p:cNvPicPr/>
          <p:nvPr/>
        </p:nvPicPr>
        <p:blipFill>
          <a:blip r:embed="rId3"/>
          <a:stretch/>
        </p:blipFill>
        <p:spPr>
          <a:xfrm>
            <a:off x="1432080" y="1981080"/>
            <a:ext cx="2743200" cy="360360"/>
          </a:xfrm>
          <a:prstGeom prst="rect">
            <a:avLst/>
          </a:prstGeom>
          <a:ln w="0">
            <a:noFill/>
          </a:ln>
        </p:spPr>
      </p:pic>
      <p:sp>
        <p:nvSpPr>
          <p:cNvPr id="1327" name="TextBox 15"/>
          <p:cNvSpPr/>
          <p:nvPr/>
        </p:nvSpPr>
        <p:spPr>
          <a:xfrm>
            <a:off x="1432080" y="3359160"/>
            <a:ext cx="25095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328" name="TextBox 16"/>
          <p:cNvSpPr/>
          <p:nvPr/>
        </p:nvSpPr>
        <p:spPr>
          <a:xfrm>
            <a:off x="1432080" y="3019320"/>
            <a:ext cx="21938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Project, 24 Jan 2020</a:t>
            </a:r>
            <a:endParaRPr b="0" lang="en-US" sz="1600" spc="-1" strike="noStrike">
              <a:solidFill>
                <a:srgbClr val="3f3f3f"/>
              </a:solidFill>
              <a:latin typeface="Roboto"/>
            </a:endParaRPr>
          </a:p>
        </p:txBody>
      </p:sp>
      <p:sp>
        <p:nvSpPr>
          <p:cNvPr id="1329" name="TextBox 17"/>
          <p:cNvSpPr/>
          <p:nvPr/>
        </p:nvSpPr>
        <p:spPr>
          <a:xfrm>
            <a:off x="4148280" y="3359160"/>
            <a:ext cx="25095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330" name="TextBox 18"/>
          <p:cNvSpPr/>
          <p:nvPr/>
        </p:nvSpPr>
        <p:spPr>
          <a:xfrm>
            <a:off x="4148280" y="3019320"/>
            <a:ext cx="21938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Project, 05 Feb 2020</a:t>
            </a:r>
            <a:endParaRPr b="0" lang="en-US" sz="1600" spc="-1" strike="noStrike">
              <a:solidFill>
                <a:srgbClr val="3f3f3f"/>
              </a:solidFill>
              <a:latin typeface="Roboto"/>
            </a:endParaRPr>
          </a:p>
        </p:txBody>
      </p:sp>
      <p:sp>
        <p:nvSpPr>
          <p:cNvPr id="1331" name="TextBox 19"/>
          <p:cNvSpPr/>
          <p:nvPr/>
        </p:nvSpPr>
        <p:spPr>
          <a:xfrm>
            <a:off x="1432080" y="4746600"/>
            <a:ext cx="25095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332" name="TextBox 20"/>
          <p:cNvSpPr/>
          <p:nvPr/>
        </p:nvSpPr>
        <p:spPr>
          <a:xfrm>
            <a:off x="1432080" y="4406760"/>
            <a:ext cx="21938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Project, 19 Mar 2020</a:t>
            </a:r>
            <a:endParaRPr b="0" lang="en-US" sz="1600" spc="-1" strike="noStrike">
              <a:solidFill>
                <a:srgbClr val="3f3f3f"/>
              </a:solidFill>
              <a:latin typeface="Roboto"/>
            </a:endParaRPr>
          </a:p>
        </p:txBody>
      </p:sp>
      <p:sp>
        <p:nvSpPr>
          <p:cNvPr id="1333" name="TextBox 21"/>
          <p:cNvSpPr/>
          <p:nvPr/>
        </p:nvSpPr>
        <p:spPr>
          <a:xfrm>
            <a:off x="4148280" y="4746600"/>
            <a:ext cx="25095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334" name="TextBox 22"/>
          <p:cNvSpPr/>
          <p:nvPr/>
        </p:nvSpPr>
        <p:spPr>
          <a:xfrm>
            <a:off x="4148280" y="4406760"/>
            <a:ext cx="21938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Project, 30 Jun 2020</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8" name="Group 13"/>
          <p:cNvGrpSpPr/>
          <p:nvPr/>
        </p:nvGrpSpPr>
        <p:grpSpPr>
          <a:xfrm>
            <a:off x="587520" y="552600"/>
            <a:ext cx="631800" cy="325080"/>
            <a:chOff x="587520" y="552600"/>
            <a:chExt cx="631800" cy="325080"/>
          </a:xfrm>
        </p:grpSpPr>
        <p:sp>
          <p:nvSpPr>
            <p:cNvPr id="1049" name="Isosceles Triangle 5"/>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50" name="Isosceles Triangle 9"/>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51" name="Rectangle 7"/>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52" name="Rectangle 10"/>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053" name="TextBox 15" descr=""/>
          <p:cNvPicPr/>
          <p:nvPr/>
        </p:nvPicPr>
        <p:blipFill>
          <a:blip r:embed="rId1"/>
          <a:stretch/>
        </p:blipFill>
        <p:spPr>
          <a:xfrm>
            <a:off x="506520" y="5888160"/>
            <a:ext cx="536400" cy="500040"/>
          </a:xfrm>
          <a:prstGeom prst="rect">
            <a:avLst/>
          </a:prstGeom>
          <a:ln w="0">
            <a:noFill/>
          </a:ln>
        </p:spPr>
      </p:pic>
      <p:pic>
        <p:nvPicPr>
          <p:cNvPr id="1054" name="TextBox 16" descr=""/>
          <p:cNvPicPr/>
          <p:nvPr/>
        </p:nvPicPr>
        <p:blipFill>
          <a:blip r:embed="rId2"/>
          <a:stretch/>
        </p:blipFill>
        <p:spPr>
          <a:xfrm>
            <a:off x="927000" y="5888160"/>
            <a:ext cx="2565360" cy="500040"/>
          </a:xfrm>
          <a:prstGeom prst="rect">
            <a:avLst/>
          </a:prstGeom>
          <a:ln w="0">
            <a:noFill/>
          </a:ln>
        </p:spPr>
      </p:pic>
      <p:sp>
        <p:nvSpPr>
          <p:cNvPr id="1055" name="TextBox 17"/>
          <p:cNvSpPr/>
          <p:nvPr/>
        </p:nvSpPr>
        <p:spPr>
          <a:xfrm>
            <a:off x="1433520" y="1587600"/>
            <a:ext cx="416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ABOUT ANTERRA</a:t>
            </a:r>
            <a:endParaRPr b="0" lang="en-US" sz="3200" spc="-1" strike="noStrike">
              <a:solidFill>
                <a:srgbClr val="3f3f3f"/>
              </a:solidFill>
              <a:latin typeface="Roboto"/>
            </a:endParaRPr>
          </a:p>
        </p:txBody>
      </p:sp>
      <p:sp>
        <p:nvSpPr>
          <p:cNvPr id="1056" name="TextBox 18"/>
          <p:cNvSpPr/>
          <p:nvPr/>
        </p:nvSpPr>
        <p:spPr>
          <a:xfrm>
            <a:off x="1447920" y="3390840"/>
            <a:ext cx="4340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 Rutrum tellus pellentesque eu tincidunt tortor</a:t>
            </a:r>
            <a:endParaRPr b="0" lang="en-US" sz="1100" spc="-1" strike="noStrike">
              <a:solidFill>
                <a:srgbClr val="3f3f3f"/>
              </a:solidFill>
              <a:latin typeface="Roboto"/>
            </a:endParaRPr>
          </a:p>
        </p:txBody>
      </p:sp>
      <p:sp>
        <p:nvSpPr>
          <p:cNvPr id="1057" name="TextBox 19"/>
          <p:cNvSpPr/>
          <p:nvPr/>
        </p:nvSpPr>
        <p:spPr>
          <a:xfrm>
            <a:off x="1447920" y="4735440"/>
            <a:ext cx="43401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pic>
        <p:nvPicPr>
          <p:cNvPr id="1058" name="TextBox 23" descr=""/>
          <p:cNvPicPr/>
          <p:nvPr/>
        </p:nvPicPr>
        <p:blipFill>
          <a:blip r:embed="rId3"/>
          <a:stretch/>
        </p:blipFill>
        <p:spPr>
          <a:xfrm>
            <a:off x="1432080" y="2060640"/>
            <a:ext cx="2743200" cy="358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TextBox 12"/>
          <p:cNvSpPr/>
          <p:nvPr/>
        </p:nvSpPr>
        <p:spPr>
          <a:xfrm>
            <a:off x="4541760" y="5478480"/>
            <a:ext cx="310824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 cing elit, sed do eiusmod tempor incidid unt ut labore et dolore magna aliqua</a:t>
            </a:r>
            <a:endParaRPr b="0" lang="en-US" sz="1100" spc="-1" strike="noStrike">
              <a:solidFill>
                <a:srgbClr val="3f3f3f"/>
              </a:solidFill>
              <a:latin typeface="Roboto"/>
            </a:endParaRPr>
          </a:p>
        </p:txBody>
      </p:sp>
      <p:sp>
        <p:nvSpPr>
          <p:cNvPr id="1336" name="TextBox 13"/>
          <p:cNvSpPr/>
          <p:nvPr/>
        </p:nvSpPr>
        <p:spPr>
          <a:xfrm>
            <a:off x="4998960" y="5140440"/>
            <a:ext cx="219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Gallery Two</a:t>
            </a:r>
            <a:endParaRPr b="0" lang="en-US" sz="1600" spc="-1" strike="noStrike">
              <a:solidFill>
                <a:srgbClr val="3f3f3f"/>
              </a:solidFill>
              <a:latin typeface="Roboto"/>
            </a:endParaRPr>
          </a:p>
        </p:txBody>
      </p:sp>
      <p:sp>
        <p:nvSpPr>
          <p:cNvPr id="1337" name="TextBox 15"/>
          <p:cNvSpPr/>
          <p:nvPr/>
        </p:nvSpPr>
        <p:spPr>
          <a:xfrm>
            <a:off x="8605800" y="5478480"/>
            <a:ext cx="310824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 cing elit, sed do eiusmod tempor incidid unt ut labore et dolore magna aliqua</a:t>
            </a:r>
            <a:endParaRPr b="0" lang="en-US" sz="1100" spc="-1" strike="noStrike">
              <a:solidFill>
                <a:srgbClr val="3f3f3f"/>
              </a:solidFill>
              <a:latin typeface="Roboto"/>
            </a:endParaRPr>
          </a:p>
        </p:txBody>
      </p:sp>
      <p:sp>
        <p:nvSpPr>
          <p:cNvPr id="1338" name="TextBox 16"/>
          <p:cNvSpPr/>
          <p:nvPr/>
        </p:nvSpPr>
        <p:spPr>
          <a:xfrm>
            <a:off x="9063000" y="5140440"/>
            <a:ext cx="2193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Gallery Three</a:t>
            </a:r>
            <a:endParaRPr b="0" lang="en-US" sz="1600" spc="-1" strike="noStrike">
              <a:solidFill>
                <a:srgbClr val="3f3f3f"/>
              </a:solidFill>
              <a:latin typeface="Roboto"/>
            </a:endParaRPr>
          </a:p>
        </p:txBody>
      </p:sp>
      <p:sp>
        <p:nvSpPr>
          <p:cNvPr id="1339" name="TextBox 8"/>
          <p:cNvSpPr/>
          <p:nvPr/>
        </p:nvSpPr>
        <p:spPr>
          <a:xfrm>
            <a:off x="477720" y="5478480"/>
            <a:ext cx="310860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 cing elit, sed do eiusmod tempor incidid unt ut labore et dolore magna aliqua</a:t>
            </a:r>
            <a:endParaRPr b="0" lang="en-US" sz="1100" spc="-1" strike="noStrike">
              <a:solidFill>
                <a:srgbClr val="3f3f3f"/>
              </a:solidFill>
              <a:latin typeface="Roboto"/>
            </a:endParaRPr>
          </a:p>
        </p:txBody>
      </p:sp>
      <p:sp>
        <p:nvSpPr>
          <p:cNvPr id="1340" name="TextBox 9"/>
          <p:cNvSpPr/>
          <p:nvPr/>
        </p:nvSpPr>
        <p:spPr>
          <a:xfrm>
            <a:off x="934920" y="5140440"/>
            <a:ext cx="2194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Gallery One</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1" name="Group 1"/>
          <p:cNvGrpSpPr/>
          <p:nvPr/>
        </p:nvGrpSpPr>
        <p:grpSpPr>
          <a:xfrm>
            <a:off x="587520" y="552600"/>
            <a:ext cx="631800" cy="325080"/>
            <a:chOff x="587520" y="552600"/>
            <a:chExt cx="631800" cy="325080"/>
          </a:xfrm>
        </p:grpSpPr>
        <p:sp>
          <p:nvSpPr>
            <p:cNvPr id="1342" name="Isosceles Triangle 2"/>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43" name="Isosceles Triangle 3"/>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44" name="Rectangle 4"/>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45" name="Rectangle 5"/>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346" name="TextBox 6" descr=""/>
          <p:cNvPicPr/>
          <p:nvPr/>
        </p:nvPicPr>
        <p:blipFill>
          <a:blip r:embed="rId1"/>
          <a:stretch/>
        </p:blipFill>
        <p:spPr>
          <a:xfrm>
            <a:off x="506520" y="5888160"/>
            <a:ext cx="536400" cy="500040"/>
          </a:xfrm>
          <a:prstGeom prst="rect">
            <a:avLst/>
          </a:prstGeom>
          <a:ln w="0">
            <a:noFill/>
          </a:ln>
        </p:spPr>
      </p:pic>
      <p:pic>
        <p:nvPicPr>
          <p:cNvPr id="1347" name="TextBox 7" descr=""/>
          <p:cNvPicPr/>
          <p:nvPr/>
        </p:nvPicPr>
        <p:blipFill>
          <a:blip r:embed="rId2"/>
          <a:stretch/>
        </p:blipFill>
        <p:spPr>
          <a:xfrm>
            <a:off x="927000" y="5888160"/>
            <a:ext cx="2565360" cy="500040"/>
          </a:xfrm>
          <a:prstGeom prst="rect">
            <a:avLst/>
          </a:prstGeom>
          <a:ln w="0">
            <a:noFill/>
          </a:ln>
        </p:spPr>
      </p:pic>
      <p:sp>
        <p:nvSpPr>
          <p:cNvPr id="1348" name="TextBox 9"/>
          <p:cNvSpPr/>
          <p:nvPr/>
        </p:nvSpPr>
        <p:spPr>
          <a:xfrm>
            <a:off x="1432080" y="1563840"/>
            <a:ext cx="4054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5400" spc="-1" strike="noStrike">
                <a:solidFill>
                  <a:srgbClr val="464646"/>
                </a:solidFill>
                <a:latin typeface="Montserrat Black"/>
              </a:rPr>
              <a:t>IT’S TIME TO BREAK</a:t>
            </a:r>
            <a:endParaRPr b="0" lang="en-US" sz="5400" spc="-1" strike="noStrike">
              <a:solidFill>
                <a:srgbClr val="3f3f3f"/>
              </a:solidFill>
              <a:latin typeface="Roboto"/>
            </a:endParaRPr>
          </a:p>
        </p:txBody>
      </p:sp>
      <p:sp>
        <p:nvSpPr>
          <p:cNvPr id="1349" name="TextBox 10"/>
          <p:cNvSpPr/>
          <p:nvPr/>
        </p:nvSpPr>
        <p:spPr>
          <a:xfrm>
            <a:off x="1447920" y="4211640"/>
            <a:ext cx="4340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 Rutrum tellus pellentesque eu tincidunt tortor</a:t>
            </a:r>
            <a:endParaRPr b="0" lang="en-US" sz="1100" spc="-1" strike="noStrike">
              <a:solidFill>
                <a:srgbClr val="3f3f3f"/>
              </a:solidFill>
              <a:latin typeface="Roboto"/>
            </a:endParaRPr>
          </a:p>
        </p:txBody>
      </p:sp>
      <p:sp>
        <p:nvSpPr>
          <p:cNvPr id="1350" name="TextBox 12"/>
          <p:cNvSpPr/>
          <p:nvPr/>
        </p:nvSpPr>
        <p:spPr>
          <a:xfrm>
            <a:off x="7927920" y="2100240"/>
            <a:ext cx="2195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Estimation</a:t>
            </a:r>
            <a:endParaRPr b="0" lang="en-US" sz="1600" spc="-1" strike="noStrike">
              <a:solidFill>
                <a:srgbClr val="3f3f3f"/>
              </a:solidFill>
              <a:latin typeface="Roboto"/>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For Break Section</a:t>
            </a:r>
            <a:endParaRPr b="0" lang="en-US" sz="1600" spc="-1" strike="noStrike">
              <a:solidFill>
                <a:srgbClr val="3f3f3f"/>
              </a:solidFill>
              <a:latin typeface="Roboto"/>
            </a:endParaRPr>
          </a:p>
        </p:txBody>
      </p:sp>
      <p:sp>
        <p:nvSpPr>
          <p:cNvPr id="1351" name="TextBox 14"/>
          <p:cNvSpPr/>
          <p:nvPr/>
        </p:nvSpPr>
        <p:spPr>
          <a:xfrm>
            <a:off x="7908840" y="1430280"/>
            <a:ext cx="1773360" cy="82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3200" spc="-1" strike="noStrike">
                <a:solidFill>
                  <a:srgbClr val="595959"/>
                </a:solidFill>
                <a:latin typeface="Roboto"/>
                <a:ea typeface="Times New Roman"/>
              </a:rPr>
              <a:t>45 </a:t>
            </a:r>
            <a:r>
              <a:rPr b="1" lang="id-ID" sz="1200" spc="-1" strike="noStrike">
                <a:solidFill>
                  <a:srgbClr val="595959"/>
                </a:solidFill>
                <a:latin typeface="Roboto"/>
                <a:ea typeface="Times New Roman"/>
              </a:rPr>
              <a:t>minutes</a:t>
            </a:r>
            <a:endParaRPr b="0" lang="en-US" sz="1200" spc="-1" strike="noStrike">
              <a:solidFill>
                <a:srgbClr val="3f3f3f"/>
              </a:solidFill>
              <a:latin typeface="Roboto"/>
            </a:endParaRPr>
          </a:p>
        </p:txBody>
      </p:sp>
      <p:sp>
        <p:nvSpPr>
          <p:cNvPr id="1352" name="Freeform 67"/>
          <p:cNvSpPr/>
          <p:nvPr/>
        </p:nvSpPr>
        <p:spPr>
          <a:xfrm>
            <a:off x="9794880" y="2637000"/>
            <a:ext cx="366840" cy="185400"/>
          </a:xfrm>
          <a:custGeom>
            <a:avLst/>
            <a:gdLst/>
            <a:ahLst/>
            <a:rect l="l" t="t" r="r" b="b"/>
            <a:pathLst>
              <a:path w="184" h="93">
                <a:moveTo>
                  <a:pt x="184" y="47"/>
                </a:moveTo>
                <a:lnTo>
                  <a:pt x="127" y="0"/>
                </a:lnTo>
                <a:lnTo>
                  <a:pt x="127" y="35"/>
                </a:lnTo>
                <a:lnTo>
                  <a:pt x="0" y="35"/>
                </a:lnTo>
                <a:lnTo>
                  <a:pt x="0" y="58"/>
                </a:lnTo>
                <a:lnTo>
                  <a:pt x="127" y="58"/>
                </a:lnTo>
                <a:lnTo>
                  <a:pt x="127" y="93"/>
                </a:lnTo>
                <a:lnTo>
                  <a:pt x="184" y="47"/>
                </a:lnTo>
                <a:close/>
              </a:path>
            </a:pathLst>
          </a:custGeom>
          <a:solidFill>
            <a:srgbClr val="646464"/>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Roboto"/>
            </a:endParaRPr>
          </a:p>
        </p:txBody>
      </p:sp>
      <p:pic>
        <p:nvPicPr>
          <p:cNvPr id="1353" name="TextBox 17" descr=""/>
          <p:cNvPicPr/>
          <p:nvPr/>
        </p:nvPicPr>
        <p:blipFill>
          <a:blip r:embed="rId3"/>
          <a:stretch/>
        </p:blipFill>
        <p:spPr>
          <a:xfrm>
            <a:off x="1432080" y="3219480"/>
            <a:ext cx="2743200" cy="35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4" name="Group 3"/>
          <p:cNvGrpSpPr/>
          <p:nvPr/>
        </p:nvGrpSpPr>
        <p:grpSpPr>
          <a:xfrm>
            <a:off x="10961640" y="552600"/>
            <a:ext cx="631800" cy="325080"/>
            <a:chOff x="10961640" y="552600"/>
            <a:chExt cx="631800" cy="325080"/>
          </a:xfrm>
        </p:grpSpPr>
        <p:sp>
          <p:nvSpPr>
            <p:cNvPr id="1355" name="Isosceles Triangle 4"/>
            <p:cNvSpPr/>
            <p:nvPr/>
          </p:nvSpPr>
          <p:spPr>
            <a:xfrm>
              <a:off x="1102500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56" name="Isosceles Triangle 5"/>
            <p:cNvSpPr/>
            <p:nvPr/>
          </p:nvSpPr>
          <p:spPr>
            <a:xfrm flipV="1">
              <a:off x="1124136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57" name="Rectangle 6"/>
            <p:cNvSpPr/>
            <p:nvPr/>
          </p:nvSpPr>
          <p:spPr>
            <a:xfrm>
              <a:off x="1096164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58" name="Rectangle 7"/>
            <p:cNvSpPr/>
            <p:nvPr/>
          </p:nvSpPr>
          <p:spPr>
            <a:xfrm>
              <a:off x="1115028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359" name="TextBox 8" descr=""/>
          <p:cNvPicPr/>
          <p:nvPr/>
        </p:nvPicPr>
        <p:blipFill>
          <a:blip r:embed="rId1"/>
          <a:stretch/>
        </p:blipFill>
        <p:spPr>
          <a:xfrm>
            <a:off x="8766000" y="5888160"/>
            <a:ext cx="567000" cy="500040"/>
          </a:xfrm>
          <a:prstGeom prst="rect">
            <a:avLst/>
          </a:prstGeom>
          <a:ln w="0">
            <a:noFill/>
          </a:ln>
        </p:spPr>
      </p:pic>
      <p:pic>
        <p:nvPicPr>
          <p:cNvPr id="1360" name="TextBox 9" descr=""/>
          <p:cNvPicPr/>
          <p:nvPr/>
        </p:nvPicPr>
        <p:blipFill>
          <a:blip r:embed="rId2"/>
          <a:stretch/>
        </p:blipFill>
        <p:spPr>
          <a:xfrm>
            <a:off x="9186840" y="5888160"/>
            <a:ext cx="2567160" cy="500040"/>
          </a:xfrm>
          <a:prstGeom prst="rect">
            <a:avLst/>
          </a:prstGeom>
          <a:ln w="0">
            <a:noFill/>
          </a:ln>
        </p:spPr>
      </p:pic>
      <p:sp>
        <p:nvSpPr>
          <p:cNvPr id="1361" name="TextBox 11"/>
          <p:cNvSpPr/>
          <p:nvPr/>
        </p:nvSpPr>
        <p:spPr>
          <a:xfrm>
            <a:off x="5986440" y="1506600"/>
            <a:ext cx="416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TABLET DEVICES</a:t>
            </a:r>
            <a:endParaRPr b="0" lang="en-US" sz="3200" spc="-1" strike="noStrike">
              <a:solidFill>
                <a:srgbClr val="3f3f3f"/>
              </a:solidFill>
              <a:latin typeface="Roboto"/>
            </a:endParaRPr>
          </a:p>
        </p:txBody>
      </p:sp>
      <p:pic>
        <p:nvPicPr>
          <p:cNvPr id="1362" name="TextBox 12" descr=""/>
          <p:cNvPicPr/>
          <p:nvPr/>
        </p:nvPicPr>
        <p:blipFill>
          <a:blip r:embed="rId3"/>
          <a:stretch/>
        </p:blipFill>
        <p:spPr>
          <a:xfrm>
            <a:off x="5986440" y="1981080"/>
            <a:ext cx="2743200" cy="360360"/>
          </a:xfrm>
          <a:prstGeom prst="rect">
            <a:avLst/>
          </a:prstGeom>
          <a:ln w="0">
            <a:noFill/>
          </a:ln>
        </p:spPr>
      </p:pic>
      <p:sp>
        <p:nvSpPr>
          <p:cNvPr id="1363" name="TextBox 13"/>
          <p:cNvSpPr/>
          <p:nvPr/>
        </p:nvSpPr>
        <p:spPr>
          <a:xfrm>
            <a:off x="6002280" y="3465360"/>
            <a:ext cx="4340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 Rutrum tellus pellentesque eu tincidunt tortor</a:t>
            </a:r>
            <a:endParaRPr b="0" lang="en-US" sz="1100" spc="-1" strike="noStrike">
              <a:solidFill>
                <a:srgbClr val="3f3f3f"/>
              </a:solidFill>
              <a:latin typeface="Roboto"/>
            </a:endParaRPr>
          </a:p>
        </p:txBody>
      </p:sp>
      <p:sp>
        <p:nvSpPr>
          <p:cNvPr id="1364" name="TextBox 14"/>
          <p:cNvSpPr/>
          <p:nvPr/>
        </p:nvSpPr>
        <p:spPr>
          <a:xfrm>
            <a:off x="6002280" y="4649760"/>
            <a:ext cx="43401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365" name="TextBox 15"/>
          <p:cNvSpPr/>
          <p:nvPr/>
        </p:nvSpPr>
        <p:spPr>
          <a:xfrm>
            <a:off x="5986440" y="3089160"/>
            <a:ext cx="22431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Description Here</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6" name="Group 4"/>
          <p:cNvGrpSpPr/>
          <p:nvPr/>
        </p:nvGrpSpPr>
        <p:grpSpPr>
          <a:xfrm>
            <a:off x="587520" y="552600"/>
            <a:ext cx="631800" cy="325080"/>
            <a:chOff x="587520" y="552600"/>
            <a:chExt cx="631800" cy="325080"/>
          </a:xfrm>
        </p:grpSpPr>
        <p:sp>
          <p:nvSpPr>
            <p:cNvPr id="1367" name="Isosceles Triangle 5"/>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68" name="Isosceles Triangle 6"/>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69" name="Rectangle 7"/>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70" name="Rectangle 8"/>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371" name="TextBox 9" descr=""/>
          <p:cNvPicPr/>
          <p:nvPr/>
        </p:nvPicPr>
        <p:blipFill>
          <a:blip r:embed="rId1"/>
          <a:stretch/>
        </p:blipFill>
        <p:spPr>
          <a:xfrm>
            <a:off x="506520" y="5888160"/>
            <a:ext cx="566640" cy="500040"/>
          </a:xfrm>
          <a:prstGeom prst="rect">
            <a:avLst/>
          </a:prstGeom>
          <a:ln w="0">
            <a:noFill/>
          </a:ln>
        </p:spPr>
      </p:pic>
      <p:pic>
        <p:nvPicPr>
          <p:cNvPr id="1372" name="TextBox 10" descr=""/>
          <p:cNvPicPr/>
          <p:nvPr/>
        </p:nvPicPr>
        <p:blipFill>
          <a:blip r:embed="rId2"/>
          <a:stretch/>
        </p:blipFill>
        <p:spPr>
          <a:xfrm>
            <a:off x="927000" y="5888160"/>
            <a:ext cx="2565360" cy="500040"/>
          </a:xfrm>
          <a:prstGeom prst="rect">
            <a:avLst/>
          </a:prstGeom>
          <a:ln w="0">
            <a:noFill/>
          </a:ln>
        </p:spPr>
      </p:pic>
      <p:sp>
        <p:nvSpPr>
          <p:cNvPr id="1373" name="TextBox 21"/>
          <p:cNvSpPr/>
          <p:nvPr/>
        </p:nvSpPr>
        <p:spPr>
          <a:xfrm>
            <a:off x="1433520" y="1427040"/>
            <a:ext cx="435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LAPTOP DEVICES</a:t>
            </a:r>
            <a:endParaRPr b="0" lang="en-US" sz="3200" spc="-1" strike="noStrike">
              <a:solidFill>
                <a:srgbClr val="3f3f3f"/>
              </a:solidFill>
              <a:latin typeface="Roboto"/>
            </a:endParaRPr>
          </a:p>
        </p:txBody>
      </p:sp>
      <p:pic>
        <p:nvPicPr>
          <p:cNvPr id="1374" name="TextBox 22" descr=""/>
          <p:cNvPicPr/>
          <p:nvPr/>
        </p:nvPicPr>
        <p:blipFill>
          <a:blip r:embed="rId3"/>
          <a:stretch/>
        </p:blipFill>
        <p:spPr>
          <a:xfrm>
            <a:off x="1432080" y="1901880"/>
            <a:ext cx="2743200" cy="360360"/>
          </a:xfrm>
          <a:prstGeom prst="rect">
            <a:avLst/>
          </a:prstGeom>
          <a:ln w="0">
            <a:noFill/>
          </a:ln>
        </p:spPr>
      </p:pic>
      <p:sp>
        <p:nvSpPr>
          <p:cNvPr id="1375" name="TextBox 23"/>
          <p:cNvSpPr/>
          <p:nvPr/>
        </p:nvSpPr>
        <p:spPr>
          <a:xfrm>
            <a:off x="1447920" y="2644920"/>
            <a:ext cx="43401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376" name="TextBox 24"/>
          <p:cNvSpPr/>
          <p:nvPr/>
        </p:nvSpPr>
        <p:spPr>
          <a:xfrm>
            <a:off x="1433520" y="3643200"/>
            <a:ext cx="43387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377" name="TextBox 25"/>
          <p:cNvSpPr/>
          <p:nvPr/>
        </p:nvSpPr>
        <p:spPr>
          <a:xfrm>
            <a:off x="1447920" y="4643280"/>
            <a:ext cx="43401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8" name="Picture 16" descr=""/>
          <p:cNvPicPr/>
          <p:nvPr/>
        </p:nvPicPr>
        <p:blipFill>
          <a:blip r:embed="rId1"/>
          <a:stretch/>
        </p:blipFill>
        <p:spPr>
          <a:xfrm>
            <a:off x="318960" y="407880"/>
            <a:ext cx="6043680" cy="6042240"/>
          </a:xfrm>
          <a:prstGeom prst="rect">
            <a:avLst/>
          </a:prstGeom>
          <a:ln w="0">
            <a:noFill/>
          </a:ln>
        </p:spPr>
      </p:pic>
      <p:grpSp>
        <p:nvGrpSpPr>
          <p:cNvPr id="1379" name="Group 3"/>
          <p:cNvGrpSpPr/>
          <p:nvPr/>
        </p:nvGrpSpPr>
        <p:grpSpPr>
          <a:xfrm>
            <a:off x="10961640" y="552600"/>
            <a:ext cx="631800" cy="325080"/>
            <a:chOff x="10961640" y="552600"/>
            <a:chExt cx="631800" cy="325080"/>
          </a:xfrm>
        </p:grpSpPr>
        <p:sp>
          <p:nvSpPr>
            <p:cNvPr id="1380" name="Isosceles Triangle 4"/>
            <p:cNvSpPr/>
            <p:nvPr/>
          </p:nvSpPr>
          <p:spPr>
            <a:xfrm>
              <a:off x="1102500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81" name="Isosceles Triangle 5"/>
            <p:cNvSpPr/>
            <p:nvPr/>
          </p:nvSpPr>
          <p:spPr>
            <a:xfrm flipV="1">
              <a:off x="1124136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82" name="Rectangle 6"/>
            <p:cNvSpPr/>
            <p:nvPr/>
          </p:nvSpPr>
          <p:spPr>
            <a:xfrm>
              <a:off x="1096164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83" name="Rectangle 7"/>
            <p:cNvSpPr/>
            <p:nvPr/>
          </p:nvSpPr>
          <p:spPr>
            <a:xfrm>
              <a:off x="1115028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384" name="TextBox 8" descr=""/>
          <p:cNvPicPr/>
          <p:nvPr/>
        </p:nvPicPr>
        <p:blipFill>
          <a:blip r:embed="rId2"/>
          <a:stretch/>
        </p:blipFill>
        <p:spPr>
          <a:xfrm>
            <a:off x="8766000" y="5888160"/>
            <a:ext cx="590760" cy="500040"/>
          </a:xfrm>
          <a:prstGeom prst="rect">
            <a:avLst/>
          </a:prstGeom>
          <a:ln w="0">
            <a:noFill/>
          </a:ln>
        </p:spPr>
      </p:pic>
      <p:pic>
        <p:nvPicPr>
          <p:cNvPr id="1385" name="TextBox 9" descr=""/>
          <p:cNvPicPr/>
          <p:nvPr/>
        </p:nvPicPr>
        <p:blipFill>
          <a:blip r:embed="rId3"/>
          <a:stretch/>
        </p:blipFill>
        <p:spPr>
          <a:xfrm>
            <a:off x="9186840" y="5888160"/>
            <a:ext cx="2567160" cy="500040"/>
          </a:xfrm>
          <a:prstGeom prst="rect">
            <a:avLst/>
          </a:prstGeom>
          <a:ln w="0">
            <a:noFill/>
          </a:ln>
        </p:spPr>
      </p:pic>
      <p:sp>
        <p:nvSpPr>
          <p:cNvPr id="1386" name="TextBox 10"/>
          <p:cNvSpPr/>
          <p:nvPr/>
        </p:nvSpPr>
        <p:spPr>
          <a:xfrm>
            <a:off x="6095880" y="1506600"/>
            <a:ext cx="418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PHONE DEVICES</a:t>
            </a:r>
            <a:endParaRPr b="0" lang="en-US" sz="3200" spc="-1" strike="noStrike">
              <a:solidFill>
                <a:srgbClr val="3f3f3f"/>
              </a:solidFill>
              <a:latin typeface="Roboto"/>
            </a:endParaRPr>
          </a:p>
        </p:txBody>
      </p:sp>
      <p:pic>
        <p:nvPicPr>
          <p:cNvPr id="1387" name="TextBox 11" descr=""/>
          <p:cNvPicPr/>
          <p:nvPr/>
        </p:nvPicPr>
        <p:blipFill>
          <a:blip r:embed="rId4"/>
          <a:stretch/>
        </p:blipFill>
        <p:spPr>
          <a:xfrm>
            <a:off x="6095880" y="1981080"/>
            <a:ext cx="2743200" cy="360360"/>
          </a:xfrm>
          <a:prstGeom prst="rect">
            <a:avLst/>
          </a:prstGeom>
          <a:ln w="0">
            <a:noFill/>
          </a:ln>
        </p:spPr>
      </p:pic>
      <p:sp>
        <p:nvSpPr>
          <p:cNvPr id="1388" name="TextBox 12"/>
          <p:cNvSpPr/>
          <p:nvPr/>
        </p:nvSpPr>
        <p:spPr>
          <a:xfrm>
            <a:off x="6111720" y="3139920"/>
            <a:ext cx="46515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389" name="TextBox 13"/>
          <p:cNvSpPr/>
          <p:nvPr/>
        </p:nvSpPr>
        <p:spPr>
          <a:xfrm>
            <a:off x="6095880" y="2762280"/>
            <a:ext cx="2737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About The Topic Here</a:t>
            </a:r>
            <a:endParaRPr b="0" lang="en-US" sz="1600" spc="-1" strike="noStrike">
              <a:solidFill>
                <a:srgbClr val="3f3f3f"/>
              </a:solidFill>
              <a:latin typeface="Roboto"/>
            </a:endParaRPr>
          </a:p>
        </p:txBody>
      </p:sp>
      <p:sp>
        <p:nvSpPr>
          <p:cNvPr id="1390" name="TextBox 14"/>
          <p:cNvSpPr/>
          <p:nvPr/>
        </p:nvSpPr>
        <p:spPr>
          <a:xfrm>
            <a:off x="6111720" y="4610160"/>
            <a:ext cx="46515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391" name="TextBox 15"/>
          <p:cNvSpPr/>
          <p:nvPr/>
        </p:nvSpPr>
        <p:spPr>
          <a:xfrm>
            <a:off x="6095880" y="4232160"/>
            <a:ext cx="2473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About The Topic Here</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2" name="Group 3"/>
          <p:cNvGrpSpPr/>
          <p:nvPr/>
        </p:nvGrpSpPr>
        <p:grpSpPr>
          <a:xfrm>
            <a:off x="587520" y="552600"/>
            <a:ext cx="631800" cy="325080"/>
            <a:chOff x="587520" y="552600"/>
            <a:chExt cx="631800" cy="325080"/>
          </a:xfrm>
        </p:grpSpPr>
        <p:sp>
          <p:nvSpPr>
            <p:cNvPr id="1393" name="Isosceles Triangle 4"/>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94" name="Isosceles Triangle 5"/>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95" name="Rectangle 6"/>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396" name="Rectangle 7"/>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397" name="TextBox 8" descr=""/>
          <p:cNvPicPr/>
          <p:nvPr/>
        </p:nvPicPr>
        <p:blipFill>
          <a:blip r:embed="rId1"/>
          <a:stretch/>
        </p:blipFill>
        <p:spPr>
          <a:xfrm>
            <a:off x="506520" y="5888160"/>
            <a:ext cx="573120" cy="500040"/>
          </a:xfrm>
          <a:prstGeom prst="rect">
            <a:avLst/>
          </a:prstGeom>
          <a:ln w="0">
            <a:noFill/>
          </a:ln>
        </p:spPr>
      </p:pic>
      <p:pic>
        <p:nvPicPr>
          <p:cNvPr id="1398" name="TextBox 9" descr=""/>
          <p:cNvPicPr/>
          <p:nvPr/>
        </p:nvPicPr>
        <p:blipFill>
          <a:blip r:embed="rId2"/>
          <a:stretch/>
        </p:blipFill>
        <p:spPr>
          <a:xfrm>
            <a:off x="927000" y="5888160"/>
            <a:ext cx="2565360" cy="500040"/>
          </a:xfrm>
          <a:prstGeom prst="rect">
            <a:avLst/>
          </a:prstGeom>
          <a:ln w="0">
            <a:noFill/>
          </a:ln>
        </p:spPr>
      </p:pic>
      <p:sp>
        <p:nvSpPr>
          <p:cNvPr id="1399" name="TextBox 10"/>
          <p:cNvSpPr/>
          <p:nvPr/>
        </p:nvSpPr>
        <p:spPr>
          <a:xfrm>
            <a:off x="1432080" y="1449360"/>
            <a:ext cx="50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COMPUTER MOKCUP</a:t>
            </a:r>
            <a:endParaRPr b="0" lang="en-US" sz="3200" spc="-1" strike="noStrike">
              <a:solidFill>
                <a:srgbClr val="3f3f3f"/>
              </a:solidFill>
              <a:latin typeface="Roboto"/>
            </a:endParaRPr>
          </a:p>
        </p:txBody>
      </p:sp>
      <p:pic>
        <p:nvPicPr>
          <p:cNvPr id="1400" name="TextBox 11" descr=""/>
          <p:cNvPicPr/>
          <p:nvPr/>
        </p:nvPicPr>
        <p:blipFill>
          <a:blip r:embed="rId3"/>
          <a:stretch/>
        </p:blipFill>
        <p:spPr>
          <a:xfrm>
            <a:off x="1432080" y="1925640"/>
            <a:ext cx="2743200" cy="360360"/>
          </a:xfrm>
          <a:prstGeom prst="rect">
            <a:avLst/>
          </a:prstGeom>
          <a:ln w="0">
            <a:noFill/>
          </a:ln>
        </p:spPr>
      </p:pic>
      <p:sp>
        <p:nvSpPr>
          <p:cNvPr id="1401" name="TextBox 12"/>
          <p:cNvSpPr/>
          <p:nvPr/>
        </p:nvSpPr>
        <p:spPr>
          <a:xfrm>
            <a:off x="1432080" y="3225960"/>
            <a:ext cx="25095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02" name="TextBox 13"/>
          <p:cNvSpPr/>
          <p:nvPr/>
        </p:nvSpPr>
        <p:spPr>
          <a:xfrm>
            <a:off x="1432080" y="2886120"/>
            <a:ext cx="21938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
        <p:nvSpPr>
          <p:cNvPr id="1403" name="TextBox 14"/>
          <p:cNvSpPr/>
          <p:nvPr/>
        </p:nvSpPr>
        <p:spPr>
          <a:xfrm>
            <a:off x="4033800" y="3225960"/>
            <a:ext cx="25099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04" name="TextBox 15"/>
          <p:cNvSpPr/>
          <p:nvPr/>
        </p:nvSpPr>
        <p:spPr>
          <a:xfrm>
            <a:off x="4033800" y="2886120"/>
            <a:ext cx="21938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
        <p:nvSpPr>
          <p:cNvPr id="1405" name="TextBox 16"/>
          <p:cNvSpPr/>
          <p:nvPr/>
        </p:nvSpPr>
        <p:spPr>
          <a:xfrm>
            <a:off x="1432080" y="4689360"/>
            <a:ext cx="25095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06" name="TextBox 17"/>
          <p:cNvSpPr/>
          <p:nvPr/>
        </p:nvSpPr>
        <p:spPr>
          <a:xfrm>
            <a:off x="1432080" y="4349880"/>
            <a:ext cx="21938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
        <p:nvSpPr>
          <p:cNvPr id="1407" name="TextBox 18"/>
          <p:cNvSpPr/>
          <p:nvPr/>
        </p:nvSpPr>
        <p:spPr>
          <a:xfrm>
            <a:off x="4033800" y="4689360"/>
            <a:ext cx="25099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08" name="TextBox 19"/>
          <p:cNvSpPr/>
          <p:nvPr/>
        </p:nvSpPr>
        <p:spPr>
          <a:xfrm>
            <a:off x="4033800" y="4349880"/>
            <a:ext cx="21938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9" name="Group 8"/>
          <p:cNvGrpSpPr/>
          <p:nvPr/>
        </p:nvGrpSpPr>
        <p:grpSpPr>
          <a:xfrm>
            <a:off x="587520" y="552600"/>
            <a:ext cx="631800" cy="325080"/>
            <a:chOff x="587520" y="552600"/>
            <a:chExt cx="631800" cy="325080"/>
          </a:xfrm>
        </p:grpSpPr>
        <p:sp>
          <p:nvSpPr>
            <p:cNvPr id="1410" name="Isosceles Triangle 9"/>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11" name="Isosceles Triangle 10"/>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12" name="Rectangle 11"/>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13" name="Rectangle 12"/>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414" name="TextBox 13" descr=""/>
          <p:cNvPicPr/>
          <p:nvPr/>
        </p:nvPicPr>
        <p:blipFill>
          <a:blip r:embed="rId1"/>
          <a:stretch/>
        </p:blipFill>
        <p:spPr>
          <a:xfrm>
            <a:off x="506520" y="5888160"/>
            <a:ext cx="579240" cy="500040"/>
          </a:xfrm>
          <a:prstGeom prst="rect">
            <a:avLst/>
          </a:prstGeom>
          <a:ln w="0">
            <a:noFill/>
          </a:ln>
        </p:spPr>
      </p:pic>
      <p:pic>
        <p:nvPicPr>
          <p:cNvPr id="1415" name="TextBox 14" descr=""/>
          <p:cNvPicPr/>
          <p:nvPr/>
        </p:nvPicPr>
        <p:blipFill>
          <a:blip r:embed="rId2"/>
          <a:stretch/>
        </p:blipFill>
        <p:spPr>
          <a:xfrm>
            <a:off x="927000" y="5888160"/>
            <a:ext cx="2565360" cy="500040"/>
          </a:xfrm>
          <a:prstGeom prst="rect">
            <a:avLst/>
          </a:prstGeom>
          <a:ln w="0">
            <a:noFill/>
          </a:ln>
        </p:spPr>
      </p:pic>
      <p:grpSp>
        <p:nvGrpSpPr>
          <p:cNvPr id="1416" name="Group 15"/>
          <p:cNvGrpSpPr/>
          <p:nvPr/>
        </p:nvGrpSpPr>
        <p:grpSpPr>
          <a:xfrm>
            <a:off x="522360" y="2664000"/>
            <a:ext cx="276120" cy="1796760"/>
            <a:chOff x="522360" y="2664000"/>
            <a:chExt cx="276120" cy="1796760"/>
          </a:xfrm>
        </p:grpSpPr>
        <p:pic>
          <p:nvPicPr>
            <p:cNvPr id="1417" name="TextBox 16" descr=""/>
            <p:cNvPicPr/>
            <p:nvPr/>
          </p:nvPicPr>
          <p:blipFill>
            <a:blip r:embed="rId3"/>
            <a:stretch/>
          </p:blipFill>
          <p:spPr>
            <a:xfrm>
              <a:off x="522360" y="2664000"/>
              <a:ext cx="276120" cy="1359000"/>
            </a:xfrm>
            <a:prstGeom prst="rect">
              <a:avLst/>
            </a:prstGeom>
            <a:ln w="0">
              <a:noFill/>
            </a:ln>
          </p:spPr>
        </p:pic>
        <p:sp>
          <p:nvSpPr>
            <p:cNvPr id="1418" name="Rectangle 17"/>
            <p:cNvSpPr/>
            <p:nvPr/>
          </p:nvSpPr>
          <p:spPr>
            <a:xfrm>
              <a:off x="637200" y="4047840"/>
              <a:ext cx="23040" cy="412920"/>
            </a:xfrm>
            <a:prstGeom prst="rect">
              <a:avLst/>
            </a:prstGeom>
            <a:solidFill>
              <a:srgbClr val="646464">
                <a:alpha val="5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419" name="Group 18" descr=""/>
          <p:cNvPicPr/>
          <p:nvPr/>
        </p:nvPicPr>
        <p:blipFill>
          <a:blip r:embed="rId4"/>
          <a:stretch/>
        </p:blipFill>
        <p:spPr>
          <a:xfrm>
            <a:off x="10723680" y="5827680"/>
            <a:ext cx="882360" cy="407880"/>
          </a:xfrm>
          <a:prstGeom prst="rect">
            <a:avLst/>
          </a:prstGeom>
          <a:ln w="0">
            <a:noFill/>
          </a:ln>
        </p:spPr>
      </p:pic>
      <p:sp>
        <p:nvSpPr>
          <p:cNvPr id="1420" name="TextBox 39"/>
          <p:cNvSpPr/>
          <p:nvPr/>
        </p:nvSpPr>
        <p:spPr>
          <a:xfrm>
            <a:off x="3390840" y="67644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ABOUT INFOGRAPHIC</a:t>
            </a:r>
            <a:endParaRPr b="0" lang="en-US" sz="3200" spc="-1" strike="noStrike">
              <a:solidFill>
                <a:srgbClr val="3f3f3f"/>
              </a:solidFill>
              <a:latin typeface="Roboto"/>
            </a:endParaRPr>
          </a:p>
        </p:txBody>
      </p:sp>
      <p:pic>
        <p:nvPicPr>
          <p:cNvPr id="1421" name="TextBox 40" descr=""/>
          <p:cNvPicPr/>
          <p:nvPr/>
        </p:nvPicPr>
        <p:blipFill>
          <a:blip r:embed="rId5"/>
          <a:stretch/>
        </p:blipFill>
        <p:spPr>
          <a:xfrm>
            <a:off x="4724280" y="1152360"/>
            <a:ext cx="2743200" cy="358920"/>
          </a:xfrm>
          <a:prstGeom prst="rect">
            <a:avLst/>
          </a:prstGeom>
          <a:ln w="0">
            <a:noFill/>
          </a:ln>
        </p:spPr>
      </p:pic>
      <p:sp>
        <p:nvSpPr>
          <p:cNvPr id="1422" name="Shape 2437"/>
          <p:cNvSpPr/>
          <p:nvPr/>
        </p:nvSpPr>
        <p:spPr>
          <a:xfrm>
            <a:off x="1820880" y="2211480"/>
            <a:ext cx="1252440" cy="1330200"/>
          </a:xfrm>
          <a:custGeom>
            <a:avLst/>
            <a:gdLst/>
            <a:ahLst/>
            <a:rect l="l" t="t" r="r" b="b"/>
            <a:pathLst>
              <a:path w="21443" h="20601">
                <a:moveTo>
                  <a:pt x="21209" y="13590"/>
                </a:moveTo>
                <a:cubicBezTo>
                  <a:pt x="20817" y="14511"/>
                  <a:pt x="19800" y="14935"/>
                  <a:pt x="18783" y="14581"/>
                </a:cubicBezTo>
                <a:cubicBezTo>
                  <a:pt x="18235" y="14440"/>
                  <a:pt x="17922" y="14015"/>
                  <a:pt x="17687" y="13590"/>
                </a:cubicBezTo>
                <a:cubicBezTo>
                  <a:pt x="17609" y="13307"/>
                  <a:pt x="17296" y="13094"/>
                  <a:pt x="16983" y="12952"/>
                </a:cubicBezTo>
                <a:cubicBezTo>
                  <a:pt x="16670" y="12882"/>
                  <a:pt x="16357" y="13023"/>
                  <a:pt x="16200" y="13307"/>
                </a:cubicBezTo>
                <a:cubicBezTo>
                  <a:pt x="13148" y="20601"/>
                  <a:pt x="13148" y="20601"/>
                  <a:pt x="13148" y="20601"/>
                </a:cubicBezTo>
                <a:cubicBezTo>
                  <a:pt x="7826" y="14794"/>
                  <a:pt x="7826" y="14794"/>
                  <a:pt x="7826" y="14794"/>
                </a:cubicBezTo>
                <a:cubicBezTo>
                  <a:pt x="7904" y="14794"/>
                  <a:pt x="7904" y="14794"/>
                  <a:pt x="7904" y="14794"/>
                </a:cubicBezTo>
                <a:cubicBezTo>
                  <a:pt x="8687" y="14865"/>
                  <a:pt x="9470" y="14723"/>
                  <a:pt x="10096" y="14227"/>
                </a:cubicBezTo>
                <a:cubicBezTo>
                  <a:pt x="11270" y="13377"/>
                  <a:pt x="11426" y="11819"/>
                  <a:pt x="10487" y="10828"/>
                </a:cubicBezTo>
                <a:cubicBezTo>
                  <a:pt x="9548" y="9766"/>
                  <a:pt x="7826" y="9624"/>
                  <a:pt x="6652" y="10474"/>
                </a:cubicBezTo>
                <a:cubicBezTo>
                  <a:pt x="6026" y="10899"/>
                  <a:pt x="5713" y="11536"/>
                  <a:pt x="5713" y="12244"/>
                </a:cubicBezTo>
                <a:cubicBezTo>
                  <a:pt x="5635" y="12315"/>
                  <a:pt x="5635" y="12315"/>
                  <a:pt x="5635" y="12315"/>
                </a:cubicBezTo>
                <a:cubicBezTo>
                  <a:pt x="0" y="6083"/>
                  <a:pt x="0" y="6083"/>
                  <a:pt x="0" y="6083"/>
                </a:cubicBezTo>
                <a:cubicBezTo>
                  <a:pt x="1252" y="4525"/>
                  <a:pt x="2739" y="3321"/>
                  <a:pt x="3835" y="2542"/>
                </a:cubicBezTo>
                <a:cubicBezTo>
                  <a:pt x="6574" y="701"/>
                  <a:pt x="14557" y="-999"/>
                  <a:pt x="21443" y="701"/>
                </a:cubicBezTo>
                <a:cubicBezTo>
                  <a:pt x="17217" y="10828"/>
                  <a:pt x="17217" y="10828"/>
                  <a:pt x="17217" y="10828"/>
                </a:cubicBezTo>
                <a:cubicBezTo>
                  <a:pt x="17217" y="10828"/>
                  <a:pt x="17217" y="10828"/>
                  <a:pt x="17217" y="10828"/>
                </a:cubicBezTo>
                <a:cubicBezTo>
                  <a:pt x="17139" y="11111"/>
                  <a:pt x="17296" y="11465"/>
                  <a:pt x="17609" y="11536"/>
                </a:cubicBezTo>
                <a:cubicBezTo>
                  <a:pt x="17922" y="11678"/>
                  <a:pt x="18313" y="11678"/>
                  <a:pt x="18548" y="11536"/>
                </a:cubicBezTo>
                <a:cubicBezTo>
                  <a:pt x="19017" y="11253"/>
                  <a:pt x="19565" y="11253"/>
                  <a:pt x="20113" y="11394"/>
                </a:cubicBezTo>
                <a:cubicBezTo>
                  <a:pt x="21052" y="11749"/>
                  <a:pt x="21600" y="12740"/>
                  <a:pt x="21209" y="13590"/>
                </a:cubicBezTo>
                <a:close/>
              </a:path>
            </a:pathLst>
          </a:custGeom>
          <a:gradFill rotWithShape="0">
            <a:gsLst>
              <a:gs pos="0">
                <a:srgbClr val="8e8e8e"/>
              </a:gs>
              <a:gs pos="100000">
                <a:srgbClr val="6a6a6a"/>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23" name="Shape 2438"/>
          <p:cNvSpPr/>
          <p:nvPr/>
        </p:nvSpPr>
        <p:spPr>
          <a:xfrm>
            <a:off x="2635200" y="2270160"/>
            <a:ext cx="1125720" cy="1473120"/>
          </a:xfrm>
          <a:custGeom>
            <a:avLst/>
            <a:gdLst/>
            <a:ahLst/>
            <a:rect l="l" t="t" r="r" b="b"/>
            <a:pathLst>
              <a:path w="21441" h="21485">
                <a:moveTo>
                  <a:pt x="21426" y="13667"/>
                </a:moveTo>
                <a:cubicBezTo>
                  <a:pt x="21339" y="14533"/>
                  <a:pt x="21252" y="15400"/>
                  <a:pt x="20990" y="16133"/>
                </a:cubicBezTo>
                <a:cubicBezTo>
                  <a:pt x="12716" y="17200"/>
                  <a:pt x="12716" y="17200"/>
                  <a:pt x="12716" y="17200"/>
                </a:cubicBezTo>
                <a:cubicBezTo>
                  <a:pt x="12281" y="17267"/>
                  <a:pt x="12106" y="17533"/>
                  <a:pt x="12106" y="17800"/>
                </a:cubicBezTo>
                <a:cubicBezTo>
                  <a:pt x="12194" y="18133"/>
                  <a:pt x="12368" y="18333"/>
                  <a:pt x="12716" y="18533"/>
                </a:cubicBezTo>
                <a:cubicBezTo>
                  <a:pt x="13239" y="18733"/>
                  <a:pt x="13587" y="19133"/>
                  <a:pt x="13674" y="19600"/>
                </a:cubicBezTo>
                <a:cubicBezTo>
                  <a:pt x="13848" y="20467"/>
                  <a:pt x="13065" y="21267"/>
                  <a:pt x="11932" y="21467"/>
                </a:cubicBezTo>
                <a:cubicBezTo>
                  <a:pt x="10800" y="21600"/>
                  <a:pt x="9755" y="21000"/>
                  <a:pt x="9581" y="20133"/>
                </a:cubicBezTo>
                <a:cubicBezTo>
                  <a:pt x="9494" y="19667"/>
                  <a:pt x="9668" y="19200"/>
                  <a:pt x="10016" y="18867"/>
                </a:cubicBezTo>
                <a:cubicBezTo>
                  <a:pt x="10277" y="18600"/>
                  <a:pt x="10365" y="18333"/>
                  <a:pt x="10277" y="18067"/>
                </a:cubicBezTo>
                <a:cubicBezTo>
                  <a:pt x="10277" y="17733"/>
                  <a:pt x="9929" y="17600"/>
                  <a:pt x="9494" y="17600"/>
                </a:cubicBezTo>
                <a:cubicBezTo>
                  <a:pt x="9494" y="17600"/>
                  <a:pt x="9494" y="17600"/>
                  <a:pt x="9494" y="17600"/>
                </a:cubicBezTo>
                <a:cubicBezTo>
                  <a:pt x="0" y="18800"/>
                  <a:pt x="0" y="18800"/>
                  <a:pt x="0" y="18800"/>
                </a:cubicBezTo>
                <a:cubicBezTo>
                  <a:pt x="3310" y="12133"/>
                  <a:pt x="3310" y="12133"/>
                  <a:pt x="3310" y="12133"/>
                </a:cubicBezTo>
                <a:cubicBezTo>
                  <a:pt x="3310" y="12133"/>
                  <a:pt x="3310" y="12200"/>
                  <a:pt x="3310" y="12200"/>
                </a:cubicBezTo>
                <a:cubicBezTo>
                  <a:pt x="3658" y="12800"/>
                  <a:pt x="4268" y="13267"/>
                  <a:pt x="5052" y="13533"/>
                </a:cubicBezTo>
                <a:cubicBezTo>
                  <a:pt x="6619" y="14000"/>
                  <a:pt x="8361" y="13400"/>
                  <a:pt x="8971" y="12200"/>
                </a:cubicBezTo>
                <a:cubicBezTo>
                  <a:pt x="9581" y="11000"/>
                  <a:pt x="8797" y="9667"/>
                  <a:pt x="7229" y="9200"/>
                </a:cubicBezTo>
                <a:cubicBezTo>
                  <a:pt x="6445" y="9000"/>
                  <a:pt x="5487" y="9067"/>
                  <a:pt x="4703" y="9333"/>
                </a:cubicBezTo>
                <a:cubicBezTo>
                  <a:pt x="4703" y="9333"/>
                  <a:pt x="4703" y="9333"/>
                  <a:pt x="4703" y="9400"/>
                </a:cubicBezTo>
                <a:cubicBezTo>
                  <a:pt x="9319" y="0"/>
                  <a:pt x="9319" y="0"/>
                  <a:pt x="9319" y="0"/>
                </a:cubicBezTo>
                <a:cubicBezTo>
                  <a:pt x="10277" y="267"/>
                  <a:pt x="11235" y="533"/>
                  <a:pt x="12106" y="933"/>
                </a:cubicBezTo>
                <a:cubicBezTo>
                  <a:pt x="20381" y="4200"/>
                  <a:pt x="21600" y="8733"/>
                  <a:pt x="21426" y="13667"/>
                </a:cubicBezTo>
                <a:close/>
              </a:path>
            </a:pathLst>
          </a:custGeom>
          <a:gradFill rotWithShape="0">
            <a:gsLst>
              <a:gs pos="0">
                <a:srgbClr val="686868"/>
              </a:gs>
              <a:gs pos="100000">
                <a:srgbClr val="4e4e4e"/>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24" name="Shape 2439"/>
          <p:cNvSpPr/>
          <p:nvPr/>
        </p:nvSpPr>
        <p:spPr>
          <a:xfrm>
            <a:off x="1460520" y="2644920"/>
            <a:ext cx="1092240" cy="1106280"/>
          </a:xfrm>
          <a:custGeom>
            <a:avLst/>
            <a:gdLst/>
            <a:ahLst/>
            <a:rect l="l" t="t" r="r" b="b"/>
            <a:pathLst>
              <a:path w="21600" h="21600">
                <a:moveTo>
                  <a:pt x="12110" y="19636"/>
                </a:moveTo>
                <a:cubicBezTo>
                  <a:pt x="12653" y="18922"/>
                  <a:pt x="12924" y="18030"/>
                  <a:pt x="12743" y="17137"/>
                </a:cubicBezTo>
                <a:cubicBezTo>
                  <a:pt x="12472" y="15441"/>
                  <a:pt x="10845" y="14281"/>
                  <a:pt x="9218" y="14638"/>
                </a:cubicBezTo>
                <a:cubicBezTo>
                  <a:pt x="7501" y="14906"/>
                  <a:pt x="6326" y="16423"/>
                  <a:pt x="6597" y="18119"/>
                </a:cubicBezTo>
                <a:cubicBezTo>
                  <a:pt x="6778" y="19012"/>
                  <a:pt x="7321" y="19815"/>
                  <a:pt x="8044" y="20261"/>
                </a:cubicBezTo>
                <a:cubicBezTo>
                  <a:pt x="8044" y="20261"/>
                  <a:pt x="8134" y="20261"/>
                  <a:pt x="8134" y="20261"/>
                </a:cubicBezTo>
                <a:cubicBezTo>
                  <a:pt x="0" y="21600"/>
                  <a:pt x="0" y="21600"/>
                  <a:pt x="0" y="21600"/>
                </a:cubicBezTo>
                <a:cubicBezTo>
                  <a:pt x="181" y="21154"/>
                  <a:pt x="542" y="20618"/>
                  <a:pt x="904" y="20083"/>
                </a:cubicBezTo>
                <a:cubicBezTo>
                  <a:pt x="1175" y="19547"/>
                  <a:pt x="3254" y="16512"/>
                  <a:pt x="4248" y="14995"/>
                </a:cubicBezTo>
                <a:cubicBezTo>
                  <a:pt x="4609" y="14460"/>
                  <a:pt x="4700" y="13835"/>
                  <a:pt x="4519" y="13299"/>
                </a:cubicBezTo>
                <a:cubicBezTo>
                  <a:pt x="2802" y="7944"/>
                  <a:pt x="4338" y="3392"/>
                  <a:pt x="6597" y="0"/>
                </a:cubicBezTo>
                <a:cubicBezTo>
                  <a:pt x="13105" y="7944"/>
                  <a:pt x="13105" y="7944"/>
                  <a:pt x="13105" y="7944"/>
                </a:cubicBezTo>
                <a:cubicBezTo>
                  <a:pt x="13376" y="8212"/>
                  <a:pt x="13828" y="8301"/>
                  <a:pt x="14189" y="8033"/>
                </a:cubicBezTo>
                <a:cubicBezTo>
                  <a:pt x="14460" y="7765"/>
                  <a:pt x="14641" y="7408"/>
                  <a:pt x="14641" y="7051"/>
                </a:cubicBezTo>
                <a:cubicBezTo>
                  <a:pt x="14641" y="6426"/>
                  <a:pt x="14912" y="5891"/>
                  <a:pt x="15454" y="5445"/>
                </a:cubicBezTo>
                <a:cubicBezTo>
                  <a:pt x="16358" y="4731"/>
                  <a:pt x="17714" y="4820"/>
                  <a:pt x="18527" y="5712"/>
                </a:cubicBezTo>
                <a:cubicBezTo>
                  <a:pt x="19250" y="6694"/>
                  <a:pt x="19069" y="8033"/>
                  <a:pt x="18166" y="8747"/>
                </a:cubicBezTo>
                <a:cubicBezTo>
                  <a:pt x="17714" y="9193"/>
                  <a:pt x="17081" y="9283"/>
                  <a:pt x="16449" y="9193"/>
                </a:cubicBezTo>
                <a:cubicBezTo>
                  <a:pt x="16087" y="9104"/>
                  <a:pt x="15635" y="9283"/>
                  <a:pt x="15364" y="9461"/>
                </a:cubicBezTo>
                <a:cubicBezTo>
                  <a:pt x="15093" y="9729"/>
                  <a:pt x="15003" y="10175"/>
                  <a:pt x="15274" y="10443"/>
                </a:cubicBezTo>
                <a:cubicBezTo>
                  <a:pt x="21600" y="18119"/>
                  <a:pt x="21600" y="18119"/>
                  <a:pt x="21600" y="18119"/>
                </a:cubicBezTo>
                <a:cubicBezTo>
                  <a:pt x="12020" y="19636"/>
                  <a:pt x="12020" y="19636"/>
                  <a:pt x="12020" y="19636"/>
                </a:cubicBezTo>
                <a:cubicBezTo>
                  <a:pt x="12110" y="19636"/>
                  <a:pt x="12110" y="19636"/>
                  <a:pt x="12110" y="19636"/>
                </a:cubicBezTo>
                <a:close/>
              </a:path>
            </a:pathLst>
          </a:custGeom>
          <a:gradFill rotWithShape="0">
            <a:gsLst>
              <a:gs pos="0">
                <a:srgbClr val="c0c0c0"/>
              </a:gs>
              <a:gs pos="100000">
                <a:srgbClr val="909090"/>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25" name="Shape 2440"/>
          <p:cNvSpPr/>
          <p:nvPr/>
        </p:nvSpPr>
        <p:spPr>
          <a:xfrm>
            <a:off x="1427040" y="3438360"/>
            <a:ext cx="1135080" cy="1229040"/>
          </a:xfrm>
          <a:custGeom>
            <a:avLst/>
            <a:gdLst/>
            <a:ahLst/>
            <a:rect l="l" t="t" r="r" b="b"/>
            <a:pathLst>
              <a:path w="21374" h="21094">
                <a:moveTo>
                  <a:pt x="21374" y="3085"/>
                </a:moveTo>
                <a:cubicBezTo>
                  <a:pt x="18104" y="10940"/>
                  <a:pt x="18104" y="10940"/>
                  <a:pt x="18104" y="10940"/>
                </a:cubicBezTo>
                <a:cubicBezTo>
                  <a:pt x="18104" y="10940"/>
                  <a:pt x="18104" y="10940"/>
                  <a:pt x="18018" y="10940"/>
                </a:cubicBezTo>
                <a:cubicBezTo>
                  <a:pt x="17760" y="10154"/>
                  <a:pt x="17157" y="9605"/>
                  <a:pt x="16297" y="9290"/>
                </a:cubicBezTo>
                <a:cubicBezTo>
                  <a:pt x="14834" y="8819"/>
                  <a:pt x="13113" y="9526"/>
                  <a:pt x="12510" y="10940"/>
                </a:cubicBezTo>
                <a:cubicBezTo>
                  <a:pt x="11908" y="12275"/>
                  <a:pt x="12682" y="13846"/>
                  <a:pt x="14231" y="14396"/>
                </a:cubicBezTo>
                <a:cubicBezTo>
                  <a:pt x="15006" y="14710"/>
                  <a:pt x="15952" y="14632"/>
                  <a:pt x="16641" y="14239"/>
                </a:cubicBezTo>
                <a:cubicBezTo>
                  <a:pt x="16727" y="14239"/>
                  <a:pt x="16727" y="14239"/>
                  <a:pt x="16727" y="14239"/>
                </a:cubicBezTo>
                <a:cubicBezTo>
                  <a:pt x="14231" y="20365"/>
                  <a:pt x="14231" y="20365"/>
                  <a:pt x="14231" y="20365"/>
                </a:cubicBezTo>
                <a:cubicBezTo>
                  <a:pt x="9412" y="21465"/>
                  <a:pt x="6745" y="20994"/>
                  <a:pt x="6745" y="20994"/>
                </a:cubicBezTo>
                <a:cubicBezTo>
                  <a:pt x="5023" y="20837"/>
                  <a:pt x="3991" y="19030"/>
                  <a:pt x="4163" y="17852"/>
                </a:cubicBezTo>
                <a:cubicBezTo>
                  <a:pt x="4421" y="16595"/>
                  <a:pt x="4507" y="16045"/>
                  <a:pt x="3733" y="15496"/>
                </a:cubicBezTo>
                <a:cubicBezTo>
                  <a:pt x="3044" y="15024"/>
                  <a:pt x="3044" y="14396"/>
                  <a:pt x="3388" y="14160"/>
                </a:cubicBezTo>
                <a:cubicBezTo>
                  <a:pt x="3733" y="13925"/>
                  <a:pt x="4937" y="13453"/>
                  <a:pt x="4937" y="13453"/>
                </a:cubicBezTo>
                <a:cubicBezTo>
                  <a:pt x="4937" y="13453"/>
                  <a:pt x="4077" y="12904"/>
                  <a:pt x="3560" y="12746"/>
                </a:cubicBezTo>
                <a:cubicBezTo>
                  <a:pt x="3044" y="12511"/>
                  <a:pt x="2786" y="11725"/>
                  <a:pt x="3044" y="11254"/>
                </a:cubicBezTo>
                <a:cubicBezTo>
                  <a:pt x="3302" y="10783"/>
                  <a:pt x="3388" y="9605"/>
                  <a:pt x="3388" y="9605"/>
                </a:cubicBezTo>
                <a:cubicBezTo>
                  <a:pt x="3388" y="9605"/>
                  <a:pt x="2184" y="9055"/>
                  <a:pt x="893" y="8426"/>
                </a:cubicBezTo>
                <a:cubicBezTo>
                  <a:pt x="32" y="8034"/>
                  <a:pt x="-226" y="7405"/>
                  <a:pt x="204" y="6306"/>
                </a:cubicBezTo>
                <a:cubicBezTo>
                  <a:pt x="8810" y="4970"/>
                  <a:pt x="8810" y="4970"/>
                  <a:pt x="8810" y="4970"/>
                </a:cubicBezTo>
                <a:cubicBezTo>
                  <a:pt x="9154" y="4970"/>
                  <a:pt x="9412" y="4656"/>
                  <a:pt x="9412" y="4264"/>
                </a:cubicBezTo>
                <a:cubicBezTo>
                  <a:pt x="9326" y="3949"/>
                  <a:pt x="9068" y="3635"/>
                  <a:pt x="8810" y="3478"/>
                </a:cubicBezTo>
                <a:cubicBezTo>
                  <a:pt x="8294" y="3164"/>
                  <a:pt x="7949" y="2771"/>
                  <a:pt x="7863" y="2143"/>
                </a:cubicBezTo>
                <a:cubicBezTo>
                  <a:pt x="7605" y="1122"/>
                  <a:pt x="8380" y="179"/>
                  <a:pt x="9498" y="22"/>
                </a:cubicBezTo>
                <a:cubicBezTo>
                  <a:pt x="10617" y="-135"/>
                  <a:pt x="11736" y="572"/>
                  <a:pt x="11908" y="1593"/>
                </a:cubicBezTo>
                <a:cubicBezTo>
                  <a:pt x="11994" y="2143"/>
                  <a:pt x="11822" y="2693"/>
                  <a:pt x="11478" y="3085"/>
                </a:cubicBezTo>
                <a:cubicBezTo>
                  <a:pt x="11219" y="3321"/>
                  <a:pt x="11133" y="3714"/>
                  <a:pt x="11133" y="4028"/>
                </a:cubicBezTo>
                <a:cubicBezTo>
                  <a:pt x="11219" y="4342"/>
                  <a:pt x="11564" y="4578"/>
                  <a:pt x="11994" y="4499"/>
                </a:cubicBezTo>
                <a:lnTo>
                  <a:pt x="21374" y="3085"/>
                </a:lnTo>
                <a:close/>
              </a:path>
            </a:pathLst>
          </a:custGeom>
          <a:gradFill rotWithShape="0">
            <a:gsLst>
              <a:gs pos="0">
                <a:srgbClr val="646464"/>
              </a:gs>
              <a:gs pos="100000">
                <a:srgbClr val="4b4b4b"/>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26" name="Shape 2441"/>
          <p:cNvSpPr/>
          <p:nvPr/>
        </p:nvSpPr>
        <p:spPr>
          <a:xfrm>
            <a:off x="2128680" y="3637080"/>
            <a:ext cx="1279800" cy="1439640"/>
          </a:xfrm>
          <a:custGeom>
            <a:avLst/>
            <a:gdLst/>
            <a:ahLst/>
            <a:rect l="l" t="t" r="r" b="b"/>
            <a:pathLst>
              <a:path w="21352" h="21600">
                <a:moveTo>
                  <a:pt x="21352" y="14743"/>
                </a:moveTo>
                <a:cubicBezTo>
                  <a:pt x="21352" y="17006"/>
                  <a:pt x="21352" y="19680"/>
                  <a:pt x="21352" y="19680"/>
                </a:cubicBezTo>
                <a:cubicBezTo>
                  <a:pt x="21352" y="19680"/>
                  <a:pt x="18375" y="21600"/>
                  <a:pt x="11201" y="21600"/>
                </a:cubicBezTo>
                <a:cubicBezTo>
                  <a:pt x="4026" y="21600"/>
                  <a:pt x="1050" y="19680"/>
                  <a:pt x="1050" y="19680"/>
                </a:cubicBezTo>
                <a:cubicBezTo>
                  <a:pt x="1050" y="16526"/>
                  <a:pt x="1050" y="16526"/>
                  <a:pt x="1050" y="16526"/>
                </a:cubicBezTo>
                <a:cubicBezTo>
                  <a:pt x="3950" y="9463"/>
                  <a:pt x="3950" y="9463"/>
                  <a:pt x="3950" y="9463"/>
                </a:cubicBezTo>
                <a:cubicBezTo>
                  <a:pt x="4103" y="9189"/>
                  <a:pt x="3950" y="8914"/>
                  <a:pt x="3645" y="8777"/>
                </a:cubicBezTo>
                <a:cubicBezTo>
                  <a:pt x="3339" y="8709"/>
                  <a:pt x="2958" y="8709"/>
                  <a:pt x="2652" y="8846"/>
                </a:cubicBezTo>
                <a:cubicBezTo>
                  <a:pt x="2271" y="9051"/>
                  <a:pt x="1660" y="9120"/>
                  <a:pt x="1202" y="8914"/>
                </a:cubicBezTo>
                <a:cubicBezTo>
                  <a:pt x="210" y="8640"/>
                  <a:pt x="-248" y="7680"/>
                  <a:pt x="134" y="6789"/>
                </a:cubicBezTo>
                <a:cubicBezTo>
                  <a:pt x="439" y="5966"/>
                  <a:pt x="1507" y="5554"/>
                  <a:pt x="2500" y="5829"/>
                </a:cubicBezTo>
                <a:cubicBezTo>
                  <a:pt x="2958" y="6034"/>
                  <a:pt x="3339" y="6377"/>
                  <a:pt x="3568" y="6789"/>
                </a:cubicBezTo>
                <a:cubicBezTo>
                  <a:pt x="3645" y="7063"/>
                  <a:pt x="3874" y="7337"/>
                  <a:pt x="4179" y="7406"/>
                </a:cubicBezTo>
                <a:cubicBezTo>
                  <a:pt x="4484" y="7543"/>
                  <a:pt x="4866" y="7406"/>
                  <a:pt x="5018" y="7131"/>
                </a:cubicBezTo>
                <a:cubicBezTo>
                  <a:pt x="7995" y="0"/>
                  <a:pt x="7995" y="0"/>
                  <a:pt x="7995" y="0"/>
                </a:cubicBezTo>
                <a:cubicBezTo>
                  <a:pt x="13109" y="5691"/>
                  <a:pt x="13109" y="5691"/>
                  <a:pt x="13109" y="5691"/>
                </a:cubicBezTo>
                <a:cubicBezTo>
                  <a:pt x="13109" y="5691"/>
                  <a:pt x="13109" y="5691"/>
                  <a:pt x="13033" y="5691"/>
                </a:cubicBezTo>
                <a:cubicBezTo>
                  <a:pt x="12346" y="5554"/>
                  <a:pt x="11582" y="5760"/>
                  <a:pt x="10972" y="6171"/>
                </a:cubicBezTo>
                <a:cubicBezTo>
                  <a:pt x="9827" y="6994"/>
                  <a:pt x="9674" y="8503"/>
                  <a:pt x="10590" y="9531"/>
                </a:cubicBezTo>
                <a:cubicBezTo>
                  <a:pt x="11506" y="10560"/>
                  <a:pt x="13185" y="10697"/>
                  <a:pt x="14330" y="9874"/>
                </a:cubicBezTo>
                <a:cubicBezTo>
                  <a:pt x="14864" y="9394"/>
                  <a:pt x="15246" y="8777"/>
                  <a:pt x="15246" y="8091"/>
                </a:cubicBezTo>
                <a:cubicBezTo>
                  <a:pt x="15246" y="8091"/>
                  <a:pt x="15246" y="8023"/>
                  <a:pt x="15246" y="8023"/>
                </a:cubicBezTo>
                <a:lnTo>
                  <a:pt x="21352" y="14743"/>
                </a:lnTo>
                <a:close/>
              </a:path>
            </a:pathLst>
          </a:custGeom>
          <a:gradFill rotWithShape="0">
            <a:gsLst>
              <a:gs pos="0">
                <a:srgbClr val="595959"/>
              </a:gs>
              <a:gs pos="100000">
                <a:srgbClr val="434343"/>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27" name="Shape 2442"/>
          <p:cNvSpPr/>
          <p:nvPr/>
        </p:nvSpPr>
        <p:spPr>
          <a:xfrm>
            <a:off x="2644920" y="3430440"/>
            <a:ext cx="1082520" cy="1111320"/>
          </a:xfrm>
          <a:custGeom>
            <a:avLst/>
            <a:gdLst/>
            <a:ahLst/>
            <a:rect l="l" t="t" r="r" b="b"/>
            <a:pathLst>
              <a:path w="21600" h="21600">
                <a:moveTo>
                  <a:pt x="21600" y="0"/>
                </a:moveTo>
                <a:cubicBezTo>
                  <a:pt x="20506" y="4089"/>
                  <a:pt x="18501" y="6844"/>
                  <a:pt x="17316" y="8978"/>
                </a:cubicBezTo>
                <a:cubicBezTo>
                  <a:pt x="15767" y="11822"/>
                  <a:pt x="15220" y="17333"/>
                  <a:pt x="15220" y="19822"/>
                </a:cubicBezTo>
                <a:cubicBezTo>
                  <a:pt x="15220" y="21600"/>
                  <a:pt x="15220" y="21600"/>
                  <a:pt x="15220" y="21600"/>
                </a:cubicBezTo>
                <a:cubicBezTo>
                  <a:pt x="8476" y="13600"/>
                  <a:pt x="8476" y="13600"/>
                  <a:pt x="8476" y="13600"/>
                </a:cubicBezTo>
                <a:cubicBezTo>
                  <a:pt x="8294" y="13244"/>
                  <a:pt x="7838" y="13244"/>
                  <a:pt x="7473" y="13511"/>
                </a:cubicBezTo>
                <a:cubicBezTo>
                  <a:pt x="7200" y="13689"/>
                  <a:pt x="7018" y="14044"/>
                  <a:pt x="7018" y="14489"/>
                </a:cubicBezTo>
                <a:cubicBezTo>
                  <a:pt x="6927" y="15022"/>
                  <a:pt x="6744" y="15644"/>
                  <a:pt x="6197" y="16089"/>
                </a:cubicBezTo>
                <a:cubicBezTo>
                  <a:pt x="5286" y="16800"/>
                  <a:pt x="3919" y="16622"/>
                  <a:pt x="3099" y="15733"/>
                </a:cubicBezTo>
                <a:cubicBezTo>
                  <a:pt x="2370" y="14844"/>
                  <a:pt x="2461" y="13511"/>
                  <a:pt x="3463" y="12711"/>
                </a:cubicBezTo>
                <a:cubicBezTo>
                  <a:pt x="3919" y="12356"/>
                  <a:pt x="4557" y="12178"/>
                  <a:pt x="5195" y="12267"/>
                </a:cubicBezTo>
                <a:cubicBezTo>
                  <a:pt x="5559" y="12356"/>
                  <a:pt x="5924" y="12267"/>
                  <a:pt x="6289" y="12000"/>
                </a:cubicBezTo>
                <a:cubicBezTo>
                  <a:pt x="6562" y="11733"/>
                  <a:pt x="6653" y="11289"/>
                  <a:pt x="6380" y="11022"/>
                </a:cubicBezTo>
                <a:cubicBezTo>
                  <a:pt x="0" y="3378"/>
                  <a:pt x="0" y="3378"/>
                  <a:pt x="0" y="3378"/>
                </a:cubicBezTo>
                <a:cubicBezTo>
                  <a:pt x="9570" y="1867"/>
                  <a:pt x="9570" y="1867"/>
                  <a:pt x="9570" y="1867"/>
                </a:cubicBezTo>
                <a:cubicBezTo>
                  <a:pt x="9570" y="1867"/>
                  <a:pt x="9570" y="1956"/>
                  <a:pt x="9570" y="1956"/>
                </a:cubicBezTo>
                <a:cubicBezTo>
                  <a:pt x="9023" y="2667"/>
                  <a:pt x="8749" y="3556"/>
                  <a:pt x="8841" y="4356"/>
                </a:cubicBezTo>
                <a:cubicBezTo>
                  <a:pt x="9205" y="6044"/>
                  <a:pt x="10754" y="7200"/>
                  <a:pt x="12486" y="6933"/>
                </a:cubicBezTo>
                <a:cubicBezTo>
                  <a:pt x="14218" y="6667"/>
                  <a:pt x="15403" y="5067"/>
                  <a:pt x="15129" y="3378"/>
                </a:cubicBezTo>
                <a:cubicBezTo>
                  <a:pt x="14947" y="2489"/>
                  <a:pt x="14400" y="1778"/>
                  <a:pt x="13671" y="1333"/>
                </a:cubicBezTo>
                <a:cubicBezTo>
                  <a:pt x="13580" y="1244"/>
                  <a:pt x="13580" y="1244"/>
                  <a:pt x="13580" y="1244"/>
                </a:cubicBezTo>
                <a:lnTo>
                  <a:pt x="21600" y="0"/>
                </a:lnTo>
                <a:close/>
              </a:path>
            </a:pathLst>
          </a:custGeom>
          <a:gradFill rotWithShape="0">
            <a:gsLst>
              <a:gs pos="0">
                <a:srgbClr val="464646"/>
              </a:gs>
              <a:gs pos="100000">
                <a:srgbClr val="353535"/>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28" name="TextBox 49"/>
          <p:cNvSpPr/>
          <p:nvPr/>
        </p:nvSpPr>
        <p:spPr>
          <a:xfrm>
            <a:off x="3922560" y="2879640"/>
            <a:ext cx="21463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a:t>
            </a:r>
            <a:endParaRPr b="0" lang="en-US" sz="1100" spc="-1" strike="noStrike">
              <a:solidFill>
                <a:srgbClr val="3f3f3f"/>
              </a:solidFill>
              <a:latin typeface="Roboto"/>
            </a:endParaRPr>
          </a:p>
        </p:txBody>
      </p:sp>
      <p:sp>
        <p:nvSpPr>
          <p:cNvPr id="1429" name="TextBox 50"/>
          <p:cNvSpPr/>
          <p:nvPr/>
        </p:nvSpPr>
        <p:spPr>
          <a:xfrm>
            <a:off x="3906720" y="2577960"/>
            <a:ext cx="14637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opic Here</a:t>
            </a:r>
            <a:endParaRPr b="0" lang="en-US" sz="1600" spc="-1" strike="noStrike">
              <a:solidFill>
                <a:srgbClr val="3f3f3f"/>
              </a:solidFill>
              <a:latin typeface="Roboto"/>
            </a:endParaRPr>
          </a:p>
        </p:txBody>
      </p:sp>
      <p:sp>
        <p:nvSpPr>
          <p:cNvPr id="1430" name="TextBox 51"/>
          <p:cNvSpPr/>
          <p:nvPr/>
        </p:nvSpPr>
        <p:spPr>
          <a:xfrm>
            <a:off x="3922560" y="4159080"/>
            <a:ext cx="21463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a:t>
            </a:r>
            <a:endParaRPr b="0" lang="en-US" sz="1100" spc="-1" strike="noStrike">
              <a:solidFill>
                <a:srgbClr val="3f3f3f"/>
              </a:solidFill>
              <a:latin typeface="Roboto"/>
            </a:endParaRPr>
          </a:p>
        </p:txBody>
      </p:sp>
      <p:sp>
        <p:nvSpPr>
          <p:cNvPr id="1431" name="TextBox 52"/>
          <p:cNvSpPr/>
          <p:nvPr/>
        </p:nvSpPr>
        <p:spPr>
          <a:xfrm>
            <a:off x="3906720" y="3857760"/>
            <a:ext cx="14637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opic Here</a:t>
            </a:r>
            <a:endParaRPr b="0" lang="en-US" sz="1600" spc="-1" strike="noStrike">
              <a:solidFill>
                <a:srgbClr val="3f3f3f"/>
              </a:solidFill>
              <a:latin typeface="Roboto"/>
            </a:endParaRPr>
          </a:p>
        </p:txBody>
      </p:sp>
      <p:sp>
        <p:nvSpPr>
          <p:cNvPr id="1432" name="Shape 2437"/>
          <p:cNvSpPr/>
          <p:nvPr/>
        </p:nvSpPr>
        <p:spPr>
          <a:xfrm>
            <a:off x="6670800" y="2211480"/>
            <a:ext cx="1252440" cy="1330200"/>
          </a:xfrm>
          <a:custGeom>
            <a:avLst/>
            <a:gdLst/>
            <a:ahLst/>
            <a:rect l="l" t="t" r="r" b="b"/>
            <a:pathLst>
              <a:path w="21443" h="20601">
                <a:moveTo>
                  <a:pt x="21209" y="13590"/>
                </a:moveTo>
                <a:cubicBezTo>
                  <a:pt x="20817" y="14511"/>
                  <a:pt x="19800" y="14935"/>
                  <a:pt x="18783" y="14581"/>
                </a:cubicBezTo>
                <a:cubicBezTo>
                  <a:pt x="18235" y="14440"/>
                  <a:pt x="17922" y="14015"/>
                  <a:pt x="17687" y="13590"/>
                </a:cubicBezTo>
                <a:cubicBezTo>
                  <a:pt x="17609" y="13307"/>
                  <a:pt x="17296" y="13094"/>
                  <a:pt x="16983" y="12952"/>
                </a:cubicBezTo>
                <a:cubicBezTo>
                  <a:pt x="16670" y="12882"/>
                  <a:pt x="16357" y="13023"/>
                  <a:pt x="16200" y="13307"/>
                </a:cubicBezTo>
                <a:cubicBezTo>
                  <a:pt x="13148" y="20601"/>
                  <a:pt x="13148" y="20601"/>
                  <a:pt x="13148" y="20601"/>
                </a:cubicBezTo>
                <a:cubicBezTo>
                  <a:pt x="7826" y="14794"/>
                  <a:pt x="7826" y="14794"/>
                  <a:pt x="7826" y="14794"/>
                </a:cubicBezTo>
                <a:cubicBezTo>
                  <a:pt x="7904" y="14794"/>
                  <a:pt x="7904" y="14794"/>
                  <a:pt x="7904" y="14794"/>
                </a:cubicBezTo>
                <a:cubicBezTo>
                  <a:pt x="8687" y="14865"/>
                  <a:pt x="9470" y="14723"/>
                  <a:pt x="10096" y="14227"/>
                </a:cubicBezTo>
                <a:cubicBezTo>
                  <a:pt x="11270" y="13377"/>
                  <a:pt x="11426" y="11819"/>
                  <a:pt x="10487" y="10828"/>
                </a:cubicBezTo>
                <a:cubicBezTo>
                  <a:pt x="9548" y="9766"/>
                  <a:pt x="7826" y="9624"/>
                  <a:pt x="6652" y="10474"/>
                </a:cubicBezTo>
                <a:cubicBezTo>
                  <a:pt x="6026" y="10899"/>
                  <a:pt x="5713" y="11536"/>
                  <a:pt x="5713" y="12244"/>
                </a:cubicBezTo>
                <a:cubicBezTo>
                  <a:pt x="5635" y="12315"/>
                  <a:pt x="5635" y="12315"/>
                  <a:pt x="5635" y="12315"/>
                </a:cubicBezTo>
                <a:cubicBezTo>
                  <a:pt x="0" y="6083"/>
                  <a:pt x="0" y="6083"/>
                  <a:pt x="0" y="6083"/>
                </a:cubicBezTo>
                <a:cubicBezTo>
                  <a:pt x="1252" y="4525"/>
                  <a:pt x="2739" y="3321"/>
                  <a:pt x="3835" y="2542"/>
                </a:cubicBezTo>
                <a:cubicBezTo>
                  <a:pt x="6574" y="701"/>
                  <a:pt x="14557" y="-999"/>
                  <a:pt x="21443" y="701"/>
                </a:cubicBezTo>
                <a:cubicBezTo>
                  <a:pt x="17217" y="10828"/>
                  <a:pt x="17217" y="10828"/>
                  <a:pt x="17217" y="10828"/>
                </a:cubicBezTo>
                <a:cubicBezTo>
                  <a:pt x="17217" y="10828"/>
                  <a:pt x="17217" y="10828"/>
                  <a:pt x="17217" y="10828"/>
                </a:cubicBezTo>
                <a:cubicBezTo>
                  <a:pt x="17139" y="11111"/>
                  <a:pt x="17296" y="11465"/>
                  <a:pt x="17609" y="11536"/>
                </a:cubicBezTo>
                <a:cubicBezTo>
                  <a:pt x="17922" y="11678"/>
                  <a:pt x="18313" y="11678"/>
                  <a:pt x="18548" y="11536"/>
                </a:cubicBezTo>
                <a:cubicBezTo>
                  <a:pt x="19017" y="11253"/>
                  <a:pt x="19565" y="11253"/>
                  <a:pt x="20113" y="11394"/>
                </a:cubicBezTo>
                <a:cubicBezTo>
                  <a:pt x="21052" y="11749"/>
                  <a:pt x="21600" y="12740"/>
                  <a:pt x="21209" y="13590"/>
                </a:cubicBezTo>
                <a:close/>
              </a:path>
            </a:pathLst>
          </a:custGeom>
          <a:gradFill rotWithShape="0">
            <a:gsLst>
              <a:gs pos="0">
                <a:srgbClr val="8e8e8e"/>
              </a:gs>
              <a:gs pos="100000">
                <a:srgbClr val="6a6a6a"/>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33" name="Shape 2438"/>
          <p:cNvSpPr/>
          <p:nvPr/>
        </p:nvSpPr>
        <p:spPr>
          <a:xfrm>
            <a:off x="7483320" y="2270160"/>
            <a:ext cx="1125720" cy="1473120"/>
          </a:xfrm>
          <a:custGeom>
            <a:avLst/>
            <a:gdLst/>
            <a:ahLst/>
            <a:rect l="l" t="t" r="r" b="b"/>
            <a:pathLst>
              <a:path w="21441" h="21485">
                <a:moveTo>
                  <a:pt x="21426" y="13667"/>
                </a:moveTo>
                <a:cubicBezTo>
                  <a:pt x="21339" y="14533"/>
                  <a:pt x="21252" y="15400"/>
                  <a:pt x="20990" y="16133"/>
                </a:cubicBezTo>
                <a:cubicBezTo>
                  <a:pt x="12716" y="17200"/>
                  <a:pt x="12716" y="17200"/>
                  <a:pt x="12716" y="17200"/>
                </a:cubicBezTo>
                <a:cubicBezTo>
                  <a:pt x="12281" y="17267"/>
                  <a:pt x="12106" y="17533"/>
                  <a:pt x="12106" y="17800"/>
                </a:cubicBezTo>
                <a:cubicBezTo>
                  <a:pt x="12194" y="18133"/>
                  <a:pt x="12368" y="18333"/>
                  <a:pt x="12716" y="18533"/>
                </a:cubicBezTo>
                <a:cubicBezTo>
                  <a:pt x="13239" y="18733"/>
                  <a:pt x="13587" y="19133"/>
                  <a:pt x="13674" y="19600"/>
                </a:cubicBezTo>
                <a:cubicBezTo>
                  <a:pt x="13848" y="20467"/>
                  <a:pt x="13065" y="21267"/>
                  <a:pt x="11932" y="21467"/>
                </a:cubicBezTo>
                <a:cubicBezTo>
                  <a:pt x="10800" y="21600"/>
                  <a:pt x="9755" y="21000"/>
                  <a:pt x="9581" y="20133"/>
                </a:cubicBezTo>
                <a:cubicBezTo>
                  <a:pt x="9494" y="19667"/>
                  <a:pt x="9668" y="19200"/>
                  <a:pt x="10016" y="18867"/>
                </a:cubicBezTo>
                <a:cubicBezTo>
                  <a:pt x="10277" y="18600"/>
                  <a:pt x="10365" y="18333"/>
                  <a:pt x="10277" y="18067"/>
                </a:cubicBezTo>
                <a:cubicBezTo>
                  <a:pt x="10277" y="17733"/>
                  <a:pt x="9929" y="17600"/>
                  <a:pt x="9494" y="17600"/>
                </a:cubicBezTo>
                <a:cubicBezTo>
                  <a:pt x="9494" y="17600"/>
                  <a:pt x="9494" y="17600"/>
                  <a:pt x="9494" y="17600"/>
                </a:cubicBezTo>
                <a:cubicBezTo>
                  <a:pt x="0" y="18800"/>
                  <a:pt x="0" y="18800"/>
                  <a:pt x="0" y="18800"/>
                </a:cubicBezTo>
                <a:cubicBezTo>
                  <a:pt x="3310" y="12133"/>
                  <a:pt x="3310" y="12133"/>
                  <a:pt x="3310" y="12133"/>
                </a:cubicBezTo>
                <a:cubicBezTo>
                  <a:pt x="3310" y="12133"/>
                  <a:pt x="3310" y="12200"/>
                  <a:pt x="3310" y="12200"/>
                </a:cubicBezTo>
                <a:cubicBezTo>
                  <a:pt x="3658" y="12800"/>
                  <a:pt x="4268" y="13267"/>
                  <a:pt x="5052" y="13533"/>
                </a:cubicBezTo>
                <a:cubicBezTo>
                  <a:pt x="6619" y="14000"/>
                  <a:pt x="8361" y="13400"/>
                  <a:pt x="8971" y="12200"/>
                </a:cubicBezTo>
                <a:cubicBezTo>
                  <a:pt x="9581" y="11000"/>
                  <a:pt x="8797" y="9667"/>
                  <a:pt x="7229" y="9200"/>
                </a:cubicBezTo>
                <a:cubicBezTo>
                  <a:pt x="6445" y="9000"/>
                  <a:pt x="5487" y="9067"/>
                  <a:pt x="4703" y="9333"/>
                </a:cubicBezTo>
                <a:cubicBezTo>
                  <a:pt x="4703" y="9333"/>
                  <a:pt x="4703" y="9333"/>
                  <a:pt x="4703" y="9400"/>
                </a:cubicBezTo>
                <a:cubicBezTo>
                  <a:pt x="9319" y="0"/>
                  <a:pt x="9319" y="0"/>
                  <a:pt x="9319" y="0"/>
                </a:cubicBezTo>
                <a:cubicBezTo>
                  <a:pt x="10277" y="267"/>
                  <a:pt x="11235" y="533"/>
                  <a:pt x="12106" y="933"/>
                </a:cubicBezTo>
                <a:cubicBezTo>
                  <a:pt x="20381" y="4200"/>
                  <a:pt x="21600" y="8733"/>
                  <a:pt x="21426" y="13667"/>
                </a:cubicBezTo>
                <a:close/>
              </a:path>
            </a:pathLst>
          </a:custGeom>
          <a:gradFill rotWithShape="0">
            <a:gsLst>
              <a:gs pos="0">
                <a:srgbClr val="686868"/>
              </a:gs>
              <a:gs pos="100000">
                <a:srgbClr val="4e4e4e"/>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34" name="Shape 2439"/>
          <p:cNvSpPr/>
          <p:nvPr/>
        </p:nvSpPr>
        <p:spPr>
          <a:xfrm>
            <a:off x="6308640" y="2644920"/>
            <a:ext cx="1092240" cy="1106280"/>
          </a:xfrm>
          <a:custGeom>
            <a:avLst/>
            <a:gdLst/>
            <a:ahLst/>
            <a:rect l="l" t="t" r="r" b="b"/>
            <a:pathLst>
              <a:path w="21600" h="21600">
                <a:moveTo>
                  <a:pt x="12110" y="19636"/>
                </a:moveTo>
                <a:cubicBezTo>
                  <a:pt x="12653" y="18922"/>
                  <a:pt x="12924" y="18030"/>
                  <a:pt x="12743" y="17137"/>
                </a:cubicBezTo>
                <a:cubicBezTo>
                  <a:pt x="12472" y="15441"/>
                  <a:pt x="10845" y="14281"/>
                  <a:pt x="9218" y="14638"/>
                </a:cubicBezTo>
                <a:cubicBezTo>
                  <a:pt x="7501" y="14906"/>
                  <a:pt x="6326" y="16423"/>
                  <a:pt x="6597" y="18119"/>
                </a:cubicBezTo>
                <a:cubicBezTo>
                  <a:pt x="6778" y="19012"/>
                  <a:pt x="7321" y="19815"/>
                  <a:pt x="8044" y="20261"/>
                </a:cubicBezTo>
                <a:cubicBezTo>
                  <a:pt x="8044" y="20261"/>
                  <a:pt x="8134" y="20261"/>
                  <a:pt x="8134" y="20261"/>
                </a:cubicBezTo>
                <a:cubicBezTo>
                  <a:pt x="0" y="21600"/>
                  <a:pt x="0" y="21600"/>
                  <a:pt x="0" y="21600"/>
                </a:cubicBezTo>
                <a:cubicBezTo>
                  <a:pt x="181" y="21154"/>
                  <a:pt x="542" y="20618"/>
                  <a:pt x="904" y="20083"/>
                </a:cubicBezTo>
                <a:cubicBezTo>
                  <a:pt x="1175" y="19547"/>
                  <a:pt x="3254" y="16512"/>
                  <a:pt x="4248" y="14995"/>
                </a:cubicBezTo>
                <a:cubicBezTo>
                  <a:pt x="4609" y="14460"/>
                  <a:pt x="4700" y="13835"/>
                  <a:pt x="4519" y="13299"/>
                </a:cubicBezTo>
                <a:cubicBezTo>
                  <a:pt x="2802" y="7944"/>
                  <a:pt x="4338" y="3392"/>
                  <a:pt x="6597" y="0"/>
                </a:cubicBezTo>
                <a:cubicBezTo>
                  <a:pt x="13105" y="7944"/>
                  <a:pt x="13105" y="7944"/>
                  <a:pt x="13105" y="7944"/>
                </a:cubicBezTo>
                <a:cubicBezTo>
                  <a:pt x="13376" y="8212"/>
                  <a:pt x="13828" y="8301"/>
                  <a:pt x="14189" y="8033"/>
                </a:cubicBezTo>
                <a:cubicBezTo>
                  <a:pt x="14460" y="7765"/>
                  <a:pt x="14641" y="7408"/>
                  <a:pt x="14641" y="7051"/>
                </a:cubicBezTo>
                <a:cubicBezTo>
                  <a:pt x="14641" y="6426"/>
                  <a:pt x="14912" y="5891"/>
                  <a:pt x="15454" y="5445"/>
                </a:cubicBezTo>
                <a:cubicBezTo>
                  <a:pt x="16358" y="4731"/>
                  <a:pt x="17714" y="4820"/>
                  <a:pt x="18527" y="5712"/>
                </a:cubicBezTo>
                <a:cubicBezTo>
                  <a:pt x="19250" y="6694"/>
                  <a:pt x="19069" y="8033"/>
                  <a:pt x="18166" y="8747"/>
                </a:cubicBezTo>
                <a:cubicBezTo>
                  <a:pt x="17714" y="9193"/>
                  <a:pt x="17081" y="9283"/>
                  <a:pt x="16449" y="9193"/>
                </a:cubicBezTo>
                <a:cubicBezTo>
                  <a:pt x="16087" y="9104"/>
                  <a:pt x="15635" y="9283"/>
                  <a:pt x="15364" y="9461"/>
                </a:cubicBezTo>
                <a:cubicBezTo>
                  <a:pt x="15093" y="9729"/>
                  <a:pt x="15003" y="10175"/>
                  <a:pt x="15274" y="10443"/>
                </a:cubicBezTo>
                <a:cubicBezTo>
                  <a:pt x="21600" y="18119"/>
                  <a:pt x="21600" y="18119"/>
                  <a:pt x="21600" y="18119"/>
                </a:cubicBezTo>
                <a:cubicBezTo>
                  <a:pt x="12020" y="19636"/>
                  <a:pt x="12020" y="19636"/>
                  <a:pt x="12020" y="19636"/>
                </a:cubicBezTo>
                <a:cubicBezTo>
                  <a:pt x="12110" y="19636"/>
                  <a:pt x="12110" y="19636"/>
                  <a:pt x="12110" y="19636"/>
                </a:cubicBezTo>
                <a:close/>
              </a:path>
            </a:pathLst>
          </a:custGeom>
          <a:gradFill rotWithShape="0">
            <a:gsLst>
              <a:gs pos="0">
                <a:srgbClr val="c0c0c0"/>
              </a:gs>
              <a:gs pos="100000">
                <a:srgbClr val="909090"/>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35" name="Shape 2440"/>
          <p:cNvSpPr/>
          <p:nvPr/>
        </p:nvSpPr>
        <p:spPr>
          <a:xfrm>
            <a:off x="6275520" y="3438360"/>
            <a:ext cx="1135080" cy="1229040"/>
          </a:xfrm>
          <a:custGeom>
            <a:avLst/>
            <a:gdLst/>
            <a:ahLst/>
            <a:rect l="l" t="t" r="r" b="b"/>
            <a:pathLst>
              <a:path w="21374" h="21094">
                <a:moveTo>
                  <a:pt x="21374" y="3085"/>
                </a:moveTo>
                <a:cubicBezTo>
                  <a:pt x="18104" y="10940"/>
                  <a:pt x="18104" y="10940"/>
                  <a:pt x="18104" y="10940"/>
                </a:cubicBezTo>
                <a:cubicBezTo>
                  <a:pt x="18104" y="10940"/>
                  <a:pt x="18104" y="10940"/>
                  <a:pt x="18018" y="10940"/>
                </a:cubicBezTo>
                <a:cubicBezTo>
                  <a:pt x="17760" y="10154"/>
                  <a:pt x="17157" y="9605"/>
                  <a:pt x="16297" y="9290"/>
                </a:cubicBezTo>
                <a:cubicBezTo>
                  <a:pt x="14834" y="8819"/>
                  <a:pt x="13113" y="9526"/>
                  <a:pt x="12510" y="10940"/>
                </a:cubicBezTo>
                <a:cubicBezTo>
                  <a:pt x="11908" y="12275"/>
                  <a:pt x="12682" y="13846"/>
                  <a:pt x="14231" y="14396"/>
                </a:cubicBezTo>
                <a:cubicBezTo>
                  <a:pt x="15006" y="14710"/>
                  <a:pt x="15952" y="14632"/>
                  <a:pt x="16641" y="14239"/>
                </a:cubicBezTo>
                <a:cubicBezTo>
                  <a:pt x="16727" y="14239"/>
                  <a:pt x="16727" y="14239"/>
                  <a:pt x="16727" y="14239"/>
                </a:cubicBezTo>
                <a:cubicBezTo>
                  <a:pt x="14231" y="20365"/>
                  <a:pt x="14231" y="20365"/>
                  <a:pt x="14231" y="20365"/>
                </a:cubicBezTo>
                <a:cubicBezTo>
                  <a:pt x="9412" y="21465"/>
                  <a:pt x="6745" y="20994"/>
                  <a:pt x="6745" y="20994"/>
                </a:cubicBezTo>
                <a:cubicBezTo>
                  <a:pt x="5023" y="20837"/>
                  <a:pt x="3991" y="19030"/>
                  <a:pt x="4163" y="17852"/>
                </a:cubicBezTo>
                <a:cubicBezTo>
                  <a:pt x="4421" y="16595"/>
                  <a:pt x="4507" y="16045"/>
                  <a:pt x="3733" y="15496"/>
                </a:cubicBezTo>
                <a:cubicBezTo>
                  <a:pt x="3044" y="15024"/>
                  <a:pt x="3044" y="14396"/>
                  <a:pt x="3388" y="14160"/>
                </a:cubicBezTo>
                <a:cubicBezTo>
                  <a:pt x="3733" y="13925"/>
                  <a:pt x="4937" y="13453"/>
                  <a:pt x="4937" y="13453"/>
                </a:cubicBezTo>
                <a:cubicBezTo>
                  <a:pt x="4937" y="13453"/>
                  <a:pt x="4077" y="12904"/>
                  <a:pt x="3560" y="12746"/>
                </a:cubicBezTo>
                <a:cubicBezTo>
                  <a:pt x="3044" y="12511"/>
                  <a:pt x="2786" y="11725"/>
                  <a:pt x="3044" y="11254"/>
                </a:cubicBezTo>
                <a:cubicBezTo>
                  <a:pt x="3302" y="10783"/>
                  <a:pt x="3388" y="9605"/>
                  <a:pt x="3388" y="9605"/>
                </a:cubicBezTo>
                <a:cubicBezTo>
                  <a:pt x="3388" y="9605"/>
                  <a:pt x="2184" y="9055"/>
                  <a:pt x="893" y="8426"/>
                </a:cubicBezTo>
                <a:cubicBezTo>
                  <a:pt x="32" y="8034"/>
                  <a:pt x="-226" y="7405"/>
                  <a:pt x="204" y="6306"/>
                </a:cubicBezTo>
                <a:cubicBezTo>
                  <a:pt x="8810" y="4970"/>
                  <a:pt x="8810" y="4970"/>
                  <a:pt x="8810" y="4970"/>
                </a:cubicBezTo>
                <a:cubicBezTo>
                  <a:pt x="9154" y="4970"/>
                  <a:pt x="9412" y="4656"/>
                  <a:pt x="9412" y="4264"/>
                </a:cubicBezTo>
                <a:cubicBezTo>
                  <a:pt x="9326" y="3949"/>
                  <a:pt x="9068" y="3635"/>
                  <a:pt x="8810" y="3478"/>
                </a:cubicBezTo>
                <a:cubicBezTo>
                  <a:pt x="8294" y="3164"/>
                  <a:pt x="7949" y="2771"/>
                  <a:pt x="7863" y="2143"/>
                </a:cubicBezTo>
                <a:cubicBezTo>
                  <a:pt x="7605" y="1122"/>
                  <a:pt x="8380" y="179"/>
                  <a:pt x="9498" y="22"/>
                </a:cubicBezTo>
                <a:cubicBezTo>
                  <a:pt x="10617" y="-135"/>
                  <a:pt x="11736" y="572"/>
                  <a:pt x="11908" y="1593"/>
                </a:cubicBezTo>
                <a:cubicBezTo>
                  <a:pt x="11994" y="2143"/>
                  <a:pt x="11822" y="2693"/>
                  <a:pt x="11478" y="3085"/>
                </a:cubicBezTo>
                <a:cubicBezTo>
                  <a:pt x="11219" y="3321"/>
                  <a:pt x="11133" y="3714"/>
                  <a:pt x="11133" y="4028"/>
                </a:cubicBezTo>
                <a:cubicBezTo>
                  <a:pt x="11219" y="4342"/>
                  <a:pt x="11564" y="4578"/>
                  <a:pt x="11994" y="4499"/>
                </a:cubicBezTo>
                <a:lnTo>
                  <a:pt x="21374" y="3085"/>
                </a:lnTo>
                <a:close/>
              </a:path>
            </a:pathLst>
          </a:custGeom>
          <a:gradFill rotWithShape="0">
            <a:gsLst>
              <a:gs pos="0">
                <a:srgbClr val="646464"/>
              </a:gs>
              <a:gs pos="100000">
                <a:srgbClr val="4b4b4b"/>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36" name="Shape 2441"/>
          <p:cNvSpPr/>
          <p:nvPr/>
        </p:nvSpPr>
        <p:spPr>
          <a:xfrm>
            <a:off x="6977160" y="3637080"/>
            <a:ext cx="1279440" cy="1439640"/>
          </a:xfrm>
          <a:custGeom>
            <a:avLst/>
            <a:gdLst/>
            <a:ahLst/>
            <a:rect l="l" t="t" r="r" b="b"/>
            <a:pathLst>
              <a:path w="21352" h="21600">
                <a:moveTo>
                  <a:pt x="21352" y="14743"/>
                </a:moveTo>
                <a:cubicBezTo>
                  <a:pt x="21352" y="17006"/>
                  <a:pt x="21352" y="19680"/>
                  <a:pt x="21352" y="19680"/>
                </a:cubicBezTo>
                <a:cubicBezTo>
                  <a:pt x="21352" y="19680"/>
                  <a:pt x="18375" y="21600"/>
                  <a:pt x="11201" y="21600"/>
                </a:cubicBezTo>
                <a:cubicBezTo>
                  <a:pt x="4026" y="21600"/>
                  <a:pt x="1050" y="19680"/>
                  <a:pt x="1050" y="19680"/>
                </a:cubicBezTo>
                <a:cubicBezTo>
                  <a:pt x="1050" y="16526"/>
                  <a:pt x="1050" y="16526"/>
                  <a:pt x="1050" y="16526"/>
                </a:cubicBezTo>
                <a:cubicBezTo>
                  <a:pt x="3950" y="9463"/>
                  <a:pt x="3950" y="9463"/>
                  <a:pt x="3950" y="9463"/>
                </a:cubicBezTo>
                <a:cubicBezTo>
                  <a:pt x="4103" y="9189"/>
                  <a:pt x="3950" y="8914"/>
                  <a:pt x="3645" y="8777"/>
                </a:cubicBezTo>
                <a:cubicBezTo>
                  <a:pt x="3339" y="8709"/>
                  <a:pt x="2958" y="8709"/>
                  <a:pt x="2652" y="8846"/>
                </a:cubicBezTo>
                <a:cubicBezTo>
                  <a:pt x="2271" y="9051"/>
                  <a:pt x="1660" y="9120"/>
                  <a:pt x="1202" y="8914"/>
                </a:cubicBezTo>
                <a:cubicBezTo>
                  <a:pt x="210" y="8640"/>
                  <a:pt x="-248" y="7680"/>
                  <a:pt x="134" y="6789"/>
                </a:cubicBezTo>
                <a:cubicBezTo>
                  <a:pt x="439" y="5966"/>
                  <a:pt x="1507" y="5554"/>
                  <a:pt x="2500" y="5829"/>
                </a:cubicBezTo>
                <a:cubicBezTo>
                  <a:pt x="2958" y="6034"/>
                  <a:pt x="3339" y="6377"/>
                  <a:pt x="3568" y="6789"/>
                </a:cubicBezTo>
                <a:cubicBezTo>
                  <a:pt x="3645" y="7063"/>
                  <a:pt x="3874" y="7337"/>
                  <a:pt x="4179" y="7406"/>
                </a:cubicBezTo>
                <a:cubicBezTo>
                  <a:pt x="4484" y="7543"/>
                  <a:pt x="4866" y="7406"/>
                  <a:pt x="5018" y="7131"/>
                </a:cubicBezTo>
                <a:cubicBezTo>
                  <a:pt x="7995" y="0"/>
                  <a:pt x="7995" y="0"/>
                  <a:pt x="7995" y="0"/>
                </a:cubicBezTo>
                <a:cubicBezTo>
                  <a:pt x="13109" y="5691"/>
                  <a:pt x="13109" y="5691"/>
                  <a:pt x="13109" y="5691"/>
                </a:cubicBezTo>
                <a:cubicBezTo>
                  <a:pt x="13109" y="5691"/>
                  <a:pt x="13109" y="5691"/>
                  <a:pt x="13033" y="5691"/>
                </a:cubicBezTo>
                <a:cubicBezTo>
                  <a:pt x="12346" y="5554"/>
                  <a:pt x="11582" y="5760"/>
                  <a:pt x="10972" y="6171"/>
                </a:cubicBezTo>
                <a:cubicBezTo>
                  <a:pt x="9827" y="6994"/>
                  <a:pt x="9674" y="8503"/>
                  <a:pt x="10590" y="9531"/>
                </a:cubicBezTo>
                <a:cubicBezTo>
                  <a:pt x="11506" y="10560"/>
                  <a:pt x="13185" y="10697"/>
                  <a:pt x="14330" y="9874"/>
                </a:cubicBezTo>
                <a:cubicBezTo>
                  <a:pt x="14864" y="9394"/>
                  <a:pt x="15246" y="8777"/>
                  <a:pt x="15246" y="8091"/>
                </a:cubicBezTo>
                <a:cubicBezTo>
                  <a:pt x="15246" y="8091"/>
                  <a:pt x="15246" y="8023"/>
                  <a:pt x="15246" y="8023"/>
                </a:cubicBezTo>
                <a:lnTo>
                  <a:pt x="21352" y="14743"/>
                </a:lnTo>
                <a:close/>
              </a:path>
            </a:pathLst>
          </a:custGeom>
          <a:gradFill rotWithShape="0">
            <a:gsLst>
              <a:gs pos="0">
                <a:srgbClr val="595959"/>
              </a:gs>
              <a:gs pos="100000">
                <a:srgbClr val="434343"/>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37" name="Shape 2442"/>
          <p:cNvSpPr/>
          <p:nvPr/>
        </p:nvSpPr>
        <p:spPr>
          <a:xfrm>
            <a:off x="7493040" y="3430440"/>
            <a:ext cx="1082520" cy="1111320"/>
          </a:xfrm>
          <a:custGeom>
            <a:avLst/>
            <a:gdLst/>
            <a:ahLst/>
            <a:rect l="l" t="t" r="r" b="b"/>
            <a:pathLst>
              <a:path w="21600" h="21600">
                <a:moveTo>
                  <a:pt x="21600" y="0"/>
                </a:moveTo>
                <a:cubicBezTo>
                  <a:pt x="20506" y="4089"/>
                  <a:pt x="18501" y="6844"/>
                  <a:pt x="17316" y="8978"/>
                </a:cubicBezTo>
                <a:cubicBezTo>
                  <a:pt x="15767" y="11822"/>
                  <a:pt x="15220" y="17333"/>
                  <a:pt x="15220" y="19822"/>
                </a:cubicBezTo>
                <a:cubicBezTo>
                  <a:pt x="15220" y="21600"/>
                  <a:pt x="15220" y="21600"/>
                  <a:pt x="15220" y="21600"/>
                </a:cubicBezTo>
                <a:cubicBezTo>
                  <a:pt x="8476" y="13600"/>
                  <a:pt x="8476" y="13600"/>
                  <a:pt x="8476" y="13600"/>
                </a:cubicBezTo>
                <a:cubicBezTo>
                  <a:pt x="8294" y="13244"/>
                  <a:pt x="7838" y="13244"/>
                  <a:pt x="7473" y="13511"/>
                </a:cubicBezTo>
                <a:cubicBezTo>
                  <a:pt x="7200" y="13689"/>
                  <a:pt x="7018" y="14044"/>
                  <a:pt x="7018" y="14489"/>
                </a:cubicBezTo>
                <a:cubicBezTo>
                  <a:pt x="6927" y="15022"/>
                  <a:pt x="6744" y="15644"/>
                  <a:pt x="6197" y="16089"/>
                </a:cubicBezTo>
                <a:cubicBezTo>
                  <a:pt x="5286" y="16800"/>
                  <a:pt x="3919" y="16622"/>
                  <a:pt x="3099" y="15733"/>
                </a:cubicBezTo>
                <a:cubicBezTo>
                  <a:pt x="2370" y="14844"/>
                  <a:pt x="2461" y="13511"/>
                  <a:pt x="3463" y="12711"/>
                </a:cubicBezTo>
                <a:cubicBezTo>
                  <a:pt x="3919" y="12356"/>
                  <a:pt x="4557" y="12178"/>
                  <a:pt x="5195" y="12267"/>
                </a:cubicBezTo>
                <a:cubicBezTo>
                  <a:pt x="5559" y="12356"/>
                  <a:pt x="5924" y="12267"/>
                  <a:pt x="6289" y="12000"/>
                </a:cubicBezTo>
                <a:cubicBezTo>
                  <a:pt x="6562" y="11733"/>
                  <a:pt x="6653" y="11289"/>
                  <a:pt x="6380" y="11022"/>
                </a:cubicBezTo>
                <a:cubicBezTo>
                  <a:pt x="0" y="3378"/>
                  <a:pt x="0" y="3378"/>
                  <a:pt x="0" y="3378"/>
                </a:cubicBezTo>
                <a:cubicBezTo>
                  <a:pt x="9570" y="1867"/>
                  <a:pt x="9570" y="1867"/>
                  <a:pt x="9570" y="1867"/>
                </a:cubicBezTo>
                <a:cubicBezTo>
                  <a:pt x="9570" y="1867"/>
                  <a:pt x="9570" y="1956"/>
                  <a:pt x="9570" y="1956"/>
                </a:cubicBezTo>
                <a:cubicBezTo>
                  <a:pt x="9023" y="2667"/>
                  <a:pt x="8749" y="3556"/>
                  <a:pt x="8841" y="4356"/>
                </a:cubicBezTo>
                <a:cubicBezTo>
                  <a:pt x="9205" y="6044"/>
                  <a:pt x="10754" y="7200"/>
                  <a:pt x="12486" y="6933"/>
                </a:cubicBezTo>
                <a:cubicBezTo>
                  <a:pt x="14218" y="6667"/>
                  <a:pt x="15403" y="5067"/>
                  <a:pt x="15129" y="3378"/>
                </a:cubicBezTo>
                <a:cubicBezTo>
                  <a:pt x="14947" y="2489"/>
                  <a:pt x="14400" y="1778"/>
                  <a:pt x="13671" y="1333"/>
                </a:cubicBezTo>
                <a:cubicBezTo>
                  <a:pt x="13580" y="1244"/>
                  <a:pt x="13580" y="1244"/>
                  <a:pt x="13580" y="1244"/>
                </a:cubicBezTo>
                <a:lnTo>
                  <a:pt x="21600" y="0"/>
                </a:lnTo>
                <a:close/>
              </a:path>
            </a:pathLst>
          </a:custGeom>
          <a:gradFill rotWithShape="0">
            <a:gsLst>
              <a:gs pos="0">
                <a:srgbClr val="464646"/>
              </a:gs>
              <a:gs pos="100000">
                <a:srgbClr val="353535"/>
              </a:gs>
            </a:gsLst>
            <a:lin ang="5400000"/>
          </a:gradFill>
          <a:ln w="0">
            <a:noFill/>
          </a:ln>
        </p:spPr>
        <p:style>
          <a:lnRef idx="0"/>
          <a:fillRef idx="0"/>
          <a:effectRef idx="0"/>
          <a:fontRef idx="minor"/>
        </p:style>
        <p:txBody>
          <a:bodyPr lIns="45360" rIns="45360" tIns="45360" bIns="45360" anchor="t">
            <a:noAutofit/>
          </a:bodyPr>
          <a:p>
            <a:endParaRPr b="0" lang="en-US" sz="1800" spc="-1" strike="noStrike">
              <a:solidFill>
                <a:srgbClr val="3f3f3f"/>
              </a:solidFill>
              <a:latin typeface="Roboto"/>
            </a:endParaRPr>
          </a:p>
        </p:txBody>
      </p:sp>
      <p:sp>
        <p:nvSpPr>
          <p:cNvPr id="1438" name="TextBox 56"/>
          <p:cNvSpPr/>
          <p:nvPr/>
        </p:nvSpPr>
        <p:spPr>
          <a:xfrm>
            <a:off x="8771040" y="2879640"/>
            <a:ext cx="21463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a:t>
            </a:r>
            <a:endParaRPr b="0" lang="en-US" sz="1100" spc="-1" strike="noStrike">
              <a:solidFill>
                <a:srgbClr val="3f3f3f"/>
              </a:solidFill>
              <a:latin typeface="Roboto"/>
            </a:endParaRPr>
          </a:p>
        </p:txBody>
      </p:sp>
      <p:sp>
        <p:nvSpPr>
          <p:cNvPr id="1439" name="TextBox 57"/>
          <p:cNvSpPr/>
          <p:nvPr/>
        </p:nvSpPr>
        <p:spPr>
          <a:xfrm>
            <a:off x="8755200" y="2577960"/>
            <a:ext cx="1463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opic Here</a:t>
            </a:r>
            <a:endParaRPr b="0" lang="en-US" sz="1600" spc="-1" strike="noStrike">
              <a:solidFill>
                <a:srgbClr val="3f3f3f"/>
              </a:solidFill>
              <a:latin typeface="Roboto"/>
            </a:endParaRPr>
          </a:p>
        </p:txBody>
      </p:sp>
      <p:sp>
        <p:nvSpPr>
          <p:cNvPr id="1440" name="TextBox 58"/>
          <p:cNvSpPr/>
          <p:nvPr/>
        </p:nvSpPr>
        <p:spPr>
          <a:xfrm>
            <a:off x="8771040" y="4159080"/>
            <a:ext cx="21463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a:t>
            </a:r>
            <a:endParaRPr b="0" lang="en-US" sz="1100" spc="-1" strike="noStrike">
              <a:solidFill>
                <a:srgbClr val="3f3f3f"/>
              </a:solidFill>
              <a:latin typeface="Roboto"/>
            </a:endParaRPr>
          </a:p>
        </p:txBody>
      </p:sp>
      <p:sp>
        <p:nvSpPr>
          <p:cNvPr id="1441" name="TextBox 59"/>
          <p:cNvSpPr/>
          <p:nvPr/>
        </p:nvSpPr>
        <p:spPr>
          <a:xfrm>
            <a:off x="8755200" y="3857760"/>
            <a:ext cx="1463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opic Here</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2" name="Group 39"/>
          <p:cNvGrpSpPr/>
          <p:nvPr/>
        </p:nvGrpSpPr>
        <p:grpSpPr>
          <a:xfrm>
            <a:off x="587520" y="552600"/>
            <a:ext cx="631800" cy="325080"/>
            <a:chOff x="587520" y="552600"/>
            <a:chExt cx="631800" cy="325080"/>
          </a:xfrm>
        </p:grpSpPr>
        <p:sp>
          <p:nvSpPr>
            <p:cNvPr id="1443" name="Isosceles Triangle 40"/>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44" name="Isosceles Triangle 41"/>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45" name="Rectangle 42"/>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46" name="Rectangle 43"/>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447" name="TextBox 44" descr=""/>
          <p:cNvPicPr/>
          <p:nvPr/>
        </p:nvPicPr>
        <p:blipFill>
          <a:blip r:embed="rId1"/>
          <a:stretch/>
        </p:blipFill>
        <p:spPr>
          <a:xfrm>
            <a:off x="506520" y="5888160"/>
            <a:ext cx="579240" cy="500040"/>
          </a:xfrm>
          <a:prstGeom prst="rect">
            <a:avLst/>
          </a:prstGeom>
          <a:ln w="0">
            <a:noFill/>
          </a:ln>
        </p:spPr>
      </p:pic>
      <p:pic>
        <p:nvPicPr>
          <p:cNvPr id="1448" name="TextBox 45" descr=""/>
          <p:cNvPicPr/>
          <p:nvPr/>
        </p:nvPicPr>
        <p:blipFill>
          <a:blip r:embed="rId2"/>
          <a:stretch/>
        </p:blipFill>
        <p:spPr>
          <a:xfrm>
            <a:off x="927000" y="5888160"/>
            <a:ext cx="2565360" cy="500040"/>
          </a:xfrm>
          <a:prstGeom prst="rect">
            <a:avLst/>
          </a:prstGeom>
          <a:ln w="0">
            <a:noFill/>
          </a:ln>
        </p:spPr>
      </p:pic>
      <p:grpSp>
        <p:nvGrpSpPr>
          <p:cNvPr id="1449" name="Group 46"/>
          <p:cNvGrpSpPr/>
          <p:nvPr/>
        </p:nvGrpSpPr>
        <p:grpSpPr>
          <a:xfrm>
            <a:off x="522360" y="2664000"/>
            <a:ext cx="276120" cy="1796760"/>
            <a:chOff x="522360" y="2664000"/>
            <a:chExt cx="276120" cy="1796760"/>
          </a:xfrm>
        </p:grpSpPr>
        <p:pic>
          <p:nvPicPr>
            <p:cNvPr id="1450" name="TextBox 47" descr=""/>
            <p:cNvPicPr/>
            <p:nvPr/>
          </p:nvPicPr>
          <p:blipFill>
            <a:blip r:embed="rId3"/>
            <a:stretch/>
          </p:blipFill>
          <p:spPr>
            <a:xfrm>
              <a:off x="522360" y="2664000"/>
              <a:ext cx="276120" cy="1359000"/>
            </a:xfrm>
            <a:prstGeom prst="rect">
              <a:avLst/>
            </a:prstGeom>
            <a:ln w="0">
              <a:noFill/>
            </a:ln>
          </p:spPr>
        </p:pic>
        <p:sp>
          <p:nvSpPr>
            <p:cNvPr id="1451" name="Rectangle 48"/>
            <p:cNvSpPr/>
            <p:nvPr/>
          </p:nvSpPr>
          <p:spPr>
            <a:xfrm>
              <a:off x="637200" y="4047840"/>
              <a:ext cx="23040" cy="412920"/>
            </a:xfrm>
            <a:prstGeom prst="rect">
              <a:avLst/>
            </a:prstGeom>
            <a:solidFill>
              <a:srgbClr val="646464">
                <a:alpha val="5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452" name="Group 49" descr=""/>
          <p:cNvPicPr/>
          <p:nvPr/>
        </p:nvPicPr>
        <p:blipFill>
          <a:blip r:embed="rId4"/>
          <a:stretch/>
        </p:blipFill>
        <p:spPr>
          <a:xfrm>
            <a:off x="10723680" y="5827680"/>
            <a:ext cx="882360" cy="407880"/>
          </a:xfrm>
          <a:prstGeom prst="rect">
            <a:avLst/>
          </a:prstGeom>
          <a:ln w="0">
            <a:noFill/>
          </a:ln>
        </p:spPr>
      </p:pic>
      <p:sp>
        <p:nvSpPr>
          <p:cNvPr id="1453" name="TextBox 70"/>
          <p:cNvSpPr/>
          <p:nvPr/>
        </p:nvSpPr>
        <p:spPr>
          <a:xfrm>
            <a:off x="3390840" y="67644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ABOUT INFOGRAPHIC</a:t>
            </a:r>
            <a:endParaRPr b="0" lang="en-US" sz="3200" spc="-1" strike="noStrike">
              <a:solidFill>
                <a:srgbClr val="3f3f3f"/>
              </a:solidFill>
              <a:latin typeface="Roboto"/>
            </a:endParaRPr>
          </a:p>
        </p:txBody>
      </p:sp>
      <p:pic>
        <p:nvPicPr>
          <p:cNvPr id="1454" name="TextBox 71" descr=""/>
          <p:cNvPicPr/>
          <p:nvPr/>
        </p:nvPicPr>
        <p:blipFill>
          <a:blip r:embed="rId5"/>
          <a:stretch/>
        </p:blipFill>
        <p:spPr>
          <a:xfrm>
            <a:off x="4724280" y="1152360"/>
            <a:ext cx="2743200" cy="358920"/>
          </a:xfrm>
          <a:prstGeom prst="rect">
            <a:avLst/>
          </a:prstGeom>
          <a:ln w="0">
            <a:noFill/>
          </a:ln>
        </p:spPr>
      </p:pic>
      <p:sp>
        <p:nvSpPr>
          <p:cNvPr id="1455" name="Freeform: Shape 73"/>
          <p:cNvSpPr/>
          <p:nvPr/>
        </p:nvSpPr>
        <p:spPr>
          <a:xfrm rot="20750400">
            <a:off x="1677960" y="2284560"/>
            <a:ext cx="1598760" cy="1600200"/>
          </a:xfrm>
          <a:custGeom>
            <a:avLst/>
            <a:gdLst/>
            <a:ahLst/>
            <a:rect l="l" t="t" r="r" b="b"/>
            <a:pathLst>
              <a:path w="2237582" h="2239871">
                <a:moveTo>
                  <a:pt x="2237582" y="0"/>
                </a:moveTo>
                <a:lnTo>
                  <a:pt x="2237582" y="931290"/>
                </a:lnTo>
                <a:lnTo>
                  <a:pt x="2237578" y="931290"/>
                </a:lnTo>
                <a:cubicBezTo>
                  <a:pt x="1516136" y="931290"/>
                  <a:pt x="931292" y="1516134"/>
                  <a:pt x="931292" y="2237576"/>
                </a:cubicBezTo>
                <a:lnTo>
                  <a:pt x="931360" y="2238918"/>
                </a:lnTo>
                <a:lnTo>
                  <a:pt x="1" y="2239871"/>
                </a:lnTo>
                <a:cubicBezTo>
                  <a:pt x="-607" y="1646031"/>
                  <a:pt x="234869" y="1076305"/>
                  <a:pt x="654563" y="656182"/>
                </a:cubicBezTo>
                <a:cubicBezTo>
                  <a:pt x="1074257" y="236059"/>
                  <a:pt x="1643741" y="0"/>
                  <a:pt x="2237582" y="0"/>
                </a:cubicBezTo>
                <a:close/>
              </a:path>
            </a:pathLst>
          </a:custGeom>
          <a:gradFill rotWithShape="0">
            <a:gsLst>
              <a:gs pos="0">
                <a:srgbClr val="5a5a5a"/>
              </a:gs>
              <a:gs pos="100000">
                <a:srgbClr val="353535"/>
              </a:gs>
            </a:gsLst>
            <a:lin ang="852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1456" name="Freeform: Shape 74"/>
          <p:cNvSpPr/>
          <p:nvPr/>
        </p:nvSpPr>
        <p:spPr>
          <a:xfrm rot="15350400">
            <a:off x="2070000" y="3833280"/>
            <a:ext cx="1598760" cy="1598760"/>
          </a:xfrm>
          <a:custGeom>
            <a:avLst/>
            <a:gdLst/>
            <a:ahLst/>
            <a:rect l="l" t="t" r="r" b="b"/>
            <a:pathLst>
              <a:path w="2237582" h="2239871">
                <a:moveTo>
                  <a:pt x="2237582" y="0"/>
                </a:moveTo>
                <a:lnTo>
                  <a:pt x="2237582" y="931294"/>
                </a:lnTo>
                <a:lnTo>
                  <a:pt x="2104024" y="938038"/>
                </a:lnTo>
                <a:cubicBezTo>
                  <a:pt x="1445321" y="1004933"/>
                  <a:pt x="931298" y="1561228"/>
                  <a:pt x="931298" y="2237580"/>
                </a:cubicBezTo>
                <a:lnTo>
                  <a:pt x="931366" y="2238918"/>
                </a:lnTo>
                <a:lnTo>
                  <a:pt x="1" y="2239871"/>
                </a:lnTo>
                <a:cubicBezTo>
                  <a:pt x="-607" y="1646031"/>
                  <a:pt x="234869" y="1076305"/>
                  <a:pt x="654563" y="656182"/>
                </a:cubicBezTo>
                <a:cubicBezTo>
                  <a:pt x="1074257" y="236059"/>
                  <a:pt x="1643741" y="0"/>
                  <a:pt x="2237582" y="0"/>
                </a:cubicBezTo>
                <a:close/>
              </a:path>
            </a:pathLst>
          </a:custGeom>
          <a:gradFill rotWithShape="0">
            <a:gsLst>
              <a:gs pos="0">
                <a:srgbClr val="fafafa"/>
              </a:gs>
              <a:gs pos="100000">
                <a:srgbClr val="bbbbbb"/>
              </a:gs>
            </a:gsLst>
            <a:lin ang="6252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1457" name="Freeform: Shape 75"/>
          <p:cNvSpPr/>
          <p:nvPr/>
        </p:nvSpPr>
        <p:spPr>
          <a:xfrm flipH="1" rot="20751000">
            <a:off x="3228120" y="1893960"/>
            <a:ext cx="1597320" cy="1600200"/>
          </a:xfrm>
          <a:custGeom>
            <a:avLst/>
            <a:gdLst/>
            <a:ahLst/>
            <a:rect l="l" t="t" r="r" b="b"/>
            <a:pathLst>
              <a:path w="2237582" h="2239871">
                <a:moveTo>
                  <a:pt x="2237582" y="0"/>
                </a:moveTo>
                <a:cubicBezTo>
                  <a:pt x="1643741" y="0"/>
                  <a:pt x="1074257" y="236059"/>
                  <a:pt x="654563" y="656182"/>
                </a:cubicBezTo>
                <a:cubicBezTo>
                  <a:pt x="234869" y="1076305"/>
                  <a:pt x="-607" y="1646031"/>
                  <a:pt x="1" y="2239871"/>
                </a:cubicBezTo>
                <a:lnTo>
                  <a:pt x="931364" y="2238918"/>
                </a:lnTo>
                <a:lnTo>
                  <a:pt x="931296" y="2237579"/>
                </a:lnTo>
                <a:cubicBezTo>
                  <a:pt x="931296" y="1561227"/>
                  <a:pt x="1445319" y="1004932"/>
                  <a:pt x="2104022" y="938037"/>
                </a:cubicBezTo>
                <a:lnTo>
                  <a:pt x="2237582" y="931293"/>
                </a:lnTo>
                <a:lnTo>
                  <a:pt x="2237582" y="0"/>
                </a:lnTo>
                <a:close/>
              </a:path>
            </a:pathLst>
          </a:custGeom>
          <a:gradFill rotWithShape="0">
            <a:gsLst>
              <a:gs pos="0">
                <a:srgbClr val="9a9a9a"/>
              </a:gs>
              <a:gs pos="100000">
                <a:srgbClr val="6a6a6a"/>
              </a:gs>
            </a:gsLst>
            <a:lin ang="20754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1458" name="Freeform: Shape 76"/>
          <p:cNvSpPr/>
          <p:nvPr/>
        </p:nvSpPr>
        <p:spPr>
          <a:xfrm flipH="1" rot="4550400">
            <a:off x="3619080" y="3441960"/>
            <a:ext cx="1598400" cy="1600560"/>
          </a:xfrm>
          <a:custGeom>
            <a:avLst/>
            <a:gdLst/>
            <a:ahLst/>
            <a:rect l="l" t="t" r="r" b="b"/>
            <a:pathLst>
              <a:path w="2237582" h="2239871">
                <a:moveTo>
                  <a:pt x="2237582" y="0"/>
                </a:moveTo>
                <a:cubicBezTo>
                  <a:pt x="1643741" y="0"/>
                  <a:pt x="1074257" y="236059"/>
                  <a:pt x="654563" y="656182"/>
                </a:cubicBezTo>
                <a:cubicBezTo>
                  <a:pt x="234869" y="1076305"/>
                  <a:pt x="-607" y="1646031"/>
                  <a:pt x="1" y="2239871"/>
                </a:cubicBezTo>
                <a:lnTo>
                  <a:pt x="931363" y="2238918"/>
                </a:lnTo>
                <a:lnTo>
                  <a:pt x="931295" y="2237582"/>
                </a:lnTo>
                <a:cubicBezTo>
                  <a:pt x="931295" y="1516140"/>
                  <a:pt x="1516139" y="931296"/>
                  <a:pt x="2237581" y="931296"/>
                </a:cubicBezTo>
                <a:lnTo>
                  <a:pt x="2237581" y="931296"/>
                </a:lnTo>
                <a:lnTo>
                  <a:pt x="2237582" y="0"/>
                </a:lnTo>
                <a:close/>
              </a:path>
            </a:pathLst>
          </a:custGeom>
          <a:gradFill rotWithShape="0">
            <a:gsLst>
              <a:gs pos="0">
                <a:srgbClr val="6b6b6b"/>
              </a:gs>
              <a:gs pos="100000">
                <a:srgbClr val="434343"/>
              </a:gs>
            </a:gsLst>
            <a:lin ang="4554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1459" name="Freeform: Shape 77"/>
          <p:cNvSpPr/>
          <p:nvPr/>
        </p:nvSpPr>
        <p:spPr>
          <a:xfrm rot="20750400">
            <a:off x="3301560" y="2487240"/>
            <a:ext cx="1063800" cy="1062000"/>
          </a:xfrm>
          <a:custGeom>
            <a:avLst/>
            <a:gdLst/>
            <a:ahLst/>
            <a:rect l="l" t="t" r="r" b="b"/>
            <a:pathLst>
              <a:path w="1490005" h="1485997">
                <a:moveTo>
                  <a:pt x="4989" y="0"/>
                </a:moveTo>
                <a:cubicBezTo>
                  <a:pt x="825141" y="0"/>
                  <a:pt x="1490005" y="664864"/>
                  <a:pt x="1490005" y="1485016"/>
                </a:cubicBezTo>
                <a:lnTo>
                  <a:pt x="1489956" y="1485997"/>
                </a:lnTo>
                <a:lnTo>
                  <a:pt x="1306218" y="1485809"/>
                </a:lnTo>
                <a:lnTo>
                  <a:pt x="1306286" y="1484470"/>
                </a:lnTo>
                <a:cubicBezTo>
                  <a:pt x="1306286" y="808118"/>
                  <a:pt x="792263" y="251823"/>
                  <a:pt x="133560" y="184928"/>
                </a:cubicBezTo>
                <a:lnTo>
                  <a:pt x="0" y="178184"/>
                </a:lnTo>
                <a:lnTo>
                  <a:pt x="0" y="252"/>
                </a:lnTo>
                <a:lnTo>
                  <a:pt x="4989" y="0"/>
                </a:lnTo>
                <a:close/>
              </a:path>
            </a:pathLst>
          </a:custGeom>
          <a:solidFill>
            <a:srgbClr val="ffffff">
              <a:alpha val="3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1460" name="Freeform: Shape 78"/>
          <p:cNvSpPr/>
          <p:nvPr/>
        </p:nvSpPr>
        <p:spPr>
          <a:xfrm rot="20750400">
            <a:off x="3559320" y="3516480"/>
            <a:ext cx="1056960" cy="1058760"/>
          </a:xfrm>
          <a:custGeom>
            <a:avLst/>
            <a:gdLst/>
            <a:ahLst/>
            <a:rect l="l" t="t" r="r" b="b"/>
            <a:pathLst>
              <a:path w="1479550" h="1482442">
                <a:moveTo>
                  <a:pt x="1479550" y="0"/>
                </a:moveTo>
                <a:lnTo>
                  <a:pt x="1471999" y="149530"/>
                </a:lnTo>
                <a:cubicBezTo>
                  <a:pt x="1401021" y="848437"/>
                  <a:pt x="845391" y="1404067"/>
                  <a:pt x="146485" y="1475045"/>
                </a:cubicBezTo>
                <a:lnTo>
                  <a:pt x="0" y="1482442"/>
                </a:lnTo>
                <a:lnTo>
                  <a:pt x="181" y="1306219"/>
                </a:lnTo>
                <a:lnTo>
                  <a:pt x="1517" y="1306287"/>
                </a:lnTo>
                <a:cubicBezTo>
                  <a:pt x="722959" y="1306287"/>
                  <a:pt x="1307803" y="721443"/>
                  <a:pt x="1307803" y="1"/>
                </a:cubicBezTo>
                <a:lnTo>
                  <a:pt x="1479550" y="0"/>
                </a:lnTo>
                <a:close/>
              </a:path>
            </a:pathLst>
          </a:custGeom>
          <a:solidFill>
            <a:srgbClr val="ffffff">
              <a:alpha val="3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1461" name="Freeform: Shape 79"/>
          <p:cNvSpPr/>
          <p:nvPr/>
        </p:nvSpPr>
        <p:spPr>
          <a:xfrm rot="20750400">
            <a:off x="2538000" y="3774600"/>
            <a:ext cx="1058760" cy="1063800"/>
          </a:xfrm>
          <a:custGeom>
            <a:avLst/>
            <a:gdLst/>
            <a:ahLst/>
            <a:rect l="l" t="t" r="r" b="b"/>
            <a:pathLst>
              <a:path w="1482370" h="1490078">
                <a:moveTo>
                  <a:pt x="263" y="0"/>
                </a:moveTo>
                <a:lnTo>
                  <a:pt x="174558" y="0"/>
                </a:lnTo>
                <a:lnTo>
                  <a:pt x="181302" y="133558"/>
                </a:lnTo>
                <a:cubicBezTo>
                  <a:pt x="248197" y="792261"/>
                  <a:pt x="804492" y="1306284"/>
                  <a:pt x="1480844" y="1306284"/>
                </a:cubicBezTo>
                <a:lnTo>
                  <a:pt x="1482182" y="1306216"/>
                </a:lnTo>
                <a:lnTo>
                  <a:pt x="1482370" y="1490078"/>
                </a:lnTo>
                <a:lnTo>
                  <a:pt x="1333182" y="1482544"/>
                </a:lnTo>
                <a:cubicBezTo>
                  <a:pt x="584353" y="1406497"/>
                  <a:pt x="0" y="774088"/>
                  <a:pt x="0" y="5195"/>
                </a:cubicBezTo>
                <a:lnTo>
                  <a:pt x="263" y="0"/>
                </a:lnTo>
                <a:close/>
              </a:path>
            </a:pathLst>
          </a:custGeom>
          <a:solidFill>
            <a:srgbClr val="ffffff">
              <a:alpha val="3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1462" name="Freeform: Shape 80"/>
          <p:cNvSpPr/>
          <p:nvPr/>
        </p:nvSpPr>
        <p:spPr>
          <a:xfrm rot="20750400">
            <a:off x="2273040" y="2749320"/>
            <a:ext cx="1062000" cy="1058760"/>
          </a:xfrm>
          <a:custGeom>
            <a:avLst/>
            <a:gdLst/>
            <a:ahLst/>
            <a:rect l="l" t="t" r="r" b="b"/>
            <a:pathLst>
              <a:path w="1487591" h="1482502">
                <a:moveTo>
                  <a:pt x="1484889" y="0"/>
                </a:moveTo>
                <a:lnTo>
                  <a:pt x="1487591" y="137"/>
                </a:lnTo>
                <a:lnTo>
                  <a:pt x="1487591" y="174688"/>
                </a:lnTo>
                <a:lnTo>
                  <a:pt x="1487587" y="174688"/>
                </a:lnTo>
                <a:cubicBezTo>
                  <a:pt x="766145" y="174688"/>
                  <a:pt x="181301" y="759532"/>
                  <a:pt x="181301" y="1480974"/>
                </a:cubicBezTo>
                <a:lnTo>
                  <a:pt x="181369" y="1482316"/>
                </a:lnTo>
                <a:lnTo>
                  <a:pt x="0" y="1482502"/>
                </a:lnTo>
                <a:lnTo>
                  <a:pt x="7540" y="1333182"/>
                </a:lnTo>
                <a:cubicBezTo>
                  <a:pt x="83588" y="584353"/>
                  <a:pt x="715997" y="0"/>
                  <a:pt x="1484889" y="0"/>
                </a:cubicBezTo>
                <a:close/>
              </a:path>
            </a:pathLst>
          </a:custGeom>
          <a:solidFill>
            <a:srgbClr val="ffffff">
              <a:alpha val="3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Roboto"/>
            </a:endParaRPr>
          </a:p>
        </p:txBody>
      </p:sp>
      <p:sp>
        <p:nvSpPr>
          <p:cNvPr id="1463" name="Arrow: Chevron 81"/>
          <p:cNvSpPr/>
          <p:nvPr/>
        </p:nvSpPr>
        <p:spPr>
          <a:xfrm rot="19047600">
            <a:off x="2432160" y="1930320"/>
            <a:ext cx="996840" cy="957240"/>
          </a:xfrm>
          <a:custGeom>
            <a:avLst/>
            <a:gdLst>
              <a:gd name="textAreaLeft" fmla="*/ 0 w 996840"/>
              <a:gd name="textAreaRight" fmla="*/ 997200 w 996840"/>
              <a:gd name="textAreaTop" fmla="*/ 0 h 957240"/>
              <a:gd name="textAreaBottom" fmla="*/ 957600 h 957240"/>
            </a:gdLst>
            <a:ahLst/>
            <a:rect l="textAreaLeft" t="textAreaTop" r="textAreaRight" b="textAreaBottom"/>
            <a:pathLst>
              <a:path w="21600" h="21600">
                <a:moveTo>
                  <a:pt x="0" y="0"/>
                </a:moveTo>
                <a:lnTo>
                  <a:pt x="9776" y="0"/>
                </a:lnTo>
                <a:lnTo>
                  <a:pt x="21600" y="10800"/>
                </a:lnTo>
                <a:lnTo>
                  <a:pt x="9776" y="21600"/>
                </a:lnTo>
                <a:lnTo>
                  <a:pt x="0" y="21600"/>
                </a:lnTo>
                <a:lnTo>
                  <a:pt x="11824" y="10800"/>
                </a:lnTo>
                <a:close/>
              </a:path>
            </a:pathLst>
          </a:custGeom>
          <a:gradFill rotWithShape="0">
            <a:gsLst>
              <a:gs pos="0">
                <a:srgbClr val="5a5a5a"/>
              </a:gs>
              <a:gs pos="100000">
                <a:srgbClr val="353535"/>
              </a:gs>
            </a:gsLst>
            <a:lin ang="255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64" name="Arrow: Chevron 82"/>
          <p:cNvSpPr/>
          <p:nvPr/>
        </p:nvSpPr>
        <p:spPr>
          <a:xfrm rot="3131400">
            <a:off x="4236480" y="2733480"/>
            <a:ext cx="997200" cy="955800"/>
          </a:xfrm>
          <a:custGeom>
            <a:avLst/>
            <a:gdLst>
              <a:gd name="textAreaLeft" fmla="*/ 0 w 997200"/>
              <a:gd name="textAreaRight" fmla="*/ 997560 w 997200"/>
              <a:gd name="textAreaTop" fmla="*/ 0 h 955800"/>
              <a:gd name="textAreaBottom" fmla="*/ 956160 h 955800"/>
            </a:gdLst>
            <a:ahLst/>
            <a:rect l="textAreaLeft" t="textAreaTop" r="textAreaRight" b="textAreaBottom"/>
            <a:pathLst>
              <a:path w="21600" h="21600">
                <a:moveTo>
                  <a:pt x="0" y="0"/>
                </a:moveTo>
                <a:lnTo>
                  <a:pt x="9776" y="0"/>
                </a:lnTo>
                <a:lnTo>
                  <a:pt x="21600" y="10800"/>
                </a:lnTo>
                <a:lnTo>
                  <a:pt x="9776" y="21600"/>
                </a:lnTo>
                <a:lnTo>
                  <a:pt x="0" y="21600"/>
                </a:lnTo>
                <a:lnTo>
                  <a:pt x="11824" y="10800"/>
                </a:lnTo>
                <a:close/>
              </a:path>
            </a:pathLst>
          </a:custGeom>
          <a:gradFill rotWithShape="0">
            <a:gsLst>
              <a:gs pos="0">
                <a:srgbClr val="9a9a9a"/>
              </a:gs>
              <a:gs pos="100000">
                <a:srgbClr val="6a6a6a"/>
              </a:gs>
            </a:gsLst>
            <a:lin ang="18468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65" name="Arrow: Chevron 83"/>
          <p:cNvSpPr/>
          <p:nvPr/>
        </p:nvSpPr>
        <p:spPr>
          <a:xfrm rot="8565600">
            <a:off x="3341160" y="4479480"/>
            <a:ext cx="997200" cy="957240"/>
          </a:xfrm>
          <a:custGeom>
            <a:avLst/>
            <a:gdLst>
              <a:gd name="textAreaLeft" fmla="*/ 0 w 997200"/>
              <a:gd name="textAreaRight" fmla="*/ 997560 w 997200"/>
              <a:gd name="textAreaTop" fmla="*/ 0 h 957240"/>
              <a:gd name="textAreaBottom" fmla="*/ 957600 h 957240"/>
            </a:gdLst>
            <a:ahLst/>
            <a:rect l="textAreaLeft" t="textAreaTop" r="textAreaRight" b="textAreaBottom"/>
            <a:pathLst>
              <a:path w="21600" h="21600">
                <a:moveTo>
                  <a:pt x="0" y="0"/>
                </a:moveTo>
                <a:lnTo>
                  <a:pt x="9776" y="0"/>
                </a:lnTo>
                <a:lnTo>
                  <a:pt x="21600" y="10800"/>
                </a:lnTo>
                <a:lnTo>
                  <a:pt x="9776" y="21600"/>
                </a:lnTo>
                <a:lnTo>
                  <a:pt x="0" y="21600"/>
                </a:lnTo>
                <a:lnTo>
                  <a:pt x="11824" y="10800"/>
                </a:lnTo>
                <a:close/>
              </a:path>
            </a:pathLst>
          </a:custGeom>
          <a:gradFill rotWithShape="0">
            <a:gsLst>
              <a:gs pos="0">
                <a:srgbClr val="6b6b6b"/>
              </a:gs>
              <a:gs pos="100000">
                <a:srgbClr val="434343"/>
              </a:gs>
            </a:gsLst>
            <a:lin ang="13032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66" name="Arrow: Chevron 84"/>
          <p:cNvSpPr/>
          <p:nvPr/>
        </p:nvSpPr>
        <p:spPr>
          <a:xfrm rot="13775400">
            <a:off x="1673640" y="3610080"/>
            <a:ext cx="996840" cy="957240"/>
          </a:xfrm>
          <a:custGeom>
            <a:avLst/>
            <a:gdLst>
              <a:gd name="textAreaLeft" fmla="*/ 0 w 996840"/>
              <a:gd name="textAreaRight" fmla="*/ 997200 w 996840"/>
              <a:gd name="textAreaTop" fmla="*/ 0 h 957240"/>
              <a:gd name="textAreaBottom" fmla="*/ 957600 h 957240"/>
            </a:gdLst>
            <a:ahLst/>
            <a:rect l="textAreaLeft" t="textAreaTop" r="textAreaRight" b="textAreaBottom"/>
            <a:pathLst>
              <a:path w="21600" h="21600">
                <a:moveTo>
                  <a:pt x="0" y="0"/>
                </a:moveTo>
                <a:lnTo>
                  <a:pt x="9776" y="0"/>
                </a:lnTo>
                <a:lnTo>
                  <a:pt x="21600" y="10800"/>
                </a:lnTo>
                <a:lnTo>
                  <a:pt x="9776" y="21600"/>
                </a:lnTo>
                <a:lnTo>
                  <a:pt x="0" y="21600"/>
                </a:lnTo>
                <a:lnTo>
                  <a:pt x="11824" y="10800"/>
                </a:lnTo>
                <a:close/>
              </a:path>
            </a:pathLst>
          </a:custGeom>
          <a:gradFill rotWithShape="0">
            <a:gsLst>
              <a:gs pos="0">
                <a:srgbClr val="fafafa"/>
              </a:gs>
              <a:gs pos="100000">
                <a:srgbClr val="bbbbbb"/>
              </a:gs>
            </a:gsLst>
            <a:lin ang="7824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67" name="TextBox 85"/>
          <p:cNvSpPr/>
          <p:nvPr/>
        </p:nvSpPr>
        <p:spPr>
          <a:xfrm>
            <a:off x="5646600" y="2662200"/>
            <a:ext cx="25099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68" name="TextBox 86"/>
          <p:cNvSpPr/>
          <p:nvPr/>
        </p:nvSpPr>
        <p:spPr>
          <a:xfrm>
            <a:off x="5646600" y="2322360"/>
            <a:ext cx="21942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
        <p:nvSpPr>
          <p:cNvPr id="1469" name="TextBox 87"/>
          <p:cNvSpPr/>
          <p:nvPr/>
        </p:nvSpPr>
        <p:spPr>
          <a:xfrm>
            <a:off x="8247240" y="2662200"/>
            <a:ext cx="25113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70" name="TextBox 88"/>
          <p:cNvSpPr/>
          <p:nvPr/>
        </p:nvSpPr>
        <p:spPr>
          <a:xfrm>
            <a:off x="8247240" y="2322360"/>
            <a:ext cx="21952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
        <p:nvSpPr>
          <p:cNvPr id="1471" name="TextBox 89"/>
          <p:cNvSpPr/>
          <p:nvPr/>
        </p:nvSpPr>
        <p:spPr>
          <a:xfrm>
            <a:off x="5646600" y="4125960"/>
            <a:ext cx="25099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72" name="TextBox 90"/>
          <p:cNvSpPr/>
          <p:nvPr/>
        </p:nvSpPr>
        <p:spPr>
          <a:xfrm>
            <a:off x="5646600" y="3787920"/>
            <a:ext cx="21942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
        <p:nvSpPr>
          <p:cNvPr id="1473" name="TextBox 91"/>
          <p:cNvSpPr/>
          <p:nvPr/>
        </p:nvSpPr>
        <p:spPr>
          <a:xfrm>
            <a:off x="8247240" y="4125960"/>
            <a:ext cx="25113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74" name="TextBox 92"/>
          <p:cNvSpPr/>
          <p:nvPr/>
        </p:nvSpPr>
        <p:spPr>
          <a:xfrm>
            <a:off x="8247240" y="3787920"/>
            <a:ext cx="21952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5" name="Group 10"/>
          <p:cNvGrpSpPr/>
          <p:nvPr/>
        </p:nvGrpSpPr>
        <p:grpSpPr>
          <a:xfrm>
            <a:off x="587520" y="552600"/>
            <a:ext cx="631800" cy="325080"/>
            <a:chOff x="587520" y="552600"/>
            <a:chExt cx="631800" cy="325080"/>
          </a:xfrm>
        </p:grpSpPr>
        <p:sp>
          <p:nvSpPr>
            <p:cNvPr id="1476" name="Isosceles Triangle 11"/>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77" name="Isosceles Triangle 12"/>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78" name="Rectangle 13"/>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479" name="Rectangle 14"/>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480" name="TextBox 15" descr=""/>
          <p:cNvPicPr/>
          <p:nvPr/>
        </p:nvPicPr>
        <p:blipFill>
          <a:blip r:embed="rId1"/>
          <a:stretch/>
        </p:blipFill>
        <p:spPr>
          <a:xfrm>
            <a:off x="506520" y="5888160"/>
            <a:ext cx="583920" cy="500040"/>
          </a:xfrm>
          <a:prstGeom prst="rect">
            <a:avLst/>
          </a:prstGeom>
          <a:ln w="0">
            <a:noFill/>
          </a:ln>
        </p:spPr>
      </p:pic>
      <p:pic>
        <p:nvPicPr>
          <p:cNvPr id="1481" name="TextBox 16" descr=""/>
          <p:cNvPicPr/>
          <p:nvPr/>
        </p:nvPicPr>
        <p:blipFill>
          <a:blip r:embed="rId2"/>
          <a:stretch/>
        </p:blipFill>
        <p:spPr>
          <a:xfrm>
            <a:off x="927000" y="5888160"/>
            <a:ext cx="2565360" cy="500040"/>
          </a:xfrm>
          <a:prstGeom prst="rect">
            <a:avLst/>
          </a:prstGeom>
          <a:ln w="0">
            <a:noFill/>
          </a:ln>
        </p:spPr>
      </p:pic>
      <p:grpSp>
        <p:nvGrpSpPr>
          <p:cNvPr id="1482" name="Group 17"/>
          <p:cNvGrpSpPr/>
          <p:nvPr/>
        </p:nvGrpSpPr>
        <p:grpSpPr>
          <a:xfrm>
            <a:off x="522360" y="2664000"/>
            <a:ext cx="276120" cy="1796760"/>
            <a:chOff x="522360" y="2664000"/>
            <a:chExt cx="276120" cy="1796760"/>
          </a:xfrm>
        </p:grpSpPr>
        <p:pic>
          <p:nvPicPr>
            <p:cNvPr id="1483" name="TextBox 18" descr=""/>
            <p:cNvPicPr/>
            <p:nvPr/>
          </p:nvPicPr>
          <p:blipFill>
            <a:blip r:embed="rId3"/>
            <a:stretch/>
          </p:blipFill>
          <p:spPr>
            <a:xfrm>
              <a:off x="522360" y="2664000"/>
              <a:ext cx="276120" cy="1359000"/>
            </a:xfrm>
            <a:prstGeom prst="rect">
              <a:avLst/>
            </a:prstGeom>
            <a:ln w="0">
              <a:noFill/>
            </a:ln>
          </p:spPr>
        </p:pic>
        <p:sp>
          <p:nvSpPr>
            <p:cNvPr id="1484" name="Rectangle 19"/>
            <p:cNvSpPr/>
            <p:nvPr/>
          </p:nvSpPr>
          <p:spPr>
            <a:xfrm>
              <a:off x="637200" y="4047840"/>
              <a:ext cx="23040" cy="412920"/>
            </a:xfrm>
            <a:prstGeom prst="rect">
              <a:avLst/>
            </a:prstGeom>
            <a:solidFill>
              <a:srgbClr val="646464">
                <a:alpha val="5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485" name="Group 20" descr=""/>
          <p:cNvPicPr/>
          <p:nvPr/>
        </p:nvPicPr>
        <p:blipFill>
          <a:blip r:embed="rId4"/>
          <a:stretch/>
        </p:blipFill>
        <p:spPr>
          <a:xfrm>
            <a:off x="10723680" y="5827680"/>
            <a:ext cx="882360" cy="407880"/>
          </a:xfrm>
          <a:prstGeom prst="rect">
            <a:avLst/>
          </a:prstGeom>
          <a:ln w="0">
            <a:noFill/>
          </a:ln>
        </p:spPr>
      </p:pic>
      <p:sp>
        <p:nvSpPr>
          <p:cNvPr id="1486" name="TextBox 41"/>
          <p:cNvSpPr/>
          <p:nvPr/>
        </p:nvSpPr>
        <p:spPr>
          <a:xfrm>
            <a:off x="3390840" y="67644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ABOUT INFOGRAPHIC</a:t>
            </a:r>
            <a:endParaRPr b="0" lang="en-US" sz="3200" spc="-1" strike="noStrike">
              <a:solidFill>
                <a:srgbClr val="3f3f3f"/>
              </a:solidFill>
              <a:latin typeface="Roboto"/>
            </a:endParaRPr>
          </a:p>
        </p:txBody>
      </p:sp>
      <p:pic>
        <p:nvPicPr>
          <p:cNvPr id="1487" name="TextBox 42" descr=""/>
          <p:cNvPicPr/>
          <p:nvPr/>
        </p:nvPicPr>
        <p:blipFill>
          <a:blip r:embed="rId5"/>
          <a:stretch/>
        </p:blipFill>
        <p:spPr>
          <a:xfrm>
            <a:off x="4724280" y="1152360"/>
            <a:ext cx="2743200" cy="358920"/>
          </a:xfrm>
          <a:prstGeom prst="rect">
            <a:avLst/>
          </a:prstGeom>
          <a:ln w="0">
            <a:noFill/>
          </a:ln>
        </p:spPr>
      </p:pic>
      <p:sp>
        <p:nvSpPr>
          <p:cNvPr id="1488" name="Freeform 5"/>
          <p:cNvSpPr/>
          <p:nvPr/>
        </p:nvSpPr>
        <p:spPr>
          <a:xfrm flipV="1" rot="21123000">
            <a:off x="4248000" y="3233880"/>
            <a:ext cx="1741680" cy="1751040"/>
          </a:xfrm>
          <a:custGeom>
            <a:avLst/>
            <a:gdLst/>
            <a:ahLst/>
            <a:rect l="l" t="t" r="r" b="b"/>
            <a:pathLst>
              <a:path w="4254" h="4283">
                <a:moveTo>
                  <a:pt x="4086" y="1764"/>
                </a:moveTo>
                <a:lnTo>
                  <a:pt x="4052" y="1786"/>
                </a:lnTo>
                <a:lnTo>
                  <a:pt x="4020" y="1808"/>
                </a:lnTo>
                <a:lnTo>
                  <a:pt x="3990" y="1831"/>
                </a:lnTo>
                <a:lnTo>
                  <a:pt x="3962" y="1853"/>
                </a:lnTo>
                <a:lnTo>
                  <a:pt x="3907" y="1898"/>
                </a:lnTo>
                <a:lnTo>
                  <a:pt x="3854" y="1940"/>
                </a:lnTo>
                <a:lnTo>
                  <a:pt x="3826" y="1961"/>
                </a:lnTo>
                <a:lnTo>
                  <a:pt x="3797" y="1982"/>
                </a:lnTo>
                <a:lnTo>
                  <a:pt x="3765" y="2003"/>
                </a:lnTo>
                <a:lnTo>
                  <a:pt x="3733" y="2022"/>
                </a:lnTo>
                <a:lnTo>
                  <a:pt x="3696" y="2041"/>
                </a:lnTo>
                <a:lnTo>
                  <a:pt x="3657" y="2059"/>
                </a:lnTo>
                <a:lnTo>
                  <a:pt x="3636" y="2068"/>
                </a:lnTo>
                <a:lnTo>
                  <a:pt x="3614" y="2077"/>
                </a:lnTo>
                <a:lnTo>
                  <a:pt x="3591" y="2085"/>
                </a:lnTo>
                <a:lnTo>
                  <a:pt x="3567" y="2093"/>
                </a:lnTo>
                <a:lnTo>
                  <a:pt x="3539" y="2097"/>
                </a:lnTo>
                <a:lnTo>
                  <a:pt x="3511" y="2098"/>
                </a:lnTo>
                <a:lnTo>
                  <a:pt x="3483" y="2099"/>
                </a:lnTo>
                <a:lnTo>
                  <a:pt x="3456" y="2098"/>
                </a:lnTo>
                <a:lnTo>
                  <a:pt x="3429" y="2095"/>
                </a:lnTo>
                <a:lnTo>
                  <a:pt x="3403" y="2092"/>
                </a:lnTo>
                <a:lnTo>
                  <a:pt x="3376" y="2087"/>
                </a:lnTo>
                <a:lnTo>
                  <a:pt x="3351" y="2080"/>
                </a:lnTo>
                <a:lnTo>
                  <a:pt x="3324" y="2073"/>
                </a:lnTo>
                <a:lnTo>
                  <a:pt x="3299" y="2065"/>
                </a:lnTo>
                <a:lnTo>
                  <a:pt x="3275" y="2054"/>
                </a:lnTo>
                <a:lnTo>
                  <a:pt x="3251" y="2044"/>
                </a:lnTo>
                <a:lnTo>
                  <a:pt x="3227" y="2031"/>
                </a:lnTo>
                <a:lnTo>
                  <a:pt x="3205" y="2019"/>
                </a:lnTo>
                <a:lnTo>
                  <a:pt x="3183" y="2004"/>
                </a:lnTo>
                <a:lnTo>
                  <a:pt x="3161" y="1988"/>
                </a:lnTo>
                <a:lnTo>
                  <a:pt x="3142" y="1973"/>
                </a:lnTo>
                <a:lnTo>
                  <a:pt x="3122" y="1955"/>
                </a:lnTo>
                <a:lnTo>
                  <a:pt x="3103" y="1937"/>
                </a:lnTo>
                <a:lnTo>
                  <a:pt x="3084" y="1919"/>
                </a:lnTo>
                <a:lnTo>
                  <a:pt x="3067" y="1899"/>
                </a:lnTo>
                <a:lnTo>
                  <a:pt x="3051" y="1878"/>
                </a:lnTo>
                <a:lnTo>
                  <a:pt x="3036" y="1856"/>
                </a:lnTo>
                <a:lnTo>
                  <a:pt x="3021" y="1834"/>
                </a:lnTo>
                <a:lnTo>
                  <a:pt x="3008" y="1810"/>
                </a:lnTo>
                <a:lnTo>
                  <a:pt x="2996" y="1786"/>
                </a:lnTo>
                <a:lnTo>
                  <a:pt x="2985" y="1762"/>
                </a:lnTo>
                <a:lnTo>
                  <a:pt x="2975" y="1737"/>
                </a:lnTo>
                <a:lnTo>
                  <a:pt x="2967" y="1711"/>
                </a:lnTo>
                <a:lnTo>
                  <a:pt x="2960" y="1684"/>
                </a:lnTo>
                <a:lnTo>
                  <a:pt x="2954" y="1657"/>
                </a:lnTo>
                <a:lnTo>
                  <a:pt x="2949" y="1630"/>
                </a:lnTo>
                <a:lnTo>
                  <a:pt x="2946" y="1603"/>
                </a:lnTo>
                <a:lnTo>
                  <a:pt x="2944" y="1575"/>
                </a:lnTo>
                <a:lnTo>
                  <a:pt x="2944" y="1548"/>
                </a:lnTo>
                <a:lnTo>
                  <a:pt x="2944" y="1521"/>
                </a:lnTo>
                <a:lnTo>
                  <a:pt x="2947" y="1495"/>
                </a:lnTo>
                <a:lnTo>
                  <a:pt x="2950" y="1469"/>
                </a:lnTo>
                <a:lnTo>
                  <a:pt x="2955" y="1443"/>
                </a:lnTo>
                <a:lnTo>
                  <a:pt x="2961" y="1418"/>
                </a:lnTo>
                <a:lnTo>
                  <a:pt x="2968" y="1393"/>
                </a:lnTo>
                <a:lnTo>
                  <a:pt x="2975" y="1369"/>
                </a:lnTo>
                <a:lnTo>
                  <a:pt x="2985" y="1345"/>
                </a:lnTo>
                <a:lnTo>
                  <a:pt x="2995" y="1321"/>
                </a:lnTo>
                <a:lnTo>
                  <a:pt x="3007" y="1298"/>
                </a:lnTo>
                <a:lnTo>
                  <a:pt x="3019" y="1276"/>
                </a:lnTo>
                <a:lnTo>
                  <a:pt x="3033" y="1254"/>
                </a:lnTo>
                <a:lnTo>
                  <a:pt x="3048" y="1233"/>
                </a:lnTo>
                <a:lnTo>
                  <a:pt x="3063" y="1212"/>
                </a:lnTo>
                <a:lnTo>
                  <a:pt x="3080" y="1194"/>
                </a:lnTo>
                <a:lnTo>
                  <a:pt x="3098" y="1174"/>
                </a:lnTo>
                <a:lnTo>
                  <a:pt x="3115" y="1156"/>
                </a:lnTo>
                <a:lnTo>
                  <a:pt x="3134" y="1139"/>
                </a:lnTo>
                <a:lnTo>
                  <a:pt x="3154" y="1123"/>
                </a:lnTo>
                <a:lnTo>
                  <a:pt x="3175" y="1107"/>
                </a:lnTo>
                <a:lnTo>
                  <a:pt x="3197" y="1094"/>
                </a:lnTo>
                <a:lnTo>
                  <a:pt x="3219" y="1080"/>
                </a:lnTo>
                <a:lnTo>
                  <a:pt x="3242" y="1067"/>
                </a:lnTo>
                <a:lnTo>
                  <a:pt x="3266" y="1056"/>
                </a:lnTo>
                <a:lnTo>
                  <a:pt x="3290" y="1046"/>
                </a:lnTo>
                <a:lnTo>
                  <a:pt x="3315" y="1036"/>
                </a:lnTo>
                <a:lnTo>
                  <a:pt x="3340" y="1029"/>
                </a:lnTo>
                <a:lnTo>
                  <a:pt x="3366" y="1022"/>
                </a:lnTo>
                <a:lnTo>
                  <a:pt x="3393" y="1016"/>
                </a:lnTo>
                <a:lnTo>
                  <a:pt x="3404" y="1014"/>
                </a:lnTo>
                <a:lnTo>
                  <a:pt x="3414" y="1013"/>
                </a:lnTo>
                <a:lnTo>
                  <a:pt x="3431" y="1011"/>
                </a:lnTo>
                <a:lnTo>
                  <a:pt x="3449" y="1010"/>
                </a:lnTo>
                <a:lnTo>
                  <a:pt x="3465" y="1009"/>
                </a:lnTo>
                <a:lnTo>
                  <a:pt x="3482" y="1010"/>
                </a:lnTo>
                <a:lnTo>
                  <a:pt x="3500" y="1011"/>
                </a:lnTo>
                <a:lnTo>
                  <a:pt x="3517" y="1012"/>
                </a:lnTo>
                <a:lnTo>
                  <a:pt x="3534" y="1015"/>
                </a:lnTo>
                <a:lnTo>
                  <a:pt x="3551" y="1017"/>
                </a:lnTo>
                <a:lnTo>
                  <a:pt x="3586" y="1025"/>
                </a:lnTo>
                <a:lnTo>
                  <a:pt x="3621" y="1034"/>
                </a:lnTo>
                <a:lnTo>
                  <a:pt x="3657" y="1046"/>
                </a:lnTo>
                <a:lnTo>
                  <a:pt x="3692" y="1057"/>
                </a:lnTo>
                <a:lnTo>
                  <a:pt x="3764" y="1084"/>
                </a:lnTo>
                <a:lnTo>
                  <a:pt x="3841" y="1112"/>
                </a:lnTo>
                <a:lnTo>
                  <a:pt x="3879" y="1126"/>
                </a:lnTo>
                <a:lnTo>
                  <a:pt x="3919" y="1138"/>
                </a:lnTo>
                <a:lnTo>
                  <a:pt x="3960" y="1151"/>
                </a:lnTo>
                <a:lnTo>
                  <a:pt x="4001" y="1161"/>
                </a:lnTo>
                <a:lnTo>
                  <a:pt x="3837" y="0"/>
                </a:lnTo>
                <a:lnTo>
                  <a:pt x="882" y="417"/>
                </a:lnTo>
                <a:lnTo>
                  <a:pt x="1046" y="1573"/>
                </a:lnTo>
                <a:lnTo>
                  <a:pt x="1005" y="1563"/>
                </a:lnTo>
                <a:lnTo>
                  <a:pt x="965" y="1550"/>
                </a:lnTo>
                <a:lnTo>
                  <a:pt x="927" y="1537"/>
                </a:lnTo>
                <a:lnTo>
                  <a:pt x="888" y="1524"/>
                </a:lnTo>
                <a:lnTo>
                  <a:pt x="815" y="1496"/>
                </a:lnTo>
                <a:lnTo>
                  <a:pt x="743" y="1470"/>
                </a:lnTo>
                <a:lnTo>
                  <a:pt x="708" y="1459"/>
                </a:lnTo>
                <a:lnTo>
                  <a:pt x="674" y="1448"/>
                </a:lnTo>
                <a:lnTo>
                  <a:pt x="639" y="1440"/>
                </a:lnTo>
                <a:lnTo>
                  <a:pt x="605" y="1433"/>
                </a:lnTo>
                <a:lnTo>
                  <a:pt x="588" y="1429"/>
                </a:lnTo>
                <a:lnTo>
                  <a:pt x="571" y="1427"/>
                </a:lnTo>
                <a:lnTo>
                  <a:pt x="555" y="1426"/>
                </a:lnTo>
                <a:lnTo>
                  <a:pt x="537" y="1425"/>
                </a:lnTo>
                <a:lnTo>
                  <a:pt x="520" y="1424"/>
                </a:lnTo>
                <a:lnTo>
                  <a:pt x="504" y="1425"/>
                </a:lnTo>
                <a:lnTo>
                  <a:pt x="487" y="1426"/>
                </a:lnTo>
                <a:lnTo>
                  <a:pt x="470" y="1428"/>
                </a:lnTo>
                <a:lnTo>
                  <a:pt x="460" y="1429"/>
                </a:lnTo>
                <a:lnTo>
                  <a:pt x="449" y="1431"/>
                </a:lnTo>
                <a:lnTo>
                  <a:pt x="423" y="1437"/>
                </a:lnTo>
                <a:lnTo>
                  <a:pt x="397" y="1444"/>
                </a:lnTo>
                <a:lnTo>
                  <a:pt x="371" y="1451"/>
                </a:lnTo>
                <a:lnTo>
                  <a:pt x="346" y="1461"/>
                </a:lnTo>
                <a:lnTo>
                  <a:pt x="322" y="1471"/>
                </a:lnTo>
                <a:lnTo>
                  <a:pt x="298" y="1483"/>
                </a:lnTo>
                <a:lnTo>
                  <a:pt x="275" y="1495"/>
                </a:lnTo>
                <a:lnTo>
                  <a:pt x="253" y="1508"/>
                </a:lnTo>
                <a:lnTo>
                  <a:pt x="232" y="1522"/>
                </a:lnTo>
                <a:lnTo>
                  <a:pt x="211" y="1538"/>
                </a:lnTo>
                <a:lnTo>
                  <a:pt x="191" y="1555"/>
                </a:lnTo>
                <a:lnTo>
                  <a:pt x="171" y="1571"/>
                </a:lnTo>
                <a:lnTo>
                  <a:pt x="154" y="1589"/>
                </a:lnTo>
                <a:lnTo>
                  <a:pt x="136" y="1608"/>
                </a:lnTo>
                <a:lnTo>
                  <a:pt x="120" y="1628"/>
                </a:lnTo>
                <a:lnTo>
                  <a:pt x="104" y="1648"/>
                </a:lnTo>
                <a:lnTo>
                  <a:pt x="90" y="1669"/>
                </a:lnTo>
                <a:lnTo>
                  <a:pt x="76" y="1691"/>
                </a:lnTo>
                <a:lnTo>
                  <a:pt x="64" y="1713"/>
                </a:lnTo>
                <a:lnTo>
                  <a:pt x="52" y="1736"/>
                </a:lnTo>
                <a:lnTo>
                  <a:pt x="42" y="1759"/>
                </a:lnTo>
                <a:lnTo>
                  <a:pt x="32" y="1783"/>
                </a:lnTo>
                <a:lnTo>
                  <a:pt x="24" y="1808"/>
                </a:lnTo>
                <a:lnTo>
                  <a:pt x="17" y="1833"/>
                </a:lnTo>
                <a:lnTo>
                  <a:pt x="11" y="1858"/>
                </a:lnTo>
                <a:lnTo>
                  <a:pt x="6" y="1884"/>
                </a:lnTo>
                <a:lnTo>
                  <a:pt x="3" y="1910"/>
                </a:lnTo>
                <a:lnTo>
                  <a:pt x="1" y="1936"/>
                </a:lnTo>
                <a:lnTo>
                  <a:pt x="0" y="1963"/>
                </a:lnTo>
                <a:lnTo>
                  <a:pt x="0" y="1991"/>
                </a:lnTo>
                <a:lnTo>
                  <a:pt x="2" y="2017"/>
                </a:lnTo>
                <a:lnTo>
                  <a:pt x="5" y="2045"/>
                </a:lnTo>
                <a:lnTo>
                  <a:pt x="10" y="2072"/>
                </a:lnTo>
                <a:lnTo>
                  <a:pt x="16" y="2099"/>
                </a:lnTo>
                <a:lnTo>
                  <a:pt x="23" y="2126"/>
                </a:lnTo>
                <a:lnTo>
                  <a:pt x="31" y="2151"/>
                </a:lnTo>
                <a:lnTo>
                  <a:pt x="42" y="2177"/>
                </a:lnTo>
                <a:lnTo>
                  <a:pt x="52" y="2201"/>
                </a:lnTo>
                <a:lnTo>
                  <a:pt x="65" y="2225"/>
                </a:lnTo>
                <a:lnTo>
                  <a:pt x="77" y="2248"/>
                </a:lnTo>
                <a:lnTo>
                  <a:pt x="92" y="2271"/>
                </a:lnTo>
                <a:lnTo>
                  <a:pt x="108" y="2293"/>
                </a:lnTo>
                <a:lnTo>
                  <a:pt x="123" y="2314"/>
                </a:lnTo>
                <a:lnTo>
                  <a:pt x="141" y="2334"/>
                </a:lnTo>
                <a:lnTo>
                  <a:pt x="159" y="2352"/>
                </a:lnTo>
                <a:lnTo>
                  <a:pt x="178" y="2370"/>
                </a:lnTo>
                <a:lnTo>
                  <a:pt x="197" y="2388"/>
                </a:lnTo>
                <a:lnTo>
                  <a:pt x="218" y="2404"/>
                </a:lnTo>
                <a:lnTo>
                  <a:pt x="239" y="2419"/>
                </a:lnTo>
                <a:lnTo>
                  <a:pt x="261" y="2434"/>
                </a:lnTo>
                <a:lnTo>
                  <a:pt x="284" y="2446"/>
                </a:lnTo>
                <a:lnTo>
                  <a:pt x="307" y="2459"/>
                </a:lnTo>
                <a:lnTo>
                  <a:pt x="331" y="2469"/>
                </a:lnTo>
                <a:lnTo>
                  <a:pt x="355" y="2480"/>
                </a:lnTo>
                <a:lnTo>
                  <a:pt x="380" y="2488"/>
                </a:lnTo>
                <a:lnTo>
                  <a:pt x="406" y="2495"/>
                </a:lnTo>
                <a:lnTo>
                  <a:pt x="433" y="2502"/>
                </a:lnTo>
                <a:lnTo>
                  <a:pt x="459" y="2507"/>
                </a:lnTo>
                <a:lnTo>
                  <a:pt x="485" y="2510"/>
                </a:lnTo>
                <a:lnTo>
                  <a:pt x="512" y="2513"/>
                </a:lnTo>
                <a:lnTo>
                  <a:pt x="539" y="2513"/>
                </a:lnTo>
                <a:lnTo>
                  <a:pt x="567" y="2513"/>
                </a:lnTo>
                <a:lnTo>
                  <a:pt x="594" y="2511"/>
                </a:lnTo>
                <a:lnTo>
                  <a:pt x="623" y="2508"/>
                </a:lnTo>
                <a:lnTo>
                  <a:pt x="647" y="2501"/>
                </a:lnTo>
                <a:lnTo>
                  <a:pt x="670" y="2492"/>
                </a:lnTo>
                <a:lnTo>
                  <a:pt x="691" y="2484"/>
                </a:lnTo>
                <a:lnTo>
                  <a:pt x="711" y="2475"/>
                </a:lnTo>
                <a:lnTo>
                  <a:pt x="750" y="2457"/>
                </a:lnTo>
                <a:lnTo>
                  <a:pt x="786" y="2438"/>
                </a:lnTo>
                <a:lnTo>
                  <a:pt x="819" y="2419"/>
                </a:lnTo>
                <a:lnTo>
                  <a:pt x="849" y="2399"/>
                </a:lnTo>
                <a:lnTo>
                  <a:pt x="879" y="2380"/>
                </a:lnTo>
                <a:lnTo>
                  <a:pt x="906" y="2359"/>
                </a:lnTo>
                <a:lnTo>
                  <a:pt x="959" y="2316"/>
                </a:lnTo>
                <a:lnTo>
                  <a:pt x="1011" y="2273"/>
                </a:lnTo>
                <a:lnTo>
                  <a:pt x="1040" y="2251"/>
                </a:lnTo>
                <a:lnTo>
                  <a:pt x="1068" y="2229"/>
                </a:lnTo>
                <a:lnTo>
                  <a:pt x="1099" y="2208"/>
                </a:lnTo>
                <a:lnTo>
                  <a:pt x="1133" y="2186"/>
                </a:lnTo>
                <a:lnTo>
                  <a:pt x="1300" y="3366"/>
                </a:lnTo>
                <a:lnTo>
                  <a:pt x="2473" y="3202"/>
                </a:lnTo>
                <a:lnTo>
                  <a:pt x="2461" y="3245"/>
                </a:lnTo>
                <a:lnTo>
                  <a:pt x="2450" y="3288"/>
                </a:lnTo>
                <a:lnTo>
                  <a:pt x="2436" y="3330"/>
                </a:lnTo>
                <a:lnTo>
                  <a:pt x="2423" y="3371"/>
                </a:lnTo>
                <a:lnTo>
                  <a:pt x="2394" y="3449"/>
                </a:lnTo>
                <a:lnTo>
                  <a:pt x="2365" y="3525"/>
                </a:lnTo>
                <a:lnTo>
                  <a:pt x="2353" y="3562"/>
                </a:lnTo>
                <a:lnTo>
                  <a:pt x="2341" y="3599"/>
                </a:lnTo>
                <a:lnTo>
                  <a:pt x="2331" y="3635"/>
                </a:lnTo>
                <a:lnTo>
                  <a:pt x="2324" y="3671"/>
                </a:lnTo>
                <a:lnTo>
                  <a:pt x="2320" y="3689"/>
                </a:lnTo>
                <a:lnTo>
                  <a:pt x="2317" y="3707"/>
                </a:lnTo>
                <a:lnTo>
                  <a:pt x="2315" y="3725"/>
                </a:lnTo>
                <a:lnTo>
                  <a:pt x="2314" y="3743"/>
                </a:lnTo>
                <a:lnTo>
                  <a:pt x="2314" y="3761"/>
                </a:lnTo>
                <a:lnTo>
                  <a:pt x="2314" y="3778"/>
                </a:lnTo>
                <a:lnTo>
                  <a:pt x="2315" y="3796"/>
                </a:lnTo>
                <a:lnTo>
                  <a:pt x="2317" y="3814"/>
                </a:lnTo>
                <a:lnTo>
                  <a:pt x="2319" y="3824"/>
                </a:lnTo>
                <a:lnTo>
                  <a:pt x="2321" y="3835"/>
                </a:lnTo>
                <a:lnTo>
                  <a:pt x="2327" y="3861"/>
                </a:lnTo>
                <a:lnTo>
                  <a:pt x="2333" y="3887"/>
                </a:lnTo>
                <a:lnTo>
                  <a:pt x="2341" y="3913"/>
                </a:lnTo>
                <a:lnTo>
                  <a:pt x="2351" y="3937"/>
                </a:lnTo>
                <a:lnTo>
                  <a:pt x="2360" y="3962"/>
                </a:lnTo>
                <a:lnTo>
                  <a:pt x="2372" y="3985"/>
                </a:lnTo>
                <a:lnTo>
                  <a:pt x="2384" y="4008"/>
                </a:lnTo>
                <a:lnTo>
                  <a:pt x="2398" y="4031"/>
                </a:lnTo>
                <a:lnTo>
                  <a:pt x="2412" y="4052"/>
                </a:lnTo>
                <a:lnTo>
                  <a:pt x="2428" y="4072"/>
                </a:lnTo>
                <a:lnTo>
                  <a:pt x="2444" y="4092"/>
                </a:lnTo>
                <a:lnTo>
                  <a:pt x="2461" y="4111"/>
                </a:lnTo>
                <a:lnTo>
                  <a:pt x="2479" y="4130"/>
                </a:lnTo>
                <a:lnTo>
                  <a:pt x="2498" y="4148"/>
                </a:lnTo>
                <a:lnTo>
                  <a:pt x="2518" y="4163"/>
                </a:lnTo>
                <a:lnTo>
                  <a:pt x="2538" y="4179"/>
                </a:lnTo>
                <a:lnTo>
                  <a:pt x="2559" y="4193"/>
                </a:lnTo>
                <a:lnTo>
                  <a:pt x="2581" y="4207"/>
                </a:lnTo>
                <a:lnTo>
                  <a:pt x="2604" y="4220"/>
                </a:lnTo>
                <a:lnTo>
                  <a:pt x="2627" y="4231"/>
                </a:lnTo>
                <a:lnTo>
                  <a:pt x="2649" y="4241"/>
                </a:lnTo>
                <a:lnTo>
                  <a:pt x="2674" y="4251"/>
                </a:lnTo>
                <a:lnTo>
                  <a:pt x="2699" y="4259"/>
                </a:lnTo>
                <a:lnTo>
                  <a:pt x="2723" y="4266"/>
                </a:lnTo>
                <a:lnTo>
                  <a:pt x="2749" y="4272"/>
                </a:lnTo>
                <a:lnTo>
                  <a:pt x="2774" y="4277"/>
                </a:lnTo>
                <a:lnTo>
                  <a:pt x="2800" y="4280"/>
                </a:lnTo>
                <a:lnTo>
                  <a:pt x="2827" y="4282"/>
                </a:lnTo>
                <a:lnTo>
                  <a:pt x="2853" y="4283"/>
                </a:lnTo>
                <a:lnTo>
                  <a:pt x="2880" y="4282"/>
                </a:lnTo>
                <a:lnTo>
                  <a:pt x="2908" y="4281"/>
                </a:lnTo>
                <a:lnTo>
                  <a:pt x="2935" y="4278"/>
                </a:lnTo>
                <a:lnTo>
                  <a:pt x="2963" y="4273"/>
                </a:lnTo>
                <a:lnTo>
                  <a:pt x="2990" y="4268"/>
                </a:lnTo>
                <a:lnTo>
                  <a:pt x="3016" y="4260"/>
                </a:lnTo>
                <a:lnTo>
                  <a:pt x="3042" y="4251"/>
                </a:lnTo>
                <a:lnTo>
                  <a:pt x="3067" y="4241"/>
                </a:lnTo>
                <a:lnTo>
                  <a:pt x="3092" y="4231"/>
                </a:lnTo>
                <a:lnTo>
                  <a:pt x="3116" y="4219"/>
                </a:lnTo>
                <a:lnTo>
                  <a:pt x="3139" y="4206"/>
                </a:lnTo>
                <a:lnTo>
                  <a:pt x="3161" y="4191"/>
                </a:lnTo>
                <a:lnTo>
                  <a:pt x="3183" y="4176"/>
                </a:lnTo>
                <a:lnTo>
                  <a:pt x="3204" y="4160"/>
                </a:lnTo>
                <a:lnTo>
                  <a:pt x="3224" y="4142"/>
                </a:lnTo>
                <a:lnTo>
                  <a:pt x="3243" y="4125"/>
                </a:lnTo>
                <a:lnTo>
                  <a:pt x="3262" y="4106"/>
                </a:lnTo>
                <a:lnTo>
                  <a:pt x="3278" y="4086"/>
                </a:lnTo>
                <a:lnTo>
                  <a:pt x="3295" y="4065"/>
                </a:lnTo>
                <a:lnTo>
                  <a:pt x="3310" y="4044"/>
                </a:lnTo>
                <a:lnTo>
                  <a:pt x="3324" y="4022"/>
                </a:lnTo>
                <a:lnTo>
                  <a:pt x="3338" y="3999"/>
                </a:lnTo>
                <a:lnTo>
                  <a:pt x="3349" y="3977"/>
                </a:lnTo>
                <a:lnTo>
                  <a:pt x="3361" y="3953"/>
                </a:lnTo>
                <a:lnTo>
                  <a:pt x="3370" y="3928"/>
                </a:lnTo>
                <a:lnTo>
                  <a:pt x="3379" y="3902"/>
                </a:lnTo>
                <a:lnTo>
                  <a:pt x="3387" y="3877"/>
                </a:lnTo>
                <a:lnTo>
                  <a:pt x="3393" y="3851"/>
                </a:lnTo>
                <a:lnTo>
                  <a:pt x="3398" y="3825"/>
                </a:lnTo>
                <a:lnTo>
                  <a:pt x="3402" y="3798"/>
                </a:lnTo>
                <a:lnTo>
                  <a:pt x="3404" y="3772"/>
                </a:lnTo>
                <a:lnTo>
                  <a:pt x="3405" y="3744"/>
                </a:lnTo>
                <a:lnTo>
                  <a:pt x="3405" y="3717"/>
                </a:lnTo>
                <a:lnTo>
                  <a:pt x="3403" y="3689"/>
                </a:lnTo>
                <a:lnTo>
                  <a:pt x="3400" y="3662"/>
                </a:lnTo>
                <a:lnTo>
                  <a:pt x="3391" y="3636"/>
                </a:lnTo>
                <a:lnTo>
                  <a:pt x="3382" y="3613"/>
                </a:lnTo>
                <a:lnTo>
                  <a:pt x="3373" y="3590"/>
                </a:lnTo>
                <a:lnTo>
                  <a:pt x="3364" y="3568"/>
                </a:lnTo>
                <a:lnTo>
                  <a:pt x="3355" y="3547"/>
                </a:lnTo>
                <a:lnTo>
                  <a:pt x="3345" y="3527"/>
                </a:lnTo>
                <a:lnTo>
                  <a:pt x="3335" y="3508"/>
                </a:lnTo>
                <a:lnTo>
                  <a:pt x="3325" y="3490"/>
                </a:lnTo>
                <a:lnTo>
                  <a:pt x="3305" y="3456"/>
                </a:lnTo>
                <a:lnTo>
                  <a:pt x="3284" y="3425"/>
                </a:lnTo>
                <a:lnTo>
                  <a:pt x="3262" y="3395"/>
                </a:lnTo>
                <a:lnTo>
                  <a:pt x="3240" y="3365"/>
                </a:lnTo>
                <a:lnTo>
                  <a:pt x="3195" y="3310"/>
                </a:lnTo>
                <a:lnTo>
                  <a:pt x="3148" y="3254"/>
                </a:lnTo>
                <a:lnTo>
                  <a:pt x="3125" y="3223"/>
                </a:lnTo>
                <a:lnTo>
                  <a:pt x="3102" y="3191"/>
                </a:lnTo>
                <a:lnTo>
                  <a:pt x="3079" y="3157"/>
                </a:lnTo>
                <a:lnTo>
                  <a:pt x="3056" y="3119"/>
                </a:lnTo>
                <a:lnTo>
                  <a:pt x="4254" y="2950"/>
                </a:lnTo>
                <a:lnTo>
                  <a:pt x="4086" y="1764"/>
                </a:lnTo>
                <a:close/>
              </a:path>
            </a:pathLst>
          </a:custGeom>
          <a:solidFill>
            <a:srgbClr val="8e8e8e"/>
          </a:solidFill>
          <a:ln w="73080">
            <a:solidFill>
              <a:srgbClr val="ffffff"/>
            </a:solidFill>
            <a:round/>
          </a:ln>
        </p:spPr>
        <p:style>
          <a:lnRef idx="0"/>
          <a:fillRef idx="0"/>
          <a:effectRef idx="0"/>
          <a:fontRef idx="minor"/>
        </p:style>
        <p:txBody>
          <a:bodyPr lIns="145800" rIns="145800" tIns="72720" bIns="72720" anchor="t">
            <a:noAutofit/>
          </a:bodyPr>
          <a:p>
            <a:endParaRPr b="0" lang="en-US" sz="1800" spc="-1" strike="noStrike">
              <a:solidFill>
                <a:srgbClr val="3f3f3f"/>
              </a:solidFill>
              <a:latin typeface="Roboto"/>
            </a:endParaRPr>
          </a:p>
        </p:txBody>
      </p:sp>
      <p:sp>
        <p:nvSpPr>
          <p:cNvPr id="1489" name="Freeform 6"/>
          <p:cNvSpPr/>
          <p:nvPr/>
        </p:nvSpPr>
        <p:spPr>
          <a:xfrm flipV="1" rot="21123000">
            <a:off x="4601880" y="1972080"/>
            <a:ext cx="1754280" cy="1738440"/>
          </a:xfrm>
          <a:custGeom>
            <a:avLst/>
            <a:gdLst/>
            <a:ahLst/>
            <a:rect l="l" t="t" r="r" b="b"/>
            <a:pathLst>
              <a:path w="4290" h="4247">
                <a:moveTo>
                  <a:pt x="3667" y="853"/>
                </a:moveTo>
                <a:lnTo>
                  <a:pt x="3642" y="861"/>
                </a:lnTo>
                <a:lnTo>
                  <a:pt x="3618" y="871"/>
                </a:lnTo>
                <a:lnTo>
                  <a:pt x="3595" y="879"/>
                </a:lnTo>
                <a:lnTo>
                  <a:pt x="3573" y="888"/>
                </a:lnTo>
                <a:lnTo>
                  <a:pt x="3552" y="898"/>
                </a:lnTo>
                <a:lnTo>
                  <a:pt x="3532" y="907"/>
                </a:lnTo>
                <a:lnTo>
                  <a:pt x="3513" y="918"/>
                </a:lnTo>
                <a:lnTo>
                  <a:pt x="3496" y="927"/>
                </a:lnTo>
                <a:lnTo>
                  <a:pt x="3461" y="948"/>
                </a:lnTo>
                <a:lnTo>
                  <a:pt x="3430" y="969"/>
                </a:lnTo>
                <a:lnTo>
                  <a:pt x="3400" y="991"/>
                </a:lnTo>
                <a:lnTo>
                  <a:pt x="3371" y="1012"/>
                </a:lnTo>
                <a:lnTo>
                  <a:pt x="3315" y="1057"/>
                </a:lnTo>
                <a:lnTo>
                  <a:pt x="3259" y="1104"/>
                </a:lnTo>
                <a:lnTo>
                  <a:pt x="3228" y="1127"/>
                </a:lnTo>
                <a:lnTo>
                  <a:pt x="3196" y="1150"/>
                </a:lnTo>
                <a:lnTo>
                  <a:pt x="3161" y="1173"/>
                </a:lnTo>
                <a:lnTo>
                  <a:pt x="3124" y="1196"/>
                </a:lnTo>
                <a:lnTo>
                  <a:pt x="2955" y="0"/>
                </a:lnTo>
                <a:lnTo>
                  <a:pt x="1767" y="168"/>
                </a:lnTo>
                <a:lnTo>
                  <a:pt x="1789" y="202"/>
                </a:lnTo>
                <a:lnTo>
                  <a:pt x="1811" y="233"/>
                </a:lnTo>
                <a:lnTo>
                  <a:pt x="1834" y="264"/>
                </a:lnTo>
                <a:lnTo>
                  <a:pt x="1855" y="292"/>
                </a:lnTo>
                <a:lnTo>
                  <a:pt x="1900" y="346"/>
                </a:lnTo>
                <a:lnTo>
                  <a:pt x="1943" y="399"/>
                </a:lnTo>
                <a:lnTo>
                  <a:pt x="1964" y="427"/>
                </a:lnTo>
                <a:lnTo>
                  <a:pt x="1985" y="457"/>
                </a:lnTo>
                <a:lnTo>
                  <a:pt x="2006" y="488"/>
                </a:lnTo>
                <a:lnTo>
                  <a:pt x="2025" y="521"/>
                </a:lnTo>
                <a:lnTo>
                  <a:pt x="2035" y="538"/>
                </a:lnTo>
                <a:lnTo>
                  <a:pt x="2045" y="557"/>
                </a:lnTo>
                <a:lnTo>
                  <a:pt x="2053" y="576"/>
                </a:lnTo>
                <a:lnTo>
                  <a:pt x="2062" y="596"/>
                </a:lnTo>
                <a:lnTo>
                  <a:pt x="2071" y="617"/>
                </a:lnTo>
                <a:lnTo>
                  <a:pt x="2080" y="639"/>
                </a:lnTo>
                <a:lnTo>
                  <a:pt x="2088" y="662"/>
                </a:lnTo>
                <a:lnTo>
                  <a:pt x="2097" y="686"/>
                </a:lnTo>
                <a:lnTo>
                  <a:pt x="2100" y="714"/>
                </a:lnTo>
                <a:lnTo>
                  <a:pt x="2101" y="742"/>
                </a:lnTo>
                <a:lnTo>
                  <a:pt x="2102" y="769"/>
                </a:lnTo>
                <a:lnTo>
                  <a:pt x="2101" y="797"/>
                </a:lnTo>
                <a:lnTo>
                  <a:pt x="2099" y="824"/>
                </a:lnTo>
                <a:lnTo>
                  <a:pt x="2095" y="851"/>
                </a:lnTo>
                <a:lnTo>
                  <a:pt x="2089" y="877"/>
                </a:lnTo>
                <a:lnTo>
                  <a:pt x="2083" y="903"/>
                </a:lnTo>
                <a:lnTo>
                  <a:pt x="2076" y="928"/>
                </a:lnTo>
                <a:lnTo>
                  <a:pt x="2068" y="953"/>
                </a:lnTo>
                <a:lnTo>
                  <a:pt x="2058" y="977"/>
                </a:lnTo>
                <a:lnTo>
                  <a:pt x="2047" y="1001"/>
                </a:lnTo>
                <a:lnTo>
                  <a:pt x="2034" y="1025"/>
                </a:lnTo>
                <a:lnTo>
                  <a:pt x="2022" y="1047"/>
                </a:lnTo>
                <a:lnTo>
                  <a:pt x="2007" y="1069"/>
                </a:lnTo>
                <a:lnTo>
                  <a:pt x="1992" y="1091"/>
                </a:lnTo>
                <a:lnTo>
                  <a:pt x="1976" y="1112"/>
                </a:lnTo>
                <a:lnTo>
                  <a:pt x="1959" y="1130"/>
                </a:lnTo>
                <a:lnTo>
                  <a:pt x="1940" y="1150"/>
                </a:lnTo>
                <a:lnTo>
                  <a:pt x="1921" y="1168"/>
                </a:lnTo>
                <a:lnTo>
                  <a:pt x="1901" y="1185"/>
                </a:lnTo>
                <a:lnTo>
                  <a:pt x="1881" y="1201"/>
                </a:lnTo>
                <a:lnTo>
                  <a:pt x="1859" y="1216"/>
                </a:lnTo>
                <a:lnTo>
                  <a:pt x="1837" y="1230"/>
                </a:lnTo>
                <a:lnTo>
                  <a:pt x="1813" y="1244"/>
                </a:lnTo>
                <a:lnTo>
                  <a:pt x="1790" y="1256"/>
                </a:lnTo>
                <a:lnTo>
                  <a:pt x="1765" y="1267"/>
                </a:lnTo>
                <a:lnTo>
                  <a:pt x="1740" y="1276"/>
                </a:lnTo>
                <a:lnTo>
                  <a:pt x="1713" y="1285"/>
                </a:lnTo>
                <a:lnTo>
                  <a:pt x="1686" y="1292"/>
                </a:lnTo>
                <a:lnTo>
                  <a:pt x="1659" y="1298"/>
                </a:lnTo>
                <a:lnTo>
                  <a:pt x="1632" y="1302"/>
                </a:lnTo>
                <a:lnTo>
                  <a:pt x="1605" y="1306"/>
                </a:lnTo>
                <a:lnTo>
                  <a:pt x="1578" y="1308"/>
                </a:lnTo>
                <a:lnTo>
                  <a:pt x="1550" y="1308"/>
                </a:lnTo>
                <a:lnTo>
                  <a:pt x="1523" y="1308"/>
                </a:lnTo>
                <a:lnTo>
                  <a:pt x="1497" y="1306"/>
                </a:lnTo>
                <a:lnTo>
                  <a:pt x="1471" y="1301"/>
                </a:lnTo>
                <a:lnTo>
                  <a:pt x="1445" y="1297"/>
                </a:lnTo>
                <a:lnTo>
                  <a:pt x="1420" y="1291"/>
                </a:lnTo>
                <a:lnTo>
                  <a:pt x="1395" y="1284"/>
                </a:lnTo>
                <a:lnTo>
                  <a:pt x="1371" y="1276"/>
                </a:lnTo>
                <a:lnTo>
                  <a:pt x="1347" y="1267"/>
                </a:lnTo>
                <a:lnTo>
                  <a:pt x="1323" y="1257"/>
                </a:lnTo>
                <a:lnTo>
                  <a:pt x="1300" y="1245"/>
                </a:lnTo>
                <a:lnTo>
                  <a:pt x="1278" y="1233"/>
                </a:lnTo>
                <a:lnTo>
                  <a:pt x="1256" y="1219"/>
                </a:lnTo>
                <a:lnTo>
                  <a:pt x="1235" y="1204"/>
                </a:lnTo>
                <a:lnTo>
                  <a:pt x="1214" y="1189"/>
                </a:lnTo>
                <a:lnTo>
                  <a:pt x="1195" y="1172"/>
                </a:lnTo>
                <a:lnTo>
                  <a:pt x="1176" y="1154"/>
                </a:lnTo>
                <a:lnTo>
                  <a:pt x="1158" y="1137"/>
                </a:lnTo>
                <a:lnTo>
                  <a:pt x="1141" y="1118"/>
                </a:lnTo>
                <a:lnTo>
                  <a:pt x="1124" y="1098"/>
                </a:lnTo>
                <a:lnTo>
                  <a:pt x="1108" y="1077"/>
                </a:lnTo>
                <a:lnTo>
                  <a:pt x="1095" y="1055"/>
                </a:lnTo>
                <a:lnTo>
                  <a:pt x="1081" y="1033"/>
                </a:lnTo>
                <a:lnTo>
                  <a:pt x="1069" y="1010"/>
                </a:lnTo>
                <a:lnTo>
                  <a:pt x="1057" y="986"/>
                </a:lnTo>
                <a:lnTo>
                  <a:pt x="1047" y="962"/>
                </a:lnTo>
                <a:lnTo>
                  <a:pt x="1038" y="937"/>
                </a:lnTo>
                <a:lnTo>
                  <a:pt x="1030" y="912"/>
                </a:lnTo>
                <a:lnTo>
                  <a:pt x="1023" y="886"/>
                </a:lnTo>
                <a:lnTo>
                  <a:pt x="1018" y="859"/>
                </a:lnTo>
                <a:lnTo>
                  <a:pt x="1015" y="850"/>
                </a:lnTo>
                <a:lnTo>
                  <a:pt x="1014" y="839"/>
                </a:lnTo>
                <a:lnTo>
                  <a:pt x="1012" y="822"/>
                </a:lnTo>
                <a:lnTo>
                  <a:pt x="1011" y="805"/>
                </a:lnTo>
                <a:lnTo>
                  <a:pt x="1011" y="787"/>
                </a:lnTo>
                <a:lnTo>
                  <a:pt x="1011" y="770"/>
                </a:lnTo>
                <a:lnTo>
                  <a:pt x="1012" y="753"/>
                </a:lnTo>
                <a:lnTo>
                  <a:pt x="1013" y="736"/>
                </a:lnTo>
                <a:lnTo>
                  <a:pt x="1017" y="719"/>
                </a:lnTo>
                <a:lnTo>
                  <a:pt x="1019" y="702"/>
                </a:lnTo>
                <a:lnTo>
                  <a:pt x="1027" y="667"/>
                </a:lnTo>
                <a:lnTo>
                  <a:pt x="1035" y="632"/>
                </a:lnTo>
                <a:lnTo>
                  <a:pt x="1047" y="597"/>
                </a:lnTo>
                <a:lnTo>
                  <a:pt x="1058" y="561"/>
                </a:lnTo>
                <a:lnTo>
                  <a:pt x="1085" y="489"/>
                </a:lnTo>
                <a:lnTo>
                  <a:pt x="1114" y="413"/>
                </a:lnTo>
                <a:lnTo>
                  <a:pt x="1127" y="374"/>
                </a:lnTo>
                <a:lnTo>
                  <a:pt x="1140" y="334"/>
                </a:lnTo>
                <a:lnTo>
                  <a:pt x="1152" y="294"/>
                </a:lnTo>
                <a:lnTo>
                  <a:pt x="1164" y="252"/>
                </a:lnTo>
                <a:lnTo>
                  <a:pt x="0" y="416"/>
                </a:lnTo>
                <a:lnTo>
                  <a:pt x="417" y="3367"/>
                </a:lnTo>
                <a:lnTo>
                  <a:pt x="1575" y="3203"/>
                </a:lnTo>
                <a:lnTo>
                  <a:pt x="1565" y="3244"/>
                </a:lnTo>
                <a:lnTo>
                  <a:pt x="1552" y="3283"/>
                </a:lnTo>
                <a:lnTo>
                  <a:pt x="1540" y="3322"/>
                </a:lnTo>
                <a:lnTo>
                  <a:pt x="1526" y="3360"/>
                </a:lnTo>
                <a:lnTo>
                  <a:pt x="1498" y="3433"/>
                </a:lnTo>
                <a:lnTo>
                  <a:pt x="1472" y="3505"/>
                </a:lnTo>
                <a:lnTo>
                  <a:pt x="1461" y="3540"/>
                </a:lnTo>
                <a:lnTo>
                  <a:pt x="1450" y="3575"/>
                </a:lnTo>
                <a:lnTo>
                  <a:pt x="1442" y="3609"/>
                </a:lnTo>
                <a:lnTo>
                  <a:pt x="1434" y="3643"/>
                </a:lnTo>
                <a:lnTo>
                  <a:pt x="1431" y="3660"/>
                </a:lnTo>
                <a:lnTo>
                  <a:pt x="1429" y="3676"/>
                </a:lnTo>
                <a:lnTo>
                  <a:pt x="1428" y="3693"/>
                </a:lnTo>
                <a:lnTo>
                  <a:pt x="1427" y="3711"/>
                </a:lnTo>
                <a:lnTo>
                  <a:pt x="1427" y="3728"/>
                </a:lnTo>
                <a:lnTo>
                  <a:pt x="1427" y="3744"/>
                </a:lnTo>
                <a:lnTo>
                  <a:pt x="1428" y="3761"/>
                </a:lnTo>
                <a:lnTo>
                  <a:pt x="1430" y="3778"/>
                </a:lnTo>
                <a:lnTo>
                  <a:pt x="1431" y="3788"/>
                </a:lnTo>
                <a:lnTo>
                  <a:pt x="1433" y="3798"/>
                </a:lnTo>
                <a:lnTo>
                  <a:pt x="1439" y="3825"/>
                </a:lnTo>
                <a:lnTo>
                  <a:pt x="1446" y="3851"/>
                </a:lnTo>
                <a:lnTo>
                  <a:pt x="1453" y="3877"/>
                </a:lnTo>
                <a:lnTo>
                  <a:pt x="1463" y="3902"/>
                </a:lnTo>
                <a:lnTo>
                  <a:pt x="1473" y="3926"/>
                </a:lnTo>
                <a:lnTo>
                  <a:pt x="1485" y="3950"/>
                </a:lnTo>
                <a:lnTo>
                  <a:pt x="1497" y="3973"/>
                </a:lnTo>
                <a:lnTo>
                  <a:pt x="1511" y="3995"/>
                </a:lnTo>
                <a:lnTo>
                  <a:pt x="1524" y="4015"/>
                </a:lnTo>
                <a:lnTo>
                  <a:pt x="1540" y="4036"/>
                </a:lnTo>
                <a:lnTo>
                  <a:pt x="1557" y="4056"/>
                </a:lnTo>
                <a:lnTo>
                  <a:pt x="1573" y="4076"/>
                </a:lnTo>
                <a:lnTo>
                  <a:pt x="1591" y="4094"/>
                </a:lnTo>
                <a:lnTo>
                  <a:pt x="1611" y="4111"/>
                </a:lnTo>
                <a:lnTo>
                  <a:pt x="1630" y="4127"/>
                </a:lnTo>
                <a:lnTo>
                  <a:pt x="1651" y="4143"/>
                </a:lnTo>
                <a:lnTo>
                  <a:pt x="1672" y="4157"/>
                </a:lnTo>
                <a:lnTo>
                  <a:pt x="1694" y="4171"/>
                </a:lnTo>
                <a:lnTo>
                  <a:pt x="1715" y="4183"/>
                </a:lnTo>
                <a:lnTo>
                  <a:pt x="1738" y="4195"/>
                </a:lnTo>
                <a:lnTo>
                  <a:pt x="1762" y="4205"/>
                </a:lnTo>
                <a:lnTo>
                  <a:pt x="1787" y="4215"/>
                </a:lnTo>
                <a:lnTo>
                  <a:pt x="1811" y="4223"/>
                </a:lnTo>
                <a:lnTo>
                  <a:pt x="1836" y="4230"/>
                </a:lnTo>
                <a:lnTo>
                  <a:pt x="1861" y="4236"/>
                </a:lnTo>
                <a:lnTo>
                  <a:pt x="1887" y="4241"/>
                </a:lnTo>
                <a:lnTo>
                  <a:pt x="1913" y="4244"/>
                </a:lnTo>
                <a:lnTo>
                  <a:pt x="1939" y="4246"/>
                </a:lnTo>
                <a:lnTo>
                  <a:pt x="1966" y="4247"/>
                </a:lnTo>
                <a:lnTo>
                  <a:pt x="1993" y="4247"/>
                </a:lnTo>
                <a:lnTo>
                  <a:pt x="2021" y="4245"/>
                </a:lnTo>
                <a:lnTo>
                  <a:pt x="2048" y="4242"/>
                </a:lnTo>
                <a:lnTo>
                  <a:pt x="2075" y="4237"/>
                </a:lnTo>
                <a:lnTo>
                  <a:pt x="2102" y="4231"/>
                </a:lnTo>
                <a:lnTo>
                  <a:pt x="2129" y="4224"/>
                </a:lnTo>
                <a:lnTo>
                  <a:pt x="2155" y="4216"/>
                </a:lnTo>
                <a:lnTo>
                  <a:pt x="2180" y="4205"/>
                </a:lnTo>
                <a:lnTo>
                  <a:pt x="2204" y="4195"/>
                </a:lnTo>
                <a:lnTo>
                  <a:pt x="2228" y="4182"/>
                </a:lnTo>
                <a:lnTo>
                  <a:pt x="2252" y="4170"/>
                </a:lnTo>
                <a:lnTo>
                  <a:pt x="2274" y="4155"/>
                </a:lnTo>
                <a:lnTo>
                  <a:pt x="2296" y="4140"/>
                </a:lnTo>
                <a:lnTo>
                  <a:pt x="2317" y="4124"/>
                </a:lnTo>
                <a:lnTo>
                  <a:pt x="2337" y="4107"/>
                </a:lnTo>
                <a:lnTo>
                  <a:pt x="2356" y="4088"/>
                </a:lnTo>
                <a:lnTo>
                  <a:pt x="2374" y="4070"/>
                </a:lnTo>
                <a:lnTo>
                  <a:pt x="2391" y="4050"/>
                </a:lnTo>
                <a:lnTo>
                  <a:pt x="2407" y="4030"/>
                </a:lnTo>
                <a:lnTo>
                  <a:pt x="2423" y="4008"/>
                </a:lnTo>
                <a:lnTo>
                  <a:pt x="2437" y="3986"/>
                </a:lnTo>
                <a:lnTo>
                  <a:pt x="2450" y="3963"/>
                </a:lnTo>
                <a:lnTo>
                  <a:pt x="2462" y="3940"/>
                </a:lnTo>
                <a:lnTo>
                  <a:pt x="2473" y="3916"/>
                </a:lnTo>
                <a:lnTo>
                  <a:pt x="2483" y="3892"/>
                </a:lnTo>
                <a:lnTo>
                  <a:pt x="2492" y="3867"/>
                </a:lnTo>
                <a:lnTo>
                  <a:pt x="2499" y="3841"/>
                </a:lnTo>
                <a:lnTo>
                  <a:pt x="2505" y="3815"/>
                </a:lnTo>
                <a:lnTo>
                  <a:pt x="2511" y="3789"/>
                </a:lnTo>
                <a:lnTo>
                  <a:pt x="2514" y="3763"/>
                </a:lnTo>
                <a:lnTo>
                  <a:pt x="2517" y="3736"/>
                </a:lnTo>
                <a:lnTo>
                  <a:pt x="2518" y="3709"/>
                </a:lnTo>
                <a:lnTo>
                  <a:pt x="2517" y="3681"/>
                </a:lnTo>
                <a:lnTo>
                  <a:pt x="2515" y="3654"/>
                </a:lnTo>
                <a:lnTo>
                  <a:pt x="2512" y="3625"/>
                </a:lnTo>
                <a:lnTo>
                  <a:pt x="2504" y="3601"/>
                </a:lnTo>
                <a:lnTo>
                  <a:pt x="2496" y="3579"/>
                </a:lnTo>
                <a:lnTo>
                  <a:pt x="2488" y="3558"/>
                </a:lnTo>
                <a:lnTo>
                  <a:pt x="2478" y="3537"/>
                </a:lnTo>
                <a:lnTo>
                  <a:pt x="2460" y="3498"/>
                </a:lnTo>
                <a:lnTo>
                  <a:pt x="2443" y="3463"/>
                </a:lnTo>
                <a:lnTo>
                  <a:pt x="2423" y="3429"/>
                </a:lnTo>
                <a:lnTo>
                  <a:pt x="2403" y="3399"/>
                </a:lnTo>
                <a:lnTo>
                  <a:pt x="2383" y="3370"/>
                </a:lnTo>
                <a:lnTo>
                  <a:pt x="2362" y="3343"/>
                </a:lnTo>
                <a:lnTo>
                  <a:pt x="2319" y="3289"/>
                </a:lnTo>
                <a:lnTo>
                  <a:pt x="2277" y="3237"/>
                </a:lnTo>
                <a:lnTo>
                  <a:pt x="2255" y="3209"/>
                </a:lnTo>
                <a:lnTo>
                  <a:pt x="2233" y="3180"/>
                </a:lnTo>
                <a:lnTo>
                  <a:pt x="2211" y="3150"/>
                </a:lnTo>
                <a:lnTo>
                  <a:pt x="2189" y="3116"/>
                </a:lnTo>
                <a:lnTo>
                  <a:pt x="3371" y="2949"/>
                </a:lnTo>
                <a:lnTo>
                  <a:pt x="3206" y="1779"/>
                </a:lnTo>
                <a:lnTo>
                  <a:pt x="3250" y="1790"/>
                </a:lnTo>
                <a:lnTo>
                  <a:pt x="3293" y="1801"/>
                </a:lnTo>
                <a:lnTo>
                  <a:pt x="3335" y="1815"/>
                </a:lnTo>
                <a:lnTo>
                  <a:pt x="3376" y="1828"/>
                </a:lnTo>
                <a:lnTo>
                  <a:pt x="3455" y="1857"/>
                </a:lnTo>
                <a:lnTo>
                  <a:pt x="3530" y="1886"/>
                </a:lnTo>
                <a:lnTo>
                  <a:pt x="3568" y="1898"/>
                </a:lnTo>
                <a:lnTo>
                  <a:pt x="3604" y="1910"/>
                </a:lnTo>
                <a:lnTo>
                  <a:pt x="3641" y="1920"/>
                </a:lnTo>
                <a:lnTo>
                  <a:pt x="3676" y="1927"/>
                </a:lnTo>
                <a:lnTo>
                  <a:pt x="3695" y="1930"/>
                </a:lnTo>
                <a:lnTo>
                  <a:pt x="3713" y="1934"/>
                </a:lnTo>
                <a:lnTo>
                  <a:pt x="3731" y="1936"/>
                </a:lnTo>
                <a:lnTo>
                  <a:pt x="3749" y="1937"/>
                </a:lnTo>
                <a:lnTo>
                  <a:pt x="3766" y="1937"/>
                </a:lnTo>
                <a:lnTo>
                  <a:pt x="3784" y="1937"/>
                </a:lnTo>
                <a:lnTo>
                  <a:pt x="3802" y="1936"/>
                </a:lnTo>
                <a:lnTo>
                  <a:pt x="3820" y="1934"/>
                </a:lnTo>
                <a:lnTo>
                  <a:pt x="3830" y="1931"/>
                </a:lnTo>
                <a:lnTo>
                  <a:pt x="3840" y="1929"/>
                </a:lnTo>
                <a:lnTo>
                  <a:pt x="3867" y="1924"/>
                </a:lnTo>
                <a:lnTo>
                  <a:pt x="3893" y="1918"/>
                </a:lnTo>
                <a:lnTo>
                  <a:pt x="3919" y="1910"/>
                </a:lnTo>
                <a:lnTo>
                  <a:pt x="3944" y="1900"/>
                </a:lnTo>
                <a:lnTo>
                  <a:pt x="3968" y="1891"/>
                </a:lnTo>
                <a:lnTo>
                  <a:pt x="3991" y="1879"/>
                </a:lnTo>
                <a:lnTo>
                  <a:pt x="4014" y="1867"/>
                </a:lnTo>
                <a:lnTo>
                  <a:pt x="4037" y="1853"/>
                </a:lnTo>
                <a:lnTo>
                  <a:pt x="4058" y="1839"/>
                </a:lnTo>
                <a:lnTo>
                  <a:pt x="4079" y="1824"/>
                </a:lnTo>
                <a:lnTo>
                  <a:pt x="4099" y="1807"/>
                </a:lnTo>
                <a:lnTo>
                  <a:pt x="4118" y="1790"/>
                </a:lnTo>
                <a:lnTo>
                  <a:pt x="4136" y="1772"/>
                </a:lnTo>
                <a:lnTo>
                  <a:pt x="4154" y="1753"/>
                </a:lnTo>
                <a:lnTo>
                  <a:pt x="4170" y="1733"/>
                </a:lnTo>
                <a:lnTo>
                  <a:pt x="4185" y="1713"/>
                </a:lnTo>
                <a:lnTo>
                  <a:pt x="4200" y="1693"/>
                </a:lnTo>
                <a:lnTo>
                  <a:pt x="4213" y="1671"/>
                </a:lnTo>
                <a:lnTo>
                  <a:pt x="4226" y="1648"/>
                </a:lnTo>
                <a:lnTo>
                  <a:pt x="4238" y="1626"/>
                </a:lnTo>
                <a:lnTo>
                  <a:pt x="4248" y="1602"/>
                </a:lnTo>
                <a:lnTo>
                  <a:pt x="4257" y="1578"/>
                </a:lnTo>
                <a:lnTo>
                  <a:pt x="4266" y="1553"/>
                </a:lnTo>
                <a:lnTo>
                  <a:pt x="4273" y="1529"/>
                </a:lnTo>
                <a:lnTo>
                  <a:pt x="4278" y="1503"/>
                </a:lnTo>
                <a:lnTo>
                  <a:pt x="4283" y="1478"/>
                </a:lnTo>
                <a:lnTo>
                  <a:pt x="4287" y="1452"/>
                </a:lnTo>
                <a:lnTo>
                  <a:pt x="4289" y="1424"/>
                </a:lnTo>
                <a:lnTo>
                  <a:pt x="4290" y="1398"/>
                </a:lnTo>
                <a:lnTo>
                  <a:pt x="4289" y="1371"/>
                </a:lnTo>
                <a:lnTo>
                  <a:pt x="4288" y="1344"/>
                </a:lnTo>
                <a:lnTo>
                  <a:pt x="4285" y="1317"/>
                </a:lnTo>
                <a:lnTo>
                  <a:pt x="4279" y="1289"/>
                </a:lnTo>
                <a:lnTo>
                  <a:pt x="4274" y="1262"/>
                </a:lnTo>
                <a:lnTo>
                  <a:pt x="4267" y="1236"/>
                </a:lnTo>
                <a:lnTo>
                  <a:pt x="4257" y="1210"/>
                </a:lnTo>
                <a:lnTo>
                  <a:pt x="4248" y="1185"/>
                </a:lnTo>
                <a:lnTo>
                  <a:pt x="4238" y="1160"/>
                </a:lnTo>
                <a:lnTo>
                  <a:pt x="4225" y="1136"/>
                </a:lnTo>
                <a:lnTo>
                  <a:pt x="4212" y="1113"/>
                </a:lnTo>
                <a:lnTo>
                  <a:pt x="4198" y="1091"/>
                </a:lnTo>
                <a:lnTo>
                  <a:pt x="4182" y="1069"/>
                </a:lnTo>
                <a:lnTo>
                  <a:pt x="4166" y="1048"/>
                </a:lnTo>
                <a:lnTo>
                  <a:pt x="4149" y="1028"/>
                </a:lnTo>
                <a:lnTo>
                  <a:pt x="4131" y="1009"/>
                </a:lnTo>
                <a:lnTo>
                  <a:pt x="4112" y="991"/>
                </a:lnTo>
                <a:lnTo>
                  <a:pt x="4092" y="974"/>
                </a:lnTo>
                <a:lnTo>
                  <a:pt x="4071" y="957"/>
                </a:lnTo>
                <a:lnTo>
                  <a:pt x="4050" y="943"/>
                </a:lnTo>
                <a:lnTo>
                  <a:pt x="4029" y="928"/>
                </a:lnTo>
                <a:lnTo>
                  <a:pt x="4006" y="914"/>
                </a:lnTo>
                <a:lnTo>
                  <a:pt x="3983" y="903"/>
                </a:lnTo>
                <a:lnTo>
                  <a:pt x="3959" y="891"/>
                </a:lnTo>
                <a:lnTo>
                  <a:pt x="3933" y="882"/>
                </a:lnTo>
                <a:lnTo>
                  <a:pt x="3909" y="874"/>
                </a:lnTo>
                <a:lnTo>
                  <a:pt x="3883" y="865"/>
                </a:lnTo>
                <a:lnTo>
                  <a:pt x="3857" y="859"/>
                </a:lnTo>
                <a:lnTo>
                  <a:pt x="3831" y="855"/>
                </a:lnTo>
                <a:lnTo>
                  <a:pt x="3805" y="851"/>
                </a:lnTo>
                <a:lnTo>
                  <a:pt x="3778" y="849"/>
                </a:lnTo>
                <a:lnTo>
                  <a:pt x="3751" y="848"/>
                </a:lnTo>
                <a:lnTo>
                  <a:pt x="3722" y="848"/>
                </a:lnTo>
                <a:lnTo>
                  <a:pt x="3695" y="850"/>
                </a:lnTo>
                <a:lnTo>
                  <a:pt x="3667" y="853"/>
                </a:lnTo>
                <a:close/>
              </a:path>
            </a:pathLst>
          </a:custGeom>
          <a:solidFill>
            <a:srgbClr val="464646"/>
          </a:solidFill>
          <a:ln w="73080">
            <a:solidFill>
              <a:srgbClr val="ffffff"/>
            </a:solidFill>
            <a:round/>
          </a:ln>
        </p:spPr>
        <p:style>
          <a:lnRef idx="0"/>
          <a:fillRef idx="0"/>
          <a:effectRef idx="0"/>
          <a:fontRef idx="minor"/>
        </p:style>
        <p:txBody>
          <a:bodyPr lIns="145800" rIns="145800" tIns="72720" bIns="72720" anchor="t">
            <a:noAutofit/>
          </a:bodyPr>
          <a:p>
            <a:endParaRPr b="0" lang="en-US" sz="1800" spc="-1" strike="noStrike">
              <a:solidFill>
                <a:srgbClr val="3f3f3f"/>
              </a:solidFill>
              <a:latin typeface="Roboto"/>
            </a:endParaRPr>
          </a:p>
        </p:txBody>
      </p:sp>
      <p:sp>
        <p:nvSpPr>
          <p:cNvPr id="1490" name="Freeform 7"/>
          <p:cNvSpPr/>
          <p:nvPr/>
        </p:nvSpPr>
        <p:spPr>
          <a:xfrm flipV="1" rot="21123000">
            <a:off x="5881680" y="2334600"/>
            <a:ext cx="1738440" cy="1752480"/>
          </a:xfrm>
          <a:custGeom>
            <a:avLst/>
            <a:gdLst/>
            <a:ahLst/>
            <a:rect l="l" t="t" r="r" b="b"/>
            <a:pathLst>
              <a:path w="4254" h="4283">
                <a:moveTo>
                  <a:pt x="3632" y="1775"/>
                </a:moveTo>
                <a:lnTo>
                  <a:pt x="3608" y="1783"/>
                </a:lnTo>
                <a:lnTo>
                  <a:pt x="3586" y="1791"/>
                </a:lnTo>
                <a:lnTo>
                  <a:pt x="3564" y="1800"/>
                </a:lnTo>
                <a:lnTo>
                  <a:pt x="3543" y="1808"/>
                </a:lnTo>
                <a:lnTo>
                  <a:pt x="3504" y="1826"/>
                </a:lnTo>
                <a:lnTo>
                  <a:pt x="3469" y="1844"/>
                </a:lnTo>
                <a:lnTo>
                  <a:pt x="3435" y="1863"/>
                </a:lnTo>
                <a:lnTo>
                  <a:pt x="3405" y="1883"/>
                </a:lnTo>
                <a:lnTo>
                  <a:pt x="3376" y="1904"/>
                </a:lnTo>
                <a:lnTo>
                  <a:pt x="3349" y="1925"/>
                </a:lnTo>
                <a:lnTo>
                  <a:pt x="3295" y="1966"/>
                </a:lnTo>
                <a:lnTo>
                  <a:pt x="3243" y="2010"/>
                </a:lnTo>
                <a:lnTo>
                  <a:pt x="3215" y="2032"/>
                </a:lnTo>
                <a:lnTo>
                  <a:pt x="3187" y="2054"/>
                </a:lnTo>
                <a:lnTo>
                  <a:pt x="3155" y="2076"/>
                </a:lnTo>
                <a:lnTo>
                  <a:pt x="3122" y="2098"/>
                </a:lnTo>
                <a:lnTo>
                  <a:pt x="2956" y="916"/>
                </a:lnTo>
                <a:lnTo>
                  <a:pt x="1783" y="1082"/>
                </a:lnTo>
                <a:lnTo>
                  <a:pt x="1793" y="1038"/>
                </a:lnTo>
                <a:lnTo>
                  <a:pt x="1805" y="995"/>
                </a:lnTo>
                <a:lnTo>
                  <a:pt x="1818" y="954"/>
                </a:lnTo>
                <a:lnTo>
                  <a:pt x="1832" y="913"/>
                </a:lnTo>
                <a:lnTo>
                  <a:pt x="1861" y="834"/>
                </a:lnTo>
                <a:lnTo>
                  <a:pt x="1889" y="758"/>
                </a:lnTo>
                <a:lnTo>
                  <a:pt x="1902" y="721"/>
                </a:lnTo>
                <a:lnTo>
                  <a:pt x="1913" y="684"/>
                </a:lnTo>
                <a:lnTo>
                  <a:pt x="1924" y="648"/>
                </a:lnTo>
                <a:lnTo>
                  <a:pt x="1931" y="612"/>
                </a:lnTo>
                <a:lnTo>
                  <a:pt x="1934" y="594"/>
                </a:lnTo>
                <a:lnTo>
                  <a:pt x="1937" y="576"/>
                </a:lnTo>
                <a:lnTo>
                  <a:pt x="1939" y="558"/>
                </a:lnTo>
                <a:lnTo>
                  <a:pt x="1940" y="541"/>
                </a:lnTo>
                <a:lnTo>
                  <a:pt x="1940" y="523"/>
                </a:lnTo>
                <a:lnTo>
                  <a:pt x="1940" y="505"/>
                </a:lnTo>
                <a:lnTo>
                  <a:pt x="1939" y="487"/>
                </a:lnTo>
                <a:lnTo>
                  <a:pt x="1937" y="470"/>
                </a:lnTo>
                <a:lnTo>
                  <a:pt x="1935" y="459"/>
                </a:lnTo>
                <a:lnTo>
                  <a:pt x="1933" y="449"/>
                </a:lnTo>
                <a:lnTo>
                  <a:pt x="1928" y="422"/>
                </a:lnTo>
                <a:lnTo>
                  <a:pt x="1922" y="396"/>
                </a:lnTo>
                <a:lnTo>
                  <a:pt x="1913" y="371"/>
                </a:lnTo>
                <a:lnTo>
                  <a:pt x="1904" y="346"/>
                </a:lnTo>
                <a:lnTo>
                  <a:pt x="1894" y="322"/>
                </a:lnTo>
                <a:lnTo>
                  <a:pt x="1883" y="298"/>
                </a:lnTo>
                <a:lnTo>
                  <a:pt x="1870" y="275"/>
                </a:lnTo>
                <a:lnTo>
                  <a:pt x="1857" y="253"/>
                </a:lnTo>
                <a:lnTo>
                  <a:pt x="1842" y="231"/>
                </a:lnTo>
                <a:lnTo>
                  <a:pt x="1827" y="210"/>
                </a:lnTo>
                <a:lnTo>
                  <a:pt x="1811" y="190"/>
                </a:lnTo>
                <a:lnTo>
                  <a:pt x="1794" y="171"/>
                </a:lnTo>
                <a:lnTo>
                  <a:pt x="1775" y="154"/>
                </a:lnTo>
                <a:lnTo>
                  <a:pt x="1756" y="136"/>
                </a:lnTo>
                <a:lnTo>
                  <a:pt x="1737" y="119"/>
                </a:lnTo>
                <a:lnTo>
                  <a:pt x="1717" y="104"/>
                </a:lnTo>
                <a:lnTo>
                  <a:pt x="1696" y="90"/>
                </a:lnTo>
                <a:lnTo>
                  <a:pt x="1674" y="76"/>
                </a:lnTo>
                <a:lnTo>
                  <a:pt x="1652" y="64"/>
                </a:lnTo>
                <a:lnTo>
                  <a:pt x="1629" y="52"/>
                </a:lnTo>
                <a:lnTo>
                  <a:pt x="1605" y="42"/>
                </a:lnTo>
                <a:lnTo>
                  <a:pt x="1581" y="33"/>
                </a:lnTo>
                <a:lnTo>
                  <a:pt x="1557" y="24"/>
                </a:lnTo>
                <a:lnTo>
                  <a:pt x="1532" y="17"/>
                </a:lnTo>
                <a:lnTo>
                  <a:pt x="1506" y="11"/>
                </a:lnTo>
                <a:lnTo>
                  <a:pt x="1481" y="7"/>
                </a:lnTo>
                <a:lnTo>
                  <a:pt x="1455" y="3"/>
                </a:lnTo>
                <a:lnTo>
                  <a:pt x="1427" y="1"/>
                </a:lnTo>
                <a:lnTo>
                  <a:pt x="1401" y="0"/>
                </a:lnTo>
                <a:lnTo>
                  <a:pt x="1374" y="0"/>
                </a:lnTo>
                <a:lnTo>
                  <a:pt x="1347" y="2"/>
                </a:lnTo>
                <a:lnTo>
                  <a:pt x="1320" y="6"/>
                </a:lnTo>
                <a:lnTo>
                  <a:pt x="1292" y="10"/>
                </a:lnTo>
                <a:lnTo>
                  <a:pt x="1264" y="16"/>
                </a:lnTo>
                <a:lnTo>
                  <a:pt x="1238" y="23"/>
                </a:lnTo>
                <a:lnTo>
                  <a:pt x="1212" y="32"/>
                </a:lnTo>
                <a:lnTo>
                  <a:pt x="1187" y="42"/>
                </a:lnTo>
                <a:lnTo>
                  <a:pt x="1162" y="52"/>
                </a:lnTo>
                <a:lnTo>
                  <a:pt x="1138" y="65"/>
                </a:lnTo>
                <a:lnTo>
                  <a:pt x="1115" y="77"/>
                </a:lnTo>
                <a:lnTo>
                  <a:pt x="1093" y="92"/>
                </a:lnTo>
                <a:lnTo>
                  <a:pt x="1071" y="107"/>
                </a:lnTo>
                <a:lnTo>
                  <a:pt x="1050" y="123"/>
                </a:lnTo>
                <a:lnTo>
                  <a:pt x="1030" y="140"/>
                </a:lnTo>
                <a:lnTo>
                  <a:pt x="1012" y="159"/>
                </a:lnTo>
                <a:lnTo>
                  <a:pt x="993" y="178"/>
                </a:lnTo>
                <a:lnTo>
                  <a:pt x="976" y="197"/>
                </a:lnTo>
                <a:lnTo>
                  <a:pt x="959" y="217"/>
                </a:lnTo>
                <a:lnTo>
                  <a:pt x="945" y="239"/>
                </a:lnTo>
                <a:lnTo>
                  <a:pt x="930" y="261"/>
                </a:lnTo>
                <a:lnTo>
                  <a:pt x="916" y="283"/>
                </a:lnTo>
                <a:lnTo>
                  <a:pt x="905" y="307"/>
                </a:lnTo>
                <a:lnTo>
                  <a:pt x="893" y="331"/>
                </a:lnTo>
                <a:lnTo>
                  <a:pt x="884" y="355"/>
                </a:lnTo>
                <a:lnTo>
                  <a:pt x="876" y="380"/>
                </a:lnTo>
                <a:lnTo>
                  <a:pt x="868" y="406"/>
                </a:lnTo>
                <a:lnTo>
                  <a:pt x="862" y="431"/>
                </a:lnTo>
                <a:lnTo>
                  <a:pt x="857" y="458"/>
                </a:lnTo>
                <a:lnTo>
                  <a:pt x="853" y="484"/>
                </a:lnTo>
                <a:lnTo>
                  <a:pt x="851" y="511"/>
                </a:lnTo>
                <a:lnTo>
                  <a:pt x="850" y="539"/>
                </a:lnTo>
                <a:lnTo>
                  <a:pt x="851" y="566"/>
                </a:lnTo>
                <a:lnTo>
                  <a:pt x="852" y="594"/>
                </a:lnTo>
                <a:lnTo>
                  <a:pt x="855" y="622"/>
                </a:lnTo>
                <a:lnTo>
                  <a:pt x="863" y="647"/>
                </a:lnTo>
                <a:lnTo>
                  <a:pt x="873" y="671"/>
                </a:lnTo>
                <a:lnTo>
                  <a:pt x="881" y="694"/>
                </a:lnTo>
                <a:lnTo>
                  <a:pt x="890" y="715"/>
                </a:lnTo>
                <a:lnTo>
                  <a:pt x="900" y="736"/>
                </a:lnTo>
                <a:lnTo>
                  <a:pt x="909" y="755"/>
                </a:lnTo>
                <a:lnTo>
                  <a:pt x="920" y="774"/>
                </a:lnTo>
                <a:lnTo>
                  <a:pt x="929" y="793"/>
                </a:lnTo>
                <a:lnTo>
                  <a:pt x="950" y="827"/>
                </a:lnTo>
                <a:lnTo>
                  <a:pt x="971" y="859"/>
                </a:lnTo>
                <a:lnTo>
                  <a:pt x="993" y="889"/>
                </a:lnTo>
                <a:lnTo>
                  <a:pt x="1015" y="917"/>
                </a:lnTo>
                <a:lnTo>
                  <a:pt x="1061" y="972"/>
                </a:lnTo>
                <a:lnTo>
                  <a:pt x="1107" y="1030"/>
                </a:lnTo>
                <a:lnTo>
                  <a:pt x="1130" y="1060"/>
                </a:lnTo>
                <a:lnTo>
                  <a:pt x="1153" y="1091"/>
                </a:lnTo>
                <a:lnTo>
                  <a:pt x="1176" y="1127"/>
                </a:lnTo>
                <a:lnTo>
                  <a:pt x="1199" y="1164"/>
                </a:lnTo>
                <a:lnTo>
                  <a:pt x="0" y="1333"/>
                </a:lnTo>
                <a:lnTo>
                  <a:pt x="168" y="2519"/>
                </a:lnTo>
                <a:lnTo>
                  <a:pt x="203" y="2497"/>
                </a:lnTo>
                <a:lnTo>
                  <a:pt x="234" y="2474"/>
                </a:lnTo>
                <a:lnTo>
                  <a:pt x="265" y="2453"/>
                </a:lnTo>
                <a:lnTo>
                  <a:pt x="293" y="2430"/>
                </a:lnTo>
                <a:lnTo>
                  <a:pt x="347" y="2386"/>
                </a:lnTo>
                <a:lnTo>
                  <a:pt x="400" y="2343"/>
                </a:lnTo>
                <a:lnTo>
                  <a:pt x="429" y="2321"/>
                </a:lnTo>
                <a:lnTo>
                  <a:pt x="458" y="2300"/>
                </a:lnTo>
                <a:lnTo>
                  <a:pt x="489" y="2280"/>
                </a:lnTo>
                <a:lnTo>
                  <a:pt x="523" y="2261"/>
                </a:lnTo>
                <a:lnTo>
                  <a:pt x="558" y="2242"/>
                </a:lnTo>
                <a:lnTo>
                  <a:pt x="598" y="2224"/>
                </a:lnTo>
                <a:lnTo>
                  <a:pt x="619" y="2215"/>
                </a:lnTo>
                <a:lnTo>
                  <a:pt x="641" y="2206"/>
                </a:lnTo>
                <a:lnTo>
                  <a:pt x="664" y="2198"/>
                </a:lnTo>
                <a:lnTo>
                  <a:pt x="688" y="2190"/>
                </a:lnTo>
                <a:lnTo>
                  <a:pt x="716" y="2187"/>
                </a:lnTo>
                <a:lnTo>
                  <a:pt x="744" y="2184"/>
                </a:lnTo>
                <a:lnTo>
                  <a:pt x="771" y="2184"/>
                </a:lnTo>
                <a:lnTo>
                  <a:pt x="798" y="2186"/>
                </a:lnTo>
                <a:lnTo>
                  <a:pt x="826" y="2188"/>
                </a:lnTo>
                <a:lnTo>
                  <a:pt x="853" y="2192"/>
                </a:lnTo>
                <a:lnTo>
                  <a:pt x="879" y="2196"/>
                </a:lnTo>
                <a:lnTo>
                  <a:pt x="905" y="2202"/>
                </a:lnTo>
                <a:lnTo>
                  <a:pt x="930" y="2211"/>
                </a:lnTo>
                <a:lnTo>
                  <a:pt x="955" y="2219"/>
                </a:lnTo>
                <a:lnTo>
                  <a:pt x="979" y="2228"/>
                </a:lnTo>
                <a:lnTo>
                  <a:pt x="1003" y="2240"/>
                </a:lnTo>
                <a:lnTo>
                  <a:pt x="1027" y="2251"/>
                </a:lnTo>
                <a:lnTo>
                  <a:pt x="1049" y="2265"/>
                </a:lnTo>
                <a:lnTo>
                  <a:pt x="1072" y="2278"/>
                </a:lnTo>
                <a:lnTo>
                  <a:pt x="1093" y="2294"/>
                </a:lnTo>
                <a:lnTo>
                  <a:pt x="1114" y="2311"/>
                </a:lnTo>
                <a:lnTo>
                  <a:pt x="1134" y="2327"/>
                </a:lnTo>
                <a:lnTo>
                  <a:pt x="1153" y="2345"/>
                </a:lnTo>
                <a:lnTo>
                  <a:pt x="1170" y="2365"/>
                </a:lnTo>
                <a:lnTo>
                  <a:pt x="1187" y="2385"/>
                </a:lnTo>
                <a:lnTo>
                  <a:pt x="1204" y="2406"/>
                </a:lnTo>
                <a:lnTo>
                  <a:pt x="1219" y="2426"/>
                </a:lnTo>
                <a:lnTo>
                  <a:pt x="1233" y="2449"/>
                </a:lnTo>
                <a:lnTo>
                  <a:pt x="1247" y="2472"/>
                </a:lnTo>
                <a:lnTo>
                  <a:pt x="1258" y="2496"/>
                </a:lnTo>
                <a:lnTo>
                  <a:pt x="1270" y="2521"/>
                </a:lnTo>
                <a:lnTo>
                  <a:pt x="1279" y="2546"/>
                </a:lnTo>
                <a:lnTo>
                  <a:pt x="1287" y="2572"/>
                </a:lnTo>
                <a:lnTo>
                  <a:pt x="1295" y="2599"/>
                </a:lnTo>
                <a:lnTo>
                  <a:pt x="1301" y="2626"/>
                </a:lnTo>
                <a:lnTo>
                  <a:pt x="1305" y="2654"/>
                </a:lnTo>
                <a:lnTo>
                  <a:pt x="1308" y="2681"/>
                </a:lnTo>
                <a:lnTo>
                  <a:pt x="1310" y="2708"/>
                </a:lnTo>
                <a:lnTo>
                  <a:pt x="1310" y="2735"/>
                </a:lnTo>
                <a:lnTo>
                  <a:pt x="1310" y="2761"/>
                </a:lnTo>
                <a:lnTo>
                  <a:pt x="1308" y="2787"/>
                </a:lnTo>
                <a:lnTo>
                  <a:pt x="1304" y="2813"/>
                </a:lnTo>
                <a:lnTo>
                  <a:pt x="1300" y="2840"/>
                </a:lnTo>
                <a:lnTo>
                  <a:pt x="1294" y="2865"/>
                </a:lnTo>
                <a:lnTo>
                  <a:pt x="1286" y="2890"/>
                </a:lnTo>
                <a:lnTo>
                  <a:pt x="1279" y="2915"/>
                </a:lnTo>
                <a:lnTo>
                  <a:pt x="1270" y="2939"/>
                </a:lnTo>
                <a:lnTo>
                  <a:pt x="1259" y="2962"/>
                </a:lnTo>
                <a:lnTo>
                  <a:pt x="1248" y="2984"/>
                </a:lnTo>
                <a:lnTo>
                  <a:pt x="1235" y="3007"/>
                </a:lnTo>
                <a:lnTo>
                  <a:pt x="1222" y="3029"/>
                </a:lnTo>
                <a:lnTo>
                  <a:pt x="1207" y="3050"/>
                </a:lnTo>
                <a:lnTo>
                  <a:pt x="1191" y="3070"/>
                </a:lnTo>
                <a:lnTo>
                  <a:pt x="1175" y="3090"/>
                </a:lnTo>
                <a:lnTo>
                  <a:pt x="1158" y="3109"/>
                </a:lnTo>
                <a:lnTo>
                  <a:pt x="1139" y="3126"/>
                </a:lnTo>
                <a:lnTo>
                  <a:pt x="1120" y="3144"/>
                </a:lnTo>
                <a:lnTo>
                  <a:pt x="1100" y="3160"/>
                </a:lnTo>
                <a:lnTo>
                  <a:pt x="1079" y="3175"/>
                </a:lnTo>
                <a:lnTo>
                  <a:pt x="1058" y="3190"/>
                </a:lnTo>
                <a:lnTo>
                  <a:pt x="1036" y="3204"/>
                </a:lnTo>
                <a:lnTo>
                  <a:pt x="1013" y="3216"/>
                </a:lnTo>
                <a:lnTo>
                  <a:pt x="989" y="3228"/>
                </a:lnTo>
                <a:lnTo>
                  <a:pt x="965" y="3237"/>
                </a:lnTo>
                <a:lnTo>
                  <a:pt x="939" y="3246"/>
                </a:lnTo>
                <a:lnTo>
                  <a:pt x="914" y="3255"/>
                </a:lnTo>
                <a:lnTo>
                  <a:pt x="888" y="3261"/>
                </a:lnTo>
                <a:lnTo>
                  <a:pt x="861" y="3266"/>
                </a:lnTo>
                <a:lnTo>
                  <a:pt x="852" y="3268"/>
                </a:lnTo>
                <a:lnTo>
                  <a:pt x="840" y="3270"/>
                </a:lnTo>
                <a:lnTo>
                  <a:pt x="823" y="3272"/>
                </a:lnTo>
                <a:lnTo>
                  <a:pt x="807" y="3273"/>
                </a:lnTo>
                <a:lnTo>
                  <a:pt x="789" y="3273"/>
                </a:lnTo>
                <a:lnTo>
                  <a:pt x="772" y="3273"/>
                </a:lnTo>
                <a:lnTo>
                  <a:pt x="755" y="3272"/>
                </a:lnTo>
                <a:lnTo>
                  <a:pt x="738" y="3270"/>
                </a:lnTo>
                <a:lnTo>
                  <a:pt x="721" y="3268"/>
                </a:lnTo>
                <a:lnTo>
                  <a:pt x="703" y="3265"/>
                </a:lnTo>
                <a:lnTo>
                  <a:pt x="669" y="3258"/>
                </a:lnTo>
                <a:lnTo>
                  <a:pt x="633" y="3248"/>
                </a:lnTo>
                <a:lnTo>
                  <a:pt x="599" y="3238"/>
                </a:lnTo>
                <a:lnTo>
                  <a:pt x="563" y="3225"/>
                </a:lnTo>
                <a:lnTo>
                  <a:pt x="490" y="3199"/>
                </a:lnTo>
                <a:lnTo>
                  <a:pt x="414" y="3171"/>
                </a:lnTo>
                <a:lnTo>
                  <a:pt x="375" y="3158"/>
                </a:lnTo>
                <a:lnTo>
                  <a:pt x="336" y="3144"/>
                </a:lnTo>
                <a:lnTo>
                  <a:pt x="295" y="3133"/>
                </a:lnTo>
                <a:lnTo>
                  <a:pt x="253" y="3121"/>
                </a:lnTo>
                <a:lnTo>
                  <a:pt x="417" y="4283"/>
                </a:lnTo>
                <a:lnTo>
                  <a:pt x="3373" y="3867"/>
                </a:lnTo>
                <a:lnTo>
                  <a:pt x="3209" y="2709"/>
                </a:lnTo>
                <a:lnTo>
                  <a:pt x="3249" y="2721"/>
                </a:lnTo>
                <a:lnTo>
                  <a:pt x="3289" y="2733"/>
                </a:lnTo>
                <a:lnTo>
                  <a:pt x="3328" y="2746"/>
                </a:lnTo>
                <a:lnTo>
                  <a:pt x="3366" y="2759"/>
                </a:lnTo>
                <a:lnTo>
                  <a:pt x="3441" y="2786"/>
                </a:lnTo>
                <a:lnTo>
                  <a:pt x="3512" y="2812"/>
                </a:lnTo>
                <a:lnTo>
                  <a:pt x="3546" y="2824"/>
                </a:lnTo>
                <a:lnTo>
                  <a:pt x="3582" y="2834"/>
                </a:lnTo>
                <a:lnTo>
                  <a:pt x="3615" y="2844"/>
                </a:lnTo>
                <a:lnTo>
                  <a:pt x="3650" y="2851"/>
                </a:lnTo>
                <a:lnTo>
                  <a:pt x="3666" y="2853"/>
                </a:lnTo>
                <a:lnTo>
                  <a:pt x="3683" y="2855"/>
                </a:lnTo>
                <a:lnTo>
                  <a:pt x="3701" y="2857"/>
                </a:lnTo>
                <a:lnTo>
                  <a:pt x="3717" y="2858"/>
                </a:lnTo>
                <a:lnTo>
                  <a:pt x="3734" y="2858"/>
                </a:lnTo>
                <a:lnTo>
                  <a:pt x="3751" y="2858"/>
                </a:lnTo>
                <a:lnTo>
                  <a:pt x="3768" y="2857"/>
                </a:lnTo>
                <a:lnTo>
                  <a:pt x="3784" y="2855"/>
                </a:lnTo>
                <a:lnTo>
                  <a:pt x="3795" y="2853"/>
                </a:lnTo>
                <a:lnTo>
                  <a:pt x="3805" y="2852"/>
                </a:lnTo>
                <a:lnTo>
                  <a:pt x="3831" y="2846"/>
                </a:lnTo>
                <a:lnTo>
                  <a:pt x="3857" y="2840"/>
                </a:lnTo>
                <a:lnTo>
                  <a:pt x="3884" y="2831"/>
                </a:lnTo>
                <a:lnTo>
                  <a:pt x="3909" y="2823"/>
                </a:lnTo>
                <a:lnTo>
                  <a:pt x="3933" y="2812"/>
                </a:lnTo>
                <a:lnTo>
                  <a:pt x="3957" y="2801"/>
                </a:lnTo>
                <a:lnTo>
                  <a:pt x="3980" y="2788"/>
                </a:lnTo>
                <a:lnTo>
                  <a:pt x="4002" y="2775"/>
                </a:lnTo>
                <a:lnTo>
                  <a:pt x="4023" y="2760"/>
                </a:lnTo>
                <a:lnTo>
                  <a:pt x="4043" y="2746"/>
                </a:lnTo>
                <a:lnTo>
                  <a:pt x="4063" y="2729"/>
                </a:lnTo>
                <a:lnTo>
                  <a:pt x="4083" y="2711"/>
                </a:lnTo>
                <a:lnTo>
                  <a:pt x="4101" y="2693"/>
                </a:lnTo>
                <a:lnTo>
                  <a:pt x="4119" y="2675"/>
                </a:lnTo>
                <a:lnTo>
                  <a:pt x="4134" y="2655"/>
                </a:lnTo>
                <a:lnTo>
                  <a:pt x="4150" y="2635"/>
                </a:lnTo>
                <a:lnTo>
                  <a:pt x="4165" y="2614"/>
                </a:lnTo>
                <a:lnTo>
                  <a:pt x="4178" y="2592"/>
                </a:lnTo>
                <a:lnTo>
                  <a:pt x="4191" y="2569"/>
                </a:lnTo>
                <a:lnTo>
                  <a:pt x="4202" y="2546"/>
                </a:lnTo>
                <a:lnTo>
                  <a:pt x="4213" y="2523"/>
                </a:lnTo>
                <a:lnTo>
                  <a:pt x="4222" y="2499"/>
                </a:lnTo>
                <a:lnTo>
                  <a:pt x="4230" y="2474"/>
                </a:lnTo>
                <a:lnTo>
                  <a:pt x="4238" y="2450"/>
                </a:lnTo>
                <a:lnTo>
                  <a:pt x="4243" y="2424"/>
                </a:lnTo>
                <a:lnTo>
                  <a:pt x="4248" y="2399"/>
                </a:lnTo>
                <a:lnTo>
                  <a:pt x="4251" y="2373"/>
                </a:lnTo>
                <a:lnTo>
                  <a:pt x="4253" y="2346"/>
                </a:lnTo>
                <a:lnTo>
                  <a:pt x="4254" y="2320"/>
                </a:lnTo>
                <a:lnTo>
                  <a:pt x="4254" y="2293"/>
                </a:lnTo>
                <a:lnTo>
                  <a:pt x="4252" y="2266"/>
                </a:lnTo>
                <a:lnTo>
                  <a:pt x="4249" y="2239"/>
                </a:lnTo>
                <a:lnTo>
                  <a:pt x="4244" y="2211"/>
                </a:lnTo>
                <a:lnTo>
                  <a:pt x="4239" y="2183"/>
                </a:lnTo>
                <a:lnTo>
                  <a:pt x="4231" y="2157"/>
                </a:lnTo>
                <a:lnTo>
                  <a:pt x="4223" y="2131"/>
                </a:lnTo>
                <a:lnTo>
                  <a:pt x="4213" y="2106"/>
                </a:lnTo>
                <a:lnTo>
                  <a:pt x="4202" y="2081"/>
                </a:lnTo>
                <a:lnTo>
                  <a:pt x="4190" y="2057"/>
                </a:lnTo>
                <a:lnTo>
                  <a:pt x="4177" y="2034"/>
                </a:lnTo>
                <a:lnTo>
                  <a:pt x="4163" y="2012"/>
                </a:lnTo>
                <a:lnTo>
                  <a:pt x="4148" y="1990"/>
                </a:lnTo>
                <a:lnTo>
                  <a:pt x="4131" y="1970"/>
                </a:lnTo>
                <a:lnTo>
                  <a:pt x="4114" y="1950"/>
                </a:lnTo>
                <a:lnTo>
                  <a:pt x="4096" y="1931"/>
                </a:lnTo>
                <a:lnTo>
                  <a:pt x="4077" y="1912"/>
                </a:lnTo>
                <a:lnTo>
                  <a:pt x="4057" y="1896"/>
                </a:lnTo>
                <a:lnTo>
                  <a:pt x="4037" y="1879"/>
                </a:lnTo>
                <a:lnTo>
                  <a:pt x="4015" y="1864"/>
                </a:lnTo>
                <a:lnTo>
                  <a:pt x="3993" y="1850"/>
                </a:lnTo>
                <a:lnTo>
                  <a:pt x="3970" y="1836"/>
                </a:lnTo>
                <a:lnTo>
                  <a:pt x="3947" y="1825"/>
                </a:lnTo>
                <a:lnTo>
                  <a:pt x="3923" y="1813"/>
                </a:lnTo>
                <a:lnTo>
                  <a:pt x="3899" y="1804"/>
                </a:lnTo>
                <a:lnTo>
                  <a:pt x="3874" y="1795"/>
                </a:lnTo>
                <a:lnTo>
                  <a:pt x="3848" y="1787"/>
                </a:lnTo>
                <a:lnTo>
                  <a:pt x="3822" y="1782"/>
                </a:lnTo>
                <a:lnTo>
                  <a:pt x="3796" y="1777"/>
                </a:lnTo>
                <a:lnTo>
                  <a:pt x="3770" y="1772"/>
                </a:lnTo>
                <a:lnTo>
                  <a:pt x="3743" y="1770"/>
                </a:lnTo>
                <a:lnTo>
                  <a:pt x="3715" y="1769"/>
                </a:lnTo>
                <a:lnTo>
                  <a:pt x="3687" y="1769"/>
                </a:lnTo>
                <a:lnTo>
                  <a:pt x="3660" y="1771"/>
                </a:lnTo>
                <a:lnTo>
                  <a:pt x="3632" y="1775"/>
                </a:lnTo>
                <a:close/>
              </a:path>
            </a:pathLst>
          </a:custGeom>
          <a:solidFill>
            <a:srgbClr val="c0c0c0"/>
          </a:solidFill>
          <a:ln w="73080">
            <a:solidFill>
              <a:srgbClr val="ffffff"/>
            </a:solidFill>
            <a:round/>
          </a:ln>
        </p:spPr>
        <p:style>
          <a:lnRef idx="0"/>
          <a:fillRef idx="0"/>
          <a:effectRef idx="0"/>
          <a:fontRef idx="minor"/>
        </p:style>
        <p:txBody>
          <a:bodyPr lIns="145800" rIns="145800" tIns="72720" bIns="72720" anchor="t">
            <a:noAutofit/>
          </a:bodyPr>
          <a:p>
            <a:endParaRPr b="0" lang="en-US" sz="1800" spc="-1" strike="noStrike">
              <a:solidFill>
                <a:srgbClr val="3f3f3f"/>
              </a:solidFill>
              <a:latin typeface="Roboto"/>
            </a:endParaRPr>
          </a:p>
        </p:txBody>
      </p:sp>
      <p:sp>
        <p:nvSpPr>
          <p:cNvPr id="1491" name="Freeform 10"/>
          <p:cNvSpPr/>
          <p:nvPr/>
        </p:nvSpPr>
        <p:spPr>
          <a:xfrm flipV="1" rot="18864600">
            <a:off x="6256440" y="4298760"/>
            <a:ext cx="1695600" cy="1677960"/>
          </a:xfrm>
          <a:custGeom>
            <a:avLst/>
            <a:gdLst/>
            <a:ahLst/>
            <a:rect l="l" t="t" r="r" b="b"/>
            <a:pathLst>
              <a:path w="4146" h="4101">
                <a:moveTo>
                  <a:pt x="3211" y="554"/>
                </a:moveTo>
                <a:lnTo>
                  <a:pt x="3211" y="545"/>
                </a:lnTo>
                <a:lnTo>
                  <a:pt x="3211" y="535"/>
                </a:lnTo>
                <a:lnTo>
                  <a:pt x="3210" y="508"/>
                </a:lnTo>
                <a:lnTo>
                  <a:pt x="3207" y="480"/>
                </a:lnTo>
                <a:lnTo>
                  <a:pt x="3203" y="454"/>
                </a:lnTo>
                <a:lnTo>
                  <a:pt x="3198" y="428"/>
                </a:lnTo>
                <a:lnTo>
                  <a:pt x="3192" y="402"/>
                </a:lnTo>
                <a:lnTo>
                  <a:pt x="3185" y="377"/>
                </a:lnTo>
                <a:lnTo>
                  <a:pt x="3176" y="352"/>
                </a:lnTo>
                <a:lnTo>
                  <a:pt x="3166" y="328"/>
                </a:lnTo>
                <a:lnTo>
                  <a:pt x="3155" y="305"/>
                </a:lnTo>
                <a:lnTo>
                  <a:pt x="3144" y="282"/>
                </a:lnTo>
                <a:lnTo>
                  <a:pt x="3130" y="260"/>
                </a:lnTo>
                <a:lnTo>
                  <a:pt x="3117" y="238"/>
                </a:lnTo>
                <a:lnTo>
                  <a:pt x="3102" y="218"/>
                </a:lnTo>
                <a:lnTo>
                  <a:pt x="3085" y="198"/>
                </a:lnTo>
                <a:lnTo>
                  <a:pt x="3069" y="178"/>
                </a:lnTo>
                <a:lnTo>
                  <a:pt x="3051" y="159"/>
                </a:lnTo>
                <a:lnTo>
                  <a:pt x="3033" y="141"/>
                </a:lnTo>
                <a:lnTo>
                  <a:pt x="3013" y="125"/>
                </a:lnTo>
                <a:lnTo>
                  <a:pt x="2993" y="109"/>
                </a:lnTo>
                <a:lnTo>
                  <a:pt x="2973" y="94"/>
                </a:lnTo>
                <a:lnTo>
                  <a:pt x="2952" y="80"/>
                </a:lnTo>
                <a:lnTo>
                  <a:pt x="2929" y="67"/>
                </a:lnTo>
                <a:lnTo>
                  <a:pt x="2906" y="55"/>
                </a:lnTo>
                <a:lnTo>
                  <a:pt x="2883" y="44"/>
                </a:lnTo>
                <a:lnTo>
                  <a:pt x="2859" y="34"/>
                </a:lnTo>
                <a:lnTo>
                  <a:pt x="2834" y="26"/>
                </a:lnTo>
                <a:lnTo>
                  <a:pt x="2809" y="18"/>
                </a:lnTo>
                <a:lnTo>
                  <a:pt x="2782" y="12"/>
                </a:lnTo>
                <a:lnTo>
                  <a:pt x="2756" y="7"/>
                </a:lnTo>
                <a:lnTo>
                  <a:pt x="2730" y="3"/>
                </a:lnTo>
                <a:lnTo>
                  <a:pt x="2703" y="1"/>
                </a:lnTo>
                <a:lnTo>
                  <a:pt x="2675" y="0"/>
                </a:lnTo>
                <a:lnTo>
                  <a:pt x="2648" y="0"/>
                </a:lnTo>
                <a:lnTo>
                  <a:pt x="2619" y="1"/>
                </a:lnTo>
                <a:lnTo>
                  <a:pt x="2592" y="4"/>
                </a:lnTo>
                <a:lnTo>
                  <a:pt x="2565" y="8"/>
                </a:lnTo>
                <a:lnTo>
                  <a:pt x="2538" y="13"/>
                </a:lnTo>
                <a:lnTo>
                  <a:pt x="2513" y="20"/>
                </a:lnTo>
                <a:lnTo>
                  <a:pt x="2487" y="29"/>
                </a:lnTo>
                <a:lnTo>
                  <a:pt x="2462" y="38"/>
                </a:lnTo>
                <a:lnTo>
                  <a:pt x="2438" y="49"/>
                </a:lnTo>
                <a:lnTo>
                  <a:pt x="2414" y="60"/>
                </a:lnTo>
                <a:lnTo>
                  <a:pt x="2391" y="73"/>
                </a:lnTo>
                <a:lnTo>
                  <a:pt x="2368" y="86"/>
                </a:lnTo>
                <a:lnTo>
                  <a:pt x="2347" y="101"/>
                </a:lnTo>
                <a:lnTo>
                  <a:pt x="2326" y="116"/>
                </a:lnTo>
                <a:lnTo>
                  <a:pt x="2305" y="133"/>
                </a:lnTo>
                <a:lnTo>
                  <a:pt x="2286" y="151"/>
                </a:lnTo>
                <a:lnTo>
                  <a:pt x="2267" y="170"/>
                </a:lnTo>
                <a:lnTo>
                  <a:pt x="2250" y="189"/>
                </a:lnTo>
                <a:lnTo>
                  <a:pt x="2233" y="209"/>
                </a:lnTo>
                <a:lnTo>
                  <a:pt x="2217" y="231"/>
                </a:lnTo>
                <a:lnTo>
                  <a:pt x="2203" y="252"/>
                </a:lnTo>
                <a:lnTo>
                  <a:pt x="2189" y="275"/>
                </a:lnTo>
                <a:lnTo>
                  <a:pt x="2176" y="298"/>
                </a:lnTo>
                <a:lnTo>
                  <a:pt x="2165" y="322"/>
                </a:lnTo>
                <a:lnTo>
                  <a:pt x="2156" y="347"/>
                </a:lnTo>
                <a:lnTo>
                  <a:pt x="2146" y="372"/>
                </a:lnTo>
                <a:lnTo>
                  <a:pt x="2138" y="398"/>
                </a:lnTo>
                <a:lnTo>
                  <a:pt x="2132" y="424"/>
                </a:lnTo>
                <a:lnTo>
                  <a:pt x="2126" y="451"/>
                </a:lnTo>
                <a:lnTo>
                  <a:pt x="2122" y="478"/>
                </a:lnTo>
                <a:lnTo>
                  <a:pt x="2120" y="505"/>
                </a:lnTo>
                <a:lnTo>
                  <a:pt x="2118" y="534"/>
                </a:lnTo>
                <a:lnTo>
                  <a:pt x="2122" y="559"/>
                </a:lnTo>
                <a:lnTo>
                  <a:pt x="2127" y="582"/>
                </a:lnTo>
                <a:lnTo>
                  <a:pt x="2132" y="605"/>
                </a:lnTo>
                <a:lnTo>
                  <a:pt x="2137" y="626"/>
                </a:lnTo>
                <a:lnTo>
                  <a:pt x="2148" y="668"/>
                </a:lnTo>
                <a:lnTo>
                  <a:pt x="2161" y="706"/>
                </a:lnTo>
                <a:lnTo>
                  <a:pt x="2175" y="741"/>
                </a:lnTo>
                <a:lnTo>
                  <a:pt x="2190" y="775"/>
                </a:lnTo>
                <a:lnTo>
                  <a:pt x="2205" y="806"/>
                </a:lnTo>
                <a:lnTo>
                  <a:pt x="2221" y="837"/>
                </a:lnTo>
                <a:lnTo>
                  <a:pt x="2255" y="896"/>
                </a:lnTo>
                <a:lnTo>
                  <a:pt x="2289" y="955"/>
                </a:lnTo>
                <a:lnTo>
                  <a:pt x="2306" y="985"/>
                </a:lnTo>
                <a:lnTo>
                  <a:pt x="2324" y="1018"/>
                </a:lnTo>
                <a:lnTo>
                  <a:pt x="2340" y="1051"/>
                </a:lnTo>
                <a:lnTo>
                  <a:pt x="2356" y="1087"/>
                </a:lnTo>
                <a:lnTo>
                  <a:pt x="1162" y="1063"/>
                </a:lnTo>
                <a:lnTo>
                  <a:pt x="1139" y="2246"/>
                </a:lnTo>
                <a:lnTo>
                  <a:pt x="1097" y="2230"/>
                </a:lnTo>
                <a:lnTo>
                  <a:pt x="1056" y="2211"/>
                </a:lnTo>
                <a:lnTo>
                  <a:pt x="1018" y="2191"/>
                </a:lnTo>
                <a:lnTo>
                  <a:pt x="979" y="2170"/>
                </a:lnTo>
                <a:lnTo>
                  <a:pt x="906" y="2129"/>
                </a:lnTo>
                <a:lnTo>
                  <a:pt x="835" y="2090"/>
                </a:lnTo>
                <a:lnTo>
                  <a:pt x="801" y="2071"/>
                </a:lnTo>
                <a:lnTo>
                  <a:pt x="766" y="2053"/>
                </a:lnTo>
                <a:lnTo>
                  <a:pt x="732" y="2038"/>
                </a:lnTo>
                <a:lnTo>
                  <a:pt x="697" y="2024"/>
                </a:lnTo>
                <a:lnTo>
                  <a:pt x="680" y="2019"/>
                </a:lnTo>
                <a:lnTo>
                  <a:pt x="664" y="2014"/>
                </a:lnTo>
                <a:lnTo>
                  <a:pt x="646" y="2008"/>
                </a:lnTo>
                <a:lnTo>
                  <a:pt x="628" y="2004"/>
                </a:lnTo>
                <a:lnTo>
                  <a:pt x="611" y="2001"/>
                </a:lnTo>
                <a:lnTo>
                  <a:pt x="594" y="1999"/>
                </a:lnTo>
                <a:lnTo>
                  <a:pt x="576" y="1997"/>
                </a:lnTo>
                <a:lnTo>
                  <a:pt x="558" y="1996"/>
                </a:lnTo>
                <a:lnTo>
                  <a:pt x="548" y="1996"/>
                </a:lnTo>
                <a:lnTo>
                  <a:pt x="537" y="1997"/>
                </a:lnTo>
                <a:lnTo>
                  <a:pt x="510" y="1998"/>
                </a:lnTo>
                <a:lnTo>
                  <a:pt x="483" y="2000"/>
                </a:lnTo>
                <a:lnTo>
                  <a:pt x="456" y="2004"/>
                </a:lnTo>
                <a:lnTo>
                  <a:pt x="430" y="2008"/>
                </a:lnTo>
                <a:lnTo>
                  <a:pt x="405" y="2015"/>
                </a:lnTo>
                <a:lnTo>
                  <a:pt x="379" y="2023"/>
                </a:lnTo>
                <a:lnTo>
                  <a:pt x="354" y="2031"/>
                </a:lnTo>
                <a:lnTo>
                  <a:pt x="330" y="2041"/>
                </a:lnTo>
                <a:lnTo>
                  <a:pt x="307" y="2051"/>
                </a:lnTo>
                <a:lnTo>
                  <a:pt x="284" y="2064"/>
                </a:lnTo>
                <a:lnTo>
                  <a:pt x="261" y="2076"/>
                </a:lnTo>
                <a:lnTo>
                  <a:pt x="241" y="2090"/>
                </a:lnTo>
                <a:lnTo>
                  <a:pt x="220" y="2105"/>
                </a:lnTo>
                <a:lnTo>
                  <a:pt x="200" y="2121"/>
                </a:lnTo>
                <a:lnTo>
                  <a:pt x="180" y="2138"/>
                </a:lnTo>
                <a:lnTo>
                  <a:pt x="161" y="2156"/>
                </a:lnTo>
                <a:lnTo>
                  <a:pt x="143" y="2174"/>
                </a:lnTo>
                <a:lnTo>
                  <a:pt x="127" y="2193"/>
                </a:lnTo>
                <a:lnTo>
                  <a:pt x="111" y="2213"/>
                </a:lnTo>
                <a:lnTo>
                  <a:pt x="96" y="2234"/>
                </a:lnTo>
                <a:lnTo>
                  <a:pt x="82" y="2256"/>
                </a:lnTo>
                <a:lnTo>
                  <a:pt x="69" y="2278"/>
                </a:lnTo>
                <a:lnTo>
                  <a:pt x="57" y="2301"/>
                </a:lnTo>
                <a:lnTo>
                  <a:pt x="46" y="2325"/>
                </a:lnTo>
                <a:lnTo>
                  <a:pt x="36" y="2349"/>
                </a:lnTo>
                <a:lnTo>
                  <a:pt x="27" y="2373"/>
                </a:lnTo>
                <a:lnTo>
                  <a:pt x="20" y="2399"/>
                </a:lnTo>
                <a:lnTo>
                  <a:pt x="14" y="2424"/>
                </a:lnTo>
                <a:lnTo>
                  <a:pt x="9" y="2450"/>
                </a:lnTo>
                <a:lnTo>
                  <a:pt x="4" y="2477"/>
                </a:lnTo>
                <a:lnTo>
                  <a:pt x="2" y="2504"/>
                </a:lnTo>
                <a:lnTo>
                  <a:pt x="0" y="2531"/>
                </a:lnTo>
                <a:lnTo>
                  <a:pt x="1" y="2559"/>
                </a:lnTo>
                <a:lnTo>
                  <a:pt x="2" y="2587"/>
                </a:lnTo>
                <a:lnTo>
                  <a:pt x="5" y="2615"/>
                </a:lnTo>
                <a:lnTo>
                  <a:pt x="10" y="2642"/>
                </a:lnTo>
                <a:lnTo>
                  <a:pt x="15" y="2668"/>
                </a:lnTo>
                <a:lnTo>
                  <a:pt x="22" y="2694"/>
                </a:lnTo>
                <a:lnTo>
                  <a:pt x="31" y="2719"/>
                </a:lnTo>
                <a:lnTo>
                  <a:pt x="40" y="2744"/>
                </a:lnTo>
                <a:lnTo>
                  <a:pt x="50" y="2769"/>
                </a:lnTo>
                <a:lnTo>
                  <a:pt x="62" y="2792"/>
                </a:lnTo>
                <a:lnTo>
                  <a:pt x="74" y="2816"/>
                </a:lnTo>
                <a:lnTo>
                  <a:pt x="88" y="2838"/>
                </a:lnTo>
                <a:lnTo>
                  <a:pt x="103" y="2860"/>
                </a:lnTo>
                <a:lnTo>
                  <a:pt x="118" y="2880"/>
                </a:lnTo>
                <a:lnTo>
                  <a:pt x="135" y="2900"/>
                </a:lnTo>
                <a:lnTo>
                  <a:pt x="153" y="2920"/>
                </a:lnTo>
                <a:lnTo>
                  <a:pt x="172" y="2938"/>
                </a:lnTo>
                <a:lnTo>
                  <a:pt x="191" y="2956"/>
                </a:lnTo>
                <a:lnTo>
                  <a:pt x="211" y="2972"/>
                </a:lnTo>
                <a:lnTo>
                  <a:pt x="232" y="2988"/>
                </a:lnTo>
                <a:lnTo>
                  <a:pt x="254" y="3003"/>
                </a:lnTo>
                <a:lnTo>
                  <a:pt x="277" y="3016"/>
                </a:lnTo>
                <a:lnTo>
                  <a:pt x="300" y="3029"/>
                </a:lnTo>
                <a:lnTo>
                  <a:pt x="324" y="3040"/>
                </a:lnTo>
                <a:lnTo>
                  <a:pt x="349" y="3050"/>
                </a:lnTo>
                <a:lnTo>
                  <a:pt x="374" y="3059"/>
                </a:lnTo>
                <a:lnTo>
                  <a:pt x="400" y="3067"/>
                </a:lnTo>
                <a:lnTo>
                  <a:pt x="426" y="3073"/>
                </a:lnTo>
                <a:lnTo>
                  <a:pt x="453" y="3079"/>
                </a:lnTo>
                <a:lnTo>
                  <a:pt x="481" y="3083"/>
                </a:lnTo>
                <a:lnTo>
                  <a:pt x="508" y="3086"/>
                </a:lnTo>
                <a:lnTo>
                  <a:pt x="536" y="3087"/>
                </a:lnTo>
                <a:lnTo>
                  <a:pt x="562" y="3083"/>
                </a:lnTo>
                <a:lnTo>
                  <a:pt x="587" y="3078"/>
                </a:lnTo>
                <a:lnTo>
                  <a:pt x="611" y="3072"/>
                </a:lnTo>
                <a:lnTo>
                  <a:pt x="634" y="3067"/>
                </a:lnTo>
                <a:lnTo>
                  <a:pt x="656" y="3061"/>
                </a:lnTo>
                <a:lnTo>
                  <a:pt x="677" y="3055"/>
                </a:lnTo>
                <a:lnTo>
                  <a:pt x="698" y="3048"/>
                </a:lnTo>
                <a:lnTo>
                  <a:pt x="717" y="3041"/>
                </a:lnTo>
                <a:lnTo>
                  <a:pt x="755" y="3027"/>
                </a:lnTo>
                <a:lnTo>
                  <a:pt x="789" y="3011"/>
                </a:lnTo>
                <a:lnTo>
                  <a:pt x="822" y="2994"/>
                </a:lnTo>
                <a:lnTo>
                  <a:pt x="854" y="2976"/>
                </a:lnTo>
                <a:lnTo>
                  <a:pt x="915" y="2941"/>
                </a:lnTo>
                <a:lnTo>
                  <a:pt x="979" y="2904"/>
                </a:lnTo>
                <a:lnTo>
                  <a:pt x="1013" y="2886"/>
                </a:lnTo>
                <a:lnTo>
                  <a:pt x="1048" y="2868"/>
                </a:lnTo>
                <a:lnTo>
                  <a:pt x="1087" y="2851"/>
                </a:lnTo>
                <a:lnTo>
                  <a:pt x="1128" y="2835"/>
                </a:lnTo>
                <a:lnTo>
                  <a:pt x="1103" y="4042"/>
                </a:lnTo>
                <a:lnTo>
                  <a:pt x="2303" y="4066"/>
                </a:lnTo>
                <a:lnTo>
                  <a:pt x="2287" y="4029"/>
                </a:lnTo>
                <a:lnTo>
                  <a:pt x="2269" y="3993"/>
                </a:lnTo>
                <a:lnTo>
                  <a:pt x="2253" y="3960"/>
                </a:lnTo>
                <a:lnTo>
                  <a:pt x="2235" y="3929"/>
                </a:lnTo>
                <a:lnTo>
                  <a:pt x="2199" y="3868"/>
                </a:lnTo>
                <a:lnTo>
                  <a:pt x="2166" y="3809"/>
                </a:lnTo>
                <a:lnTo>
                  <a:pt x="2149" y="3778"/>
                </a:lnTo>
                <a:lnTo>
                  <a:pt x="2134" y="3746"/>
                </a:lnTo>
                <a:lnTo>
                  <a:pt x="2118" y="3712"/>
                </a:lnTo>
                <a:lnTo>
                  <a:pt x="2104" y="3676"/>
                </a:lnTo>
                <a:lnTo>
                  <a:pt x="2091" y="3638"/>
                </a:lnTo>
                <a:lnTo>
                  <a:pt x="2079" y="3596"/>
                </a:lnTo>
                <a:lnTo>
                  <a:pt x="2074" y="3574"/>
                </a:lnTo>
                <a:lnTo>
                  <a:pt x="2069" y="3550"/>
                </a:lnTo>
                <a:lnTo>
                  <a:pt x="2065" y="3526"/>
                </a:lnTo>
                <a:lnTo>
                  <a:pt x="2060" y="3501"/>
                </a:lnTo>
                <a:lnTo>
                  <a:pt x="2062" y="3473"/>
                </a:lnTo>
                <a:lnTo>
                  <a:pt x="2065" y="3446"/>
                </a:lnTo>
                <a:lnTo>
                  <a:pt x="2068" y="3419"/>
                </a:lnTo>
                <a:lnTo>
                  <a:pt x="2073" y="3392"/>
                </a:lnTo>
                <a:lnTo>
                  <a:pt x="2080" y="3366"/>
                </a:lnTo>
                <a:lnTo>
                  <a:pt x="2088" y="3339"/>
                </a:lnTo>
                <a:lnTo>
                  <a:pt x="2097" y="3314"/>
                </a:lnTo>
                <a:lnTo>
                  <a:pt x="2107" y="3289"/>
                </a:lnTo>
                <a:lnTo>
                  <a:pt x="2119" y="3265"/>
                </a:lnTo>
                <a:lnTo>
                  <a:pt x="2132" y="3242"/>
                </a:lnTo>
                <a:lnTo>
                  <a:pt x="2145" y="3221"/>
                </a:lnTo>
                <a:lnTo>
                  <a:pt x="2160" y="3199"/>
                </a:lnTo>
                <a:lnTo>
                  <a:pt x="2175" y="3177"/>
                </a:lnTo>
                <a:lnTo>
                  <a:pt x="2192" y="3157"/>
                </a:lnTo>
                <a:lnTo>
                  <a:pt x="2209" y="3137"/>
                </a:lnTo>
                <a:lnTo>
                  <a:pt x="2228" y="3118"/>
                </a:lnTo>
                <a:lnTo>
                  <a:pt x="2247" y="3101"/>
                </a:lnTo>
                <a:lnTo>
                  <a:pt x="2267" y="3084"/>
                </a:lnTo>
                <a:lnTo>
                  <a:pt x="2288" y="3068"/>
                </a:lnTo>
                <a:lnTo>
                  <a:pt x="2310" y="3054"/>
                </a:lnTo>
                <a:lnTo>
                  <a:pt x="2332" y="3040"/>
                </a:lnTo>
                <a:lnTo>
                  <a:pt x="2355" y="3028"/>
                </a:lnTo>
                <a:lnTo>
                  <a:pt x="2379" y="3016"/>
                </a:lnTo>
                <a:lnTo>
                  <a:pt x="2403" y="3006"/>
                </a:lnTo>
                <a:lnTo>
                  <a:pt x="2428" y="2996"/>
                </a:lnTo>
                <a:lnTo>
                  <a:pt x="2454" y="2988"/>
                </a:lnTo>
                <a:lnTo>
                  <a:pt x="2480" y="2981"/>
                </a:lnTo>
                <a:lnTo>
                  <a:pt x="2507" y="2975"/>
                </a:lnTo>
                <a:lnTo>
                  <a:pt x="2534" y="2971"/>
                </a:lnTo>
                <a:lnTo>
                  <a:pt x="2561" y="2968"/>
                </a:lnTo>
                <a:lnTo>
                  <a:pt x="2589" y="2967"/>
                </a:lnTo>
                <a:lnTo>
                  <a:pt x="2617" y="2967"/>
                </a:lnTo>
                <a:lnTo>
                  <a:pt x="2644" y="2968"/>
                </a:lnTo>
                <a:lnTo>
                  <a:pt x="2672" y="2970"/>
                </a:lnTo>
                <a:lnTo>
                  <a:pt x="2698" y="2974"/>
                </a:lnTo>
                <a:lnTo>
                  <a:pt x="2725" y="2980"/>
                </a:lnTo>
                <a:lnTo>
                  <a:pt x="2750" y="2986"/>
                </a:lnTo>
                <a:lnTo>
                  <a:pt x="2775" y="2993"/>
                </a:lnTo>
                <a:lnTo>
                  <a:pt x="2800" y="3001"/>
                </a:lnTo>
                <a:lnTo>
                  <a:pt x="2824" y="3012"/>
                </a:lnTo>
                <a:lnTo>
                  <a:pt x="2848" y="3022"/>
                </a:lnTo>
                <a:lnTo>
                  <a:pt x="2871" y="3035"/>
                </a:lnTo>
                <a:lnTo>
                  <a:pt x="2893" y="3047"/>
                </a:lnTo>
                <a:lnTo>
                  <a:pt x="2915" y="3062"/>
                </a:lnTo>
                <a:lnTo>
                  <a:pt x="2935" y="3077"/>
                </a:lnTo>
                <a:lnTo>
                  <a:pt x="2956" y="3092"/>
                </a:lnTo>
                <a:lnTo>
                  <a:pt x="2975" y="3109"/>
                </a:lnTo>
                <a:lnTo>
                  <a:pt x="2993" y="3127"/>
                </a:lnTo>
                <a:lnTo>
                  <a:pt x="3011" y="3145"/>
                </a:lnTo>
                <a:lnTo>
                  <a:pt x="3028" y="3165"/>
                </a:lnTo>
                <a:lnTo>
                  <a:pt x="3044" y="3185"/>
                </a:lnTo>
                <a:lnTo>
                  <a:pt x="3058" y="3206"/>
                </a:lnTo>
                <a:lnTo>
                  <a:pt x="3073" y="3228"/>
                </a:lnTo>
                <a:lnTo>
                  <a:pt x="3085" y="3250"/>
                </a:lnTo>
                <a:lnTo>
                  <a:pt x="3097" y="3273"/>
                </a:lnTo>
                <a:lnTo>
                  <a:pt x="3108" y="3296"/>
                </a:lnTo>
                <a:lnTo>
                  <a:pt x="3118" y="3320"/>
                </a:lnTo>
                <a:lnTo>
                  <a:pt x="3126" y="3345"/>
                </a:lnTo>
                <a:lnTo>
                  <a:pt x="3133" y="3370"/>
                </a:lnTo>
                <a:lnTo>
                  <a:pt x="3140" y="3396"/>
                </a:lnTo>
                <a:lnTo>
                  <a:pt x="3145" y="3422"/>
                </a:lnTo>
                <a:lnTo>
                  <a:pt x="3149" y="3448"/>
                </a:lnTo>
                <a:lnTo>
                  <a:pt x="3151" y="3475"/>
                </a:lnTo>
                <a:lnTo>
                  <a:pt x="3152" y="3502"/>
                </a:lnTo>
                <a:lnTo>
                  <a:pt x="3153" y="3513"/>
                </a:lnTo>
                <a:lnTo>
                  <a:pt x="3152" y="3523"/>
                </a:lnTo>
                <a:lnTo>
                  <a:pt x="3152" y="3540"/>
                </a:lnTo>
                <a:lnTo>
                  <a:pt x="3150" y="3557"/>
                </a:lnTo>
                <a:lnTo>
                  <a:pt x="3148" y="3574"/>
                </a:lnTo>
                <a:lnTo>
                  <a:pt x="3145" y="3591"/>
                </a:lnTo>
                <a:lnTo>
                  <a:pt x="3141" y="3607"/>
                </a:lnTo>
                <a:lnTo>
                  <a:pt x="3137" y="3624"/>
                </a:lnTo>
                <a:lnTo>
                  <a:pt x="3131" y="3641"/>
                </a:lnTo>
                <a:lnTo>
                  <a:pt x="3126" y="3658"/>
                </a:lnTo>
                <a:lnTo>
                  <a:pt x="3114" y="3690"/>
                </a:lnTo>
                <a:lnTo>
                  <a:pt x="3099" y="3723"/>
                </a:lnTo>
                <a:lnTo>
                  <a:pt x="3082" y="3757"/>
                </a:lnTo>
                <a:lnTo>
                  <a:pt x="3064" y="3789"/>
                </a:lnTo>
                <a:lnTo>
                  <a:pt x="3027" y="3857"/>
                </a:lnTo>
                <a:lnTo>
                  <a:pt x="2987" y="3927"/>
                </a:lnTo>
                <a:lnTo>
                  <a:pt x="2967" y="3963"/>
                </a:lnTo>
                <a:lnTo>
                  <a:pt x="2949" y="4001"/>
                </a:lnTo>
                <a:lnTo>
                  <a:pt x="2930" y="4038"/>
                </a:lnTo>
                <a:lnTo>
                  <a:pt x="2912" y="4078"/>
                </a:lnTo>
                <a:lnTo>
                  <a:pt x="4087" y="4101"/>
                </a:lnTo>
                <a:lnTo>
                  <a:pt x="4146" y="1122"/>
                </a:lnTo>
                <a:lnTo>
                  <a:pt x="2976" y="1099"/>
                </a:lnTo>
                <a:lnTo>
                  <a:pt x="2992" y="1060"/>
                </a:lnTo>
                <a:lnTo>
                  <a:pt x="3011" y="1024"/>
                </a:lnTo>
                <a:lnTo>
                  <a:pt x="3030" y="987"/>
                </a:lnTo>
                <a:lnTo>
                  <a:pt x="3050" y="952"/>
                </a:lnTo>
                <a:lnTo>
                  <a:pt x="3089" y="884"/>
                </a:lnTo>
                <a:lnTo>
                  <a:pt x="3125" y="817"/>
                </a:lnTo>
                <a:lnTo>
                  <a:pt x="3143" y="785"/>
                </a:lnTo>
                <a:lnTo>
                  <a:pt x="3159" y="753"/>
                </a:lnTo>
                <a:lnTo>
                  <a:pt x="3173" y="720"/>
                </a:lnTo>
                <a:lnTo>
                  <a:pt x="3185" y="687"/>
                </a:lnTo>
                <a:lnTo>
                  <a:pt x="3191" y="671"/>
                </a:lnTo>
                <a:lnTo>
                  <a:pt x="3195" y="655"/>
                </a:lnTo>
                <a:lnTo>
                  <a:pt x="3199" y="639"/>
                </a:lnTo>
                <a:lnTo>
                  <a:pt x="3203" y="622"/>
                </a:lnTo>
                <a:lnTo>
                  <a:pt x="3207" y="606"/>
                </a:lnTo>
                <a:lnTo>
                  <a:pt x="3209" y="589"/>
                </a:lnTo>
                <a:lnTo>
                  <a:pt x="3210" y="572"/>
                </a:lnTo>
                <a:lnTo>
                  <a:pt x="3211" y="554"/>
                </a:lnTo>
                <a:close/>
              </a:path>
            </a:pathLst>
          </a:custGeom>
          <a:solidFill>
            <a:srgbClr val="c0c0c0"/>
          </a:solidFill>
          <a:ln w="73080">
            <a:solidFill>
              <a:srgbClr val="ffffff"/>
            </a:solidFill>
            <a:round/>
          </a:ln>
        </p:spPr>
        <p:style>
          <a:lnRef idx="0"/>
          <a:fillRef idx="0"/>
          <a:effectRef idx="0"/>
          <a:fontRef idx="minor"/>
        </p:style>
        <p:txBody>
          <a:bodyPr lIns="145800" rIns="145800" tIns="72720" bIns="72720" anchor="t">
            <a:noAutofit/>
          </a:bodyPr>
          <a:p>
            <a:endParaRPr b="0" lang="en-US" sz="1800" spc="-1" strike="noStrike">
              <a:solidFill>
                <a:srgbClr val="3f3f3f"/>
              </a:solidFill>
              <a:latin typeface="Roboto"/>
            </a:endParaRPr>
          </a:p>
        </p:txBody>
      </p:sp>
      <p:sp>
        <p:nvSpPr>
          <p:cNvPr id="1492" name="TextBox 48"/>
          <p:cNvSpPr/>
          <p:nvPr/>
        </p:nvSpPr>
        <p:spPr>
          <a:xfrm>
            <a:off x="8247240" y="2662200"/>
            <a:ext cx="25113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93" name="TextBox 49"/>
          <p:cNvSpPr/>
          <p:nvPr/>
        </p:nvSpPr>
        <p:spPr>
          <a:xfrm>
            <a:off x="8247240" y="2322360"/>
            <a:ext cx="21952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
        <p:nvSpPr>
          <p:cNvPr id="1494" name="TextBox 50"/>
          <p:cNvSpPr/>
          <p:nvPr/>
        </p:nvSpPr>
        <p:spPr>
          <a:xfrm>
            <a:off x="8247240" y="4164120"/>
            <a:ext cx="25113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95" name="TextBox 51"/>
          <p:cNvSpPr/>
          <p:nvPr/>
        </p:nvSpPr>
        <p:spPr>
          <a:xfrm>
            <a:off x="8247240" y="3825720"/>
            <a:ext cx="21952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
        <p:nvSpPr>
          <p:cNvPr id="1496" name="TextBox 52"/>
          <p:cNvSpPr/>
          <p:nvPr/>
        </p:nvSpPr>
        <p:spPr>
          <a:xfrm>
            <a:off x="1433520" y="2662200"/>
            <a:ext cx="2511360" cy="1097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97" name="TextBox 53"/>
          <p:cNvSpPr/>
          <p:nvPr/>
        </p:nvSpPr>
        <p:spPr>
          <a:xfrm>
            <a:off x="1749600" y="2322360"/>
            <a:ext cx="21952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
        <p:nvSpPr>
          <p:cNvPr id="1498" name="TextBox 54"/>
          <p:cNvSpPr/>
          <p:nvPr/>
        </p:nvSpPr>
        <p:spPr>
          <a:xfrm>
            <a:off x="1433520" y="4164120"/>
            <a:ext cx="2511360" cy="1097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499" name="TextBox 55"/>
          <p:cNvSpPr/>
          <p:nvPr/>
        </p:nvSpPr>
        <p:spPr>
          <a:xfrm>
            <a:off x="1749600" y="3825720"/>
            <a:ext cx="21952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Topic Here</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0" name="Group 6"/>
          <p:cNvGrpSpPr/>
          <p:nvPr/>
        </p:nvGrpSpPr>
        <p:grpSpPr>
          <a:xfrm>
            <a:off x="587520" y="552600"/>
            <a:ext cx="631800" cy="325080"/>
            <a:chOff x="587520" y="552600"/>
            <a:chExt cx="631800" cy="325080"/>
          </a:xfrm>
        </p:grpSpPr>
        <p:sp>
          <p:nvSpPr>
            <p:cNvPr id="1501" name="Isosceles Triangle 7"/>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502" name="Isosceles Triangle 8"/>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503" name="Rectangle 9"/>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504" name="Rectangle 10"/>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505" name="TextBox 11" descr=""/>
          <p:cNvPicPr/>
          <p:nvPr/>
        </p:nvPicPr>
        <p:blipFill>
          <a:blip r:embed="rId1"/>
          <a:stretch/>
        </p:blipFill>
        <p:spPr>
          <a:xfrm>
            <a:off x="506520" y="5888160"/>
            <a:ext cx="579240" cy="500040"/>
          </a:xfrm>
          <a:prstGeom prst="rect">
            <a:avLst/>
          </a:prstGeom>
          <a:ln w="0">
            <a:noFill/>
          </a:ln>
        </p:spPr>
      </p:pic>
      <p:pic>
        <p:nvPicPr>
          <p:cNvPr id="1506" name="TextBox 12" descr=""/>
          <p:cNvPicPr/>
          <p:nvPr/>
        </p:nvPicPr>
        <p:blipFill>
          <a:blip r:embed="rId2"/>
          <a:stretch/>
        </p:blipFill>
        <p:spPr>
          <a:xfrm>
            <a:off x="927000" y="5888160"/>
            <a:ext cx="2565360" cy="500040"/>
          </a:xfrm>
          <a:prstGeom prst="rect">
            <a:avLst/>
          </a:prstGeom>
          <a:ln w="0">
            <a:noFill/>
          </a:ln>
        </p:spPr>
      </p:pic>
      <p:sp>
        <p:nvSpPr>
          <p:cNvPr id="1507" name="TextBox 13"/>
          <p:cNvSpPr/>
          <p:nvPr/>
        </p:nvSpPr>
        <p:spPr>
          <a:xfrm>
            <a:off x="1433520" y="1274760"/>
            <a:ext cx="373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GET IN TOUCH</a:t>
            </a:r>
            <a:endParaRPr b="0" lang="en-US" sz="3200" spc="-1" strike="noStrike">
              <a:solidFill>
                <a:srgbClr val="3f3f3f"/>
              </a:solidFill>
              <a:latin typeface="Roboto"/>
            </a:endParaRPr>
          </a:p>
        </p:txBody>
      </p:sp>
      <p:pic>
        <p:nvPicPr>
          <p:cNvPr id="1508" name="TextBox 14" descr=""/>
          <p:cNvPicPr/>
          <p:nvPr/>
        </p:nvPicPr>
        <p:blipFill>
          <a:blip r:embed="rId3"/>
          <a:stretch/>
        </p:blipFill>
        <p:spPr>
          <a:xfrm>
            <a:off x="1432080" y="1749600"/>
            <a:ext cx="2743200" cy="360360"/>
          </a:xfrm>
          <a:prstGeom prst="rect">
            <a:avLst/>
          </a:prstGeom>
          <a:ln w="0">
            <a:noFill/>
          </a:ln>
        </p:spPr>
      </p:pic>
      <p:sp>
        <p:nvSpPr>
          <p:cNvPr id="1509" name="TextBox 17"/>
          <p:cNvSpPr/>
          <p:nvPr/>
        </p:nvSpPr>
        <p:spPr>
          <a:xfrm>
            <a:off x="9488520" y="973080"/>
            <a:ext cx="20527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100" spc="-1" strike="noStrike">
                <a:solidFill>
                  <a:srgbClr val="646464"/>
                </a:solidFill>
                <a:latin typeface="Roboto"/>
              </a:rPr>
              <a:t>Marketing Pop-Up, 4 - 5 Goodwin Street, N4 3HQ</a:t>
            </a:r>
            <a:endParaRPr b="0" lang="en-US" sz="1100" spc="-1" strike="noStrike">
              <a:solidFill>
                <a:srgbClr val="3f3f3f"/>
              </a:solidFill>
              <a:latin typeface="Roboto"/>
            </a:endParaRPr>
          </a:p>
        </p:txBody>
      </p:sp>
      <p:sp>
        <p:nvSpPr>
          <p:cNvPr id="1510" name="TextBox 18"/>
          <p:cNvSpPr/>
          <p:nvPr/>
        </p:nvSpPr>
        <p:spPr>
          <a:xfrm>
            <a:off x="9488520" y="633240"/>
            <a:ext cx="1523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rPr>
              <a:t>Our Address</a:t>
            </a:r>
            <a:endParaRPr b="0" lang="en-US" sz="1600" spc="-1" strike="noStrike">
              <a:solidFill>
                <a:srgbClr val="3f3f3f"/>
              </a:solidFill>
              <a:latin typeface="Roboto"/>
            </a:endParaRPr>
          </a:p>
        </p:txBody>
      </p:sp>
      <p:sp>
        <p:nvSpPr>
          <p:cNvPr id="1511" name="Oval 19"/>
          <p:cNvSpPr/>
          <p:nvPr/>
        </p:nvSpPr>
        <p:spPr>
          <a:xfrm>
            <a:off x="8516880" y="692280"/>
            <a:ext cx="825480" cy="826920"/>
          </a:xfrm>
          <a:prstGeom prst="ellipse">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pic>
        <p:nvPicPr>
          <p:cNvPr id="1512" name="Group 611" descr=""/>
          <p:cNvPicPr/>
          <p:nvPr/>
        </p:nvPicPr>
        <p:blipFill>
          <a:blip r:embed="rId4"/>
          <a:stretch/>
        </p:blipFill>
        <p:spPr>
          <a:xfrm>
            <a:off x="8820000" y="987480"/>
            <a:ext cx="220680" cy="237960"/>
          </a:xfrm>
          <a:prstGeom prst="rect">
            <a:avLst/>
          </a:prstGeom>
          <a:ln w="0">
            <a:noFill/>
          </a:ln>
        </p:spPr>
      </p:pic>
      <p:sp>
        <p:nvSpPr>
          <p:cNvPr id="1513" name="TextBox 23"/>
          <p:cNvSpPr/>
          <p:nvPr/>
        </p:nvSpPr>
        <p:spPr>
          <a:xfrm>
            <a:off x="9488520" y="5626080"/>
            <a:ext cx="2052720" cy="614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100" spc="-1" strike="noStrike">
                <a:solidFill>
                  <a:srgbClr val="646464"/>
                </a:solidFill>
                <a:latin typeface="Roboto"/>
              </a:rPr>
              <a:t>w</a:t>
            </a:r>
            <a:r>
              <a:rPr b="0" lang="id-ID" sz="1100" spc="-1" strike="noStrike">
                <a:solidFill>
                  <a:srgbClr val="646464"/>
                </a:solidFill>
                <a:latin typeface="Roboto"/>
              </a:rPr>
              <a:t>ww.anterra.com</a:t>
            </a:r>
            <a:endParaRPr b="0" lang="en-US" sz="1100" spc="-1" strike="noStrike">
              <a:solidFill>
                <a:srgbClr val="3f3f3f"/>
              </a:solidFill>
              <a:latin typeface="Roboto"/>
            </a:endParaRPr>
          </a:p>
          <a:p>
            <a:pPr>
              <a:lnSpc>
                <a:spcPct val="15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rPr>
              <a:t>office@anterra.com</a:t>
            </a:r>
            <a:endParaRPr b="0" lang="en-US" sz="1100" spc="-1" strike="noStrike">
              <a:solidFill>
                <a:srgbClr val="3f3f3f"/>
              </a:solidFill>
              <a:latin typeface="Roboto"/>
            </a:endParaRPr>
          </a:p>
        </p:txBody>
      </p:sp>
      <p:sp>
        <p:nvSpPr>
          <p:cNvPr id="1514" name="TextBox 24"/>
          <p:cNvSpPr/>
          <p:nvPr/>
        </p:nvSpPr>
        <p:spPr>
          <a:xfrm>
            <a:off x="9488520" y="5288040"/>
            <a:ext cx="1523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Follow Us</a:t>
            </a:r>
            <a:endParaRPr b="0" lang="en-US" sz="1600" spc="-1" strike="noStrike">
              <a:solidFill>
                <a:srgbClr val="3f3f3f"/>
              </a:solidFill>
              <a:latin typeface="Roboto"/>
            </a:endParaRPr>
          </a:p>
        </p:txBody>
      </p:sp>
      <p:sp>
        <p:nvSpPr>
          <p:cNvPr id="1515" name="Oval 25"/>
          <p:cNvSpPr/>
          <p:nvPr/>
        </p:nvSpPr>
        <p:spPr>
          <a:xfrm>
            <a:off x="8516880" y="5346720"/>
            <a:ext cx="825480" cy="825480"/>
          </a:xfrm>
          <a:prstGeom prst="ellipse">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pic>
        <p:nvPicPr>
          <p:cNvPr id="1516" name="Group 26" descr=""/>
          <p:cNvPicPr/>
          <p:nvPr/>
        </p:nvPicPr>
        <p:blipFill>
          <a:blip r:embed="rId5"/>
          <a:stretch/>
        </p:blipFill>
        <p:spPr>
          <a:xfrm>
            <a:off x="8820000" y="5651640"/>
            <a:ext cx="220680" cy="212760"/>
          </a:xfrm>
          <a:prstGeom prst="rect">
            <a:avLst/>
          </a:prstGeom>
          <a:ln w="0">
            <a:noFill/>
          </a:ln>
        </p:spPr>
      </p:pic>
      <p:sp>
        <p:nvSpPr>
          <p:cNvPr id="1517" name="TextBox 33"/>
          <p:cNvSpPr/>
          <p:nvPr/>
        </p:nvSpPr>
        <p:spPr>
          <a:xfrm>
            <a:off x="9488520" y="4067280"/>
            <a:ext cx="2052720" cy="61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rPr>
              <a:t>(+62) 000 0000 0000</a:t>
            </a:r>
            <a:endParaRPr b="0" lang="en-US" sz="1100" spc="-1" strike="noStrike">
              <a:solidFill>
                <a:srgbClr val="3f3f3f"/>
              </a:solidFill>
              <a:latin typeface="Roboto"/>
            </a:endParaRPr>
          </a:p>
          <a:p>
            <a:pPr algn="just">
              <a:lnSpc>
                <a:spcPct val="15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rPr>
              <a:t>(0725) 00000</a:t>
            </a:r>
            <a:endParaRPr b="0" lang="en-US" sz="1100" spc="-1" strike="noStrike">
              <a:solidFill>
                <a:srgbClr val="3f3f3f"/>
              </a:solidFill>
              <a:latin typeface="Roboto"/>
            </a:endParaRPr>
          </a:p>
        </p:txBody>
      </p:sp>
      <p:sp>
        <p:nvSpPr>
          <p:cNvPr id="1518" name="TextBox 34"/>
          <p:cNvSpPr/>
          <p:nvPr/>
        </p:nvSpPr>
        <p:spPr>
          <a:xfrm>
            <a:off x="9488520" y="3727440"/>
            <a:ext cx="1523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Get In Touch</a:t>
            </a:r>
            <a:endParaRPr b="0" lang="en-US" sz="1600" spc="-1" strike="noStrike">
              <a:solidFill>
                <a:srgbClr val="3f3f3f"/>
              </a:solidFill>
              <a:latin typeface="Roboto"/>
            </a:endParaRPr>
          </a:p>
        </p:txBody>
      </p:sp>
      <p:sp>
        <p:nvSpPr>
          <p:cNvPr id="1519" name="Oval 35"/>
          <p:cNvSpPr/>
          <p:nvPr/>
        </p:nvSpPr>
        <p:spPr>
          <a:xfrm>
            <a:off x="8516880" y="3786120"/>
            <a:ext cx="825480" cy="825480"/>
          </a:xfrm>
          <a:prstGeom prst="ellipse">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520" name="Freeform 28"/>
          <p:cNvSpPr/>
          <p:nvPr/>
        </p:nvSpPr>
        <p:spPr>
          <a:xfrm>
            <a:off x="8823240" y="4092480"/>
            <a:ext cx="212760" cy="214560"/>
          </a:xfrm>
          <a:custGeom>
            <a:avLst/>
            <a:gdLst/>
            <a:ahLst/>
            <a:rect l="l" t="t" r="r" b="b"/>
            <a:pathLst>
              <a:path w="2369" h="2383">
                <a:moveTo>
                  <a:pt x="453" y="0"/>
                </a:moveTo>
                <a:lnTo>
                  <a:pt x="485" y="6"/>
                </a:lnTo>
                <a:lnTo>
                  <a:pt x="516" y="19"/>
                </a:lnTo>
                <a:lnTo>
                  <a:pt x="546" y="37"/>
                </a:lnTo>
                <a:lnTo>
                  <a:pt x="574" y="62"/>
                </a:lnTo>
                <a:lnTo>
                  <a:pt x="628" y="113"/>
                </a:lnTo>
                <a:lnTo>
                  <a:pt x="680" y="167"/>
                </a:lnTo>
                <a:lnTo>
                  <a:pt x="732" y="220"/>
                </a:lnTo>
                <a:lnTo>
                  <a:pt x="887" y="375"/>
                </a:lnTo>
                <a:lnTo>
                  <a:pt x="914" y="406"/>
                </a:lnTo>
                <a:lnTo>
                  <a:pt x="933" y="437"/>
                </a:lnTo>
                <a:lnTo>
                  <a:pt x="947" y="470"/>
                </a:lnTo>
                <a:lnTo>
                  <a:pt x="954" y="502"/>
                </a:lnTo>
                <a:lnTo>
                  <a:pt x="954" y="534"/>
                </a:lnTo>
                <a:lnTo>
                  <a:pt x="947" y="566"/>
                </a:lnTo>
                <a:lnTo>
                  <a:pt x="933" y="598"/>
                </a:lnTo>
                <a:lnTo>
                  <a:pt x="914" y="629"/>
                </a:lnTo>
                <a:lnTo>
                  <a:pt x="887" y="660"/>
                </a:lnTo>
                <a:lnTo>
                  <a:pt x="824" y="725"/>
                </a:lnTo>
                <a:lnTo>
                  <a:pt x="759" y="788"/>
                </a:lnTo>
                <a:lnTo>
                  <a:pt x="693" y="851"/>
                </a:lnTo>
                <a:lnTo>
                  <a:pt x="684" y="861"/>
                </a:lnTo>
                <a:lnTo>
                  <a:pt x="679" y="871"/>
                </a:lnTo>
                <a:lnTo>
                  <a:pt x="678" y="880"/>
                </a:lnTo>
                <a:lnTo>
                  <a:pt x="679" y="890"/>
                </a:lnTo>
                <a:lnTo>
                  <a:pt x="682" y="902"/>
                </a:lnTo>
                <a:lnTo>
                  <a:pt x="710" y="963"/>
                </a:lnTo>
                <a:lnTo>
                  <a:pt x="742" y="1021"/>
                </a:lnTo>
                <a:lnTo>
                  <a:pt x="778" y="1076"/>
                </a:lnTo>
                <a:lnTo>
                  <a:pt x="814" y="1131"/>
                </a:lnTo>
                <a:lnTo>
                  <a:pt x="854" y="1183"/>
                </a:lnTo>
                <a:lnTo>
                  <a:pt x="916" y="1255"/>
                </a:lnTo>
                <a:lnTo>
                  <a:pt x="980" y="1325"/>
                </a:lnTo>
                <a:lnTo>
                  <a:pt x="1046" y="1392"/>
                </a:lnTo>
                <a:lnTo>
                  <a:pt x="1115" y="1456"/>
                </a:lnTo>
                <a:lnTo>
                  <a:pt x="1187" y="1516"/>
                </a:lnTo>
                <a:lnTo>
                  <a:pt x="1262" y="1573"/>
                </a:lnTo>
                <a:lnTo>
                  <a:pt x="1341" y="1626"/>
                </a:lnTo>
                <a:lnTo>
                  <a:pt x="1372" y="1644"/>
                </a:lnTo>
                <a:lnTo>
                  <a:pt x="1403" y="1660"/>
                </a:lnTo>
                <a:lnTo>
                  <a:pt x="1435" y="1677"/>
                </a:lnTo>
                <a:lnTo>
                  <a:pt x="1466" y="1694"/>
                </a:lnTo>
                <a:lnTo>
                  <a:pt x="1481" y="1699"/>
                </a:lnTo>
                <a:lnTo>
                  <a:pt x="1495" y="1699"/>
                </a:lnTo>
                <a:lnTo>
                  <a:pt x="1507" y="1694"/>
                </a:lnTo>
                <a:lnTo>
                  <a:pt x="1520" y="1684"/>
                </a:lnTo>
                <a:lnTo>
                  <a:pt x="1714" y="1488"/>
                </a:lnTo>
                <a:lnTo>
                  <a:pt x="1741" y="1466"/>
                </a:lnTo>
                <a:lnTo>
                  <a:pt x="1769" y="1447"/>
                </a:lnTo>
                <a:lnTo>
                  <a:pt x="1796" y="1434"/>
                </a:lnTo>
                <a:lnTo>
                  <a:pt x="1825" y="1427"/>
                </a:lnTo>
                <a:lnTo>
                  <a:pt x="1854" y="1424"/>
                </a:lnTo>
                <a:lnTo>
                  <a:pt x="1883" y="1427"/>
                </a:lnTo>
                <a:lnTo>
                  <a:pt x="1911" y="1434"/>
                </a:lnTo>
                <a:lnTo>
                  <a:pt x="1939" y="1447"/>
                </a:lnTo>
                <a:lnTo>
                  <a:pt x="1965" y="1466"/>
                </a:lnTo>
                <a:lnTo>
                  <a:pt x="1991" y="1488"/>
                </a:lnTo>
                <a:lnTo>
                  <a:pt x="2304" y="1802"/>
                </a:lnTo>
                <a:lnTo>
                  <a:pt x="2330" y="1832"/>
                </a:lnTo>
                <a:lnTo>
                  <a:pt x="2349" y="1863"/>
                </a:lnTo>
                <a:lnTo>
                  <a:pt x="2361" y="1894"/>
                </a:lnTo>
                <a:lnTo>
                  <a:pt x="2369" y="1927"/>
                </a:lnTo>
                <a:lnTo>
                  <a:pt x="2369" y="1959"/>
                </a:lnTo>
                <a:lnTo>
                  <a:pt x="2361" y="1992"/>
                </a:lnTo>
                <a:lnTo>
                  <a:pt x="2349" y="2025"/>
                </a:lnTo>
                <a:lnTo>
                  <a:pt x="2330" y="2056"/>
                </a:lnTo>
                <a:lnTo>
                  <a:pt x="2304" y="2087"/>
                </a:lnTo>
                <a:lnTo>
                  <a:pt x="2269" y="2123"/>
                </a:lnTo>
                <a:lnTo>
                  <a:pt x="2233" y="2158"/>
                </a:lnTo>
                <a:lnTo>
                  <a:pt x="2197" y="2193"/>
                </a:lnTo>
                <a:lnTo>
                  <a:pt x="2161" y="2229"/>
                </a:lnTo>
                <a:lnTo>
                  <a:pt x="2129" y="2267"/>
                </a:lnTo>
                <a:lnTo>
                  <a:pt x="2097" y="2298"/>
                </a:lnTo>
                <a:lnTo>
                  <a:pt x="2063" y="2324"/>
                </a:lnTo>
                <a:lnTo>
                  <a:pt x="2028" y="2345"/>
                </a:lnTo>
                <a:lnTo>
                  <a:pt x="1991" y="2361"/>
                </a:lnTo>
                <a:lnTo>
                  <a:pt x="1952" y="2372"/>
                </a:lnTo>
                <a:lnTo>
                  <a:pt x="1912" y="2380"/>
                </a:lnTo>
                <a:lnTo>
                  <a:pt x="1870" y="2383"/>
                </a:lnTo>
                <a:lnTo>
                  <a:pt x="1826" y="2383"/>
                </a:lnTo>
                <a:lnTo>
                  <a:pt x="1756" y="2374"/>
                </a:lnTo>
                <a:lnTo>
                  <a:pt x="1687" y="2362"/>
                </a:lnTo>
                <a:lnTo>
                  <a:pt x="1619" y="2345"/>
                </a:lnTo>
                <a:lnTo>
                  <a:pt x="1552" y="2324"/>
                </a:lnTo>
                <a:lnTo>
                  <a:pt x="1485" y="2299"/>
                </a:lnTo>
                <a:lnTo>
                  <a:pt x="1420" y="2272"/>
                </a:lnTo>
                <a:lnTo>
                  <a:pt x="1355" y="2242"/>
                </a:lnTo>
                <a:lnTo>
                  <a:pt x="1256" y="2192"/>
                </a:lnTo>
                <a:lnTo>
                  <a:pt x="1160" y="2137"/>
                </a:lnTo>
                <a:lnTo>
                  <a:pt x="1067" y="2078"/>
                </a:lnTo>
                <a:lnTo>
                  <a:pt x="976" y="2017"/>
                </a:lnTo>
                <a:lnTo>
                  <a:pt x="888" y="1951"/>
                </a:lnTo>
                <a:lnTo>
                  <a:pt x="803" y="1881"/>
                </a:lnTo>
                <a:lnTo>
                  <a:pt x="721" y="1807"/>
                </a:lnTo>
                <a:lnTo>
                  <a:pt x="642" y="1730"/>
                </a:lnTo>
                <a:lnTo>
                  <a:pt x="565" y="1649"/>
                </a:lnTo>
                <a:lnTo>
                  <a:pt x="491" y="1565"/>
                </a:lnTo>
                <a:lnTo>
                  <a:pt x="427" y="1483"/>
                </a:lnTo>
                <a:lnTo>
                  <a:pt x="365" y="1402"/>
                </a:lnTo>
                <a:lnTo>
                  <a:pt x="307" y="1318"/>
                </a:lnTo>
                <a:lnTo>
                  <a:pt x="251" y="1231"/>
                </a:lnTo>
                <a:lnTo>
                  <a:pt x="200" y="1143"/>
                </a:lnTo>
                <a:lnTo>
                  <a:pt x="153" y="1053"/>
                </a:lnTo>
                <a:lnTo>
                  <a:pt x="110" y="958"/>
                </a:lnTo>
                <a:lnTo>
                  <a:pt x="71" y="861"/>
                </a:lnTo>
                <a:lnTo>
                  <a:pt x="48" y="799"/>
                </a:lnTo>
                <a:lnTo>
                  <a:pt x="30" y="734"/>
                </a:lnTo>
                <a:lnTo>
                  <a:pt x="14" y="670"/>
                </a:lnTo>
                <a:lnTo>
                  <a:pt x="5" y="604"/>
                </a:lnTo>
                <a:lnTo>
                  <a:pt x="0" y="539"/>
                </a:lnTo>
                <a:lnTo>
                  <a:pt x="2" y="473"/>
                </a:lnTo>
                <a:lnTo>
                  <a:pt x="8" y="432"/>
                </a:lnTo>
                <a:lnTo>
                  <a:pt x="18" y="394"/>
                </a:lnTo>
                <a:lnTo>
                  <a:pt x="33" y="357"/>
                </a:lnTo>
                <a:lnTo>
                  <a:pt x="51" y="322"/>
                </a:lnTo>
                <a:lnTo>
                  <a:pt x="75" y="288"/>
                </a:lnTo>
                <a:lnTo>
                  <a:pt x="104" y="256"/>
                </a:lnTo>
                <a:lnTo>
                  <a:pt x="297" y="62"/>
                </a:lnTo>
                <a:lnTo>
                  <a:pt x="327" y="37"/>
                </a:lnTo>
                <a:lnTo>
                  <a:pt x="358" y="19"/>
                </a:lnTo>
                <a:lnTo>
                  <a:pt x="389" y="6"/>
                </a:lnTo>
                <a:lnTo>
                  <a:pt x="422" y="0"/>
                </a:lnTo>
                <a:lnTo>
                  <a:pt x="453" y="0"/>
                </a:lnTo>
                <a:close/>
              </a:path>
            </a:pathLst>
          </a:custGeom>
          <a:solidFill>
            <a:srgbClr val="f9f9f9"/>
          </a:solidFill>
          <a:ln w="0">
            <a:noFill/>
          </a:ln>
        </p:spPr>
        <p:style>
          <a:lnRef idx="0"/>
          <a:fillRef idx="0"/>
          <a:effectRef idx="0"/>
          <a:fontRef idx="minor"/>
        </p:style>
        <p:txBody>
          <a:bodyPr anchor="t">
            <a:noAutofit/>
          </a:bodyPr>
          <a:p>
            <a:endParaRPr b="0" lang="en-US" sz="1800" spc="-1" strike="noStrike">
              <a:solidFill>
                <a:srgbClr val="3f3f3f"/>
              </a:solidFill>
              <a:latin typeface="Roboto"/>
            </a:endParaRPr>
          </a:p>
        </p:txBody>
      </p:sp>
      <p:sp>
        <p:nvSpPr>
          <p:cNvPr id="1521" name="TextBox 37"/>
          <p:cNvSpPr/>
          <p:nvPr/>
        </p:nvSpPr>
        <p:spPr>
          <a:xfrm>
            <a:off x="9488520" y="2506680"/>
            <a:ext cx="2052720" cy="61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Monday – Saturday</a:t>
            </a:r>
            <a:endParaRPr b="0" lang="en-US" sz="1100" spc="-1" strike="noStrike">
              <a:solidFill>
                <a:srgbClr val="3f3f3f"/>
              </a:solidFill>
              <a:latin typeface="Roboto"/>
            </a:endParaRPr>
          </a:p>
          <a:p>
            <a:pPr algn="just">
              <a:lnSpc>
                <a:spcPct val="15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08.00 AM – 08.00 PM</a:t>
            </a:r>
            <a:endParaRPr b="0" lang="en-US" sz="1100" spc="-1" strike="noStrike">
              <a:solidFill>
                <a:srgbClr val="3f3f3f"/>
              </a:solidFill>
              <a:latin typeface="Roboto"/>
            </a:endParaRPr>
          </a:p>
        </p:txBody>
      </p:sp>
      <p:sp>
        <p:nvSpPr>
          <p:cNvPr id="1522" name="TextBox 38"/>
          <p:cNvSpPr/>
          <p:nvPr/>
        </p:nvSpPr>
        <p:spPr>
          <a:xfrm>
            <a:off x="9488520" y="2168640"/>
            <a:ext cx="1523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rPr>
              <a:t>Office Hours</a:t>
            </a:r>
            <a:endParaRPr b="0" lang="en-US" sz="1600" spc="-1" strike="noStrike">
              <a:solidFill>
                <a:srgbClr val="3f3f3f"/>
              </a:solidFill>
              <a:latin typeface="Roboto"/>
            </a:endParaRPr>
          </a:p>
        </p:txBody>
      </p:sp>
      <p:sp>
        <p:nvSpPr>
          <p:cNvPr id="1523" name="Oval 39"/>
          <p:cNvSpPr/>
          <p:nvPr/>
        </p:nvSpPr>
        <p:spPr>
          <a:xfrm>
            <a:off x="8516880" y="2227320"/>
            <a:ext cx="825480" cy="825480"/>
          </a:xfrm>
          <a:prstGeom prst="ellipse">
            <a:avLst/>
          </a:prstGeom>
          <a:solidFill>
            <a:srgbClr val="46464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pic>
        <p:nvPicPr>
          <p:cNvPr id="1524" name="Group 1331" descr=""/>
          <p:cNvPicPr/>
          <p:nvPr/>
        </p:nvPicPr>
        <p:blipFill>
          <a:blip r:embed="rId6"/>
          <a:stretch/>
        </p:blipFill>
        <p:spPr>
          <a:xfrm>
            <a:off x="8815320" y="2523960"/>
            <a:ext cx="231840" cy="23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9" name="Group 6"/>
          <p:cNvGrpSpPr/>
          <p:nvPr/>
        </p:nvGrpSpPr>
        <p:grpSpPr>
          <a:xfrm>
            <a:off x="10961640" y="552600"/>
            <a:ext cx="631800" cy="325080"/>
            <a:chOff x="10961640" y="552600"/>
            <a:chExt cx="631800" cy="325080"/>
          </a:xfrm>
        </p:grpSpPr>
        <p:sp>
          <p:nvSpPr>
            <p:cNvPr id="1060" name="Isosceles Triangle 7"/>
            <p:cNvSpPr/>
            <p:nvPr/>
          </p:nvSpPr>
          <p:spPr>
            <a:xfrm>
              <a:off x="1102500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61" name="Isosceles Triangle 8"/>
            <p:cNvSpPr/>
            <p:nvPr/>
          </p:nvSpPr>
          <p:spPr>
            <a:xfrm flipV="1">
              <a:off x="1124136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62" name="Rectangle 9"/>
            <p:cNvSpPr/>
            <p:nvPr/>
          </p:nvSpPr>
          <p:spPr>
            <a:xfrm>
              <a:off x="1096164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63" name="Rectangle 10"/>
            <p:cNvSpPr/>
            <p:nvPr/>
          </p:nvSpPr>
          <p:spPr>
            <a:xfrm>
              <a:off x="1115028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064" name="TextBox 11" descr=""/>
          <p:cNvPicPr/>
          <p:nvPr/>
        </p:nvPicPr>
        <p:blipFill>
          <a:blip r:embed="rId1"/>
          <a:stretch/>
        </p:blipFill>
        <p:spPr>
          <a:xfrm>
            <a:off x="8766000" y="5888160"/>
            <a:ext cx="536760" cy="500040"/>
          </a:xfrm>
          <a:prstGeom prst="rect">
            <a:avLst/>
          </a:prstGeom>
          <a:ln w="0">
            <a:noFill/>
          </a:ln>
        </p:spPr>
      </p:pic>
      <p:pic>
        <p:nvPicPr>
          <p:cNvPr id="1065" name="TextBox 12" descr=""/>
          <p:cNvPicPr/>
          <p:nvPr/>
        </p:nvPicPr>
        <p:blipFill>
          <a:blip r:embed="rId2"/>
          <a:stretch/>
        </p:blipFill>
        <p:spPr>
          <a:xfrm>
            <a:off x="9186840" y="5888160"/>
            <a:ext cx="2567160" cy="500040"/>
          </a:xfrm>
          <a:prstGeom prst="rect">
            <a:avLst/>
          </a:prstGeom>
          <a:ln w="0">
            <a:noFill/>
          </a:ln>
        </p:spPr>
      </p:pic>
      <p:sp>
        <p:nvSpPr>
          <p:cNvPr id="1066" name="TextBox 14"/>
          <p:cNvSpPr/>
          <p:nvPr/>
        </p:nvSpPr>
        <p:spPr>
          <a:xfrm>
            <a:off x="5719680" y="1522440"/>
            <a:ext cx="456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ANTERRA HISTORY</a:t>
            </a:r>
            <a:endParaRPr b="0" lang="en-US" sz="3200" spc="-1" strike="noStrike">
              <a:solidFill>
                <a:srgbClr val="3f3f3f"/>
              </a:solidFill>
              <a:latin typeface="Roboto"/>
            </a:endParaRPr>
          </a:p>
        </p:txBody>
      </p:sp>
      <p:pic>
        <p:nvPicPr>
          <p:cNvPr id="1067" name="TextBox 15" descr=""/>
          <p:cNvPicPr/>
          <p:nvPr/>
        </p:nvPicPr>
        <p:blipFill>
          <a:blip r:embed="rId3"/>
          <a:stretch/>
        </p:blipFill>
        <p:spPr>
          <a:xfrm>
            <a:off x="5718240" y="2000160"/>
            <a:ext cx="2743200" cy="358920"/>
          </a:xfrm>
          <a:prstGeom prst="rect">
            <a:avLst/>
          </a:prstGeom>
          <a:ln w="0">
            <a:noFill/>
          </a:ln>
        </p:spPr>
      </p:pic>
      <p:sp>
        <p:nvSpPr>
          <p:cNvPr id="1068" name="TextBox 16"/>
          <p:cNvSpPr/>
          <p:nvPr/>
        </p:nvSpPr>
        <p:spPr>
          <a:xfrm>
            <a:off x="5719680" y="3330720"/>
            <a:ext cx="43387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 Rutrum tellus pellentesque eu tincidunt tortor</a:t>
            </a:r>
            <a:endParaRPr b="0" lang="en-US" sz="1100" spc="-1" strike="noStrike">
              <a:solidFill>
                <a:srgbClr val="3f3f3f"/>
              </a:solidFill>
              <a:latin typeface="Roboto"/>
            </a:endParaRPr>
          </a:p>
        </p:txBody>
      </p:sp>
      <p:sp>
        <p:nvSpPr>
          <p:cNvPr id="1069" name="TextBox 17"/>
          <p:cNvSpPr/>
          <p:nvPr/>
        </p:nvSpPr>
        <p:spPr>
          <a:xfrm>
            <a:off x="4251240" y="4809960"/>
            <a:ext cx="35132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We Always Make Something Better From Your Expectation</a:t>
            </a:r>
            <a:endParaRPr b="0" lang="en-US" sz="1600" spc="-1" strike="noStrike">
              <a:solidFill>
                <a:srgbClr val="3f3f3f"/>
              </a:solidFill>
              <a:latin typeface="Roboto"/>
            </a:endParaRPr>
          </a:p>
        </p:txBody>
      </p:sp>
      <p:sp>
        <p:nvSpPr>
          <p:cNvPr id="1070" name="Rectangle 18"/>
          <p:cNvSpPr/>
          <p:nvPr/>
        </p:nvSpPr>
        <p:spPr>
          <a:xfrm>
            <a:off x="3652920" y="5662440"/>
            <a:ext cx="3932280" cy="46080"/>
          </a:xfrm>
          <a:prstGeom prst="rect">
            <a:avLst/>
          </a:prstGeom>
          <a:solidFill>
            <a:srgbClr val="686868"/>
          </a:solidFill>
          <a:ln w="0">
            <a:noFill/>
          </a:ln>
        </p:spPr>
        <p:style>
          <a:lnRef idx="0"/>
          <a:fillRef idx="0"/>
          <a:effectRef idx="0"/>
          <a:fontRef idx="minor"/>
        </p:style>
        <p:txBody>
          <a:bodyPr lIns="90000" rIns="90000" tIns="-720" bIns="-7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5" name="" descr=""/>
          <p:cNvPicPr/>
          <p:nvPr/>
        </p:nvPicPr>
        <p:blipFill>
          <a:blip r:embed="rId1"/>
          <a:stretch/>
        </p:blipFill>
        <p:spPr>
          <a:xfrm>
            <a:off x="-360" y="0"/>
            <a:ext cx="12192120" cy="6858000"/>
          </a:xfrm>
          <a:prstGeom prst="rect">
            <a:avLst/>
          </a:prstGeom>
          <a:ln w="0">
            <a:noFill/>
          </a:ln>
        </p:spPr>
      </p:pic>
      <p:sp>
        <p:nvSpPr>
          <p:cNvPr id="1526" name="Isosceles Triangle 47"/>
          <p:cNvSpPr/>
          <p:nvPr/>
        </p:nvSpPr>
        <p:spPr>
          <a:xfrm>
            <a:off x="4173480" y="1562040"/>
            <a:ext cx="3845160" cy="3314880"/>
          </a:xfrm>
          <a:prstGeom prst="triangle">
            <a:avLst>
              <a:gd name="adj" fmla="val 50000"/>
            </a:avLst>
          </a:prstGeom>
          <a:noFill/>
          <a:ln w="28440">
            <a:solidFill>
              <a:srgbClr val="686868">
                <a:alpha val="35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nvGrpSpPr>
          <p:cNvPr id="1527" name="Group 48"/>
          <p:cNvGrpSpPr/>
          <p:nvPr/>
        </p:nvGrpSpPr>
        <p:grpSpPr>
          <a:xfrm>
            <a:off x="587520" y="552600"/>
            <a:ext cx="631800" cy="325080"/>
            <a:chOff x="587520" y="552600"/>
            <a:chExt cx="631800" cy="325080"/>
          </a:xfrm>
        </p:grpSpPr>
        <p:sp>
          <p:nvSpPr>
            <p:cNvPr id="1528" name="Isosceles Triangle 49"/>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529" name="Isosceles Triangle 50"/>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530" name="Rectangle 51"/>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531" name="Rectangle 52"/>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532" name="TextBox 53" descr=""/>
          <p:cNvPicPr/>
          <p:nvPr/>
        </p:nvPicPr>
        <p:blipFill>
          <a:blip r:embed="rId2"/>
          <a:stretch/>
        </p:blipFill>
        <p:spPr>
          <a:xfrm>
            <a:off x="506520" y="5888160"/>
            <a:ext cx="583920" cy="500040"/>
          </a:xfrm>
          <a:prstGeom prst="rect">
            <a:avLst/>
          </a:prstGeom>
          <a:ln w="0">
            <a:noFill/>
          </a:ln>
        </p:spPr>
      </p:pic>
      <p:pic>
        <p:nvPicPr>
          <p:cNvPr id="1533" name="TextBox 54" descr=""/>
          <p:cNvPicPr/>
          <p:nvPr/>
        </p:nvPicPr>
        <p:blipFill>
          <a:blip r:embed="rId3"/>
          <a:stretch/>
        </p:blipFill>
        <p:spPr>
          <a:xfrm>
            <a:off x="927000" y="5888160"/>
            <a:ext cx="2565360" cy="500040"/>
          </a:xfrm>
          <a:prstGeom prst="rect">
            <a:avLst/>
          </a:prstGeom>
          <a:ln w="0">
            <a:noFill/>
          </a:ln>
        </p:spPr>
      </p:pic>
      <p:sp>
        <p:nvSpPr>
          <p:cNvPr id="1534" name="TextBox 55"/>
          <p:cNvSpPr/>
          <p:nvPr/>
        </p:nvSpPr>
        <p:spPr>
          <a:xfrm>
            <a:off x="3067200" y="2513160"/>
            <a:ext cx="6057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800" spc="-1" strike="noStrike">
                <a:solidFill>
                  <a:srgbClr val="f2f2f2"/>
                </a:solidFill>
                <a:latin typeface="Montserrat Black"/>
              </a:rPr>
              <a:t>THANKS</a:t>
            </a:r>
            <a:endParaRPr b="0" lang="en-US" sz="8800" spc="-1" strike="noStrike">
              <a:solidFill>
                <a:srgbClr val="3f3f3f"/>
              </a:solidFill>
              <a:latin typeface="Roboto"/>
            </a:endParaRPr>
          </a:p>
        </p:txBody>
      </p:sp>
      <p:grpSp>
        <p:nvGrpSpPr>
          <p:cNvPr id="1535" name="Group 56"/>
          <p:cNvGrpSpPr/>
          <p:nvPr/>
        </p:nvGrpSpPr>
        <p:grpSpPr>
          <a:xfrm>
            <a:off x="522360" y="2664000"/>
            <a:ext cx="276120" cy="1796760"/>
            <a:chOff x="522360" y="2664000"/>
            <a:chExt cx="276120" cy="1796760"/>
          </a:xfrm>
        </p:grpSpPr>
        <p:pic>
          <p:nvPicPr>
            <p:cNvPr id="1536" name="TextBox 57" descr=""/>
            <p:cNvPicPr/>
            <p:nvPr/>
          </p:nvPicPr>
          <p:blipFill>
            <a:blip r:embed="rId4"/>
            <a:stretch/>
          </p:blipFill>
          <p:spPr>
            <a:xfrm>
              <a:off x="522360" y="2664000"/>
              <a:ext cx="276120" cy="1359000"/>
            </a:xfrm>
            <a:prstGeom prst="rect">
              <a:avLst/>
            </a:prstGeom>
            <a:ln w="0">
              <a:noFill/>
            </a:ln>
          </p:spPr>
        </p:pic>
        <p:sp>
          <p:nvSpPr>
            <p:cNvPr id="1537" name="Rectangle 58"/>
            <p:cNvSpPr/>
            <p:nvPr/>
          </p:nvSpPr>
          <p:spPr>
            <a:xfrm>
              <a:off x="637200" y="4047840"/>
              <a:ext cx="23040" cy="412920"/>
            </a:xfrm>
            <a:prstGeom prst="rect">
              <a:avLst/>
            </a:prstGeom>
            <a:solidFill>
              <a:srgbClr val="646464">
                <a:alpha val="5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sp>
        <p:nvSpPr>
          <p:cNvPr id="1538" name="Rectangle 59"/>
          <p:cNvSpPr/>
          <p:nvPr/>
        </p:nvSpPr>
        <p:spPr>
          <a:xfrm>
            <a:off x="7769160" y="619200"/>
            <a:ext cx="99072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e8e8e"/>
                </a:solidFill>
                <a:latin typeface="Roboto"/>
              </a:rPr>
              <a:t>Home</a:t>
            </a:r>
            <a:endParaRPr b="0" lang="en-US" sz="1100" spc="-1" strike="noStrike">
              <a:solidFill>
                <a:srgbClr val="3f3f3f"/>
              </a:solidFill>
              <a:latin typeface="Roboto"/>
            </a:endParaRPr>
          </a:p>
        </p:txBody>
      </p:sp>
      <p:sp>
        <p:nvSpPr>
          <p:cNvPr id="1539" name="Rectangle 60"/>
          <p:cNvSpPr/>
          <p:nvPr/>
        </p:nvSpPr>
        <p:spPr>
          <a:xfrm>
            <a:off x="8601120" y="619200"/>
            <a:ext cx="99072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e8e8e"/>
                </a:solidFill>
                <a:latin typeface="Roboto"/>
              </a:rPr>
              <a:t>About</a:t>
            </a:r>
            <a:endParaRPr b="0" lang="en-US" sz="1100" spc="-1" strike="noStrike">
              <a:solidFill>
                <a:srgbClr val="3f3f3f"/>
              </a:solidFill>
              <a:latin typeface="Roboto"/>
            </a:endParaRPr>
          </a:p>
        </p:txBody>
      </p:sp>
      <p:sp>
        <p:nvSpPr>
          <p:cNvPr id="1540" name="Rectangle 61"/>
          <p:cNvSpPr/>
          <p:nvPr/>
        </p:nvSpPr>
        <p:spPr>
          <a:xfrm>
            <a:off x="9462960" y="619200"/>
            <a:ext cx="99072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e8e8e"/>
                </a:solidFill>
                <a:latin typeface="Roboto"/>
              </a:rPr>
              <a:t>Contact</a:t>
            </a:r>
            <a:endParaRPr b="0" lang="en-US" sz="1100" spc="-1" strike="noStrike">
              <a:solidFill>
                <a:srgbClr val="3f3f3f"/>
              </a:solidFill>
              <a:latin typeface="Roboto"/>
            </a:endParaRPr>
          </a:p>
        </p:txBody>
      </p:sp>
      <p:sp>
        <p:nvSpPr>
          <p:cNvPr id="1541" name="Freeform 1018"/>
          <p:cNvSpPr/>
          <p:nvPr/>
        </p:nvSpPr>
        <p:spPr>
          <a:xfrm>
            <a:off x="11299680" y="592200"/>
            <a:ext cx="249480" cy="258840"/>
          </a:xfrm>
          <a:custGeom>
            <a:avLst/>
            <a:gdLst/>
            <a:ahLst/>
            <a:rect l="l" t="t" r="r" b="b"/>
            <a:pathLst>
              <a:path w="3186" h="3299">
                <a:moveTo>
                  <a:pt x="1333" y="347"/>
                </a:moveTo>
                <a:lnTo>
                  <a:pt x="1252" y="350"/>
                </a:lnTo>
                <a:lnTo>
                  <a:pt x="1173" y="361"/>
                </a:lnTo>
                <a:lnTo>
                  <a:pt x="1096" y="376"/>
                </a:lnTo>
                <a:lnTo>
                  <a:pt x="1022" y="398"/>
                </a:lnTo>
                <a:lnTo>
                  <a:pt x="950" y="425"/>
                </a:lnTo>
                <a:lnTo>
                  <a:pt x="881" y="458"/>
                </a:lnTo>
                <a:lnTo>
                  <a:pt x="815" y="495"/>
                </a:lnTo>
                <a:lnTo>
                  <a:pt x="752" y="538"/>
                </a:lnTo>
                <a:lnTo>
                  <a:pt x="692" y="584"/>
                </a:lnTo>
                <a:lnTo>
                  <a:pt x="636" y="636"/>
                </a:lnTo>
                <a:lnTo>
                  <a:pt x="586" y="692"/>
                </a:lnTo>
                <a:lnTo>
                  <a:pt x="538" y="750"/>
                </a:lnTo>
                <a:lnTo>
                  <a:pt x="496" y="813"/>
                </a:lnTo>
                <a:lnTo>
                  <a:pt x="458" y="879"/>
                </a:lnTo>
                <a:lnTo>
                  <a:pt x="426" y="949"/>
                </a:lnTo>
                <a:lnTo>
                  <a:pt x="398" y="1021"/>
                </a:lnTo>
                <a:lnTo>
                  <a:pt x="376" y="1096"/>
                </a:lnTo>
                <a:lnTo>
                  <a:pt x="361" y="1172"/>
                </a:lnTo>
                <a:lnTo>
                  <a:pt x="352" y="1251"/>
                </a:lnTo>
                <a:lnTo>
                  <a:pt x="348" y="1332"/>
                </a:lnTo>
                <a:lnTo>
                  <a:pt x="352" y="1412"/>
                </a:lnTo>
                <a:lnTo>
                  <a:pt x="361" y="1492"/>
                </a:lnTo>
                <a:lnTo>
                  <a:pt x="376" y="1568"/>
                </a:lnTo>
                <a:lnTo>
                  <a:pt x="398" y="1642"/>
                </a:lnTo>
                <a:lnTo>
                  <a:pt x="426" y="1714"/>
                </a:lnTo>
                <a:lnTo>
                  <a:pt x="458" y="1783"/>
                </a:lnTo>
                <a:lnTo>
                  <a:pt x="496" y="1849"/>
                </a:lnTo>
                <a:lnTo>
                  <a:pt x="538" y="1912"/>
                </a:lnTo>
                <a:lnTo>
                  <a:pt x="586" y="1972"/>
                </a:lnTo>
                <a:lnTo>
                  <a:pt x="636" y="2028"/>
                </a:lnTo>
                <a:lnTo>
                  <a:pt x="692" y="2079"/>
                </a:lnTo>
                <a:lnTo>
                  <a:pt x="752" y="2126"/>
                </a:lnTo>
                <a:lnTo>
                  <a:pt x="815" y="2169"/>
                </a:lnTo>
                <a:lnTo>
                  <a:pt x="881" y="2206"/>
                </a:lnTo>
                <a:lnTo>
                  <a:pt x="950" y="2239"/>
                </a:lnTo>
                <a:lnTo>
                  <a:pt x="1022" y="2266"/>
                </a:lnTo>
                <a:lnTo>
                  <a:pt x="1096" y="2288"/>
                </a:lnTo>
                <a:lnTo>
                  <a:pt x="1173" y="2303"/>
                </a:lnTo>
                <a:lnTo>
                  <a:pt x="1252" y="2313"/>
                </a:lnTo>
                <a:lnTo>
                  <a:pt x="1333" y="2316"/>
                </a:lnTo>
                <a:lnTo>
                  <a:pt x="1413" y="2313"/>
                </a:lnTo>
                <a:lnTo>
                  <a:pt x="1492" y="2303"/>
                </a:lnTo>
                <a:lnTo>
                  <a:pt x="1569" y="2288"/>
                </a:lnTo>
                <a:lnTo>
                  <a:pt x="1644" y="2266"/>
                </a:lnTo>
                <a:lnTo>
                  <a:pt x="1715" y="2239"/>
                </a:lnTo>
                <a:lnTo>
                  <a:pt x="1785" y="2206"/>
                </a:lnTo>
                <a:lnTo>
                  <a:pt x="1851" y="2169"/>
                </a:lnTo>
                <a:lnTo>
                  <a:pt x="1914" y="2126"/>
                </a:lnTo>
                <a:lnTo>
                  <a:pt x="1973" y="2079"/>
                </a:lnTo>
                <a:lnTo>
                  <a:pt x="2029" y="2028"/>
                </a:lnTo>
                <a:lnTo>
                  <a:pt x="2080" y="1972"/>
                </a:lnTo>
                <a:lnTo>
                  <a:pt x="2128" y="1912"/>
                </a:lnTo>
                <a:lnTo>
                  <a:pt x="2170" y="1849"/>
                </a:lnTo>
                <a:lnTo>
                  <a:pt x="2207" y="1783"/>
                </a:lnTo>
                <a:lnTo>
                  <a:pt x="2240" y="1714"/>
                </a:lnTo>
                <a:lnTo>
                  <a:pt x="2267" y="1642"/>
                </a:lnTo>
                <a:lnTo>
                  <a:pt x="2289" y="1568"/>
                </a:lnTo>
                <a:lnTo>
                  <a:pt x="2305" y="1492"/>
                </a:lnTo>
                <a:lnTo>
                  <a:pt x="2314" y="1412"/>
                </a:lnTo>
                <a:lnTo>
                  <a:pt x="2318" y="1332"/>
                </a:lnTo>
                <a:lnTo>
                  <a:pt x="2314" y="1251"/>
                </a:lnTo>
                <a:lnTo>
                  <a:pt x="2305" y="1172"/>
                </a:lnTo>
                <a:lnTo>
                  <a:pt x="2289" y="1096"/>
                </a:lnTo>
                <a:lnTo>
                  <a:pt x="2267" y="1021"/>
                </a:lnTo>
                <a:lnTo>
                  <a:pt x="2240" y="949"/>
                </a:lnTo>
                <a:lnTo>
                  <a:pt x="2207" y="879"/>
                </a:lnTo>
                <a:lnTo>
                  <a:pt x="2170" y="813"/>
                </a:lnTo>
                <a:lnTo>
                  <a:pt x="2128" y="750"/>
                </a:lnTo>
                <a:lnTo>
                  <a:pt x="2080" y="692"/>
                </a:lnTo>
                <a:lnTo>
                  <a:pt x="2029" y="636"/>
                </a:lnTo>
                <a:lnTo>
                  <a:pt x="1973" y="584"/>
                </a:lnTo>
                <a:lnTo>
                  <a:pt x="1914" y="538"/>
                </a:lnTo>
                <a:lnTo>
                  <a:pt x="1851" y="495"/>
                </a:lnTo>
                <a:lnTo>
                  <a:pt x="1785" y="458"/>
                </a:lnTo>
                <a:lnTo>
                  <a:pt x="1715" y="425"/>
                </a:lnTo>
                <a:lnTo>
                  <a:pt x="1644" y="398"/>
                </a:lnTo>
                <a:lnTo>
                  <a:pt x="1569" y="376"/>
                </a:lnTo>
                <a:lnTo>
                  <a:pt x="1492" y="361"/>
                </a:lnTo>
                <a:lnTo>
                  <a:pt x="1413" y="350"/>
                </a:lnTo>
                <a:lnTo>
                  <a:pt x="1333" y="347"/>
                </a:lnTo>
                <a:close/>
                <a:moveTo>
                  <a:pt x="1333" y="0"/>
                </a:moveTo>
                <a:lnTo>
                  <a:pt x="1423" y="3"/>
                </a:lnTo>
                <a:lnTo>
                  <a:pt x="1513" y="12"/>
                </a:lnTo>
                <a:lnTo>
                  <a:pt x="1601" y="27"/>
                </a:lnTo>
                <a:lnTo>
                  <a:pt x="1686" y="47"/>
                </a:lnTo>
                <a:lnTo>
                  <a:pt x="1770" y="73"/>
                </a:lnTo>
                <a:lnTo>
                  <a:pt x="1851" y="105"/>
                </a:lnTo>
                <a:lnTo>
                  <a:pt x="1930" y="141"/>
                </a:lnTo>
                <a:lnTo>
                  <a:pt x="2005" y="182"/>
                </a:lnTo>
                <a:lnTo>
                  <a:pt x="2077" y="228"/>
                </a:lnTo>
                <a:lnTo>
                  <a:pt x="2146" y="278"/>
                </a:lnTo>
                <a:lnTo>
                  <a:pt x="2212" y="332"/>
                </a:lnTo>
                <a:lnTo>
                  <a:pt x="2274" y="391"/>
                </a:lnTo>
                <a:lnTo>
                  <a:pt x="2333" y="452"/>
                </a:lnTo>
                <a:lnTo>
                  <a:pt x="2388" y="518"/>
                </a:lnTo>
                <a:lnTo>
                  <a:pt x="2437" y="588"/>
                </a:lnTo>
                <a:lnTo>
                  <a:pt x="2484" y="660"/>
                </a:lnTo>
                <a:lnTo>
                  <a:pt x="2524" y="736"/>
                </a:lnTo>
                <a:lnTo>
                  <a:pt x="2561" y="813"/>
                </a:lnTo>
                <a:lnTo>
                  <a:pt x="2592" y="895"/>
                </a:lnTo>
                <a:lnTo>
                  <a:pt x="2618" y="978"/>
                </a:lnTo>
                <a:lnTo>
                  <a:pt x="2638" y="1064"/>
                </a:lnTo>
                <a:lnTo>
                  <a:pt x="2653" y="1151"/>
                </a:lnTo>
                <a:lnTo>
                  <a:pt x="2662" y="1241"/>
                </a:lnTo>
                <a:lnTo>
                  <a:pt x="2665" y="1332"/>
                </a:lnTo>
                <a:lnTo>
                  <a:pt x="2663" y="1417"/>
                </a:lnTo>
                <a:lnTo>
                  <a:pt x="2655" y="1502"/>
                </a:lnTo>
                <a:lnTo>
                  <a:pt x="2641" y="1585"/>
                </a:lnTo>
                <a:lnTo>
                  <a:pt x="2623" y="1667"/>
                </a:lnTo>
                <a:lnTo>
                  <a:pt x="2598" y="1748"/>
                </a:lnTo>
                <a:lnTo>
                  <a:pt x="2570" y="1827"/>
                </a:lnTo>
                <a:lnTo>
                  <a:pt x="2536" y="1904"/>
                </a:lnTo>
                <a:lnTo>
                  <a:pt x="2497" y="1979"/>
                </a:lnTo>
                <a:lnTo>
                  <a:pt x="2454" y="2051"/>
                </a:lnTo>
                <a:lnTo>
                  <a:pt x="2405" y="2122"/>
                </a:lnTo>
                <a:lnTo>
                  <a:pt x="2353" y="2189"/>
                </a:lnTo>
                <a:lnTo>
                  <a:pt x="3137" y="3004"/>
                </a:lnTo>
                <a:lnTo>
                  <a:pt x="3158" y="3029"/>
                </a:lnTo>
                <a:lnTo>
                  <a:pt x="3173" y="3056"/>
                </a:lnTo>
                <a:lnTo>
                  <a:pt x="3182" y="3084"/>
                </a:lnTo>
                <a:lnTo>
                  <a:pt x="3186" y="3113"/>
                </a:lnTo>
                <a:lnTo>
                  <a:pt x="3186" y="3143"/>
                </a:lnTo>
                <a:lnTo>
                  <a:pt x="3180" y="3172"/>
                </a:lnTo>
                <a:lnTo>
                  <a:pt x="3169" y="3200"/>
                </a:lnTo>
                <a:lnTo>
                  <a:pt x="3154" y="3227"/>
                </a:lnTo>
                <a:lnTo>
                  <a:pt x="3133" y="3250"/>
                </a:lnTo>
                <a:lnTo>
                  <a:pt x="3113" y="3267"/>
                </a:lnTo>
                <a:lnTo>
                  <a:pt x="3090" y="3280"/>
                </a:lnTo>
                <a:lnTo>
                  <a:pt x="3065" y="3291"/>
                </a:lnTo>
                <a:lnTo>
                  <a:pt x="3040" y="3297"/>
                </a:lnTo>
                <a:lnTo>
                  <a:pt x="3013" y="3299"/>
                </a:lnTo>
                <a:lnTo>
                  <a:pt x="2985" y="3297"/>
                </a:lnTo>
                <a:lnTo>
                  <a:pt x="2958" y="3290"/>
                </a:lnTo>
                <a:lnTo>
                  <a:pt x="2932" y="3279"/>
                </a:lnTo>
                <a:lnTo>
                  <a:pt x="2909" y="3264"/>
                </a:lnTo>
                <a:lnTo>
                  <a:pt x="2888" y="3245"/>
                </a:lnTo>
                <a:lnTo>
                  <a:pt x="2096" y="2423"/>
                </a:lnTo>
                <a:lnTo>
                  <a:pt x="2028" y="2468"/>
                </a:lnTo>
                <a:lnTo>
                  <a:pt x="1957" y="2508"/>
                </a:lnTo>
                <a:lnTo>
                  <a:pt x="1884" y="2544"/>
                </a:lnTo>
                <a:lnTo>
                  <a:pt x="1810" y="2576"/>
                </a:lnTo>
                <a:lnTo>
                  <a:pt x="1734" y="2602"/>
                </a:lnTo>
                <a:lnTo>
                  <a:pt x="1655" y="2625"/>
                </a:lnTo>
                <a:lnTo>
                  <a:pt x="1577" y="2641"/>
                </a:lnTo>
                <a:lnTo>
                  <a:pt x="1497" y="2653"/>
                </a:lnTo>
                <a:lnTo>
                  <a:pt x="1415" y="2661"/>
                </a:lnTo>
                <a:lnTo>
                  <a:pt x="1333" y="2664"/>
                </a:lnTo>
                <a:lnTo>
                  <a:pt x="1242" y="2661"/>
                </a:lnTo>
                <a:lnTo>
                  <a:pt x="1152" y="2651"/>
                </a:lnTo>
                <a:lnTo>
                  <a:pt x="1064" y="2637"/>
                </a:lnTo>
                <a:lnTo>
                  <a:pt x="979" y="2616"/>
                </a:lnTo>
                <a:lnTo>
                  <a:pt x="895" y="2590"/>
                </a:lnTo>
                <a:lnTo>
                  <a:pt x="815" y="2559"/>
                </a:lnTo>
                <a:lnTo>
                  <a:pt x="736" y="2523"/>
                </a:lnTo>
                <a:lnTo>
                  <a:pt x="661" y="2481"/>
                </a:lnTo>
                <a:lnTo>
                  <a:pt x="588" y="2436"/>
                </a:lnTo>
                <a:lnTo>
                  <a:pt x="519" y="2385"/>
                </a:lnTo>
                <a:lnTo>
                  <a:pt x="453" y="2332"/>
                </a:lnTo>
                <a:lnTo>
                  <a:pt x="391" y="2273"/>
                </a:lnTo>
                <a:lnTo>
                  <a:pt x="333" y="2211"/>
                </a:lnTo>
                <a:lnTo>
                  <a:pt x="278" y="2145"/>
                </a:lnTo>
                <a:lnTo>
                  <a:pt x="228" y="2076"/>
                </a:lnTo>
                <a:lnTo>
                  <a:pt x="183" y="2003"/>
                </a:lnTo>
                <a:lnTo>
                  <a:pt x="141" y="1928"/>
                </a:lnTo>
                <a:lnTo>
                  <a:pt x="105" y="1849"/>
                </a:lnTo>
                <a:lnTo>
                  <a:pt x="74" y="1769"/>
                </a:lnTo>
                <a:lnTo>
                  <a:pt x="48" y="1685"/>
                </a:lnTo>
                <a:lnTo>
                  <a:pt x="28" y="1600"/>
                </a:lnTo>
                <a:lnTo>
                  <a:pt x="12" y="1512"/>
                </a:lnTo>
                <a:lnTo>
                  <a:pt x="3" y="1423"/>
                </a:lnTo>
                <a:lnTo>
                  <a:pt x="0" y="1332"/>
                </a:lnTo>
                <a:lnTo>
                  <a:pt x="3" y="1241"/>
                </a:lnTo>
                <a:lnTo>
                  <a:pt x="12" y="1151"/>
                </a:lnTo>
                <a:lnTo>
                  <a:pt x="28" y="1064"/>
                </a:lnTo>
                <a:lnTo>
                  <a:pt x="48" y="978"/>
                </a:lnTo>
                <a:lnTo>
                  <a:pt x="74" y="895"/>
                </a:lnTo>
                <a:lnTo>
                  <a:pt x="105" y="813"/>
                </a:lnTo>
                <a:lnTo>
                  <a:pt x="141" y="736"/>
                </a:lnTo>
                <a:lnTo>
                  <a:pt x="183" y="660"/>
                </a:lnTo>
                <a:lnTo>
                  <a:pt x="228" y="588"/>
                </a:lnTo>
                <a:lnTo>
                  <a:pt x="278" y="518"/>
                </a:lnTo>
                <a:lnTo>
                  <a:pt x="333" y="452"/>
                </a:lnTo>
                <a:lnTo>
                  <a:pt x="391" y="391"/>
                </a:lnTo>
                <a:lnTo>
                  <a:pt x="453" y="332"/>
                </a:lnTo>
                <a:lnTo>
                  <a:pt x="519" y="278"/>
                </a:lnTo>
                <a:lnTo>
                  <a:pt x="588" y="228"/>
                </a:lnTo>
                <a:lnTo>
                  <a:pt x="661" y="182"/>
                </a:lnTo>
                <a:lnTo>
                  <a:pt x="736" y="141"/>
                </a:lnTo>
                <a:lnTo>
                  <a:pt x="815" y="105"/>
                </a:lnTo>
                <a:lnTo>
                  <a:pt x="895" y="73"/>
                </a:lnTo>
                <a:lnTo>
                  <a:pt x="979" y="47"/>
                </a:lnTo>
                <a:lnTo>
                  <a:pt x="1064" y="27"/>
                </a:lnTo>
                <a:lnTo>
                  <a:pt x="1152" y="12"/>
                </a:lnTo>
                <a:lnTo>
                  <a:pt x="1242" y="3"/>
                </a:lnTo>
                <a:lnTo>
                  <a:pt x="1333" y="0"/>
                </a:lnTo>
                <a:close/>
              </a:path>
            </a:pathLst>
          </a:custGeom>
          <a:solidFill>
            <a:srgbClr val="646464"/>
          </a:solidFill>
          <a:ln w="0">
            <a:noFill/>
          </a:ln>
        </p:spPr>
        <p:style>
          <a:lnRef idx="0"/>
          <a:fillRef idx="0"/>
          <a:effectRef idx="0"/>
          <a:fontRef idx="minor"/>
        </p:style>
        <p:txBody>
          <a:bodyPr anchor="t">
            <a:noAutofit/>
          </a:bodyPr>
          <a:p>
            <a:endParaRPr b="0" lang="en-US" sz="1800" spc="-1" strike="noStrike">
              <a:solidFill>
                <a:srgbClr val="3f3f3f"/>
              </a:solidFill>
              <a:latin typeface="Roboto"/>
            </a:endParaRPr>
          </a:p>
        </p:txBody>
      </p:sp>
      <p:sp>
        <p:nvSpPr>
          <p:cNvPr id="1542" name="Rectangle 63"/>
          <p:cNvSpPr/>
          <p:nvPr/>
        </p:nvSpPr>
        <p:spPr>
          <a:xfrm>
            <a:off x="10342440" y="619200"/>
            <a:ext cx="99072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8e8e8e"/>
                </a:solidFill>
                <a:latin typeface="Roboto"/>
              </a:rPr>
              <a:t>Services</a:t>
            </a:r>
            <a:endParaRPr b="0" lang="en-US" sz="1100" spc="-1" strike="noStrike">
              <a:solidFill>
                <a:srgbClr val="3f3f3f"/>
              </a:solidFill>
              <a:latin typeface="Roboto"/>
            </a:endParaRPr>
          </a:p>
        </p:txBody>
      </p:sp>
      <p:pic>
        <p:nvPicPr>
          <p:cNvPr id="1543" name="Group 64" descr=""/>
          <p:cNvPicPr/>
          <p:nvPr/>
        </p:nvPicPr>
        <p:blipFill>
          <a:blip r:embed="rId5"/>
          <a:stretch/>
        </p:blipFill>
        <p:spPr>
          <a:xfrm>
            <a:off x="10723680" y="5827680"/>
            <a:ext cx="882360" cy="407880"/>
          </a:xfrm>
          <a:prstGeom prst="rect">
            <a:avLst/>
          </a:prstGeom>
          <a:ln w="0">
            <a:noFill/>
          </a:ln>
        </p:spPr>
      </p:pic>
      <p:sp>
        <p:nvSpPr>
          <p:cNvPr id="1544" name="TextBox 85"/>
          <p:cNvSpPr/>
          <p:nvPr/>
        </p:nvSpPr>
        <p:spPr>
          <a:xfrm>
            <a:off x="3392640" y="3751200"/>
            <a:ext cx="540684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2000" spc="-1" strike="noStrike">
                <a:solidFill>
                  <a:srgbClr val="ffffff"/>
                </a:solidFill>
                <a:latin typeface="Roboto"/>
                <a:ea typeface="Times New Roman"/>
              </a:rPr>
              <a:t>And See You Next Time</a:t>
            </a:r>
            <a:endParaRPr b="0" lang="en-US" sz="20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1" name="Group 8"/>
          <p:cNvGrpSpPr/>
          <p:nvPr/>
        </p:nvGrpSpPr>
        <p:grpSpPr>
          <a:xfrm>
            <a:off x="587520" y="552600"/>
            <a:ext cx="631800" cy="325080"/>
            <a:chOff x="587520" y="552600"/>
            <a:chExt cx="631800" cy="325080"/>
          </a:xfrm>
        </p:grpSpPr>
        <p:sp>
          <p:nvSpPr>
            <p:cNvPr id="1072" name="Isosceles Triangle 9"/>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73" name="Isosceles Triangle 10"/>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74" name="Rectangle 11"/>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75" name="Rectangle 12"/>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076" name="TextBox 13" descr=""/>
          <p:cNvPicPr/>
          <p:nvPr/>
        </p:nvPicPr>
        <p:blipFill>
          <a:blip r:embed="rId1"/>
          <a:stretch/>
        </p:blipFill>
        <p:spPr>
          <a:xfrm>
            <a:off x="506520" y="5888160"/>
            <a:ext cx="536400" cy="500040"/>
          </a:xfrm>
          <a:prstGeom prst="rect">
            <a:avLst/>
          </a:prstGeom>
          <a:ln w="0">
            <a:noFill/>
          </a:ln>
        </p:spPr>
      </p:pic>
      <p:pic>
        <p:nvPicPr>
          <p:cNvPr id="1077" name="TextBox 14" descr=""/>
          <p:cNvPicPr/>
          <p:nvPr/>
        </p:nvPicPr>
        <p:blipFill>
          <a:blip r:embed="rId2"/>
          <a:stretch/>
        </p:blipFill>
        <p:spPr>
          <a:xfrm>
            <a:off x="927000" y="5888160"/>
            <a:ext cx="2565360" cy="500040"/>
          </a:xfrm>
          <a:prstGeom prst="rect">
            <a:avLst/>
          </a:prstGeom>
          <a:ln w="0">
            <a:noFill/>
          </a:ln>
        </p:spPr>
      </p:pic>
      <p:sp>
        <p:nvSpPr>
          <p:cNvPr id="1078" name="TextBox 16"/>
          <p:cNvSpPr/>
          <p:nvPr/>
        </p:nvSpPr>
        <p:spPr>
          <a:xfrm>
            <a:off x="1433520" y="1506600"/>
            <a:ext cx="416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ANTERRA VISION</a:t>
            </a:r>
            <a:endParaRPr b="0" lang="en-US" sz="3200" spc="-1" strike="noStrike">
              <a:solidFill>
                <a:srgbClr val="3f3f3f"/>
              </a:solidFill>
              <a:latin typeface="Roboto"/>
            </a:endParaRPr>
          </a:p>
        </p:txBody>
      </p:sp>
      <p:pic>
        <p:nvPicPr>
          <p:cNvPr id="1079" name="TextBox 17" descr=""/>
          <p:cNvPicPr/>
          <p:nvPr/>
        </p:nvPicPr>
        <p:blipFill>
          <a:blip r:embed="rId3"/>
          <a:stretch/>
        </p:blipFill>
        <p:spPr>
          <a:xfrm>
            <a:off x="1432080" y="1981080"/>
            <a:ext cx="2743200" cy="360360"/>
          </a:xfrm>
          <a:prstGeom prst="rect">
            <a:avLst/>
          </a:prstGeom>
          <a:ln w="0">
            <a:noFill/>
          </a:ln>
        </p:spPr>
      </p:pic>
      <p:sp>
        <p:nvSpPr>
          <p:cNvPr id="1080" name="TextBox 18"/>
          <p:cNvSpPr/>
          <p:nvPr/>
        </p:nvSpPr>
        <p:spPr>
          <a:xfrm>
            <a:off x="1447920" y="3465360"/>
            <a:ext cx="4340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 Rutrum tellus pellentesque eu tincidunt tortor</a:t>
            </a:r>
            <a:endParaRPr b="0" lang="en-US" sz="1100" spc="-1" strike="noStrike">
              <a:solidFill>
                <a:srgbClr val="3f3f3f"/>
              </a:solidFill>
              <a:latin typeface="Roboto"/>
            </a:endParaRPr>
          </a:p>
        </p:txBody>
      </p:sp>
      <p:sp>
        <p:nvSpPr>
          <p:cNvPr id="1081" name="TextBox 19"/>
          <p:cNvSpPr/>
          <p:nvPr/>
        </p:nvSpPr>
        <p:spPr>
          <a:xfrm>
            <a:off x="1447920" y="4649760"/>
            <a:ext cx="43401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a:t>
            </a:r>
            <a:endParaRPr b="0" lang="en-US" sz="1100" spc="-1" strike="noStrike">
              <a:solidFill>
                <a:srgbClr val="3f3f3f"/>
              </a:solidFill>
              <a:latin typeface="Roboto"/>
            </a:endParaRPr>
          </a:p>
        </p:txBody>
      </p:sp>
      <p:sp>
        <p:nvSpPr>
          <p:cNvPr id="1082" name="TextBox 20"/>
          <p:cNvSpPr/>
          <p:nvPr/>
        </p:nvSpPr>
        <p:spPr>
          <a:xfrm>
            <a:off x="1432080" y="3089160"/>
            <a:ext cx="1792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Vision Here</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3" name="Group 4"/>
          <p:cNvGrpSpPr/>
          <p:nvPr/>
        </p:nvGrpSpPr>
        <p:grpSpPr>
          <a:xfrm>
            <a:off x="10961640" y="552600"/>
            <a:ext cx="631800" cy="325080"/>
            <a:chOff x="10961640" y="552600"/>
            <a:chExt cx="631800" cy="325080"/>
          </a:xfrm>
        </p:grpSpPr>
        <p:sp>
          <p:nvSpPr>
            <p:cNvPr id="1084" name="Isosceles Triangle 5"/>
            <p:cNvSpPr/>
            <p:nvPr/>
          </p:nvSpPr>
          <p:spPr>
            <a:xfrm>
              <a:off x="1102500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85" name="Isosceles Triangle 6"/>
            <p:cNvSpPr/>
            <p:nvPr/>
          </p:nvSpPr>
          <p:spPr>
            <a:xfrm flipV="1">
              <a:off x="1124136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86" name="Rectangle 7"/>
            <p:cNvSpPr/>
            <p:nvPr/>
          </p:nvSpPr>
          <p:spPr>
            <a:xfrm>
              <a:off x="1096164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087" name="Rectangle 8"/>
            <p:cNvSpPr/>
            <p:nvPr/>
          </p:nvSpPr>
          <p:spPr>
            <a:xfrm>
              <a:off x="1115028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088" name="TextBox 9" descr=""/>
          <p:cNvPicPr/>
          <p:nvPr/>
        </p:nvPicPr>
        <p:blipFill>
          <a:blip r:embed="rId1"/>
          <a:stretch/>
        </p:blipFill>
        <p:spPr>
          <a:xfrm>
            <a:off x="8766000" y="5888160"/>
            <a:ext cx="536760" cy="500040"/>
          </a:xfrm>
          <a:prstGeom prst="rect">
            <a:avLst/>
          </a:prstGeom>
          <a:ln w="0">
            <a:noFill/>
          </a:ln>
        </p:spPr>
      </p:pic>
      <p:pic>
        <p:nvPicPr>
          <p:cNvPr id="1089" name="TextBox 10" descr=""/>
          <p:cNvPicPr/>
          <p:nvPr/>
        </p:nvPicPr>
        <p:blipFill>
          <a:blip r:embed="rId2"/>
          <a:stretch/>
        </p:blipFill>
        <p:spPr>
          <a:xfrm>
            <a:off x="9186840" y="5888160"/>
            <a:ext cx="2567160" cy="500040"/>
          </a:xfrm>
          <a:prstGeom prst="rect">
            <a:avLst/>
          </a:prstGeom>
          <a:ln w="0">
            <a:noFill/>
          </a:ln>
        </p:spPr>
      </p:pic>
      <p:sp>
        <p:nvSpPr>
          <p:cNvPr id="1090" name="TextBox 12"/>
          <p:cNvSpPr/>
          <p:nvPr/>
        </p:nvSpPr>
        <p:spPr>
          <a:xfrm>
            <a:off x="5072040" y="1539720"/>
            <a:ext cx="500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ANTERRA MISSIONS</a:t>
            </a:r>
            <a:endParaRPr b="0" lang="en-US" sz="3200" spc="-1" strike="noStrike">
              <a:solidFill>
                <a:srgbClr val="3f3f3f"/>
              </a:solidFill>
              <a:latin typeface="Roboto"/>
            </a:endParaRPr>
          </a:p>
        </p:txBody>
      </p:sp>
      <p:pic>
        <p:nvPicPr>
          <p:cNvPr id="1091" name="TextBox 13" descr=""/>
          <p:cNvPicPr/>
          <p:nvPr/>
        </p:nvPicPr>
        <p:blipFill>
          <a:blip r:embed="rId3"/>
          <a:stretch/>
        </p:blipFill>
        <p:spPr>
          <a:xfrm>
            <a:off x="5072040" y="2011320"/>
            <a:ext cx="2743200" cy="360360"/>
          </a:xfrm>
          <a:prstGeom prst="rect">
            <a:avLst/>
          </a:prstGeom>
          <a:ln w="0">
            <a:noFill/>
          </a:ln>
        </p:spPr>
      </p:pic>
      <p:sp>
        <p:nvSpPr>
          <p:cNvPr id="1092" name="TextBox 14"/>
          <p:cNvSpPr/>
          <p:nvPr/>
        </p:nvSpPr>
        <p:spPr>
          <a:xfrm>
            <a:off x="5072040" y="3425760"/>
            <a:ext cx="24652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093" name="TextBox 15"/>
          <p:cNvSpPr/>
          <p:nvPr/>
        </p:nvSpPr>
        <p:spPr>
          <a:xfrm>
            <a:off x="5072040" y="3086280"/>
            <a:ext cx="2195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Mission Here</a:t>
            </a:r>
            <a:endParaRPr b="0" lang="en-US" sz="1600" spc="-1" strike="noStrike">
              <a:solidFill>
                <a:srgbClr val="3f3f3f"/>
              </a:solidFill>
              <a:latin typeface="Roboto"/>
            </a:endParaRPr>
          </a:p>
        </p:txBody>
      </p:sp>
      <p:sp>
        <p:nvSpPr>
          <p:cNvPr id="1094" name="TextBox 16"/>
          <p:cNvSpPr/>
          <p:nvPr/>
        </p:nvSpPr>
        <p:spPr>
          <a:xfrm>
            <a:off x="7788240" y="3425760"/>
            <a:ext cx="24652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095" name="TextBox 17"/>
          <p:cNvSpPr/>
          <p:nvPr/>
        </p:nvSpPr>
        <p:spPr>
          <a:xfrm>
            <a:off x="7788240" y="3086280"/>
            <a:ext cx="21938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Mission Here</a:t>
            </a:r>
            <a:endParaRPr b="0" lang="en-US" sz="1600" spc="-1" strike="noStrike">
              <a:solidFill>
                <a:srgbClr val="3f3f3f"/>
              </a:solidFill>
              <a:latin typeface="Roboto"/>
            </a:endParaRPr>
          </a:p>
        </p:txBody>
      </p:sp>
      <p:sp>
        <p:nvSpPr>
          <p:cNvPr id="1096" name="TextBox 18"/>
          <p:cNvSpPr/>
          <p:nvPr/>
        </p:nvSpPr>
        <p:spPr>
          <a:xfrm>
            <a:off x="5072040" y="4889520"/>
            <a:ext cx="24652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097" name="TextBox 19"/>
          <p:cNvSpPr/>
          <p:nvPr/>
        </p:nvSpPr>
        <p:spPr>
          <a:xfrm>
            <a:off x="5072040" y="4549680"/>
            <a:ext cx="2195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Mission Here</a:t>
            </a:r>
            <a:endParaRPr b="0" lang="en-US" sz="1600" spc="-1" strike="noStrike">
              <a:solidFill>
                <a:srgbClr val="3f3f3f"/>
              </a:solidFill>
              <a:latin typeface="Roboto"/>
            </a:endParaRPr>
          </a:p>
        </p:txBody>
      </p:sp>
      <p:sp>
        <p:nvSpPr>
          <p:cNvPr id="1098" name="TextBox 20"/>
          <p:cNvSpPr/>
          <p:nvPr/>
        </p:nvSpPr>
        <p:spPr>
          <a:xfrm>
            <a:off x="7788240" y="4889520"/>
            <a:ext cx="24652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 tetur adipiscing elit, sed do eiusmod tempor incididunt ut labore et</a:t>
            </a:r>
            <a:endParaRPr b="0" lang="en-US" sz="1100" spc="-1" strike="noStrike">
              <a:solidFill>
                <a:srgbClr val="3f3f3f"/>
              </a:solidFill>
              <a:latin typeface="Roboto"/>
            </a:endParaRPr>
          </a:p>
        </p:txBody>
      </p:sp>
      <p:sp>
        <p:nvSpPr>
          <p:cNvPr id="1099" name="TextBox 21"/>
          <p:cNvSpPr/>
          <p:nvPr/>
        </p:nvSpPr>
        <p:spPr>
          <a:xfrm>
            <a:off x="7788240" y="4549680"/>
            <a:ext cx="21938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Mission Here</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0" name="Group 9"/>
          <p:cNvGrpSpPr/>
          <p:nvPr/>
        </p:nvGrpSpPr>
        <p:grpSpPr>
          <a:xfrm>
            <a:off x="587520" y="552600"/>
            <a:ext cx="631800" cy="325080"/>
            <a:chOff x="587520" y="552600"/>
            <a:chExt cx="631800" cy="325080"/>
          </a:xfrm>
        </p:grpSpPr>
        <p:sp>
          <p:nvSpPr>
            <p:cNvPr id="1101" name="Isosceles Triangle 10"/>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02" name="Isosceles Triangle 11"/>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03" name="Rectangle 12"/>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04" name="Rectangle 13"/>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105" name="TextBox 14" descr=""/>
          <p:cNvPicPr/>
          <p:nvPr/>
        </p:nvPicPr>
        <p:blipFill>
          <a:blip r:embed="rId1"/>
          <a:stretch/>
        </p:blipFill>
        <p:spPr>
          <a:xfrm>
            <a:off x="506520" y="5888160"/>
            <a:ext cx="536400" cy="500040"/>
          </a:xfrm>
          <a:prstGeom prst="rect">
            <a:avLst/>
          </a:prstGeom>
          <a:ln w="0">
            <a:noFill/>
          </a:ln>
        </p:spPr>
      </p:pic>
      <p:pic>
        <p:nvPicPr>
          <p:cNvPr id="1106" name="TextBox 15" descr=""/>
          <p:cNvPicPr/>
          <p:nvPr/>
        </p:nvPicPr>
        <p:blipFill>
          <a:blip r:embed="rId2"/>
          <a:stretch/>
        </p:blipFill>
        <p:spPr>
          <a:xfrm>
            <a:off x="927000" y="5888160"/>
            <a:ext cx="2565360" cy="500040"/>
          </a:xfrm>
          <a:prstGeom prst="rect">
            <a:avLst/>
          </a:prstGeom>
          <a:ln w="0">
            <a:noFill/>
          </a:ln>
        </p:spPr>
      </p:pic>
      <p:sp>
        <p:nvSpPr>
          <p:cNvPr id="1107" name="TextBox 16"/>
          <p:cNvSpPr/>
          <p:nvPr/>
        </p:nvSpPr>
        <p:spPr>
          <a:xfrm>
            <a:off x="3595680" y="676440"/>
            <a:ext cx="5000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ANTERRA SERVICES</a:t>
            </a:r>
            <a:endParaRPr b="0" lang="en-US" sz="3200" spc="-1" strike="noStrike">
              <a:solidFill>
                <a:srgbClr val="3f3f3f"/>
              </a:solidFill>
              <a:latin typeface="Roboto"/>
            </a:endParaRPr>
          </a:p>
        </p:txBody>
      </p:sp>
      <p:pic>
        <p:nvPicPr>
          <p:cNvPr id="1108" name="TextBox 17" descr=""/>
          <p:cNvPicPr/>
          <p:nvPr/>
        </p:nvPicPr>
        <p:blipFill>
          <a:blip r:embed="rId3"/>
          <a:stretch/>
        </p:blipFill>
        <p:spPr>
          <a:xfrm>
            <a:off x="4724280" y="1152360"/>
            <a:ext cx="2743200" cy="358920"/>
          </a:xfrm>
          <a:prstGeom prst="rect">
            <a:avLst/>
          </a:prstGeom>
          <a:ln w="0">
            <a:noFill/>
          </a:ln>
        </p:spPr>
      </p:pic>
      <p:sp>
        <p:nvSpPr>
          <p:cNvPr id="1109" name="TextBox 19"/>
          <p:cNvSpPr/>
          <p:nvPr/>
        </p:nvSpPr>
        <p:spPr>
          <a:xfrm>
            <a:off x="1447920" y="1784520"/>
            <a:ext cx="92962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 Rutrum tellus pellentesque eu tincidunt tortor aliquam. Nisl suscipit</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0" name="Group 8"/>
          <p:cNvGrpSpPr/>
          <p:nvPr/>
        </p:nvGrpSpPr>
        <p:grpSpPr>
          <a:xfrm>
            <a:off x="587520" y="552600"/>
            <a:ext cx="631800" cy="325080"/>
            <a:chOff x="587520" y="552600"/>
            <a:chExt cx="631800" cy="325080"/>
          </a:xfrm>
        </p:grpSpPr>
        <p:sp>
          <p:nvSpPr>
            <p:cNvPr id="1111" name="Isosceles Triangle 9"/>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12" name="Isosceles Triangle 10"/>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13" name="Rectangle 11"/>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14" name="Rectangle 12"/>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115" name="TextBox 13" descr=""/>
          <p:cNvPicPr/>
          <p:nvPr/>
        </p:nvPicPr>
        <p:blipFill>
          <a:blip r:embed="rId1"/>
          <a:stretch/>
        </p:blipFill>
        <p:spPr>
          <a:xfrm>
            <a:off x="506520" y="5888160"/>
            <a:ext cx="536400" cy="500040"/>
          </a:xfrm>
          <a:prstGeom prst="rect">
            <a:avLst/>
          </a:prstGeom>
          <a:ln w="0">
            <a:noFill/>
          </a:ln>
        </p:spPr>
      </p:pic>
      <p:pic>
        <p:nvPicPr>
          <p:cNvPr id="1116" name="TextBox 14" descr=""/>
          <p:cNvPicPr/>
          <p:nvPr/>
        </p:nvPicPr>
        <p:blipFill>
          <a:blip r:embed="rId2"/>
          <a:stretch/>
        </p:blipFill>
        <p:spPr>
          <a:xfrm>
            <a:off x="927000" y="5888160"/>
            <a:ext cx="2565360" cy="500040"/>
          </a:xfrm>
          <a:prstGeom prst="rect">
            <a:avLst/>
          </a:prstGeom>
          <a:ln w="0">
            <a:noFill/>
          </a:ln>
        </p:spPr>
      </p:pic>
      <p:sp>
        <p:nvSpPr>
          <p:cNvPr id="1117" name="TextBox 15"/>
          <p:cNvSpPr/>
          <p:nvPr/>
        </p:nvSpPr>
        <p:spPr>
          <a:xfrm>
            <a:off x="1433520" y="1506600"/>
            <a:ext cx="450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DESIGN SOLUTION</a:t>
            </a:r>
            <a:endParaRPr b="0" lang="en-US" sz="3200" spc="-1" strike="noStrike">
              <a:solidFill>
                <a:srgbClr val="3f3f3f"/>
              </a:solidFill>
              <a:latin typeface="Roboto"/>
            </a:endParaRPr>
          </a:p>
        </p:txBody>
      </p:sp>
      <p:pic>
        <p:nvPicPr>
          <p:cNvPr id="1118" name="TextBox 16" descr=""/>
          <p:cNvPicPr/>
          <p:nvPr/>
        </p:nvPicPr>
        <p:blipFill>
          <a:blip r:embed="rId3"/>
          <a:stretch/>
        </p:blipFill>
        <p:spPr>
          <a:xfrm>
            <a:off x="1432080" y="1981080"/>
            <a:ext cx="2743200" cy="360360"/>
          </a:xfrm>
          <a:prstGeom prst="rect">
            <a:avLst/>
          </a:prstGeom>
          <a:ln w="0">
            <a:noFill/>
          </a:ln>
        </p:spPr>
      </p:pic>
      <p:sp>
        <p:nvSpPr>
          <p:cNvPr id="1119" name="TextBox 17"/>
          <p:cNvSpPr/>
          <p:nvPr/>
        </p:nvSpPr>
        <p:spPr>
          <a:xfrm>
            <a:off x="1447920" y="3465360"/>
            <a:ext cx="4340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 Rutrum tellus pellentesque eu tincidunt tortor</a:t>
            </a:r>
            <a:endParaRPr b="0" lang="en-US" sz="1100" spc="-1" strike="noStrike">
              <a:solidFill>
                <a:srgbClr val="3f3f3f"/>
              </a:solidFill>
              <a:latin typeface="Roboto"/>
            </a:endParaRPr>
          </a:p>
        </p:txBody>
      </p:sp>
      <p:sp>
        <p:nvSpPr>
          <p:cNvPr id="1120" name="TextBox 18"/>
          <p:cNvSpPr/>
          <p:nvPr/>
        </p:nvSpPr>
        <p:spPr>
          <a:xfrm>
            <a:off x="1432080" y="3089160"/>
            <a:ext cx="24732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Solution Here</a:t>
            </a:r>
            <a:endParaRPr b="0" lang="en-US" sz="1600" spc="-1" strike="noStrike">
              <a:solidFill>
                <a:srgbClr val="3f3f3f"/>
              </a:solidFill>
              <a:latin typeface="Roboto"/>
            </a:endParaRPr>
          </a:p>
        </p:txBody>
      </p:sp>
      <p:sp>
        <p:nvSpPr>
          <p:cNvPr id="1121" name="TextBox 19"/>
          <p:cNvSpPr/>
          <p:nvPr/>
        </p:nvSpPr>
        <p:spPr>
          <a:xfrm>
            <a:off x="9121680" y="5102280"/>
            <a:ext cx="247356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Data Project</a:t>
            </a:r>
            <a:endParaRPr b="0" lang="en-US" sz="1600" spc="-1" strike="noStrike">
              <a:solidFill>
                <a:srgbClr val="3f3f3f"/>
              </a:solidFill>
              <a:latin typeface="Roboto"/>
            </a:endParaRPr>
          </a:p>
        </p:txBody>
      </p:sp>
      <p:sp>
        <p:nvSpPr>
          <p:cNvPr id="1122" name="TextBox 20"/>
          <p:cNvSpPr/>
          <p:nvPr/>
        </p:nvSpPr>
        <p:spPr>
          <a:xfrm>
            <a:off x="9121680" y="4562640"/>
            <a:ext cx="2473560" cy="733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800" spc="-1" strike="noStrike">
                <a:solidFill>
                  <a:srgbClr val="595959"/>
                </a:solidFill>
                <a:latin typeface="Roboto"/>
                <a:ea typeface="Times New Roman"/>
              </a:rPr>
              <a:t>201+</a:t>
            </a:r>
            <a:endParaRPr b="0" lang="en-US" sz="2800" spc="-1" strike="noStrike">
              <a:solidFill>
                <a:srgbClr val="3f3f3f"/>
              </a:solidFill>
              <a:latin typeface="Roboto"/>
            </a:endParaRPr>
          </a:p>
        </p:txBody>
      </p:sp>
      <p:sp>
        <p:nvSpPr>
          <p:cNvPr id="1123" name="TextBox 21"/>
          <p:cNvSpPr/>
          <p:nvPr/>
        </p:nvSpPr>
        <p:spPr>
          <a:xfrm>
            <a:off x="8744040" y="5522760"/>
            <a:ext cx="283212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a:t>
            </a:r>
            <a:endParaRPr b="0" lang="en-US" sz="11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4" name="Group 5"/>
          <p:cNvGrpSpPr/>
          <p:nvPr/>
        </p:nvGrpSpPr>
        <p:grpSpPr>
          <a:xfrm>
            <a:off x="10961640" y="552600"/>
            <a:ext cx="631800" cy="325080"/>
            <a:chOff x="10961640" y="552600"/>
            <a:chExt cx="631800" cy="325080"/>
          </a:xfrm>
        </p:grpSpPr>
        <p:sp>
          <p:nvSpPr>
            <p:cNvPr id="1125" name="Isosceles Triangle 6"/>
            <p:cNvSpPr/>
            <p:nvPr/>
          </p:nvSpPr>
          <p:spPr>
            <a:xfrm>
              <a:off x="1102500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26" name="Isosceles Triangle 7"/>
            <p:cNvSpPr/>
            <p:nvPr/>
          </p:nvSpPr>
          <p:spPr>
            <a:xfrm flipV="1">
              <a:off x="1124136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27" name="Rectangle 8"/>
            <p:cNvSpPr/>
            <p:nvPr/>
          </p:nvSpPr>
          <p:spPr>
            <a:xfrm>
              <a:off x="1096164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28" name="Rectangle 9"/>
            <p:cNvSpPr/>
            <p:nvPr/>
          </p:nvSpPr>
          <p:spPr>
            <a:xfrm>
              <a:off x="1115028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129" name="TextBox 10" descr=""/>
          <p:cNvPicPr/>
          <p:nvPr/>
        </p:nvPicPr>
        <p:blipFill>
          <a:blip r:embed="rId1"/>
          <a:stretch/>
        </p:blipFill>
        <p:spPr>
          <a:xfrm>
            <a:off x="8766000" y="5888160"/>
            <a:ext cx="536760" cy="500040"/>
          </a:xfrm>
          <a:prstGeom prst="rect">
            <a:avLst/>
          </a:prstGeom>
          <a:ln w="0">
            <a:noFill/>
          </a:ln>
        </p:spPr>
      </p:pic>
      <p:pic>
        <p:nvPicPr>
          <p:cNvPr id="1130" name="TextBox 11" descr=""/>
          <p:cNvPicPr/>
          <p:nvPr/>
        </p:nvPicPr>
        <p:blipFill>
          <a:blip r:embed="rId2"/>
          <a:stretch/>
        </p:blipFill>
        <p:spPr>
          <a:xfrm>
            <a:off x="9186840" y="5888160"/>
            <a:ext cx="2567160" cy="500040"/>
          </a:xfrm>
          <a:prstGeom prst="rect">
            <a:avLst/>
          </a:prstGeom>
          <a:ln w="0">
            <a:noFill/>
          </a:ln>
        </p:spPr>
      </p:pic>
      <p:sp>
        <p:nvSpPr>
          <p:cNvPr id="1131" name="TextBox 12"/>
          <p:cNvSpPr/>
          <p:nvPr/>
        </p:nvSpPr>
        <p:spPr>
          <a:xfrm>
            <a:off x="5999040" y="1506600"/>
            <a:ext cx="450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WHAT WE DO?</a:t>
            </a:r>
            <a:endParaRPr b="0" lang="en-US" sz="3200" spc="-1" strike="noStrike">
              <a:solidFill>
                <a:srgbClr val="3f3f3f"/>
              </a:solidFill>
              <a:latin typeface="Roboto"/>
            </a:endParaRPr>
          </a:p>
        </p:txBody>
      </p:sp>
      <p:pic>
        <p:nvPicPr>
          <p:cNvPr id="1132" name="TextBox 13" descr=""/>
          <p:cNvPicPr/>
          <p:nvPr/>
        </p:nvPicPr>
        <p:blipFill>
          <a:blip r:embed="rId3"/>
          <a:stretch/>
        </p:blipFill>
        <p:spPr>
          <a:xfrm>
            <a:off x="5999040" y="1981080"/>
            <a:ext cx="2743200" cy="360360"/>
          </a:xfrm>
          <a:prstGeom prst="rect">
            <a:avLst/>
          </a:prstGeom>
          <a:ln w="0">
            <a:noFill/>
          </a:ln>
        </p:spPr>
      </p:pic>
      <p:sp>
        <p:nvSpPr>
          <p:cNvPr id="1133" name="TextBox 14"/>
          <p:cNvSpPr/>
          <p:nvPr/>
        </p:nvSpPr>
        <p:spPr>
          <a:xfrm>
            <a:off x="6013440" y="3257640"/>
            <a:ext cx="43401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a:t>
            </a:r>
            <a:endParaRPr b="0" lang="en-US" sz="1100" spc="-1" strike="noStrike">
              <a:solidFill>
                <a:srgbClr val="3f3f3f"/>
              </a:solidFill>
              <a:latin typeface="Roboto"/>
            </a:endParaRPr>
          </a:p>
        </p:txBody>
      </p:sp>
      <p:sp>
        <p:nvSpPr>
          <p:cNvPr id="1134" name="TextBox 15"/>
          <p:cNvSpPr/>
          <p:nvPr/>
        </p:nvSpPr>
        <p:spPr>
          <a:xfrm>
            <a:off x="5997600" y="2881440"/>
            <a:ext cx="2473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The Design Inspiration</a:t>
            </a:r>
            <a:endParaRPr b="0" lang="en-US" sz="1600" spc="-1" strike="noStrike">
              <a:solidFill>
                <a:srgbClr val="3f3f3f"/>
              </a:solidFill>
              <a:latin typeface="Roboto"/>
            </a:endParaRPr>
          </a:p>
        </p:txBody>
      </p:sp>
      <p:sp>
        <p:nvSpPr>
          <p:cNvPr id="1135" name="TextBox 18"/>
          <p:cNvSpPr/>
          <p:nvPr/>
        </p:nvSpPr>
        <p:spPr>
          <a:xfrm>
            <a:off x="6013440" y="4689360"/>
            <a:ext cx="43401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a:t>
            </a:r>
            <a:endParaRPr b="0" lang="en-US" sz="1100" spc="-1" strike="noStrike">
              <a:solidFill>
                <a:srgbClr val="3f3f3f"/>
              </a:solidFill>
              <a:latin typeface="Roboto"/>
            </a:endParaRPr>
          </a:p>
        </p:txBody>
      </p:sp>
      <p:sp>
        <p:nvSpPr>
          <p:cNvPr id="1136" name="TextBox 19"/>
          <p:cNvSpPr/>
          <p:nvPr/>
        </p:nvSpPr>
        <p:spPr>
          <a:xfrm>
            <a:off x="5997600" y="4311720"/>
            <a:ext cx="2473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ea typeface="Times New Roman"/>
              </a:rPr>
              <a:t>Make Something Trends</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7" name="Group 13"/>
          <p:cNvGrpSpPr/>
          <p:nvPr/>
        </p:nvGrpSpPr>
        <p:grpSpPr>
          <a:xfrm>
            <a:off x="587520" y="552600"/>
            <a:ext cx="631800" cy="325080"/>
            <a:chOff x="587520" y="552600"/>
            <a:chExt cx="631800" cy="325080"/>
          </a:xfrm>
        </p:grpSpPr>
        <p:sp>
          <p:nvSpPr>
            <p:cNvPr id="1138" name="Isosceles Triangle 14"/>
            <p:cNvSpPr/>
            <p:nvPr/>
          </p:nvSpPr>
          <p:spPr>
            <a:xfrm>
              <a:off x="650880" y="552600"/>
              <a:ext cx="288360" cy="248760"/>
            </a:xfrm>
            <a:prstGeom prst="triangle">
              <a:avLst>
                <a:gd name="adj" fmla="val 50000"/>
              </a:avLst>
            </a:prstGeom>
            <a:solidFill>
              <a:srgbClr val="464646"/>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39" name="Isosceles Triangle 15"/>
            <p:cNvSpPr/>
            <p:nvPr/>
          </p:nvSpPr>
          <p:spPr>
            <a:xfrm flipV="1">
              <a:off x="867240" y="628560"/>
              <a:ext cx="288360" cy="248760"/>
            </a:xfrm>
            <a:prstGeom prst="triangle">
              <a:avLst>
                <a:gd name="adj" fmla="val 50000"/>
              </a:avLst>
            </a:prstGeom>
            <a:solidFill>
              <a:srgbClr val="686868"/>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40" name="Rectangle 16"/>
            <p:cNvSpPr/>
            <p:nvPr/>
          </p:nvSpPr>
          <p:spPr>
            <a:xfrm>
              <a:off x="587520" y="68508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sp>
          <p:nvSpPr>
            <p:cNvPr id="1141" name="Rectangle 17"/>
            <p:cNvSpPr/>
            <p:nvPr/>
          </p:nvSpPr>
          <p:spPr>
            <a:xfrm>
              <a:off x="776160" y="734400"/>
              <a:ext cx="443160" cy="10800"/>
            </a:xfrm>
            <a:prstGeom prst="rect">
              <a:avLst/>
            </a:prstGeom>
            <a:solidFill>
              <a:srgbClr val="d9d9d9"/>
            </a:solidFill>
            <a:ln w="0">
              <a:noFill/>
            </a:ln>
          </p:spPr>
          <p:style>
            <a:lnRef idx="0"/>
            <a:fillRef idx="0"/>
            <a:effectRef idx="0"/>
            <a:fontRef idx="minor"/>
          </p:style>
          <p:txBody>
            <a:bodyPr lIns="90000" rIns="90000" tIns="-36000" bIns="-36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Roboto"/>
              </a:endParaRPr>
            </a:p>
          </p:txBody>
        </p:sp>
      </p:grpSp>
      <p:pic>
        <p:nvPicPr>
          <p:cNvPr id="1142" name="TextBox 18" descr=""/>
          <p:cNvPicPr/>
          <p:nvPr/>
        </p:nvPicPr>
        <p:blipFill>
          <a:blip r:embed="rId1"/>
          <a:stretch/>
        </p:blipFill>
        <p:spPr>
          <a:xfrm>
            <a:off x="506520" y="5888160"/>
            <a:ext cx="536400" cy="500040"/>
          </a:xfrm>
          <a:prstGeom prst="rect">
            <a:avLst/>
          </a:prstGeom>
          <a:ln w="0">
            <a:noFill/>
          </a:ln>
        </p:spPr>
      </p:pic>
      <p:pic>
        <p:nvPicPr>
          <p:cNvPr id="1143" name="TextBox 19" descr=""/>
          <p:cNvPicPr/>
          <p:nvPr/>
        </p:nvPicPr>
        <p:blipFill>
          <a:blip r:embed="rId2"/>
          <a:stretch/>
        </p:blipFill>
        <p:spPr>
          <a:xfrm>
            <a:off x="927000" y="5888160"/>
            <a:ext cx="2565360" cy="500040"/>
          </a:xfrm>
          <a:prstGeom prst="rect">
            <a:avLst/>
          </a:prstGeom>
          <a:ln w="0">
            <a:noFill/>
          </a:ln>
        </p:spPr>
      </p:pic>
      <p:sp>
        <p:nvSpPr>
          <p:cNvPr id="1144" name="TextBox 21"/>
          <p:cNvSpPr/>
          <p:nvPr/>
        </p:nvSpPr>
        <p:spPr>
          <a:xfrm>
            <a:off x="3595680" y="676440"/>
            <a:ext cx="5000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200" spc="-1" strike="noStrike">
                <a:solidFill>
                  <a:srgbClr val="464646"/>
                </a:solidFill>
                <a:latin typeface="Montserrat Black"/>
              </a:rPr>
              <a:t>ANTERRA GALLERY</a:t>
            </a:r>
            <a:endParaRPr b="0" lang="en-US" sz="3200" spc="-1" strike="noStrike">
              <a:solidFill>
                <a:srgbClr val="3f3f3f"/>
              </a:solidFill>
              <a:latin typeface="Roboto"/>
            </a:endParaRPr>
          </a:p>
        </p:txBody>
      </p:sp>
      <p:pic>
        <p:nvPicPr>
          <p:cNvPr id="1145" name="TextBox 22" descr=""/>
          <p:cNvPicPr/>
          <p:nvPr/>
        </p:nvPicPr>
        <p:blipFill>
          <a:blip r:embed="rId3"/>
          <a:stretch/>
        </p:blipFill>
        <p:spPr>
          <a:xfrm>
            <a:off x="4724280" y="1152360"/>
            <a:ext cx="2743200" cy="358920"/>
          </a:xfrm>
          <a:prstGeom prst="rect">
            <a:avLst/>
          </a:prstGeom>
          <a:ln w="0">
            <a:noFill/>
          </a:ln>
        </p:spPr>
      </p:pic>
      <p:sp>
        <p:nvSpPr>
          <p:cNvPr id="1146" name="TextBox 23"/>
          <p:cNvSpPr/>
          <p:nvPr/>
        </p:nvSpPr>
        <p:spPr>
          <a:xfrm>
            <a:off x="1447920" y="1784520"/>
            <a:ext cx="92962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646464"/>
                </a:solidFill>
                <a:latin typeface="Roboto"/>
                <a:ea typeface="Times New Roman"/>
              </a:rPr>
              <a:t>Lorem ipsum dolor sit amet, consectetur adipiscing elit, sed do eiusmod tempor incididunt ut labore et dolore magna aliqua. Lacus sed viverra tellus in hac habitasse platea dictumst. Rutrum tellus pellentesque eu tincidunt tortor aliquam. Nisl suscipit</a:t>
            </a:r>
            <a:endParaRPr b="0" lang="en-US" sz="1100" spc="-1" strike="noStrike">
              <a:solidFill>
                <a:srgbClr val="3f3f3f"/>
              </a:solidFill>
              <a:latin typeface="Roboto"/>
            </a:endParaRPr>
          </a:p>
        </p:txBody>
      </p:sp>
      <p:sp>
        <p:nvSpPr>
          <p:cNvPr id="1147" name="Rectangle 24"/>
          <p:cNvSpPr/>
          <p:nvPr/>
        </p:nvSpPr>
        <p:spPr>
          <a:xfrm>
            <a:off x="1706400" y="5081760"/>
            <a:ext cx="272124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646464"/>
                </a:solidFill>
                <a:latin typeface="Roboto"/>
              </a:rPr>
              <a:t>Lorem ipsum dolor sit amet, conse ctetur adipiscing elit</a:t>
            </a:r>
            <a:r>
              <a:rPr b="0" lang="en-US" sz="1200" spc="-1" strike="noStrike">
                <a:solidFill>
                  <a:srgbClr val="646464"/>
                </a:solidFill>
                <a:latin typeface="Roboto"/>
              </a:rPr>
              <a:t> </a:t>
            </a:r>
            <a:r>
              <a:rPr b="0" lang="id-ID" sz="1200" spc="-1" strike="noStrike">
                <a:solidFill>
                  <a:srgbClr val="646464"/>
                </a:solidFill>
                <a:latin typeface="Roboto"/>
              </a:rPr>
              <a:t>prointre</a:t>
            </a:r>
            <a:endParaRPr b="0" lang="en-US" sz="1200" spc="-1" strike="noStrike">
              <a:solidFill>
                <a:srgbClr val="3f3f3f"/>
              </a:solidFill>
              <a:latin typeface="Roboto"/>
            </a:endParaRPr>
          </a:p>
        </p:txBody>
      </p:sp>
      <p:sp>
        <p:nvSpPr>
          <p:cNvPr id="1148" name="Rectangle 25"/>
          <p:cNvSpPr/>
          <p:nvPr/>
        </p:nvSpPr>
        <p:spPr>
          <a:xfrm>
            <a:off x="2182680" y="4754520"/>
            <a:ext cx="1768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rPr>
              <a:t>01. Gallery Name</a:t>
            </a:r>
            <a:endParaRPr b="0" lang="en-US" sz="1600" spc="-1" strike="noStrike">
              <a:solidFill>
                <a:srgbClr val="3f3f3f"/>
              </a:solidFill>
              <a:latin typeface="Roboto"/>
            </a:endParaRPr>
          </a:p>
        </p:txBody>
      </p:sp>
      <p:sp>
        <p:nvSpPr>
          <p:cNvPr id="1149" name="Rectangle 29"/>
          <p:cNvSpPr/>
          <p:nvPr/>
        </p:nvSpPr>
        <p:spPr>
          <a:xfrm>
            <a:off x="4754520" y="5081760"/>
            <a:ext cx="272088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646464"/>
                </a:solidFill>
                <a:latin typeface="Roboto"/>
              </a:rPr>
              <a:t>Lorem ipsum dolor sit amet, conse ctetur adipiscing elit</a:t>
            </a:r>
            <a:r>
              <a:rPr b="0" lang="en-US" sz="1200" spc="-1" strike="noStrike">
                <a:solidFill>
                  <a:srgbClr val="646464"/>
                </a:solidFill>
                <a:latin typeface="Roboto"/>
              </a:rPr>
              <a:t> </a:t>
            </a:r>
            <a:r>
              <a:rPr b="0" lang="id-ID" sz="1200" spc="-1" strike="noStrike">
                <a:solidFill>
                  <a:srgbClr val="646464"/>
                </a:solidFill>
                <a:latin typeface="Roboto"/>
              </a:rPr>
              <a:t>prointre</a:t>
            </a:r>
            <a:endParaRPr b="0" lang="en-US" sz="1200" spc="-1" strike="noStrike">
              <a:solidFill>
                <a:srgbClr val="3f3f3f"/>
              </a:solidFill>
              <a:latin typeface="Roboto"/>
            </a:endParaRPr>
          </a:p>
        </p:txBody>
      </p:sp>
      <p:sp>
        <p:nvSpPr>
          <p:cNvPr id="1150" name="Rectangle 30"/>
          <p:cNvSpPr/>
          <p:nvPr/>
        </p:nvSpPr>
        <p:spPr>
          <a:xfrm>
            <a:off x="5230800" y="4754520"/>
            <a:ext cx="1768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rPr>
              <a:t>02. Gallery Name</a:t>
            </a:r>
            <a:endParaRPr b="0" lang="en-US" sz="1600" spc="-1" strike="noStrike">
              <a:solidFill>
                <a:srgbClr val="3f3f3f"/>
              </a:solidFill>
              <a:latin typeface="Roboto"/>
            </a:endParaRPr>
          </a:p>
        </p:txBody>
      </p:sp>
      <p:sp>
        <p:nvSpPr>
          <p:cNvPr id="1151" name="Rectangle 32"/>
          <p:cNvSpPr/>
          <p:nvPr/>
        </p:nvSpPr>
        <p:spPr>
          <a:xfrm>
            <a:off x="7802640" y="5081760"/>
            <a:ext cx="272088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646464"/>
                </a:solidFill>
                <a:latin typeface="Roboto"/>
              </a:rPr>
              <a:t>Lorem ipsum dolor sit amet, conse ctetur adipiscing elit</a:t>
            </a:r>
            <a:r>
              <a:rPr b="0" lang="en-US" sz="1200" spc="-1" strike="noStrike">
                <a:solidFill>
                  <a:srgbClr val="646464"/>
                </a:solidFill>
                <a:latin typeface="Roboto"/>
              </a:rPr>
              <a:t> </a:t>
            </a:r>
            <a:r>
              <a:rPr b="0" lang="id-ID" sz="1200" spc="-1" strike="noStrike">
                <a:solidFill>
                  <a:srgbClr val="646464"/>
                </a:solidFill>
                <a:latin typeface="Roboto"/>
              </a:rPr>
              <a:t>prointre</a:t>
            </a:r>
            <a:endParaRPr b="0" lang="en-US" sz="1200" spc="-1" strike="noStrike">
              <a:solidFill>
                <a:srgbClr val="3f3f3f"/>
              </a:solidFill>
              <a:latin typeface="Roboto"/>
            </a:endParaRPr>
          </a:p>
        </p:txBody>
      </p:sp>
      <p:sp>
        <p:nvSpPr>
          <p:cNvPr id="1152" name="Rectangle 33"/>
          <p:cNvSpPr/>
          <p:nvPr/>
        </p:nvSpPr>
        <p:spPr>
          <a:xfrm>
            <a:off x="8278920" y="4754520"/>
            <a:ext cx="1768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595959"/>
                </a:solidFill>
                <a:latin typeface="Roboto"/>
              </a:rPr>
              <a:t>03. Gallery Name</a:t>
            </a:r>
            <a:endParaRPr b="0" lang="en-US" sz="1600" spc="-1" strike="noStrike">
              <a:solidFill>
                <a:srgbClr val="3f3f3f"/>
              </a:solidFill>
              <a:latin typeface="Robo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06T13:09:56Z</dcterms:created>
  <dc:creator>Cocotemplate</dc:creator>
  <dc:description/>
  <dc:language>en-US</dc:language>
  <cp:lastModifiedBy>slicies.official@gmail.com</cp:lastModifiedBy>
  <dcterms:modified xsi:type="dcterms:W3CDTF">2020-08-07T03:56:04Z</dcterms:modified>
  <cp:revision>182</cp:revision>
  <dc:subject/>
  <dc:title>PowerPoint Presentation</dc:title>
</cp:coreProperties>
</file>